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3.wmf" ContentType="image/x-wmf"/>
  <Override PartName="/ppt/media/image5.png" ContentType="image/png"/>
  <Override PartName="/ppt/media/image8.jpeg" ContentType="image/jpeg"/>
  <Override PartName="/ppt/media/image16.wmf" ContentType="image/x-wmf"/>
  <Override PartName="/ppt/media/image15.wmf" ContentType="image/x-wmf"/>
  <Override PartName="/ppt/media/image1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2.png" ContentType="image/png"/>
  <Override PartName="/ppt/media/image14.png" ContentType="image/png"/>
  <Override PartName="/ppt/media/image9.wmf" ContentType="image/x-wmf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</p:sldIdLst>
  <p:sldSz cx="9144000" cy="6858000"/>
  <p:notesSz cx="9856788" cy="6732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DEE69F7E-7838-47CA-AD7E-05FB60722289}" type="slidenum">
              <a:rPr b="1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34920" y="-19080"/>
            <a:ext cx="1810800" cy="1425240"/>
            <a:chOff x="-34920" y="-19080"/>
            <a:chExt cx="1810800" cy="1425240"/>
          </a:xfrm>
        </p:grpSpPr>
        <p:sp>
          <p:nvSpPr>
            <p:cNvPr id="5" name=""/>
            <p:cNvSpPr/>
            <p:nvPr/>
          </p:nvSpPr>
          <p:spPr>
            <a:xfrm>
              <a:off x="266040" y="145080"/>
              <a:ext cx="1194120" cy="1144800"/>
            </a:xfrm>
            <a:prstGeom prst="ellipse">
              <a:avLst/>
            </a:prstGeom>
            <a:solidFill>
              <a:srgbClr val="f07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-34920" y="-19080"/>
              <a:ext cx="1810800" cy="1425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F6335433-EC51-47DC-B5ED-785186741B82}" type="slidenum">
              <a:rPr b="1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440" y="374760"/>
            <a:ext cx="2332440" cy="1856520"/>
            <a:chOff x="46440" y="374760"/>
            <a:chExt cx="2332440" cy="1856520"/>
          </a:xfrm>
        </p:grpSpPr>
        <p:sp>
          <p:nvSpPr>
            <p:cNvPr id="47" name=""/>
            <p:cNvSpPr/>
            <p:nvPr/>
          </p:nvSpPr>
          <p:spPr>
            <a:xfrm>
              <a:off x="428040" y="612720"/>
              <a:ext cx="1545840" cy="1433880"/>
            </a:xfrm>
            <a:prstGeom prst="ellipse">
              <a:avLst/>
            </a:prstGeom>
            <a:solidFill>
              <a:srgbClr val="f07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40" y="374760"/>
              <a:ext cx="2332440" cy="1856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4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file:///S3%20deadlocks.ppt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4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4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4.png"/><Relationship Id="rId16" Type="http://schemas.openxmlformats.org/officeDocument/2006/relationships/oleObject" Target="../embeddings/oleObject1.bin"/><Relationship Id="rId17" Type="http://schemas.openxmlformats.org/officeDocument/2006/relationships/image" Target="../media/image9.wmf"/><Relationship Id="rId18" Type="http://schemas.openxmlformats.org/officeDocument/2006/relationships/oleObject" Target="../embeddings/oleObject2.bin"/><Relationship Id="rId19" Type="http://schemas.openxmlformats.org/officeDocument/2006/relationships/image" Target="../media/image9.wmf"/><Relationship Id="rId20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.wmf"/><Relationship Id="rId19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.png"/><Relationship Id="rId19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ical Synchronization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Constru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tical Reg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nchronization in Solaris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nchronization in Jav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maphore: Implem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 Semaphore 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Kern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User Code (?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Binary 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2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ation in Solaris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tex_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var_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v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utex_init (&amp;m, ...);  cv_init (&amp;cv, ...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mutex_lock (&amp;m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>
            <a:off x="4416480" y="4284720"/>
            <a:ext cx="3584520" cy="100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015" y="1171"/>
                </a:moveTo>
                <a:lnTo>
                  <a:pt x="-459" y="6028"/>
                </a:lnTo>
              </a:path>
              <a:path w="21600" h="21600">
                <a:moveTo>
                  <a:pt x="-459" y="0"/>
                </a:moveTo>
                <a:lnTo>
                  <a:pt x="-459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ck Mutex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Block  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cqui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 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4416480" y="3200400"/>
            <a:ext cx="358452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553" y="16907"/>
                </a:moveTo>
                <a:lnTo>
                  <a:pt x="-459" y="3456"/>
                </a:lnTo>
              </a:path>
              <a:path w="21600" h="21600">
                <a:moveTo>
                  <a:pt x="-459" y="0"/>
                </a:moveTo>
                <a:lnTo>
                  <a:pt x="-459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” necessary because of possible broad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>
            <a:off x="4724280" y="1600200"/>
            <a:ext cx="3733920" cy="8254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egion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when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condition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do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>
            <a:off x="685800" y="3733920"/>
            <a:ext cx="3048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(! condition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>
            <a:off x="533520" y="4086360"/>
            <a:ext cx="304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cv_wait (&amp;cv, &amp;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>
            <a:off x="762120" y="4495680"/>
            <a:ext cx="3047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mutex_unlock (&amp;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1" dur="indefinite" restart="never" nodeType="tmRoot">
          <p:childTnLst>
            <p:seq>
              <p:cTn id="4922" dur="indefinite" nodeType="mainSeq">
                <p:childTnLst>
                  <p:par>
                    <p:cTn id="4923" fill="hold">
                      <p:stCondLst>
                        <p:cond delay="indefinite"/>
                      </p:stCondLst>
                      <p:childTnLst>
                        <p:par>
                          <p:cTn id="4924" fill="hold">
                            <p:stCondLst>
                              <p:cond delay="0"/>
                            </p:stCondLst>
                            <p:childTnLst>
                              <p:par>
                                <p:cTn id="49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7" dur="500" fill="hold"/>
                                        <p:tgtEl>
                                          <p:spTgt spid="3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8" dur="500" fill="hold"/>
                                        <p:tgtEl>
                                          <p:spTgt spid="3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9" fill="hold">
                      <p:stCondLst>
                        <p:cond delay="indefinite"/>
                      </p:stCondLst>
                      <p:childTnLst>
                        <p:par>
                          <p:cTn id="4930" fill="hold">
                            <p:stCondLst>
                              <p:cond delay="0"/>
                            </p:stCondLst>
                            <p:childTnLst>
                              <p:par>
                                <p:cTn id="49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3" dur="500"/>
                                        <p:tgtEl>
                                          <p:spTgt spid="30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4" fill="hold">
                      <p:stCondLst>
                        <p:cond delay="indefinite"/>
                      </p:stCondLst>
                      <p:childTnLst>
                        <p:par>
                          <p:cTn id="4935" fill="hold">
                            <p:stCondLst>
                              <p:cond delay="0"/>
                            </p:stCondLst>
                            <p:childTnLst>
                              <p:par>
                                <p:cTn id="49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8" dur="500"/>
                                        <p:tgtEl>
                                          <p:spTgt spid="30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9" fill="hold">
                      <p:stCondLst>
                        <p:cond delay="indefinite"/>
                      </p:stCondLst>
                      <p:childTnLst>
                        <p:par>
                          <p:cTn id="4940" fill="hold">
                            <p:stCondLst>
                              <p:cond delay="0"/>
                            </p:stCondLst>
                            <p:childTnLst>
                              <p:par>
                                <p:cTn id="49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3" dur="500"/>
                                        <p:tgtEl>
                                          <p:spTgt spid="30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4" fill="hold">
                      <p:stCondLst>
                        <p:cond delay="indefinite"/>
                      </p:stCondLst>
                      <p:childTnLst>
                        <p:par>
                          <p:cTn id="4945" fill="hold">
                            <p:stCondLst>
                              <p:cond delay="0"/>
                            </p:stCondLst>
                            <p:childTnLst>
                              <p:par>
                                <p:cTn id="49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8" dur="500"/>
                                        <p:tgtEl>
                                          <p:spTgt spid="30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9" fill="hold">
                      <p:stCondLst>
                        <p:cond delay="indefinite"/>
                      </p:stCondLst>
                      <p:childTnLst>
                        <p:par>
                          <p:cTn id="4950" fill="hold">
                            <p:stCondLst>
                              <p:cond delay="0"/>
                            </p:stCondLst>
                            <p:childTnLst>
                              <p:par>
                                <p:cTn id="49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3" dur="500"/>
                                        <p:tgtEl>
                                          <p:spTgt spid="30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4" fill="hold">
                      <p:stCondLst>
                        <p:cond delay="indefinite"/>
                      </p:stCondLst>
                      <p:childTnLst>
                        <p:par>
                          <p:cTn id="4955" fill="hold">
                            <p:stCondLst>
                              <p:cond delay="0"/>
                            </p:stCondLst>
                            <p:childTnLst>
                              <p:par>
                                <p:cTn id="49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8" dur="500"/>
                                        <p:tgtEl>
                                          <p:spTgt spid="30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9" fill="hold">
                      <p:stCondLst>
                        <p:cond delay="indefinite"/>
                      </p:stCondLst>
                      <p:childTnLst>
                        <p:par>
                          <p:cTn id="4960" fill="hold">
                            <p:stCondLst>
                              <p:cond delay="0"/>
                            </p:stCondLst>
                            <p:childTnLst>
                              <p:par>
                                <p:cTn id="49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3" dur="500"/>
                                        <p:tgtEl>
                                          <p:spTgt spid="30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4" fill="hold">
                            <p:stCondLst>
                              <p:cond delay="500"/>
                            </p:stCondLst>
                            <p:childTnLst>
                              <p:par>
                                <p:cTn id="496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67" dur="500"/>
                                        <p:tgtEl>
                                          <p:spTgt spid="3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8" fill="hold">
                      <p:stCondLst>
                        <p:cond delay="indefinite"/>
                      </p:stCondLst>
                      <p:childTnLst>
                        <p:par>
                          <p:cTn id="4969" fill="hold">
                            <p:stCondLst>
                              <p:cond delay="0"/>
                            </p:stCondLst>
                            <p:childTnLst>
                              <p:par>
                                <p:cTn id="49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2" dur="500"/>
                                        <p:tgtEl>
                                          <p:spTgt spid="3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3" fill="hold">
                            <p:stCondLst>
                              <p:cond delay="500"/>
                            </p:stCondLst>
                            <p:childTnLst>
                              <p:par>
                                <p:cTn id="49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76" dur="500"/>
                                        <p:tgtEl>
                                          <p:spTgt spid="3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7" fill="hold">
                      <p:stCondLst>
                        <p:cond delay="indefinite"/>
                      </p:stCondLst>
                      <p:childTnLst>
                        <p:par>
                          <p:cTn id="4978" fill="hold">
                            <p:stCondLst>
                              <p:cond delay="0"/>
                            </p:stCondLst>
                            <p:childTnLst>
                              <p:par>
                                <p:cTn id="49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1" dur="500"/>
                                        <p:tgtEl>
                                          <p:spTgt spid="3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2" fill="hold">
                      <p:stCondLst>
                        <p:cond delay="indefinite"/>
                      </p:stCondLst>
                      <p:childTnLst>
                        <p:par>
                          <p:cTn id="4983" fill="hold">
                            <p:stCondLst>
                              <p:cond delay="0"/>
                            </p:stCondLst>
                            <p:childTnLst>
                              <p:par>
                                <p:cTn id="49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6" dur="500"/>
                                        <p:tgtEl>
                                          <p:spTgt spid="30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7" fill="hold">
                      <p:stCondLst>
                        <p:cond delay="indefinite"/>
                      </p:stCondLst>
                      <p:childTnLst>
                        <p:par>
                          <p:cTn id="4988" fill="hold">
                            <p:stCondLst>
                              <p:cond delay="0"/>
                            </p:stCondLst>
                            <p:childTnLst>
                              <p:par>
                                <p:cTn id="49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1" dur="500"/>
                                        <p:tgtEl>
                                          <p:spTgt spid="30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omic Transa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Field of Database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g-Based Recove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ckpoi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t Atomic Transa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"/>
          <p:cNvSpPr/>
          <p:nvPr/>
        </p:nvSpPr>
        <p:spPr>
          <a:xfrm>
            <a:off x="5943600" y="2286000"/>
            <a:ext cx="2057400" cy="1371600"/>
          </a:xfrm>
          <a:prstGeom prst="flowChartMagneticDisk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2" dur="indefinite" restart="never" nodeType="tmRoot">
          <p:childTnLst>
            <p:seq>
              <p:cTn id="4993" dur="indefinite" nodeType="mainSeq">
                <p:childTnLst>
                  <p:par>
                    <p:cTn id="4994" fill="hold">
                      <p:stCondLst>
                        <p:cond delay="indefinite"/>
                      </p:stCondLst>
                      <p:childTnLst>
                        <p:par>
                          <p:cTn id="4995" fill="hold">
                            <p:stCondLst>
                              <p:cond delay="0"/>
                            </p:stCondLst>
                            <p:childTnLst>
                              <p:par>
                                <p:cTn id="49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8" dur="500"/>
                                        <p:tgtEl>
                                          <p:spTgt spid="3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1" name=""/>
          <p:cNvSpPr/>
          <p:nvPr/>
        </p:nvSpPr>
        <p:spPr>
          <a:xfrm>
            <a:off x="533520" y="2057400"/>
            <a:ext cx="3276360" cy="32767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"/>
          <p:cNvSpPr/>
          <p:nvPr/>
        </p:nvSpPr>
        <p:spPr>
          <a:xfrm>
            <a:off x="609480" y="251460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>
            <a:off x="609480" y="3505320"/>
            <a:ext cx="1676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 B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2271600" y="2576520"/>
            <a:ext cx="1295640" cy="3988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2273400" y="3573360"/>
            <a:ext cx="1295280" cy="3988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"/>
          <p:cNvSpPr/>
          <p:nvPr/>
        </p:nvSpPr>
        <p:spPr>
          <a:xfrm>
            <a:off x="2279520" y="2576520"/>
            <a:ext cx="1295640" cy="39888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"/>
          <p:cNvSpPr/>
          <p:nvPr/>
        </p:nvSpPr>
        <p:spPr>
          <a:xfrm>
            <a:off x="2274840" y="3573360"/>
            <a:ext cx="1295280" cy="39888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 flipV="1">
            <a:off x="3733920" y="2666880"/>
            <a:ext cx="457200" cy="1067040"/>
          </a:xfrm>
          <a:custGeom>
            <a:avLst/>
            <a:gdLst>
              <a:gd name="textAreaLeft" fmla="*/ 61200 w 457200"/>
              <a:gd name="textAreaRight" fmla="*/ 396000 w 457200"/>
              <a:gd name="textAreaTop" fmla="*/ 186840 h 1067040"/>
              <a:gd name="textAreaBottom" fmla="*/ 7740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0" name=""/>
          <p:cNvGrpSpPr/>
          <p:nvPr/>
        </p:nvGrpSpPr>
        <p:grpSpPr>
          <a:xfrm>
            <a:off x="533520" y="2063880"/>
            <a:ext cx="3276360" cy="3276360"/>
            <a:chOff x="533520" y="2063880"/>
            <a:chExt cx="3276360" cy="3276360"/>
          </a:xfrm>
        </p:grpSpPr>
        <p:sp>
          <p:nvSpPr>
            <p:cNvPr id="3081" name=""/>
            <p:cNvSpPr/>
            <p:nvPr/>
          </p:nvSpPr>
          <p:spPr>
            <a:xfrm>
              <a:off x="533520" y="2063880"/>
              <a:ext cx="3276360" cy="32763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609480" y="2520720"/>
              <a:ext cx="16758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count A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609480" y="3511440"/>
              <a:ext cx="16758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count B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2271600" y="2582640"/>
              <a:ext cx="1294920" cy="39888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0.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2271600" y="3573360"/>
              <a:ext cx="1294920" cy="39888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0.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6" name=""/>
          <p:cNvSpPr/>
          <p:nvPr/>
        </p:nvSpPr>
        <p:spPr>
          <a:xfrm>
            <a:off x="4495680" y="3048120"/>
            <a:ext cx="312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 100.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 B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4495680" y="2057400"/>
            <a:ext cx="3124440" cy="2717280"/>
          </a:xfrm>
          <a:prstGeom prst="rect">
            <a:avLst/>
          </a:prstGeom>
          <a:solidFill>
            <a:srgbClr val="cecece"/>
          </a:solidFill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T10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B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0000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A += 10000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>
            <a:off x="2274840" y="3575160"/>
            <a:ext cx="1295280" cy="39888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>
            <a:off x="4267080" y="31240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>
            <a:off x="6705720" y="3124080"/>
            <a:ext cx="1981080" cy="99072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2274840" y="3575160"/>
            <a:ext cx="1295280" cy="398880"/>
          </a:xfrm>
          <a:prstGeom prst="rect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9" dur="indefinite" restart="never" nodeType="tmRoot">
          <p:childTnLst>
            <p:seq>
              <p:cTn id="5000" dur="indefinite" nodeType="mainSeq">
                <p:childTnLst>
                  <p:par>
                    <p:cTn id="5001" fill="hold">
                      <p:stCondLst>
                        <p:cond delay="indefinite"/>
                      </p:stCondLst>
                      <p:childTnLst>
                        <p:par>
                          <p:cTn id="5002" fill="hold">
                            <p:stCondLst>
                              <p:cond delay="0"/>
                            </p:stCondLst>
                            <p:childTnLst>
                              <p:par>
                                <p:cTn id="50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5" dur="500"/>
                                        <p:tgtEl>
                                          <p:spTgt spid="3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6" fill="hold">
                      <p:stCondLst>
                        <p:cond delay="indefinite"/>
                      </p:stCondLst>
                      <p:childTnLst>
                        <p:par>
                          <p:cTn id="5007" fill="hold">
                            <p:stCondLst>
                              <p:cond delay="0"/>
                            </p:stCondLst>
                            <p:childTnLst>
                              <p:par>
                                <p:cTn id="50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0" dur="500"/>
                                        <p:tgtEl>
                                          <p:spTgt spid="3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1" fill="hold">
                            <p:stCondLst>
                              <p:cond delay="500"/>
                            </p:stCondLst>
                            <p:childTnLst>
                              <p:par>
                                <p:cTn id="50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4" dur="500"/>
                                        <p:tgtEl>
                                          <p:spTgt spid="3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8" dur="500"/>
                                        <p:tgtEl>
                                          <p:spTgt spid="3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2" dur="500"/>
                                        <p:tgtEl>
                                          <p:spTgt spid="3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3" fill="hold">
                      <p:stCondLst>
                        <p:cond delay="indefinite"/>
                      </p:stCondLst>
                      <p:childTnLst>
                        <p:par>
                          <p:cTn id="5024" fill="hold">
                            <p:stCondLst>
                              <p:cond delay="0"/>
                            </p:stCondLst>
                            <p:childTnLst>
                              <p:par>
                                <p:cTn id="50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7" dur="500"/>
                                        <p:tgtEl>
                                          <p:spTgt spid="3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8" fill="hold">
                      <p:stCondLst>
                        <p:cond delay="indefinite"/>
                      </p:stCondLst>
                      <p:childTnLst>
                        <p:par>
                          <p:cTn id="5029" fill="hold">
                            <p:stCondLst>
                              <p:cond delay="0"/>
                            </p:stCondLst>
                            <p:childTnLst>
                              <p:par>
                                <p:cTn id="503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2" dur="500" fill="hold"/>
                                        <p:tgtEl>
                                          <p:spTgt spid="3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3" dur="500" fill="hold"/>
                                        <p:tgtEl>
                                          <p:spTgt spid="3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4" fill="hold">
                            <p:stCondLst>
                              <p:cond delay="500"/>
                            </p:stCondLst>
                            <p:childTnLst>
                              <p:par>
                                <p:cTn id="50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7" dur="500"/>
                                        <p:tgtEl>
                                          <p:spTgt spid="3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1" dur="500" fill="hold"/>
                                        <p:tgtEl>
                                          <p:spTgt spid="3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2" dur="500" fill="hold"/>
                                        <p:tgtEl>
                                          <p:spTgt spid="3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44" fill="hold">
                      <p:stCondLst>
                        <p:cond delay="indefinite"/>
                      </p:stCondLst>
                      <p:childTnLst>
                        <p:par>
                          <p:cTn id="5045" fill="hold">
                            <p:stCondLst>
                              <p:cond delay="0"/>
                            </p:stCondLst>
                            <p:childTnLst>
                              <p:par>
                                <p:cTn id="50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48" dur="500"/>
                                        <p:tgtEl>
                                          <p:spTgt spid="3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9" fill="hold">
                      <p:stCondLst>
                        <p:cond delay="indefinite"/>
                      </p:stCondLst>
                      <p:childTnLst>
                        <p:par>
                          <p:cTn id="5050" fill="hold">
                            <p:stCondLst>
                              <p:cond delay="0"/>
                            </p:stCondLst>
                            <p:childTnLst>
                              <p:par>
                                <p:cTn id="50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53" dur="500"/>
                                        <p:tgtEl>
                                          <p:spTgt spid="3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4" fill="hold">
                      <p:stCondLst>
                        <p:cond delay="indefinite"/>
                      </p:stCondLst>
                      <p:childTnLst>
                        <p:par>
                          <p:cTn id="5055" fill="hold">
                            <p:stCondLst>
                              <p:cond delay="0"/>
                            </p:stCondLst>
                            <p:childTnLst>
                              <p:par>
                                <p:cTn id="5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58" dur="500"/>
                                        <p:tgtEl>
                                          <p:spTgt spid="3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9" fill="hold">
                      <p:stCondLst>
                        <p:cond delay="indefinite"/>
                      </p:stCondLst>
                      <p:childTnLst>
                        <p:par>
                          <p:cTn id="5060" fill="hold">
                            <p:stCondLst>
                              <p:cond delay="0"/>
                            </p:stCondLst>
                            <p:childTnLst>
                              <p:par>
                                <p:cTn id="506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3" dur="500" fill="hold"/>
                                        <p:tgtEl>
                                          <p:spTgt spid="3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4" dur="500" fill="hold"/>
                                        <p:tgtEl>
                                          <p:spTgt spid="3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5" fill="hold">
                      <p:stCondLst>
                        <p:cond delay="indefinite"/>
                      </p:stCondLst>
                      <p:childTnLst>
                        <p:par>
                          <p:cTn id="5066" fill="hold">
                            <p:stCondLst>
                              <p:cond delay="0"/>
                            </p:stCondLst>
                            <p:childTnLst>
                              <p:par>
                                <p:cTn id="50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9" dur="500" fill="hold"/>
                                        <p:tgtEl>
                                          <p:spTgt spid="3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0" dur="500" fill="hold"/>
                                        <p:tgtEl>
                                          <p:spTgt spid="3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1" fill="hold">
                      <p:stCondLst>
                        <p:cond delay="indefinite"/>
                      </p:stCondLst>
                      <p:childTnLst>
                        <p:par>
                          <p:cTn id="5072" fill="hold">
                            <p:stCondLst>
                              <p:cond delay="0"/>
                            </p:stCondLst>
                            <p:childTnLst>
                              <p:par>
                                <p:cTn id="507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5" dur="500" fill="hold"/>
                                        <p:tgtEl>
                                          <p:spTgt spid="3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6" dur="500" fill="hold"/>
                                        <p:tgtEl>
                                          <p:spTgt spid="3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omic Transaction: Logical Un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Critical S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||  T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Symbol"/>
                <a:ea typeface="Symbol"/>
              </a:rPr>
              <a:t>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; T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279f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T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; T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omic Transaction: All or Noth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tely or as if never happened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>
            <a:off x="2286000" y="2057400"/>
            <a:ext cx="1828800" cy="22860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>
            <a:off x="1219320" y="2743200"/>
            <a:ext cx="1447560" cy="380880"/>
          </a:xfrm>
          <a:custGeom>
            <a:avLst/>
            <a:gdLst/>
            <a:ahLst/>
            <a:rect l="l" t="t" r="r" b="b"/>
            <a:pathLst>
              <a:path w="912" h="240">
                <a:moveTo>
                  <a:pt x="0" y="240"/>
                </a:moveTo>
                <a:cubicBezTo>
                  <a:pt x="44" y="120"/>
                  <a:pt x="88" y="0"/>
                  <a:pt x="240" y="0"/>
                </a:cubicBezTo>
                <a:cubicBezTo>
                  <a:pt x="392" y="0"/>
                  <a:pt x="652" y="120"/>
                  <a:pt x="912" y="24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1145520" y="21636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>
            <a:off x="1297800" y="35352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>
            <a:off x="4572000" y="2895480"/>
            <a:ext cx="388620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81" y="34783"/>
                </a:moveTo>
                <a:lnTo>
                  <a:pt x="-424" y="2957"/>
                </a:lnTo>
              </a:path>
              <a:path w="21600" h="21600">
                <a:moveTo>
                  <a:pt x="-424" y="0"/>
                </a:moveTo>
                <a:lnTo>
                  <a:pt x="-424" y="21600"/>
                </a:lnTo>
              </a:path>
            </a:pathLst>
          </a:cu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ystem/Program)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>
            <a:off x="1830240" y="502920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4876920" y="3962520"/>
            <a:ext cx="259056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249" y="8721"/>
                </a:moveTo>
                <a:lnTo>
                  <a:pt x="-635" y="2957"/>
                </a:lnTo>
              </a:path>
              <a:path w="21600" h="21600">
                <a:moveTo>
                  <a:pt x="-635" y="0"/>
                </a:moveTo>
                <a:lnTo>
                  <a:pt x="-635" y="21600"/>
                </a:ln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 or Ab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>
            <a:off x="4343400" y="1981080"/>
            <a:ext cx="281952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58" y="26468"/>
                </a:moveTo>
                <a:lnTo>
                  <a:pt x="-584" y="2957"/>
                </a:lnTo>
              </a:path>
              <a:path w="21600" h="21600">
                <a:moveTo>
                  <a:pt x="-584" y="0"/>
                </a:moveTo>
                <a:lnTo>
                  <a:pt x="-584" y="2160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Logical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1447920" y="3200400"/>
            <a:ext cx="1143000" cy="304920"/>
          </a:xfrm>
          <a:custGeom>
            <a:avLst/>
            <a:gdLst/>
            <a:ahLst/>
            <a:rect l="l" t="t" r="r" b="b"/>
            <a:pathLst>
              <a:path w="720" h="192">
                <a:moveTo>
                  <a:pt x="720" y="192"/>
                </a:moveTo>
                <a:cubicBezTo>
                  <a:pt x="588" y="96"/>
                  <a:pt x="456" y="0"/>
                  <a:pt x="336" y="0"/>
                </a:cubicBezTo>
                <a:cubicBezTo>
                  <a:pt x="216" y="0"/>
                  <a:pt x="108" y="96"/>
                  <a:pt x="0" y="19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4" name=""/>
          <p:cNvGrpSpPr/>
          <p:nvPr/>
        </p:nvGrpSpPr>
        <p:grpSpPr>
          <a:xfrm>
            <a:off x="1143000" y="3124080"/>
            <a:ext cx="762120" cy="914040"/>
            <a:chOff x="1143000" y="3124080"/>
            <a:chExt cx="762120" cy="914040"/>
          </a:xfrm>
        </p:grpSpPr>
        <p:sp>
          <p:nvSpPr>
            <p:cNvPr id="3105" name=""/>
            <p:cNvSpPr/>
            <p:nvPr/>
          </p:nvSpPr>
          <p:spPr>
            <a:xfrm>
              <a:off x="1143000" y="3276360"/>
              <a:ext cx="762120" cy="761760"/>
            </a:xfrm>
            <a:custGeom>
              <a:avLst/>
              <a:gdLst/>
              <a:ahLst/>
              <a:rect l="l" t="t" r="r" b="b"/>
              <a:pathLst>
                <a:path w="624" h="560">
                  <a:moveTo>
                    <a:pt x="0" y="80"/>
                  </a:moveTo>
                  <a:cubicBezTo>
                    <a:pt x="12" y="80"/>
                    <a:pt x="24" y="80"/>
                    <a:pt x="96" y="80"/>
                  </a:cubicBezTo>
                  <a:cubicBezTo>
                    <a:pt x="168" y="80"/>
                    <a:pt x="344" y="0"/>
                    <a:pt x="432" y="80"/>
                  </a:cubicBezTo>
                  <a:cubicBezTo>
                    <a:pt x="520" y="160"/>
                    <a:pt x="572" y="360"/>
                    <a:pt x="624" y="560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1514160" y="3124080"/>
              <a:ext cx="273240" cy="848880"/>
            </a:xfrm>
            <a:custGeom>
              <a:avLst/>
              <a:gdLst/>
              <a:ahLst/>
              <a:rect l="l" t="t" r="r" b="b"/>
              <a:pathLst>
                <a:path w="224" h="624">
                  <a:moveTo>
                    <a:pt x="224" y="0"/>
                  </a:moveTo>
                  <a:cubicBezTo>
                    <a:pt x="144" y="68"/>
                    <a:pt x="64" y="136"/>
                    <a:pt x="32" y="240"/>
                  </a:cubicBezTo>
                  <a:cubicBezTo>
                    <a:pt x="0" y="344"/>
                    <a:pt x="16" y="484"/>
                    <a:pt x="32" y="624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7" name=""/>
          <p:cNvSpPr/>
          <p:nvPr/>
        </p:nvSpPr>
        <p:spPr>
          <a:xfrm>
            <a:off x="1830600" y="54864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r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>
            <a:off x="3582360" y="502920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annot be un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3582720" y="548640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s if never hap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6400800" y="3962520"/>
            <a:ext cx="1143000" cy="457200"/>
          </a:xfrm>
          <a:prstGeom prst="ellipse">
            <a:avLst/>
          </a:prstGeom>
          <a:noFill/>
          <a:ln w="3816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>
            <a:off x="4876920" y="3962520"/>
            <a:ext cx="1295280" cy="457200"/>
          </a:xfrm>
          <a:prstGeom prst="ellipse">
            <a:avLst/>
          </a:prstGeom>
          <a:noFill/>
          <a:ln w="3816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7" dur="indefinite" restart="never" nodeType="tmRoot">
          <p:childTnLst>
            <p:seq>
              <p:cTn id="5078" dur="indefinite" nodeType="mainSeq">
                <p:childTnLst>
                  <p:par>
                    <p:cTn id="5079" fill="hold">
                      <p:stCondLst>
                        <p:cond delay="indefinite"/>
                      </p:stCondLst>
                      <p:childTnLst>
                        <p:par>
                          <p:cTn id="5080" fill="hold">
                            <p:stCondLst>
                              <p:cond delay="0"/>
                            </p:stCondLst>
                            <p:childTnLst>
                              <p:par>
                                <p:cTn id="50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83" dur="500"/>
                                        <p:tgtEl>
                                          <p:spTgt spid="3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4" fill="hold">
                      <p:stCondLst>
                        <p:cond delay="indefinite"/>
                      </p:stCondLst>
                      <p:childTnLst>
                        <p:par>
                          <p:cTn id="5085" fill="hold">
                            <p:stCondLst>
                              <p:cond delay="0"/>
                            </p:stCondLst>
                            <p:childTnLst>
                              <p:par>
                                <p:cTn id="50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8" dur="500"/>
                                        <p:tgtEl>
                                          <p:spTgt spid="3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9" fill="hold">
                            <p:stCondLst>
                              <p:cond delay="500"/>
                            </p:stCondLst>
                            <p:childTnLst>
                              <p:par>
                                <p:cTn id="50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92" dur="500"/>
                                        <p:tgtEl>
                                          <p:spTgt spid="3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3" fill="hold">
                      <p:stCondLst>
                        <p:cond delay="indefinite"/>
                      </p:stCondLst>
                      <p:childTnLst>
                        <p:par>
                          <p:cTn id="5094" fill="hold">
                            <p:stCondLst>
                              <p:cond delay="0"/>
                            </p:stCondLst>
                            <p:childTnLst>
                              <p:par>
                                <p:cTn id="50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97" dur="500"/>
                                        <p:tgtEl>
                                          <p:spTgt spid="3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01" dur="500"/>
                                        <p:tgtEl>
                                          <p:spTgt spid="3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2" fill="hold">
                      <p:stCondLst>
                        <p:cond delay="indefinite"/>
                      </p:stCondLst>
                      <p:childTnLst>
                        <p:par>
                          <p:cTn id="5103" fill="hold">
                            <p:stCondLst>
                              <p:cond delay="0"/>
                            </p:stCondLst>
                            <p:childTnLst>
                              <p:par>
                                <p:cTn id="5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06" dur="500"/>
                                        <p:tgtEl>
                                          <p:spTgt spid="3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7" fill="hold">
                      <p:stCondLst>
                        <p:cond delay="indefinite"/>
                      </p:stCondLst>
                      <p:childTnLst>
                        <p:par>
                          <p:cTn id="5108" fill="hold">
                            <p:stCondLst>
                              <p:cond delay="0"/>
                            </p:stCondLst>
                            <p:childTnLst>
                              <p:par>
                                <p:cTn id="5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11" dur="500"/>
                                        <p:tgtEl>
                                          <p:spTgt spid="3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2" fill="hold">
                      <p:stCondLst>
                        <p:cond delay="indefinite"/>
                      </p:stCondLst>
                      <p:childTnLst>
                        <p:par>
                          <p:cTn id="5113" fill="hold">
                            <p:stCondLst>
                              <p:cond delay="0"/>
                            </p:stCondLst>
                            <p:childTnLst>
                              <p:par>
                                <p:cTn id="5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6" dur="500" fill="hold"/>
                                        <p:tgtEl>
                                          <p:spTgt spid="3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7" dur="500" fill="hold"/>
                                        <p:tgtEl>
                                          <p:spTgt spid="3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8" fill="hold">
                      <p:stCondLst>
                        <p:cond delay="indefinite"/>
                      </p:stCondLst>
                      <p:childTnLst>
                        <p:par>
                          <p:cTn id="5119" fill="hold">
                            <p:stCondLst>
                              <p:cond delay="0"/>
                            </p:stCondLst>
                            <p:childTnLst>
                              <p:par>
                                <p:cTn id="5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2" dur="500"/>
                                        <p:tgtEl>
                                          <p:spTgt spid="3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3" fill="hold">
                            <p:stCondLst>
                              <p:cond delay="500"/>
                            </p:stCondLst>
                            <p:childTnLst>
                              <p:par>
                                <p:cTn id="512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6" dur="500" fill="hold"/>
                                        <p:tgtEl>
                                          <p:spTgt spid="3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7" dur="500" fill="hold"/>
                                        <p:tgtEl>
                                          <p:spTgt spid="3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8" fill="hold">
                      <p:stCondLst>
                        <p:cond delay="indefinite"/>
                      </p:stCondLst>
                      <p:childTnLst>
                        <p:par>
                          <p:cTn id="5129" fill="hold">
                            <p:stCondLst>
                              <p:cond delay="0"/>
                            </p:stCondLst>
                            <p:childTnLst>
                              <p:par>
                                <p:cTn id="51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32" dur="500"/>
                                        <p:tgtEl>
                                          <p:spTgt spid="3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3" fill="hold">
                            <p:stCondLst>
                              <p:cond delay="500"/>
                            </p:stCondLst>
                            <p:childTnLst>
                              <p:par>
                                <p:cTn id="5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6" dur="500" fill="hold"/>
                                        <p:tgtEl>
                                          <p:spTgt spid="3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7" dur="500" fill="hold"/>
                                        <p:tgtEl>
                                          <p:spTgt spid="3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8" fill="hold">
                      <p:stCondLst>
                        <p:cond delay="indefinite"/>
                      </p:stCondLst>
                      <p:childTnLst>
                        <p:par>
                          <p:cTn id="5139" fill="hold">
                            <p:stCondLst>
                              <p:cond delay="0"/>
                            </p:stCondLst>
                            <p:childTnLst>
                              <p:par>
                                <p:cTn id="5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2" dur="500"/>
                                        <p:tgtEl>
                                          <p:spTgt spid="3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6" dur="500" fill="hold"/>
                                        <p:tgtEl>
                                          <p:spTgt spid="3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7" dur="500" fill="hold"/>
                                        <p:tgtEl>
                                          <p:spTgt spid="3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1" dur="500" fill="hold"/>
                                        <p:tgtEl>
                                          <p:spTgt spid="3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2" dur="500" fill="hold"/>
                                        <p:tgtEl>
                                          <p:spTgt spid="3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l-or-Noth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"/>
          <p:cNvSpPr/>
          <p:nvPr/>
        </p:nvSpPr>
        <p:spPr>
          <a:xfrm>
            <a:off x="838080" y="1600200"/>
            <a:ext cx="1676520" cy="1295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1752480" y="3019320"/>
            <a:ext cx="914400" cy="398880"/>
          </a:xfrm>
          <a:prstGeom prst="borderCallout1">
            <a:avLst>
              <a:gd name="adj1" fmla="val 18750"/>
              <a:gd name="adj2" fmla="val -8333"/>
              <a:gd name="adj3" fmla="val -48328"/>
              <a:gd name="adj4" fmla="val -47893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1447920" y="3591000"/>
            <a:ext cx="2133360" cy="703800"/>
          </a:xfrm>
          <a:prstGeom prst="borderCallout1">
            <a:avLst>
              <a:gd name="adj1" fmla="val 18750"/>
              <a:gd name="adj2" fmla="val -8333"/>
              <a:gd name="adj3" fmla="val -158689"/>
              <a:gd name="adj4" fmla="val -23870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surv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Fail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5410080" y="1600200"/>
            <a:ext cx="1295640" cy="144792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>
            <a:off x="6324480" y="3200400"/>
            <a:ext cx="1067040" cy="398880"/>
          </a:xfrm>
          <a:prstGeom prst="borderCallout1">
            <a:avLst>
              <a:gd name="adj1" fmla="val 18750"/>
              <a:gd name="adj2" fmla="val -8333"/>
              <a:gd name="adj3" fmla="val -109824"/>
              <a:gd name="adj4" fmla="val -47449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5943600" y="3733920"/>
            <a:ext cx="2666880" cy="703800"/>
          </a:xfrm>
          <a:prstGeom prst="borderCallout1">
            <a:avLst>
              <a:gd name="adj1" fmla="val 18750"/>
              <a:gd name="adj2" fmla="val -8333"/>
              <a:gd name="adj3" fmla="val -188444"/>
              <a:gd name="adj4" fmla="val -16949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su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rv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Fail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3276720" y="4495680"/>
            <a:ext cx="1295280" cy="1447920"/>
          </a:xfrm>
          <a:prstGeom prst="can">
            <a:avLst>
              <a:gd name="adj" fmla="val 25000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b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4952880" y="4646520"/>
            <a:ext cx="1219320" cy="398880"/>
          </a:xfrm>
          <a:prstGeom prst="borderCallout1">
            <a:avLst>
              <a:gd name="adj1" fmla="val 18750"/>
              <a:gd name="adj2" fmla="val -8333"/>
              <a:gd name="adj3" fmla="val 87101"/>
              <a:gd name="adj4" fmla="val -52180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w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4952880" y="5229360"/>
            <a:ext cx="1600200" cy="703800"/>
          </a:xfrm>
          <a:prstGeom prst="borderCallout1">
            <a:avLst>
              <a:gd name="adj1" fmla="val 18750"/>
              <a:gd name="adj2" fmla="val -8333"/>
              <a:gd name="adj3" fmla="val -4037"/>
              <a:gd name="adj4" fmla="val -32722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ver 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2057400" y="4952880"/>
            <a:ext cx="609480" cy="76212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2438280" y="5257800"/>
            <a:ext cx="609840" cy="76212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3" dur="indefinite" restart="never" nodeType="tmRoot">
          <p:childTnLst>
            <p:seq>
              <p:cTn id="5154" dur="indefinite" nodeType="mainSeq">
                <p:childTnLst>
                  <p:par>
                    <p:cTn id="5155" fill="hold">
                      <p:stCondLst>
                        <p:cond delay="indefinite"/>
                      </p:stCondLst>
                      <p:childTnLst>
                        <p:par>
                          <p:cTn id="5156" fill="hold">
                            <p:stCondLst>
                              <p:cond delay="0"/>
                            </p:stCondLst>
                            <p:childTnLst>
                              <p:par>
                                <p:cTn id="51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59" dur="500"/>
                                        <p:tgtEl>
                                          <p:spTgt spid="3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0" fill="hold">
                      <p:stCondLst>
                        <p:cond delay="indefinite"/>
                      </p:stCondLst>
                      <p:childTnLst>
                        <p:par>
                          <p:cTn id="5161" fill="hold">
                            <p:stCondLst>
                              <p:cond delay="0"/>
                            </p:stCondLst>
                            <p:childTnLst>
                              <p:par>
                                <p:cTn id="51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64" dur="500"/>
                                        <p:tgtEl>
                                          <p:spTgt spid="3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5" fill="hold">
                      <p:stCondLst>
                        <p:cond delay="indefinite"/>
                      </p:stCondLst>
                      <p:childTnLst>
                        <p:par>
                          <p:cTn id="5166" fill="hold">
                            <p:stCondLst>
                              <p:cond delay="0"/>
                            </p:stCondLst>
                            <p:childTnLst>
                              <p:par>
                                <p:cTn id="51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69" dur="500"/>
                                        <p:tgtEl>
                                          <p:spTgt spid="3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0" fill="hold">
                      <p:stCondLst>
                        <p:cond delay="indefinite"/>
                      </p:stCondLst>
                      <p:childTnLst>
                        <p:par>
                          <p:cTn id="5171" fill="hold">
                            <p:stCondLst>
                              <p:cond delay="0"/>
                            </p:stCondLst>
                            <p:childTnLst>
                              <p:par>
                                <p:cTn id="5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74" dur="500"/>
                                        <p:tgtEl>
                                          <p:spTgt spid="3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5" fill="hold">
                      <p:stCondLst>
                        <p:cond delay="indefinite"/>
                      </p:stCondLst>
                      <p:childTnLst>
                        <p:par>
                          <p:cTn id="5176" fill="hold">
                            <p:stCondLst>
                              <p:cond delay="0"/>
                            </p:stCondLst>
                            <p:childTnLst>
                              <p:par>
                                <p:cTn id="51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79" dur="500"/>
                                        <p:tgtEl>
                                          <p:spTgt spid="3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0" fill="hold">
                      <p:stCondLst>
                        <p:cond delay="indefinite"/>
                      </p:stCondLst>
                      <p:childTnLst>
                        <p:par>
                          <p:cTn id="5181" fill="hold">
                            <p:stCondLst>
                              <p:cond delay="0"/>
                            </p:stCondLst>
                            <p:childTnLst>
                              <p:par>
                                <p:cTn id="51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84" dur="500"/>
                                        <p:tgtEl>
                                          <p:spTgt spid="3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5" fill="hold">
                      <p:stCondLst>
                        <p:cond delay="indefinite"/>
                      </p:stCondLst>
                      <p:childTnLst>
                        <p:par>
                          <p:cTn id="5186" fill="hold">
                            <p:stCondLst>
                              <p:cond delay="0"/>
                            </p:stCondLst>
                            <p:childTnLst>
                              <p:par>
                                <p:cTn id="5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89" dur="500"/>
                                        <p:tgtEl>
                                          <p:spTgt spid="3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0" fill="hold">
                      <p:stCondLst>
                        <p:cond delay="indefinite"/>
                      </p:stCondLst>
                      <p:childTnLst>
                        <p:par>
                          <p:cTn id="5191" fill="hold">
                            <p:stCondLst>
                              <p:cond delay="0"/>
                            </p:stCondLst>
                            <p:childTnLst>
                              <p:par>
                                <p:cTn id="5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94" dur="500"/>
                                        <p:tgtEl>
                                          <p:spTgt spid="3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5" fill="hold">
                            <p:stCondLst>
                              <p:cond delay="500"/>
                            </p:stCondLst>
                            <p:childTnLst>
                              <p:par>
                                <p:cTn id="51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98" dur="500"/>
                                        <p:tgtEl>
                                          <p:spTgt spid="3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9" fill="hold">
                      <p:stCondLst>
                        <p:cond delay="indefinite"/>
                      </p:stCondLst>
                      <p:childTnLst>
                        <p:par>
                          <p:cTn id="5200" fill="hold">
                            <p:stCondLst>
                              <p:cond delay="0"/>
                            </p:stCondLst>
                            <p:childTnLst>
                              <p:par>
                                <p:cTn id="52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03" dur="500"/>
                                        <p:tgtEl>
                                          <p:spTgt spid="3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4" fill="hold">
                      <p:stCondLst>
                        <p:cond delay="indefinite"/>
                      </p:stCondLst>
                      <p:childTnLst>
                        <p:par>
                          <p:cTn id="5205" fill="hold">
                            <p:stCondLst>
                              <p:cond delay="0"/>
                            </p:stCondLst>
                            <p:childTnLst>
                              <p:par>
                                <p:cTn id="52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08" dur="500"/>
                                        <p:tgtEl>
                                          <p:spTgt spid="3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g Based Recove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uarantee Atomic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st, record all modifications on 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279f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Write-ahead Log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>
            <a:off x="1752480" y="3352680"/>
            <a:ext cx="6096240" cy="1752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2" marL="228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ransID  DataID  OldValue  NewValue</a:t>
            </a:r>
            <a:br>
              <a:rPr sz="2400"/>
            </a:b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TransID  starts TIME</a:t>
            </a:r>
            <a:br>
              <a:rPr sz="2400"/>
            </a:b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TransID  commits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685800" y="516744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6000"/>
          </a:bodyPr>
          <a:p>
            <a:pPr lvl="2" marL="754200" indent="-15084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n, writ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9" dur="indefinite" restart="never" nodeType="tmRoot">
          <p:childTnLst>
            <p:seq>
              <p:cTn id="5210" dur="indefinite" nodeType="mainSeq">
                <p:childTnLst>
                  <p:par>
                    <p:cTn id="5211" fill="hold">
                      <p:stCondLst>
                        <p:cond delay="indefinite"/>
                      </p:stCondLst>
                      <p:childTnLst>
                        <p:par>
                          <p:cTn id="5212" fill="hold">
                            <p:stCondLst>
                              <p:cond delay="0"/>
                            </p:stCondLst>
                            <p:childTnLst>
                              <p:par>
                                <p:cTn id="5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5" dur="500"/>
                                        <p:tgtEl>
                                          <p:spTgt spid="3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6" fill="hold">
                      <p:stCondLst>
                        <p:cond delay="indefinite"/>
                      </p:stCondLst>
                      <p:childTnLst>
                        <p:par>
                          <p:cTn id="5217" fill="hold">
                            <p:stCondLst>
                              <p:cond delay="0"/>
                            </p:stCondLst>
                            <p:childTnLst>
                              <p:par>
                                <p:cTn id="5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0" dur="500"/>
                                        <p:tgtEl>
                                          <p:spTgt spid="3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3" dur="500"/>
                                        <p:tgtEl>
                                          <p:spTgt spid="3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4" fill="hold">
                      <p:stCondLst>
                        <p:cond delay="indefinite"/>
                      </p:stCondLst>
                      <p:childTnLst>
                        <p:par>
                          <p:cTn id="5225" fill="hold">
                            <p:stCondLst>
                              <p:cond delay="0"/>
                            </p:stCondLst>
                            <p:childTnLst>
                              <p:par>
                                <p:cTn id="5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8" dur="500"/>
                                        <p:tgtEl>
                                          <p:spTgt spid="3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g Based Recove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very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undo (TransID)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eset to old val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redo (TransID)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et to new val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bo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undo (TransI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System Failur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committed transactions: redo(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s: undo (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9" dur="indefinite" restart="never" nodeType="tmRoot">
          <p:childTnLst>
            <p:seq>
              <p:cTn id="5230" dur="indefinite" nodeType="mainSeq">
                <p:childTnLst>
                  <p:par>
                    <p:cTn id="5231" fill="hold">
                      <p:stCondLst>
                        <p:cond delay="indefinite"/>
                      </p:stCondLst>
                      <p:childTnLst>
                        <p:par>
                          <p:cTn id="5232" fill="hold">
                            <p:stCondLst>
                              <p:cond delay="0"/>
                            </p:stCondLst>
                            <p:childTnLst>
                              <p:par>
                                <p:cTn id="5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5" dur="500"/>
                                        <p:tgtEl>
                                          <p:spTgt spid="3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urrent Atomic Transa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rializ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 Transaction in a Critical S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o restrictive (CS = serial schedul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leaving OK if result equivalen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serial execu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6" dur="indefinite" restart="never" nodeType="tmRoot">
          <p:childTnLst>
            <p:seq>
              <p:cTn id="5237" dur="indefinite" nodeType="mainSeq">
                <p:childTnLst>
                  <p:par>
                    <p:cTn id="5238" fill="hold">
                      <p:stCondLst>
                        <p:cond delay="indefinite"/>
                      </p:stCondLst>
                      <p:childTnLst>
                        <p:par>
                          <p:cTn id="5239" fill="hold">
                            <p:stCondLst>
                              <p:cond delay="0"/>
                            </p:stCondLst>
                            <p:childTnLst>
                              <p:par>
                                <p:cTn id="5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2" dur="500"/>
                                        <p:tgtEl>
                                          <p:spTgt spid="3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flicting Ope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fli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"/>
          <p:cNvSpPr/>
          <p:nvPr/>
        </p:nvSpPr>
        <p:spPr>
          <a:xfrm>
            <a:off x="2333520" y="2690640"/>
            <a:ext cx="44690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same dat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least one is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669960" y="3747960"/>
            <a:ext cx="8093160" cy="24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lict serializab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o not conflic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y be executed in arbitrary or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4390920" y="2133720"/>
            <a:ext cx="381240" cy="457200"/>
          </a:xfrm>
          <a:prstGeom prst="upDownArrow">
            <a:avLst>
              <a:gd name="adj1" fmla="val 50000"/>
              <a:gd name="adj2" fmla="val 23874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3" dur="indefinite" restart="never" nodeType="tmRoot">
          <p:childTnLst>
            <p:seq>
              <p:cTn id="5244" dur="indefinite" nodeType="mainSeq">
                <p:childTnLst>
                  <p:par>
                    <p:cTn id="5245" fill="hold">
                      <p:stCondLst>
                        <p:cond delay="indefinite"/>
                      </p:stCondLst>
                      <p:childTnLst>
                        <p:par>
                          <p:cTn id="5246" fill="hold">
                            <p:stCondLst>
                              <p:cond delay="0"/>
                            </p:stCondLst>
                            <p:childTnLst>
                              <p:par>
                                <p:cTn id="5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9" dur="500"/>
                                        <p:tgtEl>
                                          <p:spTgt spid="3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0" fill="hold">
                            <p:stCondLst>
                              <p:cond delay="500"/>
                            </p:stCondLst>
                            <p:childTnLst>
                              <p:par>
                                <p:cTn id="5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3" dur="500"/>
                                        <p:tgtEl>
                                          <p:spTgt spid="3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7" dur="500"/>
                                        <p:tgtEl>
                                          <p:spTgt spid="3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8" fill="hold">
                      <p:stCondLst>
                        <p:cond delay="indefinite"/>
                      </p:stCondLst>
                      <p:childTnLst>
                        <p:par>
                          <p:cTn id="5259" fill="hold">
                            <p:stCondLst>
                              <p:cond delay="0"/>
                            </p:stCondLst>
                            <p:childTnLst>
                              <p:par>
                                <p:cTn id="5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2" dur="500"/>
                                        <p:tgtEl>
                                          <p:spTgt spid="3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880" y="47628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phore: Implementation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busy wai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-oper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emaphore closed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o queue and block process (threa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266360" y="1600200"/>
            <a:ext cx="1755720" cy="1904400"/>
            <a:chOff x="4266360" y="1600200"/>
            <a:chExt cx="1755720" cy="1904400"/>
          </a:xfrm>
        </p:grpSpPr>
        <p:sp>
          <p:nvSpPr>
            <p:cNvPr id="273" name=""/>
            <p:cNvSpPr/>
            <p:nvPr/>
          </p:nvSpPr>
          <p:spPr>
            <a:xfrm>
              <a:off x="4619160" y="1600200"/>
              <a:ext cx="261720" cy="1904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4266360" y="1681200"/>
              <a:ext cx="1755720" cy="640440"/>
              <a:chOff x="4266360" y="1681200"/>
              <a:chExt cx="1755720" cy="640440"/>
            </a:xfrm>
          </p:grpSpPr>
          <p:sp>
            <p:nvSpPr>
              <p:cNvPr id="275" name=""/>
              <p:cNvSpPr/>
              <p:nvPr/>
            </p:nvSpPr>
            <p:spPr>
              <a:xfrm rot="5434200">
                <a:off x="4888440" y="1293480"/>
                <a:ext cx="158400" cy="14018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6" name=""/>
              <p:cNvGrpSpPr/>
              <p:nvPr/>
            </p:nvGrpSpPr>
            <p:grpSpPr>
              <a:xfrm>
                <a:off x="5315760" y="1681200"/>
                <a:ext cx="706320" cy="640440"/>
                <a:chOff x="5315760" y="1681200"/>
                <a:chExt cx="706320" cy="640440"/>
              </a:xfrm>
            </p:grpSpPr>
            <p:sp>
              <p:nvSpPr>
                <p:cNvPr id="277" name=""/>
                <p:cNvSpPr/>
                <p:nvPr/>
              </p:nvSpPr>
              <p:spPr>
                <a:xfrm rot="5434200">
                  <a:off x="5351760" y="1650960"/>
                  <a:ext cx="633600" cy="7002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5434200">
                  <a:off x="5509800" y="1825920"/>
                  <a:ext cx="317160" cy="350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79" name=""/>
          <p:cNvGrpSpPr/>
          <p:nvPr/>
        </p:nvGrpSpPr>
        <p:grpSpPr>
          <a:xfrm>
            <a:off x="5029200" y="2514600"/>
            <a:ext cx="1630440" cy="1881720"/>
            <a:chOff x="5029200" y="2514600"/>
            <a:chExt cx="1630440" cy="1881720"/>
          </a:xfrm>
        </p:grpSpPr>
        <p:graphicFrame>
          <p:nvGraphicFramePr>
            <p:cNvPr id="280" name=""/>
            <p:cNvGraphicFramePr/>
            <p:nvPr/>
          </p:nvGraphicFramePr>
          <p:xfrm>
            <a:off x="5029200" y="2514600"/>
            <a:ext cx="1630440" cy="1600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29200" y="2514600"/>
                      <a:ext cx="163044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2" name=""/>
            <p:cNvSpPr/>
            <p:nvPr/>
          </p:nvSpPr>
          <p:spPr>
            <a:xfrm>
              <a:off x="5334120" y="38862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5638680" y="2590920"/>
            <a:ext cx="1630440" cy="1881720"/>
            <a:chOff x="5638680" y="2590920"/>
            <a:chExt cx="1630440" cy="1881720"/>
          </a:xfrm>
        </p:grpSpPr>
        <p:graphicFrame>
          <p:nvGraphicFramePr>
            <p:cNvPr id="284" name=""/>
            <p:cNvGraphicFramePr/>
            <p:nvPr/>
          </p:nvGraphicFramePr>
          <p:xfrm>
            <a:off x="5638680" y="2590920"/>
            <a:ext cx="1630440" cy="1600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38680" y="2590920"/>
                      <a:ext cx="163044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6" name=""/>
            <p:cNvSpPr/>
            <p:nvPr/>
          </p:nvSpPr>
          <p:spPr>
            <a:xfrm>
              <a:off x="5943600" y="396252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324480" y="2743200"/>
            <a:ext cx="1630440" cy="1881720"/>
            <a:chOff x="6324480" y="2743200"/>
            <a:chExt cx="1630440" cy="1881720"/>
          </a:xfrm>
        </p:grpSpPr>
        <p:graphicFrame>
          <p:nvGraphicFramePr>
            <p:cNvPr id="288" name=""/>
            <p:cNvGraphicFramePr/>
            <p:nvPr/>
          </p:nvGraphicFramePr>
          <p:xfrm>
            <a:off x="6324480" y="2743200"/>
            <a:ext cx="1630440" cy="1600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324480" y="2743200"/>
                      <a:ext cx="163044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0" name=""/>
            <p:cNvSpPr/>
            <p:nvPr/>
          </p:nvSpPr>
          <p:spPr>
            <a:xfrm>
              <a:off x="6629400" y="41148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85800" y="4191120"/>
            <a:ext cx="40384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-ope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rocess (thread) waiting: remove one (1) from queue and wake it 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029200" y="2514600"/>
            <a:ext cx="2925720" cy="2110320"/>
            <a:chOff x="5029200" y="2514600"/>
            <a:chExt cx="2925720" cy="2110320"/>
          </a:xfrm>
        </p:grpSpPr>
        <p:sp>
          <p:nvSpPr>
            <p:cNvPr id="293" name=""/>
            <p:cNvSpPr/>
            <p:nvPr/>
          </p:nvSpPr>
          <p:spPr>
            <a:xfrm>
              <a:off x="5029200" y="2514600"/>
              <a:ext cx="1600200" cy="198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5639040" y="2590920"/>
              <a:ext cx="1630080" cy="1881720"/>
              <a:chOff x="5639040" y="2590920"/>
              <a:chExt cx="1630080" cy="1881720"/>
            </a:xfrm>
          </p:grpSpPr>
          <p:graphicFrame>
            <p:nvGraphicFramePr>
              <p:cNvPr id="295" name=""/>
              <p:cNvGraphicFramePr/>
              <p:nvPr/>
            </p:nvGraphicFramePr>
            <p:xfrm>
              <a:off x="5639040" y="2590920"/>
              <a:ext cx="1630080" cy="16002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96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639040" y="2590920"/>
                        <a:ext cx="1630080" cy="160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97" name=""/>
              <p:cNvSpPr/>
              <p:nvPr/>
            </p:nvSpPr>
            <p:spPr>
              <a:xfrm>
                <a:off x="5943600" y="3962520"/>
                <a:ext cx="532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6324840" y="2743200"/>
              <a:ext cx="1630080" cy="1881720"/>
              <a:chOff x="6324840" y="2743200"/>
              <a:chExt cx="1630080" cy="1881720"/>
            </a:xfrm>
          </p:grpSpPr>
          <p:graphicFrame>
            <p:nvGraphicFramePr>
              <p:cNvPr id="299" name=""/>
              <p:cNvGraphicFramePr/>
              <p:nvPr/>
            </p:nvGraphicFramePr>
            <p:xfrm>
              <a:off x="6324840" y="2743200"/>
              <a:ext cx="1630080" cy="16002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00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6324840" y="2743200"/>
                        <a:ext cx="1630080" cy="160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01" name=""/>
              <p:cNvSpPr/>
              <p:nvPr/>
            </p:nvSpPr>
            <p:spPr>
              <a:xfrm>
                <a:off x="6629400" y="4114800"/>
                <a:ext cx="532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ializabi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8" name=""/>
          <p:cNvGrpSpPr/>
          <p:nvPr/>
        </p:nvGrpSpPr>
        <p:grpSpPr>
          <a:xfrm>
            <a:off x="685800" y="1523880"/>
            <a:ext cx="3809880" cy="4572000"/>
            <a:chOff x="685800" y="1523880"/>
            <a:chExt cx="3809880" cy="4572000"/>
          </a:xfrm>
        </p:grpSpPr>
        <p:sp>
          <p:nvSpPr>
            <p:cNvPr id="3139" name=""/>
            <p:cNvSpPr/>
            <p:nvPr/>
          </p:nvSpPr>
          <p:spPr>
            <a:xfrm>
              <a:off x="2438280" y="1600200"/>
              <a:ext cx="0" cy="441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685800" y="1523880"/>
              <a:ext cx="380988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8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0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1" name=""/>
          <p:cNvSpPr/>
          <p:nvPr/>
        </p:nvSpPr>
        <p:spPr>
          <a:xfrm>
            <a:off x="4419720" y="160020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2" name=""/>
          <p:cNvGrpSpPr/>
          <p:nvPr/>
        </p:nvGrpSpPr>
        <p:grpSpPr>
          <a:xfrm>
            <a:off x="4572000" y="1523880"/>
            <a:ext cx="3809880" cy="4572000"/>
            <a:chOff x="4572000" y="1523880"/>
            <a:chExt cx="3809880" cy="4572000"/>
          </a:xfrm>
        </p:grpSpPr>
        <p:sp>
          <p:nvSpPr>
            <p:cNvPr id="3143" name=""/>
            <p:cNvSpPr/>
            <p:nvPr/>
          </p:nvSpPr>
          <p:spPr>
            <a:xfrm>
              <a:off x="6248160" y="1600200"/>
              <a:ext cx="0" cy="441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4572000" y="1523880"/>
              <a:ext cx="380988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0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5" name=""/>
          <p:cNvSpPr/>
          <p:nvPr/>
        </p:nvSpPr>
        <p:spPr>
          <a:xfrm>
            <a:off x="4586400" y="3564000"/>
            <a:ext cx="1523880" cy="609480"/>
          </a:xfrm>
          <a:prstGeom prst="ellipse">
            <a:avLst/>
          </a:prstGeom>
          <a:noFill/>
          <a:ln cap="rnd" w="3816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>
            <a:off x="6400800" y="4095720"/>
            <a:ext cx="1523880" cy="609480"/>
          </a:xfrm>
          <a:prstGeom prst="ellipse">
            <a:avLst/>
          </a:prstGeom>
          <a:noFill/>
          <a:ln cap="rnd" w="3816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7" name=""/>
          <p:cNvGrpSpPr/>
          <p:nvPr/>
        </p:nvGrpSpPr>
        <p:grpSpPr>
          <a:xfrm>
            <a:off x="4572000" y="1523880"/>
            <a:ext cx="3809880" cy="4572000"/>
            <a:chOff x="4572000" y="1523880"/>
            <a:chExt cx="3809880" cy="4572000"/>
          </a:xfrm>
        </p:grpSpPr>
        <p:sp>
          <p:nvSpPr>
            <p:cNvPr id="3148" name=""/>
            <p:cNvSpPr/>
            <p:nvPr/>
          </p:nvSpPr>
          <p:spPr>
            <a:xfrm>
              <a:off x="4572000" y="1523880"/>
              <a:ext cx="3809880" cy="457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0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6248160" y="1600200"/>
              <a:ext cx="0" cy="441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0" name=""/>
          <p:cNvSpPr/>
          <p:nvPr/>
        </p:nvSpPr>
        <p:spPr>
          <a:xfrm>
            <a:off x="4586400" y="3029040"/>
            <a:ext cx="1523880" cy="609480"/>
          </a:xfrm>
          <a:prstGeom prst="ellipse">
            <a:avLst/>
          </a:prstGeom>
          <a:noFill/>
          <a:ln cap="rnd" w="3816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6400800" y="3565440"/>
            <a:ext cx="1523880" cy="609840"/>
          </a:xfrm>
          <a:prstGeom prst="ellipse">
            <a:avLst/>
          </a:prstGeom>
          <a:noFill/>
          <a:ln cap="rnd" w="3816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2" name=""/>
          <p:cNvGrpSpPr/>
          <p:nvPr/>
        </p:nvGrpSpPr>
        <p:grpSpPr>
          <a:xfrm>
            <a:off x="4572000" y="1523880"/>
            <a:ext cx="3809880" cy="4572000"/>
            <a:chOff x="4572000" y="1523880"/>
            <a:chExt cx="3809880" cy="4572000"/>
          </a:xfrm>
        </p:grpSpPr>
        <p:sp>
          <p:nvSpPr>
            <p:cNvPr id="3153" name=""/>
            <p:cNvSpPr/>
            <p:nvPr/>
          </p:nvSpPr>
          <p:spPr>
            <a:xfrm>
              <a:off x="4572000" y="1523880"/>
              <a:ext cx="3809880" cy="457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0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6248160" y="1600200"/>
              <a:ext cx="0" cy="441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5" name=""/>
          <p:cNvSpPr/>
          <p:nvPr/>
        </p:nvSpPr>
        <p:spPr>
          <a:xfrm>
            <a:off x="4586400" y="4040280"/>
            <a:ext cx="1523880" cy="609480"/>
          </a:xfrm>
          <a:prstGeom prst="ellipse">
            <a:avLst/>
          </a:prstGeom>
          <a:noFill/>
          <a:ln cap="rnd" w="3816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6400800" y="4572000"/>
            <a:ext cx="1523880" cy="609480"/>
          </a:xfrm>
          <a:prstGeom prst="ellipse">
            <a:avLst/>
          </a:prstGeom>
          <a:noFill/>
          <a:ln cap="rnd" w="3816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7" name=""/>
          <p:cNvGrpSpPr/>
          <p:nvPr/>
        </p:nvGrpSpPr>
        <p:grpSpPr>
          <a:xfrm>
            <a:off x="4572000" y="1523880"/>
            <a:ext cx="3809880" cy="4572000"/>
            <a:chOff x="4572000" y="1523880"/>
            <a:chExt cx="3809880" cy="4572000"/>
          </a:xfrm>
        </p:grpSpPr>
        <p:sp>
          <p:nvSpPr>
            <p:cNvPr id="3158" name=""/>
            <p:cNvSpPr/>
            <p:nvPr/>
          </p:nvSpPr>
          <p:spPr>
            <a:xfrm>
              <a:off x="4572000" y="1523880"/>
              <a:ext cx="3809880" cy="457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0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6248160" y="1600200"/>
              <a:ext cx="0" cy="441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0" name=""/>
          <p:cNvSpPr/>
          <p:nvPr/>
        </p:nvSpPr>
        <p:spPr>
          <a:xfrm>
            <a:off x="4586400" y="3506760"/>
            <a:ext cx="1523880" cy="609480"/>
          </a:xfrm>
          <a:prstGeom prst="ellipse">
            <a:avLst/>
          </a:prstGeom>
          <a:noFill/>
          <a:ln cap="rnd" w="3816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6400800" y="4038480"/>
            <a:ext cx="1523880" cy="609840"/>
          </a:xfrm>
          <a:prstGeom prst="ellipse">
            <a:avLst/>
          </a:prstGeom>
          <a:noFill/>
          <a:ln cap="rnd" w="3816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2" name=""/>
          <p:cNvGrpSpPr/>
          <p:nvPr/>
        </p:nvGrpSpPr>
        <p:grpSpPr>
          <a:xfrm>
            <a:off x="4572000" y="1523880"/>
            <a:ext cx="3809880" cy="4572000"/>
            <a:chOff x="4572000" y="1523880"/>
            <a:chExt cx="3809880" cy="4572000"/>
          </a:xfrm>
        </p:grpSpPr>
        <p:sp>
          <p:nvSpPr>
            <p:cNvPr id="3163" name=""/>
            <p:cNvSpPr/>
            <p:nvPr/>
          </p:nvSpPr>
          <p:spPr>
            <a:xfrm>
              <a:off x="4572000" y="1523880"/>
              <a:ext cx="3809880" cy="457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0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6248160" y="1600200"/>
              <a:ext cx="0" cy="441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3" dur="indefinite" restart="never" nodeType="tmRoot">
          <p:childTnLst>
            <p:seq>
              <p:cTn id="5264" dur="indefinite" nodeType="mainSeq">
                <p:childTnLst>
                  <p:par>
                    <p:cTn id="5265" fill="hold">
                      <p:stCondLst>
                        <p:cond delay="indefinite"/>
                      </p:stCondLst>
                      <p:childTnLst>
                        <p:par>
                          <p:cTn id="5266" fill="hold">
                            <p:stCondLst>
                              <p:cond delay="0"/>
                            </p:stCondLst>
                            <p:childTnLst>
                              <p:par>
                                <p:cTn id="52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69" dur="500"/>
                                        <p:tgtEl>
                                          <p:spTgt spid="3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0" fill="hold">
                      <p:stCondLst>
                        <p:cond delay="indefinite"/>
                      </p:stCondLst>
                      <p:childTnLst>
                        <p:par>
                          <p:cTn id="5271" fill="hold">
                            <p:stCondLst>
                              <p:cond delay="0"/>
                            </p:stCondLst>
                            <p:childTnLst>
                              <p:par>
                                <p:cTn id="5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4" fill="hold">
                      <p:stCondLst>
                        <p:cond delay="indefinite"/>
                      </p:stCondLst>
                      <p:childTnLst>
                        <p:par>
                          <p:cTn id="5275" fill="hold">
                            <p:stCondLst>
                              <p:cond delay="0"/>
                            </p:stCondLst>
                            <p:childTnLst>
                              <p:par>
                                <p:cTn id="52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78" dur="500"/>
                                        <p:tgtEl>
                                          <p:spTgt spid="3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9" fill="hold">
                      <p:stCondLst>
                        <p:cond delay="indefinite"/>
                      </p:stCondLst>
                      <p:childTnLst>
                        <p:par>
                          <p:cTn id="5280" fill="hold">
                            <p:stCondLst>
                              <p:cond delay="0"/>
                            </p:stCondLst>
                            <p:childTnLst>
                              <p:par>
                                <p:cTn id="5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3" dur="500" fill="hold"/>
                                        <p:tgtEl>
                                          <p:spTgt spid="3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4" dur="500" fill="hold"/>
                                        <p:tgtEl>
                                          <p:spTgt spid="3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5" fill="hold">
                            <p:stCondLst>
                              <p:cond delay="500"/>
                            </p:stCondLst>
                            <p:childTnLst>
                              <p:par>
                                <p:cTn id="5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8" dur="500" fill="hold"/>
                                        <p:tgtEl>
                                          <p:spTgt spid="3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9" dur="500" fill="hold"/>
                                        <p:tgtEl>
                                          <p:spTgt spid="3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0" fill="hold">
                      <p:stCondLst>
                        <p:cond delay="indefinite"/>
                      </p:stCondLst>
                      <p:childTnLst>
                        <p:par>
                          <p:cTn id="5291" fill="hold">
                            <p:stCondLst>
                              <p:cond delay="0"/>
                            </p:stCondLst>
                            <p:childTnLst>
                              <p:par>
                                <p:cTn id="5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4" fill="hold">
                      <p:stCondLst>
                        <p:cond delay="indefinite"/>
                      </p:stCondLst>
                      <p:childTnLst>
                        <p:par>
                          <p:cTn id="5295" fill="hold">
                            <p:stCondLst>
                              <p:cond delay="0"/>
                            </p:stCondLst>
                            <p:childTnLst>
                              <p:par>
                                <p:cTn id="5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8" dur="500" fill="hold"/>
                                        <p:tgtEl>
                                          <p:spTgt spid="3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9" dur="500" fill="hold"/>
                                        <p:tgtEl>
                                          <p:spTgt spid="3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0" fill="hold">
                            <p:stCondLst>
                              <p:cond delay="500"/>
                            </p:stCondLst>
                            <p:childTnLst>
                              <p:par>
                                <p:cTn id="53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3" dur="500" fill="hold"/>
                                        <p:tgtEl>
                                          <p:spTgt spid="3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4" dur="500" fill="hold"/>
                                        <p:tgtEl>
                                          <p:spTgt spid="3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5" fill="hold">
                      <p:stCondLst>
                        <p:cond delay="indefinite"/>
                      </p:stCondLst>
                      <p:childTnLst>
                        <p:par>
                          <p:cTn id="5306" fill="hold">
                            <p:stCondLst>
                              <p:cond delay="0"/>
                            </p:stCondLst>
                            <p:childTnLst>
                              <p:par>
                                <p:cTn id="5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9" fill="hold">
                      <p:stCondLst>
                        <p:cond delay="indefinite"/>
                      </p:stCondLst>
                      <p:childTnLst>
                        <p:par>
                          <p:cTn id="5310" fill="hold">
                            <p:stCondLst>
                              <p:cond delay="0"/>
                            </p:stCondLst>
                            <p:childTnLst>
                              <p:par>
                                <p:cTn id="5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3" dur="500" fill="hold"/>
                                        <p:tgtEl>
                                          <p:spTgt spid="3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4" dur="500" fill="hold"/>
                                        <p:tgtEl>
                                          <p:spTgt spid="3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5" fill="hold">
                            <p:stCondLst>
                              <p:cond delay="500"/>
                            </p:stCondLst>
                            <p:childTnLst>
                              <p:par>
                                <p:cTn id="53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8" dur="500" fill="hold"/>
                                        <p:tgtEl>
                                          <p:spTgt spid="3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9" dur="500" fill="hold"/>
                                        <p:tgtEl>
                                          <p:spTgt spid="3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0" fill="hold">
                      <p:stCondLst>
                        <p:cond delay="indefinite"/>
                      </p:stCondLst>
                      <p:childTnLst>
                        <p:par>
                          <p:cTn id="5321" fill="hold">
                            <p:stCondLst>
                              <p:cond delay="0"/>
                            </p:stCondLst>
                            <p:childTnLst>
                              <p:par>
                                <p:cTn id="5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4" fill="hold">
                      <p:stCondLst>
                        <p:cond delay="indefinite"/>
                      </p:stCondLst>
                      <p:childTnLst>
                        <p:par>
                          <p:cTn id="5325" fill="hold">
                            <p:stCondLst>
                              <p:cond delay="0"/>
                            </p:stCondLst>
                            <p:childTnLst>
                              <p:par>
                                <p:cTn id="5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8" dur="500" fill="hold"/>
                                        <p:tgtEl>
                                          <p:spTgt spid="3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9" dur="500" fill="hold"/>
                                        <p:tgtEl>
                                          <p:spTgt spid="3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3" dur="500" fill="hold"/>
                                        <p:tgtEl>
                                          <p:spTgt spid="3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4" dur="500" fill="hold"/>
                                        <p:tgtEl>
                                          <p:spTgt spid="3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5" fill="hold">
                      <p:stCondLst>
                        <p:cond delay="indefinite"/>
                      </p:stCondLst>
                      <p:childTnLst>
                        <p:par>
                          <p:cTn id="5336" fill="hold">
                            <p:stCondLst>
                              <p:cond delay="0"/>
                            </p:stCondLst>
                            <p:childTnLst>
                              <p:par>
                                <p:cTn id="5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ializabi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"/>
          <p:cNvSpPr/>
          <p:nvPr/>
        </p:nvSpPr>
        <p:spPr>
          <a:xfrm>
            <a:off x="914400" y="1981080"/>
            <a:ext cx="2590920" cy="7621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 T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3581280" y="1981080"/>
            <a:ext cx="2590920" cy="7621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914400" y="3581280"/>
            <a:ext cx="2590920" cy="7621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 T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2209680" y="4419720"/>
            <a:ext cx="2590920" cy="7617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5029200" y="3429000"/>
            <a:ext cx="533520" cy="1905120"/>
          </a:xfrm>
          <a:custGeom>
            <a:avLst/>
            <a:gdLst>
              <a:gd name="textAreaLeft" fmla="*/ 0 w 533520"/>
              <a:gd name="textAreaRight" fmla="*/ 192600 w 5335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>
            <a:off x="5791320" y="41752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e ef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7315200" y="2120760"/>
            <a:ext cx="1282680" cy="2400480"/>
          </a:xfrm>
          <a:custGeom>
            <a:avLst/>
            <a:gdLst/>
            <a:ahLst/>
            <a:rect l="l" t="t" r="r" b="b"/>
            <a:pathLst>
              <a:path w="664" h="1512">
                <a:moveTo>
                  <a:pt x="96" y="1448"/>
                </a:moveTo>
                <a:cubicBezTo>
                  <a:pt x="272" y="1480"/>
                  <a:pt x="448" y="1512"/>
                  <a:pt x="528" y="1304"/>
                </a:cubicBezTo>
                <a:cubicBezTo>
                  <a:pt x="608" y="1096"/>
                  <a:pt x="664" y="400"/>
                  <a:pt x="576" y="200"/>
                </a:cubicBezTo>
                <a:cubicBezTo>
                  <a:pt x="488" y="0"/>
                  <a:pt x="244" y="52"/>
                  <a:pt x="0" y="10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9" dur="indefinite" restart="never" nodeType="tmRoot">
          <p:childTnLst>
            <p:seq>
              <p:cTn id="5340" dur="indefinite" nodeType="mainSeq">
                <p:childTnLst>
                  <p:par>
                    <p:cTn id="5341" fill="hold">
                      <p:stCondLst>
                        <p:cond delay="indefinite"/>
                      </p:stCondLst>
                      <p:childTnLst>
                        <p:par>
                          <p:cTn id="5342" fill="hold">
                            <p:stCondLst>
                              <p:cond delay="0"/>
                            </p:stCondLst>
                            <p:childTnLst>
                              <p:par>
                                <p:cTn id="5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5" dur="500"/>
                                        <p:tgtEl>
                                          <p:spTgt spid="3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6" fill="hold">
                      <p:stCondLst>
                        <p:cond delay="indefinite"/>
                      </p:stCondLst>
                      <p:childTnLst>
                        <p:par>
                          <p:cTn id="5347" fill="hold">
                            <p:stCondLst>
                              <p:cond delay="0"/>
                            </p:stCondLst>
                            <p:childTnLst>
                              <p:par>
                                <p:cTn id="5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0" dur="500"/>
                                        <p:tgtEl>
                                          <p:spTgt spid="3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1" fill="hold">
                      <p:stCondLst>
                        <p:cond delay="indefinite"/>
                      </p:stCondLst>
                      <p:childTnLst>
                        <p:par>
                          <p:cTn id="5352" fill="hold">
                            <p:stCondLst>
                              <p:cond delay="0"/>
                            </p:stCondLst>
                            <p:childTnLst>
                              <p:par>
                                <p:cTn id="5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5" dur="500"/>
                                        <p:tgtEl>
                                          <p:spTgt spid="3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6" fill="hold">
                      <p:stCondLst>
                        <p:cond delay="indefinite"/>
                      </p:stCondLst>
                      <p:childTnLst>
                        <p:par>
                          <p:cTn id="5357" fill="hold">
                            <p:stCondLst>
                              <p:cond delay="0"/>
                            </p:stCondLst>
                            <p:childTnLst>
                              <p:par>
                                <p:cTn id="5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0" dur="500"/>
                                        <p:tgtEl>
                                          <p:spTgt spid="3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1" fill="hold">
                      <p:stCondLst>
                        <p:cond delay="indefinite"/>
                      </p:stCondLst>
                      <p:childTnLst>
                        <p:par>
                          <p:cTn id="5362" fill="hold">
                            <p:stCondLst>
                              <p:cond delay="0"/>
                            </p:stCondLst>
                            <p:childTnLst>
                              <p:par>
                                <p:cTn id="5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5" dur="500"/>
                                        <p:tgtEl>
                                          <p:spTgt spid="3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6" fill="hold">
                            <p:stCondLst>
                              <p:cond delay="500"/>
                            </p:stCondLst>
                            <p:childTnLst>
                              <p:par>
                                <p:cTn id="5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9" dur="500"/>
                                        <p:tgtEl>
                                          <p:spTgt spid="3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3" dur="500" fill="hold"/>
                                        <p:tgtEl>
                                          <p:spTgt spid="3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4" dur="500" fill="hold"/>
                                        <p:tgtEl>
                                          <p:spTgt spid="3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ializabi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ure Serializ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king Protoc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5" name="" descr=""/>
          <p:cNvPicPr/>
          <p:nvPr/>
        </p:nvPicPr>
        <p:blipFill>
          <a:blip r:embed="rId1"/>
          <a:stretch/>
        </p:blipFill>
        <p:spPr>
          <a:xfrm>
            <a:off x="4191120" y="4495680"/>
            <a:ext cx="857160" cy="857520"/>
          </a:xfrm>
          <a:prstGeom prst="rect">
            <a:avLst/>
          </a:prstGeom>
          <a:ln w="0">
            <a:noFill/>
          </a:ln>
        </p:spPr>
      </p:pic>
      <p:grpSp>
        <p:nvGrpSpPr>
          <p:cNvPr id="3176" name=""/>
          <p:cNvGrpSpPr/>
          <p:nvPr/>
        </p:nvGrpSpPr>
        <p:grpSpPr>
          <a:xfrm>
            <a:off x="4952880" y="2835000"/>
            <a:ext cx="730440" cy="1022400"/>
            <a:chOff x="4952880" y="2835000"/>
            <a:chExt cx="730440" cy="1022400"/>
          </a:xfrm>
        </p:grpSpPr>
        <p:sp>
          <p:nvSpPr>
            <p:cNvPr id="3177" name=""/>
            <p:cNvSpPr/>
            <p:nvPr/>
          </p:nvSpPr>
          <p:spPr>
            <a:xfrm>
              <a:off x="4956840" y="3360600"/>
              <a:ext cx="681480" cy="49680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4952880" y="3272760"/>
              <a:ext cx="678960" cy="18324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5256360" y="3524760"/>
              <a:ext cx="82800" cy="23256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 rot="3105600">
              <a:off x="5186160" y="2943000"/>
              <a:ext cx="444600" cy="34920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1" name=""/>
          <p:cNvSpPr/>
          <p:nvPr/>
        </p:nvSpPr>
        <p:spPr>
          <a:xfrm>
            <a:off x="685800" y="365760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stamp based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5" dur="indefinite" restart="never" nodeType="tmRoot">
          <p:childTnLst>
            <p:seq>
              <p:cTn id="5376" dur="indefinite" nodeType="mainSeq">
                <p:childTnLst>
                  <p:par>
                    <p:cTn id="5377" fill="hold">
                      <p:stCondLst>
                        <p:cond delay="0"/>
                      </p:stCondLst>
                      <p:childTnLst>
                        <p:par>
                          <p:cTn id="5378" fill="hold">
                            <p:stCondLst>
                              <p:cond delay="0"/>
                            </p:stCondLst>
                            <p:childTnLst>
                              <p:par>
                                <p:cTn id="53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1" dur="500" fill="hold"/>
                                        <p:tgtEl>
                                          <p:spTgt spid="3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2" dur="500" fill="hold"/>
                                        <p:tgtEl>
                                          <p:spTgt spid="3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3" fill="hold">
                      <p:stCondLst>
                        <p:cond delay="indefinite"/>
                      </p:stCondLst>
                      <p:childTnLst>
                        <p:par>
                          <p:cTn id="5384" fill="hold">
                            <p:stCondLst>
                              <p:cond delay="0"/>
                            </p:stCondLst>
                            <p:childTnLst>
                              <p:par>
                                <p:cTn id="5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7" dur="500"/>
                                        <p:tgtEl>
                                          <p:spTgt spid="3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8" fill="hold">
                            <p:stCondLst>
                              <p:cond delay="500"/>
                            </p:stCondLst>
                            <p:childTnLst>
                              <p:par>
                                <p:cTn id="5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1" dur="500" fill="hold"/>
                                        <p:tgtEl>
                                          <p:spTgt spid="3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2" dur="500" fill="hold"/>
                                        <p:tgtEl>
                                          <p:spTgt spid="3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cking Protoc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e a lock with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king Protoc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 access (Read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lusive access (Writ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Phase Lock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ing phase (obtain lock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rinking phase (release lock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iz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of conflicting operations by first lo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Deadlo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3" dur="indefinite" restart="never" nodeType="tmRoot">
          <p:childTnLst>
            <p:seq>
              <p:cTn id="5394" dur="indefinite" nodeType="mainSeq">
                <p:childTnLst>
                  <p:par>
                    <p:cTn id="5395" fill="hold">
                      <p:stCondLst>
                        <p:cond delay="indefinite"/>
                      </p:stCondLst>
                      <p:childTnLst>
                        <p:par>
                          <p:cTn id="5396" fill="hold">
                            <p:stCondLst>
                              <p:cond delay="0"/>
                            </p:stCondLst>
                            <p:childTnLst>
                              <p:par>
                                <p:cTn id="5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9" dur="500"/>
                                        <p:tgtEl>
                                          <p:spTgt spid="3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0" fill="hold">
                      <p:stCondLst>
                        <p:cond delay="indefinite"/>
                      </p:stCondLst>
                      <p:childTnLst>
                        <p:par>
                          <p:cTn id="5401" fill="hold">
                            <p:stCondLst>
                              <p:cond delay="0"/>
                            </p:stCondLst>
                            <p:childTnLst>
                              <p:par>
                                <p:cTn id="5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4" dur="500"/>
                                        <p:tgtEl>
                                          <p:spTgt spid="3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7" dur="500"/>
                                        <p:tgtEl>
                                          <p:spTgt spid="3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0" dur="500"/>
                                        <p:tgtEl>
                                          <p:spTgt spid="3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3" dur="500"/>
                                        <p:tgtEl>
                                          <p:spTgt spid="3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6" dur="500"/>
                                        <p:tgtEl>
                                          <p:spTgt spid="3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9" dur="500"/>
                                        <p:tgtEl>
                                          <p:spTgt spid="3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0" fill="hold">
                      <p:stCondLst>
                        <p:cond delay="indefinite"/>
                      </p:stCondLst>
                      <p:childTnLst>
                        <p:par>
                          <p:cTn id="5421" fill="hold">
                            <p:stCondLst>
                              <p:cond delay="0"/>
                            </p:stCondLst>
                            <p:childTnLst>
                              <p:par>
                                <p:cTn id="5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4" dur="500"/>
                                        <p:tgtEl>
                                          <p:spTgt spid="3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7" dur="500"/>
                                        <p:tgtEl>
                                          <p:spTgt spid="3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8" fill="hold">
                      <p:stCondLst>
                        <p:cond delay="indefinite"/>
                      </p:stCondLst>
                      <p:childTnLst>
                        <p:par>
                          <p:cTn id="5429" fill="hold">
                            <p:stCondLst>
                              <p:cond delay="0"/>
                            </p:stCondLst>
                            <p:childTnLst>
                              <p:par>
                                <p:cTn id="5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2" dur="500"/>
                                        <p:tgtEl>
                                          <p:spTgt spid="3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"/>
          <p:cNvSpPr/>
          <p:nvPr/>
        </p:nvSpPr>
        <p:spPr>
          <a:xfrm>
            <a:off x="914400" y="1981080"/>
            <a:ext cx="1905120" cy="13716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>
            <a:off x="3505320" y="1676520"/>
            <a:ext cx="1676160" cy="23619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cking Protoc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"/>
          <p:cNvSpPr/>
          <p:nvPr/>
        </p:nvSpPr>
        <p:spPr>
          <a:xfrm>
            <a:off x="3657600" y="2209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3657600" y="31845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>
            <a:off x="914400" y="4114800"/>
            <a:ext cx="1905120" cy="13716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>
            <a:off x="5486400" y="2057400"/>
            <a:ext cx="1676520" cy="30481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>
            <a:off x="5638680" y="2590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>
            <a:off x="5638680" y="42512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5638680" y="28954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write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5638680" y="45561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>
            <a:off x="4444200" y="5105520"/>
            <a:ext cx="1440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; 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6" name=""/>
          <p:cNvGrpSpPr/>
          <p:nvPr/>
        </p:nvGrpSpPr>
        <p:grpSpPr>
          <a:xfrm>
            <a:off x="1219320" y="2286000"/>
            <a:ext cx="685440" cy="909720"/>
            <a:chOff x="1219320" y="2286000"/>
            <a:chExt cx="685440" cy="909720"/>
          </a:xfrm>
        </p:grpSpPr>
        <p:sp>
          <p:nvSpPr>
            <p:cNvPr id="3197" name=""/>
            <p:cNvSpPr/>
            <p:nvPr/>
          </p:nvSpPr>
          <p:spPr>
            <a:xfrm>
              <a:off x="1222920" y="2634840"/>
              <a:ext cx="681840" cy="56088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1219320" y="2535840"/>
              <a:ext cx="679680" cy="20592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1523160" y="2819880"/>
              <a:ext cx="82440" cy="26208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1329480" y="2286000"/>
              <a:ext cx="484200" cy="36180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1" name=""/>
          <p:cNvSpPr/>
          <p:nvPr/>
        </p:nvSpPr>
        <p:spPr>
          <a:xfrm>
            <a:off x="685800" y="3048120"/>
            <a:ext cx="1828800" cy="685800"/>
          </a:xfrm>
          <a:custGeom>
            <a:avLst/>
            <a:gdLst>
              <a:gd name="textAreaLeft" fmla="*/ 457200 w 1828800"/>
              <a:gd name="textAreaRight" fmla="*/ 1371600 w 1828800"/>
              <a:gd name="textAreaTop" fmla="*/ 6192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488" stAng="16200000" swAng="5400000"/>
                <a:lnTo>
                  <a:pt x="8100" y="1950"/>
                </a:lnTo>
                <a:lnTo>
                  <a:pt x="13500" y="1950"/>
                </a:lnTo>
                <a:lnTo>
                  <a:pt x="13500" y="488"/>
                </a:lnTo>
                <a:arcTo wR="675" hR="488" stAng="10800000" swAng="5400000"/>
                <a:lnTo>
                  <a:pt x="21600" y="0"/>
                </a:lnTo>
                <a:lnTo>
                  <a:pt x="18900" y="9825"/>
                </a:lnTo>
                <a:lnTo>
                  <a:pt x="21600" y="19650"/>
                </a:lnTo>
                <a:lnTo>
                  <a:pt x="16200" y="19650"/>
                </a:lnTo>
                <a:lnTo>
                  <a:pt x="16200" y="21113"/>
                </a:lnTo>
                <a:arcTo wR="675" hR="488" stAng="0" swAng="5400000"/>
                <a:lnTo>
                  <a:pt x="6075" y="21600"/>
                </a:lnTo>
                <a:arcTo wR="675" hR="488" stAng="5400000" swAng="5400000"/>
                <a:lnTo>
                  <a:pt x="5400" y="19650"/>
                </a:lnTo>
                <a:lnTo>
                  <a:pt x="0" y="19650"/>
                </a:lnTo>
                <a:lnTo>
                  <a:pt x="2700" y="9825"/>
                </a:lnTo>
                <a:close/>
              </a:path>
              <a:path fill="none" w="21600" h="21600">
                <a:moveTo>
                  <a:pt x="8100" y="488"/>
                </a:moveTo>
                <a:arcTo wR="675" hR="488" stAng="0" swAng="5400000"/>
                <a:lnTo>
                  <a:pt x="6075" y="975"/>
                </a:lnTo>
                <a:arcTo wR="675" hR="488" stAng="16200000" swAng="-5400000"/>
                <a:arcTo wR="675" hR="488" stAng="10800000" swAng="-5400000"/>
                <a:lnTo>
                  <a:pt x="8100" y="1950"/>
                </a:lnTo>
              </a:path>
              <a:path fill="none" w="21600" h="21600">
                <a:moveTo>
                  <a:pt x="13500" y="488"/>
                </a:moveTo>
                <a:arcTo wR="675" hR="488" stAng="10800000" swAng="-5400000"/>
                <a:lnTo>
                  <a:pt x="15525" y="975"/>
                </a:lnTo>
                <a:arcTo wR="675" hR="488" stAng="16200000" swAng="5400000"/>
                <a:arcTo wR="675" hR="488" stAng="0" swAng="5400000"/>
                <a:lnTo>
                  <a:pt x="13500" y="1950"/>
                </a:lnTo>
              </a:path>
              <a:path fill="none" w="21600" h="21600">
                <a:moveTo>
                  <a:pt x="5400" y="1463"/>
                </a:moveTo>
                <a:lnTo>
                  <a:pt x="5400" y="19650"/>
                </a:lnTo>
              </a:path>
              <a:path fill="none" w="21600" h="21600">
                <a:moveTo>
                  <a:pt x="16200" y="1463"/>
                </a:moveTo>
                <a:lnTo>
                  <a:pt x="16200" y="1965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685800" y="3048120"/>
            <a:ext cx="1828800" cy="685800"/>
          </a:xfrm>
          <a:custGeom>
            <a:avLst/>
            <a:gdLst>
              <a:gd name="textAreaLeft" fmla="*/ 457200 w 1828800"/>
              <a:gd name="textAreaRight" fmla="*/ 1371600 w 1828800"/>
              <a:gd name="textAreaTop" fmla="*/ 6192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488" stAng="16200000" swAng="5400000"/>
                <a:lnTo>
                  <a:pt x="8100" y="1950"/>
                </a:lnTo>
                <a:lnTo>
                  <a:pt x="13500" y="1950"/>
                </a:lnTo>
                <a:lnTo>
                  <a:pt x="13500" y="488"/>
                </a:lnTo>
                <a:arcTo wR="675" hR="488" stAng="10800000" swAng="5400000"/>
                <a:lnTo>
                  <a:pt x="21600" y="0"/>
                </a:lnTo>
                <a:lnTo>
                  <a:pt x="18900" y="9825"/>
                </a:lnTo>
                <a:lnTo>
                  <a:pt x="21600" y="19650"/>
                </a:lnTo>
                <a:lnTo>
                  <a:pt x="16200" y="19650"/>
                </a:lnTo>
                <a:lnTo>
                  <a:pt x="16200" y="21113"/>
                </a:lnTo>
                <a:arcTo wR="675" hR="488" stAng="0" swAng="5400000"/>
                <a:lnTo>
                  <a:pt x="6075" y="21600"/>
                </a:lnTo>
                <a:arcTo wR="675" hR="488" stAng="5400000" swAng="5400000"/>
                <a:lnTo>
                  <a:pt x="5400" y="19650"/>
                </a:lnTo>
                <a:lnTo>
                  <a:pt x="0" y="19650"/>
                </a:lnTo>
                <a:lnTo>
                  <a:pt x="2700" y="9825"/>
                </a:lnTo>
                <a:close/>
              </a:path>
              <a:path fill="none" w="21600" h="21600">
                <a:moveTo>
                  <a:pt x="8100" y="488"/>
                </a:moveTo>
                <a:arcTo wR="675" hR="488" stAng="0" swAng="5400000"/>
                <a:lnTo>
                  <a:pt x="6075" y="975"/>
                </a:lnTo>
                <a:arcTo wR="675" hR="488" stAng="16200000" swAng="-5400000"/>
                <a:arcTo wR="675" hR="488" stAng="10800000" swAng="-5400000"/>
                <a:lnTo>
                  <a:pt x="8100" y="1950"/>
                </a:lnTo>
              </a:path>
              <a:path fill="none" w="21600" h="21600">
                <a:moveTo>
                  <a:pt x="13500" y="488"/>
                </a:moveTo>
                <a:arcTo wR="675" hR="488" stAng="10800000" swAng="-5400000"/>
                <a:lnTo>
                  <a:pt x="15525" y="975"/>
                </a:lnTo>
                <a:arcTo wR="675" hR="488" stAng="16200000" swAng="5400000"/>
                <a:arcTo wR="675" hR="488" stAng="0" swAng="5400000"/>
                <a:lnTo>
                  <a:pt x="13500" y="1950"/>
                </a:lnTo>
              </a:path>
              <a:path fill="none" w="21600" h="21600">
                <a:moveTo>
                  <a:pt x="5400" y="1463"/>
                </a:moveTo>
                <a:lnTo>
                  <a:pt x="5400" y="19650"/>
                </a:lnTo>
              </a:path>
              <a:path fill="none" w="21600" h="21600">
                <a:moveTo>
                  <a:pt x="16200" y="1463"/>
                </a:moveTo>
                <a:lnTo>
                  <a:pt x="16200" y="1965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3" name=""/>
          <p:cNvGrpSpPr/>
          <p:nvPr/>
        </p:nvGrpSpPr>
        <p:grpSpPr>
          <a:xfrm>
            <a:off x="1219320" y="4572000"/>
            <a:ext cx="685440" cy="909720"/>
            <a:chOff x="1219320" y="4572000"/>
            <a:chExt cx="685440" cy="909720"/>
          </a:xfrm>
        </p:grpSpPr>
        <p:sp>
          <p:nvSpPr>
            <p:cNvPr id="3204" name=""/>
            <p:cNvSpPr/>
            <p:nvPr/>
          </p:nvSpPr>
          <p:spPr>
            <a:xfrm>
              <a:off x="1222920" y="4920840"/>
              <a:ext cx="681840" cy="56088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1219320" y="4821840"/>
              <a:ext cx="679680" cy="20592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1523160" y="5105880"/>
              <a:ext cx="82440" cy="26208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1329480" y="4572000"/>
              <a:ext cx="484200" cy="36180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8" name=""/>
          <p:cNvSpPr/>
          <p:nvPr/>
        </p:nvSpPr>
        <p:spPr>
          <a:xfrm>
            <a:off x="685800" y="5334120"/>
            <a:ext cx="1828800" cy="685800"/>
          </a:xfrm>
          <a:custGeom>
            <a:avLst/>
            <a:gdLst>
              <a:gd name="textAreaLeft" fmla="*/ 457200 w 1828800"/>
              <a:gd name="textAreaRight" fmla="*/ 1371600 w 1828800"/>
              <a:gd name="textAreaTop" fmla="*/ 6192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488" stAng="16200000" swAng="5400000"/>
                <a:lnTo>
                  <a:pt x="8100" y="1950"/>
                </a:lnTo>
                <a:lnTo>
                  <a:pt x="13500" y="1950"/>
                </a:lnTo>
                <a:lnTo>
                  <a:pt x="13500" y="488"/>
                </a:lnTo>
                <a:arcTo wR="675" hR="488" stAng="10800000" swAng="5400000"/>
                <a:lnTo>
                  <a:pt x="21600" y="0"/>
                </a:lnTo>
                <a:lnTo>
                  <a:pt x="18900" y="9825"/>
                </a:lnTo>
                <a:lnTo>
                  <a:pt x="21600" y="19650"/>
                </a:lnTo>
                <a:lnTo>
                  <a:pt x="16200" y="19650"/>
                </a:lnTo>
                <a:lnTo>
                  <a:pt x="16200" y="21113"/>
                </a:lnTo>
                <a:arcTo wR="675" hR="488" stAng="0" swAng="5400000"/>
                <a:lnTo>
                  <a:pt x="6075" y="21600"/>
                </a:lnTo>
                <a:arcTo wR="675" hR="488" stAng="5400000" swAng="5400000"/>
                <a:lnTo>
                  <a:pt x="5400" y="19650"/>
                </a:lnTo>
                <a:lnTo>
                  <a:pt x="0" y="19650"/>
                </a:lnTo>
                <a:lnTo>
                  <a:pt x="2700" y="9825"/>
                </a:lnTo>
                <a:close/>
              </a:path>
              <a:path fill="none" w="21600" h="21600">
                <a:moveTo>
                  <a:pt x="8100" y="488"/>
                </a:moveTo>
                <a:arcTo wR="675" hR="488" stAng="0" swAng="5400000"/>
                <a:lnTo>
                  <a:pt x="6075" y="975"/>
                </a:lnTo>
                <a:arcTo wR="675" hR="488" stAng="16200000" swAng="-5400000"/>
                <a:arcTo wR="675" hR="488" stAng="10800000" swAng="-5400000"/>
                <a:lnTo>
                  <a:pt x="8100" y="1950"/>
                </a:lnTo>
              </a:path>
              <a:path fill="none" w="21600" h="21600">
                <a:moveTo>
                  <a:pt x="13500" y="488"/>
                </a:moveTo>
                <a:arcTo wR="675" hR="488" stAng="10800000" swAng="-5400000"/>
                <a:lnTo>
                  <a:pt x="15525" y="975"/>
                </a:lnTo>
                <a:arcTo wR="675" hR="488" stAng="16200000" swAng="5400000"/>
                <a:arcTo wR="675" hR="488" stAng="0" swAng="5400000"/>
                <a:lnTo>
                  <a:pt x="13500" y="1950"/>
                </a:lnTo>
              </a:path>
              <a:path fill="none" w="21600" h="21600">
                <a:moveTo>
                  <a:pt x="5400" y="1463"/>
                </a:moveTo>
                <a:lnTo>
                  <a:pt x="5400" y="19650"/>
                </a:lnTo>
              </a:path>
              <a:path fill="none" w="21600" h="21600">
                <a:moveTo>
                  <a:pt x="16200" y="1463"/>
                </a:moveTo>
                <a:lnTo>
                  <a:pt x="16200" y="1965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5638680" y="37180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write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6159600" y="3200400"/>
            <a:ext cx="164880" cy="609480"/>
          </a:xfrm>
          <a:custGeom>
            <a:avLst/>
            <a:gdLst/>
            <a:ahLst/>
            <a:rect l="l" t="t" r="r" b="b"/>
            <a:pathLst>
              <a:path w="104" h="384">
                <a:moveTo>
                  <a:pt x="56" y="0"/>
                </a:moveTo>
                <a:cubicBezTo>
                  <a:pt x="28" y="32"/>
                  <a:pt x="0" y="64"/>
                  <a:pt x="8" y="96"/>
                </a:cubicBezTo>
                <a:cubicBezTo>
                  <a:pt x="16" y="128"/>
                  <a:pt x="104" y="168"/>
                  <a:pt x="104" y="192"/>
                </a:cubicBezTo>
                <a:cubicBezTo>
                  <a:pt x="104" y="216"/>
                  <a:pt x="16" y="208"/>
                  <a:pt x="8" y="240"/>
                </a:cubicBezTo>
                <a:cubicBezTo>
                  <a:pt x="0" y="272"/>
                  <a:pt x="28" y="328"/>
                  <a:pt x="56" y="384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6886440" y="3287880"/>
            <a:ext cx="962280" cy="398880"/>
          </a:xfrm>
          <a:prstGeom prst="borderCallout1">
            <a:avLst>
              <a:gd name="adj1" fmla="val 18750"/>
              <a:gd name="adj2" fmla="val -8333"/>
              <a:gd name="adj3" fmla="val 27231"/>
              <a:gd name="adj4" fmla="val -63347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>
            <a:off x="380880" y="4419720"/>
            <a:ext cx="274320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>
            <a:off x="914400" y="4114800"/>
            <a:ext cx="1905120" cy="13716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4" name=""/>
          <p:cNvGrpSpPr/>
          <p:nvPr/>
        </p:nvGrpSpPr>
        <p:grpSpPr>
          <a:xfrm>
            <a:off x="1371600" y="4724280"/>
            <a:ext cx="685440" cy="909720"/>
            <a:chOff x="1371600" y="4724280"/>
            <a:chExt cx="685440" cy="909720"/>
          </a:xfrm>
        </p:grpSpPr>
        <p:sp>
          <p:nvSpPr>
            <p:cNvPr id="3215" name=""/>
            <p:cNvSpPr/>
            <p:nvPr/>
          </p:nvSpPr>
          <p:spPr>
            <a:xfrm>
              <a:off x="1375200" y="5073120"/>
              <a:ext cx="681840" cy="56088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1371600" y="4974120"/>
              <a:ext cx="679680" cy="20592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1675440" y="5258160"/>
              <a:ext cx="82440" cy="26208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1481760" y="4724280"/>
              <a:ext cx="484200" cy="36180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9" name=""/>
          <p:cNvSpPr/>
          <p:nvPr/>
        </p:nvSpPr>
        <p:spPr>
          <a:xfrm>
            <a:off x="685800" y="5334120"/>
            <a:ext cx="1828800" cy="685800"/>
          </a:xfrm>
          <a:custGeom>
            <a:avLst/>
            <a:gdLst>
              <a:gd name="textAreaLeft" fmla="*/ 457200 w 1828800"/>
              <a:gd name="textAreaRight" fmla="*/ 1371600 w 1828800"/>
              <a:gd name="textAreaTop" fmla="*/ 6192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488" stAng="16200000" swAng="5400000"/>
                <a:lnTo>
                  <a:pt x="8100" y="1950"/>
                </a:lnTo>
                <a:lnTo>
                  <a:pt x="13500" y="1950"/>
                </a:lnTo>
                <a:lnTo>
                  <a:pt x="13500" y="488"/>
                </a:lnTo>
                <a:arcTo wR="675" hR="488" stAng="10800000" swAng="5400000"/>
                <a:lnTo>
                  <a:pt x="21600" y="0"/>
                </a:lnTo>
                <a:lnTo>
                  <a:pt x="18900" y="9825"/>
                </a:lnTo>
                <a:lnTo>
                  <a:pt x="21600" y="19650"/>
                </a:lnTo>
                <a:lnTo>
                  <a:pt x="16200" y="19650"/>
                </a:lnTo>
                <a:lnTo>
                  <a:pt x="16200" y="21113"/>
                </a:lnTo>
                <a:arcTo wR="675" hR="488" stAng="0" swAng="5400000"/>
                <a:lnTo>
                  <a:pt x="6075" y="21600"/>
                </a:lnTo>
                <a:arcTo wR="675" hR="488" stAng="5400000" swAng="5400000"/>
                <a:lnTo>
                  <a:pt x="5400" y="19650"/>
                </a:lnTo>
                <a:lnTo>
                  <a:pt x="0" y="19650"/>
                </a:lnTo>
                <a:lnTo>
                  <a:pt x="2700" y="9825"/>
                </a:lnTo>
                <a:close/>
              </a:path>
              <a:path fill="none" w="21600" h="21600">
                <a:moveTo>
                  <a:pt x="8100" y="488"/>
                </a:moveTo>
                <a:arcTo wR="675" hR="488" stAng="0" swAng="5400000"/>
                <a:lnTo>
                  <a:pt x="6075" y="975"/>
                </a:lnTo>
                <a:arcTo wR="675" hR="488" stAng="16200000" swAng="-5400000"/>
                <a:arcTo wR="675" hR="488" stAng="10800000" swAng="-5400000"/>
                <a:lnTo>
                  <a:pt x="8100" y="1950"/>
                </a:lnTo>
              </a:path>
              <a:path fill="none" w="21600" h="21600">
                <a:moveTo>
                  <a:pt x="13500" y="488"/>
                </a:moveTo>
                <a:arcTo wR="675" hR="488" stAng="10800000" swAng="-5400000"/>
                <a:lnTo>
                  <a:pt x="15525" y="975"/>
                </a:lnTo>
                <a:arcTo wR="675" hR="488" stAng="16200000" swAng="5400000"/>
                <a:arcTo wR="675" hR="488" stAng="0" swAng="5400000"/>
                <a:lnTo>
                  <a:pt x="13500" y="1950"/>
                </a:lnTo>
              </a:path>
              <a:path fill="none" w="21600" h="21600">
                <a:moveTo>
                  <a:pt x="5400" y="1463"/>
                </a:moveTo>
                <a:lnTo>
                  <a:pt x="5400" y="19650"/>
                </a:lnTo>
              </a:path>
              <a:path fill="none" w="21600" h="21600">
                <a:moveTo>
                  <a:pt x="16200" y="1463"/>
                </a:moveTo>
                <a:lnTo>
                  <a:pt x="16200" y="1965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685800" y="5334120"/>
            <a:ext cx="1828800" cy="685800"/>
          </a:xfrm>
          <a:custGeom>
            <a:avLst/>
            <a:gdLst>
              <a:gd name="textAreaLeft" fmla="*/ 457200 w 1828800"/>
              <a:gd name="textAreaRight" fmla="*/ 1371600 w 1828800"/>
              <a:gd name="textAreaTop" fmla="*/ 6192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488" stAng="16200000" swAng="5400000"/>
                <a:lnTo>
                  <a:pt x="8100" y="1950"/>
                </a:lnTo>
                <a:lnTo>
                  <a:pt x="13500" y="1950"/>
                </a:lnTo>
                <a:lnTo>
                  <a:pt x="13500" y="488"/>
                </a:lnTo>
                <a:arcTo wR="675" hR="488" stAng="10800000" swAng="5400000"/>
                <a:lnTo>
                  <a:pt x="21600" y="0"/>
                </a:lnTo>
                <a:lnTo>
                  <a:pt x="18900" y="9825"/>
                </a:lnTo>
                <a:lnTo>
                  <a:pt x="21600" y="19650"/>
                </a:lnTo>
                <a:lnTo>
                  <a:pt x="16200" y="19650"/>
                </a:lnTo>
                <a:lnTo>
                  <a:pt x="16200" y="21113"/>
                </a:lnTo>
                <a:arcTo wR="675" hR="488" stAng="0" swAng="5400000"/>
                <a:lnTo>
                  <a:pt x="6075" y="21600"/>
                </a:lnTo>
                <a:arcTo wR="675" hR="488" stAng="5400000" swAng="5400000"/>
                <a:lnTo>
                  <a:pt x="5400" y="19650"/>
                </a:lnTo>
                <a:lnTo>
                  <a:pt x="0" y="19650"/>
                </a:lnTo>
                <a:lnTo>
                  <a:pt x="2700" y="9825"/>
                </a:lnTo>
                <a:close/>
              </a:path>
              <a:path fill="none" w="21600" h="21600">
                <a:moveTo>
                  <a:pt x="8100" y="488"/>
                </a:moveTo>
                <a:arcTo wR="675" hR="488" stAng="0" swAng="5400000"/>
                <a:lnTo>
                  <a:pt x="6075" y="975"/>
                </a:lnTo>
                <a:arcTo wR="675" hR="488" stAng="16200000" swAng="-5400000"/>
                <a:arcTo wR="675" hR="488" stAng="10800000" swAng="-5400000"/>
                <a:lnTo>
                  <a:pt x="8100" y="1950"/>
                </a:lnTo>
              </a:path>
              <a:path fill="none" w="21600" h="21600">
                <a:moveTo>
                  <a:pt x="13500" y="488"/>
                </a:moveTo>
                <a:arcTo wR="675" hR="488" stAng="10800000" swAng="-5400000"/>
                <a:lnTo>
                  <a:pt x="15525" y="975"/>
                </a:lnTo>
                <a:arcTo wR="675" hR="488" stAng="16200000" swAng="5400000"/>
                <a:arcTo wR="675" hR="488" stAng="0" swAng="5400000"/>
                <a:lnTo>
                  <a:pt x="13500" y="1950"/>
                </a:lnTo>
              </a:path>
              <a:path fill="none" w="21600" h="21600">
                <a:moveTo>
                  <a:pt x="5400" y="1463"/>
                </a:moveTo>
                <a:lnTo>
                  <a:pt x="5400" y="19650"/>
                </a:lnTo>
              </a:path>
              <a:path fill="none" w="21600" h="21600">
                <a:moveTo>
                  <a:pt x="16200" y="1463"/>
                </a:moveTo>
                <a:lnTo>
                  <a:pt x="16200" y="1965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1" name=""/>
          <p:cNvGrpSpPr/>
          <p:nvPr/>
        </p:nvGrpSpPr>
        <p:grpSpPr>
          <a:xfrm>
            <a:off x="3505320" y="1676520"/>
            <a:ext cx="1676160" cy="2361960"/>
            <a:chOff x="3505320" y="1676520"/>
            <a:chExt cx="1676160" cy="2361960"/>
          </a:xfrm>
        </p:grpSpPr>
        <p:sp>
          <p:nvSpPr>
            <p:cNvPr id="3222" name=""/>
            <p:cNvSpPr/>
            <p:nvPr/>
          </p:nvSpPr>
          <p:spPr>
            <a:xfrm>
              <a:off x="3505320" y="1676520"/>
              <a:ext cx="1676160" cy="23619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T</a:t>
              </a:r>
              <a:r>
                <a:rPr b="1" lang="en-US" sz="2000" spc="-1" strike="noStrike" baseline="-25000">
                  <a:solidFill>
                    <a:srgbClr val="00279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3657600" y="22096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ad (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3657600" y="318456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ad (B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5" name=""/>
          <p:cNvSpPr/>
          <p:nvPr/>
        </p:nvSpPr>
        <p:spPr>
          <a:xfrm>
            <a:off x="685800" y="3048120"/>
            <a:ext cx="1828800" cy="685800"/>
          </a:xfrm>
          <a:custGeom>
            <a:avLst/>
            <a:gdLst>
              <a:gd name="textAreaLeft" fmla="*/ 457200 w 1828800"/>
              <a:gd name="textAreaRight" fmla="*/ 1371600 w 1828800"/>
              <a:gd name="textAreaTop" fmla="*/ 6192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488" stAng="16200000" swAng="5400000"/>
                <a:lnTo>
                  <a:pt x="8100" y="1950"/>
                </a:lnTo>
                <a:lnTo>
                  <a:pt x="13500" y="1950"/>
                </a:lnTo>
                <a:lnTo>
                  <a:pt x="13500" y="488"/>
                </a:lnTo>
                <a:arcTo wR="675" hR="488" stAng="10800000" swAng="5400000"/>
                <a:lnTo>
                  <a:pt x="21600" y="0"/>
                </a:lnTo>
                <a:lnTo>
                  <a:pt x="18900" y="9825"/>
                </a:lnTo>
                <a:lnTo>
                  <a:pt x="21600" y="19650"/>
                </a:lnTo>
                <a:lnTo>
                  <a:pt x="16200" y="19650"/>
                </a:lnTo>
                <a:lnTo>
                  <a:pt x="16200" y="21113"/>
                </a:lnTo>
                <a:arcTo wR="675" hR="488" stAng="0" swAng="5400000"/>
                <a:lnTo>
                  <a:pt x="6075" y="21600"/>
                </a:lnTo>
                <a:arcTo wR="675" hR="488" stAng="5400000" swAng="5400000"/>
                <a:lnTo>
                  <a:pt x="5400" y="19650"/>
                </a:lnTo>
                <a:lnTo>
                  <a:pt x="0" y="19650"/>
                </a:lnTo>
                <a:lnTo>
                  <a:pt x="2700" y="9825"/>
                </a:lnTo>
                <a:close/>
              </a:path>
              <a:path fill="none" w="21600" h="21600">
                <a:moveTo>
                  <a:pt x="8100" y="488"/>
                </a:moveTo>
                <a:arcTo wR="675" hR="488" stAng="0" swAng="5400000"/>
                <a:lnTo>
                  <a:pt x="6075" y="975"/>
                </a:lnTo>
                <a:arcTo wR="675" hR="488" stAng="16200000" swAng="-5400000"/>
                <a:arcTo wR="675" hR="488" stAng="10800000" swAng="-5400000"/>
                <a:lnTo>
                  <a:pt x="8100" y="1950"/>
                </a:lnTo>
              </a:path>
              <a:path fill="none" w="21600" h="21600">
                <a:moveTo>
                  <a:pt x="13500" y="488"/>
                </a:moveTo>
                <a:arcTo wR="675" hR="488" stAng="10800000" swAng="-5400000"/>
                <a:lnTo>
                  <a:pt x="15525" y="975"/>
                </a:lnTo>
                <a:arcTo wR="675" hR="488" stAng="16200000" swAng="5400000"/>
                <a:arcTo wR="675" hR="488" stAng="0" swAng="5400000"/>
                <a:lnTo>
                  <a:pt x="13500" y="1950"/>
                </a:lnTo>
              </a:path>
              <a:path fill="none" w="21600" h="21600">
                <a:moveTo>
                  <a:pt x="5400" y="1463"/>
                </a:moveTo>
                <a:lnTo>
                  <a:pt x="5400" y="19650"/>
                </a:lnTo>
              </a:path>
              <a:path fill="none" w="21600" h="21600">
                <a:moveTo>
                  <a:pt x="16200" y="1463"/>
                </a:moveTo>
                <a:lnTo>
                  <a:pt x="16200" y="1965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>
            <a:off x="685800" y="3048120"/>
            <a:ext cx="1828800" cy="685800"/>
          </a:xfrm>
          <a:custGeom>
            <a:avLst/>
            <a:gdLst>
              <a:gd name="textAreaLeft" fmla="*/ 457200 w 1828800"/>
              <a:gd name="textAreaRight" fmla="*/ 1371600 w 1828800"/>
              <a:gd name="textAreaTop" fmla="*/ 6192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488" stAng="16200000" swAng="5400000"/>
                <a:lnTo>
                  <a:pt x="8100" y="1950"/>
                </a:lnTo>
                <a:lnTo>
                  <a:pt x="13500" y="1950"/>
                </a:lnTo>
                <a:lnTo>
                  <a:pt x="13500" y="488"/>
                </a:lnTo>
                <a:arcTo wR="675" hR="488" stAng="10800000" swAng="5400000"/>
                <a:lnTo>
                  <a:pt x="21600" y="0"/>
                </a:lnTo>
                <a:lnTo>
                  <a:pt x="18900" y="9825"/>
                </a:lnTo>
                <a:lnTo>
                  <a:pt x="21600" y="19650"/>
                </a:lnTo>
                <a:lnTo>
                  <a:pt x="16200" y="19650"/>
                </a:lnTo>
                <a:lnTo>
                  <a:pt x="16200" y="21113"/>
                </a:lnTo>
                <a:arcTo wR="675" hR="488" stAng="0" swAng="5400000"/>
                <a:lnTo>
                  <a:pt x="6075" y="21600"/>
                </a:lnTo>
                <a:arcTo wR="675" hR="488" stAng="5400000" swAng="5400000"/>
                <a:lnTo>
                  <a:pt x="5400" y="19650"/>
                </a:lnTo>
                <a:lnTo>
                  <a:pt x="0" y="19650"/>
                </a:lnTo>
                <a:lnTo>
                  <a:pt x="2700" y="9825"/>
                </a:lnTo>
                <a:close/>
              </a:path>
              <a:path fill="none" w="21600" h="21600">
                <a:moveTo>
                  <a:pt x="8100" y="488"/>
                </a:moveTo>
                <a:arcTo wR="675" hR="488" stAng="0" swAng="5400000"/>
                <a:lnTo>
                  <a:pt x="6075" y="975"/>
                </a:lnTo>
                <a:arcTo wR="675" hR="488" stAng="16200000" swAng="-5400000"/>
                <a:arcTo wR="675" hR="488" stAng="10800000" swAng="-5400000"/>
                <a:lnTo>
                  <a:pt x="8100" y="1950"/>
                </a:lnTo>
              </a:path>
              <a:path fill="none" w="21600" h="21600">
                <a:moveTo>
                  <a:pt x="13500" y="488"/>
                </a:moveTo>
                <a:arcTo wR="675" hR="488" stAng="10800000" swAng="-5400000"/>
                <a:lnTo>
                  <a:pt x="15525" y="975"/>
                </a:lnTo>
                <a:arcTo wR="675" hR="488" stAng="16200000" swAng="5400000"/>
                <a:arcTo wR="675" hR="488" stAng="0" swAng="5400000"/>
                <a:lnTo>
                  <a:pt x="13500" y="1950"/>
                </a:lnTo>
              </a:path>
              <a:path fill="none" w="21600" h="21600">
                <a:moveTo>
                  <a:pt x="5400" y="1463"/>
                </a:moveTo>
                <a:lnTo>
                  <a:pt x="5400" y="19650"/>
                </a:lnTo>
              </a:path>
              <a:path fill="none" w="21600" h="21600">
                <a:moveTo>
                  <a:pt x="16200" y="1463"/>
                </a:moveTo>
                <a:lnTo>
                  <a:pt x="16200" y="1965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7" name=""/>
          <p:cNvGrpSpPr/>
          <p:nvPr/>
        </p:nvGrpSpPr>
        <p:grpSpPr>
          <a:xfrm>
            <a:off x="7935480" y="1752480"/>
            <a:ext cx="527760" cy="3581280"/>
            <a:chOff x="7935480" y="1752480"/>
            <a:chExt cx="527760" cy="3581280"/>
          </a:xfrm>
        </p:grpSpPr>
        <p:sp>
          <p:nvSpPr>
            <p:cNvPr id="3228" name=""/>
            <p:cNvSpPr/>
            <p:nvPr/>
          </p:nvSpPr>
          <p:spPr>
            <a:xfrm>
              <a:off x="8382240" y="1752480"/>
              <a:ext cx="0" cy="3581280"/>
            </a:xfrm>
            <a:prstGeom prst="line">
              <a:avLst/>
            </a:prstGeom>
            <a:ln w="2844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 rot="16229400">
              <a:off x="7772760" y="35204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279f"/>
                  </a:solidFill>
                  <a:latin typeface="Arial"/>
                </a:rPr>
                <a:t>ti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3" dur="indefinite" restart="never" nodeType="tmRoot">
          <p:childTnLst>
            <p:seq>
              <p:cTn id="5434" dur="indefinite" nodeType="mainSeq">
                <p:childTnLst>
                  <p:par>
                    <p:cTn id="5435" fill="hold">
                      <p:stCondLst>
                        <p:cond delay="indefinite"/>
                      </p:stCondLst>
                      <p:childTnLst>
                        <p:par>
                          <p:cTn id="5436" fill="hold">
                            <p:stCondLst>
                              <p:cond delay="0"/>
                            </p:stCondLst>
                            <p:childTnLst>
                              <p:par>
                                <p:cTn id="5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9" dur="500"/>
                                        <p:tgtEl>
                                          <p:spTgt spid="3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3" dur="500"/>
                                        <p:tgtEl>
                                          <p:spTgt spid="3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4" fill="hold">
                      <p:stCondLst>
                        <p:cond delay="indefinite"/>
                      </p:stCondLst>
                      <p:childTnLst>
                        <p:par>
                          <p:cTn id="5445" fill="hold">
                            <p:stCondLst>
                              <p:cond delay="0"/>
                            </p:stCondLst>
                            <p:childTnLst>
                              <p:par>
                                <p:cTn id="5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8" dur="500"/>
                                        <p:tgtEl>
                                          <p:spTgt spid="3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9" fill="hold">
                            <p:stCondLst>
                              <p:cond delay="500"/>
                            </p:stCondLst>
                            <p:childTnLst>
                              <p:par>
                                <p:cTn id="54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2" dur="500"/>
                                        <p:tgtEl>
                                          <p:spTgt spid="3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56" dur="500"/>
                                        <p:tgtEl>
                                          <p:spTgt spid="3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7" fill="hold">
                      <p:stCondLst>
                        <p:cond delay="indefinite"/>
                      </p:stCondLst>
                      <p:childTnLst>
                        <p:par>
                          <p:cTn id="5458" fill="hold">
                            <p:stCondLst>
                              <p:cond delay="0"/>
                            </p:stCondLst>
                            <p:childTnLst>
                              <p:par>
                                <p:cTn id="5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1" dur="500"/>
                                        <p:tgtEl>
                                          <p:spTgt spid="3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2" fill="hold">
                      <p:stCondLst>
                        <p:cond delay="indefinite"/>
                      </p:stCondLst>
                      <p:childTnLst>
                        <p:par>
                          <p:cTn id="5463" fill="hold">
                            <p:stCondLst>
                              <p:cond delay="0"/>
                            </p:stCondLst>
                            <p:childTnLst>
                              <p:par>
                                <p:cTn id="5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6" dur="500" fill="hold"/>
                                        <p:tgtEl>
                                          <p:spTgt spid="3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7" dur="500" fill="hold"/>
                                        <p:tgtEl>
                                          <p:spTgt spid="3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8" fill="hold">
                            <p:stCondLst>
                              <p:cond delay="500"/>
                            </p:stCondLst>
                            <p:childTnLst>
                              <p:par>
                                <p:cTn id="54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1" dur="500" fill="hold"/>
                                        <p:tgtEl>
                                          <p:spTgt spid="3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2" dur="500" fill="hold"/>
                                        <p:tgtEl>
                                          <p:spTgt spid="3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3" fill="hold">
                      <p:stCondLst>
                        <p:cond delay="indefinite"/>
                      </p:stCondLst>
                      <p:childTnLst>
                        <p:par>
                          <p:cTn id="5474" fill="hold">
                            <p:stCondLst>
                              <p:cond delay="0"/>
                            </p:stCondLst>
                            <p:childTnLst>
                              <p:par>
                                <p:cTn id="5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7" dur="500"/>
                                        <p:tgtEl>
                                          <p:spTgt spid="3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8" fill="hold">
                            <p:stCondLst>
                              <p:cond delay="500"/>
                            </p:stCondLst>
                            <p:childTnLst>
                              <p:par>
                                <p:cTn id="54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1" dur="500" fill="hold"/>
                                        <p:tgtEl>
                                          <p:spTgt spid="3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2" dur="500" fill="hold"/>
                                        <p:tgtEl>
                                          <p:spTgt spid="3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3" fill="hold">
                      <p:stCondLst>
                        <p:cond delay="indefinite"/>
                      </p:stCondLst>
                      <p:childTnLst>
                        <p:par>
                          <p:cTn id="5484" fill="hold">
                            <p:stCondLst>
                              <p:cond delay="0"/>
                            </p:stCondLst>
                            <p:childTnLst>
                              <p:par>
                                <p:cTn id="5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7" dur="500"/>
                                        <p:tgtEl>
                                          <p:spTgt spid="3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8" fill="hold">
                            <p:stCondLst>
                              <p:cond delay="500"/>
                            </p:stCondLst>
                            <p:childTnLst>
                              <p:par>
                                <p:cTn id="54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91" dur="500"/>
                                        <p:tgtEl>
                                          <p:spTgt spid="3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95" dur="500"/>
                                        <p:tgtEl>
                                          <p:spTgt spid="3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6" fill="hold">
                      <p:stCondLst>
                        <p:cond delay="indefinite"/>
                      </p:stCondLst>
                      <p:childTnLst>
                        <p:par>
                          <p:cTn id="5497" fill="hold">
                            <p:stCondLst>
                              <p:cond delay="0"/>
                            </p:stCondLst>
                            <p:childTnLst>
                              <p:par>
                                <p:cTn id="5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0" dur="500"/>
                                        <p:tgtEl>
                                          <p:spTgt spid="3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5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4" dur="500" fill="hold"/>
                                        <p:tgtEl>
                                          <p:spTgt spid="3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5" dur="500" fill="hold"/>
                                        <p:tgtEl>
                                          <p:spTgt spid="3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9" dur="500" fill="hold"/>
                                        <p:tgtEl>
                                          <p:spTgt spid="3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0" dur="500" fill="hold"/>
                                        <p:tgtEl>
                                          <p:spTgt spid="3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1" fill="hold">
                      <p:stCondLst>
                        <p:cond delay="indefinite"/>
                      </p:stCondLst>
                      <p:childTnLst>
                        <p:par>
                          <p:cTn id="5512" fill="hold">
                            <p:stCondLst>
                              <p:cond delay="0"/>
                            </p:stCondLst>
                            <p:childTnLst>
                              <p:par>
                                <p:cTn id="5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5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8" dur="500" fill="hold"/>
                                        <p:tgtEl>
                                          <p:spTgt spid="3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9" dur="500" fill="hold"/>
                                        <p:tgtEl>
                                          <p:spTgt spid="3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3" fill="hold">
                            <p:stCondLst>
                              <p:cond delay="1500"/>
                            </p:stCondLst>
                            <p:childTnLst>
                              <p:par>
                                <p:cTn id="55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6" fill="hold">
                      <p:stCondLst>
                        <p:cond delay="indefinite"/>
                      </p:stCondLst>
                      <p:childTnLst>
                        <p:par>
                          <p:cTn id="5527" fill="hold">
                            <p:stCondLst>
                              <p:cond delay="0"/>
                            </p:stCondLst>
                            <p:childTnLst>
                              <p:par>
                                <p:cTn id="5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0" dur="500"/>
                                        <p:tgtEl>
                                          <p:spTgt spid="3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5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4" dur="500" fill="hold"/>
                                        <p:tgtEl>
                                          <p:spTgt spid="3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5" dur="500" fill="hold"/>
                                        <p:tgtEl>
                                          <p:spTgt spid="3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6" fill="hold">
                      <p:stCondLst>
                        <p:cond delay="indefinite"/>
                      </p:stCondLst>
                      <p:childTnLst>
                        <p:par>
                          <p:cTn id="5537" fill="hold">
                            <p:stCondLst>
                              <p:cond delay="0"/>
                            </p:stCondLst>
                            <p:childTnLst>
                              <p:par>
                                <p:cTn id="5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0" dur="500"/>
                                        <p:tgtEl>
                                          <p:spTgt spid="3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5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4" dur="500" fill="hold"/>
                                        <p:tgtEl>
                                          <p:spTgt spid="3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5" dur="500" fill="hold"/>
                                        <p:tgtEl>
                                          <p:spTgt spid="3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9" dur="500" fill="hold"/>
                                        <p:tgtEl>
                                          <p:spTgt spid="3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0" dur="500" fill="hold"/>
                                        <p:tgtEl>
                                          <p:spTgt spid="3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1" fill="hold">
                      <p:stCondLst>
                        <p:cond delay="indefinite"/>
                      </p:stCondLst>
                      <p:childTnLst>
                        <p:par>
                          <p:cTn id="5552" fill="hold">
                            <p:stCondLst>
                              <p:cond delay="0"/>
                            </p:stCondLst>
                            <p:childTnLst>
                              <p:par>
                                <p:cTn id="5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5" dur="500"/>
                                        <p:tgtEl>
                                          <p:spTgt spid="3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9" dur="500" fill="hold"/>
                                        <p:tgtEl>
                                          <p:spTgt spid="3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0" dur="500" fill="hold"/>
                                        <p:tgtEl>
                                          <p:spTgt spid="3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1" fill="hold">
                      <p:stCondLst>
                        <p:cond delay="indefinite"/>
                      </p:stCondLst>
                      <p:childTnLst>
                        <p:par>
                          <p:cTn id="5562" fill="hold">
                            <p:stCondLst>
                              <p:cond delay="0"/>
                            </p:stCondLst>
                            <p:childTnLst>
                              <p:par>
                                <p:cTn id="556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5" dur="500" fill="hold"/>
                                        <p:tgtEl>
                                          <p:spTgt spid="3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6" dur="500" fill="hold"/>
                                        <p:tgtEl>
                                          <p:spTgt spid="3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"/>
          <p:cNvSpPr/>
          <p:nvPr/>
        </p:nvSpPr>
        <p:spPr>
          <a:xfrm>
            <a:off x="914400" y="1981080"/>
            <a:ext cx="1905120" cy="13716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/>
          <p:nvPr/>
        </p:nvSpPr>
        <p:spPr>
          <a:xfrm>
            <a:off x="3505320" y="1676520"/>
            <a:ext cx="1676160" cy="23619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cking Protoc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"/>
          <p:cNvSpPr/>
          <p:nvPr/>
        </p:nvSpPr>
        <p:spPr>
          <a:xfrm>
            <a:off x="3657600" y="2209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>
            <a:off x="3657600" y="31845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write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914400" y="4114800"/>
            <a:ext cx="1905120" cy="13716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5486400" y="2057400"/>
            <a:ext cx="1676520" cy="23623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>
            <a:off x="5638680" y="2590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8" name=""/>
          <p:cNvGrpSpPr/>
          <p:nvPr/>
        </p:nvGrpSpPr>
        <p:grpSpPr>
          <a:xfrm>
            <a:off x="1219320" y="2286000"/>
            <a:ext cx="685440" cy="909720"/>
            <a:chOff x="1219320" y="2286000"/>
            <a:chExt cx="685440" cy="909720"/>
          </a:xfrm>
        </p:grpSpPr>
        <p:sp>
          <p:nvSpPr>
            <p:cNvPr id="3239" name=""/>
            <p:cNvSpPr/>
            <p:nvPr/>
          </p:nvSpPr>
          <p:spPr>
            <a:xfrm>
              <a:off x="1222920" y="2634840"/>
              <a:ext cx="681840" cy="56088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1219320" y="2535840"/>
              <a:ext cx="679680" cy="20592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1523160" y="2819880"/>
              <a:ext cx="82440" cy="26208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1329480" y="2286000"/>
              <a:ext cx="484200" cy="36180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3" name=""/>
          <p:cNvSpPr/>
          <p:nvPr/>
        </p:nvSpPr>
        <p:spPr>
          <a:xfrm>
            <a:off x="685800" y="3048120"/>
            <a:ext cx="1828800" cy="685800"/>
          </a:xfrm>
          <a:custGeom>
            <a:avLst/>
            <a:gdLst>
              <a:gd name="textAreaLeft" fmla="*/ 457200 w 1828800"/>
              <a:gd name="textAreaRight" fmla="*/ 1371600 w 1828800"/>
              <a:gd name="textAreaTop" fmla="*/ 6192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488" stAng="16200000" swAng="5400000"/>
                <a:lnTo>
                  <a:pt x="8100" y="1950"/>
                </a:lnTo>
                <a:lnTo>
                  <a:pt x="13500" y="1950"/>
                </a:lnTo>
                <a:lnTo>
                  <a:pt x="13500" y="488"/>
                </a:lnTo>
                <a:arcTo wR="675" hR="488" stAng="10800000" swAng="5400000"/>
                <a:lnTo>
                  <a:pt x="21600" y="0"/>
                </a:lnTo>
                <a:lnTo>
                  <a:pt x="18900" y="9825"/>
                </a:lnTo>
                <a:lnTo>
                  <a:pt x="21600" y="19650"/>
                </a:lnTo>
                <a:lnTo>
                  <a:pt x="16200" y="19650"/>
                </a:lnTo>
                <a:lnTo>
                  <a:pt x="16200" y="21113"/>
                </a:lnTo>
                <a:arcTo wR="675" hR="488" stAng="0" swAng="5400000"/>
                <a:lnTo>
                  <a:pt x="6075" y="21600"/>
                </a:lnTo>
                <a:arcTo wR="675" hR="488" stAng="5400000" swAng="5400000"/>
                <a:lnTo>
                  <a:pt x="5400" y="19650"/>
                </a:lnTo>
                <a:lnTo>
                  <a:pt x="0" y="19650"/>
                </a:lnTo>
                <a:lnTo>
                  <a:pt x="2700" y="9825"/>
                </a:lnTo>
                <a:close/>
              </a:path>
              <a:path fill="none" w="21600" h="21600">
                <a:moveTo>
                  <a:pt x="8100" y="488"/>
                </a:moveTo>
                <a:arcTo wR="675" hR="488" stAng="0" swAng="5400000"/>
                <a:lnTo>
                  <a:pt x="6075" y="975"/>
                </a:lnTo>
                <a:arcTo wR="675" hR="488" stAng="16200000" swAng="-5400000"/>
                <a:arcTo wR="675" hR="488" stAng="10800000" swAng="-5400000"/>
                <a:lnTo>
                  <a:pt x="8100" y="1950"/>
                </a:lnTo>
              </a:path>
              <a:path fill="none" w="21600" h="21600">
                <a:moveTo>
                  <a:pt x="13500" y="488"/>
                </a:moveTo>
                <a:arcTo wR="675" hR="488" stAng="10800000" swAng="-5400000"/>
                <a:lnTo>
                  <a:pt x="15525" y="975"/>
                </a:lnTo>
                <a:arcTo wR="675" hR="488" stAng="16200000" swAng="5400000"/>
                <a:arcTo wR="675" hR="488" stAng="0" swAng="5400000"/>
                <a:lnTo>
                  <a:pt x="13500" y="1950"/>
                </a:lnTo>
              </a:path>
              <a:path fill="none" w="21600" h="21600">
                <a:moveTo>
                  <a:pt x="5400" y="1463"/>
                </a:moveTo>
                <a:lnTo>
                  <a:pt x="5400" y="19650"/>
                </a:lnTo>
              </a:path>
              <a:path fill="none" w="21600" h="21600">
                <a:moveTo>
                  <a:pt x="16200" y="1463"/>
                </a:moveTo>
                <a:lnTo>
                  <a:pt x="16200" y="1965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4" name=""/>
          <p:cNvGrpSpPr/>
          <p:nvPr/>
        </p:nvGrpSpPr>
        <p:grpSpPr>
          <a:xfrm>
            <a:off x="1219320" y="4572000"/>
            <a:ext cx="685440" cy="909720"/>
            <a:chOff x="1219320" y="4572000"/>
            <a:chExt cx="685440" cy="909720"/>
          </a:xfrm>
        </p:grpSpPr>
        <p:sp>
          <p:nvSpPr>
            <p:cNvPr id="3245" name=""/>
            <p:cNvSpPr/>
            <p:nvPr/>
          </p:nvSpPr>
          <p:spPr>
            <a:xfrm>
              <a:off x="1222920" y="4920840"/>
              <a:ext cx="681840" cy="56088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1219320" y="4821840"/>
              <a:ext cx="679680" cy="20592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1523160" y="5105880"/>
              <a:ext cx="82440" cy="26208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1329480" y="4572000"/>
              <a:ext cx="484200" cy="36180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9" name=""/>
          <p:cNvSpPr/>
          <p:nvPr/>
        </p:nvSpPr>
        <p:spPr>
          <a:xfrm>
            <a:off x="685800" y="5334120"/>
            <a:ext cx="1828800" cy="685800"/>
          </a:xfrm>
          <a:custGeom>
            <a:avLst/>
            <a:gdLst>
              <a:gd name="textAreaLeft" fmla="*/ 457200 w 1828800"/>
              <a:gd name="textAreaRight" fmla="*/ 1371600 w 1828800"/>
              <a:gd name="textAreaTop" fmla="*/ 6192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488" stAng="16200000" swAng="5400000"/>
                <a:lnTo>
                  <a:pt x="8100" y="1950"/>
                </a:lnTo>
                <a:lnTo>
                  <a:pt x="13500" y="1950"/>
                </a:lnTo>
                <a:lnTo>
                  <a:pt x="13500" y="488"/>
                </a:lnTo>
                <a:arcTo wR="675" hR="488" stAng="10800000" swAng="5400000"/>
                <a:lnTo>
                  <a:pt x="21600" y="0"/>
                </a:lnTo>
                <a:lnTo>
                  <a:pt x="18900" y="9825"/>
                </a:lnTo>
                <a:lnTo>
                  <a:pt x="21600" y="19650"/>
                </a:lnTo>
                <a:lnTo>
                  <a:pt x="16200" y="19650"/>
                </a:lnTo>
                <a:lnTo>
                  <a:pt x="16200" y="21113"/>
                </a:lnTo>
                <a:arcTo wR="675" hR="488" stAng="0" swAng="5400000"/>
                <a:lnTo>
                  <a:pt x="6075" y="21600"/>
                </a:lnTo>
                <a:arcTo wR="675" hR="488" stAng="5400000" swAng="5400000"/>
                <a:lnTo>
                  <a:pt x="5400" y="19650"/>
                </a:lnTo>
                <a:lnTo>
                  <a:pt x="0" y="19650"/>
                </a:lnTo>
                <a:lnTo>
                  <a:pt x="2700" y="9825"/>
                </a:lnTo>
                <a:close/>
              </a:path>
              <a:path fill="none" w="21600" h="21600">
                <a:moveTo>
                  <a:pt x="8100" y="488"/>
                </a:moveTo>
                <a:arcTo wR="675" hR="488" stAng="0" swAng="5400000"/>
                <a:lnTo>
                  <a:pt x="6075" y="975"/>
                </a:lnTo>
                <a:arcTo wR="675" hR="488" stAng="16200000" swAng="-5400000"/>
                <a:arcTo wR="675" hR="488" stAng="10800000" swAng="-5400000"/>
                <a:lnTo>
                  <a:pt x="8100" y="1950"/>
                </a:lnTo>
              </a:path>
              <a:path fill="none" w="21600" h="21600">
                <a:moveTo>
                  <a:pt x="13500" y="488"/>
                </a:moveTo>
                <a:arcTo wR="675" hR="488" stAng="10800000" swAng="-5400000"/>
                <a:lnTo>
                  <a:pt x="15525" y="975"/>
                </a:lnTo>
                <a:arcTo wR="675" hR="488" stAng="16200000" swAng="5400000"/>
                <a:arcTo wR="675" hR="488" stAng="0" swAng="5400000"/>
                <a:lnTo>
                  <a:pt x="13500" y="1950"/>
                </a:lnTo>
              </a:path>
              <a:path fill="none" w="21600" h="21600">
                <a:moveTo>
                  <a:pt x="5400" y="1463"/>
                </a:moveTo>
                <a:lnTo>
                  <a:pt x="5400" y="19650"/>
                </a:lnTo>
              </a:path>
              <a:path fill="none" w="21600" h="21600">
                <a:moveTo>
                  <a:pt x="16200" y="1463"/>
                </a:moveTo>
                <a:lnTo>
                  <a:pt x="16200" y="1965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5638680" y="37180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write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6858000" y="4141800"/>
            <a:ext cx="961920" cy="398880"/>
          </a:xfrm>
          <a:prstGeom prst="borderCallout1">
            <a:avLst>
              <a:gd name="adj1" fmla="val 18750"/>
              <a:gd name="adj2" fmla="val -8333"/>
              <a:gd name="adj3" fmla="val -19476"/>
              <a:gd name="adj4" fmla="val -40888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2971800" y="3733920"/>
            <a:ext cx="961920" cy="398880"/>
          </a:xfrm>
          <a:prstGeom prst="borderCallout1">
            <a:avLst>
              <a:gd name="adj1" fmla="val 18750"/>
              <a:gd name="adj2" fmla="val -8333"/>
              <a:gd name="adj3" fmla="val -50134"/>
              <a:gd name="adj4" fmla="val 164981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 txBox="1"/>
          <p:nvPr/>
        </p:nvSpPr>
        <p:spPr>
          <a:xfrm>
            <a:off x="4267080" y="4876920"/>
            <a:ext cx="2210040" cy="95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adloc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3254" name=""/>
          <p:cNvGrpSpPr/>
          <p:nvPr/>
        </p:nvGrpSpPr>
        <p:grpSpPr>
          <a:xfrm>
            <a:off x="7935480" y="1752480"/>
            <a:ext cx="527760" cy="3581280"/>
            <a:chOff x="7935480" y="1752480"/>
            <a:chExt cx="527760" cy="3581280"/>
          </a:xfrm>
        </p:grpSpPr>
        <p:sp>
          <p:nvSpPr>
            <p:cNvPr id="3255" name=""/>
            <p:cNvSpPr/>
            <p:nvPr/>
          </p:nvSpPr>
          <p:spPr>
            <a:xfrm>
              <a:off x="8382240" y="1752480"/>
              <a:ext cx="0" cy="3581280"/>
            </a:xfrm>
            <a:prstGeom prst="line">
              <a:avLst/>
            </a:prstGeom>
            <a:ln w="2844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 rot="16229400">
              <a:off x="7772760" y="35204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279f"/>
                  </a:solidFill>
                  <a:latin typeface="Arial"/>
                </a:rPr>
                <a:t>ti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7" dur="indefinite" restart="never" nodeType="tmRoot">
          <p:childTnLst>
            <p:seq>
              <p:cTn id="5568" dur="indefinite" nodeType="mainSeq">
                <p:childTnLst>
                  <p:par>
                    <p:cTn id="5569" fill="hold">
                      <p:stCondLst>
                        <p:cond delay="indefinite"/>
                      </p:stCondLst>
                      <p:childTnLst>
                        <p:par>
                          <p:cTn id="5570" fill="hold">
                            <p:stCondLst>
                              <p:cond delay="0"/>
                            </p:stCondLst>
                            <p:childTnLst>
                              <p:par>
                                <p:cTn id="5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3" dur="500"/>
                                        <p:tgtEl>
                                          <p:spTgt spid="3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5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7" dur="500"/>
                                        <p:tgtEl>
                                          <p:spTgt spid="3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8" fill="hold">
                      <p:stCondLst>
                        <p:cond delay="indefinite"/>
                      </p:stCondLst>
                      <p:childTnLst>
                        <p:par>
                          <p:cTn id="5579" fill="hold">
                            <p:stCondLst>
                              <p:cond delay="0"/>
                            </p:stCondLst>
                            <p:childTnLst>
                              <p:par>
                                <p:cTn id="5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2" dur="500"/>
                                        <p:tgtEl>
                                          <p:spTgt spid="3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5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6" dur="500"/>
                                        <p:tgtEl>
                                          <p:spTgt spid="3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90" dur="500"/>
                                        <p:tgtEl>
                                          <p:spTgt spid="3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1" fill="hold">
                      <p:stCondLst>
                        <p:cond delay="indefinite"/>
                      </p:stCondLst>
                      <p:childTnLst>
                        <p:par>
                          <p:cTn id="5592" fill="hold">
                            <p:stCondLst>
                              <p:cond delay="0"/>
                            </p:stCondLst>
                            <p:childTnLst>
                              <p:par>
                                <p:cTn id="5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5" dur="500"/>
                                        <p:tgtEl>
                                          <p:spTgt spid="3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5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9" dur="500" fill="hold"/>
                                        <p:tgtEl>
                                          <p:spTgt spid="3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0" dur="500" fill="hold"/>
                                        <p:tgtEl>
                                          <p:spTgt spid="3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4" dur="500" fill="hold"/>
                                        <p:tgtEl>
                                          <p:spTgt spid="3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5" dur="500" fill="hold"/>
                                        <p:tgtEl>
                                          <p:spTgt spid="3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6" fill="hold">
                      <p:stCondLst>
                        <p:cond delay="indefinite"/>
                      </p:stCondLst>
                      <p:childTnLst>
                        <p:par>
                          <p:cTn id="5607" fill="hold">
                            <p:stCondLst>
                              <p:cond delay="0"/>
                            </p:stCondLst>
                            <p:childTnLst>
                              <p:par>
                                <p:cTn id="5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0" dur="500"/>
                                        <p:tgtEl>
                                          <p:spTgt spid="3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1" fill="hold">
                            <p:stCondLst>
                              <p:cond delay="500"/>
                            </p:stCondLst>
                            <p:childTnLst>
                              <p:par>
                                <p:cTn id="56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4" dur="500" fill="hold"/>
                                        <p:tgtEl>
                                          <p:spTgt spid="3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5" dur="500" fill="hold"/>
                                        <p:tgtEl>
                                          <p:spTgt spid="3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9" dur="500" fill="hold"/>
                                        <p:tgtEl>
                                          <p:spTgt spid="3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0" dur="500" fill="hold"/>
                                        <p:tgtEl>
                                          <p:spTgt spid="3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1" fill="hold">
                      <p:stCondLst>
                        <p:cond delay="indefinite"/>
                      </p:stCondLst>
                      <p:childTnLst>
                        <p:par>
                          <p:cTn id="5622" fill="hold">
                            <p:stCondLst>
                              <p:cond delay="0"/>
                            </p:stCondLst>
                            <p:childTnLst>
                              <p:par>
                                <p:cTn id="5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5" dur="500"/>
                                        <p:tgtEl>
                                          <p:spTgt spid="3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6" fill="hold">
                            <p:stCondLst>
                              <p:cond delay="500"/>
                            </p:stCondLst>
                            <p:childTnLst>
                              <p:par>
                                <p:cTn id="56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29" dur="500"/>
                                        <p:tgtEl>
                                          <p:spTgt spid="3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0" fill="hold">
                      <p:stCondLst>
                        <p:cond delay="indefinite"/>
                      </p:stCondLst>
                      <p:childTnLst>
                        <p:par>
                          <p:cTn id="5631" fill="hold">
                            <p:stCondLst>
                              <p:cond delay="0"/>
                            </p:stCondLst>
                            <p:childTnLst>
                              <p:par>
                                <p:cTn id="5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4" dur="500"/>
                                        <p:tgtEl>
                                          <p:spTgt spid="3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5" fill="hold">
                            <p:stCondLst>
                              <p:cond delay="500"/>
                            </p:stCondLst>
                            <p:childTnLst>
                              <p:par>
                                <p:cTn id="563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38" dur="500"/>
                                        <p:tgtEl>
                                          <p:spTgt spid="3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9" fill="hold">
                      <p:stCondLst>
                        <p:cond delay="indefinite"/>
                      </p:stCondLst>
                      <p:childTnLst>
                        <p:par>
                          <p:cTn id="5640" fill="hold">
                            <p:stCondLst>
                              <p:cond delay="0"/>
                            </p:stCondLst>
                            <p:childTnLst>
                              <p:par>
                                <p:cTn id="56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3" dur="1000" fill="hold"/>
                                        <p:tgtEl>
                                          <p:spTgt spid="3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4" dur="1000" fill="hold"/>
                                        <p:tgtEl>
                                          <p:spTgt spid="3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5" dur="1000" fill="hold"/>
                                        <p:tgtEl>
                                          <p:spTgt spid="3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6" dur="1000" fill="hold"/>
                                        <p:tgtEl>
                                          <p:spTgt spid="3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e-Based Protoc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ordering in adv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e unique TS with Transaction 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e R-TS and W-TS with Object Ob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tamp of transaction: last succesful read/wri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 Ordering Protoc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(T) &lt; W-TS(Obj):  re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(T) &lt; R-TS(Obj):   reje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(T) &lt; W-TS(Obj):  re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: abort + restart (new T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aliz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licting operations in TS or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9" name=""/>
          <p:cNvGrpSpPr/>
          <p:nvPr/>
        </p:nvGrpSpPr>
        <p:grpSpPr>
          <a:xfrm>
            <a:off x="5940720" y="3429000"/>
            <a:ext cx="2087280" cy="504720"/>
            <a:chOff x="5940720" y="3429000"/>
            <a:chExt cx="2087280" cy="504720"/>
          </a:xfrm>
        </p:grpSpPr>
        <p:sp>
          <p:nvSpPr>
            <p:cNvPr id="3260" name=""/>
            <p:cNvSpPr/>
            <p:nvPr/>
          </p:nvSpPr>
          <p:spPr>
            <a:xfrm>
              <a:off x="6012000" y="3933720"/>
              <a:ext cx="20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7524720" y="3429000"/>
              <a:ext cx="0" cy="50472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6659640" y="3429000"/>
              <a:ext cx="0" cy="50472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5940720" y="3429000"/>
              <a:ext cx="69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R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6732360" y="3429000"/>
              <a:ext cx="84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ae00"/>
                  </a:solidFill>
                  <a:latin typeface="Arial"/>
                </a:rPr>
                <a:t>W(T*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5" name=""/>
          <p:cNvGrpSpPr/>
          <p:nvPr/>
        </p:nvGrpSpPr>
        <p:grpSpPr>
          <a:xfrm>
            <a:off x="5940360" y="4005360"/>
            <a:ext cx="2114640" cy="504720"/>
            <a:chOff x="5940360" y="4005360"/>
            <a:chExt cx="2114640" cy="504720"/>
          </a:xfrm>
        </p:grpSpPr>
        <p:sp>
          <p:nvSpPr>
            <p:cNvPr id="3266" name=""/>
            <p:cNvSpPr/>
            <p:nvPr/>
          </p:nvSpPr>
          <p:spPr>
            <a:xfrm>
              <a:off x="6039000" y="4510080"/>
              <a:ext cx="20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7551720" y="4005360"/>
              <a:ext cx="0" cy="50472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6686640" y="4005360"/>
              <a:ext cx="0" cy="50472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5940360" y="4005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W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6786720" y="40053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ae00"/>
                  </a:solidFill>
                  <a:latin typeface="Arial"/>
                </a:rPr>
                <a:t>R(T*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1" name=""/>
          <p:cNvGrpSpPr/>
          <p:nvPr/>
        </p:nvGrpSpPr>
        <p:grpSpPr>
          <a:xfrm>
            <a:off x="5940360" y="4579920"/>
            <a:ext cx="2114640" cy="504720"/>
            <a:chOff x="5940360" y="4579920"/>
            <a:chExt cx="2114640" cy="504720"/>
          </a:xfrm>
        </p:grpSpPr>
        <p:sp>
          <p:nvSpPr>
            <p:cNvPr id="3272" name=""/>
            <p:cNvSpPr/>
            <p:nvPr/>
          </p:nvSpPr>
          <p:spPr>
            <a:xfrm>
              <a:off x="6039000" y="5084640"/>
              <a:ext cx="20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7551720" y="4579920"/>
              <a:ext cx="0" cy="50472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6686640" y="4579920"/>
              <a:ext cx="0" cy="50472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5940360" y="45799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W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6759360" y="4579920"/>
              <a:ext cx="84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ae00"/>
                  </a:solidFill>
                  <a:latin typeface="Arial"/>
                </a:rPr>
                <a:t>W(T*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7" name=""/>
          <p:cNvSpPr/>
          <p:nvPr/>
        </p:nvSpPr>
        <p:spPr>
          <a:xfrm>
            <a:off x="8028360" y="3429000"/>
            <a:ext cx="88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7" dur="indefinite" restart="never" nodeType="tmRoot">
          <p:childTnLst>
            <p:seq>
              <p:cTn id="5648" dur="indefinite" nodeType="mainSeq">
                <p:childTnLst>
                  <p:par>
                    <p:cTn id="5649" fill="hold">
                      <p:stCondLst>
                        <p:cond delay="indefinite"/>
                      </p:stCondLst>
                      <p:childTnLst>
                        <p:par>
                          <p:cTn id="5650" fill="hold">
                            <p:stCondLst>
                              <p:cond delay="0"/>
                            </p:stCondLst>
                            <p:childTnLst>
                              <p:par>
                                <p:cTn id="5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3" dur="500"/>
                                        <p:tgtEl>
                                          <p:spTgt spid="3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4" fill="hold">
                      <p:stCondLst>
                        <p:cond delay="indefinite"/>
                      </p:stCondLst>
                      <p:childTnLst>
                        <p:par>
                          <p:cTn id="5655" fill="hold">
                            <p:stCondLst>
                              <p:cond delay="0"/>
                            </p:stCondLst>
                            <p:childTnLst>
                              <p:par>
                                <p:cTn id="56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8" dur="500"/>
                                        <p:tgtEl>
                                          <p:spTgt spid="3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9" fill="hold">
                      <p:stCondLst>
                        <p:cond delay="indefinite"/>
                      </p:stCondLst>
                      <p:childTnLst>
                        <p:par>
                          <p:cTn id="5660" fill="hold">
                            <p:stCondLst>
                              <p:cond delay="0"/>
                            </p:stCondLst>
                            <p:childTnLst>
                              <p:par>
                                <p:cTn id="5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3" dur="500"/>
                                        <p:tgtEl>
                                          <p:spTgt spid="3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6" dur="500"/>
                                        <p:tgtEl>
                                          <p:spTgt spid="3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7" fill="hold">
                      <p:stCondLst>
                        <p:cond delay="indefinite"/>
                      </p:stCondLst>
                      <p:childTnLst>
                        <p:par>
                          <p:cTn id="5668" fill="hold">
                            <p:stCondLst>
                              <p:cond delay="0"/>
                            </p:stCondLst>
                            <p:childTnLst>
                              <p:par>
                                <p:cTn id="56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1" dur="500"/>
                                        <p:tgtEl>
                                          <p:spTgt spid="3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4" dur="500"/>
                                        <p:tgtEl>
                                          <p:spTgt spid="3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5" fill="hold">
                            <p:stCondLst>
                              <p:cond delay="500"/>
                            </p:stCondLst>
                            <p:childTnLst>
                              <p:par>
                                <p:cTn id="5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8" dur="500"/>
                                        <p:tgtEl>
                                          <p:spTgt spid="3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2" dur="500"/>
                                        <p:tgtEl>
                                          <p:spTgt spid="3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3" fill="hold">
                      <p:stCondLst>
                        <p:cond delay="indefinite"/>
                      </p:stCondLst>
                      <p:childTnLst>
                        <p:par>
                          <p:cTn id="5684" fill="hold">
                            <p:stCondLst>
                              <p:cond delay="0"/>
                            </p:stCondLst>
                            <p:childTnLst>
                              <p:par>
                                <p:cTn id="56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7" dur="500"/>
                                        <p:tgtEl>
                                          <p:spTgt spid="3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8" fill="hold">
                            <p:stCondLst>
                              <p:cond delay="500"/>
                            </p:stCondLst>
                            <p:childTnLst>
                              <p:par>
                                <p:cTn id="56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1" dur="500"/>
                                        <p:tgtEl>
                                          <p:spTgt spid="3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5" dur="500"/>
                                        <p:tgtEl>
                                          <p:spTgt spid="3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6" fill="hold">
                      <p:stCondLst>
                        <p:cond delay="indefinite"/>
                      </p:stCondLst>
                      <p:childTnLst>
                        <p:par>
                          <p:cTn id="5697" fill="hold">
                            <p:stCondLst>
                              <p:cond delay="0"/>
                            </p:stCondLst>
                            <p:childTnLst>
                              <p:par>
                                <p:cTn id="56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0" dur="500"/>
                                        <p:tgtEl>
                                          <p:spTgt spid="3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1" fill="hold">
                      <p:stCondLst>
                        <p:cond delay="indefinite"/>
                      </p:stCondLst>
                      <p:childTnLst>
                        <p:par>
                          <p:cTn id="5702" fill="hold">
                            <p:stCondLst>
                              <p:cond delay="0"/>
                            </p:stCondLst>
                            <p:childTnLst>
                              <p:par>
                                <p:cTn id="57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5" dur="500"/>
                                        <p:tgtEl>
                                          <p:spTgt spid="3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8" dur="500"/>
                                        <p:tgtEl>
                                          <p:spTgt spid="3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e Based Protoc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>
            <a:off x="914400" y="1981080"/>
            <a:ext cx="1905120" cy="13716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914400" y="4114800"/>
            <a:ext cx="1905120" cy="13716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3505320" y="1676520"/>
            <a:ext cx="1676160" cy="23619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5486400" y="2057400"/>
            <a:ext cx="1676520" cy="2666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1066680" y="2422440"/>
            <a:ext cx="99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-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-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1066680" y="4556160"/>
            <a:ext cx="99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-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-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2081160" y="2438280"/>
            <a:ext cx="609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2081160" y="4556160"/>
            <a:ext cx="609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3657600" y="2209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4495680" y="1523880"/>
            <a:ext cx="60984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6477120" y="1965240"/>
            <a:ext cx="60948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2081160" y="2438280"/>
            <a:ext cx="60948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2004840" y="284796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5638680" y="2590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2004840" y="284796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2081160" y="2438280"/>
            <a:ext cx="60948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5638680" y="28796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2004840" y="239076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2004840" y="284796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>
            <a:off x="2081160" y="2879640"/>
            <a:ext cx="60948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3657600" y="31845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2004840" y="499572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2081160" y="4572000"/>
            <a:ext cx="60948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5638680" y="36417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2004840" y="500076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2081160" y="4572000"/>
            <a:ext cx="60948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5638680" y="3946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>
            <a:off x="2004840" y="498636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>
            <a:off x="2004840" y="454356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2081160" y="5013360"/>
            <a:ext cx="60948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4444200" y="5105520"/>
            <a:ext cx="1440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; 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9" dur="indefinite" restart="never" nodeType="tmRoot">
          <p:childTnLst>
            <p:seq>
              <p:cTn id="5710" dur="indefinite" nodeType="mainSeq">
                <p:childTnLst>
                  <p:par>
                    <p:cTn id="5711" fill="hold">
                      <p:stCondLst>
                        <p:cond delay="indefinite"/>
                      </p:stCondLst>
                      <p:childTnLst>
                        <p:par>
                          <p:cTn id="5712" fill="hold">
                            <p:stCondLst>
                              <p:cond delay="0"/>
                            </p:stCondLst>
                            <p:childTnLst>
                              <p:par>
                                <p:cTn id="57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5" dur="500"/>
                                        <p:tgtEl>
                                          <p:spTgt spid="3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6" fill="hold">
                            <p:stCondLst>
                              <p:cond delay="500"/>
                            </p:stCondLst>
                            <p:childTnLst>
                              <p:par>
                                <p:cTn id="57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9" dur="500"/>
                                        <p:tgtEl>
                                          <p:spTgt spid="3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3" dur="500"/>
                                        <p:tgtEl>
                                          <p:spTgt spid="3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4" fill="hold">
                            <p:stCondLst>
                              <p:cond delay="1500"/>
                            </p:stCondLst>
                            <p:childTnLst>
                              <p:par>
                                <p:cTn id="57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7" dur="500"/>
                                        <p:tgtEl>
                                          <p:spTgt spid="3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8" fill="hold">
                      <p:stCondLst>
                        <p:cond delay="indefinite"/>
                      </p:stCondLst>
                      <p:childTnLst>
                        <p:par>
                          <p:cTn id="5729" fill="hold">
                            <p:stCondLst>
                              <p:cond delay="0"/>
                            </p:stCondLst>
                            <p:childTnLst>
                              <p:par>
                                <p:cTn id="5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2" dur="500"/>
                                        <p:tgtEl>
                                          <p:spTgt spid="3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3" fill="hold">
                            <p:stCondLst>
                              <p:cond delay="500"/>
                            </p:stCondLst>
                            <p:childTnLst>
                              <p:par>
                                <p:cTn id="57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6" dur="500"/>
                                        <p:tgtEl>
                                          <p:spTgt spid="3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0" dur="500"/>
                                        <p:tgtEl>
                                          <p:spTgt spid="3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4" dur="500"/>
                                        <p:tgtEl>
                                          <p:spTgt spid="3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5" fill="hold">
                      <p:stCondLst>
                        <p:cond delay="indefinite"/>
                      </p:stCondLst>
                      <p:childTnLst>
                        <p:par>
                          <p:cTn id="5746" fill="hold">
                            <p:stCondLst>
                              <p:cond delay="0"/>
                            </p:stCondLst>
                            <p:childTnLst>
                              <p:par>
                                <p:cTn id="57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9" dur="500" fill="hold"/>
                                        <p:tgtEl>
                                          <p:spTgt spid="3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0" dur="500" fill="hold"/>
                                        <p:tgtEl>
                                          <p:spTgt spid="3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1" fill="hold">
                      <p:stCondLst>
                        <p:cond delay="indefinite"/>
                      </p:stCondLst>
                      <p:childTnLst>
                        <p:par>
                          <p:cTn id="5752" fill="hold">
                            <p:stCondLst>
                              <p:cond delay="0"/>
                            </p:stCondLst>
                            <p:childTnLst>
                              <p:par>
                                <p:cTn id="57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5" dur="500" fill="hold"/>
                                        <p:tgtEl>
                                          <p:spTgt spid="3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6" dur="500" fill="hold"/>
                                        <p:tgtEl>
                                          <p:spTgt spid="3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7" fill="hold">
                      <p:stCondLst>
                        <p:cond delay="indefinite"/>
                      </p:stCondLst>
                      <p:childTnLst>
                        <p:par>
                          <p:cTn id="5758" fill="hold">
                            <p:stCondLst>
                              <p:cond delay="0"/>
                            </p:stCondLst>
                            <p:childTnLst>
                              <p:par>
                                <p:cTn id="5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1" dur="500"/>
                                        <p:tgtEl>
                                          <p:spTgt spid="3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2" fill="hold">
                      <p:stCondLst>
                        <p:cond delay="indefinite"/>
                      </p:stCondLst>
                      <p:childTnLst>
                        <p:par>
                          <p:cTn id="5763" fill="hold">
                            <p:stCondLst>
                              <p:cond delay="0"/>
                            </p:stCondLst>
                            <p:childTnLst>
                              <p:par>
                                <p:cTn id="57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6" dur="500" fill="hold"/>
                                        <p:tgtEl>
                                          <p:spTgt spid="3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7" dur="500" fill="hold"/>
                                        <p:tgtEl>
                                          <p:spTgt spid="3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8" fill="hold">
                      <p:stCondLst>
                        <p:cond delay="indefinite"/>
                      </p:stCondLst>
                      <p:childTnLst>
                        <p:par>
                          <p:cTn id="5769" fill="hold">
                            <p:stCondLst>
                              <p:cond delay="0"/>
                            </p:stCondLst>
                            <p:childTnLst>
                              <p:par>
                                <p:cTn id="57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2" dur="500" fill="hold"/>
                                        <p:tgtEl>
                                          <p:spTgt spid="3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3" dur="500" fill="hold"/>
                                        <p:tgtEl>
                                          <p:spTgt spid="3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75" fill="hold">
                      <p:stCondLst>
                        <p:cond delay="indefinite"/>
                      </p:stCondLst>
                      <p:childTnLst>
                        <p:par>
                          <p:cTn id="5776" fill="hold">
                            <p:stCondLst>
                              <p:cond delay="0"/>
                            </p:stCondLst>
                            <p:childTnLst>
                              <p:par>
                                <p:cTn id="5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9" dur="500"/>
                                        <p:tgtEl>
                                          <p:spTgt spid="3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0" fill="hold">
                      <p:stCondLst>
                        <p:cond delay="indefinite"/>
                      </p:stCondLst>
                      <p:childTnLst>
                        <p:par>
                          <p:cTn id="5781" fill="hold">
                            <p:stCondLst>
                              <p:cond delay="0"/>
                            </p:stCondLst>
                            <p:childTnLst>
                              <p:par>
                                <p:cTn id="57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4" dur="500" fill="hold"/>
                                        <p:tgtEl>
                                          <p:spTgt spid="3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5" dur="500" fill="hold"/>
                                        <p:tgtEl>
                                          <p:spTgt spid="3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6" fill="hold">
                      <p:stCondLst>
                        <p:cond delay="indefinite"/>
                      </p:stCondLst>
                      <p:childTnLst>
                        <p:par>
                          <p:cTn id="5787" fill="hold">
                            <p:stCondLst>
                              <p:cond delay="0"/>
                            </p:stCondLst>
                            <p:childTnLst>
                              <p:par>
                                <p:cTn id="57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0" dur="500" fill="hold"/>
                                        <p:tgtEl>
                                          <p:spTgt spid="3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1" dur="500" fill="hold"/>
                                        <p:tgtEl>
                                          <p:spTgt spid="3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93" fill="hold">
                      <p:stCondLst>
                        <p:cond delay="indefinite"/>
                      </p:stCondLst>
                      <p:childTnLst>
                        <p:par>
                          <p:cTn id="5794" fill="hold">
                            <p:stCondLst>
                              <p:cond delay="0"/>
                            </p:stCondLst>
                            <p:childTnLst>
                              <p:par>
                                <p:cTn id="5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7" dur="500"/>
                                        <p:tgtEl>
                                          <p:spTgt spid="3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8" fill="hold">
                      <p:stCondLst>
                        <p:cond delay="indefinite"/>
                      </p:stCondLst>
                      <p:childTnLst>
                        <p:par>
                          <p:cTn id="5799" fill="hold">
                            <p:stCondLst>
                              <p:cond delay="0"/>
                            </p:stCondLst>
                            <p:childTnLst>
                              <p:par>
                                <p:cTn id="58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2" dur="500" fill="hold"/>
                                        <p:tgtEl>
                                          <p:spTgt spid="3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3" dur="500" fill="hold"/>
                                        <p:tgtEl>
                                          <p:spTgt spid="3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4" fill="hold">
                            <p:stCondLst>
                              <p:cond delay="500"/>
                            </p:stCondLst>
                            <p:childTnLst>
                              <p:par>
                                <p:cTn id="58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7" dur="500" fill="hold"/>
                                        <p:tgtEl>
                                          <p:spTgt spid="3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8" dur="500" fill="hold"/>
                                        <p:tgtEl>
                                          <p:spTgt spid="3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10" fill="hold">
                      <p:stCondLst>
                        <p:cond delay="indefinite"/>
                      </p:stCondLst>
                      <p:childTnLst>
                        <p:par>
                          <p:cTn id="5811" fill="hold">
                            <p:stCondLst>
                              <p:cond delay="0"/>
                            </p:stCondLst>
                            <p:childTnLst>
                              <p:par>
                                <p:cTn id="58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4" dur="500" fill="hold"/>
                                        <p:tgtEl>
                                          <p:spTgt spid="3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5" dur="500" fill="hold"/>
                                        <p:tgtEl>
                                          <p:spTgt spid="3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17" fill="hold">
                      <p:stCondLst>
                        <p:cond delay="indefinite"/>
                      </p:stCondLst>
                      <p:childTnLst>
                        <p:par>
                          <p:cTn id="5818" fill="hold">
                            <p:stCondLst>
                              <p:cond delay="0"/>
                            </p:stCondLst>
                            <p:childTnLst>
                              <p:par>
                                <p:cTn id="5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1" dur="500"/>
                                        <p:tgtEl>
                                          <p:spTgt spid="3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2" fill="hold">
                      <p:stCondLst>
                        <p:cond delay="indefinite"/>
                      </p:stCondLst>
                      <p:childTnLst>
                        <p:par>
                          <p:cTn id="5823" fill="hold">
                            <p:stCondLst>
                              <p:cond delay="0"/>
                            </p:stCondLst>
                            <p:childTnLst>
                              <p:par>
                                <p:cTn id="58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6" dur="500" fill="hold"/>
                                        <p:tgtEl>
                                          <p:spTgt spid="3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7" dur="500" fill="hold"/>
                                        <p:tgtEl>
                                          <p:spTgt spid="3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8" fill="hold">
                      <p:stCondLst>
                        <p:cond delay="indefinite"/>
                      </p:stCondLst>
                      <p:childTnLst>
                        <p:par>
                          <p:cTn id="5829" fill="hold">
                            <p:stCondLst>
                              <p:cond delay="0"/>
                            </p:stCondLst>
                            <p:childTnLst>
                              <p:par>
                                <p:cTn id="58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2" dur="500" fill="hold"/>
                                        <p:tgtEl>
                                          <p:spTgt spid="3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3" dur="500" fill="hold"/>
                                        <p:tgtEl>
                                          <p:spTgt spid="3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35" fill="hold">
                      <p:stCondLst>
                        <p:cond delay="indefinite"/>
                      </p:stCondLst>
                      <p:childTnLst>
                        <p:par>
                          <p:cTn id="5836" fill="hold">
                            <p:stCondLst>
                              <p:cond delay="0"/>
                            </p:stCondLst>
                            <p:childTnLst>
                              <p:par>
                                <p:cTn id="5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9" dur="500"/>
                                        <p:tgtEl>
                                          <p:spTgt spid="3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0" fill="hold">
                      <p:stCondLst>
                        <p:cond delay="indefinite"/>
                      </p:stCondLst>
                      <p:childTnLst>
                        <p:par>
                          <p:cTn id="5841" fill="hold">
                            <p:stCondLst>
                              <p:cond delay="0"/>
                            </p:stCondLst>
                            <p:childTnLst>
                              <p:par>
                                <p:cTn id="58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4" dur="500" fill="hold"/>
                                        <p:tgtEl>
                                          <p:spTgt spid="3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5" dur="500" fill="hold"/>
                                        <p:tgtEl>
                                          <p:spTgt spid="3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6" fill="hold">
                      <p:stCondLst>
                        <p:cond delay="indefinite"/>
                      </p:stCondLst>
                      <p:childTnLst>
                        <p:par>
                          <p:cTn id="5847" fill="hold">
                            <p:stCondLst>
                              <p:cond delay="0"/>
                            </p:stCondLst>
                            <p:childTnLst>
                              <p:par>
                                <p:cTn id="58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0" dur="500" fill="hold"/>
                                        <p:tgtEl>
                                          <p:spTgt spid="3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1" dur="500" fill="hold"/>
                                        <p:tgtEl>
                                          <p:spTgt spid="3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53" fill="hold">
                      <p:stCondLst>
                        <p:cond delay="indefinite"/>
                      </p:stCondLst>
                      <p:childTnLst>
                        <p:par>
                          <p:cTn id="5854" fill="hold">
                            <p:stCondLst>
                              <p:cond delay="0"/>
                            </p:stCondLst>
                            <p:childTnLst>
                              <p:par>
                                <p:cTn id="5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7" dur="500"/>
                                        <p:tgtEl>
                                          <p:spTgt spid="3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8" fill="hold">
                      <p:stCondLst>
                        <p:cond delay="indefinite"/>
                      </p:stCondLst>
                      <p:childTnLst>
                        <p:par>
                          <p:cTn id="5859" fill="hold">
                            <p:stCondLst>
                              <p:cond delay="0"/>
                            </p:stCondLst>
                            <p:childTnLst>
                              <p:par>
                                <p:cTn id="58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2" dur="500" fill="hold"/>
                                        <p:tgtEl>
                                          <p:spTgt spid="3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3" dur="500" fill="hold"/>
                                        <p:tgtEl>
                                          <p:spTgt spid="3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4" fill="hold">
                            <p:stCondLst>
                              <p:cond delay="500"/>
                            </p:stCondLst>
                            <p:childTnLst>
                              <p:par>
                                <p:cTn id="58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7" dur="500" fill="hold"/>
                                        <p:tgtEl>
                                          <p:spTgt spid="3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8" dur="500" fill="hold"/>
                                        <p:tgtEl>
                                          <p:spTgt spid="3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70" fill="hold">
                      <p:stCondLst>
                        <p:cond delay="indefinite"/>
                      </p:stCondLst>
                      <p:childTnLst>
                        <p:par>
                          <p:cTn id="5871" fill="hold">
                            <p:stCondLst>
                              <p:cond delay="0"/>
                            </p:stCondLst>
                            <p:childTnLst>
                              <p:par>
                                <p:cTn id="5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4" dur="500"/>
                                        <p:tgtEl>
                                          <p:spTgt spid="3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76" fill="hold">
                      <p:stCondLst>
                        <p:cond delay="indefinite"/>
                      </p:stCondLst>
                      <p:childTnLst>
                        <p:par>
                          <p:cTn id="5877" fill="hold">
                            <p:stCondLst>
                              <p:cond delay="0"/>
                            </p:stCondLst>
                            <p:childTnLst>
                              <p:par>
                                <p:cTn id="587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0" dur="500" fill="hold"/>
                                        <p:tgtEl>
                                          <p:spTgt spid="3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1" dur="500" fill="hold"/>
                                        <p:tgtEl>
                                          <p:spTgt spid="3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e Based Protoc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"/>
          <p:cNvSpPr/>
          <p:nvPr/>
        </p:nvSpPr>
        <p:spPr>
          <a:xfrm>
            <a:off x="914400" y="1981080"/>
            <a:ext cx="1905120" cy="13716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914400" y="4114800"/>
            <a:ext cx="1905120" cy="13716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3505320" y="1676520"/>
            <a:ext cx="1676160" cy="34290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5486400" y="2057400"/>
            <a:ext cx="1676520" cy="2666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1066680" y="2422440"/>
            <a:ext cx="99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-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-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1066680" y="4556160"/>
            <a:ext cx="99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-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-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2081160" y="2438280"/>
            <a:ext cx="609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2081160" y="4556160"/>
            <a:ext cx="609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3657600" y="2209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4495680" y="1523880"/>
            <a:ext cx="60984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>
            <a:off x="6477120" y="1965240"/>
            <a:ext cx="60948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2081160" y="2438280"/>
            <a:ext cx="60948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2004840" y="284796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5638680" y="2590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2004840" y="284796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2081160" y="2438280"/>
            <a:ext cx="60948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5638680" y="28796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2004840" y="239076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2004840" y="284796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2081160" y="2879640"/>
            <a:ext cx="60948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3657600" y="45561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>
            <a:off x="2004840" y="499572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>
            <a:off x="5638680" y="36417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4" name=""/>
          <p:cNvSpPr/>
          <p:nvPr/>
        </p:nvSpPr>
        <p:spPr>
          <a:xfrm>
            <a:off x="2004840" y="500076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"/>
          <p:cNvSpPr/>
          <p:nvPr/>
        </p:nvSpPr>
        <p:spPr>
          <a:xfrm>
            <a:off x="2081160" y="4572000"/>
            <a:ext cx="60948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>
            <a:off x="5638680" y="3946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2004840" y="498636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2004840" y="454356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2081160" y="5013360"/>
            <a:ext cx="60948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0" name=""/>
          <p:cNvGrpSpPr/>
          <p:nvPr/>
        </p:nvGrpSpPr>
        <p:grpSpPr>
          <a:xfrm>
            <a:off x="3657600" y="4572000"/>
            <a:ext cx="762120" cy="380880"/>
            <a:chOff x="3657600" y="4572000"/>
            <a:chExt cx="762120" cy="380880"/>
          </a:xfrm>
        </p:grpSpPr>
        <p:sp>
          <p:nvSpPr>
            <p:cNvPr id="3341" name=""/>
            <p:cNvSpPr/>
            <p:nvPr/>
          </p:nvSpPr>
          <p:spPr>
            <a:xfrm>
              <a:off x="3657600" y="4635360"/>
              <a:ext cx="762120" cy="317520"/>
            </a:xfrm>
            <a:custGeom>
              <a:avLst/>
              <a:gdLst/>
              <a:ahLst/>
              <a:rect l="l" t="t" r="r" b="b"/>
              <a:pathLst>
                <a:path w="624" h="560">
                  <a:moveTo>
                    <a:pt x="0" y="80"/>
                  </a:moveTo>
                  <a:cubicBezTo>
                    <a:pt x="12" y="80"/>
                    <a:pt x="24" y="80"/>
                    <a:pt x="96" y="80"/>
                  </a:cubicBezTo>
                  <a:cubicBezTo>
                    <a:pt x="168" y="80"/>
                    <a:pt x="344" y="0"/>
                    <a:pt x="432" y="80"/>
                  </a:cubicBezTo>
                  <a:cubicBezTo>
                    <a:pt x="520" y="160"/>
                    <a:pt x="572" y="360"/>
                    <a:pt x="624" y="560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4028760" y="4572000"/>
              <a:ext cx="273240" cy="353520"/>
            </a:xfrm>
            <a:custGeom>
              <a:avLst/>
              <a:gdLst/>
              <a:ahLst/>
              <a:rect l="l" t="t" r="r" b="b"/>
              <a:pathLst>
                <a:path w="224" h="624">
                  <a:moveTo>
                    <a:pt x="224" y="0"/>
                  </a:moveTo>
                  <a:cubicBezTo>
                    <a:pt x="144" y="68"/>
                    <a:pt x="64" y="136"/>
                    <a:pt x="32" y="240"/>
                  </a:cubicBezTo>
                  <a:cubicBezTo>
                    <a:pt x="0" y="344"/>
                    <a:pt x="16" y="484"/>
                    <a:pt x="32" y="624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3" name=""/>
          <p:cNvSpPr/>
          <p:nvPr/>
        </p:nvSpPr>
        <p:spPr>
          <a:xfrm>
            <a:off x="5256360" y="5456160"/>
            <a:ext cx="129672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0863" y="-11024"/>
                </a:moveTo>
                <a:lnTo>
                  <a:pt x="-1269" y="3456"/>
                </a:lnTo>
              </a:path>
              <a:path w="21600" h="21600">
                <a:moveTo>
                  <a:pt x="-1269" y="0"/>
                </a:moveTo>
                <a:lnTo>
                  <a:pt x="-1269" y="21600"/>
                </a:ln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>
            <a:off x="2071800" y="5029200"/>
            <a:ext cx="609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>
            <a:off x="4495680" y="1523880"/>
            <a:ext cx="609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2" dur="indefinite" restart="never" nodeType="tmRoot">
          <p:childTnLst>
            <p:seq>
              <p:cTn id="5883" dur="indefinite" nodeType="mainSeq">
                <p:childTnLst>
                  <p:par>
                    <p:cTn id="5884" fill="hold">
                      <p:stCondLst>
                        <p:cond delay="indefinite"/>
                      </p:stCondLst>
                      <p:childTnLst>
                        <p:par>
                          <p:cTn id="5885" fill="hold">
                            <p:stCondLst>
                              <p:cond delay="0"/>
                            </p:stCondLst>
                            <p:childTnLst>
                              <p:par>
                                <p:cTn id="58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8" dur="500"/>
                                        <p:tgtEl>
                                          <p:spTgt spid="3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9" fill="hold">
                            <p:stCondLst>
                              <p:cond delay="500"/>
                            </p:stCondLst>
                            <p:childTnLst>
                              <p:par>
                                <p:cTn id="58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2" dur="500"/>
                                        <p:tgtEl>
                                          <p:spTgt spid="3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6" dur="500"/>
                                        <p:tgtEl>
                                          <p:spTgt spid="3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0" dur="500"/>
                                        <p:tgtEl>
                                          <p:spTgt spid="3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1" fill="hold">
                      <p:stCondLst>
                        <p:cond delay="indefinite"/>
                      </p:stCondLst>
                      <p:childTnLst>
                        <p:par>
                          <p:cTn id="5902" fill="hold">
                            <p:stCondLst>
                              <p:cond delay="0"/>
                            </p:stCondLst>
                            <p:childTnLst>
                              <p:par>
                                <p:cTn id="5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5" dur="500"/>
                                        <p:tgtEl>
                                          <p:spTgt spid="3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6" fill="hold">
                            <p:stCondLst>
                              <p:cond delay="500"/>
                            </p:stCondLst>
                            <p:childTnLst>
                              <p:par>
                                <p:cTn id="59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9" dur="500"/>
                                        <p:tgtEl>
                                          <p:spTgt spid="3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3" dur="500"/>
                                        <p:tgtEl>
                                          <p:spTgt spid="3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4" fill="hold">
                            <p:stCondLst>
                              <p:cond delay="1500"/>
                            </p:stCondLst>
                            <p:childTnLst>
                              <p:par>
                                <p:cTn id="59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7" dur="500"/>
                                        <p:tgtEl>
                                          <p:spTgt spid="3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8" fill="hold">
                      <p:stCondLst>
                        <p:cond delay="indefinite"/>
                      </p:stCondLst>
                      <p:childTnLst>
                        <p:par>
                          <p:cTn id="5919" fill="hold">
                            <p:stCondLst>
                              <p:cond delay="0"/>
                            </p:stCondLst>
                            <p:childTnLst>
                              <p:par>
                                <p:cTn id="59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2" dur="500" fill="hold"/>
                                        <p:tgtEl>
                                          <p:spTgt spid="3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3" dur="500" fill="hold"/>
                                        <p:tgtEl>
                                          <p:spTgt spid="3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4" fill="hold">
                      <p:stCondLst>
                        <p:cond delay="indefinite"/>
                      </p:stCondLst>
                      <p:childTnLst>
                        <p:par>
                          <p:cTn id="5925" fill="hold">
                            <p:stCondLst>
                              <p:cond delay="0"/>
                            </p:stCondLst>
                            <p:childTnLst>
                              <p:par>
                                <p:cTn id="59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8" dur="500" fill="hold"/>
                                        <p:tgtEl>
                                          <p:spTgt spid="3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9" dur="500" fill="hold"/>
                                        <p:tgtEl>
                                          <p:spTgt spid="3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0" fill="hold">
                      <p:stCondLst>
                        <p:cond delay="indefinite"/>
                      </p:stCondLst>
                      <p:childTnLst>
                        <p:par>
                          <p:cTn id="5931" fill="hold">
                            <p:stCondLst>
                              <p:cond delay="0"/>
                            </p:stCondLst>
                            <p:childTnLst>
                              <p:par>
                                <p:cTn id="5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4" dur="500"/>
                                        <p:tgtEl>
                                          <p:spTgt spid="3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5" fill="hold">
                      <p:stCondLst>
                        <p:cond delay="indefinite"/>
                      </p:stCondLst>
                      <p:childTnLst>
                        <p:par>
                          <p:cTn id="5936" fill="hold">
                            <p:stCondLst>
                              <p:cond delay="0"/>
                            </p:stCondLst>
                            <p:childTnLst>
                              <p:par>
                                <p:cTn id="59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9" dur="500" fill="hold"/>
                                        <p:tgtEl>
                                          <p:spTgt spid="3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0" dur="500" fill="hold"/>
                                        <p:tgtEl>
                                          <p:spTgt spid="3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1" fill="hold">
                      <p:stCondLst>
                        <p:cond delay="indefinite"/>
                      </p:stCondLst>
                      <p:childTnLst>
                        <p:par>
                          <p:cTn id="5942" fill="hold">
                            <p:stCondLst>
                              <p:cond delay="0"/>
                            </p:stCondLst>
                            <p:childTnLst>
                              <p:par>
                                <p:cTn id="59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5" dur="500" fill="hold"/>
                                        <p:tgtEl>
                                          <p:spTgt spid="3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6" dur="500" fill="hold"/>
                                        <p:tgtEl>
                                          <p:spTgt spid="3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48" fill="hold">
                      <p:stCondLst>
                        <p:cond delay="indefinite"/>
                      </p:stCondLst>
                      <p:childTnLst>
                        <p:par>
                          <p:cTn id="5949" fill="hold">
                            <p:stCondLst>
                              <p:cond delay="0"/>
                            </p:stCondLst>
                            <p:childTnLst>
                              <p:par>
                                <p:cTn id="5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2" dur="500"/>
                                        <p:tgtEl>
                                          <p:spTgt spid="3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3" fill="hold">
                      <p:stCondLst>
                        <p:cond delay="indefinite"/>
                      </p:stCondLst>
                      <p:childTnLst>
                        <p:par>
                          <p:cTn id="5954" fill="hold">
                            <p:stCondLst>
                              <p:cond delay="0"/>
                            </p:stCondLst>
                            <p:childTnLst>
                              <p:par>
                                <p:cTn id="59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7" dur="500" fill="hold"/>
                                        <p:tgtEl>
                                          <p:spTgt spid="3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8" dur="500" fill="hold"/>
                                        <p:tgtEl>
                                          <p:spTgt spid="3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9" fill="hold">
                      <p:stCondLst>
                        <p:cond delay="indefinite"/>
                      </p:stCondLst>
                      <p:childTnLst>
                        <p:par>
                          <p:cTn id="5960" fill="hold">
                            <p:stCondLst>
                              <p:cond delay="0"/>
                            </p:stCondLst>
                            <p:childTnLst>
                              <p:par>
                                <p:cTn id="59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3" dur="500" fill="hold"/>
                                        <p:tgtEl>
                                          <p:spTgt spid="3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4" dur="500" fill="hold"/>
                                        <p:tgtEl>
                                          <p:spTgt spid="3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66" fill="hold">
                      <p:stCondLst>
                        <p:cond delay="indefinite"/>
                      </p:stCondLst>
                      <p:childTnLst>
                        <p:par>
                          <p:cTn id="5967" fill="hold">
                            <p:stCondLst>
                              <p:cond delay="0"/>
                            </p:stCondLst>
                            <p:childTnLst>
                              <p:par>
                                <p:cTn id="5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0" dur="500"/>
                                        <p:tgtEl>
                                          <p:spTgt spid="3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1" fill="hold">
                      <p:stCondLst>
                        <p:cond delay="indefinite"/>
                      </p:stCondLst>
                      <p:childTnLst>
                        <p:par>
                          <p:cTn id="5972" fill="hold">
                            <p:stCondLst>
                              <p:cond delay="0"/>
                            </p:stCondLst>
                            <p:childTnLst>
                              <p:par>
                                <p:cTn id="59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5" dur="500" fill="hold"/>
                                        <p:tgtEl>
                                          <p:spTgt spid="3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6" dur="500" fill="hold"/>
                                        <p:tgtEl>
                                          <p:spTgt spid="3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7" fill="hold">
                            <p:stCondLst>
                              <p:cond delay="500"/>
                            </p:stCondLst>
                            <p:childTnLst>
                              <p:par>
                                <p:cTn id="59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0" dur="500" fill="hold"/>
                                        <p:tgtEl>
                                          <p:spTgt spid="3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1" dur="500" fill="hold"/>
                                        <p:tgtEl>
                                          <p:spTgt spid="3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83" fill="hold">
                      <p:stCondLst>
                        <p:cond delay="indefinite"/>
                      </p:stCondLst>
                      <p:childTnLst>
                        <p:par>
                          <p:cTn id="5984" fill="hold">
                            <p:stCondLst>
                              <p:cond delay="0"/>
                            </p:stCondLst>
                            <p:childTnLst>
                              <p:par>
                                <p:cTn id="59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7" dur="500" fill="hold"/>
                                        <p:tgtEl>
                                          <p:spTgt spid="3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8" dur="500" fill="hold"/>
                                        <p:tgtEl>
                                          <p:spTgt spid="3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90" fill="hold">
                      <p:stCondLst>
                        <p:cond delay="indefinite"/>
                      </p:stCondLst>
                      <p:childTnLst>
                        <p:par>
                          <p:cTn id="5991" fill="hold">
                            <p:stCondLst>
                              <p:cond delay="0"/>
                            </p:stCondLst>
                            <p:childTnLst>
                              <p:par>
                                <p:cTn id="5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4" dur="500"/>
                                        <p:tgtEl>
                                          <p:spTgt spid="3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5" fill="hold">
                      <p:stCondLst>
                        <p:cond delay="indefinite"/>
                      </p:stCondLst>
                      <p:childTnLst>
                        <p:par>
                          <p:cTn id="5996" fill="hold">
                            <p:stCondLst>
                              <p:cond delay="0"/>
                            </p:stCondLst>
                            <p:childTnLst>
                              <p:par>
                                <p:cTn id="59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9" dur="500" fill="hold"/>
                                        <p:tgtEl>
                                          <p:spTgt spid="3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0" dur="500" fill="hold"/>
                                        <p:tgtEl>
                                          <p:spTgt spid="3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1" fill="hold">
                      <p:stCondLst>
                        <p:cond delay="indefinite"/>
                      </p:stCondLst>
                      <p:childTnLst>
                        <p:par>
                          <p:cTn id="6002" fill="hold">
                            <p:stCondLst>
                              <p:cond delay="0"/>
                            </p:stCondLst>
                            <p:childTnLst>
                              <p:par>
                                <p:cTn id="60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5" dur="500" fill="hold"/>
                                        <p:tgtEl>
                                          <p:spTgt spid="3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6" dur="500" fill="hold"/>
                                        <p:tgtEl>
                                          <p:spTgt spid="3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08" fill="hold">
                      <p:stCondLst>
                        <p:cond delay="indefinite"/>
                      </p:stCondLst>
                      <p:childTnLst>
                        <p:par>
                          <p:cTn id="6009" fill="hold">
                            <p:stCondLst>
                              <p:cond delay="0"/>
                            </p:stCondLst>
                            <p:childTnLst>
                              <p:par>
                                <p:cTn id="60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2" dur="500"/>
                                        <p:tgtEl>
                                          <p:spTgt spid="3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3" fill="hold">
                      <p:stCondLst>
                        <p:cond delay="indefinite"/>
                      </p:stCondLst>
                      <p:childTnLst>
                        <p:par>
                          <p:cTn id="6014" fill="hold">
                            <p:stCondLst>
                              <p:cond delay="0"/>
                            </p:stCondLst>
                            <p:childTnLst>
                              <p:par>
                                <p:cTn id="60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7" dur="500" fill="hold"/>
                                        <p:tgtEl>
                                          <p:spTgt spid="3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8" dur="500" fill="hold"/>
                                        <p:tgtEl>
                                          <p:spTgt spid="3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9" fill="hold">
                            <p:stCondLst>
                              <p:cond delay="500"/>
                            </p:stCondLst>
                            <p:childTnLst>
                              <p:par>
                                <p:cTn id="60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2" dur="500" fill="hold"/>
                                        <p:tgtEl>
                                          <p:spTgt spid="3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3" dur="500" fill="hold"/>
                                        <p:tgtEl>
                                          <p:spTgt spid="3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25" fill="hold">
                      <p:stCondLst>
                        <p:cond delay="indefinite"/>
                      </p:stCondLst>
                      <p:childTnLst>
                        <p:par>
                          <p:cTn id="6026" fill="hold">
                            <p:stCondLst>
                              <p:cond delay="0"/>
                            </p:stCondLst>
                            <p:childTnLst>
                              <p:par>
                                <p:cTn id="6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9" dur="500"/>
                                        <p:tgtEl>
                                          <p:spTgt spid="3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31" fill="hold">
                      <p:stCondLst>
                        <p:cond delay="indefinite"/>
                      </p:stCondLst>
                      <p:childTnLst>
                        <p:par>
                          <p:cTn id="6032" fill="hold">
                            <p:stCondLst>
                              <p:cond delay="0"/>
                            </p:stCondLst>
                            <p:childTnLst>
                              <p:par>
                                <p:cTn id="60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5" dur="500"/>
                                        <p:tgtEl>
                                          <p:spTgt spid="3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6" fill="hold">
                      <p:stCondLst>
                        <p:cond delay="indefinite"/>
                      </p:stCondLst>
                      <p:childTnLst>
                        <p:par>
                          <p:cTn id="6037" fill="hold">
                            <p:stCondLst>
                              <p:cond delay="0"/>
                            </p:stCondLst>
                            <p:childTnLst>
                              <p:par>
                                <p:cTn id="60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0" dur="500" fill="hold"/>
                                        <p:tgtEl>
                                          <p:spTgt spid="3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1" dur="500" fill="hold"/>
                                        <p:tgtEl>
                                          <p:spTgt spid="3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2" fill="hold">
                            <p:stCondLst>
                              <p:cond delay="500"/>
                            </p:stCondLst>
                            <p:childTnLst>
                              <p:par>
                                <p:cTn id="60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5" dur="500" fill="hold"/>
                                        <p:tgtEl>
                                          <p:spTgt spid="3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6" dur="500" fill="hold"/>
                                        <p:tgtEl>
                                          <p:spTgt spid="3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1" dur="500" fill="hold"/>
                                        <p:tgtEl>
                                          <p:spTgt spid="3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2" dur="500" fill="hold"/>
                                        <p:tgtEl>
                                          <p:spTgt spid="3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3" fill="hold">
                      <p:stCondLst>
                        <p:cond delay="indefinite"/>
                      </p:stCondLst>
                      <p:childTnLst>
                        <p:par>
                          <p:cTn id="6054" fill="hold">
                            <p:stCondLst>
                              <p:cond delay="0"/>
                            </p:stCondLst>
                            <p:childTnLst>
                              <p:par>
                                <p:cTn id="60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57" dur="500"/>
                                        <p:tgtEl>
                                          <p:spTgt spid="3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8" fill="hold">
                            <p:stCondLst>
                              <p:cond delay="500"/>
                            </p:stCondLst>
                            <p:childTnLst>
                              <p:par>
                                <p:cTn id="605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1" dur="500" fill="hold"/>
                                        <p:tgtEl>
                                          <p:spTgt spid="3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2" dur="500" fill="hold"/>
                                        <p:tgtEl>
                                          <p:spTgt spid="3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7" name="" descr=""/>
          <p:cNvPicPr/>
          <p:nvPr/>
        </p:nvPicPr>
        <p:blipFill>
          <a:blip r:embed="rId1"/>
          <a:stretch/>
        </p:blipFill>
        <p:spPr>
          <a:xfrm>
            <a:off x="3733920" y="190512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3348" name="">
            <a:hlinkClick r:id="rId2"/>
          </p:cNvPr>
          <p:cNvSpPr/>
          <p:nvPr/>
        </p:nvSpPr>
        <p:spPr>
          <a:xfrm>
            <a:off x="7010280" y="5334120"/>
            <a:ext cx="1295640" cy="761760"/>
          </a:xfrm>
          <a:custGeom>
            <a:avLst/>
            <a:gdLst>
              <a:gd name="textAreaLeft" fmla="*/ 49320 w 1295640"/>
              <a:gd name="textAreaRight" fmla="*/ 1246320 w 12956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6731" h="21600">
                <a:moveTo>
                  <a:pt x="0" y="0"/>
                </a:moveTo>
                <a:lnTo>
                  <a:pt x="36731" y="0"/>
                </a:lnTo>
                <a:lnTo>
                  <a:pt x="36731" y="21600"/>
                </a:lnTo>
                <a:lnTo>
                  <a:pt x="0" y="21600"/>
                </a:lnTo>
                <a:close/>
              </a:path>
              <a:path fill="lightenLess" w="36731" h="21600">
                <a:moveTo>
                  <a:pt x="0" y="0"/>
                </a:moveTo>
                <a:lnTo>
                  <a:pt x="36731" y="0"/>
                </a:lnTo>
                <a:lnTo>
                  <a:pt x="35331" y="1400"/>
                </a:lnTo>
                <a:lnTo>
                  <a:pt x="1400" y="1400"/>
                </a:lnTo>
                <a:close/>
              </a:path>
              <a:path fill="darken" w="36731" h="21600">
                <a:moveTo>
                  <a:pt x="36731" y="0"/>
                </a:moveTo>
                <a:lnTo>
                  <a:pt x="36731" y="21600"/>
                </a:lnTo>
                <a:lnTo>
                  <a:pt x="35331" y="20200"/>
                </a:lnTo>
                <a:lnTo>
                  <a:pt x="35331" y="1400"/>
                </a:lnTo>
                <a:close/>
              </a:path>
              <a:path fill="darkenLess" w="36731" h="21600">
                <a:moveTo>
                  <a:pt x="36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31" y="20200"/>
                </a:lnTo>
                <a:close/>
              </a:path>
              <a:path fill="lighten" w="36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31" h="21600">
                <a:moveTo>
                  <a:pt x="11359" y="3794"/>
                </a:moveTo>
                <a:lnTo>
                  <a:pt x="25372" y="10800"/>
                </a:lnTo>
                <a:lnTo>
                  <a:pt x="11359" y="17806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3" dur="indefinite" restart="never" nodeType="tmRoot">
          <p:childTnLst>
            <p:seq>
              <p:cTn id="6064" dur="indefinite" nodeType="mainSeq">
                <p:childTnLst>
                  <p:par>
                    <p:cTn id="6065" fill="hold">
                      <p:stCondLst>
                        <p:cond delay="0"/>
                      </p:stCondLst>
                      <p:childTnLst>
                        <p:par>
                          <p:cTn id="6066" fill="hold">
                            <p:stCondLst>
                              <p:cond delay="0"/>
                            </p:stCondLst>
                            <p:childTnLst>
                              <p:par>
                                <p:cTn id="606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9" dur="5000" fill="hold"/>
                                        <p:tgtEl>
                                          <p:spTgt spid="3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0" dur="5000" fill="hold"/>
                                        <p:tgtEl>
                                          <p:spTgt spid="3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phore: Implementation (3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by 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C create, P, 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lock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s current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s CPU-schedu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keup (P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kes up process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phore: Implementation (4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90720" y="1905120"/>
            <a:ext cx="2743200" cy="3962160"/>
          </a:xfrm>
          <a:prstGeom prst="rect">
            <a:avLst/>
          </a:prstGeom>
          <a:solidFill>
            <a:srgbClr val="94b2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 (&amp;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67080" y="1905120"/>
            <a:ext cx="4343400" cy="39621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19720" y="2590920"/>
            <a:ext cx="3276360" cy="19047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C-service routin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(svc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Psvc:  P(&amp;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43400" y="4572000"/>
            <a:ext cx="1828800" cy="114300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P(…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10080" y="3733920"/>
            <a:ext cx="1613160" cy="990360"/>
          </a:xfrm>
          <a:custGeom>
            <a:avLst/>
            <a:gdLst/>
            <a:ahLst/>
            <a:rect l="l" t="t" r="r" b="b"/>
            <a:pathLst>
              <a:path w="1016" h="720">
                <a:moveTo>
                  <a:pt x="960" y="0"/>
                </a:moveTo>
                <a:cubicBezTo>
                  <a:pt x="988" y="128"/>
                  <a:pt x="1016" y="256"/>
                  <a:pt x="912" y="336"/>
                </a:cubicBezTo>
                <a:cubicBezTo>
                  <a:pt x="808" y="416"/>
                  <a:pt x="472" y="440"/>
                  <a:pt x="336" y="480"/>
                </a:cubicBezTo>
                <a:cubicBezTo>
                  <a:pt x="200" y="520"/>
                  <a:pt x="152" y="536"/>
                  <a:pt x="96" y="576"/>
                </a:cubicBezTo>
                <a:cubicBezTo>
                  <a:pt x="40" y="616"/>
                  <a:pt x="20" y="668"/>
                  <a:pt x="0" y="72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3809880"/>
            <a:ext cx="2514600" cy="16002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P(…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C Psvc,&amp;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2895480"/>
            <a:ext cx="838080" cy="1689120"/>
          </a:xfrm>
          <a:custGeom>
            <a:avLst/>
            <a:gdLst/>
            <a:ahLst/>
            <a:rect l="l" t="t" r="r" b="b"/>
            <a:pathLst>
              <a:path w="912" h="344">
                <a:moveTo>
                  <a:pt x="0" y="344"/>
                </a:moveTo>
                <a:cubicBezTo>
                  <a:pt x="92" y="228"/>
                  <a:pt x="184" y="112"/>
                  <a:pt x="336" y="56"/>
                </a:cubicBezTo>
                <a:cubicBezTo>
                  <a:pt x="488" y="0"/>
                  <a:pt x="700" y="4"/>
                  <a:pt x="912" y="8"/>
                </a:cubicBezTo>
              </a:path>
            </a:pathLst>
          </a:custGeom>
          <a:noFill/>
          <a:ln w="572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4280" y="2971800"/>
            <a:ext cx="1168200" cy="1092240"/>
          </a:xfrm>
          <a:custGeom>
            <a:avLst/>
            <a:gdLst/>
            <a:ahLst/>
            <a:rect l="l" t="t" r="r" b="b"/>
            <a:pathLst>
              <a:path w="736" h="496">
                <a:moveTo>
                  <a:pt x="736" y="0"/>
                </a:moveTo>
                <a:cubicBezTo>
                  <a:pt x="532" y="12"/>
                  <a:pt x="328" y="24"/>
                  <a:pt x="208" y="96"/>
                </a:cubicBezTo>
                <a:cubicBezTo>
                  <a:pt x="88" y="168"/>
                  <a:pt x="0" y="368"/>
                  <a:pt x="16" y="432"/>
                </a:cubicBezTo>
                <a:cubicBezTo>
                  <a:pt x="32" y="496"/>
                  <a:pt x="168" y="488"/>
                  <a:pt x="304" y="48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81080" y="5513400"/>
            <a:ext cx="200052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925" y="-11172"/>
                </a:moveTo>
                <a:lnTo>
                  <a:pt x="-823" y="5254"/>
                </a:lnTo>
              </a:path>
              <a:path w="21600" h="21600">
                <a:moveTo>
                  <a:pt x="-823" y="0"/>
                </a:moveTo>
                <a:lnTo>
                  <a:pt x="-823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tub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72200" y="4800600"/>
            <a:ext cx="1523880" cy="609480"/>
          </a:xfrm>
          <a:prstGeom prst="leftArrow">
            <a:avLst>
              <a:gd name="adj1" fmla="val 50000"/>
              <a:gd name="adj2" fmla="val 62507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phore: Implementation (5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520" y="3428640"/>
            <a:ext cx="403884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oid P (semaphore *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s-&gt;value == 0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add process to s-&gt;queue...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279f"/>
                </a:solidFill>
                <a:latin typeface="Arial"/>
              </a:rPr>
              <a:t>block()</a:t>
            </a:r>
            <a:r>
              <a:rPr b="1" i="1" lang="en-US" sz="2400" spc="-1" strike="noStrike" baseline="30000">
                <a:solidFill>
                  <a:srgbClr val="fc0128"/>
                </a:solidFill>
                <a:latin typeface="Arial"/>
              </a:rPr>
              <a:t>§</a:t>
            </a:r>
            <a:r>
              <a:rPr b="1" i="1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-&gt;value --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1523880"/>
            <a:ext cx="7920" cy="406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3520" y="1523880"/>
            <a:ext cx="403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typedef semaphore struc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nt  val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list queu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0" y="2286000"/>
            <a:ext cx="4343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oid V (semaphore *s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</a:t>
            </a: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s-&gt;queue not empty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rocess p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...remove from s-&gt;queue...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279f"/>
                </a:solidFill>
                <a:latin typeface="Arial"/>
              </a:rPr>
              <a:t>wakeup (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-&gt;value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3200400"/>
            <a:ext cx="4038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68880" y="5734080"/>
            <a:ext cx="592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§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roc.state = waiting; invoke CPU-scheduler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24720" y="4365720"/>
            <a:ext cx="330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&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292720" y="3230640"/>
            <a:ext cx="2232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-&gt;value &lt;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226 E">
                                      <p:cBhvr>
                                        <p:cTn id="638" dur="2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226 E">
                                      <p:cBhvr>
                                        <p:cTn id="640" dur="2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226 E">
                                      <p:cBhvr>
                                        <p:cTn id="642" dur="20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226 E">
                                      <p:cBhvr>
                                        <p:cTn id="644" dur="20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826 E">
                                      <p:cBhvr>
                                        <p:cTn id="646" dur="20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248 E">
                                      <p:cBhvr>
                                        <p:cTn id="656" dur="2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248 E">
                                      <p:cBhvr>
                                        <p:cTn id="658" dur="2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248 E">
                                      <p:cBhvr>
                                        <p:cTn id="660" dur="20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248 E">
                                      <p:cBhvr>
                                        <p:cTn id="662" dur="20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248 E">
                                      <p:cBhvr>
                                        <p:cTn id="664" dur="20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2012 E">
                                      <p:cBhvr>
                                        <p:cTn id="666" dur="2000" fill="hold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phore: Implementation (5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80520" y="3428640"/>
            <a:ext cx="403884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oid P (semaphore *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-&gt;value --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s-&gt;value &lt; 0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add process to s-&gt;queue...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279f"/>
                </a:solidFill>
                <a:latin typeface="Arial"/>
              </a:rPr>
              <a:t>block()</a:t>
            </a:r>
            <a:r>
              <a:rPr b="1" i="1" lang="en-US" sz="2400" spc="-1" strike="noStrike" baseline="30000">
                <a:solidFill>
                  <a:srgbClr val="fc0128"/>
                </a:solidFill>
                <a:latin typeface="Arial"/>
              </a:rPr>
              <a:t>§</a:t>
            </a:r>
            <a:r>
              <a:rPr b="1" i="1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1523880"/>
            <a:ext cx="7920" cy="406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1523880"/>
            <a:ext cx="403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typedef semaphore struc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nt  val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list queu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72000" y="2286000"/>
            <a:ext cx="4343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oid V (semaphore *s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-&gt;value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s-&gt;value &lt;= 0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rocess p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...remove from s-&gt;queue...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279f"/>
                </a:solidFill>
                <a:latin typeface="Arial"/>
              </a:rPr>
              <a:t>wakeup (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880" y="3200400"/>
            <a:ext cx="4038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68880" y="5734080"/>
            <a:ext cx="592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§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roc.state = waiting; invoke CPU-scheduler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aphore s = 1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phore: Implementation (6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37339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&amp;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5800" y="4191120"/>
            <a:ext cx="4191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(&amp;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46483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&amp;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5800" y="5105520"/>
            <a:ext cx="4191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(&amp;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5562720"/>
            <a:ext cx="4191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(&amp;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676520" y="3666960"/>
          <a:ext cx="533160" cy="5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666960"/>
                    <a:ext cx="5331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2514600" y="4059360"/>
          <a:ext cx="533520" cy="52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405936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762120" y="4995720"/>
          <a:ext cx="533160" cy="52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995720"/>
                    <a:ext cx="5331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2514600" y="4503600"/>
          <a:ext cx="533520" cy="524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14600" y="4503600"/>
                    <a:ext cx="53352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762120" y="5451480"/>
          <a:ext cx="533160" cy="523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5451480"/>
                    <a:ext cx="533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2514600" y="4981680"/>
          <a:ext cx="533520" cy="523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14600" y="498168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1981080" y="4267080"/>
            <a:ext cx="1524240" cy="330480"/>
          </a:xfrm>
          <a:custGeom>
            <a:avLst/>
            <a:gdLst/>
            <a:ahLst/>
            <a:rect l="l" t="t" r="r" b="b"/>
            <a:pathLst>
              <a:path w="864" h="208">
                <a:moveTo>
                  <a:pt x="864" y="112"/>
                </a:moveTo>
                <a:cubicBezTo>
                  <a:pt x="840" y="56"/>
                  <a:pt x="816" y="0"/>
                  <a:pt x="672" y="16"/>
                </a:cubicBezTo>
                <a:cubicBezTo>
                  <a:pt x="528" y="32"/>
                  <a:pt x="112" y="176"/>
                  <a:pt x="0" y="208"/>
                </a:cubicBezTo>
              </a:path>
            </a:pathLst>
          </a:custGeom>
          <a:noFill/>
          <a:ln w="38160">
            <a:solidFill>
              <a:srgbClr val="fc0128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676520" y="4089240"/>
          <a:ext cx="533160" cy="524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089240"/>
                    <a:ext cx="5331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 flipH="1">
            <a:off x="2209680" y="5105520"/>
            <a:ext cx="533520" cy="330120"/>
          </a:xfrm>
          <a:custGeom>
            <a:avLst/>
            <a:gdLst/>
            <a:ahLst/>
            <a:rect l="l" t="t" r="r" b="b"/>
            <a:pathLst>
              <a:path w="864" h="208">
                <a:moveTo>
                  <a:pt x="864" y="112"/>
                </a:moveTo>
                <a:cubicBezTo>
                  <a:pt x="840" y="56"/>
                  <a:pt x="816" y="0"/>
                  <a:pt x="672" y="16"/>
                </a:cubicBezTo>
                <a:cubicBezTo>
                  <a:pt x="528" y="32"/>
                  <a:pt x="112" y="176"/>
                  <a:pt x="0" y="208"/>
                </a:cubicBezTo>
              </a:path>
            </a:pathLst>
          </a:custGeom>
          <a:noFill/>
          <a:ln w="38160">
            <a:solidFill>
              <a:srgbClr val="fc0128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19320" y="5562720"/>
            <a:ext cx="2286000" cy="330120"/>
          </a:xfrm>
          <a:custGeom>
            <a:avLst/>
            <a:gdLst/>
            <a:ahLst/>
            <a:rect l="l" t="t" r="r" b="b"/>
            <a:pathLst>
              <a:path w="864" h="208">
                <a:moveTo>
                  <a:pt x="864" y="112"/>
                </a:moveTo>
                <a:cubicBezTo>
                  <a:pt x="840" y="56"/>
                  <a:pt x="816" y="0"/>
                  <a:pt x="672" y="16"/>
                </a:cubicBezTo>
                <a:cubicBezTo>
                  <a:pt x="528" y="32"/>
                  <a:pt x="112" y="176"/>
                  <a:pt x="0" y="208"/>
                </a:cubicBezTo>
              </a:path>
            </a:pathLst>
          </a:custGeom>
          <a:noFill/>
          <a:ln w="38160">
            <a:solidFill>
              <a:srgbClr val="fc0128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2394000"/>
            <a:ext cx="777240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&amp;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533520" y="1981080"/>
            <a:ext cx="7945200" cy="3810240"/>
            <a:chOff x="533520" y="1981080"/>
            <a:chExt cx="7945200" cy="3810240"/>
          </a:xfrm>
        </p:grpSpPr>
        <p:sp>
          <p:nvSpPr>
            <p:cNvPr id="357" name=""/>
            <p:cNvSpPr/>
            <p:nvPr/>
          </p:nvSpPr>
          <p:spPr>
            <a:xfrm>
              <a:off x="533520" y="2362320"/>
              <a:ext cx="693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29200" y="2057400"/>
              <a:ext cx="0" cy="373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6320" y="1981080"/>
              <a:ext cx="77724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6400800" y="1295280"/>
            <a:ext cx="2514600" cy="703800"/>
          </a:xfr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value| == ||queue|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257800" y="3733920"/>
            <a:ext cx="22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P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257800" y="3276720"/>
            <a:ext cx="22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P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7800" y="4191120"/>
            <a:ext cx="22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P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7800" y="4648320"/>
            <a:ext cx="22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P3 P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7800" y="5105520"/>
            <a:ext cx="22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P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257800" y="5562720"/>
            <a:ext cx="22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57800" y="2833560"/>
            <a:ext cx="22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" y="3276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&amp;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500"/>
                            </p:stCondLst>
                            <p:childTnLst>
                              <p:par>
                                <p:cTn id="7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phore: Implementation (7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oid P (semaphore *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26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-&gt;value --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s-&gt;value &lt; 0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d process to s-&gt;queue.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lock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00240" y="152388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oid V (semaphore *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-&gt;value++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s-&gt;value &lt;= 0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p =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move from s-&gt;queue ...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akeup (p);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716360" y="1523880"/>
            <a:ext cx="7920" cy="406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8080" y="2209680"/>
            <a:ext cx="99072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ntr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143000" y="3809880"/>
            <a:ext cx="83808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xit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38080" y="4708440"/>
            <a:ext cx="16002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Ex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029200" y="2193840"/>
            <a:ext cx="99072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ntr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029200" y="4784760"/>
            <a:ext cx="6858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x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phore: Implementation (8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3160" indent="-17316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oprocess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  <a:tab algn="l" pos="9701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/Exit == disable/enable interru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rocess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  <a:tab algn="l" pos="9701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/Exit == SW/HW Solution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still busy waiting but for short time!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No while-loop inside C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maphore: Implem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 Semaphore 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Kern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User C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Binary 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5" dur="2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666880" y="1600200"/>
          <a:ext cx="344016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600200"/>
                    <a:ext cx="34401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" name=""/>
          <p:cNvGrpSpPr/>
          <p:nvPr/>
        </p:nvGrpSpPr>
        <p:grpSpPr>
          <a:xfrm>
            <a:off x="1944720" y="3514320"/>
            <a:ext cx="1541160" cy="2048400"/>
            <a:chOff x="1944720" y="3514320"/>
            <a:chExt cx="1541160" cy="2048400"/>
          </a:xfrm>
        </p:grpSpPr>
        <p:sp>
          <p:nvSpPr>
            <p:cNvPr id="91" name=""/>
            <p:cNvSpPr/>
            <p:nvPr/>
          </p:nvSpPr>
          <p:spPr>
            <a:xfrm>
              <a:off x="2210040" y="3733920"/>
              <a:ext cx="228600" cy="1828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944720" y="3514320"/>
              <a:ext cx="1541160" cy="994320"/>
              <a:chOff x="1944720" y="3514320"/>
              <a:chExt cx="1541160" cy="994320"/>
            </a:xfrm>
          </p:grpSpPr>
          <p:sp>
            <p:nvSpPr>
              <p:cNvPr id="93" name=""/>
              <p:cNvSpPr/>
              <p:nvPr/>
            </p:nvSpPr>
            <p:spPr>
              <a:xfrm rot="3885600">
                <a:off x="2452320" y="3569760"/>
                <a:ext cx="152280" cy="12193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" name=""/>
              <p:cNvGrpSpPr/>
              <p:nvPr/>
            </p:nvGrpSpPr>
            <p:grpSpPr>
              <a:xfrm>
                <a:off x="2674800" y="3514320"/>
                <a:ext cx="811080" cy="811080"/>
                <a:chOff x="2674800" y="3514320"/>
                <a:chExt cx="811080" cy="811080"/>
              </a:xfrm>
            </p:grpSpPr>
            <p:sp>
              <p:nvSpPr>
                <p:cNvPr id="95" name=""/>
                <p:cNvSpPr/>
                <p:nvPr/>
              </p:nvSpPr>
              <p:spPr>
                <a:xfrm rot="3885600">
                  <a:off x="2775240" y="3615120"/>
                  <a:ext cx="609480" cy="6094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rot="3885600">
                  <a:off x="2927880" y="376740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7" name=""/>
          <p:cNvSpPr/>
          <p:nvPr/>
        </p:nvSpPr>
        <p:spPr>
          <a:xfrm>
            <a:off x="6516720" y="4508640"/>
            <a:ext cx="233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jk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°1936 - †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6659640" y="1700280"/>
            <a:ext cx="1998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maphore: Race Condi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 Semaphores in user code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C block, SVC wake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/Exit == SW/HW solu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process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 scheduling is not pre-emp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phore: Race Con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oid P (semaphore *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26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-&gt;value --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s-&gt;value &lt; 0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d process to s-&gt;queue.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lock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00240" y="152388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oid V (semaphore *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-&gt;value++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s-&gt;value &lt;= 0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p =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move from s-&gt;queue ...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akeup (p);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724280" y="152388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38080" y="2209680"/>
            <a:ext cx="99072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ntr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43000" y="3809880"/>
            <a:ext cx="83808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xit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38080" y="4708440"/>
            <a:ext cx="16002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Ex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029200" y="2193840"/>
            <a:ext cx="99072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ntr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29200" y="4784760"/>
            <a:ext cx="6858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x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76520" y="3809880"/>
            <a:ext cx="304560" cy="45720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143000" y="3809880"/>
            <a:ext cx="83808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xit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828800" y="3733920"/>
            <a:ext cx="152280" cy="685440"/>
            <a:chOff x="1828800" y="3733920"/>
            <a:chExt cx="152280" cy="685440"/>
          </a:xfrm>
        </p:grpSpPr>
        <p:sp>
          <p:nvSpPr>
            <p:cNvPr id="396" name=""/>
            <p:cNvSpPr/>
            <p:nvPr/>
          </p:nvSpPr>
          <p:spPr>
            <a:xfrm>
              <a:off x="1828800" y="3733920"/>
              <a:ext cx="152280" cy="1368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1866240" y="3870720"/>
              <a:ext cx="114120" cy="20556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66600" y="4076640"/>
              <a:ext cx="114120" cy="20556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1866240" y="4282560"/>
              <a:ext cx="114120" cy="1368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2314440" y="4191120"/>
            <a:ext cx="1952640" cy="459720"/>
          </a:xfrm>
          <a:prstGeom prst="borderCallout1">
            <a:avLst>
              <a:gd name="adj1" fmla="val 18750"/>
              <a:gd name="adj2" fmla="val -8333"/>
              <a:gd name="adj3" fmla="val -12361"/>
              <a:gd name="adj4" fmla="val -21935"/>
            </a:avLst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Pre-e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00"/>
                            </p:stCondLst>
                            <p:childTnLst>
                              <p:par>
                                <p:cTn id="8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500"/>
                            </p:stCondLst>
                            <p:childTnLst>
                              <p:par>
                                <p:cTn id="9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maphore: Race condi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767040"/>
                <a:tab algn="l" pos="3838680"/>
                <a:tab algn="l" pos="4133880"/>
                <a:tab algn="l" pos="4429080"/>
                <a:tab algn="l" pos="4724280"/>
                <a:tab algn="l" pos="5019840"/>
                <a:tab algn="l" pos="5315040"/>
                <a:tab algn="l" pos="5610240"/>
                <a:tab algn="l" pos="5905440"/>
                <a:tab algn="l" pos="6200640"/>
                <a:tab algn="l" pos="6496200"/>
                <a:tab algn="l" pos="6791400"/>
                <a:tab algn="l" pos="7086600"/>
                <a:tab algn="l" pos="7381800"/>
                <a:tab algn="l" pos="7677000"/>
                <a:tab algn="l" pos="7972560"/>
                <a:tab algn="l" pos="8267760"/>
                <a:tab algn="l" pos="8562960"/>
                <a:tab algn="l" pos="8858160"/>
                <a:tab algn="l" pos="9153360"/>
                <a:tab algn="l" pos="944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1: P(&amp;sem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2: V(&amp;s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767040"/>
                <a:tab algn="l" pos="3838680"/>
                <a:tab algn="l" pos="4133880"/>
                <a:tab algn="l" pos="4429080"/>
                <a:tab algn="l" pos="4724280"/>
                <a:tab algn="l" pos="5019840"/>
                <a:tab algn="l" pos="5315040"/>
                <a:tab algn="l" pos="5610240"/>
                <a:tab algn="l" pos="5905440"/>
                <a:tab algn="l" pos="6200640"/>
                <a:tab algn="l" pos="6496200"/>
                <a:tab algn="l" pos="6791400"/>
                <a:tab algn="l" pos="7086600"/>
                <a:tab algn="l" pos="7381800"/>
                <a:tab algn="l" pos="7677000"/>
                <a:tab algn="l" pos="7972560"/>
                <a:tab algn="l" pos="8267760"/>
                <a:tab algn="l" pos="8562960"/>
                <a:tab algn="l" pos="8858160"/>
                <a:tab algn="l" pos="9153360"/>
                <a:tab algn="l" pos="94489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767040"/>
                <a:tab algn="l" pos="3838680"/>
                <a:tab algn="l" pos="4133880"/>
                <a:tab algn="l" pos="4429080"/>
                <a:tab algn="l" pos="4724280"/>
                <a:tab algn="l" pos="5019840"/>
                <a:tab algn="l" pos="5315040"/>
                <a:tab algn="l" pos="5610240"/>
                <a:tab algn="l" pos="5905440"/>
                <a:tab algn="l" pos="6200640"/>
                <a:tab algn="l" pos="6496200"/>
                <a:tab algn="l" pos="6791400"/>
                <a:tab algn="l" pos="7086600"/>
                <a:tab algn="l" pos="7381800"/>
                <a:tab algn="l" pos="7677000"/>
                <a:tab algn="l" pos="7972560"/>
                <a:tab algn="l" pos="8267760"/>
                <a:tab algn="l" pos="8562960"/>
                <a:tab algn="l" pos="8858160"/>
                <a:tab algn="l" pos="9153360"/>
                <a:tab algn="l" pos="9448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767040"/>
                <a:tab algn="l" pos="3838680"/>
                <a:tab algn="l" pos="4133880"/>
                <a:tab algn="l" pos="4429080"/>
                <a:tab algn="l" pos="4724280"/>
                <a:tab algn="l" pos="5019840"/>
                <a:tab algn="l" pos="5315040"/>
                <a:tab algn="l" pos="5610240"/>
                <a:tab algn="l" pos="5905440"/>
                <a:tab algn="l" pos="6200640"/>
                <a:tab algn="l" pos="6496200"/>
                <a:tab algn="l" pos="6791400"/>
                <a:tab algn="l" pos="7086600"/>
                <a:tab algn="l" pos="7381800"/>
                <a:tab algn="l" pos="7677000"/>
                <a:tab algn="l" pos="7972560"/>
                <a:tab algn="l" pos="8267760"/>
                <a:tab algn="l" pos="8562960"/>
                <a:tab algn="l" pos="8858160"/>
                <a:tab algn="l" pos="9153360"/>
                <a:tab algn="l" pos="9448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767040"/>
                <a:tab algn="l" pos="3838680"/>
                <a:tab algn="l" pos="4133880"/>
                <a:tab algn="l" pos="4429080"/>
                <a:tab algn="l" pos="4724280"/>
                <a:tab algn="l" pos="5019840"/>
                <a:tab algn="l" pos="5315040"/>
                <a:tab algn="l" pos="5610240"/>
                <a:tab algn="l" pos="5905440"/>
                <a:tab algn="l" pos="6200640"/>
                <a:tab algn="l" pos="6496200"/>
                <a:tab algn="l" pos="6791400"/>
                <a:tab algn="l" pos="7086600"/>
                <a:tab algn="l" pos="7381800"/>
                <a:tab algn="l" pos="7677000"/>
                <a:tab algn="l" pos="7972560"/>
                <a:tab algn="l" pos="8267760"/>
                <a:tab algn="l" pos="8562960"/>
                <a:tab algn="l" pos="8858160"/>
                <a:tab algn="l" pos="9153360"/>
                <a:tab algn="l" pos="9448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629400" y="4267080"/>
            <a:ext cx="1219320" cy="609840"/>
          </a:xfrm>
          <a:prstGeom prst="leftArrow">
            <a:avLst>
              <a:gd name="adj1" fmla="val 50000"/>
              <a:gd name="adj2" fmla="val 49985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NO-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19720" y="152388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685440" y="1981080"/>
            <a:ext cx="7620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133720" y="3352680"/>
            <a:ext cx="1952640" cy="459720"/>
          </a:xfrm>
          <a:prstGeom prst="borderCallout1">
            <a:avLst>
              <a:gd name="adj1" fmla="val 18750"/>
              <a:gd name="adj2" fmla="val -8333"/>
              <a:gd name="adj3" fmla="val -8837"/>
              <a:gd name="adj4" fmla="val -43166"/>
            </a:avLst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Pre-e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33560" y="1933560"/>
            <a:ext cx="329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 to s-&gt;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572000" y="281952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try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-&gt;value++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s-&gt;value &lt;= 0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p = … remov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keup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47600" y="5638680"/>
            <a:ext cx="32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lo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0" y="464976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00"/>
                            </p:stCondLst>
                            <p:childTnLst>
                              <p:par>
                                <p:cTn id="9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1000"/>
                            </p:stCondLst>
                            <p:childTnLst>
                              <p:par>
                                <p:cTn id="9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8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3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8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3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nary Semapho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stat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648320" y="1523880"/>
            <a:ext cx="3962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lock (s) 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s == locked)  {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lock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unlock (s) 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op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ock(s) when op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= N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914400" y="3200400"/>
            <a:ext cx="1220400" cy="1526400"/>
            <a:chOff x="914400" y="3200400"/>
            <a:chExt cx="1220400" cy="1526400"/>
          </a:xfrm>
        </p:grpSpPr>
        <p:grpSp>
          <p:nvGrpSpPr>
            <p:cNvPr id="415" name=""/>
            <p:cNvGrpSpPr/>
            <p:nvPr/>
          </p:nvGrpSpPr>
          <p:grpSpPr>
            <a:xfrm>
              <a:off x="1294920" y="3200400"/>
              <a:ext cx="839880" cy="914400"/>
              <a:chOff x="1294920" y="3200400"/>
              <a:chExt cx="839880" cy="914400"/>
            </a:xfrm>
          </p:grpSpPr>
          <p:sp>
            <p:nvSpPr>
              <p:cNvPr id="416" name=""/>
              <p:cNvSpPr/>
              <p:nvPr/>
            </p:nvSpPr>
            <p:spPr>
              <a:xfrm>
                <a:off x="1463760" y="3200400"/>
                <a:ext cx="125280" cy="9144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7" name=""/>
              <p:cNvGrpSpPr/>
              <p:nvPr/>
            </p:nvGrpSpPr>
            <p:grpSpPr>
              <a:xfrm>
                <a:off x="1294920" y="3239640"/>
                <a:ext cx="839880" cy="307800"/>
                <a:chOff x="1294920" y="3239640"/>
                <a:chExt cx="839880" cy="307800"/>
              </a:xfrm>
            </p:grpSpPr>
            <p:sp>
              <p:nvSpPr>
                <p:cNvPr id="418" name=""/>
                <p:cNvSpPr/>
                <p:nvPr/>
              </p:nvSpPr>
              <p:spPr>
                <a:xfrm rot="5434200">
                  <a:off x="1592280" y="3054240"/>
                  <a:ext cx="75960" cy="67068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9" name=""/>
                <p:cNvGrpSpPr/>
                <p:nvPr/>
              </p:nvGrpSpPr>
              <p:grpSpPr>
                <a:xfrm>
                  <a:off x="1796760" y="3239640"/>
                  <a:ext cx="338040" cy="307800"/>
                  <a:chOff x="1796760" y="3239640"/>
                  <a:chExt cx="338040" cy="30780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 rot="5434200">
                    <a:off x="1813320" y="3225600"/>
                    <a:ext cx="304560" cy="3351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rot="5434200">
                    <a:off x="1889640" y="3309120"/>
                    <a:ext cx="15228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22" name=""/>
            <p:cNvSpPr/>
            <p:nvPr/>
          </p:nvSpPr>
          <p:spPr>
            <a:xfrm>
              <a:off x="914400" y="42670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k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2209680" y="3074040"/>
            <a:ext cx="1524240" cy="1652760"/>
            <a:chOff x="2209680" y="3074040"/>
            <a:chExt cx="1524240" cy="1652760"/>
          </a:xfrm>
        </p:grpSpPr>
        <p:grpSp>
          <p:nvGrpSpPr>
            <p:cNvPr id="424" name=""/>
            <p:cNvGrpSpPr/>
            <p:nvPr/>
          </p:nvGrpSpPr>
          <p:grpSpPr>
            <a:xfrm>
              <a:off x="2614680" y="3074040"/>
              <a:ext cx="839520" cy="1040760"/>
              <a:chOff x="2614680" y="3074040"/>
              <a:chExt cx="839520" cy="1040760"/>
            </a:xfrm>
          </p:grpSpPr>
          <p:sp>
            <p:nvSpPr>
              <p:cNvPr id="425" name=""/>
              <p:cNvSpPr/>
              <p:nvPr/>
            </p:nvSpPr>
            <p:spPr>
              <a:xfrm>
                <a:off x="2758320" y="3200400"/>
                <a:ext cx="125640" cy="9144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6" name=""/>
              <p:cNvGrpSpPr/>
              <p:nvPr/>
            </p:nvGrpSpPr>
            <p:grpSpPr>
              <a:xfrm>
                <a:off x="2614680" y="3074040"/>
                <a:ext cx="839520" cy="529200"/>
                <a:chOff x="2614680" y="3074040"/>
                <a:chExt cx="839520" cy="529200"/>
              </a:xfrm>
            </p:grpSpPr>
            <p:sp>
              <p:nvSpPr>
                <p:cNvPr id="427" name=""/>
                <p:cNvSpPr/>
                <p:nvPr/>
              </p:nvSpPr>
              <p:spPr>
                <a:xfrm rot="3885600">
                  <a:off x="2895840" y="3090600"/>
                  <a:ext cx="75960" cy="67068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8" name=""/>
                <p:cNvGrpSpPr/>
                <p:nvPr/>
              </p:nvGrpSpPr>
              <p:grpSpPr>
                <a:xfrm>
                  <a:off x="3021120" y="3074040"/>
                  <a:ext cx="433080" cy="418680"/>
                  <a:chOff x="3021120" y="3074040"/>
                  <a:chExt cx="433080" cy="41868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rot="3885600">
                    <a:off x="3085200" y="3115800"/>
                    <a:ext cx="304920" cy="3351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rot="3885600">
                    <a:off x="3161160" y="3199320"/>
                    <a:ext cx="15264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31" name=""/>
            <p:cNvSpPr/>
            <p:nvPr/>
          </p:nvSpPr>
          <p:spPr>
            <a:xfrm>
              <a:off x="2209680" y="42670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p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0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5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0" dur="5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5" dur="500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nary Semapho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CS 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Sema mutex = open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648320" y="1523880"/>
            <a:ext cx="3962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blocking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Sema block = lock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62120" y="3048120"/>
            <a:ext cx="2666880" cy="144756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k (&amp;mute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  …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C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ock (&amp;mute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0600" y="3048120"/>
            <a:ext cx="2514600" cy="144756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k (&amp;bloc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2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2" dur="5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maphore: Implem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 Semaphore 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Kern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User C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Binary 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3" dur="2000" fill="hold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09480" y="3365640"/>
            <a:ext cx="4051440" cy="876240"/>
          </a:xfrm>
          <a:custGeom>
            <a:avLst/>
            <a:gdLst/>
            <a:ahLst/>
            <a:rect l="l" t="t" r="r" b="b"/>
            <a:pathLst>
              <a:path w="2552" h="552">
                <a:moveTo>
                  <a:pt x="2200" y="40"/>
                </a:moveTo>
                <a:cubicBezTo>
                  <a:pt x="1848" y="40"/>
                  <a:pt x="656" y="8"/>
                  <a:pt x="328" y="40"/>
                </a:cubicBezTo>
                <a:cubicBezTo>
                  <a:pt x="0" y="72"/>
                  <a:pt x="152" y="192"/>
                  <a:pt x="232" y="232"/>
                </a:cubicBezTo>
                <a:cubicBezTo>
                  <a:pt x="312" y="272"/>
                  <a:pt x="704" y="240"/>
                  <a:pt x="808" y="280"/>
                </a:cubicBezTo>
                <a:cubicBezTo>
                  <a:pt x="912" y="320"/>
                  <a:pt x="768" y="432"/>
                  <a:pt x="856" y="472"/>
                </a:cubicBezTo>
                <a:cubicBezTo>
                  <a:pt x="944" y="512"/>
                  <a:pt x="1232" y="552"/>
                  <a:pt x="1336" y="520"/>
                </a:cubicBezTo>
                <a:cubicBezTo>
                  <a:pt x="1440" y="488"/>
                  <a:pt x="1304" y="320"/>
                  <a:pt x="1480" y="280"/>
                </a:cubicBezTo>
                <a:cubicBezTo>
                  <a:pt x="1656" y="240"/>
                  <a:pt x="2232" y="320"/>
                  <a:pt x="2392" y="280"/>
                </a:cubicBezTo>
                <a:cubicBezTo>
                  <a:pt x="2552" y="240"/>
                  <a:pt x="2472" y="80"/>
                  <a:pt x="2440" y="40"/>
                </a:cubicBezTo>
                <a:cubicBezTo>
                  <a:pt x="2408" y="0"/>
                  <a:pt x="2552" y="40"/>
                  <a:pt x="2200" y="40"/>
                </a:cubicBezTo>
                <a:close/>
              </a:path>
            </a:pathLst>
          </a:custGeom>
          <a:solidFill>
            <a:srgbClr val="ff95a7"/>
          </a:solidFill>
          <a:ln w="38160">
            <a:solidFill>
              <a:srgbClr val="fc0128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181480" y="3276720"/>
            <a:ext cx="3429000" cy="1218960"/>
          </a:xfrm>
          <a:prstGeom prst="roundRect">
            <a:avLst>
              <a:gd name="adj" fmla="val 16667"/>
            </a:avLst>
          </a:prstGeom>
          <a:solidFill>
            <a:srgbClr val="ff95a7"/>
          </a:solidFill>
          <a:ln w="3816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phore: Implem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724280" y="152388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609480" y="1523880"/>
            <a:ext cx="4267080" cy="4572000"/>
            <a:chOff x="609480" y="1523880"/>
            <a:chExt cx="4267080" cy="4572000"/>
          </a:xfrm>
        </p:grpSpPr>
        <p:sp>
          <p:nvSpPr>
            <p:cNvPr id="444" name=""/>
            <p:cNvSpPr/>
            <p:nvPr/>
          </p:nvSpPr>
          <p:spPr>
            <a:xfrm>
              <a:off x="609480" y="1523880"/>
              <a:ext cx="426708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173160" indent="-17316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void P (semaphore *s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260000"/>
                </a:lnSpc>
                <a:spcBef>
                  <a:spcPts val="499"/>
                </a:spcBef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-&gt;value --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f (s-&gt;value &lt; 0)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add process to s-&gt;queue..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block(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110000"/>
                </a:lnSpc>
                <a:spcBef>
                  <a:spcPts val="499"/>
                </a:spcBef>
                <a:buClr>
                  <a:srgbClr val="000000"/>
                </a:buClr>
                <a:buFont typeface="Helvetica"/>
                <a:buChar char="•"/>
                <a:tabLst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4600" y="2209680"/>
              <a:ext cx="990720" cy="398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Entry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109520" y="3809880"/>
              <a:ext cx="838080" cy="398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Exit 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4600" y="4708440"/>
              <a:ext cx="1600200" cy="398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lse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 Exi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795920" y="1523880"/>
            <a:ext cx="3886200" cy="4572000"/>
            <a:chOff x="4795920" y="1523880"/>
            <a:chExt cx="3886200" cy="4572000"/>
          </a:xfrm>
        </p:grpSpPr>
        <p:sp>
          <p:nvSpPr>
            <p:cNvPr id="449" name=""/>
            <p:cNvSpPr/>
            <p:nvPr/>
          </p:nvSpPr>
          <p:spPr>
            <a:xfrm>
              <a:off x="4795920" y="1523880"/>
              <a:ext cx="38862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230040" indent="-23004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38120"/>
                  <a:tab algn="l" pos="657360"/>
                  <a:tab algn="l" pos="876240"/>
                  <a:tab algn="l" pos="1095480"/>
                  <a:tab algn="l" pos="1314360"/>
                  <a:tab algn="l" pos="1533600"/>
                  <a:tab algn="l" pos="1752480"/>
                  <a:tab algn="l" pos="1971720"/>
                  <a:tab algn="l" pos="2190600"/>
                  <a:tab algn="l" pos="2409840"/>
                  <a:tab algn="l" pos="2629080"/>
                  <a:tab algn="l" pos="2847960"/>
                  <a:tab algn="l" pos="3067200"/>
                  <a:tab algn="l" pos="3286080"/>
                  <a:tab algn="l" pos="3505320"/>
                  <a:tab algn="l" pos="3724200"/>
                  <a:tab algn="l" pos="3943440"/>
                  <a:tab algn="l" pos="4162320"/>
                  <a:tab algn="l" pos="4381560"/>
                  <a:tab algn="l" pos="460044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void V (semaphore *s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38120"/>
                  <a:tab algn="l" pos="657360"/>
                  <a:tab algn="l" pos="876240"/>
                  <a:tab algn="l" pos="1095480"/>
                  <a:tab algn="l" pos="1314360"/>
                  <a:tab algn="l" pos="1533600"/>
                  <a:tab algn="l" pos="1752480"/>
                  <a:tab algn="l" pos="1971720"/>
                  <a:tab algn="l" pos="2190600"/>
                  <a:tab algn="l" pos="2409840"/>
                  <a:tab algn="l" pos="2629080"/>
                  <a:tab algn="l" pos="2847960"/>
                  <a:tab algn="l" pos="3067200"/>
                  <a:tab algn="l" pos="3286080"/>
                  <a:tab algn="l" pos="3505320"/>
                  <a:tab algn="l" pos="3724200"/>
                  <a:tab algn="l" pos="3943440"/>
                  <a:tab algn="l" pos="4162320"/>
                  <a:tab algn="l" pos="4381560"/>
                  <a:tab algn="l" pos="460044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38120"/>
                  <a:tab algn="l" pos="657360"/>
                  <a:tab algn="l" pos="876240"/>
                  <a:tab algn="l" pos="1095480"/>
                  <a:tab algn="l" pos="1314360"/>
                  <a:tab algn="l" pos="1533600"/>
                  <a:tab algn="l" pos="1752480"/>
                  <a:tab algn="l" pos="1971720"/>
                  <a:tab algn="l" pos="2190600"/>
                  <a:tab algn="l" pos="2409840"/>
                  <a:tab algn="l" pos="2629080"/>
                  <a:tab algn="l" pos="2847960"/>
                  <a:tab algn="l" pos="3067200"/>
                  <a:tab algn="l" pos="3286080"/>
                  <a:tab algn="l" pos="3505320"/>
                  <a:tab algn="l" pos="3724200"/>
                  <a:tab algn="l" pos="3943440"/>
                  <a:tab algn="l" pos="4162320"/>
                  <a:tab algn="l" pos="4381560"/>
                  <a:tab algn="l" pos="4600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38120"/>
                  <a:tab algn="l" pos="657360"/>
                  <a:tab algn="l" pos="876240"/>
                  <a:tab algn="l" pos="1095480"/>
                  <a:tab algn="l" pos="1314360"/>
                  <a:tab algn="l" pos="1533600"/>
                  <a:tab algn="l" pos="1752480"/>
                  <a:tab algn="l" pos="1971720"/>
                  <a:tab algn="l" pos="2190600"/>
                  <a:tab algn="l" pos="2409840"/>
                  <a:tab algn="l" pos="2629080"/>
                  <a:tab algn="l" pos="2847960"/>
                  <a:tab algn="l" pos="3067200"/>
                  <a:tab algn="l" pos="3286080"/>
                  <a:tab algn="l" pos="3505320"/>
                  <a:tab algn="l" pos="3724200"/>
                  <a:tab algn="l" pos="3943440"/>
                  <a:tab algn="l" pos="4162320"/>
                  <a:tab algn="l" pos="4381560"/>
                  <a:tab algn="l" pos="4600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-&gt;value++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38120"/>
                  <a:tab algn="l" pos="657360"/>
                  <a:tab algn="l" pos="876240"/>
                  <a:tab algn="l" pos="1095480"/>
                  <a:tab algn="l" pos="1314360"/>
                  <a:tab algn="l" pos="1533600"/>
                  <a:tab algn="l" pos="1752480"/>
                  <a:tab algn="l" pos="1971720"/>
                  <a:tab algn="l" pos="2190600"/>
                  <a:tab algn="l" pos="2409840"/>
                  <a:tab algn="l" pos="2629080"/>
                  <a:tab algn="l" pos="2847960"/>
                  <a:tab algn="l" pos="3067200"/>
                  <a:tab algn="l" pos="3286080"/>
                  <a:tab algn="l" pos="3505320"/>
                  <a:tab algn="l" pos="3724200"/>
                  <a:tab algn="l" pos="3943440"/>
                  <a:tab algn="l" pos="4162320"/>
                  <a:tab algn="l" pos="4381560"/>
                  <a:tab algn="l" pos="4600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f (s-&gt;value &lt;= 0)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38120"/>
                  <a:tab algn="l" pos="657360"/>
                  <a:tab algn="l" pos="876240"/>
                  <a:tab algn="l" pos="1095480"/>
                  <a:tab algn="l" pos="1314360"/>
                  <a:tab algn="l" pos="1533600"/>
                  <a:tab algn="l" pos="1752480"/>
                  <a:tab algn="l" pos="1971720"/>
                  <a:tab algn="l" pos="2190600"/>
                  <a:tab algn="l" pos="2409840"/>
                  <a:tab algn="l" pos="2629080"/>
                  <a:tab algn="l" pos="2847960"/>
                  <a:tab algn="l" pos="3067200"/>
                  <a:tab algn="l" pos="3286080"/>
                  <a:tab algn="l" pos="3505320"/>
                  <a:tab algn="l" pos="3724200"/>
                  <a:tab algn="l" pos="3943440"/>
                  <a:tab algn="l" pos="4162320"/>
                  <a:tab algn="l" pos="4381560"/>
                  <a:tab algn="l" pos="4600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cess p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38120"/>
                  <a:tab algn="l" pos="657360"/>
                  <a:tab algn="l" pos="876240"/>
                  <a:tab algn="l" pos="1095480"/>
                  <a:tab algn="l" pos="1314360"/>
                  <a:tab algn="l" pos="1533600"/>
                  <a:tab algn="l" pos="1752480"/>
                  <a:tab algn="l" pos="1971720"/>
                  <a:tab algn="l" pos="2190600"/>
                  <a:tab algn="l" pos="2409840"/>
                  <a:tab algn="l" pos="2629080"/>
                  <a:tab algn="l" pos="2847960"/>
                  <a:tab algn="l" pos="3067200"/>
                  <a:tab algn="l" pos="3286080"/>
                  <a:tab algn="l" pos="3505320"/>
                  <a:tab algn="l" pos="3724200"/>
                  <a:tab algn="l" pos="3943440"/>
                  <a:tab algn="l" pos="4162320"/>
                  <a:tab algn="l" pos="4381560"/>
                  <a:tab algn="l" pos="4600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remove from s-&gt;queue ...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38120"/>
                  <a:tab algn="l" pos="657360"/>
                  <a:tab algn="l" pos="876240"/>
                  <a:tab algn="l" pos="1095480"/>
                  <a:tab algn="l" pos="1314360"/>
                  <a:tab algn="l" pos="1533600"/>
                  <a:tab algn="l" pos="1752480"/>
                  <a:tab algn="l" pos="1971720"/>
                  <a:tab algn="l" pos="2190600"/>
                  <a:tab algn="l" pos="2409840"/>
                  <a:tab algn="l" pos="2629080"/>
                  <a:tab algn="l" pos="2847960"/>
                  <a:tab algn="l" pos="3067200"/>
                  <a:tab algn="l" pos="3286080"/>
                  <a:tab algn="l" pos="3505320"/>
                  <a:tab algn="l" pos="3724200"/>
                  <a:tab algn="l" pos="3943440"/>
                  <a:tab algn="l" pos="4162320"/>
                  <a:tab algn="l" pos="4381560"/>
                  <a:tab algn="l" pos="4600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wakeup (p);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38120"/>
                  <a:tab algn="l" pos="657360"/>
                  <a:tab algn="l" pos="876240"/>
                  <a:tab algn="l" pos="1095480"/>
                  <a:tab algn="l" pos="1314360"/>
                  <a:tab algn="l" pos="1533600"/>
                  <a:tab algn="l" pos="1752480"/>
                  <a:tab algn="l" pos="1971720"/>
                  <a:tab algn="l" pos="2190600"/>
                  <a:tab algn="l" pos="2409840"/>
                  <a:tab algn="l" pos="2629080"/>
                  <a:tab algn="l" pos="2847960"/>
                  <a:tab algn="l" pos="3067200"/>
                  <a:tab algn="l" pos="3286080"/>
                  <a:tab algn="l" pos="3505320"/>
                  <a:tab algn="l" pos="3724200"/>
                  <a:tab algn="l" pos="3943440"/>
                  <a:tab algn="l" pos="4162320"/>
                  <a:tab algn="l" pos="4381560"/>
                  <a:tab algn="l" pos="460044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38120"/>
                  <a:tab algn="l" pos="657360"/>
                  <a:tab algn="l" pos="876240"/>
                  <a:tab algn="l" pos="1095480"/>
                  <a:tab algn="l" pos="1314360"/>
                  <a:tab algn="l" pos="1533600"/>
                  <a:tab algn="l" pos="1752480"/>
                  <a:tab algn="l" pos="1971720"/>
                  <a:tab algn="l" pos="2190600"/>
                  <a:tab algn="l" pos="2409840"/>
                  <a:tab algn="l" pos="2629080"/>
                  <a:tab algn="l" pos="2847960"/>
                  <a:tab algn="l" pos="3067200"/>
                  <a:tab algn="l" pos="3286080"/>
                  <a:tab algn="l" pos="3505320"/>
                  <a:tab algn="l" pos="3724200"/>
                  <a:tab algn="l" pos="3943440"/>
                  <a:tab algn="l" pos="4162320"/>
                  <a:tab algn="l" pos="4381560"/>
                  <a:tab algn="l" pos="4600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38120"/>
                  <a:tab algn="l" pos="657360"/>
                  <a:tab algn="l" pos="876240"/>
                  <a:tab algn="l" pos="1095480"/>
                  <a:tab algn="l" pos="1314360"/>
                  <a:tab algn="l" pos="1533600"/>
                  <a:tab algn="l" pos="1752480"/>
                  <a:tab algn="l" pos="1971720"/>
                  <a:tab algn="l" pos="2190600"/>
                  <a:tab algn="l" pos="2409840"/>
                  <a:tab algn="l" pos="2629080"/>
                  <a:tab algn="l" pos="2847960"/>
                  <a:tab algn="l" pos="3067200"/>
                  <a:tab algn="l" pos="3286080"/>
                  <a:tab algn="l" pos="3505320"/>
                  <a:tab algn="l" pos="3724200"/>
                  <a:tab algn="l" pos="3943440"/>
                  <a:tab algn="l" pos="4162320"/>
                  <a:tab algn="l" pos="4381560"/>
                  <a:tab algn="l" pos="4600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29200" y="2193840"/>
              <a:ext cx="990720" cy="398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Entry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029200" y="4784760"/>
              <a:ext cx="685800" cy="398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Exi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1676520" y="1905120"/>
            <a:ext cx="1828800" cy="380880"/>
          </a:xfrm>
          <a:prstGeom prst="wedgeRoundRectCallout">
            <a:avLst>
              <a:gd name="adj1" fmla="val -50087"/>
              <a:gd name="adj2" fmla="val 95000"/>
              <a:gd name="adj3" fmla="val 16667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k(&amp;mute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600200" y="4114800"/>
            <a:ext cx="2742840" cy="685800"/>
            <a:chOff x="1600200" y="4114800"/>
            <a:chExt cx="2742840" cy="685800"/>
          </a:xfrm>
        </p:grpSpPr>
        <p:sp>
          <p:nvSpPr>
            <p:cNvPr id="454" name=""/>
            <p:cNvSpPr/>
            <p:nvPr/>
          </p:nvSpPr>
          <p:spPr>
            <a:xfrm>
              <a:off x="2233080" y="4343400"/>
              <a:ext cx="2109960" cy="457200"/>
            </a:xfrm>
            <a:prstGeom prst="wedgeRoundRectCallout">
              <a:avLst>
                <a:gd name="adj1" fmla="val -71319"/>
                <a:gd name="adj2" fmla="val 73263"/>
                <a:gd name="adj3" fmla="val 16667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nlock(&amp;mute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600200" y="4114800"/>
              <a:ext cx="1125360" cy="22860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624" y="144"/>
                  </a:moveTo>
                  <a:lnTo>
                    <a:pt x="0" y="0"/>
                  </a:lnTo>
                  <a:lnTo>
                    <a:pt x="768" y="144"/>
                  </a:lnTo>
                </a:path>
              </a:pathLst>
            </a:cu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6324480" y="1981080"/>
            <a:ext cx="1828800" cy="457200"/>
          </a:xfrm>
          <a:prstGeom prst="wedgeRoundRectCallout">
            <a:avLst>
              <a:gd name="adj1" fmla="val -73699"/>
              <a:gd name="adj2" fmla="val 39583"/>
              <a:gd name="adj3" fmla="val 16667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k(&amp;mute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324480" y="4648320"/>
            <a:ext cx="2133720" cy="457200"/>
          </a:xfrm>
          <a:prstGeom prst="wedgeRoundRectCallout">
            <a:avLst>
              <a:gd name="adj1" fmla="val -80879"/>
              <a:gd name="adj2" fmla="val 4166"/>
              <a:gd name="adj3" fmla="val 16667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ock(&amp;mute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743200" y="2819520"/>
            <a:ext cx="1828800" cy="380880"/>
          </a:xfrm>
          <a:prstGeom prst="wedgeRoundRectCallout">
            <a:avLst>
              <a:gd name="adj1" fmla="val -44356"/>
              <a:gd name="adj2" fmla="val 131666"/>
              <a:gd name="adj3" fmla="val 16667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k(&amp;blo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934320" y="2666880"/>
            <a:ext cx="2057400" cy="381240"/>
          </a:xfrm>
          <a:prstGeom prst="wedgeRoundRectCallout">
            <a:avLst>
              <a:gd name="adj1" fmla="val -52314"/>
              <a:gd name="adj2" fmla="val 134583"/>
              <a:gd name="adj3" fmla="val 16667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ock(&amp;blo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"/>
                            </p:stCondLst>
                            <p:childTnLst>
                              <p:par>
                                <p:cTn id="10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0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1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nting Semaphores with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nary 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#define open  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#define locked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type semaphore struct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inSema mutex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inSema block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int value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void init (semaphore * s, </a:t>
            </a:r>
            <a:br>
              <a:rPr sz="2400"/>
            </a:b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               int valu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-&gt;mutex =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-&gt;block =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locked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-&gt;value = value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nting Semaphores with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nary 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void P (semaphore * 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-&gt;value--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if (s-&gt;value &lt; 0)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un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ck (&amp; s-&gt;block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} el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un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void V (semaphore * 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-&gt;value++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if (s-&gt;value &lt;= 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lock (&amp; s-&gt;block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un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ce Condition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void P (semaphore * 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-&gt;value--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if (s-&gt;value &lt; 0)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un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ck (&amp; s-&gt;block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} el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un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void V (semaphore * 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-&gt;value++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if (s-&gt;value &lt;= 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lock (&amp; s-&gt;block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un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38280" y="5486400"/>
            <a:ext cx="1952640" cy="459720"/>
          </a:xfrm>
          <a:prstGeom prst="borderCallout1">
            <a:avLst>
              <a:gd name="adj1" fmla="val 18750"/>
              <a:gd name="adj2" fmla="val -8333"/>
              <a:gd name="adj3" fmla="val -340375"/>
              <a:gd name="adj4" fmla="val -16402"/>
            </a:avLst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Pre-e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rot="19948200">
            <a:off x="7381440" y="2782440"/>
            <a:ext cx="1371600" cy="609840"/>
          </a:xfrm>
          <a:prstGeom prst="leftArrow">
            <a:avLst>
              <a:gd name="adj1" fmla="val 50000"/>
              <a:gd name="adj2" fmla="val 56228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NO-OP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7620120" y="2819520"/>
            <a:ext cx="837360" cy="609480"/>
            <a:chOff x="7620120" y="2819520"/>
            <a:chExt cx="837360" cy="609480"/>
          </a:xfrm>
        </p:grpSpPr>
        <p:sp>
          <p:nvSpPr>
            <p:cNvPr id="472" name=""/>
            <p:cNvSpPr/>
            <p:nvPr/>
          </p:nvSpPr>
          <p:spPr>
            <a:xfrm>
              <a:off x="7620120" y="2819520"/>
              <a:ext cx="718200" cy="60948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36"/>
                    <a:pt x="144" y="72"/>
                    <a:pt x="192" y="144"/>
                  </a:cubicBezTo>
                  <a:cubicBezTo>
                    <a:pt x="240" y="216"/>
                    <a:pt x="264" y="324"/>
                    <a:pt x="288" y="43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859160" y="2886840"/>
              <a:ext cx="598320" cy="4741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cubicBezTo>
                    <a:pt x="164" y="44"/>
                    <a:pt x="88" y="88"/>
                    <a:pt x="48" y="144"/>
                  </a:cubicBezTo>
                  <a:cubicBezTo>
                    <a:pt x="8" y="200"/>
                    <a:pt x="4" y="268"/>
                    <a:pt x="0" y="336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er valu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    means CLO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257440" y="1752480"/>
            <a:ext cx="839880" cy="914400"/>
            <a:chOff x="5257440" y="1752480"/>
            <a:chExt cx="839880" cy="914400"/>
          </a:xfrm>
        </p:grpSpPr>
        <p:sp>
          <p:nvSpPr>
            <p:cNvPr id="102" name=""/>
            <p:cNvSpPr/>
            <p:nvPr/>
          </p:nvSpPr>
          <p:spPr>
            <a:xfrm>
              <a:off x="5425920" y="1752480"/>
              <a:ext cx="124920" cy="914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5257440" y="1791720"/>
              <a:ext cx="839880" cy="307800"/>
              <a:chOff x="5257440" y="1791720"/>
              <a:chExt cx="839880" cy="307800"/>
            </a:xfrm>
          </p:grpSpPr>
          <p:sp>
            <p:nvSpPr>
              <p:cNvPr id="104" name=""/>
              <p:cNvSpPr/>
              <p:nvPr/>
            </p:nvSpPr>
            <p:spPr>
              <a:xfrm rot="5434200">
                <a:off x="5554800" y="1606320"/>
                <a:ext cx="75960" cy="6706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5759280" y="1791720"/>
                <a:ext cx="338040" cy="307800"/>
                <a:chOff x="5759280" y="1791720"/>
                <a:chExt cx="338040" cy="307800"/>
              </a:xfrm>
            </p:grpSpPr>
            <p:sp>
              <p:nvSpPr>
                <p:cNvPr id="106" name=""/>
                <p:cNvSpPr/>
                <p:nvPr/>
              </p:nvSpPr>
              <p:spPr>
                <a:xfrm rot="5434200">
                  <a:off x="5775840" y="1777680"/>
                  <a:ext cx="304560" cy="335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rot="5434200">
                  <a:off x="5852160" y="1861200"/>
                  <a:ext cx="152280" cy="16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8" name=""/>
          <p:cNvGrpSpPr/>
          <p:nvPr/>
        </p:nvGrpSpPr>
        <p:grpSpPr>
          <a:xfrm>
            <a:off x="6424560" y="1931040"/>
            <a:ext cx="839520" cy="1040760"/>
            <a:chOff x="6424560" y="1931040"/>
            <a:chExt cx="839520" cy="1040760"/>
          </a:xfrm>
        </p:grpSpPr>
        <p:sp>
          <p:nvSpPr>
            <p:cNvPr id="109" name=""/>
            <p:cNvSpPr/>
            <p:nvPr/>
          </p:nvSpPr>
          <p:spPr>
            <a:xfrm>
              <a:off x="6568200" y="2057400"/>
              <a:ext cx="125640" cy="91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424560" y="1931040"/>
              <a:ext cx="839520" cy="529200"/>
              <a:chOff x="6424560" y="1931040"/>
              <a:chExt cx="839520" cy="529200"/>
            </a:xfrm>
          </p:grpSpPr>
          <p:sp>
            <p:nvSpPr>
              <p:cNvPr id="111" name=""/>
              <p:cNvSpPr/>
              <p:nvPr/>
            </p:nvSpPr>
            <p:spPr>
              <a:xfrm rot="3885600">
                <a:off x="6705720" y="1947600"/>
                <a:ext cx="75960" cy="6706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6831000" y="1931040"/>
                <a:ext cx="433080" cy="418680"/>
                <a:chOff x="6831000" y="1931040"/>
                <a:chExt cx="433080" cy="418680"/>
              </a:xfrm>
            </p:grpSpPr>
            <p:sp>
              <p:nvSpPr>
                <p:cNvPr id="113" name=""/>
                <p:cNvSpPr/>
                <p:nvPr/>
              </p:nvSpPr>
              <p:spPr>
                <a:xfrm rot="3885600">
                  <a:off x="6895080" y="1972800"/>
                  <a:ext cx="304920" cy="335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rot="3885600">
                  <a:off x="6971040" y="2056320"/>
                  <a:ext cx="152640" cy="16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5" name=""/>
          <p:cNvGrpSpPr/>
          <p:nvPr/>
        </p:nvGrpSpPr>
        <p:grpSpPr>
          <a:xfrm>
            <a:off x="7445160" y="1734480"/>
            <a:ext cx="599400" cy="1236960"/>
            <a:chOff x="7445160" y="1734480"/>
            <a:chExt cx="599400" cy="1236960"/>
          </a:xfrm>
        </p:grpSpPr>
        <p:sp>
          <p:nvSpPr>
            <p:cNvPr id="116" name=""/>
            <p:cNvSpPr/>
            <p:nvPr/>
          </p:nvSpPr>
          <p:spPr>
            <a:xfrm>
              <a:off x="7559640" y="2057040"/>
              <a:ext cx="125280" cy="9144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7445160" y="1734480"/>
              <a:ext cx="599400" cy="814320"/>
              <a:chOff x="7445160" y="1734480"/>
              <a:chExt cx="599400" cy="814320"/>
            </a:xfrm>
          </p:grpSpPr>
          <p:sp>
            <p:nvSpPr>
              <p:cNvPr id="118" name=""/>
              <p:cNvSpPr/>
              <p:nvPr/>
            </p:nvSpPr>
            <p:spPr>
              <a:xfrm rot="1882800">
                <a:off x="7614000" y="1907280"/>
                <a:ext cx="75960" cy="6706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7609680" y="1734480"/>
                <a:ext cx="434880" cy="444960"/>
                <a:chOff x="7609680" y="1734480"/>
                <a:chExt cx="434880" cy="444960"/>
              </a:xfrm>
            </p:grpSpPr>
            <p:sp>
              <p:nvSpPr>
                <p:cNvPr id="120" name=""/>
                <p:cNvSpPr/>
                <p:nvPr/>
              </p:nvSpPr>
              <p:spPr>
                <a:xfrm rot="1882800">
                  <a:off x="7674480" y="1789200"/>
                  <a:ext cx="304920" cy="335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rot="1882800">
                  <a:off x="7750440" y="1872720"/>
                  <a:ext cx="152640" cy="16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2" name=""/>
          <p:cNvSpPr/>
          <p:nvPr/>
        </p:nvSpPr>
        <p:spPr>
          <a:xfrm>
            <a:off x="5715000" y="3247920"/>
            <a:ext cx="1768320" cy="703800"/>
          </a:xfr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valu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37339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tomic) Op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obere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erhoge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25909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0  means O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ce condition 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767040"/>
                <a:tab algn="l" pos="3838680"/>
                <a:tab algn="l" pos="4133880"/>
                <a:tab algn="l" pos="4429080"/>
                <a:tab algn="l" pos="4724280"/>
                <a:tab algn="l" pos="5019840"/>
                <a:tab algn="l" pos="5315040"/>
                <a:tab algn="l" pos="5610240"/>
                <a:tab algn="l" pos="5905440"/>
                <a:tab algn="l" pos="6200640"/>
                <a:tab algn="l" pos="6496200"/>
                <a:tab algn="l" pos="6791400"/>
                <a:tab algn="l" pos="7086600"/>
                <a:tab algn="l" pos="7381800"/>
                <a:tab algn="l" pos="7677000"/>
                <a:tab algn="l" pos="7972560"/>
                <a:tab algn="l" pos="8267760"/>
                <a:tab algn="l" pos="8562960"/>
                <a:tab algn="l" pos="8858160"/>
                <a:tab algn="l" pos="9153360"/>
                <a:tab algn="l" pos="944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1: P(&amp;sem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2: V(&amp;s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767040"/>
                <a:tab algn="l" pos="3838680"/>
                <a:tab algn="l" pos="4133880"/>
                <a:tab algn="l" pos="4429080"/>
                <a:tab algn="l" pos="4724280"/>
                <a:tab algn="l" pos="5019840"/>
                <a:tab algn="l" pos="5315040"/>
                <a:tab algn="l" pos="5610240"/>
                <a:tab algn="l" pos="5905440"/>
                <a:tab algn="l" pos="6200640"/>
                <a:tab algn="l" pos="6496200"/>
                <a:tab algn="l" pos="6791400"/>
                <a:tab algn="l" pos="7086600"/>
                <a:tab algn="l" pos="7381800"/>
                <a:tab algn="l" pos="7677000"/>
                <a:tab algn="l" pos="7972560"/>
                <a:tab algn="l" pos="8267760"/>
                <a:tab algn="l" pos="8562960"/>
                <a:tab algn="l" pos="8858160"/>
                <a:tab algn="l" pos="9153360"/>
                <a:tab algn="l" pos="94489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767040"/>
                <a:tab algn="l" pos="3838680"/>
                <a:tab algn="l" pos="4133880"/>
                <a:tab algn="l" pos="4429080"/>
                <a:tab algn="l" pos="4724280"/>
                <a:tab algn="l" pos="5019840"/>
                <a:tab algn="l" pos="5315040"/>
                <a:tab algn="l" pos="5610240"/>
                <a:tab algn="l" pos="5905440"/>
                <a:tab algn="l" pos="6200640"/>
                <a:tab algn="l" pos="6496200"/>
                <a:tab algn="l" pos="6791400"/>
                <a:tab algn="l" pos="7086600"/>
                <a:tab algn="l" pos="7381800"/>
                <a:tab algn="l" pos="7677000"/>
                <a:tab algn="l" pos="7972560"/>
                <a:tab algn="l" pos="8267760"/>
                <a:tab algn="l" pos="8562960"/>
                <a:tab algn="l" pos="8858160"/>
                <a:tab algn="l" pos="9153360"/>
                <a:tab algn="l" pos="9448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767040"/>
                <a:tab algn="l" pos="3838680"/>
                <a:tab algn="l" pos="4133880"/>
                <a:tab algn="l" pos="4429080"/>
                <a:tab algn="l" pos="4724280"/>
                <a:tab algn="l" pos="5019840"/>
                <a:tab algn="l" pos="5315040"/>
                <a:tab algn="l" pos="5610240"/>
                <a:tab algn="l" pos="5905440"/>
                <a:tab algn="l" pos="6200640"/>
                <a:tab algn="l" pos="6496200"/>
                <a:tab algn="l" pos="6791400"/>
                <a:tab algn="l" pos="7086600"/>
                <a:tab algn="l" pos="7381800"/>
                <a:tab algn="l" pos="7677000"/>
                <a:tab algn="l" pos="7972560"/>
                <a:tab algn="l" pos="8267760"/>
                <a:tab algn="l" pos="8562960"/>
                <a:tab algn="l" pos="8858160"/>
                <a:tab algn="l" pos="9153360"/>
                <a:tab algn="l" pos="9448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767040"/>
                <a:tab algn="l" pos="3838680"/>
                <a:tab algn="l" pos="4133880"/>
                <a:tab algn="l" pos="4429080"/>
                <a:tab algn="l" pos="4724280"/>
                <a:tab algn="l" pos="5019840"/>
                <a:tab algn="l" pos="5315040"/>
                <a:tab algn="l" pos="5610240"/>
                <a:tab algn="l" pos="5905440"/>
                <a:tab algn="l" pos="6200640"/>
                <a:tab algn="l" pos="6496200"/>
                <a:tab algn="l" pos="6791400"/>
                <a:tab algn="l" pos="7086600"/>
                <a:tab algn="l" pos="7381800"/>
                <a:tab algn="l" pos="7677000"/>
                <a:tab algn="l" pos="7972560"/>
                <a:tab algn="l" pos="8267760"/>
                <a:tab algn="l" pos="8562960"/>
                <a:tab algn="l" pos="8858160"/>
                <a:tab algn="l" pos="9153360"/>
                <a:tab algn="l" pos="9448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419720" y="152388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685440" y="1981080"/>
            <a:ext cx="7620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" y="3193920"/>
            <a:ext cx="1952640" cy="459720"/>
          </a:xfrm>
          <a:prstGeom prst="borderCallout1">
            <a:avLst>
              <a:gd name="adj1" fmla="val 18750"/>
              <a:gd name="adj2" fmla="val -8333"/>
              <a:gd name="adj3" fmla="val -87949"/>
              <a:gd name="adj4" fmla="val 124384"/>
            </a:avLst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Pre-e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38080" y="1933560"/>
            <a:ext cx="34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s-&gt;value &lt; 0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lock (&amp; s-&gt;mute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72000" y="281952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k (&amp; s-&gt;mutex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-&gt;value++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s-&gt;value &lt;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unlock (&amp; s-&gt;bloc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95280" y="5638680"/>
            <a:ext cx="32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lock (&amp; s-&gt;bloc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72000" y="5029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lock (&amp; s-&gt;mute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5866920" y="4419720"/>
            <a:ext cx="534960" cy="685800"/>
            <a:chOff x="5866920" y="4419720"/>
            <a:chExt cx="534960" cy="685800"/>
          </a:xfrm>
        </p:grpSpPr>
        <p:sp>
          <p:nvSpPr>
            <p:cNvPr id="484" name=""/>
            <p:cNvSpPr/>
            <p:nvPr/>
          </p:nvSpPr>
          <p:spPr>
            <a:xfrm>
              <a:off x="5974200" y="4419720"/>
              <a:ext cx="7956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5866920" y="4448520"/>
              <a:ext cx="534960" cy="230400"/>
              <a:chOff x="5866920" y="4448520"/>
              <a:chExt cx="534960" cy="230400"/>
            </a:xfrm>
          </p:grpSpPr>
          <p:sp>
            <p:nvSpPr>
              <p:cNvPr id="486" name=""/>
              <p:cNvSpPr/>
              <p:nvPr/>
            </p:nvSpPr>
            <p:spPr>
              <a:xfrm rot="5434200">
                <a:off x="6052320" y="4348080"/>
                <a:ext cx="56880" cy="4269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6186600" y="4448520"/>
                <a:ext cx="215280" cy="230400"/>
                <a:chOff x="6186600" y="4448520"/>
                <a:chExt cx="215280" cy="230400"/>
              </a:xfrm>
            </p:grpSpPr>
            <p:sp>
              <p:nvSpPr>
                <p:cNvPr id="488" name=""/>
                <p:cNvSpPr/>
                <p:nvPr/>
              </p:nvSpPr>
              <p:spPr>
                <a:xfrm rot="5434200">
                  <a:off x="6179760" y="4457160"/>
                  <a:ext cx="228240" cy="21312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5434200">
                  <a:off x="6237000" y="4510440"/>
                  <a:ext cx="114120" cy="106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90" name=""/>
          <p:cNvGrpSpPr/>
          <p:nvPr/>
        </p:nvGrpSpPr>
        <p:grpSpPr>
          <a:xfrm>
            <a:off x="6871320" y="4345200"/>
            <a:ext cx="543600" cy="760320"/>
            <a:chOff x="6871320" y="4345200"/>
            <a:chExt cx="543600" cy="760320"/>
          </a:xfrm>
        </p:grpSpPr>
        <p:sp>
          <p:nvSpPr>
            <p:cNvPr id="491" name=""/>
            <p:cNvSpPr/>
            <p:nvPr/>
          </p:nvSpPr>
          <p:spPr>
            <a:xfrm>
              <a:off x="6964560" y="4419720"/>
              <a:ext cx="79920" cy="685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6871320" y="4345200"/>
              <a:ext cx="543600" cy="356760"/>
              <a:chOff x="6871320" y="4345200"/>
              <a:chExt cx="543600" cy="356760"/>
            </a:xfrm>
          </p:grpSpPr>
          <p:sp>
            <p:nvSpPr>
              <p:cNvPr id="493" name=""/>
              <p:cNvSpPr/>
              <p:nvPr/>
            </p:nvSpPr>
            <p:spPr>
              <a:xfrm rot="3885600">
                <a:off x="7048080" y="4371480"/>
                <a:ext cx="56880" cy="4269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4" name=""/>
              <p:cNvGrpSpPr/>
              <p:nvPr/>
            </p:nvGrpSpPr>
            <p:grpSpPr>
              <a:xfrm>
                <a:off x="7124760" y="4345200"/>
                <a:ext cx="290160" cy="297720"/>
                <a:chOff x="7124760" y="4345200"/>
                <a:chExt cx="290160" cy="297720"/>
              </a:xfrm>
            </p:grpSpPr>
            <p:sp>
              <p:nvSpPr>
                <p:cNvPr id="495" name=""/>
                <p:cNvSpPr/>
                <p:nvPr/>
              </p:nvSpPr>
              <p:spPr>
                <a:xfrm rot="3885600">
                  <a:off x="7155360" y="4387320"/>
                  <a:ext cx="228600" cy="21312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rot="3885600">
                  <a:off x="7212240" y="4440240"/>
                  <a:ext cx="114480" cy="106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97" name=""/>
          <p:cNvSpPr/>
          <p:nvPr/>
        </p:nvSpPr>
        <p:spPr>
          <a:xfrm>
            <a:off x="6248520" y="472428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572000" y="5638680"/>
            <a:ext cx="2352600" cy="459720"/>
          </a:xfrm>
          <a:prstGeom prst="borderCallout1">
            <a:avLst>
              <a:gd name="adj1" fmla="val 18750"/>
              <a:gd name="adj2" fmla="val -8333"/>
              <a:gd name="adj3" fmla="val 49449"/>
              <a:gd name="adj4" fmla="val -25152"/>
            </a:avLst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Continue, O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8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3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3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8" dur="5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3" dur="5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8" dur="500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4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4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ce Condition 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2256120" y="2415600"/>
            <a:ext cx="1773720" cy="2384640"/>
            <a:chOff x="2256120" y="2415600"/>
            <a:chExt cx="1773720" cy="2384640"/>
          </a:xfrm>
        </p:grpSpPr>
        <p:sp>
          <p:nvSpPr>
            <p:cNvPr id="501" name=""/>
            <p:cNvSpPr/>
            <p:nvPr/>
          </p:nvSpPr>
          <p:spPr>
            <a:xfrm>
              <a:off x="2560320" y="2666880"/>
              <a:ext cx="262800" cy="2133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2256120" y="2415600"/>
              <a:ext cx="1773720" cy="1148760"/>
              <a:chOff x="2256120" y="2415600"/>
              <a:chExt cx="1773720" cy="1148760"/>
            </a:xfrm>
          </p:grpSpPr>
          <p:sp>
            <p:nvSpPr>
              <p:cNvPr id="503" name=""/>
              <p:cNvSpPr/>
              <p:nvPr/>
            </p:nvSpPr>
            <p:spPr>
              <a:xfrm rot="3885600">
                <a:off x="2838960" y="2484360"/>
                <a:ext cx="177480" cy="14018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4" name=""/>
              <p:cNvGrpSpPr/>
              <p:nvPr/>
            </p:nvGrpSpPr>
            <p:grpSpPr>
              <a:xfrm>
                <a:off x="3093480" y="2415600"/>
                <a:ext cx="936360" cy="941400"/>
                <a:chOff x="3093480" y="2415600"/>
                <a:chExt cx="936360" cy="941400"/>
              </a:xfrm>
            </p:grpSpPr>
            <p:sp>
              <p:nvSpPr>
                <p:cNvPr id="505" name=""/>
                <p:cNvSpPr/>
                <p:nvPr/>
              </p:nvSpPr>
              <p:spPr>
                <a:xfrm rot="3885600">
                  <a:off x="3206160" y="2535840"/>
                  <a:ext cx="710640" cy="7002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rot="3885600">
                  <a:off x="3383640" y="2711160"/>
                  <a:ext cx="355680" cy="350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07" name=""/>
          <p:cNvSpPr/>
          <p:nvPr/>
        </p:nvSpPr>
        <p:spPr>
          <a:xfrm>
            <a:off x="2136600" y="487692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ock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800600" y="3124080"/>
            <a:ext cx="1676520" cy="14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9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OP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0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ce Condition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42880" y="1343160"/>
            <a:ext cx="8305560" cy="4828680"/>
            <a:chOff x="542880" y="1343160"/>
            <a:chExt cx="8305560" cy="4828680"/>
          </a:xfrm>
        </p:grpSpPr>
        <p:grpSp>
          <p:nvGrpSpPr>
            <p:cNvPr id="511" name=""/>
            <p:cNvGrpSpPr/>
            <p:nvPr/>
          </p:nvGrpSpPr>
          <p:grpSpPr>
            <a:xfrm>
              <a:off x="2516400" y="1371600"/>
              <a:ext cx="4309560" cy="4800240"/>
              <a:chOff x="2516400" y="1371600"/>
              <a:chExt cx="4309560" cy="4800240"/>
            </a:xfrm>
          </p:grpSpPr>
          <p:sp>
            <p:nvSpPr>
              <p:cNvPr id="512" name=""/>
              <p:cNvSpPr/>
              <p:nvPr/>
            </p:nvSpPr>
            <p:spPr>
              <a:xfrm>
                <a:off x="2516400" y="1371600"/>
                <a:ext cx="0" cy="480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671000" y="1371600"/>
                <a:ext cx="0" cy="480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825960" y="1371600"/>
                <a:ext cx="0" cy="480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542880" y="1724040"/>
              <a:ext cx="830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57280" y="1343160"/>
              <a:ext cx="8071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1: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P(&amp; s)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2: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P(&amp; s)</a:t>
              </a: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3: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V(&amp; s)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4: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V(&amp; 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7432560" y="1981080"/>
            <a:ext cx="1255320" cy="959760"/>
            <a:chOff x="7432560" y="1981080"/>
            <a:chExt cx="1255320" cy="959760"/>
          </a:xfrm>
        </p:grpSpPr>
        <p:grpSp>
          <p:nvGrpSpPr>
            <p:cNvPr id="518" name=""/>
            <p:cNvGrpSpPr/>
            <p:nvPr/>
          </p:nvGrpSpPr>
          <p:grpSpPr>
            <a:xfrm>
              <a:off x="8042760" y="1981080"/>
              <a:ext cx="645120" cy="595440"/>
              <a:chOff x="8042760" y="1981080"/>
              <a:chExt cx="645120" cy="595440"/>
            </a:xfrm>
          </p:grpSpPr>
          <p:sp>
            <p:nvSpPr>
              <p:cNvPr id="519" name=""/>
              <p:cNvSpPr/>
              <p:nvPr/>
            </p:nvSpPr>
            <p:spPr>
              <a:xfrm>
                <a:off x="8171640" y="1981080"/>
                <a:ext cx="96120" cy="59544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0" name=""/>
              <p:cNvGrpSpPr/>
              <p:nvPr/>
            </p:nvGrpSpPr>
            <p:grpSpPr>
              <a:xfrm>
                <a:off x="8042760" y="2006640"/>
                <a:ext cx="645120" cy="200880"/>
                <a:chOff x="8042760" y="2006640"/>
                <a:chExt cx="645120" cy="200880"/>
              </a:xfrm>
            </p:grpSpPr>
            <p:sp>
              <p:nvSpPr>
                <p:cNvPr id="521" name=""/>
                <p:cNvSpPr/>
                <p:nvPr/>
              </p:nvSpPr>
              <p:spPr>
                <a:xfrm rot="5434200">
                  <a:off x="8275680" y="1846080"/>
                  <a:ext cx="49320" cy="5155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2" name=""/>
                <p:cNvGrpSpPr/>
                <p:nvPr/>
              </p:nvGrpSpPr>
              <p:grpSpPr>
                <a:xfrm>
                  <a:off x="8428320" y="2006640"/>
                  <a:ext cx="259560" cy="200880"/>
                  <a:chOff x="8428320" y="2006640"/>
                  <a:chExt cx="259560" cy="20088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 rot="5434200">
                    <a:off x="8458560" y="1977840"/>
                    <a:ext cx="198360" cy="2577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rot="5434200">
                    <a:off x="8507880" y="2042280"/>
                    <a:ext cx="99360" cy="128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4640" bIns="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25" name=""/>
            <p:cNvSpPr/>
            <p:nvPr/>
          </p:nvSpPr>
          <p:spPr>
            <a:xfrm>
              <a:off x="7924680" y="2481120"/>
              <a:ext cx="64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32560" y="2133720"/>
              <a:ext cx="64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in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7130880" y="4010040"/>
            <a:ext cx="946440" cy="398880"/>
          </a:xfrm>
          <a:prstGeom prst="borderCallout1">
            <a:avLst>
              <a:gd name="adj1" fmla="val 18750"/>
              <a:gd name="adj2" fmla="val -8333"/>
              <a:gd name="adj3" fmla="val 66004"/>
              <a:gd name="adj4" fmla="val -37222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Op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257800" y="5105520"/>
            <a:ext cx="914400" cy="398880"/>
          </a:xfrm>
          <a:prstGeom prst="borderCallout1">
            <a:avLst>
              <a:gd name="adj1" fmla="val 18750"/>
              <a:gd name="adj2" fmla="val -8333"/>
              <a:gd name="adj3" fmla="val 83407"/>
              <a:gd name="adj4" fmla="val 17134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NOP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971800" y="4979880"/>
            <a:ext cx="1371600" cy="398880"/>
          </a:xfrm>
          <a:prstGeom prst="borderCallout1">
            <a:avLst>
              <a:gd name="adj1" fmla="val 18750"/>
              <a:gd name="adj2" fmla="val -8333"/>
              <a:gd name="adj3" fmla="val 177092"/>
              <a:gd name="adj4" fmla="val -55074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Can p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105520" y="5638680"/>
            <a:ext cx="1371600" cy="398880"/>
          </a:xfrm>
          <a:prstGeom prst="borderCallout1">
            <a:avLst>
              <a:gd name="adj1" fmla="val 18750"/>
              <a:gd name="adj2" fmla="val -8333"/>
              <a:gd name="adj3" fmla="val 82773"/>
              <a:gd name="adj4" fmla="val -52291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Block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57040" y="175104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lock (&amp;s-&gt;mutex);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s-&gt;value--; </a:t>
            </a:r>
            <a:r>
              <a:rPr b="1" i="1" lang="en-US" sz="1800" spc="-1" strike="noStrike">
                <a:solidFill>
                  <a:srgbClr val="00ae00"/>
                </a:solidFill>
                <a:latin typeface="Arial"/>
              </a:rPr>
              <a:t>// -1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unlock (&amp;s-&gt;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440080" y="263844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lock (&amp;s-&gt;mutex);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s-&gt;value--; </a:t>
            </a:r>
            <a:r>
              <a:rPr b="1" i="1" lang="en-US" sz="1800" spc="-1" strike="noStrike">
                <a:solidFill>
                  <a:srgbClr val="00ae00"/>
                </a:solidFill>
                <a:latin typeface="Arial"/>
              </a:rPr>
              <a:t>// -2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unlock (&amp;s-&gt;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624200" y="3581280"/>
            <a:ext cx="238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lock (&amp;s-&gt;mutex);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s-&gt;value++; </a:t>
            </a:r>
            <a:r>
              <a:rPr b="1" i="1" lang="en-US" sz="1800" spc="-1" strike="noStrike">
                <a:solidFill>
                  <a:srgbClr val="00ae00"/>
                </a:solidFill>
                <a:latin typeface="Arial"/>
              </a:rPr>
              <a:t>// -1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unlock (&amp;s-&gt;block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unlock (&amp;s-&gt;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782400" y="4710240"/>
            <a:ext cx="230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lock (&amp;s-&gt;mutex);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s-&gt;value++; </a:t>
            </a:r>
            <a:r>
              <a:rPr b="1" i="1" lang="en-US" sz="1800" spc="-1" strike="noStrike">
                <a:solidFill>
                  <a:srgbClr val="00ae00"/>
                </a:solidFill>
                <a:latin typeface="Arial"/>
              </a:rPr>
              <a:t>// 0</a:t>
            </a:r>
            <a:br>
              <a:rPr sz="1800"/>
            </a:b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unlock (&amp;s-&gt;block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439720" y="579132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lock (&amp;s-&gt;block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06000" y="552924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lock (&amp;s-&gt;block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284720" y="4437000"/>
            <a:ext cx="4751280" cy="647640"/>
          </a:xfrm>
          <a:custGeom>
            <a:avLst/>
            <a:gdLst/>
            <a:ahLst/>
            <a:rect l="l" t="t" r="r" b="b"/>
            <a:pathLst>
              <a:path w="2993" h="408">
                <a:moveTo>
                  <a:pt x="2948" y="318"/>
                </a:moveTo>
                <a:lnTo>
                  <a:pt x="2903" y="136"/>
                </a:lnTo>
                <a:lnTo>
                  <a:pt x="1814" y="136"/>
                </a:lnTo>
                <a:lnTo>
                  <a:pt x="1723" y="0"/>
                </a:lnTo>
                <a:lnTo>
                  <a:pt x="45" y="0"/>
                </a:lnTo>
                <a:lnTo>
                  <a:pt x="0" y="136"/>
                </a:lnTo>
                <a:lnTo>
                  <a:pt x="362" y="272"/>
                </a:lnTo>
                <a:lnTo>
                  <a:pt x="1088" y="272"/>
                </a:lnTo>
                <a:lnTo>
                  <a:pt x="1496" y="272"/>
                </a:lnTo>
                <a:lnTo>
                  <a:pt x="1633" y="408"/>
                </a:lnTo>
                <a:lnTo>
                  <a:pt x="2993" y="408"/>
                </a:lnTo>
                <a:lnTo>
                  <a:pt x="2948" y="318"/>
                </a:lnTo>
                <a:close/>
              </a:path>
            </a:pathLst>
          </a:custGeom>
          <a:noFill/>
          <a:ln w="38160">
            <a:solidFill>
              <a:srgbClr val="fc0128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9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3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2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500"/>
                            </p:stCondLst>
                            <p:childTnLst>
                              <p:par>
                                <p:cTn id="132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2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500"/>
                            </p:stCondLst>
                            <p:childTnLst>
                              <p:par>
                                <p:cTn id="13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4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6.93642E-007 L -0.49045 0.19815 E">
                                      <p:cBhvr>
                                        <p:cTn id="1354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nting Semaphores with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nary 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void P (semaphore * 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-&gt;value--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if (s-&gt;value &lt; 0)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un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ck (&amp; s-&gt;block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}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el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un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void V (semaphore * 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-&gt;value++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if (s-&gt;value &lt;= 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lock (&amp; s-&gt;block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un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1038240" y="4952880"/>
            <a:ext cx="3610080" cy="547200"/>
            <a:chOff x="1038240" y="4952880"/>
            <a:chExt cx="3610080" cy="547200"/>
          </a:xfrm>
        </p:grpSpPr>
        <p:sp>
          <p:nvSpPr>
            <p:cNvPr id="542" name=""/>
            <p:cNvSpPr/>
            <p:nvPr/>
          </p:nvSpPr>
          <p:spPr>
            <a:xfrm>
              <a:off x="1038240" y="5040360"/>
              <a:ext cx="3610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ae00"/>
                  </a:solidFill>
                  <a:latin typeface="Arial"/>
                </a:rPr>
                <a:t>unlock (&amp; s-&gt;mutex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065600" y="4952880"/>
              <a:ext cx="662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5029200" y="3975120"/>
            <a:ext cx="3733920" cy="75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unlock (&amp; s-&gt;mute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5" dur="indefinite" restart="never" nodeType="tmRoot">
          <p:childTnLst>
            <p:seq>
              <p:cTn id="1356" dur="indefinite" nodeType="mainSeq">
                <p:childTnLst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ce Condit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80880" y="1343160"/>
            <a:ext cx="8534160" cy="4828680"/>
            <a:chOff x="380880" y="1343160"/>
            <a:chExt cx="8534160" cy="4828680"/>
          </a:xfrm>
        </p:grpSpPr>
        <p:grpSp>
          <p:nvGrpSpPr>
            <p:cNvPr id="547" name=""/>
            <p:cNvGrpSpPr/>
            <p:nvPr/>
          </p:nvGrpSpPr>
          <p:grpSpPr>
            <a:xfrm>
              <a:off x="2408400" y="1371600"/>
              <a:ext cx="4428000" cy="4800240"/>
              <a:chOff x="2408400" y="1371600"/>
              <a:chExt cx="4428000" cy="4800240"/>
            </a:xfrm>
          </p:grpSpPr>
          <p:sp>
            <p:nvSpPr>
              <p:cNvPr id="548" name=""/>
              <p:cNvSpPr/>
              <p:nvPr/>
            </p:nvSpPr>
            <p:spPr>
              <a:xfrm>
                <a:off x="2408400" y="1371600"/>
                <a:ext cx="0" cy="480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622400" y="1371600"/>
                <a:ext cx="0" cy="480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836400" y="1371600"/>
                <a:ext cx="0" cy="480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380880" y="1724040"/>
              <a:ext cx="853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95640" y="1343160"/>
              <a:ext cx="8293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1: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P(&amp; s)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2: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P(&amp; s)</a:t>
              </a: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3: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V(&amp; s)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4: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V(&amp; 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7432560" y="1981080"/>
            <a:ext cx="1255320" cy="959760"/>
            <a:chOff x="7432560" y="1981080"/>
            <a:chExt cx="1255320" cy="959760"/>
          </a:xfrm>
        </p:grpSpPr>
        <p:grpSp>
          <p:nvGrpSpPr>
            <p:cNvPr id="554" name=""/>
            <p:cNvGrpSpPr/>
            <p:nvPr/>
          </p:nvGrpSpPr>
          <p:grpSpPr>
            <a:xfrm>
              <a:off x="8042760" y="1981080"/>
              <a:ext cx="645120" cy="595440"/>
              <a:chOff x="8042760" y="1981080"/>
              <a:chExt cx="645120" cy="595440"/>
            </a:xfrm>
          </p:grpSpPr>
          <p:sp>
            <p:nvSpPr>
              <p:cNvPr id="555" name=""/>
              <p:cNvSpPr/>
              <p:nvPr/>
            </p:nvSpPr>
            <p:spPr>
              <a:xfrm>
                <a:off x="8171640" y="1981080"/>
                <a:ext cx="96120" cy="59544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6" name=""/>
              <p:cNvGrpSpPr/>
              <p:nvPr/>
            </p:nvGrpSpPr>
            <p:grpSpPr>
              <a:xfrm>
                <a:off x="8042760" y="2006640"/>
                <a:ext cx="645120" cy="200880"/>
                <a:chOff x="8042760" y="2006640"/>
                <a:chExt cx="645120" cy="200880"/>
              </a:xfrm>
            </p:grpSpPr>
            <p:sp>
              <p:nvSpPr>
                <p:cNvPr id="557" name=""/>
                <p:cNvSpPr/>
                <p:nvPr/>
              </p:nvSpPr>
              <p:spPr>
                <a:xfrm rot="5434200">
                  <a:off x="8275680" y="1846080"/>
                  <a:ext cx="49320" cy="5155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8" name=""/>
                <p:cNvGrpSpPr/>
                <p:nvPr/>
              </p:nvGrpSpPr>
              <p:grpSpPr>
                <a:xfrm>
                  <a:off x="8428320" y="2006640"/>
                  <a:ext cx="259560" cy="200880"/>
                  <a:chOff x="8428320" y="2006640"/>
                  <a:chExt cx="259560" cy="20088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 rot="5434200">
                    <a:off x="8458560" y="1977840"/>
                    <a:ext cx="198360" cy="2577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rot="5434200">
                    <a:off x="8507880" y="2042280"/>
                    <a:ext cx="99360" cy="128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4640" bIns="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61" name=""/>
            <p:cNvSpPr/>
            <p:nvPr/>
          </p:nvSpPr>
          <p:spPr>
            <a:xfrm>
              <a:off x="7924680" y="2481120"/>
              <a:ext cx="64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432560" y="2133720"/>
              <a:ext cx="64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in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7130880" y="3772080"/>
            <a:ext cx="914400" cy="398880"/>
          </a:xfrm>
          <a:prstGeom prst="borderCallout1">
            <a:avLst>
              <a:gd name="adj1" fmla="val 18750"/>
              <a:gd name="adj2" fmla="val -8333"/>
              <a:gd name="adj3" fmla="val 86560"/>
              <a:gd name="adj4" fmla="val -48087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971800" y="4419720"/>
            <a:ext cx="1371600" cy="398880"/>
          </a:xfrm>
          <a:prstGeom prst="borderCallout1">
            <a:avLst>
              <a:gd name="adj1" fmla="val 18750"/>
              <a:gd name="adj2" fmla="val -8333"/>
              <a:gd name="adj3" fmla="val 86921"/>
              <a:gd name="adj4" fmla="val -60402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Can p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952880" y="4495680"/>
            <a:ext cx="1371600" cy="398880"/>
          </a:xfrm>
          <a:prstGeom prst="borderCallout1">
            <a:avLst>
              <a:gd name="adj1" fmla="val 18750"/>
              <a:gd name="adj2" fmla="val -8333"/>
              <a:gd name="adj3" fmla="val -2703"/>
              <a:gd name="adj4" fmla="val 13851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Blo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54080" y="175104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lock (&amp;s-&gt;mutex);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s-&gt;value--; </a:t>
            </a:r>
            <a:r>
              <a:rPr b="1" i="1" lang="en-US" sz="1800" spc="-1" strike="noStrike">
                <a:solidFill>
                  <a:srgbClr val="00ae00"/>
                </a:solidFill>
                <a:latin typeface="Arial"/>
              </a:rPr>
              <a:t>// -1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unlock (&amp;s-&gt;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363760" y="263844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lock (&amp;s-&gt;mutex);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s-&gt;value--; </a:t>
            </a:r>
            <a:r>
              <a:rPr b="1" i="1" lang="en-US" sz="1800" spc="-1" strike="noStrike">
                <a:solidFill>
                  <a:srgbClr val="00ae00"/>
                </a:solidFill>
                <a:latin typeface="Arial"/>
              </a:rPr>
              <a:t>// -2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unlock (&amp;s-&gt;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572720" y="3429000"/>
            <a:ext cx="230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lock (&amp;s-&gt;mutex);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s-&gt;value++; </a:t>
            </a:r>
            <a:r>
              <a:rPr b="1" i="1" lang="en-US" sz="1800" spc="-1" strike="noStrike">
                <a:solidFill>
                  <a:srgbClr val="00ae00"/>
                </a:solidFill>
                <a:latin typeface="Arial"/>
              </a:rPr>
              <a:t>// -1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unlock (&amp;s-&gt;block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809400" y="428148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lock (&amp;s-&gt;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363760" y="5514840"/>
            <a:ext cx="238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lock (&amp;s-&gt;block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unlock (&amp;s-&gt;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54080" y="4572000"/>
            <a:ext cx="238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lock (&amp;s-&gt;block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unlock (&amp;s-&gt;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833160" y="4997520"/>
            <a:ext cx="23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s-&gt;value++; </a:t>
            </a:r>
            <a:r>
              <a:rPr b="1" i="1" lang="en-US" sz="1800" spc="-1" strike="noStrike">
                <a:solidFill>
                  <a:srgbClr val="00ae00"/>
                </a:solidFill>
                <a:latin typeface="Arial"/>
              </a:rPr>
              <a:t>// 0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unlock (&amp;s-&gt;block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952880" y="5334120"/>
            <a:ext cx="1371600" cy="398880"/>
          </a:xfrm>
          <a:prstGeom prst="borderCallout1">
            <a:avLst>
              <a:gd name="adj1" fmla="val 18750"/>
              <a:gd name="adj2" fmla="val -8333"/>
              <a:gd name="adj3" fmla="val 89356"/>
              <a:gd name="adj4" fmla="val -42009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Can p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629400" y="5638680"/>
            <a:ext cx="914400" cy="398880"/>
          </a:xfrm>
          <a:prstGeom prst="borderCallout1">
            <a:avLst>
              <a:gd name="adj1" fmla="val 18750"/>
              <a:gd name="adj2" fmla="val -8333"/>
              <a:gd name="adj3" fmla="val -30564"/>
              <a:gd name="adj4" fmla="val 146162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781680" y="685800"/>
            <a:ext cx="137160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500"/>
                            </p:stCondLst>
                            <p:childTnLst>
                              <p:par>
                                <p:cTn id="14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0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1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1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500"/>
                            </p:stCondLst>
                            <p:childTnLst>
                              <p:par>
                                <p:cTn id="142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2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500"/>
                            </p:stCondLst>
                            <p:childTnLst>
                              <p:par>
                                <p:cTn id="14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nting Semaphores with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nary Semaphores (varian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#define open  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#define locked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type semaphore struct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binSema mutex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binSema block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binSema Pfcf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nt valu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oid init (semaphore * s, 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            int valu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-&gt;mutex =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open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-&gt;block =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locked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-&gt;Pfcfs =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open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-&gt;value = valu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0" dur="indefinite" restart="never" nodeType="tmRoot">
          <p:childTnLst>
            <p:seq>
              <p:cTn id="1451" dur="indefinite" nodeType="mainSeq">
                <p:childTnLst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6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9" dur="5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2" dur="50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5" dur="500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8" dur="500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1" dur="500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4" dur="500"/>
                                        <p:tgtEl>
                                          <p:spTgt spid="5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9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5" dur="5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8" dur="5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500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500"/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nting Semaphores with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nary Semaphores (varian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oid P (semaphore * 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lock (&amp; s-&gt;Pfcfs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lock (&amp; s-&gt;mutex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-&gt;value--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s-&gt;value &lt; 0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unlock (&amp; s-&gt;mutex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ck (&amp; s-&gt;block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l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unlock (&amp; s-&gt;mutex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unlock (&amp; s-&gt;Pfcfs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void V (semaphore * 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-&gt;value++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if (s-&gt;value &lt;= 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lock (&amp; s-&gt;block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un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3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6" dur="5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9" dur="50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2" dur="500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5" dur="500"/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8" dur="500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1" dur="500"/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4" dur="500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7" dur="500"/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0" dur="500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3" dur="500"/>
                                        <p:tgtEl>
                                          <p:spTgt spid="5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8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1" dur="5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5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7" dur="500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0" dur="500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3" dur="500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6" dur="500"/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9" dur="500"/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5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5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ical Synchronization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unded Buff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ers / Wri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ning Philosoph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"/>
          <p:cNvGrpSpPr/>
          <p:nvPr/>
        </p:nvGrpSpPr>
        <p:grpSpPr>
          <a:xfrm>
            <a:off x="685800" y="2133720"/>
            <a:ext cx="3276720" cy="3886200"/>
            <a:chOff x="685800" y="2133720"/>
            <a:chExt cx="3276720" cy="3886200"/>
          </a:xfrm>
        </p:grpSpPr>
        <p:sp>
          <p:nvSpPr>
            <p:cNvPr id="585" name=""/>
            <p:cNvSpPr/>
            <p:nvPr/>
          </p:nvSpPr>
          <p:spPr>
            <a:xfrm>
              <a:off x="685800" y="2438280"/>
              <a:ext cx="3276720" cy="35816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while (tr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ip = produce (…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insert (buffer, ip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85800" y="2133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e00"/>
                  </a:solidFill>
                  <a:latin typeface="Arial"/>
                </a:rPr>
                <a:t>Produc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4648320" y="2133720"/>
            <a:ext cx="3428640" cy="3886200"/>
            <a:chOff x="4648320" y="2133720"/>
            <a:chExt cx="3428640" cy="3886200"/>
          </a:xfrm>
        </p:grpSpPr>
        <p:sp>
          <p:nvSpPr>
            <p:cNvPr id="588" name=""/>
            <p:cNvSpPr/>
            <p:nvPr/>
          </p:nvSpPr>
          <p:spPr>
            <a:xfrm>
              <a:off x="4648320" y="2438280"/>
              <a:ext cx="3428640" cy="35816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while (tr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ic = remove (buffer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consume (ic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648320" y="2133720"/>
              <a:ext cx="151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e00"/>
                  </a:solidFill>
                  <a:latin typeface="Arial"/>
                </a:rPr>
                <a:t>Consu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unded Buff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buffer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187280" y="3870360"/>
            <a:ext cx="18288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87280" y="4495680"/>
            <a:ext cx="18288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3476520"/>
            <a:ext cx="18288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4162320"/>
            <a:ext cx="18288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438280" y="1584360"/>
            <a:ext cx="289584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mutex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181480" y="4548240"/>
            <a:ext cx="1828800" cy="3988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empt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86400" y="1752480"/>
            <a:ext cx="2971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ful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486400" y="1371600"/>
            <a:ext cx="2971800" cy="3988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empty =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187280" y="4876920"/>
            <a:ext cx="182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ful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187280" y="3516480"/>
            <a:ext cx="1828800" cy="3988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empt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181480" y="3076560"/>
            <a:ext cx="182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ful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592200" y="4038480"/>
            <a:ext cx="604440" cy="761760"/>
            <a:chOff x="592200" y="4038480"/>
            <a:chExt cx="604440" cy="761760"/>
          </a:xfrm>
        </p:grpSpPr>
        <p:grpSp>
          <p:nvGrpSpPr>
            <p:cNvPr id="604" name=""/>
            <p:cNvGrpSpPr/>
            <p:nvPr/>
          </p:nvGrpSpPr>
          <p:grpSpPr>
            <a:xfrm>
              <a:off x="815760" y="4038480"/>
              <a:ext cx="380880" cy="761760"/>
              <a:chOff x="815760" y="4038480"/>
              <a:chExt cx="380880" cy="761760"/>
            </a:xfrm>
          </p:grpSpPr>
          <p:sp>
            <p:nvSpPr>
              <p:cNvPr id="605" name=""/>
              <p:cNvSpPr/>
              <p:nvPr/>
            </p:nvSpPr>
            <p:spPr>
              <a:xfrm>
                <a:off x="815760" y="4038480"/>
                <a:ext cx="380880" cy="126720"/>
              </a:xfrm>
              <a:prstGeom prst="rightArrow">
                <a:avLst>
                  <a:gd name="adj1" fmla="val 50000"/>
                  <a:gd name="adj2" fmla="val 75142"/>
                </a:avLst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15760" y="4673160"/>
                <a:ext cx="380880" cy="127080"/>
              </a:xfrm>
              <a:prstGeom prst="rightArrow">
                <a:avLst>
                  <a:gd name="adj1" fmla="val 50000"/>
                  <a:gd name="adj2" fmla="val 74929"/>
                </a:avLst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15760" y="4070160"/>
                <a:ext cx="75960" cy="69840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>
              <a:off x="592200" y="419436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573800" y="3552840"/>
            <a:ext cx="579240" cy="914400"/>
            <a:chOff x="4573800" y="3552840"/>
            <a:chExt cx="579240" cy="914400"/>
          </a:xfrm>
        </p:grpSpPr>
        <p:grpSp>
          <p:nvGrpSpPr>
            <p:cNvPr id="610" name=""/>
            <p:cNvGrpSpPr/>
            <p:nvPr/>
          </p:nvGrpSpPr>
          <p:grpSpPr>
            <a:xfrm>
              <a:off x="4771800" y="3552840"/>
              <a:ext cx="381240" cy="914400"/>
              <a:chOff x="4771800" y="3552840"/>
              <a:chExt cx="381240" cy="914400"/>
            </a:xfrm>
          </p:grpSpPr>
          <p:sp>
            <p:nvSpPr>
              <p:cNvPr id="611" name=""/>
              <p:cNvSpPr/>
              <p:nvPr/>
            </p:nvSpPr>
            <p:spPr>
              <a:xfrm>
                <a:off x="4771800" y="3552840"/>
                <a:ext cx="381240" cy="152280"/>
              </a:xfrm>
              <a:prstGeom prst="rightArrow">
                <a:avLst>
                  <a:gd name="adj1" fmla="val 50000"/>
                  <a:gd name="adj2" fmla="val 62589"/>
                </a:avLst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771800" y="4314600"/>
                <a:ext cx="381240" cy="152640"/>
              </a:xfrm>
              <a:prstGeom prst="rightArrow">
                <a:avLst>
                  <a:gd name="adj1" fmla="val 50000"/>
                  <a:gd name="adj2" fmla="val 62441"/>
                </a:avLst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771800" y="3591000"/>
                <a:ext cx="76320" cy="83808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4573800" y="378144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 txBox="1"/>
          <p:nvPr/>
        </p:nvSpPr>
        <p:spPr>
          <a:xfrm>
            <a:off x="2666880" y="2057400"/>
            <a:ext cx="495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&gt;= 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7010280" y="2057400"/>
            <a:ext cx="495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&gt;= 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2" dur="indefinite" restart="never" nodeType="tmRoot">
          <p:childTnLst>
            <p:seq>
              <p:cTn id="1583" dur="indefinite" nodeType="mainSeq">
                <p:childTnLst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0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500"/>
                            </p:stCondLst>
                            <p:childTnLst>
                              <p:par>
                                <p:cTn id="16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500"/>
                            </p:stCondLst>
                            <p:childTnLst>
                              <p:par>
                                <p:cTn id="167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"/>
          <p:cNvGrpSpPr/>
          <p:nvPr/>
        </p:nvGrpSpPr>
        <p:grpSpPr>
          <a:xfrm>
            <a:off x="685800" y="2133720"/>
            <a:ext cx="3276720" cy="3886200"/>
            <a:chOff x="685800" y="2133720"/>
            <a:chExt cx="3276720" cy="3886200"/>
          </a:xfrm>
        </p:grpSpPr>
        <p:sp>
          <p:nvSpPr>
            <p:cNvPr id="618" name=""/>
            <p:cNvSpPr/>
            <p:nvPr/>
          </p:nvSpPr>
          <p:spPr>
            <a:xfrm>
              <a:off x="685800" y="2438280"/>
              <a:ext cx="3276720" cy="35816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while (tr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ip = produce (…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insert (buffer, ip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5800" y="2133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e00"/>
                  </a:solidFill>
                  <a:latin typeface="Arial"/>
                </a:rPr>
                <a:t>Produc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4648320" y="2133720"/>
            <a:ext cx="3428640" cy="3886200"/>
            <a:chOff x="4648320" y="2133720"/>
            <a:chExt cx="3428640" cy="3886200"/>
          </a:xfrm>
        </p:grpSpPr>
        <p:sp>
          <p:nvSpPr>
            <p:cNvPr id="621" name=""/>
            <p:cNvSpPr/>
            <p:nvPr/>
          </p:nvSpPr>
          <p:spPr>
            <a:xfrm>
              <a:off x="4648320" y="2438280"/>
              <a:ext cx="3428640" cy="35816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while (tr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ic = remove (buffer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consume (ic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648320" y="2133720"/>
              <a:ext cx="151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e00"/>
                  </a:solidFill>
                  <a:latin typeface="Arial"/>
                </a:rPr>
                <a:t>Consu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unded Buff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buffer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187280" y="3870360"/>
            <a:ext cx="18288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187280" y="4495680"/>
            <a:ext cx="18288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181480" y="4162320"/>
            <a:ext cx="18288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438280" y="1584360"/>
            <a:ext cx="289584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mutex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181480" y="4548240"/>
            <a:ext cx="1828800" cy="3988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empt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486400" y="1752480"/>
            <a:ext cx="2971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ful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486400" y="1371600"/>
            <a:ext cx="2971800" cy="3988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empty =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187280" y="4876920"/>
            <a:ext cx="182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ful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187280" y="3516480"/>
            <a:ext cx="1828800" cy="3988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empt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181480" y="3490920"/>
            <a:ext cx="18288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181480" y="3090960"/>
            <a:ext cx="182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ful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769080" y="3276720"/>
            <a:ext cx="241200" cy="380880"/>
          </a:xfrm>
          <a:custGeom>
            <a:avLst/>
            <a:gdLst/>
            <a:ahLst/>
            <a:rect l="l" t="t" r="r" b="b"/>
            <a:pathLst>
              <a:path w="152" h="240">
                <a:moveTo>
                  <a:pt x="0" y="0"/>
                </a:moveTo>
                <a:cubicBezTo>
                  <a:pt x="68" y="28"/>
                  <a:pt x="136" y="56"/>
                  <a:pt x="144" y="96"/>
                </a:cubicBezTo>
                <a:cubicBezTo>
                  <a:pt x="152" y="136"/>
                  <a:pt x="100" y="188"/>
                  <a:pt x="48" y="24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181480" y="3094200"/>
            <a:ext cx="18288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181480" y="3489480"/>
            <a:ext cx="182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ful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162920" y="3102120"/>
            <a:ext cx="1765080" cy="642600"/>
          </a:xfrm>
          <a:prstGeom prst="borderCallout1">
            <a:avLst>
              <a:gd name="adj1" fmla="val 18750"/>
              <a:gd name="adj2" fmla="val -8333"/>
              <a:gd name="adj3" fmla="val 83759"/>
              <a:gd name="adj4" fmla="val -22287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Deadlock if full =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6" dur="indefinite" restart="never" nodeType="tmRoot">
          <p:childTnLst>
            <p:seq>
              <p:cTn id="1677" dur="indefinite" nodeType="mainSeq">
                <p:childTnLst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0" fill="hold">
                            <p:stCondLst>
                              <p:cond delay="500"/>
                            </p:stCondLst>
                            <p:childTnLst>
                              <p:par>
                                <p:cTn id="1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98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P(s) </a:t>
            </a:r>
            <a:r>
              <a:rPr b="1" lang="en-US" sz="3200" spc="-1" strike="noStrike">
                <a:solidFill>
                  <a:srgbClr val="fc0128"/>
                </a:solidFill>
                <a:latin typeface="Symbol"/>
                <a:ea typeface="Symbol"/>
              </a:rPr>
              <a:t>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le (s == 0)  { 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943600" y="4876920"/>
            <a:ext cx="2438280" cy="12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tomicall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468840" y="2388240"/>
            <a:ext cx="839520" cy="1040760"/>
            <a:chOff x="6468840" y="2388240"/>
            <a:chExt cx="839520" cy="1040760"/>
          </a:xfrm>
        </p:grpSpPr>
        <p:sp>
          <p:nvSpPr>
            <p:cNvPr id="129" name=""/>
            <p:cNvSpPr/>
            <p:nvPr/>
          </p:nvSpPr>
          <p:spPr>
            <a:xfrm>
              <a:off x="6612840" y="2514600"/>
              <a:ext cx="125640" cy="914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6468840" y="2388240"/>
              <a:ext cx="839520" cy="529200"/>
              <a:chOff x="6468840" y="2388240"/>
              <a:chExt cx="839520" cy="529200"/>
            </a:xfrm>
          </p:grpSpPr>
          <p:sp>
            <p:nvSpPr>
              <p:cNvPr id="131" name=""/>
              <p:cNvSpPr/>
              <p:nvPr/>
            </p:nvSpPr>
            <p:spPr>
              <a:xfrm rot="3885600">
                <a:off x="6750000" y="2404800"/>
                <a:ext cx="75960" cy="6706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6875280" y="2388240"/>
                <a:ext cx="433080" cy="418680"/>
                <a:chOff x="6875280" y="2388240"/>
                <a:chExt cx="433080" cy="418680"/>
              </a:xfrm>
            </p:grpSpPr>
            <p:sp>
              <p:nvSpPr>
                <p:cNvPr id="133" name=""/>
                <p:cNvSpPr/>
                <p:nvPr/>
              </p:nvSpPr>
              <p:spPr>
                <a:xfrm rot="3885600">
                  <a:off x="6939360" y="2430000"/>
                  <a:ext cx="304920" cy="335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3885600">
                  <a:off x="7015320" y="2513520"/>
                  <a:ext cx="152640" cy="16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" name=""/>
          <p:cNvGrpSpPr/>
          <p:nvPr/>
        </p:nvGrpSpPr>
        <p:grpSpPr>
          <a:xfrm>
            <a:off x="7742880" y="2462400"/>
            <a:ext cx="859680" cy="966600"/>
            <a:chOff x="7742880" y="2462400"/>
            <a:chExt cx="859680" cy="966600"/>
          </a:xfrm>
        </p:grpSpPr>
        <p:sp>
          <p:nvSpPr>
            <p:cNvPr id="136" name=""/>
            <p:cNvSpPr/>
            <p:nvPr/>
          </p:nvSpPr>
          <p:spPr>
            <a:xfrm>
              <a:off x="7908840" y="2514600"/>
              <a:ext cx="124920" cy="91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7742880" y="2462400"/>
              <a:ext cx="859680" cy="373680"/>
              <a:chOff x="7742880" y="2462400"/>
              <a:chExt cx="859680" cy="373680"/>
            </a:xfrm>
          </p:grpSpPr>
          <p:sp>
            <p:nvSpPr>
              <p:cNvPr id="138" name=""/>
              <p:cNvSpPr/>
              <p:nvPr/>
            </p:nvSpPr>
            <p:spPr>
              <a:xfrm rot="4620000">
                <a:off x="8039880" y="2387880"/>
                <a:ext cx="75960" cy="6706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8207280" y="2462400"/>
                <a:ext cx="395280" cy="372600"/>
                <a:chOff x="8207280" y="2462400"/>
                <a:chExt cx="395280" cy="372600"/>
              </a:xfrm>
            </p:grpSpPr>
            <p:sp>
              <p:nvSpPr>
                <p:cNvPr id="140" name=""/>
                <p:cNvSpPr/>
                <p:nvPr/>
              </p:nvSpPr>
              <p:spPr>
                <a:xfrm rot="4620000">
                  <a:off x="8252280" y="2480760"/>
                  <a:ext cx="304920" cy="335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rot="4620000">
                  <a:off x="8328240" y="2564280"/>
                  <a:ext cx="152640" cy="16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2" name=""/>
          <p:cNvGrpSpPr/>
          <p:nvPr/>
        </p:nvGrpSpPr>
        <p:grpSpPr>
          <a:xfrm>
            <a:off x="5378040" y="1828800"/>
            <a:ext cx="839880" cy="914400"/>
            <a:chOff x="5378040" y="1828800"/>
            <a:chExt cx="839880" cy="914400"/>
          </a:xfrm>
        </p:grpSpPr>
        <p:sp>
          <p:nvSpPr>
            <p:cNvPr id="143" name=""/>
            <p:cNvSpPr/>
            <p:nvPr/>
          </p:nvSpPr>
          <p:spPr>
            <a:xfrm>
              <a:off x="5546520" y="1828800"/>
              <a:ext cx="124920" cy="9144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5378040" y="1868040"/>
              <a:ext cx="839880" cy="307800"/>
              <a:chOff x="5378040" y="1868040"/>
              <a:chExt cx="839880" cy="307800"/>
            </a:xfrm>
          </p:grpSpPr>
          <p:sp>
            <p:nvSpPr>
              <p:cNvPr id="145" name=""/>
              <p:cNvSpPr/>
              <p:nvPr/>
            </p:nvSpPr>
            <p:spPr>
              <a:xfrm rot="5434200">
                <a:off x="5675400" y="1682640"/>
                <a:ext cx="75960" cy="6706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5879880" y="1868040"/>
                <a:ext cx="338040" cy="307800"/>
                <a:chOff x="5879880" y="1868040"/>
                <a:chExt cx="338040" cy="307800"/>
              </a:xfrm>
            </p:grpSpPr>
            <p:sp>
              <p:nvSpPr>
                <p:cNvPr id="147" name=""/>
                <p:cNvSpPr/>
                <p:nvPr/>
              </p:nvSpPr>
              <p:spPr>
                <a:xfrm rot="5434200">
                  <a:off x="5896440" y="1854000"/>
                  <a:ext cx="304560" cy="335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rot="5434200">
                  <a:off x="5972760" y="1937520"/>
                  <a:ext cx="152280" cy="16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9" name=""/>
          <p:cNvGrpSpPr/>
          <p:nvPr/>
        </p:nvGrpSpPr>
        <p:grpSpPr>
          <a:xfrm>
            <a:off x="3061440" y="3834000"/>
            <a:ext cx="859680" cy="966600"/>
            <a:chOff x="3061440" y="3834000"/>
            <a:chExt cx="859680" cy="966600"/>
          </a:xfrm>
        </p:grpSpPr>
        <p:sp>
          <p:nvSpPr>
            <p:cNvPr id="150" name=""/>
            <p:cNvSpPr/>
            <p:nvPr/>
          </p:nvSpPr>
          <p:spPr>
            <a:xfrm>
              <a:off x="3227400" y="3886200"/>
              <a:ext cx="124920" cy="9144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3061440" y="3834000"/>
              <a:ext cx="859680" cy="373680"/>
              <a:chOff x="3061440" y="3834000"/>
              <a:chExt cx="859680" cy="373680"/>
            </a:xfrm>
          </p:grpSpPr>
          <p:sp>
            <p:nvSpPr>
              <p:cNvPr id="152" name=""/>
              <p:cNvSpPr/>
              <p:nvPr/>
            </p:nvSpPr>
            <p:spPr>
              <a:xfrm rot="4620000">
                <a:off x="3358440" y="3759480"/>
                <a:ext cx="75960" cy="67068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" name=""/>
              <p:cNvGrpSpPr/>
              <p:nvPr/>
            </p:nvGrpSpPr>
            <p:grpSpPr>
              <a:xfrm>
                <a:off x="3525840" y="3834000"/>
                <a:ext cx="395280" cy="372600"/>
                <a:chOff x="3525840" y="3834000"/>
                <a:chExt cx="395280" cy="372600"/>
              </a:xfrm>
            </p:grpSpPr>
            <p:sp>
              <p:nvSpPr>
                <p:cNvPr id="154" name=""/>
                <p:cNvSpPr/>
                <p:nvPr/>
              </p:nvSpPr>
              <p:spPr>
                <a:xfrm rot="4620000">
                  <a:off x="3570840" y="3852360"/>
                  <a:ext cx="304920" cy="335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4620000">
                  <a:off x="3646800" y="3935880"/>
                  <a:ext cx="152640" cy="16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6" name=""/>
          <p:cNvGrpSpPr/>
          <p:nvPr/>
        </p:nvGrpSpPr>
        <p:grpSpPr>
          <a:xfrm>
            <a:off x="4454640" y="3836160"/>
            <a:ext cx="839520" cy="1040760"/>
            <a:chOff x="4454640" y="3836160"/>
            <a:chExt cx="839520" cy="1040760"/>
          </a:xfrm>
        </p:grpSpPr>
        <p:sp>
          <p:nvSpPr>
            <p:cNvPr id="157" name=""/>
            <p:cNvSpPr/>
            <p:nvPr/>
          </p:nvSpPr>
          <p:spPr>
            <a:xfrm>
              <a:off x="4598280" y="3962520"/>
              <a:ext cx="125640" cy="9144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4454640" y="3836160"/>
              <a:ext cx="839520" cy="529200"/>
              <a:chOff x="4454640" y="3836160"/>
              <a:chExt cx="839520" cy="529200"/>
            </a:xfrm>
          </p:grpSpPr>
          <p:sp>
            <p:nvSpPr>
              <p:cNvPr id="159" name=""/>
              <p:cNvSpPr/>
              <p:nvPr/>
            </p:nvSpPr>
            <p:spPr>
              <a:xfrm rot="3885600">
                <a:off x="4735800" y="3852720"/>
                <a:ext cx="75960" cy="6706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4861080" y="3836160"/>
                <a:ext cx="433080" cy="418680"/>
                <a:chOff x="4861080" y="3836160"/>
                <a:chExt cx="433080" cy="418680"/>
              </a:xfrm>
            </p:grpSpPr>
            <p:sp>
              <p:nvSpPr>
                <p:cNvPr id="161" name=""/>
                <p:cNvSpPr/>
                <p:nvPr/>
              </p:nvSpPr>
              <p:spPr>
                <a:xfrm rot="3885600">
                  <a:off x="4925160" y="3877920"/>
                  <a:ext cx="304920" cy="335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rot="3885600">
                  <a:off x="5001120" y="3961440"/>
                  <a:ext cx="152640" cy="16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3" name=""/>
          <p:cNvSpPr/>
          <p:nvPr/>
        </p:nvSpPr>
        <p:spPr>
          <a:xfrm>
            <a:off x="7130880" y="2971800"/>
            <a:ext cx="609840" cy="380880"/>
          </a:xfrm>
          <a:prstGeom prst="rightArrow">
            <a:avLst>
              <a:gd name="adj1" fmla="val 50000"/>
              <a:gd name="adj2" fmla="val 40028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45080" y="434340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573800">
            <a:off x="7968960" y="2133360"/>
            <a:ext cx="1066680" cy="34128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45720 h 341280"/>
              <a:gd name="textAreaBottom" fmla="*/ 295560 h 341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rot="1574400">
            <a:off x="4583160" y="3657240"/>
            <a:ext cx="1066680" cy="304920"/>
          </a:xfrm>
          <a:custGeom>
            <a:avLst/>
            <a:gdLst>
              <a:gd name="textAreaLeft" fmla="*/ 186120 w 1066680"/>
              <a:gd name="textAreaRight" fmla="*/ 772920 w 106668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84040" y="2335320"/>
            <a:ext cx="831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556272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C-Note: P and V are not procedure call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3200400"/>
            <a:ext cx="7772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V(s)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c0128"/>
                </a:solidFill>
                <a:latin typeface="Symbol"/>
                <a:ea typeface="Symbol"/>
              </a:rPr>
              <a:t>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++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96960" y="2522520"/>
            <a:ext cx="1246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--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ers / Wri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048120" y="2438280"/>
            <a:ext cx="3047760" cy="121932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133720" y="2057400"/>
            <a:ext cx="1752480" cy="660240"/>
          </a:xfrm>
          <a:custGeom>
            <a:avLst/>
            <a:gdLst/>
            <a:ahLst/>
            <a:rect l="l" t="t" r="r" b="b"/>
            <a:pathLst>
              <a:path w="1104" h="416">
                <a:moveTo>
                  <a:pt x="1104" y="320"/>
                </a:moveTo>
                <a:cubicBezTo>
                  <a:pt x="960" y="192"/>
                  <a:pt x="816" y="64"/>
                  <a:pt x="672" y="32"/>
                </a:cubicBezTo>
                <a:cubicBezTo>
                  <a:pt x="528" y="0"/>
                  <a:pt x="352" y="64"/>
                  <a:pt x="240" y="128"/>
                </a:cubicBezTo>
                <a:cubicBezTo>
                  <a:pt x="128" y="192"/>
                  <a:pt x="64" y="304"/>
                  <a:pt x="0" y="41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286000" y="2400480"/>
            <a:ext cx="1600200" cy="1028520"/>
          </a:xfrm>
          <a:custGeom>
            <a:avLst/>
            <a:gdLst/>
            <a:ahLst/>
            <a:rect l="l" t="t" r="r" b="b"/>
            <a:pathLst>
              <a:path w="1008" h="648">
                <a:moveTo>
                  <a:pt x="1008" y="216"/>
                </a:moveTo>
                <a:cubicBezTo>
                  <a:pt x="828" y="108"/>
                  <a:pt x="648" y="0"/>
                  <a:pt x="480" y="72"/>
                </a:cubicBezTo>
                <a:cubicBezTo>
                  <a:pt x="312" y="144"/>
                  <a:pt x="156" y="396"/>
                  <a:pt x="0" y="64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447920" y="1803240"/>
            <a:ext cx="2590560" cy="787680"/>
          </a:xfrm>
          <a:custGeom>
            <a:avLst/>
            <a:gdLst/>
            <a:ahLst/>
            <a:rect l="l" t="t" r="r" b="b"/>
            <a:pathLst>
              <a:path w="1632" h="496">
                <a:moveTo>
                  <a:pt x="1632" y="496"/>
                </a:moveTo>
                <a:cubicBezTo>
                  <a:pt x="1540" y="392"/>
                  <a:pt x="1448" y="288"/>
                  <a:pt x="1296" y="208"/>
                </a:cubicBezTo>
                <a:cubicBezTo>
                  <a:pt x="1144" y="128"/>
                  <a:pt x="936" y="0"/>
                  <a:pt x="720" y="16"/>
                </a:cubicBezTo>
                <a:cubicBezTo>
                  <a:pt x="504" y="32"/>
                  <a:pt x="252" y="168"/>
                  <a:pt x="0" y="304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5180760" y="2057400"/>
            <a:ext cx="1752840" cy="660240"/>
          </a:xfrm>
          <a:custGeom>
            <a:avLst/>
            <a:gdLst/>
            <a:ahLst/>
            <a:rect l="l" t="t" r="r" b="b"/>
            <a:pathLst>
              <a:path w="1104" h="416">
                <a:moveTo>
                  <a:pt x="1104" y="320"/>
                </a:moveTo>
                <a:cubicBezTo>
                  <a:pt x="960" y="192"/>
                  <a:pt x="816" y="64"/>
                  <a:pt x="672" y="32"/>
                </a:cubicBezTo>
                <a:cubicBezTo>
                  <a:pt x="528" y="0"/>
                  <a:pt x="352" y="64"/>
                  <a:pt x="240" y="128"/>
                </a:cubicBezTo>
                <a:cubicBezTo>
                  <a:pt x="128" y="192"/>
                  <a:pt x="64" y="304"/>
                  <a:pt x="0" y="41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5409360" y="2286000"/>
            <a:ext cx="1600200" cy="1028880"/>
          </a:xfrm>
          <a:custGeom>
            <a:avLst/>
            <a:gdLst/>
            <a:ahLst/>
            <a:rect l="l" t="t" r="r" b="b"/>
            <a:pathLst>
              <a:path w="1008" h="648">
                <a:moveTo>
                  <a:pt x="1008" y="216"/>
                </a:moveTo>
                <a:cubicBezTo>
                  <a:pt x="828" y="108"/>
                  <a:pt x="648" y="0"/>
                  <a:pt x="480" y="72"/>
                </a:cubicBezTo>
                <a:cubicBezTo>
                  <a:pt x="312" y="144"/>
                  <a:pt x="156" y="396"/>
                  <a:pt x="0" y="64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4876920" y="1803240"/>
            <a:ext cx="2590560" cy="787680"/>
          </a:xfrm>
          <a:custGeom>
            <a:avLst/>
            <a:gdLst/>
            <a:ahLst/>
            <a:rect l="l" t="t" r="r" b="b"/>
            <a:pathLst>
              <a:path w="1632" h="496">
                <a:moveTo>
                  <a:pt x="1632" y="496"/>
                </a:moveTo>
                <a:cubicBezTo>
                  <a:pt x="1540" y="392"/>
                  <a:pt x="1448" y="288"/>
                  <a:pt x="1296" y="208"/>
                </a:cubicBezTo>
                <a:cubicBezTo>
                  <a:pt x="1144" y="128"/>
                  <a:pt x="936" y="0"/>
                  <a:pt x="720" y="16"/>
                </a:cubicBezTo>
                <a:cubicBezTo>
                  <a:pt x="504" y="32"/>
                  <a:pt x="252" y="168"/>
                  <a:pt x="0" y="304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09480" y="2743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R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010280" y="2666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Wri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805120" y="4100400"/>
            <a:ext cx="2514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04840"/>
                <a:tab algn="l" pos="409680"/>
                <a:tab algn="l" pos="614520"/>
                <a:tab algn="l" pos="819000"/>
                <a:tab algn="l" pos="1023840"/>
                <a:tab algn="l" pos="1228680"/>
                <a:tab algn="l" pos="1433520"/>
                <a:tab algn="l" pos="1638360"/>
                <a:tab algn="l" pos="1843200"/>
                <a:tab algn="l" pos="2048040"/>
                <a:tab algn="l" pos="2252520"/>
                <a:tab algn="l" pos="2457360"/>
                <a:tab algn="l" pos="2662200"/>
                <a:tab algn="l" pos="2867040"/>
                <a:tab algn="l" pos="3071880"/>
                <a:tab algn="l" pos="3276720"/>
                <a:tab algn="l" pos="3481560"/>
                <a:tab algn="l" pos="3686040"/>
                <a:tab algn="l" pos="3890880"/>
                <a:tab algn="l" pos="409572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reader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+ rea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04840"/>
                <a:tab algn="l" pos="409680"/>
                <a:tab algn="l" pos="614520"/>
                <a:tab algn="l" pos="819000"/>
                <a:tab algn="l" pos="1023840"/>
                <a:tab algn="l" pos="1228680"/>
                <a:tab algn="l" pos="1433520"/>
                <a:tab algn="l" pos="1638360"/>
                <a:tab algn="l" pos="1843200"/>
                <a:tab algn="l" pos="2048040"/>
                <a:tab algn="l" pos="2252520"/>
                <a:tab algn="l" pos="2457360"/>
                <a:tab algn="l" pos="2662200"/>
                <a:tab algn="l" pos="2867040"/>
                <a:tab algn="l" pos="3071880"/>
                <a:tab algn="l" pos="3276720"/>
                <a:tab algn="l" pos="3481560"/>
                <a:tab algn="l" pos="3686040"/>
                <a:tab algn="l" pos="3890880"/>
                <a:tab algn="l" pos="409572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reader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+ wri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04840"/>
                <a:tab algn="l" pos="409680"/>
                <a:tab algn="l" pos="614520"/>
                <a:tab algn="l" pos="819000"/>
                <a:tab algn="l" pos="1023840"/>
                <a:tab algn="l" pos="1228680"/>
                <a:tab algn="l" pos="1433520"/>
                <a:tab algn="l" pos="1638360"/>
                <a:tab algn="l" pos="1843200"/>
                <a:tab algn="l" pos="2048040"/>
                <a:tab algn="l" pos="2252520"/>
                <a:tab algn="l" pos="2457360"/>
                <a:tab algn="l" pos="2662200"/>
                <a:tab algn="l" pos="2867040"/>
                <a:tab algn="l" pos="3071880"/>
                <a:tab algn="l" pos="3276720"/>
                <a:tab algn="l" pos="3481560"/>
                <a:tab algn="l" pos="3686040"/>
                <a:tab algn="l" pos="3890880"/>
                <a:tab algn="l" pos="409572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riter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+ writ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170320" y="4114800"/>
            <a:ext cx="11541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N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N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9" dur="indefinite" restart="never" nodeType="tmRoot">
          <p:childTnLst>
            <p:seq>
              <p:cTn id="1700" dur="indefinite" nodeType="mainSeq">
                <p:childTnLst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1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500"/>
                            </p:stCondLst>
                            <p:childTnLst>
                              <p:par>
                                <p:cTn id="17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5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500"/>
                            </p:stCondLst>
                            <p:childTnLst>
                              <p:par>
                                <p:cTn id="17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3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8" dur="500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3" dur="500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"/>
          <p:cNvGrpSpPr/>
          <p:nvPr/>
        </p:nvGrpSpPr>
        <p:grpSpPr>
          <a:xfrm>
            <a:off x="6629400" y="2075040"/>
            <a:ext cx="1066320" cy="1962720"/>
            <a:chOff x="6629400" y="2075040"/>
            <a:chExt cx="1066320" cy="1962720"/>
          </a:xfrm>
        </p:grpSpPr>
        <p:sp>
          <p:nvSpPr>
            <p:cNvPr id="653" name=""/>
            <p:cNvSpPr/>
            <p:nvPr/>
          </p:nvSpPr>
          <p:spPr>
            <a:xfrm flipH="1">
              <a:off x="6629400" y="3781440"/>
              <a:ext cx="1066320" cy="25632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6897600" y="3744360"/>
              <a:ext cx="300240" cy="167400"/>
            </a:xfrm>
            <a:custGeom>
              <a:avLst/>
              <a:gdLst/>
              <a:ahLst/>
              <a:rect l="l" t="t" r="r" b="b"/>
              <a:pathLst>
                <a:path w="598" h="409">
                  <a:moveTo>
                    <a:pt x="30" y="18"/>
                  </a:moveTo>
                  <a:lnTo>
                    <a:pt x="24" y="41"/>
                  </a:lnTo>
                  <a:lnTo>
                    <a:pt x="14" y="73"/>
                  </a:lnTo>
                  <a:lnTo>
                    <a:pt x="6" y="111"/>
                  </a:lnTo>
                  <a:lnTo>
                    <a:pt x="0" y="151"/>
                  </a:lnTo>
                  <a:lnTo>
                    <a:pt x="0" y="192"/>
                  </a:lnTo>
                  <a:lnTo>
                    <a:pt x="8" y="230"/>
                  </a:lnTo>
                  <a:lnTo>
                    <a:pt x="25" y="265"/>
                  </a:lnTo>
                  <a:lnTo>
                    <a:pt x="55" y="289"/>
                  </a:lnTo>
                  <a:lnTo>
                    <a:pt x="69" y="297"/>
                  </a:lnTo>
                  <a:lnTo>
                    <a:pt x="85" y="299"/>
                  </a:lnTo>
                  <a:lnTo>
                    <a:pt x="100" y="299"/>
                  </a:lnTo>
                  <a:lnTo>
                    <a:pt x="116" y="298"/>
                  </a:lnTo>
                  <a:lnTo>
                    <a:pt x="132" y="296"/>
                  </a:lnTo>
                  <a:lnTo>
                    <a:pt x="147" y="294"/>
                  </a:lnTo>
                  <a:lnTo>
                    <a:pt x="163" y="296"/>
                  </a:lnTo>
                  <a:lnTo>
                    <a:pt x="180" y="299"/>
                  </a:lnTo>
                  <a:lnTo>
                    <a:pt x="200" y="306"/>
                  </a:lnTo>
                  <a:lnTo>
                    <a:pt x="218" y="312"/>
                  </a:lnTo>
                  <a:lnTo>
                    <a:pt x="236" y="318"/>
                  </a:lnTo>
                  <a:lnTo>
                    <a:pt x="252" y="324"/>
                  </a:lnTo>
                  <a:lnTo>
                    <a:pt x="269" y="329"/>
                  </a:lnTo>
                  <a:lnTo>
                    <a:pt x="284" y="336"/>
                  </a:lnTo>
                  <a:lnTo>
                    <a:pt x="300" y="341"/>
                  </a:lnTo>
                  <a:lnTo>
                    <a:pt x="314" y="346"/>
                  </a:lnTo>
                  <a:lnTo>
                    <a:pt x="329" y="353"/>
                  </a:lnTo>
                  <a:lnTo>
                    <a:pt x="344" y="358"/>
                  </a:lnTo>
                  <a:lnTo>
                    <a:pt x="361" y="364"/>
                  </a:lnTo>
                  <a:lnTo>
                    <a:pt x="376" y="369"/>
                  </a:lnTo>
                  <a:lnTo>
                    <a:pt x="394" y="376"/>
                  </a:lnTo>
                  <a:lnTo>
                    <a:pt x="411" y="381"/>
                  </a:lnTo>
                  <a:lnTo>
                    <a:pt x="428" y="387"/>
                  </a:lnTo>
                  <a:lnTo>
                    <a:pt x="448" y="395"/>
                  </a:lnTo>
                  <a:lnTo>
                    <a:pt x="462" y="398"/>
                  </a:lnTo>
                  <a:lnTo>
                    <a:pt x="479" y="401"/>
                  </a:lnTo>
                  <a:lnTo>
                    <a:pt x="501" y="404"/>
                  </a:lnTo>
                  <a:lnTo>
                    <a:pt x="523" y="406"/>
                  </a:lnTo>
                  <a:lnTo>
                    <a:pt x="546" y="409"/>
                  </a:lnTo>
                  <a:lnTo>
                    <a:pt x="567" y="409"/>
                  </a:lnTo>
                  <a:lnTo>
                    <a:pt x="586" y="407"/>
                  </a:lnTo>
                  <a:lnTo>
                    <a:pt x="598" y="404"/>
                  </a:lnTo>
                  <a:lnTo>
                    <a:pt x="596" y="377"/>
                  </a:lnTo>
                  <a:lnTo>
                    <a:pt x="588" y="348"/>
                  </a:lnTo>
                  <a:lnTo>
                    <a:pt x="575" y="320"/>
                  </a:lnTo>
                  <a:lnTo>
                    <a:pt x="558" y="292"/>
                  </a:lnTo>
                  <a:lnTo>
                    <a:pt x="538" y="263"/>
                  </a:lnTo>
                  <a:lnTo>
                    <a:pt x="516" y="234"/>
                  </a:lnTo>
                  <a:lnTo>
                    <a:pt x="491" y="206"/>
                  </a:lnTo>
                  <a:lnTo>
                    <a:pt x="463" y="178"/>
                  </a:lnTo>
                  <a:lnTo>
                    <a:pt x="435" y="152"/>
                  </a:lnTo>
                  <a:lnTo>
                    <a:pt x="405" y="127"/>
                  </a:lnTo>
                  <a:lnTo>
                    <a:pt x="376" y="103"/>
                  </a:lnTo>
                  <a:lnTo>
                    <a:pt x="346" y="82"/>
                  </a:lnTo>
                  <a:lnTo>
                    <a:pt x="319" y="63"/>
                  </a:lnTo>
                  <a:lnTo>
                    <a:pt x="291" y="45"/>
                  </a:lnTo>
                  <a:lnTo>
                    <a:pt x="265" y="32"/>
                  </a:lnTo>
                  <a:lnTo>
                    <a:pt x="243" y="21"/>
                  </a:lnTo>
                  <a:lnTo>
                    <a:pt x="224" y="16"/>
                  </a:lnTo>
                  <a:lnTo>
                    <a:pt x="208" y="11"/>
                  </a:lnTo>
                  <a:lnTo>
                    <a:pt x="191" y="7"/>
                  </a:lnTo>
                  <a:lnTo>
                    <a:pt x="176" y="5"/>
                  </a:lnTo>
                  <a:lnTo>
                    <a:pt x="161" y="3"/>
                  </a:lnTo>
                  <a:lnTo>
                    <a:pt x="149" y="1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1"/>
                  </a:lnTo>
                  <a:lnTo>
                    <a:pt x="88" y="2"/>
                  </a:lnTo>
                  <a:lnTo>
                    <a:pt x="78" y="4"/>
                  </a:lnTo>
                  <a:lnTo>
                    <a:pt x="66" y="6"/>
                  </a:lnTo>
                  <a:lnTo>
                    <a:pt x="55" y="10"/>
                  </a:lnTo>
                  <a:lnTo>
                    <a:pt x="43" y="14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694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167600" y="3750480"/>
              <a:ext cx="34920" cy="115560"/>
            </a:xfrm>
            <a:custGeom>
              <a:avLst/>
              <a:gdLst/>
              <a:ahLst/>
              <a:rect l="l" t="t" r="r" b="b"/>
              <a:pathLst>
                <a:path w="69" h="282">
                  <a:moveTo>
                    <a:pt x="69" y="266"/>
                  </a:moveTo>
                  <a:lnTo>
                    <a:pt x="69" y="266"/>
                  </a:lnTo>
                  <a:lnTo>
                    <a:pt x="42" y="243"/>
                  </a:lnTo>
                  <a:lnTo>
                    <a:pt x="28" y="212"/>
                  </a:lnTo>
                  <a:lnTo>
                    <a:pt x="19" y="176"/>
                  </a:lnTo>
                  <a:lnTo>
                    <a:pt x="19" y="135"/>
                  </a:lnTo>
                  <a:lnTo>
                    <a:pt x="25" y="96"/>
                  </a:lnTo>
                  <a:lnTo>
                    <a:pt x="34" y="59"/>
                  </a:lnTo>
                  <a:lnTo>
                    <a:pt x="43" y="27"/>
                  </a:lnTo>
                  <a:lnTo>
                    <a:pt x="50" y="5"/>
                  </a:lnTo>
                  <a:lnTo>
                    <a:pt x="32" y="0"/>
                  </a:lnTo>
                  <a:lnTo>
                    <a:pt x="24" y="22"/>
                  </a:lnTo>
                  <a:lnTo>
                    <a:pt x="15" y="55"/>
                  </a:lnTo>
                  <a:lnTo>
                    <a:pt x="6" y="93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9" y="217"/>
                  </a:lnTo>
                  <a:lnTo>
                    <a:pt x="28" y="254"/>
                  </a:lnTo>
                  <a:lnTo>
                    <a:pt x="59" y="282"/>
                  </a:lnTo>
                  <a:lnTo>
                    <a:pt x="59" y="282"/>
                  </a:lnTo>
                  <a:lnTo>
                    <a:pt x="69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107480" y="3860280"/>
              <a:ext cx="65160" cy="10080"/>
            </a:xfrm>
            <a:custGeom>
              <a:avLst/>
              <a:gdLst/>
              <a:ahLst/>
              <a:rect l="l" t="t" r="r" b="b"/>
              <a:pathLst>
                <a:path w="133" h="26">
                  <a:moveTo>
                    <a:pt x="133" y="7"/>
                  </a:moveTo>
                  <a:lnTo>
                    <a:pt x="133" y="7"/>
                  </a:lnTo>
                  <a:lnTo>
                    <a:pt x="116" y="4"/>
                  </a:lnTo>
                  <a:lnTo>
                    <a:pt x="98" y="3"/>
                  </a:lnTo>
                  <a:lnTo>
                    <a:pt x="83" y="4"/>
                  </a:lnTo>
                  <a:lnTo>
                    <a:pt x="67" y="6"/>
                  </a:lnTo>
                  <a:lnTo>
                    <a:pt x="51" y="7"/>
                  </a:lnTo>
                  <a:lnTo>
                    <a:pt x="36" y="7"/>
                  </a:lnTo>
                  <a:lnTo>
                    <a:pt x="22" y="5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18" y="24"/>
                  </a:lnTo>
                  <a:lnTo>
                    <a:pt x="36" y="26"/>
                  </a:lnTo>
                  <a:lnTo>
                    <a:pt x="51" y="26"/>
                  </a:lnTo>
                  <a:lnTo>
                    <a:pt x="67" y="25"/>
                  </a:lnTo>
                  <a:lnTo>
                    <a:pt x="83" y="23"/>
                  </a:lnTo>
                  <a:lnTo>
                    <a:pt x="98" y="22"/>
                  </a:lnTo>
                  <a:lnTo>
                    <a:pt x="113" y="23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6972120" y="3862440"/>
              <a:ext cx="135000" cy="47160"/>
            </a:xfrm>
            <a:custGeom>
              <a:avLst/>
              <a:gdLst/>
              <a:ahLst/>
              <a:rect l="l" t="t" r="r" b="b"/>
              <a:pathLst>
                <a:path w="274" h="115">
                  <a:moveTo>
                    <a:pt x="274" y="96"/>
                  </a:moveTo>
                  <a:lnTo>
                    <a:pt x="274" y="96"/>
                  </a:lnTo>
                  <a:lnTo>
                    <a:pt x="254" y="89"/>
                  </a:lnTo>
                  <a:lnTo>
                    <a:pt x="236" y="84"/>
                  </a:lnTo>
                  <a:lnTo>
                    <a:pt x="218" y="77"/>
                  </a:lnTo>
                  <a:lnTo>
                    <a:pt x="201" y="71"/>
                  </a:lnTo>
                  <a:lnTo>
                    <a:pt x="185" y="66"/>
                  </a:lnTo>
                  <a:lnTo>
                    <a:pt x="168" y="59"/>
                  </a:lnTo>
                  <a:lnTo>
                    <a:pt x="154" y="54"/>
                  </a:lnTo>
                  <a:lnTo>
                    <a:pt x="138" y="48"/>
                  </a:lnTo>
                  <a:lnTo>
                    <a:pt x="124" y="42"/>
                  </a:lnTo>
                  <a:lnTo>
                    <a:pt x="109" y="37"/>
                  </a:lnTo>
                  <a:lnTo>
                    <a:pt x="93" y="31"/>
                  </a:lnTo>
                  <a:lnTo>
                    <a:pt x="76" y="26"/>
                  </a:lnTo>
                  <a:lnTo>
                    <a:pt x="60" y="19"/>
                  </a:lnTo>
                  <a:lnTo>
                    <a:pt x="42" y="14"/>
                  </a:lnTo>
                  <a:lnTo>
                    <a:pt x="24" y="8"/>
                  </a:lnTo>
                  <a:lnTo>
                    <a:pt x="4" y="0"/>
                  </a:lnTo>
                  <a:lnTo>
                    <a:pt x="0" y="19"/>
                  </a:lnTo>
                  <a:lnTo>
                    <a:pt x="20" y="27"/>
                  </a:lnTo>
                  <a:lnTo>
                    <a:pt x="38" y="32"/>
                  </a:lnTo>
                  <a:lnTo>
                    <a:pt x="55" y="38"/>
                  </a:lnTo>
                  <a:lnTo>
                    <a:pt x="72" y="45"/>
                  </a:lnTo>
                  <a:lnTo>
                    <a:pt x="89" y="50"/>
                  </a:lnTo>
                  <a:lnTo>
                    <a:pt x="104" y="56"/>
                  </a:lnTo>
                  <a:lnTo>
                    <a:pt x="119" y="61"/>
                  </a:lnTo>
                  <a:lnTo>
                    <a:pt x="134" y="67"/>
                  </a:lnTo>
                  <a:lnTo>
                    <a:pt x="147" y="72"/>
                  </a:lnTo>
                  <a:lnTo>
                    <a:pt x="164" y="78"/>
                  </a:lnTo>
                  <a:lnTo>
                    <a:pt x="181" y="85"/>
                  </a:lnTo>
                  <a:lnTo>
                    <a:pt x="195" y="90"/>
                  </a:lnTo>
                  <a:lnTo>
                    <a:pt x="213" y="96"/>
                  </a:lnTo>
                  <a:lnTo>
                    <a:pt x="230" y="102"/>
                  </a:lnTo>
                  <a:lnTo>
                    <a:pt x="248" y="108"/>
                  </a:lnTo>
                  <a:lnTo>
                    <a:pt x="268" y="115"/>
                  </a:lnTo>
                  <a:lnTo>
                    <a:pt x="268" y="115"/>
                  </a:lnTo>
                  <a:lnTo>
                    <a:pt x="274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6892560" y="3903480"/>
              <a:ext cx="82080" cy="12600"/>
            </a:xfrm>
            <a:custGeom>
              <a:avLst/>
              <a:gdLst/>
              <a:ahLst/>
              <a:rect l="l" t="t" r="r" b="b"/>
              <a:pathLst>
                <a:path w="162" h="33">
                  <a:moveTo>
                    <a:pt x="143" y="19"/>
                  </a:moveTo>
                  <a:lnTo>
                    <a:pt x="149" y="11"/>
                  </a:lnTo>
                  <a:lnTo>
                    <a:pt x="139" y="13"/>
                  </a:lnTo>
                  <a:lnTo>
                    <a:pt x="121" y="14"/>
                  </a:lnTo>
                  <a:lnTo>
                    <a:pt x="100" y="14"/>
                  </a:lnTo>
                  <a:lnTo>
                    <a:pt x="77" y="12"/>
                  </a:lnTo>
                  <a:lnTo>
                    <a:pt x="55" y="10"/>
                  </a:lnTo>
                  <a:lnTo>
                    <a:pt x="35" y="8"/>
                  </a:lnTo>
                  <a:lnTo>
                    <a:pt x="17" y="3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5" y="22"/>
                  </a:lnTo>
                  <a:lnTo>
                    <a:pt x="32" y="26"/>
                  </a:lnTo>
                  <a:lnTo>
                    <a:pt x="55" y="29"/>
                  </a:lnTo>
                  <a:lnTo>
                    <a:pt x="77" y="31"/>
                  </a:lnTo>
                  <a:lnTo>
                    <a:pt x="100" y="33"/>
                  </a:lnTo>
                  <a:lnTo>
                    <a:pt x="121" y="33"/>
                  </a:lnTo>
                  <a:lnTo>
                    <a:pt x="141" y="32"/>
                  </a:lnTo>
                  <a:lnTo>
                    <a:pt x="157" y="28"/>
                  </a:lnTo>
                  <a:lnTo>
                    <a:pt x="162" y="19"/>
                  </a:lnTo>
                  <a:lnTo>
                    <a:pt x="157" y="28"/>
                  </a:lnTo>
                  <a:lnTo>
                    <a:pt x="161" y="22"/>
                  </a:lnTo>
                  <a:lnTo>
                    <a:pt x="161" y="15"/>
                  </a:lnTo>
                  <a:lnTo>
                    <a:pt x="157" y="11"/>
                  </a:lnTo>
                  <a:lnTo>
                    <a:pt x="149" y="11"/>
                  </a:lnTo>
                  <a:lnTo>
                    <a:pt x="1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892560" y="3748320"/>
              <a:ext cx="187920" cy="161280"/>
            </a:xfrm>
            <a:custGeom>
              <a:avLst/>
              <a:gdLst/>
              <a:ahLst/>
              <a:rect l="l" t="t" r="r" b="b"/>
              <a:pathLst>
                <a:path w="374" h="393">
                  <a:moveTo>
                    <a:pt x="6" y="18"/>
                  </a:moveTo>
                  <a:lnTo>
                    <a:pt x="5" y="17"/>
                  </a:lnTo>
                  <a:lnTo>
                    <a:pt x="28" y="28"/>
                  </a:lnTo>
                  <a:lnTo>
                    <a:pt x="53" y="43"/>
                  </a:lnTo>
                  <a:lnTo>
                    <a:pt x="79" y="61"/>
                  </a:lnTo>
                  <a:lnTo>
                    <a:pt x="108" y="80"/>
                  </a:lnTo>
                  <a:lnTo>
                    <a:pt x="136" y="100"/>
                  </a:lnTo>
                  <a:lnTo>
                    <a:pt x="166" y="123"/>
                  </a:lnTo>
                  <a:lnTo>
                    <a:pt x="194" y="147"/>
                  </a:lnTo>
                  <a:lnTo>
                    <a:pt x="222" y="175"/>
                  </a:lnTo>
                  <a:lnTo>
                    <a:pt x="249" y="201"/>
                  </a:lnTo>
                  <a:lnTo>
                    <a:pt x="275" y="229"/>
                  </a:lnTo>
                  <a:lnTo>
                    <a:pt x="298" y="257"/>
                  </a:lnTo>
                  <a:lnTo>
                    <a:pt x="316" y="286"/>
                  </a:lnTo>
                  <a:lnTo>
                    <a:pt x="333" y="313"/>
                  </a:lnTo>
                  <a:lnTo>
                    <a:pt x="344" y="339"/>
                  </a:lnTo>
                  <a:lnTo>
                    <a:pt x="353" y="367"/>
                  </a:lnTo>
                  <a:lnTo>
                    <a:pt x="355" y="393"/>
                  </a:lnTo>
                  <a:lnTo>
                    <a:pt x="374" y="393"/>
                  </a:lnTo>
                  <a:lnTo>
                    <a:pt x="372" y="365"/>
                  </a:lnTo>
                  <a:lnTo>
                    <a:pt x="363" y="335"/>
                  </a:lnTo>
                  <a:lnTo>
                    <a:pt x="350" y="306"/>
                  </a:lnTo>
                  <a:lnTo>
                    <a:pt x="333" y="276"/>
                  </a:lnTo>
                  <a:lnTo>
                    <a:pt x="312" y="245"/>
                  </a:lnTo>
                  <a:lnTo>
                    <a:pt x="289" y="217"/>
                  </a:lnTo>
                  <a:lnTo>
                    <a:pt x="263" y="188"/>
                  </a:lnTo>
                  <a:lnTo>
                    <a:pt x="237" y="161"/>
                  </a:lnTo>
                  <a:lnTo>
                    <a:pt x="207" y="134"/>
                  </a:lnTo>
                  <a:lnTo>
                    <a:pt x="177" y="108"/>
                  </a:lnTo>
                  <a:lnTo>
                    <a:pt x="148" y="85"/>
                  </a:lnTo>
                  <a:lnTo>
                    <a:pt x="117" y="63"/>
                  </a:lnTo>
                  <a:lnTo>
                    <a:pt x="89" y="44"/>
                  </a:lnTo>
                  <a:lnTo>
                    <a:pt x="61" y="26"/>
                  </a:lnTo>
                  <a:lnTo>
                    <a:pt x="35" y="1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5" y="2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075440" y="3740400"/>
              <a:ext cx="112320" cy="14400"/>
            </a:xfrm>
            <a:custGeom>
              <a:avLst/>
              <a:gdLst/>
              <a:ahLst/>
              <a:rect l="l" t="t" r="r" b="b"/>
              <a:pathLst>
                <a:path w="223" h="39">
                  <a:moveTo>
                    <a:pt x="18" y="31"/>
                  </a:moveTo>
                  <a:lnTo>
                    <a:pt x="11" y="37"/>
                  </a:lnTo>
                  <a:lnTo>
                    <a:pt x="23" y="33"/>
                  </a:lnTo>
                  <a:lnTo>
                    <a:pt x="35" y="29"/>
                  </a:lnTo>
                  <a:lnTo>
                    <a:pt x="46" y="26"/>
                  </a:lnTo>
                  <a:lnTo>
                    <a:pt x="57" y="24"/>
                  </a:lnTo>
                  <a:lnTo>
                    <a:pt x="67" y="21"/>
                  </a:lnTo>
                  <a:lnTo>
                    <a:pt x="78" y="20"/>
                  </a:lnTo>
                  <a:lnTo>
                    <a:pt x="89" y="18"/>
                  </a:lnTo>
                  <a:lnTo>
                    <a:pt x="100" y="18"/>
                  </a:lnTo>
                  <a:lnTo>
                    <a:pt x="114" y="18"/>
                  </a:lnTo>
                  <a:lnTo>
                    <a:pt x="125" y="20"/>
                  </a:lnTo>
                  <a:lnTo>
                    <a:pt x="138" y="23"/>
                  </a:lnTo>
                  <a:lnTo>
                    <a:pt x="153" y="25"/>
                  </a:lnTo>
                  <a:lnTo>
                    <a:pt x="168" y="27"/>
                  </a:lnTo>
                  <a:lnTo>
                    <a:pt x="184" y="31"/>
                  </a:lnTo>
                  <a:lnTo>
                    <a:pt x="199" y="35"/>
                  </a:lnTo>
                  <a:lnTo>
                    <a:pt x="218" y="39"/>
                  </a:lnTo>
                  <a:lnTo>
                    <a:pt x="223" y="21"/>
                  </a:lnTo>
                  <a:lnTo>
                    <a:pt x="205" y="16"/>
                  </a:lnTo>
                  <a:lnTo>
                    <a:pt x="188" y="12"/>
                  </a:lnTo>
                  <a:lnTo>
                    <a:pt x="170" y="8"/>
                  </a:lnTo>
                  <a:lnTo>
                    <a:pt x="155" y="6"/>
                  </a:lnTo>
                  <a:lnTo>
                    <a:pt x="140" y="4"/>
                  </a:lnTo>
                  <a:lnTo>
                    <a:pt x="128" y="1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8" y="1"/>
                  </a:lnTo>
                  <a:lnTo>
                    <a:pt x="65" y="2"/>
                  </a:lnTo>
                  <a:lnTo>
                    <a:pt x="55" y="5"/>
                  </a:lnTo>
                  <a:lnTo>
                    <a:pt x="42" y="7"/>
                  </a:lnTo>
                  <a:lnTo>
                    <a:pt x="29" y="11"/>
                  </a:lnTo>
                  <a:lnTo>
                    <a:pt x="18" y="14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6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4" y="36"/>
                  </a:lnTo>
                  <a:lnTo>
                    <a:pt x="11" y="37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7137720" y="3781440"/>
              <a:ext cx="327960" cy="237600"/>
            </a:xfrm>
            <a:custGeom>
              <a:avLst/>
              <a:gdLst/>
              <a:ahLst/>
              <a:rect l="l" t="t" r="r" b="b"/>
              <a:pathLst>
                <a:path w="654" h="573">
                  <a:moveTo>
                    <a:pt x="345" y="29"/>
                  </a:moveTo>
                  <a:lnTo>
                    <a:pt x="359" y="23"/>
                  </a:lnTo>
                  <a:lnTo>
                    <a:pt x="375" y="19"/>
                  </a:lnTo>
                  <a:lnTo>
                    <a:pt x="390" y="14"/>
                  </a:lnTo>
                  <a:lnTo>
                    <a:pt x="406" y="10"/>
                  </a:lnTo>
                  <a:lnTo>
                    <a:pt x="422" y="6"/>
                  </a:lnTo>
                  <a:lnTo>
                    <a:pt x="438" y="3"/>
                  </a:lnTo>
                  <a:lnTo>
                    <a:pt x="454" y="2"/>
                  </a:lnTo>
                  <a:lnTo>
                    <a:pt x="470" y="1"/>
                  </a:lnTo>
                  <a:lnTo>
                    <a:pt x="486" y="0"/>
                  </a:lnTo>
                  <a:lnTo>
                    <a:pt x="501" y="0"/>
                  </a:lnTo>
                  <a:lnTo>
                    <a:pt x="517" y="1"/>
                  </a:lnTo>
                  <a:lnTo>
                    <a:pt x="530" y="3"/>
                  </a:lnTo>
                  <a:lnTo>
                    <a:pt x="544" y="5"/>
                  </a:lnTo>
                  <a:lnTo>
                    <a:pt x="558" y="9"/>
                  </a:lnTo>
                  <a:lnTo>
                    <a:pt x="570" y="14"/>
                  </a:lnTo>
                  <a:lnTo>
                    <a:pt x="581" y="19"/>
                  </a:lnTo>
                  <a:lnTo>
                    <a:pt x="608" y="38"/>
                  </a:lnTo>
                  <a:lnTo>
                    <a:pt x="628" y="62"/>
                  </a:lnTo>
                  <a:lnTo>
                    <a:pt x="641" y="93"/>
                  </a:lnTo>
                  <a:lnTo>
                    <a:pt x="651" y="127"/>
                  </a:lnTo>
                  <a:lnTo>
                    <a:pt x="654" y="165"/>
                  </a:lnTo>
                  <a:lnTo>
                    <a:pt x="654" y="205"/>
                  </a:lnTo>
                  <a:lnTo>
                    <a:pt x="652" y="246"/>
                  </a:lnTo>
                  <a:lnTo>
                    <a:pt x="645" y="287"/>
                  </a:lnTo>
                  <a:lnTo>
                    <a:pt x="640" y="300"/>
                  </a:lnTo>
                  <a:lnTo>
                    <a:pt x="632" y="307"/>
                  </a:lnTo>
                  <a:lnTo>
                    <a:pt x="620" y="313"/>
                  </a:lnTo>
                  <a:lnTo>
                    <a:pt x="608" y="317"/>
                  </a:lnTo>
                  <a:lnTo>
                    <a:pt x="593" y="320"/>
                  </a:lnTo>
                  <a:lnTo>
                    <a:pt x="579" y="321"/>
                  </a:lnTo>
                  <a:lnTo>
                    <a:pt x="566" y="322"/>
                  </a:lnTo>
                  <a:lnTo>
                    <a:pt x="556" y="324"/>
                  </a:lnTo>
                  <a:lnTo>
                    <a:pt x="538" y="330"/>
                  </a:lnTo>
                  <a:lnTo>
                    <a:pt x="519" y="338"/>
                  </a:lnTo>
                  <a:lnTo>
                    <a:pt x="501" y="348"/>
                  </a:lnTo>
                  <a:lnTo>
                    <a:pt x="483" y="360"/>
                  </a:lnTo>
                  <a:lnTo>
                    <a:pt x="465" y="371"/>
                  </a:lnTo>
                  <a:lnTo>
                    <a:pt x="446" y="384"/>
                  </a:lnTo>
                  <a:lnTo>
                    <a:pt x="428" y="398"/>
                  </a:lnTo>
                  <a:lnTo>
                    <a:pt x="409" y="412"/>
                  </a:lnTo>
                  <a:lnTo>
                    <a:pt x="390" y="425"/>
                  </a:lnTo>
                  <a:lnTo>
                    <a:pt x="373" y="439"/>
                  </a:lnTo>
                  <a:lnTo>
                    <a:pt x="354" y="454"/>
                  </a:lnTo>
                  <a:lnTo>
                    <a:pt x="335" y="467"/>
                  </a:lnTo>
                  <a:lnTo>
                    <a:pt x="316" y="478"/>
                  </a:lnTo>
                  <a:lnTo>
                    <a:pt x="298" y="491"/>
                  </a:lnTo>
                  <a:lnTo>
                    <a:pt x="279" y="501"/>
                  </a:lnTo>
                  <a:lnTo>
                    <a:pt x="261" y="509"/>
                  </a:lnTo>
                  <a:lnTo>
                    <a:pt x="246" y="515"/>
                  </a:lnTo>
                  <a:lnTo>
                    <a:pt x="233" y="521"/>
                  </a:lnTo>
                  <a:lnTo>
                    <a:pt x="218" y="527"/>
                  </a:lnTo>
                  <a:lnTo>
                    <a:pt x="204" y="533"/>
                  </a:lnTo>
                  <a:lnTo>
                    <a:pt x="191" y="537"/>
                  </a:lnTo>
                  <a:lnTo>
                    <a:pt x="177" y="544"/>
                  </a:lnTo>
                  <a:lnTo>
                    <a:pt x="164" y="548"/>
                  </a:lnTo>
                  <a:lnTo>
                    <a:pt x="150" y="553"/>
                  </a:lnTo>
                  <a:lnTo>
                    <a:pt x="136" y="557"/>
                  </a:lnTo>
                  <a:lnTo>
                    <a:pt x="122" y="562"/>
                  </a:lnTo>
                  <a:lnTo>
                    <a:pt x="108" y="565"/>
                  </a:lnTo>
                  <a:lnTo>
                    <a:pt x="92" y="567"/>
                  </a:lnTo>
                  <a:lnTo>
                    <a:pt x="75" y="569"/>
                  </a:lnTo>
                  <a:lnTo>
                    <a:pt x="59" y="572"/>
                  </a:lnTo>
                  <a:lnTo>
                    <a:pt x="43" y="573"/>
                  </a:lnTo>
                  <a:lnTo>
                    <a:pt x="24" y="573"/>
                  </a:lnTo>
                  <a:lnTo>
                    <a:pt x="9" y="568"/>
                  </a:lnTo>
                  <a:lnTo>
                    <a:pt x="0" y="555"/>
                  </a:lnTo>
                  <a:lnTo>
                    <a:pt x="0" y="535"/>
                  </a:lnTo>
                  <a:lnTo>
                    <a:pt x="7" y="509"/>
                  </a:lnTo>
                  <a:lnTo>
                    <a:pt x="17" y="478"/>
                  </a:lnTo>
                  <a:lnTo>
                    <a:pt x="32" y="444"/>
                  </a:lnTo>
                  <a:lnTo>
                    <a:pt x="50" y="408"/>
                  </a:lnTo>
                  <a:lnTo>
                    <a:pt x="70" y="371"/>
                  </a:lnTo>
                  <a:lnTo>
                    <a:pt x="91" y="335"/>
                  </a:lnTo>
                  <a:lnTo>
                    <a:pt x="112" y="301"/>
                  </a:lnTo>
                  <a:lnTo>
                    <a:pt x="131" y="267"/>
                  </a:lnTo>
                  <a:lnTo>
                    <a:pt x="149" y="238"/>
                  </a:lnTo>
                  <a:lnTo>
                    <a:pt x="163" y="216"/>
                  </a:lnTo>
                  <a:lnTo>
                    <a:pt x="174" y="200"/>
                  </a:lnTo>
                  <a:lnTo>
                    <a:pt x="179" y="192"/>
                  </a:lnTo>
                  <a:lnTo>
                    <a:pt x="176" y="192"/>
                  </a:lnTo>
                  <a:lnTo>
                    <a:pt x="195" y="171"/>
                  </a:lnTo>
                  <a:lnTo>
                    <a:pt x="215" y="144"/>
                  </a:lnTo>
                  <a:lnTo>
                    <a:pt x="237" y="116"/>
                  </a:lnTo>
                  <a:lnTo>
                    <a:pt x="258" y="90"/>
                  </a:lnTo>
                  <a:lnTo>
                    <a:pt x="281" y="63"/>
                  </a:lnTo>
                  <a:lnTo>
                    <a:pt x="303" y="43"/>
                  </a:lnTo>
                  <a:lnTo>
                    <a:pt x="325" y="31"/>
                  </a:lnTo>
                  <a:lnTo>
                    <a:pt x="345" y="29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7173000" y="3777480"/>
              <a:ext cx="122400" cy="20520"/>
            </a:xfrm>
            <a:custGeom>
              <a:avLst/>
              <a:gdLst/>
              <a:ahLst/>
              <a:rect l="l" t="t" r="r" b="b"/>
              <a:pathLst>
                <a:path w="244" h="48">
                  <a:moveTo>
                    <a:pt x="244" y="20"/>
                  </a:moveTo>
                  <a:lnTo>
                    <a:pt x="244" y="20"/>
                  </a:lnTo>
                  <a:lnTo>
                    <a:pt x="233" y="15"/>
                  </a:lnTo>
                  <a:lnTo>
                    <a:pt x="220" y="10"/>
                  </a:lnTo>
                  <a:lnTo>
                    <a:pt x="206" y="6"/>
                  </a:lnTo>
                  <a:lnTo>
                    <a:pt x="192" y="3"/>
                  </a:lnTo>
                  <a:lnTo>
                    <a:pt x="177" y="1"/>
                  </a:lnTo>
                  <a:lnTo>
                    <a:pt x="161" y="0"/>
                  </a:lnTo>
                  <a:lnTo>
                    <a:pt x="146" y="0"/>
                  </a:lnTo>
                  <a:lnTo>
                    <a:pt x="130" y="1"/>
                  </a:lnTo>
                  <a:lnTo>
                    <a:pt x="114" y="2"/>
                  </a:lnTo>
                  <a:lnTo>
                    <a:pt x="96" y="3"/>
                  </a:lnTo>
                  <a:lnTo>
                    <a:pt x="81" y="8"/>
                  </a:lnTo>
                  <a:lnTo>
                    <a:pt x="65" y="11"/>
                  </a:lnTo>
                  <a:lnTo>
                    <a:pt x="48" y="14"/>
                  </a:lnTo>
                  <a:lnTo>
                    <a:pt x="33" y="19"/>
                  </a:lnTo>
                  <a:lnTo>
                    <a:pt x="17" y="24"/>
                  </a:lnTo>
                  <a:lnTo>
                    <a:pt x="0" y="31"/>
                  </a:lnTo>
                  <a:lnTo>
                    <a:pt x="8" y="48"/>
                  </a:lnTo>
                  <a:lnTo>
                    <a:pt x="23" y="43"/>
                  </a:lnTo>
                  <a:lnTo>
                    <a:pt x="37" y="38"/>
                  </a:lnTo>
                  <a:lnTo>
                    <a:pt x="53" y="33"/>
                  </a:lnTo>
                  <a:lnTo>
                    <a:pt x="67" y="30"/>
                  </a:lnTo>
                  <a:lnTo>
                    <a:pt x="84" y="26"/>
                  </a:lnTo>
                  <a:lnTo>
                    <a:pt x="99" y="22"/>
                  </a:lnTo>
                  <a:lnTo>
                    <a:pt x="114" y="21"/>
                  </a:lnTo>
                  <a:lnTo>
                    <a:pt x="130" y="20"/>
                  </a:lnTo>
                  <a:lnTo>
                    <a:pt x="146" y="19"/>
                  </a:lnTo>
                  <a:lnTo>
                    <a:pt x="161" y="19"/>
                  </a:lnTo>
                  <a:lnTo>
                    <a:pt x="177" y="20"/>
                  </a:lnTo>
                  <a:lnTo>
                    <a:pt x="189" y="22"/>
                  </a:lnTo>
                  <a:lnTo>
                    <a:pt x="203" y="25"/>
                  </a:lnTo>
                  <a:lnTo>
                    <a:pt x="216" y="29"/>
                  </a:lnTo>
                  <a:lnTo>
                    <a:pt x="226" y="32"/>
                  </a:lnTo>
                  <a:lnTo>
                    <a:pt x="238" y="36"/>
                  </a:lnTo>
                  <a:lnTo>
                    <a:pt x="238" y="36"/>
                  </a:lnTo>
                  <a:lnTo>
                    <a:pt x="24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7132680" y="3785760"/>
              <a:ext cx="42480" cy="115560"/>
            </a:xfrm>
            <a:custGeom>
              <a:avLst/>
              <a:gdLst/>
              <a:ahLst/>
              <a:rect l="l" t="t" r="r" b="b"/>
              <a:pathLst>
                <a:path w="86" h="278">
                  <a:moveTo>
                    <a:pt x="76" y="278"/>
                  </a:moveTo>
                  <a:lnTo>
                    <a:pt x="76" y="278"/>
                  </a:lnTo>
                  <a:lnTo>
                    <a:pt x="83" y="236"/>
                  </a:lnTo>
                  <a:lnTo>
                    <a:pt x="86" y="195"/>
                  </a:lnTo>
                  <a:lnTo>
                    <a:pt x="86" y="155"/>
                  </a:lnTo>
                  <a:lnTo>
                    <a:pt x="82" y="115"/>
                  </a:lnTo>
                  <a:lnTo>
                    <a:pt x="73" y="81"/>
                  </a:lnTo>
                  <a:lnTo>
                    <a:pt x="57" y="48"/>
                  </a:lnTo>
                  <a:lnTo>
                    <a:pt x="35" y="2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23" y="34"/>
                  </a:lnTo>
                  <a:lnTo>
                    <a:pt x="41" y="56"/>
                  </a:lnTo>
                  <a:lnTo>
                    <a:pt x="54" y="85"/>
                  </a:lnTo>
                  <a:lnTo>
                    <a:pt x="63" y="119"/>
                  </a:lnTo>
                  <a:lnTo>
                    <a:pt x="67" y="155"/>
                  </a:lnTo>
                  <a:lnTo>
                    <a:pt x="67" y="195"/>
                  </a:lnTo>
                  <a:lnTo>
                    <a:pt x="64" y="236"/>
                  </a:lnTo>
                  <a:lnTo>
                    <a:pt x="57" y="276"/>
                  </a:lnTo>
                  <a:lnTo>
                    <a:pt x="57" y="276"/>
                  </a:lnTo>
                  <a:lnTo>
                    <a:pt x="76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138080" y="3899160"/>
              <a:ext cx="49680" cy="20520"/>
            </a:xfrm>
            <a:custGeom>
              <a:avLst/>
              <a:gdLst/>
              <a:ahLst/>
              <a:rect l="l" t="t" r="r" b="b"/>
              <a:pathLst>
                <a:path w="101" h="47">
                  <a:moveTo>
                    <a:pt x="5" y="47"/>
                  </a:moveTo>
                  <a:lnTo>
                    <a:pt x="5" y="47"/>
                  </a:lnTo>
                  <a:lnTo>
                    <a:pt x="14" y="45"/>
                  </a:lnTo>
                  <a:lnTo>
                    <a:pt x="26" y="44"/>
                  </a:lnTo>
                  <a:lnTo>
                    <a:pt x="41" y="42"/>
                  </a:lnTo>
                  <a:lnTo>
                    <a:pt x="56" y="40"/>
                  </a:lnTo>
                  <a:lnTo>
                    <a:pt x="69" y="37"/>
                  </a:lnTo>
                  <a:lnTo>
                    <a:pt x="83" y="28"/>
                  </a:lnTo>
                  <a:lnTo>
                    <a:pt x="96" y="18"/>
                  </a:lnTo>
                  <a:lnTo>
                    <a:pt x="101" y="2"/>
                  </a:lnTo>
                  <a:lnTo>
                    <a:pt x="82" y="0"/>
                  </a:lnTo>
                  <a:lnTo>
                    <a:pt x="79" y="8"/>
                  </a:lnTo>
                  <a:lnTo>
                    <a:pt x="75" y="15"/>
                  </a:lnTo>
                  <a:lnTo>
                    <a:pt x="65" y="18"/>
                  </a:lnTo>
                  <a:lnTo>
                    <a:pt x="52" y="21"/>
                  </a:lnTo>
                  <a:lnTo>
                    <a:pt x="39" y="24"/>
                  </a:lnTo>
                  <a:lnTo>
                    <a:pt x="26" y="25"/>
                  </a:lnTo>
                  <a:lnTo>
                    <a:pt x="11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185600" y="3912120"/>
              <a:ext cx="149760" cy="84600"/>
            </a:xfrm>
            <a:custGeom>
              <a:avLst/>
              <a:gdLst/>
              <a:ahLst/>
              <a:rect l="l" t="t" r="r" b="b"/>
              <a:pathLst>
                <a:path w="301" h="203">
                  <a:moveTo>
                    <a:pt x="7" y="203"/>
                  </a:moveTo>
                  <a:lnTo>
                    <a:pt x="7" y="203"/>
                  </a:lnTo>
                  <a:lnTo>
                    <a:pt x="26" y="195"/>
                  </a:lnTo>
                  <a:lnTo>
                    <a:pt x="46" y="184"/>
                  </a:lnTo>
                  <a:lnTo>
                    <a:pt x="63" y="173"/>
                  </a:lnTo>
                  <a:lnTo>
                    <a:pt x="82" y="161"/>
                  </a:lnTo>
                  <a:lnTo>
                    <a:pt x="102" y="147"/>
                  </a:lnTo>
                  <a:lnTo>
                    <a:pt x="121" y="132"/>
                  </a:lnTo>
                  <a:lnTo>
                    <a:pt x="139" y="119"/>
                  </a:lnTo>
                  <a:lnTo>
                    <a:pt x="158" y="104"/>
                  </a:lnTo>
                  <a:lnTo>
                    <a:pt x="177" y="91"/>
                  </a:lnTo>
                  <a:lnTo>
                    <a:pt x="194" y="78"/>
                  </a:lnTo>
                  <a:lnTo>
                    <a:pt x="212" y="65"/>
                  </a:lnTo>
                  <a:lnTo>
                    <a:pt x="231" y="53"/>
                  </a:lnTo>
                  <a:lnTo>
                    <a:pt x="249" y="43"/>
                  </a:lnTo>
                  <a:lnTo>
                    <a:pt x="265" y="32"/>
                  </a:lnTo>
                  <a:lnTo>
                    <a:pt x="284" y="24"/>
                  </a:lnTo>
                  <a:lnTo>
                    <a:pt x="301" y="19"/>
                  </a:lnTo>
                  <a:lnTo>
                    <a:pt x="296" y="0"/>
                  </a:lnTo>
                  <a:lnTo>
                    <a:pt x="277" y="8"/>
                  </a:lnTo>
                  <a:lnTo>
                    <a:pt x="259" y="16"/>
                  </a:lnTo>
                  <a:lnTo>
                    <a:pt x="240" y="27"/>
                  </a:lnTo>
                  <a:lnTo>
                    <a:pt x="222" y="37"/>
                  </a:lnTo>
                  <a:lnTo>
                    <a:pt x="203" y="49"/>
                  </a:lnTo>
                  <a:lnTo>
                    <a:pt x="183" y="63"/>
                  </a:lnTo>
                  <a:lnTo>
                    <a:pt x="165" y="78"/>
                  </a:lnTo>
                  <a:lnTo>
                    <a:pt x="147" y="90"/>
                  </a:lnTo>
                  <a:lnTo>
                    <a:pt x="128" y="104"/>
                  </a:lnTo>
                  <a:lnTo>
                    <a:pt x="110" y="119"/>
                  </a:lnTo>
                  <a:lnTo>
                    <a:pt x="91" y="132"/>
                  </a:lnTo>
                  <a:lnTo>
                    <a:pt x="73" y="144"/>
                  </a:lnTo>
                  <a:lnTo>
                    <a:pt x="55" y="157"/>
                  </a:lnTo>
                  <a:lnTo>
                    <a:pt x="37" y="168"/>
                  </a:lnTo>
                  <a:lnTo>
                    <a:pt x="19" y="179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7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333200" y="3988440"/>
              <a:ext cx="120240" cy="34920"/>
            </a:xfrm>
            <a:custGeom>
              <a:avLst/>
              <a:gdLst/>
              <a:ahLst/>
              <a:rect l="l" t="t" r="r" b="b"/>
              <a:pathLst>
                <a:path w="240" h="82">
                  <a:moveTo>
                    <a:pt x="0" y="82"/>
                  </a:moveTo>
                  <a:lnTo>
                    <a:pt x="0" y="82"/>
                  </a:lnTo>
                  <a:lnTo>
                    <a:pt x="19" y="82"/>
                  </a:lnTo>
                  <a:lnTo>
                    <a:pt x="35" y="81"/>
                  </a:lnTo>
                  <a:lnTo>
                    <a:pt x="53" y="77"/>
                  </a:lnTo>
                  <a:lnTo>
                    <a:pt x="69" y="75"/>
                  </a:lnTo>
                  <a:lnTo>
                    <a:pt x="85" y="73"/>
                  </a:lnTo>
                  <a:lnTo>
                    <a:pt x="99" y="69"/>
                  </a:lnTo>
                  <a:lnTo>
                    <a:pt x="115" y="66"/>
                  </a:lnTo>
                  <a:lnTo>
                    <a:pt x="128" y="62"/>
                  </a:lnTo>
                  <a:lnTo>
                    <a:pt x="142" y="56"/>
                  </a:lnTo>
                  <a:lnTo>
                    <a:pt x="156" y="52"/>
                  </a:lnTo>
                  <a:lnTo>
                    <a:pt x="170" y="46"/>
                  </a:lnTo>
                  <a:lnTo>
                    <a:pt x="182" y="42"/>
                  </a:lnTo>
                  <a:lnTo>
                    <a:pt x="198" y="34"/>
                  </a:lnTo>
                  <a:lnTo>
                    <a:pt x="212" y="28"/>
                  </a:lnTo>
                  <a:lnTo>
                    <a:pt x="227" y="23"/>
                  </a:lnTo>
                  <a:lnTo>
                    <a:pt x="240" y="16"/>
                  </a:lnTo>
                  <a:lnTo>
                    <a:pt x="233" y="0"/>
                  </a:lnTo>
                  <a:lnTo>
                    <a:pt x="219" y="6"/>
                  </a:lnTo>
                  <a:lnTo>
                    <a:pt x="204" y="12"/>
                  </a:lnTo>
                  <a:lnTo>
                    <a:pt x="191" y="17"/>
                  </a:lnTo>
                  <a:lnTo>
                    <a:pt x="178" y="23"/>
                  </a:lnTo>
                  <a:lnTo>
                    <a:pt x="165" y="27"/>
                  </a:lnTo>
                  <a:lnTo>
                    <a:pt x="151" y="33"/>
                  </a:lnTo>
                  <a:lnTo>
                    <a:pt x="138" y="37"/>
                  </a:lnTo>
                  <a:lnTo>
                    <a:pt x="124" y="43"/>
                  </a:lnTo>
                  <a:lnTo>
                    <a:pt x="109" y="47"/>
                  </a:lnTo>
                  <a:lnTo>
                    <a:pt x="97" y="51"/>
                  </a:lnTo>
                  <a:lnTo>
                    <a:pt x="82" y="54"/>
                  </a:lnTo>
                  <a:lnTo>
                    <a:pt x="67" y="56"/>
                  </a:lnTo>
                  <a:lnTo>
                    <a:pt x="50" y="58"/>
                  </a:lnTo>
                  <a:lnTo>
                    <a:pt x="35" y="62"/>
                  </a:lnTo>
                  <a:lnTo>
                    <a:pt x="19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7370280" y="3858120"/>
              <a:ext cx="100440" cy="165600"/>
            </a:xfrm>
            <a:custGeom>
              <a:avLst/>
              <a:gdLst/>
              <a:ahLst/>
              <a:rect l="l" t="t" r="r" b="b"/>
              <a:pathLst>
                <a:path w="196" h="398">
                  <a:moveTo>
                    <a:pt x="179" y="0"/>
                  </a:moveTo>
                  <a:lnTo>
                    <a:pt x="192" y="14"/>
                  </a:lnTo>
                  <a:lnTo>
                    <a:pt x="178" y="5"/>
                  </a:lnTo>
                  <a:lnTo>
                    <a:pt x="174" y="10"/>
                  </a:lnTo>
                  <a:lnTo>
                    <a:pt x="164" y="27"/>
                  </a:lnTo>
                  <a:lnTo>
                    <a:pt x="150" y="49"/>
                  </a:lnTo>
                  <a:lnTo>
                    <a:pt x="132" y="78"/>
                  </a:lnTo>
                  <a:lnTo>
                    <a:pt x="113" y="110"/>
                  </a:lnTo>
                  <a:lnTo>
                    <a:pt x="92" y="145"/>
                  </a:lnTo>
                  <a:lnTo>
                    <a:pt x="71" y="181"/>
                  </a:lnTo>
                  <a:lnTo>
                    <a:pt x="51" y="220"/>
                  </a:lnTo>
                  <a:lnTo>
                    <a:pt x="33" y="256"/>
                  </a:lnTo>
                  <a:lnTo>
                    <a:pt x="18" y="290"/>
                  </a:lnTo>
                  <a:lnTo>
                    <a:pt x="6" y="322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0"/>
                  </a:lnTo>
                  <a:lnTo>
                    <a:pt x="33" y="398"/>
                  </a:lnTo>
                  <a:lnTo>
                    <a:pt x="33" y="379"/>
                  </a:lnTo>
                  <a:lnTo>
                    <a:pt x="23" y="377"/>
                  </a:lnTo>
                  <a:lnTo>
                    <a:pt x="19" y="368"/>
                  </a:lnTo>
                  <a:lnTo>
                    <a:pt x="19" y="351"/>
                  </a:lnTo>
                  <a:lnTo>
                    <a:pt x="25" y="327"/>
                  </a:lnTo>
                  <a:lnTo>
                    <a:pt x="35" y="297"/>
                  </a:lnTo>
                  <a:lnTo>
                    <a:pt x="49" y="263"/>
                  </a:lnTo>
                  <a:lnTo>
                    <a:pt x="67" y="228"/>
                  </a:lnTo>
                  <a:lnTo>
                    <a:pt x="87" y="191"/>
                  </a:lnTo>
                  <a:lnTo>
                    <a:pt x="109" y="155"/>
                  </a:lnTo>
                  <a:lnTo>
                    <a:pt x="130" y="120"/>
                  </a:lnTo>
                  <a:lnTo>
                    <a:pt x="149" y="87"/>
                  </a:lnTo>
                  <a:lnTo>
                    <a:pt x="167" y="59"/>
                  </a:lnTo>
                  <a:lnTo>
                    <a:pt x="180" y="37"/>
                  </a:lnTo>
                  <a:lnTo>
                    <a:pt x="191" y="20"/>
                  </a:lnTo>
                  <a:lnTo>
                    <a:pt x="196" y="9"/>
                  </a:lnTo>
                  <a:lnTo>
                    <a:pt x="178" y="0"/>
                  </a:lnTo>
                  <a:lnTo>
                    <a:pt x="191" y="14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7287840" y="3790080"/>
              <a:ext cx="92520" cy="73800"/>
            </a:xfrm>
            <a:custGeom>
              <a:avLst/>
              <a:gdLst/>
              <a:ahLst/>
              <a:rect l="l" t="t" r="r" b="b"/>
              <a:pathLst>
                <a:path w="184" h="179">
                  <a:moveTo>
                    <a:pt x="170" y="1"/>
                  </a:moveTo>
                  <a:lnTo>
                    <a:pt x="176" y="0"/>
                  </a:lnTo>
                  <a:lnTo>
                    <a:pt x="152" y="2"/>
                  </a:lnTo>
                  <a:lnTo>
                    <a:pt x="127" y="16"/>
                  </a:lnTo>
                  <a:lnTo>
                    <a:pt x="104" y="38"/>
                  </a:lnTo>
                  <a:lnTo>
                    <a:pt x="82" y="63"/>
                  </a:lnTo>
                  <a:lnTo>
                    <a:pt x="61" y="91"/>
                  </a:lnTo>
                  <a:lnTo>
                    <a:pt x="37" y="119"/>
                  </a:lnTo>
                  <a:lnTo>
                    <a:pt x="17" y="145"/>
                  </a:lnTo>
                  <a:lnTo>
                    <a:pt x="0" y="165"/>
                  </a:lnTo>
                  <a:lnTo>
                    <a:pt x="12" y="179"/>
                  </a:lnTo>
                  <a:lnTo>
                    <a:pt x="32" y="156"/>
                  </a:lnTo>
                  <a:lnTo>
                    <a:pt x="52" y="131"/>
                  </a:lnTo>
                  <a:lnTo>
                    <a:pt x="74" y="102"/>
                  </a:lnTo>
                  <a:lnTo>
                    <a:pt x="95" y="75"/>
                  </a:lnTo>
                  <a:lnTo>
                    <a:pt x="118" y="49"/>
                  </a:lnTo>
                  <a:lnTo>
                    <a:pt x="139" y="30"/>
                  </a:lnTo>
                  <a:lnTo>
                    <a:pt x="157" y="21"/>
                  </a:lnTo>
                  <a:lnTo>
                    <a:pt x="174" y="19"/>
                  </a:lnTo>
                  <a:lnTo>
                    <a:pt x="178" y="18"/>
                  </a:lnTo>
                  <a:lnTo>
                    <a:pt x="174" y="19"/>
                  </a:lnTo>
                  <a:lnTo>
                    <a:pt x="180" y="16"/>
                  </a:lnTo>
                  <a:lnTo>
                    <a:pt x="184" y="10"/>
                  </a:lnTo>
                  <a:lnTo>
                    <a:pt x="182" y="3"/>
                  </a:lnTo>
                  <a:lnTo>
                    <a:pt x="176" y="0"/>
                  </a:lnTo>
                  <a:lnTo>
                    <a:pt x="17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6800040" y="3159000"/>
              <a:ext cx="82080" cy="45360"/>
            </a:xfrm>
            <a:custGeom>
              <a:avLst/>
              <a:gdLst/>
              <a:ahLst/>
              <a:rect l="l" t="t" r="r" b="b"/>
              <a:pathLst>
                <a:path w="162" h="110">
                  <a:moveTo>
                    <a:pt x="143" y="92"/>
                  </a:moveTo>
                  <a:lnTo>
                    <a:pt x="159" y="92"/>
                  </a:lnTo>
                  <a:lnTo>
                    <a:pt x="142" y="77"/>
                  </a:lnTo>
                  <a:lnTo>
                    <a:pt x="125" y="63"/>
                  </a:lnTo>
                  <a:lnTo>
                    <a:pt x="105" y="52"/>
                  </a:lnTo>
                  <a:lnTo>
                    <a:pt x="86" y="41"/>
                  </a:lnTo>
                  <a:lnTo>
                    <a:pt x="67" y="31"/>
                  </a:lnTo>
                  <a:lnTo>
                    <a:pt x="47" y="20"/>
                  </a:lnTo>
                  <a:lnTo>
                    <a:pt x="28" y="11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8" y="30"/>
                  </a:lnTo>
                  <a:lnTo>
                    <a:pt x="37" y="39"/>
                  </a:lnTo>
                  <a:lnTo>
                    <a:pt x="57" y="50"/>
                  </a:lnTo>
                  <a:lnTo>
                    <a:pt x="76" y="60"/>
                  </a:lnTo>
                  <a:lnTo>
                    <a:pt x="95" y="71"/>
                  </a:lnTo>
                  <a:lnTo>
                    <a:pt x="112" y="82"/>
                  </a:lnTo>
                  <a:lnTo>
                    <a:pt x="130" y="93"/>
                  </a:lnTo>
                  <a:lnTo>
                    <a:pt x="144" y="107"/>
                  </a:lnTo>
                  <a:lnTo>
                    <a:pt x="160" y="107"/>
                  </a:lnTo>
                  <a:lnTo>
                    <a:pt x="144" y="107"/>
                  </a:lnTo>
                  <a:lnTo>
                    <a:pt x="151" y="110"/>
                  </a:lnTo>
                  <a:lnTo>
                    <a:pt x="159" y="107"/>
                  </a:lnTo>
                  <a:lnTo>
                    <a:pt x="162" y="99"/>
                  </a:lnTo>
                  <a:lnTo>
                    <a:pt x="159" y="92"/>
                  </a:lnTo>
                  <a:lnTo>
                    <a:pt x="14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6744600" y="3082680"/>
              <a:ext cx="64440" cy="51480"/>
            </a:xfrm>
            <a:custGeom>
              <a:avLst/>
              <a:gdLst/>
              <a:ahLst/>
              <a:rect l="l" t="t" r="r" b="b"/>
              <a:pathLst>
                <a:path w="129" h="124">
                  <a:moveTo>
                    <a:pt x="17" y="12"/>
                  </a:moveTo>
                  <a:lnTo>
                    <a:pt x="17" y="12"/>
                  </a:lnTo>
                  <a:lnTo>
                    <a:pt x="5" y="16"/>
                  </a:lnTo>
                  <a:lnTo>
                    <a:pt x="14" y="24"/>
                  </a:lnTo>
                  <a:lnTo>
                    <a:pt x="28" y="39"/>
                  </a:lnTo>
                  <a:lnTo>
                    <a:pt x="45" y="56"/>
                  </a:lnTo>
                  <a:lnTo>
                    <a:pt x="62" y="75"/>
                  </a:lnTo>
                  <a:lnTo>
                    <a:pt x="81" y="93"/>
                  </a:lnTo>
                  <a:lnTo>
                    <a:pt x="99" y="111"/>
                  </a:lnTo>
                  <a:lnTo>
                    <a:pt x="117" y="124"/>
                  </a:lnTo>
                  <a:lnTo>
                    <a:pt x="129" y="107"/>
                  </a:lnTo>
                  <a:lnTo>
                    <a:pt x="113" y="94"/>
                  </a:lnTo>
                  <a:lnTo>
                    <a:pt x="96" y="79"/>
                  </a:lnTo>
                  <a:lnTo>
                    <a:pt x="77" y="61"/>
                  </a:lnTo>
                  <a:lnTo>
                    <a:pt x="59" y="42"/>
                  </a:lnTo>
                  <a:lnTo>
                    <a:pt x="42" y="24"/>
                  </a:lnTo>
                  <a:lnTo>
                    <a:pt x="28" y="1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6802200" y="3082680"/>
              <a:ext cx="82800" cy="84240"/>
            </a:xfrm>
            <a:custGeom>
              <a:avLst/>
              <a:gdLst/>
              <a:ahLst/>
              <a:rect l="l" t="t" r="r" b="b"/>
              <a:pathLst>
                <a:path w="164" h="204">
                  <a:moveTo>
                    <a:pt x="14" y="185"/>
                  </a:moveTo>
                  <a:lnTo>
                    <a:pt x="18" y="201"/>
                  </a:lnTo>
                  <a:lnTo>
                    <a:pt x="164" y="12"/>
                  </a:lnTo>
                  <a:lnTo>
                    <a:pt x="147" y="0"/>
                  </a:lnTo>
                  <a:lnTo>
                    <a:pt x="1" y="188"/>
                  </a:lnTo>
                  <a:lnTo>
                    <a:pt x="4" y="204"/>
                  </a:lnTo>
                  <a:lnTo>
                    <a:pt x="1" y="188"/>
                  </a:lnTo>
                  <a:lnTo>
                    <a:pt x="0" y="197"/>
                  </a:lnTo>
                  <a:lnTo>
                    <a:pt x="4" y="203"/>
                  </a:lnTo>
                  <a:lnTo>
                    <a:pt x="10" y="204"/>
                  </a:lnTo>
                  <a:lnTo>
                    <a:pt x="18" y="201"/>
                  </a:lnTo>
                  <a:lnTo>
                    <a:pt x="1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490880" y="3129840"/>
              <a:ext cx="177480" cy="250200"/>
            </a:xfrm>
            <a:custGeom>
              <a:avLst/>
              <a:gdLst/>
              <a:ahLst/>
              <a:rect l="l" t="t" r="r" b="b"/>
              <a:pathLst>
                <a:path w="358" h="603">
                  <a:moveTo>
                    <a:pt x="76" y="0"/>
                  </a:moveTo>
                  <a:lnTo>
                    <a:pt x="68" y="16"/>
                  </a:lnTo>
                  <a:lnTo>
                    <a:pt x="60" y="31"/>
                  </a:lnTo>
                  <a:lnTo>
                    <a:pt x="51" y="46"/>
                  </a:lnTo>
                  <a:lnTo>
                    <a:pt x="45" y="61"/>
                  </a:lnTo>
                  <a:lnTo>
                    <a:pt x="37" y="76"/>
                  </a:lnTo>
                  <a:lnTo>
                    <a:pt x="28" y="91"/>
                  </a:lnTo>
                  <a:lnTo>
                    <a:pt x="21" y="107"/>
                  </a:lnTo>
                  <a:lnTo>
                    <a:pt x="13" y="123"/>
                  </a:lnTo>
                  <a:lnTo>
                    <a:pt x="5" y="156"/>
                  </a:lnTo>
                  <a:lnTo>
                    <a:pt x="0" y="200"/>
                  </a:lnTo>
                  <a:lnTo>
                    <a:pt x="1" y="249"/>
                  </a:lnTo>
                  <a:lnTo>
                    <a:pt x="11" y="292"/>
                  </a:lnTo>
                  <a:lnTo>
                    <a:pt x="26" y="320"/>
                  </a:lnTo>
                  <a:lnTo>
                    <a:pt x="39" y="346"/>
                  </a:lnTo>
                  <a:lnTo>
                    <a:pt x="50" y="368"/>
                  </a:lnTo>
                  <a:lnTo>
                    <a:pt x="62" y="389"/>
                  </a:lnTo>
                  <a:lnTo>
                    <a:pt x="74" y="411"/>
                  </a:lnTo>
                  <a:lnTo>
                    <a:pt x="86" y="435"/>
                  </a:lnTo>
                  <a:lnTo>
                    <a:pt x="98" y="461"/>
                  </a:lnTo>
                  <a:lnTo>
                    <a:pt x="111" y="490"/>
                  </a:lnTo>
                  <a:lnTo>
                    <a:pt x="117" y="504"/>
                  </a:lnTo>
                  <a:lnTo>
                    <a:pt x="123" y="520"/>
                  </a:lnTo>
                  <a:lnTo>
                    <a:pt x="132" y="537"/>
                  </a:lnTo>
                  <a:lnTo>
                    <a:pt x="141" y="552"/>
                  </a:lnTo>
                  <a:lnTo>
                    <a:pt x="151" y="568"/>
                  </a:lnTo>
                  <a:lnTo>
                    <a:pt x="162" y="582"/>
                  </a:lnTo>
                  <a:lnTo>
                    <a:pt x="174" y="594"/>
                  </a:lnTo>
                  <a:lnTo>
                    <a:pt x="188" y="603"/>
                  </a:lnTo>
                  <a:lnTo>
                    <a:pt x="202" y="601"/>
                  </a:lnTo>
                  <a:lnTo>
                    <a:pt x="217" y="595"/>
                  </a:lnTo>
                  <a:lnTo>
                    <a:pt x="232" y="587"/>
                  </a:lnTo>
                  <a:lnTo>
                    <a:pt x="246" y="577"/>
                  </a:lnTo>
                  <a:lnTo>
                    <a:pt x="258" y="564"/>
                  </a:lnTo>
                  <a:lnTo>
                    <a:pt x="270" y="553"/>
                  </a:lnTo>
                  <a:lnTo>
                    <a:pt x="280" y="541"/>
                  </a:lnTo>
                  <a:lnTo>
                    <a:pt x="284" y="532"/>
                  </a:lnTo>
                  <a:lnTo>
                    <a:pt x="276" y="466"/>
                  </a:lnTo>
                  <a:lnTo>
                    <a:pt x="273" y="410"/>
                  </a:lnTo>
                  <a:lnTo>
                    <a:pt x="276" y="357"/>
                  </a:lnTo>
                  <a:lnTo>
                    <a:pt x="290" y="297"/>
                  </a:lnTo>
                  <a:lnTo>
                    <a:pt x="300" y="272"/>
                  </a:lnTo>
                  <a:lnTo>
                    <a:pt x="312" y="244"/>
                  </a:lnTo>
                  <a:lnTo>
                    <a:pt x="326" y="215"/>
                  </a:lnTo>
                  <a:lnTo>
                    <a:pt x="339" y="182"/>
                  </a:lnTo>
                  <a:lnTo>
                    <a:pt x="349" y="151"/>
                  </a:lnTo>
                  <a:lnTo>
                    <a:pt x="357" y="120"/>
                  </a:lnTo>
                  <a:lnTo>
                    <a:pt x="358" y="90"/>
                  </a:lnTo>
                  <a:lnTo>
                    <a:pt x="351" y="63"/>
                  </a:lnTo>
                  <a:lnTo>
                    <a:pt x="344" y="54"/>
                  </a:lnTo>
                  <a:lnTo>
                    <a:pt x="328" y="46"/>
                  </a:lnTo>
                  <a:lnTo>
                    <a:pt x="306" y="37"/>
                  </a:lnTo>
                  <a:lnTo>
                    <a:pt x="282" y="30"/>
                  </a:lnTo>
                  <a:lnTo>
                    <a:pt x="255" y="24"/>
                  </a:lnTo>
                  <a:lnTo>
                    <a:pt x="231" y="17"/>
                  </a:lnTo>
                  <a:lnTo>
                    <a:pt x="211" y="13"/>
                  </a:lnTo>
                  <a:lnTo>
                    <a:pt x="196" y="10"/>
                  </a:lnTo>
                  <a:lnTo>
                    <a:pt x="181" y="9"/>
                  </a:lnTo>
                  <a:lnTo>
                    <a:pt x="166" y="8"/>
                  </a:lnTo>
                  <a:lnTo>
                    <a:pt x="151" y="7"/>
                  </a:lnTo>
                  <a:lnTo>
                    <a:pt x="135" y="6"/>
                  </a:lnTo>
                  <a:lnTo>
                    <a:pt x="120" y="5"/>
                  </a:lnTo>
                  <a:lnTo>
                    <a:pt x="105" y="4"/>
                  </a:lnTo>
                  <a:lnTo>
                    <a:pt x="9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625880" y="3128040"/>
              <a:ext cx="39960" cy="53280"/>
            </a:xfrm>
            <a:custGeom>
              <a:avLst/>
              <a:gdLst/>
              <a:ahLst/>
              <a:rect l="l" t="t" r="r" b="b"/>
              <a:pathLst>
                <a:path w="79" h="130">
                  <a:moveTo>
                    <a:pt x="18" y="130"/>
                  </a:moveTo>
                  <a:lnTo>
                    <a:pt x="18" y="130"/>
                  </a:lnTo>
                  <a:lnTo>
                    <a:pt x="25" y="114"/>
                  </a:lnTo>
                  <a:lnTo>
                    <a:pt x="33" y="100"/>
                  </a:lnTo>
                  <a:lnTo>
                    <a:pt x="41" y="85"/>
                  </a:lnTo>
                  <a:lnTo>
                    <a:pt x="49" y="70"/>
                  </a:lnTo>
                  <a:lnTo>
                    <a:pt x="56" y="54"/>
                  </a:lnTo>
                  <a:lnTo>
                    <a:pt x="64" y="40"/>
                  </a:lnTo>
                  <a:lnTo>
                    <a:pt x="73" y="24"/>
                  </a:lnTo>
                  <a:lnTo>
                    <a:pt x="79" y="10"/>
                  </a:lnTo>
                  <a:lnTo>
                    <a:pt x="61" y="0"/>
                  </a:lnTo>
                  <a:lnTo>
                    <a:pt x="54" y="15"/>
                  </a:lnTo>
                  <a:lnTo>
                    <a:pt x="45" y="31"/>
                  </a:lnTo>
                  <a:lnTo>
                    <a:pt x="37" y="45"/>
                  </a:lnTo>
                  <a:lnTo>
                    <a:pt x="31" y="60"/>
                  </a:lnTo>
                  <a:lnTo>
                    <a:pt x="22" y="75"/>
                  </a:lnTo>
                  <a:lnTo>
                    <a:pt x="14" y="91"/>
                  </a:lnTo>
                  <a:lnTo>
                    <a:pt x="6" y="108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1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7658640" y="3179520"/>
              <a:ext cx="15120" cy="74520"/>
            </a:xfrm>
            <a:custGeom>
              <a:avLst/>
              <a:gdLst/>
              <a:ahLst/>
              <a:rect l="l" t="t" r="r" b="b"/>
              <a:pathLst>
                <a:path w="34" h="178">
                  <a:moveTo>
                    <a:pt x="32" y="169"/>
                  </a:moveTo>
                  <a:lnTo>
                    <a:pt x="32" y="170"/>
                  </a:lnTo>
                  <a:lnTo>
                    <a:pt x="22" y="128"/>
                  </a:lnTo>
                  <a:lnTo>
                    <a:pt x="21" y="81"/>
                  </a:lnTo>
                  <a:lnTo>
                    <a:pt x="27" y="38"/>
                  </a:lnTo>
                  <a:lnTo>
                    <a:pt x="34" y="7"/>
                  </a:lnTo>
                  <a:lnTo>
                    <a:pt x="16" y="0"/>
                  </a:lnTo>
                  <a:lnTo>
                    <a:pt x="5" y="36"/>
                  </a:lnTo>
                  <a:lnTo>
                    <a:pt x="0" y="81"/>
                  </a:lnTo>
                  <a:lnTo>
                    <a:pt x="1" y="131"/>
                  </a:lnTo>
                  <a:lnTo>
                    <a:pt x="13" y="177"/>
                  </a:lnTo>
                  <a:lnTo>
                    <a:pt x="13" y="178"/>
                  </a:lnTo>
                  <a:lnTo>
                    <a:pt x="3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7608240" y="3250080"/>
              <a:ext cx="60120" cy="84600"/>
            </a:xfrm>
            <a:custGeom>
              <a:avLst/>
              <a:gdLst/>
              <a:ahLst/>
              <a:rect l="l" t="t" r="r" b="b"/>
              <a:pathLst>
                <a:path w="118" h="206">
                  <a:moveTo>
                    <a:pt x="118" y="199"/>
                  </a:moveTo>
                  <a:lnTo>
                    <a:pt x="118" y="199"/>
                  </a:lnTo>
                  <a:lnTo>
                    <a:pt x="105" y="170"/>
                  </a:lnTo>
                  <a:lnTo>
                    <a:pt x="94" y="142"/>
                  </a:lnTo>
                  <a:lnTo>
                    <a:pt x="81" y="119"/>
                  </a:lnTo>
                  <a:lnTo>
                    <a:pt x="70" y="97"/>
                  </a:lnTo>
                  <a:lnTo>
                    <a:pt x="58" y="75"/>
                  </a:lnTo>
                  <a:lnTo>
                    <a:pt x="46" y="52"/>
                  </a:lnTo>
                  <a:lnTo>
                    <a:pt x="34" y="28"/>
                  </a:lnTo>
                  <a:lnTo>
                    <a:pt x="19" y="0"/>
                  </a:lnTo>
                  <a:lnTo>
                    <a:pt x="0" y="9"/>
                  </a:lnTo>
                  <a:lnTo>
                    <a:pt x="15" y="38"/>
                  </a:lnTo>
                  <a:lnTo>
                    <a:pt x="27" y="62"/>
                  </a:lnTo>
                  <a:lnTo>
                    <a:pt x="39" y="84"/>
                  </a:lnTo>
                  <a:lnTo>
                    <a:pt x="51" y="105"/>
                  </a:lnTo>
                  <a:lnTo>
                    <a:pt x="62" y="128"/>
                  </a:lnTo>
                  <a:lnTo>
                    <a:pt x="75" y="152"/>
                  </a:lnTo>
                  <a:lnTo>
                    <a:pt x="86" y="176"/>
                  </a:lnTo>
                  <a:lnTo>
                    <a:pt x="99" y="206"/>
                  </a:lnTo>
                  <a:lnTo>
                    <a:pt x="99" y="206"/>
                  </a:lnTo>
                  <a:lnTo>
                    <a:pt x="118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7571160" y="3332520"/>
              <a:ext cx="47520" cy="5148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87" y="106"/>
                  </a:moveTo>
                  <a:lnTo>
                    <a:pt x="91" y="107"/>
                  </a:lnTo>
                  <a:lnTo>
                    <a:pt x="80" y="99"/>
                  </a:lnTo>
                  <a:lnTo>
                    <a:pt x="70" y="89"/>
                  </a:lnTo>
                  <a:lnTo>
                    <a:pt x="58" y="75"/>
                  </a:lnTo>
                  <a:lnTo>
                    <a:pt x="50" y="60"/>
                  </a:lnTo>
                  <a:lnTo>
                    <a:pt x="40" y="45"/>
                  </a:lnTo>
                  <a:lnTo>
                    <a:pt x="32" y="29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0" y="7"/>
                  </a:lnTo>
                  <a:lnTo>
                    <a:pt x="6" y="21"/>
                  </a:lnTo>
                  <a:lnTo>
                    <a:pt x="13" y="37"/>
                  </a:lnTo>
                  <a:lnTo>
                    <a:pt x="21" y="54"/>
                  </a:lnTo>
                  <a:lnTo>
                    <a:pt x="31" y="70"/>
                  </a:lnTo>
                  <a:lnTo>
                    <a:pt x="41" y="87"/>
                  </a:lnTo>
                  <a:lnTo>
                    <a:pt x="53" y="103"/>
                  </a:lnTo>
                  <a:lnTo>
                    <a:pt x="67" y="115"/>
                  </a:lnTo>
                  <a:lnTo>
                    <a:pt x="81" y="126"/>
                  </a:lnTo>
                  <a:lnTo>
                    <a:pt x="87" y="127"/>
                  </a:lnTo>
                  <a:lnTo>
                    <a:pt x="81" y="126"/>
                  </a:lnTo>
                  <a:lnTo>
                    <a:pt x="90" y="126"/>
                  </a:lnTo>
                  <a:lnTo>
                    <a:pt x="95" y="122"/>
                  </a:lnTo>
                  <a:lnTo>
                    <a:pt x="95" y="113"/>
                  </a:lnTo>
                  <a:lnTo>
                    <a:pt x="91" y="107"/>
                  </a:lnTo>
                  <a:lnTo>
                    <a:pt x="87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7520760" y="3347280"/>
              <a:ext cx="55080" cy="3672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85" y="11"/>
                  </a:moveTo>
                  <a:lnTo>
                    <a:pt x="86" y="6"/>
                  </a:lnTo>
                  <a:lnTo>
                    <a:pt x="83" y="14"/>
                  </a:lnTo>
                  <a:lnTo>
                    <a:pt x="74" y="24"/>
                  </a:lnTo>
                  <a:lnTo>
                    <a:pt x="64" y="36"/>
                  </a:lnTo>
                  <a:lnTo>
                    <a:pt x="51" y="46"/>
                  </a:lnTo>
                  <a:lnTo>
                    <a:pt x="38" y="57"/>
                  </a:lnTo>
                  <a:lnTo>
                    <a:pt x="25" y="64"/>
                  </a:lnTo>
                  <a:lnTo>
                    <a:pt x="12" y="69"/>
                  </a:lnTo>
                  <a:lnTo>
                    <a:pt x="0" y="71"/>
                  </a:lnTo>
                  <a:lnTo>
                    <a:pt x="0" y="92"/>
                  </a:lnTo>
                  <a:lnTo>
                    <a:pt x="17" y="90"/>
                  </a:lnTo>
                  <a:lnTo>
                    <a:pt x="35" y="82"/>
                  </a:lnTo>
                  <a:lnTo>
                    <a:pt x="49" y="73"/>
                  </a:lnTo>
                  <a:lnTo>
                    <a:pt x="65" y="62"/>
                  </a:lnTo>
                  <a:lnTo>
                    <a:pt x="78" y="50"/>
                  </a:lnTo>
                  <a:lnTo>
                    <a:pt x="89" y="38"/>
                  </a:lnTo>
                  <a:lnTo>
                    <a:pt x="99" y="25"/>
                  </a:lnTo>
                  <a:lnTo>
                    <a:pt x="105" y="14"/>
                  </a:lnTo>
                  <a:lnTo>
                    <a:pt x="106" y="8"/>
                  </a:lnTo>
                  <a:lnTo>
                    <a:pt x="105" y="14"/>
                  </a:lnTo>
                  <a:lnTo>
                    <a:pt x="105" y="5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6"/>
                  </a:lnTo>
                  <a:lnTo>
                    <a:pt x="8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7518600" y="3251880"/>
              <a:ext cx="20160" cy="99360"/>
            </a:xfrm>
            <a:custGeom>
              <a:avLst/>
              <a:gdLst/>
              <a:ahLst/>
              <a:rect l="l" t="t" r="r" b="b"/>
              <a:pathLst>
                <a:path w="38" h="238">
                  <a:moveTo>
                    <a:pt x="17" y="0"/>
                  </a:moveTo>
                  <a:lnTo>
                    <a:pt x="17" y="0"/>
                  </a:lnTo>
                  <a:lnTo>
                    <a:pt x="3" y="61"/>
                  </a:lnTo>
                  <a:lnTo>
                    <a:pt x="0" y="115"/>
                  </a:lnTo>
                  <a:lnTo>
                    <a:pt x="3" y="171"/>
                  </a:lnTo>
                  <a:lnTo>
                    <a:pt x="10" y="238"/>
                  </a:lnTo>
                  <a:lnTo>
                    <a:pt x="31" y="235"/>
                  </a:lnTo>
                  <a:lnTo>
                    <a:pt x="24" y="171"/>
                  </a:lnTo>
                  <a:lnTo>
                    <a:pt x="21" y="115"/>
                  </a:lnTo>
                  <a:lnTo>
                    <a:pt x="24" y="63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7485840" y="3154680"/>
              <a:ext cx="42480" cy="9936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61" y="7"/>
                  </a:moveTo>
                  <a:lnTo>
                    <a:pt x="62" y="8"/>
                  </a:lnTo>
                  <a:lnTo>
                    <a:pt x="67" y="32"/>
                  </a:lnTo>
                  <a:lnTo>
                    <a:pt x="66" y="61"/>
                  </a:lnTo>
                  <a:lnTo>
                    <a:pt x="59" y="91"/>
                  </a:lnTo>
                  <a:lnTo>
                    <a:pt x="49" y="121"/>
                  </a:lnTo>
                  <a:lnTo>
                    <a:pt x="37" y="153"/>
                  </a:lnTo>
                  <a:lnTo>
                    <a:pt x="23" y="181"/>
                  </a:lnTo>
                  <a:lnTo>
                    <a:pt x="10" y="211"/>
                  </a:lnTo>
                  <a:lnTo>
                    <a:pt x="0" y="237"/>
                  </a:lnTo>
                  <a:lnTo>
                    <a:pt x="21" y="241"/>
                  </a:lnTo>
                  <a:lnTo>
                    <a:pt x="28" y="218"/>
                  </a:lnTo>
                  <a:lnTo>
                    <a:pt x="42" y="191"/>
                  </a:lnTo>
                  <a:lnTo>
                    <a:pt x="56" y="160"/>
                  </a:lnTo>
                  <a:lnTo>
                    <a:pt x="68" y="128"/>
                  </a:lnTo>
                  <a:lnTo>
                    <a:pt x="80" y="97"/>
                  </a:lnTo>
                  <a:lnTo>
                    <a:pt x="87" y="63"/>
                  </a:lnTo>
                  <a:lnTo>
                    <a:pt x="88" y="32"/>
                  </a:lnTo>
                  <a:lnTo>
                    <a:pt x="80" y="0"/>
                  </a:lnTo>
                  <a:lnTo>
                    <a:pt x="82" y="2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7488000" y="3129840"/>
              <a:ext cx="82800" cy="26640"/>
            </a:xfrm>
            <a:custGeom>
              <a:avLst/>
              <a:gdLst/>
              <a:ahLst/>
              <a:rect l="l" t="t" r="r" b="b"/>
              <a:pathLst>
                <a:path w="167" h="66">
                  <a:moveTo>
                    <a:pt x="1" y="21"/>
                  </a:moveTo>
                  <a:lnTo>
                    <a:pt x="0" y="21"/>
                  </a:lnTo>
                  <a:lnTo>
                    <a:pt x="15" y="25"/>
                  </a:lnTo>
                  <a:lnTo>
                    <a:pt x="34" y="29"/>
                  </a:lnTo>
                  <a:lnTo>
                    <a:pt x="58" y="35"/>
                  </a:lnTo>
                  <a:lnTo>
                    <a:pt x="85" y="42"/>
                  </a:lnTo>
                  <a:lnTo>
                    <a:pt x="109" y="49"/>
                  </a:lnTo>
                  <a:lnTo>
                    <a:pt x="130" y="56"/>
                  </a:lnTo>
                  <a:lnTo>
                    <a:pt x="143" y="64"/>
                  </a:lnTo>
                  <a:lnTo>
                    <a:pt x="146" y="66"/>
                  </a:lnTo>
                  <a:lnTo>
                    <a:pt x="167" y="61"/>
                  </a:lnTo>
                  <a:lnTo>
                    <a:pt x="154" y="47"/>
                  </a:lnTo>
                  <a:lnTo>
                    <a:pt x="137" y="37"/>
                  </a:lnTo>
                  <a:lnTo>
                    <a:pt x="113" y="28"/>
                  </a:lnTo>
                  <a:lnTo>
                    <a:pt x="89" y="20"/>
                  </a:lnTo>
                  <a:lnTo>
                    <a:pt x="62" y="14"/>
                  </a:lnTo>
                  <a:lnTo>
                    <a:pt x="38" y="8"/>
                  </a:lnTo>
                  <a:lnTo>
                    <a:pt x="17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7570800" y="3125880"/>
              <a:ext cx="65160" cy="12600"/>
            </a:xfrm>
            <a:custGeom>
              <a:avLst/>
              <a:gdLst/>
              <a:ahLst/>
              <a:rect l="l" t="t" r="r" b="b"/>
              <a:pathLst>
                <a:path w="132" h="30">
                  <a:moveTo>
                    <a:pt x="20" y="16"/>
                  </a:moveTo>
                  <a:lnTo>
                    <a:pt x="12" y="21"/>
                  </a:lnTo>
                  <a:lnTo>
                    <a:pt x="27" y="23"/>
                  </a:lnTo>
                  <a:lnTo>
                    <a:pt x="41" y="24"/>
                  </a:lnTo>
                  <a:lnTo>
                    <a:pt x="56" y="25"/>
                  </a:lnTo>
                  <a:lnTo>
                    <a:pt x="71" y="26"/>
                  </a:lnTo>
                  <a:lnTo>
                    <a:pt x="87" y="27"/>
                  </a:lnTo>
                  <a:lnTo>
                    <a:pt x="102" y="28"/>
                  </a:lnTo>
                  <a:lnTo>
                    <a:pt x="117" y="29"/>
                  </a:lnTo>
                  <a:lnTo>
                    <a:pt x="132" y="30"/>
                  </a:lnTo>
                  <a:lnTo>
                    <a:pt x="132" y="9"/>
                  </a:lnTo>
                  <a:lnTo>
                    <a:pt x="117" y="8"/>
                  </a:lnTo>
                  <a:lnTo>
                    <a:pt x="102" y="7"/>
                  </a:lnTo>
                  <a:lnTo>
                    <a:pt x="87" y="6"/>
                  </a:lnTo>
                  <a:lnTo>
                    <a:pt x="71" y="5"/>
                  </a:lnTo>
                  <a:lnTo>
                    <a:pt x="56" y="4"/>
                  </a:lnTo>
                  <a:lnTo>
                    <a:pt x="41" y="3"/>
                  </a:lnTo>
                  <a:lnTo>
                    <a:pt x="27" y="1"/>
                  </a:lnTo>
                  <a:lnTo>
                    <a:pt x="12" y="0"/>
                  </a:lnTo>
                  <a:lnTo>
                    <a:pt x="2" y="6"/>
                  </a:lnTo>
                  <a:lnTo>
                    <a:pt x="12" y="0"/>
                  </a:lnTo>
                  <a:lnTo>
                    <a:pt x="3" y="4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12" y="21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7578000" y="3227040"/>
              <a:ext cx="65160" cy="59760"/>
            </a:xfrm>
            <a:custGeom>
              <a:avLst/>
              <a:gdLst/>
              <a:ahLst/>
              <a:rect l="l" t="t" r="r" b="b"/>
              <a:pathLst>
                <a:path w="126" h="143">
                  <a:moveTo>
                    <a:pt x="110" y="123"/>
                  </a:moveTo>
                  <a:lnTo>
                    <a:pt x="116" y="122"/>
                  </a:lnTo>
                  <a:lnTo>
                    <a:pt x="102" y="120"/>
                  </a:lnTo>
                  <a:lnTo>
                    <a:pt x="89" y="111"/>
                  </a:lnTo>
                  <a:lnTo>
                    <a:pt x="77" y="97"/>
                  </a:lnTo>
                  <a:lnTo>
                    <a:pt x="62" y="77"/>
                  </a:lnTo>
                  <a:lnTo>
                    <a:pt x="50" y="58"/>
                  </a:lnTo>
                  <a:lnTo>
                    <a:pt x="39" y="37"/>
                  </a:lnTo>
                  <a:lnTo>
                    <a:pt x="28" y="17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9" y="26"/>
                  </a:lnTo>
                  <a:lnTo>
                    <a:pt x="20" y="46"/>
                  </a:lnTo>
                  <a:lnTo>
                    <a:pt x="31" y="67"/>
                  </a:lnTo>
                  <a:lnTo>
                    <a:pt x="46" y="90"/>
                  </a:lnTo>
                  <a:lnTo>
                    <a:pt x="60" y="110"/>
                  </a:lnTo>
                  <a:lnTo>
                    <a:pt x="76" y="127"/>
                  </a:lnTo>
                  <a:lnTo>
                    <a:pt x="96" y="138"/>
                  </a:lnTo>
                  <a:lnTo>
                    <a:pt x="116" y="143"/>
                  </a:lnTo>
                  <a:lnTo>
                    <a:pt x="120" y="142"/>
                  </a:lnTo>
                  <a:lnTo>
                    <a:pt x="116" y="143"/>
                  </a:lnTo>
                  <a:lnTo>
                    <a:pt x="123" y="140"/>
                  </a:lnTo>
                  <a:lnTo>
                    <a:pt x="126" y="133"/>
                  </a:lnTo>
                  <a:lnTo>
                    <a:pt x="123" y="125"/>
                  </a:lnTo>
                  <a:lnTo>
                    <a:pt x="116" y="122"/>
                  </a:lnTo>
                  <a:lnTo>
                    <a:pt x="11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7565400" y="3266640"/>
              <a:ext cx="22680" cy="2052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4"/>
                  </a:moveTo>
                  <a:lnTo>
                    <a:pt x="22" y="4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19" y="20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7" y="27"/>
                  </a:lnTo>
                  <a:lnTo>
                    <a:pt x="0" y="29"/>
                  </a:lnTo>
                  <a:lnTo>
                    <a:pt x="10" y="48"/>
                  </a:lnTo>
                  <a:lnTo>
                    <a:pt x="13" y="46"/>
                  </a:lnTo>
                  <a:lnTo>
                    <a:pt x="19" y="43"/>
                  </a:lnTo>
                  <a:lnTo>
                    <a:pt x="27" y="41"/>
                  </a:lnTo>
                  <a:lnTo>
                    <a:pt x="33" y="37"/>
                  </a:lnTo>
                  <a:lnTo>
                    <a:pt x="38" y="30"/>
                  </a:lnTo>
                  <a:lnTo>
                    <a:pt x="44" y="21"/>
                  </a:lnTo>
                  <a:lnTo>
                    <a:pt x="44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7565760" y="3163320"/>
              <a:ext cx="37440" cy="104760"/>
            </a:xfrm>
            <a:custGeom>
              <a:avLst/>
              <a:gdLst/>
              <a:ahLst/>
              <a:rect l="l" t="t" r="r" b="b"/>
              <a:pathLst>
                <a:path w="74" h="254">
                  <a:moveTo>
                    <a:pt x="0" y="14"/>
                  </a:moveTo>
                  <a:lnTo>
                    <a:pt x="26" y="46"/>
                  </a:lnTo>
                  <a:lnTo>
                    <a:pt x="39" y="69"/>
                  </a:lnTo>
                  <a:lnTo>
                    <a:pt x="42" y="88"/>
                  </a:lnTo>
                  <a:lnTo>
                    <a:pt x="42" y="110"/>
                  </a:lnTo>
                  <a:lnTo>
                    <a:pt x="40" y="136"/>
                  </a:lnTo>
                  <a:lnTo>
                    <a:pt x="39" y="165"/>
                  </a:lnTo>
                  <a:lnTo>
                    <a:pt x="41" y="203"/>
                  </a:lnTo>
                  <a:lnTo>
                    <a:pt x="53" y="254"/>
                  </a:lnTo>
                  <a:lnTo>
                    <a:pt x="74" y="250"/>
                  </a:lnTo>
                  <a:lnTo>
                    <a:pt x="62" y="201"/>
                  </a:lnTo>
                  <a:lnTo>
                    <a:pt x="60" y="165"/>
                  </a:lnTo>
                  <a:lnTo>
                    <a:pt x="61" y="136"/>
                  </a:lnTo>
                  <a:lnTo>
                    <a:pt x="63" y="110"/>
                  </a:lnTo>
                  <a:lnTo>
                    <a:pt x="63" y="88"/>
                  </a:lnTo>
                  <a:lnTo>
                    <a:pt x="58" y="62"/>
                  </a:lnTo>
                  <a:lnTo>
                    <a:pt x="42" y="34"/>
                  </a:lnTo>
                  <a:lnTo>
                    <a:pt x="1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7039800" y="2424240"/>
              <a:ext cx="327960" cy="492480"/>
            </a:xfrm>
            <a:custGeom>
              <a:avLst/>
              <a:gdLst/>
              <a:ahLst/>
              <a:rect l="l" t="t" r="r" b="b"/>
              <a:pathLst>
                <a:path w="652" h="1188">
                  <a:moveTo>
                    <a:pt x="106" y="43"/>
                  </a:moveTo>
                  <a:lnTo>
                    <a:pt x="127" y="33"/>
                  </a:lnTo>
                  <a:lnTo>
                    <a:pt x="151" y="23"/>
                  </a:lnTo>
                  <a:lnTo>
                    <a:pt x="175" y="16"/>
                  </a:lnTo>
                  <a:lnTo>
                    <a:pt x="201" y="9"/>
                  </a:lnTo>
                  <a:lnTo>
                    <a:pt x="229" y="3"/>
                  </a:lnTo>
                  <a:lnTo>
                    <a:pt x="256" y="1"/>
                  </a:lnTo>
                  <a:lnTo>
                    <a:pt x="285" y="0"/>
                  </a:lnTo>
                  <a:lnTo>
                    <a:pt x="313" y="2"/>
                  </a:lnTo>
                  <a:lnTo>
                    <a:pt x="342" y="6"/>
                  </a:lnTo>
                  <a:lnTo>
                    <a:pt x="367" y="13"/>
                  </a:lnTo>
                  <a:lnTo>
                    <a:pt x="394" y="22"/>
                  </a:lnTo>
                  <a:lnTo>
                    <a:pt x="418" y="34"/>
                  </a:lnTo>
                  <a:lnTo>
                    <a:pt x="440" y="51"/>
                  </a:lnTo>
                  <a:lnTo>
                    <a:pt x="460" y="70"/>
                  </a:lnTo>
                  <a:lnTo>
                    <a:pt x="478" y="92"/>
                  </a:lnTo>
                  <a:lnTo>
                    <a:pt x="493" y="118"/>
                  </a:lnTo>
                  <a:lnTo>
                    <a:pt x="514" y="183"/>
                  </a:lnTo>
                  <a:lnTo>
                    <a:pt x="529" y="251"/>
                  </a:lnTo>
                  <a:lnTo>
                    <a:pt x="539" y="323"/>
                  </a:lnTo>
                  <a:lnTo>
                    <a:pt x="546" y="396"/>
                  </a:lnTo>
                  <a:lnTo>
                    <a:pt x="551" y="470"/>
                  </a:lnTo>
                  <a:lnTo>
                    <a:pt x="557" y="542"/>
                  </a:lnTo>
                  <a:lnTo>
                    <a:pt x="565" y="613"/>
                  </a:lnTo>
                  <a:lnTo>
                    <a:pt x="576" y="680"/>
                  </a:lnTo>
                  <a:lnTo>
                    <a:pt x="586" y="722"/>
                  </a:lnTo>
                  <a:lnTo>
                    <a:pt x="598" y="773"/>
                  </a:lnTo>
                  <a:lnTo>
                    <a:pt x="615" y="829"/>
                  </a:lnTo>
                  <a:lnTo>
                    <a:pt x="630" y="888"/>
                  </a:lnTo>
                  <a:lnTo>
                    <a:pt x="643" y="947"/>
                  </a:lnTo>
                  <a:lnTo>
                    <a:pt x="651" y="1004"/>
                  </a:lnTo>
                  <a:lnTo>
                    <a:pt x="652" y="1055"/>
                  </a:lnTo>
                  <a:lnTo>
                    <a:pt x="644" y="1097"/>
                  </a:lnTo>
                  <a:lnTo>
                    <a:pt x="640" y="1108"/>
                  </a:lnTo>
                  <a:lnTo>
                    <a:pt x="632" y="1118"/>
                  </a:lnTo>
                  <a:lnTo>
                    <a:pt x="622" y="1128"/>
                  </a:lnTo>
                  <a:lnTo>
                    <a:pt x="611" y="1136"/>
                  </a:lnTo>
                  <a:lnTo>
                    <a:pt x="598" y="1144"/>
                  </a:lnTo>
                  <a:lnTo>
                    <a:pt x="586" y="1149"/>
                  </a:lnTo>
                  <a:lnTo>
                    <a:pt x="572" y="1154"/>
                  </a:lnTo>
                  <a:lnTo>
                    <a:pt x="560" y="1157"/>
                  </a:lnTo>
                  <a:lnTo>
                    <a:pt x="536" y="1165"/>
                  </a:lnTo>
                  <a:lnTo>
                    <a:pt x="509" y="1170"/>
                  </a:lnTo>
                  <a:lnTo>
                    <a:pt x="478" y="1175"/>
                  </a:lnTo>
                  <a:lnTo>
                    <a:pt x="446" y="1180"/>
                  </a:lnTo>
                  <a:lnTo>
                    <a:pt x="413" y="1184"/>
                  </a:lnTo>
                  <a:lnTo>
                    <a:pt x="377" y="1186"/>
                  </a:lnTo>
                  <a:lnTo>
                    <a:pt x="341" y="1187"/>
                  </a:lnTo>
                  <a:lnTo>
                    <a:pt x="304" y="1188"/>
                  </a:lnTo>
                  <a:lnTo>
                    <a:pt x="268" y="1187"/>
                  </a:lnTo>
                  <a:lnTo>
                    <a:pt x="231" y="1186"/>
                  </a:lnTo>
                  <a:lnTo>
                    <a:pt x="197" y="1184"/>
                  </a:lnTo>
                  <a:lnTo>
                    <a:pt x="162" y="1179"/>
                  </a:lnTo>
                  <a:lnTo>
                    <a:pt x="132" y="1174"/>
                  </a:lnTo>
                  <a:lnTo>
                    <a:pt x="102" y="1167"/>
                  </a:lnTo>
                  <a:lnTo>
                    <a:pt x="77" y="1160"/>
                  </a:lnTo>
                  <a:lnTo>
                    <a:pt x="54" y="1150"/>
                  </a:lnTo>
                  <a:lnTo>
                    <a:pt x="27" y="1129"/>
                  </a:lnTo>
                  <a:lnTo>
                    <a:pt x="10" y="1096"/>
                  </a:lnTo>
                  <a:lnTo>
                    <a:pt x="3" y="1055"/>
                  </a:lnTo>
                  <a:lnTo>
                    <a:pt x="0" y="1009"/>
                  </a:lnTo>
                  <a:lnTo>
                    <a:pt x="3" y="962"/>
                  </a:lnTo>
                  <a:lnTo>
                    <a:pt x="7" y="917"/>
                  </a:lnTo>
                  <a:lnTo>
                    <a:pt x="16" y="878"/>
                  </a:lnTo>
                  <a:lnTo>
                    <a:pt x="24" y="847"/>
                  </a:lnTo>
                  <a:lnTo>
                    <a:pt x="45" y="764"/>
                  </a:lnTo>
                  <a:lnTo>
                    <a:pt x="59" y="671"/>
                  </a:lnTo>
                  <a:lnTo>
                    <a:pt x="69" y="569"/>
                  </a:lnTo>
                  <a:lnTo>
                    <a:pt x="76" y="463"/>
                  </a:lnTo>
                  <a:lnTo>
                    <a:pt x="81" y="354"/>
                  </a:lnTo>
                  <a:lnTo>
                    <a:pt x="87" y="245"/>
                  </a:lnTo>
                  <a:lnTo>
                    <a:pt x="95" y="142"/>
                  </a:lnTo>
                  <a:lnTo>
                    <a:pt x="106" y="43"/>
                  </a:lnTo>
                  <a:close/>
                </a:path>
              </a:pathLst>
            </a:custGeom>
            <a:solidFill>
              <a:srgbClr val="ffff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7127280" y="2482560"/>
              <a:ext cx="70200" cy="163080"/>
            </a:xfrm>
            <a:custGeom>
              <a:avLst/>
              <a:gdLst/>
              <a:ahLst/>
              <a:rect l="l" t="t" r="r" b="b"/>
              <a:pathLst>
                <a:path w="144" h="397">
                  <a:moveTo>
                    <a:pt x="0" y="120"/>
                  </a:moveTo>
                  <a:lnTo>
                    <a:pt x="20" y="133"/>
                  </a:lnTo>
                  <a:lnTo>
                    <a:pt x="35" y="165"/>
                  </a:lnTo>
                  <a:lnTo>
                    <a:pt x="48" y="208"/>
                  </a:lnTo>
                  <a:lnTo>
                    <a:pt x="59" y="258"/>
                  </a:lnTo>
                  <a:lnTo>
                    <a:pt x="68" y="310"/>
                  </a:lnTo>
                  <a:lnTo>
                    <a:pt x="80" y="353"/>
                  </a:lnTo>
                  <a:lnTo>
                    <a:pt x="94" y="384"/>
                  </a:lnTo>
                  <a:lnTo>
                    <a:pt x="113" y="397"/>
                  </a:lnTo>
                  <a:lnTo>
                    <a:pt x="130" y="352"/>
                  </a:lnTo>
                  <a:lnTo>
                    <a:pt x="140" y="302"/>
                  </a:lnTo>
                  <a:lnTo>
                    <a:pt x="143" y="252"/>
                  </a:lnTo>
                  <a:lnTo>
                    <a:pt x="144" y="200"/>
                  </a:lnTo>
                  <a:lnTo>
                    <a:pt x="141" y="147"/>
                  </a:lnTo>
                  <a:lnTo>
                    <a:pt x="138" y="97"/>
                  </a:lnTo>
                  <a:lnTo>
                    <a:pt x="134" y="47"/>
                  </a:lnTo>
                  <a:lnTo>
                    <a:pt x="133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7137360" y="2527920"/>
              <a:ext cx="62280" cy="123840"/>
            </a:xfrm>
            <a:custGeom>
              <a:avLst/>
              <a:gdLst/>
              <a:ahLst/>
              <a:rect l="l" t="t" r="r" b="b"/>
              <a:pathLst>
                <a:path w="125" h="299">
                  <a:moveTo>
                    <a:pt x="105" y="284"/>
                  </a:moveTo>
                  <a:lnTo>
                    <a:pt x="116" y="278"/>
                  </a:lnTo>
                  <a:lnTo>
                    <a:pt x="104" y="268"/>
                  </a:lnTo>
                  <a:lnTo>
                    <a:pt x="91" y="240"/>
                  </a:lnTo>
                  <a:lnTo>
                    <a:pt x="81" y="198"/>
                  </a:lnTo>
                  <a:lnTo>
                    <a:pt x="71" y="148"/>
                  </a:lnTo>
                  <a:lnTo>
                    <a:pt x="61" y="97"/>
                  </a:lnTo>
                  <a:lnTo>
                    <a:pt x="47" y="53"/>
                  </a:lnTo>
                  <a:lnTo>
                    <a:pt x="30" y="18"/>
                  </a:lnTo>
                  <a:lnTo>
                    <a:pt x="3" y="0"/>
                  </a:lnTo>
                  <a:lnTo>
                    <a:pt x="0" y="21"/>
                  </a:lnTo>
                  <a:lnTo>
                    <a:pt x="13" y="31"/>
                  </a:lnTo>
                  <a:lnTo>
                    <a:pt x="28" y="60"/>
                  </a:lnTo>
                  <a:lnTo>
                    <a:pt x="40" y="103"/>
                  </a:lnTo>
                  <a:lnTo>
                    <a:pt x="50" y="151"/>
                  </a:lnTo>
                  <a:lnTo>
                    <a:pt x="60" y="203"/>
                  </a:lnTo>
                  <a:lnTo>
                    <a:pt x="72" y="247"/>
                  </a:lnTo>
                  <a:lnTo>
                    <a:pt x="88" y="280"/>
                  </a:lnTo>
                  <a:lnTo>
                    <a:pt x="113" y="299"/>
                  </a:lnTo>
                  <a:lnTo>
                    <a:pt x="124" y="294"/>
                  </a:lnTo>
                  <a:lnTo>
                    <a:pt x="113" y="299"/>
                  </a:lnTo>
                  <a:lnTo>
                    <a:pt x="122" y="297"/>
                  </a:lnTo>
                  <a:lnTo>
                    <a:pt x="125" y="290"/>
                  </a:lnTo>
                  <a:lnTo>
                    <a:pt x="123" y="282"/>
                  </a:lnTo>
                  <a:lnTo>
                    <a:pt x="116" y="278"/>
                  </a:lnTo>
                  <a:lnTo>
                    <a:pt x="105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7119720" y="2478240"/>
              <a:ext cx="27720" cy="171360"/>
            </a:xfrm>
            <a:custGeom>
              <a:avLst/>
              <a:gdLst/>
              <a:ahLst/>
              <a:rect l="l" t="t" r="r" b="b"/>
              <a:pathLst>
                <a:path w="52" h="413">
                  <a:moveTo>
                    <a:pt x="37" y="19"/>
                  </a:moveTo>
                  <a:lnTo>
                    <a:pt x="19" y="10"/>
                  </a:lnTo>
                  <a:lnTo>
                    <a:pt x="20" y="57"/>
                  </a:lnTo>
                  <a:lnTo>
                    <a:pt x="24" y="107"/>
                  </a:lnTo>
                  <a:lnTo>
                    <a:pt x="27" y="157"/>
                  </a:lnTo>
                  <a:lnTo>
                    <a:pt x="31" y="210"/>
                  </a:lnTo>
                  <a:lnTo>
                    <a:pt x="30" y="262"/>
                  </a:lnTo>
                  <a:lnTo>
                    <a:pt x="26" y="311"/>
                  </a:lnTo>
                  <a:lnTo>
                    <a:pt x="17" y="359"/>
                  </a:lnTo>
                  <a:lnTo>
                    <a:pt x="0" y="403"/>
                  </a:lnTo>
                  <a:lnTo>
                    <a:pt x="19" y="413"/>
                  </a:lnTo>
                  <a:lnTo>
                    <a:pt x="38" y="364"/>
                  </a:lnTo>
                  <a:lnTo>
                    <a:pt x="48" y="313"/>
                  </a:lnTo>
                  <a:lnTo>
                    <a:pt x="51" y="262"/>
                  </a:lnTo>
                  <a:lnTo>
                    <a:pt x="52" y="210"/>
                  </a:lnTo>
                  <a:lnTo>
                    <a:pt x="49" y="157"/>
                  </a:lnTo>
                  <a:lnTo>
                    <a:pt x="45" y="107"/>
                  </a:lnTo>
                  <a:lnTo>
                    <a:pt x="41" y="57"/>
                  </a:lnTo>
                  <a:lnTo>
                    <a:pt x="40" y="10"/>
                  </a:lnTo>
                  <a:lnTo>
                    <a:pt x="23" y="2"/>
                  </a:lnTo>
                  <a:lnTo>
                    <a:pt x="40" y="10"/>
                  </a:lnTo>
                  <a:lnTo>
                    <a:pt x="37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9" y="10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7127640" y="2478240"/>
              <a:ext cx="77760" cy="57600"/>
            </a:xfrm>
            <a:custGeom>
              <a:avLst/>
              <a:gdLst/>
              <a:ahLst/>
              <a:rect l="l" t="t" r="r" b="b"/>
              <a:pathLst>
                <a:path w="151" h="138">
                  <a:moveTo>
                    <a:pt x="12" y="117"/>
                  </a:moveTo>
                  <a:lnTo>
                    <a:pt x="18" y="135"/>
                  </a:lnTo>
                  <a:lnTo>
                    <a:pt x="151" y="17"/>
                  </a:lnTo>
                  <a:lnTo>
                    <a:pt x="137" y="0"/>
                  </a:lnTo>
                  <a:lnTo>
                    <a:pt x="3" y="119"/>
                  </a:lnTo>
                  <a:lnTo>
                    <a:pt x="9" y="138"/>
                  </a:lnTo>
                  <a:lnTo>
                    <a:pt x="3" y="119"/>
                  </a:lnTo>
                  <a:lnTo>
                    <a:pt x="0" y="128"/>
                  </a:lnTo>
                  <a:lnTo>
                    <a:pt x="2" y="134"/>
                  </a:lnTo>
                  <a:lnTo>
                    <a:pt x="9" y="138"/>
                  </a:lnTo>
                  <a:lnTo>
                    <a:pt x="18" y="135"/>
                  </a:lnTo>
                  <a:lnTo>
                    <a:pt x="1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7202880" y="2432880"/>
              <a:ext cx="104760" cy="212760"/>
            </a:xfrm>
            <a:custGeom>
              <a:avLst/>
              <a:gdLst/>
              <a:ahLst/>
              <a:rect l="l" t="t" r="r" b="b"/>
              <a:pathLst>
                <a:path w="212" h="512">
                  <a:moveTo>
                    <a:pt x="212" y="238"/>
                  </a:moveTo>
                  <a:lnTo>
                    <a:pt x="187" y="262"/>
                  </a:lnTo>
                  <a:lnTo>
                    <a:pt x="168" y="302"/>
                  </a:lnTo>
                  <a:lnTo>
                    <a:pt x="155" y="351"/>
                  </a:lnTo>
                  <a:lnTo>
                    <a:pt x="145" y="400"/>
                  </a:lnTo>
                  <a:lnTo>
                    <a:pt x="133" y="448"/>
                  </a:lnTo>
                  <a:lnTo>
                    <a:pt x="117" y="486"/>
                  </a:lnTo>
                  <a:lnTo>
                    <a:pt x="97" y="510"/>
                  </a:lnTo>
                  <a:lnTo>
                    <a:pt x="70" y="512"/>
                  </a:lnTo>
                  <a:lnTo>
                    <a:pt x="50" y="459"/>
                  </a:lnTo>
                  <a:lnTo>
                    <a:pt x="33" y="398"/>
                  </a:lnTo>
                  <a:lnTo>
                    <a:pt x="20" y="332"/>
                  </a:lnTo>
                  <a:lnTo>
                    <a:pt x="12" y="262"/>
                  </a:lnTo>
                  <a:lnTo>
                    <a:pt x="5" y="191"/>
                  </a:lnTo>
                  <a:lnTo>
                    <a:pt x="2" y="12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3" y="36"/>
                  </a:lnTo>
                  <a:lnTo>
                    <a:pt x="35" y="52"/>
                  </a:lnTo>
                  <a:lnTo>
                    <a:pt x="46" y="69"/>
                  </a:lnTo>
                  <a:lnTo>
                    <a:pt x="59" y="84"/>
                  </a:lnTo>
                  <a:lnTo>
                    <a:pt x="71" y="99"/>
                  </a:lnTo>
                  <a:lnTo>
                    <a:pt x="82" y="114"/>
                  </a:lnTo>
                  <a:lnTo>
                    <a:pt x="94" y="129"/>
                  </a:lnTo>
                  <a:lnTo>
                    <a:pt x="106" y="143"/>
                  </a:lnTo>
                  <a:lnTo>
                    <a:pt x="118" y="157"/>
                  </a:lnTo>
                  <a:lnTo>
                    <a:pt x="133" y="171"/>
                  </a:lnTo>
                  <a:lnTo>
                    <a:pt x="147" y="184"/>
                  </a:lnTo>
                  <a:lnTo>
                    <a:pt x="162" y="198"/>
                  </a:lnTo>
                  <a:lnTo>
                    <a:pt x="177" y="211"/>
                  </a:lnTo>
                  <a:lnTo>
                    <a:pt x="194" y="224"/>
                  </a:lnTo>
                  <a:lnTo>
                    <a:pt x="21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7200360" y="2527920"/>
              <a:ext cx="77760" cy="121680"/>
            </a:xfrm>
            <a:custGeom>
              <a:avLst/>
              <a:gdLst/>
              <a:ahLst/>
              <a:rect l="l" t="t" r="r" b="b"/>
              <a:pathLst>
                <a:path w="157" h="295">
                  <a:moveTo>
                    <a:pt x="1" y="289"/>
                  </a:moveTo>
                  <a:lnTo>
                    <a:pt x="8" y="295"/>
                  </a:lnTo>
                  <a:lnTo>
                    <a:pt x="43" y="292"/>
                  </a:lnTo>
                  <a:lnTo>
                    <a:pt x="68" y="263"/>
                  </a:lnTo>
                  <a:lnTo>
                    <a:pt x="85" y="222"/>
                  </a:lnTo>
                  <a:lnTo>
                    <a:pt x="96" y="174"/>
                  </a:lnTo>
                  <a:lnTo>
                    <a:pt x="107" y="125"/>
                  </a:lnTo>
                  <a:lnTo>
                    <a:pt x="118" y="77"/>
                  </a:lnTo>
                  <a:lnTo>
                    <a:pt x="136" y="40"/>
                  </a:lnTo>
                  <a:lnTo>
                    <a:pt x="157" y="19"/>
                  </a:lnTo>
                  <a:lnTo>
                    <a:pt x="148" y="0"/>
                  </a:lnTo>
                  <a:lnTo>
                    <a:pt x="119" y="29"/>
                  </a:lnTo>
                  <a:lnTo>
                    <a:pt x="99" y="71"/>
                  </a:lnTo>
                  <a:lnTo>
                    <a:pt x="86" y="121"/>
                  </a:lnTo>
                  <a:lnTo>
                    <a:pt x="75" y="170"/>
                  </a:lnTo>
                  <a:lnTo>
                    <a:pt x="63" y="217"/>
                  </a:lnTo>
                  <a:lnTo>
                    <a:pt x="49" y="254"/>
                  </a:lnTo>
                  <a:lnTo>
                    <a:pt x="34" y="273"/>
                  </a:lnTo>
                  <a:lnTo>
                    <a:pt x="13" y="274"/>
                  </a:lnTo>
                  <a:lnTo>
                    <a:pt x="20" y="279"/>
                  </a:lnTo>
                  <a:lnTo>
                    <a:pt x="13" y="274"/>
                  </a:lnTo>
                  <a:lnTo>
                    <a:pt x="4" y="276"/>
                  </a:lnTo>
                  <a:lnTo>
                    <a:pt x="0" y="282"/>
                  </a:lnTo>
                  <a:lnTo>
                    <a:pt x="1" y="291"/>
                  </a:lnTo>
                  <a:lnTo>
                    <a:pt x="8" y="295"/>
                  </a:lnTo>
                  <a:lnTo>
                    <a:pt x="1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7267680" y="2428560"/>
              <a:ext cx="45360" cy="219240"/>
            </a:xfrm>
            <a:custGeom>
              <a:avLst/>
              <a:gdLst/>
              <a:ahLst/>
              <a:rect l="l" t="t" r="r" b="b"/>
              <a:pathLst>
                <a:path w="90" h="527">
                  <a:moveTo>
                    <a:pt x="19" y="5"/>
                  </a:moveTo>
                  <a:lnTo>
                    <a:pt x="0" y="10"/>
                  </a:lnTo>
                  <a:lnTo>
                    <a:pt x="0" y="68"/>
                  </a:lnTo>
                  <a:lnTo>
                    <a:pt x="3" y="133"/>
                  </a:lnTo>
                  <a:lnTo>
                    <a:pt x="6" y="201"/>
                  </a:lnTo>
                  <a:lnTo>
                    <a:pt x="12" y="272"/>
                  </a:lnTo>
                  <a:lnTo>
                    <a:pt x="20" y="343"/>
                  </a:lnTo>
                  <a:lnTo>
                    <a:pt x="33" y="410"/>
                  </a:lnTo>
                  <a:lnTo>
                    <a:pt x="50" y="472"/>
                  </a:lnTo>
                  <a:lnTo>
                    <a:pt x="71" y="527"/>
                  </a:lnTo>
                  <a:lnTo>
                    <a:pt x="90" y="517"/>
                  </a:lnTo>
                  <a:lnTo>
                    <a:pt x="71" y="466"/>
                  </a:lnTo>
                  <a:lnTo>
                    <a:pt x="54" y="405"/>
                  </a:lnTo>
                  <a:lnTo>
                    <a:pt x="42" y="341"/>
                  </a:lnTo>
                  <a:lnTo>
                    <a:pt x="33" y="272"/>
                  </a:lnTo>
                  <a:lnTo>
                    <a:pt x="27" y="201"/>
                  </a:lnTo>
                  <a:lnTo>
                    <a:pt x="24" y="133"/>
                  </a:lnTo>
                  <a:lnTo>
                    <a:pt x="22" y="68"/>
                  </a:lnTo>
                  <a:lnTo>
                    <a:pt x="22" y="10"/>
                  </a:lnTo>
                  <a:lnTo>
                    <a:pt x="3" y="16"/>
                  </a:lnTo>
                  <a:lnTo>
                    <a:pt x="22" y="10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7194960" y="2430360"/>
              <a:ext cx="118080" cy="105480"/>
            </a:xfrm>
            <a:custGeom>
              <a:avLst/>
              <a:gdLst/>
              <a:ahLst/>
              <a:rect l="l" t="t" r="r" b="b"/>
              <a:pathLst>
                <a:path w="231" h="252">
                  <a:moveTo>
                    <a:pt x="224" y="252"/>
                  </a:moveTo>
                  <a:lnTo>
                    <a:pt x="226" y="234"/>
                  </a:lnTo>
                  <a:lnTo>
                    <a:pt x="209" y="222"/>
                  </a:lnTo>
                  <a:lnTo>
                    <a:pt x="193" y="208"/>
                  </a:lnTo>
                  <a:lnTo>
                    <a:pt x="176" y="194"/>
                  </a:lnTo>
                  <a:lnTo>
                    <a:pt x="162" y="180"/>
                  </a:lnTo>
                  <a:lnTo>
                    <a:pt x="148" y="169"/>
                  </a:lnTo>
                  <a:lnTo>
                    <a:pt x="134" y="155"/>
                  </a:lnTo>
                  <a:lnTo>
                    <a:pt x="122" y="141"/>
                  </a:lnTo>
                  <a:lnTo>
                    <a:pt x="110" y="127"/>
                  </a:lnTo>
                  <a:lnTo>
                    <a:pt x="99" y="114"/>
                  </a:lnTo>
                  <a:lnTo>
                    <a:pt x="87" y="98"/>
                  </a:lnTo>
                  <a:lnTo>
                    <a:pt x="75" y="83"/>
                  </a:lnTo>
                  <a:lnTo>
                    <a:pt x="63" y="67"/>
                  </a:lnTo>
                  <a:lnTo>
                    <a:pt x="51" y="52"/>
                  </a:lnTo>
                  <a:lnTo>
                    <a:pt x="40" y="35"/>
                  </a:lnTo>
                  <a:lnTo>
                    <a:pt x="28" y="17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1" y="28"/>
                  </a:lnTo>
                  <a:lnTo>
                    <a:pt x="23" y="46"/>
                  </a:lnTo>
                  <a:lnTo>
                    <a:pt x="34" y="63"/>
                  </a:lnTo>
                  <a:lnTo>
                    <a:pt x="47" y="79"/>
                  </a:lnTo>
                  <a:lnTo>
                    <a:pt x="59" y="95"/>
                  </a:lnTo>
                  <a:lnTo>
                    <a:pt x="70" y="111"/>
                  </a:lnTo>
                  <a:lnTo>
                    <a:pt x="82" y="126"/>
                  </a:lnTo>
                  <a:lnTo>
                    <a:pt x="94" y="141"/>
                  </a:lnTo>
                  <a:lnTo>
                    <a:pt x="105" y="155"/>
                  </a:lnTo>
                  <a:lnTo>
                    <a:pt x="120" y="169"/>
                  </a:lnTo>
                  <a:lnTo>
                    <a:pt x="134" y="184"/>
                  </a:lnTo>
                  <a:lnTo>
                    <a:pt x="148" y="197"/>
                  </a:lnTo>
                  <a:lnTo>
                    <a:pt x="162" y="210"/>
                  </a:lnTo>
                  <a:lnTo>
                    <a:pt x="179" y="225"/>
                  </a:lnTo>
                  <a:lnTo>
                    <a:pt x="196" y="237"/>
                  </a:lnTo>
                  <a:lnTo>
                    <a:pt x="214" y="250"/>
                  </a:lnTo>
                  <a:lnTo>
                    <a:pt x="215" y="233"/>
                  </a:lnTo>
                  <a:lnTo>
                    <a:pt x="214" y="250"/>
                  </a:lnTo>
                  <a:lnTo>
                    <a:pt x="222" y="252"/>
                  </a:lnTo>
                  <a:lnTo>
                    <a:pt x="228" y="247"/>
                  </a:lnTo>
                  <a:lnTo>
                    <a:pt x="231" y="242"/>
                  </a:lnTo>
                  <a:lnTo>
                    <a:pt x="226" y="234"/>
                  </a:lnTo>
                  <a:lnTo>
                    <a:pt x="224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7042680" y="3458880"/>
              <a:ext cx="180000" cy="308160"/>
            </a:xfrm>
            <a:custGeom>
              <a:avLst/>
              <a:gdLst/>
              <a:ahLst/>
              <a:rect l="l" t="t" r="r" b="b"/>
              <a:pathLst>
                <a:path w="360" h="747">
                  <a:moveTo>
                    <a:pt x="94" y="721"/>
                  </a:moveTo>
                  <a:lnTo>
                    <a:pt x="105" y="727"/>
                  </a:lnTo>
                  <a:lnTo>
                    <a:pt x="115" y="732"/>
                  </a:lnTo>
                  <a:lnTo>
                    <a:pt x="128" y="736"/>
                  </a:lnTo>
                  <a:lnTo>
                    <a:pt x="140" y="742"/>
                  </a:lnTo>
                  <a:lnTo>
                    <a:pt x="153" y="744"/>
                  </a:lnTo>
                  <a:lnTo>
                    <a:pt x="166" y="746"/>
                  </a:lnTo>
                  <a:lnTo>
                    <a:pt x="180" y="747"/>
                  </a:lnTo>
                  <a:lnTo>
                    <a:pt x="193" y="747"/>
                  </a:lnTo>
                  <a:lnTo>
                    <a:pt x="207" y="747"/>
                  </a:lnTo>
                  <a:lnTo>
                    <a:pt x="220" y="746"/>
                  </a:lnTo>
                  <a:lnTo>
                    <a:pt x="231" y="744"/>
                  </a:lnTo>
                  <a:lnTo>
                    <a:pt x="244" y="741"/>
                  </a:lnTo>
                  <a:lnTo>
                    <a:pt x="256" y="736"/>
                  </a:lnTo>
                  <a:lnTo>
                    <a:pt x="266" y="732"/>
                  </a:lnTo>
                  <a:lnTo>
                    <a:pt x="276" y="726"/>
                  </a:lnTo>
                  <a:lnTo>
                    <a:pt x="284" y="721"/>
                  </a:lnTo>
                  <a:lnTo>
                    <a:pt x="360" y="0"/>
                  </a:lnTo>
                  <a:lnTo>
                    <a:pt x="0" y="52"/>
                  </a:lnTo>
                  <a:lnTo>
                    <a:pt x="94" y="721"/>
                  </a:lnTo>
                  <a:close/>
                </a:path>
              </a:pathLst>
            </a:custGeom>
            <a:solidFill>
              <a:srgbClr val="ffb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7075080" y="3752640"/>
              <a:ext cx="102600" cy="20520"/>
            </a:xfrm>
            <a:custGeom>
              <a:avLst/>
              <a:gdLst/>
              <a:ahLst/>
              <a:rect l="l" t="t" r="r" b="b"/>
              <a:pathLst>
                <a:path w="207" h="49">
                  <a:moveTo>
                    <a:pt x="186" y="11"/>
                  </a:moveTo>
                  <a:lnTo>
                    <a:pt x="189" y="2"/>
                  </a:lnTo>
                  <a:lnTo>
                    <a:pt x="181" y="6"/>
                  </a:lnTo>
                  <a:lnTo>
                    <a:pt x="173" y="13"/>
                  </a:lnTo>
                  <a:lnTo>
                    <a:pt x="163" y="17"/>
                  </a:lnTo>
                  <a:lnTo>
                    <a:pt x="153" y="20"/>
                  </a:lnTo>
                  <a:lnTo>
                    <a:pt x="141" y="23"/>
                  </a:lnTo>
                  <a:lnTo>
                    <a:pt x="131" y="25"/>
                  </a:lnTo>
                  <a:lnTo>
                    <a:pt x="119" y="26"/>
                  </a:lnTo>
                  <a:lnTo>
                    <a:pt x="105" y="26"/>
                  </a:lnTo>
                  <a:lnTo>
                    <a:pt x="92" y="26"/>
                  </a:lnTo>
                  <a:lnTo>
                    <a:pt x="79" y="25"/>
                  </a:lnTo>
                  <a:lnTo>
                    <a:pt x="66" y="23"/>
                  </a:lnTo>
                  <a:lnTo>
                    <a:pt x="55" y="21"/>
                  </a:lnTo>
                  <a:lnTo>
                    <a:pt x="44" y="17"/>
                  </a:lnTo>
                  <a:lnTo>
                    <a:pt x="30" y="13"/>
                  </a:lnTo>
                  <a:lnTo>
                    <a:pt x="21" y="7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11" y="26"/>
                  </a:lnTo>
                  <a:lnTo>
                    <a:pt x="24" y="32"/>
                  </a:lnTo>
                  <a:lnTo>
                    <a:pt x="37" y="36"/>
                  </a:lnTo>
                  <a:lnTo>
                    <a:pt x="49" y="42"/>
                  </a:lnTo>
                  <a:lnTo>
                    <a:pt x="64" y="44"/>
                  </a:lnTo>
                  <a:lnTo>
                    <a:pt x="77" y="47"/>
                  </a:lnTo>
                  <a:lnTo>
                    <a:pt x="92" y="49"/>
                  </a:lnTo>
                  <a:lnTo>
                    <a:pt x="105" y="49"/>
                  </a:lnTo>
                  <a:lnTo>
                    <a:pt x="119" y="49"/>
                  </a:lnTo>
                  <a:lnTo>
                    <a:pt x="133" y="47"/>
                  </a:lnTo>
                  <a:lnTo>
                    <a:pt x="147" y="44"/>
                  </a:lnTo>
                  <a:lnTo>
                    <a:pt x="158" y="41"/>
                  </a:lnTo>
                  <a:lnTo>
                    <a:pt x="171" y="36"/>
                  </a:lnTo>
                  <a:lnTo>
                    <a:pt x="182" y="32"/>
                  </a:lnTo>
                  <a:lnTo>
                    <a:pt x="193" y="25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4" y="3"/>
                  </a:lnTo>
                  <a:lnTo>
                    <a:pt x="197" y="0"/>
                  </a:lnTo>
                  <a:lnTo>
                    <a:pt x="189" y="2"/>
                  </a:lnTo>
                  <a:lnTo>
                    <a:pt x="18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7035120" y="3454560"/>
              <a:ext cx="49680" cy="302040"/>
            </a:xfrm>
            <a:custGeom>
              <a:avLst/>
              <a:gdLst/>
              <a:ahLst/>
              <a:rect l="l" t="t" r="r" b="b"/>
              <a:pathLst>
                <a:path w="97" h="731">
                  <a:moveTo>
                    <a:pt x="87" y="21"/>
                  </a:moveTo>
                  <a:lnTo>
                    <a:pt x="76" y="10"/>
                  </a:lnTo>
                  <a:lnTo>
                    <a:pt x="0" y="731"/>
                  </a:lnTo>
                  <a:lnTo>
                    <a:pt x="21" y="731"/>
                  </a:lnTo>
                  <a:lnTo>
                    <a:pt x="97" y="10"/>
                  </a:lnTo>
                  <a:lnTo>
                    <a:pt x="85" y="0"/>
                  </a:lnTo>
                  <a:lnTo>
                    <a:pt x="97" y="10"/>
                  </a:lnTo>
                  <a:lnTo>
                    <a:pt x="94" y="2"/>
                  </a:lnTo>
                  <a:lnTo>
                    <a:pt x="86" y="0"/>
                  </a:lnTo>
                  <a:lnTo>
                    <a:pt x="79" y="2"/>
                  </a:lnTo>
                  <a:lnTo>
                    <a:pt x="76" y="10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7040160" y="3454560"/>
              <a:ext cx="187920" cy="30960"/>
            </a:xfrm>
            <a:custGeom>
              <a:avLst/>
              <a:gdLst/>
              <a:ahLst/>
              <a:rect l="l" t="t" r="r" b="b"/>
              <a:pathLst>
                <a:path w="371" h="74">
                  <a:moveTo>
                    <a:pt x="21" y="61"/>
                  </a:moveTo>
                  <a:lnTo>
                    <a:pt x="11" y="74"/>
                  </a:lnTo>
                  <a:lnTo>
                    <a:pt x="371" y="21"/>
                  </a:lnTo>
                  <a:lnTo>
                    <a:pt x="369" y="0"/>
                  </a:lnTo>
                  <a:lnTo>
                    <a:pt x="9" y="52"/>
                  </a:lnTo>
                  <a:lnTo>
                    <a:pt x="0" y="64"/>
                  </a:lnTo>
                  <a:lnTo>
                    <a:pt x="9" y="52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3" y="71"/>
                  </a:lnTo>
                  <a:lnTo>
                    <a:pt x="11" y="74"/>
                  </a:lnTo>
                  <a:lnTo>
                    <a:pt x="2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7170480" y="3479400"/>
              <a:ext cx="57600" cy="281160"/>
            </a:xfrm>
            <a:custGeom>
              <a:avLst/>
              <a:gdLst/>
              <a:ahLst/>
              <a:rect l="l" t="t" r="r" b="b"/>
              <a:pathLst>
                <a:path w="115" h="680">
                  <a:moveTo>
                    <a:pt x="109" y="661"/>
                  </a:moveTo>
                  <a:lnTo>
                    <a:pt x="115" y="669"/>
                  </a:lnTo>
                  <a:lnTo>
                    <a:pt x="21" y="0"/>
                  </a:lnTo>
                  <a:lnTo>
                    <a:pt x="0" y="3"/>
                  </a:lnTo>
                  <a:lnTo>
                    <a:pt x="94" y="671"/>
                  </a:lnTo>
                  <a:lnTo>
                    <a:pt x="98" y="678"/>
                  </a:lnTo>
                  <a:lnTo>
                    <a:pt x="94" y="671"/>
                  </a:lnTo>
                  <a:lnTo>
                    <a:pt x="97" y="678"/>
                  </a:lnTo>
                  <a:lnTo>
                    <a:pt x="105" y="680"/>
                  </a:lnTo>
                  <a:lnTo>
                    <a:pt x="113" y="676"/>
                  </a:lnTo>
                  <a:lnTo>
                    <a:pt x="115" y="669"/>
                  </a:lnTo>
                  <a:lnTo>
                    <a:pt x="109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7167960" y="3475080"/>
              <a:ext cx="190080" cy="339480"/>
            </a:xfrm>
            <a:custGeom>
              <a:avLst/>
              <a:gdLst/>
              <a:ahLst/>
              <a:rect l="l" t="t" r="r" b="b"/>
              <a:pathLst>
                <a:path w="379" h="819">
                  <a:moveTo>
                    <a:pt x="0" y="11"/>
                  </a:moveTo>
                  <a:lnTo>
                    <a:pt x="157" y="783"/>
                  </a:lnTo>
                  <a:lnTo>
                    <a:pt x="168" y="790"/>
                  </a:lnTo>
                  <a:lnTo>
                    <a:pt x="178" y="796"/>
                  </a:lnTo>
                  <a:lnTo>
                    <a:pt x="192" y="802"/>
                  </a:lnTo>
                  <a:lnTo>
                    <a:pt x="204" y="806"/>
                  </a:lnTo>
                  <a:lnTo>
                    <a:pt x="218" y="812"/>
                  </a:lnTo>
                  <a:lnTo>
                    <a:pt x="233" y="814"/>
                  </a:lnTo>
                  <a:lnTo>
                    <a:pt x="248" y="816"/>
                  </a:lnTo>
                  <a:lnTo>
                    <a:pt x="264" y="817"/>
                  </a:lnTo>
                  <a:lnTo>
                    <a:pt x="278" y="819"/>
                  </a:lnTo>
                  <a:lnTo>
                    <a:pt x="294" y="819"/>
                  </a:lnTo>
                  <a:lnTo>
                    <a:pt x="309" y="816"/>
                  </a:lnTo>
                  <a:lnTo>
                    <a:pt x="325" y="814"/>
                  </a:lnTo>
                  <a:lnTo>
                    <a:pt x="339" y="811"/>
                  </a:lnTo>
                  <a:lnTo>
                    <a:pt x="353" y="805"/>
                  </a:lnTo>
                  <a:lnTo>
                    <a:pt x="366" y="800"/>
                  </a:lnTo>
                  <a:lnTo>
                    <a:pt x="379" y="793"/>
                  </a:lnTo>
                  <a:lnTo>
                    <a:pt x="36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7275960" y="3479400"/>
              <a:ext cx="87120" cy="325080"/>
            </a:xfrm>
            <a:custGeom>
              <a:avLst/>
              <a:gdLst/>
              <a:ahLst/>
              <a:rect l="l" t="t" r="r" b="b"/>
              <a:pathLst>
                <a:path w="179" h="784">
                  <a:moveTo>
                    <a:pt x="174" y="765"/>
                  </a:moveTo>
                  <a:lnTo>
                    <a:pt x="179" y="772"/>
                  </a:lnTo>
                  <a:lnTo>
                    <a:pt x="21" y="0"/>
                  </a:lnTo>
                  <a:lnTo>
                    <a:pt x="0" y="3"/>
                  </a:lnTo>
                  <a:lnTo>
                    <a:pt x="157" y="774"/>
                  </a:lnTo>
                  <a:lnTo>
                    <a:pt x="163" y="782"/>
                  </a:lnTo>
                  <a:lnTo>
                    <a:pt x="157" y="774"/>
                  </a:lnTo>
                  <a:lnTo>
                    <a:pt x="162" y="782"/>
                  </a:lnTo>
                  <a:lnTo>
                    <a:pt x="169" y="784"/>
                  </a:lnTo>
                  <a:lnTo>
                    <a:pt x="176" y="780"/>
                  </a:lnTo>
                  <a:lnTo>
                    <a:pt x="179" y="772"/>
                  </a:lnTo>
                  <a:lnTo>
                    <a:pt x="174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7162920" y="3796200"/>
              <a:ext cx="120240" cy="22320"/>
            </a:xfrm>
            <a:custGeom>
              <a:avLst/>
              <a:gdLst/>
              <a:ahLst/>
              <a:rect l="l" t="t" r="r" b="b"/>
              <a:pathLst>
                <a:path w="237" h="55">
                  <a:moveTo>
                    <a:pt x="216" y="18"/>
                  </a:moveTo>
                  <a:lnTo>
                    <a:pt x="220" y="9"/>
                  </a:lnTo>
                  <a:lnTo>
                    <a:pt x="209" y="15"/>
                  </a:lnTo>
                  <a:lnTo>
                    <a:pt x="197" y="21"/>
                  </a:lnTo>
                  <a:lnTo>
                    <a:pt x="184" y="25"/>
                  </a:lnTo>
                  <a:lnTo>
                    <a:pt x="172" y="28"/>
                  </a:lnTo>
                  <a:lnTo>
                    <a:pt x="156" y="30"/>
                  </a:lnTo>
                  <a:lnTo>
                    <a:pt x="142" y="33"/>
                  </a:lnTo>
                  <a:lnTo>
                    <a:pt x="126" y="33"/>
                  </a:lnTo>
                  <a:lnTo>
                    <a:pt x="112" y="31"/>
                  </a:lnTo>
                  <a:lnTo>
                    <a:pt x="97" y="30"/>
                  </a:lnTo>
                  <a:lnTo>
                    <a:pt x="82" y="28"/>
                  </a:lnTo>
                  <a:lnTo>
                    <a:pt x="69" y="26"/>
                  </a:lnTo>
                  <a:lnTo>
                    <a:pt x="55" y="21"/>
                  </a:lnTo>
                  <a:lnTo>
                    <a:pt x="43" y="18"/>
                  </a:lnTo>
                  <a:lnTo>
                    <a:pt x="31" y="11"/>
                  </a:lnTo>
                  <a:lnTo>
                    <a:pt x="22" y="6"/>
                  </a:lnTo>
                  <a:lnTo>
                    <a:pt x="11" y="0"/>
                  </a:lnTo>
                  <a:lnTo>
                    <a:pt x="0" y="17"/>
                  </a:lnTo>
                  <a:lnTo>
                    <a:pt x="10" y="25"/>
                  </a:lnTo>
                  <a:lnTo>
                    <a:pt x="22" y="30"/>
                  </a:lnTo>
                  <a:lnTo>
                    <a:pt x="36" y="37"/>
                  </a:lnTo>
                  <a:lnTo>
                    <a:pt x="50" y="42"/>
                  </a:lnTo>
                  <a:lnTo>
                    <a:pt x="64" y="47"/>
                  </a:lnTo>
                  <a:lnTo>
                    <a:pt x="80" y="49"/>
                  </a:lnTo>
                  <a:lnTo>
                    <a:pt x="95" y="51"/>
                  </a:lnTo>
                  <a:lnTo>
                    <a:pt x="112" y="52"/>
                  </a:lnTo>
                  <a:lnTo>
                    <a:pt x="126" y="55"/>
                  </a:lnTo>
                  <a:lnTo>
                    <a:pt x="142" y="55"/>
                  </a:lnTo>
                  <a:lnTo>
                    <a:pt x="158" y="51"/>
                  </a:lnTo>
                  <a:lnTo>
                    <a:pt x="174" y="49"/>
                  </a:lnTo>
                  <a:lnTo>
                    <a:pt x="189" y="46"/>
                  </a:lnTo>
                  <a:lnTo>
                    <a:pt x="205" y="40"/>
                  </a:lnTo>
                  <a:lnTo>
                    <a:pt x="218" y="34"/>
                  </a:lnTo>
                  <a:lnTo>
                    <a:pt x="233" y="26"/>
                  </a:lnTo>
                  <a:lnTo>
                    <a:pt x="237" y="18"/>
                  </a:lnTo>
                  <a:lnTo>
                    <a:pt x="233" y="26"/>
                  </a:lnTo>
                  <a:lnTo>
                    <a:pt x="237" y="19"/>
                  </a:lnTo>
                  <a:lnTo>
                    <a:pt x="235" y="11"/>
                  </a:lnTo>
                  <a:lnTo>
                    <a:pt x="229" y="8"/>
                  </a:lnTo>
                  <a:lnTo>
                    <a:pt x="220" y="9"/>
                  </a:lnTo>
                  <a:lnTo>
                    <a:pt x="2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>
              <a:off x="7162200" y="3471480"/>
              <a:ext cx="19800" cy="333000"/>
            </a:xfrm>
            <a:custGeom>
              <a:avLst/>
              <a:gdLst/>
              <a:ahLst/>
              <a:rect l="l" t="t" r="r" b="b"/>
              <a:pathLst>
                <a:path w="38" h="804">
                  <a:moveTo>
                    <a:pt x="11" y="21"/>
                  </a:moveTo>
                  <a:lnTo>
                    <a:pt x="0" y="11"/>
                  </a:lnTo>
                  <a:lnTo>
                    <a:pt x="17" y="804"/>
                  </a:lnTo>
                  <a:lnTo>
                    <a:pt x="38" y="804"/>
                  </a:lnTo>
                  <a:lnTo>
                    <a:pt x="21" y="11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7178040" y="3471480"/>
              <a:ext cx="185040" cy="14040"/>
            </a:xfrm>
            <a:custGeom>
              <a:avLst/>
              <a:gdLst/>
              <a:ahLst/>
              <a:rect l="l" t="t" r="r" b="b"/>
              <a:pathLst>
                <a:path w="373" h="34">
                  <a:moveTo>
                    <a:pt x="21" y="21"/>
                  </a:moveTo>
                  <a:lnTo>
                    <a:pt x="11" y="34"/>
                  </a:lnTo>
                  <a:lnTo>
                    <a:pt x="373" y="21"/>
                  </a:lnTo>
                  <a:lnTo>
                    <a:pt x="373" y="0"/>
                  </a:lnTo>
                  <a:lnTo>
                    <a:pt x="11" y="12"/>
                  </a:lnTo>
                  <a:lnTo>
                    <a:pt x="0" y="24"/>
                  </a:lnTo>
                  <a:lnTo>
                    <a:pt x="11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11" y="34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6917400" y="2889720"/>
              <a:ext cx="513360" cy="610200"/>
            </a:xfrm>
            <a:custGeom>
              <a:avLst/>
              <a:gdLst/>
              <a:ahLst/>
              <a:rect l="l" t="t" r="r" b="b"/>
              <a:pathLst>
                <a:path w="1022" h="1476">
                  <a:moveTo>
                    <a:pt x="154" y="0"/>
                  </a:moveTo>
                  <a:lnTo>
                    <a:pt x="185" y="12"/>
                  </a:lnTo>
                  <a:lnTo>
                    <a:pt x="218" y="24"/>
                  </a:lnTo>
                  <a:lnTo>
                    <a:pt x="252" y="33"/>
                  </a:lnTo>
                  <a:lnTo>
                    <a:pt x="289" y="41"/>
                  </a:lnTo>
                  <a:lnTo>
                    <a:pt x="327" y="46"/>
                  </a:lnTo>
                  <a:lnTo>
                    <a:pt x="367" y="50"/>
                  </a:lnTo>
                  <a:lnTo>
                    <a:pt x="407" y="51"/>
                  </a:lnTo>
                  <a:lnTo>
                    <a:pt x="448" y="52"/>
                  </a:lnTo>
                  <a:lnTo>
                    <a:pt x="488" y="50"/>
                  </a:lnTo>
                  <a:lnTo>
                    <a:pt x="529" y="47"/>
                  </a:lnTo>
                  <a:lnTo>
                    <a:pt x="569" y="43"/>
                  </a:lnTo>
                  <a:lnTo>
                    <a:pt x="608" y="37"/>
                  </a:lnTo>
                  <a:lnTo>
                    <a:pt x="646" y="30"/>
                  </a:lnTo>
                  <a:lnTo>
                    <a:pt x="683" y="21"/>
                  </a:lnTo>
                  <a:lnTo>
                    <a:pt x="717" y="11"/>
                  </a:lnTo>
                  <a:lnTo>
                    <a:pt x="751" y="0"/>
                  </a:lnTo>
                  <a:lnTo>
                    <a:pt x="754" y="14"/>
                  </a:lnTo>
                  <a:lnTo>
                    <a:pt x="763" y="60"/>
                  </a:lnTo>
                  <a:lnTo>
                    <a:pt x="775" y="128"/>
                  </a:lnTo>
                  <a:lnTo>
                    <a:pt x="793" y="218"/>
                  </a:lnTo>
                  <a:lnTo>
                    <a:pt x="814" y="325"/>
                  </a:lnTo>
                  <a:lnTo>
                    <a:pt x="836" y="443"/>
                  </a:lnTo>
                  <a:lnTo>
                    <a:pt x="862" y="570"/>
                  </a:lnTo>
                  <a:lnTo>
                    <a:pt x="887" y="700"/>
                  </a:lnTo>
                  <a:lnTo>
                    <a:pt x="911" y="831"/>
                  </a:lnTo>
                  <a:lnTo>
                    <a:pt x="937" y="958"/>
                  </a:lnTo>
                  <a:lnTo>
                    <a:pt x="959" y="1077"/>
                  </a:lnTo>
                  <a:lnTo>
                    <a:pt x="980" y="1182"/>
                  </a:lnTo>
                  <a:lnTo>
                    <a:pt x="998" y="1272"/>
                  </a:lnTo>
                  <a:lnTo>
                    <a:pt x="1011" y="1342"/>
                  </a:lnTo>
                  <a:lnTo>
                    <a:pt x="1019" y="1386"/>
                  </a:lnTo>
                  <a:lnTo>
                    <a:pt x="1022" y="1402"/>
                  </a:lnTo>
                  <a:lnTo>
                    <a:pt x="997" y="1409"/>
                  </a:lnTo>
                  <a:lnTo>
                    <a:pt x="968" y="1416"/>
                  </a:lnTo>
                  <a:lnTo>
                    <a:pt x="940" y="1423"/>
                  </a:lnTo>
                  <a:lnTo>
                    <a:pt x="910" y="1429"/>
                  </a:lnTo>
                  <a:lnTo>
                    <a:pt x="880" y="1436"/>
                  </a:lnTo>
                  <a:lnTo>
                    <a:pt x="848" y="1442"/>
                  </a:lnTo>
                  <a:lnTo>
                    <a:pt x="815" y="1447"/>
                  </a:lnTo>
                  <a:lnTo>
                    <a:pt x="783" y="1453"/>
                  </a:lnTo>
                  <a:lnTo>
                    <a:pt x="748" y="1457"/>
                  </a:lnTo>
                  <a:lnTo>
                    <a:pt x="714" y="1462"/>
                  </a:lnTo>
                  <a:lnTo>
                    <a:pt x="680" y="1465"/>
                  </a:lnTo>
                  <a:lnTo>
                    <a:pt x="644" y="1469"/>
                  </a:lnTo>
                  <a:lnTo>
                    <a:pt x="609" y="1472"/>
                  </a:lnTo>
                  <a:lnTo>
                    <a:pt x="572" y="1474"/>
                  </a:lnTo>
                  <a:lnTo>
                    <a:pt x="538" y="1475"/>
                  </a:lnTo>
                  <a:lnTo>
                    <a:pt x="501" y="1476"/>
                  </a:lnTo>
                  <a:lnTo>
                    <a:pt x="466" y="1476"/>
                  </a:lnTo>
                  <a:lnTo>
                    <a:pt x="430" y="1476"/>
                  </a:lnTo>
                  <a:lnTo>
                    <a:pt x="395" y="1475"/>
                  </a:lnTo>
                  <a:lnTo>
                    <a:pt x="359" y="1473"/>
                  </a:lnTo>
                  <a:lnTo>
                    <a:pt x="325" y="1470"/>
                  </a:lnTo>
                  <a:lnTo>
                    <a:pt x="292" y="1466"/>
                  </a:lnTo>
                  <a:lnTo>
                    <a:pt x="258" y="1462"/>
                  </a:lnTo>
                  <a:lnTo>
                    <a:pt x="225" y="1456"/>
                  </a:lnTo>
                  <a:lnTo>
                    <a:pt x="193" y="1450"/>
                  </a:lnTo>
                  <a:lnTo>
                    <a:pt x="163" y="1443"/>
                  </a:lnTo>
                  <a:lnTo>
                    <a:pt x="132" y="1435"/>
                  </a:lnTo>
                  <a:lnTo>
                    <a:pt x="104" y="1425"/>
                  </a:lnTo>
                  <a:lnTo>
                    <a:pt x="75" y="1415"/>
                  </a:lnTo>
                  <a:lnTo>
                    <a:pt x="49" y="1403"/>
                  </a:lnTo>
                  <a:lnTo>
                    <a:pt x="23" y="1390"/>
                  </a:lnTo>
                  <a:lnTo>
                    <a:pt x="0" y="137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12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7047720" y="2886120"/>
              <a:ext cx="308160" cy="30960"/>
            </a:xfrm>
            <a:custGeom>
              <a:avLst/>
              <a:gdLst/>
              <a:ahLst/>
              <a:rect l="l" t="t" r="r" b="b"/>
              <a:pathLst>
                <a:path w="611" h="73">
                  <a:moveTo>
                    <a:pt x="611" y="7"/>
                  </a:moveTo>
                  <a:lnTo>
                    <a:pt x="597" y="0"/>
                  </a:lnTo>
                  <a:lnTo>
                    <a:pt x="565" y="11"/>
                  </a:lnTo>
                  <a:lnTo>
                    <a:pt x="531" y="20"/>
                  </a:lnTo>
                  <a:lnTo>
                    <a:pt x="494" y="30"/>
                  </a:lnTo>
                  <a:lnTo>
                    <a:pt x="456" y="36"/>
                  </a:lnTo>
                  <a:lnTo>
                    <a:pt x="418" y="42"/>
                  </a:lnTo>
                  <a:lnTo>
                    <a:pt x="379" y="47"/>
                  </a:lnTo>
                  <a:lnTo>
                    <a:pt x="338" y="50"/>
                  </a:lnTo>
                  <a:lnTo>
                    <a:pt x="298" y="52"/>
                  </a:lnTo>
                  <a:lnTo>
                    <a:pt x="257" y="51"/>
                  </a:lnTo>
                  <a:lnTo>
                    <a:pt x="217" y="50"/>
                  </a:lnTo>
                  <a:lnTo>
                    <a:pt x="179" y="45"/>
                  </a:lnTo>
                  <a:lnTo>
                    <a:pt x="142" y="40"/>
                  </a:lnTo>
                  <a:lnTo>
                    <a:pt x="105" y="33"/>
                  </a:lnTo>
                  <a:lnTo>
                    <a:pt x="71" y="23"/>
                  </a:lnTo>
                  <a:lnTo>
                    <a:pt x="39" y="13"/>
                  </a:lnTo>
                  <a:lnTo>
                    <a:pt x="10" y="0"/>
                  </a:lnTo>
                  <a:lnTo>
                    <a:pt x="0" y="18"/>
                  </a:lnTo>
                  <a:lnTo>
                    <a:pt x="32" y="32"/>
                  </a:lnTo>
                  <a:lnTo>
                    <a:pt x="66" y="44"/>
                  </a:lnTo>
                  <a:lnTo>
                    <a:pt x="99" y="54"/>
                  </a:lnTo>
                  <a:lnTo>
                    <a:pt x="138" y="61"/>
                  </a:lnTo>
                  <a:lnTo>
                    <a:pt x="176" y="67"/>
                  </a:lnTo>
                  <a:lnTo>
                    <a:pt x="217" y="71"/>
                  </a:lnTo>
                  <a:lnTo>
                    <a:pt x="257" y="72"/>
                  </a:lnTo>
                  <a:lnTo>
                    <a:pt x="298" y="73"/>
                  </a:lnTo>
                  <a:lnTo>
                    <a:pt x="338" y="71"/>
                  </a:lnTo>
                  <a:lnTo>
                    <a:pt x="379" y="68"/>
                  </a:lnTo>
                  <a:lnTo>
                    <a:pt x="420" y="63"/>
                  </a:lnTo>
                  <a:lnTo>
                    <a:pt x="459" y="57"/>
                  </a:lnTo>
                  <a:lnTo>
                    <a:pt x="500" y="51"/>
                  </a:lnTo>
                  <a:lnTo>
                    <a:pt x="535" y="41"/>
                  </a:lnTo>
                  <a:lnTo>
                    <a:pt x="570" y="32"/>
                  </a:lnTo>
                  <a:lnTo>
                    <a:pt x="604" y="18"/>
                  </a:lnTo>
                  <a:lnTo>
                    <a:pt x="590" y="11"/>
                  </a:lnTo>
                  <a:lnTo>
                    <a:pt x="604" y="18"/>
                  </a:lnTo>
                  <a:lnTo>
                    <a:pt x="610" y="13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6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6912360" y="2887920"/>
              <a:ext cx="147600" cy="585360"/>
            </a:xfrm>
            <a:custGeom>
              <a:avLst/>
              <a:gdLst/>
              <a:ahLst/>
              <a:rect l="l" t="t" r="r" b="b"/>
              <a:pathLst>
                <a:path w="293" h="1415">
                  <a:moveTo>
                    <a:pt x="284" y="1415"/>
                  </a:moveTo>
                  <a:lnTo>
                    <a:pt x="293" y="1404"/>
                  </a:lnTo>
                  <a:lnTo>
                    <a:pt x="290" y="1388"/>
                  </a:lnTo>
                  <a:lnTo>
                    <a:pt x="281" y="1344"/>
                  </a:lnTo>
                  <a:lnTo>
                    <a:pt x="269" y="1274"/>
                  </a:lnTo>
                  <a:lnTo>
                    <a:pt x="251" y="1184"/>
                  </a:lnTo>
                  <a:lnTo>
                    <a:pt x="230" y="1078"/>
                  </a:lnTo>
                  <a:lnTo>
                    <a:pt x="207" y="960"/>
                  </a:lnTo>
                  <a:lnTo>
                    <a:pt x="182" y="833"/>
                  </a:lnTo>
                  <a:lnTo>
                    <a:pt x="158" y="702"/>
                  </a:lnTo>
                  <a:lnTo>
                    <a:pt x="131" y="572"/>
                  </a:lnTo>
                  <a:lnTo>
                    <a:pt x="107" y="444"/>
                  </a:lnTo>
                  <a:lnTo>
                    <a:pt x="85" y="327"/>
                  </a:lnTo>
                  <a:lnTo>
                    <a:pt x="64" y="220"/>
                  </a:lnTo>
                  <a:lnTo>
                    <a:pt x="46" y="130"/>
                  </a:lnTo>
                  <a:lnTo>
                    <a:pt x="33" y="61"/>
                  </a:lnTo>
                  <a:lnTo>
                    <a:pt x="25" y="16"/>
                  </a:lnTo>
                  <a:lnTo>
                    <a:pt x="21" y="0"/>
                  </a:lnTo>
                  <a:lnTo>
                    <a:pt x="0" y="4"/>
                  </a:lnTo>
                  <a:lnTo>
                    <a:pt x="4" y="18"/>
                  </a:lnTo>
                  <a:lnTo>
                    <a:pt x="12" y="64"/>
                  </a:lnTo>
                  <a:lnTo>
                    <a:pt x="25" y="132"/>
                  </a:lnTo>
                  <a:lnTo>
                    <a:pt x="43" y="222"/>
                  </a:lnTo>
                  <a:lnTo>
                    <a:pt x="64" y="329"/>
                  </a:lnTo>
                  <a:lnTo>
                    <a:pt x="86" y="447"/>
                  </a:lnTo>
                  <a:lnTo>
                    <a:pt x="110" y="574"/>
                  </a:lnTo>
                  <a:lnTo>
                    <a:pt x="137" y="704"/>
                  </a:lnTo>
                  <a:lnTo>
                    <a:pt x="161" y="835"/>
                  </a:lnTo>
                  <a:lnTo>
                    <a:pt x="186" y="962"/>
                  </a:lnTo>
                  <a:lnTo>
                    <a:pt x="208" y="1081"/>
                  </a:lnTo>
                  <a:lnTo>
                    <a:pt x="230" y="1186"/>
                  </a:lnTo>
                  <a:lnTo>
                    <a:pt x="247" y="1276"/>
                  </a:lnTo>
                  <a:lnTo>
                    <a:pt x="260" y="1346"/>
                  </a:lnTo>
                  <a:lnTo>
                    <a:pt x="269" y="1390"/>
                  </a:lnTo>
                  <a:lnTo>
                    <a:pt x="272" y="1406"/>
                  </a:lnTo>
                  <a:lnTo>
                    <a:pt x="280" y="1394"/>
                  </a:lnTo>
                  <a:lnTo>
                    <a:pt x="272" y="1406"/>
                  </a:lnTo>
                  <a:lnTo>
                    <a:pt x="276" y="1413"/>
                  </a:lnTo>
                  <a:lnTo>
                    <a:pt x="283" y="1415"/>
                  </a:lnTo>
                  <a:lnTo>
                    <a:pt x="291" y="1412"/>
                  </a:lnTo>
                  <a:lnTo>
                    <a:pt x="293" y="1404"/>
                  </a:lnTo>
                  <a:lnTo>
                    <a:pt x="284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6917400" y="3454560"/>
              <a:ext cx="518400" cy="49680"/>
            </a:xfrm>
            <a:custGeom>
              <a:avLst/>
              <a:gdLst/>
              <a:ahLst/>
              <a:rect l="l" t="t" r="r" b="b"/>
              <a:pathLst>
                <a:path w="1034" h="121">
                  <a:moveTo>
                    <a:pt x="0" y="9"/>
                  </a:moveTo>
                  <a:lnTo>
                    <a:pt x="4" y="20"/>
                  </a:lnTo>
                  <a:lnTo>
                    <a:pt x="29" y="35"/>
                  </a:lnTo>
                  <a:lnTo>
                    <a:pt x="53" y="47"/>
                  </a:lnTo>
                  <a:lnTo>
                    <a:pt x="82" y="59"/>
                  </a:lnTo>
                  <a:lnTo>
                    <a:pt x="110" y="70"/>
                  </a:lnTo>
                  <a:lnTo>
                    <a:pt x="140" y="80"/>
                  </a:lnTo>
                  <a:lnTo>
                    <a:pt x="171" y="89"/>
                  </a:lnTo>
                  <a:lnTo>
                    <a:pt x="202" y="96"/>
                  </a:lnTo>
                  <a:lnTo>
                    <a:pt x="234" y="101"/>
                  </a:lnTo>
                  <a:lnTo>
                    <a:pt x="267" y="108"/>
                  </a:lnTo>
                  <a:lnTo>
                    <a:pt x="299" y="112"/>
                  </a:lnTo>
                  <a:lnTo>
                    <a:pt x="335" y="116"/>
                  </a:lnTo>
                  <a:lnTo>
                    <a:pt x="369" y="118"/>
                  </a:lnTo>
                  <a:lnTo>
                    <a:pt x="405" y="120"/>
                  </a:lnTo>
                  <a:lnTo>
                    <a:pt x="440" y="121"/>
                  </a:lnTo>
                  <a:lnTo>
                    <a:pt x="476" y="121"/>
                  </a:lnTo>
                  <a:lnTo>
                    <a:pt x="511" y="121"/>
                  </a:lnTo>
                  <a:lnTo>
                    <a:pt x="548" y="120"/>
                  </a:lnTo>
                  <a:lnTo>
                    <a:pt x="582" y="119"/>
                  </a:lnTo>
                  <a:lnTo>
                    <a:pt x="619" y="117"/>
                  </a:lnTo>
                  <a:lnTo>
                    <a:pt x="654" y="115"/>
                  </a:lnTo>
                  <a:lnTo>
                    <a:pt x="690" y="111"/>
                  </a:lnTo>
                  <a:lnTo>
                    <a:pt x="725" y="108"/>
                  </a:lnTo>
                  <a:lnTo>
                    <a:pt x="760" y="102"/>
                  </a:lnTo>
                  <a:lnTo>
                    <a:pt x="794" y="98"/>
                  </a:lnTo>
                  <a:lnTo>
                    <a:pt x="826" y="94"/>
                  </a:lnTo>
                  <a:lnTo>
                    <a:pt x="859" y="88"/>
                  </a:lnTo>
                  <a:lnTo>
                    <a:pt x="891" y="81"/>
                  </a:lnTo>
                  <a:lnTo>
                    <a:pt x="924" y="75"/>
                  </a:lnTo>
                  <a:lnTo>
                    <a:pt x="952" y="69"/>
                  </a:lnTo>
                  <a:lnTo>
                    <a:pt x="981" y="61"/>
                  </a:lnTo>
                  <a:lnTo>
                    <a:pt x="1009" y="55"/>
                  </a:lnTo>
                  <a:lnTo>
                    <a:pt x="1034" y="47"/>
                  </a:lnTo>
                  <a:lnTo>
                    <a:pt x="1030" y="26"/>
                  </a:lnTo>
                  <a:lnTo>
                    <a:pt x="1005" y="34"/>
                  </a:lnTo>
                  <a:lnTo>
                    <a:pt x="976" y="40"/>
                  </a:lnTo>
                  <a:lnTo>
                    <a:pt x="948" y="47"/>
                  </a:lnTo>
                  <a:lnTo>
                    <a:pt x="918" y="54"/>
                  </a:lnTo>
                  <a:lnTo>
                    <a:pt x="889" y="60"/>
                  </a:lnTo>
                  <a:lnTo>
                    <a:pt x="857" y="66"/>
                  </a:lnTo>
                  <a:lnTo>
                    <a:pt x="824" y="72"/>
                  </a:lnTo>
                  <a:lnTo>
                    <a:pt x="792" y="77"/>
                  </a:lnTo>
                  <a:lnTo>
                    <a:pt x="757" y="81"/>
                  </a:lnTo>
                  <a:lnTo>
                    <a:pt x="723" y="86"/>
                  </a:lnTo>
                  <a:lnTo>
                    <a:pt x="690" y="90"/>
                  </a:lnTo>
                  <a:lnTo>
                    <a:pt x="654" y="94"/>
                  </a:lnTo>
                  <a:lnTo>
                    <a:pt x="619" y="96"/>
                  </a:lnTo>
                  <a:lnTo>
                    <a:pt x="582" y="98"/>
                  </a:lnTo>
                  <a:lnTo>
                    <a:pt x="548" y="99"/>
                  </a:lnTo>
                  <a:lnTo>
                    <a:pt x="511" y="100"/>
                  </a:lnTo>
                  <a:lnTo>
                    <a:pt x="476" y="100"/>
                  </a:lnTo>
                  <a:lnTo>
                    <a:pt x="440" y="100"/>
                  </a:lnTo>
                  <a:lnTo>
                    <a:pt x="405" y="99"/>
                  </a:lnTo>
                  <a:lnTo>
                    <a:pt x="369" y="97"/>
                  </a:lnTo>
                  <a:lnTo>
                    <a:pt x="335" y="95"/>
                  </a:lnTo>
                  <a:lnTo>
                    <a:pt x="303" y="91"/>
                  </a:lnTo>
                  <a:lnTo>
                    <a:pt x="269" y="86"/>
                  </a:lnTo>
                  <a:lnTo>
                    <a:pt x="236" y="80"/>
                  </a:lnTo>
                  <a:lnTo>
                    <a:pt x="204" y="75"/>
                  </a:lnTo>
                  <a:lnTo>
                    <a:pt x="175" y="67"/>
                  </a:lnTo>
                  <a:lnTo>
                    <a:pt x="144" y="59"/>
                  </a:lnTo>
                  <a:lnTo>
                    <a:pt x="118" y="51"/>
                  </a:lnTo>
                  <a:lnTo>
                    <a:pt x="89" y="40"/>
                  </a:lnTo>
                  <a:lnTo>
                    <a:pt x="63" y="28"/>
                  </a:lnTo>
                  <a:lnTo>
                    <a:pt x="39" y="16"/>
                  </a:lnTo>
                  <a:lnTo>
                    <a:pt x="16" y="1"/>
                  </a:lnTo>
                  <a:lnTo>
                    <a:pt x="21" y="12"/>
                  </a:lnTo>
                  <a:lnTo>
                    <a:pt x="16" y="1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14"/>
                  </a:lnTo>
                  <a:lnTo>
                    <a:pt x="4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7347960" y="2886120"/>
              <a:ext cx="87840" cy="572760"/>
            </a:xfrm>
            <a:custGeom>
              <a:avLst/>
              <a:gdLst/>
              <a:ahLst/>
              <a:rect l="l" t="t" r="r" b="b"/>
              <a:pathLst>
                <a:path w="175" h="1389">
                  <a:moveTo>
                    <a:pt x="170" y="2"/>
                  </a:moveTo>
                  <a:lnTo>
                    <a:pt x="154" y="9"/>
                  </a:lnTo>
                  <a:lnTo>
                    <a:pt x="0" y="1386"/>
                  </a:lnTo>
                  <a:lnTo>
                    <a:pt x="21" y="1389"/>
                  </a:lnTo>
                  <a:lnTo>
                    <a:pt x="175" y="13"/>
                  </a:lnTo>
                  <a:lnTo>
                    <a:pt x="160" y="20"/>
                  </a:lnTo>
                  <a:lnTo>
                    <a:pt x="175" y="13"/>
                  </a:lnTo>
                  <a:lnTo>
                    <a:pt x="173" y="4"/>
                  </a:lnTo>
                  <a:lnTo>
                    <a:pt x="165" y="0"/>
                  </a:lnTo>
                  <a:lnTo>
                    <a:pt x="157" y="3"/>
                  </a:lnTo>
                  <a:lnTo>
                    <a:pt x="154" y="9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6796800" y="2455200"/>
              <a:ext cx="360360" cy="1239120"/>
            </a:xfrm>
            <a:custGeom>
              <a:avLst/>
              <a:gdLst/>
              <a:ahLst/>
              <a:rect l="l" t="t" r="r" b="b"/>
              <a:pathLst>
                <a:path w="720" h="2994">
                  <a:moveTo>
                    <a:pt x="0" y="74"/>
                  </a:moveTo>
                  <a:lnTo>
                    <a:pt x="6" y="220"/>
                  </a:lnTo>
                  <a:lnTo>
                    <a:pt x="14" y="365"/>
                  </a:lnTo>
                  <a:lnTo>
                    <a:pt x="19" y="511"/>
                  </a:lnTo>
                  <a:lnTo>
                    <a:pt x="26" y="658"/>
                  </a:lnTo>
                  <a:lnTo>
                    <a:pt x="32" y="804"/>
                  </a:lnTo>
                  <a:lnTo>
                    <a:pt x="38" y="949"/>
                  </a:lnTo>
                  <a:lnTo>
                    <a:pt x="45" y="1095"/>
                  </a:lnTo>
                  <a:lnTo>
                    <a:pt x="51" y="1242"/>
                  </a:lnTo>
                  <a:lnTo>
                    <a:pt x="57" y="1560"/>
                  </a:lnTo>
                  <a:lnTo>
                    <a:pt x="56" y="2118"/>
                  </a:lnTo>
                  <a:lnTo>
                    <a:pt x="54" y="2666"/>
                  </a:lnTo>
                  <a:lnTo>
                    <a:pt x="51" y="2957"/>
                  </a:lnTo>
                  <a:lnTo>
                    <a:pt x="56" y="2976"/>
                  </a:lnTo>
                  <a:lnTo>
                    <a:pt x="67" y="2986"/>
                  </a:lnTo>
                  <a:lnTo>
                    <a:pt x="88" y="2993"/>
                  </a:lnTo>
                  <a:lnTo>
                    <a:pt x="113" y="2994"/>
                  </a:lnTo>
                  <a:lnTo>
                    <a:pt x="144" y="2988"/>
                  </a:lnTo>
                  <a:lnTo>
                    <a:pt x="179" y="2980"/>
                  </a:lnTo>
                  <a:lnTo>
                    <a:pt x="218" y="2968"/>
                  </a:lnTo>
                  <a:lnTo>
                    <a:pt x="259" y="2953"/>
                  </a:lnTo>
                  <a:lnTo>
                    <a:pt x="300" y="2937"/>
                  </a:lnTo>
                  <a:lnTo>
                    <a:pt x="342" y="2919"/>
                  </a:lnTo>
                  <a:lnTo>
                    <a:pt x="383" y="2899"/>
                  </a:lnTo>
                  <a:lnTo>
                    <a:pt x="423" y="2881"/>
                  </a:lnTo>
                  <a:lnTo>
                    <a:pt x="459" y="2862"/>
                  </a:lnTo>
                  <a:lnTo>
                    <a:pt x="493" y="2844"/>
                  </a:lnTo>
                  <a:lnTo>
                    <a:pt x="521" y="2828"/>
                  </a:lnTo>
                  <a:lnTo>
                    <a:pt x="544" y="2814"/>
                  </a:lnTo>
                  <a:lnTo>
                    <a:pt x="544" y="2753"/>
                  </a:lnTo>
                  <a:lnTo>
                    <a:pt x="542" y="2663"/>
                  </a:lnTo>
                  <a:lnTo>
                    <a:pt x="540" y="2554"/>
                  </a:lnTo>
                  <a:lnTo>
                    <a:pt x="536" y="2435"/>
                  </a:lnTo>
                  <a:lnTo>
                    <a:pt x="530" y="2315"/>
                  </a:lnTo>
                  <a:lnTo>
                    <a:pt x="525" y="2206"/>
                  </a:lnTo>
                  <a:lnTo>
                    <a:pt x="515" y="2112"/>
                  </a:lnTo>
                  <a:lnTo>
                    <a:pt x="505" y="2047"/>
                  </a:lnTo>
                  <a:lnTo>
                    <a:pt x="487" y="1963"/>
                  </a:lnTo>
                  <a:lnTo>
                    <a:pt x="473" y="1872"/>
                  </a:lnTo>
                  <a:lnTo>
                    <a:pt x="460" y="1777"/>
                  </a:lnTo>
                  <a:lnTo>
                    <a:pt x="450" y="1679"/>
                  </a:lnTo>
                  <a:lnTo>
                    <a:pt x="439" y="1582"/>
                  </a:lnTo>
                  <a:lnTo>
                    <a:pt x="428" y="1486"/>
                  </a:lnTo>
                  <a:lnTo>
                    <a:pt x="414" y="1395"/>
                  </a:lnTo>
                  <a:lnTo>
                    <a:pt x="396" y="1311"/>
                  </a:lnTo>
                  <a:lnTo>
                    <a:pt x="419" y="1307"/>
                  </a:lnTo>
                  <a:lnTo>
                    <a:pt x="444" y="1304"/>
                  </a:lnTo>
                  <a:lnTo>
                    <a:pt x="468" y="1301"/>
                  </a:lnTo>
                  <a:lnTo>
                    <a:pt x="491" y="1297"/>
                  </a:lnTo>
                  <a:lnTo>
                    <a:pt x="514" y="1295"/>
                  </a:lnTo>
                  <a:lnTo>
                    <a:pt x="536" y="1292"/>
                  </a:lnTo>
                  <a:lnTo>
                    <a:pt x="559" y="1288"/>
                  </a:lnTo>
                  <a:lnTo>
                    <a:pt x="580" y="1286"/>
                  </a:lnTo>
                  <a:lnTo>
                    <a:pt x="601" y="1283"/>
                  </a:lnTo>
                  <a:lnTo>
                    <a:pt x="620" y="1281"/>
                  </a:lnTo>
                  <a:lnTo>
                    <a:pt x="639" y="1277"/>
                  </a:lnTo>
                  <a:lnTo>
                    <a:pt x="657" y="1273"/>
                  </a:lnTo>
                  <a:lnTo>
                    <a:pt x="672" y="1270"/>
                  </a:lnTo>
                  <a:lnTo>
                    <a:pt x="687" y="1265"/>
                  </a:lnTo>
                  <a:lnTo>
                    <a:pt x="700" y="1261"/>
                  </a:lnTo>
                  <a:lnTo>
                    <a:pt x="712" y="1256"/>
                  </a:lnTo>
                  <a:lnTo>
                    <a:pt x="720" y="1237"/>
                  </a:lnTo>
                  <a:lnTo>
                    <a:pt x="715" y="1195"/>
                  </a:lnTo>
                  <a:lnTo>
                    <a:pt x="701" y="1139"/>
                  </a:lnTo>
                  <a:lnTo>
                    <a:pt x="680" y="1072"/>
                  </a:lnTo>
                  <a:lnTo>
                    <a:pt x="656" y="1002"/>
                  </a:lnTo>
                  <a:lnTo>
                    <a:pt x="631" y="935"/>
                  </a:lnTo>
                  <a:lnTo>
                    <a:pt x="610" y="880"/>
                  </a:lnTo>
                  <a:lnTo>
                    <a:pt x="595" y="839"/>
                  </a:lnTo>
                  <a:lnTo>
                    <a:pt x="572" y="778"/>
                  </a:lnTo>
                  <a:lnTo>
                    <a:pt x="550" y="719"/>
                  </a:lnTo>
                  <a:lnTo>
                    <a:pt x="529" y="664"/>
                  </a:lnTo>
                  <a:lnTo>
                    <a:pt x="508" y="611"/>
                  </a:lnTo>
                  <a:lnTo>
                    <a:pt x="486" y="562"/>
                  </a:lnTo>
                  <a:lnTo>
                    <a:pt x="465" y="513"/>
                  </a:lnTo>
                  <a:lnTo>
                    <a:pt x="442" y="467"/>
                  </a:lnTo>
                  <a:lnTo>
                    <a:pt x="419" y="421"/>
                  </a:lnTo>
                  <a:lnTo>
                    <a:pt x="395" y="377"/>
                  </a:lnTo>
                  <a:lnTo>
                    <a:pt x="368" y="334"/>
                  </a:lnTo>
                  <a:lnTo>
                    <a:pt x="341" y="289"/>
                  </a:lnTo>
                  <a:lnTo>
                    <a:pt x="311" y="245"/>
                  </a:lnTo>
                  <a:lnTo>
                    <a:pt x="280" y="201"/>
                  </a:lnTo>
                  <a:lnTo>
                    <a:pt x="244" y="155"/>
                  </a:lnTo>
                  <a:lnTo>
                    <a:pt x="207" y="108"/>
                  </a:lnTo>
                  <a:lnTo>
                    <a:pt x="165" y="59"/>
                  </a:lnTo>
                  <a:lnTo>
                    <a:pt x="156" y="50"/>
                  </a:lnTo>
                  <a:lnTo>
                    <a:pt x="144" y="40"/>
                  </a:lnTo>
                  <a:lnTo>
                    <a:pt x="131" y="34"/>
                  </a:lnTo>
                  <a:lnTo>
                    <a:pt x="118" y="26"/>
                  </a:lnTo>
                  <a:lnTo>
                    <a:pt x="103" y="19"/>
                  </a:lnTo>
                  <a:lnTo>
                    <a:pt x="90" y="14"/>
                  </a:lnTo>
                  <a:lnTo>
                    <a:pt x="76" y="6"/>
                  </a:lnTo>
                  <a:lnTo>
                    <a:pt x="61" y="0"/>
                  </a:lnTo>
                  <a:lnTo>
                    <a:pt x="51" y="5"/>
                  </a:lnTo>
                  <a:lnTo>
                    <a:pt x="40" y="13"/>
                  </a:lnTo>
                  <a:lnTo>
                    <a:pt x="29" y="20"/>
                  </a:lnTo>
                  <a:lnTo>
                    <a:pt x="21" y="30"/>
                  </a:lnTo>
                  <a:lnTo>
                    <a:pt x="15" y="39"/>
                  </a:lnTo>
                  <a:lnTo>
                    <a:pt x="8" y="50"/>
                  </a:lnTo>
                  <a:lnTo>
                    <a:pt x="4" y="6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7127280" y="2486880"/>
              <a:ext cx="34920" cy="483480"/>
            </a:xfrm>
            <a:custGeom>
              <a:avLst/>
              <a:gdLst/>
              <a:ahLst/>
              <a:rect l="l" t="t" r="r" b="b"/>
              <a:pathLst>
                <a:path w="72" h="1168">
                  <a:moveTo>
                    <a:pt x="72" y="1168"/>
                  </a:moveTo>
                  <a:lnTo>
                    <a:pt x="72" y="1168"/>
                  </a:lnTo>
                  <a:lnTo>
                    <a:pt x="67" y="1021"/>
                  </a:lnTo>
                  <a:lnTo>
                    <a:pt x="59" y="875"/>
                  </a:lnTo>
                  <a:lnTo>
                    <a:pt x="53" y="730"/>
                  </a:lnTo>
                  <a:lnTo>
                    <a:pt x="48" y="584"/>
                  </a:lnTo>
                  <a:lnTo>
                    <a:pt x="40" y="437"/>
                  </a:lnTo>
                  <a:lnTo>
                    <a:pt x="35" y="291"/>
                  </a:lnTo>
                  <a:lnTo>
                    <a:pt x="28" y="14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7" y="146"/>
                  </a:lnTo>
                  <a:lnTo>
                    <a:pt x="14" y="291"/>
                  </a:lnTo>
                  <a:lnTo>
                    <a:pt x="19" y="437"/>
                  </a:lnTo>
                  <a:lnTo>
                    <a:pt x="27" y="584"/>
                  </a:lnTo>
                  <a:lnTo>
                    <a:pt x="32" y="730"/>
                  </a:lnTo>
                  <a:lnTo>
                    <a:pt x="38" y="875"/>
                  </a:lnTo>
                  <a:lnTo>
                    <a:pt x="46" y="1021"/>
                  </a:lnTo>
                  <a:lnTo>
                    <a:pt x="51" y="1168"/>
                  </a:lnTo>
                  <a:lnTo>
                    <a:pt x="51" y="1168"/>
                  </a:lnTo>
                  <a:lnTo>
                    <a:pt x="72" y="1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7125480" y="2970360"/>
              <a:ext cx="12240" cy="713880"/>
            </a:xfrm>
            <a:custGeom>
              <a:avLst/>
              <a:gdLst/>
              <a:ahLst/>
              <a:rect l="l" t="t" r="r" b="b"/>
              <a:pathLst>
                <a:path w="27" h="1725">
                  <a:moveTo>
                    <a:pt x="21" y="1715"/>
                  </a:moveTo>
                  <a:lnTo>
                    <a:pt x="21" y="1715"/>
                  </a:lnTo>
                  <a:lnTo>
                    <a:pt x="23" y="1424"/>
                  </a:lnTo>
                  <a:lnTo>
                    <a:pt x="26" y="876"/>
                  </a:lnTo>
                  <a:lnTo>
                    <a:pt x="27" y="318"/>
                  </a:lnTo>
                  <a:lnTo>
                    <a:pt x="21" y="0"/>
                  </a:lnTo>
                  <a:lnTo>
                    <a:pt x="0" y="0"/>
                  </a:lnTo>
                  <a:lnTo>
                    <a:pt x="6" y="318"/>
                  </a:lnTo>
                  <a:lnTo>
                    <a:pt x="5" y="876"/>
                  </a:lnTo>
                  <a:lnTo>
                    <a:pt x="2" y="1424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4" y="1723"/>
                  </a:lnTo>
                  <a:lnTo>
                    <a:pt x="11" y="1725"/>
                  </a:lnTo>
                  <a:lnTo>
                    <a:pt x="18" y="1723"/>
                  </a:lnTo>
                  <a:lnTo>
                    <a:pt x="21" y="1715"/>
                  </a:lnTo>
                  <a:lnTo>
                    <a:pt x="21" y="17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6879960" y="3615840"/>
              <a:ext cx="257760" cy="82800"/>
            </a:xfrm>
            <a:custGeom>
              <a:avLst/>
              <a:gdLst/>
              <a:ahLst/>
              <a:rect l="l" t="t" r="r" b="b"/>
              <a:pathLst>
                <a:path w="514" h="200">
                  <a:moveTo>
                    <a:pt x="492" y="10"/>
                  </a:moveTo>
                  <a:lnTo>
                    <a:pt x="497" y="1"/>
                  </a:lnTo>
                  <a:lnTo>
                    <a:pt x="476" y="14"/>
                  </a:lnTo>
                  <a:lnTo>
                    <a:pt x="448" y="30"/>
                  </a:lnTo>
                  <a:lnTo>
                    <a:pt x="415" y="48"/>
                  </a:lnTo>
                  <a:lnTo>
                    <a:pt x="378" y="67"/>
                  </a:lnTo>
                  <a:lnTo>
                    <a:pt x="338" y="85"/>
                  </a:lnTo>
                  <a:lnTo>
                    <a:pt x="298" y="105"/>
                  </a:lnTo>
                  <a:lnTo>
                    <a:pt x="256" y="123"/>
                  </a:lnTo>
                  <a:lnTo>
                    <a:pt x="214" y="140"/>
                  </a:lnTo>
                  <a:lnTo>
                    <a:pt x="174" y="154"/>
                  </a:lnTo>
                  <a:lnTo>
                    <a:pt x="137" y="165"/>
                  </a:lnTo>
                  <a:lnTo>
                    <a:pt x="102" y="174"/>
                  </a:lnTo>
                  <a:lnTo>
                    <a:pt x="73" y="179"/>
                  </a:lnTo>
                  <a:lnTo>
                    <a:pt x="49" y="178"/>
                  </a:lnTo>
                  <a:lnTo>
                    <a:pt x="32" y="173"/>
                  </a:lnTo>
                  <a:lnTo>
                    <a:pt x="25" y="167"/>
                  </a:lnTo>
                  <a:lnTo>
                    <a:pt x="21" y="153"/>
                  </a:lnTo>
                  <a:lnTo>
                    <a:pt x="0" y="153"/>
                  </a:lnTo>
                  <a:lnTo>
                    <a:pt x="6" y="176"/>
                  </a:lnTo>
                  <a:lnTo>
                    <a:pt x="22" y="192"/>
                  </a:lnTo>
                  <a:lnTo>
                    <a:pt x="46" y="199"/>
                  </a:lnTo>
                  <a:lnTo>
                    <a:pt x="73" y="200"/>
                  </a:lnTo>
                  <a:lnTo>
                    <a:pt x="106" y="195"/>
                  </a:lnTo>
                  <a:lnTo>
                    <a:pt x="142" y="186"/>
                  </a:lnTo>
                  <a:lnTo>
                    <a:pt x="182" y="175"/>
                  </a:lnTo>
                  <a:lnTo>
                    <a:pt x="222" y="159"/>
                  </a:lnTo>
                  <a:lnTo>
                    <a:pt x="263" y="142"/>
                  </a:lnTo>
                  <a:lnTo>
                    <a:pt x="305" y="124"/>
                  </a:lnTo>
                  <a:lnTo>
                    <a:pt x="347" y="104"/>
                  </a:lnTo>
                  <a:lnTo>
                    <a:pt x="388" y="85"/>
                  </a:lnTo>
                  <a:lnTo>
                    <a:pt x="425" y="67"/>
                  </a:lnTo>
                  <a:lnTo>
                    <a:pt x="457" y="49"/>
                  </a:lnTo>
                  <a:lnTo>
                    <a:pt x="486" y="33"/>
                  </a:lnTo>
                  <a:lnTo>
                    <a:pt x="509" y="20"/>
                  </a:lnTo>
                  <a:lnTo>
                    <a:pt x="514" y="10"/>
                  </a:lnTo>
                  <a:lnTo>
                    <a:pt x="509" y="20"/>
                  </a:lnTo>
                  <a:lnTo>
                    <a:pt x="514" y="12"/>
                  </a:lnTo>
                  <a:lnTo>
                    <a:pt x="512" y="4"/>
                  </a:lnTo>
                  <a:lnTo>
                    <a:pt x="506" y="0"/>
                  </a:lnTo>
                  <a:lnTo>
                    <a:pt x="497" y="1"/>
                  </a:lnTo>
                  <a:lnTo>
                    <a:pt x="4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6879600" y="3301560"/>
              <a:ext cx="29880" cy="318240"/>
            </a:xfrm>
            <a:custGeom>
              <a:avLst/>
              <a:gdLst/>
              <a:ahLst/>
              <a:rect l="l" t="t" r="r" b="b"/>
              <a:pathLst>
                <a:path w="60" h="769">
                  <a:moveTo>
                    <a:pt x="0" y="5"/>
                  </a:moveTo>
                  <a:lnTo>
                    <a:pt x="0" y="5"/>
                  </a:lnTo>
                  <a:lnTo>
                    <a:pt x="11" y="68"/>
                  </a:lnTo>
                  <a:lnTo>
                    <a:pt x="20" y="161"/>
                  </a:lnTo>
                  <a:lnTo>
                    <a:pt x="25" y="270"/>
                  </a:lnTo>
                  <a:lnTo>
                    <a:pt x="32" y="390"/>
                  </a:lnTo>
                  <a:lnTo>
                    <a:pt x="35" y="509"/>
                  </a:lnTo>
                  <a:lnTo>
                    <a:pt x="37" y="618"/>
                  </a:lnTo>
                  <a:lnTo>
                    <a:pt x="38" y="708"/>
                  </a:lnTo>
                  <a:lnTo>
                    <a:pt x="38" y="769"/>
                  </a:lnTo>
                  <a:lnTo>
                    <a:pt x="60" y="769"/>
                  </a:lnTo>
                  <a:lnTo>
                    <a:pt x="60" y="708"/>
                  </a:lnTo>
                  <a:lnTo>
                    <a:pt x="58" y="618"/>
                  </a:lnTo>
                  <a:lnTo>
                    <a:pt x="56" y="509"/>
                  </a:lnTo>
                  <a:lnTo>
                    <a:pt x="53" y="390"/>
                  </a:lnTo>
                  <a:lnTo>
                    <a:pt x="47" y="270"/>
                  </a:lnTo>
                  <a:lnTo>
                    <a:pt x="41" y="161"/>
                  </a:lnTo>
                  <a:lnTo>
                    <a:pt x="32" y="66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6899400" y="2993400"/>
              <a:ext cx="65160" cy="309960"/>
            </a:xfrm>
            <a:custGeom>
              <a:avLst/>
              <a:gdLst/>
              <a:ahLst/>
              <a:rect l="l" t="t" r="r" b="b"/>
              <a:pathLst>
                <a:path w="130" h="749">
                  <a:moveTo>
                    <a:pt x="10" y="0"/>
                  </a:moveTo>
                  <a:lnTo>
                    <a:pt x="0" y="13"/>
                  </a:lnTo>
                  <a:lnTo>
                    <a:pt x="18" y="95"/>
                  </a:lnTo>
                  <a:lnTo>
                    <a:pt x="32" y="186"/>
                  </a:lnTo>
                  <a:lnTo>
                    <a:pt x="44" y="282"/>
                  </a:lnTo>
                  <a:lnTo>
                    <a:pt x="54" y="379"/>
                  </a:lnTo>
                  <a:lnTo>
                    <a:pt x="65" y="477"/>
                  </a:lnTo>
                  <a:lnTo>
                    <a:pt x="77" y="573"/>
                  </a:lnTo>
                  <a:lnTo>
                    <a:pt x="91" y="664"/>
                  </a:lnTo>
                  <a:lnTo>
                    <a:pt x="109" y="749"/>
                  </a:lnTo>
                  <a:lnTo>
                    <a:pt x="130" y="744"/>
                  </a:lnTo>
                  <a:lnTo>
                    <a:pt x="112" y="661"/>
                  </a:lnTo>
                  <a:lnTo>
                    <a:pt x="99" y="570"/>
                  </a:lnTo>
                  <a:lnTo>
                    <a:pt x="87" y="475"/>
                  </a:lnTo>
                  <a:lnTo>
                    <a:pt x="75" y="377"/>
                  </a:lnTo>
                  <a:lnTo>
                    <a:pt x="65" y="279"/>
                  </a:lnTo>
                  <a:lnTo>
                    <a:pt x="53" y="184"/>
                  </a:lnTo>
                  <a:lnTo>
                    <a:pt x="39" y="93"/>
                  </a:lnTo>
                  <a:lnTo>
                    <a:pt x="21" y="7"/>
                  </a:lnTo>
                  <a:lnTo>
                    <a:pt x="12" y="21"/>
                  </a:lnTo>
                  <a:lnTo>
                    <a:pt x="21" y="7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6797160" y="2970360"/>
              <a:ext cx="162720" cy="33120"/>
            </a:xfrm>
            <a:custGeom>
              <a:avLst/>
              <a:gdLst/>
              <a:ahLst/>
              <a:rect l="l" t="t" r="r" b="b"/>
              <a:pathLst>
                <a:path w="326" h="77">
                  <a:moveTo>
                    <a:pt x="315" y="0"/>
                  </a:moveTo>
                  <a:lnTo>
                    <a:pt x="312" y="1"/>
                  </a:lnTo>
                  <a:lnTo>
                    <a:pt x="302" y="6"/>
                  </a:lnTo>
                  <a:lnTo>
                    <a:pt x="289" y="9"/>
                  </a:lnTo>
                  <a:lnTo>
                    <a:pt x="274" y="15"/>
                  </a:lnTo>
                  <a:lnTo>
                    <a:pt x="261" y="18"/>
                  </a:lnTo>
                  <a:lnTo>
                    <a:pt x="243" y="21"/>
                  </a:lnTo>
                  <a:lnTo>
                    <a:pt x="224" y="25"/>
                  </a:lnTo>
                  <a:lnTo>
                    <a:pt x="205" y="27"/>
                  </a:lnTo>
                  <a:lnTo>
                    <a:pt x="184" y="31"/>
                  </a:lnTo>
                  <a:lnTo>
                    <a:pt x="162" y="33"/>
                  </a:lnTo>
                  <a:lnTo>
                    <a:pt x="140" y="37"/>
                  </a:lnTo>
                  <a:lnTo>
                    <a:pt x="119" y="39"/>
                  </a:lnTo>
                  <a:lnTo>
                    <a:pt x="95" y="41"/>
                  </a:lnTo>
                  <a:lnTo>
                    <a:pt x="72" y="45"/>
                  </a:lnTo>
                  <a:lnTo>
                    <a:pt x="48" y="49"/>
                  </a:lnTo>
                  <a:lnTo>
                    <a:pt x="23" y="52"/>
                  </a:lnTo>
                  <a:lnTo>
                    <a:pt x="0" y="56"/>
                  </a:lnTo>
                  <a:lnTo>
                    <a:pt x="2" y="77"/>
                  </a:lnTo>
                  <a:lnTo>
                    <a:pt x="26" y="73"/>
                  </a:lnTo>
                  <a:lnTo>
                    <a:pt x="51" y="70"/>
                  </a:lnTo>
                  <a:lnTo>
                    <a:pt x="74" y="66"/>
                  </a:lnTo>
                  <a:lnTo>
                    <a:pt x="98" y="62"/>
                  </a:lnTo>
                  <a:lnTo>
                    <a:pt x="119" y="60"/>
                  </a:lnTo>
                  <a:lnTo>
                    <a:pt x="142" y="58"/>
                  </a:lnTo>
                  <a:lnTo>
                    <a:pt x="165" y="55"/>
                  </a:lnTo>
                  <a:lnTo>
                    <a:pt x="186" y="52"/>
                  </a:lnTo>
                  <a:lnTo>
                    <a:pt x="207" y="49"/>
                  </a:lnTo>
                  <a:lnTo>
                    <a:pt x="226" y="46"/>
                  </a:lnTo>
                  <a:lnTo>
                    <a:pt x="245" y="42"/>
                  </a:lnTo>
                  <a:lnTo>
                    <a:pt x="263" y="39"/>
                  </a:lnTo>
                  <a:lnTo>
                    <a:pt x="279" y="36"/>
                  </a:lnTo>
                  <a:lnTo>
                    <a:pt x="294" y="31"/>
                  </a:lnTo>
                  <a:lnTo>
                    <a:pt x="308" y="25"/>
                  </a:lnTo>
                  <a:lnTo>
                    <a:pt x="322" y="20"/>
                  </a:lnTo>
                  <a:lnTo>
                    <a:pt x="319" y="21"/>
                  </a:lnTo>
                  <a:lnTo>
                    <a:pt x="322" y="20"/>
                  </a:lnTo>
                  <a:lnTo>
                    <a:pt x="326" y="15"/>
                  </a:lnTo>
                  <a:lnTo>
                    <a:pt x="326" y="6"/>
                  </a:lnTo>
                  <a:lnTo>
                    <a:pt x="320" y="1"/>
                  </a:lnTo>
                  <a:lnTo>
                    <a:pt x="312" y="1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6792480" y="2801160"/>
              <a:ext cx="72000" cy="177480"/>
            </a:xfrm>
            <a:custGeom>
              <a:avLst/>
              <a:gdLst/>
              <a:ahLst/>
              <a:rect l="l" t="t" r="r" b="b"/>
              <a:pathLst>
                <a:path w="145" h="431">
                  <a:moveTo>
                    <a:pt x="0" y="8"/>
                  </a:moveTo>
                  <a:lnTo>
                    <a:pt x="0" y="8"/>
                  </a:lnTo>
                  <a:lnTo>
                    <a:pt x="15" y="48"/>
                  </a:lnTo>
                  <a:lnTo>
                    <a:pt x="36" y="104"/>
                  </a:lnTo>
                  <a:lnTo>
                    <a:pt x="60" y="170"/>
                  </a:lnTo>
                  <a:lnTo>
                    <a:pt x="83" y="240"/>
                  </a:lnTo>
                  <a:lnTo>
                    <a:pt x="105" y="306"/>
                  </a:lnTo>
                  <a:lnTo>
                    <a:pt x="118" y="361"/>
                  </a:lnTo>
                  <a:lnTo>
                    <a:pt x="124" y="402"/>
                  </a:lnTo>
                  <a:lnTo>
                    <a:pt x="124" y="410"/>
                  </a:lnTo>
                  <a:lnTo>
                    <a:pt x="128" y="431"/>
                  </a:lnTo>
                  <a:lnTo>
                    <a:pt x="145" y="402"/>
                  </a:lnTo>
                  <a:lnTo>
                    <a:pt x="139" y="359"/>
                  </a:lnTo>
                  <a:lnTo>
                    <a:pt x="126" y="301"/>
                  </a:lnTo>
                  <a:lnTo>
                    <a:pt x="105" y="234"/>
                  </a:lnTo>
                  <a:lnTo>
                    <a:pt x="78" y="164"/>
                  </a:lnTo>
                  <a:lnTo>
                    <a:pt x="55" y="96"/>
                  </a:lnTo>
                  <a:lnTo>
                    <a:pt x="34" y="4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6855120" y="2478240"/>
              <a:ext cx="225360" cy="326880"/>
            </a:xfrm>
            <a:custGeom>
              <a:avLst/>
              <a:gdLst/>
              <a:ahLst/>
              <a:rect l="l" t="t" r="r" b="b"/>
              <a:pathLst>
                <a:path w="448" h="790">
                  <a:moveTo>
                    <a:pt x="0" y="14"/>
                  </a:moveTo>
                  <a:lnTo>
                    <a:pt x="0" y="14"/>
                  </a:lnTo>
                  <a:lnTo>
                    <a:pt x="41" y="62"/>
                  </a:lnTo>
                  <a:lnTo>
                    <a:pt x="78" y="108"/>
                  </a:lnTo>
                  <a:lnTo>
                    <a:pt x="114" y="154"/>
                  </a:lnTo>
                  <a:lnTo>
                    <a:pt x="146" y="197"/>
                  </a:lnTo>
                  <a:lnTo>
                    <a:pt x="176" y="243"/>
                  </a:lnTo>
                  <a:lnTo>
                    <a:pt x="203" y="286"/>
                  </a:lnTo>
                  <a:lnTo>
                    <a:pt x="228" y="328"/>
                  </a:lnTo>
                  <a:lnTo>
                    <a:pt x="254" y="374"/>
                  </a:lnTo>
                  <a:lnTo>
                    <a:pt x="276" y="418"/>
                  </a:lnTo>
                  <a:lnTo>
                    <a:pt x="298" y="464"/>
                  </a:lnTo>
                  <a:lnTo>
                    <a:pt x="319" y="513"/>
                  </a:lnTo>
                  <a:lnTo>
                    <a:pt x="341" y="563"/>
                  </a:lnTo>
                  <a:lnTo>
                    <a:pt x="362" y="615"/>
                  </a:lnTo>
                  <a:lnTo>
                    <a:pt x="384" y="669"/>
                  </a:lnTo>
                  <a:lnTo>
                    <a:pt x="407" y="728"/>
                  </a:lnTo>
                  <a:lnTo>
                    <a:pt x="429" y="790"/>
                  </a:lnTo>
                  <a:lnTo>
                    <a:pt x="448" y="782"/>
                  </a:lnTo>
                  <a:lnTo>
                    <a:pt x="425" y="721"/>
                  </a:lnTo>
                  <a:lnTo>
                    <a:pt x="403" y="662"/>
                  </a:lnTo>
                  <a:lnTo>
                    <a:pt x="381" y="608"/>
                  </a:lnTo>
                  <a:lnTo>
                    <a:pt x="360" y="555"/>
                  </a:lnTo>
                  <a:lnTo>
                    <a:pt x="338" y="506"/>
                  </a:lnTo>
                  <a:lnTo>
                    <a:pt x="317" y="457"/>
                  </a:lnTo>
                  <a:lnTo>
                    <a:pt x="295" y="408"/>
                  </a:lnTo>
                  <a:lnTo>
                    <a:pt x="272" y="364"/>
                  </a:lnTo>
                  <a:lnTo>
                    <a:pt x="247" y="319"/>
                  </a:lnTo>
                  <a:lnTo>
                    <a:pt x="221" y="274"/>
                  </a:lnTo>
                  <a:lnTo>
                    <a:pt x="191" y="231"/>
                  </a:lnTo>
                  <a:lnTo>
                    <a:pt x="163" y="186"/>
                  </a:lnTo>
                  <a:lnTo>
                    <a:pt x="130" y="142"/>
                  </a:lnTo>
                  <a:lnTo>
                    <a:pt x="95" y="96"/>
                  </a:lnTo>
                  <a:lnTo>
                    <a:pt x="57" y="4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7070040" y="2453400"/>
              <a:ext cx="62280" cy="30960"/>
            </a:xfrm>
            <a:custGeom>
              <a:avLst/>
              <a:gdLst/>
              <a:ahLst/>
              <a:rect l="l" t="t" r="r" b="b"/>
              <a:pathLst>
                <a:path w="121" h="75">
                  <a:moveTo>
                    <a:pt x="13" y="18"/>
                  </a:moveTo>
                  <a:lnTo>
                    <a:pt x="5" y="18"/>
                  </a:lnTo>
                  <a:lnTo>
                    <a:pt x="20" y="24"/>
                  </a:lnTo>
                  <a:lnTo>
                    <a:pt x="34" y="31"/>
                  </a:lnTo>
                  <a:lnTo>
                    <a:pt x="48" y="37"/>
                  </a:lnTo>
                  <a:lnTo>
                    <a:pt x="61" y="44"/>
                  </a:lnTo>
                  <a:lnTo>
                    <a:pt x="75" y="51"/>
                  </a:lnTo>
                  <a:lnTo>
                    <a:pt x="86" y="57"/>
                  </a:lnTo>
                  <a:lnTo>
                    <a:pt x="97" y="66"/>
                  </a:lnTo>
                  <a:lnTo>
                    <a:pt x="105" y="75"/>
                  </a:lnTo>
                  <a:lnTo>
                    <a:pt x="121" y="61"/>
                  </a:lnTo>
                  <a:lnTo>
                    <a:pt x="111" y="50"/>
                  </a:lnTo>
                  <a:lnTo>
                    <a:pt x="98" y="41"/>
                  </a:lnTo>
                  <a:lnTo>
                    <a:pt x="84" y="32"/>
                  </a:lnTo>
                  <a:lnTo>
                    <a:pt x="70" y="25"/>
                  </a:lnTo>
                  <a:lnTo>
                    <a:pt x="56" y="18"/>
                  </a:lnTo>
                  <a:lnTo>
                    <a:pt x="41" y="12"/>
                  </a:lnTo>
                  <a:lnTo>
                    <a:pt x="27" y="5"/>
                  </a:lnTo>
                  <a:lnTo>
                    <a:pt x="14" y="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7125120" y="2453400"/>
              <a:ext cx="37440" cy="3672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21" y="82"/>
                  </a:moveTo>
                  <a:lnTo>
                    <a:pt x="21" y="83"/>
                  </a:lnTo>
                  <a:lnTo>
                    <a:pt x="26" y="73"/>
                  </a:lnTo>
                  <a:lnTo>
                    <a:pt x="29" y="62"/>
                  </a:lnTo>
                  <a:lnTo>
                    <a:pt x="33" y="53"/>
                  </a:lnTo>
                  <a:lnTo>
                    <a:pt x="40" y="45"/>
                  </a:lnTo>
                  <a:lnTo>
                    <a:pt x="48" y="35"/>
                  </a:lnTo>
                  <a:lnTo>
                    <a:pt x="57" y="28"/>
                  </a:lnTo>
                  <a:lnTo>
                    <a:pt x="67" y="23"/>
                  </a:lnTo>
                  <a:lnTo>
                    <a:pt x="76" y="18"/>
                  </a:lnTo>
                  <a:lnTo>
                    <a:pt x="69" y="0"/>
                  </a:lnTo>
                  <a:lnTo>
                    <a:pt x="57" y="4"/>
                  </a:lnTo>
                  <a:lnTo>
                    <a:pt x="46" y="12"/>
                  </a:lnTo>
                  <a:lnTo>
                    <a:pt x="33" y="22"/>
                  </a:lnTo>
                  <a:lnTo>
                    <a:pt x="25" y="31"/>
                  </a:lnTo>
                  <a:lnTo>
                    <a:pt x="17" y="42"/>
                  </a:lnTo>
                  <a:lnTo>
                    <a:pt x="10" y="54"/>
                  </a:lnTo>
                  <a:lnTo>
                    <a:pt x="5" y="66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88"/>
                  </a:lnTo>
                  <a:lnTo>
                    <a:pt x="10" y="92"/>
                  </a:lnTo>
                  <a:lnTo>
                    <a:pt x="18" y="90"/>
                  </a:lnTo>
                  <a:lnTo>
                    <a:pt x="21" y="83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255080" y="2451600"/>
              <a:ext cx="390600" cy="1222560"/>
            </a:xfrm>
            <a:custGeom>
              <a:avLst/>
              <a:gdLst/>
              <a:ahLst/>
              <a:rect l="l" t="t" r="r" b="b"/>
              <a:pathLst>
                <a:path w="780" h="2954">
                  <a:moveTo>
                    <a:pt x="720" y="0"/>
                  </a:moveTo>
                  <a:lnTo>
                    <a:pt x="731" y="37"/>
                  </a:lnTo>
                  <a:lnTo>
                    <a:pt x="740" y="73"/>
                  </a:lnTo>
                  <a:lnTo>
                    <a:pt x="749" y="109"/>
                  </a:lnTo>
                  <a:lnTo>
                    <a:pt x="755" y="147"/>
                  </a:lnTo>
                  <a:lnTo>
                    <a:pt x="758" y="185"/>
                  </a:lnTo>
                  <a:lnTo>
                    <a:pt x="762" y="222"/>
                  </a:lnTo>
                  <a:lnTo>
                    <a:pt x="762" y="262"/>
                  </a:lnTo>
                  <a:lnTo>
                    <a:pt x="762" y="305"/>
                  </a:lnTo>
                  <a:lnTo>
                    <a:pt x="758" y="497"/>
                  </a:lnTo>
                  <a:lnTo>
                    <a:pt x="759" y="691"/>
                  </a:lnTo>
                  <a:lnTo>
                    <a:pt x="765" y="890"/>
                  </a:lnTo>
                  <a:lnTo>
                    <a:pt x="769" y="1087"/>
                  </a:lnTo>
                  <a:lnTo>
                    <a:pt x="774" y="1286"/>
                  </a:lnTo>
                  <a:lnTo>
                    <a:pt x="778" y="1483"/>
                  </a:lnTo>
                  <a:lnTo>
                    <a:pt x="780" y="1676"/>
                  </a:lnTo>
                  <a:lnTo>
                    <a:pt x="776" y="1866"/>
                  </a:lnTo>
                  <a:lnTo>
                    <a:pt x="772" y="2022"/>
                  </a:lnTo>
                  <a:lnTo>
                    <a:pt x="770" y="2194"/>
                  </a:lnTo>
                  <a:lnTo>
                    <a:pt x="768" y="2372"/>
                  </a:lnTo>
                  <a:lnTo>
                    <a:pt x="766" y="2544"/>
                  </a:lnTo>
                  <a:lnTo>
                    <a:pt x="762" y="2699"/>
                  </a:lnTo>
                  <a:lnTo>
                    <a:pt x="755" y="2827"/>
                  </a:lnTo>
                  <a:lnTo>
                    <a:pt x="745" y="2916"/>
                  </a:lnTo>
                  <a:lnTo>
                    <a:pt x="729" y="2954"/>
                  </a:lnTo>
                  <a:lnTo>
                    <a:pt x="706" y="2953"/>
                  </a:lnTo>
                  <a:lnTo>
                    <a:pt x="680" y="2949"/>
                  </a:lnTo>
                  <a:lnTo>
                    <a:pt x="654" y="2944"/>
                  </a:lnTo>
                  <a:lnTo>
                    <a:pt x="625" y="2938"/>
                  </a:lnTo>
                  <a:lnTo>
                    <a:pt x="596" y="2930"/>
                  </a:lnTo>
                  <a:lnTo>
                    <a:pt x="565" y="2920"/>
                  </a:lnTo>
                  <a:lnTo>
                    <a:pt x="535" y="2912"/>
                  </a:lnTo>
                  <a:lnTo>
                    <a:pt x="504" y="2899"/>
                  </a:lnTo>
                  <a:lnTo>
                    <a:pt x="473" y="2888"/>
                  </a:lnTo>
                  <a:lnTo>
                    <a:pt x="444" y="2877"/>
                  </a:lnTo>
                  <a:lnTo>
                    <a:pt x="414" y="2865"/>
                  </a:lnTo>
                  <a:lnTo>
                    <a:pt x="387" y="2854"/>
                  </a:lnTo>
                  <a:lnTo>
                    <a:pt x="359" y="2842"/>
                  </a:lnTo>
                  <a:lnTo>
                    <a:pt x="333" y="2831"/>
                  </a:lnTo>
                  <a:lnTo>
                    <a:pt x="310" y="2821"/>
                  </a:lnTo>
                  <a:lnTo>
                    <a:pt x="288" y="2811"/>
                  </a:lnTo>
                  <a:lnTo>
                    <a:pt x="348" y="1710"/>
                  </a:lnTo>
                  <a:lnTo>
                    <a:pt x="323" y="1704"/>
                  </a:lnTo>
                  <a:lnTo>
                    <a:pt x="298" y="1697"/>
                  </a:lnTo>
                  <a:lnTo>
                    <a:pt x="269" y="1691"/>
                  </a:lnTo>
                  <a:lnTo>
                    <a:pt x="240" y="1687"/>
                  </a:lnTo>
                  <a:lnTo>
                    <a:pt x="209" y="1682"/>
                  </a:lnTo>
                  <a:lnTo>
                    <a:pt x="179" y="1677"/>
                  </a:lnTo>
                  <a:lnTo>
                    <a:pt x="148" y="1671"/>
                  </a:lnTo>
                  <a:lnTo>
                    <a:pt x="118" y="1667"/>
                  </a:lnTo>
                  <a:lnTo>
                    <a:pt x="92" y="1660"/>
                  </a:lnTo>
                  <a:lnTo>
                    <a:pt x="67" y="1655"/>
                  </a:lnTo>
                  <a:lnTo>
                    <a:pt x="45" y="1648"/>
                  </a:lnTo>
                  <a:lnTo>
                    <a:pt x="26" y="1639"/>
                  </a:lnTo>
                  <a:lnTo>
                    <a:pt x="12" y="1630"/>
                  </a:lnTo>
                  <a:lnTo>
                    <a:pt x="3" y="1619"/>
                  </a:lnTo>
                  <a:lnTo>
                    <a:pt x="0" y="1608"/>
                  </a:lnTo>
                  <a:lnTo>
                    <a:pt x="3" y="1594"/>
                  </a:lnTo>
                  <a:lnTo>
                    <a:pt x="33" y="1498"/>
                  </a:lnTo>
                  <a:lnTo>
                    <a:pt x="59" y="1403"/>
                  </a:lnTo>
                  <a:lnTo>
                    <a:pt x="86" y="1307"/>
                  </a:lnTo>
                  <a:lnTo>
                    <a:pt x="109" y="1212"/>
                  </a:lnTo>
                  <a:lnTo>
                    <a:pt x="133" y="1116"/>
                  </a:lnTo>
                  <a:lnTo>
                    <a:pt x="155" y="1020"/>
                  </a:lnTo>
                  <a:lnTo>
                    <a:pt x="177" y="925"/>
                  </a:lnTo>
                  <a:lnTo>
                    <a:pt x="199" y="831"/>
                  </a:lnTo>
                  <a:lnTo>
                    <a:pt x="221" y="736"/>
                  </a:lnTo>
                  <a:lnTo>
                    <a:pt x="244" y="645"/>
                  </a:lnTo>
                  <a:lnTo>
                    <a:pt x="267" y="553"/>
                  </a:lnTo>
                  <a:lnTo>
                    <a:pt x="292" y="461"/>
                  </a:lnTo>
                  <a:lnTo>
                    <a:pt x="318" y="371"/>
                  </a:lnTo>
                  <a:lnTo>
                    <a:pt x="344" y="282"/>
                  </a:lnTo>
                  <a:lnTo>
                    <a:pt x="375" y="196"/>
                  </a:lnTo>
                  <a:lnTo>
                    <a:pt x="408" y="109"/>
                  </a:lnTo>
                  <a:lnTo>
                    <a:pt x="418" y="88"/>
                  </a:lnTo>
                  <a:lnTo>
                    <a:pt x="430" y="70"/>
                  </a:lnTo>
                  <a:lnTo>
                    <a:pt x="444" y="56"/>
                  </a:lnTo>
                  <a:lnTo>
                    <a:pt x="461" y="44"/>
                  </a:lnTo>
                  <a:lnTo>
                    <a:pt x="479" y="34"/>
                  </a:lnTo>
                  <a:lnTo>
                    <a:pt x="497" y="26"/>
                  </a:lnTo>
                  <a:lnTo>
                    <a:pt x="517" y="19"/>
                  </a:lnTo>
                  <a:lnTo>
                    <a:pt x="538" y="15"/>
                  </a:lnTo>
                  <a:lnTo>
                    <a:pt x="560" y="11"/>
                  </a:lnTo>
                  <a:lnTo>
                    <a:pt x="582" y="9"/>
                  </a:lnTo>
                  <a:lnTo>
                    <a:pt x="605" y="7"/>
                  </a:lnTo>
                  <a:lnTo>
                    <a:pt x="629" y="6"/>
                  </a:lnTo>
                  <a:lnTo>
                    <a:pt x="652" y="6"/>
                  </a:lnTo>
                  <a:lnTo>
                    <a:pt x="675" y="5"/>
                  </a:lnTo>
                  <a:lnTo>
                    <a:pt x="698" y="4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7260120" y="2451600"/>
              <a:ext cx="29880" cy="126000"/>
            </a:xfrm>
            <a:custGeom>
              <a:avLst/>
              <a:gdLst/>
              <a:ahLst/>
              <a:rect l="l" t="t" r="r" b="b"/>
              <a:pathLst>
                <a:path w="62" h="307">
                  <a:moveTo>
                    <a:pt x="62" y="307"/>
                  </a:moveTo>
                  <a:lnTo>
                    <a:pt x="62" y="307"/>
                  </a:lnTo>
                  <a:lnTo>
                    <a:pt x="62" y="264"/>
                  </a:lnTo>
                  <a:lnTo>
                    <a:pt x="62" y="224"/>
                  </a:lnTo>
                  <a:lnTo>
                    <a:pt x="59" y="187"/>
                  </a:lnTo>
                  <a:lnTo>
                    <a:pt x="56" y="148"/>
                  </a:lnTo>
                  <a:lnTo>
                    <a:pt x="49" y="110"/>
                  </a:lnTo>
                  <a:lnTo>
                    <a:pt x="41" y="72"/>
                  </a:lnTo>
                  <a:lnTo>
                    <a:pt x="32" y="37"/>
                  </a:lnTo>
                  <a:lnTo>
                    <a:pt x="21" y="0"/>
                  </a:lnTo>
                  <a:lnTo>
                    <a:pt x="0" y="6"/>
                  </a:lnTo>
                  <a:lnTo>
                    <a:pt x="10" y="42"/>
                  </a:lnTo>
                  <a:lnTo>
                    <a:pt x="20" y="77"/>
                  </a:lnTo>
                  <a:lnTo>
                    <a:pt x="28" y="112"/>
                  </a:lnTo>
                  <a:lnTo>
                    <a:pt x="35" y="150"/>
                  </a:lnTo>
                  <a:lnTo>
                    <a:pt x="38" y="187"/>
                  </a:lnTo>
                  <a:lnTo>
                    <a:pt x="41" y="224"/>
                  </a:lnTo>
                  <a:lnTo>
                    <a:pt x="41" y="264"/>
                  </a:lnTo>
                  <a:lnTo>
                    <a:pt x="41" y="307"/>
                  </a:lnTo>
                  <a:lnTo>
                    <a:pt x="41" y="307"/>
                  </a:lnTo>
                  <a:lnTo>
                    <a:pt x="6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7250400" y="2577600"/>
              <a:ext cx="19800" cy="644760"/>
            </a:xfrm>
            <a:custGeom>
              <a:avLst/>
              <a:gdLst/>
              <a:ahLst/>
              <a:rect l="l" t="t" r="r" b="b"/>
              <a:pathLst>
                <a:path w="42" h="1561">
                  <a:moveTo>
                    <a:pt x="39" y="1561"/>
                  </a:moveTo>
                  <a:lnTo>
                    <a:pt x="39" y="1561"/>
                  </a:lnTo>
                  <a:lnTo>
                    <a:pt x="42" y="1371"/>
                  </a:lnTo>
                  <a:lnTo>
                    <a:pt x="41" y="1178"/>
                  </a:lnTo>
                  <a:lnTo>
                    <a:pt x="37" y="981"/>
                  </a:lnTo>
                  <a:lnTo>
                    <a:pt x="32" y="782"/>
                  </a:lnTo>
                  <a:lnTo>
                    <a:pt x="27" y="585"/>
                  </a:lnTo>
                  <a:lnTo>
                    <a:pt x="22" y="386"/>
                  </a:lnTo>
                  <a:lnTo>
                    <a:pt x="21" y="192"/>
                  </a:lnTo>
                  <a:lnTo>
                    <a:pt x="24" y="0"/>
                  </a:lnTo>
                  <a:lnTo>
                    <a:pt x="3" y="0"/>
                  </a:lnTo>
                  <a:lnTo>
                    <a:pt x="0" y="192"/>
                  </a:lnTo>
                  <a:lnTo>
                    <a:pt x="1" y="386"/>
                  </a:lnTo>
                  <a:lnTo>
                    <a:pt x="6" y="585"/>
                  </a:lnTo>
                  <a:lnTo>
                    <a:pt x="10" y="782"/>
                  </a:lnTo>
                  <a:lnTo>
                    <a:pt x="16" y="981"/>
                  </a:lnTo>
                  <a:lnTo>
                    <a:pt x="20" y="1178"/>
                  </a:lnTo>
                  <a:lnTo>
                    <a:pt x="21" y="1371"/>
                  </a:lnTo>
                  <a:lnTo>
                    <a:pt x="18" y="1561"/>
                  </a:lnTo>
                  <a:lnTo>
                    <a:pt x="18" y="1561"/>
                  </a:lnTo>
                  <a:lnTo>
                    <a:pt x="39" y="15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7252920" y="3222720"/>
              <a:ext cx="32040" cy="455400"/>
            </a:xfrm>
            <a:custGeom>
              <a:avLst/>
              <a:gdLst/>
              <a:ahLst/>
              <a:rect l="l" t="t" r="r" b="b"/>
              <a:pathLst>
                <a:path w="68" h="1098">
                  <a:moveTo>
                    <a:pt x="10" y="1098"/>
                  </a:moveTo>
                  <a:lnTo>
                    <a:pt x="15" y="1097"/>
                  </a:lnTo>
                  <a:lnTo>
                    <a:pt x="36" y="1051"/>
                  </a:lnTo>
                  <a:lnTo>
                    <a:pt x="47" y="961"/>
                  </a:lnTo>
                  <a:lnTo>
                    <a:pt x="53" y="833"/>
                  </a:lnTo>
                  <a:lnTo>
                    <a:pt x="57" y="678"/>
                  </a:lnTo>
                  <a:lnTo>
                    <a:pt x="59" y="506"/>
                  </a:lnTo>
                  <a:lnTo>
                    <a:pt x="62" y="328"/>
                  </a:lnTo>
                  <a:lnTo>
                    <a:pt x="64" y="156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3" y="156"/>
                  </a:lnTo>
                  <a:lnTo>
                    <a:pt x="40" y="328"/>
                  </a:lnTo>
                  <a:lnTo>
                    <a:pt x="38" y="506"/>
                  </a:lnTo>
                  <a:lnTo>
                    <a:pt x="36" y="678"/>
                  </a:lnTo>
                  <a:lnTo>
                    <a:pt x="32" y="833"/>
                  </a:lnTo>
                  <a:lnTo>
                    <a:pt x="26" y="961"/>
                  </a:lnTo>
                  <a:lnTo>
                    <a:pt x="15" y="1049"/>
                  </a:lnTo>
                  <a:lnTo>
                    <a:pt x="6" y="1078"/>
                  </a:lnTo>
                  <a:lnTo>
                    <a:pt x="10" y="1077"/>
                  </a:lnTo>
                  <a:lnTo>
                    <a:pt x="6" y="1078"/>
                  </a:lnTo>
                  <a:lnTo>
                    <a:pt x="0" y="1084"/>
                  </a:lnTo>
                  <a:lnTo>
                    <a:pt x="1" y="1092"/>
                  </a:lnTo>
                  <a:lnTo>
                    <a:pt x="7" y="1097"/>
                  </a:lnTo>
                  <a:lnTo>
                    <a:pt x="15" y="1097"/>
                  </a:lnTo>
                  <a:lnTo>
                    <a:pt x="10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7280280" y="3609720"/>
              <a:ext cx="225360" cy="68400"/>
            </a:xfrm>
            <a:custGeom>
              <a:avLst/>
              <a:gdLst/>
              <a:ahLst/>
              <a:rect l="l" t="t" r="r" b="b"/>
              <a:pathLst>
                <a:path w="451" h="162">
                  <a:moveTo>
                    <a:pt x="0" y="9"/>
                  </a:moveTo>
                  <a:lnTo>
                    <a:pt x="7" y="19"/>
                  </a:lnTo>
                  <a:lnTo>
                    <a:pt x="28" y="27"/>
                  </a:lnTo>
                  <a:lnTo>
                    <a:pt x="52" y="38"/>
                  </a:lnTo>
                  <a:lnTo>
                    <a:pt x="78" y="48"/>
                  </a:lnTo>
                  <a:lnTo>
                    <a:pt x="104" y="61"/>
                  </a:lnTo>
                  <a:lnTo>
                    <a:pt x="133" y="73"/>
                  </a:lnTo>
                  <a:lnTo>
                    <a:pt x="163" y="84"/>
                  </a:lnTo>
                  <a:lnTo>
                    <a:pt x="192" y="96"/>
                  </a:lnTo>
                  <a:lnTo>
                    <a:pt x="223" y="107"/>
                  </a:lnTo>
                  <a:lnTo>
                    <a:pt x="253" y="120"/>
                  </a:lnTo>
                  <a:lnTo>
                    <a:pt x="285" y="130"/>
                  </a:lnTo>
                  <a:lnTo>
                    <a:pt x="316" y="138"/>
                  </a:lnTo>
                  <a:lnTo>
                    <a:pt x="345" y="147"/>
                  </a:lnTo>
                  <a:lnTo>
                    <a:pt x="375" y="153"/>
                  </a:lnTo>
                  <a:lnTo>
                    <a:pt x="401" y="157"/>
                  </a:lnTo>
                  <a:lnTo>
                    <a:pt x="428" y="161"/>
                  </a:lnTo>
                  <a:lnTo>
                    <a:pt x="451" y="162"/>
                  </a:lnTo>
                  <a:lnTo>
                    <a:pt x="451" y="141"/>
                  </a:lnTo>
                  <a:lnTo>
                    <a:pt x="428" y="140"/>
                  </a:lnTo>
                  <a:lnTo>
                    <a:pt x="403" y="136"/>
                  </a:lnTo>
                  <a:lnTo>
                    <a:pt x="377" y="132"/>
                  </a:lnTo>
                  <a:lnTo>
                    <a:pt x="349" y="126"/>
                  </a:lnTo>
                  <a:lnTo>
                    <a:pt x="320" y="117"/>
                  </a:lnTo>
                  <a:lnTo>
                    <a:pt x="289" y="108"/>
                  </a:lnTo>
                  <a:lnTo>
                    <a:pt x="260" y="98"/>
                  </a:lnTo>
                  <a:lnTo>
                    <a:pt x="229" y="88"/>
                  </a:lnTo>
                  <a:lnTo>
                    <a:pt x="198" y="77"/>
                  </a:lnTo>
                  <a:lnTo>
                    <a:pt x="170" y="65"/>
                  </a:lnTo>
                  <a:lnTo>
                    <a:pt x="140" y="54"/>
                  </a:lnTo>
                  <a:lnTo>
                    <a:pt x="112" y="42"/>
                  </a:lnTo>
                  <a:lnTo>
                    <a:pt x="84" y="30"/>
                  </a:lnTo>
                  <a:lnTo>
                    <a:pt x="59" y="20"/>
                  </a:lnTo>
                  <a:lnTo>
                    <a:pt x="35" y="9"/>
                  </a:lnTo>
                  <a:lnTo>
                    <a:pt x="14" y="0"/>
                  </a:lnTo>
                  <a:lnTo>
                    <a:pt x="21" y="9"/>
                  </a:lnTo>
                  <a:lnTo>
                    <a:pt x="14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1" y="13"/>
                  </a:lnTo>
                  <a:lnTo>
                    <a:pt x="7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7466040" y="3154680"/>
              <a:ext cx="39600" cy="459000"/>
            </a:xfrm>
            <a:custGeom>
              <a:avLst/>
              <a:gdLst/>
              <a:ahLst/>
              <a:rect l="l" t="t" r="r" b="b"/>
              <a:pathLst>
                <a:path w="80" h="1112">
                  <a:moveTo>
                    <a:pt x="65" y="22"/>
                  </a:moveTo>
                  <a:lnTo>
                    <a:pt x="59" y="11"/>
                  </a:lnTo>
                  <a:lnTo>
                    <a:pt x="0" y="1112"/>
                  </a:lnTo>
                  <a:lnTo>
                    <a:pt x="21" y="1112"/>
                  </a:lnTo>
                  <a:lnTo>
                    <a:pt x="80" y="11"/>
                  </a:lnTo>
                  <a:lnTo>
                    <a:pt x="73" y="0"/>
                  </a:lnTo>
                  <a:lnTo>
                    <a:pt x="80" y="11"/>
                  </a:lnTo>
                  <a:lnTo>
                    <a:pt x="76" y="3"/>
                  </a:lnTo>
                  <a:lnTo>
                    <a:pt x="70" y="0"/>
                  </a:lnTo>
                  <a:lnTo>
                    <a:pt x="62" y="3"/>
                  </a:lnTo>
                  <a:lnTo>
                    <a:pt x="59" y="11"/>
                  </a:lnTo>
                  <a:lnTo>
                    <a:pt x="6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7471080" y="3106800"/>
              <a:ext cx="180000" cy="56160"/>
            </a:xfrm>
            <a:custGeom>
              <a:avLst/>
              <a:gdLst/>
              <a:ahLst/>
              <a:rect l="l" t="t" r="r" b="b"/>
              <a:pathLst>
                <a:path w="361" h="137">
                  <a:moveTo>
                    <a:pt x="3" y="7"/>
                  </a:moveTo>
                  <a:lnTo>
                    <a:pt x="4" y="6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54"/>
                  </a:lnTo>
                  <a:lnTo>
                    <a:pt x="31" y="65"/>
                  </a:lnTo>
                  <a:lnTo>
                    <a:pt x="51" y="73"/>
                  </a:lnTo>
                  <a:lnTo>
                    <a:pt x="75" y="82"/>
                  </a:lnTo>
                  <a:lnTo>
                    <a:pt x="99" y="87"/>
                  </a:lnTo>
                  <a:lnTo>
                    <a:pt x="127" y="93"/>
                  </a:lnTo>
                  <a:lnTo>
                    <a:pt x="157" y="98"/>
                  </a:lnTo>
                  <a:lnTo>
                    <a:pt x="188" y="104"/>
                  </a:lnTo>
                  <a:lnTo>
                    <a:pt x="218" y="108"/>
                  </a:lnTo>
                  <a:lnTo>
                    <a:pt x="249" y="113"/>
                  </a:lnTo>
                  <a:lnTo>
                    <a:pt x="278" y="118"/>
                  </a:lnTo>
                  <a:lnTo>
                    <a:pt x="307" y="124"/>
                  </a:lnTo>
                  <a:lnTo>
                    <a:pt x="331" y="130"/>
                  </a:lnTo>
                  <a:lnTo>
                    <a:pt x="353" y="137"/>
                  </a:lnTo>
                  <a:lnTo>
                    <a:pt x="361" y="115"/>
                  </a:lnTo>
                  <a:lnTo>
                    <a:pt x="336" y="108"/>
                  </a:lnTo>
                  <a:lnTo>
                    <a:pt x="309" y="103"/>
                  </a:lnTo>
                  <a:lnTo>
                    <a:pt x="281" y="96"/>
                  </a:lnTo>
                  <a:lnTo>
                    <a:pt x="251" y="92"/>
                  </a:lnTo>
                  <a:lnTo>
                    <a:pt x="220" y="87"/>
                  </a:lnTo>
                  <a:lnTo>
                    <a:pt x="190" y="83"/>
                  </a:lnTo>
                  <a:lnTo>
                    <a:pt x="159" y="76"/>
                  </a:lnTo>
                  <a:lnTo>
                    <a:pt x="130" y="72"/>
                  </a:lnTo>
                  <a:lnTo>
                    <a:pt x="104" y="66"/>
                  </a:lnTo>
                  <a:lnTo>
                    <a:pt x="79" y="61"/>
                  </a:lnTo>
                  <a:lnTo>
                    <a:pt x="58" y="54"/>
                  </a:lnTo>
                  <a:lnTo>
                    <a:pt x="41" y="46"/>
                  </a:lnTo>
                  <a:lnTo>
                    <a:pt x="28" y="37"/>
                  </a:lnTo>
                  <a:lnTo>
                    <a:pt x="23" y="31"/>
                  </a:lnTo>
                  <a:lnTo>
                    <a:pt x="21" y="2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3" y="5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7437960" y="2494800"/>
              <a:ext cx="210600" cy="616320"/>
            </a:xfrm>
            <a:custGeom>
              <a:avLst/>
              <a:gdLst/>
              <a:ahLst/>
              <a:rect l="l" t="t" r="r" b="b"/>
              <a:pathLst>
                <a:path w="423" h="1490">
                  <a:moveTo>
                    <a:pt x="405" y="0"/>
                  </a:moveTo>
                  <a:lnTo>
                    <a:pt x="405" y="0"/>
                  </a:lnTo>
                  <a:lnTo>
                    <a:pt x="374" y="86"/>
                  </a:lnTo>
                  <a:lnTo>
                    <a:pt x="341" y="174"/>
                  </a:lnTo>
                  <a:lnTo>
                    <a:pt x="314" y="263"/>
                  </a:lnTo>
                  <a:lnTo>
                    <a:pt x="288" y="353"/>
                  </a:lnTo>
                  <a:lnTo>
                    <a:pt x="264" y="445"/>
                  </a:lnTo>
                  <a:lnTo>
                    <a:pt x="241" y="536"/>
                  </a:lnTo>
                  <a:lnTo>
                    <a:pt x="217" y="628"/>
                  </a:lnTo>
                  <a:lnTo>
                    <a:pt x="195" y="723"/>
                  </a:lnTo>
                  <a:lnTo>
                    <a:pt x="173" y="817"/>
                  </a:lnTo>
                  <a:lnTo>
                    <a:pt x="152" y="911"/>
                  </a:lnTo>
                  <a:lnTo>
                    <a:pt x="130" y="1007"/>
                  </a:lnTo>
                  <a:lnTo>
                    <a:pt x="105" y="1102"/>
                  </a:lnTo>
                  <a:lnTo>
                    <a:pt x="82" y="1199"/>
                  </a:lnTo>
                  <a:lnTo>
                    <a:pt x="57" y="1294"/>
                  </a:lnTo>
                  <a:lnTo>
                    <a:pt x="29" y="1390"/>
                  </a:lnTo>
                  <a:lnTo>
                    <a:pt x="0" y="1485"/>
                  </a:lnTo>
                  <a:lnTo>
                    <a:pt x="21" y="1490"/>
                  </a:lnTo>
                  <a:lnTo>
                    <a:pt x="50" y="1394"/>
                  </a:lnTo>
                  <a:lnTo>
                    <a:pt x="78" y="1299"/>
                  </a:lnTo>
                  <a:lnTo>
                    <a:pt x="103" y="1203"/>
                  </a:lnTo>
                  <a:lnTo>
                    <a:pt x="127" y="1108"/>
                  </a:lnTo>
                  <a:lnTo>
                    <a:pt x="151" y="1012"/>
                  </a:lnTo>
                  <a:lnTo>
                    <a:pt x="173" y="917"/>
                  </a:lnTo>
                  <a:lnTo>
                    <a:pt x="194" y="823"/>
                  </a:lnTo>
                  <a:lnTo>
                    <a:pt x="216" y="728"/>
                  </a:lnTo>
                  <a:lnTo>
                    <a:pt x="238" y="634"/>
                  </a:lnTo>
                  <a:lnTo>
                    <a:pt x="262" y="542"/>
                  </a:lnTo>
                  <a:lnTo>
                    <a:pt x="285" y="450"/>
                  </a:lnTo>
                  <a:lnTo>
                    <a:pt x="309" y="357"/>
                  </a:lnTo>
                  <a:lnTo>
                    <a:pt x="336" y="267"/>
                  </a:lnTo>
                  <a:lnTo>
                    <a:pt x="363" y="180"/>
                  </a:lnTo>
                  <a:lnTo>
                    <a:pt x="392" y="93"/>
                  </a:lnTo>
                  <a:lnTo>
                    <a:pt x="423" y="7"/>
                  </a:lnTo>
                  <a:lnTo>
                    <a:pt x="423" y="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7279920" y="2447280"/>
              <a:ext cx="165240" cy="51480"/>
            </a:xfrm>
            <a:custGeom>
              <a:avLst/>
              <a:gdLst/>
              <a:ahLst/>
              <a:rect l="l" t="t" r="r" b="b"/>
              <a:pathLst>
                <a:path w="333" h="123">
                  <a:moveTo>
                    <a:pt x="333" y="8"/>
                  </a:moveTo>
                  <a:lnTo>
                    <a:pt x="322" y="0"/>
                  </a:lnTo>
                  <a:lnTo>
                    <a:pt x="300" y="3"/>
                  </a:lnTo>
                  <a:lnTo>
                    <a:pt x="277" y="4"/>
                  </a:lnTo>
                  <a:lnTo>
                    <a:pt x="254" y="5"/>
                  </a:lnTo>
                  <a:lnTo>
                    <a:pt x="231" y="5"/>
                  </a:lnTo>
                  <a:lnTo>
                    <a:pt x="207" y="6"/>
                  </a:lnTo>
                  <a:lnTo>
                    <a:pt x="184" y="8"/>
                  </a:lnTo>
                  <a:lnTo>
                    <a:pt x="160" y="10"/>
                  </a:lnTo>
                  <a:lnTo>
                    <a:pt x="139" y="15"/>
                  </a:lnTo>
                  <a:lnTo>
                    <a:pt x="116" y="19"/>
                  </a:lnTo>
                  <a:lnTo>
                    <a:pt x="95" y="26"/>
                  </a:lnTo>
                  <a:lnTo>
                    <a:pt x="75" y="35"/>
                  </a:lnTo>
                  <a:lnTo>
                    <a:pt x="56" y="45"/>
                  </a:lnTo>
                  <a:lnTo>
                    <a:pt x="38" y="58"/>
                  </a:lnTo>
                  <a:lnTo>
                    <a:pt x="24" y="74"/>
                  </a:lnTo>
                  <a:lnTo>
                    <a:pt x="11" y="94"/>
                  </a:lnTo>
                  <a:lnTo>
                    <a:pt x="0" y="116"/>
                  </a:lnTo>
                  <a:lnTo>
                    <a:pt x="18" y="123"/>
                  </a:lnTo>
                  <a:lnTo>
                    <a:pt x="30" y="103"/>
                  </a:lnTo>
                  <a:lnTo>
                    <a:pt x="40" y="88"/>
                  </a:lnTo>
                  <a:lnTo>
                    <a:pt x="53" y="75"/>
                  </a:lnTo>
                  <a:lnTo>
                    <a:pt x="68" y="61"/>
                  </a:lnTo>
                  <a:lnTo>
                    <a:pt x="85" y="54"/>
                  </a:lnTo>
                  <a:lnTo>
                    <a:pt x="103" y="45"/>
                  </a:lnTo>
                  <a:lnTo>
                    <a:pt x="122" y="40"/>
                  </a:lnTo>
                  <a:lnTo>
                    <a:pt x="142" y="36"/>
                  </a:lnTo>
                  <a:lnTo>
                    <a:pt x="163" y="33"/>
                  </a:lnTo>
                  <a:lnTo>
                    <a:pt x="184" y="29"/>
                  </a:lnTo>
                  <a:lnTo>
                    <a:pt x="207" y="27"/>
                  </a:lnTo>
                  <a:lnTo>
                    <a:pt x="231" y="26"/>
                  </a:lnTo>
                  <a:lnTo>
                    <a:pt x="254" y="26"/>
                  </a:lnTo>
                  <a:lnTo>
                    <a:pt x="277" y="25"/>
                  </a:lnTo>
                  <a:lnTo>
                    <a:pt x="300" y="24"/>
                  </a:lnTo>
                  <a:lnTo>
                    <a:pt x="322" y="21"/>
                  </a:lnTo>
                  <a:lnTo>
                    <a:pt x="312" y="14"/>
                  </a:lnTo>
                  <a:lnTo>
                    <a:pt x="322" y="21"/>
                  </a:lnTo>
                  <a:lnTo>
                    <a:pt x="331" y="18"/>
                  </a:lnTo>
                  <a:lnTo>
                    <a:pt x="333" y="10"/>
                  </a:lnTo>
                  <a:lnTo>
                    <a:pt x="331" y="4"/>
                  </a:lnTo>
                  <a:lnTo>
                    <a:pt x="322" y="0"/>
                  </a:lnTo>
                  <a:lnTo>
                    <a:pt x="3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7092720" y="2449080"/>
              <a:ext cx="64440" cy="434160"/>
            </a:xfrm>
            <a:custGeom>
              <a:avLst/>
              <a:gdLst/>
              <a:ahLst/>
              <a:rect l="l" t="t" r="r" b="b"/>
              <a:pathLst>
                <a:path w="132" h="1049">
                  <a:moveTo>
                    <a:pt x="62" y="2"/>
                  </a:moveTo>
                  <a:lnTo>
                    <a:pt x="73" y="32"/>
                  </a:lnTo>
                  <a:lnTo>
                    <a:pt x="83" y="72"/>
                  </a:lnTo>
                  <a:lnTo>
                    <a:pt x="95" y="120"/>
                  </a:lnTo>
                  <a:lnTo>
                    <a:pt x="105" y="174"/>
                  </a:lnTo>
                  <a:lnTo>
                    <a:pt x="115" y="230"/>
                  </a:lnTo>
                  <a:lnTo>
                    <a:pt x="123" y="285"/>
                  </a:lnTo>
                  <a:lnTo>
                    <a:pt x="130" y="338"/>
                  </a:lnTo>
                  <a:lnTo>
                    <a:pt x="132" y="384"/>
                  </a:lnTo>
                  <a:lnTo>
                    <a:pt x="130" y="392"/>
                  </a:lnTo>
                  <a:lnTo>
                    <a:pt x="124" y="396"/>
                  </a:lnTo>
                  <a:lnTo>
                    <a:pt x="118" y="401"/>
                  </a:lnTo>
                  <a:lnTo>
                    <a:pt x="110" y="403"/>
                  </a:lnTo>
                  <a:lnTo>
                    <a:pt x="101" y="406"/>
                  </a:lnTo>
                  <a:lnTo>
                    <a:pt x="93" y="409"/>
                  </a:lnTo>
                  <a:lnTo>
                    <a:pt x="87" y="414"/>
                  </a:lnTo>
                  <a:lnTo>
                    <a:pt x="84" y="419"/>
                  </a:lnTo>
                  <a:lnTo>
                    <a:pt x="92" y="426"/>
                  </a:lnTo>
                  <a:lnTo>
                    <a:pt x="100" y="430"/>
                  </a:lnTo>
                  <a:lnTo>
                    <a:pt x="109" y="434"/>
                  </a:lnTo>
                  <a:lnTo>
                    <a:pt x="116" y="437"/>
                  </a:lnTo>
                  <a:lnTo>
                    <a:pt x="123" y="440"/>
                  </a:lnTo>
                  <a:lnTo>
                    <a:pt x="130" y="448"/>
                  </a:lnTo>
                  <a:lnTo>
                    <a:pt x="132" y="456"/>
                  </a:lnTo>
                  <a:lnTo>
                    <a:pt x="131" y="469"/>
                  </a:lnTo>
                  <a:lnTo>
                    <a:pt x="122" y="534"/>
                  </a:lnTo>
                  <a:lnTo>
                    <a:pt x="116" y="599"/>
                  </a:lnTo>
                  <a:lnTo>
                    <a:pt x="111" y="663"/>
                  </a:lnTo>
                  <a:lnTo>
                    <a:pt x="104" y="728"/>
                  </a:lnTo>
                  <a:lnTo>
                    <a:pt x="98" y="791"/>
                  </a:lnTo>
                  <a:lnTo>
                    <a:pt x="90" y="855"/>
                  </a:lnTo>
                  <a:lnTo>
                    <a:pt x="80" y="918"/>
                  </a:lnTo>
                  <a:lnTo>
                    <a:pt x="67" y="980"/>
                  </a:lnTo>
                  <a:lnTo>
                    <a:pt x="63" y="998"/>
                  </a:lnTo>
                  <a:lnTo>
                    <a:pt x="57" y="1015"/>
                  </a:lnTo>
                  <a:lnTo>
                    <a:pt x="49" y="1032"/>
                  </a:lnTo>
                  <a:lnTo>
                    <a:pt x="46" y="1049"/>
                  </a:lnTo>
                  <a:lnTo>
                    <a:pt x="41" y="880"/>
                  </a:lnTo>
                  <a:lnTo>
                    <a:pt x="30" y="705"/>
                  </a:lnTo>
                  <a:lnTo>
                    <a:pt x="19" y="530"/>
                  </a:lnTo>
                  <a:lnTo>
                    <a:pt x="14" y="358"/>
                  </a:lnTo>
                  <a:lnTo>
                    <a:pt x="11" y="278"/>
                  </a:lnTo>
                  <a:lnTo>
                    <a:pt x="7" y="193"/>
                  </a:lnTo>
                  <a:lnTo>
                    <a:pt x="2" y="111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9" y="23"/>
                  </a:lnTo>
                  <a:lnTo>
                    <a:pt x="18" y="16"/>
                  </a:lnTo>
                  <a:lnTo>
                    <a:pt x="28" y="11"/>
                  </a:lnTo>
                  <a:lnTo>
                    <a:pt x="39" y="4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7088040" y="2449080"/>
              <a:ext cx="44640" cy="159480"/>
            </a:xfrm>
            <a:custGeom>
              <a:avLst/>
              <a:gdLst/>
              <a:ahLst/>
              <a:rect l="l" t="t" r="r" b="b"/>
              <a:pathLst>
                <a:path w="89" h="385">
                  <a:moveTo>
                    <a:pt x="89" y="385"/>
                  </a:moveTo>
                  <a:lnTo>
                    <a:pt x="89" y="385"/>
                  </a:lnTo>
                  <a:lnTo>
                    <a:pt x="87" y="339"/>
                  </a:lnTo>
                  <a:lnTo>
                    <a:pt x="81" y="285"/>
                  </a:lnTo>
                  <a:lnTo>
                    <a:pt x="72" y="229"/>
                  </a:lnTo>
                  <a:lnTo>
                    <a:pt x="63" y="174"/>
                  </a:lnTo>
                  <a:lnTo>
                    <a:pt x="52" y="120"/>
                  </a:lnTo>
                  <a:lnTo>
                    <a:pt x="41" y="71"/>
                  </a:lnTo>
                  <a:lnTo>
                    <a:pt x="30" y="31"/>
                  </a:lnTo>
                  <a:lnTo>
                    <a:pt x="19" y="0"/>
                  </a:lnTo>
                  <a:lnTo>
                    <a:pt x="0" y="6"/>
                  </a:lnTo>
                  <a:lnTo>
                    <a:pt x="9" y="35"/>
                  </a:lnTo>
                  <a:lnTo>
                    <a:pt x="20" y="75"/>
                  </a:lnTo>
                  <a:lnTo>
                    <a:pt x="31" y="123"/>
                  </a:lnTo>
                  <a:lnTo>
                    <a:pt x="42" y="176"/>
                  </a:lnTo>
                  <a:lnTo>
                    <a:pt x="51" y="232"/>
                  </a:lnTo>
                  <a:lnTo>
                    <a:pt x="60" y="287"/>
                  </a:lnTo>
                  <a:lnTo>
                    <a:pt x="66" y="339"/>
                  </a:lnTo>
                  <a:lnTo>
                    <a:pt x="68" y="385"/>
                  </a:lnTo>
                  <a:lnTo>
                    <a:pt x="68" y="385"/>
                  </a:lnTo>
                  <a:lnTo>
                    <a:pt x="89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7087680" y="2608560"/>
              <a:ext cx="34920" cy="1800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19" y="29"/>
                  </a:moveTo>
                  <a:lnTo>
                    <a:pt x="21" y="37"/>
                  </a:lnTo>
                  <a:lnTo>
                    <a:pt x="21" y="35"/>
                  </a:lnTo>
                  <a:lnTo>
                    <a:pt x="24" y="34"/>
                  </a:lnTo>
                  <a:lnTo>
                    <a:pt x="30" y="31"/>
                  </a:lnTo>
                  <a:lnTo>
                    <a:pt x="38" y="30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5" y="12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6" y="3"/>
                  </a:lnTo>
                  <a:lnTo>
                    <a:pt x="45" y="4"/>
                  </a:lnTo>
                  <a:lnTo>
                    <a:pt x="40" y="8"/>
                  </a:lnTo>
                  <a:lnTo>
                    <a:pt x="33" y="9"/>
                  </a:lnTo>
                  <a:lnTo>
                    <a:pt x="24" y="12"/>
                  </a:lnTo>
                  <a:lnTo>
                    <a:pt x="14" y="15"/>
                  </a:lnTo>
                  <a:lnTo>
                    <a:pt x="5" y="24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9" y="46"/>
                  </a:lnTo>
                  <a:lnTo>
                    <a:pt x="18" y="44"/>
                  </a:lnTo>
                  <a:lnTo>
                    <a:pt x="21" y="37"/>
                  </a:lnTo>
                  <a:lnTo>
                    <a:pt x="1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7087680" y="2619000"/>
              <a:ext cx="32040" cy="2880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64" y="57"/>
                  </a:moveTo>
                  <a:lnTo>
                    <a:pt x="64" y="57"/>
                  </a:lnTo>
                  <a:lnTo>
                    <a:pt x="65" y="43"/>
                  </a:lnTo>
                  <a:lnTo>
                    <a:pt x="62" y="31"/>
                  </a:lnTo>
                  <a:lnTo>
                    <a:pt x="53" y="20"/>
                  </a:lnTo>
                  <a:lnTo>
                    <a:pt x="43" y="15"/>
                  </a:lnTo>
                  <a:lnTo>
                    <a:pt x="35" y="12"/>
                  </a:lnTo>
                  <a:lnTo>
                    <a:pt x="27" y="8"/>
                  </a:lnTo>
                  <a:lnTo>
                    <a:pt x="21" y="4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8" y="21"/>
                  </a:lnTo>
                  <a:lnTo>
                    <a:pt x="18" y="26"/>
                  </a:lnTo>
                  <a:lnTo>
                    <a:pt x="27" y="31"/>
                  </a:lnTo>
                  <a:lnTo>
                    <a:pt x="36" y="34"/>
                  </a:lnTo>
                  <a:lnTo>
                    <a:pt x="41" y="36"/>
                  </a:lnTo>
                  <a:lnTo>
                    <a:pt x="43" y="40"/>
                  </a:lnTo>
                  <a:lnTo>
                    <a:pt x="44" y="43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5" y="63"/>
                  </a:lnTo>
                  <a:lnTo>
                    <a:pt x="53" y="67"/>
                  </a:lnTo>
                  <a:lnTo>
                    <a:pt x="61" y="64"/>
                  </a:lnTo>
                  <a:lnTo>
                    <a:pt x="64" y="57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7087680" y="2641680"/>
              <a:ext cx="42480" cy="212760"/>
            </a:xfrm>
            <a:custGeom>
              <a:avLst/>
              <a:gdLst/>
              <a:ahLst/>
              <a:rect l="l" t="t" r="r" b="b"/>
              <a:pathLst>
                <a:path w="84" h="514">
                  <a:moveTo>
                    <a:pt x="21" y="512"/>
                  </a:moveTo>
                  <a:lnTo>
                    <a:pt x="21" y="514"/>
                  </a:lnTo>
                  <a:lnTo>
                    <a:pt x="34" y="451"/>
                  </a:lnTo>
                  <a:lnTo>
                    <a:pt x="43" y="388"/>
                  </a:lnTo>
                  <a:lnTo>
                    <a:pt x="52" y="324"/>
                  </a:lnTo>
                  <a:lnTo>
                    <a:pt x="58" y="260"/>
                  </a:lnTo>
                  <a:lnTo>
                    <a:pt x="64" y="195"/>
                  </a:lnTo>
                  <a:lnTo>
                    <a:pt x="71" y="131"/>
                  </a:lnTo>
                  <a:lnTo>
                    <a:pt x="76" y="67"/>
                  </a:lnTo>
                  <a:lnTo>
                    <a:pt x="84" y="2"/>
                  </a:lnTo>
                  <a:lnTo>
                    <a:pt x="63" y="0"/>
                  </a:lnTo>
                  <a:lnTo>
                    <a:pt x="55" y="65"/>
                  </a:lnTo>
                  <a:lnTo>
                    <a:pt x="48" y="131"/>
                  </a:lnTo>
                  <a:lnTo>
                    <a:pt x="43" y="195"/>
                  </a:lnTo>
                  <a:lnTo>
                    <a:pt x="37" y="260"/>
                  </a:lnTo>
                  <a:lnTo>
                    <a:pt x="30" y="322"/>
                  </a:lnTo>
                  <a:lnTo>
                    <a:pt x="22" y="386"/>
                  </a:lnTo>
                  <a:lnTo>
                    <a:pt x="12" y="449"/>
                  </a:lnTo>
                  <a:lnTo>
                    <a:pt x="0" y="510"/>
                  </a:lnTo>
                  <a:lnTo>
                    <a:pt x="0" y="512"/>
                  </a:lnTo>
                  <a:lnTo>
                    <a:pt x="21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7119720" y="2854440"/>
              <a:ext cx="19800" cy="33120"/>
            </a:xfrm>
            <a:custGeom>
              <a:avLst/>
              <a:gdLst/>
              <a:ahLst/>
              <a:rect l="l" t="t" r="r" b="b"/>
              <a:pathLst>
                <a:path w="42" h="79">
                  <a:moveTo>
                    <a:pt x="0" y="69"/>
                  </a:moveTo>
                  <a:lnTo>
                    <a:pt x="21" y="69"/>
                  </a:lnTo>
                  <a:lnTo>
                    <a:pt x="24" y="54"/>
                  </a:lnTo>
                  <a:lnTo>
                    <a:pt x="29" y="38"/>
                  </a:lnTo>
                  <a:lnTo>
                    <a:pt x="38" y="2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7" y="16"/>
                  </a:lnTo>
                  <a:lnTo>
                    <a:pt x="11" y="31"/>
                  </a:lnTo>
                  <a:lnTo>
                    <a:pt x="3" y="50"/>
                  </a:lnTo>
                  <a:lnTo>
                    <a:pt x="0" y="69"/>
                  </a:lnTo>
                  <a:lnTo>
                    <a:pt x="21" y="69"/>
                  </a:lnTo>
                  <a:lnTo>
                    <a:pt x="0" y="69"/>
                  </a:lnTo>
                  <a:lnTo>
                    <a:pt x="3" y="77"/>
                  </a:lnTo>
                  <a:lnTo>
                    <a:pt x="10" y="79"/>
                  </a:lnTo>
                  <a:lnTo>
                    <a:pt x="17" y="77"/>
                  </a:lnTo>
                  <a:lnTo>
                    <a:pt x="21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7130160" y="2595960"/>
              <a:ext cx="27000" cy="287280"/>
            </a:xfrm>
            <a:custGeom>
              <a:avLst/>
              <a:gdLst/>
              <a:ahLst/>
              <a:rect l="l" t="t" r="r" b="b"/>
              <a:pathLst>
                <a:path w="54" h="691">
                  <a:moveTo>
                    <a:pt x="0" y="0"/>
                  </a:moveTo>
                  <a:lnTo>
                    <a:pt x="0" y="0"/>
                  </a:lnTo>
                  <a:lnTo>
                    <a:pt x="5" y="172"/>
                  </a:lnTo>
                  <a:lnTo>
                    <a:pt x="17" y="347"/>
                  </a:lnTo>
                  <a:lnTo>
                    <a:pt x="27" y="522"/>
                  </a:lnTo>
                  <a:lnTo>
                    <a:pt x="33" y="691"/>
                  </a:lnTo>
                  <a:lnTo>
                    <a:pt x="54" y="691"/>
                  </a:lnTo>
                  <a:lnTo>
                    <a:pt x="49" y="522"/>
                  </a:lnTo>
                  <a:lnTo>
                    <a:pt x="38" y="347"/>
                  </a:lnTo>
                  <a:lnTo>
                    <a:pt x="26" y="17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7148160" y="2459520"/>
              <a:ext cx="17280" cy="136440"/>
            </a:xfrm>
            <a:custGeom>
              <a:avLst/>
              <a:gdLst/>
              <a:ahLst/>
              <a:rect l="l" t="t" r="r" b="b"/>
              <a:pathLst>
                <a:path w="35" h="333">
                  <a:moveTo>
                    <a:pt x="0" y="9"/>
                  </a:moveTo>
                  <a:lnTo>
                    <a:pt x="0" y="11"/>
                  </a:lnTo>
                  <a:lnTo>
                    <a:pt x="2" y="86"/>
                  </a:lnTo>
                  <a:lnTo>
                    <a:pt x="8" y="168"/>
                  </a:lnTo>
                  <a:lnTo>
                    <a:pt x="12" y="253"/>
                  </a:lnTo>
                  <a:lnTo>
                    <a:pt x="14" y="333"/>
                  </a:lnTo>
                  <a:lnTo>
                    <a:pt x="35" y="333"/>
                  </a:lnTo>
                  <a:lnTo>
                    <a:pt x="33" y="253"/>
                  </a:lnTo>
                  <a:lnTo>
                    <a:pt x="29" y="168"/>
                  </a:lnTo>
                  <a:lnTo>
                    <a:pt x="23" y="86"/>
                  </a:lnTo>
                  <a:lnTo>
                    <a:pt x="21" y="11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7122960" y="2445120"/>
              <a:ext cx="42480" cy="2052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83" y="9"/>
                  </a:moveTo>
                  <a:lnTo>
                    <a:pt x="80" y="4"/>
                  </a:lnTo>
                  <a:lnTo>
                    <a:pt x="68" y="0"/>
                  </a:lnTo>
                  <a:lnTo>
                    <a:pt x="57" y="1"/>
                  </a:lnTo>
                  <a:lnTo>
                    <a:pt x="47" y="5"/>
                  </a:lnTo>
                  <a:lnTo>
                    <a:pt x="34" y="11"/>
                  </a:lnTo>
                  <a:lnTo>
                    <a:pt x="22" y="19"/>
                  </a:lnTo>
                  <a:lnTo>
                    <a:pt x="13" y="26"/>
                  </a:lnTo>
                  <a:lnTo>
                    <a:pt x="7" y="34"/>
                  </a:lnTo>
                  <a:lnTo>
                    <a:pt x="0" y="44"/>
                  </a:lnTo>
                  <a:lnTo>
                    <a:pt x="21" y="49"/>
                  </a:lnTo>
                  <a:lnTo>
                    <a:pt x="22" y="46"/>
                  </a:lnTo>
                  <a:lnTo>
                    <a:pt x="28" y="41"/>
                  </a:lnTo>
                  <a:lnTo>
                    <a:pt x="34" y="34"/>
                  </a:lnTo>
                  <a:lnTo>
                    <a:pt x="44" y="30"/>
                  </a:lnTo>
                  <a:lnTo>
                    <a:pt x="53" y="24"/>
                  </a:lnTo>
                  <a:lnTo>
                    <a:pt x="61" y="22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64" y="15"/>
                  </a:lnTo>
                  <a:lnTo>
                    <a:pt x="67" y="21"/>
                  </a:lnTo>
                  <a:lnTo>
                    <a:pt x="74" y="23"/>
                  </a:lnTo>
                  <a:lnTo>
                    <a:pt x="82" y="20"/>
                  </a:lnTo>
                  <a:lnTo>
                    <a:pt x="84" y="12"/>
                  </a:lnTo>
                  <a:lnTo>
                    <a:pt x="80" y="4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7052400" y="2174400"/>
              <a:ext cx="248040" cy="361440"/>
            </a:xfrm>
            <a:custGeom>
              <a:avLst/>
              <a:gdLst/>
              <a:ahLst/>
              <a:rect l="l" t="t" r="r" b="b"/>
              <a:pathLst>
                <a:path w="497" h="873">
                  <a:moveTo>
                    <a:pt x="276" y="0"/>
                  </a:moveTo>
                  <a:lnTo>
                    <a:pt x="291" y="6"/>
                  </a:lnTo>
                  <a:lnTo>
                    <a:pt x="305" y="12"/>
                  </a:lnTo>
                  <a:lnTo>
                    <a:pt x="321" y="18"/>
                  </a:lnTo>
                  <a:lnTo>
                    <a:pt x="336" y="24"/>
                  </a:lnTo>
                  <a:lnTo>
                    <a:pt x="351" y="32"/>
                  </a:lnTo>
                  <a:lnTo>
                    <a:pt x="366" y="40"/>
                  </a:lnTo>
                  <a:lnTo>
                    <a:pt x="382" y="49"/>
                  </a:lnTo>
                  <a:lnTo>
                    <a:pt x="396" y="58"/>
                  </a:lnTo>
                  <a:lnTo>
                    <a:pt x="412" y="69"/>
                  </a:lnTo>
                  <a:lnTo>
                    <a:pt x="424" y="78"/>
                  </a:lnTo>
                  <a:lnTo>
                    <a:pt x="437" y="90"/>
                  </a:lnTo>
                  <a:lnTo>
                    <a:pt x="449" y="100"/>
                  </a:lnTo>
                  <a:lnTo>
                    <a:pt x="458" y="113"/>
                  </a:lnTo>
                  <a:lnTo>
                    <a:pt x="468" y="127"/>
                  </a:lnTo>
                  <a:lnTo>
                    <a:pt x="475" y="139"/>
                  </a:lnTo>
                  <a:lnTo>
                    <a:pt x="479" y="153"/>
                  </a:lnTo>
                  <a:lnTo>
                    <a:pt x="486" y="188"/>
                  </a:lnTo>
                  <a:lnTo>
                    <a:pt x="484" y="221"/>
                  </a:lnTo>
                  <a:lnTo>
                    <a:pt x="479" y="252"/>
                  </a:lnTo>
                  <a:lnTo>
                    <a:pt x="473" y="284"/>
                  </a:lnTo>
                  <a:lnTo>
                    <a:pt x="465" y="318"/>
                  </a:lnTo>
                  <a:lnTo>
                    <a:pt x="460" y="350"/>
                  </a:lnTo>
                  <a:lnTo>
                    <a:pt x="460" y="382"/>
                  </a:lnTo>
                  <a:lnTo>
                    <a:pt x="469" y="416"/>
                  </a:lnTo>
                  <a:lnTo>
                    <a:pt x="472" y="425"/>
                  </a:lnTo>
                  <a:lnTo>
                    <a:pt x="476" y="435"/>
                  </a:lnTo>
                  <a:lnTo>
                    <a:pt x="482" y="445"/>
                  </a:lnTo>
                  <a:lnTo>
                    <a:pt x="488" y="455"/>
                  </a:lnTo>
                  <a:lnTo>
                    <a:pt x="493" y="466"/>
                  </a:lnTo>
                  <a:lnTo>
                    <a:pt x="496" y="477"/>
                  </a:lnTo>
                  <a:lnTo>
                    <a:pt x="497" y="488"/>
                  </a:lnTo>
                  <a:lnTo>
                    <a:pt x="496" y="498"/>
                  </a:lnTo>
                  <a:lnTo>
                    <a:pt x="489" y="504"/>
                  </a:lnTo>
                  <a:lnTo>
                    <a:pt x="479" y="507"/>
                  </a:lnTo>
                  <a:lnTo>
                    <a:pt x="467" y="511"/>
                  </a:lnTo>
                  <a:lnTo>
                    <a:pt x="454" y="513"/>
                  </a:lnTo>
                  <a:lnTo>
                    <a:pt x="441" y="516"/>
                  </a:lnTo>
                  <a:lnTo>
                    <a:pt x="431" y="521"/>
                  </a:lnTo>
                  <a:lnTo>
                    <a:pt x="422" y="524"/>
                  </a:lnTo>
                  <a:lnTo>
                    <a:pt x="419" y="527"/>
                  </a:lnTo>
                  <a:lnTo>
                    <a:pt x="414" y="545"/>
                  </a:lnTo>
                  <a:lnTo>
                    <a:pt x="408" y="571"/>
                  </a:lnTo>
                  <a:lnTo>
                    <a:pt x="403" y="602"/>
                  </a:lnTo>
                  <a:lnTo>
                    <a:pt x="397" y="634"/>
                  </a:lnTo>
                  <a:lnTo>
                    <a:pt x="392" y="666"/>
                  </a:lnTo>
                  <a:lnTo>
                    <a:pt x="385" y="696"/>
                  </a:lnTo>
                  <a:lnTo>
                    <a:pt x="380" y="721"/>
                  </a:lnTo>
                  <a:lnTo>
                    <a:pt x="373" y="737"/>
                  </a:lnTo>
                  <a:lnTo>
                    <a:pt x="368" y="738"/>
                  </a:lnTo>
                  <a:lnTo>
                    <a:pt x="363" y="736"/>
                  </a:lnTo>
                  <a:lnTo>
                    <a:pt x="356" y="734"/>
                  </a:lnTo>
                  <a:lnTo>
                    <a:pt x="346" y="729"/>
                  </a:lnTo>
                  <a:lnTo>
                    <a:pt x="339" y="747"/>
                  </a:lnTo>
                  <a:lnTo>
                    <a:pt x="326" y="767"/>
                  </a:lnTo>
                  <a:lnTo>
                    <a:pt x="312" y="790"/>
                  </a:lnTo>
                  <a:lnTo>
                    <a:pt x="297" y="813"/>
                  </a:lnTo>
                  <a:lnTo>
                    <a:pt x="280" y="834"/>
                  </a:lnTo>
                  <a:lnTo>
                    <a:pt x="263" y="853"/>
                  </a:lnTo>
                  <a:lnTo>
                    <a:pt x="245" y="866"/>
                  </a:lnTo>
                  <a:lnTo>
                    <a:pt x="228" y="873"/>
                  </a:lnTo>
                  <a:lnTo>
                    <a:pt x="213" y="866"/>
                  </a:lnTo>
                  <a:lnTo>
                    <a:pt x="199" y="859"/>
                  </a:lnTo>
                  <a:lnTo>
                    <a:pt x="186" y="850"/>
                  </a:lnTo>
                  <a:lnTo>
                    <a:pt x="172" y="842"/>
                  </a:lnTo>
                  <a:lnTo>
                    <a:pt x="158" y="830"/>
                  </a:lnTo>
                  <a:lnTo>
                    <a:pt x="144" y="819"/>
                  </a:lnTo>
                  <a:lnTo>
                    <a:pt x="132" y="809"/>
                  </a:lnTo>
                  <a:lnTo>
                    <a:pt x="119" y="797"/>
                  </a:lnTo>
                  <a:lnTo>
                    <a:pt x="107" y="786"/>
                  </a:lnTo>
                  <a:lnTo>
                    <a:pt x="96" y="774"/>
                  </a:lnTo>
                  <a:lnTo>
                    <a:pt x="84" y="762"/>
                  </a:lnTo>
                  <a:lnTo>
                    <a:pt x="72" y="751"/>
                  </a:lnTo>
                  <a:lnTo>
                    <a:pt x="61" y="737"/>
                  </a:lnTo>
                  <a:lnTo>
                    <a:pt x="50" y="725"/>
                  </a:lnTo>
                  <a:lnTo>
                    <a:pt x="40" y="715"/>
                  </a:lnTo>
                  <a:lnTo>
                    <a:pt x="30" y="703"/>
                  </a:lnTo>
                  <a:lnTo>
                    <a:pt x="16" y="658"/>
                  </a:lnTo>
                  <a:lnTo>
                    <a:pt x="6" y="612"/>
                  </a:lnTo>
                  <a:lnTo>
                    <a:pt x="0" y="564"/>
                  </a:lnTo>
                  <a:lnTo>
                    <a:pt x="0" y="514"/>
                  </a:lnTo>
                  <a:lnTo>
                    <a:pt x="4" y="465"/>
                  </a:lnTo>
                  <a:lnTo>
                    <a:pt x="11" y="415"/>
                  </a:lnTo>
                  <a:lnTo>
                    <a:pt x="24" y="365"/>
                  </a:lnTo>
                  <a:lnTo>
                    <a:pt x="39" y="316"/>
                  </a:lnTo>
                  <a:lnTo>
                    <a:pt x="58" y="268"/>
                  </a:lnTo>
                  <a:lnTo>
                    <a:pt x="81" y="222"/>
                  </a:lnTo>
                  <a:lnTo>
                    <a:pt x="106" y="177"/>
                  </a:lnTo>
                  <a:lnTo>
                    <a:pt x="136" y="134"/>
                  </a:lnTo>
                  <a:lnTo>
                    <a:pt x="168" y="95"/>
                  </a:lnTo>
                  <a:lnTo>
                    <a:pt x="201" y="60"/>
                  </a:lnTo>
                  <a:lnTo>
                    <a:pt x="238" y="29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ffe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7055280" y="2171880"/>
              <a:ext cx="107280" cy="70200"/>
            </a:xfrm>
            <a:custGeom>
              <a:avLst/>
              <a:gdLst/>
              <a:ahLst/>
              <a:rect l="l" t="t" r="r" b="b"/>
              <a:pathLst>
                <a:path w="215" h="170">
                  <a:moveTo>
                    <a:pt x="215" y="159"/>
                  </a:moveTo>
                  <a:lnTo>
                    <a:pt x="215" y="159"/>
                  </a:lnTo>
                  <a:lnTo>
                    <a:pt x="209" y="143"/>
                  </a:lnTo>
                  <a:lnTo>
                    <a:pt x="202" y="129"/>
                  </a:lnTo>
                  <a:lnTo>
                    <a:pt x="191" y="117"/>
                  </a:lnTo>
                  <a:lnTo>
                    <a:pt x="182" y="102"/>
                  </a:lnTo>
                  <a:lnTo>
                    <a:pt x="169" y="90"/>
                  </a:lnTo>
                  <a:lnTo>
                    <a:pt x="157" y="79"/>
                  </a:lnTo>
                  <a:lnTo>
                    <a:pt x="142" y="69"/>
                  </a:lnTo>
                  <a:lnTo>
                    <a:pt x="127" y="59"/>
                  </a:lnTo>
                  <a:lnTo>
                    <a:pt x="112" y="48"/>
                  </a:lnTo>
                  <a:lnTo>
                    <a:pt x="96" y="40"/>
                  </a:lnTo>
                  <a:lnTo>
                    <a:pt x="81" y="31"/>
                  </a:lnTo>
                  <a:lnTo>
                    <a:pt x="66" y="25"/>
                  </a:lnTo>
                  <a:lnTo>
                    <a:pt x="50" y="18"/>
                  </a:lnTo>
                  <a:lnTo>
                    <a:pt x="35" y="11"/>
                  </a:lnTo>
                  <a:lnTo>
                    <a:pt x="20" y="6"/>
                  </a:lnTo>
                  <a:lnTo>
                    <a:pt x="6" y="0"/>
                  </a:lnTo>
                  <a:lnTo>
                    <a:pt x="0" y="16"/>
                  </a:lnTo>
                  <a:lnTo>
                    <a:pt x="14" y="22"/>
                  </a:lnTo>
                  <a:lnTo>
                    <a:pt x="28" y="28"/>
                  </a:lnTo>
                  <a:lnTo>
                    <a:pt x="43" y="34"/>
                  </a:lnTo>
                  <a:lnTo>
                    <a:pt x="58" y="41"/>
                  </a:lnTo>
                  <a:lnTo>
                    <a:pt x="73" y="48"/>
                  </a:lnTo>
                  <a:lnTo>
                    <a:pt x="89" y="57"/>
                  </a:lnTo>
                  <a:lnTo>
                    <a:pt x="103" y="65"/>
                  </a:lnTo>
                  <a:lnTo>
                    <a:pt x="118" y="72"/>
                  </a:lnTo>
                  <a:lnTo>
                    <a:pt x="132" y="83"/>
                  </a:lnTo>
                  <a:lnTo>
                    <a:pt x="144" y="93"/>
                  </a:lnTo>
                  <a:lnTo>
                    <a:pt x="158" y="105"/>
                  </a:lnTo>
                  <a:lnTo>
                    <a:pt x="168" y="115"/>
                  </a:lnTo>
                  <a:lnTo>
                    <a:pt x="178" y="126"/>
                  </a:lnTo>
                  <a:lnTo>
                    <a:pt x="185" y="139"/>
                  </a:lnTo>
                  <a:lnTo>
                    <a:pt x="193" y="151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201" y="170"/>
                  </a:lnTo>
                  <a:lnTo>
                    <a:pt x="208" y="170"/>
                  </a:lnTo>
                  <a:lnTo>
                    <a:pt x="214" y="166"/>
                  </a:lnTo>
                  <a:lnTo>
                    <a:pt x="215" y="159"/>
                  </a:lnTo>
                  <a:lnTo>
                    <a:pt x="215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7052040" y="2238120"/>
              <a:ext cx="22680" cy="111960"/>
            </a:xfrm>
            <a:custGeom>
              <a:avLst/>
              <a:gdLst/>
              <a:ahLst/>
              <a:rect l="l" t="t" r="r" b="b"/>
              <a:pathLst>
                <a:path w="43" h="274">
                  <a:moveTo>
                    <a:pt x="26" y="264"/>
                  </a:moveTo>
                  <a:lnTo>
                    <a:pt x="25" y="263"/>
                  </a:lnTo>
                  <a:lnTo>
                    <a:pt x="18" y="231"/>
                  </a:lnTo>
                  <a:lnTo>
                    <a:pt x="18" y="199"/>
                  </a:lnTo>
                  <a:lnTo>
                    <a:pt x="23" y="168"/>
                  </a:lnTo>
                  <a:lnTo>
                    <a:pt x="30" y="134"/>
                  </a:lnTo>
                  <a:lnTo>
                    <a:pt x="37" y="102"/>
                  </a:lnTo>
                  <a:lnTo>
                    <a:pt x="42" y="70"/>
                  </a:lnTo>
                  <a:lnTo>
                    <a:pt x="43" y="37"/>
                  </a:lnTo>
                  <a:lnTo>
                    <a:pt x="37" y="0"/>
                  </a:lnTo>
                  <a:lnTo>
                    <a:pt x="18" y="4"/>
                  </a:lnTo>
                  <a:lnTo>
                    <a:pt x="24" y="37"/>
                  </a:lnTo>
                  <a:lnTo>
                    <a:pt x="23" y="70"/>
                  </a:lnTo>
                  <a:lnTo>
                    <a:pt x="18" y="100"/>
                  </a:lnTo>
                  <a:lnTo>
                    <a:pt x="11" y="132"/>
                  </a:lnTo>
                  <a:lnTo>
                    <a:pt x="4" y="165"/>
                  </a:lnTo>
                  <a:lnTo>
                    <a:pt x="0" y="199"/>
                  </a:lnTo>
                  <a:lnTo>
                    <a:pt x="0" y="231"/>
                  </a:lnTo>
                  <a:lnTo>
                    <a:pt x="8" y="268"/>
                  </a:lnTo>
                  <a:lnTo>
                    <a:pt x="7" y="266"/>
                  </a:lnTo>
                  <a:lnTo>
                    <a:pt x="8" y="268"/>
                  </a:lnTo>
                  <a:lnTo>
                    <a:pt x="12" y="272"/>
                  </a:lnTo>
                  <a:lnTo>
                    <a:pt x="20" y="274"/>
                  </a:lnTo>
                  <a:lnTo>
                    <a:pt x="24" y="270"/>
                  </a:lnTo>
                  <a:lnTo>
                    <a:pt x="25" y="263"/>
                  </a:lnTo>
                  <a:lnTo>
                    <a:pt x="2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7047000" y="2346120"/>
              <a:ext cx="22680" cy="3888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44" y="90"/>
                  </a:moveTo>
                  <a:lnTo>
                    <a:pt x="46" y="87"/>
                  </a:lnTo>
                  <a:lnTo>
                    <a:pt x="48" y="73"/>
                  </a:lnTo>
                  <a:lnTo>
                    <a:pt x="47" y="61"/>
                  </a:lnTo>
                  <a:lnTo>
                    <a:pt x="41" y="49"/>
                  </a:lnTo>
                  <a:lnTo>
                    <a:pt x="37" y="37"/>
                  </a:lnTo>
                  <a:lnTo>
                    <a:pt x="31" y="25"/>
                  </a:lnTo>
                  <a:lnTo>
                    <a:pt x="25" y="17"/>
                  </a:lnTo>
                  <a:lnTo>
                    <a:pt x="20" y="7"/>
                  </a:lnTo>
                  <a:lnTo>
                    <a:pt x="19" y="0"/>
                  </a:lnTo>
                  <a:lnTo>
                    <a:pt x="0" y="2"/>
                  </a:lnTo>
                  <a:lnTo>
                    <a:pt x="4" y="12"/>
                  </a:lnTo>
                  <a:lnTo>
                    <a:pt x="9" y="24"/>
                  </a:lnTo>
                  <a:lnTo>
                    <a:pt x="15" y="35"/>
                  </a:lnTo>
                  <a:lnTo>
                    <a:pt x="20" y="44"/>
                  </a:lnTo>
                  <a:lnTo>
                    <a:pt x="25" y="54"/>
                  </a:lnTo>
                  <a:lnTo>
                    <a:pt x="28" y="64"/>
                  </a:lnTo>
                  <a:lnTo>
                    <a:pt x="29" y="73"/>
                  </a:lnTo>
                  <a:lnTo>
                    <a:pt x="29" y="81"/>
                  </a:lnTo>
                  <a:lnTo>
                    <a:pt x="30" y="78"/>
                  </a:lnTo>
                  <a:lnTo>
                    <a:pt x="29" y="81"/>
                  </a:lnTo>
                  <a:lnTo>
                    <a:pt x="30" y="89"/>
                  </a:lnTo>
                  <a:lnTo>
                    <a:pt x="36" y="92"/>
                  </a:lnTo>
                  <a:lnTo>
                    <a:pt x="41" y="91"/>
                  </a:lnTo>
                  <a:lnTo>
                    <a:pt x="46" y="87"/>
                  </a:lnTo>
                  <a:lnTo>
                    <a:pt x="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7047720" y="2378880"/>
              <a:ext cx="47520" cy="1656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16" y="38"/>
                  </a:moveTo>
                  <a:lnTo>
                    <a:pt x="18" y="34"/>
                  </a:lnTo>
                  <a:lnTo>
                    <a:pt x="15" y="39"/>
                  </a:lnTo>
                  <a:lnTo>
                    <a:pt x="22" y="35"/>
                  </a:lnTo>
                  <a:lnTo>
                    <a:pt x="32" y="33"/>
                  </a:lnTo>
                  <a:lnTo>
                    <a:pt x="44" y="30"/>
                  </a:lnTo>
                  <a:lnTo>
                    <a:pt x="57" y="28"/>
                  </a:lnTo>
                  <a:lnTo>
                    <a:pt x="71" y="23"/>
                  </a:lnTo>
                  <a:lnTo>
                    <a:pt x="82" y="19"/>
                  </a:lnTo>
                  <a:lnTo>
                    <a:pt x="92" y="12"/>
                  </a:lnTo>
                  <a:lnTo>
                    <a:pt x="78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4" y="9"/>
                  </a:lnTo>
                  <a:lnTo>
                    <a:pt x="42" y="11"/>
                  </a:lnTo>
                  <a:lnTo>
                    <a:pt x="27" y="14"/>
                  </a:lnTo>
                  <a:lnTo>
                    <a:pt x="16" y="19"/>
                  </a:lnTo>
                  <a:lnTo>
                    <a:pt x="6" y="22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3" y="41"/>
                  </a:lnTo>
                  <a:lnTo>
                    <a:pt x="8" y="42"/>
                  </a:lnTo>
                  <a:lnTo>
                    <a:pt x="15" y="41"/>
                  </a:lnTo>
                  <a:lnTo>
                    <a:pt x="18" y="34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7087680" y="2391480"/>
              <a:ext cx="29880" cy="92880"/>
            </a:xfrm>
            <a:custGeom>
              <a:avLst/>
              <a:gdLst/>
              <a:ahLst/>
              <a:rect l="l" t="t" r="r" b="b"/>
              <a:pathLst>
                <a:path w="63" h="222">
                  <a:moveTo>
                    <a:pt x="14" y="219"/>
                  </a:moveTo>
                  <a:lnTo>
                    <a:pt x="17" y="217"/>
                  </a:lnTo>
                  <a:lnTo>
                    <a:pt x="24" y="199"/>
                  </a:lnTo>
                  <a:lnTo>
                    <a:pt x="31" y="173"/>
                  </a:lnTo>
                  <a:lnTo>
                    <a:pt x="37" y="143"/>
                  </a:lnTo>
                  <a:lnTo>
                    <a:pt x="42" y="111"/>
                  </a:lnTo>
                  <a:lnTo>
                    <a:pt x="49" y="79"/>
                  </a:lnTo>
                  <a:lnTo>
                    <a:pt x="54" y="48"/>
                  </a:lnTo>
                  <a:lnTo>
                    <a:pt x="59" y="22"/>
                  </a:lnTo>
                  <a:lnTo>
                    <a:pt x="63" y="7"/>
                  </a:lnTo>
                  <a:lnTo>
                    <a:pt x="48" y="0"/>
                  </a:lnTo>
                  <a:lnTo>
                    <a:pt x="40" y="20"/>
                  </a:lnTo>
                  <a:lnTo>
                    <a:pt x="35" y="46"/>
                  </a:lnTo>
                  <a:lnTo>
                    <a:pt x="30" y="77"/>
                  </a:lnTo>
                  <a:lnTo>
                    <a:pt x="23" y="109"/>
                  </a:lnTo>
                  <a:lnTo>
                    <a:pt x="18" y="141"/>
                  </a:lnTo>
                  <a:lnTo>
                    <a:pt x="12" y="171"/>
                  </a:lnTo>
                  <a:lnTo>
                    <a:pt x="6" y="194"/>
                  </a:lnTo>
                  <a:lnTo>
                    <a:pt x="0" y="210"/>
                  </a:lnTo>
                  <a:lnTo>
                    <a:pt x="2" y="208"/>
                  </a:lnTo>
                  <a:lnTo>
                    <a:pt x="0" y="210"/>
                  </a:lnTo>
                  <a:lnTo>
                    <a:pt x="0" y="217"/>
                  </a:lnTo>
                  <a:lnTo>
                    <a:pt x="4" y="222"/>
                  </a:lnTo>
                  <a:lnTo>
                    <a:pt x="12" y="222"/>
                  </a:lnTo>
                  <a:lnTo>
                    <a:pt x="17" y="217"/>
                  </a:lnTo>
                  <a:lnTo>
                    <a:pt x="1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7110000" y="2473920"/>
              <a:ext cx="19800" cy="1008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6" y="12"/>
                  </a:moveTo>
                  <a:lnTo>
                    <a:pt x="4" y="16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7"/>
                  </a:lnTo>
                  <a:lnTo>
                    <a:pt x="39" y="22"/>
                  </a:lnTo>
                  <a:lnTo>
                    <a:pt x="27" y="11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1" y="4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7122960" y="2473920"/>
              <a:ext cx="67320" cy="65880"/>
            </a:xfrm>
            <a:custGeom>
              <a:avLst/>
              <a:gdLst/>
              <a:ahLst/>
              <a:rect l="l" t="t" r="r" b="b"/>
              <a:pathLst>
                <a:path w="136" h="158">
                  <a:moveTo>
                    <a:pt x="5" y="157"/>
                  </a:moveTo>
                  <a:lnTo>
                    <a:pt x="10" y="158"/>
                  </a:lnTo>
                  <a:lnTo>
                    <a:pt x="31" y="149"/>
                  </a:lnTo>
                  <a:lnTo>
                    <a:pt x="50" y="135"/>
                  </a:lnTo>
                  <a:lnTo>
                    <a:pt x="67" y="115"/>
                  </a:lnTo>
                  <a:lnTo>
                    <a:pt x="85" y="93"/>
                  </a:lnTo>
                  <a:lnTo>
                    <a:pt x="102" y="70"/>
                  </a:lnTo>
                  <a:lnTo>
                    <a:pt x="116" y="47"/>
                  </a:lnTo>
                  <a:lnTo>
                    <a:pt x="127" y="26"/>
                  </a:lnTo>
                  <a:lnTo>
                    <a:pt x="136" y="8"/>
                  </a:lnTo>
                  <a:lnTo>
                    <a:pt x="120" y="0"/>
                  </a:lnTo>
                  <a:lnTo>
                    <a:pt x="111" y="18"/>
                  </a:lnTo>
                  <a:lnTo>
                    <a:pt x="100" y="37"/>
                  </a:lnTo>
                  <a:lnTo>
                    <a:pt x="85" y="61"/>
                  </a:lnTo>
                  <a:lnTo>
                    <a:pt x="71" y="82"/>
                  </a:lnTo>
                  <a:lnTo>
                    <a:pt x="53" y="103"/>
                  </a:lnTo>
                  <a:lnTo>
                    <a:pt x="37" y="121"/>
                  </a:lnTo>
                  <a:lnTo>
                    <a:pt x="22" y="132"/>
                  </a:lnTo>
                  <a:lnTo>
                    <a:pt x="8" y="139"/>
                  </a:lnTo>
                  <a:lnTo>
                    <a:pt x="12" y="140"/>
                  </a:lnTo>
                  <a:lnTo>
                    <a:pt x="8" y="139"/>
                  </a:lnTo>
                  <a:lnTo>
                    <a:pt x="1" y="142"/>
                  </a:lnTo>
                  <a:lnTo>
                    <a:pt x="0" y="149"/>
                  </a:lnTo>
                  <a:lnTo>
                    <a:pt x="3" y="155"/>
                  </a:lnTo>
                  <a:lnTo>
                    <a:pt x="10" y="158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7185240" y="2462040"/>
              <a:ext cx="102600" cy="78120"/>
            </a:xfrm>
            <a:custGeom>
              <a:avLst/>
              <a:gdLst/>
              <a:ahLst/>
              <a:rect l="l" t="t" r="r" b="b"/>
              <a:pathLst>
                <a:path w="208" h="188">
                  <a:moveTo>
                    <a:pt x="0" y="12"/>
                  </a:moveTo>
                  <a:lnTo>
                    <a:pt x="1" y="15"/>
                  </a:lnTo>
                  <a:lnTo>
                    <a:pt x="11" y="27"/>
                  </a:lnTo>
                  <a:lnTo>
                    <a:pt x="21" y="38"/>
                  </a:lnTo>
                  <a:lnTo>
                    <a:pt x="32" y="49"/>
                  </a:lnTo>
                  <a:lnTo>
                    <a:pt x="42" y="62"/>
                  </a:lnTo>
                  <a:lnTo>
                    <a:pt x="55" y="74"/>
                  </a:lnTo>
                  <a:lnTo>
                    <a:pt x="67" y="85"/>
                  </a:lnTo>
                  <a:lnTo>
                    <a:pt x="78" y="98"/>
                  </a:lnTo>
                  <a:lnTo>
                    <a:pt x="90" y="111"/>
                  </a:lnTo>
                  <a:lnTo>
                    <a:pt x="103" y="122"/>
                  </a:lnTo>
                  <a:lnTo>
                    <a:pt x="116" y="133"/>
                  </a:lnTo>
                  <a:lnTo>
                    <a:pt x="129" y="143"/>
                  </a:lnTo>
                  <a:lnTo>
                    <a:pt x="144" y="154"/>
                  </a:lnTo>
                  <a:lnTo>
                    <a:pt x="157" y="165"/>
                  </a:lnTo>
                  <a:lnTo>
                    <a:pt x="172" y="173"/>
                  </a:lnTo>
                  <a:lnTo>
                    <a:pt x="187" y="180"/>
                  </a:lnTo>
                  <a:lnTo>
                    <a:pt x="201" y="188"/>
                  </a:lnTo>
                  <a:lnTo>
                    <a:pt x="208" y="171"/>
                  </a:lnTo>
                  <a:lnTo>
                    <a:pt x="194" y="163"/>
                  </a:lnTo>
                  <a:lnTo>
                    <a:pt x="180" y="156"/>
                  </a:lnTo>
                  <a:lnTo>
                    <a:pt x="167" y="149"/>
                  </a:lnTo>
                  <a:lnTo>
                    <a:pt x="155" y="140"/>
                  </a:lnTo>
                  <a:lnTo>
                    <a:pt x="140" y="130"/>
                  </a:lnTo>
                  <a:lnTo>
                    <a:pt x="128" y="119"/>
                  </a:lnTo>
                  <a:lnTo>
                    <a:pt x="115" y="109"/>
                  </a:lnTo>
                  <a:lnTo>
                    <a:pt x="102" y="96"/>
                  </a:lnTo>
                  <a:lnTo>
                    <a:pt x="90" y="85"/>
                  </a:lnTo>
                  <a:lnTo>
                    <a:pt x="78" y="74"/>
                  </a:lnTo>
                  <a:lnTo>
                    <a:pt x="67" y="62"/>
                  </a:lnTo>
                  <a:lnTo>
                    <a:pt x="56" y="50"/>
                  </a:lnTo>
                  <a:lnTo>
                    <a:pt x="45" y="38"/>
                  </a:lnTo>
                  <a:lnTo>
                    <a:pt x="35" y="25"/>
                  </a:lnTo>
                  <a:lnTo>
                    <a:pt x="24" y="15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1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7157520" y="2171880"/>
              <a:ext cx="147960" cy="295920"/>
            </a:xfrm>
            <a:custGeom>
              <a:avLst/>
              <a:gdLst/>
              <a:ahLst/>
              <a:rect l="l" t="t" r="r" b="b"/>
              <a:pathLst>
                <a:path w="296" h="715">
                  <a:moveTo>
                    <a:pt x="290" y="1"/>
                  </a:moveTo>
                  <a:lnTo>
                    <a:pt x="282" y="1"/>
                  </a:lnTo>
                  <a:lnTo>
                    <a:pt x="242" y="30"/>
                  </a:lnTo>
                  <a:lnTo>
                    <a:pt x="205" y="62"/>
                  </a:lnTo>
                  <a:lnTo>
                    <a:pt x="170" y="99"/>
                  </a:lnTo>
                  <a:lnTo>
                    <a:pt x="139" y="138"/>
                  </a:lnTo>
                  <a:lnTo>
                    <a:pt x="108" y="181"/>
                  </a:lnTo>
                  <a:lnTo>
                    <a:pt x="84" y="228"/>
                  </a:lnTo>
                  <a:lnTo>
                    <a:pt x="59" y="273"/>
                  </a:lnTo>
                  <a:lnTo>
                    <a:pt x="40" y="323"/>
                  </a:lnTo>
                  <a:lnTo>
                    <a:pt x="25" y="372"/>
                  </a:lnTo>
                  <a:lnTo>
                    <a:pt x="13" y="423"/>
                  </a:lnTo>
                  <a:lnTo>
                    <a:pt x="4" y="474"/>
                  </a:lnTo>
                  <a:lnTo>
                    <a:pt x="0" y="523"/>
                  </a:lnTo>
                  <a:lnTo>
                    <a:pt x="0" y="573"/>
                  </a:lnTo>
                  <a:lnTo>
                    <a:pt x="7" y="623"/>
                  </a:lnTo>
                  <a:lnTo>
                    <a:pt x="16" y="670"/>
                  </a:lnTo>
                  <a:lnTo>
                    <a:pt x="33" y="715"/>
                  </a:lnTo>
                  <a:lnTo>
                    <a:pt x="49" y="708"/>
                  </a:lnTo>
                  <a:lnTo>
                    <a:pt x="35" y="665"/>
                  </a:lnTo>
                  <a:lnTo>
                    <a:pt x="26" y="620"/>
                  </a:lnTo>
                  <a:lnTo>
                    <a:pt x="19" y="573"/>
                  </a:lnTo>
                  <a:lnTo>
                    <a:pt x="19" y="523"/>
                  </a:lnTo>
                  <a:lnTo>
                    <a:pt x="23" y="474"/>
                  </a:lnTo>
                  <a:lnTo>
                    <a:pt x="31" y="425"/>
                  </a:lnTo>
                  <a:lnTo>
                    <a:pt x="44" y="378"/>
                  </a:lnTo>
                  <a:lnTo>
                    <a:pt x="57" y="328"/>
                  </a:lnTo>
                  <a:lnTo>
                    <a:pt x="76" y="280"/>
                  </a:lnTo>
                  <a:lnTo>
                    <a:pt x="100" y="234"/>
                  </a:lnTo>
                  <a:lnTo>
                    <a:pt x="125" y="191"/>
                  </a:lnTo>
                  <a:lnTo>
                    <a:pt x="152" y="149"/>
                  </a:lnTo>
                  <a:lnTo>
                    <a:pt x="184" y="110"/>
                  </a:lnTo>
                  <a:lnTo>
                    <a:pt x="218" y="77"/>
                  </a:lnTo>
                  <a:lnTo>
                    <a:pt x="254" y="44"/>
                  </a:lnTo>
                  <a:lnTo>
                    <a:pt x="292" y="17"/>
                  </a:lnTo>
                  <a:lnTo>
                    <a:pt x="284" y="17"/>
                  </a:lnTo>
                  <a:lnTo>
                    <a:pt x="292" y="17"/>
                  </a:lnTo>
                  <a:lnTo>
                    <a:pt x="296" y="11"/>
                  </a:lnTo>
                  <a:lnTo>
                    <a:pt x="295" y="5"/>
                  </a:lnTo>
                  <a:lnTo>
                    <a:pt x="290" y="0"/>
                  </a:lnTo>
                  <a:lnTo>
                    <a:pt x="282" y="1"/>
                  </a:lnTo>
                  <a:lnTo>
                    <a:pt x="2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7124760" y="2430360"/>
              <a:ext cx="55080" cy="4968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0" y="4"/>
                  </a:moveTo>
                  <a:lnTo>
                    <a:pt x="8" y="23"/>
                  </a:lnTo>
                  <a:lnTo>
                    <a:pt x="16" y="42"/>
                  </a:lnTo>
                  <a:lnTo>
                    <a:pt x="28" y="58"/>
                  </a:lnTo>
                  <a:lnTo>
                    <a:pt x="40" y="74"/>
                  </a:lnTo>
                  <a:lnTo>
                    <a:pt x="55" y="89"/>
                  </a:lnTo>
                  <a:lnTo>
                    <a:pt x="70" y="101"/>
                  </a:lnTo>
                  <a:lnTo>
                    <a:pt x="85" y="112"/>
                  </a:lnTo>
                  <a:lnTo>
                    <a:pt x="102" y="119"/>
                  </a:lnTo>
                  <a:lnTo>
                    <a:pt x="109" y="103"/>
                  </a:lnTo>
                  <a:lnTo>
                    <a:pt x="95" y="95"/>
                  </a:lnTo>
                  <a:lnTo>
                    <a:pt x="80" y="86"/>
                  </a:lnTo>
                  <a:lnTo>
                    <a:pt x="67" y="75"/>
                  </a:lnTo>
                  <a:lnTo>
                    <a:pt x="53" y="62"/>
                  </a:lnTo>
                  <a:lnTo>
                    <a:pt x="42" y="48"/>
                  </a:lnTo>
                  <a:lnTo>
                    <a:pt x="32" y="33"/>
                  </a:lnTo>
                  <a:lnTo>
                    <a:pt x="24" y="16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7373160" y="2656080"/>
              <a:ext cx="67320" cy="88920"/>
            </a:xfrm>
            <a:custGeom>
              <a:avLst/>
              <a:gdLst/>
              <a:ahLst/>
              <a:rect l="l" t="t" r="r" b="b"/>
              <a:pathLst>
                <a:path w="135" h="212">
                  <a:moveTo>
                    <a:pt x="21" y="212"/>
                  </a:moveTo>
                  <a:lnTo>
                    <a:pt x="21" y="211"/>
                  </a:lnTo>
                  <a:lnTo>
                    <a:pt x="24" y="188"/>
                  </a:lnTo>
                  <a:lnTo>
                    <a:pt x="33" y="163"/>
                  </a:lnTo>
                  <a:lnTo>
                    <a:pt x="46" y="138"/>
                  </a:lnTo>
                  <a:lnTo>
                    <a:pt x="62" y="113"/>
                  </a:lnTo>
                  <a:lnTo>
                    <a:pt x="81" y="86"/>
                  </a:lnTo>
                  <a:lnTo>
                    <a:pt x="100" y="60"/>
                  </a:lnTo>
                  <a:lnTo>
                    <a:pt x="118" y="35"/>
                  </a:lnTo>
                  <a:lnTo>
                    <a:pt x="135" y="8"/>
                  </a:lnTo>
                  <a:lnTo>
                    <a:pt x="116" y="0"/>
                  </a:lnTo>
                  <a:lnTo>
                    <a:pt x="102" y="23"/>
                  </a:lnTo>
                  <a:lnTo>
                    <a:pt x="83" y="47"/>
                  </a:lnTo>
                  <a:lnTo>
                    <a:pt x="64" y="75"/>
                  </a:lnTo>
                  <a:lnTo>
                    <a:pt x="45" y="101"/>
                  </a:lnTo>
                  <a:lnTo>
                    <a:pt x="27" y="129"/>
                  </a:lnTo>
                  <a:lnTo>
                    <a:pt x="14" y="156"/>
                  </a:lnTo>
                  <a:lnTo>
                    <a:pt x="3" y="183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21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7393680" y="2742840"/>
              <a:ext cx="49680" cy="90720"/>
            </a:xfrm>
            <a:custGeom>
              <a:avLst/>
              <a:gdLst/>
              <a:ahLst/>
              <a:rect l="l" t="t" r="r" b="b"/>
              <a:pathLst>
                <a:path w="100" h="219">
                  <a:moveTo>
                    <a:pt x="100" y="212"/>
                  </a:moveTo>
                  <a:lnTo>
                    <a:pt x="99" y="206"/>
                  </a:lnTo>
                  <a:lnTo>
                    <a:pt x="80" y="172"/>
                  </a:lnTo>
                  <a:lnTo>
                    <a:pt x="63" y="145"/>
                  </a:lnTo>
                  <a:lnTo>
                    <a:pt x="47" y="123"/>
                  </a:lnTo>
                  <a:lnTo>
                    <a:pt x="36" y="104"/>
                  </a:lnTo>
                  <a:lnTo>
                    <a:pt x="27" y="84"/>
                  </a:lnTo>
                  <a:lnTo>
                    <a:pt x="22" y="63"/>
                  </a:lnTo>
                  <a:lnTo>
                    <a:pt x="21" y="37"/>
                  </a:lnTo>
                  <a:lnTo>
                    <a:pt x="23" y="3"/>
                  </a:lnTo>
                  <a:lnTo>
                    <a:pt x="2" y="0"/>
                  </a:lnTo>
                  <a:lnTo>
                    <a:pt x="0" y="37"/>
                  </a:lnTo>
                  <a:lnTo>
                    <a:pt x="1" y="65"/>
                  </a:lnTo>
                  <a:lnTo>
                    <a:pt x="6" y="91"/>
                  </a:lnTo>
                  <a:lnTo>
                    <a:pt x="17" y="114"/>
                  </a:lnTo>
                  <a:lnTo>
                    <a:pt x="31" y="135"/>
                  </a:lnTo>
                  <a:lnTo>
                    <a:pt x="46" y="157"/>
                  </a:lnTo>
                  <a:lnTo>
                    <a:pt x="62" y="181"/>
                  </a:lnTo>
                  <a:lnTo>
                    <a:pt x="80" y="215"/>
                  </a:lnTo>
                  <a:lnTo>
                    <a:pt x="79" y="208"/>
                  </a:lnTo>
                  <a:lnTo>
                    <a:pt x="80" y="215"/>
                  </a:lnTo>
                  <a:lnTo>
                    <a:pt x="86" y="219"/>
                  </a:lnTo>
                  <a:lnTo>
                    <a:pt x="95" y="218"/>
                  </a:lnTo>
                  <a:lnTo>
                    <a:pt x="99" y="214"/>
                  </a:lnTo>
                  <a:lnTo>
                    <a:pt x="99" y="206"/>
                  </a:lnTo>
                  <a:lnTo>
                    <a:pt x="10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7393320" y="2830320"/>
              <a:ext cx="84960" cy="328680"/>
            </a:xfrm>
            <a:custGeom>
              <a:avLst/>
              <a:gdLst/>
              <a:ahLst/>
              <a:rect l="l" t="t" r="r" b="b"/>
              <a:pathLst>
                <a:path w="173" h="797">
                  <a:moveTo>
                    <a:pt x="22" y="797"/>
                  </a:moveTo>
                  <a:lnTo>
                    <a:pt x="36" y="701"/>
                  </a:lnTo>
                  <a:lnTo>
                    <a:pt x="50" y="601"/>
                  </a:lnTo>
                  <a:lnTo>
                    <a:pt x="65" y="495"/>
                  </a:lnTo>
                  <a:lnTo>
                    <a:pt x="82" y="390"/>
                  </a:lnTo>
                  <a:lnTo>
                    <a:pt x="101" y="286"/>
                  </a:lnTo>
                  <a:lnTo>
                    <a:pt x="122" y="188"/>
                  </a:lnTo>
                  <a:lnTo>
                    <a:pt x="148" y="92"/>
                  </a:lnTo>
                  <a:lnTo>
                    <a:pt x="173" y="4"/>
                  </a:lnTo>
                  <a:lnTo>
                    <a:pt x="152" y="0"/>
                  </a:lnTo>
                  <a:lnTo>
                    <a:pt x="127" y="87"/>
                  </a:lnTo>
                  <a:lnTo>
                    <a:pt x="101" y="182"/>
                  </a:lnTo>
                  <a:lnTo>
                    <a:pt x="80" y="284"/>
                  </a:lnTo>
                  <a:lnTo>
                    <a:pt x="61" y="388"/>
                  </a:lnTo>
                  <a:lnTo>
                    <a:pt x="44" y="493"/>
                  </a:lnTo>
                  <a:lnTo>
                    <a:pt x="28" y="597"/>
                  </a:lnTo>
                  <a:lnTo>
                    <a:pt x="15" y="698"/>
                  </a:lnTo>
                  <a:lnTo>
                    <a:pt x="0" y="795"/>
                  </a:lnTo>
                  <a:lnTo>
                    <a:pt x="22" y="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6982560" y="2670840"/>
              <a:ext cx="72360" cy="80640"/>
            </a:xfrm>
            <a:custGeom>
              <a:avLst/>
              <a:gdLst/>
              <a:ahLst/>
              <a:rect l="l" t="t" r="r" b="b"/>
              <a:pathLst>
                <a:path w="147" h="197">
                  <a:moveTo>
                    <a:pt x="147" y="197"/>
                  </a:moveTo>
                  <a:lnTo>
                    <a:pt x="147" y="197"/>
                  </a:lnTo>
                  <a:lnTo>
                    <a:pt x="147" y="168"/>
                  </a:lnTo>
                  <a:lnTo>
                    <a:pt x="139" y="139"/>
                  </a:lnTo>
                  <a:lnTo>
                    <a:pt x="123" y="109"/>
                  </a:lnTo>
                  <a:lnTo>
                    <a:pt x="103" y="82"/>
                  </a:lnTo>
                  <a:lnTo>
                    <a:pt x="79" y="54"/>
                  </a:lnTo>
                  <a:lnTo>
                    <a:pt x="56" y="32"/>
                  </a:lnTo>
                  <a:lnTo>
                    <a:pt x="31" y="14"/>
                  </a:lnTo>
                  <a:lnTo>
                    <a:pt x="9" y="0"/>
                  </a:lnTo>
                  <a:lnTo>
                    <a:pt x="0" y="19"/>
                  </a:lnTo>
                  <a:lnTo>
                    <a:pt x="20" y="31"/>
                  </a:lnTo>
                  <a:lnTo>
                    <a:pt x="41" y="49"/>
                  </a:lnTo>
                  <a:lnTo>
                    <a:pt x="65" y="69"/>
                  </a:lnTo>
                  <a:lnTo>
                    <a:pt x="87" y="93"/>
                  </a:lnTo>
                  <a:lnTo>
                    <a:pt x="104" y="121"/>
                  </a:lnTo>
                  <a:lnTo>
                    <a:pt x="120" y="145"/>
                  </a:lnTo>
                  <a:lnTo>
                    <a:pt x="125" y="170"/>
                  </a:lnTo>
                  <a:lnTo>
                    <a:pt x="125" y="193"/>
                  </a:lnTo>
                  <a:lnTo>
                    <a:pt x="125" y="193"/>
                  </a:lnTo>
                  <a:lnTo>
                    <a:pt x="147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6982920" y="2749320"/>
              <a:ext cx="44640" cy="7812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23" y="179"/>
                  </a:moveTo>
                  <a:lnTo>
                    <a:pt x="23" y="179"/>
                  </a:lnTo>
                  <a:lnTo>
                    <a:pt x="21" y="163"/>
                  </a:lnTo>
                  <a:lnTo>
                    <a:pt x="24" y="146"/>
                  </a:lnTo>
                  <a:lnTo>
                    <a:pt x="31" y="123"/>
                  </a:lnTo>
                  <a:lnTo>
                    <a:pt x="43" y="101"/>
                  </a:lnTo>
                  <a:lnTo>
                    <a:pt x="58" y="78"/>
                  </a:lnTo>
                  <a:lnTo>
                    <a:pt x="70" y="52"/>
                  </a:lnTo>
                  <a:lnTo>
                    <a:pt x="81" y="28"/>
                  </a:lnTo>
                  <a:lnTo>
                    <a:pt x="89" y="4"/>
                  </a:lnTo>
                  <a:lnTo>
                    <a:pt x="67" y="0"/>
                  </a:lnTo>
                  <a:lnTo>
                    <a:pt x="62" y="21"/>
                  </a:lnTo>
                  <a:lnTo>
                    <a:pt x="51" y="43"/>
                  </a:lnTo>
                  <a:lnTo>
                    <a:pt x="39" y="68"/>
                  </a:lnTo>
                  <a:lnTo>
                    <a:pt x="24" y="92"/>
                  </a:lnTo>
                  <a:lnTo>
                    <a:pt x="12" y="117"/>
                  </a:lnTo>
                  <a:lnTo>
                    <a:pt x="3" y="141"/>
                  </a:lnTo>
                  <a:lnTo>
                    <a:pt x="0" y="163"/>
                  </a:lnTo>
                  <a:lnTo>
                    <a:pt x="4" y="187"/>
                  </a:lnTo>
                  <a:lnTo>
                    <a:pt x="4" y="187"/>
                  </a:lnTo>
                  <a:lnTo>
                    <a:pt x="2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6952680" y="2823480"/>
              <a:ext cx="72360" cy="173880"/>
            </a:xfrm>
            <a:custGeom>
              <a:avLst/>
              <a:gdLst/>
              <a:ahLst/>
              <a:rect l="l" t="t" r="r" b="b"/>
              <a:pathLst>
                <a:path w="144" h="420">
                  <a:moveTo>
                    <a:pt x="144" y="417"/>
                  </a:moveTo>
                  <a:lnTo>
                    <a:pt x="131" y="356"/>
                  </a:lnTo>
                  <a:lnTo>
                    <a:pt x="117" y="298"/>
                  </a:lnTo>
                  <a:lnTo>
                    <a:pt x="102" y="243"/>
                  </a:lnTo>
                  <a:lnTo>
                    <a:pt x="88" y="189"/>
                  </a:lnTo>
                  <a:lnTo>
                    <a:pt x="71" y="137"/>
                  </a:lnTo>
                  <a:lnTo>
                    <a:pt x="54" y="89"/>
                  </a:lnTo>
                  <a:lnTo>
                    <a:pt x="37" y="42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8" y="50"/>
                  </a:lnTo>
                  <a:lnTo>
                    <a:pt x="35" y="95"/>
                  </a:lnTo>
                  <a:lnTo>
                    <a:pt x="50" y="143"/>
                  </a:lnTo>
                  <a:lnTo>
                    <a:pt x="66" y="193"/>
                  </a:lnTo>
                  <a:lnTo>
                    <a:pt x="81" y="247"/>
                  </a:lnTo>
                  <a:lnTo>
                    <a:pt x="96" y="303"/>
                  </a:lnTo>
                  <a:lnTo>
                    <a:pt x="110" y="361"/>
                  </a:lnTo>
                  <a:lnTo>
                    <a:pt x="122" y="420"/>
                  </a:lnTo>
                  <a:lnTo>
                    <a:pt x="144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7260480" y="2434680"/>
              <a:ext cx="84960" cy="438480"/>
            </a:xfrm>
            <a:custGeom>
              <a:avLst/>
              <a:gdLst/>
              <a:ahLst/>
              <a:rect l="l" t="t" r="r" b="b"/>
              <a:pathLst>
                <a:path w="174" h="1058">
                  <a:moveTo>
                    <a:pt x="98" y="5"/>
                  </a:moveTo>
                  <a:lnTo>
                    <a:pt x="91" y="0"/>
                  </a:lnTo>
                  <a:lnTo>
                    <a:pt x="77" y="1"/>
                  </a:lnTo>
                  <a:lnTo>
                    <a:pt x="59" y="5"/>
                  </a:lnTo>
                  <a:lnTo>
                    <a:pt x="39" y="13"/>
                  </a:lnTo>
                  <a:lnTo>
                    <a:pt x="21" y="22"/>
                  </a:lnTo>
                  <a:lnTo>
                    <a:pt x="7" y="31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23" y="84"/>
                  </a:lnTo>
                  <a:lnTo>
                    <a:pt x="29" y="127"/>
                  </a:lnTo>
                  <a:lnTo>
                    <a:pt x="28" y="176"/>
                  </a:lnTo>
                  <a:lnTo>
                    <a:pt x="21" y="227"/>
                  </a:lnTo>
                  <a:lnTo>
                    <a:pt x="14" y="278"/>
                  </a:lnTo>
                  <a:lnTo>
                    <a:pt x="5" y="329"/>
                  </a:lnTo>
                  <a:lnTo>
                    <a:pt x="1" y="375"/>
                  </a:lnTo>
                  <a:lnTo>
                    <a:pt x="5" y="415"/>
                  </a:lnTo>
                  <a:lnTo>
                    <a:pt x="8" y="419"/>
                  </a:lnTo>
                  <a:lnTo>
                    <a:pt x="17" y="421"/>
                  </a:lnTo>
                  <a:lnTo>
                    <a:pt x="28" y="424"/>
                  </a:lnTo>
                  <a:lnTo>
                    <a:pt x="41" y="425"/>
                  </a:lnTo>
                  <a:lnTo>
                    <a:pt x="55" y="427"/>
                  </a:lnTo>
                  <a:lnTo>
                    <a:pt x="66" y="429"/>
                  </a:lnTo>
                  <a:lnTo>
                    <a:pt x="74" y="434"/>
                  </a:lnTo>
                  <a:lnTo>
                    <a:pt x="77" y="441"/>
                  </a:lnTo>
                  <a:lnTo>
                    <a:pt x="74" y="447"/>
                  </a:lnTo>
                  <a:lnTo>
                    <a:pt x="66" y="451"/>
                  </a:lnTo>
                  <a:lnTo>
                    <a:pt x="55" y="457"/>
                  </a:lnTo>
                  <a:lnTo>
                    <a:pt x="41" y="460"/>
                  </a:lnTo>
                  <a:lnTo>
                    <a:pt x="28" y="466"/>
                  </a:lnTo>
                  <a:lnTo>
                    <a:pt x="18" y="471"/>
                  </a:lnTo>
                  <a:lnTo>
                    <a:pt x="10" y="479"/>
                  </a:lnTo>
                  <a:lnTo>
                    <a:pt x="9" y="487"/>
                  </a:lnTo>
                  <a:lnTo>
                    <a:pt x="19" y="547"/>
                  </a:lnTo>
                  <a:lnTo>
                    <a:pt x="28" y="619"/>
                  </a:lnTo>
                  <a:lnTo>
                    <a:pt x="39" y="699"/>
                  </a:lnTo>
                  <a:lnTo>
                    <a:pt x="54" y="781"/>
                  </a:lnTo>
                  <a:lnTo>
                    <a:pt x="72" y="862"/>
                  </a:lnTo>
                  <a:lnTo>
                    <a:pt x="96" y="939"/>
                  </a:lnTo>
                  <a:lnTo>
                    <a:pt x="128" y="1005"/>
                  </a:lnTo>
                  <a:lnTo>
                    <a:pt x="168" y="1058"/>
                  </a:lnTo>
                  <a:lnTo>
                    <a:pt x="168" y="1033"/>
                  </a:lnTo>
                  <a:lnTo>
                    <a:pt x="168" y="993"/>
                  </a:lnTo>
                  <a:lnTo>
                    <a:pt x="168" y="953"/>
                  </a:lnTo>
                  <a:lnTo>
                    <a:pt x="168" y="930"/>
                  </a:lnTo>
                  <a:lnTo>
                    <a:pt x="167" y="816"/>
                  </a:lnTo>
                  <a:lnTo>
                    <a:pt x="169" y="695"/>
                  </a:lnTo>
                  <a:lnTo>
                    <a:pt x="173" y="571"/>
                  </a:lnTo>
                  <a:lnTo>
                    <a:pt x="174" y="447"/>
                  </a:lnTo>
                  <a:lnTo>
                    <a:pt x="171" y="327"/>
                  </a:lnTo>
                  <a:lnTo>
                    <a:pt x="159" y="212"/>
                  </a:lnTo>
                  <a:lnTo>
                    <a:pt x="136" y="103"/>
                  </a:lnTo>
                  <a:lnTo>
                    <a:pt x="98" y="5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7292520" y="2430360"/>
              <a:ext cx="60120" cy="28800"/>
            </a:xfrm>
            <a:custGeom>
              <a:avLst/>
              <a:gdLst/>
              <a:ahLst/>
              <a:rect l="l" t="t" r="r" b="b"/>
              <a:pathLst>
                <a:path w="119" h="66">
                  <a:moveTo>
                    <a:pt x="21" y="51"/>
                  </a:moveTo>
                  <a:lnTo>
                    <a:pt x="19" y="48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7" y="41"/>
                  </a:lnTo>
                  <a:lnTo>
                    <a:pt x="53" y="33"/>
                  </a:lnTo>
                  <a:lnTo>
                    <a:pt x="72" y="25"/>
                  </a:lnTo>
                  <a:lnTo>
                    <a:pt x="89" y="22"/>
                  </a:lnTo>
                  <a:lnTo>
                    <a:pt x="101" y="21"/>
                  </a:lnTo>
                  <a:lnTo>
                    <a:pt x="100" y="18"/>
                  </a:lnTo>
                  <a:lnTo>
                    <a:pt x="119" y="11"/>
                  </a:lnTo>
                  <a:lnTo>
                    <a:pt x="103" y="0"/>
                  </a:lnTo>
                  <a:lnTo>
                    <a:pt x="87" y="1"/>
                  </a:lnTo>
                  <a:lnTo>
                    <a:pt x="68" y="4"/>
                  </a:lnTo>
                  <a:lnTo>
                    <a:pt x="47" y="14"/>
                  </a:lnTo>
                  <a:lnTo>
                    <a:pt x="28" y="22"/>
                  </a:lnTo>
                  <a:lnTo>
                    <a:pt x="11" y="33"/>
                  </a:lnTo>
                  <a:lnTo>
                    <a:pt x="0" y="47"/>
                  </a:lnTo>
                  <a:lnTo>
                    <a:pt x="8" y="65"/>
                  </a:lnTo>
                  <a:lnTo>
                    <a:pt x="6" y="64"/>
                  </a:lnTo>
                  <a:lnTo>
                    <a:pt x="8" y="65"/>
                  </a:lnTo>
                  <a:lnTo>
                    <a:pt x="16" y="66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19" y="48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7325280" y="2453400"/>
              <a:ext cx="24840" cy="155160"/>
            </a:xfrm>
            <a:custGeom>
              <a:avLst/>
              <a:gdLst/>
              <a:ahLst/>
              <a:rect l="l" t="t" r="r" b="b"/>
              <a:pathLst>
                <a:path w="50" h="377">
                  <a:moveTo>
                    <a:pt x="26" y="373"/>
                  </a:moveTo>
                  <a:lnTo>
                    <a:pt x="26" y="372"/>
                  </a:lnTo>
                  <a:lnTo>
                    <a:pt x="23" y="334"/>
                  </a:lnTo>
                  <a:lnTo>
                    <a:pt x="26" y="289"/>
                  </a:lnTo>
                  <a:lnTo>
                    <a:pt x="34" y="238"/>
                  </a:lnTo>
                  <a:lnTo>
                    <a:pt x="42" y="188"/>
                  </a:lnTo>
                  <a:lnTo>
                    <a:pt x="49" y="135"/>
                  </a:lnTo>
                  <a:lnTo>
                    <a:pt x="50" y="86"/>
                  </a:lnTo>
                  <a:lnTo>
                    <a:pt x="44" y="40"/>
                  </a:lnTo>
                  <a:lnTo>
                    <a:pt x="20" y="0"/>
                  </a:lnTo>
                  <a:lnTo>
                    <a:pt x="5" y="13"/>
                  </a:lnTo>
                  <a:lnTo>
                    <a:pt x="23" y="46"/>
                  </a:lnTo>
                  <a:lnTo>
                    <a:pt x="29" y="86"/>
                  </a:lnTo>
                  <a:lnTo>
                    <a:pt x="28" y="135"/>
                  </a:lnTo>
                  <a:lnTo>
                    <a:pt x="20" y="185"/>
                  </a:lnTo>
                  <a:lnTo>
                    <a:pt x="13" y="236"/>
                  </a:lnTo>
                  <a:lnTo>
                    <a:pt x="5" y="287"/>
                  </a:lnTo>
                  <a:lnTo>
                    <a:pt x="0" y="334"/>
                  </a:lnTo>
                  <a:lnTo>
                    <a:pt x="5" y="377"/>
                  </a:lnTo>
                  <a:lnTo>
                    <a:pt x="5" y="375"/>
                  </a:lnTo>
                  <a:lnTo>
                    <a:pt x="26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7303320" y="2604600"/>
              <a:ext cx="44640" cy="1440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93" y="32"/>
                  </a:moveTo>
                  <a:lnTo>
                    <a:pt x="93" y="32"/>
                  </a:lnTo>
                  <a:lnTo>
                    <a:pt x="86" y="18"/>
                  </a:lnTo>
                  <a:lnTo>
                    <a:pt x="75" y="11"/>
                  </a:lnTo>
                  <a:lnTo>
                    <a:pt x="61" y="7"/>
                  </a:lnTo>
                  <a:lnTo>
                    <a:pt x="47" y="5"/>
                  </a:lnTo>
                  <a:lnTo>
                    <a:pt x="34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21" y="5"/>
                  </a:lnTo>
                  <a:lnTo>
                    <a:pt x="0" y="7"/>
                  </a:lnTo>
                  <a:lnTo>
                    <a:pt x="9" y="19"/>
                  </a:lnTo>
                  <a:lnTo>
                    <a:pt x="20" y="22"/>
                  </a:lnTo>
                  <a:lnTo>
                    <a:pt x="32" y="25"/>
                  </a:lnTo>
                  <a:lnTo>
                    <a:pt x="45" y="26"/>
                  </a:lnTo>
                  <a:lnTo>
                    <a:pt x="59" y="29"/>
                  </a:lnTo>
                  <a:lnTo>
                    <a:pt x="67" y="30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7303320" y="2616840"/>
              <a:ext cx="44640" cy="2052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21" y="46"/>
                  </a:moveTo>
                  <a:lnTo>
                    <a:pt x="21" y="46"/>
                  </a:lnTo>
                  <a:lnTo>
                    <a:pt x="21" y="44"/>
                  </a:lnTo>
                  <a:lnTo>
                    <a:pt x="25" y="40"/>
                  </a:lnTo>
                  <a:lnTo>
                    <a:pt x="35" y="36"/>
                  </a:lnTo>
                  <a:lnTo>
                    <a:pt x="46" y="29"/>
                  </a:lnTo>
                  <a:lnTo>
                    <a:pt x="58" y="27"/>
                  </a:lnTo>
                  <a:lnTo>
                    <a:pt x="72" y="21"/>
                  </a:lnTo>
                  <a:lnTo>
                    <a:pt x="81" y="14"/>
                  </a:lnTo>
                  <a:lnTo>
                    <a:pt x="89" y="1"/>
                  </a:lnTo>
                  <a:lnTo>
                    <a:pt x="67" y="1"/>
                  </a:lnTo>
                  <a:lnTo>
                    <a:pt x="67" y="0"/>
                  </a:lnTo>
                  <a:lnTo>
                    <a:pt x="62" y="3"/>
                  </a:lnTo>
                  <a:lnTo>
                    <a:pt x="53" y="6"/>
                  </a:lnTo>
                  <a:lnTo>
                    <a:pt x="39" y="10"/>
                  </a:lnTo>
                  <a:lnTo>
                    <a:pt x="25" y="17"/>
                  </a:lnTo>
                  <a:lnTo>
                    <a:pt x="14" y="24"/>
                  </a:lnTo>
                  <a:lnTo>
                    <a:pt x="2" y="3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7257960" y="2637360"/>
              <a:ext cx="89640" cy="240120"/>
            </a:xfrm>
            <a:custGeom>
              <a:avLst/>
              <a:gdLst/>
              <a:ahLst/>
              <a:rect l="l" t="t" r="r" b="b"/>
              <a:pathLst>
                <a:path w="179" h="583">
                  <a:moveTo>
                    <a:pt x="158" y="572"/>
                  </a:moveTo>
                  <a:lnTo>
                    <a:pt x="175" y="565"/>
                  </a:lnTo>
                  <a:lnTo>
                    <a:pt x="138" y="514"/>
                  </a:lnTo>
                  <a:lnTo>
                    <a:pt x="106" y="449"/>
                  </a:lnTo>
                  <a:lnTo>
                    <a:pt x="83" y="374"/>
                  </a:lnTo>
                  <a:lnTo>
                    <a:pt x="65" y="294"/>
                  </a:lnTo>
                  <a:lnTo>
                    <a:pt x="51" y="212"/>
                  </a:lnTo>
                  <a:lnTo>
                    <a:pt x="40" y="132"/>
                  </a:lnTo>
                  <a:lnTo>
                    <a:pt x="30" y="60"/>
                  </a:lnTo>
                  <a:lnTo>
                    <a:pt x="21" y="0"/>
                  </a:lnTo>
                  <a:lnTo>
                    <a:pt x="0" y="2"/>
                  </a:lnTo>
                  <a:lnTo>
                    <a:pt x="9" y="62"/>
                  </a:lnTo>
                  <a:lnTo>
                    <a:pt x="19" y="134"/>
                  </a:lnTo>
                  <a:lnTo>
                    <a:pt x="29" y="215"/>
                  </a:lnTo>
                  <a:lnTo>
                    <a:pt x="43" y="296"/>
                  </a:lnTo>
                  <a:lnTo>
                    <a:pt x="62" y="378"/>
                  </a:lnTo>
                  <a:lnTo>
                    <a:pt x="87" y="456"/>
                  </a:lnTo>
                  <a:lnTo>
                    <a:pt x="119" y="524"/>
                  </a:lnTo>
                  <a:lnTo>
                    <a:pt x="161" y="579"/>
                  </a:lnTo>
                  <a:lnTo>
                    <a:pt x="179" y="572"/>
                  </a:lnTo>
                  <a:lnTo>
                    <a:pt x="161" y="579"/>
                  </a:lnTo>
                  <a:lnTo>
                    <a:pt x="169" y="583"/>
                  </a:lnTo>
                  <a:lnTo>
                    <a:pt x="175" y="579"/>
                  </a:lnTo>
                  <a:lnTo>
                    <a:pt x="179" y="572"/>
                  </a:lnTo>
                  <a:lnTo>
                    <a:pt x="175" y="565"/>
                  </a:lnTo>
                  <a:lnTo>
                    <a:pt x="158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7258320" y="2819880"/>
              <a:ext cx="9360" cy="53280"/>
            </a:xfrm>
            <a:custGeom>
              <a:avLst/>
              <a:gdLst/>
              <a:ahLst/>
              <a:rect l="l" t="t" r="r" b="b"/>
              <a:pathLst>
                <a:path w="21" h="128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63"/>
                  </a:lnTo>
                  <a:lnTo>
                    <a:pt x="0" y="103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21" y="103"/>
                  </a:lnTo>
                  <a:lnTo>
                    <a:pt x="21" y="63"/>
                  </a:lnTo>
                  <a:lnTo>
                    <a:pt x="21" y="2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7253280" y="2432880"/>
              <a:ext cx="49680" cy="387000"/>
            </a:xfrm>
            <a:custGeom>
              <a:avLst/>
              <a:gdLst/>
              <a:ahLst/>
              <a:rect l="l" t="t" r="r" b="b"/>
              <a:pathLst>
                <a:path w="96" h="935">
                  <a:moveTo>
                    <a:pt x="0" y="13"/>
                  </a:moveTo>
                  <a:lnTo>
                    <a:pt x="0" y="14"/>
                  </a:lnTo>
                  <a:lnTo>
                    <a:pt x="37" y="110"/>
                  </a:lnTo>
                  <a:lnTo>
                    <a:pt x="60" y="218"/>
                  </a:lnTo>
                  <a:lnTo>
                    <a:pt x="71" y="332"/>
                  </a:lnTo>
                  <a:lnTo>
                    <a:pt x="75" y="452"/>
                  </a:lnTo>
                  <a:lnTo>
                    <a:pt x="74" y="576"/>
                  </a:lnTo>
                  <a:lnTo>
                    <a:pt x="69" y="700"/>
                  </a:lnTo>
                  <a:lnTo>
                    <a:pt x="67" y="821"/>
                  </a:lnTo>
                  <a:lnTo>
                    <a:pt x="68" y="935"/>
                  </a:lnTo>
                  <a:lnTo>
                    <a:pt x="89" y="935"/>
                  </a:lnTo>
                  <a:lnTo>
                    <a:pt x="88" y="821"/>
                  </a:lnTo>
                  <a:lnTo>
                    <a:pt x="90" y="700"/>
                  </a:lnTo>
                  <a:lnTo>
                    <a:pt x="95" y="576"/>
                  </a:lnTo>
                  <a:lnTo>
                    <a:pt x="96" y="452"/>
                  </a:lnTo>
                  <a:lnTo>
                    <a:pt x="93" y="332"/>
                  </a:lnTo>
                  <a:lnTo>
                    <a:pt x="81" y="215"/>
                  </a:lnTo>
                  <a:lnTo>
                    <a:pt x="58" y="106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7017480" y="2079000"/>
              <a:ext cx="498240" cy="446400"/>
            </a:xfrm>
            <a:custGeom>
              <a:avLst/>
              <a:gdLst/>
              <a:ahLst/>
              <a:rect l="l" t="t" r="r" b="b"/>
              <a:pathLst>
                <a:path w="997" h="1084">
                  <a:moveTo>
                    <a:pt x="866" y="316"/>
                  </a:moveTo>
                  <a:lnTo>
                    <a:pt x="854" y="332"/>
                  </a:lnTo>
                  <a:lnTo>
                    <a:pt x="838" y="344"/>
                  </a:lnTo>
                  <a:lnTo>
                    <a:pt x="820" y="353"/>
                  </a:lnTo>
                  <a:lnTo>
                    <a:pt x="801" y="361"/>
                  </a:lnTo>
                  <a:lnTo>
                    <a:pt x="780" y="365"/>
                  </a:lnTo>
                  <a:lnTo>
                    <a:pt x="759" y="368"/>
                  </a:lnTo>
                  <a:lnTo>
                    <a:pt x="737" y="371"/>
                  </a:lnTo>
                  <a:lnTo>
                    <a:pt x="719" y="371"/>
                  </a:lnTo>
                  <a:lnTo>
                    <a:pt x="710" y="402"/>
                  </a:lnTo>
                  <a:lnTo>
                    <a:pt x="699" y="429"/>
                  </a:lnTo>
                  <a:lnTo>
                    <a:pt x="685" y="454"/>
                  </a:lnTo>
                  <a:lnTo>
                    <a:pt x="671" y="476"/>
                  </a:lnTo>
                  <a:lnTo>
                    <a:pt x="653" y="495"/>
                  </a:lnTo>
                  <a:lnTo>
                    <a:pt x="631" y="514"/>
                  </a:lnTo>
                  <a:lnTo>
                    <a:pt x="608" y="530"/>
                  </a:lnTo>
                  <a:lnTo>
                    <a:pt x="581" y="547"/>
                  </a:lnTo>
                  <a:lnTo>
                    <a:pt x="574" y="555"/>
                  </a:lnTo>
                  <a:lnTo>
                    <a:pt x="571" y="567"/>
                  </a:lnTo>
                  <a:lnTo>
                    <a:pt x="570" y="579"/>
                  </a:lnTo>
                  <a:lnTo>
                    <a:pt x="570" y="590"/>
                  </a:lnTo>
                  <a:lnTo>
                    <a:pt x="459" y="958"/>
                  </a:lnTo>
                  <a:lnTo>
                    <a:pt x="455" y="967"/>
                  </a:lnTo>
                  <a:lnTo>
                    <a:pt x="447" y="972"/>
                  </a:lnTo>
                  <a:lnTo>
                    <a:pt x="436" y="977"/>
                  </a:lnTo>
                  <a:lnTo>
                    <a:pt x="421" y="980"/>
                  </a:lnTo>
                  <a:lnTo>
                    <a:pt x="405" y="981"/>
                  </a:lnTo>
                  <a:lnTo>
                    <a:pt x="388" y="981"/>
                  </a:lnTo>
                  <a:lnTo>
                    <a:pt x="369" y="980"/>
                  </a:lnTo>
                  <a:lnTo>
                    <a:pt x="348" y="980"/>
                  </a:lnTo>
                  <a:lnTo>
                    <a:pt x="328" y="978"/>
                  </a:lnTo>
                  <a:lnTo>
                    <a:pt x="308" y="977"/>
                  </a:lnTo>
                  <a:lnTo>
                    <a:pt x="290" y="977"/>
                  </a:lnTo>
                  <a:lnTo>
                    <a:pt x="272" y="977"/>
                  </a:lnTo>
                  <a:lnTo>
                    <a:pt x="256" y="980"/>
                  </a:lnTo>
                  <a:lnTo>
                    <a:pt x="241" y="982"/>
                  </a:lnTo>
                  <a:lnTo>
                    <a:pt x="229" y="987"/>
                  </a:lnTo>
                  <a:lnTo>
                    <a:pt x="221" y="993"/>
                  </a:lnTo>
                  <a:lnTo>
                    <a:pt x="212" y="1003"/>
                  </a:lnTo>
                  <a:lnTo>
                    <a:pt x="206" y="1012"/>
                  </a:lnTo>
                  <a:lnTo>
                    <a:pt x="201" y="1021"/>
                  </a:lnTo>
                  <a:lnTo>
                    <a:pt x="195" y="1029"/>
                  </a:lnTo>
                  <a:lnTo>
                    <a:pt x="191" y="1039"/>
                  </a:lnTo>
                  <a:lnTo>
                    <a:pt x="186" y="1051"/>
                  </a:lnTo>
                  <a:lnTo>
                    <a:pt x="181" y="1066"/>
                  </a:lnTo>
                  <a:lnTo>
                    <a:pt x="173" y="1084"/>
                  </a:lnTo>
                  <a:lnTo>
                    <a:pt x="151" y="1071"/>
                  </a:lnTo>
                  <a:lnTo>
                    <a:pt x="135" y="1059"/>
                  </a:lnTo>
                  <a:lnTo>
                    <a:pt x="128" y="1044"/>
                  </a:lnTo>
                  <a:lnTo>
                    <a:pt x="122" y="1029"/>
                  </a:lnTo>
                  <a:lnTo>
                    <a:pt x="121" y="1012"/>
                  </a:lnTo>
                  <a:lnTo>
                    <a:pt x="120" y="995"/>
                  </a:lnTo>
                  <a:lnTo>
                    <a:pt x="119" y="975"/>
                  </a:lnTo>
                  <a:lnTo>
                    <a:pt x="114" y="953"/>
                  </a:lnTo>
                  <a:lnTo>
                    <a:pt x="103" y="928"/>
                  </a:lnTo>
                  <a:lnTo>
                    <a:pt x="90" y="901"/>
                  </a:lnTo>
                  <a:lnTo>
                    <a:pt x="74" y="877"/>
                  </a:lnTo>
                  <a:lnTo>
                    <a:pt x="58" y="851"/>
                  </a:lnTo>
                  <a:lnTo>
                    <a:pt x="41" y="826"/>
                  </a:lnTo>
                  <a:lnTo>
                    <a:pt x="26" y="801"/>
                  </a:lnTo>
                  <a:lnTo>
                    <a:pt x="13" y="776"/>
                  </a:lnTo>
                  <a:lnTo>
                    <a:pt x="5" y="749"/>
                  </a:lnTo>
                  <a:lnTo>
                    <a:pt x="0" y="717"/>
                  </a:lnTo>
                  <a:lnTo>
                    <a:pt x="2" y="684"/>
                  </a:lnTo>
                  <a:lnTo>
                    <a:pt x="8" y="653"/>
                  </a:lnTo>
                  <a:lnTo>
                    <a:pt x="19" y="623"/>
                  </a:lnTo>
                  <a:lnTo>
                    <a:pt x="33" y="593"/>
                  </a:lnTo>
                  <a:lnTo>
                    <a:pt x="51" y="565"/>
                  </a:lnTo>
                  <a:lnTo>
                    <a:pt x="71" y="536"/>
                  </a:lnTo>
                  <a:lnTo>
                    <a:pt x="92" y="509"/>
                  </a:lnTo>
                  <a:lnTo>
                    <a:pt x="114" y="482"/>
                  </a:lnTo>
                  <a:lnTo>
                    <a:pt x="137" y="455"/>
                  </a:lnTo>
                  <a:lnTo>
                    <a:pt x="159" y="428"/>
                  </a:lnTo>
                  <a:lnTo>
                    <a:pt x="181" y="403"/>
                  </a:lnTo>
                  <a:lnTo>
                    <a:pt x="200" y="377"/>
                  </a:lnTo>
                  <a:lnTo>
                    <a:pt x="215" y="351"/>
                  </a:lnTo>
                  <a:lnTo>
                    <a:pt x="230" y="326"/>
                  </a:lnTo>
                  <a:lnTo>
                    <a:pt x="241" y="301"/>
                  </a:lnTo>
                  <a:lnTo>
                    <a:pt x="243" y="266"/>
                  </a:lnTo>
                  <a:lnTo>
                    <a:pt x="235" y="228"/>
                  </a:lnTo>
                  <a:lnTo>
                    <a:pt x="231" y="192"/>
                  </a:lnTo>
                  <a:lnTo>
                    <a:pt x="234" y="157"/>
                  </a:lnTo>
                  <a:lnTo>
                    <a:pt x="247" y="132"/>
                  </a:lnTo>
                  <a:lnTo>
                    <a:pt x="263" y="110"/>
                  </a:lnTo>
                  <a:lnTo>
                    <a:pt x="280" y="93"/>
                  </a:lnTo>
                  <a:lnTo>
                    <a:pt x="297" y="77"/>
                  </a:lnTo>
                  <a:lnTo>
                    <a:pt x="315" y="65"/>
                  </a:lnTo>
                  <a:lnTo>
                    <a:pt x="335" y="56"/>
                  </a:lnTo>
                  <a:lnTo>
                    <a:pt x="356" y="49"/>
                  </a:lnTo>
                  <a:lnTo>
                    <a:pt x="377" y="43"/>
                  </a:lnTo>
                  <a:lnTo>
                    <a:pt x="398" y="39"/>
                  </a:lnTo>
                  <a:lnTo>
                    <a:pt x="420" y="36"/>
                  </a:lnTo>
                  <a:lnTo>
                    <a:pt x="445" y="32"/>
                  </a:lnTo>
                  <a:lnTo>
                    <a:pt x="467" y="30"/>
                  </a:lnTo>
                  <a:lnTo>
                    <a:pt x="490" y="27"/>
                  </a:lnTo>
                  <a:lnTo>
                    <a:pt x="512" y="24"/>
                  </a:lnTo>
                  <a:lnTo>
                    <a:pt x="536" y="21"/>
                  </a:lnTo>
                  <a:lnTo>
                    <a:pt x="559" y="14"/>
                  </a:lnTo>
                  <a:lnTo>
                    <a:pt x="583" y="9"/>
                  </a:lnTo>
                  <a:lnTo>
                    <a:pt x="608" y="4"/>
                  </a:lnTo>
                  <a:lnTo>
                    <a:pt x="630" y="1"/>
                  </a:lnTo>
                  <a:lnTo>
                    <a:pt x="653" y="0"/>
                  </a:lnTo>
                  <a:lnTo>
                    <a:pt x="674" y="0"/>
                  </a:lnTo>
                  <a:lnTo>
                    <a:pt x="695" y="1"/>
                  </a:lnTo>
                  <a:lnTo>
                    <a:pt x="715" y="3"/>
                  </a:lnTo>
                  <a:lnTo>
                    <a:pt x="735" y="6"/>
                  </a:lnTo>
                  <a:lnTo>
                    <a:pt x="754" y="12"/>
                  </a:lnTo>
                  <a:lnTo>
                    <a:pt x="773" y="19"/>
                  </a:lnTo>
                  <a:lnTo>
                    <a:pt x="793" y="26"/>
                  </a:lnTo>
                  <a:lnTo>
                    <a:pt x="812" y="34"/>
                  </a:lnTo>
                  <a:lnTo>
                    <a:pt x="832" y="45"/>
                  </a:lnTo>
                  <a:lnTo>
                    <a:pt x="852" y="56"/>
                  </a:lnTo>
                  <a:lnTo>
                    <a:pt x="872" y="67"/>
                  </a:lnTo>
                  <a:lnTo>
                    <a:pt x="893" y="81"/>
                  </a:lnTo>
                  <a:lnTo>
                    <a:pt x="914" y="94"/>
                  </a:lnTo>
                  <a:lnTo>
                    <a:pt x="935" y="107"/>
                  </a:lnTo>
                  <a:lnTo>
                    <a:pt x="954" y="123"/>
                  </a:lnTo>
                  <a:lnTo>
                    <a:pt x="967" y="141"/>
                  </a:lnTo>
                  <a:lnTo>
                    <a:pt x="975" y="161"/>
                  </a:lnTo>
                  <a:lnTo>
                    <a:pt x="975" y="182"/>
                  </a:lnTo>
                  <a:lnTo>
                    <a:pt x="965" y="207"/>
                  </a:lnTo>
                  <a:lnTo>
                    <a:pt x="943" y="234"/>
                  </a:lnTo>
                  <a:lnTo>
                    <a:pt x="974" y="269"/>
                  </a:lnTo>
                  <a:lnTo>
                    <a:pt x="991" y="302"/>
                  </a:lnTo>
                  <a:lnTo>
                    <a:pt x="997" y="331"/>
                  </a:lnTo>
                  <a:lnTo>
                    <a:pt x="994" y="359"/>
                  </a:lnTo>
                  <a:lnTo>
                    <a:pt x="983" y="386"/>
                  </a:lnTo>
                  <a:lnTo>
                    <a:pt x="964" y="414"/>
                  </a:lnTo>
                  <a:lnTo>
                    <a:pt x="940" y="440"/>
                  </a:lnTo>
                  <a:lnTo>
                    <a:pt x="913" y="468"/>
                  </a:lnTo>
                  <a:lnTo>
                    <a:pt x="912" y="445"/>
                  </a:lnTo>
                  <a:lnTo>
                    <a:pt x="909" y="424"/>
                  </a:lnTo>
                  <a:lnTo>
                    <a:pt x="905" y="404"/>
                  </a:lnTo>
                  <a:lnTo>
                    <a:pt x="900" y="385"/>
                  </a:lnTo>
                  <a:lnTo>
                    <a:pt x="893" y="367"/>
                  </a:lnTo>
                  <a:lnTo>
                    <a:pt x="885" y="349"/>
                  </a:lnTo>
                  <a:lnTo>
                    <a:pt x="875" y="333"/>
                  </a:lnTo>
                  <a:lnTo>
                    <a:pt x="866" y="316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7077600" y="2207160"/>
              <a:ext cx="82800" cy="28800"/>
            </a:xfrm>
            <a:custGeom>
              <a:avLst/>
              <a:gdLst/>
              <a:ahLst/>
              <a:rect l="l" t="t" r="r" b="b"/>
              <a:pathLst>
                <a:path w="164" h="69">
                  <a:moveTo>
                    <a:pt x="19" y="61"/>
                  </a:moveTo>
                  <a:lnTo>
                    <a:pt x="9" y="69"/>
                  </a:lnTo>
                  <a:lnTo>
                    <a:pt x="27" y="69"/>
                  </a:lnTo>
                  <a:lnTo>
                    <a:pt x="50" y="66"/>
                  </a:lnTo>
                  <a:lnTo>
                    <a:pt x="71" y="62"/>
                  </a:lnTo>
                  <a:lnTo>
                    <a:pt x="94" y="57"/>
                  </a:lnTo>
                  <a:lnTo>
                    <a:pt x="114" y="50"/>
                  </a:lnTo>
                  <a:lnTo>
                    <a:pt x="134" y="40"/>
                  </a:lnTo>
                  <a:lnTo>
                    <a:pt x="151" y="26"/>
                  </a:lnTo>
                  <a:lnTo>
                    <a:pt x="164" y="10"/>
                  </a:lnTo>
                  <a:lnTo>
                    <a:pt x="147" y="0"/>
                  </a:lnTo>
                  <a:lnTo>
                    <a:pt x="138" y="14"/>
                  </a:lnTo>
                  <a:lnTo>
                    <a:pt x="124" y="23"/>
                  </a:lnTo>
                  <a:lnTo>
                    <a:pt x="106" y="33"/>
                  </a:lnTo>
                  <a:lnTo>
                    <a:pt x="88" y="39"/>
                  </a:lnTo>
                  <a:lnTo>
                    <a:pt x="68" y="43"/>
                  </a:lnTo>
                  <a:lnTo>
                    <a:pt x="47" y="47"/>
                  </a:lnTo>
                  <a:lnTo>
                    <a:pt x="27" y="50"/>
                  </a:lnTo>
                  <a:lnTo>
                    <a:pt x="9" y="50"/>
                  </a:lnTo>
                  <a:lnTo>
                    <a:pt x="0" y="56"/>
                  </a:lnTo>
                  <a:lnTo>
                    <a:pt x="9" y="50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9" y="69"/>
                  </a:lnTo>
                  <a:lnTo>
                    <a:pt x="1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7150320" y="2230200"/>
              <a:ext cx="77760" cy="7812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9" y="187"/>
                  </a:moveTo>
                  <a:lnTo>
                    <a:pt x="9" y="187"/>
                  </a:lnTo>
                  <a:lnTo>
                    <a:pt x="35" y="170"/>
                  </a:lnTo>
                  <a:lnTo>
                    <a:pt x="61" y="152"/>
                  </a:lnTo>
                  <a:lnTo>
                    <a:pt x="82" y="134"/>
                  </a:lnTo>
                  <a:lnTo>
                    <a:pt x="101" y="114"/>
                  </a:lnTo>
                  <a:lnTo>
                    <a:pt x="117" y="90"/>
                  </a:lnTo>
                  <a:lnTo>
                    <a:pt x="129" y="66"/>
                  </a:lnTo>
                  <a:lnTo>
                    <a:pt x="141" y="36"/>
                  </a:lnTo>
                  <a:lnTo>
                    <a:pt x="152" y="5"/>
                  </a:lnTo>
                  <a:lnTo>
                    <a:pt x="133" y="0"/>
                  </a:lnTo>
                  <a:lnTo>
                    <a:pt x="124" y="31"/>
                  </a:lnTo>
                  <a:lnTo>
                    <a:pt x="114" y="58"/>
                  </a:lnTo>
                  <a:lnTo>
                    <a:pt x="101" y="80"/>
                  </a:lnTo>
                  <a:lnTo>
                    <a:pt x="86" y="102"/>
                  </a:lnTo>
                  <a:lnTo>
                    <a:pt x="70" y="119"/>
                  </a:lnTo>
                  <a:lnTo>
                    <a:pt x="48" y="138"/>
                  </a:lnTo>
                  <a:lnTo>
                    <a:pt x="26" y="154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9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7223040" y="2300400"/>
              <a:ext cx="12240" cy="2232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19" y="55"/>
                  </a:moveTo>
                  <a:lnTo>
                    <a:pt x="19" y="52"/>
                  </a:lnTo>
                  <a:lnTo>
                    <a:pt x="19" y="41"/>
                  </a:lnTo>
                  <a:lnTo>
                    <a:pt x="20" y="30"/>
                  </a:lnTo>
                  <a:lnTo>
                    <a:pt x="22" y="20"/>
                  </a:lnTo>
                  <a:lnTo>
                    <a:pt x="25" y="17"/>
                  </a:lnTo>
                  <a:lnTo>
                    <a:pt x="16" y="0"/>
                  </a:lnTo>
                  <a:lnTo>
                    <a:pt x="6" y="14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7224840" y="2321280"/>
              <a:ext cx="65160" cy="155160"/>
            </a:xfrm>
            <a:custGeom>
              <a:avLst/>
              <a:gdLst/>
              <a:ahLst/>
              <a:rect l="l" t="t" r="r" b="b"/>
              <a:pathLst>
                <a:path w="130" h="373">
                  <a:moveTo>
                    <a:pt x="19" y="373"/>
                  </a:moveTo>
                  <a:lnTo>
                    <a:pt x="19" y="373"/>
                  </a:lnTo>
                  <a:lnTo>
                    <a:pt x="130" y="5"/>
                  </a:lnTo>
                  <a:lnTo>
                    <a:pt x="111" y="0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19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7280640" y="2473920"/>
              <a:ext cx="127440" cy="18720"/>
            </a:xfrm>
            <a:custGeom>
              <a:avLst/>
              <a:gdLst/>
              <a:ahLst/>
              <a:rect l="l" t="t" r="r" b="b"/>
              <a:pathLst>
                <a:path w="256" h="44">
                  <a:moveTo>
                    <a:pt x="14" y="44"/>
                  </a:moveTo>
                  <a:lnTo>
                    <a:pt x="14" y="44"/>
                  </a:lnTo>
                  <a:lnTo>
                    <a:pt x="20" y="39"/>
                  </a:lnTo>
                  <a:lnTo>
                    <a:pt x="30" y="35"/>
                  </a:lnTo>
                  <a:lnTo>
                    <a:pt x="44" y="33"/>
                  </a:lnTo>
                  <a:lnTo>
                    <a:pt x="59" y="31"/>
                  </a:lnTo>
                  <a:lnTo>
                    <a:pt x="77" y="31"/>
                  </a:lnTo>
                  <a:lnTo>
                    <a:pt x="95" y="31"/>
                  </a:lnTo>
                  <a:lnTo>
                    <a:pt x="115" y="32"/>
                  </a:lnTo>
                  <a:lnTo>
                    <a:pt x="135" y="33"/>
                  </a:lnTo>
                  <a:lnTo>
                    <a:pt x="156" y="33"/>
                  </a:lnTo>
                  <a:lnTo>
                    <a:pt x="175" y="34"/>
                  </a:lnTo>
                  <a:lnTo>
                    <a:pt x="192" y="34"/>
                  </a:lnTo>
                  <a:lnTo>
                    <a:pt x="208" y="33"/>
                  </a:lnTo>
                  <a:lnTo>
                    <a:pt x="225" y="31"/>
                  </a:lnTo>
                  <a:lnTo>
                    <a:pt x="238" y="25"/>
                  </a:lnTo>
                  <a:lnTo>
                    <a:pt x="248" y="16"/>
                  </a:lnTo>
                  <a:lnTo>
                    <a:pt x="256" y="5"/>
                  </a:lnTo>
                  <a:lnTo>
                    <a:pt x="237" y="0"/>
                  </a:lnTo>
                  <a:lnTo>
                    <a:pt x="235" y="5"/>
                  </a:lnTo>
                  <a:lnTo>
                    <a:pt x="228" y="9"/>
                  </a:lnTo>
                  <a:lnTo>
                    <a:pt x="221" y="12"/>
                  </a:lnTo>
                  <a:lnTo>
                    <a:pt x="208" y="14"/>
                  </a:lnTo>
                  <a:lnTo>
                    <a:pt x="192" y="15"/>
                  </a:lnTo>
                  <a:lnTo>
                    <a:pt x="175" y="15"/>
                  </a:lnTo>
                  <a:lnTo>
                    <a:pt x="156" y="14"/>
                  </a:lnTo>
                  <a:lnTo>
                    <a:pt x="135" y="14"/>
                  </a:lnTo>
                  <a:lnTo>
                    <a:pt x="115" y="13"/>
                  </a:lnTo>
                  <a:lnTo>
                    <a:pt x="95" y="12"/>
                  </a:lnTo>
                  <a:lnTo>
                    <a:pt x="77" y="12"/>
                  </a:lnTo>
                  <a:lnTo>
                    <a:pt x="59" y="12"/>
                  </a:lnTo>
                  <a:lnTo>
                    <a:pt x="41" y="14"/>
                  </a:lnTo>
                  <a:lnTo>
                    <a:pt x="26" y="16"/>
                  </a:lnTo>
                  <a:lnTo>
                    <a:pt x="11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7403400" y="2486880"/>
              <a:ext cx="29520" cy="42840"/>
            </a:xfrm>
            <a:custGeom>
              <a:avLst/>
              <a:gdLst/>
              <a:ahLst/>
              <a:rect l="l" t="t" r="r" b="b"/>
              <a:pathLst>
                <a:path w="62" h="105">
                  <a:moveTo>
                    <a:pt x="5" y="105"/>
                  </a:moveTo>
                  <a:lnTo>
                    <a:pt x="17" y="100"/>
                  </a:lnTo>
                  <a:lnTo>
                    <a:pt x="24" y="80"/>
                  </a:lnTo>
                  <a:lnTo>
                    <a:pt x="29" y="68"/>
                  </a:lnTo>
                  <a:lnTo>
                    <a:pt x="35" y="54"/>
                  </a:lnTo>
                  <a:lnTo>
                    <a:pt x="39" y="45"/>
                  </a:lnTo>
                  <a:lnTo>
                    <a:pt x="44" y="38"/>
                  </a:lnTo>
                  <a:lnTo>
                    <a:pt x="48" y="30"/>
                  </a:lnTo>
                  <a:lnTo>
                    <a:pt x="55" y="21"/>
                  </a:lnTo>
                  <a:lnTo>
                    <a:pt x="62" y="12"/>
                  </a:lnTo>
                  <a:lnTo>
                    <a:pt x="48" y="0"/>
                  </a:lnTo>
                  <a:lnTo>
                    <a:pt x="40" y="9"/>
                  </a:lnTo>
                  <a:lnTo>
                    <a:pt x="35" y="20"/>
                  </a:lnTo>
                  <a:lnTo>
                    <a:pt x="27" y="28"/>
                  </a:lnTo>
                  <a:lnTo>
                    <a:pt x="23" y="36"/>
                  </a:lnTo>
                  <a:lnTo>
                    <a:pt x="18" y="46"/>
                  </a:lnTo>
                  <a:lnTo>
                    <a:pt x="13" y="60"/>
                  </a:lnTo>
                  <a:lnTo>
                    <a:pt x="7" y="75"/>
                  </a:lnTo>
                  <a:lnTo>
                    <a:pt x="0" y="93"/>
                  </a:lnTo>
                  <a:lnTo>
                    <a:pt x="11" y="89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5" y="105"/>
                  </a:lnTo>
                  <a:lnTo>
                    <a:pt x="11" y="105"/>
                  </a:lnTo>
                  <a:lnTo>
                    <a:pt x="17" y="100"/>
                  </a:lnTo>
                  <a:lnTo>
                    <a:pt x="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7428600" y="2472120"/>
              <a:ext cx="34560" cy="57600"/>
            </a:xfrm>
            <a:custGeom>
              <a:avLst/>
              <a:gdLst/>
              <a:ahLst/>
              <a:rect l="l" t="t" r="r" b="b"/>
              <a:pathLst>
                <a:path w="71" h="142">
                  <a:moveTo>
                    <a:pt x="0" y="5"/>
                  </a:moveTo>
                  <a:lnTo>
                    <a:pt x="0" y="5"/>
                  </a:lnTo>
                  <a:lnTo>
                    <a:pt x="5" y="25"/>
                  </a:lnTo>
                  <a:lnTo>
                    <a:pt x="6" y="44"/>
                  </a:lnTo>
                  <a:lnTo>
                    <a:pt x="7" y="61"/>
                  </a:lnTo>
                  <a:lnTo>
                    <a:pt x="8" y="79"/>
                  </a:lnTo>
                  <a:lnTo>
                    <a:pt x="14" y="97"/>
                  </a:lnTo>
                  <a:lnTo>
                    <a:pt x="24" y="113"/>
                  </a:lnTo>
                  <a:lnTo>
                    <a:pt x="42" y="128"/>
                  </a:lnTo>
                  <a:lnTo>
                    <a:pt x="65" y="142"/>
                  </a:lnTo>
                  <a:lnTo>
                    <a:pt x="71" y="126"/>
                  </a:lnTo>
                  <a:lnTo>
                    <a:pt x="50" y="113"/>
                  </a:lnTo>
                  <a:lnTo>
                    <a:pt x="38" y="101"/>
                  </a:lnTo>
                  <a:lnTo>
                    <a:pt x="30" y="90"/>
                  </a:lnTo>
                  <a:lnTo>
                    <a:pt x="27" y="77"/>
                  </a:lnTo>
                  <a:lnTo>
                    <a:pt x="26" y="61"/>
                  </a:lnTo>
                  <a:lnTo>
                    <a:pt x="25" y="44"/>
                  </a:lnTo>
                  <a:lnTo>
                    <a:pt x="24" y="2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7453440" y="2387160"/>
              <a:ext cx="64440" cy="86760"/>
            </a:xfrm>
            <a:custGeom>
              <a:avLst/>
              <a:gdLst/>
              <a:ahLst/>
              <a:rect l="l" t="t" r="r" b="b"/>
              <a:pathLst>
                <a:path w="128" h="208">
                  <a:moveTo>
                    <a:pt x="0" y="2"/>
                  </a:moveTo>
                  <a:lnTo>
                    <a:pt x="0" y="2"/>
                  </a:lnTo>
                  <a:lnTo>
                    <a:pt x="9" y="31"/>
                  </a:lnTo>
                  <a:lnTo>
                    <a:pt x="22" y="58"/>
                  </a:lnTo>
                  <a:lnTo>
                    <a:pt x="37" y="83"/>
                  </a:lnTo>
                  <a:lnTo>
                    <a:pt x="54" y="108"/>
                  </a:lnTo>
                  <a:lnTo>
                    <a:pt x="70" y="133"/>
                  </a:lnTo>
                  <a:lnTo>
                    <a:pt x="85" y="159"/>
                  </a:lnTo>
                  <a:lnTo>
                    <a:pt x="100" y="183"/>
                  </a:lnTo>
                  <a:lnTo>
                    <a:pt x="109" y="208"/>
                  </a:lnTo>
                  <a:lnTo>
                    <a:pt x="128" y="203"/>
                  </a:lnTo>
                  <a:lnTo>
                    <a:pt x="116" y="177"/>
                  </a:lnTo>
                  <a:lnTo>
                    <a:pt x="102" y="149"/>
                  </a:lnTo>
                  <a:lnTo>
                    <a:pt x="86" y="124"/>
                  </a:lnTo>
                  <a:lnTo>
                    <a:pt x="70" y="98"/>
                  </a:lnTo>
                  <a:lnTo>
                    <a:pt x="54" y="73"/>
                  </a:lnTo>
                  <a:lnTo>
                    <a:pt x="39" y="49"/>
                  </a:lnTo>
                  <a:lnTo>
                    <a:pt x="25" y="2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7390800" y="2201040"/>
              <a:ext cx="130320" cy="187920"/>
            </a:xfrm>
            <a:custGeom>
              <a:avLst/>
              <a:gdLst/>
              <a:ahLst/>
              <a:rect l="l" t="t" r="r" b="b"/>
              <a:pathLst>
                <a:path w="260" h="453">
                  <a:moveTo>
                    <a:pt x="241" y="0"/>
                  </a:moveTo>
                  <a:lnTo>
                    <a:pt x="242" y="0"/>
                  </a:lnTo>
                  <a:lnTo>
                    <a:pt x="232" y="26"/>
                  </a:lnTo>
                  <a:lnTo>
                    <a:pt x="217" y="49"/>
                  </a:lnTo>
                  <a:lnTo>
                    <a:pt x="202" y="75"/>
                  </a:lnTo>
                  <a:lnTo>
                    <a:pt x="183" y="100"/>
                  </a:lnTo>
                  <a:lnTo>
                    <a:pt x="162" y="126"/>
                  </a:lnTo>
                  <a:lnTo>
                    <a:pt x="140" y="151"/>
                  </a:lnTo>
                  <a:lnTo>
                    <a:pt x="118" y="179"/>
                  </a:lnTo>
                  <a:lnTo>
                    <a:pt x="94" y="206"/>
                  </a:lnTo>
                  <a:lnTo>
                    <a:pt x="73" y="233"/>
                  </a:lnTo>
                  <a:lnTo>
                    <a:pt x="53" y="262"/>
                  </a:lnTo>
                  <a:lnTo>
                    <a:pt x="35" y="291"/>
                  </a:lnTo>
                  <a:lnTo>
                    <a:pt x="21" y="321"/>
                  </a:lnTo>
                  <a:lnTo>
                    <a:pt x="9" y="353"/>
                  </a:lnTo>
                  <a:lnTo>
                    <a:pt x="4" y="386"/>
                  </a:lnTo>
                  <a:lnTo>
                    <a:pt x="0" y="420"/>
                  </a:lnTo>
                  <a:lnTo>
                    <a:pt x="6" y="453"/>
                  </a:lnTo>
                  <a:lnTo>
                    <a:pt x="25" y="451"/>
                  </a:lnTo>
                  <a:lnTo>
                    <a:pt x="19" y="420"/>
                  </a:lnTo>
                  <a:lnTo>
                    <a:pt x="22" y="388"/>
                  </a:lnTo>
                  <a:lnTo>
                    <a:pt x="28" y="358"/>
                  </a:lnTo>
                  <a:lnTo>
                    <a:pt x="37" y="329"/>
                  </a:lnTo>
                  <a:lnTo>
                    <a:pt x="51" y="300"/>
                  </a:lnTo>
                  <a:lnTo>
                    <a:pt x="68" y="272"/>
                  </a:lnTo>
                  <a:lnTo>
                    <a:pt x="88" y="245"/>
                  </a:lnTo>
                  <a:lnTo>
                    <a:pt x="109" y="218"/>
                  </a:lnTo>
                  <a:lnTo>
                    <a:pt x="131" y="190"/>
                  </a:lnTo>
                  <a:lnTo>
                    <a:pt x="154" y="163"/>
                  </a:lnTo>
                  <a:lnTo>
                    <a:pt x="176" y="138"/>
                  </a:lnTo>
                  <a:lnTo>
                    <a:pt x="198" y="111"/>
                  </a:lnTo>
                  <a:lnTo>
                    <a:pt x="216" y="85"/>
                  </a:lnTo>
                  <a:lnTo>
                    <a:pt x="234" y="58"/>
                  </a:lnTo>
                  <a:lnTo>
                    <a:pt x="249" y="32"/>
                  </a:lnTo>
                  <a:lnTo>
                    <a:pt x="259" y="6"/>
                  </a:lnTo>
                  <a:lnTo>
                    <a:pt x="260" y="6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7390440" y="2140920"/>
              <a:ext cx="15120" cy="61920"/>
            </a:xfrm>
            <a:custGeom>
              <a:avLst/>
              <a:gdLst/>
              <a:ahLst/>
              <a:rect l="l" t="t" r="r" b="b"/>
              <a:pathLst>
                <a:path w="30" h="149">
                  <a:moveTo>
                    <a:pt x="4" y="0"/>
                  </a:moveTo>
                  <a:lnTo>
                    <a:pt x="4" y="1"/>
                  </a:lnTo>
                  <a:lnTo>
                    <a:pt x="0" y="38"/>
                  </a:lnTo>
                  <a:lnTo>
                    <a:pt x="4" y="76"/>
                  </a:lnTo>
                  <a:lnTo>
                    <a:pt x="11" y="112"/>
                  </a:lnTo>
                  <a:lnTo>
                    <a:pt x="9" y="143"/>
                  </a:lnTo>
                  <a:lnTo>
                    <a:pt x="28" y="149"/>
                  </a:lnTo>
                  <a:lnTo>
                    <a:pt x="30" y="112"/>
                  </a:lnTo>
                  <a:lnTo>
                    <a:pt x="23" y="73"/>
                  </a:lnTo>
                  <a:lnTo>
                    <a:pt x="19" y="38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7235640" y="2080800"/>
              <a:ext cx="167760" cy="64080"/>
            </a:xfrm>
            <a:custGeom>
              <a:avLst/>
              <a:gdLst/>
              <a:ahLst/>
              <a:rect l="l" t="t" r="r" b="b"/>
              <a:pathLst>
                <a:path w="335" h="156">
                  <a:moveTo>
                    <a:pt x="330" y="0"/>
                  </a:moveTo>
                  <a:lnTo>
                    <a:pt x="330" y="0"/>
                  </a:lnTo>
                  <a:lnTo>
                    <a:pt x="309" y="6"/>
                  </a:lnTo>
                  <a:lnTo>
                    <a:pt x="285" y="9"/>
                  </a:lnTo>
                  <a:lnTo>
                    <a:pt x="263" y="14"/>
                  </a:lnTo>
                  <a:lnTo>
                    <a:pt x="241" y="16"/>
                  </a:lnTo>
                  <a:lnTo>
                    <a:pt x="217" y="18"/>
                  </a:lnTo>
                  <a:lnTo>
                    <a:pt x="193" y="21"/>
                  </a:lnTo>
                  <a:lnTo>
                    <a:pt x="171" y="24"/>
                  </a:lnTo>
                  <a:lnTo>
                    <a:pt x="149" y="28"/>
                  </a:lnTo>
                  <a:lnTo>
                    <a:pt x="128" y="35"/>
                  </a:lnTo>
                  <a:lnTo>
                    <a:pt x="106" y="42"/>
                  </a:lnTo>
                  <a:lnTo>
                    <a:pt x="84" y="52"/>
                  </a:lnTo>
                  <a:lnTo>
                    <a:pt x="65" y="65"/>
                  </a:lnTo>
                  <a:lnTo>
                    <a:pt x="47" y="80"/>
                  </a:lnTo>
                  <a:lnTo>
                    <a:pt x="30" y="99"/>
                  </a:lnTo>
                  <a:lnTo>
                    <a:pt x="14" y="121"/>
                  </a:lnTo>
                  <a:lnTo>
                    <a:pt x="0" y="149"/>
                  </a:lnTo>
                  <a:lnTo>
                    <a:pt x="17" y="156"/>
                  </a:lnTo>
                  <a:lnTo>
                    <a:pt x="30" y="131"/>
                  </a:lnTo>
                  <a:lnTo>
                    <a:pt x="44" y="111"/>
                  </a:lnTo>
                  <a:lnTo>
                    <a:pt x="59" y="95"/>
                  </a:lnTo>
                  <a:lnTo>
                    <a:pt x="77" y="79"/>
                  </a:lnTo>
                  <a:lnTo>
                    <a:pt x="93" y="69"/>
                  </a:lnTo>
                  <a:lnTo>
                    <a:pt x="112" y="59"/>
                  </a:lnTo>
                  <a:lnTo>
                    <a:pt x="132" y="54"/>
                  </a:lnTo>
                  <a:lnTo>
                    <a:pt x="153" y="47"/>
                  </a:lnTo>
                  <a:lnTo>
                    <a:pt x="173" y="42"/>
                  </a:lnTo>
                  <a:lnTo>
                    <a:pt x="195" y="40"/>
                  </a:lnTo>
                  <a:lnTo>
                    <a:pt x="220" y="37"/>
                  </a:lnTo>
                  <a:lnTo>
                    <a:pt x="241" y="35"/>
                  </a:lnTo>
                  <a:lnTo>
                    <a:pt x="265" y="32"/>
                  </a:lnTo>
                  <a:lnTo>
                    <a:pt x="288" y="28"/>
                  </a:lnTo>
                  <a:lnTo>
                    <a:pt x="311" y="25"/>
                  </a:lnTo>
                  <a:lnTo>
                    <a:pt x="335" y="19"/>
                  </a:lnTo>
                  <a:lnTo>
                    <a:pt x="335" y="19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7065000" y="2075040"/>
              <a:ext cx="172440" cy="3924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42" y="82"/>
                  </a:moveTo>
                  <a:lnTo>
                    <a:pt x="342" y="82"/>
                  </a:lnTo>
                  <a:lnTo>
                    <a:pt x="320" y="70"/>
                  </a:lnTo>
                  <a:lnTo>
                    <a:pt x="300" y="57"/>
                  </a:lnTo>
                  <a:lnTo>
                    <a:pt x="279" y="47"/>
                  </a:lnTo>
                  <a:lnTo>
                    <a:pt x="259" y="36"/>
                  </a:lnTo>
                  <a:lnTo>
                    <a:pt x="240" y="29"/>
                  </a:lnTo>
                  <a:lnTo>
                    <a:pt x="219" y="20"/>
                  </a:lnTo>
                  <a:lnTo>
                    <a:pt x="200" y="13"/>
                  </a:lnTo>
                  <a:lnTo>
                    <a:pt x="180" y="6"/>
                  </a:lnTo>
                  <a:lnTo>
                    <a:pt x="160" y="3"/>
                  </a:lnTo>
                  <a:lnTo>
                    <a:pt x="139" y="1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4" y="1"/>
                  </a:lnTo>
                  <a:lnTo>
                    <a:pt x="51" y="4"/>
                  </a:lnTo>
                  <a:lnTo>
                    <a:pt x="26" y="10"/>
                  </a:lnTo>
                  <a:lnTo>
                    <a:pt x="0" y="15"/>
                  </a:lnTo>
                  <a:lnTo>
                    <a:pt x="5" y="34"/>
                  </a:lnTo>
                  <a:lnTo>
                    <a:pt x="28" y="29"/>
                  </a:lnTo>
                  <a:lnTo>
                    <a:pt x="53" y="23"/>
                  </a:lnTo>
                  <a:lnTo>
                    <a:pt x="74" y="20"/>
                  </a:lnTo>
                  <a:lnTo>
                    <a:pt x="97" y="19"/>
                  </a:lnTo>
                  <a:lnTo>
                    <a:pt x="118" y="19"/>
                  </a:lnTo>
                  <a:lnTo>
                    <a:pt x="139" y="20"/>
                  </a:lnTo>
                  <a:lnTo>
                    <a:pt x="158" y="22"/>
                  </a:lnTo>
                  <a:lnTo>
                    <a:pt x="178" y="25"/>
                  </a:lnTo>
                  <a:lnTo>
                    <a:pt x="196" y="32"/>
                  </a:lnTo>
                  <a:lnTo>
                    <a:pt x="215" y="36"/>
                  </a:lnTo>
                  <a:lnTo>
                    <a:pt x="234" y="44"/>
                  </a:lnTo>
                  <a:lnTo>
                    <a:pt x="252" y="53"/>
                  </a:lnTo>
                  <a:lnTo>
                    <a:pt x="272" y="63"/>
                  </a:lnTo>
                  <a:lnTo>
                    <a:pt x="291" y="74"/>
                  </a:lnTo>
                  <a:lnTo>
                    <a:pt x="311" y="86"/>
                  </a:lnTo>
                  <a:lnTo>
                    <a:pt x="332" y="99"/>
                  </a:lnTo>
                  <a:lnTo>
                    <a:pt x="332" y="99"/>
                  </a:lnTo>
                  <a:lnTo>
                    <a:pt x="34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7022520" y="2108160"/>
              <a:ext cx="47520" cy="7020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60" y="156"/>
                  </a:moveTo>
                  <a:lnTo>
                    <a:pt x="60" y="168"/>
                  </a:lnTo>
                  <a:lnTo>
                    <a:pt x="86" y="140"/>
                  </a:lnTo>
                  <a:lnTo>
                    <a:pt x="96" y="111"/>
                  </a:lnTo>
                  <a:lnTo>
                    <a:pt x="96" y="88"/>
                  </a:lnTo>
                  <a:lnTo>
                    <a:pt x="88" y="64"/>
                  </a:lnTo>
                  <a:lnTo>
                    <a:pt x="71" y="45"/>
                  </a:lnTo>
                  <a:lnTo>
                    <a:pt x="52" y="29"/>
                  </a:lnTo>
                  <a:lnTo>
                    <a:pt x="31" y="13"/>
                  </a:lnTo>
                  <a:lnTo>
                    <a:pt x="10" y="0"/>
                  </a:lnTo>
                  <a:lnTo>
                    <a:pt x="0" y="17"/>
                  </a:lnTo>
                  <a:lnTo>
                    <a:pt x="21" y="30"/>
                  </a:lnTo>
                  <a:lnTo>
                    <a:pt x="40" y="43"/>
                  </a:lnTo>
                  <a:lnTo>
                    <a:pt x="59" y="56"/>
                  </a:lnTo>
                  <a:lnTo>
                    <a:pt x="71" y="73"/>
                  </a:lnTo>
                  <a:lnTo>
                    <a:pt x="77" y="90"/>
                  </a:lnTo>
                  <a:lnTo>
                    <a:pt x="77" y="109"/>
                  </a:lnTo>
                  <a:lnTo>
                    <a:pt x="69" y="130"/>
                  </a:lnTo>
                  <a:lnTo>
                    <a:pt x="49" y="156"/>
                  </a:lnTo>
                  <a:lnTo>
                    <a:pt x="49" y="168"/>
                  </a:lnTo>
                  <a:lnTo>
                    <a:pt x="49" y="156"/>
                  </a:lnTo>
                  <a:lnTo>
                    <a:pt x="47" y="162"/>
                  </a:lnTo>
                  <a:lnTo>
                    <a:pt x="50" y="166"/>
                  </a:lnTo>
                  <a:lnTo>
                    <a:pt x="55" y="170"/>
                  </a:lnTo>
                  <a:lnTo>
                    <a:pt x="60" y="168"/>
                  </a:lnTo>
                  <a:lnTo>
                    <a:pt x="6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7013160" y="2171880"/>
              <a:ext cx="49680" cy="103320"/>
            </a:xfrm>
            <a:custGeom>
              <a:avLst/>
              <a:gdLst/>
              <a:ahLst/>
              <a:rect l="l" t="t" r="r" b="b"/>
              <a:pathLst>
                <a:path w="102" h="249">
                  <a:moveTo>
                    <a:pt x="0" y="240"/>
                  </a:moveTo>
                  <a:lnTo>
                    <a:pt x="15" y="247"/>
                  </a:lnTo>
                  <a:lnTo>
                    <a:pt x="43" y="218"/>
                  </a:lnTo>
                  <a:lnTo>
                    <a:pt x="66" y="191"/>
                  </a:lnTo>
                  <a:lnTo>
                    <a:pt x="87" y="163"/>
                  </a:lnTo>
                  <a:lnTo>
                    <a:pt x="98" y="134"/>
                  </a:lnTo>
                  <a:lnTo>
                    <a:pt x="102" y="103"/>
                  </a:lnTo>
                  <a:lnTo>
                    <a:pt x="95" y="70"/>
                  </a:lnTo>
                  <a:lnTo>
                    <a:pt x="76" y="37"/>
                  </a:lnTo>
                  <a:lnTo>
                    <a:pt x="44" y="0"/>
                  </a:lnTo>
                  <a:lnTo>
                    <a:pt x="33" y="12"/>
                  </a:lnTo>
                  <a:lnTo>
                    <a:pt x="62" y="46"/>
                  </a:lnTo>
                  <a:lnTo>
                    <a:pt x="79" y="76"/>
                  </a:lnTo>
                  <a:lnTo>
                    <a:pt x="83" y="103"/>
                  </a:lnTo>
                  <a:lnTo>
                    <a:pt x="80" y="129"/>
                  </a:lnTo>
                  <a:lnTo>
                    <a:pt x="71" y="154"/>
                  </a:lnTo>
                  <a:lnTo>
                    <a:pt x="53" y="179"/>
                  </a:lnTo>
                  <a:lnTo>
                    <a:pt x="29" y="207"/>
                  </a:lnTo>
                  <a:lnTo>
                    <a:pt x="3" y="235"/>
                  </a:lnTo>
                  <a:lnTo>
                    <a:pt x="19" y="240"/>
                  </a:lnTo>
                  <a:lnTo>
                    <a:pt x="3" y="235"/>
                  </a:lnTo>
                  <a:lnTo>
                    <a:pt x="1" y="240"/>
                  </a:lnTo>
                  <a:lnTo>
                    <a:pt x="4" y="246"/>
                  </a:lnTo>
                  <a:lnTo>
                    <a:pt x="9" y="249"/>
                  </a:lnTo>
                  <a:lnTo>
                    <a:pt x="15" y="247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7052400" y="2205360"/>
              <a:ext cx="34920" cy="65880"/>
            </a:xfrm>
            <a:custGeom>
              <a:avLst/>
              <a:gdLst/>
              <a:ahLst/>
              <a:rect l="l" t="t" r="r" b="b"/>
              <a:pathLst>
                <a:path w="67" h="161">
                  <a:moveTo>
                    <a:pt x="18" y="15"/>
                  </a:moveTo>
                  <a:lnTo>
                    <a:pt x="1" y="15"/>
                  </a:lnTo>
                  <a:lnTo>
                    <a:pt x="11" y="31"/>
                  </a:lnTo>
                  <a:lnTo>
                    <a:pt x="20" y="46"/>
                  </a:lnTo>
                  <a:lnTo>
                    <a:pt x="29" y="64"/>
                  </a:lnTo>
                  <a:lnTo>
                    <a:pt x="36" y="80"/>
                  </a:lnTo>
                  <a:lnTo>
                    <a:pt x="39" y="98"/>
                  </a:lnTo>
                  <a:lnTo>
                    <a:pt x="44" y="118"/>
                  </a:lnTo>
                  <a:lnTo>
                    <a:pt x="47" y="138"/>
                  </a:lnTo>
                  <a:lnTo>
                    <a:pt x="48" y="161"/>
                  </a:lnTo>
                  <a:lnTo>
                    <a:pt x="67" y="161"/>
                  </a:lnTo>
                  <a:lnTo>
                    <a:pt x="66" y="138"/>
                  </a:lnTo>
                  <a:lnTo>
                    <a:pt x="63" y="116"/>
                  </a:lnTo>
                  <a:lnTo>
                    <a:pt x="58" y="96"/>
                  </a:lnTo>
                  <a:lnTo>
                    <a:pt x="52" y="76"/>
                  </a:lnTo>
                  <a:lnTo>
                    <a:pt x="46" y="57"/>
                  </a:lnTo>
                  <a:lnTo>
                    <a:pt x="37" y="39"/>
                  </a:lnTo>
                  <a:lnTo>
                    <a:pt x="28" y="21"/>
                  </a:lnTo>
                  <a:lnTo>
                    <a:pt x="18" y="5"/>
                  </a:lnTo>
                  <a:lnTo>
                    <a:pt x="1" y="5"/>
                  </a:lnTo>
                  <a:lnTo>
                    <a:pt x="18" y="5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7"/>
                  </a:lnTo>
                  <a:lnTo>
                    <a:pt x="1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7094880" y="2287800"/>
              <a:ext cx="29880" cy="3096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43" y="0"/>
                  </a:moveTo>
                  <a:lnTo>
                    <a:pt x="52" y="11"/>
                  </a:lnTo>
                  <a:lnTo>
                    <a:pt x="58" y="24"/>
                  </a:lnTo>
                  <a:lnTo>
                    <a:pt x="61" y="38"/>
                  </a:lnTo>
                  <a:lnTo>
                    <a:pt x="58" y="51"/>
                  </a:lnTo>
                  <a:lnTo>
                    <a:pt x="52" y="63"/>
                  </a:lnTo>
                  <a:lnTo>
                    <a:pt x="43" y="71"/>
                  </a:lnTo>
                  <a:lnTo>
                    <a:pt x="28" y="74"/>
                  </a:lnTo>
                  <a:lnTo>
                    <a:pt x="11" y="72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2" y="53"/>
                  </a:lnTo>
                  <a:lnTo>
                    <a:pt x="10" y="44"/>
                  </a:lnTo>
                  <a:lnTo>
                    <a:pt x="17" y="33"/>
                  </a:lnTo>
                  <a:lnTo>
                    <a:pt x="27" y="23"/>
                  </a:lnTo>
                  <a:lnTo>
                    <a:pt x="36" y="1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7059960" y="2300400"/>
              <a:ext cx="12240" cy="2484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12" y="0"/>
                  </a:moveTo>
                  <a:lnTo>
                    <a:pt x="5" y="14"/>
                  </a:lnTo>
                  <a:lnTo>
                    <a:pt x="1" y="30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1"/>
                  </a:lnTo>
                  <a:lnTo>
                    <a:pt x="7" y="61"/>
                  </a:lnTo>
                  <a:lnTo>
                    <a:pt x="10" y="60"/>
                  </a:lnTo>
                  <a:lnTo>
                    <a:pt x="13" y="58"/>
                  </a:lnTo>
                  <a:lnTo>
                    <a:pt x="24" y="40"/>
                  </a:lnTo>
                  <a:lnTo>
                    <a:pt x="25" y="24"/>
                  </a:lnTo>
                  <a:lnTo>
                    <a:pt x="20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6766560" y="2982960"/>
              <a:ext cx="248040" cy="237600"/>
            </a:xfrm>
            <a:custGeom>
              <a:avLst/>
              <a:gdLst/>
              <a:ahLst/>
              <a:rect l="l" t="t" r="r" b="b"/>
              <a:pathLst>
                <a:path w="496" h="574">
                  <a:moveTo>
                    <a:pt x="181" y="25"/>
                  </a:moveTo>
                  <a:lnTo>
                    <a:pt x="170" y="37"/>
                  </a:lnTo>
                  <a:lnTo>
                    <a:pt x="160" y="49"/>
                  </a:lnTo>
                  <a:lnTo>
                    <a:pt x="153" y="63"/>
                  </a:lnTo>
                  <a:lnTo>
                    <a:pt x="149" y="80"/>
                  </a:lnTo>
                  <a:lnTo>
                    <a:pt x="145" y="98"/>
                  </a:lnTo>
                  <a:lnTo>
                    <a:pt x="144" y="118"/>
                  </a:lnTo>
                  <a:lnTo>
                    <a:pt x="146" y="139"/>
                  </a:lnTo>
                  <a:lnTo>
                    <a:pt x="150" y="161"/>
                  </a:lnTo>
                  <a:lnTo>
                    <a:pt x="151" y="178"/>
                  </a:lnTo>
                  <a:lnTo>
                    <a:pt x="148" y="197"/>
                  </a:lnTo>
                  <a:lnTo>
                    <a:pt x="143" y="214"/>
                  </a:lnTo>
                  <a:lnTo>
                    <a:pt x="137" y="232"/>
                  </a:lnTo>
                  <a:lnTo>
                    <a:pt x="132" y="249"/>
                  </a:lnTo>
                  <a:lnTo>
                    <a:pt x="131" y="264"/>
                  </a:lnTo>
                  <a:lnTo>
                    <a:pt x="133" y="276"/>
                  </a:lnTo>
                  <a:lnTo>
                    <a:pt x="143" y="286"/>
                  </a:lnTo>
                  <a:lnTo>
                    <a:pt x="150" y="289"/>
                  </a:lnTo>
                  <a:lnTo>
                    <a:pt x="156" y="290"/>
                  </a:lnTo>
                  <a:lnTo>
                    <a:pt x="164" y="289"/>
                  </a:lnTo>
                  <a:lnTo>
                    <a:pt x="171" y="288"/>
                  </a:lnTo>
                  <a:lnTo>
                    <a:pt x="176" y="286"/>
                  </a:lnTo>
                  <a:lnTo>
                    <a:pt x="184" y="282"/>
                  </a:lnTo>
                  <a:lnTo>
                    <a:pt x="190" y="279"/>
                  </a:lnTo>
                  <a:lnTo>
                    <a:pt x="194" y="277"/>
                  </a:lnTo>
                  <a:lnTo>
                    <a:pt x="213" y="267"/>
                  </a:lnTo>
                  <a:lnTo>
                    <a:pt x="230" y="251"/>
                  </a:lnTo>
                  <a:lnTo>
                    <a:pt x="245" y="232"/>
                  </a:lnTo>
                  <a:lnTo>
                    <a:pt x="260" y="211"/>
                  </a:lnTo>
                  <a:lnTo>
                    <a:pt x="273" y="190"/>
                  </a:lnTo>
                  <a:lnTo>
                    <a:pt x="288" y="170"/>
                  </a:lnTo>
                  <a:lnTo>
                    <a:pt x="305" y="153"/>
                  </a:lnTo>
                  <a:lnTo>
                    <a:pt x="324" y="141"/>
                  </a:lnTo>
                  <a:lnTo>
                    <a:pt x="329" y="140"/>
                  </a:lnTo>
                  <a:lnTo>
                    <a:pt x="336" y="142"/>
                  </a:lnTo>
                  <a:lnTo>
                    <a:pt x="341" y="146"/>
                  </a:lnTo>
                  <a:lnTo>
                    <a:pt x="343" y="151"/>
                  </a:lnTo>
                  <a:lnTo>
                    <a:pt x="342" y="180"/>
                  </a:lnTo>
                  <a:lnTo>
                    <a:pt x="339" y="212"/>
                  </a:lnTo>
                  <a:lnTo>
                    <a:pt x="334" y="247"/>
                  </a:lnTo>
                  <a:lnTo>
                    <a:pt x="326" y="279"/>
                  </a:lnTo>
                  <a:lnTo>
                    <a:pt x="317" y="313"/>
                  </a:lnTo>
                  <a:lnTo>
                    <a:pt x="305" y="343"/>
                  </a:lnTo>
                  <a:lnTo>
                    <a:pt x="291" y="370"/>
                  </a:lnTo>
                  <a:lnTo>
                    <a:pt x="275" y="391"/>
                  </a:lnTo>
                  <a:lnTo>
                    <a:pt x="265" y="398"/>
                  </a:lnTo>
                  <a:lnTo>
                    <a:pt x="252" y="400"/>
                  </a:lnTo>
                  <a:lnTo>
                    <a:pt x="239" y="400"/>
                  </a:lnTo>
                  <a:lnTo>
                    <a:pt x="223" y="398"/>
                  </a:lnTo>
                  <a:lnTo>
                    <a:pt x="205" y="392"/>
                  </a:lnTo>
                  <a:lnTo>
                    <a:pt x="186" y="388"/>
                  </a:lnTo>
                  <a:lnTo>
                    <a:pt x="168" y="381"/>
                  </a:lnTo>
                  <a:lnTo>
                    <a:pt x="148" y="373"/>
                  </a:lnTo>
                  <a:lnTo>
                    <a:pt x="127" y="368"/>
                  </a:lnTo>
                  <a:lnTo>
                    <a:pt x="107" y="362"/>
                  </a:lnTo>
                  <a:lnTo>
                    <a:pt x="88" y="358"/>
                  </a:lnTo>
                  <a:lnTo>
                    <a:pt x="69" y="354"/>
                  </a:lnTo>
                  <a:lnTo>
                    <a:pt x="50" y="354"/>
                  </a:lnTo>
                  <a:lnTo>
                    <a:pt x="33" y="358"/>
                  </a:lnTo>
                  <a:lnTo>
                    <a:pt x="19" y="363"/>
                  </a:lnTo>
                  <a:lnTo>
                    <a:pt x="6" y="372"/>
                  </a:lnTo>
                  <a:lnTo>
                    <a:pt x="1" y="381"/>
                  </a:lnTo>
                  <a:lnTo>
                    <a:pt x="0" y="391"/>
                  </a:lnTo>
                  <a:lnTo>
                    <a:pt x="5" y="404"/>
                  </a:lnTo>
                  <a:lnTo>
                    <a:pt x="12" y="420"/>
                  </a:lnTo>
                  <a:lnTo>
                    <a:pt x="22" y="435"/>
                  </a:lnTo>
                  <a:lnTo>
                    <a:pt x="37" y="450"/>
                  </a:lnTo>
                  <a:lnTo>
                    <a:pt x="52" y="468"/>
                  </a:lnTo>
                  <a:lnTo>
                    <a:pt x="70" y="484"/>
                  </a:lnTo>
                  <a:lnTo>
                    <a:pt x="89" y="501"/>
                  </a:lnTo>
                  <a:lnTo>
                    <a:pt x="108" y="516"/>
                  </a:lnTo>
                  <a:lnTo>
                    <a:pt x="128" y="531"/>
                  </a:lnTo>
                  <a:lnTo>
                    <a:pt x="146" y="544"/>
                  </a:lnTo>
                  <a:lnTo>
                    <a:pt x="165" y="555"/>
                  </a:lnTo>
                  <a:lnTo>
                    <a:pt x="183" y="565"/>
                  </a:lnTo>
                  <a:lnTo>
                    <a:pt x="197" y="571"/>
                  </a:lnTo>
                  <a:lnTo>
                    <a:pt x="212" y="574"/>
                  </a:lnTo>
                  <a:lnTo>
                    <a:pt x="216" y="573"/>
                  </a:lnTo>
                  <a:lnTo>
                    <a:pt x="223" y="571"/>
                  </a:lnTo>
                  <a:lnTo>
                    <a:pt x="229" y="566"/>
                  </a:lnTo>
                  <a:lnTo>
                    <a:pt x="235" y="561"/>
                  </a:lnTo>
                  <a:lnTo>
                    <a:pt x="243" y="556"/>
                  </a:lnTo>
                  <a:lnTo>
                    <a:pt x="248" y="552"/>
                  </a:lnTo>
                  <a:lnTo>
                    <a:pt x="253" y="549"/>
                  </a:lnTo>
                  <a:lnTo>
                    <a:pt x="256" y="546"/>
                  </a:lnTo>
                  <a:lnTo>
                    <a:pt x="405" y="391"/>
                  </a:lnTo>
                  <a:lnTo>
                    <a:pt x="415" y="383"/>
                  </a:lnTo>
                  <a:lnTo>
                    <a:pt x="427" y="373"/>
                  </a:lnTo>
                  <a:lnTo>
                    <a:pt x="440" y="362"/>
                  </a:lnTo>
                  <a:lnTo>
                    <a:pt x="456" y="349"/>
                  </a:lnTo>
                  <a:lnTo>
                    <a:pt x="470" y="336"/>
                  </a:lnTo>
                  <a:lnTo>
                    <a:pt x="484" y="323"/>
                  </a:lnTo>
                  <a:lnTo>
                    <a:pt x="491" y="311"/>
                  </a:lnTo>
                  <a:lnTo>
                    <a:pt x="496" y="299"/>
                  </a:lnTo>
                  <a:lnTo>
                    <a:pt x="496" y="277"/>
                  </a:lnTo>
                  <a:lnTo>
                    <a:pt x="488" y="244"/>
                  </a:lnTo>
                  <a:lnTo>
                    <a:pt x="479" y="211"/>
                  </a:lnTo>
                  <a:lnTo>
                    <a:pt x="472" y="189"/>
                  </a:lnTo>
                  <a:lnTo>
                    <a:pt x="468" y="172"/>
                  </a:lnTo>
                  <a:lnTo>
                    <a:pt x="458" y="147"/>
                  </a:lnTo>
                  <a:lnTo>
                    <a:pt x="446" y="117"/>
                  </a:lnTo>
                  <a:lnTo>
                    <a:pt x="430" y="85"/>
                  </a:lnTo>
                  <a:lnTo>
                    <a:pt x="414" y="53"/>
                  </a:lnTo>
                  <a:lnTo>
                    <a:pt x="397" y="27"/>
                  </a:lnTo>
                  <a:lnTo>
                    <a:pt x="382" y="8"/>
                  </a:lnTo>
                  <a:lnTo>
                    <a:pt x="369" y="0"/>
                  </a:lnTo>
                  <a:lnTo>
                    <a:pt x="358" y="1"/>
                  </a:lnTo>
                  <a:lnTo>
                    <a:pt x="347" y="4"/>
                  </a:lnTo>
                  <a:lnTo>
                    <a:pt x="336" y="5"/>
                  </a:lnTo>
                  <a:lnTo>
                    <a:pt x="324" y="7"/>
                  </a:lnTo>
                  <a:lnTo>
                    <a:pt x="313" y="8"/>
                  </a:lnTo>
                  <a:lnTo>
                    <a:pt x="302" y="10"/>
                  </a:lnTo>
                  <a:lnTo>
                    <a:pt x="288" y="11"/>
                  </a:lnTo>
                  <a:lnTo>
                    <a:pt x="277" y="12"/>
                  </a:lnTo>
                  <a:lnTo>
                    <a:pt x="265" y="15"/>
                  </a:lnTo>
                  <a:lnTo>
                    <a:pt x="253" y="16"/>
                  </a:lnTo>
                  <a:lnTo>
                    <a:pt x="241" y="18"/>
                  </a:lnTo>
                  <a:lnTo>
                    <a:pt x="229" y="19"/>
                  </a:lnTo>
                  <a:lnTo>
                    <a:pt x="216" y="21"/>
                  </a:lnTo>
                  <a:lnTo>
                    <a:pt x="204" y="22"/>
                  </a:lnTo>
                  <a:lnTo>
                    <a:pt x="192" y="24"/>
                  </a:lnTo>
                  <a:lnTo>
                    <a:pt x="181" y="25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6922440" y="2991600"/>
              <a:ext cx="27000" cy="59400"/>
            </a:xfrm>
            <a:custGeom>
              <a:avLst/>
              <a:gdLst/>
              <a:ahLst/>
              <a:rect l="l" t="t" r="r" b="b"/>
              <a:pathLst>
                <a:path w="55" h="147">
                  <a:moveTo>
                    <a:pt x="27" y="144"/>
                  </a:moveTo>
                  <a:lnTo>
                    <a:pt x="27" y="143"/>
                  </a:lnTo>
                  <a:lnTo>
                    <a:pt x="23" y="122"/>
                  </a:lnTo>
                  <a:lnTo>
                    <a:pt x="21" y="102"/>
                  </a:lnTo>
                  <a:lnTo>
                    <a:pt x="22" y="83"/>
                  </a:lnTo>
                  <a:lnTo>
                    <a:pt x="26" y="66"/>
                  </a:lnTo>
                  <a:lnTo>
                    <a:pt x="30" y="51"/>
                  </a:lnTo>
                  <a:lnTo>
                    <a:pt x="37" y="37"/>
                  </a:lnTo>
                  <a:lnTo>
                    <a:pt x="45" y="27"/>
                  </a:lnTo>
                  <a:lnTo>
                    <a:pt x="55" y="16"/>
                  </a:lnTo>
                  <a:lnTo>
                    <a:pt x="40" y="0"/>
                  </a:lnTo>
                  <a:lnTo>
                    <a:pt x="29" y="13"/>
                  </a:lnTo>
                  <a:lnTo>
                    <a:pt x="18" y="29"/>
                  </a:lnTo>
                  <a:lnTo>
                    <a:pt x="11" y="44"/>
                  </a:lnTo>
                  <a:lnTo>
                    <a:pt x="5" y="62"/>
                  </a:lnTo>
                  <a:lnTo>
                    <a:pt x="1" y="81"/>
                  </a:lnTo>
                  <a:lnTo>
                    <a:pt x="0" y="102"/>
                  </a:lnTo>
                  <a:lnTo>
                    <a:pt x="2" y="124"/>
                  </a:lnTo>
                  <a:lnTo>
                    <a:pt x="6" y="147"/>
                  </a:lnTo>
                  <a:lnTo>
                    <a:pt x="6" y="146"/>
                  </a:lnTo>
                  <a:lnTo>
                    <a:pt x="27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6934680" y="3049200"/>
              <a:ext cx="19800" cy="55800"/>
            </a:xfrm>
            <a:custGeom>
              <a:avLst/>
              <a:gdLst/>
              <a:ahLst/>
              <a:rect l="l" t="t" r="r" b="b"/>
              <a:pathLst>
                <a:path w="42" h="134">
                  <a:moveTo>
                    <a:pt x="29" y="116"/>
                  </a:moveTo>
                  <a:lnTo>
                    <a:pt x="28" y="116"/>
                  </a:lnTo>
                  <a:lnTo>
                    <a:pt x="23" y="111"/>
                  </a:lnTo>
                  <a:lnTo>
                    <a:pt x="21" y="104"/>
                  </a:lnTo>
                  <a:lnTo>
                    <a:pt x="23" y="90"/>
                  </a:lnTo>
                  <a:lnTo>
                    <a:pt x="28" y="74"/>
                  </a:lnTo>
                  <a:lnTo>
                    <a:pt x="33" y="57"/>
                  </a:lnTo>
                  <a:lnTo>
                    <a:pt x="38" y="39"/>
                  </a:lnTo>
                  <a:lnTo>
                    <a:pt x="42" y="18"/>
                  </a:lnTo>
                  <a:lnTo>
                    <a:pt x="40" y="0"/>
                  </a:lnTo>
                  <a:lnTo>
                    <a:pt x="19" y="2"/>
                  </a:lnTo>
                  <a:lnTo>
                    <a:pt x="20" y="18"/>
                  </a:lnTo>
                  <a:lnTo>
                    <a:pt x="17" y="34"/>
                  </a:lnTo>
                  <a:lnTo>
                    <a:pt x="12" y="52"/>
                  </a:lnTo>
                  <a:lnTo>
                    <a:pt x="7" y="70"/>
                  </a:lnTo>
                  <a:lnTo>
                    <a:pt x="1" y="88"/>
                  </a:lnTo>
                  <a:lnTo>
                    <a:pt x="0" y="104"/>
                  </a:lnTo>
                  <a:lnTo>
                    <a:pt x="4" y="120"/>
                  </a:lnTo>
                  <a:lnTo>
                    <a:pt x="18" y="134"/>
                  </a:lnTo>
                  <a:lnTo>
                    <a:pt x="17" y="134"/>
                  </a:lnTo>
                  <a:lnTo>
                    <a:pt x="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6917040" y="3094920"/>
              <a:ext cx="29880" cy="1440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54" y="0"/>
                  </a:moveTo>
                  <a:lnTo>
                    <a:pt x="54" y="0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26" y="10"/>
                  </a:lnTo>
                  <a:lnTo>
                    <a:pt x="19" y="11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26"/>
                  </a:lnTo>
                  <a:lnTo>
                    <a:pt x="11" y="31"/>
                  </a:lnTo>
                  <a:lnTo>
                    <a:pt x="19" y="33"/>
                  </a:lnTo>
                  <a:lnTo>
                    <a:pt x="28" y="31"/>
                  </a:lnTo>
                  <a:lnTo>
                    <a:pt x="36" y="30"/>
                  </a:lnTo>
                  <a:lnTo>
                    <a:pt x="44" y="26"/>
                  </a:lnTo>
                  <a:lnTo>
                    <a:pt x="51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6847560" y="3038760"/>
              <a:ext cx="72000" cy="64080"/>
            </a:xfrm>
            <a:custGeom>
              <a:avLst/>
              <a:gdLst/>
              <a:ahLst/>
              <a:rect l="l" t="t" r="r" b="b"/>
              <a:pathLst>
                <a:path w="143" h="156">
                  <a:moveTo>
                    <a:pt x="131" y="0"/>
                  </a:moveTo>
                  <a:lnTo>
                    <a:pt x="130" y="1"/>
                  </a:lnTo>
                  <a:lnTo>
                    <a:pt x="108" y="14"/>
                  </a:lnTo>
                  <a:lnTo>
                    <a:pt x="90" y="31"/>
                  </a:lnTo>
                  <a:lnTo>
                    <a:pt x="74" y="52"/>
                  </a:lnTo>
                  <a:lnTo>
                    <a:pt x="60" y="73"/>
                  </a:lnTo>
                  <a:lnTo>
                    <a:pt x="46" y="96"/>
                  </a:lnTo>
                  <a:lnTo>
                    <a:pt x="32" y="113"/>
                  </a:lnTo>
                  <a:lnTo>
                    <a:pt x="16" y="127"/>
                  </a:lnTo>
                  <a:lnTo>
                    <a:pt x="0" y="137"/>
                  </a:lnTo>
                  <a:lnTo>
                    <a:pt x="6" y="156"/>
                  </a:lnTo>
                  <a:lnTo>
                    <a:pt x="29" y="143"/>
                  </a:lnTo>
                  <a:lnTo>
                    <a:pt x="46" y="127"/>
                  </a:lnTo>
                  <a:lnTo>
                    <a:pt x="62" y="107"/>
                  </a:lnTo>
                  <a:lnTo>
                    <a:pt x="76" y="86"/>
                  </a:lnTo>
                  <a:lnTo>
                    <a:pt x="91" y="65"/>
                  </a:lnTo>
                  <a:lnTo>
                    <a:pt x="106" y="46"/>
                  </a:lnTo>
                  <a:lnTo>
                    <a:pt x="120" y="30"/>
                  </a:lnTo>
                  <a:lnTo>
                    <a:pt x="136" y="20"/>
                  </a:lnTo>
                  <a:lnTo>
                    <a:pt x="135" y="21"/>
                  </a:lnTo>
                  <a:lnTo>
                    <a:pt x="136" y="20"/>
                  </a:lnTo>
                  <a:lnTo>
                    <a:pt x="143" y="14"/>
                  </a:lnTo>
                  <a:lnTo>
                    <a:pt x="143" y="7"/>
                  </a:lnTo>
                  <a:lnTo>
                    <a:pt x="137" y="1"/>
                  </a:lnTo>
                  <a:lnTo>
                    <a:pt x="13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6837480" y="3036960"/>
              <a:ext cx="17280" cy="140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2"/>
                  </a:moveTo>
                  <a:lnTo>
                    <a:pt x="32" y="21"/>
                  </a:lnTo>
                  <a:lnTo>
                    <a:pt x="26" y="10"/>
                  </a:lnTo>
                  <a:lnTo>
                    <a:pt x="19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4" y="23"/>
                  </a:lnTo>
                  <a:lnTo>
                    <a:pt x="7" y="22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4" y="30"/>
                  </a:lnTo>
                  <a:lnTo>
                    <a:pt x="22" y="32"/>
                  </a:lnTo>
                  <a:lnTo>
                    <a:pt x="30" y="29"/>
                  </a:lnTo>
                  <a:lnTo>
                    <a:pt x="32" y="21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6837480" y="3047400"/>
              <a:ext cx="44640" cy="102960"/>
            </a:xfrm>
            <a:custGeom>
              <a:avLst/>
              <a:gdLst/>
              <a:ahLst/>
              <a:rect l="l" t="t" r="r" b="b"/>
              <a:pathLst>
                <a:path w="90" h="251">
                  <a:moveTo>
                    <a:pt x="18" y="248"/>
                  </a:moveTo>
                  <a:lnTo>
                    <a:pt x="18" y="248"/>
                  </a:lnTo>
                  <a:lnTo>
                    <a:pt x="37" y="226"/>
                  </a:lnTo>
                  <a:lnTo>
                    <a:pt x="51" y="196"/>
                  </a:lnTo>
                  <a:lnTo>
                    <a:pt x="63" y="165"/>
                  </a:lnTo>
                  <a:lnTo>
                    <a:pt x="73" y="131"/>
                  </a:lnTo>
                  <a:lnTo>
                    <a:pt x="80" y="97"/>
                  </a:lnTo>
                  <a:lnTo>
                    <a:pt x="86" y="62"/>
                  </a:lnTo>
                  <a:lnTo>
                    <a:pt x="89" y="29"/>
                  </a:lnTo>
                  <a:lnTo>
                    <a:pt x="90" y="0"/>
                  </a:lnTo>
                  <a:lnTo>
                    <a:pt x="69" y="0"/>
                  </a:lnTo>
                  <a:lnTo>
                    <a:pt x="68" y="29"/>
                  </a:lnTo>
                  <a:lnTo>
                    <a:pt x="64" y="60"/>
                  </a:lnTo>
                  <a:lnTo>
                    <a:pt x="59" y="95"/>
                  </a:lnTo>
                  <a:lnTo>
                    <a:pt x="52" y="126"/>
                  </a:lnTo>
                  <a:lnTo>
                    <a:pt x="42" y="160"/>
                  </a:lnTo>
                  <a:lnTo>
                    <a:pt x="32" y="189"/>
                  </a:lnTo>
                  <a:lnTo>
                    <a:pt x="18" y="21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0" y="240"/>
                  </a:lnTo>
                  <a:lnTo>
                    <a:pt x="3" y="248"/>
                  </a:lnTo>
                  <a:lnTo>
                    <a:pt x="11" y="251"/>
                  </a:lnTo>
                  <a:lnTo>
                    <a:pt x="18" y="248"/>
                  </a:lnTo>
                  <a:lnTo>
                    <a:pt x="18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6874560" y="3125880"/>
              <a:ext cx="142200" cy="26640"/>
            </a:xfrm>
            <a:custGeom>
              <a:avLst/>
              <a:gdLst/>
              <a:ahLst/>
              <a:rect l="l" t="t" r="r" b="b"/>
              <a:pathLst>
                <a:path w="286" h="66">
                  <a:moveTo>
                    <a:pt x="17" y="36"/>
                  </a:moveTo>
                  <a:lnTo>
                    <a:pt x="17" y="36"/>
                  </a:lnTo>
                  <a:lnTo>
                    <a:pt x="27" y="28"/>
                  </a:lnTo>
                  <a:lnTo>
                    <a:pt x="40" y="24"/>
                  </a:lnTo>
                  <a:lnTo>
                    <a:pt x="54" y="21"/>
                  </a:lnTo>
                  <a:lnTo>
                    <a:pt x="73" y="21"/>
                  </a:lnTo>
                  <a:lnTo>
                    <a:pt x="91" y="24"/>
                  </a:lnTo>
                  <a:lnTo>
                    <a:pt x="107" y="28"/>
                  </a:lnTo>
                  <a:lnTo>
                    <a:pt x="128" y="35"/>
                  </a:lnTo>
                  <a:lnTo>
                    <a:pt x="149" y="40"/>
                  </a:lnTo>
                  <a:lnTo>
                    <a:pt x="168" y="46"/>
                  </a:lnTo>
                  <a:lnTo>
                    <a:pt x="188" y="55"/>
                  </a:lnTo>
                  <a:lnTo>
                    <a:pt x="207" y="59"/>
                  </a:lnTo>
                  <a:lnTo>
                    <a:pt x="226" y="64"/>
                  </a:lnTo>
                  <a:lnTo>
                    <a:pt x="243" y="66"/>
                  </a:lnTo>
                  <a:lnTo>
                    <a:pt x="256" y="66"/>
                  </a:lnTo>
                  <a:lnTo>
                    <a:pt x="272" y="63"/>
                  </a:lnTo>
                  <a:lnTo>
                    <a:pt x="286" y="55"/>
                  </a:lnTo>
                  <a:lnTo>
                    <a:pt x="271" y="40"/>
                  </a:lnTo>
                  <a:lnTo>
                    <a:pt x="266" y="44"/>
                  </a:lnTo>
                  <a:lnTo>
                    <a:pt x="256" y="45"/>
                  </a:lnTo>
                  <a:lnTo>
                    <a:pt x="243" y="45"/>
                  </a:lnTo>
                  <a:lnTo>
                    <a:pt x="228" y="43"/>
                  </a:lnTo>
                  <a:lnTo>
                    <a:pt x="211" y="38"/>
                  </a:lnTo>
                  <a:lnTo>
                    <a:pt x="193" y="34"/>
                  </a:lnTo>
                  <a:lnTo>
                    <a:pt x="175" y="27"/>
                  </a:lnTo>
                  <a:lnTo>
                    <a:pt x="154" y="19"/>
                  </a:lnTo>
                  <a:lnTo>
                    <a:pt x="133" y="14"/>
                  </a:lnTo>
                  <a:lnTo>
                    <a:pt x="113" y="7"/>
                  </a:lnTo>
                  <a:lnTo>
                    <a:pt x="93" y="3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35" y="3"/>
                  </a:lnTo>
                  <a:lnTo>
                    <a:pt x="19" y="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3" y="36"/>
                  </a:lnTo>
                  <a:lnTo>
                    <a:pt x="10" y="39"/>
                  </a:lnTo>
                  <a:lnTo>
                    <a:pt x="17" y="36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6909840" y="3134160"/>
              <a:ext cx="110160" cy="90720"/>
            </a:xfrm>
            <a:custGeom>
              <a:avLst/>
              <a:gdLst/>
              <a:ahLst/>
              <a:rect l="l" t="t" r="r" b="b"/>
              <a:pathLst>
                <a:path w="224" h="220">
                  <a:moveTo>
                    <a:pt x="223" y="198"/>
                  </a:moveTo>
                  <a:lnTo>
                    <a:pt x="224" y="198"/>
                  </a:lnTo>
                  <a:lnTo>
                    <a:pt x="212" y="195"/>
                  </a:lnTo>
                  <a:lnTo>
                    <a:pt x="199" y="190"/>
                  </a:lnTo>
                  <a:lnTo>
                    <a:pt x="181" y="181"/>
                  </a:lnTo>
                  <a:lnTo>
                    <a:pt x="163" y="171"/>
                  </a:lnTo>
                  <a:lnTo>
                    <a:pt x="144" y="157"/>
                  </a:lnTo>
                  <a:lnTo>
                    <a:pt x="124" y="144"/>
                  </a:lnTo>
                  <a:lnTo>
                    <a:pt x="106" y="128"/>
                  </a:lnTo>
                  <a:lnTo>
                    <a:pt x="88" y="112"/>
                  </a:lnTo>
                  <a:lnTo>
                    <a:pt x="70" y="96"/>
                  </a:lnTo>
                  <a:lnTo>
                    <a:pt x="55" y="78"/>
                  </a:lnTo>
                  <a:lnTo>
                    <a:pt x="42" y="64"/>
                  </a:lnTo>
                  <a:lnTo>
                    <a:pt x="32" y="50"/>
                  </a:lnTo>
                  <a:lnTo>
                    <a:pt x="26" y="36"/>
                  </a:lnTo>
                  <a:lnTo>
                    <a:pt x="22" y="25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10" y="0"/>
                  </a:lnTo>
                  <a:lnTo>
                    <a:pt x="1" y="14"/>
                  </a:lnTo>
                  <a:lnTo>
                    <a:pt x="0" y="27"/>
                  </a:lnTo>
                  <a:lnTo>
                    <a:pt x="7" y="43"/>
                  </a:lnTo>
                  <a:lnTo>
                    <a:pt x="13" y="59"/>
                  </a:lnTo>
                  <a:lnTo>
                    <a:pt x="26" y="76"/>
                  </a:lnTo>
                  <a:lnTo>
                    <a:pt x="39" y="93"/>
                  </a:lnTo>
                  <a:lnTo>
                    <a:pt x="55" y="110"/>
                  </a:lnTo>
                  <a:lnTo>
                    <a:pt x="73" y="128"/>
                  </a:lnTo>
                  <a:lnTo>
                    <a:pt x="92" y="145"/>
                  </a:lnTo>
                  <a:lnTo>
                    <a:pt x="112" y="159"/>
                  </a:lnTo>
                  <a:lnTo>
                    <a:pt x="132" y="174"/>
                  </a:lnTo>
                  <a:lnTo>
                    <a:pt x="151" y="188"/>
                  </a:lnTo>
                  <a:lnTo>
                    <a:pt x="171" y="200"/>
                  </a:lnTo>
                  <a:lnTo>
                    <a:pt x="189" y="209"/>
                  </a:lnTo>
                  <a:lnTo>
                    <a:pt x="206" y="216"/>
                  </a:lnTo>
                  <a:lnTo>
                    <a:pt x="222" y="220"/>
                  </a:lnTo>
                  <a:lnTo>
                    <a:pt x="223" y="220"/>
                  </a:lnTo>
                  <a:lnTo>
                    <a:pt x="223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6884640" y="3206520"/>
              <a:ext cx="24840" cy="1872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6" y="0"/>
                  </a:moveTo>
                  <a:lnTo>
                    <a:pt x="36" y="0"/>
                  </a:lnTo>
                  <a:lnTo>
                    <a:pt x="34" y="1"/>
                  </a:lnTo>
                  <a:lnTo>
                    <a:pt x="31" y="4"/>
                  </a:lnTo>
                  <a:lnTo>
                    <a:pt x="25" y="10"/>
                  </a:lnTo>
                  <a:lnTo>
                    <a:pt x="18" y="13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46"/>
                  </a:lnTo>
                  <a:lnTo>
                    <a:pt x="8" y="45"/>
                  </a:lnTo>
                  <a:lnTo>
                    <a:pt x="15" y="41"/>
                  </a:lnTo>
                  <a:lnTo>
                    <a:pt x="22" y="35"/>
                  </a:lnTo>
                  <a:lnTo>
                    <a:pt x="30" y="32"/>
                  </a:lnTo>
                  <a:lnTo>
                    <a:pt x="36" y="26"/>
                  </a:lnTo>
                  <a:lnTo>
                    <a:pt x="42" y="21"/>
                  </a:lnTo>
                  <a:lnTo>
                    <a:pt x="49" y="1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6809400" y="3142080"/>
              <a:ext cx="82800" cy="7020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50" y="0"/>
                  </a:moveTo>
                  <a:lnTo>
                    <a:pt x="150" y="0"/>
                  </a:lnTo>
                  <a:lnTo>
                    <a:pt x="0" y="155"/>
                  </a:lnTo>
                  <a:lnTo>
                    <a:pt x="15" y="169"/>
                  </a:lnTo>
                  <a:lnTo>
                    <a:pt x="165" y="15"/>
                  </a:lnTo>
                  <a:lnTo>
                    <a:pt x="165" y="15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6761880" y="3106800"/>
              <a:ext cx="55080" cy="4140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88" y="0"/>
                  </a:moveTo>
                  <a:lnTo>
                    <a:pt x="88" y="1"/>
                  </a:lnTo>
                  <a:lnTo>
                    <a:pt x="84" y="10"/>
                  </a:lnTo>
                  <a:lnTo>
                    <a:pt x="77" y="19"/>
                  </a:lnTo>
                  <a:lnTo>
                    <a:pt x="66" y="32"/>
                  </a:lnTo>
                  <a:lnTo>
                    <a:pt x="51" y="44"/>
                  </a:lnTo>
                  <a:lnTo>
                    <a:pt x="36" y="56"/>
                  </a:lnTo>
                  <a:lnTo>
                    <a:pt x="22" y="68"/>
                  </a:lnTo>
                  <a:lnTo>
                    <a:pt x="10" y="77"/>
                  </a:lnTo>
                  <a:lnTo>
                    <a:pt x="0" y="87"/>
                  </a:lnTo>
                  <a:lnTo>
                    <a:pt x="15" y="102"/>
                  </a:lnTo>
                  <a:lnTo>
                    <a:pt x="23" y="94"/>
                  </a:lnTo>
                  <a:lnTo>
                    <a:pt x="35" y="85"/>
                  </a:lnTo>
                  <a:lnTo>
                    <a:pt x="50" y="73"/>
                  </a:lnTo>
                  <a:lnTo>
                    <a:pt x="66" y="61"/>
                  </a:lnTo>
                  <a:lnTo>
                    <a:pt x="79" y="46"/>
                  </a:lnTo>
                  <a:lnTo>
                    <a:pt x="93" y="33"/>
                  </a:lnTo>
                  <a:lnTo>
                    <a:pt x="103" y="19"/>
                  </a:lnTo>
                  <a:lnTo>
                    <a:pt x="109" y="4"/>
                  </a:lnTo>
                  <a:lnTo>
                    <a:pt x="109" y="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6762240" y="3061440"/>
              <a:ext cx="21960" cy="47520"/>
            </a:xfrm>
            <a:custGeom>
              <a:avLst/>
              <a:gdLst/>
              <a:ahLst/>
              <a:rect l="l" t="t" r="r" b="b"/>
              <a:pathLst>
                <a:path w="46" h="116">
                  <a:moveTo>
                    <a:pt x="0" y="4"/>
                  </a:moveTo>
                  <a:lnTo>
                    <a:pt x="0" y="5"/>
                  </a:lnTo>
                  <a:lnTo>
                    <a:pt x="8" y="27"/>
                  </a:lnTo>
                  <a:lnTo>
                    <a:pt x="16" y="61"/>
                  </a:lnTo>
                  <a:lnTo>
                    <a:pt x="25" y="92"/>
                  </a:lnTo>
                  <a:lnTo>
                    <a:pt x="25" y="111"/>
                  </a:lnTo>
                  <a:lnTo>
                    <a:pt x="46" y="116"/>
                  </a:lnTo>
                  <a:lnTo>
                    <a:pt x="46" y="90"/>
                  </a:lnTo>
                  <a:lnTo>
                    <a:pt x="37" y="55"/>
                  </a:lnTo>
                  <a:lnTo>
                    <a:pt x="29" y="23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6771600" y="2979000"/>
              <a:ext cx="65160" cy="82440"/>
            </a:xfrm>
            <a:custGeom>
              <a:avLst/>
              <a:gdLst/>
              <a:ahLst/>
              <a:rect l="l" t="t" r="r" b="b"/>
              <a:pathLst>
                <a:path w="126" h="201">
                  <a:moveTo>
                    <a:pt x="12" y="21"/>
                  </a:moveTo>
                  <a:lnTo>
                    <a:pt x="9" y="21"/>
                  </a:lnTo>
                  <a:lnTo>
                    <a:pt x="17" y="26"/>
                  </a:lnTo>
                  <a:lnTo>
                    <a:pt x="31" y="43"/>
                  </a:lnTo>
                  <a:lnTo>
                    <a:pt x="46" y="70"/>
                  </a:lnTo>
                  <a:lnTo>
                    <a:pt x="62" y="100"/>
                  </a:lnTo>
                  <a:lnTo>
                    <a:pt x="78" y="131"/>
                  </a:lnTo>
                  <a:lnTo>
                    <a:pt x="91" y="162"/>
                  </a:lnTo>
                  <a:lnTo>
                    <a:pt x="99" y="187"/>
                  </a:lnTo>
                  <a:lnTo>
                    <a:pt x="103" y="201"/>
                  </a:lnTo>
                  <a:lnTo>
                    <a:pt x="126" y="199"/>
                  </a:lnTo>
                  <a:lnTo>
                    <a:pt x="120" y="180"/>
                  </a:lnTo>
                  <a:lnTo>
                    <a:pt x="110" y="154"/>
                  </a:lnTo>
                  <a:lnTo>
                    <a:pt x="97" y="124"/>
                  </a:lnTo>
                  <a:lnTo>
                    <a:pt x="81" y="91"/>
                  </a:lnTo>
                  <a:lnTo>
                    <a:pt x="65" y="60"/>
                  </a:lnTo>
                  <a:lnTo>
                    <a:pt x="47" y="32"/>
                  </a:lnTo>
                  <a:lnTo>
                    <a:pt x="31" y="1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9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6829920" y="2979000"/>
              <a:ext cx="99720" cy="1872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18" y="43"/>
                  </a:moveTo>
                  <a:lnTo>
                    <a:pt x="12" y="46"/>
                  </a:lnTo>
                  <a:lnTo>
                    <a:pt x="22" y="45"/>
                  </a:lnTo>
                  <a:lnTo>
                    <a:pt x="34" y="43"/>
                  </a:lnTo>
                  <a:lnTo>
                    <a:pt x="49" y="42"/>
                  </a:lnTo>
                  <a:lnTo>
                    <a:pt x="60" y="40"/>
                  </a:lnTo>
                  <a:lnTo>
                    <a:pt x="71" y="39"/>
                  </a:lnTo>
                  <a:lnTo>
                    <a:pt x="83" y="38"/>
                  </a:lnTo>
                  <a:lnTo>
                    <a:pt x="96" y="37"/>
                  </a:lnTo>
                  <a:lnTo>
                    <a:pt x="108" y="35"/>
                  </a:lnTo>
                  <a:lnTo>
                    <a:pt x="118" y="33"/>
                  </a:lnTo>
                  <a:lnTo>
                    <a:pt x="133" y="32"/>
                  </a:lnTo>
                  <a:lnTo>
                    <a:pt x="144" y="30"/>
                  </a:lnTo>
                  <a:lnTo>
                    <a:pt x="155" y="29"/>
                  </a:lnTo>
                  <a:lnTo>
                    <a:pt x="167" y="26"/>
                  </a:lnTo>
                  <a:lnTo>
                    <a:pt x="178" y="25"/>
                  </a:lnTo>
                  <a:lnTo>
                    <a:pt x="189" y="22"/>
                  </a:lnTo>
                  <a:lnTo>
                    <a:pt x="200" y="21"/>
                  </a:lnTo>
                  <a:lnTo>
                    <a:pt x="197" y="0"/>
                  </a:lnTo>
                  <a:lnTo>
                    <a:pt x="187" y="1"/>
                  </a:lnTo>
                  <a:lnTo>
                    <a:pt x="176" y="3"/>
                  </a:lnTo>
                  <a:lnTo>
                    <a:pt x="165" y="5"/>
                  </a:lnTo>
                  <a:lnTo>
                    <a:pt x="153" y="7"/>
                  </a:lnTo>
                  <a:lnTo>
                    <a:pt x="141" y="8"/>
                  </a:lnTo>
                  <a:lnTo>
                    <a:pt x="131" y="11"/>
                  </a:lnTo>
                  <a:lnTo>
                    <a:pt x="118" y="12"/>
                  </a:lnTo>
                  <a:lnTo>
                    <a:pt x="106" y="13"/>
                  </a:lnTo>
                  <a:lnTo>
                    <a:pt x="94" y="16"/>
                  </a:lnTo>
                  <a:lnTo>
                    <a:pt x="83" y="17"/>
                  </a:lnTo>
                  <a:lnTo>
                    <a:pt x="71" y="18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4" y="22"/>
                  </a:lnTo>
                  <a:lnTo>
                    <a:pt x="22" y="23"/>
                  </a:lnTo>
                  <a:lnTo>
                    <a:pt x="9" y="25"/>
                  </a:lnTo>
                  <a:lnTo>
                    <a:pt x="3" y="27"/>
                  </a:lnTo>
                  <a:lnTo>
                    <a:pt x="9" y="25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12" y="46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6939720" y="3100680"/>
              <a:ext cx="19800" cy="45360"/>
            </a:xfrm>
            <a:custGeom>
              <a:avLst/>
              <a:gdLst/>
              <a:ahLst/>
              <a:rect l="l" t="t" r="r" b="b"/>
              <a:pathLst>
                <a:path w="37" h="108">
                  <a:moveTo>
                    <a:pt x="23" y="101"/>
                  </a:moveTo>
                  <a:lnTo>
                    <a:pt x="23" y="101"/>
                  </a:lnTo>
                  <a:lnTo>
                    <a:pt x="19" y="78"/>
                  </a:lnTo>
                  <a:lnTo>
                    <a:pt x="21" y="52"/>
                  </a:lnTo>
                  <a:lnTo>
                    <a:pt x="28" y="28"/>
                  </a:lnTo>
                  <a:lnTo>
                    <a:pt x="37" y="9"/>
                  </a:lnTo>
                  <a:lnTo>
                    <a:pt x="20" y="0"/>
                  </a:lnTo>
                  <a:lnTo>
                    <a:pt x="9" y="24"/>
                  </a:lnTo>
                  <a:lnTo>
                    <a:pt x="2" y="49"/>
                  </a:lnTo>
                  <a:lnTo>
                    <a:pt x="0" y="78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23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6861960" y="3142080"/>
              <a:ext cx="92520" cy="28800"/>
            </a:xfrm>
            <a:custGeom>
              <a:avLst/>
              <a:gdLst/>
              <a:ahLst/>
              <a:rect l="l" t="t" r="r" b="b"/>
              <a:pathLst>
                <a:path w="187" h="69">
                  <a:moveTo>
                    <a:pt x="180" y="25"/>
                  </a:moveTo>
                  <a:lnTo>
                    <a:pt x="180" y="25"/>
                  </a:lnTo>
                  <a:lnTo>
                    <a:pt x="156" y="34"/>
                  </a:lnTo>
                  <a:lnTo>
                    <a:pt x="131" y="42"/>
                  </a:lnTo>
                  <a:lnTo>
                    <a:pt x="106" y="48"/>
                  </a:lnTo>
                  <a:lnTo>
                    <a:pt x="84" y="50"/>
                  </a:lnTo>
                  <a:lnTo>
                    <a:pt x="64" y="46"/>
                  </a:lnTo>
                  <a:lnTo>
                    <a:pt x="46" y="38"/>
                  </a:lnTo>
                  <a:lnTo>
                    <a:pt x="30" y="24"/>
                  </a:lnTo>
                  <a:lnTo>
                    <a:pt x="16" y="0"/>
                  </a:lnTo>
                  <a:lnTo>
                    <a:pt x="0" y="7"/>
                  </a:lnTo>
                  <a:lnTo>
                    <a:pt x="15" y="36"/>
                  </a:lnTo>
                  <a:lnTo>
                    <a:pt x="36" y="55"/>
                  </a:lnTo>
                  <a:lnTo>
                    <a:pt x="59" y="65"/>
                  </a:lnTo>
                  <a:lnTo>
                    <a:pt x="84" y="69"/>
                  </a:lnTo>
                  <a:lnTo>
                    <a:pt x="108" y="67"/>
                  </a:lnTo>
                  <a:lnTo>
                    <a:pt x="135" y="60"/>
                  </a:lnTo>
                  <a:lnTo>
                    <a:pt x="161" y="53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6811920" y="3086280"/>
              <a:ext cx="52200" cy="74520"/>
            </a:xfrm>
            <a:custGeom>
              <a:avLst/>
              <a:gdLst/>
              <a:ahLst/>
              <a:rect l="l" t="t" r="r" b="b"/>
              <a:pathLst>
                <a:path w="106" h="179">
                  <a:moveTo>
                    <a:pt x="87" y="0"/>
                  </a:moveTo>
                  <a:lnTo>
                    <a:pt x="87" y="0"/>
                  </a:lnTo>
                  <a:lnTo>
                    <a:pt x="81" y="21"/>
                  </a:lnTo>
                  <a:lnTo>
                    <a:pt x="76" y="44"/>
                  </a:lnTo>
                  <a:lnTo>
                    <a:pt x="67" y="69"/>
                  </a:lnTo>
                  <a:lnTo>
                    <a:pt x="59" y="93"/>
                  </a:lnTo>
                  <a:lnTo>
                    <a:pt x="47" y="115"/>
                  </a:lnTo>
                  <a:lnTo>
                    <a:pt x="35" y="135"/>
                  </a:lnTo>
                  <a:lnTo>
                    <a:pt x="19" y="152"/>
                  </a:lnTo>
                  <a:lnTo>
                    <a:pt x="0" y="162"/>
                  </a:lnTo>
                  <a:lnTo>
                    <a:pt x="7" y="179"/>
                  </a:lnTo>
                  <a:lnTo>
                    <a:pt x="30" y="166"/>
                  </a:lnTo>
                  <a:lnTo>
                    <a:pt x="48" y="147"/>
                  </a:lnTo>
                  <a:lnTo>
                    <a:pt x="64" y="124"/>
                  </a:lnTo>
                  <a:lnTo>
                    <a:pt x="76" y="100"/>
                  </a:lnTo>
                  <a:lnTo>
                    <a:pt x="86" y="74"/>
                  </a:lnTo>
                  <a:lnTo>
                    <a:pt x="95" y="49"/>
                  </a:lnTo>
                  <a:lnTo>
                    <a:pt x="100" y="2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6806880" y="3040920"/>
              <a:ext cx="19800" cy="47520"/>
            </a:xfrm>
            <a:custGeom>
              <a:avLst/>
              <a:gdLst/>
              <a:ahLst/>
              <a:rect l="l" t="t" r="r" b="b"/>
              <a:pathLst>
                <a:path w="40" h="114">
                  <a:moveTo>
                    <a:pt x="0" y="19"/>
                  </a:moveTo>
                  <a:lnTo>
                    <a:pt x="0" y="19"/>
                  </a:lnTo>
                  <a:lnTo>
                    <a:pt x="11" y="23"/>
                  </a:lnTo>
                  <a:lnTo>
                    <a:pt x="17" y="31"/>
                  </a:lnTo>
                  <a:lnTo>
                    <a:pt x="20" y="40"/>
                  </a:lnTo>
                  <a:lnTo>
                    <a:pt x="21" y="53"/>
                  </a:lnTo>
                  <a:lnTo>
                    <a:pt x="19" y="66"/>
                  </a:lnTo>
                  <a:lnTo>
                    <a:pt x="16" y="82"/>
                  </a:lnTo>
                  <a:lnTo>
                    <a:pt x="12" y="98"/>
                  </a:lnTo>
                  <a:lnTo>
                    <a:pt x="8" y="110"/>
                  </a:lnTo>
                  <a:lnTo>
                    <a:pt x="27" y="114"/>
                  </a:lnTo>
                  <a:lnTo>
                    <a:pt x="31" y="100"/>
                  </a:lnTo>
                  <a:lnTo>
                    <a:pt x="35" y="84"/>
                  </a:lnTo>
                  <a:lnTo>
                    <a:pt x="38" y="70"/>
                  </a:lnTo>
                  <a:lnTo>
                    <a:pt x="40" y="53"/>
                  </a:lnTo>
                  <a:lnTo>
                    <a:pt x="39" y="38"/>
                  </a:lnTo>
                  <a:lnTo>
                    <a:pt x="33" y="21"/>
                  </a:lnTo>
                  <a:lnTo>
                    <a:pt x="22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6824520" y="3036960"/>
              <a:ext cx="29880" cy="1188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6" y="20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4" y="19"/>
                  </a:lnTo>
                  <a:lnTo>
                    <a:pt x="32" y="20"/>
                  </a:lnTo>
                  <a:lnTo>
                    <a:pt x="38" y="23"/>
                  </a:lnTo>
                  <a:lnTo>
                    <a:pt x="45" y="25"/>
                  </a:lnTo>
                  <a:lnTo>
                    <a:pt x="52" y="28"/>
                  </a:lnTo>
                  <a:lnTo>
                    <a:pt x="57" y="29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1" y="7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6851880" y="3038760"/>
              <a:ext cx="32760" cy="2664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16" y="68"/>
                  </a:moveTo>
                  <a:lnTo>
                    <a:pt x="16" y="68"/>
                  </a:lnTo>
                  <a:lnTo>
                    <a:pt x="20" y="62"/>
                  </a:lnTo>
                  <a:lnTo>
                    <a:pt x="24" y="57"/>
                  </a:lnTo>
                  <a:lnTo>
                    <a:pt x="30" y="48"/>
                  </a:lnTo>
                  <a:lnTo>
                    <a:pt x="36" y="41"/>
                  </a:lnTo>
                  <a:lnTo>
                    <a:pt x="43" y="34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6" y="16"/>
                  </a:lnTo>
                  <a:lnTo>
                    <a:pt x="60" y="0"/>
                  </a:lnTo>
                  <a:lnTo>
                    <a:pt x="48" y="6"/>
                  </a:lnTo>
                  <a:lnTo>
                    <a:pt x="40" y="13"/>
                  </a:lnTo>
                  <a:lnTo>
                    <a:pt x="31" y="20"/>
                  </a:lnTo>
                  <a:lnTo>
                    <a:pt x="22" y="29"/>
                  </a:lnTo>
                  <a:lnTo>
                    <a:pt x="16" y="37"/>
                  </a:lnTo>
                  <a:lnTo>
                    <a:pt x="10" y="45"/>
                  </a:lnTo>
                  <a:lnTo>
                    <a:pt x="3" y="53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6877080" y="3063960"/>
              <a:ext cx="72360" cy="42840"/>
            </a:xfrm>
            <a:custGeom>
              <a:avLst/>
              <a:gdLst/>
              <a:ahLst/>
              <a:rect l="l" t="t" r="r" b="b"/>
              <a:pathLst>
                <a:path w="145" h="107">
                  <a:moveTo>
                    <a:pt x="17" y="102"/>
                  </a:moveTo>
                  <a:lnTo>
                    <a:pt x="7" y="107"/>
                  </a:lnTo>
                  <a:lnTo>
                    <a:pt x="28" y="107"/>
                  </a:lnTo>
                  <a:lnTo>
                    <a:pt x="50" y="102"/>
                  </a:lnTo>
                  <a:lnTo>
                    <a:pt x="70" y="93"/>
                  </a:lnTo>
                  <a:lnTo>
                    <a:pt x="88" y="79"/>
                  </a:lnTo>
                  <a:lnTo>
                    <a:pt x="103" y="65"/>
                  </a:lnTo>
                  <a:lnTo>
                    <a:pt x="119" y="47"/>
                  </a:lnTo>
                  <a:lnTo>
                    <a:pt x="133" y="28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116" y="19"/>
                  </a:lnTo>
                  <a:lnTo>
                    <a:pt x="105" y="36"/>
                  </a:lnTo>
                  <a:lnTo>
                    <a:pt x="90" y="50"/>
                  </a:lnTo>
                  <a:lnTo>
                    <a:pt x="75" y="65"/>
                  </a:lnTo>
                  <a:lnTo>
                    <a:pt x="60" y="77"/>
                  </a:lnTo>
                  <a:lnTo>
                    <a:pt x="44" y="83"/>
                  </a:lnTo>
                  <a:lnTo>
                    <a:pt x="28" y="88"/>
                  </a:lnTo>
                  <a:lnTo>
                    <a:pt x="9" y="88"/>
                  </a:lnTo>
                  <a:lnTo>
                    <a:pt x="0" y="93"/>
                  </a:lnTo>
                  <a:lnTo>
                    <a:pt x="9" y="88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7" y="107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7620120" y="2303640"/>
            <a:ext cx="990000" cy="2039400"/>
            <a:chOff x="7620120" y="2303640"/>
            <a:chExt cx="990000" cy="2039400"/>
          </a:xfrm>
        </p:grpSpPr>
        <p:sp>
          <p:nvSpPr>
            <p:cNvPr id="804" name=""/>
            <p:cNvSpPr/>
            <p:nvPr/>
          </p:nvSpPr>
          <p:spPr>
            <a:xfrm flipH="1">
              <a:off x="7620120" y="4076640"/>
              <a:ext cx="990000" cy="26640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7869240" y="4038120"/>
              <a:ext cx="278640" cy="173880"/>
            </a:xfrm>
            <a:custGeom>
              <a:avLst/>
              <a:gdLst/>
              <a:ahLst/>
              <a:rect l="l" t="t" r="r" b="b"/>
              <a:pathLst>
                <a:path w="598" h="409">
                  <a:moveTo>
                    <a:pt x="30" y="18"/>
                  </a:moveTo>
                  <a:lnTo>
                    <a:pt x="24" y="41"/>
                  </a:lnTo>
                  <a:lnTo>
                    <a:pt x="14" y="73"/>
                  </a:lnTo>
                  <a:lnTo>
                    <a:pt x="6" y="111"/>
                  </a:lnTo>
                  <a:lnTo>
                    <a:pt x="0" y="151"/>
                  </a:lnTo>
                  <a:lnTo>
                    <a:pt x="0" y="192"/>
                  </a:lnTo>
                  <a:lnTo>
                    <a:pt x="8" y="230"/>
                  </a:lnTo>
                  <a:lnTo>
                    <a:pt x="25" y="265"/>
                  </a:lnTo>
                  <a:lnTo>
                    <a:pt x="55" y="289"/>
                  </a:lnTo>
                  <a:lnTo>
                    <a:pt x="69" y="297"/>
                  </a:lnTo>
                  <a:lnTo>
                    <a:pt x="85" y="299"/>
                  </a:lnTo>
                  <a:lnTo>
                    <a:pt x="100" y="299"/>
                  </a:lnTo>
                  <a:lnTo>
                    <a:pt x="116" y="298"/>
                  </a:lnTo>
                  <a:lnTo>
                    <a:pt x="132" y="296"/>
                  </a:lnTo>
                  <a:lnTo>
                    <a:pt x="147" y="294"/>
                  </a:lnTo>
                  <a:lnTo>
                    <a:pt x="163" y="296"/>
                  </a:lnTo>
                  <a:lnTo>
                    <a:pt x="180" y="299"/>
                  </a:lnTo>
                  <a:lnTo>
                    <a:pt x="200" y="306"/>
                  </a:lnTo>
                  <a:lnTo>
                    <a:pt x="218" y="312"/>
                  </a:lnTo>
                  <a:lnTo>
                    <a:pt x="236" y="318"/>
                  </a:lnTo>
                  <a:lnTo>
                    <a:pt x="252" y="324"/>
                  </a:lnTo>
                  <a:lnTo>
                    <a:pt x="269" y="329"/>
                  </a:lnTo>
                  <a:lnTo>
                    <a:pt x="284" y="336"/>
                  </a:lnTo>
                  <a:lnTo>
                    <a:pt x="300" y="341"/>
                  </a:lnTo>
                  <a:lnTo>
                    <a:pt x="314" y="346"/>
                  </a:lnTo>
                  <a:lnTo>
                    <a:pt x="329" y="353"/>
                  </a:lnTo>
                  <a:lnTo>
                    <a:pt x="344" y="358"/>
                  </a:lnTo>
                  <a:lnTo>
                    <a:pt x="361" y="364"/>
                  </a:lnTo>
                  <a:lnTo>
                    <a:pt x="376" y="369"/>
                  </a:lnTo>
                  <a:lnTo>
                    <a:pt x="394" y="376"/>
                  </a:lnTo>
                  <a:lnTo>
                    <a:pt x="411" y="381"/>
                  </a:lnTo>
                  <a:lnTo>
                    <a:pt x="428" y="387"/>
                  </a:lnTo>
                  <a:lnTo>
                    <a:pt x="448" y="395"/>
                  </a:lnTo>
                  <a:lnTo>
                    <a:pt x="462" y="398"/>
                  </a:lnTo>
                  <a:lnTo>
                    <a:pt x="479" y="401"/>
                  </a:lnTo>
                  <a:lnTo>
                    <a:pt x="501" y="404"/>
                  </a:lnTo>
                  <a:lnTo>
                    <a:pt x="523" y="406"/>
                  </a:lnTo>
                  <a:lnTo>
                    <a:pt x="546" y="409"/>
                  </a:lnTo>
                  <a:lnTo>
                    <a:pt x="567" y="409"/>
                  </a:lnTo>
                  <a:lnTo>
                    <a:pt x="586" y="407"/>
                  </a:lnTo>
                  <a:lnTo>
                    <a:pt x="598" y="404"/>
                  </a:lnTo>
                  <a:lnTo>
                    <a:pt x="596" y="377"/>
                  </a:lnTo>
                  <a:lnTo>
                    <a:pt x="588" y="348"/>
                  </a:lnTo>
                  <a:lnTo>
                    <a:pt x="575" y="320"/>
                  </a:lnTo>
                  <a:lnTo>
                    <a:pt x="558" y="292"/>
                  </a:lnTo>
                  <a:lnTo>
                    <a:pt x="538" y="263"/>
                  </a:lnTo>
                  <a:lnTo>
                    <a:pt x="516" y="234"/>
                  </a:lnTo>
                  <a:lnTo>
                    <a:pt x="491" y="206"/>
                  </a:lnTo>
                  <a:lnTo>
                    <a:pt x="463" y="178"/>
                  </a:lnTo>
                  <a:lnTo>
                    <a:pt x="435" y="152"/>
                  </a:lnTo>
                  <a:lnTo>
                    <a:pt x="405" y="127"/>
                  </a:lnTo>
                  <a:lnTo>
                    <a:pt x="376" y="103"/>
                  </a:lnTo>
                  <a:lnTo>
                    <a:pt x="346" y="82"/>
                  </a:lnTo>
                  <a:lnTo>
                    <a:pt x="319" y="63"/>
                  </a:lnTo>
                  <a:lnTo>
                    <a:pt x="291" y="45"/>
                  </a:lnTo>
                  <a:lnTo>
                    <a:pt x="265" y="32"/>
                  </a:lnTo>
                  <a:lnTo>
                    <a:pt x="243" y="21"/>
                  </a:lnTo>
                  <a:lnTo>
                    <a:pt x="224" y="16"/>
                  </a:lnTo>
                  <a:lnTo>
                    <a:pt x="208" y="11"/>
                  </a:lnTo>
                  <a:lnTo>
                    <a:pt x="191" y="7"/>
                  </a:lnTo>
                  <a:lnTo>
                    <a:pt x="176" y="5"/>
                  </a:lnTo>
                  <a:lnTo>
                    <a:pt x="161" y="3"/>
                  </a:lnTo>
                  <a:lnTo>
                    <a:pt x="149" y="1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1"/>
                  </a:lnTo>
                  <a:lnTo>
                    <a:pt x="88" y="2"/>
                  </a:lnTo>
                  <a:lnTo>
                    <a:pt x="78" y="4"/>
                  </a:lnTo>
                  <a:lnTo>
                    <a:pt x="66" y="6"/>
                  </a:lnTo>
                  <a:lnTo>
                    <a:pt x="55" y="10"/>
                  </a:lnTo>
                  <a:lnTo>
                    <a:pt x="43" y="14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694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8120160" y="4044240"/>
              <a:ext cx="32400" cy="120240"/>
            </a:xfrm>
            <a:custGeom>
              <a:avLst/>
              <a:gdLst/>
              <a:ahLst/>
              <a:rect l="l" t="t" r="r" b="b"/>
              <a:pathLst>
                <a:path w="69" h="282">
                  <a:moveTo>
                    <a:pt x="69" y="266"/>
                  </a:moveTo>
                  <a:lnTo>
                    <a:pt x="69" y="266"/>
                  </a:lnTo>
                  <a:lnTo>
                    <a:pt x="42" y="243"/>
                  </a:lnTo>
                  <a:lnTo>
                    <a:pt x="28" y="212"/>
                  </a:lnTo>
                  <a:lnTo>
                    <a:pt x="19" y="176"/>
                  </a:lnTo>
                  <a:lnTo>
                    <a:pt x="19" y="135"/>
                  </a:lnTo>
                  <a:lnTo>
                    <a:pt x="25" y="96"/>
                  </a:lnTo>
                  <a:lnTo>
                    <a:pt x="34" y="59"/>
                  </a:lnTo>
                  <a:lnTo>
                    <a:pt x="43" y="27"/>
                  </a:lnTo>
                  <a:lnTo>
                    <a:pt x="50" y="5"/>
                  </a:lnTo>
                  <a:lnTo>
                    <a:pt x="32" y="0"/>
                  </a:lnTo>
                  <a:lnTo>
                    <a:pt x="24" y="22"/>
                  </a:lnTo>
                  <a:lnTo>
                    <a:pt x="15" y="55"/>
                  </a:lnTo>
                  <a:lnTo>
                    <a:pt x="6" y="93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9" y="217"/>
                  </a:lnTo>
                  <a:lnTo>
                    <a:pt x="28" y="254"/>
                  </a:lnTo>
                  <a:lnTo>
                    <a:pt x="59" y="282"/>
                  </a:lnTo>
                  <a:lnTo>
                    <a:pt x="59" y="282"/>
                  </a:lnTo>
                  <a:lnTo>
                    <a:pt x="69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8064360" y="4158360"/>
              <a:ext cx="60480" cy="10440"/>
            </a:xfrm>
            <a:custGeom>
              <a:avLst/>
              <a:gdLst/>
              <a:ahLst/>
              <a:rect l="l" t="t" r="r" b="b"/>
              <a:pathLst>
                <a:path w="133" h="26">
                  <a:moveTo>
                    <a:pt x="133" y="7"/>
                  </a:moveTo>
                  <a:lnTo>
                    <a:pt x="133" y="7"/>
                  </a:lnTo>
                  <a:lnTo>
                    <a:pt x="116" y="4"/>
                  </a:lnTo>
                  <a:lnTo>
                    <a:pt x="98" y="3"/>
                  </a:lnTo>
                  <a:lnTo>
                    <a:pt x="83" y="4"/>
                  </a:lnTo>
                  <a:lnTo>
                    <a:pt x="67" y="6"/>
                  </a:lnTo>
                  <a:lnTo>
                    <a:pt x="51" y="7"/>
                  </a:lnTo>
                  <a:lnTo>
                    <a:pt x="36" y="7"/>
                  </a:lnTo>
                  <a:lnTo>
                    <a:pt x="22" y="5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18" y="24"/>
                  </a:lnTo>
                  <a:lnTo>
                    <a:pt x="36" y="26"/>
                  </a:lnTo>
                  <a:lnTo>
                    <a:pt x="51" y="26"/>
                  </a:lnTo>
                  <a:lnTo>
                    <a:pt x="67" y="25"/>
                  </a:lnTo>
                  <a:lnTo>
                    <a:pt x="83" y="23"/>
                  </a:lnTo>
                  <a:lnTo>
                    <a:pt x="98" y="22"/>
                  </a:lnTo>
                  <a:lnTo>
                    <a:pt x="113" y="23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7938720" y="4160160"/>
              <a:ext cx="125280" cy="48960"/>
            </a:xfrm>
            <a:custGeom>
              <a:avLst/>
              <a:gdLst/>
              <a:ahLst/>
              <a:rect l="l" t="t" r="r" b="b"/>
              <a:pathLst>
                <a:path w="274" h="115">
                  <a:moveTo>
                    <a:pt x="274" y="96"/>
                  </a:moveTo>
                  <a:lnTo>
                    <a:pt x="274" y="96"/>
                  </a:lnTo>
                  <a:lnTo>
                    <a:pt x="254" y="89"/>
                  </a:lnTo>
                  <a:lnTo>
                    <a:pt x="236" y="84"/>
                  </a:lnTo>
                  <a:lnTo>
                    <a:pt x="218" y="77"/>
                  </a:lnTo>
                  <a:lnTo>
                    <a:pt x="201" y="71"/>
                  </a:lnTo>
                  <a:lnTo>
                    <a:pt x="185" y="66"/>
                  </a:lnTo>
                  <a:lnTo>
                    <a:pt x="168" y="59"/>
                  </a:lnTo>
                  <a:lnTo>
                    <a:pt x="154" y="54"/>
                  </a:lnTo>
                  <a:lnTo>
                    <a:pt x="138" y="48"/>
                  </a:lnTo>
                  <a:lnTo>
                    <a:pt x="124" y="42"/>
                  </a:lnTo>
                  <a:lnTo>
                    <a:pt x="109" y="37"/>
                  </a:lnTo>
                  <a:lnTo>
                    <a:pt x="93" y="31"/>
                  </a:lnTo>
                  <a:lnTo>
                    <a:pt x="76" y="26"/>
                  </a:lnTo>
                  <a:lnTo>
                    <a:pt x="60" y="19"/>
                  </a:lnTo>
                  <a:lnTo>
                    <a:pt x="42" y="14"/>
                  </a:lnTo>
                  <a:lnTo>
                    <a:pt x="24" y="8"/>
                  </a:lnTo>
                  <a:lnTo>
                    <a:pt x="4" y="0"/>
                  </a:lnTo>
                  <a:lnTo>
                    <a:pt x="0" y="19"/>
                  </a:lnTo>
                  <a:lnTo>
                    <a:pt x="20" y="27"/>
                  </a:lnTo>
                  <a:lnTo>
                    <a:pt x="38" y="32"/>
                  </a:lnTo>
                  <a:lnTo>
                    <a:pt x="55" y="38"/>
                  </a:lnTo>
                  <a:lnTo>
                    <a:pt x="72" y="45"/>
                  </a:lnTo>
                  <a:lnTo>
                    <a:pt x="89" y="50"/>
                  </a:lnTo>
                  <a:lnTo>
                    <a:pt x="104" y="56"/>
                  </a:lnTo>
                  <a:lnTo>
                    <a:pt x="119" y="61"/>
                  </a:lnTo>
                  <a:lnTo>
                    <a:pt x="134" y="67"/>
                  </a:lnTo>
                  <a:lnTo>
                    <a:pt x="147" y="72"/>
                  </a:lnTo>
                  <a:lnTo>
                    <a:pt x="164" y="78"/>
                  </a:lnTo>
                  <a:lnTo>
                    <a:pt x="181" y="85"/>
                  </a:lnTo>
                  <a:lnTo>
                    <a:pt x="195" y="90"/>
                  </a:lnTo>
                  <a:lnTo>
                    <a:pt x="213" y="96"/>
                  </a:lnTo>
                  <a:lnTo>
                    <a:pt x="230" y="102"/>
                  </a:lnTo>
                  <a:lnTo>
                    <a:pt x="248" y="108"/>
                  </a:lnTo>
                  <a:lnTo>
                    <a:pt x="268" y="115"/>
                  </a:lnTo>
                  <a:lnTo>
                    <a:pt x="268" y="115"/>
                  </a:lnTo>
                  <a:lnTo>
                    <a:pt x="274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7864200" y="4203360"/>
              <a:ext cx="76320" cy="12960"/>
            </a:xfrm>
            <a:custGeom>
              <a:avLst/>
              <a:gdLst/>
              <a:ahLst/>
              <a:rect l="l" t="t" r="r" b="b"/>
              <a:pathLst>
                <a:path w="162" h="33">
                  <a:moveTo>
                    <a:pt x="143" y="19"/>
                  </a:moveTo>
                  <a:lnTo>
                    <a:pt x="149" y="11"/>
                  </a:lnTo>
                  <a:lnTo>
                    <a:pt x="139" y="13"/>
                  </a:lnTo>
                  <a:lnTo>
                    <a:pt x="121" y="14"/>
                  </a:lnTo>
                  <a:lnTo>
                    <a:pt x="100" y="14"/>
                  </a:lnTo>
                  <a:lnTo>
                    <a:pt x="77" y="12"/>
                  </a:lnTo>
                  <a:lnTo>
                    <a:pt x="55" y="10"/>
                  </a:lnTo>
                  <a:lnTo>
                    <a:pt x="35" y="8"/>
                  </a:lnTo>
                  <a:lnTo>
                    <a:pt x="17" y="3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5" y="22"/>
                  </a:lnTo>
                  <a:lnTo>
                    <a:pt x="32" y="26"/>
                  </a:lnTo>
                  <a:lnTo>
                    <a:pt x="55" y="29"/>
                  </a:lnTo>
                  <a:lnTo>
                    <a:pt x="77" y="31"/>
                  </a:lnTo>
                  <a:lnTo>
                    <a:pt x="100" y="33"/>
                  </a:lnTo>
                  <a:lnTo>
                    <a:pt x="121" y="33"/>
                  </a:lnTo>
                  <a:lnTo>
                    <a:pt x="141" y="32"/>
                  </a:lnTo>
                  <a:lnTo>
                    <a:pt x="157" y="28"/>
                  </a:lnTo>
                  <a:lnTo>
                    <a:pt x="162" y="19"/>
                  </a:lnTo>
                  <a:lnTo>
                    <a:pt x="157" y="28"/>
                  </a:lnTo>
                  <a:lnTo>
                    <a:pt x="161" y="22"/>
                  </a:lnTo>
                  <a:lnTo>
                    <a:pt x="161" y="15"/>
                  </a:lnTo>
                  <a:lnTo>
                    <a:pt x="157" y="11"/>
                  </a:lnTo>
                  <a:lnTo>
                    <a:pt x="149" y="11"/>
                  </a:lnTo>
                  <a:lnTo>
                    <a:pt x="1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7864560" y="4041720"/>
              <a:ext cx="174240" cy="167400"/>
            </a:xfrm>
            <a:custGeom>
              <a:avLst/>
              <a:gdLst/>
              <a:ahLst/>
              <a:rect l="l" t="t" r="r" b="b"/>
              <a:pathLst>
                <a:path w="374" h="393">
                  <a:moveTo>
                    <a:pt x="6" y="18"/>
                  </a:moveTo>
                  <a:lnTo>
                    <a:pt x="5" y="17"/>
                  </a:lnTo>
                  <a:lnTo>
                    <a:pt x="28" y="28"/>
                  </a:lnTo>
                  <a:lnTo>
                    <a:pt x="53" y="43"/>
                  </a:lnTo>
                  <a:lnTo>
                    <a:pt x="79" y="61"/>
                  </a:lnTo>
                  <a:lnTo>
                    <a:pt x="108" y="80"/>
                  </a:lnTo>
                  <a:lnTo>
                    <a:pt x="136" y="100"/>
                  </a:lnTo>
                  <a:lnTo>
                    <a:pt x="166" y="123"/>
                  </a:lnTo>
                  <a:lnTo>
                    <a:pt x="194" y="147"/>
                  </a:lnTo>
                  <a:lnTo>
                    <a:pt x="222" y="175"/>
                  </a:lnTo>
                  <a:lnTo>
                    <a:pt x="249" y="201"/>
                  </a:lnTo>
                  <a:lnTo>
                    <a:pt x="275" y="229"/>
                  </a:lnTo>
                  <a:lnTo>
                    <a:pt x="298" y="257"/>
                  </a:lnTo>
                  <a:lnTo>
                    <a:pt x="316" y="286"/>
                  </a:lnTo>
                  <a:lnTo>
                    <a:pt x="333" y="313"/>
                  </a:lnTo>
                  <a:lnTo>
                    <a:pt x="344" y="339"/>
                  </a:lnTo>
                  <a:lnTo>
                    <a:pt x="353" y="367"/>
                  </a:lnTo>
                  <a:lnTo>
                    <a:pt x="355" y="393"/>
                  </a:lnTo>
                  <a:lnTo>
                    <a:pt x="374" y="393"/>
                  </a:lnTo>
                  <a:lnTo>
                    <a:pt x="372" y="365"/>
                  </a:lnTo>
                  <a:lnTo>
                    <a:pt x="363" y="335"/>
                  </a:lnTo>
                  <a:lnTo>
                    <a:pt x="350" y="306"/>
                  </a:lnTo>
                  <a:lnTo>
                    <a:pt x="333" y="276"/>
                  </a:lnTo>
                  <a:lnTo>
                    <a:pt x="312" y="245"/>
                  </a:lnTo>
                  <a:lnTo>
                    <a:pt x="289" y="217"/>
                  </a:lnTo>
                  <a:lnTo>
                    <a:pt x="263" y="188"/>
                  </a:lnTo>
                  <a:lnTo>
                    <a:pt x="237" y="161"/>
                  </a:lnTo>
                  <a:lnTo>
                    <a:pt x="207" y="134"/>
                  </a:lnTo>
                  <a:lnTo>
                    <a:pt x="177" y="108"/>
                  </a:lnTo>
                  <a:lnTo>
                    <a:pt x="148" y="85"/>
                  </a:lnTo>
                  <a:lnTo>
                    <a:pt x="117" y="63"/>
                  </a:lnTo>
                  <a:lnTo>
                    <a:pt x="89" y="44"/>
                  </a:lnTo>
                  <a:lnTo>
                    <a:pt x="61" y="26"/>
                  </a:lnTo>
                  <a:lnTo>
                    <a:pt x="35" y="1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5" y="2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8034120" y="4033440"/>
              <a:ext cx="104040" cy="14760"/>
            </a:xfrm>
            <a:custGeom>
              <a:avLst/>
              <a:gdLst/>
              <a:ahLst/>
              <a:rect l="l" t="t" r="r" b="b"/>
              <a:pathLst>
                <a:path w="223" h="39">
                  <a:moveTo>
                    <a:pt x="18" y="31"/>
                  </a:moveTo>
                  <a:lnTo>
                    <a:pt x="11" y="37"/>
                  </a:lnTo>
                  <a:lnTo>
                    <a:pt x="23" y="33"/>
                  </a:lnTo>
                  <a:lnTo>
                    <a:pt x="35" y="29"/>
                  </a:lnTo>
                  <a:lnTo>
                    <a:pt x="46" y="26"/>
                  </a:lnTo>
                  <a:lnTo>
                    <a:pt x="57" y="24"/>
                  </a:lnTo>
                  <a:lnTo>
                    <a:pt x="67" y="21"/>
                  </a:lnTo>
                  <a:lnTo>
                    <a:pt x="78" y="20"/>
                  </a:lnTo>
                  <a:lnTo>
                    <a:pt x="89" y="18"/>
                  </a:lnTo>
                  <a:lnTo>
                    <a:pt x="100" y="18"/>
                  </a:lnTo>
                  <a:lnTo>
                    <a:pt x="114" y="18"/>
                  </a:lnTo>
                  <a:lnTo>
                    <a:pt x="125" y="20"/>
                  </a:lnTo>
                  <a:lnTo>
                    <a:pt x="138" y="23"/>
                  </a:lnTo>
                  <a:lnTo>
                    <a:pt x="153" y="25"/>
                  </a:lnTo>
                  <a:lnTo>
                    <a:pt x="168" y="27"/>
                  </a:lnTo>
                  <a:lnTo>
                    <a:pt x="184" y="31"/>
                  </a:lnTo>
                  <a:lnTo>
                    <a:pt x="199" y="35"/>
                  </a:lnTo>
                  <a:lnTo>
                    <a:pt x="218" y="39"/>
                  </a:lnTo>
                  <a:lnTo>
                    <a:pt x="223" y="21"/>
                  </a:lnTo>
                  <a:lnTo>
                    <a:pt x="205" y="16"/>
                  </a:lnTo>
                  <a:lnTo>
                    <a:pt x="188" y="12"/>
                  </a:lnTo>
                  <a:lnTo>
                    <a:pt x="170" y="8"/>
                  </a:lnTo>
                  <a:lnTo>
                    <a:pt x="155" y="6"/>
                  </a:lnTo>
                  <a:lnTo>
                    <a:pt x="140" y="4"/>
                  </a:lnTo>
                  <a:lnTo>
                    <a:pt x="128" y="1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8" y="1"/>
                  </a:lnTo>
                  <a:lnTo>
                    <a:pt x="65" y="2"/>
                  </a:lnTo>
                  <a:lnTo>
                    <a:pt x="55" y="5"/>
                  </a:lnTo>
                  <a:lnTo>
                    <a:pt x="42" y="7"/>
                  </a:lnTo>
                  <a:lnTo>
                    <a:pt x="29" y="11"/>
                  </a:lnTo>
                  <a:lnTo>
                    <a:pt x="18" y="14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6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4" y="36"/>
                  </a:lnTo>
                  <a:lnTo>
                    <a:pt x="11" y="37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8092080" y="4076640"/>
              <a:ext cx="304560" cy="246960"/>
            </a:xfrm>
            <a:custGeom>
              <a:avLst/>
              <a:gdLst/>
              <a:ahLst/>
              <a:rect l="l" t="t" r="r" b="b"/>
              <a:pathLst>
                <a:path w="654" h="573">
                  <a:moveTo>
                    <a:pt x="345" y="29"/>
                  </a:moveTo>
                  <a:lnTo>
                    <a:pt x="359" y="23"/>
                  </a:lnTo>
                  <a:lnTo>
                    <a:pt x="375" y="19"/>
                  </a:lnTo>
                  <a:lnTo>
                    <a:pt x="390" y="14"/>
                  </a:lnTo>
                  <a:lnTo>
                    <a:pt x="406" y="10"/>
                  </a:lnTo>
                  <a:lnTo>
                    <a:pt x="422" y="6"/>
                  </a:lnTo>
                  <a:lnTo>
                    <a:pt x="438" y="3"/>
                  </a:lnTo>
                  <a:lnTo>
                    <a:pt x="454" y="2"/>
                  </a:lnTo>
                  <a:lnTo>
                    <a:pt x="470" y="1"/>
                  </a:lnTo>
                  <a:lnTo>
                    <a:pt x="486" y="0"/>
                  </a:lnTo>
                  <a:lnTo>
                    <a:pt x="501" y="0"/>
                  </a:lnTo>
                  <a:lnTo>
                    <a:pt x="517" y="1"/>
                  </a:lnTo>
                  <a:lnTo>
                    <a:pt x="530" y="3"/>
                  </a:lnTo>
                  <a:lnTo>
                    <a:pt x="544" y="5"/>
                  </a:lnTo>
                  <a:lnTo>
                    <a:pt x="558" y="9"/>
                  </a:lnTo>
                  <a:lnTo>
                    <a:pt x="570" y="14"/>
                  </a:lnTo>
                  <a:lnTo>
                    <a:pt x="581" y="19"/>
                  </a:lnTo>
                  <a:lnTo>
                    <a:pt x="608" y="38"/>
                  </a:lnTo>
                  <a:lnTo>
                    <a:pt x="628" y="62"/>
                  </a:lnTo>
                  <a:lnTo>
                    <a:pt x="641" y="93"/>
                  </a:lnTo>
                  <a:lnTo>
                    <a:pt x="651" y="127"/>
                  </a:lnTo>
                  <a:lnTo>
                    <a:pt x="654" y="165"/>
                  </a:lnTo>
                  <a:lnTo>
                    <a:pt x="654" y="205"/>
                  </a:lnTo>
                  <a:lnTo>
                    <a:pt x="652" y="246"/>
                  </a:lnTo>
                  <a:lnTo>
                    <a:pt x="645" y="287"/>
                  </a:lnTo>
                  <a:lnTo>
                    <a:pt x="640" y="300"/>
                  </a:lnTo>
                  <a:lnTo>
                    <a:pt x="632" y="307"/>
                  </a:lnTo>
                  <a:lnTo>
                    <a:pt x="620" y="313"/>
                  </a:lnTo>
                  <a:lnTo>
                    <a:pt x="608" y="317"/>
                  </a:lnTo>
                  <a:lnTo>
                    <a:pt x="593" y="320"/>
                  </a:lnTo>
                  <a:lnTo>
                    <a:pt x="579" y="321"/>
                  </a:lnTo>
                  <a:lnTo>
                    <a:pt x="566" y="322"/>
                  </a:lnTo>
                  <a:lnTo>
                    <a:pt x="556" y="324"/>
                  </a:lnTo>
                  <a:lnTo>
                    <a:pt x="538" y="330"/>
                  </a:lnTo>
                  <a:lnTo>
                    <a:pt x="519" y="338"/>
                  </a:lnTo>
                  <a:lnTo>
                    <a:pt x="501" y="348"/>
                  </a:lnTo>
                  <a:lnTo>
                    <a:pt x="483" y="360"/>
                  </a:lnTo>
                  <a:lnTo>
                    <a:pt x="465" y="371"/>
                  </a:lnTo>
                  <a:lnTo>
                    <a:pt x="446" y="384"/>
                  </a:lnTo>
                  <a:lnTo>
                    <a:pt x="428" y="398"/>
                  </a:lnTo>
                  <a:lnTo>
                    <a:pt x="409" y="412"/>
                  </a:lnTo>
                  <a:lnTo>
                    <a:pt x="390" y="425"/>
                  </a:lnTo>
                  <a:lnTo>
                    <a:pt x="373" y="439"/>
                  </a:lnTo>
                  <a:lnTo>
                    <a:pt x="354" y="454"/>
                  </a:lnTo>
                  <a:lnTo>
                    <a:pt x="335" y="467"/>
                  </a:lnTo>
                  <a:lnTo>
                    <a:pt x="316" y="478"/>
                  </a:lnTo>
                  <a:lnTo>
                    <a:pt x="298" y="491"/>
                  </a:lnTo>
                  <a:lnTo>
                    <a:pt x="279" y="501"/>
                  </a:lnTo>
                  <a:lnTo>
                    <a:pt x="261" y="509"/>
                  </a:lnTo>
                  <a:lnTo>
                    <a:pt x="246" y="515"/>
                  </a:lnTo>
                  <a:lnTo>
                    <a:pt x="233" y="521"/>
                  </a:lnTo>
                  <a:lnTo>
                    <a:pt x="218" y="527"/>
                  </a:lnTo>
                  <a:lnTo>
                    <a:pt x="204" y="533"/>
                  </a:lnTo>
                  <a:lnTo>
                    <a:pt x="191" y="537"/>
                  </a:lnTo>
                  <a:lnTo>
                    <a:pt x="177" y="544"/>
                  </a:lnTo>
                  <a:lnTo>
                    <a:pt x="164" y="548"/>
                  </a:lnTo>
                  <a:lnTo>
                    <a:pt x="150" y="553"/>
                  </a:lnTo>
                  <a:lnTo>
                    <a:pt x="136" y="557"/>
                  </a:lnTo>
                  <a:lnTo>
                    <a:pt x="122" y="562"/>
                  </a:lnTo>
                  <a:lnTo>
                    <a:pt x="108" y="565"/>
                  </a:lnTo>
                  <a:lnTo>
                    <a:pt x="92" y="567"/>
                  </a:lnTo>
                  <a:lnTo>
                    <a:pt x="75" y="569"/>
                  </a:lnTo>
                  <a:lnTo>
                    <a:pt x="59" y="572"/>
                  </a:lnTo>
                  <a:lnTo>
                    <a:pt x="43" y="573"/>
                  </a:lnTo>
                  <a:lnTo>
                    <a:pt x="24" y="573"/>
                  </a:lnTo>
                  <a:lnTo>
                    <a:pt x="9" y="568"/>
                  </a:lnTo>
                  <a:lnTo>
                    <a:pt x="0" y="555"/>
                  </a:lnTo>
                  <a:lnTo>
                    <a:pt x="0" y="535"/>
                  </a:lnTo>
                  <a:lnTo>
                    <a:pt x="7" y="509"/>
                  </a:lnTo>
                  <a:lnTo>
                    <a:pt x="17" y="478"/>
                  </a:lnTo>
                  <a:lnTo>
                    <a:pt x="32" y="444"/>
                  </a:lnTo>
                  <a:lnTo>
                    <a:pt x="50" y="408"/>
                  </a:lnTo>
                  <a:lnTo>
                    <a:pt x="70" y="371"/>
                  </a:lnTo>
                  <a:lnTo>
                    <a:pt x="91" y="335"/>
                  </a:lnTo>
                  <a:lnTo>
                    <a:pt x="112" y="301"/>
                  </a:lnTo>
                  <a:lnTo>
                    <a:pt x="131" y="267"/>
                  </a:lnTo>
                  <a:lnTo>
                    <a:pt x="149" y="238"/>
                  </a:lnTo>
                  <a:lnTo>
                    <a:pt x="163" y="216"/>
                  </a:lnTo>
                  <a:lnTo>
                    <a:pt x="174" y="200"/>
                  </a:lnTo>
                  <a:lnTo>
                    <a:pt x="179" y="192"/>
                  </a:lnTo>
                  <a:lnTo>
                    <a:pt x="176" y="192"/>
                  </a:lnTo>
                  <a:lnTo>
                    <a:pt x="195" y="171"/>
                  </a:lnTo>
                  <a:lnTo>
                    <a:pt x="215" y="144"/>
                  </a:lnTo>
                  <a:lnTo>
                    <a:pt x="237" y="116"/>
                  </a:lnTo>
                  <a:lnTo>
                    <a:pt x="258" y="90"/>
                  </a:lnTo>
                  <a:lnTo>
                    <a:pt x="281" y="63"/>
                  </a:lnTo>
                  <a:lnTo>
                    <a:pt x="303" y="43"/>
                  </a:lnTo>
                  <a:lnTo>
                    <a:pt x="325" y="31"/>
                  </a:lnTo>
                  <a:lnTo>
                    <a:pt x="345" y="29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8124840" y="4071960"/>
              <a:ext cx="113760" cy="21240"/>
            </a:xfrm>
            <a:custGeom>
              <a:avLst/>
              <a:gdLst/>
              <a:ahLst/>
              <a:rect l="l" t="t" r="r" b="b"/>
              <a:pathLst>
                <a:path w="244" h="48">
                  <a:moveTo>
                    <a:pt x="244" y="20"/>
                  </a:moveTo>
                  <a:lnTo>
                    <a:pt x="244" y="20"/>
                  </a:lnTo>
                  <a:lnTo>
                    <a:pt x="233" y="15"/>
                  </a:lnTo>
                  <a:lnTo>
                    <a:pt x="220" y="10"/>
                  </a:lnTo>
                  <a:lnTo>
                    <a:pt x="206" y="6"/>
                  </a:lnTo>
                  <a:lnTo>
                    <a:pt x="192" y="3"/>
                  </a:lnTo>
                  <a:lnTo>
                    <a:pt x="177" y="1"/>
                  </a:lnTo>
                  <a:lnTo>
                    <a:pt x="161" y="0"/>
                  </a:lnTo>
                  <a:lnTo>
                    <a:pt x="146" y="0"/>
                  </a:lnTo>
                  <a:lnTo>
                    <a:pt x="130" y="1"/>
                  </a:lnTo>
                  <a:lnTo>
                    <a:pt x="114" y="2"/>
                  </a:lnTo>
                  <a:lnTo>
                    <a:pt x="96" y="3"/>
                  </a:lnTo>
                  <a:lnTo>
                    <a:pt x="81" y="8"/>
                  </a:lnTo>
                  <a:lnTo>
                    <a:pt x="65" y="11"/>
                  </a:lnTo>
                  <a:lnTo>
                    <a:pt x="48" y="14"/>
                  </a:lnTo>
                  <a:lnTo>
                    <a:pt x="33" y="19"/>
                  </a:lnTo>
                  <a:lnTo>
                    <a:pt x="17" y="24"/>
                  </a:lnTo>
                  <a:lnTo>
                    <a:pt x="0" y="31"/>
                  </a:lnTo>
                  <a:lnTo>
                    <a:pt x="8" y="48"/>
                  </a:lnTo>
                  <a:lnTo>
                    <a:pt x="23" y="43"/>
                  </a:lnTo>
                  <a:lnTo>
                    <a:pt x="37" y="38"/>
                  </a:lnTo>
                  <a:lnTo>
                    <a:pt x="53" y="33"/>
                  </a:lnTo>
                  <a:lnTo>
                    <a:pt x="67" y="30"/>
                  </a:lnTo>
                  <a:lnTo>
                    <a:pt x="84" y="26"/>
                  </a:lnTo>
                  <a:lnTo>
                    <a:pt x="99" y="22"/>
                  </a:lnTo>
                  <a:lnTo>
                    <a:pt x="114" y="21"/>
                  </a:lnTo>
                  <a:lnTo>
                    <a:pt x="130" y="20"/>
                  </a:lnTo>
                  <a:lnTo>
                    <a:pt x="146" y="19"/>
                  </a:lnTo>
                  <a:lnTo>
                    <a:pt x="161" y="19"/>
                  </a:lnTo>
                  <a:lnTo>
                    <a:pt x="177" y="20"/>
                  </a:lnTo>
                  <a:lnTo>
                    <a:pt x="189" y="22"/>
                  </a:lnTo>
                  <a:lnTo>
                    <a:pt x="203" y="25"/>
                  </a:lnTo>
                  <a:lnTo>
                    <a:pt x="216" y="29"/>
                  </a:lnTo>
                  <a:lnTo>
                    <a:pt x="226" y="32"/>
                  </a:lnTo>
                  <a:lnTo>
                    <a:pt x="238" y="36"/>
                  </a:lnTo>
                  <a:lnTo>
                    <a:pt x="238" y="36"/>
                  </a:lnTo>
                  <a:lnTo>
                    <a:pt x="24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8087040" y="4080960"/>
              <a:ext cx="39240" cy="120240"/>
            </a:xfrm>
            <a:custGeom>
              <a:avLst/>
              <a:gdLst/>
              <a:ahLst/>
              <a:rect l="l" t="t" r="r" b="b"/>
              <a:pathLst>
                <a:path w="86" h="278">
                  <a:moveTo>
                    <a:pt x="76" y="278"/>
                  </a:moveTo>
                  <a:lnTo>
                    <a:pt x="76" y="278"/>
                  </a:lnTo>
                  <a:lnTo>
                    <a:pt x="83" y="236"/>
                  </a:lnTo>
                  <a:lnTo>
                    <a:pt x="86" y="195"/>
                  </a:lnTo>
                  <a:lnTo>
                    <a:pt x="86" y="155"/>
                  </a:lnTo>
                  <a:lnTo>
                    <a:pt x="82" y="115"/>
                  </a:lnTo>
                  <a:lnTo>
                    <a:pt x="73" y="81"/>
                  </a:lnTo>
                  <a:lnTo>
                    <a:pt x="57" y="48"/>
                  </a:lnTo>
                  <a:lnTo>
                    <a:pt x="35" y="2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23" y="34"/>
                  </a:lnTo>
                  <a:lnTo>
                    <a:pt x="41" y="56"/>
                  </a:lnTo>
                  <a:lnTo>
                    <a:pt x="54" y="85"/>
                  </a:lnTo>
                  <a:lnTo>
                    <a:pt x="63" y="119"/>
                  </a:lnTo>
                  <a:lnTo>
                    <a:pt x="67" y="155"/>
                  </a:lnTo>
                  <a:lnTo>
                    <a:pt x="67" y="195"/>
                  </a:lnTo>
                  <a:lnTo>
                    <a:pt x="64" y="236"/>
                  </a:lnTo>
                  <a:lnTo>
                    <a:pt x="57" y="276"/>
                  </a:lnTo>
                  <a:lnTo>
                    <a:pt x="57" y="276"/>
                  </a:lnTo>
                  <a:lnTo>
                    <a:pt x="76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8092440" y="4198680"/>
              <a:ext cx="46080" cy="21240"/>
            </a:xfrm>
            <a:custGeom>
              <a:avLst/>
              <a:gdLst/>
              <a:ahLst/>
              <a:rect l="l" t="t" r="r" b="b"/>
              <a:pathLst>
                <a:path w="101" h="47">
                  <a:moveTo>
                    <a:pt x="5" y="47"/>
                  </a:moveTo>
                  <a:lnTo>
                    <a:pt x="5" y="47"/>
                  </a:lnTo>
                  <a:lnTo>
                    <a:pt x="14" y="45"/>
                  </a:lnTo>
                  <a:lnTo>
                    <a:pt x="26" y="44"/>
                  </a:lnTo>
                  <a:lnTo>
                    <a:pt x="41" y="42"/>
                  </a:lnTo>
                  <a:lnTo>
                    <a:pt x="56" y="40"/>
                  </a:lnTo>
                  <a:lnTo>
                    <a:pt x="69" y="37"/>
                  </a:lnTo>
                  <a:lnTo>
                    <a:pt x="83" y="28"/>
                  </a:lnTo>
                  <a:lnTo>
                    <a:pt x="96" y="18"/>
                  </a:lnTo>
                  <a:lnTo>
                    <a:pt x="101" y="2"/>
                  </a:lnTo>
                  <a:lnTo>
                    <a:pt x="82" y="0"/>
                  </a:lnTo>
                  <a:lnTo>
                    <a:pt x="79" y="8"/>
                  </a:lnTo>
                  <a:lnTo>
                    <a:pt x="75" y="15"/>
                  </a:lnTo>
                  <a:lnTo>
                    <a:pt x="65" y="18"/>
                  </a:lnTo>
                  <a:lnTo>
                    <a:pt x="52" y="21"/>
                  </a:lnTo>
                  <a:lnTo>
                    <a:pt x="39" y="24"/>
                  </a:lnTo>
                  <a:lnTo>
                    <a:pt x="26" y="25"/>
                  </a:lnTo>
                  <a:lnTo>
                    <a:pt x="11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8136360" y="4212000"/>
              <a:ext cx="138960" cy="88200"/>
            </a:xfrm>
            <a:custGeom>
              <a:avLst/>
              <a:gdLst/>
              <a:ahLst/>
              <a:rect l="l" t="t" r="r" b="b"/>
              <a:pathLst>
                <a:path w="301" h="203">
                  <a:moveTo>
                    <a:pt x="7" y="203"/>
                  </a:moveTo>
                  <a:lnTo>
                    <a:pt x="7" y="203"/>
                  </a:lnTo>
                  <a:lnTo>
                    <a:pt x="26" y="195"/>
                  </a:lnTo>
                  <a:lnTo>
                    <a:pt x="46" y="184"/>
                  </a:lnTo>
                  <a:lnTo>
                    <a:pt x="63" y="173"/>
                  </a:lnTo>
                  <a:lnTo>
                    <a:pt x="82" y="161"/>
                  </a:lnTo>
                  <a:lnTo>
                    <a:pt x="102" y="147"/>
                  </a:lnTo>
                  <a:lnTo>
                    <a:pt x="121" y="132"/>
                  </a:lnTo>
                  <a:lnTo>
                    <a:pt x="139" y="119"/>
                  </a:lnTo>
                  <a:lnTo>
                    <a:pt x="158" y="104"/>
                  </a:lnTo>
                  <a:lnTo>
                    <a:pt x="177" y="91"/>
                  </a:lnTo>
                  <a:lnTo>
                    <a:pt x="194" y="78"/>
                  </a:lnTo>
                  <a:lnTo>
                    <a:pt x="212" y="65"/>
                  </a:lnTo>
                  <a:lnTo>
                    <a:pt x="231" y="53"/>
                  </a:lnTo>
                  <a:lnTo>
                    <a:pt x="249" y="43"/>
                  </a:lnTo>
                  <a:lnTo>
                    <a:pt x="265" y="32"/>
                  </a:lnTo>
                  <a:lnTo>
                    <a:pt x="284" y="24"/>
                  </a:lnTo>
                  <a:lnTo>
                    <a:pt x="301" y="19"/>
                  </a:lnTo>
                  <a:lnTo>
                    <a:pt x="296" y="0"/>
                  </a:lnTo>
                  <a:lnTo>
                    <a:pt x="277" y="8"/>
                  </a:lnTo>
                  <a:lnTo>
                    <a:pt x="259" y="16"/>
                  </a:lnTo>
                  <a:lnTo>
                    <a:pt x="240" y="27"/>
                  </a:lnTo>
                  <a:lnTo>
                    <a:pt x="222" y="37"/>
                  </a:lnTo>
                  <a:lnTo>
                    <a:pt x="203" y="49"/>
                  </a:lnTo>
                  <a:lnTo>
                    <a:pt x="183" y="63"/>
                  </a:lnTo>
                  <a:lnTo>
                    <a:pt x="165" y="78"/>
                  </a:lnTo>
                  <a:lnTo>
                    <a:pt x="147" y="90"/>
                  </a:lnTo>
                  <a:lnTo>
                    <a:pt x="128" y="104"/>
                  </a:lnTo>
                  <a:lnTo>
                    <a:pt x="110" y="119"/>
                  </a:lnTo>
                  <a:lnTo>
                    <a:pt x="91" y="132"/>
                  </a:lnTo>
                  <a:lnTo>
                    <a:pt x="73" y="144"/>
                  </a:lnTo>
                  <a:lnTo>
                    <a:pt x="55" y="157"/>
                  </a:lnTo>
                  <a:lnTo>
                    <a:pt x="37" y="168"/>
                  </a:lnTo>
                  <a:lnTo>
                    <a:pt x="19" y="179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7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8273520" y="4291560"/>
              <a:ext cx="111600" cy="36360"/>
            </a:xfrm>
            <a:custGeom>
              <a:avLst/>
              <a:gdLst/>
              <a:ahLst/>
              <a:rect l="l" t="t" r="r" b="b"/>
              <a:pathLst>
                <a:path w="240" h="82">
                  <a:moveTo>
                    <a:pt x="0" y="82"/>
                  </a:moveTo>
                  <a:lnTo>
                    <a:pt x="0" y="82"/>
                  </a:lnTo>
                  <a:lnTo>
                    <a:pt x="19" y="82"/>
                  </a:lnTo>
                  <a:lnTo>
                    <a:pt x="35" y="81"/>
                  </a:lnTo>
                  <a:lnTo>
                    <a:pt x="53" y="77"/>
                  </a:lnTo>
                  <a:lnTo>
                    <a:pt x="69" y="75"/>
                  </a:lnTo>
                  <a:lnTo>
                    <a:pt x="85" y="73"/>
                  </a:lnTo>
                  <a:lnTo>
                    <a:pt x="99" y="69"/>
                  </a:lnTo>
                  <a:lnTo>
                    <a:pt x="115" y="66"/>
                  </a:lnTo>
                  <a:lnTo>
                    <a:pt x="128" y="62"/>
                  </a:lnTo>
                  <a:lnTo>
                    <a:pt x="142" y="56"/>
                  </a:lnTo>
                  <a:lnTo>
                    <a:pt x="156" y="52"/>
                  </a:lnTo>
                  <a:lnTo>
                    <a:pt x="170" y="46"/>
                  </a:lnTo>
                  <a:lnTo>
                    <a:pt x="182" y="42"/>
                  </a:lnTo>
                  <a:lnTo>
                    <a:pt x="198" y="34"/>
                  </a:lnTo>
                  <a:lnTo>
                    <a:pt x="212" y="28"/>
                  </a:lnTo>
                  <a:lnTo>
                    <a:pt x="227" y="23"/>
                  </a:lnTo>
                  <a:lnTo>
                    <a:pt x="240" y="16"/>
                  </a:lnTo>
                  <a:lnTo>
                    <a:pt x="233" y="0"/>
                  </a:lnTo>
                  <a:lnTo>
                    <a:pt x="219" y="6"/>
                  </a:lnTo>
                  <a:lnTo>
                    <a:pt x="204" y="12"/>
                  </a:lnTo>
                  <a:lnTo>
                    <a:pt x="191" y="17"/>
                  </a:lnTo>
                  <a:lnTo>
                    <a:pt x="178" y="23"/>
                  </a:lnTo>
                  <a:lnTo>
                    <a:pt x="165" y="27"/>
                  </a:lnTo>
                  <a:lnTo>
                    <a:pt x="151" y="33"/>
                  </a:lnTo>
                  <a:lnTo>
                    <a:pt x="138" y="37"/>
                  </a:lnTo>
                  <a:lnTo>
                    <a:pt x="124" y="43"/>
                  </a:lnTo>
                  <a:lnTo>
                    <a:pt x="109" y="47"/>
                  </a:lnTo>
                  <a:lnTo>
                    <a:pt x="97" y="51"/>
                  </a:lnTo>
                  <a:lnTo>
                    <a:pt x="82" y="54"/>
                  </a:lnTo>
                  <a:lnTo>
                    <a:pt x="67" y="56"/>
                  </a:lnTo>
                  <a:lnTo>
                    <a:pt x="50" y="58"/>
                  </a:lnTo>
                  <a:lnTo>
                    <a:pt x="35" y="62"/>
                  </a:lnTo>
                  <a:lnTo>
                    <a:pt x="19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8308080" y="4155840"/>
              <a:ext cx="93240" cy="171720"/>
            </a:xfrm>
            <a:custGeom>
              <a:avLst/>
              <a:gdLst/>
              <a:ahLst/>
              <a:rect l="l" t="t" r="r" b="b"/>
              <a:pathLst>
                <a:path w="196" h="398">
                  <a:moveTo>
                    <a:pt x="179" y="0"/>
                  </a:moveTo>
                  <a:lnTo>
                    <a:pt x="192" y="14"/>
                  </a:lnTo>
                  <a:lnTo>
                    <a:pt x="178" y="5"/>
                  </a:lnTo>
                  <a:lnTo>
                    <a:pt x="174" y="10"/>
                  </a:lnTo>
                  <a:lnTo>
                    <a:pt x="164" y="27"/>
                  </a:lnTo>
                  <a:lnTo>
                    <a:pt x="150" y="49"/>
                  </a:lnTo>
                  <a:lnTo>
                    <a:pt x="132" y="78"/>
                  </a:lnTo>
                  <a:lnTo>
                    <a:pt x="113" y="110"/>
                  </a:lnTo>
                  <a:lnTo>
                    <a:pt x="92" y="145"/>
                  </a:lnTo>
                  <a:lnTo>
                    <a:pt x="71" y="181"/>
                  </a:lnTo>
                  <a:lnTo>
                    <a:pt x="51" y="220"/>
                  </a:lnTo>
                  <a:lnTo>
                    <a:pt x="33" y="256"/>
                  </a:lnTo>
                  <a:lnTo>
                    <a:pt x="18" y="290"/>
                  </a:lnTo>
                  <a:lnTo>
                    <a:pt x="6" y="322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0"/>
                  </a:lnTo>
                  <a:lnTo>
                    <a:pt x="33" y="398"/>
                  </a:lnTo>
                  <a:lnTo>
                    <a:pt x="33" y="379"/>
                  </a:lnTo>
                  <a:lnTo>
                    <a:pt x="23" y="377"/>
                  </a:lnTo>
                  <a:lnTo>
                    <a:pt x="19" y="368"/>
                  </a:lnTo>
                  <a:lnTo>
                    <a:pt x="19" y="351"/>
                  </a:lnTo>
                  <a:lnTo>
                    <a:pt x="25" y="327"/>
                  </a:lnTo>
                  <a:lnTo>
                    <a:pt x="35" y="297"/>
                  </a:lnTo>
                  <a:lnTo>
                    <a:pt x="49" y="263"/>
                  </a:lnTo>
                  <a:lnTo>
                    <a:pt x="67" y="228"/>
                  </a:lnTo>
                  <a:lnTo>
                    <a:pt x="87" y="191"/>
                  </a:lnTo>
                  <a:lnTo>
                    <a:pt x="109" y="155"/>
                  </a:lnTo>
                  <a:lnTo>
                    <a:pt x="130" y="120"/>
                  </a:lnTo>
                  <a:lnTo>
                    <a:pt x="149" y="87"/>
                  </a:lnTo>
                  <a:lnTo>
                    <a:pt x="167" y="59"/>
                  </a:lnTo>
                  <a:lnTo>
                    <a:pt x="180" y="37"/>
                  </a:lnTo>
                  <a:lnTo>
                    <a:pt x="191" y="20"/>
                  </a:lnTo>
                  <a:lnTo>
                    <a:pt x="196" y="9"/>
                  </a:lnTo>
                  <a:lnTo>
                    <a:pt x="178" y="0"/>
                  </a:lnTo>
                  <a:lnTo>
                    <a:pt x="191" y="14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8232120" y="4085280"/>
              <a:ext cx="85680" cy="76680"/>
            </a:xfrm>
            <a:custGeom>
              <a:avLst/>
              <a:gdLst/>
              <a:ahLst/>
              <a:rect l="l" t="t" r="r" b="b"/>
              <a:pathLst>
                <a:path w="184" h="179">
                  <a:moveTo>
                    <a:pt x="170" y="1"/>
                  </a:moveTo>
                  <a:lnTo>
                    <a:pt x="176" y="0"/>
                  </a:lnTo>
                  <a:lnTo>
                    <a:pt x="152" y="2"/>
                  </a:lnTo>
                  <a:lnTo>
                    <a:pt x="127" y="16"/>
                  </a:lnTo>
                  <a:lnTo>
                    <a:pt x="104" y="38"/>
                  </a:lnTo>
                  <a:lnTo>
                    <a:pt x="82" y="63"/>
                  </a:lnTo>
                  <a:lnTo>
                    <a:pt x="61" y="91"/>
                  </a:lnTo>
                  <a:lnTo>
                    <a:pt x="37" y="119"/>
                  </a:lnTo>
                  <a:lnTo>
                    <a:pt x="17" y="145"/>
                  </a:lnTo>
                  <a:lnTo>
                    <a:pt x="0" y="165"/>
                  </a:lnTo>
                  <a:lnTo>
                    <a:pt x="12" y="179"/>
                  </a:lnTo>
                  <a:lnTo>
                    <a:pt x="32" y="156"/>
                  </a:lnTo>
                  <a:lnTo>
                    <a:pt x="52" y="131"/>
                  </a:lnTo>
                  <a:lnTo>
                    <a:pt x="74" y="102"/>
                  </a:lnTo>
                  <a:lnTo>
                    <a:pt x="95" y="75"/>
                  </a:lnTo>
                  <a:lnTo>
                    <a:pt x="118" y="49"/>
                  </a:lnTo>
                  <a:lnTo>
                    <a:pt x="139" y="30"/>
                  </a:lnTo>
                  <a:lnTo>
                    <a:pt x="157" y="21"/>
                  </a:lnTo>
                  <a:lnTo>
                    <a:pt x="174" y="19"/>
                  </a:lnTo>
                  <a:lnTo>
                    <a:pt x="178" y="18"/>
                  </a:lnTo>
                  <a:lnTo>
                    <a:pt x="174" y="19"/>
                  </a:lnTo>
                  <a:lnTo>
                    <a:pt x="180" y="16"/>
                  </a:lnTo>
                  <a:lnTo>
                    <a:pt x="184" y="10"/>
                  </a:lnTo>
                  <a:lnTo>
                    <a:pt x="182" y="3"/>
                  </a:lnTo>
                  <a:lnTo>
                    <a:pt x="176" y="0"/>
                  </a:lnTo>
                  <a:lnTo>
                    <a:pt x="17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7778520" y="3429720"/>
              <a:ext cx="76320" cy="47160"/>
            </a:xfrm>
            <a:custGeom>
              <a:avLst/>
              <a:gdLst/>
              <a:ahLst/>
              <a:rect l="l" t="t" r="r" b="b"/>
              <a:pathLst>
                <a:path w="162" h="110">
                  <a:moveTo>
                    <a:pt x="143" y="92"/>
                  </a:moveTo>
                  <a:lnTo>
                    <a:pt x="159" y="92"/>
                  </a:lnTo>
                  <a:lnTo>
                    <a:pt x="142" y="77"/>
                  </a:lnTo>
                  <a:lnTo>
                    <a:pt x="125" y="63"/>
                  </a:lnTo>
                  <a:lnTo>
                    <a:pt x="105" y="52"/>
                  </a:lnTo>
                  <a:lnTo>
                    <a:pt x="86" y="41"/>
                  </a:lnTo>
                  <a:lnTo>
                    <a:pt x="67" y="31"/>
                  </a:lnTo>
                  <a:lnTo>
                    <a:pt x="47" y="20"/>
                  </a:lnTo>
                  <a:lnTo>
                    <a:pt x="28" y="11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8" y="30"/>
                  </a:lnTo>
                  <a:lnTo>
                    <a:pt x="37" y="39"/>
                  </a:lnTo>
                  <a:lnTo>
                    <a:pt x="57" y="50"/>
                  </a:lnTo>
                  <a:lnTo>
                    <a:pt x="76" y="60"/>
                  </a:lnTo>
                  <a:lnTo>
                    <a:pt x="95" y="71"/>
                  </a:lnTo>
                  <a:lnTo>
                    <a:pt x="112" y="82"/>
                  </a:lnTo>
                  <a:lnTo>
                    <a:pt x="130" y="93"/>
                  </a:lnTo>
                  <a:lnTo>
                    <a:pt x="144" y="107"/>
                  </a:lnTo>
                  <a:lnTo>
                    <a:pt x="160" y="107"/>
                  </a:lnTo>
                  <a:lnTo>
                    <a:pt x="144" y="107"/>
                  </a:lnTo>
                  <a:lnTo>
                    <a:pt x="151" y="110"/>
                  </a:lnTo>
                  <a:lnTo>
                    <a:pt x="159" y="107"/>
                  </a:lnTo>
                  <a:lnTo>
                    <a:pt x="162" y="99"/>
                  </a:lnTo>
                  <a:lnTo>
                    <a:pt x="159" y="92"/>
                  </a:lnTo>
                  <a:lnTo>
                    <a:pt x="14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7727400" y="3350160"/>
              <a:ext cx="59760" cy="53280"/>
            </a:xfrm>
            <a:custGeom>
              <a:avLst/>
              <a:gdLst/>
              <a:ahLst/>
              <a:rect l="l" t="t" r="r" b="b"/>
              <a:pathLst>
                <a:path w="129" h="124">
                  <a:moveTo>
                    <a:pt x="17" y="12"/>
                  </a:moveTo>
                  <a:lnTo>
                    <a:pt x="17" y="12"/>
                  </a:lnTo>
                  <a:lnTo>
                    <a:pt x="5" y="16"/>
                  </a:lnTo>
                  <a:lnTo>
                    <a:pt x="14" y="24"/>
                  </a:lnTo>
                  <a:lnTo>
                    <a:pt x="28" y="39"/>
                  </a:lnTo>
                  <a:lnTo>
                    <a:pt x="45" y="56"/>
                  </a:lnTo>
                  <a:lnTo>
                    <a:pt x="62" y="75"/>
                  </a:lnTo>
                  <a:lnTo>
                    <a:pt x="81" y="93"/>
                  </a:lnTo>
                  <a:lnTo>
                    <a:pt x="99" y="111"/>
                  </a:lnTo>
                  <a:lnTo>
                    <a:pt x="117" y="124"/>
                  </a:lnTo>
                  <a:lnTo>
                    <a:pt x="129" y="107"/>
                  </a:lnTo>
                  <a:lnTo>
                    <a:pt x="113" y="94"/>
                  </a:lnTo>
                  <a:lnTo>
                    <a:pt x="96" y="79"/>
                  </a:lnTo>
                  <a:lnTo>
                    <a:pt x="77" y="61"/>
                  </a:lnTo>
                  <a:lnTo>
                    <a:pt x="59" y="42"/>
                  </a:lnTo>
                  <a:lnTo>
                    <a:pt x="42" y="24"/>
                  </a:lnTo>
                  <a:lnTo>
                    <a:pt x="28" y="1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7780320" y="3350160"/>
              <a:ext cx="76680" cy="87480"/>
            </a:xfrm>
            <a:custGeom>
              <a:avLst/>
              <a:gdLst/>
              <a:ahLst/>
              <a:rect l="l" t="t" r="r" b="b"/>
              <a:pathLst>
                <a:path w="164" h="204">
                  <a:moveTo>
                    <a:pt x="14" y="185"/>
                  </a:moveTo>
                  <a:lnTo>
                    <a:pt x="18" y="201"/>
                  </a:lnTo>
                  <a:lnTo>
                    <a:pt x="164" y="12"/>
                  </a:lnTo>
                  <a:lnTo>
                    <a:pt x="147" y="0"/>
                  </a:lnTo>
                  <a:lnTo>
                    <a:pt x="1" y="188"/>
                  </a:lnTo>
                  <a:lnTo>
                    <a:pt x="4" y="204"/>
                  </a:lnTo>
                  <a:lnTo>
                    <a:pt x="1" y="188"/>
                  </a:lnTo>
                  <a:lnTo>
                    <a:pt x="0" y="197"/>
                  </a:lnTo>
                  <a:lnTo>
                    <a:pt x="4" y="203"/>
                  </a:lnTo>
                  <a:lnTo>
                    <a:pt x="10" y="204"/>
                  </a:lnTo>
                  <a:lnTo>
                    <a:pt x="18" y="201"/>
                  </a:lnTo>
                  <a:lnTo>
                    <a:pt x="1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8420040" y="3399480"/>
              <a:ext cx="164880" cy="259920"/>
            </a:xfrm>
            <a:custGeom>
              <a:avLst/>
              <a:gdLst/>
              <a:ahLst/>
              <a:rect l="l" t="t" r="r" b="b"/>
              <a:pathLst>
                <a:path w="358" h="603">
                  <a:moveTo>
                    <a:pt x="76" y="0"/>
                  </a:moveTo>
                  <a:lnTo>
                    <a:pt x="68" y="16"/>
                  </a:lnTo>
                  <a:lnTo>
                    <a:pt x="60" y="31"/>
                  </a:lnTo>
                  <a:lnTo>
                    <a:pt x="51" y="46"/>
                  </a:lnTo>
                  <a:lnTo>
                    <a:pt x="45" y="61"/>
                  </a:lnTo>
                  <a:lnTo>
                    <a:pt x="37" y="76"/>
                  </a:lnTo>
                  <a:lnTo>
                    <a:pt x="28" y="91"/>
                  </a:lnTo>
                  <a:lnTo>
                    <a:pt x="21" y="107"/>
                  </a:lnTo>
                  <a:lnTo>
                    <a:pt x="13" y="123"/>
                  </a:lnTo>
                  <a:lnTo>
                    <a:pt x="5" y="156"/>
                  </a:lnTo>
                  <a:lnTo>
                    <a:pt x="0" y="200"/>
                  </a:lnTo>
                  <a:lnTo>
                    <a:pt x="1" y="249"/>
                  </a:lnTo>
                  <a:lnTo>
                    <a:pt x="11" y="292"/>
                  </a:lnTo>
                  <a:lnTo>
                    <a:pt x="26" y="320"/>
                  </a:lnTo>
                  <a:lnTo>
                    <a:pt x="39" y="346"/>
                  </a:lnTo>
                  <a:lnTo>
                    <a:pt x="50" y="368"/>
                  </a:lnTo>
                  <a:lnTo>
                    <a:pt x="62" y="389"/>
                  </a:lnTo>
                  <a:lnTo>
                    <a:pt x="74" y="411"/>
                  </a:lnTo>
                  <a:lnTo>
                    <a:pt x="86" y="435"/>
                  </a:lnTo>
                  <a:lnTo>
                    <a:pt x="98" y="461"/>
                  </a:lnTo>
                  <a:lnTo>
                    <a:pt x="111" y="490"/>
                  </a:lnTo>
                  <a:lnTo>
                    <a:pt x="117" y="504"/>
                  </a:lnTo>
                  <a:lnTo>
                    <a:pt x="123" y="520"/>
                  </a:lnTo>
                  <a:lnTo>
                    <a:pt x="132" y="537"/>
                  </a:lnTo>
                  <a:lnTo>
                    <a:pt x="141" y="552"/>
                  </a:lnTo>
                  <a:lnTo>
                    <a:pt x="151" y="568"/>
                  </a:lnTo>
                  <a:lnTo>
                    <a:pt x="162" y="582"/>
                  </a:lnTo>
                  <a:lnTo>
                    <a:pt x="174" y="594"/>
                  </a:lnTo>
                  <a:lnTo>
                    <a:pt x="188" y="603"/>
                  </a:lnTo>
                  <a:lnTo>
                    <a:pt x="202" y="601"/>
                  </a:lnTo>
                  <a:lnTo>
                    <a:pt x="217" y="595"/>
                  </a:lnTo>
                  <a:lnTo>
                    <a:pt x="232" y="587"/>
                  </a:lnTo>
                  <a:lnTo>
                    <a:pt x="246" y="577"/>
                  </a:lnTo>
                  <a:lnTo>
                    <a:pt x="258" y="564"/>
                  </a:lnTo>
                  <a:lnTo>
                    <a:pt x="270" y="553"/>
                  </a:lnTo>
                  <a:lnTo>
                    <a:pt x="280" y="541"/>
                  </a:lnTo>
                  <a:lnTo>
                    <a:pt x="284" y="532"/>
                  </a:lnTo>
                  <a:lnTo>
                    <a:pt x="276" y="466"/>
                  </a:lnTo>
                  <a:lnTo>
                    <a:pt x="273" y="410"/>
                  </a:lnTo>
                  <a:lnTo>
                    <a:pt x="276" y="357"/>
                  </a:lnTo>
                  <a:lnTo>
                    <a:pt x="290" y="297"/>
                  </a:lnTo>
                  <a:lnTo>
                    <a:pt x="300" y="272"/>
                  </a:lnTo>
                  <a:lnTo>
                    <a:pt x="312" y="244"/>
                  </a:lnTo>
                  <a:lnTo>
                    <a:pt x="326" y="215"/>
                  </a:lnTo>
                  <a:lnTo>
                    <a:pt x="339" y="182"/>
                  </a:lnTo>
                  <a:lnTo>
                    <a:pt x="349" y="151"/>
                  </a:lnTo>
                  <a:lnTo>
                    <a:pt x="357" y="120"/>
                  </a:lnTo>
                  <a:lnTo>
                    <a:pt x="358" y="90"/>
                  </a:lnTo>
                  <a:lnTo>
                    <a:pt x="351" y="63"/>
                  </a:lnTo>
                  <a:lnTo>
                    <a:pt x="344" y="54"/>
                  </a:lnTo>
                  <a:lnTo>
                    <a:pt x="328" y="46"/>
                  </a:lnTo>
                  <a:lnTo>
                    <a:pt x="306" y="37"/>
                  </a:lnTo>
                  <a:lnTo>
                    <a:pt x="282" y="30"/>
                  </a:lnTo>
                  <a:lnTo>
                    <a:pt x="255" y="24"/>
                  </a:lnTo>
                  <a:lnTo>
                    <a:pt x="231" y="17"/>
                  </a:lnTo>
                  <a:lnTo>
                    <a:pt x="211" y="13"/>
                  </a:lnTo>
                  <a:lnTo>
                    <a:pt x="196" y="10"/>
                  </a:lnTo>
                  <a:lnTo>
                    <a:pt x="181" y="9"/>
                  </a:lnTo>
                  <a:lnTo>
                    <a:pt x="166" y="8"/>
                  </a:lnTo>
                  <a:lnTo>
                    <a:pt x="151" y="7"/>
                  </a:lnTo>
                  <a:lnTo>
                    <a:pt x="135" y="6"/>
                  </a:lnTo>
                  <a:lnTo>
                    <a:pt x="120" y="5"/>
                  </a:lnTo>
                  <a:lnTo>
                    <a:pt x="105" y="4"/>
                  </a:lnTo>
                  <a:lnTo>
                    <a:pt x="9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8545320" y="3397680"/>
              <a:ext cx="37080" cy="55440"/>
            </a:xfrm>
            <a:custGeom>
              <a:avLst/>
              <a:gdLst/>
              <a:ahLst/>
              <a:rect l="l" t="t" r="r" b="b"/>
              <a:pathLst>
                <a:path w="79" h="130">
                  <a:moveTo>
                    <a:pt x="18" y="130"/>
                  </a:moveTo>
                  <a:lnTo>
                    <a:pt x="18" y="130"/>
                  </a:lnTo>
                  <a:lnTo>
                    <a:pt x="25" y="114"/>
                  </a:lnTo>
                  <a:lnTo>
                    <a:pt x="33" y="100"/>
                  </a:lnTo>
                  <a:lnTo>
                    <a:pt x="41" y="85"/>
                  </a:lnTo>
                  <a:lnTo>
                    <a:pt x="49" y="70"/>
                  </a:lnTo>
                  <a:lnTo>
                    <a:pt x="56" y="54"/>
                  </a:lnTo>
                  <a:lnTo>
                    <a:pt x="64" y="40"/>
                  </a:lnTo>
                  <a:lnTo>
                    <a:pt x="73" y="24"/>
                  </a:lnTo>
                  <a:lnTo>
                    <a:pt x="79" y="10"/>
                  </a:lnTo>
                  <a:lnTo>
                    <a:pt x="61" y="0"/>
                  </a:lnTo>
                  <a:lnTo>
                    <a:pt x="54" y="15"/>
                  </a:lnTo>
                  <a:lnTo>
                    <a:pt x="45" y="31"/>
                  </a:lnTo>
                  <a:lnTo>
                    <a:pt x="37" y="45"/>
                  </a:lnTo>
                  <a:lnTo>
                    <a:pt x="31" y="60"/>
                  </a:lnTo>
                  <a:lnTo>
                    <a:pt x="22" y="75"/>
                  </a:lnTo>
                  <a:lnTo>
                    <a:pt x="14" y="91"/>
                  </a:lnTo>
                  <a:lnTo>
                    <a:pt x="6" y="108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1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8575200" y="3451320"/>
              <a:ext cx="14040" cy="77400"/>
            </a:xfrm>
            <a:custGeom>
              <a:avLst/>
              <a:gdLst/>
              <a:ahLst/>
              <a:rect l="l" t="t" r="r" b="b"/>
              <a:pathLst>
                <a:path w="34" h="178">
                  <a:moveTo>
                    <a:pt x="32" y="169"/>
                  </a:moveTo>
                  <a:lnTo>
                    <a:pt x="32" y="170"/>
                  </a:lnTo>
                  <a:lnTo>
                    <a:pt x="22" y="128"/>
                  </a:lnTo>
                  <a:lnTo>
                    <a:pt x="21" y="81"/>
                  </a:lnTo>
                  <a:lnTo>
                    <a:pt x="27" y="38"/>
                  </a:lnTo>
                  <a:lnTo>
                    <a:pt x="34" y="7"/>
                  </a:lnTo>
                  <a:lnTo>
                    <a:pt x="16" y="0"/>
                  </a:lnTo>
                  <a:lnTo>
                    <a:pt x="5" y="36"/>
                  </a:lnTo>
                  <a:lnTo>
                    <a:pt x="0" y="81"/>
                  </a:lnTo>
                  <a:lnTo>
                    <a:pt x="1" y="131"/>
                  </a:lnTo>
                  <a:lnTo>
                    <a:pt x="13" y="177"/>
                  </a:lnTo>
                  <a:lnTo>
                    <a:pt x="13" y="178"/>
                  </a:lnTo>
                  <a:lnTo>
                    <a:pt x="3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8528760" y="3524400"/>
              <a:ext cx="55800" cy="88200"/>
            </a:xfrm>
            <a:custGeom>
              <a:avLst/>
              <a:gdLst/>
              <a:ahLst/>
              <a:rect l="l" t="t" r="r" b="b"/>
              <a:pathLst>
                <a:path w="118" h="206">
                  <a:moveTo>
                    <a:pt x="118" y="199"/>
                  </a:moveTo>
                  <a:lnTo>
                    <a:pt x="118" y="199"/>
                  </a:lnTo>
                  <a:lnTo>
                    <a:pt x="105" y="170"/>
                  </a:lnTo>
                  <a:lnTo>
                    <a:pt x="94" y="142"/>
                  </a:lnTo>
                  <a:lnTo>
                    <a:pt x="81" y="119"/>
                  </a:lnTo>
                  <a:lnTo>
                    <a:pt x="70" y="97"/>
                  </a:lnTo>
                  <a:lnTo>
                    <a:pt x="58" y="75"/>
                  </a:lnTo>
                  <a:lnTo>
                    <a:pt x="46" y="52"/>
                  </a:lnTo>
                  <a:lnTo>
                    <a:pt x="34" y="28"/>
                  </a:lnTo>
                  <a:lnTo>
                    <a:pt x="19" y="0"/>
                  </a:lnTo>
                  <a:lnTo>
                    <a:pt x="0" y="9"/>
                  </a:lnTo>
                  <a:lnTo>
                    <a:pt x="15" y="38"/>
                  </a:lnTo>
                  <a:lnTo>
                    <a:pt x="27" y="62"/>
                  </a:lnTo>
                  <a:lnTo>
                    <a:pt x="39" y="84"/>
                  </a:lnTo>
                  <a:lnTo>
                    <a:pt x="51" y="105"/>
                  </a:lnTo>
                  <a:lnTo>
                    <a:pt x="62" y="128"/>
                  </a:lnTo>
                  <a:lnTo>
                    <a:pt x="75" y="152"/>
                  </a:lnTo>
                  <a:lnTo>
                    <a:pt x="86" y="176"/>
                  </a:lnTo>
                  <a:lnTo>
                    <a:pt x="99" y="206"/>
                  </a:lnTo>
                  <a:lnTo>
                    <a:pt x="99" y="206"/>
                  </a:lnTo>
                  <a:lnTo>
                    <a:pt x="118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8493840" y="3610080"/>
              <a:ext cx="44280" cy="5328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87" y="106"/>
                  </a:moveTo>
                  <a:lnTo>
                    <a:pt x="91" y="107"/>
                  </a:lnTo>
                  <a:lnTo>
                    <a:pt x="80" y="99"/>
                  </a:lnTo>
                  <a:lnTo>
                    <a:pt x="70" y="89"/>
                  </a:lnTo>
                  <a:lnTo>
                    <a:pt x="58" y="75"/>
                  </a:lnTo>
                  <a:lnTo>
                    <a:pt x="50" y="60"/>
                  </a:lnTo>
                  <a:lnTo>
                    <a:pt x="40" y="45"/>
                  </a:lnTo>
                  <a:lnTo>
                    <a:pt x="32" y="29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0" y="7"/>
                  </a:lnTo>
                  <a:lnTo>
                    <a:pt x="6" y="21"/>
                  </a:lnTo>
                  <a:lnTo>
                    <a:pt x="13" y="37"/>
                  </a:lnTo>
                  <a:lnTo>
                    <a:pt x="21" y="54"/>
                  </a:lnTo>
                  <a:lnTo>
                    <a:pt x="31" y="70"/>
                  </a:lnTo>
                  <a:lnTo>
                    <a:pt x="41" y="87"/>
                  </a:lnTo>
                  <a:lnTo>
                    <a:pt x="53" y="103"/>
                  </a:lnTo>
                  <a:lnTo>
                    <a:pt x="67" y="115"/>
                  </a:lnTo>
                  <a:lnTo>
                    <a:pt x="81" y="126"/>
                  </a:lnTo>
                  <a:lnTo>
                    <a:pt x="87" y="127"/>
                  </a:lnTo>
                  <a:lnTo>
                    <a:pt x="81" y="126"/>
                  </a:lnTo>
                  <a:lnTo>
                    <a:pt x="90" y="126"/>
                  </a:lnTo>
                  <a:lnTo>
                    <a:pt x="95" y="122"/>
                  </a:lnTo>
                  <a:lnTo>
                    <a:pt x="95" y="113"/>
                  </a:lnTo>
                  <a:lnTo>
                    <a:pt x="91" y="107"/>
                  </a:lnTo>
                  <a:lnTo>
                    <a:pt x="87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8447760" y="3625200"/>
              <a:ext cx="51120" cy="3816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85" y="11"/>
                  </a:moveTo>
                  <a:lnTo>
                    <a:pt x="86" y="6"/>
                  </a:lnTo>
                  <a:lnTo>
                    <a:pt x="83" y="14"/>
                  </a:lnTo>
                  <a:lnTo>
                    <a:pt x="74" y="24"/>
                  </a:lnTo>
                  <a:lnTo>
                    <a:pt x="64" y="36"/>
                  </a:lnTo>
                  <a:lnTo>
                    <a:pt x="51" y="46"/>
                  </a:lnTo>
                  <a:lnTo>
                    <a:pt x="38" y="57"/>
                  </a:lnTo>
                  <a:lnTo>
                    <a:pt x="25" y="64"/>
                  </a:lnTo>
                  <a:lnTo>
                    <a:pt x="12" y="69"/>
                  </a:lnTo>
                  <a:lnTo>
                    <a:pt x="0" y="71"/>
                  </a:lnTo>
                  <a:lnTo>
                    <a:pt x="0" y="92"/>
                  </a:lnTo>
                  <a:lnTo>
                    <a:pt x="17" y="90"/>
                  </a:lnTo>
                  <a:lnTo>
                    <a:pt x="35" y="82"/>
                  </a:lnTo>
                  <a:lnTo>
                    <a:pt x="49" y="73"/>
                  </a:lnTo>
                  <a:lnTo>
                    <a:pt x="65" y="62"/>
                  </a:lnTo>
                  <a:lnTo>
                    <a:pt x="78" y="50"/>
                  </a:lnTo>
                  <a:lnTo>
                    <a:pt x="89" y="38"/>
                  </a:lnTo>
                  <a:lnTo>
                    <a:pt x="99" y="25"/>
                  </a:lnTo>
                  <a:lnTo>
                    <a:pt x="105" y="14"/>
                  </a:lnTo>
                  <a:lnTo>
                    <a:pt x="106" y="8"/>
                  </a:lnTo>
                  <a:lnTo>
                    <a:pt x="105" y="14"/>
                  </a:lnTo>
                  <a:lnTo>
                    <a:pt x="105" y="5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6"/>
                  </a:lnTo>
                  <a:lnTo>
                    <a:pt x="8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8445600" y="3526200"/>
              <a:ext cx="18720" cy="103320"/>
            </a:xfrm>
            <a:custGeom>
              <a:avLst/>
              <a:gdLst/>
              <a:ahLst/>
              <a:rect l="l" t="t" r="r" b="b"/>
              <a:pathLst>
                <a:path w="38" h="238">
                  <a:moveTo>
                    <a:pt x="17" y="0"/>
                  </a:moveTo>
                  <a:lnTo>
                    <a:pt x="17" y="0"/>
                  </a:lnTo>
                  <a:lnTo>
                    <a:pt x="3" y="61"/>
                  </a:lnTo>
                  <a:lnTo>
                    <a:pt x="0" y="115"/>
                  </a:lnTo>
                  <a:lnTo>
                    <a:pt x="3" y="171"/>
                  </a:lnTo>
                  <a:lnTo>
                    <a:pt x="10" y="238"/>
                  </a:lnTo>
                  <a:lnTo>
                    <a:pt x="31" y="235"/>
                  </a:lnTo>
                  <a:lnTo>
                    <a:pt x="24" y="171"/>
                  </a:lnTo>
                  <a:lnTo>
                    <a:pt x="21" y="115"/>
                  </a:lnTo>
                  <a:lnTo>
                    <a:pt x="24" y="63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8415000" y="3425400"/>
              <a:ext cx="39240" cy="10332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61" y="7"/>
                  </a:moveTo>
                  <a:lnTo>
                    <a:pt x="62" y="8"/>
                  </a:lnTo>
                  <a:lnTo>
                    <a:pt x="67" y="32"/>
                  </a:lnTo>
                  <a:lnTo>
                    <a:pt x="66" y="61"/>
                  </a:lnTo>
                  <a:lnTo>
                    <a:pt x="59" y="91"/>
                  </a:lnTo>
                  <a:lnTo>
                    <a:pt x="49" y="121"/>
                  </a:lnTo>
                  <a:lnTo>
                    <a:pt x="37" y="153"/>
                  </a:lnTo>
                  <a:lnTo>
                    <a:pt x="23" y="181"/>
                  </a:lnTo>
                  <a:lnTo>
                    <a:pt x="10" y="211"/>
                  </a:lnTo>
                  <a:lnTo>
                    <a:pt x="0" y="237"/>
                  </a:lnTo>
                  <a:lnTo>
                    <a:pt x="21" y="241"/>
                  </a:lnTo>
                  <a:lnTo>
                    <a:pt x="28" y="218"/>
                  </a:lnTo>
                  <a:lnTo>
                    <a:pt x="42" y="191"/>
                  </a:lnTo>
                  <a:lnTo>
                    <a:pt x="56" y="160"/>
                  </a:lnTo>
                  <a:lnTo>
                    <a:pt x="68" y="128"/>
                  </a:lnTo>
                  <a:lnTo>
                    <a:pt x="80" y="97"/>
                  </a:lnTo>
                  <a:lnTo>
                    <a:pt x="87" y="63"/>
                  </a:lnTo>
                  <a:lnTo>
                    <a:pt x="88" y="32"/>
                  </a:lnTo>
                  <a:lnTo>
                    <a:pt x="80" y="0"/>
                  </a:lnTo>
                  <a:lnTo>
                    <a:pt x="82" y="2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8417160" y="3399480"/>
              <a:ext cx="76680" cy="27720"/>
            </a:xfrm>
            <a:custGeom>
              <a:avLst/>
              <a:gdLst/>
              <a:ahLst/>
              <a:rect l="l" t="t" r="r" b="b"/>
              <a:pathLst>
                <a:path w="167" h="66">
                  <a:moveTo>
                    <a:pt x="1" y="21"/>
                  </a:moveTo>
                  <a:lnTo>
                    <a:pt x="0" y="21"/>
                  </a:lnTo>
                  <a:lnTo>
                    <a:pt x="15" y="25"/>
                  </a:lnTo>
                  <a:lnTo>
                    <a:pt x="34" y="29"/>
                  </a:lnTo>
                  <a:lnTo>
                    <a:pt x="58" y="35"/>
                  </a:lnTo>
                  <a:lnTo>
                    <a:pt x="85" y="42"/>
                  </a:lnTo>
                  <a:lnTo>
                    <a:pt x="109" y="49"/>
                  </a:lnTo>
                  <a:lnTo>
                    <a:pt x="130" y="56"/>
                  </a:lnTo>
                  <a:lnTo>
                    <a:pt x="143" y="64"/>
                  </a:lnTo>
                  <a:lnTo>
                    <a:pt x="146" y="66"/>
                  </a:lnTo>
                  <a:lnTo>
                    <a:pt x="167" y="61"/>
                  </a:lnTo>
                  <a:lnTo>
                    <a:pt x="154" y="47"/>
                  </a:lnTo>
                  <a:lnTo>
                    <a:pt x="137" y="37"/>
                  </a:lnTo>
                  <a:lnTo>
                    <a:pt x="113" y="28"/>
                  </a:lnTo>
                  <a:lnTo>
                    <a:pt x="89" y="20"/>
                  </a:lnTo>
                  <a:lnTo>
                    <a:pt x="62" y="14"/>
                  </a:lnTo>
                  <a:lnTo>
                    <a:pt x="38" y="8"/>
                  </a:lnTo>
                  <a:lnTo>
                    <a:pt x="17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8494560" y="3395160"/>
              <a:ext cx="60480" cy="12960"/>
            </a:xfrm>
            <a:custGeom>
              <a:avLst/>
              <a:gdLst/>
              <a:ahLst/>
              <a:rect l="l" t="t" r="r" b="b"/>
              <a:pathLst>
                <a:path w="132" h="30">
                  <a:moveTo>
                    <a:pt x="20" y="16"/>
                  </a:moveTo>
                  <a:lnTo>
                    <a:pt x="12" y="21"/>
                  </a:lnTo>
                  <a:lnTo>
                    <a:pt x="27" y="23"/>
                  </a:lnTo>
                  <a:lnTo>
                    <a:pt x="41" y="24"/>
                  </a:lnTo>
                  <a:lnTo>
                    <a:pt x="56" y="25"/>
                  </a:lnTo>
                  <a:lnTo>
                    <a:pt x="71" y="26"/>
                  </a:lnTo>
                  <a:lnTo>
                    <a:pt x="87" y="27"/>
                  </a:lnTo>
                  <a:lnTo>
                    <a:pt x="102" y="28"/>
                  </a:lnTo>
                  <a:lnTo>
                    <a:pt x="117" y="29"/>
                  </a:lnTo>
                  <a:lnTo>
                    <a:pt x="132" y="30"/>
                  </a:lnTo>
                  <a:lnTo>
                    <a:pt x="132" y="9"/>
                  </a:lnTo>
                  <a:lnTo>
                    <a:pt x="117" y="8"/>
                  </a:lnTo>
                  <a:lnTo>
                    <a:pt x="102" y="7"/>
                  </a:lnTo>
                  <a:lnTo>
                    <a:pt x="87" y="6"/>
                  </a:lnTo>
                  <a:lnTo>
                    <a:pt x="71" y="5"/>
                  </a:lnTo>
                  <a:lnTo>
                    <a:pt x="56" y="4"/>
                  </a:lnTo>
                  <a:lnTo>
                    <a:pt x="41" y="3"/>
                  </a:lnTo>
                  <a:lnTo>
                    <a:pt x="27" y="1"/>
                  </a:lnTo>
                  <a:lnTo>
                    <a:pt x="12" y="0"/>
                  </a:lnTo>
                  <a:lnTo>
                    <a:pt x="2" y="6"/>
                  </a:lnTo>
                  <a:lnTo>
                    <a:pt x="12" y="0"/>
                  </a:lnTo>
                  <a:lnTo>
                    <a:pt x="3" y="4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12" y="21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8501400" y="3500280"/>
              <a:ext cx="60480" cy="62280"/>
            </a:xfrm>
            <a:custGeom>
              <a:avLst/>
              <a:gdLst/>
              <a:ahLst/>
              <a:rect l="l" t="t" r="r" b="b"/>
              <a:pathLst>
                <a:path w="126" h="143">
                  <a:moveTo>
                    <a:pt x="110" y="123"/>
                  </a:moveTo>
                  <a:lnTo>
                    <a:pt x="116" y="122"/>
                  </a:lnTo>
                  <a:lnTo>
                    <a:pt x="102" y="120"/>
                  </a:lnTo>
                  <a:lnTo>
                    <a:pt x="89" y="111"/>
                  </a:lnTo>
                  <a:lnTo>
                    <a:pt x="77" y="97"/>
                  </a:lnTo>
                  <a:lnTo>
                    <a:pt x="62" y="77"/>
                  </a:lnTo>
                  <a:lnTo>
                    <a:pt x="50" y="58"/>
                  </a:lnTo>
                  <a:lnTo>
                    <a:pt x="39" y="37"/>
                  </a:lnTo>
                  <a:lnTo>
                    <a:pt x="28" y="17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9" y="26"/>
                  </a:lnTo>
                  <a:lnTo>
                    <a:pt x="20" y="46"/>
                  </a:lnTo>
                  <a:lnTo>
                    <a:pt x="31" y="67"/>
                  </a:lnTo>
                  <a:lnTo>
                    <a:pt x="46" y="90"/>
                  </a:lnTo>
                  <a:lnTo>
                    <a:pt x="60" y="110"/>
                  </a:lnTo>
                  <a:lnTo>
                    <a:pt x="76" y="127"/>
                  </a:lnTo>
                  <a:lnTo>
                    <a:pt x="96" y="138"/>
                  </a:lnTo>
                  <a:lnTo>
                    <a:pt x="116" y="143"/>
                  </a:lnTo>
                  <a:lnTo>
                    <a:pt x="120" y="142"/>
                  </a:lnTo>
                  <a:lnTo>
                    <a:pt x="116" y="143"/>
                  </a:lnTo>
                  <a:lnTo>
                    <a:pt x="123" y="140"/>
                  </a:lnTo>
                  <a:lnTo>
                    <a:pt x="126" y="133"/>
                  </a:lnTo>
                  <a:lnTo>
                    <a:pt x="123" y="125"/>
                  </a:lnTo>
                  <a:lnTo>
                    <a:pt x="116" y="122"/>
                  </a:lnTo>
                  <a:lnTo>
                    <a:pt x="11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8489880" y="3541320"/>
              <a:ext cx="20880" cy="2124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4"/>
                  </a:moveTo>
                  <a:lnTo>
                    <a:pt x="22" y="4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19" y="20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7" y="27"/>
                  </a:lnTo>
                  <a:lnTo>
                    <a:pt x="0" y="29"/>
                  </a:lnTo>
                  <a:lnTo>
                    <a:pt x="10" y="48"/>
                  </a:lnTo>
                  <a:lnTo>
                    <a:pt x="13" y="46"/>
                  </a:lnTo>
                  <a:lnTo>
                    <a:pt x="19" y="43"/>
                  </a:lnTo>
                  <a:lnTo>
                    <a:pt x="27" y="41"/>
                  </a:lnTo>
                  <a:lnTo>
                    <a:pt x="33" y="37"/>
                  </a:lnTo>
                  <a:lnTo>
                    <a:pt x="38" y="30"/>
                  </a:lnTo>
                  <a:lnTo>
                    <a:pt x="44" y="21"/>
                  </a:lnTo>
                  <a:lnTo>
                    <a:pt x="44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8489880" y="3434040"/>
              <a:ext cx="34560" cy="109080"/>
            </a:xfrm>
            <a:custGeom>
              <a:avLst/>
              <a:gdLst/>
              <a:ahLst/>
              <a:rect l="l" t="t" r="r" b="b"/>
              <a:pathLst>
                <a:path w="74" h="254">
                  <a:moveTo>
                    <a:pt x="0" y="14"/>
                  </a:moveTo>
                  <a:lnTo>
                    <a:pt x="26" y="46"/>
                  </a:lnTo>
                  <a:lnTo>
                    <a:pt x="39" y="69"/>
                  </a:lnTo>
                  <a:lnTo>
                    <a:pt x="42" y="88"/>
                  </a:lnTo>
                  <a:lnTo>
                    <a:pt x="42" y="110"/>
                  </a:lnTo>
                  <a:lnTo>
                    <a:pt x="40" y="136"/>
                  </a:lnTo>
                  <a:lnTo>
                    <a:pt x="39" y="165"/>
                  </a:lnTo>
                  <a:lnTo>
                    <a:pt x="41" y="203"/>
                  </a:lnTo>
                  <a:lnTo>
                    <a:pt x="53" y="254"/>
                  </a:lnTo>
                  <a:lnTo>
                    <a:pt x="74" y="250"/>
                  </a:lnTo>
                  <a:lnTo>
                    <a:pt x="62" y="201"/>
                  </a:lnTo>
                  <a:lnTo>
                    <a:pt x="60" y="165"/>
                  </a:lnTo>
                  <a:lnTo>
                    <a:pt x="61" y="136"/>
                  </a:lnTo>
                  <a:lnTo>
                    <a:pt x="63" y="110"/>
                  </a:lnTo>
                  <a:lnTo>
                    <a:pt x="63" y="88"/>
                  </a:lnTo>
                  <a:lnTo>
                    <a:pt x="58" y="62"/>
                  </a:lnTo>
                  <a:lnTo>
                    <a:pt x="42" y="34"/>
                  </a:lnTo>
                  <a:lnTo>
                    <a:pt x="1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8001360" y="2666520"/>
              <a:ext cx="304560" cy="511560"/>
            </a:xfrm>
            <a:custGeom>
              <a:avLst/>
              <a:gdLst/>
              <a:ahLst/>
              <a:rect l="l" t="t" r="r" b="b"/>
              <a:pathLst>
                <a:path w="652" h="1188">
                  <a:moveTo>
                    <a:pt x="106" y="43"/>
                  </a:moveTo>
                  <a:lnTo>
                    <a:pt x="127" y="33"/>
                  </a:lnTo>
                  <a:lnTo>
                    <a:pt x="151" y="23"/>
                  </a:lnTo>
                  <a:lnTo>
                    <a:pt x="175" y="16"/>
                  </a:lnTo>
                  <a:lnTo>
                    <a:pt x="201" y="9"/>
                  </a:lnTo>
                  <a:lnTo>
                    <a:pt x="229" y="3"/>
                  </a:lnTo>
                  <a:lnTo>
                    <a:pt x="256" y="1"/>
                  </a:lnTo>
                  <a:lnTo>
                    <a:pt x="285" y="0"/>
                  </a:lnTo>
                  <a:lnTo>
                    <a:pt x="313" y="2"/>
                  </a:lnTo>
                  <a:lnTo>
                    <a:pt x="342" y="6"/>
                  </a:lnTo>
                  <a:lnTo>
                    <a:pt x="367" y="13"/>
                  </a:lnTo>
                  <a:lnTo>
                    <a:pt x="394" y="22"/>
                  </a:lnTo>
                  <a:lnTo>
                    <a:pt x="418" y="34"/>
                  </a:lnTo>
                  <a:lnTo>
                    <a:pt x="440" y="51"/>
                  </a:lnTo>
                  <a:lnTo>
                    <a:pt x="460" y="70"/>
                  </a:lnTo>
                  <a:lnTo>
                    <a:pt x="478" y="92"/>
                  </a:lnTo>
                  <a:lnTo>
                    <a:pt x="493" y="118"/>
                  </a:lnTo>
                  <a:lnTo>
                    <a:pt x="514" y="183"/>
                  </a:lnTo>
                  <a:lnTo>
                    <a:pt x="529" y="251"/>
                  </a:lnTo>
                  <a:lnTo>
                    <a:pt x="539" y="323"/>
                  </a:lnTo>
                  <a:lnTo>
                    <a:pt x="546" y="396"/>
                  </a:lnTo>
                  <a:lnTo>
                    <a:pt x="551" y="470"/>
                  </a:lnTo>
                  <a:lnTo>
                    <a:pt x="557" y="542"/>
                  </a:lnTo>
                  <a:lnTo>
                    <a:pt x="565" y="613"/>
                  </a:lnTo>
                  <a:lnTo>
                    <a:pt x="576" y="680"/>
                  </a:lnTo>
                  <a:lnTo>
                    <a:pt x="586" y="722"/>
                  </a:lnTo>
                  <a:lnTo>
                    <a:pt x="598" y="773"/>
                  </a:lnTo>
                  <a:lnTo>
                    <a:pt x="615" y="829"/>
                  </a:lnTo>
                  <a:lnTo>
                    <a:pt x="630" y="888"/>
                  </a:lnTo>
                  <a:lnTo>
                    <a:pt x="643" y="947"/>
                  </a:lnTo>
                  <a:lnTo>
                    <a:pt x="651" y="1004"/>
                  </a:lnTo>
                  <a:lnTo>
                    <a:pt x="652" y="1055"/>
                  </a:lnTo>
                  <a:lnTo>
                    <a:pt x="644" y="1097"/>
                  </a:lnTo>
                  <a:lnTo>
                    <a:pt x="640" y="1108"/>
                  </a:lnTo>
                  <a:lnTo>
                    <a:pt x="632" y="1118"/>
                  </a:lnTo>
                  <a:lnTo>
                    <a:pt x="622" y="1128"/>
                  </a:lnTo>
                  <a:lnTo>
                    <a:pt x="611" y="1136"/>
                  </a:lnTo>
                  <a:lnTo>
                    <a:pt x="598" y="1144"/>
                  </a:lnTo>
                  <a:lnTo>
                    <a:pt x="586" y="1149"/>
                  </a:lnTo>
                  <a:lnTo>
                    <a:pt x="572" y="1154"/>
                  </a:lnTo>
                  <a:lnTo>
                    <a:pt x="560" y="1157"/>
                  </a:lnTo>
                  <a:lnTo>
                    <a:pt x="536" y="1165"/>
                  </a:lnTo>
                  <a:lnTo>
                    <a:pt x="509" y="1170"/>
                  </a:lnTo>
                  <a:lnTo>
                    <a:pt x="478" y="1175"/>
                  </a:lnTo>
                  <a:lnTo>
                    <a:pt x="446" y="1180"/>
                  </a:lnTo>
                  <a:lnTo>
                    <a:pt x="413" y="1184"/>
                  </a:lnTo>
                  <a:lnTo>
                    <a:pt x="377" y="1186"/>
                  </a:lnTo>
                  <a:lnTo>
                    <a:pt x="341" y="1187"/>
                  </a:lnTo>
                  <a:lnTo>
                    <a:pt x="304" y="1188"/>
                  </a:lnTo>
                  <a:lnTo>
                    <a:pt x="268" y="1187"/>
                  </a:lnTo>
                  <a:lnTo>
                    <a:pt x="231" y="1186"/>
                  </a:lnTo>
                  <a:lnTo>
                    <a:pt x="197" y="1184"/>
                  </a:lnTo>
                  <a:lnTo>
                    <a:pt x="162" y="1179"/>
                  </a:lnTo>
                  <a:lnTo>
                    <a:pt x="132" y="1174"/>
                  </a:lnTo>
                  <a:lnTo>
                    <a:pt x="102" y="1167"/>
                  </a:lnTo>
                  <a:lnTo>
                    <a:pt x="77" y="1160"/>
                  </a:lnTo>
                  <a:lnTo>
                    <a:pt x="54" y="1150"/>
                  </a:lnTo>
                  <a:lnTo>
                    <a:pt x="27" y="1129"/>
                  </a:lnTo>
                  <a:lnTo>
                    <a:pt x="10" y="1096"/>
                  </a:lnTo>
                  <a:lnTo>
                    <a:pt x="3" y="1055"/>
                  </a:lnTo>
                  <a:lnTo>
                    <a:pt x="0" y="1009"/>
                  </a:lnTo>
                  <a:lnTo>
                    <a:pt x="3" y="962"/>
                  </a:lnTo>
                  <a:lnTo>
                    <a:pt x="7" y="917"/>
                  </a:lnTo>
                  <a:lnTo>
                    <a:pt x="16" y="878"/>
                  </a:lnTo>
                  <a:lnTo>
                    <a:pt x="24" y="847"/>
                  </a:lnTo>
                  <a:lnTo>
                    <a:pt x="45" y="764"/>
                  </a:lnTo>
                  <a:lnTo>
                    <a:pt x="59" y="671"/>
                  </a:lnTo>
                  <a:lnTo>
                    <a:pt x="69" y="569"/>
                  </a:lnTo>
                  <a:lnTo>
                    <a:pt x="76" y="463"/>
                  </a:lnTo>
                  <a:lnTo>
                    <a:pt x="81" y="354"/>
                  </a:lnTo>
                  <a:lnTo>
                    <a:pt x="87" y="245"/>
                  </a:lnTo>
                  <a:lnTo>
                    <a:pt x="95" y="142"/>
                  </a:lnTo>
                  <a:lnTo>
                    <a:pt x="106" y="43"/>
                  </a:lnTo>
                  <a:close/>
                </a:path>
              </a:pathLst>
            </a:custGeom>
            <a:solidFill>
              <a:srgbClr val="ffff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8082360" y="2727000"/>
              <a:ext cx="65160" cy="169560"/>
            </a:xfrm>
            <a:custGeom>
              <a:avLst/>
              <a:gdLst/>
              <a:ahLst/>
              <a:rect l="l" t="t" r="r" b="b"/>
              <a:pathLst>
                <a:path w="144" h="397">
                  <a:moveTo>
                    <a:pt x="0" y="120"/>
                  </a:moveTo>
                  <a:lnTo>
                    <a:pt x="20" y="133"/>
                  </a:lnTo>
                  <a:lnTo>
                    <a:pt x="35" y="165"/>
                  </a:lnTo>
                  <a:lnTo>
                    <a:pt x="48" y="208"/>
                  </a:lnTo>
                  <a:lnTo>
                    <a:pt x="59" y="258"/>
                  </a:lnTo>
                  <a:lnTo>
                    <a:pt x="68" y="310"/>
                  </a:lnTo>
                  <a:lnTo>
                    <a:pt x="80" y="353"/>
                  </a:lnTo>
                  <a:lnTo>
                    <a:pt x="94" y="384"/>
                  </a:lnTo>
                  <a:lnTo>
                    <a:pt x="113" y="397"/>
                  </a:lnTo>
                  <a:lnTo>
                    <a:pt x="130" y="352"/>
                  </a:lnTo>
                  <a:lnTo>
                    <a:pt x="140" y="302"/>
                  </a:lnTo>
                  <a:lnTo>
                    <a:pt x="143" y="252"/>
                  </a:lnTo>
                  <a:lnTo>
                    <a:pt x="144" y="200"/>
                  </a:lnTo>
                  <a:lnTo>
                    <a:pt x="141" y="147"/>
                  </a:lnTo>
                  <a:lnTo>
                    <a:pt x="138" y="97"/>
                  </a:lnTo>
                  <a:lnTo>
                    <a:pt x="134" y="47"/>
                  </a:lnTo>
                  <a:lnTo>
                    <a:pt x="133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8091720" y="2774160"/>
              <a:ext cx="57960" cy="128520"/>
            </a:xfrm>
            <a:custGeom>
              <a:avLst/>
              <a:gdLst/>
              <a:ahLst/>
              <a:rect l="l" t="t" r="r" b="b"/>
              <a:pathLst>
                <a:path w="125" h="299">
                  <a:moveTo>
                    <a:pt x="105" y="284"/>
                  </a:moveTo>
                  <a:lnTo>
                    <a:pt x="116" y="278"/>
                  </a:lnTo>
                  <a:lnTo>
                    <a:pt x="104" y="268"/>
                  </a:lnTo>
                  <a:lnTo>
                    <a:pt x="91" y="240"/>
                  </a:lnTo>
                  <a:lnTo>
                    <a:pt x="81" y="198"/>
                  </a:lnTo>
                  <a:lnTo>
                    <a:pt x="71" y="148"/>
                  </a:lnTo>
                  <a:lnTo>
                    <a:pt x="61" y="97"/>
                  </a:lnTo>
                  <a:lnTo>
                    <a:pt x="47" y="53"/>
                  </a:lnTo>
                  <a:lnTo>
                    <a:pt x="30" y="18"/>
                  </a:lnTo>
                  <a:lnTo>
                    <a:pt x="3" y="0"/>
                  </a:lnTo>
                  <a:lnTo>
                    <a:pt x="0" y="21"/>
                  </a:lnTo>
                  <a:lnTo>
                    <a:pt x="13" y="31"/>
                  </a:lnTo>
                  <a:lnTo>
                    <a:pt x="28" y="60"/>
                  </a:lnTo>
                  <a:lnTo>
                    <a:pt x="40" y="103"/>
                  </a:lnTo>
                  <a:lnTo>
                    <a:pt x="50" y="151"/>
                  </a:lnTo>
                  <a:lnTo>
                    <a:pt x="60" y="203"/>
                  </a:lnTo>
                  <a:lnTo>
                    <a:pt x="72" y="247"/>
                  </a:lnTo>
                  <a:lnTo>
                    <a:pt x="88" y="280"/>
                  </a:lnTo>
                  <a:lnTo>
                    <a:pt x="113" y="299"/>
                  </a:lnTo>
                  <a:lnTo>
                    <a:pt x="124" y="294"/>
                  </a:lnTo>
                  <a:lnTo>
                    <a:pt x="113" y="299"/>
                  </a:lnTo>
                  <a:lnTo>
                    <a:pt x="122" y="297"/>
                  </a:lnTo>
                  <a:lnTo>
                    <a:pt x="125" y="290"/>
                  </a:lnTo>
                  <a:lnTo>
                    <a:pt x="123" y="282"/>
                  </a:lnTo>
                  <a:lnTo>
                    <a:pt x="116" y="278"/>
                  </a:lnTo>
                  <a:lnTo>
                    <a:pt x="105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8075520" y="2722680"/>
              <a:ext cx="25560" cy="178200"/>
            </a:xfrm>
            <a:custGeom>
              <a:avLst/>
              <a:gdLst/>
              <a:ahLst/>
              <a:rect l="l" t="t" r="r" b="b"/>
              <a:pathLst>
                <a:path w="52" h="413">
                  <a:moveTo>
                    <a:pt x="37" y="19"/>
                  </a:moveTo>
                  <a:lnTo>
                    <a:pt x="19" y="10"/>
                  </a:lnTo>
                  <a:lnTo>
                    <a:pt x="20" y="57"/>
                  </a:lnTo>
                  <a:lnTo>
                    <a:pt x="24" y="107"/>
                  </a:lnTo>
                  <a:lnTo>
                    <a:pt x="27" y="157"/>
                  </a:lnTo>
                  <a:lnTo>
                    <a:pt x="31" y="210"/>
                  </a:lnTo>
                  <a:lnTo>
                    <a:pt x="30" y="262"/>
                  </a:lnTo>
                  <a:lnTo>
                    <a:pt x="26" y="311"/>
                  </a:lnTo>
                  <a:lnTo>
                    <a:pt x="17" y="359"/>
                  </a:lnTo>
                  <a:lnTo>
                    <a:pt x="0" y="403"/>
                  </a:lnTo>
                  <a:lnTo>
                    <a:pt x="19" y="413"/>
                  </a:lnTo>
                  <a:lnTo>
                    <a:pt x="38" y="364"/>
                  </a:lnTo>
                  <a:lnTo>
                    <a:pt x="48" y="313"/>
                  </a:lnTo>
                  <a:lnTo>
                    <a:pt x="51" y="262"/>
                  </a:lnTo>
                  <a:lnTo>
                    <a:pt x="52" y="210"/>
                  </a:lnTo>
                  <a:lnTo>
                    <a:pt x="49" y="157"/>
                  </a:lnTo>
                  <a:lnTo>
                    <a:pt x="45" y="107"/>
                  </a:lnTo>
                  <a:lnTo>
                    <a:pt x="41" y="57"/>
                  </a:lnTo>
                  <a:lnTo>
                    <a:pt x="40" y="10"/>
                  </a:lnTo>
                  <a:lnTo>
                    <a:pt x="23" y="2"/>
                  </a:lnTo>
                  <a:lnTo>
                    <a:pt x="40" y="10"/>
                  </a:lnTo>
                  <a:lnTo>
                    <a:pt x="37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9" y="10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8082720" y="2722680"/>
              <a:ext cx="72000" cy="59760"/>
            </a:xfrm>
            <a:custGeom>
              <a:avLst/>
              <a:gdLst/>
              <a:ahLst/>
              <a:rect l="l" t="t" r="r" b="b"/>
              <a:pathLst>
                <a:path w="151" h="138">
                  <a:moveTo>
                    <a:pt x="12" y="117"/>
                  </a:moveTo>
                  <a:lnTo>
                    <a:pt x="18" y="135"/>
                  </a:lnTo>
                  <a:lnTo>
                    <a:pt x="151" y="17"/>
                  </a:lnTo>
                  <a:lnTo>
                    <a:pt x="137" y="0"/>
                  </a:lnTo>
                  <a:lnTo>
                    <a:pt x="3" y="119"/>
                  </a:lnTo>
                  <a:lnTo>
                    <a:pt x="9" y="138"/>
                  </a:lnTo>
                  <a:lnTo>
                    <a:pt x="3" y="119"/>
                  </a:lnTo>
                  <a:lnTo>
                    <a:pt x="0" y="128"/>
                  </a:lnTo>
                  <a:lnTo>
                    <a:pt x="2" y="134"/>
                  </a:lnTo>
                  <a:lnTo>
                    <a:pt x="9" y="138"/>
                  </a:lnTo>
                  <a:lnTo>
                    <a:pt x="18" y="135"/>
                  </a:lnTo>
                  <a:lnTo>
                    <a:pt x="1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8152920" y="2675160"/>
              <a:ext cx="97200" cy="221040"/>
            </a:xfrm>
            <a:custGeom>
              <a:avLst/>
              <a:gdLst/>
              <a:ahLst/>
              <a:rect l="l" t="t" r="r" b="b"/>
              <a:pathLst>
                <a:path w="212" h="512">
                  <a:moveTo>
                    <a:pt x="212" y="238"/>
                  </a:moveTo>
                  <a:lnTo>
                    <a:pt x="187" y="262"/>
                  </a:lnTo>
                  <a:lnTo>
                    <a:pt x="168" y="302"/>
                  </a:lnTo>
                  <a:lnTo>
                    <a:pt x="155" y="351"/>
                  </a:lnTo>
                  <a:lnTo>
                    <a:pt x="145" y="400"/>
                  </a:lnTo>
                  <a:lnTo>
                    <a:pt x="133" y="448"/>
                  </a:lnTo>
                  <a:lnTo>
                    <a:pt x="117" y="486"/>
                  </a:lnTo>
                  <a:lnTo>
                    <a:pt x="97" y="510"/>
                  </a:lnTo>
                  <a:lnTo>
                    <a:pt x="70" y="512"/>
                  </a:lnTo>
                  <a:lnTo>
                    <a:pt x="50" y="459"/>
                  </a:lnTo>
                  <a:lnTo>
                    <a:pt x="33" y="398"/>
                  </a:lnTo>
                  <a:lnTo>
                    <a:pt x="20" y="332"/>
                  </a:lnTo>
                  <a:lnTo>
                    <a:pt x="12" y="262"/>
                  </a:lnTo>
                  <a:lnTo>
                    <a:pt x="5" y="191"/>
                  </a:lnTo>
                  <a:lnTo>
                    <a:pt x="2" y="12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3" y="36"/>
                  </a:lnTo>
                  <a:lnTo>
                    <a:pt x="35" y="52"/>
                  </a:lnTo>
                  <a:lnTo>
                    <a:pt x="46" y="69"/>
                  </a:lnTo>
                  <a:lnTo>
                    <a:pt x="59" y="84"/>
                  </a:lnTo>
                  <a:lnTo>
                    <a:pt x="71" y="99"/>
                  </a:lnTo>
                  <a:lnTo>
                    <a:pt x="82" y="114"/>
                  </a:lnTo>
                  <a:lnTo>
                    <a:pt x="94" y="129"/>
                  </a:lnTo>
                  <a:lnTo>
                    <a:pt x="106" y="143"/>
                  </a:lnTo>
                  <a:lnTo>
                    <a:pt x="118" y="157"/>
                  </a:lnTo>
                  <a:lnTo>
                    <a:pt x="133" y="171"/>
                  </a:lnTo>
                  <a:lnTo>
                    <a:pt x="147" y="184"/>
                  </a:lnTo>
                  <a:lnTo>
                    <a:pt x="162" y="198"/>
                  </a:lnTo>
                  <a:lnTo>
                    <a:pt x="177" y="211"/>
                  </a:lnTo>
                  <a:lnTo>
                    <a:pt x="194" y="224"/>
                  </a:lnTo>
                  <a:lnTo>
                    <a:pt x="21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8150400" y="2774160"/>
              <a:ext cx="72000" cy="126360"/>
            </a:xfrm>
            <a:custGeom>
              <a:avLst/>
              <a:gdLst/>
              <a:ahLst/>
              <a:rect l="l" t="t" r="r" b="b"/>
              <a:pathLst>
                <a:path w="157" h="295">
                  <a:moveTo>
                    <a:pt x="1" y="289"/>
                  </a:moveTo>
                  <a:lnTo>
                    <a:pt x="8" y="295"/>
                  </a:lnTo>
                  <a:lnTo>
                    <a:pt x="43" y="292"/>
                  </a:lnTo>
                  <a:lnTo>
                    <a:pt x="68" y="263"/>
                  </a:lnTo>
                  <a:lnTo>
                    <a:pt x="85" y="222"/>
                  </a:lnTo>
                  <a:lnTo>
                    <a:pt x="96" y="174"/>
                  </a:lnTo>
                  <a:lnTo>
                    <a:pt x="107" y="125"/>
                  </a:lnTo>
                  <a:lnTo>
                    <a:pt x="118" y="77"/>
                  </a:lnTo>
                  <a:lnTo>
                    <a:pt x="136" y="40"/>
                  </a:lnTo>
                  <a:lnTo>
                    <a:pt x="157" y="19"/>
                  </a:lnTo>
                  <a:lnTo>
                    <a:pt x="148" y="0"/>
                  </a:lnTo>
                  <a:lnTo>
                    <a:pt x="119" y="29"/>
                  </a:lnTo>
                  <a:lnTo>
                    <a:pt x="99" y="71"/>
                  </a:lnTo>
                  <a:lnTo>
                    <a:pt x="86" y="121"/>
                  </a:lnTo>
                  <a:lnTo>
                    <a:pt x="75" y="170"/>
                  </a:lnTo>
                  <a:lnTo>
                    <a:pt x="63" y="217"/>
                  </a:lnTo>
                  <a:lnTo>
                    <a:pt x="49" y="254"/>
                  </a:lnTo>
                  <a:lnTo>
                    <a:pt x="34" y="273"/>
                  </a:lnTo>
                  <a:lnTo>
                    <a:pt x="13" y="274"/>
                  </a:lnTo>
                  <a:lnTo>
                    <a:pt x="20" y="279"/>
                  </a:lnTo>
                  <a:lnTo>
                    <a:pt x="13" y="274"/>
                  </a:lnTo>
                  <a:lnTo>
                    <a:pt x="4" y="276"/>
                  </a:lnTo>
                  <a:lnTo>
                    <a:pt x="0" y="282"/>
                  </a:lnTo>
                  <a:lnTo>
                    <a:pt x="1" y="291"/>
                  </a:lnTo>
                  <a:lnTo>
                    <a:pt x="8" y="295"/>
                  </a:lnTo>
                  <a:lnTo>
                    <a:pt x="1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8212320" y="2670840"/>
              <a:ext cx="42120" cy="227880"/>
            </a:xfrm>
            <a:custGeom>
              <a:avLst/>
              <a:gdLst/>
              <a:ahLst/>
              <a:rect l="l" t="t" r="r" b="b"/>
              <a:pathLst>
                <a:path w="90" h="527">
                  <a:moveTo>
                    <a:pt x="19" y="5"/>
                  </a:moveTo>
                  <a:lnTo>
                    <a:pt x="0" y="10"/>
                  </a:lnTo>
                  <a:lnTo>
                    <a:pt x="0" y="68"/>
                  </a:lnTo>
                  <a:lnTo>
                    <a:pt x="3" y="133"/>
                  </a:lnTo>
                  <a:lnTo>
                    <a:pt x="6" y="201"/>
                  </a:lnTo>
                  <a:lnTo>
                    <a:pt x="12" y="272"/>
                  </a:lnTo>
                  <a:lnTo>
                    <a:pt x="20" y="343"/>
                  </a:lnTo>
                  <a:lnTo>
                    <a:pt x="33" y="410"/>
                  </a:lnTo>
                  <a:lnTo>
                    <a:pt x="50" y="472"/>
                  </a:lnTo>
                  <a:lnTo>
                    <a:pt x="71" y="527"/>
                  </a:lnTo>
                  <a:lnTo>
                    <a:pt x="90" y="517"/>
                  </a:lnTo>
                  <a:lnTo>
                    <a:pt x="71" y="466"/>
                  </a:lnTo>
                  <a:lnTo>
                    <a:pt x="54" y="405"/>
                  </a:lnTo>
                  <a:lnTo>
                    <a:pt x="42" y="341"/>
                  </a:lnTo>
                  <a:lnTo>
                    <a:pt x="33" y="272"/>
                  </a:lnTo>
                  <a:lnTo>
                    <a:pt x="27" y="201"/>
                  </a:lnTo>
                  <a:lnTo>
                    <a:pt x="24" y="133"/>
                  </a:lnTo>
                  <a:lnTo>
                    <a:pt x="22" y="68"/>
                  </a:lnTo>
                  <a:lnTo>
                    <a:pt x="22" y="10"/>
                  </a:lnTo>
                  <a:lnTo>
                    <a:pt x="3" y="16"/>
                  </a:lnTo>
                  <a:lnTo>
                    <a:pt x="22" y="10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8145360" y="2673000"/>
              <a:ext cx="109440" cy="109440"/>
            </a:xfrm>
            <a:custGeom>
              <a:avLst/>
              <a:gdLst/>
              <a:ahLst/>
              <a:rect l="l" t="t" r="r" b="b"/>
              <a:pathLst>
                <a:path w="231" h="252">
                  <a:moveTo>
                    <a:pt x="224" y="252"/>
                  </a:moveTo>
                  <a:lnTo>
                    <a:pt x="226" y="234"/>
                  </a:lnTo>
                  <a:lnTo>
                    <a:pt x="209" y="222"/>
                  </a:lnTo>
                  <a:lnTo>
                    <a:pt x="193" y="208"/>
                  </a:lnTo>
                  <a:lnTo>
                    <a:pt x="176" y="194"/>
                  </a:lnTo>
                  <a:lnTo>
                    <a:pt x="162" y="180"/>
                  </a:lnTo>
                  <a:lnTo>
                    <a:pt x="148" y="169"/>
                  </a:lnTo>
                  <a:lnTo>
                    <a:pt x="134" y="155"/>
                  </a:lnTo>
                  <a:lnTo>
                    <a:pt x="122" y="141"/>
                  </a:lnTo>
                  <a:lnTo>
                    <a:pt x="110" y="127"/>
                  </a:lnTo>
                  <a:lnTo>
                    <a:pt x="99" y="114"/>
                  </a:lnTo>
                  <a:lnTo>
                    <a:pt x="87" y="98"/>
                  </a:lnTo>
                  <a:lnTo>
                    <a:pt x="75" y="83"/>
                  </a:lnTo>
                  <a:lnTo>
                    <a:pt x="63" y="67"/>
                  </a:lnTo>
                  <a:lnTo>
                    <a:pt x="51" y="52"/>
                  </a:lnTo>
                  <a:lnTo>
                    <a:pt x="40" y="35"/>
                  </a:lnTo>
                  <a:lnTo>
                    <a:pt x="28" y="17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1" y="28"/>
                  </a:lnTo>
                  <a:lnTo>
                    <a:pt x="23" y="46"/>
                  </a:lnTo>
                  <a:lnTo>
                    <a:pt x="34" y="63"/>
                  </a:lnTo>
                  <a:lnTo>
                    <a:pt x="47" y="79"/>
                  </a:lnTo>
                  <a:lnTo>
                    <a:pt x="59" y="95"/>
                  </a:lnTo>
                  <a:lnTo>
                    <a:pt x="70" y="111"/>
                  </a:lnTo>
                  <a:lnTo>
                    <a:pt x="82" y="126"/>
                  </a:lnTo>
                  <a:lnTo>
                    <a:pt x="94" y="141"/>
                  </a:lnTo>
                  <a:lnTo>
                    <a:pt x="105" y="155"/>
                  </a:lnTo>
                  <a:lnTo>
                    <a:pt x="120" y="169"/>
                  </a:lnTo>
                  <a:lnTo>
                    <a:pt x="134" y="184"/>
                  </a:lnTo>
                  <a:lnTo>
                    <a:pt x="148" y="197"/>
                  </a:lnTo>
                  <a:lnTo>
                    <a:pt x="162" y="210"/>
                  </a:lnTo>
                  <a:lnTo>
                    <a:pt x="179" y="225"/>
                  </a:lnTo>
                  <a:lnTo>
                    <a:pt x="196" y="237"/>
                  </a:lnTo>
                  <a:lnTo>
                    <a:pt x="214" y="250"/>
                  </a:lnTo>
                  <a:lnTo>
                    <a:pt x="215" y="233"/>
                  </a:lnTo>
                  <a:lnTo>
                    <a:pt x="214" y="250"/>
                  </a:lnTo>
                  <a:lnTo>
                    <a:pt x="222" y="252"/>
                  </a:lnTo>
                  <a:lnTo>
                    <a:pt x="228" y="247"/>
                  </a:lnTo>
                  <a:lnTo>
                    <a:pt x="231" y="242"/>
                  </a:lnTo>
                  <a:lnTo>
                    <a:pt x="226" y="234"/>
                  </a:lnTo>
                  <a:lnTo>
                    <a:pt x="224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8003880" y="3741120"/>
              <a:ext cx="167040" cy="320040"/>
            </a:xfrm>
            <a:custGeom>
              <a:avLst/>
              <a:gdLst/>
              <a:ahLst/>
              <a:rect l="l" t="t" r="r" b="b"/>
              <a:pathLst>
                <a:path w="360" h="747">
                  <a:moveTo>
                    <a:pt x="94" y="721"/>
                  </a:moveTo>
                  <a:lnTo>
                    <a:pt x="105" y="727"/>
                  </a:lnTo>
                  <a:lnTo>
                    <a:pt x="115" y="732"/>
                  </a:lnTo>
                  <a:lnTo>
                    <a:pt x="128" y="736"/>
                  </a:lnTo>
                  <a:lnTo>
                    <a:pt x="140" y="742"/>
                  </a:lnTo>
                  <a:lnTo>
                    <a:pt x="153" y="744"/>
                  </a:lnTo>
                  <a:lnTo>
                    <a:pt x="166" y="746"/>
                  </a:lnTo>
                  <a:lnTo>
                    <a:pt x="180" y="747"/>
                  </a:lnTo>
                  <a:lnTo>
                    <a:pt x="193" y="747"/>
                  </a:lnTo>
                  <a:lnTo>
                    <a:pt x="207" y="747"/>
                  </a:lnTo>
                  <a:lnTo>
                    <a:pt x="220" y="746"/>
                  </a:lnTo>
                  <a:lnTo>
                    <a:pt x="231" y="744"/>
                  </a:lnTo>
                  <a:lnTo>
                    <a:pt x="244" y="741"/>
                  </a:lnTo>
                  <a:lnTo>
                    <a:pt x="256" y="736"/>
                  </a:lnTo>
                  <a:lnTo>
                    <a:pt x="266" y="732"/>
                  </a:lnTo>
                  <a:lnTo>
                    <a:pt x="276" y="726"/>
                  </a:lnTo>
                  <a:lnTo>
                    <a:pt x="284" y="721"/>
                  </a:lnTo>
                  <a:lnTo>
                    <a:pt x="360" y="0"/>
                  </a:lnTo>
                  <a:lnTo>
                    <a:pt x="0" y="52"/>
                  </a:lnTo>
                  <a:lnTo>
                    <a:pt x="94" y="721"/>
                  </a:lnTo>
                  <a:close/>
                </a:path>
              </a:pathLst>
            </a:custGeom>
            <a:solidFill>
              <a:srgbClr val="ffb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8033760" y="4046400"/>
              <a:ext cx="95400" cy="21240"/>
            </a:xfrm>
            <a:custGeom>
              <a:avLst/>
              <a:gdLst/>
              <a:ahLst/>
              <a:rect l="l" t="t" r="r" b="b"/>
              <a:pathLst>
                <a:path w="207" h="49">
                  <a:moveTo>
                    <a:pt x="186" y="11"/>
                  </a:moveTo>
                  <a:lnTo>
                    <a:pt x="189" y="2"/>
                  </a:lnTo>
                  <a:lnTo>
                    <a:pt x="181" y="6"/>
                  </a:lnTo>
                  <a:lnTo>
                    <a:pt x="173" y="13"/>
                  </a:lnTo>
                  <a:lnTo>
                    <a:pt x="163" y="17"/>
                  </a:lnTo>
                  <a:lnTo>
                    <a:pt x="153" y="20"/>
                  </a:lnTo>
                  <a:lnTo>
                    <a:pt x="141" y="23"/>
                  </a:lnTo>
                  <a:lnTo>
                    <a:pt x="131" y="25"/>
                  </a:lnTo>
                  <a:lnTo>
                    <a:pt x="119" y="26"/>
                  </a:lnTo>
                  <a:lnTo>
                    <a:pt x="105" y="26"/>
                  </a:lnTo>
                  <a:lnTo>
                    <a:pt x="92" y="26"/>
                  </a:lnTo>
                  <a:lnTo>
                    <a:pt x="79" y="25"/>
                  </a:lnTo>
                  <a:lnTo>
                    <a:pt x="66" y="23"/>
                  </a:lnTo>
                  <a:lnTo>
                    <a:pt x="55" y="21"/>
                  </a:lnTo>
                  <a:lnTo>
                    <a:pt x="44" y="17"/>
                  </a:lnTo>
                  <a:lnTo>
                    <a:pt x="30" y="13"/>
                  </a:lnTo>
                  <a:lnTo>
                    <a:pt x="21" y="7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11" y="26"/>
                  </a:lnTo>
                  <a:lnTo>
                    <a:pt x="24" y="32"/>
                  </a:lnTo>
                  <a:lnTo>
                    <a:pt x="37" y="36"/>
                  </a:lnTo>
                  <a:lnTo>
                    <a:pt x="49" y="42"/>
                  </a:lnTo>
                  <a:lnTo>
                    <a:pt x="64" y="44"/>
                  </a:lnTo>
                  <a:lnTo>
                    <a:pt x="77" y="47"/>
                  </a:lnTo>
                  <a:lnTo>
                    <a:pt x="92" y="49"/>
                  </a:lnTo>
                  <a:lnTo>
                    <a:pt x="105" y="49"/>
                  </a:lnTo>
                  <a:lnTo>
                    <a:pt x="119" y="49"/>
                  </a:lnTo>
                  <a:lnTo>
                    <a:pt x="133" y="47"/>
                  </a:lnTo>
                  <a:lnTo>
                    <a:pt x="147" y="44"/>
                  </a:lnTo>
                  <a:lnTo>
                    <a:pt x="158" y="41"/>
                  </a:lnTo>
                  <a:lnTo>
                    <a:pt x="171" y="36"/>
                  </a:lnTo>
                  <a:lnTo>
                    <a:pt x="182" y="32"/>
                  </a:lnTo>
                  <a:lnTo>
                    <a:pt x="193" y="25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4" y="3"/>
                  </a:lnTo>
                  <a:lnTo>
                    <a:pt x="197" y="0"/>
                  </a:lnTo>
                  <a:lnTo>
                    <a:pt x="189" y="2"/>
                  </a:lnTo>
                  <a:lnTo>
                    <a:pt x="18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7997040" y="3736800"/>
              <a:ext cx="46080" cy="313560"/>
            </a:xfrm>
            <a:custGeom>
              <a:avLst/>
              <a:gdLst/>
              <a:ahLst/>
              <a:rect l="l" t="t" r="r" b="b"/>
              <a:pathLst>
                <a:path w="97" h="731">
                  <a:moveTo>
                    <a:pt x="87" y="21"/>
                  </a:moveTo>
                  <a:lnTo>
                    <a:pt x="76" y="10"/>
                  </a:lnTo>
                  <a:lnTo>
                    <a:pt x="0" y="731"/>
                  </a:lnTo>
                  <a:lnTo>
                    <a:pt x="21" y="731"/>
                  </a:lnTo>
                  <a:lnTo>
                    <a:pt x="97" y="10"/>
                  </a:lnTo>
                  <a:lnTo>
                    <a:pt x="85" y="0"/>
                  </a:lnTo>
                  <a:lnTo>
                    <a:pt x="97" y="10"/>
                  </a:lnTo>
                  <a:lnTo>
                    <a:pt x="94" y="2"/>
                  </a:lnTo>
                  <a:lnTo>
                    <a:pt x="86" y="0"/>
                  </a:lnTo>
                  <a:lnTo>
                    <a:pt x="79" y="2"/>
                  </a:lnTo>
                  <a:lnTo>
                    <a:pt x="76" y="10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8001720" y="3736800"/>
              <a:ext cx="174240" cy="32040"/>
            </a:xfrm>
            <a:custGeom>
              <a:avLst/>
              <a:gdLst/>
              <a:ahLst/>
              <a:rect l="l" t="t" r="r" b="b"/>
              <a:pathLst>
                <a:path w="371" h="74">
                  <a:moveTo>
                    <a:pt x="21" y="61"/>
                  </a:moveTo>
                  <a:lnTo>
                    <a:pt x="11" y="74"/>
                  </a:lnTo>
                  <a:lnTo>
                    <a:pt x="371" y="21"/>
                  </a:lnTo>
                  <a:lnTo>
                    <a:pt x="369" y="0"/>
                  </a:lnTo>
                  <a:lnTo>
                    <a:pt x="9" y="52"/>
                  </a:lnTo>
                  <a:lnTo>
                    <a:pt x="0" y="64"/>
                  </a:lnTo>
                  <a:lnTo>
                    <a:pt x="9" y="52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3" y="71"/>
                  </a:lnTo>
                  <a:lnTo>
                    <a:pt x="11" y="74"/>
                  </a:lnTo>
                  <a:lnTo>
                    <a:pt x="2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8121960" y="3762720"/>
              <a:ext cx="53640" cy="292320"/>
            </a:xfrm>
            <a:custGeom>
              <a:avLst/>
              <a:gdLst/>
              <a:ahLst/>
              <a:rect l="l" t="t" r="r" b="b"/>
              <a:pathLst>
                <a:path w="115" h="680">
                  <a:moveTo>
                    <a:pt x="109" y="661"/>
                  </a:moveTo>
                  <a:lnTo>
                    <a:pt x="115" y="669"/>
                  </a:lnTo>
                  <a:lnTo>
                    <a:pt x="21" y="0"/>
                  </a:lnTo>
                  <a:lnTo>
                    <a:pt x="0" y="3"/>
                  </a:lnTo>
                  <a:lnTo>
                    <a:pt x="94" y="671"/>
                  </a:lnTo>
                  <a:lnTo>
                    <a:pt x="98" y="678"/>
                  </a:lnTo>
                  <a:lnTo>
                    <a:pt x="94" y="671"/>
                  </a:lnTo>
                  <a:lnTo>
                    <a:pt x="97" y="678"/>
                  </a:lnTo>
                  <a:lnTo>
                    <a:pt x="105" y="680"/>
                  </a:lnTo>
                  <a:lnTo>
                    <a:pt x="113" y="676"/>
                  </a:lnTo>
                  <a:lnTo>
                    <a:pt x="115" y="669"/>
                  </a:lnTo>
                  <a:lnTo>
                    <a:pt x="109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8120160" y="3758400"/>
              <a:ext cx="176400" cy="352800"/>
            </a:xfrm>
            <a:custGeom>
              <a:avLst/>
              <a:gdLst/>
              <a:ahLst/>
              <a:rect l="l" t="t" r="r" b="b"/>
              <a:pathLst>
                <a:path w="379" h="819">
                  <a:moveTo>
                    <a:pt x="0" y="11"/>
                  </a:moveTo>
                  <a:lnTo>
                    <a:pt x="157" y="783"/>
                  </a:lnTo>
                  <a:lnTo>
                    <a:pt x="168" y="790"/>
                  </a:lnTo>
                  <a:lnTo>
                    <a:pt x="178" y="796"/>
                  </a:lnTo>
                  <a:lnTo>
                    <a:pt x="192" y="802"/>
                  </a:lnTo>
                  <a:lnTo>
                    <a:pt x="204" y="806"/>
                  </a:lnTo>
                  <a:lnTo>
                    <a:pt x="218" y="812"/>
                  </a:lnTo>
                  <a:lnTo>
                    <a:pt x="233" y="814"/>
                  </a:lnTo>
                  <a:lnTo>
                    <a:pt x="248" y="816"/>
                  </a:lnTo>
                  <a:lnTo>
                    <a:pt x="264" y="817"/>
                  </a:lnTo>
                  <a:lnTo>
                    <a:pt x="278" y="819"/>
                  </a:lnTo>
                  <a:lnTo>
                    <a:pt x="294" y="819"/>
                  </a:lnTo>
                  <a:lnTo>
                    <a:pt x="309" y="816"/>
                  </a:lnTo>
                  <a:lnTo>
                    <a:pt x="325" y="814"/>
                  </a:lnTo>
                  <a:lnTo>
                    <a:pt x="339" y="811"/>
                  </a:lnTo>
                  <a:lnTo>
                    <a:pt x="353" y="805"/>
                  </a:lnTo>
                  <a:lnTo>
                    <a:pt x="366" y="800"/>
                  </a:lnTo>
                  <a:lnTo>
                    <a:pt x="379" y="793"/>
                  </a:lnTo>
                  <a:lnTo>
                    <a:pt x="36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8219880" y="3762720"/>
              <a:ext cx="81000" cy="337680"/>
            </a:xfrm>
            <a:custGeom>
              <a:avLst/>
              <a:gdLst/>
              <a:ahLst/>
              <a:rect l="l" t="t" r="r" b="b"/>
              <a:pathLst>
                <a:path w="179" h="784">
                  <a:moveTo>
                    <a:pt x="174" y="765"/>
                  </a:moveTo>
                  <a:lnTo>
                    <a:pt x="179" y="772"/>
                  </a:lnTo>
                  <a:lnTo>
                    <a:pt x="21" y="0"/>
                  </a:lnTo>
                  <a:lnTo>
                    <a:pt x="0" y="3"/>
                  </a:lnTo>
                  <a:lnTo>
                    <a:pt x="157" y="774"/>
                  </a:lnTo>
                  <a:lnTo>
                    <a:pt x="163" y="782"/>
                  </a:lnTo>
                  <a:lnTo>
                    <a:pt x="157" y="774"/>
                  </a:lnTo>
                  <a:lnTo>
                    <a:pt x="162" y="782"/>
                  </a:lnTo>
                  <a:lnTo>
                    <a:pt x="169" y="784"/>
                  </a:lnTo>
                  <a:lnTo>
                    <a:pt x="176" y="780"/>
                  </a:lnTo>
                  <a:lnTo>
                    <a:pt x="179" y="772"/>
                  </a:lnTo>
                  <a:lnTo>
                    <a:pt x="174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8115480" y="4091760"/>
              <a:ext cx="111600" cy="23040"/>
            </a:xfrm>
            <a:custGeom>
              <a:avLst/>
              <a:gdLst/>
              <a:ahLst/>
              <a:rect l="l" t="t" r="r" b="b"/>
              <a:pathLst>
                <a:path w="237" h="55">
                  <a:moveTo>
                    <a:pt x="216" y="18"/>
                  </a:moveTo>
                  <a:lnTo>
                    <a:pt x="220" y="9"/>
                  </a:lnTo>
                  <a:lnTo>
                    <a:pt x="209" y="15"/>
                  </a:lnTo>
                  <a:lnTo>
                    <a:pt x="197" y="21"/>
                  </a:lnTo>
                  <a:lnTo>
                    <a:pt x="184" y="25"/>
                  </a:lnTo>
                  <a:lnTo>
                    <a:pt x="172" y="28"/>
                  </a:lnTo>
                  <a:lnTo>
                    <a:pt x="156" y="30"/>
                  </a:lnTo>
                  <a:lnTo>
                    <a:pt x="142" y="33"/>
                  </a:lnTo>
                  <a:lnTo>
                    <a:pt x="126" y="33"/>
                  </a:lnTo>
                  <a:lnTo>
                    <a:pt x="112" y="31"/>
                  </a:lnTo>
                  <a:lnTo>
                    <a:pt x="97" y="30"/>
                  </a:lnTo>
                  <a:lnTo>
                    <a:pt x="82" y="28"/>
                  </a:lnTo>
                  <a:lnTo>
                    <a:pt x="69" y="26"/>
                  </a:lnTo>
                  <a:lnTo>
                    <a:pt x="55" y="21"/>
                  </a:lnTo>
                  <a:lnTo>
                    <a:pt x="43" y="18"/>
                  </a:lnTo>
                  <a:lnTo>
                    <a:pt x="31" y="11"/>
                  </a:lnTo>
                  <a:lnTo>
                    <a:pt x="22" y="6"/>
                  </a:lnTo>
                  <a:lnTo>
                    <a:pt x="11" y="0"/>
                  </a:lnTo>
                  <a:lnTo>
                    <a:pt x="0" y="17"/>
                  </a:lnTo>
                  <a:lnTo>
                    <a:pt x="10" y="25"/>
                  </a:lnTo>
                  <a:lnTo>
                    <a:pt x="22" y="30"/>
                  </a:lnTo>
                  <a:lnTo>
                    <a:pt x="36" y="37"/>
                  </a:lnTo>
                  <a:lnTo>
                    <a:pt x="50" y="42"/>
                  </a:lnTo>
                  <a:lnTo>
                    <a:pt x="64" y="47"/>
                  </a:lnTo>
                  <a:lnTo>
                    <a:pt x="80" y="49"/>
                  </a:lnTo>
                  <a:lnTo>
                    <a:pt x="95" y="51"/>
                  </a:lnTo>
                  <a:lnTo>
                    <a:pt x="112" y="52"/>
                  </a:lnTo>
                  <a:lnTo>
                    <a:pt x="126" y="55"/>
                  </a:lnTo>
                  <a:lnTo>
                    <a:pt x="142" y="55"/>
                  </a:lnTo>
                  <a:lnTo>
                    <a:pt x="158" y="51"/>
                  </a:lnTo>
                  <a:lnTo>
                    <a:pt x="174" y="49"/>
                  </a:lnTo>
                  <a:lnTo>
                    <a:pt x="189" y="46"/>
                  </a:lnTo>
                  <a:lnTo>
                    <a:pt x="205" y="40"/>
                  </a:lnTo>
                  <a:lnTo>
                    <a:pt x="218" y="34"/>
                  </a:lnTo>
                  <a:lnTo>
                    <a:pt x="233" y="26"/>
                  </a:lnTo>
                  <a:lnTo>
                    <a:pt x="237" y="18"/>
                  </a:lnTo>
                  <a:lnTo>
                    <a:pt x="233" y="26"/>
                  </a:lnTo>
                  <a:lnTo>
                    <a:pt x="237" y="19"/>
                  </a:lnTo>
                  <a:lnTo>
                    <a:pt x="235" y="11"/>
                  </a:lnTo>
                  <a:lnTo>
                    <a:pt x="229" y="8"/>
                  </a:lnTo>
                  <a:lnTo>
                    <a:pt x="220" y="9"/>
                  </a:lnTo>
                  <a:lnTo>
                    <a:pt x="2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8114760" y="3754440"/>
              <a:ext cx="18360" cy="345960"/>
            </a:xfrm>
            <a:custGeom>
              <a:avLst/>
              <a:gdLst/>
              <a:ahLst/>
              <a:rect l="l" t="t" r="r" b="b"/>
              <a:pathLst>
                <a:path w="38" h="804">
                  <a:moveTo>
                    <a:pt x="11" y="21"/>
                  </a:moveTo>
                  <a:lnTo>
                    <a:pt x="0" y="11"/>
                  </a:lnTo>
                  <a:lnTo>
                    <a:pt x="17" y="804"/>
                  </a:lnTo>
                  <a:lnTo>
                    <a:pt x="38" y="804"/>
                  </a:lnTo>
                  <a:lnTo>
                    <a:pt x="21" y="11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8129160" y="3754440"/>
              <a:ext cx="171720" cy="14400"/>
            </a:xfrm>
            <a:custGeom>
              <a:avLst/>
              <a:gdLst/>
              <a:ahLst/>
              <a:rect l="l" t="t" r="r" b="b"/>
              <a:pathLst>
                <a:path w="373" h="34">
                  <a:moveTo>
                    <a:pt x="21" y="21"/>
                  </a:moveTo>
                  <a:lnTo>
                    <a:pt x="11" y="34"/>
                  </a:lnTo>
                  <a:lnTo>
                    <a:pt x="373" y="21"/>
                  </a:lnTo>
                  <a:lnTo>
                    <a:pt x="373" y="0"/>
                  </a:lnTo>
                  <a:lnTo>
                    <a:pt x="11" y="12"/>
                  </a:lnTo>
                  <a:lnTo>
                    <a:pt x="0" y="24"/>
                  </a:lnTo>
                  <a:lnTo>
                    <a:pt x="11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11" y="34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7887600" y="3150000"/>
              <a:ext cx="476640" cy="633960"/>
            </a:xfrm>
            <a:custGeom>
              <a:avLst/>
              <a:gdLst/>
              <a:ahLst/>
              <a:rect l="l" t="t" r="r" b="b"/>
              <a:pathLst>
                <a:path w="1022" h="1476">
                  <a:moveTo>
                    <a:pt x="154" y="0"/>
                  </a:moveTo>
                  <a:lnTo>
                    <a:pt x="185" y="12"/>
                  </a:lnTo>
                  <a:lnTo>
                    <a:pt x="218" y="24"/>
                  </a:lnTo>
                  <a:lnTo>
                    <a:pt x="252" y="33"/>
                  </a:lnTo>
                  <a:lnTo>
                    <a:pt x="289" y="41"/>
                  </a:lnTo>
                  <a:lnTo>
                    <a:pt x="327" y="46"/>
                  </a:lnTo>
                  <a:lnTo>
                    <a:pt x="367" y="50"/>
                  </a:lnTo>
                  <a:lnTo>
                    <a:pt x="407" y="51"/>
                  </a:lnTo>
                  <a:lnTo>
                    <a:pt x="448" y="52"/>
                  </a:lnTo>
                  <a:lnTo>
                    <a:pt x="488" y="50"/>
                  </a:lnTo>
                  <a:lnTo>
                    <a:pt x="529" y="47"/>
                  </a:lnTo>
                  <a:lnTo>
                    <a:pt x="569" y="43"/>
                  </a:lnTo>
                  <a:lnTo>
                    <a:pt x="608" y="37"/>
                  </a:lnTo>
                  <a:lnTo>
                    <a:pt x="646" y="30"/>
                  </a:lnTo>
                  <a:lnTo>
                    <a:pt x="683" y="21"/>
                  </a:lnTo>
                  <a:lnTo>
                    <a:pt x="717" y="11"/>
                  </a:lnTo>
                  <a:lnTo>
                    <a:pt x="751" y="0"/>
                  </a:lnTo>
                  <a:lnTo>
                    <a:pt x="754" y="14"/>
                  </a:lnTo>
                  <a:lnTo>
                    <a:pt x="763" y="60"/>
                  </a:lnTo>
                  <a:lnTo>
                    <a:pt x="775" y="128"/>
                  </a:lnTo>
                  <a:lnTo>
                    <a:pt x="793" y="218"/>
                  </a:lnTo>
                  <a:lnTo>
                    <a:pt x="814" y="325"/>
                  </a:lnTo>
                  <a:lnTo>
                    <a:pt x="836" y="443"/>
                  </a:lnTo>
                  <a:lnTo>
                    <a:pt x="862" y="570"/>
                  </a:lnTo>
                  <a:lnTo>
                    <a:pt x="887" y="700"/>
                  </a:lnTo>
                  <a:lnTo>
                    <a:pt x="911" y="831"/>
                  </a:lnTo>
                  <a:lnTo>
                    <a:pt x="937" y="958"/>
                  </a:lnTo>
                  <a:lnTo>
                    <a:pt x="959" y="1077"/>
                  </a:lnTo>
                  <a:lnTo>
                    <a:pt x="980" y="1182"/>
                  </a:lnTo>
                  <a:lnTo>
                    <a:pt x="998" y="1272"/>
                  </a:lnTo>
                  <a:lnTo>
                    <a:pt x="1011" y="1342"/>
                  </a:lnTo>
                  <a:lnTo>
                    <a:pt x="1019" y="1386"/>
                  </a:lnTo>
                  <a:lnTo>
                    <a:pt x="1022" y="1402"/>
                  </a:lnTo>
                  <a:lnTo>
                    <a:pt x="997" y="1409"/>
                  </a:lnTo>
                  <a:lnTo>
                    <a:pt x="968" y="1416"/>
                  </a:lnTo>
                  <a:lnTo>
                    <a:pt x="940" y="1423"/>
                  </a:lnTo>
                  <a:lnTo>
                    <a:pt x="910" y="1429"/>
                  </a:lnTo>
                  <a:lnTo>
                    <a:pt x="880" y="1436"/>
                  </a:lnTo>
                  <a:lnTo>
                    <a:pt x="848" y="1442"/>
                  </a:lnTo>
                  <a:lnTo>
                    <a:pt x="815" y="1447"/>
                  </a:lnTo>
                  <a:lnTo>
                    <a:pt x="783" y="1453"/>
                  </a:lnTo>
                  <a:lnTo>
                    <a:pt x="748" y="1457"/>
                  </a:lnTo>
                  <a:lnTo>
                    <a:pt x="714" y="1462"/>
                  </a:lnTo>
                  <a:lnTo>
                    <a:pt x="680" y="1465"/>
                  </a:lnTo>
                  <a:lnTo>
                    <a:pt x="644" y="1469"/>
                  </a:lnTo>
                  <a:lnTo>
                    <a:pt x="609" y="1472"/>
                  </a:lnTo>
                  <a:lnTo>
                    <a:pt x="572" y="1474"/>
                  </a:lnTo>
                  <a:lnTo>
                    <a:pt x="538" y="1475"/>
                  </a:lnTo>
                  <a:lnTo>
                    <a:pt x="501" y="1476"/>
                  </a:lnTo>
                  <a:lnTo>
                    <a:pt x="466" y="1476"/>
                  </a:lnTo>
                  <a:lnTo>
                    <a:pt x="430" y="1476"/>
                  </a:lnTo>
                  <a:lnTo>
                    <a:pt x="395" y="1475"/>
                  </a:lnTo>
                  <a:lnTo>
                    <a:pt x="359" y="1473"/>
                  </a:lnTo>
                  <a:lnTo>
                    <a:pt x="325" y="1470"/>
                  </a:lnTo>
                  <a:lnTo>
                    <a:pt x="292" y="1466"/>
                  </a:lnTo>
                  <a:lnTo>
                    <a:pt x="258" y="1462"/>
                  </a:lnTo>
                  <a:lnTo>
                    <a:pt x="225" y="1456"/>
                  </a:lnTo>
                  <a:lnTo>
                    <a:pt x="193" y="1450"/>
                  </a:lnTo>
                  <a:lnTo>
                    <a:pt x="163" y="1443"/>
                  </a:lnTo>
                  <a:lnTo>
                    <a:pt x="132" y="1435"/>
                  </a:lnTo>
                  <a:lnTo>
                    <a:pt x="104" y="1425"/>
                  </a:lnTo>
                  <a:lnTo>
                    <a:pt x="75" y="1415"/>
                  </a:lnTo>
                  <a:lnTo>
                    <a:pt x="49" y="1403"/>
                  </a:lnTo>
                  <a:lnTo>
                    <a:pt x="23" y="1390"/>
                  </a:lnTo>
                  <a:lnTo>
                    <a:pt x="0" y="137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12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8007840" y="3146040"/>
              <a:ext cx="286200" cy="32040"/>
            </a:xfrm>
            <a:custGeom>
              <a:avLst/>
              <a:gdLst/>
              <a:ahLst/>
              <a:rect l="l" t="t" r="r" b="b"/>
              <a:pathLst>
                <a:path w="611" h="73">
                  <a:moveTo>
                    <a:pt x="611" y="7"/>
                  </a:moveTo>
                  <a:lnTo>
                    <a:pt x="597" y="0"/>
                  </a:lnTo>
                  <a:lnTo>
                    <a:pt x="565" y="11"/>
                  </a:lnTo>
                  <a:lnTo>
                    <a:pt x="531" y="20"/>
                  </a:lnTo>
                  <a:lnTo>
                    <a:pt x="494" y="30"/>
                  </a:lnTo>
                  <a:lnTo>
                    <a:pt x="456" y="36"/>
                  </a:lnTo>
                  <a:lnTo>
                    <a:pt x="418" y="42"/>
                  </a:lnTo>
                  <a:lnTo>
                    <a:pt x="379" y="47"/>
                  </a:lnTo>
                  <a:lnTo>
                    <a:pt x="338" y="50"/>
                  </a:lnTo>
                  <a:lnTo>
                    <a:pt x="298" y="52"/>
                  </a:lnTo>
                  <a:lnTo>
                    <a:pt x="257" y="51"/>
                  </a:lnTo>
                  <a:lnTo>
                    <a:pt x="217" y="50"/>
                  </a:lnTo>
                  <a:lnTo>
                    <a:pt x="179" y="45"/>
                  </a:lnTo>
                  <a:lnTo>
                    <a:pt x="142" y="40"/>
                  </a:lnTo>
                  <a:lnTo>
                    <a:pt x="105" y="33"/>
                  </a:lnTo>
                  <a:lnTo>
                    <a:pt x="71" y="23"/>
                  </a:lnTo>
                  <a:lnTo>
                    <a:pt x="39" y="13"/>
                  </a:lnTo>
                  <a:lnTo>
                    <a:pt x="10" y="0"/>
                  </a:lnTo>
                  <a:lnTo>
                    <a:pt x="0" y="18"/>
                  </a:lnTo>
                  <a:lnTo>
                    <a:pt x="32" y="32"/>
                  </a:lnTo>
                  <a:lnTo>
                    <a:pt x="66" y="44"/>
                  </a:lnTo>
                  <a:lnTo>
                    <a:pt x="99" y="54"/>
                  </a:lnTo>
                  <a:lnTo>
                    <a:pt x="138" y="61"/>
                  </a:lnTo>
                  <a:lnTo>
                    <a:pt x="176" y="67"/>
                  </a:lnTo>
                  <a:lnTo>
                    <a:pt x="217" y="71"/>
                  </a:lnTo>
                  <a:lnTo>
                    <a:pt x="257" y="72"/>
                  </a:lnTo>
                  <a:lnTo>
                    <a:pt x="298" y="73"/>
                  </a:lnTo>
                  <a:lnTo>
                    <a:pt x="338" y="71"/>
                  </a:lnTo>
                  <a:lnTo>
                    <a:pt x="379" y="68"/>
                  </a:lnTo>
                  <a:lnTo>
                    <a:pt x="420" y="63"/>
                  </a:lnTo>
                  <a:lnTo>
                    <a:pt x="459" y="57"/>
                  </a:lnTo>
                  <a:lnTo>
                    <a:pt x="500" y="51"/>
                  </a:lnTo>
                  <a:lnTo>
                    <a:pt x="535" y="41"/>
                  </a:lnTo>
                  <a:lnTo>
                    <a:pt x="570" y="32"/>
                  </a:lnTo>
                  <a:lnTo>
                    <a:pt x="604" y="18"/>
                  </a:lnTo>
                  <a:lnTo>
                    <a:pt x="590" y="11"/>
                  </a:lnTo>
                  <a:lnTo>
                    <a:pt x="604" y="18"/>
                  </a:lnTo>
                  <a:lnTo>
                    <a:pt x="610" y="13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6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7882920" y="3148200"/>
              <a:ext cx="136800" cy="608040"/>
            </a:xfrm>
            <a:custGeom>
              <a:avLst/>
              <a:gdLst/>
              <a:ahLst/>
              <a:rect l="l" t="t" r="r" b="b"/>
              <a:pathLst>
                <a:path w="293" h="1415">
                  <a:moveTo>
                    <a:pt x="284" y="1415"/>
                  </a:moveTo>
                  <a:lnTo>
                    <a:pt x="293" y="1404"/>
                  </a:lnTo>
                  <a:lnTo>
                    <a:pt x="290" y="1388"/>
                  </a:lnTo>
                  <a:lnTo>
                    <a:pt x="281" y="1344"/>
                  </a:lnTo>
                  <a:lnTo>
                    <a:pt x="269" y="1274"/>
                  </a:lnTo>
                  <a:lnTo>
                    <a:pt x="251" y="1184"/>
                  </a:lnTo>
                  <a:lnTo>
                    <a:pt x="230" y="1078"/>
                  </a:lnTo>
                  <a:lnTo>
                    <a:pt x="207" y="960"/>
                  </a:lnTo>
                  <a:lnTo>
                    <a:pt x="182" y="833"/>
                  </a:lnTo>
                  <a:lnTo>
                    <a:pt x="158" y="702"/>
                  </a:lnTo>
                  <a:lnTo>
                    <a:pt x="131" y="572"/>
                  </a:lnTo>
                  <a:lnTo>
                    <a:pt x="107" y="444"/>
                  </a:lnTo>
                  <a:lnTo>
                    <a:pt x="85" y="327"/>
                  </a:lnTo>
                  <a:lnTo>
                    <a:pt x="64" y="220"/>
                  </a:lnTo>
                  <a:lnTo>
                    <a:pt x="46" y="130"/>
                  </a:lnTo>
                  <a:lnTo>
                    <a:pt x="33" y="61"/>
                  </a:lnTo>
                  <a:lnTo>
                    <a:pt x="25" y="16"/>
                  </a:lnTo>
                  <a:lnTo>
                    <a:pt x="21" y="0"/>
                  </a:lnTo>
                  <a:lnTo>
                    <a:pt x="0" y="4"/>
                  </a:lnTo>
                  <a:lnTo>
                    <a:pt x="4" y="18"/>
                  </a:lnTo>
                  <a:lnTo>
                    <a:pt x="12" y="64"/>
                  </a:lnTo>
                  <a:lnTo>
                    <a:pt x="25" y="132"/>
                  </a:lnTo>
                  <a:lnTo>
                    <a:pt x="43" y="222"/>
                  </a:lnTo>
                  <a:lnTo>
                    <a:pt x="64" y="329"/>
                  </a:lnTo>
                  <a:lnTo>
                    <a:pt x="86" y="447"/>
                  </a:lnTo>
                  <a:lnTo>
                    <a:pt x="110" y="574"/>
                  </a:lnTo>
                  <a:lnTo>
                    <a:pt x="137" y="704"/>
                  </a:lnTo>
                  <a:lnTo>
                    <a:pt x="161" y="835"/>
                  </a:lnTo>
                  <a:lnTo>
                    <a:pt x="186" y="962"/>
                  </a:lnTo>
                  <a:lnTo>
                    <a:pt x="208" y="1081"/>
                  </a:lnTo>
                  <a:lnTo>
                    <a:pt x="230" y="1186"/>
                  </a:lnTo>
                  <a:lnTo>
                    <a:pt x="247" y="1276"/>
                  </a:lnTo>
                  <a:lnTo>
                    <a:pt x="260" y="1346"/>
                  </a:lnTo>
                  <a:lnTo>
                    <a:pt x="269" y="1390"/>
                  </a:lnTo>
                  <a:lnTo>
                    <a:pt x="272" y="1406"/>
                  </a:lnTo>
                  <a:lnTo>
                    <a:pt x="280" y="1394"/>
                  </a:lnTo>
                  <a:lnTo>
                    <a:pt x="272" y="1406"/>
                  </a:lnTo>
                  <a:lnTo>
                    <a:pt x="276" y="1413"/>
                  </a:lnTo>
                  <a:lnTo>
                    <a:pt x="283" y="1415"/>
                  </a:lnTo>
                  <a:lnTo>
                    <a:pt x="291" y="1412"/>
                  </a:lnTo>
                  <a:lnTo>
                    <a:pt x="293" y="1404"/>
                  </a:lnTo>
                  <a:lnTo>
                    <a:pt x="284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7887240" y="3736800"/>
              <a:ext cx="481320" cy="51480"/>
            </a:xfrm>
            <a:custGeom>
              <a:avLst/>
              <a:gdLst/>
              <a:ahLst/>
              <a:rect l="l" t="t" r="r" b="b"/>
              <a:pathLst>
                <a:path w="1034" h="121">
                  <a:moveTo>
                    <a:pt x="0" y="9"/>
                  </a:moveTo>
                  <a:lnTo>
                    <a:pt x="4" y="20"/>
                  </a:lnTo>
                  <a:lnTo>
                    <a:pt x="29" y="35"/>
                  </a:lnTo>
                  <a:lnTo>
                    <a:pt x="53" y="47"/>
                  </a:lnTo>
                  <a:lnTo>
                    <a:pt x="82" y="59"/>
                  </a:lnTo>
                  <a:lnTo>
                    <a:pt x="110" y="70"/>
                  </a:lnTo>
                  <a:lnTo>
                    <a:pt x="140" y="80"/>
                  </a:lnTo>
                  <a:lnTo>
                    <a:pt x="171" y="89"/>
                  </a:lnTo>
                  <a:lnTo>
                    <a:pt x="202" y="96"/>
                  </a:lnTo>
                  <a:lnTo>
                    <a:pt x="234" y="101"/>
                  </a:lnTo>
                  <a:lnTo>
                    <a:pt x="267" y="108"/>
                  </a:lnTo>
                  <a:lnTo>
                    <a:pt x="299" y="112"/>
                  </a:lnTo>
                  <a:lnTo>
                    <a:pt x="335" y="116"/>
                  </a:lnTo>
                  <a:lnTo>
                    <a:pt x="369" y="118"/>
                  </a:lnTo>
                  <a:lnTo>
                    <a:pt x="405" y="120"/>
                  </a:lnTo>
                  <a:lnTo>
                    <a:pt x="440" y="121"/>
                  </a:lnTo>
                  <a:lnTo>
                    <a:pt x="476" y="121"/>
                  </a:lnTo>
                  <a:lnTo>
                    <a:pt x="511" y="121"/>
                  </a:lnTo>
                  <a:lnTo>
                    <a:pt x="548" y="120"/>
                  </a:lnTo>
                  <a:lnTo>
                    <a:pt x="582" y="119"/>
                  </a:lnTo>
                  <a:lnTo>
                    <a:pt x="619" y="117"/>
                  </a:lnTo>
                  <a:lnTo>
                    <a:pt x="654" y="115"/>
                  </a:lnTo>
                  <a:lnTo>
                    <a:pt x="690" y="111"/>
                  </a:lnTo>
                  <a:lnTo>
                    <a:pt x="725" y="108"/>
                  </a:lnTo>
                  <a:lnTo>
                    <a:pt x="760" y="102"/>
                  </a:lnTo>
                  <a:lnTo>
                    <a:pt x="794" y="98"/>
                  </a:lnTo>
                  <a:lnTo>
                    <a:pt x="826" y="94"/>
                  </a:lnTo>
                  <a:lnTo>
                    <a:pt x="859" y="88"/>
                  </a:lnTo>
                  <a:lnTo>
                    <a:pt x="891" y="81"/>
                  </a:lnTo>
                  <a:lnTo>
                    <a:pt x="924" y="75"/>
                  </a:lnTo>
                  <a:lnTo>
                    <a:pt x="952" y="69"/>
                  </a:lnTo>
                  <a:lnTo>
                    <a:pt x="981" y="61"/>
                  </a:lnTo>
                  <a:lnTo>
                    <a:pt x="1009" y="55"/>
                  </a:lnTo>
                  <a:lnTo>
                    <a:pt x="1034" y="47"/>
                  </a:lnTo>
                  <a:lnTo>
                    <a:pt x="1030" y="26"/>
                  </a:lnTo>
                  <a:lnTo>
                    <a:pt x="1005" y="34"/>
                  </a:lnTo>
                  <a:lnTo>
                    <a:pt x="976" y="40"/>
                  </a:lnTo>
                  <a:lnTo>
                    <a:pt x="948" y="47"/>
                  </a:lnTo>
                  <a:lnTo>
                    <a:pt x="918" y="54"/>
                  </a:lnTo>
                  <a:lnTo>
                    <a:pt x="889" y="60"/>
                  </a:lnTo>
                  <a:lnTo>
                    <a:pt x="857" y="66"/>
                  </a:lnTo>
                  <a:lnTo>
                    <a:pt x="824" y="72"/>
                  </a:lnTo>
                  <a:lnTo>
                    <a:pt x="792" y="77"/>
                  </a:lnTo>
                  <a:lnTo>
                    <a:pt x="757" y="81"/>
                  </a:lnTo>
                  <a:lnTo>
                    <a:pt x="723" y="86"/>
                  </a:lnTo>
                  <a:lnTo>
                    <a:pt x="690" y="90"/>
                  </a:lnTo>
                  <a:lnTo>
                    <a:pt x="654" y="94"/>
                  </a:lnTo>
                  <a:lnTo>
                    <a:pt x="619" y="96"/>
                  </a:lnTo>
                  <a:lnTo>
                    <a:pt x="582" y="98"/>
                  </a:lnTo>
                  <a:lnTo>
                    <a:pt x="548" y="99"/>
                  </a:lnTo>
                  <a:lnTo>
                    <a:pt x="511" y="100"/>
                  </a:lnTo>
                  <a:lnTo>
                    <a:pt x="476" y="100"/>
                  </a:lnTo>
                  <a:lnTo>
                    <a:pt x="440" y="100"/>
                  </a:lnTo>
                  <a:lnTo>
                    <a:pt x="405" y="99"/>
                  </a:lnTo>
                  <a:lnTo>
                    <a:pt x="369" y="97"/>
                  </a:lnTo>
                  <a:lnTo>
                    <a:pt x="335" y="95"/>
                  </a:lnTo>
                  <a:lnTo>
                    <a:pt x="303" y="91"/>
                  </a:lnTo>
                  <a:lnTo>
                    <a:pt x="269" y="86"/>
                  </a:lnTo>
                  <a:lnTo>
                    <a:pt x="236" y="80"/>
                  </a:lnTo>
                  <a:lnTo>
                    <a:pt x="204" y="75"/>
                  </a:lnTo>
                  <a:lnTo>
                    <a:pt x="175" y="67"/>
                  </a:lnTo>
                  <a:lnTo>
                    <a:pt x="144" y="59"/>
                  </a:lnTo>
                  <a:lnTo>
                    <a:pt x="118" y="51"/>
                  </a:lnTo>
                  <a:lnTo>
                    <a:pt x="89" y="40"/>
                  </a:lnTo>
                  <a:lnTo>
                    <a:pt x="63" y="28"/>
                  </a:lnTo>
                  <a:lnTo>
                    <a:pt x="39" y="16"/>
                  </a:lnTo>
                  <a:lnTo>
                    <a:pt x="16" y="1"/>
                  </a:lnTo>
                  <a:lnTo>
                    <a:pt x="21" y="12"/>
                  </a:lnTo>
                  <a:lnTo>
                    <a:pt x="16" y="1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14"/>
                  </a:lnTo>
                  <a:lnTo>
                    <a:pt x="4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8286840" y="3146040"/>
              <a:ext cx="81720" cy="594720"/>
            </a:xfrm>
            <a:custGeom>
              <a:avLst/>
              <a:gdLst/>
              <a:ahLst/>
              <a:rect l="l" t="t" r="r" b="b"/>
              <a:pathLst>
                <a:path w="175" h="1389">
                  <a:moveTo>
                    <a:pt x="170" y="2"/>
                  </a:moveTo>
                  <a:lnTo>
                    <a:pt x="154" y="9"/>
                  </a:lnTo>
                  <a:lnTo>
                    <a:pt x="0" y="1386"/>
                  </a:lnTo>
                  <a:lnTo>
                    <a:pt x="21" y="1389"/>
                  </a:lnTo>
                  <a:lnTo>
                    <a:pt x="175" y="13"/>
                  </a:lnTo>
                  <a:lnTo>
                    <a:pt x="160" y="20"/>
                  </a:lnTo>
                  <a:lnTo>
                    <a:pt x="175" y="13"/>
                  </a:lnTo>
                  <a:lnTo>
                    <a:pt x="173" y="4"/>
                  </a:lnTo>
                  <a:lnTo>
                    <a:pt x="165" y="0"/>
                  </a:lnTo>
                  <a:lnTo>
                    <a:pt x="157" y="3"/>
                  </a:lnTo>
                  <a:lnTo>
                    <a:pt x="154" y="9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7775640" y="2698560"/>
              <a:ext cx="334800" cy="1287360"/>
            </a:xfrm>
            <a:custGeom>
              <a:avLst/>
              <a:gdLst/>
              <a:ahLst/>
              <a:rect l="l" t="t" r="r" b="b"/>
              <a:pathLst>
                <a:path w="720" h="2994">
                  <a:moveTo>
                    <a:pt x="0" y="74"/>
                  </a:moveTo>
                  <a:lnTo>
                    <a:pt x="6" y="220"/>
                  </a:lnTo>
                  <a:lnTo>
                    <a:pt x="14" y="365"/>
                  </a:lnTo>
                  <a:lnTo>
                    <a:pt x="19" y="511"/>
                  </a:lnTo>
                  <a:lnTo>
                    <a:pt x="26" y="658"/>
                  </a:lnTo>
                  <a:lnTo>
                    <a:pt x="32" y="804"/>
                  </a:lnTo>
                  <a:lnTo>
                    <a:pt x="38" y="949"/>
                  </a:lnTo>
                  <a:lnTo>
                    <a:pt x="45" y="1095"/>
                  </a:lnTo>
                  <a:lnTo>
                    <a:pt x="51" y="1242"/>
                  </a:lnTo>
                  <a:lnTo>
                    <a:pt x="57" y="1560"/>
                  </a:lnTo>
                  <a:lnTo>
                    <a:pt x="56" y="2118"/>
                  </a:lnTo>
                  <a:lnTo>
                    <a:pt x="54" y="2666"/>
                  </a:lnTo>
                  <a:lnTo>
                    <a:pt x="51" y="2957"/>
                  </a:lnTo>
                  <a:lnTo>
                    <a:pt x="56" y="2976"/>
                  </a:lnTo>
                  <a:lnTo>
                    <a:pt x="67" y="2986"/>
                  </a:lnTo>
                  <a:lnTo>
                    <a:pt x="88" y="2993"/>
                  </a:lnTo>
                  <a:lnTo>
                    <a:pt x="113" y="2994"/>
                  </a:lnTo>
                  <a:lnTo>
                    <a:pt x="144" y="2988"/>
                  </a:lnTo>
                  <a:lnTo>
                    <a:pt x="179" y="2980"/>
                  </a:lnTo>
                  <a:lnTo>
                    <a:pt x="218" y="2968"/>
                  </a:lnTo>
                  <a:lnTo>
                    <a:pt x="259" y="2953"/>
                  </a:lnTo>
                  <a:lnTo>
                    <a:pt x="300" y="2937"/>
                  </a:lnTo>
                  <a:lnTo>
                    <a:pt x="342" y="2919"/>
                  </a:lnTo>
                  <a:lnTo>
                    <a:pt x="383" y="2899"/>
                  </a:lnTo>
                  <a:lnTo>
                    <a:pt x="423" y="2881"/>
                  </a:lnTo>
                  <a:lnTo>
                    <a:pt x="459" y="2862"/>
                  </a:lnTo>
                  <a:lnTo>
                    <a:pt x="493" y="2844"/>
                  </a:lnTo>
                  <a:lnTo>
                    <a:pt x="521" y="2828"/>
                  </a:lnTo>
                  <a:lnTo>
                    <a:pt x="544" y="2814"/>
                  </a:lnTo>
                  <a:lnTo>
                    <a:pt x="544" y="2753"/>
                  </a:lnTo>
                  <a:lnTo>
                    <a:pt x="542" y="2663"/>
                  </a:lnTo>
                  <a:lnTo>
                    <a:pt x="540" y="2554"/>
                  </a:lnTo>
                  <a:lnTo>
                    <a:pt x="536" y="2435"/>
                  </a:lnTo>
                  <a:lnTo>
                    <a:pt x="530" y="2315"/>
                  </a:lnTo>
                  <a:lnTo>
                    <a:pt x="525" y="2206"/>
                  </a:lnTo>
                  <a:lnTo>
                    <a:pt x="515" y="2112"/>
                  </a:lnTo>
                  <a:lnTo>
                    <a:pt x="505" y="2047"/>
                  </a:lnTo>
                  <a:lnTo>
                    <a:pt x="487" y="1963"/>
                  </a:lnTo>
                  <a:lnTo>
                    <a:pt x="473" y="1872"/>
                  </a:lnTo>
                  <a:lnTo>
                    <a:pt x="460" y="1777"/>
                  </a:lnTo>
                  <a:lnTo>
                    <a:pt x="450" y="1679"/>
                  </a:lnTo>
                  <a:lnTo>
                    <a:pt x="439" y="1582"/>
                  </a:lnTo>
                  <a:lnTo>
                    <a:pt x="428" y="1486"/>
                  </a:lnTo>
                  <a:lnTo>
                    <a:pt x="414" y="1395"/>
                  </a:lnTo>
                  <a:lnTo>
                    <a:pt x="396" y="1311"/>
                  </a:lnTo>
                  <a:lnTo>
                    <a:pt x="419" y="1307"/>
                  </a:lnTo>
                  <a:lnTo>
                    <a:pt x="444" y="1304"/>
                  </a:lnTo>
                  <a:lnTo>
                    <a:pt x="468" y="1301"/>
                  </a:lnTo>
                  <a:lnTo>
                    <a:pt x="491" y="1297"/>
                  </a:lnTo>
                  <a:lnTo>
                    <a:pt x="514" y="1295"/>
                  </a:lnTo>
                  <a:lnTo>
                    <a:pt x="536" y="1292"/>
                  </a:lnTo>
                  <a:lnTo>
                    <a:pt x="559" y="1288"/>
                  </a:lnTo>
                  <a:lnTo>
                    <a:pt x="580" y="1286"/>
                  </a:lnTo>
                  <a:lnTo>
                    <a:pt x="601" y="1283"/>
                  </a:lnTo>
                  <a:lnTo>
                    <a:pt x="620" y="1281"/>
                  </a:lnTo>
                  <a:lnTo>
                    <a:pt x="639" y="1277"/>
                  </a:lnTo>
                  <a:lnTo>
                    <a:pt x="657" y="1273"/>
                  </a:lnTo>
                  <a:lnTo>
                    <a:pt x="672" y="1270"/>
                  </a:lnTo>
                  <a:lnTo>
                    <a:pt x="687" y="1265"/>
                  </a:lnTo>
                  <a:lnTo>
                    <a:pt x="700" y="1261"/>
                  </a:lnTo>
                  <a:lnTo>
                    <a:pt x="712" y="1256"/>
                  </a:lnTo>
                  <a:lnTo>
                    <a:pt x="720" y="1237"/>
                  </a:lnTo>
                  <a:lnTo>
                    <a:pt x="715" y="1195"/>
                  </a:lnTo>
                  <a:lnTo>
                    <a:pt x="701" y="1139"/>
                  </a:lnTo>
                  <a:lnTo>
                    <a:pt x="680" y="1072"/>
                  </a:lnTo>
                  <a:lnTo>
                    <a:pt x="656" y="1002"/>
                  </a:lnTo>
                  <a:lnTo>
                    <a:pt x="631" y="935"/>
                  </a:lnTo>
                  <a:lnTo>
                    <a:pt x="610" y="880"/>
                  </a:lnTo>
                  <a:lnTo>
                    <a:pt x="595" y="839"/>
                  </a:lnTo>
                  <a:lnTo>
                    <a:pt x="572" y="778"/>
                  </a:lnTo>
                  <a:lnTo>
                    <a:pt x="550" y="719"/>
                  </a:lnTo>
                  <a:lnTo>
                    <a:pt x="529" y="664"/>
                  </a:lnTo>
                  <a:lnTo>
                    <a:pt x="508" y="611"/>
                  </a:lnTo>
                  <a:lnTo>
                    <a:pt x="486" y="562"/>
                  </a:lnTo>
                  <a:lnTo>
                    <a:pt x="465" y="513"/>
                  </a:lnTo>
                  <a:lnTo>
                    <a:pt x="442" y="467"/>
                  </a:lnTo>
                  <a:lnTo>
                    <a:pt x="419" y="421"/>
                  </a:lnTo>
                  <a:lnTo>
                    <a:pt x="395" y="377"/>
                  </a:lnTo>
                  <a:lnTo>
                    <a:pt x="368" y="334"/>
                  </a:lnTo>
                  <a:lnTo>
                    <a:pt x="341" y="289"/>
                  </a:lnTo>
                  <a:lnTo>
                    <a:pt x="311" y="245"/>
                  </a:lnTo>
                  <a:lnTo>
                    <a:pt x="280" y="201"/>
                  </a:lnTo>
                  <a:lnTo>
                    <a:pt x="244" y="155"/>
                  </a:lnTo>
                  <a:lnTo>
                    <a:pt x="207" y="108"/>
                  </a:lnTo>
                  <a:lnTo>
                    <a:pt x="165" y="59"/>
                  </a:lnTo>
                  <a:lnTo>
                    <a:pt x="156" y="50"/>
                  </a:lnTo>
                  <a:lnTo>
                    <a:pt x="144" y="40"/>
                  </a:lnTo>
                  <a:lnTo>
                    <a:pt x="131" y="34"/>
                  </a:lnTo>
                  <a:lnTo>
                    <a:pt x="118" y="26"/>
                  </a:lnTo>
                  <a:lnTo>
                    <a:pt x="103" y="19"/>
                  </a:lnTo>
                  <a:lnTo>
                    <a:pt x="90" y="14"/>
                  </a:lnTo>
                  <a:lnTo>
                    <a:pt x="76" y="6"/>
                  </a:lnTo>
                  <a:lnTo>
                    <a:pt x="61" y="0"/>
                  </a:lnTo>
                  <a:lnTo>
                    <a:pt x="51" y="5"/>
                  </a:lnTo>
                  <a:lnTo>
                    <a:pt x="40" y="13"/>
                  </a:lnTo>
                  <a:lnTo>
                    <a:pt x="29" y="20"/>
                  </a:lnTo>
                  <a:lnTo>
                    <a:pt x="21" y="30"/>
                  </a:lnTo>
                  <a:lnTo>
                    <a:pt x="15" y="39"/>
                  </a:lnTo>
                  <a:lnTo>
                    <a:pt x="8" y="50"/>
                  </a:lnTo>
                  <a:lnTo>
                    <a:pt x="4" y="6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8082720" y="2731320"/>
              <a:ext cx="32400" cy="502200"/>
            </a:xfrm>
            <a:custGeom>
              <a:avLst/>
              <a:gdLst/>
              <a:ahLst/>
              <a:rect l="l" t="t" r="r" b="b"/>
              <a:pathLst>
                <a:path w="72" h="1168">
                  <a:moveTo>
                    <a:pt x="72" y="1168"/>
                  </a:moveTo>
                  <a:lnTo>
                    <a:pt x="72" y="1168"/>
                  </a:lnTo>
                  <a:lnTo>
                    <a:pt x="67" y="1021"/>
                  </a:lnTo>
                  <a:lnTo>
                    <a:pt x="59" y="875"/>
                  </a:lnTo>
                  <a:lnTo>
                    <a:pt x="53" y="730"/>
                  </a:lnTo>
                  <a:lnTo>
                    <a:pt x="48" y="584"/>
                  </a:lnTo>
                  <a:lnTo>
                    <a:pt x="40" y="437"/>
                  </a:lnTo>
                  <a:lnTo>
                    <a:pt x="35" y="291"/>
                  </a:lnTo>
                  <a:lnTo>
                    <a:pt x="28" y="14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7" y="146"/>
                  </a:lnTo>
                  <a:lnTo>
                    <a:pt x="14" y="291"/>
                  </a:lnTo>
                  <a:lnTo>
                    <a:pt x="19" y="437"/>
                  </a:lnTo>
                  <a:lnTo>
                    <a:pt x="27" y="584"/>
                  </a:lnTo>
                  <a:lnTo>
                    <a:pt x="32" y="730"/>
                  </a:lnTo>
                  <a:lnTo>
                    <a:pt x="38" y="875"/>
                  </a:lnTo>
                  <a:lnTo>
                    <a:pt x="46" y="1021"/>
                  </a:lnTo>
                  <a:lnTo>
                    <a:pt x="51" y="1168"/>
                  </a:lnTo>
                  <a:lnTo>
                    <a:pt x="51" y="1168"/>
                  </a:lnTo>
                  <a:lnTo>
                    <a:pt x="72" y="1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8080560" y="3233880"/>
              <a:ext cx="11520" cy="741600"/>
            </a:xfrm>
            <a:custGeom>
              <a:avLst/>
              <a:gdLst/>
              <a:ahLst/>
              <a:rect l="l" t="t" r="r" b="b"/>
              <a:pathLst>
                <a:path w="27" h="1725">
                  <a:moveTo>
                    <a:pt x="21" y="1715"/>
                  </a:moveTo>
                  <a:lnTo>
                    <a:pt x="21" y="1715"/>
                  </a:lnTo>
                  <a:lnTo>
                    <a:pt x="23" y="1424"/>
                  </a:lnTo>
                  <a:lnTo>
                    <a:pt x="26" y="876"/>
                  </a:lnTo>
                  <a:lnTo>
                    <a:pt x="27" y="318"/>
                  </a:lnTo>
                  <a:lnTo>
                    <a:pt x="21" y="0"/>
                  </a:lnTo>
                  <a:lnTo>
                    <a:pt x="0" y="0"/>
                  </a:lnTo>
                  <a:lnTo>
                    <a:pt x="6" y="318"/>
                  </a:lnTo>
                  <a:lnTo>
                    <a:pt x="5" y="876"/>
                  </a:lnTo>
                  <a:lnTo>
                    <a:pt x="2" y="1424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4" y="1723"/>
                  </a:lnTo>
                  <a:lnTo>
                    <a:pt x="11" y="1725"/>
                  </a:lnTo>
                  <a:lnTo>
                    <a:pt x="18" y="1723"/>
                  </a:lnTo>
                  <a:lnTo>
                    <a:pt x="21" y="1715"/>
                  </a:lnTo>
                  <a:lnTo>
                    <a:pt x="21" y="17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7853040" y="3904560"/>
              <a:ext cx="239040" cy="86040"/>
            </a:xfrm>
            <a:custGeom>
              <a:avLst/>
              <a:gdLst/>
              <a:ahLst/>
              <a:rect l="l" t="t" r="r" b="b"/>
              <a:pathLst>
                <a:path w="514" h="200">
                  <a:moveTo>
                    <a:pt x="492" y="10"/>
                  </a:moveTo>
                  <a:lnTo>
                    <a:pt x="497" y="1"/>
                  </a:lnTo>
                  <a:lnTo>
                    <a:pt x="476" y="14"/>
                  </a:lnTo>
                  <a:lnTo>
                    <a:pt x="448" y="30"/>
                  </a:lnTo>
                  <a:lnTo>
                    <a:pt x="415" y="48"/>
                  </a:lnTo>
                  <a:lnTo>
                    <a:pt x="378" y="67"/>
                  </a:lnTo>
                  <a:lnTo>
                    <a:pt x="338" y="85"/>
                  </a:lnTo>
                  <a:lnTo>
                    <a:pt x="298" y="105"/>
                  </a:lnTo>
                  <a:lnTo>
                    <a:pt x="256" y="123"/>
                  </a:lnTo>
                  <a:lnTo>
                    <a:pt x="214" y="140"/>
                  </a:lnTo>
                  <a:lnTo>
                    <a:pt x="174" y="154"/>
                  </a:lnTo>
                  <a:lnTo>
                    <a:pt x="137" y="165"/>
                  </a:lnTo>
                  <a:lnTo>
                    <a:pt x="102" y="174"/>
                  </a:lnTo>
                  <a:lnTo>
                    <a:pt x="73" y="179"/>
                  </a:lnTo>
                  <a:lnTo>
                    <a:pt x="49" y="178"/>
                  </a:lnTo>
                  <a:lnTo>
                    <a:pt x="32" y="173"/>
                  </a:lnTo>
                  <a:lnTo>
                    <a:pt x="25" y="167"/>
                  </a:lnTo>
                  <a:lnTo>
                    <a:pt x="21" y="153"/>
                  </a:lnTo>
                  <a:lnTo>
                    <a:pt x="0" y="153"/>
                  </a:lnTo>
                  <a:lnTo>
                    <a:pt x="6" y="176"/>
                  </a:lnTo>
                  <a:lnTo>
                    <a:pt x="22" y="192"/>
                  </a:lnTo>
                  <a:lnTo>
                    <a:pt x="46" y="199"/>
                  </a:lnTo>
                  <a:lnTo>
                    <a:pt x="73" y="200"/>
                  </a:lnTo>
                  <a:lnTo>
                    <a:pt x="106" y="195"/>
                  </a:lnTo>
                  <a:lnTo>
                    <a:pt x="142" y="186"/>
                  </a:lnTo>
                  <a:lnTo>
                    <a:pt x="182" y="175"/>
                  </a:lnTo>
                  <a:lnTo>
                    <a:pt x="222" y="159"/>
                  </a:lnTo>
                  <a:lnTo>
                    <a:pt x="263" y="142"/>
                  </a:lnTo>
                  <a:lnTo>
                    <a:pt x="305" y="124"/>
                  </a:lnTo>
                  <a:lnTo>
                    <a:pt x="347" y="104"/>
                  </a:lnTo>
                  <a:lnTo>
                    <a:pt x="388" y="85"/>
                  </a:lnTo>
                  <a:lnTo>
                    <a:pt x="425" y="67"/>
                  </a:lnTo>
                  <a:lnTo>
                    <a:pt x="457" y="49"/>
                  </a:lnTo>
                  <a:lnTo>
                    <a:pt x="486" y="33"/>
                  </a:lnTo>
                  <a:lnTo>
                    <a:pt x="509" y="20"/>
                  </a:lnTo>
                  <a:lnTo>
                    <a:pt x="514" y="10"/>
                  </a:lnTo>
                  <a:lnTo>
                    <a:pt x="509" y="20"/>
                  </a:lnTo>
                  <a:lnTo>
                    <a:pt x="514" y="12"/>
                  </a:lnTo>
                  <a:lnTo>
                    <a:pt x="512" y="4"/>
                  </a:lnTo>
                  <a:lnTo>
                    <a:pt x="506" y="0"/>
                  </a:lnTo>
                  <a:lnTo>
                    <a:pt x="497" y="1"/>
                  </a:lnTo>
                  <a:lnTo>
                    <a:pt x="4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7852320" y="3578040"/>
              <a:ext cx="27720" cy="330840"/>
            </a:xfrm>
            <a:custGeom>
              <a:avLst/>
              <a:gdLst/>
              <a:ahLst/>
              <a:rect l="l" t="t" r="r" b="b"/>
              <a:pathLst>
                <a:path w="60" h="769">
                  <a:moveTo>
                    <a:pt x="0" y="5"/>
                  </a:moveTo>
                  <a:lnTo>
                    <a:pt x="0" y="5"/>
                  </a:lnTo>
                  <a:lnTo>
                    <a:pt x="11" y="68"/>
                  </a:lnTo>
                  <a:lnTo>
                    <a:pt x="20" y="161"/>
                  </a:lnTo>
                  <a:lnTo>
                    <a:pt x="25" y="270"/>
                  </a:lnTo>
                  <a:lnTo>
                    <a:pt x="32" y="390"/>
                  </a:lnTo>
                  <a:lnTo>
                    <a:pt x="35" y="509"/>
                  </a:lnTo>
                  <a:lnTo>
                    <a:pt x="37" y="618"/>
                  </a:lnTo>
                  <a:lnTo>
                    <a:pt x="38" y="708"/>
                  </a:lnTo>
                  <a:lnTo>
                    <a:pt x="38" y="769"/>
                  </a:lnTo>
                  <a:lnTo>
                    <a:pt x="60" y="769"/>
                  </a:lnTo>
                  <a:lnTo>
                    <a:pt x="60" y="708"/>
                  </a:lnTo>
                  <a:lnTo>
                    <a:pt x="58" y="618"/>
                  </a:lnTo>
                  <a:lnTo>
                    <a:pt x="56" y="509"/>
                  </a:lnTo>
                  <a:lnTo>
                    <a:pt x="53" y="390"/>
                  </a:lnTo>
                  <a:lnTo>
                    <a:pt x="47" y="270"/>
                  </a:lnTo>
                  <a:lnTo>
                    <a:pt x="41" y="161"/>
                  </a:lnTo>
                  <a:lnTo>
                    <a:pt x="32" y="66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7871400" y="3257640"/>
              <a:ext cx="60480" cy="321840"/>
            </a:xfrm>
            <a:custGeom>
              <a:avLst/>
              <a:gdLst/>
              <a:ahLst/>
              <a:rect l="l" t="t" r="r" b="b"/>
              <a:pathLst>
                <a:path w="130" h="749">
                  <a:moveTo>
                    <a:pt x="10" y="0"/>
                  </a:moveTo>
                  <a:lnTo>
                    <a:pt x="0" y="13"/>
                  </a:lnTo>
                  <a:lnTo>
                    <a:pt x="18" y="95"/>
                  </a:lnTo>
                  <a:lnTo>
                    <a:pt x="32" y="186"/>
                  </a:lnTo>
                  <a:lnTo>
                    <a:pt x="44" y="282"/>
                  </a:lnTo>
                  <a:lnTo>
                    <a:pt x="54" y="379"/>
                  </a:lnTo>
                  <a:lnTo>
                    <a:pt x="65" y="477"/>
                  </a:lnTo>
                  <a:lnTo>
                    <a:pt x="77" y="573"/>
                  </a:lnTo>
                  <a:lnTo>
                    <a:pt x="91" y="664"/>
                  </a:lnTo>
                  <a:lnTo>
                    <a:pt x="109" y="749"/>
                  </a:lnTo>
                  <a:lnTo>
                    <a:pt x="130" y="744"/>
                  </a:lnTo>
                  <a:lnTo>
                    <a:pt x="112" y="661"/>
                  </a:lnTo>
                  <a:lnTo>
                    <a:pt x="99" y="570"/>
                  </a:lnTo>
                  <a:lnTo>
                    <a:pt x="87" y="475"/>
                  </a:lnTo>
                  <a:lnTo>
                    <a:pt x="75" y="377"/>
                  </a:lnTo>
                  <a:lnTo>
                    <a:pt x="65" y="279"/>
                  </a:lnTo>
                  <a:lnTo>
                    <a:pt x="53" y="184"/>
                  </a:lnTo>
                  <a:lnTo>
                    <a:pt x="39" y="93"/>
                  </a:lnTo>
                  <a:lnTo>
                    <a:pt x="21" y="7"/>
                  </a:lnTo>
                  <a:lnTo>
                    <a:pt x="12" y="21"/>
                  </a:lnTo>
                  <a:lnTo>
                    <a:pt x="21" y="7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7775640" y="3233880"/>
              <a:ext cx="151200" cy="34560"/>
            </a:xfrm>
            <a:custGeom>
              <a:avLst/>
              <a:gdLst/>
              <a:ahLst/>
              <a:rect l="l" t="t" r="r" b="b"/>
              <a:pathLst>
                <a:path w="326" h="77">
                  <a:moveTo>
                    <a:pt x="315" y="0"/>
                  </a:moveTo>
                  <a:lnTo>
                    <a:pt x="312" y="1"/>
                  </a:lnTo>
                  <a:lnTo>
                    <a:pt x="302" y="6"/>
                  </a:lnTo>
                  <a:lnTo>
                    <a:pt x="289" y="9"/>
                  </a:lnTo>
                  <a:lnTo>
                    <a:pt x="274" y="15"/>
                  </a:lnTo>
                  <a:lnTo>
                    <a:pt x="261" y="18"/>
                  </a:lnTo>
                  <a:lnTo>
                    <a:pt x="243" y="21"/>
                  </a:lnTo>
                  <a:lnTo>
                    <a:pt x="224" y="25"/>
                  </a:lnTo>
                  <a:lnTo>
                    <a:pt x="205" y="27"/>
                  </a:lnTo>
                  <a:lnTo>
                    <a:pt x="184" y="31"/>
                  </a:lnTo>
                  <a:lnTo>
                    <a:pt x="162" y="33"/>
                  </a:lnTo>
                  <a:lnTo>
                    <a:pt x="140" y="37"/>
                  </a:lnTo>
                  <a:lnTo>
                    <a:pt x="119" y="39"/>
                  </a:lnTo>
                  <a:lnTo>
                    <a:pt x="95" y="41"/>
                  </a:lnTo>
                  <a:lnTo>
                    <a:pt x="72" y="45"/>
                  </a:lnTo>
                  <a:lnTo>
                    <a:pt x="48" y="49"/>
                  </a:lnTo>
                  <a:lnTo>
                    <a:pt x="23" y="52"/>
                  </a:lnTo>
                  <a:lnTo>
                    <a:pt x="0" y="56"/>
                  </a:lnTo>
                  <a:lnTo>
                    <a:pt x="2" y="77"/>
                  </a:lnTo>
                  <a:lnTo>
                    <a:pt x="26" y="73"/>
                  </a:lnTo>
                  <a:lnTo>
                    <a:pt x="51" y="70"/>
                  </a:lnTo>
                  <a:lnTo>
                    <a:pt x="74" y="66"/>
                  </a:lnTo>
                  <a:lnTo>
                    <a:pt x="98" y="62"/>
                  </a:lnTo>
                  <a:lnTo>
                    <a:pt x="119" y="60"/>
                  </a:lnTo>
                  <a:lnTo>
                    <a:pt x="142" y="58"/>
                  </a:lnTo>
                  <a:lnTo>
                    <a:pt x="165" y="55"/>
                  </a:lnTo>
                  <a:lnTo>
                    <a:pt x="186" y="52"/>
                  </a:lnTo>
                  <a:lnTo>
                    <a:pt x="207" y="49"/>
                  </a:lnTo>
                  <a:lnTo>
                    <a:pt x="226" y="46"/>
                  </a:lnTo>
                  <a:lnTo>
                    <a:pt x="245" y="42"/>
                  </a:lnTo>
                  <a:lnTo>
                    <a:pt x="263" y="39"/>
                  </a:lnTo>
                  <a:lnTo>
                    <a:pt x="279" y="36"/>
                  </a:lnTo>
                  <a:lnTo>
                    <a:pt x="294" y="31"/>
                  </a:lnTo>
                  <a:lnTo>
                    <a:pt x="308" y="25"/>
                  </a:lnTo>
                  <a:lnTo>
                    <a:pt x="322" y="20"/>
                  </a:lnTo>
                  <a:lnTo>
                    <a:pt x="319" y="21"/>
                  </a:lnTo>
                  <a:lnTo>
                    <a:pt x="322" y="20"/>
                  </a:lnTo>
                  <a:lnTo>
                    <a:pt x="326" y="15"/>
                  </a:lnTo>
                  <a:lnTo>
                    <a:pt x="326" y="6"/>
                  </a:lnTo>
                  <a:lnTo>
                    <a:pt x="320" y="1"/>
                  </a:lnTo>
                  <a:lnTo>
                    <a:pt x="312" y="1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7771320" y="3057840"/>
              <a:ext cx="66960" cy="184680"/>
            </a:xfrm>
            <a:custGeom>
              <a:avLst/>
              <a:gdLst/>
              <a:ahLst/>
              <a:rect l="l" t="t" r="r" b="b"/>
              <a:pathLst>
                <a:path w="145" h="431">
                  <a:moveTo>
                    <a:pt x="0" y="8"/>
                  </a:moveTo>
                  <a:lnTo>
                    <a:pt x="0" y="8"/>
                  </a:lnTo>
                  <a:lnTo>
                    <a:pt x="15" y="48"/>
                  </a:lnTo>
                  <a:lnTo>
                    <a:pt x="36" y="104"/>
                  </a:lnTo>
                  <a:lnTo>
                    <a:pt x="60" y="170"/>
                  </a:lnTo>
                  <a:lnTo>
                    <a:pt x="83" y="240"/>
                  </a:lnTo>
                  <a:lnTo>
                    <a:pt x="105" y="306"/>
                  </a:lnTo>
                  <a:lnTo>
                    <a:pt x="118" y="361"/>
                  </a:lnTo>
                  <a:lnTo>
                    <a:pt x="124" y="402"/>
                  </a:lnTo>
                  <a:lnTo>
                    <a:pt x="124" y="410"/>
                  </a:lnTo>
                  <a:lnTo>
                    <a:pt x="128" y="431"/>
                  </a:lnTo>
                  <a:lnTo>
                    <a:pt x="145" y="402"/>
                  </a:lnTo>
                  <a:lnTo>
                    <a:pt x="139" y="359"/>
                  </a:lnTo>
                  <a:lnTo>
                    <a:pt x="126" y="301"/>
                  </a:lnTo>
                  <a:lnTo>
                    <a:pt x="105" y="234"/>
                  </a:lnTo>
                  <a:lnTo>
                    <a:pt x="78" y="164"/>
                  </a:lnTo>
                  <a:lnTo>
                    <a:pt x="55" y="96"/>
                  </a:lnTo>
                  <a:lnTo>
                    <a:pt x="34" y="4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7829280" y="2722680"/>
              <a:ext cx="209160" cy="339480"/>
            </a:xfrm>
            <a:custGeom>
              <a:avLst/>
              <a:gdLst/>
              <a:ahLst/>
              <a:rect l="l" t="t" r="r" b="b"/>
              <a:pathLst>
                <a:path w="448" h="790">
                  <a:moveTo>
                    <a:pt x="0" y="14"/>
                  </a:moveTo>
                  <a:lnTo>
                    <a:pt x="0" y="14"/>
                  </a:lnTo>
                  <a:lnTo>
                    <a:pt x="41" y="62"/>
                  </a:lnTo>
                  <a:lnTo>
                    <a:pt x="78" y="108"/>
                  </a:lnTo>
                  <a:lnTo>
                    <a:pt x="114" y="154"/>
                  </a:lnTo>
                  <a:lnTo>
                    <a:pt x="146" y="197"/>
                  </a:lnTo>
                  <a:lnTo>
                    <a:pt x="176" y="243"/>
                  </a:lnTo>
                  <a:lnTo>
                    <a:pt x="203" y="286"/>
                  </a:lnTo>
                  <a:lnTo>
                    <a:pt x="228" y="328"/>
                  </a:lnTo>
                  <a:lnTo>
                    <a:pt x="254" y="374"/>
                  </a:lnTo>
                  <a:lnTo>
                    <a:pt x="276" y="418"/>
                  </a:lnTo>
                  <a:lnTo>
                    <a:pt x="298" y="464"/>
                  </a:lnTo>
                  <a:lnTo>
                    <a:pt x="319" y="513"/>
                  </a:lnTo>
                  <a:lnTo>
                    <a:pt x="341" y="563"/>
                  </a:lnTo>
                  <a:lnTo>
                    <a:pt x="362" y="615"/>
                  </a:lnTo>
                  <a:lnTo>
                    <a:pt x="384" y="669"/>
                  </a:lnTo>
                  <a:lnTo>
                    <a:pt x="407" y="728"/>
                  </a:lnTo>
                  <a:lnTo>
                    <a:pt x="429" y="790"/>
                  </a:lnTo>
                  <a:lnTo>
                    <a:pt x="448" y="782"/>
                  </a:lnTo>
                  <a:lnTo>
                    <a:pt x="425" y="721"/>
                  </a:lnTo>
                  <a:lnTo>
                    <a:pt x="403" y="662"/>
                  </a:lnTo>
                  <a:lnTo>
                    <a:pt x="381" y="608"/>
                  </a:lnTo>
                  <a:lnTo>
                    <a:pt x="360" y="555"/>
                  </a:lnTo>
                  <a:lnTo>
                    <a:pt x="338" y="506"/>
                  </a:lnTo>
                  <a:lnTo>
                    <a:pt x="317" y="457"/>
                  </a:lnTo>
                  <a:lnTo>
                    <a:pt x="295" y="408"/>
                  </a:lnTo>
                  <a:lnTo>
                    <a:pt x="272" y="364"/>
                  </a:lnTo>
                  <a:lnTo>
                    <a:pt x="247" y="319"/>
                  </a:lnTo>
                  <a:lnTo>
                    <a:pt x="221" y="274"/>
                  </a:lnTo>
                  <a:lnTo>
                    <a:pt x="191" y="231"/>
                  </a:lnTo>
                  <a:lnTo>
                    <a:pt x="163" y="186"/>
                  </a:lnTo>
                  <a:lnTo>
                    <a:pt x="130" y="142"/>
                  </a:lnTo>
                  <a:lnTo>
                    <a:pt x="95" y="96"/>
                  </a:lnTo>
                  <a:lnTo>
                    <a:pt x="57" y="4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8029080" y="2696760"/>
              <a:ext cx="57960" cy="32040"/>
            </a:xfrm>
            <a:custGeom>
              <a:avLst/>
              <a:gdLst/>
              <a:ahLst/>
              <a:rect l="l" t="t" r="r" b="b"/>
              <a:pathLst>
                <a:path w="121" h="75">
                  <a:moveTo>
                    <a:pt x="13" y="18"/>
                  </a:moveTo>
                  <a:lnTo>
                    <a:pt x="5" y="18"/>
                  </a:lnTo>
                  <a:lnTo>
                    <a:pt x="20" y="24"/>
                  </a:lnTo>
                  <a:lnTo>
                    <a:pt x="34" y="31"/>
                  </a:lnTo>
                  <a:lnTo>
                    <a:pt x="48" y="37"/>
                  </a:lnTo>
                  <a:lnTo>
                    <a:pt x="61" y="44"/>
                  </a:lnTo>
                  <a:lnTo>
                    <a:pt x="75" y="51"/>
                  </a:lnTo>
                  <a:lnTo>
                    <a:pt x="86" y="57"/>
                  </a:lnTo>
                  <a:lnTo>
                    <a:pt x="97" y="66"/>
                  </a:lnTo>
                  <a:lnTo>
                    <a:pt x="105" y="75"/>
                  </a:lnTo>
                  <a:lnTo>
                    <a:pt x="121" y="61"/>
                  </a:lnTo>
                  <a:lnTo>
                    <a:pt x="111" y="50"/>
                  </a:lnTo>
                  <a:lnTo>
                    <a:pt x="98" y="41"/>
                  </a:lnTo>
                  <a:lnTo>
                    <a:pt x="84" y="32"/>
                  </a:lnTo>
                  <a:lnTo>
                    <a:pt x="70" y="25"/>
                  </a:lnTo>
                  <a:lnTo>
                    <a:pt x="56" y="18"/>
                  </a:lnTo>
                  <a:lnTo>
                    <a:pt x="41" y="12"/>
                  </a:lnTo>
                  <a:lnTo>
                    <a:pt x="27" y="5"/>
                  </a:lnTo>
                  <a:lnTo>
                    <a:pt x="14" y="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8080560" y="2696760"/>
              <a:ext cx="34560" cy="3816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21" y="82"/>
                  </a:moveTo>
                  <a:lnTo>
                    <a:pt x="21" y="83"/>
                  </a:lnTo>
                  <a:lnTo>
                    <a:pt x="26" y="73"/>
                  </a:lnTo>
                  <a:lnTo>
                    <a:pt x="29" y="62"/>
                  </a:lnTo>
                  <a:lnTo>
                    <a:pt x="33" y="53"/>
                  </a:lnTo>
                  <a:lnTo>
                    <a:pt x="40" y="45"/>
                  </a:lnTo>
                  <a:lnTo>
                    <a:pt x="48" y="35"/>
                  </a:lnTo>
                  <a:lnTo>
                    <a:pt x="57" y="28"/>
                  </a:lnTo>
                  <a:lnTo>
                    <a:pt x="67" y="23"/>
                  </a:lnTo>
                  <a:lnTo>
                    <a:pt x="76" y="18"/>
                  </a:lnTo>
                  <a:lnTo>
                    <a:pt x="69" y="0"/>
                  </a:lnTo>
                  <a:lnTo>
                    <a:pt x="57" y="4"/>
                  </a:lnTo>
                  <a:lnTo>
                    <a:pt x="46" y="12"/>
                  </a:lnTo>
                  <a:lnTo>
                    <a:pt x="33" y="22"/>
                  </a:lnTo>
                  <a:lnTo>
                    <a:pt x="25" y="31"/>
                  </a:lnTo>
                  <a:lnTo>
                    <a:pt x="17" y="42"/>
                  </a:lnTo>
                  <a:lnTo>
                    <a:pt x="10" y="54"/>
                  </a:lnTo>
                  <a:lnTo>
                    <a:pt x="5" y="66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88"/>
                  </a:lnTo>
                  <a:lnTo>
                    <a:pt x="10" y="92"/>
                  </a:lnTo>
                  <a:lnTo>
                    <a:pt x="18" y="90"/>
                  </a:lnTo>
                  <a:lnTo>
                    <a:pt x="21" y="83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8201160" y="2694960"/>
              <a:ext cx="362520" cy="1269720"/>
            </a:xfrm>
            <a:custGeom>
              <a:avLst/>
              <a:gdLst/>
              <a:ahLst/>
              <a:rect l="l" t="t" r="r" b="b"/>
              <a:pathLst>
                <a:path w="780" h="2954">
                  <a:moveTo>
                    <a:pt x="720" y="0"/>
                  </a:moveTo>
                  <a:lnTo>
                    <a:pt x="731" y="37"/>
                  </a:lnTo>
                  <a:lnTo>
                    <a:pt x="740" y="73"/>
                  </a:lnTo>
                  <a:lnTo>
                    <a:pt x="749" y="109"/>
                  </a:lnTo>
                  <a:lnTo>
                    <a:pt x="755" y="147"/>
                  </a:lnTo>
                  <a:lnTo>
                    <a:pt x="758" y="185"/>
                  </a:lnTo>
                  <a:lnTo>
                    <a:pt x="762" y="222"/>
                  </a:lnTo>
                  <a:lnTo>
                    <a:pt x="762" y="262"/>
                  </a:lnTo>
                  <a:lnTo>
                    <a:pt x="762" y="305"/>
                  </a:lnTo>
                  <a:lnTo>
                    <a:pt x="758" y="497"/>
                  </a:lnTo>
                  <a:lnTo>
                    <a:pt x="759" y="691"/>
                  </a:lnTo>
                  <a:lnTo>
                    <a:pt x="765" y="890"/>
                  </a:lnTo>
                  <a:lnTo>
                    <a:pt x="769" y="1087"/>
                  </a:lnTo>
                  <a:lnTo>
                    <a:pt x="774" y="1286"/>
                  </a:lnTo>
                  <a:lnTo>
                    <a:pt x="778" y="1483"/>
                  </a:lnTo>
                  <a:lnTo>
                    <a:pt x="780" y="1676"/>
                  </a:lnTo>
                  <a:lnTo>
                    <a:pt x="776" y="1866"/>
                  </a:lnTo>
                  <a:lnTo>
                    <a:pt x="772" y="2022"/>
                  </a:lnTo>
                  <a:lnTo>
                    <a:pt x="770" y="2194"/>
                  </a:lnTo>
                  <a:lnTo>
                    <a:pt x="768" y="2372"/>
                  </a:lnTo>
                  <a:lnTo>
                    <a:pt x="766" y="2544"/>
                  </a:lnTo>
                  <a:lnTo>
                    <a:pt x="762" y="2699"/>
                  </a:lnTo>
                  <a:lnTo>
                    <a:pt x="755" y="2827"/>
                  </a:lnTo>
                  <a:lnTo>
                    <a:pt x="745" y="2916"/>
                  </a:lnTo>
                  <a:lnTo>
                    <a:pt x="729" y="2954"/>
                  </a:lnTo>
                  <a:lnTo>
                    <a:pt x="706" y="2953"/>
                  </a:lnTo>
                  <a:lnTo>
                    <a:pt x="680" y="2949"/>
                  </a:lnTo>
                  <a:lnTo>
                    <a:pt x="654" y="2944"/>
                  </a:lnTo>
                  <a:lnTo>
                    <a:pt x="625" y="2938"/>
                  </a:lnTo>
                  <a:lnTo>
                    <a:pt x="596" y="2930"/>
                  </a:lnTo>
                  <a:lnTo>
                    <a:pt x="565" y="2920"/>
                  </a:lnTo>
                  <a:lnTo>
                    <a:pt x="535" y="2912"/>
                  </a:lnTo>
                  <a:lnTo>
                    <a:pt x="504" y="2899"/>
                  </a:lnTo>
                  <a:lnTo>
                    <a:pt x="473" y="2888"/>
                  </a:lnTo>
                  <a:lnTo>
                    <a:pt x="444" y="2877"/>
                  </a:lnTo>
                  <a:lnTo>
                    <a:pt x="414" y="2865"/>
                  </a:lnTo>
                  <a:lnTo>
                    <a:pt x="387" y="2854"/>
                  </a:lnTo>
                  <a:lnTo>
                    <a:pt x="359" y="2842"/>
                  </a:lnTo>
                  <a:lnTo>
                    <a:pt x="333" y="2831"/>
                  </a:lnTo>
                  <a:lnTo>
                    <a:pt x="310" y="2821"/>
                  </a:lnTo>
                  <a:lnTo>
                    <a:pt x="288" y="2811"/>
                  </a:lnTo>
                  <a:lnTo>
                    <a:pt x="348" y="1710"/>
                  </a:lnTo>
                  <a:lnTo>
                    <a:pt x="323" y="1704"/>
                  </a:lnTo>
                  <a:lnTo>
                    <a:pt x="298" y="1697"/>
                  </a:lnTo>
                  <a:lnTo>
                    <a:pt x="269" y="1691"/>
                  </a:lnTo>
                  <a:lnTo>
                    <a:pt x="240" y="1687"/>
                  </a:lnTo>
                  <a:lnTo>
                    <a:pt x="209" y="1682"/>
                  </a:lnTo>
                  <a:lnTo>
                    <a:pt x="179" y="1677"/>
                  </a:lnTo>
                  <a:lnTo>
                    <a:pt x="148" y="1671"/>
                  </a:lnTo>
                  <a:lnTo>
                    <a:pt x="118" y="1667"/>
                  </a:lnTo>
                  <a:lnTo>
                    <a:pt x="92" y="1660"/>
                  </a:lnTo>
                  <a:lnTo>
                    <a:pt x="67" y="1655"/>
                  </a:lnTo>
                  <a:lnTo>
                    <a:pt x="45" y="1648"/>
                  </a:lnTo>
                  <a:lnTo>
                    <a:pt x="26" y="1639"/>
                  </a:lnTo>
                  <a:lnTo>
                    <a:pt x="12" y="1630"/>
                  </a:lnTo>
                  <a:lnTo>
                    <a:pt x="3" y="1619"/>
                  </a:lnTo>
                  <a:lnTo>
                    <a:pt x="0" y="1608"/>
                  </a:lnTo>
                  <a:lnTo>
                    <a:pt x="3" y="1594"/>
                  </a:lnTo>
                  <a:lnTo>
                    <a:pt x="33" y="1498"/>
                  </a:lnTo>
                  <a:lnTo>
                    <a:pt x="59" y="1403"/>
                  </a:lnTo>
                  <a:lnTo>
                    <a:pt x="86" y="1307"/>
                  </a:lnTo>
                  <a:lnTo>
                    <a:pt x="109" y="1212"/>
                  </a:lnTo>
                  <a:lnTo>
                    <a:pt x="133" y="1116"/>
                  </a:lnTo>
                  <a:lnTo>
                    <a:pt x="155" y="1020"/>
                  </a:lnTo>
                  <a:lnTo>
                    <a:pt x="177" y="925"/>
                  </a:lnTo>
                  <a:lnTo>
                    <a:pt x="199" y="831"/>
                  </a:lnTo>
                  <a:lnTo>
                    <a:pt x="221" y="736"/>
                  </a:lnTo>
                  <a:lnTo>
                    <a:pt x="244" y="645"/>
                  </a:lnTo>
                  <a:lnTo>
                    <a:pt x="267" y="553"/>
                  </a:lnTo>
                  <a:lnTo>
                    <a:pt x="292" y="461"/>
                  </a:lnTo>
                  <a:lnTo>
                    <a:pt x="318" y="371"/>
                  </a:lnTo>
                  <a:lnTo>
                    <a:pt x="344" y="282"/>
                  </a:lnTo>
                  <a:lnTo>
                    <a:pt x="375" y="196"/>
                  </a:lnTo>
                  <a:lnTo>
                    <a:pt x="408" y="109"/>
                  </a:lnTo>
                  <a:lnTo>
                    <a:pt x="418" y="88"/>
                  </a:lnTo>
                  <a:lnTo>
                    <a:pt x="430" y="70"/>
                  </a:lnTo>
                  <a:lnTo>
                    <a:pt x="444" y="56"/>
                  </a:lnTo>
                  <a:lnTo>
                    <a:pt x="461" y="44"/>
                  </a:lnTo>
                  <a:lnTo>
                    <a:pt x="479" y="34"/>
                  </a:lnTo>
                  <a:lnTo>
                    <a:pt x="497" y="26"/>
                  </a:lnTo>
                  <a:lnTo>
                    <a:pt x="517" y="19"/>
                  </a:lnTo>
                  <a:lnTo>
                    <a:pt x="538" y="15"/>
                  </a:lnTo>
                  <a:lnTo>
                    <a:pt x="560" y="11"/>
                  </a:lnTo>
                  <a:lnTo>
                    <a:pt x="582" y="9"/>
                  </a:lnTo>
                  <a:lnTo>
                    <a:pt x="605" y="7"/>
                  </a:lnTo>
                  <a:lnTo>
                    <a:pt x="629" y="6"/>
                  </a:lnTo>
                  <a:lnTo>
                    <a:pt x="652" y="6"/>
                  </a:lnTo>
                  <a:lnTo>
                    <a:pt x="675" y="5"/>
                  </a:lnTo>
                  <a:lnTo>
                    <a:pt x="698" y="4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8205840" y="2694960"/>
              <a:ext cx="27720" cy="131040"/>
            </a:xfrm>
            <a:custGeom>
              <a:avLst/>
              <a:gdLst/>
              <a:ahLst/>
              <a:rect l="l" t="t" r="r" b="b"/>
              <a:pathLst>
                <a:path w="62" h="307">
                  <a:moveTo>
                    <a:pt x="62" y="307"/>
                  </a:moveTo>
                  <a:lnTo>
                    <a:pt x="62" y="307"/>
                  </a:lnTo>
                  <a:lnTo>
                    <a:pt x="62" y="264"/>
                  </a:lnTo>
                  <a:lnTo>
                    <a:pt x="62" y="224"/>
                  </a:lnTo>
                  <a:lnTo>
                    <a:pt x="59" y="187"/>
                  </a:lnTo>
                  <a:lnTo>
                    <a:pt x="56" y="148"/>
                  </a:lnTo>
                  <a:lnTo>
                    <a:pt x="49" y="110"/>
                  </a:lnTo>
                  <a:lnTo>
                    <a:pt x="41" y="72"/>
                  </a:lnTo>
                  <a:lnTo>
                    <a:pt x="32" y="37"/>
                  </a:lnTo>
                  <a:lnTo>
                    <a:pt x="21" y="0"/>
                  </a:lnTo>
                  <a:lnTo>
                    <a:pt x="0" y="6"/>
                  </a:lnTo>
                  <a:lnTo>
                    <a:pt x="10" y="42"/>
                  </a:lnTo>
                  <a:lnTo>
                    <a:pt x="20" y="77"/>
                  </a:lnTo>
                  <a:lnTo>
                    <a:pt x="28" y="112"/>
                  </a:lnTo>
                  <a:lnTo>
                    <a:pt x="35" y="150"/>
                  </a:lnTo>
                  <a:lnTo>
                    <a:pt x="38" y="187"/>
                  </a:lnTo>
                  <a:lnTo>
                    <a:pt x="41" y="224"/>
                  </a:lnTo>
                  <a:lnTo>
                    <a:pt x="41" y="264"/>
                  </a:lnTo>
                  <a:lnTo>
                    <a:pt x="41" y="307"/>
                  </a:lnTo>
                  <a:lnTo>
                    <a:pt x="41" y="307"/>
                  </a:lnTo>
                  <a:lnTo>
                    <a:pt x="6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8196840" y="2826000"/>
              <a:ext cx="18360" cy="669960"/>
            </a:xfrm>
            <a:custGeom>
              <a:avLst/>
              <a:gdLst/>
              <a:ahLst/>
              <a:rect l="l" t="t" r="r" b="b"/>
              <a:pathLst>
                <a:path w="42" h="1561">
                  <a:moveTo>
                    <a:pt x="39" y="1561"/>
                  </a:moveTo>
                  <a:lnTo>
                    <a:pt x="39" y="1561"/>
                  </a:lnTo>
                  <a:lnTo>
                    <a:pt x="42" y="1371"/>
                  </a:lnTo>
                  <a:lnTo>
                    <a:pt x="41" y="1178"/>
                  </a:lnTo>
                  <a:lnTo>
                    <a:pt x="37" y="981"/>
                  </a:lnTo>
                  <a:lnTo>
                    <a:pt x="32" y="782"/>
                  </a:lnTo>
                  <a:lnTo>
                    <a:pt x="27" y="585"/>
                  </a:lnTo>
                  <a:lnTo>
                    <a:pt x="22" y="386"/>
                  </a:lnTo>
                  <a:lnTo>
                    <a:pt x="21" y="192"/>
                  </a:lnTo>
                  <a:lnTo>
                    <a:pt x="24" y="0"/>
                  </a:lnTo>
                  <a:lnTo>
                    <a:pt x="3" y="0"/>
                  </a:lnTo>
                  <a:lnTo>
                    <a:pt x="0" y="192"/>
                  </a:lnTo>
                  <a:lnTo>
                    <a:pt x="1" y="386"/>
                  </a:lnTo>
                  <a:lnTo>
                    <a:pt x="6" y="585"/>
                  </a:lnTo>
                  <a:lnTo>
                    <a:pt x="10" y="782"/>
                  </a:lnTo>
                  <a:lnTo>
                    <a:pt x="16" y="981"/>
                  </a:lnTo>
                  <a:lnTo>
                    <a:pt x="20" y="1178"/>
                  </a:lnTo>
                  <a:lnTo>
                    <a:pt x="21" y="1371"/>
                  </a:lnTo>
                  <a:lnTo>
                    <a:pt x="18" y="1561"/>
                  </a:lnTo>
                  <a:lnTo>
                    <a:pt x="18" y="1561"/>
                  </a:lnTo>
                  <a:lnTo>
                    <a:pt x="39" y="15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8199000" y="3495960"/>
              <a:ext cx="29880" cy="473040"/>
            </a:xfrm>
            <a:custGeom>
              <a:avLst/>
              <a:gdLst/>
              <a:ahLst/>
              <a:rect l="l" t="t" r="r" b="b"/>
              <a:pathLst>
                <a:path w="68" h="1098">
                  <a:moveTo>
                    <a:pt x="10" y="1098"/>
                  </a:moveTo>
                  <a:lnTo>
                    <a:pt x="15" y="1097"/>
                  </a:lnTo>
                  <a:lnTo>
                    <a:pt x="36" y="1051"/>
                  </a:lnTo>
                  <a:lnTo>
                    <a:pt x="47" y="961"/>
                  </a:lnTo>
                  <a:lnTo>
                    <a:pt x="53" y="833"/>
                  </a:lnTo>
                  <a:lnTo>
                    <a:pt x="57" y="678"/>
                  </a:lnTo>
                  <a:lnTo>
                    <a:pt x="59" y="506"/>
                  </a:lnTo>
                  <a:lnTo>
                    <a:pt x="62" y="328"/>
                  </a:lnTo>
                  <a:lnTo>
                    <a:pt x="64" y="156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3" y="156"/>
                  </a:lnTo>
                  <a:lnTo>
                    <a:pt x="40" y="328"/>
                  </a:lnTo>
                  <a:lnTo>
                    <a:pt x="38" y="506"/>
                  </a:lnTo>
                  <a:lnTo>
                    <a:pt x="36" y="678"/>
                  </a:lnTo>
                  <a:lnTo>
                    <a:pt x="32" y="833"/>
                  </a:lnTo>
                  <a:lnTo>
                    <a:pt x="26" y="961"/>
                  </a:lnTo>
                  <a:lnTo>
                    <a:pt x="15" y="1049"/>
                  </a:lnTo>
                  <a:lnTo>
                    <a:pt x="6" y="1078"/>
                  </a:lnTo>
                  <a:lnTo>
                    <a:pt x="10" y="1077"/>
                  </a:lnTo>
                  <a:lnTo>
                    <a:pt x="6" y="1078"/>
                  </a:lnTo>
                  <a:lnTo>
                    <a:pt x="0" y="1084"/>
                  </a:lnTo>
                  <a:lnTo>
                    <a:pt x="1" y="1092"/>
                  </a:lnTo>
                  <a:lnTo>
                    <a:pt x="7" y="1097"/>
                  </a:lnTo>
                  <a:lnTo>
                    <a:pt x="15" y="1097"/>
                  </a:lnTo>
                  <a:lnTo>
                    <a:pt x="10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8224200" y="3898080"/>
              <a:ext cx="209160" cy="70920"/>
            </a:xfrm>
            <a:custGeom>
              <a:avLst/>
              <a:gdLst/>
              <a:ahLst/>
              <a:rect l="l" t="t" r="r" b="b"/>
              <a:pathLst>
                <a:path w="451" h="162">
                  <a:moveTo>
                    <a:pt x="0" y="9"/>
                  </a:moveTo>
                  <a:lnTo>
                    <a:pt x="7" y="19"/>
                  </a:lnTo>
                  <a:lnTo>
                    <a:pt x="28" y="27"/>
                  </a:lnTo>
                  <a:lnTo>
                    <a:pt x="52" y="38"/>
                  </a:lnTo>
                  <a:lnTo>
                    <a:pt x="78" y="48"/>
                  </a:lnTo>
                  <a:lnTo>
                    <a:pt x="104" y="61"/>
                  </a:lnTo>
                  <a:lnTo>
                    <a:pt x="133" y="73"/>
                  </a:lnTo>
                  <a:lnTo>
                    <a:pt x="163" y="84"/>
                  </a:lnTo>
                  <a:lnTo>
                    <a:pt x="192" y="96"/>
                  </a:lnTo>
                  <a:lnTo>
                    <a:pt x="223" y="107"/>
                  </a:lnTo>
                  <a:lnTo>
                    <a:pt x="253" y="120"/>
                  </a:lnTo>
                  <a:lnTo>
                    <a:pt x="285" y="130"/>
                  </a:lnTo>
                  <a:lnTo>
                    <a:pt x="316" y="138"/>
                  </a:lnTo>
                  <a:lnTo>
                    <a:pt x="345" y="147"/>
                  </a:lnTo>
                  <a:lnTo>
                    <a:pt x="375" y="153"/>
                  </a:lnTo>
                  <a:lnTo>
                    <a:pt x="401" y="157"/>
                  </a:lnTo>
                  <a:lnTo>
                    <a:pt x="428" y="161"/>
                  </a:lnTo>
                  <a:lnTo>
                    <a:pt x="451" y="162"/>
                  </a:lnTo>
                  <a:lnTo>
                    <a:pt x="451" y="141"/>
                  </a:lnTo>
                  <a:lnTo>
                    <a:pt x="428" y="140"/>
                  </a:lnTo>
                  <a:lnTo>
                    <a:pt x="403" y="136"/>
                  </a:lnTo>
                  <a:lnTo>
                    <a:pt x="377" y="132"/>
                  </a:lnTo>
                  <a:lnTo>
                    <a:pt x="349" y="126"/>
                  </a:lnTo>
                  <a:lnTo>
                    <a:pt x="320" y="117"/>
                  </a:lnTo>
                  <a:lnTo>
                    <a:pt x="289" y="108"/>
                  </a:lnTo>
                  <a:lnTo>
                    <a:pt x="260" y="98"/>
                  </a:lnTo>
                  <a:lnTo>
                    <a:pt x="229" y="88"/>
                  </a:lnTo>
                  <a:lnTo>
                    <a:pt x="198" y="77"/>
                  </a:lnTo>
                  <a:lnTo>
                    <a:pt x="170" y="65"/>
                  </a:lnTo>
                  <a:lnTo>
                    <a:pt x="140" y="54"/>
                  </a:lnTo>
                  <a:lnTo>
                    <a:pt x="112" y="42"/>
                  </a:lnTo>
                  <a:lnTo>
                    <a:pt x="84" y="30"/>
                  </a:lnTo>
                  <a:lnTo>
                    <a:pt x="59" y="20"/>
                  </a:lnTo>
                  <a:lnTo>
                    <a:pt x="35" y="9"/>
                  </a:lnTo>
                  <a:lnTo>
                    <a:pt x="14" y="0"/>
                  </a:lnTo>
                  <a:lnTo>
                    <a:pt x="21" y="9"/>
                  </a:lnTo>
                  <a:lnTo>
                    <a:pt x="14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1" y="13"/>
                  </a:lnTo>
                  <a:lnTo>
                    <a:pt x="7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8397000" y="3425400"/>
              <a:ext cx="36720" cy="477000"/>
            </a:xfrm>
            <a:custGeom>
              <a:avLst/>
              <a:gdLst/>
              <a:ahLst/>
              <a:rect l="l" t="t" r="r" b="b"/>
              <a:pathLst>
                <a:path w="80" h="1112">
                  <a:moveTo>
                    <a:pt x="65" y="22"/>
                  </a:moveTo>
                  <a:lnTo>
                    <a:pt x="59" y="11"/>
                  </a:lnTo>
                  <a:lnTo>
                    <a:pt x="0" y="1112"/>
                  </a:lnTo>
                  <a:lnTo>
                    <a:pt x="21" y="1112"/>
                  </a:lnTo>
                  <a:lnTo>
                    <a:pt x="80" y="11"/>
                  </a:lnTo>
                  <a:lnTo>
                    <a:pt x="73" y="0"/>
                  </a:lnTo>
                  <a:lnTo>
                    <a:pt x="80" y="11"/>
                  </a:lnTo>
                  <a:lnTo>
                    <a:pt x="76" y="3"/>
                  </a:lnTo>
                  <a:lnTo>
                    <a:pt x="70" y="0"/>
                  </a:lnTo>
                  <a:lnTo>
                    <a:pt x="62" y="3"/>
                  </a:lnTo>
                  <a:lnTo>
                    <a:pt x="59" y="11"/>
                  </a:lnTo>
                  <a:lnTo>
                    <a:pt x="6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8401680" y="3375720"/>
              <a:ext cx="167040" cy="58320"/>
            </a:xfrm>
            <a:custGeom>
              <a:avLst/>
              <a:gdLst/>
              <a:ahLst/>
              <a:rect l="l" t="t" r="r" b="b"/>
              <a:pathLst>
                <a:path w="361" h="137">
                  <a:moveTo>
                    <a:pt x="3" y="7"/>
                  </a:moveTo>
                  <a:lnTo>
                    <a:pt x="4" y="6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54"/>
                  </a:lnTo>
                  <a:lnTo>
                    <a:pt x="31" y="65"/>
                  </a:lnTo>
                  <a:lnTo>
                    <a:pt x="51" y="73"/>
                  </a:lnTo>
                  <a:lnTo>
                    <a:pt x="75" y="82"/>
                  </a:lnTo>
                  <a:lnTo>
                    <a:pt x="99" y="87"/>
                  </a:lnTo>
                  <a:lnTo>
                    <a:pt x="127" y="93"/>
                  </a:lnTo>
                  <a:lnTo>
                    <a:pt x="157" y="98"/>
                  </a:lnTo>
                  <a:lnTo>
                    <a:pt x="188" y="104"/>
                  </a:lnTo>
                  <a:lnTo>
                    <a:pt x="218" y="108"/>
                  </a:lnTo>
                  <a:lnTo>
                    <a:pt x="249" y="113"/>
                  </a:lnTo>
                  <a:lnTo>
                    <a:pt x="278" y="118"/>
                  </a:lnTo>
                  <a:lnTo>
                    <a:pt x="307" y="124"/>
                  </a:lnTo>
                  <a:lnTo>
                    <a:pt x="331" y="130"/>
                  </a:lnTo>
                  <a:lnTo>
                    <a:pt x="353" y="137"/>
                  </a:lnTo>
                  <a:lnTo>
                    <a:pt x="361" y="115"/>
                  </a:lnTo>
                  <a:lnTo>
                    <a:pt x="336" y="108"/>
                  </a:lnTo>
                  <a:lnTo>
                    <a:pt x="309" y="103"/>
                  </a:lnTo>
                  <a:lnTo>
                    <a:pt x="281" y="96"/>
                  </a:lnTo>
                  <a:lnTo>
                    <a:pt x="251" y="92"/>
                  </a:lnTo>
                  <a:lnTo>
                    <a:pt x="220" y="87"/>
                  </a:lnTo>
                  <a:lnTo>
                    <a:pt x="190" y="83"/>
                  </a:lnTo>
                  <a:lnTo>
                    <a:pt x="159" y="76"/>
                  </a:lnTo>
                  <a:lnTo>
                    <a:pt x="130" y="72"/>
                  </a:lnTo>
                  <a:lnTo>
                    <a:pt x="104" y="66"/>
                  </a:lnTo>
                  <a:lnTo>
                    <a:pt x="79" y="61"/>
                  </a:lnTo>
                  <a:lnTo>
                    <a:pt x="58" y="54"/>
                  </a:lnTo>
                  <a:lnTo>
                    <a:pt x="41" y="46"/>
                  </a:lnTo>
                  <a:lnTo>
                    <a:pt x="28" y="37"/>
                  </a:lnTo>
                  <a:lnTo>
                    <a:pt x="23" y="31"/>
                  </a:lnTo>
                  <a:lnTo>
                    <a:pt x="21" y="2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3" y="5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8370720" y="2739600"/>
              <a:ext cx="195480" cy="640080"/>
            </a:xfrm>
            <a:custGeom>
              <a:avLst/>
              <a:gdLst/>
              <a:ahLst/>
              <a:rect l="l" t="t" r="r" b="b"/>
              <a:pathLst>
                <a:path w="423" h="1490">
                  <a:moveTo>
                    <a:pt x="405" y="0"/>
                  </a:moveTo>
                  <a:lnTo>
                    <a:pt x="405" y="0"/>
                  </a:lnTo>
                  <a:lnTo>
                    <a:pt x="374" y="86"/>
                  </a:lnTo>
                  <a:lnTo>
                    <a:pt x="341" y="174"/>
                  </a:lnTo>
                  <a:lnTo>
                    <a:pt x="314" y="263"/>
                  </a:lnTo>
                  <a:lnTo>
                    <a:pt x="288" y="353"/>
                  </a:lnTo>
                  <a:lnTo>
                    <a:pt x="264" y="445"/>
                  </a:lnTo>
                  <a:lnTo>
                    <a:pt x="241" y="536"/>
                  </a:lnTo>
                  <a:lnTo>
                    <a:pt x="217" y="628"/>
                  </a:lnTo>
                  <a:lnTo>
                    <a:pt x="195" y="723"/>
                  </a:lnTo>
                  <a:lnTo>
                    <a:pt x="173" y="817"/>
                  </a:lnTo>
                  <a:lnTo>
                    <a:pt x="152" y="911"/>
                  </a:lnTo>
                  <a:lnTo>
                    <a:pt x="130" y="1007"/>
                  </a:lnTo>
                  <a:lnTo>
                    <a:pt x="105" y="1102"/>
                  </a:lnTo>
                  <a:lnTo>
                    <a:pt x="82" y="1199"/>
                  </a:lnTo>
                  <a:lnTo>
                    <a:pt x="57" y="1294"/>
                  </a:lnTo>
                  <a:lnTo>
                    <a:pt x="29" y="1390"/>
                  </a:lnTo>
                  <a:lnTo>
                    <a:pt x="0" y="1485"/>
                  </a:lnTo>
                  <a:lnTo>
                    <a:pt x="21" y="1490"/>
                  </a:lnTo>
                  <a:lnTo>
                    <a:pt x="50" y="1394"/>
                  </a:lnTo>
                  <a:lnTo>
                    <a:pt x="78" y="1299"/>
                  </a:lnTo>
                  <a:lnTo>
                    <a:pt x="103" y="1203"/>
                  </a:lnTo>
                  <a:lnTo>
                    <a:pt x="127" y="1108"/>
                  </a:lnTo>
                  <a:lnTo>
                    <a:pt x="151" y="1012"/>
                  </a:lnTo>
                  <a:lnTo>
                    <a:pt x="173" y="917"/>
                  </a:lnTo>
                  <a:lnTo>
                    <a:pt x="194" y="823"/>
                  </a:lnTo>
                  <a:lnTo>
                    <a:pt x="216" y="728"/>
                  </a:lnTo>
                  <a:lnTo>
                    <a:pt x="238" y="634"/>
                  </a:lnTo>
                  <a:lnTo>
                    <a:pt x="262" y="542"/>
                  </a:lnTo>
                  <a:lnTo>
                    <a:pt x="285" y="450"/>
                  </a:lnTo>
                  <a:lnTo>
                    <a:pt x="309" y="357"/>
                  </a:lnTo>
                  <a:lnTo>
                    <a:pt x="336" y="267"/>
                  </a:lnTo>
                  <a:lnTo>
                    <a:pt x="363" y="180"/>
                  </a:lnTo>
                  <a:lnTo>
                    <a:pt x="392" y="93"/>
                  </a:lnTo>
                  <a:lnTo>
                    <a:pt x="423" y="7"/>
                  </a:lnTo>
                  <a:lnTo>
                    <a:pt x="423" y="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8224560" y="2690280"/>
              <a:ext cx="153360" cy="53280"/>
            </a:xfrm>
            <a:custGeom>
              <a:avLst/>
              <a:gdLst/>
              <a:ahLst/>
              <a:rect l="l" t="t" r="r" b="b"/>
              <a:pathLst>
                <a:path w="333" h="123">
                  <a:moveTo>
                    <a:pt x="333" y="8"/>
                  </a:moveTo>
                  <a:lnTo>
                    <a:pt x="322" y="0"/>
                  </a:lnTo>
                  <a:lnTo>
                    <a:pt x="300" y="3"/>
                  </a:lnTo>
                  <a:lnTo>
                    <a:pt x="277" y="4"/>
                  </a:lnTo>
                  <a:lnTo>
                    <a:pt x="254" y="5"/>
                  </a:lnTo>
                  <a:lnTo>
                    <a:pt x="231" y="5"/>
                  </a:lnTo>
                  <a:lnTo>
                    <a:pt x="207" y="6"/>
                  </a:lnTo>
                  <a:lnTo>
                    <a:pt x="184" y="8"/>
                  </a:lnTo>
                  <a:lnTo>
                    <a:pt x="160" y="10"/>
                  </a:lnTo>
                  <a:lnTo>
                    <a:pt x="139" y="15"/>
                  </a:lnTo>
                  <a:lnTo>
                    <a:pt x="116" y="19"/>
                  </a:lnTo>
                  <a:lnTo>
                    <a:pt x="95" y="26"/>
                  </a:lnTo>
                  <a:lnTo>
                    <a:pt x="75" y="35"/>
                  </a:lnTo>
                  <a:lnTo>
                    <a:pt x="56" y="45"/>
                  </a:lnTo>
                  <a:lnTo>
                    <a:pt x="38" y="58"/>
                  </a:lnTo>
                  <a:lnTo>
                    <a:pt x="24" y="74"/>
                  </a:lnTo>
                  <a:lnTo>
                    <a:pt x="11" y="94"/>
                  </a:lnTo>
                  <a:lnTo>
                    <a:pt x="0" y="116"/>
                  </a:lnTo>
                  <a:lnTo>
                    <a:pt x="18" y="123"/>
                  </a:lnTo>
                  <a:lnTo>
                    <a:pt x="30" y="103"/>
                  </a:lnTo>
                  <a:lnTo>
                    <a:pt x="40" y="88"/>
                  </a:lnTo>
                  <a:lnTo>
                    <a:pt x="53" y="75"/>
                  </a:lnTo>
                  <a:lnTo>
                    <a:pt x="68" y="61"/>
                  </a:lnTo>
                  <a:lnTo>
                    <a:pt x="85" y="54"/>
                  </a:lnTo>
                  <a:lnTo>
                    <a:pt x="103" y="45"/>
                  </a:lnTo>
                  <a:lnTo>
                    <a:pt x="122" y="40"/>
                  </a:lnTo>
                  <a:lnTo>
                    <a:pt x="142" y="36"/>
                  </a:lnTo>
                  <a:lnTo>
                    <a:pt x="163" y="33"/>
                  </a:lnTo>
                  <a:lnTo>
                    <a:pt x="184" y="29"/>
                  </a:lnTo>
                  <a:lnTo>
                    <a:pt x="207" y="27"/>
                  </a:lnTo>
                  <a:lnTo>
                    <a:pt x="231" y="26"/>
                  </a:lnTo>
                  <a:lnTo>
                    <a:pt x="254" y="26"/>
                  </a:lnTo>
                  <a:lnTo>
                    <a:pt x="277" y="25"/>
                  </a:lnTo>
                  <a:lnTo>
                    <a:pt x="300" y="24"/>
                  </a:lnTo>
                  <a:lnTo>
                    <a:pt x="322" y="21"/>
                  </a:lnTo>
                  <a:lnTo>
                    <a:pt x="312" y="14"/>
                  </a:lnTo>
                  <a:lnTo>
                    <a:pt x="322" y="21"/>
                  </a:lnTo>
                  <a:lnTo>
                    <a:pt x="331" y="18"/>
                  </a:lnTo>
                  <a:lnTo>
                    <a:pt x="333" y="10"/>
                  </a:lnTo>
                  <a:lnTo>
                    <a:pt x="331" y="4"/>
                  </a:lnTo>
                  <a:lnTo>
                    <a:pt x="322" y="0"/>
                  </a:lnTo>
                  <a:lnTo>
                    <a:pt x="3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8050680" y="2692440"/>
              <a:ext cx="59760" cy="451080"/>
            </a:xfrm>
            <a:custGeom>
              <a:avLst/>
              <a:gdLst/>
              <a:ahLst/>
              <a:rect l="l" t="t" r="r" b="b"/>
              <a:pathLst>
                <a:path w="132" h="1049">
                  <a:moveTo>
                    <a:pt x="62" y="2"/>
                  </a:moveTo>
                  <a:lnTo>
                    <a:pt x="73" y="32"/>
                  </a:lnTo>
                  <a:lnTo>
                    <a:pt x="83" y="72"/>
                  </a:lnTo>
                  <a:lnTo>
                    <a:pt x="95" y="120"/>
                  </a:lnTo>
                  <a:lnTo>
                    <a:pt x="105" y="174"/>
                  </a:lnTo>
                  <a:lnTo>
                    <a:pt x="115" y="230"/>
                  </a:lnTo>
                  <a:lnTo>
                    <a:pt x="123" y="285"/>
                  </a:lnTo>
                  <a:lnTo>
                    <a:pt x="130" y="338"/>
                  </a:lnTo>
                  <a:lnTo>
                    <a:pt x="132" y="384"/>
                  </a:lnTo>
                  <a:lnTo>
                    <a:pt x="130" y="392"/>
                  </a:lnTo>
                  <a:lnTo>
                    <a:pt x="124" y="396"/>
                  </a:lnTo>
                  <a:lnTo>
                    <a:pt x="118" y="401"/>
                  </a:lnTo>
                  <a:lnTo>
                    <a:pt x="110" y="403"/>
                  </a:lnTo>
                  <a:lnTo>
                    <a:pt x="101" y="406"/>
                  </a:lnTo>
                  <a:lnTo>
                    <a:pt x="93" y="409"/>
                  </a:lnTo>
                  <a:lnTo>
                    <a:pt x="87" y="414"/>
                  </a:lnTo>
                  <a:lnTo>
                    <a:pt x="84" y="419"/>
                  </a:lnTo>
                  <a:lnTo>
                    <a:pt x="92" y="426"/>
                  </a:lnTo>
                  <a:lnTo>
                    <a:pt x="100" y="430"/>
                  </a:lnTo>
                  <a:lnTo>
                    <a:pt x="109" y="434"/>
                  </a:lnTo>
                  <a:lnTo>
                    <a:pt x="116" y="437"/>
                  </a:lnTo>
                  <a:lnTo>
                    <a:pt x="123" y="440"/>
                  </a:lnTo>
                  <a:lnTo>
                    <a:pt x="130" y="448"/>
                  </a:lnTo>
                  <a:lnTo>
                    <a:pt x="132" y="456"/>
                  </a:lnTo>
                  <a:lnTo>
                    <a:pt x="131" y="469"/>
                  </a:lnTo>
                  <a:lnTo>
                    <a:pt x="122" y="534"/>
                  </a:lnTo>
                  <a:lnTo>
                    <a:pt x="116" y="599"/>
                  </a:lnTo>
                  <a:lnTo>
                    <a:pt x="111" y="663"/>
                  </a:lnTo>
                  <a:lnTo>
                    <a:pt x="104" y="728"/>
                  </a:lnTo>
                  <a:lnTo>
                    <a:pt x="98" y="791"/>
                  </a:lnTo>
                  <a:lnTo>
                    <a:pt x="90" y="855"/>
                  </a:lnTo>
                  <a:lnTo>
                    <a:pt x="80" y="918"/>
                  </a:lnTo>
                  <a:lnTo>
                    <a:pt x="67" y="980"/>
                  </a:lnTo>
                  <a:lnTo>
                    <a:pt x="63" y="998"/>
                  </a:lnTo>
                  <a:lnTo>
                    <a:pt x="57" y="1015"/>
                  </a:lnTo>
                  <a:lnTo>
                    <a:pt x="49" y="1032"/>
                  </a:lnTo>
                  <a:lnTo>
                    <a:pt x="46" y="1049"/>
                  </a:lnTo>
                  <a:lnTo>
                    <a:pt x="41" y="880"/>
                  </a:lnTo>
                  <a:lnTo>
                    <a:pt x="30" y="705"/>
                  </a:lnTo>
                  <a:lnTo>
                    <a:pt x="19" y="530"/>
                  </a:lnTo>
                  <a:lnTo>
                    <a:pt x="14" y="358"/>
                  </a:lnTo>
                  <a:lnTo>
                    <a:pt x="11" y="278"/>
                  </a:lnTo>
                  <a:lnTo>
                    <a:pt x="7" y="193"/>
                  </a:lnTo>
                  <a:lnTo>
                    <a:pt x="2" y="111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9" y="23"/>
                  </a:lnTo>
                  <a:lnTo>
                    <a:pt x="18" y="16"/>
                  </a:lnTo>
                  <a:lnTo>
                    <a:pt x="28" y="11"/>
                  </a:lnTo>
                  <a:lnTo>
                    <a:pt x="39" y="4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8045640" y="2692440"/>
              <a:ext cx="41400" cy="165600"/>
            </a:xfrm>
            <a:custGeom>
              <a:avLst/>
              <a:gdLst/>
              <a:ahLst/>
              <a:rect l="l" t="t" r="r" b="b"/>
              <a:pathLst>
                <a:path w="89" h="385">
                  <a:moveTo>
                    <a:pt x="89" y="385"/>
                  </a:moveTo>
                  <a:lnTo>
                    <a:pt x="89" y="385"/>
                  </a:lnTo>
                  <a:lnTo>
                    <a:pt x="87" y="339"/>
                  </a:lnTo>
                  <a:lnTo>
                    <a:pt x="81" y="285"/>
                  </a:lnTo>
                  <a:lnTo>
                    <a:pt x="72" y="229"/>
                  </a:lnTo>
                  <a:lnTo>
                    <a:pt x="63" y="174"/>
                  </a:lnTo>
                  <a:lnTo>
                    <a:pt x="52" y="120"/>
                  </a:lnTo>
                  <a:lnTo>
                    <a:pt x="41" y="71"/>
                  </a:lnTo>
                  <a:lnTo>
                    <a:pt x="30" y="31"/>
                  </a:lnTo>
                  <a:lnTo>
                    <a:pt x="19" y="0"/>
                  </a:lnTo>
                  <a:lnTo>
                    <a:pt x="0" y="6"/>
                  </a:lnTo>
                  <a:lnTo>
                    <a:pt x="9" y="35"/>
                  </a:lnTo>
                  <a:lnTo>
                    <a:pt x="20" y="75"/>
                  </a:lnTo>
                  <a:lnTo>
                    <a:pt x="31" y="123"/>
                  </a:lnTo>
                  <a:lnTo>
                    <a:pt x="42" y="176"/>
                  </a:lnTo>
                  <a:lnTo>
                    <a:pt x="51" y="232"/>
                  </a:lnTo>
                  <a:lnTo>
                    <a:pt x="60" y="287"/>
                  </a:lnTo>
                  <a:lnTo>
                    <a:pt x="66" y="339"/>
                  </a:lnTo>
                  <a:lnTo>
                    <a:pt x="68" y="385"/>
                  </a:lnTo>
                  <a:lnTo>
                    <a:pt x="68" y="385"/>
                  </a:lnTo>
                  <a:lnTo>
                    <a:pt x="89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8046000" y="2858040"/>
              <a:ext cx="32400" cy="1872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19" y="29"/>
                  </a:moveTo>
                  <a:lnTo>
                    <a:pt x="21" y="37"/>
                  </a:lnTo>
                  <a:lnTo>
                    <a:pt x="21" y="35"/>
                  </a:lnTo>
                  <a:lnTo>
                    <a:pt x="24" y="34"/>
                  </a:lnTo>
                  <a:lnTo>
                    <a:pt x="30" y="31"/>
                  </a:lnTo>
                  <a:lnTo>
                    <a:pt x="38" y="30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5" y="12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6" y="3"/>
                  </a:lnTo>
                  <a:lnTo>
                    <a:pt x="45" y="4"/>
                  </a:lnTo>
                  <a:lnTo>
                    <a:pt x="40" y="8"/>
                  </a:lnTo>
                  <a:lnTo>
                    <a:pt x="33" y="9"/>
                  </a:lnTo>
                  <a:lnTo>
                    <a:pt x="24" y="12"/>
                  </a:lnTo>
                  <a:lnTo>
                    <a:pt x="14" y="15"/>
                  </a:lnTo>
                  <a:lnTo>
                    <a:pt x="5" y="24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9" y="46"/>
                  </a:lnTo>
                  <a:lnTo>
                    <a:pt x="18" y="44"/>
                  </a:lnTo>
                  <a:lnTo>
                    <a:pt x="21" y="37"/>
                  </a:lnTo>
                  <a:lnTo>
                    <a:pt x="1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8045280" y="2868840"/>
              <a:ext cx="29880" cy="2988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64" y="57"/>
                  </a:moveTo>
                  <a:lnTo>
                    <a:pt x="64" y="57"/>
                  </a:lnTo>
                  <a:lnTo>
                    <a:pt x="65" y="43"/>
                  </a:lnTo>
                  <a:lnTo>
                    <a:pt x="62" y="31"/>
                  </a:lnTo>
                  <a:lnTo>
                    <a:pt x="53" y="20"/>
                  </a:lnTo>
                  <a:lnTo>
                    <a:pt x="43" y="15"/>
                  </a:lnTo>
                  <a:lnTo>
                    <a:pt x="35" y="12"/>
                  </a:lnTo>
                  <a:lnTo>
                    <a:pt x="27" y="8"/>
                  </a:lnTo>
                  <a:lnTo>
                    <a:pt x="21" y="4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8" y="21"/>
                  </a:lnTo>
                  <a:lnTo>
                    <a:pt x="18" y="26"/>
                  </a:lnTo>
                  <a:lnTo>
                    <a:pt x="27" y="31"/>
                  </a:lnTo>
                  <a:lnTo>
                    <a:pt x="36" y="34"/>
                  </a:lnTo>
                  <a:lnTo>
                    <a:pt x="41" y="36"/>
                  </a:lnTo>
                  <a:lnTo>
                    <a:pt x="43" y="40"/>
                  </a:lnTo>
                  <a:lnTo>
                    <a:pt x="44" y="43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5" y="63"/>
                  </a:lnTo>
                  <a:lnTo>
                    <a:pt x="53" y="67"/>
                  </a:lnTo>
                  <a:lnTo>
                    <a:pt x="61" y="64"/>
                  </a:lnTo>
                  <a:lnTo>
                    <a:pt x="64" y="57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8045640" y="2892240"/>
              <a:ext cx="39240" cy="221040"/>
            </a:xfrm>
            <a:custGeom>
              <a:avLst/>
              <a:gdLst/>
              <a:ahLst/>
              <a:rect l="l" t="t" r="r" b="b"/>
              <a:pathLst>
                <a:path w="84" h="514">
                  <a:moveTo>
                    <a:pt x="21" y="512"/>
                  </a:moveTo>
                  <a:lnTo>
                    <a:pt x="21" y="514"/>
                  </a:lnTo>
                  <a:lnTo>
                    <a:pt x="34" y="451"/>
                  </a:lnTo>
                  <a:lnTo>
                    <a:pt x="43" y="388"/>
                  </a:lnTo>
                  <a:lnTo>
                    <a:pt x="52" y="324"/>
                  </a:lnTo>
                  <a:lnTo>
                    <a:pt x="58" y="260"/>
                  </a:lnTo>
                  <a:lnTo>
                    <a:pt x="64" y="195"/>
                  </a:lnTo>
                  <a:lnTo>
                    <a:pt x="71" y="131"/>
                  </a:lnTo>
                  <a:lnTo>
                    <a:pt x="76" y="67"/>
                  </a:lnTo>
                  <a:lnTo>
                    <a:pt x="84" y="2"/>
                  </a:lnTo>
                  <a:lnTo>
                    <a:pt x="63" y="0"/>
                  </a:lnTo>
                  <a:lnTo>
                    <a:pt x="55" y="65"/>
                  </a:lnTo>
                  <a:lnTo>
                    <a:pt x="48" y="131"/>
                  </a:lnTo>
                  <a:lnTo>
                    <a:pt x="43" y="195"/>
                  </a:lnTo>
                  <a:lnTo>
                    <a:pt x="37" y="260"/>
                  </a:lnTo>
                  <a:lnTo>
                    <a:pt x="30" y="322"/>
                  </a:lnTo>
                  <a:lnTo>
                    <a:pt x="22" y="386"/>
                  </a:lnTo>
                  <a:lnTo>
                    <a:pt x="12" y="449"/>
                  </a:lnTo>
                  <a:lnTo>
                    <a:pt x="0" y="510"/>
                  </a:lnTo>
                  <a:lnTo>
                    <a:pt x="0" y="512"/>
                  </a:lnTo>
                  <a:lnTo>
                    <a:pt x="21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8075520" y="3113640"/>
              <a:ext cx="18360" cy="34560"/>
            </a:xfrm>
            <a:custGeom>
              <a:avLst/>
              <a:gdLst/>
              <a:ahLst/>
              <a:rect l="l" t="t" r="r" b="b"/>
              <a:pathLst>
                <a:path w="42" h="79">
                  <a:moveTo>
                    <a:pt x="0" y="69"/>
                  </a:moveTo>
                  <a:lnTo>
                    <a:pt x="21" y="69"/>
                  </a:lnTo>
                  <a:lnTo>
                    <a:pt x="24" y="54"/>
                  </a:lnTo>
                  <a:lnTo>
                    <a:pt x="29" y="38"/>
                  </a:lnTo>
                  <a:lnTo>
                    <a:pt x="38" y="2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7" y="16"/>
                  </a:lnTo>
                  <a:lnTo>
                    <a:pt x="11" y="31"/>
                  </a:lnTo>
                  <a:lnTo>
                    <a:pt x="3" y="50"/>
                  </a:lnTo>
                  <a:lnTo>
                    <a:pt x="0" y="69"/>
                  </a:lnTo>
                  <a:lnTo>
                    <a:pt x="21" y="69"/>
                  </a:lnTo>
                  <a:lnTo>
                    <a:pt x="0" y="69"/>
                  </a:lnTo>
                  <a:lnTo>
                    <a:pt x="3" y="77"/>
                  </a:lnTo>
                  <a:lnTo>
                    <a:pt x="10" y="79"/>
                  </a:lnTo>
                  <a:lnTo>
                    <a:pt x="17" y="77"/>
                  </a:lnTo>
                  <a:lnTo>
                    <a:pt x="21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8085240" y="2845080"/>
              <a:ext cx="25200" cy="298440"/>
            </a:xfrm>
            <a:custGeom>
              <a:avLst/>
              <a:gdLst/>
              <a:ahLst/>
              <a:rect l="l" t="t" r="r" b="b"/>
              <a:pathLst>
                <a:path w="54" h="691">
                  <a:moveTo>
                    <a:pt x="0" y="0"/>
                  </a:moveTo>
                  <a:lnTo>
                    <a:pt x="0" y="0"/>
                  </a:lnTo>
                  <a:lnTo>
                    <a:pt x="5" y="172"/>
                  </a:lnTo>
                  <a:lnTo>
                    <a:pt x="17" y="347"/>
                  </a:lnTo>
                  <a:lnTo>
                    <a:pt x="27" y="522"/>
                  </a:lnTo>
                  <a:lnTo>
                    <a:pt x="33" y="691"/>
                  </a:lnTo>
                  <a:lnTo>
                    <a:pt x="54" y="691"/>
                  </a:lnTo>
                  <a:lnTo>
                    <a:pt x="49" y="522"/>
                  </a:lnTo>
                  <a:lnTo>
                    <a:pt x="38" y="347"/>
                  </a:lnTo>
                  <a:lnTo>
                    <a:pt x="26" y="17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8101440" y="2703240"/>
              <a:ext cx="16200" cy="141480"/>
            </a:xfrm>
            <a:custGeom>
              <a:avLst/>
              <a:gdLst/>
              <a:ahLst/>
              <a:rect l="l" t="t" r="r" b="b"/>
              <a:pathLst>
                <a:path w="35" h="333">
                  <a:moveTo>
                    <a:pt x="0" y="9"/>
                  </a:moveTo>
                  <a:lnTo>
                    <a:pt x="0" y="11"/>
                  </a:lnTo>
                  <a:lnTo>
                    <a:pt x="2" y="86"/>
                  </a:lnTo>
                  <a:lnTo>
                    <a:pt x="8" y="168"/>
                  </a:lnTo>
                  <a:lnTo>
                    <a:pt x="12" y="253"/>
                  </a:lnTo>
                  <a:lnTo>
                    <a:pt x="14" y="333"/>
                  </a:lnTo>
                  <a:lnTo>
                    <a:pt x="35" y="333"/>
                  </a:lnTo>
                  <a:lnTo>
                    <a:pt x="33" y="253"/>
                  </a:lnTo>
                  <a:lnTo>
                    <a:pt x="29" y="168"/>
                  </a:lnTo>
                  <a:lnTo>
                    <a:pt x="23" y="86"/>
                  </a:lnTo>
                  <a:lnTo>
                    <a:pt x="21" y="11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8078400" y="2688120"/>
              <a:ext cx="39240" cy="2124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83" y="9"/>
                  </a:moveTo>
                  <a:lnTo>
                    <a:pt x="80" y="4"/>
                  </a:lnTo>
                  <a:lnTo>
                    <a:pt x="68" y="0"/>
                  </a:lnTo>
                  <a:lnTo>
                    <a:pt x="57" y="1"/>
                  </a:lnTo>
                  <a:lnTo>
                    <a:pt x="47" y="5"/>
                  </a:lnTo>
                  <a:lnTo>
                    <a:pt x="34" y="11"/>
                  </a:lnTo>
                  <a:lnTo>
                    <a:pt x="22" y="19"/>
                  </a:lnTo>
                  <a:lnTo>
                    <a:pt x="13" y="26"/>
                  </a:lnTo>
                  <a:lnTo>
                    <a:pt x="7" y="34"/>
                  </a:lnTo>
                  <a:lnTo>
                    <a:pt x="0" y="44"/>
                  </a:lnTo>
                  <a:lnTo>
                    <a:pt x="21" y="49"/>
                  </a:lnTo>
                  <a:lnTo>
                    <a:pt x="22" y="46"/>
                  </a:lnTo>
                  <a:lnTo>
                    <a:pt x="28" y="41"/>
                  </a:lnTo>
                  <a:lnTo>
                    <a:pt x="34" y="34"/>
                  </a:lnTo>
                  <a:lnTo>
                    <a:pt x="44" y="30"/>
                  </a:lnTo>
                  <a:lnTo>
                    <a:pt x="53" y="24"/>
                  </a:lnTo>
                  <a:lnTo>
                    <a:pt x="61" y="22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64" y="15"/>
                  </a:lnTo>
                  <a:lnTo>
                    <a:pt x="67" y="21"/>
                  </a:lnTo>
                  <a:lnTo>
                    <a:pt x="74" y="23"/>
                  </a:lnTo>
                  <a:lnTo>
                    <a:pt x="82" y="20"/>
                  </a:lnTo>
                  <a:lnTo>
                    <a:pt x="84" y="12"/>
                  </a:lnTo>
                  <a:lnTo>
                    <a:pt x="80" y="4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8012880" y="2406960"/>
              <a:ext cx="230400" cy="375480"/>
            </a:xfrm>
            <a:custGeom>
              <a:avLst/>
              <a:gdLst/>
              <a:ahLst/>
              <a:rect l="l" t="t" r="r" b="b"/>
              <a:pathLst>
                <a:path w="497" h="873">
                  <a:moveTo>
                    <a:pt x="276" y="0"/>
                  </a:moveTo>
                  <a:lnTo>
                    <a:pt x="291" y="6"/>
                  </a:lnTo>
                  <a:lnTo>
                    <a:pt x="305" y="12"/>
                  </a:lnTo>
                  <a:lnTo>
                    <a:pt x="321" y="18"/>
                  </a:lnTo>
                  <a:lnTo>
                    <a:pt x="336" y="24"/>
                  </a:lnTo>
                  <a:lnTo>
                    <a:pt x="351" y="32"/>
                  </a:lnTo>
                  <a:lnTo>
                    <a:pt x="366" y="40"/>
                  </a:lnTo>
                  <a:lnTo>
                    <a:pt x="382" y="49"/>
                  </a:lnTo>
                  <a:lnTo>
                    <a:pt x="396" y="58"/>
                  </a:lnTo>
                  <a:lnTo>
                    <a:pt x="412" y="69"/>
                  </a:lnTo>
                  <a:lnTo>
                    <a:pt x="424" y="78"/>
                  </a:lnTo>
                  <a:lnTo>
                    <a:pt x="437" y="90"/>
                  </a:lnTo>
                  <a:lnTo>
                    <a:pt x="449" y="100"/>
                  </a:lnTo>
                  <a:lnTo>
                    <a:pt x="458" y="113"/>
                  </a:lnTo>
                  <a:lnTo>
                    <a:pt x="468" y="127"/>
                  </a:lnTo>
                  <a:lnTo>
                    <a:pt x="475" y="139"/>
                  </a:lnTo>
                  <a:lnTo>
                    <a:pt x="479" y="153"/>
                  </a:lnTo>
                  <a:lnTo>
                    <a:pt x="486" y="188"/>
                  </a:lnTo>
                  <a:lnTo>
                    <a:pt x="484" y="221"/>
                  </a:lnTo>
                  <a:lnTo>
                    <a:pt x="479" y="252"/>
                  </a:lnTo>
                  <a:lnTo>
                    <a:pt x="473" y="284"/>
                  </a:lnTo>
                  <a:lnTo>
                    <a:pt x="465" y="318"/>
                  </a:lnTo>
                  <a:lnTo>
                    <a:pt x="460" y="350"/>
                  </a:lnTo>
                  <a:lnTo>
                    <a:pt x="460" y="382"/>
                  </a:lnTo>
                  <a:lnTo>
                    <a:pt x="469" y="416"/>
                  </a:lnTo>
                  <a:lnTo>
                    <a:pt x="472" y="425"/>
                  </a:lnTo>
                  <a:lnTo>
                    <a:pt x="476" y="435"/>
                  </a:lnTo>
                  <a:lnTo>
                    <a:pt x="482" y="445"/>
                  </a:lnTo>
                  <a:lnTo>
                    <a:pt x="488" y="455"/>
                  </a:lnTo>
                  <a:lnTo>
                    <a:pt x="493" y="466"/>
                  </a:lnTo>
                  <a:lnTo>
                    <a:pt x="496" y="477"/>
                  </a:lnTo>
                  <a:lnTo>
                    <a:pt x="497" y="488"/>
                  </a:lnTo>
                  <a:lnTo>
                    <a:pt x="496" y="498"/>
                  </a:lnTo>
                  <a:lnTo>
                    <a:pt x="489" y="504"/>
                  </a:lnTo>
                  <a:lnTo>
                    <a:pt x="479" y="507"/>
                  </a:lnTo>
                  <a:lnTo>
                    <a:pt x="467" y="511"/>
                  </a:lnTo>
                  <a:lnTo>
                    <a:pt x="454" y="513"/>
                  </a:lnTo>
                  <a:lnTo>
                    <a:pt x="441" y="516"/>
                  </a:lnTo>
                  <a:lnTo>
                    <a:pt x="431" y="521"/>
                  </a:lnTo>
                  <a:lnTo>
                    <a:pt x="422" y="524"/>
                  </a:lnTo>
                  <a:lnTo>
                    <a:pt x="419" y="527"/>
                  </a:lnTo>
                  <a:lnTo>
                    <a:pt x="414" y="545"/>
                  </a:lnTo>
                  <a:lnTo>
                    <a:pt x="408" y="571"/>
                  </a:lnTo>
                  <a:lnTo>
                    <a:pt x="403" y="602"/>
                  </a:lnTo>
                  <a:lnTo>
                    <a:pt x="397" y="634"/>
                  </a:lnTo>
                  <a:lnTo>
                    <a:pt x="392" y="666"/>
                  </a:lnTo>
                  <a:lnTo>
                    <a:pt x="385" y="696"/>
                  </a:lnTo>
                  <a:lnTo>
                    <a:pt x="380" y="721"/>
                  </a:lnTo>
                  <a:lnTo>
                    <a:pt x="373" y="737"/>
                  </a:lnTo>
                  <a:lnTo>
                    <a:pt x="368" y="738"/>
                  </a:lnTo>
                  <a:lnTo>
                    <a:pt x="363" y="736"/>
                  </a:lnTo>
                  <a:lnTo>
                    <a:pt x="356" y="734"/>
                  </a:lnTo>
                  <a:lnTo>
                    <a:pt x="346" y="729"/>
                  </a:lnTo>
                  <a:lnTo>
                    <a:pt x="339" y="747"/>
                  </a:lnTo>
                  <a:lnTo>
                    <a:pt x="326" y="767"/>
                  </a:lnTo>
                  <a:lnTo>
                    <a:pt x="312" y="790"/>
                  </a:lnTo>
                  <a:lnTo>
                    <a:pt x="297" y="813"/>
                  </a:lnTo>
                  <a:lnTo>
                    <a:pt x="280" y="834"/>
                  </a:lnTo>
                  <a:lnTo>
                    <a:pt x="263" y="853"/>
                  </a:lnTo>
                  <a:lnTo>
                    <a:pt x="245" y="866"/>
                  </a:lnTo>
                  <a:lnTo>
                    <a:pt x="228" y="873"/>
                  </a:lnTo>
                  <a:lnTo>
                    <a:pt x="213" y="866"/>
                  </a:lnTo>
                  <a:lnTo>
                    <a:pt x="199" y="859"/>
                  </a:lnTo>
                  <a:lnTo>
                    <a:pt x="186" y="850"/>
                  </a:lnTo>
                  <a:lnTo>
                    <a:pt x="172" y="842"/>
                  </a:lnTo>
                  <a:lnTo>
                    <a:pt x="158" y="830"/>
                  </a:lnTo>
                  <a:lnTo>
                    <a:pt x="144" y="819"/>
                  </a:lnTo>
                  <a:lnTo>
                    <a:pt x="132" y="809"/>
                  </a:lnTo>
                  <a:lnTo>
                    <a:pt x="119" y="797"/>
                  </a:lnTo>
                  <a:lnTo>
                    <a:pt x="107" y="786"/>
                  </a:lnTo>
                  <a:lnTo>
                    <a:pt x="96" y="774"/>
                  </a:lnTo>
                  <a:lnTo>
                    <a:pt x="84" y="762"/>
                  </a:lnTo>
                  <a:lnTo>
                    <a:pt x="72" y="751"/>
                  </a:lnTo>
                  <a:lnTo>
                    <a:pt x="61" y="737"/>
                  </a:lnTo>
                  <a:lnTo>
                    <a:pt x="50" y="725"/>
                  </a:lnTo>
                  <a:lnTo>
                    <a:pt x="40" y="715"/>
                  </a:lnTo>
                  <a:lnTo>
                    <a:pt x="30" y="703"/>
                  </a:lnTo>
                  <a:lnTo>
                    <a:pt x="16" y="658"/>
                  </a:lnTo>
                  <a:lnTo>
                    <a:pt x="6" y="612"/>
                  </a:lnTo>
                  <a:lnTo>
                    <a:pt x="0" y="564"/>
                  </a:lnTo>
                  <a:lnTo>
                    <a:pt x="0" y="514"/>
                  </a:lnTo>
                  <a:lnTo>
                    <a:pt x="4" y="465"/>
                  </a:lnTo>
                  <a:lnTo>
                    <a:pt x="11" y="415"/>
                  </a:lnTo>
                  <a:lnTo>
                    <a:pt x="24" y="365"/>
                  </a:lnTo>
                  <a:lnTo>
                    <a:pt x="39" y="316"/>
                  </a:lnTo>
                  <a:lnTo>
                    <a:pt x="58" y="268"/>
                  </a:lnTo>
                  <a:lnTo>
                    <a:pt x="81" y="222"/>
                  </a:lnTo>
                  <a:lnTo>
                    <a:pt x="106" y="177"/>
                  </a:lnTo>
                  <a:lnTo>
                    <a:pt x="136" y="134"/>
                  </a:lnTo>
                  <a:lnTo>
                    <a:pt x="168" y="95"/>
                  </a:lnTo>
                  <a:lnTo>
                    <a:pt x="201" y="60"/>
                  </a:lnTo>
                  <a:lnTo>
                    <a:pt x="238" y="29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ffe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8015760" y="2404440"/>
              <a:ext cx="99360" cy="73080"/>
            </a:xfrm>
            <a:custGeom>
              <a:avLst/>
              <a:gdLst/>
              <a:ahLst/>
              <a:rect l="l" t="t" r="r" b="b"/>
              <a:pathLst>
                <a:path w="215" h="170">
                  <a:moveTo>
                    <a:pt x="215" y="159"/>
                  </a:moveTo>
                  <a:lnTo>
                    <a:pt x="215" y="159"/>
                  </a:lnTo>
                  <a:lnTo>
                    <a:pt x="209" y="143"/>
                  </a:lnTo>
                  <a:lnTo>
                    <a:pt x="202" y="129"/>
                  </a:lnTo>
                  <a:lnTo>
                    <a:pt x="191" y="117"/>
                  </a:lnTo>
                  <a:lnTo>
                    <a:pt x="182" y="102"/>
                  </a:lnTo>
                  <a:lnTo>
                    <a:pt x="169" y="90"/>
                  </a:lnTo>
                  <a:lnTo>
                    <a:pt x="157" y="79"/>
                  </a:lnTo>
                  <a:lnTo>
                    <a:pt x="142" y="69"/>
                  </a:lnTo>
                  <a:lnTo>
                    <a:pt x="127" y="59"/>
                  </a:lnTo>
                  <a:lnTo>
                    <a:pt x="112" y="48"/>
                  </a:lnTo>
                  <a:lnTo>
                    <a:pt x="96" y="40"/>
                  </a:lnTo>
                  <a:lnTo>
                    <a:pt x="81" y="31"/>
                  </a:lnTo>
                  <a:lnTo>
                    <a:pt x="66" y="25"/>
                  </a:lnTo>
                  <a:lnTo>
                    <a:pt x="50" y="18"/>
                  </a:lnTo>
                  <a:lnTo>
                    <a:pt x="35" y="11"/>
                  </a:lnTo>
                  <a:lnTo>
                    <a:pt x="20" y="6"/>
                  </a:lnTo>
                  <a:lnTo>
                    <a:pt x="6" y="0"/>
                  </a:lnTo>
                  <a:lnTo>
                    <a:pt x="0" y="16"/>
                  </a:lnTo>
                  <a:lnTo>
                    <a:pt x="14" y="22"/>
                  </a:lnTo>
                  <a:lnTo>
                    <a:pt x="28" y="28"/>
                  </a:lnTo>
                  <a:lnTo>
                    <a:pt x="43" y="34"/>
                  </a:lnTo>
                  <a:lnTo>
                    <a:pt x="58" y="41"/>
                  </a:lnTo>
                  <a:lnTo>
                    <a:pt x="73" y="48"/>
                  </a:lnTo>
                  <a:lnTo>
                    <a:pt x="89" y="57"/>
                  </a:lnTo>
                  <a:lnTo>
                    <a:pt x="103" y="65"/>
                  </a:lnTo>
                  <a:lnTo>
                    <a:pt x="118" y="72"/>
                  </a:lnTo>
                  <a:lnTo>
                    <a:pt x="132" y="83"/>
                  </a:lnTo>
                  <a:lnTo>
                    <a:pt x="144" y="93"/>
                  </a:lnTo>
                  <a:lnTo>
                    <a:pt x="158" y="105"/>
                  </a:lnTo>
                  <a:lnTo>
                    <a:pt x="168" y="115"/>
                  </a:lnTo>
                  <a:lnTo>
                    <a:pt x="178" y="126"/>
                  </a:lnTo>
                  <a:lnTo>
                    <a:pt x="185" y="139"/>
                  </a:lnTo>
                  <a:lnTo>
                    <a:pt x="193" y="151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201" y="170"/>
                  </a:lnTo>
                  <a:lnTo>
                    <a:pt x="208" y="170"/>
                  </a:lnTo>
                  <a:lnTo>
                    <a:pt x="214" y="166"/>
                  </a:lnTo>
                  <a:lnTo>
                    <a:pt x="215" y="159"/>
                  </a:lnTo>
                  <a:lnTo>
                    <a:pt x="215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8013240" y="2473200"/>
              <a:ext cx="20880" cy="116280"/>
            </a:xfrm>
            <a:custGeom>
              <a:avLst/>
              <a:gdLst/>
              <a:ahLst/>
              <a:rect l="l" t="t" r="r" b="b"/>
              <a:pathLst>
                <a:path w="43" h="274">
                  <a:moveTo>
                    <a:pt x="26" y="264"/>
                  </a:moveTo>
                  <a:lnTo>
                    <a:pt x="25" y="263"/>
                  </a:lnTo>
                  <a:lnTo>
                    <a:pt x="18" y="231"/>
                  </a:lnTo>
                  <a:lnTo>
                    <a:pt x="18" y="199"/>
                  </a:lnTo>
                  <a:lnTo>
                    <a:pt x="23" y="168"/>
                  </a:lnTo>
                  <a:lnTo>
                    <a:pt x="30" y="134"/>
                  </a:lnTo>
                  <a:lnTo>
                    <a:pt x="37" y="102"/>
                  </a:lnTo>
                  <a:lnTo>
                    <a:pt x="42" y="70"/>
                  </a:lnTo>
                  <a:lnTo>
                    <a:pt x="43" y="37"/>
                  </a:lnTo>
                  <a:lnTo>
                    <a:pt x="37" y="0"/>
                  </a:lnTo>
                  <a:lnTo>
                    <a:pt x="18" y="4"/>
                  </a:lnTo>
                  <a:lnTo>
                    <a:pt x="24" y="37"/>
                  </a:lnTo>
                  <a:lnTo>
                    <a:pt x="23" y="70"/>
                  </a:lnTo>
                  <a:lnTo>
                    <a:pt x="18" y="100"/>
                  </a:lnTo>
                  <a:lnTo>
                    <a:pt x="11" y="132"/>
                  </a:lnTo>
                  <a:lnTo>
                    <a:pt x="4" y="165"/>
                  </a:lnTo>
                  <a:lnTo>
                    <a:pt x="0" y="199"/>
                  </a:lnTo>
                  <a:lnTo>
                    <a:pt x="0" y="231"/>
                  </a:lnTo>
                  <a:lnTo>
                    <a:pt x="8" y="268"/>
                  </a:lnTo>
                  <a:lnTo>
                    <a:pt x="7" y="266"/>
                  </a:lnTo>
                  <a:lnTo>
                    <a:pt x="8" y="268"/>
                  </a:lnTo>
                  <a:lnTo>
                    <a:pt x="12" y="272"/>
                  </a:lnTo>
                  <a:lnTo>
                    <a:pt x="20" y="274"/>
                  </a:lnTo>
                  <a:lnTo>
                    <a:pt x="24" y="270"/>
                  </a:lnTo>
                  <a:lnTo>
                    <a:pt x="25" y="263"/>
                  </a:lnTo>
                  <a:lnTo>
                    <a:pt x="2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8008560" y="2585160"/>
              <a:ext cx="20880" cy="4032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44" y="90"/>
                  </a:moveTo>
                  <a:lnTo>
                    <a:pt x="46" y="87"/>
                  </a:lnTo>
                  <a:lnTo>
                    <a:pt x="48" y="73"/>
                  </a:lnTo>
                  <a:lnTo>
                    <a:pt x="47" y="61"/>
                  </a:lnTo>
                  <a:lnTo>
                    <a:pt x="41" y="49"/>
                  </a:lnTo>
                  <a:lnTo>
                    <a:pt x="37" y="37"/>
                  </a:lnTo>
                  <a:lnTo>
                    <a:pt x="31" y="25"/>
                  </a:lnTo>
                  <a:lnTo>
                    <a:pt x="25" y="17"/>
                  </a:lnTo>
                  <a:lnTo>
                    <a:pt x="20" y="7"/>
                  </a:lnTo>
                  <a:lnTo>
                    <a:pt x="19" y="0"/>
                  </a:lnTo>
                  <a:lnTo>
                    <a:pt x="0" y="2"/>
                  </a:lnTo>
                  <a:lnTo>
                    <a:pt x="4" y="12"/>
                  </a:lnTo>
                  <a:lnTo>
                    <a:pt x="9" y="24"/>
                  </a:lnTo>
                  <a:lnTo>
                    <a:pt x="15" y="35"/>
                  </a:lnTo>
                  <a:lnTo>
                    <a:pt x="20" y="44"/>
                  </a:lnTo>
                  <a:lnTo>
                    <a:pt x="25" y="54"/>
                  </a:lnTo>
                  <a:lnTo>
                    <a:pt x="28" y="64"/>
                  </a:lnTo>
                  <a:lnTo>
                    <a:pt x="29" y="73"/>
                  </a:lnTo>
                  <a:lnTo>
                    <a:pt x="29" y="81"/>
                  </a:lnTo>
                  <a:lnTo>
                    <a:pt x="30" y="78"/>
                  </a:lnTo>
                  <a:lnTo>
                    <a:pt x="29" y="81"/>
                  </a:lnTo>
                  <a:lnTo>
                    <a:pt x="30" y="89"/>
                  </a:lnTo>
                  <a:lnTo>
                    <a:pt x="36" y="92"/>
                  </a:lnTo>
                  <a:lnTo>
                    <a:pt x="41" y="91"/>
                  </a:lnTo>
                  <a:lnTo>
                    <a:pt x="46" y="87"/>
                  </a:lnTo>
                  <a:lnTo>
                    <a:pt x="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8007840" y="2619360"/>
              <a:ext cx="44280" cy="1728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16" y="38"/>
                  </a:moveTo>
                  <a:lnTo>
                    <a:pt x="18" y="34"/>
                  </a:lnTo>
                  <a:lnTo>
                    <a:pt x="15" y="39"/>
                  </a:lnTo>
                  <a:lnTo>
                    <a:pt x="22" y="35"/>
                  </a:lnTo>
                  <a:lnTo>
                    <a:pt x="32" y="33"/>
                  </a:lnTo>
                  <a:lnTo>
                    <a:pt x="44" y="30"/>
                  </a:lnTo>
                  <a:lnTo>
                    <a:pt x="57" y="28"/>
                  </a:lnTo>
                  <a:lnTo>
                    <a:pt x="71" y="23"/>
                  </a:lnTo>
                  <a:lnTo>
                    <a:pt x="82" y="19"/>
                  </a:lnTo>
                  <a:lnTo>
                    <a:pt x="92" y="12"/>
                  </a:lnTo>
                  <a:lnTo>
                    <a:pt x="78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4" y="9"/>
                  </a:lnTo>
                  <a:lnTo>
                    <a:pt x="42" y="11"/>
                  </a:lnTo>
                  <a:lnTo>
                    <a:pt x="27" y="14"/>
                  </a:lnTo>
                  <a:lnTo>
                    <a:pt x="16" y="19"/>
                  </a:lnTo>
                  <a:lnTo>
                    <a:pt x="6" y="22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3" y="41"/>
                  </a:lnTo>
                  <a:lnTo>
                    <a:pt x="8" y="42"/>
                  </a:lnTo>
                  <a:lnTo>
                    <a:pt x="15" y="41"/>
                  </a:lnTo>
                  <a:lnTo>
                    <a:pt x="18" y="34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8045640" y="2632320"/>
              <a:ext cx="27720" cy="96480"/>
            </a:xfrm>
            <a:custGeom>
              <a:avLst/>
              <a:gdLst/>
              <a:ahLst/>
              <a:rect l="l" t="t" r="r" b="b"/>
              <a:pathLst>
                <a:path w="63" h="222">
                  <a:moveTo>
                    <a:pt x="14" y="219"/>
                  </a:moveTo>
                  <a:lnTo>
                    <a:pt x="17" y="217"/>
                  </a:lnTo>
                  <a:lnTo>
                    <a:pt x="24" y="199"/>
                  </a:lnTo>
                  <a:lnTo>
                    <a:pt x="31" y="173"/>
                  </a:lnTo>
                  <a:lnTo>
                    <a:pt x="37" y="143"/>
                  </a:lnTo>
                  <a:lnTo>
                    <a:pt x="42" y="111"/>
                  </a:lnTo>
                  <a:lnTo>
                    <a:pt x="49" y="79"/>
                  </a:lnTo>
                  <a:lnTo>
                    <a:pt x="54" y="48"/>
                  </a:lnTo>
                  <a:lnTo>
                    <a:pt x="59" y="22"/>
                  </a:lnTo>
                  <a:lnTo>
                    <a:pt x="63" y="7"/>
                  </a:lnTo>
                  <a:lnTo>
                    <a:pt x="48" y="0"/>
                  </a:lnTo>
                  <a:lnTo>
                    <a:pt x="40" y="20"/>
                  </a:lnTo>
                  <a:lnTo>
                    <a:pt x="35" y="46"/>
                  </a:lnTo>
                  <a:lnTo>
                    <a:pt x="30" y="77"/>
                  </a:lnTo>
                  <a:lnTo>
                    <a:pt x="23" y="109"/>
                  </a:lnTo>
                  <a:lnTo>
                    <a:pt x="18" y="141"/>
                  </a:lnTo>
                  <a:lnTo>
                    <a:pt x="12" y="171"/>
                  </a:lnTo>
                  <a:lnTo>
                    <a:pt x="6" y="194"/>
                  </a:lnTo>
                  <a:lnTo>
                    <a:pt x="0" y="210"/>
                  </a:lnTo>
                  <a:lnTo>
                    <a:pt x="2" y="208"/>
                  </a:lnTo>
                  <a:lnTo>
                    <a:pt x="0" y="210"/>
                  </a:lnTo>
                  <a:lnTo>
                    <a:pt x="0" y="217"/>
                  </a:lnTo>
                  <a:lnTo>
                    <a:pt x="4" y="222"/>
                  </a:lnTo>
                  <a:lnTo>
                    <a:pt x="12" y="222"/>
                  </a:lnTo>
                  <a:lnTo>
                    <a:pt x="17" y="217"/>
                  </a:lnTo>
                  <a:lnTo>
                    <a:pt x="1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8066520" y="2718360"/>
              <a:ext cx="18360" cy="1044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6" y="12"/>
                  </a:moveTo>
                  <a:lnTo>
                    <a:pt x="4" y="16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7"/>
                  </a:lnTo>
                  <a:lnTo>
                    <a:pt x="39" y="22"/>
                  </a:lnTo>
                  <a:lnTo>
                    <a:pt x="27" y="11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1" y="4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8078400" y="2718360"/>
              <a:ext cx="62640" cy="68400"/>
            </a:xfrm>
            <a:custGeom>
              <a:avLst/>
              <a:gdLst/>
              <a:ahLst/>
              <a:rect l="l" t="t" r="r" b="b"/>
              <a:pathLst>
                <a:path w="136" h="158">
                  <a:moveTo>
                    <a:pt x="5" y="157"/>
                  </a:moveTo>
                  <a:lnTo>
                    <a:pt x="10" y="158"/>
                  </a:lnTo>
                  <a:lnTo>
                    <a:pt x="31" y="149"/>
                  </a:lnTo>
                  <a:lnTo>
                    <a:pt x="50" y="135"/>
                  </a:lnTo>
                  <a:lnTo>
                    <a:pt x="67" y="115"/>
                  </a:lnTo>
                  <a:lnTo>
                    <a:pt x="85" y="93"/>
                  </a:lnTo>
                  <a:lnTo>
                    <a:pt x="102" y="70"/>
                  </a:lnTo>
                  <a:lnTo>
                    <a:pt x="116" y="47"/>
                  </a:lnTo>
                  <a:lnTo>
                    <a:pt x="127" y="26"/>
                  </a:lnTo>
                  <a:lnTo>
                    <a:pt x="136" y="8"/>
                  </a:lnTo>
                  <a:lnTo>
                    <a:pt x="120" y="0"/>
                  </a:lnTo>
                  <a:lnTo>
                    <a:pt x="111" y="18"/>
                  </a:lnTo>
                  <a:lnTo>
                    <a:pt x="100" y="37"/>
                  </a:lnTo>
                  <a:lnTo>
                    <a:pt x="85" y="61"/>
                  </a:lnTo>
                  <a:lnTo>
                    <a:pt x="71" y="82"/>
                  </a:lnTo>
                  <a:lnTo>
                    <a:pt x="53" y="103"/>
                  </a:lnTo>
                  <a:lnTo>
                    <a:pt x="37" y="121"/>
                  </a:lnTo>
                  <a:lnTo>
                    <a:pt x="22" y="132"/>
                  </a:lnTo>
                  <a:lnTo>
                    <a:pt x="8" y="139"/>
                  </a:lnTo>
                  <a:lnTo>
                    <a:pt x="12" y="140"/>
                  </a:lnTo>
                  <a:lnTo>
                    <a:pt x="8" y="139"/>
                  </a:lnTo>
                  <a:lnTo>
                    <a:pt x="1" y="142"/>
                  </a:lnTo>
                  <a:lnTo>
                    <a:pt x="0" y="149"/>
                  </a:lnTo>
                  <a:lnTo>
                    <a:pt x="3" y="155"/>
                  </a:lnTo>
                  <a:lnTo>
                    <a:pt x="10" y="158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8136000" y="2705400"/>
              <a:ext cx="95400" cy="81360"/>
            </a:xfrm>
            <a:custGeom>
              <a:avLst/>
              <a:gdLst/>
              <a:ahLst/>
              <a:rect l="l" t="t" r="r" b="b"/>
              <a:pathLst>
                <a:path w="208" h="188">
                  <a:moveTo>
                    <a:pt x="0" y="12"/>
                  </a:moveTo>
                  <a:lnTo>
                    <a:pt x="1" y="15"/>
                  </a:lnTo>
                  <a:lnTo>
                    <a:pt x="11" y="27"/>
                  </a:lnTo>
                  <a:lnTo>
                    <a:pt x="21" y="38"/>
                  </a:lnTo>
                  <a:lnTo>
                    <a:pt x="32" y="49"/>
                  </a:lnTo>
                  <a:lnTo>
                    <a:pt x="42" y="62"/>
                  </a:lnTo>
                  <a:lnTo>
                    <a:pt x="55" y="74"/>
                  </a:lnTo>
                  <a:lnTo>
                    <a:pt x="67" y="85"/>
                  </a:lnTo>
                  <a:lnTo>
                    <a:pt x="78" y="98"/>
                  </a:lnTo>
                  <a:lnTo>
                    <a:pt x="90" y="111"/>
                  </a:lnTo>
                  <a:lnTo>
                    <a:pt x="103" y="122"/>
                  </a:lnTo>
                  <a:lnTo>
                    <a:pt x="116" y="133"/>
                  </a:lnTo>
                  <a:lnTo>
                    <a:pt x="129" y="143"/>
                  </a:lnTo>
                  <a:lnTo>
                    <a:pt x="144" y="154"/>
                  </a:lnTo>
                  <a:lnTo>
                    <a:pt x="157" y="165"/>
                  </a:lnTo>
                  <a:lnTo>
                    <a:pt x="172" y="173"/>
                  </a:lnTo>
                  <a:lnTo>
                    <a:pt x="187" y="180"/>
                  </a:lnTo>
                  <a:lnTo>
                    <a:pt x="201" y="188"/>
                  </a:lnTo>
                  <a:lnTo>
                    <a:pt x="208" y="171"/>
                  </a:lnTo>
                  <a:lnTo>
                    <a:pt x="194" y="163"/>
                  </a:lnTo>
                  <a:lnTo>
                    <a:pt x="180" y="156"/>
                  </a:lnTo>
                  <a:lnTo>
                    <a:pt x="167" y="149"/>
                  </a:lnTo>
                  <a:lnTo>
                    <a:pt x="155" y="140"/>
                  </a:lnTo>
                  <a:lnTo>
                    <a:pt x="140" y="130"/>
                  </a:lnTo>
                  <a:lnTo>
                    <a:pt x="128" y="119"/>
                  </a:lnTo>
                  <a:lnTo>
                    <a:pt x="115" y="109"/>
                  </a:lnTo>
                  <a:lnTo>
                    <a:pt x="102" y="96"/>
                  </a:lnTo>
                  <a:lnTo>
                    <a:pt x="90" y="85"/>
                  </a:lnTo>
                  <a:lnTo>
                    <a:pt x="78" y="74"/>
                  </a:lnTo>
                  <a:lnTo>
                    <a:pt x="67" y="62"/>
                  </a:lnTo>
                  <a:lnTo>
                    <a:pt x="56" y="50"/>
                  </a:lnTo>
                  <a:lnTo>
                    <a:pt x="45" y="38"/>
                  </a:lnTo>
                  <a:lnTo>
                    <a:pt x="35" y="25"/>
                  </a:lnTo>
                  <a:lnTo>
                    <a:pt x="24" y="15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1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8110440" y="2404440"/>
              <a:ext cx="137520" cy="307440"/>
            </a:xfrm>
            <a:custGeom>
              <a:avLst/>
              <a:gdLst/>
              <a:ahLst/>
              <a:rect l="l" t="t" r="r" b="b"/>
              <a:pathLst>
                <a:path w="296" h="715">
                  <a:moveTo>
                    <a:pt x="290" y="1"/>
                  </a:moveTo>
                  <a:lnTo>
                    <a:pt x="282" y="1"/>
                  </a:lnTo>
                  <a:lnTo>
                    <a:pt x="242" y="30"/>
                  </a:lnTo>
                  <a:lnTo>
                    <a:pt x="205" y="62"/>
                  </a:lnTo>
                  <a:lnTo>
                    <a:pt x="170" y="99"/>
                  </a:lnTo>
                  <a:lnTo>
                    <a:pt x="139" y="138"/>
                  </a:lnTo>
                  <a:lnTo>
                    <a:pt x="108" y="181"/>
                  </a:lnTo>
                  <a:lnTo>
                    <a:pt x="84" y="228"/>
                  </a:lnTo>
                  <a:lnTo>
                    <a:pt x="59" y="273"/>
                  </a:lnTo>
                  <a:lnTo>
                    <a:pt x="40" y="323"/>
                  </a:lnTo>
                  <a:lnTo>
                    <a:pt x="25" y="372"/>
                  </a:lnTo>
                  <a:lnTo>
                    <a:pt x="13" y="423"/>
                  </a:lnTo>
                  <a:lnTo>
                    <a:pt x="4" y="474"/>
                  </a:lnTo>
                  <a:lnTo>
                    <a:pt x="0" y="523"/>
                  </a:lnTo>
                  <a:lnTo>
                    <a:pt x="0" y="573"/>
                  </a:lnTo>
                  <a:lnTo>
                    <a:pt x="7" y="623"/>
                  </a:lnTo>
                  <a:lnTo>
                    <a:pt x="16" y="670"/>
                  </a:lnTo>
                  <a:lnTo>
                    <a:pt x="33" y="715"/>
                  </a:lnTo>
                  <a:lnTo>
                    <a:pt x="49" y="708"/>
                  </a:lnTo>
                  <a:lnTo>
                    <a:pt x="35" y="665"/>
                  </a:lnTo>
                  <a:lnTo>
                    <a:pt x="26" y="620"/>
                  </a:lnTo>
                  <a:lnTo>
                    <a:pt x="19" y="573"/>
                  </a:lnTo>
                  <a:lnTo>
                    <a:pt x="19" y="523"/>
                  </a:lnTo>
                  <a:lnTo>
                    <a:pt x="23" y="474"/>
                  </a:lnTo>
                  <a:lnTo>
                    <a:pt x="31" y="425"/>
                  </a:lnTo>
                  <a:lnTo>
                    <a:pt x="44" y="378"/>
                  </a:lnTo>
                  <a:lnTo>
                    <a:pt x="57" y="328"/>
                  </a:lnTo>
                  <a:lnTo>
                    <a:pt x="76" y="280"/>
                  </a:lnTo>
                  <a:lnTo>
                    <a:pt x="100" y="234"/>
                  </a:lnTo>
                  <a:lnTo>
                    <a:pt x="125" y="191"/>
                  </a:lnTo>
                  <a:lnTo>
                    <a:pt x="152" y="149"/>
                  </a:lnTo>
                  <a:lnTo>
                    <a:pt x="184" y="110"/>
                  </a:lnTo>
                  <a:lnTo>
                    <a:pt x="218" y="77"/>
                  </a:lnTo>
                  <a:lnTo>
                    <a:pt x="254" y="44"/>
                  </a:lnTo>
                  <a:lnTo>
                    <a:pt x="292" y="17"/>
                  </a:lnTo>
                  <a:lnTo>
                    <a:pt x="284" y="17"/>
                  </a:lnTo>
                  <a:lnTo>
                    <a:pt x="292" y="17"/>
                  </a:lnTo>
                  <a:lnTo>
                    <a:pt x="296" y="11"/>
                  </a:lnTo>
                  <a:lnTo>
                    <a:pt x="295" y="5"/>
                  </a:lnTo>
                  <a:lnTo>
                    <a:pt x="290" y="0"/>
                  </a:lnTo>
                  <a:lnTo>
                    <a:pt x="282" y="1"/>
                  </a:lnTo>
                  <a:lnTo>
                    <a:pt x="2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8080560" y="2673000"/>
              <a:ext cx="51120" cy="5148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0" y="4"/>
                  </a:moveTo>
                  <a:lnTo>
                    <a:pt x="8" y="23"/>
                  </a:lnTo>
                  <a:lnTo>
                    <a:pt x="16" y="42"/>
                  </a:lnTo>
                  <a:lnTo>
                    <a:pt x="28" y="58"/>
                  </a:lnTo>
                  <a:lnTo>
                    <a:pt x="40" y="74"/>
                  </a:lnTo>
                  <a:lnTo>
                    <a:pt x="55" y="89"/>
                  </a:lnTo>
                  <a:lnTo>
                    <a:pt x="70" y="101"/>
                  </a:lnTo>
                  <a:lnTo>
                    <a:pt x="85" y="112"/>
                  </a:lnTo>
                  <a:lnTo>
                    <a:pt x="102" y="119"/>
                  </a:lnTo>
                  <a:lnTo>
                    <a:pt x="109" y="103"/>
                  </a:lnTo>
                  <a:lnTo>
                    <a:pt x="95" y="95"/>
                  </a:lnTo>
                  <a:lnTo>
                    <a:pt x="80" y="86"/>
                  </a:lnTo>
                  <a:lnTo>
                    <a:pt x="67" y="75"/>
                  </a:lnTo>
                  <a:lnTo>
                    <a:pt x="53" y="62"/>
                  </a:lnTo>
                  <a:lnTo>
                    <a:pt x="42" y="48"/>
                  </a:lnTo>
                  <a:lnTo>
                    <a:pt x="32" y="33"/>
                  </a:lnTo>
                  <a:lnTo>
                    <a:pt x="24" y="16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8310960" y="2907360"/>
              <a:ext cx="62640" cy="92520"/>
            </a:xfrm>
            <a:custGeom>
              <a:avLst/>
              <a:gdLst/>
              <a:ahLst/>
              <a:rect l="l" t="t" r="r" b="b"/>
              <a:pathLst>
                <a:path w="135" h="212">
                  <a:moveTo>
                    <a:pt x="21" y="212"/>
                  </a:moveTo>
                  <a:lnTo>
                    <a:pt x="21" y="211"/>
                  </a:lnTo>
                  <a:lnTo>
                    <a:pt x="24" y="188"/>
                  </a:lnTo>
                  <a:lnTo>
                    <a:pt x="33" y="163"/>
                  </a:lnTo>
                  <a:lnTo>
                    <a:pt x="46" y="138"/>
                  </a:lnTo>
                  <a:lnTo>
                    <a:pt x="62" y="113"/>
                  </a:lnTo>
                  <a:lnTo>
                    <a:pt x="81" y="86"/>
                  </a:lnTo>
                  <a:lnTo>
                    <a:pt x="100" y="60"/>
                  </a:lnTo>
                  <a:lnTo>
                    <a:pt x="118" y="35"/>
                  </a:lnTo>
                  <a:lnTo>
                    <a:pt x="135" y="8"/>
                  </a:lnTo>
                  <a:lnTo>
                    <a:pt x="116" y="0"/>
                  </a:lnTo>
                  <a:lnTo>
                    <a:pt x="102" y="23"/>
                  </a:lnTo>
                  <a:lnTo>
                    <a:pt x="83" y="47"/>
                  </a:lnTo>
                  <a:lnTo>
                    <a:pt x="64" y="75"/>
                  </a:lnTo>
                  <a:lnTo>
                    <a:pt x="45" y="101"/>
                  </a:lnTo>
                  <a:lnTo>
                    <a:pt x="27" y="129"/>
                  </a:lnTo>
                  <a:lnTo>
                    <a:pt x="14" y="156"/>
                  </a:lnTo>
                  <a:lnTo>
                    <a:pt x="3" y="183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21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8329680" y="2997360"/>
              <a:ext cx="46080" cy="94320"/>
            </a:xfrm>
            <a:custGeom>
              <a:avLst/>
              <a:gdLst/>
              <a:ahLst/>
              <a:rect l="l" t="t" r="r" b="b"/>
              <a:pathLst>
                <a:path w="100" h="219">
                  <a:moveTo>
                    <a:pt x="100" y="212"/>
                  </a:moveTo>
                  <a:lnTo>
                    <a:pt x="99" y="206"/>
                  </a:lnTo>
                  <a:lnTo>
                    <a:pt x="80" y="172"/>
                  </a:lnTo>
                  <a:lnTo>
                    <a:pt x="63" y="145"/>
                  </a:lnTo>
                  <a:lnTo>
                    <a:pt x="47" y="123"/>
                  </a:lnTo>
                  <a:lnTo>
                    <a:pt x="36" y="104"/>
                  </a:lnTo>
                  <a:lnTo>
                    <a:pt x="27" y="84"/>
                  </a:lnTo>
                  <a:lnTo>
                    <a:pt x="22" y="63"/>
                  </a:lnTo>
                  <a:lnTo>
                    <a:pt x="21" y="37"/>
                  </a:lnTo>
                  <a:lnTo>
                    <a:pt x="23" y="3"/>
                  </a:lnTo>
                  <a:lnTo>
                    <a:pt x="2" y="0"/>
                  </a:lnTo>
                  <a:lnTo>
                    <a:pt x="0" y="37"/>
                  </a:lnTo>
                  <a:lnTo>
                    <a:pt x="1" y="65"/>
                  </a:lnTo>
                  <a:lnTo>
                    <a:pt x="6" y="91"/>
                  </a:lnTo>
                  <a:lnTo>
                    <a:pt x="17" y="114"/>
                  </a:lnTo>
                  <a:lnTo>
                    <a:pt x="31" y="135"/>
                  </a:lnTo>
                  <a:lnTo>
                    <a:pt x="46" y="157"/>
                  </a:lnTo>
                  <a:lnTo>
                    <a:pt x="62" y="181"/>
                  </a:lnTo>
                  <a:lnTo>
                    <a:pt x="80" y="215"/>
                  </a:lnTo>
                  <a:lnTo>
                    <a:pt x="79" y="208"/>
                  </a:lnTo>
                  <a:lnTo>
                    <a:pt x="80" y="215"/>
                  </a:lnTo>
                  <a:lnTo>
                    <a:pt x="86" y="219"/>
                  </a:lnTo>
                  <a:lnTo>
                    <a:pt x="95" y="218"/>
                  </a:lnTo>
                  <a:lnTo>
                    <a:pt x="99" y="214"/>
                  </a:lnTo>
                  <a:lnTo>
                    <a:pt x="99" y="206"/>
                  </a:lnTo>
                  <a:lnTo>
                    <a:pt x="10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8329320" y="3088080"/>
              <a:ext cx="78840" cy="341640"/>
            </a:xfrm>
            <a:custGeom>
              <a:avLst/>
              <a:gdLst/>
              <a:ahLst/>
              <a:rect l="l" t="t" r="r" b="b"/>
              <a:pathLst>
                <a:path w="173" h="797">
                  <a:moveTo>
                    <a:pt x="22" y="797"/>
                  </a:moveTo>
                  <a:lnTo>
                    <a:pt x="36" y="701"/>
                  </a:lnTo>
                  <a:lnTo>
                    <a:pt x="50" y="601"/>
                  </a:lnTo>
                  <a:lnTo>
                    <a:pt x="65" y="495"/>
                  </a:lnTo>
                  <a:lnTo>
                    <a:pt x="82" y="390"/>
                  </a:lnTo>
                  <a:lnTo>
                    <a:pt x="101" y="286"/>
                  </a:lnTo>
                  <a:lnTo>
                    <a:pt x="122" y="188"/>
                  </a:lnTo>
                  <a:lnTo>
                    <a:pt x="148" y="92"/>
                  </a:lnTo>
                  <a:lnTo>
                    <a:pt x="173" y="4"/>
                  </a:lnTo>
                  <a:lnTo>
                    <a:pt x="152" y="0"/>
                  </a:lnTo>
                  <a:lnTo>
                    <a:pt x="127" y="87"/>
                  </a:lnTo>
                  <a:lnTo>
                    <a:pt x="101" y="182"/>
                  </a:lnTo>
                  <a:lnTo>
                    <a:pt x="80" y="284"/>
                  </a:lnTo>
                  <a:lnTo>
                    <a:pt x="61" y="388"/>
                  </a:lnTo>
                  <a:lnTo>
                    <a:pt x="44" y="493"/>
                  </a:lnTo>
                  <a:lnTo>
                    <a:pt x="28" y="597"/>
                  </a:lnTo>
                  <a:lnTo>
                    <a:pt x="15" y="698"/>
                  </a:lnTo>
                  <a:lnTo>
                    <a:pt x="0" y="795"/>
                  </a:lnTo>
                  <a:lnTo>
                    <a:pt x="22" y="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7947720" y="2922480"/>
              <a:ext cx="67320" cy="83520"/>
            </a:xfrm>
            <a:custGeom>
              <a:avLst/>
              <a:gdLst/>
              <a:ahLst/>
              <a:rect l="l" t="t" r="r" b="b"/>
              <a:pathLst>
                <a:path w="147" h="197">
                  <a:moveTo>
                    <a:pt x="147" y="197"/>
                  </a:moveTo>
                  <a:lnTo>
                    <a:pt x="147" y="197"/>
                  </a:lnTo>
                  <a:lnTo>
                    <a:pt x="147" y="168"/>
                  </a:lnTo>
                  <a:lnTo>
                    <a:pt x="139" y="139"/>
                  </a:lnTo>
                  <a:lnTo>
                    <a:pt x="123" y="109"/>
                  </a:lnTo>
                  <a:lnTo>
                    <a:pt x="103" y="82"/>
                  </a:lnTo>
                  <a:lnTo>
                    <a:pt x="79" y="54"/>
                  </a:lnTo>
                  <a:lnTo>
                    <a:pt x="56" y="32"/>
                  </a:lnTo>
                  <a:lnTo>
                    <a:pt x="31" y="14"/>
                  </a:lnTo>
                  <a:lnTo>
                    <a:pt x="9" y="0"/>
                  </a:lnTo>
                  <a:lnTo>
                    <a:pt x="0" y="19"/>
                  </a:lnTo>
                  <a:lnTo>
                    <a:pt x="20" y="31"/>
                  </a:lnTo>
                  <a:lnTo>
                    <a:pt x="41" y="49"/>
                  </a:lnTo>
                  <a:lnTo>
                    <a:pt x="65" y="69"/>
                  </a:lnTo>
                  <a:lnTo>
                    <a:pt x="87" y="93"/>
                  </a:lnTo>
                  <a:lnTo>
                    <a:pt x="104" y="121"/>
                  </a:lnTo>
                  <a:lnTo>
                    <a:pt x="120" y="145"/>
                  </a:lnTo>
                  <a:lnTo>
                    <a:pt x="125" y="170"/>
                  </a:lnTo>
                  <a:lnTo>
                    <a:pt x="125" y="193"/>
                  </a:lnTo>
                  <a:lnTo>
                    <a:pt x="125" y="193"/>
                  </a:lnTo>
                  <a:lnTo>
                    <a:pt x="147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7948080" y="3004200"/>
              <a:ext cx="41400" cy="8136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23" y="179"/>
                  </a:moveTo>
                  <a:lnTo>
                    <a:pt x="23" y="179"/>
                  </a:lnTo>
                  <a:lnTo>
                    <a:pt x="21" y="163"/>
                  </a:lnTo>
                  <a:lnTo>
                    <a:pt x="24" y="146"/>
                  </a:lnTo>
                  <a:lnTo>
                    <a:pt x="31" y="123"/>
                  </a:lnTo>
                  <a:lnTo>
                    <a:pt x="43" y="101"/>
                  </a:lnTo>
                  <a:lnTo>
                    <a:pt x="58" y="78"/>
                  </a:lnTo>
                  <a:lnTo>
                    <a:pt x="70" y="52"/>
                  </a:lnTo>
                  <a:lnTo>
                    <a:pt x="81" y="28"/>
                  </a:lnTo>
                  <a:lnTo>
                    <a:pt x="89" y="4"/>
                  </a:lnTo>
                  <a:lnTo>
                    <a:pt x="67" y="0"/>
                  </a:lnTo>
                  <a:lnTo>
                    <a:pt x="62" y="21"/>
                  </a:lnTo>
                  <a:lnTo>
                    <a:pt x="51" y="43"/>
                  </a:lnTo>
                  <a:lnTo>
                    <a:pt x="39" y="68"/>
                  </a:lnTo>
                  <a:lnTo>
                    <a:pt x="24" y="92"/>
                  </a:lnTo>
                  <a:lnTo>
                    <a:pt x="12" y="117"/>
                  </a:lnTo>
                  <a:lnTo>
                    <a:pt x="3" y="141"/>
                  </a:lnTo>
                  <a:lnTo>
                    <a:pt x="0" y="163"/>
                  </a:lnTo>
                  <a:lnTo>
                    <a:pt x="4" y="187"/>
                  </a:lnTo>
                  <a:lnTo>
                    <a:pt x="4" y="187"/>
                  </a:lnTo>
                  <a:lnTo>
                    <a:pt x="2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7920000" y="3081240"/>
              <a:ext cx="67320" cy="180720"/>
            </a:xfrm>
            <a:custGeom>
              <a:avLst/>
              <a:gdLst/>
              <a:ahLst/>
              <a:rect l="l" t="t" r="r" b="b"/>
              <a:pathLst>
                <a:path w="144" h="420">
                  <a:moveTo>
                    <a:pt x="144" y="417"/>
                  </a:moveTo>
                  <a:lnTo>
                    <a:pt x="131" y="356"/>
                  </a:lnTo>
                  <a:lnTo>
                    <a:pt x="117" y="298"/>
                  </a:lnTo>
                  <a:lnTo>
                    <a:pt x="102" y="243"/>
                  </a:lnTo>
                  <a:lnTo>
                    <a:pt x="88" y="189"/>
                  </a:lnTo>
                  <a:lnTo>
                    <a:pt x="71" y="137"/>
                  </a:lnTo>
                  <a:lnTo>
                    <a:pt x="54" y="89"/>
                  </a:lnTo>
                  <a:lnTo>
                    <a:pt x="37" y="42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8" y="50"/>
                  </a:lnTo>
                  <a:lnTo>
                    <a:pt x="35" y="95"/>
                  </a:lnTo>
                  <a:lnTo>
                    <a:pt x="50" y="143"/>
                  </a:lnTo>
                  <a:lnTo>
                    <a:pt x="66" y="193"/>
                  </a:lnTo>
                  <a:lnTo>
                    <a:pt x="81" y="247"/>
                  </a:lnTo>
                  <a:lnTo>
                    <a:pt x="96" y="303"/>
                  </a:lnTo>
                  <a:lnTo>
                    <a:pt x="110" y="361"/>
                  </a:lnTo>
                  <a:lnTo>
                    <a:pt x="122" y="420"/>
                  </a:lnTo>
                  <a:lnTo>
                    <a:pt x="144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8205840" y="2677320"/>
              <a:ext cx="78840" cy="455400"/>
            </a:xfrm>
            <a:custGeom>
              <a:avLst/>
              <a:gdLst/>
              <a:ahLst/>
              <a:rect l="l" t="t" r="r" b="b"/>
              <a:pathLst>
                <a:path w="174" h="1058">
                  <a:moveTo>
                    <a:pt x="98" y="5"/>
                  </a:moveTo>
                  <a:lnTo>
                    <a:pt x="91" y="0"/>
                  </a:lnTo>
                  <a:lnTo>
                    <a:pt x="77" y="1"/>
                  </a:lnTo>
                  <a:lnTo>
                    <a:pt x="59" y="5"/>
                  </a:lnTo>
                  <a:lnTo>
                    <a:pt x="39" y="13"/>
                  </a:lnTo>
                  <a:lnTo>
                    <a:pt x="21" y="22"/>
                  </a:lnTo>
                  <a:lnTo>
                    <a:pt x="7" y="31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23" y="84"/>
                  </a:lnTo>
                  <a:lnTo>
                    <a:pt x="29" y="127"/>
                  </a:lnTo>
                  <a:lnTo>
                    <a:pt x="28" y="176"/>
                  </a:lnTo>
                  <a:lnTo>
                    <a:pt x="21" y="227"/>
                  </a:lnTo>
                  <a:lnTo>
                    <a:pt x="14" y="278"/>
                  </a:lnTo>
                  <a:lnTo>
                    <a:pt x="5" y="329"/>
                  </a:lnTo>
                  <a:lnTo>
                    <a:pt x="1" y="375"/>
                  </a:lnTo>
                  <a:lnTo>
                    <a:pt x="5" y="415"/>
                  </a:lnTo>
                  <a:lnTo>
                    <a:pt x="8" y="419"/>
                  </a:lnTo>
                  <a:lnTo>
                    <a:pt x="17" y="421"/>
                  </a:lnTo>
                  <a:lnTo>
                    <a:pt x="28" y="424"/>
                  </a:lnTo>
                  <a:lnTo>
                    <a:pt x="41" y="425"/>
                  </a:lnTo>
                  <a:lnTo>
                    <a:pt x="55" y="427"/>
                  </a:lnTo>
                  <a:lnTo>
                    <a:pt x="66" y="429"/>
                  </a:lnTo>
                  <a:lnTo>
                    <a:pt x="74" y="434"/>
                  </a:lnTo>
                  <a:lnTo>
                    <a:pt x="77" y="441"/>
                  </a:lnTo>
                  <a:lnTo>
                    <a:pt x="74" y="447"/>
                  </a:lnTo>
                  <a:lnTo>
                    <a:pt x="66" y="451"/>
                  </a:lnTo>
                  <a:lnTo>
                    <a:pt x="55" y="457"/>
                  </a:lnTo>
                  <a:lnTo>
                    <a:pt x="41" y="460"/>
                  </a:lnTo>
                  <a:lnTo>
                    <a:pt x="28" y="466"/>
                  </a:lnTo>
                  <a:lnTo>
                    <a:pt x="18" y="471"/>
                  </a:lnTo>
                  <a:lnTo>
                    <a:pt x="10" y="479"/>
                  </a:lnTo>
                  <a:lnTo>
                    <a:pt x="9" y="487"/>
                  </a:lnTo>
                  <a:lnTo>
                    <a:pt x="19" y="547"/>
                  </a:lnTo>
                  <a:lnTo>
                    <a:pt x="28" y="619"/>
                  </a:lnTo>
                  <a:lnTo>
                    <a:pt x="39" y="699"/>
                  </a:lnTo>
                  <a:lnTo>
                    <a:pt x="54" y="781"/>
                  </a:lnTo>
                  <a:lnTo>
                    <a:pt x="72" y="862"/>
                  </a:lnTo>
                  <a:lnTo>
                    <a:pt x="96" y="939"/>
                  </a:lnTo>
                  <a:lnTo>
                    <a:pt x="128" y="1005"/>
                  </a:lnTo>
                  <a:lnTo>
                    <a:pt x="168" y="1058"/>
                  </a:lnTo>
                  <a:lnTo>
                    <a:pt x="168" y="1033"/>
                  </a:lnTo>
                  <a:lnTo>
                    <a:pt x="168" y="993"/>
                  </a:lnTo>
                  <a:lnTo>
                    <a:pt x="168" y="953"/>
                  </a:lnTo>
                  <a:lnTo>
                    <a:pt x="168" y="930"/>
                  </a:lnTo>
                  <a:lnTo>
                    <a:pt x="167" y="816"/>
                  </a:lnTo>
                  <a:lnTo>
                    <a:pt x="169" y="695"/>
                  </a:lnTo>
                  <a:lnTo>
                    <a:pt x="173" y="571"/>
                  </a:lnTo>
                  <a:lnTo>
                    <a:pt x="174" y="447"/>
                  </a:lnTo>
                  <a:lnTo>
                    <a:pt x="171" y="327"/>
                  </a:lnTo>
                  <a:lnTo>
                    <a:pt x="159" y="212"/>
                  </a:lnTo>
                  <a:lnTo>
                    <a:pt x="136" y="103"/>
                  </a:lnTo>
                  <a:lnTo>
                    <a:pt x="98" y="5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8235720" y="2673000"/>
              <a:ext cx="55800" cy="29880"/>
            </a:xfrm>
            <a:custGeom>
              <a:avLst/>
              <a:gdLst/>
              <a:ahLst/>
              <a:rect l="l" t="t" r="r" b="b"/>
              <a:pathLst>
                <a:path w="119" h="66">
                  <a:moveTo>
                    <a:pt x="21" y="51"/>
                  </a:moveTo>
                  <a:lnTo>
                    <a:pt x="19" y="48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7" y="41"/>
                  </a:lnTo>
                  <a:lnTo>
                    <a:pt x="53" y="33"/>
                  </a:lnTo>
                  <a:lnTo>
                    <a:pt x="72" y="25"/>
                  </a:lnTo>
                  <a:lnTo>
                    <a:pt x="89" y="22"/>
                  </a:lnTo>
                  <a:lnTo>
                    <a:pt x="101" y="21"/>
                  </a:lnTo>
                  <a:lnTo>
                    <a:pt x="100" y="18"/>
                  </a:lnTo>
                  <a:lnTo>
                    <a:pt x="119" y="11"/>
                  </a:lnTo>
                  <a:lnTo>
                    <a:pt x="103" y="0"/>
                  </a:lnTo>
                  <a:lnTo>
                    <a:pt x="87" y="1"/>
                  </a:lnTo>
                  <a:lnTo>
                    <a:pt x="68" y="4"/>
                  </a:lnTo>
                  <a:lnTo>
                    <a:pt x="47" y="14"/>
                  </a:lnTo>
                  <a:lnTo>
                    <a:pt x="28" y="22"/>
                  </a:lnTo>
                  <a:lnTo>
                    <a:pt x="11" y="33"/>
                  </a:lnTo>
                  <a:lnTo>
                    <a:pt x="0" y="47"/>
                  </a:lnTo>
                  <a:lnTo>
                    <a:pt x="8" y="65"/>
                  </a:lnTo>
                  <a:lnTo>
                    <a:pt x="6" y="64"/>
                  </a:lnTo>
                  <a:lnTo>
                    <a:pt x="8" y="65"/>
                  </a:lnTo>
                  <a:lnTo>
                    <a:pt x="16" y="66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19" y="48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8266680" y="2696760"/>
              <a:ext cx="23040" cy="161280"/>
            </a:xfrm>
            <a:custGeom>
              <a:avLst/>
              <a:gdLst/>
              <a:ahLst/>
              <a:rect l="l" t="t" r="r" b="b"/>
              <a:pathLst>
                <a:path w="50" h="377">
                  <a:moveTo>
                    <a:pt x="26" y="373"/>
                  </a:moveTo>
                  <a:lnTo>
                    <a:pt x="26" y="372"/>
                  </a:lnTo>
                  <a:lnTo>
                    <a:pt x="23" y="334"/>
                  </a:lnTo>
                  <a:lnTo>
                    <a:pt x="26" y="289"/>
                  </a:lnTo>
                  <a:lnTo>
                    <a:pt x="34" y="238"/>
                  </a:lnTo>
                  <a:lnTo>
                    <a:pt x="42" y="188"/>
                  </a:lnTo>
                  <a:lnTo>
                    <a:pt x="49" y="135"/>
                  </a:lnTo>
                  <a:lnTo>
                    <a:pt x="50" y="86"/>
                  </a:lnTo>
                  <a:lnTo>
                    <a:pt x="44" y="40"/>
                  </a:lnTo>
                  <a:lnTo>
                    <a:pt x="20" y="0"/>
                  </a:lnTo>
                  <a:lnTo>
                    <a:pt x="5" y="13"/>
                  </a:lnTo>
                  <a:lnTo>
                    <a:pt x="23" y="46"/>
                  </a:lnTo>
                  <a:lnTo>
                    <a:pt x="29" y="86"/>
                  </a:lnTo>
                  <a:lnTo>
                    <a:pt x="28" y="135"/>
                  </a:lnTo>
                  <a:lnTo>
                    <a:pt x="20" y="185"/>
                  </a:lnTo>
                  <a:lnTo>
                    <a:pt x="13" y="236"/>
                  </a:lnTo>
                  <a:lnTo>
                    <a:pt x="5" y="287"/>
                  </a:lnTo>
                  <a:lnTo>
                    <a:pt x="0" y="334"/>
                  </a:lnTo>
                  <a:lnTo>
                    <a:pt x="5" y="377"/>
                  </a:lnTo>
                  <a:lnTo>
                    <a:pt x="5" y="375"/>
                  </a:lnTo>
                  <a:lnTo>
                    <a:pt x="26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8245440" y="2853720"/>
              <a:ext cx="41400" cy="1476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93" y="32"/>
                  </a:moveTo>
                  <a:lnTo>
                    <a:pt x="93" y="32"/>
                  </a:lnTo>
                  <a:lnTo>
                    <a:pt x="86" y="18"/>
                  </a:lnTo>
                  <a:lnTo>
                    <a:pt x="75" y="11"/>
                  </a:lnTo>
                  <a:lnTo>
                    <a:pt x="61" y="7"/>
                  </a:lnTo>
                  <a:lnTo>
                    <a:pt x="47" y="5"/>
                  </a:lnTo>
                  <a:lnTo>
                    <a:pt x="34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21" y="5"/>
                  </a:lnTo>
                  <a:lnTo>
                    <a:pt x="0" y="7"/>
                  </a:lnTo>
                  <a:lnTo>
                    <a:pt x="9" y="19"/>
                  </a:lnTo>
                  <a:lnTo>
                    <a:pt x="20" y="22"/>
                  </a:lnTo>
                  <a:lnTo>
                    <a:pt x="32" y="25"/>
                  </a:lnTo>
                  <a:lnTo>
                    <a:pt x="45" y="26"/>
                  </a:lnTo>
                  <a:lnTo>
                    <a:pt x="59" y="29"/>
                  </a:lnTo>
                  <a:lnTo>
                    <a:pt x="67" y="30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8245440" y="2866320"/>
              <a:ext cx="41400" cy="2124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21" y="46"/>
                  </a:moveTo>
                  <a:lnTo>
                    <a:pt x="21" y="46"/>
                  </a:lnTo>
                  <a:lnTo>
                    <a:pt x="21" y="44"/>
                  </a:lnTo>
                  <a:lnTo>
                    <a:pt x="25" y="40"/>
                  </a:lnTo>
                  <a:lnTo>
                    <a:pt x="35" y="36"/>
                  </a:lnTo>
                  <a:lnTo>
                    <a:pt x="46" y="29"/>
                  </a:lnTo>
                  <a:lnTo>
                    <a:pt x="58" y="27"/>
                  </a:lnTo>
                  <a:lnTo>
                    <a:pt x="72" y="21"/>
                  </a:lnTo>
                  <a:lnTo>
                    <a:pt x="81" y="14"/>
                  </a:lnTo>
                  <a:lnTo>
                    <a:pt x="89" y="1"/>
                  </a:lnTo>
                  <a:lnTo>
                    <a:pt x="67" y="1"/>
                  </a:lnTo>
                  <a:lnTo>
                    <a:pt x="67" y="0"/>
                  </a:lnTo>
                  <a:lnTo>
                    <a:pt x="62" y="3"/>
                  </a:lnTo>
                  <a:lnTo>
                    <a:pt x="53" y="6"/>
                  </a:lnTo>
                  <a:lnTo>
                    <a:pt x="39" y="10"/>
                  </a:lnTo>
                  <a:lnTo>
                    <a:pt x="25" y="17"/>
                  </a:lnTo>
                  <a:lnTo>
                    <a:pt x="14" y="24"/>
                  </a:lnTo>
                  <a:lnTo>
                    <a:pt x="2" y="3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8203680" y="2887920"/>
              <a:ext cx="83160" cy="249480"/>
            </a:xfrm>
            <a:custGeom>
              <a:avLst/>
              <a:gdLst/>
              <a:ahLst/>
              <a:rect l="l" t="t" r="r" b="b"/>
              <a:pathLst>
                <a:path w="179" h="583">
                  <a:moveTo>
                    <a:pt x="158" y="572"/>
                  </a:moveTo>
                  <a:lnTo>
                    <a:pt x="175" y="565"/>
                  </a:lnTo>
                  <a:lnTo>
                    <a:pt x="138" y="514"/>
                  </a:lnTo>
                  <a:lnTo>
                    <a:pt x="106" y="449"/>
                  </a:lnTo>
                  <a:lnTo>
                    <a:pt x="83" y="374"/>
                  </a:lnTo>
                  <a:lnTo>
                    <a:pt x="65" y="294"/>
                  </a:lnTo>
                  <a:lnTo>
                    <a:pt x="51" y="212"/>
                  </a:lnTo>
                  <a:lnTo>
                    <a:pt x="40" y="132"/>
                  </a:lnTo>
                  <a:lnTo>
                    <a:pt x="30" y="60"/>
                  </a:lnTo>
                  <a:lnTo>
                    <a:pt x="21" y="0"/>
                  </a:lnTo>
                  <a:lnTo>
                    <a:pt x="0" y="2"/>
                  </a:lnTo>
                  <a:lnTo>
                    <a:pt x="9" y="62"/>
                  </a:lnTo>
                  <a:lnTo>
                    <a:pt x="19" y="134"/>
                  </a:lnTo>
                  <a:lnTo>
                    <a:pt x="29" y="215"/>
                  </a:lnTo>
                  <a:lnTo>
                    <a:pt x="43" y="296"/>
                  </a:lnTo>
                  <a:lnTo>
                    <a:pt x="62" y="378"/>
                  </a:lnTo>
                  <a:lnTo>
                    <a:pt x="87" y="456"/>
                  </a:lnTo>
                  <a:lnTo>
                    <a:pt x="119" y="524"/>
                  </a:lnTo>
                  <a:lnTo>
                    <a:pt x="161" y="579"/>
                  </a:lnTo>
                  <a:lnTo>
                    <a:pt x="179" y="572"/>
                  </a:lnTo>
                  <a:lnTo>
                    <a:pt x="161" y="579"/>
                  </a:lnTo>
                  <a:lnTo>
                    <a:pt x="169" y="583"/>
                  </a:lnTo>
                  <a:lnTo>
                    <a:pt x="175" y="579"/>
                  </a:lnTo>
                  <a:lnTo>
                    <a:pt x="179" y="572"/>
                  </a:lnTo>
                  <a:lnTo>
                    <a:pt x="175" y="565"/>
                  </a:lnTo>
                  <a:lnTo>
                    <a:pt x="158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8204040" y="3077280"/>
              <a:ext cx="8640" cy="55440"/>
            </a:xfrm>
            <a:custGeom>
              <a:avLst/>
              <a:gdLst/>
              <a:ahLst/>
              <a:rect l="l" t="t" r="r" b="b"/>
              <a:pathLst>
                <a:path w="21" h="128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63"/>
                  </a:lnTo>
                  <a:lnTo>
                    <a:pt x="0" y="103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21" y="103"/>
                  </a:lnTo>
                  <a:lnTo>
                    <a:pt x="21" y="63"/>
                  </a:lnTo>
                  <a:lnTo>
                    <a:pt x="21" y="2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8199360" y="2675160"/>
              <a:ext cx="46080" cy="401760"/>
            </a:xfrm>
            <a:custGeom>
              <a:avLst/>
              <a:gdLst/>
              <a:ahLst/>
              <a:rect l="l" t="t" r="r" b="b"/>
              <a:pathLst>
                <a:path w="96" h="935">
                  <a:moveTo>
                    <a:pt x="0" y="13"/>
                  </a:moveTo>
                  <a:lnTo>
                    <a:pt x="0" y="14"/>
                  </a:lnTo>
                  <a:lnTo>
                    <a:pt x="37" y="110"/>
                  </a:lnTo>
                  <a:lnTo>
                    <a:pt x="60" y="218"/>
                  </a:lnTo>
                  <a:lnTo>
                    <a:pt x="71" y="332"/>
                  </a:lnTo>
                  <a:lnTo>
                    <a:pt x="75" y="452"/>
                  </a:lnTo>
                  <a:lnTo>
                    <a:pt x="74" y="576"/>
                  </a:lnTo>
                  <a:lnTo>
                    <a:pt x="69" y="700"/>
                  </a:lnTo>
                  <a:lnTo>
                    <a:pt x="67" y="821"/>
                  </a:lnTo>
                  <a:lnTo>
                    <a:pt x="68" y="935"/>
                  </a:lnTo>
                  <a:lnTo>
                    <a:pt x="89" y="935"/>
                  </a:lnTo>
                  <a:lnTo>
                    <a:pt x="88" y="821"/>
                  </a:lnTo>
                  <a:lnTo>
                    <a:pt x="90" y="700"/>
                  </a:lnTo>
                  <a:lnTo>
                    <a:pt x="95" y="576"/>
                  </a:lnTo>
                  <a:lnTo>
                    <a:pt x="96" y="452"/>
                  </a:lnTo>
                  <a:lnTo>
                    <a:pt x="93" y="332"/>
                  </a:lnTo>
                  <a:lnTo>
                    <a:pt x="81" y="215"/>
                  </a:lnTo>
                  <a:lnTo>
                    <a:pt x="58" y="106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7980120" y="2307960"/>
              <a:ext cx="462600" cy="463680"/>
            </a:xfrm>
            <a:custGeom>
              <a:avLst/>
              <a:gdLst/>
              <a:ahLst/>
              <a:rect l="l" t="t" r="r" b="b"/>
              <a:pathLst>
                <a:path w="997" h="1084">
                  <a:moveTo>
                    <a:pt x="866" y="316"/>
                  </a:moveTo>
                  <a:lnTo>
                    <a:pt x="854" y="332"/>
                  </a:lnTo>
                  <a:lnTo>
                    <a:pt x="838" y="344"/>
                  </a:lnTo>
                  <a:lnTo>
                    <a:pt x="820" y="353"/>
                  </a:lnTo>
                  <a:lnTo>
                    <a:pt x="801" y="361"/>
                  </a:lnTo>
                  <a:lnTo>
                    <a:pt x="780" y="365"/>
                  </a:lnTo>
                  <a:lnTo>
                    <a:pt x="759" y="368"/>
                  </a:lnTo>
                  <a:lnTo>
                    <a:pt x="737" y="371"/>
                  </a:lnTo>
                  <a:lnTo>
                    <a:pt x="719" y="371"/>
                  </a:lnTo>
                  <a:lnTo>
                    <a:pt x="710" y="402"/>
                  </a:lnTo>
                  <a:lnTo>
                    <a:pt x="699" y="429"/>
                  </a:lnTo>
                  <a:lnTo>
                    <a:pt x="685" y="454"/>
                  </a:lnTo>
                  <a:lnTo>
                    <a:pt x="671" y="476"/>
                  </a:lnTo>
                  <a:lnTo>
                    <a:pt x="653" y="495"/>
                  </a:lnTo>
                  <a:lnTo>
                    <a:pt x="631" y="514"/>
                  </a:lnTo>
                  <a:lnTo>
                    <a:pt x="608" y="530"/>
                  </a:lnTo>
                  <a:lnTo>
                    <a:pt x="581" y="547"/>
                  </a:lnTo>
                  <a:lnTo>
                    <a:pt x="574" y="555"/>
                  </a:lnTo>
                  <a:lnTo>
                    <a:pt x="571" y="567"/>
                  </a:lnTo>
                  <a:lnTo>
                    <a:pt x="570" y="579"/>
                  </a:lnTo>
                  <a:lnTo>
                    <a:pt x="570" y="590"/>
                  </a:lnTo>
                  <a:lnTo>
                    <a:pt x="459" y="958"/>
                  </a:lnTo>
                  <a:lnTo>
                    <a:pt x="455" y="967"/>
                  </a:lnTo>
                  <a:lnTo>
                    <a:pt x="447" y="972"/>
                  </a:lnTo>
                  <a:lnTo>
                    <a:pt x="436" y="977"/>
                  </a:lnTo>
                  <a:lnTo>
                    <a:pt x="421" y="980"/>
                  </a:lnTo>
                  <a:lnTo>
                    <a:pt x="405" y="981"/>
                  </a:lnTo>
                  <a:lnTo>
                    <a:pt x="388" y="981"/>
                  </a:lnTo>
                  <a:lnTo>
                    <a:pt x="369" y="980"/>
                  </a:lnTo>
                  <a:lnTo>
                    <a:pt x="348" y="980"/>
                  </a:lnTo>
                  <a:lnTo>
                    <a:pt x="328" y="978"/>
                  </a:lnTo>
                  <a:lnTo>
                    <a:pt x="308" y="977"/>
                  </a:lnTo>
                  <a:lnTo>
                    <a:pt x="290" y="977"/>
                  </a:lnTo>
                  <a:lnTo>
                    <a:pt x="272" y="977"/>
                  </a:lnTo>
                  <a:lnTo>
                    <a:pt x="256" y="980"/>
                  </a:lnTo>
                  <a:lnTo>
                    <a:pt x="241" y="982"/>
                  </a:lnTo>
                  <a:lnTo>
                    <a:pt x="229" y="987"/>
                  </a:lnTo>
                  <a:lnTo>
                    <a:pt x="221" y="993"/>
                  </a:lnTo>
                  <a:lnTo>
                    <a:pt x="212" y="1003"/>
                  </a:lnTo>
                  <a:lnTo>
                    <a:pt x="206" y="1012"/>
                  </a:lnTo>
                  <a:lnTo>
                    <a:pt x="201" y="1021"/>
                  </a:lnTo>
                  <a:lnTo>
                    <a:pt x="195" y="1029"/>
                  </a:lnTo>
                  <a:lnTo>
                    <a:pt x="191" y="1039"/>
                  </a:lnTo>
                  <a:lnTo>
                    <a:pt x="186" y="1051"/>
                  </a:lnTo>
                  <a:lnTo>
                    <a:pt x="181" y="1066"/>
                  </a:lnTo>
                  <a:lnTo>
                    <a:pt x="173" y="1084"/>
                  </a:lnTo>
                  <a:lnTo>
                    <a:pt x="151" y="1071"/>
                  </a:lnTo>
                  <a:lnTo>
                    <a:pt x="135" y="1059"/>
                  </a:lnTo>
                  <a:lnTo>
                    <a:pt x="128" y="1044"/>
                  </a:lnTo>
                  <a:lnTo>
                    <a:pt x="122" y="1029"/>
                  </a:lnTo>
                  <a:lnTo>
                    <a:pt x="121" y="1012"/>
                  </a:lnTo>
                  <a:lnTo>
                    <a:pt x="120" y="995"/>
                  </a:lnTo>
                  <a:lnTo>
                    <a:pt x="119" y="975"/>
                  </a:lnTo>
                  <a:lnTo>
                    <a:pt x="114" y="953"/>
                  </a:lnTo>
                  <a:lnTo>
                    <a:pt x="103" y="928"/>
                  </a:lnTo>
                  <a:lnTo>
                    <a:pt x="90" y="901"/>
                  </a:lnTo>
                  <a:lnTo>
                    <a:pt x="74" y="877"/>
                  </a:lnTo>
                  <a:lnTo>
                    <a:pt x="58" y="851"/>
                  </a:lnTo>
                  <a:lnTo>
                    <a:pt x="41" y="826"/>
                  </a:lnTo>
                  <a:lnTo>
                    <a:pt x="26" y="801"/>
                  </a:lnTo>
                  <a:lnTo>
                    <a:pt x="13" y="776"/>
                  </a:lnTo>
                  <a:lnTo>
                    <a:pt x="5" y="749"/>
                  </a:lnTo>
                  <a:lnTo>
                    <a:pt x="0" y="717"/>
                  </a:lnTo>
                  <a:lnTo>
                    <a:pt x="2" y="684"/>
                  </a:lnTo>
                  <a:lnTo>
                    <a:pt x="8" y="653"/>
                  </a:lnTo>
                  <a:lnTo>
                    <a:pt x="19" y="623"/>
                  </a:lnTo>
                  <a:lnTo>
                    <a:pt x="33" y="593"/>
                  </a:lnTo>
                  <a:lnTo>
                    <a:pt x="51" y="565"/>
                  </a:lnTo>
                  <a:lnTo>
                    <a:pt x="71" y="536"/>
                  </a:lnTo>
                  <a:lnTo>
                    <a:pt x="92" y="509"/>
                  </a:lnTo>
                  <a:lnTo>
                    <a:pt x="114" y="482"/>
                  </a:lnTo>
                  <a:lnTo>
                    <a:pt x="137" y="455"/>
                  </a:lnTo>
                  <a:lnTo>
                    <a:pt x="159" y="428"/>
                  </a:lnTo>
                  <a:lnTo>
                    <a:pt x="181" y="403"/>
                  </a:lnTo>
                  <a:lnTo>
                    <a:pt x="200" y="377"/>
                  </a:lnTo>
                  <a:lnTo>
                    <a:pt x="215" y="351"/>
                  </a:lnTo>
                  <a:lnTo>
                    <a:pt x="230" y="326"/>
                  </a:lnTo>
                  <a:lnTo>
                    <a:pt x="241" y="301"/>
                  </a:lnTo>
                  <a:lnTo>
                    <a:pt x="243" y="266"/>
                  </a:lnTo>
                  <a:lnTo>
                    <a:pt x="235" y="228"/>
                  </a:lnTo>
                  <a:lnTo>
                    <a:pt x="231" y="192"/>
                  </a:lnTo>
                  <a:lnTo>
                    <a:pt x="234" y="157"/>
                  </a:lnTo>
                  <a:lnTo>
                    <a:pt x="247" y="132"/>
                  </a:lnTo>
                  <a:lnTo>
                    <a:pt x="263" y="110"/>
                  </a:lnTo>
                  <a:lnTo>
                    <a:pt x="280" y="93"/>
                  </a:lnTo>
                  <a:lnTo>
                    <a:pt x="297" y="77"/>
                  </a:lnTo>
                  <a:lnTo>
                    <a:pt x="315" y="65"/>
                  </a:lnTo>
                  <a:lnTo>
                    <a:pt x="335" y="56"/>
                  </a:lnTo>
                  <a:lnTo>
                    <a:pt x="356" y="49"/>
                  </a:lnTo>
                  <a:lnTo>
                    <a:pt x="377" y="43"/>
                  </a:lnTo>
                  <a:lnTo>
                    <a:pt x="398" y="39"/>
                  </a:lnTo>
                  <a:lnTo>
                    <a:pt x="420" y="36"/>
                  </a:lnTo>
                  <a:lnTo>
                    <a:pt x="445" y="32"/>
                  </a:lnTo>
                  <a:lnTo>
                    <a:pt x="467" y="30"/>
                  </a:lnTo>
                  <a:lnTo>
                    <a:pt x="490" y="27"/>
                  </a:lnTo>
                  <a:lnTo>
                    <a:pt x="512" y="24"/>
                  </a:lnTo>
                  <a:lnTo>
                    <a:pt x="536" y="21"/>
                  </a:lnTo>
                  <a:lnTo>
                    <a:pt x="559" y="14"/>
                  </a:lnTo>
                  <a:lnTo>
                    <a:pt x="583" y="9"/>
                  </a:lnTo>
                  <a:lnTo>
                    <a:pt x="608" y="4"/>
                  </a:lnTo>
                  <a:lnTo>
                    <a:pt x="630" y="1"/>
                  </a:lnTo>
                  <a:lnTo>
                    <a:pt x="653" y="0"/>
                  </a:lnTo>
                  <a:lnTo>
                    <a:pt x="674" y="0"/>
                  </a:lnTo>
                  <a:lnTo>
                    <a:pt x="695" y="1"/>
                  </a:lnTo>
                  <a:lnTo>
                    <a:pt x="715" y="3"/>
                  </a:lnTo>
                  <a:lnTo>
                    <a:pt x="735" y="6"/>
                  </a:lnTo>
                  <a:lnTo>
                    <a:pt x="754" y="12"/>
                  </a:lnTo>
                  <a:lnTo>
                    <a:pt x="773" y="19"/>
                  </a:lnTo>
                  <a:lnTo>
                    <a:pt x="793" y="26"/>
                  </a:lnTo>
                  <a:lnTo>
                    <a:pt x="812" y="34"/>
                  </a:lnTo>
                  <a:lnTo>
                    <a:pt x="832" y="45"/>
                  </a:lnTo>
                  <a:lnTo>
                    <a:pt x="852" y="56"/>
                  </a:lnTo>
                  <a:lnTo>
                    <a:pt x="872" y="67"/>
                  </a:lnTo>
                  <a:lnTo>
                    <a:pt x="893" y="81"/>
                  </a:lnTo>
                  <a:lnTo>
                    <a:pt x="914" y="94"/>
                  </a:lnTo>
                  <a:lnTo>
                    <a:pt x="935" y="107"/>
                  </a:lnTo>
                  <a:lnTo>
                    <a:pt x="954" y="123"/>
                  </a:lnTo>
                  <a:lnTo>
                    <a:pt x="967" y="141"/>
                  </a:lnTo>
                  <a:lnTo>
                    <a:pt x="975" y="161"/>
                  </a:lnTo>
                  <a:lnTo>
                    <a:pt x="975" y="182"/>
                  </a:lnTo>
                  <a:lnTo>
                    <a:pt x="965" y="207"/>
                  </a:lnTo>
                  <a:lnTo>
                    <a:pt x="943" y="234"/>
                  </a:lnTo>
                  <a:lnTo>
                    <a:pt x="974" y="269"/>
                  </a:lnTo>
                  <a:lnTo>
                    <a:pt x="991" y="302"/>
                  </a:lnTo>
                  <a:lnTo>
                    <a:pt x="997" y="331"/>
                  </a:lnTo>
                  <a:lnTo>
                    <a:pt x="994" y="359"/>
                  </a:lnTo>
                  <a:lnTo>
                    <a:pt x="983" y="386"/>
                  </a:lnTo>
                  <a:lnTo>
                    <a:pt x="964" y="414"/>
                  </a:lnTo>
                  <a:lnTo>
                    <a:pt x="940" y="440"/>
                  </a:lnTo>
                  <a:lnTo>
                    <a:pt x="913" y="468"/>
                  </a:lnTo>
                  <a:lnTo>
                    <a:pt x="912" y="445"/>
                  </a:lnTo>
                  <a:lnTo>
                    <a:pt x="909" y="424"/>
                  </a:lnTo>
                  <a:lnTo>
                    <a:pt x="905" y="404"/>
                  </a:lnTo>
                  <a:lnTo>
                    <a:pt x="900" y="385"/>
                  </a:lnTo>
                  <a:lnTo>
                    <a:pt x="893" y="367"/>
                  </a:lnTo>
                  <a:lnTo>
                    <a:pt x="885" y="349"/>
                  </a:lnTo>
                  <a:lnTo>
                    <a:pt x="875" y="333"/>
                  </a:lnTo>
                  <a:lnTo>
                    <a:pt x="866" y="316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8035920" y="2440800"/>
              <a:ext cx="76680" cy="29880"/>
            </a:xfrm>
            <a:custGeom>
              <a:avLst/>
              <a:gdLst/>
              <a:ahLst/>
              <a:rect l="l" t="t" r="r" b="b"/>
              <a:pathLst>
                <a:path w="164" h="69">
                  <a:moveTo>
                    <a:pt x="19" y="61"/>
                  </a:moveTo>
                  <a:lnTo>
                    <a:pt x="9" y="69"/>
                  </a:lnTo>
                  <a:lnTo>
                    <a:pt x="27" y="69"/>
                  </a:lnTo>
                  <a:lnTo>
                    <a:pt x="50" y="66"/>
                  </a:lnTo>
                  <a:lnTo>
                    <a:pt x="71" y="62"/>
                  </a:lnTo>
                  <a:lnTo>
                    <a:pt x="94" y="57"/>
                  </a:lnTo>
                  <a:lnTo>
                    <a:pt x="114" y="50"/>
                  </a:lnTo>
                  <a:lnTo>
                    <a:pt x="134" y="40"/>
                  </a:lnTo>
                  <a:lnTo>
                    <a:pt x="151" y="26"/>
                  </a:lnTo>
                  <a:lnTo>
                    <a:pt x="164" y="10"/>
                  </a:lnTo>
                  <a:lnTo>
                    <a:pt x="147" y="0"/>
                  </a:lnTo>
                  <a:lnTo>
                    <a:pt x="138" y="14"/>
                  </a:lnTo>
                  <a:lnTo>
                    <a:pt x="124" y="23"/>
                  </a:lnTo>
                  <a:lnTo>
                    <a:pt x="106" y="33"/>
                  </a:lnTo>
                  <a:lnTo>
                    <a:pt x="88" y="39"/>
                  </a:lnTo>
                  <a:lnTo>
                    <a:pt x="68" y="43"/>
                  </a:lnTo>
                  <a:lnTo>
                    <a:pt x="47" y="47"/>
                  </a:lnTo>
                  <a:lnTo>
                    <a:pt x="27" y="50"/>
                  </a:lnTo>
                  <a:lnTo>
                    <a:pt x="9" y="50"/>
                  </a:lnTo>
                  <a:lnTo>
                    <a:pt x="0" y="56"/>
                  </a:lnTo>
                  <a:lnTo>
                    <a:pt x="9" y="50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9" y="69"/>
                  </a:lnTo>
                  <a:lnTo>
                    <a:pt x="1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8103960" y="2464920"/>
              <a:ext cx="72000" cy="8136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9" y="187"/>
                  </a:moveTo>
                  <a:lnTo>
                    <a:pt x="9" y="187"/>
                  </a:lnTo>
                  <a:lnTo>
                    <a:pt x="35" y="170"/>
                  </a:lnTo>
                  <a:lnTo>
                    <a:pt x="61" y="152"/>
                  </a:lnTo>
                  <a:lnTo>
                    <a:pt x="82" y="134"/>
                  </a:lnTo>
                  <a:lnTo>
                    <a:pt x="101" y="114"/>
                  </a:lnTo>
                  <a:lnTo>
                    <a:pt x="117" y="90"/>
                  </a:lnTo>
                  <a:lnTo>
                    <a:pt x="129" y="66"/>
                  </a:lnTo>
                  <a:lnTo>
                    <a:pt x="141" y="36"/>
                  </a:lnTo>
                  <a:lnTo>
                    <a:pt x="152" y="5"/>
                  </a:lnTo>
                  <a:lnTo>
                    <a:pt x="133" y="0"/>
                  </a:lnTo>
                  <a:lnTo>
                    <a:pt x="124" y="31"/>
                  </a:lnTo>
                  <a:lnTo>
                    <a:pt x="114" y="58"/>
                  </a:lnTo>
                  <a:lnTo>
                    <a:pt x="101" y="80"/>
                  </a:lnTo>
                  <a:lnTo>
                    <a:pt x="86" y="102"/>
                  </a:lnTo>
                  <a:lnTo>
                    <a:pt x="70" y="119"/>
                  </a:lnTo>
                  <a:lnTo>
                    <a:pt x="48" y="138"/>
                  </a:lnTo>
                  <a:lnTo>
                    <a:pt x="26" y="154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9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8171280" y="2538000"/>
              <a:ext cx="11520" cy="2304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19" y="55"/>
                  </a:moveTo>
                  <a:lnTo>
                    <a:pt x="19" y="52"/>
                  </a:lnTo>
                  <a:lnTo>
                    <a:pt x="19" y="41"/>
                  </a:lnTo>
                  <a:lnTo>
                    <a:pt x="20" y="30"/>
                  </a:lnTo>
                  <a:lnTo>
                    <a:pt x="22" y="20"/>
                  </a:lnTo>
                  <a:lnTo>
                    <a:pt x="25" y="17"/>
                  </a:lnTo>
                  <a:lnTo>
                    <a:pt x="16" y="0"/>
                  </a:lnTo>
                  <a:lnTo>
                    <a:pt x="6" y="14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8173440" y="2559240"/>
              <a:ext cx="60480" cy="161280"/>
            </a:xfrm>
            <a:custGeom>
              <a:avLst/>
              <a:gdLst/>
              <a:ahLst/>
              <a:rect l="l" t="t" r="r" b="b"/>
              <a:pathLst>
                <a:path w="130" h="373">
                  <a:moveTo>
                    <a:pt x="19" y="373"/>
                  </a:moveTo>
                  <a:lnTo>
                    <a:pt x="19" y="373"/>
                  </a:lnTo>
                  <a:lnTo>
                    <a:pt x="130" y="5"/>
                  </a:lnTo>
                  <a:lnTo>
                    <a:pt x="111" y="0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19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8224200" y="2718360"/>
              <a:ext cx="118440" cy="19440"/>
            </a:xfrm>
            <a:custGeom>
              <a:avLst/>
              <a:gdLst/>
              <a:ahLst/>
              <a:rect l="l" t="t" r="r" b="b"/>
              <a:pathLst>
                <a:path w="256" h="44">
                  <a:moveTo>
                    <a:pt x="14" y="44"/>
                  </a:moveTo>
                  <a:lnTo>
                    <a:pt x="14" y="44"/>
                  </a:lnTo>
                  <a:lnTo>
                    <a:pt x="20" y="39"/>
                  </a:lnTo>
                  <a:lnTo>
                    <a:pt x="30" y="35"/>
                  </a:lnTo>
                  <a:lnTo>
                    <a:pt x="44" y="33"/>
                  </a:lnTo>
                  <a:lnTo>
                    <a:pt x="59" y="31"/>
                  </a:lnTo>
                  <a:lnTo>
                    <a:pt x="77" y="31"/>
                  </a:lnTo>
                  <a:lnTo>
                    <a:pt x="95" y="31"/>
                  </a:lnTo>
                  <a:lnTo>
                    <a:pt x="115" y="32"/>
                  </a:lnTo>
                  <a:lnTo>
                    <a:pt x="135" y="33"/>
                  </a:lnTo>
                  <a:lnTo>
                    <a:pt x="156" y="33"/>
                  </a:lnTo>
                  <a:lnTo>
                    <a:pt x="175" y="34"/>
                  </a:lnTo>
                  <a:lnTo>
                    <a:pt x="192" y="34"/>
                  </a:lnTo>
                  <a:lnTo>
                    <a:pt x="208" y="33"/>
                  </a:lnTo>
                  <a:lnTo>
                    <a:pt x="225" y="31"/>
                  </a:lnTo>
                  <a:lnTo>
                    <a:pt x="238" y="25"/>
                  </a:lnTo>
                  <a:lnTo>
                    <a:pt x="248" y="16"/>
                  </a:lnTo>
                  <a:lnTo>
                    <a:pt x="256" y="5"/>
                  </a:lnTo>
                  <a:lnTo>
                    <a:pt x="237" y="0"/>
                  </a:lnTo>
                  <a:lnTo>
                    <a:pt x="235" y="5"/>
                  </a:lnTo>
                  <a:lnTo>
                    <a:pt x="228" y="9"/>
                  </a:lnTo>
                  <a:lnTo>
                    <a:pt x="221" y="12"/>
                  </a:lnTo>
                  <a:lnTo>
                    <a:pt x="208" y="14"/>
                  </a:lnTo>
                  <a:lnTo>
                    <a:pt x="192" y="15"/>
                  </a:lnTo>
                  <a:lnTo>
                    <a:pt x="175" y="15"/>
                  </a:lnTo>
                  <a:lnTo>
                    <a:pt x="156" y="14"/>
                  </a:lnTo>
                  <a:lnTo>
                    <a:pt x="135" y="14"/>
                  </a:lnTo>
                  <a:lnTo>
                    <a:pt x="115" y="13"/>
                  </a:lnTo>
                  <a:lnTo>
                    <a:pt x="95" y="12"/>
                  </a:lnTo>
                  <a:lnTo>
                    <a:pt x="77" y="12"/>
                  </a:lnTo>
                  <a:lnTo>
                    <a:pt x="59" y="12"/>
                  </a:lnTo>
                  <a:lnTo>
                    <a:pt x="41" y="14"/>
                  </a:lnTo>
                  <a:lnTo>
                    <a:pt x="26" y="16"/>
                  </a:lnTo>
                  <a:lnTo>
                    <a:pt x="11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8338680" y="2731320"/>
              <a:ext cx="27360" cy="44640"/>
            </a:xfrm>
            <a:custGeom>
              <a:avLst/>
              <a:gdLst/>
              <a:ahLst/>
              <a:rect l="l" t="t" r="r" b="b"/>
              <a:pathLst>
                <a:path w="62" h="105">
                  <a:moveTo>
                    <a:pt x="5" y="105"/>
                  </a:moveTo>
                  <a:lnTo>
                    <a:pt x="17" y="100"/>
                  </a:lnTo>
                  <a:lnTo>
                    <a:pt x="24" y="80"/>
                  </a:lnTo>
                  <a:lnTo>
                    <a:pt x="29" y="68"/>
                  </a:lnTo>
                  <a:lnTo>
                    <a:pt x="35" y="54"/>
                  </a:lnTo>
                  <a:lnTo>
                    <a:pt x="39" y="45"/>
                  </a:lnTo>
                  <a:lnTo>
                    <a:pt x="44" y="38"/>
                  </a:lnTo>
                  <a:lnTo>
                    <a:pt x="48" y="30"/>
                  </a:lnTo>
                  <a:lnTo>
                    <a:pt x="55" y="21"/>
                  </a:lnTo>
                  <a:lnTo>
                    <a:pt x="62" y="12"/>
                  </a:lnTo>
                  <a:lnTo>
                    <a:pt x="48" y="0"/>
                  </a:lnTo>
                  <a:lnTo>
                    <a:pt x="40" y="9"/>
                  </a:lnTo>
                  <a:lnTo>
                    <a:pt x="35" y="20"/>
                  </a:lnTo>
                  <a:lnTo>
                    <a:pt x="27" y="28"/>
                  </a:lnTo>
                  <a:lnTo>
                    <a:pt x="23" y="36"/>
                  </a:lnTo>
                  <a:lnTo>
                    <a:pt x="18" y="46"/>
                  </a:lnTo>
                  <a:lnTo>
                    <a:pt x="13" y="60"/>
                  </a:lnTo>
                  <a:lnTo>
                    <a:pt x="7" y="75"/>
                  </a:lnTo>
                  <a:lnTo>
                    <a:pt x="0" y="93"/>
                  </a:lnTo>
                  <a:lnTo>
                    <a:pt x="11" y="89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5" y="105"/>
                  </a:lnTo>
                  <a:lnTo>
                    <a:pt x="11" y="105"/>
                  </a:lnTo>
                  <a:lnTo>
                    <a:pt x="17" y="100"/>
                  </a:lnTo>
                  <a:lnTo>
                    <a:pt x="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8361720" y="2716200"/>
              <a:ext cx="32040" cy="59760"/>
            </a:xfrm>
            <a:custGeom>
              <a:avLst/>
              <a:gdLst/>
              <a:ahLst/>
              <a:rect l="l" t="t" r="r" b="b"/>
              <a:pathLst>
                <a:path w="71" h="142">
                  <a:moveTo>
                    <a:pt x="0" y="5"/>
                  </a:moveTo>
                  <a:lnTo>
                    <a:pt x="0" y="5"/>
                  </a:lnTo>
                  <a:lnTo>
                    <a:pt x="5" y="25"/>
                  </a:lnTo>
                  <a:lnTo>
                    <a:pt x="6" y="44"/>
                  </a:lnTo>
                  <a:lnTo>
                    <a:pt x="7" y="61"/>
                  </a:lnTo>
                  <a:lnTo>
                    <a:pt x="8" y="79"/>
                  </a:lnTo>
                  <a:lnTo>
                    <a:pt x="14" y="97"/>
                  </a:lnTo>
                  <a:lnTo>
                    <a:pt x="24" y="113"/>
                  </a:lnTo>
                  <a:lnTo>
                    <a:pt x="42" y="128"/>
                  </a:lnTo>
                  <a:lnTo>
                    <a:pt x="65" y="142"/>
                  </a:lnTo>
                  <a:lnTo>
                    <a:pt x="71" y="126"/>
                  </a:lnTo>
                  <a:lnTo>
                    <a:pt x="50" y="113"/>
                  </a:lnTo>
                  <a:lnTo>
                    <a:pt x="38" y="101"/>
                  </a:lnTo>
                  <a:lnTo>
                    <a:pt x="30" y="90"/>
                  </a:lnTo>
                  <a:lnTo>
                    <a:pt x="27" y="77"/>
                  </a:lnTo>
                  <a:lnTo>
                    <a:pt x="26" y="61"/>
                  </a:lnTo>
                  <a:lnTo>
                    <a:pt x="25" y="44"/>
                  </a:lnTo>
                  <a:lnTo>
                    <a:pt x="24" y="2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8385480" y="2628000"/>
              <a:ext cx="59760" cy="90000"/>
            </a:xfrm>
            <a:custGeom>
              <a:avLst/>
              <a:gdLst/>
              <a:ahLst/>
              <a:rect l="l" t="t" r="r" b="b"/>
              <a:pathLst>
                <a:path w="128" h="208">
                  <a:moveTo>
                    <a:pt x="0" y="2"/>
                  </a:moveTo>
                  <a:lnTo>
                    <a:pt x="0" y="2"/>
                  </a:lnTo>
                  <a:lnTo>
                    <a:pt x="9" y="31"/>
                  </a:lnTo>
                  <a:lnTo>
                    <a:pt x="22" y="58"/>
                  </a:lnTo>
                  <a:lnTo>
                    <a:pt x="37" y="83"/>
                  </a:lnTo>
                  <a:lnTo>
                    <a:pt x="54" y="108"/>
                  </a:lnTo>
                  <a:lnTo>
                    <a:pt x="70" y="133"/>
                  </a:lnTo>
                  <a:lnTo>
                    <a:pt x="85" y="159"/>
                  </a:lnTo>
                  <a:lnTo>
                    <a:pt x="100" y="183"/>
                  </a:lnTo>
                  <a:lnTo>
                    <a:pt x="109" y="208"/>
                  </a:lnTo>
                  <a:lnTo>
                    <a:pt x="128" y="203"/>
                  </a:lnTo>
                  <a:lnTo>
                    <a:pt x="116" y="177"/>
                  </a:lnTo>
                  <a:lnTo>
                    <a:pt x="102" y="149"/>
                  </a:lnTo>
                  <a:lnTo>
                    <a:pt x="86" y="124"/>
                  </a:lnTo>
                  <a:lnTo>
                    <a:pt x="70" y="98"/>
                  </a:lnTo>
                  <a:lnTo>
                    <a:pt x="54" y="73"/>
                  </a:lnTo>
                  <a:lnTo>
                    <a:pt x="39" y="49"/>
                  </a:lnTo>
                  <a:lnTo>
                    <a:pt x="25" y="2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8326800" y="2434680"/>
              <a:ext cx="120960" cy="195120"/>
            </a:xfrm>
            <a:custGeom>
              <a:avLst/>
              <a:gdLst/>
              <a:ahLst/>
              <a:rect l="l" t="t" r="r" b="b"/>
              <a:pathLst>
                <a:path w="260" h="453">
                  <a:moveTo>
                    <a:pt x="241" y="0"/>
                  </a:moveTo>
                  <a:lnTo>
                    <a:pt x="242" y="0"/>
                  </a:lnTo>
                  <a:lnTo>
                    <a:pt x="232" y="26"/>
                  </a:lnTo>
                  <a:lnTo>
                    <a:pt x="217" y="49"/>
                  </a:lnTo>
                  <a:lnTo>
                    <a:pt x="202" y="75"/>
                  </a:lnTo>
                  <a:lnTo>
                    <a:pt x="183" y="100"/>
                  </a:lnTo>
                  <a:lnTo>
                    <a:pt x="162" y="126"/>
                  </a:lnTo>
                  <a:lnTo>
                    <a:pt x="140" y="151"/>
                  </a:lnTo>
                  <a:lnTo>
                    <a:pt x="118" y="179"/>
                  </a:lnTo>
                  <a:lnTo>
                    <a:pt x="94" y="206"/>
                  </a:lnTo>
                  <a:lnTo>
                    <a:pt x="73" y="233"/>
                  </a:lnTo>
                  <a:lnTo>
                    <a:pt x="53" y="262"/>
                  </a:lnTo>
                  <a:lnTo>
                    <a:pt x="35" y="291"/>
                  </a:lnTo>
                  <a:lnTo>
                    <a:pt x="21" y="321"/>
                  </a:lnTo>
                  <a:lnTo>
                    <a:pt x="9" y="353"/>
                  </a:lnTo>
                  <a:lnTo>
                    <a:pt x="4" y="386"/>
                  </a:lnTo>
                  <a:lnTo>
                    <a:pt x="0" y="420"/>
                  </a:lnTo>
                  <a:lnTo>
                    <a:pt x="6" y="453"/>
                  </a:lnTo>
                  <a:lnTo>
                    <a:pt x="25" y="451"/>
                  </a:lnTo>
                  <a:lnTo>
                    <a:pt x="19" y="420"/>
                  </a:lnTo>
                  <a:lnTo>
                    <a:pt x="22" y="388"/>
                  </a:lnTo>
                  <a:lnTo>
                    <a:pt x="28" y="358"/>
                  </a:lnTo>
                  <a:lnTo>
                    <a:pt x="37" y="329"/>
                  </a:lnTo>
                  <a:lnTo>
                    <a:pt x="51" y="300"/>
                  </a:lnTo>
                  <a:lnTo>
                    <a:pt x="68" y="272"/>
                  </a:lnTo>
                  <a:lnTo>
                    <a:pt x="88" y="245"/>
                  </a:lnTo>
                  <a:lnTo>
                    <a:pt x="109" y="218"/>
                  </a:lnTo>
                  <a:lnTo>
                    <a:pt x="131" y="190"/>
                  </a:lnTo>
                  <a:lnTo>
                    <a:pt x="154" y="163"/>
                  </a:lnTo>
                  <a:lnTo>
                    <a:pt x="176" y="138"/>
                  </a:lnTo>
                  <a:lnTo>
                    <a:pt x="198" y="111"/>
                  </a:lnTo>
                  <a:lnTo>
                    <a:pt x="216" y="85"/>
                  </a:lnTo>
                  <a:lnTo>
                    <a:pt x="234" y="58"/>
                  </a:lnTo>
                  <a:lnTo>
                    <a:pt x="249" y="32"/>
                  </a:lnTo>
                  <a:lnTo>
                    <a:pt x="259" y="6"/>
                  </a:lnTo>
                  <a:lnTo>
                    <a:pt x="260" y="6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8326440" y="2372040"/>
              <a:ext cx="14040" cy="64080"/>
            </a:xfrm>
            <a:custGeom>
              <a:avLst/>
              <a:gdLst/>
              <a:ahLst/>
              <a:rect l="l" t="t" r="r" b="b"/>
              <a:pathLst>
                <a:path w="30" h="149">
                  <a:moveTo>
                    <a:pt x="4" y="0"/>
                  </a:moveTo>
                  <a:lnTo>
                    <a:pt x="4" y="1"/>
                  </a:lnTo>
                  <a:lnTo>
                    <a:pt x="0" y="38"/>
                  </a:lnTo>
                  <a:lnTo>
                    <a:pt x="4" y="76"/>
                  </a:lnTo>
                  <a:lnTo>
                    <a:pt x="11" y="112"/>
                  </a:lnTo>
                  <a:lnTo>
                    <a:pt x="9" y="143"/>
                  </a:lnTo>
                  <a:lnTo>
                    <a:pt x="28" y="149"/>
                  </a:lnTo>
                  <a:lnTo>
                    <a:pt x="30" y="112"/>
                  </a:lnTo>
                  <a:lnTo>
                    <a:pt x="23" y="73"/>
                  </a:lnTo>
                  <a:lnTo>
                    <a:pt x="19" y="38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8182440" y="2309760"/>
              <a:ext cx="155880" cy="66600"/>
            </a:xfrm>
            <a:custGeom>
              <a:avLst/>
              <a:gdLst/>
              <a:ahLst/>
              <a:rect l="l" t="t" r="r" b="b"/>
              <a:pathLst>
                <a:path w="335" h="156">
                  <a:moveTo>
                    <a:pt x="330" y="0"/>
                  </a:moveTo>
                  <a:lnTo>
                    <a:pt x="330" y="0"/>
                  </a:lnTo>
                  <a:lnTo>
                    <a:pt x="309" y="6"/>
                  </a:lnTo>
                  <a:lnTo>
                    <a:pt x="285" y="9"/>
                  </a:lnTo>
                  <a:lnTo>
                    <a:pt x="263" y="14"/>
                  </a:lnTo>
                  <a:lnTo>
                    <a:pt x="241" y="16"/>
                  </a:lnTo>
                  <a:lnTo>
                    <a:pt x="217" y="18"/>
                  </a:lnTo>
                  <a:lnTo>
                    <a:pt x="193" y="21"/>
                  </a:lnTo>
                  <a:lnTo>
                    <a:pt x="171" y="24"/>
                  </a:lnTo>
                  <a:lnTo>
                    <a:pt x="149" y="28"/>
                  </a:lnTo>
                  <a:lnTo>
                    <a:pt x="128" y="35"/>
                  </a:lnTo>
                  <a:lnTo>
                    <a:pt x="106" y="42"/>
                  </a:lnTo>
                  <a:lnTo>
                    <a:pt x="84" y="52"/>
                  </a:lnTo>
                  <a:lnTo>
                    <a:pt x="65" y="65"/>
                  </a:lnTo>
                  <a:lnTo>
                    <a:pt x="47" y="80"/>
                  </a:lnTo>
                  <a:lnTo>
                    <a:pt x="30" y="99"/>
                  </a:lnTo>
                  <a:lnTo>
                    <a:pt x="14" y="121"/>
                  </a:lnTo>
                  <a:lnTo>
                    <a:pt x="0" y="149"/>
                  </a:lnTo>
                  <a:lnTo>
                    <a:pt x="17" y="156"/>
                  </a:lnTo>
                  <a:lnTo>
                    <a:pt x="30" y="131"/>
                  </a:lnTo>
                  <a:lnTo>
                    <a:pt x="44" y="111"/>
                  </a:lnTo>
                  <a:lnTo>
                    <a:pt x="59" y="95"/>
                  </a:lnTo>
                  <a:lnTo>
                    <a:pt x="77" y="79"/>
                  </a:lnTo>
                  <a:lnTo>
                    <a:pt x="93" y="69"/>
                  </a:lnTo>
                  <a:lnTo>
                    <a:pt x="112" y="59"/>
                  </a:lnTo>
                  <a:lnTo>
                    <a:pt x="132" y="54"/>
                  </a:lnTo>
                  <a:lnTo>
                    <a:pt x="153" y="47"/>
                  </a:lnTo>
                  <a:lnTo>
                    <a:pt x="173" y="42"/>
                  </a:lnTo>
                  <a:lnTo>
                    <a:pt x="195" y="40"/>
                  </a:lnTo>
                  <a:lnTo>
                    <a:pt x="220" y="37"/>
                  </a:lnTo>
                  <a:lnTo>
                    <a:pt x="241" y="35"/>
                  </a:lnTo>
                  <a:lnTo>
                    <a:pt x="265" y="32"/>
                  </a:lnTo>
                  <a:lnTo>
                    <a:pt x="288" y="28"/>
                  </a:lnTo>
                  <a:lnTo>
                    <a:pt x="311" y="25"/>
                  </a:lnTo>
                  <a:lnTo>
                    <a:pt x="335" y="19"/>
                  </a:lnTo>
                  <a:lnTo>
                    <a:pt x="335" y="19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8024400" y="2303640"/>
              <a:ext cx="160200" cy="4068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42" y="82"/>
                  </a:moveTo>
                  <a:lnTo>
                    <a:pt x="342" y="82"/>
                  </a:lnTo>
                  <a:lnTo>
                    <a:pt x="320" y="70"/>
                  </a:lnTo>
                  <a:lnTo>
                    <a:pt x="300" y="57"/>
                  </a:lnTo>
                  <a:lnTo>
                    <a:pt x="279" y="47"/>
                  </a:lnTo>
                  <a:lnTo>
                    <a:pt x="259" y="36"/>
                  </a:lnTo>
                  <a:lnTo>
                    <a:pt x="240" y="29"/>
                  </a:lnTo>
                  <a:lnTo>
                    <a:pt x="219" y="20"/>
                  </a:lnTo>
                  <a:lnTo>
                    <a:pt x="200" y="13"/>
                  </a:lnTo>
                  <a:lnTo>
                    <a:pt x="180" y="6"/>
                  </a:lnTo>
                  <a:lnTo>
                    <a:pt x="160" y="3"/>
                  </a:lnTo>
                  <a:lnTo>
                    <a:pt x="139" y="1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4" y="1"/>
                  </a:lnTo>
                  <a:lnTo>
                    <a:pt x="51" y="4"/>
                  </a:lnTo>
                  <a:lnTo>
                    <a:pt x="26" y="10"/>
                  </a:lnTo>
                  <a:lnTo>
                    <a:pt x="0" y="15"/>
                  </a:lnTo>
                  <a:lnTo>
                    <a:pt x="5" y="34"/>
                  </a:lnTo>
                  <a:lnTo>
                    <a:pt x="28" y="29"/>
                  </a:lnTo>
                  <a:lnTo>
                    <a:pt x="53" y="23"/>
                  </a:lnTo>
                  <a:lnTo>
                    <a:pt x="74" y="20"/>
                  </a:lnTo>
                  <a:lnTo>
                    <a:pt x="97" y="19"/>
                  </a:lnTo>
                  <a:lnTo>
                    <a:pt x="118" y="19"/>
                  </a:lnTo>
                  <a:lnTo>
                    <a:pt x="139" y="20"/>
                  </a:lnTo>
                  <a:lnTo>
                    <a:pt x="158" y="22"/>
                  </a:lnTo>
                  <a:lnTo>
                    <a:pt x="178" y="25"/>
                  </a:lnTo>
                  <a:lnTo>
                    <a:pt x="196" y="32"/>
                  </a:lnTo>
                  <a:lnTo>
                    <a:pt x="215" y="36"/>
                  </a:lnTo>
                  <a:lnTo>
                    <a:pt x="234" y="44"/>
                  </a:lnTo>
                  <a:lnTo>
                    <a:pt x="252" y="53"/>
                  </a:lnTo>
                  <a:lnTo>
                    <a:pt x="272" y="63"/>
                  </a:lnTo>
                  <a:lnTo>
                    <a:pt x="291" y="74"/>
                  </a:lnTo>
                  <a:lnTo>
                    <a:pt x="311" y="86"/>
                  </a:lnTo>
                  <a:lnTo>
                    <a:pt x="332" y="99"/>
                  </a:lnTo>
                  <a:lnTo>
                    <a:pt x="332" y="99"/>
                  </a:lnTo>
                  <a:lnTo>
                    <a:pt x="34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7984800" y="2338200"/>
              <a:ext cx="44280" cy="7308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60" y="156"/>
                  </a:moveTo>
                  <a:lnTo>
                    <a:pt x="60" y="168"/>
                  </a:lnTo>
                  <a:lnTo>
                    <a:pt x="86" y="140"/>
                  </a:lnTo>
                  <a:lnTo>
                    <a:pt x="96" y="111"/>
                  </a:lnTo>
                  <a:lnTo>
                    <a:pt x="96" y="88"/>
                  </a:lnTo>
                  <a:lnTo>
                    <a:pt x="88" y="64"/>
                  </a:lnTo>
                  <a:lnTo>
                    <a:pt x="71" y="45"/>
                  </a:lnTo>
                  <a:lnTo>
                    <a:pt x="52" y="29"/>
                  </a:lnTo>
                  <a:lnTo>
                    <a:pt x="31" y="13"/>
                  </a:lnTo>
                  <a:lnTo>
                    <a:pt x="10" y="0"/>
                  </a:lnTo>
                  <a:lnTo>
                    <a:pt x="0" y="17"/>
                  </a:lnTo>
                  <a:lnTo>
                    <a:pt x="21" y="30"/>
                  </a:lnTo>
                  <a:lnTo>
                    <a:pt x="40" y="43"/>
                  </a:lnTo>
                  <a:lnTo>
                    <a:pt x="59" y="56"/>
                  </a:lnTo>
                  <a:lnTo>
                    <a:pt x="71" y="73"/>
                  </a:lnTo>
                  <a:lnTo>
                    <a:pt x="77" y="90"/>
                  </a:lnTo>
                  <a:lnTo>
                    <a:pt x="77" y="109"/>
                  </a:lnTo>
                  <a:lnTo>
                    <a:pt x="69" y="130"/>
                  </a:lnTo>
                  <a:lnTo>
                    <a:pt x="49" y="156"/>
                  </a:lnTo>
                  <a:lnTo>
                    <a:pt x="49" y="168"/>
                  </a:lnTo>
                  <a:lnTo>
                    <a:pt x="49" y="156"/>
                  </a:lnTo>
                  <a:lnTo>
                    <a:pt x="47" y="162"/>
                  </a:lnTo>
                  <a:lnTo>
                    <a:pt x="50" y="166"/>
                  </a:lnTo>
                  <a:lnTo>
                    <a:pt x="55" y="170"/>
                  </a:lnTo>
                  <a:lnTo>
                    <a:pt x="60" y="168"/>
                  </a:lnTo>
                  <a:lnTo>
                    <a:pt x="6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7976160" y="2404440"/>
              <a:ext cx="46080" cy="107640"/>
            </a:xfrm>
            <a:custGeom>
              <a:avLst/>
              <a:gdLst/>
              <a:ahLst/>
              <a:rect l="l" t="t" r="r" b="b"/>
              <a:pathLst>
                <a:path w="102" h="249">
                  <a:moveTo>
                    <a:pt x="0" y="240"/>
                  </a:moveTo>
                  <a:lnTo>
                    <a:pt x="15" y="247"/>
                  </a:lnTo>
                  <a:lnTo>
                    <a:pt x="43" y="218"/>
                  </a:lnTo>
                  <a:lnTo>
                    <a:pt x="66" y="191"/>
                  </a:lnTo>
                  <a:lnTo>
                    <a:pt x="87" y="163"/>
                  </a:lnTo>
                  <a:lnTo>
                    <a:pt x="98" y="134"/>
                  </a:lnTo>
                  <a:lnTo>
                    <a:pt x="102" y="103"/>
                  </a:lnTo>
                  <a:lnTo>
                    <a:pt x="95" y="70"/>
                  </a:lnTo>
                  <a:lnTo>
                    <a:pt x="76" y="37"/>
                  </a:lnTo>
                  <a:lnTo>
                    <a:pt x="44" y="0"/>
                  </a:lnTo>
                  <a:lnTo>
                    <a:pt x="33" y="12"/>
                  </a:lnTo>
                  <a:lnTo>
                    <a:pt x="62" y="46"/>
                  </a:lnTo>
                  <a:lnTo>
                    <a:pt x="79" y="76"/>
                  </a:lnTo>
                  <a:lnTo>
                    <a:pt x="83" y="103"/>
                  </a:lnTo>
                  <a:lnTo>
                    <a:pt x="80" y="129"/>
                  </a:lnTo>
                  <a:lnTo>
                    <a:pt x="71" y="154"/>
                  </a:lnTo>
                  <a:lnTo>
                    <a:pt x="53" y="179"/>
                  </a:lnTo>
                  <a:lnTo>
                    <a:pt x="29" y="207"/>
                  </a:lnTo>
                  <a:lnTo>
                    <a:pt x="3" y="235"/>
                  </a:lnTo>
                  <a:lnTo>
                    <a:pt x="19" y="240"/>
                  </a:lnTo>
                  <a:lnTo>
                    <a:pt x="3" y="235"/>
                  </a:lnTo>
                  <a:lnTo>
                    <a:pt x="1" y="240"/>
                  </a:lnTo>
                  <a:lnTo>
                    <a:pt x="4" y="246"/>
                  </a:lnTo>
                  <a:lnTo>
                    <a:pt x="9" y="249"/>
                  </a:lnTo>
                  <a:lnTo>
                    <a:pt x="15" y="247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8013240" y="2439000"/>
              <a:ext cx="32400" cy="68400"/>
            </a:xfrm>
            <a:custGeom>
              <a:avLst/>
              <a:gdLst/>
              <a:ahLst/>
              <a:rect l="l" t="t" r="r" b="b"/>
              <a:pathLst>
                <a:path w="67" h="161">
                  <a:moveTo>
                    <a:pt x="18" y="15"/>
                  </a:moveTo>
                  <a:lnTo>
                    <a:pt x="1" y="15"/>
                  </a:lnTo>
                  <a:lnTo>
                    <a:pt x="11" y="31"/>
                  </a:lnTo>
                  <a:lnTo>
                    <a:pt x="20" y="46"/>
                  </a:lnTo>
                  <a:lnTo>
                    <a:pt x="29" y="64"/>
                  </a:lnTo>
                  <a:lnTo>
                    <a:pt x="36" y="80"/>
                  </a:lnTo>
                  <a:lnTo>
                    <a:pt x="39" y="98"/>
                  </a:lnTo>
                  <a:lnTo>
                    <a:pt x="44" y="118"/>
                  </a:lnTo>
                  <a:lnTo>
                    <a:pt x="47" y="138"/>
                  </a:lnTo>
                  <a:lnTo>
                    <a:pt x="48" y="161"/>
                  </a:lnTo>
                  <a:lnTo>
                    <a:pt x="67" y="161"/>
                  </a:lnTo>
                  <a:lnTo>
                    <a:pt x="66" y="138"/>
                  </a:lnTo>
                  <a:lnTo>
                    <a:pt x="63" y="116"/>
                  </a:lnTo>
                  <a:lnTo>
                    <a:pt x="58" y="96"/>
                  </a:lnTo>
                  <a:lnTo>
                    <a:pt x="52" y="76"/>
                  </a:lnTo>
                  <a:lnTo>
                    <a:pt x="46" y="57"/>
                  </a:lnTo>
                  <a:lnTo>
                    <a:pt x="37" y="39"/>
                  </a:lnTo>
                  <a:lnTo>
                    <a:pt x="28" y="21"/>
                  </a:lnTo>
                  <a:lnTo>
                    <a:pt x="18" y="5"/>
                  </a:lnTo>
                  <a:lnTo>
                    <a:pt x="1" y="5"/>
                  </a:lnTo>
                  <a:lnTo>
                    <a:pt x="18" y="5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7"/>
                  </a:lnTo>
                  <a:lnTo>
                    <a:pt x="1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8052480" y="2524680"/>
              <a:ext cx="27720" cy="3204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43" y="0"/>
                  </a:moveTo>
                  <a:lnTo>
                    <a:pt x="52" y="11"/>
                  </a:lnTo>
                  <a:lnTo>
                    <a:pt x="58" y="24"/>
                  </a:lnTo>
                  <a:lnTo>
                    <a:pt x="61" y="38"/>
                  </a:lnTo>
                  <a:lnTo>
                    <a:pt x="58" y="51"/>
                  </a:lnTo>
                  <a:lnTo>
                    <a:pt x="52" y="63"/>
                  </a:lnTo>
                  <a:lnTo>
                    <a:pt x="43" y="71"/>
                  </a:lnTo>
                  <a:lnTo>
                    <a:pt x="28" y="74"/>
                  </a:lnTo>
                  <a:lnTo>
                    <a:pt x="11" y="72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2" y="53"/>
                  </a:lnTo>
                  <a:lnTo>
                    <a:pt x="10" y="44"/>
                  </a:lnTo>
                  <a:lnTo>
                    <a:pt x="17" y="33"/>
                  </a:lnTo>
                  <a:lnTo>
                    <a:pt x="27" y="23"/>
                  </a:lnTo>
                  <a:lnTo>
                    <a:pt x="36" y="1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8019720" y="2538000"/>
              <a:ext cx="11520" cy="2556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12" y="0"/>
                  </a:moveTo>
                  <a:lnTo>
                    <a:pt x="5" y="14"/>
                  </a:lnTo>
                  <a:lnTo>
                    <a:pt x="1" y="30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1"/>
                  </a:lnTo>
                  <a:lnTo>
                    <a:pt x="7" y="61"/>
                  </a:lnTo>
                  <a:lnTo>
                    <a:pt x="10" y="60"/>
                  </a:lnTo>
                  <a:lnTo>
                    <a:pt x="13" y="58"/>
                  </a:lnTo>
                  <a:lnTo>
                    <a:pt x="24" y="40"/>
                  </a:lnTo>
                  <a:lnTo>
                    <a:pt x="25" y="24"/>
                  </a:lnTo>
                  <a:lnTo>
                    <a:pt x="20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7747560" y="3246840"/>
              <a:ext cx="230400" cy="246960"/>
            </a:xfrm>
            <a:custGeom>
              <a:avLst/>
              <a:gdLst/>
              <a:ahLst/>
              <a:rect l="l" t="t" r="r" b="b"/>
              <a:pathLst>
                <a:path w="496" h="574">
                  <a:moveTo>
                    <a:pt x="181" y="25"/>
                  </a:moveTo>
                  <a:lnTo>
                    <a:pt x="170" y="37"/>
                  </a:lnTo>
                  <a:lnTo>
                    <a:pt x="160" y="49"/>
                  </a:lnTo>
                  <a:lnTo>
                    <a:pt x="153" y="63"/>
                  </a:lnTo>
                  <a:lnTo>
                    <a:pt x="149" y="80"/>
                  </a:lnTo>
                  <a:lnTo>
                    <a:pt x="145" y="98"/>
                  </a:lnTo>
                  <a:lnTo>
                    <a:pt x="144" y="118"/>
                  </a:lnTo>
                  <a:lnTo>
                    <a:pt x="146" y="139"/>
                  </a:lnTo>
                  <a:lnTo>
                    <a:pt x="150" y="161"/>
                  </a:lnTo>
                  <a:lnTo>
                    <a:pt x="151" y="178"/>
                  </a:lnTo>
                  <a:lnTo>
                    <a:pt x="148" y="197"/>
                  </a:lnTo>
                  <a:lnTo>
                    <a:pt x="143" y="214"/>
                  </a:lnTo>
                  <a:lnTo>
                    <a:pt x="137" y="232"/>
                  </a:lnTo>
                  <a:lnTo>
                    <a:pt x="132" y="249"/>
                  </a:lnTo>
                  <a:lnTo>
                    <a:pt x="131" y="264"/>
                  </a:lnTo>
                  <a:lnTo>
                    <a:pt x="133" y="276"/>
                  </a:lnTo>
                  <a:lnTo>
                    <a:pt x="143" y="286"/>
                  </a:lnTo>
                  <a:lnTo>
                    <a:pt x="150" y="289"/>
                  </a:lnTo>
                  <a:lnTo>
                    <a:pt x="156" y="290"/>
                  </a:lnTo>
                  <a:lnTo>
                    <a:pt x="164" y="289"/>
                  </a:lnTo>
                  <a:lnTo>
                    <a:pt x="171" y="288"/>
                  </a:lnTo>
                  <a:lnTo>
                    <a:pt x="176" y="286"/>
                  </a:lnTo>
                  <a:lnTo>
                    <a:pt x="184" y="282"/>
                  </a:lnTo>
                  <a:lnTo>
                    <a:pt x="190" y="279"/>
                  </a:lnTo>
                  <a:lnTo>
                    <a:pt x="194" y="277"/>
                  </a:lnTo>
                  <a:lnTo>
                    <a:pt x="213" y="267"/>
                  </a:lnTo>
                  <a:lnTo>
                    <a:pt x="230" y="251"/>
                  </a:lnTo>
                  <a:lnTo>
                    <a:pt x="245" y="232"/>
                  </a:lnTo>
                  <a:lnTo>
                    <a:pt x="260" y="211"/>
                  </a:lnTo>
                  <a:lnTo>
                    <a:pt x="273" y="190"/>
                  </a:lnTo>
                  <a:lnTo>
                    <a:pt x="288" y="170"/>
                  </a:lnTo>
                  <a:lnTo>
                    <a:pt x="305" y="153"/>
                  </a:lnTo>
                  <a:lnTo>
                    <a:pt x="324" y="141"/>
                  </a:lnTo>
                  <a:lnTo>
                    <a:pt x="329" y="140"/>
                  </a:lnTo>
                  <a:lnTo>
                    <a:pt x="336" y="142"/>
                  </a:lnTo>
                  <a:lnTo>
                    <a:pt x="341" y="146"/>
                  </a:lnTo>
                  <a:lnTo>
                    <a:pt x="343" y="151"/>
                  </a:lnTo>
                  <a:lnTo>
                    <a:pt x="342" y="180"/>
                  </a:lnTo>
                  <a:lnTo>
                    <a:pt x="339" y="212"/>
                  </a:lnTo>
                  <a:lnTo>
                    <a:pt x="334" y="247"/>
                  </a:lnTo>
                  <a:lnTo>
                    <a:pt x="326" y="279"/>
                  </a:lnTo>
                  <a:lnTo>
                    <a:pt x="317" y="313"/>
                  </a:lnTo>
                  <a:lnTo>
                    <a:pt x="305" y="343"/>
                  </a:lnTo>
                  <a:lnTo>
                    <a:pt x="291" y="370"/>
                  </a:lnTo>
                  <a:lnTo>
                    <a:pt x="275" y="391"/>
                  </a:lnTo>
                  <a:lnTo>
                    <a:pt x="265" y="398"/>
                  </a:lnTo>
                  <a:lnTo>
                    <a:pt x="252" y="400"/>
                  </a:lnTo>
                  <a:lnTo>
                    <a:pt x="239" y="400"/>
                  </a:lnTo>
                  <a:lnTo>
                    <a:pt x="223" y="398"/>
                  </a:lnTo>
                  <a:lnTo>
                    <a:pt x="205" y="392"/>
                  </a:lnTo>
                  <a:lnTo>
                    <a:pt x="186" y="388"/>
                  </a:lnTo>
                  <a:lnTo>
                    <a:pt x="168" y="381"/>
                  </a:lnTo>
                  <a:lnTo>
                    <a:pt x="148" y="373"/>
                  </a:lnTo>
                  <a:lnTo>
                    <a:pt x="127" y="368"/>
                  </a:lnTo>
                  <a:lnTo>
                    <a:pt x="107" y="362"/>
                  </a:lnTo>
                  <a:lnTo>
                    <a:pt x="88" y="358"/>
                  </a:lnTo>
                  <a:lnTo>
                    <a:pt x="69" y="354"/>
                  </a:lnTo>
                  <a:lnTo>
                    <a:pt x="50" y="354"/>
                  </a:lnTo>
                  <a:lnTo>
                    <a:pt x="33" y="358"/>
                  </a:lnTo>
                  <a:lnTo>
                    <a:pt x="19" y="363"/>
                  </a:lnTo>
                  <a:lnTo>
                    <a:pt x="6" y="372"/>
                  </a:lnTo>
                  <a:lnTo>
                    <a:pt x="1" y="381"/>
                  </a:lnTo>
                  <a:lnTo>
                    <a:pt x="0" y="391"/>
                  </a:lnTo>
                  <a:lnTo>
                    <a:pt x="5" y="404"/>
                  </a:lnTo>
                  <a:lnTo>
                    <a:pt x="12" y="420"/>
                  </a:lnTo>
                  <a:lnTo>
                    <a:pt x="22" y="435"/>
                  </a:lnTo>
                  <a:lnTo>
                    <a:pt x="37" y="450"/>
                  </a:lnTo>
                  <a:lnTo>
                    <a:pt x="52" y="468"/>
                  </a:lnTo>
                  <a:lnTo>
                    <a:pt x="70" y="484"/>
                  </a:lnTo>
                  <a:lnTo>
                    <a:pt x="89" y="501"/>
                  </a:lnTo>
                  <a:lnTo>
                    <a:pt x="108" y="516"/>
                  </a:lnTo>
                  <a:lnTo>
                    <a:pt x="128" y="531"/>
                  </a:lnTo>
                  <a:lnTo>
                    <a:pt x="146" y="544"/>
                  </a:lnTo>
                  <a:lnTo>
                    <a:pt x="165" y="555"/>
                  </a:lnTo>
                  <a:lnTo>
                    <a:pt x="183" y="565"/>
                  </a:lnTo>
                  <a:lnTo>
                    <a:pt x="197" y="571"/>
                  </a:lnTo>
                  <a:lnTo>
                    <a:pt x="212" y="574"/>
                  </a:lnTo>
                  <a:lnTo>
                    <a:pt x="216" y="573"/>
                  </a:lnTo>
                  <a:lnTo>
                    <a:pt x="223" y="571"/>
                  </a:lnTo>
                  <a:lnTo>
                    <a:pt x="229" y="566"/>
                  </a:lnTo>
                  <a:lnTo>
                    <a:pt x="235" y="561"/>
                  </a:lnTo>
                  <a:lnTo>
                    <a:pt x="243" y="556"/>
                  </a:lnTo>
                  <a:lnTo>
                    <a:pt x="248" y="552"/>
                  </a:lnTo>
                  <a:lnTo>
                    <a:pt x="253" y="549"/>
                  </a:lnTo>
                  <a:lnTo>
                    <a:pt x="256" y="546"/>
                  </a:lnTo>
                  <a:lnTo>
                    <a:pt x="405" y="391"/>
                  </a:lnTo>
                  <a:lnTo>
                    <a:pt x="415" y="383"/>
                  </a:lnTo>
                  <a:lnTo>
                    <a:pt x="427" y="373"/>
                  </a:lnTo>
                  <a:lnTo>
                    <a:pt x="440" y="362"/>
                  </a:lnTo>
                  <a:lnTo>
                    <a:pt x="456" y="349"/>
                  </a:lnTo>
                  <a:lnTo>
                    <a:pt x="470" y="336"/>
                  </a:lnTo>
                  <a:lnTo>
                    <a:pt x="484" y="323"/>
                  </a:lnTo>
                  <a:lnTo>
                    <a:pt x="491" y="311"/>
                  </a:lnTo>
                  <a:lnTo>
                    <a:pt x="496" y="299"/>
                  </a:lnTo>
                  <a:lnTo>
                    <a:pt x="496" y="277"/>
                  </a:lnTo>
                  <a:lnTo>
                    <a:pt x="488" y="244"/>
                  </a:lnTo>
                  <a:lnTo>
                    <a:pt x="479" y="211"/>
                  </a:lnTo>
                  <a:lnTo>
                    <a:pt x="472" y="189"/>
                  </a:lnTo>
                  <a:lnTo>
                    <a:pt x="468" y="172"/>
                  </a:lnTo>
                  <a:lnTo>
                    <a:pt x="458" y="147"/>
                  </a:lnTo>
                  <a:lnTo>
                    <a:pt x="446" y="117"/>
                  </a:lnTo>
                  <a:lnTo>
                    <a:pt x="430" y="85"/>
                  </a:lnTo>
                  <a:lnTo>
                    <a:pt x="414" y="53"/>
                  </a:lnTo>
                  <a:lnTo>
                    <a:pt x="397" y="27"/>
                  </a:lnTo>
                  <a:lnTo>
                    <a:pt x="382" y="8"/>
                  </a:lnTo>
                  <a:lnTo>
                    <a:pt x="369" y="0"/>
                  </a:lnTo>
                  <a:lnTo>
                    <a:pt x="358" y="1"/>
                  </a:lnTo>
                  <a:lnTo>
                    <a:pt x="347" y="4"/>
                  </a:lnTo>
                  <a:lnTo>
                    <a:pt x="336" y="5"/>
                  </a:lnTo>
                  <a:lnTo>
                    <a:pt x="324" y="7"/>
                  </a:lnTo>
                  <a:lnTo>
                    <a:pt x="313" y="8"/>
                  </a:lnTo>
                  <a:lnTo>
                    <a:pt x="302" y="10"/>
                  </a:lnTo>
                  <a:lnTo>
                    <a:pt x="288" y="11"/>
                  </a:lnTo>
                  <a:lnTo>
                    <a:pt x="277" y="12"/>
                  </a:lnTo>
                  <a:lnTo>
                    <a:pt x="265" y="15"/>
                  </a:lnTo>
                  <a:lnTo>
                    <a:pt x="253" y="16"/>
                  </a:lnTo>
                  <a:lnTo>
                    <a:pt x="241" y="18"/>
                  </a:lnTo>
                  <a:lnTo>
                    <a:pt x="229" y="19"/>
                  </a:lnTo>
                  <a:lnTo>
                    <a:pt x="216" y="21"/>
                  </a:lnTo>
                  <a:lnTo>
                    <a:pt x="204" y="22"/>
                  </a:lnTo>
                  <a:lnTo>
                    <a:pt x="192" y="24"/>
                  </a:lnTo>
                  <a:lnTo>
                    <a:pt x="181" y="25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7892280" y="3255840"/>
              <a:ext cx="25200" cy="61560"/>
            </a:xfrm>
            <a:custGeom>
              <a:avLst/>
              <a:gdLst/>
              <a:ahLst/>
              <a:rect l="l" t="t" r="r" b="b"/>
              <a:pathLst>
                <a:path w="55" h="147">
                  <a:moveTo>
                    <a:pt x="27" y="144"/>
                  </a:moveTo>
                  <a:lnTo>
                    <a:pt x="27" y="143"/>
                  </a:lnTo>
                  <a:lnTo>
                    <a:pt x="23" y="122"/>
                  </a:lnTo>
                  <a:lnTo>
                    <a:pt x="21" y="102"/>
                  </a:lnTo>
                  <a:lnTo>
                    <a:pt x="22" y="83"/>
                  </a:lnTo>
                  <a:lnTo>
                    <a:pt x="26" y="66"/>
                  </a:lnTo>
                  <a:lnTo>
                    <a:pt x="30" y="51"/>
                  </a:lnTo>
                  <a:lnTo>
                    <a:pt x="37" y="37"/>
                  </a:lnTo>
                  <a:lnTo>
                    <a:pt x="45" y="27"/>
                  </a:lnTo>
                  <a:lnTo>
                    <a:pt x="55" y="16"/>
                  </a:lnTo>
                  <a:lnTo>
                    <a:pt x="40" y="0"/>
                  </a:lnTo>
                  <a:lnTo>
                    <a:pt x="29" y="13"/>
                  </a:lnTo>
                  <a:lnTo>
                    <a:pt x="18" y="29"/>
                  </a:lnTo>
                  <a:lnTo>
                    <a:pt x="11" y="44"/>
                  </a:lnTo>
                  <a:lnTo>
                    <a:pt x="5" y="62"/>
                  </a:lnTo>
                  <a:lnTo>
                    <a:pt x="1" y="81"/>
                  </a:lnTo>
                  <a:lnTo>
                    <a:pt x="0" y="102"/>
                  </a:lnTo>
                  <a:lnTo>
                    <a:pt x="2" y="124"/>
                  </a:lnTo>
                  <a:lnTo>
                    <a:pt x="6" y="147"/>
                  </a:lnTo>
                  <a:lnTo>
                    <a:pt x="6" y="146"/>
                  </a:lnTo>
                  <a:lnTo>
                    <a:pt x="27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7903440" y="3315600"/>
              <a:ext cx="18360" cy="57960"/>
            </a:xfrm>
            <a:custGeom>
              <a:avLst/>
              <a:gdLst/>
              <a:ahLst/>
              <a:rect l="l" t="t" r="r" b="b"/>
              <a:pathLst>
                <a:path w="42" h="134">
                  <a:moveTo>
                    <a:pt x="29" y="116"/>
                  </a:moveTo>
                  <a:lnTo>
                    <a:pt x="28" y="116"/>
                  </a:lnTo>
                  <a:lnTo>
                    <a:pt x="23" y="111"/>
                  </a:lnTo>
                  <a:lnTo>
                    <a:pt x="21" y="104"/>
                  </a:lnTo>
                  <a:lnTo>
                    <a:pt x="23" y="90"/>
                  </a:lnTo>
                  <a:lnTo>
                    <a:pt x="28" y="74"/>
                  </a:lnTo>
                  <a:lnTo>
                    <a:pt x="33" y="57"/>
                  </a:lnTo>
                  <a:lnTo>
                    <a:pt x="38" y="39"/>
                  </a:lnTo>
                  <a:lnTo>
                    <a:pt x="42" y="18"/>
                  </a:lnTo>
                  <a:lnTo>
                    <a:pt x="40" y="0"/>
                  </a:lnTo>
                  <a:lnTo>
                    <a:pt x="19" y="2"/>
                  </a:lnTo>
                  <a:lnTo>
                    <a:pt x="20" y="18"/>
                  </a:lnTo>
                  <a:lnTo>
                    <a:pt x="17" y="34"/>
                  </a:lnTo>
                  <a:lnTo>
                    <a:pt x="12" y="52"/>
                  </a:lnTo>
                  <a:lnTo>
                    <a:pt x="7" y="70"/>
                  </a:lnTo>
                  <a:lnTo>
                    <a:pt x="1" y="88"/>
                  </a:lnTo>
                  <a:lnTo>
                    <a:pt x="0" y="104"/>
                  </a:lnTo>
                  <a:lnTo>
                    <a:pt x="4" y="120"/>
                  </a:lnTo>
                  <a:lnTo>
                    <a:pt x="18" y="134"/>
                  </a:lnTo>
                  <a:lnTo>
                    <a:pt x="17" y="134"/>
                  </a:lnTo>
                  <a:lnTo>
                    <a:pt x="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7887240" y="3363120"/>
              <a:ext cx="27720" cy="1476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54" y="0"/>
                  </a:moveTo>
                  <a:lnTo>
                    <a:pt x="54" y="0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26" y="10"/>
                  </a:lnTo>
                  <a:lnTo>
                    <a:pt x="19" y="11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26"/>
                  </a:lnTo>
                  <a:lnTo>
                    <a:pt x="11" y="31"/>
                  </a:lnTo>
                  <a:lnTo>
                    <a:pt x="19" y="33"/>
                  </a:lnTo>
                  <a:lnTo>
                    <a:pt x="28" y="31"/>
                  </a:lnTo>
                  <a:lnTo>
                    <a:pt x="36" y="30"/>
                  </a:lnTo>
                  <a:lnTo>
                    <a:pt x="44" y="26"/>
                  </a:lnTo>
                  <a:lnTo>
                    <a:pt x="51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>
              <a:off x="7822440" y="3305160"/>
              <a:ext cx="66960" cy="66600"/>
            </a:xfrm>
            <a:custGeom>
              <a:avLst/>
              <a:gdLst/>
              <a:ahLst/>
              <a:rect l="l" t="t" r="r" b="b"/>
              <a:pathLst>
                <a:path w="143" h="156">
                  <a:moveTo>
                    <a:pt x="131" y="0"/>
                  </a:moveTo>
                  <a:lnTo>
                    <a:pt x="130" y="1"/>
                  </a:lnTo>
                  <a:lnTo>
                    <a:pt x="108" y="14"/>
                  </a:lnTo>
                  <a:lnTo>
                    <a:pt x="90" y="31"/>
                  </a:lnTo>
                  <a:lnTo>
                    <a:pt x="74" y="52"/>
                  </a:lnTo>
                  <a:lnTo>
                    <a:pt x="60" y="73"/>
                  </a:lnTo>
                  <a:lnTo>
                    <a:pt x="46" y="96"/>
                  </a:lnTo>
                  <a:lnTo>
                    <a:pt x="32" y="113"/>
                  </a:lnTo>
                  <a:lnTo>
                    <a:pt x="16" y="127"/>
                  </a:lnTo>
                  <a:lnTo>
                    <a:pt x="0" y="137"/>
                  </a:lnTo>
                  <a:lnTo>
                    <a:pt x="6" y="156"/>
                  </a:lnTo>
                  <a:lnTo>
                    <a:pt x="29" y="143"/>
                  </a:lnTo>
                  <a:lnTo>
                    <a:pt x="46" y="127"/>
                  </a:lnTo>
                  <a:lnTo>
                    <a:pt x="62" y="107"/>
                  </a:lnTo>
                  <a:lnTo>
                    <a:pt x="76" y="86"/>
                  </a:lnTo>
                  <a:lnTo>
                    <a:pt x="91" y="65"/>
                  </a:lnTo>
                  <a:lnTo>
                    <a:pt x="106" y="46"/>
                  </a:lnTo>
                  <a:lnTo>
                    <a:pt x="120" y="30"/>
                  </a:lnTo>
                  <a:lnTo>
                    <a:pt x="136" y="20"/>
                  </a:lnTo>
                  <a:lnTo>
                    <a:pt x="135" y="21"/>
                  </a:lnTo>
                  <a:lnTo>
                    <a:pt x="136" y="20"/>
                  </a:lnTo>
                  <a:lnTo>
                    <a:pt x="143" y="14"/>
                  </a:lnTo>
                  <a:lnTo>
                    <a:pt x="143" y="7"/>
                  </a:lnTo>
                  <a:lnTo>
                    <a:pt x="137" y="1"/>
                  </a:lnTo>
                  <a:lnTo>
                    <a:pt x="13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7812720" y="3303000"/>
              <a:ext cx="16200" cy="144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2"/>
                  </a:moveTo>
                  <a:lnTo>
                    <a:pt x="32" y="21"/>
                  </a:lnTo>
                  <a:lnTo>
                    <a:pt x="26" y="10"/>
                  </a:lnTo>
                  <a:lnTo>
                    <a:pt x="19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4" y="23"/>
                  </a:lnTo>
                  <a:lnTo>
                    <a:pt x="7" y="22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4" y="30"/>
                  </a:lnTo>
                  <a:lnTo>
                    <a:pt x="22" y="32"/>
                  </a:lnTo>
                  <a:lnTo>
                    <a:pt x="30" y="29"/>
                  </a:lnTo>
                  <a:lnTo>
                    <a:pt x="32" y="21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7813080" y="3313800"/>
              <a:ext cx="41400" cy="106920"/>
            </a:xfrm>
            <a:custGeom>
              <a:avLst/>
              <a:gdLst/>
              <a:ahLst/>
              <a:rect l="l" t="t" r="r" b="b"/>
              <a:pathLst>
                <a:path w="90" h="251">
                  <a:moveTo>
                    <a:pt x="18" y="248"/>
                  </a:moveTo>
                  <a:lnTo>
                    <a:pt x="18" y="248"/>
                  </a:lnTo>
                  <a:lnTo>
                    <a:pt x="37" y="226"/>
                  </a:lnTo>
                  <a:lnTo>
                    <a:pt x="51" y="196"/>
                  </a:lnTo>
                  <a:lnTo>
                    <a:pt x="63" y="165"/>
                  </a:lnTo>
                  <a:lnTo>
                    <a:pt x="73" y="131"/>
                  </a:lnTo>
                  <a:lnTo>
                    <a:pt x="80" y="97"/>
                  </a:lnTo>
                  <a:lnTo>
                    <a:pt x="86" y="62"/>
                  </a:lnTo>
                  <a:lnTo>
                    <a:pt x="89" y="29"/>
                  </a:lnTo>
                  <a:lnTo>
                    <a:pt x="90" y="0"/>
                  </a:lnTo>
                  <a:lnTo>
                    <a:pt x="69" y="0"/>
                  </a:lnTo>
                  <a:lnTo>
                    <a:pt x="68" y="29"/>
                  </a:lnTo>
                  <a:lnTo>
                    <a:pt x="64" y="60"/>
                  </a:lnTo>
                  <a:lnTo>
                    <a:pt x="59" y="95"/>
                  </a:lnTo>
                  <a:lnTo>
                    <a:pt x="52" y="126"/>
                  </a:lnTo>
                  <a:lnTo>
                    <a:pt x="42" y="160"/>
                  </a:lnTo>
                  <a:lnTo>
                    <a:pt x="32" y="189"/>
                  </a:lnTo>
                  <a:lnTo>
                    <a:pt x="18" y="21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0" y="240"/>
                  </a:lnTo>
                  <a:lnTo>
                    <a:pt x="3" y="248"/>
                  </a:lnTo>
                  <a:lnTo>
                    <a:pt x="11" y="251"/>
                  </a:lnTo>
                  <a:lnTo>
                    <a:pt x="18" y="248"/>
                  </a:lnTo>
                  <a:lnTo>
                    <a:pt x="18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>
              <a:off x="7847640" y="3395160"/>
              <a:ext cx="132120" cy="27720"/>
            </a:xfrm>
            <a:custGeom>
              <a:avLst/>
              <a:gdLst/>
              <a:ahLst/>
              <a:rect l="l" t="t" r="r" b="b"/>
              <a:pathLst>
                <a:path w="286" h="66">
                  <a:moveTo>
                    <a:pt x="17" y="36"/>
                  </a:moveTo>
                  <a:lnTo>
                    <a:pt x="17" y="36"/>
                  </a:lnTo>
                  <a:lnTo>
                    <a:pt x="27" y="28"/>
                  </a:lnTo>
                  <a:lnTo>
                    <a:pt x="40" y="24"/>
                  </a:lnTo>
                  <a:lnTo>
                    <a:pt x="54" y="21"/>
                  </a:lnTo>
                  <a:lnTo>
                    <a:pt x="73" y="21"/>
                  </a:lnTo>
                  <a:lnTo>
                    <a:pt x="91" y="24"/>
                  </a:lnTo>
                  <a:lnTo>
                    <a:pt x="107" y="28"/>
                  </a:lnTo>
                  <a:lnTo>
                    <a:pt x="128" y="35"/>
                  </a:lnTo>
                  <a:lnTo>
                    <a:pt x="149" y="40"/>
                  </a:lnTo>
                  <a:lnTo>
                    <a:pt x="168" y="46"/>
                  </a:lnTo>
                  <a:lnTo>
                    <a:pt x="188" y="55"/>
                  </a:lnTo>
                  <a:lnTo>
                    <a:pt x="207" y="59"/>
                  </a:lnTo>
                  <a:lnTo>
                    <a:pt x="226" y="64"/>
                  </a:lnTo>
                  <a:lnTo>
                    <a:pt x="243" y="66"/>
                  </a:lnTo>
                  <a:lnTo>
                    <a:pt x="256" y="66"/>
                  </a:lnTo>
                  <a:lnTo>
                    <a:pt x="272" y="63"/>
                  </a:lnTo>
                  <a:lnTo>
                    <a:pt x="286" y="55"/>
                  </a:lnTo>
                  <a:lnTo>
                    <a:pt x="271" y="40"/>
                  </a:lnTo>
                  <a:lnTo>
                    <a:pt x="266" y="44"/>
                  </a:lnTo>
                  <a:lnTo>
                    <a:pt x="256" y="45"/>
                  </a:lnTo>
                  <a:lnTo>
                    <a:pt x="243" y="45"/>
                  </a:lnTo>
                  <a:lnTo>
                    <a:pt x="228" y="43"/>
                  </a:lnTo>
                  <a:lnTo>
                    <a:pt x="211" y="38"/>
                  </a:lnTo>
                  <a:lnTo>
                    <a:pt x="193" y="34"/>
                  </a:lnTo>
                  <a:lnTo>
                    <a:pt x="175" y="27"/>
                  </a:lnTo>
                  <a:lnTo>
                    <a:pt x="154" y="19"/>
                  </a:lnTo>
                  <a:lnTo>
                    <a:pt x="133" y="14"/>
                  </a:lnTo>
                  <a:lnTo>
                    <a:pt x="113" y="7"/>
                  </a:lnTo>
                  <a:lnTo>
                    <a:pt x="93" y="3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35" y="3"/>
                  </a:lnTo>
                  <a:lnTo>
                    <a:pt x="19" y="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3" y="36"/>
                  </a:lnTo>
                  <a:lnTo>
                    <a:pt x="10" y="39"/>
                  </a:lnTo>
                  <a:lnTo>
                    <a:pt x="17" y="36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7880760" y="3403800"/>
              <a:ext cx="102240" cy="94320"/>
            </a:xfrm>
            <a:custGeom>
              <a:avLst/>
              <a:gdLst/>
              <a:ahLst/>
              <a:rect l="l" t="t" r="r" b="b"/>
              <a:pathLst>
                <a:path w="224" h="220">
                  <a:moveTo>
                    <a:pt x="223" y="198"/>
                  </a:moveTo>
                  <a:lnTo>
                    <a:pt x="224" y="198"/>
                  </a:lnTo>
                  <a:lnTo>
                    <a:pt x="212" y="195"/>
                  </a:lnTo>
                  <a:lnTo>
                    <a:pt x="199" y="190"/>
                  </a:lnTo>
                  <a:lnTo>
                    <a:pt x="181" y="181"/>
                  </a:lnTo>
                  <a:lnTo>
                    <a:pt x="163" y="171"/>
                  </a:lnTo>
                  <a:lnTo>
                    <a:pt x="144" y="157"/>
                  </a:lnTo>
                  <a:lnTo>
                    <a:pt x="124" y="144"/>
                  </a:lnTo>
                  <a:lnTo>
                    <a:pt x="106" y="128"/>
                  </a:lnTo>
                  <a:lnTo>
                    <a:pt x="88" y="112"/>
                  </a:lnTo>
                  <a:lnTo>
                    <a:pt x="70" y="96"/>
                  </a:lnTo>
                  <a:lnTo>
                    <a:pt x="55" y="78"/>
                  </a:lnTo>
                  <a:lnTo>
                    <a:pt x="42" y="64"/>
                  </a:lnTo>
                  <a:lnTo>
                    <a:pt x="32" y="50"/>
                  </a:lnTo>
                  <a:lnTo>
                    <a:pt x="26" y="36"/>
                  </a:lnTo>
                  <a:lnTo>
                    <a:pt x="22" y="25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10" y="0"/>
                  </a:lnTo>
                  <a:lnTo>
                    <a:pt x="1" y="14"/>
                  </a:lnTo>
                  <a:lnTo>
                    <a:pt x="0" y="27"/>
                  </a:lnTo>
                  <a:lnTo>
                    <a:pt x="7" y="43"/>
                  </a:lnTo>
                  <a:lnTo>
                    <a:pt x="13" y="59"/>
                  </a:lnTo>
                  <a:lnTo>
                    <a:pt x="26" y="76"/>
                  </a:lnTo>
                  <a:lnTo>
                    <a:pt x="39" y="93"/>
                  </a:lnTo>
                  <a:lnTo>
                    <a:pt x="55" y="110"/>
                  </a:lnTo>
                  <a:lnTo>
                    <a:pt x="73" y="128"/>
                  </a:lnTo>
                  <a:lnTo>
                    <a:pt x="92" y="145"/>
                  </a:lnTo>
                  <a:lnTo>
                    <a:pt x="112" y="159"/>
                  </a:lnTo>
                  <a:lnTo>
                    <a:pt x="132" y="174"/>
                  </a:lnTo>
                  <a:lnTo>
                    <a:pt x="151" y="188"/>
                  </a:lnTo>
                  <a:lnTo>
                    <a:pt x="171" y="200"/>
                  </a:lnTo>
                  <a:lnTo>
                    <a:pt x="189" y="209"/>
                  </a:lnTo>
                  <a:lnTo>
                    <a:pt x="206" y="216"/>
                  </a:lnTo>
                  <a:lnTo>
                    <a:pt x="222" y="220"/>
                  </a:lnTo>
                  <a:lnTo>
                    <a:pt x="223" y="220"/>
                  </a:lnTo>
                  <a:lnTo>
                    <a:pt x="223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7857360" y="3479040"/>
              <a:ext cx="23040" cy="194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6" y="0"/>
                  </a:moveTo>
                  <a:lnTo>
                    <a:pt x="36" y="0"/>
                  </a:lnTo>
                  <a:lnTo>
                    <a:pt x="34" y="1"/>
                  </a:lnTo>
                  <a:lnTo>
                    <a:pt x="31" y="4"/>
                  </a:lnTo>
                  <a:lnTo>
                    <a:pt x="25" y="10"/>
                  </a:lnTo>
                  <a:lnTo>
                    <a:pt x="18" y="13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46"/>
                  </a:lnTo>
                  <a:lnTo>
                    <a:pt x="8" y="45"/>
                  </a:lnTo>
                  <a:lnTo>
                    <a:pt x="15" y="41"/>
                  </a:lnTo>
                  <a:lnTo>
                    <a:pt x="22" y="35"/>
                  </a:lnTo>
                  <a:lnTo>
                    <a:pt x="30" y="32"/>
                  </a:lnTo>
                  <a:lnTo>
                    <a:pt x="36" y="26"/>
                  </a:lnTo>
                  <a:lnTo>
                    <a:pt x="42" y="21"/>
                  </a:lnTo>
                  <a:lnTo>
                    <a:pt x="49" y="1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>
              <a:off x="7787160" y="3412080"/>
              <a:ext cx="76680" cy="7308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50" y="0"/>
                  </a:moveTo>
                  <a:lnTo>
                    <a:pt x="150" y="0"/>
                  </a:lnTo>
                  <a:lnTo>
                    <a:pt x="0" y="155"/>
                  </a:lnTo>
                  <a:lnTo>
                    <a:pt x="15" y="169"/>
                  </a:lnTo>
                  <a:lnTo>
                    <a:pt x="165" y="15"/>
                  </a:lnTo>
                  <a:lnTo>
                    <a:pt x="165" y="15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>
              <a:off x="7743600" y="3375720"/>
              <a:ext cx="51120" cy="4320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88" y="0"/>
                  </a:moveTo>
                  <a:lnTo>
                    <a:pt x="88" y="1"/>
                  </a:lnTo>
                  <a:lnTo>
                    <a:pt x="84" y="10"/>
                  </a:lnTo>
                  <a:lnTo>
                    <a:pt x="77" y="19"/>
                  </a:lnTo>
                  <a:lnTo>
                    <a:pt x="66" y="32"/>
                  </a:lnTo>
                  <a:lnTo>
                    <a:pt x="51" y="44"/>
                  </a:lnTo>
                  <a:lnTo>
                    <a:pt x="36" y="56"/>
                  </a:lnTo>
                  <a:lnTo>
                    <a:pt x="22" y="68"/>
                  </a:lnTo>
                  <a:lnTo>
                    <a:pt x="10" y="77"/>
                  </a:lnTo>
                  <a:lnTo>
                    <a:pt x="0" y="87"/>
                  </a:lnTo>
                  <a:lnTo>
                    <a:pt x="15" y="102"/>
                  </a:lnTo>
                  <a:lnTo>
                    <a:pt x="23" y="94"/>
                  </a:lnTo>
                  <a:lnTo>
                    <a:pt x="35" y="85"/>
                  </a:lnTo>
                  <a:lnTo>
                    <a:pt x="50" y="73"/>
                  </a:lnTo>
                  <a:lnTo>
                    <a:pt x="66" y="61"/>
                  </a:lnTo>
                  <a:lnTo>
                    <a:pt x="79" y="46"/>
                  </a:lnTo>
                  <a:lnTo>
                    <a:pt x="93" y="33"/>
                  </a:lnTo>
                  <a:lnTo>
                    <a:pt x="103" y="19"/>
                  </a:lnTo>
                  <a:lnTo>
                    <a:pt x="109" y="4"/>
                  </a:lnTo>
                  <a:lnTo>
                    <a:pt x="109" y="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7743240" y="3328560"/>
              <a:ext cx="20520" cy="49680"/>
            </a:xfrm>
            <a:custGeom>
              <a:avLst/>
              <a:gdLst/>
              <a:ahLst/>
              <a:rect l="l" t="t" r="r" b="b"/>
              <a:pathLst>
                <a:path w="46" h="116">
                  <a:moveTo>
                    <a:pt x="0" y="4"/>
                  </a:moveTo>
                  <a:lnTo>
                    <a:pt x="0" y="5"/>
                  </a:lnTo>
                  <a:lnTo>
                    <a:pt x="8" y="27"/>
                  </a:lnTo>
                  <a:lnTo>
                    <a:pt x="16" y="61"/>
                  </a:lnTo>
                  <a:lnTo>
                    <a:pt x="25" y="92"/>
                  </a:lnTo>
                  <a:lnTo>
                    <a:pt x="25" y="111"/>
                  </a:lnTo>
                  <a:lnTo>
                    <a:pt x="46" y="116"/>
                  </a:lnTo>
                  <a:lnTo>
                    <a:pt x="46" y="90"/>
                  </a:lnTo>
                  <a:lnTo>
                    <a:pt x="37" y="55"/>
                  </a:lnTo>
                  <a:lnTo>
                    <a:pt x="29" y="23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7752600" y="3242520"/>
              <a:ext cx="60480" cy="85680"/>
            </a:xfrm>
            <a:custGeom>
              <a:avLst/>
              <a:gdLst/>
              <a:ahLst/>
              <a:rect l="l" t="t" r="r" b="b"/>
              <a:pathLst>
                <a:path w="126" h="201">
                  <a:moveTo>
                    <a:pt x="12" y="21"/>
                  </a:moveTo>
                  <a:lnTo>
                    <a:pt x="9" y="21"/>
                  </a:lnTo>
                  <a:lnTo>
                    <a:pt x="17" y="26"/>
                  </a:lnTo>
                  <a:lnTo>
                    <a:pt x="31" y="43"/>
                  </a:lnTo>
                  <a:lnTo>
                    <a:pt x="46" y="70"/>
                  </a:lnTo>
                  <a:lnTo>
                    <a:pt x="62" y="100"/>
                  </a:lnTo>
                  <a:lnTo>
                    <a:pt x="78" y="131"/>
                  </a:lnTo>
                  <a:lnTo>
                    <a:pt x="91" y="162"/>
                  </a:lnTo>
                  <a:lnTo>
                    <a:pt x="99" y="187"/>
                  </a:lnTo>
                  <a:lnTo>
                    <a:pt x="103" y="201"/>
                  </a:lnTo>
                  <a:lnTo>
                    <a:pt x="126" y="199"/>
                  </a:lnTo>
                  <a:lnTo>
                    <a:pt x="120" y="180"/>
                  </a:lnTo>
                  <a:lnTo>
                    <a:pt x="110" y="154"/>
                  </a:lnTo>
                  <a:lnTo>
                    <a:pt x="97" y="124"/>
                  </a:lnTo>
                  <a:lnTo>
                    <a:pt x="81" y="91"/>
                  </a:lnTo>
                  <a:lnTo>
                    <a:pt x="65" y="60"/>
                  </a:lnTo>
                  <a:lnTo>
                    <a:pt x="47" y="32"/>
                  </a:lnTo>
                  <a:lnTo>
                    <a:pt x="31" y="1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9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7806240" y="3242520"/>
              <a:ext cx="92520" cy="1944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18" y="43"/>
                  </a:moveTo>
                  <a:lnTo>
                    <a:pt x="12" y="46"/>
                  </a:lnTo>
                  <a:lnTo>
                    <a:pt x="22" y="45"/>
                  </a:lnTo>
                  <a:lnTo>
                    <a:pt x="34" y="43"/>
                  </a:lnTo>
                  <a:lnTo>
                    <a:pt x="49" y="42"/>
                  </a:lnTo>
                  <a:lnTo>
                    <a:pt x="60" y="40"/>
                  </a:lnTo>
                  <a:lnTo>
                    <a:pt x="71" y="39"/>
                  </a:lnTo>
                  <a:lnTo>
                    <a:pt x="83" y="38"/>
                  </a:lnTo>
                  <a:lnTo>
                    <a:pt x="96" y="37"/>
                  </a:lnTo>
                  <a:lnTo>
                    <a:pt x="108" y="35"/>
                  </a:lnTo>
                  <a:lnTo>
                    <a:pt x="118" y="33"/>
                  </a:lnTo>
                  <a:lnTo>
                    <a:pt x="133" y="32"/>
                  </a:lnTo>
                  <a:lnTo>
                    <a:pt x="144" y="30"/>
                  </a:lnTo>
                  <a:lnTo>
                    <a:pt x="155" y="29"/>
                  </a:lnTo>
                  <a:lnTo>
                    <a:pt x="167" y="26"/>
                  </a:lnTo>
                  <a:lnTo>
                    <a:pt x="178" y="25"/>
                  </a:lnTo>
                  <a:lnTo>
                    <a:pt x="189" y="22"/>
                  </a:lnTo>
                  <a:lnTo>
                    <a:pt x="200" y="21"/>
                  </a:lnTo>
                  <a:lnTo>
                    <a:pt x="197" y="0"/>
                  </a:lnTo>
                  <a:lnTo>
                    <a:pt x="187" y="1"/>
                  </a:lnTo>
                  <a:lnTo>
                    <a:pt x="176" y="3"/>
                  </a:lnTo>
                  <a:lnTo>
                    <a:pt x="165" y="5"/>
                  </a:lnTo>
                  <a:lnTo>
                    <a:pt x="153" y="7"/>
                  </a:lnTo>
                  <a:lnTo>
                    <a:pt x="141" y="8"/>
                  </a:lnTo>
                  <a:lnTo>
                    <a:pt x="131" y="11"/>
                  </a:lnTo>
                  <a:lnTo>
                    <a:pt x="118" y="12"/>
                  </a:lnTo>
                  <a:lnTo>
                    <a:pt x="106" y="13"/>
                  </a:lnTo>
                  <a:lnTo>
                    <a:pt x="94" y="16"/>
                  </a:lnTo>
                  <a:lnTo>
                    <a:pt x="83" y="17"/>
                  </a:lnTo>
                  <a:lnTo>
                    <a:pt x="71" y="18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4" y="22"/>
                  </a:lnTo>
                  <a:lnTo>
                    <a:pt x="22" y="23"/>
                  </a:lnTo>
                  <a:lnTo>
                    <a:pt x="9" y="25"/>
                  </a:lnTo>
                  <a:lnTo>
                    <a:pt x="3" y="27"/>
                  </a:lnTo>
                  <a:lnTo>
                    <a:pt x="9" y="25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12" y="46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7908120" y="3369240"/>
              <a:ext cx="18360" cy="47160"/>
            </a:xfrm>
            <a:custGeom>
              <a:avLst/>
              <a:gdLst/>
              <a:ahLst/>
              <a:rect l="l" t="t" r="r" b="b"/>
              <a:pathLst>
                <a:path w="37" h="108">
                  <a:moveTo>
                    <a:pt x="23" y="101"/>
                  </a:moveTo>
                  <a:lnTo>
                    <a:pt x="23" y="101"/>
                  </a:lnTo>
                  <a:lnTo>
                    <a:pt x="19" y="78"/>
                  </a:lnTo>
                  <a:lnTo>
                    <a:pt x="21" y="52"/>
                  </a:lnTo>
                  <a:lnTo>
                    <a:pt x="28" y="28"/>
                  </a:lnTo>
                  <a:lnTo>
                    <a:pt x="37" y="9"/>
                  </a:lnTo>
                  <a:lnTo>
                    <a:pt x="20" y="0"/>
                  </a:lnTo>
                  <a:lnTo>
                    <a:pt x="9" y="24"/>
                  </a:lnTo>
                  <a:lnTo>
                    <a:pt x="2" y="49"/>
                  </a:lnTo>
                  <a:lnTo>
                    <a:pt x="0" y="78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23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7836480" y="3412080"/>
              <a:ext cx="85680" cy="29880"/>
            </a:xfrm>
            <a:custGeom>
              <a:avLst/>
              <a:gdLst/>
              <a:ahLst/>
              <a:rect l="l" t="t" r="r" b="b"/>
              <a:pathLst>
                <a:path w="187" h="69">
                  <a:moveTo>
                    <a:pt x="180" y="25"/>
                  </a:moveTo>
                  <a:lnTo>
                    <a:pt x="180" y="25"/>
                  </a:lnTo>
                  <a:lnTo>
                    <a:pt x="156" y="34"/>
                  </a:lnTo>
                  <a:lnTo>
                    <a:pt x="131" y="42"/>
                  </a:lnTo>
                  <a:lnTo>
                    <a:pt x="106" y="48"/>
                  </a:lnTo>
                  <a:lnTo>
                    <a:pt x="84" y="50"/>
                  </a:lnTo>
                  <a:lnTo>
                    <a:pt x="64" y="46"/>
                  </a:lnTo>
                  <a:lnTo>
                    <a:pt x="46" y="38"/>
                  </a:lnTo>
                  <a:lnTo>
                    <a:pt x="30" y="24"/>
                  </a:lnTo>
                  <a:lnTo>
                    <a:pt x="16" y="0"/>
                  </a:lnTo>
                  <a:lnTo>
                    <a:pt x="0" y="7"/>
                  </a:lnTo>
                  <a:lnTo>
                    <a:pt x="15" y="36"/>
                  </a:lnTo>
                  <a:lnTo>
                    <a:pt x="36" y="55"/>
                  </a:lnTo>
                  <a:lnTo>
                    <a:pt x="59" y="65"/>
                  </a:lnTo>
                  <a:lnTo>
                    <a:pt x="84" y="69"/>
                  </a:lnTo>
                  <a:lnTo>
                    <a:pt x="108" y="67"/>
                  </a:lnTo>
                  <a:lnTo>
                    <a:pt x="135" y="60"/>
                  </a:lnTo>
                  <a:lnTo>
                    <a:pt x="161" y="53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7790040" y="3354120"/>
              <a:ext cx="48240" cy="77400"/>
            </a:xfrm>
            <a:custGeom>
              <a:avLst/>
              <a:gdLst/>
              <a:ahLst/>
              <a:rect l="l" t="t" r="r" b="b"/>
              <a:pathLst>
                <a:path w="106" h="179">
                  <a:moveTo>
                    <a:pt x="87" y="0"/>
                  </a:moveTo>
                  <a:lnTo>
                    <a:pt x="87" y="0"/>
                  </a:lnTo>
                  <a:lnTo>
                    <a:pt x="81" y="21"/>
                  </a:lnTo>
                  <a:lnTo>
                    <a:pt x="76" y="44"/>
                  </a:lnTo>
                  <a:lnTo>
                    <a:pt x="67" y="69"/>
                  </a:lnTo>
                  <a:lnTo>
                    <a:pt x="59" y="93"/>
                  </a:lnTo>
                  <a:lnTo>
                    <a:pt x="47" y="115"/>
                  </a:lnTo>
                  <a:lnTo>
                    <a:pt x="35" y="135"/>
                  </a:lnTo>
                  <a:lnTo>
                    <a:pt x="19" y="152"/>
                  </a:lnTo>
                  <a:lnTo>
                    <a:pt x="0" y="162"/>
                  </a:lnTo>
                  <a:lnTo>
                    <a:pt x="7" y="179"/>
                  </a:lnTo>
                  <a:lnTo>
                    <a:pt x="30" y="166"/>
                  </a:lnTo>
                  <a:lnTo>
                    <a:pt x="48" y="147"/>
                  </a:lnTo>
                  <a:lnTo>
                    <a:pt x="64" y="124"/>
                  </a:lnTo>
                  <a:lnTo>
                    <a:pt x="76" y="100"/>
                  </a:lnTo>
                  <a:lnTo>
                    <a:pt x="86" y="74"/>
                  </a:lnTo>
                  <a:lnTo>
                    <a:pt x="95" y="49"/>
                  </a:lnTo>
                  <a:lnTo>
                    <a:pt x="100" y="2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7785000" y="3306960"/>
              <a:ext cx="18360" cy="49680"/>
            </a:xfrm>
            <a:custGeom>
              <a:avLst/>
              <a:gdLst/>
              <a:ahLst/>
              <a:rect l="l" t="t" r="r" b="b"/>
              <a:pathLst>
                <a:path w="40" h="114">
                  <a:moveTo>
                    <a:pt x="0" y="19"/>
                  </a:moveTo>
                  <a:lnTo>
                    <a:pt x="0" y="19"/>
                  </a:lnTo>
                  <a:lnTo>
                    <a:pt x="11" y="23"/>
                  </a:lnTo>
                  <a:lnTo>
                    <a:pt x="17" y="31"/>
                  </a:lnTo>
                  <a:lnTo>
                    <a:pt x="20" y="40"/>
                  </a:lnTo>
                  <a:lnTo>
                    <a:pt x="21" y="53"/>
                  </a:lnTo>
                  <a:lnTo>
                    <a:pt x="19" y="66"/>
                  </a:lnTo>
                  <a:lnTo>
                    <a:pt x="16" y="82"/>
                  </a:lnTo>
                  <a:lnTo>
                    <a:pt x="12" y="98"/>
                  </a:lnTo>
                  <a:lnTo>
                    <a:pt x="8" y="110"/>
                  </a:lnTo>
                  <a:lnTo>
                    <a:pt x="27" y="114"/>
                  </a:lnTo>
                  <a:lnTo>
                    <a:pt x="31" y="100"/>
                  </a:lnTo>
                  <a:lnTo>
                    <a:pt x="35" y="84"/>
                  </a:lnTo>
                  <a:lnTo>
                    <a:pt x="38" y="70"/>
                  </a:lnTo>
                  <a:lnTo>
                    <a:pt x="40" y="53"/>
                  </a:lnTo>
                  <a:lnTo>
                    <a:pt x="39" y="38"/>
                  </a:lnTo>
                  <a:lnTo>
                    <a:pt x="33" y="21"/>
                  </a:lnTo>
                  <a:lnTo>
                    <a:pt x="22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>
              <a:off x="7801200" y="3303000"/>
              <a:ext cx="27720" cy="1260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6" y="20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4" y="19"/>
                  </a:lnTo>
                  <a:lnTo>
                    <a:pt x="32" y="20"/>
                  </a:lnTo>
                  <a:lnTo>
                    <a:pt x="38" y="23"/>
                  </a:lnTo>
                  <a:lnTo>
                    <a:pt x="45" y="25"/>
                  </a:lnTo>
                  <a:lnTo>
                    <a:pt x="52" y="28"/>
                  </a:lnTo>
                  <a:lnTo>
                    <a:pt x="57" y="29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1" y="7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7827120" y="3305160"/>
              <a:ext cx="30240" cy="2772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16" y="68"/>
                  </a:moveTo>
                  <a:lnTo>
                    <a:pt x="16" y="68"/>
                  </a:lnTo>
                  <a:lnTo>
                    <a:pt x="20" y="62"/>
                  </a:lnTo>
                  <a:lnTo>
                    <a:pt x="24" y="57"/>
                  </a:lnTo>
                  <a:lnTo>
                    <a:pt x="30" y="48"/>
                  </a:lnTo>
                  <a:lnTo>
                    <a:pt x="36" y="41"/>
                  </a:lnTo>
                  <a:lnTo>
                    <a:pt x="43" y="34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6" y="16"/>
                  </a:lnTo>
                  <a:lnTo>
                    <a:pt x="60" y="0"/>
                  </a:lnTo>
                  <a:lnTo>
                    <a:pt x="48" y="6"/>
                  </a:lnTo>
                  <a:lnTo>
                    <a:pt x="40" y="13"/>
                  </a:lnTo>
                  <a:lnTo>
                    <a:pt x="31" y="20"/>
                  </a:lnTo>
                  <a:lnTo>
                    <a:pt x="22" y="29"/>
                  </a:lnTo>
                  <a:lnTo>
                    <a:pt x="16" y="37"/>
                  </a:lnTo>
                  <a:lnTo>
                    <a:pt x="10" y="45"/>
                  </a:lnTo>
                  <a:lnTo>
                    <a:pt x="3" y="53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7849800" y="3330720"/>
              <a:ext cx="67320" cy="44640"/>
            </a:xfrm>
            <a:custGeom>
              <a:avLst/>
              <a:gdLst/>
              <a:ahLst/>
              <a:rect l="l" t="t" r="r" b="b"/>
              <a:pathLst>
                <a:path w="145" h="107">
                  <a:moveTo>
                    <a:pt x="17" y="102"/>
                  </a:moveTo>
                  <a:lnTo>
                    <a:pt x="7" y="107"/>
                  </a:lnTo>
                  <a:lnTo>
                    <a:pt x="28" y="107"/>
                  </a:lnTo>
                  <a:lnTo>
                    <a:pt x="50" y="102"/>
                  </a:lnTo>
                  <a:lnTo>
                    <a:pt x="70" y="93"/>
                  </a:lnTo>
                  <a:lnTo>
                    <a:pt x="88" y="79"/>
                  </a:lnTo>
                  <a:lnTo>
                    <a:pt x="103" y="65"/>
                  </a:lnTo>
                  <a:lnTo>
                    <a:pt x="119" y="47"/>
                  </a:lnTo>
                  <a:lnTo>
                    <a:pt x="133" y="28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116" y="19"/>
                  </a:lnTo>
                  <a:lnTo>
                    <a:pt x="105" y="36"/>
                  </a:lnTo>
                  <a:lnTo>
                    <a:pt x="90" y="50"/>
                  </a:lnTo>
                  <a:lnTo>
                    <a:pt x="75" y="65"/>
                  </a:lnTo>
                  <a:lnTo>
                    <a:pt x="60" y="77"/>
                  </a:lnTo>
                  <a:lnTo>
                    <a:pt x="44" y="83"/>
                  </a:lnTo>
                  <a:lnTo>
                    <a:pt x="28" y="88"/>
                  </a:lnTo>
                  <a:lnTo>
                    <a:pt x="9" y="88"/>
                  </a:lnTo>
                  <a:lnTo>
                    <a:pt x="0" y="93"/>
                  </a:lnTo>
                  <a:lnTo>
                    <a:pt x="9" y="88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7" y="107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5943600" y="2455920"/>
            <a:ext cx="914040" cy="2039400"/>
            <a:chOff x="5943600" y="2455920"/>
            <a:chExt cx="914040" cy="2039400"/>
          </a:xfrm>
        </p:grpSpPr>
        <p:sp>
          <p:nvSpPr>
            <p:cNvPr id="955" name=""/>
            <p:cNvSpPr/>
            <p:nvPr/>
          </p:nvSpPr>
          <p:spPr>
            <a:xfrm>
              <a:off x="5943600" y="4228920"/>
              <a:ext cx="914040" cy="26640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370200" y="4190400"/>
              <a:ext cx="257400" cy="173880"/>
            </a:xfrm>
            <a:custGeom>
              <a:avLst/>
              <a:gdLst/>
              <a:ahLst/>
              <a:rect l="l" t="t" r="r" b="b"/>
              <a:pathLst>
                <a:path w="598" h="409">
                  <a:moveTo>
                    <a:pt x="30" y="18"/>
                  </a:moveTo>
                  <a:lnTo>
                    <a:pt x="24" y="41"/>
                  </a:lnTo>
                  <a:lnTo>
                    <a:pt x="14" y="73"/>
                  </a:lnTo>
                  <a:lnTo>
                    <a:pt x="6" y="111"/>
                  </a:lnTo>
                  <a:lnTo>
                    <a:pt x="0" y="151"/>
                  </a:lnTo>
                  <a:lnTo>
                    <a:pt x="0" y="192"/>
                  </a:lnTo>
                  <a:lnTo>
                    <a:pt x="8" y="230"/>
                  </a:lnTo>
                  <a:lnTo>
                    <a:pt x="25" y="265"/>
                  </a:lnTo>
                  <a:lnTo>
                    <a:pt x="55" y="289"/>
                  </a:lnTo>
                  <a:lnTo>
                    <a:pt x="69" y="297"/>
                  </a:lnTo>
                  <a:lnTo>
                    <a:pt x="85" y="299"/>
                  </a:lnTo>
                  <a:lnTo>
                    <a:pt x="100" y="299"/>
                  </a:lnTo>
                  <a:lnTo>
                    <a:pt x="116" y="298"/>
                  </a:lnTo>
                  <a:lnTo>
                    <a:pt x="132" y="296"/>
                  </a:lnTo>
                  <a:lnTo>
                    <a:pt x="147" y="294"/>
                  </a:lnTo>
                  <a:lnTo>
                    <a:pt x="163" y="296"/>
                  </a:lnTo>
                  <a:lnTo>
                    <a:pt x="180" y="299"/>
                  </a:lnTo>
                  <a:lnTo>
                    <a:pt x="200" y="306"/>
                  </a:lnTo>
                  <a:lnTo>
                    <a:pt x="218" y="312"/>
                  </a:lnTo>
                  <a:lnTo>
                    <a:pt x="236" y="318"/>
                  </a:lnTo>
                  <a:lnTo>
                    <a:pt x="252" y="324"/>
                  </a:lnTo>
                  <a:lnTo>
                    <a:pt x="269" y="329"/>
                  </a:lnTo>
                  <a:lnTo>
                    <a:pt x="284" y="336"/>
                  </a:lnTo>
                  <a:lnTo>
                    <a:pt x="300" y="341"/>
                  </a:lnTo>
                  <a:lnTo>
                    <a:pt x="314" y="346"/>
                  </a:lnTo>
                  <a:lnTo>
                    <a:pt x="329" y="353"/>
                  </a:lnTo>
                  <a:lnTo>
                    <a:pt x="344" y="358"/>
                  </a:lnTo>
                  <a:lnTo>
                    <a:pt x="361" y="364"/>
                  </a:lnTo>
                  <a:lnTo>
                    <a:pt x="376" y="369"/>
                  </a:lnTo>
                  <a:lnTo>
                    <a:pt x="394" y="376"/>
                  </a:lnTo>
                  <a:lnTo>
                    <a:pt x="411" y="381"/>
                  </a:lnTo>
                  <a:lnTo>
                    <a:pt x="428" y="387"/>
                  </a:lnTo>
                  <a:lnTo>
                    <a:pt x="448" y="395"/>
                  </a:lnTo>
                  <a:lnTo>
                    <a:pt x="462" y="398"/>
                  </a:lnTo>
                  <a:lnTo>
                    <a:pt x="479" y="401"/>
                  </a:lnTo>
                  <a:lnTo>
                    <a:pt x="501" y="404"/>
                  </a:lnTo>
                  <a:lnTo>
                    <a:pt x="523" y="406"/>
                  </a:lnTo>
                  <a:lnTo>
                    <a:pt x="546" y="409"/>
                  </a:lnTo>
                  <a:lnTo>
                    <a:pt x="567" y="409"/>
                  </a:lnTo>
                  <a:lnTo>
                    <a:pt x="586" y="407"/>
                  </a:lnTo>
                  <a:lnTo>
                    <a:pt x="598" y="404"/>
                  </a:lnTo>
                  <a:lnTo>
                    <a:pt x="596" y="377"/>
                  </a:lnTo>
                  <a:lnTo>
                    <a:pt x="588" y="348"/>
                  </a:lnTo>
                  <a:lnTo>
                    <a:pt x="575" y="320"/>
                  </a:lnTo>
                  <a:lnTo>
                    <a:pt x="558" y="292"/>
                  </a:lnTo>
                  <a:lnTo>
                    <a:pt x="538" y="263"/>
                  </a:lnTo>
                  <a:lnTo>
                    <a:pt x="516" y="234"/>
                  </a:lnTo>
                  <a:lnTo>
                    <a:pt x="491" y="206"/>
                  </a:lnTo>
                  <a:lnTo>
                    <a:pt x="463" y="178"/>
                  </a:lnTo>
                  <a:lnTo>
                    <a:pt x="435" y="152"/>
                  </a:lnTo>
                  <a:lnTo>
                    <a:pt x="405" y="127"/>
                  </a:lnTo>
                  <a:lnTo>
                    <a:pt x="376" y="103"/>
                  </a:lnTo>
                  <a:lnTo>
                    <a:pt x="346" y="82"/>
                  </a:lnTo>
                  <a:lnTo>
                    <a:pt x="319" y="63"/>
                  </a:lnTo>
                  <a:lnTo>
                    <a:pt x="291" y="45"/>
                  </a:lnTo>
                  <a:lnTo>
                    <a:pt x="265" y="32"/>
                  </a:lnTo>
                  <a:lnTo>
                    <a:pt x="243" y="21"/>
                  </a:lnTo>
                  <a:lnTo>
                    <a:pt x="224" y="16"/>
                  </a:lnTo>
                  <a:lnTo>
                    <a:pt x="208" y="11"/>
                  </a:lnTo>
                  <a:lnTo>
                    <a:pt x="191" y="7"/>
                  </a:lnTo>
                  <a:lnTo>
                    <a:pt x="176" y="5"/>
                  </a:lnTo>
                  <a:lnTo>
                    <a:pt x="161" y="3"/>
                  </a:lnTo>
                  <a:lnTo>
                    <a:pt x="149" y="1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1"/>
                  </a:lnTo>
                  <a:lnTo>
                    <a:pt x="88" y="2"/>
                  </a:lnTo>
                  <a:lnTo>
                    <a:pt x="78" y="4"/>
                  </a:lnTo>
                  <a:lnTo>
                    <a:pt x="66" y="6"/>
                  </a:lnTo>
                  <a:lnTo>
                    <a:pt x="55" y="10"/>
                  </a:lnTo>
                  <a:lnTo>
                    <a:pt x="43" y="14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694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365880" y="4196520"/>
              <a:ext cx="29880" cy="120240"/>
            </a:xfrm>
            <a:custGeom>
              <a:avLst/>
              <a:gdLst/>
              <a:ahLst/>
              <a:rect l="l" t="t" r="r" b="b"/>
              <a:pathLst>
                <a:path w="69" h="282">
                  <a:moveTo>
                    <a:pt x="69" y="266"/>
                  </a:moveTo>
                  <a:lnTo>
                    <a:pt x="69" y="266"/>
                  </a:lnTo>
                  <a:lnTo>
                    <a:pt x="42" y="243"/>
                  </a:lnTo>
                  <a:lnTo>
                    <a:pt x="28" y="212"/>
                  </a:lnTo>
                  <a:lnTo>
                    <a:pt x="19" y="176"/>
                  </a:lnTo>
                  <a:lnTo>
                    <a:pt x="19" y="135"/>
                  </a:lnTo>
                  <a:lnTo>
                    <a:pt x="25" y="96"/>
                  </a:lnTo>
                  <a:lnTo>
                    <a:pt x="34" y="59"/>
                  </a:lnTo>
                  <a:lnTo>
                    <a:pt x="43" y="27"/>
                  </a:lnTo>
                  <a:lnTo>
                    <a:pt x="50" y="5"/>
                  </a:lnTo>
                  <a:lnTo>
                    <a:pt x="32" y="0"/>
                  </a:lnTo>
                  <a:lnTo>
                    <a:pt x="24" y="22"/>
                  </a:lnTo>
                  <a:lnTo>
                    <a:pt x="15" y="55"/>
                  </a:lnTo>
                  <a:lnTo>
                    <a:pt x="6" y="93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9" y="217"/>
                  </a:lnTo>
                  <a:lnTo>
                    <a:pt x="28" y="254"/>
                  </a:lnTo>
                  <a:lnTo>
                    <a:pt x="59" y="282"/>
                  </a:lnTo>
                  <a:lnTo>
                    <a:pt x="59" y="282"/>
                  </a:lnTo>
                  <a:lnTo>
                    <a:pt x="69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391800" y="4310640"/>
              <a:ext cx="55800" cy="10440"/>
            </a:xfrm>
            <a:custGeom>
              <a:avLst/>
              <a:gdLst/>
              <a:ahLst/>
              <a:rect l="l" t="t" r="r" b="b"/>
              <a:pathLst>
                <a:path w="133" h="26">
                  <a:moveTo>
                    <a:pt x="133" y="7"/>
                  </a:moveTo>
                  <a:lnTo>
                    <a:pt x="133" y="7"/>
                  </a:lnTo>
                  <a:lnTo>
                    <a:pt x="116" y="4"/>
                  </a:lnTo>
                  <a:lnTo>
                    <a:pt x="98" y="3"/>
                  </a:lnTo>
                  <a:lnTo>
                    <a:pt x="83" y="4"/>
                  </a:lnTo>
                  <a:lnTo>
                    <a:pt x="67" y="6"/>
                  </a:lnTo>
                  <a:lnTo>
                    <a:pt x="51" y="7"/>
                  </a:lnTo>
                  <a:lnTo>
                    <a:pt x="36" y="7"/>
                  </a:lnTo>
                  <a:lnTo>
                    <a:pt x="22" y="5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18" y="24"/>
                  </a:lnTo>
                  <a:lnTo>
                    <a:pt x="36" y="26"/>
                  </a:lnTo>
                  <a:lnTo>
                    <a:pt x="51" y="26"/>
                  </a:lnTo>
                  <a:lnTo>
                    <a:pt x="67" y="25"/>
                  </a:lnTo>
                  <a:lnTo>
                    <a:pt x="83" y="23"/>
                  </a:lnTo>
                  <a:lnTo>
                    <a:pt x="98" y="22"/>
                  </a:lnTo>
                  <a:lnTo>
                    <a:pt x="113" y="23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447600" y="4312440"/>
              <a:ext cx="115560" cy="48960"/>
            </a:xfrm>
            <a:custGeom>
              <a:avLst/>
              <a:gdLst/>
              <a:ahLst/>
              <a:rect l="l" t="t" r="r" b="b"/>
              <a:pathLst>
                <a:path w="274" h="115">
                  <a:moveTo>
                    <a:pt x="274" y="96"/>
                  </a:moveTo>
                  <a:lnTo>
                    <a:pt x="274" y="96"/>
                  </a:lnTo>
                  <a:lnTo>
                    <a:pt x="254" y="89"/>
                  </a:lnTo>
                  <a:lnTo>
                    <a:pt x="236" y="84"/>
                  </a:lnTo>
                  <a:lnTo>
                    <a:pt x="218" y="77"/>
                  </a:lnTo>
                  <a:lnTo>
                    <a:pt x="201" y="71"/>
                  </a:lnTo>
                  <a:lnTo>
                    <a:pt x="185" y="66"/>
                  </a:lnTo>
                  <a:lnTo>
                    <a:pt x="168" y="59"/>
                  </a:lnTo>
                  <a:lnTo>
                    <a:pt x="154" y="54"/>
                  </a:lnTo>
                  <a:lnTo>
                    <a:pt x="138" y="48"/>
                  </a:lnTo>
                  <a:lnTo>
                    <a:pt x="124" y="42"/>
                  </a:lnTo>
                  <a:lnTo>
                    <a:pt x="109" y="37"/>
                  </a:lnTo>
                  <a:lnTo>
                    <a:pt x="93" y="31"/>
                  </a:lnTo>
                  <a:lnTo>
                    <a:pt x="76" y="26"/>
                  </a:lnTo>
                  <a:lnTo>
                    <a:pt x="60" y="19"/>
                  </a:lnTo>
                  <a:lnTo>
                    <a:pt x="42" y="14"/>
                  </a:lnTo>
                  <a:lnTo>
                    <a:pt x="24" y="8"/>
                  </a:lnTo>
                  <a:lnTo>
                    <a:pt x="4" y="0"/>
                  </a:lnTo>
                  <a:lnTo>
                    <a:pt x="0" y="19"/>
                  </a:lnTo>
                  <a:lnTo>
                    <a:pt x="20" y="27"/>
                  </a:lnTo>
                  <a:lnTo>
                    <a:pt x="38" y="32"/>
                  </a:lnTo>
                  <a:lnTo>
                    <a:pt x="55" y="38"/>
                  </a:lnTo>
                  <a:lnTo>
                    <a:pt x="72" y="45"/>
                  </a:lnTo>
                  <a:lnTo>
                    <a:pt x="89" y="50"/>
                  </a:lnTo>
                  <a:lnTo>
                    <a:pt x="104" y="56"/>
                  </a:lnTo>
                  <a:lnTo>
                    <a:pt x="119" y="61"/>
                  </a:lnTo>
                  <a:lnTo>
                    <a:pt x="134" y="67"/>
                  </a:lnTo>
                  <a:lnTo>
                    <a:pt x="147" y="72"/>
                  </a:lnTo>
                  <a:lnTo>
                    <a:pt x="164" y="78"/>
                  </a:lnTo>
                  <a:lnTo>
                    <a:pt x="181" y="85"/>
                  </a:lnTo>
                  <a:lnTo>
                    <a:pt x="195" y="90"/>
                  </a:lnTo>
                  <a:lnTo>
                    <a:pt x="213" y="96"/>
                  </a:lnTo>
                  <a:lnTo>
                    <a:pt x="230" y="102"/>
                  </a:lnTo>
                  <a:lnTo>
                    <a:pt x="248" y="108"/>
                  </a:lnTo>
                  <a:lnTo>
                    <a:pt x="268" y="115"/>
                  </a:lnTo>
                  <a:lnTo>
                    <a:pt x="268" y="115"/>
                  </a:lnTo>
                  <a:lnTo>
                    <a:pt x="274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561720" y="4355640"/>
              <a:ext cx="70560" cy="12960"/>
            </a:xfrm>
            <a:custGeom>
              <a:avLst/>
              <a:gdLst/>
              <a:ahLst/>
              <a:rect l="l" t="t" r="r" b="b"/>
              <a:pathLst>
                <a:path w="162" h="33">
                  <a:moveTo>
                    <a:pt x="143" y="19"/>
                  </a:moveTo>
                  <a:lnTo>
                    <a:pt x="149" y="11"/>
                  </a:lnTo>
                  <a:lnTo>
                    <a:pt x="139" y="13"/>
                  </a:lnTo>
                  <a:lnTo>
                    <a:pt x="121" y="14"/>
                  </a:lnTo>
                  <a:lnTo>
                    <a:pt x="100" y="14"/>
                  </a:lnTo>
                  <a:lnTo>
                    <a:pt x="77" y="12"/>
                  </a:lnTo>
                  <a:lnTo>
                    <a:pt x="55" y="10"/>
                  </a:lnTo>
                  <a:lnTo>
                    <a:pt x="35" y="8"/>
                  </a:lnTo>
                  <a:lnTo>
                    <a:pt x="17" y="3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5" y="22"/>
                  </a:lnTo>
                  <a:lnTo>
                    <a:pt x="32" y="26"/>
                  </a:lnTo>
                  <a:lnTo>
                    <a:pt x="55" y="29"/>
                  </a:lnTo>
                  <a:lnTo>
                    <a:pt x="77" y="31"/>
                  </a:lnTo>
                  <a:lnTo>
                    <a:pt x="100" y="33"/>
                  </a:lnTo>
                  <a:lnTo>
                    <a:pt x="121" y="33"/>
                  </a:lnTo>
                  <a:lnTo>
                    <a:pt x="141" y="32"/>
                  </a:lnTo>
                  <a:lnTo>
                    <a:pt x="157" y="28"/>
                  </a:lnTo>
                  <a:lnTo>
                    <a:pt x="162" y="19"/>
                  </a:lnTo>
                  <a:lnTo>
                    <a:pt x="157" y="28"/>
                  </a:lnTo>
                  <a:lnTo>
                    <a:pt x="161" y="22"/>
                  </a:lnTo>
                  <a:lnTo>
                    <a:pt x="161" y="15"/>
                  </a:lnTo>
                  <a:lnTo>
                    <a:pt x="157" y="11"/>
                  </a:lnTo>
                  <a:lnTo>
                    <a:pt x="149" y="11"/>
                  </a:lnTo>
                  <a:lnTo>
                    <a:pt x="1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471000" y="4194000"/>
              <a:ext cx="160920" cy="167400"/>
            </a:xfrm>
            <a:custGeom>
              <a:avLst/>
              <a:gdLst/>
              <a:ahLst/>
              <a:rect l="l" t="t" r="r" b="b"/>
              <a:pathLst>
                <a:path w="374" h="393">
                  <a:moveTo>
                    <a:pt x="6" y="18"/>
                  </a:moveTo>
                  <a:lnTo>
                    <a:pt x="5" y="17"/>
                  </a:lnTo>
                  <a:lnTo>
                    <a:pt x="28" y="28"/>
                  </a:lnTo>
                  <a:lnTo>
                    <a:pt x="53" y="43"/>
                  </a:lnTo>
                  <a:lnTo>
                    <a:pt x="79" y="61"/>
                  </a:lnTo>
                  <a:lnTo>
                    <a:pt x="108" y="80"/>
                  </a:lnTo>
                  <a:lnTo>
                    <a:pt x="136" y="100"/>
                  </a:lnTo>
                  <a:lnTo>
                    <a:pt x="166" y="123"/>
                  </a:lnTo>
                  <a:lnTo>
                    <a:pt x="194" y="147"/>
                  </a:lnTo>
                  <a:lnTo>
                    <a:pt x="222" y="175"/>
                  </a:lnTo>
                  <a:lnTo>
                    <a:pt x="249" y="201"/>
                  </a:lnTo>
                  <a:lnTo>
                    <a:pt x="275" y="229"/>
                  </a:lnTo>
                  <a:lnTo>
                    <a:pt x="298" y="257"/>
                  </a:lnTo>
                  <a:lnTo>
                    <a:pt x="316" y="286"/>
                  </a:lnTo>
                  <a:lnTo>
                    <a:pt x="333" y="313"/>
                  </a:lnTo>
                  <a:lnTo>
                    <a:pt x="344" y="339"/>
                  </a:lnTo>
                  <a:lnTo>
                    <a:pt x="353" y="367"/>
                  </a:lnTo>
                  <a:lnTo>
                    <a:pt x="355" y="393"/>
                  </a:lnTo>
                  <a:lnTo>
                    <a:pt x="374" y="393"/>
                  </a:lnTo>
                  <a:lnTo>
                    <a:pt x="372" y="365"/>
                  </a:lnTo>
                  <a:lnTo>
                    <a:pt x="363" y="335"/>
                  </a:lnTo>
                  <a:lnTo>
                    <a:pt x="350" y="306"/>
                  </a:lnTo>
                  <a:lnTo>
                    <a:pt x="333" y="276"/>
                  </a:lnTo>
                  <a:lnTo>
                    <a:pt x="312" y="245"/>
                  </a:lnTo>
                  <a:lnTo>
                    <a:pt x="289" y="217"/>
                  </a:lnTo>
                  <a:lnTo>
                    <a:pt x="263" y="188"/>
                  </a:lnTo>
                  <a:lnTo>
                    <a:pt x="237" y="161"/>
                  </a:lnTo>
                  <a:lnTo>
                    <a:pt x="207" y="134"/>
                  </a:lnTo>
                  <a:lnTo>
                    <a:pt x="177" y="108"/>
                  </a:lnTo>
                  <a:lnTo>
                    <a:pt x="148" y="85"/>
                  </a:lnTo>
                  <a:lnTo>
                    <a:pt x="117" y="63"/>
                  </a:lnTo>
                  <a:lnTo>
                    <a:pt x="89" y="44"/>
                  </a:lnTo>
                  <a:lnTo>
                    <a:pt x="61" y="26"/>
                  </a:lnTo>
                  <a:lnTo>
                    <a:pt x="35" y="1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5" y="2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379200" y="4185720"/>
              <a:ext cx="96120" cy="14760"/>
            </a:xfrm>
            <a:custGeom>
              <a:avLst/>
              <a:gdLst/>
              <a:ahLst/>
              <a:rect l="l" t="t" r="r" b="b"/>
              <a:pathLst>
                <a:path w="223" h="39">
                  <a:moveTo>
                    <a:pt x="18" y="31"/>
                  </a:moveTo>
                  <a:lnTo>
                    <a:pt x="11" y="37"/>
                  </a:lnTo>
                  <a:lnTo>
                    <a:pt x="23" y="33"/>
                  </a:lnTo>
                  <a:lnTo>
                    <a:pt x="35" y="29"/>
                  </a:lnTo>
                  <a:lnTo>
                    <a:pt x="46" y="26"/>
                  </a:lnTo>
                  <a:lnTo>
                    <a:pt x="57" y="24"/>
                  </a:lnTo>
                  <a:lnTo>
                    <a:pt x="67" y="21"/>
                  </a:lnTo>
                  <a:lnTo>
                    <a:pt x="78" y="20"/>
                  </a:lnTo>
                  <a:lnTo>
                    <a:pt x="89" y="18"/>
                  </a:lnTo>
                  <a:lnTo>
                    <a:pt x="100" y="18"/>
                  </a:lnTo>
                  <a:lnTo>
                    <a:pt x="114" y="18"/>
                  </a:lnTo>
                  <a:lnTo>
                    <a:pt x="125" y="20"/>
                  </a:lnTo>
                  <a:lnTo>
                    <a:pt x="138" y="23"/>
                  </a:lnTo>
                  <a:lnTo>
                    <a:pt x="153" y="25"/>
                  </a:lnTo>
                  <a:lnTo>
                    <a:pt x="168" y="27"/>
                  </a:lnTo>
                  <a:lnTo>
                    <a:pt x="184" y="31"/>
                  </a:lnTo>
                  <a:lnTo>
                    <a:pt x="199" y="35"/>
                  </a:lnTo>
                  <a:lnTo>
                    <a:pt x="218" y="39"/>
                  </a:lnTo>
                  <a:lnTo>
                    <a:pt x="223" y="21"/>
                  </a:lnTo>
                  <a:lnTo>
                    <a:pt x="205" y="16"/>
                  </a:lnTo>
                  <a:lnTo>
                    <a:pt x="188" y="12"/>
                  </a:lnTo>
                  <a:lnTo>
                    <a:pt x="170" y="8"/>
                  </a:lnTo>
                  <a:lnTo>
                    <a:pt x="155" y="6"/>
                  </a:lnTo>
                  <a:lnTo>
                    <a:pt x="140" y="4"/>
                  </a:lnTo>
                  <a:lnTo>
                    <a:pt x="128" y="1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8" y="1"/>
                  </a:lnTo>
                  <a:lnTo>
                    <a:pt x="65" y="2"/>
                  </a:lnTo>
                  <a:lnTo>
                    <a:pt x="55" y="5"/>
                  </a:lnTo>
                  <a:lnTo>
                    <a:pt x="42" y="7"/>
                  </a:lnTo>
                  <a:lnTo>
                    <a:pt x="29" y="11"/>
                  </a:lnTo>
                  <a:lnTo>
                    <a:pt x="18" y="14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6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4" y="36"/>
                  </a:lnTo>
                  <a:lnTo>
                    <a:pt x="11" y="37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140520" y="4228920"/>
              <a:ext cx="281160" cy="246960"/>
            </a:xfrm>
            <a:custGeom>
              <a:avLst/>
              <a:gdLst/>
              <a:ahLst/>
              <a:rect l="l" t="t" r="r" b="b"/>
              <a:pathLst>
                <a:path w="654" h="573">
                  <a:moveTo>
                    <a:pt x="345" y="29"/>
                  </a:moveTo>
                  <a:lnTo>
                    <a:pt x="359" y="23"/>
                  </a:lnTo>
                  <a:lnTo>
                    <a:pt x="375" y="19"/>
                  </a:lnTo>
                  <a:lnTo>
                    <a:pt x="390" y="14"/>
                  </a:lnTo>
                  <a:lnTo>
                    <a:pt x="406" y="10"/>
                  </a:lnTo>
                  <a:lnTo>
                    <a:pt x="422" y="6"/>
                  </a:lnTo>
                  <a:lnTo>
                    <a:pt x="438" y="3"/>
                  </a:lnTo>
                  <a:lnTo>
                    <a:pt x="454" y="2"/>
                  </a:lnTo>
                  <a:lnTo>
                    <a:pt x="470" y="1"/>
                  </a:lnTo>
                  <a:lnTo>
                    <a:pt x="486" y="0"/>
                  </a:lnTo>
                  <a:lnTo>
                    <a:pt x="501" y="0"/>
                  </a:lnTo>
                  <a:lnTo>
                    <a:pt x="517" y="1"/>
                  </a:lnTo>
                  <a:lnTo>
                    <a:pt x="530" y="3"/>
                  </a:lnTo>
                  <a:lnTo>
                    <a:pt x="544" y="5"/>
                  </a:lnTo>
                  <a:lnTo>
                    <a:pt x="558" y="9"/>
                  </a:lnTo>
                  <a:lnTo>
                    <a:pt x="570" y="14"/>
                  </a:lnTo>
                  <a:lnTo>
                    <a:pt x="581" y="19"/>
                  </a:lnTo>
                  <a:lnTo>
                    <a:pt x="608" y="38"/>
                  </a:lnTo>
                  <a:lnTo>
                    <a:pt x="628" y="62"/>
                  </a:lnTo>
                  <a:lnTo>
                    <a:pt x="641" y="93"/>
                  </a:lnTo>
                  <a:lnTo>
                    <a:pt x="651" y="127"/>
                  </a:lnTo>
                  <a:lnTo>
                    <a:pt x="654" y="165"/>
                  </a:lnTo>
                  <a:lnTo>
                    <a:pt x="654" y="205"/>
                  </a:lnTo>
                  <a:lnTo>
                    <a:pt x="652" y="246"/>
                  </a:lnTo>
                  <a:lnTo>
                    <a:pt x="645" y="287"/>
                  </a:lnTo>
                  <a:lnTo>
                    <a:pt x="640" y="300"/>
                  </a:lnTo>
                  <a:lnTo>
                    <a:pt x="632" y="307"/>
                  </a:lnTo>
                  <a:lnTo>
                    <a:pt x="620" y="313"/>
                  </a:lnTo>
                  <a:lnTo>
                    <a:pt x="608" y="317"/>
                  </a:lnTo>
                  <a:lnTo>
                    <a:pt x="593" y="320"/>
                  </a:lnTo>
                  <a:lnTo>
                    <a:pt x="579" y="321"/>
                  </a:lnTo>
                  <a:lnTo>
                    <a:pt x="566" y="322"/>
                  </a:lnTo>
                  <a:lnTo>
                    <a:pt x="556" y="324"/>
                  </a:lnTo>
                  <a:lnTo>
                    <a:pt x="538" y="330"/>
                  </a:lnTo>
                  <a:lnTo>
                    <a:pt x="519" y="338"/>
                  </a:lnTo>
                  <a:lnTo>
                    <a:pt x="501" y="348"/>
                  </a:lnTo>
                  <a:lnTo>
                    <a:pt x="483" y="360"/>
                  </a:lnTo>
                  <a:lnTo>
                    <a:pt x="465" y="371"/>
                  </a:lnTo>
                  <a:lnTo>
                    <a:pt x="446" y="384"/>
                  </a:lnTo>
                  <a:lnTo>
                    <a:pt x="428" y="398"/>
                  </a:lnTo>
                  <a:lnTo>
                    <a:pt x="409" y="412"/>
                  </a:lnTo>
                  <a:lnTo>
                    <a:pt x="390" y="425"/>
                  </a:lnTo>
                  <a:lnTo>
                    <a:pt x="373" y="439"/>
                  </a:lnTo>
                  <a:lnTo>
                    <a:pt x="354" y="454"/>
                  </a:lnTo>
                  <a:lnTo>
                    <a:pt x="335" y="467"/>
                  </a:lnTo>
                  <a:lnTo>
                    <a:pt x="316" y="478"/>
                  </a:lnTo>
                  <a:lnTo>
                    <a:pt x="298" y="491"/>
                  </a:lnTo>
                  <a:lnTo>
                    <a:pt x="279" y="501"/>
                  </a:lnTo>
                  <a:lnTo>
                    <a:pt x="261" y="509"/>
                  </a:lnTo>
                  <a:lnTo>
                    <a:pt x="246" y="515"/>
                  </a:lnTo>
                  <a:lnTo>
                    <a:pt x="233" y="521"/>
                  </a:lnTo>
                  <a:lnTo>
                    <a:pt x="218" y="527"/>
                  </a:lnTo>
                  <a:lnTo>
                    <a:pt x="204" y="533"/>
                  </a:lnTo>
                  <a:lnTo>
                    <a:pt x="191" y="537"/>
                  </a:lnTo>
                  <a:lnTo>
                    <a:pt x="177" y="544"/>
                  </a:lnTo>
                  <a:lnTo>
                    <a:pt x="164" y="548"/>
                  </a:lnTo>
                  <a:lnTo>
                    <a:pt x="150" y="553"/>
                  </a:lnTo>
                  <a:lnTo>
                    <a:pt x="136" y="557"/>
                  </a:lnTo>
                  <a:lnTo>
                    <a:pt x="122" y="562"/>
                  </a:lnTo>
                  <a:lnTo>
                    <a:pt x="108" y="565"/>
                  </a:lnTo>
                  <a:lnTo>
                    <a:pt x="92" y="567"/>
                  </a:lnTo>
                  <a:lnTo>
                    <a:pt x="75" y="569"/>
                  </a:lnTo>
                  <a:lnTo>
                    <a:pt x="59" y="572"/>
                  </a:lnTo>
                  <a:lnTo>
                    <a:pt x="43" y="573"/>
                  </a:lnTo>
                  <a:lnTo>
                    <a:pt x="24" y="573"/>
                  </a:lnTo>
                  <a:lnTo>
                    <a:pt x="9" y="568"/>
                  </a:lnTo>
                  <a:lnTo>
                    <a:pt x="0" y="555"/>
                  </a:lnTo>
                  <a:lnTo>
                    <a:pt x="0" y="535"/>
                  </a:lnTo>
                  <a:lnTo>
                    <a:pt x="7" y="509"/>
                  </a:lnTo>
                  <a:lnTo>
                    <a:pt x="17" y="478"/>
                  </a:lnTo>
                  <a:lnTo>
                    <a:pt x="32" y="444"/>
                  </a:lnTo>
                  <a:lnTo>
                    <a:pt x="50" y="408"/>
                  </a:lnTo>
                  <a:lnTo>
                    <a:pt x="70" y="371"/>
                  </a:lnTo>
                  <a:lnTo>
                    <a:pt x="91" y="335"/>
                  </a:lnTo>
                  <a:lnTo>
                    <a:pt x="112" y="301"/>
                  </a:lnTo>
                  <a:lnTo>
                    <a:pt x="131" y="267"/>
                  </a:lnTo>
                  <a:lnTo>
                    <a:pt x="149" y="238"/>
                  </a:lnTo>
                  <a:lnTo>
                    <a:pt x="163" y="216"/>
                  </a:lnTo>
                  <a:lnTo>
                    <a:pt x="174" y="200"/>
                  </a:lnTo>
                  <a:lnTo>
                    <a:pt x="179" y="192"/>
                  </a:lnTo>
                  <a:lnTo>
                    <a:pt x="176" y="192"/>
                  </a:lnTo>
                  <a:lnTo>
                    <a:pt x="195" y="171"/>
                  </a:lnTo>
                  <a:lnTo>
                    <a:pt x="215" y="144"/>
                  </a:lnTo>
                  <a:lnTo>
                    <a:pt x="237" y="116"/>
                  </a:lnTo>
                  <a:lnTo>
                    <a:pt x="258" y="90"/>
                  </a:lnTo>
                  <a:lnTo>
                    <a:pt x="281" y="63"/>
                  </a:lnTo>
                  <a:lnTo>
                    <a:pt x="303" y="43"/>
                  </a:lnTo>
                  <a:lnTo>
                    <a:pt x="325" y="31"/>
                  </a:lnTo>
                  <a:lnTo>
                    <a:pt x="345" y="29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86680" y="4224240"/>
              <a:ext cx="105120" cy="21240"/>
            </a:xfrm>
            <a:custGeom>
              <a:avLst/>
              <a:gdLst/>
              <a:ahLst/>
              <a:rect l="l" t="t" r="r" b="b"/>
              <a:pathLst>
                <a:path w="244" h="48">
                  <a:moveTo>
                    <a:pt x="244" y="20"/>
                  </a:moveTo>
                  <a:lnTo>
                    <a:pt x="244" y="20"/>
                  </a:lnTo>
                  <a:lnTo>
                    <a:pt x="233" y="15"/>
                  </a:lnTo>
                  <a:lnTo>
                    <a:pt x="220" y="10"/>
                  </a:lnTo>
                  <a:lnTo>
                    <a:pt x="206" y="6"/>
                  </a:lnTo>
                  <a:lnTo>
                    <a:pt x="192" y="3"/>
                  </a:lnTo>
                  <a:lnTo>
                    <a:pt x="177" y="1"/>
                  </a:lnTo>
                  <a:lnTo>
                    <a:pt x="161" y="0"/>
                  </a:lnTo>
                  <a:lnTo>
                    <a:pt x="146" y="0"/>
                  </a:lnTo>
                  <a:lnTo>
                    <a:pt x="130" y="1"/>
                  </a:lnTo>
                  <a:lnTo>
                    <a:pt x="114" y="2"/>
                  </a:lnTo>
                  <a:lnTo>
                    <a:pt x="96" y="3"/>
                  </a:lnTo>
                  <a:lnTo>
                    <a:pt x="81" y="8"/>
                  </a:lnTo>
                  <a:lnTo>
                    <a:pt x="65" y="11"/>
                  </a:lnTo>
                  <a:lnTo>
                    <a:pt x="48" y="14"/>
                  </a:lnTo>
                  <a:lnTo>
                    <a:pt x="33" y="19"/>
                  </a:lnTo>
                  <a:lnTo>
                    <a:pt x="17" y="24"/>
                  </a:lnTo>
                  <a:lnTo>
                    <a:pt x="0" y="31"/>
                  </a:lnTo>
                  <a:lnTo>
                    <a:pt x="8" y="48"/>
                  </a:lnTo>
                  <a:lnTo>
                    <a:pt x="23" y="43"/>
                  </a:lnTo>
                  <a:lnTo>
                    <a:pt x="37" y="38"/>
                  </a:lnTo>
                  <a:lnTo>
                    <a:pt x="53" y="33"/>
                  </a:lnTo>
                  <a:lnTo>
                    <a:pt x="67" y="30"/>
                  </a:lnTo>
                  <a:lnTo>
                    <a:pt x="84" y="26"/>
                  </a:lnTo>
                  <a:lnTo>
                    <a:pt x="99" y="22"/>
                  </a:lnTo>
                  <a:lnTo>
                    <a:pt x="114" y="21"/>
                  </a:lnTo>
                  <a:lnTo>
                    <a:pt x="130" y="20"/>
                  </a:lnTo>
                  <a:lnTo>
                    <a:pt x="146" y="19"/>
                  </a:lnTo>
                  <a:lnTo>
                    <a:pt x="161" y="19"/>
                  </a:lnTo>
                  <a:lnTo>
                    <a:pt x="177" y="20"/>
                  </a:lnTo>
                  <a:lnTo>
                    <a:pt x="189" y="22"/>
                  </a:lnTo>
                  <a:lnTo>
                    <a:pt x="203" y="25"/>
                  </a:lnTo>
                  <a:lnTo>
                    <a:pt x="216" y="29"/>
                  </a:lnTo>
                  <a:lnTo>
                    <a:pt x="226" y="32"/>
                  </a:lnTo>
                  <a:lnTo>
                    <a:pt x="238" y="36"/>
                  </a:lnTo>
                  <a:lnTo>
                    <a:pt x="238" y="36"/>
                  </a:lnTo>
                  <a:lnTo>
                    <a:pt x="24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390000" y="4233240"/>
              <a:ext cx="36360" cy="120240"/>
            </a:xfrm>
            <a:custGeom>
              <a:avLst/>
              <a:gdLst/>
              <a:ahLst/>
              <a:rect l="l" t="t" r="r" b="b"/>
              <a:pathLst>
                <a:path w="86" h="278">
                  <a:moveTo>
                    <a:pt x="76" y="278"/>
                  </a:moveTo>
                  <a:lnTo>
                    <a:pt x="76" y="278"/>
                  </a:lnTo>
                  <a:lnTo>
                    <a:pt x="83" y="236"/>
                  </a:lnTo>
                  <a:lnTo>
                    <a:pt x="86" y="195"/>
                  </a:lnTo>
                  <a:lnTo>
                    <a:pt x="86" y="155"/>
                  </a:lnTo>
                  <a:lnTo>
                    <a:pt x="82" y="115"/>
                  </a:lnTo>
                  <a:lnTo>
                    <a:pt x="73" y="81"/>
                  </a:lnTo>
                  <a:lnTo>
                    <a:pt x="57" y="48"/>
                  </a:lnTo>
                  <a:lnTo>
                    <a:pt x="35" y="2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23" y="34"/>
                  </a:lnTo>
                  <a:lnTo>
                    <a:pt x="41" y="56"/>
                  </a:lnTo>
                  <a:lnTo>
                    <a:pt x="54" y="85"/>
                  </a:lnTo>
                  <a:lnTo>
                    <a:pt x="63" y="119"/>
                  </a:lnTo>
                  <a:lnTo>
                    <a:pt x="67" y="155"/>
                  </a:lnTo>
                  <a:lnTo>
                    <a:pt x="67" y="195"/>
                  </a:lnTo>
                  <a:lnTo>
                    <a:pt x="64" y="236"/>
                  </a:lnTo>
                  <a:lnTo>
                    <a:pt x="57" y="276"/>
                  </a:lnTo>
                  <a:lnTo>
                    <a:pt x="57" y="276"/>
                  </a:lnTo>
                  <a:lnTo>
                    <a:pt x="76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379200" y="4350960"/>
              <a:ext cx="42840" cy="21240"/>
            </a:xfrm>
            <a:custGeom>
              <a:avLst/>
              <a:gdLst/>
              <a:ahLst/>
              <a:rect l="l" t="t" r="r" b="b"/>
              <a:pathLst>
                <a:path w="101" h="47">
                  <a:moveTo>
                    <a:pt x="5" y="47"/>
                  </a:moveTo>
                  <a:lnTo>
                    <a:pt x="5" y="47"/>
                  </a:lnTo>
                  <a:lnTo>
                    <a:pt x="14" y="45"/>
                  </a:lnTo>
                  <a:lnTo>
                    <a:pt x="26" y="44"/>
                  </a:lnTo>
                  <a:lnTo>
                    <a:pt x="41" y="42"/>
                  </a:lnTo>
                  <a:lnTo>
                    <a:pt x="56" y="40"/>
                  </a:lnTo>
                  <a:lnTo>
                    <a:pt x="69" y="37"/>
                  </a:lnTo>
                  <a:lnTo>
                    <a:pt x="83" y="28"/>
                  </a:lnTo>
                  <a:lnTo>
                    <a:pt x="96" y="18"/>
                  </a:lnTo>
                  <a:lnTo>
                    <a:pt x="101" y="2"/>
                  </a:lnTo>
                  <a:lnTo>
                    <a:pt x="82" y="0"/>
                  </a:lnTo>
                  <a:lnTo>
                    <a:pt x="79" y="8"/>
                  </a:lnTo>
                  <a:lnTo>
                    <a:pt x="75" y="15"/>
                  </a:lnTo>
                  <a:lnTo>
                    <a:pt x="65" y="18"/>
                  </a:lnTo>
                  <a:lnTo>
                    <a:pt x="52" y="21"/>
                  </a:lnTo>
                  <a:lnTo>
                    <a:pt x="39" y="24"/>
                  </a:lnTo>
                  <a:lnTo>
                    <a:pt x="26" y="25"/>
                  </a:lnTo>
                  <a:lnTo>
                    <a:pt x="11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252480" y="4364280"/>
              <a:ext cx="128520" cy="88200"/>
            </a:xfrm>
            <a:custGeom>
              <a:avLst/>
              <a:gdLst/>
              <a:ahLst/>
              <a:rect l="l" t="t" r="r" b="b"/>
              <a:pathLst>
                <a:path w="301" h="203">
                  <a:moveTo>
                    <a:pt x="7" y="203"/>
                  </a:moveTo>
                  <a:lnTo>
                    <a:pt x="7" y="203"/>
                  </a:lnTo>
                  <a:lnTo>
                    <a:pt x="26" y="195"/>
                  </a:lnTo>
                  <a:lnTo>
                    <a:pt x="46" y="184"/>
                  </a:lnTo>
                  <a:lnTo>
                    <a:pt x="63" y="173"/>
                  </a:lnTo>
                  <a:lnTo>
                    <a:pt x="82" y="161"/>
                  </a:lnTo>
                  <a:lnTo>
                    <a:pt x="102" y="147"/>
                  </a:lnTo>
                  <a:lnTo>
                    <a:pt x="121" y="132"/>
                  </a:lnTo>
                  <a:lnTo>
                    <a:pt x="139" y="119"/>
                  </a:lnTo>
                  <a:lnTo>
                    <a:pt x="158" y="104"/>
                  </a:lnTo>
                  <a:lnTo>
                    <a:pt x="177" y="91"/>
                  </a:lnTo>
                  <a:lnTo>
                    <a:pt x="194" y="78"/>
                  </a:lnTo>
                  <a:lnTo>
                    <a:pt x="212" y="65"/>
                  </a:lnTo>
                  <a:lnTo>
                    <a:pt x="231" y="53"/>
                  </a:lnTo>
                  <a:lnTo>
                    <a:pt x="249" y="43"/>
                  </a:lnTo>
                  <a:lnTo>
                    <a:pt x="265" y="32"/>
                  </a:lnTo>
                  <a:lnTo>
                    <a:pt x="284" y="24"/>
                  </a:lnTo>
                  <a:lnTo>
                    <a:pt x="301" y="19"/>
                  </a:lnTo>
                  <a:lnTo>
                    <a:pt x="296" y="0"/>
                  </a:lnTo>
                  <a:lnTo>
                    <a:pt x="277" y="8"/>
                  </a:lnTo>
                  <a:lnTo>
                    <a:pt x="259" y="16"/>
                  </a:lnTo>
                  <a:lnTo>
                    <a:pt x="240" y="27"/>
                  </a:lnTo>
                  <a:lnTo>
                    <a:pt x="222" y="37"/>
                  </a:lnTo>
                  <a:lnTo>
                    <a:pt x="203" y="49"/>
                  </a:lnTo>
                  <a:lnTo>
                    <a:pt x="183" y="63"/>
                  </a:lnTo>
                  <a:lnTo>
                    <a:pt x="165" y="78"/>
                  </a:lnTo>
                  <a:lnTo>
                    <a:pt x="147" y="90"/>
                  </a:lnTo>
                  <a:lnTo>
                    <a:pt x="128" y="104"/>
                  </a:lnTo>
                  <a:lnTo>
                    <a:pt x="110" y="119"/>
                  </a:lnTo>
                  <a:lnTo>
                    <a:pt x="91" y="132"/>
                  </a:lnTo>
                  <a:lnTo>
                    <a:pt x="73" y="144"/>
                  </a:lnTo>
                  <a:lnTo>
                    <a:pt x="55" y="157"/>
                  </a:lnTo>
                  <a:lnTo>
                    <a:pt x="37" y="168"/>
                  </a:lnTo>
                  <a:lnTo>
                    <a:pt x="19" y="179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7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151320" y="4443840"/>
              <a:ext cx="102960" cy="36360"/>
            </a:xfrm>
            <a:custGeom>
              <a:avLst/>
              <a:gdLst/>
              <a:ahLst/>
              <a:rect l="l" t="t" r="r" b="b"/>
              <a:pathLst>
                <a:path w="240" h="82">
                  <a:moveTo>
                    <a:pt x="0" y="82"/>
                  </a:moveTo>
                  <a:lnTo>
                    <a:pt x="0" y="82"/>
                  </a:lnTo>
                  <a:lnTo>
                    <a:pt x="19" y="82"/>
                  </a:lnTo>
                  <a:lnTo>
                    <a:pt x="35" y="81"/>
                  </a:lnTo>
                  <a:lnTo>
                    <a:pt x="53" y="77"/>
                  </a:lnTo>
                  <a:lnTo>
                    <a:pt x="69" y="75"/>
                  </a:lnTo>
                  <a:lnTo>
                    <a:pt x="85" y="73"/>
                  </a:lnTo>
                  <a:lnTo>
                    <a:pt x="99" y="69"/>
                  </a:lnTo>
                  <a:lnTo>
                    <a:pt x="115" y="66"/>
                  </a:lnTo>
                  <a:lnTo>
                    <a:pt x="128" y="62"/>
                  </a:lnTo>
                  <a:lnTo>
                    <a:pt x="142" y="56"/>
                  </a:lnTo>
                  <a:lnTo>
                    <a:pt x="156" y="52"/>
                  </a:lnTo>
                  <a:lnTo>
                    <a:pt x="170" y="46"/>
                  </a:lnTo>
                  <a:lnTo>
                    <a:pt x="182" y="42"/>
                  </a:lnTo>
                  <a:lnTo>
                    <a:pt x="198" y="34"/>
                  </a:lnTo>
                  <a:lnTo>
                    <a:pt x="212" y="28"/>
                  </a:lnTo>
                  <a:lnTo>
                    <a:pt x="227" y="23"/>
                  </a:lnTo>
                  <a:lnTo>
                    <a:pt x="240" y="16"/>
                  </a:lnTo>
                  <a:lnTo>
                    <a:pt x="233" y="0"/>
                  </a:lnTo>
                  <a:lnTo>
                    <a:pt x="219" y="6"/>
                  </a:lnTo>
                  <a:lnTo>
                    <a:pt x="204" y="12"/>
                  </a:lnTo>
                  <a:lnTo>
                    <a:pt x="191" y="17"/>
                  </a:lnTo>
                  <a:lnTo>
                    <a:pt x="178" y="23"/>
                  </a:lnTo>
                  <a:lnTo>
                    <a:pt x="165" y="27"/>
                  </a:lnTo>
                  <a:lnTo>
                    <a:pt x="151" y="33"/>
                  </a:lnTo>
                  <a:lnTo>
                    <a:pt x="138" y="37"/>
                  </a:lnTo>
                  <a:lnTo>
                    <a:pt x="124" y="43"/>
                  </a:lnTo>
                  <a:lnTo>
                    <a:pt x="109" y="47"/>
                  </a:lnTo>
                  <a:lnTo>
                    <a:pt x="97" y="51"/>
                  </a:lnTo>
                  <a:lnTo>
                    <a:pt x="82" y="54"/>
                  </a:lnTo>
                  <a:lnTo>
                    <a:pt x="67" y="56"/>
                  </a:lnTo>
                  <a:lnTo>
                    <a:pt x="50" y="58"/>
                  </a:lnTo>
                  <a:lnTo>
                    <a:pt x="35" y="62"/>
                  </a:lnTo>
                  <a:lnTo>
                    <a:pt x="19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136200" y="4308120"/>
              <a:ext cx="86040" cy="171720"/>
            </a:xfrm>
            <a:custGeom>
              <a:avLst/>
              <a:gdLst/>
              <a:ahLst/>
              <a:rect l="l" t="t" r="r" b="b"/>
              <a:pathLst>
                <a:path w="196" h="398">
                  <a:moveTo>
                    <a:pt x="179" y="0"/>
                  </a:moveTo>
                  <a:lnTo>
                    <a:pt x="192" y="14"/>
                  </a:lnTo>
                  <a:lnTo>
                    <a:pt x="178" y="5"/>
                  </a:lnTo>
                  <a:lnTo>
                    <a:pt x="174" y="10"/>
                  </a:lnTo>
                  <a:lnTo>
                    <a:pt x="164" y="27"/>
                  </a:lnTo>
                  <a:lnTo>
                    <a:pt x="150" y="49"/>
                  </a:lnTo>
                  <a:lnTo>
                    <a:pt x="132" y="78"/>
                  </a:lnTo>
                  <a:lnTo>
                    <a:pt x="113" y="110"/>
                  </a:lnTo>
                  <a:lnTo>
                    <a:pt x="92" y="145"/>
                  </a:lnTo>
                  <a:lnTo>
                    <a:pt x="71" y="181"/>
                  </a:lnTo>
                  <a:lnTo>
                    <a:pt x="51" y="220"/>
                  </a:lnTo>
                  <a:lnTo>
                    <a:pt x="33" y="256"/>
                  </a:lnTo>
                  <a:lnTo>
                    <a:pt x="18" y="290"/>
                  </a:lnTo>
                  <a:lnTo>
                    <a:pt x="6" y="322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0"/>
                  </a:lnTo>
                  <a:lnTo>
                    <a:pt x="33" y="398"/>
                  </a:lnTo>
                  <a:lnTo>
                    <a:pt x="33" y="379"/>
                  </a:lnTo>
                  <a:lnTo>
                    <a:pt x="23" y="377"/>
                  </a:lnTo>
                  <a:lnTo>
                    <a:pt x="19" y="368"/>
                  </a:lnTo>
                  <a:lnTo>
                    <a:pt x="19" y="351"/>
                  </a:lnTo>
                  <a:lnTo>
                    <a:pt x="25" y="327"/>
                  </a:lnTo>
                  <a:lnTo>
                    <a:pt x="35" y="297"/>
                  </a:lnTo>
                  <a:lnTo>
                    <a:pt x="49" y="263"/>
                  </a:lnTo>
                  <a:lnTo>
                    <a:pt x="67" y="228"/>
                  </a:lnTo>
                  <a:lnTo>
                    <a:pt x="87" y="191"/>
                  </a:lnTo>
                  <a:lnTo>
                    <a:pt x="109" y="155"/>
                  </a:lnTo>
                  <a:lnTo>
                    <a:pt x="130" y="120"/>
                  </a:lnTo>
                  <a:lnTo>
                    <a:pt x="149" y="87"/>
                  </a:lnTo>
                  <a:lnTo>
                    <a:pt x="167" y="59"/>
                  </a:lnTo>
                  <a:lnTo>
                    <a:pt x="180" y="37"/>
                  </a:lnTo>
                  <a:lnTo>
                    <a:pt x="191" y="20"/>
                  </a:lnTo>
                  <a:lnTo>
                    <a:pt x="196" y="9"/>
                  </a:lnTo>
                  <a:lnTo>
                    <a:pt x="178" y="0"/>
                  </a:lnTo>
                  <a:lnTo>
                    <a:pt x="191" y="14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213600" y="4237560"/>
              <a:ext cx="79200" cy="76680"/>
            </a:xfrm>
            <a:custGeom>
              <a:avLst/>
              <a:gdLst/>
              <a:ahLst/>
              <a:rect l="l" t="t" r="r" b="b"/>
              <a:pathLst>
                <a:path w="184" h="179">
                  <a:moveTo>
                    <a:pt x="170" y="1"/>
                  </a:moveTo>
                  <a:lnTo>
                    <a:pt x="176" y="0"/>
                  </a:lnTo>
                  <a:lnTo>
                    <a:pt x="152" y="2"/>
                  </a:lnTo>
                  <a:lnTo>
                    <a:pt x="127" y="16"/>
                  </a:lnTo>
                  <a:lnTo>
                    <a:pt x="104" y="38"/>
                  </a:lnTo>
                  <a:lnTo>
                    <a:pt x="82" y="63"/>
                  </a:lnTo>
                  <a:lnTo>
                    <a:pt x="61" y="91"/>
                  </a:lnTo>
                  <a:lnTo>
                    <a:pt x="37" y="119"/>
                  </a:lnTo>
                  <a:lnTo>
                    <a:pt x="17" y="145"/>
                  </a:lnTo>
                  <a:lnTo>
                    <a:pt x="0" y="165"/>
                  </a:lnTo>
                  <a:lnTo>
                    <a:pt x="12" y="179"/>
                  </a:lnTo>
                  <a:lnTo>
                    <a:pt x="32" y="156"/>
                  </a:lnTo>
                  <a:lnTo>
                    <a:pt x="52" y="131"/>
                  </a:lnTo>
                  <a:lnTo>
                    <a:pt x="74" y="102"/>
                  </a:lnTo>
                  <a:lnTo>
                    <a:pt x="95" y="75"/>
                  </a:lnTo>
                  <a:lnTo>
                    <a:pt x="118" y="49"/>
                  </a:lnTo>
                  <a:lnTo>
                    <a:pt x="139" y="30"/>
                  </a:lnTo>
                  <a:lnTo>
                    <a:pt x="157" y="21"/>
                  </a:lnTo>
                  <a:lnTo>
                    <a:pt x="174" y="19"/>
                  </a:lnTo>
                  <a:lnTo>
                    <a:pt x="178" y="18"/>
                  </a:lnTo>
                  <a:lnTo>
                    <a:pt x="174" y="19"/>
                  </a:lnTo>
                  <a:lnTo>
                    <a:pt x="180" y="16"/>
                  </a:lnTo>
                  <a:lnTo>
                    <a:pt x="184" y="10"/>
                  </a:lnTo>
                  <a:lnTo>
                    <a:pt x="182" y="3"/>
                  </a:lnTo>
                  <a:lnTo>
                    <a:pt x="176" y="0"/>
                  </a:lnTo>
                  <a:lnTo>
                    <a:pt x="17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640920" y="3582000"/>
              <a:ext cx="70560" cy="47160"/>
            </a:xfrm>
            <a:custGeom>
              <a:avLst/>
              <a:gdLst/>
              <a:ahLst/>
              <a:rect l="l" t="t" r="r" b="b"/>
              <a:pathLst>
                <a:path w="162" h="110">
                  <a:moveTo>
                    <a:pt x="143" y="92"/>
                  </a:moveTo>
                  <a:lnTo>
                    <a:pt x="159" y="92"/>
                  </a:lnTo>
                  <a:lnTo>
                    <a:pt x="142" y="77"/>
                  </a:lnTo>
                  <a:lnTo>
                    <a:pt x="125" y="63"/>
                  </a:lnTo>
                  <a:lnTo>
                    <a:pt x="105" y="52"/>
                  </a:lnTo>
                  <a:lnTo>
                    <a:pt x="86" y="41"/>
                  </a:lnTo>
                  <a:lnTo>
                    <a:pt x="67" y="31"/>
                  </a:lnTo>
                  <a:lnTo>
                    <a:pt x="47" y="20"/>
                  </a:lnTo>
                  <a:lnTo>
                    <a:pt x="28" y="11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8" y="30"/>
                  </a:lnTo>
                  <a:lnTo>
                    <a:pt x="37" y="39"/>
                  </a:lnTo>
                  <a:lnTo>
                    <a:pt x="57" y="50"/>
                  </a:lnTo>
                  <a:lnTo>
                    <a:pt x="76" y="60"/>
                  </a:lnTo>
                  <a:lnTo>
                    <a:pt x="95" y="71"/>
                  </a:lnTo>
                  <a:lnTo>
                    <a:pt x="112" y="82"/>
                  </a:lnTo>
                  <a:lnTo>
                    <a:pt x="130" y="93"/>
                  </a:lnTo>
                  <a:lnTo>
                    <a:pt x="144" y="107"/>
                  </a:lnTo>
                  <a:lnTo>
                    <a:pt x="160" y="107"/>
                  </a:lnTo>
                  <a:lnTo>
                    <a:pt x="144" y="107"/>
                  </a:lnTo>
                  <a:lnTo>
                    <a:pt x="151" y="110"/>
                  </a:lnTo>
                  <a:lnTo>
                    <a:pt x="159" y="107"/>
                  </a:lnTo>
                  <a:lnTo>
                    <a:pt x="162" y="99"/>
                  </a:lnTo>
                  <a:lnTo>
                    <a:pt x="159" y="92"/>
                  </a:lnTo>
                  <a:lnTo>
                    <a:pt x="14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703200" y="3502440"/>
              <a:ext cx="55440" cy="53280"/>
            </a:xfrm>
            <a:custGeom>
              <a:avLst/>
              <a:gdLst/>
              <a:ahLst/>
              <a:rect l="l" t="t" r="r" b="b"/>
              <a:pathLst>
                <a:path w="129" h="124">
                  <a:moveTo>
                    <a:pt x="17" y="12"/>
                  </a:moveTo>
                  <a:lnTo>
                    <a:pt x="17" y="12"/>
                  </a:lnTo>
                  <a:lnTo>
                    <a:pt x="5" y="16"/>
                  </a:lnTo>
                  <a:lnTo>
                    <a:pt x="14" y="24"/>
                  </a:lnTo>
                  <a:lnTo>
                    <a:pt x="28" y="39"/>
                  </a:lnTo>
                  <a:lnTo>
                    <a:pt x="45" y="56"/>
                  </a:lnTo>
                  <a:lnTo>
                    <a:pt x="62" y="75"/>
                  </a:lnTo>
                  <a:lnTo>
                    <a:pt x="81" y="93"/>
                  </a:lnTo>
                  <a:lnTo>
                    <a:pt x="99" y="111"/>
                  </a:lnTo>
                  <a:lnTo>
                    <a:pt x="117" y="124"/>
                  </a:lnTo>
                  <a:lnTo>
                    <a:pt x="129" y="107"/>
                  </a:lnTo>
                  <a:lnTo>
                    <a:pt x="113" y="94"/>
                  </a:lnTo>
                  <a:lnTo>
                    <a:pt x="96" y="79"/>
                  </a:lnTo>
                  <a:lnTo>
                    <a:pt x="77" y="61"/>
                  </a:lnTo>
                  <a:lnTo>
                    <a:pt x="59" y="42"/>
                  </a:lnTo>
                  <a:lnTo>
                    <a:pt x="42" y="24"/>
                  </a:lnTo>
                  <a:lnTo>
                    <a:pt x="28" y="1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638760" y="3502440"/>
              <a:ext cx="70920" cy="87480"/>
            </a:xfrm>
            <a:custGeom>
              <a:avLst/>
              <a:gdLst/>
              <a:ahLst/>
              <a:rect l="l" t="t" r="r" b="b"/>
              <a:pathLst>
                <a:path w="164" h="204">
                  <a:moveTo>
                    <a:pt x="14" y="185"/>
                  </a:moveTo>
                  <a:lnTo>
                    <a:pt x="18" y="201"/>
                  </a:lnTo>
                  <a:lnTo>
                    <a:pt x="164" y="12"/>
                  </a:lnTo>
                  <a:lnTo>
                    <a:pt x="147" y="0"/>
                  </a:lnTo>
                  <a:lnTo>
                    <a:pt x="1" y="188"/>
                  </a:lnTo>
                  <a:lnTo>
                    <a:pt x="4" y="204"/>
                  </a:lnTo>
                  <a:lnTo>
                    <a:pt x="1" y="188"/>
                  </a:lnTo>
                  <a:lnTo>
                    <a:pt x="0" y="197"/>
                  </a:lnTo>
                  <a:lnTo>
                    <a:pt x="4" y="203"/>
                  </a:lnTo>
                  <a:lnTo>
                    <a:pt x="10" y="204"/>
                  </a:lnTo>
                  <a:lnTo>
                    <a:pt x="18" y="201"/>
                  </a:lnTo>
                  <a:lnTo>
                    <a:pt x="1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966640" y="3551760"/>
              <a:ext cx="152280" cy="259920"/>
            </a:xfrm>
            <a:custGeom>
              <a:avLst/>
              <a:gdLst/>
              <a:ahLst/>
              <a:rect l="l" t="t" r="r" b="b"/>
              <a:pathLst>
                <a:path w="358" h="603">
                  <a:moveTo>
                    <a:pt x="76" y="0"/>
                  </a:moveTo>
                  <a:lnTo>
                    <a:pt x="68" y="16"/>
                  </a:lnTo>
                  <a:lnTo>
                    <a:pt x="60" y="31"/>
                  </a:lnTo>
                  <a:lnTo>
                    <a:pt x="51" y="46"/>
                  </a:lnTo>
                  <a:lnTo>
                    <a:pt x="45" y="61"/>
                  </a:lnTo>
                  <a:lnTo>
                    <a:pt x="37" y="76"/>
                  </a:lnTo>
                  <a:lnTo>
                    <a:pt x="28" y="91"/>
                  </a:lnTo>
                  <a:lnTo>
                    <a:pt x="21" y="107"/>
                  </a:lnTo>
                  <a:lnTo>
                    <a:pt x="13" y="123"/>
                  </a:lnTo>
                  <a:lnTo>
                    <a:pt x="5" y="156"/>
                  </a:lnTo>
                  <a:lnTo>
                    <a:pt x="0" y="200"/>
                  </a:lnTo>
                  <a:lnTo>
                    <a:pt x="1" y="249"/>
                  </a:lnTo>
                  <a:lnTo>
                    <a:pt x="11" y="292"/>
                  </a:lnTo>
                  <a:lnTo>
                    <a:pt x="26" y="320"/>
                  </a:lnTo>
                  <a:lnTo>
                    <a:pt x="39" y="346"/>
                  </a:lnTo>
                  <a:lnTo>
                    <a:pt x="50" y="368"/>
                  </a:lnTo>
                  <a:lnTo>
                    <a:pt x="62" y="389"/>
                  </a:lnTo>
                  <a:lnTo>
                    <a:pt x="74" y="411"/>
                  </a:lnTo>
                  <a:lnTo>
                    <a:pt x="86" y="435"/>
                  </a:lnTo>
                  <a:lnTo>
                    <a:pt x="98" y="461"/>
                  </a:lnTo>
                  <a:lnTo>
                    <a:pt x="111" y="490"/>
                  </a:lnTo>
                  <a:lnTo>
                    <a:pt x="117" y="504"/>
                  </a:lnTo>
                  <a:lnTo>
                    <a:pt x="123" y="520"/>
                  </a:lnTo>
                  <a:lnTo>
                    <a:pt x="132" y="537"/>
                  </a:lnTo>
                  <a:lnTo>
                    <a:pt x="141" y="552"/>
                  </a:lnTo>
                  <a:lnTo>
                    <a:pt x="151" y="568"/>
                  </a:lnTo>
                  <a:lnTo>
                    <a:pt x="162" y="582"/>
                  </a:lnTo>
                  <a:lnTo>
                    <a:pt x="174" y="594"/>
                  </a:lnTo>
                  <a:lnTo>
                    <a:pt x="188" y="603"/>
                  </a:lnTo>
                  <a:lnTo>
                    <a:pt x="202" y="601"/>
                  </a:lnTo>
                  <a:lnTo>
                    <a:pt x="217" y="595"/>
                  </a:lnTo>
                  <a:lnTo>
                    <a:pt x="232" y="587"/>
                  </a:lnTo>
                  <a:lnTo>
                    <a:pt x="246" y="577"/>
                  </a:lnTo>
                  <a:lnTo>
                    <a:pt x="258" y="564"/>
                  </a:lnTo>
                  <a:lnTo>
                    <a:pt x="270" y="553"/>
                  </a:lnTo>
                  <a:lnTo>
                    <a:pt x="280" y="541"/>
                  </a:lnTo>
                  <a:lnTo>
                    <a:pt x="284" y="532"/>
                  </a:lnTo>
                  <a:lnTo>
                    <a:pt x="276" y="466"/>
                  </a:lnTo>
                  <a:lnTo>
                    <a:pt x="273" y="410"/>
                  </a:lnTo>
                  <a:lnTo>
                    <a:pt x="276" y="357"/>
                  </a:lnTo>
                  <a:lnTo>
                    <a:pt x="290" y="297"/>
                  </a:lnTo>
                  <a:lnTo>
                    <a:pt x="300" y="272"/>
                  </a:lnTo>
                  <a:lnTo>
                    <a:pt x="312" y="244"/>
                  </a:lnTo>
                  <a:lnTo>
                    <a:pt x="326" y="215"/>
                  </a:lnTo>
                  <a:lnTo>
                    <a:pt x="339" y="182"/>
                  </a:lnTo>
                  <a:lnTo>
                    <a:pt x="349" y="151"/>
                  </a:lnTo>
                  <a:lnTo>
                    <a:pt x="357" y="120"/>
                  </a:lnTo>
                  <a:lnTo>
                    <a:pt x="358" y="90"/>
                  </a:lnTo>
                  <a:lnTo>
                    <a:pt x="351" y="63"/>
                  </a:lnTo>
                  <a:lnTo>
                    <a:pt x="344" y="54"/>
                  </a:lnTo>
                  <a:lnTo>
                    <a:pt x="328" y="46"/>
                  </a:lnTo>
                  <a:lnTo>
                    <a:pt x="306" y="37"/>
                  </a:lnTo>
                  <a:lnTo>
                    <a:pt x="282" y="30"/>
                  </a:lnTo>
                  <a:lnTo>
                    <a:pt x="255" y="24"/>
                  </a:lnTo>
                  <a:lnTo>
                    <a:pt x="231" y="17"/>
                  </a:lnTo>
                  <a:lnTo>
                    <a:pt x="211" y="13"/>
                  </a:lnTo>
                  <a:lnTo>
                    <a:pt x="196" y="10"/>
                  </a:lnTo>
                  <a:lnTo>
                    <a:pt x="181" y="9"/>
                  </a:lnTo>
                  <a:lnTo>
                    <a:pt x="166" y="8"/>
                  </a:lnTo>
                  <a:lnTo>
                    <a:pt x="151" y="7"/>
                  </a:lnTo>
                  <a:lnTo>
                    <a:pt x="135" y="6"/>
                  </a:lnTo>
                  <a:lnTo>
                    <a:pt x="120" y="5"/>
                  </a:lnTo>
                  <a:lnTo>
                    <a:pt x="105" y="4"/>
                  </a:lnTo>
                  <a:lnTo>
                    <a:pt x="9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968800" y="3549960"/>
              <a:ext cx="34560" cy="55440"/>
            </a:xfrm>
            <a:custGeom>
              <a:avLst/>
              <a:gdLst/>
              <a:ahLst/>
              <a:rect l="l" t="t" r="r" b="b"/>
              <a:pathLst>
                <a:path w="79" h="130">
                  <a:moveTo>
                    <a:pt x="18" y="130"/>
                  </a:moveTo>
                  <a:lnTo>
                    <a:pt x="18" y="130"/>
                  </a:lnTo>
                  <a:lnTo>
                    <a:pt x="25" y="114"/>
                  </a:lnTo>
                  <a:lnTo>
                    <a:pt x="33" y="100"/>
                  </a:lnTo>
                  <a:lnTo>
                    <a:pt x="41" y="85"/>
                  </a:lnTo>
                  <a:lnTo>
                    <a:pt x="49" y="70"/>
                  </a:lnTo>
                  <a:lnTo>
                    <a:pt x="56" y="54"/>
                  </a:lnTo>
                  <a:lnTo>
                    <a:pt x="64" y="40"/>
                  </a:lnTo>
                  <a:lnTo>
                    <a:pt x="73" y="24"/>
                  </a:lnTo>
                  <a:lnTo>
                    <a:pt x="79" y="10"/>
                  </a:lnTo>
                  <a:lnTo>
                    <a:pt x="61" y="0"/>
                  </a:lnTo>
                  <a:lnTo>
                    <a:pt x="54" y="15"/>
                  </a:lnTo>
                  <a:lnTo>
                    <a:pt x="45" y="31"/>
                  </a:lnTo>
                  <a:lnTo>
                    <a:pt x="37" y="45"/>
                  </a:lnTo>
                  <a:lnTo>
                    <a:pt x="31" y="60"/>
                  </a:lnTo>
                  <a:lnTo>
                    <a:pt x="22" y="75"/>
                  </a:lnTo>
                  <a:lnTo>
                    <a:pt x="14" y="91"/>
                  </a:lnTo>
                  <a:lnTo>
                    <a:pt x="6" y="108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1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962320" y="3603600"/>
              <a:ext cx="12960" cy="77400"/>
            </a:xfrm>
            <a:custGeom>
              <a:avLst/>
              <a:gdLst/>
              <a:ahLst/>
              <a:rect l="l" t="t" r="r" b="b"/>
              <a:pathLst>
                <a:path w="34" h="178">
                  <a:moveTo>
                    <a:pt x="32" y="169"/>
                  </a:moveTo>
                  <a:lnTo>
                    <a:pt x="32" y="170"/>
                  </a:lnTo>
                  <a:lnTo>
                    <a:pt x="22" y="128"/>
                  </a:lnTo>
                  <a:lnTo>
                    <a:pt x="21" y="81"/>
                  </a:lnTo>
                  <a:lnTo>
                    <a:pt x="27" y="38"/>
                  </a:lnTo>
                  <a:lnTo>
                    <a:pt x="34" y="7"/>
                  </a:lnTo>
                  <a:lnTo>
                    <a:pt x="16" y="0"/>
                  </a:lnTo>
                  <a:lnTo>
                    <a:pt x="5" y="36"/>
                  </a:lnTo>
                  <a:lnTo>
                    <a:pt x="0" y="81"/>
                  </a:lnTo>
                  <a:lnTo>
                    <a:pt x="1" y="131"/>
                  </a:lnTo>
                  <a:lnTo>
                    <a:pt x="13" y="177"/>
                  </a:lnTo>
                  <a:lnTo>
                    <a:pt x="13" y="178"/>
                  </a:lnTo>
                  <a:lnTo>
                    <a:pt x="3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966640" y="3676680"/>
              <a:ext cx="51480" cy="88200"/>
            </a:xfrm>
            <a:custGeom>
              <a:avLst/>
              <a:gdLst/>
              <a:ahLst/>
              <a:rect l="l" t="t" r="r" b="b"/>
              <a:pathLst>
                <a:path w="118" h="206">
                  <a:moveTo>
                    <a:pt x="118" y="199"/>
                  </a:moveTo>
                  <a:lnTo>
                    <a:pt x="118" y="199"/>
                  </a:lnTo>
                  <a:lnTo>
                    <a:pt x="105" y="170"/>
                  </a:lnTo>
                  <a:lnTo>
                    <a:pt x="94" y="142"/>
                  </a:lnTo>
                  <a:lnTo>
                    <a:pt x="81" y="119"/>
                  </a:lnTo>
                  <a:lnTo>
                    <a:pt x="70" y="97"/>
                  </a:lnTo>
                  <a:lnTo>
                    <a:pt x="58" y="75"/>
                  </a:lnTo>
                  <a:lnTo>
                    <a:pt x="46" y="52"/>
                  </a:lnTo>
                  <a:lnTo>
                    <a:pt x="34" y="28"/>
                  </a:lnTo>
                  <a:lnTo>
                    <a:pt x="19" y="0"/>
                  </a:lnTo>
                  <a:lnTo>
                    <a:pt x="0" y="9"/>
                  </a:lnTo>
                  <a:lnTo>
                    <a:pt x="15" y="38"/>
                  </a:lnTo>
                  <a:lnTo>
                    <a:pt x="27" y="62"/>
                  </a:lnTo>
                  <a:lnTo>
                    <a:pt x="39" y="84"/>
                  </a:lnTo>
                  <a:lnTo>
                    <a:pt x="51" y="105"/>
                  </a:lnTo>
                  <a:lnTo>
                    <a:pt x="62" y="128"/>
                  </a:lnTo>
                  <a:lnTo>
                    <a:pt x="75" y="152"/>
                  </a:lnTo>
                  <a:lnTo>
                    <a:pt x="86" y="176"/>
                  </a:lnTo>
                  <a:lnTo>
                    <a:pt x="99" y="206"/>
                  </a:lnTo>
                  <a:lnTo>
                    <a:pt x="99" y="206"/>
                  </a:lnTo>
                  <a:lnTo>
                    <a:pt x="118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009480" y="3762360"/>
              <a:ext cx="40680" cy="5328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87" y="106"/>
                  </a:moveTo>
                  <a:lnTo>
                    <a:pt x="91" y="107"/>
                  </a:lnTo>
                  <a:lnTo>
                    <a:pt x="80" y="99"/>
                  </a:lnTo>
                  <a:lnTo>
                    <a:pt x="70" y="89"/>
                  </a:lnTo>
                  <a:lnTo>
                    <a:pt x="58" y="75"/>
                  </a:lnTo>
                  <a:lnTo>
                    <a:pt x="50" y="60"/>
                  </a:lnTo>
                  <a:lnTo>
                    <a:pt x="40" y="45"/>
                  </a:lnTo>
                  <a:lnTo>
                    <a:pt x="32" y="29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0" y="7"/>
                  </a:lnTo>
                  <a:lnTo>
                    <a:pt x="6" y="21"/>
                  </a:lnTo>
                  <a:lnTo>
                    <a:pt x="13" y="37"/>
                  </a:lnTo>
                  <a:lnTo>
                    <a:pt x="21" y="54"/>
                  </a:lnTo>
                  <a:lnTo>
                    <a:pt x="31" y="70"/>
                  </a:lnTo>
                  <a:lnTo>
                    <a:pt x="41" y="87"/>
                  </a:lnTo>
                  <a:lnTo>
                    <a:pt x="53" y="103"/>
                  </a:lnTo>
                  <a:lnTo>
                    <a:pt x="67" y="115"/>
                  </a:lnTo>
                  <a:lnTo>
                    <a:pt x="81" y="126"/>
                  </a:lnTo>
                  <a:lnTo>
                    <a:pt x="87" y="127"/>
                  </a:lnTo>
                  <a:lnTo>
                    <a:pt x="81" y="126"/>
                  </a:lnTo>
                  <a:lnTo>
                    <a:pt x="90" y="126"/>
                  </a:lnTo>
                  <a:lnTo>
                    <a:pt x="95" y="122"/>
                  </a:lnTo>
                  <a:lnTo>
                    <a:pt x="95" y="113"/>
                  </a:lnTo>
                  <a:lnTo>
                    <a:pt x="91" y="107"/>
                  </a:lnTo>
                  <a:lnTo>
                    <a:pt x="87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046200" y="3777480"/>
              <a:ext cx="47160" cy="3816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85" y="11"/>
                  </a:moveTo>
                  <a:lnTo>
                    <a:pt x="86" y="6"/>
                  </a:lnTo>
                  <a:lnTo>
                    <a:pt x="83" y="14"/>
                  </a:lnTo>
                  <a:lnTo>
                    <a:pt x="74" y="24"/>
                  </a:lnTo>
                  <a:lnTo>
                    <a:pt x="64" y="36"/>
                  </a:lnTo>
                  <a:lnTo>
                    <a:pt x="51" y="46"/>
                  </a:lnTo>
                  <a:lnTo>
                    <a:pt x="38" y="57"/>
                  </a:lnTo>
                  <a:lnTo>
                    <a:pt x="25" y="64"/>
                  </a:lnTo>
                  <a:lnTo>
                    <a:pt x="12" y="69"/>
                  </a:lnTo>
                  <a:lnTo>
                    <a:pt x="0" y="71"/>
                  </a:lnTo>
                  <a:lnTo>
                    <a:pt x="0" y="92"/>
                  </a:lnTo>
                  <a:lnTo>
                    <a:pt x="17" y="90"/>
                  </a:lnTo>
                  <a:lnTo>
                    <a:pt x="35" y="82"/>
                  </a:lnTo>
                  <a:lnTo>
                    <a:pt x="49" y="73"/>
                  </a:lnTo>
                  <a:lnTo>
                    <a:pt x="65" y="62"/>
                  </a:lnTo>
                  <a:lnTo>
                    <a:pt x="78" y="50"/>
                  </a:lnTo>
                  <a:lnTo>
                    <a:pt x="89" y="38"/>
                  </a:lnTo>
                  <a:lnTo>
                    <a:pt x="99" y="25"/>
                  </a:lnTo>
                  <a:lnTo>
                    <a:pt x="105" y="14"/>
                  </a:lnTo>
                  <a:lnTo>
                    <a:pt x="106" y="8"/>
                  </a:lnTo>
                  <a:lnTo>
                    <a:pt x="105" y="14"/>
                  </a:lnTo>
                  <a:lnTo>
                    <a:pt x="105" y="5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6"/>
                  </a:lnTo>
                  <a:lnTo>
                    <a:pt x="8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078240" y="3678480"/>
              <a:ext cx="17280" cy="103320"/>
            </a:xfrm>
            <a:custGeom>
              <a:avLst/>
              <a:gdLst/>
              <a:ahLst/>
              <a:rect l="l" t="t" r="r" b="b"/>
              <a:pathLst>
                <a:path w="38" h="238">
                  <a:moveTo>
                    <a:pt x="17" y="0"/>
                  </a:moveTo>
                  <a:lnTo>
                    <a:pt x="17" y="0"/>
                  </a:lnTo>
                  <a:lnTo>
                    <a:pt x="3" y="61"/>
                  </a:lnTo>
                  <a:lnTo>
                    <a:pt x="0" y="115"/>
                  </a:lnTo>
                  <a:lnTo>
                    <a:pt x="3" y="171"/>
                  </a:lnTo>
                  <a:lnTo>
                    <a:pt x="10" y="238"/>
                  </a:lnTo>
                  <a:lnTo>
                    <a:pt x="31" y="235"/>
                  </a:lnTo>
                  <a:lnTo>
                    <a:pt x="24" y="171"/>
                  </a:lnTo>
                  <a:lnTo>
                    <a:pt x="21" y="115"/>
                  </a:lnTo>
                  <a:lnTo>
                    <a:pt x="24" y="63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86880" y="3577680"/>
              <a:ext cx="36360" cy="10332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61" y="7"/>
                  </a:moveTo>
                  <a:lnTo>
                    <a:pt x="62" y="8"/>
                  </a:lnTo>
                  <a:lnTo>
                    <a:pt x="67" y="32"/>
                  </a:lnTo>
                  <a:lnTo>
                    <a:pt x="66" y="61"/>
                  </a:lnTo>
                  <a:lnTo>
                    <a:pt x="59" y="91"/>
                  </a:lnTo>
                  <a:lnTo>
                    <a:pt x="49" y="121"/>
                  </a:lnTo>
                  <a:lnTo>
                    <a:pt x="37" y="153"/>
                  </a:lnTo>
                  <a:lnTo>
                    <a:pt x="23" y="181"/>
                  </a:lnTo>
                  <a:lnTo>
                    <a:pt x="10" y="211"/>
                  </a:lnTo>
                  <a:lnTo>
                    <a:pt x="0" y="237"/>
                  </a:lnTo>
                  <a:lnTo>
                    <a:pt x="21" y="241"/>
                  </a:lnTo>
                  <a:lnTo>
                    <a:pt x="28" y="218"/>
                  </a:lnTo>
                  <a:lnTo>
                    <a:pt x="42" y="191"/>
                  </a:lnTo>
                  <a:lnTo>
                    <a:pt x="56" y="160"/>
                  </a:lnTo>
                  <a:lnTo>
                    <a:pt x="68" y="128"/>
                  </a:lnTo>
                  <a:lnTo>
                    <a:pt x="80" y="97"/>
                  </a:lnTo>
                  <a:lnTo>
                    <a:pt x="87" y="63"/>
                  </a:lnTo>
                  <a:lnTo>
                    <a:pt x="88" y="32"/>
                  </a:lnTo>
                  <a:lnTo>
                    <a:pt x="80" y="0"/>
                  </a:lnTo>
                  <a:lnTo>
                    <a:pt x="82" y="2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050520" y="3551760"/>
              <a:ext cx="70920" cy="27720"/>
            </a:xfrm>
            <a:custGeom>
              <a:avLst/>
              <a:gdLst/>
              <a:ahLst/>
              <a:rect l="l" t="t" r="r" b="b"/>
              <a:pathLst>
                <a:path w="167" h="66">
                  <a:moveTo>
                    <a:pt x="1" y="21"/>
                  </a:moveTo>
                  <a:lnTo>
                    <a:pt x="0" y="21"/>
                  </a:lnTo>
                  <a:lnTo>
                    <a:pt x="15" y="25"/>
                  </a:lnTo>
                  <a:lnTo>
                    <a:pt x="34" y="29"/>
                  </a:lnTo>
                  <a:lnTo>
                    <a:pt x="58" y="35"/>
                  </a:lnTo>
                  <a:lnTo>
                    <a:pt x="85" y="42"/>
                  </a:lnTo>
                  <a:lnTo>
                    <a:pt x="109" y="49"/>
                  </a:lnTo>
                  <a:lnTo>
                    <a:pt x="130" y="56"/>
                  </a:lnTo>
                  <a:lnTo>
                    <a:pt x="143" y="64"/>
                  </a:lnTo>
                  <a:lnTo>
                    <a:pt x="146" y="66"/>
                  </a:lnTo>
                  <a:lnTo>
                    <a:pt x="167" y="61"/>
                  </a:lnTo>
                  <a:lnTo>
                    <a:pt x="154" y="47"/>
                  </a:lnTo>
                  <a:lnTo>
                    <a:pt x="137" y="37"/>
                  </a:lnTo>
                  <a:lnTo>
                    <a:pt x="113" y="28"/>
                  </a:lnTo>
                  <a:lnTo>
                    <a:pt x="89" y="20"/>
                  </a:lnTo>
                  <a:lnTo>
                    <a:pt x="62" y="14"/>
                  </a:lnTo>
                  <a:lnTo>
                    <a:pt x="38" y="8"/>
                  </a:lnTo>
                  <a:lnTo>
                    <a:pt x="17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94360" y="3547440"/>
              <a:ext cx="55800" cy="12960"/>
            </a:xfrm>
            <a:custGeom>
              <a:avLst/>
              <a:gdLst/>
              <a:ahLst/>
              <a:rect l="l" t="t" r="r" b="b"/>
              <a:pathLst>
                <a:path w="132" h="30">
                  <a:moveTo>
                    <a:pt x="20" y="16"/>
                  </a:moveTo>
                  <a:lnTo>
                    <a:pt x="12" y="21"/>
                  </a:lnTo>
                  <a:lnTo>
                    <a:pt x="27" y="23"/>
                  </a:lnTo>
                  <a:lnTo>
                    <a:pt x="41" y="24"/>
                  </a:lnTo>
                  <a:lnTo>
                    <a:pt x="56" y="25"/>
                  </a:lnTo>
                  <a:lnTo>
                    <a:pt x="71" y="26"/>
                  </a:lnTo>
                  <a:lnTo>
                    <a:pt x="87" y="27"/>
                  </a:lnTo>
                  <a:lnTo>
                    <a:pt x="102" y="28"/>
                  </a:lnTo>
                  <a:lnTo>
                    <a:pt x="117" y="29"/>
                  </a:lnTo>
                  <a:lnTo>
                    <a:pt x="132" y="30"/>
                  </a:lnTo>
                  <a:lnTo>
                    <a:pt x="132" y="9"/>
                  </a:lnTo>
                  <a:lnTo>
                    <a:pt x="117" y="8"/>
                  </a:lnTo>
                  <a:lnTo>
                    <a:pt x="102" y="7"/>
                  </a:lnTo>
                  <a:lnTo>
                    <a:pt x="87" y="6"/>
                  </a:lnTo>
                  <a:lnTo>
                    <a:pt x="71" y="5"/>
                  </a:lnTo>
                  <a:lnTo>
                    <a:pt x="56" y="4"/>
                  </a:lnTo>
                  <a:lnTo>
                    <a:pt x="41" y="3"/>
                  </a:lnTo>
                  <a:lnTo>
                    <a:pt x="27" y="1"/>
                  </a:lnTo>
                  <a:lnTo>
                    <a:pt x="12" y="0"/>
                  </a:lnTo>
                  <a:lnTo>
                    <a:pt x="2" y="6"/>
                  </a:lnTo>
                  <a:lnTo>
                    <a:pt x="12" y="0"/>
                  </a:lnTo>
                  <a:lnTo>
                    <a:pt x="3" y="4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12" y="21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988240" y="3652560"/>
              <a:ext cx="55800" cy="62280"/>
            </a:xfrm>
            <a:custGeom>
              <a:avLst/>
              <a:gdLst/>
              <a:ahLst/>
              <a:rect l="l" t="t" r="r" b="b"/>
              <a:pathLst>
                <a:path w="126" h="143">
                  <a:moveTo>
                    <a:pt x="110" y="123"/>
                  </a:moveTo>
                  <a:lnTo>
                    <a:pt x="116" y="122"/>
                  </a:lnTo>
                  <a:lnTo>
                    <a:pt x="102" y="120"/>
                  </a:lnTo>
                  <a:lnTo>
                    <a:pt x="89" y="111"/>
                  </a:lnTo>
                  <a:lnTo>
                    <a:pt x="77" y="97"/>
                  </a:lnTo>
                  <a:lnTo>
                    <a:pt x="62" y="77"/>
                  </a:lnTo>
                  <a:lnTo>
                    <a:pt x="50" y="58"/>
                  </a:lnTo>
                  <a:lnTo>
                    <a:pt x="39" y="37"/>
                  </a:lnTo>
                  <a:lnTo>
                    <a:pt x="28" y="17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9" y="26"/>
                  </a:lnTo>
                  <a:lnTo>
                    <a:pt x="20" y="46"/>
                  </a:lnTo>
                  <a:lnTo>
                    <a:pt x="31" y="67"/>
                  </a:lnTo>
                  <a:lnTo>
                    <a:pt x="46" y="90"/>
                  </a:lnTo>
                  <a:lnTo>
                    <a:pt x="60" y="110"/>
                  </a:lnTo>
                  <a:lnTo>
                    <a:pt x="76" y="127"/>
                  </a:lnTo>
                  <a:lnTo>
                    <a:pt x="96" y="138"/>
                  </a:lnTo>
                  <a:lnTo>
                    <a:pt x="116" y="143"/>
                  </a:lnTo>
                  <a:lnTo>
                    <a:pt x="120" y="142"/>
                  </a:lnTo>
                  <a:lnTo>
                    <a:pt x="116" y="143"/>
                  </a:lnTo>
                  <a:lnTo>
                    <a:pt x="123" y="140"/>
                  </a:lnTo>
                  <a:lnTo>
                    <a:pt x="126" y="133"/>
                  </a:lnTo>
                  <a:lnTo>
                    <a:pt x="123" y="125"/>
                  </a:lnTo>
                  <a:lnTo>
                    <a:pt x="116" y="122"/>
                  </a:lnTo>
                  <a:lnTo>
                    <a:pt x="11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035400" y="3693600"/>
              <a:ext cx="19440" cy="2124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4"/>
                  </a:moveTo>
                  <a:lnTo>
                    <a:pt x="22" y="4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19" y="20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7" y="27"/>
                  </a:lnTo>
                  <a:lnTo>
                    <a:pt x="0" y="29"/>
                  </a:lnTo>
                  <a:lnTo>
                    <a:pt x="10" y="48"/>
                  </a:lnTo>
                  <a:lnTo>
                    <a:pt x="13" y="46"/>
                  </a:lnTo>
                  <a:lnTo>
                    <a:pt x="19" y="43"/>
                  </a:lnTo>
                  <a:lnTo>
                    <a:pt x="27" y="41"/>
                  </a:lnTo>
                  <a:lnTo>
                    <a:pt x="33" y="37"/>
                  </a:lnTo>
                  <a:lnTo>
                    <a:pt x="38" y="30"/>
                  </a:lnTo>
                  <a:lnTo>
                    <a:pt x="44" y="21"/>
                  </a:lnTo>
                  <a:lnTo>
                    <a:pt x="44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022800" y="3586320"/>
              <a:ext cx="32040" cy="109080"/>
            </a:xfrm>
            <a:custGeom>
              <a:avLst/>
              <a:gdLst/>
              <a:ahLst/>
              <a:rect l="l" t="t" r="r" b="b"/>
              <a:pathLst>
                <a:path w="74" h="254">
                  <a:moveTo>
                    <a:pt x="0" y="14"/>
                  </a:moveTo>
                  <a:lnTo>
                    <a:pt x="26" y="46"/>
                  </a:lnTo>
                  <a:lnTo>
                    <a:pt x="39" y="69"/>
                  </a:lnTo>
                  <a:lnTo>
                    <a:pt x="42" y="88"/>
                  </a:lnTo>
                  <a:lnTo>
                    <a:pt x="42" y="110"/>
                  </a:lnTo>
                  <a:lnTo>
                    <a:pt x="40" y="136"/>
                  </a:lnTo>
                  <a:lnTo>
                    <a:pt x="39" y="165"/>
                  </a:lnTo>
                  <a:lnTo>
                    <a:pt x="41" y="203"/>
                  </a:lnTo>
                  <a:lnTo>
                    <a:pt x="53" y="254"/>
                  </a:lnTo>
                  <a:lnTo>
                    <a:pt x="74" y="250"/>
                  </a:lnTo>
                  <a:lnTo>
                    <a:pt x="62" y="201"/>
                  </a:lnTo>
                  <a:lnTo>
                    <a:pt x="60" y="165"/>
                  </a:lnTo>
                  <a:lnTo>
                    <a:pt x="61" y="136"/>
                  </a:lnTo>
                  <a:lnTo>
                    <a:pt x="63" y="110"/>
                  </a:lnTo>
                  <a:lnTo>
                    <a:pt x="63" y="88"/>
                  </a:lnTo>
                  <a:lnTo>
                    <a:pt x="58" y="62"/>
                  </a:lnTo>
                  <a:lnTo>
                    <a:pt x="42" y="34"/>
                  </a:lnTo>
                  <a:lnTo>
                    <a:pt x="1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224400" y="2818800"/>
              <a:ext cx="281160" cy="511560"/>
            </a:xfrm>
            <a:custGeom>
              <a:avLst/>
              <a:gdLst/>
              <a:ahLst/>
              <a:rect l="l" t="t" r="r" b="b"/>
              <a:pathLst>
                <a:path w="652" h="1188">
                  <a:moveTo>
                    <a:pt x="106" y="43"/>
                  </a:moveTo>
                  <a:lnTo>
                    <a:pt x="127" y="33"/>
                  </a:lnTo>
                  <a:lnTo>
                    <a:pt x="151" y="23"/>
                  </a:lnTo>
                  <a:lnTo>
                    <a:pt x="175" y="16"/>
                  </a:lnTo>
                  <a:lnTo>
                    <a:pt x="201" y="9"/>
                  </a:lnTo>
                  <a:lnTo>
                    <a:pt x="229" y="3"/>
                  </a:lnTo>
                  <a:lnTo>
                    <a:pt x="256" y="1"/>
                  </a:lnTo>
                  <a:lnTo>
                    <a:pt x="285" y="0"/>
                  </a:lnTo>
                  <a:lnTo>
                    <a:pt x="313" y="2"/>
                  </a:lnTo>
                  <a:lnTo>
                    <a:pt x="342" y="6"/>
                  </a:lnTo>
                  <a:lnTo>
                    <a:pt x="367" y="13"/>
                  </a:lnTo>
                  <a:lnTo>
                    <a:pt x="394" y="22"/>
                  </a:lnTo>
                  <a:lnTo>
                    <a:pt x="418" y="34"/>
                  </a:lnTo>
                  <a:lnTo>
                    <a:pt x="440" y="51"/>
                  </a:lnTo>
                  <a:lnTo>
                    <a:pt x="460" y="70"/>
                  </a:lnTo>
                  <a:lnTo>
                    <a:pt x="478" y="92"/>
                  </a:lnTo>
                  <a:lnTo>
                    <a:pt x="493" y="118"/>
                  </a:lnTo>
                  <a:lnTo>
                    <a:pt x="514" y="183"/>
                  </a:lnTo>
                  <a:lnTo>
                    <a:pt x="529" y="251"/>
                  </a:lnTo>
                  <a:lnTo>
                    <a:pt x="539" y="323"/>
                  </a:lnTo>
                  <a:lnTo>
                    <a:pt x="546" y="396"/>
                  </a:lnTo>
                  <a:lnTo>
                    <a:pt x="551" y="470"/>
                  </a:lnTo>
                  <a:lnTo>
                    <a:pt x="557" y="542"/>
                  </a:lnTo>
                  <a:lnTo>
                    <a:pt x="565" y="613"/>
                  </a:lnTo>
                  <a:lnTo>
                    <a:pt x="576" y="680"/>
                  </a:lnTo>
                  <a:lnTo>
                    <a:pt x="586" y="722"/>
                  </a:lnTo>
                  <a:lnTo>
                    <a:pt x="598" y="773"/>
                  </a:lnTo>
                  <a:lnTo>
                    <a:pt x="615" y="829"/>
                  </a:lnTo>
                  <a:lnTo>
                    <a:pt x="630" y="888"/>
                  </a:lnTo>
                  <a:lnTo>
                    <a:pt x="643" y="947"/>
                  </a:lnTo>
                  <a:lnTo>
                    <a:pt x="651" y="1004"/>
                  </a:lnTo>
                  <a:lnTo>
                    <a:pt x="652" y="1055"/>
                  </a:lnTo>
                  <a:lnTo>
                    <a:pt x="644" y="1097"/>
                  </a:lnTo>
                  <a:lnTo>
                    <a:pt x="640" y="1108"/>
                  </a:lnTo>
                  <a:lnTo>
                    <a:pt x="632" y="1118"/>
                  </a:lnTo>
                  <a:lnTo>
                    <a:pt x="622" y="1128"/>
                  </a:lnTo>
                  <a:lnTo>
                    <a:pt x="611" y="1136"/>
                  </a:lnTo>
                  <a:lnTo>
                    <a:pt x="598" y="1144"/>
                  </a:lnTo>
                  <a:lnTo>
                    <a:pt x="586" y="1149"/>
                  </a:lnTo>
                  <a:lnTo>
                    <a:pt x="572" y="1154"/>
                  </a:lnTo>
                  <a:lnTo>
                    <a:pt x="560" y="1157"/>
                  </a:lnTo>
                  <a:lnTo>
                    <a:pt x="536" y="1165"/>
                  </a:lnTo>
                  <a:lnTo>
                    <a:pt x="509" y="1170"/>
                  </a:lnTo>
                  <a:lnTo>
                    <a:pt x="478" y="1175"/>
                  </a:lnTo>
                  <a:lnTo>
                    <a:pt x="446" y="1180"/>
                  </a:lnTo>
                  <a:lnTo>
                    <a:pt x="413" y="1184"/>
                  </a:lnTo>
                  <a:lnTo>
                    <a:pt x="377" y="1186"/>
                  </a:lnTo>
                  <a:lnTo>
                    <a:pt x="341" y="1187"/>
                  </a:lnTo>
                  <a:lnTo>
                    <a:pt x="304" y="1188"/>
                  </a:lnTo>
                  <a:lnTo>
                    <a:pt x="268" y="1187"/>
                  </a:lnTo>
                  <a:lnTo>
                    <a:pt x="231" y="1186"/>
                  </a:lnTo>
                  <a:lnTo>
                    <a:pt x="197" y="1184"/>
                  </a:lnTo>
                  <a:lnTo>
                    <a:pt x="162" y="1179"/>
                  </a:lnTo>
                  <a:lnTo>
                    <a:pt x="132" y="1174"/>
                  </a:lnTo>
                  <a:lnTo>
                    <a:pt x="102" y="1167"/>
                  </a:lnTo>
                  <a:lnTo>
                    <a:pt x="77" y="1160"/>
                  </a:lnTo>
                  <a:lnTo>
                    <a:pt x="54" y="1150"/>
                  </a:lnTo>
                  <a:lnTo>
                    <a:pt x="27" y="1129"/>
                  </a:lnTo>
                  <a:lnTo>
                    <a:pt x="10" y="1096"/>
                  </a:lnTo>
                  <a:lnTo>
                    <a:pt x="3" y="1055"/>
                  </a:lnTo>
                  <a:lnTo>
                    <a:pt x="0" y="1009"/>
                  </a:lnTo>
                  <a:lnTo>
                    <a:pt x="3" y="962"/>
                  </a:lnTo>
                  <a:lnTo>
                    <a:pt x="7" y="917"/>
                  </a:lnTo>
                  <a:lnTo>
                    <a:pt x="16" y="878"/>
                  </a:lnTo>
                  <a:lnTo>
                    <a:pt x="24" y="847"/>
                  </a:lnTo>
                  <a:lnTo>
                    <a:pt x="45" y="764"/>
                  </a:lnTo>
                  <a:lnTo>
                    <a:pt x="59" y="671"/>
                  </a:lnTo>
                  <a:lnTo>
                    <a:pt x="69" y="569"/>
                  </a:lnTo>
                  <a:lnTo>
                    <a:pt x="76" y="463"/>
                  </a:lnTo>
                  <a:lnTo>
                    <a:pt x="81" y="354"/>
                  </a:lnTo>
                  <a:lnTo>
                    <a:pt x="87" y="245"/>
                  </a:lnTo>
                  <a:lnTo>
                    <a:pt x="95" y="142"/>
                  </a:lnTo>
                  <a:lnTo>
                    <a:pt x="106" y="43"/>
                  </a:lnTo>
                  <a:close/>
                </a:path>
              </a:pathLst>
            </a:custGeom>
            <a:solidFill>
              <a:srgbClr val="ffff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370200" y="2879280"/>
              <a:ext cx="60120" cy="169560"/>
            </a:xfrm>
            <a:custGeom>
              <a:avLst/>
              <a:gdLst/>
              <a:ahLst/>
              <a:rect l="l" t="t" r="r" b="b"/>
              <a:pathLst>
                <a:path w="144" h="397">
                  <a:moveTo>
                    <a:pt x="0" y="120"/>
                  </a:moveTo>
                  <a:lnTo>
                    <a:pt x="20" y="133"/>
                  </a:lnTo>
                  <a:lnTo>
                    <a:pt x="35" y="165"/>
                  </a:lnTo>
                  <a:lnTo>
                    <a:pt x="48" y="208"/>
                  </a:lnTo>
                  <a:lnTo>
                    <a:pt x="59" y="258"/>
                  </a:lnTo>
                  <a:lnTo>
                    <a:pt x="68" y="310"/>
                  </a:lnTo>
                  <a:lnTo>
                    <a:pt x="80" y="353"/>
                  </a:lnTo>
                  <a:lnTo>
                    <a:pt x="94" y="384"/>
                  </a:lnTo>
                  <a:lnTo>
                    <a:pt x="113" y="397"/>
                  </a:lnTo>
                  <a:lnTo>
                    <a:pt x="130" y="352"/>
                  </a:lnTo>
                  <a:lnTo>
                    <a:pt x="140" y="302"/>
                  </a:lnTo>
                  <a:lnTo>
                    <a:pt x="143" y="252"/>
                  </a:lnTo>
                  <a:lnTo>
                    <a:pt x="144" y="200"/>
                  </a:lnTo>
                  <a:lnTo>
                    <a:pt x="141" y="147"/>
                  </a:lnTo>
                  <a:lnTo>
                    <a:pt x="138" y="97"/>
                  </a:lnTo>
                  <a:lnTo>
                    <a:pt x="134" y="47"/>
                  </a:lnTo>
                  <a:lnTo>
                    <a:pt x="133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368400" y="2926440"/>
              <a:ext cx="53280" cy="128520"/>
            </a:xfrm>
            <a:custGeom>
              <a:avLst/>
              <a:gdLst/>
              <a:ahLst/>
              <a:rect l="l" t="t" r="r" b="b"/>
              <a:pathLst>
                <a:path w="125" h="299">
                  <a:moveTo>
                    <a:pt x="105" y="284"/>
                  </a:moveTo>
                  <a:lnTo>
                    <a:pt x="116" y="278"/>
                  </a:lnTo>
                  <a:lnTo>
                    <a:pt x="104" y="268"/>
                  </a:lnTo>
                  <a:lnTo>
                    <a:pt x="91" y="240"/>
                  </a:lnTo>
                  <a:lnTo>
                    <a:pt x="81" y="198"/>
                  </a:lnTo>
                  <a:lnTo>
                    <a:pt x="71" y="148"/>
                  </a:lnTo>
                  <a:lnTo>
                    <a:pt x="61" y="97"/>
                  </a:lnTo>
                  <a:lnTo>
                    <a:pt x="47" y="53"/>
                  </a:lnTo>
                  <a:lnTo>
                    <a:pt x="30" y="18"/>
                  </a:lnTo>
                  <a:lnTo>
                    <a:pt x="3" y="0"/>
                  </a:lnTo>
                  <a:lnTo>
                    <a:pt x="0" y="21"/>
                  </a:lnTo>
                  <a:lnTo>
                    <a:pt x="13" y="31"/>
                  </a:lnTo>
                  <a:lnTo>
                    <a:pt x="28" y="60"/>
                  </a:lnTo>
                  <a:lnTo>
                    <a:pt x="40" y="103"/>
                  </a:lnTo>
                  <a:lnTo>
                    <a:pt x="50" y="151"/>
                  </a:lnTo>
                  <a:lnTo>
                    <a:pt x="60" y="203"/>
                  </a:lnTo>
                  <a:lnTo>
                    <a:pt x="72" y="247"/>
                  </a:lnTo>
                  <a:lnTo>
                    <a:pt x="88" y="280"/>
                  </a:lnTo>
                  <a:lnTo>
                    <a:pt x="113" y="299"/>
                  </a:lnTo>
                  <a:lnTo>
                    <a:pt x="124" y="294"/>
                  </a:lnTo>
                  <a:lnTo>
                    <a:pt x="113" y="299"/>
                  </a:lnTo>
                  <a:lnTo>
                    <a:pt x="122" y="297"/>
                  </a:lnTo>
                  <a:lnTo>
                    <a:pt x="125" y="290"/>
                  </a:lnTo>
                  <a:lnTo>
                    <a:pt x="123" y="282"/>
                  </a:lnTo>
                  <a:lnTo>
                    <a:pt x="116" y="278"/>
                  </a:lnTo>
                  <a:lnTo>
                    <a:pt x="105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413040" y="2874960"/>
              <a:ext cx="23760" cy="178200"/>
            </a:xfrm>
            <a:custGeom>
              <a:avLst/>
              <a:gdLst/>
              <a:ahLst/>
              <a:rect l="l" t="t" r="r" b="b"/>
              <a:pathLst>
                <a:path w="52" h="413">
                  <a:moveTo>
                    <a:pt x="37" y="19"/>
                  </a:moveTo>
                  <a:lnTo>
                    <a:pt x="19" y="10"/>
                  </a:lnTo>
                  <a:lnTo>
                    <a:pt x="20" y="57"/>
                  </a:lnTo>
                  <a:lnTo>
                    <a:pt x="24" y="107"/>
                  </a:lnTo>
                  <a:lnTo>
                    <a:pt x="27" y="157"/>
                  </a:lnTo>
                  <a:lnTo>
                    <a:pt x="31" y="210"/>
                  </a:lnTo>
                  <a:lnTo>
                    <a:pt x="30" y="262"/>
                  </a:lnTo>
                  <a:lnTo>
                    <a:pt x="26" y="311"/>
                  </a:lnTo>
                  <a:lnTo>
                    <a:pt x="17" y="359"/>
                  </a:lnTo>
                  <a:lnTo>
                    <a:pt x="0" y="403"/>
                  </a:lnTo>
                  <a:lnTo>
                    <a:pt x="19" y="413"/>
                  </a:lnTo>
                  <a:lnTo>
                    <a:pt x="38" y="364"/>
                  </a:lnTo>
                  <a:lnTo>
                    <a:pt x="48" y="313"/>
                  </a:lnTo>
                  <a:lnTo>
                    <a:pt x="51" y="262"/>
                  </a:lnTo>
                  <a:lnTo>
                    <a:pt x="52" y="210"/>
                  </a:lnTo>
                  <a:lnTo>
                    <a:pt x="49" y="157"/>
                  </a:lnTo>
                  <a:lnTo>
                    <a:pt x="45" y="107"/>
                  </a:lnTo>
                  <a:lnTo>
                    <a:pt x="41" y="57"/>
                  </a:lnTo>
                  <a:lnTo>
                    <a:pt x="40" y="10"/>
                  </a:lnTo>
                  <a:lnTo>
                    <a:pt x="23" y="2"/>
                  </a:lnTo>
                  <a:lnTo>
                    <a:pt x="40" y="10"/>
                  </a:lnTo>
                  <a:lnTo>
                    <a:pt x="37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9" y="10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364080" y="2874960"/>
              <a:ext cx="66600" cy="59760"/>
            </a:xfrm>
            <a:custGeom>
              <a:avLst/>
              <a:gdLst/>
              <a:ahLst/>
              <a:rect l="l" t="t" r="r" b="b"/>
              <a:pathLst>
                <a:path w="151" h="138">
                  <a:moveTo>
                    <a:pt x="12" y="117"/>
                  </a:moveTo>
                  <a:lnTo>
                    <a:pt x="18" y="135"/>
                  </a:lnTo>
                  <a:lnTo>
                    <a:pt x="151" y="17"/>
                  </a:lnTo>
                  <a:lnTo>
                    <a:pt x="137" y="0"/>
                  </a:lnTo>
                  <a:lnTo>
                    <a:pt x="3" y="119"/>
                  </a:lnTo>
                  <a:lnTo>
                    <a:pt x="9" y="138"/>
                  </a:lnTo>
                  <a:lnTo>
                    <a:pt x="3" y="119"/>
                  </a:lnTo>
                  <a:lnTo>
                    <a:pt x="0" y="128"/>
                  </a:lnTo>
                  <a:lnTo>
                    <a:pt x="2" y="134"/>
                  </a:lnTo>
                  <a:lnTo>
                    <a:pt x="9" y="138"/>
                  </a:lnTo>
                  <a:lnTo>
                    <a:pt x="18" y="135"/>
                  </a:lnTo>
                  <a:lnTo>
                    <a:pt x="1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275880" y="2827440"/>
              <a:ext cx="90000" cy="221040"/>
            </a:xfrm>
            <a:custGeom>
              <a:avLst/>
              <a:gdLst/>
              <a:ahLst/>
              <a:rect l="l" t="t" r="r" b="b"/>
              <a:pathLst>
                <a:path w="212" h="512">
                  <a:moveTo>
                    <a:pt x="212" y="238"/>
                  </a:moveTo>
                  <a:lnTo>
                    <a:pt x="187" y="262"/>
                  </a:lnTo>
                  <a:lnTo>
                    <a:pt x="168" y="302"/>
                  </a:lnTo>
                  <a:lnTo>
                    <a:pt x="155" y="351"/>
                  </a:lnTo>
                  <a:lnTo>
                    <a:pt x="145" y="400"/>
                  </a:lnTo>
                  <a:lnTo>
                    <a:pt x="133" y="448"/>
                  </a:lnTo>
                  <a:lnTo>
                    <a:pt x="117" y="486"/>
                  </a:lnTo>
                  <a:lnTo>
                    <a:pt x="97" y="510"/>
                  </a:lnTo>
                  <a:lnTo>
                    <a:pt x="70" y="512"/>
                  </a:lnTo>
                  <a:lnTo>
                    <a:pt x="50" y="459"/>
                  </a:lnTo>
                  <a:lnTo>
                    <a:pt x="33" y="398"/>
                  </a:lnTo>
                  <a:lnTo>
                    <a:pt x="20" y="332"/>
                  </a:lnTo>
                  <a:lnTo>
                    <a:pt x="12" y="262"/>
                  </a:lnTo>
                  <a:lnTo>
                    <a:pt x="5" y="191"/>
                  </a:lnTo>
                  <a:lnTo>
                    <a:pt x="2" y="12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3" y="36"/>
                  </a:lnTo>
                  <a:lnTo>
                    <a:pt x="35" y="52"/>
                  </a:lnTo>
                  <a:lnTo>
                    <a:pt x="46" y="69"/>
                  </a:lnTo>
                  <a:lnTo>
                    <a:pt x="59" y="84"/>
                  </a:lnTo>
                  <a:lnTo>
                    <a:pt x="71" y="99"/>
                  </a:lnTo>
                  <a:lnTo>
                    <a:pt x="82" y="114"/>
                  </a:lnTo>
                  <a:lnTo>
                    <a:pt x="94" y="129"/>
                  </a:lnTo>
                  <a:lnTo>
                    <a:pt x="106" y="143"/>
                  </a:lnTo>
                  <a:lnTo>
                    <a:pt x="118" y="157"/>
                  </a:lnTo>
                  <a:lnTo>
                    <a:pt x="133" y="171"/>
                  </a:lnTo>
                  <a:lnTo>
                    <a:pt x="147" y="184"/>
                  </a:lnTo>
                  <a:lnTo>
                    <a:pt x="162" y="198"/>
                  </a:lnTo>
                  <a:lnTo>
                    <a:pt x="177" y="211"/>
                  </a:lnTo>
                  <a:lnTo>
                    <a:pt x="194" y="224"/>
                  </a:lnTo>
                  <a:lnTo>
                    <a:pt x="21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301800" y="2926440"/>
              <a:ext cx="66600" cy="126360"/>
            </a:xfrm>
            <a:custGeom>
              <a:avLst/>
              <a:gdLst/>
              <a:ahLst/>
              <a:rect l="l" t="t" r="r" b="b"/>
              <a:pathLst>
                <a:path w="157" h="295">
                  <a:moveTo>
                    <a:pt x="1" y="289"/>
                  </a:moveTo>
                  <a:lnTo>
                    <a:pt x="8" y="295"/>
                  </a:lnTo>
                  <a:lnTo>
                    <a:pt x="43" y="292"/>
                  </a:lnTo>
                  <a:lnTo>
                    <a:pt x="68" y="263"/>
                  </a:lnTo>
                  <a:lnTo>
                    <a:pt x="85" y="222"/>
                  </a:lnTo>
                  <a:lnTo>
                    <a:pt x="96" y="174"/>
                  </a:lnTo>
                  <a:lnTo>
                    <a:pt x="107" y="125"/>
                  </a:lnTo>
                  <a:lnTo>
                    <a:pt x="118" y="77"/>
                  </a:lnTo>
                  <a:lnTo>
                    <a:pt x="136" y="40"/>
                  </a:lnTo>
                  <a:lnTo>
                    <a:pt x="157" y="19"/>
                  </a:lnTo>
                  <a:lnTo>
                    <a:pt x="148" y="0"/>
                  </a:lnTo>
                  <a:lnTo>
                    <a:pt x="119" y="29"/>
                  </a:lnTo>
                  <a:lnTo>
                    <a:pt x="99" y="71"/>
                  </a:lnTo>
                  <a:lnTo>
                    <a:pt x="86" y="121"/>
                  </a:lnTo>
                  <a:lnTo>
                    <a:pt x="75" y="170"/>
                  </a:lnTo>
                  <a:lnTo>
                    <a:pt x="63" y="217"/>
                  </a:lnTo>
                  <a:lnTo>
                    <a:pt x="49" y="254"/>
                  </a:lnTo>
                  <a:lnTo>
                    <a:pt x="34" y="273"/>
                  </a:lnTo>
                  <a:lnTo>
                    <a:pt x="13" y="274"/>
                  </a:lnTo>
                  <a:lnTo>
                    <a:pt x="20" y="279"/>
                  </a:lnTo>
                  <a:lnTo>
                    <a:pt x="13" y="274"/>
                  </a:lnTo>
                  <a:lnTo>
                    <a:pt x="4" y="276"/>
                  </a:lnTo>
                  <a:lnTo>
                    <a:pt x="0" y="282"/>
                  </a:lnTo>
                  <a:lnTo>
                    <a:pt x="1" y="291"/>
                  </a:lnTo>
                  <a:lnTo>
                    <a:pt x="8" y="295"/>
                  </a:lnTo>
                  <a:lnTo>
                    <a:pt x="1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271560" y="2823120"/>
              <a:ext cx="38880" cy="227880"/>
            </a:xfrm>
            <a:custGeom>
              <a:avLst/>
              <a:gdLst/>
              <a:ahLst/>
              <a:rect l="l" t="t" r="r" b="b"/>
              <a:pathLst>
                <a:path w="90" h="527">
                  <a:moveTo>
                    <a:pt x="19" y="5"/>
                  </a:moveTo>
                  <a:lnTo>
                    <a:pt x="0" y="10"/>
                  </a:lnTo>
                  <a:lnTo>
                    <a:pt x="0" y="68"/>
                  </a:lnTo>
                  <a:lnTo>
                    <a:pt x="3" y="133"/>
                  </a:lnTo>
                  <a:lnTo>
                    <a:pt x="6" y="201"/>
                  </a:lnTo>
                  <a:lnTo>
                    <a:pt x="12" y="272"/>
                  </a:lnTo>
                  <a:lnTo>
                    <a:pt x="20" y="343"/>
                  </a:lnTo>
                  <a:lnTo>
                    <a:pt x="33" y="410"/>
                  </a:lnTo>
                  <a:lnTo>
                    <a:pt x="50" y="472"/>
                  </a:lnTo>
                  <a:lnTo>
                    <a:pt x="71" y="527"/>
                  </a:lnTo>
                  <a:lnTo>
                    <a:pt x="90" y="517"/>
                  </a:lnTo>
                  <a:lnTo>
                    <a:pt x="71" y="466"/>
                  </a:lnTo>
                  <a:lnTo>
                    <a:pt x="54" y="405"/>
                  </a:lnTo>
                  <a:lnTo>
                    <a:pt x="42" y="341"/>
                  </a:lnTo>
                  <a:lnTo>
                    <a:pt x="33" y="272"/>
                  </a:lnTo>
                  <a:lnTo>
                    <a:pt x="27" y="201"/>
                  </a:lnTo>
                  <a:lnTo>
                    <a:pt x="24" y="133"/>
                  </a:lnTo>
                  <a:lnTo>
                    <a:pt x="22" y="68"/>
                  </a:lnTo>
                  <a:lnTo>
                    <a:pt x="22" y="10"/>
                  </a:lnTo>
                  <a:lnTo>
                    <a:pt x="3" y="16"/>
                  </a:lnTo>
                  <a:lnTo>
                    <a:pt x="22" y="10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271560" y="2825280"/>
              <a:ext cx="101160" cy="109440"/>
            </a:xfrm>
            <a:custGeom>
              <a:avLst/>
              <a:gdLst/>
              <a:ahLst/>
              <a:rect l="l" t="t" r="r" b="b"/>
              <a:pathLst>
                <a:path w="231" h="252">
                  <a:moveTo>
                    <a:pt x="224" y="252"/>
                  </a:moveTo>
                  <a:lnTo>
                    <a:pt x="226" y="234"/>
                  </a:lnTo>
                  <a:lnTo>
                    <a:pt x="209" y="222"/>
                  </a:lnTo>
                  <a:lnTo>
                    <a:pt x="193" y="208"/>
                  </a:lnTo>
                  <a:lnTo>
                    <a:pt x="176" y="194"/>
                  </a:lnTo>
                  <a:lnTo>
                    <a:pt x="162" y="180"/>
                  </a:lnTo>
                  <a:lnTo>
                    <a:pt x="148" y="169"/>
                  </a:lnTo>
                  <a:lnTo>
                    <a:pt x="134" y="155"/>
                  </a:lnTo>
                  <a:lnTo>
                    <a:pt x="122" y="141"/>
                  </a:lnTo>
                  <a:lnTo>
                    <a:pt x="110" y="127"/>
                  </a:lnTo>
                  <a:lnTo>
                    <a:pt x="99" y="114"/>
                  </a:lnTo>
                  <a:lnTo>
                    <a:pt x="87" y="98"/>
                  </a:lnTo>
                  <a:lnTo>
                    <a:pt x="75" y="83"/>
                  </a:lnTo>
                  <a:lnTo>
                    <a:pt x="63" y="67"/>
                  </a:lnTo>
                  <a:lnTo>
                    <a:pt x="51" y="52"/>
                  </a:lnTo>
                  <a:lnTo>
                    <a:pt x="40" y="35"/>
                  </a:lnTo>
                  <a:lnTo>
                    <a:pt x="28" y="17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1" y="28"/>
                  </a:lnTo>
                  <a:lnTo>
                    <a:pt x="23" y="46"/>
                  </a:lnTo>
                  <a:lnTo>
                    <a:pt x="34" y="63"/>
                  </a:lnTo>
                  <a:lnTo>
                    <a:pt x="47" y="79"/>
                  </a:lnTo>
                  <a:lnTo>
                    <a:pt x="59" y="95"/>
                  </a:lnTo>
                  <a:lnTo>
                    <a:pt x="70" y="111"/>
                  </a:lnTo>
                  <a:lnTo>
                    <a:pt x="82" y="126"/>
                  </a:lnTo>
                  <a:lnTo>
                    <a:pt x="94" y="141"/>
                  </a:lnTo>
                  <a:lnTo>
                    <a:pt x="105" y="155"/>
                  </a:lnTo>
                  <a:lnTo>
                    <a:pt x="120" y="169"/>
                  </a:lnTo>
                  <a:lnTo>
                    <a:pt x="134" y="184"/>
                  </a:lnTo>
                  <a:lnTo>
                    <a:pt x="148" y="197"/>
                  </a:lnTo>
                  <a:lnTo>
                    <a:pt x="162" y="210"/>
                  </a:lnTo>
                  <a:lnTo>
                    <a:pt x="179" y="225"/>
                  </a:lnTo>
                  <a:lnTo>
                    <a:pt x="196" y="237"/>
                  </a:lnTo>
                  <a:lnTo>
                    <a:pt x="214" y="250"/>
                  </a:lnTo>
                  <a:lnTo>
                    <a:pt x="215" y="233"/>
                  </a:lnTo>
                  <a:lnTo>
                    <a:pt x="214" y="250"/>
                  </a:lnTo>
                  <a:lnTo>
                    <a:pt x="222" y="252"/>
                  </a:lnTo>
                  <a:lnTo>
                    <a:pt x="228" y="247"/>
                  </a:lnTo>
                  <a:lnTo>
                    <a:pt x="231" y="242"/>
                  </a:lnTo>
                  <a:lnTo>
                    <a:pt x="226" y="234"/>
                  </a:lnTo>
                  <a:lnTo>
                    <a:pt x="224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348960" y="3893400"/>
              <a:ext cx="154080" cy="320040"/>
            </a:xfrm>
            <a:custGeom>
              <a:avLst/>
              <a:gdLst/>
              <a:ahLst/>
              <a:rect l="l" t="t" r="r" b="b"/>
              <a:pathLst>
                <a:path w="360" h="747">
                  <a:moveTo>
                    <a:pt x="94" y="721"/>
                  </a:moveTo>
                  <a:lnTo>
                    <a:pt x="105" y="727"/>
                  </a:lnTo>
                  <a:lnTo>
                    <a:pt x="115" y="732"/>
                  </a:lnTo>
                  <a:lnTo>
                    <a:pt x="128" y="736"/>
                  </a:lnTo>
                  <a:lnTo>
                    <a:pt x="140" y="742"/>
                  </a:lnTo>
                  <a:lnTo>
                    <a:pt x="153" y="744"/>
                  </a:lnTo>
                  <a:lnTo>
                    <a:pt x="166" y="746"/>
                  </a:lnTo>
                  <a:lnTo>
                    <a:pt x="180" y="747"/>
                  </a:lnTo>
                  <a:lnTo>
                    <a:pt x="193" y="747"/>
                  </a:lnTo>
                  <a:lnTo>
                    <a:pt x="207" y="747"/>
                  </a:lnTo>
                  <a:lnTo>
                    <a:pt x="220" y="746"/>
                  </a:lnTo>
                  <a:lnTo>
                    <a:pt x="231" y="744"/>
                  </a:lnTo>
                  <a:lnTo>
                    <a:pt x="244" y="741"/>
                  </a:lnTo>
                  <a:lnTo>
                    <a:pt x="256" y="736"/>
                  </a:lnTo>
                  <a:lnTo>
                    <a:pt x="266" y="732"/>
                  </a:lnTo>
                  <a:lnTo>
                    <a:pt x="276" y="726"/>
                  </a:lnTo>
                  <a:lnTo>
                    <a:pt x="284" y="721"/>
                  </a:lnTo>
                  <a:lnTo>
                    <a:pt x="360" y="0"/>
                  </a:lnTo>
                  <a:lnTo>
                    <a:pt x="0" y="52"/>
                  </a:lnTo>
                  <a:lnTo>
                    <a:pt x="94" y="721"/>
                  </a:lnTo>
                  <a:close/>
                </a:path>
              </a:pathLst>
            </a:custGeom>
            <a:solidFill>
              <a:srgbClr val="ffb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387480" y="4198680"/>
              <a:ext cx="87840" cy="21240"/>
            </a:xfrm>
            <a:custGeom>
              <a:avLst/>
              <a:gdLst/>
              <a:ahLst/>
              <a:rect l="l" t="t" r="r" b="b"/>
              <a:pathLst>
                <a:path w="207" h="49">
                  <a:moveTo>
                    <a:pt x="186" y="11"/>
                  </a:moveTo>
                  <a:lnTo>
                    <a:pt x="189" y="2"/>
                  </a:lnTo>
                  <a:lnTo>
                    <a:pt x="181" y="6"/>
                  </a:lnTo>
                  <a:lnTo>
                    <a:pt x="173" y="13"/>
                  </a:lnTo>
                  <a:lnTo>
                    <a:pt x="163" y="17"/>
                  </a:lnTo>
                  <a:lnTo>
                    <a:pt x="153" y="20"/>
                  </a:lnTo>
                  <a:lnTo>
                    <a:pt x="141" y="23"/>
                  </a:lnTo>
                  <a:lnTo>
                    <a:pt x="131" y="25"/>
                  </a:lnTo>
                  <a:lnTo>
                    <a:pt x="119" y="26"/>
                  </a:lnTo>
                  <a:lnTo>
                    <a:pt x="105" y="26"/>
                  </a:lnTo>
                  <a:lnTo>
                    <a:pt x="92" y="26"/>
                  </a:lnTo>
                  <a:lnTo>
                    <a:pt x="79" y="25"/>
                  </a:lnTo>
                  <a:lnTo>
                    <a:pt x="66" y="23"/>
                  </a:lnTo>
                  <a:lnTo>
                    <a:pt x="55" y="21"/>
                  </a:lnTo>
                  <a:lnTo>
                    <a:pt x="44" y="17"/>
                  </a:lnTo>
                  <a:lnTo>
                    <a:pt x="30" y="13"/>
                  </a:lnTo>
                  <a:lnTo>
                    <a:pt x="21" y="7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11" y="26"/>
                  </a:lnTo>
                  <a:lnTo>
                    <a:pt x="24" y="32"/>
                  </a:lnTo>
                  <a:lnTo>
                    <a:pt x="37" y="36"/>
                  </a:lnTo>
                  <a:lnTo>
                    <a:pt x="49" y="42"/>
                  </a:lnTo>
                  <a:lnTo>
                    <a:pt x="64" y="44"/>
                  </a:lnTo>
                  <a:lnTo>
                    <a:pt x="77" y="47"/>
                  </a:lnTo>
                  <a:lnTo>
                    <a:pt x="92" y="49"/>
                  </a:lnTo>
                  <a:lnTo>
                    <a:pt x="105" y="49"/>
                  </a:lnTo>
                  <a:lnTo>
                    <a:pt x="119" y="49"/>
                  </a:lnTo>
                  <a:lnTo>
                    <a:pt x="133" y="47"/>
                  </a:lnTo>
                  <a:lnTo>
                    <a:pt x="147" y="44"/>
                  </a:lnTo>
                  <a:lnTo>
                    <a:pt x="158" y="41"/>
                  </a:lnTo>
                  <a:lnTo>
                    <a:pt x="171" y="36"/>
                  </a:lnTo>
                  <a:lnTo>
                    <a:pt x="182" y="32"/>
                  </a:lnTo>
                  <a:lnTo>
                    <a:pt x="193" y="25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4" y="3"/>
                  </a:lnTo>
                  <a:lnTo>
                    <a:pt x="197" y="0"/>
                  </a:lnTo>
                  <a:lnTo>
                    <a:pt x="189" y="2"/>
                  </a:lnTo>
                  <a:lnTo>
                    <a:pt x="18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467400" y="3889080"/>
              <a:ext cx="42840" cy="313560"/>
            </a:xfrm>
            <a:custGeom>
              <a:avLst/>
              <a:gdLst/>
              <a:ahLst/>
              <a:rect l="l" t="t" r="r" b="b"/>
              <a:pathLst>
                <a:path w="97" h="731">
                  <a:moveTo>
                    <a:pt x="87" y="21"/>
                  </a:moveTo>
                  <a:lnTo>
                    <a:pt x="76" y="10"/>
                  </a:lnTo>
                  <a:lnTo>
                    <a:pt x="0" y="731"/>
                  </a:lnTo>
                  <a:lnTo>
                    <a:pt x="21" y="731"/>
                  </a:lnTo>
                  <a:lnTo>
                    <a:pt x="97" y="10"/>
                  </a:lnTo>
                  <a:lnTo>
                    <a:pt x="85" y="0"/>
                  </a:lnTo>
                  <a:lnTo>
                    <a:pt x="97" y="10"/>
                  </a:lnTo>
                  <a:lnTo>
                    <a:pt x="94" y="2"/>
                  </a:lnTo>
                  <a:lnTo>
                    <a:pt x="86" y="0"/>
                  </a:lnTo>
                  <a:lnTo>
                    <a:pt x="79" y="2"/>
                  </a:lnTo>
                  <a:lnTo>
                    <a:pt x="76" y="10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344640" y="3889080"/>
              <a:ext cx="160920" cy="32040"/>
            </a:xfrm>
            <a:custGeom>
              <a:avLst/>
              <a:gdLst/>
              <a:ahLst/>
              <a:rect l="l" t="t" r="r" b="b"/>
              <a:pathLst>
                <a:path w="371" h="74">
                  <a:moveTo>
                    <a:pt x="21" y="61"/>
                  </a:moveTo>
                  <a:lnTo>
                    <a:pt x="11" y="74"/>
                  </a:lnTo>
                  <a:lnTo>
                    <a:pt x="371" y="21"/>
                  </a:lnTo>
                  <a:lnTo>
                    <a:pt x="369" y="0"/>
                  </a:lnTo>
                  <a:lnTo>
                    <a:pt x="9" y="52"/>
                  </a:lnTo>
                  <a:lnTo>
                    <a:pt x="0" y="64"/>
                  </a:lnTo>
                  <a:lnTo>
                    <a:pt x="9" y="52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3" y="71"/>
                  </a:lnTo>
                  <a:lnTo>
                    <a:pt x="11" y="74"/>
                  </a:lnTo>
                  <a:lnTo>
                    <a:pt x="2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344640" y="3915000"/>
              <a:ext cx="49320" cy="292320"/>
            </a:xfrm>
            <a:custGeom>
              <a:avLst/>
              <a:gdLst/>
              <a:ahLst/>
              <a:rect l="l" t="t" r="r" b="b"/>
              <a:pathLst>
                <a:path w="115" h="680">
                  <a:moveTo>
                    <a:pt x="109" y="661"/>
                  </a:moveTo>
                  <a:lnTo>
                    <a:pt x="115" y="669"/>
                  </a:lnTo>
                  <a:lnTo>
                    <a:pt x="21" y="0"/>
                  </a:lnTo>
                  <a:lnTo>
                    <a:pt x="0" y="3"/>
                  </a:lnTo>
                  <a:lnTo>
                    <a:pt x="94" y="671"/>
                  </a:lnTo>
                  <a:lnTo>
                    <a:pt x="98" y="678"/>
                  </a:lnTo>
                  <a:lnTo>
                    <a:pt x="94" y="671"/>
                  </a:lnTo>
                  <a:lnTo>
                    <a:pt x="97" y="678"/>
                  </a:lnTo>
                  <a:lnTo>
                    <a:pt x="105" y="680"/>
                  </a:lnTo>
                  <a:lnTo>
                    <a:pt x="113" y="676"/>
                  </a:lnTo>
                  <a:lnTo>
                    <a:pt x="115" y="669"/>
                  </a:lnTo>
                  <a:lnTo>
                    <a:pt x="109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233040" y="3910680"/>
              <a:ext cx="163080" cy="352800"/>
            </a:xfrm>
            <a:custGeom>
              <a:avLst/>
              <a:gdLst/>
              <a:ahLst/>
              <a:rect l="l" t="t" r="r" b="b"/>
              <a:pathLst>
                <a:path w="379" h="819">
                  <a:moveTo>
                    <a:pt x="0" y="11"/>
                  </a:moveTo>
                  <a:lnTo>
                    <a:pt x="157" y="783"/>
                  </a:lnTo>
                  <a:lnTo>
                    <a:pt x="168" y="790"/>
                  </a:lnTo>
                  <a:lnTo>
                    <a:pt x="178" y="796"/>
                  </a:lnTo>
                  <a:lnTo>
                    <a:pt x="192" y="802"/>
                  </a:lnTo>
                  <a:lnTo>
                    <a:pt x="204" y="806"/>
                  </a:lnTo>
                  <a:lnTo>
                    <a:pt x="218" y="812"/>
                  </a:lnTo>
                  <a:lnTo>
                    <a:pt x="233" y="814"/>
                  </a:lnTo>
                  <a:lnTo>
                    <a:pt x="248" y="816"/>
                  </a:lnTo>
                  <a:lnTo>
                    <a:pt x="264" y="817"/>
                  </a:lnTo>
                  <a:lnTo>
                    <a:pt x="278" y="819"/>
                  </a:lnTo>
                  <a:lnTo>
                    <a:pt x="294" y="819"/>
                  </a:lnTo>
                  <a:lnTo>
                    <a:pt x="309" y="816"/>
                  </a:lnTo>
                  <a:lnTo>
                    <a:pt x="325" y="814"/>
                  </a:lnTo>
                  <a:lnTo>
                    <a:pt x="339" y="811"/>
                  </a:lnTo>
                  <a:lnTo>
                    <a:pt x="353" y="805"/>
                  </a:lnTo>
                  <a:lnTo>
                    <a:pt x="366" y="800"/>
                  </a:lnTo>
                  <a:lnTo>
                    <a:pt x="379" y="793"/>
                  </a:lnTo>
                  <a:lnTo>
                    <a:pt x="36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228720" y="3915000"/>
              <a:ext cx="74880" cy="337680"/>
            </a:xfrm>
            <a:custGeom>
              <a:avLst/>
              <a:gdLst/>
              <a:ahLst/>
              <a:rect l="l" t="t" r="r" b="b"/>
              <a:pathLst>
                <a:path w="179" h="784">
                  <a:moveTo>
                    <a:pt x="174" y="765"/>
                  </a:moveTo>
                  <a:lnTo>
                    <a:pt x="179" y="772"/>
                  </a:lnTo>
                  <a:lnTo>
                    <a:pt x="21" y="0"/>
                  </a:lnTo>
                  <a:lnTo>
                    <a:pt x="0" y="3"/>
                  </a:lnTo>
                  <a:lnTo>
                    <a:pt x="157" y="774"/>
                  </a:lnTo>
                  <a:lnTo>
                    <a:pt x="163" y="782"/>
                  </a:lnTo>
                  <a:lnTo>
                    <a:pt x="157" y="774"/>
                  </a:lnTo>
                  <a:lnTo>
                    <a:pt x="162" y="782"/>
                  </a:lnTo>
                  <a:lnTo>
                    <a:pt x="169" y="784"/>
                  </a:lnTo>
                  <a:lnTo>
                    <a:pt x="176" y="780"/>
                  </a:lnTo>
                  <a:lnTo>
                    <a:pt x="179" y="772"/>
                  </a:lnTo>
                  <a:lnTo>
                    <a:pt x="174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297480" y="4244040"/>
              <a:ext cx="102960" cy="23040"/>
            </a:xfrm>
            <a:custGeom>
              <a:avLst/>
              <a:gdLst/>
              <a:ahLst/>
              <a:rect l="l" t="t" r="r" b="b"/>
              <a:pathLst>
                <a:path w="237" h="55">
                  <a:moveTo>
                    <a:pt x="216" y="18"/>
                  </a:moveTo>
                  <a:lnTo>
                    <a:pt x="220" y="9"/>
                  </a:lnTo>
                  <a:lnTo>
                    <a:pt x="209" y="15"/>
                  </a:lnTo>
                  <a:lnTo>
                    <a:pt x="197" y="21"/>
                  </a:lnTo>
                  <a:lnTo>
                    <a:pt x="184" y="25"/>
                  </a:lnTo>
                  <a:lnTo>
                    <a:pt x="172" y="28"/>
                  </a:lnTo>
                  <a:lnTo>
                    <a:pt x="156" y="30"/>
                  </a:lnTo>
                  <a:lnTo>
                    <a:pt x="142" y="33"/>
                  </a:lnTo>
                  <a:lnTo>
                    <a:pt x="126" y="33"/>
                  </a:lnTo>
                  <a:lnTo>
                    <a:pt x="112" y="31"/>
                  </a:lnTo>
                  <a:lnTo>
                    <a:pt x="97" y="30"/>
                  </a:lnTo>
                  <a:lnTo>
                    <a:pt x="82" y="28"/>
                  </a:lnTo>
                  <a:lnTo>
                    <a:pt x="69" y="26"/>
                  </a:lnTo>
                  <a:lnTo>
                    <a:pt x="55" y="21"/>
                  </a:lnTo>
                  <a:lnTo>
                    <a:pt x="43" y="18"/>
                  </a:lnTo>
                  <a:lnTo>
                    <a:pt x="31" y="11"/>
                  </a:lnTo>
                  <a:lnTo>
                    <a:pt x="22" y="6"/>
                  </a:lnTo>
                  <a:lnTo>
                    <a:pt x="11" y="0"/>
                  </a:lnTo>
                  <a:lnTo>
                    <a:pt x="0" y="17"/>
                  </a:lnTo>
                  <a:lnTo>
                    <a:pt x="10" y="25"/>
                  </a:lnTo>
                  <a:lnTo>
                    <a:pt x="22" y="30"/>
                  </a:lnTo>
                  <a:lnTo>
                    <a:pt x="36" y="37"/>
                  </a:lnTo>
                  <a:lnTo>
                    <a:pt x="50" y="42"/>
                  </a:lnTo>
                  <a:lnTo>
                    <a:pt x="64" y="47"/>
                  </a:lnTo>
                  <a:lnTo>
                    <a:pt x="80" y="49"/>
                  </a:lnTo>
                  <a:lnTo>
                    <a:pt x="95" y="51"/>
                  </a:lnTo>
                  <a:lnTo>
                    <a:pt x="112" y="52"/>
                  </a:lnTo>
                  <a:lnTo>
                    <a:pt x="126" y="55"/>
                  </a:lnTo>
                  <a:lnTo>
                    <a:pt x="142" y="55"/>
                  </a:lnTo>
                  <a:lnTo>
                    <a:pt x="158" y="51"/>
                  </a:lnTo>
                  <a:lnTo>
                    <a:pt x="174" y="49"/>
                  </a:lnTo>
                  <a:lnTo>
                    <a:pt x="189" y="46"/>
                  </a:lnTo>
                  <a:lnTo>
                    <a:pt x="205" y="40"/>
                  </a:lnTo>
                  <a:lnTo>
                    <a:pt x="218" y="34"/>
                  </a:lnTo>
                  <a:lnTo>
                    <a:pt x="233" y="26"/>
                  </a:lnTo>
                  <a:lnTo>
                    <a:pt x="237" y="18"/>
                  </a:lnTo>
                  <a:lnTo>
                    <a:pt x="233" y="26"/>
                  </a:lnTo>
                  <a:lnTo>
                    <a:pt x="237" y="19"/>
                  </a:lnTo>
                  <a:lnTo>
                    <a:pt x="235" y="11"/>
                  </a:lnTo>
                  <a:lnTo>
                    <a:pt x="229" y="8"/>
                  </a:lnTo>
                  <a:lnTo>
                    <a:pt x="220" y="9"/>
                  </a:lnTo>
                  <a:lnTo>
                    <a:pt x="2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383520" y="3906720"/>
              <a:ext cx="16920" cy="345960"/>
            </a:xfrm>
            <a:custGeom>
              <a:avLst/>
              <a:gdLst/>
              <a:ahLst/>
              <a:rect l="l" t="t" r="r" b="b"/>
              <a:pathLst>
                <a:path w="38" h="804">
                  <a:moveTo>
                    <a:pt x="11" y="21"/>
                  </a:moveTo>
                  <a:lnTo>
                    <a:pt x="0" y="11"/>
                  </a:lnTo>
                  <a:lnTo>
                    <a:pt x="17" y="804"/>
                  </a:lnTo>
                  <a:lnTo>
                    <a:pt x="38" y="804"/>
                  </a:lnTo>
                  <a:lnTo>
                    <a:pt x="21" y="11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228720" y="3906720"/>
              <a:ext cx="158400" cy="14400"/>
            </a:xfrm>
            <a:custGeom>
              <a:avLst/>
              <a:gdLst/>
              <a:ahLst/>
              <a:rect l="l" t="t" r="r" b="b"/>
              <a:pathLst>
                <a:path w="373" h="34">
                  <a:moveTo>
                    <a:pt x="21" y="21"/>
                  </a:moveTo>
                  <a:lnTo>
                    <a:pt x="11" y="34"/>
                  </a:lnTo>
                  <a:lnTo>
                    <a:pt x="373" y="21"/>
                  </a:lnTo>
                  <a:lnTo>
                    <a:pt x="373" y="0"/>
                  </a:lnTo>
                  <a:lnTo>
                    <a:pt x="11" y="12"/>
                  </a:lnTo>
                  <a:lnTo>
                    <a:pt x="0" y="24"/>
                  </a:lnTo>
                  <a:lnTo>
                    <a:pt x="11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11" y="34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170760" y="3302280"/>
              <a:ext cx="439920" cy="633960"/>
            </a:xfrm>
            <a:custGeom>
              <a:avLst/>
              <a:gdLst/>
              <a:ahLst/>
              <a:rect l="l" t="t" r="r" b="b"/>
              <a:pathLst>
                <a:path w="1022" h="1476">
                  <a:moveTo>
                    <a:pt x="154" y="0"/>
                  </a:moveTo>
                  <a:lnTo>
                    <a:pt x="185" y="12"/>
                  </a:lnTo>
                  <a:lnTo>
                    <a:pt x="218" y="24"/>
                  </a:lnTo>
                  <a:lnTo>
                    <a:pt x="252" y="33"/>
                  </a:lnTo>
                  <a:lnTo>
                    <a:pt x="289" y="41"/>
                  </a:lnTo>
                  <a:lnTo>
                    <a:pt x="327" y="46"/>
                  </a:lnTo>
                  <a:lnTo>
                    <a:pt x="367" y="50"/>
                  </a:lnTo>
                  <a:lnTo>
                    <a:pt x="407" y="51"/>
                  </a:lnTo>
                  <a:lnTo>
                    <a:pt x="448" y="52"/>
                  </a:lnTo>
                  <a:lnTo>
                    <a:pt x="488" y="50"/>
                  </a:lnTo>
                  <a:lnTo>
                    <a:pt x="529" y="47"/>
                  </a:lnTo>
                  <a:lnTo>
                    <a:pt x="569" y="43"/>
                  </a:lnTo>
                  <a:lnTo>
                    <a:pt x="608" y="37"/>
                  </a:lnTo>
                  <a:lnTo>
                    <a:pt x="646" y="30"/>
                  </a:lnTo>
                  <a:lnTo>
                    <a:pt x="683" y="21"/>
                  </a:lnTo>
                  <a:lnTo>
                    <a:pt x="717" y="11"/>
                  </a:lnTo>
                  <a:lnTo>
                    <a:pt x="751" y="0"/>
                  </a:lnTo>
                  <a:lnTo>
                    <a:pt x="754" y="14"/>
                  </a:lnTo>
                  <a:lnTo>
                    <a:pt x="763" y="60"/>
                  </a:lnTo>
                  <a:lnTo>
                    <a:pt x="775" y="128"/>
                  </a:lnTo>
                  <a:lnTo>
                    <a:pt x="793" y="218"/>
                  </a:lnTo>
                  <a:lnTo>
                    <a:pt x="814" y="325"/>
                  </a:lnTo>
                  <a:lnTo>
                    <a:pt x="836" y="443"/>
                  </a:lnTo>
                  <a:lnTo>
                    <a:pt x="862" y="570"/>
                  </a:lnTo>
                  <a:lnTo>
                    <a:pt x="887" y="700"/>
                  </a:lnTo>
                  <a:lnTo>
                    <a:pt x="911" y="831"/>
                  </a:lnTo>
                  <a:lnTo>
                    <a:pt x="937" y="958"/>
                  </a:lnTo>
                  <a:lnTo>
                    <a:pt x="959" y="1077"/>
                  </a:lnTo>
                  <a:lnTo>
                    <a:pt x="980" y="1182"/>
                  </a:lnTo>
                  <a:lnTo>
                    <a:pt x="998" y="1272"/>
                  </a:lnTo>
                  <a:lnTo>
                    <a:pt x="1011" y="1342"/>
                  </a:lnTo>
                  <a:lnTo>
                    <a:pt x="1019" y="1386"/>
                  </a:lnTo>
                  <a:lnTo>
                    <a:pt x="1022" y="1402"/>
                  </a:lnTo>
                  <a:lnTo>
                    <a:pt x="997" y="1409"/>
                  </a:lnTo>
                  <a:lnTo>
                    <a:pt x="968" y="1416"/>
                  </a:lnTo>
                  <a:lnTo>
                    <a:pt x="940" y="1423"/>
                  </a:lnTo>
                  <a:lnTo>
                    <a:pt x="910" y="1429"/>
                  </a:lnTo>
                  <a:lnTo>
                    <a:pt x="880" y="1436"/>
                  </a:lnTo>
                  <a:lnTo>
                    <a:pt x="848" y="1442"/>
                  </a:lnTo>
                  <a:lnTo>
                    <a:pt x="815" y="1447"/>
                  </a:lnTo>
                  <a:lnTo>
                    <a:pt x="783" y="1453"/>
                  </a:lnTo>
                  <a:lnTo>
                    <a:pt x="748" y="1457"/>
                  </a:lnTo>
                  <a:lnTo>
                    <a:pt x="714" y="1462"/>
                  </a:lnTo>
                  <a:lnTo>
                    <a:pt x="680" y="1465"/>
                  </a:lnTo>
                  <a:lnTo>
                    <a:pt x="644" y="1469"/>
                  </a:lnTo>
                  <a:lnTo>
                    <a:pt x="609" y="1472"/>
                  </a:lnTo>
                  <a:lnTo>
                    <a:pt x="572" y="1474"/>
                  </a:lnTo>
                  <a:lnTo>
                    <a:pt x="538" y="1475"/>
                  </a:lnTo>
                  <a:lnTo>
                    <a:pt x="501" y="1476"/>
                  </a:lnTo>
                  <a:lnTo>
                    <a:pt x="466" y="1476"/>
                  </a:lnTo>
                  <a:lnTo>
                    <a:pt x="430" y="1476"/>
                  </a:lnTo>
                  <a:lnTo>
                    <a:pt x="395" y="1475"/>
                  </a:lnTo>
                  <a:lnTo>
                    <a:pt x="359" y="1473"/>
                  </a:lnTo>
                  <a:lnTo>
                    <a:pt x="325" y="1470"/>
                  </a:lnTo>
                  <a:lnTo>
                    <a:pt x="292" y="1466"/>
                  </a:lnTo>
                  <a:lnTo>
                    <a:pt x="258" y="1462"/>
                  </a:lnTo>
                  <a:lnTo>
                    <a:pt x="225" y="1456"/>
                  </a:lnTo>
                  <a:lnTo>
                    <a:pt x="193" y="1450"/>
                  </a:lnTo>
                  <a:lnTo>
                    <a:pt x="163" y="1443"/>
                  </a:lnTo>
                  <a:lnTo>
                    <a:pt x="132" y="1435"/>
                  </a:lnTo>
                  <a:lnTo>
                    <a:pt x="104" y="1425"/>
                  </a:lnTo>
                  <a:lnTo>
                    <a:pt x="75" y="1415"/>
                  </a:lnTo>
                  <a:lnTo>
                    <a:pt x="49" y="1403"/>
                  </a:lnTo>
                  <a:lnTo>
                    <a:pt x="23" y="1390"/>
                  </a:lnTo>
                  <a:lnTo>
                    <a:pt x="0" y="137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12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235200" y="3298320"/>
              <a:ext cx="264240" cy="32040"/>
            </a:xfrm>
            <a:custGeom>
              <a:avLst/>
              <a:gdLst/>
              <a:ahLst/>
              <a:rect l="l" t="t" r="r" b="b"/>
              <a:pathLst>
                <a:path w="611" h="73">
                  <a:moveTo>
                    <a:pt x="611" y="7"/>
                  </a:moveTo>
                  <a:lnTo>
                    <a:pt x="597" y="0"/>
                  </a:lnTo>
                  <a:lnTo>
                    <a:pt x="565" y="11"/>
                  </a:lnTo>
                  <a:lnTo>
                    <a:pt x="531" y="20"/>
                  </a:lnTo>
                  <a:lnTo>
                    <a:pt x="494" y="30"/>
                  </a:lnTo>
                  <a:lnTo>
                    <a:pt x="456" y="36"/>
                  </a:lnTo>
                  <a:lnTo>
                    <a:pt x="418" y="42"/>
                  </a:lnTo>
                  <a:lnTo>
                    <a:pt x="379" y="47"/>
                  </a:lnTo>
                  <a:lnTo>
                    <a:pt x="338" y="50"/>
                  </a:lnTo>
                  <a:lnTo>
                    <a:pt x="298" y="52"/>
                  </a:lnTo>
                  <a:lnTo>
                    <a:pt x="257" y="51"/>
                  </a:lnTo>
                  <a:lnTo>
                    <a:pt x="217" y="50"/>
                  </a:lnTo>
                  <a:lnTo>
                    <a:pt x="179" y="45"/>
                  </a:lnTo>
                  <a:lnTo>
                    <a:pt x="142" y="40"/>
                  </a:lnTo>
                  <a:lnTo>
                    <a:pt x="105" y="33"/>
                  </a:lnTo>
                  <a:lnTo>
                    <a:pt x="71" y="23"/>
                  </a:lnTo>
                  <a:lnTo>
                    <a:pt x="39" y="13"/>
                  </a:lnTo>
                  <a:lnTo>
                    <a:pt x="10" y="0"/>
                  </a:lnTo>
                  <a:lnTo>
                    <a:pt x="0" y="18"/>
                  </a:lnTo>
                  <a:lnTo>
                    <a:pt x="32" y="32"/>
                  </a:lnTo>
                  <a:lnTo>
                    <a:pt x="66" y="44"/>
                  </a:lnTo>
                  <a:lnTo>
                    <a:pt x="99" y="54"/>
                  </a:lnTo>
                  <a:lnTo>
                    <a:pt x="138" y="61"/>
                  </a:lnTo>
                  <a:lnTo>
                    <a:pt x="176" y="67"/>
                  </a:lnTo>
                  <a:lnTo>
                    <a:pt x="217" y="71"/>
                  </a:lnTo>
                  <a:lnTo>
                    <a:pt x="257" y="72"/>
                  </a:lnTo>
                  <a:lnTo>
                    <a:pt x="298" y="73"/>
                  </a:lnTo>
                  <a:lnTo>
                    <a:pt x="338" y="71"/>
                  </a:lnTo>
                  <a:lnTo>
                    <a:pt x="379" y="68"/>
                  </a:lnTo>
                  <a:lnTo>
                    <a:pt x="420" y="63"/>
                  </a:lnTo>
                  <a:lnTo>
                    <a:pt x="459" y="57"/>
                  </a:lnTo>
                  <a:lnTo>
                    <a:pt x="500" y="51"/>
                  </a:lnTo>
                  <a:lnTo>
                    <a:pt x="535" y="41"/>
                  </a:lnTo>
                  <a:lnTo>
                    <a:pt x="570" y="32"/>
                  </a:lnTo>
                  <a:lnTo>
                    <a:pt x="604" y="18"/>
                  </a:lnTo>
                  <a:lnTo>
                    <a:pt x="590" y="11"/>
                  </a:lnTo>
                  <a:lnTo>
                    <a:pt x="604" y="18"/>
                  </a:lnTo>
                  <a:lnTo>
                    <a:pt x="610" y="13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6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488640" y="3300480"/>
              <a:ext cx="126360" cy="608040"/>
            </a:xfrm>
            <a:custGeom>
              <a:avLst/>
              <a:gdLst/>
              <a:ahLst/>
              <a:rect l="l" t="t" r="r" b="b"/>
              <a:pathLst>
                <a:path w="293" h="1415">
                  <a:moveTo>
                    <a:pt x="284" y="1415"/>
                  </a:moveTo>
                  <a:lnTo>
                    <a:pt x="293" y="1404"/>
                  </a:lnTo>
                  <a:lnTo>
                    <a:pt x="290" y="1388"/>
                  </a:lnTo>
                  <a:lnTo>
                    <a:pt x="281" y="1344"/>
                  </a:lnTo>
                  <a:lnTo>
                    <a:pt x="269" y="1274"/>
                  </a:lnTo>
                  <a:lnTo>
                    <a:pt x="251" y="1184"/>
                  </a:lnTo>
                  <a:lnTo>
                    <a:pt x="230" y="1078"/>
                  </a:lnTo>
                  <a:lnTo>
                    <a:pt x="207" y="960"/>
                  </a:lnTo>
                  <a:lnTo>
                    <a:pt x="182" y="833"/>
                  </a:lnTo>
                  <a:lnTo>
                    <a:pt x="158" y="702"/>
                  </a:lnTo>
                  <a:lnTo>
                    <a:pt x="131" y="572"/>
                  </a:lnTo>
                  <a:lnTo>
                    <a:pt x="107" y="444"/>
                  </a:lnTo>
                  <a:lnTo>
                    <a:pt x="85" y="327"/>
                  </a:lnTo>
                  <a:lnTo>
                    <a:pt x="64" y="220"/>
                  </a:lnTo>
                  <a:lnTo>
                    <a:pt x="46" y="130"/>
                  </a:lnTo>
                  <a:lnTo>
                    <a:pt x="33" y="61"/>
                  </a:lnTo>
                  <a:lnTo>
                    <a:pt x="25" y="16"/>
                  </a:lnTo>
                  <a:lnTo>
                    <a:pt x="21" y="0"/>
                  </a:lnTo>
                  <a:lnTo>
                    <a:pt x="0" y="4"/>
                  </a:lnTo>
                  <a:lnTo>
                    <a:pt x="4" y="18"/>
                  </a:lnTo>
                  <a:lnTo>
                    <a:pt x="12" y="64"/>
                  </a:lnTo>
                  <a:lnTo>
                    <a:pt x="25" y="132"/>
                  </a:lnTo>
                  <a:lnTo>
                    <a:pt x="43" y="222"/>
                  </a:lnTo>
                  <a:lnTo>
                    <a:pt x="64" y="329"/>
                  </a:lnTo>
                  <a:lnTo>
                    <a:pt x="86" y="447"/>
                  </a:lnTo>
                  <a:lnTo>
                    <a:pt x="110" y="574"/>
                  </a:lnTo>
                  <a:lnTo>
                    <a:pt x="137" y="704"/>
                  </a:lnTo>
                  <a:lnTo>
                    <a:pt x="161" y="835"/>
                  </a:lnTo>
                  <a:lnTo>
                    <a:pt x="186" y="962"/>
                  </a:lnTo>
                  <a:lnTo>
                    <a:pt x="208" y="1081"/>
                  </a:lnTo>
                  <a:lnTo>
                    <a:pt x="230" y="1186"/>
                  </a:lnTo>
                  <a:lnTo>
                    <a:pt x="247" y="1276"/>
                  </a:lnTo>
                  <a:lnTo>
                    <a:pt x="260" y="1346"/>
                  </a:lnTo>
                  <a:lnTo>
                    <a:pt x="269" y="1390"/>
                  </a:lnTo>
                  <a:lnTo>
                    <a:pt x="272" y="1406"/>
                  </a:lnTo>
                  <a:lnTo>
                    <a:pt x="280" y="1394"/>
                  </a:lnTo>
                  <a:lnTo>
                    <a:pt x="272" y="1406"/>
                  </a:lnTo>
                  <a:lnTo>
                    <a:pt x="276" y="1413"/>
                  </a:lnTo>
                  <a:lnTo>
                    <a:pt x="283" y="1415"/>
                  </a:lnTo>
                  <a:lnTo>
                    <a:pt x="291" y="1412"/>
                  </a:lnTo>
                  <a:lnTo>
                    <a:pt x="293" y="1404"/>
                  </a:lnTo>
                  <a:lnTo>
                    <a:pt x="284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166440" y="3889080"/>
              <a:ext cx="444240" cy="51480"/>
            </a:xfrm>
            <a:custGeom>
              <a:avLst/>
              <a:gdLst/>
              <a:ahLst/>
              <a:rect l="l" t="t" r="r" b="b"/>
              <a:pathLst>
                <a:path w="1034" h="121">
                  <a:moveTo>
                    <a:pt x="0" y="9"/>
                  </a:moveTo>
                  <a:lnTo>
                    <a:pt x="4" y="20"/>
                  </a:lnTo>
                  <a:lnTo>
                    <a:pt x="29" y="35"/>
                  </a:lnTo>
                  <a:lnTo>
                    <a:pt x="53" y="47"/>
                  </a:lnTo>
                  <a:lnTo>
                    <a:pt x="82" y="59"/>
                  </a:lnTo>
                  <a:lnTo>
                    <a:pt x="110" y="70"/>
                  </a:lnTo>
                  <a:lnTo>
                    <a:pt x="140" y="80"/>
                  </a:lnTo>
                  <a:lnTo>
                    <a:pt x="171" y="89"/>
                  </a:lnTo>
                  <a:lnTo>
                    <a:pt x="202" y="96"/>
                  </a:lnTo>
                  <a:lnTo>
                    <a:pt x="234" y="101"/>
                  </a:lnTo>
                  <a:lnTo>
                    <a:pt x="267" y="108"/>
                  </a:lnTo>
                  <a:lnTo>
                    <a:pt x="299" y="112"/>
                  </a:lnTo>
                  <a:lnTo>
                    <a:pt x="335" y="116"/>
                  </a:lnTo>
                  <a:lnTo>
                    <a:pt x="369" y="118"/>
                  </a:lnTo>
                  <a:lnTo>
                    <a:pt x="405" y="120"/>
                  </a:lnTo>
                  <a:lnTo>
                    <a:pt x="440" y="121"/>
                  </a:lnTo>
                  <a:lnTo>
                    <a:pt x="476" y="121"/>
                  </a:lnTo>
                  <a:lnTo>
                    <a:pt x="511" y="121"/>
                  </a:lnTo>
                  <a:lnTo>
                    <a:pt x="548" y="120"/>
                  </a:lnTo>
                  <a:lnTo>
                    <a:pt x="582" y="119"/>
                  </a:lnTo>
                  <a:lnTo>
                    <a:pt x="619" y="117"/>
                  </a:lnTo>
                  <a:lnTo>
                    <a:pt x="654" y="115"/>
                  </a:lnTo>
                  <a:lnTo>
                    <a:pt x="690" y="111"/>
                  </a:lnTo>
                  <a:lnTo>
                    <a:pt x="725" y="108"/>
                  </a:lnTo>
                  <a:lnTo>
                    <a:pt x="760" y="102"/>
                  </a:lnTo>
                  <a:lnTo>
                    <a:pt x="794" y="98"/>
                  </a:lnTo>
                  <a:lnTo>
                    <a:pt x="826" y="94"/>
                  </a:lnTo>
                  <a:lnTo>
                    <a:pt x="859" y="88"/>
                  </a:lnTo>
                  <a:lnTo>
                    <a:pt x="891" y="81"/>
                  </a:lnTo>
                  <a:lnTo>
                    <a:pt x="924" y="75"/>
                  </a:lnTo>
                  <a:lnTo>
                    <a:pt x="952" y="69"/>
                  </a:lnTo>
                  <a:lnTo>
                    <a:pt x="981" y="61"/>
                  </a:lnTo>
                  <a:lnTo>
                    <a:pt x="1009" y="55"/>
                  </a:lnTo>
                  <a:lnTo>
                    <a:pt x="1034" y="47"/>
                  </a:lnTo>
                  <a:lnTo>
                    <a:pt x="1030" y="26"/>
                  </a:lnTo>
                  <a:lnTo>
                    <a:pt x="1005" y="34"/>
                  </a:lnTo>
                  <a:lnTo>
                    <a:pt x="976" y="40"/>
                  </a:lnTo>
                  <a:lnTo>
                    <a:pt x="948" y="47"/>
                  </a:lnTo>
                  <a:lnTo>
                    <a:pt x="918" y="54"/>
                  </a:lnTo>
                  <a:lnTo>
                    <a:pt x="889" y="60"/>
                  </a:lnTo>
                  <a:lnTo>
                    <a:pt x="857" y="66"/>
                  </a:lnTo>
                  <a:lnTo>
                    <a:pt x="824" y="72"/>
                  </a:lnTo>
                  <a:lnTo>
                    <a:pt x="792" y="77"/>
                  </a:lnTo>
                  <a:lnTo>
                    <a:pt x="757" y="81"/>
                  </a:lnTo>
                  <a:lnTo>
                    <a:pt x="723" y="86"/>
                  </a:lnTo>
                  <a:lnTo>
                    <a:pt x="690" y="90"/>
                  </a:lnTo>
                  <a:lnTo>
                    <a:pt x="654" y="94"/>
                  </a:lnTo>
                  <a:lnTo>
                    <a:pt x="619" y="96"/>
                  </a:lnTo>
                  <a:lnTo>
                    <a:pt x="582" y="98"/>
                  </a:lnTo>
                  <a:lnTo>
                    <a:pt x="548" y="99"/>
                  </a:lnTo>
                  <a:lnTo>
                    <a:pt x="511" y="100"/>
                  </a:lnTo>
                  <a:lnTo>
                    <a:pt x="476" y="100"/>
                  </a:lnTo>
                  <a:lnTo>
                    <a:pt x="440" y="100"/>
                  </a:lnTo>
                  <a:lnTo>
                    <a:pt x="405" y="99"/>
                  </a:lnTo>
                  <a:lnTo>
                    <a:pt x="369" y="97"/>
                  </a:lnTo>
                  <a:lnTo>
                    <a:pt x="335" y="95"/>
                  </a:lnTo>
                  <a:lnTo>
                    <a:pt x="303" y="91"/>
                  </a:lnTo>
                  <a:lnTo>
                    <a:pt x="269" y="86"/>
                  </a:lnTo>
                  <a:lnTo>
                    <a:pt x="236" y="80"/>
                  </a:lnTo>
                  <a:lnTo>
                    <a:pt x="204" y="75"/>
                  </a:lnTo>
                  <a:lnTo>
                    <a:pt x="175" y="67"/>
                  </a:lnTo>
                  <a:lnTo>
                    <a:pt x="144" y="59"/>
                  </a:lnTo>
                  <a:lnTo>
                    <a:pt x="118" y="51"/>
                  </a:lnTo>
                  <a:lnTo>
                    <a:pt x="89" y="40"/>
                  </a:lnTo>
                  <a:lnTo>
                    <a:pt x="63" y="28"/>
                  </a:lnTo>
                  <a:lnTo>
                    <a:pt x="39" y="16"/>
                  </a:lnTo>
                  <a:lnTo>
                    <a:pt x="16" y="1"/>
                  </a:lnTo>
                  <a:lnTo>
                    <a:pt x="21" y="12"/>
                  </a:lnTo>
                  <a:lnTo>
                    <a:pt x="16" y="1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14"/>
                  </a:lnTo>
                  <a:lnTo>
                    <a:pt x="4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166440" y="3298320"/>
              <a:ext cx="75240" cy="594720"/>
            </a:xfrm>
            <a:custGeom>
              <a:avLst/>
              <a:gdLst/>
              <a:ahLst/>
              <a:rect l="l" t="t" r="r" b="b"/>
              <a:pathLst>
                <a:path w="175" h="1389">
                  <a:moveTo>
                    <a:pt x="170" y="2"/>
                  </a:moveTo>
                  <a:lnTo>
                    <a:pt x="154" y="9"/>
                  </a:lnTo>
                  <a:lnTo>
                    <a:pt x="0" y="1386"/>
                  </a:lnTo>
                  <a:lnTo>
                    <a:pt x="21" y="1389"/>
                  </a:lnTo>
                  <a:lnTo>
                    <a:pt x="175" y="13"/>
                  </a:lnTo>
                  <a:lnTo>
                    <a:pt x="160" y="20"/>
                  </a:lnTo>
                  <a:lnTo>
                    <a:pt x="175" y="13"/>
                  </a:lnTo>
                  <a:lnTo>
                    <a:pt x="173" y="4"/>
                  </a:lnTo>
                  <a:lnTo>
                    <a:pt x="165" y="0"/>
                  </a:lnTo>
                  <a:lnTo>
                    <a:pt x="157" y="3"/>
                  </a:lnTo>
                  <a:lnTo>
                    <a:pt x="154" y="9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404760" y="2850840"/>
              <a:ext cx="308880" cy="1287360"/>
            </a:xfrm>
            <a:custGeom>
              <a:avLst/>
              <a:gdLst/>
              <a:ahLst/>
              <a:rect l="l" t="t" r="r" b="b"/>
              <a:pathLst>
                <a:path w="720" h="2994">
                  <a:moveTo>
                    <a:pt x="0" y="74"/>
                  </a:moveTo>
                  <a:lnTo>
                    <a:pt x="6" y="220"/>
                  </a:lnTo>
                  <a:lnTo>
                    <a:pt x="14" y="365"/>
                  </a:lnTo>
                  <a:lnTo>
                    <a:pt x="19" y="511"/>
                  </a:lnTo>
                  <a:lnTo>
                    <a:pt x="26" y="658"/>
                  </a:lnTo>
                  <a:lnTo>
                    <a:pt x="32" y="804"/>
                  </a:lnTo>
                  <a:lnTo>
                    <a:pt x="38" y="949"/>
                  </a:lnTo>
                  <a:lnTo>
                    <a:pt x="45" y="1095"/>
                  </a:lnTo>
                  <a:lnTo>
                    <a:pt x="51" y="1242"/>
                  </a:lnTo>
                  <a:lnTo>
                    <a:pt x="57" y="1560"/>
                  </a:lnTo>
                  <a:lnTo>
                    <a:pt x="56" y="2118"/>
                  </a:lnTo>
                  <a:lnTo>
                    <a:pt x="54" y="2666"/>
                  </a:lnTo>
                  <a:lnTo>
                    <a:pt x="51" y="2957"/>
                  </a:lnTo>
                  <a:lnTo>
                    <a:pt x="56" y="2976"/>
                  </a:lnTo>
                  <a:lnTo>
                    <a:pt x="67" y="2986"/>
                  </a:lnTo>
                  <a:lnTo>
                    <a:pt x="88" y="2993"/>
                  </a:lnTo>
                  <a:lnTo>
                    <a:pt x="113" y="2994"/>
                  </a:lnTo>
                  <a:lnTo>
                    <a:pt x="144" y="2988"/>
                  </a:lnTo>
                  <a:lnTo>
                    <a:pt x="179" y="2980"/>
                  </a:lnTo>
                  <a:lnTo>
                    <a:pt x="218" y="2968"/>
                  </a:lnTo>
                  <a:lnTo>
                    <a:pt x="259" y="2953"/>
                  </a:lnTo>
                  <a:lnTo>
                    <a:pt x="300" y="2937"/>
                  </a:lnTo>
                  <a:lnTo>
                    <a:pt x="342" y="2919"/>
                  </a:lnTo>
                  <a:lnTo>
                    <a:pt x="383" y="2899"/>
                  </a:lnTo>
                  <a:lnTo>
                    <a:pt x="423" y="2881"/>
                  </a:lnTo>
                  <a:lnTo>
                    <a:pt x="459" y="2862"/>
                  </a:lnTo>
                  <a:lnTo>
                    <a:pt x="493" y="2844"/>
                  </a:lnTo>
                  <a:lnTo>
                    <a:pt x="521" y="2828"/>
                  </a:lnTo>
                  <a:lnTo>
                    <a:pt x="544" y="2814"/>
                  </a:lnTo>
                  <a:lnTo>
                    <a:pt x="544" y="2753"/>
                  </a:lnTo>
                  <a:lnTo>
                    <a:pt x="542" y="2663"/>
                  </a:lnTo>
                  <a:lnTo>
                    <a:pt x="540" y="2554"/>
                  </a:lnTo>
                  <a:lnTo>
                    <a:pt x="536" y="2435"/>
                  </a:lnTo>
                  <a:lnTo>
                    <a:pt x="530" y="2315"/>
                  </a:lnTo>
                  <a:lnTo>
                    <a:pt x="525" y="2206"/>
                  </a:lnTo>
                  <a:lnTo>
                    <a:pt x="515" y="2112"/>
                  </a:lnTo>
                  <a:lnTo>
                    <a:pt x="505" y="2047"/>
                  </a:lnTo>
                  <a:lnTo>
                    <a:pt x="487" y="1963"/>
                  </a:lnTo>
                  <a:lnTo>
                    <a:pt x="473" y="1872"/>
                  </a:lnTo>
                  <a:lnTo>
                    <a:pt x="460" y="1777"/>
                  </a:lnTo>
                  <a:lnTo>
                    <a:pt x="450" y="1679"/>
                  </a:lnTo>
                  <a:lnTo>
                    <a:pt x="439" y="1582"/>
                  </a:lnTo>
                  <a:lnTo>
                    <a:pt x="428" y="1486"/>
                  </a:lnTo>
                  <a:lnTo>
                    <a:pt x="414" y="1395"/>
                  </a:lnTo>
                  <a:lnTo>
                    <a:pt x="396" y="1311"/>
                  </a:lnTo>
                  <a:lnTo>
                    <a:pt x="419" y="1307"/>
                  </a:lnTo>
                  <a:lnTo>
                    <a:pt x="444" y="1304"/>
                  </a:lnTo>
                  <a:lnTo>
                    <a:pt x="468" y="1301"/>
                  </a:lnTo>
                  <a:lnTo>
                    <a:pt x="491" y="1297"/>
                  </a:lnTo>
                  <a:lnTo>
                    <a:pt x="514" y="1295"/>
                  </a:lnTo>
                  <a:lnTo>
                    <a:pt x="536" y="1292"/>
                  </a:lnTo>
                  <a:lnTo>
                    <a:pt x="559" y="1288"/>
                  </a:lnTo>
                  <a:lnTo>
                    <a:pt x="580" y="1286"/>
                  </a:lnTo>
                  <a:lnTo>
                    <a:pt x="601" y="1283"/>
                  </a:lnTo>
                  <a:lnTo>
                    <a:pt x="620" y="1281"/>
                  </a:lnTo>
                  <a:lnTo>
                    <a:pt x="639" y="1277"/>
                  </a:lnTo>
                  <a:lnTo>
                    <a:pt x="657" y="1273"/>
                  </a:lnTo>
                  <a:lnTo>
                    <a:pt x="672" y="1270"/>
                  </a:lnTo>
                  <a:lnTo>
                    <a:pt x="687" y="1265"/>
                  </a:lnTo>
                  <a:lnTo>
                    <a:pt x="700" y="1261"/>
                  </a:lnTo>
                  <a:lnTo>
                    <a:pt x="712" y="1256"/>
                  </a:lnTo>
                  <a:lnTo>
                    <a:pt x="720" y="1237"/>
                  </a:lnTo>
                  <a:lnTo>
                    <a:pt x="715" y="1195"/>
                  </a:lnTo>
                  <a:lnTo>
                    <a:pt x="701" y="1139"/>
                  </a:lnTo>
                  <a:lnTo>
                    <a:pt x="680" y="1072"/>
                  </a:lnTo>
                  <a:lnTo>
                    <a:pt x="656" y="1002"/>
                  </a:lnTo>
                  <a:lnTo>
                    <a:pt x="631" y="935"/>
                  </a:lnTo>
                  <a:lnTo>
                    <a:pt x="610" y="880"/>
                  </a:lnTo>
                  <a:lnTo>
                    <a:pt x="595" y="839"/>
                  </a:lnTo>
                  <a:lnTo>
                    <a:pt x="572" y="778"/>
                  </a:lnTo>
                  <a:lnTo>
                    <a:pt x="550" y="719"/>
                  </a:lnTo>
                  <a:lnTo>
                    <a:pt x="529" y="664"/>
                  </a:lnTo>
                  <a:lnTo>
                    <a:pt x="508" y="611"/>
                  </a:lnTo>
                  <a:lnTo>
                    <a:pt x="486" y="562"/>
                  </a:lnTo>
                  <a:lnTo>
                    <a:pt x="465" y="513"/>
                  </a:lnTo>
                  <a:lnTo>
                    <a:pt x="442" y="467"/>
                  </a:lnTo>
                  <a:lnTo>
                    <a:pt x="419" y="421"/>
                  </a:lnTo>
                  <a:lnTo>
                    <a:pt x="395" y="377"/>
                  </a:lnTo>
                  <a:lnTo>
                    <a:pt x="368" y="334"/>
                  </a:lnTo>
                  <a:lnTo>
                    <a:pt x="341" y="289"/>
                  </a:lnTo>
                  <a:lnTo>
                    <a:pt x="311" y="245"/>
                  </a:lnTo>
                  <a:lnTo>
                    <a:pt x="280" y="201"/>
                  </a:lnTo>
                  <a:lnTo>
                    <a:pt x="244" y="155"/>
                  </a:lnTo>
                  <a:lnTo>
                    <a:pt x="207" y="108"/>
                  </a:lnTo>
                  <a:lnTo>
                    <a:pt x="165" y="59"/>
                  </a:lnTo>
                  <a:lnTo>
                    <a:pt x="156" y="50"/>
                  </a:lnTo>
                  <a:lnTo>
                    <a:pt x="144" y="40"/>
                  </a:lnTo>
                  <a:lnTo>
                    <a:pt x="131" y="34"/>
                  </a:lnTo>
                  <a:lnTo>
                    <a:pt x="118" y="26"/>
                  </a:lnTo>
                  <a:lnTo>
                    <a:pt x="103" y="19"/>
                  </a:lnTo>
                  <a:lnTo>
                    <a:pt x="90" y="14"/>
                  </a:lnTo>
                  <a:lnTo>
                    <a:pt x="76" y="6"/>
                  </a:lnTo>
                  <a:lnTo>
                    <a:pt x="61" y="0"/>
                  </a:lnTo>
                  <a:lnTo>
                    <a:pt x="51" y="5"/>
                  </a:lnTo>
                  <a:lnTo>
                    <a:pt x="40" y="13"/>
                  </a:lnTo>
                  <a:lnTo>
                    <a:pt x="29" y="20"/>
                  </a:lnTo>
                  <a:lnTo>
                    <a:pt x="21" y="30"/>
                  </a:lnTo>
                  <a:lnTo>
                    <a:pt x="15" y="39"/>
                  </a:lnTo>
                  <a:lnTo>
                    <a:pt x="8" y="50"/>
                  </a:lnTo>
                  <a:lnTo>
                    <a:pt x="4" y="6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400440" y="2883600"/>
              <a:ext cx="29880" cy="502200"/>
            </a:xfrm>
            <a:custGeom>
              <a:avLst/>
              <a:gdLst/>
              <a:ahLst/>
              <a:rect l="l" t="t" r="r" b="b"/>
              <a:pathLst>
                <a:path w="72" h="1168">
                  <a:moveTo>
                    <a:pt x="72" y="1168"/>
                  </a:moveTo>
                  <a:lnTo>
                    <a:pt x="72" y="1168"/>
                  </a:lnTo>
                  <a:lnTo>
                    <a:pt x="67" y="1021"/>
                  </a:lnTo>
                  <a:lnTo>
                    <a:pt x="59" y="875"/>
                  </a:lnTo>
                  <a:lnTo>
                    <a:pt x="53" y="730"/>
                  </a:lnTo>
                  <a:lnTo>
                    <a:pt x="48" y="584"/>
                  </a:lnTo>
                  <a:lnTo>
                    <a:pt x="40" y="437"/>
                  </a:lnTo>
                  <a:lnTo>
                    <a:pt x="35" y="291"/>
                  </a:lnTo>
                  <a:lnTo>
                    <a:pt x="28" y="14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7" y="146"/>
                  </a:lnTo>
                  <a:lnTo>
                    <a:pt x="14" y="291"/>
                  </a:lnTo>
                  <a:lnTo>
                    <a:pt x="19" y="437"/>
                  </a:lnTo>
                  <a:lnTo>
                    <a:pt x="27" y="584"/>
                  </a:lnTo>
                  <a:lnTo>
                    <a:pt x="32" y="730"/>
                  </a:lnTo>
                  <a:lnTo>
                    <a:pt x="38" y="875"/>
                  </a:lnTo>
                  <a:lnTo>
                    <a:pt x="46" y="1021"/>
                  </a:lnTo>
                  <a:lnTo>
                    <a:pt x="51" y="1168"/>
                  </a:lnTo>
                  <a:lnTo>
                    <a:pt x="51" y="1168"/>
                  </a:lnTo>
                  <a:lnTo>
                    <a:pt x="72" y="1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422040" y="3386160"/>
              <a:ext cx="10440" cy="741600"/>
            </a:xfrm>
            <a:custGeom>
              <a:avLst/>
              <a:gdLst/>
              <a:ahLst/>
              <a:rect l="l" t="t" r="r" b="b"/>
              <a:pathLst>
                <a:path w="27" h="1725">
                  <a:moveTo>
                    <a:pt x="21" y="1715"/>
                  </a:moveTo>
                  <a:lnTo>
                    <a:pt x="21" y="1715"/>
                  </a:lnTo>
                  <a:lnTo>
                    <a:pt x="23" y="1424"/>
                  </a:lnTo>
                  <a:lnTo>
                    <a:pt x="26" y="876"/>
                  </a:lnTo>
                  <a:lnTo>
                    <a:pt x="27" y="318"/>
                  </a:lnTo>
                  <a:lnTo>
                    <a:pt x="21" y="0"/>
                  </a:lnTo>
                  <a:lnTo>
                    <a:pt x="0" y="0"/>
                  </a:lnTo>
                  <a:lnTo>
                    <a:pt x="6" y="318"/>
                  </a:lnTo>
                  <a:lnTo>
                    <a:pt x="5" y="876"/>
                  </a:lnTo>
                  <a:lnTo>
                    <a:pt x="2" y="1424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4" y="1723"/>
                  </a:lnTo>
                  <a:lnTo>
                    <a:pt x="11" y="1725"/>
                  </a:lnTo>
                  <a:lnTo>
                    <a:pt x="18" y="1723"/>
                  </a:lnTo>
                  <a:lnTo>
                    <a:pt x="21" y="1715"/>
                  </a:lnTo>
                  <a:lnTo>
                    <a:pt x="21" y="17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422040" y="4056840"/>
              <a:ext cx="220680" cy="86040"/>
            </a:xfrm>
            <a:custGeom>
              <a:avLst/>
              <a:gdLst/>
              <a:ahLst/>
              <a:rect l="l" t="t" r="r" b="b"/>
              <a:pathLst>
                <a:path w="514" h="200">
                  <a:moveTo>
                    <a:pt x="492" y="10"/>
                  </a:moveTo>
                  <a:lnTo>
                    <a:pt x="497" y="1"/>
                  </a:lnTo>
                  <a:lnTo>
                    <a:pt x="476" y="14"/>
                  </a:lnTo>
                  <a:lnTo>
                    <a:pt x="448" y="30"/>
                  </a:lnTo>
                  <a:lnTo>
                    <a:pt x="415" y="48"/>
                  </a:lnTo>
                  <a:lnTo>
                    <a:pt x="378" y="67"/>
                  </a:lnTo>
                  <a:lnTo>
                    <a:pt x="338" y="85"/>
                  </a:lnTo>
                  <a:lnTo>
                    <a:pt x="298" y="105"/>
                  </a:lnTo>
                  <a:lnTo>
                    <a:pt x="256" y="123"/>
                  </a:lnTo>
                  <a:lnTo>
                    <a:pt x="214" y="140"/>
                  </a:lnTo>
                  <a:lnTo>
                    <a:pt x="174" y="154"/>
                  </a:lnTo>
                  <a:lnTo>
                    <a:pt x="137" y="165"/>
                  </a:lnTo>
                  <a:lnTo>
                    <a:pt x="102" y="174"/>
                  </a:lnTo>
                  <a:lnTo>
                    <a:pt x="73" y="179"/>
                  </a:lnTo>
                  <a:lnTo>
                    <a:pt x="49" y="178"/>
                  </a:lnTo>
                  <a:lnTo>
                    <a:pt x="32" y="173"/>
                  </a:lnTo>
                  <a:lnTo>
                    <a:pt x="25" y="167"/>
                  </a:lnTo>
                  <a:lnTo>
                    <a:pt x="21" y="153"/>
                  </a:lnTo>
                  <a:lnTo>
                    <a:pt x="0" y="153"/>
                  </a:lnTo>
                  <a:lnTo>
                    <a:pt x="6" y="176"/>
                  </a:lnTo>
                  <a:lnTo>
                    <a:pt x="22" y="192"/>
                  </a:lnTo>
                  <a:lnTo>
                    <a:pt x="46" y="199"/>
                  </a:lnTo>
                  <a:lnTo>
                    <a:pt x="73" y="200"/>
                  </a:lnTo>
                  <a:lnTo>
                    <a:pt x="106" y="195"/>
                  </a:lnTo>
                  <a:lnTo>
                    <a:pt x="142" y="186"/>
                  </a:lnTo>
                  <a:lnTo>
                    <a:pt x="182" y="175"/>
                  </a:lnTo>
                  <a:lnTo>
                    <a:pt x="222" y="159"/>
                  </a:lnTo>
                  <a:lnTo>
                    <a:pt x="263" y="142"/>
                  </a:lnTo>
                  <a:lnTo>
                    <a:pt x="305" y="124"/>
                  </a:lnTo>
                  <a:lnTo>
                    <a:pt x="347" y="104"/>
                  </a:lnTo>
                  <a:lnTo>
                    <a:pt x="388" y="85"/>
                  </a:lnTo>
                  <a:lnTo>
                    <a:pt x="425" y="67"/>
                  </a:lnTo>
                  <a:lnTo>
                    <a:pt x="457" y="49"/>
                  </a:lnTo>
                  <a:lnTo>
                    <a:pt x="486" y="33"/>
                  </a:lnTo>
                  <a:lnTo>
                    <a:pt x="509" y="20"/>
                  </a:lnTo>
                  <a:lnTo>
                    <a:pt x="514" y="10"/>
                  </a:lnTo>
                  <a:lnTo>
                    <a:pt x="509" y="20"/>
                  </a:lnTo>
                  <a:lnTo>
                    <a:pt x="514" y="12"/>
                  </a:lnTo>
                  <a:lnTo>
                    <a:pt x="512" y="4"/>
                  </a:lnTo>
                  <a:lnTo>
                    <a:pt x="506" y="0"/>
                  </a:lnTo>
                  <a:lnTo>
                    <a:pt x="497" y="1"/>
                  </a:lnTo>
                  <a:lnTo>
                    <a:pt x="4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617160" y="3730320"/>
              <a:ext cx="25560" cy="330840"/>
            </a:xfrm>
            <a:custGeom>
              <a:avLst/>
              <a:gdLst/>
              <a:ahLst/>
              <a:rect l="l" t="t" r="r" b="b"/>
              <a:pathLst>
                <a:path w="60" h="769">
                  <a:moveTo>
                    <a:pt x="0" y="5"/>
                  </a:moveTo>
                  <a:lnTo>
                    <a:pt x="0" y="5"/>
                  </a:lnTo>
                  <a:lnTo>
                    <a:pt x="11" y="68"/>
                  </a:lnTo>
                  <a:lnTo>
                    <a:pt x="20" y="161"/>
                  </a:lnTo>
                  <a:lnTo>
                    <a:pt x="25" y="270"/>
                  </a:lnTo>
                  <a:lnTo>
                    <a:pt x="32" y="390"/>
                  </a:lnTo>
                  <a:lnTo>
                    <a:pt x="35" y="509"/>
                  </a:lnTo>
                  <a:lnTo>
                    <a:pt x="37" y="618"/>
                  </a:lnTo>
                  <a:lnTo>
                    <a:pt x="38" y="708"/>
                  </a:lnTo>
                  <a:lnTo>
                    <a:pt x="38" y="769"/>
                  </a:lnTo>
                  <a:lnTo>
                    <a:pt x="60" y="769"/>
                  </a:lnTo>
                  <a:lnTo>
                    <a:pt x="60" y="708"/>
                  </a:lnTo>
                  <a:lnTo>
                    <a:pt x="58" y="618"/>
                  </a:lnTo>
                  <a:lnTo>
                    <a:pt x="56" y="509"/>
                  </a:lnTo>
                  <a:lnTo>
                    <a:pt x="53" y="390"/>
                  </a:lnTo>
                  <a:lnTo>
                    <a:pt x="47" y="270"/>
                  </a:lnTo>
                  <a:lnTo>
                    <a:pt x="41" y="161"/>
                  </a:lnTo>
                  <a:lnTo>
                    <a:pt x="32" y="66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570000" y="3409920"/>
              <a:ext cx="55800" cy="321840"/>
            </a:xfrm>
            <a:custGeom>
              <a:avLst/>
              <a:gdLst/>
              <a:ahLst/>
              <a:rect l="l" t="t" r="r" b="b"/>
              <a:pathLst>
                <a:path w="130" h="749">
                  <a:moveTo>
                    <a:pt x="10" y="0"/>
                  </a:moveTo>
                  <a:lnTo>
                    <a:pt x="0" y="13"/>
                  </a:lnTo>
                  <a:lnTo>
                    <a:pt x="18" y="95"/>
                  </a:lnTo>
                  <a:lnTo>
                    <a:pt x="32" y="186"/>
                  </a:lnTo>
                  <a:lnTo>
                    <a:pt x="44" y="282"/>
                  </a:lnTo>
                  <a:lnTo>
                    <a:pt x="54" y="379"/>
                  </a:lnTo>
                  <a:lnTo>
                    <a:pt x="65" y="477"/>
                  </a:lnTo>
                  <a:lnTo>
                    <a:pt x="77" y="573"/>
                  </a:lnTo>
                  <a:lnTo>
                    <a:pt x="91" y="664"/>
                  </a:lnTo>
                  <a:lnTo>
                    <a:pt x="109" y="749"/>
                  </a:lnTo>
                  <a:lnTo>
                    <a:pt x="130" y="744"/>
                  </a:lnTo>
                  <a:lnTo>
                    <a:pt x="112" y="661"/>
                  </a:lnTo>
                  <a:lnTo>
                    <a:pt x="99" y="570"/>
                  </a:lnTo>
                  <a:lnTo>
                    <a:pt x="87" y="475"/>
                  </a:lnTo>
                  <a:lnTo>
                    <a:pt x="75" y="377"/>
                  </a:lnTo>
                  <a:lnTo>
                    <a:pt x="65" y="279"/>
                  </a:lnTo>
                  <a:lnTo>
                    <a:pt x="53" y="184"/>
                  </a:lnTo>
                  <a:lnTo>
                    <a:pt x="39" y="93"/>
                  </a:lnTo>
                  <a:lnTo>
                    <a:pt x="21" y="7"/>
                  </a:lnTo>
                  <a:lnTo>
                    <a:pt x="12" y="21"/>
                  </a:lnTo>
                  <a:lnTo>
                    <a:pt x="21" y="7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574320" y="3386160"/>
              <a:ext cx="139680" cy="34560"/>
            </a:xfrm>
            <a:custGeom>
              <a:avLst/>
              <a:gdLst/>
              <a:ahLst/>
              <a:rect l="l" t="t" r="r" b="b"/>
              <a:pathLst>
                <a:path w="326" h="77">
                  <a:moveTo>
                    <a:pt x="315" y="0"/>
                  </a:moveTo>
                  <a:lnTo>
                    <a:pt x="312" y="1"/>
                  </a:lnTo>
                  <a:lnTo>
                    <a:pt x="302" y="6"/>
                  </a:lnTo>
                  <a:lnTo>
                    <a:pt x="289" y="9"/>
                  </a:lnTo>
                  <a:lnTo>
                    <a:pt x="274" y="15"/>
                  </a:lnTo>
                  <a:lnTo>
                    <a:pt x="261" y="18"/>
                  </a:lnTo>
                  <a:lnTo>
                    <a:pt x="243" y="21"/>
                  </a:lnTo>
                  <a:lnTo>
                    <a:pt x="224" y="25"/>
                  </a:lnTo>
                  <a:lnTo>
                    <a:pt x="205" y="27"/>
                  </a:lnTo>
                  <a:lnTo>
                    <a:pt x="184" y="31"/>
                  </a:lnTo>
                  <a:lnTo>
                    <a:pt x="162" y="33"/>
                  </a:lnTo>
                  <a:lnTo>
                    <a:pt x="140" y="37"/>
                  </a:lnTo>
                  <a:lnTo>
                    <a:pt x="119" y="39"/>
                  </a:lnTo>
                  <a:lnTo>
                    <a:pt x="95" y="41"/>
                  </a:lnTo>
                  <a:lnTo>
                    <a:pt x="72" y="45"/>
                  </a:lnTo>
                  <a:lnTo>
                    <a:pt x="48" y="49"/>
                  </a:lnTo>
                  <a:lnTo>
                    <a:pt x="23" y="52"/>
                  </a:lnTo>
                  <a:lnTo>
                    <a:pt x="0" y="56"/>
                  </a:lnTo>
                  <a:lnTo>
                    <a:pt x="2" y="77"/>
                  </a:lnTo>
                  <a:lnTo>
                    <a:pt x="26" y="73"/>
                  </a:lnTo>
                  <a:lnTo>
                    <a:pt x="51" y="70"/>
                  </a:lnTo>
                  <a:lnTo>
                    <a:pt x="74" y="66"/>
                  </a:lnTo>
                  <a:lnTo>
                    <a:pt x="98" y="62"/>
                  </a:lnTo>
                  <a:lnTo>
                    <a:pt x="119" y="60"/>
                  </a:lnTo>
                  <a:lnTo>
                    <a:pt x="142" y="58"/>
                  </a:lnTo>
                  <a:lnTo>
                    <a:pt x="165" y="55"/>
                  </a:lnTo>
                  <a:lnTo>
                    <a:pt x="186" y="52"/>
                  </a:lnTo>
                  <a:lnTo>
                    <a:pt x="207" y="49"/>
                  </a:lnTo>
                  <a:lnTo>
                    <a:pt x="226" y="46"/>
                  </a:lnTo>
                  <a:lnTo>
                    <a:pt x="245" y="42"/>
                  </a:lnTo>
                  <a:lnTo>
                    <a:pt x="263" y="39"/>
                  </a:lnTo>
                  <a:lnTo>
                    <a:pt x="279" y="36"/>
                  </a:lnTo>
                  <a:lnTo>
                    <a:pt x="294" y="31"/>
                  </a:lnTo>
                  <a:lnTo>
                    <a:pt x="308" y="25"/>
                  </a:lnTo>
                  <a:lnTo>
                    <a:pt x="322" y="20"/>
                  </a:lnTo>
                  <a:lnTo>
                    <a:pt x="319" y="21"/>
                  </a:lnTo>
                  <a:lnTo>
                    <a:pt x="322" y="20"/>
                  </a:lnTo>
                  <a:lnTo>
                    <a:pt x="326" y="15"/>
                  </a:lnTo>
                  <a:lnTo>
                    <a:pt x="326" y="6"/>
                  </a:lnTo>
                  <a:lnTo>
                    <a:pt x="320" y="1"/>
                  </a:lnTo>
                  <a:lnTo>
                    <a:pt x="312" y="1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656040" y="3210120"/>
              <a:ext cx="61560" cy="184680"/>
            </a:xfrm>
            <a:custGeom>
              <a:avLst/>
              <a:gdLst/>
              <a:ahLst/>
              <a:rect l="l" t="t" r="r" b="b"/>
              <a:pathLst>
                <a:path w="145" h="431">
                  <a:moveTo>
                    <a:pt x="0" y="8"/>
                  </a:moveTo>
                  <a:lnTo>
                    <a:pt x="0" y="8"/>
                  </a:lnTo>
                  <a:lnTo>
                    <a:pt x="15" y="48"/>
                  </a:lnTo>
                  <a:lnTo>
                    <a:pt x="36" y="104"/>
                  </a:lnTo>
                  <a:lnTo>
                    <a:pt x="60" y="170"/>
                  </a:lnTo>
                  <a:lnTo>
                    <a:pt x="83" y="240"/>
                  </a:lnTo>
                  <a:lnTo>
                    <a:pt x="105" y="306"/>
                  </a:lnTo>
                  <a:lnTo>
                    <a:pt x="118" y="361"/>
                  </a:lnTo>
                  <a:lnTo>
                    <a:pt x="124" y="402"/>
                  </a:lnTo>
                  <a:lnTo>
                    <a:pt x="124" y="410"/>
                  </a:lnTo>
                  <a:lnTo>
                    <a:pt x="128" y="431"/>
                  </a:lnTo>
                  <a:lnTo>
                    <a:pt x="145" y="402"/>
                  </a:lnTo>
                  <a:lnTo>
                    <a:pt x="139" y="359"/>
                  </a:lnTo>
                  <a:lnTo>
                    <a:pt x="126" y="301"/>
                  </a:lnTo>
                  <a:lnTo>
                    <a:pt x="105" y="234"/>
                  </a:lnTo>
                  <a:lnTo>
                    <a:pt x="78" y="164"/>
                  </a:lnTo>
                  <a:lnTo>
                    <a:pt x="55" y="96"/>
                  </a:lnTo>
                  <a:lnTo>
                    <a:pt x="34" y="4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471000" y="2874960"/>
              <a:ext cx="192960" cy="339480"/>
            </a:xfrm>
            <a:custGeom>
              <a:avLst/>
              <a:gdLst/>
              <a:ahLst/>
              <a:rect l="l" t="t" r="r" b="b"/>
              <a:pathLst>
                <a:path w="448" h="790">
                  <a:moveTo>
                    <a:pt x="0" y="14"/>
                  </a:moveTo>
                  <a:lnTo>
                    <a:pt x="0" y="14"/>
                  </a:lnTo>
                  <a:lnTo>
                    <a:pt x="41" y="62"/>
                  </a:lnTo>
                  <a:lnTo>
                    <a:pt x="78" y="108"/>
                  </a:lnTo>
                  <a:lnTo>
                    <a:pt x="114" y="154"/>
                  </a:lnTo>
                  <a:lnTo>
                    <a:pt x="146" y="197"/>
                  </a:lnTo>
                  <a:lnTo>
                    <a:pt x="176" y="243"/>
                  </a:lnTo>
                  <a:lnTo>
                    <a:pt x="203" y="286"/>
                  </a:lnTo>
                  <a:lnTo>
                    <a:pt x="228" y="328"/>
                  </a:lnTo>
                  <a:lnTo>
                    <a:pt x="254" y="374"/>
                  </a:lnTo>
                  <a:lnTo>
                    <a:pt x="276" y="418"/>
                  </a:lnTo>
                  <a:lnTo>
                    <a:pt x="298" y="464"/>
                  </a:lnTo>
                  <a:lnTo>
                    <a:pt x="319" y="513"/>
                  </a:lnTo>
                  <a:lnTo>
                    <a:pt x="341" y="563"/>
                  </a:lnTo>
                  <a:lnTo>
                    <a:pt x="362" y="615"/>
                  </a:lnTo>
                  <a:lnTo>
                    <a:pt x="384" y="669"/>
                  </a:lnTo>
                  <a:lnTo>
                    <a:pt x="407" y="728"/>
                  </a:lnTo>
                  <a:lnTo>
                    <a:pt x="429" y="790"/>
                  </a:lnTo>
                  <a:lnTo>
                    <a:pt x="448" y="782"/>
                  </a:lnTo>
                  <a:lnTo>
                    <a:pt x="425" y="721"/>
                  </a:lnTo>
                  <a:lnTo>
                    <a:pt x="403" y="662"/>
                  </a:lnTo>
                  <a:lnTo>
                    <a:pt x="381" y="608"/>
                  </a:lnTo>
                  <a:lnTo>
                    <a:pt x="360" y="555"/>
                  </a:lnTo>
                  <a:lnTo>
                    <a:pt x="338" y="506"/>
                  </a:lnTo>
                  <a:lnTo>
                    <a:pt x="317" y="457"/>
                  </a:lnTo>
                  <a:lnTo>
                    <a:pt x="295" y="408"/>
                  </a:lnTo>
                  <a:lnTo>
                    <a:pt x="272" y="364"/>
                  </a:lnTo>
                  <a:lnTo>
                    <a:pt x="247" y="319"/>
                  </a:lnTo>
                  <a:lnTo>
                    <a:pt x="221" y="274"/>
                  </a:lnTo>
                  <a:lnTo>
                    <a:pt x="191" y="231"/>
                  </a:lnTo>
                  <a:lnTo>
                    <a:pt x="163" y="186"/>
                  </a:lnTo>
                  <a:lnTo>
                    <a:pt x="130" y="142"/>
                  </a:lnTo>
                  <a:lnTo>
                    <a:pt x="95" y="96"/>
                  </a:lnTo>
                  <a:lnTo>
                    <a:pt x="57" y="4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426360" y="2849040"/>
              <a:ext cx="53280" cy="32040"/>
            </a:xfrm>
            <a:custGeom>
              <a:avLst/>
              <a:gdLst/>
              <a:ahLst/>
              <a:rect l="l" t="t" r="r" b="b"/>
              <a:pathLst>
                <a:path w="121" h="75">
                  <a:moveTo>
                    <a:pt x="13" y="18"/>
                  </a:moveTo>
                  <a:lnTo>
                    <a:pt x="5" y="18"/>
                  </a:lnTo>
                  <a:lnTo>
                    <a:pt x="20" y="24"/>
                  </a:lnTo>
                  <a:lnTo>
                    <a:pt x="34" y="31"/>
                  </a:lnTo>
                  <a:lnTo>
                    <a:pt x="48" y="37"/>
                  </a:lnTo>
                  <a:lnTo>
                    <a:pt x="61" y="44"/>
                  </a:lnTo>
                  <a:lnTo>
                    <a:pt x="75" y="51"/>
                  </a:lnTo>
                  <a:lnTo>
                    <a:pt x="86" y="57"/>
                  </a:lnTo>
                  <a:lnTo>
                    <a:pt x="97" y="66"/>
                  </a:lnTo>
                  <a:lnTo>
                    <a:pt x="105" y="75"/>
                  </a:lnTo>
                  <a:lnTo>
                    <a:pt x="121" y="61"/>
                  </a:lnTo>
                  <a:lnTo>
                    <a:pt x="111" y="50"/>
                  </a:lnTo>
                  <a:lnTo>
                    <a:pt x="98" y="41"/>
                  </a:lnTo>
                  <a:lnTo>
                    <a:pt x="84" y="32"/>
                  </a:lnTo>
                  <a:lnTo>
                    <a:pt x="70" y="25"/>
                  </a:lnTo>
                  <a:lnTo>
                    <a:pt x="56" y="18"/>
                  </a:lnTo>
                  <a:lnTo>
                    <a:pt x="41" y="12"/>
                  </a:lnTo>
                  <a:lnTo>
                    <a:pt x="27" y="5"/>
                  </a:lnTo>
                  <a:lnTo>
                    <a:pt x="14" y="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400440" y="2849040"/>
              <a:ext cx="32040" cy="3816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21" y="82"/>
                  </a:moveTo>
                  <a:lnTo>
                    <a:pt x="21" y="83"/>
                  </a:lnTo>
                  <a:lnTo>
                    <a:pt x="26" y="73"/>
                  </a:lnTo>
                  <a:lnTo>
                    <a:pt x="29" y="62"/>
                  </a:lnTo>
                  <a:lnTo>
                    <a:pt x="33" y="53"/>
                  </a:lnTo>
                  <a:lnTo>
                    <a:pt x="40" y="45"/>
                  </a:lnTo>
                  <a:lnTo>
                    <a:pt x="48" y="35"/>
                  </a:lnTo>
                  <a:lnTo>
                    <a:pt x="57" y="28"/>
                  </a:lnTo>
                  <a:lnTo>
                    <a:pt x="67" y="23"/>
                  </a:lnTo>
                  <a:lnTo>
                    <a:pt x="76" y="18"/>
                  </a:lnTo>
                  <a:lnTo>
                    <a:pt x="69" y="0"/>
                  </a:lnTo>
                  <a:lnTo>
                    <a:pt x="57" y="4"/>
                  </a:lnTo>
                  <a:lnTo>
                    <a:pt x="46" y="12"/>
                  </a:lnTo>
                  <a:lnTo>
                    <a:pt x="33" y="22"/>
                  </a:lnTo>
                  <a:lnTo>
                    <a:pt x="25" y="31"/>
                  </a:lnTo>
                  <a:lnTo>
                    <a:pt x="17" y="42"/>
                  </a:lnTo>
                  <a:lnTo>
                    <a:pt x="10" y="54"/>
                  </a:lnTo>
                  <a:lnTo>
                    <a:pt x="5" y="66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88"/>
                  </a:lnTo>
                  <a:lnTo>
                    <a:pt x="10" y="92"/>
                  </a:lnTo>
                  <a:lnTo>
                    <a:pt x="18" y="90"/>
                  </a:lnTo>
                  <a:lnTo>
                    <a:pt x="21" y="83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986440" y="2847240"/>
              <a:ext cx="334800" cy="1269720"/>
            </a:xfrm>
            <a:custGeom>
              <a:avLst/>
              <a:gdLst/>
              <a:ahLst/>
              <a:rect l="l" t="t" r="r" b="b"/>
              <a:pathLst>
                <a:path w="780" h="2954">
                  <a:moveTo>
                    <a:pt x="720" y="0"/>
                  </a:moveTo>
                  <a:lnTo>
                    <a:pt x="731" y="37"/>
                  </a:lnTo>
                  <a:lnTo>
                    <a:pt x="740" y="73"/>
                  </a:lnTo>
                  <a:lnTo>
                    <a:pt x="749" y="109"/>
                  </a:lnTo>
                  <a:lnTo>
                    <a:pt x="755" y="147"/>
                  </a:lnTo>
                  <a:lnTo>
                    <a:pt x="758" y="185"/>
                  </a:lnTo>
                  <a:lnTo>
                    <a:pt x="762" y="222"/>
                  </a:lnTo>
                  <a:lnTo>
                    <a:pt x="762" y="262"/>
                  </a:lnTo>
                  <a:lnTo>
                    <a:pt x="762" y="305"/>
                  </a:lnTo>
                  <a:lnTo>
                    <a:pt x="758" y="497"/>
                  </a:lnTo>
                  <a:lnTo>
                    <a:pt x="759" y="691"/>
                  </a:lnTo>
                  <a:lnTo>
                    <a:pt x="765" y="890"/>
                  </a:lnTo>
                  <a:lnTo>
                    <a:pt x="769" y="1087"/>
                  </a:lnTo>
                  <a:lnTo>
                    <a:pt x="774" y="1286"/>
                  </a:lnTo>
                  <a:lnTo>
                    <a:pt x="778" y="1483"/>
                  </a:lnTo>
                  <a:lnTo>
                    <a:pt x="780" y="1676"/>
                  </a:lnTo>
                  <a:lnTo>
                    <a:pt x="776" y="1866"/>
                  </a:lnTo>
                  <a:lnTo>
                    <a:pt x="772" y="2022"/>
                  </a:lnTo>
                  <a:lnTo>
                    <a:pt x="770" y="2194"/>
                  </a:lnTo>
                  <a:lnTo>
                    <a:pt x="768" y="2372"/>
                  </a:lnTo>
                  <a:lnTo>
                    <a:pt x="766" y="2544"/>
                  </a:lnTo>
                  <a:lnTo>
                    <a:pt x="762" y="2699"/>
                  </a:lnTo>
                  <a:lnTo>
                    <a:pt x="755" y="2827"/>
                  </a:lnTo>
                  <a:lnTo>
                    <a:pt x="745" y="2916"/>
                  </a:lnTo>
                  <a:lnTo>
                    <a:pt x="729" y="2954"/>
                  </a:lnTo>
                  <a:lnTo>
                    <a:pt x="706" y="2953"/>
                  </a:lnTo>
                  <a:lnTo>
                    <a:pt x="680" y="2949"/>
                  </a:lnTo>
                  <a:lnTo>
                    <a:pt x="654" y="2944"/>
                  </a:lnTo>
                  <a:lnTo>
                    <a:pt x="625" y="2938"/>
                  </a:lnTo>
                  <a:lnTo>
                    <a:pt x="596" y="2930"/>
                  </a:lnTo>
                  <a:lnTo>
                    <a:pt x="565" y="2920"/>
                  </a:lnTo>
                  <a:lnTo>
                    <a:pt x="535" y="2912"/>
                  </a:lnTo>
                  <a:lnTo>
                    <a:pt x="504" y="2899"/>
                  </a:lnTo>
                  <a:lnTo>
                    <a:pt x="473" y="2888"/>
                  </a:lnTo>
                  <a:lnTo>
                    <a:pt x="444" y="2877"/>
                  </a:lnTo>
                  <a:lnTo>
                    <a:pt x="414" y="2865"/>
                  </a:lnTo>
                  <a:lnTo>
                    <a:pt x="387" y="2854"/>
                  </a:lnTo>
                  <a:lnTo>
                    <a:pt x="359" y="2842"/>
                  </a:lnTo>
                  <a:lnTo>
                    <a:pt x="333" y="2831"/>
                  </a:lnTo>
                  <a:lnTo>
                    <a:pt x="310" y="2821"/>
                  </a:lnTo>
                  <a:lnTo>
                    <a:pt x="288" y="2811"/>
                  </a:lnTo>
                  <a:lnTo>
                    <a:pt x="348" y="1710"/>
                  </a:lnTo>
                  <a:lnTo>
                    <a:pt x="323" y="1704"/>
                  </a:lnTo>
                  <a:lnTo>
                    <a:pt x="298" y="1697"/>
                  </a:lnTo>
                  <a:lnTo>
                    <a:pt x="269" y="1691"/>
                  </a:lnTo>
                  <a:lnTo>
                    <a:pt x="240" y="1687"/>
                  </a:lnTo>
                  <a:lnTo>
                    <a:pt x="209" y="1682"/>
                  </a:lnTo>
                  <a:lnTo>
                    <a:pt x="179" y="1677"/>
                  </a:lnTo>
                  <a:lnTo>
                    <a:pt x="148" y="1671"/>
                  </a:lnTo>
                  <a:lnTo>
                    <a:pt x="118" y="1667"/>
                  </a:lnTo>
                  <a:lnTo>
                    <a:pt x="92" y="1660"/>
                  </a:lnTo>
                  <a:lnTo>
                    <a:pt x="67" y="1655"/>
                  </a:lnTo>
                  <a:lnTo>
                    <a:pt x="45" y="1648"/>
                  </a:lnTo>
                  <a:lnTo>
                    <a:pt x="26" y="1639"/>
                  </a:lnTo>
                  <a:lnTo>
                    <a:pt x="12" y="1630"/>
                  </a:lnTo>
                  <a:lnTo>
                    <a:pt x="3" y="1619"/>
                  </a:lnTo>
                  <a:lnTo>
                    <a:pt x="0" y="1608"/>
                  </a:lnTo>
                  <a:lnTo>
                    <a:pt x="3" y="1594"/>
                  </a:lnTo>
                  <a:lnTo>
                    <a:pt x="33" y="1498"/>
                  </a:lnTo>
                  <a:lnTo>
                    <a:pt x="59" y="1403"/>
                  </a:lnTo>
                  <a:lnTo>
                    <a:pt x="86" y="1307"/>
                  </a:lnTo>
                  <a:lnTo>
                    <a:pt x="109" y="1212"/>
                  </a:lnTo>
                  <a:lnTo>
                    <a:pt x="133" y="1116"/>
                  </a:lnTo>
                  <a:lnTo>
                    <a:pt x="155" y="1020"/>
                  </a:lnTo>
                  <a:lnTo>
                    <a:pt x="177" y="925"/>
                  </a:lnTo>
                  <a:lnTo>
                    <a:pt x="199" y="831"/>
                  </a:lnTo>
                  <a:lnTo>
                    <a:pt x="221" y="736"/>
                  </a:lnTo>
                  <a:lnTo>
                    <a:pt x="244" y="645"/>
                  </a:lnTo>
                  <a:lnTo>
                    <a:pt x="267" y="553"/>
                  </a:lnTo>
                  <a:lnTo>
                    <a:pt x="292" y="461"/>
                  </a:lnTo>
                  <a:lnTo>
                    <a:pt x="318" y="371"/>
                  </a:lnTo>
                  <a:lnTo>
                    <a:pt x="344" y="282"/>
                  </a:lnTo>
                  <a:lnTo>
                    <a:pt x="375" y="196"/>
                  </a:lnTo>
                  <a:lnTo>
                    <a:pt x="408" y="109"/>
                  </a:lnTo>
                  <a:lnTo>
                    <a:pt x="418" y="88"/>
                  </a:lnTo>
                  <a:lnTo>
                    <a:pt x="430" y="70"/>
                  </a:lnTo>
                  <a:lnTo>
                    <a:pt x="444" y="56"/>
                  </a:lnTo>
                  <a:lnTo>
                    <a:pt x="461" y="44"/>
                  </a:lnTo>
                  <a:lnTo>
                    <a:pt x="479" y="34"/>
                  </a:lnTo>
                  <a:lnTo>
                    <a:pt x="497" y="26"/>
                  </a:lnTo>
                  <a:lnTo>
                    <a:pt x="517" y="19"/>
                  </a:lnTo>
                  <a:lnTo>
                    <a:pt x="538" y="15"/>
                  </a:lnTo>
                  <a:lnTo>
                    <a:pt x="560" y="11"/>
                  </a:lnTo>
                  <a:lnTo>
                    <a:pt x="582" y="9"/>
                  </a:lnTo>
                  <a:lnTo>
                    <a:pt x="605" y="7"/>
                  </a:lnTo>
                  <a:lnTo>
                    <a:pt x="629" y="6"/>
                  </a:lnTo>
                  <a:lnTo>
                    <a:pt x="652" y="6"/>
                  </a:lnTo>
                  <a:lnTo>
                    <a:pt x="675" y="5"/>
                  </a:lnTo>
                  <a:lnTo>
                    <a:pt x="698" y="4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291000" y="2847240"/>
              <a:ext cx="25560" cy="131040"/>
            </a:xfrm>
            <a:custGeom>
              <a:avLst/>
              <a:gdLst/>
              <a:ahLst/>
              <a:rect l="l" t="t" r="r" b="b"/>
              <a:pathLst>
                <a:path w="62" h="307">
                  <a:moveTo>
                    <a:pt x="62" y="307"/>
                  </a:moveTo>
                  <a:lnTo>
                    <a:pt x="62" y="307"/>
                  </a:lnTo>
                  <a:lnTo>
                    <a:pt x="62" y="264"/>
                  </a:lnTo>
                  <a:lnTo>
                    <a:pt x="62" y="224"/>
                  </a:lnTo>
                  <a:lnTo>
                    <a:pt x="59" y="187"/>
                  </a:lnTo>
                  <a:lnTo>
                    <a:pt x="56" y="148"/>
                  </a:lnTo>
                  <a:lnTo>
                    <a:pt x="49" y="110"/>
                  </a:lnTo>
                  <a:lnTo>
                    <a:pt x="41" y="72"/>
                  </a:lnTo>
                  <a:lnTo>
                    <a:pt x="32" y="37"/>
                  </a:lnTo>
                  <a:lnTo>
                    <a:pt x="21" y="0"/>
                  </a:lnTo>
                  <a:lnTo>
                    <a:pt x="0" y="6"/>
                  </a:lnTo>
                  <a:lnTo>
                    <a:pt x="10" y="42"/>
                  </a:lnTo>
                  <a:lnTo>
                    <a:pt x="20" y="77"/>
                  </a:lnTo>
                  <a:lnTo>
                    <a:pt x="28" y="112"/>
                  </a:lnTo>
                  <a:lnTo>
                    <a:pt x="35" y="150"/>
                  </a:lnTo>
                  <a:lnTo>
                    <a:pt x="38" y="187"/>
                  </a:lnTo>
                  <a:lnTo>
                    <a:pt x="41" y="224"/>
                  </a:lnTo>
                  <a:lnTo>
                    <a:pt x="41" y="264"/>
                  </a:lnTo>
                  <a:lnTo>
                    <a:pt x="41" y="307"/>
                  </a:lnTo>
                  <a:lnTo>
                    <a:pt x="41" y="307"/>
                  </a:lnTo>
                  <a:lnTo>
                    <a:pt x="6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307920" y="2978280"/>
              <a:ext cx="16920" cy="669960"/>
            </a:xfrm>
            <a:custGeom>
              <a:avLst/>
              <a:gdLst/>
              <a:ahLst/>
              <a:rect l="l" t="t" r="r" b="b"/>
              <a:pathLst>
                <a:path w="42" h="1561">
                  <a:moveTo>
                    <a:pt x="39" y="1561"/>
                  </a:moveTo>
                  <a:lnTo>
                    <a:pt x="39" y="1561"/>
                  </a:lnTo>
                  <a:lnTo>
                    <a:pt x="42" y="1371"/>
                  </a:lnTo>
                  <a:lnTo>
                    <a:pt x="41" y="1178"/>
                  </a:lnTo>
                  <a:lnTo>
                    <a:pt x="37" y="981"/>
                  </a:lnTo>
                  <a:lnTo>
                    <a:pt x="32" y="782"/>
                  </a:lnTo>
                  <a:lnTo>
                    <a:pt x="27" y="585"/>
                  </a:lnTo>
                  <a:lnTo>
                    <a:pt x="22" y="386"/>
                  </a:lnTo>
                  <a:lnTo>
                    <a:pt x="21" y="192"/>
                  </a:lnTo>
                  <a:lnTo>
                    <a:pt x="24" y="0"/>
                  </a:lnTo>
                  <a:lnTo>
                    <a:pt x="3" y="0"/>
                  </a:lnTo>
                  <a:lnTo>
                    <a:pt x="0" y="192"/>
                  </a:lnTo>
                  <a:lnTo>
                    <a:pt x="1" y="386"/>
                  </a:lnTo>
                  <a:lnTo>
                    <a:pt x="6" y="585"/>
                  </a:lnTo>
                  <a:lnTo>
                    <a:pt x="10" y="782"/>
                  </a:lnTo>
                  <a:lnTo>
                    <a:pt x="16" y="981"/>
                  </a:lnTo>
                  <a:lnTo>
                    <a:pt x="20" y="1178"/>
                  </a:lnTo>
                  <a:lnTo>
                    <a:pt x="21" y="1371"/>
                  </a:lnTo>
                  <a:lnTo>
                    <a:pt x="18" y="1561"/>
                  </a:lnTo>
                  <a:lnTo>
                    <a:pt x="18" y="1561"/>
                  </a:lnTo>
                  <a:lnTo>
                    <a:pt x="39" y="15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295320" y="3648240"/>
              <a:ext cx="27720" cy="473040"/>
            </a:xfrm>
            <a:custGeom>
              <a:avLst/>
              <a:gdLst/>
              <a:ahLst/>
              <a:rect l="l" t="t" r="r" b="b"/>
              <a:pathLst>
                <a:path w="68" h="1098">
                  <a:moveTo>
                    <a:pt x="10" y="1098"/>
                  </a:moveTo>
                  <a:lnTo>
                    <a:pt x="15" y="1097"/>
                  </a:lnTo>
                  <a:lnTo>
                    <a:pt x="36" y="1051"/>
                  </a:lnTo>
                  <a:lnTo>
                    <a:pt x="47" y="961"/>
                  </a:lnTo>
                  <a:lnTo>
                    <a:pt x="53" y="833"/>
                  </a:lnTo>
                  <a:lnTo>
                    <a:pt x="57" y="678"/>
                  </a:lnTo>
                  <a:lnTo>
                    <a:pt x="59" y="506"/>
                  </a:lnTo>
                  <a:lnTo>
                    <a:pt x="62" y="328"/>
                  </a:lnTo>
                  <a:lnTo>
                    <a:pt x="64" y="156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3" y="156"/>
                  </a:lnTo>
                  <a:lnTo>
                    <a:pt x="40" y="328"/>
                  </a:lnTo>
                  <a:lnTo>
                    <a:pt x="38" y="506"/>
                  </a:lnTo>
                  <a:lnTo>
                    <a:pt x="36" y="678"/>
                  </a:lnTo>
                  <a:lnTo>
                    <a:pt x="32" y="833"/>
                  </a:lnTo>
                  <a:lnTo>
                    <a:pt x="26" y="961"/>
                  </a:lnTo>
                  <a:lnTo>
                    <a:pt x="15" y="1049"/>
                  </a:lnTo>
                  <a:lnTo>
                    <a:pt x="6" y="1078"/>
                  </a:lnTo>
                  <a:lnTo>
                    <a:pt x="10" y="1077"/>
                  </a:lnTo>
                  <a:lnTo>
                    <a:pt x="6" y="1078"/>
                  </a:lnTo>
                  <a:lnTo>
                    <a:pt x="0" y="1084"/>
                  </a:lnTo>
                  <a:lnTo>
                    <a:pt x="1" y="1092"/>
                  </a:lnTo>
                  <a:lnTo>
                    <a:pt x="7" y="1097"/>
                  </a:lnTo>
                  <a:lnTo>
                    <a:pt x="15" y="1097"/>
                  </a:lnTo>
                  <a:lnTo>
                    <a:pt x="10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106680" y="4050360"/>
              <a:ext cx="192960" cy="70920"/>
            </a:xfrm>
            <a:custGeom>
              <a:avLst/>
              <a:gdLst/>
              <a:ahLst/>
              <a:rect l="l" t="t" r="r" b="b"/>
              <a:pathLst>
                <a:path w="451" h="162">
                  <a:moveTo>
                    <a:pt x="0" y="9"/>
                  </a:moveTo>
                  <a:lnTo>
                    <a:pt x="7" y="19"/>
                  </a:lnTo>
                  <a:lnTo>
                    <a:pt x="28" y="27"/>
                  </a:lnTo>
                  <a:lnTo>
                    <a:pt x="52" y="38"/>
                  </a:lnTo>
                  <a:lnTo>
                    <a:pt x="78" y="48"/>
                  </a:lnTo>
                  <a:lnTo>
                    <a:pt x="104" y="61"/>
                  </a:lnTo>
                  <a:lnTo>
                    <a:pt x="133" y="73"/>
                  </a:lnTo>
                  <a:lnTo>
                    <a:pt x="163" y="84"/>
                  </a:lnTo>
                  <a:lnTo>
                    <a:pt x="192" y="96"/>
                  </a:lnTo>
                  <a:lnTo>
                    <a:pt x="223" y="107"/>
                  </a:lnTo>
                  <a:lnTo>
                    <a:pt x="253" y="120"/>
                  </a:lnTo>
                  <a:lnTo>
                    <a:pt x="285" y="130"/>
                  </a:lnTo>
                  <a:lnTo>
                    <a:pt x="316" y="138"/>
                  </a:lnTo>
                  <a:lnTo>
                    <a:pt x="345" y="147"/>
                  </a:lnTo>
                  <a:lnTo>
                    <a:pt x="375" y="153"/>
                  </a:lnTo>
                  <a:lnTo>
                    <a:pt x="401" y="157"/>
                  </a:lnTo>
                  <a:lnTo>
                    <a:pt x="428" y="161"/>
                  </a:lnTo>
                  <a:lnTo>
                    <a:pt x="451" y="162"/>
                  </a:lnTo>
                  <a:lnTo>
                    <a:pt x="451" y="141"/>
                  </a:lnTo>
                  <a:lnTo>
                    <a:pt x="428" y="140"/>
                  </a:lnTo>
                  <a:lnTo>
                    <a:pt x="403" y="136"/>
                  </a:lnTo>
                  <a:lnTo>
                    <a:pt x="377" y="132"/>
                  </a:lnTo>
                  <a:lnTo>
                    <a:pt x="349" y="126"/>
                  </a:lnTo>
                  <a:lnTo>
                    <a:pt x="320" y="117"/>
                  </a:lnTo>
                  <a:lnTo>
                    <a:pt x="289" y="108"/>
                  </a:lnTo>
                  <a:lnTo>
                    <a:pt x="260" y="98"/>
                  </a:lnTo>
                  <a:lnTo>
                    <a:pt x="229" y="88"/>
                  </a:lnTo>
                  <a:lnTo>
                    <a:pt x="198" y="77"/>
                  </a:lnTo>
                  <a:lnTo>
                    <a:pt x="170" y="65"/>
                  </a:lnTo>
                  <a:lnTo>
                    <a:pt x="140" y="54"/>
                  </a:lnTo>
                  <a:lnTo>
                    <a:pt x="112" y="42"/>
                  </a:lnTo>
                  <a:lnTo>
                    <a:pt x="84" y="30"/>
                  </a:lnTo>
                  <a:lnTo>
                    <a:pt x="59" y="20"/>
                  </a:lnTo>
                  <a:lnTo>
                    <a:pt x="35" y="9"/>
                  </a:lnTo>
                  <a:lnTo>
                    <a:pt x="14" y="0"/>
                  </a:lnTo>
                  <a:lnTo>
                    <a:pt x="21" y="9"/>
                  </a:lnTo>
                  <a:lnTo>
                    <a:pt x="14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1" y="13"/>
                  </a:lnTo>
                  <a:lnTo>
                    <a:pt x="7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106680" y="3577680"/>
              <a:ext cx="33840" cy="477000"/>
            </a:xfrm>
            <a:custGeom>
              <a:avLst/>
              <a:gdLst/>
              <a:ahLst/>
              <a:rect l="l" t="t" r="r" b="b"/>
              <a:pathLst>
                <a:path w="80" h="1112">
                  <a:moveTo>
                    <a:pt x="65" y="22"/>
                  </a:moveTo>
                  <a:lnTo>
                    <a:pt x="59" y="11"/>
                  </a:lnTo>
                  <a:lnTo>
                    <a:pt x="0" y="1112"/>
                  </a:lnTo>
                  <a:lnTo>
                    <a:pt x="21" y="1112"/>
                  </a:lnTo>
                  <a:lnTo>
                    <a:pt x="80" y="11"/>
                  </a:lnTo>
                  <a:lnTo>
                    <a:pt x="73" y="0"/>
                  </a:lnTo>
                  <a:lnTo>
                    <a:pt x="80" y="11"/>
                  </a:lnTo>
                  <a:lnTo>
                    <a:pt x="76" y="3"/>
                  </a:lnTo>
                  <a:lnTo>
                    <a:pt x="70" y="0"/>
                  </a:lnTo>
                  <a:lnTo>
                    <a:pt x="62" y="3"/>
                  </a:lnTo>
                  <a:lnTo>
                    <a:pt x="59" y="11"/>
                  </a:lnTo>
                  <a:lnTo>
                    <a:pt x="6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981760" y="3528000"/>
              <a:ext cx="154080" cy="58320"/>
            </a:xfrm>
            <a:custGeom>
              <a:avLst/>
              <a:gdLst/>
              <a:ahLst/>
              <a:rect l="l" t="t" r="r" b="b"/>
              <a:pathLst>
                <a:path w="361" h="137">
                  <a:moveTo>
                    <a:pt x="3" y="7"/>
                  </a:moveTo>
                  <a:lnTo>
                    <a:pt x="4" y="6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54"/>
                  </a:lnTo>
                  <a:lnTo>
                    <a:pt x="31" y="65"/>
                  </a:lnTo>
                  <a:lnTo>
                    <a:pt x="51" y="73"/>
                  </a:lnTo>
                  <a:lnTo>
                    <a:pt x="75" y="82"/>
                  </a:lnTo>
                  <a:lnTo>
                    <a:pt x="99" y="87"/>
                  </a:lnTo>
                  <a:lnTo>
                    <a:pt x="127" y="93"/>
                  </a:lnTo>
                  <a:lnTo>
                    <a:pt x="157" y="98"/>
                  </a:lnTo>
                  <a:lnTo>
                    <a:pt x="188" y="104"/>
                  </a:lnTo>
                  <a:lnTo>
                    <a:pt x="218" y="108"/>
                  </a:lnTo>
                  <a:lnTo>
                    <a:pt x="249" y="113"/>
                  </a:lnTo>
                  <a:lnTo>
                    <a:pt x="278" y="118"/>
                  </a:lnTo>
                  <a:lnTo>
                    <a:pt x="307" y="124"/>
                  </a:lnTo>
                  <a:lnTo>
                    <a:pt x="331" y="130"/>
                  </a:lnTo>
                  <a:lnTo>
                    <a:pt x="353" y="137"/>
                  </a:lnTo>
                  <a:lnTo>
                    <a:pt x="361" y="115"/>
                  </a:lnTo>
                  <a:lnTo>
                    <a:pt x="336" y="108"/>
                  </a:lnTo>
                  <a:lnTo>
                    <a:pt x="309" y="103"/>
                  </a:lnTo>
                  <a:lnTo>
                    <a:pt x="281" y="96"/>
                  </a:lnTo>
                  <a:lnTo>
                    <a:pt x="251" y="92"/>
                  </a:lnTo>
                  <a:lnTo>
                    <a:pt x="220" y="87"/>
                  </a:lnTo>
                  <a:lnTo>
                    <a:pt x="190" y="83"/>
                  </a:lnTo>
                  <a:lnTo>
                    <a:pt x="159" y="76"/>
                  </a:lnTo>
                  <a:lnTo>
                    <a:pt x="130" y="72"/>
                  </a:lnTo>
                  <a:lnTo>
                    <a:pt x="104" y="66"/>
                  </a:lnTo>
                  <a:lnTo>
                    <a:pt x="79" y="61"/>
                  </a:lnTo>
                  <a:lnTo>
                    <a:pt x="58" y="54"/>
                  </a:lnTo>
                  <a:lnTo>
                    <a:pt x="41" y="46"/>
                  </a:lnTo>
                  <a:lnTo>
                    <a:pt x="28" y="37"/>
                  </a:lnTo>
                  <a:lnTo>
                    <a:pt x="23" y="31"/>
                  </a:lnTo>
                  <a:lnTo>
                    <a:pt x="21" y="2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3" y="5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983920" y="2891880"/>
              <a:ext cx="180360" cy="640080"/>
            </a:xfrm>
            <a:custGeom>
              <a:avLst/>
              <a:gdLst/>
              <a:ahLst/>
              <a:rect l="l" t="t" r="r" b="b"/>
              <a:pathLst>
                <a:path w="423" h="1490">
                  <a:moveTo>
                    <a:pt x="405" y="0"/>
                  </a:moveTo>
                  <a:lnTo>
                    <a:pt x="405" y="0"/>
                  </a:lnTo>
                  <a:lnTo>
                    <a:pt x="374" y="86"/>
                  </a:lnTo>
                  <a:lnTo>
                    <a:pt x="341" y="174"/>
                  </a:lnTo>
                  <a:lnTo>
                    <a:pt x="314" y="263"/>
                  </a:lnTo>
                  <a:lnTo>
                    <a:pt x="288" y="353"/>
                  </a:lnTo>
                  <a:lnTo>
                    <a:pt x="264" y="445"/>
                  </a:lnTo>
                  <a:lnTo>
                    <a:pt x="241" y="536"/>
                  </a:lnTo>
                  <a:lnTo>
                    <a:pt x="217" y="628"/>
                  </a:lnTo>
                  <a:lnTo>
                    <a:pt x="195" y="723"/>
                  </a:lnTo>
                  <a:lnTo>
                    <a:pt x="173" y="817"/>
                  </a:lnTo>
                  <a:lnTo>
                    <a:pt x="152" y="911"/>
                  </a:lnTo>
                  <a:lnTo>
                    <a:pt x="130" y="1007"/>
                  </a:lnTo>
                  <a:lnTo>
                    <a:pt x="105" y="1102"/>
                  </a:lnTo>
                  <a:lnTo>
                    <a:pt x="82" y="1199"/>
                  </a:lnTo>
                  <a:lnTo>
                    <a:pt x="57" y="1294"/>
                  </a:lnTo>
                  <a:lnTo>
                    <a:pt x="29" y="1390"/>
                  </a:lnTo>
                  <a:lnTo>
                    <a:pt x="0" y="1485"/>
                  </a:lnTo>
                  <a:lnTo>
                    <a:pt x="21" y="1490"/>
                  </a:lnTo>
                  <a:lnTo>
                    <a:pt x="50" y="1394"/>
                  </a:lnTo>
                  <a:lnTo>
                    <a:pt x="78" y="1299"/>
                  </a:lnTo>
                  <a:lnTo>
                    <a:pt x="103" y="1203"/>
                  </a:lnTo>
                  <a:lnTo>
                    <a:pt x="127" y="1108"/>
                  </a:lnTo>
                  <a:lnTo>
                    <a:pt x="151" y="1012"/>
                  </a:lnTo>
                  <a:lnTo>
                    <a:pt x="173" y="917"/>
                  </a:lnTo>
                  <a:lnTo>
                    <a:pt x="194" y="823"/>
                  </a:lnTo>
                  <a:lnTo>
                    <a:pt x="216" y="728"/>
                  </a:lnTo>
                  <a:lnTo>
                    <a:pt x="238" y="634"/>
                  </a:lnTo>
                  <a:lnTo>
                    <a:pt x="262" y="542"/>
                  </a:lnTo>
                  <a:lnTo>
                    <a:pt x="285" y="450"/>
                  </a:lnTo>
                  <a:lnTo>
                    <a:pt x="309" y="357"/>
                  </a:lnTo>
                  <a:lnTo>
                    <a:pt x="336" y="267"/>
                  </a:lnTo>
                  <a:lnTo>
                    <a:pt x="363" y="180"/>
                  </a:lnTo>
                  <a:lnTo>
                    <a:pt x="392" y="93"/>
                  </a:lnTo>
                  <a:lnTo>
                    <a:pt x="423" y="7"/>
                  </a:lnTo>
                  <a:lnTo>
                    <a:pt x="423" y="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158160" y="2842560"/>
              <a:ext cx="141480" cy="53280"/>
            </a:xfrm>
            <a:custGeom>
              <a:avLst/>
              <a:gdLst/>
              <a:ahLst/>
              <a:rect l="l" t="t" r="r" b="b"/>
              <a:pathLst>
                <a:path w="333" h="123">
                  <a:moveTo>
                    <a:pt x="333" y="8"/>
                  </a:moveTo>
                  <a:lnTo>
                    <a:pt x="322" y="0"/>
                  </a:lnTo>
                  <a:lnTo>
                    <a:pt x="300" y="3"/>
                  </a:lnTo>
                  <a:lnTo>
                    <a:pt x="277" y="4"/>
                  </a:lnTo>
                  <a:lnTo>
                    <a:pt x="254" y="5"/>
                  </a:lnTo>
                  <a:lnTo>
                    <a:pt x="231" y="5"/>
                  </a:lnTo>
                  <a:lnTo>
                    <a:pt x="207" y="6"/>
                  </a:lnTo>
                  <a:lnTo>
                    <a:pt x="184" y="8"/>
                  </a:lnTo>
                  <a:lnTo>
                    <a:pt x="160" y="10"/>
                  </a:lnTo>
                  <a:lnTo>
                    <a:pt x="139" y="15"/>
                  </a:lnTo>
                  <a:lnTo>
                    <a:pt x="116" y="19"/>
                  </a:lnTo>
                  <a:lnTo>
                    <a:pt x="95" y="26"/>
                  </a:lnTo>
                  <a:lnTo>
                    <a:pt x="75" y="35"/>
                  </a:lnTo>
                  <a:lnTo>
                    <a:pt x="56" y="45"/>
                  </a:lnTo>
                  <a:lnTo>
                    <a:pt x="38" y="58"/>
                  </a:lnTo>
                  <a:lnTo>
                    <a:pt x="24" y="74"/>
                  </a:lnTo>
                  <a:lnTo>
                    <a:pt x="11" y="94"/>
                  </a:lnTo>
                  <a:lnTo>
                    <a:pt x="0" y="116"/>
                  </a:lnTo>
                  <a:lnTo>
                    <a:pt x="18" y="123"/>
                  </a:lnTo>
                  <a:lnTo>
                    <a:pt x="30" y="103"/>
                  </a:lnTo>
                  <a:lnTo>
                    <a:pt x="40" y="88"/>
                  </a:lnTo>
                  <a:lnTo>
                    <a:pt x="53" y="75"/>
                  </a:lnTo>
                  <a:lnTo>
                    <a:pt x="68" y="61"/>
                  </a:lnTo>
                  <a:lnTo>
                    <a:pt x="85" y="54"/>
                  </a:lnTo>
                  <a:lnTo>
                    <a:pt x="103" y="45"/>
                  </a:lnTo>
                  <a:lnTo>
                    <a:pt x="122" y="40"/>
                  </a:lnTo>
                  <a:lnTo>
                    <a:pt x="142" y="36"/>
                  </a:lnTo>
                  <a:lnTo>
                    <a:pt x="163" y="33"/>
                  </a:lnTo>
                  <a:lnTo>
                    <a:pt x="184" y="29"/>
                  </a:lnTo>
                  <a:lnTo>
                    <a:pt x="207" y="27"/>
                  </a:lnTo>
                  <a:lnTo>
                    <a:pt x="231" y="26"/>
                  </a:lnTo>
                  <a:lnTo>
                    <a:pt x="254" y="26"/>
                  </a:lnTo>
                  <a:lnTo>
                    <a:pt x="277" y="25"/>
                  </a:lnTo>
                  <a:lnTo>
                    <a:pt x="300" y="24"/>
                  </a:lnTo>
                  <a:lnTo>
                    <a:pt x="322" y="21"/>
                  </a:lnTo>
                  <a:lnTo>
                    <a:pt x="312" y="14"/>
                  </a:lnTo>
                  <a:lnTo>
                    <a:pt x="322" y="21"/>
                  </a:lnTo>
                  <a:lnTo>
                    <a:pt x="331" y="18"/>
                  </a:lnTo>
                  <a:lnTo>
                    <a:pt x="333" y="10"/>
                  </a:lnTo>
                  <a:lnTo>
                    <a:pt x="331" y="4"/>
                  </a:lnTo>
                  <a:lnTo>
                    <a:pt x="322" y="0"/>
                  </a:lnTo>
                  <a:lnTo>
                    <a:pt x="3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404760" y="2844720"/>
              <a:ext cx="55440" cy="451080"/>
            </a:xfrm>
            <a:custGeom>
              <a:avLst/>
              <a:gdLst/>
              <a:ahLst/>
              <a:rect l="l" t="t" r="r" b="b"/>
              <a:pathLst>
                <a:path w="132" h="1049">
                  <a:moveTo>
                    <a:pt x="62" y="2"/>
                  </a:moveTo>
                  <a:lnTo>
                    <a:pt x="73" y="32"/>
                  </a:lnTo>
                  <a:lnTo>
                    <a:pt x="83" y="72"/>
                  </a:lnTo>
                  <a:lnTo>
                    <a:pt x="95" y="120"/>
                  </a:lnTo>
                  <a:lnTo>
                    <a:pt x="105" y="174"/>
                  </a:lnTo>
                  <a:lnTo>
                    <a:pt x="115" y="230"/>
                  </a:lnTo>
                  <a:lnTo>
                    <a:pt x="123" y="285"/>
                  </a:lnTo>
                  <a:lnTo>
                    <a:pt x="130" y="338"/>
                  </a:lnTo>
                  <a:lnTo>
                    <a:pt x="132" y="384"/>
                  </a:lnTo>
                  <a:lnTo>
                    <a:pt x="130" y="392"/>
                  </a:lnTo>
                  <a:lnTo>
                    <a:pt x="124" y="396"/>
                  </a:lnTo>
                  <a:lnTo>
                    <a:pt x="118" y="401"/>
                  </a:lnTo>
                  <a:lnTo>
                    <a:pt x="110" y="403"/>
                  </a:lnTo>
                  <a:lnTo>
                    <a:pt x="101" y="406"/>
                  </a:lnTo>
                  <a:lnTo>
                    <a:pt x="93" y="409"/>
                  </a:lnTo>
                  <a:lnTo>
                    <a:pt x="87" y="414"/>
                  </a:lnTo>
                  <a:lnTo>
                    <a:pt x="84" y="419"/>
                  </a:lnTo>
                  <a:lnTo>
                    <a:pt x="92" y="426"/>
                  </a:lnTo>
                  <a:lnTo>
                    <a:pt x="100" y="430"/>
                  </a:lnTo>
                  <a:lnTo>
                    <a:pt x="109" y="434"/>
                  </a:lnTo>
                  <a:lnTo>
                    <a:pt x="116" y="437"/>
                  </a:lnTo>
                  <a:lnTo>
                    <a:pt x="123" y="440"/>
                  </a:lnTo>
                  <a:lnTo>
                    <a:pt x="130" y="448"/>
                  </a:lnTo>
                  <a:lnTo>
                    <a:pt x="132" y="456"/>
                  </a:lnTo>
                  <a:lnTo>
                    <a:pt x="131" y="469"/>
                  </a:lnTo>
                  <a:lnTo>
                    <a:pt x="122" y="534"/>
                  </a:lnTo>
                  <a:lnTo>
                    <a:pt x="116" y="599"/>
                  </a:lnTo>
                  <a:lnTo>
                    <a:pt x="111" y="663"/>
                  </a:lnTo>
                  <a:lnTo>
                    <a:pt x="104" y="728"/>
                  </a:lnTo>
                  <a:lnTo>
                    <a:pt x="98" y="791"/>
                  </a:lnTo>
                  <a:lnTo>
                    <a:pt x="90" y="855"/>
                  </a:lnTo>
                  <a:lnTo>
                    <a:pt x="80" y="918"/>
                  </a:lnTo>
                  <a:lnTo>
                    <a:pt x="67" y="980"/>
                  </a:lnTo>
                  <a:lnTo>
                    <a:pt x="63" y="998"/>
                  </a:lnTo>
                  <a:lnTo>
                    <a:pt x="57" y="1015"/>
                  </a:lnTo>
                  <a:lnTo>
                    <a:pt x="49" y="1032"/>
                  </a:lnTo>
                  <a:lnTo>
                    <a:pt x="46" y="1049"/>
                  </a:lnTo>
                  <a:lnTo>
                    <a:pt x="41" y="880"/>
                  </a:lnTo>
                  <a:lnTo>
                    <a:pt x="30" y="705"/>
                  </a:lnTo>
                  <a:lnTo>
                    <a:pt x="19" y="530"/>
                  </a:lnTo>
                  <a:lnTo>
                    <a:pt x="14" y="358"/>
                  </a:lnTo>
                  <a:lnTo>
                    <a:pt x="11" y="278"/>
                  </a:lnTo>
                  <a:lnTo>
                    <a:pt x="7" y="193"/>
                  </a:lnTo>
                  <a:lnTo>
                    <a:pt x="2" y="111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9" y="23"/>
                  </a:lnTo>
                  <a:lnTo>
                    <a:pt x="18" y="16"/>
                  </a:lnTo>
                  <a:lnTo>
                    <a:pt x="28" y="11"/>
                  </a:lnTo>
                  <a:lnTo>
                    <a:pt x="39" y="4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426360" y="2844720"/>
              <a:ext cx="38160" cy="165600"/>
            </a:xfrm>
            <a:custGeom>
              <a:avLst/>
              <a:gdLst/>
              <a:ahLst/>
              <a:rect l="l" t="t" r="r" b="b"/>
              <a:pathLst>
                <a:path w="89" h="385">
                  <a:moveTo>
                    <a:pt x="89" y="385"/>
                  </a:moveTo>
                  <a:lnTo>
                    <a:pt x="89" y="385"/>
                  </a:lnTo>
                  <a:lnTo>
                    <a:pt x="87" y="339"/>
                  </a:lnTo>
                  <a:lnTo>
                    <a:pt x="81" y="285"/>
                  </a:lnTo>
                  <a:lnTo>
                    <a:pt x="72" y="229"/>
                  </a:lnTo>
                  <a:lnTo>
                    <a:pt x="63" y="174"/>
                  </a:lnTo>
                  <a:lnTo>
                    <a:pt x="52" y="120"/>
                  </a:lnTo>
                  <a:lnTo>
                    <a:pt x="41" y="71"/>
                  </a:lnTo>
                  <a:lnTo>
                    <a:pt x="30" y="31"/>
                  </a:lnTo>
                  <a:lnTo>
                    <a:pt x="19" y="0"/>
                  </a:lnTo>
                  <a:lnTo>
                    <a:pt x="0" y="6"/>
                  </a:lnTo>
                  <a:lnTo>
                    <a:pt x="9" y="35"/>
                  </a:lnTo>
                  <a:lnTo>
                    <a:pt x="20" y="75"/>
                  </a:lnTo>
                  <a:lnTo>
                    <a:pt x="31" y="123"/>
                  </a:lnTo>
                  <a:lnTo>
                    <a:pt x="42" y="176"/>
                  </a:lnTo>
                  <a:lnTo>
                    <a:pt x="51" y="232"/>
                  </a:lnTo>
                  <a:lnTo>
                    <a:pt x="60" y="287"/>
                  </a:lnTo>
                  <a:lnTo>
                    <a:pt x="66" y="339"/>
                  </a:lnTo>
                  <a:lnTo>
                    <a:pt x="68" y="385"/>
                  </a:lnTo>
                  <a:lnTo>
                    <a:pt x="68" y="385"/>
                  </a:lnTo>
                  <a:lnTo>
                    <a:pt x="89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434640" y="3010320"/>
              <a:ext cx="29880" cy="1872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19" y="29"/>
                  </a:moveTo>
                  <a:lnTo>
                    <a:pt x="21" y="37"/>
                  </a:lnTo>
                  <a:lnTo>
                    <a:pt x="21" y="35"/>
                  </a:lnTo>
                  <a:lnTo>
                    <a:pt x="24" y="34"/>
                  </a:lnTo>
                  <a:lnTo>
                    <a:pt x="30" y="31"/>
                  </a:lnTo>
                  <a:lnTo>
                    <a:pt x="38" y="30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5" y="12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6" y="3"/>
                  </a:lnTo>
                  <a:lnTo>
                    <a:pt x="45" y="4"/>
                  </a:lnTo>
                  <a:lnTo>
                    <a:pt x="40" y="8"/>
                  </a:lnTo>
                  <a:lnTo>
                    <a:pt x="33" y="9"/>
                  </a:lnTo>
                  <a:lnTo>
                    <a:pt x="24" y="12"/>
                  </a:lnTo>
                  <a:lnTo>
                    <a:pt x="14" y="15"/>
                  </a:lnTo>
                  <a:lnTo>
                    <a:pt x="5" y="24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9" y="46"/>
                  </a:lnTo>
                  <a:lnTo>
                    <a:pt x="18" y="44"/>
                  </a:lnTo>
                  <a:lnTo>
                    <a:pt x="21" y="37"/>
                  </a:lnTo>
                  <a:lnTo>
                    <a:pt x="1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437160" y="3021120"/>
              <a:ext cx="27720" cy="2988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64" y="57"/>
                  </a:moveTo>
                  <a:lnTo>
                    <a:pt x="64" y="57"/>
                  </a:lnTo>
                  <a:lnTo>
                    <a:pt x="65" y="43"/>
                  </a:lnTo>
                  <a:lnTo>
                    <a:pt x="62" y="31"/>
                  </a:lnTo>
                  <a:lnTo>
                    <a:pt x="53" y="20"/>
                  </a:lnTo>
                  <a:lnTo>
                    <a:pt x="43" y="15"/>
                  </a:lnTo>
                  <a:lnTo>
                    <a:pt x="35" y="12"/>
                  </a:lnTo>
                  <a:lnTo>
                    <a:pt x="27" y="8"/>
                  </a:lnTo>
                  <a:lnTo>
                    <a:pt x="21" y="4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8" y="21"/>
                  </a:lnTo>
                  <a:lnTo>
                    <a:pt x="18" y="26"/>
                  </a:lnTo>
                  <a:lnTo>
                    <a:pt x="27" y="31"/>
                  </a:lnTo>
                  <a:lnTo>
                    <a:pt x="36" y="34"/>
                  </a:lnTo>
                  <a:lnTo>
                    <a:pt x="41" y="36"/>
                  </a:lnTo>
                  <a:lnTo>
                    <a:pt x="43" y="40"/>
                  </a:lnTo>
                  <a:lnTo>
                    <a:pt x="44" y="43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5" y="63"/>
                  </a:lnTo>
                  <a:lnTo>
                    <a:pt x="53" y="67"/>
                  </a:lnTo>
                  <a:lnTo>
                    <a:pt x="61" y="64"/>
                  </a:lnTo>
                  <a:lnTo>
                    <a:pt x="64" y="57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428160" y="3044520"/>
              <a:ext cx="36360" cy="221040"/>
            </a:xfrm>
            <a:custGeom>
              <a:avLst/>
              <a:gdLst/>
              <a:ahLst/>
              <a:rect l="l" t="t" r="r" b="b"/>
              <a:pathLst>
                <a:path w="84" h="514">
                  <a:moveTo>
                    <a:pt x="21" y="512"/>
                  </a:moveTo>
                  <a:lnTo>
                    <a:pt x="21" y="514"/>
                  </a:lnTo>
                  <a:lnTo>
                    <a:pt x="34" y="451"/>
                  </a:lnTo>
                  <a:lnTo>
                    <a:pt x="43" y="388"/>
                  </a:lnTo>
                  <a:lnTo>
                    <a:pt x="52" y="324"/>
                  </a:lnTo>
                  <a:lnTo>
                    <a:pt x="58" y="260"/>
                  </a:lnTo>
                  <a:lnTo>
                    <a:pt x="64" y="195"/>
                  </a:lnTo>
                  <a:lnTo>
                    <a:pt x="71" y="131"/>
                  </a:lnTo>
                  <a:lnTo>
                    <a:pt x="76" y="67"/>
                  </a:lnTo>
                  <a:lnTo>
                    <a:pt x="84" y="2"/>
                  </a:lnTo>
                  <a:lnTo>
                    <a:pt x="63" y="0"/>
                  </a:lnTo>
                  <a:lnTo>
                    <a:pt x="55" y="65"/>
                  </a:lnTo>
                  <a:lnTo>
                    <a:pt x="48" y="131"/>
                  </a:lnTo>
                  <a:lnTo>
                    <a:pt x="43" y="195"/>
                  </a:lnTo>
                  <a:lnTo>
                    <a:pt x="37" y="260"/>
                  </a:lnTo>
                  <a:lnTo>
                    <a:pt x="30" y="322"/>
                  </a:lnTo>
                  <a:lnTo>
                    <a:pt x="22" y="386"/>
                  </a:lnTo>
                  <a:lnTo>
                    <a:pt x="12" y="449"/>
                  </a:lnTo>
                  <a:lnTo>
                    <a:pt x="0" y="510"/>
                  </a:lnTo>
                  <a:lnTo>
                    <a:pt x="0" y="512"/>
                  </a:lnTo>
                  <a:lnTo>
                    <a:pt x="21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419880" y="3265920"/>
              <a:ext cx="16920" cy="34560"/>
            </a:xfrm>
            <a:custGeom>
              <a:avLst/>
              <a:gdLst/>
              <a:ahLst/>
              <a:rect l="l" t="t" r="r" b="b"/>
              <a:pathLst>
                <a:path w="42" h="79">
                  <a:moveTo>
                    <a:pt x="0" y="69"/>
                  </a:moveTo>
                  <a:lnTo>
                    <a:pt x="21" y="69"/>
                  </a:lnTo>
                  <a:lnTo>
                    <a:pt x="24" y="54"/>
                  </a:lnTo>
                  <a:lnTo>
                    <a:pt x="29" y="38"/>
                  </a:lnTo>
                  <a:lnTo>
                    <a:pt x="38" y="2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7" y="16"/>
                  </a:lnTo>
                  <a:lnTo>
                    <a:pt x="11" y="31"/>
                  </a:lnTo>
                  <a:lnTo>
                    <a:pt x="3" y="50"/>
                  </a:lnTo>
                  <a:lnTo>
                    <a:pt x="0" y="69"/>
                  </a:lnTo>
                  <a:lnTo>
                    <a:pt x="21" y="69"/>
                  </a:lnTo>
                  <a:lnTo>
                    <a:pt x="0" y="69"/>
                  </a:lnTo>
                  <a:lnTo>
                    <a:pt x="3" y="77"/>
                  </a:lnTo>
                  <a:lnTo>
                    <a:pt x="10" y="79"/>
                  </a:lnTo>
                  <a:lnTo>
                    <a:pt x="17" y="77"/>
                  </a:lnTo>
                  <a:lnTo>
                    <a:pt x="21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404760" y="2997360"/>
              <a:ext cx="23040" cy="298440"/>
            </a:xfrm>
            <a:custGeom>
              <a:avLst/>
              <a:gdLst/>
              <a:ahLst/>
              <a:rect l="l" t="t" r="r" b="b"/>
              <a:pathLst>
                <a:path w="54" h="691">
                  <a:moveTo>
                    <a:pt x="0" y="0"/>
                  </a:moveTo>
                  <a:lnTo>
                    <a:pt x="0" y="0"/>
                  </a:lnTo>
                  <a:lnTo>
                    <a:pt x="5" y="172"/>
                  </a:lnTo>
                  <a:lnTo>
                    <a:pt x="17" y="347"/>
                  </a:lnTo>
                  <a:lnTo>
                    <a:pt x="27" y="522"/>
                  </a:lnTo>
                  <a:lnTo>
                    <a:pt x="33" y="691"/>
                  </a:lnTo>
                  <a:lnTo>
                    <a:pt x="54" y="691"/>
                  </a:lnTo>
                  <a:lnTo>
                    <a:pt x="49" y="522"/>
                  </a:lnTo>
                  <a:lnTo>
                    <a:pt x="38" y="347"/>
                  </a:lnTo>
                  <a:lnTo>
                    <a:pt x="26" y="17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398280" y="2855520"/>
              <a:ext cx="14760" cy="141480"/>
            </a:xfrm>
            <a:custGeom>
              <a:avLst/>
              <a:gdLst/>
              <a:ahLst/>
              <a:rect l="l" t="t" r="r" b="b"/>
              <a:pathLst>
                <a:path w="35" h="333">
                  <a:moveTo>
                    <a:pt x="0" y="9"/>
                  </a:moveTo>
                  <a:lnTo>
                    <a:pt x="0" y="11"/>
                  </a:lnTo>
                  <a:lnTo>
                    <a:pt x="2" y="86"/>
                  </a:lnTo>
                  <a:lnTo>
                    <a:pt x="8" y="168"/>
                  </a:lnTo>
                  <a:lnTo>
                    <a:pt x="12" y="253"/>
                  </a:lnTo>
                  <a:lnTo>
                    <a:pt x="14" y="333"/>
                  </a:lnTo>
                  <a:lnTo>
                    <a:pt x="35" y="333"/>
                  </a:lnTo>
                  <a:lnTo>
                    <a:pt x="33" y="253"/>
                  </a:lnTo>
                  <a:lnTo>
                    <a:pt x="29" y="168"/>
                  </a:lnTo>
                  <a:lnTo>
                    <a:pt x="23" y="86"/>
                  </a:lnTo>
                  <a:lnTo>
                    <a:pt x="21" y="11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398280" y="2840400"/>
              <a:ext cx="36360" cy="2124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83" y="9"/>
                  </a:moveTo>
                  <a:lnTo>
                    <a:pt x="80" y="4"/>
                  </a:lnTo>
                  <a:lnTo>
                    <a:pt x="68" y="0"/>
                  </a:lnTo>
                  <a:lnTo>
                    <a:pt x="57" y="1"/>
                  </a:lnTo>
                  <a:lnTo>
                    <a:pt x="47" y="5"/>
                  </a:lnTo>
                  <a:lnTo>
                    <a:pt x="34" y="11"/>
                  </a:lnTo>
                  <a:lnTo>
                    <a:pt x="22" y="19"/>
                  </a:lnTo>
                  <a:lnTo>
                    <a:pt x="13" y="26"/>
                  </a:lnTo>
                  <a:lnTo>
                    <a:pt x="7" y="34"/>
                  </a:lnTo>
                  <a:lnTo>
                    <a:pt x="0" y="44"/>
                  </a:lnTo>
                  <a:lnTo>
                    <a:pt x="21" y="49"/>
                  </a:lnTo>
                  <a:lnTo>
                    <a:pt x="22" y="46"/>
                  </a:lnTo>
                  <a:lnTo>
                    <a:pt x="28" y="41"/>
                  </a:lnTo>
                  <a:lnTo>
                    <a:pt x="34" y="34"/>
                  </a:lnTo>
                  <a:lnTo>
                    <a:pt x="44" y="30"/>
                  </a:lnTo>
                  <a:lnTo>
                    <a:pt x="53" y="24"/>
                  </a:lnTo>
                  <a:lnTo>
                    <a:pt x="61" y="22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64" y="15"/>
                  </a:lnTo>
                  <a:lnTo>
                    <a:pt x="67" y="21"/>
                  </a:lnTo>
                  <a:lnTo>
                    <a:pt x="74" y="23"/>
                  </a:lnTo>
                  <a:lnTo>
                    <a:pt x="82" y="20"/>
                  </a:lnTo>
                  <a:lnTo>
                    <a:pt x="84" y="12"/>
                  </a:lnTo>
                  <a:lnTo>
                    <a:pt x="80" y="4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282360" y="2559240"/>
              <a:ext cx="212400" cy="375480"/>
            </a:xfrm>
            <a:custGeom>
              <a:avLst/>
              <a:gdLst/>
              <a:ahLst/>
              <a:rect l="l" t="t" r="r" b="b"/>
              <a:pathLst>
                <a:path w="497" h="873">
                  <a:moveTo>
                    <a:pt x="276" y="0"/>
                  </a:moveTo>
                  <a:lnTo>
                    <a:pt x="291" y="6"/>
                  </a:lnTo>
                  <a:lnTo>
                    <a:pt x="305" y="12"/>
                  </a:lnTo>
                  <a:lnTo>
                    <a:pt x="321" y="18"/>
                  </a:lnTo>
                  <a:lnTo>
                    <a:pt x="336" y="24"/>
                  </a:lnTo>
                  <a:lnTo>
                    <a:pt x="351" y="32"/>
                  </a:lnTo>
                  <a:lnTo>
                    <a:pt x="366" y="40"/>
                  </a:lnTo>
                  <a:lnTo>
                    <a:pt x="382" y="49"/>
                  </a:lnTo>
                  <a:lnTo>
                    <a:pt x="396" y="58"/>
                  </a:lnTo>
                  <a:lnTo>
                    <a:pt x="412" y="69"/>
                  </a:lnTo>
                  <a:lnTo>
                    <a:pt x="424" y="78"/>
                  </a:lnTo>
                  <a:lnTo>
                    <a:pt x="437" y="90"/>
                  </a:lnTo>
                  <a:lnTo>
                    <a:pt x="449" y="100"/>
                  </a:lnTo>
                  <a:lnTo>
                    <a:pt x="458" y="113"/>
                  </a:lnTo>
                  <a:lnTo>
                    <a:pt x="468" y="127"/>
                  </a:lnTo>
                  <a:lnTo>
                    <a:pt x="475" y="139"/>
                  </a:lnTo>
                  <a:lnTo>
                    <a:pt x="479" y="153"/>
                  </a:lnTo>
                  <a:lnTo>
                    <a:pt x="486" y="188"/>
                  </a:lnTo>
                  <a:lnTo>
                    <a:pt x="484" y="221"/>
                  </a:lnTo>
                  <a:lnTo>
                    <a:pt x="479" y="252"/>
                  </a:lnTo>
                  <a:lnTo>
                    <a:pt x="473" y="284"/>
                  </a:lnTo>
                  <a:lnTo>
                    <a:pt x="465" y="318"/>
                  </a:lnTo>
                  <a:lnTo>
                    <a:pt x="460" y="350"/>
                  </a:lnTo>
                  <a:lnTo>
                    <a:pt x="460" y="382"/>
                  </a:lnTo>
                  <a:lnTo>
                    <a:pt x="469" y="416"/>
                  </a:lnTo>
                  <a:lnTo>
                    <a:pt x="472" y="425"/>
                  </a:lnTo>
                  <a:lnTo>
                    <a:pt x="476" y="435"/>
                  </a:lnTo>
                  <a:lnTo>
                    <a:pt x="482" y="445"/>
                  </a:lnTo>
                  <a:lnTo>
                    <a:pt x="488" y="455"/>
                  </a:lnTo>
                  <a:lnTo>
                    <a:pt x="493" y="466"/>
                  </a:lnTo>
                  <a:lnTo>
                    <a:pt x="496" y="477"/>
                  </a:lnTo>
                  <a:lnTo>
                    <a:pt x="497" y="488"/>
                  </a:lnTo>
                  <a:lnTo>
                    <a:pt x="496" y="498"/>
                  </a:lnTo>
                  <a:lnTo>
                    <a:pt x="489" y="504"/>
                  </a:lnTo>
                  <a:lnTo>
                    <a:pt x="479" y="507"/>
                  </a:lnTo>
                  <a:lnTo>
                    <a:pt x="467" y="511"/>
                  </a:lnTo>
                  <a:lnTo>
                    <a:pt x="454" y="513"/>
                  </a:lnTo>
                  <a:lnTo>
                    <a:pt x="441" y="516"/>
                  </a:lnTo>
                  <a:lnTo>
                    <a:pt x="431" y="521"/>
                  </a:lnTo>
                  <a:lnTo>
                    <a:pt x="422" y="524"/>
                  </a:lnTo>
                  <a:lnTo>
                    <a:pt x="419" y="527"/>
                  </a:lnTo>
                  <a:lnTo>
                    <a:pt x="414" y="545"/>
                  </a:lnTo>
                  <a:lnTo>
                    <a:pt x="408" y="571"/>
                  </a:lnTo>
                  <a:lnTo>
                    <a:pt x="403" y="602"/>
                  </a:lnTo>
                  <a:lnTo>
                    <a:pt x="397" y="634"/>
                  </a:lnTo>
                  <a:lnTo>
                    <a:pt x="392" y="666"/>
                  </a:lnTo>
                  <a:lnTo>
                    <a:pt x="385" y="696"/>
                  </a:lnTo>
                  <a:lnTo>
                    <a:pt x="380" y="721"/>
                  </a:lnTo>
                  <a:lnTo>
                    <a:pt x="373" y="737"/>
                  </a:lnTo>
                  <a:lnTo>
                    <a:pt x="368" y="738"/>
                  </a:lnTo>
                  <a:lnTo>
                    <a:pt x="363" y="736"/>
                  </a:lnTo>
                  <a:lnTo>
                    <a:pt x="356" y="734"/>
                  </a:lnTo>
                  <a:lnTo>
                    <a:pt x="346" y="729"/>
                  </a:lnTo>
                  <a:lnTo>
                    <a:pt x="339" y="747"/>
                  </a:lnTo>
                  <a:lnTo>
                    <a:pt x="326" y="767"/>
                  </a:lnTo>
                  <a:lnTo>
                    <a:pt x="312" y="790"/>
                  </a:lnTo>
                  <a:lnTo>
                    <a:pt x="297" y="813"/>
                  </a:lnTo>
                  <a:lnTo>
                    <a:pt x="280" y="834"/>
                  </a:lnTo>
                  <a:lnTo>
                    <a:pt x="263" y="853"/>
                  </a:lnTo>
                  <a:lnTo>
                    <a:pt x="245" y="866"/>
                  </a:lnTo>
                  <a:lnTo>
                    <a:pt x="228" y="873"/>
                  </a:lnTo>
                  <a:lnTo>
                    <a:pt x="213" y="866"/>
                  </a:lnTo>
                  <a:lnTo>
                    <a:pt x="199" y="859"/>
                  </a:lnTo>
                  <a:lnTo>
                    <a:pt x="186" y="850"/>
                  </a:lnTo>
                  <a:lnTo>
                    <a:pt x="172" y="842"/>
                  </a:lnTo>
                  <a:lnTo>
                    <a:pt x="158" y="830"/>
                  </a:lnTo>
                  <a:lnTo>
                    <a:pt x="144" y="819"/>
                  </a:lnTo>
                  <a:lnTo>
                    <a:pt x="132" y="809"/>
                  </a:lnTo>
                  <a:lnTo>
                    <a:pt x="119" y="797"/>
                  </a:lnTo>
                  <a:lnTo>
                    <a:pt x="107" y="786"/>
                  </a:lnTo>
                  <a:lnTo>
                    <a:pt x="96" y="774"/>
                  </a:lnTo>
                  <a:lnTo>
                    <a:pt x="84" y="762"/>
                  </a:lnTo>
                  <a:lnTo>
                    <a:pt x="72" y="751"/>
                  </a:lnTo>
                  <a:lnTo>
                    <a:pt x="61" y="737"/>
                  </a:lnTo>
                  <a:lnTo>
                    <a:pt x="50" y="725"/>
                  </a:lnTo>
                  <a:lnTo>
                    <a:pt x="40" y="715"/>
                  </a:lnTo>
                  <a:lnTo>
                    <a:pt x="30" y="703"/>
                  </a:lnTo>
                  <a:lnTo>
                    <a:pt x="16" y="658"/>
                  </a:lnTo>
                  <a:lnTo>
                    <a:pt x="6" y="612"/>
                  </a:lnTo>
                  <a:lnTo>
                    <a:pt x="0" y="564"/>
                  </a:lnTo>
                  <a:lnTo>
                    <a:pt x="0" y="514"/>
                  </a:lnTo>
                  <a:lnTo>
                    <a:pt x="4" y="465"/>
                  </a:lnTo>
                  <a:lnTo>
                    <a:pt x="11" y="415"/>
                  </a:lnTo>
                  <a:lnTo>
                    <a:pt x="24" y="365"/>
                  </a:lnTo>
                  <a:lnTo>
                    <a:pt x="39" y="316"/>
                  </a:lnTo>
                  <a:lnTo>
                    <a:pt x="58" y="268"/>
                  </a:lnTo>
                  <a:lnTo>
                    <a:pt x="81" y="222"/>
                  </a:lnTo>
                  <a:lnTo>
                    <a:pt x="106" y="177"/>
                  </a:lnTo>
                  <a:lnTo>
                    <a:pt x="136" y="134"/>
                  </a:lnTo>
                  <a:lnTo>
                    <a:pt x="168" y="95"/>
                  </a:lnTo>
                  <a:lnTo>
                    <a:pt x="201" y="60"/>
                  </a:lnTo>
                  <a:lnTo>
                    <a:pt x="238" y="29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ffe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400440" y="2556720"/>
              <a:ext cx="91800" cy="73080"/>
            </a:xfrm>
            <a:custGeom>
              <a:avLst/>
              <a:gdLst/>
              <a:ahLst/>
              <a:rect l="l" t="t" r="r" b="b"/>
              <a:pathLst>
                <a:path w="215" h="170">
                  <a:moveTo>
                    <a:pt x="215" y="159"/>
                  </a:moveTo>
                  <a:lnTo>
                    <a:pt x="215" y="159"/>
                  </a:lnTo>
                  <a:lnTo>
                    <a:pt x="209" y="143"/>
                  </a:lnTo>
                  <a:lnTo>
                    <a:pt x="202" y="129"/>
                  </a:lnTo>
                  <a:lnTo>
                    <a:pt x="191" y="117"/>
                  </a:lnTo>
                  <a:lnTo>
                    <a:pt x="182" y="102"/>
                  </a:lnTo>
                  <a:lnTo>
                    <a:pt x="169" y="90"/>
                  </a:lnTo>
                  <a:lnTo>
                    <a:pt x="157" y="79"/>
                  </a:lnTo>
                  <a:lnTo>
                    <a:pt x="142" y="69"/>
                  </a:lnTo>
                  <a:lnTo>
                    <a:pt x="127" y="59"/>
                  </a:lnTo>
                  <a:lnTo>
                    <a:pt x="112" y="48"/>
                  </a:lnTo>
                  <a:lnTo>
                    <a:pt x="96" y="40"/>
                  </a:lnTo>
                  <a:lnTo>
                    <a:pt x="81" y="31"/>
                  </a:lnTo>
                  <a:lnTo>
                    <a:pt x="66" y="25"/>
                  </a:lnTo>
                  <a:lnTo>
                    <a:pt x="50" y="18"/>
                  </a:lnTo>
                  <a:lnTo>
                    <a:pt x="35" y="11"/>
                  </a:lnTo>
                  <a:lnTo>
                    <a:pt x="20" y="6"/>
                  </a:lnTo>
                  <a:lnTo>
                    <a:pt x="6" y="0"/>
                  </a:lnTo>
                  <a:lnTo>
                    <a:pt x="0" y="16"/>
                  </a:lnTo>
                  <a:lnTo>
                    <a:pt x="14" y="22"/>
                  </a:lnTo>
                  <a:lnTo>
                    <a:pt x="28" y="28"/>
                  </a:lnTo>
                  <a:lnTo>
                    <a:pt x="43" y="34"/>
                  </a:lnTo>
                  <a:lnTo>
                    <a:pt x="58" y="41"/>
                  </a:lnTo>
                  <a:lnTo>
                    <a:pt x="73" y="48"/>
                  </a:lnTo>
                  <a:lnTo>
                    <a:pt x="89" y="57"/>
                  </a:lnTo>
                  <a:lnTo>
                    <a:pt x="103" y="65"/>
                  </a:lnTo>
                  <a:lnTo>
                    <a:pt x="118" y="72"/>
                  </a:lnTo>
                  <a:lnTo>
                    <a:pt x="132" y="83"/>
                  </a:lnTo>
                  <a:lnTo>
                    <a:pt x="144" y="93"/>
                  </a:lnTo>
                  <a:lnTo>
                    <a:pt x="158" y="105"/>
                  </a:lnTo>
                  <a:lnTo>
                    <a:pt x="168" y="115"/>
                  </a:lnTo>
                  <a:lnTo>
                    <a:pt x="178" y="126"/>
                  </a:lnTo>
                  <a:lnTo>
                    <a:pt x="185" y="139"/>
                  </a:lnTo>
                  <a:lnTo>
                    <a:pt x="193" y="151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201" y="170"/>
                  </a:lnTo>
                  <a:lnTo>
                    <a:pt x="208" y="170"/>
                  </a:lnTo>
                  <a:lnTo>
                    <a:pt x="214" y="166"/>
                  </a:lnTo>
                  <a:lnTo>
                    <a:pt x="215" y="159"/>
                  </a:lnTo>
                  <a:lnTo>
                    <a:pt x="215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475680" y="2625480"/>
              <a:ext cx="19440" cy="116280"/>
            </a:xfrm>
            <a:custGeom>
              <a:avLst/>
              <a:gdLst/>
              <a:ahLst/>
              <a:rect l="l" t="t" r="r" b="b"/>
              <a:pathLst>
                <a:path w="43" h="274">
                  <a:moveTo>
                    <a:pt x="26" y="264"/>
                  </a:moveTo>
                  <a:lnTo>
                    <a:pt x="25" y="263"/>
                  </a:lnTo>
                  <a:lnTo>
                    <a:pt x="18" y="231"/>
                  </a:lnTo>
                  <a:lnTo>
                    <a:pt x="18" y="199"/>
                  </a:lnTo>
                  <a:lnTo>
                    <a:pt x="23" y="168"/>
                  </a:lnTo>
                  <a:lnTo>
                    <a:pt x="30" y="134"/>
                  </a:lnTo>
                  <a:lnTo>
                    <a:pt x="37" y="102"/>
                  </a:lnTo>
                  <a:lnTo>
                    <a:pt x="42" y="70"/>
                  </a:lnTo>
                  <a:lnTo>
                    <a:pt x="43" y="37"/>
                  </a:lnTo>
                  <a:lnTo>
                    <a:pt x="37" y="0"/>
                  </a:lnTo>
                  <a:lnTo>
                    <a:pt x="18" y="4"/>
                  </a:lnTo>
                  <a:lnTo>
                    <a:pt x="24" y="37"/>
                  </a:lnTo>
                  <a:lnTo>
                    <a:pt x="23" y="70"/>
                  </a:lnTo>
                  <a:lnTo>
                    <a:pt x="18" y="100"/>
                  </a:lnTo>
                  <a:lnTo>
                    <a:pt x="11" y="132"/>
                  </a:lnTo>
                  <a:lnTo>
                    <a:pt x="4" y="165"/>
                  </a:lnTo>
                  <a:lnTo>
                    <a:pt x="0" y="199"/>
                  </a:lnTo>
                  <a:lnTo>
                    <a:pt x="0" y="231"/>
                  </a:lnTo>
                  <a:lnTo>
                    <a:pt x="8" y="268"/>
                  </a:lnTo>
                  <a:lnTo>
                    <a:pt x="7" y="266"/>
                  </a:lnTo>
                  <a:lnTo>
                    <a:pt x="8" y="268"/>
                  </a:lnTo>
                  <a:lnTo>
                    <a:pt x="12" y="272"/>
                  </a:lnTo>
                  <a:lnTo>
                    <a:pt x="20" y="274"/>
                  </a:lnTo>
                  <a:lnTo>
                    <a:pt x="24" y="270"/>
                  </a:lnTo>
                  <a:lnTo>
                    <a:pt x="25" y="263"/>
                  </a:lnTo>
                  <a:lnTo>
                    <a:pt x="2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480000" y="2737440"/>
              <a:ext cx="19440" cy="4032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44" y="90"/>
                  </a:moveTo>
                  <a:lnTo>
                    <a:pt x="46" y="87"/>
                  </a:lnTo>
                  <a:lnTo>
                    <a:pt x="48" y="73"/>
                  </a:lnTo>
                  <a:lnTo>
                    <a:pt x="47" y="61"/>
                  </a:lnTo>
                  <a:lnTo>
                    <a:pt x="41" y="49"/>
                  </a:lnTo>
                  <a:lnTo>
                    <a:pt x="37" y="37"/>
                  </a:lnTo>
                  <a:lnTo>
                    <a:pt x="31" y="25"/>
                  </a:lnTo>
                  <a:lnTo>
                    <a:pt x="25" y="17"/>
                  </a:lnTo>
                  <a:lnTo>
                    <a:pt x="20" y="7"/>
                  </a:lnTo>
                  <a:lnTo>
                    <a:pt x="19" y="0"/>
                  </a:lnTo>
                  <a:lnTo>
                    <a:pt x="0" y="2"/>
                  </a:lnTo>
                  <a:lnTo>
                    <a:pt x="4" y="12"/>
                  </a:lnTo>
                  <a:lnTo>
                    <a:pt x="9" y="24"/>
                  </a:lnTo>
                  <a:lnTo>
                    <a:pt x="15" y="35"/>
                  </a:lnTo>
                  <a:lnTo>
                    <a:pt x="20" y="44"/>
                  </a:lnTo>
                  <a:lnTo>
                    <a:pt x="25" y="54"/>
                  </a:lnTo>
                  <a:lnTo>
                    <a:pt x="28" y="64"/>
                  </a:lnTo>
                  <a:lnTo>
                    <a:pt x="29" y="73"/>
                  </a:lnTo>
                  <a:lnTo>
                    <a:pt x="29" y="81"/>
                  </a:lnTo>
                  <a:lnTo>
                    <a:pt x="30" y="78"/>
                  </a:lnTo>
                  <a:lnTo>
                    <a:pt x="29" y="81"/>
                  </a:lnTo>
                  <a:lnTo>
                    <a:pt x="30" y="89"/>
                  </a:lnTo>
                  <a:lnTo>
                    <a:pt x="36" y="92"/>
                  </a:lnTo>
                  <a:lnTo>
                    <a:pt x="41" y="91"/>
                  </a:lnTo>
                  <a:lnTo>
                    <a:pt x="46" y="87"/>
                  </a:lnTo>
                  <a:lnTo>
                    <a:pt x="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458400" y="2771640"/>
              <a:ext cx="40680" cy="1728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16" y="38"/>
                  </a:moveTo>
                  <a:lnTo>
                    <a:pt x="18" y="34"/>
                  </a:lnTo>
                  <a:lnTo>
                    <a:pt x="15" y="39"/>
                  </a:lnTo>
                  <a:lnTo>
                    <a:pt x="22" y="35"/>
                  </a:lnTo>
                  <a:lnTo>
                    <a:pt x="32" y="33"/>
                  </a:lnTo>
                  <a:lnTo>
                    <a:pt x="44" y="30"/>
                  </a:lnTo>
                  <a:lnTo>
                    <a:pt x="57" y="28"/>
                  </a:lnTo>
                  <a:lnTo>
                    <a:pt x="71" y="23"/>
                  </a:lnTo>
                  <a:lnTo>
                    <a:pt x="82" y="19"/>
                  </a:lnTo>
                  <a:lnTo>
                    <a:pt x="92" y="12"/>
                  </a:lnTo>
                  <a:lnTo>
                    <a:pt x="78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4" y="9"/>
                  </a:lnTo>
                  <a:lnTo>
                    <a:pt x="42" y="11"/>
                  </a:lnTo>
                  <a:lnTo>
                    <a:pt x="27" y="14"/>
                  </a:lnTo>
                  <a:lnTo>
                    <a:pt x="16" y="19"/>
                  </a:lnTo>
                  <a:lnTo>
                    <a:pt x="6" y="22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3" y="41"/>
                  </a:lnTo>
                  <a:lnTo>
                    <a:pt x="8" y="42"/>
                  </a:lnTo>
                  <a:lnTo>
                    <a:pt x="15" y="41"/>
                  </a:lnTo>
                  <a:lnTo>
                    <a:pt x="18" y="34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438960" y="2784600"/>
              <a:ext cx="25560" cy="96480"/>
            </a:xfrm>
            <a:custGeom>
              <a:avLst/>
              <a:gdLst/>
              <a:ahLst/>
              <a:rect l="l" t="t" r="r" b="b"/>
              <a:pathLst>
                <a:path w="63" h="222">
                  <a:moveTo>
                    <a:pt x="14" y="219"/>
                  </a:moveTo>
                  <a:lnTo>
                    <a:pt x="17" y="217"/>
                  </a:lnTo>
                  <a:lnTo>
                    <a:pt x="24" y="199"/>
                  </a:lnTo>
                  <a:lnTo>
                    <a:pt x="31" y="173"/>
                  </a:lnTo>
                  <a:lnTo>
                    <a:pt x="37" y="143"/>
                  </a:lnTo>
                  <a:lnTo>
                    <a:pt x="42" y="111"/>
                  </a:lnTo>
                  <a:lnTo>
                    <a:pt x="49" y="79"/>
                  </a:lnTo>
                  <a:lnTo>
                    <a:pt x="54" y="48"/>
                  </a:lnTo>
                  <a:lnTo>
                    <a:pt x="59" y="22"/>
                  </a:lnTo>
                  <a:lnTo>
                    <a:pt x="63" y="7"/>
                  </a:lnTo>
                  <a:lnTo>
                    <a:pt x="48" y="0"/>
                  </a:lnTo>
                  <a:lnTo>
                    <a:pt x="40" y="20"/>
                  </a:lnTo>
                  <a:lnTo>
                    <a:pt x="35" y="46"/>
                  </a:lnTo>
                  <a:lnTo>
                    <a:pt x="30" y="77"/>
                  </a:lnTo>
                  <a:lnTo>
                    <a:pt x="23" y="109"/>
                  </a:lnTo>
                  <a:lnTo>
                    <a:pt x="18" y="141"/>
                  </a:lnTo>
                  <a:lnTo>
                    <a:pt x="12" y="171"/>
                  </a:lnTo>
                  <a:lnTo>
                    <a:pt x="6" y="194"/>
                  </a:lnTo>
                  <a:lnTo>
                    <a:pt x="0" y="210"/>
                  </a:lnTo>
                  <a:lnTo>
                    <a:pt x="2" y="208"/>
                  </a:lnTo>
                  <a:lnTo>
                    <a:pt x="0" y="210"/>
                  </a:lnTo>
                  <a:lnTo>
                    <a:pt x="0" y="217"/>
                  </a:lnTo>
                  <a:lnTo>
                    <a:pt x="4" y="222"/>
                  </a:lnTo>
                  <a:lnTo>
                    <a:pt x="12" y="222"/>
                  </a:lnTo>
                  <a:lnTo>
                    <a:pt x="17" y="217"/>
                  </a:lnTo>
                  <a:lnTo>
                    <a:pt x="1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428160" y="2870640"/>
              <a:ext cx="16920" cy="1044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6" y="12"/>
                  </a:moveTo>
                  <a:lnTo>
                    <a:pt x="4" y="16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7"/>
                  </a:lnTo>
                  <a:lnTo>
                    <a:pt x="39" y="22"/>
                  </a:lnTo>
                  <a:lnTo>
                    <a:pt x="27" y="11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1" y="4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376680" y="2870640"/>
              <a:ext cx="57600" cy="68400"/>
            </a:xfrm>
            <a:custGeom>
              <a:avLst/>
              <a:gdLst/>
              <a:ahLst/>
              <a:rect l="l" t="t" r="r" b="b"/>
              <a:pathLst>
                <a:path w="136" h="158">
                  <a:moveTo>
                    <a:pt x="5" y="157"/>
                  </a:moveTo>
                  <a:lnTo>
                    <a:pt x="10" y="158"/>
                  </a:lnTo>
                  <a:lnTo>
                    <a:pt x="31" y="149"/>
                  </a:lnTo>
                  <a:lnTo>
                    <a:pt x="50" y="135"/>
                  </a:lnTo>
                  <a:lnTo>
                    <a:pt x="67" y="115"/>
                  </a:lnTo>
                  <a:lnTo>
                    <a:pt x="85" y="93"/>
                  </a:lnTo>
                  <a:lnTo>
                    <a:pt x="102" y="70"/>
                  </a:lnTo>
                  <a:lnTo>
                    <a:pt x="116" y="47"/>
                  </a:lnTo>
                  <a:lnTo>
                    <a:pt x="127" y="26"/>
                  </a:lnTo>
                  <a:lnTo>
                    <a:pt x="136" y="8"/>
                  </a:lnTo>
                  <a:lnTo>
                    <a:pt x="120" y="0"/>
                  </a:lnTo>
                  <a:lnTo>
                    <a:pt x="111" y="18"/>
                  </a:lnTo>
                  <a:lnTo>
                    <a:pt x="100" y="37"/>
                  </a:lnTo>
                  <a:lnTo>
                    <a:pt x="85" y="61"/>
                  </a:lnTo>
                  <a:lnTo>
                    <a:pt x="71" y="82"/>
                  </a:lnTo>
                  <a:lnTo>
                    <a:pt x="53" y="103"/>
                  </a:lnTo>
                  <a:lnTo>
                    <a:pt x="37" y="121"/>
                  </a:lnTo>
                  <a:lnTo>
                    <a:pt x="22" y="132"/>
                  </a:lnTo>
                  <a:lnTo>
                    <a:pt x="8" y="139"/>
                  </a:lnTo>
                  <a:lnTo>
                    <a:pt x="12" y="140"/>
                  </a:lnTo>
                  <a:lnTo>
                    <a:pt x="8" y="139"/>
                  </a:lnTo>
                  <a:lnTo>
                    <a:pt x="1" y="142"/>
                  </a:lnTo>
                  <a:lnTo>
                    <a:pt x="0" y="149"/>
                  </a:lnTo>
                  <a:lnTo>
                    <a:pt x="3" y="155"/>
                  </a:lnTo>
                  <a:lnTo>
                    <a:pt x="10" y="158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292800" y="2857680"/>
              <a:ext cx="87840" cy="81360"/>
            </a:xfrm>
            <a:custGeom>
              <a:avLst/>
              <a:gdLst/>
              <a:ahLst/>
              <a:rect l="l" t="t" r="r" b="b"/>
              <a:pathLst>
                <a:path w="208" h="188">
                  <a:moveTo>
                    <a:pt x="0" y="12"/>
                  </a:moveTo>
                  <a:lnTo>
                    <a:pt x="1" y="15"/>
                  </a:lnTo>
                  <a:lnTo>
                    <a:pt x="11" y="27"/>
                  </a:lnTo>
                  <a:lnTo>
                    <a:pt x="21" y="38"/>
                  </a:lnTo>
                  <a:lnTo>
                    <a:pt x="32" y="49"/>
                  </a:lnTo>
                  <a:lnTo>
                    <a:pt x="42" y="62"/>
                  </a:lnTo>
                  <a:lnTo>
                    <a:pt x="55" y="74"/>
                  </a:lnTo>
                  <a:lnTo>
                    <a:pt x="67" y="85"/>
                  </a:lnTo>
                  <a:lnTo>
                    <a:pt x="78" y="98"/>
                  </a:lnTo>
                  <a:lnTo>
                    <a:pt x="90" y="111"/>
                  </a:lnTo>
                  <a:lnTo>
                    <a:pt x="103" y="122"/>
                  </a:lnTo>
                  <a:lnTo>
                    <a:pt x="116" y="133"/>
                  </a:lnTo>
                  <a:lnTo>
                    <a:pt x="129" y="143"/>
                  </a:lnTo>
                  <a:lnTo>
                    <a:pt x="144" y="154"/>
                  </a:lnTo>
                  <a:lnTo>
                    <a:pt x="157" y="165"/>
                  </a:lnTo>
                  <a:lnTo>
                    <a:pt x="172" y="173"/>
                  </a:lnTo>
                  <a:lnTo>
                    <a:pt x="187" y="180"/>
                  </a:lnTo>
                  <a:lnTo>
                    <a:pt x="201" y="188"/>
                  </a:lnTo>
                  <a:lnTo>
                    <a:pt x="208" y="171"/>
                  </a:lnTo>
                  <a:lnTo>
                    <a:pt x="194" y="163"/>
                  </a:lnTo>
                  <a:lnTo>
                    <a:pt x="180" y="156"/>
                  </a:lnTo>
                  <a:lnTo>
                    <a:pt x="167" y="149"/>
                  </a:lnTo>
                  <a:lnTo>
                    <a:pt x="155" y="140"/>
                  </a:lnTo>
                  <a:lnTo>
                    <a:pt x="140" y="130"/>
                  </a:lnTo>
                  <a:lnTo>
                    <a:pt x="128" y="119"/>
                  </a:lnTo>
                  <a:lnTo>
                    <a:pt x="115" y="109"/>
                  </a:lnTo>
                  <a:lnTo>
                    <a:pt x="102" y="96"/>
                  </a:lnTo>
                  <a:lnTo>
                    <a:pt x="90" y="85"/>
                  </a:lnTo>
                  <a:lnTo>
                    <a:pt x="78" y="74"/>
                  </a:lnTo>
                  <a:lnTo>
                    <a:pt x="67" y="62"/>
                  </a:lnTo>
                  <a:lnTo>
                    <a:pt x="56" y="50"/>
                  </a:lnTo>
                  <a:lnTo>
                    <a:pt x="45" y="38"/>
                  </a:lnTo>
                  <a:lnTo>
                    <a:pt x="35" y="25"/>
                  </a:lnTo>
                  <a:lnTo>
                    <a:pt x="24" y="15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1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278040" y="2556720"/>
              <a:ext cx="126720" cy="307440"/>
            </a:xfrm>
            <a:custGeom>
              <a:avLst/>
              <a:gdLst/>
              <a:ahLst/>
              <a:rect l="l" t="t" r="r" b="b"/>
              <a:pathLst>
                <a:path w="296" h="715">
                  <a:moveTo>
                    <a:pt x="290" y="1"/>
                  </a:moveTo>
                  <a:lnTo>
                    <a:pt x="282" y="1"/>
                  </a:lnTo>
                  <a:lnTo>
                    <a:pt x="242" y="30"/>
                  </a:lnTo>
                  <a:lnTo>
                    <a:pt x="205" y="62"/>
                  </a:lnTo>
                  <a:lnTo>
                    <a:pt x="170" y="99"/>
                  </a:lnTo>
                  <a:lnTo>
                    <a:pt x="139" y="138"/>
                  </a:lnTo>
                  <a:lnTo>
                    <a:pt x="108" y="181"/>
                  </a:lnTo>
                  <a:lnTo>
                    <a:pt x="84" y="228"/>
                  </a:lnTo>
                  <a:lnTo>
                    <a:pt x="59" y="273"/>
                  </a:lnTo>
                  <a:lnTo>
                    <a:pt x="40" y="323"/>
                  </a:lnTo>
                  <a:lnTo>
                    <a:pt x="25" y="372"/>
                  </a:lnTo>
                  <a:lnTo>
                    <a:pt x="13" y="423"/>
                  </a:lnTo>
                  <a:lnTo>
                    <a:pt x="4" y="474"/>
                  </a:lnTo>
                  <a:lnTo>
                    <a:pt x="0" y="523"/>
                  </a:lnTo>
                  <a:lnTo>
                    <a:pt x="0" y="573"/>
                  </a:lnTo>
                  <a:lnTo>
                    <a:pt x="7" y="623"/>
                  </a:lnTo>
                  <a:lnTo>
                    <a:pt x="16" y="670"/>
                  </a:lnTo>
                  <a:lnTo>
                    <a:pt x="33" y="715"/>
                  </a:lnTo>
                  <a:lnTo>
                    <a:pt x="49" y="708"/>
                  </a:lnTo>
                  <a:lnTo>
                    <a:pt x="35" y="665"/>
                  </a:lnTo>
                  <a:lnTo>
                    <a:pt x="26" y="620"/>
                  </a:lnTo>
                  <a:lnTo>
                    <a:pt x="19" y="573"/>
                  </a:lnTo>
                  <a:lnTo>
                    <a:pt x="19" y="523"/>
                  </a:lnTo>
                  <a:lnTo>
                    <a:pt x="23" y="474"/>
                  </a:lnTo>
                  <a:lnTo>
                    <a:pt x="31" y="425"/>
                  </a:lnTo>
                  <a:lnTo>
                    <a:pt x="44" y="378"/>
                  </a:lnTo>
                  <a:lnTo>
                    <a:pt x="57" y="328"/>
                  </a:lnTo>
                  <a:lnTo>
                    <a:pt x="76" y="280"/>
                  </a:lnTo>
                  <a:lnTo>
                    <a:pt x="100" y="234"/>
                  </a:lnTo>
                  <a:lnTo>
                    <a:pt x="125" y="191"/>
                  </a:lnTo>
                  <a:lnTo>
                    <a:pt x="152" y="149"/>
                  </a:lnTo>
                  <a:lnTo>
                    <a:pt x="184" y="110"/>
                  </a:lnTo>
                  <a:lnTo>
                    <a:pt x="218" y="77"/>
                  </a:lnTo>
                  <a:lnTo>
                    <a:pt x="254" y="44"/>
                  </a:lnTo>
                  <a:lnTo>
                    <a:pt x="292" y="17"/>
                  </a:lnTo>
                  <a:lnTo>
                    <a:pt x="284" y="17"/>
                  </a:lnTo>
                  <a:lnTo>
                    <a:pt x="292" y="17"/>
                  </a:lnTo>
                  <a:lnTo>
                    <a:pt x="296" y="11"/>
                  </a:lnTo>
                  <a:lnTo>
                    <a:pt x="295" y="5"/>
                  </a:lnTo>
                  <a:lnTo>
                    <a:pt x="290" y="0"/>
                  </a:lnTo>
                  <a:lnTo>
                    <a:pt x="282" y="1"/>
                  </a:lnTo>
                  <a:lnTo>
                    <a:pt x="2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385320" y="2825280"/>
              <a:ext cx="47160" cy="5148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0" y="4"/>
                  </a:moveTo>
                  <a:lnTo>
                    <a:pt x="8" y="23"/>
                  </a:lnTo>
                  <a:lnTo>
                    <a:pt x="16" y="42"/>
                  </a:lnTo>
                  <a:lnTo>
                    <a:pt x="28" y="58"/>
                  </a:lnTo>
                  <a:lnTo>
                    <a:pt x="40" y="74"/>
                  </a:lnTo>
                  <a:lnTo>
                    <a:pt x="55" y="89"/>
                  </a:lnTo>
                  <a:lnTo>
                    <a:pt x="70" y="101"/>
                  </a:lnTo>
                  <a:lnTo>
                    <a:pt x="85" y="112"/>
                  </a:lnTo>
                  <a:lnTo>
                    <a:pt x="102" y="119"/>
                  </a:lnTo>
                  <a:lnTo>
                    <a:pt x="109" y="103"/>
                  </a:lnTo>
                  <a:lnTo>
                    <a:pt x="95" y="95"/>
                  </a:lnTo>
                  <a:lnTo>
                    <a:pt x="80" y="86"/>
                  </a:lnTo>
                  <a:lnTo>
                    <a:pt x="67" y="75"/>
                  </a:lnTo>
                  <a:lnTo>
                    <a:pt x="53" y="62"/>
                  </a:lnTo>
                  <a:lnTo>
                    <a:pt x="42" y="48"/>
                  </a:lnTo>
                  <a:lnTo>
                    <a:pt x="32" y="33"/>
                  </a:lnTo>
                  <a:lnTo>
                    <a:pt x="24" y="16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162120" y="3059640"/>
              <a:ext cx="57600" cy="92520"/>
            </a:xfrm>
            <a:custGeom>
              <a:avLst/>
              <a:gdLst/>
              <a:ahLst/>
              <a:rect l="l" t="t" r="r" b="b"/>
              <a:pathLst>
                <a:path w="135" h="212">
                  <a:moveTo>
                    <a:pt x="21" y="212"/>
                  </a:moveTo>
                  <a:lnTo>
                    <a:pt x="21" y="211"/>
                  </a:lnTo>
                  <a:lnTo>
                    <a:pt x="24" y="188"/>
                  </a:lnTo>
                  <a:lnTo>
                    <a:pt x="33" y="163"/>
                  </a:lnTo>
                  <a:lnTo>
                    <a:pt x="46" y="138"/>
                  </a:lnTo>
                  <a:lnTo>
                    <a:pt x="62" y="113"/>
                  </a:lnTo>
                  <a:lnTo>
                    <a:pt x="81" y="86"/>
                  </a:lnTo>
                  <a:lnTo>
                    <a:pt x="100" y="60"/>
                  </a:lnTo>
                  <a:lnTo>
                    <a:pt x="118" y="35"/>
                  </a:lnTo>
                  <a:lnTo>
                    <a:pt x="135" y="8"/>
                  </a:lnTo>
                  <a:lnTo>
                    <a:pt x="116" y="0"/>
                  </a:lnTo>
                  <a:lnTo>
                    <a:pt x="102" y="23"/>
                  </a:lnTo>
                  <a:lnTo>
                    <a:pt x="83" y="47"/>
                  </a:lnTo>
                  <a:lnTo>
                    <a:pt x="64" y="75"/>
                  </a:lnTo>
                  <a:lnTo>
                    <a:pt x="45" y="101"/>
                  </a:lnTo>
                  <a:lnTo>
                    <a:pt x="27" y="129"/>
                  </a:lnTo>
                  <a:lnTo>
                    <a:pt x="14" y="156"/>
                  </a:lnTo>
                  <a:lnTo>
                    <a:pt x="3" y="183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21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159960" y="3149640"/>
              <a:ext cx="42840" cy="94320"/>
            </a:xfrm>
            <a:custGeom>
              <a:avLst/>
              <a:gdLst/>
              <a:ahLst/>
              <a:rect l="l" t="t" r="r" b="b"/>
              <a:pathLst>
                <a:path w="100" h="219">
                  <a:moveTo>
                    <a:pt x="100" y="212"/>
                  </a:moveTo>
                  <a:lnTo>
                    <a:pt x="99" y="206"/>
                  </a:lnTo>
                  <a:lnTo>
                    <a:pt x="80" y="172"/>
                  </a:lnTo>
                  <a:lnTo>
                    <a:pt x="63" y="145"/>
                  </a:lnTo>
                  <a:lnTo>
                    <a:pt x="47" y="123"/>
                  </a:lnTo>
                  <a:lnTo>
                    <a:pt x="36" y="104"/>
                  </a:lnTo>
                  <a:lnTo>
                    <a:pt x="27" y="84"/>
                  </a:lnTo>
                  <a:lnTo>
                    <a:pt x="22" y="63"/>
                  </a:lnTo>
                  <a:lnTo>
                    <a:pt x="21" y="37"/>
                  </a:lnTo>
                  <a:lnTo>
                    <a:pt x="23" y="3"/>
                  </a:lnTo>
                  <a:lnTo>
                    <a:pt x="2" y="0"/>
                  </a:lnTo>
                  <a:lnTo>
                    <a:pt x="0" y="37"/>
                  </a:lnTo>
                  <a:lnTo>
                    <a:pt x="1" y="65"/>
                  </a:lnTo>
                  <a:lnTo>
                    <a:pt x="6" y="91"/>
                  </a:lnTo>
                  <a:lnTo>
                    <a:pt x="17" y="114"/>
                  </a:lnTo>
                  <a:lnTo>
                    <a:pt x="31" y="135"/>
                  </a:lnTo>
                  <a:lnTo>
                    <a:pt x="46" y="157"/>
                  </a:lnTo>
                  <a:lnTo>
                    <a:pt x="62" y="181"/>
                  </a:lnTo>
                  <a:lnTo>
                    <a:pt x="80" y="215"/>
                  </a:lnTo>
                  <a:lnTo>
                    <a:pt x="79" y="208"/>
                  </a:lnTo>
                  <a:lnTo>
                    <a:pt x="80" y="215"/>
                  </a:lnTo>
                  <a:lnTo>
                    <a:pt x="86" y="219"/>
                  </a:lnTo>
                  <a:lnTo>
                    <a:pt x="95" y="218"/>
                  </a:lnTo>
                  <a:lnTo>
                    <a:pt x="99" y="214"/>
                  </a:lnTo>
                  <a:lnTo>
                    <a:pt x="99" y="206"/>
                  </a:lnTo>
                  <a:lnTo>
                    <a:pt x="10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129720" y="3240360"/>
              <a:ext cx="72720" cy="341640"/>
            </a:xfrm>
            <a:custGeom>
              <a:avLst/>
              <a:gdLst/>
              <a:ahLst/>
              <a:rect l="l" t="t" r="r" b="b"/>
              <a:pathLst>
                <a:path w="173" h="797">
                  <a:moveTo>
                    <a:pt x="22" y="797"/>
                  </a:moveTo>
                  <a:lnTo>
                    <a:pt x="36" y="701"/>
                  </a:lnTo>
                  <a:lnTo>
                    <a:pt x="50" y="601"/>
                  </a:lnTo>
                  <a:lnTo>
                    <a:pt x="65" y="495"/>
                  </a:lnTo>
                  <a:lnTo>
                    <a:pt x="82" y="390"/>
                  </a:lnTo>
                  <a:lnTo>
                    <a:pt x="101" y="286"/>
                  </a:lnTo>
                  <a:lnTo>
                    <a:pt x="122" y="188"/>
                  </a:lnTo>
                  <a:lnTo>
                    <a:pt x="148" y="92"/>
                  </a:lnTo>
                  <a:lnTo>
                    <a:pt x="173" y="4"/>
                  </a:lnTo>
                  <a:lnTo>
                    <a:pt x="152" y="0"/>
                  </a:lnTo>
                  <a:lnTo>
                    <a:pt x="127" y="87"/>
                  </a:lnTo>
                  <a:lnTo>
                    <a:pt x="101" y="182"/>
                  </a:lnTo>
                  <a:lnTo>
                    <a:pt x="80" y="284"/>
                  </a:lnTo>
                  <a:lnTo>
                    <a:pt x="61" y="388"/>
                  </a:lnTo>
                  <a:lnTo>
                    <a:pt x="44" y="493"/>
                  </a:lnTo>
                  <a:lnTo>
                    <a:pt x="28" y="597"/>
                  </a:lnTo>
                  <a:lnTo>
                    <a:pt x="15" y="698"/>
                  </a:lnTo>
                  <a:lnTo>
                    <a:pt x="0" y="795"/>
                  </a:lnTo>
                  <a:lnTo>
                    <a:pt x="22" y="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492600" y="3074760"/>
              <a:ext cx="62280" cy="83520"/>
            </a:xfrm>
            <a:custGeom>
              <a:avLst/>
              <a:gdLst/>
              <a:ahLst/>
              <a:rect l="l" t="t" r="r" b="b"/>
              <a:pathLst>
                <a:path w="147" h="197">
                  <a:moveTo>
                    <a:pt x="147" y="197"/>
                  </a:moveTo>
                  <a:lnTo>
                    <a:pt x="147" y="197"/>
                  </a:lnTo>
                  <a:lnTo>
                    <a:pt x="147" y="168"/>
                  </a:lnTo>
                  <a:lnTo>
                    <a:pt x="139" y="139"/>
                  </a:lnTo>
                  <a:lnTo>
                    <a:pt x="123" y="109"/>
                  </a:lnTo>
                  <a:lnTo>
                    <a:pt x="103" y="82"/>
                  </a:lnTo>
                  <a:lnTo>
                    <a:pt x="79" y="54"/>
                  </a:lnTo>
                  <a:lnTo>
                    <a:pt x="56" y="32"/>
                  </a:lnTo>
                  <a:lnTo>
                    <a:pt x="31" y="14"/>
                  </a:lnTo>
                  <a:lnTo>
                    <a:pt x="9" y="0"/>
                  </a:lnTo>
                  <a:lnTo>
                    <a:pt x="0" y="19"/>
                  </a:lnTo>
                  <a:lnTo>
                    <a:pt x="20" y="31"/>
                  </a:lnTo>
                  <a:lnTo>
                    <a:pt x="41" y="49"/>
                  </a:lnTo>
                  <a:lnTo>
                    <a:pt x="65" y="69"/>
                  </a:lnTo>
                  <a:lnTo>
                    <a:pt x="87" y="93"/>
                  </a:lnTo>
                  <a:lnTo>
                    <a:pt x="104" y="121"/>
                  </a:lnTo>
                  <a:lnTo>
                    <a:pt x="120" y="145"/>
                  </a:lnTo>
                  <a:lnTo>
                    <a:pt x="125" y="170"/>
                  </a:lnTo>
                  <a:lnTo>
                    <a:pt x="125" y="193"/>
                  </a:lnTo>
                  <a:lnTo>
                    <a:pt x="125" y="193"/>
                  </a:lnTo>
                  <a:lnTo>
                    <a:pt x="147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516360" y="3156480"/>
              <a:ext cx="38160" cy="8136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23" y="179"/>
                  </a:moveTo>
                  <a:lnTo>
                    <a:pt x="23" y="179"/>
                  </a:lnTo>
                  <a:lnTo>
                    <a:pt x="21" y="163"/>
                  </a:lnTo>
                  <a:lnTo>
                    <a:pt x="24" y="146"/>
                  </a:lnTo>
                  <a:lnTo>
                    <a:pt x="31" y="123"/>
                  </a:lnTo>
                  <a:lnTo>
                    <a:pt x="43" y="101"/>
                  </a:lnTo>
                  <a:lnTo>
                    <a:pt x="58" y="78"/>
                  </a:lnTo>
                  <a:lnTo>
                    <a:pt x="70" y="52"/>
                  </a:lnTo>
                  <a:lnTo>
                    <a:pt x="81" y="28"/>
                  </a:lnTo>
                  <a:lnTo>
                    <a:pt x="89" y="4"/>
                  </a:lnTo>
                  <a:lnTo>
                    <a:pt x="67" y="0"/>
                  </a:lnTo>
                  <a:lnTo>
                    <a:pt x="62" y="21"/>
                  </a:lnTo>
                  <a:lnTo>
                    <a:pt x="51" y="43"/>
                  </a:lnTo>
                  <a:lnTo>
                    <a:pt x="39" y="68"/>
                  </a:lnTo>
                  <a:lnTo>
                    <a:pt x="24" y="92"/>
                  </a:lnTo>
                  <a:lnTo>
                    <a:pt x="12" y="117"/>
                  </a:lnTo>
                  <a:lnTo>
                    <a:pt x="3" y="141"/>
                  </a:lnTo>
                  <a:lnTo>
                    <a:pt x="0" y="163"/>
                  </a:lnTo>
                  <a:lnTo>
                    <a:pt x="4" y="187"/>
                  </a:lnTo>
                  <a:lnTo>
                    <a:pt x="4" y="187"/>
                  </a:lnTo>
                  <a:lnTo>
                    <a:pt x="2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518520" y="3233520"/>
              <a:ext cx="62280" cy="180720"/>
            </a:xfrm>
            <a:custGeom>
              <a:avLst/>
              <a:gdLst/>
              <a:ahLst/>
              <a:rect l="l" t="t" r="r" b="b"/>
              <a:pathLst>
                <a:path w="144" h="420">
                  <a:moveTo>
                    <a:pt x="144" y="417"/>
                  </a:moveTo>
                  <a:lnTo>
                    <a:pt x="131" y="356"/>
                  </a:lnTo>
                  <a:lnTo>
                    <a:pt x="117" y="298"/>
                  </a:lnTo>
                  <a:lnTo>
                    <a:pt x="102" y="243"/>
                  </a:lnTo>
                  <a:lnTo>
                    <a:pt x="88" y="189"/>
                  </a:lnTo>
                  <a:lnTo>
                    <a:pt x="71" y="137"/>
                  </a:lnTo>
                  <a:lnTo>
                    <a:pt x="54" y="89"/>
                  </a:lnTo>
                  <a:lnTo>
                    <a:pt x="37" y="42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8" y="50"/>
                  </a:lnTo>
                  <a:lnTo>
                    <a:pt x="35" y="95"/>
                  </a:lnTo>
                  <a:lnTo>
                    <a:pt x="50" y="143"/>
                  </a:lnTo>
                  <a:lnTo>
                    <a:pt x="66" y="193"/>
                  </a:lnTo>
                  <a:lnTo>
                    <a:pt x="81" y="247"/>
                  </a:lnTo>
                  <a:lnTo>
                    <a:pt x="96" y="303"/>
                  </a:lnTo>
                  <a:lnTo>
                    <a:pt x="110" y="361"/>
                  </a:lnTo>
                  <a:lnTo>
                    <a:pt x="122" y="420"/>
                  </a:lnTo>
                  <a:lnTo>
                    <a:pt x="144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243840" y="2829600"/>
              <a:ext cx="72720" cy="455400"/>
            </a:xfrm>
            <a:custGeom>
              <a:avLst/>
              <a:gdLst/>
              <a:ahLst/>
              <a:rect l="l" t="t" r="r" b="b"/>
              <a:pathLst>
                <a:path w="174" h="1058">
                  <a:moveTo>
                    <a:pt x="98" y="5"/>
                  </a:moveTo>
                  <a:lnTo>
                    <a:pt x="91" y="0"/>
                  </a:lnTo>
                  <a:lnTo>
                    <a:pt x="77" y="1"/>
                  </a:lnTo>
                  <a:lnTo>
                    <a:pt x="59" y="5"/>
                  </a:lnTo>
                  <a:lnTo>
                    <a:pt x="39" y="13"/>
                  </a:lnTo>
                  <a:lnTo>
                    <a:pt x="21" y="22"/>
                  </a:lnTo>
                  <a:lnTo>
                    <a:pt x="7" y="31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23" y="84"/>
                  </a:lnTo>
                  <a:lnTo>
                    <a:pt x="29" y="127"/>
                  </a:lnTo>
                  <a:lnTo>
                    <a:pt x="28" y="176"/>
                  </a:lnTo>
                  <a:lnTo>
                    <a:pt x="21" y="227"/>
                  </a:lnTo>
                  <a:lnTo>
                    <a:pt x="14" y="278"/>
                  </a:lnTo>
                  <a:lnTo>
                    <a:pt x="5" y="329"/>
                  </a:lnTo>
                  <a:lnTo>
                    <a:pt x="1" y="375"/>
                  </a:lnTo>
                  <a:lnTo>
                    <a:pt x="5" y="415"/>
                  </a:lnTo>
                  <a:lnTo>
                    <a:pt x="8" y="419"/>
                  </a:lnTo>
                  <a:lnTo>
                    <a:pt x="17" y="421"/>
                  </a:lnTo>
                  <a:lnTo>
                    <a:pt x="28" y="424"/>
                  </a:lnTo>
                  <a:lnTo>
                    <a:pt x="41" y="425"/>
                  </a:lnTo>
                  <a:lnTo>
                    <a:pt x="55" y="427"/>
                  </a:lnTo>
                  <a:lnTo>
                    <a:pt x="66" y="429"/>
                  </a:lnTo>
                  <a:lnTo>
                    <a:pt x="74" y="434"/>
                  </a:lnTo>
                  <a:lnTo>
                    <a:pt x="77" y="441"/>
                  </a:lnTo>
                  <a:lnTo>
                    <a:pt x="74" y="447"/>
                  </a:lnTo>
                  <a:lnTo>
                    <a:pt x="66" y="451"/>
                  </a:lnTo>
                  <a:lnTo>
                    <a:pt x="55" y="457"/>
                  </a:lnTo>
                  <a:lnTo>
                    <a:pt x="41" y="460"/>
                  </a:lnTo>
                  <a:lnTo>
                    <a:pt x="28" y="466"/>
                  </a:lnTo>
                  <a:lnTo>
                    <a:pt x="18" y="471"/>
                  </a:lnTo>
                  <a:lnTo>
                    <a:pt x="10" y="479"/>
                  </a:lnTo>
                  <a:lnTo>
                    <a:pt x="9" y="487"/>
                  </a:lnTo>
                  <a:lnTo>
                    <a:pt x="19" y="547"/>
                  </a:lnTo>
                  <a:lnTo>
                    <a:pt x="28" y="619"/>
                  </a:lnTo>
                  <a:lnTo>
                    <a:pt x="39" y="699"/>
                  </a:lnTo>
                  <a:lnTo>
                    <a:pt x="54" y="781"/>
                  </a:lnTo>
                  <a:lnTo>
                    <a:pt x="72" y="862"/>
                  </a:lnTo>
                  <a:lnTo>
                    <a:pt x="96" y="939"/>
                  </a:lnTo>
                  <a:lnTo>
                    <a:pt x="128" y="1005"/>
                  </a:lnTo>
                  <a:lnTo>
                    <a:pt x="168" y="1058"/>
                  </a:lnTo>
                  <a:lnTo>
                    <a:pt x="168" y="1033"/>
                  </a:lnTo>
                  <a:lnTo>
                    <a:pt x="168" y="993"/>
                  </a:lnTo>
                  <a:lnTo>
                    <a:pt x="168" y="953"/>
                  </a:lnTo>
                  <a:lnTo>
                    <a:pt x="168" y="930"/>
                  </a:lnTo>
                  <a:lnTo>
                    <a:pt x="167" y="816"/>
                  </a:lnTo>
                  <a:lnTo>
                    <a:pt x="169" y="695"/>
                  </a:lnTo>
                  <a:lnTo>
                    <a:pt x="173" y="571"/>
                  </a:lnTo>
                  <a:lnTo>
                    <a:pt x="174" y="447"/>
                  </a:lnTo>
                  <a:lnTo>
                    <a:pt x="171" y="327"/>
                  </a:lnTo>
                  <a:lnTo>
                    <a:pt x="159" y="212"/>
                  </a:lnTo>
                  <a:lnTo>
                    <a:pt x="136" y="103"/>
                  </a:lnTo>
                  <a:lnTo>
                    <a:pt x="98" y="5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237360" y="2825280"/>
              <a:ext cx="51480" cy="29880"/>
            </a:xfrm>
            <a:custGeom>
              <a:avLst/>
              <a:gdLst/>
              <a:ahLst/>
              <a:rect l="l" t="t" r="r" b="b"/>
              <a:pathLst>
                <a:path w="119" h="66">
                  <a:moveTo>
                    <a:pt x="21" y="51"/>
                  </a:moveTo>
                  <a:lnTo>
                    <a:pt x="19" y="48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7" y="41"/>
                  </a:lnTo>
                  <a:lnTo>
                    <a:pt x="53" y="33"/>
                  </a:lnTo>
                  <a:lnTo>
                    <a:pt x="72" y="25"/>
                  </a:lnTo>
                  <a:lnTo>
                    <a:pt x="89" y="22"/>
                  </a:lnTo>
                  <a:lnTo>
                    <a:pt x="101" y="21"/>
                  </a:lnTo>
                  <a:lnTo>
                    <a:pt x="100" y="18"/>
                  </a:lnTo>
                  <a:lnTo>
                    <a:pt x="119" y="11"/>
                  </a:lnTo>
                  <a:lnTo>
                    <a:pt x="103" y="0"/>
                  </a:lnTo>
                  <a:lnTo>
                    <a:pt x="87" y="1"/>
                  </a:lnTo>
                  <a:lnTo>
                    <a:pt x="68" y="4"/>
                  </a:lnTo>
                  <a:lnTo>
                    <a:pt x="47" y="14"/>
                  </a:lnTo>
                  <a:lnTo>
                    <a:pt x="28" y="22"/>
                  </a:lnTo>
                  <a:lnTo>
                    <a:pt x="11" y="33"/>
                  </a:lnTo>
                  <a:lnTo>
                    <a:pt x="0" y="47"/>
                  </a:lnTo>
                  <a:lnTo>
                    <a:pt x="8" y="65"/>
                  </a:lnTo>
                  <a:lnTo>
                    <a:pt x="6" y="64"/>
                  </a:lnTo>
                  <a:lnTo>
                    <a:pt x="8" y="65"/>
                  </a:lnTo>
                  <a:lnTo>
                    <a:pt x="16" y="66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19" y="48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239520" y="2849040"/>
              <a:ext cx="21240" cy="161280"/>
            </a:xfrm>
            <a:custGeom>
              <a:avLst/>
              <a:gdLst/>
              <a:ahLst/>
              <a:rect l="l" t="t" r="r" b="b"/>
              <a:pathLst>
                <a:path w="50" h="377">
                  <a:moveTo>
                    <a:pt x="26" y="373"/>
                  </a:moveTo>
                  <a:lnTo>
                    <a:pt x="26" y="372"/>
                  </a:lnTo>
                  <a:lnTo>
                    <a:pt x="23" y="334"/>
                  </a:lnTo>
                  <a:lnTo>
                    <a:pt x="26" y="289"/>
                  </a:lnTo>
                  <a:lnTo>
                    <a:pt x="34" y="238"/>
                  </a:lnTo>
                  <a:lnTo>
                    <a:pt x="42" y="188"/>
                  </a:lnTo>
                  <a:lnTo>
                    <a:pt x="49" y="135"/>
                  </a:lnTo>
                  <a:lnTo>
                    <a:pt x="50" y="86"/>
                  </a:lnTo>
                  <a:lnTo>
                    <a:pt x="44" y="40"/>
                  </a:lnTo>
                  <a:lnTo>
                    <a:pt x="20" y="0"/>
                  </a:lnTo>
                  <a:lnTo>
                    <a:pt x="5" y="13"/>
                  </a:lnTo>
                  <a:lnTo>
                    <a:pt x="23" y="46"/>
                  </a:lnTo>
                  <a:lnTo>
                    <a:pt x="29" y="86"/>
                  </a:lnTo>
                  <a:lnTo>
                    <a:pt x="28" y="135"/>
                  </a:lnTo>
                  <a:lnTo>
                    <a:pt x="20" y="185"/>
                  </a:lnTo>
                  <a:lnTo>
                    <a:pt x="13" y="236"/>
                  </a:lnTo>
                  <a:lnTo>
                    <a:pt x="5" y="287"/>
                  </a:lnTo>
                  <a:lnTo>
                    <a:pt x="0" y="334"/>
                  </a:lnTo>
                  <a:lnTo>
                    <a:pt x="5" y="377"/>
                  </a:lnTo>
                  <a:lnTo>
                    <a:pt x="5" y="375"/>
                  </a:lnTo>
                  <a:lnTo>
                    <a:pt x="26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241680" y="3006000"/>
              <a:ext cx="38160" cy="1476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93" y="32"/>
                  </a:moveTo>
                  <a:lnTo>
                    <a:pt x="93" y="32"/>
                  </a:lnTo>
                  <a:lnTo>
                    <a:pt x="86" y="18"/>
                  </a:lnTo>
                  <a:lnTo>
                    <a:pt x="75" y="11"/>
                  </a:lnTo>
                  <a:lnTo>
                    <a:pt x="61" y="7"/>
                  </a:lnTo>
                  <a:lnTo>
                    <a:pt x="47" y="5"/>
                  </a:lnTo>
                  <a:lnTo>
                    <a:pt x="34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21" y="5"/>
                  </a:lnTo>
                  <a:lnTo>
                    <a:pt x="0" y="7"/>
                  </a:lnTo>
                  <a:lnTo>
                    <a:pt x="9" y="19"/>
                  </a:lnTo>
                  <a:lnTo>
                    <a:pt x="20" y="22"/>
                  </a:lnTo>
                  <a:lnTo>
                    <a:pt x="32" y="25"/>
                  </a:lnTo>
                  <a:lnTo>
                    <a:pt x="45" y="26"/>
                  </a:lnTo>
                  <a:lnTo>
                    <a:pt x="59" y="29"/>
                  </a:lnTo>
                  <a:lnTo>
                    <a:pt x="67" y="30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241680" y="3018600"/>
              <a:ext cx="38160" cy="2124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21" y="46"/>
                  </a:moveTo>
                  <a:lnTo>
                    <a:pt x="21" y="46"/>
                  </a:lnTo>
                  <a:lnTo>
                    <a:pt x="21" y="44"/>
                  </a:lnTo>
                  <a:lnTo>
                    <a:pt x="25" y="40"/>
                  </a:lnTo>
                  <a:lnTo>
                    <a:pt x="35" y="36"/>
                  </a:lnTo>
                  <a:lnTo>
                    <a:pt x="46" y="29"/>
                  </a:lnTo>
                  <a:lnTo>
                    <a:pt x="58" y="27"/>
                  </a:lnTo>
                  <a:lnTo>
                    <a:pt x="72" y="21"/>
                  </a:lnTo>
                  <a:lnTo>
                    <a:pt x="81" y="14"/>
                  </a:lnTo>
                  <a:lnTo>
                    <a:pt x="89" y="1"/>
                  </a:lnTo>
                  <a:lnTo>
                    <a:pt x="67" y="1"/>
                  </a:lnTo>
                  <a:lnTo>
                    <a:pt x="67" y="0"/>
                  </a:lnTo>
                  <a:lnTo>
                    <a:pt x="62" y="3"/>
                  </a:lnTo>
                  <a:lnTo>
                    <a:pt x="53" y="6"/>
                  </a:lnTo>
                  <a:lnTo>
                    <a:pt x="39" y="10"/>
                  </a:lnTo>
                  <a:lnTo>
                    <a:pt x="25" y="17"/>
                  </a:lnTo>
                  <a:lnTo>
                    <a:pt x="14" y="24"/>
                  </a:lnTo>
                  <a:lnTo>
                    <a:pt x="2" y="3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241680" y="3040200"/>
              <a:ext cx="76680" cy="249480"/>
            </a:xfrm>
            <a:custGeom>
              <a:avLst/>
              <a:gdLst/>
              <a:ahLst/>
              <a:rect l="l" t="t" r="r" b="b"/>
              <a:pathLst>
                <a:path w="179" h="583">
                  <a:moveTo>
                    <a:pt x="158" y="572"/>
                  </a:moveTo>
                  <a:lnTo>
                    <a:pt x="175" y="565"/>
                  </a:lnTo>
                  <a:lnTo>
                    <a:pt x="138" y="514"/>
                  </a:lnTo>
                  <a:lnTo>
                    <a:pt x="106" y="449"/>
                  </a:lnTo>
                  <a:lnTo>
                    <a:pt x="83" y="374"/>
                  </a:lnTo>
                  <a:lnTo>
                    <a:pt x="65" y="294"/>
                  </a:lnTo>
                  <a:lnTo>
                    <a:pt x="51" y="212"/>
                  </a:lnTo>
                  <a:lnTo>
                    <a:pt x="40" y="132"/>
                  </a:lnTo>
                  <a:lnTo>
                    <a:pt x="30" y="60"/>
                  </a:lnTo>
                  <a:lnTo>
                    <a:pt x="21" y="0"/>
                  </a:lnTo>
                  <a:lnTo>
                    <a:pt x="0" y="2"/>
                  </a:lnTo>
                  <a:lnTo>
                    <a:pt x="9" y="62"/>
                  </a:lnTo>
                  <a:lnTo>
                    <a:pt x="19" y="134"/>
                  </a:lnTo>
                  <a:lnTo>
                    <a:pt x="29" y="215"/>
                  </a:lnTo>
                  <a:lnTo>
                    <a:pt x="43" y="296"/>
                  </a:lnTo>
                  <a:lnTo>
                    <a:pt x="62" y="378"/>
                  </a:lnTo>
                  <a:lnTo>
                    <a:pt x="87" y="456"/>
                  </a:lnTo>
                  <a:lnTo>
                    <a:pt x="119" y="524"/>
                  </a:lnTo>
                  <a:lnTo>
                    <a:pt x="161" y="579"/>
                  </a:lnTo>
                  <a:lnTo>
                    <a:pt x="179" y="572"/>
                  </a:lnTo>
                  <a:lnTo>
                    <a:pt x="161" y="579"/>
                  </a:lnTo>
                  <a:lnTo>
                    <a:pt x="169" y="583"/>
                  </a:lnTo>
                  <a:lnTo>
                    <a:pt x="175" y="579"/>
                  </a:lnTo>
                  <a:lnTo>
                    <a:pt x="179" y="572"/>
                  </a:lnTo>
                  <a:lnTo>
                    <a:pt x="175" y="565"/>
                  </a:lnTo>
                  <a:lnTo>
                    <a:pt x="158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310440" y="3229560"/>
              <a:ext cx="7920" cy="55440"/>
            </a:xfrm>
            <a:custGeom>
              <a:avLst/>
              <a:gdLst/>
              <a:ahLst/>
              <a:rect l="l" t="t" r="r" b="b"/>
              <a:pathLst>
                <a:path w="21" h="128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63"/>
                  </a:lnTo>
                  <a:lnTo>
                    <a:pt x="0" y="103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21" y="103"/>
                  </a:lnTo>
                  <a:lnTo>
                    <a:pt x="21" y="63"/>
                  </a:lnTo>
                  <a:lnTo>
                    <a:pt x="21" y="2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280200" y="2827440"/>
              <a:ext cx="42840" cy="401760"/>
            </a:xfrm>
            <a:custGeom>
              <a:avLst/>
              <a:gdLst/>
              <a:ahLst/>
              <a:rect l="l" t="t" r="r" b="b"/>
              <a:pathLst>
                <a:path w="96" h="935">
                  <a:moveTo>
                    <a:pt x="0" y="13"/>
                  </a:moveTo>
                  <a:lnTo>
                    <a:pt x="0" y="14"/>
                  </a:lnTo>
                  <a:lnTo>
                    <a:pt x="37" y="110"/>
                  </a:lnTo>
                  <a:lnTo>
                    <a:pt x="60" y="218"/>
                  </a:lnTo>
                  <a:lnTo>
                    <a:pt x="71" y="332"/>
                  </a:lnTo>
                  <a:lnTo>
                    <a:pt x="75" y="452"/>
                  </a:lnTo>
                  <a:lnTo>
                    <a:pt x="74" y="576"/>
                  </a:lnTo>
                  <a:lnTo>
                    <a:pt x="69" y="700"/>
                  </a:lnTo>
                  <a:lnTo>
                    <a:pt x="67" y="821"/>
                  </a:lnTo>
                  <a:lnTo>
                    <a:pt x="68" y="935"/>
                  </a:lnTo>
                  <a:lnTo>
                    <a:pt x="89" y="935"/>
                  </a:lnTo>
                  <a:lnTo>
                    <a:pt x="88" y="821"/>
                  </a:lnTo>
                  <a:lnTo>
                    <a:pt x="90" y="700"/>
                  </a:lnTo>
                  <a:lnTo>
                    <a:pt x="95" y="576"/>
                  </a:lnTo>
                  <a:lnTo>
                    <a:pt x="96" y="452"/>
                  </a:lnTo>
                  <a:lnTo>
                    <a:pt x="93" y="332"/>
                  </a:lnTo>
                  <a:lnTo>
                    <a:pt x="81" y="215"/>
                  </a:lnTo>
                  <a:lnTo>
                    <a:pt x="58" y="106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097680" y="2460240"/>
              <a:ext cx="427320" cy="463680"/>
            </a:xfrm>
            <a:custGeom>
              <a:avLst/>
              <a:gdLst/>
              <a:ahLst/>
              <a:rect l="l" t="t" r="r" b="b"/>
              <a:pathLst>
                <a:path w="997" h="1084">
                  <a:moveTo>
                    <a:pt x="866" y="316"/>
                  </a:moveTo>
                  <a:lnTo>
                    <a:pt x="854" y="332"/>
                  </a:lnTo>
                  <a:lnTo>
                    <a:pt x="838" y="344"/>
                  </a:lnTo>
                  <a:lnTo>
                    <a:pt x="820" y="353"/>
                  </a:lnTo>
                  <a:lnTo>
                    <a:pt x="801" y="361"/>
                  </a:lnTo>
                  <a:lnTo>
                    <a:pt x="780" y="365"/>
                  </a:lnTo>
                  <a:lnTo>
                    <a:pt x="759" y="368"/>
                  </a:lnTo>
                  <a:lnTo>
                    <a:pt x="737" y="371"/>
                  </a:lnTo>
                  <a:lnTo>
                    <a:pt x="719" y="371"/>
                  </a:lnTo>
                  <a:lnTo>
                    <a:pt x="710" y="402"/>
                  </a:lnTo>
                  <a:lnTo>
                    <a:pt x="699" y="429"/>
                  </a:lnTo>
                  <a:lnTo>
                    <a:pt x="685" y="454"/>
                  </a:lnTo>
                  <a:lnTo>
                    <a:pt x="671" y="476"/>
                  </a:lnTo>
                  <a:lnTo>
                    <a:pt x="653" y="495"/>
                  </a:lnTo>
                  <a:lnTo>
                    <a:pt x="631" y="514"/>
                  </a:lnTo>
                  <a:lnTo>
                    <a:pt x="608" y="530"/>
                  </a:lnTo>
                  <a:lnTo>
                    <a:pt x="581" y="547"/>
                  </a:lnTo>
                  <a:lnTo>
                    <a:pt x="574" y="555"/>
                  </a:lnTo>
                  <a:lnTo>
                    <a:pt x="571" y="567"/>
                  </a:lnTo>
                  <a:lnTo>
                    <a:pt x="570" y="579"/>
                  </a:lnTo>
                  <a:lnTo>
                    <a:pt x="570" y="590"/>
                  </a:lnTo>
                  <a:lnTo>
                    <a:pt x="459" y="958"/>
                  </a:lnTo>
                  <a:lnTo>
                    <a:pt x="455" y="967"/>
                  </a:lnTo>
                  <a:lnTo>
                    <a:pt x="447" y="972"/>
                  </a:lnTo>
                  <a:lnTo>
                    <a:pt x="436" y="977"/>
                  </a:lnTo>
                  <a:lnTo>
                    <a:pt x="421" y="980"/>
                  </a:lnTo>
                  <a:lnTo>
                    <a:pt x="405" y="981"/>
                  </a:lnTo>
                  <a:lnTo>
                    <a:pt x="388" y="981"/>
                  </a:lnTo>
                  <a:lnTo>
                    <a:pt x="369" y="980"/>
                  </a:lnTo>
                  <a:lnTo>
                    <a:pt x="348" y="980"/>
                  </a:lnTo>
                  <a:lnTo>
                    <a:pt x="328" y="978"/>
                  </a:lnTo>
                  <a:lnTo>
                    <a:pt x="308" y="977"/>
                  </a:lnTo>
                  <a:lnTo>
                    <a:pt x="290" y="977"/>
                  </a:lnTo>
                  <a:lnTo>
                    <a:pt x="272" y="977"/>
                  </a:lnTo>
                  <a:lnTo>
                    <a:pt x="256" y="980"/>
                  </a:lnTo>
                  <a:lnTo>
                    <a:pt x="241" y="982"/>
                  </a:lnTo>
                  <a:lnTo>
                    <a:pt x="229" y="987"/>
                  </a:lnTo>
                  <a:lnTo>
                    <a:pt x="221" y="993"/>
                  </a:lnTo>
                  <a:lnTo>
                    <a:pt x="212" y="1003"/>
                  </a:lnTo>
                  <a:lnTo>
                    <a:pt x="206" y="1012"/>
                  </a:lnTo>
                  <a:lnTo>
                    <a:pt x="201" y="1021"/>
                  </a:lnTo>
                  <a:lnTo>
                    <a:pt x="195" y="1029"/>
                  </a:lnTo>
                  <a:lnTo>
                    <a:pt x="191" y="1039"/>
                  </a:lnTo>
                  <a:lnTo>
                    <a:pt x="186" y="1051"/>
                  </a:lnTo>
                  <a:lnTo>
                    <a:pt x="181" y="1066"/>
                  </a:lnTo>
                  <a:lnTo>
                    <a:pt x="173" y="1084"/>
                  </a:lnTo>
                  <a:lnTo>
                    <a:pt x="151" y="1071"/>
                  </a:lnTo>
                  <a:lnTo>
                    <a:pt x="135" y="1059"/>
                  </a:lnTo>
                  <a:lnTo>
                    <a:pt x="128" y="1044"/>
                  </a:lnTo>
                  <a:lnTo>
                    <a:pt x="122" y="1029"/>
                  </a:lnTo>
                  <a:lnTo>
                    <a:pt x="121" y="1012"/>
                  </a:lnTo>
                  <a:lnTo>
                    <a:pt x="120" y="995"/>
                  </a:lnTo>
                  <a:lnTo>
                    <a:pt x="119" y="975"/>
                  </a:lnTo>
                  <a:lnTo>
                    <a:pt x="114" y="953"/>
                  </a:lnTo>
                  <a:lnTo>
                    <a:pt x="103" y="928"/>
                  </a:lnTo>
                  <a:lnTo>
                    <a:pt x="90" y="901"/>
                  </a:lnTo>
                  <a:lnTo>
                    <a:pt x="74" y="877"/>
                  </a:lnTo>
                  <a:lnTo>
                    <a:pt x="58" y="851"/>
                  </a:lnTo>
                  <a:lnTo>
                    <a:pt x="41" y="826"/>
                  </a:lnTo>
                  <a:lnTo>
                    <a:pt x="26" y="801"/>
                  </a:lnTo>
                  <a:lnTo>
                    <a:pt x="13" y="776"/>
                  </a:lnTo>
                  <a:lnTo>
                    <a:pt x="5" y="749"/>
                  </a:lnTo>
                  <a:lnTo>
                    <a:pt x="0" y="717"/>
                  </a:lnTo>
                  <a:lnTo>
                    <a:pt x="2" y="684"/>
                  </a:lnTo>
                  <a:lnTo>
                    <a:pt x="8" y="653"/>
                  </a:lnTo>
                  <a:lnTo>
                    <a:pt x="19" y="623"/>
                  </a:lnTo>
                  <a:lnTo>
                    <a:pt x="33" y="593"/>
                  </a:lnTo>
                  <a:lnTo>
                    <a:pt x="51" y="565"/>
                  </a:lnTo>
                  <a:lnTo>
                    <a:pt x="71" y="536"/>
                  </a:lnTo>
                  <a:lnTo>
                    <a:pt x="92" y="509"/>
                  </a:lnTo>
                  <a:lnTo>
                    <a:pt x="114" y="482"/>
                  </a:lnTo>
                  <a:lnTo>
                    <a:pt x="137" y="455"/>
                  </a:lnTo>
                  <a:lnTo>
                    <a:pt x="159" y="428"/>
                  </a:lnTo>
                  <a:lnTo>
                    <a:pt x="181" y="403"/>
                  </a:lnTo>
                  <a:lnTo>
                    <a:pt x="200" y="377"/>
                  </a:lnTo>
                  <a:lnTo>
                    <a:pt x="215" y="351"/>
                  </a:lnTo>
                  <a:lnTo>
                    <a:pt x="230" y="326"/>
                  </a:lnTo>
                  <a:lnTo>
                    <a:pt x="241" y="301"/>
                  </a:lnTo>
                  <a:lnTo>
                    <a:pt x="243" y="266"/>
                  </a:lnTo>
                  <a:lnTo>
                    <a:pt x="235" y="228"/>
                  </a:lnTo>
                  <a:lnTo>
                    <a:pt x="231" y="192"/>
                  </a:lnTo>
                  <a:lnTo>
                    <a:pt x="234" y="157"/>
                  </a:lnTo>
                  <a:lnTo>
                    <a:pt x="247" y="132"/>
                  </a:lnTo>
                  <a:lnTo>
                    <a:pt x="263" y="110"/>
                  </a:lnTo>
                  <a:lnTo>
                    <a:pt x="280" y="93"/>
                  </a:lnTo>
                  <a:lnTo>
                    <a:pt x="297" y="77"/>
                  </a:lnTo>
                  <a:lnTo>
                    <a:pt x="315" y="65"/>
                  </a:lnTo>
                  <a:lnTo>
                    <a:pt x="335" y="56"/>
                  </a:lnTo>
                  <a:lnTo>
                    <a:pt x="356" y="49"/>
                  </a:lnTo>
                  <a:lnTo>
                    <a:pt x="377" y="43"/>
                  </a:lnTo>
                  <a:lnTo>
                    <a:pt x="398" y="39"/>
                  </a:lnTo>
                  <a:lnTo>
                    <a:pt x="420" y="36"/>
                  </a:lnTo>
                  <a:lnTo>
                    <a:pt x="445" y="32"/>
                  </a:lnTo>
                  <a:lnTo>
                    <a:pt x="467" y="30"/>
                  </a:lnTo>
                  <a:lnTo>
                    <a:pt x="490" y="27"/>
                  </a:lnTo>
                  <a:lnTo>
                    <a:pt x="512" y="24"/>
                  </a:lnTo>
                  <a:lnTo>
                    <a:pt x="536" y="21"/>
                  </a:lnTo>
                  <a:lnTo>
                    <a:pt x="559" y="14"/>
                  </a:lnTo>
                  <a:lnTo>
                    <a:pt x="583" y="9"/>
                  </a:lnTo>
                  <a:lnTo>
                    <a:pt x="608" y="4"/>
                  </a:lnTo>
                  <a:lnTo>
                    <a:pt x="630" y="1"/>
                  </a:lnTo>
                  <a:lnTo>
                    <a:pt x="653" y="0"/>
                  </a:lnTo>
                  <a:lnTo>
                    <a:pt x="674" y="0"/>
                  </a:lnTo>
                  <a:lnTo>
                    <a:pt x="695" y="1"/>
                  </a:lnTo>
                  <a:lnTo>
                    <a:pt x="715" y="3"/>
                  </a:lnTo>
                  <a:lnTo>
                    <a:pt x="735" y="6"/>
                  </a:lnTo>
                  <a:lnTo>
                    <a:pt x="754" y="12"/>
                  </a:lnTo>
                  <a:lnTo>
                    <a:pt x="773" y="19"/>
                  </a:lnTo>
                  <a:lnTo>
                    <a:pt x="793" y="26"/>
                  </a:lnTo>
                  <a:lnTo>
                    <a:pt x="812" y="34"/>
                  </a:lnTo>
                  <a:lnTo>
                    <a:pt x="832" y="45"/>
                  </a:lnTo>
                  <a:lnTo>
                    <a:pt x="852" y="56"/>
                  </a:lnTo>
                  <a:lnTo>
                    <a:pt x="872" y="67"/>
                  </a:lnTo>
                  <a:lnTo>
                    <a:pt x="893" y="81"/>
                  </a:lnTo>
                  <a:lnTo>
                    <a:pt x="914" y="94"/>
                  </a:lnTo>
                  <a:lnTo>
                    <a:pt x="935" y="107"/>
                  </a:lnTo>
                  <a:lnTo>
                    <a:pt x="954" y="123"/>
                  </a:lnTo>
                  <a:lnTo>
                    <a:pt x="967" y="141"/>
                  </a:lnTo>
                  <a:lnTo>
                    <a:pt x="975" y="161"/>
                  </a:lnTo>
                  <a:lnTo>
                    <a:pt x="975" y="182"/>
                  </a:lnTo>
                  <a:lnTo>
                    <a:pt x="965" y="207"/>
                  </a:lnTo>
                  <a:lnTo>
                    <a:pt x="943" y="234"/>
                  </a:lnTo>
                  <a:lnTo>
                    <a:pt x="974" y="269"/>
                  </a:lnTo>
                  <a:lnTo>
                    <a:pt x="991" y="302"/>
                  </a:lnTo>
                  <a:lnTo>
                    <a:pt x="997" y="331"/>
                  </a:lnTo>
                  <a:lnTo>
                    <a:pt x="994" y="359"/>
                  </a:lnTo>
                  <a:lnTo>
                    <a:pt x="983" y="386"/>
                  </a:lnTo>
                  <a:lnTo>
                    <a:pt x="964" y="414"/>
                  </a:lnTo>
                  <a:lnTo>
                    <a:pt x="940" y="440"/>
                  </a:lnTo>
                  <a:lnTo>
                    <a:pt x="913" y="468"/>
                  </a:lnTo>
                  <a:lnTo>
                    <a:pt x="912" y="445"/>
                  </a:lnTo>
                  <a:lnTo>
                    <a:pt x="909" y="424"/>
                  </a:lnTo>
                  <a:lnTo>
                    <a:pt x="905" y="404"/>
                  </a:lnTo>
                  <a:lnTo>
                    <a:pt x="900" y="385"/>
                  </a:lnTo>
                  <a:lnTo>
                    <a:pt x="893" y="367"/>
                  </a:lnTo>
                  <a:lnTo>
                    <a:pt x="885" y="349"/>
                  </a:lnTo>
                  <a:lnTo>
                    <a:pt x="875" y="333"/>
                  </a:lnTo>
                  <a:lnTo>
                    <a:pt x="866" y="316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402600" y="2593080"/>
              <a:ext cx="70920" cy="29880"/>
            </a:xfrm>
            <a:custGeom>
              <a:avLst/>
              <a:gdLst/>
              <a:ahLst/>
              <a:rect l="l" t="t" r="r" b="b"/>
              <a:pathLst>
                <a:path w="164" h="69">
                  <a:moveTo>
                    <a:pt x="19" y="61"/>
                  </a:moveTo>
                  <a:lnTo>
                    <a:pt x="9" y="69"/>
                  </a:lnTo>
                  <a:lnTo>
                    <a:pt x="27" y="69"/>
                  </a:lnTo>
                  <a:lnTo>
                    <a:pt x="50" y="66"/>
                  </a:lnTo>
                  <a:lnTo>
                    <a:pt x="71" y="62"/>
                  </a:lnTo>
                  <a:lnTo>
                    <a:pt x="94" y="57"/>
                  </a:lnTo>
                  <a:lnTo>
                    <a:pt x="114" y="50"/>
                  </a:lnTo>
                  <a:lnTo>
                    <a:pt x="134" y="40"/>
                  </a:lnTo>
                  <a:lnTo>
                    <a:pt x="151" y="26"/>
                  </a:lnTo>
                  <a:lnTo>
                    <a:pt x="164" y="10"/>
                  </a:lnTo>
                  <a:lnTo>
                    <a:pt x="147" y="0"/>
                  </a:lnTo>
                  <a:lnTo>
                    <a:pt x="138" y="14"/>
                  </a:lnTo>
                  <a:lnTo>
                    <a:pt x="124" y="23"/>
                  </a:lnTo>
                  <a:lnTo>
                    <a:pt x="106" y="33"/>
                  </a:lnTo>
                  <a:lnTo>
                    <a:pt x="88" y="39"/>
                  </a:lnTo>
                  <a:lnTo>
                    <a:pt x="68" y="43"/>
                  </a:lnTo>
                  <a:lnTo>
                    <a:pt x="47" y="47"/>
                  </a:lnTo>
                  <a:lnTo>
                    <a:pt x="27" y="50"/>
                  </a:lnTo>
                  <a:lnTo>
                    <a:pt x="9" y="50"/>
                  </a:lnTo>
                  <a:lnTo>
                    <a:pt x="0" y="56"/>
                  </a:lnTo>
                  <a:lnTo>
                    <a:pt x="9" y="50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9" y="69"/>
                  </a:lnTo>
                  <a:lnTo>
                    <a:pt x="1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344640" y="2617200"/>
              <a:ext cx="66600" cy="8136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9" y="187"/>
                  </a:moveTo>
                  <a:lnTo>
                    <a:pt x="9" y="187"/>
                  </a:lnTo>
                  <a:lnTo>
                    <a:pt x="35" y="170"/>
                  </a:lnTo>
                  <a:lnTo>
                    <a:pt x="61" y="152"/>
                  </a:lnTo>
                  <a:lnTo>
                    <a:pt x="82" y="134"/>
                  </a:lnTo>
                  <a:lnTo>
                    <a:pt x="101" y="114"/>
                  </a:lnTo>
                  <a:lnTo>
                    <a:pt x="117" y="90"/>
                  </a:lnTo>
                  <a:lnTo>
                    <a:pt x="129" y="66"/>
                  </a:lnTo>
                  <a:lnTo>
                    <a:pt x="141" y="36"/>
                  </a:lnTo>
                  <a:lnTo>
                    <a:pt x="152" y="5"/>
                  </a:lnTo>
                  <a:lnTo>
                    <a:pt x="133" y="0"/>
                  </a:lnTo>
                  <a:lnTo>
                    <a:pt x="124" y="31"/>
                  </a:lnTo>
                  <a:lnTo>
                    <a:pt x="114" y="58"/>
                  </a:lnTo>
                  <a:lnTo>
                    <a:pt x="101" y="80"/>
                  </a:lnTo>
                  <a:lnTo>
                    <a:pt x="86" y="102"/>
                  </a:lnTo>
                  <a:lnTo>
                    <a:pt x="70" y="119"/>
                  </a:lnTo>
                  <a:lnTo>
                    <a:pt x="48" y="138"/>
                  </a:lnTo>
                  <a:lnTo>
                    <a:pt x="26" y="154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9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338160" y="2690280"/>
              <a:ext cx="10440" cy="2304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19" y="55"/>
                  </a:moveTo>
                  <a:lnTo>
                    <a:pt x="19" y="52"/>
                  </a:lnTo>
                  <a:lnTo>
                    <a:pt x="19" y="41"/>
                  </a:lnTo>
                  <a:lnTo>
                    <a:pt x="20" y="30"/>
                  </a:lnTo>
                  <a:lnTo>
                    <a:pt x="22" y="20"/>
                  </a:lnTo>
                  <a:lnTo>
                    <a:pt x="25" y="17"/>
                  </a:lnTo>
                  <a:lnTo>
                    <a:pt x="16" y="0"/>
                  </a:lnTo>
                  <a:lnTo>
                    <a:pt x="6" y="14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291000" y="2711520"/>
              <a:ext cx="55800" cy="161280"/>
            </a:xfrm>
            <a:custGeom>
              <a:avLst/>
              <a:gdLst/>
              <a:ahLst/>
              <a:rect l="l" t="t" r="r" b="b"/>
              <a:pathLst>
                <a:path w="130" h="373">
                  <a:moveTo>
                    <a:pt x="19" y="373"/>
                  </a:moveTo>
                  <a:lnTo>
                    <a:pt x="19" y="373"/>
                  </a:lnTo>
                  <a:lnTo>
                    <a:pt x="130" y="5"/>
                  </a:lnTo>
                  <a:lnTo>
                    <a:pt x="111" y="0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19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190200" y="2870640"/>
              <a:ext cx="109440" cy="19440"/>
            </a:xfrm>
            <a:custGeom>
              <a:avLst/>
              <a:gdLst/>
              <a:ahLst/>
              <a:rect l="l" t="t" r="r" b="b"/>
              <a:pathLst>
                <a:path w="256" h="44">
                  <a:moveTo>
                    <a:pt x="14" y="44"/>
                  </a:moveTo>
                  <a:lnTo>
                    <a:pt x="14" y="44"/>
                  </a:lnTo>
                  <a:lnTo>
                    <a:pt x="20" y="39"/>
                  </a:lnTo>
                  <a:lnTo>
                    <a:pt x="30" y="35"/>
                  </a:lnTo>
                  <a:lnTo>
                    <a:pt x="44" y="33"/>
                  </a:lnTo>
                  <a:lnTo>
                    <a:pt x="59" y="31"/>
                  </a:lnTo>
                  <a:lnTo>
                    <a:pt x="77" y="31"/>
                  </a:lnTo>
                  <a:lnTo>
                    <a:pt x="95" y="31"/>
                  </a:lnTo>
                  <a:lnTo>
                    <a:pt x="115" y="32"/>
                  </a:lnTo>
                  <a:lnTo>
                    <a:pt x="135" y="33"/>
                  </a:lnTo>
                  <a:lnTo>
                    <a:pt x="156" y="33"/>
                  </a:lnTo>
                  <a:lnTo>
                    <a:pt x="175" y="34"/>
                  </a:lnTo>
                  <a:lnTo>
                    <a:pt x="192" y="34"/>
                  </a:lnTo>
                  <a:lnTo>
                    <a:pt x="208" y="33"/>
                  </a:lnTo>
                  <a:lnTo>
                    <a:pt x="225" y="31"/>
                  </a:lnTo>
                  <a:lnTo>
                    <a:pt x="238" y="25"/>
                  </a:lnTo>
                  <a:lnTo>
                    <a:pt x="248" y="16"/>
                  </a:lnTo>
                  <a:lnTo>
                    <a:pt x="256" y="5"/>
                  </a:lnTo>
                  <a:lnTo>
                    <a:pt x="237" y="0"/>
                  </a:lnTo>
                  <a:lnTo>
                    <a:pt x="235" y="5"/>
                  </a:lnTo>
                  <a:lnTo>
                    <a:pt x="228" y="9"/>
                  </a:lnTo>
                  <a:lnTo>
                    <a:pt x="221" y="12"/>
                  </a:lnTo>
                  <a:lnTo>
                    <a:pt x="208" y="14"/>
                  </a:lnTo>
                  <a:lnTo>
                    <a:pt x="192" y="15"/>
                  </a:lnTo>
                  <a:lnTo>
                    <a:pt x="175" y="15"/>
                  </a:lnTo>
                  <a:lnTo>
                    <a:pt x="156" y="14"/>
                  </a:lnTo>
                  <a:lnTo>
                    <a:pt x="135" y="14"/>
                  </a:lnTo>
                  <a:lnTo>
                    <a:pt x="115" y="13"/>
                  </a:lnTo>
                  <a:lnTo>
                    <a:pt x="95" y="12"/>
                  </a:lnTo>
                  <a:lnTo>
                    <a:pt x="77" y="12"/>
                  </a:lnTo>
                  <a:lnTo>
                    <a:pt x="59" y="12"/>
                  </a:lnTo>
                  <a:lnTo>
                    <a:pt x="41" y="14"/>
                  </a:lnTo>
                  <a:lnTo>
                    <a:pt x="26" y="16"/>
                  </a:lnTo>
                  <a:lnTo>
                    <a:pt x="11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168960" y="2883600"/>
              <a:ext cx="25200" cy="44640"/>
            </a:xfrm>
            <a:custGeom>
              <a:avLst/>
              <a:gdLst/>
              <a:ahLst/>
              <a:rect l="l" t="t" r="r" b="b"/>
              <a:pathLst>
                <a:path w="62" h="105">
                  <a:moveTo>
                    <a:pt x="5" y="105"/>
                  </a:moveTo>
                  <a:lnTo>
                    <a:pt x="17" y="100"/>
                  </a:lnTo>
                  <a:lnTo>
                    <a:pt x="24" y="80"/>
                  </a:lnTo>
                  <a:lnTo>
                    <a:pt x="29" y="68"/>
                  </a:lnTo>
                  <a:lnTo>
                    <a:pt x="35" y="54"/>
                  </a:lnTo>
                  <a:lnTo>
                    <a:pt x="39" y="45"/>
                  </a:lnTo>
                  <a:lnTo>
                    <a:pt x="44" y="38"/>
                  </a:lnTo>
                  <a:lnTo>
                    <a:pt x="48" y="30"/>
                  </a:lnTo>
                  <a:lnTo>
                    <a:pt x="55" y="21"/>
                  </a:lnTo>
                  <a:lnTo>
                    <a:pt x="62" y="12"/>
                  </a:lnTo>
                  <a:lnTo>
                    <a:pt x="48" y="0"/>
                  </a:lnTo>
                  <a:lnTo>
                    <a:pt x="40" y="9"/>
                  </a:lnTo>
                  <a:lnTo>
                    <a:pt x="35" y="20"/>
                  </a:lnTo>
                  <a:lnTo>
                    <a:pt x="27" y="28"/>
                  </a:lnTo>
                  <a:lnTo>
                    <a:pt x="23" y="36"/>
                  </a:lnTo>
                  <a:lnTo>
                    <a:pt x="18" y="46"/>
                  </a:lnTo>
                  <a:lnTo>
                    <a:pt x="13" y="60"/>
                  </a:lnTo>
                  <a:lnTo>
                    <a:pt x="7" y="75"/>
                  </a:lnTo>
                  <a:lnTo>
                    <a:pt x="0" y="93"/>
                  </a:lnTo>
                  <a:lnTo>
                    <a:pt x="11" y="89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5" y="105"/>
                  </a:lnTo>
                  <a:lnTo>
                    <a:pt x="11" y="105"/>
                  </a:lnTo>
                  <a:lnTo>
                    <a:pt x="17" y="100"/>
                  </a:lnTo>
                  <a:lnTo>
                    <a:pt x="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143040" y="2868480"/>
              <a:ext cx="29520" cy="59760"/>
            </a:xfrm>
            <a:custGeom>
              <a:avLst/>
              <a:gdLst/>
              <a:ahLst/>
              <a:rect l="l" t="t" r="r" b="b"/>
              <a:pathLst>
                <a:path w="71" h="142">
                  <a:moveTo>
                    <a:pt x="0" y="5"/>
                  </a:moveTo>
                  <a:lnTo>
                    <a:pt x="0" y="5"/>
                  </a:lnTo>
                  <a:lnTo>
                    <a:pt x="5" y="25"/>
                  </a:lnTo>
                  <a:lnTo>
                    <a:pt x="6" y="44"/>
                  </a:lnTo>
                  <a:lnTo>
                    <a:pt x="7" y="61"/>
                  </a:lnTo>
                  <a:lnTo>
                    <a:pt x="8" y="79"/>
                  </a:lnTo>
                  <a:lnTo>
                    <a:pt x="14" y="97"/>
                  </a:lnTo>
                  <a:lnTo>
                    <a:pt x="24" y="113"/>
                  </a:lnTo>
                  <a:lnTo>
                    <a:pt x="42" y="128"/>
                  </a:lnTo>
                  <a:lnTo>
                    <a:pt x="65" y="142"/>
                  </a:lnTo>
                  <a:lnTo>
                    <a:pt x="71" y="126"/>
                  </a:lnTo>
                  <a:lnTo>
                    <a:pt x="50" y="113"/>
                  </a:lnTo>
                  <a:lnTo>
                    <a:pt x="38" y="101"/>
                  </a:lnTo>
                  <a:lnTo>
                    <a:pt x="30" y="90"/>
                  </a:lnTo>
                  <a:lnTo>
                    <a:pt x="27" y="77"/>
                  </a:lnTo>
                  <a:lnTo>
                    <a:pt x="26" y="61"/>
                  </a:lnTo>
                  <a:lnTo>
                    <a:pt x="25" y="44"/>
                  </a:lnTo>
                  <a:lnTo>
                    <a:pt x="24" y="2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095880" y="2780280"/>
              <a:ext cx="55440" cy="90000"/>
            </a:xfrm>
            <a:custGeom>
              <a:avLst/>
              <a:gdLst/>
              <a:ahLst/>
              <a:rect l="l" t="t" r="r" b="b"/>
              <a:pathLst>
                <a:path w="128" h="208">
                  <a:moveTo>
                    <a:pt x="0" y="2"/>
                  </a:moveTo>
                  <a:lnTo>
                    <a:pt x="0" y="2"/>
                  </a:lnTo>
                  <a:lnTo>
                    <a:pt x="9" y="31"/>
                  </a:lnTo>
                  <a:lnTo>
                    <a:pt x="22" y="58"/>
                  </a:lnTo>
                  <a:lnTo>
                    <a:pt x="37" y="83"/>
                  </a:lnTo>
                  <a:lnTo>
                    <a:pt x="54" y="108"/>
                  </a:lnTo>
                  <a:lnTo>
                    <a:pt x="70" y="133"/>
                  </a:lnTo>
                  <a:lnTo>
                    <a:pt x="85" y="159"/>
                  </a:lnTo>
                  <a:lnTo>
                    <a:pt x="100" y="183"/>
                  </a:lnTo>
                  <a:lnTo>
                    <a:pt x="109" y="208"/>
                  </a:lnTo>
                  <a:lnTo>
                    <a:pt x="128" y="203"/>
                  </a:lnTo>
                  <a:lnTo>
                    <a:pt x="116" y="177"/>
                  </a:lnTo>
                  <a:lnTo>
                    <a:pt x="102" y="149"/>
                  </a:lnTo>
                  <a:lnTo>
                    <a:pt x="86" y="124"/>
                  </a:lnTo>
                  <a:lnTo>
                    <a:pt x="70" y="98"/>
                  </a:lnTo>
                  <a:lnTo>
                    <a:pt x="54" y="73"/>
                  </a:lnTo>
                  <a:lnTo>
                    <a:pt x="39" y="49"/>
                  </a:lnTo>
                  <a:lnTo>
                    <a:pt x="25" y="2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093360" y="2586960"/>
              <a:ext cx="111960" cy="195120"/>
            </a:xfrm>
            <a:custGeom>
              <a:avLst/>
              <a:gdLst/>
              <a:ahLst/>
              <a:rect l="l" t="t" r="r" b="b"/>
              <a:pathLst>
                <a:path w="260" h="453">
                  <a:moveTo>
                    <a:pt x="241" y="0"/>
                  </a:moveTo>
                  <a:lnTo>
                    <a:pt x="242" y="0"/>
                  </a:lnTo>
                  <a:lnTo>
                    <a:pt x="232" y="26"/>
                  </a:lnTo>
                  <a:lnTo>
                    <a:pt x="217" y="49"/>
                  </a:lnTo>
                  <a:lnTo>
                    <a:pt x="202" y="75"/>
                  </a:lnTo>
                  <a:lnTo>
                    <a:pt x="183" y="100"/>
                  </a:lnTo>
                  <a:lnTo>
                    <a:pt x="162" y="126"/>
                  </a:lnTo>
                  <a:lnTo>
                    <a:pt x="140" y="151"/>
                  </a:lnTo>
                  <a:lnTo>
                    <a:pt x="118" y="179"/>
                  </a:lnTo>
                  <a:lnTo>
                    <a:pt x="94" y="206"/>
                  </a:lnTo>
                  <a:lnTo>
                    <a:pt x="73" y="233"/>
                  </a:lnTo>
                  <a:lnTo>
                    <a:pt x="53" y="262"/>
                  </a:lnTo>
                  <a:lnTo>
                    <a:pt x="35" y="291"/>
                  </a:lnTo>
                  <a:lnTo>
                    <a:pt x="21" y="321"/>
                  </a:lnTo>
                  <a:lnTo>
                    <a:pt x="9" y="353"/>
                  </a:lnTo>
                  <a:lnTo>
                    <a:pt x="4" y="386"/>
                  </a:lnTo>
                  <a:lnTo>
                    <a:pt x="0" y="420"/>
                  </a:lnTo>
                  <a:lnTo>
                    <a:pt x="6" y="453"/>
                  </a:lnTo>
                  <a:lnTo>
                    <a:pt x="25" y="451"/>
                  </a:lnTo>
                  <a:lnTo>
                    <a:pt x="19" y="420"/>
                  </a:lnTo>
                  <a:lnTo>
                    <a:pt x="22" y="388"/>
                  </a:lnTo>
                  <a:lnTo>
                    <a:pt x="28" y="358"/>
                  </a:lnTo>
                  <a:lnTo>
                    <a:pt x="37" y="329"/>
                  </a:lnTo>
                  <a:lnTo>
                    <a:pt x="51" y="300"/>
                  </a:lnTo>
                  <a:lnTo>
                    <a:pt x="68" y="272"/>
                  </a:lnTo>
                  <a:lnTo>
                    <a:pt x="88" y="245"/>
                  </a:lnTo>
                  <a:lnTo>
                    <a:pt x="109" y="218"/>
                  </a:lnTo>
                  <a:lnTo>
                    <a:pt x="131" y="190"/>
                  </a:lnTo>
                  <a:lnTo>
                    <a:pt x="154" y="163"/>
                  </a:lnTo>
                  <a:lnTo>
                    <a:pt x="176" y="138"/>
                  </a:lnTo>
                  <a:lnTo>
                    <a:pt x="198" y="111"/>
                  </a:lnTo>
                  <a:lnTo>
                    <a:pt x="216" y="85"/>
                  </a:lnTo>
                  <a:lnTo>
                    <a:pt x="234" y="58"/>
                  </a:lnTo>
                  <a:lnTo>
                    <a:pt x="249" y="32"/>
                  </a:lnTo>
                  <a:lnTo>
                    <a:pt x="259" y="6"/>
                  </a:lnTo>
                  <a:lnTo>
                    <a:pt x="260" y="6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192360" y="2524320"/>
              <a:ext cx="12960" cy="64080"/>
            </a:xfrm>
            <a:custGeom>
              <a:avLst/>
              <a:gdLst/>
              <a:ahLst/>
              <a:rect l="l" t="t" r="r" b="b"/>
              <a:pathLst>
                <a:path w="30" h="149">
                  <a:moveTo>
                    <a:pt x="4" y="0"/>
                  </a:moveTo>
                  <a:lnTo>
                    <a:pt x="4" y="1"/>
                  </a:lnTo>
                  <a:lnTo>
                    <a:pt x="0" y="38"/>
                  </a:lnTo>
                  <a:lnTo>
                    <a:pt x="4" y="76"/>
                  </a:lnTo>
                  <a:lnTo>
                    <a:pt x="11" y="112"/>
                  </a:lnTo>
                  <a:lnTo>
                    <a:pt x="9" y="143"/>
                  </a:lnTo>
                  <a:lnTo>
                    <a:pt x="28" y="149"/>
                  </a:lnTo>
                  <a:lnTo>
                    <a:pt x="30" y="112"/>
                  </a:lnTo>
                  <a:lnTo>
                    <a:pt x="23" y="73"/>
                  </a:lnTo>
                  <a:lnTo>
                    <a:pt x="19" y="38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194160" y="2462040"/>
              <a:ext cx="144000" cy="66600"/>
            </a:xfrm>
            <a:custGeom>
              <a:avLst/>
              <a:gdLst/>
              <a:ahLst/>
              <a:rect l="l" t="t" r="r" b="b"/>
              <a:pathLst>
                <a:path w="335" h="156">
                  <a:moveTo>
                    <a:pt x="330" y="0"/>
                  </a:moveTo>
                  <a:lnTo>
                    <a:pt x="330" y="0"/>
                  </a:lnTo>
                  <a:lnTo>
                    <a:pt x="309" y="6"/>
                  </a:lnTo>
                  <a:lnTo>
                    <a:pt x="285" y="9"/>
                  </a:lnTo>
                  <a:lnTo>
                    <a:pt x="263" y="14"/>
                  </a:lnTo>
                  <a:lnTo>
                    <a:pt x="241" y="16"/>
                  </a:lnTo>
                  <a:lnTo>
                    <a:pt x="217" y="18"/>
                  </a:lnTo>
                  <a:lnTo>
                    <a:pt x="193" y="21"/>
                  </a:lnTo>
                  <a:lnTo>
                    <a:pt x="171" y="24"/>
                  </a:lnTo>
                  <a:lnTo>
                    <a:pt x="149" y="28"/>
                  </a:lnTo>
                  <a:lnTo>
                    <a:pt x="128" y="35"/>
                  </a:lnTo>
                  <a:lnTo>
                    <a:pt x="106" y="42"/>
                  </a:lnTo>
                  <a:lnTo>
                    <a:pt x="84" y="52"/>
                  </a:lnTo>
                  <a:lnTo>
                    <a:pt x="65" y="65"/>
                  </a:lnTo>
                  <a:lnTo>
                    <a:pt x="47" y="80"/>
                  </a:lnTo>
                  <a:lnTo>
                    <a:pt x="30" y="99"/>
                  </a:lnTo>
                  <a:lnTo>
                    <a:pt x="14" y="121"/>
                  </a:lnTo>
                  <a:lnTo>
                    <a:pt x="0" y="149"/>
                  </a:lnTo>
                  <a:lnTo>
                    <a:pt x="17" y="156"/>
                  </a:lnTo>
                  <a:lnTo>
                    <a:pt x="30" y="131"/>
                  </a:lnTo>
                  <a:lnTo>
                    <a:pt x="44" y="111"/>
                  </a:lnTo>
                  <a:lnTo>
                    <a:pt x="59" y="95"/>
                  </a:lnTo>
                  <a:lnTo>
                    <a:pt x="77" y="79"/>
                  </a:lnTo>
                  <a:lnTo>
                    <a:pt x="93" y="69"/>
                  </a:lnTo>
                  <a:lnTo>
                    <a:pt x="112" y="59"/>
                  </a:lnTo>
                  <a:lnTo>
                    <a:pt x="132" y="54"/>
                  </a:lnTo>
                  <a:lnTo>
                    <a:pt x="153" y="47"/>
                  </a:lnTo>
                  <a:lnTo>
                    <a:pt x="173" y="42"/>
                  </a:lnTo>
                  <a:lnTo>
                    <a:pt x="195" y="40"/>
                  </a:lnTo>
                  <a:lnTo>
                    <a:pt x="220" y="37"/>
                  </a:lnTo>
                  <a:lnTo>
                    <a:pt x="241" y="35"/>
                  </a:lnTo>
                  <a:lnTo>
                    <a:pt x="265" y="32"/>
                  </a:lnTo>
                  <a:lnTo>
                    <a:pt x="288" y="28"/>
                  </a:lnTo>
                  <a:lnTo>
                    <a:pt x="311" y="25"/>
                  </a:lnTo>
                  <a:lnTo>
                    <a:pt x="335" y="19"/>
                  </a:lnTo>
                  <a:lnTo>
                    <a:pt x="335" y="19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336360" y="2455920"/>
              <a:ext cx="147960" cy="4068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42" y="82"/>
                  </a:moveTo>
                  <a:lnTo>
                    <a:pt x="342" y="82"/>
                  </a:lnTo>
                  <a:lnTo>
                    <a:pt x="320" y="70"/>
                  </a:lnTo>
                  <a:lnTo>
                    <a:pt x="300" y="57"/>
                  </a:lnTo>
                  <a:lnTo>
                    <a:pt x="279" y="47"/>
                  </a:lnTo>
                  <a:lnTo>
                    <a:pt x="259" y="36"/>
                  </a:lnTo>
                  <a:lnTo>
                    <a:pt x="240" y="29"/>
                  </a:lnTo>
                  <a:lnTo>
                    <a:pt x="219" y="20"/>
                  </a:lnTo>
                  <a:lnTo>
                    <a:pt x="200" y="13"/>
                  </a:lnTo>
                  <a:lnTo>
                    <a:pt x="180" y="6"/>
                  </a:lnTo>
                  <a:lnTo>
                    <a:pt x="160" y="3"/>
                  </a:lnTo>
                  <a:lnTo>
                    <a:pt x="139" y="1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4" y="1"/>
                  </a:lnTo>
                  <a:lnTo>
                    <a:pt x="51" y="4"/>
                  </a:lnTo>
                  <a:lnTo>
                    <a:pt x="26" y="10"/>
                  </a:lnTo>
                  <a:lnTo>
                    <a:pt x="0" y="15"/>
                  </a:lnTo>
                  <a:lnTo>
                    <a:pt x="5" y="34"/>
                  </a:lnTo>
                  <a:lnTo>
                    <a:pt x="28" y="29"/>
                  </a:lnTo>
                  <a:lnTo>
                    <a:pt x="53" y="23"/>
                  </a:lnTo>
                  <a:lnTo>
                    <a:pt x="74" y="20"/>
                  </a:lnTo>
                  <a:lnTo>
                    <a:pt x="97" y="19"/>
                  </a:lnTo>
                  <a:lnTo>
                    <a:pt x="118" y="19"/>
                  </a:lnTo>
                  <a:lnTo>
                    <a:pt x="139" y="20"/>
                  </a:lnTo>
                  <a:lnTo>
                    <a:pt x="158" y="22"/>
                  </a:lnTo>
                  <a:lnTo>
                    <a:pt x="178" y="25"/>
                  </a:lnTo>
                  <a:lnTo>
                    <a:pt x="196" y="32"/>
                  </a:lnTo>
                  <a:lnTo>
                    <a:pt x="215" y="36"/>
                  </a:lnTo>
                  <a:lnTo>
                    <a:pt x="234" y="44"/>
                  </a:lnTo>
                  <a:lnTo>
                    <a:pt x="252" y="53"/>
                  </a:lnTo>
                  <a:lnTo>
                    <a:pt x="272" y="63"/>
                  </a:lnTo>
                  <a:lnTo>
                    <a:pt x="291" y="74"/>
                  </a:lnTo>
                  <a:lnTo>
                    <a:pt x="311" y="86"/>
                  </a:lnTo>
                  <a:lnTo>
                    <a:pt x="332" y="99"/>
                  </a:lnTo>
                  <a:lnTo>
                    <a:pt x="332" y="99"/>
                  </a:lnTo>
                  <a:lnTo>
                    <a:pt x="34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480000" y="2490480"/>
              <a:ext cx="40680" cy="7308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60" y="156"/>
                  </a:moveTo>
                  <a:lnTo>
                    <a:pt x="60" y="168"/>
                  </a:lnTo>
                  <a:lnTo>
                    <a:pt x="86" y="140"/>
                  </a:lnTo>
                  <a:lnTo>
                    <a:pt x="96" y="111"/>
                  </a:lnTo>
                  <a:lnTo>
                    <a:pt x="96" y="88"/>
                  </a:lnTo>
                  <a:lnTo>
                    <a:pt x="88" y="64"/>
                  </a:lnTo>
                  <a:lnTo>
                    <a:pt x="71" y="45"/>
                  </a:lnTo>
                  <a:lnTo>
                    <a:pt x="52" y="29"/>
                  </a:lnTo>
                  <a:lnTo>
                    <a:pt x="31" y="13"/>
                  </a:lnTo>
                  <a:lnTo>
                    <a:pt x="10" y="0"/>
                  </a:lnTo>
                  <a:lnTo>
                    <a:pt x="0" y="17"/>
                  </a:lnTo>
                  <a:lnTo>
                    <a:pt x="21" y="30"/>
                  </a:lnTo>
                  <a:lnTo>
                    <a:pt x="40" y="43"/>
                  </a:lnTo>
                  <a:lnTo>
                    <a:pt x="59" y="56"/>
                  </a:lnTo>
                  <a:lnTo>
                    <a:pt x="71" y="73"/>
                  </a:lnTo>
                  <a:lnTo>
                    <a:pt x="77" y="90"/>
                  </a:lnTo>
                  <a:lnTo>
                    <a:pt x="77" y="109"/>
                  </a:lnTo>
                  <a:lnTo>
                    <a:pt x="69" y="130"/>
                  </a:lnTo>
                  <a:lnTo>
                    <a:pt x="49" y="156"/>
                  </a:lnTo>
                  <a:lnTo>
                    <a:pt x="49" y="168"/>
                  </a:lnTo>
                  <a:lnTo>
                    <a:pt x="49" y="156"/>
                  </a:lnTo>
                  <a:lnTo>
                    <a:pt x="47" y="162"/>
                  </a:lnTo>
                  <a:lnTo>
                    <a:pt x="50" y="166"/>
                  </a:lnTo>
                  <a:lnTo>
                    <a:pt x="55" y="170"/>
                  </a:lnTo>
                  <a:lnTo>
                    <a:pt x="60" y="168"/>
                  </a:lnTo>
                  <a:lnTo>
                    <a:pt x="6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486120" y="2556720"/>
              <a:ext cx="42840" cy="107640"/>
            </a:xfrm>
            <a:custGeom>
              <a:avLst/>
              <a:gdLst/>
              <a:ahLst/>
              <a:rect l="l" t="t" r="r" b="b"/>
              <a:pathLst>
                <a:path w="102" h="249">
                  <a:moveTo>
                    <a:pt x="0" y="240"/>
                  </a:moveTo>
                  <a:lnTo>
                    <a:pt x="15" y="247"/>
                  </a:lnTo>
                  <a:lnTo>
                    <a:pt x="43" y="218"/>
                  </a:lnTo>
                  <a:lnTo>
                    <a:pt x="66" y="191"/>
                  </a:lnTo>
                  <a:lnTo>
                    <a:pt x="87" y="163"/>
                  </a:lnTo>
                  <a:lnTo>
                    <a:pt x="98" y="134"/>
                  </a:lnTo>
                  <a:lnTo>
                    <a:pt x="102" y="103"/>
                  </a:lnTo>
                  <a:lnTo>
                    <a:pt x="95" y="70"/>
                  </a:lnTo>
                  <a:lnTo>
                    <a:pt x="76" y="37"/>
                  </a:lnTo>
                  <a:lnTo>
                    <a:pt x="44" y="0"/>
                  </a:lnTo>
                  <a:lnTo>
                    <a:pt x="33" y="12"/>
                  </a:lnTo>
                  <a:lnTo>
                    <a:pt x="62" y="46"/>
                  </a:lnTo>
                  <a:lnTo>
                    <a:pt x="79" y="76"/>
                  </a:lnTo>
                  <a:lnTo>
                    <a:pt x="83" y="103"/>
                  </a:lnTo>
                  <a:lnTo>
                    <a:pt x="80" y="129"/>
                  </a:lnTo>
                  <a:lnTo>
                    <a:pt x="71" y="154"/>
                  </a:lnTo>
                  <a:lnTo>
                    <a:pt x="53" y="179"/>
                  </a:lnTo>
                  <a:lnTo>
                    <a:pt x="29" y="207"/>
                  </a:lnTo>
                  <a:lnTo>
                    <a:pt x="3" y="235"/>
                  </a:lnTo>
                  <a:lnTo>
                    <a:pt x="19" y="240"/>
                  </a:lnTo>
                  <a:lnTo>
                    <a:pt x="3" y="235"/>
                  </a:lnTo>
                  <a:lnTo>
                    <a:pt x="1" y="240"/>
                  </a:lnTo>
                  <a:lnTo>
                    <a:pt x="4" y="246"/>
                  </a:lnTo>
                  <a:lnTo>
                    <a:pt x="9" y="249"/>
                  </a:lnTo>
                  <a:lnTo>
                    <a:pt x="15" y="247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464880" y="2591280"/>
              <a:ext cx="29880" cy="68400"/>
            </a:xfrm>
            <a:custGeom>
              <a:avLst/>
              <a:gdLst/>
              <a:ahLst/>
              <a:rect l="l" t="t" r="r" b="b"/>
              <a:pathLst>
                <a:path w="67" h="161">
                  <a:moveTo>
                    <a:pt x="18" y="15"/>
                  </a:moveTo>
                  <a:lnTo>
                    <a:pt x="1" y="15"/>
                  </a:lnTo>
                  <a:lnTo>
                    <a:pt x="11" y="31"/>
                  </a:lnTo>
                  <a:lnTo>
                    <a:pt x="20" y="46"/>
                  </a:lnTo>
                  <a:lnTo>
                    <a:pt x="29" y="64"/>
                  </a:lnTo>
                  <a:lnTo>
                    <a:pt x="36" y="80"/>
                  </a:lnTo>
                  <a:lnTo>
                    <a:pt x="39" y="98"/>
                  </a:lnTo>
                  <a:lnTo>
                    <a:pt x="44" y="118"/>
                  </a:lnTo>
                  <a:lnTo>
                    <a:pt x="47" y="138"/>
                  </a:lnTo>
                  <a:lnTo>
                    <a:pt x="48" y="161"/>
                  </a:lnTo>
                  <a:lnTo>
                    <a:pt x="67" y="161"/>
                  </a:lnTo>
                  <a:lnTo>
                    <a:pt x="66" y="138"/>
                  </a:lnTo>
                  <a:lnTo>
                    <a:pt x="63" y="116"/>
                  </a:lnTo>
                  <a:lnTo>
                    <a:pt x="58" y="96"/>
                  </a:lnTo>
                  <a:lnTo>
                    <a:pt x="52" y="76"/>
                  </a:lnTo>
                  <a:lnTo>
                    <a:pt x="46" y="57"/>
                  </a:lnTo>
                  <a:lnTo>
                    <a:pt x="37" y="39"/>
                  </a:lnTo>
                  <a:lnTo>
                    <a:pt x="28" y="21"/>
                  </a:lnTo>
                  <a:lnTo>
                    <a:pt x="18" y="5"/>
                  </a:lnTo>
                  <a:lnTo>
                    <a:pt x="1" y="5"/>
                  </a:lnTo>
                  <a:lnTo>
                    <a:pt x="18" y="5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7"/>
                  </a:lnTo>
                  <a:lnTo>
                    <a:pt x="1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432840" y="2676960"/>
              <a:ext cx="25560" cy="3204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43" y="0"/>
                  </a:moveTo>
                  <a:lnTo>
                    <a:pt x="52" y="11"/>
                  </a:lnTo>
                  <a:lnTo>
                    <a:pt x="58" y="24"/>
                  </a:lnTo>
                  <a:lnTo>
                    <a:pt x="61" y="38"/>
                  </a:lnTo>
                  <a:lnTo>
                    <a:pt x="58" y="51"/>
                  </a:lnTo>
                  <a:lnTo>
                    <a:pt x="52" y="63"/>
                  </a:lnTo>
                  <a:lnTo>
                    <a:pt x="43" y="71"/>
                  </a:lnTo>
                  <a:lnTo>
                    <a:pt x="28" y="74"/>
                  </a:lnTo>
                  <a:lnTo>
                    <a:pt x="11" y="72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2" y="53"/>
                  </a:lnTo>
                  <a:lnTo>
                    <a:pt x="10" y="44"/>
                  </a:lnTo>
                  <a:lnTo>
                    <a:pt x="17" y="33"/>
                  </a:lnTo>
                  <a:lnTo>
                    <a:pt x="27" y="23"/>
                  </a:lnTo>
                  <a:lnTo>
                    <a:pt x="36" y="1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477840" y="2690280"/>
              <a:ext cx="10440" cy="2556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12" y="0"/>
                  </a:moveTo>
                  <a:lnTo>
                    <a:pt x="5" y="14"/>
                  </a:lnTo>
                  <a:lnTo>
                    <a:pt x="1" y="30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1"/>
                  </a:lnTo>
                  <a:lnTo>
                    <a:pt x="7" y="61"/>
                  </a:lnTo>
                  <a:lnTo>
                    <a:pt x="10" y="60"/>
                  </a:lnTo>
                  <a:lnTo>
                    <a:pt x="13" y="58"/>
                  </a:lnTo>
                  <a:lnTo>
                    <a:pt x="24" y="40"/>
                  </a:lnTo>
                  <a:lnTo>
                    <a:pt x="25" y="24"/>
                  </a:lnTo>
                  <a:lnTo>
                    <a:pt x="20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527160" y="3399120"/>
              <a:ext cx="212400" cy="246960"/>
            </a:xfrm>
            <a:custGeom>
              <a:avLst/>
              <a:gdLst/>
              <a:ahLst/>
              <a:rect l="l" t="t" r="r" b="b"/>
              <a:pathLst>
                <a:path w="496" h="574">
                  <a:moveTo>
                    <a:pt x="181" y="25"/>
                  </a:moveTo>
                  <a:lnTo>
                    <a:pt x="170" y="37"/>
                  </a:lnTo>
                  <a:lnTo>
                    <a:pt x="160" y="49"/>
                  </a:lnTo>
                  <a:lnTo>
                    <a:pt x="153" y="63"/>
                  </a:lnTo>
                  <a:lnTo>
                    <a:pt x="149" y="80"/>
                  </a:lnTo>
                  <a:lnTo>
                    <a:pt x="145" y="98"/>
                  </a:lnTo>
                  <a:lnTo>
                    <a:pt x="144" y="118"/>
                  </a:lnTo>
                  <a:lnTo>
                    <a:pt x="146" y="139"/>
                  </a:lnTo>
                  <a:lnTo>
                    <a:pt x="150" y="161"/>
                  </a:lnTo>
                  <a:lnTo>
                    <a:pt x="151" y="178"/>
                  </a:lnTo>
                  <a:lnTo>
                    <a:pt x="148" y="197"/>
                  </a:lnTo>
                  <a:lnTo>
                    <a:pt x="143" y="214"/>
                  </a:lnTo>
                  <a:lnTo>
                    <a:pt x="137" y="232"/>
                  </a:lnTo>
                  <a:lnTo>
                    <a:pt x="132" y="249"/>
                  </a:lnTo>
                  <a:lnTo>
                    <a:pt x="131" y="264"/>
                  </a:lnTo>
                  <a:lnTo>
                    <a:pt x="133" y="276"/>
                  </a:lnTo>
                  <a:lnTo>
                    <a:pt x="143" y="286"/>
                  </a:lnTo>
                  <a:lnTo>
                    <a:pt x="150" y="289"/>
                  </a:lnTo>
                  <a:lnTo>
                    <a:pt x="156" y="290"/>
                  </a:lnTo>
                  <a:lnTo>
                    <a:pt x="164" y="289"/>
                  </a:lnTo>
                  <a:lnTo>
                    <a:pt x="171" y="288"/>
                  </a:lnTo>
                  <a:lnTo>
                    <a:pt x="176" y="286"/>
                  </a:lnTo>
                  <a:lnTo>
                    <a:pt x="184" y="282"/>
                  </a:lnTo>
                  <a:lnTo>
                    <a:pt x="190" y="279"/>
                  </a:lnTo>
                  <a:lnTo>
                    <a:pt x="194" y="277"/>
                  </a:lnTo>
                  <a:lnTo>
                    <a:pt x="213" y="267"/>
                  </a:lnTo>
                  <a:lnTo>
                    <a:pt x="230" y="251"/>
                  </a:lnTo>
                  <a:lnTo>
                    <a:pt x="245" y="232"/>
                  </a:lnTo>
                  <a:lnTo>
                    <a:pt x="260" y="211"/>
                  </a:lnTo>
                  <a:lnTo>
                    <a:pt x="273" y="190"/>
                  </a:lnTo>
                  <a:lnTo>
                    <a:pt x="288" y="170"/>
                  </a:lnTo>
                  <a:lnTo>
                    <a:pt x="305" y="153"/>
                  </a:lnTo>
                  <a:lnTo>
                    <a:pt x="324" y="141"/>
                  </a:lnTo>
                  <a:lnTo>
                    <a:pt x="329" y="140"/>
                  </a:lnTo>
                  <a:lnTo>
                    <a:pt x="336" y="142"/>
                  </a:lnTo>
                  <a:lnTo>
                    <a:pt x="341" y="146"/>
                  </a:lnTo>
                  <a:lnTo>
                    <a:pt x="343" y="151"/>
                  </a:lnTo>
                  <a:lnTo>
                    <a:pt x="342" y="180"/>
                  </a:lnTo>
                  <a:lnTo>
                    <a:pt x="339" y="212"/>
                  </a:lnTo>
                  <a:lnTo>
                    <a:pt x="334" y="247"/>
                  </a:lnTo>
                  <a:lnTo>
                    <a:pt x="326" y="279"/>
                  </a:lnTo>
                  <a:lnTo>
                    <a:pt x="317" y="313"/>
                  </a:lnTo>
                  <a:lnTo>
                    <a:pt x="305" y="343"/>
                  </a:lnTo>
                  <a:lnTo>
                    <a:pt x="291" y="370"/>
                  </a:lnTo>
                  <a:lnTo>
                    <a:pt x="275" y="391"/>
                  </a:lnTo>
                  <a:lnTo>
                    <a:pt x="265" y="398"/>
                  </a:lnTo>
                  <a:lnTo>
                    <a:pt x="252" y="400"/>
                  </a:lnTo>
                  <a:lnTo>
                    <a:pt x="239" y="400"/>
                  </a:lnTo>
                  <a:lnTo>
                    <a:pt x="223" y="398"/>
                  </a:lnTo>
                  <a:lnTo>
                    <a:pt x="205" y="392"/>
                  </a:lnTo>
                  <a:lnTo>
                    <a:pt x="186" y="388"/>
                  </a:lnTo>
                  <a:lnTo>
                    <a:pt x="168" y="381"/>
                  </a:lnTo>
                  <a:lnTo>
                    <a:pt x="148" y="373"/>
                  </a:lnTo>
                  <a:lnTo>
                    <a:pt x="127" y="368"/>
                  </a:lnTo>
                  <a:lnTo>
                    <a:pt x="107" y="362"/>
                  </a:lnTo>
                  <a:lnTo>
                    <a:pt x="88" y="358"/>
                  </a:lnTo>
                  <a:lnTo>
                    <a:pt x="69" y="354"/>
                  </a:lnTo>
                  <a:lnTo>
                    <a:pt x="50" y="354"/>
                  </a:lnTo>
                  <a:lnTo>
                    <a:pt x="33" y="358"/>
                  </a:lnTo>
                  <a:lnTo>
                    <a:pt x="19" y="363"/>
                  </a:lnTo>
                  <a:lnTo>
                    <a:pt x="6" y="372"/>
                  </a:lnTo>
                  <a:lnTo>
                    <a:pt x="1" y="381"/>
                  </a:lnTo>
                  <a:lnTo>
                    <a:pt x="0" y="391"/>
                  </a:lnTo>
                  <a:lnTo>
                    <a:pt x="5" y="404"/>
                  </a:lnTo>
                  <a:lnTo>
                    <a:pt x="12" y="420"/>
                  </a:lnTo>
                  <a:lnTo>
                    <a:pt x="22" y="435"/>
                  </a:lnTo>
                  <a:lnTo>
                    <a:pt x="37" y="450"/>
                  </a:lnTo>
                  <a:lnTo>
                    <a:pt x="52" y="468"/>
                  </a:lnTo>
                  <a:lnTo>
                    <a:pt x="70" y="484"/>
                  </a:lnTo>
                  <a:lnTo>
                    <a:pt x="89" y="501"/>
                  </a:lnTo>
                  <a:lnTo>
                    <a:pt x="108" y="516"/>
                  </a:lnTo>
                  <a:lnTo>
                    <a:pt x="128" y="531"/>
                  </a:lnTo>
                  <a:lnTo>
                    <a:pt x="146" y="544"/>
                  </a:lnTo>
                  <a:lnTo>
                    <a:pt x="165" y="555"/>
                  </a:lnTo>
                  <a:lnTo>
                    <a:pt x="183" y="565"/>
                  </a:lnTo>
                  <a:lnTo>
                    <a:pt x="197" y="571"/>
                  </a:lnTo>
                  <a:lnTo>
                    <a:pt x="212" y="574"/>
                  </a:lnTo>
                  <a:lnTo>
                    <a:pt x="216" y="573"/>
                  </a:lnTo>
                  <a:lnTo>
                    <a:pt x="223" y="571"/>
                  </a:lnTo>
                  <a:lnTo>
                    <a:pt x="229" y="566"/>
                  </a:lnTo>
                  <a:lnTo>
                    <a:pt x="235" y="561"/>
                  </a:lnTo>
                  <a:lnTo>
                    <a:pt x="243" y="556"/>
                  </a:lnTo>
                  <a:lnTo>
                    <a:pt x="248" y="552"/>
                  </a:lnTo>
                  <a:lnTo>
                    <a:pt x="253" y="549"/>
                  </a:lnTo>
                  <a:lnTo>
                    <a:pt x="256" y="546"/>
                  </a:lnTo>
                  <a:lnTo>
                    <a:pt x="405" y="391"/>
                  </a:lnTo>
                  <a:lnTo>
                    <a:pt x="415" y="383"/>
                  </a:lnTo>
                  <a:lnTo>
                    <a:pt x="427" y="373"/>
                  </a:lnTo>
                  <a:lnTo>
                    <a:pt x="440" y="362"/>
                  </a:lnTo>
                  <a:lnTo>
                    <a:pt x="456" y="349"/>
                  </a:lnTo>
                  <a:lnTo>
                    <a:pt x="470" y="336"/>
                  </a:lnTo>
                  <a:lnTo>
                    <a:pt x="484" y="323"/>
                  </a:lnTo>
                  <a:lnTo>
                    <a:pt x="491" y="311"/>
                  </a:lnTo>
                  <a:lnTo>
                    <a:pt x="496" y="299"/>
                  </a:lnTo>
                  <a:lnTo>
                    <a:pt x="496" y="277"/>
                  </a:lnTo>
                  <a:lnTo>
                    <a:pt x="488" y="244"/>
                  </a:lnTo>
                  <a:lnTo>
                    <a:pt x="479" y="211"/>
                  </a:lnTo>
                  <a:lnTo>
                    <a:pt x="472" y="189"/>
                  </a:lnTo>
                  <a:lnTo>
                    <a:pt x="468" y="172"/>
                  </a:lnTo>
                  <a:lnTo>
                    <a:pt x="458" y="147"/>
                  </a:lnTo>
                  <a:lnTo>
                    <a:pt x="446" y="117"/>
                  </a:lnTo>
                  <a:lnTo>
                    <a:pt x="430" y="85"/>
                  </a:lnTo>
                  <a:lnTo>
                    <a:pt x="414" y="53"/>
                  </a:lnTo>
                  <a:lnTo>
                    <a:pt x="397" y="27"/>
                  </a:lnTo>
                  <a:lnTo>
                    <a:pt x="382" y="8"/>
                  </a:lnTo>
                  <a:lnTo>
                    <a:pt x="369" y="0"/>
                  </a:lnTo>
                  <a:lnTo>
                    <a:pt x="358" y="1"/>
                  </a:lnTo>
                  <a:lnTo>
                    <a:pt x="347" y="4"/>
                  </a:lnTo>
                  <a:lnTo>
                    <a:pt x="336" y="5"/>
                  </a:lnTo>
                  <a:lnTo>
                    <a:pt x="324" y="7"/>
                  </a:lnTo>
                  <a:lnTo>
                    <a:pt x="313" y="8"/>
                  </a:lnTo>
                  <a:lnTo>
                    <a:pt x="302" y="10"/>
                  </a:lnTo>
                  <a:lnTo>
                    <a:pt x="288" y="11"/>
                  </a:lnTo>
                  <a:lnTo>
                    <a:pt x="277" y="12"/>
                  </a:lnTo>
                  <a:lnTo>
                    <a:pt x="265" y="15"/>
                  </a:lnTo>
                  <a:lnTo>
                    <a:pt x="253" y="16"/>
                  </a:lnTo>
                  <a:lnTo>
                    <a:pt x="241" y="18"/>
                  </a:lnTo>
                  <a:lnTo>
                    <a:pt x="229" y="19"/>
                  </a:lnTo>
                  <a:lnTo>
                    <a:pt x="216" y="21"/>
                  </a:lnTo>
                  <a:lnTo>
                    <a:pt x="204" y="22"/>
                  </a:lnTo>
                  <a:lnTo>
                    <a:pt x="192" y="24"/>
                  </a:lnTo>
                  <a:lnTo>
                    <a:pt x="181" y="25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582960" y="3408120"/>
              <a:ext cx="23040" cy="61560"/>
            </a:xfrm>
            <a:custGeom>
              <a:avLst/>
              <a:gdLst/>
              <a:ahLst/>
              <a:rect l="l" t="t" r="r" b="b"/>
              <a:pathLst>
                <a:path w="55" h="147">
                  <a:moveTo>
                    <a:pt x="27" y="144"/>
                  </a:moveTo>
                  <a:lnTo>
                    <a:pt x="27" y="143"/>
                  </a:lnTo>
                  <a:lnTo>
                    <a:pt x="23" y="122"/>
                  </a:lnTo>
                  <a:lnTo>
                    <a:pt x="21" y="102"/>
                  </a:lnTo>
                  <a:lnTo>
                    <a:pt x="22" y="83"/>
                  </a:lnTo>
                  <a:lnTo>
                    <a:pt x="26" y="66"/>
                  </a:lnTo>
                  <a:lnTo>
                    <a:pt x="30" y="51"/>
                  </a:lnTo>
                  <a:lnTo>
                    <a:pt x="37" y="37"/>
                  </a:lnTo>
                  <a:lnTo>
                    <a:pt x="45" y="27"/>
                  </a:lnTo>
                  <a:lnTo>
                    <a:pt x="55" y="16"/>
                  </a:lnTo>
                  <a:lnTo>
                    <a:pt x="40" y="0"/>
                  </a:lnTo>
                  <a:lnTo>
                    <a:pt x="29" y="13"/>
                  </a:lnTo>
                  <a:lnTo>
                    <a:pt x="18" y="29"/>
                  </a:lnTo>
                  <a:lnTo>
                    <a:pt x="11" y="44"/>
                  </a:lnTo>
                  <a:lnTo>
                    <a:pt x="5" y="62"/>
                  </a:lnTo>
                  <a:lnTo>
                    <a:pt x="1" y="81"/>
                  </a:lnTo>
                  <a:lnTo>
                    <a:pt x="0" y="102"/>
                  </a:lnTo>
                  <a:lnTo>
                    <a:pt x="2" y="124"/>
                  </a:lnTo>
                  <a:lnTo>
                    <a:pt x="6" y="147"/>
                  </a:lnTo>
                  <a:lnTo>
                    <a:pt x="6" y="146"/>
                  </a:lnTo>
                  <a:lnTo>
                    <a:pt x="27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578640" y="3467880"/>
              <a:ext cx="16920" cy="57960"/>
            </a:xfrm>
            <a:custGeom>
              <a:avLst/>
              <a:gdLst/>
              <a:ahLst/>
              <a:rect l="l" t="t" r="r" b="b"/>
              <a:pathLst>
                <a:path w="42" h="134">
                  <a:moveTo>
                    <a:pt x="29" y="116"/>
                  </a:moveTo>
                  <a:lnTo>
                    <a:pt x="28" y="116"/>
                  </a:lnTo>
                  <a:lnTo>
                    <a:pt x="23" y="111"/>
                  </a:lnTo>
                  <a:lnTo>
                    <a:pt x="21" y="104"/>
                  </a:lnTo>
                  <a:lnTo>
                    <a:pt x="23" y="90"/>
                  </a:lnTo>
                  <a:lnTo>
                    <a:pt x="28" y="74"/>
                  </a:lnTo>
                  <a:lnTo>
                    <a:pt x="33" y="57"/>
                  </a:lnTo>
                  <a:lnTo>
                    <a:pt x="38" y="39"/>
                  </a:lnTo>
                  <a:lnTo>
                    <a:pt x="42" y="18"/>
                  </a:lnTo>
                  <a:lnTo>
                    <a:pt x="40" y="0"/>
                  </a:lnTo>
                  <a:lnTo>
                    <a:pt x="19" y="2"/>
                  </a:lnTo>
                  <a:lnTo>
                    <a:pt x="20" y="18"/>
                  </a:lnTo>
                  <a:lnTo>
                    <a:pt x="17" y="34"/>
                  </a:lnTo>
                  <a:lnTo>
                    <a:pt x="12" y="52"/>
                  </a:lnTo>
                  <a:lnTo>
                    <a:pt x="7" y="70"/>
                  </a:lnTo>
                  <a:lnTo>
                    <a:pt x="1" y="88"/>
                  </a:lnTo>
                  <a:lnTo>
                    <a:pt x="0" y="104"/>
                  </a:lnTo>
                  <a:lnTo>
                    <a:pt x="4" y="120"/>
                  </a:lnTo>
                  <a:lnTo>
                    <a:pt x="18" y="134"/>
                  </a:lnTo>
                  <a:lnTo>
                    <a:pt x="17" y="134"/>
                  </a:lnTo>
                  <a:lnTo>
                    <a:pt x="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85120" y="3515400"/>
              <a:ext cx="25560" cy="1476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54" y="0"/>
                  </a:moveTo>
                  <a:lnTo>
                    <a:pt x="54" y="0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26" y="10"/>
                  </a:lnTo>
                  <a:lnTo>
                    <a:pt x="19" y="11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26"/>
                  </a:lnTo>
                  <a:lnTo>
                    <a:pt x="11" y="31"/>
                  </a:lnTo>
                  <a:lnTo>
                    <a:pt x="19" y="33"/>
                  </a:lnTo>
                  <a:lnTo>
                    <a:pt x="28" y="31"/>
                  </a:lnTo>
                  <a:lnTo>
                    <a:pt x="36" y="30"/>
                  </a:lnTo>
                  <a:lnTo>
                    <a:pt x="44" y="26"/>
                  </a:lnTo>
                  <a:lnTo>
                    <a:pt x="51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608880" y="3457440"/>
              <a:ext cx="61560" cy="66600"/>
            </a:xfrm>
            <a:custGeom>
              <a:avLst/>
              <a:gdLst/>
              <a:ahLst/>
              <a:rect l="l" t="t" r="r" b="b"/>
              <a:pathLst>
                <a:path w="143" h="156">
                  <a:moveTo>
                    <a:pt x="131" y="0"/>
                  </a:moveTo>
                  <a:lnTo>
                    <a:pt x="130" y="1"/>
                  </a:lnTo>
                  <a:lnTo>
                    <a:pt x="108" y="14"/>
                  </a:lnTo>
                  <a:lnTo>
                    <a:pt x="90" y="31"/>
                  </a:lnTo>
                  <a:lnTo>
                    <a:pt x="74" y="52"/>
                  </a:lnTo>
                  <a:lnTo>
                    <a:pt x="60" y="73"/>
                  </a:lnTo>
                  <a:lnTo>
                    <a:pt x="46" y="96"/>
                  </a:lnTo>
                  <a:lnTo>
                    <a:pt x="32" y="113"/>
                  </a:lnTo>
                  <a:lnTo>
                    <a:pt x="16" y="127"/>
                  </a:lnTo>
                  <a:lnTo>
                    <a:pt x="0" y="137"/>
                  </a:lnTo>
                  <a:lnTo>
                    <a:pt x="6" y="156"/>
                  </a:lnTo>
                  <a:lnTo>
                    <a:pt x="29" y="143"/>
                  </a:lnTo>
                  <a:lnTo>
                    <a:pt x="46" y="127"/>
                  </a:lnTo>
                  <a:lnTo>
                    <a:pt x="62" y="107"/>
                  </a:lnTo>
                  <a:lnTo>
                    <a:pt x="76" y="86"/>
                  </a:lnTo>
                  <a:lnTo>
                    <a:pt x="91" y="65"/>
                  </a:lnTo>
                  <a:lnTo>
                    <a:pt x="106" y="46"/>
                  </a:lnTo>
                  <a:lnTo>
                    <a:pt x="120" y="30"/>
                  </a:lnTo>
                  <a:lnTo>
                    <a:pt x="136" y="20"/>
                  </a:lnTo>
                  <a:lnTo>
                    <a:pt x="135" y="21"/>
                  </a:lnTo>
                  <a:lnTo>
                    <a:pt x="136" y="20"/>
                  </a:lnTo>
                  <a:lnTo>
                    <a:pt x="143" y="14"/>
                  </a:lnTo>
                  <a:lnTo>
                    <a:pt x="143" y="7"/>
                  </a:lnTo>
                  <a:lnTo>
                    <a:pt x="137" y="1"/>
                  </a:lnTo>
                  <a:lnTo>
                    <a:pt x="13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664320" y="3455280"/>
              <a:ext cx="14760" cy="144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2"/>
                  </a:moveTo>
                  <a:lnTo>
                    <a:pt x="32" y="21"/>
                  </a:lnTo>
                  <a:lnTo>
                    <a:pt x="26" y="10"/>
                  </a:lnTo>
                  <a:lnTo>
                    <a:pt x="19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4" y="23"/>
                  </a:lnTo>
                  <a:lnTo>
                    <a:pt x="7" y="22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4" y="30"/>
                  </a:lnTo>
                  <a:lnTo>
                    <a:pt x="22" y="32"/>
                  </a:lnTo>
                  <a:lnTo>
                    <a:pt x="30" y="29"/>
                  </a:lnTo>
                  <a:lnTo>
                    <a:pt x="32" y="21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640920" y="3466080"/>
              <a:ext cx="38160" cy="106920"/>
            </a:xfrm>
            <a:custGeom>
              <a:avLst/>
              <a:gdLst/>
              <a:ahLst/>
              <a:rect l="l" t="t" r="r" b="b"/>
              <a:pathLst>
                <a:path w="90" h="251">
                  <a:moveTo>
                    <a:pt x="18" y="248"/>
                  </a:moveTo>
                  <a:lnTo>
                    <a:pt x="18" y="248"/>
                  </a:lnTo>
                  <a:lnTo>
                    <a:pt x="37" y="226"/>
                  </a:lnTo>
                  <a:lnTo>
                    <a:pt x="51" y="196"/>
                  </a:lnTo>
                  <a:lnTo>
                    <a:pt x="63" y="165"/>
                  </a:lnTo>
                  <a:lnTo>
                    <a:pt x="73" y="131"/>
                  </a:lnTo>
                  <a:lnTo>
                    <a:pt x="80" y="97"/>
                  </a:lnTo>
                  <a:lnTo>
                    <a:pt x="86" y="62"/>
                  </a:lnTo>
                  <a:lnTo>
                    <a:pt x="89" y="29"/>
                  </a:lnTo>
                  <a:lnTo>
                    <a:pt x="90" y="0"/>
                  </a:lnTo>
                  <a:lnTo>
                    <a:pt x="69" y="0"/>
                  </a:lnTo>
                  <a:lnTo>
                    <a:pt x="68" y="29"/>
                  </a:lnTo>
                  <a:lnTo>
                    <a:pt x="64" y="60"/>
                  </a:lnTo>
                  <a:lnTo>
                    <a:pt x="59" y="95"/>
                  </a:lnTo>
                  <a:lnTo>
                    <a:pt x="52" y="126"/>
                  </a:lnTo>
                  <a:lnTo>
                    <a:pt x="42" y="160"/>
                  </a:lnTo>
                  <a:lnTo>
                    <a:pt x="32" y="189"/>
                  </a:lnTo>
                  <a:lnTo>
                    <a:pt x="18" y="21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0" y="240"/>
                  </a:lnTo>
                  <a:lnTo>
                    <a:pt x="3" y="248"/>
                  </a:lnTo>
                  <a:lnTo>
                    <a:pt x="11" y="251"/>
                  </a:lnTo>
                  <a:lnTo>
                    <a:pt x="18" y="248"/>
                  </a:lnTo>
                  <a:lnTo>
                    <a:pt x="18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525360" y="3547440"/>
              <a:ext cx="122040" cy="27720"/>
            </a:xfrm>
            <a:custGeom>
              <a:avLst/>
              <a:gdLst/>
              <a:ahLst/>
              <a:rect l="l" t="t" r="r" b="b"/>
              <a:pathLst>
                <a:path w="286" h="66">
                  <a:moveTo>
                    <a:pt x="17" y="36"/>
                  </a:moveTo>
                  <a:lnTo>
                    <a:pt x="17" y="36"/>
                  </a:lnTo>
                  <a:lnTo>
                    <a:pt x="27" y="28"/>
                  </a:lnTo>
                  <a:lnTo>
                    <a:pt x="40" y="24"/>
                  </a:lnTo>
                  <a:lnTo>
                    <a:pt x="54" y="21"/>
                  </a:lnTo>
                  <a:lnTo>
                    <a:pt x="73" y="21"/>
                  </a:lnTo>
                  <a:lnTo>
                    <a:pt x="91" y="24"/>
                  </a:lnTo>
                  <a:lnTo>
                    <a:pt x="107" y="28"/>
                  </a:lnTo>
                  <a:lnTo>
                    <a:pt x="128" y="35"/>
                  </a:lnTo>
                  <a:lnTo>
                    <a:pt x="149" y="40"/>
                  </a:lnTo>
                  <a:lnTo>
                    <a:pt x="168" y="46"/>
                  </a:lnTo>
                  <a:lnTo>
                    <a:pt x="188" y="55"/>
                  </a:lnTo>
                  <a:lnTo>
                    <a:pt x="207" y="59"/>
                  </a:lnTo>
                  <a:lnTo>
                    <a:pt x="226" y="64"/>
                  </a:lnTo>
                  <a:lnTo>
                    <a:pt x="243" y="66"/>
                  </a:lnTo>
                  <a:lnTo>
                    <a:pt x="256" y="66"/>
                  </a:lnTo>
                  <a:lnTo>
                    <a:pt x="272" y="63"/>
                  </a:lnTo>
                  <a:lnTo>
                    <a:pt x="286" y="55"/>
                  </a:lnTo>
                  <a:lnTo>
                    <a:pt x="271" y="40"/>
                  </a:lnTo>
                  <a:lnTo>
                    <a:pt x="266" y="44"/>
                  </a:lnTo>
                  <a:lnTo>
                    <a:pt x="256" y="45"/>
                  </a:lnTo>
                  <a:lnTo>
                    <a:pt x="243" y="45"/>
                  </a:lnTo>
                  <a:lnTo>
                    <a:pt x="228" y="43"/>
                  </a:lnTo>
                  <a:lnTo>
                    <a:pt x="211" y="38"/>
                  </a:lnTo>
                  <a:lnTo>
                    <a:pt x="193" y="34"/>
                  </a:lnTo>
                  <a:lnTo>
                    <a:pt x="175" y="27"/>
                  </a:lnTo>
                  <a:lnTo>
                    <a:pt x="154" y="19"/>
                  </a:lnTo>
                  <a:lnTo>
                    <a:pt x="133" y="14"/>
                  </a:lnTo>
                  <a:lnTo>
                    <a:pt x="113" y="7"/>
                  </a:lnTo>
                  <a:lnTo>
                    <a:pt x="93" y="3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35" y="3"/>
                  </a:lnTo>
                  <a:lnTo>
                    <a:pt x="19" y="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3" y="36"/>
                  </a:lnTo>
                  <a:lnTo>
                    <a:pt x="10" y="39"/>
                  </a:lnTo>
                  <a:lnTo>
                    <a:pt x="17" y="36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522840" y="3556080"/>
              <a:ext cx="94320" cy="94320"/>
            </a:xfrm>
            <a:custGeom>
              <a:avLst/>
              <a:gdLst/>
              <a:ahLst/>
              <a:rect l="l" t="t" r="r" b="b"/>
              <a:pathLst>
                <a:path w="224" h="220">
                  <a:moveTo>
                    <a:pt x="223" y="198"/>
                  </a:moveTo>
                  <a:lnTo>
                    <a:pt x="224" y="198"/>
                  </a:lnTo>
                  <a:lnTo>
                    <a:pt x="212" y="195"/>
                  </a:lnTo>
                  <a:lnTo>
                    <a:pt x="199" y="190"/>
                  </a:lnTo>
                  <a:lnTo>
                    <a:pt x="181" y="181"/>
                  </a:lnTo>
                  <a:lnTo>
                    <a:pt x="163" y="171"/>
                  </a:lnTo>
                  <a:lnTo>
                    <a:pt x="144" y="157"/>
                  </a:lnTo>
                  <a:lnTo>
                    <a:pt x="124" y="144"/>
                  </a:lnTo>
                  <a:lnTo>
                    <a:pt x="106" y="128"/>
                  </a:lnTo>
                  <a:lnTo>
                    <a:pt x="88" y="112"/>
                  </a:lnTo>
                  <a:lnTo>
                    <a:pt x="70" y="96"/>
                  </a:lnTo>
                  <a:lnTo>
                    <a:pt x="55" y="78"/>
                  </a:lnTo>
                  <a:lnTo>
                    <a:pt x="42" y="64"/>
                  </a:lnTo>
                  <a:lnTo>
                    <a:pt x="32" y="50"/>
                  </a:lnTo>
                  <a:lnTo>
                    <a:pt x="26" y="36"/>
                  </a:lnTo>
                  <a:lnTo>
                    <a:pt x="22" y="25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10" y="0"/>
                  </a:lnTo>
                  <a:lnTo>
                    <a:pt x="1" y="14"/>
                  </a:lnTo>
                  <a:lnTo>
                    <a:pt x="0" y="27"/>
                  </a:lnTo>
                  <a:lnTo>
                    <a:pt x="7" y="43"/>
                  </a:lnTo>
                  <a:lnTo>
                    <a:pt x="13" y="59"/>
                  </a:lnTo>
                  <a:lnTo>
                    <a:pt x="26" y="76"/>
                  </a:lnTo>
                  <a:lnTo>
                    <a:pt x="39" y="93"/>
                  </a:lnTo>
                  <a:lnTo>
                    <a:pt x="55" y="110"/>
                  </a:lnTo>
                  <a:lnTo>
                    <a:pt x="73" y="128"/>
                  </a:lnTo>
                  <a:lnTo>
                    <a:pt x="92" y="145"/>
                  </a:lnTo>
                  <a:lnTo>
                    <a:pt x="112" y="159"/>
                  </a:lnTo>
                  <a:lnTo>
                    <a:pt x="132" y="174"/>
                  </a:lnTo>
                  <a:lnTo>
                    <a:pt x="151" y="188"/>
                  </a:lnTo>
                  <a:lnTo>
                    <a:pt x="171" y="200"/>
                  </a:lnTo>
                  <a:lnTo>
                    <a:pt x="189" y="209"/>
                  </a:lnTo>
                  <a:lnTo>
                    <a:pt x="206" y="216"/>
                  </a:lnTo>
                  <a:lnTo>
                    <a:pt x="222" y="220"/>
                  </a:lnTo>
                  <a:lnTo>
                    <a:pt x="223" y="220"/>
                  </a:lnTo>
                  <a:lnTo>
                    <a:pt x="223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617160" y="3631320"/>
              <a:ext cx="21240" cy="194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6" y="0"/>
                  </a:moveTo>
                  <a:lnTo>
                    <a:pt x="36" y="0"/>
                  </a:lnTo>
                  <a:lnTo>
                    <a:pt x="34" y="1"/>
                  </a:lnTo>
                  <a:lnTo>
                    <a:pt x="31" y="4"/>
                  </a:lnTo>
                  <a:lnTo>
                    <a:pt x="25" y="10"/>
                  </a:lnTo>
                  <a:lnTo>
                    <a:pt x="18" y="13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46"/>
                  </a:lnTo>
                  <a:lnTo>
                    <a:pt x="8" y="45"/>
                  </a:lnTo>
                  <a:lnTo>
                    <a:pt x="15" y="41"/>
                  </a:lnTo>
                  <a:lnTo>
                    <a:pt x="22" y="35"/>
                  </a:lnTo>
                  <a:lnTo>
                    <a:pt x="30" y="32"/>
                  </a:lnTo>
                  <a:lnTo>
                    <a:pt x="36" y="26"/>
                  </a:lnTo>
                  <a:lnTo>
                    <a:pt x="42" y="21"/>
                  </a:lnTo>
                  <a:lnTo>
                    <a:pt x="49" y="1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632280" y="3564360"/>
              <a:ext cx="70920" cy="7308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50" y="0"/>
                  </a:moveTo>
                  <a:lnTo>
                    <a:pt x="150" y="0"/>
                  </a:lnTo>
                  <a:lnTo>
                    <a:pt x="0" y="155"/>
                  </a:lnTo>
                  <a:lnTo>
                    <a:pt x="15" y="169"/>
                  </a:lnTo>
                  <a:lnTo>
                    <a:pt x="165" y="15"/>
                  </a:lnTo>
                  <a:lnTo>
                    <a:pt x="165" y="15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696720" y="3528000"/>
              <a:ext cx="47160" cy="4320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88" y="0"/>
                  </a:moveTo>
                  <a:lnTo>
                    <a:pt x="88" y="1"/>
                  </a:lnTo>
                  <a:lnTo>
                    <a:pt x="84" y="10"/>
                  </a:lnTo>
                  <a:lnTo>
                    <a:pt x="77" y="19"/>
                  </a:lnTo>
                  <a:lnTo>
                    <a:pt x="66" y="32"/>
                  </a:lnTo>
                  <a:lnTo>
                    <a:pt x="51" y="44"/>
                  </a:lnTo>
                  <a:lnTo>
                    <a:pt x="36" y="56"/>
                  </a:lnTo>
                  <a:lnTo>
                    <a:pt x="22" y="68"/>
                  </a:lnTo>
                  <a:lnTo>
                    <a:pt x="10" y="77"/>
                  </a:lnTo>
                  <a:lnTo>
                    <a:pt x="0" y="87"/>
                  </a:lnTo>
                  <a:lnTo>
                    <a:pt x="15" y="102"/>
                  </a:lnTo>
                  <a:lnTo>
                    <a:pt x="23" y="94"/>
                  </a:lnTo>
                  <a:lnTo>
                    <a:pt x="35" y="85"/>
                  </a:lnTo>
                  <a:lnTo>
                    <a:pt x="50" y="73"/>
                  </a:lnTo>
                  <a:lnTo>
                    <a:pt x="66" y="61"/>
                  </a:lnTo>
                  <a:lnTo>
                    <a:pt x="79" y="46"/>
                  </a:lnTo>
                  <a:lnTo>
                    <a:pt x="93" y="33"/>
                  </a:lnTo>
                  <a:lnTo>
                    <a:pt x="103" y="19"/>
                  </a:lnTo>
                  <a:lnTo>
                    <a:pt x="109" y="4"/>
                  </a:lnTo>
                  <a:lnTo>
                    <a:pt x="109" y="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724800" y="3480840"/>
              <a:ext cx="18720" cy="49680"/>
            </a:xfrm>
            <a:custGeom>
              <a:avLst/>
              <a:gdLst/>
              <a:ahLst/>
              <a:rect l="l" t="t" r="r" b="b"/>
              <a:pathLst>
                <a:path w="46" h="116">
                  <a:moveTo>
                    <a:pt x="0" y="4"/>
                  </a:moveTo>
                  <a:lnTo>
                    <a:pt x="0" y="5"/>
                  </a:lnTo>
                  <a:lnTo>
                    <a:pt x="8" y="27"/>
                  </a:lnTo>
                  <a:lnTo>
                    <a:pt x="16" y="61"/>
                  </a:lnTo>
                  <a:lnTo>
                    <a:pt x="25" y="92"/>
                  </a:lnTo>
                  <a:lnTo>
                    <a:pt x="25" y="111"/>
                  </a:lnTo>
                  <a:lnTo>
                    <a:pt x="46" y="116"/>
                  </a:lnTo>
                  <a:lnTo>
                    <a:pt x="46" y="90"/>
                  </a:lnTo>
                  <a:lnTo>
                    <a:pt x="37" y="55"/>
                  </a:lnTo>
                  <a:lnTo>
                    <a:pt x="29" y="23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679440" y="3394800"/>
              <a:ext cx="55800" cy="85680"/>
            </a:xfrm>
            <a:custGeom>
              <a:avLst/>
              <a:gdLst/>
              <a:ahLst/>
              <a:rect l="l" t="t" r="r" b="b"/>
              <a:pathLst>
                <a:path w="126" h="201">
                  <a:moveTo>
                    <a:pt x="12" y="21"/>
                  </a:moveTo>
                  <a:lnTo>
                    <a:pt x="9" y="21"/>
                  </a:lnTo>
                  <a:lnTo>
                    <a:pt x="17" y="26"/>
                  </a:lnTo>
                  <a:lnTo>
                    <a:pt x="31" y="43"/>
                  </a:lnTo>
                  <a:lnTo>
                    <a:pt x="46" y="70"/>
                  </a:lnTo>
                  <a:lnTo>
                    <a:pt x="62" y="100"/>
                  </a:lnTo>
                  <a:lnTo>
                    <a:pt x="78" y="131"/>
                  </a:lnTo>
                  <a:lnTo>
                    <a:pt x="91" y="162"/>
                  </a:lnTo>
                  <a:lnTo>
                    <a:pt x="99" y="187"/>
                  </a:lnTo>
                  <a:lnTo>
                    <a:pt x="103" y="201"/>
                  </a:lnTo>
                  <a:lnTo>
                    <a:pt x="126" y="199"/>
                  </a:lnTo>
                  <a:lnTo>
                    <a:pt x="120" y="180"/>
                  </a:lnTo>
                  <a:lnTo>
                    <a:pt x="110" y="154"/>
                  </a:lnTo>
                  <a:lnTo>
                    <a:pt x="97" y="124"/>
                  </a:lnTo>
                  <a:lnTo>
                    <a:pt x="81" y="91"/>
                  </a:lnTo>
                  <a:lnTo>
                    <a:pt x="65" y="60"/>
                  </a:lnTo>
                  <a:lnTo>
                    <a:pt x="47" y="32"/>
                  </a:lnTo>
                  <a:lnTo>
                    <a:pt x="31" y="1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9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600240" y="3394800"/>
              <a:ext cx="85680" cy="1944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18" y="43"/>
                  </a:moveTo>
                  <a:lnTo>
                    <a:pt x="12" y="46"/>
                  </a:lnTo>
                  <a:lnTo>
                    <a:pt x="22" y="45"/>
                  </a:lnTo>
                  <a:lnTo>
                    <a:pt x="34" y="43"/>
                  </a:lnTo>
                  <a:lnTo>
                    <a:pt x="49" y="42"/>
                  </a:lnTo>
                  <a:lnTo>
                    <a:pt x="60" y="40"/>
                  </a:lnTo>
                  <a:lnTo>
                    <a:pt x="71" y="39"/>
                  </a:lnTo>
                  <a:lnTo>
                    <a:pt x="83" y="38"/>
                  </a:lnTo>
                  <a:lnTo>
                    <a:pt x="96" y="37"/>
                  </a:lnTo>
                  <a:lnTo>
                    <a:pt x="108" y="35"/>
                  </a:lnTo>
                  <a:lnTo>
                    <a:pt x="118" y="33"/>
                  </a:lnTo>
                  <a:lnTo>
                    <a:pt x="133" y="32"/>
                  </a:lnTo>
                  <a:lnTo>
                    <a:pt x="144" y="30"/>
                  </a:lnTo>
                  <a:lnTo>
                    <a:pt x="155" y="29"/>
                  </a:lnTo>
                  <a:lnTo>
                    <a:pt x="167" y="26"/>
                  </a:lnTo>
                  <a:lnTo>
                    <a:pt x="178" y="25"/>
                  </a:lnTo>
                  <a:lnTo>
                    <a:pt x="189" y="22"/>
                  </a:lnTo>
                  <a:lnTo>
                    <a:pt x="200" y="21"/>
                  </a:lnTo>
                  <a:lnTo>
                    <a:pt x="197" y="0"/>
                  </a:lnTo>
                  <a:lnTo>
                    <a:pt x="187" y="1"/>
                  </a:lnTo>
                  <a:lnTo>
                    <a:pt x="176" y="3"/>
                  </a:lnTo>
                  <a:lnTo>
                    <a:pt x="165" y="5"/>
                  </a:lnTo>
                  <a:lnTo>
                    <a:pt x="153" y="7"/>
                  </a:lnTo>
                  <a:lnTo>
                    <a:pt x="141" y="8"/>
                  </a:lnTo>
                  <a:lnTo>
                    <a:pt x="131" y="11"/>
                  </a:lnTo>
                  <a:lnTo>
                    <a:pt x="118" y="12"/>
                  </a:lnTo>
                  <a:lnTo>
                    <a:pt x="106" y="13"/>
                  </a:lnTo>
                  <a:lnTo>
                    <a:pt x="94" y="16"/>
                  </a:lnTo>
                  <a:lnTo>
                    <a:pt x="83" y="17"/>
                  </a:lnTo>
                  <a:lnTo>
                    <a:pt x="71" y="18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4" y="22"/>
                  </a:lnTo>
                  <a:lnTo>
                    <a:pt x="22" y="23"/>
                  </a:lnTo>
                  <a:lnTo>
                    <a:pt x="9" y="25"/>
                  </a:lnTo>
                  <a:lnTo>
                    <a:pt x="3" y="27"/>
                  </a:lnTo>
                  <a:lnTo>
                    <a:pt x="9" y="25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12" y="46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574320" y="3521520"/>
              <a:ext cx="16920" cy="47160"/>
            </a:xfrm>
            <a:custGeom>
              <a:avLst/>
              <a:gdLst/>
              <a:ahLst/>
              <a:rect l="l" t="t" r="r" b="b"/>
              <a:pathLst>
                <a:path w="37" h="108">
                  <a:moveTo>
                    <a:pt x="23" y="101"/>
                  </a:moveTo>
                  <a:lnTo>
                    <a:pt x="23" y="101"/>
                  </a:lnTo>
                  <a:lnTo>
                    <a:pt x="19" y="78"/>
                  </a:lnTo>
                  <a:lnTo>
                    <a:pt x="21" y="52"/>
                  </a:lnTo>
                  <a:lnTo>
                    <a:pt x="28" y="28"/>
                  </a:lnTo>
                  <a:lnTo>
                    <a:pt x="37" y="9"/>
                  </a:lnTo>
                  <a:lnTo>
                    <a:pt x="20" y="0"/>
                  </a:lnTo>
                  <a:lnTo>
                    <a:pt x="9" y="24"/>
                  </a:lnTo>
                  <a:lnTo>
                    <a:pt x="2" y="49"/>
                  </a:lnTo>
                  <a:lnTo>
                    <a:pt x="0" y="78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23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578640" y="3564360"/>
              <a:ext cx="79200" cy="29880"/>
            </a:xfrm>
            <a:custGeom>
              <a:avLst/>
              <a:gdLst/>
              <a:ahLst/>
              <a:rect l="l" t="t" r="r" b="b"/>
              <a:pathLst>
                <a:path w="187" h="69">
                  <a:moveTo>
                    <a:pt x="180" y="25"/>
                  </a:moveTo>
                  <a:lnTo>
                    <a:pt x="180" y="25"/>
                  </a:lnTo>
                  <a:lnTo>
                    <a:pt x="156" y="34"/>
                  </a:lnTo>
                  <a:lnTo>
                    <a:pt x="131" y="42"/>
                  </a:lnTo>
                  <a:lnTo>
                    <a:pt x="106" y="48"/>
                  </a:lnTo>
                  <a:lnTo>
                    <a:pt x="84" y="50"/>
                  </a:lnTo>
                  <a:lnTo>
                    <a:pt x="64" y="46"/>
                  </a:lnTo>
                  <a:lnTo>
                    <a:pt x="46" y="38"/>
                  </a:lnTo>
                  <a:lnTo>
                    <a:pt x="30" y="24"/>
                  </a:lnTo>
                  <a:lnTo>
                    <a:pt x="16" y="0"/>
                  </a:lnTo>
                  <a:lnTo>
                    <a:pt x="0" y="7"/>
                  </a:lnTo>
                  <a:lnTo>
                    <a:pt x="15" y="36"/>
                  </a:lnTo>
                  <a:lnTo>
                    <a:pt x="36" y="55"/>
                  </a:lnTo>
                  <a:lnTo>
                    <a:pt x="59" y="65"/>
                  </a:lnTo>
                  <a:lnTo>
                    <a:pt x="84" y="69"/>
                  </a:lnTo>
                  <a:lnTo>
                    <a:pt x="108" y="67"/>
                  </a:lnTo>
                  <a:lnTo>
                    <a:pt x="135" y="60"/>
                  </a:lnTo>
                  <a:lnTo>
                    <a:pt x="161" y="53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656040" y="3506400"/>
              <a:ext cx="44640" cy="77400"/>
            </a:xfrm>
            <a:custGeom>
              <a:avLst/>
              <a:gdLst/>
              <a:ahLst/>
              <a:rect l="l" t="t" r="r" b="b"/>
              <a:pathLst>
                <a:path w="106" h="179">
                  <a:moveTo>
                    <a:pt x="87" y="0"/>
                  </a:moveTo>
                  <a:lnTo>
                    <a:pt x="87" y="0"/>
                  </a:lnTo>
                  <a:lnTo>
                    <a:pt x="81" y="21"/>
                  </a:lnTo>
                  <a:lnTo>
                    <a:pt x="76" y="44"/>
                  </a:lnTo>
                  <a:lnTo>
                    <a:pt x="67" y="69"/>
                  </a:lnTo>
                  <a:lnTo>
                    <a:pt x="59" y="93"/>
                  </a:lnTo>
                  <a:lnTo>
                    <a:pt x="47" y="115"/>
                  </a:lnTo>
                  <a:lnTo>
                    <a:pt x="35" y="135"/>
                  </a:lnTo>
                  <a:lnTo>
                    <a:pt x="19" y="152"/>
                  </a:lnTo>
                  <a:lnTo>
                    <a:pt x="0" y="162"/>
                  </a:lnTo>
                  <a:lnTo>
                    <a:pt x="7" y="179"/>
                  </a:lnTo>
                  <a:lnTo>
                    <a:pt x="30" y="166"/>
                  </a:lnTo>
                  <a:lnTo>
                    <a:pt x="48" y="147"/>
                  </a:lnTo>
                  <a:lnTo>
                    <a:pt x="64" y="124"/>
                  </a:lnTo>
                  <a:lnTo>
                    <a:pt x="76" y="100"/>
                  </a:lnTo>
                  <a:lnTo>
                    <a:pt x="86" y="74"/>
                  </a:lnTo>
                  <a:lnTo>
                    <a:pt x="95" y="49"/>
                  </a:lnTo>
                  <a:lnTo>
                    <a:pt x="100" y="2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688440" y="3459240"/>
              <a:ext cx="16920" cy="49680"/>
            </a:xfrm>
            <a:custGeom>
              <a:avLst/>
              <a:gdLst/>
              <a:ahLst/>
              <a:rect l="l" t="t" r="r" b="b"/>
              <a:pathLst>
                <a:path w="40" h="114">
                  <a:moveTo>
                    <a:pt x="0" y="19"/>
                  </a:moveTo>
                  <a:lnTo>
                    <a:pt x="0" y="19"/>
                  </a:lnTo>
                  <a:lnTo>
                    <a:pt x="11" y="23"/>
                  </a:lnTo>
                  <a:lnTo>
                    <a:pt x="17" y="31"/>
                  </a:lnTo>
                  <a:lnTo>
                    <a:pt x="20" y="40"/>
                  </a:lnTo>
                  <a:lnTo>
                    <a:pt x="21" y="53"/>
                  </a:lnTo>
                  <a:lnTo>
                    <a:pt x="19" y="66"/>
                  </a:lnTo>
                  <a:lnTo>
                    <a:pt x="16" y="82"/>
                  </a:lnTo>
                  <a:lnTo>
                    <a:pt x="12" y="98"/>
                  </a:lnTo>
                  <a:lnTo>
                    <a:pt x="8" y="110"/>
                  </a:lnTo>
                  <a:lnTo>
                    <a:pt x="27" y="114"/>
                  </a:lnTo>
                  <a:lnTo>
                    <a:pt x="31" y="100"/>
                  </a:lnTo>
                  <a:lnTo>
                    <a:pt x="35" y="84"/>
                  </a:lnTo>
                  <a:lnTo>
                    <a:pt x="38" y="70"/>
                  </a:lnTo>
                  <a:lnTo>
                    <a:pt x="40" y="53"/>
                  </a:lnTo>
                  <a:lnTo>
                    <a:pt x="39" y="38"/>
                  </a:lnTo>
                  <a:lnTo>
                    <a:pt x="33" y="21"/>
                  </a:lnTo>
                  <a:lnTo>
                    <a:pt x="22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664320" y="3455280"/>
              <a:ext cx="25560" cy="1260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6" y="20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4" y="19"/>
                  </a:lnTo>
                  <a:lnTo>
                    <a:pt x="32" y="20"/>
                  </a:lnTo>
                  <a:lnTo>
                    <a:pt x="38" y="23"/>
                  </a:lnTo>
                  <a:lnTo>
                    <a:pt x="45" y="25"/>
                  </a:lnTo>
                  <a:lnTo>
                    <a:pt x="52" y="28"/>
                  </a:lnTo>
                  <a:lnTo>
                    <a:pt x="57" y="29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1" y="7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638760" y="3457440"/>
              <a:ext cx="28080" cy="2772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16" y="68"/>
                  </a:moveTo>
                  <a:lnTo>
                    <a:pt x="16" y="68"/>
                  </a:lnTo>
                  <a:lnTo>
                    <a:pt x="20" y="62"/>
                  </a:lnTo>
                  <a:lnTo>
                    <a:pt x="24" y="57"/>
                  </a:lnTo>
                  <a:lnTo>
                    <a:pt x="30" y="48"/>
                  </a:lnTo>
                  <a:lnTo>
                    <a:pt x="36" y="41"/>
                  </a:lnTo>
                  <a:lnTo>
                    <a:pt x="43" y="34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6" y="16"/>
                  </a:lnTo>
                  <a:lnTo>
                    <a:pt x="60" y="0"/>
                  </a:lnTo>
                  <a:lnTo>
                    <a:pt x="48" y="6"/>
                  </a:lnTo>
                  <a:lnTo>
                    <a:pt x="40" y="13"/>
                  </a:lnTo>
                  <a:lnTo>
                    <a:pt x="31" y="20"/>
                  </a:lnTo>
                  <a:lnTo>
                    <a:pt x="22" y="29"/>
                  </a:lnTo>
                  <a:lnTo>
                    <a:pt x="16" y="37"/>
                  </a:lnTo>
                  <a:lnTo>
                    <a:pt x="10" y="45"/>
                  </a:lnTo>
                  <a:lnTo>
                    <a:pt x="3" y="53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582960" y="3483000"/>
              <a:ext cx="62280" cy="44640"/>
            </a:xfrm>
            <a:custGeom>
              <a:avLst/>
              <a:gdLst/>
              <a:ahLst/>
              <a:rect l="l" t="t" r="r" b="b"/>
              <a:pathLst>
                <a:path w="145" h="107">
                  <a:moveTo>
                    <a:pt x="17" y="102"/>
                  </a:moveTo>
                  <a:lnTo>
                    <a:pt x="7" y="107"/>
                  </a:lnTo>
                  <a:lnTo>
                    <a:pt x="28" y="107"/>
                  </a:lnTo>
                  <a:lnTo>
                    <a:pt x="50" y="102"/>
                  </a:lnTo>
                  <a:lnTo>
                    <a:pt x="70" y="93"/>
                  </a:lnTo>
                  <a:lnTo>
                    <a:pt x="88" y="79"/>
                  </a:lnTo>
                  <a:lnTo>
                    <a:pt x="103" y="65"/>
                  </a:lnTo>
                  <a:lnTo>
                    <a:pt x="119" y="47"/>
                  </a:lnTo>
                  <a:lnTo>
                    <a:pt x="133" y="28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116" y="19"/>
                  </a:lnTo>
                  <a:lnTo>
                    <a:pt x="105" y="36"/>
                  </a:lnTo>
                  <a:lnTo>
                    <a:pt x="90" y="50"/>
                  </a:lnTo>
                  <a:lnTo>
                    <a:pt x="75" y="65"/>
                  </a:lnTo>
                  <a:lnTo>
                    <a:pt x="60" y="77"/>
                  </a:lnTo>
                  <a:lnTo>
                    <a:pt x="44" y="83"/>
                  </a:lnTo>
                  <a:lnTo>
                    <a:pt x="28" y="88"/>
                  </a:lnTo>
                  <a:lnTo>
                    <a:pt x="9" y="88"/>
                  </a:lnTo>
                  <a:lnTo>
                    <a:pt x="0" y="93"/>
                  </a:lnTo>
                  <a:lnTo>
                    <a:pt x="9" y="88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7" y="107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5" name=""/>
          <p:cNvSpPr/>
          <p:nvPr/>
        </p:nvSpPr>
        <p:spPr>
          <a:xfrm>
            <a:off x="6248520" y="4267080"/>
            <a:ext cx="2438280" cy="17528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6858000" y="3429000"/>
            <a:ext cx="1142640" cy="2420280"/>
            <a:chOff x="6858000" y="3429000"/>
            <a:chExt cx="1142640" cy="2420280"/>
          </a:xfrm>
        </p:grpSpPr>
        <p:sp>
          <p:nvSpPr>
            <p:cNvPr id="1107" name=""/>
            <p:cNvSpPr/>
            <p:nvPr/>
          </p:nvSpPr>
          <p:spPr>
            <a:xfrm>
              <a:off x="6858000" y="5533200"/>
              <a:ext cx="1142640" cy="31608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391520" y="5487480"/>
              <a:ext cx="321840" cy="206280"/>
            </a:xfrm>
            <a:custGeom>
              <a:avLst/>
              <a:gdLst/>
              <a:ahLst/>
              <a:rect l="l" t="t" r="r" b="b"/>
              <a:pathLst>
                <a:path w="598" h="409">
                  <a:moveTo>
                    <a:pt x="30" y="18"/>
                  </a:moveTo>
                  <a:lnTo>
                    <a:pt x="24" y="41"/>
                  </a:lnTo>
                  <a:lnTo>
                    <a:pt x="14" y="73"/>
                  </a:lnTo>
                  <a:lnTo>
                    <a:pt x="6" y="111"/>
                  </a:lnTo>
                  <a:lnTo>
                    <a:pt x="0" y="151"/>
                  </a:lnTo>
                  <a:lnTo>
                    <a:pt x="0" y="192"/>
                  </a:lnTo>
                  <a:lnTo>
                    <a:pt x="8" y="230"/>
                  </a:lnTo>
                  <a:lnTo>
                    <a:pt x="25" y="265"/>
                  </a:lnTo>
                  <a:lnTo>
                    <a:pt x="55" y="289"/>
                  </a:lnTo>
                  <a:lnTo>
                    <a:pt x="69" y="297"/>
                  </a:lnTo>
                  <a:lnTo>
                    <a:pt x="85" y="299"/>
                  </a:lnTo>
                  <a:lnTo>
                    <a:pt x="100" y="299"/>
                  </a:lnTo>
                  <a:lnTo>
                    <a:pt x="116" y="298"/>
                  </a:lnTo>
                  <a:lnTo>
                    <a:pt x="132" y="296"/>
                  </a:lnTo>
                  <a:lnTo>
                    <a:pt x="147" y="294"/>
                  </a:lnTo>
                  <a:lnTo>
                    <a:pt x="163" y="296"/>
                  </a:lnTo>
                  <a:lnTo>
                    <a:pt x="180" y="299"/>
                  </a:lnTo>
                  <a:lnTo>
                    <a:pt x="200" y="306"/>
                  </a:lnTo>
                  <a:lnTo>
                    <a:pt x="218" y="312"/>
                  </a:lnTo>
                  <a:lnTo>
                    <a:pt x="236" y="318"/>
                  </a:lnTo>
                  <a:lnTo>
                    <a:pt x="252" y="324"/>
                  </a:lnTo>
                  <a:lnTo>
                    <a:pt x="269" y="329"/>
                  </a:lnTo>
                  <a:lnTo>
                    <a:pt x="284" y="336"/>
                  </a:lnTo>
                  <a:lnTo>
                    <a:pt x="300" y="341"/>
                  </a:lnTo>
                  <a:lnTo>
                    <a:pt x="314" y="346"/>
                  </a:lnTo>
                  <a:lnTo>
                    <a:pt x="329" y="353"/>
                  </a:lnTo>
                  <a:lnTo>
                    <a:pt x="344" y="358"/>
                  </a:lnTo>
                  <a:lnTo>
                    <a:pt x="361" y="364"/>
                  </a:lnTo>
                  <a:lnTo>
                    <a:pt x="376" y="369"/>
                  </a:lnTo>
                  <a:lnTo>
                    <a:pt x="394" y="376"/>
                  </a:lnTo>
                  <a:lnTo>
                    <a:pt x="411" y="381"/>
                  </a:lnTo>
                  <a:lnTo>
                    <a:pt x="428" y="387"/>
                  </a:lnTo>
                  <a:lnTo>
                    <a:pt x="448" y="395"/>
                  </a:lnTo>
                  <a:lnTo>
                    <a:pt x="462" y="398"/>
                  </a:lnTo>
                  <a:lnTo>
                    <a:pt x="479" y="401"/>
                  </a:lnTo>
                  <a:lnTo>
                    <a:pt x="501" y="404"/>
                  </a:lnTo>
                  <a:lnTo>
                    <a:pt x="523" y="406"/>
                  </a:lnTo>
                  <a:lnTo>
                    <a:pt x="546" y="409"/>
                  </a:lnTo>
                  <a:lnTo>
                    <a:pt x="567" y="409"/>
                  </a:lnTo>
                  <a:lnTo>
                    <a:pt x="586" y="407"/>
                  </a:lnTo>
                  <a:lnTo>
                    <a:pt x="598" y="404"/>
                  </a:lnTo>
                  <a:lnTo>
                    <a:pt x="596" y="377"/>
                  </a:lnTo>
                  <a:lnTo>
                    <a:pt x="588" y="348"/>
                  </a:lnTo>
                  <a:lnTo>
                    <a:pt x="575" y="320"/>
                  </a:lnTo>
                  <a:lnTo>
                    <a:pt x="558" y="292"/>
                  </a:lnTo>
                  <a:lnTo>
                    <a:pt x="538" y="263"/>
                  </a:lnTo>
                  <a:lnTo>
                    <a:pt x="516" y="234"/>
                  </a:lnTo>
                  <a:lnTo>
                    <a:pt x="491" y="206"/>
                  </a:lnTo>
                  <a:lnTo>
                    <a:pt x="463" y="178"/>
                  </a:lnTo>
                  <a:lnTo>
                    <a:pt x="435" y="152"/>
                  </a:lnTo>
                  <a:lnTo>
                    <a:pt x="405" y="127"/>
                  </a:lnTo>
                  <a:lnTo>
                    <a:pt x="376" y="103"/>
                  </a:lnTo>
                  <a:lnTo>
                    <a:pt x="346" y="82"/>
                  </a:lnTo>
                  <a:lnTo>
                    <a:pt x="319" y="63"/>
                  </a:lnTo>
                  <a:lnTo>
                    <a:pt x="291" y="45"/>
                  </a:lnTo>
                  <a:lnTo>
                    <a:pt x="265" y="32"/>
                  </a:lnTo>
                  <a:lnTo>
                    <a:pt x="243" y="21"/>
                  </a:lnTo>
                  <a:lnTo>
                    <a:pt x="224" y="16"/>
                  </a:lnTo>
                  <a:lnTo>
                    <a:pt x="208" y="11"/>
                  </a:lnTo>
                  <a:lnTo>
                    <a:pt x="191" y="7"/>
                  </a:lnTo>
                  <a:lnTo>
                    <a:pt x="176" y="5"/>
                  </a:lnTo>
                  <a:lnTo>
                    <a:pt x="161" y="3"/>
                  </a:lnTo>
                  <a:lnTo>
                    <a:pt x="149" y="1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1"/>
                  </a:lnTo>
                  <a:lnTo>
                    <a:pt x="88" y="2"/>
                  </a:lnTo>
                  <a:lnTo>
                    <a:pt x="78" y="4"/>
                  </a:lnTo>
                  <a:lnTo>
                    <a:pt x="66" y="6"/>
                  </a:lnTo>
                  <a:lnTo>
                    <a:pt x="55" y="10"/>
                  </a:lnTo>
                  <a:lnTo>
                    <a:pt x="43" y="14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694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386120" y="5495040"/>
              <a:ext cx="37440" cy="142560"/>
            </a:xfrm>
            <a:custGeom>
              <a:avLst/>
              <a:gdLst/>
              <a:ahLst/>
              <a:rect l="l" t="t" r="r" b="b"/>
              <a:pathLst>
                <a:path w="69" h="282">
                  <a:moveTo>
                    <a:pt x="69" y="266"/>
                  </a:moveTo>
                  <a:lnTo>
                    <a:pt x="69" y="266"/>
                  </a:lnTo>
                  <a:lnTo>
                    <a:pt x="42" y="243"/>
                  </a:lnTo>
                  <a:lnTo>
                    <a:pt x="28" y="212"/>
                  </a:lnTo>
                  <a:lnTo>
                    <a:pt x="19" y="176"/>
                  </a:lnTo>
                  <a:lnTo>
                    <a:pt x="19" y="135"/>
                  </a:lnTo>
                  <a:lnTo>
                    <a:pt x="25" y="96"/>
                  </a:lnTo>
                  <a:lnTo>
                    <a:pt x="34" y="59"/>
                  </a:lnTo>
                  <a:lnTo>
                    <a:pt x="43" y="27"/>
                  </a:lnTo>
                  <a:lnTo>
                    <a:pt x="50" y="5"/>
                  </a:lnTo>
                  <a:lnTo>
                    <a:pt x="32" y="0"/>
                  </a:lnTo>
                  <a:lnTo>
                    <a:pt x="24" y="22"/>
                  </a:lnTo>
                  <a:lnTo>
                    <a:pt x="15" y="55"/>
                  </a:lnTo>
                  <a:lnTo>
                    <a:pt x="6" y="93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9" y="217"/>
                  </a:lnTo>
                  <a:lnTo>
                    <a:pt x="28" y="254"/>
                  </a:lnTo>
                  <a:lnTo>
                    <a:pt x="59" y="282"/>
                  </a:lnTo>
                  <a:lnTo>
                    <a:pt x="59" y="282"/>
                  </a:lnTo>
                  <a:lnTo>
                    <a:pt x="69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418160" y="5630400"/>
              <a:ext cx="69840" cy="12600"/>
            </a:xfrm>
            <a:custGeom>
              <a:avLst/>
              <a:gdLst/>
              <a:ahLst/>
              <a:rect l="l" t="t" r="r" b="b"/>
              <a:pathLst>
                <a:path w="133" h="26">
                  <a:moveTo>
                    <a:pt x="133" y="7"/>
                  </a:moveTo>
                  <a:lnTo>
                    <a:pt x="133" y="7"/>
                  </a:lnTo>
                  <a:lnTo>
                    <a:pt x="116" y="4"/>
                  </a:lnTo>
                  <a:lnTo>
                    <a:pt x="98" y="3"/>
                  </a:lnTo>
                  <a:lnTo>
                    <a:pt x="83" y="4"/>
                  </a:lnTo>
                  <a:lnTo>
                    <a:pt x="67" y="6"/>
                  </a:lnTo>
                  <a:lnTo>
                    <a:pt x="51" y="7"/>
                  </a:lnTo>
                  <a:lnTo>
                    <a:pt x="36" y="7"/>
                  </a:lnTo>
                  <a:lnTo>
                    <a:pt x="22" y="5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18" y="24"/>
                  </a:lnTo>
                  <a:lnTo>
                    <a:pt x="36" y="26"/>
                  </a:lnTo>
                  <a:lnTo>
                    <a:pt x="51" y="26"/>
                  </a:lnTo>
                  <a:lnTo>
                    <a:pt x="67" y="25"/>
                  </a:lnTo>
                  <a:lnTo>
                    <a:pt x="83" y="23"/>
                  </a:lnTo>
                  <a:lnTo>
                    <a:pt x="98" y="22"/>
                  </a:lnTo>
                  <a:lnTo>
                    <a:pt x="113" y="23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488360" y="5632560"/>
              <a:ext cx="144720" cy="58320"/>
            </a:xfrm>
            <a:custGeom>
              <a:avLst/>
              <a:gdLst/>
              <a:ahLst/>
              <a:rect l="l" t="t" r="r" b="b"/>
              <a:pathLst>
                <a:path w="274" h="115">
                  <a:moveTo>
                    <a:pt x="274" y="96"/>
                  </a:moveTo>
                  <a:lnTo>
                    <a:pt x="274" y="96"/>
                  </a:lnTo>
                  <a:lnTo>
                    <a:pt x="254" y="89"/>
                  </a:lnTo>
                  <a:lnTo>
                    <a:pt x="236" y="84"/>
                  </a:lnTo>
                  <a:lnTo>
                    <a:pt x="218" y="77"/>
                  </a:lnTo>
                  <a:lnTo>
                    <a:pt x="201" y="71"/>
                  </a:lnTo>
                  <a:lnTo>
                    <a:pt x="185" y="66"/>
                  </a:lnTo>
                  <a:lnTo>
                    <a:pt x="168" y="59"/>
                  </a:lnTo>
                  <a:lnTo>
                    <a:pt x="154" y="54"/>
                  </a:lnTo>
                  <a:lnTo>
                    <a:pt x="138" y="48"/>
                  </a:lnTo>
                  <a:lnTo>
                    <a:pt x="124" y="42"/>
                  </a:lnTo>
                  <a:lnTo>
                    <a:pt x="109" y="37"/>
                  </a:lnTo>
                  <a:lnTo>
                    <a:pt x="93" y="31"/>
                  </a:lnTo>
                  <a:lnTo>
                    <a:pt x="76" y="26"/>
                  </a:lnTo>
                  <a:lnTo>
                    <a:pt x="60" y="19"/>
                  </a:lnTo>
                  <a:lnTo>
                    <a:pt x="42" y="14"/>
                  </a:lnTo>
                  <a:lnTo>
                    <a:pt x="24" y="8"/>
                  </a:lnTo>
                  <a:lnTo>
                    <a:pt x="4" y="0"/>
                  </a:lnTo>
                  <a:lnTo>
                    <a:pt x="0" y="19"/>
                  </a:lnTo>
                  <a:lnTo>
                    <a:pt x="20" y="27"/>
                  </a:lnTo>
                  <a:lnTo>
                    <a:pt x="38" y="32"/>
                  </a:lnTo>
                  <a:lnTo>
                    <a:pt x="55" y="38"/>
                  </a:lnTo>
                  <a:lnTo>
                    <a:pt x="72" y="45"/>
                  </a:lnTo>
                  <a:lnTo>
                    <a:pt x="89" y="50"/>
                  </a:lnTo>
                  <a:lnTo>
                    <a:pt x="104" y="56"/>
                  </a:lnTo>
                  <a:lnTo>
                    <a:pt x="119" y="61"/>
                  </a:lnTo>
                  <a:lnTo>
                    <a:pt x="134" y="67"/>
                  </a:lnTo>
                  <a:lnTo>
                    <a:pt x="147" y="72"/>
                  </a:lnTo>
                  <a:lnTo>
                    <a:pt x="164" y="78"/>
                  </a:lnTo>
                  <a:lnTo>
                    <a:pt x="181" y="85"/>
                  </a:lnTo>
                  <a:lnTo>
                    <a:pt x="195" y="90"/>
                  </a:lnTo>
                  <a:lnTo>
                    <a:pt x="213" y="96"/>
                  </a:lnTo>
                  <a:lnTo>
                    <a:pt x="230" y="102"/>
                  </a:lnTo>
                  <a:lnTo>
                    <a:pt x="248" y="108"/>
                  </a:lnTo>
                  <a:lnTo>
                    <a:pt x="268" y="115"/>
                  </a:lnTo>
                  <a:lnTo>
                    <a:pt x="268" y="115"/>
                  </a:lnTo>
                  <a:lnTo>
                    <a:pt x="274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630560" y="5683680"/>
              <a:ext cx="88200" cy="15480"/>
            </a:xfrm>
            <a:custGeom>
              <a:avLst/>
              <a:gdLst/>
              <a:ahLst/>
              <a:rect l="l" t="t" r="r" b="b"/>
              <a:pathLst>
                <a:path w="162" h="33">
                  <a:moveTo>
                    <a:pt x="143" y="19"/>
                  </a:moveTo>
                  <a:lnTo>
                    <a:pt x="149" y="11"/>
                  </a:lnTo>
                  <a:lnTo>
                    <a:pt x="139" y="13"/>
                  </a:lnTo>
                  <a:lnTo>
                    <a:pt x="121" y="14"/>
                  </a:lnTo>
                  <a:lnTo>
                    <a:pt x="100" y="14"/>
                  </a:lnTo>
                  <a:lnTo>
                    <a:pt x="77" y="12"/>
                  </a:lnTo>
                  <a:lnTo>
                    <a:pt x="55" y="10"/>
                  </a:lnTo>
                  <a:lnTo>
                    <a:pt x="35" y="8"/>
                  </a:lnTo>
                  <a:lnTo>
                    <a:pt x="17" y="3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5" y="22"/>
                  </a:lnTo>
                  <a:lnTo>
                    <a:pt x="32" y="26"/>
                  </a:lnTo>
                  <a:lnTo>
                    <a:pt x="55" y="29"/>
                  </a:lnTo>
                  <a:lnTo>
                    <a:pt x="77" y="31"/>
                  </a:lnTo>
                  <a:lnTo>
                    <a:pt x="100" y="33"/>
                  </a:lnTo>
                  <a:lnTo>
                    <a:pt x="121" y="33"/>
                  </a:lnTo>
                  <a:lnTo>
                    <a:pt x="141" y="32"/>
                  </a:lnTo>
                  <a:lnTo>
                    <a:pt x="157" y="28"/>
                  </a:lnTo>
                  <a:lnTo>
                    <a:pt x="162" y="19"/>
                  </a:lnTo>
                  <a:lnTo>
                    <a:pt x="157" y="28"/>
                  </a:lnTo>
                  <a:lnTo>
                    <a:pt x="161" y="22"/>
                  </a:lnTo>
                  <a:lnTo>
                    <a:pt x="161" y="15"/>
                  </a:lnTo>
                  <a:lnTo>
                    <a:pt x="157" y="11"/>
                  </a:lnTo>
                  <a:lnTo>
                    <a:pt x="149" y="11"/>
                  </a:lnTo>
                  <a:lnTo>
                    <a:pt x="1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517520" y="5492160"/>
              <a:ext cx="201240" cy="198720"/>
            </a:xfrm>
            <a:custGeom>
              <a:avLst/>
              <a:gdLst/>
              <a:ahLst/>
              <a:rect l="l" t="t" r="r" b="b"/>
              <a:pathLst>
                <a:path w="374" h="393">
                  <a:moveTo>
                    <a:pt x="6" y="18"/>
                  </a:moveTo>
                  <a:lnTo>
                    <a:pt x="5" y="17"/>
                  </a:lnTo>
                  <a:lnTo>
                    <a:pt x="28" y="28"/>
                  </a:lnTo>
                  <a:lnTo>
                    <a:pt x="53" y="43"/>
                  </a:lnTo>
                  <a:lnTo>
                    <a:pt x="79" y="61"/>
                  </a:lnTo>
                  <a:lnTo>
                    <a:pt x="108" y="80"/>
                  </a:lnTo>
                  <a:lnTo>
                    <a:pt x="136" y="100"/>
                  </a:lnTo>
                  <a:lnTo>
                    <a:pt x="166" y="123"/>
                  </a:lnTo>
                  <a:lnTo>
                    <a:pt x="194" y="147"/>
                  </a:lnTo>
                  <a:lnTo>
                    <a:pt x="222" y="175"/>
                  </a:lnTo>
                  <a:lnTo>
                    <a:pt x="249" y="201"/>
                  </a:lnTo>
                  <a:lnTo>
                    <a:pt x="275" y="229"/>
                  </a:lnTo>
                  <a:lnTo>
                    <a:pt x="298" y="257"/>
                  </a:lnTo>
                  <a:lnTo>
                    <a:pt x="316" y="286"/>
                  </a:lnTo>
                  <a:lnTo>
                    <a:pt x="333" y="313"/>
                  </a:lnTo>
                  <a:lnTo>
                    <a:pt x="344" y="339"/>
                  </a:lnTo>
                  <a:lnTo>
                    <a:pt x="353" y="367"/>
                  </a:lnTo>
                  <a:lnTo>
                    <a:pt x="355" y="393"/>
                  </a:lnTo>
                  <a:lnTo>
                    <a:pt x="374" y="393"/>
                  </a:lnTo>
                  <a:lnTo>
                    <a:pt x="372" y="365"/>
                  </a:lnTo>
                  <a:lnTo>
                    <a:pt x="363" y="335"/>
                  </a:lnTo>
                  <a:lnTo>
                    <a:pt x="350" y="306"/>
                  </a:lnTo>
                  <a:lnTo>
                    <a:pt x="333" y="276"/>
                  </a:lnTo>
                  <a:lnTo>
                    <a:pt x="312" y="245"/>
                  </a:lnTo>
                  <a:lnTo>
                    <a:pt x="289" y="217"/>
                  </a:lnTo>
                  <a:lnTo>
                    <a:pt x="263" y="188"/>
                  </a:lnTo>
                  <a:lnTo>
                    <a:pt x="237" y="161"/>
                  </a:lnTo>
                  <a:lnTo>
                    <a:pt x="207" y="134"/>
                  </a:lnTo>
                  <a:lnTo>
                    <a:pt x="177" y="108"/>
                  </a:lnTo>
                  <a:lnTo>
                    <a:pt x="148" y="85"/>
                  </a:lnTo>
                  <a:lnTo>
                    <a:pt x="117" y="63"/>
                  </a:lnTo>
                  <a:lnTo>
                    <a:pt x="89" y="44"/>
                  </a:lnTo>
                  <a:lnTo>
                    <a:pt x="61" y="26"/>
                  </a:lnTo>
                  <a:lnTo>
                    <a:pt x="35" y="1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5" y="2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402320" y="5482440"/>
              <a:ext cx="120240" cy="17640"/>
            </a:xfrm>
            <a:custGeom>
              <a:avLst/>
              <a:gdLst/>
              <a:ahLst/>
              <a:rect l="l" t="t" r="r" b="b"/>
              <a:pathLst>
                <a:path w="223" h="39">
                  <a:moveTo>
                    <a:pt x="18" y="31"/>
                  </a:moveTo>
                  <a:lnTo>
                    <a:pt x="11" y="37"/>
                  </a:lnTo>
                  <a:lnTo>
                    <a:pt x="23" y="33"/>
                  </a:lnTo>
                  <a:lnTo>
                    <a:pt x="35" y="29"/>
                  </a:lnTo>
                  <a:lnTo>
                    <a:pt x="46" y="26"/>
                  </a:lnTo>
                  <a:lnTo>
                    <a:pt x="57" y="24"/>
                  </a:lnTo>
                  <a:lnTo>
                    <a:pt x="67" y="21"/>
                  </a:lnTo>
                  <a:lnTo>
                    <a:pt x="78" y="20"/>
                  </a:lnTo>
                  <a:lnTo>
                    <a:pt x="89" y="18"/>
                  </a:lnTo>
                  <a:lnTo>
                    <a:pt x="100" y="18"/>
                  </a:lnTo>
                  <a:lnTo>
                    <a:pt x="114" y="18"/>
                  </a:lnTo>
                  <a:lnTo>
                    <a:pt x="125" y="20"/>
                  </a:lnTo>
                  <a:lnTo>
                    <a:pt x="138" y="23"/>
                  </a:lnTo>
                  <a:lnTo>
                    <a:pt x="153" y="25"/>
                  </a:lnTo>
                  <a:lnTo>
                    <a:pt x="168" y="27"/>
                  </a:lnTo>
                  <a:lnTo>
                    <a:pt x="184" y="31"/>
                  </a:lnTo>
                  <a:lnTo>
                    <a:pt x="199" y="35"/>
                  </a:lnTo>
                  <a:lnTo>
                    <a:pt x="218" y="39"/>
                  </a:lnTo>
                  <a:lnTo>
                    <a:pt x="223" y="21"/>
                  </a:lnTo>
                  <a:lnTo>
                    <a:pt x="205" y="16"/>
                  </a:lnTo>
                  <a:lnTo>
                    <a:pt x="188" y="12"/>
                  </a:lnTo>
                  <a:lnTo>
                    <a:pt x="170" y="8"/>
                  </a:lnTo>
                  <a:lnTo>
                    <a:pt x="155" y="6"/>
                  </a:lnTo>
                  <a:lnTo>
                    <a:pt x="140" y="4"/>
                  </a:lnTo>
                  <a:lnTo>
                    <a:pt x="128" y="1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8" y="1"/>
                  </a:lnTo>
                  <a:lnTo>
                    <a:pt x="65" y="2"/>
                  </a:lnTo>
                  <a:lnTo>
                    <a:pt x="55" y="5"/>
                  </a:lnTo>
                  <a:lnTo>
                    <a:pt x="42" y="7"/>
                  </a:lnTo>
                  <a:lnTo>
                    <a:pt x="29" y="11"/>
                  </a:lnTo>
                  <a:lnTo>
                    <a:pt x="18" y="14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6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4" y="36"/>
                  </a:lnTo>
                  <a:lnTo>
                    <a:pt x="11" y="37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104240" y="5533200"/>
              <a:ext cx="351360" cy="293040"/>
            </a:xfrm>
            <a:custGeom>
              <a:avLst/>
              <a:gdLst/>
              <a:ahLst/>
              <a:rect l="l" t="t" r="r" b="b"/>
              <a:pathLst>
                <a:path w="654" h="573">
                  <a:moveTo>
                    <a:pt x="345" y="29"/>
                  </a:moveTo>
                  <a:lnTo>
                    <a:pt x="359" y="23"/>
                  </a:lnTo>
                  <a:lnTo>
                    <a:pt x="375" y="19"/>
                  </a:lnTo>
                  <a:lnTo>
                    <a:pt x="390" y="14"/>
                  </a:lnTo>
                  <a:lnTo>
                    <a:pt x="406" y="10"/>
                  </a:lnTo>
                  <a:lnTo>
                    <a:pt x="422" y="6"/>
                  </a:lnTo>
                  <a:lnTo>
                    <a:pt x="438" y="3"/>
                  </a:lnTo>
                  <a:lnTo>
                    <a:pt x="454" y="2"/>
                  </a:lnTo>
                  <a:lnTo>
                    <a:pt x="470" y="1"/>
                  </a:lnTo>
                  <a:lnTo>
                    <a:pt x="486" y="0"/>
                  </a:lnTo>
                  <a:lnTo>
                    <a:pt x="501" y="0"/>
                  </a:lnTo>
                  <a:lnTo>
                    <a:pt x="517" y="1"/>
                  </a:lnTo>
                  <a:lnTo>
                    <a:pt x="530" y="3"/>
                  </a:lnTo>
                  <a:lnTo>
                    <a:pt x="544" y="5"/>
                  </a:lnTo>
                  <a:lnTo>
                    <a:pt x="558" y="9"/>
                  </a:lnTo>
                  <a:lnTo>
                    <a:pt x="570" y="14"/>
                  </a:lnTo>
                  <a:lnTo>
                    <a:pt x="581" y="19"/>
                  </a:lnTo>
                  <a:lnTo>
                    <a:pt x="608" y="38"/>
                  </a:lnTo>
                  <a:lnTo>
                    <a:pt x="628" y="62"/>
                  </a:lnTo>
                  <a:lnTo>
                    <a:pt x="641" y="93"/>
                  </a:lnTo>
                  <a:lnTo>
                    <a:pt x="651" y="127"/>
                  </a:lnTo>
                  <a:lnTo>
                    <a:pt x="654" y="165"/>
                  </a:lnTo>
                  <a:lnTo>
                    <a:pt x="654" y="205"/>
                  </a:lnTo>
                  <a:lnTo>
                    <a:pt x="652" y="246"/>
                  </a:lnTo>
                  <a:lnTo>
                    <a:pt x="645" y="287"/>
                  </a:lnTo>
                  <a:lnTo>
                    <a:pt x="640" y="300"/>
                  </a:lnTo>
                  <a:lnTo>
                    <a:pt x="632" y="307"/>
                  </a:lnTo>
                  <a:lnTo>
                    <a:pt x="620" y="313"/>
                  </a:lnTo>
                  <a:lnTo>
                    <a:pt x="608" y="317"/>
                  </a:lnTo>
                  <a:lnTo>
                    <a:pt x="593" y="320"/>
                  </a:lnTo>
                  <a:lnTo>
                    <a:pt x="579" y="321"/>
                  </a:lnTo>
                  <a:lnTo>
                    <a:pt x="566" y="322"/>
                  </a:lnTo>
                  <a:lnTo>
                    <a:pt x="556" y="324"/>
                  </a:lnTo>
                  <a:lnTo>
                    <a:pt x="538" y="330"/>
                  </a:lnTo>
                  <a:lnTo>
                    <a:pt x="519" y="338"/>
                  </a:lnTo>
                  <a:lnTo>
                    <a:pt x="501" y="348"/>
                  </a:lnTo>
                  <a:lnTo>
                    <a:pt x="483" y="360"/>
                  </a:lnTo>
                  <a:lnTo>
                    <a:pt x="465" y="371"/>
                  </a:lnTo>
                  <a:lnTo>
                    <a:pt x="446" y="384"/>
                  </a:lnTo>
                  <a:lnTo>
                    <a:pt x="428" y="398"/>
                  </a:lnTo>
                  <a:lnTo>
                    <a:pt x="409" y="412"/>
                  </a:lnTo>
                  <a:lnTo>
                    <a:pt x="390" y="425"/>
                  </a:lnTo>
                  <a:lnTo>
                    <a:pt x="373" y="439"/>
                  </a:lnTo>
                  <a:lnTo>
                    <a:pt x="354" y="454"/>
                  </a:lnTo>
                  <a:lnTo>
                    <a:pt x="335" y="467"/>
                  </a:lnTo>
                  <a:lnTo>
                    <a:pt x="316" y="478"/>
                  </a:lnTo>
                  <a:lnTo>
                    <a:pt x="298" y="491"/>
                  </a:lnTo>
                  <a:lnTo>
                    <a:pt x="279" y="501"/>
                  </a:lnTo>
                  <a:lnTo>
                    <a:pt x="261" y="509"/>
                  </a:lnTo>
                  <a:lnTo>
                    <a:pt x="246" y="515"/>
                  </a:lnTo>
                  <a:lnTo>
                    <a:pt x="233" y="521"/>
                  </a:lnTo>
                  <a:lnTo>
                    <a:pt x="218" y="527"/>
                  </a:lnTo>
                  <a:lnTo>
                    <a:pt x="204" y="533"/>
                  </a:lnTo>
                  <a:lnTo>
                    <a:pt x="191" y="537"/>
                  </a:lnTo>
                  <a:lnTo>
                    <a:pt x="177" y="544"/>
                  </a:lnTo>
                  <a:lnTo>
                    <a:pt x="164" y="548"/>
                  </a:lnTo>
                  <a:lnTo>
                    <a:pt x="150" y="553"/>
                  </a:lnTo>
                  <a:lnTo>
                    <a:pt x="136" y="557"/>
                  </a:lnTo>
                  <a:lnTo>
                    <a:pt x="122" y="562"/>
                  </a:lnTo>
                  <a:lnTo>
                    <a:pt x="108" y="565"/>
                  </a:lnTo>
                  <a:lnTo>
                    <a:pt x="92" y="567"/>
                  </a:lnTo>
                  <a:lnTo>
                    <a:pt x="75" y="569"/>
                  </a:lnTo>
                  <a:lnTo>
                    <a:pt x="59" y="572"/>
                  </a:lnTo>
                  <a:lnTo>
                    <a:pt x="43" y="573"/>
                  </a:lnTo>
                  <a:lnTo>
                    <a:pt x="24" y="573"/>
                  </a:lnTo>
                  <a:lnTo>
                    <a:pt x="9" y="568"/>
                  </a:lnTo>
                  <a:lnTo>
                    <a:pt x="0" y="555"/>
                  </a:lnTo>
                  <a:lnTo>
                    <a:pt x="0" y="535"/>
                  </a:lnTo>
                  <a:lnTo>
                    <a:pt x="7" y="509"/>
                  </a:lnTo>
                  <a:lnTo>
                    <a:pt x="17" y="478"/>
                  </a:lnTo>
                  <a:lnTo>
                    <a:pt x="32" y="444"/>
                  </a:lnTo>
                  <a:lnTo>
                    <a:pt x="50" y="408"/>
                  </a:lnTo>
                  <a:lnTo>
                    <a:pt x="70" y="371"/>
                  </a:lnTo>
                  <a:lnTo>
                    <a:pt x="91" y="335"/>
                  </a:lnTo>
                  <a:lnTo>
                    <a:pt x="112" y="301"/>
                  </a:lnTo>
                  <a:lnTo>
                    <a:pt x="131" y="267"/>
                  </a:lnTo>
                  <a:lnTo>
                    <a:pt x="149" y="238"/>
                  </a:lnTo>
                  <a:lnTo>
                    <a:pt x="163" y="216"/>
                  </a:lnTo>
                  <a:lnTo>
                    <a:pt x="174" y="200"/>
                  </a:lnTo>
                  <a:lnTo>
                    <a:pt x="179" y="192"/>
                  </a:lnTo>
                  <a:lnTo>
                    <a:pt x="176" y="192"/>
                  </a:lnTo>
                  <a:lnTo>
                    <a:pt x="195" y="171"/>
                  </a:lnTo>
                  <a:lnTo>
                    <a:pt x="215" y="144"/>
                  </a:lnTo>
                  <a:lnTo>
                    <a:pt x="237" y="116"/>
                  </a:lnTo>
                  <a:lnTo>
                    <a:pt x="258" y="90"/>
                  </a:lnTo>
                  <a:lnTo>
                    <a:pt x="281" y="63"/>
                  </a:lnTo>
                  <a:lnTo>
                    <a:pt x="303" y="43"/>
                  </a:lnTo>
                  <a:lnTo>
                    <a:pt x="325" y="31"/>
                  </a:lnTo>
                  <a:lnTo>
                    <a:pt x="345" y="29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286760" y="5528160"/>
              <a:ext cx="131400" cy="25200"/>
            </a:xfrm>
            <a:custGeom>
              <a:avLst/>
              <a:gdLst/>
              <a:ahLst/>
              <a:rect l="l" t="t" r="r" b="b"/>
              <a:pathLst>
                <a:path w="244" h="48">
                  <a:moveTo>
                    <a:pt x="244" y="20"/>
                  </a:moveTo>
                  <a:lnTo>
                    <a:pt x="244" y="20"/>
                  </a:lnTo>
                  <a:lnTo>
                    <a:pt x="233" y="15"/>
                  </a:lnTo>
                  <a:lnTo>
                    <a:pt x="220" y="10"/>
                  </a:lnTo>
                  <a:lnTo>
                    <a:pt x="206" y="6"/>
                  </a:lnTo>
                  <a:lnTo>
                    <a:pt x="192" y="3"/>
                  </a:lnTo>
                  <a:lnTo>
                    <a:pt x="177" y="1"/>
                  </a:lnTo>
                  <a:lnTo>
                    <a:pt x="161" y="0"/>
                  </a:lnTo>
                  <a:lnTo>
                    <a:pt x="146" y="0"/>
                  </a:lnTo>
                  <a:lnTo>
                    <a:pt x="130" y="1"/>
                  </a:lnTo>
                  <a:lnTo>
                    <a:pt x="114" y="2"/>
                  </a:lnTo>
                  <a:lnTo>
                    <a:pt x="96" y="3"/>
                  </a:lnTo>
                  <a:lnTo>
                    <a:pt x="81" y="8"/>
                  </a:lnTo>
                  <a:lnTo>
                    <a:pt x="65" y="11"/>
                  </a:lnTo>
                  <a:lnTo>
                    <a:pt x="48" y="14"/>
                  </a:lnTo>
                  <a:lnTo>
                    <a:pt x="33" y="19"/>
                  </a:lnTo>
                  <a:lnTo>
                    <a:pt x="17" y="24"/>
                  </a:lnTo>
                  <a:lnTo>
                    <a:pt x="0" y="31"/>
                  </a:lnTo>
                  <a:lnTo>
                    <a:pt x="8" y="48"/>
                  </a:lnTo>
                  <a:lnTo>
                    <a:pt x="23" y="43"/>
                  </a:lnTo>
                  <a:lnTo>
                    <a:pt x="37" y="38"/>
                  </a:lnTo>
                  <a:lnTo>
                    <a:pt x="53" y="33"/>
                  </a:lnTo>
                  <a:lnTo>
                    <a:pt x="67" y="30"/>
                  </a:lnTo>
                  <a:lnTo>
                    <a:pt x="84" y="26"/>
                  </a:lnTo>
                  <a:lnTo>
                    <a:pt x="99" y="22"/>
                  </a:lnTo>
                  <a:lnTo>
                    <a:pt x="114" y="21"/>
                  </a:lnTo>
                  <a:lnTo>
                    <a:pt x="130" y="20"/>
                  </a:lnTo>
                  <a:lnTo>
                    <a:pt x="146" y="19"/>
                  </a:lnTo>
                  <a:lnTo>
                    <a:pt x="161" y="19"/>
                  </a:lnTo>
                  <a:lnTo>
                    <a:pt x="177" y="20"/>
                  </a:lnTo>
                  <a:lnTo>
                    <a:pt x="189" y="22"/>
                  </a:lnTo>
                  <a:lnTo>
                    <a:pt x="203" y="25"/>
                  </a:lnTo>
                  <a:lnTo>
                    <a:pt x="216" y="29"/>
                  </a:lnTo>
                  <a:lnTo>
                    <a:pt x="226" y="32"/>
                  </a:lnTo>
                  <a:lnTo>
                    <a:pt x="238" y="36"/>
                  </a:lnTo>
                  <a:lnTo>
                    <a:pt x="238" y="36"/>
                  </a:lnTo>
                  <a:lnTo>
                    <a:pt x="24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415640" y="5538240"/>
              <a:ext cx="45360" cy="142560"/>
            </a:xfrm>
            <a:custGeom>
              <a:avLst/>
              <a:gdLst/>
              <a:ahLst/>
              <a:rect l="l" t="t" r="r" b="b"/>
              <a:pathLst>
                <a:path w="86" h="278">
                  <a:moveTo>
                    <a:pt x="76" y="278"/>
                  </a:moveTo>
                  <a:lnTo>
                    <a:pt x="76" y="278"/>
                  </a:lnTo>
                  <a:lnTo>
                    <a:pt x="83" y="236"/>
                  </a:lnTo>
                  <a:lnTo>
                    <a:pt x="86" y="195"/>
                  </a:lnTo>
                  <a:lnTo>
                    <a:pt x="86" y="155"/>
                  </a:lnTo>
                  <a:lnTo>
                    <a:pt x="82" y="115"/>
                  </a:lnTo>
                  <a:lnTo>
                    <a:pt x="73" y="81"/>
                  </a:lnTo>
                  <a:lnTo>
                    <a:pt x="57" y="48"/>
                  </a:lnTo>
                  <a:lnTo>
                    <a:pt x="35" y="2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23" y="34"/>
                  </a:lnTo>
                  <a:lnTo>
                    <a:pt x="41" y="56"/>
                  </a:lnTo>
                  <a:lnTo>
                    <a:pt x="54" y="85"/>
                  </a:lnTo>
                  <a:lnTo>
                    <a:pt x="63" y="119"/>
                  </a:lnTo>
                  <a:lnTo>
                    <a:pt x="67" y="155"/>
                  </a:lnTo>
                  <a:lnTo>
                    <a:pt x="67" y="195"/>
                  </a:lnTo>
                  <a:lnTo>
                    <a:pt x="64" y="236"/>
                  </a:lnTo>
                  <a:lnTo>
                    <a:pt x="57" y="276"/>
                  </a:lnTo>
                  <a:lnTo>
                    <a:pt x="57" y="276"/>
                  </a:lnTo>
                  <a:lnTo>
                    <a:pt x="76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402320" y="5678280"/>
              <a:ext cx="53280" cy="25200"/>
            </a:xfrm>
            <a:custGeom>
              <a:avLst/>
              <a:gdLst/>
              <a:ahLst/>
              <a:rect l="l" t="t" r="r" b="b"/>
              <a:pathLst>
                <a:path w="101" h="47">
                  <a:moveTo>
                    <a:pt x="5" y="47"/>
                  </a:moveTo>
                  <a:lnTo>
                    <a:pt x="5" y="47"/>
                  </a:lnTo>
                  <a:lnTo>
                    <a:pt x="14" y="45"/>
                  </a:lnTo>
                  <a:lnTo>
                    <a:pt x="26" y="44"/>
                  </a:lnTo>
                  <a:lnTo>
                    <a:pt x="41" y="42"/>
                  </a:lnTo>
                  <a:lnTo>
                    <a:pt x="56" y="40"/>
                  </a:lnTo>
                  <a:lnTo>
                    <a:pt x="69" y="37"/>
                  </a:lnTo>
                  <a:lnTo>
                    <a:pt x="83" y="28"/>
                  </a:lnTo>
                  <a:lnTo>
                    <a:pt x="96" y="18"/>
                  </a:lnTo>
                  <a:lnTo>
                    <a:pt x="101" y="2"/>
                  </a:lnTo>
                  <a:lnTo>
                    <a:pt x="82" y="0"/>
                  </a:lnTo>
                  <a:lnTo>
                    <a:pt x="79" y="8"/>
                  </a:lnTo>
                  <a:lnTo>
                    <a:pt x="75" y="15"/>
                  </a:lnTo>
                  <a:lnTo>
                    <a:pt x="65" y="18"/>
                  </a:lnTo>
                  <a:lnTo>
                    <a:pt x="52" y="21"/>
                  </a:lnTo>
                  <a:lnTo>
                    <a:pt x="39" y="24"/>
                  </a:lnTo>
                  <a:lnTo>
                    <a:pt x="26" y="25"/>
                  </a:lnTo>
                  <a:lnTo>
                    <a:pt x="11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244280" y="5694120"/>
              <a:ext cx="160560" cy="104400"/>
            </a:xfrm>
            <a:custGeom>
              <a:avLst/>
              <a:gdLst/>
              <a:ahLst/>
              <a:rect l="l" t="t" r="r" b="b"/>
              <a:pathLst>
                <a:path w="301" h="203">
                  <a:moveTo>
                    <a:pt x="7" y="203"/>
                  </a:moveTo>
                  <a:lnTo>
                    <a:pt x="7" y="203"/>
                  </a:lnTo>
                  <a:lnTo>
                    <a:pt x="26" y="195"/>
                  </a:lnTo>
                  <a:lnTo>
                    <a:pt x="46" y="184"/>
                  </a:lnTo>
                  <a:lnTo>
                    <a:pt x="63" y="173"/>
                  </a:lnTo>
                  <a:lnTo>
                    <a:pt x="82" y="161"/>
                  </a:lnTo>
                  <a:lnTo>
                    <a:pt x="102" y="147"/>
                  </a:lnTo>
                  <a:lnTo>
                    <a:pt x="121" y="132"/>
                  </a:lnTo>
                  <a:lnTo>
                    <a:pt x="139" y="119"/>
                  </a:lnTo>
                  <a:lnTo>
                    <a:pt x="158" y="104"/>
                  </a:lnTo>
                  <a:lnTo>
                    <a:pt x="177" y="91"/>
                  </a:lnTo>
                  <a:lnTo>
                    <a:pt x="194" y="78"/>
                  </a:lnTo>
                  <a:lnTo>
                    <a:pt x="212" y="65"/>
                  </a:lnTo>
                  <a:lnTo>
                    <a:pt x="231" y="53"/>
                  </a:lnTo>
                  <a:lnTo>
                    <a:pt x="249" y="43"/>
                  </a:lnTo>
                  <a:lnTo>
                    <a:pt x="265" y="32"/>
                  </a:lnTo>
                  <a:lnTo>
                    <a:pt x="284" y="24"/>
                  </a:lnTo>
                  <a:lnTo>
                    <a:pt x="301" y="19"/>
                  </a:lnTo>
                  <a:lnTo>
                    <a:pt x="296" y="0"/>
                  </a:lnTo>
                  <a:lnTo>
                    <a:pt x="277" y="8"/>
                  </a:lnTo>
                  <a:lnTo>
                    <a:pt x="259" y="16"/>
                  </a:lnTo>
                  <a:lnTo>
                    <a:pt x="240" y="27"/>
                  </a:lnTo>
                  <a:lnTo>
                    <a:pt x="222" y="37"/>
                  </a:lnTo>
                  <a:lnTo>
                    <a:pt x="203" y="49"/>
                  </a:lnTo>
                  <a:lnTo>
                    <a:pt x="183" y="63"/>
                  </a:lnTo>
                  <a:lnTo>
                    <a:pt x="165" y="78"/>
                  </a:lnTo>
                  <a:lnTo>
                    <a:pt x="147" y="90"/>
                  </a:lnTo>
                  <a:lnTo>
                    <a:pt x="128" y="104"/>
                  </a:lnTo>
                  <a:lnTo>
                    <a:pt x="110" y="119"/>
                  </a:lnTo>
                  <a:lnTo>
                    <a:pt x="91" y="132"/>
                  </a:lnTo>
                  <a:lnTo>
                    <a:pt x="73" y="144"/>
                  </a:lnTo>
                  <a:lnTo>
                    <a:pt x="55" y="157"/>
                  </a:lnTo>
                  <a:lnTo>
                    <a:pt x="37" y="168"/>
                  </a:lnTo>
                  <a:lnTo>
                    <a:pt x="19" y="179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7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117560" y="5788440"/>
              <a:ext cx="128880" cy="43200"/>
            </a:xfrm>
            <a:custGeom>
              <a:avLst/>
              <a:gdLst/>
              <a:ahLst/>
              <a:rect l="l" t="t" r="r" b="b"/>
              <a:pathLst>
                <a:path w="240" h="82">
                  <a:moveTo>
                    <a:pt x="0" y="82"/>
                  </a:moveTo>
                  <a:lnTo>
                    <a:pt x="0" y="82"/>
                  </a:lnTo>
                  <a:lnTo>
                    <a:pt x="19" y="82"/>
                  </a:lnTo>
                  <a:lnTo>
                    <a:pt x="35" y="81"/>
                  </a:lnTo>
                  <a:lnTo>
                    <a:pt x="53" y="77"/>
                  </a:lnTo>
                  <a:lnTo>
                    <a:pt x="69" y="75"/>
                  </a:lnTo>
                  <a:lnTo>
                    <a:pt x="85" y="73"/>
                  </a:lnTo>
                  <a:lnTo>
                    <a:pt x="99" y="69"/>
                  </a:lnTo>
                  <a:lnTo>
                    <a:pt x="115" y="66"/>
                  </a:lnTo>
                  <a:lnTo>
                    <a:pt x="128" y="62"/>
                  </a:lnTo>
                  <a:lnTo>
                    <a:pt x="142" y="56"/>
                  </a:lnTo>
                  <a:lnTo>
                    <a:pt x="156" y="52"/>
                  </a:lnTo>
                  <a:lnTo>
                    <a:pt x="170" y="46"/>
                  </a:lnTo>
                  <a:lnTo>
                    <a:pt x="182" y="42"/>
                  </a:lnTo>
                  <a:lnTo>
                    <a:pt x="198" y="34"/>
                  </a:lnTo>
                  <a:lnTo>
                    <a:pt x="212" y="28"/>
                  </a:lnTo>
                  <a:lnTo>
                    <a:pt x="227" y="23"/>
                  </a:lnTo>
                  <a:lnTo>
                    <a:pt x="240" y="16"/>
                  </a:lnTo>
                  <a:lnTo>
                    <a:pt x="233" y="0"/>
                  </a:lnTo>
                  <a:lnTo>
                    <a:pt x="219" y="6"/>
                  </a:lnTo>
                  <a:lnTo>
                    <a:pt x="204" y="12"/>
                  </a:lnTo>
                  <a:lnTo>
                    <a:pt x="191" y="17"/>
                  </a:lnTo>
                  <a:lnTo>
                    <a:pt x="178" y="23"/>
                  </a:lnTo>
                  <a:lnTo>
                    <a:pt x="165" y="27"/>
                  </a:lnTo>
                  <a:lnTo>
                    <a:pt x="151" y="33"/>
                  </a:lnTo>
                  <a:lnTo>
                    <a:pt x="138" y="37"/>
                  </a:lnTo>
                  <a:lnTo>
                    <a:pt x="124" y="43"/>
                  </a:lnTo>
                  <a:lnTo>
                    <a:pt x="109" y="47"/>
                  </a:lnTo>
                  <a:lnTo>
                    <a:pt x="97" y="51"/>
                  </a:lnTo>
                  <a:lnTo>
                    <a:pt x="82" y="54"/>
                  </a:lnTo>
                  <a:lnTo>
                    <a:pt x="67" y="56"/>
                  </a:lnTo>
                  <a:lnTo>
                    <a:pt x="50" y="58"/>
                  </a:lnTo>
                  <a:lnTo>
                    <a:pt x="35" y="62"/>
                  </a:lnTo>
                  <a:lnTo>
                    <a:pt x="19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098840" y="5627520"/>
              <a:ext cx="107640" cy="204120"/>
            </a:xfrm>
            <a:custGeom>
              <a:avLst/>
              <a:gdLst/>
              <a:ahLst/>
              <a:rect l="l" t="t" r="r" b="b"/>
              <a:pathLst>
                <a:path w="196" h="398">
                  <a:moveTo>
                    <a:pt x="179" y="0"/>
                  </a:moveTo>
                  <a:lnTo>
                    <a:pt x="192" y="14"/>
                  </a:lnTo>
                  <a:lnTo>
                    <a:pt x="178" y="5"/>
                  </a:lnTo>
                  <a:lnTo>
                    <a:pt x="174" y="10"/>
                  </a:lnTo>
                  <a:lnTo>
                    <a:pt x="164" y="27"/>
                  </a:lnTo>
                  <a:lnTo>
                    <a:pt x="150" y="49"/>
                  </a:lnTo>
                  <a:lnTo>
                    <a:pt x="132" y="78"/>
                  </a:lnTo>
                  <a:lnTo>
                    <a:pt x="113" y="110"/>
                  </a:lnTo>
                  <a:lnTo>
                    <a:pt x="92" y="145"/>
                  </a:lnTo>
                  <a:lnTo>
                    <a:pt x="71" y="181"/>
                  </a:lnTo>
                  <a:lnTo>
                    <a:pt x="51" y="220"/>
                  </a:lnTo>
                  <a:lnTo>
                    <a:pt x="33" y="256"/>
                  </a:lnTo>
                  <a:lnTo>
                    <a:pt x="18" y="290"/>
                  </a:lnTo>
                  <a:lnTo>
                    <a:pt x="6" y="322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0"/>
                  </a:lnTo>
                  <a:lnTo>
                    <a:pt x="33" y="398"/>
                  </a:lnTo>
                  <a:lnTo>
                    <a:pt x="33" y="379"/>
                  </a:lnTo>
                  <a:lnTo>
                    <a:pt x="23" y="377"/>
                  </a:lnTo>
                  <a:lnTo>
                    <a:pt x="19" y="368"/>
                  </a:lnTo>
                  <a:lnTo>
                    <a:pt x="19" y="351"/>
                  </a:lnTo>
                  <a:lnTo>
                    <a:pt x="25" y="327"/>
                  </a:lnTo>
                  <a:lnTo>
                    <a:pt x="35" y="297"/>
                  </a:lnTo>
                  <a:lnTo>
                    <a:pt x="49" y="263"/>
                  </a:lnTo>
                  <a:lnTo>
                    <a:pt x="67" y="228"/>
                  </a:lnTo>
                  <a:lnTo>
                    <a:pt x="87" y="191"/>
                  </a:lnTo>
                  <a:lnTo>
                    <a:pt x="109" y="155"/>
                  </a:lnTo>
                  <a:lnTo>
                    <a:pt x="130" y="120"/>
                  </a:lnTo>
                  <a:lnTo>
                    <a:pt x="149" y="87"/>
                  </a:lnTo>
                  <a:lnTo>
                    <a:pt x="167" y="59"/>
                  </a:lnTo>
                  <a:lnTo>
                    <a:pt x="180" y="37"/>
                  </a:lnTo>
                  <a:lnTo>
                    <a:pt x="191" y="20"/>
                  </a:lnTo>
                  <a:lnTo>
                    <a:pt x="196" y="9"/>
                  </a:lnTo>
                  <a:lnTo>
                    <a:pt x="178" y="0"/>
                  </a:lnTo>
                  <a:lnTo>
                    <a:pt x="191" y="14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195680" y="5543640"/>
              <a:ext cx="99000" cy="91080"/>
            </a:xfrm>
            <a:custGeom>
              <a:avLst/>
              <a:gdLst/>
              <a:ahLst/>
              <a:rect l="l" t="t" r="r" b="b"/>
              <a:pathLst>
                <a:path w="184" h="179">
                  <a:moveTo>
                    <a:pt x="170" y="1"/>
                  </a:moveTo>
                  <a:lnTo>
                    <a:pt x="176" y="0"/>
                  </a:lnTo>
                  <a:lnTo>
                    <a:pt x="152" y="2"/>
                  </a:lnTo>
                  <a:lnTo>
                    <a:pt x="127" y="16"/>
                  </a:lnTo>
                  <a:lnTo>
                    <a:pt x="104" y="38"/>
                  </a:lnTo>
                  <a:lnTo>
                    <a:pt x="82" y="63"/>
                  </a:lnTo>
                  <a:lnTo>
                    <a:pt x="61" y="91"/>
                  </a:lnTo>
                  <a:lnTo>
                    <a:pt x="37" y="119"/>
                  </a:lnTo>
                  <a:lnTo>
                    <a:pt x="17" y="145"/>
                  </a:lnTo>
                  <a:lnTo>
                    <a:pt x="0" y="165"/>
                  </a:lnTo>
                  <a:lnTo>
                    <a:pt x="12" y="179"/>
                  </a:lnTo>
                  <a:lnTo>
                    <a:pt x="32" y="156"/>
                  </a:lnTo>
                  <a:lnTo>
                    <a:pt x="52" y="131"/>
                  </a:lnTo>
                  <a:lnTo>
                    <a:pt x="74" y="102"/>
                  </a:lnTo>
                  <a:lnTo>
                    <a:pt x="95" y="75"/>
                  </a:lnTo>
                  <a:lnTo>
                    <a:pt x="118" y="49"/>
                  </a:lnTo>
                  <a:lnTo>
                    <a:pt x="139" y="30"/>
                  </a:lnTo>
                  <a:lnTo>
                    <a:pt x="157" y="21"/>
                  </a:lnTo>
                  <a:lnTo>
                    <a:pt x="174" y="19"/>
                  </a:lnTo>
                  <a:lnTo>
                    <a:pt x="178" y="18"/>
                  </a:lnTo>
                  <a:lnTo>
                    <a:pt x="174" y="19"/>
                  </a:lnTo>
                  <a:lnTo>
                    <a:pt x="180" y="16"/>
                  </a:lnTo>
                  <a:lnTo>
                    <a:pt x="184" y="10"/>
                  </a:lnTo>
                  <a:lnTo>
                    <a:pt x="182" y="3"/>
                  </a:lnTo>
                  <a:lnTo>
                    <a:pt x="176" y="0"/>
                  </a:lnTo>
                  <a:lnTo>
                    <a:pt x="17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729920" y="4765680"/>
              <a:ext cx="88200" cy="55800"/>
            </a:xfrm>
            <a:custGeom>
              <a:avLst/>
              <a:gdLst/>
              <a:ahLst/>
              <a:rect l="l" t="t" r="r" b="b"/>
              <a:pathLst>
                <a:path w="162" h="110">
                  <a:moveTo>
                    <a:pt x="143" y="92"/>
                  </a:moveTo>
                  <a:lnTo>
                    <a:pt x="159" y="92"/>
                  </a:lnTo>
                  <a:lnTo>
                    <a:pt x="142" y="77"/>
                  </a:lnTo>
                  <a:lnTo>
                    <a:pt x="125" y="63"/>
                  </a:lnTo>
                  <a:lnTo>
                    <a:pt x="105" y="52"/>
                  </a:lnTo>
                  <a:lnTo>
                    <a:pt x="86" y="41"/>
                  </a:lnTo>
                  <a:lnTo>
                    <a:pt x="67" y="31"/>
                  </a:lnTo>
                  <a:lnTo>
                    <a:pt x="47" y="20"/>
                  </a:lnTo>
                  <a:lnTo>
                    <a:pt x="28" y="11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8" y="30"/>
                  </a:lnTo>
                  <a:lnTo>
                    <a:pt x="37" y="39"/>
                  </a:lnTo>
                  <a:lnTo>
                    <a:pt x="57" y="50"/>
                  </a:lnTo>
                  <a:lnTo>
                    <a:pt x="76" y="60"/>
                  </a:lnTo>
                  <a:lnTo>
                    <a:pt x="95" y="71"/>
                  </a:lnTo>
                  <a:lnTo>
                    <a:pt x="112" y="82"/>
                  </a:lnTo>
                  <a:lnTo>
                    <a:pt x="130" y="93"/>
                  </a:lnTo>
                  <a:lnTo>
                    <a:pt x="144" y="107"/>
                  </a:lnTo>
                  <a:lnTo>
                    <a:pt x="160" y="107"/>
                  </a:lnTo>
                  <a:lnTo>
                    <a:pt x="144" y="107"/>
                  </a:lnTo>
                  <a:lnTo>
                    <a:pt x="151" y="110"/>
                  </a:lnTo>
                  <a:lnTo>
                    <a:pt x="159" y="107"/>
                  </a:lnTo>
                  <a:lnTo>
                    <a:pt x="162" y="99"/>
                  </a:lnTo>
                  <a:lnTo>
                    <a:pt x="159" y="92"/>
                  </a:lnTo>
                  <a:lnTo>
                    <a:pt x="14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807680" y="4671360"/>
              <a:ext cx="69120" cy="63360"/>
            </a:xfrm>
            <a:custGeom>
              <a:avLst/>
              <a:gdLst/>
              <a:ahLst/>
              <a:rect l="l" t="t" r="r" b="b"/>
              <a:pathLst>
                <a:path w="129" h="124">
                  <a:moveTo>
                    <a:pt x="17" y="12"/>
                  </a:moveTo>
                  <a:lnTo>
                    <a:pt x="17" y="12"/>
                  </a:lnTo>
                  <a:lnTo>
                    <a:pt x="5" y="16"/>
                  </a:lnTo>
                  <a:lnTo>
                    <a:pt x="14" y="24"/>
                  </a:lnTo>
                  <a:lnTo>
                    <a:pt x="28" y="39"/>
                  </a:lnTo>
                  <a:lnTo>
                    <a:pt x="45" y="56"/>
                  </a:lnTo>
                  <a:lnTo>
                    <a:pt x="62" y="75"/>
                  </a:lnTo>
                  <a:lnTo>
                    <a:pt x="81" y="93"/>
                  </a:lnTo>
                  <a:lnTo>
                    <a:pt x="99" y="111"/>
                  </a:lnTo>
                  <a:lnTo>
                    <a:pt x="117" y="124"/>
                  </a:lnTo>
                  <a:lnTo>
                    <a:pt x="129" y="107"/>
                  </a:lnTo>
                  <a:lnTo>
                    <a:pt x="113" y="94"/>
                  </a:lnTo>
                  <a:lnTo>
                    <a:pt x="96" y="79"/>
                  </a:lnTo>
                  <a:lnTo>
                    <a:pt x="77" y="61"/>
                  </a:lnTo>
                  <a:lnTo>
                    <a:pt x="59" y="42"/>
                  </a:lnTo>
                  <a:lnTo>
                    <a:pt x="42" y="24"/>
                  </a:lnTo>
                  <a:lnTo>
                    <a:pt x="28" y="1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726680" y="4671360"/>
              <a:ext cx="88560" cy="104040"/>
            </a:xfrm>
            <a:custGeom>
              <a:avLst/>
              <a:gdLst/>
              <a:ahLst/>
              <a:rect l="l" t="t" r="r" b="b"/>
              <a:pathLst>
                <a:path w="164" h="204">
                  <a:moveTo>
                    <a:pt x="14" y="185"/>
                  </a:moveTo>
                  <a:lnTo>
                    <a:pt x="18" y="201"/>
                  </a:lnTo>
                  <a:lnTo>
                    <a:pt x="164" y="12"/>
                  </a:lnTo>
                  <a:lnTo>
                    <a:pt x="147" y="0"/>
                  </a:lnTo>
                  <a:lnTo>
                    <a:pt x="1" y="188"/>
                  </a:lnTo>
                  <a:lnTo>
                    <a:pt x="4" y="204"/>
                  </a:lnTo>
                  <a:lnTo>
                    <a:pt x="1" y="188"/>
                  </a:lnTo>
                  <a:lnTo>
                    <a:pt x="0" y="197"/>
                  </a:lnTo>
                  <a:lnTo>
                    <a:pt x="4" y="203"/>
                  </a:lnTo>
                  <a:lnTo>
                    <a:pt x="10" y="204"/>
                  </a:lnTo>
                  <a:lnTo>
                    <a:pt x="18" y="201"/>
                  </a:lnTo>
                  <a:lnTo>
                    <a:pt x="1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887160" y="4729680"/>
              <a:ext cx="190440" cy="308880"/>
            </a:xfrm>
            <a:custGeom>
              <a:avLst/>
              <a:gdLst/>
              <a:ahLst/>
              <a:rect l="l" t="t" r="r" b="b"/>
              <a:pathLst>
                <a:path w="358" h="603">
                  <a:moveTo>
                    <a:pt x="76" y="0"/>
                  </a:moveTo>
                  <a:lnTo>
                    <a:pt x="68" y="16"/>
                  </a:lnTo>
                  <a:lnTo>
                    <a:pt x="60" y="31"/>
                  </a:lnTo>
                  <a:lnTo>
                    <a:pt x="51" y="46"/>
                  </a:lnTo>
                  <a:lnTo>
                    <a:pt x="45" y="61"/>
                  </a:lnTo>
                  <a:lnTo>
                    <a:pt x="37" y="76"/>
                  </a:lnTo>
                  <a:lnTo>
                    <a:pt x="28" y="91"/>
                  </a:lnTo>
                  <a:lnTo>
                    <a:pt x="21" y="107"/>
                  </a:lnTo>
                  <a:lnTo>
                    <a:pt x="13" y="123"/>
                  </a:lnTo>
                  <a:lnTo>
                    <a:pt x="5" y="156"/>
                  </a:lnTo>
                  <a:lnTo>
                    <a:pt x="0" y="200"/>
                  </a:lnTo>
                  <a:lnTo>
                    <a:pt x="1" y="249"/>
                  </a:lnTo>
                  <a:lnTo>
                    <a:pt x="11" y="292"/>
                  </a:lnTo>
                  <a:lnTo>
                    <a:pt x="26" y="320"/>
                  </a:lnTo>
                  <a:lnTo>
                    <a:pt x="39" y="346"/>
                  </a:lnTo>
                  <a:lnTo>
                    <a:pt x="50" y="368"/>
                  </a:lnTo>
                  <a:lnTo>
                    <a:pt x="62" y="389"/>
                  </a:lnTo>
                  <a:lnTo>
                    <a:pt x="74" y="411"/>
                  </a:lnTo>
                  <a:lnTo>
                    <a:pt x="86" y="435"/>
                  </a:lnTo>
                  <a:lnTo>
                    <a:pt x="98" y="461"/>
                  </a:lnTo>
                  <a:lnTo>
                    <a:pt x="111" y="490"/>
                  </a:lnTo>
                  <a:lnTo>
                    <a:pt x="117" y="504"/>
                  </a:lnTo>
                  <a:lnTo>
                    <a:pt x="123" y="520"/>
                  </a:lnTo>
                  <a:lnTo>
                    <a:pt x="132" y="537"/>
                  </a:lnTo>
                  <a:lnTo>
                    <a:pt x="141" y="552"/>
                  </a:lnTo>
                  <a:lnTo>
                    <a:pt x="151" y="568"/>
                  </a:lnTo>
                  <a:lnTo>
                    <a:pt x="162" y="582"/>
                  </a:lnTo>
                  <a:lnTo>
                    <a:pt x="174" y="594"/>
                  </a:lnTo>
                  <a:lnTo>
                    <a:pt x="188" y="603"/>
                  </a:lnTo>
                  <a:lnTo>
                    <a:pt x="202" y="601"/>
                  </a:lnTo>
                  <a:lnTo>
                    <a:pt x="217" y="595"/>
                  </a:lnTo>
                  <a:lnTo>
                    <a:pt x="232" y="587"/>
                  </a:lnTo>
                  <a:lnTo>
                    <a:pt x="246" y="577"/>
                  </a:lnTo>
                  <a:lnTo>
                    <a:pt x="258" y="564"/>
                  </a:lnTo>
                  <a:lnTo>
                    <a:pt x="270" y="553"/>
                  </a:lnTo>
                  <a:lnTo>
                    <a:pt x="280" y="541"/>
                  </a:lnTo>
                  <a:lnTo>
                    <a:pt x="284" y="532"/>
                  </a:lnTo>
                  <a:lnTo>
                    <a:pt x="276" y="466"/>
                  </a:lnTo>
                  <a:lnTo>
                    <a:pt x="273" y="410"/>
                  </a:lnTo>
                  <a:lnTo>
                    <a:pt x="276" y="357"/>
                  </a:lnTo>
                  <a:lnTo>
                    <a:pt x="290" y="297"/>
                  </a:lnTo>
                  <a:lnTo>
                    <a:pt x="300" y="272"/>
                  </a:lnTo>
                  <a:lnTo>
                    <a:pt x="312" y="244"/>
                  </a:lnTo>
                  <a:lnTo>
                    <a:pt x="326" y="215"/>
                  </a:lnTo>
                  <a:lnTo>
                    <a:pt x="339" y="182"/>
                  </a:lnTo>
                  <a:lnTo>
                    <a:pt x="349" y="151"/>
                  </a:lnTo>
                  <a:lnTo>
                    <a:pt x="357" y="120"/>
                  </a:lnTo>
                  <a:lnTo>
                    <a:pt x="358" y="90"/>
                  </a:lnTo>
                  <a:lnTo>
                    <a:pt x="351" y="63"/>
                  </a:lnTo>
                  <a:lnTo>
                    <a:pt x="344" y="54"/>
                  </a:lnTo>
                  <a:lnTo>
                    <a:pt x="328" y="46"/>
                  </a:lnTo>
                  <a:lnTo>
                    <a:pt x="306" y="37"/>
                  </a:lnTo>
                  <a:lnTo>
                    <a:pt x="282" y="30"/>
                  </a:lnTo>
                  <a:lnTo>
                    <a:pt x="255" y="24"/>
                  </a:lnTo>
                  <a:lnTo>
                    <a:pt x="231" y="17"/>
                  </a:lnTo>
                  <a:lnTo>
                    <a:pt x="211" y="13"/>
                  </a:lnTo>
                  <a:lnTo>
                    <a:pt x="196" y="10"/>
                  </a:lnTo>
                  <a:lnTo>
                    <a:pt x="181" y="9"/>
                  </a:lnTo>
                  <a:lnTo>
                    <a:pt x="166" y="8"/>
                  </a:lnTo>
                  <a:lnTo>
                    <a:pt x="151" y="7"/>
                  </a:lnTo>
                  <a:lnTo>
                    <a:pt x="135" y="6"/>
                  </a:lnTo>
                  <a:lnTo>
                    <a:pt x="120" y="5"/>
                  </a:lnTo>
                  <a:lnTo>
                    <a:pt x="105" y="4"/>
                  </a:lnTo>
                  <a:lnTo>
                    <a:pt x="9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889320" y="4727520"/>
              <a:ext cx="43200" cy="65880"/>
            </a:xfrm>
            <a:custGeom>
              <a:avLst/>
              <a:gdLst/>
              <a:ahLst/>
              <a:rect l="l" t="t" r="r" b="b"/>
              <a:pathLst>
                <a:path w="79" h="130">
                  <a:moveTo>
                    <a:pt x="18" y="130"/>
                  </a:moveTo>
                  <a:lnTo>
                    <a:pt x="18" y="130"/>
                  </a:lnTo>
                  <a:lnTo>
                    <a:pt x="25" y="114"/>
                  </a:lnTo>
                  <a:lnTo>
                    <a:pt x="33" y="100"/>
                  </a:lnTo>
                  <a:lnTo>
                    <a:pt x="41" y="85"/>
                  </a:lnTo>
                  <a:lnTo>
                    <a:pt x="49" y="70"/>
                  </a:lnTo>
                  <a:lnTo>
                    <a:pt x="56" y="54"/>
                  </a:lnTo>
                  <a:lnTo>
                    <a:pt x="64" y="40"/>
                  </a:lnTo>
                  <a:lnTo>
                    <a:pt x="73" y="24"/>
                  </a:lnTo>
                  <a:lnTo>
                    <a:pt x="79" y="10"/>
                  </a:lnTo>
                  <a:lnTo>
                    <a:pt x="61" y="0"/>
                  </a:lnTo>
                  <a:lnTo>
                    <a:pt x="54" y="15"/>
                  </a:lnTo>
                  <a:lnTo>
                    <a:pt x="45" y="31"/>
                  </a:lnTo>
                  <a:lnTo>
                    <a:pt x="37" y="45"/>
                  </a:lnTo>
                  <a:lnTo>
                    <a:pt x="31" y="60"/>
                  </a:lnTo>
                  <a:lnTo>
                    <a:pt x="22" y="75"/>
                  </a:lnTo>
                  <a:lnTo>
                    <a:pt x="14" y="91"/>
                  </a:lnTo>
                  <a:lnTo>
                    <a:pt x="6" y="108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1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881400" y="4790880"/>
              <a:ext cx="16200" cy="91800"/>
            </a:xfrm>
            <a:custGeom>
              <a:avLst/>
              <a:gdLst/>
              <a:ahLst/>
              <a:rect l="l" t="t" r="r" b="b"/>
              <a:pathLst>
                <a:path w="34" h="178">
                  <a:moveTo>
                    <a:pt x="32" y="169"/>
                  </a:moveTo>
                  <a:lnTo>
                    <a:pt x="32" y="170"/>
                  </a:lnTo>
                  <a:lnTo>
                    <a:pt x="22" y="128"/>
                  </a:lnTo>
                  <a:lnTo>
                    <a:pt x="21" y="81"/>
                  </a:lnTo>
                  <a:lnTo>
                    <a:pt x="27" y="38"/>
                  </a:lnTo>
                  <a:lnTo>
                    <a:pt x="34" y="7"/>
                  </a:lnTo>
                  <a:lnTo>
                    <a:pt x="16" y="0"/>
                  </a:lnTo>
                  <a:lnTo>
                    <a:pt x="5" y="36"/>
                  </a:lnTo>
                  <a:lnTo>
                    <a:pt x="0" y="81"/>
                  </a:lnTo>
                  <a:lnTo>
                    <a:pt x="1" y="131"/>
                  </a:lnTo>
                  <a:lnTo>
                    <a:pt x="13" y="177"/>
                  </a:lnTo>
                  <a:lnTo>
                    <a:pt x="13" y="178"/>
                  </a:lnTo>
                  <a:lnTo>
                    <a:pt x="3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887160" y="4877640"/>
              <a:ext cx="64440" cy="104400"/>
            </a:xfrm>
            <a:custGeom>
              <a:avLst/>
              <a:gdLst/>
              <a:ahLst/>
              <a:rect l="l" t="t" r="r" b="b"/>
              <a:pathLst>
                <a:path w="118" h="206">
                  <a:moveTo>
                    <a:pt x="118" y="199"/>
                  </a:moveTo>
                  <a:lnTo>
                    <a:pt x="118" y="199"/>
                  </a:lnTo>
                  <a:lnTo>
                    <a:pt x="105" y="170"/>
                  </a:lnTo>
                  <a:lnTo>
                    <a:pt x="94" y="142"/>
                  </a:lnTo>
                  <a:lnTo>
                    <a:pt x="81" y="119"/>
                  </a:lnTo>
                  <a:lnTo>
                    <a:pt x="70" y="97"/>
                  </a:lnTo>
                  <a:lnTo>
                    <a:pt x="58" y="75"/>
                  </a:lnTo>
                  <a:lnTo>
                    <a:pt x="46" y="52"/>
                  </a:lnTo>
                  <a:lnTo>
                    <a:pt x="34" y="28"/>
                  </a:lnTo>
                  <a:lnTo>
                    <a:pt x="19" y="0"/>
                  </a:lnTo>
                  <a:lnTo>
                    <a:pt x="0" y="9"/>
                  </a:lnTo>
                  <a:lnTo>
                    <a:pt x="15" y="38"/>
                  </a:lnTo>
                  <a:lnTo>
                    <a:pt x="27" y="62"/>
                  </a:lnTo>
                  <a:lnTo>
                    <a:pt x="39" y="84"/>
                  </a:lnTo>
                  <a:lnTo>
                    <a:pt x="51" y="105"/>
                  </a:lnTo>
                  <a:lnTo>
                    <a:pt x="62" y="128"/>
                  </a:lnTo>
                  <a:lnTo>
                    <a:pt x="75" y="152"/>
                  </a:lnTo>
                  <a:lnTo>
                    <a:pt x="86" y="176"/>
                  </a:lnTo>
                  <a:lnTo>
                    <a:pt x="99" y="206"/>
                  </a:lnTo>
                  <a:lnTo>
                    <a:pt x="99" y="206"/>
                  </a:lnTo>
                  <a:lnTo>
                    <a:pt x="118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940440" y="4979520"/>
              <a:ext cx="50760" cy="6336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87" y="106"/>
                  </a:moveTo>
                  <a:lnTo>
                    <a:pt x="91" y="107"/>
                  </a:lnTo>
                  <a:lnTo>
                    <a:pt x="80" y="99"/>
                  </a:lnTo>
                  <a:lnTo>
                    <a:pt x="70" y="89"/>
                  </a:lnTo>
                  <a:lnTo>
                    <a:pt x="58" y="75"/>
                  </a:lnTo>
                  <a:lnTo>
                    <a:pt x="50" y="60"/>
                  </a:lnTo>
                  <a:lnTo>
                    <a:pt x="40" y="45"/>
                  </a:lnTo>
                  <a:lnTo>
                    <a:pt x="32" y="29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0" y="7"/>
                  </a:lnTo>
                  <a:lnTo>
                    <a:pt x="6" y="21"/>
                  </a:lnTo>
                  <a:lnTo>
                    <a:pt x="13" y="37"/>
                  </a:lnTo>
                  <a:lnTo>
                    <a:pt x="21" y="54"/>
                  </a:lnTo>
                  <a:lnTo>
                    <a:pt x="31" y="70"/>
                  </a:lnTo>
                  <a:lnTo>
                    <a:pt x="41" y="87"/>
                  </a:lnTo>
                  <a:lnTo>
                    <a:pt x="53" y="103"/>
                  </a:lnTo>
                  <a:lnTo>
                    <a:pt x="67" y="115"/>
                  </a:lnTo>
                  <a:lnTo>
                    <a:pt x="81" y="126"/>
                  </a:lnTo>
                  <a:lnTo>
                    <a:pt x="87" y="127"/>
                  </a:lnTo>
                  <a:lnTo>
                    <a:pt x="81" y="126"/>
                  </a:lnTo>
                  <a:lnTo>
                    <a:pt x="90" y="126"/>
                  </a:lnTo>
                  <a:lnTo>
                    <a:pt x="95" y="122"/>
                  </a:lnTo>
                  <a:lnTo>
                    <a:pt x="95" y="113"/>
                  </a:lnTo>
                  <a:lnTo>
                    <a:pt x="91" y="107"/>
                  </a:lnTo>
                  <a:lnTo>
                    <a:pt x="87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986160" y="4997520"/>
              <a:ext cx="58680" cy="4536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85" y="11"/>
                  </a:moveTo>
                  <a:lnTo>
                    <a:pt x="86" y="6"/>
                  </a:lnTo>
                  <a:lnTo>
                    <a:pt x="83" y="14"/>
                  </a:lnTo>
                  <a:lnTo>
                    <a:pt x="74" y="24"/>
                  </a:lnTo>
                  <a:lnTo>
                    <a:pt x="64" y="36"/>
                  </a:lnTo>
                  <a:lnTo>
                    <a:pt x="51" y="46"/>
                  </a:lnTo>
                  <a:lnTo>
                    <a:pt x="38" y="57"/>
                  </a:lnTo>
                  <a:lnTo>
                    <a:pt x="25" y="64"/>
                  </a:lnTo>
                  <a:lnTo>
                    <a:pt x="12" y="69"/>
                  </a:lnTo>
                  <a:lnTo>
                    <a:pt x="0" y="71"/>
                  </a:lnTo>
                  <a:lnTo>
                    <a:pt x="0" y="92"/>
                  </a:lnTo>
                  <a:lnTo>
                    <a:pt x="17" y="90"/>
                  </a:lnTo>
                  <a:lnTo>
                    <a:pt x="35" y="82"/>
                  </a:lnTo>
                  <a:lnTo>
                    <a:pt x="49" y="73"/>
                  </a:lnTo>
                  <a:lnTo>
                    <a:pt x="65" y="62"/>
                  </a:lnTo>
                  <a:lnTo>
                    <a:pt x="78" y="50"/>
                  </a:lnTo>
                  <a:lnTo>
                    <a:pt x="89" y="38"/>
                  </a:lnTo>
                  <a:lnTo>
                    <a:pt x="99" y="25"/>
                  </a:lnTo>
                  <a:lnTo>
                    <a:pt x="105" y="14"/>
                  </a:lnTo>
                  <a:lnTo>
                    <a:pt x="106" y="8"/>
                  </a:lnTo>
                  <a:lnTo>
                    <a:pt x="105" y="14"/>
                  </a:lnTo>
                  <a:lnTo>
                    <a:pt x="105" y="5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6"/>
                  </a:lnTo>
                  <a:lnTo>
                    <a:pt x="8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026480" y="4880160"/>
              <a:ext cx="21600" cy="122400"/>
            </a:xfrm>
            <a:custGeom>
              <a:avLst/>
              <a:gdLst/>
              <a:ahLst/>
              <a:rect l="l" t="t" r="r" b="b"/>
              <a:pathLst>
                <a:path w="38" h="238">
                  <a:moveTo>
                    <a:pt x="17" y="0"/>
                  </a:moveTo>
                  <a:lnTo>
                    <a:pt x="17" y="0"/>
                  </a:lnTo>
                  <a:lnTo>
                    <a:pt x="3" y="61"/>
                  </a:lnTo>
                  <a:lnTo>
                    <a:pt x="0" y="115"/>
                  </a:lnTo>
                  <a:lnTo>
                    <a:pt x="3" y="171"/>
                  </a:lnTo>
                  <a:lnTo>
                    <a:pt x="10" y="238"/>
                  </a:lnTo>
                  <a:lnTo>
                    <a:pt x="31" y="235"/>
                  </a:lnTo>
                  <a:lnTo>
                    <a:pt x="24" y="171"/>
                  </a:lnTo>
                  <a:lnTo>
                    <a:pt x="21" y="115"/>
                  </a:lnTo>
                  <a:lnTo>
                    <a:pt x="24" y="63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037280" y="4760280"/>
              <a:ext cx="45360" cy="12240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61" y="7"/>
                  </a:moveTo>
                  <a:lnTo>
                    <a:pt x="62" y="8"/>
                  </a:lnTo>
                  <a:lnTo>
                    <a:pt x="67" y="32"/>
                  </a:lnTo>
                  <a:lnTo>
                    <a:pt x="66" y="61"/>
                  </a:lnTo>
                  <a:lnTo>
                    <a:pt x="59" y="91"/>
                  </a:lnTo>
                  <a:lnTo>
                    <a:pt x="49" y="121"/>
                  </a:lnTo>
                  <a:lnTo>
                    <a:pt x="37" y="153"/>
                  </a:lnTo>
                  <a:lnTo>
                    <a:pt x="23" y="181"/>
                  </a:lnTo>
                  <a:lnTo>
                    <a:pt x="10" y="211"/>
                  </a:lnTo>
                  <a:lnTo>
                    <a:pt x="0" y="237"/>
                  </a:lnTo>
                  <a:lnTo>
                    <a:pt x="21" y="241"/>
                  </a:lnTo>
                  <a:lnTo>
                    <a:pt x="28" y="218"/>
                  </a:lnTo>
                  <a:lnTo>
                    <a:pt x="42" y="191"/>
                  </a:lnTo>
                  <a:lnTo>
                    <a:pt x="56" y="160"/>
                  </a:lnTo>
                  <a:lnTo>
                    <a:pt x="68" y="128"/>
                  </a:lnTo>
                  <a:lnTo>
                    <a:pt x="80" y="97"/>
                  </a:lnTo>
                  <a:lnTo>
                    <a:pt x="87" y="63"/>
                  </a:lnTo>
                  <a:lnTo>
                    <a:pt x="88" y="32"/>
                  </a:lnTo>
                  <a:lnTo>
                    <a:pt x="80" y="0"/>
                  </a:lnTo>
                  <a:lnTo>
                    <a:pt x="82" y="2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991560" y="4729680"/>
              <a:ext cx="88560" cy="32760"/>
            </a:xfrm>
            <a:custGeom>
              <a:avLst/>
              <a:gdLst/>
              <a:ahLst/>
              <a:rect l="l" t="t" r="r" b="b"/>
              <a:pathLst>
                <a:path w="167" h="66">
                  <a:moveTo>
                    <a:pt x="1" y="21"/>
                  </a:moveTo>
                  <a:lnTo>
                    <a:pt x="0" y="21"/>
                  </a:lnTo>
                  <a:lnTo>
                    <a:pt x="15" y="25"/>
                  </a:lnTo>
                  <a:lnTo>
                    <a:pt x="34" y="29"/>
                  </a:lnTo>
                  <a:lnTo>
                    <a:pt x="58" y="35"/>
                  </a:lnTo>
                  <a:lnTo>
                    <a:pt x="85" y="42"/>
                  </a:lnTo>
                  <a:lnTo>
                    <a:pt x="109" y="49"/>
                  </a:lnTo>
                  <a:lnTo>
                    <a:pt x="130" y="56"/>
                  </a:lnTo>
                  <a:lnTo>
                    <a:pt x="143" y="64"/>
                  </a:lnTo>
                  <a:lnTo>
                    <a:pt x="146" y="66"/>
                  </a:lnTo>
                  <a:lnTo>
                    <a:pt x="167" y="61"/>
                  </a:lnTo>
                  <a:lnTo>
                    <a:pt x="154" y="47"/>
                  </a:lnTo>
                  <a:lnTo>
                    <a:pt x="137" y="37"/>
                  </a:lnTo>
                  <a:lnTo>
                    <a:pt x="113" y="28"/>
                  </a:lnTo>
                  <a:lnTo>
                    <a:pt x="89" y="20"/>
                  </a:lnTo>
                  <a:lnTo>
                    <a:pt x="62" y="14"/>
                  </a:lnTo>
                  <a:lnTo>
                    <a:pt x="38" y="8"/>
                  </a:lnTo>
                  <a:lnTo>
                    <a:pt x="17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921720" y="4724640"/>
              <a:ext cx="69840" cy="15480"/>
            </a:xfrm>
            <a:custGeom>
              <a:avLst/>
              <a:gdLst/>
              <a:ahLst/>
              <a:rect l="l" t="t" r="r" b="b"/>
              <a:pathLst>
                <a:path w="132" h="30">
                  <a:moveTo>
                    <a:pt x="20" y="16"/>
                  </a:moveTo>
                  <a:lnTo>
                    <a:pt x="12" y="21"/>
                  </a:lnTo>
                  <a:lnTo>
                    <a:pt x="27" y="23"/>
                  </a:lnTo>
                  <a:lnTo>
                    <a:pt x="41" y="24"/>
                  </a:lnTo>
                  <a:lnTo>
                    <a:pt x="56" y="25"/>
                  </a:lnTo>
                  <a:lnTo>
                    <a:pt x="71" y="26"/>
                  </a:lnTo>
                  <a:lnTo>
                    <a:pt x="87" y="27"/>
                  </a:lnTo>
                  <a:lnTo>
                    <a:pt x="102" y="28"/>
                  </a:lnTo>
                  <a:lnTo>
                    <a:pt x="117" y="29"/>
                  </a:lnTo>
                  <a:lnTo>
                    <a:pt x="132" y="30"/>
                  </a:lnTo>
                  <a:lnTo>
                    <a:pt x="132" y="9"/>
                  </a:lnTo>
                  <a:lnTo>
                    <a:pt x="117" y="8"/>
                  </a:lnTo>
                  <a:lnTo>
                    <a:pt x="102" y="7"/>
                  </a:lnTo>
                  <a:lnTo>
                    <a:pt x="87" y="6"/>
                  </a:lnTo>
                  <a:lnTo>
                    <a:pt x="71" y="5"/>
                  </a:lnTo>
                  <a:lnTo>
                    <a:pt x="56" y="4"/>
                  </a:lnTo>
                  <a:lnTo>
                    <a:pt x="41" y="3"/>
                  </a:lnTo>
                  <a:lnTo>
                    <a:pt x="27" y="1"/>
                  </a:lnTo>
                  <a:lnTo>
                    <a:pt x="12" y="0"/>
                  </a:lnTo>
                  <a:lnTo>
                    <a:pt x="2" y="6"/>
                  </a:lnTo>
                  <a:lnTo>
                    <a:pt x="12" y="0"/>
                  </a:lnTo>
                  <a:lnTo>
                    <a:pt x="3" y="4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12" y="21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913800" y="4849560"/>
              <a:ext cx="69840" cy="73800"/>
            </a:xfrm>
            <a:custGeom>
              <a:avLst/>
              <a:gdLst/>
              <a:ahLst/>
              <a:rect l="l" t="t" r="r" b="b"/>
              <a:pathLst>
                <a:path w="126" h="143">
                  <a:moveTo>
                    <a:pt x="110" y="123"/>
                  </a:moveTo>
                  <a:lnTo>
                    <a:pt x="116" y="122"/>
                  </a:lnTo>
                  <a:lnTo>
                    <a:pt x="102" y="120"/>
                  </a:lnTo>
                  <a:lnTo>
                    <a:pt x="89" y="111"/>
                  </a:lnTo>
                  <a:lnTo>
                    <a:pt x="77" y="97"/>
                  </a:lnTo>
                  <a:lnTo>
                    <a:pt x="62" y="77"/>
                  </a:lnTo>
                  <a:lnTo>
                    <a:pt x="50" y="58"/>
                  </a:lnTo>
                  <a:lnTo>
                    <a:pt x="39" y="37"/>
                  </a:lnTo>
                  <a:lnTo>
                    <a:pt x="28" y="17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9" y="26"/>
                  </a:lnTo>
                  <a:lnTo>
                    <a:pt x="20" y="46"/>
                  </a:lnTo>
                  <a:lnTo>
                    <a:pt x="31" y="67"/>
                  </a:lnTo>
                  <a:lnTo>
                    <a:pt x="46" y="90"/>
                  </a:lnTo>
                  <a:lnTo>
                    <a:pt x="60" y="110"/>
                  </a:lnTo>
                  <a:lnTo>
                    <a:pt x="76" y="127"/>
                  </a:lnTo>
                  <a:lnTo>
                    <a:pt x="96" y="138"/>
                  </a:lnTo>
                  <a:lnTo>
                    <a:pt x="116" y="143"/>
                  </a:lnTo>
                  <a:lnTo>
                    <a:pt x="120" y="142"/>
                  </a:lnTo>
                  <a:lnTo>
                    <a:pt x="116" y="143"/>
                  </a:lnTo>
                  <a:lnTo>
                    <a:pt x="123" y="140"/>
                  </a:lnTo>
                  <a:lnTo>
                    <a:pt x="126" y="133"/>
                  </a:lnTo>
                  <a:lnTo>
                    <a:pt x="123" y="125"/>
                  </a:lnTo>
                  <a:lnTo>
                    <a:pt x="116" y="122"/>
                  </a:lnTo>
                  <a:lnTo>
                    <a:pt x="11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972840" y="4898160"/>
              <a:ext cx="24120" cy="2520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4"/>
                  </a:moveTo>
                  <a:lnTo>
                    <a:pt x="22" y="4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19" y="20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7" y="27"/>
                  </a:lnTo>
                  <a:lnTo>
                    <a:pt x="0" y="29"/>
                  </a:lnTo>
                  <a:lnTo>
                    <a:pt x="10" y="48"/>
                  </a:lnTo>
                  <a:lnTo>
                    <a:pt x="13" y="46"/>
                  </a:lnTo>
                  <a:lnTo>
                    <a:pt x="19" y="43"/>
                  </a:lnTo>
                  <a:lnTo>
                    <a:pt x="27" y="41"/>
                  </a:lnTo>
                  <a:lnTo>
                    <a:pt x="33" y="37"/>
                  </a:lnTo>
                  <a:lnTo>
                    <a:pt x="38" y="30"/>
                  </a:lnTo>
                  <a:lnTo>
                    <a:pt x="44" y="21"/>
                  </a:lnTo>
                  <a:lnTo>
                    <a:pt x="44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957000" y="4770720"/>
              <a:ext cx="39960" cy="129240"/>
            </a:xfrm>
            <a:custGeom>
              <a:avLst/>
              <a:gdLst/>
              <a:ahLst/>
              <a:rect l="l" t="t" r="r" b="b"/>
              <a:pathLst>
                <a:path w="74" h="254">
                  <a:moveTo>
                    <a:pt x="0" y="14"/>
                  </a:moveTo>
                  <a:lnTo>
                    <a:pt x="26" y="46"/>
                  </a:lnTo>
                  <a:lnTo>
                    <a:pt x="39" y="69"/>
                  </a:lnTo>
                  <a:lnTo>
                    <a:pt x="42" y="88"/>
                  </a:lnTo>
                  <a:lnTo>
                    <a:pt x="42" y="110"/>
                  </a:lnTo>
                  <a:lnTo>
                    <a:pt x="40" y="136"/>
                  </a:lnTo>
                  <a:lnTo>
                    <a:pt x="39" y="165"/>
                  </a:lnTo>
                  <a:lnTo>
                    <a:pt x="41" y="203"/>
                  </a:lnTo>
                  <a:lnTo>
                    <a:pt x="53" y="254"/>
                  </a:lnTo>
                  <a:lnTo>
                    <a:pt x="74" y="250"/>
                  </a:lnTo>
                  <a:lnTo>
                    <a:pt x="62" y="201"/>
                  </a:lnTo>
                  <a:lnTo>
                    <a:pt x="60" y="165"/>
                  </a:lnTo>
                  <a:lnTo>
                    <a:pt x="61" y="136"/>
                  </a:lnTo>
                  <a:lnTo>
                    <a:pt x="63" y="110"/>
                  </a:lnTo>
                  <a:lnTo>
                    <a:pt x="63" y="88"/>
                  </a:lnTo>
                  <a:lnTo>
                    <a:pt x="58" y="62"/>
                  </a:lnTo>
                  <a:lnTo>
                    <a:pt x="42" y="34"/>
                  </a:lnTo>
                  <a:lnTo>
                    <a:pt x="1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209000" y="3859920"/>
              <a:ext cx="351360" cy="607320"/>
            </a:xfrm>
            <a:custGeom>
              <a:avLst/>
              <a:gdLst/>
              <a:ahLst/>
              <a:rect l="l" t="t" r="r" b="b"/>
              <a:pathLst>
                <a:path w="652" h="1188">
                  <a:moveTo>
                    <a:pt x="106" y="43"/>
                  </a:moveTo>
                  <a:lnTo>
                    <a:pt x="127" y="33"/>
                  </a:lnTo>
                  <a:lnTo>
                    <a:pt x="151" y="23"/>
                  </a:lnTo>
                  <a:lnTo>
                    <a:pt x="175" y="16"/>
                  </a:lnTo>
                  <a:lnTo>
                    <a:pt x="201" y="9"/>
                  </a:lnTo>
                  <a:lnTo>
                    <a:pt x="229" y="3"/>
                  </a:lnTo>
                  <a:lnTo>
                    <a:pt x="256" y="1"/>
                  </a:lnTo>
                  <a:lnTo>
                    <a:pt x="285" y="0"/>
                  </a:lnTo>
                  <a:lnTo>
                    <a:pt x="313" y="2"/>
                  </a:lnTo>
                  <a:lnTo>
                    <a:pt x="342" y="6"/>
                  </a:lnTo>
                  <a:lnTo>
                    <a:pt x="367" y="13"/>
                  </a:lnTo>
                  <a:lnTo>
                    <a:pt x="394" y="22"/>
                  </a:lnTo>
                  <a:lnTo>
                    <a:pt x="418" y="34"/>
                  </a:lnTo>
                  <a:lnTo>
                    <a:pt x="440" y="51"/>
                  </a:lnTo>
                  <a:lnTo>
                    <a:pt x="460" y="70"/>
                  </a:lnTo>
                  <a:lnTo>
                    <a:pt x="478" y="92"/>
                  </a:lnTo>
                  <a:lnTo>
                    <a:pt x="493" y="118"/>
                  </a:lnTo>
                  <a:lnTo>
                    <a:pt x="514" y="183"/>
                  </a:lnTo>
                  <a:lnTo>
                    <a:pt x="529" y="251"/>
                  </a:lnTo>
                  <a:lnTo>
                    <a:pt x="539" y="323"/>
                  </a:lnTo>
                  <a:lnTo>
                    <a:pt x="546" y="396"/>
                  </a:lnTo>
                  <a:lnTo>
                    <a:pt x="551" y="470"/>
                  </a:lnTo>
                  <a:lnTo>
                    <a:pt x="557" y="542"/>
                  </a:lnTo>
                  <a:lnTo>
                    <a:pt x="565" y="613"/>
                  </a:lnTo>
                  <a:lnTo>
                    <a:pt x="576" y="680"/>
                  </a:lnTo>
                  <a:lnTo>
                    <a:pt x="586" y="722"/>
                  </a:lnTo>
                  <a:lnTo>
                    <a:pt x="598" y="773"/>
                  </a:lnTo>
                  <a:lnTo>
                    <a:pt x="615" y="829"/>
                  </a:lnTo>
                  <a:lnTo>
                    <a:pt x="630" y="888"/>
                  </a:lnTo>
                  <a:lnTo>
                    <a:pt x="643" y="947"/>
                  </a:lnTo>
                  <a:lnTo>
                    <a:pt x="651" y="1004"/>
                  </a:lnTo>
                  <a:lnTo>
                    <a:pt x="652" y="1055"/>
                  </a:lnTo>
                  <a:lnTo>
                    <a:pt x="644" y="1097"/>
                  </a:lnTo>
                  <a:lnTo>
                    <a:pt x="640" y="1108"/>
                  </a:lnTo>
                  <a:lnTo>
                    <a:pt x="632" y="1118"/>
                  </a:lnTo>
                  <a:lnTo>
                    <a:pt x="622" y="1128"/>
                  </a:lnTo>
                  <a:lnTo>
                    <a:pt x="611" y="1136"/>
                  </a:lnTo>
                  <a:lnTo>
                    <a:pt x="598" y="1144"/>
                  </a:lnTo>
                  <a:lnTo>
                    <a:pt x="586" y="1149"/>
                  </a:lnTo>
                  <a:lnTo>
                    <a:pt x="572" y="1154"/>
                  </a:lnTo>
                  <a:lnTo>
                    <a:pt x="560" y="1157"/>
                  </a:lnTo>
                  <a:lnTo>
                    <a:pt x="536" y="1165"/>
                  </a:lnTo>
                  <a:lnTo>
                    <a:pt x="509" y="1170"/>
                  </a:lnTo>
                  <a:lnTo>
                    <a:pt x="478" y="1175"/>
                  </a:lnTo>
                  <a:lnTo>
                    <a:pt x="446" y="1180"/>
                  </a:lnTo>
                  <a:lnTo>
                    <a:pt x="413" y="1184"/>
                  </a:lnTo>
                  <a:lnTo>
                    <a:pt x="377" y="1186"/>
                  </a:lnTo>
                  <a:lnTo>
                    <a:pt x="341" y="1187"/>
                  </a:lnTo>
                  <a:lnTo>
                    <a:pt x="304" y="1188"/>
                  </a:lnTo>
                  <a:lnTo>
                    <a:pt x="268" y="1187"/>
                  </a:lnTo>
                  <a:lnTo>
                    <a:pt x="231" y="1186"/>
                  </a:lnTo>
                  <a:lnTo>
                    <a:pt x="197" y="1184"/>
                  </a:lnTo>
                  <a:lnTo>
                    <a:pt x="162" y="1179"/>
                  </a:lnTo>
                  <a:lnTo>
                    <a:pt x="132" y="1174"/>
                  </a:lnTo>
                  <a:lnTo>
                    <a:pt x="102" y="1167"/>
                  </a:lnTo>
                  <a:lnTo>
                    <a:pt x="77" y="1160"/>
                  </a:lnTo>
                  <a:lnTo>
                    <a:pt x="54" y="1150"/>
                  </a:lnTo>
                  <a:lnTo>
                    <a:pt x="27" y="1129"/>
                  </a:lnTo>
                  <a:lnTo>
                    <a:pt x="10" y="1096"/>
                  </a:lnTo>
                  <a:lnTo>
                    <a:pt x="3" y="1055"/>
                  </a:lnTo>
                  <a:lnTo>
                    <a:pt x="0" y="1009"/>
                  </a:lnTo>
                  <a:lnTo>
                    <a:pt x="3" y="962"/>
                  </a:lnTo>
                  <a:lnTo>
                    <a:pt x="7" y="917"/>
                  </a:lnTo>
                  <a:lnTo>
                    <a:pt x="16" y="878"/>
                  </a:lnTo>
                  <a:lnTo>
                    <a:pt x="24" y="847"/>
                  </a:lnTo>
                  <a:lnTo>
                    <a:pt x="45" y="764"/>
                  </a:lnTo>
                  <a:lnTo>
                    <a:pt x="59" y="671"/>
                  </a:lnTo>
                  <a:lnTo>
                    <a:pt x="69" y="569"/>
                  </a:lnTo>
                  <a:lnTo>
                    <a:pt x="76" y="463"/>
                  </a:lnTo>
                  <a:lnTo>
                    <a:pt x="81" y="354"/>
                  </a:lnTo>
                  <a:lnTo>
                    <a:pt x="87" y="245"/>
                  </a:lnTo>
                  <a:lnTo>
                    <a:pt x="95" y="142"/>
                  </a:lnTo>
                  <a:lnTo>
                    <a:pt x="106" y="43"/>
                  </a:lnTo>
                  <a:close/>
                </a:path>
              </a:pathLst>
            </a:custGeom>
            <a:solidFill>
              <a:srgbClr val="ffff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391520" y="3931560"/>
              <a:ext cx="75240" cy="201240"/>
            </a:xfrm>
            <a:custGeom>
              <a:avLst/>
              <a:gdLst/>
              <a:ahLst/>
              <a:rect l="l" t="t" r="r" b="b"/>
              <a:pathLst>
                <a:path w="144" h="397">
                  <a:moveTo>
                    <a:pt x="0" y="120"/>
                  </a:moveTo>
                  <a:lnTo>
                    <a:pt x="20" y="133"/>
                  </a:lnTo>
                  <a:lnTo>
                    <a:pt x="35" y="165"/>
                  </a:lnTo>
                  <a:lnTo>
                    <a:pt x="48" y="208"/>
                  </a:lnTo>
                  <a:lnTo>
                    <a:pt x="59" y="258"/>
                  </a:lnTo>
                  <a:lnTo>
                    <a:pt x="68" y="310"/>
                  </a:lnTo>
                  <a:lnTo>
                    <a:pt x="80" y="353"/>
                  </a:lnTo>
                  <a:lnTo>
                    <a:pt x="94" y="384"/>
                  </a:lnTo>
                  <a:lnTo>
                    <a:pt x="113" y="397"/>
                  </a:lnTo>
                  <a:lnTo>
                    <a:pt x="130" y="352"/>
                  </a:lnTo>
                  <a:lnTo>
                    <a:pt x="140" y="302"/>
                  </a:lnTo>
                  <a:lnTo>
                    <a:pt x="143" y="252"/>
                  </a:lnTo>
                  <a:lnTo>
                    <a:pt x="144" y="200"/>
                  </a:lnTo>
                  <a:lnTo>
                    <a:pt x="141" y="147"/>
                  </a:lnTo>
                  <a:lnTo>
                    <a:pt x="138" y="97"/>
                  </a:lnTo>
                  <a:lnTo>
                    <a:pt x="134" y="47"/>
                  </a:lnTo>
                  <a:lnTo>
                    <a:pt x="133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389000" y="3987720"/>
              <a:ext cx="66600" cy="152640"/>
            </a:xfrm>
            <a:custGeom>
              <a:avLst/>
              <a:gdLst/>
              <a:ahLst/>
              <a:rect l="l" t="t" r="r" b="b"/>
              <a:pathLst>
                <a:path w="125" h="299">
                  <a:moveTo>
                    <a:pt x="105" y="284"/>
                  </a:moveTo>
                  <a:lnTo>
                    <a:pt x="116" y="278"/>
                  </a:lnTo>
                  <a:lnTo>
                    <a:pt x="104" y="268"/>
                  </a:lnTo>
                  <a:lnTo>
                    <a:pt x="91" y="240"/>
                  </a:lnTo>
                  <a:lnTo>
                    <a:pt x="81" y="198"/>
                  </a:lnTo>
                  <a:lnTo>
                    <a:pt x="71" y="148"/>
                  </a:lnTo>
                  <a:lnTo>
                    <a:pt x="61" y="97"/>
                  </a:lnTo>
                  <a:lnTo>
                    <a:pt x="47" y="53"/>
                  </a:lnTo>
                  <a:lnTo>
                    <a:pt x="30" y="18"/>
                  </a:lnTo>
                  <a:lnTo>
                    <a:pt x="3" y="0"/>
                  </a:lnTo>
                  <a:lnTo>
                    <a:pt x="0" y="21"/>
                  </a:lnTo>
                  <a:lnTo>
                    <a:pt x="13" y="31"/>
                  </a:lnTo>
                  <a:lnTo>
                    <a:pt x="28" y="60"/>
                  </a:lnTo>
                  <a:lnTo>
                    <a:pt x="40" y="103"/>
                  </a:lnTo>
                  <a:lnTo>
                    <a:pt x="50" y="151"/>
                  </a:lnTo>
                  <a:lnTo>
                    <a:pt x="60" y="203"/>
                  </a:lnTo>
                  <a:lnTo>
                    <a:pt x="72" y="247"/>
                  </a:lnTo>
                  <a:lnTo>
                    <a:pt x="88" y="280"/>
                  </a:lnTo>
                  <a:lnTo>
                    <a:pt x="113" y="299"/>
                  </a:lnTo>
                  <a:lnTo>
                    <a:pt x="124" y="294"/>
                  </a:lnTo>
                  <a:lnTo>
                    <a:pt x="113" y="299"/>
                  </a:lnTo>
                  <a:lnTo>
                    <a:pt x="122" y="297"/>
                  </a:lnTo>
                  <a:lnTo>
                    <a:pt x="125" y="290"/>
                  </a:lnTo>
                  <a:lnTo>
                    <a:pt x="123" y="282"/>
                  </a:lnTo>
                  <a:lnTo>
                    <a:pt x="116" y="278"/>
                  </a:lnTo>
                  <a:lnTo>
                    <a:pt x="105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445160" y="3926160"/>
              <a:ext cx="29520" cy="211680"/>
            </a:xfrm>
            <a:custGeom>
              <a:avLst/>
              <a:gdLst/>
              <a:ahLst/>
              <a:rect l="l" t="t" r="r" b="b"/>
              <a:pathLst>
                <a:path w="52" h="413">
                  <a:moveTo>
                    <a:pt x="37" y="19"/>
                  </a:moveTo>
                  <a:lnTo>
                    <a:pt x="19" y="10"/>
                  </a:lnTo>
                  <a:lnTo>
                    <a:pt x="20" y="57"/>
                  </a:lnTo>
                  <a:lnTo>
                    <a:pt x="24" y="107"/>
                  </a:lnTo>
                  <a:lnTo>
                    <a:pt x="27" y="157"/>
                  </a:lnTo>
                  <a:lnTo>
                    <a:pt x="31" y="210"/>
                  </a:lnTo>
                  <a:lnTo>
                    <a:pt x="30" y="262"/>
                  </a:lnTo>
                  <a:lnTo>
                    <a:pt x="26" y="311"/>
                  </a:lnTo>
                  <a:lnTo>
                    <a:pt x="17" y="359"/>
                  </a:lnTo>
                  <a:lnTo>
                    <a:pt x="0" y="403"/>
                  </a:lnTo>
                  <a:lnTo>
                    <a:pt x="19" y="413"/>
                  </a:lnTo>
                  <a:lnTo>
                    <a:pt x="38" y="364"/>
                  </a:lnTo>
                  <a:lnTo>
                    <a:pt x="48" y="313"/>
                  </a:lnTo>
                  <a:lnTo>
                    <a:pt x="51" y="262"/>
                  </a:lnTo>
                  <a:lnTo>
                    <a:pt x="52" y="210"/>
                  </a:lnTo>
                  <a:lnTo>
                    <a:pt x="49" y="157"/>
                  </a:lnTo>
                  <a:lnTo>
                    <a:pt x="45" y="107"/>
                  </a:lnTo>
                  <a:lnTo>
                    <a:pt x="41" y="57"/>
                  </a:lnTo>
                  <a:lnTo>
                    <a:pt x="40" y="10"/>
                  </a:lnTo>
                  <a:lnTo>
                    <a:pt x="23" y="2"/>
                  </a:lnTo>
                  <a:lnTo>
                    <a:pt x="40" y="10"/>
                  </a:lnTo>
                  <a:lnTo>
                    <a:pt x="37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9" y="10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383600" y="3926160"/>
              <a:ext cx="83160" cy="70920"/>
            </a:xfrm>
            <a:custGeom>
              <a:avLst/>
              <a:gdLst/>
              <a:ahLst/>
              <a:rect l="l" t="t" r="r" b="b"/>
              <a:pathLst>
                <a:path w="151" h="138">
                  <a:moveTo>
                    <a:pt x="12" y="117"/>
                  </a:moveTo>
                  <a:lnTo>
                    <a:pt x="18" y="135"/>
                  </a:lnTo>
                  <a:lnTo>
                    <a:pt x="151" y="17"/>
                  </a:lnTo>
                  <a:lnTo>
                    <a:pt x="137" y="0"/>
                  </a:lnTo>
                  <a:lnTo>
                    <a:pt x="3" y="119"/>
                  </a:lnTo>
                  <a:lnTo>
                    <a:pt x="9" y="138"/>
                  </a:lnTo>
                  <a:lnTo>
                    <a:pt x="3" y="119"/>
                  </a:lnTo>
                  <a:lnTo>
                    <a:pt x="0" y="128"/>
                  </a:lnTo>
                  <a:lnTo>
                    <a:pt x="2" y="134"/>
                  </a:lnTo>
                  <a:lnTo>
                    <a:pt x="9" y="138"/>
                  </a:lnTo>
                  <a:lnTo>
                    <a:pt x="18" y="135"/>
                  </a:lnTo>
                  <a:lnTo>
                    <a:pt x="1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273440" y="3870000"/>
              <a:ext cx="112320" cy="262440"/>
            </a:xfrm>
            <a:custGeom>
              <a:avLst/>
              <a:gdLst/>
              <a:ahLst/>
              <a:rect l="l" t="t" r="r" b="b"/>
              <a:pathLst>
                <a:path w="212" h="512">
                  <a:moveTo>
                    <a:pt x="212" y="238"/>
                  </a:moveTo>
                  <a:lnTo>
                    <a:pt x="187" y="262"/>
                  </a:lnTo>
                  <a:lnTo>
                    <a:pt x="168" y="302"/>
                  </a:lnTo>
                  <a:lnTo>
                    <a:pt x="155" y="351"/>
                  </a:lnTo>
                  <a:lnTo>
                    <a:pt x="145" y="400"/>
                  </a:lnTo>
                  <a:lnTo>
                    <a:pt x="133" y="448"/>
                  </a:lnTo>
                  <a:lnTo>
                    <a:pt x="117" y="486"/>
                  </a:lnTo>
                  <a:lnTo>
                    <a:pt x="97" y="510"/>
                  </a:lnTo>
                  <a:lnTo>
                    <a:pt x="70" y="512"/>
                  </a:lnTo>
                  <a:lnTo>
                    <a:pt x="50" y="459"/>
                  </a:lnTo>
                  <a:lnTo>
                    <a:pt x="33" y="398"/>
                  </a:lnTo>
                  <a:lnTo>
                    <a:pt x="20" y="332"/>
                  </a:lnTo>
                  <a:lnTo>
                    <a:pt x="12" y="262"/>
                  </a:lnTo>
                  <a:lnTo>
                    <a:pt x="5" y="191"/>
                  </a:lnTo>
                  <a:lnTo>
                    <a:pt x="2" y="12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3" y="36"/>
                  </a:lnTo>
                  <a:lnTo>
                    <a:pt x="35" y="52"/>
                  </a:lnTo>
                  <a:lnTo>
                    <a:pt x="46" y="69"/>
                  </a:lnTo>
                  <a:lnTo>
                    <a:pt x="59" y="84"/>
                  </a:lnTo>
                  <a:lnTo>
                    <a:pt x="71" y="99"/>
                  </a:lnTo>
                  <a:lnTo>
                    <a:pt x="82" y="114"/>
                  </a:lnTo>
                  <a:lnTo>
                    <a:pt x="94" y="129"/>
                  </a:lnTo>
                  <a:lnTo>
                    <a:pt x="106" y="143"/>
                  </a:lnTo>
                  <a:lnTo>
                    <a:pt x="118" y="157"/>
                  </a:lnTo>
                  <a:lnTo>
                    <a:pt x="133" y="171"/>
                  </a:lnTo>
                  <a:lnTo>
                    <a:pt x="147" y="184"/>
                  </a:lnTo>
                  <a:lnTo>
                    <a:pt x="162" y="198"/>
                  </a:lnTo>
                  <a:lnTo>
                    <a:pt x="177" y="211"/>
                  </a:lnTo>
                  <a:lnTo>
                    <a:pt x="194" y="224"/>
                  </a:lnTo>
                  <a:lnTo>
                    <a:pt x="21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305840" y="3987720"/>
              <a:ext cx="83160" cy="150120"/>
            </a:xfrm>
            <a:custGeom>
              <a:avLst/>
              <a:gdLst/>
              <a:ahLst/>
              <a:rect l="l" t="t" r="r" b="b"/>
              <a:pathLst>
                <a:path w="157" h="295">
                  <a:moveTo>
                    <a:pt x="1" y="289"/>
                  </a:moveTo>
                  <a:lnTo>
                    <a:pt x="8" y="295"/>
                  </a:lnTo>
                  <a:lnTo>
                    <a:pt x="43" y="292"/>
                  </a:lnTo>
                  <a:lnTo>
                    <a:pt x="68" y="263"/>
                  </a:lnTo>
                  <a:lnTo>
                    <a:pt x="85" y="222"/>
                  </a:lnTo>
                  <a:lnTo>
                    <a:pt x="96" y="174"/>
                  </a:lnTo>
                  <a:lnTo>
                    <a:pt x="107" y="125"/>
                  </a:lnTo>
                  <a:lnTo>
                    <a:pt x="118" y="77"/>
                  </a:lnTo>
                  <a:lnTo>
                    <a:pt x="136" y="40"/>
                  </a:lnTo>
                  <a:lnTo>
                    <a:pt x="157" y="19"/>
                  </a:lnTo>
                  <a:lnTo>
                    <a:pt x="148" y="0"/>
                  </a:lnTo>
                  <a:lnTo>
                    <a:pt x="119" y="29"/>
                  </a:lnTo>
                  <a:lnTo>
                    <a:pt x="99" y="71"/>
                  </a:lnTo>
                  <a:lnTo>
                    <a:pt x="86" y="121"/>
                  </a:lnTo>
                  <a:lnTo>
                    <a:pt x="75" y="170"/>
                  </a:lnTo>
                  <a:lnTo>
                    <a:pt x="63" y="217"/>
                  </a:lnTo>
                  <a:lnTo>
                    <a:pt x="49" y="254"/>
                  </a:lnTo>
                  <a:lnTo>
                    <a:pt x="34" y="273"/>
                  </a:lnTo>
                  <a:lnTo>
                    <a:pt x="13" y="274"/>
                  </a:lnTo>
                  <a:lnTo>
                    <a:pt x="20" y="279"/>
                  </a:lnTo>
                  <a:lnTo>
                    <a:pt x="13" y="274"/>
                  </a:lnTo>
                  <a:lnTo>
                    <a:pt x="4" y="276"/>
                  </a:lnTo>
                  <a:lnTo>
                    <a:pt x="0" y="282"/>
                  </a:lnTo>
                  <a:lnTo>
                    <a:pt x="1" y="291"/>
                  </a:lnTo>
                  <a:lnTo>
                    <a:pt x="8" y="295"/>
                  </a:lnTo>
                  <a:lnTo>
                    <a:pt x="1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268040" y="3864960"/>
              <a:ext cx="48600" cy="270360"/>
            </a:xfrm>
            <a:custGeom>
              <a:avLst/>
              <a:gdLst/>
              <a:ahLst/>
              <a:rect l="l" t="t" r="r" b="b"/>
              <a:pathLst>
                <a:path w="90" h="527">
                  <a:moveTo>
                    <a:pt x="19" y="5"/>
                  </a:moveTo>
                  <a:lnTo>
                    <a:pt x="0" y="10"/>
                  </a:lnTo>
                  <a:lnTo>
                    <a:pt x="0" y="68"/>
                  </a:lnTo>
                  <a:lnTo>
                    <a:pt x="3" y="133"/>
                  </a:lnTo>
                  <a:lnTo>
                    <a:pt x="6" y="201"/>
                  </a:lnTo>
                  <a:lnTo>
                    <a:pt x="12" y="272"/>
                  </a:lnTo>
                  <a:lnTo>
                    <a:pt x="20" y="343"/>
                  </a:lnTo>
                  <a:lnTo>
                    <a:pt x="33" y="410"/>
                  </a:lnTo>
                  <a:lnTo>
                    <a:pt x="50" y="472"/>
                  </a:lnTo>
                  <a:lnTo>
                    <a:pt x="71" y="527"/>
                  </a:lnTo>
                  <a:lnTo>
                    <a:pt x="90" y="517"/>
                  </a:lnTo>
                  <a:lnTo>
                    <a:pt x="71" y="466"/>
                  </a:lnTo>
                  <a:lnTo>
                    <a:pt x="54" y="405"/>
                  </a:lnTo>
                  <a:lnTo>
                    <a:pt x="42" y="341"/>
                  </a:lnTo>
                  <a:lnTo>
                    <a:pt x="33" y="272"/>
                  </a:lnTo>
                  <a:lnTo>
                    <a:pt x="27" y="201"/>
                  </a:lnTo>
                  <a:lnTo>
                    <a:pt x="24" y="133"/>
                  </a:lnTo>
                  <a:lnTo>
                    <a:pt x="22" y="68"/>
                  </a:lnTo>
                  <a:lnTo>
                    <a:pt x="22" y="10"/>
                  </a:lnTo>
                  <a:lnTo>
                    <a:pt x="3" y="16"/>
                  </a:lnTo>
                  <a:lnTo>
                    <a:pt x="22" y="10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268040" y="3867120"/>
              <a:ext cx="126360" cy="129960"/>
            </a:xfrm>
            <a:custGeom>
              <a:avLst/>
              <a:gdLst/>
              <a:ahLst/>
              <a:rect l="l" t="t" r="r" b="b"/>
              <a:pathLst>
                <a:path w="231" h="252">
                  <a:moveTo>
                    <a:pt x="224" y="252"/>
                  </a:moveTo>
                  <a:lnTo>
                    <a:pt x="226" y="234"/>
                  </a:lnTo>
                  <a:lnTo>
                    <a:pt x="209" y="222"/>
                  </a:lnTo>
                  <a:lnTo>
                    <a:pt x="193" y="208"/>
                  </a:lnTo>
                  <a:lnTo>
                    <a:pt x="176" y="194"/>
                  </a:lnTo>
                  <a:lnTo>
                    <a:pt x="162" y="180"/>
                  </a:lnTo>
                  <a:lnTo>
                    <a:pt x="148" y="169"/>
                  </a:lnTo>
                  <a:lnTo>
                    <a:pt x="134" y="155"/>
                  </a:lnTo>
                  <a:lnTo>
                    <a:pt x="122" y="141"/>
                  </a:lnTo>
                  <a:lnTo>
                    <a:pt x="110" y="127"/>
                  </a:lnTo>
                  <a:lnTo>
                    <a:pt x="99" y="114"/>
                  </a:lnTo>
                  <a:lnTo>
                    <a:pt x="87" y="98"/>
                  </a:lnTo>
                  <a:lnTo>
                    <a:pt x="75" y="83"/>
                  </a:lnTo>
                  <a:lnTo>
                    <a:pt x="63" y="67"/>
                  </a:lnTo>
                  <a:lnTo>
                    <a:pt x="51" y="52"/>
                  </a:lnTo>
                  <a:lnTo>
                    <a:pt x="40" y="35"/>
                  </a:lnTo>
                  <a:lnTo>
                    <a:pt x="28" y="17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1" y="28"/>
                  </a:lnTo>
                  <a:lnTo>
                    <a:pt x="23" y="46"/>
                  </a:lnTo>
                  <a:lnTo>
                    <a:pt x="34" y="63"/>
                  </a:lnTo>
                  <a:lnTo>
                    <a:pt x="47" y="79"/>
                  </a:lnTo>
                  <a:lnTo>
                    <a:pt x="59" y="95"/>
                  </a:lnTo>
                  <a:lnTo>
                    <a:pt x="70" y="111"/>
                  </a:lnTo>
                  <a:lnTo>
                    <a:pt x="82" y="126"/>
                  </a:lnTo>
                  <a:lnTo>
                    <a:pt x="94" y="141"/>
                  </a:lnTo>
                  <a:lnTo>
                    <a:pt x="105" y="155"/>
                  </a:lnTo>
                  <a:lnTo>
                    <a:pt x="120" y="169"/>
                  </a:lnTo>
                  <a:lnTo>
                    <a:pt x="134" y="184"/>
                  </a:lnTo>
                  <a:lnTo>
                    <a:pt x="148" y="197"/>
                  </a:lnTo>
                  <a:lnTo>
                    <a:pt x="162" y="210"/>
                  </a:lnTo>
                  <a:lnTo>
                    <a:pt x="179" y="225"/>
                  </a:lnTo>
                  <a:lnTo>
                    <a:pt x="196" y="237"/>
                  </a:lnTo>
                  <a:lnTo>
                    <a:pt x="214" y="250"/>
                  </a:lnTo>
                  <a:lnTo>
                    <a:pt x="215" y="233"/>
                  </a:lnTo>
                  <a:lnTo>
                    <a:pt x="214" y="250"/>
                  </a:lnTo>
                  <a:lnTo>
                    <a:pt x="222" y="252"/>
                  </a:lnTo>
                  <a:lnTo>
                    <a:pt x="228" y="247"/>
                  </a:lnTo>
                  <a:lnTo>
                    <a:pt x="231" y="242"/>
                  </a:lnTo>
                  <a:lnTo>
                    <a:pt x="226" y="234"/>
                  </a:lnTo>
                  <a:lnTo>
                    <a:pt x="224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364520" y="5135400"/>
              <a:ext cx="192600" cy="379800"/>
            </a:xfrm>
            <a:custGeom>
              <a:avLst/>
              <a:gdLst/>
              <a:ahLst/>
              <a:rect l="l" t="t" r="r" b="b"/>
              <a:pathLst>
                <a:path w="360" h="747">
                  <a:moveTo>
                    <a:pt x="94" y="721"/>
                  </a:moveTo>
                  <a:lnTo>
                    <a:pt x="105" y="727"/>
                  </a:lnTo>
                  <a:lnTo>
                    <a:pt x="115" y="732"/>
                  </a:lnTo>
                  <a:lnTo>
                    <a:pt x="128" y="736"/>
                  </a:lnTo>
                  <a:lnTo>
                    <a:pt x="140" y="742"/>
                  </a:lnTo>
                  <a:lnTo>
                    <a:pt x="153" y="744"/>
                  </a:lnTo>
                  <a:lnTo>
                    <a:pt x="166" y="746"/>
                  </a:lnTo>
                  <a:lnTo>
                    <a:pt x="180" y="747"/>
                  </a:lnTo>
                  <a:lnTo>
                    <a:pt x="193" y="747"/>
                  </a:lnTo>
                  <a:lnTo>
                    <a:pt x="207" y="747"/>
                  </a:lnTo>
                  <a:lnTo>
                    <a:pt x="220" y="746"/>
                  </a:lnTo>
                  <a:lnTo>
                    <a:pt x="231" y="744"/>
                  </a:lnTo>
                  <a:lnTo>
                    <a:pt x="244" y="741"/>
                  </a:lnTo>
                  <a:lnTo>
                    <a:pt x="256" y="736"/>
                  </a:lnTo>
                  <a:lnTo>
                    <a:pt x="266" y="732"/>
                  </a:lnTo>
                  <a:lnTo>
                    <a:pt x="276" y="726"/>
                  </a:lnTo>
                  <a:lnTo>
                    <a:pt x="284" y="721"/>
                  </a:lnTo>
                  <a:lnTo>
                    <a:pt x="360" y="0"/>
                  </a:lnTo>
                  <a:lnTo>
                    <a:pt x="0" y="52"/>
                  </a:lnTo>
                  <a:lnTo>
                    <a:pt x="94" y="721"/>
                  </a:lnTo>
                  <a:close/>
                </a:path>
              </a:pathLst>
            </a:custGeom>
            <a:solidFill>
              <a:srgbClr val="ffb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412760" y="5497200"/>
              <a:ext cx="109800" cy="25200"/>
            </a:xfrm>
            <a:custGeom>
              <a:avLst/>
              <a:gdLst/>
              <a:ahLst/>
              <a:rect l="l" t="t" r="r" b="b"/>
              <a:pathLst>
                <a:path w="207" h="49">
                  <a:moveTo>
                    <a:pt x="186" y="11"/>
                  </a:moveTo>
                  <a:lnTo>
                    <a:pt x="189" y="2"/>
                  </a:lnTo>
                  <a:lnTo>
                    <a:pt x="181" y="6"/>
                  </a:lnTo>
                  <a:lnTo>
                    <a:pt x="173" y="13"/>
                  </a:lnTo>
                  <a:lnTo>
                    <a:pt x="163" y="17"/>
                  </a:lnTo>
                  <a:lnTo>
                    <a:pt x="153" y="20"/>
                  </a:lnTo>
                  <a:lnTo>
                    <a:pt x="141" y="23"/>
                  </a:lnTo>
                  <a:lnTo>
                    <a:pt x="131" y="25"/>
                  </a:lnTo>
                  <a:lnTo>
                    <a:pt x="119" y="26"/>
                  </a:lnTo>
                  <a:lnTo>
                    <a:pt x="105" y="26"/>
                  </a:lnTo>
                  <a:lnTo>
                    <a:pt x="92" y="26"/>
                  </a:lnTo>
                  <a:lnTo>
                    <a:pt x="79" y="25"/>
                  </a:lnTo>
                  <a:lnTo>
                    <a:pt x="66" y="23"/>
                  </a:lnTo>
                  <a:lnTo>
                    <a:pt x="55" y="21"/>
                  </a:lnTo>
                  <a:lnTo>
                    <a:pt x="44" y="17"/>
                  </a:lnTo>
                  <a:lnTo>
                    <a:pt x="30" y="13"/>
                  </a:lnTo>
                  <a:lnTo>
                    <a:pt x="21" y="7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11" y="26"/>
                  </a:lnTo>
                  <a:lnTo>
                    <a:pt x="24" y="32"/>
                  </a:lnTo>
                  <a:lnTo>
                    <a:pt x="37" y="36"/>
                  </a:lnTo>
                  <a:lnTo>
                    <a:pt x="49" y="42"/>
                  </a:lnTo>
                  <a:lnTo>
                    <a:pt x="64" y="44"/>
                  </a:lnTo>
                  <a:lnTo>
                    <a:pt x="77" y="47"/>
                  </a:lnTo>
                  <a:lnTo>
                    <a:pt x="92" y="49"/>
                  </a:lnTo>
                  <a:lnTo>
                    <a:pt x="105" y="49"/>
                  </a:lnTo>
                  <a:lnTo>
                    <a:pt x="119" y="49"/>
                  </a:lnTo>
                  <a:lnTo>
                    <a:pt x="133" y="47"/>
                  </a:lnTo>
                  <a:lnTo>
                    <a:pt x="147" y="44"/>
                  </a:lnTo>
                  <a:lnTo>
                    <a:pt x="158" y="41"/>
                  </a:lnTo>
                  <a:lnTo>
                    <a:pt x="171" y="36"/>
                  </a:lnTo>
                  <a:lnTo>
                    <a:pt x="182" y="32"/>
                  </a:lnTo>
                  <a:lnTo>
                    <a:pt x="193" y="25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4" y="3"/>
                  </a:lnTo>
                  <a:lnTo>
                    <a:pt x="197" y="0"/>
                  </a:lnTo>
                  <a:lnTo>
                    <a:pt x="189" y="2"/>
                  </a:lnTo>
                  <a:lnTo>
                    <a:pt x="18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512480" y="5130000"/>
              <a:ext cx="53280" cy="372240"/>
            </a:xfrm>
            <a:custGeom>
              <a:avLst/>
              <a:gdLst/>
              <a:ahLst/>
              <a:rect l="l" t="t" r="r" b="b"/>
              <a:pathLst>
                <a:path w="97" h="731">
                  <a:moveTo>
                    <a:pt x="87" y="21"/>
                  </a:moveTo>
                  <a:lnTo>
                    <a:pt x="76" y="10"/>
                  </a:lnTo>
                  <a:lnTo>
                    <a:pt x="0" y="731"/>
                  </a:lnTo>
                  <a:lnTo>
                    <a:pt x="21" y="731"/>
                  </a:lnTo>
                  <a:lnTo>
                    <a:pt x="97" y="10"/>
                  </a:lnTo>
                  <a:lnTo>
                    <a:pt x="85" y="0"/>
                  </a:lnTo>
                  <a:lnTo>
                    <a:pt x="97" y="10"/>
                  </a:lnTo>
                  <a:lnTo>
                    <a:pt x="94" y="2"/>
                  </a:lnTo>
                  <a:lnTo>
                    <a:pt x="86" y="0"/>
                  </a:lnTo>
                  <a:lnTo>
                    <a:pt x="79" y="2"/>
                  </a:lnTo>
                  <a:lnTo>
                    <a:pt x="76" y="10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359120" y="5130000"/>
              <a:ext cx="201240" cy="38160"/>
            </a:xfrm>
            <a:custGeom>
              <a:avLst/>
              <a:gdLst/>
              <a:ahLst/>
              <a:rect l="l" t="t" r="r" b="b"/>
              <a:pathLst>
                <a:path w="371" h="74">
                  <a:moveTo>
                    <a:pt x="21" y="61"/>
                  </a:moveTo>
                  <a:lnTo>
                    <a:pt x="11" y="74"/>
                  </a:lnTo>
                  <a:lnTo>
                    <a:pt x="371" y="21"/>
                  </a:lnTo>
                  <a:lnTo>
                    <a:pt x="369" y="0"/>
                  </a:lnTo>
                  <a:lnTo>
                    <a:pt x="9" y="52"/>
                  </a:lnTo>
                  <a:lnTo>
                    <a:pt x="0" y="64"/>
                  </a:lnTo>
                  <a:lnTo>
                    <a:pt x="9" y="52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3" y="71"/>
                  </a:lnTo>
                  <a:lnTo>
                    <a:pt x="11" y="74"/>
                  </a:lnTo>
                  <a:lnTo>
                    <a:pt x="2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359120" y="5160600"/>
              <a:ext cx="61920" cy="347040"/>
            </a:xfrm>
            <a:custGeom>
              <a:avLst/>
              <a:gdLst/>
              <a:ahLst/>
              <a:rect l="l" t="t" r="r" b="b"/>
              <a:pathLst>
                <a:path w="115" h="680">
                  <a:moveTo>
                    <a:pt x="109" y="661"/>
                  </a:moveTo>
                  <a:lnTo>
                    <a:pt x="115" y="669"/>
                  </a:lnTo>
                  <a:lnTo>
                    <a:pt x="21" y="0"/>
                  </a:lnTo>
                  <a:lnTo>
                    <a:pt x="0" y="3"/>
                  </a:lnTo>
                  <a:lnTo>
                    <a:pt x="94" y="671"/>
                  </a:lnTo>
                  <a:lnTo>
                    <a:pt x="98" y="678"/>
                  </a:lnTo>
                  <a:lnTo>
                    <a:pt x="94" y="671"/>
                  </a:lnTo>
                  <a:lnTo>
                    <a:pt x="97" y="678"/>
                  </a:lnTo>
                  <a:lnTo>
                    <a:pt x="105" y="680"/>
                  </a:lnTo>
                  <a:lnTo>
                    <a:pt x="113" y="676"/>
                  </a:lnTo>
                  <a:lnTo>
                    <a:pt x="115" y="669"/>
                  </a:lnTo>
                  <a:lnTo>
                    <a:pt x="109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219800" y="5155560"/>
              <a:ext cx="203760" cy="418680"/>
            </a:xfrm>
            <a:custGeom>
              <a:avLst/>
              <a:gdLst/>
              <a:ahLst/>
              <a:rect l="l" t="t" r="r" b="b"/>
              <a:pathLst>
                <a:path w="379" h="819">
                  <a:moveTo>
                    <a:pt x="0" y="11"/>
                  </a:moveTo>
                  <a:lnTo>
                    <a:pt x="157" y="783"/>
                  </a:lnTo>
                  <a:lnTo>
                    <a:pt x="168" y="790"/>
                  </a:lnTo>
                  <a:lnTo>
                    <a:pt x="178" y="796"/>
                  </a:lnTo>
                  <a:lnTo>
                    <a:pt x="192" y="802"/>
                  </a:lnTo>
                  <a:lnTo>
                    <a:pt x="204" y="806"/>
                  </a:lnTo>
                  <a:lnTo>
                    <a:pt x="218" y="812"/>
                  </a:lnTo>
                  <a:lnTo>
                    <a:pt x="233" y="814"/>
                  </a:lnTo>
                  <a:lnTo>
                    <a:pt x="248" y="816"/>
                  </a:lnTo>
                  <a:lnTo>
                    <a:pt x="264" y="817"/>
                  </a:lnTo>
                  <a:lnTo>
                    <a:pt x="278" y="819"/>
                  </a:lnTo>
                  <a:lnTo>
                    <a:pt x="294" y="819"/>
                  </a:lnTo>
                  <a:lnTo>
                    <a:pt x="309" y="816"/>
                  </a:lnTo>
                  <a:lnTo>
                    <a:pt x="325" y="814"/>
                  </a:lnTo>
                  <a:lnTo>
                    <a:pt x="339" y="811"/>
                  </a:lnTo>
                  <a:lnTo>
                    <a:pt x="353" y="805"/>
                  </a:lnTo>
                  <a:lnTo>
                    <a:pt x="366" y="800"/>
                  </a:lnTo>
                  <a:lnTo>
                    <a:pt x="379" y="793"/>
                  </a:lnTo>
                  <a:lnTo>
                    <a:pt x="36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214400" y="5160600"/>
              <a:ext cx="93600" cy="400680"/>
            </a:xfrm>
            <a:custGeom>
              <a:avLst/>
              <a:gdLst/>
              <a:ahLst/>
              <a:rect l="l" t="t" r="r" b="b"/>
              <a:pathLst>
                <a:path w="179" h="784">
                  <a:moveTo>
                    <a:pt x="174" y="765"/>
                  </a:moveTo>
                  <a:lnTo>
                    <a:pt x="179" y="772"/>
                  </a:lnTo>
                  <a:lnTo>
                    <a:pt x="21" y="0"/>
                  </a:lnTo>
                  <a:lnTo>
                    <a:pt x="0" y="3"/>
                  </a:lnTo>
                  <a:lnTo>
                    <a:pt x="157" y="774"/>
                  </a:lnTo>
                  <a:lnTo>
                    <a:pt x="163" y="782"/>
                  </a:lnTo>
                  <a:lnTo>
                    <a:pt x="157" y="774"/>
                  </a:lnTo>
                  <a:lnTo>
                    <a:pt x="162" y="782"/>
                  </a:lnTo>
                  <a:lnTo>
                    <a:pt x="169" y="784"/>
                  </a:lnTo>
                  <a:lnTo>
                    <a:pt x="176" y="780"/>
                  </a:lnTo>
                  <a:lnTo>
                    <a:pt x="179" y="772"/>
                  </a:lnTo>
                  <a:lnTo>
                    <a:pt x="174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300080" y="5551200"/>
              <a:ext cx="128880" cy="27720"/>
            </a:xfrm>
            <a:custGeom>
              <a:avLst/>
              <a:gdLst/>
              <a:ahLst/>
              <a:rect l="l" t="t" r="r" b="b"/>
              <a:pathLst>
                <a:path w="237" h="55">
                  <a:moveTo>
                    <a:pt x="216" y="18"/>
                  </a:moveTo>
                  <a:lnTo>
                    <a:pt x="220" y="9"/>
                  </a:lnTo>
                  <a:lnTo>
                    <a:pt x="209" y="15"/>
                  </a:lnTo>
                  <a:lnTo>
                    <a:pt x="197" y="21"/>
                  </a:lnTo>
                  <a:lnTo>
                    <a:pt x="184" y="25"/>
                  </a:lnTo>
                  <a:lnTo>
                    <a:pt x="172" y="28"/>
                  </a:lnTo>
                  <a:lnTo>
                    <a:pt x="156" y="30"/>
                  </a:lnTo>
                  <a:lnTo>
                    <a:pt x="142" y="33"/>
                  </a:lnTo>
                  <a:lnTo>
                    <a:pt x="126" y="33"/>
                  </a:lnTo>
                  <a:lnTo>
                    <a:pt x="112" y="31"/>
                  </a:lnTo>
                  <a:lnTo>
                    <a:pt x="97" y="30"/>
                  </a:lnTo>
                  <a:lnTo>
                    <a:pt x="82" y="28"/>
                  </a:lnTo>
                  <a:lnTo>
                    <a:pt x="69" y="26"/>
                  </a:lnTo>
                  <a:lnTo>
                    <a:pt x="55" y="21"/>
                  </a:lnTo>
                  <a:lnTo>
                    <a:pt x="43" y="18"/>
                  </a:lnTo>
                  <a:lnTo>
                    <a:pt x="31" y="11"/>
                  </a:lnTo>
                  <a:lnTo>
                    <a:pt x="22" y="6"/>
                  </a:lnTo>
                  <a:lnTo>
                    <a:pt x="11" y="0"/>
                  </a:lnTo>
                  <a:lnTo>
                    <a:pt x="0" y="17"/>
                  </a:lnTo>
                  <a:lnTo>
                    <a:pt x="10" y="25"/>
                  </a:lnTo>
                  <a:lnTo>
                    <a:pt x="22" y="30"/>
                  </a:lnTo>
                  <a:lnTo>
                    <a:pt x="36" y="37"/>
                  </a:lnTo>
                  <a:lnTo>
                    <a:pt x="50" y="42"/>
                  </a:lnTo>
                  <a:lnTo>
                    <a:pt x="64" y="47"/>
                  </a:lnTo>
                  <a:lnTo>
                    <a:pt x="80" y="49"/>
                  </a:lnTo>
                  <a:lnTo>
                    <a:pt x="95" y="51"/>
                  </a:lnTo>
                  <a:lnTo>
                    <a:pt x="112" y="52"/>
                  </a:lnTo>
                  <a:lnTo>
                    <a:pt x="126" y="55"/>
                  </a:lnTo>
                  <a:lnTo>
                    <a:pt x="142" y="55"/>
                  </a:lnTo>
                  <a:lnTo>
                    <a:pt x="158" y="51"/>
                  </a:lnTo>
                  <a:lnTo>
                    <a:pt x="174" y="49"/>
                  </a:lnTo>
                  <a:lnTo>
                    <a:pt x="189" y="46"/>
                  </a:lnTo>
                  <a:lnTo>
                    <a:pt x="205" y="40"/>
                  </a:lnTo>
                  <a:lnTo>
                    <a:pt x="218" y="34"/>
                  </a:lnTo>
                  <a:lnTo>
                    <a:pt x="233" y="26"/>
                  </a:lnTo>
                  <a:lnTo>
                    <a:pt x="237" y="18"/>
                  </a:lnTo>
                  <a:lnTo>
                    <a:pt x="233" y="26"/>
                  </a:lnTo>
                  <a:lnTo>
                    <a:pt x="237" y="19"/>
                  </a:lnTo>
                  <a:lnTo>
                    <a:pt x="235" y="11"/>
                  </a:lnTo>
                  <a:lnTo>
                    <a:pt x="229" y="8"/>
                  </a:lnTo>
                  <a:lnTo>
                    <a:pt x="220" y="9"/>
                  </a:lnTo>
                  <a:lnTo>
                    <a:pt x="2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407720" y="5150880"/>
              <a:ext cx="21240" cy="410400"/>
            </a:xfrm>
            <a:custGeom>
              <a:avLst/>
              <a:gdLst/>
              <a:ahLst/>
              <a:rect l="l" t="t" r="r" b="b"/>
              <a:pathLst>
                <a:path w="38" h="804">
                  <a:moveTo>
                    <a:pt x="11" y="21"/>
                  </a:moveTo>
                  <a:lnTo>
                    <a:pt x="0" y="11"/>
                  </a:lnTo>
                  <a:lnTo>
                    <a:pt x="17" y="804"/>
                  </a:lnTo>
                  <a:lnTo>
                    <a:pt x="38" y="804"/>
                  </a:lnTo>
                  <a:lnTo>
                    <a:pt x="21" y="11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214400" y="5150880"/>
              <a:ext cx="198360" cy="17280"/>
            </a:xfrm>
            <a:custGeom>
              <a:avLst/>
              <a:gdLst/>
              <a:ahLst/>
              <a:rect l="l" t="t" r="r" b="b"/>
              <a:pathLst>
                <a:path w="373" h="34">
                  <a:moveTo>
                    <a:pt x="21" y="21"/>
                  </a:moveTo>
                  <a:lnTo>
                    <a:pt x="11" y="34"/>
                  </a:lnTo>
                  <a:lnTo>
                    <a:pt x="373" y="21"/>
                  </a:lnTo>
                  <a:lnTo>
                    <a:pt x="373" y="0"/>
                  </a:lnTo>
                  <a:lnTo>
                    <a:pt x="11" y="12"/>
                  </a:lnTo>
                  <a:lnTo>
                    <a:pt x="0" y="24"/>
                  </a:lnTo>
                  <a:lnTo>
                    <a:pt x="11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11" y="34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142040" y="4433400"/>
              <a:ext cx="549720" cy="752400"/>
            </a:xfrm>
            <a:custGeom>
              <a:avLst/>
              <a:gdLst/>
              <a:ahLst/>
              <a:rect l="l" t="t" r="r" b="b"/>
              <a:pathLst>
                <a:path w="1022" h="1476">
                  <a:moveTo>
                    <a:pt x="154" y="0"/>
                  </a:moveTo>
                  <a:lnTo>
                    <a:pt x="185" y="12"/>
                  </a:lnTo>
                  <a:lnTo>
                    <a:pt x="218" y="24"/>
                  </a:lnTo>
                  <a:lnTo>
                    <a:pt x="252" y="33"/>
                  </a:lnTo>
                  <a:lnTo>
                    <a:pt x="289" y="41"/>
                  </a:lnTo>
                  <a:lnTo>
                    <a:pt x="327" y="46"/>
                  </a:lnTo>
                  <a:lnTo>
                    <a:pt x="367" y="50"/>
                  </a:lnTo>
                  <a:lnTo>
                    <a:pt x="407" y="51"/>
                  </a:lnTo>
                  <a:lnTo>
                    <a:pt x="448" y="52"/>
                  </a:lnTo>
                  <a:lnTo>
                    <a:pt x="488" y="50"/>
                  </a:lnTo>
                  <a:lnTo>
                    <a:pt x="529" y="47"/>
                  </a:lnTo>
                  <a:lnTo>
                    <a:pt x="569" y="43"/>
                  </a:lnTo>
                  <a:lnTo>
                    <a:pt x="608" y="37"/>
                  </a:lnTo>
                  <a:lnTo>
                    <a:pt x="646" y="30"/>
                  </a:lnTo>
                  <a:lnTo>
                    <a:pt x="683" y="21"/>
                  </a:lnTo>
                  <a:lnTo>
                    <a:pt x="717" y="11"/>
                  </a:lnTo>
                  <a:lnTo>
                    <a:pt x="751" y="0"/>
                  </a:lnTo>
                  <a:lnTo>
                    <a:pt x="754" y="14"/>
                  </a:lnTo>
                  <a:lnTo>
                    <a:pt x="763" y="60"/>
                  </a:lnTo>
                  <a:lnTo>
                    <a:pt x="775" y="128"/>
                  </a:lnTo>
                  <a:lnTo>
                    <a:pt x="793" y="218"/>
                  </a:lnTo>
                  <a:lnTo>
                    <a:pt x="814" y="325"/>
                  </a:lnTo>
                  <a:lnTo>
                    <a:pt x="836" y="443"/>
                  </a:lnTo>
                  <a:lnTo>
                    <a:pt x="862" y="570"/>
                  </a:lnTo>
                  <a:lnTo>
                    <a:pt x="887" y="700"/>
                  </a:lnTo>
                  <a:lnTo>
                    <a:pt x="911" y="831"/>
                  </a:lnTo>
                  <a:lnTo>
                    <a:pt x="937" y="958"/>
                  </a:lnTo>
                  <a:lnTo>
                    <a:pt x="959" y="1077"/>
                  </a:lnTo>
                  <a:lnTo>
                    <a:pt x="980" y="1182"/>
                  </a:lnTo>
                  <a:lnTo>
                    <a:pt x="998" y="1272"/>
                  </a:lnTo>
                  <a:lnTo>
                    <a:pt x="1011" y="1342"/>
                  </a:lnTo>
                  <a:lnTo>
                    <a:pt x="1019" y="1386"/>
                  </a:lnTo>
                  <a:lnTo>
                    <a:pt x="1022" y="1402"/>
                  </a:lnTo>
                  <a:lnTo>
                    <a:pt x="997" y="1409"/>
                  </a:lnTo>
                  <a:lnTo>
                    <a:pt x="968" y="1416"/>
                  </a:lnTo>
                  <a:lnTo>
                    <a:pt x="940" y="1423"/>
                  </a:lnTo>
                  <a:lnTo>
                    <a:pt x="910" y="1429"/>
                  </a:lnTo>
                  <a:lnTo>
                    <a:pt x="880" y="1436"/>
                  </a:lnTo>
                  <a:lnTo>
                    <a:pt x="848" y="1442"/>
                  </a:lnTo>
                  <a:lnTo>
                    <a:pt x="815" y="1447"/>
                  </a:lnTo>
                  <a:lnTo>
                    <a:pt x="783" y="1453"/>
                  </a:lnTo>
                  <a:lnTo>
                    <a:pt x="748" y="1457"/>
                  </a:lnTo>
                  <a:lnTo>
                    <a:pt x="714" y="1462"/>
                  </a:lnTo>
                  <a:lnTo>
                    <a:pt x="680" y="1465"/>
                  </a:lnTo>
                  <a:lnTo>
                    <a:pt x="644" y="1469"/>
                  </a:lnTo>
                  <a:lnTo>
                    <a:pt x="609" y="1472"/>
                  </a:lnTo>
                  <a:lnTo>
                    <a:pt x="572" y="1474"/>
                  </a:lnTo>
                  <a:lnTo>
                    <a:pt x="538" y="1475"/>
                  </a:lnTo>
                  <a:lnTo>
                    <a:pt x="501" y="1476"/>
                  </a:lnTo>
                  <a:lnTo>
                    <a:pt x="466" y="1476"/>
                  </a:lnTo>
                  <a:lnTo>
                    <a:pt x="430" y="1476"/>
                  </a:lnTo>
                  <a:lnTo>
                    <a:pt x="395" y="1475"/>
                  </a:lnTo>
                  <a:lnTo>
                    <a:pt x="359" y="1473"/>
                  </a:lnTo>
                  <a:lnTo>
                    <a:pt x="325" y="1470"/>
                  </a:lnTo>
                  <a:lnTo>
                    <a:pt x="292" y="1466"/>
                  </a:lnTo>
                  <a:lnTo>
                    <a:pt x="258" y="1462"/>
                  </a:lnTo>
                  <a:lnTo>
                    <a:pt x="225" y="1456"/>
                  </a:lnTo>
                  <a:lnTo>
                    <a:pt x="193" y="1450"/>
                  </a:lnTo>
                  <a:lnTo>
                    <a:pt x="163" y="1443"/>
                  </a:lnTo>
                  <a:lnTo>
                    <a:pt x="132" y="1435"/>
                  </a:lnTo>
                  <a:lnTo>
                    <a:pt x="104" y="1425"/>
                  </a:lnTo>
                  <a:lnTo>
                    <a:pt x="75" y="1415"/>
                  </a:lnTo>
                  <a:lnTo>
                    <a:pt x="49" y="1403"/>
                  </a:lnTo>
                  <a:lnTo>
                    <a:pt x="23" y="1390"/>
                  </a:lnTo>
                  <a:lnTo>
                    <a:pt x="0" y="137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12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222320" y="4429080"/>
              <a:ext cx="330120" cy="38160"/>
            </a:xfrm>
            <a:custGeom>
              <a:avLst/>
              <a:gdLst/>
              <a:ahLst/>
              <a:rect l="l" t="t" r="r" b="b"/>
              <a:pathLst>
                <a:path w="611" h="73">
                  <a:moveTo>
                    <a:pt x="611" y="7"/>
                  </a:moveTo>
                  <a:lnTo>
                    <a:pt x="597" y="0"/>
                  </a:lnTo>
                  <a:lnTo>
                    <a:pt x="565" y="11"/>
                  </a:lnTo>
                  <a:lnTo>
                    <a:pt x="531" y="20"/>
                  </a:lnTo>
                  <a:lnTo>
                    <a:pt x="494" y="30"/>
                  </a:lnTo>
                  <a:lnTo>
                    <a:pt x="456" y="36"/>
                  </a:lnTo>
                  <a:lnTo>
                    <a:pt x="418" y="42"/>
                  </a:lnTo>
                  <a:lnTo>
                    <a:pt x="379" y="47"/>
                  </a:lnTo>
                  <a:lnTo>
                    <a:pt x="338" y="50"/>
                  </a:lnTo>
                  <a:lnTo>
                    <a:pt x="298" y="52"/>
                  </a:lnTo>
                  <a:lnTo>
                    <a:pt x="257" y="51"/>
                  </a:lnTo>
                  <a:lnTo>
                    <a:pt x="217" y="50"/>
                  </a:lnTo>
                  <a:lnTo>
                    <a:pt x="179" y="45"/>
                  </a:lnTo>
                  <a:lnTo>
                    <a:pt x="142" y="40"/>
                  </a:lnTo>
                  <a:lnTo>
                    <a:pt x="105" y="33"/>
                  </a:lnTo>
                  <a:lnTo>
                    <a:pt x="71" y="23"/>
                  </a:lnTo>
                  <a:lnTo>
                    <a:pt x="39" y="13"/>
                  </a:lnTo>
                  <a:lnTo>
                    <a:pt x="10" y="0"/>
                  </a:lnTo>
                  <a:lnTo>
                    <a:pt x="0" y="18"/>
                  </a:lnTo>
                  <a:lnTo>
                    <a:pt x="32" y="32"/>
                  </a:lnTo>
                  <a:lnTo>
                    <a:pt x="66" y="44"/>
                  </a:lnTo>
                  <a:lnTo>
                    <a:pt x="99" y="54"/>
                  </a:lnTo>
                  <a:lnTo>
                    <a:pt x="138" y="61"/>
                  </a:lnTo>
                  <a:lnTo>
                    <a:pt x="176" y="67"/>
                  </a:lnTo>
                  <a:lnTo>
                    <a:pt x="217" y="71"/>
                  </a:lnTo>
                  <a:lnTo>
                    <a:pt x="257" y="72"/>
                  </a:lnTo>
                  <a:lnTo>
                    <a:pt x="298" y="73"/>
                  </a:lnTo>
                  <a:lnTo>
                    <a:pt x="338" y="71"/>
                  </a:lnTo>
                  <a:lnTo>
                    <a:pt x="379" y="68"/>
                  </a:lnTo>
                  <a:lnTo>
                    <a:pt x="420" y="63"/>
                  </a:lnTo>
                  <a:lnTo>
                    <a:pt x="459" y="57"/>
                  </a:lnTo>
                  <a:lnTo>
                    <a:pt x="500" y="51"/>
                  </a:lnTo>
                  <a:lnTo>
                    <a:pt x="535" y="41"/>
                  </a:lnTo>
                  <a:lnTo>
                    <a:pt x="570" y="32"/>
                  </a:lnTo>
                  <a:lnTo>
                    <a:pt x="604" y="18"/>
                  </a:lnTo>
                  <a:lnTo>
                    <a:pt x="590" y="11"/>
                  </a:lnTo>
                  <a:lnTo>
                    <a:pt x="604" y="18"/>
                  </a:lnTo>
                  <a:lnTo>
                    <a:pt x="610" y="13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6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539480" y="4431240"/>
              <a:ext cx="158040" cy="721800"/>
            </a:xfrm>
            <a:custGeom>
              <a:avLst/>
              <a:gdLst/>
              <a:ahLst/>
              <a:rect l="l" t="t" r="r" b="b"/>
              <a:pathLst>
                <a:path w="293" h="1415">
                  <a:moveTo>
                    <a:pt x="284" y="1415"/>
                  </a:moveTo>
                  <a:lnTo>
                    <a:pt x="293" y="1404"/>
                  </a:lnTo>
                  <a:lnTo>
                    <a:pt x="290" y="1388"/>
                  </a:lnTo>
                  <a:lnTo>
                    <a:pt x="281" y="1344"/>
                  </a:lnTo>
                  <a:lnTo>
                    <a:pt x="269" y="1274"/>
                  </a:lnTo>
                  <a:lnTo>
                    <a:pt x="251" y="1184"/>
                  </a:lnTo>
                  <a:lnTo>
                    <a:pt x="230" y="1078"/>
                  </a:lnTo>
                  <a:lnTo>
                    <a:pt x="207" y="960"/>
                  </a:lnTo>
                  <a:lnTo>
                    <a:pt x="182" y="833"/>
                  </a:lnTo>
                  <a:lnTo>
                    <a:pt x="158" y="702"/>
                  </a:lnTo>
                  <a:lnTo>
                    <a:pt x="131" y="572"/>
                  </a:lnTo>
                  <a:lnTo>
                    <a:pt x="107" y="444"/>
                  </a:lnTo>
                  <a:lnTo>
                    <a:pt x="85" y="327"/>
                  </a:lnTo>
                  <a:lnTo>
                    <a:pt x="64" y="220"/>
                  </a:lnTo>
                  <a:lnTo>
                    <a:pt x="46" y="130"/>
                  </a:lnTo>
                  <a:lnTo>
                    <a:pt x="33" y="61"/>
                  </a:lnTo>
                  <a:lnTo>
                    <a:pt x="25" y="16"/>
                  </a:lnTo>
                  <a:lnTo>
                    <a:pt x="21" y="0"/>
                  </a:lnTo>
                  <a:lnTo>
                    <a:pt x="0" y="4"/>
                  </a:lnTo>
                  <a:lnTo>
                    <a:pt x="4" y="18"/>
                  </a:lnTo>
                  <a:lnTo>
                    <a:pt x="12" y="64"/>
                  </a:lnTo>
                  <a:lnTo>
                    <a:pt x="25" y="132"/>
                  </a:lnTo>
                  <a:lnTo>
                    <a:pt x="43" y="222"/>
                  </a:lnTo>
                  <a:lnTo>
                    <a:pt x="64" y="329"/>
                  </a:lnTo>
                  <a:lnTo>
                    <a:pt x="86" y="447"/>
                  </a:lnTo>
                  <a:lnTo>
                    <a:pt x="110" y="574"/>
                  </a:lnTo>
                  <a:lnTo>
                    <a:pt x="137" y="704"/>
                  </a:lnTo>
                  <a:lnTo>
                    <a:pt x="161" y="835"/>
                  </a:lnTo>
                  <a:lnTo>
                    <a:pt x="186" y="962"/>
                  </a:lnTo>
                  <a:lnTo>
                    <a:pt x="208" y="1081"/>
                  </a:lnTo>
                  <a:lnTo>
                    <a:pt x="230" y="1186"/>
                  </a:lnTo>
                  <a:lnTo>
                    <a:pt x="247" y="1276"/>
                  </a:lnTo>
                  <a:lnTo>
                    <a:pt x="260" y="1346"/>
                  </a:lnTo>
                  <a:lnTo>
                    <a:pt x="269" y="1390"/>
                  </a:lnTo>
                  <a:lnTo>
                    <a:pt x="272" y="1406"/>
                  </a:lnTo>
                  <a:lnTo>
                    <a:pt x="280" y="1394"/>
                  </a:lnTo>
                  <a:lnTo>
                    <a:pt x="272" y="1406"/>
                  </a:lnTo>
                  <a:lnTo>
                    <a:pt x="276" y="1413"/>
                  </a:lnTo>
                  <a:lnTo>
                    <a:pt x="283" y="1415"/>
                  </a:lnTo>
                  <a:lnTo>
                    <a:pt x="291" y="1412"/>
                  </a:lnTo>
                  <a:lnTo>
                    <a:pt x="293" y="1404"/>
                  </a:lnTo>
                  <a:lnTo>
                    <a:pt x="284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136640" y="5130000"/>
              <a:ext cx="555480" cy="61200"/>
            </a:xfrm>
            <a:custGeom>
              <a:avLst/>
              <a:gdLst/>
              <a:ahLst/>
              <a:rect l="l" t="t" r="r" b="b"/>
              <a:pathLst>
                <a:path w="1034" h="121">
                  <a:moveTo>
                    <a:pt x="0" y="9"/>
                  </a:moveTo>
                  <a:lnTo>
                    <a:pt x="4" y="20"/>
                  </a:lnTo>
                  <a:lnTo>
                    <a:pt x="29" y="35"/>
                  </a:lnTo>
                  <a:lnTo>
                    <a:pt x="53" y="47"/>
                  </a:lnTo>
                  <a:lnTo>
                    <a:pt x="82" y="59"/>
                  </a:lnTo>
                  <a:lnTo>
                    <a:pt x="110" y="70"/>
                  </a:lnTo>
                  <a:lnTo>
                    <a:pt x="140" y="80"/>
                  </a:lnTo>
                  <a:lnTo>
                    <a:pt x="171" y="89"/>
                  </a:lnTo>
                  <a:lnTo>
                    <a:pt x="202" y="96"/>
                  </a:lnTo>
                  <a:lnTo>
                    <a:pt x="234" y="101"/>
                  </a:lnTo>
                  <a:lnTo>
                    <a:pt x="267" y="108"/>
                  </a:lnTo>
                  <a:lnTo>
                    <a:pt x="299" y="112"/>
                  </a:lnTo>
                  <a:lnTo>
                    <a:pt x="335" y="116"/>
                  </a:lnTo>
                  <a:lnTo>
                    <a:pt x="369" y="118"/>
                  </a:lnTo>
                  <a:lnTo>
                    <a:pt x="405" y="120"/>
                  </a:lnTo>
                  <a:lnTo>
                    <a:pt x="440" y="121"/>
                  </a:lnTo>
                  <a:lnTo>
                    <a:pt x="476" y="121"/>
                  </a:lnTo>
                  <a:lnTo>
                    <a:pt x="511" y="121"/>
                  </a:lnTo>
                  <a:lnTo>
                    <a:pt x="548" y="120"/>
                  </a:lnTo>
                  <a:lnTo>
                    <a:pt x="582" y="119"/>
                  </a:lnTo>
                  <a:lnTo>
                    <a:pt x="619" y="117"/>
                  </a:lnTo>
                  <a:lnTo>
                    <a:pt x="654" y="115"/>
                  </a:lnTo>
                  <a:lnTo>
                    <a:pt x="690" y="111"/>
                  </a:lnTo>
                  <a:lnTo>
                    <a:pt x="725" y="108"/>
                  </a:lnTo>
                  <a:lnTo>
                    <a:pt x="760" y="102"/>
                  </a:lnTo>
                  <a:lnTo>
                    <a:pt x="794" y="98"/>
                  </a:lnTo>
                  <a:lnTo>
                    <a:pt x="826" y="94"/>
                  </a:lnTo>
                  <a:lnTo>
                    <a:pt x="859" y="88"/>
                  </a:lnTo>
                  <a:lnTo>
                    <a:pt x="891" y="81"/>
                  </a:lnTo>
                  <a:lnTo>
                    <a:pt x="924" y="75"/>
                  </a:lnTo>
                  <a:lnTo>
                    <a:pt x="952" y="69"/>
                  </a:lnTo>
                  <a:lnTo>
                    <a:pt x="981" y="61"/>
                  </a:lnTo>
                  <a:lnTo>
                    <a:pt x="1009" y="55"/>
                  </a:lnTo>
                  <a:lnTo>
                    <a:pt x="1034" y="47"/>
                  </a:lnTo>
                  <a:lnTo>
                    <a:pt x="1030" y="26"/>
                  </a:lnTo>
                  <a:lnTo>
                    <a:pt x="1005" y="34"/>
                  </a:lnTo>
                  <a:lnTo>
                    <a:pt x="976" y="40"/>
                  </a:lnTo>
                  <a:lnTo>
                    <a:pt x="948" y="47"/>
                  </a:lnTo>
                  <a:lnTo>
                    <a:pt x="918" y="54"/>
                  </a:lnTo>
                  <a:lnTo>
                    <a:pt x="889" y="60"/>
                  </a:lnTo>
                  <a:lnTo>
                    <a:pt x="857" y="66"/>
                  </a:lnTo>
                  <a:lnTo>
                    <a:pt x="824" y="72"/>
                  </a:lnTo>
                  <a:lnTo>
                    <a:pt x="792" y="77"/>
                  </a:lnTo>
                  <a:lnTo>
                    <a:pt x="757" y="81"/>
                  </a:lnTo>
                  <a:lnTo>
                    <a:pt x="723" y="86"/>
                  </a:lnTo>
                  <a:lnTo>
                    <a:pt x="690" y="90"/>
                  </a:lnTo>
                  <a:lnTo>
                    <a:pt x="654" y="94"/>
                  </a:lnTo>
                  <a:lnTo>
                    <a:pt x="619" y="96"/>
                  </a:lnTo>
                  <a:lnTo>
                    <a:pt x="582" y="98"/>
                  </a:lnTo>
                  <a:lnTo>
                    <a:pt x="548" y="99"/>
                  </a:lnTo>
                  <a:lnTo>
                    <a:pt x="511" y="100"/>
                  </a:lnTo>
                  <a:lnTo>
                    <a:pt x="476" y="100"/>
                  </a:lnTo>
                  <a:lnTo>
                    <a:pt x="440" y="100"/>
                  </a:lnTo>
                  <a:lnTo>
                    <a:pt x="405" y="99"/>
                  </a:lnTo>
                  <a:lnTo>
                    <a:pt x="369" y="97"/>
                  </a:lnTo>
                  <a:lnTo>
                    <a:pt x="335" y="95"/>
                  </a:lnTo>
                  <a:lnTo>
                    <a:pt x="303" y="91"/>
                  </a:lnTo>
                  <a:lnTo>
                    <a:pt x="269" y="86"/>
                  </a:lnTo>
                  <a:lnTo>
                    <a:pt x="236" y="80"/>
                  </a:lnTo>
                  <a:lnTo>
                    <a:pt x="204" y="75"/>
                  </a:lnTo>
                  <a:lnTo>
                    <a:pt x="175" y="67"/>
                  </a:lnTo>
                  <a:lnTo>
                    <a:pt x="144" y="59"/>
                  </a:lnTo>
                  <a:lnTo>
                    <a:pt x="118" y="51"/>
                  </a:lnTo>
                  <a:lnTo>
                    <a:pt x="89" y="40"/>
                  </a:lnTo>
                  <a:lnTo>
                    <a:pt x="63" y="28"/>
                  </a:lnTo>
                  <a:lnTo>
                    <a:pt x="39" y="16"/>
                  </a:lnTo>
                  <a:lnTo>
                    <a:pt x="16" y="1"/>
                  </a:lnTo>
                  <a:lnTo>
                    <a:pt x="21" y="12"/>
                  </a:lnTo>
                  <a:lnTo>
                    <a:pt x="16" y="1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14"/>
                  </a:lnTo>
                  <a:lnTo>
                    <a:pt x="4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136640" y="4429080"/>
              <a:ext cx="93960" cy="705960"/>
            </a:xfrm>
            <a:custGeom>
              <a:avLst/>
              <a:gdLst/>
              <a:ahLst/>
              <a:rect l="l" t="t" r="r" b="b"/>
              <a:pathLst>
                <a:path w="175" h="1389">
                  <a:moveTo>
                    <a:pt x="170" y="2"/>
                  </a:moveTo>
                  <a:lnTo>
                    <a:pt x="154" y="9"/>
                  </a:lnTo>
                  <a:lnTo>
                    <a:pt x="0" y="1386"/>
                  </a:lnTo>
                  <a:lnTo>
                    <a:pt x="21" y="1389"/>
                  </a:lnTo>
                  <a:lnTo>
                    <a:pt x="175" y="13"/>
                  </a:lnTo>
                  <a:lnTo>
                    <a:pt x="160" y="20"/>
                  </a:lnTo>
                  <a:lnTo>
                    <a:pt x="175" y="13"/>
                  </a:lnTo>
                  <a:lnTo>
                    <a:pt x="173" y="4"/>
                  </a:lnTo>
                  <a:lnTo>
                    <a:pt x="165" y="0"/>
                  </a:lnTo>
                  <a:lnTo>
                    <a:pt x="157" y="3"/>
                  </a:lnTo>
                  <a:lnTo>
                    <a:pt x="154" y="9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434720" y="3898080"/>
              <a:ext cx="386280" cy="1528200"/>
            </a:xfrm>
            <a:custGeom>
              <a:avLst/>
              <a:gdLst/>
              <a:ahLst/>
              <a:rect l="l" t="t" r="r" b="b"/>
              <a:pathLst>
                <a:path w="720" h="2994">
                  <a:moveTo>
                    <a:pt x="0" y="74"/>
                  </a:moveTo>
                  <a:lnTo>
                    <a:pt x="6" y="220"/>
                  </a:lnTo>
                  <a:lnTo>
                    <a:pt x="14" y="365"/>
                  </a:lnTo>
                  <a:lnTo>
                    <a:pt x="19" y="511"/>
                  </a:lnTo>
                  <a:lnTo>
                    <a:pt x="26" y="658"/>
                  </a:lnTo>
                  <a:lnTo>
                    <a:pt x="32" y="804"/>
                  </a:lnTo>
                  <a:lnTo>
                    <a:pt x="38" y="949"/>
                  </a:lnTo>
                  <a:lnTo>
                    <a:pt x="45" y="1095"/>
                  </a:lnTo>
                  <a:lnTo>
                    <a:pt x="51" y="1242"/>
                  </a:lnTo>
                  <a:lnTo>
                    <a:pt x="57" y="1560"/>
                  </a:lnTo>
                  <a:lnTo>
                    <a:pt x="56" y="2118"/>
                  </a:lnTo>
                  <a:lnTo>
                    <a:pt x="54" y="2666"/>
                  </a:lnTo>
                  <a:lnTo>
                    <a:pt x="51" y="2957"/>
                  </a:lnTo>
                  <a:lnTo>
                    <a:pt x="56" y="2976"/>
                  </a:lnTo>
                  <a:lnTo>
                    <a:pt x="67" y="2986"/>
                  </a:lnTo>
                  <a:lnTo>
                    <a:pt x="88" y="2993"/>
                  </a:lnTo>
                  <a:lnTo>
                    <a:pt x="113" y="2994"/>
                  </a:lnTo>
                  <a:lnTo>
                    <a:pt x="144" y="2988"/>
                  </a:lnTo>
                  <a:lnTo>
                    <a:pt x="179" y="2980"/>
                  </a:lnTo>
                  <a:lnTo>
                    <a:pt x="218" y="2968"/>
                  </a:lnTo>
                  <a:lnTo>
                    <a:pt x="259" y="2953"/>
                  </a:lnTo>
                  <a:lnTo>
                    <a:pt x="300" y="2937"/>
                  </a:lnTo>
                  <a:lnTo>
                    <a:pt x="342" y="2919"/>
                  </a:lnTo>
                  <a:lnTo>
                    <a:pt x="383" y="2899"/>
                  </a:lnTo>
                  <a:lnTo>
                    <a:pt x="423" y="2881"/>
                  </a:lnTo>
                  <a:lnTo>
                    <a:pt x="459" y="2862"/>
                  </a:lnTo>
                  <a:lnTo>
                    <a:pt x="493" y="2844"/>
                  </a:lnTo>
                  <a:lnTo>
                    <a:pt x="521" y="2828"/>
                  </a:lnTo>
                  <a:lnTo>
                    <a:pt x="544" y="2814"/>
                  </a:lnTo>
                  <a:lnTo>
                    <a:pt x="544" y="2753"/>
                  </a:lnTo>
                  <a:lnTo>
                    <a:pt x="542" y="2663"/>
                  </a:lnTo>
                  <a:lnTo>
                    <a:pt x="540" y="2554"/>
                  </a:lnTo>
                  <a:lnTo>
                    <a:pt x="536" y="2435"/>
                  </a:lnTo>
                  <a:lnTo>
                    <a:pt x="530" y="2315"/>
                  </a:lnTo>
                  <a:lnTo>
                    <a:pt x="525" y="2206"/>
                  </a:lnTo>
                  <a:lnTo>
                    <a:pt x="515" y="2112"/>
                  </a:lnTo>
                  <a:lnTo>
                    <a:pt x="505" y="2047"/>
                  </a:lnTo>
                  <a:lnTo>
                    <a:pt x="487" y="1963"/>
                  </a:lnTo>
                  <a:lnTo>
                    <a:pt x="473" y="1872"/>
                  </a:lnTo>
                  <a:lnTo>
                    <a:pt x="460" y="1777"/>
                  </a:lnTo>
                  <a:lnTo>
                    <a:pt x="450" y="1679"/>
                  </a:lnTo>
                  <a:lnTo>
                    <a:pt x="439" y="1582"/>
                  </a:lnTo>
                  <a:lnTo>
                    <a:pt x="428" y="1486"/>
                  </a:lnTo>
                  <a:lnTo>
                    <a:pt x="414" y="1395"/>
                  </a:lnTo>
                  <a:lnTo>
                    <a:pt x="396" y="1311"/>
                  </a:lnTo>
                  <a:lnTo>
                    <a:pt x="419" y="1307"/>
                  </a:lnTo>
                  <a:lnTo>
                    <a:pt x="444" y="1304"/>
                  </a:lnTo>
                  <a:lnTo>
                    <a:pt x="468" y="1301"/>
                  </a:lnTo>
                  <a:lnTo>
                    <a:pt x="491" y="1297"/>
                  </a:lnTo>
                  <a:lnTo>
                    <a:pt x="514" y="1295"/>
                  </a:lnTo>
                  <a:lnTo>
                    <a:pt x="536" y="1292"/>
                  </a:lnTo>
                  <a:lnTo>
                    <a:pt x="559" y="1288"/>
                  </a:lnTo>
                  <a:lnTo>
                    <a:pt x="580" y="1286"/>
                  </a:lnTo>
                  <a:lnTo>
                    <a:pt x="601" y="1283"/>
                  </a:lnTo>
                  <a:lnTo>
                    <a:pt x="620" y="1281"/>
                  </a:lnTo>
                  <a:lnTo>
                    <a:pt x="639" y="1277"/>
                  </a:lnTo>
                  <a:lnTo>
                    <a:pt x="657" y="1273"/>
                  </a:lnTo>
                  <a:lnTo>
                    <a:pt x="672" y="1270"/>
                  </a:lnTo>
                  <a:lnTo>
                    <a:pt x="687" y="1265"/>
                  </a:lnTo>
                  <a:lnTo>
                    <a:pt x="700" y="1261"/>
                  </a:lnTo>
                  <a:lnTo>
                    <a:pt x="712" y="1256"/>
                  </a:lnTo>
                  <a:lnTo>
                    <a:pt x="720" y="1237"/>
                  </a:lnTo>
                  <a:lnTo>
                    <a:pt x="715" y="1195"/>
                  </a:lnTo>
                  <a:lnTo>
                    <a:pt x="701" y="1139"/>
                  </a:lnTo>
                  <a:lnTo>
                    <a:pt x="680" y="1072"/>
                  </a:lnTo>
                  <a:lnTo>
                    <a:pt x="656" y="1002"/>
                  </a:lnTo>
                  <a:lnTo>
                    <a:pt x="631" y="935"/>
                  </a:lnTo>
                  <a:lnTo>
                    <a:pt x="610" y="880"/>
                  </a:lnTo>
                  <a:lnTo>
                    <a:pt x="595" y="839"/>
                  </a:lnTo>
                  <a:lnTo>
                    <a:pt x="572" y="778"/>
                  </a:lnTo>
                  <a:lnTo>
                    <a:pt x="550" y="719"/>
                  </a:lnTo>
                  <a:lnTo>
                    <a:pt x="529" y="664"/>
                  </a:lnTo>
                  <a:lnTo>
                    <a:pt x="508" y="611"/>
                  </a:lnTo>
                  <a:lnTo>
                    <a:pt x="486" y="562"/>
                  </a:lnTo>
                  <a:lnTo>
                    <a:pt x="465" y="513"/>
                  </a:lnTo>
                  <a:lnTo>
                    <a:pt x="442" y="467"/>
                  </a:lnTo>
                  <a:lnTo>
                    <a:pt x="419" y="421"/>
                  </a:lnTo>
                  <a:lnTo>
                    <a:pt x="395" y="377"/>
                  </a:lnTo>
                  <a:lnTo>
                    <a:pt x="368" y="334"/>
                  </a:lnTo>
                  <a:lnTo>
                    <a:pt x="341" y="289"/>
                  </a:lnTo>
                  <a:lnTo>
                    <a:pt x="311" y="245"/>
                  </a:lnTo>
                  <a:lnTo>
                    <a:pt x="280" y="201"/>
                  </a:lnTo>
                  <a:lnTo>
                    <a:pt x="244" y="155"/>
                  </a:lnTo>
                  <a:lnTo>
                    <a:pt x="207" y="108"/>
                  </a:lnTo>
                  <a:lnTo>
                    <a:pt x="165" y="59"/>
                  </a:lnTo>
                  <a:lnTo>
                    <a:pt x="156" y="50"/>
                  </a:lnTo>
                  <a:lnTo>
                    <a:pt x="144" y="40"/>
                  </a:lnTo>
                  <a:lnTo>
                    <a:pt x="131" y="34"/>
                  </a:lnTo>
                  <a:lnTo>
                    <a:pt x="118" y="26"/>
                  </a:lnTo>
                  <a:lnTo>
                    <a:pt x="103" y="19"/>
                  </a:lnTo>
                  <a:lnTo>
                    <a:pt x="90" y="14"/>
                  </a:lnTo>
                  <a:lnTo>
                    <a:pt x="76" y="6"/>
                  </a:lnTo>
                  <a:lnTo>
                    <a:pt x="61" y="0"/>
                  </a:lnTo>
                  <a:lnTo>
                    <a:pt x="51" y="5"/>
                  </a:lnTo>
                  <a:lnTo>
                    <a:pt x="40" y="13"/>
                  </a:lnTo>
                  <a:lnTo>
                    <a:pt x="29" y="20"/>
                  </a:lnTo>
                  <a:lnTo>
                    <a:pt x="21" y="30"/>
                  </a:lnTo>
                  <a:lnTo>
                    <a:pt x="15" y="39"/>
                  </a:lnTo>
                  <a:lnTo>
                    <a:pt x="8" y="50"/>
                  </a:lnTo>
                  <a:lnTo>
                    <a:pt x="4" y="6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429320" y="3936600"/>
              <a:ext cx="37440" cy="596160"/>
            </a:xfrm>
            <a:custGeom>
              <a:avLst/>
              <a:gdLst/>
              <a:ahLst/>
              <a:rect l="l" t="t" r="r" b="b"/>
              <a:pathLst>
                <a:path w="72" h="1168">
                  <a:moveTo>
                    <a:pt x="72" y="1168"/>
                  </a:moveTo>
                  <a:lnTo>
                    <a:pt x="72" y="1168"/>
                  </a:lnTo>
                  <a:lnTo>
                    <a:pt x="67" y="1021"/>
                  </a:lnTo>
                  <a:lnTo>
                    <a:pt x="59" y="875"/>
                  </a:lnTo>
                  <a:lnTo>
                    <a:pt x="53" y="730"/>
                  </a:lnTo>
                  <a:lnTo>
                    <a:pt x="48" y="584"/>
                  </a:lnTo>
                  <a:lnTo>
                    <a:pt x="40" y="437"/>
                  </a:lnTo>
                  <a:lnTo>
                    <a:pt x="35" y="291"/>
                  </a:lnTo>
                  <a:lnTo>
                    <a:pt x="28" y="14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7" y="146"/>
                  </a:lnTo>
                  <a:lnTo>
                    <a:pt x="14" y="291"/>
                  </a:lnTo>
                  <a:lnTo>
                    <a:pt x="19" y="437"/>
                  </a:lnTo>
                  <a:lnTo>
                    <a:pt x="27" y="584"/>
                  </a:lnTo>
                  <a:lnTo>
                    <a:pt x="32" y="730"/>
                  </a:lnTo>
                  <a:lnTo>
                    <a:pt x="38" y="875"/>
                  </a:lnTo>
                  <a:lnTo>
                    <a:pt x="46" y="1021"/>
                  </a:lnTo>
                  <a:lnTo>
                    <a:pt x="51" y="1168"/>
                  </a:lnTo>
                  <a:lnTo>
                    <a:pt x="51" y="1168"/>
                  </a:lnTo>
                  <a:lnTo>
                    <a:pt x="72" y="1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455960" y="4533120"/>
              <a:ext cx="13320" cy="880200"/>
            </a:xfrm>
            <a:custGeom>
              <a:avLst/>
              <a:gdLst/>
              <a:ahLst/>
              <a:rect l="l" t="t" r="r" b="b"/>
              <a:pathLst>
                <a:path w="27" h="1725">
                  <a:moveTo>
                    <a:pt x="21" y="1715"/>
                  </a:moveTo>
                  <a:lnTo>
                    <a:pt x="21" y="1715"/>
                  </a:lnTo>
                  <a:lnTo>
                    <a:pt x="23" y="1424"/>
                  </a:lnTo>
                  <a:lnTo>
                    <a:pt x="26" y="876"/>
                  </a:lnTo>
                  <a:lnTo>
                    <a:pt x="27" y="318"/>
                  </a:lnTo>
                  <a:lnTo>
                    <a:pt x="21" y="0"/>
                  </a:lnTo>
                  <a:lnTo>
                    <a:pt x="0" y="0"/>
                  </a:lnTo>
                  <a:lnTo>
                    <a:pt x="6" y="318"/>
                  </a:lnTo>
                  <a:lnTo>
                    <a:pt x="5" y="876"/>
                  </a:lnTo>
                  <a:lnTo>
                    <a:pt x="2" y="1424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4" y="1723"/>
                  </a:lnTo>
                  <a:lnTo>
                    <a:pt x="11" y="1725"/>
                  </a:lnTo>
                  <a:lnTo>
                    <a:pt x="18" y="1723"/>
                  </a:lnTo>
                  <a:lnTo>
                    <a:pt x="21" y="1715"/>
                  </a:lnTo>
                  <a:lnTo>
                    <a:pt x="21" y="17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455960" y="5329080"/>
              <a:ext cx="276120" cy="102240"/>
            </a:xfrm>
            <a:custGeom>
              <a:avLst/>
              <a:gdLst/>
              <a:ahLst/>
              <a:rect l="l" t="t" r="r" b="b"/>
              <a:pathLst>
                <a:path w="514" h="200">
                  <a:moveTo>
                    <a:pt x="492" y="10"/>
                  </a:moveTo>
                  <a:lnTo>
                    <a:pt x="497" y="1"/>
                  </a:lnTo>
                  <a:lnTo>
                    <a:pt x="476" y="14"/>
                  </a:lnTo>
                  <a:lnTo>
                    <a:pt x="448" y="30"/>
                  </a:lnTo>
                  <a:lnTo>
                    <a:pt x="415" y="48"/>
                  </a:lnTo>
                  <a:lnTo>
                    <a:pt x="378" y="67"/>
                  </a:lnTo>
                  <a:lnTo>
                    <a:pt x="338" y="85"/>
                  </a:lnTo>
                  <a:lnTo>
                    <a:pt x="298" y="105"/>
                  </a:lnTo>
                  <a:lnTo>
                    <a:pt x="256" y="123"/>
                  </a:lnTo>
                  <a:lnTo>
                    <a:pt x="214" y="140"/>
                  </a:lnTo>
                  <a:lnTo>
                    <a:pt x="174" y="154"/>
                  </a:lnTo>
                  <a:lnTo>
                    <a:pt x="137" y="165"/>
                  </a:lnTo>
                  <a:lnTo>
                    <a:pt x="102" y="174"/>
                  </a:lnTo>
                  <a:lnTo>
                    <a:pt x="73" y="179"/>
                  </a:lnTo>
                  <a:lnTo>
                    <a:pt x="49" y="178"/>
                  </a:lnTo>
                  <a:lnTo>
                    <a:pt x="32" y="173"/>
                  </a:lnTo>
                  <a:lnTo>
                    <a:pt x="25" y="167"/>
                  </a:lnTo>
                  <a:lnTo>
                    <a:pt x="21" y="153"/>
                  </a:lnTo>
                  <a:lnTo>
                    <a:pt x="0" y="153"/>
                  </a:lnTo>
                  <a:lnTo>
                    <a:pt x="6" y="176"/>
                  </a:lnTo>
                  <a:lnTo>
                    <a:pt x="22" y="192"/>
                  </a:lnTo>
                  <a:lnTo>
                    <a:pt x="46" y="199"/>
                  </a:lnTo>
                  <a:lnTo>
                    <a:pt x="73" y="200"/>
                  </a:lnTo>
                  <a:lnTo>
                    <a:pt x="106" y="195"/>
                  </a:lnTo>
                  <a:lnTo>
                    <a:pt x="142" y="186"/>
                  </a:lnTo>
                  <a:lnTo>
                    <a:pt x="182" y="175"/>
                  </a:lnTo>
                  <a:lnTo>
                    <a:pt x="222" y="159"/>
                  </a:lnTo>
                  <a:lnTo>
                    <a:pt x="263" y="142"/>
                  </a:lnTo>
                  <a:lnTo>
                    <a:pt x="305" y="124"/>
                  </a:lnTo>
                  <a:lnTo>
                    <a:pt x="347" y="104"/>
                  </a:lnTo>
                  <a:lnTo>
                    <a:pt x="388" y="85"/>
                  </a:lnTo>
                  <a:lnTo>
                    <a:pt x="425" y="67"/>
                  </a:lnTo>
                  <a:lnTo>
                    <a:pt x="457" y="49"/>
                  </a:lnTo>
                  <a:lnTo>
                    <a:pt x="486" y="33"/>
                  </a:lnTo>
                  <a:lnTo>
                    <a:pt x="509" y="20"/>
                  </a:lnTo>
                  <a:lnTo>
                    <a:pt x="514" y="10"/>
                  </a:lnTo>
                  <a:lnTo>
                    <a:pt x="509" y="20"/>
                  </a:lnTo>
                  <a:lnTo>
                    <a:pt x="514" y="12"/>
                  </a:lnTo>
                  <a:lnTo>
                    <a:pt x="512" y="4"/>
                  </a:lnTo>
                  <a:lnTo>
                    <a:pt x="506" y="0"/>
                  </a:lnTo>
                  <a:lnTo>
                    <a:pt x="497" y="1"/>
                  </a:lnTo>
                  <a:lnTo>
                    <a:pt x="4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700040" y="4941360"/>
              <a:ext cx="32040" cy="392760"/>
            </a:xfrm>
            <a:custGeom>
              <a:avLst/>
              <a:gdLst/>
              <a:ahLst/>
              <a:rect l="l" t="t" r="r" b="b"/>
              <a:pathLst>
                <a:path w="60" h="769">
                  <a:moveTo>
                    <a:pt x="0" y="5"/>
                  </a:moveTo>
                  <a:lnTo>
                    <a:pt x="0" y="5"/>
                  </a:lnTo>
                  <a:lnTo>
                    <a:pt x="11" y="68"/>
                  </a:lnTo>
                  <a:lnTo>
                    <a:pt x="20" y="161"/>
                  </a:lnTo>
                  <a:lnTo>
                    <a:pt x="25" y="270"/>
                  </a:lnTo>
                  <a:lnTo>
                    <a:pt x="32" y="390"/>
                  </a:lnTo>
                  <a:lnTo>
                    <a:pt x="35" y="509"/>
                  </a:lnTo>
                  <a:lnTo>
                    <a:pt x="37" y="618"/>
                  </a:lnTo>
                  <a:lnTo>
                    <a:pt x="38" y="708"/>
                  </a:lnTo>
                  <a:lnTo>
                    <a:pt x="38" y="769"/>
                  </a:lnTo>
                  <a:lnTo>
                    <a:pt x="60" y="769"/>
                  </a:lnTo>
                  <a:lnTo>
                    <a:pt x="60" y="708"/>
                  </a:lnTo>
                  <a:lnTo>
                    <a:pt x="58" y="618"/>
                  </a:lnTo>
                  <a:lnTo>
                    <a:pt x="56" y="509"/>
                  </a:lnTo>
                  <a:lnTo>
                    <a:pt x="53" y="390"/>
                  </a:lnTo>
                  <a:lnTo>
                    <a:pt x="47" y="270"/>
                  </a:lnTo>
                  <a:lnTo>
                    <a:pt x="41" y="161"/>
                  </a:lnTo>
                  <a:lnTo>
                    <a:pt x="32" y="66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641000" y="4561560"/>
              <a:ext cx="69840" cy="382320"/>
            </a:xfrm>
            <a:custGeom>
              <a:avLst/>
              <a:gdLst/>
              <a:ahLst/>
              <a:rect l="l" t="t" r="r" b="b"/>
              <a:pathLst>
                <a:path w="130" h="749">
                  <a:moveTo>
                    <a:pt x="10" y="0"/>
                  </a:moveTo>
                  <a:lnTo>
                    <a:pt x="0" y="13"/>
                  </a:lnTo>
                  <a:lnTo>
                    <a:pt x="18" y="95"/>
                  </a:lnTo>
                  <a:lnTo>
                    <a:pt x="32" y="186"/>
                  </a:lnTo>
                  <a:lnTo>
                    <a:pt x="44" y="282"/>
                  </a:lnTo>
                  <a:lnTo>
                    <a:pt x="54" y="379"/>
                  </a:lnTo>
                  <a:lnTo>
                    <a:pt x="65" y="477"/>
                  </a:lnTo>
                  <a:lnTo>
                    <a:pt x="77" y="573"/>
                  </a:lnTo>
                  <a:lnTo>
                    <a:pt x="91" y="664"/>
                  </a:lnTo>
                  <a:lnTo>
                    <a:pt x="109" y="749"/>
                  </a:lnTo>
                  <a:lnTo>
                    <a:pt x="130" y="744"/>
                  </a:lnTo>
                  <a:lnTo>
                    <a:pt x="112" y="661"/>
                  </a:lnTo>
                  <a:lnTo>
                    <a:pt x="99" y="570"/>
                  </a:lnTo>
                  <a:lnTo>
                    <a:pt x="87" y="475"/>
                  </a:lnTo>
                  <a:lnTo>
                    <a:pt x="75" y="377"/>
                  </a:lnTo>
                  <a:lnTo>
                    <a:pt x="65" y="279"/>
                  </a:lnTo>
                  <a:lnTo>
                    <a:pt x="53" y="184"/>
                  </a:lnTo>
                  <a:lnTo>
                    <a:pt x="39" y="93"/>
                  </a:lnTo>
                  <a:lnTo>
                    <a:pt x="21" y="7"/>
                  </a:lnTo>
                  <a:lnTo>
                    <a:pt x="12" y="21"/>
                  </a:lnTo>
                  <a:lnTo>
                    <a:pt x="21" y="7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646400" y="4533120"/>
              <a:ext cx="174600" cy="41040"/>
            </a:xfrm>
            <a:custGeom>
              <a:avLst/>
              <a:gdLst/>
              <a:ahLst/>
              <a:rect l="l" t="t" r="r" b="b"/>
              <a:pathLst>
                <a:path w="326" h="77">
                  <a:moveTo>
                    <a:pt x="315" y="0"/>
                  </a:moveTo>
                  <a:lnTo>
                    <a:pt x="312" y="1"/>
                  </a:lnTo>
                  <a:lnTo>
                    <a:pt x="302" y="6"/>
                  </a:lnTo>
                  <a:lnTo>
                    <a:pt x="289" y="9"/>
                  </a:lnTo>
                  <a:lnTo>
                    <a:pt x="274" y="15"/>
                  </a:lnTo>
                  <a:lnTo>
                    <a:pt x="261" y="18"/>
                  </a:lnTo>
                  <a:lnTo>
                    <a:pt x="243" y="21"/>
                  </a:lnTo>
                  <a:lnTo>
                    <a:pt x="224" y="25"/>
                  </a:lnTo>
                  <a:lnTo>
                    <a:pt x="205" y="27"/>
                  </a:lnTo>
                  <a:lnTo>
                    <a:pt x="184" y="31"/>
                  </a:lnTo>
                  <a:lnTo>
                    <a:pt x="162" y="33"/>
                  </a:lnTo>
                  <a:lnTo>
                    <a:pt x="140" y="37"/>
                  </a:lnTo>
                  <a:lnTo>
                    <a:pt x="119" y="39"/>
                  </a:lnTo>
                  <a:lnTo>
                    <a:pt x="95" y="41"/>
                  </a:lnTo>
                  <a:lnTo>
                    <a:pt x="72" y="45"/>
                  </a:lnTo>
                  <a:lnTo>
                    <a:pt x="48" y="49"/>
                  </a:lnTo>
                  <a:lnTo>
                    <a:pt x="23" y="52"/>
                  </a:lnTo>
                  <a:lnTo>
                    <a:pt x="0" y="56"/>
                  </a:lnTo>
                  <a:lnTo>
                    <a:pt x="2" y="77"/>
                  </a:lnTo>
                  <a:lnTo>
                    <a:pt x="26" y="73"/>
                  </a:lnTo>
                  <a:lnTo>
                    <a:pt x="51" y="70"/>
                  </a:lnTo>
                  <a:lnTo>
                    <a:pt x="74" y="66"/>
                  </a:lnTo>
                  <a:lnTo>
                    <a:pt x="98" y="62"/>
                  </a:lnTo>
                  <a:lnTo>
                    <a:pt x="119" y="60"/>
                  </a:lnTo>
                  <a:lnTo>
                    <a:pt x="142" y="58"/>
                  </a:lnTo>
                  <a:lnTo>
                    <a:pt x="165" y="55"/>
                  </a:lnTo>
                  <a:lnTo>
                    <a:pt x="186" y="52"/>
                  </a:lnTo>
                  <a:lnTo>
                    <a:pt x="207" y="49"/>
                  </a:lnTo>
                  <a:lnTo>
                    <a:pt x="226" y="46"/>
                  </a:lnTo>
                  <a:lnTo>
                    <a:pt x="245" y="42"/>
                  </a:lnTo>
                  <a:lnTo>
                    <a:pt x="263" y="39"/>
                  </a:lnTo>
                  <a:lnTo>
                    <a:pt x="279" y="36"/>
                  </a:lnTo>
                  <a:lnTo>
                    <a:pt x="294" y="31"/>
                  </a:lnTo>
                  <a:lnTo>
                    <a:pt x="308" y="25"/>
                  </a:lnTo>
                  <a:lnTo>
                    <a:pt x="322" y="20"/>
                  </a:lnTo>
                  <a:lnTo>
                    <a:pt x="319" y="21"/>
                  </a:lnTo>
                  <a:lnTo>
                    <a:pt x="322" y="20"/>
                  </a:lnTo>
                  <a:lnTo>
                    <a:pt x="326" y="15"/>
                  </a:lnTo>
                  <a:lnTo>
                    <a:pt x="326" y="6"/>
                  </a:lnTo>
                  <a:lnTo>
                    <a:pt x="320" y="1"/>
                  </a:lnTo>
                  <a:lnTo>
                    <a:pt x="312" y="1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748640" y="4324320"/>
              <a:ext cx="77040" cy="218880"/>
            </a:xfrm>
            <a:custGeom>
              <a:avLst/>
              <a:gdLst/>
              <a:ahLst/>
              <a:rect l="l" t="t" r="r" b="b"/>
              <a:pathLst>
                <a:path w="145" h="431">
                  <a:moveTo>
                    <a:pt x="0" y="8"/>
                  </a:moveTo>
                  <a:lnTo>
                    <a:pt x="0" y="8"/>
                  </a:lnTo>
                  <a:lnTo>
                    <a:pt x="15" y="48"/>
                  </a:lnTo>
                  <a:lnTo>
                    <a:pt x="36" y="104"/>
                  </a:lnTo>
                  <a:lnTo>
                    <a:pt x="60" y="170"/>
                  </a:lnTo>
                  <a:lnTo>
                    <a:pt x="83" y="240"/>
                  </a:lnTo>
                  <a:lnTo>
                    <a:pt x="105" y="306"/>
                  </a:lnTo>
                  <a:lnTo>
                    <a:pt x="118" y="361"/>
                  </a:lnTo>
                  <a:lnTo>
                    <a:pt x="124" y="402"/>
                  </a:lnTo>
                  <a:lnTo>
                    <a:pt x="124" y="410"/>
                  </a:lnTo>
                  <a:lnTo>
                    <a:pt x="128" y="431"/>
                  </a:lnTo>
                  <a:lnTo>
                    <a:pt x="145" y="402"/>
                  </a:lnTo>
                  <a:lnTo>
                    <a:pt x="139" y="359"/>
                  </a:lnTo>
                  <a:lnTo>
                    <a:pt x="126" y="301"/>
                  </a:lnTo>
                  <a:lnTo>
                    <a:pt x="105" y="234"/>
                  </a:lnTo>
                  <a:lnTo>
                    <a:pt x="78" y="164"/>
                  </a:lnTo>
                  <a:lnTo>
                    <a:pt x="55" y="96"/>
                  </a:lnTo>
                  <a:lnTo>
                    <a:pt x="34" y="4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517520" y="3926160"/>
              <a:ext cx="241560" cy="402840"/>
            </a:xfrm>
            <a:custGeom>
              <a:avLst/>
              <a:gdLst/>
              <a:ahLst/>
              <a:rect l="l" t="t" r="r" b="b"/>
              <a:pathLst>
                <a:path w="448" h="790">
                  <a:moveTo>
                    <a:pt x="0" y="14"/>
                  </a:moveTo>
                  <a:lnTo>
                    <a:pt x="0" y="14"/>
                  </a:lnTo>
                  <a:lnTo>
                    <a:pt x="41" y="62"/>
                  </a:lnTo>
                  <a:lnTo>
                    <a:pt x="78" y="108"/>
                  </a:lnTo>
                  <a:lnTo>
                    <a:pt x="114" y="154"/>
                  </a:lnTo>
                  <a:lnTo>
                    <a:pt x="146" y="197"/>
                  </a:lnTo>
                  <a:lnTo>
                    <a:pt x="176" y="243"/>
                  </a:lnTo>
                  <a:lnTo>
                    <a:pt x="203" y="286"/>
                  </a:lnTo>
                  <a:lnTo>
                    <a:pt x="228" y="328"/>
                  </a:lnTo>
                  <a:lnTo>
                    <a:pt x="254" y="374"/>
                  </a:lnTo>
                  <a:lnTo>
                    <a:pt x="276" y="418"/>
                  </a:lnTo>
                  <a:lnTo>
                    <a:pt x="298" y="464"/>
                  </a:lnTo>
                  <a:lnTo>
                    <a:pt x="319" y="513"/>
                  </a:lnTo>
                  <a:lnTo>
                    <a:pt x="341" y="563"/>
                  </a:lnTo>
                  <a:lnTo>
                    <a:pt x="362" y="615"/>
                  </a:lnTo>
                  <a:lnTo>
                    <a:pt x="384" y="669"/>
                  </a:lnTo>
                  <a:lnTo>
                    <a:pt x="407" y="728"/>
                  </a:lnTo>
                  <a:lnTo>
                    <a:pt x="429" y="790"/>
                  </a:lnTo>
                  <a:lnTo>
                    <a:pt x="448" y="782"/>
                  </a:lnTo>
                  <a:lnTo>
                    <a:pt x="425" y="721"/>
                  </a:lnTo>
                  <a:lnTo>
                    <a:pt x="403" y="662"/>
                  </a:lnTo>
                  <a:lnTo>
                    <a:pt x="381" y="608"/>
                  </a:lnTo>
                  <a:lnTo>
                    <a:pt x="360" y="555"/>
                  </a:lnTo>
                  <a:lnTo>
                    <a:pt x="338" y="506"/>
                  </a:lnTo>
                  <a:lnTo>
                    <a:pt x="317" y="457"/>
                  </a:lnTo>
                  <a:lnTo>
                    <a:pt x="295" y="408"/>
                  </a:lnTo>
                  <a:lnTo>
                    <a:pt x="272" y="364"/>
                  </a:lnTo>
                  <a:lnTo>
                    <a:pt x="247" y="319"/>
                  </a:lnTo>
                  <a:lnTo>
                    <a:pt x="221" y="274"/>
                  </a:lnTo>
                  <a:lnTo>
                    <a:pt x="191" y="231"/>
                  </a:lnTo>
                  <a:lnTo>
                    <a:pt x="163" y="186"/>
                  </a:lnTo>
                  <a:lnTo>
                    <a:pt x="130" y="142"/>
                  </a:lnTo>
                  <a:lnTo>
                    <a:pt x="95" y="96"/>
                  </a:lnTo>
                  <a:lnTo>
                    <a:pt x="57" y="4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461360" y="3895560"/>
              <a:ext cx="66600" cy="38160"/>
            </a:xfrm>
            <a:custGeom>
              <a:avLst/>
              <a:gdLst/>
              <a:ahLst/>
              <a:rect l="l" t="t" r="r" b="b"/>
              <a:pathLst>
                <a:path w="121" h="75">
                  <a:moveTo>
                    <a:pt x="13" y="18"/>
                  </a:moveTo>
                  <a:lnTo>
                    <a:pt x="5" y="18"/>
                  </a:lnTo>
                  <a:lnTo>
                    <a:pt x="20" y="24"/>
                  </a:lnTo>
                  <a:lnTo>
                    <a:pt x="34" y="31"/>
                  </a:lnTo>
                  <a:lnTo>
                    <a:pt x="48" y="37"/>
                  </a:lnTo>
                  <a:lnTo>
                    <a:pt x="61" y="44"/>
                  </a:lnTo>
                  <a:lnTo>
                    <a:pt x="75" y="51"/>
                  </a:lnTo>
                  <a:lnTo>
                    <a:pt x="86" y="57"/>
                  </a:lnTo>
                  <a:lnTo>
                    <a:pt x="97" y="66"/>
                  </a:lnTo>
                  <a:lnTo>
                    <a:pt x="105" y="75"/>
                  </a:lnTo>
                  <a:lnTo>
                    <a:pt x="121" y="61"/>
                  </a:lnTo>
                  <a:lnTo>
                    <a:pt x="111" y="50"/>
                  </a:lnTo>
                  <a:lnTo>
                    <a:pt x="98" y="41"/>
                  </a:lnTo>
                  <a:lnTo>
                    <a:pt x="84" y="32"/>
                  </a:lnTo>
                  <a:lnTo>
                    <a:pt x="70" y="25"/>
                  </a:lnTo>
                  <a:lnTo>
                    <a:pt x="56" y="18"/>
                  </a:lnTo>
                  <a:lnTo>
                    <a:pt x="41" y="12"/>
                  </a:lnTo>
                  <a:lnTo>
                    <a:pt x="27" y="5"/>
                  </a:lnTo>
                  <a:lnTo>
                    <a:pt x="14" y="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429320" y="3895560"/>
              <a:ext cx="39960" cy="4536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21" y="82"/>
                  </a:moveTo>
                  <a:lnTo>
                    <a:pt x="21" y="83"/>
                  </a:lnTo>
                  <a:lnTo>
                    <a:pt x="26" y="73"/>
                  </a:lnTo>
                  <a:lnTo>
                    <a:pt x="29" y="62"/>
                  </a:lnTo>
                  <a:lnTo>
                    <a:pt x="33" y="53"/>
                  </a:lnTo>
                  <a:lnTo>
                    <a:pt x="40" y="45"/>
                  </a:lnTo>
                  <a:lnTo>
                    <a:pt x="48" y="35"/>
                  </a:lnTo>
                  <a:lnTo>
                    <a:pt x="57" y="28"/>
                  </a:lnTo>
                  <a:lnTo>
                    <a:pt x="67" y="23"/>
                  </a:lnTo>
                  <a:lnTo>
                    <a:pt x="76" y="18"/>
                  </a:lnTo>
                  <a:lnTo>
                    <a:pt x="69" y="0"/>
                  </a:lnTo>
                  <a:lnTo>
                    <a:pt x="57" y="4"/>
                  </a:lnTo>
                  <a:lnTo>
                    <a:pt x="46" y="12"/>
                  </a:lnTo>
                  <a:lnTo>
                    <a:pt x="33" y="22"/>
                  </a:lnTo>
                  <a:lnTo>
                    <a:pt x="25" y="31"/>
                  </a:lnTo>
                  <a:lnTo>
                    <a:pt x="17" y="42"/>
                  </a:lnTo>
                  <a:lnTo>
                    <a:pt x="10" y="54"/>
                  </a:lnTo>
                  <a:lnTo>
                    <a:pt x="5" y="66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88"/>
                  </a:lnTo>
                  <a:lnTo>
                    <a:pt x="10" y="92"/>
                  </a:lnTo>
                  <a:lnTo>
                    <a:pt x="18" y="90"/>
                  </a:lnTo>
                  <a:lnTo>
                    <a:pt x="21" y="83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911280" y="3893400"/>
              <a:ext cx="418320" cy="1507320"/>
            </a:xfrm>
            <a:custGeom>
              <a:avLst/>
              <a:gdLst/>
              <a:ahLst/>
              <a:rect l="l" t="t" r="r" b="b"/>
              <a:pathLst>
                <a:path w="780" h="2954">
                  <a:moveTo>
                    <a:pt x="720" y="0"/>
                  </a:moveTo>
                  <a:lnTo>
                    <a:pt x="731" y="37"/>
                  </a:lnTo>
                  <a:lnTo>
                    <a:pt x="740" y="73"/>
                  </a:lnTo>
                  <a:lnTo>
                    <a:pt x="749" y="109"/>
                  </a:lnTo>
                  <a:lnTo>
                    <a:pt x="755" y="147"/>
                  </a:lnTo>
                  <a:lnTo>
                    <a:pt x="758" y="185"/>
                  </a:lnTo>
                  <a:lnTo>
                    <a:pt x="762" y="222"/>
                  </a:lnTo>
                  <a:lnTo>
                    <a:pt x="762" y="262"/>
                  </a:lnTo>
                  <a:lnTo>
                    <a:pt x="762" y="305"/>
                  </a:lnTo>
                  <a:lnTo>
                    <a:pt x="758" y="497"/>
                  </a:lnTo>
                  <a:lnTo>
                    <a:pt x="759" y="691"/>
                  </a:lnTo>
                  <a:lnTo>
                    <a:pt x="765" y="890"/>
                  </a:lnTo>
                  <a:lnTo>
                    <a:pt x="769" y="1087"/>
                  </a:lnTo>
                  <a:lnTo>
                    <a:pt x="774" y="1286"/>
                  </a:lnTo>
                  <a:lnTo>
                    <a:pt x="778" y="1483"/>
                  </a:lnTo>
                  <a:lnTo>
                    <a:pt x="780" y="1676"/>
                  </a:lnTo>
                  <a:lnTo>
                    <a:pt x="776" y="1866"/>
                  </a:lnTo>
                  <a:lnTo>
                    <a:pt x="772" y="2022"/>
                  </a:lnTo>
                  <a:lnTo>
                    <a:pt x="770" y="2194"/>
                  </a:lnTo>
                  <a:lnTo>
                    <a:pt x="768" y="2372"/>
                  </a:lnTo>
                  <a:lnTo>
                    <a:pt x="766" y="2544"/>
                  </a:lnTo>
                  <a:lnTo>
                    <a:pt x="762" y="2699"/>
                  </a:lnTo>
                  <a:lnTo>
                    <a:pt x="755" y="2827"/>
                  </a:lnTo>
                  <a:lnTo>
                    <a:pt x="745" y="2916"/>
                  </a:lnTo>
                  <a:lnTo>
                    <a:pt x="729" y="2954"/>
                  </a:lnTo>
                  <a:lnTo>
                    <a:pt x="706" y="2953"/>
                  </a:lnTo>
                  <a:lnTo>
                    <a:pt x="680" y="2949"/>
                  </a:lnTo>
                  <a:lnTo>
                    <a:pt x="654" y="2944"/>
                  </a:lnTo>
                  <a:lnTo>
                    <a:pt x="625" y="2938"/>
                  </a:lnTo>
                  <a:lnTo>
                    <a:pt x="596" y="2930"/>
                  </a:lnTo>
                  <a:lnTo>
                    <a:pt x="565" y="2920"/>
                  </a:lnTo>
                  <a:lnTo>
                    <a:pt x="535" y="2912"/>
                  </a:lnTo>
                  <a:lnTo>
                    <a:pt x="504" y="2899"/>
                  </a:lnTo>
                  <a:lnTo>
                    <a:pt x="473" y="2888"/>
                  </a:lnTo>
                  <a:lnTo>
                    <a:pt x="444" y="2877"/>
                  </a:lnTo>
                  <a:lnTo>
                    <a:pt x="414" y="2865"/>
                  </a:lnTo>
                  <a:lnTo>
                    <a:pt x="387" y="2854"/>
                  </a:lnTo>
                  <a:lnTo>
                    <a:pt x="359" y="2842"/>
                  </a:lnTo>
                  <a:lnTo>
                    <a:pt x="333" y="2831"/>
                  </a:lnTo>
                  <a:lnTo>
                    <a:pt x="310" y="2821"/>
                  </a:lnTo>
                  <a:lnTo>
                    <a:pt x="288" y="2811"/>
                  </a:lnTo>
                  <a:lnTo>
                    <a:pt x="348" y="1710"/>
                  </a:lnTo>
                  <a:lnTo>
                    <a:pt x="323" y="1704"/>
                  </a:lnTo>
                  <a:lnTo>
                    <a:pt x="298" y="1697"/>
                  </a:lnTo>
                  <a:lnTo>
                    <a:pt x="269" y="1691"/>
                  </a:lnTo>
                  <a:lnTo>
                    <a:pt x="240" y="1687"/>
                  </a:lnTo>
                  <a:lnTo>
                    <a:pt x="209" y="1682"/>
                  </a:lnTo>
                  <a:lnTo>
                    <a:pt x="179" y="1677"/>
                  </a:lnTo>
                  <a:lnTo>
                    <a:pt x="148" y="1671"/>
                  </a:lnTo>
                  <a:lnTo>
                    <a:pt x="118" y="1667"/>
                  </a:lnTo>
                  <a:lnTo>
                    <a:pt x="92" y="1660"/>
                  </a:lnTo>
                  <a:lnTo>
                    <a:pt x="67" y="1655"/>
                  </a:lnTo>
                  <a:lnTo>
                    <a:pt x="45" y="1648"/>
                  </a:lnTo>
                  <a:lnTo>
                    <a:pt x="26" y="1639"/>
                  </a:lnTo>
                  <a:lnTo>
                    <a:pt x="12" y="1630"/>
                  </a:lnTo>
                  <a:lnTo>
                    <a:pt x="3" y="1619"/>
                  </a:lnTo>
                  <a:lnTo>
                    <a:pt x="0" y="1608"/>
                  </a:lnTo>
                  <a:lnTo>
                    <a:pt x="3" y="1594"/>
                  </a:lnTo>
                  <a:lnTo>
                    <a:pt x="33" y="1498"/>
                  </a:lnTo>
                  <a:lnTo>
                    <a:pt x="59" y="1403"/>
                  </a:lnTo>
                  <a:lnTo>
                    <a:pt x="86" y="1307"/>
                  </a:lnTo>
                  <a:lnTo>
                    <a:pt x="109" y="1212"/>
                  </a:lnTo>
                  <a:lnTo>
                    <a:pt x="133" y="1116"/>
                  </a:lnTo>
                  <a:lnTo>
                    <a:pt x="155" y="1020"/>
                  </a:lnTo>
                  <a:lnTo>
                    <a:pt x="177" y="925"/>
                  </a:lnTo>
                  <a:lnTo>
                    <a:pt x="199" y="831"/>
                  </a:lnTo>
                  <a:lnTo>
                    <a:pt x="221" y="736"/>
                  </a:lnTo>
                  <a:lnTo>
                    <a:pt x="244" y="645"/>
                  </a:lnTo>
                  <a:lnTo>
                    <a:pt x="267" y="553"/>
                  </a:lnTo>
                  <a:lnTo>
                    <a:pt x="292" y="461"/>
                  </a:lnTo>
                  <a:lnTo>
                    <a:pt x="318" y="371"/>
                  </a:lnTo>
                  <a:lnTo>
                    <a:pt x="344" y="282"/>
                  </a:lnTo>
                  <a:lnTo>
                    <a:pt x="375" y="196"/>
                  </a:lnTo>
                  <a:lnTo>
                    <a:pt x="408" y="109"/>
                  </a:lnTo>
                  <a:lnTo>
                    <a:pt x="418" y="88"/>
                  </a:lnTo>
                  <a:lnTo>
                    <a:pt x="430" y="70"/>
                  </a:lnTo>
                  <a:lnTo>
                    <a:pt x="444" y="56"/>
                  </a:lnTo>
                  <a:lnTo>
                    <a:pt x="461" y="44"/>
                  </a:lnTo>
                  <a:lnTo>
                    <a:pt x="479" y="34"/>
                  </a:lnTo>
                  <a:lnTo>
                    <a:pt x="497" y="26"/>
                  </a:lnTo>
                  <a:lnTo>
                    <a:pt x="517" y="19"/>
                  </a:lnTo>
                  <a:lnTo>
                    <a:pt x="538" y="15"/>
                  </a:lnTo>
                  <a:lnTo>
                    <a:pt x="560" y="11"/>
                  </a:lnTo>
                  <a:lnTo>
                    <a:pt x="582" y="9"/>
                  </a:lnTo>
                  <a:lnTo>
                    <a:pt x="605" y="7"/>
                  </a:lnTo>
                  <a:lnTo>
                    <a:pt x="629" y="6"/>
                  </a:lnTo>
                  <a:lnTo>
                    <a:pt x="652" y="6"/>
                  </a:lnTo>
                  <a:lnTo>
                    <a:pt x="675" y="5"/>
                  </a:lnTo>
                  <a:lnTo>
                    <a:pt x="698" y="4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292160" y="3893400"/>
              <a:ext cx="32040" cy="155520"/>
            </a:xfrm>
            <a:custGeom>
              <a:avLst/>
              <a:gdLst/>
              <a:ahLst/>
              <a:rect l="l" t="t" r="r" b="b"/>
              <a:pathLst>
                <a:path w="62" h="307">
                  <a:moveTo>
                    <a:pt x="62" y="307"/>
                  </a:moveTo>
                  <a:lnTo>
                    <a:pt x="62" y="307"/>
                  </a:lnTo>
                  <a:lnTo>
                    <a:pt x="62" y="264"/>
                  </a:lnTo>
                  <a:lnTo>
                    <a:pt x="62" y="224"/>
                  </a:lnTo>
                  <a:lnTo>
                    <a:pt x="59" y="187"/>
                  </a:lnTo>
                  <a:lnTo>
                    <a:pt x="56" y="148"/>
                  </a:lnTo>
                  <a:lnTo>
                    <a:pt x="49" y="110"/>
                  </a:lnTo>
                  <a:lnTo>
                    <a:pt x="41" y="72"/>
                  </a:lnTo>
                  <a:lnTo>
                    <a:pt x="32" y="37"/>
                  </a:lnTo>
                  <a:lnTo>
                    <a:pt x="21" y="0"/>
                  </a:lnTo>
                  <a:lnTo>
                    <a:pt x="0" y="6"/>
                  </a:lnTo>
                  <a:lnTo>
                    <a:pt x="10" y="42"/>
                  </a:lnTo>
                  <a:lnTo>
                    <a:pt x="20" y="77"/>
                  </a:lnTo>
                  <a:lnTo>
                    <a:pt x="28" y="112"/>
                  </a:lnTo>
                  <a:lnTo>
                    <a:pt x="35" y="150"/>
                  </a:lnTo>
                  <a:lnTo>
                    <a:pt x="38" y="187"/>
                  </a:lnTo>
                  <a:lnTo>
                    <a:pt x="41" y="224"/>
                  </a:lnTo>
                  <a:lnTo>
                    <a:pt x="41" y="264"/>
                  </a:lnTo>
                  <a:lnTo>
                    <a:pt x="41" y="307"/>
                  </a:lnTo>
                  <a:lnTo>
                    <a:pt x="41" y="307"/>
                  </a:lnTo>
                  <a:lnTo>
                    <a:pt x="6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13760" y="4048920"/>
              <a:ext cx="21240" cy="795240"/>
            </a:xfrm>
            <a:custGeom>
              <a:avLst/>
              <a:gdLst/>
              <a:ahLst/>
              <a:rect l="l" t="t" r="r" b="b"/>
              <a:pathLst>
                <a:path w="42" h="1561">
                  <a:moveTo>
                    <a:pt x="39" y="1561"/>
                  </a:moveTo>
                  <a:lnTo>
                    <a:pt x="39" y="1561"/>
                  </a:lnTo>
                  <a:lnTo>
                    <a:pt x="42" y="1371"/>
                  </a:lnTo>
                  <a:lnTo>
                    <a:pt x="41" y="1178"/>
                  </a:lnTo>
                  <a:lnTo>
                    <a:pt x="37" y="981"/>
                  </a:lnTo>
                  <a:lnTo>
                    <a:pt x="32" y="782"/>
                  </a:lnTo>
                  <a:lnTo>
                    <a:pt x="27" y="585"/>
                  </a:lnTo>
                  <a:lnTo>
                    <a:pt x="22" y="386"/>
                  </a:lnTo>
                  <a:lnTo>
                    <a:pt x="21" y="192"/>
                  </a:lnTo>
                  <a:lnTo>
                    <a:pt x="24" y="0"/>
                  </a:lnTo>
                  <a:lnTo>
                    <a:pt x="3" y="0"/>
                  </a:lnTo>
                  <a:lnTo>
                    <a:pt x="0" y="192"/>
                  </a:lnTo>
                  <a:lnTo>
                    <a:pt x="1" y="386"/>
                  </a:lnTo>
                  <a:lnTo>
                    <a:pt x="6" y="585"/>
                  </a:lnTo>
                  <a:lnTo>
                    <a:pt x="10" y="782"/>
                  </a:lnTo>
                  <a:lnTo>
                    <a:pt x="16" y="981"/>
                  </a:lnTo>
                  <a:lnTo>
                    <a:pt x="20" y="1178"/>
                  </a:lnTo>
                  <a:lnTo>
                    <a:pt x="21" y="1371"/>
                  </a:lnTo>
                  <a:lnTo>
                    <a:pt x="18" y="1561"/>
                  </a:lnTo>
                  <a:lnTo>
                    <a:pt x="18" y="1561"/>
                  </a:lnTo>
                  <a:lnTo>
                    <a:pt x="39" y="15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297920" y="4844160"/>
              <a:ext cx="34560" cy="561600"/>
            </a:xfrm>
            <a:custGeom>
              <a:avLst/>
              <a:gdLst/>
              <a:ahLst/>
              <a:rect l="l" t="t" r="r" b="b"/>
              <a:pathLst>
                <a:path w="68" h="1098">
                  <a:moveTo>
                    <a:pt x="10" y="1098"/>
                  </a:moveTo>
                  <a:lnTo>
                    <a:pt x="15" y="1097"/>
                  </a:lnTo>
                  <a:lnTo>
                    <a:pt x="36" y="1051"/>
                  </a:lnTo>
                  <a:lnTo>
                    <a:pt x="47" y="961"/>
                  </a:lnTo>
                  <a:lnTo>
                    <a:pt x="53" y="833"/>
                  </a:lnTo>
                  <a:lnTo>
                    <a:pt x="57" y="678"/>
                  </a:lnTo>
                  <a:lnTo>
                    <a:pt x="59" y="506"/>
                  </a:lnTo>
                  <a:lnTo>
                    <a:pt x="62" y="328"/>
                  </a:lnTo>
                  <a:lnTo>
                    <a:pt x="64" y="156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3" y="156"/>
                  </a:lnTo>
                  <a:lnTo>
                    <a:pt x="40" y="328"/>
                  </a:lnTo>
                  <a:lnTo>
                    <a:pt x="38" y="506"/>
                  </a:lnTo>
                  <a:lnTo>
                    <a:pt x="36" y="678"/>
                  </a:lnTo>
                  <a:lnTo>
                    <a:pt x="32" y="833"/>
                  </a:lnTo>
                  <a:lnTo>
                    <a:pt x="26" y="961"/>
                  </a:lnTo>
                  <a:lnTo>
                    <a:pt x="15" y="1049"/>
                  </a:lnTo>
                  <a:lnTo>
                    <a:pt x="6" y="1078"/>
                  </a:lnTo>
                  <a:lnTo>
                    <a:pt x="10" y="1077"/>
                  </a:lnTo>
                  <a:lnTo>
                    <a:pt x="6" y="1078"/>
                  </a:lnTo>
                  <a:lnTo>
                    <a:pt x="0" y="1084"/>
                  </a:lnTo>
                  <a:lnTo>
                    <a:pt x="1" y="1092"/>
                  </a:lnTo>
                  <a:lnTo>
                    <a:pt x="7" y="1097"/>
                  </a:lnTo>
                  <a:lnTo>
                    <a:pt x="15" y="1097"/>
                  </a:lnTo>
                  <a:lnTo>
                    <a:pt x="10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061760" y="5321520"/>
              <a:ext cx="241560" cy="84240"/>
            </a:xfrm>
            <a:custGeom>
              <a:avLst/>
              <a:gdLst/>
              <a:ahLst/>
              <a:rect l="l" t="t" r="r" b="b"/>
              <a:pathLst>
                <a:path w="451" h="162">
                  <a:moveTo>
                    <a:pt x="0" y="9"/>
                  </a:moveTo>
                  <a:lnTo>
                    <a:pt x="7" y="19"/>
                  </a:lnTo>
                  <a:lnTo>
                    <a:pt x="28" y="27"/>
                  </a:lnTo>
                  <a:lnTo>
                    <a:pt x="52" y="38"/>
                  </a:lnTo>
                  <a:lnTo>
                    <a:pt x="78" y="48"/>
                  </a:lnTo>
                  <a:lnTo>
                    <a:pt x="104" y="61"/>
                  </a:lnTo>
                  <a:lnTo>
                    <a:pt x="133" y="73"/>
                  </a:lnTo>
                  <a:lnTo>
                    <a:pt x="163" y="84"/>
                  </a:lnTo>
                  <a:lnTo>
                    <a:pt x="192" y="96"/>
                  </a:lnTo>
                  <a:lnTo>
                    <a:pt x="223" y="107"/>
                  </a:lnTo>
                  <a:lnTo>
                    <a:pt x="253" y="120"/>
                  </a:lnTo>
                  <a:lnTo>
                    <a:pt x="285" y="130"/>
                  </a:lnTo>
                  <a:lnTo>
                    <a:pt x="316" y="138"/>
                  </a:lnTo>
                  <a:lnTo>
                    <a:pt x="345" y="147"/>
                  </a:lnTo>
                  <a:lnTo>
                    <a:pt x="375" y="153"/>
                  </a:lnTo>
                  <a:lnTo>
                    <a:pt x="401" y="157"/>
                  </a:lnTo>
                  <a:lnTo>
                    <a:pt x="428" y="161"/>
                  </a:lnTo>
                  <a:lnTo>
                    <a:pt x="451" y="162"/>
                  </a:lnTo>
                  <a:lnTo>
                    <a:pt x="451" y="141"/>
                  </a:lnTo>
                  <a:lnTo>
                    <a:pt x="428" y="140"/>
                  </a:lnTo>
                  <a:lnTo>
                    <a:pt x="403" y="136"/>
                  </a:lnTo>
                  <a:lnTo>
                    <a:pt x="377" y="132"/>
                  </a:lnTo>
                  <a:lnTo>
                    <a:pt x="349" y="126"/>
                  </a:lnTo>
                  <a:lnTo>
                    <a:pt x="320" y="117"/>
                  </a:lnTo>
                  <a:lnTo>
                    <a:pt x="289" y="108"/>
                  </a:lnTo>
                  <a:lnTo>
                    <a:pt x="260" y="98"/>
                  </a:lnTo>
                  <a:lnTo>
                    <a:pt x="229" y="88"/>
                  </a:lnTo>
                  <a:lnTo>
                    <a:pt x="198" y="77"/>
                  </a:lnTo>
                  <a:lnTo>
                    <a:pt x="170" y="65"/>
                  </a:lnTo>
                  <a:lnTo>
                    <a:pt x="140" y="54"/>
                  </a:lnTo>
                  <a:lnTo>
                    <a:pt x="112" y="42"/>
                  </a:lnTo>
                  <a:lnTo>
                    <a:pt x="84" y="30"/>
                  </a:lnTo>
                  <a:lnTo>
                    <a:pt x="59" y="20"/>
                  </a:lnTo>
                  <a:lnTo>
                    <a:pt x="35" y="9"/>
                  </a:lnTo>
                  <a:lnTo>
                    <a:pt x="14" y="0"/>
                  </a:lnTo>
                  <a:lnTo>
                    <a:pt x="21" y="9"/>
                  </a:lnTo>
                  <a:lnTo>
                    <a:pt x="14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1" y="13"/>
                  </a:lnTo>
                  <a:lnTo>
                    <a:pt x="7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061760" y="4760280"/>
              <a:ext cx="42480" cy="566280"/>
            </a:xfrm>
            <a:custGeom>
              <a:avLst/>
              <a:gdLst/>
              <a:ahLst/>
              <a:rect l="l" t="t" r="r" b="b"/>
              <a:pathLst>
                <a:path w="80" h="1112">
                  <a:moveTo>
                    <a:pt x="65" y="22"/>
                  </a:moveTo>
                  <a:lnTo>
                    <a:pt x="59" y="11"/>
                  </a:lnTo>
                  <a:lnTo>
                    <a:pt x="0" y="1112"/>
                  </a:lnTo>
                  <a:lnTo>
                    <a:pt x="21" y="1112"/>
                  </a:lnTo>
                  <a:lnTo>
                    <a:pt x="80" y="11"/>
                  </a:lnTo>
                  <a:lnTo>
                    <a:pt x="73" y="0"/>
                  </a:lnTo>
                  <a:lnTo>
                    <a:pt x="80" y="11"/>
                  </a:lnTo>
                  <a:lnTo>
                    <a:pt x="76" y="3"/>
                  </a:lnTo>
                  <a:lnTo>
                    <a:pt x="70" y="0"/>
                  </a:lnTo>
                  <a:lnTo>
                    <a:pt x="62" y="3"/>
                  </a:lnTo>
                  <a:lnTo>
                    <a:pt x="59" y="11"/>
                  </a:lnTo>
                  <a:lnTo>
                    <a:pt x="6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905880" y="4701240"/>
              <a:ext cx="192600" cy="69120"/>
            </a:xfrm>
            <a:custGeom>
              <a:avLst/>
              <a:gdLst/>
              <a:ahLst/>
              <a:rect l="l" t="t" r="r" b="b"/>
              <a:pathLst>
                <a:path w="361" h="137">
                  <a:moveTo>
                    <a:pt x="3" y="7"/>
                  </a:moveTo>
                  <a:lnTo>
                    <a:pt x="4" y="6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54"/>
                  </a:lnTo>
                  <a:lnTo>
                    <a:pt x="31" y="65"/>
                  </a:lnTo>
                  <a:lnTo>
                    <a:pt x="51" y="73"/>
                  </a:lnTo>
                  <a:lnTo>
                    <a:pt x="75" y="82"/>
                  </a:lnTo>
                  <a:lnTo>
                    <a:pt x="99" y="87"/>
                  </a:lnTo>
                  <a:lnTo>
                    <a:pt x="127" y="93"/>
                  </a:lnTo>
                  <a:lnTo>
                    <a:pt x="157" y="98"/>
                  </a:lnTo>
                  <a:lnTo>
                    <a:pt x="188" y="104"/>
                  </a:lnTo>
                  <a:lnTo>
                    <a:pt x="218" y="108"/>
                  </a:lnTo>
                  <a:lnTo>
                    <a:pt x="249" y="113"/>
                  </a:lnTo>
                  <a:lnTo>
                    <a:pt x="278" y="118"/>
                  </a:lnTo>
                  <a:lnTo>
                    <a:pt x="307" y="124"/>
                  </a:lnTo>
                  <a:lnTo>
                    <a:pt x="331" y="130"/>
                  </a:lnTo>
                  <a:lnTo>
                    <a:pt x="353" y="137"/>
                  </a:lnTo>
                  <a:lnTo>
                    <a:pt x="361" y="115"/>
                  </a:lnTo>
                  <a:lnTo>
                    <a:pt x="336" y="108"/>
                  </a:lnTo>
                  <a:lnTo>
                    <a:pt x="309" y="103"/>
                  </a:lnTo>
                  <a:lnTo>
                    <a:pt x="281" y="96"/>
                  </a:lnTo>
                  <a:lnTo>
                    <a:pt x="251" y="92"/>
                  </a:lnTo>
                  <a:lnTo>
                    <a:pt x="220" y="87"/>
                  </a:lnTo>
                  <a:lnTo>
                    <a:pt x="190" y="83"/>
                  </a:lnTo>
                  <a:lnTo>
                    <a:pt x="159" y="76"/>
                  </a:lnTo>
                  <a:lnTo>
                    <a:pt x="130" y="72"/>
                  </a:lnTo>
                  <a:lnTo>
                    <a:pt x="104" y="66"/>
                  </a:lnTo>
                  <a:lnTo>
                    <a:pt x="79" y="61"/>
                  </a:lnTo>
                  <a:lnTo>
                    <a:pt x="58" y="54"/>
                  </a:lnTo>
                  <a:lnTo>
                    <a:pt x="41" y="46"/>
                  </a:lnTo>
                  <a:lnTo>
                    <a:pt x="28" y="37"/>
                  </a:lnTo>
                  <a:lnTo>
                    <a:pt x="23" y="31"/>
                  </a:lnTo>
                  <a:lnTo>
                    <a:pt x="21" y="2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3" y="5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908400" y="3946680"/>
              <a:ext cx="225720" cy="759960"/>
            </a:xfrm>
            <a:custGeom>
              <a:avLst/>
              <a:gdLst/>
              <a:ahLst/>
              <a:rect l="l" t="t" r="r" b="b"/>
              <a:pathLst>
                <a:path w="423" h="1490">
                  <a:moveTo>
                    <a:pt x="405" y="0"/>
                  </a:moveTo>
                  <a:lnTo>
                    <a:pt x="405" y="0"/>
                  </a:lnTo>
                  <a:lnTo>
                    <a:pt x="374" y="86"/>
                  </a:lnTo>
                  <a:lnTo>
                    <a:pt x="341" y="174"/>
                  </a:lnTo>
                  <a:lnTo>
                    <a:pt x="314" y="263"/>
                  </a:lnTo>
                  <a:lnTo>
                    <a:pt x="288" y="353"/>
                  </a:lnTo>
                  <a:lnTo>
                    <a:pt x="264" y="445"/>
                  </a:lnTo>
                  <a:lnTo>
                    <a:pt x="241" y="536"/>
                  </a:lnTo>
                  <a:lnTo>
                    <a:pt x="217" y="628"/>
                  </a:lnTo>
                  <a:lnTo>
                    <a:pt x="195" y="723"/>
                  </a:lnTo>
                  <a:lnTo>
                    <a:pt x="173" y="817"/>
                  </a:lnTo>
                  <a:lnTo>
                    <a:pt x="152" y="911"/>
                  </a:lnTo>
                  <a:lnTo>
                    <a:pt x="130" y="1007"/>
                  </a:lnTo>
                  <a:lnTo>
                    <a:pt x="105" y="1102"/>
                  </a:lnTo>
                  <a:lnTo>
                    <a:pt x="82" y="1199"/>
                  </a:lnTo>
                  <a:lnTo>
                    <a:pt x="57" y="1294"/>
                  </a:lnTo>
                  <a:lnTo>
                    <a:pt x="29" y="1390"/>
                  </a:lnTo>
                  <a:lnTo>
                    <a:pt x="0" y="1485"/>
                  </a:lnTo>
                  <a:lnTo>
                    <a:pt x="21" y="1490"/>
                  </a:lnTo>
                  <a:lnTo>
                    <a:pt x="50" y="1394"/>
                  </a:lnTo>
                  <a:lnTo>
                    <a:pt x="78" y="1299"/>
                  </a:lnTo>
                  <a:lnTo>
                    <a:pt x="103" y="1203"/>
                  </a:lnTo>
                  <a:lnTo>
                    <a:pt x="127" y="1108"/>
                  </a:lnTo>
                  <a:lnTo>
                    <a:pt x="151" y="1012"/>
                  </a:lnTo>
                  <a:lnTo>
                    <a:pt x="173" y="917"/>
                  </a:lnTo>
                  <a:lnTo>
                    <a:pt x="194" y="823"/>
                  </a:lnTo>
                  <a:lnTo>
                    <a:pt x="216" y="728"/>
                  </a:lnTo>
                  <a:lnTo>
                    <a:pt x="238" y="634"/>
                  </a:lnTo>
                  <a:lnTo>
                    <a:pt x="262" y="542"/>
                  </a:lnTo>
                  <a:lnTo>
                    <a:pt x="285" y="450"/>
                  </a:lnTo>
                  <a:lnTo>
                    <a:pt x="309" y="357"/>
                  </a:lnTo>
                  <a:lnTo>
                    <a:pt x="336" y="267"/>
                  </a:lnTo>
                  <a:lnTo>
                    <a:pt x="363" y="180"/>
                  </a:lnTo>
                  <a:lnTo>
                    <a:pt x="392" y="93"/>
                  </a:lnTo>
                  <a:lnTo>
                    <a:pt x="423" y="7"/>
                  </a:lnTo>
                  <a:lnTo>
                    <a:pt x="423" y="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126200" y="3888000"/>
              <a:ext cx="176760" cy="63360"/>
            </a:xfrm>
            <a:custGeom>
              <a:avLst/>
              <a:gdLst/>
              <a:ahLst/>
              <a:rect l="l" t="t" r="r" b="b"/>
              <a:pathLst>
                <a:path w="333" h="123">
                  <a:moveTo>
                    <a:pt x="333" y="8"/>
                  </a:moveTo>
                  <a:lnTo>
                    <a:pt x="322" y="0"/>
                  </a:lnTo>
                  <a:lnTo>
                    <a:pt x="300" y="3"/>
                  </a:lnTo>
                  <a:lnTo>
                    <a:pt x="277" y="4"/>
                  </a:lnTo>
                  <a:lnTo>
                    <a:pt x="254" y="5"/>
                  </a:lnTo>
                  <a:lnTo>
                    <a:pt x="231" y="5"/>
                  </a:lnTo>
                  <a:lnTo>
                    <a:pt x="207" y="6"/>
                  </a:lnTo>
                  <a:lnTo>
                    <a:pt x="184" y="8"/>
                  </a:lnTo>
                  <a:lnTo>
                    <a:pt x="160" y="10"/>
                  </a:lnTo>
                  <a:lnTo>
                    <a:pt x="139" y="15"/>
                  </a:lnTo>
                  <a:lnTo>
                    <a:pt x="116" y="19"/>
                  </a:lnTo>
                  <a:lnTo>
                    <a:pt x="95" y="26"/>
                  </a:lnTo>
                  <a:lnTo>
                    <a:pt x="75" y="35"/>
                  </a:lnTo>
                  <a:lnTo>
                    <a:pt x="56" y="45"/>
                  </a:lnTo>
                  <a:lnTo>
                    <a:pt x="38" y="58"/>
                  </a:lnTo>
                  <a:lnTo>
                    <a:pt x="24" y="74"/>
                  </a:lnTo>
                  <a:lnTo>
                    <a:pt x="11" y="94"/>
                  </a:lnTo>
                  <a:lnTo>
                    <a:pt x="0" y="116"/>
                  </a:lnTo>
                  <a:lnTo>
                    <a:pt x="18" y="123"/>
                  </a:lnTo>
                  <a:lnTo>
                    <a:pt x="30" y="103"/>
                  </a:lnTo>
                  <a:lnTo>
                    <a:pt x="40" y="88"/>
                  </a:lnTo>
                  <a:lnTo>
                    <a:pt x="53" y="75"/>
                  </a:lnTo>
                  <a:lnTo>
                    <a:pt x="68" y="61"/>
                  </a:lnTo>
                  <a:lnTo>
                    <a:pt x="85" y="54"/>
                  </a:lnTo>
                  <a:lnTo>
                    <a:pt x="103" y="45"/>
                  </a:lnTo>
                  <a:lnTo>
                    <a:pt x="122" y="40"/>
                  </a:lnTo>
                  <a:lnTo>
                    <a:pt x="142" y="36"/>
                  </a:lnTo>
                  <a:lnTo>
                    <a:pt x="163" y="33"/>
                  </a:lnTo>
                  <a:lnTo>
                    <a:pt x="184" y="29"/>
                  </a:lnTo>
                  <a:lnTo>
                    <a:pt x="207" y="27"/>
                  </a:lnTo>
                  <a:lnTo>
                    <a:pt x="231" y="26"/>
                  </a:lnTo>
                  <a:lnTo>
                    <a:pt x="254" y="26"/>
                  </a:lnTo>
                  <a:lnTo>
                    <a:pt x="277" y="25"/>
                  </a:lnTo>
                  <a:lnTo>
                    <a:pt x="300" y="24"/>
                  </a:lnTo>
                  <a:lnTo>
                    <a:pt x="322" y="21"/>
                  </a:lnTo>
                  <a:lnTo>
                    <a:pt x="312" y="14"/>
                  </a:lnTo>
                  <a:lnTo>
                    <a:pt x="322" y="21"/>
                  </a:lnTo>
                  <a:lnTo>
                    <a:pt x="331" y="18"/>
                  </a:lnTo>
                  <a:lnTo>
                    <a:pt x="333" y="10"/>
                  </a:lnTo>
                  <a:lnTo>
                    <a:pt x="331" y="4"/>
                  </a:lnTo>
                  <a:lnTo>
                    <a:pt x="322" y="0"/>
                  </a:lnTo>
                  <a:lnTo>
                    <a:pt x="3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434720" y="3890520"/>
              <a:ext cx="69120" cy="535320"/>
            </a:xfrm>
            <a:custGeom>
              <a:avLst/>
              <a:gdLst/>
              <a:ahLst/>
              <a:rect l="l" t="t" r="r" b="b"/>
              <a:pathLst>
                <a:path w="132" h="1049">
                  <a:moveTo>
                    <a:pt x="62" y="2"/>
                  </a:moveTo>
                  <a:lnTo>
                    <a:pt x="73" y="32"/>
                  </a:lnTo>
                  <a:lnTo>
                    <a:pt x="83" y="72"/>
                  </a:lnTo>
                  <a:lnTo>
                    <a:pt x="95" y="120"/>
                  </a:lnTo>
                  <a:lnTo>
                    <a:pt x="105" y="174"/>
                  </a:lnTo>
                  <a:lnTo>
                    <a:pt x="115" y="230"/>
                  </a:lnTo>
                  <a:lnTo>
                    <a:pt x="123" y="285"/>
                  </a:lnTo>
                  <a:lnTo>
                    <a:pt x="130" y="338"/>
                  </a:lnTo>
                  <a:lnTo>
                    <a:pt x="132" y="384"/>
                  </a:lnTo>
                  <a:lnTo>
                    <a:pt x="130" y="392"/>
                  </a:lnTo>
                  <a:lnTo>
                    <a:pt x="124" y="396"/>
                  </a:lnTo>
                  <a:lnTo>
                    <a:pt x="118" y="401"/>
                  </a:lnTo>
                  <a:lnTo>
                    <a:pt x="110" y="403"/>
                  </a:lnTo>
                  <a:lnTo>
                    <a:pt x="101" y="406"/>
                  </a:lnTo>
                  <a:lnTo>
                    <a:pt x="93" y="409"/>
                  </a:lnTo>
                  <a:lnTo>
                    <a:pt x="87" y="414"/>
                  </a:lnTo>
                  <a:lnTo>
                    <a:pt x="84" y="419"/>
                  </a:lnTo>
                  <a:lnTo>
                    <a:pt x="92" y="426"/>
                  </a:lnTo>
                  <a:lnTo>
                    <a:pt x="100" y="430"/>
                  </a:lnTo>
                  <a:lnTo>
                    <a:pt x="109" y="434"/>
                  </a:lnTo>
                  <a:lnTo>
                    <a:pt x="116" y="437"/>
                  </a:lnTo>
                  <a:lnTo>
                    <a:pt x="123" y="440"/>
                  </a:lnTo>
                  <a:lnTo>
                    <a:pt x="130" y="448"/>
                  </a:lnTo>
                  <a:lnTo>
                    <a:pt x="132" y="456"/>
                  </a:lnTo>
                  <a:lnTo>
                    <a:pt x="131" y="469"/>
                  </a:lnTo>
                  <a:lnTo>
                    <a:pt x="122" y="534"/>
                  </a:lnTo>
                  <a:lnTo>
                    <a:pt x="116" y="599"/>
                  </a:lnTo>
                  <a:lnTo>
                    <a:pt x="111" y="663"/>
                  </a:lnTo>
                  <a:lnTo>
                    <a:pt x="104" y="728"/>
                  </a:lnTo>
                  <a:lnTo>
                    <a:pt x="98" y="791"/>
                  </a:lnTo>
                  <a:lnTo>
                    <a:pt x="90" y="855"/>
                  </a:lnTo>
                  <a:lnTo>
                    <a:pt x="80" y="918"/>
                  </a:lnTo>
                  <a:lnTo>
                    <a:pt x="67" y="980"/>
                  </a:lnTo>
                  <a:lnTo>
                    <a:pt x="63" y="998"/>
                  </a:lnTo>
                  <a:lnTo>
                    <a:pt x="57" y="1015"/>
                  </a:lnTo>
                  <a:lnTo>
                    <a:pt x="49" y="1032"/>
                  </a:lnTo>
                  <a:lnTo>
                    <a:pt x="46" y="1049"/>
                  </a:lnTo>
                  <a:lnTo>
                    <a:pt x="41" y="880"/>
                  </a:lnTo>
                  <a:lnTo>
                    <a:pt x="30" y="705"/>
                  </a:lnTo>
                  <a:lnTo>
                    <a:pt x="19" y="530"/>
                  </a:lnTo>
                  <a:lnTo>
                    <a:pt x="14" y="358"/>
                  </a:lnTo>
                  <a:lnTo>
                    <a:pt x="11" y="278"/>
                  </a:lnTo>
                  <a:lnTo>
                    <a:pt x="7" y="193"/>
                  </a:lnTo>
                  <a:lnTo>
                    <a:pt x="2" y="111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9" y="23"/>
                  </a:lnTo>
                  <a:lnTo>
                    <a:pt x="18" y="16"/>
                  </a:lnTo>
                  <a:lnTo>
                    <a:pt x="28" y="11"/>
                  </a:lnTo>
                  <a:lnTo>
                    <a:pt x="39" y="4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461360" y="3890520"/>
              <a:ext cx="47880" cy="196560"/>
            </a:xfrm>
            <a:custGeom>
              <a:avLst/>
              <a:gdLst/>
              <a:ahLst/>
              <a:rect l="l" t="t" r="r" b="b"/>
              <a:pathLst>
                <a:path w="89" h="385">
                  <a:moveTo>
                    <a:pt x="89" y="385"/>
                  </a:moveTo>
                  <a:lnTo>
                    <a:pt x="89" y="385"/>
                  </a:lnTo>
                  <a:lnTo>
                    <a:pt x="87" y="339"/>
                  </a:lnTo>
                  <a:lnTo>
                    <a:pt x="81" y="285"/>
                  </a:lnTo>
                  <a:lnTo>
                    <a:pt x="72" y="229"/>
                  </a:lnTo>
                  <a:lnTo>
                    <a:pt x="63" y="174"/>
                  </a:lnTo>
                  <a:lnTo>
                    <a:pt x="52" y="120"/>
                  </a:lnTo>
                  <a:lnTo>
                    <a:pt x="41" y="71"/>
                  </a:lnTo>
                  <a:lnTo>
                    <a:pt x="30" y="31"/>
                  </a:lnTo>
                  <a:lnTo>
                    <a:pt x="19" y="0"/>
                  </a:lnTo>
                  <a:lnTo>
                    <a:pt x="0" y="6"/>
                  </a:lnTo>
                  <a:lnTo>
                    <a:pt x="9" y="35"/>
                  </a:lnTo>
                  <a:lnTo>
                    <a:pt x="20" y="75"/>
                  </a:lnTo>
                  <a:lnTo>
                    <a:pt x="31" y="123"/>
                  </a:lnTo>
                  <a:lnTo>
                    <a:pt x="42" y="176"/>
                  </a:lnTo>
                  <a:lnTo>
                    <a:pt x="51" y="232"/>
                  </a:lnTo>
                  <a:lnTo>
                    <a:pt x="60" y="287"/>
                  </a:lnTo>
                  <a:lnTo>
                    <a:pt x="66" y="339"/>
                  </a:lnTo>
                  <a:lnTo>
                    <a:pt x="68" y="385"/>
                  </a:lnTo>
                  <a:lnTo>
                    <a:pt x="68" y="385"/>
                  </a:lnTo>
                  <a:lnTo>
                    <a:pt x="89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471800" y="4087080"/>
              <a:ext cx="37440" cy="2232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19" y="29"/>
                  </a:moveTo>
                  <a:lnTo>
                    <a:pt x="21" y="37"/>
                  </a:lnTo>
                  <a:lnTo>
                    <a:pt x="21" y="35"/>
                  </a:lnTo>
                  <a:lnTo>
                    <a:pt x="24" y="34"/>
                  </a:lnTo>
                  <a:lnTo>
                    <a:pt x="30" y="31"/>
                  </a:lnTo>
                  <a:lnTo>
                    <a:pt x="38" y="30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5" y="12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6" y="3"/>
                  </a:lnTo>
                  <a:lnTo>
                    <a:pt x="45" y="4"/>
                  </a:lnTo>
                  <a:lnTo>
                    <a:pt x="40" y="8"/>
                  </a:lnTo>
                  <a:lnTo>
                    <a:pt x="33" y="9"/>
                  </a:lnTo>
                  <a:lnTo>
                    <a:pt x="24" y="12"/>
                  </a:lnTo>
                  <a:lnTo>
                    <a:pt x="14" y="15"/>
                  </a:lnTo>
                  <a:lnTo>
                    <a:pt x="5" y="24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9" y="46"/>
                  </a:lnTo>
                  <a:lnTo>
                    <a:pt x="18" y="44"/>
                  </a:lnTo>
                  <a:lnTo>
                    <a:pt x="21" y="37"/>
                  </a:lnTo>
                  <a:lnTo>
                    <a:pt x="1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474680" y="4099680"/>
              <a:ext cx="34560" cy="3564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64" y="57"/>
                  </a:moveTo>
                  <a:lnTo>
                    <a:pt x="64" y="57"/>
                  </a:lnTo>
                  <a:lnTo>
                    <a:pt x="65" y="43"/>
                  </a:lnTo>
                  <a:lnTo>
                    <a:pt x="62" y="31"/>
                  </a:lnTo>
                  <a:lnTo>
                    <a:pt x="53" y="20"/>
                  </a:lnTo>
                  <a:lnTo>
                    <a:pt x="43" y="15"/>
                  </a:lnTo>
                  <a:lnTo>
                    <a:pt x="35" y="12"/>
                  </a:lnTo>
                  <a:lnTo>
                    <a:pt x="27" y="8"/>
                  </a:lnTo>
                  <a:lnTo>
                    <a:pt x="21" y="4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8" y="21"/>
                  </a:lnTo>
                  <a:lnTo>
                    <a:pt x="18" y="26"/>
                  </a:lnTo>
                  <a:lnTo>
                    <a:pt x="27" y="31"/>
                  </a:lnTo>
                  <a:lnTo>
                    <a:pt x="36" y="34"/>
                  </a:lnTo>
                  <a:lnTo>
                    <a:pt x="41" y="36"/>
                  </a:lnTo>
                  <a:lnTo>
                    <a:pt x="43" y="40"/>
                  </a:lnTo>
                  <a:lnTo>
                    <a:pt x="44" y="43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5" y="63"/>
                  </a:lnTo>
                  <a:lnTo>
                    <a:pt x="53" y="67"/>
                  </a:lnTo>
                  <a:lnTo>
                    <a:pt x="61" y="64"/>
                  </a:lnTo>
                  <a:lnTo>
                    <a:pt x="64" y="57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463880" y="4127400"/>
              <a:ext cx="45360" cy="262440"/>
            </a:xfrm>
            <a:custGeom>
              <a:avLst/>
              <a:gdLst/>
              <a:ahLst/>
              <a:rect l="l" t="t" r="r" b="b"/>
              <a:pathLst>
                <a:path w="84" h="514">
                  <a:moveTo>
                    <a:pt x="21" y="512"/>
                  </a:moveTo>
                  <a:lnTo>
                    <a:pt x="21" y="514"/>
                  </a:lnTo>
                  <a:lnTo>
                    <a:pt x="34" y="451"/>
                  </a:lnTo>
                  <a:lnTo>
                    <a:pt x="43" y="388"/>
                  </a:lnTo>
                  <a:lnTo>
                    <a:pt x="52" y="324"/>
                  </a:lnTo>
                  <a:lnTo>
                    <a:pt x="58" y="260"/>
                  </a:lnTo>
                  <a:lnTo>
                    <a:pt x="64" y="195"/>
                  </a:lnTo>
                  <a:lnTo>
                    <a:pt x="71" y="131"/>
                  </a:lnTo>
                  <a:lnTo>
                    <a:pt x="76" y="67"/>
                  </a:lnTo>
                  <a:lnTo>
                    <a:pt x="84" y="2"/>
                  </a:lnTo>
                  <a:lnTo>
                    <a:pt x="63" y="0"/>
                  </a:lnTo>
                  <a:lnTo>
                    <a:pt x="55" y="65"/>
                  </a:lnTo>
                  <a:lnTo>
                    <a:pt x="48" y="131"/>
                  </a:lnTo>
                  <a:lnTo>
                    <a:pt x="43" y="195"/>
                  </a:lnTo>
                  <a:lnTo>
                    <a:pt x="37" y="260"/>
                  </a:lnTo>
                  <a:lnTo>
                    <a:pt x="30" y="322"/>
                  </a:lnTo>
                  <a:lnTo>
                    <a:pt x="22" y="386"/>
                  </a:lnTo>
                  <a:lnTo>
                    <a:pt x="12" y="449"/>
                  </a:lnTo>
                  <a:lnTo>
                    <a:pt x="0" y="510"/>
                  </a:lnTo>
                  <a:lnTo>
                    <a:pt x="0" y="512"/>
                  </a:lnTo>
                  <a:lnTo>
                    <a:pt x="21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453440" y="4390200"/>
              <a:ext cx="21240" cy="41040"/>
            </a:xfrm>
            <a:custGeom>
              <a:avLst/>
              <a:gdLst/>
              <a:ahLst/>
              <a:rect l="l" t="t" r="r" b="b"/>
              <a:pathLst>
                <a:path w="42" h="79">
                  <a:moveTo>
                    <a:pt x="0" y="69"/>
                  </a:moveTo>
                  <a:lnTo>
                    <a:pt x="21" y="69"/>
                  </a:lnTo>
                  <a:lnTo>
                    <a:pt x="24" y="54"/>
                  </a:lnTo>
                  <a:lnTo>
                    <a:pt x="29" y="38"/>
                  </a:lnTo>
                  <a:lnTo>
                    <a:pt x="38" y="2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7" y="16"/>
                  </a:lnTo>
                  <a:lnTo>
                    <a:pt x="11" y="31"/>
                  </a:lnTo>
                  <a:lnTo>
                    <a:pt x="3" y="50"/>
                  </a:lnTo>
                  <a:lnTo>
                    <a:pt x="0" y="69"/>
                  </a:lnTo>
                  <a:lnTo>
                    <a:pt x="21" y="69"/>
                  </a:lnTo>
                  <a:lnTo>
                    <a:pt x="0" y="69"/>
                  </a:lnTo>
                  <a:lnTo>
                    <a:pt x="3" y="77"/>
                  </a:lnTo>
                  <a:lnTo>
                    <a:pt x="10" y="79"/>
                  </a:lnTo>
                  <a:lnTo>
                    <a:pt x="17" y="77"/>
                  </a:lnTo>
                  <a:lnTo>
                    <a:pt x="21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434720" y="4071600"/>
              <a:ext cx="29160" cy="354240"/>
            </a:xfrm>
            <a:custGeom>
              <a:avLst/>
              <a:gdLst/>
              <a:ahLst/>
              <a:rect l="l" t="t" r="r" b="b"/>
              <a:pathLst>
                <a:path w="54" h="691">
                  <a:moveTo>
                    <a:pt x="0" y="0"/>
                  </a:moveTo>
                  <a:lnTo>
                    <a:pt x="0" y="0"/>
                  </a:lnTo>
                  <a:lnTo>
                    <a:pt x="5" y="172"/>
                  </a:lnTo>
                  <a:lnTo>
                    <a:pt x="17" y="347"/>
                  </a:lnTo>
                  <a:lnTo>
                    <a:pt x="27" y="522"/>
                  </a:lnTo>
                  <a:lnTo>
                    <a:pt x="33" y="691"/>
                  </a:lnTo>
                  <a:lnTo>
                    <a:pt x="54" y="691"/>
                  </a:lnTo>
                  <a:lnTo>
                    <a:pt x="49" y="522"/>
                  </a:lnTo>
                  <a:lnTo>
                    <a:pt x="38" y="347"/>
                  </a:lnTo>
                  <a:lnTo>
                    <a:pt x="26" y="17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426080" y="3903120"/>
              <a:ext cx="18720" cy="168120"/>
            </a:xfrm>
            <a:custGeom>
              <a:avLst/>
              <a:gdLst/>
              <a:ahLst/>
              <a:rect l="l" t="t" r="r" b="b"/>
              <a:pathLst>
                <a:path w="35" h="333">
                  <a:moveTo>
                    <a:pt x="0" y="9"/>
                  </a:moveTo>
                  <a:lnTo>
                    <a:pt x="0" y="11"/>
                  </a:lnTo>
                  <a:lnTo>
                    <a:pt x="2" y="86"/>
                  </a:lnTo>
                  <a:lnTo>
                    <a:pt x="8" y="168"/>
                  </a:lnTo>
                  <a:lnTo>
                    <a:pt x="12" y="253"/>
                  </a:lnTo>
                  <a:lnTo>
                    <a:pt x="14" y="333"/>
                  </a:lnTo>
                  <a:lnTo>
                    <a:pt x="35" y="333"/>
                  </a:lnTo>
                  <a:lnTo>
                    <a:pt x="33" y="253"/>
                  </a:lnTo>
                  <a:lnTo>
                    <a:pt x="29" y="168"/>
                  </a:lnTo>
                  <a:lnTo>
                    <a:pt x="23" y="86"/>
                  </a:lnTo>
                  <a:lnTo>
                    <a:pt x="21" y="11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426080" y="3885120"/>
              <a:ext cx="45360" cy="2520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83" y="9"/>
                  </a:moveTo>
                  <a:lnTo>
                    <a:pt x="80" y="4"/>
                  </a:lnTo>
                  <a:lnTo>
                    <a:pt x="68" y="0"/>
                  </a:lnTo>
                  <a:lnTo>
                    <a:pt x="57" y="1"/>
                  </a:lnTo>
                  <a:lnTo>
                    <a:pt x="47" y="5"/>
                  </a:lnTo>
                  <a:lnTo>
                    <a:pt x="34" y="11"/>
                  </a:lnTo>
                  <a:lnTo>
                    <a:pt x="22" y="19"/>
                  </a:lnTo>
                  <a:lnTo>
                    <a:pt x="13" y="26"/>
                  </a:lnTo>
                  <a:lnTo>
                    <a:pt x="7" y="34"/>
                  </a:lnTo>
                  <a:lnTo>
                    <a:pt x="0" y="44"/>
                  </a:lnTo>
                  <a:lnTo>
                    <a:pt x="21" y="49"/>
                  </a:lnTo>
                  <a:lnTo>
                    <a:pt x="22" y="46"/>
                  </a:lnTo>
                  <a:lnTo>
                    <a:pt x="28" y="41"/>
                  </a:lnTo>
                  <a:lnTo>
                    <a:pt x="34" y="34"/>
                  </a:lnTo>
                  <a:lnTo>
                    <a:pt x="44" y="30"/>
                  </a:lnTo>
                  <a:lnTo>
                    <a:pt x="53" y="24"/>
                  </a:lnTo>
                  <a:lnTo>
                    <a:pt x="61" y="22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64" y="15"/>
                  </a:lnTo>
                  <a:lnTo>
                    <a:pt x="67" y="21"/>
                  </a:lnTo>
                  <a:lnTo>
                    <a:pt x="74" y="23"/>
                  </a:lnTo>
                  <a:lnTo>
                    <a:pt x="82" y="20"/>
                  </a:lnTo>
                  <a:lnTo>
                    <a:pt x="84" y="12"/>
                  </a:lnTo>
                  <a:lnTo>
                    <a:pt x="80" y="4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281360" y="3551400"/>
              <a:ext cx="265680" cy="445680"/>
            </a:xfrm>
            <a:custGeom>
              <a:avLst/>
              <a:gdLst/>
              <a:ahLst/>
              <a:rect l="l" t="t" r="r" b="b"/>
              <a:pathLst>
                <a:path w="497" h="873">
                  <a:moveTo>
                    <a:pt x="276" y="0"/>
                  </a:moveTo>
                  <a:lnTo>
                    <a:pt x="291" y="6"/>
                  </a:lnTo>
                  <a:lnTo>
                    <a:pt x="305" y="12"/>
                  </a:lnTo>
                  <a:lnTo>
                    <a:pt x="321" y="18"/>
                  </a:lnTo>
                  <a:lnTo>
                    <a:pt x="336" y="24"/>
                  </a:lnTo>
                  <a:lnTo>
                    <a:pt x="351" y="32"/>
                  </a:lnTo>
                  <a:lnTo>
                    <a:pt x="366" y="40"/>
                  </a:lnTo>
                  <a:lnTo>
                    <a:pt x="382" y="49"/>
                  </a:lnTo>
                  <a:lnTo>
                    <a:pt x="396" y="58"/>
                  </a:lnTo>
                  <a:lnTo>
                    <a:pt x="412" y="69"/>
                  </a:lnTo>
                  <a:lnTo>
                    <a:pt x="424" y="78"/>
                  </a:lnTo>
                  <a:lnTo>
                    <a:pt x="437" y="90"/>
                  </a:lnTo>
                  <a:lnTo>
                    <a:pt x="449" y="100"/>
                  </a:lnTo>
                  <a:lnTo>
                    <a:pt x="458" y="113"/>
                  </a:lnTo>
                  <a:lnTo>
                    <a:pt x="468" y="127"/>
                  </a:lnTo>
                  <a:lnTo>
                    <a:pt x="475" y="139"/>
                  </a:lnTo>
                  <a:lnTo>
                    <a:pt x="479" y="153"/>
                  </a:lnTo>
                  <a:lnTo>
                    <a:pt x="486" y="188"/>
                  </a:lnTo>
                  <a:lnTo>
                    <a:pt x="484" y="221"/>
                  </a:lnTo>
                  <a:lnTo>
                    <a:pt x="479" y="252"/>
                  </a:lnTo>
                  <a:lnTo>
                    <a:pt x="473" y="284"/>
                  </a:lnTo>
                  <a:lnTo>
                    <a:pt x="465" y="318"/>
                  </a:lnTo>
                  <a:lnTo>
                    <a:pt x="460" y="350"/>
                  </a:lnTo>
                  <a:lnTo>
                    <a:pt x="460" y="382"/>
                  </a:lnTo>
                  <a:lnTo>
                    <a:pt x="469" y="416"/>
                  </a:lnTo>
                  <a:lnTo>
                    <a:pt x="472" y="425"/>
                  </a:lnTo>
                  <a:lnTo>
                    <a:pt x="476" y="435"/>
                  </a:lnTo>
                  <a:lnTo>
                    <a:pt x="482" y="445"/>
                  </a:lnTo>
                  <a:lnTo>
                    <a:pt x="488" y="455"/>
                  </a:lnTo>
                  <a:lnTo>
                    <a:pt x="493" y="466"/>
                  </a:lnTo>
                  <a:lnTo>
                    <a:pt x="496" y="477"/>
                  </a:lnTo>
                  <a:lnTo>
                    <a:pt x="497" y="488"/>
                  </a:lnTo>
                  <a:lnTo>
                    <a:pt x="496" y="498"/>
                  </a:lnTo>
                  <a:lnTo>
                    <a:pt x="489" y="504"/>
                  </a:lnTo>
                  <a:lnTo>
                    <a:pt x="479" y="507"/>
                  </a:lnTo>
                  <a:lnTo>
                    <a:pt x="467" y="511"/>
                  </a:lnTo>
                  <a:lnTo>
                    <a:pt x="454" y="513"/>
                  </a:lnTo>
                  <a:lnTo>
                    <a:pt x="441" y="516"/>
                  </a:lnTo>
                  <a:lnTo>
                    <a:pt x="431" y="521"/>
                  </a:lnTo>
                  <a:lnTo>
                    <a:pt x="422" y="524"/>
                  </a:lnTo>
                  <a:lnTo>
                    <a:pt x="419" y="527"/>
                  </a:lnTo>
                  <a:lnTo>
                    <a:pt x="414" y="545"/>
                  </a:lnTo>
                  <a:lnTo>
                    <a:pt x="408" y="571"/>
                  </a:lnTo>
                  <a:lnTo>
                    <a:pt x="403" y="602"/>
                  </a:lnTo>
                  <a:lnTo>
                    <a:pt x="397" y="634"/>
                  </a:lnTo>
                  <a:lnTo>
                    <a:pt x="392" y="666"/>
                  </a:lnTo>
                  <a:lnTo>
                    <a:pt x="385" y="696"/>
                  </a:lnTo>
                  <a:lnTo>
                    <a:pt x="380" y="721"/>
                  </a:lnTo>
                  <a:lnTo>
                    <a:pt x="373" y="737"/>
                  </a:lnTo>
                  <a:lnTo>
                    <a:pt x="368" y="738"/>
                  </a:lnTo>
                  <a:lnTo>
                    <a:pt x="363" y="736"/>
                  </a:lnTo>
                  <a:lnTo>
                    <a:pt x="356" y="734"/>
                  </a:lnTo>
                  <a:lnTo>
                    <a:pt x="346" y="729"/>
                  </a:lnTo>
                  <a:lnTo>
                    <a:pt x="339" y="747"/>
                  </a:lnTo>
                  <a:lnTo>
                    <a:pt x="326" y="767"/>
                  </a:lnTo>
                  <a:lnTo>
                    <a:pt x="312" y="790"/>
                  </a:lnTo>
                  <a:lnTo>
                    <a:pt x="297" y="813"/>
                  </a:lnTo>
                  <a:lnTo>
                    <a:pt x="280" y="834"/>
                  </a:lnTo>
                  <a:lnTo>
                    <a:pt x="263" y="853"/>
                  </a:lnTo>
                  <a:lnTo>
                    <a:pt x="245" y="866"/>
                  </a:lnTo>
                  <a:lnTo>
                    <a:pt x="228" y="873"/>
                  </a:lnTo>
                  <a:lnTo>
                    <a:pt x="213" y="866"/>
                  </a:lnTo>
                  <a:lnTo>
                    <a:pt x="199" y="859"/>
                  </a:lnTo>
                  <a:lnTo>
                    <a:pt x="186" y="850"/>
                  </a:lnTo>
                  <a:lnTo>
                    <a:pt x="172" y="842"/>
                  </a:lnTo>
                  <a:lnTo>
                    <a:pt x="158" y="830"/>
                  </a:lnTo>
                  <a:lnTo>
                    <a:pt x="144" y="819"/>
                  </a:lnTo>
                  <a:lnTo>
                    <a:pt x="132" y="809"/>
                  </a:lnTo>
                  <a:lnTo>
                    <a:pt x="119" y="797"/>
                  </a:lnTo>
                  <a:lnTo>
                    <a:pt x="107" y="786"/>
                  </a:lnTo>
                  <a:lnTo>
                    <a:pt x="96" y="774"/>
                  </a:lnTo>
                  <a:lnTo>
                    <a:pt x="84" y="762"/>
                  </a:lnTo>
                  <a:lnTo>
                    <a:pt x="72" y="751"/>
                  </a:lnTo>
                  <a:lnTo>
                    <a:pt x="61" y="737"/>
                  </a:lnTo>
                  <a:lnTo>
                    <a:pt x="50" y="725"/>
                  </a:lnTo>
                  <a:lnTo>
                    <a:pt x="40" y="715"/>
                  </a:lnTo>
                  <a:lnTo>
                    <a:pt x="30" y="703"/>
                  </a:lnTo>
                  <a:lnTo>
                    <a:pt x="16" y="658"/>
                  </a:lnTo>
                  <a:lnTo>
                    <a:pt x="6" y="612"/>
                  </a:lnTo>
                  <a:lnTo>
                    <a:pt x="0" y="564"/>
                  </a:lnTo>
                  <a:lnTo>
                    <a:pt x="0" y="514"/>
                  </a:lnTo>
                  <a:lnTo>
                    <a:pt x="4" y="465"/>
                  </a:lnTo>
                  <a:lnTo>
                    <a:pt x="11" y="415"/>
                  </a:lnTo>
                  <a:lnTo>
                    <a:pt x="24" y="365"/>
                  </a:lnTo>
                  <a:lnTo>
                    <a:pt x="39" y="316"/>
                  </a:lnTo>
                  <a:lnTo>
                    <a:pt x="58" y="268"/>
                  </a:lnTo>
                  <a:lnTo>
                    <a:pt x="81" y="222"/>
                  </a:lnTo>
                  <a:lnTo>
                    <a:pt x="106" y="177"/>
                  </a:lnTo>
                  <a:lnTo>
                    <a:pt x="136" y="134"/>
                  </a:lnTo>
                  <a:lnTo>
                    <a:pt x="168" y="95"/>
                  </a:lnTo>
                  <a:lnTo>
                    <a:pt x="201" y="60"/>
                  </a:lnTo>
                  <a:lnTo>
                    <a:pt x="238" y="29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ffe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429320" y="3548520"/>
              <a:ext cx="114840" cy="86760"/>
            </a:xfrm>
            <a:custGeom>
              <a:avLst/>
              <a:gdLst/>
              <a:ahLst/>
              <a:rect l="l" t="t" r="r" b="b"/>
              <a:pathLst>
                <a:path w="215" h="170">
                  <a:moveTo>
                    <a:pt x="215" y="159"/>
                  </a:moveTo>
                  <a:lnTo>
                    <a:pt x="215" y="159"/>
                  </a:lnTo>
                  <a:lnTo>
                    <a:pt x="209" y="143"/>
                  </a:lnTo>
                  <a:lnTo>
                    <a:pt x="202" y="129"/>
                  </a:lnTo>
                  <a:lnTo>
                    <a:pt x="191" y="117"/>
                  </a:lnTo>
                  <a:lnTo>
                    <a:pt x="182" y="102"/>
                  </a:lnTo>
                  <a:lnTo>
                    <a:pt x="169" y="90"/>
                  </a:lnTo>
                  <a:lnTo>
                    <a:pt x="157" y="79"/>
                  </a:lnTo>
                  <a:lnTo>
                    <a:pt x="142" y="69"/>
                  </a:lnTo>
                  <a:lnTo>
                    <a:pt x="127" y="59"/>
                  </a:lnTo>
                  <a:lnTo>
                    <a:pt x="112" y="48"/>
                  </a:lnTo>
                  <a:lnTo>
                    <a:pt x="96" y="40"/>
                  </a:lnTo>
                  <a:lnTo>
                    <a:pt x="81" y="31"/>
                  </a:lnTo>
                  <a:lnTo>
                    <a:pt x="66" y="25"/>
                  </a:lnTo>
                  <a:lnTo>
                    <a:pt x="50" y="18"/>
                  </a:lnTo>
                  <a:lnTo>
                    <a:pt x="35" y="11"/>
                  </a:lnTo>
                  <a:lnTo>
                    <a:pt x="20" y="6"/>
                  </a:lnTo>
                  <a:lnTo>
                    <a:pt x="6" y="0"/>
                  </a:lnTo>
                  <a:lnTo>
                    <a:pt x="0" y="16"/>
                  </a:lnTo>
                  <a:lnTo>
                    <a:pt x="14" y="22"/>
                  </a:lnTo>
                  <a:lnTo>
                    <a:pt x="28" y="28"/>
                  </a:lnTo>
                  <a:lnTo>
                    <a:pt x="43" y="34"/>
                  </a:lnTo>
                  <a:lnTo>
                    <a:pt x="58" y="41"/>
                  </a:lnTo>
                  <a:lnTo>
                    <a:pt x="73" y="48"/>
                  </a:lnTo>
                  <a:lnTo>
                    <a:pt x="89" y="57"/>
                  </a:lnTo>
                  <a:lnTo>
                    <a:pt x="103" y="65"/>
                  </a:lnTo>
                  <a:lnTo>
                    <a:pt x="118" y="72"/>
                  </a:lnTo>
                  <a:lnTo>
                    <a:pt x="132" y="83"/>
                  </a:lnTo>
                  <a:lnTo>
                    <a:pt x="144" y="93"/>
                  </a:lnTo>
                  <a:lnTo>
                    <a:pt x="158" y="105"/>
                  </a:lnTo>
                  <a:lnTo>
                    <a:pt x="168" y="115"/>
                  </a:lnTo>
                  <a:lnTo>
                    <a:pt x="178" y="126"/>
                  </a:lnTo>
                  <a:lnTo>
                    <a:pt x="185" y="139"/>
                  </a:lnTo>
                  <a:lnTo>
                    <a:pt x="193" y="151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201" y="170"/>
                  </a:lnTo>
                  <a:lnTo>
                    <a:pt x="208" y="170"/>
                  </a:lnTo>
                  <a:lnTo>
                    <a:pt x="214" y="166"/>
                  </a:lnTo>
                  <a:lnTo>
                    <a:pt x="215" y="159"/>
                  </a:lnTo>
                  <a:lnTo>
                    <a:pt x="215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522920" y="3630240"/>
              <a:ext cx="24120" cy="138240"/>
            </a:xfrm>
            <a:custGeom>
              <a:avLst/>
              <a:gdLst/>
              <a:ahLst/>
              <a:rect l="l" t="t" r="r" b="b"/>
              <a:pathLst>
                <a:path w="43" h="274">
                  <a:moveTo>
                    <a:pt x="26" y="264"/>
                  </a:moveTo>
                  <a:lnTo>
                    <a:pt x="25" y="263"/>
                  </a:lnTo>
                  <a:lnTo>
                    <a:pt x="18" y="231"/>
                  </a:lnTo>
                  <a:lnTo>
                    <a:pt x="18" y="199"/>
                  </a:lnTo>
                  <a:lnTo>
                    <a:pt x="23" y="168"/>
                  </a:lnTo>
                  <a:lnTo>
                    <a:pt x="30" y="134"/>
                  </a:lnTo>
                  <a:lnTo>
                    <a:pt x="37" y="102"/>
                  </a:lnTo>
                  <a:lnTo>
                    <a:pt x="42" y="70"/>
                  </a:lnTo>
                  <a:lnTo>
                    <a:pt x="43" y="37"/>
                  </a:lnTo>
                  <a:lnTo>
                    <a:pt x="37" y="0"/>
                  </a:lnTo>
                  <a:lnTo>
                    <a:pt x="18" y="4"/>
                  </a:lnTo>
                  <a:lnTo>
                    <a:pt x="24" y="37"/>
                  </a:lnTo>
                  <a:lnTo>
                    <a:pt x="23" y="70"/>
                  </a:lnTo>
                  <a:lnTo>
                    <a:pt x="18" y="100"/>
                  </a:lnTo>
                  <a:lnTo>
                    <a:pt x="11" y="132"/>
                  </a:lnTo>
                  <a:lnTo>
                    <a:pt x="4" y="165"/>
                  </a:lnTo>
                  <a:lnTo>
                    <a:pt x="0" y="199"/>
                  </a:lnTo>
                  <a:lnTo>
                    <a:pt x="0" y="231"/>
                  </a:lnTo>
                  <a:lnTo>
                    <a:pt x="8" y="268"/>
                  </a:lnTo>
                  <a:lnTo>
                    <a:pt x="7" y="266"/>
                  </a:lnTo>
                  <a:lnTo>
                    <a:pt x="8" y="268"/>
                  </a:lnTo>
                  <a:lnTo>
                    <a:pt x="12" y="272"/>
                  </a:lnTo>
                  <a:lnTo>
                    <a:pt x="20" y="274"/>
                  </a:lnTo>
                  <a:lnTo>
                    <a:pt x="24" y="270"/>
                  </a:lnTo>
                  <a:lnTo>
                    <a:pt x="25" y="263"/>
                  </a:lnTo>
                  <a:lnTo>
                    <a:pt x="2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528320" y="3763080"/>
              <a:ext cx="24120" cy="4788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44" y="90"/>
                  </a:moveTo>
                  <a:lnTo>
                    <a:pt x="46" y="87"/>
                  </a:lnTo>
                  <a:lnTo>
                    <a:pt x="48" y="73"/>
                  </a:lnTo>
                  <a:lnTo>
                    <a:pt x="47" y="61"/>
                  </a:lnTo>
                  <a:lnTo>
                    <a:pt x="41" y="49"/>
                  </a:lnTo>
                  <a:lnTo>
                    <a:pt x="37" y="37"/>
                  </a:lnTo>
                  <a:lnTo>
                    <a:pt x="31" y="25"/>
                  </a:lnTo>
                  <a:lnTo>
                    <a:pt x="25" y="17"/>
                  </a:lnTo>
                  <a:lnTo>
                    <a:pt x="20" y="7"/>
                  </a:lnTo>
                  <a:lnTo>
                    <a:pt x="19" y="0"/>
                  </a:lnTo>
                  <a:lnTo>
                    <a:pt x="0" y="2"/>
                  </a:lnTo>
                  <a:lnTo>
                    <a:pt x="4" y="12"/>
                  </a:lnTo>
                  <a:lnTo>
                    <a:pt x="9" y="24"/>
                  </a:lnTo>
                  <a:lnTo>
                    <a:pt x="15" y="35"/>
                  </a:lnTo>
                  <a:lnTo>
                    <a:pt x="20" y="44"/>
                  </a:lnTo>
                  <a:lnTo>
                    <a:pt x="25" y="54"/>
                  </a:lnTo>
                  <a:lnTo>
                    <a:pt x="28" y="64"/>
                  </a:lnTo>
                  <a:lnTo>
                    <a:pt x="29" y="73"/>
                  </a:lnTo>
                  <a:lnTo>
                    <a:pt x="29" y="81"/>
                  </a:lnTo>
                  <a:lnTo>
                    <a:pt x="30" y="78"/>
                  </a:lnTo>
                  <a:lnTo>
                    <a:pt x="29" y="81"/>
                  </a:lnTo>
                  <a:lnTo>
                    <a:pt x="30" y="89"/>
                  </a:lnTo>
                  <a:lnTo>
                    <a:pt x="36" y="92"/>
                  </a:lnTo>
                  <a:lnTo>
                    <a:pt x="41" y="91"/>
                  </a:lnTo>
                  <a:lnTo>
                    <a:pt x="46" y="87"/>
                  </a:lnTo>
                  <a:lnTo>
                    <a:pt x="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501680" y="3803760"/>
              <a:ext cx="50760" cy="2052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16" y="38"/>
                  </a:moveTo>
                  <a:lnTo>
                    <a:pt x="18" y="34"/>
                  </a:lnTo>
                  <a:lnTo>
                    <a:pt x="15" y="39"/>
                  </a:lnTo>
                  <a:lnTo>
                    <a:pt x="22" y="35"/>
                  </a:lnTo>
                  <a:lnTo>
                    <a:pt x="32" y="33"/>
                  </a:lnTo>
                  <a:lnTo>
                    <a:pt x="44" y="30"/>
                  </a:lnTo>
                  <a:lnTo>
                    <a:pt x="57" y="28"/>
                  </a:lnTo>
                  <a:lnTo>
                    <a:pt x="71" y="23"/>
                  </a:lnTo>
                  <a:lnTo>
                    <a:pt x="82" y="19"/>
                  </a:lnTo>
                  <a:lnTo>
                    <a:pt x="92" y="12"/>
                  </a:lnTo>
                  <a:lnTo>
                    <a:pt x="78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4" y="9"/>
                  </a:lnTo>
                  <a:lnTo>
                    <a:pt x="42" y="11"/>
                  </a:lnTo>
                  <a:lnTo>
                    <a:pt x="27" y="14"/>
                  </a:lnTo>
                  <a:lnTo>
                    <a:pt x="16" y="19"/>
                  </a:lnTo>
                  <a:lnTo>
                    <a:pt x="6" y="22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3" y="41"/>
                  </a:lnTo>
                  <a:lnTo>
                    <a:pt x="8" y="42"/>
                  </a:lnTo>
                  <a:lnTo>
                    <a:pt x="15" y="41"/>
                  </a:lnTo>
                  <a:lnTo>
                    <a:pt x="18" y="34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477200" y="3819240"/>
              <a:ext cx="32040" cy="114480"/>
            </a:xfrm>
            <a:custGeom>
              <a:avLst/>
              <a:gdLst/>
              <a:ahLst/>
              <a:rect l="l" t="t" r="r" b="b"/>
              <a:pathLst>
                <a:path w="63" h="222">
                  <a:moveTo>
                    <a:pt x="14" y="219"/>
                  </a:moveTo>
                  <a:lnTo>
                    <a:pt x="17" y="217"/>
                  </a:lnTo>
                  <a:lnTo>
                    <a:pt x="24" y="199"/>
                  </a:lnTo>
                  <a:lnTo>
                    <a:pt x="31" y="173"/>
                  </a:lnTo>
                  <a:lnTo>
                    <a:pt x="37" y="143"/>
                  </a:lnTo>
                  <a:lnTo>
                    <a:pt x="42" y="111"/>
                  </a:lnTo>
                  <a:lnTo>
                    <a:pt x="49" y="79"/>
                  </a:lnTo>
                  <a:lnTo>
                    <a:pt x="54" y="48"/>
                  </a:lnTo>
                  <a:lnTo>
                    <a:pt x="59" y="22"/>
                  </a:lnTo>
                  <a:lnTo>
                    <a:pt x="63" y="7"/>
                  </a:lnTo>
                  <a:lnTo>
                    <a:pt x="48" y="0"/>
                  </a:lnTo>
                  <a:lnTo>
                    <a:pt x="40" y="20"/>
                  </a:lnTo>
                  <a:lnTo>
                    <a:pt x="35" y="46"/>
                  </a:lnTo>
                  <a:lnTo>
                    <a:pt x="30" y="77"/>
                  </a:lnTo>
                  <a:lnTo>
                    <a:pt x="23" y="109"/>
                  </a:lnTo>
                  <a:lnTo>
                    <a:pt x="18" y="141"/>
                  </a:lnTo>
                  <a:lnTo>
                    <a:pt x="12" y="171"/>
                  </a:lnTo>
                  <a:lnTo>
                    <a:pt x="6" y="194"/>
                  </a:lnTo>
                  <a:lnTo>
                    <a:pt x="0" y="210"/>
                  </a:lnTo>
                  <a:lnTo>
                    <a:pt x="2" y="208"/>
                  </a:lnTo>
                  <a:lnTo>
                    <a:pt x="0" y="210"/>
                  </a:lnTo>
                  <a:lnTo>
                    <a:pt x="0" y="217"/>
                  </a:lnTo>
                  <a:lnTo>
                    <a:pt x="4" y="222"/>
                  </a:lnTo>
                  <a:lnTo>
                    <a:pt x="12" y="222"/>
                  </a:lnTo>
                  <a:lnTo>
                    <a:pt x="17" y="217"/>
                  </a:lnTo>
                  <a:lnTo>
                    <a:pt x="1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463880" y="3921120"/>
              <a:ext cx="21240" cy="1260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6" y="12"/>
                  </a:moveTo>
                  <a:lnTo>
                    <a:pt x="4" y="16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7"/>
                  </a:lnTo>
                  <a:lnTo>
                    <a:pt x="39" y="22"/>
                  </a:lnTo>
                  <a:lnTo>
                    <a:pt x="27" y="11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1" y="4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399440" y="3921120"/>
              <a:ext cx="72360" cy="81360"/>
            </a:xfrm>
            <a:custGeom>
              <a:avLst/>
              <a:gdLst/>
              <a:ahLst/>
              <a:rect l="l" t="t" r="r" b="b"/>
              <a:pathLst>
                <a:path w="136" h="158">
                  <a:moveTo>
                    <a:pt x="5" y="157"/>
                  </a:moveTo>
                  <a:lnTo>
                    <a:pt x="10" y="158"/>
                  </a:lnTo>
                  <a:lnTo>
                    <a:pt x="31" y="149"/>
                  </a:lnTo>
                  <a:lnTo>
                    <a:pt x="50" y="135"/>
                  </a:lnTo>
                  <a:lnTo>
                    <a:pt x="67" y="115"/>
                  </a:lnTo>
                  <a:lnTo>
                    <a:pt x="85" y="93"/>
                  </a:lnTo>
                  <a:lnTo>
                    <a:pt x="102" y="70"/>
                  </a:lnTo>
                  <a:lnTo>
                    <a:pt x="116" y="47"/>
                  </a:lnTo>
                  <a:lnTo>
                    <a:pt x="127" y="26"/>
                  </a:lnTo>
                  <a:lnTo>
                    <a:pt x="136" y="8"/>
                  </a:lnTo>
                  <a:lnTo>
                    <a:pt x="120" y="0"/>
                  </a:lnTo>
                  <a:lnTo>
                    <a:pt x="111" y="18"/>
                  </a:lnTo>
                  <a:lnTo>
                    <a:pt x="100" y="37"/>
                  </a:lnTo>
                  <a:lnTo>
                    <a:pt x="85" y="61"/>
                  </a:lnTo>
                  <a:lnTo>
                    <a:pt x="71" y="82"/>
                  </a:lnTo>
                  <a:lnTo>
                    <a:pt x="53" y="103"/>
                  </a:lnTo>
                  <a:lnTo>
                    <a:pt x="37" y="121"/>
                  </a:lnTo>
                  <a:lnTo>
                    <a:pt x="22" y="132"/>
                  </a:lnTo>
                  <a:lnTo>
                    <a:pt x="8" y="139"/>
                  </a:lnTo>
                  <a:lnTo>
                    <a:pt x="12" y="140"/>
                  </a:lnTo>
                  <a:lnTo>
                    <a:pt x="8" y="139"/>
                  </a:lnTo>
                  <a:lnTo>
                    <a:pt x="1" y="142"/>
                  </a:lnTo>
                  <a:lnTo>
                    <a:pt x="0" y="149"/>
                  </a:lnTo>
                  <a:lnTo>
                    <a:pt x="3" y="155"/>
                  </a:lnTo>
                  <a:lnTo>
                    <a:pt x="10" y="158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294680" y="3906000"/>
              <a:ext cx="109800" cy="96480"/>
            </a:xfrm>
            <a:custGeom>
              <a:avLst/>
              <a:gdLst/>
              <a:ahLst/>
              <a:rect l="l" t="t" r="r" b="b"/>
              <a:pathLst>
                <a:path w="208" h="188">
                  <a:moveTo>
                    <a:pt x="0" y="12"/>
                  </a:moveTo>
                  <a:lnTo>
                    <a:pt x="1" y="15"/>
                  </a:lnTo>
                  <a:lnTo>
                    <a:pt x="11" y="27"/>
                  </a:lnTo>
                  <a:lnTo>
                    <a:pt x="21" y="38"/>
                  </a:lnTo>
                  <a:lnTo>
                    <a:pt x="32" y="49"/>
                  </a:lnTo>
                  <a:lnTo>
                    <a:pt x="42" y="62"/>
                  </a:lnTo>
                  <a:lnTo>
                    <a:pt x="55" y="74"/>
                  </a:lnTo>
                  <a:lnTo>
                    <a:pt x="67" y="85"/>
                  </a:lnTo>
                  <a:lnTo>
                    <a:pt x="78" y="98"/>
                  </a:lnTo>
                  <a:lnTo>
                    <a:pt x="90" y="111"/>
                  </a:lnTo>
                  <a:lnTo>
                    <a:pt x="103" y="122"/>
                  </a:lnTo>
                  <a:lnTo>
                    <a:pt x="116" y="133"/>
                  </a:lnTo>
                  <a:lnTo>
                    <a:pt x="129" y="143"/>
                  </a:lnTo>
                  <a:lnTo>
                    <a:pt x="144" y="154"/>
                  </a:lnTo>
                  <a:lnTo>
                    <a:pt x="157" y="165"/>
                  </a:lnTo>
                  <a:lnTo>
                    <a:pt x="172" y="173"/>
                  </a:lnTo>
                  <a:lnTo>
                    <a:pt x="187" y="180"/>
                  </a:lnTo>
                  <a:lnTo>
                    <a:pt x="201" y="188"/>
                  </a:lnTo>
                  <a:lnTo>
                    <a:pt x="208" y="171"/>
                  </a:lnTo>
                  <a:lnTo>
                    <a:pt x="194" y="163"/>
                  </a:lnTo>
                  <a:lnTo>
                    <a:pt x="180" y="156"/>
                  </a:lnTo>
                  <a:lnTo>
                    <a:pt x="167" y="149"/>
                  </a:lnTo>
                  <a:lnTo>
                    <a:pt x="155" y="140"/>
                  </a:lnTo>
                  <a:lnTo>
                    <a:pt x="140" y="130"/>
                  </a:lnTo>
                  <a:lnTo>
                    <a:pt x="128" y="119"/>
                  </a:lnTo>
                  <a:lnTo>
                    <a:pt x="115" y="109"/>
                  </a:lnTo>
                  <a:lnTo>
                    <a:pt x="102" y="96"/>
                  </a:lnTo>
                  <a:lnTo>
                    <a:pt x="90" y="85"/>
                  </a:lnTo>
                  <a:lnTo>
                    <a:pt x="78" y="74"/>
                  </a:lnTo>
                  <a:lnTo>
                    <a:pt x="67" y="62"/>
                  </a:lnTo>
                  <a:lnTo>
                    <a:pt x="56" y="50"/>
                  </a:lnTo>
                  <a:lnTo>
                    <a:pt x="45" y="38"/>
                  </a:lnTo>
                  <a:lnTo>
                    <a:pt x="35" y="25"/>
                  </a:lnTo>
                  <a:lnTo>
                    <a:pt x="24" y="15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1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275960" y="3548520"/>
              <a:ext cx="158760" cy="364680"/>
            </a:xfrm>
            <a:custGeom>
              <a:avLst/>
              <a:gdLst/>
              <a:ahLst/>
              <a:rect l="l" t="t" r="r" b="b"/>
              <a:pathLst>
                <a:path w="296" h="715">
                  <a:moveTo>
                    <a:pt x="290" y="1"/>
                  </a:moveTo>
                  <a:lnTo>
                    <a:pt x="282" y="1"/>
                  </a:lnTo>
                  <a:lnTo>
                    <a:pt x="242" y="30"/>
                  </a:lnTo>
                  <a:lnTo>
                    <a:pt x="205" y="62"/>
                  </a:lnTo>
                  <a:lnTo>
                    <a:pt x="170" y="99"/>
                  </a:lnTo>
                  <a:lnTo>
                    <a:pt x="139" y="138"/>
                  </a:lnTo>
                  <a:lnTo>
                    <a:pt x="108" y="181"/>
                  </a:lnTo>
                  <a:lnTo>
                    <a:pt x="84" y="228"/>
                  </a:lnTo>
                  <a:lnTo>
                    <a:pt x="59" y="273"/>
                  </a:lnTo>
                  <a:lnTo>
                    <a:pt x="40" y="323"/>
                  </a:lnTo>
                  <a:lnTo>
                    <a:pt x="25" y="372"/>
                  </a:lnTo>
                  <a:lnTo>
                    <a:pt x="13" y="423"/>
                  </a:lnTo>
                  <a:lnTo>
                    <a:pt x="4" y="474"/>
                  </a:lnTo>
                  <a:lnTo>
                    <a:pt x="0" y="523"/>
                  </a:lnTo>
                  <a:lnTo>
                    <a:pt x="0" y="573"/>
                  </a:lnTo>
                  <a:lnTo>
                    <a:pt x="7" y="623"/>
                  </a:lnTo>
                  <a:lnTo>
                    <a:pt x="16" y="670"/>
                  </a:lnTo>
                  <a:lnTo>
                    <a:pt x="33" y="715"/>
                  </a:lnTo>
                  <a:lnTo>
                    <a:pt x="49" y="708"/>
                  </a:lnTo>
                  <a:lnTo>
                    <a:pt x="35" y="665"/>
                  </a:lnTo>
                  <a:lnTo>
                    <a:pt x="26" y="620"/>
                  </a:lnTo>
                  <a:lnTo>
                    <a:pt x="19" y="573"/>
                  </a:lnTo>
                  <a:lnTo>
                    <a:pt x="19" y="523"/>
                  </a:lnTo>
                  <a:lnTo>
                    <a:pt x="23" y="474"/>
                  </a:lnTo>
                  <a:lnTo>
                    <a:pt x="31" y="425"/>
                  </a:lnTo>
                  <a:lnTo>
                    <a:pt x="44" y="378"/>
                  </a:lnTo>
                  <a:lnTo>
                    <a:pt x="57" y="328"/>
                  </a:lnTo>
                  <a:lnTo>
                    <a:pt x="76" y="280"/>
                  </a:lnTo>
                  <a:lnTo>
                    <a:pt x="100" y="234"/>
                  </a:lnTo>
                  <a:lnTo>
                    <a:pt x="125" y="191"/>
                  </a:lnTo>
                  <a:lnTo>
                    <a:pt x="152" y="149"/>
                  </a:lnTo>
                  <a:lnTo>
                    <a:pt x="184" y="110"/>
                  </a:lnTo>
                  <a:lnTo>
                    <a:pt x="218" y="77"/>
                  </a:lnTo>
                  <a:lnTo>
                    <a:pt x="254" y="44"/>
                  </a:lnTo>
                  <a:lnTo>
                    <a:pt x="292" y="17"/>
                  </a:lnTo>
                  <a:lnTo>
                    <a:pt x="284" y="17"/>
                  </a:lnTo>
                  <a:lnTo>
                    <a:pt x="292" y="17"/>
                  </a:lnTo>
                  <a:lnTo>
                    <a:pt x="296" y="11"/>
                  </a:lnTo>
                  <a:lnTo>
                    <a:pt x="295" y="5"/>
                  </a:lnTo>
                  <a:lnTo>
                    <a:pt x="290" y="0"/>
                  </a:lnTo>
                  <a:lnTo>
                    <a:pt x="282" y="1"/>
                  </a:lnTo>
                  <a:lnTo>
                    <a:pt x="2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410240" y="3867120"/>
              <a:ext cx="58680" cy="6120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0" y="4"/>
                  </a:moveTo>
                  <a:lnTo>
                    <a:pt x="8" y="23"/>
                  </a:lnTo>
                  <a:lnTo>
                    <a:pt x="16" y="42"/>
                  </a:lnTo>
                  <a:lnTo>
                    <a:pt x="28" y="58"/>
                  </a:lnTo>
                  <a:lnTo>
                    <a:pt x="40" y="74"/>
                  </a:lnTo>
                  <a:lnTo>
                    <a:pt x="55" y="89"/>
                  </a:lnTo>
                  <a:lnTo>
                    <a:pt x="70" y="101"/>
                  </a:lnTo>
                  <a:lnTo>
                    <a:pt x="85" y="112"/>
                  </a:lnTo>
                  <a:lnTo>
                    <a:pt x="102" y="119"/>
                  </a:lnTo>
                  <a:lnTo>
                    <a:pt x="109" y="103"/>
                  </a:lnTo>
                  <a:lnTo>
                    <a:pt x="95" y="95"/>
                  </a:lnTo>
                  <a:lnTo>
                    <a:pt x="80" y="86"/>
                  </a:lnTo>
                  <a:lnTo>
                    <a:pt x="67" y="75"/>
                  </a:lnTo>
                  <a:lnTo>
                    <a:pt x="53" y="62"/>
                  </a:lnTo>
                  <a:lnTo>
                    <a:pt x="42" y="48"/>
                  </a:lnTo>
                  <a:lnTo>
                    <a:pt x="32" y="33"/>
                  </a:lnTo>
                  <a:lnTo>
                    <a:pt x="24" y="16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130880" y="4145400"/>
              <a:ext cx="72360" cy="109800"/>
            </a:xfrm>
            <a:custGeom>
              <a:avLst/>
              <a:gdLst/>
              <a:ahLst/>
              <a:rect l="l" t="t" r="r" b="b"/>
              <a:pathLst>
                <a:path w="135" h="212">
                  <a:moveTo>
                    <a:pt x="21" y="212"/>
                  </a:moveTo>
                  <a:lnTo>
                    <a:pt x="21" y="211"/>
                  </a:lnTo>
                  <a:lnTo>
                    <a:pt x="24" y="188"/>
                  </a:lnTo>
                  <a:lnTo>
                    <a:pt x="33" y="163"/>
                  </a:lnTo>
                  <a:lnTo>
                    <a:pt x="46" y="138"/>
                  </a:lnTo>
                  <a:lnTo>
                    <a:pt x="62" y="113"/>
                  </a:lnTo>
                  <a:lnTo>
                    <a:pt x="81" y="86"/>
                  </a:lnTo>
                  <a:lnTo>
                    <a:pt x="100" y="60"/>
                  </a:lnTo>
                  <a:lnTo>
                    <a:pt x="118" y="35"/>
                  </a:lnTo>
                  <a:lnTo>
                    <a:pt x="135" y="8"/>
                  </a:lnTo>
                  <a:lnTo>
                    <a:pt x="116" y="0"/>
                  </a:lnTo>
                  <a:lnTo>
                    <a:pt x="102" y="23"/>
                  </a:lnTo>
                  <a:lnTo>
                    <a:pt x="83" y="47"/>
                  </a:lnTo>
                  <a:lnTo>
                    <a:pt x="64" y="75"/>
                  </a:lnTo>
                  <a:lnTo>
                    <a:pt x="45" y="101"/>
                  </a:lnTo>
                  <a:lnTo>
                    <a:pt x="27" y="129"/>
                  </a:lnTo>
                  <a:lnTo>
                    <a:pt x="14" y="156"/>
                  </a:lnTo>
                  <a:lnTo>
                    <a:pt x="3" y="183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21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128720" y="4252680"/>
              <a:ext cx="53280" cy="111960"/>
            </a:xfrm>
            <a:custGeom>
              <a:avLst/>
              <a:gdLst/>
              <a:ahLst/>
              <a:rect l="l" t="t" r="r" b="b"/>
              <a:pathLst>
                <a:path w="100" h="219">
                  <a:moveTo>
                    <a:pt x="100" y="212"/>
                  </a:moveTo>
                  <a:lnTo>
                    <a:pt x="99" y="206"/>
                  </a:lnTo>
                  <a:lnTo>
                    <a:pt x="80" y="172"/>
                  </a:lnTo>
                  <a:lnTo>
                    <a:pt x="63" y="145"/>
                  </a:lnTo>
                  <a:lnTo>
                    <a:pt x="47" y="123"/>
                  </a:lnTo>
                  <a:lnTo>
                    <a:pt x="36" y="104"/>
                  </a:lnTo>
                  <a:lnTo>
                    <a:pt x="27" y="84"/>
                  </a:lnTo>
                  <a:lnTo>
                    <a:pt x="22" y="63"/>
                  </a:lnTo>
                  <a:lnTo>
                    <a:pt x="21" y="37"/>
                  </a:lnTo>
                  <a:lnTo>
                    <a:pt x="23" y="3"/>
                  </a:lnTo>
                  <a:lnTo>
                    <a:pt x="2" y="0"/>
                  </a:lnTo>
                  <a:lnTo>
                    <a:pt x="0" y="37"/>
                  </a:lnTo>
                  <a:lnTo>
                    <a:pt x="1" y="65"/>
                  </a:lnTo>
                  <a:lnTo>
                    <a:pt x="6" y="91"/>
                  </a:lnTo>
                  <a:lnTo>
                    <a:pt x="17" y="114"/>
                  </a:lnTo>
                  <a:lnTo>
                    <a:pt x="31" y="135"/>
                  </a:lnTo>
                  <a:lnTo>
                    <a:pt x="46" y="157"/>
                  </a:lnTo>
                  <a:lnTo>
                    <a:pt x="62" y="181"/>
                  </a:lnTo>
                  <a:lnTo>
                    <a:pt x="80" y="215"/>
                  </a:lnTo>
                  <a:lnTo>
                    <a:pt x="79" y="208"/>
                  </a:lnTo>
                  <a:lnTo>
                    <a:pt x="80" y="215"/>
                  </a:lnTo>
                  <a:lnTo>
                    <a:pt x="86" y="219"/>
                  </a:lnTo>
                  <a:lnTo>
                    <a:pt x="95" y="218"/>
                  </a:lnTo>
                  <a:lnTo>
                    <a:pt x="99" y="214"/>
                  </a:lnTo>
                  <a:lnTo>
                    <a:pt x="99" y="206"/>
                  </a:lnTo>
                  <a:lnTo>
                    <a:pt x="10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090920" y="4359960"/>
              <a:ext cx="91080" cy="405360"/>
            </a:xfrm>
            <a:custGeom>
              <a:avLst/>
              <a:gdLst/>
              <a:ahLst/>
              <a:rect l="l" t="t" r="r" b="b"/>
              <a:pathLst>
                <a:path w="173" h="797">
                  <a:moveTo>
                    <a:pt x="22" y="797"/>
                  </a:moveTo>
                  <a:lnTo>
                    <a:pt x="36" y="701"/>
                  </a:lnTo>
                  <a:lnTo>
                    <a:pt x="50" y="601"/>
                  </a:lnTo>
                  <a:lnTo>
                    <a:pt x="65" y="495"/>
                  </a:lnTo>
                  <a:lnTo>
                    <a:pt x="82" y="390"/>
                  </a:lnTo>
                  <a:lnTo>
                    <a:pt x="101" y="286"/>
                  </a:lnTo>
                  <a:lnTo>
                    <a:pt x="122" y="188"/>
                  </a:lnTo>
                  <a:lnTo>
                    <a:pt x="148" y="92"/>
                  </a:lnTo>
                  <a:lnTo>
                    <a:pt x="173" y="4"/>
                  </a:lnTo>
                  <a:lnTo>
                    <a:pt x="152" y="0"/>
                  </a:lnTo>
                  <a:lnTo>
                    <a:pt x="127" y="87"/>
                  </a:lnTo>
                  <a:lnTo>
                    <a:pt x="101" y="182"/>
                  </a:lnTo>
                  <a:lnTo>
                    <a:pt x="80" y="284"/>
                  </a:lnTo>
                  <a:lnTo>
                    <a:pt x="61" y="388"/>
                  </a:lnTo>
                  <a:lnTo>
                    <a:pt x="44" y="493"/>
                  </a:lnTo>
                  <a:lnTo>
                    <a:pt x="28" y="597"/>
                  </a:lnTo>
                  <a:lnTo>
                    <a:pt x="15" y="698"/>
                  </a:lnTo>
                  <a:lnTo>
                    <a:pt x="0" y="795"/>
                  </a:lnTo>
                  <a:lnTo>
                    <a:pt x="22" y="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544160" y="4163400"/>
              <a:ext cx="77760" cy="99360"/>
            </a:xfrm>
            <a:custGeom>
              <a:avLst/>
              <a:gdLst/>
              <a:ahLst/>
              <a:rect l="l" t="t" r="r" b="b"/>
              <a:pathLst>
                <a:path w="147" h="197">
                  <a:moveTo>
                    <a:pt x="147" y="197"/>
                  </a:moveTo>
                  <a:lnTo>
                    <a:pt x="147" y="197"/>
                  </a:lnTo>
                  <a:lnTo>
                    <a:pt x="147" y="168"/>
                  </a:lnTo>
                  <a:lnTo>
                    <a:pt x="139" y="139"/>
                  </a:lnTo>
                  <a:lnTo>
                    <a:pt x="123" y="109"/>
                  </a:lnTo>
                  <a:lnTo>
                    <a:pt x="103" y="82"/>
                  </a:lnTo>
                  <a:lnTo>
                    <a:pt x="79" y="54"/>
                  </a:lnTo>
                  <a:lnTo>
                    <a:pt x="56" y="32"/>
                  </a:lnTo>
                  <a:lnTo>
                    <a:pt x="31" y="14"/>
                  </a:lnTo>
                  <a:lnTo>
                    <a:pt x="9" y="0"/>
                  </a:lnTo>
                  <a:lnTo>
                    <a:pt x="0" y="19"/>
                  </a:lnTo>
                  <a:lnTo>
                    <a:pt x="20" y="31"/>
                  </a:lnTo>
                  <a:lnTo>
                    <a:pt x="41" y="49"/>
                  </a:lnTo>
                  <a:lnTo>
                    <a:pt x="65" y="69"/>
                  </a:lnTo>
                  <a:lnTo>
                    <a:pt x="87" y="93"/>
                  </a:lnTo>
                  <a:lnTo>
                    <a:pt x="104" y="121"/>
                  </a:lnTo>
                  <a:lnTo>
                    <a:pt x="120" y="145"/>
                  </a:lnTo>
                  <a:lnTo>
                    <a:pt x="125" y="170"/>
                  </a:lnTo>
                  <a:lnTo>
                    <a:pt x="125" y="193"/>
                  </a:lnTo>
                  <a:lnTo>
                    <a:pt x="125" y="193"/>
                  </a:lnTo>
                  <a:lnTo>
                    <a:pt x="147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574040" y="4260600"/>
              <a:ext cx="47880" cy="9648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23" y="179"/>
                  </a:moveTo>
                  <a:lnTo>
                    <a:pt x="23" y="179"/>
                  </a:lnTo>
                  <a:lnTo>
                    <a:pt x="21" y="163"/>
                  </a:lnTo>
                  <a:lnTo>
                    <a:pt x="24" y="146"/>
                  </a:lnTo>
                  <a:lnTo>
                    <a:pt x="31" y="123"/>
                  </a:lnTo>
                  <a:lnTo>
                    <a:pt x="43" y="101"/>
                  </a:lnTo>
                  <a:lnTo>
                    <a:pt x="58" y="78"/>
                  </a:lnTo>
                  <a:lnTo>
                    <a:pt x="70" y="52"/>
                  </a:lnTo>
                  <a:lnTo>
                    <a:pt x="81" y="28"/>
                  </a:lnTo>
                  <a:lnTo>
                    <a:pt x="89" y="4"/>
                  </a:lnTo>
                  <a:lnTo>
                    <a:pt x="67" y="0"/>
                  </a:lnTo>
                  <a:lnTo>
                    <a:pt x="62" y="21"/>
                  </a:lnTo>
                  <a:lnTo>
                    <a:pt x="51" y="43"/>
                  </a:lnTo>
                  <a:lnTo>
                    <a:pt x="39" y="68"/>
                  </a:lnTo>
                  <a:lnTo>
                    <a:pt x="24" y="92"/>
                  </a:lnTo>
                  <a:lnTo>
                    <a:pt x="12" y="117"/>
                  </a:lnTo>
                  <a:lnTo>
                    <a:pt x="3" y="141"/>
                  </a:lnTo>
                  <a:lnTo>
                    <a:pt x="0" y="163"/>
                  </a:lnTo>
                  <a:lnTo>
                    <a:pt x="4" y="187"/>
                  </a:lnTo>
                  <a:lnTo>
                    <a:pt x="4" y="187"/>
                  </a:lnTo>
                  <a:lnTo>
                    <a:pt x="2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576560" y="4352040"/>
              <a:ext cx="77760" cy="214560"/>
            </a:xfrm>
            <a:custGeom>
              <a:avLst/>
              <a:gdLst/>
              <a:ahLst/>
              <a:rect l="l" t="t" r="r" b="b"/>
              <a:pathLst>
                <a:path w="144" h="420">
                  <a:moveTo>
                    <a:pt x="144" y="417"/>
                  </a:moveTo>
                  <a:lnTo>
                    <a:pt x="131" y="356"/>
                  </a:lnTo>
                  <a:lnTo>
                    <a:pt x="117" y="298"/>
                  </a:lnTo>
                  <a:lnTo>
                    <a:pt x="102" y="243"/>
                  </a:lnTo>
                  <a:lnTo>
                    <a:pt x="88" y="189"/>
                  </a:lnTo>
                  <a:lnTo>
                    <a:pt x="71" y="137"/>
                  </a:lnTo>
                  <a:lnTo>
                    <a:pt x="54" y="89"/>
                  </a:lnTo>
                  <a:lnTo>
                    <a:pt x="37" y="42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8" y="50"/>
                  </a:lnTo>
                  <a:lnTo>
                    <a:pt x="35" y="95"/>
                  </a:lnTo>
                  <a:lnTo>
                    <a:pt x="50" y="143"/>
                  </a:lnTo>
                  <a:lnTo>
                    <a:pt x="66" y="193"/>
                  </a:lnTo>
                  <a:lnTo>
                    <a:pt x="81" y="247"/>
                  </a:lnTo>
                  <a:lnTo>
                    <a:pt x="96" y="303"/>
                  </a:lnTo>
                  <a:lnTo>
                    <a:pt x="110" y="361"/>
                  </a:lnTo>
                  <a:lnTo>
                    <a:pt x="122" y="420"/>
                  </a:lnTo>
                  <a:lnTo>
                    <a:pt x="144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233120" y="3872520"/>
              <a:ext cx="91080" cy="540720"/>
            </a:xfrm>
            <a:custGeom>
              <a:avLst/>
              <a:gdLst/>
              <a:ahLst/>
              <a:rect l="l" t="t" r="r" b="b"/>
              <a:pathLst>
                <a:path w="174" h="1058">
                  <a:moveTo>
                    <a:pt x="98" y="5"/>
                  </a:moveTo>
                  <a:lnTo>
                    <a:pt x="91" y="0"/>
                  </a:lnTo>
                  <a:lnTo>
                    <a:pt x="77" y="1"/>
                  </a:lnTo>
                  <a:lnTo>
                    <a:pt x="59" y="5"/>
                  </a:lnTo>
                  <a:lnTo>
                    <a:pt x="39" y="13"/>
                  </a:lnTo>
                  <a:lnTo>
                    <a:pt x="21" y="22"/>
                  </a:lnTo>
                  <a:lnTo>
                    <a:pt x="7" y="31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23" y="84"/>
                  </a:lnTo>
                  <a:lnTo>
                    <a:pt x="29" y="127"/>
                  </a:lnTo>
                  <a:lnTo>
                    <a:pt x="28" y="176"/>
                  </a:lnTo>
                  <a:lnTo>
                    <a:pt x="21" y="227"/>
                  </a:lnTo>
                  <a:lnTo>
                    <a:pt x="14" y="278"/>
                  </a:lnTo>
                  <a:lnTo>
                    <a:pt x="5" y="329"/>
                  </a:lnTo>
                  <a:lnTo>
                    <a:pt x="1" y="375"/>
                  </a:lnTo>
                  <a:lnTo>
                    <a:pt x="5" y="415"/>
                  </a:lnTo>
                  <a:lnTo>
                    <a:pt x="8" y="419"/>
                  </a:lnTo>
                  <a:lnTo>
                    <a:pt x="17" y="421"/>
                  </a:lnTo>
                  <a:lnTo>
                    <a:pt x="28" y="424"/>
                  </a:lnTo>
                  <a:lnTo>
                    <a:pt x="41" y="425"/>
                  </a:lnTo>
                  <a:lnTo>
                    <a:pt x="55" y="427"/>
                  </a:lnTo>
                  <a:lnTo>
                    <a:pt x="66" y="429"/>
                  </a:lnTo>
                  <a:lnTo>
                    <a:pt x="74" y="434"/>
                  </a:lnTo>
                  <a:lnTo>
                    <a:pt x="77" y="441"/>
                  </a:lnTo>
                  <a:lnTo>
                    <a:pt x="74" y="447"/>
                  </a:lnTo>
                  <a:lnTo>
                    <a:pt x="66" y="451"/>
                  </a:lnTo>
                  <a:lnTo>
                    <a:pt x="55" y="457"/>
                  </a:lnTo>
                  <a:lnTo>
                    <a:pt x="41" y="460"/>
                  </a:lnTo>
                  <a:lnTo>
                    <a:pt x="28" y="466"/>
                  </a:lnTo>
                  <a:lnTo>
                    <a:pt x="18" y="471"/>
                  </a:lnTo>
                  <a:lnTo>
                    <a:pt x="10" y="479"/>
                  </a:lnTo>
                  <a:lnTo>
                    <a:pt x="9" y="487"/>
                  </a:lnTo>
                  <a:lnTo>
                    <a:pt x="19" y="547"/>
                  </a:lnTo>
                  <a:lnTo>
                    <a:pt x="28" y="619"/>
                  </a:lnTo>
                  <a:lnTo>
                    <a:pt x="39" y="699"/>
                  </a:lnTo>
                  <a:lnTo>
                    <a:pt x="54" y="781"/>
                  </a:lnTo>
                  <a:lnTo>
                    <a:pt x="72" y="862"/>
                  </a:lnTo>
                  <a:lnTo>
                    <a:pt x="96" y="939"/>
                  </a:lnTo>
                  <a:lnTo>
                    <a:pt x="128" y="1005"/>
                  </a:lnTo>
                  <a:lnTo>
                    <a:pt x="168" y="1058"/>
                  </a:lnTo>
                  <a:lnTo>
                    <a:pt x="168" y="1033"/>
                  </a:lnTo>
                  <a:lnTo>
                    <a:pt x="168" y="993"/>
                  </a:lnTo>
                  <a:lnTo>
                    <a:pt x="168" y="953"/>
                  </a:lnTo>
                  <a:lnTo>
                    <a:pt x="168" y="930"/>
                  </a:lnTo>
                  <a:lnTo>
                    <a:pt x="167" y="816"/>
                  </a:lnTo>
                  <a:lnTo>
                    <a:pt x="169" y="695"/>
                  </a:lnTo>
                  <a:lnTo>
                    <a:pt x="173" y="571"/>
                  </a:lnTo>
                  <a:lnTo>
                    <a:pt x="174" y="447"/>
                  </a:lnTo>
                  <a:lnTo>
                    <a:pt x="171" y="327"/>
                  </a:lnTo>
                  <a:lnTo>
                    <a:pt x="159" y="212"/>
                  </a:lnTo>
                  <a:lnTo>
                    <a:pt x="136" y="103"/>
                  </a:lnTo>
                  <a:lnTo>
                    <a:pt x="98" y="5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225200" y="3867120"/>
              <a:ext cx="64440" cy="35640"/>
            </a:xfrm>
            <a:custGeom>
              <a:avLst/>
              <a:gdLst/>
              <a:ahLst/>
              <a:rect l="l" t="t" r="r" b="b"/>
              <a:pathLst>
                <a:path w="119" h="66">
                  <a:moveTo>
                    <a:pt x="21" y="51"/>
                  </a:moveTo>
                  <a:lnTo>
                    <a:pt x="19" y="48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7" y="41"/>
                  </a:lnTo>
                  <a:lnTo>
                    <a:pt x="53" y="33"/>
                  </a:lnTo>
                  <a:lnTo>
                    <a:pt x="72" y="25"/>
                  </a:lnTo>
                  <a:lnTo>
                    <a:pt x="89" y="22"/>
                  </a:lnTo>
                  <a:lnTo>
                    <a:pt x="101" y="21"/>
                  </a:lnTo>
                  <a:lnTo>
                    <a:pt x="100" y="18"/>
                  </a:lnTo>
                  <a:lnTo>
                    <a:pt x="119" y="11"/>
                  </a:lnTo>
                  <a:lnTo>
                    <a:pt x="103" y="0"/>
                  </a:lnTo>
                  <a:lnTo>
                    <a:pt x="87" y="1"/>
                  </a:lnTo>
                  <a:lnTo>
                    <a:pt x="68" y="4"/>
                  </a:lnTo>
                  <a:lnTo>
                    <a:pt x="47" y="14"/>
                  </a:lnTo>
                  <a:lnTo>
                    <a:pt x="28" y="22"/>
                  </a:lnTo>
                  <a:lnTo>
                    <a:pt x="11" y="33"/>
                  </a:lnTo>
                  <a:lnTo>
                    <a:pt x="0" y="47"/>
                  </a:lnTo>
                  <a:lnTo>
                    <a:pt x="8" y="65"/>
                  </a:lnTo>
                  <a:lnTo>
                    <a:pt x="6" y="64"/>
                  </a:lnTo>
                  <a:lnTo>
                    <a:pt x="8" y="65"/>
                  </a:lnTo>
                  <a:lnTo>
                    <a:pt x="16" y="66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19" y="48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227720" y="3895560"/>
              <a:ext cx="26640" cy="191160"/>
            </a:xfrm>
            <a:custGeom>
              <a:avLst/>
              <a:gdLst/>
              <a:ahLst/>
              <a:rect l="l" t="t" r="r" b="b"/>
              <a:pathLst>
                <a:path w="50" h="377">
                  <a:moveTo>
                    <a:pt x="26" y="373"/>
                  </a:moveTo>
                  <a:lnTo>
                    <a:pt x="26" y="372"/>
                  </a:lnTo>
                  <a:lnTo>
                    <a:pt x="23" y="334"/>
                  </a:lnTo>
                  <a:lnTo>
                    <a:pt x="26" y="289"/>
                  </a:lnTo>
                  <a:lnTo>
                    <a:pt x="34" y="238"/>
                  </a:lnTo>
                  <a:lnTo>
                    <a:pt x="42" y="188"/>
                  </a:lnTo>
                  <a:lnTo>
                    <a:pt x="49" y="135"/>
                  </a:lnTo>
                  <a:lnTo>
                    <a:pt x="50" y="86"/>
                  </a:lnTo>
                  <a:lnTo>
                    <a:pt x="44" y="40"/>
                  </a:lnTo>
                  <a:lnTo>
                    <a:pt x="20" y="0"/>
                  </a:lnTo>
                  <a:lnTo>
                    <a:pt x="5" y="13"/>
                  </a:lnTo>
                  <a:lnTo>
                    <a:pt x="23" y="46"/>
                  </a:lnTo>
                  <a:lnTo>
                    <a:pt x="29" y="86"/>
                  </a:lnTo>
                  <a:lnTo>
                    <a:pt x="28" y="135"/>
                  </a:lnTo>
                  <a:lnTo>
                    <a:pt x="20" y="185"/>
                  </a:lnTo>
                  <a:lnTo>
                    <a:pt x="13" y="236"/>
                  </a:lnTo>
                  <a:lnTo>
                    <a:pt x="5" y="287"/>
                  </a:lnTo>
                  <a:lnTo>
                    <a:pt x="0" y="334"/>
                  </a:lnTo>
                  <a:lnTo>
                    <a:pt x="5" y="377"/>
                  </a:lnTo>
                  <a:lnTo>
                    <a:pt x="5" y="375"/>
                  </a:lnTo>
                  <a:lnTo>
                    <a:pt x="26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230960" y="4082040"/>
              <a:ext cx="47880" cy="1764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93" y="32"/>
                  </a:moveTo>
                  <a:lnTo>
                    <a:pt x="93" y="32"/>
                  </a:lnTo>
                  <a:lnTo>
                    <a:pt x="86" y="18"/>
                  </a:lnTo>
                  <a:lnTo>
                    <a:pt x="75" y="11"/>
                  </a:lnTo>
                  <a:lnTo>
                    <a:pt x="61" y="7"/>
                  </a:lnTo>
                  <a:lnTo>
                    <a:pt x="47" y="5"/>
                  </a:lnTo>
                  <a:lnTo>
                    <a:pt x="34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21" y="5"/>
                  </a:lnTo>
                  <a:lnTo>
                    <a:pt x="0" y="7"/>
                  </a:lnTo>
                  <a:lnTo>
                    <a:pt x="9" y="19"/>
                  </a:lnTo>
                  <a:lnTo>
                    <a:pt x="20" y="22"/>
                  </a:lnTo>
                  <a:lnTo>
                    <a:pt x="32" y="25"/>
                  </a:lnTo>
                  <a:lnTo>
                    <a:pt x="45" y="26"/>
                  </a:lnTo>
                  <a:lnTo>
                    <a:pt x="59" y="29"/>
                  </a:lnTo>
                  <a:lnTo>
                    <a:pt x="67" y="30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230960" y="4096800"/>
              <a:ext cx="47880" cy="2520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21" y="46"/>
                  </a:moveTo>
                  <a:lnTo>
                    <a:pt x="21" y="46"/>
                  </a:lnTo>
                  <a:lnTo>
                    <a:pt x="21" y="44"/>
                  </a:lnTo>
                  <a:lnTo>
                    <a:pt x="25" y="40"/>
                  </a:lnTo>
                  <a:lnTo>
                    <a:pt x="35" y="36"/>
                  </a:lnTo>
                  <a:lnTo>
                    <a:pt x="46" y="29"/>
                  </a:lnTo>
                  <a:lnTo>
                    <a:pt x="58" y="27"/>
                  </a:lnTo>
                  <a:lnTo>
                    <a:pt x="72" y="21"/>
                  </a:lnTo>
                  <a:lnTo>
                    <a:pt x="81" y="14"/>
                  </a:lnTo>
                  <a:lnTo>
                    <a:pt x="89" y="1"/>
                  </a:lnTo>
                  <a:lnTo>
                    <a:pt x="67" y="1"/>
                  </a:lnTo>
                  <a:lnTo>
                    <a:pt x="67" y="0"/>
                  </a:lnTo>
                  <a:lnTo>
                    <a:pt x="62" y="3"/>
                  </a:lnTo>
                  <a:lnTo>
                    <a:pt x="53" y="6"/>
                  </a:lnTo>
                  <a:lnTo>
                    <a:pt x="39" y="10"/>
                  </a:lnTo>
                  <a:lnTo>
                    <a:pt x="25" y="17"/>
                  </a:lnTo>
                  <a:lnTo>
                    <a:pt x="14" y="24"/>
                  </a:lnTo>
                  <a:lnTo>
                    <a:pt x="2" y="3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230960" y="4122360"/>
              <a:ext cx="96120" cy="295920"/>
            </a:xfrm>
            <a:custGeom>
              <a:avLst/>
              <a:gdLst/>
              <a:ahLst/>
              <a:rect l="l" t="t" r="r" b="b"/>
              <a:pathLst>
                <a:path w="179" h="583">
                  <a:moveTo>
                    <a:pt x="158" y="572"/>
                  </a:moveTo>
                  <a:lnTo>
                    <a:pt x="175" y="565"/>
                  </a:lnTo>
                  <a:lnTo>
                    <a:pt x="138" y="514"/>
                  </a:lnTo>
                  <a:lnTo>
                    <a:pt x="106" y="449"/>
                  </a:lnTo>
                  <a:lnTo>
                    <a:pt x="83" y="374"/>
                  </a:lnTo>
                  <a:lnTo>
                    <a:pt x="65" y="294"/>
                  </a:lnTo>
                  <a:lnTo>
                    <a:pt x="51" y="212"/>
                  </a:lnTo>
                  <a:lnTo>
                    <a:pt x="40" y="132"/>
                  </a:lnTo>
                  <a:lnTo>
                    <a:pt x="30" y="60"/>
                  </a:lnTo>
                  <a:lnTo>
                    <a:pt x="21" y="0"/>
                  </a:lnTo>
                  <a:lnTo>
                    <a:pt x="0" y="2"/>
                  </a:lnTo>
                  <a:lnTo>
                    <a:pt x="9" y="62"/>
                  </a:lnTo>
                  <a:lnTo>
                    <a:pt x="19" y="134"/>
                  </a:lnTo>
                  <a:lnTo>
                    <a:pt x="29" y="215"/>
                  </a:lnTo>
                  <a:lnTo>
                    <a:pt x="43" y="296"/>
                  </a:lnTo>
                  <a:lnTo>
                    <a:pt x="62" y="378"/>
                  </a:lnTo>
                  <a:lnTo>
                    <a:pt x="87" y="456"/>
                  </a:lnTo>
                  <a:lnTo>
                    <a:pt x="119" y="524"/>
                  </a:lnTo>
                  <a:lnTo>
                    <a:pt x="161" y="579"/>
                  </a:lnTo>
                  <a:lnTo>
                    <a:pt x="179" y="572"/>
                  </a:lnTo>
                  <a:lnTo>
                    <a:pt x="161" y="579"/>
                  </a:lnTo>
                  <a:lnTo>
                    <a:pt x="169" y="583"/>
                  </a:lnTo>
                  <a:lnTo>
                    <a:pt x="175" y="579"/>
                  </a:lnTo>
                  <a:lnTo>
                    <a:pt x="179" y="572"/>
                  </a:lnTo>
                  <a:lnTo>
                    <a:pt x="175" y="565"/>
                  </a:lnTo>
                  <a:lnTo>
                    <a:pt x="158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316640" y="4347360"/>
              <a:ext cx="10080" cy="65880"/>
            </a:xfrm>
            <a:custGeom>
              <a:avLst/>
              <a:gdLst/>
              <a:ahLst/>
              <a:rect l="l" t="t" r="r" b="b"/>
              <a:pathLst>
                <a:path w="21" h="128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63"/>
                  </a:lnTo>
                  <a:lnTo>
                    <a:pt x="0" y="103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21" y="103"/>
                  </a:lnTo>
                  <a:lnTo>
                    <a:pt x="21" y="63"/>
                  </a:lnTo>
                  <a:lnTo>
                    <a:pt x="21" y="2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278840" y="3870000"/>
              <a:ext cx="53280" cy="477000"/>
            </a:xfrm>
            <a:custGeom>
              <a:avLst/>
              <a:gdLst/>
              <a:ahLst/>
              <a:rect l="l" t="t" r="r" b="b"/>
              <a:pathLst>
                <a:path w="96" h="935">
                  <a:moveTo>
                    <a:pt x="0" y="13"/>
                  </a:moveTo>
                  <a:lnTo>
                    <a:pt x="0" y="14"/>
                  </a:lnTo>
                  <a:lnTo>
                    <a:pt x="37" y="110"/>
                  </a:lnTo>
                  <a:lnTo>
                    <a:pt x="60" y="218"/>
                  </a:lnTo>
                  <a:lnTo>
                    <a:pt x="71" y="332"/>
                  </a:lnTo>
                  <a:lnTo>
                    <a:pt x="75" y="452"/>
                  </a:lnTo>
                  <a:lnTo>
                    <a:pt x="74" y="576"/>
                  </a:lnTo>
                  <a:lnTo>
                    <a:pt x="69" y="700"/>
                  </a:lnTo>
                  <a:lnTo>
                    <a:pt x="67" y="821"/>
                  </a:lnTo>
                  <a:lnTo>
                    <a:pt x="68" y="935"/>
                  </a:lnTo>
                  <a:lnTo>
                    <a:pt x="89" y="935"/>
                  </a:lnTo>
                  <a:lnTo>
                    <a:pt x="88" y="821"/>
                  </a:lnTo>
                  <a:lnTo>
                    <a:pt x="90" y="700"/>
                  </a:lnTo>
                  <a:lnTo>
                    <a:pt x="95" y="576"/>
                  </a:lnTo>
                  <a:lnTo>
                    <a:pt x="96" y="452"/>
                  </a:lnTo>
                  <a:lnTo>
                    <a:pt x="93" y="332"/>
                  </a:lnTo>
                  <a:lnTo>
                    <a:pt x="81" y="215"/>
                  </a:lnTo>
                  <a:lnTo>
                    <a:pt x="58" y="106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050600" y="3434040"/>
              <a:ext cx="534240" cy="550440"/>
            </a:xfrm>
            <a:custGeom>
              <a:avLst/>
              <a:gdLst/>
              <a:ahLst/>
              <a:rect l="l" t="t" r="r" b="b"/>
              <a:pathLst>
                <a:path w="997" h="1084">
                  <a:moveTo>
                    <a:pt x="866" y="316"/>
                  </a:moveTo>
                  <a:lnTo>
                    <a:pt x="854" y="332"/>
                  </a:lnTo>
                  <a:lnTo>
                    <a:pt x="838" y="344"/>
                  </a:lnTo>
                  <a:lnTo>
                    <a:pt x="820" y="353"/>
                  </a:lnTo>
                  <a:lnTo>
                    <a:pt x="801" y="361"/>
                  </a:lnTo>
                  <a:lnTo>
                    <a:pt x="780" y="365"/>
                  </a:lnTo>
                  <a:lnTo>
                    <a:pt x="759" y="368"/>
                  </a:lnTo>
                  <a:lnTo>
                    <a:pt x="737" y="371"/>
                  </a:lnTo>
                  <a:lnTo>
                    <a:pt x="719" y="371"/>
                  </a:lnTo>
                  <a:lnTo>
                    <a:pt x="710" y="402"/>
                  </a:lnTo>
                  <a:lnTo>
                    <a:pt x="699" y="429"/>
                  </a:lnTo>
                  <a:lnTo>
                    <a:pt x="685" y="454"/>
                  </a:lnTo>
                  <a:lnTo>
                    <a:pt x="671" y="476"/>
                  </a:lnTo>
                  <a:lnTo>
                    <a:pt x="653" y="495"/>
                  </a:lnTo>
                  <a:lnTo>
                    <a:pt x="631" y="514"/>
                  </a:lnTo>
                  <a:lnTo>
                    <a:pt x="608" y="530"/>
                  </a:lnTo>
                  <a:lnTo>
                    <a:pt x="581" y="547"/>
                  </a:lnTo>
                  <a:lnTo>
                    <a:pt x="574" y="555"/>
                  </a:lnTo>
                  <a:lnTo>
                    <a:pt x="571" y="567"/>
                  </a:lnTo>
                  <a:lnTo>
                    <a:pt x="570" y="579"/>
                  </a:lnTo>
                  <a:lnTo>
                    <a:pt x="570" y="590"/>
                  </a:lnTo>
                  <a:lnTo>
                    <a:pt x="459" y="958"/>
                  </a:lnTo>
                  <a:lnTo>
                    <a:pt x="455" y="967"/>
                  </a:lnTo>
                  <a:lnTo>
                    <a:pt x="447" y="972"/>
                  </a:lnTo>
                  <a:lnTo>
                    <a:pt x="436" y="977"/>
                  </a:lnTo>
                  <a:lnTo>
                    <a:pt x="421" y="980"/>
                  </a:lnTo>
                  <a:lnTo>
                    <a:pt x="405" y="981"/>
                  </a:lnTo>
                  <a:lnTo>
                    <a:pt x="388" y="981"/>
                  </a:lnTo>
                  <a:lnTo>
                    <a:pt x="369" y="980"/>
                  </a:lnTo>
                  <a:lnTo>
                    <a:pt x="348" y="980"/>
                  </a:lnTo>
                  <a:lnTo>
                    <a:pt x="328" y="978"/>
                  </a:lnTo>
                  <a:lnTo>
                    <a:pt x="308" y="977"/>
                  </a:lnTo>
                  <a:lnTo>
                    <a:pt x="290" y="977"/>
                  </a:lnTo>
                  <a:lnTo>
                    <a:pt x="272" y="977"/>
                  </a:lnTo>
                  <a:lnTo>
                    <a:pt x="256" y="980"/>
                  </a:lnTo>
                  <a:lnTo>
                    <a:pt x="241" y="982"/>
                  </a:lnTo>
                  <a:lnTo>
                    <a:pt x="229" y="987"/>
                  </a:lnTo>
                  <a:lnTo>
                    <a:pt x="221" y="993"/>
                  </a:lnTo>
                  <a:lnTo>
                    <a:pt x="212" y="1003"/>
                  </a:lnTo>
                  <a:lnTo>
                    <a:pt x="206" y="1012"/>
                  </a:lnTo>
                  <a:lnTo>
                    <a:pt x="201" y="1021"/>
                  </a:lnTo>
                  <a:lnTo>
                    <a:pt x="195" y="1029"/>
                  </a:lnTo>
                  <a:lnTo>
                    <a:pt x="191" y="1039"/>
                  </a:lnTo>
                  <a:lnTo>
                    <a:pt x="186" y="1051"/>
                  </a:lnTo>
                  <a:lnTo>
                    <a:pt x="181" y="1066"/>
                  </a:lnTo>
                  <a:lnTo>
                    <a:pt x="173" y="1084"/>
                  </a:lnTo>
                  <a:lnTo>
                    <a:pt x="151" y="1071"/>
                  </a:lnTo>
                  <a:lnTo>
                    <a:pt x="135" y="1059"/>
                  </a:lnTo>
                  <a:lnTo>
                    <a:pt x="128" y="1044"/>
                  </a:lnTo>
                  <a:lnTo>
                    <a:pt x="122" y="1029"/>
                  </a:lnTo>
                  <a:lnTo>
                    <a:pt x="121" y="1012"/>
                  </a:lnTo>
                  <a:lnTo>
                    <a:pt x="120" y="995"/>
                  </a:lnTo>
                  <a:lnTo>
                    <a:pt x="119" y="975"/>
                  </a:lnTo>
                  <a:lnTo>
                    <a:pt x="114" y="953"/>
                  </a:lnTo>
                  <a:lnTo>
                    <a:pt x="103" y="928"/>
                  </a:lnTo>
                  <a:lnTo>
                    <a:pt x="90" y="901"/>
                  </a:lnTo>
                  <a:lnTo>
                    <a:pt x="74" y="877"/>
                  </a:lnTo>
                  <a:lnTo>
                    <a:pt x="58" y="851"/>
                  </a:lnTo>
                  <a:lnTo>
                    <a:pt x="41" y="826"/>
                  </a:lnTo>
                  <a:lnTo>
                    <a:pt x="26" y="801"/>
                  </a:lnTo>
                  <a:lnTo>
                    <a:pt x="13" y="776"/>
                  </a:lnTo>
                  <a:lnTo>
                    <a:pt x="5" y="749"/>
                  </a:lnTo>
                  <a:lnTo>
                    <a:pt x="0" y="717"/>
                  </a:lnTo>
                  <a:lnTo>
                    <a:pt x="2" y="684"/>
                  </a:lnTo>
                  <a:lnTo>
                    <a:pt x="8" y="653"/>
                  </a:lnTo>
                  <a:lnTo>
                    <a:pt x="19" y="623"/>
                  </a:lnTo>
                  <a:lnTo>
                    <a:pt x="33" y="593"/>
                  </a:lnTo>
                  <a:lnTo>
                    <a:pt x="51" y="565"/>
                  </a:lnTo>
                  <a:lnTo>
                    <a:pt x="71" y="536"/>
                  </a:lnTo>
                  <a:lnTo>
                    <a:pt x="92" y="509"/>
                  </a:lnTo>
                  <a:lnTo>
                    <a:pt x="114" y="482"/>
                  </a:lnTo>
                  <a:lnTo>
                    <a:pt x="137" y="455"/>
                  </a:lnTo>
                  <a:lnTo>
                    <a:pt x="159" y="428"/>
                  </a:lnTo>
                  <a:lnTo>
                    <a:pt x="181" y="403"/>
                  </a:lnTo>
                  <a:lnTo>
                    <a:pt x="200" y="377"/>
                  </a:lnTo>
                  <a:lnTo>
                    <a:pt x="215" y="351"/>
                  </a:lnTo>
                  <a:lnTo>
                    <a:pt x="230" y="326"/>
                  </a:lnTo>
                  <a:lnTo>
                    <a:pt x="241" y="301"/>
                  </a:lnTo>
                  <a:lnTo>
                    <a:pt x="243" y="266"/>
                  </a:lnTo>
                  <a:lnTo>
                    <a:pt x="235" y="228"/>
                  </a:lnTo>
                  <a:lnTo>
                    <a:pt x="231" y="192"/>
                  </a:lnTo>
                  <a:lnTo>
                    <a:pt x="234" y="157"/>
                  </a:lnTo>
                  <a:lnTo>
                    <a:pt x="247" y="132"/>
                  </a:lnTo>
                  <a:lnTo>
                    <a:pt x="263" y="110"/>
                  </a:lnTo>
                  <a:lnTo>
                    <a:pt x="280" y="93"/>
                  </a:lnTo>
                  <a:lnTo>
                    <a:pt x="297" y="77"/>
                  </a:lnTo>
                  <a:lnTo>
                    <a:pt x="315" y="65"/>
                  </a:lnTo>
                  <a:lnTo>
                    <a:pt x="335" y="56"/>
                  </a:lnTo>
                  <a:lnTo>
                    <a:pt x="356" y="49"/>
                  </a:lnTo>
                  <a:lnTo>
                    <a:pt x="377" y="43"/>
                  </a:lnTo>
                  <a:lnTo>
                    <a:pt x="398" y="39"/>
                  </a:lnTo>
                  <a:lnTo>
                    <a:pt x="420" y="36"/>
                  </a:lnTo>
                  <a:lnTo>
                    <a:pt x="445" y="32"/>
                  </a:lnTo>
                  <a:lnTo>
                    <a:pt x="467" y="30"/>
                  </a:lnTo>
                  <a:lnTo>
                    <a:pt x="490" y="27"/>
                  </a:lnTo>
                  <a:lnTo>
                    <a:pt x="512" y="24"/>
                  </a:lnTo>
                  <a:lnTo>
                    <a:pt x="536" y="21"/>
                  </a:lnTo>
                  <a:lnTo>
                    <a:pt x="559" y="14"/>
                  </a:lnTo>
                  <a:lnTo>
                    <a:pt x="583" y="9"/>
                  </a:lnTo>
                  <a:lnTo>
                    <a:pt x="608" y="4"/>
                  </a:lnTo>
                  <a:lnTo>
                    <a:pt x="630" y="1"/>
                  </a:lnTo>
                  <a:lnTo>
                    <a:pt x="653" y="0"/>
                  </a:lnTo>
                  <a:lnTo>
                    <a:pt x="674" y="0"/>
                  </a:lnTo>
                  <a:lnTo>
                    <a:pt x="695" y="1"/>
                  </a:lnTo>
                  <a:lnTo>
                    <a:pt x="715" y="3"/>
                  </a:lnTo>
                  <a:lnTo>
                    <a:pt x="735" y="6"/>
                  </a:lnTo>
                  <a:lnTo>
                    <a:pt x="754" y="12"/>
                  </a:lnTo>
                  <a:lnTo>
                    <a:pt x="773" y="19"/>
                  </a:lnTo>
                  <a:lnTo>
                    <a:pt x="793" y="26"/>
                  </a:lnTo>
                  <a:lnTo>
                    <a:pt x="812" y="34"/>
                  </a:lnTo>
                  <a:lnTo>
                    <a:pt x="832" y="45"/>
                  </a:lnTo>
                  <a:lnTo>
                    <a:pt x="852" y="56"/>
                  </a:lnTo>
                  <a:lnTo>
                    <a:pt x="872" y="67"/>
                  </a:lnTo>
                  <a:lnTo>
                    <a:pt x="893" y="81"/>
                  </a:lnTo>
                  <a:lnTo>
                    <a:pt x="914" y="94"/>
                  </a:lnTo>
                  <a:lnTo>
                    <a:pt x="935" y="107"/>
                  </a:lnTo>
                  <a:lnTo>
                    <a:pt x="954" y="123"/>
                  </a:lnTo>
                  <a:lnTo>
                    <a:pt x="967" y="141"/>
                  </a:lnTo>
                  <a:lnTo>
                    <a:pt x="975" y="161"/>
                  </a:lnTo>
                  <a:lnTo>
                    <a:pt x="975" y="182"/>
                  </a:lnTo>
                  <a:lnTo>
                    <a:pt x="965" y="207"/>
                  </a:lnTo>
                  <a:lnTo>
                    <a:pt x="943" y="234"/>
                  </a:lnTo>
                  <a:lnTo>
                    <a:pt x="974" y="269"/>
                  </a:lnTo>
                  <a:lnTo>
                    <a:pt x="991" y="302"/>
                  </a:lnTo>
                  <a:lnTo>
                    <a:pt x="997" y="331"/>
                  </a:lnTo>
                  <a:lnTo>
                    <a:pt x="994" y="359"/>
                  </a:lnTo>
                  <a:lnTo>
                    <a:pt x="983" y="386"/>
                  </a:lnTo>
                  <a:lnTo>
                    <a:pt x="964" y="414"/>
                  </a:lnTo>
                  <a:lnTo>
                    <a:pt x="940" y="440"/>
                  </a:lnTo>
                  <a:lnTo>
                    <a:pt x="913" y="468"/>
                  </a:lnTo>
                  <a:lnTo>
                    <a:pt x="912" y="445"/>
                  </a:lnTo>
                  <a:lnTo>
                    <a:pt x="909" y="424"/>
                  </a:lnTo>
                  <a:lnTo>
                    <a:pt x="905" y="404"/>
                  </a:lnTo>
                  <a:lnTo>
                    <a:pt x="900" y="385"/>
                  </a:lnTo>
                  <a:lnTo>
                    <a:pt x="893" y="367"/>
                  </a:lnTo>
                  <a:lnTo>
                    <a:pt x="885" y="349"/>
                  </a:lnTo>
                  <a:lnTo>
                    <a:pt x="875" y="333"/>
                  </a:lnTo>
                  <a:lnTo>
                    <a:pt x="866" y="316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431480" y="3592080"/>
              <a:ext cx="88560" cy="35640"/>
            </a:xfrm>
            <a:custGeom>
              <a:avLst/>
              <a:gdLst/>
              <a:ahLst/>
              <a:rect l="l" t="t" r="r" b="b"/>
              <a:pathLst>
                <a:path w="164" h="69">
                  <a:moveTo>
                    <a:pt x="19" y="61"/>
                  </a:moveTo>
                  <a:lnTo>
                    <a:pt x="9" y="69"/>
                  </a:lnTo>
                  <a:lnTo>
                    <a:pt x="27" y="69"/>
                  </a:lnTo>
                  <a:lnTo>
                    <a:pt x="50" y="66"/>
                  </a:lnTo>
                  <a:lnTo>
                    <a:pt x="71" y="62"/>
                  </a:lnTo>
                  <a:lnTo>
                    <a:pt x="94" y="57"/>
                  </a:lnTo>
                  <a:lnTo>
                    <a:pt x="114" y="50"/>
                  </a:lnTo>
                  <a:lnTo>
                    <a:pt x="134" y="40"/>
                  </a:lnTo>
                  <a:lnTo>
                    <a:pt x="151" y="26"/>
                  </a:lnTo>
                  <a:lnTo>
                    <a:pt x="164" y="10"/>
                  </a:lnTo>
                  <a:lnTo>
                    <a:pt x="147" y="0"/>
                  </a:lnTo>
                  <a:lnTo>
                    <a:pt x="138" y="14"/>
                  </a:lnTo>
                  <a:lnTo>
                    <a:pt x="124" y="23"/>
                  </a:lnTo>
                  <a:lnTo>
                    <a:pt x="106" y="33"/>
                  </a:lnTo>
                  <a:lnTo>
                    <a:pt x="88" y="39"/>
                  </a:lnTo>
                  <a:lnTo>
                    <a:pt x="68" y="43"/>
                  </a:lnTo>
                  <a:lnTo>
                    <a:pt x="47" y="47"/>
                  </a:lnTo>
                  <a:lnTo>
                    <a:pt x="27" y="50"/>
                  </a:lnTo>
                  <a:lnTo>
                    <a:pt x="9" y="50"/>
                  </a:lnTo>
                  <a:lnTo>
                    <a:pt x="0" y="56"/>
                  </a:lnTo>
                  <a:lnTo>
                    <a:pt x="9" y="50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9" y="69"/>
                  </a:lnTo>
                  <a:lnTo>
                    <a:pt x="1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359120" y="3620160"/>
              <a:ext cx="83160" cy="9648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9" y="187"/>
                  </a:moveTo>
                  <a:lnTo>
                    <a:pt x="9" y="187"/>
                  </a:lnTo>
                  <a:lnTo>
                    <a:pt x="35" y="170"/>
                  </a:lnTo>
                  <a:lnTo>
                    <a:pt x="61" y="152"/>
                  </a:lnTo>
                  <a:lnTo>
                    <a:pt x="82" y="134"/>
                  </a:lnTo>
                  <a:lnTo>
                    <a:pt x="101" y="114"/>
                  </a:lnTo>
                  <a:lnTo>
                    <a:pt x="117" y="90"/>
                  </a:lnTo>
                  <a:lnTo>
                    <a:pt x="129" y="66"/>
                  </a:lnTo>
                  <a:lnTo>
                    <a:pt x="141" y="36"/>
                  </a:lnTo>
                  <a:lnTo>
                    <a:pt x="152" y="5"/>
                  </a:lnTo>
                  <a:lnTo>
                    <a:pt x="133" y="0"/>
                  </a:lnTo>
                  <a:lnTo>
                    <a:pt x="124" y="31"/>
                  </a:lnTo>
                  <a:lnTo>
                    <a:pt x="114" y="58"/>
                  </a:lnTo>
                  <a:lnTo>
                    <a:pt x="101" y="80"/>
                  </a:lnTo>
                  <a:lnTo>
                    <a:pt x="86" y="102"/>
                  </a:lnTo>
                  <a:lnTo>
                    <a:pt x="70" y="119"/>
                  </a:lnTo>
                  <a:lnTo>
                    <a:pt x="48" y="138"/>
                  </a:lnTo>
                  <a:lnTo>
                    <a:pt x="26" y="154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9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351200" y="3706920"/>
              <a:ext cx="13320" cy="2772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19" y="55"/>
                  </a:moveTo>
                  <a:lnTo>
                    <a:pt x="19" y="52"/>
                  </a:lnTo>
                  <a:lnTo>
                    <a:pt x="19" y="41"/>
                  </a:lnTo>
                  <a:lnTo>
                    <a:pt x="20" y="30"/>
                  </a:lnTo>
                  <a:lnTo>
                    <a:pt x="22" y="20"/>
                  </a:lnTo>
                  <a:lnTo>
                    <a:pt x="25" y="17"/>
                  </a:lnTo>
                  <a:lnTo>
                    <a:pt x="16" y="0"/>
                  </a:lnTo>
                  <a:lnTo>
                    <a:pt x="6" y="14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292160" y="3732480"/>
              <a:ext cx="69840" cy="191160"/>
            </a:xfrm>
            <a:custGeom>
              <a:avLst/>
              <a:gdLst/>
              <a:ahLst/>
              <a:rect l="l" t="t" r="r" b="b"/>
              <a:pathLst>
                <a:path w="130" h="373">
                  <a:moveTo>
                    <a:pt x="19" y="373"/>
                  </a:moveTo>
                  <a:lnTo>
                    <a:pt x="19" y="373"/>
                  </a:lnTo>
                  <a:lnTo>
                    <a:pt x="130" y="5"/>
                  </a:lnTo>
                  <a:lnTo>
                    <a:pt x="111" y="0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19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166160" y="3921120"/>
              <a:ext cx="136800" cy="23040"/>
            </a:xfrm>
            <a:custGeom>
              <a:avLst/>
              <a:gdLst/>
              <a:ahLst/>
              <a:rect l="l" t="t" r="r" b="b"/>
              <a:pathLst>
                <a:path w="256" h="44">
                  <a:moveTo>
                    <a:pt x="14" y="44"/>
                  </a:moveTo>
                  <a:lnTo>
                    <a:pt x="14" y="44"/>
                  </a:lnTo>
                  <a:lnTo>
                    <a:pt x="20" y="39"/>
                  </a:lnTo>
                  <a:lnTo>
                    <a:pt x="30" y="35"/>
                  </a:lnTo>
                  <a:lnTo>
                    <a:pt x="44" y="33"/>
                  </a:lnTo>
                  <a:lnTo>
                    <a:pt x="59" y="31"/>
                  </a:lnTo>
                  <a:lnTo>
                    <a:pt x="77" y="31"/>
                  </a:lnTo>
                  <a:lnTo>
                    <a:pt x="95" y="31"/>
                  </a:lnTo>
                  <a:lnTo>
                    <a:pt x="115" y="32"/>
                  </a:lnTo>
                  <a:lnTo>
                    <a:pt x="135" y="33"/>
                  </a:lnTo>
                  <a:lnTo>
                    <a:pt x="156" y="33"/>
                  </a:lnTo>
                  <a:lnTo>
                    <a:pt x="175" y="34"/>
                  </a:lnTo>
                  <a:lnTo>
                    <a:pt x="192" y="34"/>
                  </a:lnTo>
                  <a:lnTo>
                    <a:pt x="208" y="33"/>
                  </a:lnTo>
                  <a:lnTo>
                    <a:pt x="225" y="31"/>
                  </a:lnTo>
                  <a:lnTo>
                    <a:pt x="238" y="25"/>
                  </a:lnTo>
                  <a:lnTo>
                    <a:pt x="248" y="16"/>
                  </a:lnTo>
                  <a:lnTo>
                    <a:pt x="256" y="5"/>
                  </a:lnTo>
                  <a:lnTo>
                    <a:pt x="237" y="0"/>
                  </a:lnTo>
                  <a:lnTo>
                    <a:pt x="235" y="5"/>
                  </a:lnTo>
                  <a:lnTo>
                    <a:pt x="228" y="9"/>
                  </a:lnTo>
                  <a:lnTo>
                    <a:pt x="221" y="12"/>
                  </a:lnTo>
                  <a:lnTo>
                    <a:pt x="208" y="14"/>
                  </a:lnTo>
                  <a:lnTo>
                    <a:pt x="192" y="15"/>
                  </a:lnTo>
                  <a:lnTo>
                    <a:pt x="175" y="15"/>
                  </a:lnTo>
                  <a:lnTo>
                    <a:pt x="156" y="14"/>
                  </a:lnTo>
                  <a:lnTo>
                    <a:pt x="135" y="14"/>
                  </a:lnTo>
                  <a:lnTo>
                    <a:pt x="115" y="13"/>
                  </a:lnTo>
                  <a:lnTo>
                    <a:pt x="95" y="12"/>
                  </a:lnTo>
                  <a:lnTo>
                    <a:pt x="77" y="12"/>
                  </a:lnTo>
                  <a:lnTo>
                    <a:pt x="59" y="12"/>
                  </a:lnTo>
                  <a:lnTo>
                    <a:pt x="41" y="14"/>
                  </a:lnTo>
                  <a:lnTo>
                    <a:pt x="26" y="16"/>
                  </a:lnTo>
                  <a:lnTo>
                    <a:pt x="11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139520" y="3936600"/>
              <a:ext cx="31320" cy="52920"/>
            </a:xfrm>
            <a:custGeom>
              <a:avLst/>
              <a:gdLst/>
              <a:ahLst/>
              <a:rect l="l" t="t" r="r" b="b"/>
              <a:pathLst>
                <a:path w="62" h="105">
                  <a:moveTo>
                    <a:pt x="5" y="105"/>
                  </a:moveTo>
                  <a:lnTo>
                    <a:pt x="17" y="100"/>
                  </a:lnTo>
                  <a:lnTo>
                    <a:pt x="24" y="80"/>
                  </a:lnTo>
                  <a:lnTo>
                    <a:pt x="29" y="68"/>
                  </a:lnTo>
                  <a:lnTo>
                    <a:pt x="35" y="54"/>
                  </a:lnTo>
                  <a:lnTo>
                    <a:pt x="39" y="45"/>
                  </a:lnTo>
                  <a:lnTo>
                    <a:pt x="44" y="38"/>
                  </a:lnTo>
                  <a:lnTo>
                    <a:pt x="48" y="30"/>
                  </a:lnTo>
                  <a:lnTo>
                    <a:pt x="55" y="21"/>
                  </a:lnTo>
                  <a:lnTo>
                    <a:pt x="62" y="12"/>
                  </a:lnTo>
                  <a:lnTo>
                    <a:pt x="48" y="0"/>
                  </a:lnTo>
                  <a:lnTo>
                    <a:pt x="40" y="9"/>
                  </a:lnTo>
                  <a:lnTo>
                    <a:pt x="35" y="20"/>
                  </a:lnTo>
                  <a:lnTo>
                    <a:pt x="27" y="28"/>
                  </a:lnTo>
                  <a:lnTo>
                    <a:pt x="23" y="36"/>
                  </a:lnTo>
                  <a:lnTo>
                    <a:pt x="18" y="46"/>
                  </a:lnTo>
                  <a:lnTo>
                    <a:pt x="13" y="60"/>
                  </a:lnTo>
                  <a:lnTo>
                    <a:pt x="7" y="75"/>
                  </a:lnTo>
                  <a:lnTo>
                    <a:pt x="0" y="93"/>
                  </a:lnTo>
                  <a:lnTo>
                    <a:pt x="11" y="89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5" y="105"/>
                  </a:lnTo>
                  <a:lnTo>
                    <a:pt x="11" y="105"/>
                  </a:lnTo>
                  <a:lnTo>
                    <a:pt x="17" y="100"/>
                  </a:lnTo>
                  <a:lnTo>
                    <a:pt x="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107480" y="3918600"/>
              <a:ext cx="37080" cy="70920"/>
            </a:xfrm>
            <a:custGeom>
              <a:avLst/>
              <a:gdLst/>
              <a:ahLst/>
              <a:rect l="l" t="t" r="r" b="b"/>
              <a:pathLst>
                <a:path w="71" h="142">
                  <a:moveTo>
                    <a:pt x="0" y="5"/>
                  </a:moveTo>
                  <a:lnTo>
                    <a:pt x="0" y="5"/>
                  </a:lnTo>
                  <a:lnTo>
                    <a:pt x="5" y="25"/>
                  </a:lnTo>
                  <a:lnTo>
                    <a:pt x="6" y="44"/>
                  </a:lnTo>
                  <a:lnTo>
                    <a:pt x="7" y="61"/>
                  </a:lnTo>
                  <a:lnTo>
                    <a:pt x="8" y="79"/>
                  </a:lnTo>
                  <a:lnTo>
                    <a:pt x="14" y="97"/>
                  </a:lnTo>
                  <a:lnTo>
                    <a:pt x="24" y="113"/>
                  </a:lnTo>
                  <a:lnTo>
                    <a:pt x="42" y="128"/>
                  </a:lnTo>
                  <a:lnTo>
                    <a:pt x="65" y="142"/>
                  </a:lnTo>
                  <a:lnTo>
                    <a:pt x="71" y="126"/>
                  </a:lnTo>
                  <a:lnTo>
                    <a:pt x="50" y="113"/>
                  </a:lnTo>
                  <a:lnTo>
                    <a:pt x="38" y="101"/>
                  </a:lnTo>
                  <a:lnTo>
                    <a:pt x="30" y="90"/>
                  </a:lnTo>
                  <a:lnTo>
                    <a:pt x="27" y="77"/>
                  </a:lnTo>
                  <a:lnTo>
                    <a:pt x="26" y="61"/>
                  </a:lnTo>
                  <a:lnTo>
                    <a:pt x="25" y="44"/>
                  </a:lnTo>
                  <a:lnTo>
                    <a:pt x="24" y="2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048440" y="3814200"/>
              <a:ext cx="69120" cy="106920"/>
            </a:xfrm>
            <a:custGeom>
              <a:avLst/>
              <a:gdLst/>
              <a:ahLst/>
              <a:rect l="l" t="t" r="r" b="b"/>
              <a:pathLst>
                <a:path w="128" h="208">
                  <a:moveTo>
                    <a:pt x="0" y="2"/>
                  </a:moveTo>
                  <a:lnTo>
                    <a:pt x="0" y="2"/>
                  </a:lnTo>
                  <a:lnTo>
                    <a:pt x="9" y="31"/>
                  </a:lnTo>
                  <a:lnTo>
                    <a:pt x="22" y="58"/>
                  </a:lnTo>
                  <a:lnTo>
                    <a:pt x="37" y="83"/>
                  </a:lnTo>
                  <a:lnTo>
                    <a:pt x="54" y="108"/>
                  </a:lnTo>
                  <a:lnTo>
                    <a:pt x="70" y="133"/>
                  </a:lnTo>
                  <a:lnTo>
                    <a:pt x="85" y="159"/>
                  </a:lnTo>
                  <a:lnTo>
                    <a:pt x="100" y="183"/>
                  </a:lnTo>
                  <a:lnTo>
                    <a:pt x="109" y="208"/>
                  </a:lnTo>
                  <a:lnTo>
                    <a:pt x="128" y="203"/>
                  </a:lnTo>
                  <a:lnTo>
                    <a:pt x="116" y="177"/>
                  </a:lnTo>
                  <a:lnTo>
                    <a:pt x="102" y="149"/>
                  </a:lnTo>
                  <a:lnTo>
                    <a:pt x="86" y="124"/>
                  </a:lnTo>
                  <a:lnTo>
                    <a:pt x="70" y="98"/>
                  </a:lnTo>
                  <a:lnTo>
                    <a:pt x="54" y="73"/>
                  </a:lnTo>
                  <a:lnTo>
                    <a:pt x="39" y="49"/>
                  </a:lnTo>
                  <a:lnTo>
                    <a:pt x="25" y="2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045200" y="3584520"/>
              <a:ext cx="139680" cy="231840"/>
            </a:xfrm>
            <a:custGeom>
              <a:avLst/>
              <a:gdLst/>
              <a:ahLst/>
              <a:rect l="l" t="t" r="r" b="b"/>
              <a:pathLst>
                <a:path w="260" h="453">
                  <a:moveTo>
                    <a:pt x="241" y="0"/>
                  </a:moveTo>
                  <a:lnTo>
                    <a:pt x="242" y="0"/>
                  </a:lnTo>
                  <a:lnTo>
                    <a:pt x="232" y="26"/>
                  </a:lnTo>
                  <a:lnTo>
                    <a:pt x="217" y="49"/>
                  </a:lnTo>
                  <a:lnTo>
                    <a:pt x="202" y="75"/>
                  </a:lnTo>
                  <a:lnTo>
                    <a:pt x="183" y="100"/>
                  </a:lnTo>
                  <a:lnTo>
                    <a:pt x="162" y="126"/>
                  </a:lnTo>
                  <a:lnTo>
                    <a:pt x="140" y="151"/>
                  </a:lnTo>
                  <a:lnTo>
                    <a:pt x="118" y="179"/>
                  </a:lnTo>
                  <a:lnTo>
                    <a:pt x="94" y="206"/>
                  </a:lnTo>
                  <a:lnTo>
                    <a:pt x="73" y="233"/>
                  </a:lnTo>
                  <a:lnTo>
                    <a:pt x="53" y="262"/>
                  </a:lnTo>
                  <a:lnTo>
                    <a:pt x="35" y="291"/>
                  </a:lnTo>
                  <a:lnTo>
                    <a:pt x="21" y="321"/>
                  </a:lnTo>
                  <a:lnTo>
                    <a:pt x="9" y="353"/>
                  </a:lnTo>
                  <a:lnTo>
                    <a:pt x="4" y="386"/>
                  </a:lnTo>
                  <a:lnTo>
                    <a:pt x="0" y="420"/>
                  </a:lnTo>
                  <a:lnTo>
                    <a:pt x="6" y="453"/>
                  </a:lnTo>
                  <a:lnTo>
                    <a:pt x="25" y="451"/>
                  </a:lnTo>
                  <a:lnTo>
                    <a:pt x="19" y="420"/>
                  </a:lnTo>
                  <a:lnTo>
                    <a:pt x="22" y="388"/>
                  </a:lnTo>
                  <a:lnTo>
                    <a:pt x="28" y="358"/>
                  </a:lnTo>
                  <a:lnTo>
                    <a:pt x="37" y="329"/>
                  </a:lnTo>
                  <a:lnTo>
                    <a:pt x="51" y="300"/>
                  </a:lnTo>
                  <a:lnTo>
                    <a:pt x="68" y="272"/>
                  </a:lnTo>
                  <a:lnTo>
                    <a:pt x="88" y="245"/>
                  </a:lnTo>
                  <a:lnTo>
                    <a:pt x="109" y="218"/>
                  </a:lnTo>
                  <a:lnTo>
                    <a:pt x="131" y="190"/>
                  </a:lnTo>
                  <a:lnTo>
                    <a:pt x="154" y="163"/>
                  </a:lnTo>
                  <a:lnTo>
                    <a:pt x="176" y="138"/>
                  </a:lnTo>
                  <a:lnTo>
                    <a:pt x="198" y="111"/>
                  </a:lnTo>
                  <a:lnTo>
                    <a:pt x="216" y="85"/>
                  </a:lnTo>
                  <a:lnTo>
                    <a:pt x="234" y="58"/>
                  </a:lnTo>
                  <a:lnTo>
                    <a:pt x="249" y="32"/>
                  </a:lnTo>
                  <a:lnTo>
                    <a:pt x="259" y="6"/>
                  </a:lnTo>
                  <a:lnTo>
                    <a:pt x="260" y="6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168680" y="3510360"/>
              <a:ext cx="16200" cy="76320"/>
            </a:xfrm>
            <a:custGeom>
              <a:avLst/>
              <a:gdLst/>
              <a:ahLst/>
              <a:rect l="l" t="t" r="r" b="b"/>
              <a:pathLst>
                <a:path w="30" h="149">
                  <a:moveTo>
                    <a:pt x="4" y="0"/>
                  </a:moveTo>
                  <a:lnTo>
                    <a:pt x="4" y="1"/>
                  </a:lnTo>
                  <a:lnTo>
                    <a:pt x="0" y="38"/>
                  </a:lnTo>
                  <a:lnTo>
                    <a:pt x="4" y="76"/>
                  </a:lnTo>
                  <a:lnTo>
                    <a:pt x="11" y="112"/>
                  </a:lnTo>
                  <a:lnTo>
                    <a:pt x="9" y="143"/>
                  </a:lnTo>
                  <a:lnTo>
                    <a:pt x="28" y="149"/>
                  </a:lnTo>
                  <a:lnTo>
                    <a:pt x="30" y="112"/>
                  </a:lnTo>
                  <a:lnTo>
                    <a:pt x="23" y="73"/>
                  </a:lnTo>
                  <a:lnTo>
                    <a:pt x="19" y="38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171200" y="3436200"/>
              <a:ext cx="180000" cy="79200"/>
            </a:xfrm>
            <a:custGeom>
              <a:avLst/>
              <a:gdLst/>
              <a:ahLst/>
              <a:rect l="l" t="t" r="r" b="b"/>
              <a:pathLst>
                <a:path w="335" h="156">
                  <a:moveTo>
                    <a:pt x="330" y="0"/>
                  </a:moveTo>
                  <a:lnTo>
                    <a:pt x="330" y="0"/>
                  </a:lnTo>
                  <a:lnTo>
                    <a:pt x="309" y="6"/>
                  </a:lnTo>
                  <a:lnTo>
                    <a:pt x="285" y="9"/>
                  </a:lnTo>
                  <a:lnTo>
                    <a:pt x="263" y="14"/>
                  </a:lnTo>
                  <a:lnTo>
                    <a:pt x="241" y="16"/>
                  </a:lnTo>
                  <a:lnTo>
                    <a:pt x="217" y="18"/>
                  </a:lnTo>
                  <a:lnTo>
                    <a:pt x="193" y="21"/>
                  </a:lnTo>
                  <a:lnTo>
                    <a:pt x="171" y="24"/>
                  </a:lnTo>
                  <a:lnTo>
                    <a:pt x="149" y="28"/>
                  </a:lnTo>
                  <a:lnTo>
                    <a:pt x="128" y="35"/>
                  </a:lnTo>
                  <a:lnTo>
                    <a:pt x="106" y="42"/>
                  </a:lnTo>
                  <a:lnTo>
                    <a:pt x="84" y="52"/>
                  </a:lnTo>
                  <a:lnTo>
                    <a:pt x="65" y="65"/>
                  </a:lnTo>
                  <a:lnTo>
                    <a:pt x="47" y="80"/>
                  </a:lnTo>
                  <a:lnTo>
                    <a:pt x="30" y="99"/>
                  </a:lnTo>
                  <a:lnTo>
                    <a:pt x="14" y="121"/>
                  </a:lnTo>
                  <a:lnTo>
                    <a:pt x="0" y="149"/>
                  </a:lnTo>
                  <a:lnTo>
                    <a:pt x="17" y="156"/>
                  </a:lnTo>
                  <a:lnTo>
                    <a:pt x="30" y="131"/>
                  </a:lnTo>
                  <a:lnTo>
                    <a:pt x="44" y="111"/>
                  </a:lnTo>
                  <a:lnTo>
                    <a:pt x="59" y="95"/>
                  </a:lnTo>
                  <a:lnTo>
                    <a:pt x="77" y="79"/>
                  </a:lnTo>
                  <a:lnTo>
                    <a:pt x="93" y="69"/>
                  </a:lnTo>
                  <a:lnTo>
                    <a:pt x="112" y="59"/>
                  </a:lnTo>
                  <a:lnTo>
                    <a:pt x="132" y="54"/>
                  </a:lnTo>
                  <a:lnTo>
                    <a:pt x="153" y="47"/>
                  </a:lnTo>
                  <a:lnTo>
                    <a:pt x="173" y="42"/>
                  </a:lnTo>
                  <a:lnTo>
                    <a:pt x="195" y="40"/>
                  </a:lnTo>
                  <a:lnTo>
                    <a:pt x="220" y="37"/>
                  </a:lnTo>
                  <a:lnTo>
                    <a:pt x="241" y="35"/>
                  </a:lnTo>
                  <a:lnTo>
                    <a:pt x="265" y="32"/>
                  </a:lnTo>
                  <a:lnTo>
                    <a:pt x="288" y="28"/>
                  </a:lnTo>
                  <a:lnTo>
                    <a:pt x="311" y="25"/>
                  </a:lnTo>
                  <a:lnTo>
                    <a:pt x="335" y="19"/>
                  </a:lnTo>
                  <a:lnTo>
                    <a:pt x="335" y="19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349040" y="3429000"/>
              <a:ext cx="184680" cy="4824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42" y="82"/>
                  </a:moveTo>
                  <a:lnTo>
                    <a:pt x="342" y="82"/>
                  </a:lnTo>
                  <a:lnTo>
                    <a:pt x="320" y="70"/>
                  </a:lnTo>
                  <a:lnTo>
                    <a:pt x="300" y="57"/>
                  </a:lnTo>
                  <a:lnTo>
                    <a:pt x="279" y="47"/>
                  </a:lnTo>
                  <a:lnTo>
                    <a:pt x="259" y="36"/>
                  </a:lnTo>
                  <a:lnTo>
                    <a:pt x="240" y="29"/>
                  </a:lnTo>
                  <a:lnTo>
                    <a:pt x="219" y="20"/>
                  </a:lnTo>
                  <a:lnTo>
                    <a:pt x="200" y="13"/>
                  </a:lnTo>
                  <a:lnTo>
                    <a:pt x="180" y="6"/>
                  </a:lnTo>
                  <a:lnTo>
                    <a:pt x="160" y="3"/>
                  </a:lnTo>
                  <a:lnTo>
                    <a:pt x="139" y="1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4" y="1"/>
                  </a:lnTo>
                  <a:lnTo>
                    <a:pt x="51" y="4"/>
                  </a:lnTo>
                  <a:lnTo>
                    <a:pt x="26" y="10"/>
                  </a:lnTo>
                  <a:lnTo>
                    <a:pt x="0" y="15"/>
                  </a:lnTo>
                  <a:lnTo>
                    <a:pt x="5" y="34"/>
                  </a:lnTo>
                  <a:lnTo>
                    <a:pt x="28" y="29"/>
                  </a:lnTo>
                  <a:lnTo>
                    <a:pt x="53" y="23"/>
                  </a:lnTo>
                  <a:lnTo>
                    <a:pt x="74" y="20"/>
                  </a:lnTo>
                  <a:lnTo>
                    <a:pt x="97" y="19"/>
                  </a:lnTo>
                  <a:lnTo>
                    <a:pt x="118" y="19"/>
                  </a:lnTo>
                  <a:lnTo>
                    <a:pt x="139" y="20"/>
                  </a:lnTo>
                  <a:lnTo>
                    <a:pt x="158" y="22"/>
                  </a:lnTo>
                  <a:lnTo>
                    <a:pt x="178" y="25"/>
                  </a:lnTo>
                  <a:lnTo>
                    <a:pt x="196" y="32"/>
                  </a:lnTo>
                  <a:lnTo>
                    <a:pt x="215" y="36"/>
                  </a:lnTo>
                  <a:lnTo>
                    <a:pt x="234" y="44"/>
                  </a:lnTo>
                  <a:lnTo>
                    <a:pt x="252" y="53"/>
                  </a:lnTo>
                  <a:lnTo>
                    <a:pt x="272" y="63"/>
                  </a:lnTo>
                  <a:lnTo>
                    <a:pt x="291" y="74"/>
                  </a:lnTo>
                  <a:lnTo>
                    <a:pt x="311" y="86"/>
                  </a:lnTo>
                  <a:lnTo>
                    <a:pt x="332" y="99"/>
                  </a:lnTo>
                  <a:lnTo>
                    <a:pt x="332" y="99"/>
                  </a:lnTo>
                  <a:lnTo>
                    <a:pt x="34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528320" y="3470040"/>
              <a:ext cx="50760" cy="8676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60" y="156"/>
                  </a:moveTo>
                  <a:lnTo>
                    <a:pt x="60" y="168"/>
                  </a:lnTo>
                  <a:lnTo>
                    <a:pt x="86" y="140"/>
                  </a:lnTo>
                  <a:lnTo>
                    <a:pt x="96" y="111"/>
                  </a:lnTo>
                  <a:lnTo>
                    <a:pt x="96" y="88"/>
                  </a:lnTo>
                  <a:lnTo>
                    <a:pt x="88" y="64"/>
                  </a:lnTo>
                  <a:lnTo>
                    <a:pt x="71" y="45"/>
                  </a:lnTo>
                  <a:lnTo>
                    <a:pt x="52" y="29"/>
                  </a:lnTo>
                  <a:lnTo>
                    <a:pt x="31" y="13"/>
                  </a:lnTo>
                  <a:lnTo>
                    <a:pt x="10" y="0"/>
                  </a:lnTo>
                  <a:lnTo>
                    <a:pt x="0" y="17"/>
                  </a:lnTo>
                  <a:lnTo>
                    <a:pt x="21" y="30"/>
                  </a:lnTo>
                  <a:lnTo>
                    <a:pt x="40" y="43"/>
                  </a:lnTo>
                  <a:lnTo>
                    <a:pt x="59" y="56"/>
                  </a:lnTo>
                  <a:lnTo>
                    <a:pt x="71" y="73"/>
                  </a:lnTo>
                  <a:lnTo>
                    <a:pt x="77" y="90"/>
                  </a:lnTo>
                  <a:lnTo>
                    <a:pt x="77" y="109"/>
                  </a:lnTo>
                  <a:lnTo>
                    <a:pt x="69" y="130"/>
                  </a:lnTo>
                  <a:lnTo>
                    <a:pt x="49" y="156"/>
                  </a:lnTo>
                  <a:lnTo>
                    <a:pt x="49" y="168"/>
                  </a:lnTo>
                  <a:lnTo>
                    <a:pt x="49" y="156"/>
                  </a:lnTo>
                  <a:lnTo>
                    <a:pt x="47" y="162"/>
                  </a:lnTo>
                  <a:lnTo>
                    <a:pt x="50" y="166"/>
                  </a:lnTo>
                  <a:lnTo>
                    <a:pt x="55" y="170"/>
                  </a:lnTo>
                  <a:lnTo>
                    <a:pt x="60" y="168"/>
                  </a:lnTo>
                  <a:lnTo>
                    <a:pt x="6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536240" y="3548520"/>
              <a:ext cx="53280" cy="127800"/>
            </a:xfrm>
            <a:custGeom>
              <a:avLst/>
              <a:gdLst/>
              <a:ahLst/>
              <a:rect l="l" t="t" r="r" b="b"/>
              <a:pathLst>
                <a:path w="102" h="249">
                  <a:moveTo>
                    <a:pt x="0" y="240"/>
                  </a:moveTo>
                  <a:lnTo>
                    <a:pt x="15" y="247"/>
                  </a:lnTo>
                  <a:lnTo>
                    <a:pt x="43" y="218"/>
                  </a:lnTo>
                  <a:lnTo>
                    <a:pt x="66" y="191"/>
                  </a:lnTo>
                  <a:lnTo>
                    <a:pt x="87" y="163"/>
                  </a:lnTo>
                  <a:lnTo>
                    <a:pt x="98" y="134"/>
                  </a:lnTo>
                  <a:lnTo>
                    <a:pt x="102" y="103"/>
                  </a:lnTo>
                  <a:lnTo>
                    <a:pt x="95" y="70"/>
                  </a:lnTo>
                  <a:lnTo>
                    <a:pt x="76" y="37"/>
                  </a:lnTo>
                  <a:lnTo>
                    <a:pt x="44" y="0"/>
                  </a:lnTo>
                  <a:lnTo>
                    <a:pt x="33" y="12"/>
                  </a:lnTo>
                  <a:lnTo>
                    <a:pt x="62" y="46"/>
                  </a:lnTo>
                  <a:lnTo>
                    <a:pt x="79" y="76"/>
                  </a:lnTo>
                  <a:lnTo>
                    <a:pt x="83" y="103"/>
                  </a:lnTo>
                  <a:lnTo>
                    <a:pt x="80" y="129"/>
                  </a:lnTo>
                  <a:lnTo>
                    <a:pt x="71" y="154"/>
                  </a:lnTo>
                  <a:lnTo>
                    <a:pt x="53" y="179"/>
                  </a:lnTo>
                  <a:lnTo>
                    <a:pt x="29" y="207"/>
                  </a:lnTo>
                  <a:lnTo>
                    <a:pt x="3" y="235"/>
                  </a:lnTo>
                  <a:lnTo>
                    <a:pt x="19" y="240"/>
                  </a:lnTo>
                  <a:lnTo>
                    <a:pt x="3" y="235"/>
                  </a:lnTo>
                  <a:lnTo>
                    <a:pt x="1" y="240"/>
                  </a:lnTo>
                  <a:lnTo>
                    <a:pt x="4" y="246"/>
                  </a:lnTo>
                  <a:lnTo>
                    <a:pt x="9" y="249"/>
                  </a:lnTo>
                  <a:lnTo>
                    <a:pt x="15" y="247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509600" y="3589560"/>
              <a:ext cx="37440" cy="81360"/>
            </a:xfrm>
            <a:custGeom>
              <a:avLst/>
              <a:gdLst/>
              <a:ahLst/>
              <a:rect l="l" t="t" r="r" b="b"/>
              <a:pathLst>
                <a:path w="67" h="161">
                  <a:moveTo>
                    <a:pt x="18" y="15"/>
                  </a:moveTo>
                  <a:lnTo>
                    <a:pt x="1" y="15"/>
                  </a:lnTo>
                  <a:lnTo>
                    <a:pt x="11" y="31"/>
                  </a:lnTo>
                  <a:lnTo>
                    <a:pt x="20" y="46"/>
                  </a:lnTo>
                  <a:lnTo>
                    <a:pt x="29" y="64"/>
                  </a:lnTo>
                  <a:lnTo>
                    <a:pt x="36" y="80"/>
                  </a:lnTo>
                  <a:lnTo>
                    <a:pt x="39" y="98"/>
                  </a:lnTo>
                  <a:lnTo>
                    <a:pt x="44" y="118"/>
                  </a:lnTo>
                  <a:lnTo>
                    <a:pt x="47" y="138"/>
                  </a:lnTo>
                  <a:lnTo>
                    <a:pt x="48" y="161"/>
                  </a:lnTo>
                  <a:lnTo>
                    <a:pt x="67" y="161"/>
                  </a:lnTo>
                  <a:lnTo>
                    <a:pt x="66" y="138"/>
                  </a:lnTo>
                  <a:lnTo>
                    <a:pt x="63" y="116"/>
                  </a:lnTo>
                  <a:lnTo>
                    <a:pt x="58" y="96"/>
                  </a:lnTo>
                  <a:lnTo>
                    <a:pt x="52" y="76"/>
                  </a:lnTo>
                  <a:lnTo>
                    <a:pt x="46" y="57"/>
                  </a:lnTo>
                  <a:lnTo>
                    <a:pt x="37" y="39"/>
                  </a:lnTo>
                  <a:lnTo>
                    <a:pt x="28" y="21"/>
                  </a:lnTo>
                  <a:lnTo>
                    <a:pt x="18" y="5"/>
                  </a:lnTo>
                  <a:lnTo>
                    <a:pt x="1" y="5"/>
                  </a:lnTo>
                  <a:lnTo>
                    <a:pt x="18" y="5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7"/>
                  </a:lnTo>
                  <a:lnTo>
                    <a:pt x="1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469280" y="3691440"/>
              <a:ext cx="32040" cy="3816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43" y="0"/>
                  </a:moveTo>
                  <a:lnTo>
                    <a:pt x="52" y="11"/>
                  </a:lnTo>
                  <a:lnTo>
                    <a:pt x="58" y="24"/>
                  </a:lnTo>
                  <a:lnTo>
                    <a:pt x="61" y="38"/>
                  </a:lnTo>
                  <a:lnTo>
                    <a:pt x="58" y="51"/>
                  </a:lnTo>
                  <a:lnTo>
                    <a:pt x="52" y="63"/>
                  </a:lnTo>
                  <a:lnTo>
                    <a:pt x="43" y="71"/>
                  </a:lnTo>
                  <a:lnTo>
                    <a:pt x="28" y="74"/>
                  </a:lnTo>
                  <a:lnTo>
                    <a:pt x="11" y="72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2" y="53"/>
                  </a:lnTo>
                  <a:lnTo>
                    <a:pt x="10" y="44"/>
                  </a:lnTo>
                  <a:lnTo>
                    <a:pt x="17" y="33"/>
                  </a:lnTo>
                  <a:lnTo>
                    <a:pt x="27" y="23"/>
                  </a:lnTo>
                  <a:lnTo>
                    <a:pt x="36" y="1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525800" y="3706920"/>
              <a:ext cx="13320" cy="3060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12" y="0"/>
                  </a:moveTo>
                  <a:lnTo>
                    <a:pt x="5" y="14"/>
                  </a:lnTo>
                  <a:lnTo>
                    <a:pt x="1" y="30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1"/>
                  </a:lnTo>
                  <a:lnTo>
                    <a:pt x="7" y="61"/>
                  </a:lnTo>
                  <a:lnTo>
                    <a:pt x="10" y="60"/>
                  </a:lnTo>
                  <a:lnTo>
                    <a:pt x="13" y="58"/>
                  </a:lnTo>
                  <a:lnTo>
                    <a:pt x="24" y="40"/>
                  </a:lnTo>
                  <a:lnTo>
                    <a:pt x="25" y="24"/>
                  </a:lnTo>
                  <a:lnTo>
                    <a:pt x="20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587360" y="4548600"/>
              <a:ext cx="265680" cy="293040"/>
            </a:xfrm>
            <a:custGeom>
              <a:avLst/>
              <a:gdLst/>
              <a:ahLst/>
              <a:rect l="l" t="t" r="r" b="b"/>
              <a:pathLst>
                <a:path w="496" h="574">
                  <a:moveTo>
                    <a:pt x="181" y="25"/>
                  </a:moveTo>
                  <a:lnTo>
                    <a:pt x="170" y="37"/>
                  </a:lnTo>
                  <a:lnTo>
                    <a:pt x="160" y="49"/>
                  </a:lnTo>
                  <a:lnTo>
                    <a:pt x="153" y="63"/>
                  </a:lnTo>
                  <a:lnTo>
                    <a:pt x="149" y="80"/>
                  </a:lnTo>
                  <a:lnTo>
                    <a:pt x="145" y="98"/>
                  </a:lnTo>
                  <a:lnTo>
                    <a:pt x="144" y="118"/>
                  </a:lnTo>
                  <a:lnTo>
                    <a:pt x="146" y="139"/>
                  </a:lnTo>
                  <a:lnTo>
                    <a:pt x="150" y="161"/>
                  </a:lnTo>
                  <a:lnTo>
                    <a:pt x="151" y="178"/>
                  </a:lnTo>
                  <a:lnTo>
                    <a:pt x="148" y="197"/>
                  </a:lnTo>
                  <a:lnTo>
                    <a:pt x="143" y="214"/>
                  </a:lnTo>
                  <a:lnTo>
                    <a:pt x="137" y="232"/>
                  </a:lnTo>
                  <a:lnTo>
                    <a:pt x="132" y="249"/>
                  </a:lnTo>
                  <a:lnTo>
                    <a:pt x="131" y="264"/>
                  </a:lnTo>
                  <a:lnTo>
                    <a:pt x="133" y="276"/>
                  </a:lnTo>
                  <a:lnTo>
                    <a:pt x="143" y="286"/>
                  </a:lnTo>
                  <a:lnTo>
                    <a:pt x="150" y="289"/>
                  </a:lnTo>
                  <a:lnTo>
                    <a:pt x="156" y="290"/>
                  </a:lnTo>
                  <a:lnTo>
                    <a:pt x="164" y="289"/>
                  </a:lnTo>
                  <a:lnTo>
                    <a:pt x="171" y="288"/>
                  </a:lnTo>
                  <a:lnTo>
                    <a:pt x="176" y="286"/>
                  </a:lnTo>
                  <a:lnTo>
                    <a:pt x="184" y="282"/>
                  </a:lnTo>
                  <a:lnTo>
                    <a:pt x="190" y="279"/>
                  </a:lnTo>
                  <a:lnTo>
                    <a:pt x="194" y="277"/>
                  </a:lnTo>
                  <a:lnTo>
                    <a:pt x="213" y="267"/>
                  </a:lnTo>
                  <a:lnTo>
                    <a:pt x="230" y="251"/>
                  </a:lnTo>
                  <a:lnTo>
                    <a:pt x="245" y="232"/>
                  </a:lnTo>
                  <a:lnTo>
                    <a:pt x="260" y="211"/>
                  </a:lnTo>
                  <a:lnTo>
                    <a:pt x="273" y="190"/>
                  </a:lnTo>
                  <a:lnTo>
                    <a:pt x="288" y="170"/>
                  </a:lnTo>
                  <a:lnTo>
                    <a:pt x="305" y="153"/>
                  </a:lnTo>
                  <a:lnTo>
                    <a:pt x="324" y="141"/>
                  </a:lnTo>
                  <a:lnTo>
                    <a:pt x="329" y="140"/>
                  </a:lnTo>
                  <a:lnTo>
                    <a:pt x="336" y="142"/>
                  </a:lnTo>
                  <a:lnTo>
                    <a:pt x="341" y="146"/>
                  </a:lnTo>
                  <a:lnTo>
                    <a:pt x="343" y="151"/>
                  </a:lnTo>
                  <a:lnTo>
                    <a:pt x="342" y="180"/>
                  </a:lnTo>
                  <a:lnTo>
                    <a:pt x="339" y="212"/>
                  </a:lnTo>
                  <a:lnTo>
                    <a:pt x="334" y="247"/>
                  </a:lnTo>
                  <a:lnTo>
                    <a:pt x="326" y="279"/>
                  </a:lnTo>
                  <a:lnTo>
                    <a:pt x="317" y="313"/>
                  </a:lnTo>
                  <a:lnTo>
                    <a:pt x="305" y="343"/>
                  </a:lnTo>
                  <a:lnTo>
                    <a:pt x="291" y="370"/>
                  </a:lnTo>
                  <a:lnTo>
                    <a:pt x="275" y="391"/>
                  </a:lnTo>
                  <a:lnTo>
                    <a:pt x="265" y="398"/>
                  </a:lnTo>
                  <a:lnTo>
                    <a:pt x="252" y="400"/>
                  </a:lnTo>
                  <a:lnTo>
                    <a:pt x="239" y="400"/>
                  </a:lnTo>
                  <a:lnTo>
                    <a:pt x="223" y="398"/>
                  </a:lnTo>
                  <a:lnTo>
                    <a:pt x="205" y="392"/>
                  </a:lnTo>
                  <a:lnTo>
                    <a:pt x="186" y="388"/>
                  </a:lnTo>
                  <a:lnTo>
                    <a:pt x="168" y="381"/>
                  </a:lnTo>
                  <a:lnTo>
                    <a:pt x="148" y="373"/>
                  </a:lnTo>
                  <a:lnTo>
                    <a:pt x="127" y="368"/>
                  </a:lnTo>
                  <a:lnTo>
                    <a:pt x="107" y="362"/>
                  </a:lnTo>
                  <a:lnTo>
                    <a:pt x="88" y="358"/>
                  </a:lnTo>
                  <a:lnTo>
                    <a:pt x="69" y="354"/>
                  </a:lnTo>
                  <a:lnTo>
                    <a:pt x="50" y="354"/>
                  </a:lnTo>
                  <a:lnTo>
                    <a:pt x="33" y="358"/>
                  </a:lnTo>
                  <a:lnTo>
                    <a:pt x="19" y="363"/>
                  </a:lnTo>
                  <a:lnTo>
                    <a:pt x="6" y="372"/>
                  </a:lnTo>
                  <a:lnTo>
                    <a:pt x="1" y="381"/>
                  </a:lnTo>
                  <a:lnTo>
                    <a:pt x="0" y="391"/>
                  </a:lnTo>
                  <a:lnTo>
                    <a:pt x="5" y="404"/>
                  </a:lnTo>
                  <a:lnTo>
                    <a:pt x="12" y="420"/>
                  </a:lnTo>
                  <a:lnTo>
                    <a:pt x="22" y="435"/>
                  </a:lnTo>
                  <a:lnTo>
                    <a:pt x="37" y="450"/>
                  </a:lnTo>
                  <a:lnTo>
                    <a:pt x="52" y="468"/>
                  </a:lnTo>
                  <a:lnTo>
                    <a:pt x="70" y="484"/>
                  </a:lnTo>
                  <a:lnTo>
                    <a:pt x="89" y="501"/>
                  </a:lnTo>
                  <a:lnTo>
                    <a:pt x="108" y="516"/>
                  </a:lnTo>
                  <a:lnTo>
                    <a:pt x="128" y="531"/>
                  </a:lnTo>
                  <a:lnTo>
                    <a:pt x="146" y="544"/>
                  </a:lnTo>
                  <a:lnTo>
                    <a:pt x="165" y="555"/>
                  </a:lnTo>
                  <a:lnTo>
                    <a:pt x="183" y="565"/>
                  </a:lnTo>
                  <a:lnTo>
                    <a:pt x="197" y="571"/>
                  </a:lnTo>
                  <a:lnTo>
                    <a:pt x="212" y="574"/>
                  </a:lnTo>
                  <a:lnTo>
                    <a:pt x="216" y="573"/>
                  </a:lnTo>
                  <a:lnTo>
                    <a:pt x="223" y="571"/>
                  </a:lnTo>
                  <a:lnTo>
                    <a:pt x="229" y="566"/>
                  </a:lnTo>
                  <a:lnTo>
                    <a:pt x="235" y="561"/>
                  </a:lnTo>
                  <a:lnTo>
                    <a:pt x="243" y="556"/>
                  </a:lnTo>
                  <a:lnTo>
                    <a:pt x="248" y="552"/>
                  </a:lnTo>
                  <a:lnTo>
                    <a:pt x="253" y="549"/>
                  </a:lnTo>
                  <a:lnTo>
                    <a:pt x="256" y="546"/>
                  </a:lnTo>
                  <a:lnTo>
                    <a:pt x="405" y="391"/>
                  </a:lnTo>
                  <a:lnTo>
                    <a:pt x="415" y="383"/>
                  </a:lnTo>
                  <a:lnTo>
                    <a:pt x="427" y="373"/>
                  </a:lnTo>
                  <a:lnTo>
                    <a:pt x="440" y="362"/>
                  </a:lnTo>
                  <a:lnTo>
                    <a:pt x="456" y="349"/>
                  </a:lnTo>
                  <a:lnTo>
                    <a:pt x="470" y="336"/>
                  </a:lnTo>
                  <a:lnTo>
                    <a:pt x="484" y="323"/>
                  </a:lnTo>
                  <a:lnTo>
                    <a:pt x="491" y="311"/>
                  </a:lnTo>
                  <a:lnTo>
                    <a:pt x="496" y="299"/>
                  </a:lnTo>
                  <a:lnTo>
                    <a:pt x="496" y="277"/>
                  </a:lnTo>
                  <a:lnTo>
                    <a:pt x="488" y="244"/>
                  </a:lnTo>
                  <a:lnTo>
                    <a:pt x="479" y="211"/>
                  </a:lnTo>
                  <a:lnTo>
                    <a:pt x="472" y="189"/>
                  </a:lnTo>
                  <a:lnTo>
                    <a:pt x="468" y="172"/>
                  </a:lnTo>
                  <a:lnTo>
                    <a:pt x="458" y="147"/>
                  </a:lnTo>
                  <a:lnTo>
                    <a:pt x="446" y="117"/>
                  </a:lnTo>
                  <a:lnTo>
                    <a:pt x="430" y="85"/>
                  </a:lnTo>
                  <a:lnTo>
                    <a:pt x="414" y="53"/>
                  </a:lnTo>
                  <a:lnTo>
                    <a:pt x="397" y="27"/>
                  </a:lnTo>
                  <a:lnTo>
                    <a:pt x="382" y="8"/>
                  </a:lnTo>
                  <a:lnTo>
                    <a:pt x="369" y="0"/>
                  </a:lnTo>
                  <a:lnTo>
                    <a:pt x="358" y="1"/>
                  </a:lnTo>
                  <a:lnTo>
                    <a:pt x="347" y="4"/>
                  </a:lnTo>
                  <a:lnTo>
                    <a:pt x="336" y="5"/>
                  </a:lnTo>
                  <a:lnTo>
                    <a:pt x="324" y="7"/>
                  </a:lnTo>
                  <a:lnTo>
                    <a:pt x="313" y="8"/>
                  </a:lnTo>
                  <a:lnTo>
                    <a:pt x="302" y="10"/>
                  </a:lnTo>
                  <a:lnTo>
                    <a:pt x="288" y="11"/>
                  </a:lnTo>
                  <a:lnTo>
                    <a:pt x="277" y="12"/>
                  </a:lnTo>
                  <a:lnTo>
                    <a:pt x="265" y="15"/>
                  </a:lnTo>
                  <a:lnTo>
                    <a:pt x="253" y="16"/>
                  </a:lnTo>
                  <a:lnTo>
                    <a:pt x="241" y="18"/>
                  </a:lnTo>
                  <a:lnTo>
                    <a:pt x="229" y="19"/>
                  </a:lnTo>
                  <a:lnTo>
                    <a:pt x="216" y="21"/>
                  </a:lnTo>
                  <a:lnTo>
                    <a:pt x="204" y="22"/>
                  </a:lnTo>
                  <a:lnTo>
                    <a:pt x="192" y="24"/>
                  </a:lnTo>
                  <a:lnTo>
                    <a:pt x="181" y="25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657560" y="4559040"/>
              <a:ext cx="29160" cy="73440"/>
            </a:xfrm>
            <a:custGeom>
              <a:avLst/>
              <a:gdLst/>
              <a:ahLst/>
              <a:rect l="l" t="t" r="r" b="b"/>
              <a:pathLst>
                <a:path w="55" h="147">
                  <a:moveTo>
                    <a:pt x="27" y="144"/>
                  </a:moveTo>
                  <a:lnTo>
                    <a:pt x="27" y="143"/>
                  </a:lnTo>
                  <a:lnTo>
                    <a:pt x="23" y="122"/>
                  </a:lnTo>
                  <a:lnTo>
                    <a:pt x="21" y="102"/>
                  </a:lnTo>
                  <a:lnTo>
                    <a:pt x="22" y="83"/>
                  </a:lnTo>
                  <a:lnTo>
                    <a:pt x="26" y="66"/>
                  </a:lnTo>
                  <a:lnTo>
                    <a:pt x="30" y="51"/>
                  </a:lnTo>
                  <a:lnTo>
                    <a:pt x="37" y="37"/>
                  </a:lnTo>
                  <a:lnTo>
                    <a:pt x="45" y="27"/>
                  </a:lnTo>
                  <a:lnTo>
                    <a:pt x="55" y="16"/>
                  </a:lnTo>
                  <a:lnTo>
                    <a:pt x="40" y="0"/>
                  </a:lnTo>
                  <a:lnTo>
                    <a:pt x="29" y="13"/>
                  </a:lnTo>
                  <a:lnTo>
                    <a:pt x="18" y="29"/>
                  </a:lnTo>
                  <a:lnTo>
                    <a:pt x="11" y="44"/>
                  </a:lnTo>
                  <a:lnTo>
                    <a:pt x="5" y="62"/>
                  </a:lnTo>
                  <a:lnTo>
                    <a:pt x="1" y="81"/>
                  </a:lnTo>
                  <a:lnTo>
                    <a:pt x="0" y="102"/>
                  </a:lnTo>
                  <a:lnTo>
                    <a:pt x="2" y="124"/>
                  </a:lnTo>
                  <a:lnTo>
                    <a:pt x="6" y="147"/>
                  </a:lnTo>
                  <a:lnTo>
                    <a:pt x="6" y="146"/>
                  </a:lnTo>
                  <a:lnTo>
                    <a:pt x="27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651800" y="4630320"/>
              <a:ext cx="21240" cy="68760"/>
            </a:xfrm>
            <a:custGeom>
              <a:avLst/>
              <a:gdLst/>
              <a:ahLst/>
              <a:rect l="l" t="t" r="r" b="b"/>
              <a:pathLst>
                <a:path w="42" h="134">
                  <a:moveTo>
                    <a:pt x="29" y="116"/>
                  </a:moveTo>
                  <a:lnTo>
                    <a:pt x="28" y="116"/>
                  </a:lnTo>
                  <a:lnTo>
                    <a:pt x="23" y="111"/>
                  </a:lnTo>
                  <a:lnTo>
                    <a:pt x="21" y="104"/>
                  </a:lnTo>
                  <a:lnTo>
                    <a:pt x="23" y="90"/>
                  </a:lnTo>
                  <a:lnTo>
                    <a:pt x="28" y="74"/>
                  </a:lnTo>
                  <a:lnTo>
                    <a:pt x="33" y="57"/>
                  </a:lnTo>
                  <a:lnTo>
                    <a:pt x="38" y="39"/>
                  </a:lnTo>
                  <a:lnTo>
                    <a:pt x="42" y="18"/>
                  </a:lnTo>
                  <a:lnTo>
                    <a:pt x="40" y="0"/>
                  </a:lnTo>
                  <a:lnTo>
                    <a:pt x="19" y="2"/>
                  </a:lnTo>
                  <a:lnTo>
                    <a:pt x="20" y="18"/>
                  </a:lnTo>
                  <a:lnTo>
                    <a:pt x="17" y="34"/>
                  </a:lnTo>
                  <a:lnTo>
                    <a:pt x="12" y="52"/>
                  </a:lnTo>
                  <a:lnTo>
                    <a:pt x="7" y="70"/>
                  </a:lnTo>
                  <a:lnTo>
                    <a:pt x="1" y="88"/>
                  </a:lnTo>
                  <a:lnTo>
                    <a:pt x="0" y="104"/>
                  </a:lnTo>
                  <a:lnTo>
                    <a:pt x="4" y="120"/>
                  </a:lnTo>
                  <a:lnTo>
                    <a:pt x="18" y="134"/>
                  </a:lnTo>
                  <a:lnTo>
                    <a:pt x="17" y="134"/>
                  </a:lnTo>
                  <a:lnTo>
                    <a:pt x="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659720" y="4686480"/>
              <a:ext cx="32040" cy="1764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54" y="0"/>
                  </a:moveTo>
                  <a:lnTo>
                    <a:pt x="54" y="0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26" y="10"/>
                  </a:lnTo>
                  <a:lnTo>
                    <a:pt x="19" y="11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26"/>
                  </a:lnTo>
                  <a:lnTo>
                    <a:pt x="11" y="31"/>
                  </a:lnTo>
                  <a:lnTo>
                    <a:pt x="19" y="33"/>
                  </a:lnTo>
                  <a:lnTo>
                    <a:pt x="28" y="31"/>
                  </a:lnTo>
                  <a:lnTo>
                    <a:pt x="36" y="30"/>
                  </a:lnTo>
                  <a:lnTo>
                    <a:pt x="44" y="26"/>
                  </a:lnTo>
                  <a:lnTo>
                    <a:pt x="51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689600" y="4617360"/>
              <a:ext cx="77040" cy="79200"/>
            </a:xfrm>
            <a:custGeom>
              <a:avLst/>
              <a:gdLst/>
              <a:ahLst/>
              <a:rect l="l" t="t" r="r" b="b"/>
              <a:pathLst>
                <a:path w="143" h="156">
                  <a:moveTo>
                    <a:pt x="131" y="0"/>
                  </a:moveTo>
                  <a:lnTo>
                    <a:pt x="130" y="1"/>
                  </a:lnTo>
                  <a:lnTo>
                    <a:pt x="108" y="14"/>
                  </a:lnTo>
                  <a:lnTo>
                    <a:pt x="90" y="31"/>
                  </a:lnTo>
                  <a:lnTo>
                    <a:pt x="74" y="52"/>
                  </a:lnTo>
                  <a:lnTo>
                    <a:pt x="60" y="73"/>
                  </a:lnTo>
                  <a:lnTo>
                    <a:pt x="46" y="96"/>
                  </a:lnTo>
                  <a:lnTo>
                    <a:pt x="32" y="113"/>
                  </a:lnTo>
                  <a:lnTo>
                    <a:pt x="16" y="127"/>
                  </a:lnTo>
                  <a:lnTo>
                    <a:pt x="0" y="137"/>
                  </a:lnTo>
                  <a:lnTo>
                    <a:pt x="6" y="156"/>
                  </a:lnTo>
                  <a:lnTo>
                    <a:pt x="29" y="143"/>
                  </a:lnTo>
                  <a:lnTo>
                    <a:pt x="46" y="127"/>
                  </a:lnTo>
                  <a:lnTo>
                    <a:pt x="62" y="107"/>
                  </a:lnTo>
                  <a:lnTo>
                    <a:pt x="76" y="86"/>
                  </a:lnTo>
                  <a:lnTo>
                    <a:pt x="91" y="65"/>
                  </a:lnTo>
                  <a:lnTo>
                    <a:pt x="106" y="46"/>
                  </a:lnTo>
                  <a:lnTo>
                    <a:pt x="120" y="30"/>
                  </a:lnTo>
                  <a:lnTo>
                    <a:pt x="136" y="20"/>
                  </a:lnTo>
                  <a:lnTo>
                    <a:pt x="135" y="21"/>
                  </a:lnTo>
                  <a:lnTo>
                    <a:pt x="136" y="20"/>
                  </a:lnTo>
                  <a:lnTo>
                    <a:pt x="143" y="14"/>
                  </a:lnTo>
                  <a:lnTo>
                    <a:pt x="143" y="7"/>
                  </a:lnTo>
                  <a:lnTo>
                    <a:pt x="137" y="1"/>
                  </a:lnTo>
                  <a:lnTo>
                    <a:pt x="13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759080" y="4615200"/>
              <a:ext cx="18720" cy="1728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2"/>
                  </a:moveTo>
                  <a:lnTo>
                    <a:pt x="32" y="21"/>
                  </a:lnTo>
                  <a:lnTo>
                    <a:pt x="26" y="10"/>
                  </a:lnTo>
                  <a:lnTo>
                    <a:pt x="19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4" y="23"/>
                  </a:lnTo>
                  <a:lnTo>
                    <a:pt x="7" y="22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4" y="30"/>
                  </a:lnTo>
                  <a:lnTo>
                    <a:pt x="22" y="32"/>
                  </a:lnTo>
                  <a:lnTo>
                    <a:pt x="30" y="29"/>
                  </a:lnTo>
                  <a:lnTo>
                    <a:pt x="32" y="21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729920" y="4627800"/>
              <a:ext cx="47880" cy="127080"/>
            </a:xfrm>
            <a:custGeom>
              <a:avLst/>
              <a:gdLst/>
              <a:ahLst/>
              <a:rect l="l" t="t" r="r" b="b"/>
              <a:pathLst>
                <a:path w="90" h="251">
                  <a:moveTo>
                    <a:pt x="18" y="248"/>
                  </a:moveTo>
                  <a:lnTo>
                    <a:pt x="18" y="248"/>
                  </a:lnTo>
                  <a:lnTo>
                    <a:pt x="37" y="226"/>
                  </a:lnTo>
                  <a:lnTo>
                    <a:pt x="51" y="196"/>
                  </a:lnTo>
                  <a:lnTo>
                    <a:pt x="63" y="165"/>
                  </a:lnTo>
                  <a:lnTo>
                    <a:pt x="73" y="131"/>
                  </a:lnTo>
                  <a:lnTo>
                    <a:pt x="80" y="97"/>
                  </a:lnTo>
                  <a:lnTo>
                    <a:pt x="86" y="62"/>
                  </a:lnTo>
                  <a:lnTo>
                    <a:pt x="89" y="29"/>
                  </a:lnTo>
                  <a:lnTo>
                    <a:pt x="90" y="0"/>
                  </a:lnTo>
                  <a:lnTo>
                    <a:pt x="69" y="0"/>
                  </a:lnTo>
                  <a:lnTo>
                    <a:pt x="68" y="29"/>
                  </a:lnTo>
                  <a:lnTo>
                    <a:pt x="64" y="60"/>
                  </a:lnTo>
                  <a:lnTo>
                    <a:pt x="59" y="95"/>
                  </a:lnTo>
                  <a:lnTo>
                    <a:pt x="52" y="126"/>
                  </a:lnTo>
                  <a:lnTo>
                    <a:pt x="42" y="160"/>
                  </a:lnTo>
                  <a:lnTo>
                    <a:pt x="32" y="189"/>
                  </a:lnTo>
                  <a:lnTo>
                    <a:pt x="18" y="21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0" y="240"/>
                  </a:lnTo>
                  <a:lnTo>
                    <a:pt x="3" y="248"/>
                  </a:lnTo>
                  <a:lnTo>
                    <a:pt x="11" y="251"/>
                  </a:lnTo>
                  <a:lnTo>
                    <a:pt x="18" y="248"/>
                  </a:lnTo>
                  <a:lnTo>
                    <a:pt x="18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584840" y="4724640"/>
              <a:ext cx="152640" cy="32760"/>
            </a:xfrm>
            <a:custGeom>
              <a:avLst/>
              <a:gdLst/>
              <a:ahLst/>
              <a:rect l="l" t="t" r="r" b="b"/>
              <a:pathLst>
                <a:path w="286" h="66">
                  <a:moveTo>
                    <a:pt x="17" y="36"/>
                  </a:moveTo>
                  <a:lnTo>
                    <a:pt x="17" y="36"/>
                  </a:lnTo>
                  <a:lnTo>
                    <a:pt x="27" y="28"/>
                  </a:lnTo>
                  <a:lnTo>
                    <a:pt x="40" y="24"/>
                  </a:lnTo>
                  <a:lnTo>
                    <a:pt x="54" y="21"/>
                  </a:lnTo>
                  <a:lnTo>
                    <a:pt x="73" y="21"/>
                  </a:lnTo>
                  <a:lnTo>
                    <a:pt x="91" y="24"/>
                  </a:lnTo>
                  <a:lnTo>
                    <a:pt x="107" y="28"/>
                  </a:lnTo>
                  <a:lnTo>
                    <a:pt x="128" y="35"/>
                  </a:lnTo>
                  <a:lnTo>
                    <a:pt x="149" y="40"/>
                  </a:lnTo>
                  <a:lnTo>
                    <a:pt x="168" y="46"/>
                  </a:lnTo>
                  <a:lnTo>
                    <a:pt x="188" y="55"/>
                  </a:lnTo>
                  <a:lnTo>
                    <a:pt x="207" y="59"/>
                  </a:lnTo>
                  <a:lnTo>
                    <a:pt x="226" y="64"/>
                  </a:lnTo>
                  <a:lnTo>
                    <a:pt x="243" y="66"/>
                  </a:lnTo>
                  <a:lnTo>
                    <a:pt x="256" y="66"/>
                  </a:lnTo>
                  <a:lnTo>
                    <a:pt x="272" y="63"/>
                  </a:lnTo>
                  <a:lnTo>
                    <a:pt x="286" y="55"/>
                  </a:lnTo>
                  <a:lnTo>
                    <a:pt x="271" y="40"/>
                  </a:lnTo>
                  <a:lnTo>
                    <a:pt x="266" y="44"/>
                  </a:lnTo>
                  <a:lnTo>
                    <a:pt x="256" y="45"/>
                  </a:lnTo>
                  <a:lnTo>
                    <a:pt x="243" y="45"/>
                  </a:lnTo>
                  <a:lnTo>
                    <a:pt x="228" y="43"/>
                  </a:lnTo>
                  <a:lnTo>
                    <a:pt x="211" y="38"/>
                  </a:lnTo>
                  <a:lnTo>
                    <a:pt x="193" y="34"/>
                  </a:lnTo>
                  <a:lnTo>
                    <a:pt x="175" y="27"/>
                  </a:lnTo>
                  <a:lnTo>
                    <a:pt x="154" y="19"/>
                  </a:lnTo>
                  <a:lnTo>
                    <a:pt x="133" y="14"/>
                  </a:lnTo>
                  <a:lnTo>
                    <a:pt x="113" y="7"/>
                  </a:lnTo>
                  <a:lnTo>
                    <a:pt x="93" y="3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35" y="3"/>
                  </a:lnTo>
                  <a:lnTo>
                    <a:pt x="19" y="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3" y="36"/>
                  </a:lnTo>
                  <a:lnTo>
                    <a:pt x="10" y="39"/>
                  </a:lnTo>
                  <a:lnTo>
                    <a:pt x="17" y="36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581960" y="4735080"/>
              <a:ext cx="117720" cy="111960"/>
            </a:xfrm>
            <a:custGeom>
              <a:avLst/>
              <a:gdLst/>
              <a:ahLst/>
              <a:rect l="l" t="t" r="r" b="b"/>
              <a:pathLst>
                <a:path w="224" h="220">
                  <a:moveTo>
                    <a:pt x="223" y="198"/>
                  </a:moveTo>
                  <a:lnTo>
                    <a:pt x="224" y="198"/>
                  </a:lnTo>
                  <a:lnTo>
                    <a:pt x="212" y="195"/>
                  </a:lnTo>
                  <a:lnTo>
                    <a:pt x="199" y="190"/>
                  </a:lnTo>
                  <a:lnTo>
                    <a:pt x="181" y="181"/>
                  </a:lnTo>
                  <a:lnTo>
                    <a:pt x="163" y="171"/>
                  </a:lnTo>
                  <a:lnTo>
                    <a:pt x="144" y="157"/>
                  </a:lnTo>
                  <a:lnTo>
                    <a:pt x="124" y="144"/>
                  </a:lnTo>
                  <a:lnTo>
                    <a:pt x="106" y="128"/>
                  </a:lnTo>
                  <a:lnTo>
                    <a:pt x="88" y="112"/>
                  </a:lnTo>
                  <a:lnTo>
                    <a:pt x="70" y="96"/>
                  </a:lnTo>
                  <a:lnTo>
                    <a:pt x="55" y="78"/>
                  </a:lnTo>
                  <a:lnTo>
                    <a:pt x="42" y="64"/>
                  </a:lnTo>
                  <a:lnTo>
                    <a:pt x="32" y="50"/>
                  </a:lnTo>
                  <a:lnTo>
                    <a:pt x="26" y="36"/>
                  </a:lnTo>
                  <a:lnTo>
                    <a:pt x="22" y="25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10" y="0"/>
                  </a:lnTo>
                  <a:lnTo>
                    <a:pt x="1" y="14"/>
                  </a:lnTo>
                  <a:lnTo>
                    <a:pt x="0" y="27"/>
                  </a:lnTo>
                  <a:lnTo>
                    <a:pt x="7" y="43"/>
                  </a:lnTo>
                  <a:lnTo>
                    <a:pt x="13" y="59"/>
                  </a:lnTo>
                  <a:lnTo>
                    <a:pt x="26" y="76"/>
                  </a:lnTo>
                  <a:lnTo>
                    <a:pt x="39" y="93"/>
                  </a:lnTo>
                  <a:lnTo>
                    <a:pt x="55" y="110"/>
                  </a:lnTo>
                  <a:lnTo>
                    <a:pt x="73" y="128"/>
                  </a:lnTo>
                  <a:lnTo>
                    <a:pt x="92" y="145"/>
                  </a:lnTo>
                  <a:lnTo>
                    <a:pt x="112" y="159"/>
                  </a:lnTo>
                  <a:lnTo>
                    <a:pt x="132" y="174"/>
                  </a:lnTo>
                  <a:lnTo>
                    <a:pt x="151" y="188"/>
                  </a:lnTo>
                  <a:lnTo>
                    <a:pt x="171" y="200"/>
                  </a:lnTo>
                  <a:lnTo>
                    <a:pt x="189" y="209"/>
                  </a:lnTo>
                  <a:lnTo>
                    <a:pt x="206" y="216"/>
                  </a:lnTo>
                  <a:lnTo>
                    <a:pt x="222" y="220"/>
                  </a:lnTo>
                  <a:lnTo>
                    <a:pt x="223" y="220"/>
                  </a:lnTo>
                  <a:lnTo>
                    <a:pt x="223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700040" y="4824000"/>
              <a:ext cx="26640" cy="230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6" y="0"/>
                  </a:moveTo>
                  <a:lnTo>
                    <a:pt x="36" y="0"/>
                  </a:lnTo>
                  <a:lnTo>
                    <a:pt x="34" y="1"/>
                  </a:lnTo>
                  <a:lnTo>
                    <a:pt x="31" y="4"/>
                  </a:lnTo>
                  <a:lnTo>
                    <a:pt x="25" y="10"/>
                  </a:lnTo>
                  <a:lnTo>
                    <a:pt x="18" y="13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46"/>
                  </a:lnTo>
                  <a:lnTo>
                    <a:pt x="8" y="45"/>
                  </a:lnTo>
                  <a:lnTo>
                    <a:pt x="15" y="41"/>
                  </a:lnTo>
                  <a:lnTo>
                    <a:pt x="22" y="35"/>
                  </a:lnTo>
                  <a:lnTo>
                    <a:pt x="30" y="32"/>
                  </a:lnTo>
                  <a:lnTo>
                    <a:pt x="36" y="26"/>
                  </a:lnTo>
                  <a:lnTo>
                    <a:pt x="42" y="21"/>
                  </a:lnTo>
                  <a:lnTo>
                    <a:pt x="49" y="1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718760" y="4744800"/>
              <a:ext cx="88560" cy="8676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50" y="0"/>
                  </a:moveTo>
                  <a:lnTo>
                    <a:pt x="150" y="0"/>
                  </a:lnTo>
                  <a:lnTo>
                    <a:pt x="0" y="155"/>
                  </a:lnTo>
                  <a:lnTo>
                    <a:pt x="15" y="169"/>
                  </a:lnTo>
                  <a:lnTo>
                    <a:pt x="165" y="15"/>
                  </a:lnTo>
                  <a:lnTo>
                    <a:pt x="165" y="15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799040" y="4701240"/>
              <a:ext cx="58680" cy="5148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88" y="0"/>
                  </a:moveTo>
                  <a:lnTo>
                    <a:pt x="88" y="1"/>
                  </a:lnTo>
                  <a:lnTo>
                    <a:pt x="84" y="10"/>
                  </a:lnTo>
                  <a:lnTo>
                    <a:pt x="77" y="19"/>
                  </a:lnTo>
                  <a:lnTo>
                    <a:pt x="66" y="32"/>
                  </a:lnTo>
                  <a:lnTo>
                    <a:pt x="51" y="44"/>
                  </a:lnTo>
                  <a:lnTo>
                    <a:pt x="36" y="56"/>
                  </a:lnTo>
                  <a:lnTo>
                    <a:pt x="22" y="68"/>
                  </a:lnTo>
                  <a:lnTo>
                    <a:pt x="10" y="77"/>
                  </a:lnTo>
                  <a:lnTo>
                    <a:pt x="0" y="87"/>
                  </a:lnTo>
                  <a:lnTo>
                    <a:pt x="15" y="102"/>
                  </a:lnTo>
                  <a:lnTo>
                    <a:pt x="23" y="94"/>
                  </a:lnTo>
                  <a:lnTo>
                    <a:pt x="35" y="85"/>
                  </a:lnTo>
                  <a:lnTo>
                    <a:pt x="50" y="73"/>
                  </a:lnTo>
                  <a:lnTo>
                    <a:pt x="66" y="61"/>
                  </a:lnTo>
                  <a:lnTo>
                    <a:pt x="79" y="46"/>
                  </a:lnTo>
                  <a:lnTo>
                    <a:pt x="93" y="33"/>
                  </a:lnTo>
                  <a:lnTo>
                    <a:pt x="103" y="19"/>
                  </a:lnTo>
                  <a:lnTo>
                    <a:pt x="109" y="4"/>
                  </a:lnTo>
                  <a:lnTo>
                    <a:pt x="109" y="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834320" y="4645440"/>
              <a:ext cx="23400" cy="58680"/>
            </a:xfrm>
            <a:custGeom>
              <a:avLst/>
              <a:gdLst/>
              <a:ahLst/>
              <a:rect l="l" t="t" r="r" b="b"/>
              <a:pathLst>
                <a:path w="46" h="116">
                  <a:moveTo>
                    <a:pt x="0" y="4"/>
                  </a:moveTo>
                  <a:lnTo>
                    <a:pt x="0" y="5"/>
                  </a:lnTo>
                  <a:lnTo>
                    <a:pt x="8" y="27"/>
                  </a:lnTo>
                  <a:lnTo>
                    <a:pt x="16" y="61"/>
                  </a:lnTo>
                  <a:lnTo>
                    <a:pt x="25" y="92"/>
                  </a:lnTo>
                  <a:lnTo>
                    <a:pt x="25" y="111"/>
                  </a:lnTo>
                  <a:lnTo>
                    <a:pt x="46" y="116"/>
                  </a:lnTo>
                  <a:lnTo>
                    <a:pt x="46" y="90"/>
                  </a:lnTo>
                  <a:lnTo>
                    <a:pt x="37" y="55"/>
                  </a:lnTo>
                  <a:lnTo>
                    <a:pt x="29" y="23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777800" y="4543560"/>
              <a:ext cx="69840" cy="101520"/>
            </a:xfrm>
            <a:custGeom>
              <a:avLst/>
              <a:gdLst/>
              <a:ahLst/>
              <a:rect l="l" t="t" r="r" b="b"/>
              <a:pathLst>
                <a:path w="126" h="201">
                  <a:moveTo>
                    <a:pt x="12" y="21"/>
                  </a:moveTo>
                  <a:lnTo>
                    <a:pt x="9" y="21"/>
                  </a:lnTo>
                  <a:lnTo>
                    <a:pt x="17" y="26"/>
                  </a:lnTo>
                  <a:lnTo>
                    <a:pt x="31" y="43"/>
                  </a:lnTo>
                  <a:lnTo>
                    <a:pt x="46" y="70"/>
                  </a:lnTo>
                  <a:lnTo>
                    <a:pt x="62" y="100"/>
                  </a:lnTo>
                  <a:lnTo>
                    <a:pt x="78" y="131"/>
                  </a:lnTo>
                  <a:lnTo>
                    <a:pt x="91" y="162"/>
                  </a:lnTo>
                  <a:lnTo>
                    <a:pt x="99" y="187"/>
                  </a:lnTo>
                  <a:lnTo>
                    <a:pt x="103" y="201"/>
                  </a:lnTo>
                  <a:lnTo>
                    <a:pt x="126" y="199"/>
                  </a:lnTo>
                  <a:lnTo>
                    <a:pt x="120" y="180"/>
                  </a:lnTo>
                  <a:lnTo>
                    <a:pt x="110" y="154"/>
                  </a:lnTo>
                  <a:lnTo>
                    <a:pt x="97" y="124"/>
                  </a:lnTo>
                  <a:lnTo>
                    <a:pt x="81" y="91"/>
                  </a:lnTo>
                  <a:lnTo>
                    <a:pt x="65" y="60"/>
                  </a:lnTo>
                  <a:lnTo>
                    <a:pt x="47" y="32"/>
                  </a:lnTo>
                  <a:lnTo>
                    <a:pt x="31" y="1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9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678800" y="4543560"/>
              <a:ext cx="106920" cy="2304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18" y="43"/>
                  </a:moveTo>
                  <a:lnTo>
                    <a:pt x="12" y="46"/>
                  </a:lnTo>
                  <a:lnTo>
                    <a:pt x="22" y="45"/>
                  </a:lnTo>
                  <a:lnTo>
                    <a:pt x="34" y="43"/>
                  </a:lnTo>
                  <a:lnTo>
                    <a:pt x="49" y="42"/>
                  </a:lnTo>
                  <a:lnTo>
                    <a:pt x="60" y="40"/>
                  </a:lnTo>
                  <a:lnTo>
                    <a:pt x="71" y="39"/>
                  </a:lnTo>
                  <a:lnTo>
                    <a:pt x="83" y="38"/>
                  </a:lnTo>
                  <a:lnTo>
                    <a:pt x="96" y="37"/>
                  </a:lnTo>
                  <a:lnTo>
                    <a:pt x="108" y="35"/>
                  </a:lnTo>
                  <a:lnTo>
                    <a:pt x="118" y="33"/>
                  </a:lnTo>
                  <a:lnTo>
                    <a:pt x="133" y="32"/>
                  </a:lnTo>
                  <a:lnTo>
                    <a:pt x="144" y="30"/>
                  </a:lnTo>
                  <a:lnTo>
                    <a:pt x="155" y="29"/>
                  </a:lnTo>
                  <a:lnTo>
                    <a:pt x="167" y="26"/>
                  </a:lnTo>
                  <a:lnTo>
                    <a:pt x="178" y="25"/>
                  </a:lnTo>
                  <a:lnTo>
                    <a:pt x="189" y="22"/>
                  </a:lnTo>
                  <a:lnTo>
                    <a:pt x="200" y="21"/>
                  </a:lnTo>
                  <a:lnTo>
                    <a:pt x="197" y="0"/>
                  </a:lnTo>
                  <a:lnTo>
                    <a:pt x="187" y="1"/>
                  </a:lnTo>
                  <a:lnTo>
                    <a:pt x="176" y="3"/>
                  </a:lnTo>
                  <a:lnTo>
                    <a:pt x="165" y="5"/>
                  </a:lnTo>
                  <a:lnTo>
                    <a:pt x="153" y="7"/>
                  </a:lnTo>
                  <a:lnTo>
                    <a:pt x="141" y="8"/>
                  </a:lnTo>
                  <a:lnTo>
                    <a:pt x="131" y="11"/>
                  </a:lnTo>
                  <a:lnTo>
                    <a:pt x="118" y="12"/>
                  </a:lnTo>
                  <a:lnTo>
                    <a:pt x="106" y="13"/>
                  </a:lnTo>
                  <a:lnTo>
                    <a:pt x="94" y="16"/>
                  </a:lnTo>
                  <a:lnTo>
                    <a:pt x="83" y="17"/>
                  </a:lnTo>
                  <a:lnTo>
                    <a:pt x="71" y="18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4" y="22"/>
                  </a:lnTo>
                  <a:lnTo>
                    <a:pt x="22" y="23"/>
                  </a:lnTo>
                  <a:lnTo>
                    <a:pt x="9" y="25"/>
                  </a:lnTo>
                  <a:lnTo>
                    <a:pt x="3" y="27"/>
                  </a:lnTo>
                  <a:lnTo>
                    <a:pt x="9" y="25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12" y="46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646400" y="4694040"/>
              <a:ext cx="21240" cy="55800"/>
            </a:xfrm>
            <a:custGeom>
              <a:avLst/>
              <a:gdLst/>
              <a:ahLst/>
              <a:rect l="l" t="t" r="r" b="b"/>
              <a:pathLst>
                <a:path w="37" h="108">
                  <a:moveTo>
                    <a:pt x="23" y="101"/>
                  </a:moveTo>
                  <a:lnTo>
                    <a:pt x="23" y="101"/>
                  </a:lnTo>
                  <a:lnTo>
                    <a:pt x="19" y="78"/>
                  </a:lnTo>
                  <a:lnTo>
                    <a:pt x="21" y="52"/>
                  </a:lnTo>
                  <a:lnTo>
                    <a:pt x="28" y="28"/>
                  </a:lnTo>
                  <a:lnTo>
                    <a:pt x="37" y="9"/>
                  </a:lnTo>
                  <a:lnTo>
                    <a:pt x="20" y="0"/>
                  </a:lnTo>
                  <a:lnTo>
                    <a:pt x="9" y="24"/>
                  </a:lnTo>
                  <a:lnTo>
                    <a:pt x="2" y="49"/>
                  </a:lnTo>
                  <a:lnTo>
                    <a:pt x="0" y="78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23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651800" y="4744800"/>
              <a:ext cx="99000" cy="35640"/>
            </a:xfrm>
            <a:custGeom>
              <a:avLst/>
              <a:gdLst/>
              <a:ahLst/>
              <a:rect l="l" t="t" r="r" b="b"/>
              <a:pathLst>
                <a:path w="187" h="69">
                  <a:moveTo>
                    <a:pt x="180" y="25"/>
                  </a:moveTo>
                  <a:lnTo>
                    <a:pt x="180" y="25"/>
                  </a:lnTo>
                  <a:lnTo>
                    <a:pt x="156" y="34"/>
                  </a:lnTo>
                  <a:lnTo>
                    <a:pt x="131" y="42"/>
                  </a:lnTo>
                  <a:lnTo>
                    <a:pt x="106" y="48"/>
                  </a:lnTo>
                  <a:lnTo>
                    <a:pt x="84" y="50"/>
                  </a:lnTo>
                  <a:lnTo>
                    <a:pt x="64" y="46"/>
                  </a:lnTo>
                  <a:lnTo>
                    <a:pt x="46" y="38"/>
                  </a:lnTo>
                  <a:lnTo>
                    <a:pt x="30" y="24"/>
                  </a:lnTo>
                  <a:lnTo>
                    <a:pt x="16" y="0"/>
                  </a:lnTo>
                  <a:lnTo>
                    <a:pt x="0" y="7"/>
                  </a:lnTo>
                  <a:lnTo>
                    <a:pt x="15" y="36"/>
                  </a:lnTo>
                  <a:lnTo>
                    <a:pt x="36" y="55"/>
                  </a:lnTo>
                  <a:lnTo>
                    <a:pt x="59" y="65"/>
                  </a:lnTo>
                  <a:lnTo>
                    <a:pt x="84" y="69"/>
                  </a:lnTo>
                  <a:lnTo>
                    <a:pt x="108" y="67"/>
                  </a:lnTo>
                  <a:lnTo>
                    <a:pt x="135" y="60"/>
                  </a:lnTo>
                  <a:lnTo>
                    <a:pt x="161" y="53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748640" y="4676040"/>
              <a:ext cx="55800" cy="91800"/>
            </a:xfrm>
            <a:custGeom>
              <a:avLst/>
              <a:gdLst/>
              <a:ahLst/>
              <a:rect l="l" t="t" r="r" b="b"/>
              <a:pathLst>
                <a:path w="106" h="179">
                  <a:moveTo>
                    <a:pt x="87" y="0"/>
                  </a:moveTo>
                  <a:lnTo>
                    <a:pt x="87" y="0"/>
                  </a:lnTo>
                  <a:lnTo>
                    <a:pt x="81" y="21"/>
                  </a:lnTo>
                  <a:lnTo>
                    <a:pt x="76" y="44"/>
                  </a:lnTo>
                  <a:lnTo>
                    <a:pt x="67" y="69"/>
                  </a:lnTo>
                  <a:lnTo>
                    <a:pt x="59" y="93"/>
                  </a:lnTo>
                  <a:lnTo>
                    <a:pt x="47" y="115"/>
                  </a:lnTo>
                  <a:lnTo>
                    <a:pt x="35" y="135"/>
                  </a:lnTo>
                  <a:lnTo>
                    <a:pt x="19" y="152"/>
                  </a:lnTo>
                  <a:lnTo>
                    <a:pt x="0" y="162"/>
                  </a:lnTo>
                  <a:lnTo>
                    <a:pt x="7" y="179"/>
                  </a:lnTo>
                  <a:lnTo>
                    <a:pt x="30" y="166"/>
                  </a:lnTo>
                  <a:lnTo>
                    <a:pt x="48" y="147"/>
                  </a:lnTo>
                  <a:lnTo>
                    <a:pt x="64" y="124"/>
                  </a:lnTo>
                  <a:lnTo>
                    <a:pt x="76" y="100"/>
                  </a:lnTo>
                  <a:lnTo>
                    <a:pt x="86" y="74"/>
                  </a:lnTo>
                  <a:lnTo>
                    <a:pt x="95" y="49"/>
                  </a:lnTo>
                  <a:lnTo>
                    <a:pt x="100" y="2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788960" y="4619880"/>
              <a:ext cx="21240" cy="58680"/>
            </a:xfrm>
            <a:custGeom>
              <a:avLst/>
              <a:gdLst/>
              <a:ahLst/>
              <a:rect l="l" t="t" r="r" b="b"/>
              <a:pathLst>
                <a:path w="40" h="114">
                  <a:moveTo>
                    <a:pt x="0" y="19"/>
                  </a:moveTo>
                  <a:lnTo>
                    <a:pt x="0" y="19"/>
                  </a:lnTo>
                  <a:lnTo>
                    <a:pt x="11" y="23"/>
                  </a:lnTo>
                  <a:lnTo>
                    <a:pt x="17" y="31"/>
                  </a:lnTo>
                  <a:lnTo>
                    <a:pt x="20" y="40"/>
                  </a:lnTo>
                  <a:lnTo>
                    <a:pt x="21" y="53"/>
                  </a:lnTo>
                  <a:lnTo>
                    <a:pt x="19" y="66"/>
                  </a:lnTo>
                  <a:lnTo>
                    <a:pt x="16" y="82"/>
                  </a:lnTo>
                  <a:lnTo>
                    <a:pt x="12" y="98"/>
                  </a:lnTo>
                  <a:lnTo>
                    <a:pt x="8" y="110"/>
                  </a:lnTo>
                  <a:lnTo>
                    <a:pt x="27" y="114"/>
                  </a:lnTo>
                  <a:lnTo>
                    <a:pt x="31" y="100"/>
                  </a:lnTo>
                  <a:lnTo>
                    <a:pt x="35" y="84"/>
                  </a:lnTo>
                  <a:lnTo>
                    <a:pt x="38" y="70"/>
                  </a:lnTo>
                  <a:lnTo>
                    <a:pt x="40" y="53"/>
                  </a:lnTo>
                  <a:lnTo>
                    <a:pt x="39" y="38"/>
                  </a:lnTo>
                  <a:lnTo>
                    <a:pt x="33" y="21"/>
                  </a:lnTo>
                  <a:lnTo>
                    <a:pt x="22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759080" y="4615200"/>
              <a:ext cx="32040" cy="1476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6" y="20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4" y="19"/>
                  </a:lnTo>
                  <a:lnTo>
                    <a:pt x="32" y="20"/>
                  </a:lnTo>
                  <a:lnTo>
                    <a:pt x="38" y="23"/>
                  </a:lnTo>
                  <a:lnTo>
                    <a:pt x="45" y="25"/>
                  </a:lnTo>
                  <a:lnTo>
                    <a:pt x="52" y="28"/>
                  </a:lnTo>
                  <a:lnTo>
                    <a:pt x="57" y="29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1" y="7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726680" y="4617360"/>
              <a:ext cx="35280" cy="3276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16" y="68"/>
                  </a:moveTo>
                  <a:lnTo>
                    <a:pt x="16" y="68"/>
                  </a:lnTo>
                  <a:lnTo>
                    <a:pt x="20" y="62"/>
                  </a:lnTo>
                  <a:lnTo>
                    <a:pt x="24" y="57"/>
                  </a:lnTo>
                  <a:lnTo>
                    <a:pt x="30" y="48"/>
                  </a:lnTo>
                  <a:lnTo>
                    <a:pt x="36" y="41"/>
                  </a:lnTo>
                  <a:lnTo>
                    <a:pt x="43" y="34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6" y="16"/>
                  </a:lnTo>
                  <a:lnTo>
                    <a:pt x="60" y="0"/>
                  </a:lnTo>
                  <a:lnTo>
                    <a:pt x="48" y="6"/>
                  </a:lnTo>
                  <a:lnTo>
                    <a:pt x="40" y="13"/>
                  </a:lnTo>
                  <a:lnTo>
                    <a:pt x="31" y="20"/>
                  </a:lnTo>
                  <a:lnTo>
                    <a:pt x="22" y="29"/>
                  </a:lnTo>
                  <a:lnTo>
                    <a:pt x="16" y="37"/>
                  </a:lnTo>
                  <a:lnTo>
                    <a:pt x="10" y="45"/>
                  </a:lnTo>
                  <a:lnTo>
                    <a:pt x="3" y="53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657560" y="4648320"/>
              <a:ext cx="77760" cy="52920"/>
            </a:xfrm>
            <a:custGeom>
              <a:avLst/>
              <a:gdLst/>
              <a:ahLst/>
              <a:rect l="l" t="t" r="r" b="b"/>
              <a:pathLst>
                <a:path w="145" h="107">
                  <a:moveTo>
                    <a:pt x="17" y="102"/>
                  </a:moveTo>
                  <a:lnTo>
                    <a:pt x="7" y="107"/>
                  </a:lnTo>
                  <a:lnTo>
                    <a:pt x="28" y="107"/>
                  </a:lnTo>
                  <a:lnTo>
                    <a:pt x="50" y="102"/>
                  </a:lnTo>
                  <a:lnTo>
                    <a:pt x="70" y="93"/>
                  </a:lnTo>
                  <a:lnTo>
                    <a:pt x="88" y="79"/>
                  </a:lnTo>
                  <a:lnTo>
                    <a:pt x="103" y="65"/>
                  </a:lnTo>
                  <a:lnTo>
                    <a:pt x="119" y="47"/>
                  </a:lnTo>
                  <a:lnTo>
                    <a:pt x="133" y="28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116" y="19"/>
                  </a:lnTo>
                  <a:lnTo>
                    <a:pt x="105" y="36"/>
                  </a:lnTo>
                  <a:lnTo>
                    <a:pt x="90" y="50"/>
                  </a:lnTo>
                  <a:lnTo>
                    <a:pt x="75" y="65"/>
                  </a:lnTo>
                  <a:lnTo>
                    <a:pt x="60" y="77"/>
                  </a:lnTo>
                  <a:lnTo>
                    <a:pt x="44" y="83"/>
                  </a:lnTo>
                  <a:lnTo>
                    <a:pt x="28" y="88"/>
                  </a:lnTo>
                  <a:lnTo>
                    <a:pt x="9" y="88"/>
                  </a:lnTo>
                  <a:lnTo>
                    <a:pt x="0" y="93"/>
                  </a:lnTo>
                  <a:lnTo>
                    <a:pt x="9" y="88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7" y="107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7" name=""/>
          <p:cNvSpPr/>
          <p:nvPr/>
        </p:nvSpPr>
        <p:spPr>
          <a:xfrm>
            <a:off x="1371600" y="2743200"/>
            <a:ext cx="2286000" cy="1752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ers / Wri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9" name=""/>
          <p:cNvGrpSpPr/>
          <p:nvPr/>
        </p:nvGrpSpPr>
        <p:grpSpPr>
          <a:xfrm>
            <a:off x="457200" y="2819520"/>
            <a:ext cx="457200" cy="1186920"/>
            <a:chOff x="457200" y="2819520"/>
            <a:chExt cx="457200" cy="1186920"/>
          </a:xfrm>
        </p:grpSpPr>
        <p:sp>
          <p:nvSpPr>
            <p:cNvPr id="1260" name=""/>
            <p:cNvSpPr/>
            <p:nvPr/>
          </p:nvSpPr>
          <p:spPr>
            <a:xfrm>
              <a:off x="457200" y="3849840"/>
              <a:ext cx="457200" cy="15660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1" name=""/>
            <p:cNvGrpSpPr/>
            <p:nvPr/>
          </p:nvGrpSpPr>
          <p:grpSpPr>
            <a:xfrm>
              <a:off x="457200" y="2819520"/>
              <a:ext cx="352440" cy="1117080"/>
              <a:chOff x="457200" y="2819520"/>
              <a:chExt cx="352440" cy="1117080"/>
            </a:xfrm>
          </p:grpSpPr>
          <p:sp>
            <p:nvSpPr>
              <p:cNvPr id="1262" name=""/>
              <p:cNvSpPr/>
              <p:nvPr/>
            </p:nvSpPr>
            <p:spPr>
              <a:xfrm>
                <a:off x="607680" y="2846880"/>
                <a:ext cx="131760" cy="156960"/>
              </a:xfrm>
              <a:custGeom>
                <a:avLst/>
                <a:gdLst/>
                <a:ahLst/>
                <a:rect l="l" t="t" r="r" b="b"/>
                <a:pathLst>
                  <a:path w="337" h="410">
                    <a:moveTo>
                      <a:pt x="218" y="410"/>
                    </a:moveTo>
                    <a:lnTo>
                      <a:pt x="0" y="410"/>
                    </a:lnTo>
                    <a:lnTo>
                      <a:pt x="0" y="303"/>
                    </a:lnTo>
                    <a:lnTo>
                      <a:pt x="7" y="261"/>
                    </a:lnTo>
                    <a:lnTo>
                      <a:pt x="7" y="0"/>
                    </a:lnTo>
                    <a:lnTo>
                      <a:pt x="280" y="0"/>
                    </a:lnTo>
                    <a:lnTo>
                      <a:pt x="279" y="23"/>
                    </a:lnTo>
                    <a:lnTo>
                      <a:pt x="305" y="71"/>
                    </a:lnTo>
                    <a:lnTo>
                      <a:pt x="310" y="83"/>
                    </a:lnTo>
                    <a:lnTo>
                      <a:pt x="309" y="96"/>
                    </a:lnTo>
                    <a:lnTo>
                      <a:pt x="297" y="122"/>
                    </a:lnTo>
                    <a:lnTo>
                      <a:pt x="313" y="138"/>
                    </a:lnTo>
                    <a:lnTo>
                      <a:pt x="337" y="168"/>
                    </a:lnTo>
                    <a:lnTo>
                      <a:pt x="326" y="183"/>
                    </a:lnTo>
                    <a:lnTo>
                      <a:pt x="310" y="187"/>
                    </a:lnTo>
                    <a:lnTo>
                      <a:pt x="310" y="211"/>
                    </a:lnTo>
                    <a:lnTo>
                      <a:pt x="313" y="214"/>
                    </a:lnTo>
                    <a:lnTo>
                      <a:pt x="313" y="223"/>
                    </a:lnTo>
                    <a:lnTo>
                      <a:pt x="267" y="227"/>
                    </a:lnTo>
                    <a:lnTo>
                      <a:pt x="265" y="235"/>
                    </a:lnTo>
                    <a:lnTo>
                      <a:pt x="308" y="246"/>
                    </a:lnTo>
                    <a:lnTo>
                      <a:pt x="305" y="262"/>
                    </a:lnTo>
                    <a:lnTo>
                      <a:pt x="313" y="282"/>
                    </a:lnTo>
                    <a:lnTo>
                      <a:pt x="315" y="287"/>
                    </a:lnTo>
                    <a:lnTo>
                      <a:pt x="315" y="295"/>
                    </a:lnTo>
                    <a:lnTo>
                      <a:pt x="312" y="304"/>
                    </a:lnTo>
                    <a:lnTo>
                      <a:pt x="305" y="310"/>
                    </a:lnTo>
                    <a:lnTo>
                      <a:pt x="296" y="310"/>
                    </a:lnTo>
                    <a:lnTo>
                      <a:pt x="239" y="319"/>
                    </a:lnTo>
                    <a:lnTo>
                      <a:pt x="228" y="342"/>
                    </a:lnTo>
                    <a:lnTo>
                      <a:pt x="228" y="358"/>
                    </a:lnTo>
                    <a:lnTo>
                      <a:pt x="218" y="378"/>
                    </a:lnTo>
                    <a:lnTo>
                      <a:pt x="218" y="410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46640" y="3149640"/>
                <a:ext cx="63000" cy="155520"/>
              </a:xfrm>
              <a:custGeom>
                <a:avLst/>
                <a:gdLst/>
                <a:ahLst/>
                <a:rect l="l" t="t" r="r" b="b"/>
                <a:pathLst>
                  <a:path w="162" h="406">
                    <a:moveTo>
                      <a:pt x="0" y="18"/>
                    </a:moveTo>
                    <a:lnTo>
                      <a:pt x="77" y="0"/>
                    </a:lnTo>
                    <a:lnTo>
                      <a:pt x="162" y="397"/>
                    </a:lnTo>
                    <a:lnTo>
                      <a:pt x="18" y="40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541440" y="3881520"/>
                <a:ext cx="95760" cy="55080"/>
              </a:xfrm>
              <a:custGeom>
                <a:avLst/>
                <a:gdLst/>
                <a:ahLst/>
                <a:rect l="l" t="t" r="r" b="b"/>
                <a:pathLst>
                  <a:path w="246" h="143">
                    <a:moveTo>
                      <a:pt x="175" y="0"/>
                    </a:moveTo>
                    <a:lnTo>
                      <a:pt x="220" y="71"/>
                    </a:lnTo>
                    <a:lnTo>
                      <a:pt x="220" y="71"/>
                    </a:lnTo>
                    <a:lnTo>
                      <a:pt x="223" y="72"/>
                    </a:lnTo>
                    <a:lnTo>
                      <a:pt x="238" y="88"/>
                    </a:lnTo>
                    <a:lnTo>
                      <a:pt x="246" y="108"/>
                    </a:lnTo>
                    <a:lnTo>
                      <a:pt x="246" y="130"/>
                    </a:lnTo>
                    <a:lnTo>
                      <a:pt x="246" y="130"/>
                    </a:lnTo>
                    <a:lnTo>
                      <a:pt x="213" y="137"/>
                    </a:lnTo>
                    <a:lnTo>
                      <a:pt x="181" y="142"/>
                    </a:lnTo>
                    <a:lnTo>
                      <a:pt x="133" y="143"/>
                    </a:lnTo>
                    <a:lnTo>
                      <a:pt x="85" y="139"/>
                    </a:lnTo>
                    <a:lnTo>
                      <a:pt x="74" y="136"/>
                    </a:lnTo>
                    <a:lnTo>
                      <a:pt x="48" y="124"/>
                    </a:lnTo>
                    <a:lnTo>
                      <a:pt x="0" y="58"/>
                    </a:lnTo>
                    <a:lnTo>
                      <a:pt x="0" y="23"/>
                    </a:lnTo>
                    <a:lnTo>
                      <a:pt x="6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36480" y="3848760"/>
                <a:ext cx="161640" cy="41040"/>
              </a:xfrm>
              <a:custGeom>
                <a:avLst/>
                <a:gdLst/>
                <a:ahLst/>
                <a:rect l="l" t="t" r="r" b="b"/>
                <a:pathLst>
                  <a:path w="414" h="107">
                    <a:moveTo>
                      <a:pt x="235" y="0"/>
                    </a:moveTo>
                    <a:lnTo>
                      <a:pt x="252" y="9"/>
                    </a:lnTo>
                    <a:lnTo>
                      <a:pt x="281" y="29"/>
                    </a:lnTo>
                    <a:lnTo>
                      <a:pt x="316" y="39"/>
                    </a:lnTo>
                    <a:lnTo>
                      <a:pt x="380" y="45"/>
                    </a:lnTo>
                    <a:lnTo>
                      <a:pt x="393" y="48"/>
                    </a:lnTo>
                    <a:lnTo>
                      <a:pt x="402" y="57"/>
                    </a:lnTo>
                    <a:lnTo>
                      <a:pt x="405" y="71"/>
                    </a:lnTo>
                    <a:lnTo>
                      <a:pt x="406" y="96"/>
                    </a:lnTo>
                    <a:lnTo>
                      <a:pt x="414" y="96"/>
                    </a:lnTo>
                    <a:lnTo>
                      <a:pt x="414" y="107"/>
                    </a:lnTo>
                    <a:lnTo>
                      <a:pt x="226" y="107"/>
                    </a:lnTo>
                    <a:lnTo>
                      <a:pt x="125" y="90"/>
                    </a:lnTo>
                    <a:lnTo>
                      <a:pt x="116" y="107"/>
                    </a:lnTo>
                    <a:lnTo>
                      <a:pt x="116" y="107"/>
                    </a:lnTo>
                    <a:lnTo>
                      <a:pt x="62" y="107"/>
                    </a:lnTo>
                    <a:lnTo>
                      <a:pt x="23" y="103"/>
                    </a:lnTo>
                    <a:lnTo>
                      <a:pt x="6" y="101"/>
                    </a:lnTo>
                    <a:lnTo>
                      <a:pt x="6" y="88"/>
                    </a:lnTo>
                    <a:lnTo>
                      <a:pt x="0" y="57"/>
                    </a:lnTo>
                    <a:lnTo>
                      <a:pt x="0" y="39"/>
                    </a:lnTo>
                    <a:lnTo>
                      <a:pt x="4" y="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594360" y="2962440"/>
                <a:ext cx="119160" cy="210600"/>
              </a:xfrm>
              <a:custGeom>
                <a:avLst/>
                <a:gdLst/>
                <a:ahLst/>
                <a:rect l="l" t="t" r="r" b="b"/>
                <a:pathLst>
                  <a:path w="306" h="550">
                    <a:moveTo>
                      <a:pt x="253" y="75"/>
                    </a:moveTo>
                    <a:lnTo>
                      <a:pt x="226" y="101"/>
                    </a:lnTo>
                    <a:lnTo>
                      <a:pt x="229" y="100"/>
                    </a:lnTo>
                    <a:lnTo>
                      <a:pt x="228" y="100"/>
                    </a:lnTo>
                    <a:lnTo>
                      <a:pt x="160" y="73"/>
                    </a:lnTo>
                    <a:lnTo>
                      <a:pt x="94" y="40"/>
                    </a:lnTo>
                    <a:lnTo>
                      <a:pt x="33" y="0"/>
                    </a:lnTo>
                    <a:lnTo>
                      <a:pt x="0" y="46"/>
                    </a:lnTo>
                    <a:lnTo>
                      <a:pt x="0" y="550"/>
                    </a:lnTo>
                    <a:lnTo>
                      <a:pt x="306" y="550"/>
                    </a:lnTo>
                    <a:lnTo>
                      <a:pt x="306" y="169"/>
                    </a:lnTo>
                    <a:lnTo>
                      <a:pt x="263" y="82"/>
                    </a:lnTo>
                    <a:lnTo>
                      <a:pt x="253" y="75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18480" y="3001680"/>
                <a:ext cx="66240" cy="32040"/>
              </a:xfrm>
              <a:custGeom>
                <a:avLst/>
                <a:gdLst/>
                <a:ahLst/>
                <a:rect l="l" t="t" r="r" b="b"/>
                <a:pathLst>
                  <a:path w="169" h="84">
                    <a:moveTo>
                      <a:pt x="0" y="25"/>
                    </a:moveTo>
                    <a:lnTo>
                      <a:pt x="72" y="84"/>
                    </a:lnTo>
                    <a:lnTo>
                      <a:pt x="1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85080" y="3001680"/>
                <a:ext cx="14760" cy="21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67800" y="3000960"/>
                <a:ext cx="45000" cy="155520"/>
              </a:xfrm>
              <a:custGeom>
                <a:avLst/>
                <a:gdLst/>
                <a:ahLst/>
                <a:rect l="l" t="t" r="r" b="b"/>
                <a:pathLst>
                  <a:path w="118" h="405">
                    <a:moveTo>
                      <a:pt x="0" y="41"/>
                    </a:moveTo>
                    <a:lnTo>
                      <a:pt x="25" y="76"/>
                    </a:lnTo>
                    <a:lnTo>
                      <a:pt x="18" y="85"/>
                    </a:lnTo>
                    <a:lnTo>
                      <a:pt x="8" y="211"/>
                    </a:lnTo>
                    <a:lnTo>
                      <a:pt x="18" y="387"/>
                    </a:lnTo>
                    <a:lnTo>
                      <a:pt x="118" y="405"/>
                    </a:lnTo>
                    <a:lnTo>
                      <a:pt x="84" y="151"/>
                    </a:lnTo>
                    <a:lnTo>
                      <a:pt x="51" y="76"/>
                    </a:lnTo>
                    <a:lnTo>
                      <a:pt x="58" y="26"/>
                    </a:lnTo>
                    <a:lnTo>
                      <a:pt x="51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f7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482040" y="2962440"/>
                <a:ext cx="280800" cy="930600"/>
              </a:xfrm>
              <a:custGeom>
                <a:avLst/>
                <a:gdLst/>
                <a:ahLst/>
                <a:rect l="l" t="t" r="r" b="b"/>
                <a:pathLst>
                  <a:path w="722" h="2427">
                    <a:moveTo>
                      <a:pt x="662" y="1323"/>
                    </a:moveTo>
                    <a:lnTo>
                      <a:pt x="688" y="1195"/>
                    </a:lnTo>
                    <a:lnTo>
                      <a:pt x="722" y="1186"/>
                    </a:lnTo>
                    <a:lnTo>
                      <a:pt x="671" y="251"/>
                    </a:lnTo>
                    <a:lnTo>
                      <a:pt x="666" y="221"/>
                    </a:lnTo>
                    <a:lnTo>
                      <a:pt x="655" y="192"/>
                    </a:lnTo>
                    <a:lnTo>
                      <a:pt x="578" y="124"/>
                    </a:lnTo>
                    <a:lnTo>
                      <a:pt x="565" y="110"/>
                    </a:lnTo>
                    <a:lnTo>
                      <a:pt x="552" y="81"/>
                    </a:lnTo>
                    <a:lnTo>
                      <a:pt x="566" y="185"/>
                    </a:lnTo>
                    <a:lnTo>
                      <a:pt x="578" y="327"/>
                    </a:lnTo>
                    <a:lnTo>
                      <a:pt x="581" y="499"/>
                    </a:lnTo>
                    <a:lnTo>
                      <a:pt x="574" y="495"/>
                    </a:lnTo>
                    <a:lnTo>
                      <a:pt x="546" y="422"/>
                    </a:lnTo>
                    <a:lnTo>
                      <a:pt x="511" y="351"/>
                    </a:lnTo>
                    <a:lnTo>
                      <a:pt x="469" y="286"/>
                    </a:lnTo>
                    <a:lnTo>
                      <a:pt x="449" y="259"/>
                    </a:lnTo>
                    <a:lnTo>
                      <a:pt x="415" y="220"/>
                    </a:lnTo>
                    <a:lnTo>
                      <a:pt x="373" y="157"/>
                    </a:lnTo>
                    <a:lnTo>
                      <a:pt x="340" y="92"/>
                    </a:lnTo>
                    <a:lnTo>
                      <a:pt x="312" y="23"/>
                    </a:lnTo>
                    <a:lnTo>
                      <a:pt x="322" y="0"/>
                    </a:lnTo>
                    <a:lnTo>
                      <a:pt x="298" y="16"/>
                    </a:lnTo>
                    <a:lnTo>
                      <a:pt x="263" y="58"/>
                    </a:lnTo>
                    <a:lnTo>
                      <a:pt x="69" y="168"/>
                    </a:lnTo>
                    <a:lnTo>
                      <a:pt x="53" y="169"/>
                    </a:lnTo>
                    <a:lnTo>
                      <a:pt x="41" y="179"/>
                    </a:lnTo>
                    <a:lnTo>
                      <a:pt x="35" y="192"/>
                    </a:lnTo>
                    <a:lnTo>
                      <a:pt x="35" y="201"/>
                    </a:lnTo>
                    <a:lnTo>
                      <a:pt x="15" y="321"/>
                    </a:lnTo>
                    <a:lnTo>
                      <a:pt x="3" y="443"/>
                    </a:lnTo>
                    <a:lnTo>
                      <a:pt x="0" y="564"/>
                    </a:lnTo>
                    <a:lnTo>
                      <a:pt x="6" y="686"/>
                    </a:lnTo>
                    <a:lnTo>
                      <a:pt x="18" y="791"/>
                    </a:lnTo>
                    <a:lnTo>
                      <a:pt x="48" y="893"/>
                    </a:lnTo>
                    <a:lnTo>
                      <a:pt x="86" y="990"/>
                    </a:lnTo>
                    <a:lnTo>
                      <a:pt x="111" y="1045"/>
                    </a:lnTo>
                    <a:lnTo>
                      <a:pt x="95" y="1208"/>
                    </a:lnTo>
                    <a:lnTo>
                      <a:pt x="95" y="1221"/>
                    </a:lnTo>
                    <a:lnTo>
                      <a:pt x="145" y="1221"/>
                    </a:lnTo>
                    <a:lnTo>
                      <a:pt x="145" y="2394"/>
                    </a:lnTo>
                    <a:lnTo>
                      <a:pt x="272" y="2427"/>
                    </a:lnTo>
                    <a:lnTo>
                      <a:pt x="349" y="2401"/>
                    </a:lnTo>
                    <a:lnTo>
                      <a:pt x="357" y="2156"/>
                    </a:lnTo>
                    <a:lnTo>
                      <a:pt x="366" y="2039"/>
                    </a:lnTo>
                    <a:lnTo>
                      <a:pt x="391" y="1812"/>
                    </a:lnTo>
                    <a:lnTo>
                      <a:pt x="399" y="2006"/>
                    </a:lnTo>
                    <a:lnTo>
                      <a:pt x="399" y="2029"/>
                    </a:lnTo>
                    <a:lnTo>
                      <a:pt x="399" y="2174"/>
                    </a:lnTo>
                    <a:lnTo>
                      <a:pt x="391" y="2317"/>
                    </a:lnTo>
                    <a:lnTo>
                      <a:pt x="645" y="2317"/>
                    </a:lnTo>
                    <a:lnTo>
                      <a:pt x="629" y="2275"/>
                    </a:lnTo>
                    <a:lnTo>
                      <a:pt x="637" y="2233"/>
                    </a:lnTo>
                    <a:lnTo>
                      <a:pt x="637" y="1812"/>
                    </a:lnTo>
                    <a:lnTo>
                      <a:pt x="662" y="1323"/>
                    </a:lnTo>
                    <a:close/>
                  </a:path>
                </a:pathLst>
              </a:custGeom>
              <a:solidFill>
                <a:srgbClr val="0054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713160" y="3333600"/>
                <a:ext cx="37440" cy="84240"/>
              </a:xfrm>
              <a:custGeom>
                <a:avLst/>
                <a:gdLst/>
                <a:ahLst/>
                <a:rect l="l" t="t" r="r" b="b"/>
                <a:pathLst>
                  <a:path w="94" h="220">
                    <a:moveTo>
                      <a:pt x="94" y="220"/>
                    </a:moveTo>
                    <a:lnTo>
                      <a:pt x="83" y="216"/>
                    </a:lnTo>
                    <a:lnTo>
                      <a:pt x="61" y="204"/>
                    </a:lnTo>
                    <a:lnTo>
                      <a:pt x="43" y="184"/>
                    </a:lnTo>
                    <a:lnTo>
                      <a:pt x="35" y="16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707040" y="3011040"/>
                <a:ext cx="16200" cy="148320"/>
              </a:xfrm>
              <a:custGeom>
                <a:avLst/>
                <a:gdLst/>
                <a:ahLst/>
                <a:rect l="l" t="t" r="r" b="b"/>
                <a:pathLst>
                  <a:path w="42" h="389">
                    <a:moveTo>
                      <a:pt x="7" y="389"/>
                    </a:moveTo>
                    <a:lnTo>
                      <a:pt x="42" y="127"/>
                    </a:lnTo>
                    <a:lnTo>
                      <a:pt x="16" y="103"/>
                    </a:lnTo>
                    <a:lnTo>
                      <a:pt x="42" y="8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524880" y="3053160"/>
                <a:ext cx="92880" cy="360000"/>
              </a:xfrm>
              <a:custGeom>
                <a:avLst/>
                <a:gdLst/>
                <a:ahLst/>
                <a:rect l="l" t="t" r="r" b="b"/>
                <a:pathLst>
                  <a:path w="238" h="939">
                    <a:moveTo>
                      <a:pt x="68" y="0"/>
                    </a:moveTo>
                    <a:lnTo>
                      <a:pt x="87" y="43"/>
                    </a:lnTo>
                    <a:lnTo>
                      <a:pt x="98" y="92"/>
                    </a:lnTo>
                    <a:lnTo>
                      <a:pt x="101" y="141"/>
                    </a:lnTo>
                    <a:lnTo>
                      <a:pt x="114" y="207"/>
                    </a:lnTo>
                    <a:lnTo>
                      <a:pt x="137" y="359"/>
                    </a:lnTo>
                    <a:lnTo>
                      <a:pt x="152" y="513"/>
                    </a:lnTo>
                    <a:lnTo>
                      <a:pt x="238" y="893"/>
                    </a:lnTo>
                    <a:lnTo>
                      <a:pt x="187" y="917"/>
                    </a:lnTo>
                    <a:lnTo>
                      <a:pt x="133" y="935"/>
                    </a:lnTo>
                    <a:lnTo>
                      <a:pt x="74" y="939"/>
                    </a:lnTo>
                    <a:lnTo>
                      <a:pt x="20" y="848"/>
                    </a:lnTo>
                    <a:lnTo>
                      <a:pt x="0" y="8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584280" y="2984760"/>
                <a:ext cx="128880" cy="197640"/>
              </a:xfrm>
              <a:custGeom>
                <a:avLst/>
                <a:gdLst/>
                <a:ahLst/>
                <a:rect l="l" t="t" r="r" b="b"/>
                <a:pathLst>
                  <a:path w="331" h="515">
                    <a:moveTo>
                      <a:pt x="331" y="515"/>
                    </a:moveTo>
                    <a:lnTo>
                      <a:pt x="282" y="480"/>
                    </a:lnTo>
                    <a:lnTo>
                      <a:pt x="221" y="429"/>
                    </a:lnTo>
                    <a:lnTo>
                      <a:pt x="167" y="372"/>
                    </a:lnTo>
                    <a:lnTo>
                      <a:pt x="118" y="308"/>
                    </a:lnTo>
                    <a:lnTo>
                      <a:pt x="77" y="240"/>
                    </a:lnTo>
                    <a:lnTo>
                      <a:pt x="103" y="196"/>
                    </a:lnTo>
                    <a:lnTo>
                      <a:pt x="44" y="188"/>
                    </a:lnTo>
                    <a:lnTo>
                      <a:pt x="30" y="165"/>
                    </a:lnTo>
                    <a:lnTo>
                      <a:pt x="13" y="111"/>
                    </a:lnTo>
                    <a:lnTo>
                      <a:pt x="3" y="5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538200" y="3153600"/>
                <a:ext cx="177120" cy="277560"/>
              </a:xfrm>
              <a:custGeom>
                <a:avLst/>
                <a:gdLst/>
                <a:ahLst/>
                <a:rect l="l" t="t" r="r" b="b"/>
                <a:pathLst>
                  <a:path w="453" h="725">
                    <a:moveTo>
                      <a:pt x="430" y="0"/>
                    </a:moveTo>
                    <a:lnTo>
                      <a:pt x="450" y="78"/>
                    </a:lnTo>
                    <a:lnTo>
                      <a:pt x="453" y="217"/>
                    </a:lnTo>
                    <a:lnTo>
                      <a:pt x="449" y="356"/>
                    </a:lnTo>
                    <a:lnTo>
                      <a:pt x="437" y="495"/>
                    </a:lnTo>
                    <a:lnTo>
                      <a:pt x="415" y="633"/>
                    </a:lnTo>
                    <a:lnTo>
                      <a:pt x="402" y="660"/>
                    </a:lnTo>
                    <a:lnTo>
                      <a:pt x="381" y="686"/>
                    </a:lnTo>
                    <a:lnTo>
                      <a:pt x="353" y="706"/>
                    </a:lnTo>
                    <a:lnTo>
                      <a:pt x="323" y="719"/>
                    </a:lnTo>
                    <a:lnTo>
                      <a:pt x="288" y="725"/>
                    </a:lnTo>
                    <a:lnTo>
                      <a:pt x="0" y="7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567720" y="3402000"/>
                <a:ext cx="85680" cy="65160"/>
              </a:xfrm>
              <a:custGeom>
                <a:avLst/>
                <a:gdLst/>
                <a:ahLst/>
                <a:rect l="l" t="t" r="r" b="b"/>
                <a:pathLst>
                  <a:path w="220" h="169">
                    <a:moveTo>
                      <a:pt x="0" y="42"/>
                    </a:moveTo>
                    <a:lnTo>
                      <a:pt x="7" y="75"/>
                    </a:lnTo>
                    <a:lnTo>
                      <a:pt x="17" y="109"/>
                    </a:lnTo>
                    <a:lnTo>
                      <a:pt x="27" y="133"/>
                    </a:lnTo>
                    <a:lnTo>
                      <a:pt x="42" y="158"/>
                    </a:lnTo>
                    <a:lnTo>
                      <a:pt x="52" y="166"/>
                    </a:lnTo>
                    <a:lnTo>
                      <a:pt x="62" y="168"/>
                    </a:lnTo>
                    <a:lnTo>
                      <a:pt x="72" y="166"/>
                    </a:lnTo>
                    <a:lnTo>
                      <a:pt x="80" y="162"/>
                    </a:lnTo>
                    <a:lnTo>
                      <a:pt x="94" y="169"/>
                    </a:lnTo>
                    <a:lnTo>
                      <a:pt x="115" y="169"/>
                    </a:lnTo>
                    <a:lnTo>
                      <a:pt x="128" y="165"/>
                    </a:lnTo>
                    <a:lnTo>
                      <a:pt x="136" y="159"/>
                    </a:lnTo>
                    <a:lnTo>
                      <a:pt x="154" y="159"/>
                    </a:lnTo>
                    <a:lnTo>
                      <a:pt x="173" y="152"/>
                    </a:lnTo>
                    <a:lnTo>
                      <a:pt x="220" y="117"/>
                    </a:lnTo>
                    <a:lnTo>
                      <a:pt x="220" y="109"/>
                    </a:lnTo>
                    <a:lnTo>
                      <a:pt x="206" y="67"/>
                    </a:lnTo>
                    <a:lnTo>
                      <a:pt x="190" y="43"/>
                    </a:lnTo>
                    <a:lnTo>
                      <a:pt x="170" y="25"/>
                    </a:lnTo>
                    <a:lnTo>
                      <a:pt x="149" y="14"/>
                    </a:lnTo>
                    <a:lnTo>
                      <a:pt x="120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557640" y="3396600"/>
                <a:ext cx="60120" cy="24480"/>
              </a:xfrm>
              <a:custGeom>
                <a:avLst/>
                <a:gdLst/>
                <a:ahLst/>
                <a:rect l="l" t="t" r="r" b="b"/>
                <a:pathLst>
                  <a:path w="154" h="65">
                    <a:moveTo>
                      <a:pt x="49" y="41"/>
                    </a:moveTo>
                    <a:lnTo>
                      <a:pt x="103" y="23"/>
                    </a:lnTo>
                    <a:lnTo>
                      <a:pt x="149" y="0"/>
                    </a:lnTo>
                    <a:lnTo>
                      <a:pt x="154" y="15"/>
                    </a:lnTo>
                    <a:lnTo>
                      <a:pt x="126" y="29"/>
                    </a:lnTo>
                    <a:lnTo>
                      <a:pt x="68" y="51"/>
                    </a:lnTo>
                    <a:lnTo>
                      <a:pt x="10" y="65"/>
                    </a:lnTo>
                    <a:lnTo>
                      <a:pt x="0" y="45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35040" y="3835080"/>
                <a:ext cx="910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38200" y="3864240"/>
                <a:ext cx="80280" cy="12240"/>
              </a:xfrm>
              <a:custGeom>
                <a:avLst/>
                <a:gdLst/>
                <a:ahLst/>
                <a:rect l="l" t="t" r="r" b="b"/>
                <a:pathLst>
                  <a:path w="205" h="33">
                    <a:moveTo>
                      <a:pt x="0" y="0"/>
                    </a:moveTo>
                    <a:lnTo>
                      <a:pt x="127" y="33"/>
                    </a:lnTo>
                    <a:lnTo>
                      <a:pt x="205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457200" y="3430080"/>
                <a:ext cx="302760" cy="224280"/>
              </a:xfrm>
              <a:custGeom>
                <a:avLst/>
                <a:gdLst/>
                <a:ahLst/>
                <a:rect l="l" t="t" r="r" b="b"/>
                <a:pathLst>
                  <a:path w="775" h="585">
                    <a:moveTo>
                      <a:pt x="33" y="103"/>
                    </a:moveTo>
                    <a:lnTo>
                      <a:pt x="0" y="136"/>
                    </a:lnTo>
                    <a:lnTo>
                      <a:pt x="0" y="550"/>
                    </a:lnTo>
                    <a:lnTo>
                      <a:pt x="33" y="583"/>
                    </a:lnTo>
                    <a:lnTo>
                      <a:pt x="717" y="585"/>
                    </a:lnTo>
                    <a:lnTo>
                      <a:pt x="775" y="548"/>
                    </a:lnTo>
                    <a:lnTo>
                      <a:pt x="775" y="143"/>
                    </a:lnTo>
                    <a:lnTo>
                      <a:pt x="715" y="103"/>
                    </a:lnTo>
                    <a:lnTo>
                      <a:pt x="531" y="103"/>
                    </a:lnTo>
                    <a:lnTo>
                      <a:pt x="527" y="87"/>
                    </a:lnTo>
                    <a:lnTo>
                      <a:pt x="521" y="71"/>
                    </a:lnTo>
                    <a:lnTo>
                      <a:pt x="511" y="55"/>
                    </a:lnTo>
                    <a:lnTo>
                      <a:pt x="502" y="45"/>
                    </a:lnTo>
                    <a:lnTo>
                      <a:pt x="482" y="40"/>
                    </a:lnTo>
                    <a:lnTo>
                      <a:pt x="464" y="30"/>
                    </a:lnTo>
                    <a:lnTo>
                      <a:pt x="451" y="16"/>
                    </a:lnTo>
                    <a:lnTo>
                      <a:pt x="440" y="0"/>
                    </a:lnTo>
                    <a:lnTo>
                      <a:pt x="444" y="43"/>
                    </a:lnTo>
                    <a:lnTo>
                      <a:pt x="454" y="48"/>
                    </a:lnTo>
                    <a:lnTo>
                      <a:pt x="466" y="56"/>
                    </a:lnTo>
                    <a:lnTo>
                      <a:pt x="474" y="63"/>
                    </a:lnTo>
                    <a:lnTo>
                      <a:pt x="485" y="76"/>
                    </a:lnTo>
                    <a:lnTo>
                      <a:pt x="490" y="90"/>
                    </a:lnTo>
                    <a:lnTo>
                      <a:pt x="495" y="103"/>
                    </a:lnTo>
                    <a:lnTo>
                      <a:pt x="300" y="103"/>
                    </a:lnTo>
                    <a:lnTo>
                      <a:pt x="300" y="92"/>
                    </a:lnTo>
                    <a:lnTo>
                      <a:pt x="303" y="81"/>
                    </a:lnTo>
                    <a:lnTo>
                      <a:pt x="306" y="71"/>
                    </a:lnTo>
                    <a:lnTo>
                      <a:pt x="312" y="61"/>
                    </a:lnTo>
                    <a:lnTo>
                      <a:pt x="310" y="59"/>
                    </a:lnTo>
                    <a:lnTo>
                      <a:pt x="300" y="35"/>
                    </a:lnTo>
                    <a:lnTo>
                      <a:pt x="297" y="23"/>
                    </a:lnTo>
                    <a:lnTo>
                      <a:pt x="289" y="33"/>
                    </a:lnTo>
                    <a:lnTo>
                      <a:pt x="280" y="45"/>
                    </a:lnTo>
                    <a:lnTo>
                      <a:pt x="274" y="59"/>
                    </a:lnTo>
                    <a:lnTo>
                      <a:pt x="268" y="72"/>
                    </a:lnTo>
                    <a:lnTo>
                      <a:pt x="266" y="85"/>
                    </a:lnTo>
                    <a:lnTo>
                      <a:pt x="266" y="94"/>
                    </a:lnTo>
                    <a:lnTo>
                      <a:pt x="264" y="103"/>
                    </a:lnTo>
                    <a:lnTo>
                      <a:pt x="261" y="103"/>
                    </a:lnTo>
                    <a:lnTo>
                      <a:pt x="33" y="103"/>
                    </a:lnTo>
                    <a:close/>
                  </a:path>
                </a:pathLst>
              </a:custGeom>
              <a:solidFill>
                <a:srgbClr val="b5b5b5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735840" y="3470040"/>
                <a:ext cx="13680" cy="183960"/>
              </a:xfrm>
              <a:custGeom>
                <a:avLst/>
                <a:gdLst/>
                <a:ahLst/>
                <a:rect l="l" t="t" r="r" b="b"/>
                <a:pathLst>
                  <a:path w="35" h="480">
                    <a:moveTo>
                      <a:pt x="1" y="0"/>
                    </a:moveTo>
                    <a:lnTo>
                      <a:pt x="35" y="31"/>
                    </a:lnTo>
                    <a:lnTo>
                      <a:pt x="35" y="447"/>
                    </a:lnTo>
                    <a:lnTo>
                      <a:pt x="0" y="4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470160" y="3480840"/>
                <a:ext cx="265320" cy="163800"/>
              </a:xfrm>
              <a:custGeom>
                <a:avLst/>
                <a:gdLst/>
                <a:ahLst/>
                <a:rect l="l" t="t" r="r" b="b"/>
                <a:pathLst>
                  <a:path w="679" h="430">
                    <a:moveTo>
                      <a:pt x="29" y="0"/>
                    </a:moveTo>
                    <a:lnTo>
                      <a:pt x="0" y="28"/>
                    </a:lnTo>
                    <a:lnTo>
                      <a:pt x="0" y="405"/>
                    </a:lnTo>
                    <a:lnTo>
                      <a:pt x="25" y="430"/>
                    </a:lnTo>
                    <a:lnTo>
                      <a:pt x="655" y="430"/>
                    </a:lnTo>
                    <a:lnTo>
                      <a:pt x="679" y="404"/>
                    </a:lnTo>
                    <a:lnTo>
                      <a:pt x="679" y="23"/>
                    </a:lnTo>
                    <a:lnTo>
                      <a:pt x="658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2121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H="1" flipV="1">
                <a:off x="612360" y="3452760"/>
                <a:ext cx="1008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flipH="1" flipV="1">
                <a:off x="601200" y="3456000"/>
                <a:ext cx="10800" cy="9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H="1" flipV="1">
                <a:off x="590760" y="3456720"/>
                <a:ext cx="6120" cy="68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02000" y="2880360"/>
                <a:ext cx="20160" cy="468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29" y="0"/>
                    </a:moveTo>
                    <a:lnTo>
                      <a:pt x="52" y="0"/>
                    </a:lnTo>
                    <a:lnTo>
                      <a:pt x="49" y="5"/>
                    </a:lnTo>
                    <a:lnTo>
                      <a:pt x="32" y="5"/>
                    </a:lnTo>
                    <a:lnTo>
                      <a:pt x="0" y="1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00560" y="2892960"/>
                <a:ext cx="14040" cy="432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7" y="0"/>
                    </a:moveTo>
                    <a:lnTo>
                      <a:pt x="0" y="5"/>
                    </a:lnTo>
                    <a:lnTo>
                      <a:pt x="34" y="12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84280" y="2819520"/>
                <a:ext cx="134280" cy="127080"/>
              </a:xfrm>
              <a:custGeom>
                <a:avLst/>
                <a:gdLst/>
                <a:ahLst/>
                <a:rect l="l" t="t" r="r" b="b"/>
                <a:pathLst>
                  <a:path w="344" h="331">
                    <a:moveTo>
                      <a:pt x="62" y="305"/>
                    </a:moveTo>
                    <a:lnTo>
                      <a:pt x="49" y="285"/>
                    </a:lnTo>
                    <a:lnTo>
                      <a:pt x="17" y="243"/>
                    </a:lnTo>
                    <a:lnTo>
                      <a:pt x="6" y="205"/>
                    </a:lnTo>
                    <a:lnTo>
                      <a:pt x="0" y="168"/>
                    </a:lnTo>
                    <a:lnTo>
                      <a:pt x="6" y="130"/>
                    </a:lnTo>
                    <a:lnTo>
                      <a:pt x="36" y="72"/>
                    </a:lnTo>
                    <a:lnTo>
                      <a:pt x="49" y="56"/>
                    </a:lnTo>
                    <a:lnTo>
                      <a:pt x="75" y="32"/>
                    </a:lnTo>
                    <a:lnTo>
                      <a:pt x="109" y="10"/>
                    </a:lnTo>
                    <a:lnTo>
                      <a:pt x="147" y="3"/>
                    </a:lnTo>
                    <a:lnTo>
                      <a:pt x="183" y="0"/>
                    </a:lnTo>
                    <a:lnTo>
                      <a:pt x="222" y="3"/>
                    </a:lnTo>
                    <a:lnTo>
                      <a:pt x="247" y="4"/>
                    </a:lnTo>
                    <a:lnTo>
                      <a:pt x="287" y="11"/>
                    </a:lnTo>
                    <a:lnTo>
                      <a:pt x="309" y="19"/>
                    </a:lnTo>
                    <a:lnTo>
                      <a:pt x="326" y="32"/>
                    </a:lnTo>
                    <a:lnTo>
                      <a:pt x="340" y="50"/>
                    </a:lnTo>
                    <a:lnTo>
                      <a:pt x="344" y="74"/>
                    </a:lnTo>
                    <a:lnTo>
                      <a:pt x="340" y="95"/>
                    </a:lnTo>
                    <a:lnTo>
                      <a:pt x="340" y="95"/>
                    </a:lnTo>
                    <a:lnTo>
                      <a:pt x="297" y="82"/>
                    </a:lnTo>
                    <a:lnTo>
                      <a:pt x="254" y="76"/>
                    </a:lnTo>
                    <a:lnTo>
                      <a:pt x="213" y="79"/>
                    </a:lnTo>
                    <a:lnTo>
                      <a:pt x="213" y="79"/>
                    </a:lnTo>
                    <a:lnTo>
                      <a:pt x="196" y="82"/>
                    </a:lnTo>
                    <a:lnTo>
                      <a:pt x="213" y="105"/>
                    </a:lnTo>
                    <a:lnTo>
                      <a:pt x="226" y="134"/>
                    </a:lnTo>
                    <a:lnTo>
                      <a:pt x="226" y="143"/>
                    </a:lnTo>
                    <a:lnTo>
                      <a:pt x="216" y="163"/>
                    </a:lnTo>
                    <a:lnTo>
                      <a:pt x="186" y="204"/>
                    </a:lnTo>
                    <a:lnTo>
                      <a:pt x="154" y="204"/>
                    </a:lnTo>
                    <a:lnTo>
                      <a:pt x="149" y="191"/>
                    </a:lnTo>
                    <a:lnTo>
                      <a:pt x="145" y="185"/>
                    </a:lnTo>
                    <a:lnTo>
                      <a:pt x="136" y="179"/>
                    </a:lnTo>
                    <a:lnTo>
                      <a:pt x="128" y="176"/>
                    </a:lnTo>
                    <a:lnTo>
                      <a:pt x="112" y="181"/>
                    </a:lnTo>
                    <a:lnTo>
                      <a:pt x="99" y="194"/>
                    </a:lnTo>
                    <a:lnTo>
                      <a:pt x="93" y="210"/>
                    </a:lnTo>
                    <a:lnTo>
                      <a:pt x="94" y="223"/>
                    </a:lnTo>
                    <a:lnTo>
                      <a:pt x="96" y="231"/>
                    </a:lnTo>
                    <a:lnTo>
                      <a:pt x="103" y="250"/>
                    </a:lnTo>
                    <a:lnTo>
                      <a:pt x="113" y="266"/>
                    </a:lnTo>
                    <a:lnTo>
                      <a:pt x="119" y="272"/>
                    </a:lnTo>
                    <a:lnTo>
                      <a:pt x="106" y="289"/>
                    </a:lnTo>
                    <a:lnTo>
                      <a:pt x="96" y="304"/>
                    </a:lnTo>
                    <a:lnTo>
                      <a:pt x="81" y="320"/>
                    </a:lnTo>
                    <a:lnTo>
                      <a:pt x="68" y="331"/>
                    </a:lnTo>
                    <a:lnTo>
                      <a:pt x="62" y="30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630360" y="2921040"/>
                <a:ext cx="24840" cy="2376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6"/>
                    </a:moveTo>
                    <a:lnTo>
                      <a:pt x="11" y="10"/>
                    </a:lnTo>
                    <a:lnTo>
                      <a:pt x="21" y="9"/>
                    </a:lnTo>
                    <a:lnTo>
                      <a:pt x="27" y="6"/>
                    </a:lnTo>
                    <a:lnTo>
                      <a:pt x="34" y="0"/>
                    </a:lnTo>
                    <a:lnTo>
                      <a:pt x="45" y="32"/>
                    </a:lnTo>
                    <a:lnTo>
                      <a:pt x="63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696600" y="323100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30" y="17"/>
                    </a:moveTo>
                    <a:lnTo>
                      <a:pt x="29" y="8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8" y="3"/>
                    </a:lnTo>
                    <a:lnTo>
                      <a:pt x="3" y="8"/>
                    </a:lnTo>
                    <a:lnTo>
                      <a:pt x="0" y="17"/>
                    </a:lnTo>
                    <a:lnTo>
                      <a:pt x="3" y="26"/>
                    </a:lnTo>
                    <a:lnTo>
                      <a:pt x="8" y="33"/>
                    </a:lnTo>
                    <a:lnTo>
                      <a:pt x="16" y="34"/>
                    </a:lnTo>
                    <a:lnTo>
                      <a:pt x="23" y="33"/>
                    </a:lnTo>
                    <a:lnTo>
                      <a:pt x="29" y="26"/>
                    </a:lnTo>
                    <a:lnTo>
                      <a:pt x="30" y="17"/>
                    </a:lnTo>
                    <a:lnTo>
                      <a:pt x="3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53840" y="3297600"/>
                <a:ext cx="52200" cy="39960"/>
              </a:xfrm>
              <a:custGeom>
                <a:avLst/>
                <a:gdLst/>
                <a:ahLst/>
                <a:rect l="l" t="t" r="r" b="b"/>
                <a:pathLst>
                  <a:path w="135" h="105">
                    <a:moveTo>
                      <a:pt x="74" y="16"/>
                    </a:moveTo>
                    <a:lnTo>
                      <a:pt x="51" y="18"/>
                    </a:lnTo>
                    <a:lnTo>
                      <a:pt x="46" y="5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9" y="8"/>
                    </a:lnTo>
                    <a:lnTo>
                      <a:pt x="27" y="16"/>
                    </a:lnTo>
                    <a:lnTo>
                      <a:pt x="22" y="11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9" y="16"/>
                    </a:lnTo>
                    <a:lnTo>
                      <a:pt x="9" y="21"/>
                    </a:lnTo>
                    <a:lnTo>
                      <a:pt x="11" y="70"/>
                    </a:lnTo>
                    <a:lnTo>
                      <a:pt x="9" y="70"/>
                    </a:lnTo>
                    <a:lnTo>
                      <a:pt x="3" y="74"/>
                    </a:lnTo>
                    <a:lnTo>
                      <a:pt x="0" y="80"/>
                    </a:lnTo>
                    <a:lnTo>
                      <a:pt x="0" y="86"/>
                    </a:lnTo>
                    <a:lnTo>
                      <a:pt x="4" y="92"/>
                    </a:lnTo>
                    <a:lnTo>
                      <a:pt x="7" y="94"/>
                    </a:lnTo>
                    <a:lnTo>
                      <a:pt x="9" y="96"/>
                    </a:lnTo>
                    <a:lnTo>
                      <a:pt x="51" y="105"/>
                    </a:lnTo>
                    <a:lnTo>
                      <a:pt x="106" y="76"/>
                    </a:lnTo>
                    <a:lnTo>
                      <a:pt x="109" y="73"/>
                    </a:lnTo>
                    <a:lnTo>
                      <a:pt x="119" y="61"/>
                    </a:lnTo>
                    <a:lnTo>
                      <a:pt x="126" y="50"/>
                    </a:lnTo>
                    <a:lnTo>
                      <a:pt x="132" y="37"/>
                    </a:lnTo>
                    <a:lnTo>
                      <a:pt x="133" y="22"/>
                    </a:lnTo>
                    <a:lnTo>
                      <a:pt x="135" y="13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73280" y="330372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23" y="0"/>
                    </a:moveTo>
                    <a:lnTo>
                      <a:pt x="48" y="16"/>
                    </a:lnTo>
                    <a:lnTo>
                      <a:pt x="13" y="3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56720" y="3305160"/>
                <a:ext cx="5400" cy="1908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0"/>
                    </a:moveTo>
                    <a:lnTo>
                      <a:pt x="4" y="24"/>
                    </a:lnTo>
                    <a:lnTo>
                      <a:pt x="13" y="50"/>
                    </a:lnTo>
                    <a:lnTo>
                      <a:pt x="1" y="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763200" y="3326040"/>
                <a:ext cx="1152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764640" y="3304440"/>
                <a:ext cx="14760" cy="2376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0" y="0"/>
                    </a:moveTo>
                    <a:lnTo>
                      <a:pt x="4" y="16"/>
                    </a:lnTo>
                    <a:lnTo>
                      <a:pt x="14" y="45"/>
                    </a:lnTo>
                    <a:lnTo>
                      <a:pt x="38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H="1">
                <a:off x="709200" y="2927160"/>
                <a:ext cx="3600" cy="129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7" name=""/>
          <p:cNvGrpSpPr/>
          <p:nvPr/>
        </p:nvGrpSpPr>
        <p:grpSpPr>
          <a:xfrm>
            <a:off x="1981080" y="1828800"/>
            <a:ext cx="1066680" cy="2191680"/>
            <a:chOff x="1981080" y="1828800"/>
            <a:chExt cx="1066680" cy="2191680"/>
          </a:xfrm>
        </p:grpSpPr>
        <p:sp>
          <p:nvSpPr>
            <p:cNvPr id="1298" name=""/>
            <p:cNvSpPr/>
            <p:nvPr/>
          </p:nvSpPr>
          <p:spPr>
            <a:xfrm>
              <a:off x="1981080" y="3734280"/>
              <a:ext cx="1066680" cy="28620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478960" y="3692880"/>
              <a:ext cx="300240" cy="186840"/>
            </a:xfrm>
            <a:custGeom>
              <a:avLst/>
              <a:gdLst/>
              <a:ahLst/>
              <a:rect l="l" t="t" r="r" b="b"/>
              <a:pathLst>
                <a:path w="598" h="409">
                  <a:moveTo>
                    <a:pt x="30" y="18"/>
                  </a:moveTo>
                  <a:lnTo>
                    <a:pt x="24" y="41"/>
                  </a:lnTo>
                  <a:lnTo>
                    <a:pt x="14" y="73"/>
                  </a:lnTo>
                  <a:lnTo>
                    <a:pt x="6" y="111"/>
                  </a:lnTo>
                  <a:lnTo>
                    <a:pt x="0" y="151"/>
                  </a:lnTo>
                  <a:lnTo>
                    <a:pt x="0" y="192"/>
                  </a:lnTo>
                  <a:lnTo>
                    <a:pt x="8" y="230"/>
                  </a:lnTo>
                  <a:lnTo>
                    <a:pt x="25" y="265"/>
                  </a:lnTo>
                  <a:lnTo>
                    <a:pt x="55" y="289"/>
                  </a:lnTo>
                  <a:lnTo>
                    <a:pt x="69" y="297"/>
                  </a:lnTo>
                  <a:lnTo>
                    <a:pt x="85" y="299"/>
                  </a:lnTo>
                  <a:lnTo>
                    <a:pt x="100" y="299"/>
                  </a:lnTo>
                  <a:lnTo>
                    <a:pt x="116" y="298"/>
                  </a:lnTo>
                  <a:lnTo>
                    <a:pt x="132" y="296"/>
                  </a:lnTo>
                  <a:lnTo>
                    <a:pt x="147" y="294"/>
                  </a:lnTo>
                  <a:lnTo>
                    <a:pt x="163" y="296"/>
                  </a:lnTo>
                  <a:lnTo>
                    <a:pt x="180" y="299"/>
                  </a:lnTo>
                  <a:lnTo>
                    <a:pt x="200" y="306"/>
                  </a:lnTo>
                  <a:lnTo>
                    <a:pt x="218" y="312"/>
                  </a:lnTo>
                  <a:lnTo>
                    <a:pt x="236" y="318"/>
                  </a:lnTo>
                  <a:lnTo>
                    <a:pt x="252" y="324"/>
                  </a:lnTo>
                  <a:lnTo>
                    <a:pt x="269" y="329"/>
                  </a:lnTo>
                  <a:lnTo>
                    <a:pt x="284" y="336"/>
                  </a:lnTo>
                  <a:lnTo>
                    <a:pt x="300" y="341"/>
                  </a:lnTo>
                  <a:lnTo>
                    <a:pt x="314" y="346"/>
                  </a:lnTo>
                  <a:lnTo>
                    <a:pt x="329" y="353"/>
                  </a:lnTo>
                  <a:lnTo>
                    <a:pt x="344" y="358"/>
                  </a:lnTo>
                  <a:lnTo>
                    <a:pt x="361" y="364"/>
                  </a:lnTo>
                  <a:lnTo>
                    <a:pt x="376" y="369"/>
                  </a:lnTo>
                  <a:lnTo>
                    <a:pt x="394" y="376"/>
                  </a:lnTo>
                  <a:lnTo>
                    <a:pt x="411" y="381"/>
                  </a:lnTo>
                  <a:lnTo>
                    <a:pt x="428" y="387"/>
                  </a:lnTo>
                  <a:lnTo>
                    <a:pt x="448" y="395"/>
                  </a:lnTo>
                  <a:lnTo>
                    <a:pt x="462" y="398"/>
                  </a:lnTo>
                  <a:lnTo>
                    <a:pt x="479" y="401"/>
                  </a:lnTo>
                  <a:lnTo>
                    <a:pt x="501" y="404"/>
                  </a:lnTo>
                  <a:lnTo>
                    <a:pt x="523" y="406"/>
                  </a:lnTo>
                  <a:lnTo>
                    <a:pt x="546" y="409"/>
                  </a:lnTo>
                  <a:lnTo>
                    <a:pt x="567" y="409"/>
                  </a:lnTo>
                  <a:lnTo>
                    <a:pt x="586" y="407"/>
                  </a:lnTo>
                  <a:lnTo>
                    <a:pt x="598" y="404"/>
                  </a:lnTo>
                  <a:lnTo>
                    <a:pt x="596" y="377"/>
                  </a:lnTo>
                  <a:lnTo>
                    <a:pt x="588" y="348"/>
                  </a:lnTo>
                  <a:lnTo>
                    <a:pt x="575" y="320"/>
                  </a:lnTo>
                  <a:lnTo>
                    <a:pt x="558" y="292"/>
                  </a:lnTo>
                  <a:lnTo>
                    <a:pt x="538" y="263"/>
                  </a:lnTo>
                  <a:lnTo>
                    <a:pt x="516" y="234"/>
                  </a:lnTo>
                  <a:lnTo>
                    <a:pt x="491" y="206"/>
                  </a:lnTo>
                  <a:lnTo>
                    <a:pt x="463" y="178"/>
                  </a:lnTo>
                  <a:lnTo>
                    <a:pt x="435" y="152"/>
                  </a:lnTo>
                  <a:lnTo>
                    <a:pt x="405" y="127"/>
                  </a:lnTo>
                  <a:lnTo>
                    <a:pt x="376" y="103"/>
                  </a:lnTo>
                  <a:lnTo>
                    <a:pt x="346" y="82"/>
                  </a:lnTo>
                  <a:lnTo>
                    <a:pt x="319" y="63"/>
                  </a:lnTo>
                  <a:lnTo>
                    <a:pt x="291" y="45"/>
                  </a:lnTo>
                  <a:lnTo>
                    <a:pt x="265" y="32"/>
                  </a:lnTo>
                  <a:lnTo>
                    <a:pt x="243" y="21"/>
                  </a:lnTo>
                  <a:lnTo>
                    <a:pt x="224" y="16"/>
                  </a:lnTo>
                  <a:lnTo>
                    <a:pt x="208" y="11"/>
                  </a:lnTo>
                  <a:lnTo>
                    <a:pt x="191" y="7"/>
                  </a:lnTo>
                  <a:lnTo>
                    <a:pt x="176" y="5"/>
                  </a:lnTo>
                  <a:lnTo>
                    <a:pt x="161" y="3"/>
                  </a:lnTo>
                  <a:lnTo>
                    <a:pt x="149" y="1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1"/>
                  </a:lnTo>
                  <a:lnTo>
                    <a:pt x="88" y="2"/>
                  </a:lnTo>
                  <a:lnTo>
                    <a:pt x="78" y="4"/>
                  </a:lnTo>
                  <a:lnTo>
                    <a:pt x="66" y="6"/>
                  </a:lnTo>
                  <a:lnTo>
                    <a:pt x="55" y="10"/>
                  </a:lnTo>
                  <a:lnTo>
                    <a:pt x="43" y="14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694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473920" y="3699720"/>
              <a:ext cx="34920" cy="129240"/>
            </a:xfrm>
            <a:custGeom>
              <a:avLst/>
              <a:gdLst/>
              <a:ahLst/>
              <a:rect l="l" t="t" r="r" b="b"/>
              <a:pathLst>
                <a:path w="69" h="282">
                  <a:moveTo>
                    <a:pt x="69" y="266"/>
                  </a:moveTo>
                  <a:lnTo>
                    <a:pt x="69" y="266"/>
                  </a:lnTo>
                  <a:lnTo>
                    <a:pt x="42" y="243"/>
                  </a:lnTo>
                  <a:lnTo>
                    <a:pt x="28" y="212"/>
                  </a:lnTo>
                  <a:lnTo>
                    <a:pt x="19" y="176"/>
                  </a:lnTo>
                  <a:lnTo>
                    <a:pt x="19" y="135"/>
                  </a:lnTo>
                  <a:lnTo>
                    <a:pt x="25" y="96"/>
                  </a:lnTo>
                  <a:lnTo>
                    <a:pt x="34" y="59"/>
                  </a:lnTo>
                  <a:lnTo>
                    <a:pt x="43" y="27"/>
                  </a:lnTo>
                  <a:lnTo>
                    <a:pt x="50" y="5"/>
                  </a:lnTo>
                  <a:lnTo>
                    <a:pt x="32" y="0"/>
                  </a:lnTo>
                  <a:lnTo>
                    <a:pt x="24" y="22"/>
                  </a:lnTo>
                  <a:lnTo>
                    <a:pt x="15" y="55"/>
                  </a:lnTo>
                  <a:lnTo>
                    <a:pt x="6" y="93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9" y="217"/>
                  </a:lnTo>
                  <a:lnTo>
                    <a:pt x="28" y="254"/>
                  </a:lnTo>
                  <a:lnTo>
                    <a:pt x="59" y="282"/>
                  </a:lnTo>
                  <a:lnTo>
                    <a:pt x="59" y="282"/>
                  </a:lnTo>
                  <a:lnTo>
                    <a:pt x="69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504160" y="3822480"/>
              <a:ext cx="65160" cy="11520"/>
            </a:xfrm>
            <a:custGeom>
              <a:avLst/>
              <a:gdLst/>
              <a:ahLst/>
              <a:rect l="l" t="t" r="r" b="b"/>
              <a:pathLst>
                <a:path w="133" h="26">
                  <a:moveTo>
                    <a:pt x="133" y="7"/>
                  </a:moveTo>
                  <a:lnTo>
                    <a:pt x="133" y="7"/>
                  </a:lnTo>
                  <a:lnTo>
                    <a:pt x="116" y="4"/>
                  </a:lnTo>
                  <a:lnTo>
                    <a:pt x="98" y="3"/>
                  </a:lnTo>
                  <a:lnTo>
                    <a:pt x="83" y="4"/>
                  </a:lnTo>
                  <a:lnTo>
                    <a:pt x="67" y="6"/>
                  </a:lnTo>
                  <a:lnTo>
                    <a:pt x="51" y="7"/>
                  </a:lnTo>
                  <a:lnTo>
                    <a:pt x="36" y="7"/>
                  </a:lnTo>
                  <a:lnTo>
                    <a:pt x="22" y="5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18" y="24"/>
                  </a:lnTo>
                  <a:lnTo>
                    <a:pt x="36" y="26"/>
                  </a:lnTo>
                  <a:lnTo>
                    <a:pt x="51" y="26"/>
                  </a:lnTo>
                  <a:lnTo>
                    <a:pt x="67" y="25"/>
                  </a:lnTo>
                  <a:lnTo>
                    <a:pt x="83" y="23"/>
                  </a:lnTo>
                  <a:lnTo>
                    <a:pt x="98" y="22"/>
                  </a:lnTo>
                  <a:lnTo>
                    <a:pt x="113" y="23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569320" y="3824280"/>
              <a:ext cx="135000" cy="52560"/>
            </a:xfrm>
            <a:custGeom>
              <a:avLst/>
              <a:gdLst/>
              <a:ahLst/>
              <a:rect l="l" t="t" r="r" b="b"/>
              <a:pathLst>
                <a:path w="274" h="115">
                  <a:moveTo>
                    <a:pt x="274" y="96"/>
                  </a:moveTo>
                  <a:lnTo>
                    <a:pt x="274" y="96"/>
                  </a:lnTo>
                  <a:lnTo>
                    <a:pt x="254" y="89"/>
                  </a:lnTo>
                  <a:lnTo>
                    <a:pt x="236" y="84"/>
                  </a:lnTo>
                  <a:lnTo>
                    <a:pt x="218" y="77"/>
                  </a:lnTo>
                  <a:lnTo>
                    <a:pt x="201" y="71"/>
                  </a:lnTo>
                  <a:lnTo>
                    <a:pt x="185" y="66"/>
                  </a:lnTo>
                  <a:lnTo>
                    <a:pt x="168" y="59"/>
                  </a:lnTo>
                  <a:lnTo>
                    <a:pt x="154" y="54"/>
                  </a:lnTo>
                  <a:lnTo>
                    <a:pt x="138" y="48"/>
                  </a:lnTo>
                  <a:lnTo>
                    <a:pt x="124" y="42"/>
                  </a:lnTo>
                  <a:lnTo>
                    <a:pt x="109" y="37"/>
                  </a:lnTo>
                  <a:lnTo>
                    <a:pt x="93" y="31"/>
                  </a:lnTo>
                  <a:lnTo>
                    <a:pt x="76" y="26"/>
                  </a:lnTo>
                  <a:lnTo>
                    <a:pt x="60" y="19"/>
                  </a:lnTo>
                  <a:lnTo>
                    <a:pt x="42" y="14"/>
                  </a:lnTo>
                  <a:lnTo>
                    <a:pt x="24" y="8"/>
                  </a:lnTo>
                  <a:lnTo>
                    <a:pt x="4" y="0"/>
                  </a:lnTo>
                  <a:lnTo>
                    <a:pt x="0" y="19"/>
                  </a:lnTo>
                  <a:lnTo>
                    <a:pt x="20" y="27"/>
                  </a:lnTo>
                  <a:lnTo>
                    <a:pt x="38" y="32"/>
                  </a:lnTo>
                  <a:lnTo>
                    <a:pt x="55" y="38"/>
                  </a:lnTo>
                  <a:lnTo>
                    <a:pt x="72" y="45"/>
                  </a:lnTo>
                  <a:lnTo>
                    <a:pt x="89" y="50"/>
                  </a:lnTo>
                  <a:lnTo>
                    <a:pt x="104" y="56"/>
                  </a:lnTo>
                  <a:lnTo>
                    <a:pt x="119" y="61"/>
                  </a:lnTo>
                  <a:lnTo>
                    <a:pt x="134" y="67"/>
                  </a:lnTo>
                  <a:lnTo>
                    <a:pt x="147" y="72"/>
                  </a:lnTo>
                  <a:lnTo>
                    <a:pt x="164" y="78"/>
                  </a:lnTo>
                  <a:lnTo>
                    <a:pt x="181" y="85"/>
                  </a:lnTo>
                  <a:lnTo>
                    <a:pt x="195" y="90"/>
                  </a:lnTo>
                  <a:lnTo>
                    <a:pt x="213" y="96"/>
                  </a:lnTo>
                  <a:lnTo>
                    <a:pt x="230" y="102"/>
                  </a:lnTo>
                  <a:lnTo>
                    <a:pt x="248" y="108"/>
                  </a:lnTo>
                  <a:lnTo>
                    <a:pt x="268" y="115"/>
                  </a:lnTo>
                  <a:lnTo>
                    <a:pt x="268" y="115"/>
                  </a:lnTo>
                  <a:lnTo>
                    <a:pt x="274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702520" y="3870360"/>
              <a:ext cx="82080" cy="14040"/>
            </a:xfrm>
            <a:custGeom>
              <a:avLst/>
              <a:gdLst/>
              <a:ahLst/>
              <a:rect l="l" t="t" r="r" b="b"/>
              <a:pathLst>
                <a:path w="162" h="33">
                  <a:moveTo>
                    <a:pt x="143" y="19"/>
                  </a:moveTo>
                  <a:lnTo>
                    <a:pt x="149" y="11"/>
                  </a:lnTo>
                  <a:lnTo>
                    <a:pt x="139" y="13"/>
                  </a:lnTo>
                  <a:lnTo>
                    <a:pt x="121" y="14"/>
                  </a:lnTo>
                  <a:lnTo>
                    <a:pt x="100" y="14"/>
                  </a:lnTo>
                  <a:lnTo>
                    <a:pt x="77" y="12"/>
                  </a:lnTo>
                  <a:lnTo>
                    <a:pt x="55" y="10"/>
                  </a:lnTo>
                  <a:lnTo>
                    <a:pt x="35" y="8"/>
                  </a:lnTo>
                  <a:lnTo>
                    <a:pt x="17" y="3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5" y="22"/>
                  </a:lnTo>
                  <a:lnTo>
                    <a:pt x="32" y="26"/>
                  </a:lnTo>
                  <a:lnTo>
                    <a:pt x="55" y="29"/>
                  </a:lnTo>
                  <a:lnTo>
                    <a:pt x="77" y="31"/>
                  </a:lnTo>
                  <a:lnTo>
                    <a:pt x="100" y="33"/>
                  </a:lnTo>
                  <a:lnTo>
                    <a:pt x="121" y="33"/>
                  </a:lnTo>
                  <a:lnTo>
                    <a:pt x="141" y="32"/>
                  </a:lnTo>
                  <a:lnTo>
                    <a:pt x="157" y="28"/>
                  </a:lnTo>
                  <a:lnTo>
                    <a:pt x="162" y="19"/>
                  </a:lnTo>
                  <a:lnTo>
                    <a:pt x="157" y="28"/>
                  </a:lnTo>
                  <a:lnTo>
                    <a:pt x="161" y="22"/>
                  </a:lnTo>
                  <a:lnTo>
                    <a:pt x="161" y="15"/>
                  </a:lnTo>
                  <a:lnTo>
                    <a:pt x="157" y="11"/>
                  </a:lnTo>
                  <a:lnTo>
                    <a:pt x="149" y="11"/>
                  </a:lnTo>
                  <a:lnTo>
                    <a:pt x="1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596680" y="3697200"/>
              <a:ext cx="187920" cy="180000"/>
            </a:xfrm>
            <a:custGeom>
              <a:avLst/>
              <a:gdLst/>
              <a:ahLst/>
              <a:rect l="l" t="t" r="r" b="b"/>
              <a:pathLst>
                <a:path w="374" h="393">
                  <a:moveTo>
                    <a:pt x="6" y="18"/>
                  </a:moveTo>
                  <a:lnTo>
                    <a:pt x="5" y="17"/>
                  </a:lnTo>
                  <a:lnTo>
                    <a:pt x="28" y="28"/>
                  </a:lnTo>
                  <a:lnTo>
                    <a:pt x="53" y="43"/>
                  </a:lnTo>
                  <a:lnTo>
                    <a:pt x="79" y="61"/>
                  </a:lnTo>
                  <a:lnTo>
                    <a:pt x="108" y="80"/>
                  </a:lnTo>
                  <a:lnTo>
                    <a:pt x="136" y="100"/>
                  </a:lnTo>
                  <a:lnTo>
                    <a:pt x="166" y="123"/>
                  </a:lnTo>
                  <a:lnTo>
                    <a:pt x="194" y="147"/>
                  </a:lnTo>
                  <a:lnTo>
                    <a:pt x="222" y="175"/>
                  </a:lnTo>
                  <a:lnTo>
                    <a:pt x="249" y="201"/>
                  </a:lnTo>
                  <a:lnTo>
                    <a:pt x="275" y="229"/>
                  </a:lnTo>
                  <a:lnTo>
                    <a:pt x="298" y="257"/>
                  </a:lnTo>
                  <a:lnTo>
                    <a:pt x="316" y="286"/>
                  </a:lnTo>
                  <a:lnTo>
                    <a:pt x="333" y="313"/>
                  </a:lnTo>
                  <a:lnTo>
                    <a:pt x="344" y="339"/>
                  </a:lnTo>
                  <a:lnTo>
                    <a:pt x="353" y="367"/>
                  </a:lnTo>
                  <a:lnTo>
                    <a:pt x="355" y="393"/>
                  </a:lnTo>
                  <a:lnTo>
                    <a:pt x="374" y="393"/>
                  </a:lnTo>
                  <a:lnTo>
                    <a:pt x="372" y="365"/>
                  </a:lnTo>
                  <a:lnTo>
                    <a:pt x="363" y="335"/>
                  </a:lnTo>
                  <a:lnTo>
                    <a:pt x="350" y="306"/>
                  </a:lnTo>
                  <a:lnTo>
                    <a:pt x="333" y="276"/>
                  </a:lnTo>
                  <a:lnTo>
                    <a:pt x="312" y="245"/>
                  </a:lnTo>
                  <a:lnTo>
                    <a:pt x="289" y="217"/>
                  </a:lnTo>
                  <a:lnTo>
                    <a:pt x="263" y="188"/>
                  </a:lnTo>
                  <a:lnTo>
                    <a:pt x="237" y="161"/>
                  </a:lnTo>
                  <a:lnTo>
                    <a:pt x="207" y="134"/>
                  </a:lnTo>
                  <a:lnTo>
                    <a:pt x="177" y="108"/>
                  </a:lnTo>
                  <a:lnTo>
                    <a:pt x="148" y="85"/>
                  </a:lnTo>
                  <a:lnTo>
                    <a:pt x="117" y="63"/>
                  </a:lnTo>
                  <a:lnTo>
                    <a:pt x="89" y="44"/>
                  </a:lnTo>
                  <a:lnTo>
                    <a:pt x="61" y="26"/>
                  </a:lnTo>
                  <a:lnTo>
                    <a:pt x="35" y="1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5" y="2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489400" y="3688200"/>
              <a:ext cx="112320" cy="16200"/>
            </a:xfrm>
            <a:custGeom>
              <a:avLst/>
              <a:gdLst/>
              <a:ahLst/>
              <a:rect l="l" t="t" r="r" b="b"/>
              <a:pathLst>
                <a:path w="223" h="39">
                  <a:moveTo>
                    <a:pt x="18" y="31"/>
                  </a:moveTo>
                  <a:lnTo>
                    <a:pt x="11" y="37"/>
                  </a:lnTo>
                  <a:lnTo>
                    <a:pt x="23" y="33"/>
                  </a:lnTo>
                  <a:lnTo>
                    <a:pt x="35" y="29"/>
                  </a:lnTo>
                  <a:lnTo>
                    <a:pt x="46" y="26"/>
                  </a:lnTo>
                  <a:lnTo>
                    <a:pt x="57" y="24"/>
                  </a:lnTo>
                  <a:lnTo>
                    <a:pt x="67" y="21"/>
                  </a:lnTo>
                  <a:lnTo>
                    <a:pt x="78" y="20"/>
                  </a:lnTo>
                  <a:lnTo>
                    <a:pt x="89" y="18"/>
                  </a:lnTo>
                  <a:lnTo>
                    <a:pt x="100" y="18"/>
                  </a:lnTo>
                  <a:lnTo>
                    <a:pt x="114" y="18"/>
                  </a:lnTo>
                  <a:lnTo>
                    <a:pt x="125" y="20"/>
                  </a:lnTo>
                  <a:lnTo>
                    <a:pt x="138" y="23"/>
                  </a:lnTo>
                  <a:lnTo>
                    <a:pt x="153" y="25"/>
                  </a:lnTo>
                  <a:lnTo>
                    <a:pt x="168" y="27"/>
                  </a:lnTo>
                  <a:lnTo>
                    <a:pt x="184" y="31"/>
                  </a:lnTo>
                  <a:lnTo>
                    <a:pt x="199" y="35"/>
                  </a:lnTo>
                  <a:lnTo>
                    <a:pt x="218" y="39"/>
                  </a:lnTo>
                  <a:lnTo>
                    <a:pt x="223" y="21"/>
                  </a:lnTo>
                  <a:lnTo>
                    <a:pt x="205" y="16"/>
                  </a:lnTo>
                  <a:lnTo>
                    <a:pt x="188" y="12"/>
                  </a:lnTo>
                  <a:lnTo>
                    <a:pt x="170" y="8"/>
                  </a:lnTo>
                  <a:lnTo>
                    <a:pt x="155" y="6"/>
                  </a:lnTo>
                  <a:lnTo>
                    <a:pt x="140" y="4"/>
                  </a:lnTo>
                  <a:lnTo>
                    <a:pt x="128" y="1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8" y="1"/>
                  </a:lnTo>
                  <a:lnTo>
                    <a:pt x="65" y="2"/>
                  </a:lnTo>
                  <a:lnTo>
                    <a:pt x="55" y="5"/>
                  </a:lnTo>
                  <a:lnTo>
                    <a:pt x="42" y="7"/>
                  </a:lnTo>
                  <a:lnTo>
                    <a:pt x="29" y="11"/>
                  </a:lnTo>
                  <a:lnTo>
                    <a:pt x="18" y="14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6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4" y="36"/>
                  </a:lnTo>
                  <a:lnTo>
                    <a:pt x="11" y="37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211120" y="3734280"/>
              <a:ext cx="328320" cy="265320"/>
            </a:xfrm>
            <a:custGeom>
              <a:avLst/>
              <a:gdLst/>
              <a:ahLst/>
              <a:rect l="l" t="t" r="r" b="b"/>
              <a:pathLst>
                <a:path w="654" h="573">
                  <a:moveTo>
                    <a:pt x="345" y="29"/>
                  </a:moveTo>
                  <a:lnTo>
                    <a:pt x="359" y="23"/>
                  </a:lnTo>
                  <a:lnTo>
                    <a:pt x="375" y="19"/>
                  </a:lnTo>
                  <a:lnTo>
                    <a:pt x="390" y="14"/>
                  </a:lnTo>
                  <a:lnTo>
                    <a:pt x="406" y="10"/>
                  </a:lnTo>
                  <a:lnTo>
                    <a:pt x="422" y="6"/>
                  </a:lnTo>
                  <a:lnTo>
                    <a:pt x="438" y="3"/>
                  </a:lnTo>
                  <a:lnTo>
                    <a:pt x="454" y="2"/>
                  </a:lnTo>
                  <a:lnTo>
                    <a:pt x="470" y="1"/>
                  </a:lnTo>
                  <a:lnTo>
                    <a:pt x="486" y="0"/>
                  </a:lnTo>
                  <a:lnTo>
                    <a:pt x="501" y="0"/>
                  </a:lnTo>
                  <a:lnTo>
                    <a:pt x="517" y="1"/>
                  </a:lnTo>
                  <a:lnTo>
                    <a:pt x="530" y="3"/>
                  </a:lnTo>
                  <a:lnTo>
                    <a:pt x="544" y="5"/>
                  </a:lnTo>
                  <a:lnTo>
                    <a:pt x="558" y="9"/>
                  </a:lnTo>
                  <a:lnTo>
                    <a:pt x="570" y="14"/>
                  </a:lnTo>
                  <a:lnTo>
                    <a:pt x="581" y="19"/>
                  </a:lnTo>
                  <a:lnTo>
                    <a:pt x="608" y="38"/>
                  </a:lnTo>
                  <a:lnTo>
                    <a:pt x="628" y="62"/>
                  </a:lnTo>
                  <a:lnTo>
                    <a:pt x="641" y="93"/>
                  </a:lnTo>
                  <a:lnTo>
                    <a:pt x="651" y="127"/>
                  </a:lnTo>
                  <a:lnTo>
                    <a:pt x="654" y="165"/>
                  </a:lnTo>
                  <a:lnTo>
                    <a:pt x="654" y="205"/>
                  </a:lnTo>
                  <a:lnTo>
                    <a:pt x="652" y="246"/>
                  </a:lnTo>
                  <a:lnTo>
                    <a:pt x="645" y="287"/>
                  </a:lnTo>
                  <a:lnTo>
                    <a:pt x="640" y="300"/>
                  </a:lnTo>
                  <a:lnTo>
                    <a:pt x="632" y="307"/>
                  </a:lnTo>
                  <a:lnTo>
                    <a:pt x="620" y="313"/>
                  </a:lnTo>
                  <a:lnTo>
                    <a:pt x="608" y="317"/>
                  </a:lnTo>
                  <a:lnTo>
                    <a:pt x="593" y="320"/>
                  </a:lnTo>
                  <a:lnTo>
                    <a:pt x="579" y="321"/>
                  </a:lnTo>
                  <a:lnTo>
                    <a:pt x="566" y="322"/>
                  </a:lnTo>
                  <a:lnTo>
                    <a:pt x="556" y="324"/>
                  </a:lnTo>
                  <a:lnTo>
                    <a:pt x="538" y="330"/>
                  </a:lnTo>
                  <a:lnTo>
                    <a:pt x="519" y="338"/>
                  </a:lnTo>
                  <a:lnTo>
                    <a:pt x="501" y="348"/>
                  </a:lnTo>
                  <a:lnTo>
                    <a:pt x="483" y="360"/>
                  </a:lnTo>
                  <a:lnTo>
                    <a:pt x="465" y="371"/>
                  </a:lnTo>
                  <a:lnTo>
                    <a:pt x="446" y="384"/>
                  </a:lnTo>
                  <a:lnTo>
                    <a:pt x="428" y="398"/>
                  </a:lnTo>
                  <a:lnTo>
                    <a:pt x="409" y="412"/>
                  </a:lnTo>
                  <a:lnTo>
                    <a:pt x="390" y="425"/>
                  </a:lnTo>
                  <a:lnTo>
                    <a:pt x="373" y="439"/>
                  </a:lnTo>
                  <a:lnTo>
                    <a:pt x="354" y="454"/>
                  </a:lnTo>
                  <a:lnTo>
                    <a:pt x="335" y="467"/>
                  </a:lnTo>
                  <a:lnTo>
                    <a:pt x="316" y="478"/>
                  </a:lnTo>
                  <a:lnTo>
                    <a:pt x="298" y="491"/>
                  </a:lnTo>
                  <a:lnTo>
                    <a:pt x="279" y="501"/>
                  </a:lnTo>
                  <a:lnTo>
                    <a:pt x="261" y="509"/>
                  </a:lnTo>
                  <a:lnTo>
                    <a:pt x="246" y="515"/>
                  </a:lnTo>
                  <a:lnTo>
                    <a:pt x="233" y="521"/>
                  </a:lnTo>
                  <a:lnTo>
                    <a:pt x="218" y="527"/>
                  </a:lnTo>
                  <a:lnTo>
                    <a:pt x="204" y="533"/>
                  </a:lnTo>
                  <a:lnTo>
                    <a:pt x="191" y="537"/>
                  </a:lnTo>
                  <a:lnTo>
                    <a:pt x="177" y="544"/>
                  </a:lnTo>
                  <a:lnTo>
                    <a:pt x="164" y="548"/>
                  </a:lnTo>
                  <a:lnTo>
                    <a:pt x="150" y="553"/>
                  </a:lnTo>
                  <a:lnTo>
                    <a:pt x="136" y="557"/>
                  </a:lnTo>
                  <a:lnTo>
                    <a:pt x="122" y="562"/>
                  </a:lnTo>
                  <a:lnTo>
                    <a:pt x="108" y="565"/>
                  </a:lnTo>
                  <a:lnTo>
                    <a:pt x="92" y="567"/>
                  </a:lnTo>
                  <a:lnTo>
                    <a:pt x="75" y="569"/>
                  </a:lnTo>
                  <a:lnTo>
                    <a:pt x="59" y="572"/>
                  </a:lnTo>
                  <a:lnTo>
                    <a:pt x="43" y="573"/>
                  </a:lnTo>
                  <a:lnTo>
                    <a:pt x="24" y="573"/>
                  </a:lnTo>
                  <a:lnTo>
                    <a:pt x="9" y="568"/>
                  </a:lnTo>
                  <a:lnTo>
                    <a:pt x="0" y="555"/>
                  </a:lnTo>
                  <a:lnTo>
                    <a:pt x="0" y="535"/>
                  </a:lnTo>
                  <a:lnTo>
                    <a:pt x="7" y="509"/>
                  </a:lnTo>
                  <a:lnTo>
                    <a:pt x="17" y="478"/>
                  </a:lnTo>
                  <a:lnTo>
                    <a:pt x="32" y="444"/>
                  </a:lnTo>
                  <a:lnTo>
                    <a:pt x="50" y="408"/>
                  </a:lnTo>
                  <a:lnTo>
                    <a:pt x="70" y="371"/>
                  </a:lnTo>
                  <a:lnTo>
                    <a:pt x="91" y="335"/>
                  </a:lnTo>
                  <a:lnTo>
                    <a:pt x="112" y="301"/>
                  </a:lnTo>
                  <a:lnTo>
                    <a:pt x="131" y="267"/>
                  </a:lnTo>
                  <a:lnTo>
                    <a:pt x="149" y="238"/>
                  </a:lnTo>
                  <a:lnTo>
                    <a:pt x="163" y="216"/>
                  </a:lnTo>
                  <a:lnTo>
                    <a:pt x="174" y="200"/>
                  </a:lnTo>
                  <a:lnTo>
                    <a:pt x="179" y="192"/>
                  </a:lnTo>
                  <a:lnTo>
                    <a:pt x="176" y="192"/>
                  </a:lnTo>
                  <a:lnTo>
                    <a:pt x="195" y="171"/>
                  </a:lnTo>
                  <a:lnTo>
                    <a:pt x="215" y="144"/>
                  </a:lnTo>
                  <a:lnTo>
                    <a:pt x="237" y="116"/>
                  </a:lnTo>
                  <a:lnTo>
                    <a:pt x="258" y="90"/>
                  </a:lnTo>
                  <a:lnTo>
                    <a:pt x="281" y="63"/>
                  </a:lnTo>
                  <a:lnTo>
                    <a:pt x="303" y="43"/>
                  </a:lnTo>
                  <a:lnTo>
                    <a:pt x="325" y="31"/>
                  </a:lnTo>
                  <a:lnTo>
                    <a:pt x="345" y="29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381400" y="3729600"/>
              <a:ext cx="122400" cy="23040"/>
            </a:xfrm>
            <a:custGeom>
              <a:avLst/>
              <a:gdLst/>
              <a:ahLst/>
              <a:rect l="l" t="t" r="r" b="b"/>
              <a:pathLst>
                <a:path w="244" h="48">
                  <a:moveTo>
                    <a:pt x="244" y="20"/>
                  </a:moveTo>
                  <a:lnTo>
                    <a:pt x="244" y="20"/>
                  </a:lnTo>
                  <a:lnTo>
                    <a:pt x="233" y="15"/>
                  </a:lnTo>
                  <a:lnTo>
                    <a:pt x="220" y="10"/>
                  </a:lnTo>
                  <a:lnTo>
                    <a:pt x="206" y="6"/>
                  </a:lnTo>
                  <a:lnTo>
                    <a:pt x="192" y="3"/>
                  </a:lnTo>
                  <a:lnTo>
                    <a:pt x="177" y="1"/>
                  </a:lnTo>
                  <a:lnTo>
                    <a:pt x="161" y="0"/>
                  </a:lnTo>
                  <a:lnTo>
                    <a:pt x="146" y="0"/>
                  </a:lnTo>
                  <a:lnTo>
                    <a:pt x="130" y="1"/>
                  </a:lnTo>
                  <a:lnTo>
                    <a:pt x="114" y="2"/>
                  </a:lnTo>
                  <a:lnTo>
                    <a:pt x="96" y="3"/>
                  </a:lnTo>
                  <a:lnTo>
                    <a:pt x="81" y="8"/>
                  </a:lnTo>
                  <a:lnTo>
                    <a:pt x="65" y="11"/>
                  </a:lnTo>
                  <a:lnTo>
                    <a:pt x="48" y="14"/>
                  </a:lnTo>
                  <a:lnTo>
                    <a:pt x="33" y="19"/>
                  </a:lnTo>
                  <a:lnTo>
                    <a:pt x="17" y="24"/>
                  </a:lnTo>
                  <a:lnTo>
                    <a:pt x="0" y="31"/>
                  </a:lnTo>
                  <a:lnTo>
                    <a:pt x="8" y="48"/>
                  </a:lnTo>
                  <a:lnTo>
                    <a:pt x="23" y="43"/>
                  </a:lnTo>
                  <a:lnTo>
                    <a:pt x="37" y="38"/>
                  </a:lnTo>
                  <a:lnTo>
                    <a:pt x="53" y="33"/>
                  </a:lnTo>
                  <a:lnTo>
                    <a:pt x="67" y="30"/>
                  </a:lnTo>
                  <a:lnTo>
                    <a:pt x="84" y="26"/>
                  </a:lnTo>
                  <a:lnTo>
                    <a:pt x="99" y="22"/>
                  </a:lnTo>
                  <a:lnTo>
                    <a:pt x="114" y="21"/>
                  </a:lnTo>
                  <a:lnTo>
                    <a:pt x="130" y="20"/>
                  </a:lnTo>
                  <a:lnTo>
                    <a:pt x="146" y="19"/>
                  </a:lnTo>
                  <a:lnTo>
                    <a:pt x="161" y="19"/>
                  </a:lnTo>
                  <a:lnTo>
                    <a:pt x="177" y="20"/>
                  </a:lnTo>
                  <a:lnTo>
                    <a:pt x="189" y="22"/>
                  </a:lnTo>
                  <a:lnTo>
                    <a:pt x="203" y="25"/>
                  </a:lnTo>
                  <a:lnTo>
                    <a:pt x="216" y="29"/>
                  </a:lnTo>
                  <a:lnTo>
                    <a:pt x="226" y="32"/>
                  </a:lnTo>
                  <a:lnTo>
                    <a:pt x="238" y="36"/>
                  </a:lnTo>
                  <a:lnTo>
                    <a:pt x="238" y="36"/>
                  </a:lnTo>
                  <a:lnTo>
                    <a:pt x="24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501640" y="3738960"/>
              <a:ext cx="42480" cy="129240"/>
            </a:xfrm>
            <a:custGeom>
              <a:avLst/>
              <a:gdLst/>
              <a:ahLst/>
              <a:rect l="l" t="t" r="r" b="b"/>
              <a:pathLst>
                <a:path w="86" h="278">
                  <a:moveTo>
                    <a:pt x="76" y="278"/>
                  </a:moveTo>
                  <a:lnTo>
                    <a:pt x="76" y="278"/>
                  </a:lnTo>
                  <a:lnTo>
                    <a:pt x="83" y="236"/>
                  </a:lnTo>
                  <a:lnTo>
                    <a:pt x="86" y="195"/>
                  </a:lnTo>
                  <a:lnTo>
                    <a:pt x="86" y="155"/>
                  </a:lnTo>
                  <a:lnTo>
                    <a:pt x="82" y="115"/>
                  </a:lnTo>
                  <a:lnTo>
                    <a:pt x="73" y="81"/>
                  </a:lnTo>
                  <a:lnTo>
                    <a:pt x="57" y="48"/>
                  </a:lnTo>
                  <a:lnTo>
                    <a:pt x="35" y="2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23" y="34"/>
                  </a:lnTo>
                  <a:lnTo>
                    <a:pt x="41" y="56"/>
                  </a:lnTo>
                  <a:lnTo>
                    <a:pt x="54" y="85"/>
                  </a:lnTo>
                  <a:lnTo>
                    <a:pt x="63" y="119"/>
                  </a:lnTo>
                  <a:lnTo>
                    <a:pt x="67" y="155"/>
                  </a:lnTo>
                  <a:lnTo>
                    <a:pt x="67" y="195"/>
                  </a:lnTo>
                  <a:lnTo>
                    <a:pt x="64" y="236"/>
                  </a:lnTo>
                  <a:lnTo>
                    <a:pt x="57" y="276"/>
                  </a:lnTo>
                  <a:lnTo>
                    <a:pt x="57" y="276"/>
                  </a:lnTo>
                  <a:lnTo>
                    <a:pt x="76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489400" y="3865680"/>
              <a:ext cx="49680" cy="23040"/>
            </a:xfrm>
            <a:custGeom>
              <a:avLst/>
              <a:gdLst/>
              <a:ahLst/>
              <a:rect l="l" t="t" r="r" b="b"/>
              <a:pathLst>
                <a:path w="101" h="47">
                  <a:moveTo>
                    <a:pt x="5" y="47"/>
                  </a:moveTo>
                  <a:lnTo>
                    <a:pt x="5" y="47"/>
                  </a:lnTo>
                  <a:lnTo>
                    <a:pt x="14" y="45"/>
                  </a:lnTo>
                  <a:lnTo>
                    <a:pt x="26" y="44"/>
                  </a:lnTo>
                  <a:lnTo>
                    <a:pt x="41" y="42"/>
                  </a:lnTo>
                  <a:lnTo>
                    <a:pt x="56" y="40"/>
                  </a:lnTo>
                  <a:lnTo>
                    <a:pt x="69" y="37"/>
                  </a:lnTo>
                  <a:lnTo>
                    <a:pt x="83" y="28"/>
                  </a:lnTo>
                  <a:lnTo>
                    <a:pt x="96" y="18"/>
                  </a:lnTo>
                  <a:lnTo>
                    <a:pt x="101" y="2"/>
                  </a:lnTo>
                  <a:lnTo>
                    <a:pt x="82" y="0"/>
                  </a:lnTo>
                  <a:lnTo>
                    <a:pt x="79" y="8"/>
                  </a:lnTo>
                  <a:lnTo>
                    <a:pt x="75" y="15"/>
                  </a:lnTo>
                  <a:lnTo>
                    <a:pt x="65" y="18"/>
                  </a:lnTo>
                  <a:lnTo>
                    <a:pt x="52" y="21"/>
                  </a:lnTo>
                  <a:lnTo>
                    <a:pt x="39" y="24"/>
                  </a:lnTo>
                  <a:lnTo>
                    <a:pt x="26" y="25"/>
                  </a:lnTo>
                  <a:lnTo>
                    <a:pt x="11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341800" y="3880080"/>
              <a:ext cx="149760" cy="94680"/>
            </a:xfrm>
            <a:custGeom>
              <a:avLst/>
              <a:gdLst/>
              <a:ahLst/>
              <a:rect l="l" t="t" r="r" b="b"/>
              <a:pathLst>
                <a:path w="301" h="203">
                  <a:moveTo>
                    <a:pt x="7" y="203"/>
                  </a:moveTo>
                  <a:lnTo>
                    <a:pt x="7" y="203"/>
                  </a:lnTo>
                  <a:lnTo>
                    <a:pt x="26" y="195"/>
                  </a:lnTo>
                  <a:lnTo>
                    <a:pt x="46" y="184"/>
                  </a:lnTo>
                  <a:lnTo>
                    <a:pt x="63" y="173"/>
                  </a:lnTo>
                  <a:lnTo>
                    <a:pt x="82" y="161"/>
                  </a:lnTo>
                  <a:lnTo>
                    <a:pt x="102" y="147"/>
                  </a:lnTo>
                  <a:lnTo>
                    <a:pt x="121" y="132"/>
                  </a:lnTo>
                  <a:lnTo>
                    <a:pt x="139" y="119"/>
                  </a:lnTo>
                  <a:lnTo>
                    <a:pt x="158" y="104"/>
                  </a:lnTo>
                  <a:lnTo>
                    <a:pt x="177" y="91"/>
                  </a:lnTo>
                  <a:lnTo>
                    <a:pt x="194" y="78"/>
                  </a:lnTo>
                  <a:lnTo>
                    <a:pt x="212" y="65"/>
                  </a:lnTo>
                  <a:lnTo>
                    <a:pt x="231" y="53"/>
                  </a:lnTo>
                  <a:lnTo>
                    <a:pt x="249" y="43"/>
                  </a:lnTo>
                  <a:lnTo>
                    <a:pt x="265" y="32"/>
                  </a:lnTo>
                  <a:lnTo>
                    <a:pt x="284" y="24"/>
                  </a:lnTo>
                  <a:lnTo>
                    <a:pt x="301" y="19"/>
                  </a:lnTo>
                  <a:lnTo>
                    <a:pt x="296" y="0"/>
                  </a:lnTo>
                  <a:lnTo>
                    <a:pt x="277" y="8"/>
                  </a:lnTo>
                  <a:lnTo>
                    <a:pt x="259" y="16"/>
                  </a:lnTo>
                  <a:lnTo>
                    <a:pt x="240" y="27"/>
                  </a:lnTo>
                  <a:lnTo>
                    <a:pt x="222" y="37"/>
                  </a:lnTo>
                  <a:lnTo>
                    <a:pt x="203" y="49"/>
                  </a:lnTo>
                  <a:lnTo>
                    <a:pt x="183" y="63"/>
                  </a:lnTo>
                  <a:lnTo>
                    <a:pt x="165" y="78"/>
                  </a:lnTo>
                  <a:lnTo>
                    <a:pt x="147" y="90"/>
                  </a:lnTo>
                  <a:lnTo>
                    <a:pt x="128" y="104"/>
                  </a:lnTo>
                  <a:lnTo>
                    <a:pt x="110" y="119"/>
                  </a:lnTo>
                  <a:lnTo>
                    <a:pt x="91" y="132"/>
                  </a:lnTo>
                  <a:lnTo>
                    <a:pt x="73" y="144"/>
                  </a:lnTo>
                  <a:lnTo>
                    <a:pt x="55" y="157"/>
                  </a:lnTo>
                  <a:lnTo>
                    <a:pt x="37" y="168"/>
                  </a:lnTo>
                  <a:lnTo>
                    <a:pt x="19" y="179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7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223360" y="3965400"/>
              <a:ext cx="120240" cy="39240"/>
            </a:xfrm>
            <a:custGeom>
              <a:avLst/>
              <a:gdLst/>
              <a:ahLst/>
              <a:rect l="l" t="t" r="r" b="b"/>
              <a:pathLst>
                <a:path w="240" h="82">
                  <a:moveTo>
                    <a:pt x="0" y="82"/>
                  </a:moveTo>
                  <a:lnTo>
                    <a:pt x="0" y="82"/>
                  </a:lnTo>
                  <a:lnTo>
                    <a:pt x="19" y="82"/>
                  </a:lnTo>
                  <a:lnTo>
                    <a:pt x="35" y="81"/>
                  </a:lnTo>
                  <a:lnTo>
                    <a:pt x="53" y="77"/>
                  </a:lnTo>
                  <a:lnTo>
                    <a:pt x="69" y="75"/>
                  </a:lnTo>
                  <a:lnTo>
                    <a:pt x="85" y="73"/>
                  </a:lnTo>
                  <a:lnTo>
                    <a:pt x="99" y="69"/>
                  </a:lnTo>
                  <a:lnTo>
                    <a:pt x="115" y="66"/>
                  </a:lnTo>
                  <a:lnTo>
                    <a:pt x="128" y="62"/>
                  </a:lnTo>
                  <a:lnTo>
                    <a:pt x="142" y="56"/>
                  </a:lnTo>
                  <a:lnTo>
                    <a:pt x="156" y="52"/>
                  </a:lnTo>
                  <a:lnTo>
                    <a:pt x="170" y="46"/>
                  </a:lnTo>
                  <a:lnTo>
                    <a:pt x="182" y="42"/>
                  </a:lnTo>
                  <a:lnTo>
                    <a:pt x="198" y="34"/>
                  </a:lnTo>
                  <a:lnTo>
                    <a:pt x="212" y="28"/>
                  </a:lnTo>
                  <a:lnTo>
                    <a:pt x="227" y="23"/>
                  </a:lnTo>
                  <a:lnTo>
                    <a:pt x="240" y="16"/>
                  </a:lnTo>
                  <a:lnTo>
                    <a:pt x="233" y="0"/>
                  </a:lnTo>
                  <a:lnTo>
                    <a:pt x="219" y="6"/>
                  </a:lnTo>
                  <a:lnTo>
                    <a:pt x="204" y="12"/>
                  </a:lnTo>
                  <a:lnTo>
                    <a:pt x="191" y="17"/>
                  </a:lnTo>
                  <a:lnTo>
                    <a:pt x="178" y="23"/>
                  </a:lnTo>
                  <a:lnTo>
                    <a:pt x="165" y="27"/>
                  </a:lnTo>
                  <a:lnTo>
                    <a:pt x="151" y="33"/>
                  </a:lnTo>
                  <a:lnTo>
                    <a:pt x="138" y="37"/>
                  </a:lnTo>
                  <a:lnTo>
                    <a:pt x="124" y="43"/>
                  </a:lnTo>
                  <a:lnTo>
                    <a:pt x="109" y="47"/>
                  </a:lnTo>
                  <a:lnTo>
                    <a:pt x="97" y="51"/>
                  </a:lnTo>
                  <a:lnTo>
                    <a:pt x="82" y="54"/>
                  </a:lnTo>
                  <a:lnTo>
                    <a:pt x="67" y="56"/>
                  </a:lnTo>
                  <a:lnTo>
                    <a:pt x="50" y="58"/>
                  </a:lnTo>
                  <a:lnTo>
                    <a:pt x="35" y="62"/>
                  </a:lnTo>
                  <a:lnTo>
                    <a:pt x="19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205720" y="3819600"/>
              <a:ext cx="100440" cy="184680"/>
            </a:xfrm>
            <a:custGeom>
              <a:avLst/>
              <a:gdLst/>
              <a:ahLst/>
              <a:rect l="l" t="t" r="r" b="b"/>
              <a:pathLst>
                <a:path w="196" h="398">
                  <a:moveTo>
                    <a:pt x="179" y="0"/>
                  </a:moveTo>
                  <a:lnTo>
                    <a:pt x="192" y="14"/>
                  </a:lnTo>
                  <a:lnTo>
                    <a:pt x="178" y="5"/>
                  </a:lnTo>
                  <a:lnTo>
                    <a:pt x="174" y="10"/>
                  </a:lnTo>
                  <a:lnTo>
                    <a:pt x="164" y="27"/>
                  </a:lnTo>
                  <a:lnTo>
                    <a:pt x="150" y="49"/>
                  </a:lnTo>
                  <a:lnTo>
                    <a:pt x="132" y="78"/>
                  </a:lnTo>
                  <a:lnTo>
                    <a:pt x="113" y="110"/>
                  </a:lnTo>
                  <a:lnTo>
                    <a:pt x="92" y="145"/>
                  </a:lnTo>
                  <a:lnTo>
                    <a:pt x="71" y="181"/>
                  </a:lnTo>
                  <a:lnTo>
                    <a:pt x="51" y="220"/>
                  </a:lnTo>
                  <a:lnTo>
                    <a:pt x="33" y="256"/>
                  </a:lnTo>
                  <a:lnTo>
                    <a:pt x="18" y="290"/>
                  </a:lnTo>
                  <a:lnTo>
                    <a:pt x="6" y="322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0"/>
                  </a:lnTo>
                  <a:lnTo>
                    <a:pt x="33" y="398"/>
                  </a:lnTo>
                  <a:lnTo>
                    <a:pt x="33" y="379"/>
                  </a:lnTo>
                  <a:lnTo>
                    <a:pt x="23" y="377"/>
                  </a:lnTo>
                  <a:lnTo>
                    <a:pt x="19" y="368"/>
                  </a:lnTo>
                  <a:lnTo>
                    <a:pt x="19" y="351"/>
                  </a:lnTo>
                  <a:lnTo>
                    <a:pt x="25" y="327"/>
                  </a:lnTo>
                  <a:lnTo>
                    <a:pt x="35" y="297"/>
                  </a:lnTo>
                  <a:lnTo>
                    <a:pt x="49" y="263"/>
                  </a:lnTo>
                  <a:lnTo>
                    <a:pt x="67" y="228"/>
                  </a:lnTo>
                  <a:lnTo>
                    <a:pt x="87" y="191"/>
                  </a:lnTo>
                  <a:lnTo>
                    <a:pt x="109" y="155"/>
                  </a:lnTo>
                  <a:lnTo>
                    <a:pt x="130" y="120"/>
                  </a:lnTo>
                  <a:lnTo>
                    <a:pt x="149" y="87"/>
                  </a:lnTo>
                  <a:lnTo>
                    <a:pt x="167" y="59"/>
                  </a:lnTo>
                  <a:lnTo>
                    <a:pt x="180" y="37"/>
                  </a:lnTo>
                  <a:lnTo>
                    <a:pt x="191" y="20"/>
                  </a:lnTo>
                  <a:lnTo>
                    <a:pt x="196" y="9"/>
                  </a:lnTo>
                  <a:lnTo>
                    <a:pt x="178" y="0"/>
                  </a:lnTo>
                  <a:lnTo>
                    <a:pt x="191" y="14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296080" y="3743640"/>
              <a:ext cx="92520" cy="82440"/>
            </a:xfrm>
            <a:custGeom>
              <a:avLst/>
              <a:gdLst/>
              <a:ahLst/>
              <a:rect l="l" t="t" r="r" b="b"/>
              <a:pathLst>
                <a:path w="184" h="179">
                  <a:moveTo>
                    <a:pt x="170" y="1"/>
                  </a:moveTo>
                  <a:lnTo>
                    <a:pt x="176" y="0"/>
                  </a:lnTo>
                  <a:lnTo>
                    <a:pt x="152" y="2"/>
                  </a:lnTo>
                  <a:lnTo>
                    <a:pt x="127" y="16"/>
                  </a:lnTo>
                  <a:lnTo>
                    <a:pt x="104" y="38"/>
                  </a:lnTo>
                  <a:lnTo>
                    <a:pt x="82" y="63"/>
                  </a:lnTo>
                  <a:lnTo>
                    <a:pt x="61" y="91"/>
                  </a:lnTo>
                  <a:lnTo>
                    <a:pt x="37" y="119"/>
                  </a:lnTo>
                  <a:lnTo>
                    <a:pt x="17" y="145"/>
                  </a:lnTo>
                  <a:lnTo>
                    <a:pt x="0" y="165"/>
                  </a:lnTo>
                  <a:lnTo>
                    <a:pt x="12" y="179"/>
                  </a:lnTo>
                  <a:lnTo>
                    <a:pt x="32" y="156"/>
                  </a:lnTo>
                  <a:lnTo>
                    <a:pt x="52" y="131"/>
                  </a:lnTo>
                  <a:lnTo>
                    <a:pt x="74" y="102"/>
                  </a:lnTo>
                  <a:lnTo>
                    <a:pt x="95" y="75"/>
                  </a:lnTo>
                  <a:lnTo>
                    <a:pt x="118" y="49"/>
                  </a:lnTo>
                  <a:lnTo>
                    <a:pt x="139" y="30"/>
                  </a:lnTo>
                  <a:lnTo>
                    <a:pt x="157" y="21"/>
                  </a:lnTo>
                  <a:lnTo>
                    <a:pt x="174" y="19"/>
                  </a:lnTo>
                  <a:lnTo>
                    <a:pt x="178" y="18"/>
                  </a:lnTo>
                  <a:lnTo>
                    <a:pt x="174" y="19"/>
                  </a:lnTo>
                  <a:lnTo>
                    <a:pt x="180" y="16"/>
                  </a:lnTo>
                  <a:lnTo>
                    <a:pt x="184" y="10"/>
                  </a:lnTo>
                  <a:lnTo>
                    <a:pt x="182" y="3"/>
                  </a:lnTo>
                  <a:lnTo>
                    <a:pt x="176" y="0"/>
                  </a:lnTo>
                  <a:lnTo>
                    <a:pt x="17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795040" y="3039120"/>
              <a:ext cx="82080" cy="50760"/>
            </a:xfrm>
            <a:custGeom>
              <a:avLst/>
              <a:gdLst/>
              <a:ahLst/>
              <a:rect l="l" t="t" r="r" b="b"/>
              <a:pathLst>
                <a:path w="162" h="110">
                  <a:moveTo>
                    <a:pt x="143" y="92"/>
                  </a:moveTo>
                  <a:lnTo>
                    <a:pt x="159" y="92"/>
                  </a:lnTo>
                  <a:lnTo>
                    <a:pt x="142" y="77"/>
                  </a:lnTo>
                  <a:lnTo>
                    <a:pt x="125" y="63"/>
                  </a:lnTo>
                  <a:lnTo>
                    <a:pt x="105" y="52"/>
                  </a:lnTo>
                  <a:lnTo>
                    <a:pt x="86" y="41"/>
                  </a:lnTo>
                  <a:lnTo>
                    <a:pt x="67" y="31"/>
                  </a:lnTo>
                  <a:lnTo>
                    <a:pt x="47" y="20"/>
                  </a:lnTo>
                  <a:lnTo>
                    <a:pt x="28" y="11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8" y="30"/>
                  </a:lnTo>
                  <a:lnTo>
                    <a:pt x="37" y="39"/>
                  </a:lnTo>
                  <a:lnTo>
                    <a:pt x="57" y="50"/>
                  </a:lnTo>
                  <a:lnTo>
                    <a:pt x="76" y="60"/>
                  </a:lnTo>
                  <a:lnTo>
                    <a:pt x="95" y="71"/>
                  </a:lnTo>
                  <a:lnTo>
                    <a:pt x="112" y="82"/>
                  </a:lnTo>
                  <a:lnTo>
                    <a:pt x="130" y="93"/>
                  </a:lnTo>
                  <a:lnTo>
                    <a:pt x="144" y="107"/>
                  </a:lnTo>
                  <a:lnTo>
                    <a:pt x="160" y="107"/>
                  </a:lnTo>
                  <a:lnTo>
                    <a:pt x="144" y="107"/>
                  </a:lnTo>
                  <a:lnTo>
                    <a:pt x="151" y="110"/>
                  </a:lnTo>
                  <a:lnTo>
                    <a:pt x="159" y="107"/>
                  </a:lnTo>
                  <a:lnTo>
                    <a:pt x="162" y="99"/>
                  </a:lnTo>
                  <a:lnTo>
                    <a:pt x="159" y="92"/>
                  </a:lnTo>
                  <a:lnTo>
                    <a:pt x="14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867760" y="2953800"/>
              <a:ext cx="64440" cy="57600"/>
            </a:xfrm>
            <a:custGeom>
              <a:avLst/>
              <a:gdLst/>
              <a:ahLst/>
              <a:rect l="l" t="t" r="r" b="b"/>
              <a:pathLst>
                <a:path w="129" h="124">
                  <a:moveTo>
                    <a:pt x="17" y="12"/>
                  </a:moveTo>
                  <a:lnTo>
                    <a:pt x="17" y="12"/>
                  </a:lnTo>
                  <a:lnTo>
                    <a:pt x="5" y="16"/>
                  </a:lnTo>
                  <a:lnTo>
                    <a:pt x="14" y="24"/>
                  </a:lnTo>
                  <a:lnTo>
                    <a:pt x="28" y="39"/>
                  </a:lnTo>
                  <a:lnTo>
                    <a:pt x="45" y="56"/>
                  </a:lnTo>
                  <a:lnTo>
                    <a:pt x="62" y="75"/>
                  </a:lnTo>
                  <a:lnTo>
                    <a:pt x="81" y="93"/>
                  </a:lnTo>
                  <a:lnTo>
                    <a:pt x="99" y="111"/>
                  </a:lnTo>
                  <a:lnTo>
                    <a:pt x="117" y="124"/>
                  </a:lnTo>
                  <a:lnTo>
                    <a:pt x="129" y="107"/>
                  </a:lnTo>
                  <a:lnTo>
                    <a:pt x="113" y="94"/>
                  </a:lnTo>
                  <a:lnTo>
                    <a:pt x="96" y="79"/>
                  </a:lnTo>
                  <a:lnTo>
                    <a:pt x="77" y="61"/>
                  </a:lnTo>
                  <a:lnTo>
                    <a:pt x="59" y="42"/>
                  </a:lnTo>
                  <a:lnTo>
                    <a:pt x="42" y="24"/>
                  </a:lnTo>
                  <a:lnTo>
                    <a:pt x="28" y="1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792160" y="2953800"/>
              <a:ext cx="82800" cy="93960"/>
            </a:xfrm>
            <a:custGeom>
              <a:avLst/>
              <a:gdLst/>
              <a:ahLst/>
              <a:rect l="l" t="t" r="r" b="b"/>
              <a:pathLst>
                <a:path w="164" h="204">
                  <a:moveTo>
                    <a:pt x="14" y="185"/>
                  </a:moveTo>
                  <a:lnTo>
                    <a:pt x="18" y="201"/>
                  </a:lnTo>
                  <a:lnTo>
                    <a:pt x="164" y="12"/>
                  </a:lnTo>
                  <a:lnTo>
                    <a:pt x="147" y="0"/>
                  </a:lnTo>
                  <a:lnTo>
                    <a:pt x="1" y="188"/>
                  </a:lnTo>
                  <a:lnTo>
                    <a:pt x="4" y="204"/>
                  </a:lnTo>
                  <a:lnTo>
                    <a:pt x="1" y="188"/>
                  </a:lnTo>
                  <a:lnTo>
                    <a:pt x="0" y="197"/>
                  </a:lnTo>
                  <a:lnTo>
                    <a:pt x="4" y="203"/>
                  </a:lnTo>
                  <a:lnTo>
                    <a:pt x="10" y="204"/>
                  </a:lnTo>
                  <a:lnTo>
                    <a:pt x="18" y="201"/>
                  </a:lnTo>
                  <a:lnTo>
                    <a:pt x="1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008080" y="3006720"/>
              <a:ext cx="177480" cy="279720"/>
            </a:xfrm>
            <a:custGeom>
              <a:avLst/>
              <a:gdLst/>
              <a:ahLst/>
              <a:rect l="l" t="t" r="r" b="b"/>
              <a:pathLst>
                <a:path w="358" h="603">
                  <a:moveTo>
                    <a:pt x="76" y="0"/>
                  </a:moveTo>
                  <a:lnTo>
                    <a:pt x="68" y="16"/>
                  </a:lnTo>
                  <a:lnTo>
                    <a:pt x="60" y="31"/>
                  </a:lnTo>
                  <a:lnTo>
                    <a:pt x="51" y="46"/>
                  </a:lnTo>
                  <a:lnTo>
                    <a:pt x="45" y="61"/>
                  </a:lnTo>
                  <a:lnTo>
                    <a:pt x="37" y="76"/>
                  </a:lnTo>
                  <a:lnTo>
                    <a:pt x="28" y="91"/>
                  </a:lnTo>
                  <a:lnTo>
                    <a:pt x="21" y="107"/>
                  </a:lnTo>
                  <a:lnTo>
                    <a:pt x="13" y="123"/>
                  </a:lnTo>
                  <a:lnTo>
                    <a:pt x="5" y="156"/>
                  </a:lnTo>
                  <a:lnTo>
                    <a:pt x="0" y="200"/>
                  </a:lnTo>
                  <a:lnTo>
                    <a:pt x="1" y="249"/>
                  </a:lnTo>
                  <a:lnTo>
                    <a:pt x="11" y="292"/>
                  </a:lnTo>
                  <a:lnTo>
                    <a:pt x="26" y="320"/>
                  </a:lnTo>
                  <a:lnTo>
                    <a:pt x="39" y="346"/>
                  </a:lnTo>
                  <a:lnTo>
                    <a:pt x="50" y="368"/>
                  </a:lnTo>
                  <a:lnTo>
                    <a:pt x="62" y="389"/>
                  </a:lnTo>
                  <a:lnTo>
                    <a:pt x="74" y="411"/>
                  </a:lnTo>
                  <a:lnTo>
                    <a:pt x="86" y="435"/>
                  </a:lnTo>
                  <a:lnTo>
                    <a:pt x="98" y="461"/>
                  </a:lnTo>
                  <a:lnTo>
                    <a:pt x="111" y="490"/>
                  </a:lnTo>
                  <a:lnTo>
                    <a:pt x="117" y="504"/>
                  </a:lnTo>
                  <a:lnTo>
                    <a:pt x="123" y="520"/>
                  </a:lnTo>
                  <a:lnTo>
                    <a:pt x="132" y="537"/>
                  </a:lnTo>
                  <a:lnTo>
                    <a:pt x="141" y="552"/>
                  </a:lnTo>
                  <a:lnTo>
                    <a:pt x="151" y="568"/>
                  </a:lnTo>
                  <a:lnTo>
                    <a:pt x="162" y="582"/>
                  </a:lnTo>
                  <a:lnTo>
                    <a:pt x="174" y="594"/>
                  </a:lnTo>
                  <a:lnTo>
                    <a:pt x="188" y="603"/>
                  </a:lnTo>
                  <a:lnTo>
                    <a:pt x="202" y="601"/>
                  </a:lnTo>
                  <a:lnTo>
                    <a:pt x="217" y="595"/>
                  </a:lnTo>
                  <a:lnTo>
                    <a:pt x="232" y="587"/>
                  </a:lnTo>
                  <a:lnTo>
                    <a:pt x="246" y="577"/>
                  </a:lnTo>
                  <a:lnTo>
                    <a:pt x="258" y="564"/>
                  </a:lnTo>
                  <a:lnTo>
                    <a:pt x="270" y="553"/>
                  </a:lnTo>
                  <a:lnTo>
                    <a:pt x="280" y="541"/>
                  </a:lnTo>
                  <a:lnTo>
                    <a:pt x="284" y="532"/>
                  </a:lnTo>
                  <a:lnTo>
                    <a:pt x="276" y="466"/>
                  </a:lnTo>
                  <a:lnTo>
                    <a:pt x="273" y="410"/>
                  </a:lnTo>
                  <a:lnTo>
                    <a:pt x="276" y="357"/>
                  </a:lnTo>
                  <a:lnTo>
                    <a:pt x="290" y="297"/>
                  </a:lnTo>
                  <a:lnTo>
                    <a:pt x="300" y="272"/>
                  </a:lnTo>
                  <a:lnTo>
                    <a:pt x="312" y="244"/>
                  </a:lnTo>
                  <a:lnTo>
                    <a:pt x="326" y="215"/>
                  </a:lnTo>
                  <a:lnTo>
                    <a:pt x="339" y="182"/>
                  </a:lnTo>
                  <a:lnTo>
                    <a:pt x="349" y="151"/>
                  </a:lnTo>
                  <a:lnTo>
                    <a:pt x="357" y="120"/>
                  </a:lnTo>
                  <a:lnTo>
                    <a:pt x="358" y="90"/>
                  </a:lnTo>
                  <a:lnTo>
                    <a:pt x="351" y="63"/>
                  </a:lnTo>
                  <a:lnTo>
                    <a:pt x="344" y="54"/>
                  </a:lnTo>
                  <a:lnTo>
                    <a:pt x="328" y="46"/>
                  </a:lnTo>
                  <a:lnTo>
                    <a:pt x="306" y="37"/>
                  </a:lnTo>
                  <a:lnTo>
                    <a:pt x="282" y="30"/>
                  </a:lnTo>
                  <a:lnTo>
                    <a:pt x="255" y="24"/>
                  </a:lnTo>
                  <a:lnTo>
                    <a:pt x="231" y="17"/>
                  </a:lnTo>
                  <a:lnTo>
                    <a:pt x="211" y="13"/>
                  </a:lnTo>
                  <a:lnTo>
                    <a:pt x="196" y="10"/>
                  </a:lnTo>
                  <a:lnTo>
                    <a:pt x="181" y="9"/>
                  </a:lnTo>
                  <a:lnTo>
                    <a:pt x="166" y="8"/>
                  </a:lnTo>
                  <a:lnTo>
                    <a:pt x="151" y="7"/>
                  </a:lnTo>
                  <a:lnTo>
                    <a:pt x="135" y="6"/>
                  </a:lnTo>
                  <a:lnTo>
                    <a:pt x="120" y="5"/>
                  </a:lnTo>
                  <a:lnTo>
                    <a:pt x="105" y="4"/>
                  </a:lnTo>
                  <a:lnTo>
                    <a:pt x="9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010600" y="3004560"/>
              <a:ext cx="40320" cy="59400"/>
            </a:xfrm>
            <a:custGeom>
              <a:avLst/>
              <a:gdLst/>
              <a:ahLst/>
              <a:rect l="l" t="t" r="r" b="b"/>
              <a:pathLst>
                <a:path w="79" h="130">
                  <a:moveTo>
                    <a:pt x="18" y="130"/>
                  </a:moveTo>
                  <a:lnTo>
                    <a:pt x="18" y="130"/>
                  </a:lnTo>
                  <a:lnTo>
                    <a:pt x="25" y="114"/>
                  </a:lnTo>
                  <a:lnTo>
                    <a:pt x="33" y="100"/>
                  </a:lnTo>
                  <a:lnTo>
                    <a:pt x="41" y="85"/>
                  </a:lnTo>
                  <a:lnTo>
                    <a:pt x="49" y="70"/>
                  </a:lnTo>
                  <a:lnTo>
                    <a:pt x="56" y="54"/>
                  </a:lnTo>
                  <a:lnTo>
                    <a:pt x="64" y="40"/>
                  </a:lnTo>
                  <a:lnTo>
                    <a:pt x="73" y="24"/>
                  </a:lnTo>
                  <a:lnTo>
                    <a:pt x="79" y="10"/>
                  </a:lnTo>
                  <a:lnTo>
                    <a:pt x="61" y="0"/>
                  </a:lnTo>
                  <a:lnTo>
                    <a:pt x="54" y="15"/>
                  </a:lnTo>
                  <a:lnTo>
                    <a:pt x="45" y="31"/>
                  </a:lnTo>
                  <a:lnTo>
                    <a:pt x="37" y="45"/>
                  </a:lnTo>
                  <a:lnTo>
                    <a:pt x="31" y="60"/>
                  </a:lnTo>
                  <a:lnTo>
                    <a:pt x="22" y="75"/>
                  </a:lnTo>
                  <a:lnTo>
                    <a:pt x="14" y="91"/>
                  </a:lnTo>
                  <a:lnTo>
                    <a:pt x="6" y="108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1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2003040" y="3062160"/>
              <a:ext cx="15120" cy="83160"/>
            </a:xfrm>
            <a:custGeom>
              <a:avLst/>
              <a:gdLst/>
              <a:ahLst/>
              <a:rect l="l" t="t" r="r" b="b"/>
              <a:pathLst>
                <a:path w="34" h="178">
                  <a:moveTo>
                    <a:pt x="32" y="169"/>
                  </a:moveTo>
                  <a:lnTo>
                    <a:pt x="32" y="170"/>
                  </a:lnTo>
                  <a:lnTo>
                    <a:pt x="22" y="128"/>
                  </a:lnTo>
                  <a:lnTo>
                    <a:pt x="21" y="81"/>
                  </a:lnTo>
                  <a:lnTo>
                    <a:pt x="27" y="38"/>
                  </a:lnTo>
                  <a:lnTo>
                    <a:pt x="34" y="7"/>
                  </a:lnTo>
                  <a:lnTo>
                    <a:pt x="16" y="0"/>
                  </a:lnTo>
                  <a:lnTo>
                    <a:pt x="5" y="36"/>
                  </a:lnTo>
                  <a:lnTo>
                    <a:pt x="0" y="81"/>
                  </a:lnTo>
                  <a:lnTo>
                    <a:pt x="1" y="131"/>
                  </a:lnTo>
                  <a:lnTo>
                    <a:pt x="13" y="177"/>
                  </a:lnTo>
                  <a:lnTo>
                    <a:pt x="13" y="178"/>
                  </a:lnTo>
                  <a:lnTo>
                    <a:pt x="3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008080" y="3140640"/>
              <a:ext cx="60120" cy="94680"/>
            </a:xfrm>
            <a:custGeom>
              <a:avLst/>
              <a:gdLst/>
              <a:ahLst/>
              <a:rect l="l" t="t" r="r" b="b"/>
              <a:pathLst>
                <a:path w="118" h="206">
                  <a:moveTo>
                    <a:pt x="118" y="199"/>
                  </a:moveTo>
                  <a:lnTo>
                    <a:pt x="118" y="199"/>
                  </a:lnTo>
                  <a:lnTo>
                    <a:pt x="105" y="170"/>
                  </a:lnTo>
                  <a:lnTo>
                    <a:pt x="94" y="142"/>
                  </a:lnTo>
                  <a:lnTo>
                    <a:pt x="81" y="119"/>
                  </a:lnTo>
                  <a:lnTo>
                    <a:pt x="70" y="97"/>
                  </a:lnTo>
                  <a:lnTo>
                    <a:pt x="58" y="75"/>
                  </a:lnTo>
                  <a:lnTo>
                    <a:pt x="46" y="52"/>
                  </a:lnTo>
                  <a:lnTo>
                    <a:pt x="34" y="28"/>
                  </a:lnTo>
                  <a:lnTo>
                    <a:pt x="19" y="0"/>
                  </a:lnTo>
                  <a:lnTo>
                    <a:pt x="0" y="9"/>
                  </a:lnTo>
                  <a:lnTo>
                    <a:pt x="15" y="38"/>
                  </a:lnTo>
                  <a:lnTo>
                    <a:pt x="27" y="62"/>
                  </a:lnTo>
                  <a:lnTo>
                    <a:pt x="39" y="84"/>
                  </a:lnTo>
                  <a:lnTo>
                    <a:pt x="51" y="105"/>
                  </a:lnTo>
                  <a:lnTo>
                    <a:pt x="62" y="128"/>
                  </a:lnTo>
                  <a:lnTo>
                    <a:pt x="75" y="152"/>
                  </a:lnTo>
                  <a:lnTo>
                    <a:pt x="86" y="176"/>
                  </a:lnTo>
                  <a:lnTo>
                    <a:pt x="99" y="206"/>
                  </a:lnTo>
                  <a:lnTo>
                    <a:pt x="99" y="206"/>
                  </a:lnTo>
                  <a:lnTo>
                    <a:pt x="118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058120" y="3233160"/>
              <a:ext cx="47520" cy="5760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87" y="106"/>
                  </a:moveTo>
                  <a:lnTo>
                    <a:pt x="91" y="107"/>
                  </a:lnTo>
                  <a:lnTo>
                    <a:pt x="80" y="99"/>
                  </a:lnTo>
                  <a:lnTo>
                    <a:pt x="70" y="89"/>
                  </a:lnTo>
                  <a:lnTo>
                    <a:pt x="58" y="75"/>
                  </a:lnTo>
                  <a:lnTo>
                    <a:pt x="50" y="60"/>
                  </a:lnTo>
                  <a:lnTo>
                    <a:pt x="40" y="45"/>
                  </a:lnTo>
                  <a:lnTo>
                    <a:pt x="32" y="29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0" y="7"/>
                  </a:lnTo>
                  <a:lnTo>
                    <a:pt x="6" y="21"/>
                  </a:lnTo>
                  <a:lnTo>
                    <a:pt x="13" y="37"/>
                  </a:lnTo>
                  <a:lnTo>
                    <a:pt x="21" y="54"/>
                  </a:lnTo>
                  <a:lnTo>
                    <a:pt x="31" y="70"/>
                  </a:lnTo>
                  <a:lnTo>
                    <a:pt x="41" y="87"/>
                  </a:lnTo>
                  <a:lnTo>
                    <a:pt x="53" y="103"/>
                  </a:lnTo>
                  <a:lnTo>
                    <a:pt x="67" y="115"/>
                  </a:lnTo>
                  <a:lnTo>
                    <a:pt x="81" y="126"/>
                  </a:lnTo>
                  <a:lnTo>
                    <a:pt x="87" y="127"/>
                  </a:lnTo>
                  <a:lnTo>
                    <a:pt x="81" y="126"/>
                  </a:lnTo>
                  <a:lnTo>
                    <a:pt x="90" y="126"/>
                  </a:lnTo>
                  <a:lnTo>
                    <a:pt x="95" y="122"/>
                  </a:lnTo>
                  <a:lnTo>
                    <a:pt x="95" y="113"/>
                  </a:lnTo>
                  <a:lnTo>
                    <a:pt x="91" y="107"/>
                  </a:lnTo>
                  <a:lnTo>
                    <a:pt x="87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100600" y="3249360"/>
              <a:ext cx="55080" cy="4104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85" y="11"/>
                  </a:moveTo>
                  <a:lnTo>
                    <a:pt x="86" y="6"/>
                  </a:lnTo>
                  <a:lnTo>
                    <a:pt x="83" y="14"/>
                  </a:lnTo>
                  <a:lnTo>
                    <a:pt x="74" y="24"/>
                  </a:lnTo>
                  <a:lnTo>
                    <a:pt x="64" y="36"/>
                  </a:lnTo>
                  <a:lnTo>
                    <a:pt x="51" y="46"/>
                  </a:lnTo>
                  <a:lnTo>
                    <a:pt x="38" y="57"/>
                  </a:lnTo>
                  <a:lnTo>
                    <a:pt x="25" y="64"/>
                  </a:lnTo>
                  <a:lnTo>
                    <a:pt x="12" y="69"/>
                  </a:lnTo>
                  <a:lnTo>
                    <a:pt x="0" y="71"/>
                  </a:lnTo>
                  <a:lnTo>
                    <a:pt x="0" y="92"/>
                  </a:lnTo>
                  <a:lnTo>
                    <a:pt x="17" y="90"/>
                  </a:lnTo>
                  <a:lnTo>
                    <a:pt x="35" y="82"/>
                  </a:lnTo>
                  <a:lnTo>
                    <a:pt x="49" y="73"/>
                  </a:lnTo>
                  <a:lnTo>
                    <a:pt x="65" y="62"/>
                  </a:lnTo>
                  <a:lnTo>
                    <a:pt x="78" y="50"/>
                  </a:lnTo>
                  <a:lnTo>
                    <a:pt x="89" y="38"/>
                  </a:lnTo>
                  <a:lnTo>
                    <a:pt x="99" y="25"/>
                  </a:lnTo>
                  <a:lnTo>
                    <a:pt x="105" y="14"/>
                  </a:lnTo>
                  <a:lnTo>
                    <a:pt x="106" y="8"/>
                  </a:lnTo>
                  <a:lnTo>
                    <a:pt x="105" y="14"/>
                  </a:lnTo>
                  <a:lnTo>
                    <a:pt x="105" y="5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6"/>
                  </a:lnTo>
                  <a:lnTo>
                    <a:pt x="8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138400" y="3142800"/>
              <a:ext cx="20160" cy="110880"/>
            </a:xfrm>
            <a:custGeom>
              <a:avLst/>
              <a:gdLst/>
              <a:ahLst/>
              <a:rect l="l" t="t" r="r" b="b"/>
              <a:pathLst>
                <a:path w="38" h="238">
                  <a:moveTo>
                    <a:pt x="17" y="0"/>
                  </a:moveTo>
                  <a:lnTo>
                    <a:pt x="17" y="0"/>
                  </a:lnTo>
                  <a:lnTo>
                    <a:pt x="3" y="61"/>
                  </a:lnTo>
                  <a:lnTo>
                    <a:pt x="0" y="115"/>
                  </a:lnTo>
                  <a:lnTo>
                    <a:pt x="3" y="171"/>
                  </a:lnTo>
                  <a:lnTo>
                    <a:pt x="10" y="238"/>
                  </a:lnTo>
                  <a:lnTo>
                    <a:pt x="31" y="235"/>
                  </a:lnTo>
                  <a:lnTo>
                    <a:pt x="24" y="171"/>
                  </a:lnTo>
                  <a:lnTo>
                    <a:pt x="21" y="115"/>
                  </a:lnTo>
                  <a:lnTo>
                    <a:pt x="24" y="63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148480" y="3034440"/>
              <a:ext cx="42480" cy="11088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61" y="7"/>
                  </a:moveTo>
                  <a:lnTo>
                    <a:pt x="62" y="8"/>
                  </a:lnTo>
                  <a:lnTo>
                    <a:pt x="67" y="32"/>
                  </a:lnTo>
                  <a:lnTo>
                    <a:pt x="66" y="61"/>
                  </a:lnTo>
                  <a:lnTo>
                    <a:pt x="59" y="91"/>
                  </a:lnTo>
                  <a:lnTo>
                    <a:pt x="49" y="121"/>
                  </a:lnTo>
                  <a:lnTo>
                    <a:pt x="37" y="153"/>
                  </a:lnTo>
                  <a:lnTo>
                    <a:pt x="23" y="181"/>
                  </a:lnTo>
                  <a:lnTo>
                    <a:pt x="10" y="211"/>
                  </a:lnTo>
                  <a:lnTo>
                    <a:pt x="0" y="237"/>
                  </a:lnTo>
                  <a:lnTo>
                    <a:pt x="21" y="241"/>
                  </a:lnTo>
                  <a:lnTo>
                    <a:pt x="28" y="218"/>
                  </a:lnTo>
                  <a:lnTo>
                    <a:pt x="42" y="191"/>
                  </a:lnTo>
                  <a:lnTo>
                    <a:pt x="56" y="160"/>
                  </a:lnTo>
                  <a:lnTo>
                    <a:pt x="68" y="128"/>
                  </a:lnTo>
                  <a:lnTo>
                    <a:pt x="80" y="97"/>
                  </a:lnTo>
                  <a:lnTo>
                    <a:pt x="87" y="63"/>
                  </a:lnTo>
                  <a:lnTo>
                    <a:pt x="88" y="32"/>
                  </a:lnTo>
                  <a:lnTo>
                    <a:pt x="80" y="0"/>
                  </a:lnTo>
                  <a:lnTo>
                    <a:pt x="82" y="2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106000" y="3006720"/>
              <a:ext cx="82800" cy="29520"/>
            </a:xfrm>
            <a:custGeom>
              <a:avLst/>
              <a:gdLst/>
              <a:ahLst/>
              <a:rect l="l" t="t" r="r" b="b"/>
              <a:pathLst>
                <a:path w="167" h="66">
                  <a:moveTo>
                    <a:pt x="1" y="21"/>
                  </a:moveTo>
                  <a:lnTo>
                    <a:pt x="0" y="21"/>
                  </a:lnTo>
                  <a:lnTo>
                    <a:pt x="15" y="25"/>
                  </a:lnTo>
                  <a:lnTo>
                    <a:pt x="34" y="29"/>
                  </a:lnTo>
                  <a:lnTo>
                    <a:pt x="58" y="35"/>
                  </a:lnTo>
                  <a:lnTo>
                    <a:pt x="85" y="42"/>
                  </a:lnTo>
                  <a:lnTo>
                    <a:pt x="109" y="49"/>
                  </a:lnTo>
                  <a:lnTo>
                    <a:pt x="130" y="56"/>
                  </a:lnTo>
                  <a:lnTo>
                    <a:pt x="143" y="64"/>
                  </a:lnTo>
                  <a:lnTo>
                    <a:pt x="146" y="66"/>
                  </a:lnTo>
                  <a:lnTo>
                    <a:pt x="167" y="61"/>
                  </a:lnTo>
                  <a:lnTo>
                    <a:pt x="154" y="47"/>
                  </a:lnTo>
                  <a:lnTo>
                    <a:pt x="137" y="37"/>
                  </a:lnTo>
                  <a:lnTo>
                    <a:pt x="113" y="28"/>
                  </a:lnTo>
                  <a:lnTo>
                    <a:pt x="89" y="20"/>
                  </a:lnTo>
                  <a:lnTo>
                    <a:pt x="62" y="14"/>
                  </a:lnTo>
                  <a:lnTo>
                    <a:pt x="38" y="8"/>
                  </a:lnTo>
                  <a:lnTo>
                    <a:pt x="17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040480" y="3002040"/>
              <a:ext cx="65160" cy="14040"/>
            </a:xfrm>
            <a:custGeom>
              <a:avLst/>
              <a:gdLst/>
              <a:ahLst/>
              <a:rect l="l" t="t" r="r" b="b"/>
              <a:pathLst>
                <a:path w="132" h="30">
                  <a:moveTo>
                    <a:pt x="20" y="16"/>
                  </a:moveTo>
                  <a:lnTo>
                    <a:pt x="12" y="21"/>
                  </a:lnTo>
                  <a:lnTo>
                    <a:pt x="27" y="23"/>
                  </a:lnTo>
                  <a:lnTo>
                    <a:pt x="41" y="24"/>
                  </a:lnTo>
                  <a:lnTo>
                    <a:pt x="56" y="25"/>
                  </a:lnTo>
                  <a:lnTo>
                    <a:pt x="71" y="26"/>
                  </a:lnTo>
                  <a:lnTo>
                    <a:pt x="87" y="27"/>
                  </a:lnTo>
                  <a:lnTo>
                    <a:pt x="102" y="28"/>
                  </a:lnTo>
                  <a:lnTo>
                    <a:pt x="117" y="29"/>
                  </a:lnTo>
                  <a:lnTo>
                    <a:pt x="132" y="30"/>
                  </a:lnTo>
                  <a:lnTo>
                    <a:pt x="132" y="9"/>
                  </a:lnTo>
                  <a:lnTo>
                    <a:pt x="117" y="8"/>
                  </a:lnTo>
                  <a:lnTo>
                    <a:pt x="102" y="7"/>
                  </a:lnTo>
                  <a:lnTo>
                    <a:pt x="87" y="6"/>
                  </a:lnTo>
                  <a:lnTo>
                    <a:pt x="71" y="5"/>
                  </a:lnTo>
                  <a:lnTo>
                    <a:pt x="56" y="4"/>
                  </a:lnTo>
                  <a:lnTo>
                    <a:pt x="41" y="3"/>
                  </a:lnTo>
                  <a:lnTo>
                    <a:pt x="27" y="1"/>
                  </a:lnTo>
                  <a:lnTo>
                    <a:pt x="12" y="0"/>
                  </a:lnTo>
                  <a:lnTo>
                    <a:pt x="2" y="6"/>
                  </a:lnTo>
                  <a:lnTo>
                    <a:pt x="12" y="0"/>
                  </a:lnTo>
                  <a:lnTo>
                    <a:pt x="3" y="4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12" y="21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033280" y="3115080"/>
              <a:ext cx="65160" cy="66960"/>
            </a:xfrm>
            <a:custGeom>
              <a:avLst/>
              <a:gdLst/>
              <a:ahLst/>
              <a:rect l="l" t="t" r="r" b="b"/>
              <a:pathLst>
                <a:path w="126" h="143">
                  <a:moveTo>
                    <a:pt x="110" y="123"/>
                  </a:moveTo>
                  <a:lnTo>
                    <a:pt x="116" y="122"/>
                  </a:lnTo>
                  <a:lnTo>
                    <a:pt x="102" y="120"/>
                  </a:lnTo>
                  <a:lnTo>
                    <a:pt x="89" y="111"/>
                  </a:lnTo>
                  <a:lnTo>
                    <a:pt x="77" y="97"/>
                  </a:lnTo>
                  <a:lnTo>
                    <a:pt x="62" y="77"/>
                  </a:lnTo>
                  <a:lnTo>
                    <a:pt x="50" y="58"/>
                  </a:lnTo>
                  <a:lnTo>
                    <a:pt x="39" y="37"/>
                  </a:lnTo>
                  <a:lnTo>
                    <a:pt x="28" y="17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9" y="26"/>
                  </a:lnTo>
                  <a:lnTo>
                    <a:pt x="20" y="46"/>
                  </a:lnTo>
                  <a:lnTo>
                    <a:pt x="31" y="67"/>
                  </a:lnTo>
                  <a:lnTo>
                    <a:pt x="46" y="90"/>
                  </a:lnTo>
                  <a:lnTo>
                    <a:pt x="60" y="110"/>
                  </a:lnTo>
                  <a:lnTo>
                    <a:pt x="76" y="127"/>
                  </a:lnTo>
                  <a:lnTo>
                    <a:pt x="96" y="138"/>
                  </a:lnTo>
                  <a:lnTo>
                    <a:pt x="116" y="143"/>
                  </a:lnTo>
                  <a:lnTo>
                    <a:pt x="120" y="142"/>
                  </a:lnTo>
                  <a:lnTo>
                    <a:pt x="116" y="143"/>
                  </a:lnTo>
                  <a:lnTo>
                    <a:pt x="123" y="140"/>
                  </a:lnTo>
                  <a:lnTo>
                    <a:pt x="126" y="133"/>
                  </a:lnTo>
                  <a:lnTo>
                    <a:pt x="123" y="125"/>
                  </a:lnTo>
                  <a:lnTo>
                    <a:pt x="116" y="122"/>
                  </a:lnTo>
                  <a:lnTo>
                    <a:pt x="11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088360" y="3159000"/>
              <a:ext cx="22680" cy="2304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4"/>
                  </a:moveTo>
                  <a:lnTo>
                    <a:pt x="22" y="4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19" y="20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7" y="27"/>
                  </a:lnTo>
                  <a:lnTo>
                    <a:pt x="0" y="29"/>
                  </a:lnTo>
                  <a:lnTo>
                    <a:pt x="10" y="48"/>
                  </a:lnTo>
                  <a:lnTo>
                    <a:pt x="13" y="46"/>
                  </a:lnTo>
                  <a:lnTo>
                    <a:pt x="19" y="43"/>
                  </a:lnTo>
                  <a:lnTo>
                    <a:pt x="27" y="41"/>
                  </a:lnTo>
                  <a:lnTo>
                    <a:pt x="33" y="37"/>
                  </a:lnTo>
                  <a:lnTo>
                    <a:pt x="38" y="30"/>
                  </a:lnTo>
                  <a:lnTo>
                    <a:pt x="44" y="21"/>
                  </a:lnTo>
                  <a:lnTo>
                    <a:pt x="44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073600" y="3043800"/>
              <a:ext cx="37440" cy="117000"/>
            </a:xfrm>
            <a:custGeom>
              <a:avLst/>
              <a:gdLst/>
              <a:ahLst/>
              <a:rect l="l" t="t" r="r" b="b"/>
              <a:pathLst>
                <a:path w="74" h="254">
                  <a:moveTo>
                    <a:pt x="0" y="14"/>
                  </a:moveTo>
                  <a:lnTo>
                    <a:pt x="26" y="46"/>
                  </a:lnTo>
                  <a:lnTo>
                    <a:pt x="39" y="69"/>
                  </a:lnTo>
                  <a:lnTo>
                    <a:pt x="42" y="88"/>
                  </a:lnTo>
                  <a:lnTo>
                    <a:pt x="42" y="110"/>
                  </a:lnTo>
                  <a:lnTo>
                    <a:pt x="40" y="136"/>
                  </a:lnTo>
                  <a:lnTo>
                    <a:pt x="39" y="165"/>
                  </a:lnTo>
                  <a:lnTo>
                    <a:pt x="41" y="203"/>
                  </a:lnTo>
                  <a:lnTo>
                    <a:pt x="53" y="254"/>
                  </a:lnTo>
                  <a:lnTo>
                    <a:pt x="74" y="250"/>
                  </a:lnTo>
                  <a:lnTo>
                    <a:pt x="62" y="201"/>
                  </a:lnTo>
                  <a:lnTo>
                    <a:pt x="60" y="165"/>
                  </a:lnTo>
                  <a:lnTo>
                    <a:pt x="61" y="136"/>
                  </a:lnTo>
                  <a:lnTo>
                    <a:pt x="63" y="110"/>
                  </a:lnTo>
                  <a:lnTo>
                    <a:pt x="63" y="88"/>
                  </a:lnTo>
                  <a:lnTo>
                    <a:pt x="58" y="62"/>
                  </a:lnTo>
                  <a:lnTo>
                    <a:pt x="42" y="34"/>
                  </a:lnTo>
                  <a:lnTo>
                    <a:pt x="1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308680" y="2219040"/>
              <a:ext cx="328320" cy="549720"/>
            </a:xfrm>
            <a:custGeom>
              <a:avLst/>
              <a:gdLst/>
              <a:ahLst/>
              <a:rect l="l" t="t" r="r" b="b"/>
              <a:pathLst>
                <a:path w="652" h="1188">
                  <a:moveTo>
                    <a:pt x="106" y="43"/>
                  </a:moveTo>
                  <a:lnTo>
                    <a:pt x="127" y="33"/>
                  </a:lnTo>
                  <a:lnTo>
                    <a:pt x="151" y="23"/>
                  </a:lnTo>
                  <a:lnTo>
                    <a:pt x="175" y="16"/>
                  </a:lnTo>
                  <a:lnTo>
                    <a:pt x="201" y="9"/>
                  </a:lnTo>
                  <a:lnTo>
                    <a:pt x="229" y="3"/>
                  </a:lnTo>
                  <a:lnTo>
                    <a:pt x="256" y="1"/>
                  </a:lnTo>
                  <a:lnTo>
                    <a:pt x="285" y="0"/>
                  </a:lnTo>
                  <a:lnTo>
                    <a:pt x="313" y="2"/>
                  </a:lnTo>
                  <a:lnTo>
                    <a:pt x="342" y="6"/>
                  </a:lnTo>
                  <a:lnTo>
                    <a:pt x="367" y="13"/>
                  </a:lnTo>
                  <a:lnTo>
                    <a:pt x="394" y="22"/>
                  </a:lnTo>
                  <a:lnTo>
                    <a:pt x="418" y="34"/>
                  </a:lnTo>
                  <a:lnTo>
                    <a:pt x="440" y="51"/>
                  </a:lnTo>
                  <a:lnTo>
                    <a:pt x="460" y="70"/>
                  </a:lnTo>
                  <a:lnTo>
                    <a:pt x="478" y="92"/>
                  </a:lnTo>
                  <a:lnTo>
                    <a:pt x="493" y="118"/>
                  </a:lnTo>
                  <a:lnTo>
                    <a:pt x="514" y="183"/>
                  </a:lnTo>
                  <a:lnTo>
                    <a:pt x="529" y="251"/>
                  </a:lnTo>
                  <a:lnTo>
                    <a:pt x="539" y="323"/>
                  </a:lnTo>
                  <a:lnTo>
                    <a:pt x="546" y="396"/>
                  </a:lnTo>
                  <a:lnTo>
                    <a:pt x="551" y="470"/>
                  </a:lnTo>
                  <a:lnTo>
                    <a:pt x="557" y="542"/>
                  </a:lnTo>
                  <a:lnTo>
                    <a:pt x="565" y="613"/>
                  </a:lnTo>
                  <a:lnTo>
                    <a:pt x="576" y="680"/>
                  </a:lnTo>
                  <a:lnTo>
                    <a:pt x="586" y="722"/>
                  </a:lnTo>
                  <a:lnTo>
                    <a:pt x="598" y="773"/>
                  </a:lnTo>
                  <a:lnTo>
                    <a:pt x="615" y="829"/>
                  </a:lnTo>
                  <a:lnTo>
                    <a:pt x="630" y="888"/>
                  </a:lnTo>
                  <a:lnTo>
                    <a:pt x="643" y="947"/>
                  </a:lnTo>
                  <a:lnTo>
                    <a:pt x="651" y="1004"/>
                  </a:lnTo>
                  <a:lnTo>
                    <a:pt x="652" y="1055"/>
                  </a:lnTo>
                  <a:lnTo>
                    <a:pt x="644" y="1097"/>
                  </a:lnTo>
                  <a:lnTo>
                    <a:pt x="640" y="1108"/>
                  </a:lnTo>
                  <a:lnTo>
                    <a:pt x="632" y="1118"/>
                  </a:lnTo>
                  <a:lnTo>
                    <a:pt x="622" y="1128"/>
                  </a:lnTo>
                  <a:lnTo>
                    <a:pt x="611" y="1136"/>
                  </a:lnTo>
                  <a:lnTo>
                    <a:pt x="598" y="1144"/>
                  </a:lnTo>
                  <a:lnTo>
                    <a:pt x="586" y="1149"/>
                  </a:lnTo>
                  <a:lnTo>
                    <a:pt x="572" y="1154"/>
                  </a:lnTo>
                  <a:lnTo>
                    <a:pt x="560" y="1157"/>
                  </a:lnTo>
                  <a:lnTo>
                    <a:pt x="536" y="1165"/>
                  </a:lnTo>
                  <a:lnTo>
                    <a:pt x="509" y="1170"/>
                  </a:lnTo>
                  <a:lnTo>
                    <a:pt x="478" y="1175"/>
                  </a:lnTo>
                  <a:lnTo>
                    <a:pt x="446" y="1180"/>
                  </a:lnTo>
                  <a:lnTo>
                    <a:pt x="413" y="1184"/>
                  </a:lnTo>
                  <a:lnTo>
                    <a:pt x="377" y="1186"/>
                  </a:lnTo>
                  <a:lnTo>
                    <a:pt x="341" y="1187"/>
                  </a:lnTo>
                  <a:lnTo>
                    <a:pt x="304" y="1188"/>
                  </a:lnTo>
                  <a:lnTo>
                    <a:pt x="268" y="1187"/>
                  </a:lnTo>
                  <a:lnTo>
                    <a:pt x="231" y="1186"/>
                  </a:lnTo>
                  <a:lnTo>
                    <a:pt x="197" y="1184"/>
                  </a:lnTo>
                  <a:lnTo>
                    <a:pt x="162" y="1179"/>
                  </a:lnTo>
                  <a:lnTo>
                    <a:pt x="132" y="1174"/>
                  </a:lnTo>
                  <a:lnTo>
                    <a:pt x="102" y="1167"/>
                  </a:lnTo>
                  <a:lnTo>
                    <a:pt x="77" y="1160"/>
                  </a:lnTo>
                  <a:lnTo>
                    <a:pt x="54" y="1150"/>
                  </a:lnTo>
                  <a:lnTo>
                    <a:pt x="27" y="1129"/>
                  </a:lnTo>
                  <a:lnTo>
                    <a:pt x="10" y="1096"/>
                  </a:lnTo>
                  <a:lnTo>
                    <a:pt x="3" y="1055"/>
                  </a:lnTo>
                  <a:lnTo>
                    <a:pt x="0" y="1009"/>
                  </a:lnTo>
                  <a:lnTo>
                    <a:pt x="3" y="962"/>
                  </a:lnTo>
                  <a:lnTo>
                    <a:pt x="7" y="917"/>
                  </a:lnTo>
                  <a:lnTo>
                    <a:pt x="16" y="878"/>
                  </a:lnTo>
                  <a:lnTo>
                    <a:pt x="24" y="847"/>
                  </a:lnTo>
                  <a:lnTo>
                    <a:pt x="45" y="764"/>
                  </a:lnTo>
                  <a:lnTo>
                    <a:pt x="59" y="671"/>
                  </a:lnTo>
                  <a:lnTo>
                    <a:pt x="69" y="569"/>
                  </a:lnTo>
                  <a:lnTo>
                    <a:pt x="76" y="463"/>
                  </a:lnTo>
                  <a:lnTo>
                    <a:pt x="81" y="354"/>
                  </a:lnTo>
                  <a:lnTo>
                    <a:pt x="87" y="245"/>
                  </a:lnTo>
                  <a:lnTo>
                    <a:pt x="95" y="142"/>
                  </a:lnTo>
                  <a:lnTo>
                    <a:pt x="106" y="43"/>
                  </a:lnTo>
                  <a:close/>
                </a:path>
              </a:pathLst>
            </a:custGeom>
            <a:solidFill>
              <a:srgbClr val="ffff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478960" y="2283840"/>
              <a:ext cx="70200" cy="182160"/>
            </a:xfrm>
            <a:custGeom>
              <a:avLst/>
              <a:gdLst/>
              <a:ahLst/>
              <a:rect l="l" t="t" r="r" b="b"/>
              <a:pathLst>
                <a:path w="144" h="397">
                  <a:moveTo>
                    <a:pt x="0" y="120"/>
                  </a:moveTo>
                  <a:lnTo>
                    <a:pt x="20" y="133"/>
                  </a:lnTo>
                  <a:lnTo>
                    <a:pt x="35" y="165"/>
                  </a:lnTo>
                  <a:lnTo>
                    <a:pt x="48" y="208"/>
                  </a:lnTo>
                  <a:lnTo>
                    <a:pt x="59" y="258"/>
                  </a:lnTo>
                  <a:lnTo>
                    <a:pt x="68" y="310"/>
                  </a:lnTo>
                  <a:lnTo>
                    <a:pt x="80" y="353"/>
                  </a:lnTo>
                  <a:lnTo>
                    <a:pt x="94" y="384"/>
                  </a:lnTo>
                  <a:lnTo>
                    <a:pt x="113" y="397"/>
                  </a:lnTo>
                  <a:lnTo>
                    <a:pt x="130" y="352"/>
                  </a:lnTo>
                  <a:lnTo>
                    <a:pt x="140" y="302"/>
                  </a:lnTo>
                  <a:lnTo>
                    <a:pt x="143" y="252"/>
                  </a:lnTo>
                  <a:lnTo>
                    <a:pt x="144" y="200"/>
                  </a:lnTo>
                  <a:lnTo>
                    <a:pt x="141" y="147"/>
                  </a:lnTo>
                  <a:lnTo>
                    <a:pt x="138" y="97"/>
                  </a:lnTo>
                  <a:lnTo>
                    <a:pt x="134" y="47"/>
                  </a:lnTo>
                  <a:lnTo>
                    <a:pt x="133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476800" y="2334600"/>
              <a:ext cx="62280" cy="138240"/>
            </a:xfrm>
            <a:custGeom>
              <a:avLst/>
              <a:gdLst/>
              <a:ahLst/>
              <a:rect l="l" t="t" r="r" b="b"/>
              <a:pathLst>
                <a:path w="125" h="299">
                  <a:moveTo>
                    <a:pt x="105" y="284"/>
                  </a:moveTo>
                  <a:lnTo>
                    <a:pt x="116" y="278"/>
                  </a:lnTo>
                  <a:lnTo>
                    <a:pt x="104" y="268"/>
                  </a:lnTo>
                  <a:lnTo>
                    <a:pt x="91" y="240"/>
                  </a:lnTo>
                  <a:lnTo>
                    <a:pt x="81" y="198"/>
                  </a:lnTo>
                  <a:lnTo>
                    <a:pt x="71" y="148"/>
                  </a:lnTo>
                  <a:lnTo>
                    <a:pt x="61" y="97"/>
                  </a:lnTo>
                  <a:lnTo>
                    <a:pt x="47" y="53"/>
                  </a:lnTo>
                  <a:lnTo>
                    <a:pt x="30" y="18"/>
                  </a:lnTo>
                  <a:lnTo>
                    <a:pt x="3" y="0"/>
                  </a:lnTo>
                  <a:lnTo>
                    <a:pt x="0" y="21"/>
                  </a:lnTo>
                  <a:lnTo>
                    <a:pt x="13" y="31"/>
                  </a:lnTo>
                  <a:lnTo>
                    <a:pt x="28" y="60"/>
                  </a:lnTo>
                  <a:lnTo>
                    <a:pt x="40" y="103"/>
                  </a:lnTo>
                  <a:lnTo>
                    <a:pt x="50" y="151"/>
                  </a:lnTo>
                  <a:lnTo>
                    <a:pt x="60" y="203"/>
                  </a:lnTo>
                  <a:lnTo>
                    <a:pt x="72" y="247"/>
                  </a:lnTo>
                  <a:lnTo>
                    <a:pt x="88" y="280"/>
                  </a:lnTo>
                  <a:lnTo>
                    <a:pt x="113" y="299"/>
                  </a:lnTo>
                  <a:lnTo>
                    <a:pt x="124" y="294"/>
                  </a:lnTo>
                  <a:lnTo>
                    <a:pt x="113" y="299"/>
                  </a:lnTo>
                  <a:lnTo>
                    <a:pt x="122" y="297"/>
                  </a:lnTo>
                  <a:lnTo>
                    <a:pt x="125" y="290"/>
                  </a:lnTo>
                  <a:lnTo>
                    <a:pt x="123" y="282"/>
                  </a:lnTo>
                  <a:lnTo>
                    <a:pt x="116" y="278"/>
                  </a:lnTo>
                  <a:lnTo>
                    <a:pt x="105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529000" y="2279160"/>
              <a:ext cx="27720" cy="191520"/>
            </a:xfrm>
            <a:custGeom>
              <a:avLst/>
              <a:gdLst/>
              <a:ahLst/>
              <a:rect l="l" t="t" r="r" b="b"/>
              <a:pathLst>
                <a:path w="52" h="413">
                  <a:moveTo>
                    <a:pt x="37" y="19"/>
                  </a:moveTo>
                  <a:lnTo>
                    <a:pt x="19" y="10"/>
                  </a:lnTo>
                  <a:lnTo>
                    <a:pt x="20" y="57"/>
                  </a:lnTo>
                  <a:lnTo>
                    <a:pt x="24" y="107"/>
                  </a:lnTo>
                  <a:lnTo>
                    <a:pt x="27" y="157"/>
                  </a:lnTo>
                  <a:lnTo>
                    <a:pt x="31" y="210"/>
                  </a:lnTo>
                  <a:lnTo>
                    <a:pt x="30" y="262"/>
                  </a:lnTo>
                  <a:lnTo>
                    <a:pt x="26" y="311"/>
                  </a:lnTo>
                  <a:lnTo>
                    <a:pt x="17" y="359"/>
                  </a:lnTo>
                  <a:lnTo>
                    <a:pt x="0" y="403"/>
                  </a:lnTo>
                  <a:lnTo>
                    <a:pt x="19" y="413"/>
                  </a:lnTo>
                  <a:lnTo>
                    <a:pt x="38" y="364"/>
                  </a:lnTo>
                  <a:lnTo>
                    <a:pt x="48" y="313"/>
                  </a:lnTo>
                  <a:lnTo>
                    <a:pt x="51" y="262"/>
                  </a:lnTo>
                  <a:lnTo>
                    <a:pt x="52" y="210"/>
                  </a:lnTo>
                  <a:lnTo>
                    <a:pt x="49" y="157"/>
                  </a:lnTo>
                  <a:lnTo>
                    <a:pt x="45" y="107"/>
                  </a:lnTo>
                  <a:lnTo>
                    <a:pt x="41" y="57"/>
                  </a:lnTo>
                  <a:lnTo>
                    <a:pt x="40" y="10"/>
                  </a:lnTo>
                  <a:lnTo>
                    <a:pt x="23" y="2"/>
                  </a:lnTo>
                  <a:lnTo>
                    <a:pt x="40" y="10"/>
                  </a:lnTo>
                  <a:lnTo>
                    <a:pt x="37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9" y="10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471760" y="2279160"/>
              <a:ext cx="77760" cy="64080"/>
            </a:xfrm>
            <a:custGeom>
              <a:avLst/>
              <a:gdLst/>
              <a:ahLst/>
              <a:rect l="l" t="t" r="r" b="b"/>
              <a:pathLst>
                <a:path w="151" h="138">
                  <a:moveTo>
                    <a:pt x="12" y="117"/>
                  </a:moveTo>
                  <a:lnTo>
                    <a:pt x="18" y="135"/>
                  </a:lnTo>
                  <a:lnTo>
                    <a:pt x="151" y="17"/>
                  </a:lnTo>
                  <a:lnTo>
                    <a:pt x="137" y="0"/>
                  </a:lnTo>
                  <a:lnTo>
                    <a:pt x="3" y="119"/>
                  </a:lnTo>
                  <a:lnTo>
                    <a:pt x="9" y="138"/>
                  </a:lnTo>
                  <a:lnTo>
                    <a:pt x="3" y="119"/>
                  </a:lnTo>
                  <a:lnTo>
                    <a:pt x="0" y="128"/>
                  </a:lnTo>
                  <a:lnTo>
                    <a:pt x="2" y="134"/>
                  </a:lnTo>
                  <a:lnTo>
                    <a:pt x="9" y="138"/>
                  </a:lnTo>
                  <a:lnTo>
                    <a:pt x="18" y="135"/>
                  </a:lnTo>
                  <a:lnTo>
                    <a:pt x="1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368800" y="2228400"/>
              <a:ext cx="104760" cy="237600"/>
            </a:xfrm>
            <a:custGeom>
              <a:avLst/>
              <a:gdLst/>
              <a:ahLst/>
              <a:rect l="l" t="t" r="r" b="b"/>
              <a:pathLst>
                <a:path w="212" h="512">
                  <a:moveTo>
                    <a:pt x="212" y="238"/>
                  </a:moveTo>
                  <a:lnTo>
                    <a:pt x="187" y="262"/>
                  </a:lnTo>
                  <a:lnTo>
                    <a:pt x="168" y="302"/>
                  </a:lnTo>
                  <a:lnTo>
                    <a:pt x="155" y="351"/>
                  </a:lnTo>
                  <a:lnTo>
                    <a:pt x="145" y="400"/>
                  </a:lnTo>
                  <a:lnTo>
                    <a:pt x="133" y="448"/>
                  </a:lnTo>
                  <a:lnTo>
                    <a:pt x="117" y="486"/>
                  </a:lnTo>
                  <a:lnTo>
                    <a:pt x="97" y="510"/>
                  </a:lnTo>
                  <a:lnTo>
                    <a:pt x="70" y="512"/>
                  </a:lnTo>
                  <a:lnTo>
                    <a:pt x="50" y="459"/>
                  </a:lnTo>
                  <a:lnTo>
                    <a:pt x="33" y="398"/>
                  </a:lnTo>
                  <a:lnTo>
                    <a:pt x="20" y="332"/>
                  </a:lnTo>
                  <a:lnTo>
                    <a:pt x="12" y="262"/>
                  </a:lnTo>
                  <a:lnTo>
                    <a:pt x="5" y="191"/>
                  </a:lnTo>
                  <a:lnTo>
                    <a:pt x="2" y="12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3" y="36"/>
                  </a:lnTo>
                  <a:lnTo>
                    <a:pt x="35" y="52"/>
                  </a:lnTo>
                  <a:lnTo>
                    <a:pt x="46" y="69"/>
                  </a:lnTo>
                  <a:lnTo>
                    <a:pt x="59" y="84"/>
                  </a:lnTo>
                  <a:lnTo>
                    <a:pt x="71" y="99"/>
                  </a:lnTo>
                  <a:lnTo>
                    <a:pt x="82" y="114"/>
                  </a:lnTo>
                  <a:lnTo>
                    <a:pt x="94" y="129"/>
                  </a:lnTo>
                  <a:lnTo>
                    <a:pt x="106" y="143"/>
                  </a:lnTo>
                  <a:lnTo>
                    <a:pt x="118" y="157"/>
                  </a:lnTo>
                  <a:lnTo>
                    <a:pt x="133" y="171"/>
                  </a:lnTo>
                  <a:lnTo>
                    <a:pt x="147" y="184"/>
                  </a:lnTo>
                  <a:lnTo>
                    <a:pt x="162" y="198"/>
                  </a:lnTo>
                  <a:lnTo>
                    <a:pt x="177" y="211"/>
                  </a:lnTo>
                  <a:lnTo>
                    <a:pt x="194" y="224"/>
                  </a:lnTo>
                  <a:lnTo>
                    <a:pt x="21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399040" y="2334600"/>
              <a:ext cx="77760" cy="136080"/>
            </a:xfrm>
            <a:custGeom>
              <a:avLst/>
              <a:gdLst/>
              <a:ahLst/>
              <a:rect l="l" t="t" r="r" b="b"/>
              <a:pathLst>
                <a:path w="157" h="295">
                  <a:moveTo>
                    <a:pt x="1" y="289"/>
                  </a:moveTo>
                  <a:lnTo>
                    <a:pt x="8" y="295"/>
                  </a:lnTo>
                  <a:lnTo>
                    <a:pt x="43" y="292"/>
                  </a:lnTo>
                  <a:lnTo>
                    <a:pt x="68" y="263"/>
                  </a:lnTo>
                  <a:lnTo>
                    <a:pt x="85" y="222"/>
                  </a:lnTo>
                  <a:lnTo>
                    <a:pt x="96" y="174"/>
                  </a:lnTo>
                  <a:lnTo>
                    <a:pt x="107" y="125"/>
                  </a:lnTo>
                  <a:lnTo>
                    <a:pt x="118" y="77"/>
                  </a:lnTo>
                  <a:lnTo>
                    <a:pt x="136" y="40"/>
                  </a:lnTo>
                  <a:lnTo>
                    <a:pt x="157" y="19"/>
                  </a:lnTo>
                  <a:lnTo>
                    <a:pt x="148" y="0"/>
                  </a:lnTo>
                  <a:lnTo>
                    <a:pt x="119" y="29"/>
                  </a:lnTo>
                  <a:lnTo>
                    <a:pt x="99" y="71"/>
                  </a:lnTo>
                  <a:lnTo>
                    <a:pt x="86" y="121"/>
                  </a:lnTo>
                  <a:lnTo>
                    <a:pt x="75" y="170"/>
                  </a:lnTo>
                  <a:lnTo>
                    <a:pt x="63" y="217"/>
                  </a:lnTo>
                  <a:lnTo>
                    <a:pt x="49" y="254"/>
                  </a:lnTo>
                  <a:lnTo>
                    <a:pt x="34" y="273"/>
                  </a:lnTo>
                  <a:lnTo>
                    <a:pt x="13" y="274"/>
                  </a:lnTo>
                  <a:lnTo>
                    <a:pt x="20" y="279"/>
                  </a:lnTo>
                  <a:lnTo>
                    <a:pt x="13" y="274"/>
                  </a:lnTo>
                  <a:lnTo>
                    <a:pt x="4" y="276"/>
                  </a:lnTo>
                  <a:lnTo>
                    <a:pt x="0" y="282"/>
                  </a:lnTo>
                  <a:lnTo>
                    <a:pt x="1" y="291"/>
                  </a:lnTo>
                  <a:lnTo>
                    <a:pt x="8" y="295"/>
                  </a:lnTo>
                  <a:lnTo>
                    <a:pt x="1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363760" y="2223720"/>
              <a:ext cx="45360" cy="244800"/>
            </a:xfrm>
            <a:custGeom>
              <a:avLst/>
              <a:gdLst/>
              <a:ahLst/>
              <a:rect l="l" t="t" r="r" b="b"/>
              <a:pathLst>
                <a:path w="90" h="527">
                  <a:moveTo>
                    <a:pt x="19" y="5"/>
                  </a:moveTo>
                  <a:lnTo>
                    <a:pt x="0" y="10"/>
                  </a:lnTo>
                  <a:lnTo>
                    <a:pt x="0" y="68"/>
                  </a:lnTo>
                  <a:lnTo>
                    <a:pt x="3" y="133"/>
                  </a:lnTo>
                  <a:lnTo>
                    <a:pt x="6" y="201"/>
                  </a:lnTo>
                  <a:lnTo>
                    <a:pt x="12" y="272"/>
                  </a:lnTo>
                  <a:lnTo>
                    <a:pt x="20" y="343"/>
                  </a:lnTo>
                  <a:lnTo>
                    <a:pt x="33" y="410"/>
                  </a:lnTo>
                  <a:lnTo>
                    <a:pt x="50" y="472"/>
                  </a:lnTo>
                  <a:lnTo>
                    <a:pt x="71" y="527"/>
                  </a:lnTo>
                  <a:lnTo>
                    <a:pt x="90" y="517"/>
                  </a:lnTo>
                  <a:lnTo>
                    <a:pt x="71" y="466"/>
                  </a:lnTo>
                  <a:lnTo>
                    <a:pt x="54" y="405"/>
                  </a:lnTo>
                  <a:lnTo>
                    <a:pt x="42" y="341"/>
                  </a:lnTo>
                  <a:lnTo>
                    <a:pt x="33" y="272"/>
                  </a:lnTo>
                  <a:lnTo>
                    <a:pt x="27" y="201"/>
                  </a:lnTo>
                  <a:lnTo>
                    <a:pt x="24" y="133"/>
                  </a:lnTo>
                  <a:lnTo>
                    <a:pt x="22" y="68"/>
                  </a:lnTo>
                  <a:lnTo>
                    <a:pt x="22" y="10"/>
                  </a:lnTo>
                  <a:lnTo>
                    <a:pt x="3" y="16"/>
                  </a:lnTo>
                  <a:lnTo>
                    <a:pt x="22" y="10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363760" y="2225520"/>
              <a:ext cx="118080" cy="117720"/>
            </a:xfrm>
            <a:custGeom>
              <a:avLst/>
              <a:gdLst/>
              <a:ahLst/>
              <a:rect l="l" t="t" r="r" b="b"/>
              <a:pathLst>
                <a:path w="231" h="252">
                  <a:moveTo>
                    <a:pt x="224" y="252"/>
                  </a:moveTo>
                  <a:lnTo>
                    <a:pt x="226" y="234"/>
                  </a:lnTo>
                  <a:lnTo>
                    <a:pt x="209" y="222"/>
                  </a:lnTo>
                  <a:lnTo>
                    <a:pt x="193" y="208"/>
                  </a:lnTo>
                  <a:lnTo>
                    <a:pt x="176" y="194"/>
                  </a:lnTo>
                  <a:lnTo>
                    <a:pt x="162" y="180"/>
                  </a:lnTo>
                  <a:lnTo>
                    <a:pt x="148" y="169"/>
                  </a:lnTo>
                  <a:lnTo>
                    <a:pt x="134" y="155"/>
                  </a:lnTo>
                  <a:lnTo>
                    <a:pt x="122" y="141"/>
                  </a:lnTo>
                  <a:lnTo>
                    <a:pt x="110" y="127"/>
                  </a:lnTo>
                  <a:lnTo>
                    <a:pt x="99" y="114"/>
                  </a:lnTo>
                  <a:lnTo>
                    <a:pt x="87" y="98"/>
                  </a:lnTo>
                  <a:lnTo>
                    <a:pt x="75" y="83"/>
                  </a:lnTo>
                  <a:lnTo>
                    <a:pt x="63" y="67"/>
                  </a:lnTo>
                  <a:lnTo>
                    <a:pt x="51" y="52"/>
                  </a:lnTo>
                  <a:lnTo>
                    <a:pt x="40" y="35"/>
                  </a:lnTo>
                  <a:lnTo>
                    <a:pt x="28" y="17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1" y="28"/>
                  </a:lnTo>
                  <a:lnTo>
                    <a:pt x="23" y="46"/>
                  </a:lnTo>
                  <a:lnTo>
                    <a:pt x="34" y="63"/>
                  </a:lnTo>
                  <a:lnTo>
                    <a:pt x="47" y="79"/>
                  </a:lnTo>
                  <a:lnTo>
                    <a:pt x="59" y="95"/>
                  </a:lnTo>
                  <a:lnTo>
                    <a:pt x="70" y="111"/>
                  </a:lnTo>
                  <a:lnTo>
                    <a:pt x="82" y="126"/>
                  </a:lnTo>
                  <a:lnTo>
                    <a:pt x="94" y="141"/>
                  </a:lnTo>
                  <a:lnTo>
                    <a:pt x="105" y="155"/>
                  </a:lnTo>
                  <a:lnTo>
                    <a:pt x="120" y="169"/>
                  </a:lnTo>
                  <a:lnTo>
                    <a:pt x="134" y="184"/>
                  </a:lnTo>
                  <a:lnTo>
                    <a:pt x="148" y="197"/>
                  </a:lnTo>
                  <a:lnTo>
                    <a:pt x="162" y="210"/>
                  </a:lnTo>
                  <a:lnTo>
                    <a:pt x="179" y="225"/>
                  </a:lnTo>
                  <a:lnTo>
                    <a:pt x="196" y="237"/>
                  </a:lnTo>
                  <a:lnTo>
                    <a:pt x="214" y="250"/>
                  </a:lnTo>
                  <a:lnTo>
                    <a:pt x="215" y="233"/>
                  </a:lnTo>
                  <a:lnTo>
                    <a:pt x="214" y="250"/>
                  </a:lnTo>
                  <a:lnTo>
                    <a:pt x="222" y="252"/>
                  </a:lnTo>
                  <a:lnTo>
                    <a:pt x="228" y="247"/>
                  </a:lnTo>
                  <a:lnTo>
                    <a:pt x="231" y="242"/>
                  </a:lnTo>
                  <a:lnTo>
                    <a:pt x="226" y="234"/>
                  </a:lnTo>
                  <a:lnTo>
                    <a:pt x="224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454120" y="3373920"/>
              <a:ext cx="180000" cy="343800"/>
            </a:xfrm>
            <a:custGeom>
              <a:avLst/>
              <a:gdLst/>
              <a:ahLst/>
              <a:rect l="l" t="t" r="r" b="b"/>
              <a:pathLst>
                <a:path w="360" h="747">
                  <a:moveTo>
                    <a:pt x="94" y="721"/>
                  </a:moveTo>
                  <a:lnTo>
                    <a:pt x="105" y="727"/>
                  </a:lnTo>
                  <a:lnTo>
                    <a:pt x="115" y="732"/>
                  </a:lnTo>
                  <a:lnTo>
                    <a:pt x="128" y="736"/>
                  </a:lnTo>
                  <a:lnTo>
                    <a:pt x="140" y="742"/>
                  </a:lnTo>
                  <a:lnTo>
                    <a:pt x="153" y="744"/>
                  </a:lnTo>
                  <a:lnTo>
                    <a:pt x="166" y="746"/>
                  </a:lnTo>
                  <a:lnTo>
                    <a:pt x="180" y="747"/>
                  </a:lnTo>
                  <a:lnTo>
                    <a:pt x="193" y="747"/>
                  </a:lnTo>
                  <a:lnTo>
                    <a:pt x="207" y="747"/>
                  </a:lnTo>
                  <a:lnTo>
                    <a:pt x="220" y="746"/>
                  </a:lnTo>
                  <a:lnTo>
                    <a:pt x="231" y="744"/>
                  </a:lnTo>
                  <a:lnTo>
                    <a:pt x="244" y="741"/>
                  </a:lnTo>
                  <a:lnTo>
                    <a:pt x="256" y="736"/>
                  </a:lnTo>
                  <a:lnTo>
                    <a:pt x="266" y="732"/>
                  </a:lnTo>
                  <a:lnTo>
                    <a:pt x="276" y="726"/>
                  </a:lnTo>
                  <a:lnTo>
                    <a:pt x="284" y="721"/>
                  </a:lnTo>
                  <a:lnTo>
                    <a:pt x="360" y="0"/>
                  </a:lnTo>
                  <a:lnTo>
                    <a:pt x="0" y="52"/>
                  </a:lnTo>
                  <a:lnTo>
                    <a:pt x="94" y="721"/>
                  </a:lnTo>
                  <a:close/>
                </a:path>
              </a:pathLst>
            </a:custGeom>
            <a:solidFill>
              <a:srgbClr val="ffb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499120" y="3701880"/>
              <a:ext cx="102600" cy="23040"/>
            </a:xfrm>
            <a:custGeom>
              <a:avLst/>
              <a:gdLst/>
              <a:ahLst/>
              <a:rect l="l" t="t" r="r" b="b"/>
              <a:pathLst>
                <a:path w="207" h="49">
                  <a:moveTo>
                    <a:pt x="186" y="11"/>
                  </a:moveTo>
                  <a:lnTo>
                    <a:pt x="189" y="2"/>
                  </a:lnTo>
                  <a:lnTo>
                    <a:pt x="181" y="6"/>
                  </a:lnTo>
                  <a:lnTo>
                    <a:pt x="173" y="13"/>
                  </a:lnTo>
                  <a:lnTo>
                    <a:pt x="163" y="17"/>
                  </a:lnTo>
                  <a:lnTo>
                    <a:pt x="153" y="20"/>
                  </a:lnTo>
                  <a:lnTo>
                    <a:pt x="141" y="23"/>
                  </a:lnTo>
                  <a:lnTo>
                    <a:pt x="131" y="25"/>
                  </a:lnTo>
                  <a:lnTo>
                    <a:pt x="119" y="26"/>
                  </a:lnTo>
                  <a:lnTo>
                    <a:pt x="105" y="26"/>
                  </a:lnTo>
                  <a:lnTo>
                    <a:pt x="92" y="26"/>
                  </a:lnTo>
                  <a:lnTo>
                    <a:pt x="79" y="25"/>
                  </a:lnTo>
                  <a:lnTo>
                    <a:pt x="66" y="23"/>
                  </a:lnTo>
                  <a:lnTo>
                    <a:pt x="55" y="21"/>
                  </a:lnTo>
                  <a:lnTo>
                    <a:pt x="44" y="17"/>
                  </a:lnTo>
                  <a:lnTo>
                    <a:pt x="30" y="13"/>
                  </a:lnTo>
                  <a:lnTo>
                    <a:pt x="21" y="7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11" y="26"/>
                  </a:lnTo>
                  <a:lnTo>
                    <a:pt x="24" y="32"/>
                  </a:lnTo>
                  <a:lnTo>
                    <a:pt x="37" y="36"/>
                  </a:lnTo>
                  <a:lnTo>
                    <a:pt x="49" y="42"/>
                  </a:lnTo>
                  <a:lnTo>
                    <a:pt x="64" y="44"/>
                  </a:lnTo>
                  <a:lnTo>
                    <a:pt x="77" y="47"/>
                  </a:lnTo>
                  <a:lnTo>
                    <a:pt x="92" y="49"/>
                  </a:lnTo>
                  <a:lnTo>
                    <a:pt x="105" y="49"/>
                  </a:lnTo>
                  <a:lnTo>
                    <a:pt x="119" y="49"/>
                  </a:lnTo>
                  <a:lnTo>
                    <a:pt x="133" y="47"/>
                  </a:lnTo>
                  <a:lnTo>
                    <a:pt x="147" y="44"/>
                  </a:lnTo>
                  <a:lnTo>
                    <a:pt x="158" y="41"/>
                  </a:lnTo>
                  <a:lnTo>
                    <a:pt x="171" y="36"/>
                  </a:lnTo>
                  <a:lnTo>
                    <a:pt x="182" y="32"/>
                  </a:lnTo>
                  <a:lnTo>
                    <a:pt x="193" y="25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4" y="3"/>
                  </a:lnTo>
                  <a:lnTo>
                    <a:pt x="197" y="0"/>
                  </a:lnTo>
                  <a:lnTo>
                    <a:pt x="189" y="2"/>
                  </a:lnTo>
                  <a:lnTo>
                    <a:pt x="18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592000" y="3369240"/>
              <a:ext cx="49680" cy="337320"/>
            </a:xfrm>
            <a:custGeom>
              <a:avLst/>
              <a:gdLst/>
              <a:ahLst/>
              <a:rect l="l" t="t" r="r" b="b"/>
              <a:pathLst>
                <a:path w="97" h="731">
                  <a:moveTo>
                    <a:pt x="87" y="21"/>
                  </a:moveTo>
                  <a:lnTo>
                    <a:pt x="76" y="10"/>
                  </a:lnTo>
                  <a:lnTo>
                    <a:pt x="0" y="731"/>
                  </a:lnTo>
                  <a:lnTo>
                    <a:pt x="21" y="731"/>
                  </a:lnTo>
                  <a:lnTo>
                    <a:pt x="97" y="10"/>
                  </a:lnTo>
                  <a:lnTo>
                    <a:pt x="85" y="0"/>
                  </a:lnTo>
                  <a:lnTo>
                    <a:pt x="97" y="10"/>
                  </a:lnTo>
                  <a:lnTo>
                    <a:pt x="94" y="2"/>
                  </a:lnTo>
                  <a:lnTo>
                    <a:pt x="86" y="0"/>
                  </a:lnTo>
                  <a:lnTo>
                    <a:pt x="79" y="2"/>
                  </a:lnTo>
                  <a:lnTo>
                    <a:pt x="76" y="10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449080" y="3369240"/>
              <a:ext cx="187920" cy="34560"/>
            </a:xfrm>
            <a:custGeom>
              <a:avLst/>
              <a:gdLst/>
              <a:ahLst/>
              <a:rect l="l" t="t" r="r" b="b"/>
              <a:pathLst>
                <a:path w="371" h="74">
                  <a:moveTo>
                    <a:pt x="21" y="61"/>
                  </a:moveTo>
                  <a:lnTo>
                    <a:pt x="11" y="74"/>
                  </a:lnTo>
                  <a:lnTo>
                    <a:pt x="371" y="21"/>
                  </a:lnTo>
                  <a:lnTo>
                    <a:pt x="369" y="0"/>
                  </a:lnTo>
                  <a:lnTo>
                    <a:pt x="9" y="52"/>
                  </a:lnTo>
                  <a:lnTo>
                    <a:pt x="0" y="64"/>
                  </a:lnTo>
                  <a:lnTo>
                    <a:pt x="9" y="52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3" y="71"/>
                  </a:lnTo>
                  <a:lnTo>
                    <a:pt x="11" y="74"/>
                  </a:lnTo>
                  <a:lnTo>
                    <a:pt x="2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449080" y="3396960"/>
              <a:ext cx="57600" cy="314280"/>
            </a:xfrm>
            <a:custGeom>
              <a:avLst/>
              <a:gdLst/>
              <a:ahLst/>
              <a:rect l="l" t="t" r="r" b="b"/>
              <a:pathLst>
                <a:path w="115" h="680">
                  <a:moveTo>
                    <a:pt x="109" y="661"/>
                  </a:moveTo>
                  <a:lnTo>
                    <a:pt x="115" y="669"/>
                  </a:lnTo>
                  <a:lnTo>
                    <a:pt x="21" y="0"/>
                  </a:lnTo>
                  <a:lnTo>
                    <a:pt x="0" y="3"/>
                  </a:lnTo>
                  <a:lnTo>
                    <a:pt x="94" y="671"/>
                  </a:lnTo>
                  <a:lnTo>
                    <a:pt x="98" y="678"/>
                  </a:lnTo>
                  <a:lnTo>
                    <a:pt x="94" y="671"/>
                  </a:lnTo>
                  <a:lnTo>
                    <a:pt x="97" y="678"/>
                  </a:lnTo>
                  <a:lnTo>
                    <a:pt x="105" y="680"/>
                  </a:lnTo>
                  <a:lnTo>
                    <a:pt x="113" y="676"/>
                  </a:lnTo>
                  <a:lnTo>
                    <a:pt x="115" y="669"/>
                  </a:lnTo>
                  <a:lnTo>
                    <a:pt x="109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318760" y="3392280"/>
              <a:ext cx="190080" cy="379080"/>
            </a:xfrm>
            <a:custGeom>
              <a:avLst/>
              <a:gdLst/>
              <a:ahLst/>
              <a:rect l="l" t="t" r="r" b="b"/>
              <a:pathLst>
                <a:path w="379" h="819">
                  <a:moveTo>
                    <a:pt x="0" y="11"/>
                  </a:moveTo>
                  <a:lnTo>
                    <a:pt x="157" y="783"/>
                  </a:lnTo>
                  <a:lnTo>
                    <a:pt x="168" y="790"/>
                  </a:lnTo>
                  <a:lnTo>
                    <a:pt x="178" y="796"/>
                  </a:lnTo>
                  <a:lnTo>
                    <a:pt x="192" y="802"/>
                  </a:lnTo>
                  <a:lnTo>
                    <a:pt x="204" y="806"/>
                  </a:lnTo>
                  <a:lnTo>
                    <a:pt x="218" y="812"/>
                  </a:lnTo>
                  <a:lnTo>
                    <a:pt x="233" y="814"/>
                  </a:lnTo>
                  <a:lnTo>
                    <a:pt x="248" y="816"/>
                  </a:lnTo>
                  <a:lnTo>
                    <a:pt x="264" y="817"/>
                  </a:lnTo>
                  <a:lnTo>
                    <a:pt x="278" y="819"/>
                  </a:lnTo>
                  <a:lnTo>
                    <a:pt x="294" y="819"/>
                  </a:lnTo>
                  <a:lnTo>
                    <a:pt x="309" y="816"/>
                  </a:lnTo>
                  <a:lnTo>
                    <a:pt x="325" y="814"/>
                  </a:lnTo>
                  <a:lnTo>
                    <a:pt x="339" y="811"/>
                  </a:lnTo>
                  <a:lnTo>
                    <a:pt x="353" y="805"/>
                  </a:lnTo>
                  <a:lnTo>
                    <a:pt x="366" y="800"/>
                  </a:lnTo>
                  <a:lnTo>
                    <a:pt x="379" y="793"/>
                  </a:lnTo>
                  <a:lnTo>
                    <a:pt x="36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313720" y="3396960"/>
              <a:ext cx="87480" cy="362880"/>
            </a:xfrm>
            <a:custGeom>
              <a:avLst/>
              <a:gdLst/>
              <a:ahLst/>
              <a:rect l="l" t="t" r="r" b="b"/>
              <a:pathLst>
                <a:path w="179" h="784">
                  <a:moveTo>
                    <a:pt x="174" y="765"/>
                  </a:moveTo>
                  <a:lnTo>
                    <a:pt x="179" y="772"/>
                  </a:lnTo>
                  <a:lnTo>
                    <a:pt x="21" y="0"/>
                  </a:lnTo>
                  <a:lnTo>
                    <a:pt x="0" y="3"/>
                  </a:lnTo>
                  <a:lnTo>
                    <a:pt x="157" y="774"/>
                  </a:lnTo>
                  <a:lnTo>
                    <a:pt x="163" y="782"/>
                  </a:lnTo>
                  <a:lnTo>
                    <a:pt x="157" y="774"/>
                  </a:lnTo>
                  <a:lnTo>
                    <a:pt x="162" y="782"/>
                  </a:lnTo>
                  <a:lnTo>
                    <a:pt x="169" y="784"/>
                  </a:lnTo>
                  <a:lnTo>
                    <a:pt x="176" y="780"/>
                  </a:lnTo>
                  <a:lnTo>
                    <a:pt x="179" y="772"/>
                  </a:lnTo>
                  <a:lnTo>
                    <a:pt x="174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394000" y="3750480"/>
              <a:ext cx="120240" cy="24840"/>
            </a:xfrm>
            <a:custGeom>
              <a:avLst/>
              <a:gdLst/>
              <a:ahLst/>
              <a:rect l="l" t="t" r="r" b="b"/>
              <a:pathLst>
                <a:path w="237" h="55">
                  <a:moveTo>
                    <a:pt x="216" y="18"/>
                  </a:moveTo>
                  <a:lnTo>
                    <a:pt x="220" y="9"/>
                  </a:lnTo>
                  <a:lnTo>
                    <a:pt x="209" y="15"/>
                  </a:lnTo>
                  <a:lnTo>
                    <a:pt x="197" y="21"/>
                  </a:lnTo>
                  <a:lnTo>
                    <a:pt x="184" y="25"/>
                  </a:lnTo>
                  <a:lnTo>
                    <a:pt x="172" y="28"/>
                  </a:lnTo>
                  <a:lnTo>
                    <a:pt x="156" y="30"/>
                  </a:lnTo>
                  <a:lnTo>
                    <a:pt x="142" y="33"/>
                  </a:lnTo>
                  <a:lnTo>
                    <a:pt x="126" y="33"/>
                  </a:lnTo>
                  <a:lnTo>
                    <a:pt x="112" y="31"/>
                  </a:lnTo>
                  <a:lnTo>
                    <a:pt x="97" y="30"/>
                  </a:lnTo>
                  <a:lnTo>
                    <a:pt x="82" y="28"/>
                  </a:lnTo>
                  <a:lnTo>
                    <a:pt x="69" y="26"/>
                  </a:lnTo>
                  <a:lnTo>
                    <a:pt x="55" y="21"/>
                  </a:lnTo>
                  <a:lnTo>
                    <a:pt x="43" y="18"/>
                  </a:lnTo>
                  <a:lnTo>
                    <a:pt x="31" y="11"/>
                  </a:lnTo>
                  <a:lnTo>
                    <a:pt x="22" y="6"/>
                  </a:lnTo>
                  <a:lnTo>
                    <a:pt x="11" y="0"/>
                  </a:lnTo>
                  <a:lnTo>
                    <a:pt x="0" y="17"/>
                  </a:lnTo>
                  <a:lnTo>
                    <a:pt x="10" y="25"/>
                  </a:lnTo>
                  <a:lnTo>
                    <a:pt x="22" y="30"/>
                  </a:lnTo>
                  <a:lnTo>
                    <a:pt x="36" y="37"/>
                  </a:lnTo>
                  <a:lnTo>
                    <a:pt x="50" y="42"/>
                  </a:lnTo>
                  <a:lnTo>
                    <a:pt x="64" y="47"/>
                  </a:lnTo>
                  <a:lnTo>
                    <a:pt x="80" y="49"/>
                  </a:lnTo>
                  <a:lnTo>
                    <a:pt x="95" y="51"/>
                  </a:lnTo>
                  <a:lnTo>
                    <a:pt x="112" y="52"/>
                  </a:lnTo>
                  <a:lnTo>
                    <a:pt x="126" y="55"/>
                  </a:lnTo>
                  <a:lnTo>
                    <a:pt x="142" y="55"/>
                  </a:lnTo>
                  <a:lnTo>
                    <a:pt x="158" y="51"/>
                  </a:lnTo>
                  <a:lnTo>
                    <a:pt x="174" y="49"/>
                  </a:lnTo>
                  <a:lnTo>
                    <a:pt x="189" y="46"/>
                  </a:lnTo>
                  <a:lnTo>
                    <a:pt x="205" y="40"/>
                  </a:lnTo>
                  <a:lnTo>
                    <a:pt x="218" y="34"/>
                  </a:lnTo>
                  <a:lnTo>
                    <a:pt x="233" y="26"/>
                  </a:lnTo>
                  <a:lnTo>
                    <a:pt x="237" y="18"/>
                  </a:lnTo>
                  <a:lnTo>
                    <a:pt x="233" y="26"/>
                  </a:lnTo>
                  <a:lnTo>
                    <a:pt x="237" y="19"/>
                  </a:lnTo>
                  <a:lnTo>
                    <a:pt x="235" y="11"/>
                  </a:lnTo>
                  <a:lnTo>
                    <a:pt x="229" y="8"/>
                  </a:lnTo>
                  <a:lnTo>
                    <a:pt x="220" y="9"/>
                  </a:lnTo>
                  <a:lnTo>
                    <a:pt x="2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494440" y="3387960"/>
              <a:ext cx="19800" cy="371880"/>
            </a:xfrm>
            <a:custGeom>
              <a:avLst/>
              <a:gdLst/>
              <a:ahLst/>
              <a:rect l="l" t="t" r="r" b="b"/>
              <a:pathLst>
                <a:path w="38" h="804">
                  <a:moveTo>
                    <a:pt x="11" y="21"/>
                  </a:moveTo>
                  <a:lnTo>
                    <a:pt x="0" y="11"/>
                  </a:lnTo>
                  <a:lnTo>
                    <a:pt x="17" y="804"/>
                  </a:lnTo>
                  <a:lnTo>
                    <a:pt x="38" y="804"/>
                  </a:lnTo>
                  <a:lnTo>
                    <a:pt x="21" y="11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313720" y="3387960"/>
              <a:ext cx="185040" cy="15480"/>
            </a:xfrm>
            <a:custGeom>
              <a:avLst/>
              <a:gdLst/>
              <a:ahLst/>
              <a:rect l="l" t="t" r="r" b="b"/>
              <a:pathLst>
                <a:path w="373" h="34">
                  <a:moveTo>
                    <a:pt x="21" y="21"/>
                  </a:moveTo>
                  <a:lnTo>
                    <a:pt x="11" y="34"/>
                  </a:lnTo>
                  <a:lnTo>
                    <a:pt x="373" y="21"/>
                  </a:lnTo>
                  <a:lnTo>
                    <a:pt x="373" y="0"/>
                  </a:lnTo>
                  <a:lnTo>
                    <a:pt x="11" y="12"/>
                  </a:lnTo>
                  <a:lnTo>
                    <a:pt x="0" y="24"/>
                  </a:lnTo>
                  <a:lnTo>
                    <a:pt x="11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11" y="34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246040" y="2738520"/>
              <a:ext cx="513360" cy="681480"/>
            </a:xfrm>
            <a:custGeom>
              <a:avLst/>
              <a:gdLst/>
              <a:ahLst/>
              <a:rect l="l" t="t" r="r" b="b"/>
              <a:pathLst>
                <a:path w="1022" h="1476">
                  <a:moveTo>
                    <a:pt x="154" y="0"/>
                  </a:moveTo>
                  <a:lnTo>
                    <a:pt x="185" y="12"/>
                  </a:lnTo>
                  <a:lnTo>
                    <a:pt x="218" y="24"/>
                  </a:lnTo>
                  <a:lnTo>
                    <a:pt x="252" y="33"/>
                  </a:lnTo>
                  <a:lnTo>
                    <a:pt x="289" y="41"/>
                  </a:lnTo>
                  <a:lnTo>
                    <a:pt x="327" y="46"/>
                  </a:lnTo>
                  <a:lnTo>
                    <a:pt x="367" y="50"/>
                  </a:lnTo>
                  <a:lnTo>
                    <a:pt x="407" y="51"/>
                  </a:lnTo>
                  <a:lnTo>
                    <a:pt x="448" y="52"/>
                  </a:lnTo>
                  <a:lnTo>
                    <a:pt x="488" y="50"/>
                  </a:lnTo>
                  <a:lnTo>
                    <a:pt x="529" y="47"/>
                  </a:lnTo>
                  <a:lnTo>
                    <a:pt x="569" y="43"/>
                  </a:lnTo>
                  <a:lnTo>
                    <a:pt x="608" y="37"/>
                  </a:lnTo>
                  <a:lnTo>
                    <a:pt x="646" y="30"/>
                  </a:lnTo>
                  <a:lnTo>
                    <a:pt x="683" y="21"/>
                  </a:lnTo>
                  <a:lnTo>
                    <a:pt x="717" y="11"/>
                  </a:lnTo>
                  <a:lnTo>
                    <a:pt x="751" y="0"/>
                  </a:lnTo>
                  <a:lnTo>
                    <a:pt x="754" y="14"/>
                  </a:lnTo>
                  <a:lnTo>
                    <a:pt x="763" y="60"/>
                  </a:lnTo>
                  <a:lnTo>
                    <a:pt x="775" y="128"/>
                  </a:lnTo>
                  <a:lnTo>
                    <a:pt x="793" y="218"/>
                  </a:lnTo>
                  <a:lnTo>
                    <a:pt x="814" y="325"/>
                  </a:lnTo>
                  <a:lnTo>
                    <a:pt x="836" y="443"/>
                  </a:lnTo>
                  <a:lnTo>
                    <a:pt x="862" y="570"/>
                  </a:lnTo>
                  <a:lnTo>
                    <a:pt x="887" y="700"/>
                  </a:lnTo>
                  <a:lnTo>
                    <a:pt x="911" y="831"/>
                  </a:lnTo>
                  <a:lnTo>
                    <a:pt x="937" y="958"/>
                  </a:lnTo>
                  <a:lnTo>
                    <a:pt x="959" y="1077"/>
                  </a:lnTo>
                  <a:lnTo>
                    <a:pt x="980" y="1182"/>
                  </a:lnTo>
                  <a:lnTo>
                    <a:pt x="998" y="1272"/>
                  </a:lnTo>
                  <a:lnTo>
                    <a:pt x="1011" y="1342"/>
                  </a:lnTo>
                  <a:lnTo>
                    <a:pt x="1019" y="1386"/>
                  </a:lnTo>
                  <a:lnTo>
                    <a:pt x="1022" y="1402"/>
                  </a:lnTo>
                  <a:lnTo>
                    <a:pt x="997" y="1409"/>
                  </a:lnTo>
                  <a:lnTo>
                    <a:pt x="968" y="1416"/>
                  </a:lnTo>
                  <a:lnTo>
                    <a:pt x="940" y="1423"/>
                  </a:lnTo>
                  <a:lnTo>
                    <a:pt x="910" y="1429"/>
                  </a:lnTo>
                  <a:lnTo>
                    <a:pt x="880" y="1436"/>
                  </a:lnTo>
                  <a:lnTo>
                    <a:pt x="848" y="1442"/>
                  </a:lnTo>
                  <a:lnTo>
                    <a:pt x="815" y="1447"/>
                  </a:lnTo>
                  <a:lnTo>
                    <a:pt x="783" y="1453"/>
                  </a:lnTo>
                  <a:lnTo>
                    <a:pt x="748" y="1457"/>
                  </a:lnTo>
                  <a:lnTo>
                    <a:pt x="714" y="1462"/>
                  </a:lnTo>
                  <a:lnTo>
                    <a:pt x="680" y="1465"/>
                  </a:lnTo>
                  <a:lnTo>
                    <a:pt x="644" y="1469"/>
                  </a:lnTo>
                  <a:lnTo>
                    <a:pt x="609" y="1472"/>
                  </a:lnTo>
                  <a:lnTo>
                    <a:pt x="572" y="1474"/>
                  </a:lnTo>
                  <a:lnTo>
                    <a:pt x="538" y="1475"/>
                  </a:lnTo>
                  <a:lnTo>
                    <a:pt x="501" y="1476"/>
                  </a:lnTo>
                  <a:lnTo>
                    <a:pt x="466" y="1476"/>
                  </a:lnTo>
                  <a:lnTo>
                    <a:pt x="430" y="1476"/>
                  </a:lnTo>
                  <a:lnTo>
                    <a:pt x="395" y="1475"/>
                  </a:lnTo>
                  <a:lnTo>
                    <a:pt x="359" y="1473"/>
                  </a:lnTo>
                  <a:lnTo>
                    <a:pt x="325" y="1470"/>
                  </a:lnTo>
                  <a:lnTo>
                    <a:pt x="292" y="1466"/>
                  </a:lnTo>
                  <a:lnTo>
                    <a:pt x="258" y="1462"/>
                  </a:lnTo>
                  <a:lnTo>
                    <a:pt x="225" y="1456"/>
                  </a:lnTo>
                  <a:lnTo>
                    <a:pt x="193" y="1450"/>
                  </a:lnTo>
                  <a:lnTo>
                    <a:pt x="163" y="1443"/>
                  </a:lnTo>
                  <a:lnTo>
                    <a:pt x="132" y="1435"/>
                  </a:lnTo>
                  <a:lnTo>
                    <a:pt x="104" y="1425"/>
                  </a:lnTo>
                  <a:lnTo>
                    <a:pt x="75" y="1415"/>
                  </a:lnTo>
                  <a:lnTo>
                    <a:pt x="49" y="1403"/>
                  </a:lnTo>
                  <a:lnTo>
                    <a:pt x="23" y="1390"/>
                  </a:lnTo>
                  <a:lnTo>
                    <a:pt x="0" y="137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12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321280" y="2734200"/>
              <a:ext cx="308160" cy="34560"/>
            </a:xfrm>
            <a:custGeom>
              <a:avLst/>
              <a:gdLst/>
              <a:ahLst/>
              <a:rect l="l" t="t" r="r" b="b"/>
              <a:pathLst>
                <a:path w="611" h="73">
                  <a:moveTo>
                    <a:pt x="611" y="7"/>
                  </a:moveTo>
                  <a:lnTo>
                    <a:pt x="597" y="0"/>
                  </a:lnTo>
                  <a:lnTo>
                    <a:pt x="565" y="11"/>
                  </a:lnTo>
                  <a:lnTo>
                    <a:pt x="531" y="20"/>
                  </a:lnTo>
                  <a:lnTo>
                    <a:pt x="494" y="30"/>
                  </a:lnTo>
                  <a:lnTo>
                    <a:pt x="456" y="36"/>
                  </a:lnTo>
                  <a:lnTo>
                    <a:pt x="418" y="42"/>
                  </a:lnTo>
                  <a:lnTo>
                    <a:pt x="379" y="47"/>
                  </a:lnTo>
                  <a:lnTo>
                    <a:pt x="338" y="50"/>
                  </a:lnTo>
                  <a:lnTo>
                    <a:pt x="298" y="52"/>
                  </a:lnTo>
                  <a:lnTo>
                    <a:pt x="257" y="51"/>
                  </a:lnTo>
                  <a:lnTo>
                    <a:pt x="217" y="50"/>
                  </a:lnTo>
                  <a:lnTo>
                    <a:pt x="179" y="45"/>
                  </a:lnTo>
                  <a:lnTo>
                    <a:pt x="142" y="40"/>
                  </a:lnTo>
                  <a:lnTo>
                    <a:pt x="105" y="33"/>
                  </a:lnTo>
                  <a:lnTo>
                    <a:pt x="71" y="23"/>
                  </a:lnTo>
                  <a:lnTo>
                    <a:pt x="39" y="13"/>
                  </a:lnTo>
                  <a:lnTo>
                    <a:pt x="10" y="0"/>
                  </a:lnTo>
                  <a:lnTo>
                    <a:pt x="0" y="18"/>
                  </a:lnTo>
                  <a:lnTo>
                    <a:pt x="32" y="32"/>
                  </a:lnTo>
                  <a:lnTo>
                    <a:pt x="66" y="44"/>
                  </a:lnTo>
                  <a:lnTo>
                    <a:pt x="99" y="54"/>
                  </a:lnTo>
                  <a:lnTo>
                    <a:pt x="138" y="61"/>
                  </a:lnTo>
                  <a:lnTo>
                    <a:pt x="176" y="67"/>
                  </a:lnTo>
                  <a:lnTo>
                    <a:pt x="217" y="71"/>
                  </a:lnTo>
                  <a:lnTo>
                    <a:pt x="257" y="72"/>
                  </a:lnTo>
                  <a:lnTo>
                    <a:pt x="298" y="73"/>
                  </a:lnTo>
                  <a:lnTo>
                    <a:pt x="338" y="71"/>
                  </a:lnTo>
                  <a:lnTo>
                    <a:pt x="379" y="68"/>
                  </a:lnTo>
                  <a:lnTo>
                    <a:pt x="420" y="63"/>
                  </a:lnTo>
                  <a:lnTo>
                    <a:pt x="459" y="57"/>
                  </a:lnTo>
                  <a:lnTo>
                    <a:pt x="500" y="51"/>
                  </a:lnTo>
                  <a:lnTo>
                    <a:pt x="535" y="41"/>
                  </a:lnTo>
                  <a:lnTo>
                    <a:pt x="570" y="32"/>
                  </a:lnTo>
                  <a:lnTo>
                    <a:pt x="604" y="18"/>
                  </a:lnTo>
                  <a:lnTo>
                    <a:pt x="590" y="11"/>
                  </a:lnTo>
                  <a:lnTo>
                    <a:pt x="604" y="18"/>
                  </a:lnTo>
                  <a:lnTo>
                    <a:pt x="610" y="13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6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17200" y="2736360"/>
              <a:ext cx="147600" cy="653400"/>
            </a:xfrm>
            <a:custGeom>
              <a:avLst/>
              <a:gdLst/>
              <a:ahLst/>
              <a:rect l="l" t="t" r="r" b="b"/>
              <a:pathLst>
                <a:path w="293" h="1415">
                  <a:moveTo>
                    <a:pt x="284" y="1415"/>
                  </a:moveTo>
                  <a:lnTo>
                    <a:pt x="293" y="1404"/>
                  </a:lnTo>
                  <a:lnTo>
                    <a:pt x="290" y="1388"/>
                  </a:lnTo>
                  <a:lnTo>
                    <a:pt x="281" y="1344"/>
                  </a:lnTo>
                  <a:lnTo>
                    <a:pt x="269" y="1274"/>
                  </a:lnTo>
                  <a:lnTo>
                    <a:pt x="251" y="1184"/>
                  </a:lnTo>
                  <a:lnTo>
                    <a:pt x="230" y="1078"/>
                  </a:lnTo>
                  <a:lnTo>
                    <a:pt x="207" y="960"/>
                  </a:lnTo>
                  <a:lnTo>
                    <a:pt x="182" y="833"/>
                  </a:lnTo>
                  <a:lnTo>
                    <a:pt x="158" y="702"/>
                  </a:lnTo>
                  <a:lnTo>
                    <a:pt x="131" y="572"/>
                  </a:lnTo>
                  <a:lnTo>
                    <a:pt x="107" y="444"/>
                  </a:lnTo>
                  <a:lnTo>
                    <a:pt x="85" y="327"/>
                  </a:lnTo>
                  <a:lnTo>
                    <a:pt x="64" y="220"/>
                  </a:lnTo>
                  <a:lnTo>
                    <a:pt x="46" y="130"/>
                  </a:lnTo>
                  <a:lnTo>
                    <a:pt x="33" y="61"/>
                  </a:lnTo>
                  <a:lnTo>
                    <a:pt x="25" y="16"/>
                  </a:lnTo>
                  <a:lnTo>
                    <a:pt x="21" y="0"/>
                  </a:lnTo>
                  <a:lnTo>
                    <a:pt x="0" y="4"/>
                  </a:lnTo>
                  <a:lnTo>
                    <a:pt x="4" y="18"/>
                  </a:lnTo>
                  <a:lnTo>
                    <a:pt x="12" y="64"/>
                  </a:lnTo>
                  <a:lnTo>
                    <a:pt x="25" y="132"/>
                  </a:lnTo>
                  <a:lnTo>
                    <a:pt x="43" y="222"/>
                  </a:lnTo>
                  <a:lnTo>
                    <a:pt x="64" y="329"/>
                  </a:lnTo>
                  <a:lnTo>
                    <a:pt x="86" y="447"/>
                  </a:lnTo>
                  <a:lnTo>
                    <a:pt x="110" y="574"/>
                  </a:lnTo>
                  <a:lnTo>
                    <a:pt x="137" y="704"/>
                  </a:lnTo>
                  <a:lnTo>
                    <a:pt x="161" y="835"/>
                  </a:lnTo>
                  <a:lnTo>
                    <a:pt x="186" y="962"/>
                  </a:lnTo>
                  <a:lnTo>
                    <a:pt x="208" y="1081"/>
                  </a:lnTo>
                  <a:lnTo>
                    <a:pt x="230" y="1186"/>
                  </a:lnTo>
                  <a:lnTo>
                    <a:pt x="247" y="1276"/>
                  </a:lnTo>
                  <a:lnTo>
                    <a:pt x="260" y="1346"/>
                  </a:lnTo>
                  <a:lnTo>
                    <a:pt x="269" y="1390"/>
                  </a:lnTo>
                  <a:lnTo>
                    <a:pt x="272" y="1406"/>
                  </a:lnTo>
                  <a:lnTo>
                    <a:pt x="280" y="1394"/>
                  </a:lnTo>
                  <a:lnTo>
                    <a:pt x="272" y="1406"/>
                  </a:lnTo>
                  <a:lnTo>
                    <a:pt x="276" y="1413"/>
                  </a:lnTo>
                  <a:lnTo>
                    <a:pt x="283" y="1415"/>
                  </a:lnTo>
                  <a:lnTo>
                    <a:pt x="291" y="1412"/>
                  </a:lnTo>
                  <a:lnTo>
                    <a:pt x="293" y="1404"/>
                  </a:lnTo>
                  <a:lnTo>
                    <a:pt x="284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241000" y="3369240"/>
              <a:ext cx="518400" cy="55440"/>
            </a:xfrm>
            <a:custGeom>
              <a:avLst/>
              <a:gdLst/>
              <a:ahLst/>
              <a:rect l="l" t="t" r="r" b="b"/>
              <a:pathLst>
                <a:path w="1034" h="121">
                  <a:moveTo>
                    <a:pt x="0" y="9"/>
                  </a:moveTo>
                  <a:lnTo>
                    <a:pt x="4" y="20"/>
                  </a:lnTo>
                  <a:lnTo>
                    <a:pt x="29" y="35"/>
                  </a:lnTo>
                  <a:lnTo>
                    <a:pt x="53" y="47"/>
                  </a:lnTo>
                  <a:lnTo>
                    <a:pt x="82" y="59"/>
                  </a:lnTo>
                  <a:lnTo>
                    <a:pt x="110" y="70"/>
                  </a:lnTo>
                  <a:lnTo>
                    <a:pt x="140" y="80"/>
                  </a:lnTo>
                  <a:lnTo>
                    <a:pt x="171" y="89"/>
                  </a:lnTo>
                  <a:lnTo>
                    <a:pt x="202" y="96"/>
                  </a:lnTo>
                  <a:lnTo>
                    <a:pt x="234" y="101"/>
                  </a:lnTo>
                  <a:lnTo>
                    <a:pt x="267" y="108"/>
                  </a:lnTo>
                  <a:lnTo>
                    <a:pt x="299" y="112"/>
                  </a:lnTo>
                  <a:lnTo>
                    <a:pt x="335" y="116"/>
                  </a:lnTo>
                  <a:lnTo>
                    <a:pt x="369" y="118"/>
                  </a:lnTo>
                  <a:lnTo>
                    <a:pt x="405" y="120"/>
                  </a:lnTo>
                  <a:lnTo>
                    <a:pt x="440" y="121"/>
                  </a:lnTo>
                  <a:lnTo>
                    <a:pt x="476" y="121"/>
                  </a:lnTo>
                  <a:lnTo>
                    <a:pt x="511" y="121"/>
                  </a:lnTo>
                  <a:lnTo>
                    <a:pt x="548" y="120"/>
                  </a:lnTo>
                  <a:lnTo>
                    <a:pt x="582" y="119"/>
                  </a:lnTo>
                  <a:lnTo>
                    <a:pt x="619" y="117"/>
                  </a:lnTo>
                  <a:lnTo>
                    <a:pt x="654" y="115"/>
                  </a:lnTo>
                  <a:lnTo>
                    <a:pt x="690" y="111"/>
                  </a:lnTo>
                  <a:lnTo>
                    <a:pt x="725" y="108"/>
                  </a:lnTo>
                  <a:lnTo>
                    <a:pt x="760" y="102"/>
                  </a:lnTo>
                  <a:lnTo>
                    <a:pt x="794" y="98"/>
                  </a:lnTo>
                  <a:lnTo>
                    <a:pt x="826" y="94"/>
                  </a:lnTo>
                  <a:lnTo>
                    <a:pt x="859" y="88"/>
                  </a:lnTo>
                  <a:lnTo>
                    <a:pt x="891" y="81"/>
                  </a:lnTo>
                  <a:lnTo>
                    <a:pt x="924" y="75"/>
                  </a:lnTo>
                  <a:lnTo>
                    <a:pt x="952" y="69"/>
                  </a:lnTo>
                  <a:lnTo>
                    <a:pt x="981" y="61"/>
                  </a:lnTo>
                  <a:lnTo>
                    <a:pt x="1009" y="55"/>
                  </a:lnTo>
                  <a:lnTo>
                    <a:pt x="1034" y="47"/>
                  </a:lnTo>
                  <a:lnTo>
                    <a:pt x="1030" y="26"/>
                  </a:lnTo>
                  <a:lnTo>
                    <a:pt x="1005" y="34"/>
                  </a:lnTo>
                  <a:lnTo>
                    <a:pt x="976" y="40"/>
                  </a:lnTo>
                  <a:lnTo>
                    <a:pt x="948" y="47"/>
                  </a:lnTo>
                  <a:lnTo>
                    <a:pt x="918" y="54"/>
                  </a:lnTo>
                  <a:lnTo>
                    <a:pt x="889" y="60"/>
                  </a:lnTo>
                  <a:lnTo>
                    <a:pt x="857" y="66"/>
                  </a:lnTo>
                  <a:lnTo>
                    <a:pt x="824" y="72"/>
                  </a:lnTo>
                  <a:lnTo>
                    <a:pt x="792" y="77"/>
                  </a:lnTo>
                  <a:lnTo>
                    <a:pt x="757" y="81"/>
                  </a:lnTo>
                  <a:lnTo>
                    <a:pt x="723" y="86"/>
                  </a:lnTo>
                  <a:lnTo>
                    <a:pt x="690" y="90"/>
                  </a:lnTo>
                  <a:lnTo>
                    <a:pt x="654" y="94"/>
                  </a:lnTo>
                  <a:lnTo>
                    <a:pt x="619" y="96"/>
                  </a:lnTo>
                  <a:lnTo>
                    <a:pt x="582" y="98"/>
                  </a:lnTo>
                  <a:lnTo>
                    <a:pt x="548" y="99"/>
                  </a:lnTo>
                  <a:lnTo>
                    <a:pt x="511" y="100"/>
                  </a:lnTo>
                  <a:lnTo>
                    <a:pt x="476" y="100"/>
                  </a:lnTo>
                  <a:lnTo>
                    <a:pt x="440" y="100"/>
                  </a:lnTo>
                  <a:lnTo>
                    <a:pt x="405" y="99"/>
                  </a:lnTo>
                  <a:lnTo>
                    <a:pt x="369" y="97"/>
                  </a:lnTo>
                  <a:lnTo>
                    <a:pt x="335" y="95"/>
                  </a:lnTo>
                  <a:lnTo>
                    <a:pt x="303" y="91"/>
                  </a:lnTo>
                  <a:lnTo>
                    <a:pt x="269" y="86"/>
                  </a:lnTo>
                  <a:lnTo>
                    <a:pt x="236" y="80"/>
                  </a:lnTo>
                  <a:lnTo>
                    <a:pt x="204" y="75"/>
                  </a:lnTo>
                  <a:lnTo>
                    <a:pt x="175" y="67"/>
                  </a:lnTo>
                  <a:lnTo>
                    <a:pt x="144" y="59"/>
                  </a:lnTo>
                  <a:lnTo>
                    <a:pt x="118" y="51"/>
                  </a:lnTo>
                  <a:lnTo>
                    <a:pt x="89" y="40"/>
                  </a:lnTo>
                  <a:lnTo>
                    <a:pt x="63" y="28"/>
                  </a:lnTo>
                  <a:lnTo>
                    <a:pt x="39" y="16"/>
                  </a:lnTo>
                  <a:lnTo>
                    <a:pt x="16" y="1"/>
                  </a:lnTo>
                  <a:lnTo>
                    <a:pt x="21" y="12"/>
                  </a:lnTo>
                  <a:lnTo>
                    <a:pt x="16" y="1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14"/>
                  </a:lnTo>
                  <a:lnTo>
                    <a:pt x="4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241000" y="2734200"/>
              <a:ext cx="87840" cy="639360"/>
            </a:xfrm>
            <a:custGeom>
              <a:avLst/>
              <a:gdLst/>
              <a:ahLst/>
              <a:rect l="l" t="t" r="r" b="b"/>
              <a:pathLst>
                <a:path w="175" h="1389">
                  <a:moveTo>
                    <a:pt x="170" y="2"/>
                  </a:moveTo>
                  <a:lnTo>
                    <a:pt x="154" y="9"/>
                  </a:lnTo>
                  <a:lnTo>
                    <a:pt x="0" y="1386"/>
                  </a:lnTo>
                  <a:lnTo>
                    <a:pt x="21" y="1389"/>
                  </a:lnTo>
                  <a:lnTo>
                    <a:pt x="175" y="13"/>
                  </a:lnTo>
                  <a:lnTo>
                    <a:pt x="160" y="20"/>
                  </a:lnTo>
                  <a:lnTo>
                    <a:pt x="175" y="13"/>
                  </a:lnTo>
                  <a:lnTo>
                    <a:pt x="173" y="4"/>
                  </a:lnTo>
                  <a:lnTo>
                    <a:pt x="165" y="0"/>
                  </a:lnTo>
                  <a:lnTo>
                    <a:pt x="157" y="3"/>
                  </a:lnTo>
                  <a:lnTo>
                    <a:pt x="154" y="9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519280" y="2253600"/>
              <a:ext cx="360720" cy="1383840"/>
            </a:xfrm>
            <a:custGeom>
              <a:avLst/>
              <a:gdLst/>
              <a:ahLst/>
              <a:rect l="l" t="t" r="r" b="b"/>
              <a:pathLst>
                <a:path w="720" h="2994">
                  <a:moveTo>
                    <a:pt x="0" y="74"/>
                  </a:moveTo>
                  <a:lnTo>
                    <a:pt x="6" y="220"/>
                  </a:lnTo>
                  <a:lnTo>
                    <a:pt x="14" y="365"/>
                  </a:lnTo>
                  <a:lnTo>
                    <a:pt x="19" y="511"/>
                  </a:lnTo>
                  <a:lnTo>
                    <a:pt x="26" y="658"/>
                  </a:lnTo>
                  <a:lnTo>
                    <a:pt x="32" y="804"/>
                  </a:lnTo>
                  <a:lnTo>
                    <a:pt x="38" y="949"/>
                  </a:lnTo>
                  <a:lnTo>
                    <a:pt x="45" y="1095"/>
                  </a:lnTo>
                  <a:lnTo>
                    <a:pt x="51" y="1242"/>
                  </a:lnTo>
                  <a:lnTo>
                    <a:pt x="57" y="1560"/>
                  </a:lnTo>
                  <a:lnTo>
                    <a:pt x="56" y="2118"/>
                  </a:lnTo>
                  <a:lnTo>
                    <a:pt x="54" y="2666"/>
                  </a:lnTo>
                  <a:lnTo>
                    <a:pt x="51" y="2957"/>
                  </a:lnTo>
                  <a:lnTo>
                    <a:pt x="56" y="2976"/>
                  </a:lnTo>
                  <a:lnTo>
                    <a:pt x="67" y="2986"/>
                  </a:lnTo>
                  <a:lnTo>
                    <a:pt x="88" y="2993"/>
                  </a:lnTo>
                  <a:lnTo>
                    <a:pt x="113" y="2994"/>
                  </a:lnTo>
                  <a:lnTo>
                    <a:pt x="144" y="2988"/>
                  </a:lnTo>
                  <a:lnTo>
                    <a:pt x="179" y="2980"/>
                  </a:lnTo>
                  <a:lnTo>
                    <a:pt x="218" y="2968"/>
                  </a:lnTo>
                  <a:lnTo>
                    <a:pt x="259" y="2953"/>
                  </a:lnTo>
                  <a:lnTo>
                    <a:pt x="300" y="2937"/>
                  </a:lnTo>
                  <a:lnTo>
                    <a:pt x="342" y="2919"/>
                  </a:lnTo>
                  <a:lnTo>
                    <a:pt x="383" y="2899"/>
                  </a:lnTo>
                  <a:lnTo>
                    <a:pt x="423" y="2881"/>
                  </a:lnTo>
                  <a:lnTo>
                    <a:pt x="459" y="2862"/>
                  </a:lnTo>
                  <a:lnTo>
                    <a:pt x="493" y="2844"/>
                  </a:lnTo>
                  <a:lnTo>
                    <a:pt x="521" y="2828"/>
                  </a:lnTo>
                  <a:lnTo>
                    <a:pt x="544" y="2814"/>
                  </a:lnTo>
                  <a:lnTo>
                    <a:pt x="544" y="2753"/>
                  </a:lnTo>
                  <a:lnTo>
                    <a:pt x="542" y="2663"/>
                  </a:lnTo>
                  <a:lnTo>
                    <a:pt x="540" y="2554"/>
                  </a:lnTo>
                  <a:lnTo>
                    <a:pt x="536" y="2435"/>
                  </a:lnTo>
                  <a:lnTo>
                    <a:pt x="530" y="2315"/>
                  </a:lnTo>
                  <a:lnTo>
                    <a:pt x="525" y="2206"/>
                  </a:lnTo>
                  <a:lnTo>
                    <a:pt x="515" y="2112"/>
                  </a:lnTo>
                  <a:lnTo>
                    <a:pt x="505" y="2047"/>
                  </a:lnTo>
                  <a:lnTo>
                    <a:pt x="487" y="1963"/>
                  </a:lnTo>
                  <a:lnTo>
                    <a:pt x="473" y="1872"/>
                  </a:lnTo>
                  <a:lnTo>
                    <a:pt x="460" y="1777"/>
                  </a:lnTo>
                  <a:lnTo>
                    <a:pt x="450" y="1679"/>
                  </a:lnTo>
                  <a:lnTo>
                    <a:pt x="439" y="1582"/>
                  </a:lnTo>
                  <a:lnTo>
                    <a:pt x="428" y="1486"/>
                  </a:lnTo>
                  <a:lnTo>
                    <a:pt x="414" y="1395"/>
                  </a:lnTo>
                  <a:lnTo>
                    <a:pt x="396" y="1311"/>
                  </a:lnTo>
                  <a:lnTo>
                    <a:pt x="419" y="1307"/>
                  </a:lnTo>
                  <a:lnTo>
                    <a:pt x="444" y="1304"/>
                  </a:lnTo>
                  <a:lnTo>
                    <a:pt x="468" y="1301"/>
                  </a:lnTo>
                  <a:lnTo>
                    <a:pt x="491" y="1297"/>
                  </a:lnTo>
                  <a:lnTo>
                    <a:pt x="514" y="1295"/>
                  </a:lnTo>
                  <a:lnTo>
                    <a:pt x="536" y="1292"/>
                  </a:lnTo>
                  <a:lnTo>
                    <a:pt x="559" y="1288"/>
                  </a:lnTo>
                  <a:lnTo>
                    <a:pt x="580" y="1286"/>
                  </a:lnTo>
                  <a:lnTo>
                    <a:pt x="601" y="1283"/>
                  </a:lnTo>
                  <a:lnTo>
                    <a:pt x="620" y="1281"/>
                  </a:lnTo>
                  <a:lnTo>
                    <a:pt x="639" y="1277"/>
                  </a:lnTo>
                  <a:lnTo>
                    <a:pt x="657" y="1273"/>
                  </a:lnTo>
                  <a:lnTo>
                    <a:pt x="672" y="1270"/>
                  </a:lnTo>
                  <a:lnTo>
                    <a:pt x="687" y="1265"/>
                  </a:lnTo>
                  <a:lnTo>
                    <a:pt x="700" y="1261"/>
                  </a:lnTo>
                  <a:lnTo>
                    <a:pt x="712" y="1256"/>
                  </a:lnTo>
                  <a:lnTo>
                    <a:pt x="720" y="1237"/>
                  </a:lnTo>
                  <a:lnTo>
                    <a:pt x="715" y="1195"/>
                  </a:lnTo>
                  <a:lnTo>
                    <a:pt x="701" y="1139"/>
                  </a:lnTo>
                  <a:lnTo>
                    <a:pt x="680" y="1072"/>
                  </a:lnTo>
                  <a:lnTo>
                    <a:pt x="656" y="1002"/>
                  </a:lnTo>
                  <a:lnTo>
                    <a:pt x="631" y="935"/>
                  </a:lnTo>
                  <a:lnTo>
                    <a:pt x="610" y="880"/>
                  </a:lnTo>
                  <a:lnTo>
                    <a:pt x="595" y="839"/>
                  </a:lnTo>
                  <a:lnTo>
                    <a:pt x="572" y="778"/>
                  </a:lnTo>
                  <a:lnTo>
                    <a:pt x="550" y="719"/>
                  </a:lnTo>
                  <a:lnTo>
                    <a:pt x="529" y="664"/>
                  </a:lnTo>
                  <a:lnTo>
                    <a:pt x="508" y="611"/>
                  </a:lnTo>
                  <a:lnTo>
                    <a:pt x="486" y="562"/>
                  </a:lnTo>
                  <a:lnTo>
                    <a:pt x="465" y="513"/>
                  </a:lnTo>
                  <a:lnTo>
                    <a:pt x="442" y="467"/>
                  </a:lnTo>
                  <a:lnTo>
                    <a:pt x="419" y="421"/>
                  </a:lnTo>
                  <a:lnTo>
                    <a:pt x="395" y="377"/>
                  </a:lnTo>
                  <a:lnTo>
                    <a:pt x="368" y="334"/>
                  </a:lnTo>
                  <a:lnTo>
                    <a:pt x="341" y="289"/>
                  </a:lnTo>
                  <a:lnTo>
                    <a:pt x="311" y="245"/>
                  </a:lnTo>
                  <a:lnTo>
                    <a:pt x="280" y="201"/>
                  </a:lnTo>
                  <a:lnTo>
                    <a:pt x="244" y="155"/>
                  </a:lnTo>
                  <a:lnTo>
                    <a:pt x="207" y="108"/>
                  </a:lnTo>
                  <a:lnTo>
                    <a:pt x="165" y="59"/>
                  </a:lnTo>
                  <a:lnTo>
                    <a:pt x="156" y="50"/>
                  </a:lnTo>
                  <a:lnTo>
                    <a:pt x="144" y="40"/>
                  </a:lnTo>
                  <a:lnTo>
                    <a:pt x="131" y="34"/>
                  </a:lnTo>
                  <a:lnTo>
                    <a:pt x="118" y="26"/>
                  </a:lnTo>
                  <a:lnTo>
                    <a:pt x="103" y="19"/>
                  </a:lnTo>
                  <a:lnTo>
                    <a:pt x="90" y="14"/>
                  </a:lnTo>
                  <a:lnTo>
                    <a:pt x="76" y="6"/>
                  </a:lnTo>
                  <a:lnTo>
                    <a:pt x="61" y="0"/>
                  </a:lnTo>
                  <a:lnTo>
                    <a:pt x="51" y="5"/>
                  </a:lnTo>
                  <a:lnTo>
                    <a:pt x="40" y="13"/>
                  </a:lnTo>
                  <a:lnTo>
                    <a:pt x="29" y="20"/>
                  </a:lnTo>
                  <a:lnTo>
                    <a:pt x="21" y="30"/>
                  </a:lnTo>
                  <a:lnTo>
                    <a:pt x="15" y="39"/>
                  </a:lnTo>
                  <a:lnTo>
                    <a:pt x="8" y="50"/>
                  </a:lnTo>
                  <a:lnTo>
                    <a:pt x="4" y="6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514240" y="2288520"/>
              <a:ext cx="34920" cy="540000"/>
            </a:xfrm>
            <a:custGeom>
              <a:avLst/>
              <a:gdLst/>
              <a:ahLst/>
              <a:rect l="l" t="t" r="r" b="b"/>
              <a:pathLst>
                <a:path w="72" h="1168">
                  <a:moveTo>
                    <a:pt x="72" y="1168"/>
                  </a:moveTo>
                  <a:lnTo>
                    <a:pt x="72" y="1168"/>
                  </a:lnTo>
                  <a:lnTo>
                    <a:pt x="67" y="1021"/>
                  </a:lnTo>
                  <a:lnTo>
                    <a:pt x="59" y="875"/>
                  </a:lnTo>
                  <a:lnTo>
                    <a:pt x="53" y="730"/>
                  </a:lnTo>
                  <a:lnTo>
                    <a:pt x="48" y="584"/>
                  </a:lnTo>
                  <a:lnTo>
                    <a:pt x="40" y="437"/>
                  </a:lnTo>
                  <a:lnTo>
                    <a:pt x="35" y="291"/>
                  </a:lnTo>
                  <a:lnTo>
                    <a:pt x="28" y="14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7" y="146"/>
                  </a:lnTo>
                  <a:lnTo>
                    <a:pt x="14" y="291"/>
                  </a:lnTo>
                  <a:lnTo>
                    <a:pt x="19" y="437"/>
                  </a:lnTo>
                  <a:lnTo>
                    <a:pt x="27" y="584"/>
                  </a:lnTo>
                  <a:lnTo>
                    <a:pt x="32" y="730"/>
                  </a:lnTo>
                  <a:lnTo>
                    <a:pt x="38" y="875"/>
                  </a:lnTo>
                  <a:lnTo>
                    <a:pt x="46" y="1021"/>
                  </a:lnTo>
                  <a:lnTo>
                    <a:pt x="51" y="1168"/>
                  </a:lnTo>
                  <a:lnTo>
                    <a:pt x="51" y="1168"/>
                  </a:lnTo>
                  <a:lnTo>
                    <a:pt x="72" y="1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539440" y="2828520"/>
              <a:ext cx="12240" cy="797040"/>
            </a:xfrm>
            <a:custGeom>
              <a:avLst/>
              <a:gdLst/>
              <a:ahLst/>
              <a:rect l="l" t="t" r="r" b="b"/>
              <a:pathLst>
                <a:path w="27" h="1725">
                  <a:moveTo>
                    <a:pt x="21" y="1715"/>
                  </a:moveTo>
                  <a:lnTo>
                    <a:pt x="21" y="1715"/>
                  </a:lnTo>
                  <a:lnTo>
                    <a:pt x="23" y="1424"/>
                  </a:lnTo>
                  <a:lnTo>
                    <a:pt x="26" y="876"/>
                  </a:lnTo>
                  <a:lnTo>
                    <a:pt x="27" y="318"/>
                  </a:lnTo>
                  <a:lnTo>
                    <a:pt x="21" y="0"/>
                  </a:lnTo>
                  <a:lnTo>
                    <a:pt x="0" y="0"/>
                  </a:lnTo>
                  <a:lnTo>
                    <a:pt x="6" y="318"/>
                  </a:lnTo>
                  <a:lnTo>
                    <a:pt x="5" y="876"/>
                  </a:lnTo>
                  <a:lnTo>
                    <a:pt x="2" y="1424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4" y="1723"/>
                  </a:lnTo>
                  <a:lnTo>
                    <a:pt x="11" y="1725"/>
                  </a:lnTo>
                  <a:lnTo>
                    <a:pt x="18" y="1723"/>
                  </a:lnTo>
                  <a:lnTo>
                    <a:pt x="21" y="1715"/>
                  </a:lnTo>
                  <a:lnTo>
                    <a:pt x="21" y="17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539440" y="3549240"/>
              <a:ext cx="257760" cy="92520"/>
            </a:xfrm>
            <a:custGeom>
              <a:avLst/>
              <a:gdLst/>
              <a:ahLst/>
              <a:rect l="l" t="t" r="r" b="b"/>
              <a:pathLst>
                <a:path w="514" h="200">
                  <a:moveTo>
                    <a:pt x="492" y="10"/>
                  </a:moveTo>
                  <a:lnTo>
                    <a:pt x="497" y="1"/>
                  </a:lnTo>
                  <a:lnTo>
                    <a:pt x="476" y="14"/>
                  </a:lnTo>
                  <a:lnTo>
                    <a:pt x="448" y="30"/>
                  </a:lnTo>
                  <a:lnTo>
                    <a:pt x="415" y="48"/>
                  </a:lnTo>
                  <a:lnTo>
                    <a:pt x="378" y="67"/>
                  </a:lnTo>
                  <a:lnTo>
                    <a:pt x="338" y="85"/>
                  </a:lnTo>
                  <a:lnTo>
                    <a:pt x="298" y="105"/>
                  </a:lnTo>
                  <a:lnTo>
                    <a:pt x="256" y="123"/>
                  </a:lnTo>
                  <a:lnTo>
                    <a:pt x="214" y="140"/>
                  </a:lnTo>
                  <a:lnTo>
                    <a:pt x="174" y="154"/>
                  </a:lnTo>
                  <a:lnTo>
                    <a:pt x="137" y="165"/>
                  </a:lnTo>
                  <a:lnTo>
                    <a:pt x="102" y="174"/>
                  </a:lnTo>
                  <a:lnTo>
                    <a:pt x="73" y="179"/>
                  </a:lnTo>
                  <a:lnTo>
                    <a:pt x="49" y="178"/>
                  </a:lnTo>
                  <a:lnTo>
                    <a:pt x="32" y="173"/>
                  </a:lnTo>
                  <a:lnTo>
                    <a:pt x="25" y="167"/>
                  </a:lnTo>
                  <a:lnTo>
                    <a:pt x="21" y="153"/>
                  </a:lnTo>
                  <a:lnTo>
                    <a:pt x="0" y="153"/>
                  </a:lnTo>
                  <a:lnTo>
                    <a:pt x="6" y="176"/>
                  </a:lnTo>
                  <a:lnTo>
                    <a:pt x="22" y="192"/>
                  </a:lnTo>
                  <a:lnTo>
                    <a:pt x="46" y="199"/>
                  </a:lnTo>
                  <a:lnTo>
                    <a:pt x="73" y="200"/>
                  </a:lnTo>
                  <a:lnTo>
                    <a:pt x="106" y="195"/>
                  </a:lnTo>
                  <a:lnTo>
                    <a:pt x="142" y="186"/>
                  </a:lnTo>
                  <a:lnTo>
                    <a:pt x="182" y="175"/>
                  </a:lnTo>
                  <a:lnTo>
                    <a:pt x="222" y="159"/>
                  </a:lnTo>
                  <a:lnTo>
                    <a:pt x="263" y="142"/>
                  </a:lnTo>
                  <a:lnTo>
                    <a:pt x="305" y="124"/>
                  </a:lnTo>
                  <a:lnTo>
                    <a:pt x="347" y="104"/>
                  </a:lnTo>
                  <a:lnTo>
                    <a:pt x="388" y="85"/>
                  </a:lnTo>
                  <a:lnTo>
                    <a:pt x="425" y="67"/>
                  </a:lnTo>
                  <a:lnTo>
                    <a:pt x="457" y="49"/>
                  </a:lnTo>
                  <a:lnTo>
                    <a:pt x="486" y="33"/>
                  </a:lnTo>
                  <a:lnTo>
                    <a:pt x="509" y="20"/>
                  </a:lnTo>
                  <a:lnTo>
                    <a:pt x="514" y="10"/>
                  </a:lnTo>
                  <a:lnTo>
                    <a:pt x="509" y="20"/>
                  </a:lnTo>
                  <a:lnTo>
                    <a:pt x="514" y="12"/>
                  </a:lnTo>
                  <a:lnTo>
                    <a:pt x="512" y="4"/>
                  </a:lnTo>
                  <a:lnTo>
                    <a:pt x="506" y="0"/>
                  </a:lnTo>
                  <a:lnTo>
                    <a:pt x="497" y="1"/>
                  </a:lnTo>
                  <a:lnTo>
                    <a:pt x="4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66960" y="3198600"/>
              <a:ext cx="29880" cy="355680"/>
            </a:xfrm>
            <a:custGeom>
              <a:avLst/>
              <a:gdLst/>
              <a:ahLst/>
              <a:rect l="l" t="t" r="r" b="b"/>
              <a:pathLst>
                <a:path w="60" h="769">
                  <a:moveTo>
                    <a:pt x="0" y="5"/>
                  </a:moveTo>
                  <a:lnTo>
                    <a:pt x="0" y="5"/>
                  </a:lnTo>
                  <a:lnTo>
                    <a:pt x="11" y="68"/>
                  </a:lnTo>
                  <a:lnTo>
                    <a:pt x="20" y="161"/>
                  </a:lnTo>
                  <a:lnTo>
                    <a:pt x="25" y="270"/>
                  </a:lnTo>
                  <a:lnTo>
                    <a:pt x="32" y="390"/>
                  </a:lnTo>
                  <a:lnTo>
                    <a:pt x="35" y="509"/>
                  </a:lnTo>
                  <a:lnTo>
                    <a:pt x="37" y="618"/>
                  </a:lnTo>
                  <a:lnTo>
                    <a:pt x="38" y="708"/>
                  </a:lnTo>
                  <a:lnTo>
                    <a:pt x="38" y="769"/>
                  </a:lnTo>
                  <a:lnTo>
                    <a:pt x="60" y="769"/>
                  </a:lnTo>
                  <a:lnTo>
                    <a:pt x="60" y="708"/>
                  </a:lnTo>
                  <a:lnTo>
                    <a:pt x="58" y="618"/>
                  </a:lnTo>
                  <a:lnTo>
                    <a:pt x="56" y="509"/>
                  </a:lnTo>
                  <a:lnTo>
                    <a:pt x="53" y="390"/>
                  </a:lnTo>
                  <a:lnTo>
                    <a:pt x="47" y="270"/>
                  </a:lnTo>
                  <a:lnTo>
                    <a:pt x="41" y="161"/>
                  </a:lnTo>
                  <a:lnTo>
                    <a:pt x="32" y="66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711880" y="2854440"/>
              <a:ext cx="65160" cy="345960"/>
            </a:xfrm>
            <a:custGeom>
              <a:avLst/>
              <a:gdLst/>
              <a:ahLst/>
              <a:rect l="l" t="t" r="r" b="b"/>
              <a:pathLst>
                <a:path w="130" h="749">
                  <a:moveTo>
                    <a:pt x="10" y="0"/>
                  </a:moveTo>
                  <a:lnTo>
                    <a:pt x="0" y="13"/>
                  </a:lnTo>
                  <a:lnTo>
                    <a:pt x="18" y="95"/>
                  </a:lnTo>
                  <a:lnTo>
                    <a:pt x="32" y="186"/>
                  </a:lnTo>
                  <a:lnTo>
                    <a:pt x="44" y="282"/>
                  </a:lnTo>
                  <a:lnTo>
                    <a:pt x="54" y="379"/>
                  </a:lnTo>
                  <a:lnTo>
                    <a:pt x="65" y="477"/>
                  </a:lnTo>
                  <a:lnTo>
                    <a:pt x="77" y="573"/>
                  </a:lnTo>
                  <a:lnTo>
                    <a:pt x="91" y="664"/>
                  </a:lnTo>
                  <a:lnTo>
                    <a:pt x="109" y="749"/>
                  </a:lnTo>
                  <a:lnTo>
                    <a:pt x="130" y="744"/>
                  </a:lnTo>
                  <a:lnTo>
                    <a:pt x="112" y="661"/>
                  </a:lnTo>
                  <a:lnTo>
                    <a:pt x="99" y="570"/>
                  </a:lnTo>
                  <a:lnTo>
                    <a:pt x="87" y="475"/>
                  </a:lnTo>
                  <a:lnTo>
                    <a:pt x="75" y="377"/>
                  </a:lnTo>
                  <a:lnTo>
                    <a:pt x="65" y="279"/>
                  </a:lnTo>
                  <a:lnTo>
                    <a:pt x="53" y="184"/>
                  </a:lnTo>
                  <a:lnTo>
                    <a:pt x="39" y="93"/>
                  </a:lnTo>
                  <a:lnTo>
                    <a:pt x="21" y="7"/>
                  </a:lnTo>
                  <a:lnTo>
                    <a:pt x="12" y="21"/>
                  </a:lnTo>
                  <a:lnTo>
                    <a:pt x="21" y="7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717280" y="2828520"/>
              <a:ext cx="162720" cy="37080"/>
            </a:xfrm>
            <a:custGeom>
              <a:avLst/>
              <a:gdLst/>
              <a:ahLst/>
              <a:rect l="l" t="t" r="r" b="b"/>
              <a:pathLst>
                <a:path w="326" h="77">
                  <a:moveTo>
                    <a:pt x="315" y="0"/>
                  </a:moveTo>
                  <a:lnTo>
                    <a:pt x="312" y="1"/>
                  </a:lnTo>
                  <a:lnTo>
                    <a:pt x="302" y="6"/>
                  </a:lnTo>
                  <a:lnTo>
                    <a:pt x="289" y="9"/>
                  </a:lnTo>
                  <a:lnTo>
                    <a:pt x="274" y="15"/>
                  </a:lnTo>
                  <a:lnTo>
                    <a:pt x="261" y="18"/>
                  </a:lnTo>
                  <a:lnTo>
                    <a:pt x="243" y="21"/>
                  </a:lnTo>
                  <a:lnTo>
                    <a:pt x="224" y="25"/>
                  </a:lnTo>
                  <a:lnTo>
                    <a:pt x="205" y="27"/>
                  </a:lnTo>
                  <a:lnTo>
                    <a:pt x="184" y="31"/>
                  </a:lnTo>
                  <a:lnTo>
                    <a:pt x="162" y="33"/>
                  </a:lnTo>
                  <a:lnTo>
                    <a:pt x="140" y="37"/>
                  </a:lnTo>
                  <a:lnTo>
                    <a:pt x="119" y="39"/>
                  </a:lnTo>
                  <a:lnTo>
                    <a:pt x="95" y="41"/>
                  </a:lnTo>
                  <a:lnTo>
                    <a:pt x="72" y="45"/>
                  </a:lnTo>
                  <a:lnTo>
                    <a:pt x="48" y="49"/>
                  </a:lnTo>
                  <a:lnTo>
                    <a:pt x="23" y="52"/>
                  </a:lnTo>
                  <a:lnTo>
                    <a:pt x="0" y="56"/>
                  </a:lnTo>
                  <a:lnTo>
                    <a:pt x="2" y="77"/>
                  </a:lnTo>
                  <a:lnTo>
                    <a:pt x="26" y="73"/>
                  </a:lnTo>
                  <a:lnTo>
                    <a:pt x="51" y="70"/>
                  </a:lnTo>
                  <a:lnTo>
                    <a:pt x="74" y="66"/>
                  </a:lnTo>
                  <a:lnTo>
                    <a:pt x="98" y="62"/>
                  </a:lnTo>
                  <a:lnTo>
                    <a:pt x="119" y="60"/>
                  </a:lnTo>
                  <a:lnTo>
                    <a:pt x="142" y="58"/>
                  </a:lnTo>
                  <a:lnTo>
                    <a:pt x="165" y="55"/>
                  </a:lnTo>
                  <a:lnTo>
                    <a:pt x="186" y="52"/>
                  </a:lnTo>
                  <a:lnTo>
                    <a:pt x="207" y="49"/>
                  </a:lnTo>
                  <a:lnTo>
                    <a:pt x="226" y="46"/>
                  </a:lnTo>
                  <a:lnTo>
                    <a:pt x="245" y="42"/>
                  </a:lnTo>
                  <a:lnTo>
                    <a:pt x="263" y="39"/>
                  </a:lnTo>
                  <a:lnTo>
                    <a:pt x="279" y="36"/>
                  </a:lnTo>
                  <a:lnTo>
                    <a:pt x="294" y="31"/>
                  </a:lnTo>
                  <a:lnTo>
                    <a:pt x="308" y="25"/>
                  </a:lnTo>
                  <a:lnTo>
                    <a:pt x="322" y="20"/>
                  </a:lnTo>
                  <a:lnTo>
                    <a:pt x="319" y="21"/>
                  </a:lnTo>
                  <a:lnTo>
                    <a:pt x="322" y="20"/>
                  </a:lnTo>
                  <a:lnTo>
                    <a:pt x="326" y="15"/>
                  </a:lnTo>
                  <a:lnTo>
                    <a:pt x="326" y="6"/>
                  </a:lnTo>
                  <a:lnTo>
                    <a:pt x="320" y="1"/>
                  </a:lnTo>
                  <a:lnTo>
                    <a:pt x="312" y="1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812680" y="2639520"/>
              <a:ext cx="72000" cy="198360"/>
            </a:xfrm>
            <a:custGeom>
              <a:avLst/>
              <a:gdLst/>
              <a:ahLst/>
              <a:rect l="l" t="t" r="r" b="b"/>
              <a:pathLst>
                <a:path w="145" h="431">
                  <a:moveTo>
                    <a:pt x="0" y="8"/>
                  </a:moveTo>
                  <a:lnTo>
                    <a:pt x="0" y="8"/>
                  </a:lnTo>
                  <a:lnTo>
                    <a:pt x="15" y="48"/>
                  </a:lnTo>
                  <a:lnTo>
                    <a:pt x="36" y="104"/>
                  </a:lnTo>
                  <a:lnTo>
                    <a:pt x="60" y="170"/>
                  </a:lnTo>
                  <a:lnTo>
                    <a:pt x="83" y="240"/>
                  </a:lnTo>
                  <a:lnTo>
                    <a:pt x="105" y="306"/>
                  </a:lnTo>
                  <a:lnTo>
                    <a:pt x="118" y="361"/>
                  </a:lnTo>
                  <a:lnTo>
                    <a:pt x="124" y="402"/>
                  </a:lnTo>
                  <a:lnTo>
                    <a:pt x="124" y="410"/>
                  </a:lnTo>
                  <a:lnTo>
                    <a:pt x="128" y="431"/>
                  </a:lnTo>
                  <a:lnTo>
                    <a:pt x="145" y="402"/>
                  </a:lnTo>
                  <a:lnTo>
                    <a:pt x="139" y="359"/>
                  </a:lnTo>
                  <a:lnTo>
                    <a:pt x="126" y="301"/>
                  </a:lnTo>
                  <a:lnTo>
                    <a:pt x="105" y="234"/>
                  </a:lnTo>
                  <a:lnTo>
                    <a:pt x="78" y="164"/>
                  </a:lnTo>
                  <a:lnTo>
                    <a:pt x="55" y="96"/>
                  </a:lnTo>
                  <a:lnTo>
                    <a:pt x="34" y="4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596680" y="2279160"/>
              <a:ext cx="225360" cy="365040"/>
            </a:xfrm>
            <a:custGeom>
              <a:avLst/>
              <a:gdLst/>
              <a:ahLst/>
              <a:rect l="l" t="t" r="r" b="b"/>
              <a:pathLst>
                <a:path w="448" h="790">
                  <a:moveTo>
                    <a:pt x="0" y="14"/>
                  </a:moveTo>
                  <a:lnTo>
                    <a:pt x="0" y="14"/>
                  </a:lnTo>
                  <a:lnTo>
                    <a:pt x="41" y="62"/>
                  </a:lnTo>
                  <a:lnTo>
                    <a:pt x="78" y="108"/>
                  </a:lnTo>
                  <a:lnTo>
                    <a:pt x="114" y="154"/>
                  </a:lnTo>
                  <a:lnTo>
                    <a:pt x="146" y="197"/>
                  </a:lnTo>
                  <a:lnTo>
                    <a:pt x="176" y="243"/>
                  </a:lnTo>
                  <a:lnTo>
                    <a:pt x="203" y="286"/>
                  </a:lnTo>
                  <a:lnTo>
                    <a:pt x="228" y="328"/>
                  </a:lnTo>
                  <a:lnTo>
                    <a:pt x="254" y="374"/>
                  </a:lnTo>
                  <a:lnTo>
                    <a:pt x="276" y="418"/>
                  </a:lnTo>
                  <a:lnTo>
                    <a:pt x="298" y="464"/>
                  </a:lnTo>
                  <a:lnTo>
                    <a:pt x="319" y="513"/>
                  </a:lnTo>
                  <a:lnTo>
                    <a:pt x="341" y="563"/>
                  </a:lnTo>
                  <a:lnTo>
                    <a:pt x="362" y="615"/>
                  </a:lnTo>
                  <a:lnTo>
                    <a:pt x="384" y="669"/>
                  </a:lnTo>
                  <a:lnTo>
                    <a:pt x="407" y="728"/>
                  </a:lnTo>
                  <a:lnTo>
                    <a:pt x="429" y="790"/>
                  </a:lnTo>
                  <a:lnTo>
                    <a:pt x="448" y="782"/>
                  </a:lnTo>
                  <a:lnTo>
                    <a:pt x="425" y="721"/>
                  </a:lnTo>
                  <a:lnTo>
                    <a:pt x="403" y="662"/>
                  </a:lnTo>
                  <a:lnTo>
                    <a:pt x="381" y="608"/>
                  </a:lnTo>
                  <a:lnTo>
                    <a:pt x="360" y="555"/>
                  </a:lnTo>
                  <a:lnTo>
                    <a:pt x="338" y="506"/>
                  </a:lnTo>
                  <a:lnTo>
                    <a:pt x="317" y="457"/>
                  </a:lnTo>
                  <a:lnTo>
                    <a:pt x="295" y="408"/>
                  </a:lnTo>
                  <a:lnTo>
                    <a:pt x="272" y="364"/>
                  </a:lnTo>
                  <a:lnTo>
                    <a:pt x="247" y="319"/>
                  </a:lnTo>
                  <a:lnTo>
                    <a:pt x="221" y="274"/>
                  </a:lnTo>
                  <a:lnTo>
                    <a:pt x="191" y="231"/>
                  </a:lnTo>
                  <a:lnTo>
                    <a:pt x="163" y="186"/>
                  </a:lnTo>
                  <a:lnTo>
                    <a:pt x="130" y="142"/>
                  </a:lnTo>
                  <a:lnTo>
                    <a:pt x="95" y="96"/>
                  </a:lnTo>
                  <a:lnTo>
                    <a:pt x="57" y="4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544480" y="2251440"/>
              <a:ext cx="62280" cy="34560"/>
            </a:xfrm>
            <a:custGeom>
              <a:avLst/>
              <a:gdLst/>
              <a:ahLst/>
              <a:rect l="l" t="t" r="r" b="b"/>
              <a:pathLst>
                <a:path w="121" h="75">
                  <a:moveTo>
                    <a:pt x="13" y="18"/>
                  </a:moveTo>
                  <a:lnTo>
                    <a:pt x="5" y="18"/>
                  </a:lnTo>
                  <a:lnTo>
                    <a:pt x="20" y="24"/>
                  </a:lnTo>
                  <a:lnTo>
                    <a:pt x="34" y="31"/>
                  </a:lnTo>
                  <a:lnTo>
                    <a:pt x="48" y="37"/>
                  </a:lnTo>
                  <a:lnTo>
                    <a:pt x="61" y="44"/>
                  </a:lnTo>
                  <a:lnTo>
                    <a:pt x="75" y="51"/>
                  </a:lnTo>
                  <a:lnTo>
                    <a:pt x="86" y="57"/>
                  </a:lnTo>
                  <a:lnTo>
                    <a:pt x="97" y="66"/>
                  </a:lnTo>
                  <a:lnTo>
                    <a:pt x="105" y="75"/>
                  </a:lnTo>
                  <a:lnTo>
                    <a:pt x="121" y="61"/>
                  </a:lnTo>
                  <a:lnTo>
                    <a:pt x="111" y="50"/>
                  </a:lnTo>
                  <a:lnTo>
                    <a:pt x="98" y="41"/>
                  </a:lnTo>
                  <a:lnTo>
                    <a:pt x="84" y="32"/>
                  </a:lnTo>
                  <a:lnTo>
                    <a:pt x="70" y="25"/>
                  </a:lnTo>
                  <a:lnTo>
                    <a:pt x="56" y="18"/>
                  </a:lnTo>
                  <a:lnTo>
                    <a:pt x="41" y="12"/>
                  </a:lnTo>
                  <a:lnTo>
                    <a:pt x="27" y="5"/>
                  </a:lnTo>
                  <a:lnTo>
                    <a:pt x="14" y="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514240" y="2251440"/>
              <a:ext cx="37440" cy="4104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21" y="82"/>
                  </a:moveTo>
                  <a:lnTo>
                    <a:pt x="21" y="83"/>
                  </a:lnTo>
                  <a:lnTo>
                    <a:pt x="26" y="73"/>
                  </a:lnTo>
                  <a:lnTo>
                    <a:pt x="29" y="62"/>
                  </a:lnTo>
                  <a:lnTo>
                    <a:pt x="33" y="53"/>
                  </a:lnTo>
                  <a:lnTo>
                    <a:pt x="40" y="45"/>
                  </a:lnTo>
                  <a:lnTo>
                    <a:pt x="48" y="35"/>
                  </a:lnTo>
                  <a:lnTo>
                    <a:pt x="57" y="28"/>
                  </a:lnTo>
                  <a:lnTo>
                    <a:pt x="67" y="23"/>
                  </a:lnTo>
                  <a:lnTo>
                    <a:pt x="76" y="18"/>
                  </a:lnTo>
                  <a:lnTo>
                    <a:pt x="69" y="0"/>
                  </a:lnTo>
                  <a:lnTo>
                    <a:pt x="57" y="4"/>
                  </a:lnTo>
                  <a:lnTo>
                    <a:pt x="46" y="12"/>
                  </a:lnTo>
                  <a:lnTo>
                    <a:pt x="33" y="22"/>
                  </a:lnTo>
                  <a:lnTo>
                    <a:pt x="25" y="31"/>
                  </a:lnTo>
                  <a:lnTo>
                    <a:pt x="17" y="42"/>
                  </a:lnTo>
                  <a:lnTo>
                    <a:pt x="10" y="54"/>
                  </a:lnTo>
                  <a:lnTo>
                    <a:pt x="5" y="66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88"/>
                  </a:lnTo>
                  <a:lnTo>
                    <a:pt x="10" y="92"/>
                  </a:lnTo>
                  <a:lnTo>
                    <a:pt x="18" y="90"/>
                  </a:lnTo>
                  <a:lnTo>
                    <a:pt x="21" y="83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030760" y="2249280"/>
              <a:ext cx="390600" cy="1364760"/>
            </a:xfrm>
            <a:custGeom>
              <a:avLst/>
              <a:gdLst/>
              <a:ahLst/>
              <a:rect l="l" t="t" r="r" b="b"/>
              <a:pathLst>
                <a:path w="780" h="2954">
                  <a:moveTo>
                    <a:pt x="720" y="0"/>
                  </a:moveTo>
                  <a:lnTo>
                    <a:pt x="731" y="37"/>
                  </a:lnTo>
                  <a:lnTo>
                    <a:pt x="740" y="73"/>
                  </a:lnTo>
                  <a:lnTo>
                    <a:pt x="749" y="109"/>
                  </a:lnTo>
                  <a:lnTo>
                    <a:pt x="755" y="147"/>
                  </a:lnTo>
                  <a:lnTo>
                    <a:pt x="758" y="185"/>
                  </a:lnTo>
                  <a:lnTo>
                    <a:pt x="762" y="222"/>
                  </a:lnTo>
                  <a:lnTo>
                    <a:pt x="762" y="262"/>
                  </a:lnTo>
                  <a:lnTo>
                    <a:pt x="762" y="305"/>
                  </a:lnTo>
                  <a:lnTo>
                    <a:pt x="758" y="497"/>
                  </a:lnTo>
                  <a:lnTo>
                    <a:pt x="759" y="691"/>
                  </a:lnTo>
                  <a:lnTo>
                    <a:pt x="765" y="890"/>
                  </a:lnTo>
                  <a:lnTo>
                    <a:pt x="769" y="1087"/>
                  </a:lnTo>
                  <a:lnTo>
                    <a:pt x="774" y="1286"/>
                  </a:lnTo>
                  <a:lnTo>
                    <a:pt x="778" y="1483"/>
                  </a:lnTo>
                  <a:lnTo>
                    <a:pt x="780" y="1676"/>
                  </a:lnTo>
                  <a:lnTo>
                    <a:pt x="776" y="1866"/>
                  </a:lnTo>
                  <a:lnTo>
                    <a:pt x="772" y="2022"/>
                  </a:lnTo>
                  <a:lnTo>
                    <a:pt x="770" y="2194"/>
                  </a:lnTo>
                  <a:lnTo>
                    <a:pt x="768" y="2372"/>
                  </a:lnTo>
                  <a:lnTo>
                    <a:pt x="766" y="2544"/>
                  </a:lnTo>
                  <a:lnTo>
                    <a:pt x="762" y="2699"/>
                  </a:lnTo>
                  <a:lnTo>
                    <a:pt x="755" y="2827"/>
                  </a:lnTo>
                  <a:lnTo>
                    <a:pt x="745" y="2916"/>
                  </a:lnTo>
                  <a:lnTo>
                    <a:pt x="729" y="2954"/>
                  </a:lnTo>
                  <a:lnTo>
                    <a:pt x="706" y="2953"/>
                  </a:lnTo>
                  <a:lnTo>
                    <a:pt x="680" y="2949"/>
                  </a:lnTo>
                  <a:lnTo>
                    <a:pt x="654" y="2944"/>
                  </a:lnTo>
                  <a:lnTo>
                    <a:pt x="625" y="2938"/>
                  </a:lnTo>
                  <a:lnTo>
                    <a:pt x="596" y="2930"/>
                  </a:lnTo>
                  <a:lnTo>
                    <a:pt x="565" y="2920"/>
                  </a:lnTo>
                  <a:lnTo>
                    <a:pt x="535" y="2912"/>
                  </a:lnTo>
                  <a:lnTo>
                    <a:pt x="504" y="2899"/>
                  </a:lnTo>
                  <a:lnTo>
                    <a:pt x="473" y="2888"/>
                  </a:lnTo>
                  <a:lnTo>
                    <a:pt x="444" y="2877"/>
                  </a:lnTo>
                  <a:lnTo>
                    <a:pt x="414" y="2865"/>
                  </a:lnTo>
                  <a:lnTo>
                    <a:pt x="387" y="2854"/>
                  </a:lnTo>
                  <a:lnTo>
                    <a:pt x="359" y="2842"/>
                  </a:lnTo>
                  <a:lnTo>
                    <a:pt x="333" y="2831"/>
                  </a:lnTo>
                  <a:lnTo>
                    <a:pt x="310" y="2821"/>
                  </a:lnTo>
                  <a:lnTo>
                    <a:pt x="288" y="2811"/>
                  </a:lnTo>
                  <a:lnTo>
                    <a:pt x="348" y="1710"/>
                  </a:lnTo>
                  <a:lnTo>
                    <a:pt x="323" y="1704"/>
                  </a:lnTo>
                  <a:lnTo>
                    <a:pt x="298" y="1697"/>
                  </a:lnTo>
                  <a:lnTo>
                    <a:pt x="269" y="1691"/>
                  </a:lnTo>
                  <a:lnTo>
                    <a:pt x="240" y="1687"/>
                  </a:lnTo>
                  <a:lnTo>
                    <a:pt x="209" y="1682"/>
                  </a:lnTo>
                  <a:lnTo>
                    <a:pt x="179" y="1677"/>
                  </a:lnTo>
                  <a:lnTo>
                    <a:pt x="148" y="1671"/>
                  </a:lnTo>
                  <a:lnTo>
                    <a:pt x="118" y="1667"/>
                  </a:lnTo>
                  <a:lnTo>
                    <a:pt x="92" y="1660"/>
                  </a:lnTo>
                  <a:lnTo>
                    <a:pt x="67" y="1655"/>
                  </a:lnTo>
                  <a:lnTo>
                    <a:pt x="45" y="1648"/>
                  </a:lnTo>
                  <a:lnTo>
                    <a:pt x="26" y="1639"/>
                  </a:lnTo>
                  <a:lnTo>
                    <a:pt x="12" y="1630"/>
                  </a:lnTo>
                  <a:lnTo>
                    <a:pt x="3" y="1619"/>
                  </a:lnTo>
                  <a:lnTo>
                    <a:pt x="0" y="1608"/>
                  </a:lnTo>
                  <a:lnTo>
                    <a:pt x="3" y="1594"/>
                  </a:lnTo>
                  <a:lnTo>
                    <a:pt x="33" y="1498"/>
                  </a:lnTo>
                  <a:lnTo>
                    <a:pt x="59" y="1403"/>
                  </a:lnTo>
                  <a:lnTo>
                    <a:pt x="86" y="1307"/>
                  </a:lnTo>
                  <a:lnTo>
                    <a:pt x="109" y="1212"/>
                  </a:lnTo>
                  <a:lnTo>
                    <a:pt x="133" y="1116"/>
                  </a:lnTo>
                  <a:lnTo>
                    <a:pt x="155" y="1020"/>
                  </a:lnTo>
                  <a:lnTo>
                    <a:pt x="177" y="925"/>
                  </a:lnTo>
                  <a:lnTo>
                    <a:pt x="199" y="831"/>
                  </a:lnTo>
                  <a:lnTo>
                    <a:pt x="221" y="736"/>
                  </a:lnTo>
                  <a:lnTo>
                    <a:pt x="244" y="645"/>
                  </a:lnTo>
                  <a:lnTo>
                    <a:pt x="267" y="553"/>
                  </a:lnTo>
                  <a:lnTo>
                    <a:pt x="292" y="461"/>
                  </a:lnTo>
                  <a:lnTo>
                    <a:pt x="318" y="371"/>
                  </a:lnTo>
                  <a:lnTo>
                    <a:pt x="344" y="282"/>
                  </a:lnTo>
                  <a:lnTo>
                    <a:pt x="375" y="196"/>
                  </a:lnTo>
                  <a:lnTo>
                    <a:pt x="408" y="109"/>
                  </a:lnTo>
                  <a:lnTo>
                    <a:pt x="418" y="88"/>
                  </a:lnTo>
                  <a:lnTo>
                    <a:pt x="430" y="70"/>
                  </a:lnTo>
                  <a:lnTo>
                    <a:pt x="444" y="56"/>
                  </a:lnTo>
                  <a:lnTo>
                    <a:pt x="461" y="44"/>
                  </a:lnTo>
                  <a:lnTo>
                    <a:pt x="479" y="34"/>
                  </a:lnTo>
                  <a:lnTo>
                    <a:pt x="497" y="26"/>
                  </a:lnTo>
                  <a:lnTo>
                    <a:pt x="517" y="19"/>
                  </a:lnTo>
                  <a:lnTo>
                    <a:pt x="538" y="15"/>
                  </a:lnTo>
                  <a:lnTo>
                    <a:pt x="560" y="11"/>
                  </a:lnTo>
                  <a:lnTo>
                    <a:pt x="582" y="9"/>
                  </a:lnTo>
                  <a:lnTo>
                    <a:pt x="605" y="7"/>
                  </a:lnTo>
                  <a:lnTo>
                    <a:pt x="629" y="6"/>
                  </a:lnTo>
                  <a:lnTo>
                    <a:pt x="652" y="6"/>
                  </a:lnTo>
                  <a:lnTo>
                    <a:pt x="675" y="5"/>
                  </a:lnTo>
                  <a:lnTo>
                    <a:pt x="698" y="4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386440" y="2249280"/>
              <a:ext cx="29880" cy="140760"/>
            </a:xfrm>
            <a:custGeom>
              <a:avLst/>
              <a:gdLst/>
              <a:ahLst/>
              <a:rect l="l" t="t" r="r" b="b"/>
              <a:pathLst>
                <a:path w="62" h="307">
                  <a:moveTo>
                    <a:pt x="62" y="307"/>
                  </a:moveTo>
                  <a:lnTo>
                    <a:pt x="62" y="307"/>
                  </a:lnTo>
                  <a:lnTo>
                    <a:pt x="62" y="264"/>
                  </a:lnTo>
                  <a:lnTo>
                    <a:pt x="62" y="224"/>
                  </a:lnTo>
                  <a:lnTo>
                    <a:pt x="59" y="187"/>
                  </a:lnTo>
                  <a:lnTo>
                    <a:pt x="56" y="148"/>
                  </a:lnTo>
                  <a:lnTo>
                    <a:pt x="49" y="110"/>
                  </a:lnTo>
                  <a:lnTo>
                    <a:pt x="41" y="72"/>
                  </a:lnTo>
                  <a:lnTo>
                    <a:pt x="32" y="37"/>
                  </a:lnTo>
                  <a:lnTo>
                    <a:pt x="21" y="0"/>
                  </a:lnTo>
                  <a:lnTo>
                    <a:pt x="0" y="6"/>
                  </a:lnTo>
                  <a:lnTo>
                    <a:pt x="10" y="42"/>
                  </a:lnTo>
                  <a:lnTo>
                    <a:pt x="20" y="77"/>
                  </a:lnTo>
                  <a:lnTo>
                    <a:pt x="28" y="112"/>
                  </a:lnTo>
                  <a:lnTo>
                    <a:pt x="35" y="150"/>
                  </a:lnTo>
                  <a:lnTo>
                    <a:pt x="38" y="187"/>
                  </a:lnTo>
                  <a:lnTo>
                    <a:pt x="41" y="224"/>
                  </a:lnTo>
                  <a:lnTo>
                    <a:pt x="41" y="264"/>
                  </a:lnTo>
                  <a:lnTo>
                    <a:pt x="41" y="307"/>
                  </a:lnTo>
                  <a:lnTo>
                    <a:pt x="41" y="307"/>
                  </a:lnTo>
                  <a:lnTo>
                    <a:pt x="6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406240" y="2390040"/>
              <a:ext cx="19800" cy="720000"/>
            </a:xfrm>
            <a:custGeom>
              <a:avLst/>
              <a:gdLst/>
              <a:ahLst/>
              <a:rect l="l" t="t" r="r" b="b"/>
              <a:pathLst>
                <a:path w="42" h="1561">
                  <a:moveTo>
                    <a:pt x="39" y="1561"/>
                  </a:moveTo>
                  <a:lnTo>
                    <a:pt x="39" y="1561"/>
                  </a:lnTo>
                  <a:lnTo>
                    <a:pt x="42" y="1371"/>
                  </a:lnTo>
                  <a:lnTo>
                    <a:pt x="41" y="1178"/>
                  </a:lnTo>
                  <a:lnTo>
                    <a:pt x="37" y="981"/>
                  </a:lnTo>
                  <a:lnTo>
                    <a:pt x="32" y="782"/>
                  </a:lnTo>
                  <a:lnTo>
                    <a:pt x="27" y="585"/>
                  </a:lnTo>
                  <a:lnTo>
                    <a:pt x="22" y="386"/>
                  </a:lnTo>
                  <a:lnTo>
                    <a:pt x="21" y="192"/>
                  </a:lnTo>
                  <a:lnTo>
                    <a:pt x="24" y="0"/>
                  </a:lnTo>
                  <a:lnTo>
                    <a:pt x="3" y="0"/>
                  </a:lnTo>
                  <a:lnTo>
                    <a:pt x="0" y="192"/>
                  </a:lnTo>
                  <a:lnTo>
                    <a:pt x="1" y="386"/>
                  </a:lnTo>
                  <a:lnTo>
                    <a:pt x="6" y="585"/>
                  </a:lnTo>
                  <a:lnTo>
                    <a:pt x="10" y="782"/>
                  </a:lnTo>
                  <a:lnTo>
                    <a:pt x="16" y="981"/>
                  </a:lnTo>
                  <a:lnTo>
                    <a:pt x="20" y="1178"/>
                  </a:lnTo>
                  <a:lnTo>
                    <a:pt x="21" y="1371"/>
                  </a:lnTo>
                  <a:lnTo>
                    <a:pt x="18" y="1561"/>
                  </a:lnTo>
                  <a:lnTo>
                    <a:pt x="18" y="1561"/>
                  </a:lnTo>
                  <a:lnTo>
                    <a:pt x="39" y="15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391480" y="3110400"/>
              <a:ext cx="32040" cy="508320"/>
            </a:xfrm>
            <a:custGeom>
              <a:avLst/>
              <a:gdLst/>
              <a:ahLst/>
              <a:rect l="l" t="t" r="r" b="b"/>
              <a:pathLst>
                <a:path w="68" h="1098">
                  <a:moveTo>
                    <a:pt x="10" y="1098"/>
                  </a:moveTo>
                  <a:lnTo>
                    <a:pt x="15" y="1097"/>
                  </a:lnTo>
                  <a:lnTo>
                    <a:pt x="36" y="1051"/>
                  </a:lnTo>
                  <a:lnTo>
                    <a:pt x="47" y="961"/>
                  </a:lnTo>
                  <a:lnTo>
                    <a:pt x="53" y="833"/>
                  </a:lnTo>
                  <a:lnTo>
                    <a:pt x="57" y="678"/>
                  </a:lnTo>
                  <a:lnTo>
                    <a:pt x="59" y="506"/>
                  </a:lnTo>
                  <a:lnTo>
                    <a:pt x="62" y="328"/>
                  </a:lnTo>
                  <a:lnTo>
                    <a:pt x="64" y="156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3" y="156"/>
                  </a:lnTo>
                  <a:lnTo>
                    <a:pt x="40" y="328"/>
                  </a:lnTo>
                  <a:lnTo>
                    <a:pt x="38" y="506"/>
                  </a:lnTo>
                  <a:lnTo>
                    <a:pt x="36" y="678"/>
                  </a:lnTo>
                  <a:lnTo>
                    <a:pt x="32" y="833"/>
                  </a:lnTo>
                  <a:lnTo>
                    <a:pt x="26" y="961"/>
                  </a:lnTo>
                  <a:lnTo>
                    <a:pt x="15" y="1049"/>
                  </a:lnTo>
                  <a:lnTo>
                    <a:pt x="6" y="1078"/>
                  </a:lnTo>
                  <a:lnTo>
                    <a:pt x="10" y="1077"/>
                  </a:lnTo>
                  <a:lnTo>
                    <a:pt x="6" y="1078"/>
                  </a:lnTo>
                  <a:lnTo>
                    <a:pt x="0" y="1084"/>
                  </a:lnTo>
                  <a:lnTo>
                    <a:pt x="1" y="1092"/>
                  </a:lnTo>
                  <a:lnTo>
                    <a:pt x="7" y="1097"/>
                  </a:lnTo>
                  <a:lnTo>
                    <a:pt x="15" y="1097"/>
                  </a:lnTo>
                  <a:lnTo>
                    <a:pt x="10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171160" y="3542760"/>
              <a:ext cx="225360" cy="76320"/>
            </a:xfrm>
            <a:custGeom>
              <a:avLst/>
              <a:gdLst/>
              <a:ahLst/>
              <a:rect l="l" t="t" r="r" b="b"/>
              <a:pathLst>
                <a:path w="451" h="162">
                  <a:moveTo>
                    <a:pt x="0" y="9"/>
                  </a:moveTo>
                  <a:lnTo>
                    <a:pt x="7" y="19"/>
                  </a:lnTo>
                  <a:lnTo>
                    <a:pt x="28" y="27"/>
                  </a:lnTo>
                  <a:lnTo>
                    <a:pt x="52" y="38"/>
                  </a:lnTo>
                  <a:lnTo>
                    <a:pt x="78" y="48"/>
                  </a:lnTo>
                  <a:lnTo>
                    <a:pt x="104" y="61"/>
                  </a:lnTo>
                  <a:lnTo>
                    <a:pt x="133" y="73"/>
                  </a:lnTo>
                  <a:lnTo>
                    <a:pt x="163" y="84"/>
                  </a:lnTo>
                  <a:lnTo>
                    <a:pt x="192" y="96"/>
                  </a:lnTo>
                  <a:lnTo>
                    <a:pt x="223" y="107"/>
                  </a:lnTo>
                  <a:lnTo>
                    <a:pt x="253" y="120"/>
                  </a:lnTo>
                  <a:lnTo>
                    <a:pt x="285" y="130"/>
                  </a:lnTo>
                  <a:lnTo>
                    <a:pt x="316" y="138"/>
                  </a:lnTo>
                  <a:lnTo>
                    <a:pt x="345" y="147"/>
                  </a:lnTo>
                  <a:lnTo>
                    <a:pt x="375" y="153"/>
                  </a:lnTo>
                  <a:lnTo>
                    <a:pt x="401" y="157"/>
                  </a:lnTo>
                  <a:lnTo>
                    <a:pt x="428" y="161"/>
                  </a:lnTo>
                  <a:lnTo>
                    <a:pt x="451" y="162"/>
                  </a:lnTo>
                  <a:lnTo>
                    <a:pt x="451" y="141"/>
                  </a:lnTo>
                  <a:lnTo>
                    <a:pt x="428" y="140"/>
                  </a:lnTo>
                  <a:lnTo>
                    <a:pt x="403" y="136"/>
                  </a:lnTo>
                  <a:lnTo>
                    <a:pt x="377" y="132"/>
                  </a:lnTo>
                  <a:lnTo>
                    <a:pt x="349" y="126"/>
                  </a:lnTo>
                  <a:lnTo>
                    <a:pt x="320" y="117"/>
                  </a:lnTo>
                  <a:lnTo>
                    <a:pt x="289" y="108"/>
                  </a:lnTo>
                  <a:lnTo>
                    <a:pt x="260" y="98"/>
                  </a:lnTo>
                  <a:lnTo>
                    <a:pt x="229" y="88"/>
                  </a:lnTo>
                  <a:lnTo>
                    <a:pt x="198" y="77"/>
                  </a:lnTo>
                  <a:lnTo>
                    <a:pt x="170" y="65"/>
                  </a:lnTo>
                  <a:lnTo>
                    <a:pt x="140" y="54"/>
                  </a:lnTo>
                  <a:lnTo>
                    <a:pt x="112" y="42"/>
                  </a:lnTo>
                  <a:lnTo>
                    <a:pt x="84" y="30"/>
                  </a:lnTo>
                  <a:lnTo>
                    <a:pt x="59" y="20"/>
                  </a:lnTo>
                  <a:lnTo>
                    <a:pt x="35" y="9"/>
                  </a:lnTo>
                  <a:lnTo>
                    <a:pt x="14" y="0"/>
                  </a:lnTo>
                  <a:lnTo>
                    <a:pt x="21" y="9"/>
                  </a:lnTo>
                  <a:lnTo>
                    <a:pt x="14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1" y="13"/>
                  </a:lnTo>
                  <a:lnTo>
                    <a:pt x="7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171160" y="3034440"/>
              <a:ext cx="39600" cy="512640"/>
            </a:xfrm>
            <a:custGeom>
              <a:avLst/>
              <a:gdLst/>
              <a:ahLst/>
              <a:rect l="l" t="t" r="r" b="b"/>
              <a:pathLst>
                <a:path w="80" h="1112">
                  <a:moveTo>
                    <a:pt x="65" y="22"/>
                  </a:moveTo>
                  <a:lnTo>
                    <a:pt x="59" y="11"/>
                  </a:lnTo>
                  <a:lnTo>
                    <a:pt x="0" y="1112"/>
                  </a:lnTo>
                  <a:lnTo>
                    <a:pt x="21" y="1112"/>
                  </a:lnTo>
                  <a:lnTo>
                    <a:pt x="80" y="11"/>
                  </a:lnTo>
                  <a:lnTo>
                    <a:pt x="73" y="0"/>
                  </a:lnTo>
                  <a:lnTo>
                    <a:pt x="80" y="11"/>
                  </a:lnTo>
                  <a:lnTo>
                    <a:pt x="76" y="3"/>
                  </a:lnTo>
                  <a:lnTo>
                    <a:pt x="70" y="0"/>
                  </a:lnTo>
                  <a:lnTo>
                    <a:pt x="62" y="3"/>
                  </a:lnTo>
                  <a:lnTo>
                    <a:pt x="59" y="11"/>
                  </a:lnTo>
                  <a:lnTo>
                    <a:pt x="6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025720" y="2981160"/>
              <a:ext cx="180000" cy="62640"/>
            </a:xfrm>
            <a:custGeom>
              <a:avLst/>
              <a:gdLst/>
              <a:ahLst/>
              <a:rect l="l" t="t" r="r" b="b"/>
              <a:pathLst>
                <a:path w="361" h="137">
                  <a:moveTo>
                    <a:pt x="3" y="7"/>
                  </a:moveTo>
                  <a:lnTo>
                    <a:pt x="4" y="6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54"/>
                  </a:lnTo>
                  <a:lnTo>
                    <a:pt x="31" y="65"/>
                  </a:lnTo>
                  <a:lnTo>
                    <a:pt x="51" y="73"/>
                  </a:lnTo>
                  <a:lnTo>
                    <a:pt x="75" y="82"/>
                  </a:lnTo>
                  <a:lnTo>
                    <a:pt x="99" y="87"/>
                  </a:lnTo>
                  <a:lnTo>
                    <a:pt x="127" y="93"/>
                  </a:lnTo>
                  <a:lnTo>
                    <a:pt x="157" y="98"/>
                  </a:lnTo>
                  <a:lnTo>
                    <a:pt x="188" y="104"/>
                  </a:lnTo>
                  <a:lnTo>
                    <a:pt x="218" y="108"/>
                  </a:lnTo>
                  <a:lnTo>
                    <a:pt x="249" y="113"/>
                  </a:lnTo>
                  <a:lnTo>
                    <a:pt x="278" y="118"/>
                  </a:lnTo>
                  <a:lnTo>
                    <a:pt x="307" y="124"/>
                  </a:lnTo>
                  <a:lnTo>
                    <a:pt x="331" y="130"/>
                  </a:lnTo>
                  <a:lnTo>
                    <a:pt x="353" y="137"/>
                  </a:lnTo>
                  <a:lnTo>
                    <a:pt x="361" y="115"/>
                  </a:lnTo>
                  <a:lnTo>
                    <a:pt x="336" y="108"/>
                  </a:lnTo>
                  <a:lnTo>
                    <a:pt x="309" y="103"/>
                  </a:lnTo>
                  <a:lnTo>
                    <a:pt x="281" y="96"/>
                  </a:lnTo>
                  <a:lnTo>
                    <a:pt x="251" y="92"/>
                  </a:lnTo>
                  <a:lnTo>
                    <a:pt x="220" y="87"/>
                  </a:lnTo>
                  <a:lnTo>
                    <a:pt x="190" y="83"/>
                  </a:lnTo>
                  <a:lnTo>
                    <a:pt x="159" y="76"/>
                  </a:lnTo>
                  <a:lnTo>
                    <a:pt x="130" y="72"/>
                  </a:lnTo>
                  <a:lnTo>
                    <a:pt x="104" y="66"/>
                  </a:lnTo>
                  <a:lnTo>
                    <a:pt x="79" y="61"/>
                  </a:lnTo>
                  <a:lnTo>
                    <a:pt x="58" y="54"/>
                  </a:lnTo>
                  <a:lnTo>
                    <a:pt x="41" y="46"/>
                  </a:lnTo>
                  <a:lnTo>
                    <a:pt x="28" y="37"/>
                  </a:lnTo>
                  <a:lnTo>
                    <a:pt x="23" y="31"/>
                  </a:lnTo>
                  <a:lnTo>
                    <a:pt x="21" y="2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3" y="5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027880" y="2297520"/>
              <a:ext cx="210600" cy="687960"/>
            </a:xfrm>
            <a:custGeom>
              <a:avLst/>
              <a:gdLst/>
              <a:ahLst/>
              <a:rect l="l" t="t" r="r" b="b"/>
              <a:pathLst>
                <a:path w="423" h="1490">
                  <a:moveTo>
                    <a:pt x="405" y="0"/>
                  </a:moveTo>
                  <a:lnTo>
                    <a:pt x="405" y="0"/>
                  </a:lnTo>
                  <a:lnTo>
                    <a:pt x="374" y="86"/>
                  </a:lnTo>
                  <a:lnTo>
                    <a:pt x="341" y="174"/>
                  </a:lnTo>
                  <a:lnTo>
                    <a:pt x="314" y="263"/>
                  </a:lnTo>
                  <a:lnTo>
                    <a:pt x="288" y="353"/>
                  </a:lnTo>
                  <a:lnTo>
                    <a:pt x="264" y="445"/>
                  </a:lnTo>
                  <a:lnTo>
                    <a:pt x="241" y="536"/>
                  </a:lnTo>
                  <a:lnTo>
                    <a:pt x="217" y="628"/>
                  </a:lnTo>
                  <a:lnTo>
                    <a:pt x="195" y="723"/>
                  </a:lnTo>
                  <a:lnTo>
                    <a:pt x="173" y="817"/>
                  </a:lnTo>
                  <a:lnTo>
                    <a:pt x="152" y="911"/>
                  </a:lnTo>
                  <a:lnTo>
                    <a:pt x="130" y="1007"/>
                  </a:lnTo>
                  <a:lnTo>
                    <a:pt x="105" y="1102"/>
                  </a:lnTo>
                  <a:lnTo>
                    <a:pt x="82" y="1199"/>
                  </a:lnTo>
                  <a:lnTo>
                    <a:pt x="57" y="1294"/>
                  </a:lnTo>
                  <a:lnTo>
                    <a:pt x="29" y="1390"/>
                  </a:lnTo>
                  <a:lnTo>
                    <a:pt x="0" y="1485"/>
                  </a:lnTo>
                  <a:lnTo>
                    <a:pt x="21" y="1490"/>
                  </a:lnTo>
                  <a:lnTo>
                    <a:pt x="50" y="1394"/>
                  </a:lnTo>
                  <a:lnTo>
                    <a:pt x="78" y="1299"/>
                  </a:lnTo>
                  <a:lnTo>
                    <a:pt x="103" y="1203"/>
                  </a:lnTo>
                  <a:lnTo>
                    <a:pt x="127" y="1108"/>
                  </a:lnTo>
                  <a:lnTo>
                    <a:pt x="151" y="1012"/>
                  </a:lnTo>
                  <a:lnTo>
                    <a:pt x="173" y="917"/>
                  </a:lnTo>
                  <a:lnTo>
                    <a:pt x="194" y="823"/>
                  </a:lnTo>
                  <a:lnTo>
                    <a:pt x="216" y="728"/>
                  </a:lnTo>
                  <a:lnTo>
                    <a:pt x="238" y="634"/>
                  </a:lnTo>
                  <a:lnTo>
                    <a:pt x="262" y="542"/>
                  </a:lnTo>
                  <a:lnTo>
                    <a:pt x="285" y="450"/>
                  </a:lnTo>
                  <a:lnTo>
                    <a:pt x="309" y="357"/>
                  </a:lnTo>
                  <a:lnTo>
                    <a:pt x="336" y="267"/>
                  </a:lnTo>
                  <a:lnTo>
                    <a:pt x="363" y="180"/>
                  </a:lnTo>
                  <a:lnTo>
                    <a:pt x="392" y="93"/>
                  </a:lnTo>
                  <a:lnTo>
                    <a:pt x="423" y="7"/>
                  </a:lnTo>
                  <a:lnTo>
                    <a:pt x="423" y="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231280" y="2244600"/>
              <a:ext cx="165240" cy="57600"/>
            </a:xfrm>
            <a:custGeom>
              <a:avLst/>
              <a:gdLst/>
              <a:ahLst/>
              <a:rect l="l" t="t" r="r" b="b"/>
              <a:pathLst>
                <a:path w="333" h="123">
                  <a:moveTo>
                    <a:pt x="333" y="8"/>
                  </a:moveTo>
                  <a:lnTo>
                    <a:pt x="322" y="0"/>
                  </a:lnTo>
                  <a:lnTo>
                    <a:pt x="300" y="3"/>
                  </a:lnTo>
                  <a:lnTo>
                    <a:pt x="277" y="4"/>
                  </a:lnTo>
                  <a:lnTo>
                    <a:pt x="254" y="5"/>
                  </a:lnTo>
                  <a:lnTo>
                    <a:pt x="231" y="5"/>
                  </a:lnTo>
                  <a:lnTo>
                    <a:pt x="207" y="6"/>
                  </a:lnTo>
                  <a:lnTo>
                    <a:pt x="184" y="8"/>
                  </a:lnTo>
                  <a:lnTo>
                    <a:pt x="160" y="10"/>
                  </a:lnTo>
                  <a:lnTo>
                    <a:pt x="139" y="15"/>
                  </a:lnTo>
                  <a:lnTo>
                    <a:pt x="116" y="19"/>
                  </a:lnTo>
                  <a:lnTo>
                    <a:pt x="95" y="26"/>
                  </a:lnTo>
                  <a:lnTo>
                    <a:pt x="75" y="35"/>
                  </a:lnTo>
                  <a:lnTo>
                    <a:pt x="56" y="45"/>
                  </a:lnTo>
                  <a:lnTo>
                    <a:pt x="38" y="58"/>
                  </a:lnTo>
                  <a:lnTo>
                    <a:pt x="24" y="74"/>
                  </a:lnTo>
                  <a:lnTo>
                    <a:pt x="11" y="94"/>
                  </a:lnTo>
                  <a:lnTo>
                    <a:pt x="0" y="116"/>
                  </a:lnTo>
                  <a:lnTo>
                    <a:pt x="18" y="123"/>
                  </a:lnTo>
                  <a:lnTo>
                    <a:pt x="30" y="103"/>
                  </a:lnTo>
                  <a:lnTo>
                    <a:pt x="40" y="88"/>
                  </a:lnTo>
                  <a:lnTo>
                    <a:pt x="53" y="75"/>
                  </a:lnTo>
                  <a:lnTo>
                    <a:pt x="68" y="61"/>
                  </a:lnTo>
                  <a:lnTo>
                    <a:pt x="85" y="54"/>
                  </a:lnTo>
                  <a:lnTo>
                    <a:pt x="103" y="45"/>
                  </a:lnTo>
                  <a:lnTo>
                    <a:pt x="122" y="40"/>
                  </a:lnTo>
                  <a:lnTo>
                    <a:pt x="142" y="36"/>
                  </a:lnTo>
                  <a:lnTo>
                    <a:pt x="163" y="33"/>
                  </a:lnTo>
                  <a:lnTo>
                    <a:pt x="184" y="29"/>
                  </a:lnTo>
                  <a:lnTo>
                    <a:pt x="207" y="27"/>
                  </a:lnTo>
                  <a:lnTo>
                    <a:pt x="231" y="26"/>
                  </a:lnTo>
                  <a:lnTo>
                    <a:pt x="254" y="26"/>
                  </a:lnTo>
                  <a:lnTo>
                    <a:pt x="277" y="25"/>
                  </a:lnTo>
                  <a:lnTo>
                    <a:pt x="300" y="24"/>
                  </a:lnTo>
                  <a:lnTo>
                    <a:pt x="322" y="21"/>
                  </a:lnTo>
                  <a:lnTo>
                    <a:pt x="312" y="14"/>
                  </a:lnTo>
                  <a:lnTo>
                    <a:pt x="322" y="21"/>
                  </a:lnTo>
                  <a:lnTo>
                    <a:pt x="331" y="18"/>
                  </a:lnTo>
                  <a:lnTo>
                    <a:pt x="333" y="10"/>
                  </a:lnTo>
                  <a:lnTo>
                    <a:pt x="331" y="4"/>
                  </a:lnTo>
                  <a:lnTo>
                    <a:pt x="322" y="0"/>
                  </a:lnTo>
                  <a:lnTo>
                    <a:pt x="3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519280" y="2246760"/>
              <a:ext cx="64440" cy="484920"/>
            </a:xfrm>
            <a:custGeom>
              <a:avLst/>
              <a:gdLst/>
              <a:ahLst/>
              <a:rect l="l" t="t" r="r" b="b"/>
              <a:pathLst>
                <a:path w="132" h="1049">
                  <a:moveTo>
                    <a:pt x="62" y="2"/>
                  </a:moveTo>
                  <a:lnTo>
                    <a:pt x="73" y="32"/>
                  </a:lnTo>
                  <a:lnTo>
                    <a:pt x="83" y="72"/>
                  </a:lnTo>
                  <a:lnTo>
                    <a:pt x="95" y="120"/>
                  </a:lnTo>
                  <a:lnTo>
                    <a:pt x="105" y="174"/>
                  </a:lnTo>
                  <a:lnTo>
                    <a:pt x="115" y="230"/>
                  </a:lnTo>
                  <a:lnTo>
                    <a:pt x="123" y="285"/>
                  </a:lnTo>
                  <a:lnTo>
                    <a:pt x="130" y="338"/>
                  </a:lnTo>
                  <a:lnTo>
                    <a:pt x="132" y="384"/>
                  </a:lnTo>
                  <a:lnTo>
                    <a:pt x="130" y="392"/>
                  </a:lnTo>
                  <a:lnTo>
                    <a:pt x="124" y="396"/>
                  </a:lnTo>
                  <a:lnTo>
                    <a:pt x="118" y="401"/>
                  </a:lnTo>
                  <a:lnTo>
                    <a:pt x="110" y="403"/>
                  </a:lnTo>
                  <a:lnTo>
                    <a:pt x="101" y="406"/>
                  </a:lnTo>
                  <a:lnTo>
                    <a:pt x="93" y="409"/>
                  </a:lnTo>
                  <a:lnTo>
                    <a:pt x="87" y="414"/>
                  </a:lnTo>
                  <a:lnTo>
                    <a:pt x="84" y="419"/>
                  </a:lnTo>
                  <a:lnTo>
                    <a:pt x="92" y="426"/>
                  </a:lnTo>
                  <a:lnTo>
                    <a:pt x="100" y="430"/>
                  </a:lnTo>
                  <a:lnTo>
                    <a:pt x="109" y="434"/>
                  </a:lnTo>
                  <a:lnTo>
                    <a:pt x="116" y="437"/>
                  </a:lnTo>
                  <a:lnTo>
                    <a:pt x="123" y="440"/>
                  </a:lnTo>
                  <a:lnTo>
                    <a:pt x="130" y="448"/>
                  </a:lnTo>
                  <a:lnTo>
                    <a:pt x="132" y="456"/>
                  </a:lnTo>
                  <a:lnTo>
                    <a:pt x="131" y="469"/>
                  </a:lnTo>
                  <a:lnTo>
                    <a:pt x="122" y="534"/>
                  </a:lnTo>
                  <a:lnTo>
                    <a:pt x="116" y="599"/>
                  </a:lnTo>
                  <a:lnTo>
                    <a:pt x="111" y="663"/>
                  </a:lnTo>
                  <a:lnTo>
                    <a:pt x="104" y="728"/>
                  </a:lnTo>
                  <a:lnTo>
                    <a:pt x="98" y="791"/>
                  </a:lnTo>
                  <a:lnTo>
                    <a:pt x="90" y="855"/>
                  </a:lnTo>
                  <a:lnTo>
                    <a:pt x="80" y="918"/>
                  </a:lnTo>
                  <a:lnTo>
                    <a:pt x="67" y="980"/>
                  </a:lnTo>
                  <a:lnTo>
                    <a:pt x="63" y="998"/>
                  </a:lnTo>
                  <a:lnTo>
                    <a:pt x="57" y="1015"/>
                  </a:lnTo>
                  <a:lnTo>
                    <a:pt x="49" y="1032"/>
                  </a:lnTo>
                  <a:lnTo>
                    <a:pt x="46" y="1049"/>
                  </a:lnTo>
                  <a:lnTo>
                    <a:pt x="41" y="880"/>
                  </a:lnTo>
                  <a:lnTo>
                    <a:pt x="30" y="705"/>
                  </a:lnTo>
                  <a:lnTo>
                    <a:pt x="19" y="530"/>
                  </a:lnTo>
                  <a:lnTo>
                    <a:pt x="14" y="358"/>
                  </a:lnTo>
                  <a:lnTo>
                    <a:pt x="11" y="278"/>
                  </a:lnTo>
                  <a:lnTo>
                    <a:pt x="7" y="193"/>
                  </a:lnTo>
                  <a:lnTo>
                    <a:pt x="2" y="111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9" y="23"/>
                  </a:lnTo>
                  <a:lnTo>
                    <a:pt x="18" y="16"/>
                  </a:lnTo>
                  <a:lnTo>
                    <a:pt x="28" y="11"/>
                  </a:lnTo>
                  <a:lnTo>
                    <a:pt x="39" y="4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544480" y="2246760"/>
              <a:ext cx="44640" cy="177840"/>
            </a:xfrm>
            <a:custGeom>
              <a:avLst/>
              <a:gdLst/>
              <a:ahLst/>
              <a:rect l="l" t="t" r="r" b="b"/>
              <a:pathLst>
                <a:path w="89" h="385">
                  <a:moveTo>
                    <a:pt x="89" y="385"/>
                  </a:moveTo>
                  <a:lnTo>
                    <a:pt x="89" y="385"/>
                  </a:lnTo>
                  <a:lnTo>
                    <a:pt x="87" y="339"/>
                  </a:lnTo>
                  <a:lnTo>
                    <a:pt x="81" y="285"/>
                  </a:lnTo>
                  <a:lnTo>
                    <a:pt x="72" y="229"/>
                  </a:lnTo>
                  <a:lnTo>
                    <a:pt x="63" y="174"/>
                  </a:lnTo>
                  <a:lnTo>
                    <a:pt x="52" y="120"/>
                  </a:lnTo>
                  <a:lnTo>
                    <a:pt x="41" y="71"/>
                  </a:lnTo>
                  <a:lnTo>
                    <a:pt x="30" y="31"/>
                  </a:lnTo>
                  <a:lnTo>
                    <a:pt x="19" y="0"/>
                  </a:lnTo>
                  <a:lnTo>
                    <a:pt x="0" y="6"/>
                  </a:lnTo>
                  <a:lnTo>
                    <a:pt x="9" y="35"/>
                  </a:lnTo>
                  <a:lnTo>
                    <a:pt x="20" y="75"/>
                  </a:lnTo>
                  <a:lnTo>
                    <a:pt x="31" y="123"/>
                  </a:lnTo>
                  <a:lnTo>
                    <a:pt x="42" y="176"/>
                  </a:lnTo>
                  <a:lnTo>
                    <a:pt x="51" y="232"/>
                  </a:lnTo>
                  <a:lnTo>
                    <a:pt x="60" y="287"/>
                  </a:lnTo>
                  <a:lnTo>
                    <a:pt x="66" y="339"/>
                  </a:lnTo>
                  <a:lnTo>
                    <a:pt x="68" y="385"/>
                  </a:lnTo>
                  <a:lnTo>
                    <a:pt x="68" y="385"/>
                  </a:lnTo>
                  <a:lnTo>
                    <a:pt x="89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54200" y="2424600"/>
              <a:ext cx="34920" cy="2016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19" y="29"/>
                  </a:moveTo>
                  <a:lnTo>
                    <a:pt x="21" y="37"/>
                  </a:lnTo>
                  <a:lnTo>
                    <a:pt x="21" y="35"/>
                  </a:lnTo>
                  <a:lnTo>
                    <a:pt x="24" y="34"/>
                  </a:lnTo>
                  <a:lnTo>
                    <a:pt x="30" y="31"/>
                  </a:lnTo>
                  <a:lnTo>
                    <a:pt x="38" y="30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5" y="12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6" y="3"/>
                  </a:lnTo>
                  <a:lnTo>
                    <a:pt x="45" y="4"/>
                  </a:lnTo>
                  <a:lnTo>
                    <a:pt x="40" y="8"/>
                  </a:lnTo>
                  <a:lnTo>
                    <a:pt x="33" y="9"/>
                  </a:lnTo>
                  <a:lnTo>
                    <a:pt x="24" y="12"/>
                  </a:lnTo>
                  <a:lnTo>
                    <a:pt x="14" y="15"/>
                  </a:lnTo>
                  <a:lnTo>
                    <a:pt x="5" y="24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9" y="46"/>
                  </a:lnTo>
                  <a:lnTo>
                    <a:pt x="18" y="44"/>
                  </a:lnTo>
                  <a:lnTo>
                    <a:pt x="21" y="37"/>
                  </a:lnTo>
                  <a:lnTo>
                    <a:pt x="1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57080" y="2436120"/>
              <a:ext cx="32040" cy="3240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64" y="57"/>
                  </a:moveTo>
                  <a:lnTo>
                    <a:pt x="64" y="57"/>
                  </a:lnTo>
                  <a:lnTo>
                    <a:pt x="65" y="43"/>
                  </a:lnTo>
                  <a:lnTo>
                    <a:pt x="62" y="31"/>
                  </a:lnTo>
                  <a:lnTo>
                    <a:pt x="53" y="20"/>
                  </a:lnTo>
                  <a:lnTo>
                    <a:pt x="43" y="15"/>
                  </a:lnTo>
                  <a:lnTo>
                    <a:pt x="35" y="12"/>
                  </a:lnTo>
                  <a:lnTo>
                    <a:pt x="27" y="8"/>
                  </a:lnTo>
                  <a:lnTo>
                    <a:pt x="21" y="4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8" y="21"/>
                  </a:lnTo>
                  <a:lnTo>
                    <a:pt x="18" y="26"/>
                  </a:lnTo>
                  <a:lnTo>
                    <a:pt x="27" y="31"/>
                  </a:lnTo>
                  <a:lnTo>
                    <a:pt x="36" y="34"/>
                  </a:lnTo>
                  <a:lnTo>
                    <a:pt x="41" y="36"/>
                  </a:lnTo>
                  <a:lnTo>
                    <a:pt x="43" y="40"/>
                  </a:lnTo>
                  <a:lnTo>
                    <a:pt x="44" y="43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5" y="63"/>
                  </a:lnTo>
                  <a:lnTo>
                    <a:pt x="53" y="67"/>
                  </a:lnTo>
                  <a:lnTo>
                    <a:pt x="61" y="64"/>
                  </a:lnTo>
                  <a:lnTo>
                    <a:pt x="64" y="57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546640" y="2461320"/>
              <a:ext cx="42480" cy="237600"/>
            </a:xfrm>
            <a:custGeom>
              <a:avLst/>
              <a:gdLst/>
              <a:ahLst/>
              <a:rect l="l" t="t" r="r" b="b"/>
              <a:pathLst>
                <a:path w="84" h="514">
                  <a:moveTo>
                    <a:pt x="21" y="512"/>
                  </a:moveTo>
                  <a:lnTo>
                    <a:pt x="21" y="514"/>
                  </a:lnTo>
                  <a:lnTo>
                    <a:pt x="34" y="451"/>
                  </a:lnTo>
                  <a:lnTo>
                    <a:pt x="43" y="388"/>
                  </a:lnTo>
                  <a:lnTo>
                    <a:pt x="52" y="324"/>
                  </a:lnTo>
                  <a:lnTo>
                    <a:pt x="58" y="260"/>
                  </a:lnTo>
                  <a:lnTo>
                    <a:pt x="64" y="195"/>
                  </a:lnTo>
                  <a:lnTo>
                    <a:pt x="71" y="131"/>
                  </a:lnTo>
                  <a:lnTo>
                    <a:pt x="76" y="67"/>
                  </a:lnTo>
                  <a:lnTo>
                    <a:pt x="84" y="2"/>
                  </a:lnTo>
                  <a:lnTo>
                    <a:pt x="63" y="0"/>
                  </a:lnTo>
                  <a:lnTo>
                    <a:pt x="55" y="65"/>
                  </a:lnTo>
                  <a:lnTo>
                    <a:pt x="48" y="131"/>
                  </a:lnTo>
                  <a:lnTo>
                    <a:pt x="43" y="195"/>
                  </a:lnTo>
                  <a:lnTo>
                    <a:pt x="37" y="260"/>
                  </a:lnTo>
                  <a:lnTo>
                    <a:pt x="30" y="322"/>
                  </a:lnTo>
                  <a:lnTo>
                    <a:pt x="22" y="386"/>
                  </a:lnTo>
                  <a:lnTo>
                    <a:pt x="12" y="449"/>
                  </a:lnTo>
                  <a:lnTo>
                    <a:pt x="0" y="510"/>
                  </a:lnTo>
                  <a:lnTo>
                    <a:pt x="0" y="512"/>
                  </a:lnTo>
                  <a:lnTo>
                    <a:pt x="21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536920" y="2699280"/>
              <a:ext cx="19800" cy="37080"/>
            </a:xfrm>
            <a:custGeom>
              <a:avLst/>
              <a:gdLst/>
              <a:ahLst/>
              <a:rect l="l" t="t" r="r" b="b"/>
              <a:pathLst>
                <a:path w="42" h="79">
                  <a:moveTo>
                    <a:pt x="0" y="69"/>
                  </a:moveTo>
                  <a:lnTo>
                    <a:pt x="21" y="69"/>
                  </a:lnTo>
                  <a:lnTo>
                    <a:pt x="24" y="54"/>
                  </a:lnTo>
                  <a:lnTo>
                    <a:pt x="29" y="38"/>
                  </a:lnTo>
                  <a:lnTo>
                    <a:pt x="38" y="2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7" y="16"/>
                  </a:lnTo>
                  <a:lnTo>
                    <a:pt x="11" y="31"/>
                  </a:lnTo>
                  <a:lnTo>
                    <a:pt x="3" y="50"/>
                  </a:lnTo>
                  <a:lnTo>
                    <a:pt x="0" y="69"/>
                  </a:lnTo>
                  <a:lnTo>
                    <a:pt x="21" y="69"/>
                  </a:lnTo>
                  <a:lnTo>
                    <a:pt x="0" y="69"/>
                  </a:lnTo>
                  <a:lnTo>
                    <a:pt x="3" y="77"/>
                  </a:lnTo>
                  <a:lnTo>
                    <a:pt x="10" y="79"/>
                  </a:lnTo>
                  <a:lnTo>
                    <a:pt x="17" y="77"/>
                  </a:lnTo>
                  <a:lnTo>
                    <a:pt x="21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519280" y="2410560"/>
              <a:ext cx="27000" cy="320760"/>
            </a:xfrm>
            <a:custGeom>
              <a:avLst/>
              <a:gdLst/>
              <a:ahLst/>
              <a:rect l="l" t="t" r="r" b="b"/>
              <a:pathLst>
                <a:path w="54" h="691">
                  <a:moveTo>
                    <a:pt x="0" y="0"/>
                  </a:moveTo>
                  <a:lnTo>
                    <a:pt x="0" y="0"/>
                  </a:lnTo>
                  <a:lnTo>
                    <a:pt x="5" y="172"/>
                  </a:lnTo>
                  <a:lnTo>
                    <a:pt x="17" y="347"/>
                  </a:lnTo>
                  <a:lnTo>
                    <a:pt x="27" y="522"/>
                  </a:lnTo>
                  <a:lnTo>
                    <a:pt x="33" y="691"/>
                  </a:lnTo>
                  <a:lnTo>
                    <a:pt x="54" y="691"/>
                  </a:lnTo>
                  <a:lnTo>
                    <a:pt x="49" y="522"/>
                  </a:lnTo>
                  <a:lnTo>
                    <a:pt x="38" y="347"/>
                  </a:lnTo>
                  <a:lnTo>
                    <a:pt x="26" y="17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511360" y="2258280"/>
              <a:ext cx="17280" cy="152280"/>
            </a:xfrm>
            <a:custGeom>
              <a:avLst/>
              <a:gdLst/>
              <a:ahLst/>
              <a:rect l="l" t="t" r="r" b="b"/>
              <a:pathLst>
                <a:path w="35" h="333">
                  <a:moveTo>
                    <a:pt x="0" y="9"/>
                  </a:moveTo>
                  <a:lnTo>
                    <a:pt x="0" y="11"/>
                  </a:lnTo>
                  <a:lnTo>
                    <a:pt x="2" y="86"/>
                  </a:lnTo>
                  <a:lnTo>
                    <a:pt x="8" y="168"/>
                  </a:lnTo>
                  <a:lnTo>
                    <a:pt x="12" y="253"/>
                  </a:lnTo>
                  <a:lnTo>
                    <a:pt x="14" y="333"/>
                  </a:lnTo>
                  <a:lnTo>
                    <a:pt x="35" y="333"/>
                  </a:lnTo>
                  <a:lnTo>
                    <a:pt x="33" y="253"/>
                  </a:lnTo>
                  <a:lnTo>
                    <a:pt x="29" y="168"/>
                  </a:lnTo>
                  <a:lnTo>
                    <a:pt x="23" y="86"/>
                  </a:lnTo>
                  <a:lnTo>
                    <a:pt x="21" y="11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511360" y="2242080"/>
              <a:ext cx="42480" cy="2304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83" y="9"/>
                  </a:moveTo>
                  <a:lnTo>
                    <a:pt x="80" y="4"/>
                  </a:lnTo>
                  <a:lnTo>
                    <a:pt x="68" y="0"/>
                  </a:lnTo>
                  <a:lnTo>
                    <a:pt x="57" y="1"/>
                  </a:lnTo>
                  <a:lnTo>
                    <a:pt x="47" y="5"/>
                  </a:lnTo>
                  <a:lnTo>
                    <a:pt x="34" y="11"/>
                  </a:lnTo>
                  <a:lnTo>
                    <a:pt x="22" y="19"/>
                  </a:lnTo>
                  <a:lnTo>
                    <a:pt x="13" y="26"/>
                  </a:lnTo>
                  <a:lnTo>
                    <a:pt x="7" y="34"/>
                  </a:lnTo>
                  <a:lnTo>
                    <a:pt x="0" y="44"/>
                  </a:lnTo>
                  <a:lnTo>
                    <a:pt x="21" y="49"/>
                  </a:lnTo>
                  <a:lnTo>
                    <a:pt x="22" y="46"/>
                  </a:lnTo>
                  <a:lnTo>
                    <a:pt x="28" y="41"/>
                  </a:lnTo>
                  <a:lnTo>
                    <a:pt x="34" y="34"/>
                  </a:lnTo>
                  <a:lnTo>
                    <a:pt x="44" y="30"/>
                  </a:lnTo>
                  <a:lnTo>
                    <a:pt x="53" y="24"/>
                  </a:lnTo>
                  <a:lnTo>
                    <a:pt x="61" y="22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64" y="15"/>
                  </a:lnTo>
                  <a:lnTo>
                    <a:pt x="67" y="21"/>
                  </a:lnTo>
                  <a:lnTo>
                    <a:pt x="74" y="23"/>
                  </a:lnTo>
                  <a:lnTo>
                    <a:pt x="82" y="20"/>
                  </a:lnTo>
                  <a:lnTo>
                    <a:pt x="84" y="12"/>
                  </a:lnTo>
                  <a:lnTo>
                    <a:pt x="80" y="4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76360" y="1939680"/>
              <a:ext cx="248040" cy="403560"/>
            </a:xfrm>
            <a:custGeom>
              <a:avLst/>
              <a:gdLst/>
              <a:ahLst/>
              <a:rect l="l" t="t" r="r" b="b"/>
              <a:pathLst>
                <a:path w="497" h="873">
                  <a:moveTo>
                    <a:pt x="276" y="0"/>
                  </a:moveTo>
                  <a:lnTo>
                    <a:pt x="291" y="6"/>
                  </a:lnTo>
                  <a:lnTo>
                    <a:pt x="305" y="12"/>
                  </a:lnTo>
                  <a:lnTo>
                    <a:pt x="321" y="18"/>
                  </a:lnTo>
                  <a:lnTo>
                    <a:pt x="336" y="24"/>
                  </a:lnTo>
                  <a:lnTo>
                    <a:pt x="351" y="32"/>
                  </a:lnTo>
                  <a:lnTo>
                    <a:pt x="366" y="40"/>
                  </a:lnTo>
                  <a:lnTo>
                    <a:pt x="382" y="49"/>
                  </a:lnTo>
                  <a:lnTo>
                    <a:pt x="396" y="58"/>
                  </a:lnTo>
                  <a:lnTo>
                    <a:pt x="412" y="69"/>
                  </a:lnTo>
                  <a:lnTo>
                    <a:pt x="424" y="78"/>
                  </a:lnTo>
                  <a:lnTo>
                    <a:pt x="437" y="90"/>
                  </a:lnTo>
                  <a:lnTo>
                    <a:pt x="449" y="100"/>
                  </a:lnTo>
                  <a:lnTo>
                    <a:pt x="458" y="113"/>
                  </a:lnTo>
                  <a:lnTo>
                    <a:pt x="468" y="127"/>
                  </a:lnTo>
                  <a:lnTo>
                    <a:pt x="475" y="139"/>
                  </a:lnTo>
                  <a:lnTo>
                    <a:pt x="479" y="153"/>
                  </a:lnTo>
                  <a:lnTo>
                    <a:pt x="486" y="188"/>
                  </a:lnTo>
                  <a:lnTo>
                    <a:pt x="484" y="221"/>
                  </a:lnTo>
                  <a:lnTo>
                    <a:pt x="479" y="252"/>
                  </a:lnTo>
                  <a:lnTo>
                    <a:pt x="473" y="284"/>
                  </a:lnTo>
                  <a:lnTo>
                    <a:pt x="465" y="318"/>
                  </a:lnTo>
                  <a:lnTo>
                    <a:pt x="460" y="350"/>
                  </a:lnTo>
                  <a:lnTo>
                    <a:pt x="460" y="382"/>
                  </a:lnTo>
                  <a:lnTo>
                    <a:pt x="469" y="416"/>
                  </a:lnTo>
                  <a:lnTo>
                    <a:pt x="472" y="425"/>
                  </a:lnTo>
                  <a:lnTo>
                    <a:pt x="476" y="435"/>
                  </a:lnTo>
                  <a:lnTo>
                    <a:pt x="482" y="445"/>
                  </a:lnTo>
                  <a:lnTo>
                    <a:pt x="488" y="455"/>
                  </a:lnTo>
                  <a:lnTo>
                    <a:pt x="493" y="466"/>
                  </a:lnTo>
                  <a:lnTo>
                    <a:pt x="496" y="477"/>
                  </a:lnTo>
                  <a:lnTo>
                    <a:pt x="497" y="488"/>
                  </a:lnTo>
                  <a:lnTo>
                    <a:pt x="496" y="498"/>
                  </a:lnTo>
                  <a:lnTo>
                    <a:pt x="489" y="504"/>
                  </a:lnTo>
                  <a:lnTo>
                    <a:pt x="479" y="507"/>
                  </a:lnTo>
                  <a:lnTo>
                    <a:pt x="467" y="511"/>
                  </a:lnTo>
                  <a:lnTo>
                    <a:pt x="454" y="513"/>
                  </a:lnTo>
                  <a:lnTo>
                    <a:pt x="441" y="516"/>
                  </a:lnTo>
                  <a:lnTo>
                    <a:pt x="431" y="521"/>
                  </a:lnTo>
                  <a:lnTo>
                    <a:pt x="422" y="524"/>
                  </a:lnTo>
                  <a:lnTo>
                    <a:pt x="419" y="527"/>
                  </a:lnTo>
                  <a:lnTo>
                    <a:pt x="414" y="545"/>
                  </a:lnTo>
                  <a:lnTo>
                    <a:pt x="408" y="571"/>
                  </a:lnTo>
                  <a:lnTo>
                    <a:pt x="403" y="602"/>
                  </a:lnTo>
                  <a:lnTo>
                    <a:pt x="397" y="634"/>
                  </a:lnTo>
                  <a:lnTo>
                    <a:pt x="392" y="666"/>
                  </a:lnTo>
                  <a:lnTo>
                    <a:pt x="385" y="696"/>
                  </a:lnTo>
                  <a:lnTo>
                    <a:pt x="380" y="721"/>
                  </a:lnTo>
                  <a:lnTo>
                    <a:pt x="373" y="737"/>
                  </a:lnTo>
                  <a:lnTo>
                    <a:pt x="368" y="738"/>
                  </a:lnTo>
                  <a:lnTo>
                    <a:pt x="363" y="736"/>
                  </a:lnTo>
                  <a:lnTo>
                    <a:pt x="356" y="734"/>
                  </a:lnTo>
                  <a:lnTo>
                    <a:pt x="346" y="729"/>
                  </a:lnTo>
                  <a:lnTo>
                    <a:pt x="339" y="747"/>
                  </a:lnTo>
                  <a:lnTo>
                    <a:pt x="326" y="767"/>
                  </a:lnTo>
                  <a:lnTo>
                    <a:pt x="312" y="790"/>
                  </a:lnTo>
                  <a:lnTo>
                    <a:pt x="297" y="813"/>
                  </a:lnTo>
                  <a:lnTo>
                    <a:pt x="280" y="834"/>
                  </a:lnTo>
                  <a:lnTo>
                    <a:pt x="263" y="853"/>
                  </a:lnTo>
                  <a:lnTo>
                    <a:pt x="245" y="866"/>
                  </a:lnTo>
                  <a:lnTo>
                    <a:pt x="228" y="873"/>
                  </a:lnTo>
                  <a:lnTo>
                    <a:pt x="213" y="866"/>
                  </a:lnTo>
                  <a:lnTo>
                    <a:pt x="199" y="859"/>
                  </a:lnTo>
                  <a:lnTo>
                    <a:pt x="186" y="850"/>
                  </a:lnTo>
                  <a:lnTo>
                    <a:pt x="172" y="842"/>
                  </a:lnTo>
                  <a:lnTo>
                    <a:pt x="158" y="830"/>
                  </a:lnTo>
                  <a:lnTo>
                    <a:pt x="144" y="819"/>
                  </a:lnTo>
                  <a:lnTo>
                    <a:pt x="132" y="809"/>
                  </a:lnTo>
                  <a:lnTo>
                    <a:pt x="119" y="797"/>
                  </a:lnTo>
                  <a:lnTo>
                    <a:pt x="107" y="786"/>
                  </a:lnTo>
                  <a:lnTo>
                    <a:pt x="96" y="774"/>
                  </a:lnTo>
                  <a:lnTo>
                    <a:pt x="84" y="762"/>
                  </a:lnTo>
                  <a:lnTo>
                    <a:pt x="72" y="751"/>
                  </a:lnTo>
                  <a:lnTo>
                    <a:pt x="61" y="737"/>
                  </a:lnTo>
                  <a:lnTo>
                    <a:pt x="50" y="725"/>
                  </a:lnTo>
                  <a:lnTo>
                    <a:pt x="40" y="715"/>
                  </a:lnTo>
                  <a:lnTo>
                    <a:pt x="30" y="703"/>
                  </a:lnTo>
                  <a:lnTo>
                    <a:pt x="16" y="658"/>
                  </a:lnTo>
                  <a:lnTo>
                    <a:pt x="6" y="612"/>
                  </a:lnTo>
                  <a:lnTo>
                    <a:pt x="0" y="564"/>
                  </a:lnTo>
                  <a:lnTo>
                    <a:pt x="0" y="514"/>
                  </a:lnTo>
                  <a:lnTo>
                    <a:pt x="4" y="465"/>
                  </a:lnTo>
                  <a:lnTo>
                    <a:pt x="11" y="415"/>
                  </a:lnTo>
                  <a:lnTo>
                    <a:pt x="24" y="365"/>
                  </a:lnTo>
                  <a:lnTo>
                    <a:pt x="39" y="316"/>
                  </a:lnTo>
                  <a:lnTo>
                    <a:pt x="58" y="268"/>
                  </a:lnTo>
                  <a:lnTo>
                    <a:pt x="81" y="222"/>
                  </a:lnTo>
                  <a:lnTo>
                    <a:pt x="106" y="177"/>
                  </a:lnTo>
                  <a:lnTo>
                    <a:pt x="136" y="134"/>
                  </a:lnTo>
                  <a:lnTo>
                    <a:pt x="168" y="95"/>
                  </a:lnTo>
                  <a:lnTo>
                    <a:pt x="201" y="60"/>
                  </a:lnTo>
                  <a:lnTo>
                    <a:pt x="238" y="29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ffe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514240" y="1937160"/>
              <a:ext cx="107280" cy="78480"/>
            </a:xfrm>
            <a:custGeom>
              <a:avLst/>
              <a:gdLst/>
              <a:ahLst/>
              <a:rect l="l" t="t" r="r" b="b"/>
              <a:pathLst>
                <a:path w="215" h="170">
                  <a:moveTo>
                    <a:pt x="215" y="159"/>
                  </a:moveTo>
                  <a:lnTo>
                    <a:pt x="215" y="159"/>
                  </a:lnTo>
                  <a:lnTo>
                    <a:pt x="209" y="143"/>
                  </a:lnTo>
                  <a:lnTo>
                    <a:pt x="202" y="129"/>
                  </a:lnTo>
                  <a:lnTo>
                    <a:pt x="191" y="117"/>
                  </a:lnTo>
                  <a:lnTo>
                    <a:pt x="182" y="102"/>
                  </a:lnTo>
                  <a:lnTo>
                    <a:pt x="169" y="90"/>
                  </a:lnTo>
                  <a:lnTo>
                    <a:pt x="157" y="79"/>
                  </a:lnTo>
                  <a:lnTo>
                    <a:pt x="142" y="69"/>
                  </a:lnTo>
                  <a:lnTo>
                    <a:pt x="127" y="59"/>
                  </a:lnTo>
                  <a:lnTo>
                    <a:pt x="112" y="48"/>
                  </a:lnTo>
                  <a:lnTo>
                    <a:pt x="96" y="40"/>
                  </a:lnTo>
                  <a:lnTo>
                    <a:pt x="81" y="31"/>
                  </a:lnTo>
                  <a:lnTo>
                    <a:pt x="66" y="25"/>
                  </a:lnTo>
                  <a:lnTo>
                    <a:pt x="50" y="18"/>
                  </a:lnTo>
                  <a:lnTo>
                    <a:pt x="35" y="11"/>
                  </a:lnTo>
                  <a:lnTo>
                    <a:pt x="20" y="6"/>
                  </a:lnTo>
                  <a:lnTo>
                    <a:pt x="6" y="0"/>
                  </a:lnTo>
                  <a:lnTo>
                    <a:pt x="0" y="16"/>
                  </a:lnTo>
                  <a:lnTo>
                    <a:pt x="14" y="22"/>
                  </a:lnTo>
                  <a:lnTo>
                    <a:pt x="28" y="28"/>
                  </a:lnTo>
                  <a:lnTo>
                    <a:pt x="43" y="34"/>
                  </a:lnTo>
                  <a:lnTo>
                    <a:pt x="58" y="41"/>
                  </a:lnTo>
                  <a:lnTo>
                    <a:pt x="73" y="48"/>
                  </a:lnTo>
                  <a:lnTo>
                    <a:pt x="89" y="57"/>
                  </a:lnTo>
                  <a:lnTo>
                    <a:pt x="103" y="65"/>
                  </a:lnTo>
                  <a:lnTo>
                    <a:pt x="118" y="72"/>
                  </a:lnTo>
                  <a:lnTo>
                    <a:pt x="132" y="83"/>
                  </a:lnTo>
                  <a:lnTo>
                    <a:pt x="144" y="93"/>
                  </a:lnTo>
                  <a:lnTo>
                    <a:pt x="158" y="105"/>
                  </a:lnTo>
                  <a:lnTo>
                    <a:pt x="168" y="115"/>
                  </a:lnTo>
                  <a:lnTo>
                    <a:pt x="178" y="126"/>
                  </a:lnTo>
                  <a:lnTo>
                    <a:pt x="185" y="139"/>
                  </a:lnTo>
                  <a:lnTo>
                    <a:pt x="193" y="151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201" y="170"/>
                  </a:lnTo>
                  <a:lnTo>
                    <a:pt x="208" y="170"/>
                  </a:lnTo>
                  <a:lnTo>
                    <a:pt x="214" y="166"/>
                  </a:lnTo>
                  <a:lnTo>
                    <a:pt x="215" y="159"/>
                  </a:lnTo>
                  <a:lnTo>
                    <a:pt x="215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601720" y="2010960"/>
              <a:ext cx="22680" cy="124920"/>
            </a:xfrm>
            <a:custGeom>
              <a:avLst/>
              <a:gdLst/>
              <a:ahLst/>
              <a:rect l="l" t="t" r="r" b="b"/>
              <a:pathLst>
                <a:path w="43" h="274">
                  <a:moveTo>
                    <a:pt x="26" y="264"/>
                  </a:moveTo>
                  <a:lnTo>
                    <a:pt x="25" y="263"/>
                  </a:lnTo>
                  <a:lnTo>
                    <a:pt x="18" y="231"/>
                  </a:lnTo>
                  <a:lnTo>
                    <a:pt x="18" y="199"/>
                  </a:lnTo>
                  <a:lnTo>
                    <a:pt x="23" y="168"/>
                  </a:lnTo>
                  <a:lnTo>
                    <a:pt x="30" y="134"/>
                  </a:lnTo>
                  <a:lnTo>
                    <a:pt x="37" y="102"/>
                  </a:lnTo>
                  <a:lnTo>
                    <a:pt x="42" y="70"/>
                  </a:lnTo>
                  <a:lnTo>
                    <a:pt x="43" y="37"/>
                  </a:lnTo>
                  <a:lnTo>
                    <a:pt x="37" y="0"/>
                  </a:lnTo>
                  <a:lnTo>
                    <a:pt x="18" y="4"/>
                  </a:lnTo>
                  <a:lnTo>
                    <a:pt x="24" y="37"/>
                  </a:lnTo>
                  <a:lnTo>
                    <a:pt x="23" y="70"/>
                  </a:lnTo>
                  <a:lnTo>
                    <a:pt x="18" y="100"/>
                  </a:lnTo>
                  <a:lnTo>
                    <a:pt x="11" y="132"/>
                  </a:lnTo>
                  <a:lnTo>
                    <a:pt x="4" y="165"/>
                  </a:lnTo>
                  <a:lnTo>
                    <a:pt x="0" y="199"/>
                  </a:lnTo>
                  <a:lnTo>
                    <a:pt x="0" y="231"/>
                  </a:lnTo>
                  <a:lnTo>
                    <a:pt x="8" y="268"/>
                  </a:lnTo>
                  <a:lnTo>
                    <a:pt x="7" y="266"/>
                  </a:lnTo>
                  <a:lnTo>
                    <a:pt x="8" y="268"/>
                  </a:lnTo>
                  <a:lnTo>
                    <a:pt x="12" y="272"/>
                  </a:lnTo>
                  <a:lnTo>
                    <a:pt x="20" y="274"/>
                  </a:lnTo>
                  <a:lnTo>
                    <a:pt x="24" y="270"/>
                  </a:lnTo>
                  <a:lnTo>
                    <a:pt x="25" y="263"/>
                  </a:lnTo>
                  <a:lnTo>
                    <a:pt x="2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606760" y="2131560"/>
              <a:ext cx="22680" cy="4320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44" y="90"/>
                  </a:moveTo>
                  <a:lnTo>
                    <a:pt x="46" y="87"/>
                  </a:lnTo>
                  <a:lnTo>
                    <a:pt x="48" y="73"/>
                  </a:lnTo>
                  <a:lnTo>
                    <a:pt x="47" y="61"/>
                  </a:lnTo>
                  <a:lnTo>
                    <a:pt x="41" y="49"/>
                  </a:lnTo>
                  <a:lnTo>
                    <a:pt x="37" y="37"/>
                  </a:lnTo>
                  <a:lnTo>
                    <a:pt x="31" y="25"/>
                  </a:lnTo>
                  <a:lnTo>
                    <a:pt x="25" y="17"/>
                  </a:lnTo>
                  <a:lnTo>
                    <a:pt x="20" y="7"/>
                  </a:lnTo>
                  <a:lnTo>
                    <a:pt x="19" y="0"/>
                  </a:lnTo>
                  <a:lnTo>
                    <a:pt x="0" y="2"/>
                  </a:lnTo>
                  <a:lnTo>
                    <a:pt x="4" y="12"/>
                  </a:lnTo>
                  <a:lnTo>
                    <a:pt x="9" y="24"/>
                  </a:lnTo>
                  <a:lnTo>
                    <a:pt x="15" y="35"/>
                  </a:lnTo>
                  <a:lnTo>
                    <a:pt x="20" y="44"/>
                  </a:lnTo>
                  <a:lnTo>
                    <a:pt x="25" y="54"/>
                  </a:lnTo>
                  <a:lnTo>
                    <a:pt x="28" y="64"/>
                  </a:lnTo>
                  <a:lnTo>
                    <a:pt x="29" y="73"/>
                  </a:lnTo>
                  <a:lnTo>
                    <a:pt x="29" y="81"/>
                  </a:lnTo>
                  <a:lnTo>
                    <a:pt x="30" y="78"/>
                  </a:lnTo>
                  <a:lnTo>
                    <a:pt x="29" y="81"/>
                  </a:lnTo>
                  <a:lnTo>
                    <a:pt x="30" y="89"/>
                  </a:lnTo>
                  <a:lnTo>
                    <a:pt x="36" y="92"/>
                  </a:lnTo>
                  <a:lnTo>
                    <a:pt x="41" y="91"/>
                  </a:lnTo>
                  <a:lnTo>
                    <a:pt x="46" y="87"/>
                  </a:lnTo>
                  <a:lnTo>
                    <a:pt x="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581920" y="2167920"/>
              <a:ext cx="47520" cy="1872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16" y="38"/>
                  </a:moveTo>
                  <a:lnTo>
                    <a:pt x="18" y="34"/>
                  </a:lnTo>
                  <a:lnTo>
                    <a:pt x="15" y="39"/>
                  </a:lnTo>
                  <a:lnTo>
                    <a:pt x="22" y="35"/>
                  </a:lnTo>
                  <a:lnTo>
                    <a:pt x="32" y="33"/>
                  </a:lnTo>
                  <a:lnTo>
                    <a:pt x="44" y="30"/>
                  </a:lnTo>
                  <a:lnTo>
                    <a:pt x="57" y="28"/>
                  </a:lnTo>
                  <a:lnTo>
                    <a:pt x="71" y="23"/>
                  </a:lnTo>
                  <a:lnTo>
                    <a:pt x="82" y="19"/>
                  </a:lnTo>
                  <a:lnTo>
                    <a:pt x="92" y="12"/>
                  </a:lnTo>
                  <a:lnTo>
                    <a:pt x="78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4" y="9"/>
                  </a:lnTo>
                  <a:lnTo>
                    <a:pt x="42" y="11"/>
                  </a:lnTo>
                  <a:lnTo>
                    <a:pt x="27" y="14"/>
                  </a:lnTo>
                  <a:lnTo>
                    <a:pt x="16" y="19"/>
                  </a:lnTo>
                  <a:lnTo>
                    <a:pt x="6" y="22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3" y="41"/>
                  </a:lnTo>
                  <a:lnTo>
                    <a:pt x="8" y="42"/>
                  </a:lnTo>
                  <a:lnTo>
                    <a:pt x="15" y="41"/>
                  </a:lnTo>
                  <a:lnTo>
                    <a:pt x="18" y="34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559240" y="2182320"/>
              <a:ext cx="29880" cy="103680"/>
            </a:xfrm>
            <a:custGeom>
              <a:avLst/>
              <a:gdLst/>
              <a:ahLst/>
              <a:rect l="l" t="t" r="r" b="b"/>
              <a:pathLst>
                <a:path w="63" h="222">
                  <a:moveTo>
                    <a:pt x="14" y="219"/>
                  </a:moveTo>
                  <a:lnTo>
                    <a:pt x="17" y="217"/>
                  </a:lnTo>
                  <a:lnTo>
                    <a:pt x="24" y="199"/>
                  </a:lnTo>
                  <a:lnTo>
                    <a:pt x="31" y="173"/>
                  </a:lnTo>
                  <a:lnTo>
                    <a:pt x="37" y="143"/>
                  </a:lnTo>
                  <a:lnTo>
                    <a:pt x="42" y="111"/>
                  </a:lnTo>
                  <a:lnTo>
                    <a:pt x="49" y="79"/>
                  </a:lnTo>
                  <a:lnTo>
                    <a:pt x="54" y="48"/>
                  </a:lnTo>
                  <a:lnTo>
                    <a:pt x="59" y="22"/>
                  </a:lnTo>
                  <a:lnTo>
                    <a:pt x="63" y="7"/>
                  </a:lnTo>
                  <a:lnTo>
                    <a:pt x="48" y="0"/>
                  </a:lnTo>
                  <a:lnTo>
                    <a:pt x="40" y="20"/>
                  </a:lnTo>
                  <a:lnTo>
                    <a:pt x="35" y="46"/>
                  </a:lnTo>
                  <a:lnTo>
                    <a:pt x="30" y="77"/>
                  </a:lnTo>
                  <a:lnTo>
                    <a:pt x="23" y="109"/>
                  </a:lnTo>
                  <a:lnTo>
                    <a:pt x="18" y="141"/>
                  </a:lnTo>
                  <a:lnTo>
                    <a:pt x="12" y="171"/>
                  </a:lnTo>
                  <a:lnTo>
                    <a:pt x="6" y="194"/>
                  </a:lnTo>
                  <a:lnTo>
                    <a:pt x="0" y="210"/>
                  </a:lnTo>
                  <a:lnTo>
                    <a:pt x="2" y="208"/>
                  </a:lnTo>
                  <a:lnTo>
                    <a:pt x="0" y="210"/>
                  </a:lnTo>
                  <a:lnTo>
                    <a:pt x="0" y="217"/>
                  </a:lnTo>
                  <a:lnTo>
                    <a:pt x="4" y="222"/>
                  </a:lnTo>
                  <a:lnTo>
                    <a:pt x="12" y="222"/>
                  </a:lnTo>
                  <a:lnTo>
                    <a:pt x="17" y="217"/>
                  </a:lnTo>
                  <a:lnTo>
                    <a:pt x="1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546640" y="2274480"/>
              <a:ext cx="19800" cy="1152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6" y="12"/>
                  </a:moveTo>
                  <a:lnTo>
                    <a:pt x="4" y="16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7"/>
                  </a:lnTo>
                  <a:lnTo>
                    <a:pt x="39" y="22"/>
                  </a:lnTo>
                  <a:lnTo>
                    <a:pt x="27" y="11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1" y="4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486520" y="2274480"/>
              <a:ext cx="67320" cy="73800"/>
            </a:xfrm>
            <a:custGeom>
              <a:avLst/>
              <a:gdLst/>
              <a:ahLst/>
              <a:rect l="l" t="t" r="r" b="b"/>
              <a:pathLst>
                <a:path w="136" h="158">
                  <a:moveTo>
                    <a:pt x="5" y="157"/>
                  </a:moveTo>
                  <a:lnTo>
                    <a:pt x="10" y="158"/>
                  </a:lnTo>
                  <a:lnTo>
                    <a:pt x="31" y="149"/>
                  </a:lnTo>
                  <a:lnTo>
                    <a:pt x="50" y="135"/>
                  </a:lnTo>
                  <a:lnTo>
                    <a:pt x="67" y="115"/>
                  </a:lnTo>
                  <a:lnTo>
                    <a:pt x="85" y="93"/>
                  </a:lnTo>
                  <a:lnTo>
                    <a:pt x="102" y="70"/>
                  </a:lnTo>
                  <a:lnTo>
                    <a:pt x="116" y="47"/>
                  </a:lnTo>
                  <a:lnTo>
                    <a:pt x="127" y="26"/>
                  </a:lnTo>
                  <a:lnTo>
                    <a:pt x="136" y="8"/>
                  </a:lnTo>
                  <a:lnTo>
                    <a:pt x="120" y="0"/>
                  </a:lnTo>
                  <a:lnTo>
                    <a:pt x="111" y="18"/>
                  </a:lnTo>
                  <a:lnTo>
                    <a:pt x="100" y="37"/>
                  </a:lnTo>
                  <a:lnTo>
                    <a:pt x="85" y="61"/>
                  </a:lnTo>
                  <a:lnTo>
                    <a:pt x="71" y="82"/>
                  </a:lnTo>
                  <a:lnTo>
                    <a:pt x="53" y="103"/>
                  </a:lnTo>
                  <a:lnTo>
                    <a:pt x="37" y="121"/>
                  </a:lnTo>
                  <a:lnTo>
                    <a:pt x="22" y="132"/>
                  </a:lnTo>
                  <a:lnTo>
                    <a:pt x="8" y="139"/>
                  </a:lnTo>
                  <a:lnTo>
                    <a:pt x="12" y="140"/>
                  </a:lnTo>
                  <a:lnTo>
                    <a:pt x="8" y="139"/>
                  </a:lnTo>
                  <a:lnTo>
                    <a:pt x="1" y="142"/>
                  </a:lnTo>
                  <a:lnTo>
                    <a:pt x="0" y="149"/>
                  </a:lnTo>
                  <a:lnTo>
                    <a:pt x="3" y="155"/>
                  </a:lnTo>
                  <a:lnTo>
                    <a:pt x="10" y="158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388600" y="2260800"/>
              <a:ext cx="102600" cy="87120"/>
            </a:xfrm>
            <a:custGeom>
              <a:avLst/>
              <a:gdLst/>
              <a:ahLst/>
              <a:rect l="l" t="t" r="r" b="b"/>
              <a:pathLst>
                <a:path w="208" h="188">
                  <a:moveTo>
                    <a:pt x="0" y="12"/>
                  </a:moveTo>
                  <a:lnTo>
                    <a:pt x="1" y="15"/>
                  </a:lnTo>
                  <a:lnTo>
                    <a:pt x="11" y="27"/>
                  </a:lnTo>
                  <a:lnTo>
                    <a:pt x="21" y="38"/>
                  </a:lnTo>
                  <a:lnTo>
                    <a:pt x="32" y="49"/>
                  </a:lnTo>
                  <a:lnTo>
                    <a:pt x="42" y="62"/>
                  </a:lnTo>
                  <a:lnTo>
                    <a:pt x="55" y="74"/>
                  </a:lnTo>
                  <a:lnTo>
                    <a:pt x="67" y="85"/>
                  </a:lnTo>
                  <a:lnTo>
                    <a:pt x="78" y="98"/>
                  </a:lnTo>
                  <a:lnTo>
                    <a:pt x="90" y="111"/>
                  </a:lnTo>
                  <a:lnTo>
                    <a:pt x="103" y="122"/>
                  </a:lnTo>
                  <a:lnTo>
                    <a:pt x="116" y="133"/>
                  </a:lnTo>
                  <a:lnTo>
                    <a:pt x="129" y="143"/>
                  </a:lnTo>
                  <a:lnTo>
                    <a:pt x="144" y="154"/>
                  </a:lnTo>
                  <a:lnTo>
                    <a:pt x="157" y="165"/>
                  </a:lnTo>
                  <a:lnTo>
                    <a:pt x="172" y="173"/>
                  </a:lnTo>
                  <a:lnTo>
                    <a:pt x="187" y="180"/>
                  </a:lnTo>
                  <a:lnTo>
                    <a:pt x="201" y="188"/>
                  </a:lnTo>
                  <a:lnTo>
                    <a:pt x="208" y="171"/>
                  </a:lnTo>
                  <a:lnTo>
                    <a:pt x="194" y="163"/>
                  </a:lnTo>
                  <a:lnTo>
                    <a:pt x="180" y="156"/>
                  </a:lnTo>
                  <a:lnTo>
                    <a:pt x="167" y="149"/>
                  </a:lnTo>
                  <a:lnTo>
                    <a:pt x="155" y="140"/>
                  </a:lnTo>
                  <a:lnTo>
                    <a:pt x="140" y="130"/>
                  </a:lnTo>
                  <a:lnTo>
                    <a:pt x="128" y="119"/>
                  </a:lnTo>
                  <a:lnTo>
                    <a:pt x="115" y="109"/>
                  </a:lnTo>
                  <a:lnTo>
                    <a:pt x="102" y="96"/>
                  </a:lnTo>
                  <a:lnTo>
                    <a:pt x="90" y="85"/>
                  </a:lnTo>
                  <a:lnTo>
                    <a:pt x="78" y="74"/>
                  </a:lnTo>
                  <a:lnTo>
                    <a:pt x="67" y="62"/>
                  </a:lnTo>
                  <a:lnTo>
                    <a:pt x="56" y="50"/>
                  </a:lnTo>
                  <a:lnTo>
                    <a:pt x="45" y="38"/>
                  </a:lnTo>
                  <a:lnTo>
                    <a:pt x="35" y="25"/>
                  </a:lnTo>
                  <a:lnTo>
                    <a:pt x="24" y="15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1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371320" y="1937160"/>
              <a:ext cx="147960" cy="330480"/>
            </a:xfrm>
            <a:custGeom>
              <a:avLst/>
              <a:gdLst/>
              <a:ahLst/>
              <a:rect l="l" t="t" r="r" b="b"/>
              <a:pathLst>
                <a:path w="296" h="715">
                  <a:moveTo>
                    <a:pt x="290" y="1"/>
                  </a:moveTo>
                  <a:lnTo>
                    <a:pt x="282" y="1"/>
                  </a:lnTo>
                  <a:lnTo>
                    <a:pt x="242" y="30"/>
                  </a:lnTo>
                  <a:lnTo>
                    <a:pt x="205" y="62"/>
                  </a:lnTo>
                  <a:lnTo>
                    <a:pt x="170" y="99"/>
                  </a:lnTo>
                  <a:lnTo>
                    <a:pt x="139" y="138"/>
                  </a:lnTo>
                  <a:lnTo>
                    <a:pt x="108" y="181"/>
                  </a:lnTo>
                  <a:lnTo>
                    <a:pt x="84" y="228"/>
                  </a:lnTo>
                  <a:lnTo>
                    <a:pt x="59" y="273"/>
                  </a:lnTo>
                  <a:lnTo>
                    <a:pt x="40" y="323"/>
                  </a:lnTo>
                  <a:lnTo>
                    <a:pt x="25" y="372"/>
                  </a:lnTo>
                  <a:lnTo>
                    <a:pt x="13" y="423"/>
                  </a:lnTo>
                  <a:lnTo>
                    <a:pt x="4" y="474"/>
                  </a:lnTo>
                  <a:lnTo>
                    <a:pt x="0" y="523"/>
                  </a:lnTo>
                  <a:lnTo>
                    <a:pt x="0" y="573"/>
                  </a:lnTo>
                  <a:lnTo>
                    <a:pt x="7" y="623"/>
                  </a:lnTo>
                  <a:lnTo>
                    <a:pt x="16" y="670"/>
                  </a:lnTo>
                  <a:lnTo>
                    <a:pt x="33" y="715"/>
                  </a:lnTo>
                  <a:lnTo>
                    <a:pt x="49" y="708"/>
                  </a:lnTo>
                  <a:lnTo>
                    <a:pt x="35" y="665"/>
                  </a:lnTo>
                  <a:lnTo>
                    <a:pt x="26" y="620"/>
                  </a:lnTo>
                  <a:lnTo>
                    <a:pt x="19" y="573"/>
                  </a:lnTo>
                  <a:lnTo>
                    <a:pt x="19" y="523"/>
                  </a:lnTo>
                  <a:lnTo>
                    <a:pt x="23" y="474"/>
                  </a:lnTo>
                  <a:lnTo>
                    <a:pt x="31" y="425"/>
                  </a:lnTo>
                  <a:lnTo>
                    <a:pt x="44" y="378"/>
                  </a:lnTo>
                  <a:lnTo>
                    <a:pt x="57" y="328"/>
                  </a:lnTo>
                  <a:lnTo>
                    <a:pt x="76" y="280"/>
                  </a:lnTo>
                  <a:lnTo>
                    <a:pt x="100" y="234"/>
                  </a:lnTo>
                  <a:lnTo>
                    <a:pt x="125" y="191"/>
                  </a:lnTo>
                  <a:lnTo>
                    <a:pt x="152" y="149"/>
                  </a:lnTo>
                  <a:lnTo>
                    <a:pt x="184" y="110"/>
                  </a:lnTo>
                  <a:lnTo>
                    <a:pt x="218" y="77"/>
                  </a:lnTo>
                  <a:lnTo>
                    <a:pt x="254" y="44"/>
                  </a:lnTo>
                  <a:lnTo>
                    <a:pt x="292" y="17"/>
                  </a:lnTo>
                  <a:lnTo>
                    <a:pt x="284" y="17"/>
                  </a:lnTo>
                  <a:lnTo>
                    <a:pt x="292" y="17"/>
                  </a:lnTo>
                  <a:lnTo>
                    <a:pt x="296" y="11"/>
                  </a:lnTo>
                  <a:lnTo>
                    <a:pt x="295" y="5"/>
                  </a:lnTo>
                  <a:lnTo>
                    <a:pt x="290" y="0"/>
                  </a:lnTo>
                  <a:lnTo>
                    <a:pt x="282" y="1"/>
                  </a:lnTo>
                  <a:lnTo>
                    <a:pt x="2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496600" y="2225520"/>
              <a:ext cx="55080" cy="5544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0" y="4"/>
                  </a:moveTo>
                  <a:lnTo>
                    <a:pt x="8" y="23"/>
                  </a:lnTo>
                  <a:lnTo>
                    <a:pt x="16" y="42"/>
                  </a:lnTo>
                  <a:lnTo>
                    <a:pt x="28" y="58"/>
                  </a:lnTo>
                  <a:lnTo>
                    <a:pt x="40" y="74"/>
                  </a:lnTo>
                  <a:lnTo>
                    <a:pt x="55" y="89"/>
                  </a:lnTo>
                  <a:lnTo>
                    <a:pt x="70" y="101"/>
                  </a:lnTo>
                  <a:lnTo>
                    <a:pt x="85" y="112"/>
                  </a:lnTo>
                  <a:lnTo>
                    <a:pt x="102" y="119"/>
                  </a:lnTo>
                  <a:lnTo>
                    <a:pt x="109" y="103"/>
                  </a:lnTo>
                  <a:lnTo>
                    <a:pt x="95" y="95"/>
                  </a:lnTo>
                  <a:lnTo>
                    <a:pt x="80" y="86"/>
                  </a:lnTo>
                  <a:lnTo>
                    <a:pt x="67" y="75"/>
                  </a:lnTo>
                  <a:lnTo>
                    <a:pt x="53" y="62"/>
                  </a:lnTo>
                  <a:lnTo>
                    <a:pt x="42" y="48"/>
                  </a:lnTo>
                  <a:lnTo>
                    <a:pt x="32" y="33"/>
                  </a:lnTo>
                  <a:lnTo>
                    <a:pt x="24" y="16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235960" y="2477520"/>
              <a:ext cx="67320" cy="99360"/>
            </a:xfrm>
            <a:custGeom>
              <a:avLst/>
              <a:gdLst/>
              <a:ahLst/>
              <a:rect l="l" t="t" r="r" b="b"/>
              <a:pathLst>
                <a:path w="135" h="212">
                  <a:moveTo>
                    <a:pt x="21" y="212"/>
                  </a:moveTo>
                  <a:lnTo>
                    <a:pt x="21" y="211"/>
                  </a:lnTo>
                  <a:lnTo>
                    <a:pt x="24" y="188"/>
                  </a:lnTo>
                  <a:lnTo>
                    <a:pt x="33" y="163"/>
                  </a:lnTo>
                  <a:lnTo>
                    <a:pt x="46" y="138"/>
                  </a:lnTo>
                  <a:lnTo>
                    <a:pt x="62" y="113"/>
                  </a:lnTo>
                  <a:lnTo>
                    <a:pt x="81" y="86"/>
                  </a:lnTo>
                  <a:lnTo>
                    <a:pt x="100" y="60"/>
                  </a:lnTo>
                  <a:lnTo>
                    <a:pt x="118" y="35"/>
                  </a:lnTo>
                  <a:lnTo>
                    <a:pt x="135" y="8"/>
                  </a:lnTo>
                  <a:lnTo>
                    <a:pt x="116" y="0"/>
                  </a:lnTo>
                  <a:lnTo>
                    <a:pt x="102" y="23"/>
                  </a:lnTo>
                  <a:lnTo>
                    <a:pt x="83" y="47"/>
                  </a:lnTo>
                  <a:lnTo>
                    <a:pt x="64" y="75"/>
                  </a:lnTo>
                  <a:lnTo>
                    <a:pt x="45" y="101"/>
                  </a:lnTo>
                  <a:lnTo>
                    <a:pt x="27" y="129"/>
                  </a:lnTo>
                  <a:lnTo>
                    <a:pt x="14" y="156"/>
                  </a:lnTo>
                  <a:lnTo>
                    <a:pt x="3" y="183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21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233800" y="2574720"/>
              <a:ext cx="49680" cy="101520"/>
            </a:xfrm>
            <a:custGeom>
              <a:avLst/>
              <a:gdLst/>
              <a:ahLst/>
              <a:rect l="l" t="t" r="r" b="b"/>
              <a:pathLst>
                <a:path w="100" h="219">
                  <a:moveTo>
                    <a:pt x="100" y="212"/>
                  </a:moveTo>
                  <a:lnTo>
                    <a:pt x="99" y="206"/>
                  </a:lnTo>
                  <a:lnTo>
                    <a:pt x="80" y="172"/>
                  </a:lnTo>
                  <a:lnTo>
                    <a:pt x="63" y="145"/>
                  </a:lnTo>
                  <a:lnTo>
                    <a:pt x="47" y="123"/>
                  </a:lnTo>
                  <a:lnTo>
                    <a:pt x="36" y="104"/>
                  </a:lnTo>
                  <a:lnTo>
                    <a:pt x="27" y="84"/>
                  </a:lnTo>
                  <a:lnTo>
                    <a:pt x="22" y="63"/>
                  </a:lnTo>
                  <a:lnTo>
                    <a:pt x="21" y="37"/>
                  </a:lnTo>
                  <a:lnTo>
                    <a:pt x="23" y="3"/>
                  </a:lnTo>
                  <a:lnTo>
                    <a:pt x="2" y="0"/>
                  </a:lnTo>
                  <a:lnTo>
                    <a:pt x="0" y="37"/>
                  </a:lnTo>
                  <a:lnTo>
                    <a:pt x="1" y="65"/>
                  </a:lnTo>
                  <a:lnTo>
                    <a:pt x="6" y="91"/>
                  </a:lnTo>
                  <a:lnTo>
                    <a:pt x="17" y="114"/>
                  </a:lnTo>
                  <a:lnTo>
                    <a:pt x="31" y="135"/>
                  </a:lnTo>
                  <a:lnTo>
                    <a:pt x="46" y="157"/>
                  </a:lnTo>
                  <a:lnTo>
                    <a:pt x="62" y="181"/>
                  </a:lnTo>
                  <a:lnTo>
                    <a:pt x="80" y="215"/>
                  </a:lnTo>
                  <a:lnTo>
                    <a:pt x="79" y="208"/>
                  </a:lnTo>
                  <a:lnTo>
                    <a:pt x="80" y="215"/>
                  </a:lnTo>
                  <a:lnTo>
                    <a:pt x="86" y="219"/>
                  </a:lnTo>
                  <a:lnTo>
                    <a:pt x="95" y="218"/>
                  </a:lnTo>
                  <a:lnTo>
                    <a:pt x="99" y="214"/>
                  </a:lnTo>
                  <a:lnTo>
                    <a:pt x="99" y="206"/>
                  </a:lnTo>
                  <a:lnTo>
                    <a:pt x="10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198520" y="2671920"/>
              <a:ext cx="84960" cy="367200"/>
            </a:xfrm>
            <a:custGeom>
              <a:avLst/>
              <a:gdLst/>
              <a:ahLst/>
              <a:rect l="l" t="t" r="r" b="b"/>
              <a:pathLst>
                <a:path w="173" h="797">
                  <a:moveTo>
                    <a:pt x="22" y="797"/>
                  </a:moveTo>
                  <a:lnTo>
                    <a:pt x="36" y="701"/>
                  </a:lnTo>
                  <a:lnTo>
                    <a:pt x="50" y="601"/>
                  </a:lnTo>
                  <a:lnTo>
                    <a:pt x="65" y="495"/>
                  </a:lnTo>
                  <a:lnTo>
                    <a:pt x="82" y="390"/>
                  </a:lnTo>
                  <a:lnTo>
                    <a:pt x="101" y="286"/>
                  </a:lnTo>
                  <a:lnTo>
                    <a:pt x="122" y="188"/>
                  </a:lnTo>
                  <a:lnTo>
                    <a:pt x="148" y="92"/>
                  </a:lnTo>
                  <a:lnTo>
                    <a:pt x="173" y="4"/>
                  </a:lnTo>
                  <a:lnTo>
                    <a:pt x="152" y="0"/>
                  </a:lnTo>
                  <a:lnTo>
                    <a:pt x="127" y="87"/>
                  </a:lnTo>
                  <a:lnTo>
                    <a:pt x="101" y="182"/>
                  </a:lnTo>
                  <a:lnTo>
                    <a:pt x="80" y="284"/>
                  </a:lnTo>
                  <a:lnTo>
                    <a:pt x="61" y="388"/>
                  </a:lnTo>
                  <a:lnTo>
                    <a:pt x="44" y="493"/>
                  </a:lnTo>
                  <a:lnTo>
                    <a:pt x="28" y="597"/>
                  </a:lnTo>
                  <a:lnTo>
                    <a:pt x="15" y="698"/>
                  </a:lnTo>
                  <a:lnTo>
                    <a:pt x="0" y="795"/>
                  </a:lnTo>
                  <a:lnTo>
                    <a:pt x="22" y="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621520" y="2493720"/>
              <a:ext cx="72360" cy="90000"/>
            </a:xfrm>
            <a:custGeom>
              <a:avLst/>
              <a:gdLst/>
              <a:ahLst/>
              <a:rect l="l" t="t" r="r" b="b"/>
              <a:pathLst>
                <a:path w="147" h="197">
                  <a:moveTo>
                    <a:pt x="147" y="197"/>
                  </a:moveTo>
                  <a:lnTo>
                    <a:pt x="147" y="197"/>
                  </a:lnTo>
                  <a:lnTo>
                    <a:pt x="147" y="168"/>
                  </a:lnTo>
                  <a:lnTo>
                    <a:pt x="139" y="139"/>
                  </a:lnTo>
                  <a:lnTo>
                    <a:pt x="123" y="109"/>
                  </a:lnTo>
                  <a:lnTo>
                    <a:pt x="103" y="82"/>
                  </a:lnTo>
                  <a:lnTo>
                    <a:pt x="79" y="54"/>
                  </a:lnTo>
                  <a:lnTo>
                    <a:pt x="56" y="32"/>
                  </a:lnTo>
                  <a:lnTo>
                    <a:pt x="31" y="14"/>
                  </a:lnTo>
                  <a:lnTo>
                    <a:pt x="9" y="0"/>
                  </a:lnTo>
                  <a:lnTo>
                    <a:pt x="0" y="19"/>
                  </a:lnTo>
                  <a:lnTo>
                    <a:pt x="20" y="31"/>
                  </a:lnTo>
                  <a:lnTo>
                    <a:pt x="41" y="49"/>
                  </a:lnTo>
                  <a:lnTo>
                    <a:pt x="65" y="69"/>
                  </a:lnTo>
                  <a:lnTo>
                    <a:pt x="87" y="93"/>
                  </a:lnTo>
                  <a:lnTo>
                    <a:pt x="104" y="121"/>
                  </a:lnTo>
                  <a:lnTo>
                    <a:pt x="120" y="145"/>
                  </a:lnTo>
                  <a:lnTo>
                    <a:pt x="125" y="170"/>
                  </a:lnTo>
                  <a:lnTo>
                    <a:pt x="125" y="193"/>
                  </a:lnTo>
                  <a:lnTo>
                    <a:pt x="125" y="193"/>
                  </a:lnTo>
                  <a:lnTo>
                    <a:pt x="147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649600" y="2581920"/>
              <a:ext cx="44640" cy="8712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23" y="179"/>
                  </a:moveTo>
                  <a:lnTo>
                    <a:pt x="23" y="179"/>
                  </a:lnTo>
                  <a:lnTo>
                    <a:pt x="21" y="163"/>
                  </a:lnTo>
                  <a:lnTo>
                    <a:pt x="24" y="146"/>
                  </a:lnTo>
                  <a:lnTo>
                    <a:pt x="31" y="123"/>
                  </a:lnTo>
                  <a:lnTo>
                    <a:pt x="43" y="101"/>
                  </a:lnTo>
                  <a:lnTo>
                    <a:pt x="58" y="78"/>
                  </a:lnTo>
                  <a:lnTo>
                    <a:pt x="70" y="52"/>
                  </a:lnTo>
                  <a:lnTo>
                    <a:pt x="81" y="28"/>
                  </a:lnTo>
                  <a:lnTo>
                    <a:pt x="89" y="4"/>
                  </a:lnTo>
                  <a:lnTo>
                    <a:pt x="67" y="0"/>
                  </a:lnTo>
                  <a:lnTo>
                    <a:pt x="62" y="21"/>
                  </a:lnTo>
                  <a:lnTo>
                    <a:pt x="51" y="43"/>
                  </a:lnTo>
                  <a:lnTo>
                    <a:pt x="39" y="68"/>
                  </a:lnTo>
                  <a:lnTo>
                    <a:pt x="24" y="92"/>
                  </a:lnTo>
                  <a:lnTo>
                    <a:pt x="12" y="117"/>
                  </a:lnTo>
                  <a:lnTo>
                    <a:pt x="3" y="141"/>
                  </a:lnTo>
                  <a:lnTo>
                    <a:pt x="0" y="163"/>
                  </a:lnTo>
                  <a:lnTo>
                    <a:pt x="4" y="187"/>
                  </a:lnTo>
                  <a:lnTo>
                    <a:pt x="4" y="187"/>
                  </a:lnTo>
                  <a:lnTo>
                    <a:pt x="2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651760" y="2664720"/>
              <a:ext cx="72360" cy="194040"/>
            </a:xfrm>
            <a:custGeom>
              <a:avLst/>
              <a:gdLst/>
              <a:ahLst/>
              <a:rect l="l" t="t" r="r" b="b"/>
              <a:pathLst>
                <a:path w="144" h="420">
                  <a:moveTo>
                    <a:pt x="144" y="417"/>
                  </a:moveTo>
                  <a:lnTo>
                    <a:pt x="131" y="356"/>
                  </a:lnTo>
                  <a:lnTo>
                    <a:pt x="117" y="298"/>
                  </a:lnTo>
                  <a:lnTo>
                    <a:pt x="102" y="243"/>
                  </a:lnTo>
                  <a:lnTo>
                    <a:pt x="88" y="189"/>
                  </a:lnTo>
                  <a:lnTo>
                    <a:pt x="71" y="137"/>
                  </a:lnTo>
                  <a:lnTo>
                    <a:pt x="54" y="89"/>
                  </a:lnTo>
                  <a:lnTo>
                    <a:pt x="37" y="42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8" y="50"/>
                  </a:lnTo>
                  <a:lnTo>
                    <a:pt x="35" y="95"/>
                  </a:lnTo>
                  <a:lnTo>
                    <a:pt x="50" y="143"/>
                  </a:lnTo>
                  <a:lnTo>
                    <a:pt x="66" y="193"/>
                  </a:lnTo>
                  <a:lnTo>
                    <a:pt x="81" y="247"/>
                  </a:lnTo>
                  <a:lnTo>
                    <a:pt x="96" y="303"/>
                  </a:lnTo>
                  <a:lnTo>
                    <a:pt x="110" y="361"/>
                  </a:lnTo>
                  <a:lnTo>
                    <a:pt x="122" y="420"/>
                  </a:lnTo>
                  <a:lnTo>
                    <a:pt x="144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331360" y="2230560"/>
              <a:ext cx="84960" cy="489600"/>
            </a:xfrm>
            <a:custGeom>
              <a:avLst/>
              <a:gdLst/>
              <a:ahLst/>
              <a:rect l="l" t="t" r="r" b="b"/>
              <a:pathLst>
                <a:path w="174" h="1058">
                  <a:moveTo>
                    <a:pt x="98" y="5"/>
                  </a:moveTo>
                  <a:lnTo>
                    <a:pt x="91" y="0"/>
                  </a:lnTo>
                  <a:lnTo>
                    <a:pt x="77" y="1"/>
                  </a:lnTo>
                  <a:lnTo>
                    <a:pt x="59" y="5"/>
                  </a:lnTo>
                  <a:lnTo>
                    <a:pt x="39" y="13"/>
                  </a:lnTo>
                  <a:lnTo>
                    <a:pt x="21" y="22"/>
                  </a:lnTo>
                  <a:lnTo>
                    <a:pt x="7" y="31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23" y="84"/>
                  </a:lnTo>
                  <a:lnTo>
                    <a:pt x="29" y="127"/>
                  </a:lnTo>
                  <a:lnTo>
                    <a:pt x="28" y="176"/>
                  </a:lnTo>
                  <a:lnTo>
                    <a:pt x="21" y="227"/>
                  </a:lnTo>
                  <a:lnTo>
                    <a:pt x="14" y="278"/>
                  </a:lnTo>
                  <a:lnTo>
                    <a:pt x="5" y="329"/>
                  </a:lnTo>
                  <a:lnTo>
                    <a:pt x="1" y="375"/>
                  </a:lnTo>
                  <a:lnTo>
                    <a:pt x="5" y="415"/>
                  </a:lnTo>
                  <a:lnTo>
                    <a:pt x="8" y="419"/>
                  </a:lnTo>
                  <a:lnTo>
                    <a:pt x="17" y="421"/>
                  </a:lnTo>
                  <a:lnTo>
                    <a:pt x="28" y="424"/>
                  </a:lnTo>
                  <a:lnTo>
                    <a:pt x="41" y="425"/>
                  </a:lnTo>
                  <a:lnTo>
                    <a:pt x="55" y="427"/>
                  </a:lnTo>
                  <a:lnTo>
                    <a:pt x="66" y="429"/>
                  </a:lnTo>
                  <a:lnTo>
                    <a:pt x="74" y="434"/>
                  </a:lnTo>
                  <a:lnTo>
                    <a:pt x="77" y="441"/>
                  </a:lnTo>
                  <a:lnTo>
                    <a:pt x="74" y="447"/>
                  </a:lnTo>
                  <a:lnTo>
                    <a:pt x="66" y="451"/>
                  </a:lnTo>
                  <a:lnTo>
                    <a:pt x="55" y="457"/>
                  </a:lnTo>
                  <a:lnTo>
                    <a:pt x="41" y="460"/>
                  </a:lnTo>
                  <a:lnTo>
                    <a:pt x="28" y="466"/>
                  </a:lnTo>
                  <a:lnTo>
                    <a:pt x="18" y="471"/>
                  </a:lnTo>
                  <a:lnTo>
                    <a:pt x="10" y="479"/>
                  </a:lnTo>
                  <a:lnTo>
                    <a:pt x="9" y="487"/>
                  </a:lnTo>
                  <a:lnTo>
                    <a:pt x="19" y="547"/>
                  </a:lnTo>
                  <a:lnTo>
                    <a:pt x="28" y="619"/>
                  </a:lnTo>
                  <a:lnTo>
                    <a:pt x="39" y="699"/>
                  </a:lnTo>
                  <a:lnTo>
                    <a:pt x="54" y="781"/>
                  </a:lnTo>
                  <a:lnTo>
                    <a:pt x="72" y="862"/>
                  </a:lnTo>
                  <a:lnTo>
                    <a:pt x="96" y="939"/>
                  </a:lnTo>
                  <a:lnTo>
                    <a:pt x="128" y="1005"/>
                  </a:lnTo>
                  <a:lnTo>
                    <a:pt x="168" y="1058"/>
                  </a:lnTo>
                  <a:lnTo>
                    <a:pt x="168" y="1033"/>
                  </a:lnTo>
                  <a:lnTo>
                    <a:pt x="168" y="993"/>
                  </a:lnTo>
                  <a:lnTo>
                    <a:pt x="168" y="953"/>
                  </a:lnTo>
                  <a:lnTo>
                    <a:pt x="168" y="930"/>
                  </a:lnTo>
                  <a:lnTo>
                    <a:pt x="167" y="816"/>
                  </a:lnTo>
                  <a:lnTo>
                    <a:pt x="169" y="695"/>
                  </a:lnTo>
                  <a:lnTo>
                    <a:pt x="173" y="571"/>
                  </a:lnTo>
                  <a:lnTo>
                    <a:pt x="174" y="447"/>
                  </a:lnTo>
                  <a:lnTo>
                    <a:pt x="171" y="327"/>
                  </a:lnTo>
                  <a:lnTo>
                    <a:pt x="159" y="212"/>
                  </a:lnTo>
                  <a:lnTo>
                    <a:pt x="136" y="103"/>
                  </a:lnTo>
                  <a:lnTo>
                    <a:pt x="98" y="5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324160" y="2225520"/>
              <a:ext cx="60120" cy="32400"/>
            </a:xfrm>
            <a:custGeom>
              <a:avLst/>
              <a:gdLst/>
              <a:ahLst/>
              <a:rect l="l" t="t" r="r" b="b"/>
              <a:pathLst>
                <a:path w="119" h="66">
                  <a:moveTo>
                    <a:pt x="21" y="51"/>
                  </a:moveTo>
                  <a:lnTo>
                    <a:pt x="19" y="48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7" y="41"/>
                  </a:lnTo>
                  <a:lnTo>
                    <a:pt x="53" y="33"/>
                  </a:lnTo>
                  <a:lnTo>
                    <a:pt x="72" y="25"/>
                  </a:lnTo>
                  <a:lnTo>
                    <a:pt x="89" y="22"/>
                  </a:lnTo>
                  <a:lnTo>
                    <a:pt x="101" y="21"/>
                  </a:lnTo>
                  <a:lnTo>
                    <a:pt x="100" y="18"/>
                  </a:lnTo>
                  <a:lnTo>
                    <a:pt x="119" y="11"/>
                  </a:lnTo>
                  <a:lnTo>
                    <a:pt x="103" y="0"/>
                  </a:lnTo>
                  <a:lnTo>
                    <a:pt x="87" y="1"/>
                  </a:lnTo>
                  <a:lnTo>
                    <a:pt x="68" y="4"/>
                  </a:lnTo>
                  <a:lnTo>
                    <a:pt x="47" y="14"/>
                  </a:lnTo>
                  <a:lnTo>
                    <a:pt x="28" y="22"/>
                  </a:lnTo>
                  <a:lnTo>
                    <a:pt x="11" y="33"/>
                  </a:lnTo>
                  <a:lnTo>
                    <a:pt x="0" y="47"/>
                  </a:lnTo>
                  <a:lnTo>
                    <a:pt x="8" y="65"/>
                  </a:lnTo>
                  <a:lnTo>
                    <a:pt x="6" y="64"/>
                  </a:lnTo>
                  <a:lnTo>
                    <a:pt x="8" y="65"/>
                  </a:lnTo>
                  <a:lnTo>
                    <a:pt x="16" y="66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19" y="48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326320" y="2251440"/>
              <a:ext cx="24840" cy="173160"/>
            </a:xfrm>
            <a:custGeom>
              <a:avLst/>
              <a:gdLst/>
              <a:ahLst/>
              <a:rect l="l" t="t" r="r" b="b"/>
              <a:pathLst>
                <a:path w="50" h="377">
                  <a:moveTo>
                    <a:pt x="26" y="373"/>
                  </a:moveTo>
                  <a:lnTo>
                    <a:pt x="26" y="372"/>
                  </a:lnTo>
                  <a:lnTo>
                    <a:pt x="23" y="334"/>
                  </a:lnTo>
                  <a:lnTo>
                    <a:pt x="26" y="289"/>
                  </a:lnTo>
                  <a:lnTo>
                    <a:pt x="34" y="238"/>
                  </a:lnTo>
                  <a:lnTo>
                    <a:pt x="42" y="188"/>
                  </a:lnTo>
                  <a:lnTo>
                    <a:pt x="49" y="135"/>
                  </a:lnTo>
                  <a:lnTo>
                    <a:pt x="50" y="86"/>
                  </a:lnTo>
                  <a:lnTo>
                    <a:pt x="44" y="40"/>
                  </a:lnTo>
                  <a:lnTo>
                    <a:pt x="20" y="0"/>
                  </a:lnTo>
                  <a:lnTo>
                    <a:pt x="5" y="13"/>
                  </a:lnTo>
                  <a:lnTo>
                    <a:pt x="23" y="46"/>
                  </a:lnTo>
                  <a:lnTo>
                    <a:pt x="29" y="86"/>
                  </a:lnTo>
                  <a:lnTo>
                    <a:pt x="28" y="135"/>
                  </a:lnTo>
                  <a:lnTo>
                    <a:pt x="20" y="185"/>
                  </a:lnTo>
                  <a:lnTo>
                    <a:pt x="13" y="236"/>
                  </a:lnTo>
                  <a:lnTo>
                    <a:pt x="5" y="287"/>
                  </a:lnTo>
                  <a:lnTo>
                    <a:pt x="0" y="334"/>
                  </a:lnTo>
                  <a:lnTo>
                    <a:pt x="5" y="377"/>
                  </a:lnTo>
                  <a:lnTo>
                    <a:pt x="5" y="375"/>
                  </a:lnTo>
                  <a:lnTo>
                    <a:pt x="26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329200" y="2419920"/>
              <a:ext cx="44640" cy="1620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93" y="32"/>
                  </a:moveTo>
                  <a:lnTo>
                    <a:pt x="93" y="32"/>
                  </a:lnTo>
                  <a:lnTo>
                    <a:pt x="86" y="18"/>
                  </a:lnTo>
                  <a:lnTo>
                    <a:pt x="75" y="11"/>
                  </a:lnTo>
                  <a:lnTo>
                    <a:pt x="61" y="7"/>
                  </a:lnTo>
                  <a:lnTo>
                    <a:pt x="47" y="5"/>
                  </a:lnTo>
                  <a:lnTo>
                    <a:pt x="34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21" y="5"/>
                  </a:lnTo>
                  <a:lnTo>
                    <a:pt x="0" y="7"/>
                  </a:lnTo>
                  <a:lnTo>
                    <a:pt x="9" y="19"/>
                  </a:lnTo>
                  <a:lnTo>
                    <a:pt x="20" y="22"/>
                  </a:lnTo>
                  <a:lnTo>
                    <a:pt x="32" y="25"/>
                  </a:lnTo>
                  <a:lnTo>
                    <a:pt x="45" y="26"/>
                  </a:lnTo>
                  <a:lnTo>
                    <a:pt x="59" y="29"/>
                  </a:lnTo>
                  <a:lnTo>
                    <a:pt x="67" y="30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329200" y="2433600"/>
              <a:ext cx="44640" cy="2304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21" y="46"/>
                  </a:moveTo>
                  <a:lnTo>
                    <a:pt x="21" y="46"/>
                  </a:lnTo>
                  <a:lnTo>
                    <a:pt x="21" y="44"/>
                  </a:lnTo>
                  <a:lnTo>
                    <a:pt x="25" y="40"/>
                  </a:lnTo>
                  <a:lnTo>
                    <a:pt x="35" y="36"/>
                  </a:lnTo>
                  <a:lnTo>
                    <a:pt x="46" y="29"/>
                  </a:lnTo>
                  <a:lnTo>
                    <a:pt x="58" y="27"/>
                  </a:lnTo>
                  <a:lnTo>
                    <a:pt x="72" y="21"/>
                  </a:lnTo>
                  <a:lnTo>
                    <a:pt x="81" y="14"/>
                  </a:lnTo>
                  <a:lnTo>
                    <a:pt x="89" y="1"/>
                  </a:lnTo>
                  <a:lnTo>
                    <a:pt x="67" y="1"/>
                  </a:lnTo>
                  <a:lnTo>
                    <a:pt x="67" y="0"/>
                  </a:lnTo>
                  <a:lnTo>
                    <a:pt x="62" y="3"/>
                  </a:lnTo>
                  <a:lnTo>
                    <a:pt x="53" y="6"/>
                  </a:lnTo>
                  <a:lnTo>
                    <a:pt x="39" y="10"/>
                  </a:lnTo>
                  <a:lnTo>
                    <a:pt x="25" y="17"/>
                  </a:lnTo>
                  <a:lnTo>
                    <a:pt x="14" y="24"/>
                  </a:lnTo>
                  <a:lnTo>
                    <a:pt x="2" y="3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329200" y="2456640"/>
              <a:ext cx="89640" cy="268200"/>
            </a:xfrm>
            <a:custGeom>
              <a:avLst/>
              <a:gdLst/>
              <a:ahLst/>
              <a:rect l="l" t="t" r="r" b="b"/>
              <a:pathLst>
                <a:path w="179" h="583">
                  <a:moveTo>
                    <a:pt x="158" y="572"/>
                  </a:moveTo>
                  <a:lnTo>
                    <a:pt x="175" y="565"/>
                  </a:lnTo>
                  <a:lnTo>
                    <a:pt x="138" y="514"/>
                  </a:lnTo>
                  <a:lnTo>
                    <a:pt x="106" y="449"/>
                  </a:lnTo>
                  <a:lnTo>
                    <a:pt x="83" y="374"/>
                  </a:lnTo>
                  <a:lnTo>
                    <a:pt x="65" y="294"/>
                  </a:lnTo>
                  <a:lnTo>
                    <a:pt x="51" y="212"/>
                  </a:lnTo>
                  <a:lnTo>
                    <a:pt x="40" y="132"/>
                  </a:lnTo>
                  <a:lnTo>
                    <a:pt x="30" y="60"/>
                  </a:lnTo>
                  <a:lnTo>
                    <a:pt x="21" y="0"/>
                  </a:lnTo>
                  <a:lnTo>
                    <a:pt x="0" y="2"/>
                  </a:lnTo>
                  <a:lnTo>
                    <a:pt x="9" y="62"/>
                  </a:lnTo>
                  <a:lnTo>
                    <a:pt x="19" y="134"/>
                  </a:lnTo>
                  <a:lnTo>
                    <a:pt x="29" y="215"/>
                  </a:lnTo>
                  <a:lnTo>
                    <a:pt x="43" y="296"/>
                  </a:lnTo>
                  <a:lnTo>
                    <a:pt x="62" y="378"/>
                  </a:lnTo>
                  <a:lnTo>
                    <a:pt x="87" y="456"/>
                  </a:lnTo>
                  <a:lnTo>
                    <a:pt x="119" y="524"/>
                  </a:lnTo>
                  <a:lnTo>
                    <a:pt x="161" y="579"/>
                  </a:lnTo>
                  <a:lnTo>
                    <a:pt x="179" y="572"/>
                  </a:lnTo>
                  <a:lnTo>
                    <a:pt x="161" y="579"/>
                  </a:lnTo>
                  <a:lnTo>
                    <a:pt x="169" y="583"/>
                  </a:lnTo>
                  <a:lnTo>
                    <a:pt x="175" y="579"/>
                  </a:lnTo>
                  <a:lnTo>
                    <a:pt x="179" y="572"/>
                  </a:lnTo>
                  <a:lnTo>
                    <a:pt x="175" y="565"/>
                  </a:lnTo>
                  <a:lnTo>
                    <a:pt x="158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409120" y="2660400"/>
              <a:ext cx="9360" cy="59400"/>
            </a:xfrm>
            <a:custGeom>
              <a:avLst/>
              <a:gdLst/>
              <a:ahLst/>
              <a:rect l="l" t="t" r="r" b="b"/>
              <a:pathLst>
                <a:path w="21" h="128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63"/>
                  </a:lnTo>
                  <a:lnTo>
                    <a:pt x="0" y="103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21" y="103"/>
                  </a:lnTo>
                  <a:lnTo>
                    <a:pt x="21" y="63"/>
                  </a:lnTo>
                  <a:lnTo>
                    <a:pt x="21" y="2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373840" y="2228400"/>
              <a:ext cx="49680" cy="432000"/>
            </a:xfrm>
            <a:custGeom>
              <a:avLst/>
              <a:gdLst/>
              <a:ahLst/>
              <a:rect l="l" t="t" r="r" b="b"/>
              <a:pathLst>
                <a:path w="96" h="935">
                  <a:moveTo>
                    <a:pt x="0" y="13"/>
                  </a:moveTo>
                  <a:lnTo>
                    <a:pt x="0" y="14"/>
                  </a:lnTo>
                  <a:lnTo>
                    <a:pt x="37" y="110"/>
                  </a:lnTo>
                  <a:lnTo>
                    <a:pt x="60" y="218"/>
                  </a:lnTo>
                  <a:lnTo>
                    <a:pt x="71" y="332"/>
                  </a:lnTo>
                  <a:lnTo>
                    <a:pt x="75" y="452"/>
                  </a:lnTo>
                  <a:lnTo>
                    <a:pt x="74" y="576"/>
                  </a:lnTo>
                  <a:lnTo>
                    <a:pt x="69" y="700"/>
                  </a:lnTo>
                  <a:lnTo>
                    <a:pt x="67" y="821"/>
                  </a:lnTo>
                  <a:lnTo>
                    <a:pt x="68" y="935"/>
                  </a:lnTo>
                  <a:lnTo>
                    <a:pt x="89" y="935"/>
                  </a:lnTo>
                  <a:lnTo>
                    <a:pt x="88" y="821"/>
                  </a:lnTo>
                  <a:lnTo>
                    <a:pt x="90" y="700"/>
                  </a:lnTo>
                  <a:lnTo>
                    <a:pt x="95" y="576"/>
                  </a:lnTo>
                  <a:lnTo>
                    <a:pt x="96" y="452"/>
                  </a:lnTo>
                  <a:lnTo>
                    <a:pt x="93" y="332"/>
                  </a:lnTo>
                  <a:lnTo>
                    <a:pt x="81" y="215"/>
                  </a:lnTo>
                  <a:lnTo>
                    <a:pt x="58" y="106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161080" y="1833480"/>
              <a:ext cx="498600" cy="498600"/>
            </a:xfrm>
            <a:custGeom>
              <a:avLst/>
              <a:gdLst/>
              <a:ahLst/>
              <a:rect l="l" t="t" r="r" b="b"/>
              <a:pathLst>
                <a:path w="997" h="1084">
                  <a:moveTo>
                    <a:pt x="866" y="316"/>
                  </a:moveTo>
                  <a:lnTo>
                    <a:pt x="854" y="332"/>
                  </a:lnTo>
                  <a:lnTo>
                    <a:pt x="838" y="344"/>
                  </a:lnTo>
                  <a:lnTo>
                    <a:pt x="820" y="353"/>
                  </a:lnTo>
                  <a:lnTo>
                    <a:pt x="801" y="361"/>
                  </a:lnTo>
                  <a:lnTo>
                    <a:pt x="780" y="365"/>
                  </a:lnTo>
                  <a:lnTo>
                    <a:pt x="759" y="368"/>
                  </a:lnTo>
                  <a:lnTo>
                    <a:pt x="737" y="371"/>
                  </a:lnTo>
                  <a:lnTo>
                    <a:pt x="719" y="371"/>
                  </a:lnTo>
                  <a:lnTo>
                    <a:pt x="710" y="402"/>
                  </a:lnTo>
                  <a:lnTo>
                    <a:pt x="699" y="429"/>
                  </a:lnTo>
                  <a:lnTo>
                    <a:pt x="685" y="454"/>
                  </a:lnTo>
                  <a:lnTo>
                    <a:pt x="671" y="476"/>
                  </a:lnTo>
                  <a:lnTo>
                    <a:pt x="653" y="495"/>
                  </a:lnTo>
                  <a:lnTo>
                    <a:pt x="631" y="514"/>
                  </a:lnTo>
                  <a:lnTo>
                    <a:pt x="608" y="530"/>
                  </a:lnTo>
                  <a:lnTo>
                    <a:pt x="581" y="547"/>
                  </a:lnTo>
                  <a:lnTo>
                    <a:pt x="574" y="555"/>
                  </a:lnTo>
                  <a:lnTo>
                    <a:pt x="571" y="567"/>
                  </a:lnTo>
                  <a:lnTo>
                    <a:pt x="570" y="579"/>
                  </a:lnTo>
                  <a:lnTo>
                    <a:pt x="570" y="590"/>
                  </a:lnTo>
                  <a:lnTo>
                    <a:pt x="459" y="958"/>
                  </a:lnTo>
                  <a:lnTo>
                    <a:pt x="455" y="967"/>
                  </a:lnTo>
                  <a:lnTo>
                    <a:pt x="447" y="972"/>
                  </a:lnTo>
                  <a:lnTo>
                    <a:pt x="436" y="977"/>
                  </a:lnTo>
                  <a:lnTo>
                    <a:pt x="421" y="980"/>
                  </a:lnTo>
                  <a:lnTo>
                    <a:pt x="405" y="981"/>
                  </a:lnTo>
                  <a:lnTo>
                    <a:pt x="388" y="981"/>
                  </a:lnTo>
                  <a:lnTo>
                    <a:pt x="369" y="980"/>
                  </a:lnTo>
                  <a:lnTo>
                    <a:pt x="348" y="980"/>
                  </a:lnTo>
                  <a:lnTo>
                    <a:pt x="328" y="978"/>
                  </a:lnTo>
                  <a:lnTo>
                    <a:pt x="308" y="977"/>
                  </a:lnTo>
                  <a:lnTo>
                    <a:pt x="290" y="977"/>
                  </a:lnTo>
                  <a:lnTo>
                    <a:pt x="272" y="977"/>
                  </a:lnTo>
                  <a:lnTo>
                    <a:pt x="256" y="980"/>
                  </a:lnTo>
                  <a:lnTo>
                    <a:pt x="241" y="982"/>
                  </a:lnTo>
                  <a:lnTo>
                    <a:pt x="229" y="987"/>
                  </a:lnTo>
                  <a:lnTo>
                    <a:pt x="221" y="993"/>
                  </a:lnTo>
                  <a:lnTo>
                    <a:pt x="212" y="1003"/>
                  </a:lnTo>
                  <a:lnTo>
                    <a:pt x="206" y="1012"/>
                  </a:lnTo>
                  <a:lnTo>
                    <a:pt x="201" y="1021"/>
                  </a:lnTo>
                  <a:lnTo>
                    <a:pt x="195" y="1029"/>
                  </a:lnTo>
                  <a:lnTo>
                    <a:pt x="191" y="1039"/>
                  </a:lnTo>
                  <a:lnTo>
                    <a:pt x="186" y="1051"/>
                  </a:lnTo>
                  <a:lnTo>
                    <a:pt x="181" y="1066"/>
                  </a:lnTo>
                  <a:lnTo>
                    <a:pt x="173" y="1084"/>
                  </a:lnTo>
                  <a:lnTo>
                    <a:pt x="151" y="1071"/>
                  </a:lnTo>
                  <a:lnTo>
                    <a:pt x="135" y="1059"/>
                  </a:lnTo>
                  <a:lnTo>
                    <a:pt x="128" y="1044"/>
                  </a:lnTo>
                  <a:lnTo>
                    <a:pt x="122" y="1029"/>
                  </a:lnTo>
                  <a:lnTo>
                    <a:pt x="121" y="1012"/>
                  </a:lnTo>
                  <a:lnTo>
                    <a:pt x="120" y="995"/>
                  </a:lnTo>
                  <a:lnTo>
                    <a:pt x="119" y="975"/>
                  </a:lnTo>
                  <a:lnTo>
                    <a:pt x="114" y="953"/>
                  </a:lnTo>
                  <a:lnTo>
                    <a:pt x="103" y="928"/>
                  </a:lnTo>
                  <a:lnTo>
                    <a:pt x="90" y="901"/>
                  </a:lnTo>
                  <a:lnTo>
                    <a:pt x="74" y="877"/>
                  </a:lnTo>
                  <a:lnTo>
                    <a:pt x="58" y="851"/>
                  </a:lnTo>
                  <a:lnTo>
                    <a:pt x="41" y="826"/>
                  </a:lnTo>
                  <a:lnTo>
                    <a:pt x="26" y="801"/>
                  </a:lnTo>
                  <a:lnTo>
                    <a:pt x="13" y="776"/>
                  </a:lnTo>
                  <a:lnTo>
                    <a:pt x="5" y="749"/>
                  </a:lnTo>
                  <a:lnTo>
                    <a:pt x="0" y="717"/>
                  </a:lnTo>
                  <a:lnTo>
                    <a:pt x="2" y="684"/>
                  </a:lnTo>
                  <a:lnTo>
                    <a:pt x="8" y="653"/>
                  </a:lnTo>
                  <a:lnTo>
                    <a:pt x="19" y="623"/>
                  </a:lnTo>
                  <a:lnTo>
                    <a:pt x="33" y="593"/>
                  </a:lnTo>
                  <a:lnTo>
                    <a:pt x="51" y="565"/>
                  </a:lnTo>
                  <a:lnTo>
                    <a:pt x="71" y="536"/>
                  </a:lnTo>
                  <a:lnTo>
                    <a:pt x="92" y="509"/>
                  </a:lnTo>
                  <a:lnTo>
                    <a:pt x="114" y="482"/>
                  </a:lnTo>
                  <a:lnTo>
                    <a:pt x="137" y="455"/>
                  </a:lnTo>
                  <a:lnTo>
                    <a:pt x="159" y="428"/>
                  </a:lnTo>
                  <a:lnTo>
                    <a:pt x="181" y="403"/>
                  </a:lnTo>
                  <a:lnTo>
                    <a:pt x="200" y="377"/>
                  </a:lnTo>
                  <a:lnTo>
                    <a:pt x="215" y="351"/>
                  </a:lnTo>
                  <a:lnTo>
                    <a:pt x="230" y="326"/>
                  </a:lnTo>
                  <a:lnTo>
                    <a:pt x="241" y="301"/>
                  </a:lnTo>
                  <a:lnTo>
                    <a:pt x="243" y="266"/>
                  </a:lnTo>
                  <a:lnTo>
                    <a:pt x="235" y="228"/>
                  </a:lnTo>
                  <a:lnTo>
                    <a:pt x="231" y="192"/>
                  </a:lnTo>
                  <a:lnTo>
                    <a:pt x="234" y="157"/>
                  </a:lnTo>
                  <a:lnTo>
                    <a:pt x="247" y="132"/>
                  </a:lnTo>
                  <a:lnTo>
                    <a:pt x="263" y="110"/>
                  </a:lnTo>
                  <a:lnTo>
                    <a:pt x="280" y="93"/>
                  </a:lnTo>
                  <a:lnTo>
                    <a:pt x="297" y="77"/>
                  </a:lnTo>
                  <a:lnTo>
                    <a:pt x="315" y="65"/>
                  </a:lnTo>
                  <a:lnTo>
                    <a:pt x="335" y="56"/>
                  </a:lnTo>
                  <a:lnTo>
                    <a:pt x="356" y="49"/>
                  </a:lnTo>
                  <a:lnTo>
                    <a:pt x="377" y="43"/>
                  </a:lnTo>
                  <a:lnTo>
                    <a:pt x="398" y="39"/>
                  </a:lnTo>
                  <a:lnTo>
                    <a:pt x="420" y="36"/>
                  </a:lnTo>
                  <a:lnTo>
                    <a:pt x="445" y="32"/>
                  </a:lnTo>
                  <a:lnTo>
                    <a:pt x="467" y="30"/>
                  </a:lnTo>
                  <a:lnTo>
                    <a:pt x="490" y="27"/>
                  </a:lnTo>
                  <a:lnTo>
                    <a:pt x="512" y="24"/>
                  </a:lnTo>
                  <a:lnTo>
                    <a:pt x="536" y="21"/>
                  </a:lnTo>
                  <a:lnTo>
                    <a:pt x="559" y="14"/>
                  </a:lnTo>
                  <a:lnTo>
                    <a:pt x="583" y="9"/>
                  </a:lnTo>
                  <a:lnTo>
                    <a:pt x="608" y="4"/>
                  </a:lnTo>
                  <a:lnTo>
                    <a:pt x="630" y="1"/>
                  </a:lnTo>
                  <a:lnTo>
                    <a:pt x="653" y="0"/>
                  </a:lnTo>
                  <a:lnTo>
                    <a:pt x="674" y="0"/>
                  </a:lnTo>
                  <a:lnTo>
                    <a:pt x="695" y="1"/>
                  </a:lnTo>
                  <a:lnTo>
                    <a:pt x="715" y="3"/>
                  </a:lnTo>
                  <a:lnTo>
                    <a:pt x="735" y="6"/>
                  </a:lnTo>
                  <a:lnTo>
                    <a:pt x="754" y="12"/>
                  </a:lnTo>
                  <a:lnTo>
                    <a:pt x="773" y="19"/>
                  </a:lnTo>
                  <a:lnTo>
                    <a:pt x="793" y="26"/>
                  </a:lnTo>
                  <a:lnTo>
                    <a:pt x="812" y="34"/>
                  </a:lnTo>
                  <a:lnTo>
                    <a:pt x="832" y="45"/>
                  </a:lnTo>
                  <a:lnTo>
                    <a:pt x="852" y="56"/>
                  </a:lnTo>
                  <a:lnTo>
                    <a:pt x="872" y="67"/>
                  </a:lnTo>
                  <a:lnTo>
                    <a:pt x="893" y="81"/>
                  </a:lnTo>
                  <a:lnTo>
                    <a:pt x="914" y="94"/>
                  </a:lnTo>
                  <a:lnTo>
                    <a:pt x="935" y="107"/>
                  </a:lnTo>
                  <a:lnTo>
                    <a:pt x="954" y="123"/>
                  </a:lnTo>
                  <a:lnTo>
                    <a:pt x="967" y="141"/>
                  </a:lnTo>
                  <a:lnTo>
                    <a:pt x="975" y="161"/>
                  </a:lnTo>
                  <a:lnTo>
                    <a:pt x="975" y="182"/>
                  </a:lnTo>
                  <a:lnTo>
                    <a:pt x="965" y="207"/>
                  </a:lnTo>
                  <a:lnTo>
                    <a:pt x="943" y="234"/>
                  </a:lnTo>
                  <a:lnTo>
                    <a:pt x="974" y="269"/>
                  </a:lnTo>
                  <a:lnTo>
                    <a:pt x="991" y="302"/>
                  </a:lnTo>
                  <a:lnTo>
                    <a:pt x="997" y="331"/>
                  </a:lnTo>
                  <a:lnTo>
                    <a:pt x="994" y="359"/>
                  </a:lnTo>
                  <a:lnTo>
                    <a:pt x="983" y="386"/>
                  </a:lnTo>
                  <a:lnTo>
                    <a:pt x="964" y="414"/>
                  </a:lnTo>
                  <a:lnTo>
                    <a:pt x="940" y="440"/>
                  </a:lnTo>
                  <a:lnTo>
                    <a:pt x="913" y="468"/>
                  </a:lnTo>
                  <a:lnTo>
                    <a:pt x="912" y="445"/>
                  </a:lnTo>
                  <a:lnTo>
                    <a:pt x="909" y="424"/>
                  </a:lnTo>
                  <a:lnTo>
                    <a:pt x="905" y="404"/>
                  </a:lnTo>
                  <a:lnTo>
                    <a:pt x="900" y="385"/>
                  </a:lnTo>
                  <a:lnTo>
                    <a:pt x="893" y="367"/>
                  </a:lnTo>
                  <a:lnTo>
                    <a:pt x="885" y="349"/>
                  </a:lnTo>
                  <a:lnTo>
                    <a:pt x="875" y="333"/>
                  </a:lnTo>
                  <a:lnTo>
                    <a:pt x="866" y="316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516760" y="1976400"/>
              <a:ext cx="82800" cy="32400"/>
            </a:xfrm>
            <a:custGeom>
              <a:avLst/>
              <a:gdLst/>
              <a:ahLst/>
              <a:rect l="l" t="t" r="r" b="b"/>
              <a:pathLst>
                <a:path w="164" h="69">
                  <a:moveTo>
                    <a:pt x="19" y="61"/>
                  </a:moveTo>
                  <a:lnTo>
                    <a:pt x="9" y="69"/>
                  </a:lnTo>
                  <a:lnTo>
                    <a:pt x="27" y="69"/>
                  </a:lnTo>
                  <a:lnTo>
                    <a:pt x="50" y="66"/>
                  </a:lnTo>
                  <a:lnTo>
                    <a:pt x="71" y="62"/>
                  </a:lnTo>
                  <a:lnTo>
                    <a:pt x="94" y="57"/>
                  </a:lnTo>
                  <a:lnTo>
                    <a:pt x="114" y="50"/>
                  </a:lnTo>
                  <a:lnTo>
                    <a:pt x="134" y="40"/>
                  </a:lnTo>
                  <a:lnTo>
                    <a:pt x="151" y="26"/>
                  </a:lnTo>
                  <a:lnTo>
                    <a:pt x="164" y="10"/>
                  </a:lnTo>
                  <a:lnTo>
                    <a:pt x="147" y="0"/>
                  </a:lnTo>
                  <a:lnTo>
                    <a:pt x="138" y="14"/>
                  </a:lnTo>
                  <a:lnTo>
                    <a:pt x="124" y="23"/>
                  </a:lnTo>
                  <a:lnTo>
                    <a:pt x="106" y="33"/>
                  </a:lnTo>
                  <a:lnTo>
                    <a:pt x="88" y="39"/>
                  </a:lnTo>
                  <a:lnTo>
                    <a:pt x="68" y="43"/>
                  </a:lnTo>
                  <a:lnTo>
                    <a:pt x="47" y="47"/>
                  </a:lnTo>
                  <a:lnTo>
                    <a:pt x="27" y="50"/>
                  </a:lnTo>
                  <a:lnTo>
                    <a:pt x="9" y="50"/>
                  </a:lnTo>
                  <a:lnTo>
                    <a:pt x="0" y="56"/>
                  </a:lnTo>
                  <a:lnTo>
                    <a:pt x="9" y="50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9" y="69"/>
                  </a:lnTo>
                  <a:lnTo>
                    <a:pt x="1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449080" y="2001960"/>
              <a:ext cx="77760" cy="8712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9" y="187"/>
                  </a:moveTo>
                  <a:lnTo>
                    <a:pt x="9" y="187"/>
                  </a:lnTo>
                  <a:lnTo>
                    <a:pt x="35" y="170"/>
                  </a:lnTo>
                  <a:lnTo>
                    <a:pt x="61" y="152"/>
                  </a:lnTo>
                  <a:lnTo>
                    <a:pt x="82" y="134"/>
                  </a:lnTo>
                  <a:lnTo>
                    <a:pt x="101" y="114"/>
                  </a:lnTo>
                  <a:lnTo>
                    <a:pt x="117" y="90"/>
                  </a:lnTo>
                  <a:lnTo>
                    <a:pt x="129" y="66"/>
                  </a:lnTo>
                  <a:lnTo>
                    <a:pt x="141" y="36"/>
                  </a:lnTo>
                  <a:lnTo>
                    <a:pt x="152" y="5"/>
                  </a:lnTo>
                  <a:lnTo>
                    <a:pt x="133" y="0"/>
                  </a:lnTo>
                  <a:lnTo>
                    <a:pt x="124" y="31"/>
                  </a:lnTo>
                  <a:lnTo>
                    <a:pt x="114" y="58"/>
                  </a:lnTo>
                  <a:lnTo>
                    <a:pt x="101" y="80"/>
                  </a:lnTo>
                  <a:lnTo>
                    <a:pt x="86" y="102"/>
                  </a:lnTo>
                  <a:lnTo>
                    <a:pt x="70" y="119"/>
                  </a:lnTo>
                  <a:lnTo>
                    <a:pt x="48" y="138"/>
                  </a:lnTo>
                  <a:lnTo>
                    <a:pt x="26" y="154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9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441520" y="2080440"/>
              <a:ext cx="12240" cy="2484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19" y="55"/>
                  </a:moveTo>
                  <a:lnTo>
                    <a:pt x="19" y="52"/>
                  </a:lnTo>
                  <a:lnTo>
                    <a:pt x="19" y="41"/>
                  </a:lnTo>
                  <a:lnTo>
                    <a:pt x="20" y="30"/>
                  </a:lnTo>
                  <a:lnTo>
                    <a:pt x="22" y="20"/>
                  </a:lnTo>
                  <a:lnTo>
                    <a:pt x="25" y="17"/>
                  </a:lnTo>
                  <a:lnTo>
                    <a:pt x="16" y="0"/>
                  </a:lnTo>
                  <a:lnTo>
                    <a:pt x="6" y="14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386440" y="2103480"/>
              <a:ext cx="65160" cy="173160"/>
            </a:xfrm>
            <a:custGeom>
              <a:avLst/>
              <a:gdLst/>
              <a:ahLst/>
              <a:rect l="l" t="t" r="r" b="b"/>
              <a:pathLst>
                <a:path w="130" h="373">
                  <a:moveTo>
                    <a:pt x="19" y="373"/>
                  </a:moveTo>
                  <a:lnTo>
                    <a:pt x="19" y="373"/>
                  </a:lnTo>
                  <a:lnTo>
                    <a:pt x="130" y="5"/>
                  </a:lnTo>
                  <a:lnTo>
                    <a:pt x="111" y="0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19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269080" y="2274480"/>
              <a:ext cx="127800" cy="20880"/>
            </a:xfrm>
            <a:custGeom>
              <a:avLst/>
              <a:gdLst/>
              <a:ahLst/>
              <a:rect l="l" t="t" r="r" b="b"/>
              <a:pathLst>
                <a:path w="256" h="44">
                  <a:moveTo>
                    <a:pt x="14" y="44"/>
                  </a:moveTo>
                  <a:lnTo>
                    <a:pt x="14" y="44"/>
                  </a:lnTo>
                  <a:lnTo>
                    <a:pt x="20" y="39"/>
                  </a:lnTo>
                  <a:lnTo>
                    <a:pt x="30" y="35"/>
                  </a:lnTo>
                  <a:lnTo>
                    <a:pt x="44" y="33"/>
                  </a:lnTo>
                  <a:lnTo>
                    <a:pt x="59" y="31"/>
                  </a:lnTo>
                  <a:lnTo>
                    <a:pt x="77" y="31"/>
                  </a:lnTo>
                  <a:lnTo>
                    <a:pt x="95" y="31"/>
                  </a:lnTo>
                  <a:lnTo>
                    <a:pt x="115" y="32"/>
                  </a:lnTo>
                  <a:lnTo>
                    <a:pt x="135" y="33"/>
                  </a:lnTo>
                  <a:lnTo>
                    <a:pt x="156" y="33"/>
                  </a:lnTo>
                  <a:lnTo>
                    <a:pt x="175" y="34"/>
                  </a:lnTo>
                  <a:lnTo>
                    <a:pt x="192" y="34"/>
                  </a:lnTo>
                  <a:lnTo>
                    <a:pt x="208" y="33"/>
                  </a:lnTo>
                  <a:lnTo>
                    <a:pt x="225" y="31"/>
                  </a:lnTo>
                  <a:lnTo>
                    <a:pt x="238" y="25"/>
                  </a:lnTo>
                  <a:lnTo>
                    <a:pt x="248" y="16"/>
                  </a:lnTo>
                  <a:lnTo>
                    <a:pt x="256" y="5"/>
                  </a:lnTo>
                  <a:lnTo>
                    <a:pt x="237" y="0"/>
                  </a:lnTo>
                  <a:lnTo>
                    <a:pt x="235" y="5"/>
                  </a:lnTo>
                  <a:lnTo>
                    <a:pt x="228" y="9"/>
                  </a:lnTo>
                  <a:lnTo>
                    <a:pt x="221" y="12"/>
                  </a:lnTo>
                  <a:lnTo>
                    <a:pt x="208" y="14"/>
                  </a:lnTo>
                  <a:lnTo>
                    <a:pt x="192" y="15"/>
                  </a:lnTo>
                  <a:lnTo>
                    <a:pt x="175" y="15"/>
                  </a:lnTo>
                  <a:lnTo>
                    <a:pt x="156" y="14"/>
                  </a:lnTo>
                  <a:lnTo>
                    <a:pt x="135" y="14"/>
                  </a:lnTo>
                  <a:lnTo>
                    <a:pt x="115" y="13"/>
                  </a:lnTo>
                  <a:lnTo>
                    <a:pt x="95" y="12"/>
                  </a:lnTo>
                  <a:lnTo>
                    <a:pt x="77" y="12"/>
                  </a:lnTo>
                  <a:lnTo>
                    <a:pt x="59" y="12"/>
                  </a:lnTo>
                  <a:lnTo>
                    <a:pt x="41" y="14"/>
                  </a:lnTo>
                  <a:lnTo>
                    <a:pt x="26" y="16"/>
                  </a:lnTo>
                  <a:lnTo>
                    <a:pt x="11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243880" y="2288520"/>
              <a:ext cx="29520" cy="47880"/>
            </a:xfrm>
            <a:custGeom>
              <a:avLst/>
              <a:gdLst/>
              <a:ahLst/>
              <a:rect l="l" t="t" r="r" b="b"/>
              <a:pathLst>
                <a:path w="62" h="105">
                  <a:moveTo>
                    <a:pt x="5" y="105"/>
                  </a:moveTo>
                  <a:lnTo>
                    <a:pt x="17" y="100"/>
                  </a:lnTo>
                  <a:lnTo>
                    <a:pt x="24" y="80"/>
                  </a:lnTo>
                  <a:lnTo>
                    <a:pt x="29" y="68"/>
                  </a:lnTo>
                  <a:lnTo>
                    <a:pt x="35" y="54"/>
                  </a:lnTo>
                  <a:lnTo>
                    <a:pt x="39" y="45"/>
                  </a:lnTo>
                  <a:lnTo>
                    <a:pt x="44" y="38"/>
                  </a:lnTo>
                  <a:lnTo>
                    <a:pt x="48" y="30"/>
                  </a:lnTo>
                  <a:lnTo>
                    <a:pt x="55" y="21"/>
                  </a:lnTo>
                  <a:lnTo>
                    <a:pt x="62" y="12"/>
                  </a:lnTo>
                  <a:lnTo>
                    <a:pt x="48" y="0"/>
                  </a:lnTo>
                  <a:lnTo>
                    <a:pt x="40" y="9"/>
                  </a:lnTo>
                  <a:lnTo>
                    <a:pt x="35" y="20"/>
                  </a:lnTo>
                  <a:lnTo>
                    <a:pt x="27" y="28"/>
                  </a:lnTo>
                  <a:lnTo>
                    <a:pt x="23" y="36"/>
                  </a:lnTo>
                  <a:lnTo>
                    <a:pt x="18" y="46"/>
                  </a:lnTo>
                  <a:lnTo>
                    <a:pt x="13" y="60"/>
                  </a:lnTo>
                  <a:lnTo>
                    <a:pt x="7" y="75"/>
                  </a:lnTo>
                  <a:lnTo>
                    <a:pt x="0" y="93"/>
                  </a:lnTo>
                  <a:lnTo>
                    <a:pt x="11" y="89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5" y="105"/>
                  </a:lnTo>
                  <a:lnTo>
                    <a:pt x="11" y="105"/>
                  </a:lnTo>
                  <a:lnTo>
                    <a:pt x="17" y="100"/>
                  </a:lnTo>
                  <a:lnTo>
                    <a:pt x="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213640" y="2272320"/>
              <a:ext cx="34560" cy="64080"/>
            </a:xfrm>
            <a:custGeom>
              <a:avLst/>
              <a:gdLst/>
              <a:ahLst/>
              <a:rect l="l" t="t" r="r" b="b"/>
              <a:pathLst>
                <a:path w="71" h="142">
                  <a:moveTo>
                    <a:pt x="0" y="5"/>
                  </a:moveTo>
                  <a:lnTo>
                    <a:pt x="0" y="5"/>
                  </a:lnTo>
                  <a:lnTo>
                    <a:pt x="5" y="25"/>
                  </a:lnTo>
                  <a:lnTo>
                    <a:pt x="6" y="44"/>
                  </a:lnTo>
                  <a:lnTo>
                    <a:pt x="7" y="61"/>
                  </a:lnTo>
                  <a:lnTo>
                    <a:pt x="8" y="79"/>
                  </a:lnTo>
                  <a:lnTo>
                    <a:pt x="14" y="97"/>
                  </a:lnTo>
                  <a:lnTo>
                    <a:pt x="24" y="113"/>
                  </a:lnTo>
                  <a:lnTo>
                    <a:pt x="42" y="128"/>
                  </a:lnTo>
                  <a:lnTo>
                    <a:pt x="65" y="142"/>
                  </a:lnTo>
                  <a:lnTo>
                    <a:pt x="71" y="126"/>
                  </a:lnTo>
                  <a:lnTo>
                    <a:pt x="50" y="113"/>
                  </a:lnTo>
                  <a:lnTo>
                    <a:pt x="38" y="101"/>
                  </a:lnTo>
                  <a:lnTo>
                    <a:pt x="30" y="90"/>
                  </a:lnTo>
                  <a:lnTo>
                    <a:pt x="27" y="77"/>
                  </a:lnTo>
                  <a:lnTo>
                    <a:pt x="26" y="61"/>
                  </a:lnTo>
                  <a:lnTo>
                    <a:pt x="25" y="44"/>
                  </a:lnTo>
                  <a:lnTo>
                    <a:pt x="24" y="2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158560" y="2177640"/>
              <a:ext cx="64440" cy="96840"/>
            </a:xfrm>
            <a:custGeom>
              <a:avLst/>
              <a:gdLst/>
              <a:ahLst/>
              <a:rect l="l" t="t" r="r" b="b"/>
              <a:pathLst>
                <a:path w="128" h="208">
                  <a:moveTo>
                    <a:pt x="0" y="2"/>
                  </a:moveTo>
                  <a:lnTo>
                    <a:pt x="0" y="2"/>
                  </a:lnTo>
                  <a:lnTo>
                    <a:pt x="9" y="31"/>
                  </a:lnTo>
                  <a:lnTo>
                    <a:pt x="22" y="58"/>
                  </a:lnTo>
                  <a:lnTo>
                    <a:pt x="37" y="83"/>
                  </a:lnTo>
                  <a:lnTo>
                    <a:pt x="54" y="108"/>
                  </a:lnTo>
                  <a:lnTo>
                    <a:pt x="70" y="133"/>
                  </a:lnTo>
                  <a:lnTo>
                    <a:pt x="85" y="159"/>
                  </a:lnTo>
                  <a:lnTo>
                    <a:pt x="100" y="183"/>
                  </a:lnTo>
                  <a:lnTo>
                    <a:pt x="109" y="208"/>
                  </a:lnTo>
                  <a:lnTo>
                    <a:pt x="128" y="203"/>
                  </a:lnTo>
                  <a:lnTo>
                    <a:pt x="116" y="177"/>
                  </a:lnTo>
                  <a:lnTo>
                    <a:pt x="102" y="149"/>
                  </a:lnTo>
                  <a:lnTo>
                    <a:pt x="86" y="124"/>
                  </a:lnTo>
                  <a:lnTo>
                    <a:pt x="70" y="98"/>
                  </a:lnTo>
                  <a:lnTo>
                    <a:pt x="54" y="73"/>
                  </a:lnTo>
                  <a:lnTo>
                    <a:pt x="39" y="49"/>
                  </a:lnTo>
                  <a:lnTo>
                    <a:pt x="25" y="2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156040" y="1969560"/>
              <a:ext cx="130320" cy="209880"/>
            </a:xfrm>
            <a:custGeom>
              <a:avLst/>
              <a:gdLst/>
              <a:ahLst/>
              <a:rect l="l" t="t" r="r" b="b"/>
              <a:pathLst>
                <a:path w="260" h="453">
                  <a:moveTo>
                    <a:pt x="241" y="0"/>
                  </a:moveTo>
                  <a:lnTo>
                    <a:pt x="242" y="0"/>
                  </a:lnTo>
                  <a:lnTo>
                    <a:pt x="232" y="26"/>
                  </a:lnTo>
                  <a:lnTo>
                    <a:pt x="217" y="49"/>
                  </a:lnTo>
                  <a:lnTo>
                    <a:pt x="202" y="75"/>
                  </a:lnTo>
                  <a:lnTo>
                    <a:pt x="183" y="100"/>
                  </a:lnTo>
                  <a:lnTo>
                    <a:pt x="162" y="126"/>
                  </a:lnTo>
                  <a:lnTo>
                    <a:pt x="140" y="151"/>
                  </a:lnTo>
                  <a:lnTo>
                    <a:pt x="118" y="179"/>
                  </a:lnTo>
                  <a:lnTo>
                    <a:pt x="94" y="206"/>
                  </a:lnTo>
                  <a:lnTo>
                    <a:pt x="73" y="233"/>
                  </a:lnTo>
                  <a:lnTo>
                    <a:pt x="53" y="262"/>
                  </a:lnTo>
                  <a:lnTo>
                    <a:pt x="35" y="291"/>
                  </a:lnTo>
                  <a:lnTo>
                    <a:pt x="21" y="321"/>
                  </a:lnTo>
                  <a:lnTo>
                    <a:pt x="9" y="353"/>
                  </a:lnTo>
                  <a:lnTo>
                    <a:pt x="4" y="386"/>
                  </a:lnTo>
                  <a:lnTo>
                    <a:pt x="0" y="420"/>
                  </a:lnTo>
                  <a:lnTo>
                    <a:pt x="6" y="453"/>
                  </a:lnTo>
                  <a:lnTo>
                    <a:pt x="25" y="451"/>
                  </a:lnTo>
                  <a:lnTo>
                    <a:pt x="19" y="420"/>
                  </a:lnTo>
                  <a:lnTo>
                    <a:pt x="22" y="388"/>
                  </a:lnTo>
                  <a:lnTo>
                    <a:pt x="28" y="358"/>
                  </a:lnTo>
                  <a:lnTo>
                    <a:pt x="37" y="329"/>
                  </a:lnTo>
                  <a:lnTo>
                    <a:pt x="51" y="300"/>
                  </a:lnTo>
                  <a:lnTo>
                    <a:pt x="68" y="272"/>
                  </a:lnTo>
                  <a:lnTo>
                    <a:pt x="88" y="245"/>
                  </a:lnTo>
                  <a:lnTo>
                    <a:pt x="109" y="218"/>
                  </a:lnTo>
                  <a:lnTo>
                    <a:pt x="131" y="190"/>
                  </a:lnTo>
                  <a:lnTo>
                    <a:pt x="154" y="163"/>
                  </a:lnTo>
                  <a:lnTo>
                    <a:pt x="176" y="138"/>
                  </a:lnTo>
                  <a:lnTo>
                    <a:pt x="198" y="111"/>
                  </a:lnTo>
                  <a:lnTo>
                    <a:pt x="216" y="85"/>
                  </a:lnTo>
                  <a:lnTo>
                    <a:pt x="234" y="58"/>
                  </a:lnTo>
                  <a:lnTo>
                    <a:pt x="249" y="32"/>
                  </a:lnTo>
                  <a:lnTo>
                    <a:pt x="259" y="6"/>
                  </a:lnTo>
                  <a:lnTo>
                    <a:pt x="260" y="6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271240" y="1902600"/>
              <a:ext cx="15120" cy="69120"/>
            </a:xfrm>
            <a:custGeom>
              <a:avLst/>
              <a:gdLst/>
              <a:ahLst/>
              <a:rect l="l" t="t" r="r" b="b"/>
              <a:pathLst>
                <a:path w="30" h="149">
                  <a:moveTo>
                    <a:pt x="4" y="0"/>
                  </a:moveTo>
                  <a:lnTo>
                    <a:pt x="4" y="1"/>
                  </a:lnTo>
                  <a:lnTo>
                    <a:pt x="0" y="38"/>
                  </a:lnTo>
                  <a:lnTo>
                    <a:pt x="4" y="76"/>
                  </a:lnTo>
                  <a:lnTo>
                    <a:pt x="11" y="112"/>
                  </a:lnTo>
                  <a:lnTo>
                    <a:pt x="9" y="143"/>
                  </a:lnTo>
                  <a:lnTo>
                    <a:pt x="28" y="149"/>
                  </a:lnTo>
                  <a:lnTo>
                    <a:pt x="30" y="112"/>
                  </a:lnTo>
                  <a:lnTo>
                    <a:pt x="23" y="73"/>
                  </a:lnTo>
                  <a:lnTo>
                    <a:pt x="19" y="38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273400" y="1835280"/>
              <a:ext cx="168120" cy="71640"/>
            </a:xfrm>
            <a:custGeom>
              <a:avLst/>
              <a:gdLst/>
              <a:ahLst/>
              <a:rect l="l" t="t" r="r" b="b"/>
              <a:pathLst>
                <a:path w="335" h="156">
                  <a:moveTo>
                    <a:pt x="330" y="0"/>
                  </a:moveTo>
                  <a:lnTo>
                    <a:pt x="330" y="0"/>
                  </a:lnTo>
                  <a:lnTo>
                    <a:pt x="309" y="6"/>
                  </a:lnTo>
                  <a:lnTo>
                    <a:pt x="285" y="9"/>
                  </a:lnTo>
                  <a:lnTo>
                    <a:pt x="263" y="14"/>
                  </a:lnTo>
                  <a:lnTo>
                    <a:pt x="241" y="16"/>
                  </a:lnTo>
                  <a:lnTo>
                    <a:pt x="217" y="18"/>
                  </a:lnTo>
                  <a:lnTo>
                    <a:pt x="193" y="21"/>
                  </a:lnTo>
                  <a:lnTo>
                    <a:pt x="171" y="24"/>
                  </a:lnTo>
                  <a:lnTo>
                    <a:pt x="149" y="28"/>
                  </a:lnTo>
                  <a:lnTo>
                    <a:pt x="128" y="35"/>
                  </a:lnTo>
                  <a:lnTo>
                    <a:pt x="106" y="42"/>
                  </a:lnTo>
                  <a:lnTo>
                    <a:pt x="84" y="52"/>
                  </a:lnTo>
                  <a:lnTo>
                    <a:pt x="65" y="65"/>
                  </a:lnTo>
                  <a:lnTo>
                    <a:pt x="47" y="80"/>
                  </a:lnTo>
                  <a:lnTo>
                    <a:pt x="30" y="99"/>
                  </a:lnTo>
                  <a:lnTo>
                    <a:pt x="14" y="121"/>
                  </a:lnTo>
                  <a:lnTo>
                    <a:pt x="0" y="149"/>
                  </a:lnTo>
                  <a:lnTo>
                    <a:pt x="17" y="156"/>
                  </a:lnTo>
                  <a:lnTo>
                    <a:pt x="30" y="131"/>
                  </a:lnTo>
                  <a:lnTo>
                    <a:pt x="44" y="111"/>
                  </a:lnTo>
                  <a:lnTo>
                    <a:pt x="59" y="95"/>
                  </a:lnTo>
                  <a:lnTo>
                    <a:pt x="77" y="79"/>
                  </a:lnTo>
                  <a:lnTo>
                    <a:pt x="93" y="69"/>
                  </a:lnTo>
                  <a:lnTo>
                    <a:pt x="112" y="59"/>
                  </a:lnTo>
                  <a:lnTo>
                    <a:pt x="132" y="54"/>
                  </a:lnTo>
                  <a:lnTo>
                    <a:pt x="153" y="47"/>
                  </a:lnTo>
                  <a:lnTo>
                    <a:pt x="173" y="42"/>
                  </a:lnTo>
                  <a:lnTo>
                    <a:pt x="195" y="40"/>
                  </a:lnTo>
                  <a:lnTo>
                    <a:pt x="220" y="37"/>
                  </a:lnTo>
                  <a:lnTo>
                    <a:pt x="241" y="35"/>
                  </a:lnTo>
                  <a:lnTo>
                    <a:pt x="265" y="32"/>
                  </a:lnTo>
                  <a:lnTo>
                    <a:pt x="288" y="28"/>
                  </a:lnTo>
                  <a:lnTo>
                    <a:pt x="311" y="25"/>
                  </a:lnTo>
                  <a:lnTo>
                    <a:pt x="335" y="19"/>
                  </a:lnTo>
                  <a:lnTo>
                    <a:pt x="335" y="19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439360" y="1828800"/>
              <a:ext cx="172440" cy="439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42" y="82"/>
                  </a:moveTo>
                  <a:lnTo>
                    <a:pt x="342" y="82"/>
                  </a:lnTo>
                  <a:lnTo>
                    <a:pt x="320" y="70"/>
                  </a:lnTo>
                  <a:lnTo>
                    <a:pt x="300" y="57"/>
                  </a:lnTo>
                  <a:lnTo>
                    <a:pt x="279" y="47"/>
                  </a:lnTo>
                  <a:lnTo>
                    <a:pt x="259" y="36"/>
                  </a:lnTo>
                  <a:lnTo>
                    <a:pt x="240" y="29"/>
                  </a:lnTo>
                  <a:lnTo>
                    <a:pt x="219" y="20"/>
                  </a:lnTo>
                  <a:lnTo>
                    <a:pt x="200" y="13"/>
                  </a:lnTo>
                  <a:lnTo>
                    <a:pt x="180" y="6"/>
                  </a:lnTo>
                  <a:lnTo>
                    <a:pt x="160" y="3"/>
                  </a:lnTo>
                  <a:lnTo>
                    <a:pt x="139" y="1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4" y="1"/>
                  </a:lnTo>
                  <a:lnTo>
                    <a:pt x="51" y="4"/>
                  </a:lnTo>
                  <a:lnTo>
                    <a:pt x="26" y="10"/>
                  </a:lnTo>
                  <a:lnTo>
                    <a:pt x="0" y="15"/>
                  </a:lnTo>
                  <a:lnTo>
                    <a:pt x="5" y="34"/>
                  </a:lnTo>
                  <a:lnTo>
                    <a:pt x="28" y="29"/>
                  </a:lnTo>
                  <a:lnTo>
                    <a:pt x="53" y="23"/>
                  </a:lnTo>
                  <a:lnTo>
                    <a:pt x="74" y="20"/>
                  </a:lnTo>
                  <a:lnTo>
                    <a:pt x="97" y="19"/>
                  </a:lnTo>
                  <a:lnTo>
                    <a:pt x="118" y="19"/>
                  </a:lnTo>
                  <a:lnTo>
                    <a:pt x="139" y="20"/>
                  </a:lnTo>
                  <a:lnTo>
                    <a:pt x="158" y="22"/>
                  </a:lnTo>
                  <a:lnTo>
                    <a:pt x="178" y="25"/>
                  </a:lnTo>
                  <a:lnTo>
                    <a:pt x="196" y="32"/>
                  </a:lnTo>
                  <a:lnTo>
                    <a:pt x="215" y="36"/>
                  </a:lnTo>
                  <a:lnTo>
                    <a:pt x="234" y="44"/>
                  </a:lnTo>
                  <a:lnTo>
                    <a:pt x="252" y="53"/>
                  </a:lnTo>
                  <a:lnTo>
                    <a:pt x="272" y="63"/>
                  </a:lnTo>
                  <a:lnTo>
                    <a:pt x="291" y="74"/>
                  </a:lnTo>
                  <a:lnTo>
                    <a:pt x="311" y="86"/>
                  </a:lnTo>
                  <a:lnTo>
                    <a:pt x="332" y="99"/>
                  </a:lnTo>
                  <a:lnTo>
                    <a:pt x="332" y="99"/>
                  </a:lnTo>
                  <a:lnTo>
                    <a:pt x="34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606760" y="1865880"/>
              <a:ext cx="47520" cy="7848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60" y="156"/>
                  </a:moveTo>
                  <a:lnTo>
                    <a:pt x="60" y="168"/>
                  </a:lnTo>
                  <a:lnTo>
                    <a:pt x="86" y="140"/>
                  </a:lnTo>
                  <a:lnTo>
                    <a:pt x="96" y="111"/>
                  </a:lnTo>
                  <a:lnTo>
                    <a:pt x="96" y="88"/>
                  </a:lnTo>
                  <a:lnTo>
                    <a:pt x="88" y="64"/>
                  </a:lnTo>
                  <a:lnTo>
                    <a:pt x="71" y="45"/>
                  </a:lnTo>
                  <a:lnTo>
                    <a:pt x="52" y="29"/>
                  </a:lnTo>
                  <a:lnTo>
                    <a:pt x="31" y="13"/>
                  </a:lnTo>
                  <a:lnTo>
                    <a:pt x="10" y="0"/>
                  </a:lnTo>
                  <a:lnTo>
                    <a:pt x="0" y="17"/>
                  </a:lnTo>
                  <a:lnTo>
                    <a:pt x="21" y="30"/>
                  </a:lnTo>
                  <a:lnTo>
                    <a:pt x="40" y="43"/>
                  </a:lnTo>
                  <a:lnTo>
                    <a:pt x="59" y="56"/>
                  </a:lnTo>
                  <a:lnTo>
                    <a:pt x="71" y="73"/>
                  </a:lnTo>
                  <a:lnTo>
                    <a:pt x="77" y="90"/>
                  </a:lnTo>
                  <a:lnTo>
                    <a:pt x="77" y="109"/>
                  </a:lnTo>
                  <a:lnTo>
                    <a:pt x="69" y="130"/>
                  </a:lnTo>
                  <a:lnTo>
                    <a:pt x="49" y="156"/>
                  </a:lnTo>
                  <a:lnTo>
                    <a:pt x="49" y="168"/>
                  </a:lnTo>
                  <a:lnTo>
                    <a:pt x="49" y="156"/>
                  </a:lnTo>
                  <a:lnTo>
                    <a:pt x="47" y="162"/>
                  </a:lnTo>
                  <a:lnTo>
                    <a:pt x="50" y="166"/>
                  </a:lnTo>
                  <a:lnTo>
                    <a:pt x="55" y="170"/>
                  </a:lnTo>
                  <a:lnTo>
                    <a:pt x="60" y="168"/>
                  </a:lnTo>
                  <a:lnTo>
                    <a:pt x="6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614320" y="1937160"/>
              <a:ext cx="49680" cy="115560"/>
            </a:xfrm>
            <a:custGeom>
              <a:avLst/>
              <a:gdLst/>
              <a:ahLst/>
              <a:rect l="l" t="t" r="r" b="b"/>
              <a:pathLst>
                <a:path w="102" h="249">
                  <a:moveTo>
                    <a:pt x="0" y="240"/>
                  </a:moveTo>
                  <a:lnTo>
                    <a:pt x="15" y="247"/>
                  </a:lnTo>
                  <a:lnTo>
                    <a:pt x="43" y="218"/>
                  </a:lnTo>
                  <a:lnTo>
                    <a:pt x="66" y="191"/>
                  </a:lnTo>
                  <a:lnTo>
                    <a:pt x="87" y="163"/>
                  </a:lnTo>
                  <a:lnTo>
                    <a:pt x="98" y="134"/>
                  </a:lnTo>
                  <a:lnTo>
                    <a:pt x="102" y="103"/>
                  </a:lnTo>
                  <a:lnTo>
                    <a:pt x="95" y="70"/>
                  </a:lnTo>
                  <a:lnTo>
                    <a:pt x="76" y="37"/>
                  </a:lnTo>
                  <a:lnTo>
                    <a:pt x="44" y="0"/>
                  </a:lnTo>
                  <a:lnTo>
                    <a:pt x="33" y="12"/>
                  </a:lnTo>
                  <a:lnTo>
                    <a:pt x="62" y="46"/>
                  </a:lnTo>
                  <a:lnTo>
                    <a:pt x="79" y="76"/>
                  </a:lnTo>
                  <a:lnTo>
                    <a:pt x="83" y="103"/>
                  </a:lnTo>
                  <a:lnTo>
                    <a:pt x="80" y="129"/>
                  </a:lnTo>
                  <a:lnTo>
                    <a:pt x="71" y="154"/>
                  </a:lnTo>
                  <a:lnTo>
                    <a:pt x="53" y="179"/>
                  </a:lnTo>
                  <a:lnTo>
                    <a:pt x="29" y="207"/>
                  </a:lnTo>
                  <a:lnTo>
                    <a:pt x="3" y="235"/>
                  </a:lnTo>
                  <a:lnTo>
                    <a:pt x="19" y="240"/>
                  </a:lnTo>
                  <a:lnTo>
                    <a:pt x="3" y="235"/>
                  </a:lnTo>
                  <a:lnTo>
                    <a:pt x="1" y="240"/>
                  </a:lnTo>
                  <a:lnTo>
                    <a:pt x="4" y="246"/>
                  </a:lnTo>
                  <a:lnTo>
                    <a:pt x="9" y="249"/>
                  </a:lnTo>
                  <a:lnTo>
                    <a:pt x="15" y="247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589480" y="1974240"/>
              <a:ext cx="34920" cy="73800"/>
            </a:xfrm>
            <a:custGeom>
              <a:avLst/>
              <a:gdLst/>
              <a:ahLst/>
              <a:rect l="l" t="t" r="r" b="b"/>
              <a:pathLst>
                <a:path w="67" h="161">
                  <a:moveTo>
                    <a:pt x="18" y="15"/>
                  </a:moveTo>
                  <a:lnTo>
                    <a:pt x="1" y="15"/>
                  </a:lnTo>
                  <a:lnTo>
                    <a:pt x="11" y="31"/>
                  </a:lnTo>
                  <a:lnTo>
                    <a:pt x="20" y="46"/>
                  </a:lnTo>
                  <a:lnTo>
                    <a:pt x="29" y="64"/>
                  </a:lnTo>
                  <a:lnTo>
                    <a:pt x="36" y="80"/>
                  </a:lnTo>
                  <a:lnTo>
                    <a:pt x="39" y="98"/>
                  </a:lnTo>
                  <a:lnTo>
                    <a:pt x="44" y="118"/>
                  </a:lnTo>
                  <a:lnTo>
                    <a:pt x="47" y="138"/>
                  </a:lnTo>
                  <a:lnTo>
                    <a:pt x="48" y="161"/>
                  </a:lnTo>
                  <a:lnTo>
                    <a:pt x="67" y="161"/>
                  </a:lnTo>
                  <a:lnTo>
                    <a:pt x="66" y="138"/>
                  </a:lnTo>
                  <a:lnTo>
                    <a:pt x="63" y="116"/>
                  </a:lnTo>
                  <a:lnTo>
                    <a:pt x="58" y="96"/>
                  </a:lnTo>
                  <a:lnTo>
                    <a:pt x="52" y="76"/>
                  </a:lnTo>
                  <a:lnTo>
                    <a:pt x="46" y="57"/>
                  </a:lnTo>
                  <a:lnTo>
                    <a:pt x="37" y="39"/>
                  </a:lnTo>
                  <a:lnTo>
                    <a:pt x="28" y="21"/>
                  </a:lnTo>
                  <a:lnTo>
                    <a:pt x="18" y="5"/>
                  </a:lnTo>
                  <a:lnTo>
                    <a:pt x="1" y="5"/>
                  </a:lnTo>
                  <a:lnTo>
                    <a:pt x="18" y="5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7"/>
                  </a:lnTo>
                  <a:lnTo>
                    <a:pt x="1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551680" y="2066400"/>
              <a:ext cx="29880" cy="3456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43" y="0"/>
                  </a:moveTo>
                  <a:lnTo>
                    <a:pt x="52" y="11"/>
                  </a:lnTo>
                  <a:lnTo>
                    <a:pt x="58" y="24"/>
                  </a:lnTo>
                  <a:lnTo>
                    <a:pt x="61" y="38"/>
                  </a:lnTo>
                  <a:lnTo>
                    <a:pt x="58" y="51"/>
                  </a:lnTo>
                  <a:lnTo>
                    <a:pt x="52" y="63"/>
                  </a:lnTo>
                  <a:lnTo>
                    <a:pt x="43" y="71"/>
                  </a:lnTo>
                  <a:lnTo>
                    <a:pt x="28" y="74"/>
                  </a:lnTo>
                  <a:lnTo>
                    <a:pt x="11" y="72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2" y="53"/>
                  </a:lnTo>
                  <a:lnTo>
                    <a:pt x="10" y="44"/>
                  </a:lnTo>
                  <a:lnTo>
                    <a:pt x="17" y="33"/>
                  </a:lnTo>
                  <a:lnTo>
                    <a:pt x="27" y="23"/>
                  </a:lnTo>
                  <a:lnTo>
                    <a:pt x="36" y="1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604600" y="2080440"/>
              <a:ext cx="12240" cy="2772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12" y="0"/>
                  </a:moveTo>
                  <a:lnTo>
                    <a:pt x="5" y="14"/>
                  </a:lnTo>
                  <a:lnTo>
                    <a:pt x="1" y="30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1"/>
                  </a:lnTo>
                  <a:lnTo>
                    <a:pt x="7" y="61"/>
                  </a:lnTo>
                  <a:lnTo>
                    <a:pt x="10" y="60"/>
                  </a:lnTo>
                  <a:lnTo>
                    <a:pt x="13" y="58"/>
                  </a:lnTo>
                  <a:lnTo>
                    <a:pt x="24" y="40"/>
                  </a:lnTo>
                  <a:lnTo>
                    <a:pt x="25" y="24"/>
                  </a:lnTo>
                  <a:lnTo>
                    <a:pt x="20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661840" y="2842920"/>
              <a:ext cx="248040" cy="265320"/>
            </a:xfrm>
            <a:custGeom>
              <a:avLst/>
              <a:gdLst/>
              <a:ahLst/>
              <a:rect l="l" t="t" r="r" b="b"/>
              <a:pathLst>
                <a:path w="496" h="574">
                  <a:moveTo>
                    <a:pt x="181" y="25"/>
                  </a:moveTo>
                  <a:lnTo>
                    <a:pt x="170" y="37"/>
                  </a:lnTo>
                  <a:lnTo>
                    <a:pt x="160" y="49"/>
                  </a:lnTo>
                  <a:lnTo>
                    <a:pt x="153" y="63"/>
                  </a:lnTo>
                  <a:lnTo>
                    <a:pt x="149" y="80"/>
                  </a:lnTo>
                  <a:lnTo>
                    <a:pt x="145" y="98"/>
                  </a:lnTo>
                  <a:lnTo>
                    <a:pt x="144" y="118"/>
                  </a:lnTo>
                  <a:lnTo>
                    <a:pt x="146" y="139"/>
                  </a:lnTo>
                  <a:lnTo>
                    <a:pt x="150" y="161"/>
                  </a:lnTo>
                  <a:lnTo>
                    <a:pt x="151" y="178"/>
                  </a:lnTo>
                  <a:lnTo>
                    <a:pt x="148" y="197"/>
                  </a:lnTo>
                  <a:lnTo>
                    <a:pt x="143" y="214"/>
                  </a:lnTo>
                  <a:lnTo>
                    <a:pt x="137" y="232"/>
                  </a:lnTo>
                  <a:lnTo>
                    <a:pt x="132" y="249"/>
                  </a:lnTo>
                  <a:lnTo>
                    <a:pt x="131" y="264"/>
                  </a:lnTo>
                  <a:lnTo>
                    <a:pt x="133" y="276"/>
                  </a:lnTo>
                  <a:lnTo>
                    <a:pt x="143" y="286"/>
                  </a:lnTo>
                  <a:lnTo>
                    <a:pt x="150" y="289"/>
                  </a:lnTo>
                  <a:lnTo>
                    <a:pt x="156" y="290"/>
                  </a:lnTo>
                  <a:lnTo>
                    <a:pt x="164" y="289"/>
                  </a:lnTo>
                  <a:lnTo>
                    <a:pt x="171" y="288"/>
                  </a:lnTo>
                  <a:lnTo>
                    <a:pt x="176" y="286"/>
                  </a:lnTo>
                  <a:lnTo>
                    <a:pt x="184" y="282"/>
                  </a:lnTo>
                  <a:lnTo>
                    <a:pt x="190" y="279"/>
                  </a:lnTo>
                  <a:lnTo>
                    <a:pt x="194" y="277"/>
                  </a:lnTo>
                  <a:lnTo>
                    <a:pt x="213" y="267"/>
                  </a:lnTo>
                  <a:lnTo>
                    <a:pt x="230" y="251"/>
                  </a:lnTo>
                  <a:lnTo>
                    <a:pt x="245" y="232"/>
                  </a:lnTo>
                  <a:lnTo>
                    <a:pt x="260" y="211"/>
                  </a:lnTo>
                  <a:lnTo>
                    <a:pt x="273" y="190"/>
                  </a:lnTo>
                  <a:lnTo>
                    <a:pt x="288" y="170"/>
                  </a:lnTo>
                  <a:lnTo>
                    <a:pt x="305" y="153"/>
                  </a:lnTo>
                  <a:lnTo>
                    <a:pt x="324" y="141"/>
                  </a:lnTo>
                  <a:lnTo>
                    <a:pt x="329" y="140"/>
                  </a:lnTo>
                  <a:lnTo>
                    <a:pt x="336" y="142"/>
                  </a:lnTo>
                  <a:lnTo>
                    <a:pt x="341" y="146"/>
                  </a:lnTo>
                  <a:lnTo>
                    <a:pt x="343" y="151"/>
                  </a:lnTo>
                  <a:lnTo>
                    <a:pt x="342" y="180"/>
                  </a:lnTo>
                  <a:lnTo>
                    <a:pt x="339" y="212"/>
                  </a:lnTo>
                  <a:lnTo>
                    <a:pt x="334" y="247"/>
                  </a:lnTo>
                  <a:lnTo>
                    <a:pt x="326" y="279"/>
                  </a:lnTo>
                  <a:lnTo>
                    <a:pt x="317" y="313"/>
                  </a:lnTo>
                  <a:lnTo>
                    <a:pt x="305" y="343"/>
                  </a:lnTo>
                  <a:lnTo>
                    <a:pt x="291" y="370"/>
                  </a:lnTo>
                  <a:lnTo>
                    <a:pt x="275" y="391"/>
                  </a:lnTo>
                  <a:lnTo>
                    <a:pt x="265" y="398"/>
                  </a:lnTo>
                  <a:lnTo>
                    <a:pt x="252" y="400"/>
                  </a:lnTo>
                  <a:lnTo>
                    <a:pt x="239" y="400"/>
                  </a:lnTo>
                  <a:lnTo>
                    <a:pt x="223" y="398"/>
                  </a:lnTo>
                  <a:lnTo>
                    <a:pt x="205" y="392"/>
                  </a:lnTo>
                  <a:lnTo>
                    <a:pt x="186" y="388"/>
                  </a:lnTo>
                  <a:lnTo>
                    <a:pt x="168" y="381"/>
                  </a:lnTo>
                  <a:lnTo>
                    <a:pt x="148" y="373"/>
                  </a:lnTo>
                  <a:lnTo>
                    <a:pt x="127" y="368"/>
                  </a:lnTo>
                  <a:lnTo>
                    <a:pt x="107" y="362"/>
                  </a:lnTo>
                  <a:lnTo>
                    <a:pt x="88" y="358"/>
                  </a:lnTo>
                  <a:lnTo>
                    <a:pt x="69" y="354"/>
                  </a:lnTo>
                  <a:lnTo>
                    <a:pt x="50" y="354"/>
                  </a:lnTo>
                  <a:lnTo>
                    <a:pt x="33" y="358"/>
                  </a:lnTo>
                  <a:lnTo>
                    <a:pt x="19" y="363"/>
                  </a:lnTo>
                  <a:lnTo>
                    <a:pt x="6" y="372"/>
                  </a:lnTo>
                  <a:lnTo>
                    <a:pt x="1" y="381"/>
                  </a:lnTo>
                  <a:lnTo>
                    <a:pt x="0" y="391"/>
                  </a:lnTo>
                  <a:lnTo>
                    <a:pt x="5" y="404"/>
                  </a:lnTo>
                  <a:lnTo>
                    <a:pt x="12" y="420"/>
                  </a:lnTo>
                  <a:lnTo>
                    <a:pt x="22" y="435"/>
                  </a:lnTo>
                  <a:lnTo>
                    <a:pt x="37" y="450"/>
                  </a:lnTo>
                  <a:lnTo>
                    <a:pt x="52" y="468"/>
                  </a:lnTo>
                  <a:lnTo>
                    <a:pt x="70" y="484"/>
                  </a:lnTo>
                  <a:lnTo>
                    <a:pt x="89" y="501"/>
                  </a:lnTo>
                  <a:lnTo>
                    <a:pt x="108" y="516"/>
                  </a:lnTo>
                  <a:lnTo>
                    <a:pt x="128" y="531"/>
                  </a:lnTo>
                  <a:lnTo>
                    <a:pt x="146" y="544"/>
                  </a:lnTo>
                  <a:lnTo>
                    <a:pt x="165" y="555"/>
                  </a:lnTo>
                  <a:lnTo>
                    <a:pt x="183" y="565"/>
                  </a:lnTo>
                  <a:lnTo>
                    <a:pt x="197" y="571"/>
                  </a:lnTo>
                  <a:lnTo>
                    <a:pt x="212" y="574"/>
                  </a:lnTo>
                  <a:lnTo>
                    <a:pt x="216" y="573"/>
                  </a:lnTo>
                  <a:lnTo>
                    <a:pt x="223" y="571"/>
                  </a:lnTo>
                  <a:lnTo>
                    <a:pt x="229" y="566"/>
                  </a:lnTo>
                  <a:lnTo>
                    <a:pt x="235" y="561"/>
                  </a:lnTo>
                  <a:lnTo>
                    <a:pt x="243" y="556"/>
                  </a:lnTo>
                  <a:lnTo>
                    <a:pt x="248" y="552"/>
                  </a:lnTo>
                  <a:lnTo>
                    <a:pt x="253" y="549"/>
                  </a:lnTo>
                  <a:lnTo>
                    <a:pt x="256" y="546"/>
                  </a:lnTo>
                  <a:lnTo>
                    <a:pt x="405" y="391"/>
                  </a:lnTo>
                  <a:lnTo>
                    <a:pt x="415" y="383"/>
                  </a:lnTo>
                  <a:lnTo>
                    <a:pt x="427" y="373"/>
                  </a:lnTo>
                  <a:lnTo>
                    <a:pt x="440" y="362"/>
                  </a:lnTo>
                  <a:lnTo>
                    <a:pt x="456" y="349"/>
                  </a:lnTo>
                  <a:lnTo>
                    <a:pt x="470" y="336"/>
                  </a:lnTo>
                  <a:lnTo>
                    <a:pt x="484" y="323"/>
                  </a:lnTo>
                  <a:lnTo>
                    <a:pt x="491" y="311"/>
                  </a:lnTo>
                  <a:lnTo>
                    <a:pt x="496" y="299"/>
                  </a:lnTo>
                  <a:lnTo>
                    <a:pt x="496" y="277"/>
                  </a:lnTo>
                  <a:lnTo>
                    <a:pt x="488" y="244"/>
                  </a:lnTo>
                  <a:lnTo>
                    <a:pt x="479" y="211"/>
                  </a:lnTo>
                  <a:lnTo>
                    <a:pt x="472" y="189"/>
                  </a:lnTo>
                  <a:lnTo>
                    <a:pt x="468" y="172"/>
                  </a:lnTo>
                  <a:lnTo>
                    <a:pt x="458" y="147"/>
                  </a:lnTo>
                  <a:lnTo>
                    <a:pt x="446" y="117"/>
                  </a:lnTo>
                  <a:lnTo>
                    <a:pt x="430" y="85"/>
                  </a:lnTo>
                  <a:lnTo>
                    <a:pt x="414" y="53"/>
                  </a:lnTo>
                  <a:lnTo>
                    <a:pt x="397" y="27"/>
                  </a:lnTo>
                  <a:lnTo>
                    <a:pt x="382" y="8"/>
                  </a:lnTo>
                  <a:lnTo>
                    <a:pt x="369" y="0"/>
                  </a:lnTo>
                  <a:lnTo>
                    <a:pt x="358" y="1"/>
                  </a:lnTo>
                  <a:lnTo>
                    <a:pt x="347" y="4"/>
                  </a:lnTo>
                  <a:lnTo>
                    <a:pt x="336" y="5"/>
                  </a:lnTo>
                  <a:lnTo>
                    <a:pt x="324" y="7"/>
                  </a:lnTo>
                  <a:lnTo>
                    <a:pt x="313" y="8"/>
                  </a:lnTo>
                  <a:lnTo>
                    <a:pt x="302" y="10"/>
                  </a:lnTo>
                  <a:lnTo>
                    <a:pt x="288" y="11"/>
                  </a:lnTo>
                  <a:lnTo>
                    <a:pt x="277" y="12"/>
                  </a:lnTo>
                  <a:lnTo>
                    <a:pt x="265" y="15"/>
                  </a:lnTo>
                  <a:lnTo>
                    <a:pt x="253" y="16"/>
                  </a:lnTo>
                  <a:lnTo>
                    <a:pt x="241" y="18"/>
                  </a:lnTo>
                  <a:lnTo>
                    <a:pt x="229" y="19"/>
                  </a:lnTo>
                  <a:lnTo>
                    <a:pt x="216" y="21"/>
                  </a:lnTo>
                  <a:lnTo>
                    <a:pt x="204" y="22"/>
                  </a:lnTo>
                  <a:lnTo>
                    <a:pt x="192" y="24"/>
                  </a:lnTo>
                  <a:lnTo>
                    <a:pt x="181" y="25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727360" y="2852280"/>
              <a:ext cx="27000" cy="66240"/>
            </a:xfrm>
            <a:custGeom>
              <a:avLst/>
              <a:gdLst/>
              <a:ahLst/>
              <a:rect l="l" t="t" r="r" b="b"/>
              <a:pathLst>
                <a:path w="55" h="147">
                  <a:moveTo>
                    <a:pt x="27" y="144"/>
                  </a:moveTo>
                  <a:lnTo>
                    <a:pt x="27" y="143"/>
                  </a:lnTo>
                  <a:lnTo>
                    <a:pt x="23" y="122"/>
                  </a:lnTo>
                  <a:lnTo>
                    <a:pt x="21" y="102"/>
                  </a:lnTo>
                  <a:lnTo>
                    <a:pt x="22" y="83"/>
                  </a:lnTo>
                  <a:lnTo>
                    <a:pt x="26" y="66"/>
                  </a:lnTo>
                  <a:lnTo>
                    <a:pt x="30" y="51"/>
                  </a:lnTo>
                  <a:lnTo>
                    <a:pt x="37" y="37"/>
                  </a:lnTo>
                  <a:lnTo>
                    <a:pt x="45" y="27"/>
                  </a:lnTo>
                  <a:lnTo>
                    <a:pt x="55" y="16"/>
                  </a:lnTo>
                  <a:lnTo>
                    <a:pt x="40" y="0"/>
                  </a:lnTo>
                  <a:lnTo>
                    <a:pt x="29" y="13"/>
                  </a:lnTo>
                  <a:lnTo>
                    <a:pt x="18" y="29"/>
                  </a:lnTo>
                  <a:lnTo>
                    <a:pt x="11" y="44"/>
                  </a:lnTo>
                  <a:lnTo>
                    <a:pt x="5" y="62"/>
                  </a:lnTo>
                  <a:lnTo>
                    <a:pt x="1" y="81"/>
                  </a:lnTo>
                  <a:lnTo>
                    <a:pt x="0" y="102"/>
                  </a:lnTo>
                  <a:lnTo>
                    <a:pt x="2" y="124"/>
                  </a:lnTo>
                  <a:lnTo>
                    <a:pt x="6" y="147"/>
                  </a:lnTo>
                  <a:lnTo>
                    <a:pt x="6" y="146"/>
                  </a:lnTo>
                  <a:lnTo>
                    <a:pt x="27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722320" y="2916720"/>
              <a:ext cx="19800" cy="62280"/>
            </a:xfrm>
            <a:custGeom>
              <a:avLst/>
              <a:gdLst/>
              <a:ahLst/>
              <a:rect l="l" t="t" r="r" b="b"/>
              <a:pathLst>
                <a:path w="42" h="134">
                  <a:moveTo>
                    <a:pt x="29" y="116"/>
                  </a:moveTo>
                  <a:lnTo>
                    <a:pt x="28" y="116"/>
                  </a:lnTo>
                  <a:lnTo>
                    <a:pt x="23" y="111"/>
                  </a:lnTo>
                  <a:lnTo>
                    <a:pt x="21" y="104"/>
                  </a:lnTo>
                  <a:lnTo>
                    <a:pt x="23" y="90"/>
                  </a:lnTo>
                  <a:lnTo>
                    <a:pt x="28" y="74"/>
                  </a:lnTo>
                  <a:lnTo>
                    <a:pt x="33" y="57"/>
                  </a:lnTo>
                  <a:lnTo>
                    <a:pt x="38" y="39"/>
                  </a:lnTo>
                  <a:lnTo>
                    <a:pt x="42" y="18"/>
                  </a:lnTo>
                  <a:lnTo>
                    <a:pt x="40" y="0"/>
                  </a:lnTo>
                  <a:lnTo>
                    <a:pt x="19" y="2"/>
                  </a:lnTo>
                  <a:lnTo>
                    <a:pt x="20" y="18"/>
                  </a:lnTo>
                  <a:lnTo>
                    <a:pt x="17" y="34"/>
                  </a:lnTo>
                  <a:lnTo>
                    <a:pt x="12" y="52"/>
                  </a:lnTo>
                  <a:lnTo>
                    <a:pt x="7" y="70"/>
                  </a:lnTo>
                  <a:lnTo>
                    <a:pt x="1" y="88"/>
                  </a:lnTo>
                  <a:lnTo>
                    <a:pt x="0" y="104"/>
                  </a:lnTo>
                  <a:lnTo>
                    <a:pt x="4" y="120"/>
                  </a:lnTo>
                  <a:lnTo>
                    <a:pt x="18" y="134"/>
                  </a:lnTo>
                  <a:lnTo>
                    <a:pt x="17" y="134"/>
                  </a:lnTo>
                  <a:lnTo>
                    <a:pt x="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729520" y="2967480"/>
              <a:ext cx="29880" cy="1620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54" y="0"/>
                  </a:moveTo>
                  <a:lnTo>
                    <a:pt x="54" y="0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26" y="10"/>
                  </a:lnTo>
                  <a:lnTo>
                    <a:pt x="19" y="11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26"/>
                  </a:lnTo>
                  <a:lnTo>
                    <a:pt x="11" y="31"/>
                  </a:lnTo>
                  <a:lnTo>
                    <a:pt x="19" y="33"/>
                  </a:lnTo>
                  <a:lnTo>
                    <a:pt x="28" y="31"/>
                  </a:lnTo>
                  <a:lnTo>
                    <a:pt x="36" y="30"/>
                  </a:lnTo>
                  <a:lnTo>
                    <a:pt x="44" y="26"/>
                  </a:lnTo>
                  <a:lnTo>
                    <a:pt x="51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757600" y="2905200"/>
              <a:ext cx="72000" cy="71640"/>
            </a:xfrm>
            <a:custGeom>
              <a:avLst/>
              <a:gdLst/>
              <a:ahLst/>
              <a:rect l="l" t="t" r="r" b="b"/>
              <a:pathLst>
                <a:path w="143" h="156">
                  <a:moveTo>
                    <a:pt x="131" y="0"/>
                  </a:moveTo>
                  <a:lnTo>
                    <a:pt x="130" y="1"/>
                  </a:lnTo>
                  <a:lnTo>
                    <a:pt x="108" y="14"/>
                  </a:lnTo>
                  <a:lnTo>
                    <a:pt x="90" y="31"/>
                  </a:lnTo>
                  <a:lnTo>
                    <a:pt x="74" y="52"/>
                  </a:lnTo>
                  <a:lnTo>
                    <a:pt x="60" y="73"/>
                  </a:lnTo>
                  <a:lnTo>
                    <a:pt x="46" y="96"/>
                  </a:lnTo>
                  <a:lnTo>
                    <a:pt x="32" y="113"/>
                  </a:lnTo>
                  <a:lnTo>
                    <a:pt x="16" y="127"/>
                  </a:lnTo>
                  <a:lnTo>
                    <a:pt x="0" y="137"/>
                  </a:lnTo>
                  <a:lnTo>
                    <a:pt x="6" y="156"/>
                  </a:lnTo>
                  <a:lnTo>
                    <a:pt x="29" y="143"/>
                  </a:lnTo>
                  <a:lnTo>
                    <a:pt x="46" y="127"/>
                  </a:lnTo>
                  <a:lnTo>
                    <a:pt x="62" y="107"/>
                  </a:lnTo>
                  <a:lnTo>
                    <a:pt x="76" y="86"/>
                  </a:lnTo>
                  <a:lnTo>
                    <a:pt x="91" y="65"/>
                  </a:lnTo>
                  <a:lnTo>
                    <a:pt x="106" y="46"/>
                  </a:lnTo>
                  <a:lnTo>
                    <a:pt x="120" y="30"/>
                  </a:lnTo>
                  <a:lnTo>
                    <a:pt x="136" y="20"/>
                  </a:lnTo>
                  <a:lnTo>
                    <a:pt x="135" y="21"/>
                  </a:lnTo>
                  <a:lnTo>
                    <a:pt x="136" y="20"/>
                  </a:lnTo>
                  <a:lnTo>
                    <a:pt x="143" y="14"/>
                  </a:lnTo>
                  <a:lnTo>
                    <a:pt x="143" y="7"/>
                  </a:lnTo>
                  <a:lnTo>
                    <a:pt x="137" y="1"/>
                  </a:lnTo>
                  <a:lnTo>
                    <a:pt x="13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822040" y="2903040"/>
              <a:ext cx="17280" cy="1548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2"/>
                  </a:moveTo>
                  <a:lnTo>
                    <a:pt x="32" y="21"/>
                  </a:lnTo>
                  <a:lnTo>
                    <a:pt x="26" y="10"/>
                  </a:lnTo>
                  <a:lnTo>
                    <a:pt x="19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4" y="23"/>
                  </a:lnTo>
                  <a:lnTo>
                    <a:pt x="7" y="22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4" y="30"/>
                  </a:lnTo>
                  <a:lnTo>
                    <a:pt x="22" y="32"/>
                  </a:lnTo>
                  <a:lnTo>
                    <a:pt x="30" y="29"/>
                  </a:lnTo>
                  <a:lnTo>
                    <a:pt x="32" y="21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795040" y="2914560"/>
              <a:ext cx="44640" cy="115200"/>
            </a:xfrm>
            <a:custGeom>
              <a:avLst/>
              <a:gdLst/>
              <a:ahLst/>
              <a:rect l="l" t="t" r="r" b="b"/>
              <a:pathLst>
                <a:path w="90" h="251">
                  <a:moveTo>
                    <a:pt x="18" y="248"/>
                  </a:moveTo>
                  <a:lnTo>
                    <a:pt x="18" y="248"/>
                  </a:lnTo>
                  <a:lnTo>
                    <a:pt x="37" y="226"/>
                  </a:lnTo>
                  <a:lnTo>
                    <a:pt x="51" y="196"/>
                  </a:lnTo>
                  <a:lnTo>
                    <a:pt x="63" y="165"/>
                  </a:lnTo>
                  <a:lnTo>
                    <a:pt x="73" y="131"/>
                  </a:lnTo>
                  <a:lnTo>
                    <a:pt x="80" y="97"/>
                  </a:lnTo>
                  <a:lnTo>
                    <a:pt x="86" y="62"/>
                  </a:lnTo>
                  <a:lnTo>
                    <a:pt x="89" y="29"/>
                  </a:lnTo>
                  <a:lnTo>
                    <a:pt x="90" y="0"/>
                  </a:lnTo>
                  <a:lnTo>
                    <a:pt x="69" y="0"/>
                  </a:lnTo>
                  <a:lnTo>
                    <a:pt x="68" y="29"/>
                  </a:lnTo>
                  <a:lnTo>
                    <a:pt x="64" y="60"/>
                  </a:lnTo>
                  <a:lnTo>
                    <a:pt x="59" y="95"/>
                  </a:lnTo>
                  <a:lnTo>
                    <a:pt x="52" y="126"/>
                  </a:lnTo>
                  <a:lnTo>
                    <a:pt x="42" y="160"/>
                  </a:lnTo>
                  <a:lnTo>
                    <a:pt x="32" y="189"/>
                  </a:lnTo>
                  <a:lnTo>
                    <a:pt x="18" y="21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0" y="240"/>
                  </a:lnTo>
                  <a:lnTo>
                    <a:pt x="3" y="248"/>
                  </a:lnTo>
                  <a:lnTo>
                    <a:pt x="11" y="251"/>
                  </a:lnTo>
                  <a:lnTo>
                    <a:pt x="18" y="248"/>
                  </a:lnTo>
                  <a:lnTo>
                    <a:pt x="18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659680" y="3002040"/>
              <a:ext cx="142560" cy="29520"/>
            </a:xfrm>
            <a:custGeom>
              <a:avLst/>
              <a:gdLst/>
              <a:ahLst/>
              <a:rect l="l" t="t" r="r" b="b"/>
              <a:pathLst>
                <a:path w="286" h="66">
                  <a:moveTo>
                    <a:pt x="17" y="36"/>
                  </a:moveTo>
                  <a:lnTo>
                    <a:pt x="17" y="36"/>
                  </a:lnTo>
                  <a:lnTo>
                    <a:pt x="27" y="28"/>
                  </a:lnTo>
                  <a:lnTo>
                    <a:pt x="40" y="24"/>
                  </a:lnTo>
                  <a:lnTo>
                    <a:pt x="54" y="21"/>
                  </a:lnTo>
                  <a:lnTo>
                    <a:pt x="73" y="21"/>
                  </a:lnTo>
                  <a:lnTo>
                    <a:pt x="91" y="24"/>
                  </a:lnTo>
                  <a:lnTo>
                    <a:pt x="107" y="28"/>
                  </a:lnTo>
                  <a:lnTo>
                    <a:pt x="128" y="35"/>
                  </a:lnTo>
                  <a:lnTo>
                    <a:pt x="149" y="40"/>
                  </a:lnTo>
                  <a:lnTo>
                    <a:pt x="168" y="46"/>
                  </a:lnTo>
                  <a:lnTo>
                    <a:pt x="188" y="55"/>
                  </a:lnTo>
                  <a:lnTo>
                    <a:pt x="207" y="59"/>
                  </a:lnTo>
                  <a:lnTo>
                    <a:pt x="226" y="64"/>
                  </a:lnTo>
                  <a:lnTo>
                    <a:pt x="243" y="66"/>
                  </a:lnTo>
                  <a:lnTo>
                    <a:pt x="256" y="66"/>
                  </a:lnTo>
                  <a:lnTo>
                    <a:pt x="272" y="63"/>
                  </a:lnTo>
                  <a:lnTo>
                    <a:pt x="286" y="55"/>
                  </a:lnTo>
                  <a:lnTo>
                    <a:pt x="271" y="40"/>
                  </a:lnTo>
                  <a:lnTo>
                    <a:pt x="266" y="44"/>
                  </a:lnTo>
                  <a:lnTo>
                    <a:pt x="256" y="45"/>
                  </a:lnTo>
                  <a:lnTo>
                    <a:pt x="243" y="45"/>
                  </a:lnTo>
                  <a:lnTo>
                    <a:pt x="228" y="43"/>
                  </a:lnTo>
                  <a:lnTo>
                    <a:pt x="211" y="38"/>
                  </a:lnTo>
                  <a:lnTo>
                    <a:pt x="193" y="34"/>
                  </a:lnTo>
                  <a:lnTo>
                    <a:pt x="175" y="27"/>
                  </a:lnTo>
                  <a:lnTo>
                    <a:pt x="154" y="19"/>
                  </a:lnTo>
                  <a:lnTo>
                    <a:pt x="133" y="14"/>
                  </a:lnTo>
                  <a:lnTo>
                    <a:pt x="113" y="7"/>
                  </a:lnTo>
                  <a:lnTo>
                    <a:pt x="93" y="3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35" y="3"/>
                  </a:lnTo>
                  <a:lnTo>
                    <a:pt x="19" y="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3" y="36"/>
                  </a:lnTo>
                  <a:lnTo>
                    <a:pt x="10" y="39"/>
                  </a:lnTo>
                  <a:lnTo>
                    <a:pt x="17" y="36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656800" y="3011400"/>
              <a:ext cx="110160" cy="101520"/>
            </a:xfrm>
            <a:custGeom>
              <a:avLst/>
              <a:gdLst/>
              <a:ahLst/>
              <a:rect l="l" t="t" r="r" b="b"/>
              <a:pathLst>
                <a:path w="224" h="220">
                  <a:moveTo>
                    <a:pt x="223" y="198"/>
                  </a:moveTo>
                  <a:lnTo>
                    <a:pt x="224" y="198"/>
                  </a:lnTo>
                  <a:lnTo>
                    <a:pt x="212" y="195"/>
                  </a:lnTo>
                  <a:lnTo>
                    <a:pt x="199" y="190"/>
                  </a:lnTo>
                  <a:lnTo>
                    <a:pt x="181" y="181"/>
                  </a:lnTo>
                  <a:lnTo>
                    <a:pt x="163" y="171"/>
                  </a:lnTo>
                  <a:lnTo>
                    <a:pt x="144" y="157"/>
                  </a:lnTo>
                  <a:lnTo>
                    <a:pt x="124" y="144"/>
                  </a:lnTo>
                  <a:lnTo>
                    <a:pt x="106" y="128"/>
                  </a:lnTo>
                  <a:lnTo>
                    <a:pt x="88" y="112"/>
                  </a:lnTo>
                  <a:lnTo>
                    <a:pt x="70" y="96"/>
                  </a:lnTo>
                  <a:lnTo>
                    <a:pt x="55" y="78"/>
                  </a:lnTo>
                  <a:lnTo>
                    <a:pt x="42" y="64"/>
                  </a:lnTo>
                  <a:lnTo>
                    <a:pt x="32" y="50"/>
                  </a:lnTo>
                  <a:lnTo>
                    <a:pt x="26" y="36"/>
                  </a:lnTo>
                  <a:lnTo>
                    <a:pt x="22" y="25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10" y="0"/>
                  </a:lnTo>
                  <a:lnTo>
                    <a:pt x="1" y="14"/>
                  </a:lnTo>
                  <a:lnTo>
                    <a:pt x="0" y="27"/>
                  </a:lnTo>
                  <a:lnTo>
                    <a:pt x="7" y="43"/>
                  </a:lnTo>
                  <a:lnTo>
                    <a:pt x="13" y="59"/>
                  </a:lnTo>
                  <a:lnTo>
                    <a:pt x="26" y="76"/>
                  </a:lnTo>
                  <a:lnTo>
                    <a:pt x="39" y="93"/>
                  </a:lnTo>
                  <a:lnTo>
                    <a:pt x="55" y="110"/>
                  </a:lnTo>
                  <a:lnTo>
                    <a:pt x="73" y="128"/>
                  </a:lnTo>
                  <a:lnTo>
                    <a:pt x="92" y="145"/>
                  </a:lnTo>
                  <a:lnTo>
                    <a:pt x="112" y="159"/>
                  </a:lnTo>
                  <a:lnTo>
                    <a:pt x="132" y="174"/>
                  </a:lnTo>
                  <a:lnTo>
                    <a:pt x="151" y="188"/>
                  </a:lnTo>
                  <a:lnTo>
                    <a:pt x="171" y="200"/>
                  </a:lnTo>
                  <a:lnTo>
                    <a:pt x="189" y="209"/>
                  </a:lnTo>
                  <a:lnTo>
                    <a:pt x="206" y="216"/>
                  </a:lnTo>
                  <a:lnTo>
                    <a:pt x="222" y="220"/>
                  </a:lnTo>
                  <a:lnTo>
                    <a:pt x="223" y="220"/>
                  </a:lnTo>
                  <a:lnTo>
                    <a:pt x="223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766960" y="3092040"/>
              <a:ext cx="24840" cy="2088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6" y="0"/>
                  </a:moveTo>
                  <a:lnTo>
                    <a:pt x="36" y="0"/>
                  </a:lnTo>
                  <a:lnTo>
                    <a:pt x="34" y="1"/>
                  </a:lnTo>
                  <a:lnTo>
                    <a:pt x="31" y="4"/>
                  </a:lnTo>
                  <a:lnTo>
                    <a:pt x="25" y="10"/>
                  </a:lnTo>
                  <a:lnTo>
                    <a:pt x="18" y="13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46"/>
                  </a:lnTo>
                  <a:lnTo>
                    <a:pt x="8" y="45"/>
                  </a:lnTo>
                  <a:lnTo>
                    <a:pt x="15" y="41"/>
                  </a:lnTo>
                  <a:lnTo>
                    <a:pt x="22" y="35"/>
                  </a:lnTo>
                  <a:lnTo>
                    <a:pt x="30" y="32"/>
                  </a:lnTo>
                  <a:lnTo>
                    <a:pt x="36" y="26"/>
                  </a:lnTo>
                  <a:lnTo>
                    <a:pt x="42" y="21"/>
                  </a:lnTo>
                  <a:lnTo>
                    <a:pt x="49" y="1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784600" y="3020400"/>
              <a:ext cx="82800" cy="7848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50" y="0"/>
                  </a:moveTo>
                  <a:lnTo>
                    <a:pt x="150" y="0"/>
                  </a:lnTo>
                  <a:lnTo>
                    <a:pt x="0" y="155"/>
                  </a:lnTo>
                  <a:lnTo>
                    <a:pt x="15" y="169"/>
                  </a:lnTo>
                  <a:lnTo>
                    <a:pt x="165" y="15"/>
                  </a:lnTo>
                  <a:lnTo>
                    <a:pt x="165" y="15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859840" y="2981160"/>
              <a:ext cx="55080" cy="4644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88" y="0"/>
                  </a:moveTo>
                  <a:lnTo>
                    <a:pt x="88" y="1"/>
                  </a:lnTo>
                  <a:lnTo>
                    <a:pt x="84" y="10"/>
                  </a:lnTo>
                  <a:lnTo>
                    <a:pt x="77" y="19"/>
                  </a:lnTo>
                  <a:lnTo>
                    <a:pt x="66" y="32"/>
                  </a:lnTo>
                  <a:lnTo>
                    <a:pt x="51" y="44"/>
                  </a:lnTo>
                  <a:lnTo>
                    <a:pt x="36" y="56"/>
                  </a:lnTo>
                  <a:lnTo>
                    <a:pt x="22" y="68"/>
                  </a:lnTo>
                  <a:lnTo>
                    <a:pt x="10" y="77"/>
                  </a:lnTo>
                  <a:lnTo>
                    <a:pt x="0" y="87"/>
                  </a:lnTo>
                  <a:lnTo>
                    <a:pt x="15" y="102"/>
                  </a:lnTo>
                  <a:lnTo>
                    <a:pt x="23" y="94"/>
                  </a:lnTo>
                  <a:lnTo>
                    <a:pt x="35" y="85"/>
                  </a:lnTo>
                  <a:lnTo>
                    <a:pt x="50" y="73"/>
                  </a:lnTo>
                  <a:lnTo>
                    <a:pt x="66" y="61"/>
                  </a:lnTo>
                  <a:lnTo>
                    <a:pt x="79" y="46"/>
                  </a:lnTo>
                  <a:lnTo>
                    <a:pt x="93" y="33"/>
                  </a:lnTo>
                  <a:lnTo>
                    <a:pt x="103" y="19"/>
                  </a:lnTo>
                  <a:lnTo>
                    <a:pt x="109" y="4"/>
                  </a:lnTo>
                  <a:lnTo>
                    <a:pt x="109" y="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892600" y="2930400"/>
              <a:ext cx="21960" cy="53280"/>
            </a:xfrm>
            <a:custGeom>
              <a:avLst/>
              <a:gdLst/>
              <a:ahLst/>
              <a:rect l="l" t="t" r="r" b="b"/>
              <a:pathLst>
                <a:path w="46" h="116">
                  <a:moveTo>
                    <a:pt x="0" y="4"/>
                  </a:moveTo>
                  <a:lnTo>
                    <a:pt x="0" y="5"/>
                  </a:lnTo>
                  <a:lnTo>
                    <a:pt x="8" y="27"/>
                  </a:lnTo>
                  <a:lnTo>
                    <a:pt x="16" y="61"/>
                  </a:lnTo>
                  <a:lnTo>
                    <a:pt x="25" y="92"/>
                  </a:lnTo>
                  <a:lnTo>
                    <a:pt x="25" y="111"/>
                  </a:lnTo>
                  <a:lnTo>
                    <a:pt x="46" y="116"/>
                  </a:lnTo>
                  <a:lnTo>
                    <a:pt x="46" y="90"/>
                  </a:lnTo>
                  <a:lnTo>
                    <a:pt x="37" y="55"/>
                  </a:lnTo>
                  <a:lnTo>
                    <a:pt x="29" y="23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839680" y="2837880"/>
              <a:ext cx="65160" cy="92160"/>
            </a:xfrm>
            <a:custGeom>
              <a:avLst/>
              <a:gdLst/>
              <a:ahLst/>
              <a:rect l="l" t="t" r="r" b="b"/>
              <a:pathLst>
                <a:path w="126" h="201">
                  <a:moveTo>
                    <a:pt x="12" y="21"/>
                  </a:moveTo>
                  <a:lnTo>
                    <a:pt x="9" y="21"/>
                  </a:lnTo>
                  <a:lnTo>
                    <a:pt x="17" y="26"/>
                  </a:lnTo>
                  <a:lnTo>
                    <a:pt x="31" y="43"/>
                  </a:lnTo>
                  <a:lnTo>
                    <a:pt x="46" y="70"/>
                  </a:lnTo>
                  <a:lnTo>
                    <a:pt x="62" y="100"/>
                  </a:lnTo>
                  <a:lnTo>
                    <a:pt x="78" y="131"/>
                  </a:lnTo>
                  <a:lnTo>
                    <a:pt x="91" y="162"/>
                  </a:lnTo>
                  <a:lnTo>
                    <a:pt x="99" y="187"/>
                  </a:lnTo>
                  <a:lnTo>
                    <a:pt x="103" y="201"/>
                  </a:lnTo>
                  <a:lnTo>
                    <a:pt x="126" y="199"/>
                  </a:lnTo>
                  <a:lnTo>
                    <a:pt x="120" y="180"/>
                  </a:lnTo>
                  <a:lnTo>
                    <a:pt x="110" y="154"/>
                  </a:lnTo>
                  <a:lnTo>
                    <a:pt x="97" y="124"/>
                  </a:lnTo>
                  <a:lnTo>
                    <a:pt x="81" y="91"/>
                  </a:lnTo>
                  <a:lnTo>
                    <a:pt x="65" y="60"/>
                  </a:lnTo>
                  <a:lnTo>
                    <a:pt x="47" y="32"/>
                  </a:lnTo>
                  <a:lnTo>
                    <a:pt x="31" y="1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9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747160" y="2837880"/>
              <a:ext cx="99720" cy="2088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18" y="43"/>
                  </a:moveTo>
                  <a:lnTo>
                    <a:pt x="12" y="46"/>
                  </a:lnTo>
                  <a:lnTo>
                    <a:pt x="22" y="45"/>
                  </a:lnTo>
                  <a:lnTo>
                    <a:pt x="34" y="43"/>
                  </a:lnTo>
                  <a:lnTo>
                    <a:pt x="49" y="42"/>
                  </a:lnTo>
                  <a:lnTo>
                    <a:pt x="60" y="40"/>
                  </a:lnTo>
                  <a:lnTo>
                    <a:pt x="71" y="39"/>
                  </a:lnTo>
                  <a:lnTo>
                    <a:pt x="83" y="38"/>
                  </a:lnTo>
                  <a:lnTo>
                    <a:pt x="96" y="37"/>
                  </a:lnTo>
                  <a:lnTo>
                    <a:pt x="108" y="35"/>
                  </a:lnTo>
                  <a:lnTo>
                    <a:pt x="118" y="33"/>
                  </a:lnTo>
                  <a:lnTo>
                    <a:pt x="133" y="32"/>
                  </a:lnTo>
                  <a:lnTo>
                    <a:pt x="144" y="30"/>
                  </a:lnTo>
                  <a:lnTo>
                    <a:pt x="155" y="29"/>
                  </a:lnTo>
                  <a:lnTo>
                    <a:pt x="167" y="26"/>
                  </a:lnTo>
                  <a:lnTo>
                    <a:pt x="178" y="25"/>
                  </a:lnTo>
                  <a:lnTo>
                    <a:pt x="189" y="22"/>
                  </a:lnTo>
                  <a:lnTo>
                    <a:pt x="200" y="21"/>
                  </a:lnTo>
                  <a:lnTo>
                    <a:pt x="197" y="0"/>
                  </a:lnTo>
                  <a:lnTo>
                    <a:pt x="187" y="1"/>
                  </a:lnTo>
                  <a:lnTo>
                    <a:pt x="176" y="3"/>
                  </a:lnTo>
                  <a:lnTo>
                    <a:pt x="165" y="5"/>
                  </a:lnTo>
                  <a:lnTo>
                    <a:pt x="153" y="7"/>
                  </a:lnTo>
                  <a:lnTo>
                    <a:pt x="141" y="8"/>
                  </a:lnTo>
                  <a:lnTo>
                    <a:pt x="131" y="11"/>
                  </a:lnTo>
                  <a:lnTo>
                    <a:pt x="118" y="12"/>
                  </a:lnTo>
                  <a:lnTo>
                    <a:pt x="106" y="13"/>
                  </a:lnTo>
                  <a:lnTo>
                    <a:pt x="94" y="16"/>
                  </a:lnTo>
                  <a:lnTo>
                    <a:pt x="83" y="17"/>
                  </a:lnTo>
                  <a:lnTo>
                    <a:pt x="71" y="18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4" y="22"/>
                  </a:lnTo>
                  <a:lnTo>
                    <a:pt x="22" y="23"/>
                  </a:lnTo>
                  <a:lnTo>
                    <a:pt x="9" y="25"/>
                  </a:lnTo>
                  <a:lnTo>
                    <a:pt x="3" y="27"/>
                  </a:lnTo>
                  <a:lnTo>
                    <a:pt x="9" y="25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12" y="46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717280" y="2974320"/>
              <a:ext cx="19800" cy="50760"/>
            </a:xfrm>
            <a:custGeom>
              <a:avLst/>
              <a:gdLst/>
              <a:ahLst/>
              <a:rect l="l" t="t" r="r" b="b"/>
              <a:pathLst>
                <a:path w="37" h="108">
                  <a:moveTo>
                    <a:pt x="23" y="101"/>
                  </a:moveTo>
                  <a:lnTo>
                    <a:pt x="23" y="101"/>
                  </a:lnTo>
                  <a:lnTo>
                    <a:pt x="19" y="78"/>
                  </a:lnTo>
                  <a:lnTo>
                    <a:pt x="21" y="52"/>
                  </a:lnTo>
                  <a:lnTo>
                    <a:pt x="28" y="28"/>
                  </a:lnTo>
                  <a:lnTo>
                    <a:pt x="37" y="9"/>
                  </a:lnTo>
                  <a:lnTo>
                    <a:pt x="20" y="0"/>
                  </a:lnTo>
                  <a:lnTo>
                    <a:pt x="9" y="24"/>
                  </a:lnTo>
                  <a:lnTo>
                    <a:pt x="2" y="49"/>
                  </a:lnTo>
                  <a:lnTo>
                    <a:pt x="0" y="78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23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722320" y="3020400"/>
              <a:ext cx="92520" cy="32400"/>
            </a:xfrm>
            <a:custGeom>
              <a:avLst/>
              <a:gdLst/>
              <a:ahLst/>
              <a:rect l="l" t="t" r="r" b="b"/>
              <a:pathLst>
                <a:path w="187" h="69">
                  <a:moveTo>
                    <a:pt x="180" y="25"/>
                  </a:moveTo>
                  <a:lnTo>
                    <a:pt x="180" y="25"/>
                  </a:lnTo>
                  <a:lnTo>
                    <a:pt x="156" y="34"/>
                  </a:lnTo>
                  <a:lnTo>
                    <a:pt x="131" y="42"/>
                  </a:lnTo>
                  <a:lnTo>
                    <a:pt x="106" y="48"/>
                  </a:lnTo>
                  <a:lnTo>
                    <a:pt x="84" y="50"/>
                  </a:lnTo>
                  <a:lnTo>
                    <a:pt x="64" y="46"/>
                  </a:lnTo>
                  <a:lnTo>
                    <a:pt x="46" y="38"/>
                  </a:lnTo>
                  <a:lnTo>
                    <a:pt x="30" y="24"/>
                  </a:lnTo>
                  <a:lnTo>
                    <a:pt x="16" y="0"/>
                  </a:lnTo>
                  <a:lnTo>
                    <a:pt x="0" y="7"/>
                  </a:lnTo>
                  <a:lnTo>
                    <a:pt x="15" y="36"/>
                  </a:lnTo>
                  <a:lnTo>
                    <a:pt x="36" y="55"/>
                  </a:lnTo>
                  <a:lnTo>
                    <a:pt x="59" y="65"/>
                  </a:lnTo>
                  <a:lnTo>
                    <a:pt x="84" y="69"/>
                  </a:lnTo>
                  <a:lnTo>
                    <a:pt x="108" y="67"/>
                  </a:lnTo>
                  <a:lnTo>
                    <a:pt x="135" y="60"/>
                  </a:lnTo>
                  <a:lnTo>
                    <a:pt x="161" y="53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812680" y="2958120"/>
              <a:ext cx="52200" cy="83160"/>
            </a:xfrm>
            <a:custGeom>
              <a:avLst/>
              <a:gdLst/>
              <a:ahLst/>
              <a:rect l="l" t="t" r="r" b="b"/>
              <a:pathLst>
                <a:path w="106" h="179">
                  <a:moveTo>
                    <a:pt x="87" y="0"/>
                  </a:moveTo>
                  <a:lnTo>
                    <a:pt x="87" y="0"/>
                  </a:lnTo>
                  <a:lnTo>
                    <a:pt x="81" y="21"/>
                  </a:lnTo>
                  <a:lnTo>
                    <a:pt x="76" y="44"/>
                  </a:lnTo>
                  <a:lnTo>
                    <a:pt x="67" y="69"/>
                  </a:lnTo>
                  <a:lnTo>
                    <a:pt x="59" y="93"/>
                  </a:lnTo>
                  <a:lnTo>
                    <a:pt x="47" y="115"/>
                  </a:lnTo>
                  <a:lnTo>
                    <a:pt x="35" y="135"/>
                  </a:lnTo>
                  <a:lnTo>
                    <a:pt x="19" y="152"/>
                  </a:lnTo>
                  <a:lnTo>
                    <a:pt x="0" y="162"/>
                  </a:lnTo>
                  <a:lnTo>
                    <a:pt x="7" y="179"/>
                  </a:lnTo>
                  <a:lnTo>
                    <a:pt x="30" y="166"/>
                  </a:lnTo>
                  <a:lnTo>
                    <a:pt x="48" y="147"/>
                  </a:lnTo>
                  <a:lnTo>
                    <a:pt x="64" y="124"/>
                  </a:lnTo>
                  <a:lnTo>
                    <a:pt x="76" y="100"/>
                  </a:lnTo>
                  <a:lnTo>
                    <a:pt x="86" y="74"/>
                  </a:lnTo>
                  <a:lnTo>
                    <a:pt x="95" y="49"/>
                  </a:lnTo>
                  <a:lnTo>
                    <a:pt x="100" y="2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850120" y="2907360"/>
              <a:ext cx="19800" cy="53280"/>
            </a:xfrm>
            <a:custGeom>
              <a:avLst/>
              <a:gdLst/>
              <a:ahLst/>
              <a:rect l="l" t="t" r="r" b="b"/>
              <a:pathLst>
                <a:path w="40" h="114">
                  <a:moveTo>
                    <a:pt x="0" y="19"/>
                  </a:moveTo>
                  <a:lnTo>
                    <a:pt x="0" y="19"/>
                  </a:lnTo>
                  <a:lnTo>
                    <a:pt x="11" y="23"/>
                  </a:lnTo>
                  <a:lnTo>
                    <a:pt x="17" y="31"/>
                  </a:lnTo>
                  <a:lnTo>
                    <a:pt x="20" y="40"/>
                  </a:lnTo>
                  <a:lnTo>
                    <a:pt x="21" y="53"/>
                  </a:lnTo>
                  <a:lnTo>
                    <a:pt x="19" y="66"/>
                  </a:lnTo>
                  <a:lnTo>
                    <a:pt x="16" y="82"/>
                  </a:lnTo>
                  <a:lnTo>
                    <a:pt x="12" y="98"/>
                  </a:lnTo>
                  <a:lnTo>
                    <a:pt x="8" y="110"/>
                  </a:lnTo>
                  <a:lnTo>
                    <a:pt x="27" y="114"/>
                  </a:lnTo>
                  <a:lnTo>
                    <a:pt x="31" y="100"/>
                  </a:lnTo>
                  <a:lnTo>
                    <a:pt x="35" y="84"/>
                  </a:lnTo>
                  <a:lnTo>
                    <a:pt x="38" y="70"/>
                  </a:lnTo>
                  <a:lnTo>
                    <a:pt x="40" y="53"/>
                  </a:lnTo>
                  <a:lnTo>
                    <a:pt x="39" y="38"/>
                  </a:lnTo>
                  <a:lnTo>
                    <a:pt x="33" y="21"/>
                  </a:lnTo>
                  <a:lnTo>
                    <a:pt x="22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822040" y="2903040"/>
              <a:ext cx="29880" cy="1332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6" y="20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4" y="19"/>
                  </a:lnTo>
                  <a:lnTo>
                    <a:pt x="32" y="20"/>
                  </a:lnTo>
                  <a:lnTo>
                    <a:pt x="38" y="23"/>
                  </a:lnTo>
                  <a:lnTo>
                    <a:pt x="45" y="25"/>
                  </a:lnTo>
                  <a:lnTo>
                    <a:pt x="52" y="28"/>
                  </a:lnTo>
                  <a:lnTo>
                    <a:pt x="57" y="29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1" y="7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792160" y="2905200"/>
              <a:ext cx="32760" cy="2952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16" y="68"/>
                  </a:moveTo>
                  <a:lnTo>
                    <a:pt x="16" y="68"/>
                  </a:lnTo>
                  <a:lnTo>
                    <a:pt x="20" y="62"/>
                  </a:lnTo>
                  <a:lnTo>
                    <a:pt x="24" y="57"/>
                  </a:lnTo>
                  <a:lnTo>
                    <a:pt x="30" y="48"/>
                  </a:lnTo>
                  <a:lnTo>
                    <a:pt x="36" y="41"/>
                  </a:lnTo>
                  <a:lnTo>
                    <a:pt x="43" y="34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6" y="16"/>
                  </a:lnTo>
                  <a:lnTo>
                    <a:pt x="60" y="0"/>
                  </a:lnTo>
                  <a:lnTo>
                    <a:pt x="48" y="6"/>
                  </a:lnTo>
                  <a:lnTo>
                    <a:pt x="40" y="13"/>
                  </a:lnTo>
                  <a:lnTo>
                    <a:pt x="31" y="20"/>
                  </a:lnTo>
                  <a:lnTo>
                    <a:pt x="22" y="29"/>
                  </a:lnTo>
                  <a:lnTo>
                    <a:pt x="16" y="37"/>
                  </a:lnTo>
                  <a:lnTo>
                    <a:pt x="10" y="45"/>
                  </a:lnTo>
                  <a:lnTo>
                    <a:pt x="3" y="53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727360" y="2932920"/>
              <a:ext cx="72360" cy="47880"/>
            </a:xfrm>
            <a:custGeom>
              <a:avLst/>
              <a:gdLst/>
              <a:ahLst/>
              <a:rect l="l" t="t" r="r" b="b"/>
              <a:pathLst>
                <a:path w="145" h="107">
                  <a:moveTo>
                    <a:pt x="17" y="102"/>
                  </a:moveTo>
                  <a:lnTo>
                    <a:pt x="7" y="107"/>
                  </a:lnTo>
                  <a:lnTo>
                    <a:pt x="28" y="107"/>
                  </a:lnTo>
                  <a:lnTo>
                    <a:pt x="50" y="102"/>
                  </a:lnTo>
                  <a:lnTo>
                    <a:pt x="70" y="93"/>
                  </a:lnTo>
                  <a:lnTo>
                    <a:pt x="88" y="79"/>
                  </a:lnTo>
                  <a:lnTo>
                    <a:pt x="103" y="65"/>
                  </a:lnTo>
                  <a:lnTo>
                    <a:pt x="119" y="47"/>
                  </a:lnTo>
                  <a:lnTo>
                    <a:pt x="133" y="28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116" y="19"/>
                  </a:lnTo>
                  <a:lnTo>
                    <a:pt x="105" y="36"/>
                  </a:lnTo>
                  <a:lnTo>
                    <a:pt x="90" y="50"/>
                  </a:lnTo>
                  <a:lnTo>
                    <a:pt x="75" y="65"/>
                  </a:lnTo>
                  <a:lnTo>
                    <a:pt x="60" y="77"/>
                  </a:lnTo>
                  <a:lnTo>
                    <a:pt x="44" y="83"/>
                  </a:lnTo>
                  <a:lnTo>
                    <a:pt x="28" y="88"/>
                  </a:lnTo>
                  <a:lnTo>
                    <a:pt x="9" y="88"/>
                  </a:lnTo>
                  <a:lnTo>
                    <a:pt x="0" y="93"/>
                  </a:lnTo>
                  <a:lnTo>
                    <a:pt x="9" y="88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7" y="107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3353040" y="1219320"/>
            <a:ext cx="914040" cy="1980720"/>
            <a:chOff x="3353040" y="1219320"/>
            <a:chExt cx="914040" cy="1980720"/>
          </a:xfrm>
        </p:grpSpPr>
        <p:sp>
          <p:nvSpPr>
            <p:cNvPr id="1449" name=""/>
            <p:cNvSpPr/>
            <p:nvPr/>
          </p:nvSpPr>
          <p:spPr>
            <a:xfrm flipH="1">
              <a:off x="3352680" y="2941200"/>
              <a:ext cx="914040" cy="25884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H="1">
              <a:off x="3582720" y="2903760"/>
              <a:ext cx="257400" cy="168840"/>
            </a:xfrm>
            <a:custGeom>
              <a:avLst/>
              <a:gdLst/>
              <a:ahLst/>
              <a:rect l="l" t="t" r="r" b="b"/>
              <a:pathLst>
                <a:path w="598" h="409">
                  <a:moveTo>
                    <a:pt x="30" y="18"/>
                  </a:moveTo>
                  <a:lnTo>
                    <a:pt x="24" y="41"/>
                  </a:lnTo>
                  <a:lnTo>
                    <a:pt x="14" y="73"/>
                  </a:lnTo>
                  <a:lnTo>
                    <a:pt x="6" y="111"/>
                  </a:lnTo>
                  <a:lnTo>
                    <a:pt x="0" y="151"/>
                  </a:lnTo>
                  <a:lnTo>
                    <a:pt x="0" y="192"/>
                  </a:lnTo>
                  <a:lnTo>
                    <a:pt x="8" y="230"/>
                  </a:lnTo>
                  <a:lnTo>
                    <a:pt x="25" y="265"/>
                  </a:lnTo>
                  <a:lnTo>
                    <a:pt x="55" y="289"/>
                  </a:lnTo>
                  <a:lnTo>
                    <a:pt x="69" y="297"/>
                  </a:lnTo>
                  <a:lnTo>
                    <a:pt x="85" y="299"/>
                  </a:lnTo>
                  <a:lnTo>
                    <a:pt x="100" y="299"/>
                  </a:lnTo>
                  <a:lnTo>
                    <a:pt x="116" y="298"/>
                  </a:lnTo>
                  <a:lnTo>
                    <a:pt x="132" y="296"/>
                  </a:lnTo>
                  <a:lnTo>
                    <a:pt x="147" y="294"/>
                  </a:lnTo>
                  <a:lnTo>
                    <a:pt x="163" y="296"/>
                  </a:lnTo>
                  <a:lnTo>
                    <a:pt x="180" y="299"/>
                  </a:lnTo>
                  <a:lnTo>
                    <a:pt x="200" y="306"/>
                  </a:lnTo>
                  <a:lnTo>
                    <a:pt x="218" y="312"/>
                  </a:lnTo>
                  <a:lnTo>
                    <a:pt x="236" y="318"/>
                  </a:lnTo>
                  <a:lnTo>
                    <a:pt x="252" y="324"/>
                  </a:lnTo>
                  <a:lnTo>
                    <a:pt x="269" y="329"/>
                  </a:lnTo>
                  <a:lnTo>
                    <a:pt x="284" y="336"/>
                  </a:lnTo>
                  <a:lnTo>
                    <a:pt x="300" y="341"/>
                  </a:lnTo>
                  <a:lnTo>
                    <a:pt x="314" y="346"/>
                  </a:lnTo>
                  <a:lnTo>
                    <a:pt x="329" y="353"/>
                  </a:lnTo>
                  <a:lnTo>
                    <a:pt x="344" y="358"/>
                  </a:lnTo>
                  <a:lnTo>
                    <a:pt x="361" y="364"/>
                  </a:lnTo>
                  <a:lnTo>
                    <a:pt x="376" y="369"/>
                  </a:lnTo>
                  <a:lnTo>
                    <a:pt x="394" y="376"/>
                  </a:lnTo>
                  <a:lnTo>
                    <a:pt x="411" y="381"/>
                  </a:lnTo>
                  <a:lnTo>
                    <a:pt x="428" y="387"/>
                  </a:lnTo>
                  <a:lnTo>
                    <a:pt x="448" y="395"/>
                  </a:lnTo>
                  <a:lnTo>
                    <a:pt x="462" y="398"/>
                  </a:lnTo>
                  <a:lnTo>
                    <a:pt x="479" y="401"/>
                  </a:lnTo>
                  <a:lnTo>
                    <a:pt x="501" y="404"/>
                  </a:lnTo>
                  <a:lnTo>
                    <a:pt x="523" y="406"/>
                  </a:lnTo>
                  <a:lnTo>
                    <a:pt x="546" y="409"/>
                  </a:lnTo>
                  <a:lnTo>
                    <a:pt x="567" y="409"/>
                  </a:lnTo>
                  <a:lnTo>
                    <a:pt x="586" y="407"/>
                  </a:lnTo>
                  <a:lnTo>
                    <a:pt x="598" y="404"/>
                  </a:lnTo>
                  <a:lnTo>
                    <a:pt x="596" y="377"/>
                  </a:lnTo>
                  <a:lnTo>
                    <a:pt x="588" y="348"/>
                  </a:lnTo>
                  <a:lnTo>
                    <a:pt x="575" y="320"/>
                  </a:lnTo>
                  <a:lnTo>
                    <a:pt x="558" y="292"/>
                  </a:lnTo>
                  <a:lnTo>
                    <a:pt x="538" y="263"/>
                  </a:lnTo>
                  <a:lnTo>
                    <a:pt x="516" y="234"/>
                  </a:lnTo>
                  <a:lnTo>
                    <a:pt x="491" y="206"/>
                  </a:lnTo>
                  <a:lnTo>
                    <a:pt x="463" y="178"/>
                  </a:lnTo>
                  <a:lnTo>
                    <a:pt x="435" y="152"/>
                  </a:lnTo>
                  <a:lnTo>
                    <a:pt x="405" y="127"/>
                  </a:lnTo>
                  <a:lnTo>
                    <a:pt x="376" y="103"/>
                  </a:lnTo>
                  <a:lnTo>
                    <a:pt x="346" y="82"/>
                  </a:lnTo>
                  <a:lnTo>
                    <a:pt x="319" y="63"/>
                  </a:lnTo>
                  <a:lnTo>
                    <a:pt x="291" y="45"/>
                  </a:lnTo>
                  <a:lnTo>
                    <a:pt x="265" y="32"/>
                  </a:lnTo>
                  <a:lnTo>
                    <a:pt x="243" y="21"/>
                  </a:lnTo>
                  <a:lnTo>
                    <a:pt x="224" y="16"/>
                  </a:lnTo>
                  <a:lnTo>
                    <a:pt x="208" y="11"/>
                  </a:lnTo>
                  <a:lnTo>
                    <a:pt x="191" y="7"/>
                  </a:lnTo>
                  <a:lnTo>
                    <a:pt x="176" y="5"/>
                  </a:lnTo>
                  <a:lnTo>
                    <a:pt x="161" y="3"/>
                  </a:lnTo>
                  <a:lnTo>
                    <a:pt x="149" y="1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1"/>
                  </a:lnTo>
                  <a:lnTo>
                    <a:pt x="88" y="2"/>
                  </a:lnTo>
                  <a:lnTo>
                    <a:pt x="78" y="4"/>
                  </a:lnTo>
                  <a:lnTo>
                    <a:pt x="66" y="6"/>
                  </a:lnTo>
                  <a:lnTo>
                    <a:pt x="55" y="10"/>
                  </a:lnTo>
                  <a:lnTo>
                    <a:pt x="43" y="14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694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3814560" y="2909880"/>
              <a:ext cx="29880" cy="116640"/>
            </a:xfrm>
            <a:custGeom>
              <a:avLst/>
              <a:gdLst/>
              <a:ahLst/>
              <a:rect l="l" t="t" r="r" b="b"/>
              <a:pathLst>
                <a:path w="69" h="282">
                  <a:moveTo>
                    <a:pt x="69" y="266"/>
                  </a:moveTo>
                  <a:lnTo>
                    <a:pt x="69" y="266"/>
                  </a:lnTo>
                  <a:lnTo>
                    <a:pt x="42" y="243"/>
                  </a:lnTo>
                  <a:lnTo>
                    <a:pt x="28" y="212"/>
                  </a:lnTo>
                  <a:lnTo>
                    <a:pt x="19" y="176"/>
                  </a:lnTo>
                  <a:lnTo>
                    <a:pt x="19" y="135"/>
                  </a:lnTo>
                  <a:lnTo>
                    <a:pt x="25" y="96"/>
                  </a:lnTo>
                  <a:lnTo>
                    <a:pt x="34" y="59"/>
                  </a:lnTo>
                  <a:lnTo>
                    <a:pt x="43" y="27"/>
                  </a:lnTo>
                  <a:lnTo>
                    <a:pt x="50" y="5"/>
                  </a:lnTo>
                  <a:lnTo>
                    <a:pt x="32" y="0"/>
                  </a:lnTo>
                  <a:lnTo>
                    <a:pt x="24" y="22"/>
                  </a:lnTo>
                  <a:lnTo>
                    <a:pt x="15" y="55"/>
                  </a:lnTo>
                  <a:lnTo>
                    <a:pt x="6" y="93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9" y="217"/>
                  </a:lnTo>
                  <a:lnTo>
                    <a:pt x="28" y="254"/>
                  </a:lnTo>
                  <a:lnTo>
                    <a:pt x="59" y="282"/>
                  </a:lnTo>
                  <a:lnTo>
                    <a:pt x="59" y="282"/>
                  </a:lnTo>
                  <a:lnTo>
                    <a:pt x="69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>
              <a:off x="3762720" y="3020760"/>
              <a:ext cx="55800" cy="10080"/>
            </a:xfrm>
            <a:custGeom>
              <a:avLst/>
              <a:gdLst/>
              <a:ahLst/>
              <a:rect l="l" t="t" r="r" b="b"/>
              <a:pathLst>
                <a:path w="133" h="26">
                  <a:moveTo>
                    <a:pt x="133" y="7"/>
                  </a:moveTo>
                  <a:lnTo>
                    <a:pt x="133" y="7"/>
                  </a:lnTo>
                  <a:lnTo>
                    <a:pt x="116" y="4"/>
                  </a:lnTo>
                  <a:lnTo>
                    <a:pt x="98" y="3"/>
                  </a:lnTo>
                  <a:lnTo>
                    <a:pt x="83" y="4"/>
                  </a:lnTo>
                  <a:lnTo>
                    <a:pt x="67" y="6"/>
                  </a:lnTo>
                  <a:lnTo>
                    <a:pt x="51" y="7"/>
                  </a:lnTo>
                  <a:lnTo>
                    <a:pt x="36" y="7"/>
                  </a:lnTo>
                  <a:lnTo>
                    <a:pt x="22" y="5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18" y="24"/>
                  </a:lnTo>
                  <a:lnTo>
                    <a:pt x="36" y="26"/>
                  </a:lnTo>
                  <a:lnTo>
                    <a:pt x="51" y="26"/>
                  </a:lnTo>
                  <a:lnTo>
                    <a:pt x="67" y="25"/>
                  </a:lnTo>
                  <a:lnTo>
                    <a:pt x="83" y="23"/>
                  </a:lnTo>
                  <a:lnTo>
                    <a:pt x="98" y="22"/>
                  </a:lnTo>
                  <a:lnTo>
                    <a:pt x="113" y="23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H="1">
              <a:off x="3647160" y="3022560"/>
              <a:ext cx="115560" cy="47520"/>
            </a:xfrm>
            <a:custGeom>
              <a:avLst/>
              <a:gdLst/>
              <a:ahLst/>
              <a:rect l="l" t="t" r="r" b="b"/>
              <a:pathLst>
                <a:path w="274" h="115">
                  <a:moveTo>
                    <a:pt x="274" y="96"/>
                  </a:moveTo>
                  <a:lnTo>
                    <a:pt x="274" y="96"/>
                  </a:lnTo>
                  <a:lnTo>
                    <a:pt x="254" y="89"/>
                  </a:lnTo>
                  <a:lnTo>
                    <a:pt x="236" y="84"/>
                  </a:lnTo>
                  <a:lnTo>
                    <a:pt x="218" y="77"/>
                  </a:lnTo>
                  <a:lnTo>
                    <a:pt x="201" y="71"/>
                  </a:lnTo>
                  <a:lnTo>
                    <a:pt x="185" y="66"/>
                  </a:lnTo>
                  <a:lnTo>
                    <a:pt x="168" y="59"/>
                  </a:lnTo>
                  <a:lnTo>
                    <a:pt x="154" y="54"/>
                  </a:lnTo>
                  <a:lnTo>
                    <a:pt x="138" y="48"/>
                  </a:lnTo>
                  <a:lnTo>
                    <a:pt x="124" y="42"/>
                  </a:lnTo>
                  <a:lnTo>
                    <a:pt x="109" y="37"/>
                  </a:lnTo>
                  <a:lnTo>
                    <a:pt x="93" y="31"/>
                  </a:lnTo>
                  <a:lnTo>
                    <a:pt x="76" y="26"/>
                  </a:lnTo>
                  <a:lnTo>
                    <a:pt x="60" y="19"/>
                  </a:lnTo>
                  <a:lnTo>
                    <a:pt x="42" y="14"/>
                  </a:lnTo>
                  <a:lnTo>
                    <a:pt x="24" y="8"/>
                  </a:lnTo>
                  <a:lnTo>
                    <a:pt x="4" y="0"/>
                  </a:lnTo>
                  <a:lnTo>
                    <a:pt x="0" y="19"/>
                  </a:lnTo>
                  <a:lnTo>
                    <a:pt x="20" y="27"/>
                  </a:lnTo>
                  <a:lnTo>
                    <a:pt x="38" y="32"/>
                  </a:lnTo>
                  <a:lnTo>
                    <a:pt x="55" y="38"/>
                  </a:lnTo>
                  <a:lnTo>
                    <a:pt x="72" y="45"/>
                  </a:lnTo>
                  <a:lnTo>
                    <a:pt x="89" y="50"/>
                  </a:lnTo>
                  <a:lnTo>
                    <a:pt x="104" y="56"/>
                  </a:lnTo>
                  <a:lnTo>
                    <a:pt x="119" y="61"/>
                  </a:lnTo>
                  <a:lnTo>
                    <a:pt x="134" y="67"/>
                  </a:lnTo>
                  <a:lnTo>
                    <a:pt x="147" y="72"/>
                  </a:lnTo>
                  <a:lnTo>
                    <a:pt x="164" y="78"/>
                  </a:lnTo>
                  <a:lnTo>
                    <a:pt x="181" y="85"/>
                  </a:lnTo>
                  <a:lnTo>
                    <a:pt x="195" y="90"/>
                  </a:lnTo>
                  <a:lnTo>
                    <a:pt x="213" y="96"/>
                  </a:lnTo>
                  <a:lnTo>
                    <a:pt x="230" y="102"/>
                  </a:lnTo>
                  <a:lnTo>
                    <a:pt x="248" y="108"/>
                  </a:lnTo>
                  <a:lnTo>
                    <a:pt x="268" y="115"/>
                  </a:lnTo>
                  <a:lnTo>
                    <a:pt x="268" y="115"/>
                  </a:lnTo>
                  <a:lnTo>
                    <a:pt x="274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H="1">
              <a:off x="3578400" y="3064320"/>
              <a:ext cx="70560" cy="12600"/>
            </a:xfrm>
            <a:custGeom>
              <a:avLst/>
              <a:gdLst/>
              <a:ahLst/>
              <a:rect l="l" t="t" r="r" b="b"/>
              <a:pathLst>
                <a:path w="162" h="33">
                  <a:moveTo>
                    <a:pt x="143" y="19"/>
                  </a:moveTo>
                  <a:lnTo>
                    <a:pt x="149" y="11"/>
                  </a:lnTo>
                  <a:lnTo>
                    <a:pt x="139" y="13"/>
                  </a:lnTo>
                  <a:lnTo>
                    <a:pt x="121" y="14"/>
                  </a:lnTo>
                  <a:lnTo>
                    <a:pt x="100" y="14"/>
                  </a:lnTo>
                  <a:lnTo>
                    <a:pt x="77" y="12"/>
                  </a:lnTo>
                  <a:lnTo>
                    <a:pt x="55" y="10"/>
                  </a:lnTo>
                  <a:lnTo>
                    <a:pt x="35" y="8"/>
                  </a:lnTo>
                  <a:lnTo>
                    <a:pt x="17" y="3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5" y="22"/>
                  </a:lnTo>
                  <a:lnTo>
                    <a:pt x="32" y="26"/>
                  </a:lnTo>
                  <a:lnTo>
                    <a:pt x="55" y="29"/>
                  </a:lnTo>
                  <a:lnTo>
                    <a:pt x="77" y="31"/>
                  </a:lnTo>
                  <a:lnTo>
                    <a:pt x="100" y="33"/>
                  </a:lnTo>
                  <a:lnTo>
                    <a:pt x="121" y="33"/>
                  </a:lnTo>
                  <a:lnTo>
                    <a:pt x="141" y="32"/>
                  </a:lnTo>
                  <a:lnTo>
                    <a:pt x="157" y="28"/>
                  </a:lnTo>
                  <a:lnTo>
                    <a:pt x="162" y="19"/>
                  </a:lnTo>
                  <a:lnTo>
                    <a:pt x="157" y="28"/>
                  </a:lnTo>
                  <a:lnTo>
                    <a:pt x="161" y="22"/>
                  </a:lnTo>
                  <a:lnTo>
                    <a:pt x="161" y="15"/>
                  </a:lnTo>
                  <a:lnTo>
                    <a:pt x="157" y="11"/>
                  </a:lnTo>
                  <a:lnTo>
                    <a:pt x="149" y="11"/>
                  </a:lnTo>
                  <a:lnTo>
                    <a:pt x="1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>
              <a:off x="3578400" y="2907720"/>
              <a:ext cx="160920" cy="162720"/>
            </a:xfrm>
            <a:custGeom>
              <a:avLst/>
              <a:gdLst/>
              <a:ahLst/>
              <a:rect l="l" t="t" r="r" b="b"/>
              <a:pathLst>
                <a:path w="374" h="393">
                  <a:moveTo>
                    <a:pt x="6" y="18"/>
                  </a:moveTo>
                  <a:lnTo>
                    <a:pt x="5" y="17"/>
                  </a:lnTo>
                  <a:lnTo>
                    <a:pt x="28" y="28"/>
                  </a:lnTo>
                  <a:lnTo>
                    <a:pt x="53" y="43"/>
                  </a:lnTo>
                  <a:lnTo>
                    <a:pt x="79" y="61"/>
                  </a:lnTo>
                  <a:lnTo>
                    <a:pt x="108" y="80"/>
                  </a:lnTo>
                  <a:lnTo>
                    <a:pt x="136" y="100"/>
                  </a:lnTo>
                  <a:lnTo>
                    <a:pt x="166" y="123"/>
                  </a:lnTo>
                  <a:lnTo>
                    <a:pt x="194" y="147"/>
                  </a:lnTo>
                  <a:lnTo>
                    <a:pt x="222" y="175"/>
                  </a:lnTo>
                  <a:lnTo>
                    <a:pt x="249" y="201"/>
                  </a:lnTo>
                  <a:lnTo>
                    <a:pt x="275" y="229"/>
                  </a:lnTo>
                  <a:lnTo>
                    <a:pt x="298" y="257"/>
                  </a:lnTo>
                  <a:lnTo>
                    <a:pt x="316" y="286"/>
                  </a:lnTo>
                  <a:lnTo>
                    <a:pt x="333" y="313"/>
                  </a:lnTo>
                  <a:lnTo>
                    <a:pt x="344" y="339"/>
                  </a:lnTo>
                  <a:lnTo>
                    <a:pt x="353" y="367"/>
                  </a:lnTo>
                  <a:lnTo>
                    <a:pt x="355" y="393"/>
                  </a:lnTo>
                  <a:lnTo>
                    <a:pt x="374" y="393"/>
                  </a:lnTo>
                  <a:lnTo>
                    <a:pt x="372" y="365"/>
                  </a:lnTo>
                  <a:lnTo>
                    <a:pt x="363" y="335"/>
                  </a:lnTo>
                  <a:lnTo>
                    <a:pt x="350" y="306"/>
                  </a:lnTo>
                  <a:lnTo>
                    <a:pt x="333" y="276"/>
                  </a:lnTo>
                  <a:lnTo>
                    <a:pt x="312" y="245"/>
                  </a:lnTo>
                  <a:lnTo>
                    <a:pt x="289" y="217"/>
                  </a:lnTo>
                  <a:lnTo>
                    <a:pt x="263" y="188"/>
                  </a:lnTo>
                  <a:lnTo>
                    <a:pt x="237" y="161"/>
                  </a:lnTo>
                  <a:lnTo>
                    <a:pt x="207" y="134"/>
                  </a:lnTo>
                  <a:lnTo>
                    <a:pt x="177" y="108"/>
                  </a:lnTo>
                  <a:lnTo>
                    <a:pt x="148" y="85"/>
                  </a:lnTo>
                  <a:lnTo>
                    <a:pt x="117" y="63"/>
                  </a:lnTo>
                  <a:lnTo>
                    <a:pt x="89" y="44"/>
                  </a:lnTo>
                  <a:lnTo>
                    <a:pt x="61" y="26"/>
                  </a:lnTo>
                  <a:lnTo>
                    <a:pt x="35" y="1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5" y="2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3735000" y="2899440"/>
              <a:ext cx="96120" cy="14400"/>
            </a:xfrm>
            <a:custGeom>
              <a:avLst/>
              <a:gdLst/>
              <a:ahLst/>
              <a:rect l="l" t="t" r="r" b="b"/>
              <a:pathLst>
                <a:path w="223" h="39">
                  <a:moveTo>
                    <a:pt x="18" y="31"/>
                  </a:moveTo>
                  <a:lnTo>
                    <a:pt x="11" y="37"/>
                  </a:lnTo>
                  <a:lnTo>
                    <a:pt x="23" y="33"/>
                  </a:lnTo>
                  <a:lnTo>
                    <a:pt x="35" y="29"/>
                  </a:lnTo>
                  <a:lnTo>
                    <a:pt x="46" y="26"/>
                  </a:lnTo>
                  <a:lnTo>
                    <a:pt x="57" y="24"/>
                  </a:lnTo>
                  <a:lnTo>
                    <a:pt x="67" y="21"/>
                  </a:lnTo>
                  <a:lnTo>
                    <a:pt x="78" y="20"/>
                  </a:lnTo>
                  <a:lnTo>
                    <a:pt x="89" y="18"/>
                  </a:lnTo>
                  <a:lnTo>
                    <a:pt x="100" y="18"/>
                  </a:lnTo>
                  <a:lnTo>
                    <a:pt x="114" y="18"/>
                  </a:lnTo>
                  <a:lnTo>
                    <a:pt x="125" y="20"/>
                  </a:lnTo>
                  <a:lnTo>
                    <a:pt x="138" y="23"/>
                  </a:lnTo>
                  <a:lnTo>
                    <a:pt x="153" y="25"/>
                  </a:lnTo>
                  <a:lnTo>
                    <a:pt x="168" y="27"/>
                  </a:lnTo>
                  <a:lnTo>
                    <a:pt x="184" y="31"/>
                  </a:lnTo>
                  <a:lnTo>
                    <a:pt x="199" y="35"/>
                  </a:lnTo>
                  <a:lnTo>
                    <a:pt x="218" y="39"/>
                  </a:lnTo>
                  <a:lnTo>
                    <a:pt x="223" y="21"/>
                  </a:lnTo>
                  <a:lnTo>
                    <a:pt x="205" y="16"/>
                  </a:lnTo>
                  <a:lnTo>
                    <a:pt x="188" y="12"/>
                  </a:lnTo>
                  <a:lnTo>
                    <a:pt x="170" y="8"/>
                  </a:lnTo>
                  <a:lnTo>
                    <a:pt x="155" y="6"/>
                  </a:lnTo>
                  <a:lnTo>
                    <a:pt x="140" y="4"/>
                  </a:lnTo>
                  <a:lnTo>
                    <a:pt x="128" y="1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8" y="1"/>
                  </a:lnTo>
                  <a:lnTo>
                    <a:pt x="65" y="2"/>
                  </a:lnTo>
                  <a:lnTo>
                    <a:pt x="55" y="5"/>
                  </a:lnTo>
                  <a:lnTo>
                    <a:pt x="42" y="7"/>
                  </a:lnTo>
                  <a:lnTo>
                    <a:pt x="29" y="11"/>
                  </a:lnTo>
                  <a:lnTo>
                    <a:pt x="18" y="14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6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4" y="36"/>
                  </a:lnTo>
                  <a:lnTo>
                    <a:pt x="11" y="37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>
              <a:off x="3788640" y="2941200"/>
              <a:ext cx="281160" cy="239760"/>
            </a:xfrm>
            <a:custGeom>
              <a:avLst/>
              <a:gdLst/>
              <a:ahLst/>
              <a:rect l="l" t="t" r="r" b="b"/>
              <a:pathLst>
                <a:path w="654" h="573">
                  <a:moveTo>
                    <a:pt x="345" y="29"/>
                  </a:moveTo>
                  <a:lnTo>
                    <a:pt x="359" y="23"/>
                  </a:lnTo>
                  <a:lnTo>
                    <a:pt x="375" y="19"/>
                  </a:lnTo>
                  <a:lnTo>
                    <a:pt x="390" y="14"/>
                  </a:lnTo>
                  <a:lnTo>
                    <a:pt x="406" y="10"/>
                  </a:lnTo>
                  <a:lnTo>
                    <a:pt x="422" y="6"/>
                  </a:lnTo>
                  <a:lnTo>
                    <a:pt x="438" y="3"/>
                  </a:lnTo>
                  <a:lnTo>
                    <a:pt x="454" y="2"/>
                  </a:lnTo>
                  <a:lnTo>
                    <a:pt x="470" y="1"/>
                  </a:lnTo>
                  <a:lnTo>
                    <a:pt x="486" y="0"/>
                  </a:lnTo>
                  <a:lnTo>
                    <a:pt x="501" y="0"/>
                  </a:lnTo>
                  <a:lnTo>
                    <a:pt x="517" y="1"/>
                  </a:lnTo>
                  <a:lnTo>
                    <a:pt x="530" y="3"/>
                  </a:lnTo>
                  <a:lnTo>
                    <a:pt x="544" y="5"/>
                  </a:lnTo>
                  <a:lnTo>
                    <a:pt x="558" y="9"/>
                  </a:lnTo>
                  <a:lnTo>
                    <a:pt x="570" y="14"/>
                  </a:lnTo>
                  <a:lnTo>
                    <a:pt x="581" y="19"/>
                  </a:lnTo>
                  <a:lnTo>
                    <a:pt x="608" y="38"/>
                  </a:lnTo>
                  <a:lnTo>
                    <a:pt x="628" y="62"/>
                  </a:lnTo>
                  <a:lnTo>
                    <a:pt x="641" y="93"/>
                  </a:lnTo>
                  <a:lnTo>
                    <a:pt x="651" y="127"/>
                  </a:lnTo>
                  <a:lnTo>
                    <a:pt x="654" y="165"/>
                  </a:lnTo>
                  <a:lnTo>
                    <a:pt x="654" y="205"/>
                  </a:lnTo>
                  <a:lnTo>
                    <a:pt x="652" y="246"/>
                  </a:lnTo>
                  <a:lnTo>
                    <a:pt x="645" y="287"/>
                  </a:lnTo>
                  <a:lnTo>
                    <a:pt x="640" y="300"/>
                  </a:lnTo>
                  <a:lnTo>
                    <a:pt x="632" y="307"/>
                  </a:lnTo>
                  <a:lnTo>
                    <a:pt x="620" y="313"/>
                  </a:lnTo>
                  <a:lnTo>
                    <a:pt x="608" y="317"/>
                  </a:lnTo>
                  <a:lnTo>
                    <a:pt x="593" y="320"/>
                  </a:lnTo>
                  <a:lnTo>
                    <a:pt x="579" y="321"/>
                  </a:lnTo>
                  <a:lnTo>
                    <a:pt x="566" y="322"/>
                  </a:lnTo>
                  <a:lnTo>
                    <a:pt x="556" y="324"/>
                  </a:lnTo>
                  <a:lnTo>
                    <a:pt x="538" y="330"/>
                  </a:lnTo>
                  <a:lnTo>
                    <a:pt x="519" y="338"/>
                  </a:lnTo>
                  <a:lnTo>
                    <a:pt x="501" y="348"/>
                  </a:lnTo>
                  <a:lnTo>
                    <a:pt x="483" y="360"/>
                  </a:lnTo>
                  <a:lnTo>
                    <a:pt x="465" y="371"/>
                  </a:lnTo>
                  <a:lnTo>
                    <a:pt x="446" y="384"/>
                  </a:lnTo>
                  <a:lnTo>
                    <a:pt x="428" y="398"/>
                  </a:lnTo>
                  <a:lnTo>
                    <a:pt x="409" y="412"/>
                  </a:lnTo>
                  <a:lnTo>
                    <a:pt x="390" y="425"/>
                  </a:lnTo>
                  <a:lnTo>
                    <a:pt x="373" y="439"/>
                  </a:lnTo>
                  <a:lnTo>
                    <a:pt x="354" y="454"/>
                  </a:lnTo>
                  <a:lnTo>
                    <a:pt x="335" y="467"/>
                  </a:lnTo>
                  <a:lnTo>
                    <a:pt x="316" y="478"/>
                  </a:lnTo>
                  <a:lnTo>
                    <a:pt x="298" y="491"/>
                  </a:lnTo>
                  <a:lnTo>
                    <a:pt x="279" y="501"/>
                  </a:lnTo>
                  <a:lnTo>
                    <a:pt x="261" y="509"/>
                  </a:lnTo>
                  <a:lnTo>
                    <a:pt x="246" y="515"/>
                  </a:lnTo>
                  <a:lnTo>
                    <a:pt x="233" y="521"/>
                  </a:lnTo>
                  <a:lnTo>
                    <a:pt x="218" y="527"/>
                  </a:lnTo>
                  <a:lnTo>
                    <a:pt x="204" y="533"/>
                  </a:lnTo>
                  <a:lnTo>
                    <a:pt x="191" y="537"/>
                  </a:lnTo>
                  <a:lnTo>
                    <a:pt x="177" y="544"/>
                  </a:lnTo>
                  <a:lnTo>
                    <a:pt x="164" y="548"/>
                  </a:lnTo>
                  <a:lnTo>
                    <a:pt x="150" y="553"/>
                  </a:lnTo>
                  <a:lnTo>
                    <a:pt x="136" y="557"/>
                  </a:lnTo>
                  <a:lnTo>
                    <a:pt x="122" y="562"/>
                  </a:lnTo>
                  <a:lnTo>
                    <a:pt x="108" y="565"/>
                  </a:lnTo>
                  <a:lnTo>
                    <a:pt x="92" y="567"/>
                  </a:lnTo>
                  <a:lnTo>
                    <a:pt x="75" y="569"/>
                  </a:lnTo>
                  <a:lnTo>
                    <a:pt x="59" y="572"/>
                  </a:lnTo>
                  <a:lnTo>
                    <a:pt x="43" y="573"/>
                  </a:lnTo>
                  <a:lnTo>
                    <a:pt x="24" y="573"/>
                  </a:lnTo>
                  <a:lnTo>
                    <a:pt x="9" y="568"/>
                  </a:lnTo>
                  <a:lnTo>
                    <a:pt x="0" y="555"/>
                  </a:lnTo>
                  <a:lnTo>
                    <a:pt x="0" y="535"/>
                  </a:lnTo>
                  <a:lnTo>
                    <a:pt x="7" y="509"/>
                  </a:lnTo>
                  <a:lnTo>
                    <a:pt x="17" y="478"/>
                  </a:lnTo>
                  <a:lnTo>
                    <a:pt x="32" y="444"/>
                  </a:lnTo>
                  <a:lnTo>
                    <a:pt x="50" y="408"/>
                  </a:lnTo>
                  <a:lnTo>
                    <a:pt x="70" y="371"/>
                  </a:lnTo>
                  <a:lnTo>
                    <a:pt x="91" y="335"/>
                  </a:lnTo>
                  <a:lnTo>
                    <a:pt x="112" y="301"/>
                  </a:lnTo>
                  <a:lnTo>
                    <a:pt x="131" y="267"/>
                  </a:lnTo>
                  <a:lnTo>
                    <a:pt x="149" y="238"/>
                  </a:lnTo>
                  <a:lnTo>
                    <a:pt x="163" y="216"/>
                  </a:lnTo>
                  <a:lnTo>
                    <a:pt x="174" y="200"/>
                  </a:lnTo>
                  <a:lnTo>
                    <a:pt x="179" y="192"/>
                  </a:lnTo>
                  <a:lnTo>
                    <a:pt x="176" y="192"/>
                  </a:lnTo>
                  <a:lnTo>
                    <a:pt x="195" y="171"/>
                  </a:lnTo>
                  <a:lnTo>
                    <a:pt x="215" y="144"/>
                  </a:lnTo>
                  <a:lnTo>
                    <a:pt x="237" y="116"/>
                  </a:lnTo>
                  <a:lnTo>
                    <a:pt x="258" y="90"/>
                  </a:lnTo>
                  <a:lnTo>
                    <a:pt x="281" y="63"/>
                  </a:lnTo>
                  <a:lnTo>
                    <a:pt x="303" y="43"/>
                  </a:lnTo>
                  <a:lnTo>
                    <a:pt x="325" y="31"/>
                  </a:lnTo>
                  <a:lnTo>
                    <a:pt x="345" y="29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H="1">
              <a:off x="3818880" y="2936880"/>
              <a:ext cx="105120" cy="20520"/>
            </a:xfrm>
            <a:custGeom>
              <a:avLst/>
              <a:gdLst/>
              <a:ahLst/>
              <a:rect l="l" t="t" r="r" b="b"/>
              <a:pathLst>
                <a:path w="244" h="48">
                  <a:moveTo>
                    <a:pt x="244" y="20"/>
                  </a:moveTo>
                  <a:lnTo>
                    <a:pt x="244" y="20"/>
                  </a:lnTo>
                  <a:lnTo>
                    <a:pt x="233" y="15"/>
                  </a:lnTo>
                  <a:lnTo>
                    <a:pt x="220" y="10"/>
                  </a:lnTo>
                  <a:lnTo>
                    <a:pt x="206" y="6"/>
                  </a:lnTo>
                  <a:lnTo>
                    <a:pt x="192" y="3"/>
                  </a:lnTo>
                  <a:lnTo>
                    <a:pt x="177" y="1"/>
                  </a:lnTo>
                  <a:lnTo>
                    <a:pt x="161" y="0"/>
                  </a:lnTo>
                  <a:lnTo>
                    <a:pt x="146" y="0"/>
                  </a:lnTo>
                  <a:lnTo>
                    <a:pt x="130" y="1"/>
                  </a:lnTo>
                  <a:lnTo>
                    <a:pt x="114" y="2"/>
                  </a:lnTo>
                  <a:lnTo>
                    <a:pt x="96" y="3"/>
                  </a:lnTo>
                  <a:lnTo>
                    <a:pt x="81" y="8"/>
                  </a:lnTo>
                  <a:lnTo>
                    <a:pt x="65" y="11"/>
                  </a:lnTo>
                  <a:lnTo>
                    <a:pt x="48" y="14"/>
                  </a:lnTo>
                  <a:lnTo>
                    <a:pt x="33" y="19"/>
                  </a:lnTo>
                  <a:lnTo>
                    <a:pt x="17" y="24"/>
                  </a:lnTo>
                  <a:lnTo>
                    <a:pt x="0" y="31"/>
                  </a:lnTo>
                  <a:lnTo>
                    <a:pt x="8" y="48"/>
                  </a:lnTo>
                  <a:lnTo>
                    <a:pt x="23" y="43"/>
                  </a:lnTo>
                  <a:lnTo>
                    <a:pt x="37" y="38"/>
                  </a:lnTo>
                  <a:lnTo>
                    <a:pt x="53" y="33"/>
                  </a:lnTo>
                  <a:lnTo>
                    <a:pt x="67" y="30"/>
                  </a:lnTo>
                  <a:lnTo>
                    <a:pt x="84" y="26"/>
                  </a:lnTo>
                  <a:lnTo>
                    <a:pt x="99" y="22"/>
                  </a:lnTo>
                  <a:lnTo>
                    <a:pt x="114" y="21"/>
                  </a:lnTo>
                  <a:lnTo>
                    <a:pt x="130" y="20"/>
                  </a:lnTo>
                  <a:lnTo>
                    <a:pt x="146" y="19"/>
                  </a:lnTo>
                  <a:lnTo>
                    <a:pt x="161" y="19"/>
                  </a:lnTo>
                  <a:lnTo>
                    <a:pt x="177" y="20"/>
                  </a:lnTo>
                  <a:lnTo>
                    <a:pt x="189" y="22"/>
                  </a:lnTo>
                  <a:lnTo>
                    <a:pt x="203" y="25"/>
                  </a:lnTo>
                  <a:lnTo>
                    <a:pt x="216" y="29"/>
                  </a:lnTo>
                  <a:lnTo>
                    <a:pt x="226" y="32"/>
                  </a:lnTo>
                  <a:lnTo>
                    <a:pt x="238" y="36"/>
                  </a:lnTo>
                  <a:lnTo>
                    <a:pt x="238" y="36"/>
                  </a:lnTo>
                  <a:lnTo>
                    <a:pt x="24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3783960" y="2945520"/>
              <a:ext cx="36360" cy="116640"/>
            </a:xfrm>
            <a:custGeom>
              <a:avLst/>
              <a:gdLst/>
              <a:ahLst/>
              <a:rect l="l" t="t" r="r" b="b"/>
              <a:pathLst>
                <a:path w="86" h="278">
                  <a:moveTo>
                    <a:pt x="76" y="278"/>
                  </a:moveTo>
                  <a:lnTo>
                    <a:pt x="76" y="278"/>
                  </a:lnTo>
                  <a:lnTo>
                    <a:pt x="83" y="236"/>
                  </a:lnTo>
                  <a:lnTo>
                    <a:pt x="86" y="195"/>
                  </a:lnTo>
                  <a:lnTo>
                    <a:pt x="86" y="155"/>
                  </a:lnTo>
                  <a:lnTo>
                    <a:pt x="82" y="115"/>
                  </a:lnTo>
                  <a:lnTo>
                    <a:pt x="73" y="81"/>
                  </a:lnTo>
                  <a:lnTo>
                    <a:pt x="57" y="48"/>
                  </a:lnTo>
                  <a:lnTo>
                    <a:pt x="35" y="2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23" y="34"/>
                  </a:lnTo>
                  <a:lnTo>
                    <a:pt x="41" y="56"/>
                  </a:lnTo>
                  <a:lnTo>
                    <a:pt x="54" y="85"/>
                  </a:lnTo>
                  <a:lnTo>
                    <a:pt x="63" y="119"/>
                  </a:lnTo>
                  <a:lnTo>
                    <a:pt x="67" y="155"/>
                  </a:lnTo>
                  <a:lnTo>
                    <a:pt x="67" y="195"/>
                  </a:lnTo>
                  <a:lnTo>
                    <a:pt x="64" y="236"/>
                  </a:lnTo>
                  <a:lnTo>
                    <a:pt x="57" y="276"/>
                  </a:lnTo>
                  <a:lnTo>
                    <a:pt x="57" y="276"/>
                  </a:lnTo>
                  <a:lnTo>
                    <a:pt x="76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H="1">
              <a:off x="3788280" y="3060000"/>
              <a:ext cx="42840" cy="20520"/>
            </a:xfrm>
            <a:custGeom>
              <a:avLst/>
              <a:gdLst/>
              <a:ahLst/>
              <a:rect l="l" t="t" r="r" b="b"/>
              <a:pathLst>
                <a:path w="101" h="47">
                  <a:moveTo>
                    <a:pt x="5" y="47"/>
                  </a:moveTo>
                  <a:lnTo>
                    <a:pt x="5" y="47"/>
                  </a:lnTo>
                  <a:lnTo>
                    <a:pt x="14" y="45"/>
                  </a:lnTo>
                  <a:lnTo>
                    <a:pt x="26" y="44"/>
                  </a:lnTo>
                  <a:lnTo>
                    <a:pt x="41" y="42"/>
                  </a:lnTo>
                  <a:lnTo>
                    <a:pt x="56" y="40"/>
                  </a:lnTo>
                  <a:lnTo>
                    <a:pt x="69" y="37"/>
                  </a:lnTo>
                  <a:lnTo>
                    <a:pt x="83" y="28"/>
                  </a:lnTo>
                  <a:lnTo>
                    <a:pt x="96" y="18"/>
                  </a:lnTo>
                  <a:lnTo>
                    <a:pt x="101" y="2"/>
                  </a:lnTo>
                  <a:lnTo>
                    <a:pt x="82" y="0"/>
                  </a:lnTo>
                  <a:lnTo>
                    <a:pt x="79" y="8"/>
                  </a:lnTo>
                  <a:lnTo>
                    <a:pt x="75" y="15"/>
                  </a:lnTo>
                  <a:lnTo>
                    <a:pt x="65" y="18"/>
                  </a:lnTo>
                  <a:lnTo>
                    <a:pt x="52" y="21"/>
                  </a:lnTo>
                  <a:lnTo>
                    <a:pt x="39" y="24"/>
                  </a:lnTo>
                  <a:lnTo>
                    <a:pt x="26" y="25"/>
                  </a:lnTo>
                  <a:lnTo>
                    <a:pt x="11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3829320" y="3072600"/>
              <a:ext cx="128520" cy="85320"/>
            </a:xfrm>
            <a:custGeom>
              <a:avLst/>
              <a:gdLst/>
              <a:ahLst/>
              <a:rect l="l" t="t" r="r" b="b"/>
              <a:pathLst>
                <a:path w="301" h="203">
                  <a:moveTo>
                    <a:pt x="7" y="203"/>
                  </a:moveTo>
                  <a:lnTo>
                    <a:pt x="7" y="203"/>
                  </a:lnTo>
                  <a:lnTo>
                    <a:pt x="26" y="195"/>
                  </a:lnTo>
                  <a:lnTo>
                    <a:pt x="46" y="184"/>
                  </a:lnTo>
                  <a:lnTo>
                    <a:pt x="63" y="173"/>
                  </a:lnTo>
                  <a:lnTo>
                    <a:pt x="82" y="161"/>
                  </a:lnTo>
                  <a:lnTo>
                    <a:pt x="102" y="147"/>
                  </a:lnTo>
                  <a:lnTo>
                    <a:pt x="121" y="132"/>
                  </a:lnTo>
                  <a:lnTo>
                    <a:pt x="139" y="119"/>
                  </a:lnTo>
                  <a:lnTo>
                    <a:pt x="158" y="104"/>
                  </a:lnTo>
                  <a:lnTo>
                    <a:pt x="177" y="91"/>
                  </a:lnTo>
                  <a:lnTo>
                    <a:pt x="194" y="78"/>
                  </a:lnTo>
                  <a:lnTo>
                    <a:pt x="212" y="65"/>
                  </a:lnTo>
                  <a:lnTo>
                    <a:pt x="231" y="53"/>
                  </a:lnTo>
                  <a:lnTo>
                    <a:pt x="249" y="43"/>
                  </a:lnTo>
                  <a:lnTo>
                    <a:pt x="265" y="32"/>
                  </a:lnTo>
                  <a:lnTo>
                    <a:pt x="284" y="24"/>
                  </a:lnTo>
                  <a:lnTo>
                    <a:pt x="301" y="19"/>
                  </a:lnTo>
                  <a:lnTo>
                    <a:pt x="296" y="0"/>
                  </a:lnTo>
                  <a:lnTo>
                    <a:pt x="277" y="8"/>
                  </a:lnTo>
                  <a:lnTo>
                    <a:pt x="259" y="16"/>
                  </a:lnTo>
                  <a:lnTo>
                    <a:pt x="240" y="27"/>
                  </a:lnTo>
                  <a:lnTo>
                    <a:pt x="222" y="37"/>
                  </a:lnTo>
                  <a:lnTo>
                    <a:pt x="203" y="49"/>
                  </a:lnTo>
                  <a:lnTo>
                    <a:pt x="183" y="63"/>
                  </a:lnTo>
                  <a:lnTo>
                    <a:pt x="165" y="78"/>
                  </a:lnTo>
                  <a:lnTo>
                    <a:pt x="147" y="90"/>
                  </a:lnTo>
                  <a:lnTo>
                    <a:pt x="128" y="104"/>
                  </a:lnTo>
                  <a:lnTo>
                    <a:pt x="110" y="119"/>
                  </a:lnTo>
                  <a:lnTo>
                    <a:pt x="91" y="132"/>
                  </a:lnTo>
                  <a:lnTo>
                    <a:pt x="73" y="144"/>
                  </a:lnTo>
                  <a:lnTo>
                    <a:pt x="55" y="157"/>
                  </a:lnTo>
                  <a:lnTo>
                    <a:pt x="37" y="168"/>
                  </a:lnTo>
                  <a:lnTo>
                    <a:pt x="19" y="179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7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3956400" y="3150000"/>
              <a:ext cx="102960" cy="35280"/>
            </a:xfrm>
            <a:custGeom>
              <a:avLst/>
              <a:gdLst/>
              <a:ahLst/>
              <a:rect l="l" t="t" r="r" b="b"/>
              <a:pathLst>
                <a:path w="240" h="82">
                  <a:moveTo>
                    <a:pt x="0" y="82"/>
                  </a:moveTo>
                  <a:lnTo>
                    <a:pt x="0" y="82"/>
                  </a:lnTo>
                  <a:lnTo>
                    <a:pt x="19" y="82"/>
                  </a:lnTo>
                  <a:lnTo>
                    <a:pt x="35" y="81"/>
                  </a:lnTo>
                  <a:lnTo>
                    <a:pt x="53" y="77"/>
                  </a:lnTo>
                  <a:lnTo>
                    <a:pt x="69" y="75"/>
                  </a:lnTo>
                  <a:lnTo>
                    <a:pt x="85" y="73"/>
                  </a:lnTo>
                  <a:lnTo>
                    <a:pt x="99" y="69"/>
                  </a:lnTo>
                  <a:lnTo>
                    <a:pt x="115" y="66"/>
                  </a:lnTo>
                  <a:lnTo>
                    <a:pt x="128" y="62"/>
                  </a:lnTo>
                  <a:lnTo>
                    <a:pt x="142" y="56"/>
                  </a:lnTo>
                  <a:lnTo>
                    <a:pt x="156" y="52"/>
                  </a:lnTo>
                  <a:lnTo>
                    <a:pt x="170" y="46"/>
                  </a:lnTo>
                  <a:lnTo>
                    <a:pt x="182" y="42"/>
                  </a:lnTo>
                  <a:lnTo>
                    <a:pt x="198" y="34"/>
                  </a:lnTo>
                  <a:lnTo>
                    <a:pt x="212" y="28"/>
                  </a:lnTo>
                  <a:lnTo>
                    <a:pt x="227" y="23"/>
                  </a:lnTo>
                  <a:lnTo>
                    <a:pt x="240" y="16"/>
                  </a:lnTo>
                  <a:lnTo>
                    <a:pt x="233" y="0"/>
                  </a:lnTo>
                  <a:lnTo>
                    <a:pt x="219" y="6"/>
                  </a:lnTo>
                  <a:lnTo>
                    <a:pt x="204" y="12"/>
                  </a:lnTo>
                  <a:lnTo>
                    <a:pt x="191" y="17"/>
                  </a:lnTo>
                  <a:lnTo>
                    <a:pt x="178" y="23"/>
                  </a:lnTo>
                  <a:lnTo>
                    <a:pt x="165" y="27"/>
                  </a:lnTo>
                  <a:lnTo>
                    <a:pt x="151" y="33"/>
                  </a:lnTo>
                  <a:lnTo>
                    <a:pt x="138" y="37"/>
                  </a:lnTo>
                  <a:lnTo>
                    <a:pt x="124" y="43"/>
                  </a:lnTo>
                  <a:lnTo>
                    <a:pt x="109" y="47"/>
                  </a:lnTo>
                  <a:lnTo>
                    <a:pt x="97" y="51"/>
                  </a:lnTo>
                  <a:lnTo>
                    <a:pt x="82" y="54"/>
                  </a:lnTo>
                  <a:lnTo>
                    <a:pt x="67" y="56"/>
                  </a:lnTo>
                  <a:lnTo>
                    <a:pt x="50" y="58"/>
                  </a:lnTo>
                  <a:lnTo>
                    <a:pt x="35" y="62"/>
                  </a:lnTo>
                  <a:lnTo>
                    <a:pt x="19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>
              <a:off x="3988080" y="3018240"/>
              <a:ext cx="86040" cy="167040"/>
            </a:xfrm>
            <a:custGeom>
              <a:avLst/>
              <a:gdLst/>
              <a:ahLst/>
              <a:rect l="l" t="t" r="r" b="b"/>
              <a:pathLst>
                <a:path w="196" h="398">
                  <a:moveTo>
                    <a:pt x="179" y="0"/>
                  </a:moveTo>
                  <a:lnTo>
                    <a:pt x="192" y="14"/>
                  </a:lnTo>
                  <a:lnTo>
                    <a:pt x="178" y="5"/>
                  </a:lnTo>
                  <a:lnTo>
                    <a:pt x="174" y="10"/>
                  </a:lnTo>
                  <a:lnTo>
                    <a:pt x="164" y="27"/>
                  </a:lnTo>
                  <a:lnTo>
                    <a:pt x="150" y="49"/>
                  </a:lnTo>
                  <a:lnTo>
                    <a:pt x="132" y="78"/>
                  </a:lnTo>
                  <a:lnTo>
                    <a:pt x="113" y="110"/>
                  </a:lnTo>
                  <a:lnTo>
                    <a:pt x="92" y="145"/>
                  </a:lnTo>
                  <a:lnTo>
                    <a:pt x="71" y="181"/>
                  </a:lnTo>
                  <a:lnTo>
                    <a:pt x="51" y="220"/>
                  </a:lnTo>
                  <a:lnTo>
                    <a:pt x="33" y="256"/>
                  </a:lnTo>
                  <a:lnTo>
                    <a:pt x="18" y="290"/>
                  </a:lnTo>
                  <a:lnTo>
                    <a:pt x="6" y="322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0"/>
                  </a:lnTo>
                  <a:lnTo>
                    <a:pt x="33" y="398"/>
                  </a:lnTo>
                  <a:lnTo>
                    <a:pt x="33" y="379"/>
                  </a:lnTo>
                  <a:lnTo>
                    <a:pt x="23" y="377"/>
                  </a:lnTo>
                  <a:lnTo>
                    <a:pt x="19" y="368"/>
                  </a:lnTo>
                  <a:lnTo>
                    <a:pt x="19" y="351"/>
                  </a:lnTo>
                  <a:lnTo>
                    <a:pt x="25" y="327"/>
                  </a:lnTo>
                  <a:lnTo>
                    <a:pt x="35" y="297"/>
                  </a:lnTo>
                  <a:lnTo>
                    <a:pt x="49" y="263"/>
                  </a:lnTo>
                  <a:lnTo>
                    <a:pt x="67" y="228"/>
                  </a:lnTo>
                  <a:lnTo>
                    <a:pt x="87" y="191"/>
                  </a:lnTo>
                  <a:lnTo>
                    <a:pt x="109" y="155"/>
                  </a:lnTo>
                  <a:lnTo>
                    <a:pt x="130" y="120"/>
                  </a:lnTo>
                  <a:lnTo>
                    <a:pt x="149" y="87"/>
                  </a:lnTo>
                  <a:lnTo>
                    <a:pt x="167" y="59"/>
                  </a:lnTo>
                  <a:lnTo>
                    <a:pt x="180" y="37"/>
                  </a:lnTo>
                  <a:lnTo>
                    <a:pt x="191" y="20"/>
                  </a:lnTo>
                  <a:lnTo>
                    <a:pt x="196" y="9"/>
                  </a:lnTo>
                  <a:lnTo>
                    <a:pt x="178" y="0"/>
                  </a:lnTo>
                  <a:lnTo>
                    <a:pt x="191" y="14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H="1">
              <a:off x="3917880" y="2949840"/>
              <a:ext cx="79200" cy="74520"/>
            </a:xfrm>
            <a:custGeom>
              <a:avLst/>
              <a:gdLst/>
              <a:ahLst/>
              <a:rect l="l" t="t" r="r" b="b"/>
              <a:pathLst>
                <a:path w="184" h="179">
                  <a:moveTo>
                    <a:pt x="170" y="1"/>
                  </a:moveTo>
                  <a:lnTo>
                    <a:pt x="176" y="0"/>
                  </a:lnTo>
                  <a:lnTo>
                    <a:pt x="152" y="2"/>
                  </a:lnTo>
                  <a:lnTo>
                    <a:pt x="127" y="16"/>
                  </a:lnTo>
                  <a:lnTo>
                    <a:pt x="104" y="38"/>
                  </a:lnTo>
                  <a:lnTo>
                    <a:pt x="82" y="63"/>
                  </a:lnTo>
                  <a:lnTo>
                    <a:pt x="61" y="91"/>
                  </a:lnTo>
                  <a:lnTo>
                    <a:pt x="37" y="119"/>
                  </a:lnTo>
                  <a:lnTo>
                    <a:pt x="17" y="145"/>
                  </a:lnTo>
                  <a:lnTo>
                    <a:pt x="0" y="165"/>
                  </a:lnTo>
                  <a:lnTo>
                    <a:pt x="12" y="179"/>
                  </a:lnTo>
                  <a:lnTo>
                    <a:pt x="32" y="156"/>
                  </a:lnTo>
                  <a:lnTo>
                    <a:pt x="52" y="131"/>
                  </a:lnTo>
                  <a:lnTo>
                    <a:pt x="74" y="102"/>
                  </a:lnTo>
                  <a:lnTo>
                    <a:pt x="95" y="75"/>
                  </a:lnTo>
                  <a:lnTo>
                    <a:pt x="118" y="49"/>
                  </a:lnTo>
                  <a:lnTo>
                    <a:pt x="139" y="30"/>
                  </a:lnTo>
                  <a:lnTo>
                    <a:pt x="157" y="21"/>
                  </a:lnTo>
                  <a:lnTo>
                    <a:pt x="174" y="19"/>
                  </a:lnTo>
                  <a:lnTo>
                    <a:pt x="178" y="18"/>
                  </a:lnTo>
                  <a:lnTo>
                    <a:pt x="174" y="19"/>
                  </a:lnTo>
                  <a:lnTo>
                    <a:pt x="180" y="16"/>
                  </a:lnTo>
                  <a:lnTo>
                    <a:pt x="184" y="10"/>
                  </a:lnTo>
                  <a:lnTo>
                    <a:pt x="182" y="3"/>
                  </a:lnTo>
                  <a:lnTo>
                    <a:pt x="176" y="0"/>
                  </a:lnTo>
                  <a:lnTo>
                    <a:pt x="17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>
              <a:off x="3499200" y="2313000"/>
              <a:ext cx="70560" cy="45720"/>
            </a:xfrm>
            <a:custGeom>
              <a:avLst/>
              <a:gdLst/>
              <a:ahLst/>
              <a:rect l="l" t="t" r="r" b="b"/>
              <a:pathLst>
                <a:path w="162" h="110">
                  <a:moveTo>
                    <a:pt x="143" y="92"/>
                  </a:moveTo>
                  <a:lnTo>
                    <a:pt x="159" y="92"/>
                  </a:lnTo>
                  <a:lnTo>
                    <a:pt x="142" y="77"/>
                  </a:lnTo>
                  <a:lnTo>
                    <a:pt x="125" y="63"/>
                  </a:lnTo>
                  <a:lnTo>
                    <a:pt x="105" y="52"/>
                  </a:lnTo>
                  <a:lnTo>
                    <a:pt x="86" y="41"/>
                  </a:lnTo>
                  <a:lnTo>
                    <a:pt x="67" y="31"/>
                  </a:lnTo>
                  <a:lnTo>
                    <a:pt x="47" y="20"/>
                  </a:lnTo>
                  <a:lnTo>
                    <a:pt x="28" y="11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8" y="30"/>
                  </a:lnTo>
                  <a:lnTo>
                    <a:pt x="37" y="39"/>
                  </a:lnTo>
                  <a:lnTo>
                    <a:pt x="57" y="50"/>
                  </a:lnTo>
                  <a:lnTo>
                    <a:pt x="76" y="60"/>
                  </a:lnTo>
                  <a:lnTo>
                    <a:pt x="95" y="71"/>
                  </a:lnTo>
                  <a:lnTo>
                    <a:pt x="112" y="82"/>
                  </a:lnTo>
                  <a:lnTo>
                    <a:pt x="130" y="93"/>
                  </a:lnTo>
                  <a:lnTo>
                    <a:pt x="144" y="107"/>
                  </a:lnTo>
                  <a:lnTo>
                    <a:pt x="160" y="107"/>
                  </a:lnTo>
                  <a:lnTo>
                    <a:pt x="144" y="107"/>
                  </a:lnTo>
                  <a:lnTo>
                    <a:pt x="151" y="110"/>
                  </a:lnTo>
                  <a:lnTo>
                    <a:pt x="159" y="107"/>
                  </a:lnTo>
                  <a:lnTo>
                    <a:pt x="162" y="99"/>
                  </a:lnTo>
                  <a:lnTo>
                    <a:pt x="159" y="92"/>
                  </a:lnTo>
                  <a:lnTo>
                    <a:pt x="14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3452040" y="2235960"/>
              <a:ext cx="55440" cy="51840"/>
            </a:xfrm>
            <a:custGeom>
              <a:avLst/>
              <a:gdLst/>
              <a:ahLst/>
              <a:rect l="l" t="t" r="r" b="b"/>
              <a:pathLst>
                <a:path w="129" h="124">
                  <a:moveTo>
                    <a:pt x="17" y="12"/>
                  </a:moveTo>
                  <a:lnTo>
                    <a:pt x="17" y="12"/>
                  </a:lnTo>
                  <a:lnTo>
                    <a:pt x="5" y="16"/>
                  </a:lnTo>
                  <a:lnTo>
                    <a:pt x="14" y="24"/>
                  </a:lnTo>
                  <a:lnTo>
                    <a:pt x="28" y="39"/>
                  </a:lnTo>
                  <a:lnTo>
                    <a:pt x="45" y="56"/>
                  </a:lnTo>
                  <a:lnTo>
                    <a:pt x="62" y="75"/>
                  </a:lnTo>
                  <a:lnTo>
                    <a:pt x="81" y="93"/>
                  </a:lnTo>
                  <a:lnTo>
                    <a:pt x="99" y="111"/>
                  </a:lnTo>
                  <a:lnTo>
                    <a:pt x="117" y="124"/>
                  </a:lnTo>
                  <a:lnTo>
                    <a:pt x="129" y="107"/>
                  </a:lnTo>
                  <a:lnTo>
                    <a:pt x="113" y="94"/>
                  </a:lnTo>
                  <a:lnTo>
                    <a:pt x="96" y="79"/>
                  </a:lnTo>
                  <a:lnTo>
                    <a:pt x="77" y="61"/>
                  </a:lnTo>
                  <a:lnTo>
                    <a:pt x="59" y="42"/>
                  </a:lnTo>
                  <a:lnTo>
                    <a:pt x="42" y="24"/>
                  </a:lnTo>
                  <a:lnTo>
                    <a:pt x="28" y="1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>
              <a:off x="3500640" y="2235960"/>
              <a:ext cx="70920" cy="84960"/>
            </a:xfrm>
            <a:custGeom>
              <a:avLst/>
              <a:gdLst/>
              <a:ahLst/>
              <a:rect l="l" t="t" r="r" b="b"/>
              <a:pathLst>
                <a:path w="164" h="204">
                  <a:moveTo>
                    <a:pt x="14" y="185"/>
                  </a:moveTo>
                  <a:lnTo>
                    <a:pt x="18" y="201"/>
                  </a:lnTo>
                  <a:lnTo>
                    <a:pt x="164" y="12"/>
                  </a:lnTo>
                  <a:lnTo>
                    <a:pt x="147" y="0"/>
                  </a:lnTo>
                  <a:lnTo>
                    <a:pt x="1" y="188"/>
                  </a:lnTo>
                  <a:lnTo>
                    <a:pt x="4" y="204"/>
                  </a:lnTo>
                  <a:lnTo>
                    <a:pt x="1" y="188"/>
                  </a:lnTo>
                  <a:lnTo>
                    <a:pt x="0" y="197"/>
                  </a:lnTo>
                  <a:lnTo>
                    <a:pt x="4" y="203"/>
                  </a:lnTo>
                  <a:lnTo>
                    <a:pt x="10" y="204"/>
                  </a:lnTo>
                  <a:lnTo>
                    <a:pt x="18" y="201"/>
                  </a:lnTo>
                  <a:lnTo>
                    <a:pt x="1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>
              <a:off x="4091400" y="2283840"/>
              <a:ext cx="152280" cy="252720"/>
            </a:xfrm>
            <a:custGeom>
              <a:avLst/>
              <a:gdLst/>
              <a:ahLst/>
              <a:rect l="l" t="t" r="r" b="b"/>
              <a:pathLst>
                <a:path w="358" h="603">
                  <a:moveTo>
                    <a:pt x="76" y="0"/>
                  </a:moveTo>
                  <a:lnTo>
                    <a:pt x="68" y="16"/>
                  </a:lnTo>
                  <a:lnTo>
                    <a:pt x="60" y="31"/>
                  </a:lnTo>
                  <a:lnTo>
                    <a:pt x="51" y="46"/>
                  </a:lnTo>
                  <a:lnTo>
                    <a:pt x="45" y="61"/>
                  </a:lnTo>
                  <a:lnTo>
                    <a:pt x="37" y="76"/>
                  </a:lnTo>
                  <a:lnTo>
                    <a:pt x="28" y="91"/>
                  </a:lnTo>
                  <a:lnTo>
                    <a:pt x="21" y="107"/>
                  </a:lnTo>
                  <a:lnTo>
                    <a:pt x="13" y="123"/>
                  </a:lnTo>
                  <a:lnTo>
                    <a:pt x="5" y="156"/>
                  </a:lnTo>
                  <a:lnTo>
                    <a:pt x="0" y="200"/>
                  </a:lnTo>
                  <a:lnTo>
                    <a:pt x="1" y="249"/>
                  </a:lnTo>
                  <a:lnTo>
                    <a:pt x="11" y="292"/>
                  </a:lnTo>
                  <a:lnTo>
                    <a:pt x="26" y="320"/>
                  </a:lnTo>
                  <a:lnTo>
                    <a:pt x="39" y="346"/>
                  </a:lnTo>
                  <a:lnTo>
                    <a:pt x="50" y="368"/>
                  </a:lnTo>
                  <a:lnTo>
                    <a:pt x="62" y="389"/>
                  </a:lnTo>
                  <a:lnTo>
                    <a:pt x="74" y="411"/>
                  </a:lnTo>
                  <a:lnTo>
                    <a:pt x="86" y="435"/>
                  </a:lnTo>
                  <a:lnTo>
                    <a:pt x="98" y="461"/>
                  </a:lnTo>
                  <a:lnTo>
                    <a:pt x="111" y="490"/>
                  </a:lnTo>
                  <a:lnTo>
                    <a:pt x="117" y="504"/>
                  </a:lnTo>
                  <a:lnTo>
                    <a:pt x="123" y="520"/>
                  </a:lnTo>
                  <a:lnTo>
                    <a:pt x="132" y="537"/>
                  </a:lnTo>
                  <a:lnTo>
                    <a:pt x="141" y="552"/>
                  </a:lnTo>
                  <a:lnTo>
                    <a:pt x="151" y="568"/>
                  </a:lnTo>
                  <a:lnTo>
                    <a:pt x="162" y="582"/>
                  </a:lnTo>
                  <a:lnTo>
                    <a:pt x="174" y="594"/>
                  </a:lnTo>
                  <a:lnTo>
                    <a:pt x="188" y="603"/>
                  </a:lnTo>
                  <a:lnTo>
                    <a:pt x="202" y="601"/>
                  </a:lnTo>
                  <a:lnTo>
                    <a:pt x="217" y="595"/>
                  </a:lnTo>
                  <a:lnTo>
                    <a:pt x="232" y="587"/>
                  </a:lnTo>
                  <a:lnTo>
                    <a:pt x="246" y="577"/>
                  </a:lnTo>
                  <a:lnTo>
                    <a:pt x="258" y="564"/>
                  </a:lnTo>
                  <a:lnTo>
                    <a:pt x="270" y="553"/>
                  </a:lnTo>
                  <a:lnTo>
                    <a:pt x="280" y="541"/>
                  </a:lnTo>
                  <a:lnTo>
                    <a:pt x="284" y="532"/>
                  </a:lnTo>
                  <a:lnTo>
                    <a:pt x="276" y="466"/>
                  </a:lnTo>
                  <a:lnTo>
                    <a:pt x="273" y="410"/>
                  </a:lnTo>
                  <a:lnTo>
                    <a:pt x="276" y="357"/>
                  </a:lnTo>
                  <a:lnTo>
                    <a:pt x="290" y="297"/>
                  </a:lnTo>
                  <a:lnTo>
                    <a:pt x="300" y="272"/>
                  </a:lnTo>
                  <a:lnTo>
                    <a:pt x="312" y="244"/>
                  </a:lnTo>
                  <a:lnTo>
                    <a:pt x="326" y="215"/>
                  </a:lnTo>
                  <a:lnTo>
                    <a:pt x="339" y="182"/>
                  </a:lnTo>
                  <a:lnTo>
                    <a:pt x="349" y="151"/>
                  </a:lnTo>
                  <a:lnTo>
                    <a:pt x="357" y="120"/>
                  </a:lnTo>
                  <a:lnTo>
                    <a:pt x="358" y="90"/>
                  </a:lnTo>
                  <a:lnTo>
                    <a:pt x="351" y="63"/>
                  </a:lnTo>
                  <a:lnTo>
                    <a:pt x="344" y="54"/>
                  </a:lnTo>
                  <a:lnTo>
                    <a:pt x="328" y="46"/>
                  </a:lnTo>
                  <a:lnTo>
                    <a:pt x="306" y="37"/>
                  </a:lnTo>
                  <a:lnTo>
                    <a:pt x="282" y="30"/>
                  </a:lnTo>
                  <a:lnTo>
                    <a:pt x="255" y="24"/>
                  </a:lnTo>
                  <a:lnTo>
                    <a:pt x="231" y="17"/>
                  </a:lnTo>
                  <a:lnTo>
                    <a:pt x="211" y="13"/>
                  </a:lnTo>
                  <a:lnTo>
                    <a:pt x="196" y="10"/>
                  </a:lnTo>
                  <a:lnTo>
                    <a:pt x="181" y="9"/>
                  </a:lnTo>
                  <a:lnTo>
                    <a:pt x="166" y="8"/>
                  </a:lnTo>
                  <a:lnTo>
                    <a:pt x="151" y="7"/>
                  </a:lnTo>
                  <a:lnTo>
                    <a:pt x="135" y="6"/>
                  </a:lnTo>
                  <a:lnTo>
                    <a:pt x="120" y="5"/>
                  </a:lnTo>
                  <a:lnTo>
                    <a:pt x="105" y="4"/>
                  </a:lnTo>
                  <a:lnTo>
                    <a:pt x="9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H="1">
              <a:off x="4207320" y="2281680"/>
              <a:ext cx="34560" cy="53640"/>
            </a:xfrm>
            <a:custGeom>
              <a:avLst/>
              <a:gdLst/>
              <a:ahLst/>
              <a:rect l="l" t="t" r="r" b="b"/>
              <a:pathLst>
                <a:path w="79" h="130">
                  <a:moveTo>
                    <a:pt x="18" y="130"/>
                  </a:moveTo>
                  <a:lnTo>
                    <a:pt x="18" y="130"/>
                  </a:lnTo>
                  <a:lnTo>
                    <a:pt x="25" y="114"/>
                  </a:lnTo>
                  <a:lnTo>
                    <a:pt x="33" y="100"/>
                  </a:lnTo>
                  <a:lnTo>
                    <a:pt x="41" y="85"/>
                  </a:lnTo>
                  <a:lnTo>
                    <a:pt x="49" y="70"/>
                  </a:lnTo>
                  <a:lnTo>
                    <a:pt x="56" y="54"/>
                  </a:lnTo>
                  <a:lnTo>
                    <a:pt x="64" y="40"/>
                  </a:lnTo>
                  <a:lnTo>
                    <a:pt x="73" y="24"/>
                  </a:lnTo>
                  <a:lnTo>
                    <a:pt x="79" y="10"/>
                  </a:lnTo>
                  <a:lnTo>
                    <a:pt x="61" y="0"/>
                  </a:lnTo>
                  <a:lnTo>
                    <a:pt x="54" y="15"/>
                  </a:lnTo>
                  <a:lnTo>
                    <a:pt x="45" y="31"/>
                  </a:lnTo>
                  <a:lnTo>
                    <a:pt x="37" y="45"/>
                  </a:lnTo>
                  <a:lnTo>
                    <a:pt x="31" y="60"/>
                  </a:lnTo>
                  <a:lnTo>
                    <a:pt x="22" y="75"/>
                  </a:lnTo>
                  <a:lnTo>
                    <a:pt x="14" y="91"/>
                  </a:lnTo>
                  <a:lnTo>
                    <a:pt x="6" y="108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1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4235400" y="2333880"/>
              <a:ext cx="12960" cy="75240"/>
            </a:xfrm>
            <a:custGeom>
              <a:avLst/>
              <a:gdLst/>
              <a:ahLst/>
              <a:rect l="l" t="t" r="r" b="b"/>
              <a:pathLst>
                <a:path w="34" h="178">
                  <a:moveTo>
                    <a:pt x="32" y="169"/>
                  </a:moveTo>
                  <a:lnTo>
                    <a:pt x="32" y="170"/>
                  </a:lnTo>
                  <a:lnTo>
                    <a:pt x="22" y="128"/>
                  </a:lnTo>
                  <a:lnTo>
                    <a:pt x="21" y="81"/>
                  </a:lnTo>
                  <a:lnTo>
                    <a:pt x="27" y="38"/>
                  </a:lnTo>
                  <a:lnTo>
                    <a:pt x="34" y="7"/>
                  </a:lnTo>
                  <a:lnTo>
                    <a:pt x="16" y="0"/>
                  </a:lnTo>
                  <a:lnTo>
                    <a:pt x="5" y="36"/>
                  </a:lnTo>
                  <a:lnTo>
                    <a:pt x="0" y="81"/>
                  </a:lnTo>
                  <a:lnTo>
                    <a:pt x="1" y="131"/>
                  </a:lnTo>
                  <a:lnTo>
                    <a:pt x="13" y="177"/>
                  </a:lnTo>
                  <a:lnTo>
                    <a:pt x="13" y="178"/>
                  </a:lnTo>
                  <a:lnTo>
                    <a:pt x="3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4192200" y="2404800"/>
              <a:ext cx="51480" cy="85320"/>
            </a:xfrm>
            <a:custGeom>
              <a:avLst/>
              <a:gdLst/>
              <a:ahLst/>
              <a:rect l="l" t="t" r="r" b="b"/>
              <a:pathLst>
                <a:path w="118" h="206">
                  <a:moveTo>
                    <a:pt x="118" y="199"/>
                  </a:moveTo>
                  <a:lnTo>
                    <a:pt x="118" y="199"/>
                  </a:lnTo>
                  <a:lnTo>
                    <a:pt x="105" y="170"/>
                  </a:lnTo>
                  <a:lnTo>
                    <a:pt x="94" y="142"/>
                  </a:lnTo>
                  <a:lnTo>
                    <a:pt x="81" y="119"/>
                  </a:lnTo>
                  <a:lnTo>
                    <a:pt x="70" y="97"/>
                  </a:lnTo>
                  <a:lnTo>
                    <a:pt x="58" y="75"/>
                  </a:lnTo>
                  <a:lnTo>
                    <a:pt x="46" y="52"/>
                  </a:lnTo>
                  <a:lnTo>
                    <a:pt x="34" y="28"/>
                  </a:lnTo>
                  <a:lnTo>
                    <a:pt x="19" y="0"/>
                  </a:lnTo>
                  <a:lnTo>
                    <a:pt x="0" y="9"/>
                  </a:lnTo>
                  <a:lnTo>
                    <a:pt x="15" y="38"/>
                  </a:lnTo>
                  <a:lnTo>
                    <a:pt x="27" y="62"/>
                  </a:lnTo>
                  <a:lnTo>
                    <a:pt x="39" y="84"/>
                  </a:lnTo>
                  <a:lnTo>
                    <a:pt x="51" y="105"/>
                  </a:lnTo>
                  <a:lnTo>
                    <a:pt x="62" y="128"/>
                  </a:lnTo>
                  <a:lnTo>
                    <a:pt x="75" y="152"/>
                  </a:lnTo>
                  <a:lnTo>
                    <a:pt x="86" y="176"/>
                  </a:lnTo>
                  <a:lnTo>
                    <a:pt x="99" y="206"/>
                  </a:lnTo>
                  <a:lnTo>
                    <a:pt x="99" y="206"/>
                  </a:lnTo>
                  <a:lnTo>
                    <a:pt x="118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4160160" y="2488320"/>
              <a:ext cx="40680" cy="5184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87" y="106"/>
                  </a:moveTo>
                  <a:lnTo>
                    <a:pt x="91" y="107"/>
                  </a:lnTo>
                  <a:lnTo>
                    <a:pt x="80" y="99"/>
                  </a:lnTo>
                  <a:lnTo>
                    <a:pt x="70" y="89"/>
                  </a:lnTo>
                  <a:lnTo>
                    <a:pt x="58" y="75"/>
                  </a:lnTo>
                  <a:lnTo>
                    <a:pt x="50" y="60"/>
                  </a:lnTo>
                  <a:lnTo>
                    <a:pt x="40" y="45"/>
                  </a:lnTo>
                  <a:lnTo>
                    <a:pt x="32" y="29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0" y="7"/>
                  </a:lnTo>
                  <a:lnTo>
                    <a:pt x="6" y="21"/>
                  </a:lnTo>
                  <a:lnTo>
                    <a:pt x="13" y="37"/>
                  </a:lnTo>
                  <a:lnTo>
                    <a:pt x="21" y="54"/>
                  </a:lnTo>
                  <a:lnTo>
                    <a:pt x="31" y="70"/>
                  </a:lnTo>
                  <a:lnTo>
                    <a:pt x="41" y="87"/>
                  </a:lnTo>
                  <a:lnTo>
                    <a:pt x="53" y="103"/>
                  </a:lnTo>
                  <a:lnTo>
                    <a:pt x="67" y="115"/>
                  </a:lnTo>
                  <a:lnTo>
                    <a:pt x="81" y="126"/>
                  </a:lnTo>
                  <a:lnTo>
                    <a:pt x="87" y="127"/>
                  </a:lnTo>
                  <a:lnTo>
                    <a:pt x="81" y="126"/>
                  </a:lnTo>
                  <a:lnTo>
                    <a:pt x="90" y="126"/>
                  </a:lnTo>
                  <a:lnTo>
                    <a:pt x="95" y="122"/>
                  </a:lnTo>
                  <a:lnTo>
                    <a:pt x="95" y="113"/>
                  </a:lnTo>
                  <a:lnTo>
                    <a:pt x="91" y="107"/>
                  </a:lnTo>
                  <a:lnTo>
                    <a:pt x="87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H="1">
              <a:off x="4116960" y="2502720"/>
              <a:ext cx="47160" cy="3708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85" y="11"/>
                  </a:moveTo>
                  <a:lnTo>
                    <a:pt x="86" y="6"/>
                  </a:lnTo>
                  <a:lnTo>
                    <a:pt x="83" y="14"/>
                  </a:lnTo>
                  <a:lnTo>
                    <a:pt x="74" y="24"/>
                  </a:lnTo>
                  <a:lnTo>
                    <a:pt x="64" y="36"/>
                  </a:lnTo>
                  <a:lnTo>
                    <a:pt x="51" y="46"/>
                  </a:lnTo>
                  <a:lnTo>
                    <a:pt x="38" y="57"/>
                  </a:lnTo>
                  <a:lnTo>
                    <a:pt x="25" y="64"/>
                  </a:lnTo>
                  <a:lnTo>
                    <a:pt x="12" y="69"/>
                  </a:lnTo>
                  <a:lnTo>
                    <a:pt x="0" y="71"/>
                  </a:lnTo>
                  <a:lnTo>
                    <a:pt x="0" y="92"/>
                  </a:lnTo>
                  <a:lnTo>
                    <a:pt x="17" y="90"/>
                  </a:lnTo>
                  <a:lnTo>
                    <a:pt x="35" y="82"/>
                  </a:lnTo>
                  <a:lnTo>
                    <a:pt x="49" y="73"/>
                  </a:lnTo>
                  <a:lnTo>
                    <a:pt x="65" y="62"/>
                  </a:lnTo>
                  <a:lnTo>
                    <a:pt x="78" y="50"/>
                  </a:lnTo>
                  <a:lnTo>
                    <a:pt x="89" y="38"/>
                  </a:lnTo>
                  <a:lnTo>
                    <a:pt x="99" y="25"/>
                  </a:lnTo>
                  <a:lnTo>
                    <a:pt x="105" y="14"/>
                  </a:lnTo>
                  <a:lnTo>
                    <a:pt x="106" y="8"/>
                  </a:lnTo>
                  <a:lnTo>
                    <a:pt x="105" y="14"/>
                  </a:lnTo>
                  <a:lnTo>
                    <a:pt x="105" y="5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6"/>
                  </a:lnTo>
                  <a:lnTo>
                    <a:pt x="8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4115160" y="2406600"/>
              <a:ext cx="17280" cy="100080"/>
            </a:xfrm>
            <a:custGeom>
              <a:avLst/>
              <a:gdLst/>
              <a:ahLst/>
              <a:rect l="l" t="t" r="r" b="b"/>
              <a:pathLst>
                <a:path w="38" h="238">
                  <a:moveTo>
                    <a:pt x="17" y="0"/>
                  </a:moveTo>
                  <a:lnTo>
                    <a:pt x="17" y="0"/>
                  </a:lnTo>
                  <a:lnTo>
                    <a:pt x="3" y="61"/>
                  </a:lnTo>
                  <a:lnTo>
                    <a:pt x="0" y="115"/>
                  </a:lnTo>
                  <a:lnTo>
                    <a:pt x="3" y="171"/>
                  </a:lnTo>
                  <a:lnTo>
                    <a:pt x="10" y="238"/>
                  </a:lnTo>
                  <a:lnTo>
                    <a:pt x="31" y="235"/>
                  </a:lnTo>
                  <a:lnTo>
                    <a:pt x="24" y="171"/>
                  </a:lnTo>
                  <a:lnTo>
                    <a:pt x="21" y="115"/>
                  </a:lnTo>
                  <a:lnTo>
                    <a:pt x="24" y="63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4087080" y="2308680"/>
              <a:ext cx="36360" cy="10008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61" y="7"/>
                  </a:moveTo>
                  <a:lnTo>
                    <a:pt x="62" y="8"/>
                  </a:lnTo>
                  <a:lnTo>
                    <a:pt x="67" y="32"/>
                  </a:lnTo>
                  <a:lnTo>
                    <a:pt x="66" y="61"/>
                  </a:lnTo>
                  <a:lnTo>
                    <a:pt x="59" y="91"/>
                  </a:lnTo>
                  <a:lnTo>
                    <a:pt x="49" y="121"/>
                  </a:lnTo>
                  <a:lnTo>
                    <a:pt x="37" y="153"/>
                  </a:lnTo>
                  <a:lnTo>
                    <a:pt x="23" y="181"/>
                  </a:lnTo>
                  <a:lnTo>
                    <a:pt x="10" y="211"/>
                  </a:lnTo>
                  <a:lnTo>
                    <a:pt x="0" y="237"/>
                  </a:lnTo>
                  <a:lnTo>
                    <a:pt x="21" y="241"/>
                  </a:lnTo>
                  <a:lnTo>
                    <a:pt x="28" y="218"/>
                  </a:lnTo>
                  <a:lnTo>
                    <a:pt x="42" y="191"/>
                  </a:lnTo>
                  <a:lnTo>
                    <a:pt x="56" y="160"/>
                  </a:lnTo>
                  <a:lnTo>
                    <a:pt x="68" y="128"/>
                  </a:lnTo>
                  <a:lnTo>
                    <a:pt x="80" y="97"/>
                  </a:lnTo>
                  <a:lnTo>
                    <a:pt x="87" y="63"/>
                  </a:lnTo>
                  <a:lnTo>
                    <a:pt x="88" y="32"/>
                  </a:lnTo>
                  <a:lnTo>
                    <a:pt x="80" y="0"/>
                  </a:lnTo>
                  <a:lnTo>
                    <a:pt x="82" y="2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H="1">
              <a:off x="4088880" y="2283840"/>
              <a:ext cx="70920" cy="26640"/>
            </a:xfrm>
            <a:custGeom>
              <a:avLst/>
              <a:gdLst/>
              <a:ahLst/>
              <a:rect l="l" t="t" r="r" b="b"/>
              <a:pathLst>
                <a:path w="167" h="66">
                  <a:moveTo>
                    <a:pt x="1" y="21"/>
                  </a:moveTo>
                  <a:lnTo>
                    <a:pt x="0" y="21"/>
                  </a:lnTo>
                  <a:lnTo>
                    <a:pt x="15" y="25"/>
                  </a:lnTo>
                  <a:lnTo>
                    <a:pt x="34" y="29"/>
                  </a:lnTo>
                  <a:lnTo>
                    <a:pt x="58" y="35"/>
                  </a:lnTo>
                  <a:lnTo>
                    <a:pt x="85" y="42"/>
                  </a:lnTo>
                  <a:lnTo>
                    <a:pt x="109" y="49"/>
                  </a:lnTo>
                  <a:lnTo>
                    <a:pt x="130" y="56"/>
                  </a:lnTo>
                  <a:lnTo>
                    <a:pt x="143" y="64"/>
                  </a:lnTo>
                  <a:lnTo>
                    <a:pt x="146" y="66"/>
                  </a:lnTo>
                  <a:lnTo>
                    <a:pt x="167" y="61"/>
                  </a:lnTo>
                  <a:lnTo>
                    <a:pt x="154" y="47"/>
                  </a:lnTo>
                  <a:lnTo>
                    <a:pt x="137" y="37"/>
                  </a:lnTo>
                  <a:lnTo>
                    <a:pt x="113" y="28"/>
                  </a:lnTo>
                  <a:lnTo>
                    <a:pt x="89" y="20"/>
                  </a:lnTo>
                  <a:lnTo>
                    <a:pt x="62" y="14"/>
                  </a:lnTo>
                  <a:lnTo>
                    <a:pt x="38" y="8"/>
                  </a:lnTo>
                  <a:lnTo>
                    <a:pt x="17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4160160" y="2279520"/>
              <a:ext cx="55800" cy="12600"/>
            </a:xfrm>
            <a:custGeom>
              <a:avLst/>
              <a:gdLst/>
              <a:ahLst/>
              <a:rect l="l" t="t" r="r" b="b"/>
              <a:pathLst>
                <a:path w="132" h="30">
                  <a:moveTo>
                    <a:pt x="20" y="16"/>
                  </a:moveTo>
                  <a:lnTo>
                    <a:pt x="12" y="21"/>
                  </a:lnTo>
                  <a:lnTo>
                    <a:pt x="27" y="23"/>
                  </a:lnTo>
                  <a:lnTo>
                    <a:pt x="41" y="24"/>
                  </a:lnTo>
                  <a:lnTo>
                    <a:pt x="56" y="25"/>
                  </a:lnTo>
                  <a:lnTo>
                    <a:pt x="71" y="26"/>
                  </a:lnTo>
                  <a:lnTo>
                    <a:pt x="87" y="27"/>
                  </a:lnTo>
                  <a:lnTo>
                    <a:pt x="102" y="28"/>
                  </a:lnTo>
                  <a:lnTo>
                    <a:pt x="117" y="29"/>
                  </a:lnTo>
                  <a:lnTo>
                    <a:pt x="132" y="30"/>
                  </a:lnTo>
                  <a:lnTo>
                    <a:pt x="132" y="9"/>
                  </a:lnTo>
                  <a:lnTo>
                    <a:pt x="117" y="8"/>
                  </a:lnTo>
                  <a:lnTo>
                    <a:pt x="102" y="7"/>
                  </a:lnTo>
                  <a:lnTo>
                    <a:pt x="87" y="6"/>
                  </a:lnTo>
                  <a:lnTo>
                    <a:pt x="71" y="5"/>
                  </a:lnTo>
                  <a:lnTo>
                    <a:pt x="56" y="4"/>
                  </a:lnTo>
                  <a:lnTo>
                    <a:pt x="41" y="3"/>
                  </a:lnTo>
                  <a:lnTo>
                    <a:pt x="27" y="1"/>
                  </a:lnTo>
                  <a:lnTo>
                    <a:pt x="12" y="0"/>
                  </a:lnTo>
                  <a:lnTo>
                    <a:pt x="2" y="6"/>
                  </a:lnTo>
                  <a:lnTo>
                    <a:pt x="12" y="0"/>
                  </a:lnTo>
                  <a:lnTo>
                    <a:pt x="3" y="4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12" y="21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H="1">
              <a:off x="4166280" y="2381760"/>
              <a:ext cx="55800" cy="60480"/>
            </a:xfrm>
            <a:custGeom>
              <a:avLst/>
              <a:gdLst/>
              <a:ahLst/>
              <a:rect l="l" t="t" r="r" b="b"/>
              <a:pathLst>
                <a:path w="126" h="143">
                  <a:moveTo>
                    <a:pt x="110" y="123"/>
                  </a:moveTo>
                  <a:lnTo>
                    <a:pt x="116" y="122"/>
                  </a:lnTo>
                  <a:lnTo>
                    <a:pt x="102" y="120"/>
                  </a:lnTo>
                  <a:lnTo>
                    <a:pt x="89" y="111"/>
                  </a:lnTo>
                  <a:lnTo>
                    <a:pt x="77" y="97"/>
                  </a:lnTo>
                  <a:lnTo>
                    <a:pt x="62" y="77"/>
                  </a:lnTo>
                  <a:lnTo>
                    <a:pt x="50" y="58"/>
                  </a:lnTo>
                  <a:lnTo>
                    <a:pt x="39" y="37"/>
                  </a:lnTo>
                  <a:lnTo>
                    <a:pt x="28" y="17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9" y="26"/>
                  </a:lnTo>
                  <a:lnTo>
                    <a:pt x="20" y="46"/>
                  </a:lnTo>
                  <a:lnTo>
                    <a:pt x="31" y="67"/>
                  </a:lnTo>
                  <a:lnTo>
                    <a:pt x="46" y="90"/>
                  </a:lnTo>
                  <a:lnTo>
                    <a:pt x="60" y="110"/>
                  </a:lnTo>
                  <a:lnTo>
                    <a:pt x="76" y="127"/>
                  </a:lnTo>
                  <a:lnTo>
                    <a:pt x="96" y="138"/>
                  </a:lnTo>
                  <a:lnTo>
                    <a:pt x="116" y="143"/>
                  </a:lnTo>
                  <a:lnTo>
                    <a:pt x="120" y="142"/>
                  </a:lnTo>
                  <a:lnTo>
                    <a:pt x="116" y="143"/>
                  </a:lnTo>
                  <a:lnTo>
                    <a:pt x="123" y="140"/>
                  </a:lnTo>
                  <a:lnTo>
                    <a:pt x="126" y="133"/>
                  </a:lnTo>
                  <a:lnTo>
                    <a:pt x="123" y="125"/>
                  </a:lnTo>
                  <a:lnTo>
                    <a:pt x="116" y="122"/>
                  </a:lnTo>
                  <a:lnTo>
                    <a:pt x="11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H="1">
              <a:off x="4155840" y="2421360"/>
              <a:ext cx="19440" cy="2052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4"/>
                  </a:moveTo>
                  <a:lnTo>
                    <a:pt x="22" y="4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19" y="20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7" y="27"/>
                  </a:lnTo>
                  <a:lnTo>
                    <a:pt x="0" y="29"/>
                  </a:lnTo>
                  <a:lnTo>
                    <a:pt x="10" y="48"/>
                  </a:lnTo>
                  <a:lnTo>
                    <a:pt x="13" y="46"/>
                  </a:lnTo>
                  <a:lnTo>
                    <a:pt x="19" y="43"/>
                  </a:lnTo>
                  <a:lnTo>
                    <a:pt x="27" y="41"/>
                  </a:lnTo>
                  <a:lnTo>
                    <a:pt x="33" y="37"/>
                  </a:lnTo>
                  <a:lnTo>
                    <a:pt x="38" y="30"/>
                  </a:lnTo>
                  <a:lnTo>
                    <a:pt x="44" y="21"/>
                  </a:lnTo>
                  <a:lnTo>
                    <a:pt x="44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>
              <a:off x="4155480" y="2317320"/>
              <a:ext cx="32040" cy="105840"/>
            </a:xfrm>
            <a:custGeom>
              <a:avLst/>
              <a:gdLst/>
              <a:ahLst/>
              <a:rect l="l" t="t" r="r" b="b"/>
              <a:pathLst>
                <a:path w="74" h="254">
                  <a:moveTo>
                    <a:pt x="0" y="14"/>
                  </a:moveTo>
                  <a:lnTo>
                    <a:pt x="26" y="46"/>
                  </a:lnTo>
                  <a:lnTo>
                    <a:pt x="39" y="69"/>
                  </a:lnTo>
                  <a:lnTo>
                    <a:pt x="42" y="88"/>
                  </a:lnTo>
                  <a:lnTo>
                    <a:pt x="42" y="110"/>
                  </a:lnTo>
                  <a:lnTo>
                    <a:pt x="40" y="136"/>
                  </a:lnTo>
                  <a:lnTo>
                    <a:pt x="39" y="165"/>
                  </a:lnTo>
                  <a:lnTo>
                    <a:pt x="41" y="203"/>
                  </a:lnTo>
                  <a:lnTo>
                    <a:pt x="53" y="254"/>
                  </a:lnTo>
                  <a:lnTo>
                    <a:pt x="74" y="250"/>
                  </a:lnTo>
                  <a:lnTo>
                    <a:pt x="62" y="201"/>
                  </a:lnTo>
                  <a:lnTo>
                    <a:pt x="60" y="165"/>
                  </a:lnTo>
                  <a:lnTo>
                    <a:pt x="61" y="136"/>
                  </a:lnTo>
                  <a:lnTo>
                    <a:pt x="63" y="110"/>
                  </a:lnTo>
                  <a:lnTo>
                    <a:pt x="63" y="88"/>
                  </a:lnTo>
                  <a:lnTo>
                    <a:pt x="58" y="62"/>
                  </a:lnTo>
                  <a:lnTo>
                    <a:pt x="42" y="34"/>
                  </a:lnTo>
                  <a:lnTo>
                    <a:pt x="1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H="1">
              <a:off x="3704760" y="1571760"/>
              <a:ext cx="281160" cy="496800"/>
            </a:xfrm>
            <a:custGeom>
              <a:avLst/>
              <a:gdLst/>
              <a:ahLst/>
              <a:rect l="l" t="t" r="r" b="b"/>
              <a:pathLst>
                <a:path w="652" h="1188">
                  <a:moveTo>
                    <a:pt x="106" y="43"/>
                  </a:moveTo>
                  <a:lnTo>
                    <a:pt x="127" y="33"/>
                  </a:lnTo>
                  <a:lnTo>
                    <a:pt x="151" y="23"/>
                  </a:lnTo>
                  <a:lnTo>
                    <a:pt x="175" y="16"/>
                  </a:lnTo>
                  <a:lnTo>
                    <a:pt x="201" y="9"/>
                  </a:lnTo>
                  <a:lnTo>
                    <a:pt x="229" y="3"/>
                  </a:lnTo>
                  <a:lnTo>
                    <a:pt x="256" y="1"/>
                  </a:lnTo>
                  <a:lnTo>
                    <a:pt x="285" y="0"/>
                  </a:lnTo>
                  <a:lnTo>
                    <a:pt x="313" y="2"/>
                  </a:lnTo>
                  <a:lnTo>
                    <a:pt x="342" y="6"/>
                  </a:lnTo>
                  <a:lnTo>
                    <a:pt x="367" y="13"/>
                  </a:lnTo>
                  <a:lnTo>
                    <a:pt x="394" y="22"/>
                  </a:lnTo>
                  <a:lnTo>
                    <a:pt x="418" y="34"/>
                  </a:lnTo>
                  <a:lnTo>
                    <a:pt x="440" y="51"/>
                  </a:lnTo>
                  <a:lnTo>
                    <a:pt x="460" y="70"/>
                  </a:lnTo>
                  <a:lnTo>
                    <a:pt x="478" y="92"/>
                  </a:lnTo>
                  <a:lnTo>
                    <a:pt x="493" y="118"/>
                  </a:lnTo>
                  <a:lnTo>
                    <a:pt x="514" y="183"/>
                  </a:lnTo>
                  <a:lnTo>
                    <a:pt x="529" y="251"/>
                  </a:lnTo>
                  <a:lnTo>
                    <a:pt x="539" y="323"/>
                  </a:lnTo>
                  <a:lnTo>
                    <a:pt x="546" y="396"/>
                  </a:lnTo>
                  <a:lnTo>
                    <a:pt x="551" y="470"/>
                  </a:lnTo>
                  <a:lnTo>
                    <a:pt x="557" y="542"/>
                  </a:lnTo>
                  <a:lnTo>
                    <a:pt x="565" y="613"/>
                  </a:lnTo>
                  <a:lnTo>
                    <a:pt x="576" y="680"/>
                  </a:lnTo>
                  <a:lnTo>
                    <a:pt x="586" y="722"/>
                  </a:lnTo>
                  <a:lnTo>
                    <a:pt x="598" y="773"/>
                  </a:lnTo>
                  <a:lnTo>
                    <a:pt x="615" y="829"/>
                  </a:lnTo>
                  <a:lnTo>
                    <a:pt x="630" y="888"/>
                  </a:lnTo>
                  <a:lnTo>
                    <a:pt x="643" y="947"/>
                  </a:lnTo>
                  <a:lnTo>
                    <a:pt x="651" y="1004"/>
                  </a:lnTo>
                  <a:lnTo>
                    <a:pt x="652" y="1055"/>
                  </a:lnTo>
                  <a:lnTo>
                    <a:pt x="644" y="1097"/>
                  </a:lnTo>
                  <a:lnTo>
                    <a:pt x="640" y="1108"/>
                  </a:lnTo>
                  <a:lnTo>
                    <a:pt x="632" y="1118"/>
                  </a:lnTo>
                  <a:lnTo>
                    <a:pt x="622" y="1128"/>
                  </a:lnTo>
                  <a:lnTo>
                    <a:pt x="611" y="1136"/>
                  </a:lnTo>
                  <a:lnTo>
                    <a:pt x="598" y="1144"/>
                  </a:lnTo>
                  <a:lnTo>
                    <a:pt x="586" y="1149"/>
                  </a:lnTo>
                  <a:lnTo>
                    <a:pt x="572" y="1154"/>
                  </a:lnTo>
                  <a:lnTo>
                    <a:pt x="560" y="1157"/>
                  </a:lnTo>
                  <a:lnTo>
                    <a:pt x="536" y="1165"/>
                  </a:lnTo>
                  <a:lnTo>
                    <a:pt x="509" y="1170"/>
                  </a:lnTo>
                  <a:lnTo>
                    <a:pt x="478" y="1175"/>
                  </a:lnTo>
                  <a:lnTo>
                    <a:pt x="446" y="1180"/>
                  </a:lnTo>
                  <a:lnTo>
                    <a:pt x="413" y="1184"/>
                  </a:lnTo>
                  <a:lnTo>
                    <a:pt x="377" y="1186"/>
                  </a:lnTo>
                  <a:lnTo>
                    <a:pt x="341" y="1187"/>
                  </a:lnTo>
                  <a:lnTo>
                    <a:pt x="304" y="1188"/>
                  </a:lnTo>
                  <a:lnTo>
                    <a:pt x="268" y="1187"/>
                  </a:lnTo>
                  <a:lnTo>
                    <a:pt x="231" y="1186"/>
                  </a:lnTo>
                  <a:lnTo>
                    <a:pt x="197" y="1184"/>
                  </a:lnTo>
                  <a:lnTo>
                    <a:pt x="162" y="1179"/>
                  </a:lnTo>
                  <a:lnTo>
                    <a:pt x="132" y="1174"/>
                  </a:lnTo>
                  <a:lnTo>
                    <a:pt x="102" y="1167"/>
                  </a:lnTo>
                  <a:lnTo>
                    <a:pt x="77" y="1160"/>
                  </a:lnTo>
                  <a:lnTo>
                    <a:pt x="54" y="1150"/>
                  </a:lnTo>
                  <a:lnTo>
                    <a:pt x="27" y="1129"/>
                  </a:lnTo>
                  <a:lnTo>
                    <a:pt x="10" y="1096"/>
                  </a:lnTo>
                  <a:lnTo>
                    <a:pt x="3" y="1055"/>
                  </a:lnTo>
                  <a:lnTo>
                    <a:pt x="0" y="1009"/>
                  </a:lnTo>
                  <a:lnTo>
                    <a:pt x="3" y="962"/>
                  </a:lnTo>
                  <a:lnTo>
                    <a:pt x="7" y="917"/>
                  </a:lnTo>
                  <a:lnTo>
                    <a:pt x="16" y="878"/>
                  </a:lnTo>
                  <a:lnTo>
                    <a:pt x="24" y="847"/>
                  </a:lnTo>
                  <a:lnTo>
                    <a:pt x="45" y="764"/>
                  </a:lnTo>
                  <a:lnTo>
                    <a:pt x="59" y="671"/>
                  </a:lnTo>
                  <a:lnTo>
                    <a:pt x="69" y="569"/>
                  </a:lnTo>
                  <a:lnTo>
                    <a:pt x="76" y="463"/>
                  </a:lnTo>
                  <a:lnTo>
                    <a:pt x="81" y="354"/>
                  </a:lnTo>
                  <a:lnTo>
                    <a:pt x="87" y="245"/>
                  </a:lnTo>
                  <a:lnTo>
                    <a:pt x="95" y="142"/>
                  </a:lnTo>
                  <a:lnTo>
                    <a:pt x="106" y="43"/>
                  </a:lnTo>
                  <a:close/>
                </a:path>
              </a:pathLst>
            </a:custGeom>
            <a:solidFill>
              <a:srgbClr val="ffff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H="1">
              <a:off x="3780000" y="1630440"/>
              <a:ext cx="60120" cy="164520"/>
            </a:xfrm>
            <a:custGeom>
              <a:avLst/>
              <a:gdLst/>
              <a:ahLst/>
              <a:rect l="l" t="t" r="r" b="b"/>
              <a:pathLst>
                <a:path w="144" h="397">
                  <a:moveTo>
                    <a:pt x="0" y="120"/>
                  </a:moveTo>
                  <a:lnTo>
                    <a:pt x="20" y="133"/>
                  </a:lnTo>
                  <a:lnTo>
                    <a:pt x="35" y="165"/>
                  </a:lnTo>
                  <a:lnTo>
                    <a:pt x="48" y="208"/>
                  </a:lnTo>
                  <a:lnTo>
                    <a:pt x="59" y="258"/>
                  </a:lnTo>
                  <a:lnTo>
                    <a:pt x="68" y="310"/>
                  </a:lnTo>
                  <a:lnTo>
                    <a:pt x="80" y="353"/>
                  </a:lnTo>
                  <a:lnTo>
                    <a:pt x="94" y="384"/>
                  </a:lnTo>
                  <a:lnTo>
                    <a:pt x="113" y="397"/>
                  </a:lnTo>
                  <a:lnTo>
                    <a:pt x="130" y="352"/>
                  </a:lnTo>
                  <a:lnTo>
                    <a:pt x="140" y="302"/>
                  </a:lnTo>
                  <a:lnTo>
                    <a:pt x="143" y="252"/>
                  </a:lnTo>
                  <a:lnTo>
                    <a:pt x="144" y="200"/>
                  </a:lnTo>
                  <a:lnTo>
                    <a:pt x="141" y="147"/>
                  </a:lnTo>
                  <a:lnTo>
                    <a:pt x="138" y="97"/>
                  </a:lnTo>
                  <a:lnTo>
                    <a:pt x="134" y="47"/>
                  </a:lnTo>
                  <a:lnTo>
                    <a:pt x="133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H="1">
              <a:off x="3789000" y="1676520"/>
              <a:ext cx="53280" cy="124920"/>
            </a:xfrm>
            <a:custGeom>
              <a:avLst/>
              <a:gdLst/>
              <a:ahLst/>
              <a:rect l="l" t="t" r="r" b="b"/>
              <a:pathLst>
                <a:path w="125" h="299">
                  <a:moveTo>
                    <a:pt x="105" y="284"/>
                  </a:moveTo>
                  <a:lnTo>
                    <a:pt x="116" y="278"/>
                  </a:lnTo>
                  <a:lnTo>
                    <a:pt x="104" y="268"/>
                  </a:lnTo>
                  <a:lnTo>
                    <a:pt x="91" y="240"/>
                  </a:lnTo>
                  <a:lnTo>
                    <a:pt x="81" y="198"/>
                  </a:lnTo>
                  <a:lnTo>
                    <a:pt x="71" y="148"/>
                  </a:lnTo>
                  <a:lnTo>
                    <a:pt x="61" y="97"/>
                  </a:lnTo>
                  <a:lnTo>
                    <a:pt x="47" y="53"/>
                  </a:lnTo>
                  <a:lnTo>
                    <a:pt x="30" y="18"/>
                  </a:lnTo>
                  <a:lnTo>
                    <a:pt x="3" y="0"/>
                  </a:lnTo>
                  <a:lnTo>
                    <a:pt x="0" y="21"/>
                  </a:lnTo>
                  <a:lnTo>
                    <a:pt x="13" y="31"/>
                  </a:lnTo>
                  <a:lnTo>
                    <a:pt x="28" y="60"/>
                  </a:lnTo>
                  <a:lnTo>
                    <a:pt x="40" y="103"/>
                  </a:lnTo>
                  <a:lnTo>
                    <a:pt x="50" y="151"/>
                  </a:lnTo>
                  <a:lnTo>
                    <a:pt x="60" y="203"/>
                  </a:lnTo>
                  <a:lnTo>
                    <a:pt x="72" y="247"/>
                  </a:lnTo>
                  <a:lnTo>
                    <a:pt x="88" y="280"/>
                  </a:lnTo>
                  <a:lnTo>
                    <a:pt x="113" y="299"/>
                  </a:lnTo>
                  <a:lnTo>
                    <a:pt x="124" y="294"/>
                  </a:lnTo>
                  <a:lnTo>
                    <a:pt x="113" y="299"/>
                  </a:lnTo>
                  <a:lnTo>
                    <a:pt x="122" y="297"/>
                  </a:lnTo>
                  <a:lnTo>
                    <a:pt x="125" y="290"/>
                  </a:lnTo>
                  <a:lnTo>
                    <a:pt x="123" y="282"/>
                  </a:lnTo>
                  <a:lnTo>
                    <a:pt x="116" y="278"/>
                  </a:lnTo>
                  <a:lnTo>
                    <a:pt x="105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H="1">
              <a:off x="3773880" y="1626120"/>
              <a:ext cx="23760" cy="173160"/>
            </a:xfrm>
            <a:custGeom>
              <a:avLst/>
              <a:gdLst/>
              <a:ahLst/>
              <a:rect l="l" t="t" r="r" b="b"/>
              <a:pathLst>
                <a:path w="52" h="413">
                  <a:moveTo>
                    <a:pt x="37" y="19"/>
                  </a:moveTo>
                  <a:lnTo>
                    <a:pt x="19" y="10"/>
                  </a:lnTo>
                  <a:lnTo>
                    <a:pt x="20" y="57"/>
                  </a:lnTo>
                  <a:lnTo>
                    <a:pt x="24" y="107"/>
                  </a:lnTo>
                  <a:lnTo>
                    <a:pt x="27" y="157"/>
                  </a:lnTo>
                  <a:lnTo>
                    <a:pt x="31" y="210"/>
                  </a:lnTo>
                  <a:lnTo>
                    <a:pt x="30" y="262"/>
                  </a:lnTo>
                  <a:lnTo>
                    <a:pt x="26" y="311"/>
                  </a:lnTo>
                  <a:lnTo>
                    <a:pt x="17" y="359"/>
                  </a:lnTo>
                  <a:lnTo>
                    <a:pt x="0" y="403"/>
                  </a:lnTo>
                  <a:lnTo>
                    <a:pt x="19" y="413"/>
                  </a:lnTo>
                  <a:lnTo>
                    <a:pt x="38" y="364"/>
                  </a:lnTo>
                  <a:lnTo>
                    <a:pt x="48" y="313"/>
                  </a:lnTo>
                  <a:lnTo>
                    <a:pt x="51" y="262"/>
                  </a:lnTo>
                  <a:lnTo>
                    <a:pt x="52" y="210"/>
                  </a:lnTo>
                  <a:lnTo>
                    <a:pt x="49" y="157"/>
                  </a:lnTo>
                  <a:lnTo>
                    <a:pt x="45" y="107"/>
                  </a:lnTo>
                  <a:lnTo>
                    <a:pt x="41" y="57"/>
                  </a:lnTo>
                  <a:lnTo>
                    <a:pt x="40" y="10"/>
                  </a:lnTo>
                  <a:lnTo>
                    <a:pt x="23" y="2"/>
                  </a:lnTo>
                  <a:lnTo>
                    <a:pt x="40" y="10"/>
                  </a:lnTo>
                  <a:lnTo>
                    <a:pt x="37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9" y="10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3779640" y="1626120"/>
              <a:ext cx="66600" cy="57960"/>
            </a:xfrm>
            <a:custGeom>
              <a:avLst/>
              <a:gdLst/>
              <a:ahLst/>
              <a:rect l="l" t="t" r="r" b="b"/>
              <a:pathLst>
                <a:path w="151" h="138">
                  <a:moveTo>
                    <a:pt x="12" y="117"/>
                  </a:moveTo>
                  <a:lnTo>
                    <a:pt x="18" y="135"/>
                  </a:lnTo>
                  <a:lnTo>
                    <a:pt x="151" y="17"/>
                  </a:lnTo>
                  <a:lnTo>
                    <a:pt x="137" y="0"/>
                  </a:lnTo>
                  <a:lnTo>
                    <a:pt x="3" y="119"/>
                  </a:lnTo>
                  <a:lnTo>
                    <a:pt x="9" y="138"/>
                  </a:lnTo>
                  <a:lnTo>
                    <a:pt x="3" y="119"/>
                  </a:lnTo>
                  <a:lnTo>
                    <a:pt x="0" y="128"/>
                  </a:lnTo>
                  <a:lnTo>
                    <a:pt x="2" y="134"/>
                  </a:lnTo>
                  <a:lnTo>
                    <a:pt x="9" y="138"/>
                  </a:lnTo>
                  <a:lnTo>
                    <a:pt x="18" y="135"/>
                  </a:lnTo>
                  <a:lnTo>
                    <a:pt x="1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H="1">
              <a:off x="3844800" y="1580400"/>
              <a:ext cx="90000" cy="214560"/>
            </a:xfrm>
            <a:custGeom>
              <a:avLst/>
              <a:gdLst/>
              <a:ahLst/>
              <a:rect l="l" t="t" r="r" b="b"/>
              <a:pathLst>
                <a:path w="212" h="512">
                  <a:moveTo>
                    <a:pt x="212" y="238"/>
                  </a:moveTo>
                  <a:lnTo>
                    <a:pt x="187" y="262"/>
                  </a:lnTo>
                  <a:lnTo>
                    <a:pt x="168" y="302"/>
                  </a:lnTo>
                  <a:lnTo>
                    <a:pt x="155" y="351"/>
                  </a:lnTo>
                  <a:lnTo>
                    <a:pt x="145" y="400"/>
                  </a:lnTo>
                  <a:lnTo>
                    <a:pt x="133" y="448"/>
                  </a:lnTo>
                  <a:lnTo>
                    <a:pt x="117" y="486"/>
                  </a:lnTo>
                  <a:lnTo>
                    <a:pt x="97" y="510"/>
                  </a:lnTo>
                  <a:lnTo>
                    <a:pt x="70" y="512"/>
                  </a:lnTo>
                  <a:lnTo>
                    <a:pt x="50" y="459"/>
                  </a:lnTo>
                  <a:lnTo>
                    <a:pt x="33" y="398"/>
                  </a:lnTo>
                  <a:lnTo>
                    <a:pt x="20" y="332"/>
                  </a:lnTo>
                  <a:lnTo>
                    <a:pt x="12" y="262"/>
                  </a:lnTo>
                  <a:lnTo>
                    <a:pt x="5" y="191"/>
                  </a:lnTo>
                  <a:lnTo>
                    <a:pt x="2" y="12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3" y="36"/>
                  </a:lnTo>
                  <a:lnTo>
                    <a:pt x="35" y="52"/>
                  </a:lnTo>
                  <a:lnTo>
                    <a:pt x="46" y="69"/>
                  </a:lnTo>
                  <a:lnTo>
                    <a:pt x="59" y="84"/>
                  </a:lnTo>
                  <a:lnTo>
                    <a:pt x="71" y="99"/>
                  </a:lnTo>
                  <a:lnTo>
                    <a:pt x="82" y="114"/>
                  </a:lnTo>
                  <a:lnTo>
                    <a:pt x="94" y="129"/>
                  </a:lnTo>
                  <a:lnTo>
                    <a:pt x="106" y="143"/>
                  </a:lnTo>
                  <a:lnTo>
                    <a:pt x="118" y="157"/>
                  </a:lnTo>
                  <a:lnTo>
                    <a:pt x="133" y="171"/>
                  </a:lnTo>
                  <a:lnTo>
                    <a:pt x="147" y="184"/>
                  </a:lnTo>
                  <a:lnTo>
                    <a:pt x="162" y="198"/>
                  </a:lnTo>
                  <a:lnTo>
                    <a:pt x="177" y="211"/>
                  </a:lnTo>
                  <a:lnTo>
                    <a:pt x="194" y="224"/>
                  </a:lnTo>
                  <a:lnTo>
                    <a:pt x="21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H="1">
              <a:off x="3841920" y="1676520"/>
              <a:ext cx="66600" cy="122760"/>
            </a:xfrm>
            <a:custGeom>
              <a:avLst/>
              <a:gdLst/>
              <a:ahLst/>
              <a:rect l="l" t="t" r="r" b="b"/>
              <a:pathLst>
                <a:path w="157" h="295">
                  <a:moveTo>
                    <a:pt x="1" y="289"/>
                  </a:moveTo>
                  <a:lnTo>
                    <a:pt x="8" y="295"/>
                  </a:lnTo>
                  <a:lnTo>
                    <a:pt x="43" y="292"/>
                  </a:lnTo>
                  <a:lnTo>
                    <a:pt x="68" y="263"/>
                  </a:lnTo>
                  <a:lnTo>
                    <a:pt x="85" y="222"/>
                  </a:lnTo>
                  <a:lnTo>
                    <a:pt x="96" y="174"/>
                  </a:lnTo>
                  <a:lnTo>
                    <a:pt x="107" y="125"/>
                  </a:lnTo>
                  <a:lnTo>
                    <a:pt x="118" y="77"/>
                  </a:lnTo>
                  <a:lnTo>
                    <a:pt x="136" y="40"/>
                  </a:lnTo>
                  <a:lnTo>
                    <a:pt x="157" y="19"/>
                  </a:lnTo>
                  <a:lnTo>
                    <a:pt x="148" y="0"/>
                  </a:lnTo>
                  <a:lnTo>
                    <a:pt x="119" y="29"/>
                  </a:lnTo>
                  <a:lnTo>
                    <a:pt x="99" y="71"/>
                  </a:lnTo>
                  <a:lnTo>
                    <a:pt x="86" y="121"/>
                  </a:lnTo>
                  <a:lnTo>
                    <a:pt x="75" y="170"/>
                  </a:lnTo>
                  <a:lnTo>
                    <a:pt x="63" y="217"/>
                  </a:lnTo>
                  <a:lnTo>
                    <a:pt x="49" y="254"/>
                  </a:lnTo>
                  <a:lnTo>
                    <a:pt x="34" y="273"/>
                  </a:lnTo>
                  <a:lnTo>
                    <a:pt x="13" y="274"/>
                  </a:lnTo>
                  <a:lnTo>
                    <a:pt x="20" y="279"/>
                  </a:lnTo>
                  <a:lnTo>
                    <a:pt x="13" y="274"/>
                  </a:lnTo>
                  <a:lnTo>
                    <a:pt x="4" y="276"/>
                  </a:lnTo>
                  <a:lnTo>
                    <a:pt x="0" y="282"/>
                  </a:lnTo>
                  <a:lnTo>
                    <a:pt x="1" y="291"/>
                  </a:lnTo>
                  <a:lnTo>
                    <a:pt x="8" y="295"/>
                  </a:lnTo>
                  <a:lnTo>
                    <a:pt x="1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>
              <a:off x="3900240" y="1576080"/>
              <a:ext cx="38880" cy="221400"/>
            </a:xfrm>
            <a:custGeom>
              <a:avLst/>
              <a:gdLst/>
              <a:ahLst/>
              <a:rect l="l" t="t" r="r" b="b"/>
              <a:pathLst>
                <a:path w="90" h="527">
                  <a:moveTo>
                    <a:pt x="19" y="5"/>
                  </a:moveTo>
                  <a:lnTo>
                    <a:pt x="0" y="10"/>
                  </a:lnTo>
                  <a:lnTo>
                    <a:pt x="0" y="68"/>
                  </a:lnTo>
                  <a:lnTo>
                    <a:pt x="3" y="133"/>
                  </a:lnTo>
                  <a:lnTo>
                    <a:pt x="6" y="201"/>
                  </a:lnTo>
                  <a:lnTo>
                    <a:pt x="12" y="272"/>
                  </a:lnTo>
                  <a:lnTo>
                    <a:pt x="20" y="343"/>
                  </a:lnTo>
                  <a:lnTo>
                    <a:pt x="33" y="410"/>
                  </a:lnTo>
                  <a:lnTo>
                    <a:pt x="50" y="472"/>
                  </a:lnTo>
                  <a:lnTo>
                    <a:pt x="71" y="527"/>
                  </a:lnTo>
                  <a:lnTo>
                    <a:pt x="90" y="517"/>
                  </a:lnTo>
                  <a:lnTo>
                    <a:pt x="71" y="466"/>
                  </a:lnTo>
                  <a:lnTo>
                    <a:pt x="54" y="405"/>
                  </a:lnTo>
                  <a:lnTo>
                    <a:pt x="42" y="341"/>
                  </a:lnTo>
                  <a:lnTo>
                    <a:pt x="33" y="272"/>
                  </a:lnTo>
                  <a:lnTo>
                    <a:pt x="27" y="201"/>
                  </a:lnTo>
                  <a:lnTo>
                    <a:pt x="24" y="133"/>
                  </a:lnTo>
                  <a:lnTo>
                    <a:pt x="22" y="68"/>
                  </a:lnTo>
                  <a:lnTo>
                    <a:pt x="22" y="10"/>
                  </a:lnTo>
                  <a:lnTo>
                    <a:pt x="3" y="16"/>
                  </a:lnTo>
                  <a:lnTo>
                    <a:pt x="22" y="10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H="1">
              <a:off x="3837600" y="1577880"/>
              <a:ext cx="101160" cy="106200"/>
            </a:xfrm>
            <a:custGeom>
              <a:avLst/>
              <a:gdLst/>
              <a:ahLst/>
              <a:rect l="l" t="t" r="r" b="b"/>
              <a:pathLst>
                <a:path w="231" h="252">
                  <a:moveTo>
                    <a:pt x="224" y="252"/>
                  </a:moveTo>
                  <a:lnTo>
                    <a:pt x="226" y="234"/>
                  </a:lnTo>
                  <a:lnTo>
                    <a:pt x="209" y="222"/>
                  </a:lnTo>
                  <a:lnTo>
                    <a:pt x="193" y="208"/>
                  </a:lnTo>
                  <a:lnTo>
                    <a:pt x="176" y="194"/>
                  </a:lnTo>
                  <a:lnTo>
                    <a:pt x="162" y="180"/>
                  </a:lnTo>
                  <a:lnTo>
                    <a:pt x="148" y="169"/>
                  </a:lnTo>
                  <a:lnTo>
                    <a:pt x="134" y="155"/>
                  </a:lnTo>
                  <a:lnTo>
                    <a:pt x="122" y="141"/>
                  </a:lnTo>
                  <a:lnTo>
                    <a:pt x="110" y="127"/>
                  </a:lnTo>
                  <a:lnTo>
                    <a:pt x="99" y="114"/>
                  </a:lnTo>
                  <a:lnTo>
                    <a:pt x="87" y="98"/>
                  </a:lnTo>
                  <a:lnTo>
                    <a:pt x="75" y="83"/>
                  </a:lnTo>
                  <a:lnTo>
                    <a:pt x="63" y="67"/>
                  </a:lnTo>
                  <a:lnTo>
                    <a:pt x="51" y="52"/>
                  </a:lnTo>
                  <a:lnTo>
                    <a:pt x="40" y="35"/>
                  </a:lnTo>
                  <a:lnTo>
                    <a:pt x="28" y="17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1" y="28"/>
                  </a:lnTo>
                  <a:lnTo>
                    <a:pt x="23" y="46"/>
                  </a:lnTo>
                  <a:lnTo>
                    <a:pt x="34" y="63"/>
                  </a:lnTo>
                  <a:lnTo>
                    <a:pt x="47" y="79"/>
                  </a:lnTo>
                  <a:lnTo>
                    <a:pt x="59" y="95"/>
                  </a:lnTo>
                  <a:lnTo>
                    <a:pt x="70" y="111"/>
                  </a:lnTo>
                  <a:lnTo>
                    <a:pt x="82" y="126"/>
                  </a:lnTo>
                  <a:lnTo>
                    <a:pt x="94" y="141"/>
                  </a:lnTo>
                  <a:lnTo>
                    <a:pt x="105" y="155"/>
                  </a:lnTo>
                  <a:lnTo>
                    <a:pt x="120" y="169"/>
                  </a:lnTo>
                  <a:lnTo>
                    <a:pt x="134" y="184"/>
                  </a:lnTo>
                  <a:lnTo>
                    <a:pt x="148" y="197"/>
                  </a:lnTo>
                  <a:lnTo>
                    <a:pt x="162" y="210"/>
                  </a:lnTo>
                  <a:lnTo>
                    <a:pt x="179" y="225"/>
                  </a:lnTo>
                  <a:lnTo>
                    <a:pt x="196" y="237"/>
                  </a:lnTo>
                  <a:lnTo>
                    <a:pt x="214" y="250"/>
                  </a:lnTo>
                  <a:lnTo>
                    <a:pt x="215" y="233"/>
                  </a:lnTo>
                  <a:lnTo>
                    <a:pt x="214" y="250"/>
                  </a:lnTo>
                  <a:lnTo>
                    <a:pt x="222" y="252"/>
                  </a:lnTo>
                  <a:lnTo>
                    <a:pt x="228" y="247"/>
                  </a:lnTo>
                  <a:lnTo>
                    <a:pt x="231" y="242"/>
                  </a:lnTo>
                  <a:lnTo>
                    <a:pt x="226" y="234"/>
                  </a:lnTo>
                  <a:lnTo>
                    <a:pt x="224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H="1">
              <a:off x="3707640" y="2615400"/>
              <a:ext cx="154080" cy="310680"/>
            </a:xfrm>
            <a:custGeom>
              <a:avLst/>
              <a:gdLst/>
              <a:ahLst/>
              <a:rect l="l" t="t" r="r" b="b"/>
              <a:pathLst>
                <a:path w="360" h="747">
                  <a:moveTo>
                    <a:pt x="94" y="721"/>
                  </a:moveTo>
                  <a:lnTo>
                    <a:pt x="105" y="727"/>
                  </a:lnTo>
                  <a:lnTo>
                    <a:pt x="115" y="732"/>
                  </a:lnTo>
                  <a:lnTo>
                    <a:pt x="128" y="736"/>
                  </a:lnTo>
                  <a:lnTo>
                    <a:pt x="140" y="742"/>
                  </a:lnTo>
                  <a:lnTo>
                    <a:pt x="153" y="744"/>
                  </a:lnTo>
                  <a:lnTo>
                    <a:pt x="166" y="746"/>
                  </a:lnTo>
                  <a:lnTo>
                    <a:pt x="180" y="747"/>
                  </a:lnTo>
                  <a:lnTo>
                    <a:pt x="193" y="747"/>
                  </a:lnTo>
                  <a:lnTo>
                    <a:pt x="207" y="747"/>
                  </a:lnTo>
                  <a:lnTo>
                    <a:pt x="220" y="746"/>
                  </a:lnTo>
                  <a:lnTo>
                    <a:pt x="231" y="744"/>
                  </a:lnTo>
                  <a:lnTo>
                    <a:pt x="244" y="741"/>
                  </a:lnTo>
                  <a:lnTo>
                    <a:pt x="256" y="736"/>
                  </a:lnTo>
                  <a:lnTo>
                    <a:pt x="266" y="732"/>
                  </a:lnTo>
                  <a:lnTo>
                    <a:pt x="276" y="726"/>
                  </a:lnTo>
                  <a:lnTo>
                    <a:pt x="284" y="721"/>
                  </a:lnTo>
                  <a:lnTo>
                    <a:pt x="360" y="0"/>
                  </a:lnTo>
                  <a:lnTo>
                    <a:pt x="0" y="52"/>
                  </a:lnTo>
                  <a:lnTo>
                    <a:pt x="94" y="721"/>
                  </a:lnTo>
                  <a:close/>
                </a:path>
              </a:pathLst>
            </a:custGeom>
            <a:solidFill>
              <a:srgbClr val="ffb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H="1">
              <a:off x="3735360" y="2911680"/>
              <a:ext cx="87840" cy="20520"/>
            </a:xfrm>
            <a:custGeom>
              <a:avLst/>
              <a:gdLst/>
              <a:ahLst/>
              <a:rect l="l" t="t" r="r" b="b"/>
              <a:pathLst>
                <a:path w="207" h="49">
                  <a:moveTo>
                    <a:pt x="186" y="11"/>
                  </a:moveTo>
                  <a:lnTo>
                    <a:pt x="189" y="2"/>
                  </a:lnTo>
                  <a:lnTo>
                    <a:pt x="181" y="6"/>
                  </a:lnTo>
                  <a:lnTo>
                    <a:pt x="173" y="13"/>
                  </a:lnTo>
                  <a:lnTo>
                    <a:pt x="163" y="17"/>
                  </a:lnTo>
                  <a:lnTo>
                    <a:pt x="153" y="20"/>
                  </a:lnTo>
                  <a:lnTo>
                    <a:pt x="141" y="23"/>
                  </a:lnTo>
                  <a:lnTo>
                    <a:pt x="131" y="25"/>
                  </a:lnTo>
                  <a:lnTo>
                    <a:pt x="119" y="26"/>
                  </a:lnTo>
                  <a:lnTo>
                    <a:pt x="105" y="26"/>
                  </a:lnTo>
                  <a:lnTo>
                    <a:pt x="92" y="26"/>
                  </a:lnTo>
                  <a:lnTo>
                    <a:pt x="79" y="25"/>
                  </a:lnTo>
                  <a:lnTo>
                    <a:pt x="66" y="23"/>
                  </a:lnTo>
                  <a:lnTo>
                    <a:pt x="55" y="21"/>
                  </a:lnTo>
                  <a:lnTo>
                    <a:pt x="44" y="17"/>
                  </a:lnTo>
                  <a:lnTo>
                    <a:pt x="30" y="13"/>
                  </a:lnTo>
                  <a:lnTo>
                    <a:pt x="21" y="7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11" y="26"/>
                  </a:lnTo>
                  <a:lnTo>
                    <a:pt x="24" y="32"/>
                  </a:lnTo>
                  <a:lnTo>
                    <a:pt x="37" y="36"/>
                  </a:lnTo>
                  <a:lnTo>
                    <a:pt x="49" y="42"/>
                  </a:lnTo>
                  <a:lnTo>
                    <a:pt x="64" y="44"/>
                  </a:lnTo>
                  <a:lnTo>
                    <a:pt x="77" y="47"/>
                  </a:lnTo>
                  <a:lnTo>
                    <a:pt x="92" y="49"/>
                  </a:lnTo>
                  <a:lnTo>
                    <a:pt x="105" y="49"/>
                  </a:lnTo>
                  <a:lnTo>
                    <a:pt x="119" y="49"/>
                  </a:lnTo>
                  <a:lnTo>
                    <a:pt x="133" y="47"/>
                  </a:lnTo>
                  <a:lnTo>
                    <a:pt x="147" y="44"/>
                  </a:lnTo>
                  <a:lnTo>
                    <a:pt x="158" y="41"/>
                  </a:lnTo>
                  <a:lnTo>
                    <a:pt x="171" y="36"/>
                  </a:lnTo>
                  <a:lnTo>
                    <a:pt x="182" y="32"/>
                  </a:lnTo>
                  <a:lnTo>
                    <a:pt x="193" y="25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4" y="3"/>
                  </a:lnTo>
                  <a:lnTo>
                    <a:pt x="197" y="0"/>
                  </a:lnTo>
                  <a:lnTo>
                    <a:pt x="189" y="2"/>
                  </a:lnTo>
                  <a:lnTo>
                    <a:pt x="18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H="1">
              <a:off x="3700080" y="2611440"/>
              <a:ext cx="42840" cy="304560"/>
            </a:xfrm>
            <a:custGeom>
              <a:avLst/>
              <a:gdLst/>
              <a:ahLst/>
              <a:rect l="l" t="t" r="r" b="b"/>
              <a:pathLst>
                <a:path w="97" h="731">
                  <a:moveTo>
                    <a:pt x="87" y="21"/>
                  </a:moveTo>
                  <a:lnTo>
                    <a:pt x="76" y="10"/>
                  </a:lnTo>
                  <a:lnTo>
                    <a:pt x="0" y="731"/>
                  </a:lnTo>
                  <a:lnTo>
                    <a:pt x="21" y="731"/>
                  </a:lnTo>
                  <a:lnTo>
                    <a:pt x="97" y="10"/>
                  </a:lnTo>
                  <a:lnTo>
                    <a:pt x="85" y="0"/>
                  </a:lnTo>
                  <a:lnTo>
                    <a:pt x="97" y="10"/>
                  </a:lnTo>
                  <a:lnTo>
                    <a:pt x="94" y="2"/>
                  </a:lnTo>
                  <a:lnTo>
                    <a:pt x="86" y="0"/>
                  </a:lnTo>
                  <a:lnTo>
                    <a:pt x="79" y="2"/>
                  </a:lnTo>
                  <a:lnTo>
                    <a:pt x="76" y="10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>
              <a:off x="3704760" y="2611440"/>
              <a:ext cx="160920" cy="30960"/>
            </a:xfrm>
            <a:custGeom>
              <a:avLst/>
              <a:gdLst/>
              <a:ahLst/>
              <a:rect l="l" t="t" r="r" b="b"/>
              <a:pathLst>
                <a:path w="371" h="74">
                  <a:moveTo>
                    <a:pt x="21" y="61"/>
                  </a:moveTo>
                  <a:lnTo>
                    <a:pt x="11" y="74"/>
                  </a:lnTo>
                  <a:lnTo>
                    <a:pt x="371" y="21"/>
                  </a:lnTo>
                  <a:lnTo>
                    <a:pt x="369" y="0"/>
                  </a:lnTo>
                  <a:lnTo>
                    <a:pt x="9" y="52"/>
                  </a:lnTo>
                  <a:lnTo>
                    <a:pt x="0" y="64"/>
                  </a:lnTo>
                  <a:lnTo>
                    <a:pt x="9" y="52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3" y="71"/>
                  </a:lnTo>
                  <a:lnTo>
                    <a:pt x="11" y="74"/>
                  </a:lnTo>
                  <a:lnTo>
                    <a:pt x="2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H="1">
              <a:off x="3816360" y="2636280"/>
              <a:ext cx="49320" cy="283680"/>
            </a:xfrm>
            <a:custGeom>
              <a:avLst/>
              <a:gdLst/>
              <a:ahLst/>
              <a:rect l="l" t="t" r="r" b="b"/>
              <a:pathLst>
                <a:path w="115" h="680">
                  <a:moveTo>
                    <a:pt x="109" y="661"/>
                  </a:moveTo>
                  <a:lnTo>
                    <a:pt x="115" y="669"/>
                  </a:lnTo>
                  <a:lnTo>
                    <a:pt x="21" y="0"/>
                  </a:lnTo>
                  <a:lnTo>
                    <a:pt x="0" y="3"/>
                  </a:lnTo>
                  <a:lnTo>
                    <a:pt x="94" y="671"/>
                  </a:lnTo>
                  <a:lnTo>
                    <a:pt x="98" y="678"/>
                  </a:lnTo>
                  <a:lnTo>
                    <a:pt x="94" y="671"/>
                  </a:lnTo>
                  <a:lnTo>
                    <a:pt x="97" y="678"/>
                  </a:lnTo>
                  <a:lnTo>
                    <a:pt x="105" y="680"/>
                  </a:lnTo>
                  <a:lnTo>
                    <a:pt x="113" y="676"/>
                  </a:lnTo>
                  <a:lnTo>
                    <a:pt x="115" y="669"/>
                  </a:lnTo>
                  <a:lnTo>
                    <a:pt x="109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H="1">
              <a:off x="3814200" y="2631960"/>
              <a:ext cx="163080" cy="342360"/>
            </a:xfrm>
            <a:custGeom>
              <a:avLst/>
              <a:gdLst/>
              <a:ahLst/>
              <a:rect l="l" t="t" r="r" b="b"/>
              <a:pathLst>
                <a:path w="379" h="819">
                  <a:moveTo>
                    <a:pt x="0" y="11"/>
                  </a:moveTo>
                  <a:lnTo>
                    <a:pt x="157" y="783"/>
                  </a:lnTo>
                  <a:lnTo>
                    <a:pt x="168" y="790"/>
                  </a:lnTo>
                  <a:lnTo>
                    <a:pt x="178" y="796"/>
                  </a:lnTo>
                  <a:lnTo>
                    <a:pt x="192" y="802"/>
                  </a:lnTo>
                  <a:lnTo>
                    <a:pt x="204" y="806"/>
                  </a:lnTo>
                  <a:lnTo>
                    <a:pt x="218" y="812"/>
                  </a:lnTo>
                  <a:lnTo>
                    <a:pt x="233" y="814"/>
                  </a:lnTo>
                  <a:lnTo>
                    <a:pt x="248" y="816"/>
                  </a:lnTo>
                  <a:lnTo>
                    <a:pt x="264" y="817"/>
                  </a:lnTo>
                  <a:lnTo>
                    <a:pt x="278" y="819"/>
                  </a:lnTo>
                  <a:lnTo>
                    <a:pt x="294" y="819"/>
                  </a:lnTo>
                  <a:lnTo>
                    <a:pt x="309" y="816"/>
                  </a:lnTo>
                  <a:lnTo>
                    <a:pt x="325" y="814"/>
                  </a:lnTo>
                  <a:lnTo>
                    <a:pt x="339" y="811"/>
                  </a:lnTo>
                  <a:lnTo>
                    <a:pt x="353" y="805"/>
                  </a:lnTo>
                  <a:lnTo>
                    <a:pt x="366" y="800"/>
                  </a:lnTo>
                  <a:lnTo>
                    <a:pt x="379" y="793"/>
                  </a:lnTo>
                  <a:lnTo>
                    <a:pt x="36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H="1">
              <a:off x="3907080" y="2636280"/>
              <a:ext cx="74880" cy="327960"/>
            </a:xfrm>
            <a:custGeom>
              <a:avLst/>
              <a:gdLst/>
              <a:ahLst/>
              <a:rect l="l" t="t" r="r" b="b"/>
              <a:pathLst>
                <a:path w="179" h="784">
                  <a:moveTo>
                    <a:pt x="174" y="765"/>
                  </a:moveTo>
                  <a:lnTo>
                    <a:pt x="179" y="772"/>
                  </a:lnTo>
                  <a:lnTo>
                    <a:pt x="21" y="0"/>
                  </a:lnTo>
                  <a:lnTo>
                    <a:pt x="0" y="3"/>
                  </a:lnTo>
                  <a:lnTo>
                    <a:pt x="157" y="774"/>
                  </a:lnTo>
                  <a:lnTo>
                    <a:pt x="163" y="782"/>
                  </a:lnTo>
                  <a:lnTo>
                    <a:pt x="157" y="774"/>
                  </a:lnTo>
                  <a:lnTo>
                    <a:pt x="162" y="782"/>
                  </a:lnTo>
                  <a:lnTo>
                    <a:pt x="169" y="784"/>
                  </a:lnTo>
                  <a:lnTo>
                    <a:pt x="176" y="780"/>
                  </a:lnTo>
                  <a:lnTo>
                    <a:pt x="179" y="772"/>
                  </a:lnTo>
                  <a:lnTo>
                    <a:pt x="174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H="1">
              <a:off x="3810240" y="2955960"/>
              <a:ext cx="102960" cy="22680"/>
            </a:xfrm>
            <a:custGeom>
              <a:avLst/>
              <a:gdLst/>
              <a:ahLst/>
              <a:rect l="l" t="t" r="r" b="b"/>
              <a:pathLst>
                <a:path w="237" h="55">
                  <a:moveTo>
                    <a:pt x="216" y="18"/>
                  </a:moveTo>
                  <a:lnTo>
                    <a:pt x="220" y="9"/>
                  </a:lnTo>
                  <a:lnTo>
                    <a:pt x="209" y="15"/>
                  </a:lnTo>
                  <a:lnTo>
                    <a:pt x="197" y="21"/>
                  </a:lnTo>
                  <a:lnTo>
                    <a:pt x="184" y="25"/>
                  </a:lnTo>
                  <a:lnTo>
                    <a:pt x="172" y="28"/>
                  </a:lnTo>
                  <a:lnTo>
                    <a:pt x="156" y="30"/>
                  </a:lnTo>
                  <a:lnTo>
                    <a:pt x="142" y="33"/>
                  </a:lnTo>
                  <a:lnTo>
                    <a:pt x="126" y="33"/>
                  </a:lnTo>
                  <a:lnTo>
                    <a:pt x="112" y="31"/>
                  </a:lnTo>
                  <a:lnTo>
                    <a:pt x="97" y="30"/>
                  </a:lnTo>
                  <a:lnTo>
                    <a:pt x="82" y="28"/>
                  </a:lnTo>
                  <a:lnTo>
                    <a:pt x="69" y="26"/>
                  </a:lnTo>
                  <a:lnTo>
                    <a:pt x="55" y="21"/>
                  </a:lnTo>
                  <a:lnTo>
                    <a:pt x="43" y="18"/>
                  </a:lnTo>
                  <a:lnTo>
                    <a:pt x="31" y="11"/>
                  </a:lnTo>
                  <a:lnTo>
                    <a:pt x="22" y="6"/>
                  </a:lnTo>
                  <a:lnTo>
                    <a:pt x="11" y="0"/>
                  </a:lnTo>
                  <a:lnTo>
                    <a:pt x="0" y="17"/>
                  </a:lnTo>
                  <a:lnTo>
                    <a:pt x="10" y="25"/>
                  </a:lnTo>
                  <a:lnTo>
                    <a:pt x="22" y="30"/>
                  </a:lnTo>
                  <a:lnTo>
                    <a:pt x="36" y="37"/>
                  </a:lnTo>
                  <a:lnTo>
                    <a:pt x="50" y="42"/>
                  </a:lnTo>
                  <a:lnTo>
                    <a:pt x="64" y="47"/>
                  </a:lnTo>
                  <a:lnTo>
                    <a:pt x="80" y="49"/>
                  </a:lnTo>
                  <a:lnTo>
                    <a:pt x="95" y="51"/>
                  </a:lnTo>
                  <a:lnTo>
                    <a:pt x="112" y="52"/>
                  </a:lnTo>
                  <a:lnTo>
                    <a:pt x="126" y="55"/>
                  </a:lnTo>
                  <a:lnTo>
                    <a:pt x="142" y="55"/>
                  </a:lnTo>
                  <a:lnTo>
                    <a:pt x="158" y="51"/>
                  </a:lnTo>
                  <a:lnTo>
                    <a:pt x="174" y="49"/>
                  </a:lnTo>
                  <a:lnTo>
                    <a:pt x="189" y="46"/>
                  </a:lnTo>
                  <a:lnTo>
                    <a:pt x="205" y="40"/>
                  </a:lnTo>
                  <a:lnTo>
                    <a:pt x="218" y="34"/>
                  </a:lnTo>
                  <a:lnTo>
                    <a:pt x="233" y="26"/>
                  </a:lnTo>
                  <a:lnTo>
                    <a:pt x="237" y="18"/>
                  </a:lnTo>
                  <a:lnTo>
                    <a:pt x="233" y="26"/>
                  </a:lnTo>
                  <a:lnTo>
                    <a:pt x="237" y="19"/>
                  </a:lnTo>
                  <a:lnTo>
                    <a:pt x="235" y="11"/>
                  </a:lnTo>
                  <a:lnTo>
                    <a:pt x="229" y="8"/>
                  </a:lnTo>
                  <a:lnTo>
                    <a:pt x="220" y="9"/>
                  </a:lnTo>
                  <a:lnTo>
                    <a:pt x="2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H="1">
              <a:off x="3809880" y="2628360"/>
              <a:ext cx="16920" cy="335880"/>
            </a:xfrm>
            <a:custGeom>
              <a:avLst/>
              <a:gdLst/>
              <a:ahLst/>
              <a:rect l="l" t="t" r="r" b="b"/>
              <a:pathLst>
                <a:path w="38" h="804">
                  <a:moveTo>
                    <a:pt x="11" y="21"/>
                  </a:moveTo>
                  <a:lnTo>
                    <a:pt x="0" y="11"/>
                  </a:lnTo>
                  <a:lnTo>
                    <a:pt x="17" y="804"/>
                  </a:lnTo>
                  <a:lnTo>
                    <a:pt x="38" y="804"/>
                  </a:lnTo>
                  <a:lnTo>
                    <a:pt x="21" y="11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3823560" y="2628360"/>
              <a:ext cx="158400" cy="14040"/>
            </a:xfrm>
            <a:custGeom>
              <a:avLst/>
              <a:gdLst/>
              <a:ahLst/>
              <a:rect l="l" t="t" r="r" b="b"/>
              <a:pathLst>
                <a:path w="373" h="34">
                  <a:moveTo>
                    <a:pt x="21" y="21"/>
                  </a:moveTo>
                  <a:lnTo>
                    <a:pt x="11" y="34"/>
                  </a:lnTo>
                  <a:lnTo>
                    <a:pt x="373" y="21"/>
                  </a:lnTo>
                  <a:lnTo>
                    <a:pt x="373" y="0"/>
                  </a:lnTo>
                  <a:lnTo>
                    <a:pt x="11" y="12"/>
                  </a:lnTo>
                  <a:lnTo>
                    <a:pt x="0" y="24"/>
                  </a:lnTo>
                  <a:lnTo>
                    <a:pt x="11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11" y="34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>
              <a:off x="3600000" y="2041200"/>
              <a:ext cx="439920" cy="615600"/>
            </a:xfrm>
            <a:custGeom>
              <a:avLst/>
              <a:gdLst/>
              <a:ahLst/>
              <a:rect l="l" t="t" r="r" b="b"/>
              <a:pathLst>
                <a:path w="1022" h="1476">
                  <a:moveTo>
                    <a:pt x="154" y="0"/>
                  </a:moveTo>
                  <a:lnTo>
                    <a:pt x="185" y="12"/>
                  </a:lnTo>
                  <a:lnTo>
                    <a:pt x="218" y="24"/>
                  </a:lnTo>
                  <a:lnTo>
                    <a:pt x="252" y="33"/>
                  </a:lnTo>
                  <a:lnTo>
                    <a:pt x="289" y="41"/>
                  </a:lnTo>
                  <a:lnTo>
                    <a:pt x="327" y="46"/>
                  </a:lnTo>
                  <a:lnTo>
                    <a:pt x="367" y="50"/>
                  </a:lnTo>
                  <a:lnTo>
                    <a:pt x="407" y="51"/>
                  </a:lnTo>
                  <a:lnTo>
                    <a:pt x="448" y="52"/>
                  </a:lnTo>
                  <a:lnTo>
                    <a:pt x="488" y="50"/>
                  </a:lnTo>
                  <a:lnTo>
                    <a:pt x="529" y="47"/>
                  </a:lnTo>
                  <a:lnTo>
                    <a:pt x="569" y="43"/>
                  </a:lnTo>
                  <a:lnTo>
                    <a:pt x="608" y="37"/>
                  </a:lnTo>
                  <a:lnTo>
                    <a:pt x="646" y="30"/>
                  </a:lnTo>
                  <a:lnTo>
                    <a:pt x="683" y="21"/>
                  </a:lnTo>
                  <a:lnTo>
                    <a:pt x="717" y="11"/>
                  </a:lnTo>
                  <a:lnTo>
                    <a:pt x="751" y="0"/>
                  </a:lnTo>
                  <a:lnTo>
                    <a:pt x="754" y="14"/>
                  </a:lnTo>
                  <a:lnTo>
                    <a:pt x="763" y="60"/>
                  </a:lnTo>
                  <a:lnTo>
                    <a:pt x="775" y="128"/>
                  </a:lnTo>
                  <a:lnTo>
                    <a:pt x="793" y="218"/>
                  </a:lnTo>
                  <a:lnTo>
                    <a:pt x="814" y="325"/>
                  </a:lnTo>
                  <a:lnTo>
                    <a:pt x="836" y="443"/>
                  </a:lnTo>
                  <a:lnTo>
                    <a:pt x="862" y="570"/>
                  </a:lnTo>
                  <a:lnTo>
                    <a:pt x="887" y="700"/>
                  </a:lnTo>
                  <a:lnTo>
                    <a:pt x="911" y="831"/>
                  </a:lnTo>
                  <a:lnTo>
                    <a:pt x="937" y="958"/>
                  </a:lnTo>
                  <a:lnTo>
                    <a:pt x="959" y="1077"/>
                  </a:lnTo>
                  <a:lnTo>
                    <a:pt x="980" y="1182"/>
                  </a:lnTo>
                  <a:lnTo>
                    <a:pt x="998" y="1272"/>
                  </a:lnTo>
                  <a:lnTo>
                    <a:pt x="1011" y="1342"/>
                  </a:lnTo>
                  <a:lnTo>
                    <a:pt x="1019" y="1386"/>
                  </a:lnTo>
                  <a:lnTo>
                    <a:pt x="1022" y="1402"/>
                  </a:lnTo>
                  <a:lnTo>
                    <a:pt x="997" y="1409"/>
                  </a:lnTo>
                  <a:lnTo>
                    <a:pt x="968" y="1416"/>
                  </a:lnTo>
                  <a:lnTo>
                    <a:pt x="940" y="1423"/>
                  </a:lnTo>
                  <a:lnTo>
                    <a:pt x="910" y="1429"/>
                  </a:lnTo>
                  <a:lnTo>
                    <a:pt x="880" y="1436"/>
                  </a:lnTo>
                  <a:lnTo>
                    <a:pt x="848" y="1442"/>
                  </a:lnTo>
                  <a:lnTo>
                    <a:pt x="815" y="1447"/>
                  </a:lnTo>
                  <a:lnTo>
                    <a:pt x="783" y="1453"/>
                  </a:lnTo>
                  <a:lnTo>
                    <a:pt x="748" y="1457"/>
                  </a:lnTo>
                  <a:lnTo>
                    <a:pt x="714" y="1462"/>
                  </a:lnTo>
                  <a:lnTo>
                    <a:pt x="680" y="1465"/>
                  </a:lnTo>
                  <a:lnTo>
                    <a:pt x="644" y="1469"/>
                  </a:lnTo>
                  <a:lnTo>
                    <a:pt x="609" y="1472"/>
                  </a:lnTo>
                  <a:lnTo>
                    <a:pt x="572" y="1474"/>
                  </a:lnTo>
                  <a:lnTo>
                    <a:pt x="538" y="1475"/>
                  </a:lnTo>
                  <a:lnTo>
                    <a:pt x="501" y="1476"/>
                  </a:lnTo>
                  <a:lnTo>
                    <a:pt x="466" y="1476"/>
                  </a:lnTo>
                  <a:lnTo>
                    <a:pt x="430" y="1476"/>
                  </a:lnTo>
                  <a:lnTo>
                    <a:pt x="395" y="1475"/>
                  </a:lnTo>
                  <a:lnTo>
                    <a:pt x="359" y="1473"/>
                  </a:lnTo>
                  <a:lnTo>
                    <a:pt x="325" y="1470"/>
                  </a:lnTo>
                  <a:lnTo>
                    <a:pt x="292" y="1466"/>
                  </a:lnTo>
                  <a:lnTo>
                    <a:pt x="258" y="1462"/>
                  </a:lnTo>
                  <a:lnTo>
                    <a:pt x="225" y="1456"/>
                  </a:lnTo>
                  <a:lnTo>
                    <a:pt x="193" y="1450"/>
                  </a:lnTo>
                  <a:lnTo>
                    <a:pt x="163" y="1443"/>
                  </a:lnTo>
                  <a:lnTo>
                    <a:pt x="132" y="1435"/>
                  </a:lnTo>
                  <a:lnTo>
                    <a:pt x="104" y="1425"/>
                  </a:lnTo>
                  <a:lnTo>
                    <a:pt x="75" y="1415"/>
                  </a:lnTo>
                  <a:lnTo>
                    <a:pt x="49" y="1403"/>
                  </a:lnTo>
                  <a:lnTo>
                    <a:pt x="23" y="1390"/>
                  </a:lnTo>
                  <a:lnTo>
                    <a:pt x="0" y="137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12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H="1">
              <a:off x="3711240" y="2037600"/>
              <a:ext cx="264240" cy="30960"/>
            </a:xfrm>
            <a:custGeom>
              <a:avLst/>
              <a:gdLst/>
              <a:ahLst/>
              <a:rect l="l" t="t" r="r" b="b"/>
              <a:pathLst>
                <a:path w="611" h="73">
                  <a:moveTo>
                    <a:pt x="611" y="7"/>
                  </a:moveTo>
                  <a:lnTo>
                    <a:pt x="597" y="0"/>
                  </a:lnTo>
                  <a:lnTo>
                    <a:pt x="565" y="11"/>
                  </a:lnTo>
                  <a:lnTo>
                    <a:pt x="531" y="20"/>
                  </a:lnTo>
                  <a:lnTo>
                    <a:pt x="494" y="30"/>
                  </a:lnTo>
                  <a:lnTo>
                    <a:pt x="456" y="36"/>
                  </a:lnTo>
                  <a:lnTo>
                    <a:pt x="418" y="42"/>
                  </a:lnTo>
                  <a:lnTo>
                    <a:pt x="379" y="47"/>
                  </a:lnTo>
                  <a:lnTo>
                    <a:pt x="338" y="50"/>
                  </a:lnTo>
                  <a:lnTo>
                    <a:pt x="298" y="52"/>
                  </a:lnTo>
                  <a:lnTo>
                    <a:pt x="257" y="51"/>
                  </a:lnTo>
                  <a:lnTo>
                    <a:pt x="217" y="50"/>
                  </a:lnTo>
                  <a:lnTo>
                    <a:pt x="179" y="45"/>
                  </a:lnTo>
                  <a:lnTo>
                    <a:pt x="142" y="40"/>
                  </a:lnTo>
                  <a:lnTo>
                    <a:pt x="105" y="33"/>
                  </a:lnTo>
                  <a:lnTo>
                    <a:pt x="71" y="23"/>
                  </a:lnTo>
                  <a:lnTo>
                    <a:pt x="39" y="13"/>
                  </a:lnTo>
                  <a:lnTo>
                    <a:pt x="10" y="0"/>
                  </a:lnTo>
                  <a:lnTo>
                    <a:pt x="0" y="18"/>
                  </a:lnTo>
                  <a:lnTo>
                    <a:pt x="32" y="32"/>
                  </a:lnTo>
                  <a:lnTo>
                    <a:pt x="66" y="44"/>
                  </a:lnTo>
                  <a:lnTo>
                    <a:pt x="99" y="54"/>
                  </a:lnTo>
                  <a:lnTo>
                    <a:pt x="138" y="61"/>
                  </a:lnTo>
                  <a:lnTo>
                    <a:pt x="176" y="67"/>
                  </a:lnTo>
                  <a:lnTo>
                    <a:pt x="217" y="71"/>
                  </a:lnTo>
                  <a:lnTo>
                    <a:pt x="257" y="72"/>
                  </a:lnTo>
                  <a:lnTo>
                    <a:pt x="298" y="73"/>
                  </a:lnTo>
                  <a:lnTo>
                    <a:pt x="338" y="71"/>
                  </a:lnTo>
                  <a:lnTo>
                    <a:pt x="379" y="68"/>
                  </a:lnTo>
                  <a:lnTo>
                    <a:pt x="420" y="63"/>
                  </a:lnTo>
                  <a:lnTo>
                    <a:pt x="459" y="57"/>
                  </a:lnTo>
                  <a:lnTo>
                    <a:pt x="500" y="51"/>
                  </a:lnTo>
                  <a:lnTo>
                    <a:pt x="535" y="41"/>
                  </a:lnTo>
                  <a:lnTo>
                    <a:pt x="570" y="32"/>
                  </a:lnTo>
                  <a:lnTo>
                    <a:pt x="604" y="18"/>
                  </a:lnTo>
                  <a:lnTo>
                    <a:pt x="590" y="11"/>
                  </a:lnTo>
                  <a:lnTo>
                    <a:pt x="604" y="18"/>
                  </a:lnTo>
                  <a:lnTo>
                    <a:pt x="610" y="13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6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H="1">
              <a:off x="3595320" y="2039400"/>
              <a:ext cx="126360" cy="590400"/>
            </a:xfrm>
            <a:custGeom>
              <a:avLst/>
              <a:gdLst/>
              <a:ahLst/>
              <a:rect l="l" t="t" r="r" b="b"/>
              <a:pathLst>
                <a:path w="293" h="1415">
                  <a:moveTo>
                    <a:pt x="284" y="1415"/>
                  </a:moveTo>
                  <a:lnTo>
                    <a:pt x="293" y="1404"/>
                  </a:lnTo>
                  <a:lnTo>
                    <a:pt x="290" y="1388"/>
                  </a:lnTo>
                  <a:lnTo>
                    <a:pt x="281" y="1344"/>
                  </a:lnTo>
                  <a:lnTo>
                    <a:pt x="269" y="1274"/>
                  </a:lnTo>
                  <a:lnTo>
                    <a:pt x="251" y="1184"/>
                  </a:lnTo>
                  <a:lnTo>
                    <a:pt x="230" y="1078"/>
                  </a:lnTo>
                  <a:lnTo>
                    <a:pt x="207" y="960"/>
                  </a:lnTo>
                  <a:lnTo>
                    <a:pt x="182" y="833"/>
                  </a:lnTo>
                  <a:lnTo>
                    <a:pt x="158" y="702"/>
                  </a:lnTo>
                  <a:lnTo>
                    <a:pt x="131" y="572"/>
                  </a:lnTo>
                  <a:lnTo>
                    <a:pt x="107" y="444"/>
                  </a:lnTo>
                  <a:lnTo>
                    <a:pt x="85" y="327"/>
                  </a:lnTo>
                  <a:lnTo>
                    <a:pt x="64" y="220"/>
                  </a:lnTo>
                  <a:lnTo>
                    <a:pt x="46" y="130"/>
                  </a:lnTo>
                  <a:lnTo>
                    <a:pt x="33" y="61"/>
                  </a:lnTo>
                  <a:lnTo>
                    <a:pt x="25" y="16"/>
                  </a:lnTo>
                  <a:lnTo>
                    <a:pt x="21" y="0"/>
                  </a:lnTo>
                  <a:lnTo>
                    <a:pt x="0" y="4"/>
                  </a:lnTo>
                  <a:lnTo>
                    <a:pt x="4" y="18"/>
                  </a:lnTo>
                  <a:lnTo>
                    <a:pt x="12" y="64"/>
                  </a:lnTo>
                  <a:lnTo>
                    <a:pt x="25" y="132"/>
                  </a:lnTo>
                  <a:lnTo>
                    <a:pt x="43" y="222"/>
                  </a:lnTo>
                  <a:lnTo>
                    <a:pt x="64" y="329"/>
                  </a:lnTo>
                  <a:lnTo>
                    <a:pt x="86" y="447"/>
                  </a:lnTo>
                  <a:lnTo>
                    <a:pt x="110" y="574"/>
                  </a:lnTo>
                  <a:lnTo>
                    <a:pt x="137" y="704"/>
                  </a:lnTo>
                  <a:lnTo>
                    <a:pt x="161" y="835"/>
                  </a:lnTo>
                  <a:lnTo>
                    <a:pt x="186" y="962"/>
                  </a:lnTo>
                  <a:lnTo>
                    <a:pt x="208" y="1081"/>
                  </a:lnTo>
                  <a:lnTo>
                    <a:pt x="230" y="1186"/>
                  </a:lnTo>
                  <a:lnTo>
                    <a:pt x="247" y="1276"/>
                  </a:lnTo>
                  <a:lnTo>
                    <a:pt x="260" y="1346"/>
                  </a:lnTo>
                  <a:lnTo>
                    <a:pt x="269" y="1390"/>
                  </a:lnTo>
                  <a:lnTo>
                    <a:pt x="272" y="1406"/>
                  </a:lnTo>
                  <a:lnTo>
                    <a:pt x="280" y="1394"/>
                  </a:lnTo>
                  <a:lnTo>
                    <a:pt x="272" y="1406"/>
                  </a:lnTo>
                  <a:lnTo>
                    <a:pt x="276" y="1413"/>
                  </a:lnTo>
                  <a:lnTo>
                    <a:pt x="283" y="1415"/>
                  </a:lnTo>
                  <a:lnTo>
                    <a:pt x="291" y="1412"/>
                  </a:lnTo>
                  <a:lnTo>
                    <a:pt x="293" y="1404"/>
                  </a:lnTo>
                  <a:lnTo>
                    <a:pt x="284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H="1">
              <a:off x="3600000" y="2611440"/>
              <a:ext cx="444240" cy="50040"/>
            </a:xfrm>
            <a:custGeom>
              <a:avLst/>
              <a:gdLst/>
              <a:ahLst/>
              <a:rect l="l" t="t" r="r" b="b"/>
              <a:pathLst>
                <a:path w="1034" h="121">
                  <a:moveTo>
                    <a:pt x="0" y="9"/>
                  </a:moveTo>
                  <a:lnTo>
                    <a:pt x="4" y="20"/>
                  </a:lnTo>
                  <a:lnTo>
                    <a:pt x="29" y="35"/>
                  </a:lnTo>
                  <a:lnTo>
                    <a:pt x="53" y="47"/>
                  </a:lnTo>
                  <a:lnTo>
                    <a:pt x="82" y="59"/>
                  </a:lnTo>
                  <a:lnTo>
                    <a:pt x="110" y="70"/>
                  </a:lnTo>
                  <a:lnTo>
                    <a:pt x="140" y="80"/>
                  </a:lnTo>
                  <a:lnTo>
                    <a:pt x="171" y="89"/>
                  </a:lnTo>
                  <a:lnTo>
                    <a:pt x="202" y="96"/>
                  </a:lnTo>
                  <a:lnTo>
                    <a:pt x="234" y="101"/>
                  </a:lnTo>
                  <a:lnTo>
                    <a:pt x="267" y="108"/>
                  </a:lnTo>
                  <a:lnTo>
                    <a:pt x="299" y="112"/>
                  </a:lnTo>
                  <a:lnTo>
                    <a:pt x="335" y="116"/>
                  </a:lnTo>
                  <a:lnTo>
                    <a:pt x="369" y="118"/>
                  </a:lnTo>
                  <a:lnTo>
                    <a:pt x="405" y="120"/>
                  </a:lnTo>
                  <a:lnTo>
                    <a:pt x="440" y="121"/>
                  </a:lnTo>
                  <a:lnTo>
                    <a:pt x="476" y="121"/>
                  </a:lnTo>
                  <a:lnTo>
                    <a:pt x="511" y="121"/>
                  </a:lnTo>
                  <a:lnTo>
                    <a:pt x="548" y="120"/>
                  </a:lnTo>
                  <a:lnTo>
                    <a:pt x="582" y="119"/>
                  </a:lnTo>
                  <a:lnTo>
                    <a:pt x="619" y="117"/>
                  </a:lnTo>
                  <a:lnTo>
                    <a:pt x="654" y="115"/>
                  </a:lnTo>
                  <a:lnTo>
                    <a:pt x="690" y="111"/>
                  </a:lnTo>
                  <a:lnTo>
                    <a:pt x="725" y="108"/>
                  </a:lnTo>
                  <a:lnTo>
                    <a:pt x="760" y="102"/>
                  </a:lnTo>
                  <a:lnTo>
                    <a:pt x="794" y="98"/>
                  </a:lnTo>
                  <a:lnTo>
                    <a:pt x="826" y="94"/>
                  </a:lnTo>
                  <a:lnTo>
                    <a:pt x="859" y="88"/>
                  </a:lnTo>
                  <a:lnTo>
                    <a:pt x="891" y="81"/>
                  </a:lnTo>
                  <a:lnTo>
                    <a:pt x="924" y="75"/>
                  </a:lnTo>
                  <a:lnTo>
                    <a:pt x="952" y="69"/>
                  </a:lnTo>
                  <a:lnTo>
                    <a:pt x="981" y="61"/>
                  </a:lnTo>
                  <a:lnTo>
                    <a:pt x="1009" y="55"/>
                  </a:lnTo>
                  <a:lnTo>
                    <a:pt x="1034" y="47"/>
                  </a:lnTo>
                  <a:lnTo>
                    <a:pt x="1030" y="26"/>
                  </a:lnTo>
                  <a:lnTo>
                    <a:pt x="1005" y="34"/>
                  </a:lnTo>
                  <a:lnTo>
                    <a:pt x="976" y="40"/>
                  </a:lnTo>
                  <a:lnTo>
                    <a:pt x="948" y="47"/>
                  </a:lnTo>
                  <a:lnTo>
                    <a:pt x="918" y="54"/>
                  </a:lnTo>
                  <a:lnTo>
                    <a:pt x="889" y="60"/>
                  </a:lnTo>
                  <a:lnTo>
                    <a:pt x="857" y="66"/>
                  </a:lnTo>
                  <a:lnTo>
                    <a:pt x="824" y="72"/>
                  </a:lnTo>
                  <a:lnTo>
                    <a:pt x="792" y="77"/>
                  </a:lnTo>
                  <a:lnTo>
                    <a:pt x="757" y="81"/>
                  </a:lnTo>
                  <a:lnTo>
                    <a:pt x="723" y="86"/>
                  </a:lnTo>
                  <a:lnTo>
                    <a:pt x="690" y="90"/>
                  </a:lnTo>
                  <a:lnTo>
                    <a:pt x="654" y="94"/>
                  </a:lnTo>
                  <a:lnTo>
                    <a:pt x="619" y="96"/>
                  </a:lnTo>
                  <a:lnTo>
                    <a:pt x="582" y="98"/>
                  </a:lnTo>
                  <a:lnTo>
                    <a:pt x="548" y="99"/>
                  </a:lnTo>
                  <a:lnTo>
                    <a:pt x="511" y="100"/>
                  </a:lnTo>
                  <a:lnTo>
                    <a:pt x="476" y="100"/>
                  </a:lnTo>
                  <a:lnTo>
                    <a:pt x="440" y="100"/>
                  </a:lnTo>
                  <a:lnTo>
                    <a:pt x="405" y="99"/>
                  </a:lnTo>
                  <a:lnTo>
                    <a:pt x="369" y="97"/>
                  </a:lnTo>
                  <a:lnTo>
                    <a:pt x="335" y="95"/>
                  </a:lnTo>
                  <a:lnTo>
                    <a:pt x="303" y="91"/>
                  </a:lnTo>
                  <a:lnTo>
                    <a:pt x="269" y="86"/>
                  </a:lnTo>
                  <a:lnTo>
                    <a:pt x="236" y="80"/>
                  </a:lnTo>
                  <a:lnTo>
                    <a:pt x="204" y="75"/>
                  </a:lnTo>
                  <a:lnTo>
                    <a:pt x="175" y="67"/>
                  </a:lnTo>
                  <a:lnTo>
                    <a:pt x="144" y="59"/>
                  </a:lnTo>
                  <a:lnTo>
                    <a:pt x="118" y="51"/>
                  </a:lnTo>
                  <a:lnTo>
                    <a:pt x="89" y="40"/>
                  </a:lnTo>
                  <a:lnTo>
                    <a:pt x="63" y="28"/>
                  </a:lnTo>
                  <a:lnTo>
                    <a:pt x="39" y="16"/>
                  </a:lnTo>
                  <a:lnTo>
                    <a:pt x="16" y="1"/>
                  </a:lnTo>
                  <a:lnTo>
                    <a:pt x="21" y="12"/>
                  </a:lnTo>
                  <a:lnTo>
                    <a:pt x="16" y="1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14"/>
                  </a:lnTo>
                  <a:lnTo>
                    <a:pt x="4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3968640" y="2037600"/>
              <a:ext cx="75240" cy="577800"/>
            </a:xfrm>
            <a:custGeom>
              <a:avLst/>
              <a:gdLst/>
              <a:ahLst/>
              <a:rect l="l" t="t" r="r" b="b"/>
              <a:pathLst>
                <a:path w="175" h="1389">
                  <a:moveTo>
                    <a:pt x="170" y="2"/>
                  </a:moveTo>
                  <a:lnTo>
                    <a:pt x="154" y="9"/>
                  </a:lnTo>
                  <a:lnTo>
                    <a:pt x="0" y="1386"/>
                  </a:lnTo>
                  <a:lnTo>
                    <a:pt x="21" y="1389"/>
                  </a:lnTo>
                  <a:lnTo>
                    <a:pt x="175" y="13"/>
                  </a:lnTo>
                  <a:lnTo>
                    <a:pt x="160" y="20"/>
                  </a:lnTo>
                  <a:lnTo>
                    <a:pt x="175" y="13"/>
                  </a:lnTo>
                  <a:lnTo>
                    <a:pt x="173" y="4"/>
                  </a:lnTo>
                  <a:lnTo>
                    <a:pt x="165" y="0"/>
                  </a:lnTo>
                  <a:lnTo>
                    <a:pt x="157" y="3"/>
                  </a:lnTo>
                  <a:lnTo>
                    <a:pt x="154" y="9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>
              <a:off x="3497040" y="1603080"/>
              <a:ext cx="308880" cy="1250280"/>
            </a:xfrm>
            <a:custGeom>
              <a:avLst/>
              <a:gdLst/>
              <a:ahLst/>
              <a:rect l="l" t="t" r="r" b="b"/>
              <a:pathLst>
                <a:path w="720" h="2994">
                  <a:moveTo>
                    <a:pt x="0" y="74"/>
                  </a:moveTo>
                  <a:lnTo>
                    <a:pt x="6" y="220"/>
                  </a:lnTo>
                  <a:lnTo>
                    <a:pt x="14" y="365"/>
                  </a:lnTo>
                  <a:lnTo>
                    <a:pt x="19" y="511"/>
                  </a:lnTo>
                  <a:lnTo>
                    <a:pt x="26" y="658"/>
                  </a:lnTo>
                  <a:lnTo>
                    <a:pt x="32" y="804"/>
                  </a:lnTo>
                  <a:lnTo>
                    <a:pt x="38" y="949"/>
                  </a:lnTo>
                  <a:lnTo>
                    <a:pt x="45" y="1095"/>
                  </a:lnTo>
                  <a:lnTo>
                    <a:pt x="51" y="1242"/>
                  </a:lnTo>
                  <a:lnTo>
                    <a:pt x="57" y="1560"/>
                  </a:lnTo>
                  <a:lnTo>
                    <a:pt x="56" y="2118"/>
                  </a:lnTo>
                  <a:lnTo>
                    <a:pt x="54" y="2666"/>
                  </a:lnTo>
                  <a:lnTo>
                    <a:pt x="51" y="2957"/>
                  </a:lnTo>
                  <a:lnTo>
                    <a:pt x="56" y="2976"/>
                  </a:lnTo>
                  <a:lnTo>
                    <a:pt x="67" y="2986"/>
                  </a:lnTo>
                  <a:lnTo>
                    <a:pt x="88" y="2993"/>
                  </a:lnTo>
                  <a:lnTo>
                    <a:pt x="113" y="2994"/>
                  </a:lnTo>
                  <a:lnTo>
                    <a:pt x="144" y="2988"/>
                  </a:lnTo>
                  <a:lnTo>
                    <a:pt x="179" y="2980"/>
                  </a:lnTo>
                  <a:lnTo>
                    <a:pt x="218" y="2968"/>
                  </a:lnTo>
                  <a:lnTo>
                    <a:pt x="259" y="2953"/>
                  </a:lnTo>
                  <a:lnTo>
                    <a:pt x="300" y="2937"/>
                  </a:lnTo>
                  <a:lnTo>
                    <a:pt x="342" y="2919"/>
                  </a:lnTo>
                  <a:lnTo>
                    <a:pt x="383" y="2899"/>
                  </a:lnTo>
                  <a:lnTo>
                    <a:pt x="423" y="2881"/>
                  </a:lnTo>
                  <a:lnTo>
                    <a:pt x="459" y="2862"/>
                  </a:lnTo>
                  <a:lnTo>
                    <a:pt x="493" y="2844"/>
                  </a:lnTo>
                  <a:lnTo>
                    <a:pt x="521" y="2828"/>
                  </a:lnTo>
                  <a:lnTo>
                    <a:pt x="544" y="2814"/>
                  </a:lnTo>
                  <a:lnTo>
                    <a:pt x="544" y="2753"/>
                  </a:lnTo>
                  <a:lnTo>
                    <a:pt x="542" y="2663"/>
                  </a:lnTo>
                  <a:lnTo>
                    <a:pt x="540" y="2554"/>
                  </a:lnTo>
                  <a:lnTo>
                    <a:pt x="536" y="2435"/>
                  </a:lnTo>
                  <a:lnTo>
                    <a:pt x="530" y="2315"/>
                  </a:lnTo>
                  <a:lnTo>
                    <a:pt x="525" y="2206"/>
                  </a:lnTo>
                  <a:lnTo>
                    <a:pt x="515" y="2112"/>
                  </a:lnTo>
                  <a:lnTo>
                    <a:pt x="505" y="2047"/>
                  </a:lnTo>
                  <a:lnTo>
                    <a:pt x="487" y="1963"/>
                  </a:lnTo>
                  <a:lnTo>
                    <a:pt x="473" y="1872"/>
                  </a:lnTo>
                  <a:lnTo>
                    <a:pt x="460" y="1777"/>
                  </a:lnTo>
                  <a:lnTo>
                    <a:pt x="450" y="1679"/>
                  </a:lnTo>
                  <a:lnTo>
                    <a:pt x="439" y="1582"/>
                  </a:lnTo>
                  <a:lnTo>
                    <a:pt x="428" y="1486"/>
                  </a:lnTo>
                  <a:lnTo>
                    <a:pt x="414" y="1395"/>
                  </a:lnTo>
                  <a:lnTo>
                    <a:pt x="396" y="1311"/>
                  </a:lnTo>
                  <a:lnTo>
                    <a:pt x="419" y="1307"/>
                  </a:lnTo>
                  <a:lnTo>
                    <a:pt x="444" y="1304"/>
                  </a:lnTo>
                  <a:lnTo>
                    <a:pt x="468" y="1301"/>
                  </a:lnTo>
                  <a:lnTo>
                    <a:pt x="491" y="1297"/>
                  </a:lnTo>
                  <a:lnTo>
                    <a:pt x="514" y="1295"/>
                  </a:lnTo>
                  <a:lnTo>
                    <a:pt x="536" y="1292"/>
                  </a:lnTo>
                  <a:lnTo>
                    <a:pt x="559" y="1288"/>
                  </a:lnTo>
                  <a:lnTo>
                    <a:pt x="580" y="1286"/>
                  </a:lnTo>
                  <a:lnTo>
                    <a:pt x="601" y="1283"/>
                  </a:lnTo>
                  <a:lnTo>
                    <a:pt x="620" y="1281"/>
                  </a:lnTo>
                  <a:lnTo>
                    <a:pt x="639" y="1277"/>
                  </a:lnTo>
                  <a:lnTo>
                    <a:pt x="657" y="1273"/>
                  </a:lnTo>
                  <a:lnTo>
                    <a:pt x="672" y="1270"/>
                  </a:lnTo>
                  <a:lnTo>
                    <a:pt x="687" y="1265"/>
                  </a:lnTo>
                  <a:lnTo>
                    <a:pt x="700" y="1261"/>
                  </a:lnTo>
                  <a:lnTo>
                    <a:pt x="712" y="1256"/>
                  </a:lnTo>
                  <a:lnTo>
                    <a:pt x="720" y="1237"/>
                  </a:lnTo>
                  <a:lnTo>
                    <a:pt x="715" y="1195"/>
                  </a:lnTo>
                  <a:lnTo>
                    <a:pt x="701" y="1139"/>
                  </a:lnTo>
                  <a:lnTo>
                    <a:pt x="680" y="1072"/>
                  </a:lnTo>
                  <a:lnTo>
                    <a:pt x="656" y="1002"/>
                  </a:lnTo>
                  <a:lnTo>
                    <a:pt x="631" y="935"/>
                  </a:lnTo>
                  <a:lnTo>
                    <a:pt x="610" y="880"/>
                  </a:lnTo>
                  <a:lnTo>
                    <a:pt x="595" y="839"/>
                  </a:lnTo>
                  <a:lnTo>
                    <a:pt x="572" y="778"/>
                  </a:lnTo>
                  <a:lnTo>
                    <a:pt x="550" y="719"/>
                  </a:lnTo>
                  <a:lnTo>
                    <a:pt x="529" y="664"/>
                  </a:lnTo>
                  <a:lnTo>
                    <a:pt x="508" y="611"/>
                  </a:lnTo>
                  <a:lnTo>
                    <a:pt x="486" y="562"/>
                  </a:lnTo>
                  <a:lnTo>
                    <a:pt x="465" y="513"/>
                  </a:lnTo>
                  <a:lnTo>
                    <a:pt x="442" y="467"/>
                  </a:lnTo>
                  <a:lnTo>
                    <a:pt x="419" y="421"/>
                  </a:lnTo>
                  <a:lnTo>
                    <a:pt x="395" y="377"/>
                  </a:lnTo>
                  <a:lnTo>
                    <a:pt x="368" y="334"/>
                  </a:lnTo>
                  <a:lnTo>
                    <a:pt x="341" y="289"/>
                  </a:lnTo>
                  <a:lnTo>
                    <a:pt x="311" y="245"/>
                  </a:lnTo>
                  <a:lnTo>
                    <a:pt x="280" y="201"/>
                  </a:lnTo>
                  <a:lnTo>
                    <a:pt x="244" y="155"/>
                  </a:lnTo>
                  <a:lnTo>
                    <a:pt x="207" y="108"/>
                  </a:lnTo>
                  <a:lnTo>
                    <a:pt x="165" y="59"/>
                  </a:lnTo>
                  <a:lnTo>
                    <a:pt x="156" y="50"/>
                  </a:lnTo>
                  <a:lnTo>
                    <a:pt x="144" y="40"/>
                  </a:lnTo>
                  <a:lnTo>
                    <a:pt x="131" y="34"/>
                  </a:lnTo>
                  <a:lnTo>
                    <a:pt x="118" y="26"/>
                  </a:lnTo>
                  <a:lnTo>
                    <a:pt x="103" y="19"/>
                  </a:lnTo>
                  <a:lnTo>
                    <a:pt x="90" y="14"/>
                  </a:lnTo>
                  <a:lnTo>
                    <a:pt x="76" y="6"/>
                  </a:lnTo>
                  <a:lnTo>
                    <a:pt x="61" y="0"/>
                  </a:lnTo>
                  <a:lnTo>
                    <a:pt x="51" y="5"/>
                  </a:lnTo>
                  <a:lnTo>
                    <a:pt x="40" y="13"/>
                  </a:lnTo>
                  <a:lnTo>
                    <a:pt x="29" y="20"/>
                  </a:lnTo>
                  <a:lnTo>
                    <a:pt x="21" y="30"/>
                  </a:lnTo>
                  <a:lnTo>
                    <a:pt x="15" y="39"/>
                  </a:lnTo>
                  <a:lnTo>
                    <a:pt x="8" y="50"/>
                  </a:lnTo>
                  <a:lnTo>
                    <a:pt x="4" y="6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3780000" y="1634760"/>
              <a:ext cx="29880" cy="487800"/>
            </a:xfrm>
            <a:custGeom>
              <a:avLst/>
              <a:gdLst/>
              <a:ahLst/>
              <a:rect l="l" t="t" r="r" b="b"/>
              <a:pathLst>
                <a:path w="72" h="1168">
                  <a:moveTo>
                    <a:pt x="72" y="1168"/>
                  </a:moveTo>
                  <a:lnTo>
                    <a:pt x="72" y="1168"/>
                  </a:lnTo>
                  <a:lnTo>
                    <a:pt x="67" y="1021"/>
                  </a:lnTo>
                  <a:lnTo>
                    <a:pt x="59" y="875"/>
                  </a:lnTo>
                  <a:lnTo>
                    <a:pt x="53" y="730"/>
                  </a:lnTo>
                  <a:lnTo>
                    <a:pt x="48" y="584"/>
                  </a:lnTo>
                  <a:lnTo>
                    <a:pt x="40" y="437"/>
                  </a:lnTo>
                  <a:lnTo>
                    <a:pt x="35" y="291"/>
                  </a:lnTo>
                  <a:lnTo>
                    <a:pt x="28" y="14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7" y="146"/>
                  </a:lnTo>
                  <a:lnTo>
                    <a:pt x="14" y="291"/>
                  </a:lnTo>
                  <a:lnTo>
                    <a:pt x="19" y="437"/>
                  </a:lnTo>
                  <a:lnTo>
                    <a:pt x="27" y="584"/>
                  </a:lnTo>
                  <a:lnTo>
                    <a:pt x="32" y="730"/>
                  </a:lnTo>
                  <a:lnTo>
                    <a:pt x="38" y="875"/>
                  </a:lnTo>
                  <a:lnTo>
                    <a:pt x="46" y="1021"/>
                  </a:lnTo>
                  <a:lnTo>
                    <a:pt x="51" y="1168"/>
                  </a:lnTo>
                  <a:lnTo>
                    <a:pt x="51" y="1168"/>
                  </a:lnTo>
                  <a:lnTo>
                    <a:pt x="72" y="1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H="1">
              <a:off x="3777840" y="2122920"/>
              <a:ext cx="10440" cy="720360"/>
            </a:xfrm>
            <a:custGeom>
              <a:avLst/>
              <a:gdLst/>
              <a:ahLst/>
              <a:rect l="l" t="t" r="r" b="b"/>
              <a:pathLst>
                <a:path w="27" h="1725">
                  <a:moveTo>
                    <a:pt x="21" y="1715"/>
                  </a:moveTo>
                  <a:lnTo>
                    <a:pt x="21" y="1715"/>
                  </a:lnTo>
                  <a:lnTo>
                    <a:pt x="23" y="1424"/>
                  </a:lnTo>
                  <a:lnTo>
                    <a:pt x="26" y="876"/>
                  </a:lnTo>
                  <a:lnTo>
                    <a:pt x="27" y="318"/>
                  </a:lnTo>
                  <a:lnTo>
                    <a:pt x="21" y="0"/>
                  </a:lnTo>
                  <a:lnTo>
                    <a:pt x="0" y="0"/>
                  </a:lnTo>
                  <a:lnTo>
                    <a:pt x="6" y="318"/>
                  </a:lnTo>
                  <a:lnTo>
                    <a:pt x="5" y="876"/>
                  </a:lnTo>
                  <a:lnTo>
                    <a:pt x="2" y="1424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4" y="1723"/>
                  </a:lnTo>
                  <a:lnTo>
                    <a:pt x="11" y="1725"/>
                  </a:lnTo>
                  <a:lnTo>
                    <a:pt x="18" y="1723"/>
                  </a:lnTo>
                  <a:lnTo>
                    <a:pt x="21" y="1715"/>
                  </a:lnTo>
                  <a:lnTo>
                    <a:pt x="21" y="17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H="1">
              <a:off x="3567600" y="2774160"/>
              <a:ext cx="220680" cy="83520"/>
            </a:xfrm>
            <a:custGeom>
              <a:avLst/>
              <a:gdLst/>
              <a:ahLst/>
              <a:rect l="l" t="t" r="r" b="b"/>
              <a:pathLst>
                <a:path w="514" h="200">
                  <a:moveTo>
                    <a:pt x="492" y="10"/>
                  </a:moveTo>
                  <a:lnTo>
                    <a:pt x="497" y="1"/>
                  </a:lnTo>
                  <a:lnTo>
                    <a:pt x="476" y="14"/>
                  </a:lnTo>
                  <a:lnTo>
                    <a:pt x="448" y="30"/>
                  </a:lnTo>
                  <a:lnTo>
                    <a:pt x="415" y="48"/>
                  </a:lnTo>
                  <a:lnTo>
                    <a:pt x="378" y="67"/>
                  </a:lnTo>
                  <a:lnTo>
                    <a:pt x="338" y="85"/>
                  </a:lnTo>
                  <a:lnTo>
                    <a:pt x="298" y="105"/>
                  </a:lnTo>
                  <a:lnTo>
                    <a:pt x="256" y="123"/>
                  </a:lnTo>
                  <a:lnTo>
                    <a:pt x="214" y="140"/>
                  </a:lnTo>
                  <a:lnTo>
                    <a:pt x="174" y="154"/>
                  </a:lnTo>
                  <a:lnTo>
                    <a:pt x="137" y="165"/>
                  </a:lnTo>
                  <a:lnTo>
                    <a:pt x="102" y="174"/>
                  </a:lnTo>
                  <a:lnTo>
                    <a:pt x="73" y="179"/>
                  </a:lnTo>
                  <a:lnTo>
                    <a:pt x="49" y="178"/>
                  </a:lnTo>
                  <a:lnTo>
                    <a:pt x="32" y="173"/>
                  </a:lnTo>
                  <a:lnTo>
                    <a:pt x="25" y="167"/>
                  </a:lnTo>
                  <a:lnTo>
                    <a:pt x="21" y="153"/>
                  </a:lnTo>
                  <a:lnTo>
                    <a:pt x="0" y="153"/>
                  </a:lnTo>
                  <a:lnTo>
                    <a:pt x="6" y="176"/>
                  </a:lnTo>
                  <a:lnTo>
                    <a:pt x="22" y="192"/>
                  </a:lnTo>
                  <a:lnTo>
                    <a:pt x="46" y="199"/>
                  </a:lnTo>
                  <a:lnTo>
                    <a:pt x="73" y="200"/>
                  </a:lnTo>
                  <a:lnTo>
                    <a:pt x="106" y="195"/>
                  </a:lnTo>
                  <a:lnTo>
                    <a:pt x="142" y="186"/>
                  </a:lnTo>
                  <a:lnTo>
                    <a:pt x="182" y="175"/>
                  </a:lnTo>
                  <a:lnTo>
                    <a:pt x="222" y="159"/>
                  </a:lnTo>
                  <a:lnTo>
                    <a:pt x="263" y="142"/>
                  </a:lnTo>
                  <a:lnTo>
                    <a:pt x="305" y="124"/>
                  </a:lnTo>
                  <a:lnTo>
                    <a:pt x="347" y="104"/>
                  </a:lnTo>
                  <a:lnTo>
                    <a:pt x="388" y="85"/>
                  </a:lnTo>
                  <a:lnTo>
                    <a:pt x="425" y="67"/>
                  </a:lnTo>
                  <a:lnTo>
                    <a:pt x="457" y="49"/>
                  </a:lnTo>
                  <a:lnTo>
                    <a:pt x="486" y="33"/>
                  </a:lnTo>
                  <a:lnTo>
                    <a:pt x="509" y="20"/>
                  </a:lnTo>
                  <a:lnTo>
                    <a:pt x="514" y="10"/>
                  </a:lnTo>
                  <a:lnTo>
                    <a:pt x="509" y="20"/>
                  </a:lnTo>
                  <a:lnTo>
                    <a:pt x="514" y="12"/>
                  </a:lnTo>
                  <a:lnTo>
                    <a:pt x="512" y="4"/>
                  </a:lnTo>
                  <a:lnTo>
                    <a:pt x="506" y="0"/>
                  </a:lnTo>
                  <a:lnTo>
                    <a:pt x="497" y="1"/>
                  </a:lnTo>
                  <a:lnTo>
                    <a:pt x="4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>
              <a:off x="3567600" y="2457000"/>
              <a:ext cx="25560" cy="321120"/>
            </a:xfrm>
            <a:custGeom>
              <a:avLst/>
              <a:gdLst/>
              <a:ahLst/>
              <a:rect l="l" t="t" r="r" b="b"/>
              <a:pathLst>
                <a:path w="60" h="769">
                  <a:moveTo>
                    <a:pt x="0" y="5"/>
                  </a:moveTo>
                  <a:lnTo>
                    <a:pt x="0" y="5"/>
                  </a:lnTo>
                  <a:lnTo>
                    <a:pt x="11" y="68"/>
                  </a:lnTo>
                  <a:lnTo>
                    <a:pt x="20" y="161"/>
                  </a:lnTo>
                  <a:lnTo>
                    <a:pt x="25" y="270"/>
                  </a:lnTo>
                  <a:lnTo>
                    <a:pt x="32" y="390"/>
                  </a:lnTo>
                  <a:lnTo>
                    <a:pt x="35" y="509"/>
                  </a:lnTo>
                  <a:lnTo>
                    <a:pt x="37" y="618"/>
                  </a:lnTo>
                  <a:lnTo>
                    <a:pt x="38" y="708"/>
                  </a:lnTo>
                  <a:lnTo>
                    <a:pt x="38" y="769"/>
                  </a:lnTo>
                  <a:lnTo>
                    <a:pt x="60" y="769"/>
                  </a:lnTo>
                  <a:lnTo>
                    <a:pt x="60" y="708"/>
                  </a:lnTo>
                  <a:lnTo>
                    <a:pt x="58" y="618"/>
                  </a:lnTo>
                  <a:lnTo>
                    <a:pt x="56" y="509"/>
                  </a:lnTo>
                  <a:lnTo>
                    <a:pt x="53" y="390"/>
                  </a:lnTo>
                  <a:lnTo>
                    <a:pt x="47" y="270"/>
                  </a:lnTo>
                  <a:lnTo>
                    <a:pt x="41" y="161"/>
                  </a:lnTo>
                  <a:lnTo>
                    <a:pt x="32" y="66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3584520" y="2145960"/>
              <a:ext cx="55800" cy="312840"/>
            </a:xfrm>
            <a:custGeom>
              <a:avLst/>
              <a:gdLst/>
              <a:ahLst/>
              <a:rect l="l" t="t" r="r" b="b"/>
              <a:pathLst>
                <a:path w="130" h="749">
                  <a:moveTo>
                    <a:pt x="10" y="0"/>
                  </a:moveTo>
                  <a:lnTo>
                    <a:pt x="0" y="13"/>
                  </a:lnTo>
                  <a:lnTo>
                    <a:pt x="18" y="95"/>
                  </a:lnTo>
                  <a:lnTo>
                    <a:pt x="32" y="186"/>
                  </a:lnTo>
                  <a:lnTo>
                    <a:pt x="44" y="282"/>
                  </a:lnTo>
                  <a:lnTo>
                    <a:pt x="54" y="379"/>
                  </a:lnTo>
                  <a:lnTo>
                    <a:pt x="65" y="477"/>
                  </a:lnTo>
                  <a:lnTo>
                    <a:pt x="77" y="573"/>
                  </a:lnTo>
                  <a:lnTo>
                    <a:pt x="91" y="664"/>
                  </a:lnTo>
                  <a:lnTo>
                    <a:pt x="109" y="749"/>
                  </a:lnTo>
                  <a:lnTo>
                    <a:pt x="130" y="744"/>
                  </a:lnTo>
                  <a:lnTo>
                    <a:pt x="112" y="661"/>
                  </a:lnTo>
                  <a:lnTo>
                    <a:pt x="99" y="570"/>
                  </a:lnTo>
                  <a:lnTo>
                    <a:pt x="87" y="475"/>
                  </a:lnTo>
                  <a:lnTo>
                    <a:pt x="75" y="377"/>
                  </a:lnTo>
                  <a:lnTo>
                    <a:pt x="65" y="279"/>
                  </a:lnTo>
                  <a:lnTo>
                    <a:pt x="53" y="184"/>
                  </a:lnTo>
                  <a:lnTo>
                    <a:pt x="39" y="93"/>
                  </a:lnTo>
                  <a:lnTo>
                    <a:pt x="21" y="7"/>
                  </a:lnTo>
                  <a:lnTo>
                    <a:pt x="12" y="21"/>
                  </a:lnTo>
                  <a:lnTo>
                    <a:pt x="21" y="7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H="1">
              <a:off x="3496680" y="2122920"/>
              <a:ext cx="139680" cy="33480"/>
            </a:xfrm>
            <a:custGeom>
              <a:avLst/>
              <a:gdLst/>
              <a:ahLst/>
              <a:rect l="l" t="t" r="r" b="b"/>
              <a:pathLst>
                <a:path w="326" h="77">
                  <a:moveTo>
                    <a:pt x="315" y="0"/>
                  </a:moveTo>
                  <a:lnTo>
                    <a:pt x="312" y="1"/>
                  </a:lnTo>
                  <a:lnTo>
                    <a:pt x="302" y="6"/>
                  </a:lnTo>
                  <a:lnTo>
                    <a:pt x="289" y="9"/>
                  </a:lnTo>
                  <a:lnTo>
                    <a:pt x="274" y="15"/>
                  </a:lnTo>
                  <a:lnTo>
                    <a:pt x="261" y="18"/>
                  </a:lnTo>
                  <a:lnTo>
                    <a:pt x="243" y="21"/>
                  </a:lnTo>
                  <a:lnTo>
                    <a:pt x="224" y="25"/>
                  </a:lnTo>
                  <a:lnTo>
                    <a:pt x="205" y="27"/>
                  </a:lnTo>
                  <a:lnTo>
                    <a:pt x="184" y="31"/>
                  </a:lnTo>
                  <a:lnTo>
                    <a:pt x="162" y="33"/>
                  </a:lnTo>
                  <a:lnTo>
                    <a:pt x="140" y="37"/>
                  </a:lnTo>
                  <a:lnTo>
                    <a:pt x="119" y="39"/>
                  </a:lnTo>
                  <a:lnTo>
                    <a:pt x="95" y="41"/>
                  </a:lnTo>
                  <a:lnTo>
                    <a:pt x="72" y="45"/>
                  </a:lnTo>
                  <a:lnTo>
                    <a:pt x="48" y="49"/>
                  </a:lnTo>
                  <a:lnTo>
                    <a:pt x="23" y="52"/>
                  </a:lnTo>
                  <a:lnTo>
                    <a:pt x="0" y="56"/>
                  </a:lnTo>
                  <a:lnTo>
                    <a:pt x="2" y="77"/>
                  </a:lnTo>
                  <a:lnTo>
                    <a:pt x="26" y="73"/>
                  </a:lnTo>
                  <a:lnTo>
                    <a:pt x="51" y="70"/>
                  </a:lnTo>
                  <a:lnTo>
                    <a:pt x="74" y="66"/>
                  </a:lnTo>
                  <a:lnTo>
                    <a:pt x="98" y="62"/>
                  </a:lnTo>
                  <a:lnTo>
                    <a:pt x="119" y="60"/>
                  </a:lnTo>
                  <a:lnTo>
                    <a:pt x="142" y="58"/>
                  </a:lnTo>
                  <a:lnTo>
                    <a:pt x="165" y="55"/>
                  </a:lnTo>
                  <a:lnTo>
                    <a:pt x="186" y="52"/>
                  </a:lnTo>
                  <a:lnTo>
                    <a:pt x="207" y="49"/>
                  </a:lnTo>
                  <a:lnTo>
                    <a:pt x="226" y="46"/>
                  </a:lnTo>
                  <a:lnTo>
                    <a:pt x="245" y="42"/>
                  </a:lnTo>
                  <a:lnTo>
                    <a:pt x="263" y="39"/>
                  </a:lnTo>
                  <a:lnTo>
                    <a:pt x="279" y="36"/>
                  </a:lnTo>
                  <a:lnTo>
                    <a:pt x="294" y="31"/>
                  </a:lnTo>
                  <a:lnTo>
                    <a:pt x="308" y="25"/>
                  </a:lnTo>
                  <a:lnTo>
                    <a:pt x="322" y="20"/>
                  </a:lnTo>
                  <a:lnTo>
                    <a:pt x="319" y="21"/>
                  </a:lnTo>
                  <a:lnTo>
                    <a:pt x="322" y="20"/>
                  </a:lnTo>
                  <a:lnTo>
                    <a:pt x="326" y="15"/>
                  </a:lnTo>
                  <a:lnTo>
                    <a:pt x="326" y="6"/>
                  </a:lnTo>
                  <a:lnTo>
                    <a:pt x="320" y="1"/>
                  </a:lnTo>
                  <a:lnTo>
                    <a:pt x="312" y="1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3492720" y="1951920"/>
              <a:ext cx="61560" cy="179280"/>
            </a:xfrm>
            <a:custGeom>
              <a:avLst/>
              <a:gdLst/>
              <a:ahLst/>
              <a:rect l="l" t="t" r="r" b="b"/>
              <a:pathLst>
                <a:path w="145" h="431">
                  <a:moveTo>
                    <a:pt x="0" y="8"/>
                  </a:moveTo>
                  <a:lnTo>
                    <a:pt x="0" y="8"/>
                  </a:lnTo>
                  <a:lnTo>
                    <a:pt x="15" y="48"/>
                  </a:lnTo>
                  <a:lnTo>
                    <a:pt x="36" y="104"/>
                  </a:lnTo>
                  <a:lnTo>
                    <a:pt x="60" y="170"/>
                  </a:lnTo>
                  <a:lnTo>
                    <a:pt x="83" y="240"/>
                  </a:lnTo>
                  <a:lnTo>
                    <a:pt x="105" y="306"/>
                  </a:lnTo>
                  <a:lnTo>
                    <a:pt x="118" y="361"/>
                  </a:lnTo>
                  <a:lnTo>
                    <a:pt x="124" y="402"/>
                  </a:lnTo>
                  <a:lnTo>
                    <a:pt x="124" y="410"/>
                  </a:lnTo>
                  <a:lnTo>
                    <a:pt x="128" y="431"/>
                  </a:lnTo>
                  <a:lnTo>
                    <a:pt x="145" y="402"/>
                  </a:lnTo>
                  <a:lnTo>
                    <a:pt x="139" y="359"/>
                  </a:lnTo>
                  <a:lnTo>
                    <a:pt x="126" y="301"/>
                  </a:lnTo>
                  <a:lnTo>
                    <a:pt x="105" y="234"/>
                  </a:lnTo>
                  <a:lnTo>
                    <a:pt x="78" y="164"/>
                  </a:lnTo>
                  <a:lnTo>
                    <a:pt x="55" y="96"/>
                  </a:lnTo>
                  <a:lnTo>
                    <a:pt x="34" y="4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>
              <a:off x="3546720" y="1626120"/>
              <a:ext cx="192960" cy="329760"/>
            </a:xfrm>
            <a:custGeom>
              <a:avLst/>
              <a:gdLst/>
              <a:ahLst/>
              <a:rect l="l" t="t" r="r" b="b"/>
              <a:pathLst>
                <a:path w="448" h="790">
                  <a:moveTo>
                    <a:pt x="0" y="14"/>
                  </a:moveTo>
                  <a:lnTo>
                    <a:pt x="0" y="14"/>
                  </a:lnTo>
                  <a:lnTo>
                    <a:pt x="41" y="62"/>
                  </a:lnTo>
                  <a:lnTo>
                    <a:pt x="78" y="108"/>
                  </a:lnTo>
                  <a:lnTo>
                    <a:pt x="114" y="154"/>
                  </a:lnTo>
                  <a:lnTo>
                    <a:pt x="146" y="197"/>
                  </a:lnTo>
                  <a:lnTo>
                    <a:pt x="176" y="243"/>
                  </a:lnTo>
                  <a:lnTo>
                    <a:pt x="203" y="286"/>
                  </a:lnTo>
                  <a:lnTo>
                    <a:pt x="228" y="328"/>
                  </a:lnTo>
                  <a:lnTo>
                    <a:pt x="254" y="374"/>
                  </a:lnTo>
                  <a:lnTo>
                    <a:pt x="276" y="418"/>
                  </a:lnTo>
                  <a:lnTo>
                    <a:pt x="298" y="464"/>
                  </a:lnTo>
                  <a:lnTo>
                    <a:pt x="319" y="513"/>
                  </a:lnTo>
                  <a:lnTo>
                    <a:pt x="341" y="563"/>
                  </a:lnTo>
                  <a:lnTo>
                    <a:pt x="362" y="615"/>
                  </a:lnTo>
                  <a:lnTo>
                    <a:pt x="384" y="669"/>
                  </a:lnTo>
                  <a:lnTo>
                    <a:pt x="407" y="728"/>
                  </a:lnTo>
                  <a:lnTo>
                    <a:pt x="429" y="790"/>
                  </a:lnTo>
                  <a:lnTo>
                    <a:pt x="448" y="782"/>
                  </a:lnTo>
                  <a:lnTo>
                    <a:pt x="425" y="721"/>
                  </a:lnTo>
                  <a:lnTo>
                    <a:pt x="403" y="662"/>
                  </a:lnTo>
                  <a:lnTo>
                    <a:pt x="381" y="608"/>
                  </a:lnTo>
                  <a:lnTo>
                    <a:pt x="360" y="555"/>
                  </a:lnTo>
                  <a:lnTo>
                    <a:pt x="338" y="506"/>
                  </a:lnTo>
                  <a:lnTo>
                    <a:pt x="317" y="457"/>
                  </a:lnTo>
                  <a:lnTo>
                    <a:pt x="295" y="408"/>
                  </a:lnTo>
                  <a:lnTo>
                    <a:pt x="272" y="364"/>
                  </a:lnTo>
                  <a:lnTo>
                    <a:pt x="247" y="319"/>
                  </a:lnTo>
                  <a:lnTo>
                    <a:pt x="221" y="274"/>
                  </a:lnTo>
                  <a:lnTo>
                    <a:pt x="191" y="231"/>
                  </a:lnTo>
                  <a:lnTo>
                    <a:pt x="163" y="186"/>
                  </a:lnTo>
                  <a:lnTo>
                    <a:pt x="130" y="142"/>
                  </a:lnTo>
                  <a:lnTo>
                    <a:pt x="95" y="96"/>
                  </a:lnTo>
                  <a:lnTo>
                    <a:pt x="57" y="4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>
              <a:off x="3731040" y="1601280"/>
              <a:ext cx="53280" cy="30960"/>
            </a:xfrm>
            <a:custGeom>
              <a:avLst/>
              <a:gdLst/>
              <a:ahLst/>
              <a:rect l="l" t="t" r="r" b="b"/>
              <a:pathLst>
                <a:path w="121" h="75">
                  <a:moveTo>
                    <a:pt x="13" y="18"/>
                  </a:moveTo>
                  <a:lnTo>
                    <a:pt x="5" y="18"/>
                  </a:lnTo>
                  <a:lnTo>
                    <a:pt x="20" y="24"/>
                  </a:lnTo>
                  <a:lnTo>
                    <a:pt x="34" y="31"/>
                  </a:lnTo>
                  <a:lnTo>
                    <a:pt x="48" y="37"/>
                  </a:lnTo>
                  <a:lnTo>
                    <a:pt x="61" y="44"/>
                  </a:lnTo>
                  <a:lnTo>
                    <a:pt x="75" y="51"/>
                  </a:lnTo>
                  <a:lnTo>
                    <a:pt x="86" y="57"/>
                  </a:lnTo>
                  <a:lnTo>
                    <a:pt x="97" y="66"/>
                  </a:lnTo>
                  <a:lnTo>
                    <a:pt x="105" y="75"/>
                  </a:lnTo>
                  <a:lnTo>
                    <a:pt x="121" y="61"/>
                  </a:lnTo>
                  <a:lnTo>
                    <a:pt x="111" y="50"/>
                  </a:lnTo>
                  <a:lnTo>
                    <a:pt x="98" y="41"/>
                  </a:lnTo>
                  <a:lnTo>
                    <a:pt x="84" y="32"/>
                  </a:lnTo>
                  <a:lnTo>
                    <a:pt x="70" y="25"/>
                  </a:lnTo>
                  <a:lnTo>
                    <a:pt x="56" y="18"/>
                  </a:lnTo>
                  <a:lnTo>
                    <a:pt x="41" y="12"/>
                  </a:lnTo>
                  <a:lnTo>
                    <a:pt x="27" y="5"/>
                  </a:lnTo>
                  <a:lnTo>
                    <a:pt x="14" y="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H="1">
              <a:off x="3777840" y="1601280"/>
              <a:ext cx="32040" cy="3708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21" y="82"/>
                  </a:moveTo>
                  <a:lnTo>
                    <a:pt x="21" y="83"/>
                  </a:lnTo>
                  <a:lnTo>
                    <a:pt x="26" y="73"/>
                  </a:lnTo>
                  <a:lnTo>
                    <a:pt x="29" y="62"/>
                  </a:lnTo>
                  <a:lnTo>
                    <a:pt x="33" y="53"/>
                  </a:lnTo>
                  <a:lnTo>
                    <a:pt x="40" y="45"/>
                  </a:lnTo>
                  <a:lnTo>
                    <a:pt x="48" y="35"/>
                  </a:lnTo>
                  <a:lnTo>
                    <a:pt x="57" y="28"/>
                  </a:lnTo>
                  <a:lnTo>
                    <a:pt x="67" y="23"/>
                  </a:lnTo>
                  <a:lnTo>
                    <a:pt x="76" y="18"/>
                  </a:lnTo>
                  <a:lnTo>
                    <a:pt x="69" y="0"/>
                  </a:lnTo>
                  <a:lnTo>
                    <a:pt x="57" y="4"/>
                  </a:lnTo>
                  <a:lnTo>
                    <a:pt x="46" y="12"/>
                  </a:lnTo>
                  <a:lnTo>
                    <a:pt x="33" y="22"/>
                  </a:lnTo>
                  <a:lnTo>
                    <a:pt x="25" y="31"/>
                  </a:lnTo>
                  <a:lnTo>
                    <a:pt x="17" y="42"/>
                  </a:lnTo>
                  <a:lnTo>
                    <a:pt x="10" y="54"/>
                  </a:lnTo>
                  <a:lnTo>
                    <a:pt x="5" y="66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88"/>
                  </a:lnTo>
                  <a:lnTo>
                    <a:pt x="10" y="92"/>
                  </a:lnTo>
                  <a:lnTo>
                    <a:pt x="18" y="90"/>
                  </a:lnTo>
                  <a:lnTo>
                    <a:pt x="21" y="83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>
              <a:off x="3889440" y="1599120"/>
              <a:ext cx="334800" cy="1233360"/>
            </a:xfrm>
            <a:custGeom>
              <a:avLst/>
              <a:gdLst/>
              <a:ahLst/>
              <a:rect l="l" t="t" r="r" b="b"/>
              <a:pathLst>
                <a:path w="780" h="2954">
                  <a:moveTo>
                    <a:pt x="720" y="0"/>
                  </a:moveTo>
                  <a:lnTo>
                    <a:pt x="731" y="37"/>
                  </a:lnTo>
                  <a:lnTo>
                    <a:pt x="740" y="73"/>
                  </a:lnTo>
                  <a:lnTo>
                    <a:pt x="749" y="109"/>
                  </a:lnTo>
                  <a:lnTo>
                    <a:pt x="755" y="147"/>
                  </a:lnTo>
                  <a:lnTo>
                    <a:pt x="758" y="185"/>
                  </a:lnTo>
                  <a:lnTo>
                    <a:pt x="762" y="222"/>
                  </a:lnTo>
                  <a:lnTo>
                    <a:pt x="762" y="262"/>
                  </a:lnTo>
                  <a:lnTo>
                    <a:pt x="762" y="305"/>
                  </a:lnTo>
                  <a:lnTo>
                    <a:pt x="758" y="497"/>
                  </a:lnTo>
                  <a:lnTo>
                    <a:pt x="759" y="691"/>
                  </a:lnTo>
                  <a:lnTo>
                    <a:pt x="765" y="890"/>
                  </a:lnTo>
                  <a:lnTo>
                    <a:pt x="769" y="1087"/>
                  </a:lnTo>
                  <a:lnTo>
                    <a:pt x="774" y="1286"/>
                  </a:lnTo>
                  <a:lnTo>
                    <a:pt x="778" y="1483"/>
                  </a:lnTo>
                  <a:lnTo>
                    <a:pt x="780" y="1676"/>
                  </a:lnTo>
                  <a:lnTo>
                    <a:pt x="776" y="1866"/>
                  </a:lnTo>
                  <a:lnTo>
                    <a:pt x="772" y="2022"/>
                  </a:lnTo>
                  <a:lnTo>
                    <a:pt x="770" y="2194"/>
                  </a:lnTo>
                  <a:lnTo>
                    <a:pt x="768" y="2372"/>
                  </a:lnTo>
                  <a:lnTo>
                    <a:pt x="766" y="2544"/>
                  </a:lnTo>
                  <a:lnTo>
                    <a:pt x="762" y="2699"/>
                  </a:lnTo>
                  <a:lnTo>
                    <a:pt x="755" y="2827"/>
                  </a:lnTo>
                  <a:lnTo>
                    <a:pt x="745" y="2916"/>
                  </a:lnTo>
                  <a:lnTo>
                    <a:pt x="729" y="2954"/>
                  </a:lnTo>
                  <a:lnTo>
                    <a:pt x="706" y="2953"/>
                  </a:lnTo>
                  <a:lnTo>
                    <a:pt x="680" y="2949"/>
                  </a:lnTo>
                  <a:lnTo>
                    <a:pt x="654" y="2944"/>
                  </a:lnTo>
                  <a:lnTo>
                    <a:pt x="625" y="2938"/>
                  </a:lnTo>
                  <a:lnTo>
                    <a:pt x="596" y="2930"/>
                  </a:lnTo>
                  <a:lnTo>
                    <a:pt x="565" y="2920"/>
                  </a:lnTo>
                  <a:lnTo>
                    <a:pt x="535" y="2912"/>
                  </a:lnTo>
                  <a:lnTo>
                    <a:pt x="504" y="2899"/>
                  </a:lnTo>
                  <a:lnTo>
                    <a:pt x="473" y="2888"/>
                  </a:lnTo>
                  <a:lnTo>
                    <a:pt x="444" y="2877"/>
                  </a:lnTo>
                  <a:lnTo>
                    <a:pt x="414" y="2865"/>
                  </a:lnTo>
                  <a:lnTo>
                    <a:pt x="387" y="2854"/>
                  </a:lnTo>
                  <a:lnTo>
                    <a:pt x="359" y="2842"/>
                  </a:lnTo>
                  <a:lnTo>
                    <a:pt x="333" y="2831"/>
                  </a:lnTo>
                  <a:lnTo>
                    <a:pt x="310" y="2821"/>
                  </a:lnTo>
                  <a:lnTo>
                    <a:pt x="288" y="2811"/>
                  </a:lnTo>
                  <a:lnTo>
                    <a:pt x="348" y="1710"/>
                  </a:lnTo>
                  <a:lnTo>
                    <a:pt x="323" y="1704"/>
                  </a:lnTo>
                  <a:lnTo>
                    <a:pt x="298" y="1697"/>
                  </a:lnTo>
                  <a:lnTo>
                    <a:pt x="269" y="1691"/>
                  </a:lnTo>
                  <a:lnTo>
                    <a:pt x="240" y="1687"/>
                  </a:lnTo>
                  <a:lnTo>
                    <a:pt x="209" y="1682"/>
                  </a:lnTo>
                  <a:lnTo>
                    <a:pt x="179" y="1677"/>
                  </a:lnTo>
                  <a:lnTo>
                    <a:pt x="148" y="1671"/>
                  </a:lnTo>
                  <a:lnTo>
                    <a:pt x="118" y="1667"/>
                  </a:lnTo>
                  <a:lnTo>
                    <a:pt x="92" y="1660"/>
                  </a:lnTo>
                  <a:lnTo>
                    <a:pt x="67" y="1655"/>
                  </a:lnTo>
                  <a:lnTo>
                    <a:pt x="45" y="1648"/>
                  </a:lnTo>
                  <a:lnTo>
                    <a:pt x="26" y="1639"/>
                  </a:lnTo>
                  <a:lnTo>
                    <a:pt x="12" y="1630"/>
                  </a:lnTo>
                  <a:lnTo>
                    <a:pt x="3" y="1619"/>
                  </a:lnTo>
                  <a:lnTo>
                    <a:pt x="0" y="1608"/>
                  </a:lnTo>
                  <a:lnTo>
                    <a:pt x="3" y="1594"/>
                  </a:lnTo>
                  <a:lnTo>
                    <a:pt x="33" y="1498"/>
                  </a:lnTo>
                  <a:lnTo>
                    <a:pt x="59" y="1403"/>
                  </a:lnTo>
                  <a:lnTo>
                    <a:pt x="86" y="1307"/>
                  </a:lnTo>
                  <a:lnTo>
                    <a:pt x="109" y="1212"/>
                  </a:lnTo>
                  <a:lnTo>
                    <a:pt x="133" y="1116"/>
                  </a:lnTo>
                  <a:lnTo>
                    <a:pt x="155" y="1020"/>
                  </a:lnTo>
                  <a:lnTo>
                    <a:pt x="177" y="925"/>
                  </a:lnTo>
                  <a:lnTo>
                    <a:pt x="199" y="831"/>
                  </a:lnTo>
                  <a:lnTo>
                    <a:pt x="221" y="736"/>
                  </a:lnTo>
                  <a:lnTo>
                    <a:pt x="244" y="645"/>
                  </a:lnTo>
                  <a:lnTo>
                    <a:pt x="267" y="553"/>
                  </a:lnTo>
                  <a:lnTo>
                    <a:pt x="292" y="461"/>
                  </a:lnTo>
                  <a:lnTo>
                    <a:pt x="318" y="371"/>
                  </a:lnTo>
                  <a:lnTo>
                    <a:pt x="344" y="282"/>
                  </a:lnTo>
                  <a:lnTo>
                    <a:pt x="375" y="196"/>
                  </a:lnTo>
                  <a:lnTo>
                    <a:pt x="408" y="109"/>
                  </a:lnTo>
                  <a:lnTo>
                    <a:pt x="418" y="88"/>
                  </a:lnTo>
                  <a:lnTo>
                    <a:pt x="430" y="70"/>
                  </a:lnTo>
                  <a:lnTo>
                    <a:pt x="444" y="56"/>
                  </a:lnTo>
                  <a:lnTo>
                    <a:pt x="461" y="44"/>
                  </a:lnTo>
                  <a:lnTo>
                    <a:pt x="479" y="34"/>
                  </a:lnTo>
                  <a:lnTo>
                    <a:pt x="497" y="26"/>
                  </a:lnTo>
                  <a:lnTo>
                    <a:pt x="517" y="19"/>
                  </a:lnTo>
                  <a:lnTo>
                    <a:pt x="538" y="15"/>
                  </a:lnTo>
                  <a:lnTo>
                    <a:pt x="560" y="11"/>
                  </a:lnTo>
                  <a:lnTo>
                    <a:pt x="582" y="9"/>
                  </a:lnTo>
                  <a:lnTo>
                    <a:pt x="605" y="7"/>
                  </a:lnTo>
                  <a:lnTo>
                    <a:pt x="629" y="6"/>
                  </a:lnTo>
                  <a:lnTo>
                    <a:pt x="652" y="6"/>
                  </a:lnTo>
                  <a:lnTo>
                    <a:pt x="675" y="5"/>
                  </a:lnTo>
                  <a:lnTo>
                    <a:pt x="698" y="4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>
              <a:off x="3893760" y="1599120"/>
              <a:ext cx="25560" cy="127080"/>
            </a:xfrm>
            <a:custGeom>
              <a:avLst/>
              <a:gdLst/>
              <a:ahLst/>
              <a:rect l="l" t="t" r="r" b="b"/>
              <a:pathLst>
                <a:path w="62" h="307">
                  <a:moveTo>
                    <a:pt x="62" y="307"/>
                  </a:moveTo>
                  <a:lnTo>
                    <a:pt x="62" y="307"/>
                  </a:lnTo>
                  <a:lnTo>
                    <a:pt x="62" y="264"/>
                  </a:lnTo>
                  <a:lnTo>
                    <a:pt x="62" y="224"/>
                  </a:lnTo>
                  <a:lnTo>
                    <a:pt x="59" y="187"/>
                  </a:lnTo>
                  <a:lnTo>
                    <a:pt x="56" y="148"/>
                  </a:lnTo>
                  <a:lnTo>
                    <a:pt x="49" y="110"/>
                  </a:lnTo>
                  <a:lnTo>
                    <a:pt x="41" y="72"/>
                  </a:lnTo>
                  <a:lnTo>
                    <a:pt x="32" y="37"/>
                  </a:lnTo>
                  <a:lnTo>
                    <a:pt x="21" y="0"/>
                  </a:lnTo>
                  <a:lnTo>
                    <a:pt x="0" y="6"/>
                  </a:lnTo>
                  <a:lnTo>
                    <a:pt x="10" y="42"/>
                  </a:lnTo>
                  <a:lnTo>
                    <a:pt x="20" y="77"/>
                  </a:lnTo>
                  <a:lnTo>
                    <a:pt x="28" y="112"/>
                  </a:lnTo>
                  <a:lnTo>
                    <a:pt x="35" y="150"/>
                  </a:lnTo>
                  <a:lnTo>
                    <a:pt x="38" y="187"/>
                  </a:lnTo>
                  <a:lnTo>
                    <a:pt x="41" y="224"/>
                  </a:lnTo>
                  <a:lnTo>
                    <a:pt x="41" y="264"/>
                  </a:lnTo>
                  <a:lnTo>
                    <a:pt x="41" y="307"/>
                  </a:lnTo>
                  <a:lnTo>
                    <a:pt x="41" y="307"/>
                  </a:lnTo>
                  <a:lnTo>
                    <a:pt x="6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3885480" y="1726560"/>
              <a:ext cx="16920" cy="650520"/>
            </a:xfrm>
            <a:custGeom>
              <a:avLst/>
              <a:gdLst/>
              <a:ahLst/>
              <a:rect l="l" t="t" r="r" b="b"/>
              <a:pathLst>
                <a:path w="42" h="1561">
                  <a:moveTo>
                    <a:pt x="39" y="1561"/>
                  </a:moveTo>
                  <a:lnTo>
                    <a:pt x="39" y="1561"/>
                  </a:lnTo>
                  <a:lnTo>
                    <a:pt x="42" y="1371"/>
                  </a:lnTo>
                  <a:lnTo>
                    <a:pt x="41" y="1178"/>
                  </a:lnTo>
                  <a:lnTo>
                    <a:pt x="37" y="981"/>
                  </a:lnTo>
                  <a:lnTo>
                    <a:pt x="32" y="782"/>
                  </a:lnTo>
                  <a:lnTo>
                    <a:pt x="27" y="585"/>
                  </a:lnTo>
                  <a:lnTo>
                    <a:pt x="22" y="386"/>
                  </a:lnTo>
                  <a:lnTo>
                    <a:pt x="21" y="192"/>
                  </a:lnTo>
                  <a:lnTo>
                    <a:pt x="24" y="0"/>
                  </a:lnTo>
                  <a:lnTo>
                    <a:pt x="3" y="0"/>
                  </a:lnTo>
                  <a:lnTo>
                    <a:pt x="0" y="192"/>
                  </a:lnTo>
                  <a:lnTo>
                    <a:pt x="1" y="386"/>
                  </a:lnTo>
                  <a:lnTo>
                    <a:pt x="6" y="585"/>
                  </a:lnTo>
                  <a:lnTo>
                    <a:pt x="10" y="782"/>
                  </a:lnTo>
                  <a:lnTo>
                    <a:pt x="16" y="981"/>
                  </a:lnTo>
                  <a:lnTo>
                    <a:pt x="20" y="1178"/>
                  </a:lnTo>
                  <a:lnTo>
                    <a:pt x="21" y="1371"/>
                  </a:lnTo>
                  <a:lnTo>
                    <a:pt x="18" y="1561"/>
                  </a:lnTo>
                  <a:lnTo>
                    <a:pt x="18" y="1561"/>
                  </a:lnTo>
                  <a:lnTo>
                    <a:pt x="39" y="15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>
              <a:off x="3887280" y="2377440"/>
              <a:ext cx="27720" cy="459360"/>
            </a:xfrm>
            <a:custGeom>
              <a:avLst/>
              <a:gdLst/>
              <a:ahLst/>
              <a:rect l="l" t="t" r="r" b="b"/>
              <a:pathLst>
                <a:path w="68" h="1098">
                  <a:moveTo>
                    <a:pt x="10" y="1098"/>
                  </a:moveTo>
                  <a:lnTo>
                    <a:pt x="15" y="1097"/>
                  </a:lnTo>
                  <a:lnTo>
                    <a:pt x="36" y="1051"/>
                  </a:lnTo>
                  <a:lnTo>
                    <a:pt x="47" y="961"/>
                  </a:lnTo>
                  <a:lnTo>
                    <a:pt x="53" y="833"/>
                  </a:lnTo>
                  <a:lnTo>
                    <a:pt x="57" y="678"/>
                  </a:lnTo>
                  <a:lnTo>
                    <a:pt x="59" y="506"/>
                  </a:lnTo>
                  <a:lnTo>
                    <a:pt x="62" y="328"/>
                  </a:lnTo>
                  <a:lnTo>
                    <a:pt x="64" y="156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3" y="156"/>
                  </a:lnTo>
                  <a:lnTo>
                    <a:pt x="40" y="328"/>
                  </a:lnTo>
                  <a:lnTo>
                    <a:pt x="38" y="506"/>
                  </a:lnTo>
                  <a:lnTo>
                    <a:pt x="36" y="678"/>
                  </a:lnTo>
                  <a:lnTo>
                    <a:pt x="32" y="833"/>
                  </a:lnTo>
                  <a:lnTo>
                    <a:pt x="26" y="961"/>
                  </a:lnTo>
                  <a:lnTo>
                    <a:pt x="15" y="1049"/>
                  </a:lnTo>
                  <a:lnTo>
                    <a:pt x="6" y="1078"/>
                  </a:lnTo>
                  <a:lnTo>
                    <a:pt x="10" y="1077"/>
                  </a:lnTo>
                  <a:lnTo>
                    <a:pt x="6" y="1078"/>
                  </a:lnTo>
                  <a:lnTo>
                    <a:pt x="0" y="1084"/>
                  </a:lnTo>
                  <a:lnTo>
                    <a:pt x="1" y="1092"/>
                  </a:lnTo>
                  <a:lnTo>
                    <a:pt x="7" y="1097"/>
                  </a:lnTo>
                  <a:lnTo>
                    <a:pt x="15" y="1097"/>
                  </a:lnTo>
                  <a:lnTo>
                    <a:pt x="10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3911040" y="2768040"/>
              <a:ext cx="192960" cy="68760"/>
            </a:xfrm>
            <a:custGeom>
              <a:avLst/>
              <a:gdLst/>
              <a:ahLst/>
              <a:rect l="l" t="t" r="r" b="b"/>
              <a:pathLst>
                <a:path w="451" h="162">
                  <a:moveTo>
                    <a:pt x="0" y="9"/>
                  </a:moveTo>
                  <a:lnTo>
                    <a:pt x="7" y="19"/>
                  </a:lnTo>
                  <a:lnTo>
                    <a:pt x="28" y="27"/>
                  </a:lnTo>
                  <a:lnTo>
                    <a:pt x="52" y="38"/>
                  </a:lnTo>
                  <a:lnTo>
                    <a:pt x="78" y="48"/>
                  </a:lnTo>
                  <a:lnTo>
                    <a:pt x="104" y="61"/>
                  </a:lnTo>
                  <a:lnTo>
                    <a:pt x="133" y="73"/>
                  </a:lnTo>
                  <a:lnTo>
                    <a:pt x="163" y="84"/>
                  </a:lnTo>
                  <a:lnTo>
                    <a:pt x="192" y="96"/>
                  </a:lnTo>
                  <a:lnTo>
                    <a:pt x="223" y="107"/>
                  </a:lnTo>
                  <a:lnTo>
                    <a:pt x="253" y="120"/>
                  </a:lnTo>
                  <a:lnTo>
                    <a:pt x="285" y="130"/>
                  </a:lnTo>
                  <a:lnTo>
                    <a:pt x="316" y="138"/>
                  </a:lnTo>
                  <a:lnTo>
                    <a:pt x="345" y="147"/>
                  </a:lnTo>
                  <a:lnTo>
                    <a:pt x="375" y="153"/>
                  </a:lnTo>
                  <a:lnTo>
                    <a:pt x="401" y="157"/>
                  </a:lnTo>
                  <a:lnTo>
                    <a:pt x="428" y="161"/>
                  </a:lnTo>
                  <a:lnTo>
                    <a:pt x="451" y="162"/>
                  </a:lnTo>
                  <a:lnTo>
                    <a:pt x="451" y="141"/>
                  </a:lnTo>
                  <a:lnTo>
                    <a:pt x="428" y="140"/>
                  </a:lnTo>
                  <a:lnTo>
                    <a:pt x="403" y="136"/>
                  </a:lnTo>
                  <a:lnTo>
                    <a:pt x="377" y="132"/>
                  </a:lnTo>
                  <a:lnTo>
                    <a:pt x="349" y="126"/>
                  </a:lnTo>
                  <a:lnTo>
                    <a:pt x="320" y="117"/>
                  </a:lnTo>
                  <a:lnTo>
                    <a:pt x="289" y="108"/>
                  </a:lnTo>
                  <a:lnTo>
                    <a:pt x="260" y="98"/>
                  </a:lnTo>
                  <a:lnTo>
                    <a:pt x="229" y="88"/>
                  </a:lnTo>
                  <a:lnTo>
                    <a:pt x="198" y="77"/>
                  </a:lnTo>
                  <a:lnTo>
                    <a:pt x="170" y="65"/>
                  </a:lnTo>
                  <a:lnTo>
                    <a:pt x="140" y="54"/>
                  </a:lnTo>
                  <a:lnTo>
                    <a:pt x="112" y="42"/>
                  </a:lnTo>
                  <a:lnTo>
                    <a:pt x="84" y="30"/>
                  </a:lnTo>
                  <a:lnTo>
                    <a:pt x="59" y="20"/>
                  </a:lnTo>
                  <a:lnTo>
                    <a:pt x="35" y="9"/>
                  </a:lnTo>
                  <a:lnTo>
                    <a:pt x="14" y="0"/>
                  </a:lnTo>
                  <a:lnTo>
                    <a:pt x="21" y="9"/>
                  </a:lnTo>
                  <a:lnTo>
                    <a:pt x="14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1" y="13"/>
                  </a:lnTo>
                  <a:lnTo>
                    <a:pt x="7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H="1">
              <a:off x="4070160" y="2308680"/>
              <a:ext cx="33840" cy="463320"/>
            </a:xfrm>
            <a:custGeom>
              <a:avLst/>
              <a:gdLst/>
              <a:ahLst/>
              <a:rect l="l" t="t" r="r" b="b"/>
              <a:pathLst>
                <a:path w="80" h="1112">
                  <a:moveTo>
                    <a:pt x="65" y="22"/>
                  </a:moveTo>
                  <a:lnTo>
                    <a:pt x="59" y="11"/>
                  </a:lnTo>
                  <a:lnTo>
                    <a:pt x="0" y="1112"/>
                  </a:lnTo>
                  <a:lnTo>
                    <a:pt x="21" y="1112"/>
                  </a:lnTo>
                  <a:lnTo>
                    <a:pt x="80" y="11"/>
                  </a:lnTo>
                  <a:lnTo>
                    <a:pt x="73" y="0"/>
                  </a:lnTo>
                  <a:lnTo>
                    <a:pt x="80" y="11"/>
                  </a:lnTo>
                  <a:lnTo>
                    <a:pt x="76" y="3"/>
                  </a:lnTo>
                  <a:lnTo>
                    <a:pt x="70" y="0"/>
                  </a:lnTo>
                  <a:lnTo>
                    <a:pt x="62" y="3"/>
                  </a:lnTo>
                  <a:lnTo>
                    <a:pt x="59" y="11"/>
                  </a:lnTo>
                  <a:lnTo>
                    <a:pt x="6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>
              <a:off x="4074840" y="2260440"/>
              <a:ext cx="154080" cy="56520"/>
            </a:xfrm>
            <a:custGeom>
              <a:avLst/>
              <a:gdLst/>
              <a:ahLst/>
              <a:rect l="l" t="t" r="r" b="b"/>
              <a:pathLst>
                <a:path w="361" h="137">
                  <a:moveTo>
                    <a:pt x="3" y="7"/>
                  </a:moveTo>
                  <a:lnTo>
                    <a:pt x="4" y="6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54"/>
                  </a:lnTo>
                  <a:lnTo>
                    <a:pt x="31" y="65"/>
                  </a:lnTo>
                  <a:lnTo>
                    <a:pt x="51" y="73"/>
                  </a:lnTo>
                  <a:lnTo>
                    <a:pt x="75" y="82"/>
                  </a:lnTo>
                  <a:lnTo>
                    <a:pt x="99" y="87"/>
                  </a:lnTo>
                  <a:lnTo>
                    <a:pt x="127" y="93"/>
                  </a:lnTo>
                  <a:lnTo>
                    <a:pt x="157" y="98"/>
                  </a:lnTo>
                  <a:lnTo>
                    <a:pt x="188" y="104"/>
                  </a:lnTo>
                  <a:lnTo>
                    <a:pt x="218" y="108"/>
                  </a:lnTo>
                  <a:lnTo>
                    <a:pt x="249" y="113"/>
                  </a:lnTo>
                  <a:lnTo>
                    <a:pt x="278" y="118"/>
                  </a:lnTo>
                  <a:lnTo>
                    <a:pt x="307" y="124"/>
                  </a:lnTo>
                  <a:lnTo>
                    <a:pt x="331" y="130"/>
                  </a:lnTo>
                  <a:lnTo>
                    <a:pt x="353" y="137"/>
                  </a:lnTo>
                  <a:lnTo>
                    <a:pt x="361" y="115"/>
                  </a:lnTo>
                  <a:lnTo>
                    <a:pt x="336" y="108"/>
                  </a:lnTo>
                  <a:lnTo>
                    <a:pt x="309" y="103"/>
                  </a:lnTo>
                  <a:lnTo>
                    <a:pt x="281" y="96"/>
                  </a:lnTo>
                  <a:lnTo>
                    <a:pt x="251" y="92"/>
                  </a:lnTo>
                  <a:lnTo>
                    <a:pt x="220" y="87"/>
                  </a:lnTo>
                  <a:lnTo>
                    <a:pt x="190" y="83"/>
                  </a:lnTo>
                  <a:lnTo>
                    <a:pt x="159" y="76"/>
                  </a:lnTo>
                  <a:lnTo>
                    <a:pt x="130" y="72"/>
                  </a:lnTo>
                  <a:lnTo>
                    <a:pt x="104" y="66"/>
                  </a:lnTo>
                  <a:lnTo>
                    <a:pt x="79" y="61"/>
                  </a:lnTo>
                  <a:lnTo>
                    <a:pt x="58" y="54"/>
                  </a:lnTo>
                  <a:lnTo>
                    <a:pt x="41" y="46"/>
                  </a:lnTo>
                  <a:lnTo>
                    <a:pt x="28" y="37"/>
                  </a:lnTo>
                  <a:lnTo>
                    <a:pt x="23" y="31"/>
                  </a:lnTo>
                  <a:lnTo>
                    <a:pt x="21" y="2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3" y="5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H="1">
              <a:off x="4046040" y="1642680"/>
              <a:ext cx="180360" cy="621720"/>
            </a:xfrm>
            <a:custGeom>
              <a:avLst/>
              <a:gdLst/>
              <a:ahLst/>
              <a:rect l="l" t="t" r="r" b="b"/>
              <a:pathLst>
                <a:path w="423" h="1490">
                  <a:moveTo>
                    <a:pt x="405" y="0"/>
                  </a:moveTo>
                  <a:lnTo>
                    <a:pt x="405" y="0"/>
                  </a:lnTo>
                  <a:lnTo>
                    <a:pt x="374" y="86"/>
                  </a:lnTo>
                  <a:lnTo>
                    <a:pt x="341" y="174"/>
                  </a:lnTo>
                  <a:lnTo>
                    <a:pt x="314" y="263"/>
                  </a:lnTo>
                  <a:lnTo>
                    <a:pt x="288" y="353"/>
                  </a:lnTo>
                  <a:lnTo>
                    <a:pt x="264" y="445"/>
                  </a:lnTo>
                  <a:lnTo>
                    <a:pt x="241" y="536"/>
                  </a:lnTo>
                  <a:lnTo>
                    <a:pt x="217" y="628"/>
                  </a:lnTo>
                  <a:lnTo>
                    <a:pt x="195" y="723"/>
                  </a:lnTo>
                  <a:lnTo>
                    <a:pt x="173" y="817"/>
                  </a:lnTo>
                  <a:lnTo>
                    <a:pt x="152" y="911"/>
                  </a:lnTo>
                  <a:lnTo>
                    <a:pt x="130" y="1007"/>
                  </a:lnTo>
                  <a:lnTo>
                    <a:pt x="105" y="1102"/>
                  </a:lnTo>
                  <a:lnTo>
                    <a:pt x="82" y="1199"/>
                  </a:lnTo>
                  <a:lnTo>
                    <a:pt x="57" y="1294"/>
                  </a:lnTo>
                  <a:lnTo>
                    <a:pt x="29" y="1390"/>
                  </a:lnTo>
                  <a:lnTo>
                    <a:pt x="0" y="1485"/>
                  </a:lnTo>
                  <a:lnTo>
                    <a:pt x="21" y="1490"/>
                  </a:lnTo>
                  <a:lnTo>
                    <a:pt x="50" y="1394"/>
                  </a:lnTo>
                  <a:lnTo>
                    <a:pt x="78" y="1299"/>
                  </a:lnTo>
                  <a:lnTo>
                    <a:pt x="103" y="1203"/>
                  </a:lnTo>
                  <a:lnTo>
                    <a:pt x="127" y="1108"/>
                  </a:lnTo>
                  <a:lnTo>
                    <a:pt x="151" y="1012"/>
                  </a:lnTo>
                  <a:lnTo>
                    <a:pt x="173" y="917"/>
                  </a:lnTo>
                  <a:lnTo>
                    <a:pt x="194" y="823"/>
                  </a:lnTo>
                  <a:lnTo>
                    <a:pt x="216" y="728"/>
                  </a:lnTo>
                  <a:lnTo>
                    <a:pt x="238" y="634"/>
                  </a:lnTo>
                  <a:lnTo>
                    <a:pt x="262" y="542"/>
                  </a:lnTo>
                  <a:lnTo>
                    <a:pt x="285" y="450"/>
                  </a:lnTo>
                  <a:lnTo>
                    <a:pt x="309" y="357"/>
                  </a:lnTo>
                  <a:lnTo>
                    <a:pt x="336" y="267"/>
                  </a:lnTo>
                  <a:lnTo>
                    <a:pt x="363" y="180"/>
                  </a:lnTo>
                  <a:lnTo>
                    <a:pt x="392" y="93"/>
                  </a:lnTo>
                  <a:lnTo>
                    <a:pt x="423" y="7"/>
                  </a:lnTo>
                  <a:lnTo>
                    <a:pt x="423" y="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>
              <a:off x="3910680" y="1594800"/>
              <a:ext cx="141480" cy="51840"/>
            </a:xfrm>
            <a:custGeom>
              <a:avLst/>
              <a:gdLst/>
              <a:ahLst/>
              <a:rect l="l" t="t" r="r" b="b"/>
              <a:pathLst>
                <a:path w="333" h="123">
                  <a:moveTo>
                    <a:pt x="333" y="8"/>
                  </a:moveTo>
                  <a:lnTo>
                    <a:pt x="322" y="0"/>
                  </a:lnTo>
                  <a:lnTo>
                    <a:pt x="300" y="3"/>
                  </a:lnTo>
                  <a:lnTo>
                    <a:pt x="277" y="4"/>
                  </a:lnTo>
                  <a:lnTo>
                    <a:pt x="254" y="5"/>
                  </a:lnTo>
                  <a:lnTo>
                    <a:pt x="231" y="5"/>
                  </a:lnTo>
                  <a:lnTo>
                    <a:pt x="207" y="6"/>
                  </a:lnTo>
                  <a:lnTo>
                    <a:pt x="184" y="8"/>
                  </a:lnTo>
                  <a:lnTo>
                    <a:pt x="160" y="10"/>
                  </a:lnTo>
                  <a:lnTo>
                    <a:pt x="139" y="15"/>
                  </a:lnTo>
                  <a:lnTo>
                    <a:pt x="116" y="19"/>
                  </a:lnTo>
                  <a:lnTo>
                    <a:pt x="95" y="26"/>
                  </a:lnTo>
                  <a:lnTo>
                    <a:pt x="75" y="35"/>
                  </a:lnTo>
                  <a:lnTo>
                    <a:pt x="56" y="45"/>
                  </a:lnTo>
                  <a:lnTo>
                    <a:pt x="38" y="58"/>
                  </a:lnTo>
                  <a:lnTo>
                    <a:pt x="24" y="74"/>
                  </a:lnTo>
                  <a:lnTo>
                    <a:pt x="11" y="94"/>
                  </a:lnTo>
                  <a:lnTo>
                    <a:pt x="0" y="116"/>
                  </a:lnTo>
                  <a:lnTo>
                    <a:pt x="18" y="123"/>
                  </a:lnTo>
                  <a:lnTo>
                    <a:pt x="30" y="103"/>
                  </a:lnTo>
                  <a:lnTo>
                    <a:pt x="40" y="88"/>
                  </a:lnTo>
                  <a:lnTo>
                    <a:pt x="53" y="75"/>
                  </a:lnTo>
                  <a:lnTo>
                    <a:pt x="68" y="61"/>
                  </a:lnTo>
                  <a:lnTo>
                    <a:pt x="85" y="54"/>
                  </a:lnTo>
                  <a:lnTo>
                    <a:pt x="103" y="45"/>
                  </a:lnTo>
                  <a:lnTo>
                    <a:pt x="122" y="40"/>
                  </a:lnTo>
                  <a:lnTo>
                    <a:pt x="142" y="36"/>
                  </a:lnTo>
                  <a:lnTo>
                    <a:pt x="163" y="33"/>
                  </a:lnTo>
                  <a:lnTo>
                    <a:pt x="184" y="29"/>
                  </a:lnTo>
                  <a:lnTo>
                    <a:pt x="207" y="27"/>
                  </a:lnTo>
                  <a:lnTo>
                    <a:pt x="231" y="26"/>
                  </a:lnTo>
                  <a:lnTo>
                    <a:pt x="254" y="26"/>
                  </a:lnTo>
                  <a:lnTo>
                    <a:pt x="277" y="25"/>
                  </a:lnTo>
                  <a:lnTo>
                    <a:pt x="300" y="24"/>
                  </a:lnTo>
                  <a:lnTo>
                    <a:pt x="322" y="21"/>
                  </a:lnTo>
                  <a:lnTo>
                    <a:pt x="312" y="14"/>
                  </a:lnTo>
                  <a:lnTo>
                    <a:pt x="322" y="21"/>
                  </a:lnTo>
                  <a:lnTo>
                    <a:pt x="331" y="18"/>
                  </a:lnTo>
                  <a:lnTo>
                    <a:pt x="333" y="10"/>
                  </a:lnTo>
                  <a:lnTo>
                    <a:pt x="331" y="4"/>
                  </a:lnTo>
                  <a:lnTo>
                    <a:pt x="322" y="0"/>
                  </a:lnTo>
                  <a:lnTo>
                    <a:pt x="3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H="1">
              <a:off x="3750480" y="1596960"/>
              <a:ext cx="55440" cy="438120"/>
            </a:xfrm>
            <a:custGeom>
              <a:avLst/>
              <a:gdLst/>
              <a:ahLst/>
              <a:rect l="l" t="t" r="r" b="b"/>
              <a:pathLst>
                <a:path w="132" h="1049">
                  <a:moveTo>
                    <a:pt x="62" y="2"/>
                  </a:moveTo>
                  <a:lnTo>
                    <a:pt x="73" y="32"/>
                  </a:lnTo>
                  <a:lnTo>
                    <a:pt x="83" y="72"/>
                  </a:lnTo>
                  <a:lnTo>
                    <a:pt x="95" y="120"/>
                  </a:lnTo>
                  <a:lnTo>
                    <a:pt x="105" y="174"/>
                  </a:lnTo>
                  <a:lnTo>
                    <a:pt x="115" y="230"/>
                  </a:lnTo>
                  <a:lnTo>
                    <a:pt x="123" y="285"/>
                  </a:lnTo>
                  <a:lnTo>
                    <a:pt x="130" y="338"/>
                  </a:lnTo>
                  <a:lnTo>
                    <a:pt x="132" y="384"/>
                  </a:lnTo>
                  <a:lnTo>
                    <a:pt x="130" y="392"/>
                  </a:lnTo>
                  <a:lnTo>
                    <a:pt x="124" y="396"/>
                  </a:lnTo>
                  <a:lnTo>
                    <a:pt x="118" y="401"/>
                  </a:lnTo>
                  <a:lnTo>
                    <a:pt x="110" y="403"/>
                  </a:lnTo>
                  <a:lnTo>
                    <a:pt x="101" y="406"/>
                  </a:lnTo>
                  <a:lnTo>
                    <a:pt x="93" y="409"/>
                  </a:lnTo>
                  <a:lnTo>
                    <a:pt x="87" y="414"/>
                  </a:lnTo>
                  <a:lnTo>
                    <a:pt x="84" y="419"/>
                  </a:lnTo>
                  <a:lnTo>
                    <a:pt x="92" y="426"/>
                  </a:lnTo>
                  <a:lnTo>
                    <a:pt x="100" y="430"/>
                  </a:lnTo>
                  <a:lnTo>
                    <a:pt x="109" y="434"/>
                  </a:lnTo>
                  <a:lnTo>
                    <a:pt x="116" y="437"/>
                  </a:lnTo>
                  <a:lnTo>
                    <a:pt x="123" y="440"/>
                  </a:lnTo>
                  <a:lnTo>
                    <a:pt x="130" y="448"/>
                  </a:lnTo>
                  <a:lnTo>
                    <a:pt x="132" y="456"/>
                  </a:lnTo>
                  <a:lnTo>
                    <a:pt x="131" y="469"/>
                  </a:lnTo>
                  <a:lnTo>
                    <a:pt x="122" y="534"/>
                  </a:lnTo>
                  <a:lnTo>
                    <a:pt x="116" y="599"/>
                  </a:lnTo>
                  <a:lnTo>
                    <a:pt x="111" y="663"/>
                  </a:lnTo>
                  <a:lnTo>
                    <a:pt x="104" y="728"/>
                  </a:lnTo>
                  <a:lnTo>
                    <a:pt x="98" y="791"/>
                  </a:lnTo>
                  <a:lnTo>
                    <a:pt x="90" y="855"/>
                  </a:lnTo>
                  <a:lnTo>
                    <a:pt x="80" y="918"/>
                  </a:lnTo>
                  <a:lnTo>
                    <a:pt x="67" y="980"/>
                  </a:lnTo>
                  <a:lnTo>
                    <a:pt x="63" y="998"/>
                  </a:lnTo>
                  <a:lnTo>
                    <a:pt x="57" y="1015"/>
                  </a:lnTo>
                  <a:lnTo>
                    <a:pt x="49" y="1032"/>
                  </a:lnTo>
                  <a:lnTo>
                    <a:pt x="46" y="1049"/>
                  </a:lnTo>
                  <a:lnTo>
                    <a:pt x="41" y="880"/>
                  </a:lnTo>
                  <a:lnTo>
                    <a:pt x="30" y="705"/>
                  </a:lnTo>
                  <a:lnTo>
                    <a:pt x="19" y="530"/>
                  </a:lnTo>
                  <a:lnTo>
                    <a:pt x="14" y="358"/>
                  </a:lnTo>
                  <a:lnTo>
                    <a:pt x="11" y="278"/>
                  </a:lnTo>
                  <a:lnTo>
                    <a:pt x="7" y="193"/>
                  </a:lnTo>
                  <a:lnTo>
                    <a:pt x="2" y="111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9" y="23"/>
                  </a:lnTo>
                  <a:lnTo>
                    <a:pt x="18" y="16"/>
                  </a:lnTo>
                  <a:lnTo>
                    <a:pt x="28" y="11"/>
                  </a:lnTo>
                  <a:lnTo>
                    <a:pt x="39" y="4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3746160" y="1596960"/>
              <a:ext cx="38160" cy="160920"/>
            </a:xfrm>
            <a:custGeom>
              <a:avLst/>
              <a:gdLst/>
              <a:ahLst/>
              <a:rect l="l" t="t" r="r" b="b"/>
              <a:pathLst>
                <a:path w="89" h="385">
                  <a:moveTo>
                    <a:pt x="89" y="385"/>
                  </a:moveTo>
                  <a:lnTo>
                    <a:pt x="89" y="385"/>
                  </a:lnTo>
                  <a:lnTo>
                    <a:pt x="87" y="339"/>
                  </a:lnTo>
                  <a:lnTo>
                    <a:pt x="81" y="285"/>
                  </a:lnTo>
                  <a:lnTo>
                    <a:pt x="72" y="229"/>
                  </a:lnTo>
                  <a:lnTo>
                    <a:pt x="63" y="174"/>
                  </a:lnTo>
                  <a:lnTo>
                    <a:pt x="52" y="120"/>
                  </a:lnTo>
                  <a:lnTo>
                    <a:pt x="41" y="71"/>
                  </a:lnTo>
                  <a:lnTo>
                    <a:pt x="30" y="31"/>
                  </a:lnTo>
                  <a:lnTo>
                    <a:pt x="19" y="0"/>
                  </a:lnTo>
                  <a:lnTo>
                    <a:pt x="0" y="6"/>
                  </a:lnTo>
                  <a:lnTo>
                    <a:pt x="9" y="35"/>
                  </a:lnTo>
                  <a:lnTo>
                    <a:pt x="20" y="75"/>
                  </a:lnTo>
                  <a:lnTo>
                    <a:pt x="31" y="123"/>
                  </a:lnTo>
                  <a:lnTo>
                    <a:pt x="42" y="176"/>
                  </a:lnTo>
                  <a:lnTo>
                    <a:pt x="51" y="232"/>
                  </a:lnTo>
                  <a:lnTo>
                    <a:pt x="60" y="287"/>
                  </a:lnTo>
                  <a:lnTo>
                    <a:pt x="66" y="339"/>
                  </a:lnTo>
                  <a:lnTo>
                    <a:pt x="68" y="385"/>
                  </a:lnTo>
                  <a:lnTo>
                    <a:pt x="68" y="385"/>
                  </a:lnTo>
                  <a:lnTo>
                    <a:pt x="89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>
              <a:off x="3745800" y="1757880"/>
              <a:ext cx="29880" cy="1836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19" y="29"/>
                  </a:moveTo>
                  <a:lnTo>
                    <a:pt x="21" y="37"/>
                  </a:lnTo>
                  <a:lnTo>
                    <a:pt x="21" y="35"/>
                  </a:lnTo>
                  <a:lnTo>
                    <a:pt x="24" y="34"/>
                  </a:lnTo>
                  <a:lnTo>
                    <a:pt x="30" y="31"/>
                  </a:lnTo>
                  <a:lnTo>
                    <a:pt x="38" y="30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5" y="12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6" y="3"/>
                  </a:lnTo>
                  <a:lnTo>
                    <a:pt x="45" y="4"/>
                  </a:lnTo>
                  <a:lnTo>
                    <a:pt x="40" y="8"/>
                  </a:lnTo>
                  <a:lnTo>
                    <a:pt x="33" y="9"/>
                  </a:lnTo>
                  <a:lnTo>
                    <a:pt x="24" y="12"/>
                  </a:lnTo>
                  <a:lnTo>
                    <a:pt x="14" y="15"/>
                  </a:lnTo>
                  <a:lnTo>
                    <a:pt x="5" y="24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9" y="46"/>
                  </a:lnTo>
                  <a:lnTo>
                    <a:pt x="18" y="44"/>
                  </a:lnTo>
                  <a:lnTo>
                    <a:pt x="21" y="37"/>
                  </a:lnTo>
                  <a:lnTo>
                    <a:pt x="1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3745440" y="1768320"/>
              <a:ext cx="27720" cy="2916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64" y="57"/>
                  </a:moveTo>
                  <a:lnTo>
                    <a:pt x="64" y="57"/>
                  </a:lnTo>
                  <a:lnTo>
                    <a:pt x="65" y="43"/>
                  </a:lnTo>
                  <a:lnTo>
                    <a:pt x="62" y="31"/>
                  </a:lnTo>
                  <a:lnTo>
                    <a:pt x="53" y="20"/>
                  </a:lnTo>
                  <a:lnTo>
                    <a:pt x="43" y="15"/>
                  </a:lnTo>
                  <a:lnTo>
                    <a:pt x="35" y="12"/>
                  </a:lnTo>
                  <a:lnTo>
                    <a:pt x="27" y="8"/>
                  </a:lnTo>
                  <a:lnTo>
                    <a:pt x="21" y="4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8" y="21"/>
                  </a:lnTo>
                  <a:lnTo>
                    <a:pt x="18" y="26"/>
                  </a:lnTo>
                  <a:lnTo>
                    <a:pt x="27" y="31"/>
                  </a:lnTo>
                  <a:lnTo>
                    <a:pt x="36" y="34"/>
                  </a:lnTo>
                  <a:lnTo>
                    <a:pt x="41" y="36"/>
                  </a:lnTo>
                  <a:lnTo>
                    <a:pt x="43" y="40"/>
                  </a:lnTo>
                  <a:lnTo>
                    <a:pt x="44" y="43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5" y="63"/>
                  </a:lnTo>
                  <a:lnTo>
                    <a:pt x="53" y="67"/>
                  </a:lnTo>
                  <a:lnTo>
                    <a:pt x="61" y="64"/>
                  </a:lnTo>
                  <a:lnTo>
                    <a:pt x="64" y="57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3745800" y="1791000"/>
              <a:ext cx="36360" cy="214560"/>
            </a:xfrm>
            <a:custGeom>
              <a:avLst/>
              <a:gdLst/>
              <a:ahLst/>
              <a:rect l="l" t="t" r="r" b="b"/>
              <a:pathLst>
                <a:path w="84" h="514">
                  <a:moveTo>
                    <a:pt x="21" y="512"/>
                  </a:moveTo>
                  <a:lnTo>
                    <a:pt x="21" y="514"/>
                  </a:lnTo>
                  <a:lnTo>
                    <a:pt x="34" y="451"/>
                  </a:lnTo>
                  <a:lnTo>
                    <a:pt x="43" y="388"/>
                  </a:lnTo>
                  <a:lnTo>
                    <a:pt x="52" y="324"/>
                  </a:lnTo>
                  <a:lnTo>
                    <a:pt x="58" y="260"/>
                  </a:lnTo>
                  <a:lnTo>
                    <a:pt x="64" y="195"/>
                  </a:lnTo>
                  <a:lnTo>
                    <a:pt x="71" y="131"/>
                  </a:lnTo>
                  <a:lnTo>
                    <a:pt x="76" y="67"/>
                  </a:lnTo>
                  <a:lnTo>
                    <a:pt x="84" y="2"/>
                  </a:lnTo>
                  <a:lnTo>
                    <a:pt x="63" y="0"/>
                  </a:lnTo>
                  <a:lnTo>
                    <a:pt x="55" y="65"/>
                  </a:lnTo>
                  <a:lnTo>
                    <a:pt x="48" y="131"/>
                  </a:lnTo>
                  <a:lnTo>
                    <a:pt x="43" y="195"/>
                  </a:lnTo>
                  <a:lnTo>
                    <a:pt x="37" y="260"/>
                  </a:lnTo>
                  <a:lnTo>
                    <a:pt x="30" y="322"/>
                  </a:lnTo>
                  <a:lnTo>
                    <a:pt x="22" y="386"/>
                  </a:lnTo>
                  <a:lnTo>
                    <a:pt x="12" y="449"/>
                  </a:lnTo>
                  <a:lnTo>
                    <a:pt x="0" y="510"/>
                  </a:lnTo>
                  <a:lnTo>
                    <a:pt x="0" y="512"/>
                  </a:lnTo>
                  <a:lnTo>
                    <a:pt x="21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3773520" y="2005920"/>
              <a:ext cx="16920" cy="33480"/>
            </a:xfrm>
            <a:custGeom>
              <a:avLst/>
              <a:gdLst/>
              <a:ahLst/>
              <a:rect l="l" t="t" r="r" b="b"/>
              <a:pathLst>
                <a:path w="42" h="79">
                  <a:moveTo>
                    <a:pt x="0" y="69"/>
                  </a:moveTo>
                  <a:lnTo>
                    <a:pt x="21" y="69"/>
                  </a:lnTo>
                  <a:lnTo>
                    <a:pt x="24" y="54"/>
                  </a:lnTo>
                  <a:lnTo>
                    <a:pt x="29" y="38"/>
                  </a:lnTo>
                  <a:lnTo>
                    <a:pt x="38" y="2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7" y="16"/>
                  </a:lnTo>
                  <a:lnTo>
                    <a:pt x="11" y="31"/>
                  </a:lnTo>
                  <a:lnTo>
                    <a:pt x="3" y="50"/>
                  </a:lnTo>
                  <a:lnTo>
                    <a:pt x="0" y="69"/>
                  </a:lnTo>
                  <a:lnTo>
                    <a:pt x="21" y="69"/>
                  </a:lnTo>
                  <a:lnTo>
                    <a:pt x="0" y="69"/>
                  </a:lnTo>
                  <a:lnTo>
                    <a:pt x="3" y="77"/>
                  </a:lnTo>
                  <a:lnTo>
                    <a:pt x="10" y="79"/>
                  </a:lnTo>
                  <a:lnTo>
                    <a:pt x="17" y="77"/>
                  </a:lnTo>
                  <a:lnTo>
                    <a:pt x="21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>
              <a:off x="3782880" y="1744920"/>
              <a:ext cx="23040" cy="290160"/>
            </a:xfrm>
            <a:custGeom>
              <a:avLst/>
              <a:gdLst/>
              <a:ahLst/>
              <a:rect l="l" t="t" r="r" b="b"/>
              <a:pathLst>
                <a:path w="54" h="691">
                  <a:moveTo>
                    <a:pt x="0" y="0"/>
                  </a:moveTo>
                  <a:lnTo>
                    <a:pt x="0" y="0"/>
                  </a:lnTo>
                  <a:lnTo>
                    <a:pt x="5" y="172"/>
                  </a:lnTo>
                  <a:lnTo>
                    <a:pt x="17" y="347"/>
                  </a:lnTo>
                  <a:lnTo>
                    <a:pt x="27" y="522"/>
                  </a:lnTo>
                  <a:lnTo>
                    <a:pt x="33" y="691"/>
                  </a:lnTo>
                  <a:lnTo>
                    <a:pt x="54" y="691"/>
                  </a:lnTo>
                  <a:lnTo>
                    <a:pt x="49" y="522"/>
                  </a:lnTo>
                  <a:lnTo>
                    <a:pt x="38" y="347"/>
                  </a:lnTo>
                  <a:lnTo>
                    <a:pt x="26" y="17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3797280" y="1607400"/>
              <a:ext cx="14760" cy="137520"/>
            </a:xfrm>
            <a:custGeom>
              <a:avLst/>
              <a:gdLst/>
              <a:ahLst/>
              <a:rect l="l" t="t" r="r" b="b"/>
              <a:pathLst>
                <a:path w="35" h="333">
                  <a:moveTo>
                    <a:pt x="0" y="9"/>
                  </a:moveTo>
                  <a:lnTo>
                    <a:pt x="0" y="11"/>
                  </a:lnTo>
                  <a:lnTo>
                    <a:pt x="2" y="86"/>
                  </a:lnTo>
                  <a:lnTo>
                    <a:pt x="8" y="168"/>
                  </a:lnTo>
                  <a:lnTo>
                    <a:pt x="12" y="253"/>
                  </a:lnTo>
                  <a:lnTo>
                    <a:pt x="14" y="333"/>
                  </a:lnTo>
                  <a:lnTo>
                    <a:pt x="35" y="333"/>
                  </a:lnTo>
                  <a:lnTo>
                    <a:pt x="33" y="253"/>
                  </a:lnTo>
                  <a:lnTo>
                    <a:pt x="29" y="168"/>
                  </a:lnTo>
                  <a:lnTo>
                    <a:pt x="23" y="86"/>
                  </a:lnTo>
                  <a:lnTo>
                    <a:pt x="21" y="11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3775680" y="1592640"/>
              <a:ext cx="36360" cy="2052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83" y="9"/>
                  </a:moveTo>
                  <a:lnTo>
                    <a:pt x="80" y="4"/>
                  </a:lnTo>
                  <a:lnTo>
                    <a:pt x="68" y="0"/>
                  </a:lnTo>
                  <a:lnTo>
                    <a:pt x="57" y="1"/>
                  </a:lnTo>
                  <a:lnTo>
                    <a:pt x="47" y="5"/>
                  </a:lnTo>
                  <a:lnTo>
                    <a:pt x="34" y="11"/>
                  </a:lnTo>
                  <a:lnTo>
                    <a:pt x="22" y="19"/>
                  </a:lnTo>
                  <a:lnTo>
                    <a:pt x="13" y="26"/>
                  </a:lnTo>
                  <a:lnTo>
                    <a:pt x="7" y="34"/>
                  </a:lnTo>
                  <a:lnTo>
                    <a:pt x="0" y="44"/>
                  </a:lnTo>
                  <a:lnTo>
                    <a:pt x="21" y="49"/>
                  </a:lnTo>
                  <a:lnTo>
                    <a:pt x="22" y="46"/>
                  </a:lnTo>
                  <a:lnTo>
                    <a:pt x="28" y="41"/>
                  </a:lnTo>
                  <a:lnTo>
                    <a:pt x="34" y="34"/>
                  </a:lnTo>
                  <a:lnTo>
                    <a:pt x="44" y="30"/>
                  </a:lnTo>
                  <a:lnTo>
                    <a:pt x="53" y="24"/>
                  </a:lnTo>
                  <a:lnTo>
                    <a:pt x="61" y="22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64" y="15"/>
                  </a:lnTo>
                  <a:lnTo>
                    <a:pt x="67" y="21"/>
                  </a:lnTo>
                  <a:lnTo>
                    <a:pt x="74" y="23"/>
                  </a:lnTo>
                  <a:lnTo>
                    <a:pt x="82" y="20"/>
                  </a:lnTo>
                  <a:lnTo>
                    <a:pt x="84" y="12"/>
                  </a:lnTo>
                  <a:lnTo>
                    <a:pt x="80" y="4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3715920" y="1319400"/>
              <a:ext cx="212400" cy="364680"/>
            </a:xfrm>
            <a:custGeom>
              <a:avLst/>
              <a:gdLst/>
              <a:ahLst/>
              <a:rect l="l" t="t" r="r" b="b"/>
              <a:pathLst>
                <a:path w="497" h="873">
                  <a:moveTo>
                    <a:pt x="276" y="0"/>
                  </a:moveTo>
                  <a:lnTo>
                    <a:pt x="291" y="6"/>
                  </a:lnTo>
                  <a:lnTo>
                    <a:pt x="305" y="12"/>
                  </a:lnTo>
                  <a:lnTo>
                    <a:pt x="321" y="18"/>
                  </a:lnTo>
                  <a:lnTo>
                    <a:pt x="336" y="24"/>
                  </a:lnTo>
                  <a:lnTo>
                    <a:pt x="351" y="32"/>
                  </a:lnTo>
                  <a:lnTo>
                    <a:pt x="366" y="40"/>
                  </a:lnTo>
                  <a:lnTo>
                    <a:pt x="382" y="49"/>
                  </a:lnTo>
                  <a:lnTo>
                    <a:pt x="396" y="58"/>
                  </a:lnTo>
                  <a:lnTo>
                    <a:pt x="412" y="69"/>
                  </a:lnTo>
                  <a:lnTo>
                    <a:pt x="424" y="78"/>
                  </a:lnTo>
                  <a:lnTo>
                    <a:pt x="437" y="90"/>
                  </a:lnTo>
                  <a:lnTo>
                    <a:pt x="449" y="100"/>
                  </a:lnTo>
                  <a:lnTo>
                    <a:pt x="458" y="113"/>
                  </a:lnTo>
                  <a:lnTo>
                    <a:pt x="468" y="127"/>
                  </a:lnTo>
                  <a:lnTo>
                    <a:pt x="475" y="139"/>
                  </a:lnTo>
                  <a:lnTo>
                    <a:pt x="479" y="153"/>
                  </a:lnTo>
                  <a:lnTo>
                    <a:pt x="486" y="188"/>
                  </a:lnTo>
                  <a:lnTo>
                    <a:pt x="484" y="221"/>
                  </a:lnTo>
                  <a:lnTo>
                    <a:pt x="479" y="252"/>
                  </a:lnTo>
                  <a:lnTo>
                    <a:pt x="473" y="284"/>
                  </a:lnTo>
                  <a:lnTo>
                    <a:pt x="465" y="318"/>
                  </a:lnTo>
                  <a:lnTo>
                    <a:pt x="460" y="350"/>
                  </a:lnTo>
                  <a:lnTo>
                    <a:pt x="460" y="382"/>
                  </a:lnTo>
                  <a:lnTo>
                    <a:pt x="469" y="416"/>
                  </a:lnTo>
                  <a:lnTo>
                    <a:pt x="472" y="425"/>
                  </a:lnTo>
                  <a:lnTo>
                    <a:pt x="476" y="435"/>
                  </a:lnTo>
                  <a:lnTo>
                    <a:pt x="482" y="445"/>
                  </a:lnTo>
                  <a:lnTo>
                    <a:pt x="488" y="455"/>
                  </a:lnTo>
                  <a:lnTo>
                    <a:pt x="493" y="466"/>
                  </a:lnTo>
                  <a:lnTo>
                    <a:pt x="496" y="477"/>
                  </a:lnTo>
                  <a:lnTo>
                    <a:pt x="497" y="488"/>
                  </a:lnTo>
                  <a:lnTo>
                    <a:pt x="496" y="498"/>
                  </a:lnTo>
                  <a:lnTo>
                    <a:pt x="489" y="504"/>
                  </a:lnTo>
                  <a:lnTo>
                    <a:pt x="479" y="507"/>
                  </a:lnTo>
                  <a:lnTo>
                    <a:pt x="467" y="511"/>
                  </a:lnTo>
                  <a:lnTo>
                    <a:pt x="454" y="513"/>
                  </a:lnTo>
                  <a:lnTo>
                    <a:pt x="441" y="516"/>
                  </a:lnTo>
                  <a:lnTo>
                    <a:pt x="431" y="521"/>
                  </a:lnTo>
                  <a:lnTo>
                    <a:pt x="422" y="524"/>
                  </a:lnTo>
                  <a:lnTo>
                    <a:pt x="419" y="527"/>
                  </a:lnTo>
                  <a:lnTo>
                    <a:pt x="414" y="545"/>
                  </a:lnTo>
                  <a:lnTo>
                    <a:pt x="408" y="571"/>
                  </a:lnTo>
                  <a:lnTo>
                    <a:pt x="403" y="602"/>
                  </a:lnTo>
                  <a:lnTo>
                    <a:pt x="397" y="634"/>
                  </a:lnTo>
                  <a:lnTo>
                    <a:pt x="392" y="666"/>
                  </a:lnTo>
                  <a:lnTo>
                    <a:pt x="385" y="696"/>
                  </a:lnTo>
                  <a:lnTo>
                    <a:pt x="380" y="721"/>
                  </a:lnTo>
                  <a:lnTo>
                    <a:pt x="373" y="737"/>
                  </a:lnTo>
                  <a:lnTo>
                    <a:pt x="368" y="738"/>
                  </a:lnTo>
                  <a:lnTo>
                    <a:pt x="363" y="736"/>
                  </a:lnTo>
                  <a:lnTo>
                    <a:pt x="356" y="734"/>
                  </a:lnTo>
                  <a:lnTo>
                    <a:pt x="346" y="729"/>
                  </a:lnTo>
                  <a:lnTo>
                    <a:pt x="339" y="747"/>
                  </a:lnTo>
                  <a:lnTo>
                    <a:pt x="326" y="767"/>
                  </a:lnTo>
                  <a:lnTo>
                    <a:pt x="312" y="790"/>
                  </a:lnTo>
                  <a:lnTo>
                    <a:pt x="297" y="813"/>
                  </a:lnTo>
                  <a:lnTo>
                    <a:pt x="280" y="834"/>
                  </a:lnTo>
                  <a:lnTo>
                    <a:pt x="263" y="853"/>
                  </a:lnTo>
                  <a:lnTo>
                    <a:pt x="245" y="866"/>
                  </a:lnTo>
                  <a:lnTo>
                    <a:pt x="228" y="873"/>
                  </a:lnTo>
                  <a:lnTo>
                    <a:pt x="213" y="866"/>
                  </a:lnTo>
                  <a:lnTo>
                    <a:pt x="199" y="859"/>
                  </a:lnTo>
                  <a:lnTo>
                    <a:pt x="186" y="850"/>
                  </a:lnTo>
                  <a:lnTo>
                    <a:pt x="172" y="842"/>
                  </a:lnTo>
                  <a:lnTo>
                    <a:pt x="158" y="830"/>
                  </a:lnTo>
                  <a:lnTo>
                    <a:pt x="144" y="819"/>
                  </a:lnTo>
                  <a:lnTo>
                    <a:pt x="132" y="809"/>
                  </a:lnTo>
                  <a:lnTo>
                    <a:pt x="119" y="797"/>
                  </a:lnTo>
                  <a:lnTo>
                    <a:pt x="107" y="786"/>
                  </a:lnTo>
                  <a:lnTo>
                    <a:pt x="96" y="774"/>
                  </a:lnTo>
                  <a:lnTo>
                    <a:pt x="84" y="762"/>
                  </a:lnTo>
                  <a:lnTo>
                    <a:pt x="72" y="751"/>
                  </a:lnTo>
                  <a:lnTo>
                    <a:pt x="61" y="737"/>
                  </a:lnTo>
                  <a:lnTo>
                    <a:pt x="50" y="725"/>
                  </a:lnTo>
                  <a:lnTo>
                    <a:pt x="40" y="715"/>
                  </a:lnTo>
                  <a:lnTo>
                    <a:pt x="30" y="703"/>
                  </a:lnTo>
                  <a:lnTo>
                    <a:pt x="16" y="658"/>
                  </a:lnTo>
                  <a:lnTo>
                    <a:pt x="6" y="612"/>
                  </a:lnTo>
                  <a:lnTo>
                    <a:pt x="0" y="564"/>
                  </a:lnTo>
                  <a:lnTo>
                    <a:pt x="0" y="514"/>
                  </a:lnTo>
                  <a:lnTo>
                    <a:pt x="4" y="465"/>
                  </a:lnTo>
                  <a:lnTo>
                    <a:pt x="11" y="415"/>
                  </a:lnTo>
                  <a:lnTo>
                    <a:pt x="24" y="365"/>
                  </a:lnTo>
                  <a:lnTo>
                    <a:pt x="39" y="316"/>
                  </a:lnTo>
                  <a:lnTo>
                    <a:pt x="58" y="268"/>
                  </a:lnTo>
                  <a:lnTo>
                    <a:pt x="81" y="222"/>
                  </a:lnTo>
                  <a:lnTo>
                    <a:pt x="106" y="177"/>
                  </a:lnTo>
                  <a:lnTo>
                    <a:pt x="136" y="134"/>
                  </a:lnTo>
                  <a:lnTo>
                    <a:pt x="168" y="95"/>
                  </a:lnTo>
                  <a:lnTo>
                    <a:pt x="201" y="60"/>
                  </a:lnTo>
                  <a:lnTo>
                    <a:pt x="238" y="29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ffe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3718080" y="1317240"/>
              <a:ext cx="91800" cy="70920"/>
            </a:xfrm>
            <a:custGeom>
              <a:avLst/>
              <a:gdLst/>
              <a:ahLst/>
              <a:rect l="l" t="t" r="r" b="b"/>
              <a:pathLst>
                <a:path w="215" h="170">
                  <a:moveTo>
                    <a:pt x="215" y="159"/>
                  </a:moveTo>
                  <a:lnTo>
                    <a:pt x="215" y="159"/>
                  </a:lnTo>
                  <a:lnTo>
                    <a:pt x="209" y="143"/>
                  </a:lnTo>
                  <a:lnTo>
                    <a:pt x="202" y="129"/>
                  </a:lnTo>
                  <a:lnTo>
                    <a:pt x="191" y="117"/>
                  </a:lnTo>
                  <a:lnTo>
                    <a:pt x="182" y="102"/>
                  </a:lnTo>
                  <a:lnTo>
                    <a:pt x="169" y="90"/>
                  </a:lnTo>
                  <a:lnTo>
                    <a:pt x="157" y="79"/>
                  </a:lnTo>
                  <a:lnTo>
                    <a:pt x="142" y="69"/>
                  </a:lnTo>
                  <a:lnTo>
                    <a:pt x="127" y="59"/>
                  </a:lnTo>
                  <a:lnTo>
                    <a:pt x="112" y="48"/>
                  </a:lnTo>
                  <a:lnTo>
                    <a:pt x="96" y="40"/>
                  </a:lnTo>
                  <a:lnTo>
                    <a:pt x="81" y="31"/>
                  </a:lnTo>
                  <a:lnTo>
                    <a:pt x="66" y="25"/>
                  </a:lnTo>
                  <a:lnTo>
                    <a:pt x="50" y="18"/>
                  </a:lnTo>
                  <a:lnTo>
                    <a:pt x="35" y="11"/>
                  </a:lnTo>
                  <a:lnTo>
                    <a:pt x="20" y="6"/>
                  </a:lnTo>
                  <a:lnTo>
                    <a:pt x="6" y="0"/>
                  </a:lnTo>
                  <a:lnTo>
                    <a:pt x="0" y="16"/>
                  </a:lnTo>
                  <a:lnTo>
                    <a:pt x="14" y="22"/>
                  </a:lnTo>
                  <a:lnTo>
                    <a:pt x="28" y="28"/>
                  </a:lnTo>
                  <a:lnTo>
                    <a:pt x="43" y="34"/>
                  </a:lnTo>
                  <a:lnTo>
                    <a:pt x="58" y="41"/>
                  </a:lnTo>
                  <a:lnTo>
                    <a:pt x="73" y="48"/>
                  </a:lnTo>
                  <a:lnTo>
                    <a:pt x="89" y="57"/>
                  </a:lnTo>
                  <a:lnTo>
                    <a:pt x="103" y="65"/>
                  </a:lnTo>
                  <a:lnTo>
                    <a:pt x="118" y="72"/>
                  </a:lnTo>
                  <a:lnTo>
                    <a:pt x="132" y="83"/>
                  </a:lnTo>
                  <a:lnTo>
                    <a:pt x="144" y="93"/>
                  </a:lnTo>
                  <a:lnTo>
                    <a:pt x="158" y="105"/>
                  </a:lnTo>
                  <a:lnTo>
                    <a:pt x="168" y="115"/>
                  </a:lnTo>
                  <a:lnTo>
                    <a:pt x="178" y="126"/>
                  </a:lnTo>
                  <a:lnTo>
                    <a:pt x="185" y="139"/>
                  </a:lnTo>
                  <a:lnTo>
                    <a:pt x="193" y="151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201" y="170"/>
                  </a:lnTo>
                  <a:lnTo>
                    <a:pt x="208" y="170"/>
                  </a:lnTo>
                  <a:lnTo>
                    <a:pt x="214" y="166"/>
                  </a:lnTo>
                  <a:lnTo>
                    <a:pt x="215" y="159"/>
                  </a:lnTo>
                  <a:lnTo>
                    <a:pt x="215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3715560" y="1383840"/>
              <a:ext cx="19440" cy="113040"/>
            </a:xfrm>
            <a:custGeom>
              <a:avLst/>
              <a:gdLst/>
              <a:ahLst/>
              <a:rect l="l" t="t" r="r" b="b"/>
              <a:pathLst>
                <a:path w="43" h="274">
                  <a:moveTo>
                    <a:pt x="26" y="264"/>
                  </a:moveTo>
                  <a:lnTo>
                    <a:pt x="25" y="263"/>
                  </a:lnTo>
                  <a:lnTo>
                    <a:pt x="18" y="231"/>
                  </a:lnTo>
                  <a:lnTo>
                    <a:pt x="18" y="199"/>
                  </a:lnTo>
                  <a:lnTo>
                    <a:pt x="23" y="168"/>
                  </a:lnTo>
                  <a:lnTo>
                    <a:pt x="30" y="134"/>
                  </a:lnTo>
                  <a:lnTo>
                    <a:pt x="37" y="102"/>
                  </a:lnTo>
                  <a:lnTo>
                    <a:pt x="42" y="70"/>
                  </a:lnTo>
                  <a:lnTo>
                    <a:pt x="43" y="37"/>
                  </a:lnTo>
                  <a:lnTo>
                    <a:pt x="37" y="0"/>
                  </a:lnTo>
                  <a:lnTo>
                    <a:pt x="18" y="4"/>
                  </a:lnTo>
                  <a:lnTo>
                    <a:pt x="24" y="37"/>
                  </a:lnTo>
                  <a:lnTo>
                    <a:pt x="23" y="70"/>
                  </a:lnTo>
                  <a:lnTo>
                    <a:pt x="18" y="100"/>
                  </a:lnTo>
                  <a:lnTo>
                    <a:pt x="11" y="132"/>
                  </a:lnTo>
                  <a:lnTo>
                    <a:pt x="4" y="165"/>
                  </a:lnTo>
                  <a:lnTo>
                    <a:pt x="0" y="199"/>
                  </a:lnTo>
                  <a:lnTo>
                    <a:pt x="0" y="231"/>
                  </a:lnTo>
                  <a:lnTo>
                    <a:pt x="8" y="268"/>
                  </a:lnTo>
                  <a:lnTo>
                    <a:pt x="7" y="266"/>
                  </a:lnTo>
                  <a:lnTo>
                    <a:pt x="8" y="268"/>
                  </a:lnTo>
                  <a:lnTo>
                    <a:pt x="12" y="272"/>
                  </a:lnTo>
                  <a:lnTo>
                    <a:pt x="20" y="274"/>
                  </a:lnTo>
                  <a:lnTo>
                    <a:pt x="24" y="270"/>
                  </a:lnTo>
                  <a:lnTo>
                    <a:pt x="25" y="263"/>
                  </a:lnTo>
                  <a:lnTo>
                    <a:pt x="2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3711240" y="1492560"/>
              <a:ext cx="19440" cy="3924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44" y="90"/>
                  </a:moveTo>
                  <a:lnTo>
                    <a:pt x="46" y="87"/>
                  </a:lnTo>
                  <a:lnTo>
                    <a:pt x="48" y="73"/>
                  </a:lnTo>
                  <a:lnTo>
                    <a:pt x="47" y="61"/>
                  </a:lnTo>
                  <a:lnTo>
                    <a:pt x="41" y="49"/>
                  </a:lnTo>
                  <a:lnTo>
                    <a:pt x="37" y="37"/>
                  </a:lnTo>
                  <a:lnTo>
                    <a:pt x="31" y="25"/>
                  </a:lnTo>
                  <a:lnTo>
                    <a:pt x="25" y="17"/>
                  </a:lnTo>
                  <a:lnTo>
                    <a:pt x="20" y="7"/>
                  </a:lnTo>
                  <a:lnTo>
                    <a:pt x="19" y="0"/>
                  </a:lnTo>
                  <a:lnTo>
                    <a:pt x="0" y="2"/>
                  </a:lnTo>
                  <a:lnTo>
                    <a:pt x="4" y="12"/>
                  </a:lnTo>
                  <a:lnTo>
                    <a:pt x="9" y="24"/>
                  </a:lnTo>
                  <a:lnTo>
                    <a:pt x="15" y="35"/>
                  </a:lnTo>
                  <a:lnTo>
                    <a:pt x="20" y="44"/>
                  </a:lnTo>
                  <a:lnTo>
                    <a:pt x="25" y="54"/>
                  </a:lnTo>
                  <a:lnTo>
                    <a:pt x="28" y="64"/>
                  </a:lnTo>
                  <a:lnTo>
                    <a:pt x="29" y="73"/>
                  </a:lnTo>
                  <a:lnTo>
                    <a:pt x="29" y="81"/>
                  </a:lnTo>
                  <a:lnTo>
                    <a:pt x="30" y="78"/>
                  </a:lnTo>
                  <a:lnTo>
                    <a:pt x="29" y="81"/>
                  </a:lnTo>
                  <a:lnTo>
                    <a:pt x="30" y="89"/>
                  </a:lnTo>
                  <a:lnTo>
                    <a:pt x="36" y="92"/>
                  </a:lnTo>
                  <a:lnTo>
                    <a:pt x="41" y="91"/>
                  </a:lnTo>
                  <a:lnTo>
                    <a:pt x="46" y="87"/>
                  </a:lnTo>
                  <a:lnTo>
                    <a:pt x="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H="1">
              <a:off x="3711240" y="1526040"/>
              <a:ext cx="40680" cy="1692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16" y="38"/>
                  </a:moveTo>
                  <a:lnTo>
                    <a:pt x="18" y="34"/>
                  </a:lnTo>
                  <a:lnTo>
                    <a:pt x="15" y="39"/>
                  </a:lnTo>
                  <a:lnTo>
                    <a:pt x="22" y="35"/>
                  </a:lnTo>
                  <a:lnTo>
                    <a:pt x="32" y="33"/>
                  </a:lnTo>
                  <a:lnTo>
                    <a:pt x="44" y="30"/>
                  </a:lnTo>
                  <a:lnTo>
                    <a:pt x="57" y="28"/>
                  </a:lnTo>
                  <a:lnTo>
                    <a:pt x="71" y="23"/>
                  </a:lnTo>
                  <a:lnTo>
                    <a:pt x="82" y="19"/>
                  </a:lnTo>
                  <a:lnTo>
                    <a:pt x="92" y="12"/>
                  </a:lnTo>
                  <a:lnTo>
                    <a:pt x="78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4" y="9"/>
                  </a:lnTo>
                  <a:lnTo>
                    <a:pt x="42" y="11"/>
                  </a:lnTo>
                  <a:lnTo>
                    <a:pt x="27" y="14"/>
                  </a:lnTo>
                  <a:lnTo>
                    <a:pt x="16" y="19"/>
                  </a:lnTo>
                  <a:lnTo>
                    <a:pt x="6" y="22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3" y="41"/>
                  </a:lnTo>
                  <a:lnTo>
                    <a:pt x="8" y="42"/>
                  </a:lnTo>
                  <a:lnTo>
                    <a:pt x="15" y="41"/>
                  </a:lnTo>
                  <a:lnTo>
                    <a:pt x="18" y="34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>
              <a:off x="3745800" y="1538640"/>
              <a:ext cx="25560" cy="93600"/>
            </a:xfrm>
            <a:custGeom>
              <a:avLst/>
              <a:gdLst/>
              <a:ahLst/>
              <a:rect l="l" t="t" r="r" b="b"/>
              <a:pathLst>
                <a:path w="63" h="222">
                  <a:moveTo>
                    <a:pt x="14" y="219"/>
                  </a:moveTo>
                  <a:lnTo>
                    <a:pt x="17" y="217"/>
                  </a:lnTo>
                  <a:lnTo>
                    <a:pt x="24" y="199"/>
                  </a:lnTo>
                  <a:lnTo>
                    <a:pt x="31" y="173"/>
                  </a:lnTo>
                  <a:lnTo>
                    <a:pt x="37" y="143"/>
                  </a:lnTo>
                  <a:lnTo>
                    <a:pt x="42" y="111"/>
                  </a:lnTo>
                  <a:lnTo>
                    <a:pt x="49" y="79"/>
                  </a:lnTo>
                  <a:lnTo>
                    <a:pt x="54" y="48"/>
                  </a:lnTo>
                  <a:lnTo>
                    <a:pt x="59" y="22"/>
                  </a:lnTo>
                  <a:lnTo>
                    <a:pt x="63" y="7"/>
                  </a:lnTo>
                  <a:lnTo>
                    <a:pt x="48" y="0"/>
                  </a:lnTo>
                  <a:lnTo>
                    <a:pt x="40" y="20"/>
                  </a:lnTo>
                  <a:lnTo>
                    <a:pt x="35" y="46"/>
                  </a:lnTo>
                  <a:lnTo>
                    <a:pt x="30" y="77"/>
                  </a:lnTo>
                  <a:lnTo>
                    <a:pt x="23" y="109"/>
                  </a:lnTo>
                  <a:lnTo>
                    <a:pt x="18" y="141"/>
                  </a:lnTo>
                  <a:lnTo>
                    <a:pt x="12" y="171"/>
                  </a:lnTo>
                  <a:lnTo>
                    <a:pt x="6" y="194"/>
                  </a:lnTo>
                  <a:lnTo>
                    <a:pt x="0" y="210"/>
                  </a:lnTo>
                  <a:lnTo>
                    <a:pt x="2" y="208"/>
                  </a:lnTo>
                  <a:lnTo>
                    <a:pt x="0" y="210"/>
                  </a:lnTo>
                  <a:lnTo>
                    <a:pt x="0" y="217"/>
                  </a:lnTo>
                  <a:lnTo>
                    <a:pt x="4" y="222"/>
                  </a:lnTo>
                  <a:lnTo>
                    <a:pt x="12" y="222"/>
                  </a:lnTo>
                  <a:lnTo>
                    <a:pt x="17" y="217"/>
                  </a:lnTo>
                  <a:lnTo>
                    <a:pt x="1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H="1">
              <a:off x="3765240" y="1621800"/>
              <a:ext cx="16920" cy="1008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6" y="12"/>
                  </a:moveTo>
                  <a:lnTo>
                    <a:pt x="4" y="16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7"/>
                  </a:lnTo>
                  <a:lnTo>
                    <a:pt x="39" y="22"/>
                  </a:lnTo>
                  <a:lnTo>
                    <a:pt x="27" y="11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1" y="4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>
              <a:off x="3776400" y="1621800"/>
              <a:ext cx="57600" cy="66600"/>
            </a:xfrm>
            <a:custGeom>
              <a:avLst/>
              <a:gdLst/>
              <a:ahLst/>
              <a:rect l="l" t="t" r="r" b="b"/>
              <a:pathLst>
                <a:path w="136" h="158">
                  <a:moveTo>
                    <a:pt x="5" y="157"/>
                  </a:moveTo>
                  <a:lnTo>
                    <a:pt x="10" y="158"/>
                  </a:lnTo>
                  <a:lnTo>
                    <a:pt x="31" y="149"/>
                  </a:lnTo>
                  <a:lnTo>
                    <a:pt x="50" y="135"/>
                  </a:lnTo>
                  <a:lnTo>
                    <a:pt x="67" y="115"/>
                  </a:lnTo>
                  <a:lnTo>
                    <a:pt x="85" y="93"/>
                  </a:lnTo>
                  <a:lnTo>
                    <a:pt x="102" y="70"/>
                  </a:lnTo>
                  <a:lnTo>
                    <a:pt x="116" y="47"/>
                  </a:lnTo>
                  <a:lnTo>
                    <a:pt x="127" y="26"/>
                  </a:lnTo>
                  <a:lnTo>
                    <a:pt x="136" y="8"/>
                  </a:lnTo>
                  <a:lnTo>
                    <a:pt x="120" y="0"/>
                  </a:lnTo>
                  <a:lnTo>
                    <a:pt x="111" y="18"/>
                  </a:lnTo>
                  <a:lnTo>
                    <a:pt x="100" y="37"/>
                  </a:lnTo>
                  <a:lnTo>
                    <a:pt x="85" y="61"/>
                  </a:lnTo>
                  <a:lnTo>
                    <a:pt x="71" y="82"/>
                  </a:lnTo>
                  <a:lnTo>
                    <a:pt x="53" y="103"/>
                  </a:lnTo>
                  <a:lnTo>
                    <a:pt x="37" y="121"/>
                  </a:lnTo>
                  <a:lnTo>
                    <a:pt x="22" y="132"/>
                  </a:lnTo>
                  <a:lnTo>
                    <a:pt x="8" y="139"/>
                  </a:lnTo>
                  <a:lnTo>
                    <a:pt x="12" y="140"/>
                  </a:lnTo>
                  <a:lnTo>
                    <a:pt x="8" y="139"/>
                  </a:lnTo>
                  <a:lnTo>
                    <a:pt x="1" y="142"/>
                  </a:lnTo>
                  <a:lnTo>
                    <a:pt x="0" y="149"/>
                  </a:lnTo>
                  <a:lnTo>
                    <a:pt x="3" y="155"/>
                  </a:lnTo>
                  <a:lnTo>
                    <a:pt x="10" y="158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3830040" y="1609560"/>
              <a:ext cx="87840" cy="78840"/>
            </a:xfrm>
            <a:custGeom>
              <a:avLst/>
              <a:gdLst/>
              <a:ahLst/>
              <a:rect l="l" t="t" r="r" b="b"/>
              <a:pathLst>
                <a:path w="208" h="188">
                  <a:moveTo>
                    <a:pt x="0" y="12"/>
                  </a:moveTo>
                  <a:lnTo>
                    <a:pt x="1" y="15"/>
                  </a:lnTo>
                  <a:lnTo>
                    <a:pt x="11" y="27"/>
                  </a:lnTo>
                  <a:lnTo>
                    <a:pt x="21" y="38"/>
                  </a:lnTo>
                  <a:lnTo>
                    <a:pt x="32" y="49"/>
                  </a:lnTo>
                  <a:lnTo>
                    <a:pt x="42" y="62"/>
                  </a:lnTo>
                  <a:lnTo>
                    <a:pt x="55" y="74"/>
                  </a:lnTo>
                  <a:lnTo>
                    <a:pt x="67" y="85"/>
                  </a:lnTo>
                  <a:lnTo>
                    <a:pt x="78" y="98"/>
                  </a:lnTo>
                  <a:lnTo>
                    <a:pt x="90" y="111"/>
                  </a:lnTo>
                  <a:lnTo>
                    <a:pt x="103" y="122"/>
                  </a:lnTo>
                  <a:lnTo>
                    <a:pt x="116" y="133"/>
                  </a:lnTo>
                  <a:lnTo>
                    <a:pt x="129" y="143"/>
                  </a:lnTo>
                  <a:lnTo>
                    <a:pt x="144" y="154"/>
                  </a:lnTo>
                  <a:lnTo>
                    <a:pt x="157" y="165"/>
                  </a:lnTo>
                  <a:lnTo>
                    <a:pt x="172" y="173"/>
                  </a:lnTo>
                  <a:lnTo>
                    <a:pt x="187" y="180"/>
                  </a:lnTo>
                  <a:lnTo>
                    <a:pt x="201" y="188"/>
                  </a:lnTo>
                  <a:lnTo>
                    <a:pt x="208" y="171"/>
                  </a:lnTo>
                  <a:lnTo>
                    <a:pt x="194" y="163"/>
                  </a:lnTo>
                  <a:lnTo>
                    <a:pt x="180" y="156"/>
                  </a:lnTo>
                  <a:lnTo>
                    <a:pt x="167" y="149"/>
                  </a:lnTo>
                  <a:lnTo>
                    <a:pt x="155" y="140"/>
                  </a:lnTo>
                  <a:lnTo>
                    <a:pt x="140" y="130"/>
                  </a:lnTo>
                  <a:lnTo>
                    <a:pt x="128" y="119"/>
                  </a:lnTo>
                  <a:lnTo>
                    <a:pt x="115" y="109"/>
                  </a:lnTo>
                  <a:lnTo>
                    <a:pt x="102" y="96"/>
                  </a:lnTo>
                  <a:lnTo>
                    <a:pt x="90" y="85"/>
                  </a:lnTo>
                  <a:lnTo>
                    <a:pt x="78" y="74"/>
                  </a:lnTo>
                  <a:lnTo>
                    <a:pt x="67" y="62"/>
                  </a:lnTo>
                  <a:lnTo>
                    <a:pt x="56" y="50"/>
                  </a:lnTo>
                  <a:lnTo>
                    <a:pt x="45" y="38"/>
                  </a:lnTo>
                  <a:lnTo>
                    <a:pt x="35" y="25"/>
                  </a:lnTo>
                  <a:lnTo>
                    <a:pt x="24" y="15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1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H="1">
              <a:off x="3805920" y="1317240"/>
              <a:ext cx="126720" cy="298440"/>
            </a:xfrm>
            <a:custGeom>
              <a:avLst/>
              <a:gdLst/>
              <a:ahLst/>
              <a:rect l="l" t="t" r="r" b="b"/>
              <a:pathLst>
                <a:path w="296" h="715">
                  <a:moveTo>
                    <a:pt x="290" y="1"/>
                  </a:moveTo>
                  <a:lnTo>
                    <a:pt x="282" y="1"/>
                  </a:lnTo>
                  <a:lnTo>
                    <a:pt x="242" y="30"/>
                  </a:lnTo>
                  <a:lnTo>
                    <a:pt x="205" y="62"/>
                  </a:lnTo>
                  <a:lnTo>
                    <a:pt x="170" y="99"/>
                  </a:lnTo>
                  <a:lnTo>
                    <a:pt x="139" y="138"/>
                  </a:lnTo>
                  <a:lnTo>
                    <a:pt x="108" y="181"/>
                  </a:lnTo>
                  <a:lnTo>
                    <a:pt x="84" y="228"/>
                  </a:lnTo>
                  <a:lnTo>
                    <a:pt x="59" y="273"/>
                  </a:lnTo>
                  <a:lnTo>
                    <a:pt x="40" y="323"/>
                  </a:lnTo>
                  <a:lnTo>
                    <a:pt x="25" y="372"/>
                  </a:lnTo>
                  <a:lnTo>
                    <a:pt x="13" y="423"/>
                  </a:lnTo>
                  <a:lnTo>
                    <a:pt x="4" y="474"/>
                  </a:lnTo>
                  <a:lnTo>
                    <a:pt x="0" y="523"/>
                  </a:lnTo>
                  <a:lnTo>
                    <a:pt x="0" y="573"/>
                  </a:lnTo>
                  <a:lnTo>
                    <a:pt x="7" y="623"/>
                  </a:lnTo>
                  <a:lnTo>
                    <a:pt x="16" y="670"/>
                  </a:lnTo>
                  <a:lnTo>
                    <a:pt x="33" y="715"/>
                  </a:lnTo>
                  <a:lnTo>
                    <a:pt x="49" y="708"/>
                  </a:lnTo>
                  <a:lnTo>
                    <a:pt x="35" y="665"/>
                  </a:lnTo>
                  <a:lnTo>
                    <a:pt x="26" y="620"/>
                  </a:lnTo>
                  <a:lnTo>
                    <a:pt x="19" y="573"/>
                  </a:lnTo>
                  <a:lnTo>
                    <a:pt x="19" y="523"/>
                  </a:lnTo>
                  <a:lnTo>
                    <a:pt x="23" y="474"/>
                  </a:lnTo>
                  <a:lnTo>
                    <a:pt x="31" y="425"/>
                  </a:lnTo>
                  <a:lnTo>
                    <a:pt x="44" y="378"/>
                  </a:lnTo>
                  <a:lnTo>
                    <a:pt x="57" y="328"/>
                  </a:lnTo>
                  <a:lnTo>
                    <a:pt x="76" y="280"/>
                  </a:lnTo>
                  <a:lnTo>
                    <a:pt x="100" y="234"/>
                  </a:lnTo>
                  <a:lnTo>
                    <a:pt x="125" y="191"/>
                  </a:lnTo>
                  <a:lnTo>
                    <a:pt x="152" y="149"/>
                  </a:lnTo>
                  <a:lnTo>
                    <a:pt x="184" y="110"/>
                  </a:lnTo>
                  <a:lnTo>
                    <a:pt x="218" y="77"/>
                  </a:lnTo>
                  <a:lnTo>
                    <a:pt x="254" y="44"/>
                  </a:lnTo>
                  <a:lnTo>
                    <a:pt x="292" y="17"/>
                  </a:lnTo>
                  <a:lnTo>
                    <a:pt x="284" y="17"/>
                  </a:lnTo>
                  <a:lnTo>
                    <a:pt x="292" y="17"/>
                  </a:lnTo>
                  <a:lnTo>
                    <a:pt x="296" y="11"/>
                  </a:lnTo>
                  <a:lnTo>
                    <a:pt x="295" y="5"/>
                  </a:lnTo>
                  <a:lnTo>
                    <a:pt x="290" y="0"/>
                  </a:lnTo>
                  <a:lnTo>
                    <a:pt x="282" y="1"/>
                  </a:lnTo>
                  <a:lnTo>
                    <a:pt x="2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>
              <a:off x="3777840" y="1577880"/>
              <a:ext cx="47160" cy="5004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0" y="4"/>
                  </a:moveTo>
                  <a:lnTo>
                    <a:pt x="8" y="23"/>
                  </a:lnTo>
                  <a:lnTo>
                    <a:pt x="16" y="42"/>
                  </a:lnTo>
                  <a:lnTo>
                    <a:pt x="28" y="58"/>
                  </a:lnTo>
                  <a:lnTo>
                    <a:pt x="40" y="74"/>
                  </a:lnTo>
                  <a:lnTo>
                    <a:pt x="55" y="89"/>
                  </a:lnTo>
                  <a:lnTo>
                    <a:pt x="70" y="101"/>
                  </a:lnTo>
                  <a:lnTo>
                    <a:pt x="85" y="112"/>
                  </a:lnTo>
                  <a:lnTo>
                    <a:pt x="102" y="119"/>
                  </a:lnTo>
                  <a:lnTo>
                    <a:pt x="109" y="103"/>
                  </a:lnTo>
                  <a:lnTo>
                    <a:pt x="95" y="95"/>
                  </a:lnTo>
                  <a:lnTo>
                    <a:pt x="80" y="86"/>
                  </a:lnTo>
                  <a:lnTo>
                    <a:pt x="67" y="75"/>
                  </a:lnTo>
                  <a:lnTo>
                    <a:pt x="53" y="62"/>
                  </a:lnTo>
                  <a:lnTo>
                    <a:pt x="42" y="48"/>
                  </a:lnTo>
                  <a:lnTo>
                    <a:pt x="32" y="33"/>
                  </a:lnTo>
                  <a:lnTo>
                    <a:pt x="24" y="16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3990960" y="1805760"/>
              <a:ext cx="57600" cy="89640"/>
            </a:xfrm>
            <a:custGeom>
              <a:avLst/>
              <a:gdLst/>
              <a:ahLst/>
              <a:rect l="l" t="t" r="r" b="b"/>
              <a:pathLst>
                <a:path w="135" h="212">
                  <a:moveTo>
                    <a:pt x="21" y="212"/>
                  </a:moveTo>
                  <a:lnTo>
                    <a:pt x="21" y="211"/>
                  </a:lnTo>
                  <a:lnTo>
                    <a:pt x="24" y="188"/>
                  </a:lnTo>
                  <a:lnTo>
                    <a:pt x="33" y="163"/>
                  </a:lnTo>
                  <a:lnTo>
                    <a:pt x="46" y="138"/>
                  </a:lnTo>
                  <a:lnTo>
                    <a:pt x="62" y="113"/>
                  </a:lnTo>
                  <a:lnTo>
                    <a:pt x="81" y="86"/>
                  </a:lnTo>
                  <a:lnTo>
                    <a:pt x="100" y="60"/>
                  </a:lnTo>
                  <a:lnTo>
                    <a:pt x="118" y="35"/>
                  </a:lnTo>
                  <a:lnTo>
                    <a:pt x="135" y="8"/>
                  </a:lnTo>
                  <a:lnTo>
                    <a:pt x="116" y="0"/>
                  </a:lnTo>
                  <a:lnTo>
                    <a:pt x="102" y="23"/>
                  </a:lnTo>
                  <a:lnTo>
                    <a:pt x="83" y="47"/>
                  </a:lnTo>
                  <a:lnTo>
                    <a:pt x="64" y="75"/>
                  </a:lnTo>
                  <a:lnTo>
                    <a:pt x="45" y="101"/>
                  </a:lnTo>
                  <a:lnTo>
                    <a:pt x="27" y="129"/>
                  </a:lnTo>
                  <a:lnTo>
                    <a:pt x="14" y="156"/>
                  </a:lnTo>
                  <a:lnTo>
                    <a:pt x="3" y="183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21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4007520" y="1893240"/>
              <a:ext cx="42840" cy="91800"/>
            </a:xfrm>
            <a:custGeom>
              <a:avLst/>
              <a:gdLst/>
              <a:ahLst/>
              <a:rect l="l" t="t" r="r" b="b"/>
              <a:pathLst>
                <a:path w="100" h="219">
                  <a:moveTo>
                    <a:pt x="100" y="212"/>
                  </a:moveTo>
                  <a:lnTo>
                    <a:pt x="99" y="206"/>
                  </a:lnTo>
                  <a:lnTo>
                    <a:pt x="80" y="172"/>
                  </a:lnTo>
                  <a:lnTo>
                    <a:pt x="63" y="145"/>
                  </a:lnTo>
                  <a:lnTo>
                    <a:pt x="47" y="123"/>
                  </a:lnTo>
                  <a:lnTo>
                    <a:pt x="36" y="104"/>
                  </a:lnTo>
                  <a:lnTo>
                    <a:pt x="27" y="84"/>
                  </a:lnTo>
                  <a:lnTo>
                    <a:pt x="22" y="63"/>
                  </a:lnTo>
                  <a:lnTo>
                    <a:pt x="21" y="37"/>
                  </a:lnTo>
                  <a:lnTo>
                    <a:pt x="23" y="3"/>
                  </a:lnTo>
                  <a:lnTo>
                    <a:pt x="2" y="0"/>
                  </a:lnTo>
                  <a:lnTo>
                    <a:pt x="0" y="37"/>
                  </a:lnTo>
                  <a:lnTo>
                    <a:pt x="1" y="65"/>
                  </a:lnTo>
                  <a:lnTo>
                    <a:pt x="6" y="91"/>
                  </a:lnTo>
                  <a:lnTo>
                    <a:pt x="17" y="114"/>
                  </a:lnTo>
                  <a:lnTo>
                    <a:pt x="31" y="135"/>
                  </a:lnTo>
                  <a:lnTo>
                    <a:pt x="46" y="157"/>
                  </a:lnTo>
                  <a:lnTo>
                    <a:pt x="62" y="181"/>
                  </a:lnTo>
                  <a:lnTo>
                    <a:pt x="80" y="215"/>
                  </a:lnTo>
                  <a:lnTo>
                    <a:pt x="79" y="208"/>
                  </a:lnTo>
                  <a:lnTo>
                    <a:pt x="80" y="215"/>
                  </a:lnTo>
                  <a:lnTo>
                    <a:pt x="86" y="219"/>
                  </a:lnTo>
                  <a:lnTo>
                    <a:pt x="95" y="218"/>
                  </a:lnTo>
                  <a:lnTo>
                    <a:pt x="99" y="214"/>
                  </a:lnTo>
                  <a:lnTo>
                    <a:pt x="99" y="206"/>
                  </a:lnTo>
                  <a:lnTo>
                    <a:pt x="10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H="1">
              <a:off x="4008240" y="1981080"/>
              <a:ext cx="72720" cy="331560"/>
            </a:xfrm>
            <a:custGeom>
              <a:avLst/>
              <a:gdLst/>
              <a:ahLst/>
              <a:rect l="l" t="t" r="r" b="b"/>
              <a:pathLst>
                <a:path w="173" h="797">
                  <a:moveTo>
                    <a:pt x="22" y="797"/>
                  </a:moveTo>
                  <a:lnTo>
                    <a:pt x="36" y="701"/>
                  </a:lnTo>
                  <a:lnTo>
                    <a:pt x="50" y="601"/>
                  </a:lnTo>
                  <a:lnTo>
                    <a:pt x="65" y="495"/>
                  </a:lnTo>
                  <a:lnTo>
                    <a:pt x="82" y="390"/>
                  </a:lnTo>
                  <a:lnTo>
                    <a:pt x="101" y="286"/>
                  </a:lnTo>
                  <a:lnTo>
                    <a:pt x="122" y="188"/>
                  </a:lnTo>
                  <a:lnTo>
                    <a:pt x="148" y="92"/>
                  </a:lnTo>
                  <a:lnTo>
                    <a:pt x="173" y="4"/>
                  </a:lnTo>
                  <a:lnTo>
                    <a:pt x="152" y="0"/>
                  </a:lnTo>
                  <a:lnTo>
                    <a:pt x="127" y="87"/>
                  </a:lnTo>
                  <a:lnTo>
                    <a:pt x="101" y="182"/>
                  </a:lnTo>
                  <a:lnTo>
                    <a:pt x="80" y="284"/>
                  </a:lnTo>
                  <a:lnTo>
                    <a:pt x="61" y="388"/>
                  </a:lnTo>
                  <a:lnTo>
                    <a:pt x="44" y="493"/>
                  </a:lnTo>
                  <a:lnTo>
                    <a:pt x="28" y="597"/>
                  </a:lnTo>
                  <a:lnTo>
                    <a:pt x="15" y="698"/>
                  </a:lnTo>
                  <a:lnTo>
                    <a:pt x="0" y="795"/>
                  </a:lnTo>
                  <a:lnTo>
                    <a:pt x="22" y="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H="1">
              <a:off x="3655440" y="1820160"/>
              <a:ext cx="62280" cy="81360"/>
            </a:xfrm>
            <a:custGeom>
              <a:avLst/>
              <a:gdLst/>
              <a:ahLst/>
              <a:rect l="l" t="t" r="r" b="b"/>
              <a:pathLst>
                <a:path w="147" h="197">
                  <a:moveTo>
                    <a:pt x="147" y="197"/>
                  </a:moveTo>
                  <a:lnTo>
                    <a:pt x="147" y="197"/>
                  </a:lnTo>
                  <a:lnTo>
                    <a:pt x="147" y="168"/>
                  </a:lnTo>
                  <a:lnTo>
                    <a:pt x="139" y="139"/>
                  </a:lnTo>
                  <a:lnTo>
                    <a:pt x="123" y="109"/>
                  </a:lnTo>
                  <a:lnTo>
                    <a:pt x="103" y="82"/>
                  </a:lnTo>
                  <a:lnTo>
                    <a:pt x="79" y="54"/>
                  </a:lnTo>
                  <a:lnTo>
                    <a:pt x="56" y="32"/>
                  </a:lnTo>
                  <a:lnTo>
                    <a:pt x="31" y="14"/>
                  </a:lnTo>
                  <a:lnTo>
                    <a:pt x="9" y="0"/>
                  </a:lnTo>
                  <a:lnTo>
                    <a:pt x="0" y="19"/>
                  </a:lnTo>
                  <a:lnTo>
                    <a:pt x="20" y="31"/>
                  </a:lnTo>
                  <a:lnTo>
                    <a:pt x="41" y="49"/>
                  </a:lnTo>
                  <a:lnTo>
                    <a:pt x="65" y="69"/>
                  </a:lnTo>
                  <a:lnTo>
                    <a:pt x="87" y="93"/>
                  </a:lnTo>
                  <a:lnTo>
                    <a:pt x="104" y="121"/>
                  </a:lnTo>
                  <a:lnTo>
                    <a:pt x="120" y="145"/>
                  </a:lnTo>
                  <a:lnTo>
                    <a:pt x="125" y="170"/>
                  </a:lnTo>
                  <a:lnTo>
                    <a:pt x="125" y="193"/>
                  </a:lnTo>
                  <a:lnTo>
                    <a:pt x="125" y="193"/>
                  </a:lnTo>
                  <a:lnTo>
                    <a:pt x="147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3656160" y="1899720"/>
              <a:ext cx="38160" cy="7884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23" y="179"/>
                  </a:moveTo>
                  <a:lnTo>
                    <a:pt x="23" y="179"/>
                  </a:lnTo>
                  <a:lnTo>
                    <a:pt x="21" y="163"/>
                  </a:lnTo>
                  <a:lnTo>
                    <a:pt x="24" y="146"/>
                  </a:lnTo>
                  <a:lnTo>
                    <a:pt x="31" y="123"/>
                  </a:lnTo>
                  <a:lnTo>
                    <a:pt x="43" y="101"/>
                  </a:lnTo>
                  <a:lnTo>
                    <a:pt x="58" y="78"/>
                  </a:lnTo>
                  <a:lnTo>
                    <a:pt x="70" y="52"/>
                  </a:lnTo>
                  <a:lnTo>
                    <a:pt x="81" y="28"/>
                  </a:lnTo>
                  <a:lnTo>
                    <a:pt x="89" y="4"/>
                  </a:lnTo>
                  <a:lnTo>
                    <a:pt x="67" y="0"/>
                  </a:lnTo>
                  <a:lnTo>
                    <a:pt x="62" y="21"/>
                  </a:lnTo>
                  <a:lnTo>
                    <a:pt x="51" y="43"/>
                  </a:lnTo>
                  <a:lnTo>
                    <a:pt x="39" y="68"/>
                  </a:lnTo>
                  <a:lnTo>
                    <a:pt x="24" y="92"/>
                  </a:lnTo>
                  <a:lnTo>
                    <a:pt x="12" y="117"/>
                  </a:lnTo>
                  <a:lnTo>
                    <a:pt x="3" y="141"/>
                  </a:lnTo>
                  <a:lnTo>
                    <a:pt x="0" y="163"/>
                  </a:lnTo>
                  <a:lnTo>
                    <a:pt x="4" y="187"/>
                  </a:lnTo>
                  <a:lnTo>
                    <a:pt x="4" y="187"/>
                  </a:lnTo>
                  <a:lnTo>
                    <a:pt x="2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H="1">
              <a:off x="3629520" y="1974600"/>
              <a:ext cx="62280" cy="175320"/>
            </a:xfrm>
            <a:custGeom>
              <a:avLst/>
              <a:gdLst/>
              <a:ahLst/>
              <a:rect l="l" t="t" r="r" b="b"/>
              <a:pathLst>
                <a:path w="144" h="420">
                  <a:moveTo>
                    <a:pt x="144" y="417"/>
                  </a:moveTo>
                  <a:lnTo>
                    <a:pt x="131" y="356"/>
                  </a:lnTo>
                  <a:lnTo>
                    <a:pt x="117" y="298"/>
                  </a:lnTo>
                  <a:lnTo>
                    <a:pt x="102" y="243"/>
                  </a:lnTo>
                  <a:lnTo>
                    <a:pt x="88" y="189"/>
                  </a:lnTo>
                  <a:lnTo>
                    <a:pt x="71" y="137"/>
                  </a:lnTo>
                  <a:lnTo>
                    <a:pt x="54" y="89"/>
                  </a:lnTo>
                  <a:lnTo>
                    <a:pt x="37" y="42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8" y="50"/>
                  </a:lnTo>
                  <a:lnTo>
                    <a:pt x="35" y="95"/>
                  </a:lnTo>
                  <a:lnTo>
                    <a:pt x="50" y="143"/>
                  </a:lnTo>
                  <a:lnTo>
                    <a:pt x="66" y="193"/>
                  </a:lnTo>
                  <a:lnTo>
                    <a:pt x="81" y="247"/>
                  </a:lnTo>
                  <a:lnTo>
                    <a:pt x="96" y="303"/>
                  </a:lnTo>
                  <a:lnTo>
                    <a:pt x="110" y="361"/>
                  </a:lnTo>
                  <a:lnTo>
                    <a:pt x="122" y="420"/>
                  </a:lnTo>
                  <a:lnTo>
                    <a:pt x="144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>
              <a:off x="3894120" y="1582200"/>
              <a:ext cx="72720" cy="442440"/>
            </a:xfrm>
            <a:custGeom>
              <a:avLst/>
              <a:gdLst/>
              <a:ahLst/>
              <a:rect l="l" t="t" r="r" b="b"/>
              <a:pathLst>
                <a:path w="174" h="1058">
                  <a:moveTo>
                    <a:pt x="98" y="5"/>
                  </a:moveTo>
                  <a:lnTo>
                    <a:pt x="91" y="0"/>
                  </a:lnTo>
                  <a:lnTo>
                    <a:pt x="77" y="1"/>
                  </a:lnTo>
                  <a:lnTo>
                    <a:pt x="59" y="5"/>
                  </a:lnTo>
                  <a:lnTo>
                    <a:pt x="39" y="13"/>
                  </a:lnTo>
                  <a:lnTo>
                    <a:pt x="21" y="22"/>
                  </a:lnTo>
                  <a:lnTo>
                    <a:pt x="7" y="31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23" y="84"/>
                  </a:lnTo>
                  <a:lnTo>
                    <a:pt x="29" y="127"/>
                  </a:lnTo>
                  <a:lnTo>
                    <a:pt x="28" y="176"/>
                  </a:lnTo>
                  <a:lnTo>
                    <a:pt x="21" y="227"/>
                  </a:lnTo>
                  <a:lnTo>
                    <a:pt x="14" y="278"/>
                  </a:lnTo>
                  <a:lnTo>
                    <a:pt x="5" y="329"/>
                  </a:lnTo>
                  <a:lnTo>
                    <a:pt x="1" y="375"/>
                  </a:lnTo>
                  <a:lnTo>
                    <a:pt x="5" y="415"/>
                  </a:lnTo>
                  <a:lnTo>
                    <a:pt x="8" y="419"/>
                  </a:lnTo>
                  <a:lnTo>
                    <a:pt x="17" y="421"/>
                  </a:lnTo>
                  <a:lnTo>
                    <a:pt x="28" y="424"/>
                  </a:lnTo>
                  <a:lnTo>
                    <a:pt x="41" y="425"/>
                  </a:lnTo>
                  <a:lnTo>
                    <a:pt x="55" y="427"/>
                  </a:lnTo>
                  <a:lnTo>
                    <a:pt x="66" y="429"/>
                  </a:lnTo>
                  <a:lnTo>
                    <a:pt x="74" y="434"/>
                  </a:lnTo>
                  <a:lnTo>
                    <a:pt x="77" y="441"/>
                  </a:lnTo>
                  <a:lnTo>
                    <a:pt x="74" y="447"/>
                  </a:lnTo>
                  <a:lnTo>
                    <a:pt x="66" y="451"/>
                  </a:lnTo>
                  <a:lnTo>
                    <a:pt x="55" y="457"/>
                  </a:lnTo>
                  <a:lnTo>
                    <a:pt x="41" y="460"/>
                  </a:lnTo>
                  <a:lnTo>
                    <a:pt x="28" y="466"/>
                  </a:lnTo>
                  <a:lnTo>
                    <a:pt x="18" y="471"/>
                  </a:lnTo>
                  <a:lnTo>
                    <a:pt x="10" y="479"/>
                  </a:lnTo>
                  <a:lnTo>
                    <a:pt x="9" y="487"/>
                  </a:lnTo>
                  <a:lnTo>
                    <a:pt x="19" y="547"/>
                  </a:lnTo>
                  <a:lnTo>
                    <a:pt x="28" y="619"/>
                  </a:lnTo>
                  <a:lnTo>
                    <a:pt x="39" y="699"/>
                  </a:lnTo>
                  <a:lnTo>
                    <a:pt x="54" y="781"/>
                  </a:lnTo>
                  <a:lnTo>
                    <a:pt x="72" y="862"/>
                  </a:lnTo>
                  <a:lnTo>
                    <a:pt x="96" y="939"/>
                  </a:lnTo>
                  <a:lnTo>
                    <a:pt x="128" y="1005"/>
                  </a:lnTo>
                  <a:lnTo>
                    <a:pt x="168" y="1058"/>
                  </a:lnTo>
                  <a:lnTo>
                    <a:pt x="168" y="1033"/>
                  </a:lnTo>
                  <a:lnTo>
                    <a:pt x="168" y="993"/>
                  </a:lnTo>
                  <a:lnTo>
                    <a:pt x="168" y="953"/>
                  </a:lnTo>
                  <a:lnTo>
                    <a:pt x="168" y="930"/>
                  </a:lnTo>
                  <a:lnTo>
                    <a:pt x="167" y="816"/>
                  </a:lnTo>
                  <a:lnTo>
                    <a:pt x="169" y="695"/>
                  </a:lnTo>
                  <a:lnTo>
                    <a:pt x="173" y="571"/>
                  </a:lnTo>
                  <a:lnTo>
                    <a:pt x="174" y="447"/>
                  </a:lnTo>
                  <a:lnTo>
                    <a:pt x="171" y="327"/>
                  </a:lnTo>
                  <a:lnTo>
                    <a:pt x="159" y="212"/>
                  </a:lnTo>
                  <a:lnTo>
                    <a:pt x="136" y="103"/>
                  </a:lnTo>
                  <a:lnTo>
                    <a:pt x="98" y="5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H="1">
              <a:off x="3921480" y="1577880"/>
              <a:ext cx="51480" cy="29160"/>
            </a:xfrm>
            <a:custGeom>
              <a:avLst/>
              <a:gdLst/>
              <a:ahLst/>
              <a:rect l="l" t="t" r="r" b="b"/>
              <a:pathLst>
                <a:path w="119" h="66">
                  <a:moveTo>
                    <a:pt x="21" y="51"/>
                  </a:moveTo>
                  <a:lnTo>
                    <a:pt x="19" y="48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7" y="41"/>
                  </a:lnTo>
                  <a:lnTo>
                    <a:pt x="53" y="33"/>
                  </a:lnTo>
                  <a:lnTo>
                    <a:pt x="72" y="25"/>
                  </a:lnTo>
                  <a:lnTo>
                    <a:pt x="89" y="22"/>
                  </a:lnTo>
                  <a:lnTo>
                    <a:pt x="101" y="21"/>
                  </a:lnTo>
                  <a:lnTo>
                    <a:pt x="100" y="18"/>
                  </a:lnTo>
                  <a:lnTo>
                    <a:pt x="119" y="11"/>
                  </a:lnTo>
                  <a:lnTo>
                    <a:pt x="103" y="0"/>
                  </a:lnTo>
                  <a:lnTo>
                    <a:pt x="87" y="1"/>
                  </a:lnTo>
                  <a:lnTo>
                    <a:pt x="68" y="4"/>
                  </a:lnTo>
                  <a:lnTo>
                    <a:pt x="47" y="14"/>
                  </a:lnTo>
                  <a:lnTo>
                    <a:pt x="28" y="22"/>
                  </a:lnTo>
                  <a:lnTo>
                    <a:pt x="11" y="33"/>
                  </a:lnTo>
                  <a:lnTo>
                    <a:pt x="0" y="47"/>
                  </a:lnTo>
                  <a:lnTo>
                    <a:pt x="8" y="65"/>
                  </a:lnTo>
                  <a:lnTo>
                    <a:pt x="6" y="64"/>
                  </a:lnTo>
                  <a:lnTo>
                    <a:pt x="8" y="65"/>
                  </a:lnTo>
                  <a:lnTo>
                    <a:pt x="16" y="66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19" y="48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H="1">
              <a:off x="3949560" y="1601280"/>
              <a:ext cx="21240" cy="156600"/>
            </a:xfrm>
            <a:custGeom>
              <a:avLst/>
              <a:gdLst/>
              <a:ahLst/>
              <a:rect l="l" t="t" r="r" b="b"/>
              <a:pathLst>
                <a:path w="50" h="377">
                  <a:moveTo>
                    <a:pt x="26" y="373"/>
                  </a:moveTo>
                  <a:lnTo>
                    <a:pt x="26" y="372"/>
                  </a:lnTo>
                  <a:lnTo>
                    <a:pt x="23" y="334"/>
                  </a:lnTo>
                  <a:lnTo>
                    <a:pt x="26" y="289"/>
                  </a:lnTo>
                  <a:lnTo>
                    <a:pt x="34" y="238"/>
                  </a:lnTo>
                  <a:lnTo>
                    <a:pt x="42" y="188"/>
                  </a:lnTo>
                  <a:lnTo>
                    <a:pt x="49" y="135"/>
                  </a:lnTo>
                  <a:lnTo>
                    <a:pt x="50" y="86"/>
                  </a:lnTo>
                  <a:lnTo>
                    <a:pt x="44" y="40"/>
                  </a:lnTo>
                  <a:lnTo>
                    <a:pt x="20" y="0"/>
                  </a:lnTo>
                  <a:lnTo>
                    <a:pt x="5" y="13"/>
                  </a:lnTo>
                  <a:lnTo>
                    <a:pt x="23" y="46"/>
                  </a:lnTo>
                  <a:lnTo>
                    <a:pt x="29" y="86"/>
                  </a:lnTo>
                  <a:lnTo>
                    <a:pt x="28" y="135"/>
                  </a:lnTo>
                  <a:lnTo>
                    <a:pt x="20" y="185"/>
                  </a:lnTo>
                  <a:lnTo>
                    <a:pt x="13" y="236"/>
                  </a:lnTo>
                  <a:lnTo>
                    <a:pt x="5" y="287"/>
                  </a:lnTo>
                  <a:lnTo>
                    <a:pt x="0" y="334"/>
                  </a:lnTo>
                  <a:lnTo>
                    <a:pt x="5" y="377"/>
                  </a:lnTo>
                  <a:lnTo>
                    <a:pt x="5" y="375"/>
                  </a:lnTo>
                  <a:lnTo>
                    <a:pt x="26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H="1">
              <a:off x="3930840" y="1753560"/>
              <a:ext cx="38160" cy="1440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93" y="32"/>
                  </a:moveTo>
                  <a:lnTo>
                    <a:pt x="93" y="32"/>
                  </a:lnTo>
                  <a:lnTo>
                    <a:pt x="86" y="18"/>
                  </a:lnTo>
                  <a:lnTo>
                    <a:pt x="75" y="11"/>
                  </a:lnTo>
                  <a:lnTo>
                    <a:pt x="61" y="7"/>
                  </a:lnTo>
                  <a:lnTo>
                    <a:pt x="47" y="5"/>
                  </a:lnTo>
                  <a:lnTo>
                    <a:pt x="34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21" y="5"/>
                  </a:lnTo>
                  <a:lnTo>
                    <a:pt x="0" y="7"/>
                  </a:lnTo>
                  <a:lnTo>
                    <a:pt x="9" y="19"/>
                  </a:lnTo>
                  <a:lnTo>
                    <a:pt x="20" y="22"/>
                  </a:lnTo>
                  <a:lnTo>
                    <a:pt x="32" y="25"/>
                  </a:lnTo>
                  <a:lnTo>
                    <a:pt x="45" y="26"/>
                  </a:lnTo>
                  <a:lnTo>
                    <a:pt x="59" y="29"/>
                  </a:lnTo>
                  <a:lnTo>
                    <a:pt x="67" y="30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H="1">
              <a:off x="3930840" y="1765800"/>
              <a:ext cx="38160" cy="2052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21" y="46"/>
                  </a:moveTo>
                  <a:lnTo>
                    <a:pt x="21" y="46"/>
                  </a:lnTo>
                  <a:lnTo>
                    <a:pt x="21" y="44"/>
                  </a:lnTo>
                  <a:lnTo>
                    <a:pt x="25" y="40"/>
                  </a:lnTo>
                  <a:lnTo>
                    <a:pt x="35" y="36"/>
                  </a:lnTo>
                  <a:lnTo>
                    <a:pt x="46" y="29"/>
                  </a:lnTo>
                  <a:lnTo>
                    <a:pt x="58" y="27"/>
                  </a:lnTo>
                  <a:lnTo>
                    <a:pt x="72" y="21"/>
                  </a:lnTo>
                  <a:lnTo>
                    <a:pt x="81" y="14"/>
                  </a:lnTo>
                  <a:lnTo>
                    <a:pt x="89" y="1"/>
                  </a:lnTo>
                  <a:lnTo>
                    <a:pt x="67" y="1"/>
                  </a:lnTo>
                  <a:lnTo>
                    <a:pt x="67" y="0"/>
                  </a:lnTo>
                  <a:lnTo>
                    <a:pt x="62" y="3"/>
                  </a:lnTo>
                  <a:lnTo>
                    <a:pt x="53" y="6"/>
                  </a:lnTo>
                  <a:lnTo>
                    <a:pt x="39" y="10"/>
                  </a:lnTo>
                  <a:lnTo>
                    <a:pt x="25" y="17"/>
                  </a:lnTo>
                  <a:lnTo>
                    <a:pt x="14" y="24"/>
                  </a:lnTo>
                  <a:lnTo>
                    <a:pt x="2" y="3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>
              <a:off x="3891960" y="1786680"/>
              <a:ext cx="76680" cy="242280"/>
            </a:xfrm>
            <a:custGeom>
              <a:avLst/>
              <a:gdLst/>
              <a:ahLst/>
              <a:rect l="l" t="t" r="r" b="b"/>
              <a:pathLst>
                <a:path w="179" h="583">
                  <a:moveTo>
                    <a:pt x="158" y="572"/>
                  </a:moveTo>
                  <a:lnTo>
                    <a:pt x="175" y="565"/>
                  </a:lnTo>
                  <a:lnTo>
                    <a:pt x="138" y="514"/>
                  </a:lnTo>
                  <a:lnTo>
                    <a:pt x="106" y="449"/>
                  </a:lnTo>
                  <a:lnTo>
                    <a:pt x="83" y="374"/>
                  </a:lnTo>
                  <a:lnTo>
                    <a:pt x="65" y="294"/>
                  </a:lnTo>
                  <a:lnTo>
                    <a:pt x="51" y="212"/>
                  </a:lnTo>
                  <a:lnTo>
                    <a:pt x="40" y="132"/>
                  </a:lnTo>
                  <a:lnTo>
                    <a:pt x="30" y="60"/>
                  </a:lnTo>
                  <a:lnTo>
                    <a:pt x="21" y="0"/>
                  </a:lnTo>
                  <a:lnTo>
                    <a:pt x="0" y="2"/>
                  </a:lnTo>
                  <a:lnTo>
                    <a:pt x="9" y="62"/>
                  </a:lnTo>
                  <a:lnTo>
                    <a:pt x="19" y="134"/>
                  </a:lnTo>
                  <a:lnTo>
                    <a:pt x="29" y="215"/>
                  </a:lnTo>
                  <a:lnTo>
                    <a:pt x="43" y="296"/>
                  </a:lnTo>
                  <a:lnTo>
                    <a:pt x="62" y="378"/>
                  </a:lnTo>
                  <a:lnTo>
                    <a:pt x="87" y="456"/>
                  </a:lnTo>
                  <a:lnTo>
                    <a:pt x="119" y="524"/>
                  </a:lnTo>
                  <a:lnTo>
                    <a:pt x="161" y="579"/>
                  </a:lnTo>
                  <a:lnTo>
                    <a:pt x="179" y="572"/>
                  </a:lnTo>
                  <a:lnTo>
                    <a:pt x="161" y="579"/>
                  </a:lnTo>
                  <a:lnTo>
                    <a:pt x="169" y="583"/>
                  </a:lnTo>
                  <a:lnTo>
                    <a:pt x="175" y="579"/>
                  </a:lnTo>
                  <a:lnTo>
                    <a:pt x="179" y="572"/>
                  </a:lnTo>
                  <a:lnTo>
                    <a:pt x="175" y="565"/>
                  </a:lnTo>
                  <a:lnTo>
                    <a:pt x="158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H="1">
              <a:off x="3892320" y="1970640"/>
              <a:ext cx="7920" cy="53640"/>
            </a:xfrm>
            <a:custGeom>
              <a:avLst/>
              <a:gdLst/>
              <a:ahLst/>
              <a:rect l="l" t="t" r="r" b="b"/>
              <a:pathLst>
                <a:path w="21" h="128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63"/>
                  </a:lnTo>
                  <a:lnTo>
                    <a:pt x="0" y="103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21" y="103"/>
                  </a:lnTo>
                  <a:lnTo>
                    <a:pt x="21" y="63"/>
                  </a:lnTo>
                  <a:lnTo>
                    <a:pt x="21" y="2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H="1">
              <a:off x="3887280" y="1580400"/>
              <a:ext cx="42840" cy="390240"/>
            </a:xfrm>
            <a:custGeom>
              <a:avLst/>
              <a:gdLst/>
              <a:ahLst/>
              <a:rect l="l" t="t" r="r" b="b"/>
              <a:pathLst>
                <a:path w="96" h="935">
                  <a:moveTo>
                    <a:pt x="0" y="13"/>
                  </a:moveTo>
                  <a:lnTo>
                    <a:pt x="0" y="14"/>
                  </a:lnTo>
                  <a:lnTo>
                    <a:pt x="37" y="110"/>
                  </a:lnTo>
                  <a:lnTo>
                    <a:pt x="60" y="218"/>
                  </a:lnTo>
                  <a:lnTo>
                    <a:pt x="71" y="332"/>
                  </a:lnTo>
                  <a:lnTo>
                    <a:pt x="75" y="452"/>
                  </a:lnTo>
                  <a:lnTo>
                    <a:pt x="74" y="576"/>
                  </a:lnTo>
                  <a:lnTo>
                    <a:pt x="69" y="700"/>
                  </a:lnTo>
                  <a:lnTo>
                    <a:pt x="67" y="821"/>
                  </a:lnTo>
                  <a:lnTo>
                    <a:pt x="68" y="935"/>
                  </a:lnTo>
                  <a:lnTo>
                    <a:pt x="89" y="935"/>
                  </a:lnTo>
                  <a:lnTo>
                    <a:pt x="88" y="821"/>
                  </a:lnTo>
                  <a:lnTo>
                    <a:pt x="90" y="700"/>
                  </a:lnTo>
                  <a:lnTo>
                    <a:pt x="95" y="576"/>
                  </a:lnTo>
                  <a:lnTo>
                    <a:pt x="96" y="452"/>
                  </a:lnTo>
                  <a:lnTo>
                    <a:pt x="93" y="332"/>
                  </a:lnTo>
                  <a:lnTo>
                    <a:pt x="81" y="215"/>
                  </a:lnTo>
                  <a:lnTo>
                    <a:pt x="58" y="106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H="1">
              <a:off x="3685320" y="1223280"/>
              <a:ext cx="427320" cy="450360"/>
            </a:xfrm>
            <a:custGeom>
              <a:avLst/>
              <a:gdLst/>
              <a:ahLst/>
              <a:rect l="l" t="t" r="r" b="b"/>
              <a:pathLst>
                <a:path w="997" h="1084">
                  <a:moveTo>
                    <a:pt x="866" y="316"/>
                  </a:moveTo>
                  <a:lnTo>
                    <a:pt x="854" y="332"/>
                  </a:lnTo>
                  <a:lnTo>
                    <a:pt x="838" y="344"/>
                  </a:lnTo>
                  <a:lnTo>
                    <a:pt x="820" y="353"/>
                  </a:lnTo>
                  <a:lnTo>
                    <a:pt x="801" y="361"/>
                  </a:lnTo>
                  <a:lnTo>
                    <a:pt x="780" y="365"/>
                  </a:lnTo>
                  <a:lnTo>
                    <a:pt x="759" y="368"/>
                  </a:lnTo>
                  <a:lnTo>
                    <a:pt x="737" y="371"/>
                  </a:lnTo>
                  <a:lnTo>
                    <a:pt x="719" y="371"/>
                  </a:lnTo>
                  <a:lnTo>
                    <a:pt x="710" y="402"/>
                  </a:lnTo>
                  <a:lnTo>
                    <a:pt x="699" y="429"/>
                  </a:lnTo>
                  <a:lnTo>
                    <a:pt x="685" y="454"/>
                  </a:lnTo>
                  <a:lnTo>
                    <a:pt x="671" y="476"/>
                  </a:lnTo>
                  <a:lnTo>
                    <a:pt x="653" y="495"/>
                  </a:lnTo>
                  <a:lnTo>
                    <a:pt x="631" y="514"/>
                  </a:lnTo>
                  <a:lnTo>
                    <a:pt x="608" y="530"/>
                  </a:lnTo>
                  <a:lnTo>
                    <a:pt x="581" y="547"/>
                  </a:lnTo>
                  <a:lnTo>
                    <a:pt x="574" y="555"/>
                  </a:lnTo>
                  <a:lnTo>
                    <a:pt x="571" y="567"/>
                  </a:lnTo>
                  <a:lnTo>
                    <a:pt x="570" y="579"/>
                  </a:lnTo>
                  <a:lnTo>
                    <a:pt x="570" y="590"/>
                  </a:lnTo>
                  <a:lnTo>
                    <a:pt x="459" y="958"/>
                  </a:lnTo>
                  <a:lnTo>
                    <a:pt x="455" y="967"/>
                  </a:lnTo>
                  <a:lnTo>
                    <a:pt x="447" y="972"/>
                  </a:lnTo>
                  <a:lnTo>
                    <a:pt x="436" y="977"/>
                  </a:lnTo>
                  <a:lnTo>
                    <a:pt x="421" y="980"/>
                  </a:lnTo>
                  <a:lnTo>
                    <a:pt x="405" y="981"/>
                  </a:lnTo>
                  <a:lnTo>
                    <a:pt x="388" y="981"/>
                  </a:lnTo>
                  <a:lnTo>
                    <a:pt x="369" y="980"/>
                  </a:lnTo>
                  <a:lnTo>
                    <a:pt x="348" y="980"/>
                  </a:lnTo>
                  <a:lnTo>
                    <a:pt x="328" y="978"/>
                  </a:lnTo>
                  <a:lnTo>
                    <a:pt x="308" y="977"/>
                  </a:lnTo>
                  <a:lnTo>
                    <a:pt x="290" y="977"/>
                  </a:lnTo>
                  <a:lnTo>
                    <a:pt x="272" y="977"/>
                  </a:lnTo>
                  <a:lnTo>
                    <a:pt x="256" y="980"/>
                  </a:lnTo>
                  <a:lnTo>
                    <a:pt x="241" y="982"/>
                  </a:lnTo>
                  <a:lnTo>
                    <a:pt x="229" y="987"/>
                  </a:lnTo>
                  <a:lnTo>
                    <a:pt x="221" y="993"/>
                  </a:lnTo>
                  <a:lnTo>
                    <a:pt x="212" y="1003"/>
                  </a:lnTo>
                  <a:lnTo>
                    <a:pt x="206" y="1012"/>
                  </a:lnTo>
                  <a:lnTo>
                    <a:pt x="201" y="1021"/>
                  </a:lnTo>
                  <a:lnTo>
                    <a:pt x="195" y="1029"/>
                  </a:lnTo>
                  <a:lnTo>
                    <a:pt x="191" y="1039"/>
                  </a:lnTo>
                  <a:lnTo>
                    <a:pt x="186" y="1051"/>
                  </a:lnTo>
                  <a:lnTo>
                    <a:pt x="181" y="1066"/>
                  </a:lnTo>
                  <a:lnTo>
                    <a:pt x="173" y="1084"/>
                  </a:lnTo>
                  <a:lnTo>
                    <a:pt x="151" y="1071"/>
                  </a:lnTo>
                  <a:lnTo>
                    <a:pt x="135" y="1059"/>
                  </a:lnTo>
                  <a:lnTo>
                    <a:pt x="128" y="1044"/>
                  </a:lnTo>
                  <a:lnTo>
                    <a:pt x="122" y="1029"/>
                  </a:lnTo>
                  <a:lnTo>
                    <a:pt x="121" y="1012"/>
                  </a:lnTo>
                  <a:lnTo>
                    <a:pt x="120" y="995"/>
                  </a:lnTo>
                  <a:lnTo>
                    <a:pt x="119" y="975"/>
                  </a:lnTo>
                  <a:lnTo>
                    <a:pt x="114" y="953"/>
                  </a:lnTo>
                  <a:lnTo>
                    <a:pt x="103" y="928"/>
                  </a:lnTo>
                  <a:lnTo>
                    <a:pt x="90" y="901"/>
                  </a:lnTo>
                  <a:lnTo>
                    <a:pt x="74" y="877"/>
                  </a:lnTo>
                  <a:lnTo>
                    <a:pt x="58" y="851"/>
                  </a:lnTo>
                  <a:lnTo>
                    <a:pt x="41" y="826"/>
                  </a:lnTo>
                  <a:lnTo>
                    <a:pt x="26" y="801"/>
                  </a:lnTo>
                  <a:lnTo>
                    <a:pt x="13" y="776"/>
                  </a:lnTo>
                  <a:lnTo>
                    <a:pt x="5" y="749"/>
                  </a:lnTo>
                  <a:lnTo>
                    <a:pt x="0" y="717"/>
                  </a:lnTo>
                  <a:lnTo>
                    <a:pt x="2" y="684"/>
                  </a:lnTo>
                  <a:lnTo>
                    <a:pt x="8" y="653"/>
                  </a:lnTo>
                  <a:lnTo>
                    <a:pt x="19" y="623"/>
                  </a:lnTo>
                  <a:lnTo>
                    <a:pt x="33" y="593"/>
                  </a:lnTo>
                  <a:lnTo>
                    <a:pt x="51" y="565"/>
                  </a:lnTo>
                  <a:lnTo>
                    <a:pt x="71" y="536"/>
                  </a:lnTo>
                  <a:lnTo>
                    <a:pt x="92" y="509"/>
                  </a:lnTo>
                  <a:lnTo>
                    <a:pt x="114" y="482"/>
                  </a:lnTo>
                  <a:lnTo>
                    <a:pt x="137" y="455"/>
                  </a:lnTo>
                  <a:lnTo>
                    <a:pt x="159" y="428"/>
                  </a:lnTo>
                  <a:lnTo>
                    <a:pt x="181" y="403"/>
                  </a:lnTo>
                  <a:lnTo>
                    <a:pt x="200" y="377"/>
                  </a:lnTo>
                  <a:lnTo>
                    <a:pt x="215" y="351"/>
                  </a:lnTo>
                  <a:lnTo>
                    <a:pt x="230" y="326"/>
                  </a:lnTo>
                  <a:lnTo>
                    <a:pt x="241" y="301"/>
                  </a:lnTo>
                  <a:lnTo>
                    <a:pt x="243" y="266"/>
                  </a:lnTo>
                  <a:lnTo>
                    <a:pt x="235" y="228"/>
                  </a:lnTo>
                  <a:lnTo>
                    <a:pt x="231" y="192"/>
                  </a:lnTo>
                  <a:lnTo>
                    <a:pt x="234" y="157"/>
                  </a:lnTo>
                  <a:lnTo>
                    <a:pt x="247" y="132"/>
                  </a:lnTo>
                  <a:lnTo>
                    <a:pt x="263" y="110"/>
                  </a:lnTo>
                  <a:lnTo>
                    <a:pt x="280" y="93"/>
                  </a:lnTo>
                  <a:lnTo>
                    <a:pt x="297" y="77"/>
                  </a:lnTo>
                  <a:lnTo>
                    <a:pt x="315" y="65"/>
                  </a:lnTo>
                  <a:lnTo>
                    <a:pt x="335" y="56"/>
                  </a:lnTo>
                  <a:lnTo>
                    <a:pt x="356" y="49"/>
                  </a:lnTo>
                  <a:lnTo>
                    <a:pt x="377" y="43"/>
                  </a:lnTo>
                  <a:lnTo>
                    <a:pt x="398" y="39"/>
                  </a:lnTo>
                  <a:lnTo>
                    <a:pt x="420" y="36"/>
                  </a:lnTo>
                  <a:lnTo>
                    <a:pt x="445" y="32"/>
                  </a:lnTo>
                  <a:lnTo>
                    <a:pt x="467" y="30"/>
                  </a:lnTo>
                  <a:lnTo>
                    <a:pt x="490" y="27"/>
                  </a:lnTo>
                  <a:lnTo>
                    <a:pt x="512" y="24"/>
                  </a:lnTo>
                  <a:lnTo>
                    <a:pt x="536" y="21"/>
                  </a:lnTo>
                  <a:lnTo>
                    <a:pt x="559" y="14"/>
                  </a:lnTo>
                  <a:lnTo>
                    <a:pt x="583" y="9"/>
                  </a:lnTo>
                  <a:lnTo>
                    <a:pt x="608" y="4"/>
                  </a:lnTo>
                  <a:lnTo>
                    <a:pt x="630" y="1"/>
                  </a:lnTo>
                  <a:lnTo>
                    <a:pt x="653" y="0"/>
                  </a:lnTo>
                  <a:lnTo>
                    <a:pt x="674" y="0"/>
                  </a:lnTo>
                  <a:lnTo>
                    <a:pt x="695" y="1"/>
                  </a:lnTo>
                  <a:lnTo>
                    <a:pt x="715" y="3"/>
                  </a:lnTo>
                  <a:lnTo>
                    <a:pt x="735" y="6"/>
                  </a:lnTo>
                  <a:lnTo>
                    <a:pt x="754" y="12"/>
                  </a:lnTo>
                  <a:lnTo>
                    <a:pt x="773" y="19"/>
                  </a:lnTo>
                  <a:lnTo>
                    <a:pt x="793" y="26"/>
                  </a:lnTo>
                  <a:lnTo>
                    <a:pt x="812" y="34"/>
                  </a:lnTo>
                  <a:lnTo>
                    <a:pt x="832" y="45"/>
                  </a:lnTo>
                  <a:lnTo>
                    <a:pt x="852" y="56"/>
                  </a:lnTo>
                  <a:lnTo>
                    <a:pt x="872" y="67"/>
                  </a:lnTo>
                  <a:lnTo>
                    <a:pt x="893" y="81"/>
                  </a:lnTo>
                  <a:lnTo>
                    <a:pt x="914" y="94"/>
                  </a:lnTo>
                  <a:lnTo>
                    <a:pt x="935" y="107"/>
                  </a:lnTo>
                  <a:lnTo>
                    <a:pt x="954" y="123"/>
                  </a:lnTo>
                  <a:lnTo>
                    <a:pt x="967" y="141"/>
                  </a:lnTo>
                  <a:lnTo>
                    <a:pt x="975" y="161"/>
                  </a:lnTo>
                  <a:lnTo>
                    <a:pt x="975" y="182"/>
                  </a:lnTo>
                  <a:lnTo>
                    <a:pt x="965" y="207"/>
                  </a:lnTo>
                  <a:lnTo>
                    <a:pt x="943" y="234"/>
                  </a:lnTo>
                  <a:lnTo>
                    <a:pt x="974" y="269"/>
                  </a:lnTo>
                  <a:lnTo>
                    <a:pt x="991" y="302"/>
                  </a:lnTo>
                  <a:lnTo>
                    <a:pt x="997" y="331"/>
                  </a:lnTo>
                  <a:lnTo>
                    <a:pt x="994" y="359"/>
                  </a:lnTo>
                  <a:lnTo>
                    <a:pt x="983" y="386"/>
                  </a:lnTo>
                  <a:lnTo>
                    <a:pt x="964" y="414"/>
                  </a:lnTo>
                  <a:lnTo>
                    <a:pt x="940" y="440"/>
                  </a:lnTo>
                  <a:lnTo>
                    <a:pt x="913" y="468"/>
                  </a:lnTo>
                  <a:lnTo>
                    <a:pt x="912" y="445"/>
                  </a:lnTo>
                  <a:lnTo>
                    <a:pt x="909" y="424"/>
                  </a:lnTo>
                  <a:lnTo>
                    <a:pt x="905" y="404"/>
                  </a:lnTo>
                  <a:lnTo>
                    <a:pt x="900" y="385"/>
                  </a:lnTo>
                  <a:lnTo>
                    <a:pt x="893" y="367"/>
                  </a:lnTo>
                  <a:lnTo>
                    <a:pt x="885" y="349"/>
                  </a:lnTo>
                  <a:lnTo>
                    <a:pt x="875" y="333"/>
                  </a:lnTo>
                  <a:lnTo>
                    <a:pt x="866" y="316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H="1">
              <a:off x="3736800" y="1352520"/>
              <a:ext cx="70920" cy="29160"/>
            </a:xfrm>
            <a:custGeom>
              <a:avLst/>
              <a:gdLst/>
              <a:ahLst/>
              <a:rect l="l" t="t" r="r" b="b"/>
              <a:pathLst>
                <a:path w="164" h="69">
                  <a:moveTo>
                    <a:pt x="19" y="61"/>
                  </a:moveTo>
                  <a:lnTo>
                    <a:pt x="9" y="69"/>
                  </a:lnTo>
                  <a:lnTo>
                    <a:pt x="27" y="69"/>
                  </a:lnTo>
                  <a:lnTo>
                    <a:pt x="50" y="66"/>
                  </a:lnTo>
                  <a:lnTo>
                    <a:pt x="71" y="62"/>
                  </a:lnTo>
                  <a:lnTo>
                    <a:pt x="94" y="57"/>
                  </a:lnTo>
                  <a:lnTo>
                    <a:pt x="114" y="50"/>
                  </a:lnTo>
                  <a:lnTo>
                    <a:pt x="134" y="40"/>
                  </a:lnTo>
                  <a:lnTo>
                    <a:pt x="151" y="26"/>
                  </a:lnTo>
                  <a:lnTo>
                    <a:pt x="164" y="10"/>
                  </a:lnTo>
                  <a:lnTo>
                    <a:pt x="147" y="0"/>
                  </a:lnTo>
                  <a:lnTo>
                    <a:pt x="138" y="14"/>
                  </a:lnTo>
                  <a:lnTo>
                    <a:pt x="124" y="23"/>
                  </a:lnTo>
                  <a:lnTo>
                    <a:pt x="106" y="33"/>
                  </a:lnTo>
                  <a:lnTo>
                    <a:pt x="88" y="39"/>
                  </a:lnTo>
                  <a:lnTo>
                    <a:pt x="68" y="43"/>
                  </a:lnTo>
                  <a:lnTo>
                    <a:pt x="47" y="47"/>
                  </a:lnTo>
                  <a:lnTo>
                    <a:pt x="27" y="50"/>
                  </a:lnTo>
                  <a:lnTo>
                    <a:pt x="9" y="50"/>
                  </a:lnTo>
                  <a:lnTo>
                    <a:pt x="0" y="56"/>
                  </a:lnTo>
                  <a:lnTo>
                    <a:pt x="9" y="50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9" y="69"/>
                  </a:lnTo>
                  <a:lnTo>
                    <a:pt x="1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>
              <a:off x="3799080" y="1375920"/>
              <a:ext cx="66600" cy="7884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9" y="187"/>
                  </a:moveTo>
                  <a:lnTo>
                    <a:pt x="9" y="187"/>
                  </a:lnTo>
                  <a:lnTo>
                    <a:pt x="35" y="170"/>
                  </a:lnTo>
                  <a:lnTo>
                    <a:pt x="61" y="152"/>
                  </a:lnTo>
                  <a:lnTo>
                    <a:pt x="82" y="134"/>
                  </a:lnTo>
                  <a:lnTo>
                    <a:pt x="101" y="114"/>
                  </a:lnTo>
                  <a:lnTo>
                    <a:pt x="117" y="90"/>
                  </a:lnTo>
                  <a:lnTo>
                    <a:pt x="129" y="66"/>
                  </a:lnTo>
                  <a:lnTo>
                    <a:pt x="141" y="36"/>
                  </a:lnTo>
                  <a:lnTo>
                    <a:pt x="152" y="5"/>
                  </a:lnTo>
                  <a:lnTo>
                    <a:pt x="133" y="0"/>
                  </a:lnTo>
                  <a:lnTo>
                    <a:pt x="124" y="31"/>
                  </a:lnTo>
                  <a:lnTo>
                    <a:pt x="114" y="58"/>
                  </a:lnTo>
                  <a:lnTo>
                    <a:pt x="101" y="80"/>
                  </a:lnTo>
                  <a:lnTo>
                    <a:pt x="86" y="102"/>
                  </a:lnTo>
                  <a:lnTo>
                    <a:pt x="70" y="119"/>
                  </a:lnTo>
                  <a:lnTo>
                    <a:pt x="48" y="138"/>
                  </a:lnTo>
                  <a:lnTo>
                    <a:pt x="26" y="154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9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3861720" y="1446840"/>
              <a:ext cx="10440" cy="2268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19" y="55"/>
                  </a:moveTo>
                  <a:lnTo>
                    <a:pt x="19" y="52"/>
                  </a:lnTo>
                  <a:lnTo>
                    <a:pt x="19" y="41"/>
                  </a:lnTo>
                  <a:lnTo>
                    <a:pt x="20" y="30"/>
                  </a:lnTo>
                  <a:lnTo>
                    <a:pt x="22" y="20"/>
                  </a:lnTo>
                  <a:lnTo>
                    <a:pt x="25" y="17"/>
                  </a:lnTo>
                  <a:lnTo>
                    <a:pt x="16" y="0"/>
                  </a:lnTo>
                  <a:lnTo>
                    <a:pt x="6" y="14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H="1">
              <a:off x="3863520" y="1467720"/>
              <a:ext cx="55800" cy="156600"/>
            </a:xfrm>
            <a:custGeom>
              <a:avLst/>
              <a:gdLst/>
              <a:ahLst/>
              <a:rect l="l" t="t" r="r" b="b"/>
              <a:pathLst>
                <a:path w="130" h="373">
                  <a:moveTo>
                    <a:pt x="19" y="373"/>
                  </a:moveTo>
                  <a:lnTo>
                    <a:pt x="19" y="373"/>
                  </a:lnTo>
                  <a:lnTo>
                    <a:pt x="130" y="5"/>
                  </a:lnTo>
                  <a:lnTo>
                    <a:pt x="111" y="0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19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H="1">
              <a:off x="3911040" y="1621800"/>
              <a:ext cx="109440" cy="18720"/>
            </a:xfrm>
            <a:custGeom>
              <a:avLst/>
              <a:gdLst/>
              <a:ahLst/>
              <a:rect l="l" t="t" r="r" b="b"/>
              <a:pathLst>
                <a:path w="256" h="44">
                  <a:moveTo>
                    <a:pt x="14" y="44"/>
                  </a:moveTo>
                  <a:lnTo>
                    <a:pt x="14" y="44"/>
                  </a:lnTo>
                  <a:lnTo>
                    <a:pt x="20" y="39"/>
                  </a:lnTo>
                  <a:lnTo>
                    <a:pt x="30" y="35"/>
                  </a:lnTo>
                  <a:lnTo>
                    <a:pt x="44" y="33"/>
                  </a:lnTo>
                  <a:lnTo>
                    <a:pt x="59" y="31"/>
                  </a:lnTo>
                  <a:lnTo>
                    <a:pt x="77" y="31"/>
                  </a:lnTo>
                  <a:lnTo>
                    <a:pt x="95" y="31"/>
                  </a:lnTo>
                  <a:lnTo>
                    <a:pt x="115" y="32"/>
                  </a:lnTo>
                  <a:lnTo>
                    <a:pt x="135" y="33"/>
                  </a:lnTo>
                  <a:lnTo>
                    <a:pt x="156" y="33"/>
                  </a:lnTo>
                  <a:lnTo>
                    <a:pt x="175" y="34"/>
                  </a:lnTo>
                  <a:lnTo>
                    <a:pt x="192" y="34"/>
                  </a:lnTo>
                  <a:lnTo>
                    <a:pt x="208" y="33"/>
                  </a:lnTo>
                  <a:lnTo>
                    <a:pt x="225" y="31"/>
                  </a:lnTo>
                  <a:lnTo>
                    <a:pt x="238" y="25"/>
                  </a:lnTo>
                  <a:lnTo>
                    <a:pt x="248" y="16"/>
                  </a:lnTo>
                  <a:lnTo>
                    <a:pt x="256" y="5"/>
                  </a:lnTo>
                  <a:lnTo>
                    <a:pt x="237" y="0"/>
                  </a:lnTo>
                  <a:lnTo>
                    <a:pt x="235" y="5"/>
                  </a:lnTo>
                  <a:lnTo>
                    <a:pt x="228" y="9"/>
                  </a:lnTo>
                  <a:lnTo>
                    <a:pt x="221" y="12"/>
                  </a:lnTo>
                  <a:lnTo>
                    <a:pt x="208" y="14"/>
                  </a:lnTo>
                  <a:lnTo>
                    <a:pt x="192" y="15"/>
                  </a:lnTo>
                  <a:lnTo>
                    <a:pt x="175" y="15"/>
                  </a:lnTo>
                  <a:lnTo>
                    <a:pt x="156" y="14"/>
                  </a:lnTo>
                  <a:lnTo>
                    <a:pt x="135" y="14"/>
                  </a:lnTo>
                  <a:lnTo>
                    <a:pt x="115" y="13"/>
                  </a:lnTo>
                  <a:lnTo>
                    <a:pt x="95" y="12"/>
                  </a:lnTo>
                  <a:lnTo>
                    <a:pt x="77" y="12"/>
                  </a:lnTo>
                  <a:lnTo>
                    <a:pt x="59" y="12"/>
                  </a:lnTo>
                  <a:lnTo>
                    <a:pt x="41" y="14"/>
                  </a:lnTo>
                  <a:lnTo>
                    <a:pt x="26" y="16"/>
                  </a:lnTo>
                  <a:lnTo>
                    <a:pt x="11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H="1">
              <a:off x="4016520" y="1634760"/>
              <a:ext cx="25200" cy="43200"/>
            </a:xfrm>
            <a:custGeom>
              <a:avLst/>
              <a:gdLst/>
              <a:ahLst/>
              <a:rect l="l" t="t" r="r" b="b"/>
              <a:pathLst>
                <a:path w="62" h="105">
                  <a:moveTo>
                    <a:pt x="5" y="105"/>
                  </a:moveTo>
                  <a:lnTo>
                    <a:pt x="17" y="100"/>
                  </a:lnTo>
                  <a:lnTo>
                    <a:pt x="24" y="80"/>
                  </a:lnTo>
                  <a:lnTo>
                    <a:pt x="29" y="68"/>
                  </a:lnTo>
                  <a:lnTo>
                    <a:pt x="35" y="54"/>
                  </a:lnTo>
                  <a:lnTo>
                    <a:pt x="39" y="45"/>
                  </a:lnTo>
                  <a:lnTo>
                    <a:pt x="44" y="38"/>
                  </a:lnTo>
                  <a:lnTo>
                    <a:pt x="48" y="30"/>
                  </a:lnTo>
                  <a:lnTo>
                    <a:pt x="55" y="21"/>
                  </a:lnTo>
                  <a:lnTo>
                    <a:pt x="62" y="12"/>
                  </a:lnTo>
                  <a:lnTo>
                    <a:pt x="48" y="0"/>
                  </a:lnTo>
                  <a:lnTo>
                    <a:pt x="40" y="9"/>
                  </a:lnTo>
                  <a:lnTo>
                    <a:pt x="35" y="20"/>
                  </a:lnTo>
                  <a:lnTo>
                    <a:pt x="27" y="28"/>
                  </a:lnTo>
                  <a:lnTo>
                    <a:pt x="23" y="36"/>
                  </a:lnTo>
                  <a:lnTo>
                    <a:pt x="18" y="46"/>
                  </a:lnTo>
                  <a:lnTo>
                    <a:pt x="13" y="60"/>
                  </a:lnTo>
                  <a:lnTo>
                    <a:pt x="7" y="75"/>
                  </a:lnTo>
                  <a:lnTo>
                    <a:pt x="0" y="93"/>
                  </a:lnTo>
                  <a:lnTo>
                    <a:pt x="11" y="89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5" y="105"/>
                  </a:lnTo>
                  <a:lnTo>
                    <a:pt x="11" y="105"/>
                  </a:lnTo>
                  <a:lnTo>
                    <a:pt x="17" y="100"/>
                  </a:lnTo>
                  <a:lnTo>
                    <a:pt x="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H="1">
              <a:off x="4038120" y="1620000"/>
              <a:ext cx="29520" cy="57960"/>
            </a:xfrm>
            <a:custGeom>
              <a:avLst/>
              <a:gdLst/>
              <a:ahLst/>
              <a:rect l="l" t="t" r="r" b="b"/>
              <a:pathLst>
                <a:path w="71" h="142">
                  <a:moveTo>
                    <a:pt x="0" y="5"/>
                  </a:moveTo>
                  <a:lnTo>
                    <a:pt x="0" y="5"/>
                  </a:lnTo>
                  <a:lnTo>
                    <a:pt x="5" y="25"/>
                  </a:lnTo>
                  <a:lnTo>
                    <a:pt x="6" y="44"/>
                  </a:lnTo>
                  <a:lnTo>
                    <a:pt x="7" y="61"/>
                  </a:lnTo>
                  <a:lnTo>
                    <a:pt x="8" y="79"/>
                  </a:lnTo>
                  <a:lnTo>
                    <a:pt x="14" y="97"/>
                  </a:lnTo>
                  <a:lnTo>
                    <a:pt x="24" y="113"/>
                  </a:lnTo>
                  <a:lnTo>
                    <a:pt x="42" y="128"/>
                  </a:lnTo>
                  <a:lnTo>
                    <a:pt x="65" y="142"/>
                  </a:lnTo>
                  <a:lnTo>
                    <a:pt x="71" y="126"/>
                  </a:lnTo>
                  <a:lnTo>
                    <a:pt x="50" y="113"/>
                  </a:lnTo>
                  <a:lnTo>
                    <a:pt x="38" y="101"/>
                  </a:lnTo>
                  <a:lnTo>
                    <a:pt x="30" y="90"/>
                  </a:lnTo>
                  <a:lnTo>
                    <a:pt x="27" y="77"/>
                  </a:lnTo>
                  <a:lnTo>
                    <a:pt x="26" y="61"/>
                  </a:lnTo>
                  <a:lnTo>
                    <a:pt x="25" y="44"/>
                  </a:lnTo>
                  <a:lnTo>
                    <a:pt x="24" y="2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>
              <a:off x="4059360" y="1534320"/>
              <a:ext cx="55440" cy="87480"/>
            </a:xfrm>
            <a:custGeom>
              <a:avLst/>
              <a:gdLst/>
              <a:ahLst/>
              <a:rect l="l" t="t" r="r" b="b"/>
              <a:pathLst>
                <a:path w="128" h="208">
                  <a:moveTo>
                    <a:pt x="0" y="2"/>
                  </a:moveTo>
                  <a:lnTo>
                    <a:pt x="0" y="2"/>
                  </a:lnTo>
                  <a:lnTo>
                    <a:pt x="9" y="31"/>
                  </a:lnTo>
                  <a:lnTo>
                    <a:pt x="22" y="58"/>
                  </a:lnTo>
                  <a:lnTo>
                    <a:pt x="37" y="83"/>
                  </a:lnTo>
                  <a:lnTo>
                    <a:pt x="54" y="108"/>
                  </a:lnTo>
                  <a:lnTo>
                    <a:pt x="70" y="133"/>
                  </a:lnTo>
                  <a:lnTo>
                    <a:pt x="85" y="159"/>
                  </a:lnTo>
                  <a:lnTo>
                    <a:pt x="100" y="183"/>
                  </a:lnTo>
                  <a:lnTo>
                    <a:pt x="109" y="208"/>
                  </a:lnTo>
                  <a:lnTo>
                    <a:pt x="128" y="203"/>
                  </a:lnTo>
                  <a:lnTo>
                    <a:pt x="116" y="177"/>
                  </a:lnTo>
                  <a:lnTo>
                    <a:pt x="102" y="149"/>
                  </a:lnTo>
                  <a:lnTo>
                    <a:pt x="86" y="124"/>
                  </a:lnTo>
                  <a:lnTo>
                    <a:pt x="70" y="98"/>
                  </a:lnTo>
                  <a:lnTo>
                    <a:pt x="54" y="73"/>
                  </a:lnTo>
                  <a:lnTo>
                    <a:pt x="39" y="49"/>
                  </a:lnTo>
                  <a:lnTo>
                    <a:pt x="25" y="2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4005000" y="1346400"/>
              <a:ext cx="111960" cy="189720"/>
            </a:xfrm>
            <a:custGeom>
              <a:avLst/>
              <a:gdLst/>
              <a:ahLst/>
              <a:rect l="l" t="t" r="r" b="b"/>
              <a:pathLst>
                <a:path w="260" h="453">
                  <a:moveTo>
                    <a:pt x="241" y="0"/>
                  </a:moveTo>
                  <a:lnTo>
                    <a:pt x="242" y="0"/>
                  </a:lnTo>
                  <a:lnTo>
                    <a:pt x="232" y="26"/>
                  </a:lnTo>
                  <a:lnTo>
                    <a:pt x="217" y="49"/>
                  </a:lnTo>
                  <a:lnTo>
                    <a:pt x="202" y="75"/>
                  </a:lnTo>
                  <a:lnTo>
                    <a:pt x="183" y="100"/>
                  </a:lnTo>
                  <a:lnTo>
                    <a:pt x="162" y="126"/>
                  </a:lnTo>
                  <a:lnTo>
                    <a:pt x="140" y="151"/>
                  </a:lnTo>
                  <a:lnTo>
                    <a:pt x="118" y="179"/>
                  </a:lnTo>
                  <a:lnTo>
                    <a:pt x="94" y="206"/>
                  </a:lnTo>
                  <a:lnTo>
                    <a:pt x="73" y="233"/>
                  </a:lnTo>
                  <a:lnTo>
                    <a:pt x="53" y="262"/>
                  </a:lnTo>
                  <a:lnTo>
                    <a:pt x="35" y="291"/>
                  </a:lnTo>
                  <a:lnTo>
                    <a:pt x="21" y="321"/>
                  </a:lnTo>
                  <a:lnTo>
                    <a:pt x="9" y="353"/>
                  </a:lnTo>
                  <a:lnTo>
                    <a:pt x="4" y="386"/>
                  </a:lnTo>
                  <a:lnTo>
                    <a:pt x="0" y="420"/>
                  </a:lnTo>
                  <a:lnTo>
                    <a:pt x="6" y="453"/>
                  </a:lnTo>
                  <a:lnTo>
                    <a:pt x="25" y="451"/>
                  </a:lnTo>
                  <a:lnTo>
                    <a:pt x="19" y="420"/>
                  </a:lnTo>
                  <a:lnTo>
                    <a:pt x="22" y="388"/>
                  </a:lnTo>
                  <a:lnTo>
                    <a:pt x="28" y="358"/>
                  </a:lnTo>
                  <a:lnTo>
                    <a:pt x="37" y="329"/>
                  </a:lnTo>
                  <a:lnTo>
                    <a:pt x="51" y="300"/>
                  </a:lnTo>
                  <a:lnTo>
                    <a:pt x="68" y="272"/>
                  </a:lnTo>
                  <a:lnTo>
                    <a:pt x="88" y="245"/>
                  </a:lnTo>
                  <a:lnTo>
                    <a:pt x="109" y="218"/>
                  </a:lnTo>
                  <a:lnTo>
                    <a:pt x="131" y="190"/>
                  </a:lnTo>
                  <a:lnTo>
                    <a:pt x="154" y="163"/>
                  </a:lnTo>
                  <a:lnTo>
                    <a:pt x="176" y="138"/>
                  </a:lnTo>
                  <a:lnTo>
                    <a:pt x="198" y="111"/>
                  </a:lnTo>
                  <a:lnTo>
                    <a:pt x="216" y="85"/>
                  </a:lnTo>
                  <a:lnTo>
                    <a:pt x="234" y="58"/>
                  </a:lnTo>
                  <a:lnTo>
                    <a:pt x="249" y="32"/>
                  </a:lnTo>
                  <a:lnTo>
                    <a:pt x="259" y="6"/>
                  </a:lnTo>
                  <a:lnTo>
                    <a:pt x="260" y="6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4005360" y="1285920"/>
              <a:ext cx="12960" cy="62280"/>
            </a:xfrm>
            <a:custGeom>
              <a:avLst/>
              <a:gdLst/>
              <a:ahLst/>
              <a:rect l="l" t="t" r="r" b="b"/>
              <a:pathLst>
                <a:path w="30" h="149">
                  <a:moveTo>
                    <a:pt x="4" y="0"/>
                  </a:moveTo>
                  <a:lnTo>
                    <a:pt x="4" y="1"/>
                  </a:lnTo>
                  <a:lnTo>
                    <a:pt x="0" y="38"/>
                  </a:lnTo>
                  <a:lnTo>
                    <a:pt x="4" y="76"/>
                  </a:lnTo>
                  <a:lnTo>
                    <a:pt x="11" y="112"/>
                  </a:lnTo>
                  <a:lnTo>
                    <a:pt x="9" y="143"/>
                  </a:lnTo>
                  <a:lnTo>
                    <a:pt x="28" y="149"/>
                  </a:lnTo>
                  <a:lnTo>
                    <a:pt x="30" y="112"/>
                  </a:lnTo>
                  <a:lnTo>
                    <a:pt x="23" y="73"/>
                  </a:lnTo>
                  <a:lnTo>
                    <a:pt x="19" y="38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>
              <a:off x="3872520" y="1225440"/>
              <a:ext cx="144000" cy="64800"/>
            </a:xfrm>
            <a:custGeom>
              <a:avLst/>
              <a:gdLst/>
              <a:ahLst/>
              <a:rect l="l" t="t" r="r" b="b"/>
              <a:pathLst>
                <a:path w="335" h="156">
                  <a:moveTo>
                    <a:pt x="330" y="0"/>
                  </a:moveTo>
                  <a:lnTo>
                    <a:pt x="330" y="0"/>
                  </a:lnTo>
                  <a:lnTo>
                    <a:pt x="309" y="6"/>
                  </a:lnTo>
                  <a:lnTo>
                    <a:pt x="285" y="9"/>
                  </a:lnTo>
                  <a:lnTo>
                    <a:pt x="263" y="14"/>
                  </a:lnTo>
                  <a:lnTo>
                    <a:pt x="241" y="16"/>
                  </a:lnTo>
                  <a:lnTo>
                    <a:pt x="217" y="18"/>
                  </a:lnTo>
                  <a:lnTo>
                    <a:pt x="193" y="21"/>
                  </a:lnTo>
                  <a:lnTo>
                    <a:pt x="171" y="24"/>
                  </a:lnTo>
                  <a:lnTo>
                    <a:pt x="149" y="28"/>
                  </a:lnTo>
                  <a:lnTo>
                    <a:pt x="128" y="35"/>
                  </a:lnTo>
                  <a:lnTo>
                    <a:pt x="106" y="42"/>
                  </a:lnTo>
                  <a:lnTo>
                    <a:pt x="84" y="52"/>
                  </a:lnTo>
                  <a:lnTo>
                    <a:pt x="65" y="65"/>
                  </a:lnTo>
                  <a:lnTo>
                    <a:pt x="47" y="80"/>
                  </a:lnTo>
                  <a:lnTo>
                    <a:pt x="30" y="99"/>
                  </a:lnTo>
                  <a:lnTo>
                    <a:pt x="14" y="121"/>
                  </a:lnTo>
                  <a:lnTo>
                    <a:pt x="0" y="149"/>
                  </a:lnTo>
                  <a:lnTo>
                    <a:pt x="17" y="156"/>
                  </a:lnTo>
                  <a:lnTo>
                    <a:pt x="30" y="131"/>
                  </a:lnTo>
                  <a:lnTo>
                    <a:pt x="44" y="111"/>
                  </a:lnTo>
                  <a:lnTo>
                    <a:pt x="59" y="95"/>
                  </a:lnTo>
                  <a:lnTo>
                    <a:pt x="77" y="79"/>
                  </a:lnTo>
                  <a:lnTo>
                    <a:pt x="93" y="69"/>
                  </a:lnTo>
                  <a:lnTo>
                    <a:pt x="112" y="59"/>
                  </a:lnTo>
                  <a:lnTo>
                    <a:pt x="132" y="54"/>
                  </a:lnTo>
                  <a:lnTo>
                    <a:pt x="153" y="47"/>
                  </a:lnTo>
                  <a:lnTo>
                    <a:pt x="173" y="42"/>
                  </a:lnTo>
                  <a:lnTo>
                    <a:pt x="195" y="40"/>
                  </a:lnTo>
                  <a:lnTo>
                    <a:pt x="220" y="37"/>
                  </a:lnTo>
                  <a:lnTo>
                    <a:pt x="241" y="35"/>
                  </a:lnTo>
                  <a:lnTo>
                    <a:pt x="265" y="32"/>
                  </a:lnTo>
                  <a:lnTo>
                    <a:pt x="288" y="28"/>
                  </a:lnTo>
                  <a:lnTo>
                    <a:pt x="311" y="25"/>
                  </a:lnTo>
                  <a:lnTo>
                    <a:pt x="335" y="19"/>
                  </a:lnTo>
                  <a:lnTo>
                    <a:pt x="335" y="19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>
              <a:off x="3726000" y="1219320"/>
              <a:ext cx="147960" cy="3960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42" y="82"/>
                  </a:moveTo>
                  <a:lnTo>
                    <a:pt x="342" y="82"/>
                  </a:lnTo>
                  <a:lnTo>
                    <a:pt x="320" y="70"/>
                  </a:lnTo>
                  <a:lnTo>
                    <a:pt x="300" y="57"/>
                  </a:lnTo>
                  <a:lnTo>
                    <a:pt x="279" y="47"/>
                  </a:lnTo>
                  <a:lnTo>
                    <a:pt x="259" y="36"/>
                  </a:lnTo>
                  <a:lnTo>
                    <a:pt x="240" y="29"/>
                  </a:lnTo>
                  <a:lnTo>
                    <a:pt x="219" y="20"/>
                  </a:lnTo>
                  <a:lnTo>
                    <a:pt x="200" y="13"/>
                  </a:lnTo>
                  <a:lnTo>
                    <a:pt x="180" y="6"/>
                  </a:lnTo>
                  <a:lnTo>
                    <a:pt x="160" y="3"/>
                  </a:lnTo>
                  <a:lnTo>
                    <a:pt x="139" y="1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4" y="1"/>
                  </a:lnTo>
                  <a:lnTo>
                    <a:pt x="51" y="4"/>
                  </a:lnTo>
                  <a:lnTo>
                    <a:pt x="26" y="10"/>
                  </a:lnTo>
                  <a:lnTo>
                    <a:pt x="0" y="15"/>
                  </a:lnTo>
                  <a:lnTo>
                    <a:pt x="5" y="34"/>
                  </a:lnTo>
                  <a:lnTo>
                    <a:pt x="28" y="29"/>
                  </a:lnTo>
                  <a:lnTo>
                    <a:pt x="53" y="23"/>
                  </a:lnTo>
                  <a:lnTo>
                    <a:pt x="74" y="20"/>
                  </a:lnTo>
                  <a:lnTo>
                    <a:pt x="97" y="19"/>
                  </a:lnTo>
                  <a:lnTo>
                    <a:pt x="118" y="19"/>
                  </a:lnTo>
                  <a:lnTo>
                    <a:pt x="139" y="20"/>
                  </a:lnTo>
                  <a:lnTo>
                    <a:pt x="158" y="22"/>
                  </a:lnTo>
                  <a:lnTo>
                    <a:pt x="178" y="25"/>
                  </a:lnTo>
                  <a:lnTo>
                    <a:pt x="196" y="32"/>
                  </a:lnTo>
                  <a:lnTo>
                    <a:pt x="215" y="36"/>
                  </a:lnTo>
                  <a:lnTo>
                    <a:pt x="234" y="44"/>
                  </a:lnTo>
                  <a:lnTo>
                    <a:pt x="252" y="53"/>
                  </a:lnTo>
                  <a:lnTo>
                    <a:pt x="272" y="63"/>
                  </a:lnTo>
                  <a:lnTo>
                    <a:pt x="291" y="74"/>
                  </a:lnTo>
                  <a:lnTo>
                    <a:pt x="311" y="86"/>
                  </a:lnTo>
                  <a:lnTo>
                    <a:pt x="332" y="99"/>
                  </a:lnTo>
                  <a:lnTo>
                    <a:pt x="332" y="99"/>
                  </a:lnTo>
                  <a:lnTo>
                    <a:pt x="34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H="1">
              <a:off x="3689640" y="1252800"/>
              <a:ext cx="40680" cy="7092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60" y="156"/>
                  </a:moveTo>
                  <a:lnTo>
                    <a:pt x="60" y="168"/>
                  </a:lnTo>
                  <a:lnTo>
                    <a:pt x="86" y="140"/>
                  </a:lnTo>
                  <a:lnTo>
                    <a:pt x="96" y="111"/>
                  </a:lnTo>
                  <a:lnTo>
                    <a:pt x="96" y="88"/>
                  </a:lnTo>
                  <a:lnTo>
                    <a:pt x="88" y="64"/>
                  </a:lnTo>
                  <a:lnTo>
                    <a:pt x="71" y="45"/>
                  </a:lnTo>
                  <a:lnTo>
                    <a:pt x="52" y="29"/>
                  </a:lnTo>
                  <a:lnTo>
                    <a:pt x="31" y="13"/>
                  </a:lnTo>
                  <a:lnTo>
                    <a:pt x="10" y="0"/>
                  </a:lnTo>
                  <a:lnTo>
                    <a:pt x="0" y="17"/>
                  </a:lnTo>
                  <a:lnTo>
                    <a:pt x="21" y="30"/>
                  </a:lnTo>
                  <a:lnTo>
                    <a:pt x="40" y="43"/>
                  </a:lnTo>
                  <a:lnTo>
                    <a:pt x="59" y="56"/>
                  </a:lnTo>
                  <a:lnTo>
                    <a:pt x="71" y="73"/>
                  </a:lnTo>
                  <a:lnTo>
                    <a:pt x="77" y="90"/>
                  </a:lnTo>
                  <a:lnTo>
                    <a:pt x="77" y="109"/>
                  </a:lnTo>
                  <a:lnTo>
                    <a:pt x="69" y="130"/>
                  </a:lnTo>
                  <a:lnTo>
                    <a:pt x="49" y="156"/>
                  </a:lnTo>
                  <a:lnTo>
                    <a:pt x="49" y="168"/>
                  </a:lnTo>
                  <a:lnTo>
                    <a:pt x="49" y="156"/>
                  </a:lnTo>
                  <a:lnTo>
                    <a:pt x="47" y="162"/>
                  </a:lnTo>
                  <a:lnTo>
                    <a:pt x="50" y="166"/>
                  </a:lnTo>
                  <a:lnTo>
                    <a:pt x="55" y="170"/>
                  </a:lnTo>
                  <a:lnTo>
                    <a:pt x="60" y="168"/>
                  </a:lnTo>
                  <a:lnTo>
                    <a:pt x="6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3681360" y="1317240"/>
              <a:ext cx="42840" cy="104400"/>
            </a:xfrm>
            <a:custGeom>
              <a:avLst/>
              <a:gdLst/>
              <a:ahLst/>
              <a:rect l="l" t="t" r="r" b="b"/>
              <a:pathLst>
                <a:path w="102" h="249">
                  <a:moveTo>
                    <a:pt x="0" y="240"/>
                  </a:moveTo>
                  <a:lnTo>
                    <a:pt x="15" y="247"/>
                  </a:lnTo>
                  <a:lnTo>
                    <a:pt x="43" y="218"/>
                  </a:lnTo>
                  <a:lnTo>
                    <a:pt x="66" y="191"/>
                  </a:lnTo>
                  <a:lnTo>
                    <a:pt x="87" y="163"/>
                  </a:lnTo>
                  <a:lnTo>
                    <a:pt x="98" y="134"/>
                  </a:lnTo>
                  <a:lnTo>
                    <a:pt x="102" y="103"/>
                  </a:lnTo>
                  <a:lnTo>
                    <a:pt x="95" y="70"/>
                  </a:lnTo>
                  <a:lnTo>
                    <a:pt x="76" y="37"/>
                  </a:lnTo>
                  <a:lnTo>
                    <a:pt x="44" y="0"/>
                  </a:lnTo>
                  <a:lnTo>
                    <a:pt x="33" y="12"/>
                  </a:lnTo>
                  <a:lnTo>
                    <a:pt x="62" y="46"/>
                  </a:lnTo>
                  <a:lnTo>
                    <a:pt x="79" y="76"/>
                  </a:lnTo>
                  <a:lnTo>
                    <a:pt x="83" y="103"/>
                  </a:lnTo>
                  <a:lnTo>
                    <a:pt x="80" y="129"/>
                  </a:lnTo>
                  <a:lnTo>
                    <a:pt x="71" y="154"/>
                  </a:lnTo>
                  <a:lnTo>
                    <a:pt x="53" y="179"/>
                  </a:lnTo>
                  <a:lnTo>
                    <a:pt x="29" y="207"/>
                  </a:lnTo>
                  <a:lnTo>
                    <a:pt x="3" y="235"/>
                  </a:lnTo>
                  <a:lnTo>
                    <a:pt x="19" y="240"/>
                  </a:lnTo>
                  <a:lnTo>
                    <a:pt x="3" y="235"/>
                  </a:lnTo>
                  <a:lnTo>
                    <a:pt x="1" y="240"/>
                  </a:lnTo>
                  <a:lnTo>
                    <a:pt x="4" y="246"/>
                  </a:lnTo>
                  <a:lnTo>
                    <a:pt x="9" y="249"/>
                  </a:lnTo>
                  <a:lnTo>
                    <a:pt x="15" y="247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3715560" y="1350720"/>
              <a:ext cx="29880" cy="66600"/>
            </a:xfrm>
            <a:custGeom>
              <a:avLst/>
              <a:gdLst/>
              <a:ahLst/>
              <a:rect l="l" t="t" r="r" b="b"/>
              <a:pathLst>
                <a:path w="67" h="161">
                  <a:moveTo>
                    <a:pt x="18" y="15"/>
                  </a:moveTo>
                  <a:lnTo>
                    <a:pt x="1" y="15"/>
                  </a:lnTo>
                  <a:lnTo>
                    <a:pt x="11" y="31"/>
                  </a:lnTo>
                  <a:lnTo>
                    <a:pt x="20" y="46"/>
                  </a:lnTo>
                  <a:lnTo>
                    <a:pt x="29" y="64"/>
                  </a:lnTo>
                  <a:lnTo>
                    <a:pt x="36" y="80"/>
                  </a:lnTo>
                  <a:lnTo>
                    <a:pt x="39" y="98"/>
                  </a:lnTo>
                  <a:lnTo>
                    <a:pt x="44" y="118"/>
                  </a:lnTo>
                  <a:lnTo>
                    <a:pt x="47" y="138"/>
                  </a:lnTo>
                  <a:lnTo>
                    <a:pt x="48" y="161"/>
                  </a:lnTo>
                  <a:lnTo>
                    <a:pt x="67" y="161"/>
                  </a:lnTo>
                  <a:lnTo>
                    <a:pt x="66" y="138"/>
                  </a:lnTo>
                  <a:lnTo>
                    <a:pt x="63" y="116"/>
                  </a:lnTo>
                  <a:lnTo>
                    <a:pt x="58" y="96"/>
                  </a:lnTo>
                  <a:lnTo>
                    <a:pt x="52" y="76"/>
                  </a:lnTo>
                  <a:lnTo>
                    <a:pt x="46" y="57"/>
                  </a:lnTo>
                  <a:lnTo>
                    <a:pt x="37" y="39"/>
                  </a:lnTo>
                  <a:lnTo>
                    <a:pt x="28" y="21"/>
                  </a:lnTo>
                  <a:lnTo>
                    <a:pt x="18" y="5"/>
                  </a:lnTo>
                  <a:lnTo>
                    <a:pt x="1" y="5"/>
                  </a:lnTo>
                  <a:lnTo>
                    <a:pt x="18" y="5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7"/>
                  </a:lnTo>
                  <a:lnTo>
                    <a:pt x="1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H="1">
              <a:off x="3751920" y="1433880"/>
              <a:ext cx="25560" cy="3096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43" y="0"/>
                  </a:moveTo>
                  <a:lnTo>
                    <a:pt x="52" y="11"/>
                  </a:lnTo>
                  <a:lnTo>
                    <a:pt x="58" y="24"/>
                  </a:lnTo>
                  <a:lnTo>
                    <a:pt x="61" y="38"/>
                  </a:lnTo>
                  <a:lnTo>
                    <a:pt x="58" y="51"/>
                  </a:lnTo>
                  <a:lnTo>
                    <a:pt x="52" y="63"/>
                  </a:lnTo>
                  <a:lnTo>
                    <a:pt x="43" y="71"/>
                  </a:lnTo>
                  <a:lnTo>
                    <a:pt x="28" y="74"/>
                  </a:lnTo>
                  <a:lnTo>
                    <a:pt x="11" y="72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2" y="53"/>
                  </a:lnTo>
                  <a:lnTo>
                    <a:pt x="10" y="44"/>
                  </a:lnTo>
                  <a:lnTo>
                    <a:pt x="17" y="33"/>
                  </a:lnTo>
                  <a:lnTo>
                    <a:pt x="27" y="23"/>
                  </a:lnTo>
                  <a:lnTo>
                    <a:pt x="36" y="1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3722040" y="1446840"/>
              <a:ext cx="10440" cy="2484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12" y="0"/>
                  </a:moveTo>
                  <a:lnTo>
                    <a:pt x="5" y="14"/>
                  </a:lnTo>
                  <a:lnTo>
                    <a:pt x="1" y="30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1"/>
                  </a:lnTo>
                  <a:lnTo>
                    <a:pt x="7" y="61"/>
                  </a:lnTo>
                  <a:lnTo>
                    <a:pt x="10" y="60"/>
                  </a:lnTo>
                  <a:lnTo>
                    <a:pt x="13" y="58"/>
                  </a:lnTo>
                  <a:lnTo>
                    <a:pt x="24" y="40"/>
                  </a:lnTo>
                  <a:lnTo>
                    <a:pt x="25" y="24"/>
                  </a:lnTo>
                  <a:lnTo>
                    <a:pt x="20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>
              <a:off x="3471120" y="2135520"/>
              <a:ext cx="212400" cy="239760"/>
            </a:xfrm>
            <a:custGeom>
              <a:avLst/>
              <a:gdLst/>
              <a:ahLst/>
              <a:rect l="l" t="t" r="r" b="b"/>
              <a:pathLst>
                <a:path w="496" h="574">
                  <a:moveTo>
                    <a:pt x="181" y="25"/>
                  </a:moveTo>
                  <a:lnTo>
                    <a:pt x="170" y="37"/>
                  </a:lnTo>
                  <a:lnTo>
                    <a:pt x="160" y="49"/>
                  </a:lnTo>
                  <a:lnTo>
                    <a:pt x="153" y="63"/>
                  </a:lnTo>
                  <a:lnTo>
                    <a:pt x="149" y="80"/>
                  </a:lnTo>
                  <a:lnTo>
                    <a:pt x="145" y="98"/>
                  </a:lnTo>
                  <a:lnTo>
                    <a:pt x="144" y="118"/>
                  </a:lnTo>
                  <a:lnTo>
                    <a:pt x="146" y="139"/>
                  </a:lnTo>
                  <a:lnTo>
                    <a:pt x="150" y="161"/>
                  </a:lnTo>
                  <a:lnTo>
                    <a:pt x="151" y="178"/>
                  </a:lnTo>
                  <a:lnTo>
                    <a:pt x="148" y="197"/>
                  </a:lnTo>
                  <a:lnTo>
                    <a:pt x="143" y="214"/>
                  </a:lnTo>
                  <a:lnTo>
                    <a:pt x="137" y="232"/>
                  </a:lnTo>
                  <a:lnTo>
                    <a:pt x="132" y="249"/>
                  </a:lnTo>
                  <a:lnTo>
                    <a:pt x="131" y="264"/>
                  </a:lnTo>
                  <a:lnTo>
                    <a:pt x="133" y="276"/>
                  </a:lnTo>
                  <a:lnTo>
                    <a:pt x="143" y="286"/>
                  </a:lnTo>
                  <a:lnTo>
                    <a:pt x="150" y="289"/>
                  </a:lnTo>
                  <a:lnTo>
                    <a:pt x="156" y="290"/>
                  </a:lnTo>
                  <a:lnTo>
                    <a:pt x="164" y="289"/>
                  </a:lnTo>
                  <a:lnTo>
                    <a:pt x="171" y="288"/>
                  </a:lnTo>
                  <a:lnTo>
                    <a:pt x="176" y="286"/>
                  </a:lnTo>
                  <a:lnTo>
                    <a:pt x="184" y="282"/>
                  </a:lnTo>
                  <a:lnTo>
                    <a:pt x="190" y="279"/>
                  </a:lnTo>
                  <a:lnTo>
                    <a:pt x="194" y="277"/>
                  </a:lnTo>
                  <a:lnTo>
                    <a:pt x="213" y="267"/>
                  </a:lnTo>
                  <a:lnTo>
                    <a:pt x="230" y="251"/>
                  </a:lnTo>
                  <a:lnTo>
                    <a:pt x="245" y="232"/>
                  </a:lnTo>
                  <a:lnTo>
                    <a:pt x="260" y="211"/>
                  </a:lnTo>
                  <a:lnTo>
                    <a:pt x="273" y="190"/>
                  </a:lnTo>
                  <a:lnTo>
                    <a:pt x="288" y="170"/>
                  </a:lnTo>
                  <a:lnTo>
                    <a:pt x="305" y="153"/>
                  </a:lnTo>
                  <a:lnTo>
                    <a:pt x="324" y="141"/>
                  </a:lnTo>
                  <a:lnTo>
                    <a:pt x="329" y="140"/>
                  </a:lnTo>
                  <a:lnTo>
                    <a:pt x="336" y="142"/>
                  </a:lnTo>
                  <a:lnTo>
                    <a:pt x="341" y="146"/>
                  </a:lnTo>
                  <a:lnTo>
                    <a:pt x="343" y="151"/>
                  </a:lnTo>
                  <a:lnTo>
                    <a:pt x="342" y="180"/>
                  </a:lnTo>
                  <a:lnTo>
                    <a:pt x="339" y="212"/>
                  </a:lnTo>
                  <a:lnTo>
                    <a:pt x="334" y="247"/>
                  </a:lnTo>
                  <a:lnTo>
                    <a:pt x="326" y="279"/>
                  </a:lnTo>
                  <a:lnTo>
                    <a:pt x="317" y="313"/>
                  </a:lnTo>
                  <a:lnTo>
                    <a:pt x="305" y="343"/>
                  </a:lnTo>
                  <a:lnTo>
                    <a:pt x="291" y="370"/>
                  </a:lnTo>
                  <a:lnTo>
                    <a:pt x="275" y="391"/>
                  </a:lnTo>
                  <a:lnTo>
                    <a:pt x="265" y="398"/>
                  </a:lnTo>
                  <a:lnTo>
                    <a:pt x="252" y="400"/>
                  </a:lnTo>
                  <a:lnTo>
                    <a:pt x="239" y="400"/>
                  </a:lnTo>
                  <a:lnTo>
                    <a:pt x="223" y="398"/>
                  </a:lnTo>
                  <a:lnTo>
                    <a:pt x="205" y="392"/>
                  </a:lnTo>
                  <a:lnTo>
                    <a:pt x="186" y="388"/>
                  </a:lnTo>
                  <a:lnTo>
                    <a:pt x="168" y="381"/>
                  </a:lnTo>
                  <a:lnTo>
                    <a:pt x="148" y="373"/>
                  </a:lnTo>
                  <a:lnTo>
                    <a:pt x="127" y="368"/>
                  </a:lnTo>
                  <a:lnTo>
                    <a:pt x="107" y="362"/>
                  </a:lnTo>
                  <a:lnTo>
                    <a:pt x="88" y="358"/>
                  </a:lnTo>
                  <a:lnTo>
                    <a:pt x="69" y="354"/>
                  </a:lnTo>
                  <a:lnTo>
                    <a:pt x="50" y="354"/>
                  </a:lnTo>
                  <a:lnTo>
                    <a:pt x="33" y="358"/>
                  </a:lnTo>
                  <a:lnTo>
                    <a:pt x="19" y="363"/>
                  </a:lnTo>
                  <a:lnTo>
                    <a:pt x="6" y="372"/>
                  </a:lnTo>
                  <a:lnTo>
                    <a:pt x="1" y="381"/>
                  </a:lnTo>
                  <a:lnTo>
                    <a:pt x="0" y="391"/>
                  </a:lnTo>
                  <a:lnTo>
                    <a:pt x="5" y="404"/>
                  </a:lnTo>
                  <a:lnTo>
                    <a:pt x="12" y="420"/>
                  </a:lnTo>
                  <a:lnTo>
                    <a:pt x="22" y="435"/>
                  </a:lnTo>
                  <a:lnTo>
                    <a:pt x="37" y="450"/>
                  </a:lnTo>
                  <a:lnTo>
                    <a:pt x="52" y="468"/>
                  </a:lnTo>
                  <a:lnTo>
                    <a:pt x="70" y="484"/>
                  </a:lnTo>
                  <a:lnTo>
                    <a:pt x="89" y="501"/>
                  </a:lnTo>
                  <a:lnTo>
                    <a:pt x="108" y="516"/>
                  </a:lnTo>
                  <a:lnTo>
                    <a:pt x="128" y="531"/>
                  </a:lnTo>
                  <a:lnTo>
                    <a:pt x="146" y="544"/>
                  </a:lnTo>
                  <a:lnTo>
                    <a:pt x="165" y="555"/>
                  </a:lnTo>
                  <a:lnTo>
                    <a:pt x="183" y="565"/>
                  </a:lnTo>
                  <a:lnTo>
                    <a:pt x="197" y="571"/>
                  </a:lnTo>
                  <a:lnTo>
                    <a:pt x="212" y="574"/>
                  </a:lnTo>
                  <a:lnTo>
                    <a:pt x="216" y="573"/>
                  </a:lnTo>
                  <a:lnTo>
                    <a:pt x="223" y="571"/>
                  </a:lnTo>
                  <a:lnTo>
                    <a:pt x="229" y="566"/>
                  </a:lnTo>
                  <a:lnTo>
                    <a:pt x="235" y="561"/>
                  </a:lnTo>
                  <a:lnTo>
                    <a:pt x="243" y="556"/>
                  </a:lnTo>
                  <a:lnTo>
                    <a:pt x="248" y="552"/>
                  </a:lnTo>
                  <a:lnTo>
                    <a:pt x="253" y="549"/>
                  </a:lnTo>
                  <a:lnTo>
                    <a:pt x="256" y="546"/>
                  </a:lnTo>
                  <a:lnTo>
                    <a:pt x="405" y="391"/>
                  </a:lnTo>
                  <a:lnTo>
                    <a:pt x="415" y="383"/>
                  </a:lnTo>
                  <a:lnTo>
                    <a:pt x="427" y="373"/>
                  </a:lnTo>
                  <a:lnTo>
                    <a:pt x="440" y="362"/>
                  </a:lnTo>
                  <a:lnTo>
                    <a:pt x="456" y="349"/>
                  </a:lnTo>
                  <a:lnTo>
                    <a:pt x="470" y="336"/>
                  </a:lnTo>
                  <a:lnTo>
                    <a:pt x="484" y="323"/>
                  </a:lnTo>
                  <a:lnTo>
                    <a:pt x="491" y="311"/>
                  </a:lnTo>
                  <a:lnTo>
                    <a:pt x="496" y="299"/>
                  </a:lnTo>
                  <a:lnTo>
                    <a:pt x="496" y="277"/>
                  </a:lnTo>
                  <a:lnTo>
                    <a:pt x="488" y="244"/>
                  </a:lnTo>
                  <a:lnTo>
                    <a:pt x="479" y="211"/>
                  </a:lnTo>
                  <a:lnTo>
                    <a:pt x="472" y="189"/>
                  </a:lnTo>
                  <a:lnTo>
                    <a:pt x="468" y="172"/>
                  </a:lnTo>
                  <a:lnTo>
                    <a:pt x="458" y="147"/>
                  </a:lnTo>
                  <a:lnTo>
                    <a:pt x="446" y="117"/>
                  </a:lnTo>
                  <a:lnTo>
                    <a:pt x="430" y="85"/>
                  </a:lnTo>
                  <a:lnTo>
                    <a:pt x="414" y="53"/>
                  </a:lnTo>
                  <a:lnTo>
                    <a:pt x="397" y="27"/>
                  </a:lnTo>
                  <a:lnTo>
                    <a:pt x="382" y="8"/>
                  </a:lnTo>
                  <a:lnTo>
                    <a:pt x="369" y="0"/>
                  </a:lnTo>
                  <a:lnTo>
                    <a:pt x="358" y="1"/>
                  </a:lnTo>
                  <a:lnTo>
                    <a:pt x="347" y="4"/>
                  </a:lnTo>
                  <a:lnTo>
                    <a:pt x="336" y="5"/>
                  </a:lnTo>
                  <a:lnTo>
                    <a:pt x="324" y="7"/>
                  </a:lnTo>
                  <a:lnTo>
                    <a:pt x="313" y="8"/>
                  </a:lnTo>
                  <a:lnTo>
                    <a:pt x="302" y="10"/>
                  </a:lnTo>
                  <a:lnTo>
                    <a:pt x="288" y="11"/>
                  </a:lnTo>
                  <a:lnTo>
                    <a:pt x="277" y="12"/>
                  </a:lnTo>
                  <a:lnTo>
                    <a:pt x="265" y="15"/>
                  </a:lnTo>
                  <a:lnTo>
                    <a:pt x="253" y="16"/>
                  </a:lnTo>
                  <a:lnTo>
                    <a:pt x="241" y="18"/>
                  </a:lnTo>
                  <a:lnTo>
                    <a:pt x="229" y="19"/>
                  </a:lnTo>
                  <a:lnTo>
                    <a:pt x="216" y="21"/>
                  </a:lnTo>
                  <a:lnTo>
                    <a:pt x="204" y="22"/>
                  </a:lnTo>
                  <a:lnTo>
                    <a:pt x="192" y="24"/>
                  </a:lnTo>
                  <a:lnTo>
                    <a:pt x="181" y="25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3604680" y="2144160"/>
              <a:ext cx="23040" cy="59760"/>
            </a:xfrm>
            <a:custGeom>
              <a:avLst/>
              <a:gdLst/>
              <a:ahLst/>
              <a:rect l="l" t="t" r="r" b="b"/>
              <a:pathLst>
                <a:path w="55" h="147">
                  <a:moveTo>
                    <a:pt x="27" y="144"/>
                  </a:moveTo>
                  <a:lnTo>
                    <a:pt x="27" y="143"/>
                  </a:lnTo>
                  <a:lnTo>
                    <a:pt x="23" y="122"/>
                  </a:lnTo>
                  <a:lnTo>
                    <a:pt x="21" y="102"/>
                  </a:lnTo>
                  <a:lnTo>
                    <a:pt x="22" y="83"/>
                  </a:lnTo>
                  <a:lnTo>
                    <a:pt x="26" y="66"/>
                  </a:lnTo>
                  <a:lnTo>
                    <a:pt x="30" y="51"/>
                  </a:lnTo>
                  <a:lnTo>
                    <a:pt x="37" y="37"/>
                  </a:lnTo>
                  <a:lnTo>
                    <a:pt x="45" y="27"/>
                  </a:lnTo>
                  <a:lnTo>
                    <a:pt x="55" y="16"/>
                  </a:lnTo>
                  <a:lnTo>
                    <a:pt x="40" y="0"/>
                  </a:lnTo>
                  <a:lnTo>
                    <a:pt x="29" y="13"/>
                  </a:lnTo>
                  <a:lnTo>
                    <a:pt x="18" y="29"/>
                  </a:lnTo>
                  <a:lnTo>
                    <a:pt x="11" y="44"/>
                  </a:lnTo>
                  <a:lnTo>
                    <a:pt x="5" y="62"/>
                  </a:lnTo>
                  <a:lnTo>
                    <a:pt x="1" y="81"/>
                  </a:lnTo>
                  <a:lnTo>
                    <a:pt x="0" y="102"/>
                  </a:lnTo>
                  <a:lnTo>
                    <a:pt x="2" y="124"/>
                  </a:lnTo>
                  <a:lnTo>
                    <a:pt x="6" y="147"/>
                  </a:lnTo>
                  <a:lnTo>
                    <a:pt x="6" y="146"/>
                  </a:lnTo>
                  <a:lnTo>
                    <a:pt x="27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>
              <a:off x="3614760" y="2202120"/>
              <a:ext cx="16920" cy="56160"/>
            </a:xfrm>
            <a:custGeom>
              <a:avLst/>
              <a:gdLst/>
              <a:ahLst/>
              <a:rect l="l" t="t" r="r" b="b"/>
              <a:pathLst>
                <a:path w="42" h="134">
                  <a:moveTo>
                    <a:pt x="29" y="116"/>
                  </a:moveTo>
                  <a:lnTo>
                    <a:pt x="28" y="116"/>
                  </a:lnTo>
                  <a:lnTo>
                    <a:pt x="23" y="111"/>
                  </a:lnTo>
                  <a:lnTo>
                    <a:pt x="21" y="104"/>
                  </a:lnTo>
                  <a:lnTo>
                    <a:pt x="23" y="90"/>
                  </a:lnTo>
                  <a:lnTo>
                    <a:pt x="28" y="74"/>
                  </a:lnTo>
                  <a:lnTo>
                    <a:pt x="33" y="57"/>
                  </a:lnTo>
                  <a:lnTo>
                    <a:pt x="38" y="39"/>
                  </a:lnTo>
                  <a:lnTo>
                    <a:pt x="42" y="18"/>
                  </a:lnTo>
                  <a:lnTo>
                    <a:pt x="40" y="0"/>
                  </a:lnTo>
                  <a:lnTo>
                    <a:pt x="19" y="2"/>
                  </a:lnTo>
                  <a:lnTo>
                    <a:pt x="20" y="18"/>
                  </a:lnTo>
                  <a:lnTo>
                    <a:pt x="17" y="34"/>
                  </a:lnTo>
                  <a:lnTo>
                    <a:pt x="12" y="52"/>
                  </a:lnTo>
                  <a:lnTo>
                    <a:pt x="7" y="70"/>
                  </a:lnTo>
                  <a:lnTo>
                    <a:pt x="1" y="88"/>
                  </a:lnTo>
                  <a:lnTo>
                    <a:pt x="0" y="104"/>
                  </a:lnTo>
                  <a:lnTo>
                    <a:pt x="4" y="120"/>
                  </a:lnTo>
                  <a:lnTo>
                    <a:pt x="18" y="134"/>
                  </a:lnTo>
                  <a:lnTo>
                    <a:pt x="17" y="134"/>
                  </a:lnTo>
                  <a:lnTo>
                    <a:pt x="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3599640" y="2248200"/>
              <a:ext cx="25560" cy="1440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54" y="0"/>
                  </a:moveTo>
                  <a:lnTo>
                    <a:pt x="54" y="0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26" y="10"/>
                  </a:lnTo>
                  <a:lnTo>
                    <a:pt x="19" y="11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26"/>
                  </a:lnTo>
                  <a:lnTo>
                    <a:pt x="11" y="31"/>
                  </a:lnTo>
                  <a:lnTo>
                    <a:pt x="19" y="33"/>
                  </a:lnTo>
                  <a:lnTo>
                    <a:pt x="28" y="31"/>
                  </a:lnTo>
                  <a:lnTo>
                    <a:pt x="36" y="30"/>
                  </a:lnTo>
                  <a:lnTo>
                    <a:pt x="44" y="26"/>
                  </a:lnTo>
                  <a:lnTo>
                    <a:pt x="51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>
              <a:off x="3539880" y="2192040"/>
              <a:ext cx="61560" cy="64800"/>
            </a:xfrm>
            <a:custGeom>
              <a:avLst/>
              <a:gdLst/>
              <a:ahLst/>
              <a:rect l="l" t="t" r="r" b="b"/>
              <a:pathLst>
                <a:path w="143" h="156">
                  <a:moveTo>
                    <a:pt x="131" y="0"/>
                  </a:moveTo>
                  <a:lnTo>
                    <a:pt x="130" y="1"/>
                  </a:lnTo>
                  <a:lnTo>
                    <a:pt x="108" y="14"/>
                  </a:lnTo>
                  <a:lnTo>
                    <a:pt x="90" y="31"/>
                  </a:lnTo>
                  <a:lnTo>
                    <a:pt x="74" y="52"/>
                  </a:lnTo>
                  <a:lnTo>
                    <a:pt x="60" y="73"/>
                  </a:lnTo>
                  <a:lnTo>
                    <a:pt x="46" y="96"/>
                  </a:lnTo>
                  <a:lnTo>
                    <a:pt x="32" y="113"/>
                  </a:lnTo>
                  <a:lnTo>
                    <a:pt x="16" y="127"/>
                  </a:lnTo>
                  <a:lnTo>
                    <a:pt x="0" y="137"/>
                  </a:lnTo>
                  <a:lnTo>
                    <a:pt x="6" y="156"/>
                  </a:lnTo>
                  <a:lnTo>
                    <a:pt x="29" y="143"/>
                  </a:lnTo>
                  <a:lnTo>
                    <a:pt x="46" y="127"/>
                  </a:lnTo>
                  <a:lnTo>
                    <a:pt x="62" y="107"/>
                  </a:lnTo>
                  <a:lnTo>
                    <a:pt x="76" y="86"/>
                  </a:lnTo>
                  <a:lnTo>
                    <a:pt x="91" y="65"/>
                  </a:lnTo>
                  <a:lnTo>
                    <a:pt x="106" y="46"/>
                  </a:lnTo>
                  <a:lnTo>
                    <a:pt x="120" y="30"/>
                  </a:lnTo>
                  <a:lnTo>
                    <a:pt x="136" y="20"/>
                  </a:lnTo>
                  <a:lnTo>
                    <a:pt x="135" y="21"/>
                  </a:lnTo>
                  <a:lnTo>
                    <a:pt x="136" y="20"/>
                  </a:lnTo>
                  <a:lnTo>
                    <a:pt x="143" y="14"/>
                  </a:lnTo>
                  <a:lnTo>
                    <a:pt x="143" y="7"/>
                  </a:lnTo>
                  <a:lnTo>
                    <a:pt x="137" y="1"/>
                  </a:lnTo>
                  <a:lnTo>
                    <a:pt x="13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3531240" y="2189880"/>
              <a:ext cx="14760" cy="140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2"/>
                  </a:moveTo>
                  <a:lnTo>
                    <a:pt x="32" y="21"/>
                  </a:lnTo>
                  <a:lnTo>
                    <a:pt x="26" y="10"/>
                  </a:lnTo>
                  <a:lnTo>
                    <a:pt x="19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4" y="23"/>
                  </a:lnTo>
                  <a:lnTo>
                    <a:pt x="7" y="22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4" y="30"/>
                  </a:lnTo>
                  <a:lnTo>
                    <a:pt x="22" y="32"/>
                  </a:lnTo>
                  <a:lnTo>
                    <a:pt x="30" y="29"/>
                  </a:lnTo>
                  <a:lnTo>
                    <a:pt x="32" y="21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>
              <a:off x="3531600" y="2200320"/>
              <a:ext cx="38160" cy="104040"/>
            </a:xfrm>
            <a:custGeom>
              <a:avLst/>
              <a:gdLst/>
              <a:ahLst/>
              <a:rect l="l" t="t" r="r" b="b"/>
              <a:pathLst>
                <a:path w="90" h="251">
                  <a:moveTo>
                    <a:pt x="18" y="248"/>
                  </a:moveTo>
                  <a:lnTo>
                    <a:pt x="18" y="248"/>
                  </a:lnTo>
                  <a:lnTo>
                    <a:pt x="37" y="226"/>
                  </a:lnTo>
                  <a:lnTo>
                    <a:pt x="51" y="196"/>
                  </a:lnTo>
                  <a:lnTo>
                    <a:pt x="63" y="165"/>
                  </a:lnTo>
                  <a:lnTo>
                    <a:pt x="73" y="131"/>
                  </a:lnTo>
                  <a:lnTo>
                    <a:pt x="80" y="97"/>
                  </a:lnTo>
                  <a:lnTo>
                    <a:pt x="86" y="62"/>
                  </a:lnTo>
                  <a:lnTo>
                    <a:pt x="89" y="29"/>
                  </a:lnTo>
                  <a:lnTo>
                    <a:pt x="90" y="0"/>
                  </a:lnTo>
                  <a:lnTo>
                    <a:pt x="69" y="0"/>
                  </a:lnTo>
                  <a:lnTo>
                    <a:pt x="68" y="29"/>
                  </a:lnTo>
                  <a:lnTo>
                    <a:pt x="64" y="60"/>
                  </a:lnTo>
                  <a:lnTo>
                    <a:pt x="59" y="95"/>
                  </a:lnTo>
                  <a:lnTo>
                    <a:pt x="52" y="126"/>
                  </a:lnTo>
                  <a:lnTo>
                    <a:pt x="42" y="160"/>
                  </a:lnTo>
                  <a:lnTo>
                    <a:pt x="32" y="189"/>
                  </a:lnTo>
                  <a:lnTo>
                    <a:pt x="18" y="21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0" y="240"/>
                  </a:lnTo>
                  <a:lnTo>
                    <a:pt x="3" y="248"/>
                  </a:lnTo>
                  <a:lnTo>
                    <a:pt x="11" y="251"/>
                  </a:lnTo>
                  <a:lnTo>
                    <a:pt x="18" y="248"/>
                  </a:lnTo>
                  <a:lnTo>
                    <a:pt x="18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H="1">
              <a:off x="3562920" y="2279520"/>
              <a:ext cx="122040" cy="26640"/>
            </a:xfrm>
            <a:custGeom>
              <a:avLst/>
              <a:gdLst/>
              <a:ahLst/>
              <a:rect l="l" t="t" r="r" b="b"/>
              <a:pathLst>
                <a:path w="286" h="66">
                  <a:moveTo>
                    <a:pt x="17" y="36"/>
                  </a:moveTo>
                  <a:lnTo>
                    <a:pt x="17" y="36"/>
                  </a:lnTo>
                  <a:lnTo>
                    <a:pt x="27" y="28"/>
                  </a:lnTo>
                  <a:lnTo>
                    <a:pt x="40" y="24"/>
                  </a:lnTo>
                  <a:lnTo>
                    <a:pt x="54" y="21"/>
                  </a:lnTo>
                  <a:lnTo>
                    <a:pt x="73" y="21"/>
                  </a:lnTo>
                  <a:lnTo>
                    <a:pt x="91" y="24"/>
                  </a:lnTo>
                  <a:lnTo>
                    <a:pt x="107" y="28"/>
                  </a:lnTo>
                  <a:lnTo>
                    <a:pt x="128" y="35"/>
                  </a:lnTo>
                  <a:lnTo>
                    <a:pt x="149" y="40"/>
                  </a:lnTo>
                  <a:lnTo>
                    <a:pt x="168" y="46"/>
                  </a:lnTo>
                  <a:lnTo>
                    <a:pt x="188" y="55"/>
                  </a:lnTo>
                  <a:lnTo>
                    <a:pt x="207" y="59"/>
                  </a:lnTo>
                  <a:lnTo>
                    <a:pt x="226" y="64"/>
                  </a:lnTo>
                  <a:lnTo>
                    <a:pt x="243" y="66"/>
                  </a:lnTo>
                  <a:lnTo>
                    <a:pt x="256" y="66"/>
                  </a:lnTo>
                  <a:lnTo>
                    <a:pt x="272" y="63"/>
                  </a:lnTo>
                  <a:lnTo>
                    <a:pt x="286" y="55"/>
                  </a:lnTo>
                  <a:lnTo>
                    <a:pt x="271" y="40"/>
                  </a:lnTo>
                  <a:lnTo>
                    <a:pt x="266" y="44"/>
                  </a:lnTo>
                  <a:lnTo>
                    <a:pt x="256" y="45"/>
                  </a:lnTo>
                  <a:lnTo>
                    <a:pt x="243" y="45"/>
                  </a:lnTo>
                  <a:lnTo>
                    <a:pt x="228" y="43"/>
                  </a:lnTo>
                  <a:lnTo>
                    <a:pt x="211" y="38"/>
                  </a:lnTo>
                  <a:lnTo>
                    <a:pt x="193" y="34"/>
                  </a:lnTo>
                  <a:lnTo>
                    <a:pt x="175" y="27"/>
                  </a:lnTo>
                  <a:lnTo>
                    <a:pt x="154" y="19"/>
                  </a:lnTo>
                  <a:lnTo>
                    <a:pt x="133" y="14"/>
                  </a:lnTo>
                  <a:lnTo>
                    <a:pt x="113" y="7"/>
                  </a:lnTo>
                  <a:lnTo>
                    <a:pt x="93" y="3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35" y="3"/>
                  </a:lnTo>
                  <a:lnTo>
                    <a:pt x="19" y="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3" y="36"/>
                  </a:lnTo>
                  <a:lnTo>
                    <a:pt x="10" y="39"/>
                  </a:lnTo>
                  <a:lnTo>
                    <a:pt x="17" y="36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3593520" y="2287800"/>
              <a:ext cx="94320" cy="91800"/>
            </a:xfrm>
            <a:custGeom>
              <a:avLst/>
              <a:gdLst/>
              <a:ahLst/>
              <a:rect l="l" t="t" r="r" b="b"/>
              <a:pathLst>
                <a:path w="224" h="220">
                  <a:moveTo>
                    <a:pt x="223" y="198"/>
                  </a:moveTo>
                  <a:lnTo>
                    <a:pt x="224" y="198"/>
                  </a:lnTo>
                  <a:lnTo>
                    <a:pt x="212" y="195"/>
                  </a:lnTo>
                  <a:lnTo>
                    <a:pt x="199" y="190"/>
                  </a:lnTo>
                  <a:lnTo>
                    <a:pt x="181" y="181"/>
                  </a:lnTo>
                  <a:lnTo>
                    <a:pt x="163" y="171"/>
                  </a:lnTo>
                  <a:lnTo>
                    <a:pt x="144" y="157"/>
                  </a:lnTo>
                  <a:lnTo>
                    <a:pt x="124" y="144"/>
                  </a:lnTo>
                  <a:lnTo>
                    <a:pt x="106" y="128"/>
                  </a:lnTo>
                  <a:lnTo>
                    <a:pt x="88" y="112"/>
                  </a:lnTo>
                  <a:lnTo>
                    <a:pt x="70" y="96"/>
                  </a:lnTo>
                  <a:lnTo>
                    <a:pt x="55" y="78"/>
                  </a:lnTo>
                  <a:lnTo>
                    <a:pt x="42" y="64"/>
                  </a:lnTo>
                  <a:lnTo>
                    <a:pt x="32" y="50"/>
                  </a:lnTo>
                  <a:lnTo>
                    <a:pt x="26" y="36"/>
                  </a:lnTo>
                  <a:lnTo>
                    <a:pt x="22" y="25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10" y="0"/>
                  </a:lnTo>
                  <a:lnTo>
                    <a:pt x="1" y="14"/>
                  </a:lnTo>
                  <a:lnTo>
                    <a:pt x="0" y="27"/>
                  </a:lnTo>
                  <a:lnTo>
                    <a:pt x="7" y="43"/>
                  </a:lnTo>
                  <a:lnTo>
                    <a:pt x="13" y="59"/>
                  </a:lnTo>
                  <a:lnTo>
                    <a:pt x="26" y="76"/>
                  </a:lnTo>
                  <a:lnTo>
                    <a:pt x="39" y="93"/>
                  </a:lnTo>
                  <a:lnTo>
                    <a:pt x="55" y="110"/>
                  </a:lnTo>
                  <a:lnTo>
                    <a:pt x="73" y="128"/>
                  </a:lnTo>
                  <a:lnTo>
                    <a:pt x="92" y="145"/>
                  </a:lnTo>
                  <a:lnTo>
                    <a:pt x="112" y="159"/>
                  </a:lnTo>
                  <a:lnTo>
                    <a:pt x="132" y="174"/>
                  </a:lnTo>
                  <a:lnTo>
                    <a:pt x="151" y="188"/>
                  </a:lnTo>
                  <a:lnTo>
                    <a:pt x="171" y="200"/>
                  </a:lnTo>
                  <a:lnTo>
                    <a:pt x="189" y="209"/>
                  </a:lnTo>
                  <a:lnTo>
                    <a:pt x="206" y="216"/>
                  </a:lnTo>
                  <a:lnTo>
                    <a:pt x="222" y="220"/>
                  </a:lnTo>
                  <a:lnTo>
                    <a:pt x="223" y="220"/>
                  </a:lnTo>
                  <a:lnTo>
                    <a:pt x="223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>
              <a:off x="3571920" y="2360880"/>
              <a:ext cx="21240" cy="1872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6" y="0"/>
                  </a:moveTo>
                  <a:lnTo>
                    <a:pt x="36" y="0"/>
                  </a:lnTo>
                  <a:lnTo>
                    <a:pt x="34" y="1"/>
                  </a:lnTo>
                  <a:lnTo>
                    <a:pt x="31" y="4"/>
                  </a:lnTo>
                  <a:lnTo>
                    <a:pt x="25" y="10"/>
                  </a:lnTo>
                  <a:lnTo>
                    <a:pt x="18" y="13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46"/>
                  </a:lnTo>
                  <a:lnTo>
                    <a:pt x="8" y="45"/>
                  </a:lnTo>
                  <a:lnTo>
                    <a:pt x="15" y="41"/>
                  </a:lnTo>
                  <a:lnTo>
                    <a:pt x="22" y="35"/>
                  </a:lnTo>
                  <a:lnTo>
                    <a:pt x="30" y="32"/>
                  </a:lnTo>
                  <a:lnTo>
                    <a:pt x="36" y="26"/>
                  </a:lnTo>
                  <a:lnTo>
                    <a:pt x="42" y="21"/>
                  </a:lnTo>
                  <a:lnTo>
                    <a:pt x="49" y="1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>
              <a:off x="3507120" y="2296080"/>
              <a:ext cx="70920" cy="7092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50" y="0"/>
                  </a:moveTo>
                  <a:lnTo>
                    <a:pt x="150" y="0"/>
                  </a:lnTo>
                  <a:lnTo>
                    <a:pt x="0" y="155"/>
                  </a:lnTo>
                  <a:lnTo>
                    <a:pt x="15" y="169"/>
                  </a:lnTo>
                  <a:lnTo>
                    <a:pt x="165" y="15"/>
                  </a:lnTo>
                  <a:lnTo>
                    <a:pt x="165" y="15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>
              <a:off x="3466440" y="2260440"/>
              <a:ext cx="47160" cy="4212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88" y="0"/>
                  </a:moveTo>
                  <a:lnTo>
                    <a:pt x="88" y="1"/>
                  </a:lnTo>
                  <a:lnTo>
                    <a:pt x="84" y="10"/>
                  </a:lnTo>
                  <a:lnTo>
                    <a:pt x="77" y="19"/>
                  </a:lnTo>
                  <a:lnTo>
                    <a:pt x="66" y="32"/>
                  </a:lnTo>
                  <a:lnTo>
                    <a:pt x="51" y="44"/>
                  </a:lnTo>
                  <a:lnTo>
                    <a:pt x="36" y="56"/>
                  </a:lnTo>
                  <a:lnTo>
                    <a:pt x="22" y="68"/>
                  </a:lnTo>
                  <a:lnTo>
                    <a:pt x="10" y="77"/>
                  </a:lnTo>
                  <a:lnTo>
                    <a:pt x="0" y="87"/>
                  </a:lnTo>
                  <a:lnTo>
                    <a:pt x="15" y="102"/>
                  </a:lnTo>
                  <a:lnTo>
                    <a:pt x="23" y="94"/>
                  </a:lnTo>
                  <a:lnTo>
                    <a:pt x="35" y="85"/>
                  </a:lnTo>
                  <a:lnTo>
                    <a:pt x="50" y="73"/>
                  </a:lnTo>
                  <a:lnTo>
                    <a:pt x="66" y="61"/>
                  </a:lnTo>
                  <a:lnTo>
                    <a:pt x="79" y="46"/>
                  </a:lnTo>
                  <a:lnTo>
                    <a:pt x="93" y="33"/>
                  </a:lnTo>
                  <a:lnTo>
                    <a:pt x="103" y="19"/>
                  </a:lnTo>
                  <a:lnTo>
                    <a:pt x="109" y="4"/>
                  </a:lnTo>
                  <a:lnTo>
                    <a:pt x="109" y="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H="1">
              <a:off x="3467160" y="2214720"/>
              <a:ext cx="18720" cy="48240"/>
            </a:xfrm>
            <a:custGeom>
              <a:avLst/>
              <a:gdLst/>
              <a:ahLst/>
              <a:rect l="l" t="t" r="r" b="b"/>
              <a:pathLst>
                <a:path w="46" h="116">
                  <a:moveTo>
                    <a:pt x="0" y="4"/>
                  </a:moveTo>
                  <a:lnTo>
                    <a:pt x="0" y="5"/>
                  </a:lnTo>
                  <a:lnTo>
                    <a:pt x="8" y="27"/>
                  </a:lnTo>
                  <a:lnTo>
                    <a:pt x="16" y="61"/>
                  </a:lnTo>
                  <a:lnTo>
                    <a:pt x="25" y="92"/>
                  </a:lnTo>
                  <a:lnTo>
                    <a:pt x="25" y="111"/>
                  </a:lnTo>
                  <a:lnTo>
                    <a:pt x="46" y="116"/>
                  </a:lnTo>
                  <a:lnTo>
                    <a:pt x="46" y="90"/>
                  </a:lnTo>
                  <a:lnTo>
                    <a:pt x="37" y="55"/>
                  </a:lnTo>
                  <a:lnTo>
                    <a:pt x="29" y="23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>
              <a:off x="3475080" y="2131200"/>
              <a:ext cx="55800" cy="83160"/>
            </a:xfrm>
            <a:custGeom>
              <a:avLst/>
              <a:gdLst/>
              <a:ahLst/>
              <a:rect l="l" t="t" r="r" b="b"/>
              <a:pathLst>
                <a:path w="126" h="201">
                  <a:moveTo>
                    <a:pt x="12" y="21"/>
                  </a:moveTo>
                  <a:lnTo>
                    <a:pt x="9" y="21"/>
                  </a:lnTo>
                  <a:lnTo>
                    <a:pt x="17" y="26"/>
                  </a:lnTo>
                  <a:lnTo>
                    <a:pt x="31" y="43"/>
                  </a:lnTo>
                  <a:lnTo>
                    <a:pt x="46" y="70"/>
                  </a:lnTo>
                  <a:lnTo>
                    <a:pt x="62" y="100"/>
                  </a:lnTo>
                  <a:lnTo>
                    <a:pt x="78" y="131"/>
                  </a:lnTo>
                  <a:lnTo>
                    <a:pt x="91" y="162"/>
                  </a:lnTo>
                  <a:lnTo>
                    <a:pt x="99" y="187"/>
                  </a:lnTo>
                  <a:lnTo>
                    <a:pt x="103" y="201"/>
                  </a:lnTo>
                  <a:lnTo>
                    <a:pt x="126" y="199"/>
                  </a:lnTo>
                  <a:lnTo>
                    <a:pt x="120" y="180"/>
                  </a:lnTo>
                  <a:lnTo>
                    <a:pt x="110" y="154"/>
                  </a:lnTo>
                  <a:lnTo>
                    <a:pt x="97" y="124"/>
                  </a:lnTo>
                  <a:lnTo>
                    <a:pt x="81" y="91"/>
                  </a:lnTo>
                  <a:lnTo>
                    <a:pt x="65" y="60"/>
                  </a:lnTo>
                  <a:lnTo>
                    <a:pt x="47" y="32"/>
                  </a:lnTo>
                  <a:lnTo>
                    <a:pt x="31" y="1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9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>
              <a:off x="3524760" y="2131200"/>
              <a:ext cx="85680" cy="1872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18" y="43"/>
                  </a:moveTo>
                  <a:lnTo>
                    <a:pt x="12" y="46"/>
                  </a:lnTo>
                  <a:lnTo>
                    <a:pt x="22" y="45"/>
                  </a:lnTo>
                  <a:lnTo>
                    <a:pt x="34" y="43"/>
                  </a:lnTo>
                  <a:lnTo>
                    <a:pt x="49" y="42"/>
                  </a:lnTo>
                  <a:lnTo>
                    <a:pt x="60" y="40"/>
                  </a:lnTo>
                  <a:lnTo>
                    <a:pt x="71" y="39"/>
                  </a:lnTo>
                  <a:lnTo>
                    <a:pt x="83" y="38"/>
                  </a:lnTo>
                  <a:lnTo>
                    <a:pt x="96" y="37"/>
                  </a:lnTo>
                  <a:lnTo>
                    <a:pt x="108" y="35"/>
                  </a:lnTo>
                  <a:lnTo>
                    <a:pt x="118" y="33"/>
                  </a:lnTo>
                  <a:lnTo>
                    <a:pt x="133" y="32"/>
                  </a:lnTo>
                  <a:lnTo>
                    <a:pt x="144" y="30"/>
                  </a:lnTo>
                  <a:lnTo>
                    <a:pt x="155" y="29"/>
                  </a:lnTo>
                  <a:lnTo>
                    <a:pt x="167" y="26"/>
                  </a:lnTo>
                  <a:lnTo>
                    <a:pt x="178" y="25"/>
                  </a:lnTo>
                  <a:lnTo>
                    <a:pt x="189" y="22"/>
                  </a:lnTo>
                  <a:lnTo>
                    <a:pt x="200" y="21"/>
                  </a:lnTo>
                  <a:lnTo>
                    <a:pt x="197" y="0"/>
                  </a:lnTo>
                  <a:lnTo>
                    <a:pt x="187" y="1"/>
                  </a:lnTo>
                  <a:lnTo>
                    <a:pt x="176" y="3"/>
                  </a:lnTo>
                  <a:lnTo>
                    <a:pt x="165" y="5"/>
                  </a:lnTo>
                  <a:lnTo>
                    <a:pt x="153" y="7"/>
                  </a:lnTo>
                  <a:lnTo>
                    <a:pt x="141" y="8"/>
                  </a:lnTo>
                  <a:lnTo>
                    <a:pt x="131" y="11"/>
                  </a:lnTo>
                  <a:lnTo>
                    <a:pt x="118" y="12"/>
                  </a:lnTo>
                  <a:lnTo>
                    <a:pt x="106" y="13"/>
                  </a:lnTo>
                  <a:lnTo>
                    <a:pt x="94" y="16"/>
                  </a:lnTo>
                  <a:lnTo>
                    <a:pt x="83" y="17"/>
                  </a:lnTo>
                  <a:lnTo>
                    <a:pt x="71" y="18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4" y="22"/>
                  </a:lnTo>
                  <a:lnTo>
                    <a:pt x="22" y="23"/>
                  </a:lnTo>
                  <a:lnTo>
                    <a:pt x="9" y="25"/>
                  </a:lnTo>
                  <a:lnTo>
                    <a:pt x="3" y="27"/>
                  </a:lnTo>
                  <a:lnTo>
                    <a:pt x="9" y="25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12" y="46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H="1">
              <a:off x="3619080" y="2254320"/>
              <a:ext cx="16920" cy="45720"/>
            </a:xfrm>
            <a:custGeom>
              <a:avLst/>
              <a:gdLst/>
              <a:ahLst/>
              <a:rect l="l" t="t" r="r" b="b"/>
              <a:pathLst>
                <a:path w="37" h="108">
                  <a:moveTo>
                    <a:pt x="23" y="101"/>
                  </a:moveTo>
                  <a:lnTo>
                    <a:pt x="23" y="101"/>
                  </a:lnTo>
                  <a:lnTo>
                    <a:pt x="19" y="78"/>
                  </a:lnTo>
                  <a:lnTo>
                    <a:pt x="21" y="52"/>
                  </a:lnTo>
                  <a:lnTo>
                    <a:pt x="28" y="28"/>
                  </a:lnTo>
                  <a:lnTo>
                    <a:pt x="37" y="9"/>
                  </a:lnTo>
                  <a:lnTo>
                    <a:pt x="20" y="0"/>
                  </a:lnTo>
                  <a:lnTo>
                    <a:pt x="9" y="24"/>
                  </a:lnTo>
                  <a:lnTo>
                    <a:pt x="2" y="49"/>
                  </a:lnTo>
                  <a:lnTo>
                    <a:pt x="0" y="78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23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H="1">
              <a:off x="3552840" y="2296080"/>
              <a:ext cx="79200" cy="29160"/>
            </a:xfrm>
            <a:custGeom>
              <a:avLst/>
              <a:gdLst/>
              <a:ahLst/>
              <a:rect l="l" t="t" r="r" b="b"/>
              <a:pathLst>
                <a:path w="187" h="69">
                  <a:moveTo>
                    <a:pt x="180" y="25"/>
                  </a:moveTo>
                  <a:lnTo>
                    <a:pt x="180" y="25"/>
                  </a:lnTo>
                  <a:lnTo>
                    <a:pt x="156" y="34"/>
                  </a:lnTo>
                  <a:lnTo>
                    <a:pt x="131" y="42"/>
                  </a:lnTo>
                  <a:lnTo>
                    <a:pt x="106" y="48"/>
                  </a:lnTo>
                  <a:lnTo>
                    <a:pt x="84" y="50"/>
                  </a:lnTo>
                  <a:lnTo>
                    <a:pt x="64" y="46"/>
                  </a:lnTo>
                  <a:lnTo>
                    <a:pt x="46" y="38"/>
                  </a:lnTo>
                  <a:lnTo>
                    <a:pt x="30" y="24"/>
                  </a:lnTo>
                  <a:lnTo>
                    <a:pt x="16" y="0"/>
                  </a:lnTo>
                  <a:lnTo>
                    <a:pt x="0" y="7"/>
                  </a:lnTo>
                  <a:lnTo>
                    <a:pt x="15" y="36"/>
                  </a:lnTo>
                  <a:lnTo>
                    <a:pt x="36" y="55"/>
                  </a:lnTo>
                  <a:lnTo>
                    <a:pt x="59" y="65"/>
                  </a:lnTo>
                  <a:lnTo>
                    <a:pt x="84" y="69"/>
                  </a:lnTo>
                  <a:lnTo>
                    <a:pt x="108" y="67"/>
                  </a:lnTo>
                  <a:lnTo>
                    <a:pt x="135" y="60"/>
                  </a:lnTo>
                  <a:lnTo>
                    <a:pt x="161" y="53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H="1">
              <a:off x="3510000" y="2239560"/>
              <a:ext cx="44640" cy="75240"/>
            </a:xfrm>
            <a:custGeom>
              <a:avLst/>
              <a:gdLst/>
              <a:ahLst/>
              <a:rect l="l" t="t" r="r" b="b"/>
              <a:pathLst>
                <a:path w="106" h="179">
                  <a:moveTo>
                    <a:pt x="87" y="0"/>
                  </a:moveTo>
                  <a:lnTo>
                    <a:pt x="87" y="0"/>
                  </a:lnTo>
                  <a:lnTo>
                    <a:pt x="81" y="21"/>
                  </a:lnTo>
                  <a:lnTo>
                    <a:pt x="76" y="44"/>
                  </a:lnTo>
                  <a:lnTo>
                    <a:pt x="67" y="69"/>
                  </a:lnTo>
                  <a:lnTo>
                    <a:pt x="59" y="93"/>
                  </a:lnTo>
                  <a:lnTo>
                    <a:pt x="47" y="115"/>
                  </a:lnTo>
                  <a:lnTo>
                    <a:pt x="35" y="135"/>
                  </a:lnTo>
                  <a:lnTo>
                    <a:pt x="19" y="152"/>
                  </a:lnTo>
                  <a:lnTo>
                    <a:pt x="0" y="162"/>
                  </a:lnTo>
                  <a:lnTo>
                    <a:pt x="7" y="179"/>
                  </a:lnTo>
                  <a:lnTo>
                    <a:pt x="30" y="166"/>
                  </a:lnTo>
                  <a:lnTo>
                    <a:pt x="48" y="147"/>
                  </a:lnTo>
                  <a:lnTo>
                    <a:pt x="64" y="124"/>
                  </a:lnTo>
                  <a:lnTo>
                    <a:pt x="76" y="100"/>
                  </a:lnTo>
                  <a:lnTo>
                    <a:pt x="86" y="74"/>
                  </a:lnTo>
                  <a:lnTo>
                    <a:pt x="95" y="49"/>
                  </a:lnTo>
                  <a:lnTo>
                    <a:pt x="100" y="2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>
              <a:off x="3504960" y="2193840"/>
              <a:ext cx="16920" cy="48240"/>
            </a:xfrm>
            <a:custGeom>
              <a:avLst/>
              <a:gdLst/>
              <a:ahLst/>
              <a:rect l="l" t="t" r="r" b="b"/>
              <a:pathLst>
                <a:path w="40" h="114">
                  <a:moveTo>
                    <a:pt x="0" y="19"/>
                  </a:moveTo>
                  <a:lnTo>
                    <a:pt x="0" y="19"/>
                  </a:lnTo>
                  <a:lnTo>
                    <a:pt x="11" y="23"/>
                  </a:lnTo>
                  <a:lnTo>
                    <a:pt x="17" y="31"/>
                  </a:lnTo>
                  <a:lnTo>
                    <a:pt x="20" y="40"/>
                  </a:lnTo>
                  <a:lnTo>
                    <a:pt x="21" y="53"/>
                  </a:lnTo>
                  <a:lnTo>
                    <a:pt x="19" y="66"/>
                  </a:lnTo>
                  <a:lnTo>
                    <a:pt x="16" y="82"/>
                  </a:lnTo>
                  <a:lnTo>
                    <a:pt x="12" y="98"/>
                  </a:lnTo>
                  <a:lnTo>
                    <a:pt x="8" y="110"/>
                  </a:lnTo>
                  <a:lnTo>
                    <a:pt x="27" y="114"/>
                  </a:lnTo>
                  <a:lnTo>
                    <a:pt x="31" y="100"/>
                  </a:lnTo>
                  <a:lnTo>
                    <a:pt x="35" y="84"/>
                  </a:lnTo>
                  <a:lnTo>
                    <a:pt x="38" y="70"/>
                  </a:lnTo>
                  <a:lnTo>
                    <a:pt x="40" y="53"/>
                  </a:lnTo>
                  <a:lnTo>
                    <a:pt x="39" y="38"/>
                  </a:lnTo>
                  <a:lnTo>
                    <a:pt x="33" y="21"/>
                  </a:lnTo>
                  <a:lnTo>
                    <a:pt x="22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H="1">
              <a:off x="3520440" y="2189880"/>
              <a:ext cx="25560" cy="1224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6" y="20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4" y="19"/>
                  </a:lnTo>
                  <a:lnTo>
                    <a:pt x="32" y="20"/>
                  </a:lnTo>
                  <a:lnTo>
                    <a:pt x="38" y="23"/>
                  </a:lnTo>
                  <a:lnTo>
                    <a:pt x="45" y="25"/>
                  </a:lnTo>
                  <a:lnTo>
                    <a:pt x="52" y="28"/>
                  </a:lnTo>
                  <a:lnTo>
                    <a:pt x="57" y="29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1" y="7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H="1">
              <a:off x="3543840" y="2192040"/>
              <a:ext cx="28080" cy="2664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16" y="68"/>
                  </a:moveTo>
                  <a:lnTo>
                    <a:pt x="16" y="68"/>
                  </a:lnTo>
                  <a:lnTo>
                    <a:pt x="20" y="62"/>
                  </a:lnTo>
                  <a:lnTo>
                    <a:pt x="24" y="57"/>
                  </a:lnTo>
                  <a:lnTo>
                    <a:pt x="30" y="48"/>
                  </a:lnTo>
                  <a:lnTo>
                    <a:pt x="36" y="41"/>
                  </a:lnTo>
                  <a:lnTo>
                    <a:pt x="43" y="34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6" y="16"/>
                  </a:lnTo>
                  <a:lnTo>
                    <a:pt x="60" y="0"/>
                  </a:lnTo>
                  <a:lnTo>
                    <a:pt x="48" y="6"/>
                  </a:lnTo>
                  <a:lnTo>
                    <a:pt x="40" y="13"/>
                  </a:lnTo>
                  <a:lnTo>
                    <a:pt x="31" y="20"/>
                  </a:lnTo>
                  <a:lnTo>
                    <a:pt x="22" y="29"/>
                  </a:lnTo>
                  <a:lnTo>
                    <a:pt x="16" y="37"/>
                  </a:lnTo>
                  <a:lnTo>
                    <a:pt x="10" y="45"/>
                  </a:lnTo>
                  <a:lnTo>
                    <a:pt x="3" y="53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H="1">
              <a:off x="3565080" y="2216880"/>
              <a:ext cx="62280" cy="43200"/>
            </a:xfrm>
            <a:custGeom>
              <a:avLst/>
              <a:gdLst/>
              <a:ahLst/>
              <a:rect l="l" t="t" r="r" b="b"/>
              <a:pathLst>
                <a:path w="145" h="107">
                  <a:moveTo>
                    <a:pt x="17" y="102"/>
                  </a:moveTo>
                  <a:lnTo>
                    <a:pt x="7" y="107"/>
                  </a:lnTo>
                  <a:lnTo>
                    <a:pt x="28" y="107"/>
                  </a:lnTo>
                  <a:lnTo>
                    <a:pt x="50" y="102"/>
                  </a:lnTo>
                  <a:lnTo>
                    <a:pt x="70" y="93"/>
                  </a:lnTo>
                  <a:lnTo>
                    <a:pt x="88" y="79"/>
                  </a:lnTo>
                  <a:lnTo>
                    <a:pt x="103" y="65"/>
                  </a:lnTo>
                  <a:lnTo>
                    <a:pt x="119" y="47"/>
                  </a:lnTo>
                  <a:lnTo>
                    <a:pt x="133" y="28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116" y="19"/>
                  </a:lnTo>
                  <a:lnTo>
                    <a:pt x="105" y="36"/>
                  </a:lnTo>
                  <a:lnTo>
                    <a:pt x="90" y="50"/>
                  </a:lnTo>
                  <a:lnTo>
                    <a:pt x="75" y="65"/>
                  </a:lnTo>
                  <a:lnTo>
                    <a:pt x="60" y="77"/>
                  </a:lnTo>
                  <a:lnTo>
                    <a:pt x="44" y="83"/>
                  </a:lnTo>
                  <a:lnTo>
                    <a:pt x="28" y="88"/>
                  </a:lnTo>
                  <a:lnTo>
                    <a:pt x="9" y="88"/>
                  </a:lnTo>
                  <a:lnTo>
                    <a:pt x="0" y="93"/>
                  </a:lnTo>
                  <a:lnTo>
                    <a:pt x="9" y="88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7" y="107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9" name=""/>
          <p:cNvGrpSpPr/>
          <p:nvPr/>
        </p:nvGrpSpPr>
        <p:grpSpPr>
          <a:xfrm>
            <a:off x="609480" y="2971800"/>
            <a:ext cx="457200" cy="1186920"/>
            <a:chOff x="609480" y="2971800"/>
            <a:chExt cx="457200" cy="1186920"/>
          </a:xfrm>
        </p:grpSpPr>
        <p:sp>
          <p:nvSpPr>
            <p:cNvPr id="1600" name=""/>
            <p:cNvSpPr/>
            <p:nvPr/>
          </p:nvSpPr>
          <p:spPr>
            <a:xfrm>
              <a:off x="609480" y="4002120"/>
              <a:ext cx="457200" cy="15660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1" name=""/>
            <p:cNvGrpSpPr/>
            <p:nvPr/>
          </p:nvGrpSpPr>
          <p:grpSpPr>
            <a:xfrm>
              <a:off x="609480" y="2971800"/>
              <a:ext cx="352440" cy="1117080"/>
              <a:chOff x="609480" y="2971800"/>
              <a:chExt cx="352440" cy="1117080"/>
            </a:xfrm>
          </p:grpSpPr>
          <p:sp>
            <p:nvSpPr>
              <p:cNvPr id="1602" name=""/>
              <p:cNvSpPr/>
              <p:nvPr/>
            </p:nvSpPr>
            <p:spPr>
              <a:xfrm>
                <a:off x="759960" y="2999160"/>
                <a:ext cx="131760" cy="156960"/>
              </a:xfrm>
              <a:custGeom>
                <a:avLst/>
                <a:gdLst/>
                <a:ahLst/>
                <a:rect l="l" t="t" r="r" b="b"/>
                <a:pathLst>
                  <a:path w="337" h="410">
                    <a:moveTo>
                      <a:pt x="218" y="410"/>
                    </a:moveTo>
                    <a:lnTo>
                      <a:pt x="0" y="410"/>
                    </a:lnTo>
                    <a:lnTo>
                      <a:pt x="0" y="303"/>
                    </a:lnTo>
                    <a:lnTo>
                      <a:pt x="7" y="261"/>
                    </a:lnTo>
                    <a:lnTo>
                      <a:pt x="7" y="0"/>
                    </a:lnTo>
                    <a:lnTo>
                      <a:pt x="280" y="0"/>
                    </a:lnTo>
                    <a:lnTo>
                      <a:pt x="279" y="23"/>
                    </a:lnTo>
                    <a:lnTo>
                      <a:pt x="305" y="71"/>
                    </a:lnTo>
                    <a:lnTo>
                      <a:pt x="310" y="83"/>
                    </a:lnTo>
                    <a:lnTo>
                      <a:pt x="309" y="96"/>
                    </a:lnTo>
                    <a:lnTo>
                      <a:pt x="297" y="122"/>
                    </a:lnTo>
                    <a:lnTo>
                      <a:pt x="313" y="138"/>
                    </a:lnTo>
                    <a:lnTo>
                      <a:pt x="337" y="168"/>
                    </a:lnTo>
                    <a:lnTo>
                      <a:pt x="326" y="183"/>
                    </a:lnTo>
                    <a:lnTo>
                      <a:pt x="310" y="187"/>
                    </a:lnTo>
                    <a:lnTo>
                      <a:pt x="310" y="211"/>
                    </a:lnTo>
                    <a:lnTo>
                      <a:pt x="313" y="214"/>
                    </a:lnTo>
                    <a:lnTo>
                      <a:pt x="313" y="223"/>
                    </a:lnTo>
                    <a:lnTo>
                      <a:pt x="267" y="227"/>
                    </a:lnTo>
                    <a:lnTo>
                      <a:pt x="265" y="235"/>
                    </a:lnTo>
                    <a:lnTo>
                      <a:pt x="308" y="246"/>
                    </a:lnTo>
                    <a:lnTo>
                      <a:pt x="305" y="262"/>
                    </a:lnTo>
                    <a:lnTo>
                      <a:pt x="313" y="282"/>
                    </a:lnTo>
                    <a:lnTo>
                      <a:pt x="315" y="287"/>
                    </a:lnTo>
                    <a:lnTo>
                      <a:pt x="315" y="295"/>
                    </a:lnTo>
                    <a:lnTo>
                      <a:pt x="312" y="304"/>
                    </a:lnTo>
                    <a:lnTo>
                      <a:pt x="305" y="310"/>
                    </a:lnTo>
                    <a:lnTo>
                      <a:pt x="296" y="310"/>
                    </a:lnTo>
                    <a:lnTo>
                      <a:pt x="239" y="319"/>
                    </a:lnTo>
                    <a:lnTo>
                      <a:pt x="228" y="342"/>
                    </a:lnTo>
                    <a:lnTo>
                      <a:pt x="228" y="358"/>
                    </a:lnTo>
                    <a:lnTo>
                      <a:pt x="218" y="378"/>
                    </a:lnTo>
                    <a:lnTo>
                      <a:pt x="218" y="410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898920" y="3301920"/>
                <a:ext cx="63000" cy="155520"/>
              </a:xfrm>
              <a:custGeom>
                <a:avLst/>
                <a:gdLst/>
                <a:ahLst/>
                <a:rect l="l" t="t" r="r" b="b"/>
                <a:pathLst>
                  <a:path w="162" h="406">
                    <a:moveTo>
                      <a:pt x="0" y="18"/>
                    </a:moveTo>
                    <a:lnTo>
                      <a:pt x="77" y="0"/>
                    </a:lnTo>
                    <a:lnTo>
                      <a:pt x="162" y="397"/>
                    </a:lnTo>
                    <a:lnTo>
                      <a:pt x="18" y="40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693720" y="4033800"/>
                <a:ext cx="95760" cy="55080"/>
              </a:xfrm>
              <a:custGeom>
                <a:avLst/>
                <a:gdLst/>
                <a:ahLst/>
                <a:rect l="l" t="t" r="r" b="b"/>
                <a:pathLst>
                  <a:path w="246" h="143">
                    <a:moveTo>
                      <a:pt x="175" y="0"/>
                    </a:moveTo>
                    <a:lnTo>
                      <a:pt x="220" y="71"/>
                    </a:lnTo>
                    <a:lnTo>
                      <a:pt x="220" y="71"/>
                    </a:lnTo>
                    <a:lnTo>
                      <a:pt x="223" y="72"/>
                    </a:lnTo>
                    <a:lnTo>
                      <a:pt x="238" y="88"/>
                    </a:lnTo>
                    <a:lnTo>
                      <a:pt x="246" y="108"/>
                    </a:lnTo>
                    <a:lnTo>
                      <a:pt x="246" y="130"/>
                    </a:lnTo>
                    <a:lnTo>
                      <a:pt x="246" y="130"/>
                    </a:lnTo>
                    <a:lnTo>
                      <a:pt x="213" y="137"/>
                    </a:lnTo>
                    <a:lnTo>
                      <a:pt x="181" y="142"/>
                    </a:lnTo>
                    <a:lnTo>
                      <a:pt x="133" y="143"/>
                    </a:lnTo>
                    <a:lnTo>
                      <a:pt x="85" y="139"/>
                    </a:lnTo>
                    <a:lnTo>
                      <a:pt x="74" y="136"/>
                    </a:lnTo>
                    <a:lnTo>
                      <a:pt x="48" y="124"/>
                    </a:lnTo>
                    <a:lnTo>
                      <a:pt x="0" y="58"/>
                    </a:lnTo>
                    <a:lnTo>
                      <a:pt x="0" y="23"/>
                    </a:lnTo>
                    <a:lnTo>
                      <a:pt x="6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88760" y="4001040"/>
                <a:ext cx="161640" cy="41040"/>
              </a:xfrm>
              <a:custGeom>
                <a:avLst/>
                <a:gdLst/>
                <a:ahLst/>
                <a:rect l="l" t="t" r="r" b="b"/>
                <a:pathLst>
                  <a:path w="414" h="107">
                    <a:moveTo>
                      <a:pt x="235" y="0"/>
                    </a:moveTo>
                    <a:lnTo>
                      <a:pt x="252" y="9"/>
                    </a:lnTo>
                    <a:lnTo>
                      <a:pt x="281" y="29"/>
                    </a:lnTo>
                    <a:lnTo>
                      <a:pt x="316" y="39"/>
                    </a:lnTo>
                    <a:lnTo>
                      <a:pt x="380" y="45"/>
                    </a:lnTo>
                    <a:lnTo>
                      <a:pt x="393" y="48"/>
                    </a:lnTo>
                    <a:lnTo>
                      <a:pt x="402" y="57"/>
                    </a:lnTo>
                    <a:lnTo>
                      <a:pt x="405" y="71"/>
                    </a:lnTo>
                    <a:lnTo>
                      <a:pt x="406" y="96"/>
                    </a:lnTo>
                    <a:lnTo>
                      <a:pt x="414" y="96"/>
                    </a:lnTo>
                    <a:lnTo>
                      <a:pt x="414" y="107"/>
                    </a:lnTo>
                    <a:lnTo>
                      <a:pt x="226" y="107"/>
                    </a:lnTo>
                    <a:lnTo>
                      <a:pt x="125" y="90"/>
                    </a:lnTo>
                    <a:lnTo>
                      <a:pt x="116" y="107"/>
                    </a:lnTo>
                    <a:lnTo>
                      <a:pt x="116" y="107"/>
                    </a:lnTo>
                    <a:lnTo>
                      <a:pt x="62" y="107"/>
                    </a:lnTo>
                    <a:lnTo>
                      <a:pt x="23" y="103"/>
                    </a:lnTo>
                    <a:lnTo>
                      <a:pt x="6" y="101"/>
                    </a:lnTo>
                    <a:lnTo>
                      <a:pt x="6" y="88"/>
                    </a:lnTo>
                    <a:lnTo>
                      <a:pt x="0" y="57"/>
                    </a:lnTo>
                    <a:lnTo>
                      <a:pt x="0" y="39"/>
                    </a:lnTo>
                    <a:lnTo>
                      <a:pt x="4" y="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46640" y="3114720"/>
                <a:ext cx="119160" cy="210600"/>
              </a:xfrm>
              <a:custGeom>
                <a:avLst/>
                <a:gdLst/>
                <a:ahLst/>
                <a:rect l="l" t="t" r="r" b="b"/>
                <a:pathLst>
                  <a:path w="306" h="550">
                    <a:moveTo>
                      <a:pt x="253" y="75"/>
                    </a:moveTo>
                    <a:lnTo>
                      <a:pt x="226" y="101"/>
                    </a:lnTo>
                    <a:lnTo>
                      <a:pt x="229" y="100"/>
                    </a:lnTo>
                    <a:lnTo>
                      <a:pt x="228" y="100"/>
                    </a:lnTo>
                    <a:lnTo>
                      <a:pt x="160" y="73"/>
                    </a:lnTo>
                    <a:lnTo>
                      <a:pt x="94" y="40"/>
                    </a:lnTo>
                    <a:lnTo>
                      <a:pt x="33" y="0"/>
                    </a:lnTo>
                    <a:lnTo>
                      <a:pt x="0" y="46"/>
                    </a:lnTo>
                    <a:lnTo>
                      <a:pt x="0" y="550"/>
                    </a:lnTo>
                    <a:lnTo>
                      <a:pt x="306" y="550"/>
                    </a:lnTo>
                    <a:lnTo>
                      <a:pt x="306" y="169"/>
                    </a:lnTo>
                    <a:lnTo>
                      <a:pt x="263" y="82"/>
                    </a:lnTo>
                    <a:lnTo>
                      <a:pt x="253" y="75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70760" y="3153960"/>
                <a:ext cx="66240" cy="32040"/>
              </a:xfrm>
              <a:custGeom>
                <a:avLst/>
                <a:gdLst/>
                <a:ahLst/>
                <a:rect l="l" t="t" r="r" b="b"/>
                <a:pathLst>
                  <a:path w="169" h="84">
                    <a:moveTo>
                      <a:pt x="0" y="25"/>
                    </a:moveTo>
                    <a:lnTo>
                      <a:pt x="72" y="84"/>
                    </a:lnTo>
                    <a:lnTo>
                      <a:pt x="1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837360" y="3153960"/>
                <a:ext cx="14760" cy="21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820080" y="3153240"/>
                <a:ext cx="45000" cy="155520"/>
              </a:xfrm>
              <a:custGeom>
                <a:avLst/>
                <a:gdLst/>
                <a:ahLst/>
                <a:rect l="l" t="t" r="r" b="b"/>
                <a:pathLst>
                  <a:path w="118" h="405">
                    <a:moveTo>
                      <a:pt x="0" y="41"/>
                    </a:moveTo>
                    <a:lnTo>
                      <a:pt x="25" y="76"/>
                    </a:lnTo>
                    <a:lnTo>
                      <a:pt x="18" y="85"/>
                    </a:lnTo>
                    <a:lnTo>
                      <a:pt x="8" y="211"/>
                    </a:lnTo>
                    <a:lnTo>
                      <a:pt x="18" y="387"/>
                    </a:lnTo>
                    <a:lnTo>
                      <a:pt x="118" y="405"/>
                    </a:lnTo>
                    <a:lnTo>
                      <a:pt x="84" y="151"/>
                    </a:lnTo>
                    <a:lnTo>
                      <a:pt x="51" y="76"/>
                    </a:lnTo>
                    <a:lnTo>
                      <a:pt x="58" y="26"/>
                    </a:lnTo>
                    <a:lnTo>
                      <a:pt x="51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f7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634320" y="3114720"/>
                <a:ext cx="280800" cy="930600"/>
              </a:xfrm>
              <a:custGeom>
                <a:avLst/>
                <a:gdLst/>
                <a:ahLst/>
                <a:rect l="l" t="t" r="r" b="b"/>
                <a:pathLst>
                  <a:path w="722" h="2427">
                    <a:moveTo>
                      <a:pt x="662" y="1323"/>
                    </a:moveTo>
                    <a:lnTo>
                      <a:pt x="688" y="1195"/>
                    </a:lnTo>
                    <a:lnTo>
                      <a:pt x="722" y="1186"/>
                    </a:lnTo>
                    <a:lnTo>
                      <a:pt x="671" y="251"/>
                    </a:lnTo>
                    <a:lnTo>
                      <a:pt x="666" y="221"/>
                    </a:lnTo>
                    <a:lnTo>
                      <a:pt x="655" y="192"/>
                    </a:lnTo>
                    <a:lnTo>
                      <a:pt x="578" y="124"/>
                    </a:lnTo>
                    <a:lnTo>
                      <a:pt x="565" y="110"/>
                    </a:lnTo>
                    <a:lnTo>
                      <a:pt x="552" y="81"/>
                    </a:lnTo>
                    <a:lnTo>
                      <a:pt x="566" y="185"/>
                    </a:lnTo>
                    <a:lnTo>
                      <a:pt x="578" y="327"/>
                    </a:lnTo>
                    <a:lnTo>
                      <a:pt x="581" y="499"/>
                    </a:lnTo>
                    <a:lnTo>
                      <a:pt x="574" y="495"/>
                    </a:lnTo>
                    <a:lnTo>
                      <a:pt x="546" y="422"/>
                    </a:lnTo>
                    <a:lnTo>
                      <a:pt x="511" y="351"/>
                    </a:lnTo>
                    <a:lnTo>
                      <a:pt x="469" y="286"/>
                    </a:lnTo>
                    <a:lnTo>
                      <a:pt x="449" y="259"/>
                    </a:lnTo>
                    <a:lnTo>
                      <a:pt x="415" y="220"/>
                    </a:lnTo>
                    <a:lnTo>
                      <a:pt x="373" y="157"/>
                    </a:lnTo>
                    <a:lnTo>
                      <a:pt x="340" y="92"/>
                    </a:lnTo>
                    <a:lnTo>
                      <a:pt x="312" y="23"/>
                    </a:lnTo>
                    <a:lnTo>
                      <a:pt x="322" y="0"/>
                    </a:lnTo>
                    <a:lnTo>
                      <a:pt x="298" y="16"/>
                    </a:lnTo>
                    <a:lnTo>
                      <a:pt x="263" y="58"/>
                    </a:lnTo>
                    <a:lnTo>
                      <a:pt x="69" y="168"/>
                    </a:lnTo>
                    <a:lnTo>
                      <a:pt x="53" y="169"/>
                    </a:lnTo>
                    <a:lnTo>
                      <a:pt x="41" y="179"/>
                    </a:lnTo>
                    <a:lnTo>
                      <a:pt x="35" y="192"/>
                    </a:lnTo>
                    <a:lnTo>
                      <a:pt x="35" y="201"/>
                    </a:lnTo>
                    <a:lnTo>
                      <a:pt x="15" y="321"/>
                    </a:lnTo>
                    <a:lnTo>
                      <a:pt x="3" y="443"/>
                    </a:lnTo>
                    <a:lnTo>
                      <a:pt x="0" y="564"/>
                    </a:lnTo>
                    <a:lnTo>
                      <a:pt x="6" y="686"/>
                    </a:lnTo>
                    <a:lnTo>
                      <a:pt x="18" y="791"/>
                    </a:lnTo>
                    <a:lnTo>
                      <a:pt x="48" y="893"/>
                    </a:lnTo>
                    <a:lnTo>
                      <a:pt x="86" y="990"/>
                    </a:lnTo>
                    <a:lnTo>
                      <a:pt x="111" y="1045"/>
                    </a:lnTo>
                    <a:lnTo>
                      <a:pt x="95" y="1208"/>
                    </a:lnTo>
                    <a:lnTo>
                      <a:pt x="95" y="1221"/>
                    </a:lnTo>
                    <a:lnTo>
                      <a:pt x="145" y="1221"/>
                    </a:lnTo>
                    <a:lnTo>
                      <a:pt x="145" y="2394"/>
                    </a:lnTo>
                    <a:lnTo>
                      <a:pt x="272" y="2427"/>
                    </a:lnTo>
                    <a:lnTo>
                      <a:pt x="349" y="2401"/>
                    </a:lnTo>
                    <a:lnTo>
                      <a:pt x="357" y="2156"/>
                    </a:lnTo>
                    <a:lnTo>
                      <a:pt x="366" y="2039"/>
                    </a:lnTo>
                    <a:lnTo>
                      <a:pt x="391" y="1812"/>
                    </a:lnTo>
                    <a:lnTo>
                      <a:pt x="399" y="2006"/>
                    </a:lnTo>
                    <a:lnTo>
                      <a:pt x="399" y="2029"/>
                    </a:lnTo>
                    <a:lnTo>
                      <a:pt x="399" y="2174"/>
                    </a:lnTo>
                    <a:lnTo>
                      <a:pt x="391" y="2317"/>
                    </a:lnTo>
                    <a:lnTo>
                      <a:pt x="645" y="2317"/>
                    </a:lnTo>
                    <a:lnTo>
                      <a:pt x="629" y="2275"/>
                    </a:lnTo>
                    <a:lnTo>
                      <a:pt x="637" y="2233"/>
                    </a:lnTo>
                    <a:lnTo>
                      <a:pt x="637" y="1812"/>
                    </a:lnTo>
                    <a:lnTo>
                      <a:pt x="662" y="1323"/>
                    </a:lnTo>
                    <a:close/>
                  </a:path>
                </a:pathLst>
              </a:custGeom>
              <a:solidFill>
                <a:srgbClr val="0054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865440" y="3485880"/>
                <a:ext cx="37440" cy="84240"/>
              </a:xfrm>
              <a:custGeom>
                <a:avLst/>
                <a:gdLst/>
                <a:ahLst/>
                <a:rect l="l" t="t" r="r" b="b"/>
                <a:pathLst>
                  <a:path w="94" h="220">
                    <a:moveTo>
                      <a:pt x="94" y="220"/>
                    </a:moveTo>
                    <a:lnTo>
                      <a:pt x="83" y="216"/>
                    </a:lnTo>
                    <a:lnTo>
                      <a:pt x="61" y="204"/>
                    </a:lnTo>
                    <a:lnTo>
                      <a:pt x="43" y="184"/>
                    </a:lnTo>
                    <a:lnTo>
                      <a:pt x="35" y="16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859320" y="3163320"/>
                <a:ext cx="16200" cy="148320"/>
              </a:xfrm>
              <a:custGeom>
                <a:avLst/>
                <a:gdLst/>
                <a:ahLst/>
                <a:rect l="l" t="t" r="r" b="b"/>
                <a:pathLst>
                  <a:path w="42" h="389">
                    <a:moveTo>
                      <a:pt x="7" y="389"/>
                    </a:moveTo>
                    <a:lnTo>
                      <a:pt x="42" y="127"/>
                    </a:lnTo>
                    <a:lnTo>
                      <a:pt x="16" y="103"/>
                    </a:lnTo>
                    <a:lnTo>
                      <a:pt x="42" y="8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677160" y="3205440"/>
                <a:ext cx="92880" cy="360000"/>
              </a:xfrm>
              <a:custGeom>
                <a:avLst/>
                <a:gdLst/>
                <a:ahLst/>
                <a:rect l="l" t="t" r="r" b="b"/>
                <a:pathLst>
                  <a:path w="238" h="939">
                    <a:moveTo>
                      <a:pt x="68" y="0"/>
                    </a:moveTo>
                    <a:lnTo>
                      <a:pt x="87" y="43"/>
                    </a:lnTo>
                    <a:lnTo>
                      <a:pt x="98" y="92"/>
                    </a:lnTo>
                    <a:lnTo>
                      <a:pt x="101" y="141"/>
                    </a:lnTo>
                    <a:lnTo>
                      <a:pt x="114" y="207"/>
                    </a:lnTo>
                    <a:lnTo>
                      <a:pt x="137" y="359"/>
                    </a:lnTo>
                    <a:lnTo>
                      <a:pt x="152" y="513"/>
                    </a:lnTo>
                    <a:lnTo>
                      <a:pt x="238" y="893"/>
                    </a:lnTo>
                    <a:lnTo>
                      <a:pt x="187" y="917"/>
                    </a:lnTo>
                    <a:lnTo>
                      <a:pt x="133" y="935"/>
                    </a:lnTo>
                    <a:lnTo>
                      <a:pt x="74" y="939"/>
                    </a:lnTo>
                    <a:lnTo>
                      <a:pt x="20" y="848"/>
                    </a:lnTo>
                    <a:lnTo>
                      <a:pt x="0" y="8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36560" y="3137040"/>
                <a:ext cx="128880" cy="197640"/>
              </a:xfrm>
              <a:custGeom>
                <a:avLst/>
                <a:gdLst/>
                <a:ahLst/>
                <a:rect l="l" t="t" r="r" b="b"/>
                <a:pathLst>
                  <a:path w="331" h="515">
                    <a:moveTo>
                      <a:pt x="331" y="515"/>
                    </a:moveTo>
                    <a:lnTo>
                      <a:pt x="282" y="480"/>
                    </a:lnTo>
                    <a:lnTo>
                      <a:pt x="221" y="429"/>
                    </a:lnTo>
                    <a:lnTo>
                      <a:pt x="167" y="372"/>
                    </a:lnTo>
                    <a:lnTo>
                      <a:pt x="118" y="308"/>
                    </a:lnTo>
                    <a:lnTo>
                      <a:pt x="77" y="240"/>
                    </a:lnTo>
                    <a:lnTo>
                      <a:pt x="103" y="196"/>
                    </a:lnTo>
                    <a:lnTo>
                      <a:pt x="44" y="188"/>
                    </a:lnTo>
                    <a:lnTo>
                      <a:pt x="30" y="165"/>
                    </a:lnTo>
                    <a:lnTo>
                      <a:pt x="13" y="111"/>
                    </a:lnTo>
                    <a:lnTo>
                      <a:pt x="3" y="5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690480" y="3305880"/>
                <a:ext cx="177120" cy="277560"/>
              </a:xfrm>
              <a:custGeom>
                <a:avLst/>
                <a:gdLst/>
                <a:ahLst/>
                <a:rect l="l" t="t" r="r" b="b"/>
                <a:pathLst>
                  <a:path w="453" h="725">
                    <a:moveTo>
                      <a:pt x="430" y="0"/>
                    </a:moveTo>
                    <a:lnTo>
                      <a:pt x="450" y="78"/>
                    </a:lnTo>
                    <a:lnTo>
                      <a:pt x="453" y="217"/>
                    </a:lnTo>
                    <a:lnTo>
                      <a:pt x="449" y="356"/>
                    </a:lnTo>
                    <a:lnTo>
                      <a:pt x="437" y="495"/>
                    </a:lnTo>
                    <a:lnTo>
                      <a:pt x="415" y="633"/>
                    </a:lnTo>
                    <a:lnTo>
                      <a:pt x="402" y="660"/>
                    </a:lnTo>
                    <a:lnTo>
                      <a:pt x="381" y="686"/>
                    </a:lnTo>
                    <a:lnTo>
                      <a:pt x="353" y="706"/>
                    </a:lnTo>
                    <a:lnTo>
                      <a:pt x="323" y="719"/>
                    </a:lnTo>
                    <a:lnTo>
                      <a:pt x="288" y="725"/>
                    </a:lnTo>
                    <a:lnTo>
                      <a:pt x="0" y="7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20000" y="3554280"/>
                <a:ext cx="85680" cy="65160"/>
              </a:xfrm>
              <a:custGeom>
                <a:avLst/>
                <a:gdLst/>
                <a:ahLst/>
                <a:rect l="l" t="t" r="r" b="b"/>
                <a:pathLst>
                  <a:path w="220" h="169">
                    <a:moveTo>
                      <a:pt x="0" y="42"/>
                    </a:moveTo>
                    <a:lnTo>
                      <a:pt x="7" y="75"/>
                    </a:lnTo>
                    <a:lnTo>
                      <a:pt x="17" y="109"/>
                    </a:lnTo>
                    <a:lnTo>
                      <a:pt x="27" y="133"/>
                    </a:lnTo>
                    <a:lnTo>
                      <a:pt x="42" y="158"/>
                    </a:lnTo>
                    <a:lnTo>
                      <a:pt x="52" y="166"/>
                    </a:lnTo>
                    <a:lnTo>
                      <a:pt x="62" y="168"/>
                    </a:lnTo>
                    <a:lnTo>
                      <a:pt x="72" y="166"/>
                    </a:lnTo>
                    <a:lnTo>
                      <a:pt x="80" y="162"/>
                    </a:lnTo>
                    <a:lnTo>
                      <a:pt x="94" y="169"/>
                    </a:lnTo>
                    <a:lnTo>
                      <a:pt x="115" y="169"/>
                    </a:lnTo>
                    <a:lnTo>
                      <a:pt x="128" y="165"/>
                    </a:lnTo>
                    <a:lnTo>
                      <a:pt x="136" y="159"/>
                    </a:lnTo>
                    <a:lnTo>
                      <a:pt x="154" y="159"/>
                    </a:lnTo>
                    <a:lnTo>
                      <a:pt x="173" y="152"/>
                    </a:lnTo>
                    <a:lnTo>
                      <a:pt x="220" y="117"/>
                    </a:lnTo>
                    <a:lnTo>
                      <a:pt x="220" y="109"/>
                    </a:lnTo>
                    <a:lnTo>
                      <a:pt x="206" y="67"/>
                    </a:lnTo>
                    <a:lnTo>
                      <a:pt x="190" y="43"/>
                    </a:lnTo>
                    <a:lnTo>
                      <a:pt x="170" y="25"/>
                    </a:lnTo>
                    <a:lnTo>
                      <a:pt x="149" y="14"/>
                    </a:lnTo>
                    <a:lnTo>
                      <a:pt x="120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09920" y="3548880"/>
                <a:ext cx="60120" cy="24480"/>
              </a:xfrm>
              <a:custGeom>
                <a:avLst/>
                <a:gdLst/>
                <a:ahLst/>
                <a:rect l="l" t="t" r="r" b="b"/>
                <a:pathLst>
                  <a:path w="154" h="65">
                    <a:moveTo>
                      <a:pt x="49" y="41"/>
                    </a:moveTo>
                    <a:lnTo>
                      <a:pt x="103" y="23"/>
                    </a:lnTo>
                    <a:lnTo>
                      <a:pt x="149" y="0"/>
                    </a:lnTo>
                    <a:lnTo>
                      <a:pt x="154" y="15"/>
                    </a:lnTo>
                    <a:lnTo>
                      <a:pt x="126" y="29"/>
                    </a:lnTo>
                    <a:lnTo>
                      <a:pt x="68" y="51"/>
                    </a:lnTo>
                    <a:lnTo>
                      <a:pt x="10" y="65"/>
                    </a:lnTo>
                    <a:lnTo>
                      <a:pt x="0" y="45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87320" y="3987360"/>
                <a:ext cx="910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690480" y="4016520"/>
                <a:ext cx="80280" cy="12240"/>
              </a:xfrm>
              <a:custGeom>
                <a:avLst/>
                <a:gdLst/>
                <a:ahLst/>
                <a:rect l="l" t="t" r="r" b="b"/>
                <a:pathLst>
                  <a:path w="205" h="33">
                    <a:moveTo>
                      <a:pt x="0" y="0"/>
                    </a:moveTo>
                    <a:lnTo>
                      <a:pt x="127" y="33"/>
                    </a:lnTo>
                    <a:lnTo>
                      <a:pt x="205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609480" y="3582360"/>
                <a:ext cx="302760" cy="224280"/>
              </a:xfrm>
              <a:custGeom>
                <a:avLst/>
                <a:gdLst/>
                <a:ahLst/>
                <a:rect l="l" t="t" r="r" b="b"/>
                <a:pathLst>
                  <a:path w="775" h="585">
                    <a:moveTo>
                      <a:pt x="33" y="103"/>
                    </a:moveTo>
                    <a:lnTo>
                      <a:pt x="0" y="136"/>
                    </a:lnTo>
                    <a:lnTo>
                      <a:pt x="0" y="550"/>
                    </a:lnTo>
                    <a:lnTo>
                      <a:pt x="33" y="583"/>
                    </a:lnTo>
                    <a:lnTo>
                      <a:pt x="717" y="585"/>
                    </a:lnTo>
                    <a:lnTo>
                      <a:pt x="775" y="548"/>
                    </a:lnTo>
                    <a:lnTo>
                      <a:pt x="775" y="143"/>
                    </a:lnTo>
                    <a:lnTo>
                      <a:pt x="715" y="103"/>
                    </a:lnTo>
                    <a:lnTo>
                      <a:pt x="531" y="103"/>
                    </a:lnTo>
                    <a:lnTo>
                      <a:pt x="527" y="87"/>
                    </a:lnTo>
                    <a:lnTo>
                      <a:pt x="521" y="71"/>
                    </a:lnTo>
                    <a:lnTo>
                      <a:pt x="511" y="55"/>
                    </a:lnTo>
                    <a:lnTo>
                      <a:pt x="502" y="45"/>
                    </a:lnTo>
                    <a:lnTo>
                      <a:pt x="482" y="40"/>
                    </a:lnTo>
                    <a:lnTo>
                      <a:pt x="464" y="30"/>
                    </a:lnTo>
                    <a:lnTo>
                      <a:pt x="451" y="16"/>
                    </a:lnTo>
                    <a:lnTo>
                      <a:pt x="440" y="0"/>
                    </a:lnTo>
                    <a:lnTo>
                      <a:pt x="444" y="43"/>
                    </a:lnTo>
                    <a:lnTo>
                      <a:pt x="454" y="48"/>
                    </a:lnTo>
                    <a:lnTo>
                      <a:pt x="466" y="56"/>
                    </a:lnTo>
                    <a:lnTo>
                      <a:pt x="474" y="63"/>
                    </a:lnTo>
                    <a:lnTo>
                      <a:pt x="485" y="76"/>
                    </a:lnTo>
                    <a:lnTo>
                      <a:pt x="490" y="90"/>
                    </a:lnTo>
                    <a:lnTo>
                      <a:pt x="495" y="103"/>
                    </a:lnTo>
                    <a:lnTo>
                      <a:pt x="300" y="103"/>
                    </a:lnTo>
                    <a:lnTo>
                      <a:pt x="300" y="92"/>
                    </a:lnTo>
                    <a:lnTo>
                      <a:pt x="303" y="81"/>
                    </a:lnTo>
                    <a:lnTo>
                      <a:pt x="306" y="71"/>
                    </a:lnTo>
                    <a:lnTo>
                      <a:pt x="312" y="61"/>
                    </a:lnTo>
                    <a:lnTo>
                      <a:pt x="310" y="59"/>
                    </a:lnTo>
                    <a:lnTo>
                      <a:pt x="300" y="35"/>
                    </a:lnTo>
                    <a:lnTo>
                      <a:pt x="297" y="23"/>
                    </a:lnTo>
                    <a:lnTo>
                      <a:pt x="289" y="33"/>
                    </a:lnTo>
                    <a:lnTo>
                      <a:pt x="280" y="45"/>
                    </a:lnTo>
                    <a:lnTo>
                      <a:pt x="274" y="59"/>
                    </a:lnTo>
                    <a:lnTo>
                      <a:pt x="268" y="72"/>
                    </a:lnTo>
                    <a:lnTo>
                      <a:pt x="266" y="85"/>
                    </a:lnTo>
                    <a:lnTo>
                      <a:pt x="266" y="94"/>
                    </a:lnTo>
                    <a:lnTo>
                      <a:pt x="264" y="103"/>
                    </a:lnTo>
                    <a:lnTo>
                      <a:pt x="261" y="103"/>
                    </a:lnTo>
                    <a:lnTo>
                      <a:pt x="33" y="103"/>
                    </a:lnTo>
                    <a:close/>
                  </a:path>
                </a:pathLst>
              </a:custGeom>
              <a:solidFill>
                <a:srgbClr val="b5b5b5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888120" y="3622320"/>
                <a:ext cx="13680" cy="183960"/>
              </a:xfrm>
              <a:custGeom>
                <a:avLst/>
                <a:gdLst/>
                <a:ahLst/>
                <a:rect l="l" t="t" r="r" b="b"/>
                <a:pathLst>
                  <a:path w="35" h="480">
                    <a:moveTo>
                      <a:pt x="1" y="0"/>
                    </a:moveTo>
                    <a:lnTo>
                      <a:pt x="35" y="31"/>
                    </a:lnTo>
                    <a:lnTo>
                      <a:pt x="35" y="447"/>
                    </a:lnTo>
                    <a:lnTo>
                      <a:pt x="0" y="4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622440" y="3633120"/>
                <a:ext cx="265320" cy="163800"/>
              </a:xfrm>
              <a:custGeom>
                <a:avLst/>
                <a:gdLst/>
                <a:ahLst/>
                <a:rect l="l" t="t" r="r" b="b"/>
                <a:pathLst>
                  <a:path w="679" h="430">
                    <a:moveTo>
                      <a:pt x="29" y="0"/>
                    </a:moveTo>
                    <a:lnTo>
                      <a:pt x="0" y="28"/>
                    </a:lnTo>
                    <a:lnTo>
                      <a:pt x="0" y="405"/>
                    </a:lnTo>
                    <a:lnTo>
                      <a:pt x="25" y="430"/>
                    </a:lnTo>
                    <a:lnTo>
                      <a:pt x="655" y="430"/>
                    </a:lnTo>
                    <a:lnTo>
                      <a:pt x="679" y="404"/>
                    </a:lnTo>
                    <a:lnTo>
                      <a:pt x="679" y="23"/>
                    </a:lnTo>
                    <a:lnTo>
                      <a:pt x="658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2121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flipH="1" flipV="1">
                <a:off x="764640" y="3605040"/>
                <a:ext cx="1008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H="1" flipV="1">
                <a:off x="753480" y="3608280"/>
                <a:ext cx="10800" cy="9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flipH="1" flipV="1">
                <a:off x="743040" y="3609000"/>
                <a:ext cx="6120" cy="68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854280" y="3032640"/>
                <a:ext cx="20160" cy="468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29" y="0"/>
                    </a:moveTo>
                    <a:lnTo>
                      <a:pt x="52" y="0"/>
                    </a:lnTo>
                    <a:lnTo>
                      <a:pt x="49" y="5"/>
                    </a:lnTo>
                    <a:lnTo>
                      <a:pt x="32" y="5"/>
                    </a:lnTo>
                    <a:lnTo>
                      <a:pt x="0" y="1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852840" y="3045240"/>
                <a:ext cx="14040" cy="432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7" y="0"/>
                    </a:moveTo>
                    <a:lnTo>
                      <a:pt x="0" y="5"/>
                    </a:lnTo>
                    <a:lnTo>
                      <a:pt x="34" y="12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736560" y="2971800"/>
                <a:ext cx="134280" cy="127080"/>
              </a:xfrm>
              <a:custGeom>
                <a:avLst/>
                <a:gdLst/>
                <a:ahLst/>
                <a:rect l="l" t="t" r="r" b="b"/>
                <a:pathLst>
                  <a:path w="344" h="331">
                    <a:moveTo>
                      <a:pt x="62" y="305"/>
                    </a:moveTo>
                    <a:lnTo>
                      <a:pt x="49" y="285"/>
                    </a:lnTo>
                    <a:lnTo>
                      <a:pt x="17" y="243"/>
                    </a:lnTo>
                    <a:lnTo>
                      <a:pt x="6" y="205"/>
                    </a:lnTo>
                    <a:lnTo>
                      <a:pt x="0" y="168"/>
                    </a:lnTo>
                    <a:lnTo>
                      <a:pt x="6" y="130"/>
                    </a:lnTo>
                    <a:lnTo>
                      <a:pt x="36" y="72"/>
                    </a:lnTo>
                    <a:lnTo>
                      <a:pt x="49" y="56"/>
                    </a:lnTo>
                    <a:lnTo>
                      <a:pt x="75" y="32"/>
                    </a:lnTo>
                    <a:lnTo>
                      <a:pt x="109" y="10"/>
                    </a:lnTo>
                    <a:lnTo>
                      <a:pt x="147" y="3"/>
                    </a:lnTo>
                    <a:lnTo>
                      <a:pt x="183" y="0"/>
                    </a:lnTo>
                    <a:lnTo>
                      <a:pt x="222" y="3"/>
                    </a:lnTo>
                    <a:lnTo>
                      <a:pt x="247" y="4"/>
                    </a:lnTo>
                    <a:lnTo>
                      <a:pt x="287" y="11"/>
                    </a:lnTo>
                    <a:lnTo>
                      <a:pt x="309" y="19"/>
                    </a:lnTo>
                    <a:lnTo>
                      <a:pt x="326" y="32"/>
                    </a:lnTo>
                    <a:lnTo>
                      <a:pt x="340" y="50"/>
                    </a:lnTo>
                    <a:lnTo>
                      <a:pt x="344" y="74"/>
                    </a:lnTo>
                    <a:lnTo>
                      <a:pt x="340" y="95"/>
                    </a:lnTo>
                    <a:lnTo>
                      <a:pt x="340" y="95"/>
                    </a:lnTo>
                    <a:lnTo>
                      <a:pt x="297" y="82"/>
                    </a:lnTo>
                    <a:lnTo>
                      <a:pt x="254" y="76"/>
                    </a:lnTo>
                    <a:lnTo>
                      <a:pt x="213" y="79"/>
                    </a:lnTo>
                    <a:lnTo>
                      <a:pt x="213" y="79"/>
                    </a:lnTo>
                    <a:lnTo>
                      <a:pt x="196" y="82"/>
                    </a:lnTo>
                    <a:lnTo>
                      <a:pt x="213" y="105"/>
                    </a:lnTo>
                    <a:lnTo>
                      <a:pt x="226" y="134"/>
                    </a:lnTo>
                    <a:lnTo>
                      <a:pt x="226" y="143"/>
                    </a:lnTo>
                    <a:lnTo>
                      <a:pt x="216" y="163"/>
                    </a:lnTo>
                    <a:lnTo>
                      <a:pt x="186" y="204"/>
                    </a:lnTo>
                    <a:lnTo>
                      <a:pt x="154" y="204"/>
                    </a:lnTo>
                    <a:lnTo>
                      <a:pt x="149" y="191"/>
                    </a:lnTo>
                    <a:lnTo>
                      <a:pt x="145" y="185"/>
                    </a:lnTo>
                    <a:lnTo>
                      <a:pt x="136" y="179"/>
                    </a:lnTo>
                    <a:lnTo>
                      <a:pt x="128" y="176"/>
                    </a:lnTo>
                    <a:lnTo>
                      <a:pt x="112" y="181"/>
                    </a:lnTo>
                    <a:lnTo>
                      <a:pt x="99" y="194"/>
                    </a:lnTo>
                    <a:lnTo>
                      <a:pt x="93" y="210"/>
                    </a:lnTo>
                    <a:lnTo>
                      <a:pt x="94" y="223"/>
                    </a:lnTo>
                    <a:lnTo>
                      <a:pt x="96" y="231"/>
                    </a:lnTo>
                    <a:lnTo>
                      <a:pt x="103" y="250"/>
                    </a:lnTo>
                    <a:lnTo>
                      <a:pt x="113" y="266"/>
                    </a:lnTo>
                    <a:lnTo>
                      <a:pt x="119" y="272"/>
                    </a:lnTo>
                    <a:lnTo>
                      <a:pt x="106" y="289"/>
                    </a:lnTo>
                    <a:lnTo>
                      <a:pt x="96" y="304"/>
                    </a:lnTo>
                    <a:lnTo>
                      <a:pt x="81" y="320"/>
                    </a:lnTo>
                    <a:lnTo>
                      <a:pt x="68" y="331"/>
                    </a:lnTo>
                    <a:lnTo>
                      <a:pt x="62" y="30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82640" y="3073320"/>
                <a:ext cx="24840" cy="2376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6"/>
                    </a:moveTo>
                    <a:lnTo>
                      <a:pt x="11" y="10"/>
                    </a:lnTo>
                    <a:lnTo>
                      <a:pt x="21" y="9"/>
                    </a:lnTo>
                    <a:lnTo>
                      <a:pt x="27" y="6"/>
                    </a:lnTo>
                    <a:lnTo>
                      <a:pt x="34" y="0"/>
                    </a:lnTo>
                    <a:lnTo>
                      <a:pt x="45" y="32"/>
                    </a:lnTo>
                    <a:lnTo>
                      <a:pt x="63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848880" y="338328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30" y="17"/>
                    </a:moveTo>
                    <a:lnTo>
                      <a:pt x="29" y="8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8" y="3"/>
                    </a:lnTo>
                    <a:lnTo>
                      <a:pt x="3" y="8"/>
                    </a:lnTo>
                    <a:lnTo>
                      <a:pt x="0" y="17"/>
                    </a:lnTo>
                    <a:lnTo>
                      <a:pt x="3" y="26"/>
                    </a:lnTo>
                    <a:lnTo>
                      <a:pt x="8" y="33"/>
                    </a:lnTo>
                    <a:lnTo>
                      <a:pt x="16" y="34"/>
                    </a:lnTo>
                    <a:lnTo>
                      <a:pt x="23" y="33"/>
                    </a:lnTo>
                    <a:lnTo>
                      <a:pt x="29" y="26"/>
                    </a:lnTo>
                    <a:lnTo>
                      <a:pt x="30" y="17"/>
                    </a:lnTo>
                    <a:lnTo>
                      <a:pt x="3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906120" y="3449880"/>
                <a:ext cx="52200" cy="39960"/>
              </a:xfrm>
              <a:custGeom>
                <a:avLst/>
                <a:gdLst/>
                <a:ahLst/>
                <a:rect l="l" t="t" r="r" b="b"/>
                <a:pathLst>
                  <a:path w="135" h="105">
                    <a:moveTo>
                      <a:pt x="74" y="16"/>
                    </a:moveTo>
                    <a:lnTo>
                      <a:pt x="51" y="18"/>
                    </a:lnTo>
                    <a:lnTo>
                      <a:pt x="46" y="5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9" y="8"/>
                    </a:lnTo>
                    <a:lnTo>
                      <a:pt x="27" y="16"/>
                    </a:lnTo>
                    <a:lnTo>
                      <a:pt x="22" y="11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9" y="16"/>
                    </a:lnTo>
                    <a:lnTo>
                      <a:pt x="9" y="21"/>
                    </a:lnTo>
                    <a:lnTo>
                      <a:pt x="11" y="70"/>
                    </a:lnTo>
                    <a:lnTo>
                      <a:pt x="9" y="70"/>
                    </a:lnTo>
                    <a:lnTo>
                      <a:pt x="3" y="74"/>
                    </a:lnTo>
                    <a:lnTo>
                      <a:pt x="0" y="80"/>
                    </a:lnTo>
                    <a:lnTo>
                      <a:pt x="0" y="86"/>
                    </a:lnTo>
                    <a:lnTo>
                      <a:pt x="4" y="92"/>
                    </a:lnTo>
                    <a:lnTo>
                      <a:pt x="7" y="94"/>
                    </a:lnTo>
                    <a:lnTo>
                      <a:pt x="9" y="96"/>
                    </a:lnTo>
                    <a:lnTo>
                      <a:pt x="51" y="105"/>
                    </a:lnTo>
                    <a:lnTo>
                      <a:pt x="106" y="76"/>
                    </a:lnTo>
                    <a:lnTo>
                      <a:pt x="109" y="73"/>
                    </a:lnTo>
                    <a:lnTo>
                      <a:pt x="119" y="61"/>
                    </a:lnTo>
                    <a:lnTo>
                      <a:pt x="126" y="50"/>
                    </a:lnTo>
                    <a:lnTo>
                      <a:pt x="132" y="37"/>
                    </a:lnTo>
                    <a:lnTo>
                      <a:pt x="133" y="22"/>
                    </a:lnTo>
                    <a:lnTo>
                      <a:pt x="135" y="13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925560" y="345600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23" y="0"/>
                    </a:moveTo>
                    <a:lnTo>
                      <a:pt x="48" y="16"/>
                    </a:lnTo>
                    <a:lnTo>
                      <a:pt x="13" y="3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909000" y="3457440"/>
                <a:ext cx="5400" cy="1908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0"/>
                    </a:moveTo>
                    <a:lnTo>
                      <a:pt x="4" y="24"/>
                    </a:lnTo>
                    <a:lnTo>
                      <a:pt x="13" y="50"/>
                    </a:lnTo>
                    <a:lnTo>
                      <a:pt x="1" y="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915480" y="3478320"/>
                <a:ext cx="1152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916920" y="3456720"/>
                <a:ext cx="14760" cy="2376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0" y="0"/>
                    </a:moveTo>
                    <a:lnTo>
                      <a:pt x="4" y="16"/>
                    </a:lnTo>
                    <a:lnTo>
                      <a:pt x="14" y="45"/>
                    </a:lnTo>
                    <a:lnTo>
                      <a:pt x="38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 flipH="1">
                <a:off x="861480" y="3079440"/>
                <a:ext cx="3600" cy="129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7" name=""/>
          <p:cNvGrpSpPr/>
          <p:nvPr/>
        </p:nvGrpSpPr>
        <p:grpSpPr>
          <a:xfrm>
            <a:off x="762120" y="3124080"/>
            <a:ext cx="457200" cy="1187280"/>
            <a:chOff x="762120" y="3124080"/>
            <a:chExt cx="457200" cy="1187280"/>
          </a:xfrm>
        </p:grpSpPr>
        <p:sp>
          <p:nvSpPr>
            <p:cNvPr id="1638" name=""/>
            <p:cNvSpPr/>
            <p:nvPr/>
          </p:nvSpPr>
          <p:spPr>
            <a:xfrm>
              <a:off x="762120" y="4154760"/>
              <a:ext cx="457200" cy="15660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9" name=""/>
            <p:cNvGrpSpPr/>
            <p:nvPr/>
          </p:nvGrpSpPr>
          <p:grpSpPr>
            <a:xfrm>
              <a:off x="762120" y="3124080"/>
              <a:ext cx="352440" cy="1117440"/>
              <a:chOff x="762120" y="3124080"/>
              <a:chExt cx="352440" cy="1117440"/>
            </a:xfrm>
          </p:grpSpPr>
          <p:sp>
            <p:nvSpPr>
              <p:cNvPr id="1640" name=""/>
              <p:cNvSpPr/>
              <p:nvPr/>
            </p:nvSpPr>
            <p:spPr>
              <a:xfrm>
                <a:off x="912600" y="3151440"/>
                <a:ext cx="131760" cy="156960"/>
              </a:xfrm>
              <a:custGeom>
                <a:avLst/>
                <a:gdLst/>
                <a:ahLst/>
                <a:rect l="l" t="t" r="r" b="b"/>
                <a:pathLst>
                  <a:path w="337" h="410">
                    <a:moveTo>
                      <a:pt x="218" y="410"/>
                    </a:moveTo>
                    <a:lnTo>
                      <a:pt x="0" y="410"/>
                    </a:lnTo>
                    <a:lnTo>
                      <a:pt x="0" y="303"/>
                    </a:lnTo>
                    <a:lnTo>
                      <a:pt x="7" y="261"/>
                    </a:lnTo>
                    <a:lnTo>
                      <a:pt x="7" y="0"/>
                    </a:lnTo>
                    <a:lnTo>
                      <a:pt x="280" y="0"/>
                    </a:lnTo>
                    <a:lnTo>
                      <a:pt x="279" y="23"/>
                    </a:lnTo>
                    <a:lnTo>
                      <a:pt x="305" y="71"/>
                    </a:lnTo>
                    <a:lnTo>
                      <a:pt x="310" y="83"/>
                    </a:lnTo>
                    <a:lnTo>
                      <a:pt x="309" y="96"/>
                    </a:lnTo>
                    <a:lnTo>
                      <a:pt x="297" y="122"/>
                    </a:lnTo>
                    <a:lnTo>
                      <a:pt x="313" y="138"/>
                    </a:lnTo>
                    <a:lnTo>
                      <a:pt x="337" y="168"/>
                    </a:lnTo>
                    <a:lnTo>
                      <a:pt x="326" y="183"/>
                    </a:lnTo>
                    <a:lnTo>
                      <a:pt x="310" y="187"/>
                    </a:lnTo>
                    <a:lnTo>
                      <a:pt x="310" y="211"/>
                    </a:lnTo>
                    <a:lnTo>
                      <a:pt x="313" y="214"/>
                    </a:lnTo>
                    <a:lnTo>
                      <a:pt x="313" y="223"/>
                    </a:lnTo>
                    <a:lnTo>
                      <a:pt x="267" y="227"/>
                    </a:lnTo>
                    <a:lnTo>
                      <a:pt x="265" y="235"/>
                    </a:lnTo>
                    <a:lnTo>
                      <a:pt x="308" y="246"/>
                    </a:lnTo>
                    <a:lnTo>
                      <a:pt x="305" y="262"/>
                    </a:lnTo>
                    <a:lnTo>
                      <a:pt x="313" y="282"/>
                    </a:lnTo>
                    <a:lnTo>
                      <a:pt x="315" y="287"/>
                    </a:lnTo>
                    <a:lnTo>
                      <a:pt x="315" y="295"/>
                    </a:lnTo>
                    <a:lnTo>
                      <a:pt x="312" y="304"/>
                    </a:lnTo>
                    <a:lnTo>
                      <a:pt x="305" y="310"/>
                    </a:lnTo>
                    <a:lnTo>
                      <a:pt x="296" y="310"/>
                    </a:lnTo>
                    <a:lnTo>
                      <a:pt x="239" y="319"/>
                    </a:lnTo>
                    <a:lnTo>
                      <a:pt x="228" y="342"/>
                    </a:lnTo>
                    <a:lnTo>
                      <a:pt x="228" y="358"/>
                    </a:lnTo>
                    <a:lnTo>
                      <a:pt x="218" y="378"/>
                    </a:lnTo>
                    <a:lnTo>
                      <a:pt x="218" y="410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1051560" y="3454200"/>
                <a:ext cx="63000" cy="155520"/>
              </a:xfrm>
              <a:custGeom>
                <a:avLst/>
                <a:gdLst/>
                <a:ahLst/>
                <a:rect l="l" t="t" r="r" b="b"/>
                <a:pathLst>
                  <a:path w="162" h="406">
                    <a:moveTo>
                      <a:pt x="0" y="18"/>
                    </a:moveTo>
                    <a:lnTo>
                      <a:pt x="77" y="0"/>
                    </a:lnTo>
                    <a:lnTo>
                      <a:pt x="162" y="397"/>
                    </a:lnTo>
                    <a:lnTo>
                      <a:pt x="18" y="40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846360" y="4186440"/>
                <a:ext cx="95760" cy="55080"/>
              </a:xfrm>
              <a:custGeom>
                <a:avLst/>
                <a:gdLst/>
                <a:ahLst/>
                <a:rect l="l" t="t" r="r" b="b"/>
                <a:pathLst>
                  <a:path w="246" h="143">
                    <a:moveTo>
                      <a:pt x="175" y="0"/>
                    </a:moveTo>
                    <a:lnTo>
                      <a:pt x="220" y="71"/>
                    </a:lnTo>
                    <a:lnTo>
                      <a:pt x="220" y="71"/>
                    </a:lnTo>
                    <a:lnTo>
                      <a:pt x="223" y="72"/>
                    </a:lnTo>
                    <a:lnTo>
                      <a:pt x="238" y="88"/>
                    </a:lnTo>
                    <a:lnTo>
                      <a:pt x="246" y="108"/>
                    </a:lnTo>
                    <a:lnTo>
                      <a:pt x="246" y="130"/>
                    </a:lnTo>
                    <a:lnTo>
                      <a:pt x="246" y="130"/>
                    </a:lnTo>
                    <a:lnTo>
                      <a:pt x="213" y="137"/>
                    </a:lnTo>
                    <a:lnTo>
                      <a:pt x="181" y="142"/>
                    </a:lnTo>
                    <a:lnTo>
                      <a:pt x="133" y="143"/>
                    </a:lnTo>
                    <a:lnTo>
                      <a:pt x="85" y="139"/>
                    </a:lnTo>
                    <a:lnTo>
                      <a:pt x="74" y="136"/>
                    </a:lnTo>
                    <a:lnTo>
                      <a:pt x="48" y="124"/>
                    </a:lnTo>
                    <a:lnTo>
                      <a:pt x="0" y="58"/>
                    </a:lnTo>
                    <a:lnTo>
                      <a:pt x="0" y="23"/>
                    </a:lnTo>
                    <a:lnTo>
                      <a:pt x="6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941400" y="4153680"/>
                <a:ext cx="161640" cy="41040"/>
              </a:xfrm>
              <a:custGeom>
                <a:avLst/>
                <a:gdLst/>
                <a:ahLst/>
                <a:rect l="l" t="t" r="r" b="b"/>
                <a:pathLst>
                  <a:path w="414" h="107">
                    <a:moveTo>
                      <a:pt x="235" y="0"/>
                    </a:moveTo>
                    <a:lnTo>
                      <a:pt x="252" y="9"/>
                    </a:lnTo>
                    <a:lnTo>
                      <a:pt x="281" y="29"/>
                    </a:lnTo>
                    <a:lnTo>
                      <a:pt x="316" y="39"/>
                    </a:lnTo>
                    <a:lnTo>
                      <a:pt x="380" y="45"/>
                    </a:lnTo>
                    <a:lnTo>
                      <a:pt x="393" y="48"/>
                    </a:lnTo>
                    <a:lnTo>
                      <a:pt x="402" y="57"/>
                    </a:lnTo>
                    <a:lnTo>
                      <a:pt x="405" y="71"/>
                    </a:lnTo>
                    <a:lnTo>
                      <a:pt x="406" y="96"/>
                    </a:lnTo>
                    <a:lnTo>
                      <a:pt x="414" y="96"/>
                    </a:lnTo>
                    <a:lnTo>
                      <a:pt x="414" y="107"/>
                    </a:lnTo>
                    <a:lnTo>
                      <a:pt x="226" y="107"/>
                    </a:lnTo>
                    <a:lnTo>
                      <a:pt x="125" y="90"/>
                    </a:lnTo>
                    <a:lnTo>
                      <a:pt x="116" y="107"/>
                    </a:lnTo>
                    <a:lnTo>
                      <a:pt x="116" y="107"/>
                    </a:lnTo>
                    <a:lnTo>
                      <a:pt x="62" y="107"/>
                    </a:lnTo>
                    <a:lnTo>
                      <a:pt x="23" y="103"/>
                    </a:lnTo>
                    <a:lnTo>
                      <a:pt x="6" y="101"/>
                    </a:lnTo>
                    <a:lnTo>
                      <a:pt x="6" y="88"/>
                    </a:lnTo>
                    <a:lnTo>
                      <a:pt x="0" y="57"/>
                    </a:lnTo>
                    <a:lnTo>
                      <a:pt x="0" y="39"/>
                    </a:lnTo>
                    <a:lnTo>
                      <a:pt x="4" y="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899280" y="3267360"/>
                <a:ext cx="119160" cy="210600"/>
              </a:xfrm>
              <a:custGeom>
                <a:avLst/>
                <a:gdLst/>
                <a:ahLst/>
                <a:rect l="l" t="t" r="r" b="b"/>
                <a:pathLst>
                  <a:path w="306" h="550">
                    <a:moveTo>
                      <a:pt x="253" y="75"/>
                    </a:moveTo>
                    <a:lnTo>
                      <a:pt x="226" y="101"/>
                    </a:lnTo>
                    <a:lnTo>
                      <a:pt x="229" y="100"/>
                    </a:lnTo>
                    <a:lnTo>
                      <a:pt x="228" y="100"/>
                    </a:lnTo>
                    <a:lnTo>
                      <a:pt x="160" y="73"/>
                    </a:lnTo>
                    <a:lnTo>
                      <a:pt x="94" y="40"/>
                    </a:lnTo>
                    <a:lnTo>
                      <a:pt x="33" y="0"/>
                    </a:lnTo>
                    <a:lnTo>
                      <a:pt x="0" y="46"/>
                    </a:lnTo>
                    <a:lnTo>
                      <a:pt x="0" y="550"/>
                    </a:lnTo>
                    <a:lnTo>
                      <a:pt x="306" y="550"/>
                    </a:lnTo>
                    <a:lnTo>
                      <a:pt x="306" y="169"/>
                    </a:lnTo>
                    <a:lnTo>
                      <a:pt x="263" y="82"/>
                    </a:lnTo>
                    <a:lnTo>
                      <a:pt x="253" y="75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923400" y="3306240"/>
                <a:ext cx="66240" cy="32040"/>
              </a:xfrm>
              <a:custGeom>
                <a:avLst/>
                <a:gdLst/>
                <a:ahLst/>
                <a:rect l="l" t="t" r="r" b="b"/>
                <a:pathLst>
                  <a:path w="169" h="84">
                    <a:moveTo>
                      <a:pt x="0" y="25"/>
                    </a:moveTo>
                    <a:lnTo>
                      <a:pt x="72" y="84"/>
                    </a:lnTo>
                    <a:lnTo>
                      <a:pt x="1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990000" y="3306240"/>
                <a:ext cx="14760" cy="21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972720" y="3305520"/>
                <a:ext cx="45000" cy="155520"/>
              </a:xfrm>
              <a:custGeom>
                <a:avLst/>
                <a:gdLst/>
                <a:ahLst/>
                <a:rect l="l" t="t" r="r" b="b"/>
                <a:pathLst>
                  <a:path w="118" h="405">
                    <a:moveTo>
                      <a:pt x="0" y="41"/>
                    </a:moveTo>
                    <a:lnTo>
                      <a:pt x="25" y="76"/>
                    </a:lnTo>
                    <a:lnTo>
                      <a:pt x="18" y="85"/>
                    </a:lnTo>
                    <a:lnTo>
                      <a:pt x="8" y="211"/>
                    </a:lnTo>
                    <a:lnTo>
                      <a:pt x="18" y="387"/>
                    </a:lnTo>
                    <a:lnTo>
                      <a:pt x="118" y="405"/>
                    </a:lnTo>
                    <a:lnTo>
                      <a:pt x="84" y="151"/>
                    </a:lnTo>
                    <a:lnTo>
                      <a:pt x="51" y="76"/>
                    </a:lnTo>
                    <a:lnTo>
                      <a:pt x="58" y="26"/>
                    </a:lnTo>
                    <a:lnTo>
                      <a:pt x="51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f7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86960" y="3267360"/>
                <a:ext cx="280800" cy="930960"/>
              </a:xfrm>
              <a:custGeom>
                <a:avLst/>
                <a:gdLst/>
                <a:ahLst/>
                <a:rect l="l" t="t" r="r" b="b"/>
                <a:pathLst>
                  <a:path w="722" h="2427">
                    <a:moveTo>
                      <a:pt x="662" y="1323"/>
                    </a:moveTo>
                    <a:lnTo>
                      <a:pt x="688" y="1195"/>
                    </a:lnTo>
                    <a:lnTo>
                      <a:pt x="722" y="1186"/>
                    </a:lnTo>
                    <a:lnTo>
                      <a:pt x="671" y="251"/>
                    </a:lnTo>
                    <a:lnTo>
                      <a:pt x="666" y="221"/>
                    </a:lnTo>
                    <a:lnTo>
                      <a:pt x="655" y="192"/>
                    </a:lnTo>
                    <a:lnTo>
                      <a:pt x="578" y="124"/>
                    </a:lnTo>
                    <a:lnTo>
                      <a:pt x="565" y="110"/>
                    </a:lnTo>
                    <a:lnTo>
                      <a:pt x="552" y="81"/>
                    </a:lnTo>
                    <a:lnTo>
                      <a:pt x="566" y="185"/>
                    </a:lnTo>
                    <a:lnTo>
                      <a:pt x="578" y="327"/>
                    </a:lnTo>
                    <a:lnTo>
                      <a:pt x="581" y="499"/>
                    </a:lnTo>
                    <a:lnTo>
                      <a:pt x="574" y="495"/>
                    </a:lnTo>
                    <a:lnTo>
                      <a:pt x="546" y="422"/>
                    </a:lnTo>
                    <a:lnTo>
                      <a:pt x="511" y="351"/>
                    </a:lnTo>
                    <a:lnTo>
                      <a:pt x="469" y="286"/>
                    </a:lnTo>
                    <a:lnTo>
                      <a:pt x="449" y="259"/>
                    </a:lnTo>
                    <a:lnTo>
                      <a:pt x="415" y="220"/>
                    </a:lnTo>
                    <a:lnTo>
                      <a:pt x="373" y="157"/>
                    </a:lnTo>
                    <a:lnTo>
                      <a:pt x="340" y="92"/>
                    </a:lnTo>
                    <a:lnTo>
                      <a:pt x="312" y="23"/>
                    </a:lnTo>
                    <a:lnTo>
                      <a:pt x="322" y="0"/>
                    </a:lnTo>
                    <a:lnTo>
                      <a:pt x="298" y="16"/>
                    </a:lnTo>
                    <a:lnTo>
                      <a:pt x="263" y="58"/>
                    </a:lnTo>
                    <a:lnTo>
                      <a:pt x="69" y="168"/>
                    </a:lnTo>
                    <a:lnTo>
                      <a:pt x="53" y="169"/>
                    </a:lnTo>
                    <a:lnTo>
                      <a:pt x="41" y="179"/>
                    </a:lnTo>
                    <a:lnTo>
                      <a:pt x="35" y="192"/>
                    </a:lnTo>
                    <a:lnTo>
                      <a:pt x="35" y="201"/>
                    </a:lnTo>
                    <a:lnTo>
                      <a:pt x="15" y="321"/>
                    </a:lnTo>
                    <a:lnTo>
                      <a:pt x="3" y="443"/>
                    </a:lnTo>
                    <a:lnTo>
                      <a:pt x="0" y="564"/>
                    </a:lnTo>
                    <a:lnTo>
                      <a:pt x="6" y="686"/>
                    </a:lnTo>
                    <a:lnTo>
                      <a:pt x="18" y="791"/>
                    </a:lnTo>
                    <a:lnTo>
                      <a:pt x="48" y="893"/>
                    </a:lnTo>
                    <a:lnTo>
                      <a:pt x="86" y="990"/>
                    </a:lnTo>
                    <a:lnTo>
                      <a:pt x="111" y="1045"/>
                    </a:lnTo>
                    <a:lnTo>
                      <a:pt x="95" y="1208"/>
                    </a:lnTo>
                    <a:lnTo>
                      <a:pt x="95" y="1221"/>
                    </a:lnTo>
                    <a:lnTo>
                      <a:pt x="145" y="1221"/>
                    </a:lnTo>
                    <a:lnTo>
                      <a:pt x="145" y="2394"/>
                    </a:lnTo>
                    <a:lnTo>
                      <a:pt x="272" y="2427"/>
                    </a:lnTo>
                    <a:lnTo>
                      <a:pt x="349" y="2401"/>
                    </a:lnTo>
                    <a:lnTo>
                      <a:pt x="357" y="2156"/>
                    </a:lnTo>
                    <a:lnTo>
                      <a:pt x="366" y="2039"/>
                    </a:lnTo>
                    <a:lnTo>
                      <a:pt x="391" y="1812"/>
                    </a:lnTo>
                    <a:lnTo>
                      <a:pt x="399" y="2006"/>
                    </a:lnTo>
                    <a:lnTo>
                      <a:pt x="399" y="2029"/>
                    </a:lnTo>
                    <a:lnTo>
                      <a:pt x="399" y="2174"/>
                    </a:lnTo>
                    <a:lnTo>
                      <a:pt x="391" y="2317"/>
                    </a:lnTo>
                    <a:lnTo>
                      <a:pt x="645" y="2317"/>
                    </a:lnTo>
                    <a:lnTo>
                      <a:pt x="629" y="2275"/>
                    </a:lnTo>
                    <a:lnTo>
                      <a:pt x="637" y="2233"/>
                    </a:lnTo>
                    <a:lnTo>
                      <a:pt x="637" y="1812"/>
                    </a:lnTo>
                    <a:lnTo>
                      <a:pt x="662" y="1323"/>
                    </a:lnTo>
                    <a:close/>
                  </a:path>
                </a:pathLst>
              </a:custGeom>
              <a:solidFill>
                <a:srgbClr val="0054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1018080" y="3638160"/>
                <a:ext cx="37440" cy="84240"/>
              </a:xfrm>
              <a:custGeom>
                <a:avLst/>
                <a:gdLst/>
                <a:ahLst/>
                <a:rect l="l" t="t" r="r" b="b"/>
                <a:pathLst>
                  <a:path w="94" h="220">
                    <a:moveTo>
                      <a:pt x="94" y="220"/>
                    </a:moveTo>
                    <a:lnTo>
                      <a:pt x="83" y="216"/>
                    </a:lnTo>
                    <a:lnTo>
                      <a:pt x="61" y="204"/>
                    </a:lnTo>
                    <a:lnTo>
                      <a:pt x="43" y="184"/>
                    </a:lnTo>
                    <a:lnTo>
                      <a:pt x="35" y="16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1011960" y="3315600"/>
                <a:ext cx="16200" cy="148680"/>
              </a:xfrm>
              <a:custGeom>
                <a:avLst/>
                <a:gdLst/>
                <a:ahLst/>
                <a:rect l="l" t="t" r="r" b="b"/>
                <a:pathLst>
                  <a:path w="42" h="389">
                    <a:moveTo>
                      <a:pt x="7" y="389"/>
                    </a:moveTo>
                    <a:lnTo>
                      <a:pt x="42" y="127"/>
                    </a:lnTo>
                    <a:lnTo>
                      <a:pt x="16" y="103"/>
                    </a:lnTo>
                    <a:lnTo>
                      <a:pt x="42" y="8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829800" y="3357720"/>
                <a:ext cx="92880" cy="360000"/>
              </a:xfrm>
              <a:custGeom>
                <a:avLst/>
                <a:gdLst/>
                <a:ahLst/>
                <a:rect l="l" t="t" r="r" b="b"/>
                <a:pathLst>
                  <a:path w="238" h="939">
                    <a:moveTo>
                      <a:pt x="68" y="0"/>
                    </a:moveTo>
                    <a:lnTo>
                      <a:pt x="87" y="43"/>
                    </a:lnTo>
                    <a:lnTo>
                      <a:pt x="98" y="92"/>
                    </a:lnTo>
                    <a:lnTo>
                      <a:pt x="101" y="141"/>
                    </a:lnTo>
                    <a:lnTo>
                      <a:pt x="114" y="207"/>
                    </a:lnTo>
                    <a:lnTo>
                      <a:pt x="137" y="359"/>
                    </a:lnTo>
                    <a:lnTo>
                      <a:pt x="152" y="513"/>
                    </a:lnTo>
                    <a:lnTo>
                      <a:pt x="238" y="893"/>
                    </a:lnTo>
                    <a:lnTo>
                      <a:pt x="187" y="917"/>
                    </a:lnTo>
                    <a:lnTo>
                      <a:pt x="133" y="935"/>
                    </a:lnTo>
                    <a:lnTo>
                      <a:pt x="74" y="939"/>
                    </a:lnTo>
                    <a:lnTo>
                      <a:pt x="20" y="848"/>
                    </a:lnTo>
                    <a:lnTo>
                      <a:pt x="0" y="8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889200" y="3289320"/>
                <a:ext cx="128880" cy="197640"/>
              </a:xfrm>
              <a:custGeom>
                <a:avLst/>
                <a:gdLst/>
                <a:ahLst/>
                <a:rect l="l" t="t" r="r" b="b"/>
                <a:pathLst>
                  <a:path w="331" h="515">
                    <a:moveTo>
                      <a:pt x="331" y="515"/>
                    </a:moveTo>
                    <a:lnTo>
                      <a:pt x="282" y="480"/>
                    </a:lnTo>
                    <a:lnTo>
                      <a:pt x="221" y="429"/>
                    </a:lnTo>
                    <a:lnTo>
                      <a:pt x="167" y="372"/>
                    </a:lnTo>
                    <a:lnTo>
                      <a:pt x="118" y="308"/>
                    </a:lnTo>
                    <a:lnTo>
                      <a:pt x="77" y="240"/>
                    </a:lnTo>
                    <a:lnTo>
                      <a:pt x="103" y="196"/>
                    </a:lnTo>
                    <a:lnTo>
                      <a:pt x="44" y="188"/>
                    </a:lnTo>
                    <a:lnTo>
                      <a:pt x="30" y="165"/>
                    </a:lnTo>
                    <a:lnTo>
                      <a:pt x="13" y="111"/>
                    </a:lnTo>
                    <a:lnTo>
                      <a:pt x="3" y="5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843120" y="3458160"/>
                <a:ext cx="177120" cy="277560"/>
              </a:xfrm>
              <a:custGeom>
                <a:avLst/>
                <a:gdLst/>
                <a:ahLst/>
                <a:rect l="l" t="t" r="r" b="b"/>
                <a:pathLst>
                  <a:path w="453" h="725">
                    <a:moveTo>
                      <a:pt x="430" y="0"/>
                    </a:moveTo>
                    <a:lnTo>
                      <a:pt x="450" y="78"/>
                    </a:lnTo>
                    <a:lnTo>
                      <a:pt x="453" y="217"/>
                    </a:lnTo>
                    <a:lnTo>
                      <a:pt x="449" y="356"/>
                    </a:lnTo>
                    <a:lnTo>
                      <a:pt x="437" y="495"/>
                    </a:lnTo>
                    <a:lnTo>
                      <a:pt x="415" y="633"/>
                    </a:lnTo>
                    <a:lnTo>
                      <a:pt x="402" y="660"/>
                    </a:lnTo>
                    <a:lnTo>
                      <a:pt x="381" y="686"/>
                    </a:lnTo>
                    <a:lnTo>
                      <a:pt x="353" y="706"/>
                    </a:lnTo>
                    <a:lnTo>
                      <a:pt x="323" y="719"/>
                    </a:lnTo>
                    <a:lnTo>
                      <a:pt x="288" y="725"/>
                    </a:lnTo>
                    <a:lnTo>
                      <a:pt x="0" y="7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872640" y="3706560"/>
                <a:ext cx="85680" cy="65160"/>
              </a:xfrm>
              <a:custGeom>
                <a:avLst/>
                <a:gdLst/>
                <a:ahLst/>
                <a:rect l="l" t="t" r="r" b="b"/>
                <a:pathLst>
                  <a:path w="220" h="169">
                    <a:moveTo>
                      <a:pt x="0" y="42"/>
                    </a:moveTo>
                    <a:lnTo>
                      <a:pt x="7" y="75"/>
                    </a:lnTo>
                    <a:lnTo>
                      <a:pt x="17" y="109"/>
                    </a:lnTo>
                    <a:lnTo>
                      <a:pt x="27" y="133"/>
                    </a:lnTo>
                    <a:lnTo>
                      <a:pt x="42" y="158"/>
                    </a:lnTo>
                    <a:lnTo>
                      <a:pt x="52" y="166"/>
                    </a:lnTo>
                    <a:lnTo>
                      <a:pt x="62" y="168"/>
                    </a:lnTo>
                    <a:lnTo>
                      <a:pt x="72" y="166"/>
                    </a:lnTo>
                    <a:lnTo>
                      <a:pt x="80" y="162"/>
                    </a:lnTo>
                    <a:lnTo>
                      <a:pt x="94" y="169"/>
                    </a:lnTo>
                    <a:lnTo>
                      <a:pt x="115" y="169"/>
                    </a:lnTo>
                    <a:lnTo>
                      <a:pt x="128" y="165"/>
                    </a:lnTo>
                    <a:lnTo>
                      <a:pt x="136" y="159"/>
                    </a:lnTo>
                    <a:lnTo>
                      <a:pt x="154" y="159"/>
                    </a:lnTo>
                    <a:lnTo>
                      <a:pt x="173" y="152"/>
                    </a:lnTo>
                    <a:lnTo>
                      <a:pt x="220" y="117"/>
                    </a:lnTo>
                    <a:lnTo>
                      <a:pt x="220" y="109"/>
                    </a:lnTo>
                    <a:lnTo>
                      <a:pt x="206" y="67"/>
                    </a:lnTo>
                    <a:lnTo>
                      <a:pt x="190" y="43"/>
                    </a:lnTo>
                    <a:lnTo>
                      <a:pt x="170" y="25"/>
                    </a:lnTo>
                    <a:lnTo>
                      <a:pt x="149" y="14"/>
                    </a:lnTo>
                    <a:lnTo>
                      <a:pt x="120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862560" y="3701160"/>
                <a:ext cx="60120" cy="24480"/>
              </a:xfrm>
              <a:custGeom>
                <a:avLst/>
                <a:gdLst/>
                <a:ahLst/>
                <a:rect l="l" t="t" r="r" b="b"/>
                <a:pathLst>
                  <a:path w="154" h="65">
                    <a:moveTo>
                      <a:pt x="49" y="41"/>
                    </a:moveTo>
                    <a:lnTo>
                      <a:pt x="103" y="23"/>
                    </a:lnTo>
                    <a:lnTo>
                      <a:pt x="149" y="0"/>
                    </a:lnTo>
                    <a:lnTo>
                      <a:pt x="154" y="15"/>
                    </a:lnTo>
                    <a:lnTo>
                      <a:pt x="126" y="29"/>
                    </a:lnTo>
                    <a:lnTo>
                      <a:pt x="68" y="51"/>
                    </a:lnTo>
                    <a:lnTo>
                      <a:pt x="10" y="65"/>
                    </a:lnTo>
                    <a:lnTo>
                      <a:pt x="0" y="45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939960" y="4139640"/>
                <a:ext cx="910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843120" y="4169160"/>
                <a:ext cx="80280" cy="12240"/>
              </a:xfrm>
              <a:custGeom>
                <a:avLst/>
                <a:gdLst/>
                <a:ahLst/>
                <a:rect l="l" t="t" r="r" b="b"/>
                <a:pathLst>
                  <a:path w="205" h="33">
                    <a:moveTo>
                      <a:pt x="0" y="0"/>
                    </a:moveTo>
                    <a:lnTo>
                      <a:pt x="127" y="33"/>
                    </a:lnTo>
                    <a:lnTo>
                      <a:pt x="205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762120" y="3735000"/>
                <a:ext cx="302760" cy="224640"/>
              </a:xfrm>
              <a:custGeom>
                <a:avLst/>
                <a:gdLst/>
                <a:ahLst/>
                <a:rect l="l" t="t" r="r" b="b"/>
                <a:pathLst>
                  <a:path w="775" h="585">
                    <a:moveTo>
                      <a:pt x="33" y="103"/>
                    </a:moveTo>
                    <a:lnTo>
                      <a:pt x="0" y="136"/>
                    </a:lnTo>
                    <a:lnTo>
                      <a:pt x="0" y="550"/>
                    </a:lnTo>
                    <a:lnTo>
                      <a:pt x="33" y="583"/>
                    </a:lnTo>
                    <a:lnTo>
                      <a:pt x="717" y="585"/>
                    </a:lnTo>
                    <a:lnTo>
                      <a:pt x="775" y="548"/>
                    </a:lnTo>
                    <a:lnTo>
                      <a:pt x="775" y="143"/>
                    </a:lnTo>
                    <a:lnTo>
                      <a:pt x="715" y="103"/>
                    </a:lnTo>
                    <a:lnTo>
                      <a:pt x="531" y="103"/>
                    </a:lnTo>
                    <a:lnTo>
                      <a:pt x="527" y="87"/>
                    </a:lnTo>
                    <a:lnTo>
                      <a:pt x="521" y="71"/>
                    </a:lnTo>
                    <a:lnTo>
                      <a:pt x="511" y="55"/>
                    </a:lnTo>
                    <a:lnTo>
                      <a:pt x="502" y="45"/>
                    </a:lnTo>
                    <a:lnTo>
                      <a:pt x="482" y="40"/>
                    </a:lnTo>
                    <a:lnTo>
                      <a:pt x="464" y="30"/>
                    </a:lnTo>
                    <a:lnTo>
                      <a:pt x="451" y="16"/>
                    </a:lnTo>
                    <a:lnTo>
                      <a:pt x="440" y="0"/>
                    </a:lnTo>
                    <a:lnTo>
                      <a:pt x="444" y="43"/>
                    </a:lnTo>
                    <a:lnTo>
                      <a:pt x="454" y="48"/>
                    </a:lnTo>
                    <a:lnTo>
                      <a:pt x="466" y="56"/>
                    </a:lnTo>
                    <a:lnTo>
                      <a:pt x="474" y="63"/>
                    </a:lnTo>
                    <a:lnTo>
                      <a:pt x="485" y="76"/>
                    </a:lnTo>
                    <a:lnTo>
                      <a:pt x="490" y="90"/>
                    </a:lnTo>
                    <a:lnTo>
                      <a:pt x="495" y="103"/>
                    </a:lnTo>
                    <a:lnTo>
                      <a:pt x="300" y="103"/>
                    </a:lnTo>
                    <a:lnTo>
                      <a:pt x="300" y="92"/>
                    </a:lnTo>
                    <a:lnTo>
                      <a:pt x="303" y="81"/>
                    </a:lnTo>
                    <a:lnTo>
                      <a:pt x="306" y="71"/>
                    </a:lnTo>
                    <a:lnTo>
                      <a:pt x="312" y="61"/>
                    </a:lnTo>
                    <a:lnTo>
                      <a:pt x="310" y="59"/>
                    </a:lnTo>
                    <a:lnTo>
                      <a:pt x="300" y="35"/>
                    </a:lnTo>
                    <a:lnTo>
                      <a:pt x="297" y="23"/>
                    </a:lnTo>
                    <a:lnTo>
                      <a:pt x="289" y="33"/>
                    </a:lnTo>
                    <a:lnTo>
                      <a:pt x="280" y="45"/>
                    </a:lnTo>
                    <a:lnTo>
                      <a:pt x="274" y="59"/>
                    </a:lnTo>
                    <a:lnTo>
                      <a:pt x="268" y="72"/>
                    </a:lnTo>
                    <a:lnTo>
                      <a:pt x="266" y="85"/>
                    </a:lnTo>
                    <a:lnTo>
                      <a:pt x="266" y="94"/>
                    </a:lnTo>
                    <a:lnTo>
                      <a:pt x="264" y="103"/>
                    </a:lnTo>
                    <a:lnTo>
                      <a:pt x="261" y="103"/>
                    </a:lnTo>
                    <a:lnTo>
                      <a:pt x="33" y="103"/>
                    </a:lnTo>
                    <a:close/>
                  </a:path>
                </a:pathLst>
              </a:custGeom>
              <a:solidFill>
                <a:srgbClr val="b5b5b5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1040760" y="3774960"/>
                <a:ext cx="13680" cy="183960"/>
              </a:xfrm>
              <a:custGeom>
                <a:avLst/>
                <a:gdLst/>
                <a:ahLst/>
                <a:rect l="l" t="t" r="r" b="b"/>
                <a:pathLst>
                  <a:path w="35" h="480">
                    <a:moveTo>
                      <a:pt x="1" y="0"/>
                    </a:moveTo>
                    <a:lnTo>
                      <a:pt x="35" y="31"/>
                    </a:lnTo>
                    <a:lnTo>
                      <a:pt x="35" y="447"/>
                    </a:lnTo>
                    <a:lnTo>
                      <a:pt x="0" y="4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775080" y="3785400"/>
                <a:ext cx="265320" cy="163800"/>
              </a:xfrm>
              <a:custGeom>
                <a:avLst/>
                <a:gdLst/>
                <a:ahLst/>
                <a:rect l="l" t="t" r="r" b="b"/>
                <a:pathLst>
                  <a:path w="679" h="430">
                    <a:moveTo>
                      <a:pt x="29" y="0"/>
                    </a:moveTo>
                    <a:lnTo>
                      <a:pt x="0" y="28"/>
                    </a:lnTo>
                    <a:lnTo>
                      <a:pt x="0" y="405"/>
                    </a:lnTo>
                    <a:lnTo>
                      <a:pt x="25" y="430"/>
                    </a:lnTo>
                    <a:lnTo>
                      <a:pt x="655" y="430"/>
                    </a:lnTo>
                    <a:lnTo>
                      <a:pt x="679" y="404"/>
                    </a:lnTo>
                    <a:lnTo>
                      <a:pt x="679" y="23"/>
                    </a:lnTo>
                    <a:lnTo>
                      <a:pt x="658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2121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flipH="1" flipV="1">
                <a:off x="917280" y="3757680"/>
                <a:ext cx="1008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flipH="1" flipV="1">
                <a:off x="906120" y="3760560"/>
                <a:ext cx="10800" cy="9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flipH="1" flipV="1">
                <a:off x="895680" y="3761280"/>
                <a:ext cx="6120" cy="68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1006920" y="3185280"/>
                <a:ext cx="20160" cy="468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29" y="0"/>
                    </a:moveTo>
                    <a:lnTo>
                      <a:pt x="52" y="0"/>
                    </a:lnTo>
                    <a:lnTo>
                      <a:pt x="49" y="5"/>
                    </a:lnTo>
                    <a:lnTo>
                      <a:pt x="32" y="5"/>
                    </a:lnTo>
                    <a:lnTo>
                      <a:pt x="0" y="1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1005480" y="3197520"/>
                <a:ext cx="14040" cy="432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7" y="0"/>
                    </a:moveTo>
                    <a:lnTo>
                      <a:pt x="0" y="5"/>
                    </a:lnTo>
                    <a:lnTo>
                      <a:pt x="34" y="12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889200" y="3124080"/>
                <a:ext cx="134280" cy="127080"/>
              </a:xfrm>
              <a:custGeom>
                <a:avLst/>
                <a:gdLst/>
                <a:ahLst/>
                <a:rect l="l" t="t" r="r" b="b"/>
                <a:pathLst>
                  <a:path w="344" h="331">
                    <a:moveTo>
                      <a:pt x="62" y="305"/>
                    </a:moveTo>
                    <a:lnTo>
                      <a:pt x="49" y="285"/>
                    </a:lnTo>
                    <a:lnTo>
                      <a:pt x="17" y="243"/>
                    </a:lnTo>
                    <a:lnTo>
                      <a:pt x="6" y="205"/>
                    </a:lnTo>
                    <a:lnTo>
                      <a:pt x="0" y="168"/>
                    </a:lnTo>
                    <a:lnTo>
                      <a:pt x="6" y="130"/>
                    </a:lnTo>
                    <a:lnTo>
                      <a:pt x="36" y="72"/>
                    </a:lnTo>
                    <a:lnTo>
                      <a:pt x="49" y="56"/>
                    </a:lnTo>
                    <a:lnTo>
                      <a:pt x="75" y="32"/>
                    </a:lnTo>
                    <a:lnTo>
                      <a:pt x="109" y="10"/>
                    </a:lnTo>
                    <a:lnTo>
                      <a:pt x="147" y="3"/>
                    </a:lnTo>
                    <a:lnTo>
                      <a:pt x="183" y="0"/>
                    </a:lnTo>
                    <a:lnTo>
                      <a:pt x="222" y="3"/>
                    </a:lnTo>
                    <a:lnTo>
                      <a:pt x="247" y="4"/>
                    </a:lnTo>
                    <a:lnTo>
                      <a:pt x="287" y="11"/>
                    </a:lnTo>
                    <a:lnTo>
                      <a:pt x="309" y="19"/>
                    </a:lnTo>
                    <a:lnTo>
                      <a:pt x="326" y="32"/>
                    </a:lnTo>
                    <a:lnTo>
                      <a:pt x="340" y="50"/>
                    </a:lnTo>
                    <a:lnTo>
                      <a:pt x="344" y="74"/>
                    </a:lnTo>
                    <a:lnTo>
                      <a:pt x="340" y="95"/>
                    </a:lnTo>
                    <a:lnTo>
                      <a:pt x="340" y="95"/>
                    </a:lnTo>
                    <a:lnTo>
                      <a:pt x="297" y="82"/>
                    </a:lnTo>
                    <a:lnTo>
                      <a:pt x="254" y="76"/>
                    </a:lnTo>
                    <a:lnTo>
                      <a:pt x="213" y="79"/>
                    </a:lnTo>
                    <a:lnTo>
                      <a:pt x="213" y="79"/>
                    </a:lnTo>
                    <a:lnTo>
                      <a:pt x="196" y="82"/>
                    </a:lnTo>
                    <a:lnTo>
                      <a:pt x="213" y="105"/>
                    </a:lnTo>
                    <a:lnTo>
                      <a:pt x="226" y="134"/>
                    </a:lnTo>
                    <a:lnTo>
                      <a:pt x="226" y="143"/>
                    </a:lnTo>
                    <a:lnTo>
                      <a:pt x="216" y="163"/>
                    </a:lnTo>
                    <a:lnTo>
                      <a:pt x="186" y="204"/>
                    </a:lnTo>
                    <a:lnTo>
                      <a:pt x="154" y="204"/>
                    </a:lnTo>
                    <a:lnTo>
                      <a:pt x="149" y="191"/>
                    </a:lnTo>
                    <a:lnTo>
                      <a:pt x="145" y="185"/>
                    </a:lnTo>
                    <a:lnTo>
                      <a:pt x="136" y="179"/>
                    </a:lnTo>
                    <a:lnTo>
                      <a:pt x="128" y="176"/>
                    </a:lnTo>
                    <a:lnTo>
                      <a:pt x="112" y="181"/>
                    </a:lnTo>
                    <a:lnTo>
                      <a:pt x="99" y="194"/>
                    </a:lnTo>
                    <a:lnTo>
                      <a:pt x="93" y="210"/>
                    </a:lnTo>
                    <a:lnTo>
                      <a:pt x="94" y="223"/>
                    </a:lnTo>
                    <a:lnTo>
                      <a:pt x="96" y="231"/>
                    </a:lnTo>
                    <a:lnTo>
                      <a:pt x="103" y="250"/>
                    </a:lnTo>
                    <a:lnTo>
                      <a:pt x="113" y="266"/>
                    </a:lnTo>
                    <a:lnTo>
                      <a:pt x="119" y="272"/>
                    </a:lnTo>
                    <a:lnTo>
                      <a:pt x="106" y="289"/>
                    </a:lnTo>
                    <a:lnTo>
                      <a:pt x="96" y="304"/>
                    </a:lnTo>
                    <a:lnTo>
                      <a:pt x="81" y="320"/>
                    </a:lnTo>
                    <a:lnTo>
                      <a:pt x="68" y="331"/>
                    </a:lnTo>
                    <a:lnTo>
                      <a:pt x="62" y="30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935280" y="3225960"/>
                <a:ext cx="24840" cy="2376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6"/>
                    </a:moveTo>
                    <a:lnTo>
                      <a:pt x="11" y="10"/>
                    </a:lnTo>
                    <a:lnTo>
                      <a:pt x="21" y="9"/>
                    </a:lnTo>
                    <a:lnTo>
                      <a:pt x="27" y="6"/>
                    </a:lnTo>
                    <a:lnTo>
                      <a:pt x="34" y="0"/>
                    </a:lnTo>
                    <a:lnTo>
                      <a:pt x="45" y="32"/>
                    </a:lnTo>
                    <a:lnTo>
                      <a:pt x="63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1001520" y="353556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30" y="17"/>
                    </a:moveTo>
                    <a:lnTo>
                      <a:pt x="29" y="8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8" y="3"/>
                    </a:lnTo>
                    <a:lnTo>
                      <a:pt x="3" y="8"/>
                    </a:lnTo>
                    <a:lnTo>
                      <a:pt x="0" y="17"/>
                    </a:lnTo>
                    <a:lnTo>
                      <a:pt x="3" y="26"/>
                    </a:lnTo>
                    <a:lnTo>
                      <a:pt x="8" y="33"/>
                    </a:lnTo>
                    <a:lnTo>
                      <a:pt x="16" y="34"/>
                    </a:lnTo>
                    <a:lnTo>
                      <a:pt x="23" y="33"/>
                    </a:lnTo>
                    <a:lnTo>
                      <a:pt x="29" y="26"/>
                    </a:lnTo>
                    <a:lnTo>
                      <a:pt x="30" y="17"/>
                    </a:lnTo>
                    <a:lnTo>
                      <a:pt x="3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058760" y="3602160"/>
                <a:ext cx="52200" cy="39960"/>
              </a:xfrm>
              <a:custGeom>
                <a:avLst/>
                <a:gdLst/>
                <a:ahLst/>
                <a:rect l="l" t="t" r="r" b="b"/>
                <a:pathLst>
                  <a:path w="135" h="105">
                    <a:moveTo>
                      <a:pt x="74" y="16"/>
                    </a:moveTo>
                    <a:lnTo>
                      <a:pt x="51" y="18"/>
                    </a:lnTo>
                    <a:lnTo>
                      <a:pt x="46" y="5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9" y="8"/>
                    </a:lnTo>
                    <a:lnTo>
                      <a:pt x="27" y="16"/>
                    </a:lnTo>
                    <a:lnTo>
                      <a:pt x="22" y="11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9" y="16"/>
                    </a:lnTo>
                    <a:lnTo>
                      <a:pt x="9" y="21"/>
                    </a:lnTo>
                    <a:lnTo>
                      <a:pt x="11" y="70"/>
                    </a:lnTo>
                    <a:lnTo>
                      <a:pt x="9" y="70"/>
                    </a:lnTo>
                    <a:lnTo>
                      <a:pt x="3" y="74"/>
                    </a:lnTo>
                    <a:lnTo>
                      <a:pt x="0" y="80"/>
                    </a:lnTo>
                    <a:lnTo>
                      <a:pt x="0" y="86"/>
                    </a:lnTo>
                    <a:lnTo>
                      <a:pt x="4" y="92"/>
                    </a:lnTo>
                    <a:lnTo>
                      <a:pt x="7" y="94"/>
                    </a:lnTo>
                    <a:lnTo>
                      <a:pt x="9" y="96"/>
                    </a:lnTo>
                    <a:lnTo>
                      <a:pt x="51" y="105"/>
                    </a:lnTo>
                    <a:lnTo>
                      <a:pt x="106" y="76"/>
                    </a:lnTo>
                    <a:lnTo>
                      <a:pt x="109" y="73"/>
                    </a:lnTo>
                    <a:lnTo>
                      <a:pt x="119" y="61"/>
                    </a:lnTo>
                    <a:lnTo>
                      <a:pt x="126" y="50"/>
                    </a:lnTo>
                    <a:lnTo>
                      <a:pt x="132" y="37"/>
                    </a:lnTo>
                    <a:lnTo>
                      <a:pt x="133" y="22"/>
                    </a:lnTo>
                    <a:lnTo>
                      <a:pt x="135" y="13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1078200" y="360864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23" y="0"/>
                    </a:moveTo>
                    <a:lnTo>
                      <a:pt x="48" y="16"/>
                    </a:lnTo>
                    <a:lnTo>
                      <a:pt x="13" y="3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1061640" y="3610080"/>
                <a:ext cx="5400" cy="1908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0"/>
                    </a:moveTo>
                    <a:lnTo>
                      <a:pt x="4" y="24"/>
                    </a:lnTo>
                    <a:lnTo>
                      <a:pt x="13" y="50"/>
                    </a:lnTo>
                    <a:lnTo>
                      <a:pt x="1" y="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1068120" y="3630600"/>
                <a:ext cx="1152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1069560" y="3609360"/>
                <a:ext cx="14760" cy="2376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0" y="0"/>
                    </a:moveTo>
                    <a:lnTo>
                      <a:pt x="4" y="16"/>
                    </a:lnTo>
                    <a:lnTo>
                      <a:pt x="14" y="45"/>
                    </a:lnTo>
                    <a:lnTo>
                      <a:pt x="38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flipH="1">
                <a:off x="1014120" y="3231720"/>
                <a:ext cx="3600" cy="129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5" name=""/>
          <p:cNvGrpSpPr/>
          <p:nvPr/>
        </p:nvGrpSpPr>
        <p:grpSpPr>
          <a:xfrm>
            <a:off x="914400" y="3276720"/>
            <a:ext cx="457200" cy="1186920"/>
            <a:chOff x="914400" y="3276720"/>
            <a:chExt cx="457200" cy="1186920"/>
          </a:xfrm>
        </p:grpSpPr>
        <p:sp>
          <p:nvSpPr>
            <p:cNvPr id="1676" name=""/>
            <p:cNvSpPr/>
            <p:nvPr/>
          </p:nvSpPr>
          <p:spPr>
            <a:xfrm>
              <a:off x="914400" y="4307040"/>
              <a:ext cx="457200" cy="15660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7" name=""/>
            <p:cNvGrpSpPr/>
            <p:nvPr/>
          </p:nvGrpSpPr>
          <p:grpSpPr>
            <a:xfrm>
              <a:off x="914400" y="3276720"/>
              <a:ext cx="352440" cy="1117080"/>
              <a:chOff x="914400" y="3276720"/>
              <a:chExt cx="352440" cy="1117080"/>
            </a:xfrm>
          </p:grpSpPr>
          <p:sp>
            <p:nvSpPr>
              <p:cNvPr id="1678" name=""/>
              <p:cNvSpPr/>
              <p:nvPr/>
            </p:nvSpPr>
            <p:spPr>
              <a:xfrm>
                <a:off x="1064880" y="3304080"/>
                <a:ext cx="131760" cy="156960"/>
              </a:xfrm>
              <a:custGeom>
                <a:avLst/>
                <a:gdLst/>
                <a:ahLst/>
                <a:rect l="l" t="t" r="r" b="b"/>
                <a:pathLst>
                  <a:path w="337" h="410">
                    <a:moveTo>
                      <a:pt x="218" y="410"/>
                    </a:moveTo>
                    <a:lnTo>
                      <a:pt x="0" y="410"/>
                    </a:lnTo>
                    <a:lnTo>
                      <a:pt x="0" y="303"/>
                    </a:lnTo>
                    <a:lnTo>
                      <a:pt x="7" y="261"/>
                    </a:lnTo>
                    <a:lnTo>
                      <a:pt x="7" y="0"/>
                    </a:lnTo>
                    <a:lnTo>
                      <a:pt x="280" y="0"/>
                    </a:lnTo>
                    <a:lnTo>
                      <a:pt x="279" y="23"/>
                    </a:lnTo>
                    <a:lnTo>
                      <a:pt x="305" y="71"/>
                    </a:lnTo>
                    <a:lnTo>
                      <a:pt x="310" y="83"/>
                    </a:lnTo>
                    <a:lnTo>
                      <a:pt x="309" y="96"/>
                    </a:lnTo>
                    <a:lnTo>
                      <a:pt x="297" y="122"/>
                    </a:lnTo>
                    <a:lnTo>
                      <a:pt x="313" y="138"/>
                    </a:lnTo>
                    <a:lnTo>
                      <a:pt x="337" y="168"/>
                    </a:lnTo>
                    <a:lnTo>
                      <a:pt x="326" y="183"/>
                    </a:lnTo>
                    <a:lnTo>
                      <a:pt x="310" y="187"/>
                    </a:lnTo>
                    <a:lnTo>
                      <a:pt x="310" y="211"/>
                    </a:lnTo>
                    <a:lnTo>
                      <a:pt x="313" y="214"/>
                    </a:lnTo>
                    <a:lnTo>
                      <a:pt x="313" y="223"/>
                    </a:lnTo>
                    <a:lnTo>
                      <a:pt x="267" y="227"/>
                    </a:lnTo>
                    <a:lnTo>
                      <a:pt x="265" y="235"/>
                    </a:lnTo>
                    <a:lnTo>
                      <a:pt x="308" y="246"/>
                    </a:lnTo>
                    <a:lnTo>
                      <a:pt x="305" y="262"/>
                    </a:lnTo>
                    <a:lnTo>
                      <a:pt x="313" y="282"/>
                    </a:lnTo>
                    <a:lnTo>
                      <a:pt x="315" y="287"/>
                    </a:lnTo>
                    <a:lnTo>
                      <a:pt x="315" y="295"/>
                    </a:lnTo>
                    <a:lnTo>
                      <a:pt x="312" y="304"/>
                    </a:lnTo>
                    <a:lnTo>
                      <a:pt x="305" y="310"/>
                    </a:lnTo>
                    <a:lnTo>
                      <a:pt x="296" y="310"/>
                    </a:lnTo>
                    <a:lnTo>
                      <a:pt x="239" y="319"/>
                    </a:lnTo>
                    <a:lnTo>
                      <a:pt x="228" y="342"/>
                    </a:lnTo>
                    <a:lnTo>
                      <a:pt x="228" y="358"/>
                    </a:lnTo>
                    <a:lnTo>
                      <a:pt x="218" y="378"/>
                    </a:lnTo>
                    <a:lnTo>
                      <a:pt x="218" y="410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203840" y="3606840"/>
                <a:ext cx="63000" cy="155520"/>
              </a:xfrm>
              <a:custGeom>
                <a:avLst/>
                <a:gdLst/>
                <a:ahLst/>
                <a:rect l="l" t="t" r="r" b="b"/>
                <a:pathLst>
                  <a:path w="162" h="406">
                    <a:moveTo>
                      <a:pt x="0" y="18"/>
                    </a:moveTo>
                    <a:lnTo>
                      <a:pt x="77" y="0"/>
                    </a:lnTo>
                    <a:lnTo>
                      <a:pt x="162" y="397"/>
                    </a:lnTo>
                    <a:lnTo>
                      <a:pt x="18" y="40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998640" y="4338720"/>
                <a:ext cx="95760" cy="55080"/>
              </a:xfrm>
              <a:custGeom>
                <a:avLst/>
                <a:gdLst/>
                <a:ahLst/>
                <a:rect l="l" t="t" r="r" b="b"/>
                <a:pathLst>
                  <a:path w="246" h="143">
                    <a:moveTo>
                      <a:pt x="175" y="0"/>
                    </a:moveTo>
                    <a:lnTo>
                      <a:pt x="220" y="71"/>
                    </a:lnTo>
                    <a:lnTo>
                      <a:pt x="220" y="71"/>
                    </a:lnTo>
                    <a:lnTo>
                      <a:pt x="223" y="72"/>
                    </a:lnTo>
                    <a:lnTo>
                      <a:pt x="238" y="88"/>
                    </a:lnTo>
                    <a:lnTo>
                      <a:pt x="246" y="108"/>
                    </a:lnTo>
                    <a:lnTo>
                      <a:pt x="246" y="130"/>
                    </a:lnTo>
                    <a:lnTo>
                      <a:pt x="246" y="130"/>
                    </a:lnTo>
                    <a:lnTo>
                      <a:pt x="213" y="137"/>
                    </a:lnTo>
                    <a:lnTo>
                      <a:pt x="181" y="142"/>
                    </a:lnTo>
                    <a:lnTo>
                      <a:pt x="133" y="143"/>
                    </a:lnTo>
                    <a:lnTo>
                      <a:pt x="85" y="139"/>
                    </a:lnTo>
                    <a:lnTo>
                      <a:pt x="74" y="136"/>
                    </a:lnTo>
                    <a:lnTo>
                      <a:pt x="48" y="124"/>
                    </a:lnTo>
                    <a:lnTo>
                      <a:pt x="0" y="58"/>
                    </a:lnTo>
                    <a:lnTo>
                      <a:pt x="0" y="23"/>
                    </a:lnTo>
                    <a:lnTo>
                      <a:pt x="6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1093680" y="4305960"/>
                <a:ext cx="161640" cy="41040"/>
              </a:xfrm>
              <a:custGeom>
                <a:avLst/>
                <a:gdLst/>
                <a:ahLst/>
                <a:rect l="l" t="t" r="r" b="b"/>
                <a:pathLst>
                  <a:path w="414" h="107">
                    <a:moveTo>
                      <a:pt x="235" y="0"/>
                    </a:moveTo>
                    <a:lnTo>
                      <a:pt x="252" y="9"/>
                    </a:lnTo>
                    <a:lnTo>
                      <a:pt x="281" y="29"/>
                    </a:lnTo>
                    <a:lnTo>
                      <a:pt x="316" y="39"/>
                    </a:lnTo>
                    <a:lnTo>
                      <a:pt x="380" y="45"/>
                    </a:lnTo>
                    <a:lnTo>
                      <a:pt x="393" y="48"/>
                    </a:lnTo>
                    <a:lnTo>
                      <a:pt x="402" y="57"/>
                    </a:lnTo>
                    <a:lnTo>
                      <a:pt x="405" y="71"/>
                    </a:lnTo>
                    <a:lnTo>
                      <a:pt x="406" y="96"/>
                    </a:lnTo>
                    <a:lnTo>
                      <a:pt x="414" y="96"/>
                    </a:lnTo>
                    <a:lnTo>
                      <a:pt x="414" y="107"/>
                    </a:lnTo>
                    <a:lnTo>
                      <a:pt x="226" y="107"/>
                    </a:lnTo>
                    <a:lnTo>
                      <a:pt x="125" y="90"/>
                    </a:lnTo>
                    <a:lnTo>
                      <a:pt x="116" y="107"/>
                    </a:lnTo>
                    <a:lnTo>
                      <a:pt x="116" y="107"/>
                    </a:lnTo>
                    <a:lnTo>
                      <a:pt x="62" y="107"/>
                    </a:lnTo>
                    <a:lnTo>
                      <a:pt x="23" y="103"/>
                    </a:lnTo>
                    <a:lnTo>
                      <a:pt x="6" y="101"/>
                    </a:lnTo>
                    <a:lnTo>
                      <a:pt x="6" y="88"/>
                    </a:lnTo>
                    <a:lnTo>
                      <a:pt x="0" y="57"/>
                    </a:lnTo>
                    <a:lnTo>
                      <a:pt x="0" y="39"/>
                    </a:lnTo>
                    <a:lnTo>
                      <a:pt x="4" y="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1051560" y="3419640"/>
                <a:ext cx="119160" cy="210600"/>
              </a:xfrm>
              <a:custGeom>
                <a:avLst/>
                <a:gdLst/>
                <a:ahLst/>
                <a:rect l="l" t="t" r="r" b="b"/>
                <a:pathLst>
                  <a:path w="306" h="550">
                    <a:moveTo>
                      <a:pt x="253" y="75"/>
                    </a:moveTo>
                    <a:lnTo>
                      <a:pt x="226" y="101"/>
                    </a:lnTo>
                    <a:lnTo>
                      <a:pt x="229" y="100"/>
                    </a:lnTo>
                    <a:lnTo>
                      <a:pt x="228" y="100"/>
                    </a:lnTo>
                    <a:lnTo>
                      <a:pt x="160" y="73"/>
                    </a:lnTo>
                    <a:lnTo>
                      <a:pt x="94" y="40"/>
                    </a:lnTo>
                    <a:lnTo>
                      <a:pt x="33" y="0"/>
                    </a:lnTo>
                    <a:lnTo>
                      <a:pt x="0" y="46"/>
                    </a:lnTo>
                    <a:lnTo>
                      <a:pt x="0" y="550"/>
                    </a:lnTo>
                    <a:lnTo>
                      <a:pt x="306" y="550"/>
                    </a:lnTo>
                    <a:lnTo>
                      <a:pt x="306" y="169"/>
                    </a:lnTo>
                    <a:lnTo>
                      <a:pt x="263" y="82"/>
                    </a:lnTo>
                    <a:lnTo>
                      <a:pt x="253" y="75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1075680" y="3458880"/>
                <a:ext cx="66240" cy="32040"/>
              </a:xfrm>
              <a:custGeom>
                <a:avLst/>
                <a:gdLst/>
                <a:ahLst/>
                <a:rect l="l" t="t" r="r" b="b"/>
                <a:pathLst>
                  <a:path w="169" h="84">
                    <a:moveTo>
                      <a:pt x="0" y="25"/>
                    </a:moveTo>
                    <a:lnTo>
                      <a:pt x="72" y="84"/>
                    </a:lnTo>
                    <a:lnTo>
                      <a:pt x="1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1142280" y="3458880"/>
                <a:ext cx="14760" cy="21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125000" y="3458160"/>
                <a:ext cx="45000" cy="155520"/>
              </a:xfrm>
              <a:custGeom>
                <a:avLst/>
                <a:gdLst/>
                <a:ahLst/>
                <a:rect l="l" t="t" r="r" b="b"/>
                <a:pathLst>
                  <a:path w="118" h="405">
                    <a:moveTo>
                      <a:pt x="0" y="41"/>
                    </a:moveTo>
                    <a:lnTo>
                      <a:pt x="25" y="76"/>
                    </a:lnTo>
                    <a:lnTo>
                      <a:pt x="18" y="85"/>
                    </a:lnTo>
                    <a:lnTo>
                      <a:pt x="8" y="211"/>
                    </a:lnTo>
                    <a:lnTo>
                      <a:pt x="18" y="387"/>
                    </a:lnTo>
                    <a:lnTo>
                      <a:pt x="118" y="405"/>
                    </a:lnTo>
                    <a:lnTo>
                      <a:pt x="84" y="151"/>
                    </a:lnTo>
                    <a:lnTo>
                      <a:pt x="51" y="76"/>
                    </a:lnTo>
                    <a:lnTo>
                      <a:pt x="58" y="26"/>
                    </a:lnTo>
                    <a:lnTo>
                      <a:pt x="51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f7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939240" y="3419640"/>
                <a:ext cx="280800" cy="930600"/>
              </a:xfrm>
              <a:custGeom>
                <a:avLst/>
                <a:gdLst/>
                <a:ahLst/>
                <a:rect l="l" t="t" r="r" b="b"/>
                <a:pathLst>
                  <a:path w="722" h="2427">
                    <a:moveTo>
                      <a:pt x="662" y="1323"/>
                    </a:moveTo>
                    <a:lnTo>
                      <a:pt x="688" y="1195"/>
                    </a:lnTo>
                    <a:lnTo>
                      <a:pt x="722" y="1186"/>
                    </a:lnTo>
                    <a:lnTo>
                      <a:pt x="671" y="251"/>
                    </a:lnTo>
                    <a:lnTo>
                      <a:pt x="666" y="221"/>
                    </a:lnTo>
                    <a:lnTo>
                      <a:pt x="655" y="192"/>
                    </a:lnTo>
                    <a:lnTo>
                      <a:pt x="578" y="124"/>
                    </a:lnTo>
                    <a:lnTo>
                      <a:pt x="565" y="110"/>
                    </a:lnTo>
                    <a:lnTo>
                      <a:pt x="552" y="81"/>
                    </a:lnTo>
                    <a:lnTo>
                      <a:pt x="566" y="185"/>
                    </a:lnTo>
                    <a:lnTo>
                      <a:pt x="578" y="327"/>
                    </a:lnTo>
                    <a:lnTo>
                      <a:pt x="581" y="499"/>
                    </a:lnTo>
                    <a:lnTo>
                      <a:pt x="574" y="495"/>
                    </a:lnTo>
                    <a:lnTo>
                      <a:pt x="546" y="422"/>
                    </a:lnTo>
                    <a:lnTo>
                      <a:pt x="511" y="351"/>
                    </a:lnTo>
                    <a:lnTo>
                      <a:pt x="469" y="286"/>
                    </a:lnTo>
                    <a:lnTo>
                      <a:pt x="449" y="259"/>
                    </a:lnTo>
                    <a:lnTo>
                      <a:pt x="415" y="220"/>
                    </a:lnTo>
                    <a:lnTo>
                      <a:pt x="373" y="157"/>
                    </a:lnTo>
                    <a:lnTo>
                      <a:pt x="340" y="92"/>
                    </a:lnTo>
                    <a:lnTo>
                      <a:pt x="312" y="23"/>
                    </a:lnTo>
                    <a:lnTo>
                      <a:pt x="322" y="0"/>
                    </a:lnTo>
                    <a:lnTo>
                      <a:pt x="298" y="16"/>
                    </a:lnTo>
                    <a:lnTo>
                      <a:pt x="263" y="58"/>
                    </a:lnTo>
                    <a:lnTo>
                      <a:pt x="69" y="168"/>
                    </a:lnTo>
                    <a:lnTo>
                      <a:pt x="53" y="169"/>
                    </a:lnTo>
                    <a:lnTo>
                      <a:pt x="41" y="179"/>
                    </a:lnTo>
                    <a:lnTo>
                      <a:pt x="35" y="192"/>
                    </a:lnTo>
                    <a:lnTo>
                      <a:pt x="35" y="201"/>
                    </a:lnTo>
                    <a:lnTo>
                      <a:pt x="15" y="321"/>
                    </a:lnTo>
                    <a:lnTo>
                      <a:pt x="3" y="443"/>
                    </a:lnTo>
                    <a:lnTo>
                      <a:pt x="0" y="564"/>
                    </a:lnTo>
                    <a:lnTo>
                      <a:pt x="6" y="686"/>
                    </a:lnTo>
                    <a:lnTo>
                      <a:pt x="18" y="791"/>
                    </a:lnTo>
                    <a:lnTo>
                      <a:pt x="48" y="893"/>
                    </a:lnTo>
                    <a:lnTo>
                      <a:pt x="86" y="990"/>
                    </a:lnTo>
                    <a:lnTo>
                      <a:pt x="111" y="1045"/>
                    </a:lnTo>
                    <a:lnTo>
                      <a:pt x="95" y="1208"/>
                    </a:lnTo>
                    <a:lnTo>
                      <a:pt x="95" y="1221"/>
                    </a:lnTo>
                    <a:lnTo>
                      <a:pt x="145" y="1221"/>
                    </a:lnTo>
                    <a:lnTo>
                      <a:pt x="145" y="2394"/>
                    </a:lnTo>
                    <a:lnTo>
                      <a:pt x="272" y="2427"/>
                    </a:lnTo>
                    <a:lnTo>
                      <a:pt x="349" y="2401"/>
                    </a:lnTo>
                    <a:lnTo>
                      <a:pt x="357" y="2156"/>
                    </a:lnTo>
                    <a:lnTo>
                      <a:pt x="366" y="2039"/>
                    </a:lnTo>
                    <a:lnTo>
                      <a:pt x="391" y="1812"/>
                    </a:lnTo>
                    <a:lnTo>
                      <a:pt x="399" y="2006"/>
                    </a:lnTo>
                    <a:lnTo>
                      <a:pt x="399" y="2029"/>
                    </a:lnTo>
                    <a:lnTo>
                      <a:pt x="399" y="2174"/>
                    </a:lnTo>
                    <a:lnTo>
                      <a:pt x="391" y="2317"/>
                    </a:lnTo>
                    <a:lnTo>
                      <a:pt x="645" y="2317"/>
                    </a:lnTo>
                    <a:lnTo>
                      <a:pt x="629" y="2275"/>
                    </a:lnTo>
                    <a:lnTo>
                      <a:pt x="637" y="2233"/>
                    </a:lnTo>
                    <a:lnTo>
                      <a:pt x="637" y="1812"/>
                    </a:lnTo>
                    <a:lnTo>
                      <a:pt x="662" y="1323"/>
                    </a:lnTo>
                    <a:close/>
                  </a:path>
                </a:pathLst>
              </a:custGeom>
              <a:solidFill>
                <a:srgbClr val="0054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1170360" y="3790800"/>
                <a:ext cx="37440" cy="84240"/>
              </a:xfrm>
              <a:custGeom>
                <a:avLst/>
                <a:gdLst/>
                <a:ahLst/>
                <a:rect l="l" t="t" r="r" b="b"/>
                <a:pathLst>
                  <a:path w="94" h="220">
                    <a:moveTo>
                      <a:pt x="94" y="220"/>
                    </a:moveTo>
                    <a:lnTo>
                      <a:pt x="83" y="216"/>
                    </a:lnTo>
                    <a:lnTo>
                      <a:pt x="61" y="204"/>
                    </a:lnTo>
                    <a:lnTo>
                      <a:pt x="43" y="184"/>
                    </a:lnTo>
                    <a:lnTo>
                      <a:pt x="35" y="16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1164240" y="3468240"/>
                <a:ext cx="16200" cy="148320"/>
              </a:xfrm>
              <a:custGeom>
                <a:avLst/>
                <a:gdLst/>
                <a:ahLst/>
                <a:rect l="l" t="t" r="r" b="b"/>
                <a:pathLst>
                  <a:path w="42" h="389">
                    <a:moveTo>
                      <a:pt x="7" y="389"/>
                    </a:moveTo>
                    <a:lnTo>
                      <a:pt x="42" y="127"/>
                    </a:lnTo>
                    <a:lnTo>
                      <a:pt x="16" y="103"/>
                    </a:lnTo>
                    <a:lnTo>
                      <a:pt x="42" y="8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982080" y="3510360"/>
                <a:ext cx="92880" cy="360000"/>
              </a:xfrm>
              <a:custGeom>
                <a:avLst/>
                <a:gdLst/>
                <a:ahLst/>
                <a:rect l="l" t="t" r="r" b="b"/>
                <a:pathLst>
                  <a:path w="238" h="939">
                    <a:moveTo>
                      <a:pt x="68" y="0"/>
                    </a:moveTo>
                    <a:lnTo>
                      <a:pt x="87" y="43"/>
                    </a:lnTo>
                    <a:lnTo>
                      <a:pt x="98" y="92"/>
                    </a:lnTo>
                    <a:lnTo>
                      <a:pt x="101" y="141"/>
                    </a:lnTo>
                    <a:lnTo>
                      <a:pt x="114" y="207"/>
                    </a:lnTo>
                    <a:lnTo>
                      <a:pt x="137" y="359"/>
                    </a:lnTo>
                    <a:lnTo>
                      <a:pt x="152" y="513"/>
                    </a:lnTo>
                    <a:lnTo>
                      <a:pt x="238" y="893"/>
                    </a:lnTo>
                    <a:lnTo>
                      <a:pt x="187" y="917"/>
                    </a:lnTo>
                    <a:lnTo>
                      <a:pt x="133" y="935"/>
                    </a:lnTo>
                    <a:lnTo>
                      <a:pt x="74" y="939"/>
                    </a:lnTo>
                    <a:lnTo>
                      <a:pt x="20" y="848"/>
                    </a:lnTo>
                    <a:lnTo>
                      <a:pt x="0" y="8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1041480" y="3441960"/>
                <a:ext cx="128880" cy="197640"/>
              </a:xfrm>
              <a:custGeom>
                <a:avLst/>
                <a:gdLst/>
                <a:ahLst/>
                <a:rect l="l" t="t" r="r" b="b"/>
                <a:pathLst>
                  <a:path w="331" h="515">
                    <a:moveTo>
                      <a:pt x="331" y="515"/>
                    </a:moveTo>
                    <a:lnTo>
                      <a:pt x="282" y="480"/>
                    </a:lnTo>
                    <a:lnTo>
                      <a:pt x="221" y="429"/>
                    </a:lnTo>
                    <a:lnTo>
                      <a:pt x="167" y="372"/>
                    </a:lnTo>
                    <a:lnTo>
                      <a:pt x="118" y="308"/>
                    </a:lnTo>
                    <a:lnTo>
                      <a:pt x="77" y="240"/>
                    </a:lnTo>
                    <a:lnTo>
                      <a:pt x="103" y="196"/>
                    </a:lnTo>
                    <a:lnTo>
                      <a:pt x="44" y="188"/>
                    </a:lnTo>
                    <a:lnTo>
                      <a:pt x="30" y="165"/>
                    </a:lnTo>
                    <a:lnTo>
                      <a:pt x="13" y="111"/>
                    </a:lnTo>
                    <a:lnTo>
                      <a:pt x="3" y="5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995400" y="3610800"/>
                <a:ext cx="177120" cy="277560"/>
              </a:xfrm>
              <a:custGeom>
                <a:avLst/>
                <a:gdLst/>
                <a:ahLst/>
                <a:rect l="l" t="t" r="r" b="b"/>
                <a:pathLst>
                  <a:path w="453" h="725">
                    <a:moveTo>
                      <a:pt x="430" y="0"/>
                    </a:moveTo>
                    <a:lnTo>
                      <a:pt x="450" y="78"/>
                    </a:lnTo>
                    <a:lnTo>
                      <a:pt x="453" y="217"/>
                    </a:lnTo>
                    <a:lnTo>
                      <a:pt x="449" y="356"/>
                    </a:lnTo>
                    <a:lnTo>
                      <a:pt x="437" y="495"/>
                    </a:lnTo>
                    <a:lnTo>
                      <a:pt x="415" y="633"/>
                    </a:lnTo>
                    <a:lnTo>
                      <a:pt x="402" y="660"/>
                    </a:lnTo>
                    <a:lnTo>
                      <a:pt x="381" y="686"/>
                    </a:lnTo>
                    <a:lnTo>
                      <a:pt x="353" y="706"/>
                    </a:lnTo>
                    <a:lnTo>
                      <a:pt x="323" y="719"/>
                    </a:lnTo>
                    <a:lnTo>
                      <a:pt x="288" y="725"/>
                    </a:lnTo>
                    <a:lnTo>
                      <a:pt x="0" y="7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024920" y="3859200"/>
                <a:ext cx="85680" cy="65160"/>
              </a:xfrm>
              <a:custGeom>
                <a:avLst/>
                <a:gdLst/>
                <a:ahLst/>
                <a:rect l="l" t="t" r="r" b="b"/>
                <a:pathLst>
                  <a:path w="220" h="169">
                    <a:moveTo>
                      <a:pt x="0" y="42"/>
                    </a:moveTo>
                    <a:lnTo>
                      <a:pt x="7" y="75"/>
                    </a:lnTo>
                    <a:lnTo>
                      <a:pt x="17" y="109"/>
                    </a:lnTo>
                    <a:lnTo>
                      <a:pt x="27" y="133"/>
                    </a:lnTo>
                    <a:lnTo>
                      <a:pt x="42" y="158"/>
                    </a:lnTo>
                    <a:lnTo>
                      <a:pt x="52" y="166"/>
                    </a:lnTo>
                    <a:lnTo>
                      <a:pt x="62" y="168"/>
                    </a:lnTo>
                    <a:lnTo>
                      <a:pt x="72" y="166"/>
                    </a:lnTo>
                    <a:lnTo>
                      <a:pt x="80" y="162"/>
                    </a:lnTo>
                    <a:lnTo>
                      <a:pt x="94" y="169"/>
                    </a:lnTo>
                    <a:lnTo>
                      <a:pt x="115" y="169"/>
                    </a:lnTo>
                    <a:lnTo>
                      <a:pt x="128" y="165"/>
                    </a:lnTo>
                    <a:lnTo>
                      <a:pt x="136" y="159"/>
                    </a:lnTo>
                    <a:lnTo>
                      <a:pt x="154" y="159"/>
                    </a:lnTo>
                    <a:lnTo>
                      <a:pt x="173" y="152"/>
                    </a:lnTo>
                    <a:lnTo>
                      <a:pt x="220" y="117"/>
                    </a:lnTo>
                    <a:lnTo>
                      <a:pt x="220" y="109"/>
                    </a:lnTo>
                    <a:lnTo>
                      <a:pt x="206" y="67"/>
                    </a:lnTo>
                    <a:lnTo>
                      <a:pt x="190" y="43"/>
                    </a:lnTo>
                    <a:lnTo>
                      <a:pt x="170" y="25"/>
                    </a:lnTo>
                    <a:lnTo>
                      <a:pt x="149" y="14"/>
                    </a:lnTo>
                    <a:lnTo>
                      <a:pt x="120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014840" y="3853800"/>
                <a:ext cx="60120" cy="24480"/>
              </a:xfrm>
              <a:custGeom>
                <a:avLst/>
                <a:gdLst/>
                <a:ahLst/>
                <a:rect l="l" t="t" r="r" b="b"/>
                <a:pathLst>
                  <a:path w="154" h="65">
                    <a:moveTo>
                      <a:pt x="49" y="41"/>
                    </a:moveTo>
                    <a:lnTo>
                      <a:pt x="103" y="23"/>
                    </a:lnTo>
                    <a:lnTo>
                      <a:pt x="149" y="0"/>
                    </a:lnTo>
                    <a:lnTo>
                      <a:pt x="154" y="15"/>
                    </a:lnTo>
                    <a:lnTo>
                      <a:pt x="126" y="29"/>
                    </a:lnTo>
                    <a:lnTo>
                      <a:pt x="68" y="51"/>
                    </a:lnTo>
                    <a:lnTo>
                      <a:pt x="10" y="65"/>
                    </a:lnTo>
                    <a:lnTo>
                      <a:pt x="0" y="45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1092240" y="4292280"/>
                <a:ext cx="910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995400" y="4321440"/>
                <a:ext cx="80280" cy="12240"/>
              </a:xfrm>
              <a:custGeom>
                <a:avLst/>
                <a:gdLst/>
                <a:ahLst/>
                <a:rect l="l" t="t" r="r" b="b"/>
                <a:pathLst>
                  <a:path w="205" h="33">
                    <a:moveTo>
                      <a:pt x="0" y="0"/>
                    </a:moveTo>
                    <a:lnTo>
                      <a:pt x="127" y="33"/>
                    </a:lnTo>
                    <a:lnTo>
                      <a:pt x="205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914400" y="3887280"/>
                <a:ext cx="302760" cy="224280"/>
              </a:xfrm>
              <a:custGeom>
                <a:avLst/>
                <a:gdLst/>
                <a:ahLst/>
                <a:rect l="l" t="t" r="r" b="b"/>
                <a:pathLst>
                  <a:path w="775" h="585">
                    <a:moveTo>
                      <a:pt x="33" y="103"/>
                    </a:moveTo>
                    <a:lnTo>
                      <a:pt x="0" y="136"/>
                    </a:lnTo>
                    <a:lnTo>
                      <a:pt x="0" y="550"/>
                    </a:lnTo>
                    <a:lnTo>
                      <a:pt x="33" y="583"/>
                    </a:lnTo>
                    <a:lnTo>
                      <a:pt x="717" y="585"/>
                    </a:lnTo>
                    <a:lnTo>
                      <a:pt x="775" y="548"/>
                    </a:lnTo>
                    <a:lnTo>
                      <a:pt x="775" y="143"/>
                    </a:lnTo>
                    <a:lnTo>
                      <a:pt x="715" y="103"/>
                    </a:lnTo>
                    <a:lnTo>
                      <a:pt x="531" y="103"/>
                    </a:lnTo>
                    <a:lnTo>
                      <a:pt x="527" y="87"/>
                    </a:lnTo>
                    <a:lnTo>
                      <a:pt x="521" y="71"/>
                    </a:lnTo>
                    <a:lnTo>
                      <a:pt x="511" y="55"/>
                    </a:lnTo>
                    <a:lnTo>
                      <a:pt x="502" y="45"/>
                    </a:lnTo>
                    <a:lnTo>
                      <a:pt x="482" y="40"/>
                    </a:lnTo>
                    <a:lnTo>
                      <a:pt x="464" y="30"/>
                    </a:lnTo>
                    <a:lnTo>
                      <a:pt x="451" y="16"/>
                    </a:lnTo>
                    <a:lnTo>
                      <a:pt x="440" y="0"/>
                    </a:lnTo>
                    <a:lnTo>
                      <a:pt x="444" y="43"/>
                    </a:lnTo>
                    <a:lnTo>
                      <a:pt x="454" y="48"/>
                    </a:lnTo>
                    <a:lnTo>
                      <a:pt x="466" y="56"/>
                    </a:lnTo>
                    <a:lnTo>
                      <a:pt x="474" y="63"/>
                    </a:lnTo>
                    <a:lnTo>
                      <a:pt x="485" y="76"/>
                    </a:lnTo>
                    <a:lnTo>
                      <a:pt x="490" y="90"/>
                    </a:lnTo>
                    <a:lnTo>
                      <a:pt x="495" y="103"/>
                    </a:lnTo>
                    <a:lnTo>
                      <a:pt x="300" y="103"/>
                    </a:lnTo>
                    <a:lnTo>
                      <a:pt x="300" y="92"/>
                    </a:lnTo>
                    <a:lnTo>
                      <a:pt x="303" y="81"/>
                    </a:lnTo>
                    <a:lnTo>
                      <a:pt x="306" y="71"/>
                    </a:lnTo>
                    <a:lnTo>
                      <a:pt x="312" y="61"/>
                    </a:lnTo>
                    <a:lnTo>
                      <a:pt x="310" y="59"/>
                    </a:lnTo>
                    <a:lnTo>
                      <a:pt x="300" y="35"/>
                    </a:lnTo>
                    <a:lnTo>
                      <a:pt x="297" y="23"/>
                    </a:lnTo>
                    <a:lnTo>
                      <a:pt x="289" y="33"/>
                    </a:lnTo>
                    <a:lnTo>
                      <a:pt x="280" y="45"/>
                    </a:lnTo>
                    <a:lnTo>
                      <a:pt x="274" y="59"/>
                    </a:lnTo>
                    <a:lnTo>
                      <a:pt x="268" y="72"/>
                    </a:lnTo>
                    <a:lnTo>
                      <a:pt x="266" y="85"/>
                    </a:lnTo>
                    <a:lnTo>
                      <a:pt x="266" y="94"/>
                    </a:lnTo>
                    <a:lnTo>
                      <a:pt x="264" y="103"/>
                    </a:lnTo>
                    <a:lnTo>
                      <a:pt x="261" y="103"/>
                    </a:lnTo>
                    <a:lnTo>
                      <a:pt x="33" y="103"/>
                    </a:lnTo>
                    <a:close/>
                  </a:path>
                </a:pathLst>
              </a:custGeom>
              <a:solidFill>
                <a:srgbClr val="b5b5b5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1193040" y="3927240"/>
                <a:ext cx="13680" cy="183960"/>
              </a:xfrm>
              <a:custGeom>
                <a:avLst/>
                <a:gdLst/>
                <a:ahLst/>
                <a:rect l="l" t="t" r="r" b="b"/>
                <a:pathLst>
                  <a:path w="35" h="480">
                    <a:moveTo>
                      <a:pt x="1" y="0"/>
                    </a:moveTo>
                    <a:lnTo>
                      <a:pt x="35" y="31"/>
                    </a:lnTo>
                    <a:lnTo>
                      <a:pt x="35" y="447"/>
                    </a:lnTo>
                    <a:lnTo>
                      <a:pt x="0" y="4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927360" y="3938040"/>
                <a:ext cx="265320" cy="163800"/>
              </a:xfrm>
              <a:custGeom>
                <a:avLst/>
                <a:gdLst/>
                <a:ahLst/>
                <a:rect l="l" t="t" r="r" b="b"/>
                <a:pathLst>
                  <a:path w="679" h="430">
                    <a:moveTo>
                      <a:pt x="29" y="0"/>
                    </a:moveTo>
                    <a:lnTo>
                      <a:pt x="0" y="28"/>
                    </a:lnTo>
                    <a:lnTo>
                      <a:pt x="0" y="405"/>
                    </a:lnTo>
                    <a:lnTo>
                      <a:pt x="25" y="430"/>
                    </a:lnTo>
                    <a:lnTo>
                      <a:pt x="655" y="430"/>
                    </a:lnTo>
                    <a:lnTo>
                      <a:pt x="679" y="404"/>
                    </a:lnTo>
                    <a:lnTo>
                      <a:pt x="679" y="23"/>
                    </a:lnTo>
                    <a:lnTo>
                      <a:pt x="658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2121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H="1" flipV="1">
                <a:off x="1069560" y="3909960"/>
                <a:ext cx="1008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H="1" flipV="1">
                <a:off x="1058400" y="3913200"/>
                <a:ext cx="10800" cy="9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H="1" flipV="1">
                <a:off x="1047960" y="3913920"/>
                <a:ext cx="6120" cy="68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159200" y="3337560"/>
                <a:ext cx="20160" cy="468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29" y="0"/>
                    </a:moveTo>
                    <a:lnTo>
                      <a:pt x="52" y="0"/>
                    </a:lnTo>
                    <a:lnTo>
                      <a:pt x="49" y="5"/>
                    </a:lnTo>
                    <a:lnTo>
                      <a:pt x="32" y="5"/>
                    </a:lnTo>
                    <a:lnTo>
                      <a:pt x="0" y="1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1157760" y="3350160"/>
                <a:ext cx="14040" cy="432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7" y="0"/>
                    </a:moveTo>
                    <a:lnTo>
                      <a:pt x="0" y="5"/>
                    </a:lnTo>
                    <a:lnTo>
                      <a:pt x="34" y="12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1041480" y="3276720"/>
                <a:ext cx="134280" cy="127080"/>
              </a:xfrm>
              <a:custGeom>
                <a:avLst/>
                <a:gdLst/>
                <a:ahLst/>
                <a:rect l="l" t="t" r="r" b="b"/>
                <a:pathLst>
                  <a:path w="344" h="331">
                    <a:moveTo>
                      <a:pt x="62" y="305"/>
                    </a:moveTo>
                    <a:lnTo>
                      <a:pt x="49" y="285"/>
                    </a:lnTo>
                    <a:lnTo>
                      <a:pt x="17" y="243"/>
                    </a:lnTo>
                    <a:lnTo>
                      <a:pt x="6" y="205"/>
                    </a:lnTo>
                    <a:lnTo>
                      <a:pt x="0" y="168"/>
                    </a:lnTo>
                    <a:lnTo>
                      <a:pt x="6" y="130"/>
                    </a:lnTo>
                    <a:lnTo>
                      <a:pt x="36" y="72"/>
                    </a:lnTo>
                    <a:lnTo>
                      <a:pt x="49" y="56"/>
                    </a:lnTo>
                    <a:lnTo>
                      <a:pt x="75" y="32"/>
                    </a:lnTo>
                    <a:lnTo>
                      <a:pt x="109" y="10"/>
                    </a:lnTo>
                    <a:lnTo>
                      <a:pt x="147" y="3"/>
                    </a:lnTo>
                    <a:lnTo>
                      <a:pt x="183" y="0"/>
                    </a:lnTo>
                    <a:lnTo>
                      <a:pt x="222" y="3"/>
                    </a:lnTo>
                    <a:lnTo>
                      <a:pt x="247" y="4"/>
                    </a:lnTo>
                    <a:lnTo>
                      <a:pt x="287" y="11"/>
                    </a:lnTo>
                    <a:lnTo>
                      <a:pt x="309" y="19"/>
                    </a:lnTo>
                    <a:lnTo>
                      <a:pt x="326" y="32"/>
                    </a:lnTo>
                    <a:lnTo>
                      <a:pt x="340" y="50"/>
                    </a:lnTo>
                    <a:lnTo>
                      <a:pt x="344" y="74"/>
                    </a:lnTo>
                    <a:lnTo>
                      <a:pt x="340" y="95"/>
                    </a:lnTo>
                    <a:lnTo>
                      <a:pt x="340" y="95"/>
                    </a:lnTo>
                    <a:lnTo>
                      <a:pt x="297" y="82"/>
                    </a:lnTo>
                    <a:lnTo>
                      <a:pt x="254" y="76"/>
                    </a:lnTo>
                    <a:lnTo>
                      <a:pt x="213" y="79"/>
                    </a:lnTo>
                    <a:lnTo>
                      <a:pt x="213" y="79"/>
                    </a:lnTo>
                    <a:lnTo>
                      <a:pt x="196" y="82"/>
                    </a:lnTo>
                    <a:lnTo>
                      <a:pt x="213" y="105"/>
                    </a:lnTo>
                    <a:lnTo>
                      <a:pt x="226" y="134"/>
                    </a:lnTo>
                    <a:lnTo>
                      <a:pt x="226" y="143"/>
                    </a:lnTo>
                    <a:lnTo>
                      <a:pt x="216" y="163"/>
                    </a:lnTo>
                    <a:lnTo>
                      <a:pt x="186" y="204"/>
                    </a:lnTo>
                    <a:lnTo>
                      <a:pt x="154" y="204"/>
                    </a:lnTo>
                    <a:lnTo>
                      <a:pt x="149" y="191"/>
                    </a:lnTo>
                    <a:lnTo>
                      <a:pt x="145" y="185"/>
                    </a:lnTo>
                    <a:lnTo>
                      <a:pt x="136" y="179"/>
                    </a:lnTo>
                    <a:lnTo>
                      <a:pt x="128" y="176"/>
                    </a:lnTo>
                    <a:lnTo>
                      <a:pt x="112" y="181"/>
                    </a:lnTo>
                    <a:lnTo>
                      <a:pt x="99" y="194"/>
                    </a:lnTo>
                    <a:lnTo>
                      <a:pt x="93" y="210"/>
                    </a:lnTo>
                    <a:lnTo>
                      <a:pt x="94" y="223"/>
                    </a:lnTo>
                    <a:lnTo>
                      <a:pt x="96" y="231"/>
                    </a:lnTo>
                    <a:lnTo>
                      <a:pt x="103" y="250"/>
                    </a:lnTo>
                    <a:lnTo>
                      <a:pt x="113" y="266"/>
                    </a:lnTo>
                    <a:lnTo>
                      <a:pt x="119" y="272"/>
                    </a:lnTo>
                    <a:lnTo>
                      <a:pt x="106" y="289"/>
                    </a:lnTo>
                    <a:lnTo>
                      <a:pt x="96" y="304"/>
                    </a:lnTo>
                    <a:lnTo>
                      <a:pt x="81" y="320"/>
                    </a:lnTo>
                    <a:lnTo>
                      <a:pt x="68" y="331"/>
                    </a:lnTo>
                    <a:lnTo>
                      <a:pt x="62" y="30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1087560" y="3378240"/>
                <a:ext cx="24840" cy="2376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6"/>
                    </a:moveTo>
                    <a:lnTo>
                      <a:pt x="11" y="10"/>
                    </a:lnTo>
                    <a:lnTo>
                      <a:pt x="21" y="9"/>
                    </a:lnTo>
                    <a:lnTo>
                      <a:pt x="27" y="6"/>
                    </a:lnTo>
                    <a:lnTo>
                      <a:pt x="34" y="0"/>
                    </a:lnTo>
                    <a:lnTo>
                      <a:pt x="45" y="32"/>
                    </a:lnTo>
                    <a:lnTo>
                      <a:pt x="63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1153800" y="368820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30" y="17"/>
                    </a:moveTo>
                    <a:lnTo>
                      <a:pt x="29" y="8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8" y="3"/>
                    </a:lnTo>
                    <a:lnTo>
                      <a:pt x="3" y="8"/>
                    </a:lnTo>
                    <a:lnTo>
                      <a:pt x="0" y="17"/>
                    </a:lnTo>
                    <a:lnTo>
                      <a:pt x="3" y="26"/>
                    </a:lnTo>
                    <a:lnTo>
                      <a:pt x="8" y="33"/>
                    </a:lnTo>
                    <a:lnTo>
                      <a:pt x="16" y="34"/>
                    </a:lnTo>
                    <a:lnTo>
                      <a:pt x="23" y="33"/>
                    </a:lnTo>
                    <a:lnTo>
                      <a:pt x="29" y="26"/>
                    </a:lnTo>
                    <a:lnTo>
                      <a:pt x="30" y="17"/>
                    </a:lnTo>
                    <a:lnTo>
                      <a:pt x="3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1211040" y="3754800"/>
                <a:ext cx="52200" cy="39960"/>
              </a:xfrm>
              <a:custGeom>
                <a:avLst/>
                <a:gdLst/>
                <a:ahLst/>
                <a:rect l="l" t="t" r="r" b="b"/>
                <a:pathLst>
                  <a:path w="135" h="105">
                    <a:moveTo>
                      <a:pt x="74" y="16"/>
                    </a:moveTo>
                    <a:lnTo>
                      <a:pt x="51" y="18"/>
                    </a:lnTo>
                    <a:lnTo>
                      <a:pt x="46" y="5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9" y="8"/>
                    </a:lnTo>
                    <a:lnTo>
                      <a:pt x="27" y="16"/>
                    </a:lnTo>
                    <a:lnTo>
                      <a:pt x="22" y="11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9" y="16"/>
                    </a:lnTo>
                    <a:lnTo>
                      <a:pt x="9" y="21"/>
                    </a:lnTo>
                    <a:lnTo>
                      <a:pt x="11" y="70"/>
                    </a:lnTo>
                    <a:lnTo>
                      <a:pt x="9" y="70"/>
                    </a:lnTo>
                    <a:lnTo>
                      <a:pt x="3" y="74"/>
                    </a:lnTo>
                    <a:lnTo>
                      <a:pt x="0" y="80"/>
                    </a:lnTo>
                    <a:lnTo>
                      <a:pt x="0" y="86"/>
                    </a:lnTo>
                    <a:lnTo>
                      <a:pt x="4" y="92"/>
                    </a:lnTo>
                    <a:lnTo>
                      <a:pt x="7" y="94"/>
                    </a:lnTo>
                    <a:lnTo>
                      <a:pt x="9" y="96"/>
                    </a:lnTo>
                    <a:lnTo>
                      <a:pt x="51" y="105"/>
                    </a:lnTo>
                    <a:lnTo>
                      <a:pt x="106" y="76"/>
                    </a:lnTo>
                    <a:lnTo>
                      <a:pt x="109" y="73"/>
                    </a:lnTo>
                    <a:lnTo>
                      <a:pt x="119" y="61"/>
                    </a:lnTo>
                    <a:lnTo>
                      <a:pt x="126" y="50"/>
                    </a:lnTo>
                    <a:lnTo>
                      <a:pt x="132" y="37"/>
                    </a:lnTo>
                    <a:lnTo>
                      <a:pt x="133" y="22"/>
                    </a:lnTo>
                    <a:lnTo>
                      <a:pt x="135" y="13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1230480" y="376092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23" y="0"/>
                    </a:moveTo>
                    <a:lnTo>
                      <a:pt x="48" y="16"/>
                    </a:lnTo>
                    <a:lnTo>
                      <a:pt x="13" y="3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1213920" y="3762360"/>
                <a:ext cx="5400" cy="1908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0"/>
                    </a:moveTo>
                    <a:lnTo>
                      <a:pt x="4" y="24"/>
                    </a:lnTo>
                    <a:lnTo>
                      <a:pt x="13" y="50"/>
                    </a:lnTo>
                    <a:lnTo>
                      <a:pt x="1" y="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1220400" y="3783240"/>
                <a:ext cx="1152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1221840" y="3761640"/>
                <a:ext cx="14760" cy="2376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0" y="0"/>
                    </a:moveTo>
                    <a:lnTo>
                      <a:pt x="4" y="16"/>
                    </a:lnTo>
                    <a:lnTo>
                      <a:pt x="14" y="45"/>
                    </a:lnTo>
                    <a:lnTo>
                      <a:pt x="38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flipH="1">
                <a:off x="1166400" y="3384360"/>
                <a:ext cx="3600" cy="129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13" name=""/>
          <p:cNvGrpSpPr/>
          <p:nvPr/>
        </p:nvGrpSpPr>
        <p:grpSpPr>
          <a:xfrm>
            <a:off x="3657960" y="1846440"/>
            <a:ext cx="914040" cy="1962720"/>
            <a:chOff x="3657960" y="1846440"/>
            <a:chExt cx="914040" cy="1962720"/>
          </a:xfrm>
        </p:grpSpPr>
        <p:sp>
          <p:nvSpPr>
            <p:cNvPr id="1714" name=""/>
            <p:cNvSpPr/>
            <p:nvPr/>
          </p:nvSpPr>
          <p:spPr>
            <a:xfrm flipH="1">
              <a:off x="3657600" y="3552840"/>
              <a:ext cx="914040" cy="25632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H="1">
              <a:off x="3887640" y="3515760"/>
              <a:ext cx="257400" cy="167400"/>
            </a:xfrm>
            <a:custGeom>
              <a:avLst/>
              <a:gdLst/>
              <a:ahLst/>
              <a:rect l="l" t="t" r="r" b="b"/>
              <a:pathLst>
                <a:path w="598" h="409">
                  <a:moveTo>
                    <a:pt x="30" y="18"/>
                  </a:moveTo>
                  <a:lnTo>
                    <a:pt x="24" y="41"/>
                  </a:lnTo>
                  <a:lnTo>
                    <a:pt x="14" y="73"/>
                  </a:lnTo>
                  <a:lnTo>
                    <a:pt x="6" y="111"/>
                  </a:lnTo>
                  <a:lnTo>
                    <a:pt x="0" y="151"/>
                  </a:lnTo>
                  <a:lnTo>
                    <a:pt x="0" y="192"/>
                  </a:lnTo>
                  <a:lnTo>
                    <a:pt x="8" y="230"/>
                  </a:lnTo>
                  <a:lnTo>
                    <a:pt x="25" y="265"/>
                  </a:lnTo>
                  <a:lnTo>
                    <a:pt x="55" y="289"/>
                  </a:lnTo>
                  <a:lnTo>
                    <a:pt x="69" y="297"/>
                  </a:lnTo>
                  <a:lnTo>
                    <a:pt x="85" y="299"/>
                  </a:lnTo>
                  <a:lnTo>
                    <a:pt x="100" y="299"/>
                  </a:lnTo>
                  <a:lnTo>
                    <a:pt x="116" y="298"/>
                  </a:lnTo>
                  <a:lnTo>
                    <a:pt x="132" y="296"/>
                  </a:lnTo>
                  <a:lnTo>
                    <a:pt x="147" y="294"/>
                  </a:lnTo>
                  <a:lnTo>
                    <a:pt x="163" y="296"/>
                  </a:lnTo>
                  <a:lnTo>
                    <a:pt x="180" y="299"/>
                  </a:lnTo>
                  <a:lnTo>
                    <a:pt x="200" y="306"/>
                  </a:lnTo>
                  <a:lnTo>
                    <a:pt x="218" y="312"/>
                  </a:lnTo>
                  <a:lnTo>
                    <a:pt x="236" y="318"/>
                  </a:lnTo>
                  <a:lnTo>
                    <a:pt x="252" y="324"/>
                  </a:lnTo>
                  <a:lnTo>
                    <a:pt x="269" y="329"/>
                  </a:lnTo>
                  <a:lnTo>
                    <a:pt x="284" y="336"/>
                  </a:lnTo>
                  <a:lnTo>
                    <a:pt x="300" y="341"/>
                  </a:lnTo>
                  <a:lnTo>
                    <a:pt x="314" y="346"/>
                  </a:lnTo>
                  <a:lnTo>
                    <a:pt x="329" y="353"/>
                  </a:lnTo>
                  <a:lnTo>
                    <a:pt x="344" y="358"/>
                  </a:lnTo>
                  <a:lnTo>
                    <a:pt x="361" y="364"/>
                  </a:lnTo>
                  <a:lnTo>
                    <a:pt x="376" y="369"/>
                  </a:lnTo>
                  <a:lnTo>
                    <a:pt x="394" y="376"/>
                  </a:lnTo>
                  <a:lnTo>
                    <a:pt x="411" y="381"/>
                  </a:lnTo>
                  <a:lnTo>
                    <a:pt x="428" y="387"/>
                  </a:lnTo>
                  <a:lnTo>
                    <a:pt x="448" y="395"/>
                  </a:lnTo>
                  <a:lnTo>
                    <a:pt x="462" y="398"/>
                  </a:lnTo>
                  <a:lnTo>
                    <a:pt x="479" y="401"/>
                  </a:lnTo>
                  <a:lnTo>
                    <a:pt x="501" y="404"/>
                  </a:lnTo>
                  <a:lnTo>
                    <a:pt x="523" y="406"/>
                  </a:lnTo>
                  <a:lnTo>
                    <a:pt x="546" y="409"/>
                  </a:lnTo>
                  <a:lnTo>
                    <a:pt x="567" y="409"/>
                  </a:lnTo>
                  <a:lnTo>
                    <a:pt x="586" y="407"/>
                  </a:lnTo>
                  <a:lnTo>
                    <a:pt x="598" y="404"/>
                  </a:lnTo>
                  <a:lnTo>
                    <a:pt x="596" y="377"/>
                  </a:lnTo>
                  <a:lnTo>
                    <a:pt x="588" y="348"/>
                  </a:lnTo>
                  <a:lnTo>
                    <a:pt x="575" y="320"/>
                  </a:lnTo>
                  <a:lnTo>
                    <a:pt x="558" y="292"/>
                  </a:lnTo>
                  <a:lnTo>
                    <a:pt x="538" y="263"/>
                  </a:lnTo>
                  <a:lnTo>
                    <a:pt x="516" y="234"/>
                  </a:lnTo>
                  <a:lnTo>
                    <a:pt x="491" y="206"/>
                  </a:lnTo>
                  <a:lnTo>
                    <a:pt x="463" y="178"/>
                  </a:lnTo>
                  <a:lnTo>
                    <a:pt x="435" y="152"/>
                  </a:lnTo>
                  <a:lnTo>
                    <a:pt x="405" y="127"/>
                  </a:lnTo>
                  <a:lnTo>
                    <a:pt x="376" y="103"/>
                  </a:lnTo>
                  <a:lnTo>
                    <a:pt x="346" y="82"/>
                  </a:lnTo>
                  <a:lnTo>
                    <a:pt x="319" y="63"/>
                  </a:lnTo>
                  <a:lnTo>
                    <a:pt x="291" y="45"/>
                  </a:lnTo>
                  <a:lnTo>
                    <a:pt x="265" y="32"/>
                  </a:lnTo>
                  <a:lnTo>
                    <a:pt x="243" y="21"/>
                  </a:lnTo>
                  <a:lnTo>
                    <a:pt x="224" y="16"/>
                  </a:lnTo>
                  <a:lnTo>
                    <a:pt x="208" y="11"/>
                  </a:lnTo>
                  <a:lnTo>
                    <a:pt x="191" y="7"/>
                  </a:lnTo>
                  <a:lnTo>
                    <a:pt x="176" y="5"/>
                  </a:lnTo>
                  <a:lnTo>
                    <a:pt x="161" y="3"/>
                  </a:lnTo>
                  <a:lnTo>
                    <a:pt x="149" y="1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1"/>
                  </a:lnTo>
                  <a:lnTo>
                    <a:pt x="88" y="2"/>
                  </a:lnTo>
                  <a:lnTo>
                    <a:pt x="78" y="4"/>
                  </a:lnTo>
                  <a:lnTo>
                    <a:pt x="66" y="6"/>
                  </a:lnTo>
                  <a:lnTo>
                    <a:pt x="55" y="10"/>
                  </a:lnTo>
                  <a:lnTo>
                    <a:pt x="43" y="14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694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H="1">
              <a:off x="4119480" y="3521880"/>
              <a:ext cx="29880" cy="115560"/>
            </a:xfrm>
            <a:custGeom>
              <a:avLst/>
              <a:gdLst/>
              <a:ahLst/>
              <a:rect l="l" t="t" r="r" b="b"/>
              <a:pathLst>
                <a:path w="69" h="282">
                  <a:moveTo>
                    <a:pt x="69" y="266"/>
                  </a:moveTo>
                  <a:lnTo>
                    <a:pt x="69" y="266"/>
                  </a:lnTo>
                  <a:lnTo>
                    <a:pt x="42" y="243"/>
                  </a:lnTo>
                  <a:lnTo>
                    <a:pt x="28" y="212"/>
                  </a:lnTo>
                  <a:lnTo>
                    <a:pt x="19" y="176"/>
                  </a:lnTo>
                  <a:lnTo>
                    <a:pt x="19" y="135"/>
                  </a:lnTo>
                  <a:lnTo>
                    <a:pt x="25" y="96"/>
                  </a:lnTo>
                  <a:lnTo>
                    <a:pt x="34" y="59"/>
                  </a:lnTo>
                  <a:lnTo>
                    <a:pt x="43" y="27"/>
                  </a:lnTo>
                  <a:lnTo>
                    <a:pt x="50" y="5"/>
                  </a:lnTo>
                  <a:lnTo>
                    <a:pt x="32" y="0"/>
                  </a:lnTo>
                  <a:lnTo>
                    <a:pt x="24" y="22"/>
                  </a:lnTo>
                  <a:lnTo>
                    <a:pt x="15" y="55"/>
                  </a:lnTo>
                  <a:lnTo>
                    <a:pt x="6" y="93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9" y="217"/>
                  </a:lnTo>
                  <a:lnTo>
                    <a:pt x="28" y="254"/>
                  </a:lnTo>
                  <a:lnTo>
                    <a:pt x="59" y="282"/>
                  </a:lnTo>
                  <a:lnTo>
                    <a:pt x="59" y="282"/>
                  </a:lnTo>
                  <a:lnTo>
                    <a:pt x="69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flipH="1">
              <a:off x="4067640" y="3631680"/>
              <a:ext cx="55800" cy="10080"/>
            </a:xfrm>
            <a:custGeom>
              <a:avLst/>
              <a:gdLst/>
              <a:ahLst/>
              <a:rect l="l" t="t" r="r" b="b"/>
              <a:pathLst>
                <a:path w="133" h="26">
                  <a:moveTo>
                    <a:pt x="133" y="7"/>
                  </a:moveTo>
                  <a:lnTo>
                    <a:pt x="133" y="7"/>
                  </a:lnTo>
                  <a:lnTo>
                    <a:pt x="116" y="4"/>
                  </a:lnTo>
                  <a:lnTo>
                    <a:pt x="98" y="3"/>
                  </a:lnTo>
                  <a:lnTo>
                    <a:pt x="83" y="4"/>
                  </a:lnTo>
                  <a:lnTo>
                    <a:pt x="67" y="6"/>
                  </a:lnTo>
                  <a:lnTo>
                    <a:pt x="51" y="7"/>
                  </a:lnTo>
                  <a:lnTo>
                    <a:pt x="36" y="7"/>
                  </a:lnTo>
                  <a:lnTo>
                    <a:pt x="22" y="5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18" y="24"/>
                  </a:lnTo>
                  <a:lnTo>
                    <a:pt x="36" y="26"/>
                  </a:lnTo>
                  <a:lnTo>
                    <a:pt x="51" y="26"/>
                  </a:lnTo>
                  <a:lnTo>
                    <a:pt x="67" y="25"/>
                  </a:lnTo>
                  <a:lnTo>
                    <a:pt x="83" y="23"/>
                  </a:lnTo>
                  <a:lnTo>
                    <a:pt x="98" y="22"/>
                  </a:lnTo>
                  <a:lnTo>
                    <a:pt x="113" y="23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H="1">
              <a:off x="3952080" y="3633840"/>
              <a:ext cx="115560" cy="47160"/>
            </a:xfrm>
            <a:custGeom>
              <a:avLst/>
              <a:gdLst/>
              <a:ahLst/>
              <a:rect l="l" t="t" r="r" b="b"/>
              <a:pathLst>
                <a:path w="274" h="115">
                  <a:moveTo>
                    <a:pt x="274" y="96"/>
                  </a:moveTo>
                  <a:lnTo>
                    <a:pt x="274" y="96"/>
                  </a:lnTo>
                  <a:lnTo>
                    <a:pt x="254" y="89"/>
                  </a:lnTo>
                  <a:lnTo>
                    <a:pt x="236" y="84"/>
                  </a:lnTo>
                  <a:lnTo>
                    <a:pt x="218" y="77"/>
                  </a:lnTo>
                  <a:lnTo>
                    <a:pt x="201" y="71"/>
                  </a:lnTo>
                  <a:lnTo>
                    <a:pt x="185" y="66"/>
                  </a:lnTo>
                  <a:lnTo>
                    <a:pt x="168" y="59"/>
                  </a:lnTo>
                  <a:lnTo>
                    <a:pt x="154" y="54"/>
                  </a:lnTo>
                  <a:lnTo>
                    <a:pt x="138" y="48"/>
                  </a:lnTo>
                  <a:lnTo>
                    <a:pt x="124" y="42"/>
                  </a:lnTo>
                  <a:lnTo>
                    <a:pt x="109" y="37"/>
                  </a:lnTo>
                  <a:lnTo>
                    <a:pt x="93" y="31"/>
                  </a:lnTo>
                  <a:lnTo>
                    <a:pt x="76" y="26"/>
                  </a:lnTo>
                  <a:lnTo>
                    <a:pt x="60" y="19"/>
                  </a:lnTo>
                  <a:lnTo>
                    <a:pt x="42" y="14"/>
                  </a:lnTo>
                  <a:lnTo>
                    <a:pt x="24" y="8"/>
                  </a:lnTo>
                  <a:lnTo>
                    <a:pt x="4" y="0"/>
                  </a:lnTo>
                  <a:lnTo>
                    <a:pt x="0" y="19"/>
                  </a:lnTo>
                  <a:lnTo>
                    <a:pt x="20" y="27"/>
                  </a:lnTo>
                  <a:lnTo>
                    <a:pt x="38" y="32"/>
                  </a:lnTo>
                  <a:lnTo>
                    <a:pt x="55" y="38"/>
                  </a:lnTo>
                  <a:lnTo>
                    <a:pt x="72" y="45"/>
                  </a:lnTo>
                  <a:lnTo>
                    <a:pt x="89" y="50"/>
                  </a:lnTo>
                  <a:lnTo>
                    <a:pt x="104" y="56"/>
                  </a:lnTo>
                  <a:lnTo>
                    <a:pt x="119" y="61"/>
                  </a:lnTo>
                  <a:lnTo>
                    <a:pt x="134" y="67"/>
                  </a:lnTo>
                  <a:lnTo>
                    <a:pt x="147" y="72"/>
                  </a:lnTo>
                  <a:lnTo>
                    <a:pt x="164" y="78"/>
                  </a:lnTo>
                  <a:lnTo>
                    <a:pt x="181" y="85"/>
                  </a:lnTo>
                  <a:lnTo>
                    <a:pt x="195" y="90"/>
                  </a:lnTo>
                  <a:lnTo>
                    <a:pt x="213" y="96"/>
                  </a:lnTo>
                  <a:lnTo>
                    <a:pt x="230" y="102"/>
                  </a:lnTo>
                  <a:lnTo>
                    <a:pt x="248" y="108"/>
                  </a:lnTo>
                  <a:lnTo>
                    <a:pt x="268" y="115"/>
                  </a:lnTo>
                  <a:lnTo>
                    <a:pt x="268" y="115"/>
                  </a:lnTo>
                  <a:lnTo>
                    <a:pt x="274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3883320" y="3674880"/>
              <a:ext cx="70560" cy="12600"/>
            </a:xfrm>
            <a:custGeom>
              <a:avLst/>
              <a:gdLst/>
              <a:ahLst/>
              <a:rect l="l" t="t" r="r" b="b"/>
              <a:pathLst>
                <a:path w="162" h="33">
                  <a:moveTo>
                    <a:pt x="143" y="19"/>
                  </a:moveTo>
                  <a:lnTo>
                    <a:pt x="149" y="11"/>
                  </a:lnTo>
                  <a:lnTo>
                    <a:pt x="139" y="13"/>
                  </a:lnTo>
                  <a:lnTo>
                    <a:pt x="121" y="14"/>
                  </a:lnTo>
                  <a:lnTo>
                    <a:pt x="100" y="14"/>
                  </a:lnTo>
                  <a:lnTo>
                    <a:pt x="77" y="12"/>
                  </a:lnTo>
                  <a:lnTo>
                    <a:pt x="55" y="10"/>
                  </a:lnTo>
                  <a:lnTo>
                    <a:pt x="35" y="8"/>
                  </a:lnTo>
                  <a:lnTo>
                    <a:pt x="17" y="3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5" y="22"/>
                  </a:lnTo>
                  <a:lnTo>
                    <a:pt x="32" y="26"/>
                  </a:lnTo>
                  <a:lnTo>
                    <a:pt x="55" y="29"/>
                  </a:lnTo>
                  <a:lnTo>
                    <a:pt x="77" y="31"/>
                  </a:lnTo>
                  <a:lnTo>
                    <a:pt x="100" y="33"/>
                  </a:lnTo>
                  <a:lnTo>
                    <a:pt x="121" y="33"/>
                  </a:lnTo>
                  <a:lnTo>
                    <a:pt x="141" y="32"/>
                  </a:lnTo>
                  <a:lnTo>
                    <a:pt x="157" y="28"/>
                  </a:lnTo>
                  <a:lnTo>
                    <a:pt x="162" y="19"/>
                  </a:lnTo>
                  <a:lnTo>
                    <a:pt x="157" y="28"/>
                  </a:lnTo>
                  <a:lnTo>
                    <a:pt x="161" y="22"/>
                  </a:lnTo>
                  <a:lnTo>
                    <a:pt x="161" y="15"/>
                  </a:lnTo>
                  <a:lnTo>
                    <a:pt x="157" y="11"/>
                  </a:lnTo>
                  <a:lnTo>
                    <a:pt x="149" y="11"/>
                  </a:lnTo>
                  <a:lnTo>
                    <a:pt x="1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3883320" y="3519720"/>
              <a:ext cx="160920" cy="161280"/>
            </a:xfrm>
            <a:custGeom>
              <a:avLst/>
              <a:gdLst/>
              <a:ahLst/>
              <a:rect l="l" t="t" r="r" b="b"/>
              <a:pathLst>
                <a:path w="374" h="393">
                  <a:moveTo>
                    <a:pt x="6" y="18"/>
                  </a:moveTo>
                  <a:lnTo>
                    <a:pt x="5" y="17"/>
                  </a:lnTo>
                  <a:lnTo>
                    <a:pt x="28" y="28"/>
                  </a:lnTo>
                  <a:lnTo>
                    <a:pt x="53" y="43"/>
                  </a:lnTo>
                  <a:lnTo>
                    <a:pt x="79" y="61"/>
                  </a:lnTo>
                  <a:lnTo>
                    <a:pt x="108" y="80"/>
                  </a:lnTo>
                  <a:lnTo>
                    <a:pt x="136" y="100"/>
                  </a:lnTo>
                  <a:lnTo>
                    <a:pt x="166" y="123"/>
                  </a:lnTo>
                  <a:lnTo>
                    <a:pt x="194" y="147"/>
                  </a:lnTo>
                  <a:lnTo>
                    <a:pt x="222" y="175"/>
                  </a:lnTo>
                  <a:lnTo>
                    <a:pt x="249" y="201"/>
                  </a:lnTo>
                  <a:lnTo>
                    <a:pt x="275" y="229"/>
                  </a:lnTo>
                  <a:lnTo>
                    <a:pt x="298" y="257"/>
                  </a:lnTo>
                  <a:lnTo>
                    <a:pt x="316" y="286"/>
                  </a:lnTo>
                  <a:lnTo>
                    <a:pt x="333" y="313"/>
                  </a:lnTo>
                  <a:lnTo>
                    <a:pt x="344" y="339"/>
                  </a:lnTo>
                  <a:lnTo>
                    <a:pt x="353" y="367"/>
                  </a:lnTo>
                  <a:lnTo>
                    <a:pt x="355" y="393"/>
                  </a:lnTo>
                  <a:lnTo>
                    <a:pt x="374" y="393"/>
                  </a:lnTo>
                  <a:lnTo>
                    <a:pt x="372" y="365"/>
                  </a:lnTo>
                  <a:lnTo>
                    <a:pt x="363" y="335"/>
                  </a:lnTo>
                  <a:lnTo>
                    <a:pt x="350" y="306"/>
                  </a:lnTo>
                  <a:lnTo>
                    <a:pt x="333" y="276"/>
                  </a:lnTo>
                  <a:lnTo>
                    <a:pt x="312" y="245"/>
                  </a:lnTo>
                  <a:lnTo>
                    <a:pt x="289" y="217"/>
                  </a:lnTo>
                  <a:lnTo>
                    <a:pt x="263" y="188"/>
                  </a:lnTo>
                  <a:lnTo>
                    <a:pt x="237" y="161"/>
                  </a:lnTo>
                  <a:lnTo>
                    <a:pt x="207" y="134"/>
                  </a:lnTo>
                  <a:lnTo>
                    <a:pt x="177" y="108"/>
                  </a:lnTo>
                  <a:lnTo>
                    <a:pt x="148" y="85"/>
                  </a:lnTo>
                  <a:lnTo>
                    <a:pt x="117" y="63"/>
                  </a:lnTo>
                  <a:lnTo>
                    <a:pt x="89" y="44"/>
                  </a:lnTo>
                  <a:lnTo>
                    <a:pt x="61" y="26"/>
                  </a:lnTo>
                  <a:lnTo>
                    <a:pt x="35" y="1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5" y="2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>
              <a:off x="4039920" y="3511800"/>
              <a:ext cx="96120" cy="14400"/>
            </a:xfrm>
            <a:custGeom>
              <a:avLst/>
              <a:gdLst/>
              <a:ahLst/>
              <a:rect l="l" t="t" r="r" b="b"/>
              <a:pathLst>
                <a:path w="223" h="39">
                  <a:moveTo>
                    <a:pt x="18" y="31"/>
                  </a:moveTo>
                  <a:lnTo>
                    <a:pt x="11" y="37"/>
                  </a:lnTo>
                  <a:lnTo>
                    <a:pt x="23" y="33"/>
                  </a:lnTo>
                  <a:lnTo>
                    <a:pt x="35" y="29"/>
                  </a:lnTo>
                  <a:lnTo>
                    <a:pt x="46" y="26"/>
                  </a:lnTo>
                  <a:lnTo>
                    <a:pt x="57" y="24"/>
                  </a:lnTo>
                  <a:lnTo>
                    <a:pt x="67" y="21"/>
                  </a:lnTo>
                  <a:lnTo>
                    <a:pt x="78" y="20"/>
                  </a:lnTo>
                  <a:lnTo>
                    <a:pt x="89" y="18"/>
                  </a:lnTo>
                  <a:lnTo>
                    <a:pt x="100" y="18"/>
                  </a:lnTo>
                  <a:lnTo>
                    <a:pt x="114" y="18"/>
                  </a:lnTo>
                  <a:lnTo>
                    <a:pt x="125" y="20"/>
                  </a:lnTo>
                  <a:lnTo>
                    <a:pt x="138" y="23"/>
                  </a:lnTo>
                  <a:lnTo>
                    <a:pt x="153" y="25"/>
                  </a:lnTo>
                  <a:lnTo>
                    <a:pt x="168" y="27"/>
                  </a:lnTo>
                  <a:lnTo>
                    <a:pt x="184" y="31"/>
                  </a:lnTo>
                  <a:lnTo>
                    <a:pt x="199" y="35"/>
                  </a:lnTo>
                  <a:lnTo>
                    <a:pt x="218" y="39"/>
                  </a:lnTo>
                  <a:lnTo>
                    <a:pt x="223" y="21"/>
                  </a:lnTo>
                  <a:lnTo>
                    <a:pt x="205" y="16"/>
                  </a:lnTo>
                  <a:lnTo>
                    <a:pt x="188" y="12"/>
                  </a:lnTo>
                  <a:lnTo>
                    <a:pt x="170" y="8"/>
                  </a:lnTo>
                  <a:lnTo>
                    <a:pt x="155" y="6"/>
                  </a:lnTo>
                  <a:lnTo>
                    <a:pt x="140" y="4"/>
                  </a:lnTo>
                  <a:lnTo>
                    <a:pt x="128" y="1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8" y="1"/>
                  </a:lnTo>
                  <a:lnTo>
                    <a:pt x="65" y="2"/>
                  </a:lnTo>
                  <a:lnTo>
                    <a:pt x="55" y="5"/>
                  </a:lnTo>
                  <a:lnTo>
                    <a:pt x="42" y="7"/>
                  </a:lnTo>
                  <a:lnTo>
                    <a:pt x="29" y="11"/>
                  </a:lnTo>
                  <a:lnTo>
                    <a:pt x="18" y="14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6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4" y="36"/>
                  </a:lnTo>
                  <a:lnTo>
                    <a:pt x="11" y="37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H="1">
              <a:off x="4093560" y="3552840"/>
              <a:ext cx="281160" cy="237600"/>
            </a:xfrm>
            <a:custGeom>
              <a:avLst/>
              <a:gdLst/>
              <a:ahLst/>
              <a:rect l="l" t="t" r="r" b="b"/>
              <a:pathLst>
                <a:path w="654" h="573">
                  <a:moveTo>
                    <a:pt x="345" y="29"/>
                  </a:moveTo>
                  <a:lnTo>
                    <a:pt x="359" y="23"/>
                  </a:lnTo>
                  <a:lnTo>
                    <a:pt x="375" y="19"/>
                  </a:lnTo>
                  <a:lnTo>
                    <a:pt x="390" y="14"/>
                  </a:lnTo>
                  <a:lnTo>
                    <a:pt x="406" y="10"/>
                  </a:lnTo>
                  <a:lnTo>
                    <a:pt x="422" y="6"/>
                  </a:lnTo>
                  <a:lnTo>
                    <a:pt x="438" y="3"/>
                  </a:lnTo>
                  <a:lnTo>
                    <a:pt x="454" y="2"/>
                  </a:lnTo>
                  <a:lnTo>
                    <a:pt x="470" y="1"/>
                  </a:lnTo>
                  <a:lnTo>
                    <a:pt x="486" y="0"/>
                  </a:lnTo>
                  <a:lnTo>
                    <a:pt x="501" y="0"/>
                  </a:lnTo>
                  <a:lnTo>
                    <a:pt x="517" y="1"/>
                  </a:lnTo>
                  <a:lnTo>
                    <a:pt x="530" y="3"/>
                  </a:lnTo>
                  <a:lnTo>
                    <a:pt x="544" y="5"/>
                  </a:lnTo>
                  <a:lnTo>
                    <a:pt x="558" y="9"/>
                  </a:lnTo>
                  <a:lnTo>
                    <a:pt x="570" y="14"/>
                  </a:lnTo>
                  <a:lnTo>
                    <a:pt x="581" y="19"/>
                  </a:lnTo>
                  <a:lnTo>
                    <a:pt x="608" y="38"/>
                  </a:lnTo>
                  <a:lnTo>
                    <a:pt x="628" y="62"/>
                  </a:lnTo>
                  <a:lnTo>
                    <a:pt x="641" y="93"/>
                  </a:lnTo>
                  <a:lnTo>
                    <a:pt x="651" y="127"/>
                  </a:lnTo>
                  <a:lnTo>
                    <a:pt x="654" y="165"/>
                  </a:lnTo>
                  <a:lnTo>
                    <a:pt x="654" y="205"/>
                  </a:lnTo>
                  <a:lnTo>
                    <a:pt x="652" y="246"/>
                  </a:lnTo>
                  <a:lnTo>
                    <a:pt x="645" y="287"/>
                  </a:lnTo>
                  <a:lnTo>
                    <a:pt x="640" y="300"/>
                  </a:lnTo>
                  <a:lnTo>
                    <a:pt x="632" y="307"/>
                  </a:lnTo>
                  <a:lnTo>
                    <a:pt x="620" y="313"/>
                  </a:lnTo>
                  <a:lnTo>
                    <a:pt x="608" y="317"/>
                  </a:lnTo>
                  <a:lnTo>
                    <a:pt x="593" y="320"/>
                  </a:lnTo>
                  <a:lnTo>
                    <a:pt x="579" y="321"/>
                  </a:lnTo>
                  <a:lnTo>
                    <a:pt x="566" y="322"/>
                  </a:lnTo>
                  <a:lnTo>
                    <a:pt x="556" y="324"/>
                  </a:lnTo>
                  <a:lnTo>
                    <a:pt x="538" y="330"/>
                  </a:lnTo>
                  <a:lnTo>
                    <a:pt x="519" y="338"/>
                  </a:lnTo>
                  <a:lnTo>
                    <a:pt x="501" y="348"/>
                  </a:lnTo>
                  <a:lnTo>
                    <a:pt x="483" y="360"/>
                  </a:lnTo>
                  <a:lnTo>
                    <a:pt x="465" y="371"/>
                  </a:lnTo>
                  <a:lnTo>
                    <a:pt x="446" y="384"/>
                  </a:lnTo>
                  <a:lnTo>
                    <a:pt x="428" y="398"/>
                  </a:lnTo>
                  <a:lnTo>
                    <a:pt x="409" y="412"/>
                  </a:lnTo>
                  <a:lnTo>
                    <a:pt x="390" y="425"/>
                  </a:lnTo>
                  <a:lnTo>
                    <a:pt x="373" y="439"/>
                  </a:lnTo>
                  <a:lnTo>
                    <a:pt x="354" y="454"/>
                  </a:lnTo>
                  <a:lnTo>
                    <a:pt x="335" y="467"/>
                  </a:lnTo>
                  <a:lnTo>
                    <a:pt x="316" y="478"/>
                  </a:lnTo>
                  <a:lnTo>
                    <a:pt x="298" y="491"/>
                  </a:lnTo>
                  <a:lnTo>
                    <a:pt x="279" y="501"/>
                  </a:lnTo>
                  <a:lnTo>
                    <a:pt x="261" y="509"/>
                  </a:lnTo>
                  <a:lnTo>
                    <a:pt x="246" y="515"/>
                  </a:lnTo>
                  <a:lnTo>
                    <a:pt x="233" y="521"/>
                  </a:lnTo>
                  <a:lnTo>
                    <a:pt x="218" y="527"/>
                  </a:lnTo>
                  <a:lnTo>
                    <a:pt x="204" y="533"/>
                  </a:lnTo>
                  <a:lnTo>
                    <a:pt x="191" y="537"/>
                  </a:lnTo>
                  <a:lnTo>
                    <a:pt x="177" y="544"/>
                  </a:lnTo>
                  <a:lnTo>
                    <a:pt x="164" y="548"/>
                  </a:lnTo>
                  <a:lnTo>
                    <a:pt x="150" y="553"/>
                  </a:lnTo>
                  <a:lnTo>
                    <a:pt x="136" y="557"/>
                  </a:lnTo>
                  <a:lnTo>
                    <a:pt x="122" y="562"/>
                  </a:lnTo>
                  <a:lnTo>
                    <a:pt x="108" y="565"/>
                  </a:lnTo>
                  <a:lnTo>
                    <a:pt x="92" y="567"/>
                  </a:lnTo>
                  <a:lnTo>
                    <a:pt x="75" y="569"/>
                  </a:lnTo>
                  <a:lnTo>
                    <a:pt x="59" y="572"/>
                  </a:lnTo>
                  <a:lnTo>
                    <a:pt x="43" y="573"/>
                  </a:lnTo>
                  <a:lnTo>
                    <a:pt x="24" y="573"/>
                  </a:lnTo>
                  <a:lnTo>
                    <a:pt x="9" y="568"/>
                  </a:lnTo>
                  <a:lnTo>
                    <a:pt x="0" y="555"/>
                  </a:lnTo>
                  <a:lnTo>
                    <a:pt x="0" y="535"/>
                  </a:lnTo>
                  <a:lnTo>
                    <a:pt x="7" y="509"/>
                  </a:lnTo>
                  <a:lnTo>
                    <a:pt x="17" y="478"/>
                  </a:lnTo>
                  <a:lnTo>
                    <a:pt x="32" y="444"/>
                  </a:lnTo>
                  <a:lnTo>
                    <a:pt x="50" y="408"/>
                  </a:lnTo>
                  <a:lnTo>
                    <a:pt x="70" y="371"/>
                  </a:lnTo>
                  <a:lnTo>
                    <a:pt x="91" y="335"/>
                  </a:lnTo>
                  <a:lnTo>
                    <a:pt x="112" y="301"/>
                  </a:lnTo>
                  <a:lnTo>
                    <a:pt x="131" y="267"/>
                  </a:lnTo>
                  <a:lnTo>
                    <a:pt x="149" y="238"/>
                  </a:lnTo>
                  <a:lnTo>
                    <a:pt x="163" y="216"/>
                  </a:lnTo>
                  <a:lnTo>
                    <a:pt x="174" y="200"/>
                  </a:lnTo>
                  <a:lnTo>
                    <a:pt x="179" y="192"/>
                  </a:lnTo>
                  <a:lnTo>
                    <a:pt x="176" y="192"/>
                  </a:lnTo>
                  <a:lnTo>
                    <a:pt x="195" y="171"/>
                  </a:lnTo>
                  <a:lnTo>
                    <a:pt x="215" y="144"/>
                  </a:lnTo>
                  <a:lnTo>
                    <a:pt x="237" y="116"/>
                  </a:lnTo>
                  <a:lnTo>
                    <a:pt x="258" y="90"/>
                  </a:lnTo>
                  <a:lnTo>
                    <a:pt x="281" y="63"/>
                  </a:lnTo>
                  <a:lnTo>
                    <a:pt x="303" y="43"/>
                  </a:lnTo>
                  <a:lnTo>
                    <a:pt x="325" y="31"/>
                  </a:lnTo>
                  <a:lnTo>
                    <a:pt x="345" y="29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>
              <a:off x="4123800" y="3548880"/>
              <a:ext cx="105120" cy="20520"/>
            </a:xfrm>
            <a:custGeom>
              <a:avLst/>
              <a:gdLst/>
              <a:ahLst/>
              <a:rect l="l" t="t" r="r" b="b"/>
              <a:pathLst>
                <a:path w="244" h="48">
                  <a:moveTo>
                    <a:pt x="244" y="20"/>
                  </a:moveTo>
                  <a:lnTo>
                    <a:pt x="244" y="20"/>
                  </a:lnTo>
                  <a:lnTo>
                    <a:pt x="233" y="15"/>
                  </a:lnTo>
                  <a:lnTo>
                    <a:pt x="220" y="10"/>
                  </a:lnTo>
                  <a:lnTo>
                    <a:pt x="206" y="6"/>
                  </a:lnTo>
                  <a:lnTo>
                    <a:pt x="192" y="3"/>
                  </a:lnTo>
                  <a:lnTo>
                    <a:pt x="177" y="1"/>
                  </a:lnTo>
                  <a:lnTo>
                    <a:pt x="161" y="0"/>
                  </a:lnTo>
                  <a:lnTo>
                    <a:pt x="146" y="0"/>
                  </a:lnTo>
                  <a:lnTo>
                    <a:pt x="130" y="1"/>
                  </a:lnTo>
                  <a:lnTo>
                    <a:pt x="114" y="2"/>
                  </a:lnTo>
                  <a:lnTo>
                    <a:pt x="96" y="3"/>
                  </a:lnTo>
                  <a:lnTo>
                    <a:pt x="81" y="8"/>
                  </a:lnTo>
                  <a:lnTo>
                    <a:pt x="65" y="11"/>
                  </a:lnTo>
                  <a:lnTo>
                    <a:pt x="48" y="14"/>
                  </a:lnTo>
                  <a:lnTo>
                    <a:pt x="33" y="19"/>
                  </a:lnTo>
                  <a:lnTo>
                    <a:pt x="17" y="24"/>
                  </a:lnTo>
                  <a:lnTo>
                    <a:pt x="0" y="31"/>
                  </a:lnTo>
                  <a:lnTo>
                    <a:pt x="8" y="48"/>
                  </a:lnTo>
                  <a:lnTo>
                    <a:pt x="23" y="43"/>
                  </a:lnTo>
                  <a:lnTo>
                    <a:pt x="37" y="38"/>
                  </a:lnTo>
                  <a:lnTo>
                    <a:pt x="53" y="33"/>
                  </a:lnTo>
                  <a:lnTo>
                    <a:pt x="67" y="30"/>
                  </a:lnTo>
                  <a:lnTo>
                    <a:pt x="84" y="26"/>
                  </a:lnTo>
                  <a:lnTo>
                    <a:pt x="99" y="22"/>
                  </a:lnTo>
                  <a:lnTo>
                    <a:pt x="114" y="21"/>
                  </a:lnTo>
                  <a:lnTo>
                    <a:pt x="130" y="20"/>
                  </a:lnTo>
                  <a:lnTo>
                    <a:pt x="146" y="19"/>
                  </a:lnTo>
                  <a:lnTo>
                    <a:pt x="161" y="19"/>
                  </a:lnTo>
                  <a:lnTo>
                    <a:pt x="177" y="20"/>
                  </a:lnTo>
                  <a:lnTo>
                    <a:pt x="189" y="22"/>
                  </a:lnTo>
                  <a:lnTo>
                    <a:pt x="203" y="25"/>
                  </a:lnTo>
                  <a:lnTo>
                    <a:pt x="216" y="29"/>
                  </a:lnTo>
                  <a:lnTo>
                    <a:pt x="226" y="32"/>
                  </a:lnTo>
                  <a:lnTo>
                    <a:pt x="238" y="36"/>
                  </a:lnTo>
                  <a:lnTo>
                    <a:pt x="238" y="36"/>
                  </a:lnTo>
                  <a:lnTo>
                    <a:pt x="24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H="1">
              <a:off x="4088880" y="3557160"/>
              <a:ext cx="36360" cy="115560"/>
            </a:xfrm>
            <a:custGeom>
              <a:avLst/>
              <a:gdLst/>
              <a:ahLst/>
              <a:rect l="l" t="t" r="r" b="b"/>
              <a:pathLst>
                <a:path w="86" h="278">
                  <a:moveTo>
                    <a:pt x="76" y="278"/>
                  </a:moveTo>
                  <a:lnTo>
                    <a:pt x="76" y="278"/>
                  </a:lnTo>
                  <a:lnTo>
                    <a:pt x="83" y="236"/>
                  </a:lnTo>
                  <a:lnTo>
                    <a:pt x="86" y="195"/>
                  </a:lnTo>
                  <a:lnTo>
                    <a:pt x="86" y="155"/>
                  </a:lnTo>
                  <a:lnTo>
                    <a:pt x="82" y="115"/>
                  </a:lnTo>
                  <a:lnTo>
                    <a:pt x="73" y="81"/>
                  </a:lnTo>
                  <a:lnTo>
                    <a:pt x="57" y="48"/>
                  </a:lnTo>
                  <a:lnTo>
                    <a:pt x="35" y="2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23" y="34"/>
                  </a:lnTo>
                  <a:lnTo>
                    <a:pt x="41" y="56"/>
                  </a:lnTo>
                  <a:lnTo>
                    <a:pt x="54" y="85"/>
                  </a:lnTo>
                  <a:lnTo>
                    <a:pt x="63" y="119"/>
                  </a:lnTo>
                  <a:lnTo>
                    <a:pt x="67" y="155"/>
                  </a:lnTo>
                  <a:lnTo>
                    <a:pt x="67" y="195"/>
                  </a:lnTo>
                  <a:lnTo>
                    <a:pt x="64" y="236"/>
                  </a:lnTo>
                  <a:lnTo>
                    <a:pt x="57" y="276"/>
                  </a:lnTo>
                  <a:lnTo>
                    <a:pt x="57" y="276"/>
                  </a:lnTo>
                  <a:lnTo>
                    <a:pt x="76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flipH="1">
              <a:off x="4093200" y="3670560"/>
              <a:ext cx="42840" cy="20520"/>
            </a:xfrm>
            <a:custGeom>
              <a:avLst/>
              <a:gdLst/>
              <a:ahLst/>
              <a:rect l="l" t="t" r="r" b="b"/>
              <a:pathLst>
                <a:path w="101" h="47">
                  <a:moveTo>
                    <a:pt x="5" y="47"/>
                  </a:moveTo>
                  <a:lnTo>
                    <a:pt x="5" y="47"/>
                  </a:lnTo>
                  <a:lnTo>
                    <a:pt x="14" y="45"/>
                  </a:lnTo>
                  <a:lnTo>
                    <a:pt x="26" y="44"/>
                  </a:lnTo>
                  <a:lnTo>
                    <a:pt x="41" y="42"/>
                  </a:lnTo>
                  <a:lnTo>
                    <a:pt x="56" y="40"/>
                  </a:lnTo>
                  <a:lnTo>
                    <a:pt x="69" y="37"/>
                  </a:lnTo>
                  <a:lnTo>
                    <a:pt x="83" y="28"/>
                  </a:lnTo>
                  <a:lnTo>
                    <a:pt x="96" y="18"/>
                  </a:lnTo>
                  <a:lnTo>
                    <a:pt x="101" y="2"/>
                  </a:lnTo>
                  <a:lnTo>
                    <a:pt x="82" y="0"/>
                  </a:lnTo>
                  <a:lnTo>
                    <a:pt x="79" y="8"/>
                  </a:lnTo>
                  <a:lnTo>
                    <a:pt x="75" y="15"/>
                  </a:lnTo>
                  <a:lnTo>
                    <a:pt x="65" y="18"/>
                  </a:lnTo>
                  <a:lnTo>
                    <a:pt x="52" y="21"/>
                  </a:lnTo>
                  <a:lnTo>
                    <a:pt x="39" y="24"/>
                  </a:lnTo>
                  <a:lnTo>
                    <a:pt x="26" y="25"/>
                  </a:lnTo>
                  <a:lnTo>
                    <a:pt x="11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>
              <a:off x="4134240" y="3683520"/>
              <a:ext cx="128520" cy="84600"/>
            </a:xfrm>
            <a:custGeom>
              <a:avLst/>
              <a:gdLst/>
              <a:ahLst/>
              <a:rect l="l" t="t" r="r" b="b"/>
              <a:pathLst>
                <a:path w="301" h="203">
                  <a:moveTo>
                    <a:pt x="7" y="203"/>
                  </a:moveTo>
                  <a:lnTo>
                    <a:pt x="7" y="203"/>
                  </a:lnTo>
                  <a:lnTo>
                    <a:pt x="26" y="195"/>
                  </a:lnTo>
                  <a:lnTo>
                    <a:pt x="46" y="184"/>
                  </a:lnTo>
                  <a:lnTo>
                    <a:pt x="63" y="173"/>
                  </a:lnTo>
                  <a:lnTo>
                    <a:pt x="82" y="161"/>
                  </a:lnTo>
                  <a:lnTo>
                    <a:pt x="102" y="147"/>
                  </a:lnTo>
                  <a:lnTo>
                    <a:pt x="121" y="132"/>
                  </a:lnTo>
                  <a:lnTo>
                    <a:pt x="139" y="119"/>
                  </a:lnTo>
                  <a:lnTo>
                    <a:pt x="158" y="104"/>
                  </a:lnTo>
                  <a:lnTo>
                    <a:pt x="177" y="91"/>
                  </a:lnTo>
                  <a:lnTo>
                    <a:pt x="194" y="78"/>
                  </a:lnTo>
                  <a:lnTo>
                    <a:pt x="212" y="65"/>
                  </a:lnTo>
                  <a:lnTo>
                    <a:pt x="231" y="53"/>
                  </a:lnTo>
                  <a:lnTo>
                    <a:pt x="249" y="43"/>
                  </a:lnTo>
                  <a:lnTo>
                    <a:pt x="265" y="32"/>
                  </a:lnTo>
                  <a:lnTo>
                    <a:pt x="284" y="24"/>
                  </a:lnTo>
                  <a:lnTo>
                    <a:pt x="301" y="19"/>
                  </a:lnTo>
                  <a:lnTo>
                    <a:pt x="296" y="0"/>
                  </a:lnTo>
                  <a:lnTo>
                    <a:pt x="277" y="8"/>
                  </a:lnTo>
                  <a:lnTo>
                    <a:pt x="259" y="16"/>
                  </a:lnTo>
                  <a:lnTo>
                    <a:pt x="240" y="27"/>
                  </a:lnTo>
                  <a:lnTo>
                    <a:pt x="222" y="37"/>
                  </a:lnTo>
                  <a:lnTo>
                    <a:pt x="203" y="49"/>
                  </a:lnTo>
                  <a:lnTo>
                    <a:pt x="183" y="63"/>
                  </a:lnTo>
                  <a:lnTo>
                    <a:pt x="165" y="78"/>
                  </a:lnTo>
                  <a:lnTo>
                    <a:pt x="147" y="90"/>
                  </a:lnTo>
                  <a:lnTo>
                    <a:pt x="128" y="104"/>
                  </a:lnTo>
                  <a:lnTo>
                    <a:pt x="110" y="119"/>
                  </a:lnTo>
                  <a:lnTo>
                    <a:pt x="91" y="132"/>
                  </a:lnTo>
                  <a:lnTo>
                    <a:pt x="73" y="144"/>
                  </a:lnTo>
                  <a:lnTo>
                    <a:pt x="55" y="157"/>
                  </a:lnTo>
                  <a:lnTo>
                    <a:pt x="37" y="168"/>
                  </a:lnTo>
                  <a:lnTo>
                    <a:pt x="19" y="179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7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 flipH="1">
              <a:off x="4261320" y="3759840"/>
              <a:ext cx="102960" cy="34920"/>
            </a:xfrm>
            <a:custGeom>
              <a:avLst/>
              <a:gdLst/>
              <a:ahLst/>
              <a:rect l="l" t="t" r="r" b="b"/>
              <a:pathLst>
                <a:path w="240" h="82">
                  <a:moveTo>
                    <a:pt x="0" y="82"/>
                  </a:moveTo>
                  <a:lnTo>
                    <a:pt x="0" y="82"/>
                  </a:lnTo>
                  <a:lnTo>
                    <a:pt x="19" y="82"/>
                  </a:lnTo>
                  <a:lnTo>
                    <a:pt x="35" y="81"/>
                  </a:lnTo>
                  <a:lnTo>
                    <a:pt x="53" y="77"/>
                  </a:lnTo>
                  <a:lnTo>
                    <a:pt x="69" y="75"/>
                  </a:lnTo>
                  <a:lnTo>
                    <a:pt x="85" y="73"/>
                  </a:lnTo>
                  <a:lnTo>
                    <a:pt x="99" y="69"/>
                  </a:lnTo>
                  <a:lnTo>
                    <a:pt x="115" y="66"/>
                  </a:lnTo>
                  <a:lnTo>
                    <a:pt x="128" y="62"/>
                  </a:lnTo>
                  <a:lnTo>
                    <a:pt x="142" y="56"/>
                  </a:lnTo>
                  <a:lnTo>
                    <a:pt x="156" y="52"/>
                  </a:lnTo>
                  <a:lnTo>
                    <a:pt x="170" y="46"/>
                  </a:lnTo>
                  <a:lnTo>
                    <a:pt x="182" y="42"/>
                  </a:lnTo>
                  <a:lnTo>
                    <a:pt x="198" y="34"/>
                  </a:lnTo>
                  <a:lnTo>
                    <a:pt x="212" y="28"/>
                  </a:lnTo>
                  <a:lnTo>
                    <a:pt x="227" y="23"/>
                  </a:lnTo>
                  <a:lnTo>
                    <a:pt x="240" y="16"/>
                  </a:lnTo>
                  <a:lnTo>
                    <a:pt x="233" y="0"/>
                  </a:lnTo>
                  <a:lnTo>
                    <a:pt x="219" y="6"/>
                  </a:lnTo>
                  <a:lnTo>
                    <a:pt x="204" y="12"/>
                  </a:lnTo>
                  <a:lnTo>
                    <a:pt x="191" y="17"/>
                  </a:lnTo>
                  <a:lnTo>
                    <a:pt x="178" y="23"/>
                  </a:lnTo>
                  <a:lnTo>
                    <a:pt x="165" y="27"/>
                  </a:lnTo>
                  <a:lnTo>
                    <a:pt x="151" y="33"/>
                  </a:lnTo>
                  <a:lnTo>
                    <a:pt x="138" y="37"/>
                  </a:lnTo>
                  <a:lnTo>
                    <a:pt x="124" y="43"/>
                  </a:lnTo>
                  <a:lnTo>
                    <a:pt x="109" y="47"/>
                  </a:lnTo>
                  <a:lnTo>
                    <a:pt x="97" y="51"/>
                  </a:lnTo>
                  <a:lnTo>
                    <a:pt x="82" y="54"/>
                  </a:lnTo>
                  <a:lnTo>
                    <a:pt x="67" y="56"/>
                  </a:lnTo>
                  <a:lnTo>
                    <a:pt x="50" y="58"/>
                  </a:lnTo>
                  <a:lnTo>
                    <a:pt x="35" y="62"/>
                  </a:lnTo>
                  <a:lnTo>
                    <a:pt x="19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H="1">
              <a:off x="4293000" y="3629520"/>
              <a:ext cx="86040" cy="165600"/>
            </a:xfrm>
            <a:custGeom>
              <a:avLst/>
              <a:gdLst/>
              <a:ahLst/>
              <a:rect l="l" t="t" r="r" b="b"/>
              <a:pathLst>
                <a:path w="196" h="398">
                  <a:moveTo>
                    <a:pt x="179" y="0"/>
                  </a:moveTo>
                  <a:lnTo>
                    <a:pt x="192" y="14"/>
                  </a:lnTo>
                  <a:lnTo>
                    <a:pt x="178" y="5"/>
                  </a:lnTo>
                  <a:lnTo>
                    <a:pt x="174" y="10"/>
                  </a:lnTo>
                  <a:lnTo>
                    <a:pt x="164" y="27"/>
                  </a:lnTo>
                  <a:lnTo>
                    <a:pt x="150" y="49"/>
                  </a:lnTo>
                  <a:lnTo>
                    <a:pt x="132" y="78"/>
                  </a:lnTo>
                  <a:lnTo>
                    <a:pt x="113" y="110"/>
                  </a:lnTo>
                  <a:lnTo>
                    <a:pt x="92" y="145"/>
                  </a:lnTo>
                  <a:lnTo>
                    <a:pt x="71" y="181"/>
                  </a:lnTo>
                  <a:lnTo>
                    <a:pt x="51" y="220"/>
                  </a:lnTo>
                  <a:lnTo>
                    <a:pt x="33" y="256"/>
                  </a:lnTo>
                  <a:lnTo>
                    <a:pt x="18" y="290"/>
                  </a:lnTo>
                  <a:lnTo>
                    <a:pt x="6" y="322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0"/>
                  </a:lnTo>
                  <a:lnTo>
                    <a:pt x="33" y="398"/>
                  </a:lnTo>
                  <a:lnTo>
                    <a:pt x="33" y="379"/>
                  </a:lnTo>
                  <a:lnTo>
                    <a:pt x="23" y="377"/>
                  </a:lnTo>
                  <a:lnTo>
                    <a:pt x="19" y="368"/>
                  </a:lnTo>
                  <a:lnTo>
                    <a:pt x="19" y="351"/>
                  </a:lnTo>
                  <a:lnTo>
                    <a:pt x="25" y="327"/>
                  </a:lnTo>
                  <a:lnTo>
                    <a:pt x="35" y="297"/>
                  </a:lnTo>
                  <a:lnTo>
                    <a:pt x="49" y="263"/>
                  </a:lnTo>
                  <a:lnTo>
                    <a:pt x="67" y="228"/>
                  </a:lnTo>
                  <a:lnTo>
                    <a:pt x="87" y="191"/>
                  </a:lnTo>
                  <a:lnTo>
                    <a:pt x="109" y="155"/>
                  </a:lnTo>
                  <a:lnTo>
                    <a:pt x="130" y="120"/>
                  </a:lnTo>
                  <a:lnTo>
                    <a:pt x="149" y="87"/>
                  </a:lnTo>
                  <a:lnTo>
                    <a:pt x="167" y="59"/>
                  </a:lnTo>
                  <a:lnTo>
                    <a:pt x="180" y="37"/>
                  </a:lnTo>
                  <a:lnTo>
                    <a:pt x="191" y="20"/>
                  </a:lnTo>
                  <a:lnTo>
                    <a:pt x="196" y="9"/>
                  </a:lnTo>
                  <a:lnTo>
                    <a:pt x="178" y="0"/>
                  </a:lnTo>
                  <a:lnTo>
                    <a:pt x="191" y="14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 flipH="1">
              <a:off x="4222800" y="3561480"/>
              <a:ext cx="79200" cy="73800"/>
            </a:xfrm>
            <a:custGeom>
              <a:avLst/>
              <a:gdLst/>
              <a:ahLst/>
              <a:rect l="l" t="t" r="r" b="b"/>
              <a:pathLst>
                <a:path w="184" h="179">
                  <a:moveTo>
                    <a:pt x="170" y="1"/>
                  </a:moveTo>
                  <a:lnTo>
                    <a:pt x="176" y="0"/>
                  </a:lnTo>
                  <a:lnTo>
                    <a:pt x="152" y="2"/>
                  </a:lnTo>
                  <a:lnTo>
                    <a:pt x="127" y="16"/>
                  </a:lnTo>
                  <a:lnTo>
                    <a:pt x="104" y="38"/>
                  </a:lnTo>
                  <a:lnTo>
                    <a:pt x="82" y="63"/>
                  </a:lnTo>
                  <a:lnTo>
                    <a:pt x="61" y="91"/>
                  </a:lnTo>
                  <a:lnTo>
                    <a:pt x="37" y="119"/>
                  </a:lnTo>
                  <a:lnTo>
                    <a:pt x="17" y="145"/>
                  </a:lnTo>
                  <a:lnTo>
                    <a:pt x="0" y="165"/>
                  </a:lnTo>
                  <a:lnTo>
                    <a:pt x="12" y="179"/>
                  </a:lnTo>
                  <a:lnTo>
                    <a:pt x="32" y="156"/>
                  </a:lnTo>
                  <a:lnTo>
                    <a:pt x="52" y="131"/>
                  </a:lnTo>
                  <a:lnTo>
                    <a:pt x="74" y="102"/>
                  </a:lnTo>
                  <a:lnTo>
                    <a:pt x="95" y="75"/>
                  </a:lnTo>
                  <a:lnTo>
                    <a:pt x="118" y="49"/>
                  </a:lnTo>
                  <a:lnTo>
                    <a:pt x="139" y="30"/>
                  </a:lnTo>
                  <a:lnTo>
                    <a:pt x="157" y="21"/>
                  </a:lnTo>
                  <a:lnTo>
                    <a:pt x="174" y="19"/>
                  </a:lnTo>
                  <a:lnTo>
                    <a:pt x="178" y="18"/>
                  </a:lnTo>
                  <a:lnTo>
                    <a:pt x="174" y="19"/>
                  </a:lnTo>
                  <a:lnTo>
                    <a:pt x="180" y="16"/>
                  </a:lnTo>
                  <a:lnTo>
                    <a:pt x="184" y="10"/>
                  </a:lnTo>
                  <a:lnTo>
                    <a:pt x="182" y="3"/>
                  </a:lnTo>
                  <a:lnTo>
                    <a:pt x="176" y="0"/>
                  </a:lnTo>
                  <a:lnTo>
                    <a:pt x="17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 flipH="1">
              <a:off x="3804120" y="2930400"/>
              <a:ext cx="70560" cy="45360"/>
            </a:xfrm>
            <a:custGeom>
              <a:avLst/>
              <a:gdLst/>
              <a:ahLst/>
              <a:rect l="l" t="t" r="r" b="b"/>
              <a:pathLst>
                <a:path w="162" h="110">
                  <a:moveTo>
                    <a:pt x="143" y="92"/>
                  </a:moveTo>
                  <a:lnTo>
                    <a:pt x="159" y="92"/>
                  </a:lnTo>
                  <a:lnTo>
                    <a:pt x="142" y="77"/>
                  </a:lnTo>
                  <a:lnTo>
                    <a:pt x="125" y="63"/>
                  </a:lnTo>
                  <a:lnTo>
                    <a:pt x="105" y="52"/>
                  </a:lnTo>
                  <a:lnTo>
                    <a:pt x="86" y="41"/>
                  </a:lnTo>
                  <a:lnTo>
                    <a:pt x="67" y="31"/>
                  </a:lnTo>
                  <a:lnTo>
                    <a:pt x="47" y="20"/>
                  </a:lnTo>
                  <a:lnTo>
                    <a:pt x="28" y="11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8" y="30"/>
                  </a:lnTo>
                  <a:lnTo>
                    <a:pt x="37" y="39"/>
                  </a:lnTo>
                  <a:lnTo>
                    <a:pt x="57" y="50"/>
                  </a:lnTo>
                  <a:lnTo>
                    <a:pt x="76" y="60"/>
                  </a:lnTo>
                  <a:lnTo>
                    <a:pt x="95" y="71"/>
                  </a:lnTo>
                  <a:lnTo>
                    <a:pt x="112" y="82"/>
                  </a:lnTo>
                  <a:lnTo>
                    <a:pt x="130" y="93"/>
                  </a:lnTo>
                  <a:lnTo>
                    <a:pt x="144" y="107"/>
                  </a:lnTo>
                  <a:lnTo>
                    <a:pt x="160" y="107"/>
                  </a:lnTo>
                  <a:lnTo>
                    <a:pt x="144" y="107"/>
                  </a:lnTo>
                  <a:lnTo>
                    <a:pt x="151" y="110"/>
                  </a:lnTo>
                  <a:lnTo>
                    <a:pt x="159" y="107"/>
                  </a:lnTo>
                  <a:lnTo>
                    <a:pt x="162" y="99"/>
                  </a:lnTo>
                  <a:lnTo>
                    <a:pt x="159" y="92"/>
                  </a:lnTo>
                  <a:lnTo>
                    <a:pt x="14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 flipH="1">
              <a:off x="3756960" y="2854080"/>
              <a:ext cx="55440" cy="51480"/>
            </a:xfrm>
            <a:custGeom>
              <a:avLst/>
              <a:gdLst/>
              <a:ahLst/>
              <a:rect l="l" t="t" r="r" b="b"/>
              <a:pathLst>
                <a:path w="129" h="124">
                  <a:moveTo>
                    <a:pt x="17" y="12"/>
                  </a:moveTo>
                  <a:lnTo>
                    <a:pt x="17" y="12"/>
                  </a:lnTo>
                  <a:lnTo>
                    <a:pt x="5" y="16"/>
                  </a:lnTo>
                  <a:lnTo>
                    <a:pt x="14" y="24"/>
                  </a:lnTo>
                  <a:lnTo>
                    <a:pt x="28" y="39"/>
                  </a:lnTo>
                  <a:lnTo>
                    <a:pt x="45" y="56"/>
                  </a:lnTo>
                  <a:lnTo>
                    <a:pt x="62" y="75"/>
                  </a:lnTo>
                  <a:lnTo>
                    <a:pt x="81" y="93"/>
                  </a:lnTo>
                  <a:lnTo>
                    <a:pt x="99" y="111"/>
                  </a:lnTo>
                  <a:lnTo>
                    <a:pt x="117" y="124"/>
                  </a:lnTo>
                  <a:lnTo>
                    <a:pt x="129" y="107"/>
                  </a:lnTo>
                  <a:lnTo>
                    <a:pt x="113" y="94"/>
                  </a:lnTo>
                  <a:lnTo>
                    <a:pt x="96" y="79"/>
                  </a:lnTo>
                  <a:lnTo>
                    <a:pt x="77" y="61"/>
                  </a:lnTo>
                  <a:lnTo>
                    <a:pt x="59" y="42"/>
                  </a:lnTo>
                  <a:lnTo>
                    <a:pt x="42" y="24"/>
                  </a:lnTo>
                  <a:lnTo>
                    <a:pt x="28" y="1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>
              <a:off x="3805560" y="2854080"/>
              <a:ext cx="70920" cy="84240"/>
            </a:xfrm>
            <a:custGeom>
              <a:avLst/>
              <a:gdLst/>
              <a:ahLst/>
              <a:rect l="l" t="t" r="r" b="b"/>
              <a:pathLst>
                <a:path w="164" h="204">
                  <a:moveTo>
                    <a:pt x="14" y="185"/>
                  </a:moveTo>
                  <a:lnTo>
                    <a:pt x="18" y="201"/>
                  </a:lnTo>
                  <a:lnTo>
                    <a:pt x="164" y="12"/>
                  </a:lnTo>
                  <a:lnTo>
                    <a:pt x="147" y="0"/>
                  </a:lnTo>
                  <a:lnTo>
                    <a:pt x="1" y="188"/>
                  </a:lnTo>
                  <a:lnTo>
                    <a:pt x="4" y="204"/>
                  </a:lnTo>
                  <a:lnTo>
                    <a:pt x="1" y="188"/>
                  </a:lnTo>
                  <a:lnTo>
                    <a:pt x="0" y="197"/>
                  </a:lnTo>
                  <a:lnTo>
                    <a:pt x="4" y="203"/>
                  </a:lnTo>
                  <a:lnTo>
                    <a:pt x="10" y="204"/>
                  </a:lnTo>
                  <a:lnTo>
                    <a:pt x="18" y="201"/>
                  </a:lnTo>
                  <a:lnTo>
                    <a:pt x="1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H="1">
              <a:off x="4396320" y="2901240"/>
              <a:ext cx="152280" cy="250200"/>
            </a:xfrm>
            <a:custGeom>
              <a:avLst/>
              <a:gdLst/>
              <a:ahLst/>
              <a:rect l="l" t="t" r="r" b="b"/>
              <a:pathLst>
                <a:path w="358" h="603">
                  <a:moveTo>
                    <a:pt x="76" y="0"/>
                  </a:moveTo>
                  <a:lnTo>
                    <a:pt x="68" y="16"/>
                  </a:lnTo>
                  <a:lnTo>
                    <a:pt x="60" y="31"/>
                  </a:lnTo>
                  <a:lnTo>
                    <a:pt x="51" y="46"/>
                  </a:lnTo>
                  <a:lnTo>
                    <a:pt x="45" y="61"/>
                  </a:lnTo>
                  <a:lnTo>
                    <a:pt x="37" y="76"/>
                  </a:lnTo>
                  <a:lnTo>
                    <a:pt x="28" y="91"/>
                  </a:lnTo>
                  <a:lnTo>
                    <a:pt x="21" y="107"/>
                  </a:lnTo>
                  <a:lnTo>
                    <a:pt x="13" y="123"/>
                  </a:lnTo>
                  <a:lnTo>
                    <a:pt x="5" y="156"/>
                  </a:lnTo>
                  <a:lnTo>
                    <a:pt x="0" y="200"/>
                  </a:lnTo>
                  <a:lnTo>
                    <a:pt x="1" y="249"/>
                  </a:lnTo>
                  <a:lnTo>
                    <a:pt x="11" y="292"/>
                  </a:lnTo>
                  <a:lnTo>
                    <a:pt x="26" y="320"/>
                  </a:lnTo>
                  <a:lnTo>
                    <a:pt x="39" y="346"/>
                  </a:lnTo>
                  <a:lnTo>
                    <a:pt x="50" y="368"/>
                  </a:lnTo>
                  <a:lnTo>
                    <a:pt x="62" y="389"/>
                  </a:lnTo>
                  <a:lnTo>
                    <a:pt x="74" y="411"/>
                  </a:lnTo>
                  <a:lnTo>
                    <a:pt x="86" y="435"/>
                  </a:lnTo>
                  <a:lnTo>
                    <a:pt x="98" y="461"/>
                  </a:lnTo>
                  <a:lnTo>
                    <a:pt x="111" y="490"/>
                  </a:lnTo>
                  <a:lnTo>
                    <a:pt x="117" y="504"/>
                  </a:lnTo>
                  <a:lnTo>
                    <a:pt x="123" y="520"/>
                  </a:lnTo>
                  <a:lnTo>
                    <a:pt x="132" y="537"/>
                  </a:lnTo>
                  <a:lnTo>
                    <a:pt x="141" y="552"/>
                  </a:lnTo>
                  <a:lnTo>
                    <a:pt x="151" y="568"/>
                  </a:lnTo>
                  <a:lnTo>
                    <a:pt x="162" y="582"/>
                  </a:lnTo>
                  <a:lnTo>
                    <a:pt x="174" y="594"/>
                  </a:lnTo>
                  <a:lnTo>
                    <a:pt x="188" y="603"/>
                  </a:lnTo>
                  <a:lnTo>
                    <a:pt x="202" y="601"/>
                  </a:lnTo>
                  <a:lnTo>
                    <a:pt x="217" y="595"/>
                  </a:lnTo>
                  <a:lnTo>
                    <a:pt x="232" y="587"/>
                  </a:lnTo>
                  <a:lnTo>
                    <a:pt x="246" y="577"/>
                  </a:lnTo>
                  <a:lnTo>
                    <a:pt x="258" y="564"/>
                  </a:lnTo>
                  <a:lnTo>
                    <a:pt x="270" y="553"/>
                  </a:lnTo>
                  <a:lnTo>
                    <a:pt x="280" y="541"/>
                  </a:lnTo>
                  <a:lnTo>
                    <a:pt x="284" y="532"/>
                  </a:lnTo>
                  <a:lnTo>
                    <a:pt x="276" y="466"/>
                  </a:lnTo>
                  <a:lnTo>
                    <a:pt x="273" y="410"/>
                  </a:lnTo>
                  <a:lnTo>
                    <a:pt x="276" y="357"/>
                  </a:lnTo>
                  <a:lnTo>
                    <a:pt x="290" y="297"/>
                  </a:lnTo>
                  <a:lnTo>
                    <a:pt x="300" y="272"/>
                  </a:lnTo>
                  <a:lnTo>
                    <a:pt x="312" y="244"/>
                  </a:lnTo>
                  <a:lnTo>
                    <a:pt x="326" y="215"/>
                  </a:lnTo>
                  <a:lnTo>
                    <a:pt x="339" y="182"/>
                  </a:lnTo>
                  <a:lnTo>
                    <a:pt x="349" y="151"/>
                  </a:lnTo>
                  <a:lnTo>
                    <a:pt x="357" y="120"/>
                  </a:lnTo>
                  <a:lnTo>
                    <a:pt x="358" y="90"/>
                  </a:lnTo>
                  <a:lnTo>
                    <a:pt x="351" y="63"/>
                  </a:lnTo>
                  <a:lnTo>
                    <a:pt x="344" y="54"/>
                  </a:lnTo>
                  <a:lnTo>
                    <a:pt x="328" y="46"/>
                  </a:lnTo>
                  <a:lnTo>
                    <a:pt x="306" y="37"/>
                  </a:lnTo>
                  <a:lnTo>
                    <a:pt x="282" y="30"/>
                  </a:lnTo>
                  <a:lnTo>
                    <a:pt x="255" y="24"/>
                  </a:lnTo>
                  <a:lnTo>
                    <a:pt x="231" y="17"/>
                  </a:lnTo>
                  <a:lnTo>
                    <a:pt x="211" y="13"/>
                  </a:lnTo>
                  <a:lnTo>
                    <a:pt x="196" y="10"/>
                  </a:lnTo>
                  <a:lnTo>
                    <a:pt x="181" y="9"/>
                  </a:lnTo>
                  <a:lnTo>
                    <a:pt x="166" y="8"/>
                  </a:lnTo>
                  <a:lnTo>
                    <a:pt x="151" y="7"/>
                  </a:lnTo>
                  <a:lnTo>
                    <a:pt x="135" y="6"/>
                  </a:lnTo>
                  <a:lnTo>
                    <a:pt x="120" y="5"/>
                  </a:lnTo>
                  <a:lnTo>
                    <a:pt x="105" y="4"/>
                  </a:lnTo>
                  <a:lnTo>
                    <a:pt x="9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H="1">
              <a:off x="4512240" y="2899440"/>
              <a:ext cx="34560" cy="53280"/>
            </a:xfrm>
            <a:custGeom>
              <a:avLst/>
              <a:gdLst/>
              <a:ahLst/>
              <a:rect l="l" t="t" r="r" b="b"/>
              <a:pathLst>
                <a:path w="79" h="130">
                  <a:moveTo>
                    <a:pt x="18" y="130"/>
                  </a:moveTo>
                  <a:lnTo>
                    <a:pt x="18" y="130"/>
                  </a:lnTo>
                  <a:lnTo>
                    <a:pt x="25" y="114"/>
                  </a:lnTo>
                  <a:lnTo>
                    <a:pt x="33" y="100"/>
                  </a:lnTo>
                  <a:lnTo>
                    <a:pt x="41" y="85"/>
                  </a:lnTo>
                  <a:lnTo>
                    <a:pt x="49" y="70"/>
                  </a:lnTo>
                  <a:lnTo>
                    <a:pt x="56" y="54"/>
                  </a:lnTo>
                  <a:lnTo>
                    <a:pt x="64" y="40"/>
                  </a:lnTo>
                  <a:lnTo>
                    <a:pt x="73" y="24"/>
                  </a:lnTo>
                  <a:lnTo>
                    <a:pt x="79" y="10"/>
                  </a:lnTo>
                  <a:lnTo>
                    <a:pt x="61" y="0"/>
                  </a:lnTo>
                  <a:lnTo>
                    <a:pt x="54" y="15"/>
                  </a:lnTo>
                  <a:lnTo>
                    <a:pt x="45" y="31"/>
                  </a:lnTo>
                  <a:lnTo>
                    <a:pt x="37" y="45"/>
                  </a:lnTo>
                  <a:lnTo>
                    <a:pt x="31" y="60"/>
                  </a:lnTo>
                  <a:lnTo>
                    <a:pt x="22" y="75"/>
                  </a:lnTo>
                  <a:lnTo>
                    <a:pt x="14" y="91"/>
                  </a:lnTo>
                  <a:lnTo>
                    <a:pt x="6" y="108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1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H="1">
              <a:off x="4540320" y="2950920"/>
              <a:ext cx="12960" cy="74520"/>
            </a:xfrm>
            <a:custGeom>
              <a:avLst/>
              <a:gdLst/>
              <a:ahLst/>
              <a:rect l="l" t="t" r="r" b="b"/>
              <a:pathLst>
                <a:path w="34" h="178">
                  <a:moveTo>
                    <a:pt x="32" y="169"/>
                  </a:moveTo>
                  <a:lnTo>
                    <a:pt x="32" y="170"/>
                  </a:lnTo>
                  <a:lnTo>
                    <a:pt x="22" y="128"/>
                  </a:lnTo>
                  <a:lnTo>
                    <a:pt x="21" y="81"/>
                  </a:lnTo>
                  <a:lnTo>
                    <a:pt x="27" y="38"/>
                  </a:lnTo>
                  <a:lnTo>
                    <a:pt x="34" y="7"/>
                  </a:lnTo>
                  <a:lnTo>
                    <a:pt x="16" y="0"/>
                  </a:lnTo>
                  <a:lnTo>
                    <a:pt x="5" y="36"/>
                  </a:lnTo>
                  <a:lnTo>
                    <a:pt x="0" y="81"/>
                  </a:lnTo>
                  <a:lnTo>
                    <a:pt x="1" y="131"/>
                  </a:lnTo>
                  <a:lnTo>
                    <a:pt x="13" y="177"/>
                  </a:lnTo>
                  <a:lnTo>
                    <a:pt x="13" y="178"/>
                  </a:lnTo>
                  <a:lnTo>
                    <a:pt x="3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H="1">
              <a:off x="4497120" y="3021480"/>
              <a:ext cx="51480" cy="84600"/>
            </a:xfrm>
            <a:custGeom>
              <a:avLst/>
              <a:gdLst/>
              <a:ahLst/>
              <a:rect l="l" t="t" r="r" b="b"/>
              <a:pathLst>
                <a:path w="118" h="206">
                  <a:moveTo>
                    <a:pt x="118" y="199"/>
                  </a:moveTo>
                  <a:lnTo>
                    <a:pt x="118" y="199"/>
                  </a:lnTo>
                  <a:lnTo>
                    <a:pt x="105" y="170"/>
                  </a:lnTo>
                  <a:lnTo>
                    <a:pt x="94" y="142"/>
                  </a:lnTo>
                  <a:lnTo>
                    <a:pt x="81" y="119"/>
                  </a:lnTo>
                  <a:lnTo>
                    <a:pt x="70" y="97"/>
                  </a:lnTo>
                  <a:lnTo>
                    <a:pt x="58" y="75"/>
                  </a:lnTo>
                  <a:lnTo>
                    <a:pt x="46" y="52"/>
                  </a:lnTo>
                  <a:lnTo>
                    <a:pt x="34" y="28"/>
                  </a:lnTo>
                  <a:lnTo>
                    <a:pt x="19" y="0"/>
                  </a:lnTo>
                  <a:lnTo>
                    <a:pt x="0" y="9"/>
                  </a:lnTo>
                  <a:lnTo>
                    <a:pt x="15" y="38"/>
                  </a:lnTo>
                  <a:lnTo>
                    <a:pt x="27" y="62"/>
                  </a:lnTo>
                  <a:lnTo>
                    <a:pt x="39" y="84"/>
                  </a:lnTo>
                  <a:lnTo>
                    <a:pt x="51" y="105"/>
                  </a:lnTo>
                  <a:lnTo>
                    <a:pt x="62" y="128"/>
                  </a:lnTo>
                  <a:lnTo>
                    <a:pt x="75" y="152"/>
                  </a:lnTo>
                  <a:lnTo>
                    <a:pt x="86" y="176"/>
                  </a:lnTo>
                  <a:lnTo>
                    <a:pt x="99" y="206"/>
                  </a:lnTo>
                  <a:lnTo>
                    <a:pt x="99" y="206"/>
                  </a:lnTo>
                  <a:lnTo>
                    <a:pt x="118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H="1">
              <a:off x="4465080" y="3103920"/>
              <a:ext cx="40680" cy="5148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87" y="106"/>
                  </a:moveTo>
                  <a:lnTo>
                    <a:pt x="91" y="107"/>
                  </a:lnTo>
                  <a:lnTo>
                    <a:pt x="80" y="99"/>
                  </a:lnTo>
                  <a:lnTo>
                    <a:pt x="70" y="89"/>
                  </a:lnTo>
                  <a:lnTo>
                    <a:pt x="58" y="75"/>
                  </a:lnTo>
                  <a:lnTo>
                    <a:pt x="50" y="60"/>
                  </a:lnTo>
                  <a:lnTo>
                    <a:pt x="40" y="45"/>
                  </a:lnTo>
                  <a:lnTo>
                    <a:pt x="32" y="29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0" y="7"/>
                  </a:lnTo>
                  <a:lnTo>
                    <a:pt x="6" y="21"/>
                  </a:lnTo>
                  <a:lnTo>
                    <a:pt x="13" y="37"/>
                  </a:lnTo>
                  <a:lnTo>
                    <a:pt x="21" y="54"/>
                  </a:lnTo>
                  <a:lnTo>
                    <a:pt x="31" y="70"/>
                  </a:lnTo>
                  <a:lnTo>
                    <a:pt x="41" y="87"/>
                  </a:lnTo>
                  <a:lnTo>
                    <a:pt x="53" y="103"/>
                  </a:lnTo>
                  <a:lnTo>
                    <a:pt x="67" y="115"/>
                  </a:lnTo>
                  <a:lnTo>
                    <a:pt x="81" y="126"/>
                  </a:lnTo>
                  <a:lnTo>
                    <a:pt x="87" y="127"/>
                  </a:lnTo>
                  <a:lnTo>
                    <a:pt x="81" y="126"/>
                  </a:lnTo>
                  <a:lnTo>
                    <a:pt x="90" y="126"/>
                  </a:lnTo>
                  <a:lnTo>
                    <a:pt x="95" y="122"/>
                  </a:lnTo>
                  <a:lnTo>
                    <a:pt x="95" y="113"/>
                  </a:lnTo>
                  <a:lnTo>
                    <a:pt x="91" y="107"/>
                  </a:lnTo>
                  <a:lnTo>
                    <a:pt x="87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H="1">
              <a:off x="4421880" y="3118680"/>
              <a:ext cx="47160" cy="3672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85" y="11"/>
                  </a:moveTo>
                  <a:lnTo>
                    <a:pt x="86" y="6"/>
                  </a:lnTo>
                  <a:lnTo>
                    <a:pt x="83" y="14"/>
                  </a:lnTo>
                  <a:lnTo>
                    <a:pt x="74" y="24"/>
                  </a:lnTo>
                  <a:lnTo>
                    <a:pt x="64" y="36"/>
                  </a:lnTo>
                  <a:lnTo>
                    <a:pt x="51" y="46"/>
                  </a:lnTo>
                  <a:lnTo>
                    <a:pt x="38" y="57"/>
                  </a:lnTo>
                  <a:lnTo>
                    <a:pt x="25" y="64"/>
                  </a:lnTo>
                  <a:lnTo>
                    <a:pt x="12" y="69"/>
                  </a:lnTo>
                  <a:lnTo>
                    <a:pt x="0" y="71"/>
                  </a:lnTo>
                  <a:lnTo>
                    <a:pt x="0" y="92"/>
                  </a:lnTo>
                  <a:lnTo>
                    <a:pt x="17" y="90"/>
                  </a:lnTo>
                  <a:lnTo>
                    <a:pt x="35" y="82"/>
                  </a:lnTo>
                  <a:lnTo>
                    <a:pt x="49" y="73"/>
                  </a:lnTo>
                  <a:lnTo>
                    <a:pt x="65" y="62"/>
                  </a:lnTo>
                  <a:lnTo>
                    <a:pt x="78" y="50"/>
                  </a:lnTo>
                  <a:lnTo>
                    <a:pt x="89" y="38"/>
                  </a:lnTo>
                  <a:lnTo>
                    <a:pt x="99" y="25"/>
                  </a:lnTo>
                  <a:lnTo>
                    <a:pt x="105" y="14"/>
                  </a:lnTo>
                  <a:lnTo>
                    <a:pt x="106" y="8"/>
                  </a:lnTo>
                  <a:lnTo>
                    <a:pt x="105" y="14"/>
                  </a:lnTo>
                  <a:lnTo>
                    <a:pt x="105" y="5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6"/>
                  </a:lnTo>
                  <a:lnTo>
                    <a:pt x="8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H="1">
              <a:off x="4420080" y="3023280"/>
              <a:ext cx="17280" cy="99360"/>
            </a:xfrm>
            <a:custGeom>
              <a:avLst/>
              <a:gdLst/>
              <a:ahLst/>
              <a:rect l="l" t="t" r="r" b="b"/>
              <a:pathLst>
                <a:path w="38" h="238">
                  <a:moveTo>
                    <a:pt x="17" y="0"/>
                  </a:moveTo>
                  <a:lnTo>
                    <a:pt x="17" y="0"/>
                  </a:lnTo>
                  <a:lnTo>
                    <a:pt x="3" y="61"/>
                  </a:lnTo>
                  <a:lnTo>
                    <a:pt x="0" y="115"/>
                  </a:lnTo>
                  <a:lnTo>
                    <a:pt x="3" y="171"/>
                  </a:lnTo>
                  <a:lnTo>
                    <a:pt x="10" y="238"/>
                  </a:lnTo>
                  <a:lnTo>
                    <a:pt x="31" y="235"/>
                  </a:lnTo>
                  <a:lnTo>
                    <a:pt x="24" y="171"/>
                  </a:lnTo>
                  <a:lnTo>
                    <a:pt x="21" y="115"/>
                  </a:lnTo>
                  <a:lnTo>
                    <a:pt x="24" y="63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>
              <a:off x="4392000" y="2926080"/>
              <a:ext cx="36360" cy="9936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61" y="7"/>
                  </a:moveTo>
                  <a:lnTo>
                    <a:pt x="62" y="8"/>
                  </a:lnTo>
                  <a:lnTo>
                    <a:pt x="67" y="32"/>
                  </a:lnTo>
                  <a:lnTo>
                    <a:pt x="66" y="61"/>
                  </a:lnTo>
                  <a:lnTo>
                    <a:pt x="59" y="91"/>
                  </a:lnTo>
                  <a:lnTo>
                    <a:pt x="49" y="121"/>
                  </a:lnTo>
                  <a:lnTo>
                    <a:pt x="37" y="153"/>
                  </a:lnTo>
                  <a:lnTo>
                    <a:pt x="23" y="181"/>
                  </a:lnTo>
                  <a:lnTo>
                    <a:pt x="10" y="211"/>
                  </a:lnTo>
                  <a:lnTo>
                    <a:pt x="0" y="237"/>
                  </a:lnTo>
                  <a:lnTo>
                    <a:pt x="21" y="241"/>
                  </a:lnTo>
                  <a:lnTo>
                    <a:pt x="28" y="218"/>
                  </a:lnTo>
                  <a:lnTo>
                    <a:pt x="42" y="191"/>
                  </a:lnTo>
                  <a:lnTo>
                    <a:pt x="56" y="160"/>
                  </a:lnTo>
                  <a:lnTo>
                    <a:pt x="68" y="128"/>
                  </a:lnTo>
                  <a:lnTo>
                    <a:pt x="80" y="97"/>
                  </a:lnTo>
                  <a:lnTo>
                    <a:pt x="87" y="63"/>
                  </a:lnTo>
                  <a:lnTo>
                    <a:pt x="88" y="32"/>
                  </a:lnTo>
                  <a:lnTo>
                    <a:pt x="80" y="0"/>
                  </a:lnTo>
                  <a:lnTo>
                    <a:pt x="82" y="2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>
              <a:off x="4393800" y="2901240"/>
              <a:ext cx="70920" cy="26640"/>
            </a:xfrm>
            <a:custGeom>
              <a:avLst/>
              <a:gdLst/>
              <a:ahLst/>
              <a:rect l="l" t="t" r="r" b="b"/>
              <a:pathLst>
                <a:path w="167" h="66">
                  <a:moveTo>
                    <a:pt x="1" y="21"/>
                  </a:moveTo>
                  <a:lnTo>
                    <a:pt x="0" y="21"/>
                  </a:lnTo>
                  <a:lnTo>
                    <a:pt x="15" y="25"/>
                  </a:lnTo>
                  <a:lnTo>
                    <a:pt x="34" y="29"/>
                  </a:lnTo>
                  <a:lnTo>
                    <a:pt x="58" y="35"/>
                  </a:lnTo>
                  <a:lnTo>
                    <a:pt x="85" y="42"/>
                  </a:lnTo>
                  <a:lnTo>
                    <a:pt x="109" y="49"/>
                  </a:lnTo>
                  <a:lnTo>
                    <a:pt x="130" y="56"/>
                  </a:lnTo>
                  <a:lnTo>
                    <a:pt x="143" y="64"/>
                  </a:lnTo>
                  <a:lnTo>
                    <a:pt x="146" y="66"/>
                  </a:lnTo>
                  <a:lnTo>
                    <a:pt x="167" y="61"/>
                  </a:lnTo>
                  <a:lnTo>
                    <a:pt x="154" y="47"/>
                  </a:lnTo>
                  <a:lnTo>
                    <a:pt x="137" y="37"/>
                  </a:lnTo>
                  <a:lnTo>
                    <a:pt x="113" y="28"/>
                  </a:lnTo>
                  <a:lnTo>
                    <a:pt x="89" y="20"/>
                  </a:lnTo>
                  <a:lnTo>
                    <a:pt x="62" y="14"/>
                  </a:lnTo>
                  <a:lnTo>
                    <a:pt x="38" y="8"/>
                  </a:lnTo>
                  <a:lnTo>
                    <a:pt x="17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>
              <a:off x="4465080" y="2897280"/>
              <a:ext cx="55800" cy="12600"/>
            </a:xfrm>
            <a:custGeom>
              <a:avLst/>
              <a:gdLst/>
              <a:ahLst/>
              <a:rect l="l" t="t" r="r" b="b"/>
              <a:pathLst>
                <a:path w="132" h="30">
                  <a:moveTo>
                    <a:pt x="20" y="16"/>
                  </a:moveTo>
                  <a:lnTo>
                    <a:pt x="12" y="21"/>
                  </a:lnTo>
                  <a:lnTo>
                    <a:pt x="27" y="23"/>
                  </a:lnTo>
                  <a:lnTo>
                    <a:pt x="41" y="24"/>
                  </a:lnTo>
                  <a:lnTo>
                    <a:pt x="56" y="25"/>
                  </a:lnTo>
                  <a:lnTo>
                    <a:pt x="71" y="26"/>
                  </a:lnTo>
                  <a:lnTo>
                    <a:pt x="87" y="27"/>
                  </a:lnTo>
                  <a:lnTo>
                    <a:pt x="102" y="28"/>
                  </a:lnTo>
                  <a:lnTo>
                    <a:pt x="117" y="29"/>
                  </a:lnTo>
                  <a:lnTo>
                    <a:pt x="132" y="30"/>
                  </a:lnTo>
                  <a:lnTo>
                    <a:pt x="132" y="9"/>
                  </a:lnTo>
                  <a:lnTo>
                    <a:pt x="117" y="8"/>
                  </a:lnTo>
                  <a:lnTo>
                    <a:pt x="102" y="7"/>
                  </a:lnTo>
                  <a:lnTo>
                    <a:pt x="87" y="6"/>
                  </a:lnTo>
                  <a:lnTo>
                    <a:pt x="71" y="5"/>
                  </a:lnTo>
                  <a:lnTo>
                    <a:pt x="56" y="4"/>
                  </a:lnTo>
                  <a:lnTo>
                    <a:pt x="41" y="3"/>
                  </a:lnTo>
                  <a:lnTo>
                    <a:pt x="27" y="1"/>
                  </a:lnTo>
                  <a:lnTo>
                    <a:pt x="12" y="0"/>
                  </a:lnTo>
                  <a:lnTo>
                    <a:pt x="2" y="6"/>
                  </a:lnTo>
                  <a:lnTo>
                    <a:pt x="12" y="0"/>
                  </a:lnTo>
                  <a:lnTo>
                    <a:pt x="3" y="4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12" y="21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>
              <a:off x="4471200" y="2998440"/>
              <a:ext cx="55800" cy="59760"/>
            </a:xfrm>
            <a:custGeom>
              <a:avLst/>
              <a:gdLst/>
              <a:ahLst/>
              <a:rect l="l" t="t" r="r" b="b"/>
              <a:pathLst>
                <a:path w="126" h="143">
                  <a:moveTo>
                    <a:pt x="110" y="123"/>
                  </a:moveTo>
                  <a:lnTo>
                    <a:pt x="116" y="122"/>
                  </a:lnTo>
                  <a:lnTo>
                    <a:pt x="102" y="120"/>
                  </a:lnTo>
                  <a:lnTo>
                    <a:pt x="89" y="111"/>
                  </a:lnTo>
                  <a:lnTo>
                    <a:pt x="77" y="97"/>
                  </a:lnTo>
                  <a:lnTo>
                    <a:pt x="62" y="77"/>
                  </a:lnTo>
                  <a:lnTo>
                    <a:pt x="50" y="58"/>
                  </a:lnTo>
                  <a:lnTo>
                    <a:pt x="39" y="37"/>
                  </a:lnTo>
                  <a:lnTo>
                    <a:pt x="28" y="17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9" y="26"/>
                  </a:lnTo>
                  <a:lnTo>
                    <a:pt x="20" y="46"/>
                  </a:lnTo>
                  <a:lnTo>
                    <a:pt x="31" y="67"/>
                  </a:lnTo>
                  <a:lnTo>
                    <a:pt x="46" y="90"/>
                  </a:lnTo>
                  <a:lnTo>
                    <a:pt x="60" y="110"/>
                  </a:lnTo>
                  <a:lnTo>
                    <a:pt x="76" y="127"/>
                  </a:lnTo>
                  <a:lnTo>
                    <a:pt x="96" y="138"/>
                  </a:lnTo>
                  <a:lnTo>
                    <a:pt x="116" y="143"/>
                  </a:lnTo>
                  <a:lnTo>
                    <a:pt x="120" y="142"/>
                  </a:lnTo>
                  <a:lnTo>
                    <a:pt x="116" y="143"/>
                  </a:lnTo>
                  <a:lnTo>
                    <a:pt x="123" y="140"/>
                  </a:lnTo>
                  <a:lnTo>
                    <a:pt x="126" y="133"/>
                  </a:lnTo>
                  <a:lnTo>
                    <a:pt x="123" y="125"/>
                  </a:lnTo>
                  <a:lnTo>
                    <a:pt x="116" y="122"/>
                  </a:lnTo>
                  <a:lnTo>
                    <a:pt x="11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>
              <a:off x="4460760" y="3038040"/>
              <a:ext cx="19440" cy="2052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4"/>
                  </a:moveTo>
                  <a:lnTo>
                    <a:pt x="22" y="4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19" y="20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7" y="27"/>
                  </a:lnTo>
                  <a:lnTo>
                    <a:pt x="0" y="29"/>
                  </a:lnTo>
                  <a:lnTo>
                    <a:pt x="10" y="48"/>
                  </a:lnTo>
                  <a:lnTo>
                    <a:pt x="13" y="46"/>
                  </a:lnTo>
                  <a:lnTo>
                    <a:pt x="19" y="43"/>
                  </a:lnTo>
                  <a:lnTo>
                    <a:pt x="27" y="41"/>
                  </a:lnTo>
                  <a:lnTo>
                    <a:pt x="33" y="37"/>
                  </a:lnTo>
                  <a:lnTo>
                    <a:pt x="38" y="30"/>
                  </a:lnTo>
                  <a:lnTo>
                    <a:pt x="44" y="21"/>
                  </a:lnTo>
                  <a:lnTo>
                    <a:pt x="44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>
              <a:off x="4460400" y="2934720"/>
              <a:ext cx="32040" cy="104760"/>
            </a:xfrm>
            <a:custGeom>
              <a:avLst/>
              <a:gdLst/>
              <a:ahLst/>
              <a:rect l="l" t="t" r="r" b="b"/>
              <a:pathLst>
                <a:path w="74" h="254">
                  <a:moveTo>
                    <a:pt x="0" y="14"/>
                  </a:moveTo>
                  <a:lnTo>
                    <a:pt x="26" y="46"/>
                  </a:lnTo>
                  <a:lnTo>
                    <a:pt x="39" y="69"/>
                  </a:lnTo>
                  <a:lnTo>
                    <a:pt x="42" y="88"/>
                  </a:lnTo>
                  <a:lnTo>
                    <a:pt x="42" y="110"/>
                  </a:lnTo>
                  <a:lnTo>
                    <a:pt x="40" y="136"/>
                  </a:lnTo>
                  <a:lnTo>
                    <a:pt x="39" y="165"/>
                  </a:lnTo>
                  <a:lnTo>
                    <a:pt x="41" y="203"/>
                  </a:lnTo>
                  <a:lnTo>
                    <a:pt x="53" y="254"/>
                  </a:lnTo>
                  <a:lnTo>
                    <a:pt x="74" y="250"/>
                  </a:lnTo>
                  <a:lnTo>
                    <a:pt x="62" y="201"/>
                  </a:lnTo>
                  <a:lnTo>
                    <a:pt x="60" y="165"/>
                  </a:lnTo>
                  <a:lnTo>
                    <a:pt x="61" y="136"/>
                  </a:lnTo>
                  <a:lnTo>
                    <a:pt x="63" y="110"/>
                  </a:lnTo>
                  <a:lnTo>
                    <a:pt x="63" y="88"/>
                  </a:lnTo>
                  <a:lnTo>
                    <a:pt x="58" y="62"/>
                  </a:lnTo>
                  <a:lnTo>
                    <a:pt x="42" y="34"/>
                  </a:lnTo>
                  <a:lnTo>
                    <a:pt x="1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 flipH="1">
              <a:off x="4009680" y="2195640"/>
              <a:ext cx="281160" cy="492480"/>
            </a:xfrm>
            <a:custGeom>
              <a:avLst/>
              <a:gdLst/>
              <a:ahLst/>
              <a:rect l="l" t="t" r="r" b="b"/>
              <a:pathLst>
                <a:path w="652" h="1188">
                  <a:moveTo>
                    <a:pt x="106" y="43"/>
                  </a:moveTo>
                  <a:lnTo>
                    <a:pt x="127" y="33"/>
                  </a:lnTo>
                  <a:lnTo>
                    <a:pt x="151" y="23"/>
                  </a:lnTo>
                  <a:lnTo>
                    <a:pt x="175" y="16"/>
                  </a:lnTo>
                  <a:lnTo>
                    <a:pt x="201" y="9"/>
                  </a:lnTo>
                  <a:lnTo>
                    <a:pt x="229" y="3"/>
                  </a:lnTo>
                  <a:lnTo>
                    <a:pt x="256" y="1"/>
                  </a:lnTo>
                  <a:lnTo>
                    <a:pt x="285" y="0"/>
                  </a:lnTo>
                  <a:lnTo>
                    <a:pt x="313" y="2"/>
                  </a:lnTo>
                  <a:lnTo>
                    <a:pt x="342" y="6"/>
                  </a:lnTo>
                  <a:lnTo>
                    <a:pt x="367" y="13"/>
                  </a:lnTo>
                  <a:lnTo>
                    <a:pt x="394" y="22"/>
                  </a:lnTo>
                  <a:lnTo>
                    <a:pt x="418" y="34"/>
                  </a:lnTo>
                  <a:lnTo>
                    <a:pt x="440" y="51"/>
                  </a:lnTo>
                  <a:lnTo>
                    <a:pt x="460" y="70"/>
                  </a:lnTo>
                  <a:lnTo>
                    <a:pt x="478" y="92"/>
                  </a:lnTo>
                  <a:lnTo>
                    <a:pt x="493" y="118"/>
                  </a:lnTo>
                  <a:lnTo>
                    <a:pt x="514" y="183"/>
                  </a:lnTo>
                  <a:lnTo>
                    <a:pt x="529" y="251"/>
                  </a:lnTo>
                  <a:lnTo>
                    <a:pt x="539" y="323"/>
                  </a:lnTo>
                  <a:lnTo>
                    <a:pt x="546" y="396"/>
                  </a:lnTo>
                  <a:lnTo>
                    <a:pt x="551" y="470"/>
                  </a:lnTo>
                  <a:lnTo>
                    <a:pt x="557" y="542"/>
                  </a:lnTo>
                  <a:lnTo>
                    <a:pt x="565" y="613"/>
                  </a:lnTo>
                  <a:lnTo>
                    <a:pt x="576" y="680"/>
                  </a:lnTo>
                  <a:lnTo>
                    <a:pt x="586" y="722"/>
                  </a:lnTo>
                  <a:lnTo>
                    <a:pt x="598" y="773"/>
                  </a:lnTo>
                  <a:lnTo>
                    <a:pt x="615" y="829"/>
                  </a:lnTo>
                  <a:lnTo>
                    <a:pt x="630" y="888"/>
                  </a:lnTo>
                  <a:lnTo>
                    <a:pt x="643" y="947"/>
                  </a:lnTo>
                  <a:lnTo>
                    <a:pt x="651" y="1004"/>
                  </a:lnTo>
                  <a:lnTo>
                    <a:pt x="652" y="1055"/>
                  </a:lnTo>
                  <a:lnTo>
                    <a:pt x="644" y="1097"/>
                  </a:lnTo>
                  <a:lnTo>
                    <a:pt x="640" y="1108"/>
                  </a:lnTo>
                  <a:lnTo>
                    <a:pt x="632" y="1118"/>
                  </a:lnTo>
                  <a:lnTo>
                    <a:pt x="622" y="1128"/>
                  </a:lnTo>
                  <a:lnTo>
                    <a:pt x="611" y="1136"/>
                  </a:lnTo>
                  <a:lnTo>
                    <a:pt x="598" y="1144"/>
                  </a:lnTo>
                  <a:lnTo>
                    <a:pt x="586" y="1149"/>
                  </a:lnTo>
                  <a:lnTo>
                    <a:pt x="572" y="1154"/>
                  </a:lnTo>
                  <a:lnTo>
                    <a:pt x="560" y="1157"/>
                  </a:lnTo>
                  <a:lnTo>
                    <a:pt x="536" y="1165"/>
                  </a:lnTo>
                  <a:lnTo>
                    <a:pt x="509" y="1170"/>
                  </a:lnTo>
                  <a:lnTo>
                    <a:pt x="478" y="1175"/>
                  </a:lnTo>
                  <a:lnTo>
                    <a:pt x="446" y="1180"/>
                  </a:lnTo>
                  <a:lnTo>
                    <a:pt x="413" y="1184"/>
                  </a:lnTo>
                  <a:lnTo>
                    <a:pt x="377" y="1186"/>
                  </a:lnTo>
                  <a:lnTo>
                    <a:pt x="341" y="1187"/>
                  </a:lnTo>
                  <a:lnTo>
                    <a:pt x="304" y="1188"/>
                  </a:lnTo>
                  <a:lnTo>
                    <a:pt x="268" y="1187"/>
                  </a:lnTo>
                  <a:lnTo>
                    <a:pt x="231" y="1186"/>
                  </a:lnTo>
                  <a:lnTo>
                    <a:pt x="197" y="1184"/>
                  </a:lnTo>
                  <a:lnTo>
                    <a:pt x="162" y="1179"/>
                  </a:lnTo>
                  <a:lnTo>
                    <a:pt x="132" y="1174"/>
                  </a:lnTo>
                  <a:lnTo>
                    <a:pt x="102" y="1167"/>
                  </a:lnTo>
                  <a:lnTo>
                    <a:pt x="77" y="1160"/>
                  </a:lnTo>
                  <a:lnTo>
                    <a:pt x="54" y="1150"/>
                  </a:lnTo>
                  <a:lnTo>
                    <a:pt x="27" y="1129"/>
                  </a:lnTo>
                  <a:lnTo>
                    <a:pt x="10" y="1096"/>
                  </a:lnTo>
                  <a:lnTo>
                    <a:pt x="3" y="1055"/>
                  </a:lnTo>
                  <a:lnTo>
                    <a:pt x="0" y="1009"/>
                  </a:lnTo>
                  <a:lnTo>
                    <a:pt x="3" y="962"/>
                  </a:lnTo>
                  <a:lnTo>
                    <a:pt x="7" y="917"/>
                  </a:lnTo>
                  <a:lnTo>
                    <a:pt x="16" y="878"/>
                  </a:lnTo>
                  <a:lnTo>
                    <a:pt x="24" y="847"/>
                  </a:lnTo>
                  <a:lnTo>
                    <a:pt x="45" y="764"/>
                  </a:lnTo>
                  <a:lnTo>
                    <a:pt x="59" y="671"/>
                  </a:lnTo>
                  <a:lnTo>
                    <a:pt x="69" y="569"/>
                  </a:lnTo>
                  <a:lnTo>
                    <a:pt x="76" y="463"/>
                  </a:lnTo>
                  <a:lnTo>
                    <a:pt x="81" y="354"/>
                  </a:lnTo>
                  <a:lnTo>
                    <a:pt x="87" y="245"/>
                  </a:lnTo>
                  <a:lnTo>
                    <a:pt x="95" y="142"/>
                  </a:lnTo>
                  <a:lnTo>
                    <a:pt x="106" y="43"/>
                  </a:lnTo>
                  <a:close/>
                </a:path>
              </a:pathLst>
            </a:custGeom>
            <a:solidFill>
              <a:srgbClr val="ffff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H="1">
              <a:off x="4084920" y="2253960"/>
              <a:ext cx="60120" cy="163080"/>
            </a:xfrm>
            <a:custGeom>
              <a:avLst/>
              <a:gdLst/>
              <a:ahLst/>
              <a:rect l="l" t="t" r="r" b="b"/>
              <a:pathLst>
                <a:path w="144" h="397">
                  <a:moveTo>
                    <a:pt x="0" y="120"/>
                  </a:moveTo>
                  <a:lnTo>
                    <a:pt x="20" y="133"/>
                  </a:lnTo>
                  <a:lnTo>
                    <a:pt x="35" y="165"/>
                  </a:lnTo>
                  <a:lnTo>
                    <a:pt x="48" y="208"/>
                  </a:lnTo>
                  <a:lnTo>
                    <a:pt x="59" y="258"/>
                  </a:lnTo>
                  <a:lnTo>
                    <a:pt x="68" y="310"/>
                  </a:lnTo>
                  <a:lnTo>
                    <a:pt x="80" y="353"/>
                  </a:lnTo>
                  <a:lnTo>
                    <a:pt x="94" y="384"/>
                  </a:lnTo>
                  <a:lnTo>
                    <a:pt x="113" y="397"/>
                  </a:lnTo>
                  <a:lnTo>
                    <a:pt x="130" y="352"/>
                  </a:lnTo>
                  <a:lnTo>
                    <a:pt x="140" y="302"/>
                  </a:lnTo>
                  <a:lnTo>
                    <a:pt x="143" y="252"/>
                  </a:lnTo>
                  <a:lnTo>
                    <a:pt x="144" y="200"/>
                  </a:lnTo>
                  <a:lnTo>
                    <a:pt x="141" y="147"/>
                  </a:lnTo>
                  <a:lnTo>
                    <a:pt x="138" y="97"/>
                  </a:lnTo>
                  <a:lnTo>
                    <a:pt x="134" y="47"/>
                  </a:lnTo>
                  <a:lnTo>
                    <a:pt x="133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H="1">
              <a:off x="4093920" y="2299320"/>
              <a:ext cx="53280" cy="123840"/>
            </a:xfrm>
            <a:custGeom>
              <a:avLst/>
              <a:gdLst/>
              <a:ahLst/>
              <a:rect l="l" t="t" r="r" b="b"/>
              <a:pathLst>
                <a:path w="125" h="299">
                  <a:moveTo>
                    <a:pt x="105" y="284"/>
                  </a:moveTo>
                  <a:lnTo>
                    <a:pt x="116" y="278"/>
                  </a:lnTo>
                  <a:lnTo>
                    <a:pt x="104" y="268"/>
                  </a:lnTo>
                  <a:lnTo>
                    <a:pt x="91" y="240"/>
                  </a:lnTo>
                  <a:lnTo>
                    <a:pt x="81" y="198"/>
                  </a:lnTo>
                  <a:lnTo>
                    <a:pt x="71" y="148"/>
                  </a:lnTo>
                  <a:lnTo>
                    <a:pt x="61" y="97"/>
                  </a:lnTo>
                  <a:lnTo>
                    <a:pt x="47" y="53"/>
                  </a:lnTo>
                  <a:lnTo>
                    <a:pt x="30" y="18"/>
                  </a:lnTo>
                  <a:lnTo>
                    <a:pt x="3" y="0"/>
                  </a:lnTo>
                  <a:lnTo>
                    <a:pt x="0" y="21"/>
                  </a:lnTo>
                  <a:lnTo>
                    <a:pt x="13" y="31"/>
                  </a:lnTo>
                  <a:lnTo>
                    <a:pt x="28" y="60"/>
                  </a:lnTo>
                  <a:lnTo>
                    <a:pt x="40" y="103"/>
                  </a:lnTo>
                  <a:lnTo>
                    <a:pt x="50" y="151"/>
                  </a:lnTo>
                  <a:lnTo>
                    <a:pt x="60" y="203"/>
                  </a:lnTo>
                  <a:lnTo>
                    <a:pt x="72" y="247"/>
                  </a:lnTo>
                  <a:lnTo>
                    <a:pt x="88" y="280"/>
                  </a:lnTo>
                  <a:lnTo>
                    <a:pt x="113" y="299"/>
                  </a:lnTo>
                  <a:lnTo>
                    <a:pt x="124" y="294"/>
                  </a:lnTo>
                  <a:lnTo>
                    <a:pt x="113" y="299"/>
                  </a:lnTo>
                  <a:lnTo>
                    <a:pt x="122" y="297"/>
                  </a:lnTo>
                  <a:lnTo>
                    <a:pt x="125" y="290"/>
                  </a:lnTo>
                  <a:lnTo>
                    <a:pt x="123" y="282"/>
                  </a:lnTo>
                  <a:lnTo>
                    <a:pt x="116" y="278"/>
                  </a:lnTo>
                  <a:lnTo>
                    <a:pt x="105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 flipH="1">
              <a:off x="4078800" y="2249640"/>
              <a:ext cx="23760" cy="171360"/>
            </a:xfrm>
            <a:custGeom>
              <a:avLst/>
              <a:gdLst/>
              <a:ahLst/>
              <a:rect l="l" t="t" r="r" b="b"/>
              <a:pathLst>
                <a:path w="52" h="413">
                  <a:moveTo>
                    <a:pt x="37" y="19"/>
                  </a:moveTo>
                  <a:lnTo>
                    <a:pt x="19" y="10"/>
                  </a:lnTo>
                  <a:lnTo>
                    <a:pt x="20" y="57"/>
                  </a:lnTo>
                  <a:lnTo>
                    <a:pt x="24" y="107"/>
                  </a:lnTo>
                  <a:lnTo>
                    <a:pt x="27" y="157"/>
                  </a:lnTo>
                  <a:lnTo>
                    <a:pt x="31" y="210"/>
                  </a:lnTo>
                  <a:lnTo>
                    <a:pt x="30" y="262"/>
                  </a:lnTo>
                  <a:lnTo>
                    <a:pt x="26" y="311"/>
                  </a:lnTo>
                  <a:lnTo>
                    <a:pt x="17" y="359"/>
                  </a:lnTo>
                  <a:lnTo>
                    <a:pt x="0" y="403"/>
                  </a:lnTo>
                  <a:lnTo>
                    <a:pt x="19" y="413"/>
                  </a:lnTo>
                  <a:lnTo>
                    <a:pt x="38" y="364"/>
                  </a:lnTo>
                  <a:lnTo>
                    <a:pt x="48" y="313"/>
                  </a:lnTo>
                  <a:lnTo>
                    <a:pt x="51" y="262"/>
                  </a:lnTo>
                  <a:lnTo>
                    <a:pt x="52" y="210"/>
                  </a:lnTo>
                  <a:lnTo>
                    <a:pt x="49" y="157"/>
                  </a:lnTo>
                  <a:lnTo>
                    <a:pt x="45" y="107"/>
                  </a:lnTo>
                  <a:lnTo>
                    <a:pt x="41" y="57"/>
                  </a:lnTo>
                  <a:lnTo>
                    <a:pt x="40" y="10"/>
                  </a:lnTo>
                  <a:lnTo>
                    <a:pt x="23" y="2"/>
                  </a:lnTo>
                  <a:lnTo>
                    <a:pt x="40" y="10"/>
                  </a:lnTo>
                  <a:lnTo>
                    <a:pt x="37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9" y="10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H="1">
              <a:off x="4084560" y="2249640"/>
              <a:ext cx="66600" cy="57600"/>
            </a:xfrm>
            <a:custGeom>
              <a:avLst/>
              <a:gdLst/>
              <a:ahLst/>
              <a:rect l="l" t="t" r="r" b="b"/>
              <a:pathLst>
                <a:path w="151" h="138">
                  <a:moveTo>
                    <a:pt x="12" y="117"/>
                  </a:moveTo>
                  <a:lnTo>
                    <a:pt x="18" y="135"/>
                  </a:lnTo>
                  <a:lnTo>
                    <a:pt x="151" y="17"/>
                  </a:lnTo>
                  <a:lnTo>
                    <a:pt x="137" y="0"/>
                  </a:lnTo>
                  <a:lnTo>
                    <a:pt x="3" y="119"/>
                  </a:lnTo>
                  <a:lnTo>
                    <a:pt x="9" y="138"/>
                  </a:lnTo>
                  <a:lnTo>
                    <a:pt x="3" y="119"/>
                  </a:lnTo>
                  <a:lnTo>
                    <a:pt x="0" y="128"/>
                  </a:lnTo>
                  <a:lnTo>
                    <a:pt x="2" y="134"/>
                  </a:lnTo>
                  <a:lnTo>
                    <a:pt x="9" y="138"/>
                  </a:lnTo>
                  <a:lnTo>
                    <a:pt x="18" y="135"/>
                  </a:lnTo>
                  <a:lnTo>
                    <a:pt x="1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 flipH="1">
              <a:off x="4149720" y="2204280"/>
              <a:ext cx="90000" cy="212760"/>
            </a:xfrm>
            <a:custGeom>
              <a:avLst/>
              <a:gdLst/>
              <a:ahLst/>
              <a:rect l="l" t="t" r="r" b="b"/>
              <a:pathLst>
                <a:path w="212" h="512">
                  <a:moveTo>
                    <a:pt x="212" y="238"/>
                  </a:moveTo>
                  <a:lnTo>
                    <a:pt x="187" y="262"/>
                  </a:lnTo>
                  <a:lnTo>
                    <a:pt x="168" y="302"/>
                  </a:lnTo>
                  <a:lnTo>
                    <a:pt x="155" y="351"/>
                  </a:lnTo>
                  <a:lnTo>
                    <a:pt x="145" y="400"/>
                  </a:lnTo>
                  <a:lnTo>
                    <a:pt x="133" y="448"/>
                  </a:lnTo>
                  <a:lnTo>
                    <a:pt x="117" y="486"/>
                  </a:lnTo>
                  <a:lnTo>
                    <a:pt x="97" y="510"/>
                  </a:lnTo>
                  <a:lnTo>
                    <a:pt x="70" y="512"/>
                  </a:lnTo>
                  <a:lnTo>
                    <a:pt x="50" y="459"/>
                  </a:lnTo>
                  <a:lnTo>
                    <a:pt x="33" y="398"/>
                  </a:lnTo>
                  <a:lnTo>
                    <a:pt x="20" y="332"/>
                  </a:lnTo>
                  <a:lnTo>
                    <a:pt x="12" y="262"/>
                  </a:lnTo>
                  <a:lnTo>
                    <a:pt x="5" y="191"/>
                  </a:lnTo>
                  <a:lnTo>
                    <a:pt x="2" y="12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3" y="36"/>
                  </a:lnTo>
                  <a:lnTo>
                    <a:pt x="35" y="52"/>
                  </a:lnTo>
                  <a:lnTo>
                    <a:pt x="46" y="69"/>
                  </a:lnTo>
                  <a:lnTo>
                    <a:pt x="59" y="84"/>
                  </a:lnTo>
                  <a:lnTo>
                    <a:pt x="71" y="99"/>
                  </a:lnTo>
                  <a:lnTo>
                    <a:pt x="82" y="114"/>
                  </a:lnTo>
                  <a:lnTo>
                    <a:pt x="94" y="129"/>
                  </a:lnTo>
                  <a:lnTo>
                    <a:pt x="106" y="143"/>
                  </a:lnTo>
                  <a:lnTo>
                    <a:pt x="118" y="157"/>
                  </a:lnTo>
                  <a:lnTo>
                    <a:pt x="133" y="171"/>
                  </a:lnTo>
                  <a:lnTo>
                    <a:pt x="147" y="184"/>
                  </a:lnTo>
                  <a:lnTo>
                    <a:pt x="162" y="198"/>
                  </a:lnTo>
                  <a:lnTo>
                    <a:pt x="177" y="211"/>
                  </a:lnTo>
                  <a:lnTo>
                    <a:pt x="194" y="224"/>
                  </a:lnTo>
                  <a:lnTo>
                    <a:pt x="21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H="1">
              <a:off x="4146840" y="2299320"/>
              <a:ext cx="66600" cy="121680"/>
            </a:xfrm>
            <a:custGeom>
              <a:avLst/>
              <a:gdLst/>
              <a:ahLst/>
              <a:rect l="l" t="t" r="r" b="b"/>
              <a:pathLst>
                <a:path w="157" h="295">
                  <a:moveTo>
                    <a:pt x="1" y="289"/>
                  </a:moveTo>
                  <a:lnTo>
                    <a:pt x="8" y="295"/>
                  </a:lnTo>
                  <a:lnTo>
                    <a:pt x="43" y="292"/>
                  </a:lnTo>
                  <a:lnTo>
                    <a:pt x="68" y="263"/>
                  </a:lnTo>
                  <a:lnTo>
                    <a:pt x="85" y="222"/>
                  </a:lnTo>
                  <a:lnTo>
                    <a:pt x="96" y="174"/>
                  </a:lnTo>
                  <a:lnTo>
                    <a:pt x="107" y="125"/>
                  </a:lnTo>
                  <a:lnTo>
                    <a:pt x="118" y="77"/>
                  </a:lnTo>
                  <a:lnTo>
                    <a:pt x="136" y="40"/>
                  </a:lnTo>
                  <a:lnTo>
                    <a:pt x="157" y="19"/>
                  </a:lnTo>
                  <a:lnTo>
                    <a:pt x="148" y="0"/>
                  </a:lnTo>
                  <a:lnTo>
                    <a:pt x="119" y="29"/>
                  </a:lnTo>
                  <a:lnTo>
                    <a:pt x="99" y="71"/>
                  </a:lnTo>
                  <a:lnTo>
                    <a:pt x="86" y="121"/>
                  </a:lnTo>
                  <a:lnTo>
                    <a:pt x="75" y="170"/>
                  </a:lnTo>
                  <a:lnTo>
                    <a:pt x="63" y="217"/>
                  </a:lnTo>
                  <a:lnTo>
                    <a:pt x="49" y="254"/>
                  </a:lnTo>
                  <a:lnTo>
                    <a:pt x="34" y="273"/>
                  </a:lnTo>
                  <a:lnTo>
                    <a:pt x="13" y="274"/>
                  </a:lnTo>
                  <a:lnTo>
                    <a:pt x="20" y="279"/>
                  </a:lnTo>
                  <a:lnTo>
                    <a:pt x="13" y="274"/>
                  </a:lnTo>
                  <a:lnTo>
                    <a:pt x="4" y="276"/>
                  </a:lnTo>
                  <a:lnTo>
                    <a:pt x="0" y="282"/>
                  </a:lnTo>
                  <a:lnTo>
                    <a:pt x="1" y="291"/>
                  </a:lnTo>
                  <a:lnTo>
                    <a:pt x="8" y="295"/>
                  </a:lnTo>
                  <a:lnTo>
                    <a:pt x="1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>
              <a:off x="4205160" y="2199960"/>
              <a:ext cx="38880" cy="219240"/>
            </a:xfrm>
            <a:custGeom>
              <a:avLst/>
              <a:gdLst/>
              <a:ahLst/>
              <a:rect l="l" t="t" r="r" b="b"/>
              <a:pathLst>
                <a:path w="90" h="527">
                  <a:moveTo>
                    <a:pt x="19" y="5"/>
                  </a:moveTo>
                  <a:lnTo>
                    <a:pt x="0" y="10"/>
                  </a:lnTo>
                  <a:lnTo>
                    <a:pt x="0" y="68"/>
                  </a:lnTo>
                  <a:lnTo>
                    <a:pt x="3" y="133"/>
                  </a:lnTo>
                  <a:lnTo>
                    <a:pt x="6" y="201"/>
                  </a:lnTo>
                  <a:lnTo>
                    <a:pt x="12" y="272"/>
                  </a:lnTo>
                  <a:lnTo>
                    <a:pt x="20" y="343"/>
                  </a:lnTo>
                  <a:lnTo>
                    <a:pt x="33" y="410"/>
                  </a:lnTo>
                  <a:lnTo>
                    <a:pt x="50" y="472"/>
                  </a:lnTo>
                  <a:lnTo>
                    <a:pt x="71" y="527"/>
                  </a:lnTo>
                  <a:lnTo>
                    <a:pt x="90" y="517"/>
                  </a:lnTo>
                  <a:lnTo>
                    <a:pt x="71" y="466"/>
                  </a:lnTo>
                  <a:lnTo>
                    <a:pt x="54" y="405"/>
                  </a:lnTo>
                  <a:lnTo>
                    <a:pt x="42" y="341"/>
                  </a:lnTo>
                  <a:lnTo>
                    <a:pt x="33" y="272"/>
                  </a:lnTo>
                  <a:lnTo>
                    <a:pt x="27" y="201"/>
                  </a:lnTo>
                  <a:lnTo>
                    <a:pt x="24" y="133"/>
                  </a:lnTo>
                  <a:lnTo>
                    <a:pt x="22" y="68"/>
                  </a:lnTo>
                  <a:lnTo>
                    <a:pt x="22" y="10"/>
                  </a:lnTo>
                  <a:lnTo>
                    <a:pt x="3" y="16"/>
                  </a:lnTo>
                  <a:lnTo>
                    <a:pt x="22" y="10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H="1">
              <a:off x="4142520" y="2201760"/>
              <a:ext cx="101160" cy="105480"/>
            </a:xfrm>
            <a:custGeom>
              <a:avLst/>
              <a:gdLst/>
              <a:ahLst/>
              <a:rect l="l" t="t" r="r" b="b"/>
              <a:pathLst>
                <a:path w="231" h="252">
                  <a:moveTo>
                    <a:pt x="224" y="252"/>
                  </a:moveTo>
                  <a:lnTo>
                    <a:pt x="226" y="234"/>
                  </a:lnTo>
                  <a:lnTo>
                    <a:pt x="209" y="222"/>
                  </a:lnTo>
                  <a:lnTo>
                    <a:pt x="193" y="208"/>
                  </a:lnTo>
                  <a:lnTo>
                    <a:pt x="176" y="194"/>
                  </a:lnTo>
                  <a:lnTo>
                    <a:pt x="162" y="180"/>
                  </a:lnTo>
                  <a:lnTo>
                    <a:pt x="148" y="169"/>
                  </a:lnTo>
                  <a:lnTo>
                    <a:pt x="134" y="155"/>
                  </a:lnTo>
                  <a:lnTo>
                    <a:pt x="122" y="141"/>
                  </a:lnTo>
                  <a:lnTo>
                    <a:pt x="110" y="127"/>
                  </a:lnTo>
                  <a:lnTo>
                    <a:pt x="99" y="114"/>
                  </a:lnTo>
                  <a:lnTo>
                    <a:pt x="87" y="98"/>
                  </a:lnTo>
                  <a:lnTo>
                    <a:pt x="75" y="83"/>
                  </a:lnTo>
                  <a:lnTo>
                    <a:pt x="63" y="67"/>
                  </a:lnTo>
                  <a:lnTo>
                    <a:pt x="51" y="52"/>
                  </a:lnTo>
                  <a:lnTo>
                    <a:pt x="40" y="35"/>
                  </a:lnTo>
                  <a:lnTo>
                    <a:pt x="28" y="17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1" y="28"/>
                  </a:lnTo>
                  <a:lnTo>
                    <a:pt x="23" y="46"/>
                  </a:lnTo>
                  <a:lnTo>
                    <a:pt x="34" y="63"/>
                  </a:lnTo>
                  <a:lnTo>
                    <a:pt x="47" y="79"/>
                  </a:lnTo>
                  <a:lnTo>
                    <a:pt x="59" y="95"/>
                  </a:lnTo>
                  <a:lnTo>
                    <a:pt x="70" y="111"/>
                  </a:lnTo>
                  <a:lnTo>
                    <a:pt x="82" y="126"/>
                  </a:lnTo>
                  <a:lnTo>
                    <a:pt x="94" y="141"/>
                  </a:lnTo>
                  <a:lnTo>
                    <a:pt x="105" y="155"/>
                  </a:lnTo>
                  <a:lnTo>
                    <a:pt x="120" y="169"/>
                  </a:lnTo>
                  <a:lnTo>
                    <a:pt x="134" y="184"/>
                  </a:lnTo>
                  <a:lnTo>
                    <a:pt x="148" y="197"/>
                  </a:lnTo>
                  <a:lnTo>
                    <a:pt x="162" y="210"/>
                  </a:lnTo>
                  <a:lnTo>
                    <a:pt x="179" y="225"/>
                  </a:lnTo>
                  <a:lnTo>
                    <a:pt x="196" y="237"/>
                  </a:lnTo>
                  <a:lnTo>
                    <a:pt x="214" y="250"/>
                  </a:lnTo>
                  <a:lnTo>
                    <a:pt x="215" y="233"/>
                  </a:lnTo>
                  <a:lnTo>
                    <a:pt x="214" y="250"/>
                  </a:lnTo>
                  <a:lnTo>
                    <a:pt x="222" y="252"/>
                  </a:lnTo>
                  <a:lnTo>
                    <a:pt x="228" y="247"/>
                  </a:lnTo>
                  <a:lnTo>
                    <a:pt x="231" y="242"/>
                  </a:lnTo>
                  <a:lnTo>
                    <a:pt x="226" y="234"/>
                  </a:lnTo>
                  <a:lnTo>
                    <a:pt x="224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>
              <a:off x="4012560" y="3230280"/>
              <a:ext cx="154080" cy="308160"/>
            </a:xfrm>
            <a:custGeom>
              <a:avLst/>
              <a:gdLst/>
              <a:ahLst/>
              <a:rect l="l" t="t" r="r" b="b"/>
              <a:pathLst>
                <a:path w="360" h="747">
                  <a:moveTo>
                    <a:pt x="94" y="721"/>
                  </a:moveTo>
                  <a:lnTo>
                    <a:pt x="105" y="727"/>
                  </a:lnTo>
                  <a:lnTo>
                    <a:pt x="115" y="732"/>
                  </a:lnTo>
                  <a:lnTo>
                    <a:pt x="128" y="736"/>
                  </a:lnTo>
                  <a:lnTo>
                    <a:pt x="140" y="742"/>
                  </a:lnTo>
                  <a:lnTo>
                    <a:pt x="153" y="744"/>
                  </a:lnTo>
                  <a:lnTo>
                    <a:pt x="166" y="746"/>
                  </a:lnTo>
                  <a:lnTo>
                    <a:pt x="180" y="747"/>
                  </a:lnTo>
                  <a:lnTo>
                    <a:pt x="193" y="747"/>
                  </a:lnTo>
                  <a:lnTo>
                    <a:pt x="207" y="747"/>
                  </a:lnTo>
                  <a:lnTo>
                    <a:pt x="220" y="746"/>
                  </a:lnTo>
                  <a:lnTo>
                    <a:pt x="231" y="744"/>
                  </a:lnTo>
                  <a:lnTo>
                    <a:pt x="244" y="741"/>
                  </a:lnTo>
                  <a:lnTo>
                    <a:pt x="256" y="736"/>
                  </a:lnTo>
                  <a:lnTo>
                    <a:pt x="266" y="732"/>
                  </a:lnTo>
                  <a:lnTo>
                    <a:pt x="276" y="726"/>
                  </a:lnTo>
                  <a:lnTo>
                    <a:pt x="284" y="721"/>
                  </a:lnTo>
                  <a:lnTo>
                    <a:pt x="360" y="0"/>
                  </a:lnTo>
                  <a:lnTo>
                    <a:pt x="0" y="52"/>
                  </a:lnTo>
                  <a:lnTo>
                    <a:pt x="94" y="721"/>
                  </a:lnTo>
                  <a:close/>
                </a:path>
              </a:pathLst>
            </a:custGeom>
            <a:solidFill>
              <a:srgbClr val="ffb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>
              <a:off x="4040280" y="3524040"/>
              <a:ext cx="87840" cy="20520"/>
            </a:xfrm>
            <a:custGeom>
              <a:avLst/>
              <a:gdLst/>
              <a:ahLst/>
              <a:rect l="l" t="t" r="r" b="b"/>
              <a:pathLst>
                <a:path w="207" h="49">
                  <a:moveTo>
                    <a:pt x="186" y="11"/>
                  </a:moveTo>
                  <a:lnTo>
                    <a:pt x="189" y="2"/>
                  </a:lnTo>
                  <a:lnTo>
                    <a:pt x="181" y="6"/>
                  </a:lnTo>
                  <a:lnTo>
                    <a:pt x="173" y="13"/>
                  </a:lnTo>
                  <a:lnTo>
                    <a:pt x="163" y="17"/>
                  </a:lnTo>
                  <a:lnTo>
                    <a:pt x="153" y="20"/>
                  </a:lnTo>
                  <a:lnTo>
                    <a:pt x="141" y="23"/>
                  </a:lnTo>
                  <a:lnTo>
                    <a:pt x="131" y="25"/>
                  </a:lnTo>
                  <a:lnTo>
                    <a:pt x="119" y="26"/>
                  </a:lnTo>
                  <a:lnTo>
                    <a:pt x="105" y="26"/>
                  </a:lnTo>
                  <a:lnTo>
                    <a:pt x="92" y="26"/>
                  </a:lnTo>
                  <a:lnTo>
                    <a:pt x="79" y="25"/>
                  </a:lnTo>
                  <a:lnTo>
                    <a:pt x="66" y="23"/>
                  </a:lnTo>
                  <a:lnTo>
                    <a:pt x="55" y="21"/>
                  </a:lnTo>
                  <a:lnTo>
                    <a:pt x="44" y="17"/>
                  </a:lnTo>
                  <a:lnTo>
                    <a:pt x="30" y="13"/>
                  </a:lnTo>
                  <a:lnTo>
                    <a:pt x="21" y="7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11" y="26"/>
                  </a:lnTo>
                  <a:lnTo>
                    <a:pt x="24" y="32"/>
                  </a:lnTo>
                  <a:lnTo>
                    <a:pt x="37" y="36"/>
                  </a:lnTo>
                  <a:lnTo>
                    <a:pt x="49" y="42"/>
                  </a:lnTo>
                  <a:lnTo>
                    <a:pt x="64" y="44"/>
                  </a:lnTo>
                  <a:lnTo>
                    <a:pt x="77" y="47"/>
                  </a:lnTo>
                  <a:lnTo>
                    <a:pt x="92" y="49"/>
                  </a:lnTo>
                  <a:lnTo>
                    <a:pt x="105" y="49"/>
                  </a:lnTo>
                  <a:lnTo>
                    <a:pt x="119" y="49"/>
                  </a:lnTo>
                  <a:lnTo>
                    <a:pt x="133" y="47"/>
                  </a:lnTo>
                  <a:lnTo>
                    <a:pt x="147" y="44"/>
                  </a:lnTo>
                  <a:lnTo>
                    <a:pt x="158" y="41"/>
                  </a:lnTo>
                  <a:lnTo>
                    <a:pt x="171" y="36"/>
                  </a:lnTo>
                  <a:lnTo>
                    <a:pt x="182" y="32"/>
                  </a:lnTo>
                  <a:lnTo>
                    <a:pt x="193" y="25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4" y="3"/>
                  </a:lnTo>
                  <a:lnTo>
                    <a:pt x="197" y="0"/>
                  </a:lnTo>
                  <a:lnTo>
                    <a:pt x="189" y="2"/>
                  </a:lnTo>
                  <a:lnTo>
                    <a:pt x="18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4005000" y="3225960"/>
              <a:ext cx="42840" cy="302040"/>
            </a:xfrm>
            <a:custGeom>
              <a:avLst/>
              <a:gdLst/>
              <a:ahLst/>
              <a:rect l="l" t="t" r="r" b="b"/>
              <a:pathLst>
                <a:path w="97" h="731">
                  <a:moveTo>
                    <a:pt x="87" y="21"/>
                  </a:moveTo>
                  <a:lnTo>
                    <a:pt x="76" y="10"/>
                  </a:lnTo>
                  <a:lnTo>
                    <a:pt x="0" y="731"/>
                  </a:lnTo>
                  <a:lnTo>
                    <a:pt x="21" y="731"/>
                  </a:lnTo>
                  <a:lnTo>
                    <a:pt x="97" y="10"/>
                  </a:lnTo>
                  <a:lnTo>
                    <a:pt x="85" y="0"/>
                  </a:lnTo>
                  <a:lnTo>
                    <a:pt x="97" y="10"/>
                  </a:lnTo>
                  <a:lnTo>
                    <a:pt x="94" y="2"/>
                  </a:lnTo>
                  <a:lnTo>
                    <a:pt x="86" y="0"/>
                  </a:lnTo>
                  <a:lnTo>
                    <a:pt x="79" y="2"/>
                  </a:lnTo>
                  <a:lnTo>
                    <a:pt x="76" y="10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4009680" y="3225960"/>
              <a:ext cx="160920" cy="30960"/>
            </a:xfrm>
            <a:custGeom>
              <a:avLst/>
              <a:gdLst/>
              <a:ahLst/>
              <a:rect l="l" t="t" r="r" b="b"/>
              <a:pathLst>
                <a:path w="371" h="74">
                  <a:moveTo>
                    <a:pt x="21" y="61"/>
                  </a:moveTo>
                  <a:lnTo>
                    <a:pt x="11" y="74"/>
                  </a:lnTo>
                  <a:lnTo>
                    <a:pt x="371" y="21"/>
                  </a:lnTo>
                  <a:lnTo>
                    <a:pt x="369" y="0"/>
                  </a:lnTo>
                  <a:lnTo>
                    <a:pt x="9" y="52"/>
                  </a:lnTo>
                  <a:lnTo>
                    <a:pt x="0" y="64"/>
                  </a:lnTo>
                  <a:lnTo>
                    <a:pt x="9" y="52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3" y="71"/>
                  </a:lnTo>
                  <a:lnTo>
                    <a:pt x="11" y="74"/>
                  </a:lnTo>
                  <a:lnTo>
                    <a:pt x="2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>
              <a:off x="4121280" y="3250800"/>
              <a:ext cx="49320" cy="281160"/>
            </a:xfrm>
            <a:custGeom>
              <a:avLst/>
              <a:gdLst/>
              <a:ahLst/>
              <a:rect l="l" t="t" r="r" b="b"/>
              <a:pathLst>
                <a:path w="115" h="680">
                  <a:moveTo>
                    <a:pt x="109" y="661"/>
                  </a:moveTo>
                  <a:lnTo>
                    <a:pt x="115" y="669"/>
                  </a:lnTo>
                  <a:lnTo>
                    <a:pt x="21" y="0"/>
                  </a:lnTo>
                  <a:lnTo>
                    <a:pt x="0" y="3"/>
                  </a:lnTo>
                  <a:lnTo>
                    <a:pt x="94" y="671"/>
                  </a:lnTo>
                  <a:lnTo>
                    <a:pt x="98" y="678"/>
                  </a:lnTo>
                  <a:lnTo>
                    <a:pt x="94" y="671"/>
                  </a:lnTo>
                  <a:lnTo>
                    <a:pt x="97" y="678"/>
                  </a:lnTo>
                  <a:lnTo>
                    <a:pt x="105" y="680"/>
                  </a:lnTo>
                  <a:lnTo>
                    <a:pt x="113" y="676"/>
                  </a:lnTo>
                  <a:lnTo>
                    <a:pt x="115" y="669"/>
                  </a:lnTo>
                  <a:lnTo>
                    <a:pt x="109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>
              <a:off x="4119120" y="3246480"/>
              <a:ext cx="163080" cy="339480"/>
            </a:xfrm>
            <a:custGeom>
              <a:avLst/>
              <a:gdLst/>
              <a:ahLst/>
              <a:rect l="l" t="t" r="r" b="b"/>
              <a:pathLst>
                <a:path w="379" h="819">
                  <a:moveTo>
                    <a:pt x="0" y="11"/>
                  </a:moveTo>
                  <a:lnTo>
                    <a:pt x="157" y="783"/>
                  </a:lnTo>
                  <a:lnTo>
                    <a:pt x="168" y="790"/>
                  </a:lnTo>
                  <a:lnTo>
                    <a:pt x="178" y="796"/>
                  </a:lnTo>
                  <a:lnTo>
                    <a:pt x="192" y="802"/>
                  </a:lnTo>
                  <a:lnTo>
                    <a:pt x="204" y="806"/>
                  </a:lnTo>
                  <a:lnTo>
                    <a:pt x="218" y="812"/>
                  </a:lnTo>
                  <a:lnTo>
                    <a:pt x="233" y="814"/>
                  </a:lnTo>
                  <a:lnTo>
                    <a:pt x="248" y="816"/>
                  </a:lnTo>
                  <a:lnTo>
                    <a:pt x="264" y="817"/>
                  </a:lnTo>
                  <a:lnTo>
                    <a:pt x="278" y="819"/>
                  </a:lnTo>
                  <a:lnTo>
                    <a:pt x="294" y="819"/>
                  </a:lnTo>
                  <a:lnTo>
                    <a:pt x="309" y="816"/>
                  </a:lnTo>
                  <a:lnTo>
                    <a:pt x="325" y="814"/>
                  </a:lnTo>
                  <a:lnTo>
                    <a:pt x="339" y="811"/>
                  </a:lnTo>
                  <a:lnTo>
                    <a:pt x="353" y="805"/>
                  </a:lnTo>
                  <a:lnTo>
                    <a:pt x="366" y="800"/>
                  </a:lnTo>
                  <a:lnTo>
                    <a:pt x="379" y="793"/>
                  </a:lnTo>
                  <a:lnTo>
                    <a:pt x="36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>
              <a:off x="4212000" y="3250800"/>
              <a:ext cx="74880" cy="325080"/>
            </a:xfrm>
            <a:custGeom>
              <a:avLst/>
              <a:gdLst/>
              <a:ahLst/>
              <a:rect l="l" t="t" r="r" b="b"/>
              <a:pathLst>
                <a:path w="179" h="784">
                  <a:moveTo>
                    <a:pt x="174" y="765"/>
                  </a:moveTo>
                  <a:lnTo>
                    <a:pt x="179" y="772"/>
                  </a:lnTo>
                  <a:lnTo>
                    <a:pt x="21" y="0"/>
                  </a:lnTo>
                  <a:lnTo>
                    <a:pt x="0" y="3"/>
                  </a:lnTo>
                  <a:lnTo>
                    <a:pt x="157" y="774"/>
                  </a:lnTo>
                  <a:lnTo>
                    <a:pt x="163" y="782"/>
                  </a:lnTo>
                  <a:lnTo>
                    <a:pt x="157" y="774"/>
                  </a:lnTo>
                  <a:lnTo>
                    <a:pt x="162" y="782"/>
                  </a:lnTo>
                  <a:lnTo>
                    <a:pt x="169" y="784"/>
                  </a:lnTo>
                  <a:lnTo>
                    <a:pt x="176" y="780"/>
                  </a:lnTo>
                  <a:lnTo>
                    <a:pt x="179" y="772"/>
                  </a:lnTo>
                  <a:lnTo>
                    <a:pt x="174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>
              <a:off x="4115160" y="3567600"/>
              <a:ext cx="102960" cy="22320"/>
            </a:xfrm>
            <a:custGeom>
              <a:avLst/>
              <a:gdLst/>
              <a:ahLst/>
              <a:rect l="l" t="t" r="r" b="b"/>
              <a:pathLst>
                <a:path w="237" h="55">
                  <a:moveTo>
                    <a:pt x="216" y="18"/>
                  </a:moveTo>
                  <a:lnTo>
                    <a:pt x="220" y="9"/>
                  </a:lnTo>
                  <a:lnTo>
                    <a:pt x="209" y="15"/>
                  </a:lnTo>
                  <a:lnTo>
                    <a:pt x="197" y="21"/>
                  </a:lnTo>
                  <a:lnTo>
                    <a:pt x="184" y="25"/>
                  </a:lnTo>
                  <a:lnTo>
                    <a:pt x="172" y="28"/>
                  </a:lnTo>
                  <a:lnTo>
                    <a:pt x="156" y="30"/>
                  </a:lnTo>
                  <a:lnTo>
                    <a:pt x="142" y="33"/>
                  </a:lnTo>
                  <a:lnTo>
                    <a:pt x="126" y="33"/>
                  </a:lnTo>
                  <a:lnTo>
                    <a:pt x="112" y="31"/>
                  </a:lnTo>
                  <a:lnTo>
                    <a:pt x="97" y="30"/>
                  </a:lnTo>
                  <a:lnTo>
                    <a:pt x="82" y="28"/>
                  </a:lnTo>
                  <a:lnTo>
                    <a:pt x="69" y="26"/>
                  </a:lnTo>
                  <a:lnTo>
                    <a:pt x="55" y="21"/>
                  </a:lnTo>
                  <a:lnTo>
                    <a:pt x="43" y="18"/>
                  </a:lnTo>
                  <a:lnTo>
                    <a:pt x="31" y="11"/>
                  </a:lnTo>
                  <a:lnTo>
                    <a:pt x="22" y="6"/>
                  </a:lnTo>
                  <a:lnTo>
                    <a:pt x="11" y="0"/>
                  </a:lnTo>
                  <a:lnTo>
                    <a:pt x="0" y="17"/>
                  </a:lnTo>
                  <a:lnTo>
                    <a:pt x="10" y="25"/>
                  </a:lnTo>
                  <a:lnTo>
                    <a:pt x="22" y="30"/>
                  </a:lnTo>
                  <a:lnTo>
                    <a:pt x="36" y="37"/>
                  </a:lnTo>
                  <a:lnTo>
                    <a:pt x="50" y="42"/>
                  </a:lnTo>
                  <a:lnTo>
                    <a:pt x="64" y="47"/>
                  </a:lnTo>
                  <a:lnTo>
                    <a:pt x="80" y="49"/>
                  </a:lnTo>
                  <a:lnTo>
                    <a:pt x="95" y="51"/>
                  </a:lnTo>
                  <a:lnTo>
                    <a:pt x="112" y="52"/>
                  </a:lnTo>
                  <a:lnTo>
                    <a:pt x="126" y="55"/>
                  </a:lnTo>
                  <a:lnTo>
                    <a:pt x="142" y="55"/>
                  </a:lnTo>
                  <a:lnTo>
                    <a:pt x="158" y="51"/>
                  </a:lnTo>
                  <a:lnTo>
                    <a:pt x="174" y="49"/>
                  </a:lnTo>
                  <a:lnTo>
                    <a:pt x="189" y="46"/>
                  </a:lnTo>
                  <a:lnTo>
                    <a:pt x="205" y="40"/>
                  </a:lnTo>
                  <a:lnTo>
                    <a:pt x="218" y="34"/>
                  </a:lnTo>
                  <a:lnTo>
                    <a:pt x="233" y="26"/>
                  </a:lnTo>
                  <a:lnTo>
                    <a:pt x="237" y="18"/>
                  </a:lnTo>
                  <a:lnTo>
                    <a:pt x="233" y="26"/>
                  </a:lnTo>
                  <a:lnTo>
                    <a:pt x="237" y="19"/>
                  </a:lnTo>
                  <a:lnTo>
                    <a:pt x="235" y="11"/>
                  </a:lnTo>
                  <a:lnTo>
                    <a:pt x="229" y="8"/>
                  </a:lnTo>
                  <a:lnTo>
                    <a:pt x="220" y="9"/>
                  </a:lnTo>
                  <a:lnTo>
                    <a:pt x="2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4114800" y="3242880"/>
              <a:ext cx="16920" cy="333000"/>
            </a:xfrm>
            <a:custGeom>
              <a:avLst/>
              <a:gdLst/>
              <a:ahLst/>
              <a:rect l="l" t="t" r="r" b="b"/>
              <a:pathLst>
                <a:path w="38" h="804">
                  <a:moveTo>
                    <a:pt x="11" y="21"/>
                  </a:moveTo>
                  <a:lnTo>
                    <a:pt x="0" y="11"/>
                  </a:lnTo>
                  <a:lnTo>
                    <a:pt x="17" y="804"/>
                  </a:lnTo>
                  <a:lnTo>
                    <a:pt x="38" y="804"/>
                  </a:lnTo>
                  <a:lnTo>
                    <a:pt x="21" y="11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4128480" y="3242880"/>
              <a:ext cx="158400" cy="14040"/>
            </a:xfrm>
            <a:custGeom>
              <a:avLst/>
              <a:gdLst/>
              <a:ahLst/>
              <a:rect l="l" t="t" r="r" b="b"/>
              <a:pathLst>
                <a:path w="373" h="34">
                  <a:moveTo>
                    <a:pt x="21" y="21"/>
                  </a:moveTo>
                  <a:lnTo>
                    <a:pt x="11" y="34"/>
                  </a:lnTo>
                  <a:lnTo>
                    <a:pt x="373" y="21"/>
                  </a:lnTo>
                  <a:lnTo>
                    <a:pt x="373" y="0"/>
                  </a:lnTo>
                  <a:lnTo>
                    <a:pt x="11" y="12"/>
                  </a:lnTo>
                  <a:lnTo>
                    <a:pt x="0" y="24"/>
                  </a:lnTo>
                  <a:lnTo>
                    <a:pt x="11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11" y="34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3904920" y="2661120"/>
              <a:ext cx="439920" cy="610200"/>
            </a:xfrm>
            <a:custGeom>
              <a:avLst/>
              <a:gdLst/>
              <a:ahLst/>
              <a:rect l="l" t="t" r="r" b="b"/>
              <a:pathLst>
                <a:path w="1022" h="1476">
                  <a:moveTo>
                    <a:pt x="154" y="0"/>
                  </a:moveTo>
                  <a:lnTo>
                    <a:pt x="185" y="12"/>
                  </a:lnTo>
                  <a:lnTo>
                    <a:pt x="218" y="24"/>
                  </a:lnTo>
                  <a:lnTo>
                    <a:pt x="252" y="33"/>
                  </a:lnTo>
                  <a:lnTo>
                    <a:pt x="289" y="41"/>
                  </a:lnTo>
                  <a:lnTo>
                    <a:pt x="327" y="46"/>
                  </a:lnTo>
                  <a:lnTo>
                    <a:pt x="367" y="50"/>
                  </a:lnTo>
                  <a:lnTo>
                    <a:pt x="407" y="51"/>
                  </a:lnTo>
                  <a:lnTo>
                    <a:pt x="448" y="52"/>
                  </a:lnTo>
                  <a:lnTo>
                    <a:pt x="488" y="50"/>
                  </a:lnTo>
                  <a:lnTo>
                    <a:pt x="529" y="47"/>
                  </a:lnTo>
                  <a:lnTo>
                    <a:pt x="569" y="43"/>
                  </a:lnTo>
                  <a:lnTo>
                    <a:pt x="608" y="37"/>
                  </a:lnTo>
                  <a:lnTo>
                    <a:pt x="646" y="30"/>
                  </a:lnTo>
                  <a:lnTo>
                    <a:pt x="683" y="21"/>
                  </a:lnTo>
                  <a:lnTo>
                    <a:pt x="717" y="11"/>
                  </a:lnTo>
                  <a:lnTo>
                    <a:pt x="751" y="0"/>
                  </a:lnTo>
                  <a:lnTo>
                    <a:pt x="754" y="14"/>
                  </a:lnTo>
                  <a:lnTo>
                    <a:pt x="763" y="60"/>
                  </a:lnTo>
                  <a:lnTo>
                    <a:pt x="775" y="128"/>
                  </a:lnTo>
                  <a:lnTo>
                    <a:pt x="793" y="218"/>
                  </a:lnTo>
                  <a:lnTo>
                    <a:pt x="814" y="325"/>
                  </a:lnTo>
                  <a:lnTo>
                    <a:pt x="836" y="443"/>
                  </a:lnTo>
                  <a:lnTo>
                    <a:pt x="862" y="570"/>
                  </a:lnTo>
                  <a:lnTo>
                    <a:pt x="887" y="700"/>
                  </a:lnTo>
                  <a:lnTo>
                    <a:pt x="911" y="831"/>
                  </a:lnTo>
                  <a:lnTo>
                    <a:pt x="937" y="958"/>
                  </a:lnTo>
                  <a:lnTo>
                    <a:pt x="959" y="1077"/>
                  </a:lnTo>
                  <a:lnTo>
                    <a:pt x="980" y="1182"/>
                  </a:lnTo>
                  <a:lnTo>
                    <a:pt x="998" y="1272"/>
                  </a:lnTo>
                  <a:lnTo>
                    <a:pt x="1011" y="1342"/>
                  </a:lnTo>
                  <a:lnTo>
                    <a:pt x="1019" y="1386"/>
                  </a:lnTo>
                  <a:lnTo>
                    <a:pt x="1022" y="1402"/>
                  </a:lnTo>
                  <a:lnTo>
                    <a:pt x="997" y="1409"/>
                  </a:lnTo>
                  <a:lnTo>
                    <a:pt x="968" y="1416"/>
                  </a:lnTo>
                  <a:lnTo>
                    <a:pt x="940" y="1423"/>
                  </a:lnTo>
                  <a:lnTo>
                    <a:pt x="910" y="1429"/>
                  </a:lnTo>
                  <a:lnTo>
                    <a:pt x="880" y="1436"/>
                  </a:lnTo>
                  <a:lnTo>
                    <a:pt x="848" y="1442"/>
                  </a:lnTo>
                  <a:lnTo>
                    <a:pt x="815" y="1447"/>
                  </a:lnTo>
                  <a:lnTo>
                    <a:pt x="783" y="1453"/>
                  </a:lnTo>
                  <a:lnTo>
                    <a:pt x="748" y="1457"/>
                  </a:lnTo>
                  <a:lnTo>
                    <a:pt x="714" y="1462"/>
                  </a:lnTo>
                  <a:lnTo>
                    <a:pt x="680" y="1465"/>
                  </a:lnTo>
                  <a:lnTo>
                    <a:pt x="644" y="1469"/>
                  </a:lnTo>
                  <a:lnTo>
                    <a:pt x="609" y="1472"/>
                  </a:lnTo>
                  <a:lnTo>
                    <a:pt x="572" y="1474"/>
                  </a:lnTo>
                  <a:lnTo>
                    <a:pt x="538" y="1475"/>
                  </a:lnTo>
                  <a:lnTo>
                    <a:pt x="501" y="1476"/>
                  </a:lnTo>
                  <a:lnTo>
                    <a:pt x="466" y="1476"/>
                  </a:lnTo>
                  <a:lnTo>
                    <a:pt x="430" y="1476"/>
                  </a:lnTo>
                  <a:lnTo>
                    <a:pt x="395" y="1475"/>
                  </a:lnTo>
                  <a:lnTo>
                    <a:pt x="359" y="1473"/>
                  </a:lnTo>
                  <a:lnTo>
                    <a:pt x="325" y="1470"/>
                  </a:lnTo>
                  <a:lnTo>
                    <a:pt x="292" y="1466"/>
                  </a:lnTo>
                  <a:lnTo>
                    <a:pt x="258" y="1462"/>
                  </a:lnTo>
                  <a:lnTo>
                    <a:pt x="225" y="1456"/>
                  </a:lnTo>
                  <a:lnTo>
                    <a:pt x="193" y="1450"/>
                  </a:lnTo>
                  <a:lnTo>
                    <a:pt x="163" y="1443"/>
                  </a:lnTo>
                  <a:lnTo>
                    <a:pt x="132" y="1435"/>
                  </a:lnTo>
                  <a:lnTo>
                    <a:pt x="104" y="1425"/>
                  </a:lnTo>
                  <a:lnTo>
                    <a:pt x="75" y="1415"/>
                  </a:lnTo>
                  <a:lnTo>
                    <a:pt x="49" y="1403"/>
                  </a:lnTo>
                  <a:lnTo>
                    <a:pt x="23" y="1390"/>
                  </a:lnTo>
                  <a:lnTo>
                    <a:pt x="0" y="137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12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4016160" y="2657520"/>
              <a:ext cx="264240" cy="30960"/>
            </a:xfrm>
            <a:custGeom>
              <a:avLst/>
              <a:gdLst/>
              <a:ahLst/>
              <a:rect l="l" t="t" r="r" b="b"/>
              <a:pathLst>
                <a:path w="611" h="73">
                  <a:moveTo>
                    <a:pt x="611" y="7"/>
                  </a:moveTo>
                  <a:lnTo>
                    <a:pt x="597" y="0"/>
                  </a:lnTo>
                  <a:lnTo>
                    <a:pt x="565" y="11"/>
                  </a:lnTo>
                  <a:lnTo>
                    <a:pt x="531" y="20"/>
                  </a:lnTo>
                  <a:lnTo>
                    <a:pt x="494" y="30"/>
                  </a:lnTo>
                  <a:lnTo>
                    <a:pt x="456" y="36"/>
                  </a:lnTo>
                  <a:lnTo>
                    <a:pt x="418" y="42"/>
                  </a:lnTo>
                  <a:lnTo>
                    <a:pt x="379" y="47"/>
                  </a:lnTo>
                  <a:lnTo>
                    <a:pt x="338" y="50"/>
                  </a:lnTo>
                  <a:lnTo>
                    <a:pt x="298" y="52"/>
                  </a:lnTo>
                  <a:lnTo>
                    <a:pt x="257" y="51"/>
                  </a:lnTo>
                  <a:lnTo>
                    <a:pt x="217" y="50"/>
                  </a:lnTo>
                  <a:lnTo>
                    <a:pt x="179" y="45"/>
                  </a:lnTo>
                  <a:lnTo>
                    <a:pt x="142" y="40"/>
                  </a:lnTo>
                  <a:lnTo>
                    <a:pt x="105" y="33"/>
                  </a:lnTo>
                  <a:lnTo>
                    <a:pt x="71" y="23"/>
                  </a:lnTo>
                  <a:lnTo>
                    <a:pt x="39" y="13"/>
                  </a:lnTo>
                  <a:lnTo>
                    <a:pt x="10" y="0"/>
                  </a:lnTo>
                  <a:lnTo>
                    <a:pt x="0" y="18"/>
                  </a:lnTo>
                  <a:lnTo>
                    <a:pt x="32" y="32"/>
                  </a:lnTo>
                  <a:lnTo>
                    <a:pt x="66" y="44"/>
                  </a:lnTo>
                  <a:lnTo>
                    <a:pt x="99" y="54"/>
                  </a:lnTo>
                  <a:lnTo>
                    <a:pt x="138" y="61"/>
                  </a:lnTo>
                  <a:lnTo>
                    <a:pt x="176" y="67"/>
                  </a:lnTo>
                  <a:lnTo>
                    <a:pt x="217" y="71"/>
                  </a:lnTo>
                  <a:lnTo>
                    <a:pt x="257" y="72"/>
                  </a:lnTo>
                  <a:lnTo>
                    <a:pt x="298" y="73"/>
                  </a:lnTo>
                  <a:lnTo>
                    <a:pt x="338" y="71"/>
                  </a:lnTo>
                  <a:lnTo>
                    <a:pt x="379" y="68"/>
                  </a:lnTo>
                  <a:lnTo>
                    <a:pt x="420" y="63"/>
                  </a:lnTo>
                  <a:lnTo>
                    <a:pt x="459" y="57"/>
                  </a:lnTo>
                  <a:lnTo>
                    <a:pt x="500" y="51"/>
                  </a:lnTo>
                  <a:lnTo>
                    <a:pt x="535" y="41"/>
                  </a:lnTo>
                  <a:lnTo>
                    <a:pt x="570" y="32"/>
                  </a:lnTo>
                  <a:lnTo>
                    <a:pt x="604" y="18"/>
                  </a:lnTo>
                  <a:lnTo>
                    <a:pt x="590" y="11"/>
                  </a:lnTo>
                  <a:lnTo>
                    <a:pt x="604" y="18"/>
                  </a:lnTo>
                  <a:lnTo>
                    <a:pt x="610" y="13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6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3900240" y="2659320"/>
              <a:ext cx="126360" cy="585360"/>
            </a:xfrm>
            <a:custGeom>
              <a:avLst/>
              <a:gdLst/>
              <a:ahLst/>
              <a:rect l="l" t="t" r="r" b="b"/>
              <a:pathLst>
                <a:path w="293" h="1415">
                  <a:moveTo>
                    <a:pt x="284" y="1415"/>
                  </a:moveTo>
                  <a:lnTo>
                    <a:pt x="293" y="1404"/>
                  </a:lnTo>
                  <a:lnTo>
                    <a:pt x="290" y="1388"/>
                  </a:lnTo>
                  <a:lnTo>
                    <a:pt x="281" y="1344"/>
                  </a:lnTo>
                  <a:lnTo>
                    <a:pt x="269" y="1274"/>
                  </a:lnTo>
                  <a:lnTo>
                    <a:pt x="251" y="1184"/>
                  </a:lnTo>
                  <a:lnTo>
                    <a:pt x="230" y="1078"/>
                  </a:lnTo>
                  <a:lnTo>
                    <a:pt x="207" y="960"/>
                  </a:lnTo>
                  <a:lnTo>
                    <a:pt x="182" y="833"/>
                  </a:lnTo>
                  <a:lnTo>
                    <a:pt x="158" y="702"/>
                  </a:lnTo>
                  <a:lnTo>
                    <a:pt x="131" y="572"/>
                  </a:lnTo>
                  <a:lnTo>
                    <a:pt x="107" y="444"/>
                  </a:lnTo>
                  <a:lnTo>
                    <a:pt x="85" y="327"/>
                  </a:lnTo>
                  <a:lnTo>
                    <a:pt x="64" y="220"/>
                  </a:lnTo>
                  <a:lnTo>
                    <a:pt x="46" y="130"/>
                  </a:lnTo>
                  <a:lnTo>
                    <a:pt x="33" y="61"/>
                  </a:lnTo>
                  <a:lnTo>
                    <a:pt x="25" y="16"/>
                  </a:lnTo>
                  <a:lnTo>
                    <a:pt x="21" y="0"/>
                  </a:lnTo>
                  <a:lnTo>
                    <a:pt x="0" y="4"/>
                  </a:lnTo>
                  <a:lnTo>
                    <a:pt x="4" y="18"/>
                  </a:lnTo>
                  <a:lnTo>
                    <a:pt x="12" y="64"/>
                  </a:lnTo>
                  <a:lnTo>
                    <a:pt x="25" y="132"/>
                  </a:lnTo>
                  <a:lnTo>
                    <a:pt x="43" y="222"/>
                  </a:lnTo>
                  <a:lnTo>
                    <a:pt x="64" y="329"/>
                  </a:lnTo>
                  <a:lnTo>
                    <a:pt x="86" y="447"/>
                  </a:lnTo>
                  <a:lnTo>
                    <a:pt x="110" y="574"/>
                  </a:lnTo>
                  <a:lnTo>
                    <a:pt x="137" y="704"/>
                  </a:lnTo>
                  <a:lnTo>
                    <a:pt x="161" y="835"/>
                  </a:lnTo>
                  <a:lnTo>
                    <a:pt x="186" y="962"/>
                  </a:lnTo>
                  <a:lnTo>
                    <a:pt x="208" y="1081"/>
                  </a:lnTo>
                  <a:lnTo>
                    <a:pt x="230" y="1186"/>
                  </a:lnTo>
                  <a:lnTo>
                    <a:pt x="247" y="1276"/>
                  </a:lnTo>
                  <a:lnTo>
                    <a:pt x="260" y="1346"/>
                  </a:lnTo>
                  <a:lnTo>
                    <a:pt x="269" y="1390"/>
                  </a:lnTo>
                  <a:lnTo>
                    <a:pt x="272" y="1406"/>
                  </a:lnTo>
                  <a:lnTo>
                    <a:pt x="280" y="1394"/>
                  </a:lnTo>
                  <a:lnTo>
                    <a:pt x="272" y="1406"/>
                  </a:lnTo>
                  <a:lnTo>
                    <a:pt x="276" y="1413"/>
                  </a:lnTo>
                  <a:lnTo>
                    <a:pt x="283" y="1415"/>
                  </a:lnTo>
                  <a:lnTo>
                    <a:pt x="291" y="1412"/>
                  </a:lnTo>
                  <a:lnTo>
                    <a:pt x="293" y="1404"/>
                  </a:lnTo>
                  <a:lnTo>
                    <a:pt x="284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>
              <a:off x="3904920" y="3225960"/>
              <a:ext cx="444240" cy="49680"/>
            </a:xfrm>
            <a:custGeom>
              <a:avLst/>
              <a:gdLst/>
              <a:ahLst/>
              <a:rect l="l" t="t" r="r" b="b"/>
              <a:pathLst>
                <a:path w="1034" h="121">
                  <a:moveTo>
                    <a:pt x="0" y="9"/>
                  </a:moveTo>
                  <a:lnTo>
                    <a:pt x="4" y="20"/>
                  </a:lnTo>
                  <a:lnTo>
                    <a:pt x="29" y="35"/>
                  </a:lnTo>
                  <a:lnTo>
                    <a:pt x="53" y="47"/>
                  </a:lnTo>
                  <a:lnTo>
                    <a:pt x="82" y="59"/>
                  </a:lnTo>
                  <a:lnTo>
                    <a:pt x="110" y="70"/>
                  </a:lnTo>
                  <a:lnTo>
                    <a:pt x="140" y="80"/>
                  </a:lnTo>
                  <a:lnTo>
                    <a:pt x="171" y="89"/>
                  </a:lnTo>
                  <a:lnTo>
                    <a:pt x="202" y="96"/>
                  </a:lnTo>
                  <a:lnTo>
                    <a:pt x="234" y="101"/>
                  </a:lnTo>
                  <a:lnTo>
                    <a:pt x="267" y="108"/>
                  </a:lnTo>
                  <a:lnTo>
                    <a:pt x="299" y="112"/>
                  </a:lnTo>
                  <a:lnTo>
                    <a:pt x="335" y="116"/>
                  </a:lnTo>
                  <a:lnTo>
                    <a:pt x="369" y="118"/>
                  </a:lnTo>
                  <a:lnTo>
                    <a:pt x="405" y="120"/>
                  </a:lnTo>
                  <a:lnTo>
                    <a:pt x="440" y="121"/>
                  </a:lnTo>
                  <a:lnTo>
                    <a:pt x="476" y="121"/>
                  </a:lnTo>
                  <a:lnTo>
                    <a:pt x="511" y="121"/>
                  </a:lnTo>
                  <a:lnTo>
                    <a:pt x="548" y="120"/>
                  </a:lnTo>
                  <a:lnTo>
                    <a:pt x="582" y="119"/>
                  </a:lnTo>
                  <a:lnTo>
                    <a:pt x="619" y="117"/>
                  </a:lnTo>
                  <a:lnTo>
                    <a:pt x="654" y="115"/>
                  </a:lnTo>
                  <a:lnTo>
                    <a:pt x="690" y="111"/>
                  </a:lnTo>
                  <a:lnTo>
                    <a:pt x="725" y="108"/>
                  </a:lnTo>
                  <a:lnTo>
                    <a:pt x="760" y="102"/>
                  </a:lnTo>
                  <a:lnTo>
                    <a:pt x="794" y="98"/>
                  </a:lnTo>
                  <a:lnTo>
                    <a:pt x="826" y="94"/>
                  </a:lnTo>
                  <a:lnTo>
                    <a:pt x="859" y="88"/>
                  </a:lnTo>
                  <a:lnTo>
                    <a:pt x="891" y="81"/>
                  </a:lnTo>
                  <a:lnTo>
                    <a:pt x="924" y="75"/>
                  </a:lnTo>
                  <a:lnTo>
                    <a:pt x="952" y="69"/>
                  </a:lnTo>
                  <a:lnTo>
                    <a:pt x="981" y="61"/>
                  </a:lnTo>
                  <a:lnTo>
                    <a:pt x="1009" y="55"/>
                  </a:lnTo>
                  <a:lnTo>
                    <a:pt x="1034" y="47"/>
                  </a:lnTo>
                  <a:lnTo>
                    <a:pt x="1030" y="26"/>
                  </a:lnTo>
                  <a:lnTo>
                    <a:pt x="1005" y="34"/>
                  </a:lnTo>
                  <a:lnTo>
                    <a:pt x="976" y="40"/>
                  </a:lnTo>
                  <a:lnTo>
                    <a:pt x="948" y="47"/>
                  </a:lnTo>
                  <a:lnTo>
                    <a:pt x="918" y="54"/>
                  </a:lnTo>
                  <a:lnTo>
                    <a:pt x="889" y="60"/>
                  </a:lnTo>
                  <a:lnTo>
                    <a:pt x="857" y="66"/>
                  </a:lnTo>
                  <a:lnTo>
                    <a:pt x="824" y="72"/>
                  </a:lnTo>
                  <a:lnTo>
                    <a:pt x="792" y="77"/>
                  </a:lnTo>
                  <a:lnTo>
                    <a:pt x="757" y="81"/>
                  </a:lnTo>
                  <a:lnTo>
                    <a:pt x="723" y="86"/>
                  </a:lnTo>
                  <a:lnTo>
                    <a:pt x="690" y="90"/>
                  </a:lnTo>
                  <a:lnTo>
                    <a:pt x="654" y="94"/>
                  </a:lnTo>
                  <a:lnTo>
                    <a:pt x="619" y="96"/>
                  </a:lnTo>
                  <a:lnTo>
                    <a:pt x="582" y="98"/>
                  </a:lnTo>
                  <a:lnTo>
                    <a:pt x="548" y="99"/>
                  </a:lnTo>
                  <a:lnTo>
                    <a:pt x="511" y="100"/>
                  </a:lnTo>
                  <a:lnTo>
                    <a:pt x="476" y="100"/>
                  </a:lnTo>
                  <a:lnTo>
                    <a:pt x="440" y="100"/>
                  </a:lnTo>
                  <a:lnTo>
                    <a:pt x="405" y="99"/>
                  </a:lnTo>
                  <a:lnTo>
                    <a:pt x="369" y="97"/>
                  </a:lnTo>
                  <a:lnTo>
                    <a:pt x="335" y="95"/>
                  </a:lnTo>
                  <a:lnTo>
                    <a:pt x="303" y="91"/>
                  </a:lnTo>
                  <a:lnTo>
                    <a:pt x="269" y="86"/>
                  </a:lnTo>
                  <a:lnTo>
                    <a:pt x="236" y="80"/>
                  </a:lnTo>
                  <a:lnTo>
                    <a:pt x="204" y="75"/>
                  </a:lnTo>
                  <a:lnTo>
                    <a:pt x="175" y="67"/>
                  </a:lnTo>
                  <a:lnTo>
                    <a:pt x="144" y="59"/>
                  </a:lnTo>
                  <a:lnTo>
                    <a:pt x="118" y="51"/>
                  </a:lnTo>
                  <a:lnTo>
                    <a:pt x="89" y="40"/>
                  </a:lnTo>
                  <a:lnTo>
                    <a:pt x="63" y="28"/>
                  </a:lnTo>
                  <a:lnTo>
                    <a:pt x="39" y="16"/>
                  </a:lnTo>
                  <a:lnTo>
                    <a:pt x="16" y="1"/>
                  </a:lnTo>
                  <a:lnTo>
                    <a:pt x="21" y="12"/>
                  </a:lnTo>
                  <a:lnTo>
                    <a:pt x="16" y="1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14"/>
                  </a:lnTo>
                  <a:lnTo>
                    <a:pt x="4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>
              <a:off x="4273560" y="2657520"/>
              <a:ext cx="75240" cy="572760"/>
            </a:xfrm>
            <a:custGeom>
              <a:avLst/>
              <a:gdLst/>
              <a:ahLst/>
              <a:rect l="l" t="t" r="r" b="b"/>
              <a:pathLst>
                <a:path w="175" h="1389">
                  <a:moveTo>
                    <a:pt x="170" y="2"/>
                  </a:moveTo>
                  <a:lnTo>
                    <a:pt x="154" y="9"/>
                  </a:lnTo>
                  <a:lnTo>
                    <a:pt x="0" y="1386"/>
                  </a:lnTo>
                  <a:lnTo>
                    <a:pt x="21" y="1389"/>
                  </a:lnTo>
                  <a:lnTo>
                    <a:pt x="175" y="13"/>
                  </a:lnTo>
                  <a:lnTo>
                    <a:pt x="160" y="20"/>
                  </a:lnTo>
                  <a:lnTo>
                    <a:pt x="175" y="13"/>
                  </a:lnTo>
                  <a:lnTo>
                    <a:pt x="173" y="4"/>
                  </a:lnTo>
                  <a:lnTo>
                    <a:pt x="165" y="0"/>
                  </a:lnTo>
                  <a:lnTo>
                    <a:pt x="157" y="3"/>
                  </a:lnTo>
                  <a:lnTo>
                    <a:pt x="154" y="9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>
              <a:off x="3801960" y="2226600"/>
              <a:ext cx="308880" cy="1239120"/>
            </a:xfrm>
            <a:custGeom>
              <a:avLst/>
              <a:gdLst/>
              <a:ahLst/>
              <a:rect l="l" t="t" r="r" b="b"/>
              <a:pathLst>
                <a:path w="720" h="2994">
                  <a:moveTo>
                    <a:pt x="0" y="74"/>
                  </a:moveTo>
                  <a:lnTo>
                    <a:pt x="6" y="220"/>
                  </a:lnTo>
                  <a:lnTo>
                    <a:pt x="14" y="365"/>
                  </a:lnTo>
                  <a:lnTo>
                    <a:pt x="19" y="511"/>
                  </a:lnTo>
                  <a:lnTo>
                    <a:pt x="26" y="658"/>
                  </a:lnTo>
                  <a:lnTo>
                    <a:pt x="32" y="804"/>
                  </a:lnTo>
                  <a:lnTo>
                    <a:pt x="38" y="949"/>
                  </a:lnTo>
                  <a:lnTo>
                    <a:pt x="45" y="1095"/>
                  </a:lnTo>
                  <a:lnTo>
                    <a:pt x="51" y="1242"/>
                  </a:lnTo>
                  <a:lnTo>
                    <a:pt x="57" y="1560"/>
                  </a:lnTo>
                  <a:lnTo>
                    <a:pt x="56" y="2118"/>
                  </a:lnTo>
                  <a:lnTo>
                    <a:pt x="54" y="2666"/>
                  </a:lnTo>
                  <a:lnTo>
                    <a:pt x="51" y="2957"/>
                  </a:lnTo>
                  <a:lnTo>
                    <a:pt x="56" y="2976"/>
                  </a:lnTo>
                  <a:lnTo>
                    <a:pt x="67" y="2986"/>
                  </a:lnTo>
                  <a:lnTo>
                    <a:pt x="88" y="2993"/>
                  </a:lnTo>
                  <a:lnTo>
                    <a:pt x="113" y="2994"/>
                  </a:lnTo>
                  <a:lnTo>
                    <a:pt x="144" y="2988"/>
                  </a:lnTo>
                  <a:lnTo>
                    <a:pt x="179" y="2980"/>
                  </a:lnTo>
                  <a:lnTo>
                    <a:pt x="218" y="2968"/>
                  </a:lnTo>
                  <a:lnTo>
                    <a:pt x="259" y="2953"/>
                  </a:lnTo>
                  <a:lnTo>
                    <a:pt x="300" y="2937"/>
                  </a:lnTo>
                  <a:lnTo>
                    <a:pt x="342" y="2919"/>
                  </a:lnTo>
                  <a:lnTo>
                    <a:pt x="383" y="2899"/>
                  </a:lnTo>
                  <a:lnTo>
                    <a:pt x="423" y="2881"/>
                  </a:lnTo>
                  <a:lnTo>
                    <a:pt x="459" y="2862"/>
                  </a:lnTo>
                  <a:lnTo>
                    <a:pt x="493" y="2844"/>
                  </a:lnTo>
                  <a:lnTo>
                    <a:pt x="521" y="2828"/>
                  </a:lnTo>
                  <a:lnTo>
                    <a:pt x="544" y="2814"/>
                  </a:lnTo>
                  <a:lnTo>
                    <a:pt x="544" y="2753"/>
                  </a:lnTo>
                  <a:lnTo>
                    <a:pt x="542" y="2663"/>
                  </a:lnTo>
                  <a:lnTo>
                    <a:pt x="540" y="2554"/>
                  </a:lnTo>
                  <a:lnTo>
                    <a:pt x="536" y="2435"/>
                  </a:lnTo>
                  <a:lnTo>
                    <a:pt x="530" y="2315"/>
                  </a:lnTo>
                  <a:lnTo>
                    <a:pt x="525" y="2206"/>
                  </a:lnTo>
                  <a:lnTo>
                    <a:pt x="515" y="2112"/>
                  </a:lnTo>
                  <a:lnTo>
                    <a:pt x="505" y="2047"/>
                  </a:lnTo>
                  <a:lnTo>
                    <a:pt x="487" y="1963"/>
                  </a:lnTo>
                  <a:lnTo>
                    <a:pt x="473" y="1872"/>
                  </a:lnTo>
                  <a:lnTo>
                    <a:pt x="460" y="1777"/>
                  </a:lnTo>
                  <a:lnTo>
                    <a:pt x="450" y="1679"/>
                  </a:lnTo>
                  <a:lnTo>
                    <a:pt x="439" y="1582"/>
                  </a:lnTo>
                  <a:lnTo>
                    <a:pt x="428" y="1486"/>
                  </a:lnTo>
                  <a:lnTo>
                    <a:pt x="414" y="1395"/>
                  </a:lnTo>
                  <a:lnTo>
                    <a:pt x="396" y="1311"/>
                  </a:lnTo>
                  <a:lnTo>
                    <a:pt x="419" y="1307"/>
                  </a:lnTo>
                  <a:lnTo>
                    <a:pt x="444" y="1304"/>
                  </a:lnTo>
                  <a:lnTo>
                    <a:pt x="468" y="1301"/>
                  </a:lnTo>
                  <a:lnTo>
                    <a:pt x="491" y="1297"/>
                  </a:lnTo>
                  <a:lnTo>
                    <a:pt x="514" y="1295"/>
                  </a:lnTo>
                  <a:lnTo>
                    <a:pt x="536" y="1292"/>
                  </a:lnTo>
                  <a:lnTo>
                    <a:pt x="559" y="1288"/>
                  </a:lnTo>
                  <a:lnTo>
                    <a:pt x="580" y="1286"/>
                  </a:lnTo>
                  <a:lnTo>
                    <a:pt x="601" y="1283"/>
                  </a:lnTo>
                  <a:lnTo>
                    <a:pt x="620" y="1281"/>
                  </a:lnTo>
                  <a:lnTo>
                    <a:pt x="639" y="1277"/>
                  </a:lnTo>
                  <a:lnTo>
                    <a:pt x="657" y="1273"/>
                  </a:lnTo>
                  <a:lnTo>
                    <a:pt x="672" y="1270"/>
                  </a:lnTo>
                  <a:lnTo>
                    <a:pt x="687" y="1265"/>
                  </a:lnTo>
                  <a:lnTo>
                    <a:pt x="700" y="1261"/>
                  </a:lnTo>
                  <a:lnTo>
                    <a:pt x="712" y="1256"/>
                  </a:lnTo>
                  <a:lnTo>
                    <a:pt x="720" y="1237"/>
                  </a:lnTo>
                  <a:lnTo>
                    <a:pt x="715" y="1195"/>
                  </a:lnTo>
                  <a:lnTo>
                    <a:pt x="701" y="1139"/>
                  </a:lnTo>
                  <a:lnTo>
                    <a:pt x="680" y="1072"/>
                  </a:lnTo>
                  <a:lnTo>
                    <a:pt x="656" y="1002"/>
                  </a:lnTo>
                  <a:lnTo>
                    <a:pt x="631" y="935"/>
                  </a:lnTo>
                  <a:lnTo>
                    <a:pt x="610" y="880"/>
                  </a:lnTo>
                  <a:lnTo>
                    <a:pt x="595" y="839"/>
                  </a:lnTo>
                  <a:lnTo>
                    <a:pt x="572" y="778"/>
                  </a:lnTo>
                  <a:lnTo>
                    <a:pt x="550" y="719"/>
                  </a:lnTo>
                  <a:lnTo>
                    <a:pt x="529" y="664"/>
                  </a:lnTo>
                  <a:lnTo>
                    <a:pt x="508" y="611"/>
                  </a:lnTo>
                  <a:lnTo>
                    <a:pt x="486" y="562"/>
                  </a:lnTo>
                  <a:lnTo>
                    <a:pt x="465" y="513"/>
                  </a:lnTo>
                  <a:lnTo>
                    <a:pt x="442" y="467"/>
                  </a:lnTo>
                  <a:lnTo>
                    <a:pt x="419" y="421"/>
                  </a:lnTo>
                  <a:lnTo>
                    <a:pt x="395" y="377"/>
                  </a:lnTo>
                  <a:lnTo>
                    <a:pt x="368" y="334"/>
                  </a:lnTo>
                  <a:lnTo>
                    <a:pt x="341" y="289"/>
                  </a:lnTo>
                  <a:lnTo>
                    <a:pt x="311" y="245"/>
                  </a:lnTo>
                  <a:lnTo>
                    <a:pt x="280" y="201"/>
                  </a:lnTo>
                  <a:lnTo>
                    <a:pt x="244" y="155"/>
                  </a:lnTo>
                  <a:lnTo>
                    <a:pt x="207" y="108"/>
                  </a:lnTo>
                  <a:lnTo>
                    <a:pt x="165" y="59"/>
                  </a:lnTo>
                  <a:lnTo>
                    <a:pt x="156" y="50"/>
                  </a:lnTo>
                  <a:lnTo>
                    <a:pt x="144" y="40"/>
                  </a:lnTo>
                  <a:lnTo>
                    <a:pt x="131" y="34"/>
                  </a:lnTo>
                  <a:lnTo>
                    <a:pt x="118" y="26"/>
                  </a:lnTo>
                  <a:lnTo>
                    <a:pt x="103" y="19"/>
                  </a:lnTo>
                  <a:lnTo>
                    <a:pt x="90" y="14"/>
                  </a:lnTo>
                  <a:lnTo>
                    <a:pt x="76" y="6"/>
                  </a:lnTo>
                  <a:lnTo>
                    <a:pt x="61" y="0"/>
                  </a:lnTo>
                  <a:lnTo>
                    <a:pt x="51" y="5"/>
                  </a:lnTo>
                  <a:lnTo>
                    <a:pt x="40" y="13"/>
                  </a:lnTo>
                  <a:lnTo>
                    <a:pt x="29" y="20"/>
                  </a:lnTo>
                  <a:lnTo>
                    <a:pt x="21" y="30"/>
                  </a:lnTo>
                  <a:lnTo>
                    <a:pt x="15" y="39"/>
                  </a:lnTo>
                  <a:lnTo>
                    <a:pt x="8" y="50"/>
                  </a:lnTo>
                  <a:lnTo>
                    <a:pt x="4" y="6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H="1">
              <a:off x="4084920" y="2258280"/>
              <a:ext cx="29880" cy="483480"/>
            </a:xfrm>
            <a:custGeom>
              <a:avLst/>
              <a:gdLst/>
              <a:ahLst/>
              <a:rect l="l" t="t" r="r" b="b"/>
              <a:pathLst>
                <a:path w="72" h="1168">
                  <a:moveTo>
                    <a:pt x="72" y="1168"/>
                  </a:moveTo>
                  <a:lnTo>
                    <a:pt x="72" y="1168"/>
                  </a:lnTo>
                  <a:lnTo>
                    <a:pt x="67" y="1021"/>
                  </a:lnTo>
                  <a:lnTo>
                    <a:pt x="59" y="875"/>
                  </a:lnTo>
                  <a:lnTo>
                    <a:pt x="53" y="730"/>
                  </a:lnTo>
                  <a:lnTo>
                    <a:pt x="48" y="584"/>
                  </a:lnTo>
                  <a:lnTo>
                    <a:pt x="40" y="437"/>
                  </a:lnTo>
                  <a:lnTo>
                    <a:pt x="35" y="291"/>
                  </a:lnTo>
                  <a:lnTo>
                    <a:pt x="28" y="14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7" y="146"/>
                  </a:lnTo>
                  <a:lnTo>
                    <a:pt x="14" y="291"/>
                  </a:lnTo>
                  <a:lnTo>
                    <a:pt x="19" y="437"/>
                  </a:lnTo>
                  <a:lnTo>
                    <a:pt x="27" y="584"/>
                  </a:lnTo>
                  <a:lnTo>
                    <a:pt x="32" y="730"/>
                  </a:lnTo>
                  <a:lnTo>
                    <a:pt x="38" y="875"/>
                  </a:lnTo>
                  <a:lnTo>
                    <a:pt x="46" y="1021"/>
                  </a:lnTo>
                  <a:lnTo>
                    <a:pt x="51" y="1168"/>
                  </a:lnTo>
                  <a:lnTo>
                    <a:pt x="51" y="1168"/>
                  </a:lnTo>
                  <a:lnTo>
                    <a:pt x="72" y="1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H="1">
              <a:off x="4082760" y="2741760"/>
              <a:ext cx="10440" cy="713880"/>
            </a:xfrm>
            <a:custGeom>
              <a:avLst/>
              <a:gdLst/>
              <a:ahLst/>
              <a:rect l="l" t="t" r="r" b="b"/>
              <a:pathLst>
                <a:path w="27" h="1725">
                  <a:moveTo>
                    <a:pt x="21" y="1715"/>
                  </a:moveTo>
                  <a:lnTo>
                    <a:pt x="21" y="1715"/>
                  </a:lnTo>
                  <a:lnTo>
                    <a:pt x="23" y="1424"/>
                  </a:lnTo>
                  <a:lnTo>
                    <a:pt x="26" y="876"/>
                  </a:lnTo>
                  <a:lnTo>
                    <a:pt x="27" y="318"/>
                  </a:lnTo>
                  <a:lnTo>
                    <a:pt x="21" y="0"/>
                  </a:lnTo>
                  <a:lnTo>
                    <a:pt x="0" y="0"/>
                  </a:lnTo>
                  <a:lnTo>
                    <a:pt x="6" y="318"/>
                  </a:lnTo>
                  <a:lnTo>
                    <a:pt x="5" y="876"/>
                  </a:lnTo>
                  <a:lnTo>
                    <a:pt x="2" y="1424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4" y="1723"/>
                  </a:lnTo>
                  <a:lnTo>
                    <a:pt x="11" y="1725"/>
                  </a:lnTo>
                  <a:lnTo>
                    <a:pt x="18" y="1723"/>
                  </a:lnTo>
                  <a:lnTo>
                    <a:pt x="21" y="1715"/>
                  </a:lnTo>
                  <a:lnTo>
                    <a:pt x="21" y="17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H="1">
              <a:off x="3872520" y="3387240"/>
              <a:ext cx="220680" cy="82800"/>
            </a:xfrm>
            <a:custGeom>
              <a:avLst/>
              <a:gdLst/>
              <a:ahLst/>
              <a:rect l="l" t="t" r="r" b="b"/>
              <a:pathLst>
                <a:path w="514" h="200">
                  <a:moveTo>
                    <a:pt x="492" y="10"/>
                  </a:moveTo>
                  <a:lnTo>
                    <a:pt x="497" y="1"/>
                  </a:lnTo>
                  <a:lnTo>
                    <a:pt x="476" y="14"/>
                  </a:lnTo>
                  <a:lnTo>
                    <a:pt x="448" y="30"/>
                  </a:lnTo>
                  <a:lnTo>
                    <a:pt x="415" y="48"/>
                  </a:lnTo>
                  <a:lnTo>
                    <a:pt x="378" y="67"/>
                  </a:lnTo>
                  <a:lnTo>
                    <a:pt x="338" y="85"/>
                  </a:lnTo>
                  <a:lnTo>
                    <a:pt x="298" y="105"/>
                  </a:lnTo>
                  <a:lnTo>
                    <a:pt x="256" y="123"/>
                  </a:lnTo>
                  <a:lnTo>
                    <a:pt x="214" y="140"/>
                  </a:lnTo>
                  <a:lnTo>
                    <a:pt x="174" y="154"/>
                  </a:lnTo>
                  <a:lnTo>
                    <a:pt x="137" y="165"/>
                  </a:lnTo>
                  <a:lnTo>
                    <a:pt x="102" y="174"/>
                  </a:lnTo>
                  <a:lnTo>
                    <a:pt x="73" y="179"/>
                  </a:lnTo>
                  <a:lnTo>
                    <a:pt x="49" y="178"/>
                  </a:lnTo>
                  <a:lnTo>
                    <a:pt x="32" y="173"/>
                  </a:lnTo>
                  <a:lnTo>
                    <a:pt x="25" y="167"/>
                  </a:lnTo>
                  <a:lnTo>
                    <a:pt x="21" y="153"/>
                  </a:lnTo>
                  <a:lnTo>
                    <a:pt x="0" y="153"/>
                  </a:lnTo>
                  <a:lnTo>
                    <a:pt x="6" y="176"/>
                  </a:lnTo>
                  <a:lnTo>
                    <a:pt x="22" y="192"/>
                  </a:lnTo>
                  <a:lnTo>
                    <a:pt x="46" y="199"/>
                  </a:lnTo>
                  <a:lnTo>
                    <a:pt x="73" y="200"/>
                  </a:lnTo>
                  <a:lnTo>
                    <a:pt x="106" y="195"/>
                  </a:lnTo>
                  <a:lnTo>
                    <a:pt x="142" y="186"/>
                  </a:lnTo>
                  <a:lnTo>
                    <a:pt x="182" y="175"/>
                  </a:lnTo>
                  <a:lnTo>
                    <a:pt x="222" y="159"/>
                  </a:lnTo>
                  <a:lnTo>
                    <a:pt x="263" y="142"/>
                  </a:lnTo>
                  <a:lnTo>
                    <a:pt x="305" y="124"/>
                  </a:lnTo>
                  <a:lnTo>
                    <a:pt x="347" y="104"/>
                  </a:lnTo>
                  <a:lnTo>
                    <a:pt x="388" y="85"/>
                  </a:lnTo>
                  <a:lnTo>
                    <a:pt x="425" y="67"/>
                  </a:lnTo>
                  <a:lnTo>
                    <a:pt x="457" y="49"/>
                  </a:lnTo>
                  <a:lnTo>
                    <a:pt x="486" y="33"/>
                  </a:lnTo>
                  <a:lnTo>
                    <a:pt x="509" y="20"/>
                  </a:lnTo>
                  <a:lnTo>
                    <a:pt x="514" y="10"/>
                  </a:lnTo>
                  <a:lnTo>
                    <a:pt x="509" y="20"/>
                  </a:lnTo>
                  <a:lnTo>
                    <a:pt x="514" y="12"/>
                  </a:lnTo>
                  <a:lnTo>
                    <a:pt x="512" y="4"/>
                  </a:lnTo>
                  <a:lnTo>
                    <a:pt x="506" y="0"/>
                  </a:lnTo>
                  <a:lnTo>
                    <a:pt x="497" y="1"/>
                  </a:lnTo>
                  <a:lnTo>
                    <a:pt x="4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H="1">
              <a:off x="3872520" y="3072960"/>
              <a:ext cx="25560" cy="318240"/>
            </a:xfrm>
            <a:custGeom>
              <a:avLst/>
              <a:gdLst/>
              <a:ahLst/>
              <a:rect l="l" t="t" r="r" b="b"/>
              <a:pathLst>
                <a:path w="60" h="769">
                  <a:moveTo>
                    <a:pt x="0" y="5"/>
                  </a:moveTo>
                  <a:lnTo>
                    <a:pt x="0" y="5"/>
                  </a:lnTo>
                  <a:lnTo>
                    <a:pt x="11" y="68"/>
                  </a:lnTo>
                  <a:lnTo>
                    <a:pt x="20" y="161"/>
                  </a:lnTo>
                  <a:lnTo>
                    <a:pt x="25" y="270"/>
                  </a:lnTo>
                  <a:lnTo>
                    <a:pt x="32" y="390"/>
                  </a:lnTo>
                  <a:lnTo>
                    <a:pt x="35" y="509"/>
                  </a:lnTo>
                  <a:lnTo>
                    <a:pt x="37" y="618"/>
                  </a:lnTo>
                  <a:lnTo>
                    <a:pt x="38" y="708"/>
                  </a:lnTo>
                  <a:lnTo>
                    <a:pt x="38" y="769"/>
                  </a:lnTo>
                  <a:lnTo>
                    <a:pt x="60" y="769"/>
                  </a:lnTo>
                  <a:lnTo>
                    <a:pt x="60" y="708"/>
                  </a:lnTo>
                  <a:lnTo>
                    <a:pt x="58" y="618"/>
                  </a:lnTo>
                  <a:lnTo>
                    <a:pt x="56" y="509"/>
                  </a:lnTo>
                  <a:lnTo>
                    <a:pt x="53" y="390"/>
                  </a:lnTo>
                  <a:lnTo>
                    <a:pt x="47" y="270"/>
                  </a:lnTo>
                  <a:lnTo>
                    <a:pt x="41" y="161"/>
                  </a:lnTo>
                  <a:lnTo>
                    <a:pt x="32" y="66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>
              <a:off x="3889440" y="2764800"/>
              <a:ext cx="55800" cy="309960"/>
            </a:xfrm>
            <a:custGeom>
              <a:avLst/>
              <a:gdLst/>
              <a:ahLst/>
              <a:rect l="l" t="t" r="r" b="b"/>
              <a:pathLst>
                <a:path w="130" h="749">
                  <a:moveTo>
                    <a:pt x="10" y="0"/>
                  </a:moveTo>
                  <a:lnTo>
                    <a:pt x="0" y="13"/>
                  </a:lnTo>
                  <a:lnTo>
                    <a:pt x="18" y="95"/>
                  </a:lnTo>
                  <a:lnTo>
                    <a:pt x="32" y="186"/>
                  </a:lnTo>
                  <a:lnTo>
                    <a:pt x="44" y="282"/>
                  </a:lnTo>
                  <a:lnTo>
                    <a:pt x="54" y="379"/>
                  </a:lnTo>
                  <a:lnTo>
                    <a:pt x="65" y="477"/>
                  </a:lnTo>
                  <a:lnTo>
                    <a:pt x="77" y="573"/>
                  </a:lnTo>
                  <a:lnTo>
                    <a:pt x="91" y="664"/>
                  </a:lnTo>
                  <a:lnTo>
                    <a:pt x="109" y="749"/>
                  </a:lnTo>
                  <a:lnTo>
                    <a:pt x="130" y="744"/>
                  </a:lnTo>
                  <a:lnTo>
                    <a:pt x="112" y="661"/>
                  </a:lnTo>
                  <a:lnTo>
                    <a:pt x="99" y="570"/>
                  </a:lnTo>
                  <a:lnTo>
                    <a:pt x="87" y="475"/>
                  </a:lnTo>
                  <a:lnTo>
                    <a:pt x="75" y="377"/>
                  </a:lnTo>
                  <a:lnTo>
                    <a:pt x="65" y="279"/>
                  </a:lnTo>
                  <a:lnTo>
                    <a:pt x="53" y="184"/>
                  </a:lnTo>
                  <a:lnTo>
                    <a:pt x="39" y="93"/>
                  </a:lnTo>
                  <a:lnTo>
                    <a:pt x="21" y="7"/>
                  </a:lnTo>
                  <a:lnTo>
                    <a:pt x="12" y="21"/>
                  </a:lnTo>
                  <a:lnTo>
                    <a:pt x="21" y="7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H="1">
              <a:off x="3801600" y="2741760"/>
              <a:ext cx="139680" cy="33120"/>
            </a:xfrm>
            <a:custGeom>
              <a:avLst/>
              <a:gdLst/>
              <a:ahLst/>
              <a:rect l="l" t="t" r="r" b="b"/>
              <a:pathLst>
                <a:path w="326" h="77">
                  <a:moveTo>
                    <a:pt x="315" y="0"/>
                  </a:moveTo>
                  <a:lnTo>
                    <a:pt x="312" y="1"/>
                  </a:lnTo>
                  <a:lnTo>
                    <a:pt x="302" y="6"/>
                  </a:lnTo>
                  <a:lnTo>
                    <a:pt x="289" y="9"/>
                  </a:lnTo>
                  <a:lnTo>
                    <a:pt x="274" y="15"/>
                  </a:lnTo>
                  <a:lnTo>
                    <a:pt x="261" y="18"/>
                  </a:lnTo>
                  <a:lnTo>
                    <a:pt x="243" y="21"/>
                  </a:lnTo>
                  <a:lnTo>
                    <a:pt x="224" y="25"/>
                  </a:lnTo>
                  <a:lnTo>
                    <a:pt x="205" y="27"/>
                  </a:lnTo>
                  <a:lnTo>
                    <a:pt x="184" y="31"/>
                  </a:lnTo>
                  <a:lnTo>
                    <a:pt x="162" y="33"/>
                  </a:lnTo>
                  <a:lnTo>
                    <a:pt x="140" y="37"/>
                  </a:lnTo>
                  <a:lnTo>
                    <a:pt x="119" y="39"/>
                  </a:lnTo>
                  <a:lnTo>
                    <a:pt x="95" y="41"/>
                  </a:lnTo>
                  <a:lnTo>
                    <a:pt x="72" y="45"/>
                  </a:lnTo>
                  <a:lnTo>
                    <a:pt x="48" y="49"/>
                  </a:lnTo>
                  <a:lnTo>
                    <a:pt x="23" y="52"/>
                  </a:lnTo>
                  <a:lnTo>
                    <a:pt x="0" y="56"/>
                  </a:lnTo>
                  <a:lnTo>
                    <a:pt x="2" y="77"/>
                  </a:lnTo>
                  <a:lnTo>
                    <a:pt x="26" y="73"/>
                  </a:lnTo>
                  <a:lnTo>
                    <a:pt x="51" y="70"/>
                  </a:lnTo>
                  <a:lnTo>
                    <a:pt x="74" y="66"/>
                  </a:lnTo>
                  <a:lnTo>
                    <a:pt x="98" y="62"/>
                  </a:lnTo>
                  <a:lnTo>
                    <a:pt x="119" y="60"/>
                  </a:lnTo>
                  <a:lnTo>
                    <a:pt x="142" y="58"/>
                  </a:lnTo>
                  <a:lnTo>
                    <a:pt x="165" y="55"/>
                  </a:lnTo>
                  <a:lnTo>
                    <a:pt x="186" y="52"/>
                  </a:lnTo>
                  <a:lnTo>
                    <a:pt x="207" y="49"/>
                  </a:lnTo>
                  <a:lnTo>
                    <a:pt x="226" y="46"/>
                  </a:lnTo>
                  <a:lnTo>
                    <a:pt x="245" y="42"/>
                  </a:lnTo>
                  <a:lnTo>
                    <a:pt x="263" y="39"/>
                  </a:lnTo>
                  <a:lnTo>
                    <a:pt x="279" y="36"/>
                  </a:lnTo>
                  <a:lnTo>
                    <a:pt x="294" y="31"/>
                  </a:lnTo>
                  <a:lnTo>
                    <a:pt x="308" y="25"/>
                  </a:lnTo>
                  <a:lnTo>
                    <a:pt x="322" y="20"/>
                  </a:lnTo>
                  <a:lnTo>
                    <a:pt x="319" y="21"/>
                  </a:lnTo>
                  <a:lnTo>
                    <a:pt x="322" y="20"/>
                  </a:lnTo>
                  <a:lnTo>
                    <a:pt x="326" y="15"/>
                  </a:lnTo>
                  <a:lnTo>
                    <a:pt x="326" y="6"/>
                  </a:lnTo>
                  <a:lnTo>
                    <a:pt x="320" y="1"/>
                  </a:lnTo>
                  <a:lnTo>
                    <a:pt x="312" y="1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H="1">
              <a:off x="3797640" y="2572560"/>
              <a:ext cx="61560" cy="177480"/>
            </a:xfrm>
            <a:custGeom>
              <a:avLst/>
              <a:gdLst/>
              <a:ahLst/>
              <a:rect l="l" t="t" r="r" b="b"/>
              <a:pathLst>
                <a:path w="145" h="431">
                  <a:moveTo>
                    <a:pt x="0" y="8"/>
                  </a:moveTo>
                  <a:lnTo>
                    <a:pt x="0" y="8"/>
                  </a:lnTo>
                  <a:lnTo>
                    <a:pt x="15" y="48"/>
                  </a:lnTo>
                  <a:lnTo>
                    <a:pt x="36" y="104"/>
                  </a:lnTo>
                  <a:lnTo>
                    <a:pt x="60" y="170"/>
                  </a:lnTo>
                  <a:lnTo>
                    <a:pt x="83" y="240"/>
                  </a:lnTo>
                  <a:lnTo>
                    <a:pt x="105" y="306"/>
                  </a:lnTo>
                  <a:lnTo>
                    <a:pt x="118" y="361"/>
                  </a:lnTo>
                  <a:lnTo>
                    <a:pt x="124" y="402"/>
                  </a:lnTo>
                  <a:lnTo>
                    <a:pt x="124" y="410"/>
                  </a:lnTo>
                  <a:lnTo>
                    <a:pt x="128" y="431"/>
                  </a:lnTo>
                  <a:lnTo>
                    <a:pt x="145" y="402"/>
                  </a:lnTo>
                  <a:lnTo>
                    <a:pt x="139" y="359"/>
                  </a:lnTo>
                  <a:lnTo>
                    <a:pt x="126" y="301"/>
                  </a:lnTo>
                  <a:lnTo>
                    <a:pt x="105" y="234"/>
                  </a:lnTo>
                  <a:lnTo>
                    <a:pt x="78" y="164"/>
                  </a:lnTo>
                  <a:lnTo>
                    <a:pt x="55" y="96"/>
                  </a:lnTo>
                  <a:lnTo>
                    <a:pt x="34" y="4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H="1">
              <a:off x="3851640" y="2249640"/>
              <a:ext cx="192960" cy="326880"/>
            </a:xfrm>
            <a:custGeom>
              <a:avLst/>
              <a:gdLst/>
              <a:ahLst/>
              <a:rect l="l" t="t" r="r" b="b"/>
              <a:pathLst>
                <a:path w="448" h="790">
                  <a:moveTo>
                    <a:pt x="0" y="14"/>
                  </a:moveTo>
                  <a:lnTo>
                    <a:pt x="0" y="14"/>
                  </a:lnTo>
                  <a:lnTo>
                    <a:pt x="41" y="62"/>
                  </a:lnTo>
                  <a:lnTo>
                    <a:pt x="78" y="108"/>
                  </a:lnTo>
                  <a:lnTo>
                    <a:pt x="114" y="154"/>
                  </a:lnTo>
                  <a:lnTo>
                    <a:pt x="146" y="197"/>
                  </a:lnTo>
                  <a:lnTo>
                    <a:pt x="176" y="243"/>
                  </a:lnTo>
                  <a:lnTo>
                    <a:pt x="203" y="286"/>
                  </a:lnTo>
                  <a:lnTo>
                    <a:pt x="228" y="328"/>
                  </a:lnTo>
                  <a:lnTo>
                    <a:pt x="254" y="374"/>
                  </a:lnTo>
                  <a:lnTo>
                    <a:pt x="276" y="418"/>
                  </a:lnTo>
                  <a:lnTo>
                    <a:pt x="298" y="464"/>
                  </a:lnTo>
                  <a:lnTo>
                    <a:pt x="319" y="513"/>
                  </a:lnTo>
                  <a:lnTo>
                    <a:pt x="341" y="563"/>
                  </a:lnTo>
                  <a:lnTo>
                    <a:pt x="362" y="615"/>
                  </a:lnTo>
                  <a:lnTo>
                    <a:pt x="384" y="669"/>
                  </a:lnTo>
                  <a:lnTo>
                    <a:pt x="407" y="728"/>
                  </a:lnTo>
                  <a:lnTo>
                    <a:pt x="429" y="790"/>
                  </a:lnTo>
                  <a:lnTo>
                    <a:pt x="448" y="782"/>
                  </a:lnTo>
                  <a:lnTo>
                    <a:pt x="425" y="721"/>
                  </a:lnTo>
                  <a:lnTo>
                    <a:pt x="403" y="662"/>
                  </a:lnTo>
                  <a:lnTo>
                    <a:pt x="381" y="608"/>
                  </a:lnTo>
                  <a:lnTo>
                    <a:pt x="360" y="555"/>
                  </a:lnTo>
                  <a:lnTo>
                    <a:pt x="338" y="506"/>
                  </a:lnTo>
                  <a:lnTo>
                    <a:pt x="317" y="457"/>
                  </a:lnTo>
                  <a:lnTo>
                    <a:pt x="295" y="408"/>
                  </a:lnTo>
                  <a:lnTo>
                    <a:pt x="272" y="364"/>
                  </a:lnTo>
                  <a:lnTo>
                    <a:pt x="247" y="319"/>
                  </a:lnTo>
                  <a:lnTo>
                    <a:pt x="221" y="274"/>
                  </a:lnTo>
                  <a:lnTo>
                    <a:pt x="191" y="231"/>
                  </a:lnTo>
                  <a:lnTo>
                    <a:pt x="163" y="186"/>
                  </a:lnTo>
                  <a:lnTo>
                    <a:pt x="130" y="142"/>
                  </a:lnTo>
                  <a:lnTo>
                    <a:pt x="95" y="96"/>
                  </a:lnTo>
                  <a:lnTo>
                    <a:pt x="57" y="4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H="1">
              <a:off x="4035960" y="2224800"/>
              <a:ext cx="53280" cy="30960"/>
            </a:xfrm>
            <a:custGeom>
              <a:avLst/>
              <a:gdLst/>
              <a:ahLst/>
              <a:rect l="l" t="t" r="r" b="b"/>
              <a:pathLst>
                <a:path w="121" h="75">
                  <a:moveTo>
                    <a:pt x="13" y="18"/>
                  </a:moveTo>
                  <a:lnTo>
                    <a:pt x="5" y="18"/>
                  </a:lnTo>
                  <a:lnTo>
                    <a:pt x="20" y="24"/>
                  </a:lnTo>
                  <a:lnTo>
                    <a:pt x="34" y="31"/>
                  </a:lnTo>
                  <a:lnTo>
                    <a:pt x="48" y="37"/>
                  </a:lnTo>
                  <a:lnTo>
                    <a:pt x="61" y="44"/>
                  </a:lnTo>
                  <a:lnTo>
                    <a:pt x="75" y="51"/>
                  </a:lnTo>
                  <a:lnTo>
                    <a:pt x="86" y="57"/>
                  </a:lnTo>
                  <a:lnTo>
                    <a:pt x="97" y="66"/>
                  </a:lnTo>
                  <a:lnTo>
                    <a:pt x="105" y="75"/>
                  </a:lnTo>
                  <a:lnTo>
                    <a:pt x="121" y="61"/>
                  </a:lnTo>
                  <a:lnTo>
                    <a:pt x="111" y="50"/>
                  </a:lnTo>
                  <a:lnTo>
                    <a:pt x="98" y="41"/>
                  </a:lnTo>
                  <a:lnTo>
                    <a:pt x="84" y="32"/>
                  </a:lnTo>
                  <a:lnTo>
                    <a:pt x="70" y="25"/>
                  </a:lnTo>
                  <a:lnTo>
                    <a:pt x="56" y="18"/>
                  </a:lnTo>
                  <a:lnTo>
                    <a:pt x="41" y="12"/>
                  </a:lnTo>
                  <a:lnTo>
                    <a:pt x="27" y="5"/>
                  </a:lnTo>
                  <a:lnTo>
                    <a:pt x="14" y="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H="1">
              <a:off x="4082760" y="2224800"/>
              <a:ext cx="32040" cy="3672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21" y="82"/>
                  </a:moveTo>
                  <a:lnTo>
                    <a:pt x="21" y="83"/>
                  </a:lnTo>
                  <a:lnTo>
                    <a:pt x="26" y="73"/>
                  </a:lnTo>
                  <a:lnTo>
                    <a:pt x="29" y="62"/>
                  </a:lnTo>
                  <a:lnTo>
                    <a:pt x="33" y="53"/>
                  </a:lnTo>
                  <a:lnTo>
                    <a:pt x="40" y="45"/>
                  </a:lnTo>
                  <a:lnTo>
                    <a:pt x="48" y="35"/>
                  </a:lnTo>
                  <a:lnTo>
                    <a:pt x="57" y="28"/>
                  </a:lnTo>
                  <a:lnTo>
                    <a:pt x="67" y="23"/>
                  </a:lnTo>
                  <a:lnTo>
                    <a:pt x="76" y="18"/>
                  </a:lnTo>
                  <a:lnTo>
                    <a:pt x="69" y="0"/>
                  </a:lnTo>
                  <a:lnTo>
                    <a:pt x="57" y="4"/>
                  </a:lnTo>
                  <a:lnTo>
                    <a:pt x="46" y="12"/>
                  </a:lnTo>
                  <a:lnTo>
                    <a:pt x="33" y="22"/>
                  </a:lnTo>
                  <a:lnTo>
                    <a:pt x="25" y="31"/>
                  </a:lnTo>
                  <a:lnTo>
                    <a:pt x="17" y="42"/>
                  </a:lnTo>
                  <a:lnTo>
                    <a:pt x="10" y="54"/>
                  </a:lnTo>
                  <a:lnTo>
                    <a:pt x="5" y="66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88"/>
                  </a:lnTo>
                  <a:lnTo>
                    <a:pt x="10" y="92"/>
                  </a:lnTo>
                  <a:lnTo>
                    <a:pt x="18" y="90"/>
                  </a:lnTo>
                  <a:lnTo>
                    <a:pt x="21" y="83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H="1">
              <a:off x="4194360" y="2223000"/>
              <a:ext cx="334800" cy="1222560"/>
            </a:xfrm>
            <a:custGeom>
              <a:avLst/>
              <a:gdLst/>
              <a:ahLst/>
              <a:rect l="l" t="t" r="r" b="b"/>
              <a:pathLst>
                <a:path w="780" h="2954">
                  <a:moveTo>
                    <a:pt x="720" y="0"/>
                  </a:moveTo>
                  <a:lnTo>
                    <a:pt x="731" y="37"/>
                  </a:lnTo>
                  <a:lnTo>
                    <a:pt x="740" y="73"/>
                  </a:lnTo>
                  <a:lnTo>
                    <a:pt x="749" y="109"/>
                  </a:lnTo>
                  <a:lnTo>
                    <a:pt x="755" y="147"/>
                  </a:lnTo>
                  <a:lnTo>
                    <a:pt x="758" y="185"/>
                  </a:lnTo>
                  <a:lnTo>
                    <a:pt x="762" y="222"/>
                  </a:lnTo>
                  <a:lnTo>
                    <a:pt x="762" y="262"/>
                  </a:lnTo>
                  <a:lnTo>
                    <a:pt x="762" y="305"/>
                  </a:lnTo>
                  <a:lnTo>
                    <a:pt x="758" y="497"/>
                  </a:lnTo>
                  <a:lnTo>
                    <a:pt x="759" y="691"/>
                  </a:lnTo>
                  <a:lnTo>
                    <a:pt x="765" y="890"/>
                  </a:lnTo>
                  <a:lnTo>
                    <a:pt x="769" y="1087"/>
                  </a:lnTo>
                  <a:lnTo>
                    <a:pt x="774" y="1286"/>
                  </a:lnTo>
                  <a:lnTo>
                    <a:pt x="778" y="1483"/>
                  </a:lnTo>
                  <a:lnTo>
                    <a:pt x="780" y="1676"/>
                  </a:lnTo>
                  <a:lnTo>
                    <a:pt x="776" y="1866"/>
                  </a:lnTo>
                  <a:lnTo>
                    <a:pt x="772" y="2022"/>
                  </a:lnTo>
                  <a:lnTo>
                    <a:pt x="770" y="2194"/>
                  </a:lnTo>
                  <a:lnTo>
                    <a:pt x="768" y="2372"/>
                  </a:lnTo>
                  <a:lnTo>
                    <a:pt x="766" y="2544"/>
                  </a:lnTo>
                  <a:lnTo>
                    <a:pt x="762" y="2699"/>
                  </a:lnTo>
                  <a:lnTo>
                    <a:pt x="755" y="2827"/>
                  </a:lnTo>
                  <a:lnTo>
                    <a:pt x="745" y="2916"/>
                  </a:lnTo>
                  <a:lnTo>
                    <a:pt x="729" y="2954"/>
                  </a:lnTo>
                  <a:lnTo>
                    <a:pt x="706" y="2953"/>
                  </a:lnTo>
                  <a:lnTo>
                    <a:pt x="680" y="2949"/>
                  </a:lnTo>
                  <a:lnTo>
                    <a:pt x="654" y="2944"/>
                  </a:lnTo>
                  <a:lnTo>
                    <a:pt x="625" y="2938"/>
                  </a:lnTo>
                  <a:lnTo>
                    <a:pt x="596" y="2930"/>
                  </a:lnTo>
                  <a:lnTo>
                    <a:pt x="565" y="2920"/>
                  </a:lnTo>
                  <a:lnTo>
                    <a:pt x="535" y="2912"/>
                  </a:lnTo>
                  <a:lnTo>
                    <a:pt x="504" y="2899"/>
                  </a:lnTo>
                  <a:lnTo>
                    <a:pt x="473" y="2888"/>
                  </a:lnTo>
                  <a:lnTo>
                    <a:pt x="444" y="2877"/>
                  </a:lnTo>
                  <a:lnTo>
                    <a:pt x="414" y="2865"/>
                  </a:lnTo>
                  <a:lnTo>
                    <a:pt x="387" y="2854"/>
                  </a:lnTo>
                  <a:lnTo>
                    <a:pt x="359" y="2842"/>
                  </a:lnTo>
                  <a:lnTo>
                    <a:pt x="333" y="2831"/>
                  </a:lnTo>
                  <a:lnTo>
                    <a:pt x="310" y="2821"/>
                  </a:lnTo>
                  <a:lnTo>
                    <a:pt x="288" y="2811"/>
                  </a:lnTo>
                  <a:lnTo>
                    <a:pt x="348" y="1710"/>
                  </a:lnTo>
                  <a:lnTo>
                    <a:pt x="323" y="1704"/>
                  </a:lnTo>
                  <a:lnTo>
                    <a:pt x="298" y="1697"/>
                  </a:lnTo>
                  <a:lnTo>
                    <a:pt x="269" y="1691"/>
                  </a:lnTo>
                  <a:lnTo>
                    <a:pt x="240" y="1687"/>
                  </a:lnTo>
                  <a:lnTo>
                    <a:pt x="209" y="1682"/>
                  </a:lnTo>
                  <a:lnTo>
                    <a:pt x="179" y="1677"/>
                  </a:lnTo>
                  <a:lnTo>
                    <a:pt x="148" y="1671"/>
                  </a:lnTo>
                  <a:lnTo>
                    <a:pt x="118" y="1667"/>
                  </a:lnTo>
                  <a:lnTo>
                    <a:pt x="92" y="1660"/>
                  </a:lnTo>
                  <a:lnTo>
                    <a:pt x="67" y="1655"/>
                  </a:lnTo>
                  <a:lnTo>
                    <a:pt x="45" y="1648"/>
                  </a:lnTo>
                  <a:lnTo>
                    <a:pt x="26" y="1639"/>
                  </a:lnTo>
                  <a:lnTo>
                    <a:pt x="12" y="1630"/>
                  </a:lnTo>
                  <a:lnTo>
                    <a:pt x="3" y="1619"/>
                  </a:lnTo>
                  <a:lnTo>
                    <a:pt x="0" y="1608"/>
                  </a:lnTo>
                  <a:lnTo>
                    <a:pt x="3" y="1594"/>
                  </a:lnTo>
                  <a:lnTo>
                    <a:pt x="33" y="1498"/>
                  </a:lnTo>
                  <a:lnTo>
                    <a:pt x="59" y="1403"/>
                  </a:lnTo>
                  <a:lnTo>
                    <a:pt x="86" y="1307"/>
                  </a:lnTo>
                  <a:lnTo>
                    <a:pt x="109" y="1212"/>
                  </a:lnTo>
                  <a:lnTo>
                    <a:pt x="133" y="1116"/>
                  </a:lnTo>
                  <a:lnTo>
                    <a:pt x="155" y="1020"/>
                  </a:lnTo>
                  <a:lnTo>
                    <a:pt x="177" y="925"/>
                  </a:lnTo>
                  <a:lnTo>
                    <a:pt x="199" y="831"/>
                  </a:lnTo>
                  <a:lnTo>
                    <a:pt x="221" y="736"/>
                  </a:lnTo>
                  <a:lnTo>
                    <a:pt x="244" y="645"/>
                  </a:lnTo>
                  <a:lnTo>
                    <a:pt x="267" y="553"/>
                  </a:lnTo>
                  <a:lnTo>
                    <a:pt x="292" y="461"/>
                  </a:lnTo>
                  <a:lnTo>
                    <a:pt x="318" y="371"/>
                  </a:lnTo>
                  <a:lnTo>
                    <a:pt x="344" y="282"/>
                  </a:lnTo>
                  <a:lnTo>
                    <a:pt x="375" y="196"/>
                  </a:lnTo>
                  <a:lnTo>
                    <a:pt x="408" y="109"/>
                  </a:lnTo>
                  <a:lnTo>
                    <a:pt x="418" y="88"/>
                  </a:lnTo>
                  <a:lnTo>
                    <a:pt x="430" y="70"/>
                  </a:lnTo>
                  <a:lnTo>
                    <a:pt x="444" y="56"/>
                  </a:lnTo>
                  <a:lnTo>
                    <a:pt x="461" y="44"/>
                  </a:lnTo>
                  <a:lnTo>
                    <a:pt x="479" y="34"/>
                  </a:lnTo>
                  <a:lnTo>
                    <a:pt x="497" y="26"/>
                  </a:lnTo>
                  <a:lnTo>
                    <a:pt x="517" y="19"/>
                  </a:lnTo>
                  <a:lnTo>
                    <a:pt x="538" y="15"/>
                  </a:lnTo>
                  <a:lnTo>
                    <a:pt x="560" y="11"/>
                  </a:lnTo>
                  <a:lnTo>
                    <a:pt x="582" y="9"/>
                  </a:lnTo>
                  <a:lnTo>
                    <a:pt x="605" y="7"/>
                  </a:lnTo>
                  <a:lnTo>
                    <a:pt x="629" y="6"/>
                  </a:lnTo>
                  <a:lnTo>
                    <a:pt x="652" y="6"/>
                  </a:lnTo>
                  <a:lnTo>
                    <a:pt x="675" y="5"/>
                  </a:lnTo>
                  <a:lnTo>
                    <a:pt x="698" y="4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H="1">
              <a:off x="4198680" y="2223000"/>
              <a:ext cx="25560" cy="126000"/>
            </a:xfrm>
            <a:custGeom>
              <a:avLst/>
              <a:gdLst/>
              <a:ahLst/>
              <a:rect l="l" t="t" r="r" b="b"/>
              <a:pathLst>
                <a:path w="62" h="307">
                  <a:moveTo>
                    <a:pt x="62" y="307"/>
                  </a:moveTo>
                  <a:lnTo>
                    <a:pt x="62" y="307"/>
                  </a:lnTo>
                  <a:lnTo>
                    <a:pt x="62" y="264"/>
                  </a:lnTo>
                  <a:lnTo>
                    <a:pt x="62" y="224"/>
                  </a:lnTo>
                  <a:lnTo>
                    <a:pt x="59" y="187"/>
                  </a:lnTo>
                  <a:lnTo>
                    <a:pt x="56" y="148"/>
                  </a:lnTo>
                  <a:lnTo>
                    <a:pt x="49" y="110"/>
                  </a:lnTo>
                  <a:lnTo>
                    <a:pt x="41" y="72"/>
                  </a:lnTo>
                  <a:lnTo>
                    <a:pt x="32" y="37"/>
                  </a:lnTo>
                  <a:lnTo>
                    <a:pt x="21" y="0"/>
                  </a:lnTo>
                  <a:lnTo>
                    <a:pt x="0" y="6"/>
                  </a:lnTo>
                  <a:lnTo>
                    <a:pt x="10" y="42"/>
                  </a:lnTo>
                  <a:lnTo>
                    <a:pt x="20" y="77"/>
                  </a:lnTo>
                  <a:lnTo>
                    <a:pt x="28" y="112"/>
                  </a:lnTo>
                  <a:lnTo>
                    <a:pt x="35" y="150"/>
                  </a:lnTo>
                  <a:lnTo>
                    <a:pt x="38" y="187"/>
                  </a:lnTo>
                  <a:lnTo>
                    <a:pt x="41" y="224"/>
                  </a:lnTo>
                  <a:lnTo>
                    <a:pt x="41" y="264"/>
                  </a:lnTo>
                  <a:lnTo>
                    <a:pt x="41" y="307"/>
                  </a:lnTo>
                  <a:lnTo>
                    <a:pt x="41" y="307"/>
                  </a:lnTo>
                  <a:lnTo>
                    <a:pt x="6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H="1">
              <a:off x="4190400" y="2349000"/>
              <a:ext cx="16920" cy="644760"/>
            </a:xfrm>
            <a:custGeom>
              <a:avLst/>
              <a:gdLst/>
              <a:ahLst/>
              <a:rect l="l" t="t" r="r" b="b"/>
              <a:pathLst>
                <a:path w="42" h="1561">
                  <a:moveTo>
                    <a:pt x="39" y="1561"/>
                  </a:moveTo>
                  <a:lnTo>
                    <a:pt x="39" y="1561"/>
                  </a:lnTo>
                  <a:lnTo>
                    <a:pt x="42" y="1371"/>
                  </a:lnTo>
                  <a:lnTo>
                    <a:pt x="41" y="1178"/>
                  </a:lnTo>
                  <a:lnTo>
                    <a:pt x="37" y="981"/>
                  </a:lnTo>
                  <a:lnTo>
                    <a:pt x="32" y="782"/>
                  </a:lnTo>
                  <a:lnTo>
                    <a:pt x="27" y="585"/>
                  </a:lnTo>
                  <a:lnTo>
                    <a:pt x="22" y="386"/>
                  </a:lnTo>
                  <a:lnTo>
                    <a:pt x="21" y="192"/>
                  </a:lnTo>
                  <a:lnTo>
                    <a:pt x="24" y="0"/>
                  </a:lnTo>
                  <a:lnTo>
                    <a:pt x="3" y="0"/>
                  </a:lnTo>
                  <a:lnTo>
                    <a:pt x="0" y="192"/>
                  </a:lnTo>
                  <a:lnTo>
                    <a:pt x="1" y="386"/>
                  </a:lnTo>
                  <a:lnTo>
                    <a:pt x="6" y="585"/>
                  </a:lnTo>
                  <a:lnTo>
                    <a:pt x="10" y="782"/>
                  </a:lnTo>
                  <a:lnTo>
                    <a:pt x="16" y="981"/>
                  </a:lnTo>
                  <a:lnTo>
                    <a:pt x="20" y="1178"/>
                  </a:lnTo>
                  <a:lnTo>
                    <a:pt x="21" y="1371"/>
                  </a:lnTo>
                  <a:lnTo>
                    <a:pt x="18" y="1561"/>
                  </a:lnTo>
                  <a:lnTo>
                    <a:pt x="18" y="1561"/>
                  </a:lnTo>
                  <a:lnTo>
                    <a:pt x="39" y="15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H="1">
              <a:off x="4192200" y="2994120"/>
              <a:ext cx="27720" cy="455400"/>
            </a:xfrm>
            <a:custGeom>
              <a:avLst/>
              <a:gdLst/>
              <a:ahLst/>
              <a:rect l="l" t="t" r="r" b="b"/>
              <a:pathLst>
                <a:path w="68" h="1098">
                  <a:moveTo>
                    <a:pt x="10" y="1098"/>
                  </a:moveTo>
                  <a:lnTo>
                    <a:pt x="15" y="1097"/>
                  </a:lnTo>
                  <a:lnTo>
                    <a:pt x="36" y="1051"/>
                  </a:lnTo>
                  <a:lnTo>
                    <a:pt x="47" y="961"/>
                  </a:lnTo>
                  <a:lnTo>
                    <a:pt x="53" y="833"/>
                  </a:lnTo>
                  <a:lnTo>
                    <a:pt x="57" y="678"/>
                  </a:lnTo>
                  <a:lnTo>
                    <a:pt x="59" y="506"/>
                  </a:lnTo>
                  <a:lnTo>
                    <a:pt x="62" y="328"/>
                  </a:lnTo>
                  <a:lnTo>
                    <a:pt x="64" y="156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3" y="156"/>
                  </a:lnTo>
                  <a:lnTo>
                    <a:pt x="40" y="328"/>
                  </a:lnTo>
                  <a:lnTo>
                    <a:pt x="38" y="506"/>
                  </a:lnTo>
                  <a:lnTo>
                    <a:pt x="36" y="678"/>
                  </a:lnTo>
                  <a:lnTo>
                    <a:pt x="32" y="833"/>
                  </a:lnTo>
                  <a:lnTo>
                    <a:pt x="26" y="961"/>
                  </a:lnTo>
                  <a:lnTo>
                    <a:pt x="15" y="1049"/>
                  </a:lnTo>
                  <a:lnTo>
                    <a:pt x="6" y="1078"/>
                  </a:lnTo>
                  <a:lnTo>
                    <a:pt x="10" y="1077"/>
                  </a:lnTo>
                  <a:lnTo>
                    <a:pt x="6" y="1078"/>
                  </a:lnTo>
                  <a:lnTo>
                    <a:pt x="0" y="1084"/>
                  </a:lnTo>
                  <a:lnTo>
                    <a:pt x="1" y="1092"/>
                  </a:lnTo>
                  <a:lnTo>
                    <a:pt x="7" y="1097"/>
                  </a:lnTo>
                  <a:lnTo>
                    <a:pt x="15" y="1097"/>
                  </a:lnTo>
                  <a:lnTo>
                    <a:pt x="10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>
              <a:off x="4215960" y="3381120"/>
              <a:ext cx="192960" cy="68400"/>
            </a:xfrm>
            <a:custGeom>
              <a:avLst/>
              <a:gdLst/>
              <a:ahLst/>
              <a:rect l="l" t="t" r="r" b="b"/>
              <a:pathLst>
                <a:path w="451" h="162">
                  <a:moveTo>
                    <a:pt x="0" y="9"/>
                  </a:moveTo>
                  <a:lnTo>
                    <a:pt x="7" y="19"/>
                  </a:lnTo>
                  <a:lnTo>
                    <a:pt x="28" y="27"/>
                  </a:lnTo>
                  <a:lnTo>
                    <a:pt x="52" y="38"/>
                  </a:lnTo>
                  <a:lnTo>
                    <a:pt x="78" y="48"/>
                  </a:lnTo>
                  <a:lnTo>
                    <a:pt x="104" y="61"/>
                  </a:lnTo>
                  <a:lnTo>
                    <a:pt x="133" y="73"/>
                  </a:lnTo>
                  <a:lnTo>
                    <a:pt x="163" y="84"/>
                  </a:lnTo>
                  <a:lnTo>
                    <a:pt x="192" y="96"/>
                  </a:lnTo>
                  <a:lnTo>
                    <a:pt x="223" y="107"/>
                  </a:lnTo>
                  <a:lnTo>
                    <a:pt x="253" y="120"/>
                  </a:lnTo>
                  <a:lnTo>
                    <a:pt x="285" y="130"/>
                  </a:lnTo>
                  <a:lnTo>
                    <a:pt x="316" y="138"/>
                  </a:lnTo>
                  <a:lnTo>
                    <a:pt x="345" y="147"/>
                  </a:lnTo>
                  <a:lnTo>
                    <a:pt x="375" y="153"/>
                  </a:lnTo>
                  <a:lnTo>
                    <a:pt x="401" y="157"/>
                  </a:lnTo>
                  <a:lnTo>
                    <a:pt x="428" y="161"/>
                  </a:lnTo>
                  <a:lnTo>
                    <a:pt x="451" y="162"/>
                  </a:lnTo>
                  <a:lnTo>
                    <a:pt x="451" y="141"/>
                  </a:lnTo>
                  <a:lnTo>
                    <a:pt x="428" y="140"/>
                  </a:lnTo>
                  <a:lnTo>
                    <a:pt x="403" y="136"/>
                  </a:lnTo>
                  <a:lnTo>
                    <a:pt x="377" y="132"/>
                  </a:lnTo>
                  <a:lnTo>
                    <a:pt x="349" y="126"/>
                  </a:lnTo>
                  <a:lnTo>
                    <a:pt x="320" y="117"/>
                  </a:lnTo>
                  <a:lnTo>
                    <a:pt x="289" y="108"/>
                  </a:lnTo>
                  <a:lnTo>
                    <a:pt x="260" y="98"/>
                  </a:lnTo>
                  <a:lnTo>
                    <a:pt x="229" y="88"/>
                  </a:lnTo>
                  <a:lnTo>
                    <a:pt x="198" y="77"/>
                  </a:lnTo>
                  <a:lnTo>
                    <a:pt x="170" y="65"/>
                  </a:lnTo>
                  <a:lnTo>
                    <a:pt x="140" y="54"/>
                  </a:lnTo>
                  <a:lnTo>
                    <a:pt x="112" y="42"/>
                  </a:lnTo>
                  <a:lnTo>
                    <a:pt x="84" y="30"/>
                  </a:lnTo>
                  <a:lnTo>
                    <a:pt x="59" y="20"/>
                  </a:lnTo>
                  <a:lnTo>
                    <a:pt x="35" y="9"/>
                  </a:lnTo>
                  <a:lnTo>
                    <a:pt x="14" y="0"/>
                  </a:lnTo>
                  <a:lnTo>
                    <a:pt x="21" y="9"/>
                  </a:lnTo>
                  <a:lnTo>
                    <a:pt x="14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1" y="13"/>
                  </a:lnTo>
                  <a:lnTo>
                    <a:pt x="7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H="1">
              <a:off x="4375080" y="2926080"/>
              <a:ext cx="33840" cy="459000"/>
            </a:xfrm>
            <a:custGeom>
              <a:avLst/>
              <a:gdLst/>
              <a:ahLst/>
              <a:rect l="l" t="t" r="r" b="b"/>
              <a:pathLst>
                <a:path w="80" h="1112">
                  <a:moveTo>
                    <a:pt x="65" y="22"/>
                  </a:moveTo>
                  <a:lnTo>
                    <a:pt x="59" y="11"/>
                  </a:lnTo>
                  <a:lnTo>
                    <a:pt x="0" y="1112"/>
                  </a:lnTo>
                  <a:lnTo>
                    <a:pt x="21" y="1112"/>
                  </a:lnTo>
                  <a:lnTo>
                    <a:pt x="80" y="11"/>
                  </a:lnTo>
                  <a:lnTo>
                    <a:pt x="73" y="0"/>
                  </a:lnTo>
                  <a:lnTo>
                    <a:pt x="80" y="11"/>
                  </a:lnTo>
                  <a:lnTo>
                    <a:pt x="76" y="3"/>
                  </a:lnTo>
                  <a:lnTo>
                    <a:pt x="70" y="0"/>
                  </a:lnTo>
                  <a:lnTo>
                    <a:pt x="62" y="3"/>
                  </a:lnTo>
                  <a:lnTo>
                    <a:pt x="59" y="11"/>
                  </a:lnTo>
                  <a:lnTo>
                    <a:pt x="6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>
              <a:off x="4379760" y="2878200"/>
              <a:ext cx="154080" cy="56160"/>
            </a:xfrm>
            <a:custGeom>
              <a:avLst/>
              <a:gdLst/>
              <a:ahLst/>
              <a:rect l="l" t="t" r="r" b="b"/>
              <a:pathLst>
                <a:path w="361" h="137">
                  <a:moveTo>
                    <a:pt x="3" y="7"/>
                  </a:moveTo>
                  <a:lnTo>
                    <a:pt x="4" y="6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54"/>
                  </a:lnTo>
                  <a:lnTo>
                    <a:pt x="31" y="65"/>
                  </a:lnTo>
                  <a:lnTo>
                    <a:pt x="51" y="73"/>
                  </a:lnTo>
                  <a:lnTo>
                    <a:pt x="75" y="82"/>
                  </a:lnTo>
                  <a:lnTo>
                    <a:pt x="99" y="87"/>
                  </a:lnTo>
                  <a:lnTo>
                    <a:pt x="127" y="93"/>
                  </a:lnTo>
                  <a:lnTo>
                    <a:pt x="157" y="98"/>
                  </a:lnTo>
                  <a:lnTo>
                    <a:pt x="188" y="104"/>
                  </a:lnTo>
                  <a:lnTo>
                    <a:pt x="218" y="108"/>
                  </a:lnTo>
                  <a:lnTo>
                    <a:pt x="249" y="113"/>
                  </a:lnTo>
                  <a:lnTo>
                    <a:pt x="278" y="118"/>
                  </a:lnTo>
                  <a:lnTo>
                    <a:pt x="307" y="124"/>
                  </a:lnTo>
                  <a:lnTo>
                    <a:pt x="331" y="130"/>
                  </a:lnTo>
                  <a:lnTo>
                    <a:pt x="353" y="137"/>
                  </a:lnTo>
                  <a:lnTo>
                    <a:pt x="361" y="115"/>
                  </a:lnTo>
                  <a:lnTo>
                    <a:pt x="336" y="108"/>
                  </a:lnTo>
                  <a:lnTo>
                    <a:pt x="309" y="103"/>
                  </a:lnTo>
                  <a:lnTo>
                    <a:pt x="281" y="96"/>
                  </a:lnTo>
                  <a:lnTo>
                    <a:pt x="251" y="92"/>
                  </a:lnTo>
                  <a:lnTo>
                    <a:pt x="220" y="87"/>
                  </a:lnTo>
                  <a:lnTo>
                    <a:pt x="190" y="83"/>
                  </a:lnTo>
                  <a:lnTo>
                    <a:pt x="159" y="76"/>
                  </a:lnTo>
                  <a:lnTo>
                    <a:pt x="130" y="72"/>
                  </a:lnTo>
                  <a:lnTo>
                    <a:pt x="104" y="66"/>
                  </a:lnTo>
                  <a:lnTo>
                    <a:pt x="79" y="61"/>
                  </a:lnTo>
                  <a:lnTo>
                    <a:pt x="58" y="54"/>
                  </a:lnTo>
                  <a:lnTo>
                    <a:pt x="41" y="46"/>
                  </a:lnTo>
                  <a:lnTo>
                    <a:pt x="28" y="37"/>
                  </a:lnTo>
                  <a:lnTo>
                    <a:pt x="23" y="31"/>
                  </a:lnTo>
                  <a:lnTo>
                    <a:pt x="21" y="2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3" y="5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H="1">
              <a:off x="4350960" y="2266200"/>
              <a:ext cx="180360" cy="616320"/>
            </a:xfrm>
            <a:custGeom>
              <a:avLst/>
              <a:gdLst/>
              <a:ahLst/>
              <a:rect l="l" t="t" r="r" b="b"/>
              <a:pathLst>
                <a:path w="423" h="1490">
                  <a:moveTo>
                    <a:pt x="405" y="0"/>
                  </a:moveTo>
                  <a:lnTo>
                    <a:pt x="405" y="0"/>
                  </a:lnTo>
                  <a:lnTo>
                    <a:pt x="374" y="86"/>
                  </a:lnTo>
                  <a:lnTo>
                    <a:pt x="341" y="174"/>
                  </a:lnTo>
                  <a:lnTo>
                    <a:pt x="314" y="263"/>
                  </a:lnTo>
                  <a:lnTo>
                    <a:pt x="288" y="353"/>
                  </a:lnTo>
                  <a:lnTo>
                    <a:pt x="264" y="445"/>
                  </a:lnTo>
                  <a:lnTo>
                    <a:pt x="241" y="536"/>
                  </a:lnTo>
                  <a:lnTo>
                    <a:pt x="217" y="628"/>
                  </a:lnTo>
                  <a:lnTo>
                    <a:pt x="195" y="723"/>
                  </a:lnTo>
                  <a:lnTo>
                    <a:pt x="173" y="817"/>
                  </a:lnTo>
                  <a:lnTo>
                    <a:pt x="152" y="911"/>
                  </a:lnTo>
                  <a:lnTo>
                    <a:pt x="130" y="1007"/>
                  </a:lnTo>
                  <a:lnTo>
                    <a:pt x="105" y="1102"/>
                  </a:lnTo>
                  <a:lnTo>
                    <a:pt x="82" y="1199"/>
                  </a:lnTo>
                  <a:lnTo>
                    <a:pt x="57" y="1294"/>
                  </a:lnTo>
                  <a:lnTo>
                    <a:pt x="29" y="1390"/>
                  </a:lnTo>
                  <a:lnTo>
                    <a:pt x="0" y="1485"/>
                  </a:lnTo>
                  <a:lnTo>
                    <a:pt x="21" y="1490"/>
                  </a:lnTo>
                  <a:lnTo>
                    <a:pt x="50" y="1394"/>
                  </a:lnTo>
                  <a:lnTo>
                    <a:pt x="78" y="1299"/>
                  </a:lnTo>
                  <a:lnTo>
                    <a:pt x="103" y="1203"/>
                  </a:lnTo>
                  <a:lnTo>
                    <a:pt x="127" y="1108"/>
                  </a:lnTo>
                  <a:lnTo>
                    <a:pt x="151" y="1012"/>
                  </a:lnTo>
                  <a:lnTo>
                    <a:pt x="173" y="917"/>
                  </a:lnTo>
                  <a:lnTo>
                    <a:pt x="194" y="823"/>
                  </a:lnTo>
                  <a:lnTo>
                    <a:pt x="216" y="728"/>
                  </a:lnTo>
                  <a:lnTo>
                    <a:pt x="238" y="634"/>
                  </a:lnTo>
                  <a:lnTo>
                    <a:pt x="262" y="542"/>
                  </a:lnTo>
                  <a:lnTo>
                    <a:pt x="285" y="450"/>
                  </a:lnTo>
                  <a:lnTo>
                    <a:pt x="309" y="357"/>
                  </a:lnTo>
                  <a:lnTo>
                    <a:pt x="336" y="267"/>
                  </a:lnTo>
                  <a:lnTo>
                    <a:pt x="363" y="180"/>
                  </a:lnTo>
                  <a:lnTo>
                    <a:pt x="392" y="93"/>
                  </a:lnTo>
                  <a:lnTo>
                    <a:pt x="423" y="7"/>
                  </a:lnTo>
                  <a:lnTo>
                    <a:pt x="423" y="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H="1">
              <a:off x="4215600" y="2218680"/>
              <a:ext cx="141480" cy="51480"/>
            </a:xfrm>
            <a:custGeom>
              <a:avLst/>
              <a:gdLst/>
              <a:ahLst/>
              <a:rect l="l" t="t" r="r" b="b"/>
              <a:pathLst>
                <a:path w="333" h="123">
                  <a:moveTo>
                    <a:pt x="333" y="8"/>
                  </a:moveTo>
                  <a:lnTo>
                    <a:pt x="322" y="0"/>
                  </a:lnTo>
                  <a:lnTo>
                    <a:pt x="300" y="3"/>
                  </a:lnTo>
                  <a:lnTo>
                    <a:pt x="277" y="4"/>
                  </a:lnTo>
                  <a:lnTo>
                    <a:pt x="254" y="5"/>
                  </a:lnTo>
                  <a:lnTo>
                    <a:pt x="231" y="5"/>
                  </a:lnTo>
                  <a:lnTo>
                    <a:pt x="207" y="6"/>
                  </a:lnTo>
                  <a:lnTo>
                    <a:pt x="184" y="8"/>
                  </a:lnTo>
                  <a:lnTo>
                    <a:pt x="160" y="10"/>
                  </a:lnTo>
                  <a:lnTo>
                    <a:pt x="139" y="15"/>
                  </a:lnTo>
                  <a:lnTo>
                    <a:pt x="116" y="19"/>
                  </a:lnTo>
                  <a:lnTo>
                    <a:pt x="95" y="26"/>
                  </a:lnTo>
                  <a:lnTo>
                    <a:pt x="75" y="35"/>
                  </a:lnTo>
                  <a:lnTo>
                    <a:pt x="56" y="45"/>
                  </a:lnTo>
                  <a:lnTo>
                    <a:pt x="38" y="58"/>
                  </a:lnTo>
                  <a:lnTo>
                    <a:pt x="24" y="74"/>
                  </a:lnTo>
                  <a:lnTo>
                    <a:pt x="11" y="94"/>
                  </a:lnTo>
                  <a:lnTo>
                    <a:pt x="0" y="116"/>
                  </a:lnTo>
                  <a:lnTo>
                    <a:pt x="18" y="123"/>
                  </a:lnTo>
                  <a:lnTo>
                    <a:pt x="30" y="103"/>
                  </a:lnTo>
                  <a:lnTo>
                    <a:pt x="40" y="88"/>
                  </a:lnTo>
                  <a:lnTo>
                    <a:pt x="53" y="75"/>
                  </a:lnTo>
                  <a:lnTo>
                    <a:pt x="68" y="61"/>
                  </a:lnTo>
                  <a:lnTo>
                    <a:pt x="85" y="54"/>
                  </a:lnTo>
                  <a:lnTo>
                    <a:pt x="103" y="45"/>
                  </a:lnTo>
                  <a:lnTo>
                    <a:pt x="122" y="40"/>
                  </a:lnTo>
                  <a:lnTo>
                    <a:pt x="142" y="36"/>
                  </a:lnTo>
                  <a:lnTo>
                    <a:pt x="163" y="33"/>
                  </a:lnTo>
                  <a:lnTo>
                    <a:pt x="184" y="29"/>
                  </a:lnTo>
                  <a:lnTo>
                    <a:pt x="207" y="27"/>
                  </a:lnTo>
                  <a:lnTo>
                    <a:pt x="231" y="26"/>
                  </a:lnTo>
                  <a:lnTo>
                    <a:pt x="254" y="26"/>
                  </a:lnTo>
                  <a:lnTo>
                    <a:pt x="277" y="25"/>
                  </a:lnTo>
                  <a:lnTo>
                    <a:pt x="300" y="24"/>
                  </a:lnTo>
                  <a:lnTo>
                    <a:pt x="322" y="21"/>
                  </a:lnTo>
                  <a:lnTo>
                    <a:pt x="312" y="14"/>
                  </a:lnTo>
                  <a:lnTo>
                    <a:pt x="322" y="21"/>
                  </a:lnTo>
                  <a:lnTo>
                    <a:pt x="331" y="18"/>
                  </a:lnTo>
                  <a:lnTo>
                    <a:pt x="333" y="10"/>
                  </a:lnTo>
                  <a:lnTo>
                    <a:pt x="331" y="4"/>
                  </a:lnTo>
                  <a:lnTo>
                    <a:pt x="322" y="0"/>
                  </a:lnTo>
                  <a:lnTo>
                    <a:pt x="3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H="1">
              <a:off x="4055400" y="2220480"/>
              <a:ext cx="55440" cy="434160"/>
            </a:xfrm>
            <a:custGeom>
              <a:avLst/>
              <a:gdLst/>
              <a:ahLst/>
              <a:rect l="l" t="t" r="r" b="b"/>
              <a:pathLst>
                <a:path w="132" h="1049">
                  <a:moveTo>
                    <a:pt x="62" y="2"/>
                  </a:moveTo>
                  <a:lnTo>
                    <a:pt x="73" y="32"/>
                  </a:lnTo>
                  <a:lnTo>
                    <a:pt x="83" y="72"/>
                  </a:lnTo>
                  <a:lnTo>
                    <a:pt x="95" y="120"/>
                  </a:lnTo>
                  <a:lnTo>
                    <a:pt x="105" y="174"/>
                  </a:lnTo>
                  <a:lnTo>
                    <a:pt x="115" y="230"/>
                  </a:lnTo>
                  <a:lnTo>
                    <a:pt x="123" y="285"/>
                  </a:lnTo>
                  <a:lnTo>
                    <a:pt x="130" y="338"/>
                  </a:lnTo>
                  <a:lnTo>
                    <a:pt x="132" y="384"/>
                  </a:lnTo>
                  <a:lnTo>
                    <a:pt x="130" y="392"/>
                  </a:lnTo>
                  <a:lnTo>
                    <a:pt x="124" y="396"/>
                  </a:lnTo>
                  <a:lnTo>
                    <a:pt x="118" y="401"/>
                  </a:lnTo>
                  <a:lnTo>
                    <a:pt x="110" y="403"/>
                  </a:lnTo>
                  <a:lnTo>
                    <a:pt x="101" y="406"/>
                  </a:lnTo>
                  <a:lnTo>
                    <a:pt x="93" y="409"/>
                  </a:lnTo>
                  <a:lnTo>
                    <a:pt x="87" y="414"/>
                  </a:lnTo>
                  <a:lnTo>
                    <a:pt x="84" y="419"/>
                  </a:lnTo>
                  <a:lnTo>
                    <a:pt x="92" y="426"/>
                  </a:lnTo>
                  <a:lnTo>
                    <a:pt x="100" y="430"/>
                  </a:lnTo>
                  <a:lnTo>
                    <a:pt x="109" y="434"/>
                  </a:lnTo>
                  <a:lnTo>
                    <a:pt x="116" y="437"/>
                  </a:lnTo>
                  <a:lnTo>
                    <a:pt x="123" y="440"/>
                  </a:lnTo>
                  <a:lnTo>
                    <a:pt x="130" y="448"/>
                  </a:lnTo>
                  <a:lnTo>
                    <a:pt x="132" y="456"/>
                  </a:lnTo>
                  <a:lnTo>
                    <a:pt x="131" y="469"/>
                  </a:lnTo>
                  <a:lnTo>
                    <a:pt x="122" y="534"/>
                  </a:lnTo>
                  <a:lnTo>
                    <a:pt x="116" y="599"/>
                  </a:lnTo>
                  <a:lnTo>
                    <a:pt x="111" y="663"/>
                  </a:lnTo>
                  <a:lnTo>
                    <a:pt x="104" y="728"/>
                  </a:lnTo>
                  <a:lnTo>
                    <a:pt x="98" y="791"/>
                  </a:lnTo>
                  <a:lnTo>
                    <a:pt x="90" y="855"/>
                  </a:lnTo>
                  <a:lnTo>
                    <a:pt x="80" y="918"/>
                  </a:lnTo>
                  <a:lnTo>
                    <a:pt x="67" y="980"/>
                  </a:lnTo>
                  <a:lnTo>
                    <a:pt x="63" y="998"/>
                  </a:lnTo>
                  <a:lnTo>
                    <a:pt x="57" y="1015"/>
                  </a:lnTo>
                  <a:lnTo>
                    <a:pt x="49" y="1032"/>
                  </a:lnTo>
                  <a:lnTo>
                    <a:pt x="46" y="1049"/>
                  </a:lnTo>
                  <a:lnTo>
                    <a:pt x="41" y="880"/>
                  </a:lnTo>
                  <a:lnTo>
                    <a:pt x="30" y="705"/>
                  </a:lnTo>
                  <a:lnTo>
                    <a:pt x="19" y="530"/>
                  </a:lnTo>
                  <a:lnTo>
                    <a:pt x="14" y="358"/>
                  </a:lnTo>
                  <a:lnTo>
                    <a:pt x="11" y="278"/>
                  </a:lnTo>
                  <a:lnTo>
                    <a:pt x="7" y="193"/>
                  </a:lnTo>
                  <a:lnTo>
                    <a:pt x="2" y="111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9" y="23"/>
                  </a:lnTo>
                  <a:lnTo>
                    <a:pt x="18" y="16"/>
                  </a:lnTo>
                  <a:lnTo>
                    <a:pt x="28" y="11"/>
                  </a:lnTo>
                  <a:lnTo>
                    <a:pt x="39" y="4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H="1">
              <a:off x="4051080" y="2220480"/>
              <a:ext cx="38160" cy="159480"/>
            </a:xfrm>
            <a:custGeom>
              <a:avLst/>
              <a:gdLst/>
              <a:ahLst/>
              <a:rect l="l" t="t" r="r" b="b"/>
              <a:pathLst>
                <a:path w="89" h="385">
                  <a:moveTo>
                    <a:pt x="89" y="385"/>
                  </a:moveTo>
                  <a:lnTo>
                    <a:pt x="89" y="385"/>
                  </a:lnTo>
                  <a:lnTo>
                    <a:pt x="87" y="339"/>
                  </a:lnTo>
                  <a:lnTo>
                    <a:pt x="81" y="285"/>
                  </a:lnTo>
                  <a:lnTo>
                    <a:pt x="72" y="229"/>
                  </a:lnTo>
                  <a:lnTo>
                    <a:pt x="63" y="174"/>
                  </a:lnTo>
                  <a:lnTo>
                    <a:pt x="52" y="120"/>
                  </a:lnTo>
                  <a:lnTo>
                    <a:pt x="41" y="71"/>
                  </a:lnTo>
                  <a:lnTo>
                    <a:pt x="30" y="31"/>
                  </a:lnTo>
                  <a:lnTo>
                    <a:pt x="19" y="0"/>
                  </a:lnTo>
                  <a:lnTo>
                    <a:pt x="0" y="6"/>
                  </a:lnTo>
                  <a:lnTo>
                    <a:pt x="9" y="35"/>
                  </a:lnTo>
                  <a:lnTo>
                    <a:pt x="20" y="75"/>
                  </a:lnTo>
                  <a:lnTo>
                    <a:pt x="31" y="123"/>
                  </a:lnTo>
                  <a:lnTo>
                    <a:pt x="42" y="176"/>
                  </a:lnTo>
                  <a:lnTo>
                    <a:pt x="51" y="232"/>
                  </a:lnTo>
                  <a:lnTo>
                    <a:pt x="60" y="287"/>
                  </a:lnTo>
                  <a:lnTo>
                    <a:pt x="66" y="339"/>
                  </a:lnTo>
                  <a:lnTo>
                    <a:pt x="68" y="385"/>
                  </a:lnTo>
                  <a:lnTo>
                    <a:pt x="68" y="385"/>
                  </a:lnTo>
                  <a:lnTo>
                    <a:pt x="89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H="1">
              <a:off x="4050720" y="2379960"/>
              <a:ext cx="29880" cy="1800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19" y="29"/>
                  </a:moveTo>
                  <a:lnTo>
                    <a:pt x="21" y="37"/>
                  </a:lnTo>
                  <a:lnTo>
                    <a:pt x="21" y="35"/>
                  </a:lnTo>
                  <a:lnTo>
                    <a:pt x="24" y="34"/>
                  </a:lnTo>
                  <a:lnTo>
                    <a:pt x="30" y="31"/>
                  </a:lnTo>
                  <a:lnTo>
                    <a:pt x="38" y="30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5" y="12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6" y="3"/>
                  </a:lnTo>
                  <a:lnTo>
                    <a:pt x="45" y="4"/>
                  </a:lnTo>
                  <a:lnTo>
                    <a:pt x="40" y="8"/>
                  </a:lnTo>
                  <a:lnTo>
                    <a:pt x="33" y="9"/>
                  </a:lnTo>
                  <a:lnTo>
                    <a:pt x="24" y="12"/>
                  </a:lnTo>
                  <a:lnTo>
                    <a:pt x="14" y="15"/>
                  </a:lnTo>
                  <a:lnTo>
                    <a:pt x="5" y="24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9" y="46"/>
                  </a:lnTo>
                  <a:lnTo>
                    <a:pt x="18" y="44"/>
                  </a:lnTo>
                  <a:lnTo>
                    <a:pt x="21" y="37"/>
                  </a:lnTo>
                  <a:lnTo>
                    <a:pt x="1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H="1">
              <a:off x="4050360" y="2390400"/>
              <a:ext cx="27720" cy="2880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64" y="57"/>
                  </a:moveTo>
                  <a:lnTo>
                    <a:pt x="64" y="57"/>
                  </a:lnTo>
                  <a:lnTo>
                    <a:pt x="65" y="43"/>
                  </a:lnTo>
                  <a:lnTo>
                    <a:pt x="62" y="31"/>
                  </a:lnTo>
                  <a:lnTo>
                    <a:pt x="53" y="20"/>
                  </a:lnTo>
                  <a:lnTo>
                    <a:pt x="43" y="15"/>
                  </a:lnTo>
                  <a:lnTo>
                    <a:pt x="35" y="12"/>
                  </a:lnTo>
                  <a:lnTo>
                    <a:pt x="27" y="8"/>
                  </a:lnTo>
                  <a:lnTo>
                    <a:pt x="21" y="4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8" y="21"/>
                  </a:lnTo>
                  <a:lnTo>
                    <a:pt x="18" y="26"/>
                  </a:lnTo>
                  <a:lnTo>
                    <a:pt x="27" y="31"/>
                  </a:lnTo>
                  <a:lnTo>
                    <a:pt x="36" y="34"/>
                  </a:lnTo>
                  <a:lnTo>
                    <a:pt x="41" y="36"/>
                  </a:lnTo>
                  <a:lnTo>
                    <a:pt x="43" y="40"/>
                  </a:lnTo>
                  <a:lnTo>
                    <a:pt x="44" y="43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5" y="63"/>
                  </a:lnTo>
                  <a:lnTo>
                    <a:pt x="53" y="67"/>
                  </a:lnTo>
                  <a:lnTo>
                    <a:pt x="61" y="64"/>
                  </a:lnTo>
                  <a:lnTo>
                    <a:pt x="64" y="57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H="1">
              <a:off x="4050720" y="2413080"/>
              <a:ext cx="36360" cy="212760"/>
            </a:xfrm>
            <a:custGeom>
              <a:avLst/>
              <a:gdLst/>
              <a:ahLst/>
              <a:rect l="l" t="t" r="r" b="b"/>
              <a:pathLst>
                <a:path w="84" h="514">
                  <a:moveTo>
                    <a:pt x="21" y="512"/>
                  </a:moveTo>
                  <a:lnTo>
                    <a:pt x="21" y="514"/>
                  </a:lnTo>
                  <a:lnTo>
                    <a:pt x="34" y="451"/>
                  </a:lnTo>
                  <a:lnTo>
                    <a:pt x="43" y="388"/>
                  </a:lnTo>
                  <a:lnTo>
                    <a:pt x="52" y="324"/>
                  </a:lnTo>
                  <a:lnTo>
                    <a:pt x="58" y="260"/>
                  </a:lnTo>
                  <a:lnTo>
                    <a:pt x="64" y="195"/>
                  </a:lnTo>
                  <a:lnTo>
                    <a:pt x="71" y="131"/>
                  </a:lnTo>
                  <a:lnTo>
                    <a:pt x="76" y="67"/>
                  </a:lnTo>
                  <a:lnTo>
                    <a:pt x="84" y="2"/>
                  </a:lnTo>
                  <a:lnTo>
                    <a:pt x="63" y="0"/>
                  </a:lnTo>
                  <a:lnTo>
                    <a:pt x="55" y="65"/>
                  </a:lnTo>
                  <a:lnTo>
                    <a:pt x="48" y="131"/>
                  </a:lnTo>
                  <a:lnTo>
                    <a:pt x="43" y="195"/>
                  </a:lnTo>
                  <a:lnTo>
                    <a:pt x="37" y="260"/>
                  </a:lnTo>
                  <a:lnTo>
                    <a:pt x="30" y="322"/>
                  </a:lnTo>
                  <a:lnTo>
                    <a:pt x="22" y="386"/>
                  </a:lnTo>
                  <a:lnTo>
                    <a:pt x="12" y="449"/>
                  </a:lnTo>
                  <a:lnTo>
                    <a:pt x="0" y="510"/>
                  </a:lnTo>
                  <a:lnTo>
                    <a:pt x="0" y="512"/>
                  </a:lnTo>
                  <a:lnTo>
                    <a:pt x="21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>
              <a:off x="4078440" y="2625840"/>
              <a:ext cx="16920" cy="33120"/>
            </a:xfrm>
            <a:custGeom>
              <a:avLst/>
              <a:gdLst/>
              <a:ahLst/>
              <a:rect l="l" t="t" r="r" b="b"/>
              <a:pathLst>
                <a:path w="42" h="79">
                  <a:moveTo>
                    <a:pt x="0" y="69"/>
                  </a:moveTo>
                  <a:lnTo>
                    <a:pt x="21" y="69"/>
                  </a:lnTo>
                  <a:lnTo>
                    <a:pt x="24" y="54"/>
                  </a:lnTo>
                  <a:lnTo>
                    <a:pt x="29" y="38"/>
                  </a:lnTo>
                  <a:lnTo>
                    <a:pt x="38" y="2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7" y="16"/>
                  </a:lnTo>
                  <a:lnTo>
                    <a:pt x="11" y="31"/>
                  </a:lnTo>
                  <a:lnTo>
                    <a:pt x="3" y="50"/>
                  </a:lnTo>
                  <a:lnTo>
                    <a:pt x="0" y="69"/>
                  </a:lnTo>
                  <a:lnTo>
                    <a:pt x="21" y="69"/>
                  </a:lnTo>
                  <a:lnTo>
                    <a:pt x="0" y="69"/>
                  </a:lnTo>
                  <a:lnTo>
                    <a:pt x="3" y="77"/>
                  </a:lnTo>
                  <a:lnTo>
                    <a:pt x="10" y="79"/>
                  </a:lnTo>
                  <a:lnTo>
                    <a:pt x="17" y="77"/>
                  </a:lnTo>
                  <a:lnTo>
                    <a:pt x="21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4087800" y="2367360"/>
              <a:ext cx="23040" cy="287280"/>
            </a:xfrm>
            <a:custGeom>
              <a:avLst/>
              <a:gdLst/>
              <a:ahLst/>
              <a:rect l="l" t="t" r="r" b="b"/>
              <a:pathLst>
                <a:path w="54" h="691">
                  <a:moveTo>
                    <a:pt x="0" y="0"/>
                  </a:moveTo>
                  <a:lnTo>
                    <a:pt x="0" y="0"/>
                  </a:lnTo>
                  <a:lnTo>
                    <a:pt x="5" y="172"/>
                  </a:lnTo>
                  <a:lnTo>
                    <a:pt x="17" y="347"/>
                  </a:lnTo>
                  <a:lnTo>
                    <a:pt x="27" y="522"/>
                  </a:lnTo>
                  <a:lnTo>
                    <a:pt x="33" y="691"/>
                  </a:lnTo>
                  <a:lnTo>
                    <a:pt x="54" y="691"/>
                  </a:lnTo>
                  <a:lnTo>
                    <a:pt x="49" y="522"/>
                  </a:lnTo>
                  <a:lnTo>
                    <a:pt x="38" y="347"/>
                  </a:lnTo>
                  <a:lnTo>
                    <a:pt x="26" y="17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H="1">
              <a:off x="4102200" y="2230920"/>
              <a:ext cx="14760" cy="136440"/>
            </a:xfrm>
            <a:custGeom>
              <a:avLst/>
              <a:gdLst/>
              <a:ahLst/>
              <a:rect l="l" t="t" r="r" b="b"/>
              <a:pathLst>
                <a:path w="35" h="333">
                  <a:moveTo>
                    <a:pt x="0" y="9"/>
                  </a:moveTo>
                  <a:lnTo>
                    <a:pt x="0" y="11"/>
                  </a:lnTo>
                  <a:lnTo>
                    <a:pt x="2" y="86"/>
                  </a:lnTo>
                  <a:lnTo>
                    <a:pt x="8" y="168"/>
                  </a:lnTo>
                  <a:lnTo>
                    <a:pt x="12" y="253"/>
                  </a:lnTo>
                  <a:lnTo>
                    <a:pt x="14" y="333"/>
                  </a:lnTo>
                  <a:lnTo>
                    <a:pt x="35" y="333"/>
                  </a:lnTo>
                  <a:lnTo>
                    <a:pt x="33" y="253"/>
                  </a:lnTo>
                  <a:lnTo>
                    <a:pt x="29" y="168"/>
                  </a:lnTo>
                  <a:lnTo>
                    <a:pt x="23" y="86"/>
                  </a:lnTo>
                  <a:lnTo>
                    <a:pt x="21" y="11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>
              <a:off x="4080600" y="2216520"/>
              <a:ext cx="36360" cy="2052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83" y="9"/>
                  </a:moveTo>
                  <a:lnTo>
                    <a:pt x="80" y="4"/>
                  </a:lnTo>
                  <a:lnTo>
                    <a:pt x="68" y="0"/>
                  </a:lnTo>
                  <a:lnTo>
                    <a:pt x="57" y="1"/>
                  </a:lnTo>
                  <a:lnTo>
                    <a:pt x="47" y="5"/>
                  </a:lnTo>
                  <a:lnTo>
                    <a:pt x="34" y="11"/>
                  </a:lnTo>
                  <a:lnTo>
                    <a:pt x="22" y="19"/>
                  </a:lnTo>
                  <a:lnTo>
                    <a:pt x="13" y="26"/>
                  </a:lnTo>
                  <a:lnTo>
                    <a:pt x="7" y="34"/>
                  </a:lnTo>
                  <a:lnTo>
                    <a:pt x="0" y="44"/>
                  </a:lnTo>
                  <a:lnTo>
                    <a:pt x="21" y="49"/>
                  </a:lnTo>
                  <a:lnTo>
                    <a:pt x="22" y="46"/>
                  </a:lnTo>
                  <a:lnTo>
                    <a:pt x="28" y="41"/>
                  </a:lnTo>
                  <a:lnTo>
                    <a:pt x="34" y="34"/>
                  </a:lnTo>
                  <a:lnTo>
                    <a:pt x="44" y="30"/>
                  </a:lnTo>
                  <a:lnTo>
                    <a:pt x="53" y="24"/>
                  </a:lnTo>
                  <a:lnTo>
                    <a:pt x="61" y="22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64" y="15"/>
                  </a:lnTo>
                  <a:lnTo>
                    <a:pt x="67" y="21"/>
                  </a:lnTo>
                  <a:lnTo>
                    <a:pt x="74" y="23"/>
                  </a:lnTo>
                  <a:lnTo>
                    <a:pt x="82" y="20"/>
                  </a:lnTo>
                  <a:lnTo>
                    <a:pt x="84" y="12"/>
                  </a:lnTo>
                  <a:lnTo>
                    <a:pt x="80" y="4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H="1">
              <a:off x="4020840" y="1945800"/>
              <a:ext cx="212400" cy="361440"/>
            </a:xfrm>
            <a:custGeom>
              <a:avLst/>
              <a:gdLst/>
              <a:ahLst/>
              <a:rect l="l" t="t" r="r" b="b"/>
              <a:pathLst>
                <a:path w="497" h="873">
                  <a:moveTo>
                    <a:pt x="276" y="0"/>
                  </a:moveTo>
                  <a:lnTo>
                    <a:pt x="291" y="6"/>
                  </a:lnTo>
                  <a:lnTo>
                    <a:pt x="305" y="12"/>
                  </a:lnTo>
                  <a:lnTo>
                    <a:pt x="321" y="18"/>
                  </a:lnTo>
                  <a:lnTo>
                    <a:pt x="336" y="24"/>
                  </a:lnTo>
                  <a:lnTo>
                    <a:pt x="351" y="32"/>
                  </a:lnTo>
                  <a:lnTo>
                    <a:pt x="366" y="40"/>
                  </a:lnTo>
                  <a:lnTo>
                    <a:pt x="382" y="49"/>
                  </a:lnTo>
                  <a:lnTo>
                    <a:pt x="396" y="58"/>
                  </a:lnTo>
                  <a:lnTo>
                    <a:pt x="412" y="69"/>
                  </a:lnTo>
                  <a:lnTo>
                    <a:pt x="424" y="78"/>
                  </a:lnTo>
                  <a:lnTo>
                    <a:pt x="437" y="90"/>
                  </a:lnTo>
                  <a:lnTo>
                    <a:pt x="449" y="100"/>
                  </a:lnTo>
                  <a:lnTo>
                    <a:pt x="458" y="113"/>
                  </a:lnTo>
                  <a:lnTo>
                    <a:pt x="468" y="127"/>
                  </a:lnTo>
                  <a:lnTo>
                    <a:pt x="475" y="139"/>
                  </a:lnTo>
                  <a:lnTo>
                    <a:pt x="479" y="153"/>
                  </a:lnTo>
                  <a:lnTo>
                    <a:pt x="486" y="188"/>
                  </a:lnTo>
                  <a:lnTo>
                    <a:pt x="484" y="221"/>
                  </a:lnTo>
                  <a:lnTo>
                    <a:pt x="479" y="252"/>
                  </a:lnTo>
                  <a:lnTo>
                    <a:pt x="473" y="284"/>
                  </a:lnTo>
                  <a:lnTo>
                    <a:pt x="465" y="318"/>
                  </a:lnTo>
                  <a:lnTo>
                    <a:pt x="460" y="350"/>
                  </a:lnTo>
                  <a:lnTo>
                    <a:pt x="460" y="382"/>
                  </a:lnTo>
                  <a:lnTo>
                    <a:pt x="469" y="416"/>
                  </a:lnTo>
                  <a:lnTo>
                    <a:pt x="472" y="425"/>
                  </a:lnTo>
                  <a:lnTo>
                    <a:pt x="476" y="435"/>
                  </a:lnTo>
                  <a:lnTo>
                    <a:pt x="482" y="445"/>
                  </a:lnTo>
                  <a:lnTo>
                    <a:pt x="488" y="455"/>
                  </a:lnTo>
                  <a:lnTo>
                    <a:pt x="493" y="466"/>
                  </a:lnTo>
                  <a:lnTo>
                    <a:pt x="496" y="477"/>
                  </a:lnTo>
                  <a:lnTo>
                    <a:pt x="497" y="488"/>
                  </a:lnTo>
                  <a:lnTo>
                    <a:pt x="496" y="498"/>
                  </a:lnTo>
                  <a:lnTo>
                    <a:pt x="489" y="504"/>
                  </a:lnTo>
                  <a:lnTo>
                    <a:pt x="479" y="507"/>
                  </a:lnTo>
                  <a:lnTo>
                    <a:pt x="467" y="511"/>
                  </a:lnTo>
                  <a:lnTo>
                    <a:pt x="454" y="513"/>
                  </a:lnTo>
                  <a:lnTo>
                    <a:pt x="441" y="516"/>
                  </a:lnTo>
                  <a:lnTo>
                    <a:pt x="431" y="521"/>
                  </a:lnTo>
                  <a:lnTo>
                    <a:pt x="422" y="524"/>
                  </a:lnTo>
                  <a:lnTo>
                    <a:pt x="419" y="527"/>
                  </a:lnTo>
                  <a:lnTo>
                    <a:pt x="414" y="545"/>
                  </a:lnTo>
                  <a:lnTo>
                    <a:pt x="408" y="571"/>
                  </a:lnTo>
                  <a:lnTo>
                    <a:pt x="403" y="602"/>
                  </a:lnTo>
                  <a:lnTo>
                    <a:pt x="397" y="634"/>
                  </a:lnTo>
                  <a:lnTo>
                    <a:pt x="392" y="666"/>
                  </a:lnTo>
                  <a:lnTo>
                    <a:pt x="385" y="696"/>
                  </a:lnTo>
                  <a:lnTo>
                    <a:pt x="380" y="721"/>
                  </a:lnTo>
                  <a:lnTo>
                    <a:pt x="373" y="737"/>
                  </a:lnTo>
                  <a:lnTo>
                    <a:pt x="368" y="738"/>
                  </a:lnTo>
                  <a:lnTo>
                    <a:pt x="363" y="736"/>
                  </a:lnTo>
                  <a:lnTo>
                    <a:pt x="356" y="734"/>
                  </a:lnTo>
                  <a:lnTo>
                    <a:pt x="346" y="729"/>
                  </a:lnTo>
                  <a:lnTo>
                    <a:pt x="339" y="747"/>
                  </a:lnTo>
                  <a:lnTo>
                    <a:pt x="326" y="767"/>
                  </a:lnTo>
                  <a:lnTo>
                    <a:pt x="312" y="790"/>
                  </a:lnTo>
                  <a:lnTo>
                    <a:pt x="297" y="813"/>
                  </a:lnTo>
                  <a:lnTo>
                    <a:pt x="280" y="834"/>
                  </a:lnTo>
                  <a:lnTo>
                    <a:pt x="263" y="853"/>
                  </a:lnTo>
                  <a:lnTo>
                    <a:pt x="245" y="866"/>
                  </a:lnTo>
                  <a:lnTo>
                    <a:pt x="228" y="873"/>
                  </a:lnTo>
                  <a:lnTo>
                    <a:pt x="213" y="866"/>
                  </a:lnTo>
                  <a:lnTo>
                    <a:pt x="199" y="859"/>
                  </a:lnTo>
                  <a:lnTo>
                    <a:pt x="186" y="850"/>
                  </a:lnTo>
                  <a:lnTo>
                    <a:pt x="172" y="842"/>
                  </a:lnTo>
                  <a:lnTo>
                    <a:pt x="158" y="830"/>
                  </a:lnTo>
                  <a:lnTo>
                    <a:pt x="144" y="819"/>
                  </a:lnTo>
                  <a:lnTo>
                    <a:pt x="132" y="809"/>
                  </a:lnTo>
                  <a:lnTo>
                    <a:pt x="119" y="797"/>
                  </a:lnTo>
                  <a:lnTo>
                    <a:pt x="107" y="786"/>
                  </a:lnTo>
                  <a:lnTo>
                    <a:pt x="96" y="774"/>
                  </a:lnTo>
                  <a:lnTo>
                    <a:pt x="84" y="762"/>
                  </a:lnTo>
                  <a:lnTo>
                    <a:pt x="72" y="751"/>
                  </a:lnTo>
                  <a:lnTo>
                    <a:pt x="61" y="737"/>
                  </a:lnTo>
                  <a:lnTo>
                    <a:pt x="50" y="725"/>
                  </a:lnTo>
                  <a:lnTo>
                    <a:pt x="40" y="715"/>
                  </a:lnTo>
                  <a:lnTo>
                    <a:pt x="30" y="703"/>
                  </a:lnTo>
                  <a:lnTo>
                    <a:pt x="16" y="658"/>
                  </a:lnTo>
                  <a:lnTo>
                    <a:pt x="6" y="612"/>
                  </a:lnTo>
                  <a:lnTo>
                    <a:pt x="0" y="564"/>
                  </a:lnTo>
                  <a:lnTo>
                    <a:pt x="0" y="514"/>
                  </a:lnTo>
                  <a:lnTo>
                    <a:pt x="4" y="465"/>
                  </a:lnTo>
                  <a:lnTo>
                    <a:pt x="11" y="415"/>
                  </a:lnTo>
                  <a:lnTo>
                    <a:pt x="24" y="365"/>
                  </a:lnTo>
                  <a:lnTo>
                    <a:pt x="39" y="316"/>
                  </a:lnTo>
                  <a:lnTo>
                    <a:pt x="58" y="268"/>
                  </a:lnTo>
                  <a:lnTo>
                    <a:pt x="81" y="222"/>
                  </a:lnTo>
                  <a:lnTo>
                    <a:pt x="106" y="177"/>
                  </a:lnTo>
                  <a:lnTo>
                    <a:pt x="136" y="134"/>
                  </a:lnTo>
                  <a:lnTo>
                    <a:pt x="168" y="95"/>
                  </a:lnTo>
                  <a:lnTo>
                    <a:pt x="201" y="60"/>
                  </a:lnTo>
                  <a:lnTo>
                    <a:pt x="238" y="29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ffe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flipH="1">
              <a:off x="4023000" y="1943280"/>
              <a:ext cx="91800" cy="70200"/>
            </a:xfrm>
            <a:custGeom>
              <a:avLst/>
              <a:gdLst/>
              <a:ahLst/>
              <a:rect l="l" t="t" r="r" b="b"/>
              <a:pathLst>
                <a:path w="215" h="170">
                  <a:moveTo>
                    <a:pt x="215" y="159"/>
                  </a:moveTo>
                  <a:lnTo>
                    <a:pt x="215" y="159"/>
                  </a:lnTo>
                  <a:lnTo>
                    <a:pt x="209" y="143"/>
                  </a:lnTo>
                  <a:lnTo>
                    <a:pt x="202" y="129"/>
                  </a:lnTo>
                  <a:lnTo>
                    <a:pt x="191" y="117"/>
                  </a:lnTo>
                  <a:lnTo>
                    <a:pt x="182" y="102"/>
                  </a:lnTo>
                  <a:lnTo>
                    <a:pt x="169" y="90"/>
                  </a:lnTo>
                  <a:lnTo>
                    <a:pt x="157" y="79"/>
                  </a:lnTo>
                  <a:lnTo>
                    <a:pt x="142" y="69"/>
                  </a:lnTo>
                  <a:lnTo>
                    <a:pt x="127" y="59"/>
                  </a:lnTo>
                  <a:lnTo>
                    <a:pt x="112" y="48"/>
                  </a:lnTo>
                  <a:lnTo>
                    <a:pt x="96" y="40"/>
                  </a:lnTo>
                  <a:lnTo>
                    <a:pt x="81" y="31"/>
                  </a:lnTo>
                  <a:lnTo>
                    <a:pt x="66" y="25"/>
                  </a:lnTo>
                  <a:lnTo>
                    <a:pt x="50" y="18"/>
                  </a:lnTo>
                  <a:lnTo>
                    <a:pt x="35" y="11"/>
                  </a:lnTo>
                  <a:lnTo>
                    <a:pt x="20" y="6"/>
                  </a:lnTo>
                  <a:lnTo>
                    <a:pt x="6" y="0"/>
                  </a:lnTo>
                  <a:lnTo>
                    <a:pt x="0" y="16"/>
                  </a:lnTo>
                  <a:lnTo>
                    <a:pt x="14" y="22"/>
                  </a:lnTo>
                  <a:lnTo>
                    <a:pt x="28" y="28"/>
                  </a:lnTo>
                  <a:lnTo>
                    <a:pt x="43" y="34"/>
                  </a:lnTo>
                  <a:lnTo>
                    <a:pt x="58" y="41"/>
                  </a:lnTo>
                  <a:lnTo>
                    <a:pt x="73" y="48"/>
                  </a:lnTo>
                  <a:lnTo>
                    <a:pt x="89" y="57"/>
                  </a:lnTo>
                  <a:lnTo>
                    <a:pt x="103" y="65"/>
                  </a:lnTo>
                  <a:lnTo>
                    <a:pt x="118" y="72"/>
                  </a:lnTo>
                  <a:lnTo>
                    <a:pt x="132" y="83"/>
                  </a:lnTo>
                  <a:lnTo>
                    <a:pt x="144" y="93"/>
                  </a:lnTo>
                  <a:lnTo>
                    <a:pt x="158" y="105"/>
                  </a:lnTo>
                  <a:lnTo>
                    <a:pt x="168" y="115"/>
                  </a:lnTo>
                  <a:lnTo>
                    <a:pt x="178" y="126"/>
                  </a:lnTo>
                  <a:lnTo>
                    <a:pt x="185" y="139"/>
                  </a:lnTo>
                  <a:lnTo>
                    <a:pt x="193" y="151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201" y="170"/>
                  </a:lnTo>
                  <a:lnTo>
                    <a:pt x="208" y="170"/>
                  </a:lnTo>
                  <a:lnTo>
                    <a:pt x="214" y="166"/>
                  </a:lnTo>
                  <a:lnTo>
                    <a:pt x="215" y="159"/>
                  </a:lnTo>
                  <a:lnTo>
                    <a:pt x="215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H="1">
              <a:off x="4020480" y="2009520"/>
              <a:ext cx="19440" cy="111960"/>
            </a:xfrm>
            <a:custGeom>
              <a:avLst/>
              <a:gdLst/>
              <a:ahLst/>
              <a:rect l="l" t="t" r="r" b="b"/>
              <a:pathLst>
                <a:path w="43" h="274">
                  <a:moveTo>
                    <a:pt x="26" y="264"/>
                  </a:moveTo>
                  <a:lnTo>
                    <a:pt x="25" y="263"/>
                  </a:lnTo>
                  <a:lnTo>
                    <a:pt x="18" y="231"/>
                  </a:lnTo>
                  <a:lnTo>
                    <a:pt x="18" y="199"/>
                  </a:lnTo>
                  <a:lnTo>
                    <a:pt x="23" y="168"/>
                  </a:lnTo>
                  <a:lnTo>
                    <a:pt x="30" y="134"/>
                  </a:lnTo>
                  <a:lnTo>
                    <a:pt x="37" y="102"/>
                  </a:lnTo>
                  <a:lnTo>
                    <a:pt x="42" y="70"/>
                  </a:lnTo>
                  <a:lnTo>
                    <a:pt x="43" y="37"/>
                  </a:lnTo>
                  <a:lnTo>
                    <a:pt x="37" y="0"/>
                  </a:lnTo>
                  <a:lnTo>
                    <a:pt x="18" y="4"/>
                  </a:lnTo>
                  <a:lnTo>
                    <a:pt x="24" y="37"/>
                  </a:lnTo>
                  <a:lnTo>
                    <a:pt x="23" y="70"/>
                  </a:lnTo>
                  <a:lnTo>
                    <a:pt x="18" y="100"/>
                  </a:lnTo>
                  <a:lnTo>
                    <a:pt x="11" y="132"/>
                  </a:lnTo>
                  <a:lnTo>
                    <a:pt x="4" y="165"/>
                  </a:lnTo>
                  <a:lnTo>
                    <a:pt x="0" y="199"/>
                  </a:lnTo>
                  <a:lnTo>
                    <a:pt x="0" y="231"/>
                  </a:lnTo>
                  <a:lnTo>
                    <a:pt x="8" y="268"/>
                  </a:lnTo>
                  <a:lnTo>
                    <a:pt x="7" y="266"/>
                  </a:lnTo>
                  <a:lnTo>
                    <a:pt x="8" y="268"/>
                  </a:lnTo>
                  <a:lnTo>
                    <a:pt x="12" y="272"/>
                  </a:lnTo>
                  <a:lnTo>
                    <a:pt x="20" y="274"/>
                  </a:lnTo>
                  <a:lnTo>
                    <a:pt x="24" y="270"/>
                  </a:lnTo>
                  <a:lnTo>
                    <a:pt x="25" y="263"/>
                  </a:lnTo>
                  <a:lnTo>
                    <a:pt x="2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H="1">
              <a:off x="4016160" y="2117520"/>
              <a:ext cx="19440" cy="3888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44" y="90"/>
                  </a:moveTo>
                  <a:lnTo>
                    <a:pt x="46" y="87"/>
                  </a:lnTo>
                  <a:lnTo>
                    <a:pt x="48" y="73"/>
                  </a:lnTo>
                  <a:lnTo>
                    <a:pt x="47" y="61"/>
                  </a:lnTo>
                  <a:lnTo>
                    <a:pt x="41" y="49"/>
                  </a:lnTo>
                  <a:lnTo>
                    <a:pt x="37" y="37"/>
                  </a:lnTo>
                  <a:lnTo>
                    <a:pt x="31" y="25"/>
                  </a:lnTo>
                  <a:lnTo>
                    <a:pt x="25" y="17"/>
                  </a:lnTo>
                  <a:lnTo>
                    <a:pt x="20" y="7"/>
                  </a:lnTo>
                  <a:lnTo>
                    <a:pt x="19" y="0"/>
                  </a:lnTo>
                  <a:lnTo>
                    <a:pt x="0" y="2"/>
                  </a:lnTo>
                  <a:lnTo>
                    <a:pt x="4" y="12"/>
                  </a:lnTo>
                  <a:lnTo>
                    <a:pt x="9" y="24"/>
                  </a:lnTo>
                  <a:lnTo>
                    <a:pt x="15" y="35"/>
                  </a:lnTo>
                  <a:lnTo>
                    <a:pt x="20" y="44"/>
                  </a:lnTo>
                  <a:lnTo>
                    <a:pt x="25" y="54"/>
                  </a:lnTo>
                  <a:lnTo>
                    <a:pt x="28" y="64"/>
                  </a:lnTo>
                  <a:lnTo>
                    <a:pt x="29" y="73"/>
                  </a:lnTo>
                  <a:lnTo>
                    <a:pt x="29" y="81"/>
                  </a:lnTo>
                  <a:lnTo>
                    <a:pt x="30" y="78"/>
                  </a:lnTo>
                  <a:lnTo>
                    <a:pt x="29" y="81"/>
                  </a:lnTo>
                  <a:lnTo>
                    <a:pt x="30" y="89"/>
                  </a:lnTo>
                  <a:lnTo>
                    <a:pt x="36" y="92"/>
                  </a:lnTo>
                  <a:lnTo>
                    <a:pt x="41" y="91"/>
                  </a:lnTo>
                  <a:lnTo>
                    <a:pt x="46" y="87"/>
                  </a:lnTo>
                  <a:lnTo>
                    <a:pt x="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H="1">
              <a:off x="4016160" y="2150280"/>
              <a:ext cx="40680" cy="1656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16" y="38"/>
                  </a:moveTo>
                  <a:lnTo>
                    <a:pt x="18" y="34"/>
                  </a:lnTo>
                  <a:lnTo>
                    <a:pt x="15" y="39"/>
                  </a:lnTo>
                  <a:lnTo>
                    <a:pt x="22" y="35"/>
                  </a:lnTo>
                  <a:lnTo>
                    <a:pt x="32" y="33"/>
                  </a:lnTo>
                  <a:lnTo>
                    <a:pt x="44" y="30"/>
                  </a:lnTo>
                  <a:lnTo>
                    <a:pt x="57" y="28"/>
                  </a:lnTo>
                  <a:lnTo>
                    <a:pt x="71" y="23"/>
                  </a:lnTo>
                  <a:lnTo>
                    <a:pt x="82" y="19"/>
                  </a:lnTo>
                  <a:lnTo>
                    <a:pt x="92" y="12"/>
                  </a:lnTo>
                  <a:lnTo>
                    <a:pt x="78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4" y="9"/>
                  </a:lnTo>
                  <a:lnTo>
                    <a:pt x="42" y="11"/>
                  </a:lnTo>
                  <a:lnTo>
                    <a:pt x="27" y="14"/>
                  </a:lnTo>
                  <a:lnTo>
                    <a:pt x="16" y="19"/>
                  </a:lnTo>
                  <a:lnTo>
                    <a:pt x="6" y="22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3" y="41"/>
                  </a:lnTo>
                  <a:lnTo>
                    <a:pt x="8" y="42"/>
                  </a:lnTo>
                  <a:lnTo>
                    <a:pt x="15" y="41"/>
                  </a:lnTo>
                  <a:lnTo>
                    <a:pt x="18" y="34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 flipH="1">
              <a:off x="4050720" y="2162880"/>
              <a:ext cx="25560" cy="92880"/>
            </a:xfrm>
            <a:custGeom>
              <a:avLst/>
              <a:gdLst/>
              <a:ahLst/>
              <a:rect l="l" t="t" r="r" b="b"/>
              <a:pathLst>
                <a:path w="63" h="222">
                  <a:moveTo>
                    <a:pt x="14" y="219"/>
                  </a:moveTo>
                  <a:lnTo>
                    <a:pt x="17" y="217"/>
                  </a:lnTo>
                  <a:lnTo>
                    <a:pt x="24" y="199"/>
                  </a:lnTo>
                  <a:lnTo>
                    <a:pt x="31" y="173"/>
                  </a:lnTo>
                  <a:lnTo>
                    <a:pt x="37" y="143"/>
                  </a:lnTo>
                  <a:lnTo>
                    <a:pt x="42" y="111"/>
                  </a:lnTo>
                  <a:lnTo>
                    <a:pt x="49" y="79"/>
                  </a:lnTo>
                  <a:lnTo>
                    <a:pt x="54" y="48"/>
                  </a:lnTo>
                  <a:lnTo>
                    <a:pt x="59" y="22"/>
                  </a:lnTo>
                  <a:lnTo>
                    <a:pt x="63" y="7"/>
                  </a:lnTo>
                  <a:lnTo>
                    <a:pt x="48" y="0"/>
                  </a:lnTo>
                  <a:lnTo>
                    <a:pt x="40" y="20"/>
                  </a:lnTo>
                  <a:lnTo>
                    <a:pt x="35" y="46"/>
                  </a:lnTo>
                  <a:lnTo>
                    <a:pt x="30" y="77"/>
                  </a:lnTo>
                  <a:lnTo>
                    <a:pt x="23" y="109"/>
                  </a:lnTo>
                  <a:lnTo>
                    <a:pt x="18" y="141"/>
                  </a:lnTo>
                  <a:lnTo>
                    <a:pt x="12" y="171"/>
                  </a:lnTo>
                  <a:lnTo>
                    <a:pt x="6" y="194"/>
                  </a:lnTo>
                  <a:lnTo>
                    <a:pt x="0" y="210"/>
                  </a:lnTo>
                  <a:lnTo>
                    <a:pt x="2" y="208"/>
                  </a:lnTo>
                  <a:lnTo>
                    <a:pt x="0" y="210"/>
                  </a:lnTo>
                  <a:lnTo>
                    <a:pt x="0" y="217"/>
                  </a:lnTo>
                  <a:lnTo>
                    <a:pt x="4" y="222"/>
                  </a:lnTo>
                  <a:lnTo>
                    <a:pt x="12" y="222"/>
                  </a:lnTo>
                  <a:lnTo>
                    <a:pt x="17" y="217"/>
                  </a:lnTo>
                  <a:lnTo>
                    <a:pt x="1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flipH="1">
              <a:off x="4070160" y="2245320"/>
              <a:ext cx="16920" cy="1008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6" y="12"/>
                  </a:moveTo>
                  <a:lnTo>
                    <a:pt x="4" y="16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7"/>
                  </a:lnTo>
                  <a:lnTo>
                    <a:pt x="39" y="22"/>
                  </a:lnTo>
                  <a:lnTo>
                    <a:pt x="27" y="11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1" y="4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H="1">
              <a:off x="4081320" y="2245320"/>
              <a:ext cx="57600" cy="65880"/>
            </a:xfrm>
            <a:custGeom>
              <a:avLst/>
              <a:gdLst/>
              <a:ahLst/>
              <a:rect l="l" t="t" r="r" b="b"/>
              <a:pathLst>
                <a:path w="136" h="158">
                  <a:moveTo>
                    <a:pt x="5" y="157"/>
                  </a:moveTo>
                  <a:lnTo>
                    <a:pt x="10" y="158"/>
                  </a:lnTo>
                  <a:lnTo>
                    <a:pt x="31" y="149"/>
                  </a:lnTo>
                  <a:lnTo>
                    <a:pt x="50" y="135"/>
                  </a:lnTo>
                  <a:lnTo>
                    <a:pt x="67" y="115"/>
                  </a:lnTo>
                  <a:lnTo>
                    <a:pt x="85" y="93"/>
                  </a:lnTo>
                  <a:lnTo>
                    <a:pt x="102" y="70"/>
                  </a:lnTo>
                  <a:lnTo>
                    <a:pt x="116" y="47"/>
                  </a:lnTo>
                  <a:lnTo>
                    <a:pt x="127" y="26"/>
                  </a:lnTo>
                  <a:lnTo>
                    <a:pt x="136" y="8"/>
                  </a:lnTo>
                  <a:lnTo>
                    <a:pt x="120" y="0"/>
                  </a:lnTo>
                  <a:lnTo>
                    <a:pt x="111" y="18"/>
                  </a:lnTo>
                  <a:lnTo>
                    <a:pt x="100" y="37"/>
                  </a:lnTo>
                  <a:lnTo>
                    <a:pt x="85" y="61"/>
                  </a:lnTo>
                  <a:lnTo>
                    <a:pt x="71" y="82"/>
                  </a:lnTo>
                  <a:lnTo>
                    <a:pt x="53" y="103"/>
                  </a:lnTo>
                  <a:lnTo>
                    <a:pt x="37" y="121"/>
                  </a:lnTo>
                  <a:lnTo>
                    <a:pt x="22" y="132"/>
                  </a:lnTo>
                  <a:lnTo>
                    <a:pt x="8" y="139"/>
                  </a:lnTo>
                  <a:lnTo>
                    <a:pt x="12" y="140"/>
                  </a:lnTo>
                  <a:lnTo>
                    <a:pt x="8" y="139"/>
                  </a:lnTo>
                  <a:lnTo>
                    <a:pt x="1" y="142"/>
                  </a:lnTo>
                  <a:lnTo>
                    <a:pt x="0" y="149"/>
                  </a:lnTo>
                  <a:lnTo>
                    <a:pt x="3" y="155"/>
                  </a:lnTo>
                  <a:lnTo>
                    <a:pt x="10" y="158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H="1">
              <a:off x="4134960" y="2233440"/>
              <a:ext cx="87840" cy="78120"/>
            </a:xfrm>
            <a:custGeom>
              <a:avLst/>
              <a:gdLst/>
              <a:ahLst/>
              <a:rect l="l" t="t" r="r" b="b"/>
              <a:pathLst>
                <a:path w="208" h="188">
                  <a:moveTo>
                    <a:pt x="0" y="12"/>
                  </a:moveTo>
                  <a:lnTo>
                    <a:pt x="1" y="15"/>
                  </a:lnTo>
                  <a:lnTo>
                    <a:pt x="11" y="27"/>
                  </a:lnTo>
                  <a:lnTo>
                    <a:pt x="21" y="38"/>
                  </a:lnTo>
                  <a:lnTo>
                    <a:pt x="32" y="49"/>
                  </a:lnTo>
                  <a:lnTo>
                    <a:pt x="42" y="62"/>
                  </a:lnTo>
                  <a:lnTo>
                    <a:pt x="55" y="74"/>
                  </a:lnTo>
                  <a:lnTo>
                    <a:pt x="67" y="85"/>
                  </a:lnTo>
                  <a:lnTo>
                    <a:pt x="78" y="98"/>
                  </a:lnTo>
                  <a:lnTo>
                    <a:pt x="90" y="111"/>
                  </a:lnTo>
                  <a:lnTo>
                    <a:pt x="103" y="122"/>
                  </a:lnTo>
                  <a:lnTo>
                    <a:pt x="116" y="133"/>
                  </a:lnTo>
                  <a:lnTo>
                    <a:pt x="129" y="143"/>
                  </a:lnTo>
                  <a:lnTo>
                    <a:pt x="144" y="154"/>
                  </a:lnTo>
                  <a:lnTo>
                    <a:pt x="157" y="165"/>
                  </a:lnTo>
                  <a:lnTo>
                    <a:pt x="172" y="173"/>
                  </a:lnTo>
                  <a:lnTo>
                    <a:pt x="187" y="180"/>
                  </a:lnTo>
                  <a:lnTo>
                    <a:pt x="201" y="188"/>
                  </a:lnTo>
                  <a:lnTo>
                    <a:pt x="208" y="171"/>
                  </a:lnTo>
                  <a:lnTo>
                    <a:pt x="194" y="163"/>
                  </a:lnTo>
                  <a:lnTo>
                    <a:pt x="180" y="156"/>
                  </a:lnTo>
                  <a:lnTo>
                    <a:pt x="167" y="149"/>
                  </a:lnTo>
                  <a:lnTo>
                    <a:pt x="155" y="140"/>
                  </a:lnTo>
                  <a:lnTo>
                    <a:pt x="140" y="130"/>
                  </a:lnTo>
                  <a:lnTo>
                    <a:pt x="128" y="119"/>
                  </a:lnTo>
                  <a:lnTo>
                    <a:pt x="115" y="109"/>
                  </a:lnTo>
                  <a:lnTo>
                    <a:pt x="102" y="96"/>
                  </a:lnTo>
                  <a:lnTo>
                    <a:pt x="90" y="85"/>
                  </a:lnTo>
                  <a:lnTo>
                    <a:pt x="78" y="74"/>
                  </a:lnTo>
                  <a:lnTo>
                    <a:pt x="67" y="62"/>
                  </a:lnTo>
                  <a:lnTo>
                    <a:pt x="56" y="50"/>
                  </a:lnTo>
                  <a:lnTo>
                    <a:pt x="45" y="38"/>
                  </a:lnTo>
                  <a:lnTo>
                    <a:pt x="35" y="25"/>
                  </a:lnTo>
                  <a:lnTo>
                    <a:pt x="24" y="15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1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H="1">
              <a:off x="4110840" y="1943280"/>
              <a:ext cx="126720" cy="295920"/>
            </a:xfrm>
            <a:custGeom>
              <a:avLst/>
              <a:gdLst/>
              <a:ahLst/>
              <a:rect l="l" t="t" r="r" b="b"/>
              <a:pathLst>
                <a:path w="296" h="715">
                  <a:moveTo>
                    <a:pt x="290" y="1"/>
                  </a:moveTo>
                  <a:lnTo>
                    <a:pt x="282" y="1"/>
                  </a:lnTo>
                  <a:lnTo>
                    <a:pt x="242" y="30"/>
                  </a:lnTo>
                  <a:lnTo>
                    <a:pt x="205" y="62"/>
                  </a:lnTo>
                  <a:lnTo>
                    <a:pt x="170" y="99"/>
                  </a:lnTo>
                  <a:lnTo>
                    <a:pt x="139" y="138"/>
                  </a:lnTo>
                  <a:lnTo>
                    <a:pt x="108" y="181"/>
                  </a:lnTo>
                  <a:lnTo>
                    <a:pt x="84" y="228"/>
                  </a:lnTo>
                  <a:lnTo>
                    <a:pt x="59" y="273"/>
                  </a:lnTo>
                  <a:lnTo>
                    <a:pt x="40" y="323"/>
                  </a:lnTo>
                  <a:lnTo>
                    <a:pt x="25" y="372"/>
                  </a:lnTo>
                  <a:lnTo>
                    <a:pt x="13" y="423"/>
                  </a:lnTo>
                  <a:lnTo>
                    <a:pt x="4" y="474"/>
                  </a:lnTo>
                  <a:lnTo>
                    <a:pt x="0" y="523"/>
                  </a:lnTo>
                  <a:lnTo>
                    <a:pt x="0" y="573"/>
                  </a:lnTo>
                  <a:lnTo>
                    <a:pt x="7" y="623"/>
                  </a:lnTo>
                  <a:lnTo>
                    <a:pt x="16" y="670"/>
                  </a:lnTo>
                  <a:lnTo>
                    <a:pt x="33" y="715"/>
                  </a:lnTo>
                  <a:lnTo>
                    <a:pt x="49" y="708"/>
                  </a:lnTo>
                  <a:lnTo>
                    <a:pt x="35" y="665"/>
                  </a:lnTo>
                  <a:lnTo>
                    <a:pt x="26" y="620"/>
                  </a:lnTo>
                  <a:lnTo>
                    <a:pt x="19" y="573"/>
                  </a:lnTo>
                  <a:lnTo>
                    <a:pt x="19" y="523"/>
                  </a:lnTo>
                  <a:lnTo>
                    <a:pt x="23" y="474"/>
                  </a:lnTo>
                  <a:lnTo>
                    <a:pt x="31" y="425"/>
                  </a:lnTo>
                  <a:lnTo>
                    <a:pt x="44" y="378"/>
                  </a:lnTo>
                  <a:lnTo>
                    <a:pt x="57" y="328"/>
                  </a:lnTo>
                  <a:lnTo>
                    <a:pt x="76" y="280"/>
                  </a:lnTo>
                  <a:lnTo>
                    <a:pt x="100" y="234"/>
                  </a:lnTo>
                  <a:lnTo>
                    <a:pt x="125" y="191"/>
                  </a:lnTo>
                  <a:lnTo>
                    <a:pt x="152" y="149"/>
                  </a:lnTo>
                  <a:lnTo>
                    <a:pt x="184" y="110"/>
                  </a:lnTo>
                  <a:lnTo>
                    <a:pt x="218" y="77"/>
                  </a:lnTo>
                  <a:lnTo>
                    <a:pt x="254" y="44"/>
                  </a:lnTo>
                  <a:lnTo>
                    <a:pt x="292" y="17"/>
                  </a:lnTo>
                  <a:lnTo>
                    <a:pt x="284" y="17"/>
                  </a:lnTo>
                  <a:lnTo>
                    <a:pt x="292" y="17"/>
                  </a:lnTo>
                  <a:lnTo>
                    <a:pt x="296" y="11"/>
                  </a:lnTo>
                  <a:lnTo>
                    <a:pt x="295" y="5"/>
                  </a:lnTo>
                  <a:lnTo>
                    <a:pt x="290" y="0"/>
                  </a:lnTo>
                  <a:lnTo>
                    <a:pt x="282" y="1"/>
                  </a:lnTo>
                  <a:lnTo>
                    <a:pt x="2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H="1">
              <a:off x="4082760" y="2201760"/>
              <a:ext cx="47160" cy="4968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0" y="4"/>
                  </a:moveTo>
                  <a:lnTo>
                    <a:pt x="8" y="23"/>
                  </a:lnTo>
                  <a:lnTo>
                    <a:pt x="16" y="42"/>
                  </a:lnTo>
                  <a:lnTo>
                    <a:pt x="28" y="58"/>
                  </a:lnTo>
                  <a:lnTo>
                    <a:pt x="40" y="74"/>
                  </a:lnTo>
                  <a:lnTo>
                    <a:pt x="55" y="89"/>
                  </a:lnTo>
                  <a:lnTo>
                    <a:pt x="70" y="101"/>
                  </a:lnTo>
                  <a:lnTo>
                    <a:pt x="85" y="112"/>
                  </a:lnTo>
                  <a:lnTo>
                    <a:pt x="102" y="119"/>
                  </a:lnTo>
                  <a:lnTo>
                    <a:pt x="109" y="103"/>
                  </a:lnTo>
                  <a:lnTo>
                    <a:pt x="95" y="95"/>
                  </a:lnTo>
                  <a:lnTo>
                    <a:pt x="80" y="86"/>
                  </a:lnTo>
                  <a:lnTo>
                    <a:pt x="67" y="75"/>
                  </a:lnTo>
                  <a:lnTo>
                    <a:pt x="53" y="62"/>
                  </a:lnTo>
                  <a:lnTo>
                    <a:pt x="42" y="48"/>
                  </a:lnTo>
                  <a:lnTo>
                    <a:pt x="32" y="33"/>
                  </a:lnTo>
                  <a:lnTo>
                    <a:pt x="24" y="16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>
              <a:off x="4295880" y="2427480"/>
              <a:ext cx="57600" cy="88920"/>
            </a:xfrm>
            <a:custGeom>
              <a:avLst/>
              <a:gdLst/>
              <a:ahLst/>
              <a:rect l="l" t="t" r="r" b="b"/>
              <a:pathLst>
                <a:path w="135" h="212">
                  <a:moveTo>
                    <a:pt x="21" y="212"/>
                  </a:moveTo>
                  <a:lnTo>
                    <a:pt x="21" y="211"/>
                  </a:lnTo>
                  <a:lnTo>
                    <a:pt x="24" y="188"/>
                  </a:lnTo>
                  <a:lnTo>
                    <a:pt x="33" y="163"/>
                  </a:lnTo>
                  <a:lnTo>
                    <a:pt x="46" y="138"/>
                  </a:lnTo>
                  <a:lnTo>
                    <a:pt x="62" y="113"/>
                  </a:lnTo>
                  <a:lnTo>
                    <a:pt x="81" y="86"/>
                  </a:lnTo>
                  <a:lnTo>
                    <a:pt x="100" y="60"/>
                  </a:lnTo>
                  <a:lnTo>
                    <a:pt x="118" y="35"/>
                  </a:lnTo>
                  <a:lnTo>
                    <a:pt x="135" y="8"/>
                  </a:lnTo>
                  <a:lnTo>
                    <a:pt x="116" y="0"/>
                  </a:lnTo>
                  <a:lnTo>
                    <a:pt x="102" y="23"/>
                  </a:lnTo>
                  <a:lnTo>
                    <a:pt x="83" y="47"/>
                  </a:lnTo>
                  <a:lnTo>
                    <a:pt x="64" y="75"/>
                  </a:lnTo>
                  <a:lnTo>
                    <a:pt x="45" y="101"/>
                  </a:lnTo>
                  <a:lnTo>
                    <a:pt x="27" y="129"/>
                  </a:lnTo>
                  <a:lnTo>
                    <a:pt x="14" y="156"/>
                  </a:lnTo>
                  <a:lnTo>
                    <a:pt x="3" y="183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21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H="1">
              <a:off x="4312440" y="2514240"/>
              <a:ext cx="42840" cy="90720"/>
            </a:xfrm>
            <a:custGeom>
              <a:avLst/>
              <a:gdLst/>
              <a:ahLst/>
              <a:rect l="l" t="t" r="r" b="b"/>
              <a:pathLst>
                <a:path w="100" h="219">
                  <a:moveTo>
                    <a:pt x="100" y="212"/>
                  </a:moveTo>
                  <a:lnTo>
                    <a:pt x="99" y="206"/>
                  </a:lnTo>
                  <a:lnTo>
                    <a:pt x="80" y="172"/>
                  </a:lnTo>
                  <a:lnTo>
                    <a:pt x="63" y="145"/>
                  </a:lnTo>
                  <a:lnTo>
                    <a:pt x="47" y="123"/>
                  </a:lnTo>
                  <a:lnTo>
                    <a:pt x="36" y="104"/>
                  </a:lnTo>
                  <a:lnTo>
                    <a:pt x="27" y="84"/>
                  </a:lnTo>
                  <a:lnTo>
                    <a:pt x="22" y="63"/>
                  </a:lnTo>
                  <a:lnTo>
                    <a:pt x="21" y="37"/>
                  </a:lnTo>
                  <a:lnTo>
                    <a:pt x="23" y="3"/>
                  </a:lnTo>
                  <a:lnTo>
                    <a:pt x="2" y="0"/>
                  </a:lnTo>
                  <a:lnTo>
                    <a:pt x="0" y="37"/>
                  </a:lnTo>
                  <a:lnTo>
                    <a:pt x="1" y="65"/>
                  </a:lnTo>
                  <a:lnTo>
                    <a:pt x="6" y="91"/>
                  </a:lnTo>
                  <a:lnTo>
                    <a:pt x="17" y="114"/>
                  </a:lnTo>
                  <a:lnTo>
                    <a:pt x="31" y="135"/>
                  </a:lnTo>
                  <a:lnTo>
                    <a:pt x="46" y="157"/>
                  </a:lnTo>
                  <a:lnTo>
                    <a:pt x="62" y="181"/>
                  </a:lnTo>
                  <a:lnTo>
                    <a:pt x="80" y="215"/>
                  </a:lnTo>
                  <a:lnTo>
                    <a:pt x="79" y="208"/>
                  </a:lnTo>
                  <a:lnTo>
                    <a:pt x="80" y="215"/>
                  </a:lnTo>
                  <a:lnTo>
                    <a:pt x="86" y="219"/>
                  </a:lnTo>
                  <a:lnTo>
                    <a:pt x="95" y="218"/>
                  </a:lnTo>
                  <a:lnTo>
                    <a:pt x="99" y="214"/>
                  </a:lnTo>
                  <a:lnTo>
                    <a:pt x="99" y="206"/>
                  </a:lnTo>
                  <a:lnTo>
                    <a:pt x="10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H="1">
              <a:off x="4313160" y="2601720"/>
              <a:ext cx="72720" cy="328680"/>
            </a:xfrm>
            <a:custGeom>
              <a:avLst/>
              <a:gdLst/>
              <a:ahLst/>
              <a:rect l="l" t="t" r="r" b="b"/>
              <a:pathLst>
                <a:path w="173" h="797">
                  <a:moveTo>
                    <a:pt x="22" y="797"/>
                  </a:moveTo>
                  <a:lnTo>
                    <a:pt x="36" y="701"/>
                  </a:lnTo>
                  <a:lnTo>
                    <a:pt x="50" y="601"/>
                  </a:lnTo>
                  <a:lnTo>
                    <a:pt x="65" y="495"/>
                  </a:lnTo>
                  <a:lnTo>
                    <a:pt x="82" y="390"/>
                  </a:lnTo>
                  <a:lnTo>
                    <a:pt x="101" y="286"/>
                  </a:lnTo>
                  <a:lnTo>
                    <a:pt x="122" y="188"/>
                  </a:lnTo>
                  <a:lnTo>
                    <a:pt x="148" y="92"/>
                  </a:lnTo>
                  <a:lnTo>
                    <a:pt x="173" y="4"/>
                  </a:lnTo>
                  <a:lnTo>
                    <a:pt x="152" y="0"/>
                  </a:lnTo>
                  <a:lnTo>
                    <a:pt x="127" y="87"/>
                  </a:lnTo>
                  <a:lnTo>
                    <a:pt x="101" y="182"/>
                  </a:lnTo>
                  <a:lnTo>
                    <a:pt x="80" y="284"/>
                  </a:lnTo>
                  <a:lnTo>
                    <a:pt x="61" y="388"/>
                  </a:lnTo>
                  <a:lnTo>
                    <a:pt x="44" y="493"/>
                  </a:lnTo>
                  <a:lnTo>
                    <a:pt x="28" y="597"/>
                  </a:lnTo>
                  <a:lnTo>
                    <a:pt x="15" y="698"/>
                  </a:lnTo>
                  <a:lnTo>
                    <a:pt x="0" y="795"/>
                  </a:lnTo>
                  <a:lnTo>
                    <a:pt x="22" y="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H="1">
              <a:off x="3960360" y="2442240"/>
              <a:ext cx="62280" cy="80640"/>
            </a:xfrm>
            <a:custGeom>
              <a:avLst/>
              <a:gdLst/>
              <a:ahLst/>
              <a:rect l="l" t="t" r="r" b="b"/>
              <a:pathLst>
                <a:path w="147" h="197">
                  <a:moveTo>
                    <a:pt x="147" y="197"/>
                  </a:moveTo>
                  <a:lnTo>
                    <a:pt x="147" y="197"/>
                  </a:lnTo>
                  <a:lnTo>
                    <a:pt x="147" y="168"/>
                  </a:lnTo>
                  <a:lnTo>
                    <a:pt x="139" y="139"/>
                  </a:lnTo>
                  <a:lnTo>
                    <a:pt x="123" y="109"/>
                  </a:lnTo>
                  <a:lnTo>
                    <a:pt x="103" y="82"/>
                  </a:lnTo>
                  <a:lnTo>
                    <a:pt x="79" y="54"/>
                  </a:lnTo>
                  <a:lnTo>
                    <a:pt x="56" y="32"/>
                  </a:lnTo>
                  <a:lnTo>
                    <a:pt x="31" y="14"/>
                  </a:lnTo>
                  <a:lnTo>
                    <a:pt x="9" y="0"/>
                  </a:lnTo>
                  <a:lnTo>
                    <a:pt x="0" y="19"/>
                  </a:lnTo>
                  <a:lnTo>
                    <a:pt x="20" y="31"/>
                  </a:lnTo>
                  <a:lnTo>
                    <a:pt x="41" y="49"/>
                  </a:lnTo>
                  <a:lnTo>
                    <a:pt x="65" y="69"/>
                  </a:lnTo>
                  <a:lnTo>
                    <a:pt x="87" y="93"/>
                  </a:lnTo>
                  <a:lnTo>
                    <a:pt x="104" y="121"/>
                  </a:lnTo>
                  <a:lnTo>
                    <a:pt x="120" y="145"/>
                  </a:lnTo>
                  <a:lnTo>
                    <a:pt x="125" y="170"/>
                  </a:lnTo>
                  <a:lnTo>
                    <a:pt x="125" y="193"/>
                  </a:lnTo>
                  <a:lnTo>
                    <a:pt x="125" y="193"/>
                  </a:lnTo>
                  <a:lnTo>
                    <a:pt x="147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H="1">
              <a:off x="3961080" y="2520720"/>
              <a:ext cx="38160" cy="7812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23" y="179"/>
                  </a:moveTo>
                  <a:lnTo>
                    <a:pt x="23" y="179"/>
                  </a:lnTo>
                  <a:lnTo>
                    <a:pt x="21" y="163"/>
                  </a:lnTo>
                  <a:lnTo>
                    <a:pt x="24" y="146"/>
                  </a:lnTo>
                  <a:lnTo>
                    <a:pt x="31" y="123"/>
                  </a:lnTo>
                  <a:lnTo>
                    <a:pt x="43" y="101"/>
                  </a:lnTo>
                  <a:lnTo>
                    <a:pt x="58" y="78"/>
                  </a:lnTo>
                  <a:lnTo>
                    <a:pt x="70" y="52"/>
                  </a:lnTo>
                  <a:lnTo>
                    <a:pt x="81" y="28"/>
                  </a:lnTo>
                  <a:lnTo>
                    <a:pt x="89" y="4"/>
                  </a:lnTo>
                  <a:lnTo>
                    <a:pt x="67" y="0"/>
                  </a:lnTo>
                  <a:lnTo>
                    <a:pt x="62" y="21"/>
                  </a:lnTo>
                  <a:lnTo>
                    <a:pt x="51" y="43"/>
                  </a:lnTo>
                  <a:lnTo>
                    <a:pt x="39" y="68"/>
                  </a:lnTo>
                  <a:lnTo>
                    <a:pt x="24" y="92"/>
                  </a:lnTo>
                  <a:lnTo>
                    <a:pt x="12" y="117"/>
                  </a:lnTo>
                  <a:lnTo>
                    <a:pt x="3" y="141"/>
                  </a:lnTo>
                  <a:lnTo>
                    <a:pt x="0" y="163"/>
                  </a:lnTo>
                  <a:lnTo>
                    <a:pt x="4" y="187"/>
                  </a:lnTo>
                  <a:lnTo>
                    <a:pt x="4" y="187"/>
                  </a:lnTo>
                  <a:lnTo>
                    <a:pt x="2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 flipH="1">
              <a:off x="3934440" y="2594880"/>
              <a:ext cx="62280" cy="173880"/>
            </a:xfrm>
            <a:custGeom>
              <a:avLst/>
              <a:gdLst/>
              <a:ahLst/>
              <a:rect l="l" t="t" r="r" b="b"/>
              <a:pathLst>
                <a:path w="144" h="420">
                  <a:moveTo>
                    <a:pt x="144" y="417"/>
                  </a:moveTo>
                  <a:lnTo>
                    <a:pt x="131" y="356"/>
                  </a:lnTo>
                  <a:lnTo>
                    <a:pt x="117" y="298"/>
                  </a:lnTo>
                  <a:lnTo>
                    <a:pt x="102" y="243"/>
                  </a:lnTo>
                  <a:lnTo>
                    <a:pt x="88" y="189"/>
                  </a:lnTo>
                  <a:lnTo>
                    <a:pt x="71" y="137"/>
                  </a:lnTo>
                  <a:lnTo>
                    <a:pt x="54" y="89"/>
                  </a:lnTo>
                  <a:lnTo>
                    <a:pt x="37" y="42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8" y="50"/>
                  </a:lnTo>
                  <a:lnTo>
                    <a:pt x="35" y="95"/>
                  </a:lnTo>
                  <a:lnTo>
                    <a:pt x="50" y="143"/>
                  </a:lnTo>
                  <a:lnTo>
                    <a:pt x="66" y="193"/>
                  </a:lnTo>
                  <a:lnTo>
                    <a:pt x="81" y="247"/>
                  </a:lnTo>
                  <a:lnTo>
                    <a:pt x="96" y="303"/>
                  </a:lnTo>
                  <a:lnTo>
                    <a:pt x="110" y="361"/>
                  </a:lnTo>
                  <a:lnTo>
                    <a:pt x="122" y="420"/>
                  </a:lnTo>
                  <a:lnTo>
                    <a:pt x="144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4199040" y="2206080"/>
              <a:ext cx="72720" cy="438480"/>
            </a:xfrm>
            <a:custGeom>
              <a:avLst/>
              <a:gdLst/>
              <a:ahLst/>
              <a:rect l="l" t="t" r="r" b="b"/>
              <a:pathLst>
                <a:path w="174" h="1058">
                  <a:moveTo>
                    <a:pt x="98" y="5"/>
                  </a:moveTo>
                  <a:lnTo>
                    <a:pt x="91" y="0"/>
                  </a:lnTo>
                  <a:lnTo>
                    <a:pt x="77" y="1"/>
                  </a:lnTo>
                  <a:lnTo>
                    <a:pt x="59" y="5"/>
                  </a:lnTo>
                  <a:lnTo>
                    <a:pt x="39" y="13"/>
                  </a:lnTo>
                  <a:lnTo>
                    <a:pt x="21" y="22"/>
                  </a:lnTo>
                  <a:lnTo>
                    <a:pt x="7" y="31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23" y="84"/>
                  </a:lnTo>
                  <a:lnTo>
                    <a:pt x="29" y="127"/>
                  </a:lnTo>
                  <a:lnTo>
                    <a:pt x="28" y="176"/>
                  </a:lnTo>
                  <a:lnTo>
                    <a:pt x="21" y="227"/>
                  </a:lnTo>
                  <a:lnTo>
                    <a:pt x="14" y="278"/>
                  </a:lnTo>
                  <a:lnTo>
                    <a:pt x="5" y="329"/>
                  </a:lnTo>
                  <a:lnTo>
                    <a:pt x="1" y="375"/>
                  </a:lnTo>
                  <a:lnTo>
                    <a:pt x="5" y="415"/>
                  </a:lnTo>
                  <a:lnTo>
                    <a:pt x="8" y="419"/>
                  </a:lnTo>
                  <a:lnTo>
                    <a:pt x="17" y="421"/>
                  </a:lnTo>
                  <a:lnTo>
                    <a:pt x="28" y="424"/>
                  </a:lnTo>
                  <a:lnTo>
                    <a:pt x="41" y="425"/>
                  </a:lnTo>
                  <a:lnTo>
                    <a:pt x="55" y="427"/>
                  </a:lnTo>
                  <a:lnTo>
                    <a:pt x="66" y="429"/>
                  </a:lnTo>
                  <a:lnTo>
                    <a:pt x="74" y="434"/>
                  </a:lnTo>
                  <a:lnTo>
                    <a:pt x="77" y="441"/>
                  </a:lnTo>
                  <a:lnTo>
                    <a:pt x="74" y="447"/>
                  </a:lnTo>
                  <a:lnTo>
                    <a:pt x="66" y="451"/>
                  </a:lnTo>
                  <a:lnTo>
                    <a:pt x="55" y="457"/>
                  </a:lnTo>
                  <a:lnTo>
                    <a:pt x="41" y="460"/>
                  </a:lnTo>
                  <a:lnTo>
                    <a:pt x="28" y="466"/>
                  </a:lnTo>
                  <a:lnTo>
                    <a:pt x="18" y="471"/>
                  </a:lnTo>
                  <a:lnTo>
                    <a:pt x="10" y="479"/>
                  </a:lnTo>
                  <a:lnTo>
                    <a:pt x="9" y="487"/>
                  </a:lnTo>
                  <a:lnTo>
                    <a:pt x="19" y="547"/>
                  </a:lnTo>
                  <a:lnTo>
                    <a:pt x="28" y="619"/>
                  </a:lnTo>
                  <a:lnTo>
                    <a:pt x="39" y="699"/>
                  </a:lnTo>
                  <a:lnTo>
                    <a:pt x="54" y="781"/>
                  </a:lnTo>
                  <a:lnTo>
                    <a:pt x="72" y="862"/>
                  </a:lnTo>
                  <a:lnTo>
                    <a:pt x="96" y="939"/>
                  </a:lnTo>
                  <a:lnTo>
                    <a:pt x="128" y="1005"/>
                  </a:lnTo>
                  <a:lnTo>
                    <a:pt x="168" y="1058"/>
                  </a:lnTo>
                  <a:lnTo>
                    <a:pt x="168" y="1033"/>
                  </a:lnTo>
                  <a:lnTo>
                    <a:pt x="168" y="993"/>
                  </a:lnTo>
                  <a:lnTo>
                    <a:pt x="168" y="953"/>
                  </a:lnTo>
                  <a:lnTo>
                    <a:pt x="168" y="930"/>
                  </a:lnTo>
                  <a:lnTo>
                    <a:pt x="167" y="816"/>
                  </a:lnTo>
                  <a:lnTo>
                    <a:pt x="169" y="695"/>
                  </a:lnTo>
                  <a:lnTo>
                    <a:pt x="173" y="571"/>
                  </a:lnTo>
                  <a:lnTo>
                    <a:pt x="174" y="447"/>
                  </a:lnTo>
                  <a:lnTo>
                    <a:pt x="171" y="327"/>
                  </a:lnTo>
                  <a:lnTo>
                    <a:pt x="159" y="212"/>
                  </a:lnTo>
                  <a:lnTo>
                    <a:pt x="136" y="103"/>
                  </a:lnTo>
                  <a:lnTo>
                    <a:pt x="98" y="5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 flipH="1">
              <a:off x="4226400" y="2201760"/>
              <a:ext cx="51480" cy="28800"/>
            </a:xfrm>
            <a:custGeom>
              <a:avLst/>
              <a:gdLst/>
              <a:ahLst/>
              <a:rect l="l" t="t" r="r" b="b"/>
              <a:pathLst>
                <a:path w="119" h="66">
                  <a:moveTo>
                    <a:pt x="21" y="51"/>
                  </a:moveTo>
                  <a:lnTo>
                    <a:pt x="19" y="48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7" y="41"/>
                  </a:lnTo>
                  <a:lnTo>
                    <a:pt x="53" y="33"/>
                  </a:lnTo>
                  <a:lnTo>
                    <a:pt x="72" y="25"/>
                  </a:lnTo>
                  <a:lnTo>
                    <a:pt x="89" y="22"/>
                  </a:lnTo>
                  <a:lnTo>
                    <a:pt x="101" y="21"/>
                  </a:lnTo>
                  <a:lnTo>
                    <a:pt x="100" y="18"/>
                  </a:lnTo>
                  <a:lnTo>
                    <a:pt x="119" y="11"/>
                  </a:lnTo>
                  <a:lnTo>
                    <a:pt x="103" y="0"/>
                  </a:lnTo>
                  <a:lnTo>
                    <a:pt x="87" y="1"/>
                  </a:lnTo>
                  <a:lnTo>
                    <a:pt x="68" y="4"/>
                  </a:lnTo>
                  <a:lnTo>
                    <a:pt x="47" y="14"/>
                  </a:lnTo>
                  <a:lnTo>
                    <a:pt x="28" y="22"/>
                  </a:lnTo>
                  <a:lnTo>
                    <a:pt x="11" y="33"/>
                  </a:lnTo>
                  <a:lnTo>
                    <a:pt x="0" y="47"/>
                  </a:lnTo>
                  <a:lnTo>
                    <a:pt x="8" y="65"/>
                  </a:lnTo>
                  <a:lnTo>
                    <a:pt x="6" y="64"/>
                  </a:lnTo>
                  <a:lnTo>
                    <a:pt x="8" y="65"/>
                  </a:lnTo>
                  <a:lnTo>
                    <a:pt x="16" y="66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19" y="48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H="1">
              <a:off x="4254480" y="2224800"/>
              <a:ext cx="21240" cy="155160"/>
            </a:xfrm>
            <a:custGeom>
              <a:avLst/>
              <a:gdLst/>
              <a:ahLst/>
              <a:rect l="l" t="t" r="r" b="b"/>
              <a:pathLst>
                <a:path w="50" h="377">
                  <a:moveTo>
                    <a:pt x="26" y="373"/>
                  </a:moveTo>
                  <a:lnTo>
                    <a:pt x="26" y="372"/>
                  </a:lnTo>
                  <a:lnTo>
                    <a:pt x="23" y="334"/>
                  </a:lnTo>
                  <a:lnTo>
                    <a:pt x="26" y="289"/>
                  </a:lnTo>
                  <a:lnTo>
                    <a:pt x="34" y="238"/>
                  </a:lnTo>
                  <a:lnTo>
                    <a:pt x="42" y="188"/>
                  </a:lnTo>
                  <a:lnTo>
                    <a:pt x="49" y="135"/>
                  </a:lnTo>
                  <a:lnTo>
                    <a:pt x="50" y="86"/>
                  </a:lnTo>
                  <a:lnTo>
                    <a:pt x="44" y="40"/>
                  </a:lnTo>
                  <a:lnTo>
                    <a:pt x="20" y="0"/>
                  </a:lnTo>
                  <a:lnTo>
                    <a:pt x="5" y="13"/>
                  </a:lnTo>
                  <a:lnTo>
                    <a:pt x="23" y="46"/>
                  </a:lnTo>
                  <a:lnTo>
                    <a:pt x="29" y="86"/>
                  </a:lnTo>
                  <a:lnTo>
                    <a:pt x="28" y="135"/>
                  </a:lnTo>
                  <a:lnTo>
                    <a:pt x="20" y="185"/>
                  </a:lnTo>
                  <a:lnTo>
                    <a:pt x="13" y="236"/>
                  </a:lnTo>
                  <a:lnTo>
                    <a:pt x="5" y="287"/>
                  </a:lnTo>
                  <a:lnTo>
                    <a:pt x="0" y="334"/>
                  </a:lnTo>
                  <a:lnTo>
                    <a:pt x="5" y="377"/>
                  </a:lnTo>
                  <a:lnTo>
                    <a:pt x="5" y="375"/>
                  </a:lnTo>
                  <a:lnTo>
                    <a:pt x="26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H="1">
              <a:off x="4235760" y="2376000"/>
              <a:ext cx="38160" cy="1440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93" y="32"/>
                  </a:moveTo>
                  <a:lnTo>
                    <a:pt x="93" y="32"/>
                  </a:lnTo>
                  <a:lnTo>
                    <a:pt x="86" y="18"/>
                  </a:lnTo>
                  <a:lnTo>
                    <a:pt x="75" y="11"/>
                  </a:lnTo>
                  <a:lnTo>
                    <a:pt x="61" y="7"/>
                  </a:lnTo>
                  <a:lnTo>
                    <a:pt x="47" y="5"/>
                  </a:lnTo>
                  <a:lnTo>
                    <a:pt x="34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21" y="5"/>
                  </a:lnTo>
                  <a:lnTo>
                    <a:pt x="0" y="7"/>
                  </a:lnTo>
                  <a:lnTo>
                    <a:pt x="9" y="19"/>
                  </a:lnTo>
                  <a:lnTo>
                    <a:pt x="20" y="22"/>
                  </a:lnTo>
                  <a:lnTo>
                    <a:pt x="32" y="25"/>
                  </a:lnTo>
                  <a:lnTo>
                    <a:pt x="45" y="26"/>
                  </a:lnTo>
                  <a:lnTo>
                    <a:pt x="59" y="29"/>
                  </a:lnTo>
                  <a:lnTo>
                    <a:pt x="67" y="30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H="1">
              <a:off x="4235760" y="2388240"/>
              <a:ext cx="38160" cy="2052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21" y="46"/>
                  </a:moveTo>
                  <a:lnTo>
                    <a:pt x="21" y="46"/>
                  </a:lnTo>
                  <a:lnTo>
                    <a:pt x="21" y="44"/>
                  </a:lnTo>
                  <a:lnTo>
                    <a:pt x="25" y="40"/>
                  </a:lnTo>
                  <a:lnTo>
                    <a:pt x="35" y="36"/>
                  </a:lnTo>
                  <a:lnTo>
                    <a:pt x="46" y="29"/>
                  </a:lnTo>
                  <a:lnTo>
                    <a:pt x="58" y="27"/>
                  </a:lnTo>
                  <a:lnTo>
                    <a:pt x="72" y="21"/>
                  </a:lnTo>
                  <a:lnTo>
                    <a:pt x="81" y="14"/>
                  </a:lnTo>
                  <a:lnTo>
                    <a:pt x="89" y="1"/>
                  </a:lnTo>
                  <a:lnTo>
                    <a:pt x="67" y="1"/>
                  </a:lnTo>
                  <a:lnTo>
                    <a:pt x="67" y="0"/>
                  </a:lnTo>
                  <a:lnTo>
                    <a:pt x="62" y="3"/>
                  </a:lnTo>
                  <a:lnTo>
                    <a:pt x="53" y="6"/>
                  </a:lnTo>
                  <a:lnTo>
                    <a:pt x="39" y="10"/>
                  </a:lnTo>
                  <a:lnTo>
                    <a:pt x="25" y="17"/>
                  </a:lnTo>
                  <a:lnTo>
                    <a:pt x="14" y="24"/>
                  </a:lnTo>
                  <a:lnTo>
                    <a:pt x="2" y="3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>
              <a:off x="4196880" y="2408760"/>
              <a:ext cx="76680" cy="240120"/>
            </a:xfrm>
            <a:custGeom>
              <a:avLst/>
              <a:gdLst/>
              <a:ahLst/>
              <a:rect l="l" t="t" r="r" b="b"/>
              <a:pathLst>
                <a:path w="179" h="583">
                  <a:moveTo>
                    <a:pt x="158" y="572"/>
                  </a:moveTo>
                  <a:lnTo>
                    <a:pt x="175" y="565"/>
                  </a:lnTo>
                  <a:lnTo>
                    <a:pt x="138" y="514"/>
                  </a:lnTo>
                  <a:lnTo>
                    <a:pt x="106" y="449"/>
                  </a:lnTo>
                  <a:lnTo>
                    <a:pt x="83" y="374"/>
                  </a:lnTo>
                  <a:lnTo>
                    <a:pt x="65" y="294"/>
                  </a:lnTo>
                  <a:lnTo>
                    <a:pt x="51" y="212"/>
                  </a:lnTo>
                  <a:lnTo>
                    <a:pt x="40" y="132"/>
                  </a:lnTo>
                  <a:lnTo>
                    <a:pt x="30" y="60"/>
                  </a:lnTo>
                  <a:lnTo>
                    <a:pt x="21" y="0"/>
                  </a:lnTo>
                  <a:lnTo>
                    <a:pt x="0" y="2"/>
                  </a:lnTo>
                  <a:lnTo>
                    <a:pt x="9" y="62"/>
                  </a:lnTo>
                  <a:lnTo>
                    <a:pt x="19" y="134"/>
                  </a:lnTo>
                  <a:lnTo>
                    <a:pt x="29" y="215"/>
                  </a:lnTo>
                  <a:lnTo>
                    <a:pt x="43" y="296"/>
                  </a:lnTo>
                  <a:lnTo>
                    <a:pt x="62" y="378"/>
                  </a:lnTo>
                  <a:lnTo>
                    <a:pt x="87" y="456"/>
                  </a:lnTo>
                  <a:lnTo>
                    <a:pt x="119" y="524"/>
                  </a:lnTo>
                  <a:lnTo>
                    <a:pt x="161" y="579"/>
                  </a:lnTo>
                  <a:lnTo>
                    <a:pt x="179" y="572"/>
                  </a:lnTo>
                  <a:lnTo>
                    <a:pt x="161" y="579"/>
                  </a:lnTo>
                  <a:lnTo>
                    <a:pt x="169" y="583"/>
                  </a:lnTo>
                  <a:lnTo>
                    <a:pt x="175" y="579"/>
                  </a:lnTo>
                  <a:lnTo>
                    <a:pt x="179" y="572"/>
                  </a:lnTo>
                  <a:lnTo>
                    <a:pt x="175" y="565"/>
                  </a:lnTo>
                  <a:lnTo>
                    <a:pt x="158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H="1">
              <a:off x="4197240" y="2591280"/>
              <a:ext cx="7920" cy="53280"/>
            </a:xfrm>
            <a:custGeom>
              <a:avLst/>
              <a:gdLst/>
              <a:ahLst/>
              <a:rect l="l" t="t" r="r" b="b"/>
              <a:pathLst>
                <a:path w="21" h="128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63"/>
                  </a:lnTo>
                  <a:lnTo>
                    <a:pt x="0" y="103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21" y="103"/>
                  </a:lnTo>
                  <a:lnTo>
                    <a:pt x="21" y="63"/>
                  </a:lnTo>
                  <a:lnTo>
                    <a:pt x="21" y="2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H="1">
              <a:off x="4192200" y="2204280"/>
              <a:ext cx="42840" cy="387000"/>
            </a:xfrm>
            <a:custGeom>
              <a:avLst/>
              <a:gdLst/>
              <a:ahLst/>
              <a:rect l="l" t="t" r="r" b="b"/>
              <a:pathLst>
                <a:path w="96" h="935">
                  <a:moveTo>
                    <a:pt x="0" y="13"/>
                  </a:moveTo>
                  <a:lnTo>
                    <a:pt x="0" y="14"/>
                  </a:lnTo>
                  <a:lnTo>
                    <a:pt x="37" y="110"/>
                  </a:lnTo>
                  <a:lnTo>
                    <a:pt x="60" y="218"/>
                  </a:lnTo>
                  <a:lnTo>
                    <a:pt x="71" y="332"/>
                  </a:lnTo>
                  <a:lnTo>
                    <a:pt x="75" y="452"/>
                  </a:lnTo>
                  <a:lnTo>
                    <a:pt x="74" y="576"/>
                  </a:lnTo>
                  <a:lnTo>
                    <a:pt x="69" y="700"/>
                  </a:lnTo>
                  <a:lnTo>
                    <a:pt x="67" y="821"/>
                  </a:lnTo>
                  <a:lnTo>
                    <a:pt x="68" y="935"/>
                  </a:lnTo>
                  <a:lnTo>
                    <a:pt x="89" y="935"/>
                  </a:lnTo>
                  <a:lnTo>
                    <a:pt x="88" y="821"/>
                  </a:lnTo>
                  <a:lnTo>
                    <a:pt x="90" y="700"/>
                  </a:lnTo>
                  <a:lnTo>
                    <a:pt x="95" y="576"/>
                  </a:lnTo>
                  <a:lnTo>
                    <a:pt x="96" y="452"/>
                  </a:lnTo>
                  <a:lnTo>
                    <a:pt x="93" y="332"/>
                  </a:lnTo>
                  <a:lnTo>
                    <a:pt x="81" y="215"/>
                  </a:lnTo>
                  <a:lnTo>
                    <a:pt x="58" y="106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3990240" y="1850400"/>
              <a:ext cx="427320" cy="446400"/>
            </a:xfrm>
            <a:custGeom>
              <a:avLst/>
              <a:gdLst/>
              <a:ahLst/>
              <a:rect l="l" t="t" r="r" b="b"/>
              <a:pathLst>
                <a:path w="997" h="1084">
                  <a:moveTo>
                    <a:pt x="866" y="316"/>
                  </a:moveTo>
                  <a:lnTo>
                    <a:pt x="854" y="332"/>
                  </a:lnTo>
                  <a:lnTo>
                    <a:pt x="838" y="344"/>
                  </a:lnTo>
                  <a:lnTo>
                    <a:pt x="820" y="353"/>
                  </a:lnTo>
                  <a:lnTo>
                    <a:pt x="801" y="361"/>
                  </a:lnTo>
                  <a:lnTo>
                    <a:pt x="780" y="365"/>
                  </a:lnTo>
                  <a:lnTo>
                    <a:pt x="759" y="368"/>
                  </a:lnTo>
                  <a:lnTo>
                    <a:pt x="737" y="371"/>
                  </a:lnTo>
                  <a:lnTo>
                    <a:pt x="719" y="371"/>
                  </a:lnTo>
                  <a:lnTo>
                    <a:pt x="710" y="402"/>
                  </a:lnTo>
                  <a:lnTo>
                    <a:pt x="699" y="429"/>
                  </a:lnTo>
                  <a:lnTo>
                    <a:pt x="685" y="454"/>
                  </a:lnTo>
                  <a:lnTo>
                    <a:pt x="671" y="476"/>
                  </a:lnTo>
                  <a:lnTo>
                    <a:pt x="653" y="495"/>
                  </a:lnTo>
                  <a:lnTo>
                    <a:pt x="631" y="514"/>
                  </a:lnTo>
                  <a:lnTo>
                    <a:pt x="608" y="530"/>
                  </a:lnTo>
                  <a:lnTo>
                    <a:pt x="581" y="547"/>
                  </a:lnTo>
                  <a:lnTo>
                    <a:pt x="574" y="555"/>
                  </a:lnTo>
                  <a:lnTo>
                    <a:pt x="571" y="567"/>
                  </a:lnTo>
                  <a:lnTo>
                    <a:pt x="570" y="579"/>
                  </a:lnTo>
                  <a:lnTo>
                    <a:pt x="570" y="590"/>
                  </a:lnTo>
                  <a:lnTo>
                    <a:pt x="459" y="958"/>
                  </a:lnTo>
                  <a:lnTo>
                    <a:pt x="455" y="967"/>
                  </a:lnTo>
                  <a:lnTo>
                    <a:pt x="447" y="972"/>
                  </a:lnTo>
                  <a:lnTo>
                    <a:pt x="436" y="977"/>
                  </a:lnTo>
                  <a:lnTo>
                    <a:pt x="421" y="980"/>
                  </a:lnTo>
                  <a:lnTo>
                    <a:pt x="405" y="981"/>
                  </a:lnTo>
                  <a:lnTo>
                    <a:pt x="388" y="981"/>
                  </a:lnTo>
                  <a:lnTo>
                    <a:pt x="369" y="980"/>
                  </a:lnTo>
                  <a:lnTo>
                    <a:pt x="348" y="980"/>
                  </a:lnTo>
                  <a:lnTo>
                    <a:pt x="328" y="978"/>
                  </a:lnTo>
                  <a:lnTo>
                    <a:pt x="308" y="977"/>
                  </a:lnTo>
                  <a:lnTo>
                    <a:pt x="290" y="977"/>
                  </a:lnTo>
                  <a:lnTo>
                    <a:pt x="272" y="977"/>
                  </a:lnTo>
                  <a:lnTo>
                    <a:pt x="256" y="980"/>
                  </a:lnTo>
                  <a:lnTo>
                    <a:pt x="241" y="982"/>
                  </a:lnTo>
                  <a:lnTo>
                    <a:pt x="229" y="987"/>
                  </a:lnTo>
                  <a:lnTo>
                    <a:pt x="221" y="993"/>
                  </a:lnTo>
                  <a:lnTo>
                    <a:pt x="212" y="1003"/>
                  </a:lnTo>
                  <a:lnTo>
                    <a:pt x="206" y="1012"/>
                  </a:lnTo>
                  <a:lnTo>
                    <a:pt x="201" y="1021"/>
                  </a:lnTo>
                  <a:lnTo>
                    <a:pt x="195" y="1029"/>
                  </a:lnTo>
                  <a:lnTo>
                    <a:pt x="191" y="1039"/>
                  </a:lnTo>
                  <a:lnTo>
                    <a:pt x="186" y="1051"/>
                  </a:lnTo>
                  <a:lnTo>
                    <a:pt x="181" y="1066"/>
                  </a:lnTo>
                  <a:lnTo>
                    <a:pt x="173" y="1084"/>
                  </a:lnTo>
                  <a:lnTo>
                    <a:pt x="151" y="1071"/>
                  </a:lnTo>
                  <a:lnTo>
                    <a:pt x="135" y="1059"/>
                  </a:lnTo>
                  <a:lnTo>
                    <a:pt x="128" y="1044"/>
                  </a:lnTo>
                  <a:lnTo>
                    <a:pt x="122" y="1029"/>
                  </a:lnTo>
                  <a:lnTo>
                    <a:pt x="121" y="1012"/>
                  </a:lnTo>
                  <a:lnTo>
                    <a:pt x="120" y="995"/>
                  </a:lnTo>
                  <a:lnTo>
                    <a:pt x="119" y="975"/>
                  </a:lnTo>
                  <a:lnTo>
                    <a:pt x="114" y="953"/>
                  </a:lnTo>
                  <a:lnTo>
                    <a:pt x="103" y="928"/>
                  </a:lnTo>
                  <a:lnTo>
                    <a:pt x="90" y="901"/>
                  </a:lnTo>
                  <a:lnTo>
                    <a:pt x="74" y="877"/>
                  </a:lnTo>
                  <a:lnTo>
                    <a:pt x="58" y="851"/>
                  </a:lnTo>
                  <a:lnTo>
                    <a:pt x="41" y="826"/>
                  </a:lnTo>
                  <a:lnTo>
                    <a:pt x="26" y="801"/>
                  </a:lnTo>
                  <a:lnTo>
                    <a:pt x="13" y="776"/>
                  </a:lnTo>
                  <a:lnTo>
                    <a:pt x="5" y="749"/>
                  </a:lnTo>
                  <a:lnTo>
                    <a:pt x="0" y="717"/>
                  </a:lnTo>
                  <a:lnTo>
                    <a:pt x="2" y="684"/>
                  </a:lnTo>
                  <a:lnTo>
                    <a:pt x="8" y="653"/>
                  </a:lnTo>
                  <a:lnTo>
                    <a:pt x="19" y="623"/>
                  </a:lnTo>
                  <a:lnTo>
                    <a:pt x="33" y="593"/>
                  </a:lnTo>
                  <a:lnTo>
                    <a:pt x="51" y="565"/>
                  </a:lnTo>
                  <a:lnTo>
                    <a:pt x="71" y="536"/>
                  </a:lnTo>
                  <a:lnTo>
                    <a:pt x="92" y="509"/>
                  </a:lnTo>
                  <a:lnTo>
                    <a:pt x="114" y="482"/>
                  </a:lnTo>
                  <a:lnTo>
                    <a:pt x="137" y="455"/>
                  </a:lnTo>
                  <a:lnTo>
                    <a:pt x="159" y="428"/>
                  </a:lnTo>
                  <a:lnTo>
                    <a:pt x="181" y="403"/>
                  </a:lnTo>
                  <a:lnTo>
                    <a:pt x="200" y="377"/>
                  </a:lnTo>
                  <a:lnTo>
                    <a:pt x="215" y="351"/>
                  </a:lnTo>
                  <a:lnTo>
                    <a:pt x="230" y="326"/>
                  </a:lnTo>
                  <a:lnTo>
                    <a:pt x="241" y="301"/>
                  </a:lnTo>
                  <a:lnTo>
                    <a:pt x="243" y="266"/>
                  </a:lnTo>
                  <a:lnTo>
                    <a:pt x="235" y="228"/>
                  </a:lnTo>
                  <a:lnTo>
                    <a:pt x="231" y="192"/>
                  </a:lnTo>
                  <a:lnTo>
                    <a:pt x="234" y="157"/>
                  </a:lnTo>
                  <a:lnTo>
                    <a:pt x="247" y="132"/>
                  </a:lnTo>
                  <a:lnTo>
                    <a:pt x="263" y="110"/>
                  </a:lnTo>
                  <a:lnTo>
                    <a:pt x="280" y="93"/>
                  </a:lnTo>
                  <a:lnTo>
                    <a:pt x="297" y="77"/>
                  </a:lnTo>
                  <a:lnTo>
                    <a:pt x="315" y="65"/>
                  </a:lnTo>
                  <a:lnTo>
                    <a:pt x="335" y="56"/>
                  </a:lnTo>
                  <a:lnTo>
                    <a:pt x="356" y="49"/>
                  </a:lnTo>
                  <a:lnTo>
                    <a:pt x="377" y="43"/>
                  </a:lnTo>
                  <a:lnTo>
                    <a:pt x="398" y="39"/>
                  </a:lnTo>
                  <a:lnTo>
                    <a:pt x="420" y="36"/>
                  </a:lnTo>
                  <a:lnTo>
                    <a:pt x="445" y="32"/>
                  </a:lnTo>
                  <a:lnTo>
                    <a:pt x="467" y="30"/>
                  </a:lnTo>
                  <a:lnTo>
                    <a:pt x="490" y="27"/>
                  </a:lnTo>
                  <a:lnTo>
                    <a:pt x="512" y="24"/>
                  </a:lnTo>
                  <a:lnTo>
                    <a:pt x="536" y="21"/>
                  </a:lnTo>
                  <a:lnTo>
                    <a:pt x="559" y="14"/>
                  </a:lnTo>
                  <a:lnTo>
                    <a:pt x="583" y="9"/>
                  </a:lnTo>
                  <a:lnTo>
                    <a:pt x="608" y="4"/>
                  </a:lnTo>
                  <a:lnTo>
                    <a:pt x="630" y="1"/>
                  </a:lnTo>
                  <a:lnTo>
                    <a:pt x="653" y="0"/>
                  </a:lnTo>
                  <a:lnTo>
                    <a:pt x="674" y="0"/>
                  </a:lnTo>
                  <a:lnTo>
                    <a:pt x="695" y="1"/>
                  </a:lnTo>
                  <a:lnTo>
                    <a:pt x="715" y="3"/>
                  </a:lnTo>
                  <a:lnTo>
                    <a:pt x="735" y="6"/>
                  </a:lnTo>
                  <a:lnTo>
                    <a:pt x="754" y="12"/>
                  </a:lnTo>
                  <a:lnTo>
                    <a:pt x="773" y="19"/>
                  </a:lnTo>
                  <a:lnTo>
                    <a:pt x="793" y="26"/>
                  </a:lnTo>
                  <a:lnTo>
                    <a:pt x="812" y="34"/>
                  </a:lnTo>
                  <a:lnTo>
                    <a:pt x="832" y="45"/>
                  </a:lnTo>
                  <a:lnTo>
                    <a:pt x="852" y="56"/>
                  </a:lnTo>
                  <a:lnTo>
                    <a:pt x="872" y="67"/>
                  </a:lnTo>
                  <a:lnTo>
                    <a:pt x="893" y="81"/>
                  </a:lnTo>
                  <a:lnTo>
                    <a:pt x="914" y="94"/>
                  </a:lnTo>
                  <a:lnTo>
                    <a:pt x="935" y="107"/>
                  </a:lnTo>
                  <a:lnTo>
                    <a:pt x="954" y="123"/>
                  </a:lnTo>
                  <a:lnTo>
                    <a:pt x="967" y="141"/>
                  </a:lnTo>
                  <a:lnTo>
                    <a:pt x="975" y="161"/>
                  </a:lnTo>
                  <a:lnTo>
                    <a:pt x="975" y="182"/>
                  </a:lnTo>
                  <a:lnTo>
                    <a:pt x="965" y="207"/>
                  </a:lnTo>
                  <a:lnTo>
                    <a:pt x="943" y="234"/>
                  </a:lnTo>
                  <a:lnTo>
                    <a:pt x="974" y="269"/>
                  </a:lnTo>
                  <a:lnTo>
                    <a:pt x="991" y="302"/>
                  </a:lnTo>
                  <a:lnTo>
                    <a:pt x="997" y="331"/>
                  </a:lnTo>
                  <a:lnTo>
                    <a:pt x="994" y="359"/>
                  </a:lnTo>
                  <a:lnTo>
                    <a:pt x="983" y="386"/>
                  </a:lnTo>
                  <a:lnTo>
                    <a:pt x="964" y="414"/>
                  </a:lnTo>
                  <a:lnTo>
                    <a:pt x="940" y="440"/>
                  </a:lnTo>
                  <a:lnTo>
                    <a:pt x="913" y="468"/>
                  </a:lnTo>
                  <a:lnTo>
                    <a:pt x="912" y="445"/>
                  </a:lnTo>
                  <a:lnTo>
                    <a:pt x="909" y="424"/>
                  </a:lnTo>
                  <a:lnTo>
                    <a:pt x="905" y="404"/>
                  </a:lnTo>
                  <a:lnTo>
                    <a:pt x="900" y="385"/>
                  </a:lnTo>
                  <a:lnTo>
                    <a:pt x="893" y="367"/>
                  </a:lnTo>
                  <a:lnTo>
                    <a:pt x="885" y="349"/>
                  </a:lnTo>
                  <a:lnTo>
                    <a:pt x="875" y="333"/>
                  </a:lnTo>
                  <a:lnTo>
                    <a:pt x="866" y="316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H="1">
              <a:off x="4041720" y="1978560"/>
              <a:ext cx="70920" cy="28800"/>
            </a:xfrm>
            <a:custGeom>
              <a:avLst/>
              <a:gdLst/>
              <a:ahLst/>
              <a:rect l="l" t="t" r="r" b="b"/>
              <a:pathLst>
                <a:path w="164" h="69">
                  <a:moveTo>
                    <a:pt x="19" y="61"/>
                  </a:moveTo>
                  <a:lnTo>
                    <a:pt x="9" y="69"/>
                  </a:lnTo>
                  <a:lnTo>
                    <a:pt x="27" y="69"/>
                  </a:lnTo>
                  <a:lnTo>
                    <a:pt x="50" y="66"/>
                  </a:lnTo>
                  <a:lnTo>
                    <a:pt x="71" y="62"/>
                  </a:lnTo>
                  <a:lnTo>
                    <a:pt x="94" y="57"/>
                  </a:lnTo>
                  <a:lnTo>
                    <a:pt x="114" y="50"/>
                  </a:lnTo>
                  <a:lnTo>
                    <a:pt x="134" y="40"/>
                  </a:lnTo>
                  <a:lnTo>
                    <a:pt x="151" y="26"/>
                  </a:lnTo>
                  <a:lnTo>
                    <a:pt x="164" y="10"/>
                  </a:lnTo>
                  <a:lnTo>
                    <a:pt x="147" y="0"/>
                  </a:lnTo>
                  <a:lnTo>
                    <a:pt x="138" y="14"/>
                  </a:lnTo>
                  <a:lnTo>
                    <a:pt x="124" y="23"/>
                  </a:lnTo>
                  <a:lnTo>
                    <a:pt x="106" y="33"/>
                  </a:lnTo>
                  <a:lnTo>
                    <a:pt x="88" y="39"/>
                  </a:lnTo>
                  <a:lnTo>
                    <a:pt x="68" y="43"/>
                  </a:lnTo>
                  <a:lnTo>
                    <a:pt x="47" y="47"/>
                  </a:lnTo>
                  <a:lnTo>
                    <a:pt x="27" y="50"/>
                  </a:lnTo>
                  <a:lnTo>
                    <a:pt x="9" y="50"/>
                  </a:lnTo>
                  <a:lnTo>
                    <a:pt x="0" y="56"/>
                  </a:lnTo>
                  <a:lnTo>
                    <a:pt x="9" y="50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9" y="69"/>
                  </a:lnTo>
                  <a:lnTo>
                    <a:pt x="1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4104000" y="2001600"/>
              <a:ext cx="66600" cy="7812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9" y="187"/>
                  </a:moveTo>
                  <a:lnTo>
                    <a:pt x="9" y="187"/>
                  </a:lnTo>
                  <a:lnTo>
                    <a:pt x="35" y="170"/>
                  </a:lnTo>
                  <a:lnTo>
                    <a:pt x="61" y="152"/>
                  </a:lnTo>
                  <a:lnTo>
                    <a:pt x="82" y="134"/>
                  </a:lnTo>
                  <a:lnTo>
                    <a:pt x="101" y="114"/>
                  </a:lnTo>
                  <a:lnTo>
                    <a:pt x="117" y="90"/>
                  </a:lnTo>
                  <a:lnTo>
                    <a:pt x="129" y="66"/>
                  </a:lnTo>
                  <a:lnTo>
                    <a:pt x="141" y="36"/>
                  </a:lnTo>
                  <a:lnTo>
                    <a:pt x="152" y="5"/>
                  </a:lnTo>
                  <a:lnTo>
                    <a:pt x="133" y="0"/>
                  </a:lnTo>
                  <a:lnTo>
                    <a:pt x="124" y="31"/>
                  </a:lnTo>
                  <a:lnTo>
                    <a:pt x="114" y="58"/>
                  </a:lnTo>
                  <a:lnTo>
                    <a:pt x="101" y="80"/>
                  </a:lnTo>
                  <a:lnTo>
                    <a:pt x="86" y="102"/>
                  </a:lnTo>
                  <a:lnTo>
                    <a:pt x="70" y="119"/>
                  </a:lnTo>
                  <a:lnTo>
                    <a:pt x="48" y="138"/>
                  </a:lnTo>
                  <a:lnTo>
                    <a:pt x="26" y="154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9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4166640" y="2071800"/>
              <a:ext cx="10440" cy="2232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19" y="55"/>
                  </a:moveTo>
                  <a:lnTo>
                    <a:pt x="19" y="52"/>
                  </a:lnTo>
                  <a:lnTo>
                    <a:pt x="19" y="41"/>
                  </a:lnTo>
                  <a:lnTo>
                    <a:pt x="20" y="30"/>
                  </a:lnTo>
                  <a:lnTo>
                    <a:pt x="22" y="20"/>
                  </a:lnTo>
                  <a:lnTo>
                    <a:pt x="25" y="17"/>
                  </a:lnTo>
                  <a:lnTo>
                    <a:pt x="16" y="0"/>
                  </a:lnTo>
                  <a:lnTo>
                    <a:pt x="6" y="14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4168440" y="2092680"/>
              <a:ext cx="55800" cy="155160"/>
            </a:xfrm>
            <a:custGeom>
              <a:avLst/>
              <a:gdLst/>
              <a:ahLst/>
              <a:rect l="l" t="t" r="r" b="b"/>
              <a:pathLst>
                <a:path w="130" h="373">
                  <a:moveTo>
                    <a:pt x="19" y="373"/>
                  </a:moveTo>
                  <a:lnTo>
                    <a:pt x="19" y="373"/>
                  </a:lnTo>
                  <a:lnTo>
                    <a:pt x="130" y="5"/>
                  </a:lnTo>
                  <a:lnTo>
                    <a:pt x="111" y="0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19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H="1">
              <a:off x="4215960" y="2245320"/>
              <a:ext cx="109440" cy="18720"/>
            </a:xfrm>
            <a:custGeom>
              <a:avLst/>
              <a:gdLst/>
              <a:ahLst/>
              <a:rect l="l" t="t" r="r" b="b"/>
              <a:pathLst>
                <a:path w="256" h="44">
                  <a:moveTo>
                    <a:pt x="14" y="44"/>
                  </a:moveTo>
                  <a:lnTo>
                    <a:pt x="14" y="44"/>
                  </a:lnTo>
                  <a:lnTo>
                    <a:pt x="20" y="39"/>
                  </a:lnTo>
                  <a:lnTo>
                    <a:pt x="30" y="35"/>
                  </a:lnTo>
                  <a:lnTo>
                    <a:pt x="44" y="33"/>
                  </a:lnTo>
                  <a:lnTo>
                    <a:pt x="59" y="31"/>
                  </a:lnTo>
                  <a:lnTo>
                    <a:pt x="77" y="31"/>
                  </a:lnTo>
                  <a:lnTo>
                    <a:pt x="95" y="31"/>
                  </a:lnTo>
                  <a:lnTo>
                    <a:pt x="115" y="32"/>
                  </a:lnTo>
                  <a:lnTo>
                    <a:pt x="135" y="33"/>
                  </a:lnTo>
                  <a:lnTo>
                    <a:pt x="156" y="33"/>
                  </a:lnTo>
                  <a:lnTo>
                    <a:pt x="175" y="34"/>
                  </a:lnTo>
                  <a:lnTo>
                    <a:pt x="192" y="34"/>
                  </a:lnTo>
                  <a:lnTo>
                    <a:pt x="208" y="33"/>
                  </a:lnTo>
                  <a:lnTo>
                    <a:pt x="225" y="31"/>
                  </a:lnTo>
                  <a:lnTo>
                    <a:pt x="238" y="25"/>
                  </a:lnTo>
                  <a:lnTo>
                    <a:pt x="248" y="16"/>
                  </a:lnTo>
                  <a:lnTo>
                    <a:pt x="256" y="5"/>
                  </a:lnTo>
                  <a:lnTo>
                    <a:pt x="237" y="0"/>
                  </a:lnTo>
                  <a:lnTo>
                    <a:pt x="235" y="5"/>
                  </a:lnTo>
                  <a:lnTo>
                    <a:pt x="228" y="9"/>
                  </a:lnTo>
                  <a:lnTo>
                    <a:pt x="221" y="12"/>
                  </a:lnTo>
                  <a:lnTo>
                    <a:pt x="208" y="14"/>
                  </a:lnTo>
                  <a:lnTo>
                    <a:pt x="192" y="15"/>
                  </a:lnTo>
                  <a:lnTo>
                    <a:pt x="175" y="15"/>
                  </a:lnTo>
                  <a:lnTo>
                    <a:pt x="156" y="14"/>
                  </a:lnTo>
                  <a:lnTo>
                    <a:pt x="135" y="14"/>
                  </a:lnTo>
                  <a:lnTo>
                    <a:pt x="115" y="13"/>
                  </a:lnTo>
                  <a:lnTo>
                    <a:pt x="95" y="12"/>
                  </a:lnTo>
                  <a:lnTo>
                    <a:pt x="77" y="12"/>
                  </a:lnTo>
                  <a:lnTo>
                    <a:pt x="59" y="12"/>
                  </a:lnTo>
                  <a:lnTo>
                    <a:pt x="41" y="14"/>
                  </a:lnTo>
                  <a:lnTo>
                    <a:pt x="26" y="16"/>
                  </a:lnTo>
                  <a:lnTo>
                    <a:pt x="11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H="1">
              <a:off x="4321440" y="2258280"/>
              <a:ext cx="25200" cy="42840"/>
            </a:xfrm>
            <a:custGeom>
              <a:avLst/>
              <a:gdLst/>
              <a:ahLst/>
              <a:rect l="l" t="t" r="r" b="b"/>
              <a:pathLst>
                <a:path w="62" h="105">
                  <a:moveTo>
                    <a:pt x="5" y="105"/>
                  </a:moveTo>
                  <a:lnTo>
                    <a:pt x="17" y="100"/>
                  </a:lnTo>
                  <a:lnTo>
                    <a:pt x="24" y="80"/>
                  </a:lnTo>
                  <a:lnTo>
                    <a:pt x="29" y="68"/>
                  </a:lnTo>
                  <a:lnTo>
                    <a:pt x="35" y="54"/>
                  </a:lnTo>
                  <a:lnTo>
                    <a:pt x="39" y="45"/>
                  </a:lnTo>
                  <a:lnTo>
                    <a:pt x="44" y="38"/>
                  </a:lnTo>
                  <a:lnTo>
                    <a:pt x="48" y="30"/>
                  </a:lnTo>
                  <a:lnTo>
                    <a:pt x="55" y="21"/>
                  </a:lnTo>
                  <a:lnTo>
                    <a:pt x="62" y="12"/>
                  </a:lnTo>
                  <a:lnTo>
                    <a:pt x="48" y="0"/>
                  </a:lnTo>
                  <a:lnTo>
                    <a:pt x="40" y="9"/>
                  </a:lnTo>
                  <a:lnTo>
                    <a:pt x="35" y="20"/>
                  </a:lnTo>
                  <a:lnTo>
                    <a:pt x="27" y="28"/>
                  </a:lnTo>
                  <a:lnTo>
                    <a:pt x="23" y="36"/>
                  </a:lnTo>
                  <a:lnTo>
                    <a:pt x="18" y="46"/>
                  </a:lnTo>
                  <a:lnTo>
                    <a:pt x="13" y="60"/>
                  </a:lnTo>
                  <a:lnTo>
                    <a:pt x="7" y="75"/>
                  </a:lnTo>
                  <a:lnTo>
                    <a:pt x="0" y="93"/>
                  </a:lnTo>
                  <a:lnTo>
                    <a:pt x="11" y="89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5" y="105"/>
                  </a:lnTo>
                  <a:lnTo>
                    <a:pt x="11" y="105"/>
                  </a:lnTo>
                  <a:lnTo>
                    <a:pt x="17" y="100"/>
                  </a:lnTo>
                  <a:lnTo>
                    <a:pt x="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H="1">
              <a:off x="4343040" y="2243520"/>
              <a:ext cx="29520" cy="57600"/>
            </a:xfrm>
            <a:custGeom>
              <a:avLst/>
              <a:gdLst/>
              <a:ahLst/>
              <a:rect l="l" t="t" r="r" b="b"/>
              <a:pathLst>
                <a:path w="71" h="142">
                  <a:moveTo>
                    <a:pt x="0" y="5"/>
                  </a:moveTo>
                  <a:lnTo>
                    <a:pt x="0" y="5"/>
                  </a:lnTo>
                  <a:lnTo>
                    <a:pt x="5" y="25"/>
                  </a:lnTo>
                  <a:lnTo>
                    <a:pt x="6" y="44"/>
                  </a:lnTo>
                  <a:lnTo>
                    <a:pt x="7" y="61"/>
                  </a:lnTo>
                  <a:lnTo>
                    <a:pt x="8" y="79"/>
                  </a:lnTo>
                  <a:lnTo>
                    <a:pt x="14" y="97"/>
                  </a:lnTo>
                  <a:lnTo>
                    <a:pt x="24" y="113"/>
                  </a:lnTo>
                  <a:lnTo>
                    <a:pt x="42" y="128"/>
                  </a:lnTo>
                  <a:lnTo>
                    <a:pt x="65" y="142"/>
                  </a:lnTo>
                  <a:lnTo>
                    <a:pt x="71" y="126"/>
                  </a:lnTo>
                  <a:lnTo>
                    <a:pt x="50" y="113"/>
                  </a:lnTo>
                  <a:lnTo>
                    <a:pt x="38" y="101"/>
                  </a:lnTo>
                  <a:lnTo>
                    <a:pt x="30" y="90"/>
                  </a:lnTo>
                  <a:lnTo>
                    <a:pt x="27" y="77"/>
                  </a:lnTo>
                  <a:lnTo>
                    <a:pt x="26" y="61"/>
                  </a:lnTo>
                  <a:lnTo>
                    <a:pt x="25" y="44"/>
                  </a:lnTo>
                  <a:lnTo>
                    <a:pt x="24" y="2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H="1">
              <a:off x="4364280" y="2158560"/>
              <a:ext cx="55440" cy="86760"/>
            </a:xfrm>
            <a:custGeom>
              <a:avLst/>
              <a:gdLst/>
              <a:ahLst/>
              <a:rect l="l" t="t" r="r" b="b"/>
              <a:pathLst>
                <a:path w="128" h="208">
                  <a:moveTo>
                    <a:pt x="0" y="2"/>
                  </a:moveTo>
                  <a:lnTo>
                    <a:pt x="0" y="2"/>
                  </a:lnTo>
                  <a:lnTo>
                    <a:pt x="9" y="31"/>
                  </a:lnTo>
                  <a:lnTo>
                    <a:pt x="22" y="58"/>
                  </a:lnTo>
                  <a:lnTo>
                    <a:pt x="37" y="83"/>
                  </a:lnTo>
                  <a:lnTo>
                    <a:pt x="54" y="108"/>
                  </a:lnTo>
                  <a:lnTo>
                    <a:pt x="70" y="133"/>
                  </a:lnTo>
                  <a:lnTo>
                    <a:pt x="85" y="159"/>
                  </a:lnTo>
                  <a:lnTo>
                    <a:pt x="100" y="183"/>
                  </a:lnTo>
                  <a:lnTo>
                    <a:pt x="109" y="208"/>
                  </a:lnTo>
                  <a:lnTo>
                    <a:pt x="128" y="203"/>
                  </a:lnTo>
                  <a:lnTo>
                    <a:pt x="116" y="177"/>
                  </a:lnTo>
                  <a:lnTo>
                    <a:pt x="102" y="149"/>
                  </a:lnTo>
                  <a:lnTo>
                    <a:pt x="86" y="124"/>
                  </a:lnTo>
                  <a:lnTo>
                    <a:pt x="70" y="98"/>
                  </a:lnTo>
                  <a:lnTo>
                    <a:pt x="54" y="73"/>
                  </a:lnTo>
                  <a:lnTo>
                    <a:pt x="39" y="49"/>
                  </a:lnTo>
                  <a:lnTo>
                    <a:pt x="25" y="2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H="1">
              <a:off x="4309920" y="1972440"/>
              <a:ext cx="111960" cy="187920"/>
            </a:xfrm>
            <a:custGeom>
              <a:avLst/>
              <a:gdLst/>
              <a:ahLst/>
              <a:rect l="l" t="t" r="r" b="b"/>
              <a:pathLst>
                <a:path w="260" h="453">
                  <a:moveTo>
                    <a:pt x="241" y="0"/>
                  </a:moveTo>
                  <a:lnTo>
                    <a:pt x="242" y="0"/>
                  </a:lnTo>
                  <a:lnTo>
                    <a:pt x="232" y="26"/>
                  </a:lnTo>
                  <a:lnTo>
                    <a:pt x="217" y="49"/>
                  </a:lnTo>
                  <a:lnTo>
                    <a:pt x="202" y="75"/>
                  </a:lnTo>
                  <a:lnTo>
                    <a:pt x="183" y="100"/>
                  </a:lnTo>
                  <a:lnTo>
                    <a:pt x="162" y="126"/>
                  </a:lnTo>
                  <a:lnTo>
                    <a:pt x="140" y="151"/>
                  </a:lnTo>
                  <a:lnTo>
                    <a:pt x="118" y="179"/>
                  </a:lnTo>
                  <a:lnTo>
                    <a:pt x="94" y="206"/>
                  </a:lnTo>
                  <a:lnTo>
                    <a:pt x="73" y="233"/>
                  </a:lnTo>
                  <a:lnTo>
                    <a:pt x="53" y="262"/>
                  </a:lnTo>
                  <a:lnTo>
                    <a:pt x="35" y="291"/>
                  </a:lnTo>
                  <a:lnTo>
                    <a:pt x="21" y="321"/>
                  </a:lnTo>
                  <a:lnTo>
                    <a:pt x="9" y="353"/>
                  </a:lnTo>
                  <a:lnTo>
                    <a:pt x="4" y="386"/>
                  </a:lnTo>
                  <a:lnTo>
                    <a:pt x="0" y="420"/>
                  </a:lnTo>
                  <a:lnTo>
                    <a:pt x="6" y="453"/>
                  </a:lnTo>
                  <a:lnTo>
                    <a:pt x="25" y="451"/>
                  </a:lnTo>
                  <a:lnTo>
                    <a:pt x="19" y="420"/>
                  </a:lnTo>
                  <a:lnTo>
                    <a:pt x="22" y="388"/>
                  </a:lnTo>
                  <a:lnTo>
                    <a:pt x="28" y="358"/>
                  </a:lnTo>
                  <a:lnTo>
                    <a:pt x="37" y="329"/>
                  </a:lnTo>
                  <a:lnTo>
                    <a:pt x="51" y="300"/>
                  </a:lnTo>
                  <a:lnTo>
                    <a:pt x="68" y="272"/>
                  </a:lnTo>
                  <a:lnTo>
                    <a:pt x="88" y="245"/>
                  </a:lnTo>
                  <a:lnTo>
                    <a:pt x="109" y="218"/>
                  </a:lnTo>
                  <a:lnTo>
                    <a:pt x="131" y="190"/>
                  </a:lnTo>
                  <a:lnTo>
                    <a:pt x="154" y="163"/>
                  </a:lnTo>
                  <a:lnTo>
                    <a:pt x="176" y="138"/>
                  </a:lnTo>
                  <a:lnTo>
                    <a:pt x="198" y="111"/>
                  </a:lnTo>
                  <a:lnTo>
                    <a:pt x="216" y="85"/>
                  </a:lnTo>
                  <a:lnTo>
                    <a:pt x="234" y="58"/>
                  </a:lnTo>
                  <a:lnTo>
                    <a:pt x="249" y="32"/>
                  </a:lnTo>
                  <a:lnTo>
                    <a:pt x="259" y="6"/>
                  </a:lnTo>
                  <a:lnTo>
                    <a:pt x="260" y="6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 flipH="1">
              <a:off x="4310280" y="1912320"/>
              <a:ext cx="12960" cy="61920"/>
            </a:xfrm>
            <a:custGeom>
              <a:avLst/>
              <a:gdLst/>
              <a:ahLst/>
              <a:rect l="l" t="t" r="r" b="b"/>
              <a:pathLst>
                <a:path w="30" h="149">
                  <a:moveTo>
                    <a:pt x="4" y="0"/>
                  </a:moveTo>
                  <a:lnTo>
                    <a:pt x="4" y="1"/>
                  </a:lnTo>
                  <a:lnTo>
                    <a:pt x="0" y="38"/>
                  </a:lnTo>
                  <a:lnTo>
                    <a:pt x="4" y="76"/>
                  </a:lnTo>
                  <a:lnTo>
                    <a:pt x="11" y="112"/>
                  </a:lnTo>
                  <a:lnTo>
                    <a:pt x="9" y="143"/>
                  </a:lnTo>
                  <a:lnTo>
                    <a:pt x="28" y="149"/>
                  </a:lnTo>
                  <a:lnTo>
                    <a:pt x="30" y="112"/>
                  </a:lnTo>
                  <a:lnTo>
                    <a:pt x="23" y="73"/>
                  </a:lnTo>
                  <a:lnTo>
                    <a:pt x="19" y="38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>
              <a:off x="4177440" y="1852200"/>
              <a:ext cx="144000" cy="64080"/>
            </a:xfrm>
            <a:custGeom>
              <a:avLst/>
              <a:gdLst/>
              <a:ahLst/>
              <a:rect l="l" t="t" r="r" b="b"/>
              <a:pathLst>
                <a:path w="335" h="156">
                  <a:moveTo>
                    <a:pt x="330" y="0"/>
                  </a:moveTo>
                  <a:lnTo>
                    <a:pt x="330" y="0"/>
                  </a:lnTo>
                  <a:lnTo>
                    <a:pt x="309" y="6"/>
                  </a:lnTo>
                  <a:lnTo>
                    <a:pt x="285" y="9"/>
                  </a:lnTo>
                  <a:lnTo>
                    <a:pt x="263" y="14"/>
                  </a:lnTo>
                  <a:lnTo>
                    <a:pt x="241" y="16"/>
                  </a:lnTo>
                  <a:lnTo>
                    <a:pt x="217" y="18"/>
                  </a:lnTo>
                  <a:lnTo>
                    <a:pt x="193" y="21"/>
                  </a:lnTo>
                  <a:lnTo>
                    <a:pt x="171" y="24"/>
                  </a:lnTo>
                  <a:lnTo>
                    <a:pt x="149" y="28"/>
                  </a:lnTo>
                  <a:lnTo>
                    <a:pt x="128" y="35"/>
                  </a:lnTo>
                  <a:lnTo>
                    <a:pt x="106" y="42"/>
                  </a:lnTo>
                  <a:lnTo>
                    <a:pt x="84" y="52"/>
                  </a:lnTo>
                  <a:lnTo>
                    <a:pt x="65" y="65"/>
                  </a:lnTo>
                  <a:lnTo>
                    <a:pt x="47" y="80"/>
                  </a:lnTo>
                  <a:lnTo>
                    <a:pt x="30" y="99"/>
                  </a:lnTo>
                  <a:lnTo>
                    <a:pt x="14" y="121"/>
                  </a:lnTo>
                  <a:lnTo>
                    <a:pt x="0" y="149"/>
                  </a:lnTo>
                  <a:lnTo>
                    <a:pt x="17" y="156"/>
                  </a:lnTo>
                  <a:lnTo>
                    <a:pt x="30" y="131"/>
                  </a:lnTo>
                  <a:lnTo>
                    <a:pt x="44" y="111"/>
                  </a:lnTo>
                  <a:lnTo>
                    <a:pt x="59" y="95"/>
                  </a:lnTo>
                  <a:lnTo>
                    <a:pt x="77" y="79"/>
                  </a:lnTo>
                  <a:lnTo>
                    <a:pt x="93" y="69"/>
                  </a:lnTo>
                  <a:lnTo>
                    <a:pt x="112" y="59"/>
                  </a:lnTo>
                  <a:lnTo>
                    <a:pt x="132" y="54"/>
                  </a:lnTo>
                  <a:lnTo>
                    <a:pt x="153" y="47"/>
                  </a:lnTo>
                  <a:lnTo>
                    <a:pt x="173" y="42"/>
                  </a:lnTo>
                  <a:lnTo>
                    <a:pt x="195" y="40"/>
                  </a:lnTo>
                  <a:lnTo>
                    <a:pt x="220" y="37"/>
                  </a:lnTo>
                  <a:lnTo>
                    <a:pt x="241" y="35"/>
                  </a:lnTo>
                  <a:lnTo>
                    <a:pt x="265" y="32"/>
                  </a:lnTo>
                  <a:lnTo>
                    <a:pt x="288" y="28"/>
                  </a:lnTo>
                  <a:lnTo>
                    <a:pt x="311" y="25"/>
                  </a:lnTo>
                  <a:lnTo>
                    <a:pt x="335" y="19"/>
                  </a:lnTo>
                  <a:lnTo>
                    <a:pt x="335" y="19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H="1">
              <a:off x="4030920" y="1846440"/>
              <a:ext cx="147960" cy="3924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42" y="82"/>
                  </a:moveTo>
                  <a:lnTo>
                    <a:pt x="342" y="82"/>
                  </a:lnTo>
                  <a:lnTo>
                    <a:pt x="320" y="70"/>
                  </a:lnTo>
                  <a:lnTo>
                    <a:pt x="300" y="57"/>
                  </a:lnTo>
                  <a:lnTo>
                    <a:pt x="279" y="47"/>
                  </a:lnTo>
                  <a:lnTo>
                    <a:pt x="259" y="36"/>
                  </a:lnTo>
                  <a:lnTo>
                    <a:pt x="240" y="29"/>
                  </a:lnTo>
                  <a:lnTo>
                    <a:pt x="219" y="20"/>
                  </a:lnTo>
                  <a:lnTo>
                    <a:pt x="200" y="13"/>
                  </a:lnTo>
                  <a:lnTo>
                    <a:pt x="180" y="6"/>
                  </a:lnTo>
                  <a:lnTo>
                    <a:pt x="160" y="3"/>
                  </a:lnTo>
                  <a:lnTo>
                    <a:pt x="139" y="1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4" y="1"/>
                  </a:lnTo>
                  <a:lnTo>
                    <a:pt x="51" y="4"/>
                  </a:lnTo>
                  <a:lnTo>
                    <a:pt x="26" y="10"/>
                  </a:lnTo>
                  <a:lnTo>
                    <a:pt x="0" y="15"/>
                  </a:lnTo>
                  <a:lnTo>
                    <a:pt x="5" y="34"/>
                  </a:lnTo>
                  <a:lnTo>
                    <a:pt x="28" y="29"/>
                  </a:lnTo>
                  <a:lnTo>
                    <a:pt x="53" y="23"/>
                  </a:lnTo>
                  <a:lnTo>
                    <a:pt x="74" y="20"/>
                  </a:lnTo>
                  <a:lnTo>
                    <a:pt x="97" y="19"/>
                  </a:lnTo>
                  <a:lnTo>
                    <a:pt x="118" y="19"/>
                  </a:lnTo>
                  <a:lnTo>
                    <a:pt x="139" y="20"/>
                  </a:lnTo>
                  <a:lnTo>
                    <a:pt x="158" y="22"/>
                  </a:lnTo>
                  <a:lnTo>
                    <a:pt x="178" y="25"/>
                  </a:lnTo>
                  <a:lnTo>
                    <a:pt x="196" y="32"/>
                  </a:lnTo>
                  <a:lnTo>
                    <a:pt x="215" y="36"/>
                  </a:lnTo>
                  <a:lnTo>
                    <a:pt x="234" y="44"/>
                  </a:lnTo>
                  <a:lnTo>
                    <a:pt x="252" y="53"/>
                  </a:lnTo>
                  <a:lnTo>
                    <a:pt x="272" y="63"/>
                  </a:lnTo>
                  <a:lnTo>
                    <a:pt x="291" y="74"/>
                  </a:lnTo>
                  <a:lnTo>
                    <a:pt x="311" y="86"/>
                  </a:lnTo>
                  <a:lnTo>
                    <a:pt x="332" y="99"/>
                  </a:lnTo>
                  <a:lnTo>
                    <a:pt x="332" y="99"/>
                  </a:lnTo>
                  <a:lnTo>
                    <a:pt x="34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 flipH="1">
              <a:off x="3994560" y="1879560"/>
              <a:ext cx="40680" cy="7020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60" y="156"/>
                  </a:moveTo>
                  <a:lnTo>
                    <a:pt x="60" y="168"/>
                  </a:lnTo>
                  <a:lnTo>
                    <a:pt x="86" y="140"/>
                  </a:lnTo>
                  <a:lnTo>
                    <a:pt x="96" y="111"/>
                  </a:lnTo>
                  <a:lnTo>
                    <a:pt x="96" y="88"/>
                  </a:lnTo>
                  <a:lnTo>
                    <a:pt x="88" y="64"/>
                  </a:lnTo>
                  <a:lnTo>
                    <a:pt x="71" y="45"/>
                  </a:lnTo>
                  <a:lnTo>
                    <a:pt x="52" y="29"/>
                  </a:lnTo>
                  <a:lnTo>
                    <a:pt x="31" y="13"/>
                  </a:lnTo>
                  <a:lnTo>
                    <a:pt x="10" y="0"/>
                  </a:lnTo>
                  <a:lnTo>
                    <a:pt x="0" y="17"/>
                  </a:lnTo>
                  <a:lnTo>
                    <a:pt x="21" y="30"/>
                  </a:lnTo>
                  <a:lnTo>
                    <a:pt x="40" y="43"/>
                  </a:lnTo>
                  <a:lnTo>
                    <a:pt x="59" y="56"/>
                  </a:lnTo>
                  <a:lnTo>
                    <a:pt x="71" y="73"/>
                  </a:lnTo>
                  <a:lnTo>
                    <a:pt x="77" y="90"/>
                  </a:lnTo>
                  <a:lnTo>
                    <a:pt x="77" y="109"/>
                  </a:lnTo>
                  <a:lnTo>
                    <a:pt x="69" y="130"/>
                  </a:lnTo>
                  <a:lnTo>
                    <a:pt x="49" y="156"/>
                  </a:lnTo>
                  <a:lnTo>
                    <a:pt x="49" y="168"/>
                  </a:lnTo>
                  <a:lnTo>
                    <a:pt x="49" y="156"/>
                  </a:lnTo>
                  <a:lnTo>
                    <a:pt x="47" y="162"/>
                  </a:lnTo>
                  <a:lnTo>
                    <a:pt x="50" y="166"/>
                  </a:lnTo>
                  <a:lnTo>
                    <a:pt x="55" y="170"/>
                  </a:lnTo>
                  <a:lnTo>
                    <a:pt x="60" y="168"/>
                  </a:lnTo>
                  <a:lnTo>
                    <a:pt x="6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 flipH="1">
              <a:off x="3986280" y="1943280"/>
              <a:ext cx="42840" cy="103320"/>
            </a:xfrm>
            <a:custGeom>
              <a:avLst/>
              <a:gdLst/>
              <a:ahLst/>
              <a:rect l="l" t="t" r="r" b="b"/>
              <a:pathLst>
                <a:path w="102" h="249">
                  <a:moveTo>
                    <a:pt x="0" y="240"/>
                  </a:moveTo>
                  <a:lnTo>
                    <a:pt x="15" y="247"/>
                  </a:lnTo>
                  <a:lnTo>
                    <a:pt x="43" y="218"/>
                  </a:lnTo>
                  <a:lnTo>
                    <a:pt x="66" y="191"/>
                  </a:lnTo>
                  <a:lnTo>
                    <a:pt x="87" y="163"/>
                  </a:lnTo>
                  <a:lnTo>
                    <a:pt x="98" y="134"/>
                  </a:lnTo>
                  <a:lnTo>
                    <a:pt x="102" y="103"/>
                  </a:lnTo>
                  <a:lnTo>
                    <a:pt x="95" y="70"/>
                  </a:lnTo>
                  <a:lnTo>
                    <a:pt x="76" y="37"/>
                  </a:lnTo>
                  <a:lnTo>
                    <a:pt x="44" y="0"/>
                  </a:lnTo>
                  <a:lnTo>
                    <a:pt x="33" y="12"/>
                  </a:lnTo>
                  <a:lnTo>
                    <a:pt x="62" y="46"/>
                  </a:lnTo>
                  <a:lnTo>
                    <a:pt x="79" y="76"/>
                  </a:lnTo>
                  <a:lnTo>
                    <a:pt x="83" y="103"/>
                  </a:lnTo>
                  <a:lnTo>
                    <a:pt x="80" y="129"/>
                  </a:lnTo>
                  <a:lnTo>
                    <a:pt x="71" y="154"/>
                  </a:lnTo>
                  <a:lnTo>
                    <a:pt x="53" y="179"/>
                  </a:lnTo>
                  <a:lnTo>
                    <a:pt x="29" y="207"/>
                  </a:lnTo>
                  <a:lnTo>
                    <a:pt x="3" y="235"/>
                  </a:lnTo>
                  <a:lnTo>
                    <a:pt x="19" y="240"/>
                  </a:lnTo>
                  <a:lnTo>
                    <a:pt x="3" y="235"/>
                  </a:lnTo>
                  <a:lnTo>
                    <a:pt x="1" y="240"/>
                  </a:lnTo>
                  <a:lnTo>
                    <a:pt x="4" y="246"/>
                  </a:lnTo>
                  <a:lnTo>
                    <a:pt x="9" y="249"/>
                  </a:lnTo>
                  <a:lnTo>
                    <a:pt x="15" y="247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 flipH="1">
              <a:off x="4020480" y="1976760"/>
              <a:ext cx="29880" cy="65880"/>
            </a:xfrm>
            <a:custGeom>
              <a:avLst/>
              <a:gdLst/>
              <a:ahLst/>
              <a:rect l="l" t="t" r="r" b="b"/>
              <a:pathLst>
                <a:path w="67" h="161">
                  <a:moveTo>
                    <a:pt x="18" y="15"/>
                  </a:moveTo>
                  <a:lnTo>
                    <a:pt x="1" y="15"/>
                  </a:lnTo>
                  <a:lnTo>
                    <a:pt x="11" y="31"/>
                  </a:lnTo>
                  <a:lnTo>
                    <a:pt x="20" y="46"/>
                  </a:lnTo>
                  <a:lnTo>
                    <a:pt x="29" y="64"/>
                  </a:lnTo>
                  <a:lnTo>
                    <a:pt x="36" y="80"/>
                  </a:lnTo>
                  <a:lnTo>
                    <a:pt x="39" y="98"/>
                  </a:lnTo>
                  <a:lnTo>
                    <a:pt x="44" y="118"/>
                  </a:lnTo>
                  <a:lnTo>
                    <a:pt x="47" y="138"/>
                  </a:lnTo>
                  <a:lnTo>
                    <a:pt x="48" y="161"/>
                  </a:lnTo>
                  <a:lnTo>
                    <a:pt x="67" y="161"/>
                  </a:lnTo>
                  <a:lnTo>
                    <a:pt x="66" y="138"/>
                  </a:lnTo>
                  <a:lnTo>
                    <a:pt x="63" y="116"/>
                  </a:lnTo>
                  <a:lnTo>
                    <a:pt x="58" y="96"/>
                  </a:lnTo>
                  <a:lnTo>
                    <a:pt x="52" y="76"/>
                  </a:lnTo>
                  <a:lnTo>
                    <a:pt x="46" y="57"/>
                  </a:lnTo>
                  <a:lnTo>
                    <a:pt x="37" y="39"/>
                  </a:lnTo>
                  <a:lnTo>
                    <a:pt x="28" y="21"/>
                  </a:lnTo>
                  <a:lnTo>
                    <a:pt x="18" y="5"/>
                  </a:lnTo>
                  <a:lnTo>
                    <a:pt x="1" y="5"/>
                  </a:lnTo>
                  <a:lnTo>
                    <a:pt x="18" y="5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7"/>
                  </a:lnTo>
                  <a:lnTo>
                    <a:pt x="1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H="1">
              <a:off x="4056840" y="2059200"/>
              <a:ext cx="25560" cy="3096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43" y="0"/>
                  </a:moveTo>
                  <a:lnTo>
                    <a:pt x="52" y="11"/>
                  </a:lnTo>
                  <a:lnTo>
                    <a:pt x="58" y="24"/>
                  </a:lnTo>
                  <a:lnTo>
                    <a:pt x="61" y="38"/>
                  </a:lnTo>
                  <a:lnTo>
                    <a:pt x="58" y="51"/>
                  </a:lnTo>
                  <a:lnTo>
                    <a:pt x="52" y="63"/>
                  </a:lnTo>
                  <a:lnTo>
                    <a:pt x="43" y="71"/>
                  </a:lnTo>
                  <a:lnTo>
                    <a:pt x="28" y="74"/>
                  </a:lnTo>
                  <a:lnTo>
                    <a:pt x="11" y="72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2" y="53"/>
                  </a:lnTo>
                  <a:lnTo>
                    <a:pt x="10" y="44"/>
                  </a:lnTo>
                  <a:lnTo>
                    <a:pt x="17" y="33"/>
                  </a:lnTo>
                  <a:lnTo>
                    <a:pt x="27" y="23"/>
                  </a:lnTo>
                  <a:lnTo>
                    <a:pt x="36" y="1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4026960" y="2071800"/>
              <a:ext cx="10440" cy="2484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12" y="0"/>
                  </a:moveTo>
                  <a:lnTo>
                    <a:pt x="5" y="14"/>
                  </a:lnTo>
                  <a:lnTo>
                    <a:pt x="1" y="30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1"/>
                  </a:lnTo>
                  <a:lnTo>
                    <a:pt x="7" y="61"/>
                  </a:lnTo>
                  <a:lnTo>
                    <a:pt x="10" y="60"/>
                  </a:lnTo>
                  <a:lnTo>
                    <a:pt x="13" y="58"/>
                  </a:lnTo>
                  <a:lnTo>
                    <a:pt x="24" y="40"/>
                  </a:lnTo>
                  <a:lnTo>
                    <a:pt x="25" y="24"/>
                  </a:lnTo>
                  <a:lnTo>
                    <a:pt x="20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 flipH="1">
              <a:off x="3776040" y="2754360"/>
              <a:ext cx="212400" cy="237600"/>
            </a:xfrm>
            <a:custGeom>
              <a:avLst/>
              <a:gdLst/>
              <a:ahLst/>
              <a:rect l="l" t="t" r="r" b="b"/>
              <a:pathLst>
                <a:path w="496" h="574">
                  <a:moveTo>
                    <a:pt x="181" y="25"/>
                  </a:moveTo>
                  <a:lnTo>
                    <a:pt x="170" y="37"/>
                  </a:lnTo>
                  <a:lnTo>
                    <a:pt x="160" y="49"/>
                  </a:lnTo>
                  <a:lnTo>
                    <a:pt x="153" y="63"/>
                  </a:lnTo>
                  <a:lnTo>
                    <a:pt x="149" y="80"/>
                  </a:lnTo>
                  <a:lnTo>
                    <a:pt x="145" y="98"/>
                  </a:lnTo>
                  <a:lnTo>
                    <a:pt x="144" y="118"/>
                  </a:lnTo>
                  <a:lnTo>
                    <a:pt x="146" y="139"/>
                  </a:lnTo>
                  <a:lnTo>
                    <a:pt x="150" y="161"/>
                  </a:lnTo>
                  <a:lnTo>
                    <a:pt x="151" y="178"/>
                  </a:lnTo>
                  <a:lnTo>
                    <a:pt x="148" y="197"/>
                  </a:lnTo>
                  <a:lnTo>
                    <a:pt x="143" y="214"/>
                  </a:lnTo>
                  <a:lnTo>
                    <a:pt x="137" y="232"/>
                  </a:lnTo>
                  <a:lnTo>
                    <a:pt x="132" y="249"/>
                  </a:lnTo>
                  <a:lnTo>
                    <a:pt x="131" y="264"/>
                  </a:lnTo>
                  <a:lnTo>
                    <a:pt x="133" y="276"/>
                  </a:lnTo>
                  <a:lnTo>
                    <a:pt x="143" y="286"/>
                  </a:lnTo>
                  <a:lnTo>
                    <a:pt x="150" y="289"/>
                  </a:lnTo>
                  <a:lnTo>
                    <a:pt x="156" y="290"/>
                  </a:lnTo>
                  <a:lnTo>
                    <a:pt x="164" y="289"/>
                  </a:lnTo>
                  <a:lnTo>
                    <a:pt x="171" y="288"/>
                  </a:lnTo>
                  <a:lnTo>
                    <a:pt x="176" y="286"/>
                  </a:lnTo>
                  <a:lnTo>
                    <a:pt x="184" y="282"/>
                  </a:lnTo>
                  <a:lnTo>
                    <a:pt x="190" y="279"/>
                  </a:lnTo>
                  <a:lnTo>
                    <a:pt x="194" y="277"/>
                  </a:lnTo>
                  <a:lnTo>
                    <a:pt x="213" y="267"/>
                  </a:lnTo>
                  <a:lnTo>
                    <a:pt x="230" y="251"/>
                  </a:lnTo>
                  <a:lnTo>
                    <a:pt x="245" y="232"/>
                  </a:lnTo>
                  <a:lnTo>
                    <a:pt x="260" y="211"/>
                  </a:lnTo>
                  <a:lnTo>
                    <a:pt x="273" y="190"/>
                  </a:lnTo>
                  <a:lnTo>
                    <a:pt x="288" y="170"/>
                  </a:lnTo>
                  <a:lnTo>
                    <a:pt x="305" y="153"/>
                  </a:lnTo>
                  <a:lnTo>
                    <a:pt x="324" y="141"/>
                  </a:lnTo>
                  <a:lnTo>
                    <a:pt x="329" y="140"/>
                  </a:lnTo>
                  <a:lnTo>
                    <a:pt x="336" y="142"/>
                  </a:lnTo>
                  <a:lnTo>
                    <a:pt x="341" y="146"/>
                  </a:lnTo>
                  <a:lnTo>
                    <a:pt x="343" y="151"/>
                  </a:lnTo>
                  <a:lnTo>
                    <a:pt x="342" y="180"/>
                  </a:lnTo>
                  <a:lnTo>
                    <a:pt x="339" y="212"/>
                  </a:lnTo>
                  <a:lnTo>
                    <a:pt x="334" y="247"/>
                  </a:lnTo>
                  <a:lnTo>
                    <a:pt x="326" y="279"/>
                  </a:lnTo>
                  <a:lnTo>
                    <a:pt x="317" y="313"/>
                  </a:lnTo>
                  <a:lnTo>
                    <a:pt x="305" y="343"/>
                  </a:lnTo>
                  <a:lnTo>
                    <a:pt x="291" y="370"/>
                  </a:lnTo>
                  <a:lnTo>
                    <a:pt x="275" y="391"/>
                  </a:lnTo>
                  <a:lnTo>
                    <a:pt x="265" y="398"/>
                  </a:lnTo>
                  <a:lnTo>
                    <a:pt x="252" y="400"/>
                  </a:lnTo>
                  <a:lnTo>
                    <a:pt x="239" y="400"/>
                  </a:lnTo>
                  <a:lnTo>
                    <a:pt x="223" y="398"/>
                  </a:lnTo>
                  <a:lnTo>
                    <a:pt x="205" y="392"/>
                  </a:lnTo>
                  <a:lnTo>
                    <a:pt x="186" y="388"/>
                  </a:lnTo>
                  <a:lnTo>
                    <a:pt x="168" y="381"/>
                  </a:lnTo>
                  <a:lnTo>
                    <a:pt x="148" y="373"/>
                  </a:lnTo>
                  <a:lnTo>
                    <a:pt x="127" y="368"/>
                  </a:lnTo>
                  <a:lnTo>
                    <a:pt x="107" y="362"/>
                  </a:lnTo>
                  <a:lnTo>
                    <a:pt x="88" y="358"/>
                  </a:lnTo>
                  <a:lnTo>
                    <a:pt x="69" y="354"/>
                  </a:lnTo>
                  <a:lnTo>
                    <a:pt x="50" y="354"/>
                  </a:lnTo>
                  <a:lnTo>
                    <a:pt x="33" y="358"/>
                  </a:lnTo>
                  <a:lnTo>
                    <a:pt x="19" y="363"/>
                  </a:lnTo>
                  <a:lnTo>
                    <a:pt x="6" y="372"/>
                  </a:lnTo>
                  <a:lnTo>
                    <a:pt x="1" y="381"/>
                  </a:lnTo>
                  <a:lnTo>
                    <a:pt x="0" y="391"/>
                  </a:lnTo>
                  <a:lnTo>
                    <a:pt x="5" y="404"/>
                  </a:lnTo>
                  <a:lnTo>
                    <a:pt x="12" y="420"/>
                  </a:lnTo>
                  <a:lnTo>
                    <a:pt x="22" y="435"/>
                  </a:lnTo>
                  <a:lnTo>
                    <a:pt x="37" y="450"/>
                  </a:lnTo>
                  <a:lnTo>
                    <a:pt x="52" y="468"/>
                  </a:lnTo>
                  <a:lnTo>
                    <a:pt x="70" y="484"/>
                  </a:lnTo>
                  <a:lnTo>
                    <a:pt x="89" y="501"/>
                  </a:lnTo>
                  <a:lnTo>
                    <a:pt x="108" y="516"/>
                  </a:lnTo>
                  <a:lnTo>
                    <a:pt x="128" y="531"/>
                  </a:lnTo>
                  <a:lnTo>
                    <a:pt x="146" y="544"/>
                  </a:lnTo>
                  <a:lnTo>
                    <a:pt x="165" y="555"/>
                  </a:lnTo>
                  <a:lnTo>
                    <a:pt x="183" y="565"/>
                  </a:lnTo>
                  <a:lnTo>
                    <a:pt x="197" y="571"/>
                  </a:lnTo>
                  <a:lnTo>
                    <a:pt x="212" y="574"/>
                  </a:lnTo>
                  <a:lnTo>
                    <a:pt x="216" y="573"/>
                  </a:lnTo>
                  <a:lnTo>
                    <a:pt x="223" y="571"/>
                  </a:lnTo>
                  <a:lnTo>
                    <a:pt x="229" y="566"/>
                  </a:lnTo>
                  <a:lnTo>
                    <a:pt x="235" y="561"/>
                  </a:lnTo>
                  <a:lnTo>
                    <a:pt x="243" y="556"/>
                  </a:lnTo>
                  <a:lnTo>
                    <a:pt x="248" y="552"/>
                  </a:lnTo>
                  <a:lnTo>
                    <a:pt x="253" y="549"/>
                  </a:lnTo>
                  <a:lnTo>
                    <a:pt x="256" y="546"/>
                  </a:lnTo>
                  <a:lnTo>
                    <a:pt x="405" y="391"/>
                  </a:lnTo>
                  <a:lnTo>
                    <a:pt x="415" y="383"/>
                  </a:lnTo>
                  <a:lnTo>
                    <a:pt x="427" y="373"/>
                  </a:lnTo>
                  <a:lnTo>
                    <a:pt x="440" y="362"/>
                  </a:lnTo>
                  <a:lnTo>
                    <a:pt x="456" y="349"/>
                  </a:lnTo>
                  <a:lnTo>
                    <a:pt x="470" y="336"/>
                  </a:lnTo>
                  <a:lnTo>
                    <a:pt x="484" y="323"/>
                  </a:lnTo>
                  <a:lnTo>
                    <a:pt x="491" y="311"/>
                  </a:lnTo>
                  <a:lnTo>
                    <a:pt x="496" y="299"/>
                  </a:lnTo>
                  <a:lnTo>
                    <a:pt x="496" y="277"/>
                  </a:lnTo>
                  <a:lnTo>
                    <a:pt x="488" y="244"/>
                  </a:lnTo>
                  <a:lnTo>
                    <a:pt x="479" y="211"/>
                  </a:lnTo>
                  <a:lnTo>
                    <a:pt x="472" y="189"/>
                  </a:lnTo>
                  <a:lnTo>
                    <a:pt x="468" y="172"/>
                  </a:lnTo>
                  <a:lnTo>
                    <a:pt x="458" y="147"/>
                  </a:lnTo>
                  <a:lnTo>
                    <a:pt x="446" y="117"/>
                  </a:lnTo>
                  <a:lnTo>
                    <a:pt x="430" y="85"/>
                  </a:lnTo>
                  <a:lnTo>
                    <a:pt x="414" y="53"/>
                  </a:lnTo>
                  <a:lnTo>
                    <a:pt x="397" y="27"/>
                  </a:lnTo>
                  <a:lnTo>
                    <a:pt x="382" y="8"/>
                  </a:lnTo>
                  <a:lnTo>
                    <a:pt x="369" y="0"/>
                  </a:lnTo>
                  <a:lnTo>
                    <a:pt x="358" y="1"/>
                  </a:lnTo>
                  <a:lnTo>
                    <a:pt x="347" y="4"/>
                  </a:lnTo>
                  <a:lnTo>
                    <a:pt x="336" y="5"/>
                  </a:lnTo>
                  <a:lnTo>
                    <a:pt x="324" y="7"/>
                  </a:lnTo>
                  <a:lnTo>
                    <a:pt x="313" y="8"/>
                  </a:lnTo>
                  <a:lnTo>
                    <a:pt x="302" y="10"/>
                  </a:lnTo>
                  <a:lnTo>
                    <a:pt x="288" y="11"/>
                  </a:lnTo>
                  <a:lnTo>
                    <a:pt x="277" y="12"/>
                  </a:lnTo>
                  <a:lnTo>
                    <a:pt x="265" y="15"/>
                  </a:lnTo>
                  <a:lnTo>
                    <a:pt x="253" y="16"/>
                  </a:lnTo>
                  <a:lnTo>
                    <a:pt x="241" y="18"/>
                  </a:lnTo>
                  <a:lnTo>
                    <a:pt x="229" y="19"/>
                  </a:lnTo>
                  <a:lnTo>
                    <a:pt x="216" y="21"/>
                  </a:lnTo>
                  <a:lnTo>
                    <a:pt x="204" y="22"/>
                  </a:lnTo>
                  <a:lnTo>
                    <a:pt x="192" y="24"/>
                  </a:lnTo>
                  <a:lnTo>
                    <a:pt x="181" y="25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H="1">
              <a:off x="3909600" y="2763000"/>
              <a:ext cx="23040" cy="59400"/>
            </a:xfrm>
            <a:custGeom>
              <a:avLst/>
              <a:gdLst/>
              <a:ahLst/>
              <a:rect l="l" t="t" r="r" b="b"/>
              <a:pathLst>
                <a:path w="55" h="147">
                  <a:moveTo>
                    <a:pt x="27" y="144"/>
                  </a:moveTo>
                  <a:lnTo>
                    <a:pt x="27" y="143"/>
                  </a:lnTo>
                  <a:lnTo>
                    <a:pt x="23" y="122"/>
                  </a:lnTo>
                  <a:lnTo>
                    <a:pt x="21" y="102"/>
                  </a:lnTo>
                  <a:lnTo>
                    <a:pt x="22" y="83"/>
                  </a:lnTo>
                  <a:lnTo>
                    <a:pt x="26" y="66"/>
                  </a:lnTo>
                  <a:lnTo>
                    <a:pt x="30" y="51"/>
                  </a:lnTo>
                  <a:lnTo>
                    <a:pt x="37" y="37"/>
                  </a:lnTo>
                  <a:lnTo>
                    <a:pt x="45" y="27"/>
                  </a:lnTo>
                  <a:lnTo>
                    <a:pt x="55" y="16"/>
                  </a:lnTo>
                  <a:lnTo>
                    <a:pt x="40" y="0"/>
                  </a:lnTo>
                  <a:lnTo>
                    <a:pt x="29" y="13"/>
                  </a:lnTo>
                  <a:lnTo>
                    <a:pt x="18" y="29"/>
                  </a:lnTo>
                  <a:lnTo>
                    <a:pt x="11" y="44"/>
                  </a:lnTo>
                  <a:lnTo>
                    <a:pt x="5" y="62"/>
                  </a:lnTo>
                  <a:lnTo>
                    <a:pt x="1" y="81"/>
                  </a:lnTo>
                  <a:lnTo>
                    <a:pt x="0" y="102"/>
                  </a:lnTo>
                  <a:lnTo>
                    <a:pt x="2" y="124"/>
                  </a:lnTo>
                  <a:lnTo>
                    <a:pt x="6" y="147"/>
                  </a:lnTo>
                  <a:lnTo>
                    <a:pt x="6" y="146"/>
                  </a:lnTo>
                  <a:lnTo>
                    <a:pt x="27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H="1">
              <a:off x="3919680" y="2820600"/>
              <a:ext cx="16920" cy="55800"/>
            </a:xfrm>
            <a:custGeom>
              <a:avLst/>
              <a:gdLst/>
              <a:ahLst/>
              <a:rect l="l" t="t" r="r" b="b"/>
              <a:pathLst>
                <a:path w="42" h="134">
                  <a:moveTo>
                    <a:pt x="29" y="116"/>
                  </a:moveTo>
                  <a:lnTo>
                    <a:pt x="28" y="116"/>
                  </a:lnTo>
                  <a:lnTo>
                    <a:pt x="23" y="111"/>
                  </a:lnTo>
                  <a:lnTo>
                    <a:pt x="21" y="104"/>
                  </a:lnTo>
                  <a:lnTo>
                    <a:pt x="23" y="90"/>
                  </a:lnTo>
                  <a:lnTo>
                    <a:pt x="28" y="74"/>
                  </a:lnTo>
                  <a:lnTo>
                    <a:pt x="33" y="57"/>
                  </a:lnTo>
                  <a:lnTo>
                    <a:pt x="38" y="39"/>
                  </a:lnTo>
                  <a:lnTo>
                    <a:pt x="42" y="18"/>
                  </a:lnTo>
                  <a:lnTo>
                    <a:pt x="40" y="0"/>
                  </a:lnTo>
                  <a:lnTo>
                    <a:pt x="19" y="2"/>
                  </a:lnTo>
                  <a:lnTo>
                    <a:pt x="20" y="18"/>
                  </a:lnTo>
                  <a:lnTo>
                    <a:pt x="17" y="34"/>
                  </a:lnTo>
                  <a:lnTo>
                    <a:pt x="12" y="52"/>
                  </a:lnTo>
                  <a:lnTo>
                    <a:pt x="7" y="70"/>
                  </a:lnTo>
                  <a:lnTo>
                    <a:pt x="1" y="88"/>
                  </a:lnTo>
                  <a:lnTo>
                    <a:pt x="0" y="104"/>
                  </a:lnTo>
                  <a:lnTo>
                    <a:pt x="4" y="120"/>
                  </a:lnTo>
                  <a:lnTo>
                    <a:pt x="18" y="134"/>
                  </a:lnTo>
                  <a:lnTo>
                    <a:pt x="17" y="134"/>
                  </a:lnTo>
                  <a:lnTo>
                    <a:pt x="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H="1">
              <a:off x="3904560" y="2866320"/>
              <a:ext cx="25560" cy="1440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54" y="0"/>
                  </a:moveTo>
                  <a:lnTo>
                    <a:pt x="54" y="0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26" y="10"/>
                  </a:lnTo>
                  <a:lnTo>
                    <a:pt x="19" y="11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26"/>
                  </a:lnTo>
                  <a:lnTo>
                    <a:pt x="11" y="31"/>
                  </a:lnTo>
                  <a:lnTo>
                    <a:pt x="19" y="33"/>
                  </a:lnTo>
                  <a:lnTo>
                    <a:pt x="28" y="31"/>
                  </a:lnTo>
                  <a:lnTo>
                    <a:pt x="36" y="30"/>
                  </a:lnTo>
                  <a:lnTo>
                    <a:pt x="44" y="26"/>
                  </a:lnTo>
                  <a:lnTo>
                    <a:pt x="51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 flipH="1">
              <a:off x="3844800" y="2810160"/>
              <a:ext cx="61560" cy="64080"/>
            </a:xfrm>
            <a:custGeom>
              <a:avLst/>
              <a:gdLst/>
              <a:ahLst/>
              <a:rect l="l" t="t" r="r" b="b"/>
              <a:pathLst>
                <a:path w="143" h="156">
                  <a:moveTo>
                    <a:pt x="131" y="0"/>
                  </a:moveTo>
                  <a:lnTo>
                    <a:pt x="130" y="1"/>
                  </a:lnTo>
                  <a:lnTo>
                    <a:pt x="108" y="14"/>
                  </a:lnTo>
                  <a:lnTo>
                    <a:pt x="90" y="31"/>
                  </a:lnTo>
                  <a:lnTo>
                    <a:pt x="74" y="52"/>
                  </a:lnTo>
                  <a:lnTo>
                    <a:pt x="60" y="73"/>
                  </a:lnTo>
                  <a:lnTo>
                    <a:pt x="46" y="96"/>
                  </a:lnTo>
                  <a:lnTo>
                    <a:pt x="32" y="113"/>
                  </a:lnTo>
                  <a:lnTo>
                    <a:pt x="16" y="127"/>
                  </a:lnTo>
                  <a:lnTo>
                    <a:pt x="0" y="137"/>
                  </a:lnTo>
                  <a:lnTo>
                    <a:pt x="6" y="156"/>
                  </a:lnTo>
                  <a:lnTo>
                    <a:pt x="29" y="143"/>
                  </a:lnTo>
                  <a:lnTo>
                    <a:pt x="46" y="127"/>
                  </a:lnTo>
                  <a:lnTo>
                    <a:pt x="62" y="107"/>
                  </a:lnTo>
                  <a:lnTo>
                    <a:pt x="76" y="86"/>
                  </a:lnTo>
                  <a:lnTo>
                    <a:pt x="91" y="65"/>
                  </a:lnTo>
                  <a:lnTo>
                    <a:pt x="106" y="46"/>
                  </a:lnTo>
                  <a:lnTo>
                    <a:pt x="120" y="30"/>
                  </a:lnTo>
                  <a:lnTo>
                    <a:pt x="136" y="20"/>
                  </a:lnTo>
                  <a:lnTo>
                    <a:pt x="135" y="21"/>
                  </a:lnTo>
                  <a:lnTo>
                    <a:pt x="136" y="20"/>
                  </a:lnTo>
                  <a:lnTo>
                    <a:pt x="143" y="14"/>
                  </a:lnTo>
                  <a:lnTo>
                    <a:pt x="143" y="7"/>
                  </a:lnTo>
                  <a:lnTo>
                    <a:pt x="137" y="1"/>
                  </a:lnTo>
                  <a:lnTo>
                    <a:pt x="13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H="1">
              <a:off x="3836160" y="2808360"/>
              <a:ext cx="14760" cy="140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2"/>
                  </a:moveTo>
                  <a:lnTo>
                    <a:pt x="32" y="21"/>
                  </a:lnTo>
                  <a:lnTo>
                    <a:pt x="26" y="10"/>
                  </a:lnTo>
                  <a:lnTo>
                    <a:pt x="19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4" y="23"/>
                  </a:lnTo>
                  <a:lnTo>
                    <a:pt x="7" y="22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4" y="30"/>
                  </a:lnTo>
                  <a:lnTo>
                    <a:pt x="22" y="32"/>
                  </a:lnTo>
                  <a:lnTo>
                    <a:pt x="30" y="29"/>
                  </a:lnTo>
                  <a:lnTo>
                    <a:pt x="32" y="21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H="1">
              <a:off x="3836520" y="2818800"/>
              <a:ext cx="38160" cy="102960"/>
            </a:xfrm>
            <a:custGeom>
              <a:avLst/>
              <a:gdLst/>
              <a:ahLst/>
              <a:rect l="l" t="t" r="r" b="b"/>
              <a:pathLst>
                <a:path w="90" h="251">
                  <a:moveTo>
                    <a:pt x="18" y="248"/>
                  </a:moveTo>
                  <a:lnTo>
                    <a:pt x="18" y="248"/>
                  </a:lnTo>
                  <a:lnTo>
                    <a:pt x="37" y="226"/>
                  </a:lnTo>
                  <a:lnTo>
                    <a:pt x="51" y="196"/>
                  </a:lnTo>
                  <a:lnTo>
                    <a:pt x="63" y="165"/>
                  </a:lnTo>
                  <a:lnTo>
                    <a:pt x="73" y="131"/>
                  </a:lnTo>
                  <a:lnTo>
                    <a:pt x="80" y="97"/>
                  </a:lnTo>
                  <a:lnTo>
                    <a:pt x="86" y="62"/>
                  </a:lnTo>
                  <a:lnTo>
                    <a:pt x="89" y="29"/>
                  </a:lnTo>
                  <a:lnTo>
                    <a:pt x="90" y="0"/>
                  </a:lnTo>
                  <a:lnTo>
                    <a:pt x="69" y="0"/>
                  </a:lnTo>
                  <a:lnTo>
                    <a:pt x="68" y="29"/>
                  </a:lnTo>
                  <a:lnTo>
                    <a:pt x="64" y="60"/>
                  </a:lnTo>
                  <a:lnTo>
                    <a:pt x="59" y="95"/>
                  </a:lnTo>
                  <a:lnTo>
                    <a:pt x="52" y="126"/>
                  </a:lnTo>
                  <a:lnTo>
                    <a:pt x="42" y="160"/>
                  </a:lnTo>
                  <a:lnTo>
                    <a:pt x="32" y="189"/>
                  </a:lnTo>
                  <a:lnTo>
                    <a:pt x="18" y="21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0" y="240"/>
                  </a:lnTo>
                  <a:lnTo>
                    <a:pt x="3" y="248"/>
                  </a:lnTo>
                  <a:lnTo>
                    <a:pt x="11" y="251"/>
                  </a:lnTo>
                  <a:lnTo>
                    <a:pt x="18" y="248"/>
                  </a:lnTo>
                  <a:lnTo>
                    <a:pt x="18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H="1">
              <a:off x="3867840" y="2897280"/>
              <a:ext cx="122040" cy="26640"/>
            </a:xfrm>
            <a:custGeom>
              <a:avLst/>
              <a:gdLst/>
              <a:ahLst/>
              <a:rect l="l" t="t" r="r" b="b"/>
              <a:pathLst>
                <a:path w="286" h="66">
                  <a:moveTo>
                    <a:pt x="17" y="36"/>
                  </a:moveTo>
                  <a:lnTo>
                    <a:pt x="17" y="36"/>
                  </a:lnTo>
                  <a:lnTo>
                    <a:pt x="27" y="28"/>
                  </a:lnTo>
                  <a:lnTo>
                    <a:pt x="40" y="24"/>
                  </a:lnTo>
                  <a:lnTo>
                    <a:pt x="54" y="21"/>
                  </a:lnTo>
                  <a:lnTo>
                    <a:pt x="73" y="21"/>
                  </a:lnTo>
                  <a:lnTo>
                    <a:pt x="91" y="24"/>
                  </a:lnTo>
                  <a:lnTo>
                    <a:pt x="107" y="28"/>
                  </a:lnTo>
                  <a:lnTo>
                    <a:pt x="128" y="35"/>
                  </a:lnTo>
                  <a:lnTo>
                    <a:pt x="149" y="40"/>
                  </a:lnTo>
                  <a:lnTo>
                    <a:pt x="168" y="46"/>
                  </a:lnTo>
                  <a:lnTo>
                    <a:pt x="188" y="55"/>
                  </a:lnTo>
                  <a:lnTo>
                    <a:pt x="207" y="59"/>
                  </a:lnTo>
                  <a:lnTo>
                    <a:pt x="226" y="64"/>
                  </a:lnTo>
                  <a:lnTo>
                    <a:pt x="243" y="66"/>
                  </a:lnTo>
                  <a:lnTo>
                    <a:pt x="256" y="66"/>
                  </a:lnTo>
                  <a:lnTo>
                    <a:pt x="272" y="63"/>
                  </a:lnTo>
                  <a:lnTo>
                    <a:pt x="286" y="55"/>
                  </a:lnTo>
                  <a:lnTo>
                    <a:pt x="271" y="40"/>
                  </a:lnTo>
                  <a:lnTo>
                    <a:pt x="266" y="44"/>
                  </a:lnTo>
                  <a:lnTo>
                    <a:pt x="256" y="45"/>
                  </a:lnTo>
                  <a:lnTo>
                    <a:pt x="243" y="45"/>
                  </a:lnTo>
                  <a:lnTo>
                    <a:pt x="228" y="43"/>
                  </a:lnTo>
                  <a:lnTo>
                    <a:pt x="211" y="38"/>
                  </a:lnTo>
                  <a:lnTo>
                    <a:pt x="193" y="34"/>
                  </a:lnTo>
                  <a:lnTo>
                    <a:pt x="175" y="27"/>
                  </a:lnTo>
                  <a:lnTo>
                    <a:pt x="154" y="19"/>
                  </a:lnTo>
                  <a:lnTo>
                    <a:pt x="133" y="14"/>
                  </a:lnTo>
                  <a:lnTo>
                    <a:pt x="113" y="7"/>
                  </a:lnTo>
                  <a:lnTo>
                    <a:pt x="93" y="3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35" y="3"/>
                  </a:lnTo>
                  <a:lnTo>
                    <a:pt x="19" y="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3" y="36"/>
                  </a:lnTo>
                  <a:lnTo>
                    <a:pt x="10" y="39"/>
                  </a:lnTo>
                  <a:lnTo>
                    <a:pt x="17" y="36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>
              <a:off x="3898440" y="2905560"/>
              <a:ext cx="94320" cy="90720"/>
            </a:xfrm>
            <a:custGeom>
              <a:avLst/>
              <a:gdLst/>
              <a:ahLst/>
              <a:rect l="l" t="t" r="r" b="b"/>
              <a:pathLst>
                <a:path w="224" h="220">
                  <a:moveTo>
                    <a:pt x="223" y="198"/>
                  </a:moveTo>
                  <a:lnTo>
                    <a:pt x="224" y="198"/>
                  </a:lnTo>
                  <a:lnTo>
                    <a:pt x="212" y="195"/>
                  </a:lnTo>
                  <a:lnTo>
                    <a:pt x="199" y="190"/>
                  </a:lnTo>
                  <a:lnTo>
                    <a:pt x="181" y="181"/>
                  </a:lnTo>
                  <a:lnTo>
                    <a:pt x="163" y="171"/>
                  </a:lnTo>
                  <a:lnTo>
                    <a:pt x="144" y="157"/>
                  </a:lnTo>
                  <a:lnTo>
                    <a:pt x="124" y="144"/>
                  </a:lnTo>
                  <a:lnTo>
                    <a:pt x="106" y="128"/>
                  </a:lnTo>
                  <a:lnTo>
                    <a:pt x="88" y="112"/>
                  </a:lnTo>
                  <a:lnTo>
                    <a:pt x="70" y="96"/>
                  </a:lnTo>
                  <a:lnTo>
                    <a:pt x="55" y="78"/>
                  </a:lnTo>
                  <a:lnTo>
                    <a:pt x="42" y="64"/>
                  </a:lnTo>
                  <a:lnTo>
                    <a:pt x="32" y="50"/>
                  </a:lnTo>
                  <a:lnTo>
                    <a:pt x="26" y="36"/>
                  </a:lnTo>
                  <a:lnTo>
                    <a:pt x="22" y="25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10" y="0"/>
                  </a:lnTo>
                  <a:lnTo>
                    <a:pt x="1" y="14"/>
                  </a:lnTo>
                  <a:lnTo>
                    <a:pt x="0" y="27"/>
                  </a:lnTo>
                  <a:lnTo>
                    <a:pt x="7" y="43"/>
                  </a:lnTo>
                  <a:lnTo>
                    <a:pt x="13" y="59"/>
                  </a:lnTo>
                  <a:lnTo>
                    <a:pt x="26" y="76"/>
                  </a:lnTo>
                  <a:lnTo>
                    <a:pt x="39" y="93"/>
                  </a:lnTo>
                  <a:lnTo>
                    <a:pt x="55" y="110"/>
                  </a:lnTo>
                  <a:lnTo>
                    <a:pt x="73" y="128"/>
                  </a:lnTo>
                  <a:lnTo>
                    <a:pt x="92" y="145"/>
                  </a:lnTo>
                  <a:lnTo>
                    <a:pt x="112" y="159"/>
                  </a:lnTo>
                  <a:lnTo>
                    <a:pt x="132" y="174"/>
                  </a:lnTo>
                  <a:lnTo>
                    <a:pt x="151" y="188"/>
                  </a:lnTo>
                  <a:lnTo>
                    <a:pt x="171" y="200"/>
                  </a:lnTo>
                  <a:lnTo>
                    <a:pt x="189" y="209"/>
                  </a:lnTo>
                  <a:lnTo>
                    <a:pt x="206" y="216"/>
                  </a:lnTo>
                  <a:lnTo>
                    <a:pt x="222" y="220"/>
                  </a:lnTo>
                  <a:lnTo>
                    <a:pt x="223" y="220"/>
                  </a:lnTo>
                  <a:lnTo>
                    <a:pt x="223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H="1">
              <a:off x="3876840" y="2977920"/>
              <a:ext cx="21240" cy="1872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6" y="0"/>
                  </a:moveTo>
                  <a:lnTo>
                    <a:pt x="36" y="0"/>
                  </a:lnTo>
                  <a:lnTo>
                    <a:pt x="34" y="1"/>
                  </a:lnTo>
                  <a:lnTo>
                    <a:pt x="31" y="4"/>
                  </a:lnTo>
                  <a:lnTo>
                    <a:pt x="25" y="10"/>
                  </a:lnTo>
                  <a:lnTo>
                    <a:pt x="18" y="13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46"/>
                  </a:lnTo>
                  <a:lnTo>
                    <a:pt x="8" y="45"/>
                  </a:lnTo>
                  <a:lnTo>
                    <a:pt x="15" y="41"/>
                  </a:lnTo>
                  <a:lnTo>
                    <a:pt x="22" y="35"/>
                  </a:lnTo>
                  <a:lnTo>
                    <a:pt x="30" y="32"/>
                  </a:lnTo>
                  <a:lnTo>
                    <a:pt x="36" y="26"/>
                  </a:lnTo>
                  <a:lnTo>
                    <a:pt x="42" y="21"/>
                  </a:lnTo>
                  <a:lnTo>
                    <a:pt x="49" y="1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>
              <a:off x="3812040" y="2913480"/>
              <a:ext cx="70920" cy="7020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50" y="0"/>
                  </a:moveTo>
                  <a:lnTo>
                    <a:pt x="150" y="0"/>
                  </a:lnTo>
                  <a:lnTo>
                    <a:pt x="0" y="155"/>
                  </a:lnTo>
                  <a:lnTo>
                    <a:pt x="15" y="169"/>
                  </a:lnTo>
                  <a:lnTo>
                    <a:pt x="165" y="15"/>
                  </a:lnTo>
                  <a:lnTo>
                    <a:pt x="165" y="15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3771360" y="2878200"/>
              <a:ext cx="47160" cy="4140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88" y="0"/>
                  </a:moveTo>
                  <a:lnTo>
                    <a:pt x="88" y="1"/>
                  </a:lnTo>
                  <a:lnTo>
                    <a:pt x="84" y="10"/>
                  </a:lnTo>
                  <a:lnTo>
                    <a:pt x="77" y="19"/>
                  </a:lnTo>
                  <a:lnTo>
                    <a:pt x="66" y="32"/>
                  </a:lnTo>
                  <a:lnTo>
                    <a:pt x="51" y="44"/>
                  </a:lnTo>
                  <a:lnTo>
                    <a:pt x="36" y="56"/>
                  </a:lnTo>
                  <a:lnTo>
                    <a:pt x="22" y="68"/>
                  </a:lnTo>
                  <a:lnTo>
                    <a:pt x="10" y="77"/>
                  </a:lnTo>
                  <a:lnTo>
                    <a:pt x="0" y="87"/>
                  </a:lnTo>
                  <a:lnTo>
                    <a:pt x="15" y="102"/>
                  </a:lnTo>
                  <a:lnTo>
                    <a:pt x="23" y="94"/>
                  </a:lnTo>
                  <a:lnTo>
                    <a:pt x="35" y="85"/>
                  </a:lnTo>
                  <a:lnTo>
                    <a:pt x="50" y="73"/>
                  </a:lnTo>
                  <a:lnTo>
                    <a:pt x="66" y="61"/>
                  </a:lnTo>
                  <a:lnTo>
                    <a:pt x="79" y="46"/>
                  </a:lnTo>
                  <a:lnTo>
                    <a:pt x="93" y="33"/>
                  </a:lnTo>
                  <a:lnTo>
                    <a:pt x="103" y="19"/>
                  </a:lnTo>
                  <a:lnTo>
                    <a:pt x="109" y="4"/>
                  </a:lnTo>
                  <a:lnTo>
                    <a:pt x="109" y="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flipH="1">
              <a:off x="3772080" y="2832840"/>
              <a:ext cx="18720" cy="47520"/>
            </a:xfrm>
            <a:custGeom>
              <a:avLst/>
              <a:gdLst/>
              <a:ahLst/>
              <a:rect l="l" t="t" r="r" b="b"/>
              <a:pathLst>
                <a:path w="46" h="116">
                  <a:moveTo>
                    <a:pt x="0" y="4"/>
                  </a:moveTo>
                  <a:lnTo>
                    <a:pt x="0" y="5"/>
                  </a:lnTo>
                  <a:lnTo>
                    <a:pt x="8" y="27"/>
                  </a:lnTo>
                  <a:lnTo>
                    <a:pt x="16" y="61"/>
                  </a:lnTo>
                  <a:lnTo>
                    <a:pt x="25" y="92"/>
                  </a:lnTo>
                  <a:lnTo>
                    <a:pt x="25" y="111"/>
                  </a:lnTo>
                  <a:lnTo>
                    <a:pt x="46" y="116"/>
                  </a:lnTo>
                  <a:lnTo>
                    <a:pt x="46" y="90"/>
                  </a:lnTo>
                  <a:lnTo>
                    <a:pt x="37" y="55"/>
                  </a:lnTo>
                  <a:lnTo>
                    <a:pt x="29" y="23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3780000" y="2750400"/>
              <a:ext cx="55800" cy="82440"/>
            </a:xfrm>
            <a:custGeom>
              <a:avLst/>
              <a:gdLst/>
              <a:ahLst/>
              <a:rect l="l" t="t" r="r" b="b"/>
              <a:pathLst>
                <a:path w="126" h="201">
                  <a:moveTo>
                    <a:pt x="12" y="21"/>
                  </a:moveTo>
                  <a:lnTo>
                    <a:pt x="9" y="21"/>
                  </a:lnTo>
                  <a:lnTo>
                    <a:pt x="17" y="26"/>
                  </a:lnTo>
                  <a:lnTo>
                    <a:pt x="31" y="43"/>
                  </a:lnTo>
                  <a:lnTo>
                    <a:pt x="46" y="70"/>
                  </a:lnTo>
                  <a:lnTo>
                    <a:pt x="62" y="100"/>
                  </a:lnTo>
                  <a:lnTo>
                    <a:pt x="78" y="131"/>
                  </a:lnTo>
                  <a:lnTo>
                    <a:pt x="91" y="162"/>
                  </a:lnTo>
                  <a:lnTo>
                    <a:pt x="99" y="187"/>
                  </a:lnTo>
                  <a:lnTo>
                    <a:pt x="103" y="201"/>
                  </a:lnTo>
                  <a:lnTo>
                    <a:pt x="126" y="199"/>
                  </a:lnTo>
                  <a:lnTo>
                    <a:pt x="120" y="180"/>
                  </a:lnTo>
                  <a:lnTo>
                    <a:pt x="110" y="154"/>
                  </a:lnTo>
                  <a:lnTo>
                    <a:pt x="97" y="124"/>
                  </a:lnTo>
                  <a:lnTo>
                    <a:pt x="81" y="91"/>
                  </a:lnTo>
                  <a:lnTo>
                    <a:pt x="65" y="60"/>
                  </a:lnTo>
                  <a:lnTo>
                    <a:pt x="47" y="32"/>
                  </a:lnTo>
                  <a:lnTo>
                    <a:pt x="31" y="1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9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H="1">
              <a:off x="3829680" y="2750400"/>
              <a:ext cx="85680" cy="1872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18" y="43"/>
                  </a:moveTo>
                  <a:lnTo>
                    <a:pt x="12" y="46"/>
                  </a:lnTo>
                  <a:lnTo>
                    <a:pt x="22" y="45"/>
                  </a:lnTo>
                  <a:lnTo>
                    <a:pt x="34" y="43"/>
                  </a:lnTo>
                  <a:lnTo>
                    <a:pt x="49" y="42"/>
                  </a:lnTo>
                  <a:lnTo>
                    <a:pt x="60" y="40"/>
                  </a:lnTo>
                  <a:lnTo>
                    <a:pt x="71" y="39"/>
                  </a:lnTo>
                  <a:lnTo>
                    <a:pt x="83" y="38"/>
                  </a:lnTo>
                  <a:lnTo>
                    <a:pt x="96" y="37"/>
                  </a:lnTo>
                  <a:lnTo>
                    <a:pt x="108" y="35"/>
                  </a:lnTo>
                  <a:lnTo>
                    <a:pt x="118" y="33"/>
                  </a:lnTo>
                  <a:lnTo>
                    <a:pt x="133" y="32"/>
                  </a:lnTo>
                  <a:lnTo>
                    <a:pt x="144" y="30"/>
                  </a:lnTo>
                  <a:lnTo>
                    <a:pt x="155" y="29"/>
                  </a:lnTo>
                  <a:lnTo>
                    <a:pt x="167" y="26"/>
                  </a:lnTo>
                  <a:lnTo>
                    <a:pt x="178" y="25"/>
                  </a:lnTo>
                  <a:lnTo>
                    <a:pt x="189" y="22"/>
                  </a:lnTo>
                  <a:lnTo>
                    <a:pt x="200" y="21"/>
                  </a:lnTo>
                  <a:lnTo>
                    <a:pt x="197" y="0"/>
                  </a:lnTo>
                  <a:lnTo>
                    <a:pt x="187" y="1"/>
                  </a:lnTo>
                  <a:lnTo>
                    <a:pt x="176" y="3"/>
                  </a:lnTo>
                  <a:lnTo>
                    <a:pt x="165" y="5"/>
                  </a:lnTo>
                  <a:lnTo>
                    <a:pt x="153" y="7"/>
                  </a:lnTo>
                  <a:lnTo>
                    <a:pt x="141" y="8"/>
                  </a:lnTo>
                  <a:lnTo>
                    <a:pt x="131" y="11"/>
                  </a:lnTo>
                  <a:lnTo>
                    <a:pt x="118" y="12"/>
                  </a:lnTo>
                  <a:lnTo>
                    <a:pt x="106" y="13"/>
                  </a:lnTo>
                  <a:lnTo>
                    <a:pt x="94" y="16"/>
                  </a:lnTo>
                  <a:lnTo>
                    <a:pt x="83" y="17"/>
                  </a:lnTo>
                  <a:lnTo>
                    <a:pt x="71" y="18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4" y="22"/>
                  </a:lnTo>
                  <a:lnTo>
                    <a:pt x="22" y="23"/>
                  </a:lnTo>
                  <a:lnTo>
                    <a:pt x="9" y="25"/>
                  </a:lnTo>
                  <a:lnTo>
                    <a:pt x="3" y="27"/>
                  </a:lnTo>
                  <a:lnTo>
                    <a:pt x="9" y="25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12" y="46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H="1">
              <a:off x="3924000" y="2872080"/>
              <a:ext cx="16920" cy="45360"/>
            </a:xfrm>
            <a:custGeom>
              <a:avLst/>
              <a:gdLst/>
              <a:ahLst/>
              <a:rect l="l" t="t" r="r" b="b"/>
              <a:pathLst>
                <a:path w="37" h="108">
                  <a:moveTo>
                    <a:pt x="23" y="101"/>
                  </a:moveTo>
                  <a:lnTo>
                    <a:pt x="23" y="101"/>
                  </a:lnTo>
                  <a:lnTo>
                    <a:pt x="19" y="78"/>
                  </a:lnTo>
                  <a:lnTo>
                    <a:pt x="21" y="52"/>
                  </a:lnTo>
                  <a:lnTo>
                    <a:pt x="28" y="28"/>
                  </a:lnTo>
                  <a:lnTo>
                    <a:pt x="37" y="9"/>
                  </a:lnTo>
                  <a:lnTo>
                    <a:pt x="20" y="0"/>
                  </a:lnTo>
                  <a:lnTo>
                    <a:pt x="9" y="24"/>
                  </a:lnTo>
                  <a:lnTo>
                    <a:pt x="2" y="49"/>
                  </a:lnTo>
                  <a:lnTo>
                    <a:pt x="0" y="78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23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H="1">
              <a:off x="3857760" y="2913480"/>
              <a:ext cx="79200" cy="28800"/>
            </a:xfrm>
            <a:custGeom>
              <a:avLst/>
              <a:gdLst/>
              <a:ahLst/>
              <a:rect l="l" t="t" r="r" b="b"/>
              <a:pathLst>
                <a:path w="187" h="69">
                  <a:moveTo>
                    <a:pt x="180" y="25"/>
                  </a:moveTo>
                  <a:lnTo>
                    <a:pt x="180" y="25"/>
                  </a:lnTo>
                  <a:lnTo>
                    <a:pt x="156" y="34"/>
                  </a:lnTo>
                  <a:lnTo>
                    <a:pt x="131" y="42"/>
                  </a:lnTo>
                  <a:lnTo>
                    <a:pt x="106" y="48"/>
                  </a:lnTo>
                  <a:lnTo>
                    <a:pt x="84" y="50"/>
                  </a:lnTo>
                  <a:lnTo>
                    <a:pt x="64" y="46"/>
                  </a:lnTo>
                  <a:lnTo>
                    <a:pt x="46" y="38"/>
                  </a:lnTo>
                  <a:lnTo>
                    <a:pt x="30" y="24"/>
                  </a:lnTo>
                  <a:lnTo>
                    <a:pt x="16" y="0"/>
                  </a:lnTo>
                  <a:lnTo>
                    <a:pt x="0" y="7"/>
                  </a:lnTo>
                  <a:lnTo>
                    <a:pt x="15" y="36"/>
                  </a:lnTo>
                  <a:lnTo>
                    <a:pt x="36" y="55"/>
                  </a:lnTo>
                  <a:lnTo>
                    <a:pt x="59" y="65"/>
                  </a:lnTo>
                  <a:lnTo>
                    <a:pt x="84" y="69"/>
                  </a:lnTo>
                  <a:lnTo>
                    <a:pt x="108" y="67"/>
                  </a:lnTo>
                  <a:lnTo>
                    <a:pt x="135" y="60"/>
                  </a:lnTo>
                  <a:lnTo>
                    <a:pt x="161" y="53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>
              <a:off x="3814920" y="2857680"/>
              <a:ext cx="44640" cy="74520"/>
            </a:xfrm>
            <a:custGeom>
              <a:avLst/>
              <a:gdLst/>
              <a:ahLst/>
              <a:rect l="l" t="t" r="r" b="b"/>
              <a:pathLst>
                <a:path w="106" h="179">
                  <a:moveTo>
                    <a:pt x="87" y="0"/>
                  </a:moveTo>
                  <a:lnTo>
                    <a:pt x="87" y="0"/>
                  </a:lnTo>
                  <a:lnTo>
                    <a:pt x="81" y="21"/>
                  </a:lnTo>
                  <a:lnTo>
                    <a:pt x="76" y="44"/>
                  </a:lnTo>
                  <a:lnTo>
                    <a:pt x="67" y="69"/>
                  </a:lnTo>
                  <a:lnTo>
                    <a:pt x="59" y="93"/>
                  </a:lnTo>
                  <a:lnTo>
                    <a:pt x="47" y="115"/>
                  </a:lnTo>
                  <a:lnTo>
                    <a:pt x="35" y="135"/>
                  </a:lnTo>
                  <a:lnTo>
                    <a:pt x="19" y="152"/>
                  </a:lnTo>
                  <a:lnTo>
                    <a:pt x="0" y="162"/>
                  </a:lnTo>
                  <a:lnTo>
                    <a:pt x="7" y="179"/>
                  </a:lnTo>
                  <a:lnTo>
                    <a:pt x="30" y="166"/>
                  </a:lnTo>
                  <a:lnTo>
                    <a:pt x="48" y="147"/>
                  </a:lnTo>
                  <a:lnTo>
                    <a:pt x="64" y="124"/>
                  </a:lnTo>
                  <a:lnTo>
                    <a:pt x="76" y="100"/>
                  </a:lnTo>
                  <a:lnTo>
                    <a:pt x="86" y="74"/>
                  </a:lnTo>
                  <a:lnTo>
                    <a:pt x="95" y="49"/>
                  </a:lnTo>
                  <a:lnTo>
                    <a:pt x="100" y="2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H="1">
              <a:off x="3809880" y="2812320"/>
              <a:ext cx="16920" cy="47520"/>
            </a:xfrm>
            <a:custGeom>
              <a:avLst/>
              <a:gdLst/>
              <a:ahLst/>
              <a:rect l="l" t="t" r="r" b="b"/>
              <a:pathLst>
                <a:path w="40" h="114">
                  <a:moveTo>
                    <a:pt x="0" y="19"/>
                  </a:moveTo>
                  <a:lnTo>
                    <a:pt x="0" y="19"/>
                  </a:lnTo>
                  <a:lnTo>
                    <a:pt x="11" y="23"/>
                  </a:lnTo>
                  <a:lnTo>
                    <a:pt x="17" y="31"/>
                  </a:lnTo>
                  <a:lnTo>
                    <a:pt x="20" y="40"/>
                  </a:lnTo>
                  <a:lnTo>
                    <a:pt x="21" y="53"/>
                  </a:lnTo>
                  <a:lnTo>
                    <a:pt x="19" y="66"/>
                  </a:lnTo>
                  <a:lnTo>
                    <a:pt x="16" y="82"/>
                  </a:lnTo>
                  <a:lnTo>
                    <a:pt x="12" y="98"/>
                  </a:lnTo>
                  <a:lnTo>
                    <a:pt x="8" y="110"/>
                  </a:lnTo>
                  <a:lnTo>
                    <a:pt x="27" y="114"/>
                  </a:lnTo>
                  <a:lnTo>
                    <a:pt x="31" y="100"/>
                  </a:lnTo>
                  <a:lnTo>
                    <a:pt x="35" y="84"/>
                  </a:lnTo>
                  <a:lnTo>
                    <a:pt x="38" y="70"/>
                  </a:lnTo>
                  <a:lnTo>
                    <a:pt x="40" y="53"/>
                  </a:lnTo>
                  <a:lnTo>
                    <a:pt x="39" y="38"/>
                  </a:lnTo>
                  <a:lnTo>
                    <a:pt x="33" y="21"/>
                  </a:lnTo>
                  <a:lnTo>
                    <a:pt x="22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H="1">
              <a:off x="3825360" y="2808360"/>
              <a:ext cx="25560" cy="1188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6" y="20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4" y="19"/>
                  </a:lnTo>
                  <a:lnTo>
                    <a:pt x="32" y="20"/>
                  </a:lnTo>
                  <a:lnTo>
                    <a:pt x="38" y="23"/>
                  </a:lnTo>
                  <a:lnTo>
                    <a:pt x="45" y="25"/>
                  </a:lnTo>
                  <a:lnTo>
                    <a:pt x="52" y="28"/>
                  </a:lnTo>
                  <a:lnTo>
                    <a:pt x="57" y="29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1" y="7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>
              <a:off x="3848760" y="2810160"/>
              <a:ext cx="28080" cy="2664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16" y="68"/>
                  </a:moveTo>
                  <a:lnTo>
                    <a:pt x="16" y="68"/>
                  </a:lnTo>
                  <a:lnTo>
                    <a:pt x="20" y="62"/>
                  </a:lnTo>
                  <a:lnTo>
                    <a:pt x="24" y="57"/>
                  </a:lnTo>
                  <a:lnTo>
                    <a:pt x="30" y="48"/>
                  </a:lnTo>
                  <a:lnTo>
                    <a:pt x="36" y="41"/>
                  </a:lnTo>
                  <a:lnTo>
                    <a:pt x="43" y="34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6" y="16"/>
                  </a:lnTo>
                  <a:lnTo>
                    <a:pt x="60" y="0"/>
                  </a:lnTo>
                  <a:lnTo>
                    <a:pt x="48" y="6"/>
                  </a:lnTo>
                  <a:lnTo>
                    <a:pt x="40" y="13"/>
                  </a:lnTo>
                  <a:lnTo>
                    <a:pt x="31" y="20"/>
                  </a:lnTo>
                  <a:lnTo>
                    <a:pt x="22" y="29"/>
                  </a:lnTo>
                  <a:lnTo>
                    <a:pt x="16" y="37"/>
                  </a:lnTo>
                  <a:lnTo>
                    <a:pt x="10" y="45"/>
                  </a:lnTo>
                  <a:lnTo>
                    <a:pt x="3" y="53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H="1">
              <a:off x="3870000" y="2835360"/>
              <a:ext cx="62280" cy="42840"/>
            </a:xfrm>
            <a:custGeom>
              <a:avLst/>
              <a:gdLst/>
              <a:ahLst/>
              <a:rect l="l" t="t" r="r" b="b"/>
              <a:pathLst>
                <a:path w="145" h="107">
                  <a:moveTo>
                    <a:pt x="17" y="102"/>
                  </a:moveTo>
                  <a:lnTo>
                    <a:pt x="7" y="107"/>
                  </a:lnTo>
                  <a:lnTo>
                    <a:pt x="28" y="107"/>
                  </a:lnTo>
                  <a:lnTo>
                    <a:pt x="50" y="102"/>
                  </a:lnTo>
                  <a:lnTo>
                    <a:pt x="70" y="93"/>
                  </a:lnTo>
                  <a:lnTo>
                    <a:pt x="88" y="79"/>
                  </a:lnTo>
                  <a:lnTo>
                    <a:pt x="103" y="65"/>
                  </a:lnTo>
                  <a:lnTo>
                    <a:pt x="119" y="47"/>
                  </a:lnTo>
                  <a:lnTo>
                    <a:pt x="133" y="28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116" y="19"/>
                  </a:lnTo>
                  <a:lnTo>
                    <a:pt x="105" y="36"/>
                  </a:lnTo>
                  <a:lnTo>
                    <a:pt x="90" y="50"/>
                  </a:lnTo>
                  <a:lnTo>
                    <a:pt x="75" y="65"/>
                  </a:lnTo>
                  <a:lnTo>
                    <a:pt x="60" y="77"/>
                  </a:lnTo>
                  <a:lnTo>
                    <a:pt x="44" y="83"/>
                  </a:lnTo>
                  <a:lnTo>
                    <a:pt x="28" y="88"/>
                  </a:lnTo>
                  <a:lnTo>
                    <a:pt x="9" y="88"/>
                  </a:lnTo>
                  <a:lnTo>
                    <a:pt x="0" y="93"/>
                  </a:lnTo>
                  <a:lnTo>
                    <a:pt x="9" y="88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7" y="107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4" name=""/>
          <p:cNvGrpSpPr/>
          <p:nvPr/>
        </p:nvGrpSpPr>
        <p:grpSpPr>
          <a:xfrm>
            <a:off x="7238880" y="4191120"/>
            <a:ext cx="457200" cy="1186920"/>
            <a:chOff x="7238880" y="4191120"/>
            <a:chExt cx="457200" cy="1186920"/>
          </a:xfrm>
        </p:grpSpPr>
        <p:sp>
          <p:nvSpPr>
            <p:cNvPr id="1865" name=""/>
            <p:cNvSpPr/>
            <p:nvPr/>
          </p:nvSpPr>
          <p:spPr>
            <a:xfrm>
              <a:off x="7238880" y="5221440"/>
              <a:ext cx="457200" cy="15660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6" name=""/>
            <p:cNvGrpSpPr/>
            <p:nvPr/>
          </p:nvGrpSpPr>
          <p:grpSpPr>
            <a:xfrm>
              <a:off x="7238880" y="4191120"/>
              <a:ext cx="352440" cy="1117080"/>
              <a:chOff x="7238880" y="4191120"/>
              <a:chExt cx="352440" cy="1117080"/>
            </a:xfrm>
          </p:grpSpPr>
          <p:sp>
            <p:nvSpPr>
              <p:cNvPr id="1867" name=""/>
              <p:cNvSpPr/>
              <p:nvPr/>
            </p:nvSpPr>
            <p:spPr>
              <a:xfrm>
                <a:off x="7389360" y="4218480"/>
                <a:ext cx="131760" cy="156960"/>
              </a:xfrm>
              <a:custGeom>
                <a:avLst/>
                <a:gdLst/>
                <a:ahLst/>
                <a:rect l="l" t="t" r="r" b="b"/>
                <a:pathLst>
                  <a:path w="337" h="410">
                    <a:moveTo>
                      <a:pt x="218" y="410"/>
                    </a:moveTo>
                    <a:lnTo>
                      <a:pt x="0" y="410"/>
                    </a:lnTo>
                    <a:lnTo>
                      <a:pt x="0" y="303"/>
                    </a:lnTo>
                    <a:lnTo>
                      <a:pt x="7" y="261"/>
                    </a:lnTo>
                    <a:lnTo>
                      <a:pt x="7" y="0"/>
                    </a:lnTo>
                    <a:lnTo>
                      <a:pt x="280" y="0"/>
                    </a:lnTo>
                    <a:lnTo>
                      <a:pt x="279" y="23"/>
                    </a:lnTo>
                    <a:lnTo>
                      <a:pt x="305" y="71"/>
                    </a:lnTo>
                    <a:lnTo>
                      <a:pt x="310" y="83"/>
                    </a:lnTo>
                    <a:lnTo>
                      <a:pt x="309" y="96"/>
                    </a:lnTo>
                    <a:lnTo>
                      <a:pt x="297" y="122"/>
                    </a:lnTo>
                    <a:lnTo>
                      <a:pt x="313" y="138"/>
                    </a:lnTo>
                    <a:lnTo>
                      <a:pt x="337" y="168"/>
                    </a:lnTo>
                    <a:lnTo>
                      <a:pt x="326" y="183"/>
                    </a:lnTo>
                    <a:lnTo>
                      <a:pt x="310" y="187"/>
                    </a:lnTo>
                    <a:lnTo>
                      <a:pt x="310" y="211"/>
                    </a:lnTo>
                    <a:lnTo>
                      <a:pt x="313" y="214"/>
                    </a:lnTo>
                    <a:lnTo>
                      <a:pt x="313" y="223"/>
                    </a:lnTo>
                    <a:lnTo>
                      <a:pt x="267" y="227"/>
                    </a:lnTo>
                    <a:lnTo>
                      <a:pt x="265" y="235"/>
                    </a:lnTo>
                    <a:lnTo>
                      <a:pt x="308" y="246"/>
                    </a:lnTo>
                    <a:lnTo>
                      <a:pt x="305" y="262"/>
                    </a:lnTo>
                    <a:lnTo>
                      <a:pt x="313" y="282"/>
                    </a:lnTo>
                    <a:lnTo>
                      <a:pt x="315" y="287"/>
                    </a:lnTo>
                    <a:lnTo>
                      <a:pt x="315" y="295"/>
                    </a:lnTo>
                    <a:lnTo>
                      <a:pt x="312" y="304"/>
                    </a:lnTo>
                    <a:lnTo>
                      <a:pt x="305" y="310"/>
                    </a:lnTo>
                    <a:lnTo>
                      <a:pt x="296" y="310"/>
                    </a:lnTo>
                    <a:lnTo>
                      <a:pt x="239" y="319"/>
                    </a:lnTo>
                    <a:lnTo>
                      <a:pt x="228" y="342"/>
                    </a:lnTo>
                    <a:lnTo>
                      <a:pt x="228" y="358"/>
                    </a:lnTo>
                    <a:lnTo>
                      <a:pt x="218" y="378"/>
                    </a:lnTo>
                    <a:lnTo>
                      <a:pt x="218" y="410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7528320" y="4521240"/>
                <a:ext cx="63000" cy="155520"/>
              </a:xfrm>
              <a:custGeom>
                <a:avLst/>
                <a:gdLst/>
                <a:ahLst/>
                <a:rect l="l" t="t" r="r" b="b"/>
                <a:pathLst>
                  <a:path w="162" h="406">
                    <a:moveTo>
                      <a:pt x="0" y="18"/>
                    </a:moveTo>
                    <a:lnTo>
                      <a:pt x="77" y="0"/>
                    </a:lnTo>
                    <a:lnTo>
                      <a:pt x="162" y="397"/>
                    </a:lnTo>
                    <a:lnTo>
                      <a:pt x="18" y="40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7323120" y="5253120"/>
                <a:ext cx="95760" cy="55080"/>
              </a:xfrm>
              <a:custGeom>
                <a:avLst/>
                <a:gdLst/>
                <a:ahLst/>
                <a:rect l="l" t="t" r="r" b="b"/>
                <a:pathLst>
                  <a:path w="246" h="143">
                    <a:moveTo>
                      <a:pt x="175" y="0"/>
                    </a:moveTo>
                    <a:lnTo>
                      <a:pt x="220" y="71"/>
                    </a:lnTo>
                    <a:lnTo>
                      <a:pt x="220" y="71"/>
                    </a:lnTo>
                    <a:lnTo>
                      <a:pt x="223" y="72"/>
                    </a:lnTo>
                    <a:lnTo>
                      <a:pt x="238" y="88"/>
                    </a:lnTo>
                    <a:lnTo>
                      <a:pt x="246" y="108"/>
                    </a:lnTo>
                    <a:lnTo>
                      <a:pt x="246" y="130"/>
                    </a:lnTo>
                    <a:lnTo>
                      <a:pt x="246" y="130"/>
                    </a:lnTo>
                    <a:lnTo>
                      <a:pt x="213" y="137"/>
                    </a:lnTo>
                    <a:lnTo>
                      <a:pt x="181" y="142"/>
                    </a:lnTo>
                    <a:lnTo>
                      <a:pt x="133" y="143"/>
                    </a:lnTo>
                    <a:lnTo>
                      <a:pt x="85" y="139"/>
                    </a:lnTo>
                    <a:lnTo>
                      <a:pt x="74" y="136"/>
                    </a:lnTo>
                    <a:lnTo>
                      <a:pt x="48" y="124"/>
                    </a:lnTo>
                    <a:lnTo>
                      <a:pt x="0" y="58"/>
                    </a:lnTo>
                    <a:lnTo>
                      <a:pt x="0" y="23"/>
                    </a:lnTo>
                    <a:lnTo>
                      <a:pt x="6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7418160" y="5220360"/>
                <a:ext cx="161640" cy="41040"/>
              </a:xfrm>
              <a:custGeom>
                <a:avLst/>
                <a:gdLst/>
                <a:ahLst/>
                <a:rect l="l" t="t" r="r" b="b"/>
                <a:pathLst>
                  <a:path w="414" h="107">
                    <a:moveTo>
                      <a:pt x="235" y="0"/>
                    </a:moveTo>
                    <a:lnTo>
                      <a:pt x="252" y="9"/>
                    </a:lnTo>
                    <a:lnTo>
                      <a:pt x="281" y="29"/>
                    </a:lnTo>
                    <a:lnTo>
                      <a:pt x="316" y="39"/>
                    </a:lnTo>
                    <a:lnTo>
                      <a:pt x="380" y="45"/>
                    </a:lnTo>
                    <a:lnTo>
                      <a:pt x="393" y="48"/>
                    </a:lnTo>
                    <a:lnTo>
                      <a:pt x="402" y="57"/>
                    </a:lnTo>
                    <a:lnTo>
                      <a:pt x="405" y="71"/>
                    </a:lnTo>
                    <a:lnTo>
                      <a:pt x="406" y="96"/>
                    </a:lnTo>
                    <a:lnTo>
                      <a:pt x="414" y="96"/>
                    </a:lnTo>
                    <a:lnTo>
                      <a:pt x="414" y="107"/>
                    </a:lnTo>
                    <a:lnTo>
                      <a:pt x="226" y="107"/>
                    </a:lnTo>
                    <a:lnTo>
                      <a:pt x="125" y="90"/>
                    </a:lnTo>
                    <a:lnTo>
                      <a:pt x="116" y="107"/>
                    </a:lnTo>
                    <a:lnTo>
                      <a:pt x="116" y="107"/>
                    </a:lnTo>
                    <a:lnTo>
                      <a:pt x="62" y="107"/>
                    </a:lnTo>
                    <a:lnTo>
                      <a:pt x="23" y="103"/>
                    </a:lnTo>
                    <a:lnTo>
                      <a:pt x="6" y="101"/>
                    </a:lnTo>
                    <a:lnTo>
                      <a:pt x="6" y="88"/>
                    </a:lnTo>
                    <a:lnTo>
                      <a:pt x="0" y="57"/>
                    </a:lnTo>
                    <a:lnTo>
                      <a:pt x="0" y="39"/>
                    </a:lnTo>
                    <a:lnTo>
                      <a:pt x="4" y="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7376040" y="4334040"/>
                <a:ext cx="119160" cy="210600"/>
              </a:xfrm>
              <a:custGeom>
                <a:avLst/>
                <a:gdLst/>
                <a:ahLst/>
                <a:rect l="l" t="t" r="r" b="b"/>
                <a:pathLst>
                  <a:path w="306" h="550">
                    <a:moveTo>
                      <a:pt x="253" y="75"/>
                    </a:moveTo>
                    <a:lnTo>
                      <a:pt x="226" y="101"/>
                    </a:lnTo>
                    <a:lnTo>
                      <a:pt x="229" y="100"/>
                    </a:lnTo>
                    <a:lnTo>
                      <a:pt x="228" y="100"/>
                    </a:lnTo>
                    <a:lnTo>
                      <a:pt x="160" y="73"/>
                    </a:lnTo>
                    <a:lnTo>
                      <a:pt x="94" y="40"/>
                    </a:lnTo>
                    <a:lnTo>
                      <a:pt x="33" y="0"/>
                    </a:lnTo>
                    <a:lnTo>
                      <a:pt x="0" y="46"/>
                    </a:lnTo>
                    <a:lnTo>
                      <a:pt x="0" y="550"/>
                    </a:lnTo>
                    <a:lnTo>
                      <a:pt x="306" y="550"/>
                    </a:lnTo>
                    <a:lnTo>
                      <a:pt x="306" y="169"/>
                    </a:lnTo>
                    <a:lnTo>
                      <a:pt x="263" y="82"/>
                    </a:lnTo>
                    <a:lnTo>
                      <a:pt x="253" y="75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7400160" y="4373280"/>
                <a:ext cx="66240" cy="32040"/>
              </a:xfrm>
              <a:custGeom>
                <a:avLst/>
                <a:gdLst/>
                <a:ahLst/>
                <a:rect l="l" t="t" r="r" b="b"/>
                <a:pathLst>
                  <a:path w="169" h="84">
                    <a:moveTo>
                      <a:pt x="0" y="25"/>
                    </a:moveTo>
                    <a:lnTo>
                      <a:pt x="72" y="84"/>
                    </a:lnTo>
                    <a:lnTo>
                      <a:pt x="1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7466760" y="4373280"/>
                <a:ext cx="14760" cy="21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7449480" y="4372560"/>
                <a:ext cx="45000" cy="155520"/>
              </a:xfrm>
              <a:custGeom>
                <a:avLst/>
                <a:gdLst/>
                <a:ahLst/>
                <a:rect l="l" t="t" r="r" b="b"/>
                <a:pathLst>
                  <a:path w="118" h="405">
                    <a:moveTo>
                      <a:pt x="0" y="41"/>
                    </a:moveTo>
                    <a:lnTo>
                      <a:pt x="25" y="76"/>
                    </a:lnTo>
                    <a:lnTo>
                      <a:pt x="18" y="85"/>
                    </a:lnTo>
                    <a:lnTo>
                      <a:pt x="8" y="211"/>
                    </a:lnTo>
                    <a:lnTo>
                      <a:pt x="18" y="387"/>
                    </a:lnTo>
                    <a:lnTo>
                      <a:pt x="118" y="405"/>
                    </a:lnTo>
                    <a:lnTo>
                      <a:pt x="84" y="151"/>
                    </a:lnTo>
                    <a:lnTo>
                      <a:pt x="51" y="76"/>
                    </a:lnTo>
                    <a:lnTo>
                      <a:pt x="58" y="26"/>
                    </a:lnTo>
                    <a:lnTo>
                      <a:pt x="51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f7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7263720" y="4334040"/>
                <a:ext cx="280800" cy="930600"/>
              </a:xfrm>
              <a:custGeom>
                <a:avLst/>
                <a:gdLst/>
                <a:ahLst/>
                <a:rect l="l" t="t" r="r" b="b"/>
                <a:pathLst>
                  <a:path w="722" h="2427">
                    <a:moveTo>
                      <a:pt x="662" y="1323"/>
                    </a:moveTo>
                    <a:lnTo>
                      <a:pt x="688" y="1195"/>
                    </a:lnTo>
                    <a:lnTo>
                      <a:pt x="722" y="1186"/>
                    </a:lnTo>
                    <a:lnTo>
                      <a:pt x="671" y="251"/>
                    </a:lnTo>
                    <a:lnTo>
                      <a:pt x="666" y="221"/>
                    </a:lnTo>
                    <a:lnTo>
                      <a:pt x="655" y="192"/>
                    </a:lnTo>
                    <a:lnTo>
                      <a:pt x="578" y="124"/>
                    </a:lnTo>
                    <a:lnTo>
                      <a:pt x="565" y="110"/>
                    </a:lnTo>
                    <a:lnTo>
                      <a:pt x="552" y="81"/>
                    </a:lnTo>
                    <a:lnTo>
                      <a:pt x="566" y="185"/>
                    </a:lnTo>
                    <a:lnTo>
                      <a:pt x="578" y="327"/>
                    </a:lnTo>
                    <a:lnTo>
                      <a:pt x="581" y="499"/>
                    </a:lnTo>
                    <a:lnTo>
                      <a:pt x="574" y="495"/>
                    </a:lnTo>
                    <a:lnTo>
                      <a:pt x="546" y="422"/>
                    </a:lnTo>
                    <a:lnTo>
                      <a:pt x="511" y="351"/>
                    </a:lnTo>
                    <a:lnTo>
                      <a:pt x="469" y="286"/>
                    </a:lnTo>
                    <a:lnTo>
                      <a:pt x="449" y="259"/>
                    </a:lnTo>
                    <a:lnTo>
                      <a:pt x="415" y="220"/>
                    </a:lnTo>
                    <a:lnTo>
                      <a:pt x="373" y="157"/>
                    </a:lnTo>
                    <a:lnTo>
                      <a:pt x="340" y="92"/>
                    </a:lnTo>
                    <a:lnTo>
                      <a:pt x="312" y="23"/>
                    </a:lnTo>
                    <a:lnTo>
                      <a:pt x="322" y="0"/>
                    </a:lnTo>
                    <a:lnTo>
                      <a:pt x="298" y="16"/>
                    </a:lnTo>
                    <a:lnTo>
                      <a:pt x="263" y="58"/>
                    </a:lnTo>
                    <a:lnTo>
                      <a:pt x="69" y="168"/>
                    </a:lnTo>
                    <a:lnTo>
                      <a:pt x="53" y="169"/>
                    </a:lnTo>
                    <a:lnTo>
                      <a:pt x="41" y="179"/>
                    </a:lnTo>
                    <a:lnTo>
                      <a:pt x="35" y="192"/>
                    </a:lnTo>
                    <a:lnTo>
                      <a:pt x="35" y="201"/>
                    </a:lnTo>
                    <a:lnTo>
                      <a:pt x="15" y="321"/>
                    </a:lnTo>
                    <a:lnTo>
                      <a:pt x="3" y="443"/>
                    </a:lnTo>
                    <a:lnTo>
                      <a:pt x="0" y="564"/>
                    </a:lnTo>
                    <a:lnTo>
                      <a:pt x="6" y="686"/>
                    </a:lnTo>
                    <a:lnTo>
                      <a:pt x="18" y="791"/>
                    </a:lnTo>
                    <a:lnTo>
                      <a:pt x="48" y="893"/>
                    </a:lnTo>
                    <a:lnTo>
                      <a:pt x="86" y="990"/>
                    </a:lnTo>
                    <a:lnTo>
                      <a:pt x="111" y="1045"/>
                    </a:lnTo>
                    <a:lnTo>
                      <a:pt x="95" y="1208"/>
                    </a:lnTo>
                    <a:lnTo>
                      <a:pt x="95" y="1221"/>
                    </a:lnTo>
                    <a:lnTo>
                      <a:pt x="145" y="1221"/>
                    </a:lnTo>
                    <a:lnTo>
                      <a:pt x="145" y="2394"/>
                    </a:lnTo>
                    <a:lnTo>
                      <a:pt x="272" y="2427"/>
                    </a:lnTo>
                    <a:lnTo>
                      <a:pt x="349" y="2401"/>
                    </a:lnTo>
                    <a:lnTo>
                      <a:pt x="357" y="2156"/>
                    </a:lnTo>
                    <a:lnTo>
                      <a:pt x="366" y="2039"/>
                    </a:lnTo>
                    <a:lnTo>
                      <a:pt x="391" y="1812"/>
                    </a:lnTo>
                    <a:lnTo>
                      <a:pt x="399" y="2006"/>
                    </a:lnTo>
                    <a:lnTo>
                      <a:pt x="399" y="2029"/>
                    </a:lnTo>
                    <a:lnTo>
                      <a:pt x="399" y="2174"/>
                    </a:lnTo>
                    <a:lnTo>
                      <a:pt x="391" y="2317"/>
                    </a:lnTo>
                    <a:lnTo>
                      <a:pt x="645" y="2317"/>
                    </a:lnTo>
                    <a:lnTo>
                      <a:pt x="629" y="2275"/>
                    </a:lnTo>
                    <a:lnTo>
                      <a:pt x="637" y="2233"/>
                    </a:lnTo>
                    <a:lnTo>
                      <a:pt x="637" y="1812"/>
                    </a:lnTo>
                    <a:lnTo>
                      <a:pt x="662" y="1323"/>
                    </a:lnTo>
                    <a:close/>
                  </a:path>
                </a:pathLst>
              </a:custGeom>
              <a:solidFill>
                <a:srgbClr val="0054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7494840" y="4705200"/>
                <a:ext cx="37440" cy="84240"/>
              </a:xfrm>
              <a:custGeom>
                <a:avLst/>
                <a:gdLst/>
                <a:ahLst/>
                <a:rect l="l" t="t" r="r" b="b"/>
                <a:pathLst>
                  <a:path w="94" h="220">
                    <a:moveTo>
                      <a:pt x="94" y="220"/>
                    </a:moveTo>
                    <a:lnTo>
                      <a:pt x="83" y="216"/>
                    </a:lnTo>
                    <a:lnTo>
                      <a:pt x="61" y="204"/>
                    </a:lnTo>
                    <a:lnTo>
                      <a:pt x="43" y="184"/>
                    </a:lnTo>
                    <a:lnTo>
                      <a:pt x="35" y="16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7488720" y="4382640"/>
                <a:ext cx="16200" cy="148320"/>
              </a:xfrm>
              <a:custGeom>
                <a:avLst/>
                <a:gdLst/>
                <a:ahLst/>
                <a:rect l="l" t="t" r="r" b="b"/>
                <a:pathLst>
                  <a:path w="42" h="389">
                    <a:moveTo>
                      <a:pt x="7" y="389"/>
                    </a:moveTo>
                    <a:lnTo>
                      <a:pt x="42" y="127"/>
                    </a:lnTo>
                    <a:lnTo>
                      <a:pt x="16" y="103"/>
                    </a:lnTo>
                    <a:lnTo>
                      <a:pt x="42" y="8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7306560" y="4424760"/>
                <a:ext cx="92880" cy="360000"/>
              </a:xfrm>
              <a:custGeom>
                <a:avLst/>
                <a:gdLst/>
                <a:ahLst/>
                <a:rect l="l" t="t" r="r" b="b"/>
                <a:pathLst>
                  <a:path w="238" h="939">
                    <a:moveTo>
                      <a:pt x="68" y="0"/>
                    </a:moveTo>
                    <a:lnTo>
                      <a:pt x="87" y="43"/>
                    </a:lnTo>
                    <a:lnTo>
                      <a:pt x="98" y="92"/>
                    </a:lnTo>
                    <a:lnTo>
                      <a:pt x="101" y="141"/>
                    </a:lnTo>
                    <a:lnTo>
                      <a:pt x="114" y="207"/>
                    </a:lnTo>
                    <a:lnTo>
                      <a:pt x="137" y="359"/>
                    </a:lnTo>
                    <a:lnTo>
                      <a:pt x="152" y="513"/>
                    </a:lnTo>
                    <a:lnTo>
                      <a:pt x="238" y="893"/>
                    </a:lnTo>
                    <a:lnTo>
                      <a:pt x="187" y="917"/>
                    </a:lnTo>
                    <a:lnTo>
                      <a:pt x="133" y="935"/>
                    </a:lnTo>
                    <a:lnTo>
                      <a:pt x="74" y="939"/>
                    </a:lnTo>
                    <a:lnTo>
                      <a:pt x="20" y="848"/>
                    </a:lnTo>
                    <a:lnTo>
                      <a:pt x="0" y="8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7365960" y="4356360"/>
                <a:ext cx="128880" cy="197640"/>
              </a:xfrm>
              <a:custGeom>
                <a:avLst/>
                <a:gdLst/>
                <a:ahLst/>
                <a:rect l="l" t="t" r="r" b="b"/>
                <a:pathLst>
                  <a:path w="331" h="515">
                    <a:moveTo>
                      <a:pt x="331" y="515"/>
                    </a:moveTo>
                    <a:lnTo>
                      <a:pt x="282" y="480"/>
                    </a:lnTo>
                    <a:lnTo>
                      <a:pt x="221" y="429"/>
                    </a:lnTo>
                    <a:lnTo>
                      <a:pt x="167" y="372"/>
                    </a:lnTo>
                    <a:lnTo>
                      <a:pt x="118" y="308"/>
                    </a:lnTo>
                    <a:lnTo>
                      <a:pt x="77" y="240"/>
                    </a:lnTo>
                    <a:lnTo>
                      <a:pt x="103" y="196"/>
                    </a:lnTo>
                    <a:lnTo>
                      <a:pt x="44" y="188"/>
                    </a:lnTo>
                    <a:lnTo>
                      <a:pt x="30" y="165"/>
                    </a:lnTo>
                    <a:lnTo>
                      <a:pt x="13" y="111"/>
                    </a:lnTo>
                    <a:lnTo>
                      <a:pt x="3" y="5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7319880" y="4525200"/>
                <a:ext cx="177120" cy="277560"/>
              </a:xfrm>
              <a:custGeom>
                <a:avLst/>
                <a:gdLst/>
                <a:ahLst/>
                <a:rect l="l" t="t" r="r" b="b"/>
                <a:pathLst>
                  <a:path w="453" h="725">
                    <a:moveTo>
                      <a:pt x="430" y="0"/>
                    </a:moveTo>
                    <a:lnTo>
                      <a:pt x="450" y="78"/>
                    </a:lnTo>
                    <a:lnTo>
                      <a:pt x="453" y="217"/>
                    </a:lnTo>
                    <a:lnTo>
                      <a:pt x="449" y="356"/>
                    </a:lnTo>
                    <a:lnTo>
                      <a:pt x="437" y="495"/>
                    </a:lnTo>
                    <a:lnTo>
                      <a:pt x="415" y="633"/>
                    </a:lnTo>
                    <a:lnTo>
                      <a:pt x="402" y="660"/>
                    </a:lnTo>
                    <a:lnTo>
                      <a:pt x="381" y="686"/>
                    </a:lnTo>
                    <a:lnTo>
                      <a:pt x="353" y="706"/>
                    </a:lnTo>
                    <a:lnTo>
                      <a:pt x="323" y="719"/>
                    </a:lnTo>
                    <a:lnTo>
                      <a:pt x="288" y="725"/>
                    </a:lnTo>
                    <a:lnTo>
                      <a:pt x="0" y="7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7349400" y="4773600"/>
                <a:ext cx="85680" cy="65160"/>
              </a:xfrm>
              <a:custGeom>
                <a:avLst/>
                <a:gdLst/>
                <a:ahLst/>
                <a:rect l="l" t="t" r="r" b="b"/>
                <a:pathLst>
                  <a:path w="220" h="169">
                    <a:moveTo>
                      <a:pt x="0" y="42"/>
                    </a:moveTo>
                    <a:lnTo>
                      <a:pt x="7" y="75"/>
                    </a:lnTo>
                    <a:lnTo>
                      <a:pt x="17" y="109"/>
                    </a:lnTo>
                    <a:lnTo>
                      <a:pt x="27" y="133"/>
                    </a:lnTo>
                    <a:lnTo>
                      <a:pt x="42" y="158"/>
                    </a:lnTo>
                    <a:lnTo>
                      <a:pt x="52" y="166"/>
                    </a:lnTo>
                    <a:lnTo>
                      <a:pt x="62" y="168"/>
                    </a:lnTo>
                    <a:lnTo>
                      <a:pt x="72" y="166"/>
                    </a:lnTo>
                    <a:lnTo>
                      <a:pt x="80" y="162"/>
                    </a:lnTo>
                    <a:lnTo>
                      <a:pt x="94" y="169"/>
                    </a:lnTo>
                    <a:lnTo>
                      <a:pt x="115" y="169"/>
                    </a:lnTo>
                    <a:lnTo>
                      <a:pt x="128" y="165"/>
                    </a:lnTo>
                    <a:lnTo>
                      <a:pt x="136" y="159"/>
                    </a:lnTo>
                    <a:lnTo>
                      <a:pt x="154" y="159"/>
                    </a:lnTo>
                    <a:lnTo>
                      <a:pt x="173" y="152"/>
                    </a:lnTo>
                    <a:lnTo>
                      <a:pt x="220" y="117"/>
                    </a:lnTo>
                    <a:lnTo>
                      <a:pt x="220" y="109"/>
                    </a:lnTo>
                    <a:lnTo>
                      <a:pt x="206" y="67"/>
                    </a:lnTo>
                    <a:lnTo>
                      <a:pt x="190" y="43"/>
                    </a:lnTo>
                    <a:lnTo>
                      <a:pt x="170" y="25"/>
                    </a:lnTo>
                    <a:lnTo>
                      <a:pt x="149" y="14"/>
                    </a:lnTo>
                    <a:lnTo>
                      <a:pt x="120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7339320" y="4768200"/>
                <a:ext cx="60120" cy="24480"/>
              </a:xfrm>
              <a:custGeom>
                <a:avLst/>
                <a:gdLst/>
                <a:ahLst/>
                <a:rect l="l" t="t" r="r" b="b"/>
                <a:pathLst>
                  <a:path w="154" h="65">
                    <a:moveTo>
                      <a:pt x="49" y="41"/>
                    </a:moveTo>
                    <a:lnTo>
                      <a:pt x="103" y="23"/>
                    </a:lnTo>
                    <a:lnTo>
                      <a:pt x="149" y="0"/>
                    </a:lnTo>
                    <a:lnTo>
                      <a:pt x="154" y="15"/>
                    </a:lnTo>
                    <a:lnTo>
                      <a:pt x="126" y="29"/>
                    </a:lnTo>
                    <a:lnTo>
                      <a:pt x="68" y="51"/>
                    </a:lnTo>
                    <a:lnTo>
                      <a:pt x="10" y="65"/>
                    </a:lnTo>
                    <a:lnTo>
                      <a:pt x="0" y="45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7416720" y="5206680"/>
                <a:ext cx="910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7319880" y="5235840"/>
                <a:ext cx="80280" cy="12240"/>
              </a:xfrm>
              <a:custGeom>
                <a:avLst/>
                <a:gdLst/>
                <a:ahLst/>
                <a:rect l="l" t="t" r="r" b="b"/>
                <a:pathLst>
                  <a:path w="205" h="33">
                    <a:moveTo>
                      <a:pt x="0" y="0"/>
                    </a:moveTo>
                    <a:lnTo>
                      <a:pt x="127" y="33"/>
                    </a:lnTo>
                    <a:lnTo>
                      <a:pt x="205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238880" y="4801680"/>
                <a:ext cx="302760" cy="224280"/>
              </a:xfrm>
              <a:custGeom>
                <a:avLst/>
                <a:gdLst/>
                <a:ahLst/>
                <a:rect l="l" t="t" r="r" b="b"/>
                <a:pathLst>
                  <a:path w="775" h="585">
                    <a:moveTo>
                      <a:pt x="33" y="103"/>
                    </a:moveTo>
                    <a:lnTo>
                      <a:pt x="0" y="136"/>
                    </a:lnTo>
                    <a:lnTo>
                      <a:pt x="0" y="550"/>
                    </a:lnTo>
                    <a:lnTo>
                      <a:pt x="33" y="583"/>
                    </a:lnTo>
                    <a:lnTo>
                      <a:pt x="717" y="585"/>
                    </a:lnTo>
                    <a:lnTo>
                      <a:pt x="775" y="548"/>
                    </a:lnTo>
                    <a:lnTo>
                      <a:pt x="775" y="143"/>
                    </a:lnTo>
                    <a:lnTo>
                      <a:pt x="715" y="103"/>
                    </a:lnTo>
                    <a:lnTo>
                      <a:pt x="531" y="103"/>
                    </a:lnTo>
                    <a:lnTo>
                      <a:pt x="527" y="87"/>
                    </a:lnTo>
                    <a:lnTo>
                      <a:pt x="521" y="71"/>
                    </a:lnTo>
                    <a:lnTo>
                      <a:pt x="511" y="55"/>
                    </a:lnTo>
                    <a:lnTo>
                      <a:pt x="502" y="45"/>
                    </a:lnTo>
                    <a:lnTo>
                      <a:pt x="482" y="40"/>
                    </a:lnTo>
                    <a:lnTo>
                      <a:pt x="464" y="30"/>
                    </a:lnTo>
                    <a:lnTo>
                      <a:pt x="451" y="16"/>
                    </a:lnTo>
                    <a:lnTo>
                      <a:pt x="440" y="0"/>
                    </a:lnTo>
                    <a:lnTo>
                      <a:pt x="444" y="43"/>
                    </a:lnTo>
                    <a:lnTo>
                      <a:pt x="454" y="48"/>
                    </a:lnTo>
                    <a:lnTo>
                      <a:pt x="466" y="56"/>
                    </a:lnTo>
                    <a:lnTo>
                      <a:pt x="474" y="63"/>
                    </a:lnTo>
                    <a:lnTo>
                      <a:pt x="485" y="76"/>
                    </a:lnTo>
                    <a:lnTo>
                      <a:pt x="490" y="90"/>
                    </a:lnTo>
                    <a:lnTo>
                      <a:pt x="495" y="103"/>
                    </a:lnTo>
                    <a:lnTo>
                      <a:pt x="300" y="103"/>
                    </a:lnTo>
                    <a:lnTo>
                      <a:pt x="300" y="92"/>
                    </a:lnTo>
                    <a:lnTo>
                      <a:pt x="303" y="81"/>
                    </a:lnTo>
                    <a:lnTo>
                      <a:pt x="306" y="71"/>
                    </a:lnTo>
                    <a:lnTo>
                      <a:pt x="312" y="61"/>
                    </a:lnTo>
                    <a:lnTo>
                      <a:pt x="310" y="59"/>
                    </a:lnTo>
                    <a:lnTo>
                      <a:pt x="300" y="35"/>
                    </a:lnTo>
                    <a:lnTo>
                      <a:pt x="297" y="23"/>
                    </a:lnTo>
                    <a:lnTo>
                      <a:pt x="289" y="33"/>
                    </a:lnTo>
                    <a:lnTo>
                      <a:pt x="280" y="45"/>
                    </a:lnTo>
                    <a:lnTo>
                      <a:pt x="274" y="59"/>
                    </a:lnTo>
                    <a:lnTo>
                      <a:pt x="268" y="72"/>
                    </a:lnTo>
                    <a:lnTo>
                      <a:pt x="266" y="85"/>
                    </a:lnTo>
                    <a:lnTo>
                      <a:pt x="266" y="94"/>
                    </a:lnTo>
                    <a:lnTo>
                      <a:pt x="264" y="103"/>
                    </a:lnTo>
                    <a:lnTo>
                      <a:pt x="261" y="103"/>
                    </a:lnTo>
                    <a:lnTo>
                      <a:pt x="33" y="103"/>
                    </a:lnTo>
                    <a:close/>
                  </a:path>
                </a:pathLst>
              </a:custGeom>
              <a:solidFill>
                <a:srgbClr val="b5b5b5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517520" y="4841640"/>
                <a:ext cx="13680" cy="183960"/>
              </a:xfrm>
              <a:custGeom>
                <a:avLst/>
                <a:gdLst/>
                <a:ahLst/>
                <a:rect l="l" t="t" r="r" b="b"/>
                <a:pathLst>
                  <a:path w="35" h="480">
                    <a:moveTo>
                      <a:pt x="1" y="0"/>
                    </a:moveTo>
                    <a:lnTo>
                      <a:pt x="35" y="31"/>
                    </a:lnTo>
                    <a:lnTo>
                      <a:pt x="35" y="447"/>
                    </a:lnTo>
                    <a:lnTo>
                      <a:pt x="0" y="4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7251840" y="4852440"/>
                <a:ext cx="265320" cy="163800"/>
              </a:xfrm>
              <a:custGeom>
                <a:avLst/>
                <a:gdLst/>
                <a:ahLst/>
                <a:rect l="l" t="t" r="r" b="b"/>
                <a:pathLst>
                  <a:path w="679" h="430">
                    <a:moveTo>
                      <a:pt x="29" y="0"/>
                    </a:moveTo>
                    <a:lnTo>
                      <a:pt x="0" y="28"/>
                    </a:lnTo>
                    <a:lnTo>
                      <a:pt x="0" y="405"/>
                    </a:lnTo>
                    <a:lnTo>
                      <a:pt x="25" y="430"/>
                    </a:lnTo>
                    <a:lnTo>
                      <a:pt x="655" y="430"/>
                    </a:lnTo>
                    <a:lnTo>
                      <a:pt x="679" y="404"/>
                    </a:lnTo>
                    <a:lnTo>
                      <a:pt x="679" y="23"/>
                    </a:lnTo>
                    <a:lnTo>
                      <a:pt x="658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2121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flipH="1" flipV="1">
                <a:off x="7394040" y="4824360"/>
                <a:ext cx="1008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 flipH="1" flipV="1">
                <a:off x="7382880" y="4827600"/>
                <a:ext cx="10800" cy="9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 flipH="1" flipV="1">
                <a:off x="7372440" y="4828320"/>
                <a:ext cx="6120" cy="68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7483680" y="4251960"/>
                <a:ext cx="20160" cy="468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29" y="0"/>
                    </a:moveTo>
                    <a:lnTo>
                      <a:pt x="52" y="0"/>
                    </a:lnTo>
                    <a:lnTo>
                      <a:pt x="49" y="5"/>
                    </a:lnTo>
                    <a:lnTo>
                      <a:pt x="32" y="5"/>
                    </a:lnTo>
                    <a:lnTo>
                      <a:pt x="0" y="1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7482240" y="4264560"/>
                <a:ext cx="14040" cy="432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7" y="0"/>
                    </a:moveTo>
                    <a:lnTo>
                      <a:pt x="0" y="5"/>
                    </a:lnTo>
                    <a:lnTo>
                      <a:pt x="34" y="12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7365960" y="4191120"/>
                <a:ext cx="134280" cy="127080"/>
              </a:xfrm>
              <a:custGeom>
                <a:avLst/>
                <a:gdLst/>
                <a:ahLst/>
                <a:rect l="l" t="t" r="r" b="b"/>
                <a:pathLst>
                  <a:path w="344" h="331">
                    <a:moveTo>
                      <a:pt x="62" y="305"/>
                    </a:moveTo>
                    <a:lnTo>
                      <a:pt x="49" y="285"/>
                    </a:lnTo>
                    <a:lnTo>
                      <a:pt x="17" y="243"/>
                    </a:lnTo>
                    <a:lnTo>
                      <a:pt x="6" y="205"/>
                    </a:lnTo>
                    <a:lnTo>
                      <a:pt x="0" y="168"/>
                    </a:lnTo>
                    <a:lnTo>
                      <a:pt x="6" y="130"/>
                    </a:lnTo>
                    <a:lnTo>
                      <a:pt x="36" y="72"/>
                    </a:lnTo>
                    <a:lnTo>
                      <a:pt x="49" y="56"/>
                    </a:lnTo>
                    <a:lnTo>
                      <a:pt x="75" y="32"/>
                    </a:lnTo>
                    <a:lnTo>
                      <a:pt x="109" y="10"/>
                    </a:lnTo>
                    <a:lnTo>
                      <a:pt x="147" y="3"/>
                    </a:lnTo>
                    <a:lnTo>
                      <a:pt x="183" y="0"/>
                    </a:lnTo>
                    <a:lnTo>
                      <a:pt x="222" y="3"/>
                    </a:lnTo>
                    <a:lnTo>
                      <a:pt x="247" y="4"/>
                    </a:lnTo>
                    <a:lnTo>
                      <a:pt x="287" y="11"/>
                    </a:lnTo>
                    <a:lnTo>
                      <a:pt x="309" y="19"/>
                    </a:lnTo>
                    <a:lnTo>
                      <a:pt x="326" y="32"/>
                    </a:lnTo>
                    <a:lnTo>
                      <a:pt x="340" y="50"/>
                    </a:lnTo>
                    <a:lnTo>
                      <a:pt x="344" y="74"/>
                    </a:lnTo>
                    <a:lnTo>
                      <a:pt x="340" y="95"/>
                    </a:lnTo>
                    <a:lnTo>
                      <a:pt x="340" y="95"/>
                    </a:lnTo>
                    <a:lnTo>
                      <a:pt x="297" y="82"/>
                    </a:lnTo>
                    <a:lnTo>
                      <a:pt x="254" y="76"/>
                    </a:lnTo>
                    <a:lnTo>
                      <a:pt x="213" y="79"/>
                    </a:lnTo>
                    <a:lnTo>
                      <a:pt x="213" y="79"/>
                    </a:lnTo>
                    <a:lnTo>
                      <a:pt x="196" y="82"/>
                    </a:lnTo>
                    <a:lnTo>
                      <a:pt x="213" y="105"/>
                    </a:lnTo>
                    <a:lnTo>
                      <a:pt x="226" y="134"/>
                    </a:lnTo>
                    <a:lnTo>
                      <a:pt x="226" y="143"/>
                    </a:lnTo>
                    <a:lnTo>
                      <a:pt x="216" y="163"/>
                    </a:lnTo>
                    <a:lnTo>
                      <a:pt x="186" y="204"/>
                    </a:lnTo>
                    <a:lnTo>
                      <a:pt x="154" y="204"/>
                    </a:lnTo>
                    <a:lnTo>
                      <a:pt x="149" y="191"/>
                    </a:lnTo>
                    <a:lnTo>
                      <a:pt x="145" y="185"/>
                    </a:lnTo>
                    <a:lnTo>
                      <a:pt x="136" y="179"/>
                    </a:lnTo>
                    <a:lnTo>
                      <a:pt x="128" y="176"/>
                    </a:lnTo>
                    <a:lnTo>
                      <a:pt x="112" y="181"/>
                    </a:lnTo>
                    <a:lnTo>
                      <a:pt x="99" y="194"/>
                    </a:lnTo>
                    <a:lnTo>
                      <a:pt x="93" y="210"/>
                    </a:lnTo>
                    <a:lnTo>
                      <a:pt x="94" y="223"/>
                    </a:lnTo>
                    <a:lnTo>
                      <a:pt x="96" y="231"/>
                    </a:lnTo>
                    <a:lnTo>
                      <a:pt x="103" y="250"/>
                    </a:lnTo>
                    <a:lnTo>
                      <a:pt x="113" y="266"/>
                    </a:lnTo>
                    <a:lnTo>
                      <a:pt x="119" y="272"/>
                    </a:lnTo>
                    <a:lnTo>
                      <a:pt x="106" y="289"/>
                    </a:lnTo>
                    <a:lnTo>
                      <a:pt x="96" y="304"/>
                    </a:lnTo>
                    <a:lnTo>
                      <a:pt x="81" y="320"/>
                    </a:lnTo>
                    <a:lnTo>
                      <a:pt x="68" y="331"/>
                    </a:lnTo>
                    <a:lnTo>
                      <a:pt x="62" y="30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7412040" y="4292640"/>
                <a:ext cx="24840" cy="2376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6"/>
                    </a:moveTo>
                    <a:lnTo>
                      <a:pt x="11" y="10"/>
                    </a:lnTo>
                    <a:lnTo>
                      <a:pt x="21" y="9"/>
                    </a:lnTo>
                    <a:lnTo>
                      <a:pt x="27" y="6"/>
                    </a:lnTo>
                    <a:lnTo>
                      <a:pt x="34" y="0"/>
                    </a:lnTo>
                    <a:lnTo>
                      <a:pt x="45" y="32"/>
                    </a:lnTo>
                    <a:lnTo>
                      <a:pt x="63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7478280" y="460260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30" y="17"/>
                    </a:moveTo>
                    <a:lnTo>
                      <a:pt x="29" y="8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8" y="3"/>
                    </a:lnTo>
                    <a:lnTo>
                      <a:pt x="3" y="8"/>
                    </a:lnTo>
                    <a:lnTo>
                      <a:pt x="0" y="17"/>
                    </a:lnTo>
                    <a:lnTo>
                      <a:pt x="3" y="26"/>
                    </a:lnTo>
                    <a:lnTo>
                      <a:pt x="8" y="33"/>
                    </a:lnTo>
                    <a:lnTo>
                      <a:pt x="16" y="34"/>
                    </a:lnTo>
                    <a:lnTo>
                      <a:pt x="23" y="33"/>
                    </a:lnTo>
                    <a:lnTo>
                      <a:pt x="29" y="26"/>
                    </a:lnTo>
                    <a:lnTo>
                      <a:pt x="30" y="17"/>
                    </a:lnTo>
                    <a:lnTo>
                      <a:pt x="3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7535520" y="4669200"/>
                <a:ext cx="52200" cy="39960"/>
              </a:xfrm>
              <a:custGeom>
                <a:avLst/>
                <a:gdLst/>
                <a:ahLst/>
                <a:rect l="l" t="t" r="r" b="b"/>
                <a:pathLst>
                  <a:path w="135" h="105">
                    <a:moveTo>
                      <a:pt x="74" y="16"/>
                    </a:moveTo>
                    <a:lnTo>
                      <a:pt x="51" y="18"/>
                    </a:lnTo>
                    <a:lnTo>
                      <a:pt x="46" y="5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9" y="8"/>
                    </a:lnTo>
                    <a:lnTo>
                      <a:pt x="27" y="16"/>
                    </a:lnTo>
                    <a:lnTo>
                      <a:pt x="22" y="11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9" y="16"/>
                    </a:lnTo>
                    <a:lnTo>
                      <a:pt x="9" y="21"/>
                    </a:lnTo>
                    <a:lnTo>
                      <a:pt x="11" y="70"/>
                    </a:lnTo>
                    <a:lnTo>
                      <a:pt x="9" y="70"/>
                    </a:lnTo>
                    <a:lnTo>
                      <a:pt x="3" y="74"/>
                    </a:lnTo>
                    <a:lnTo>
                      <a:pt x="0" y="80"/>
                    </a:lnTo>
                    <a:lnTo>
                      <a:pt x="0" y="86"/>
                    </a:lnTo>
                    <a:lnTo>
                      <a:pt x="4" y="92"/>
                    </a:lnTo>
                    <a:lnTo>
                      <a:pt x="7" y="94"/>
                    </a:lnTo>
                    <a:lnTo>
                      <a:pt x="9" y="96"/>
                    </a:lnTo>
                    <a:lnTo>
                      <a:pt x="51" y="105"/>
                    </a:lnTo>
                    <a:lnTo>
                      <a:pt x="106" y="76"/>
                    </a:lnTo>
                    <a:lnTo>
                      <a:pt x="109" y="73"/>
                    </a:lnTo>
                    <a:lnTo>
                      <a:pt x="119" y="61"/>
                    </a:lnTo>
                    <a:lnTo>
                      <a:pt x="126" y="50"/>
                    </a:lnTo>
                    <a:lnTo>
                      <a:pt x="132" y="37"/>
                    </a:lnTo>
                    <a:lnTo>
                      <a:pt x="133" y="22"/>
                    </a:lnTo>
                    <a:lnTo>
                      <a:pt x="135" y="13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7554960" y="467532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23" y="0"/>
                    </a:moveTo>
                    <a:lnTo>
                      <a:pt x="48" y="16"/>
                    </a:lnTo>
                    <a:lnTo>
                      <a:pt x="13" y="3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7538400" y="4676760"/>
                <a:ext cx="5400" cy="1908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0"/>
                    </a:moveTo>
                    <a:lnTo>
                      <a:pt x="4" y="24"/>
                    </a:lnTo>
                    <a:lnTo>
                      <a:pt x="13" y="50"/>
                    </a:lnTo>
                    <a:lnTo>
                      <a:pt x="1" y="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7544880" y="4697640"/>
                <a:ext cx="1152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7546320" y="4676040"/>
                <a:ext cx="14760" cy="2376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0" y="0"/>
                    </a:moveTo>
                    <a:lnTo>
                      <a:pt x="4" y="16"/>
                    </a:lnTo>
                    <a:lnTo>
                      <a:pt x="14" y="45"/>
                    </a:lnTo>
                    <a:lnTo>
                      <a:pt x="38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 flipH="1">
                <a:off x="7490880" y="4298760"/>
                <a:ext cx="3600" cy="129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02" name=""/>
          <p:cNvGrpSpPr/>
          <p:nvPr/>
        </p:nvGrpSpPr>
        <p:grpSpPr>
          <a:xfrm>
            <a:off x="7086600" y="4267080"/>
            <a:ext cx="457200" cy="1187280"/>
            <a:chOff x="7086600" y="4267080"/>
            <a:chExt cx="457200" cy="1187280"/>
          </a:xfrm>
        </p:grpSpPr>
        <p:sp>
          <p:nvSpPr>
            <p:cNvPr id="1903" name=""/>
            <p:cNvSpPr/>
            <p:nvPr/>
          </p:nvSpPr>
          <p:spPr>
            <a:xfrm>
              <a:off x="7086600" y="5297760"/>
              <a:ext cx="457200" cy="15660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4" name=""/>
            <p:cNvGrpSpPr/>
            <p:nvPr/>
          </p:nvGrpSpPr>
          <p:grpSpPr>
            <a:xfrm>
              <a:off x="7086600" y="4267080"/>
              <a:ext cx="352440" cy="1117440"/>
              <a:chOff x="7086600" y="4267080"/>
              <a:chExt cx="352440" cy="1117440"/>
            </a:xfrm>
          </p:grpSpPr>
          <p:sp>
            <p:nvSpPr>
              <p:cNvPr id="1905" name=""/>
              <p:cNvSpPr/>
              <p:nvPr/>
            </p:nvSpPr>
            <p:spPr>
              <a:xfrm>
                <a:off x="7237080" y="4294440"/>
                <a:ext cx="131760" cy="156960"/>
              </a:xfrm>
              <a:custGeom>
                <a:avLst/>
                <a:gdLst/>
                <a:ahLst/>
                <a:rect l="l" t="t" r="r" b="b"/>
                <a:pathLst>
                  <a:path w="337" h="410">
                    <a:moveTo>
                      <a:pt x="218" y="410"/>
                    </a:moveTo>
                    <a:lnTo>
                      <a:pt x="0" y="410"/>
                    </a:lnTo>
                    <a:lnTo>
                      <a:pt x="0" y="303"/>
                    </a:lnTo>
                    <a:lnTo>
                      <a:pt x="7" y="261"/>
                    </a:lnTo>
                    <a:lnTo>
                      <a:pt x="7" y="0"/>
                    </a:lnTo>
                    <a:lnTo>
                      <a:pt x="280" y="0"/>
                    </a:lnTo>
                    <a:lnTo>
                      <a:pt x="279" y="23"/>
                    </a:lnTo>
                    <a:lnTo>
                      <a:pt x="305" y="71"/>
                    </a:lnTo>
                    <a:lnTo>
                      <a:pt x="310" y="83"/>
                    </a:lnTo>
                    <a:lnTo>
                      <a:pt x="309" y="96"/>
                    </a:lnTo>
                    <a:lnTo>
                      <a:pt x="297" y="122"/>
                    </a:lnTo>
                    <a:lnTo>
                      <a:pt x="313" y="138"/>
                    </a:lnTo>
                    <a:lnTo>
                      <a:pt x="337" y="168"/>
                    </a:lnTo>
                    <a:lnTo>
                      <a:pt x="326" y="183"/>
                    </a:lnTo>
                    <a:lnTo>
                      <a:pt x="310" y="187"/>
                    </a:lnTo>
                    <a:lnTo>
                      <a:pt x="310" y="211"/>
                    </a:lnTo>
                    <a:lnTo>
                      <a:pt x="313" y="214"/>
                    </a:lnTo>
                    <a:lnTo>
                      <a:pt x="313" y="223"/>
                    </a:lnTo>
                    <a:lnTo>
                      <a:pt x="267" y="227"/>
                    </a:lnTo>
                    <a:lnTo>
                      <a:pt x="265" y="235"/>
                    </a:lnTo>
                    <a:lnTo>
                      <a:pt x="308" y="246"/>
                    </a:lnTo>
                    <a:lnTo>
                      <a:pt x="305" y="262"/>
                    </a:lnTo>
                    <a:lnTo>
                      <a:pt x="313" y="282"/>
                    </a:lnTo>
                    <a:lnTo>
                      <a:pt x="315" y="287"/>
                    </a:lnTo>
                    <a:lnTo>
                      <a:pt x="315" y="295"/>
                    </a:lnTo>
                    <a:lnTo>
                      <a:pt x="312" y="304"/>
                    </a:lnTo>
                    <a:lnTo>
                      <a:pt x="305" y="310"/>
                    </a:lnTo>
                    <a:lnTo>
                      <a:pt x="296" y="310"/>
                    </a:lnTo>
                    <a:lnTo>
                      <a:pt x="239" y="319"/>
                    </a:lnTo>
                    <a:lnTo>
                      <a:pt x="228" y="342"/>
                    </a:lnTo>
                    <a:lnTo>
                      <a:pt x="228" y="358"/>
                    </a:lnTo>
                    <a:lnTo>
                      <a:pt x="218" y="378"/>
                    </a:lnTo>
                    <a:lnTo>
                      <a:pt x="218" y="410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7376040" y="4597200"/>
                <a:ext cx="63000" cy="155520"/>
              </a:xfrm>
              <a:custGeom>
                <a:avLst/>
                <a:gdLst/>
                <a:ahLst/>
                <a:rect l="l" t="t" r="r" b="b"/>
                <a:pathLst>
                  <a:path w="162" h="406">
                    <a:moveTo>
                      <a:pt x="0" y="18"/>
                    </a:moveTo>
                    <a:lnTo>
                      <a:pt x="77" y="0"/>
                    </a:lnTo>
                    <a:lnTo>
                      <a:pt x="162" y="397"/>
                    </a:lnTo>
                    <a:lnTo>
                      <a:pt x="18" y="40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7170840" y="5329440"/>
                <a:ext cx="95760" cy="55080"/>
              </a:xfrm>
              <a:custGeom>
                <a:avLst/>
                <a:gdLst/>
                <a:ahLst/>
                <a:rect l="l" t="t" r="r" b="b"/>
                <a:pathLst>
                  <a:path w="246" h="143">
                    <a:moveTo>
                      <a:pt x="175" y="0"/>
                    </a:moveTo>
                    <a:lnTo>
                      <a:pt x="220" y="71"/>
                    </a:lnTo>
                    <a:lnTo>
                      <a:pt x="220" y="71"/>
                    </a:lnTo>
                    <a:lnTo>
                      <a:pt x="223" y="72"/>
                    </a:lnTo>
                    <a:lnTo>
                      <a:pt x="238" y="88"/>
                    </a:lnTo>
                    <a:lnTo>
                      <a:pt x="246" y="108"/>
                    </a:lnTo>
                    <a:lnTo>
                      <a:pt x="246" y="130"/>
                    </a:lnTo>
                    <a:lnTo>
                      <a:pt x="246" y="130"/>
                    </a:lnTo>
                    <a:lnTo>
                      <a:pt x="213" y="137"/>
                    </a:lnTo>
                    <a:lnTo>
                      <a:pt x="181" y="142"/>
                    </a:lnTo>
                    <a:lnTo>
                      <a:pt x="133" y="143"/>
                    </a:lnTo>
                    <a:lnTo>
                      <a:pt x="85" y="139"/>
                    </a:lnTo>
                    <a:lnTo>
                      <a:pt x="74" y="136"/>
                    </a:lnTo>
                    <a:lnTo>
                      <a:pt x="48" y="124"/>
                    </a:lnTo>
                    <a:lnTo>
                      <a:pt x="0" y="58"/>
                    </a:lnTo>
                    <a:lnTo>
                      <a:pt x="0" y="23"/>
                    </a:lnTo>
                    <a:lnTo>
                      <a:pt x="6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7265880" y="5296680"/>
                <a:ext cx="161640" cy="41040"/>
              </a:xfrm>
              <a:custGeom>
                <a:avLst/>
                <a:gdLst/>
                <a:ahLst/>
                <a:rect l="l" t="t" r="r" b="b"/>
                <a:pathLst>
                  <a:path w="414" h="107">
                    <a:moveTo>
                      <a:pt x="235" y="0"/>
                    </a:moveTo>
                    <a:lnTo>
                      <a:pt x="252" y="9"/>
                    </a:lnTo>
                    <a:lnTo>
                      <a:pt x="281" y="29"/>
                    </a:lnTo>
                    <a:lnTo>
                      <a:pt x="316" y="39"/>
                    </a:lnTo>
                    <a:lnTo>
                      <a:pt x="380" y="45"/>
                    </a:lnTo>
                    <a:lnTo>
                      <a:pt x="393" y="48"/>
                    </a:lnTo>
                    <a:lnTo>
                      <a:pt x="402" y="57"/>
                    </a:lnTo>
                    <a:lnTo>
                      <a:pt x="405" y="71"/>
                    </a:lnTo>
                    <a:lnTo>
                      <a:pt x="406" y="96"/>
                    </a:lnTo>
                    <a:lnTo>
                      <a:pt x="414" y="96"/>
                    </a:lnTo>
                    <a:lnTo>
                      <a:pt x="414" y="107"/>
                    </a:lnTo>
                    <a:lnTo>
                      <a:pt x="226" y="107"/>
                    </a:lnTo>
                    <a:lnTo>
                      <a:pt x="125" y="90"/>
                    </a:lnTo>
                    <a:lnTo>
                      <a:pt x="116" y="107"/>
                    </a:lnTo>
                    <a:lnTo>
                      <a:pt x="116" y="107"/>
                    </a:lnTo>
                    <a:lnTo>
                      <a:pt x="62" y="107"/>
                    </a:lnTo>
                    <a:lnTo>
                      <a:pt x="23" y="103"/>
                    </a:lnTo>
                    <a:lnTo>
                      <a:pt x="6" y="101"/>
                    </a:lnTo>
                    <a:lnTo>
                      <a:pt x="6" y="88"/>
                    </a:lnTo>
                    <a:lnTo>
                      <a:pt x="0" y="57"/>
                    </a:lnTo>
                    <a:lnTo>
                      <a:pt x="0" y="39"/>
                    </a:lnTo>
                    <a:lnTo>
                      <a:pt x="4" y="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7223760" y="4410360"/>
                <a:ext cx="119160" cy="210600"/>
              </a:xfrm>
              <a:custGeom>
                <a:avLst/>
                <a:gdLst/>
                <a:ahLst/>
                <a:rect l="l" t="t" r="r" b="b"/>
                <a:pathLst>
                  <a:path w="306" h="550">
                    <a:moveTo>
                      <a:pt x="253" y="75"/>
                    </a:moveTo>
                    <a:lnTo>
                      <a:pt x="226" y="101"/>
                    </a:lnTo>
                    <a:lnTo>
                      <a:pt x="229" y="100"/>
                    </a:lnTo>
                    <a:lnTo>
                      <a:pt x="228" y="100"/>
                    </a:lnTo>
                    <a:lnTo>
                      <a:pt x="160" y="73"/>
                    </a:lnTo>
                    <a:lnTo>
                      <a:pt x="94" y="40"/>
                    </a:lnTo>
                    <a:lnTo>
                      <a:pt x="33" y="0"/>
                    </a:lnTo>
                    <a:lnTo>
                      <a:pt x="0" y="46"/>
                    </a:lnTo>
                    <a:lnTo>
                      <a:pt x="0" y="550"/>
                    </a:lnTo>
                    <a:lnTo>
                      <a:pt x="306" y="550"/>
                    </a:lnTo>
                    <a:lnTo>
                      <a:pt x="306" y="169"/>
                    </a:lnTo>
                    <a:lnTo>
                      <a:pt x="263" y="82"/>
                    </a:lnTo>
                    <a:lnTo>
                      <a:pt x="253" y="75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7247880" y="4449240"/>
                <a:ext cx="66240" cy="32040"/>
              </a:xfrm>
              <a:custGeom>
                <a:avLst/>
                <a:gdLst/>
                <a:ahLst/>
                <a:rect l="l" t="t" r="r" b="b"/>
                <a:pathLst>
                  <a:path w="169" h="84">
                    <a:moveTo>
                      <a:pt x="0" y="25"/>
                    </a:moveTo>
                    <a:lnTo>
                      <a:pt x="72" y="84"/>
                    </a:lnTo>
                    <a:lnTo>
                      <a:pt x="1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7314480" y="4449240"/>
                <a:ext cx="14760" cy="21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7297200" y="4448520"/>
                <a:ext cx="45000" cy="155520"/>
              </a:xfrm>
              <a:custGeom>
                <a:avLst/>
                <a:gdLst/>
                <a:ahLst/>
                <a:rect l="l" t="t" r="r" b="b"/>
                <a:pathLst>
                  <a:path w="118" h="405">
                    <a:moveTo>
                      <a:pt x="0" y="41"/>
                    </a:moveTo>
                    <a:lnTo>
                      <a:pt x="25" y="76"/>
                    </a:lnTo>
                    <a:lnTo>
                      <a:pt x="18" y="85"/>
                    </a:lnTo>
                    <a:lnTo>
                      <a:pt x="8" y="211"/>
                    </a:lnTo>
                    <a:lnTo>
                      <a:pt x="18" y="387"/>
                    </a:lnTo>
                    <a:lnTo>
                      <a:pt x="118" y="405"/>
                    </a:lnTo>
                    <a:lnTo>
                      <a:pt x="84" y="151"/>
                    </a:lnTo>
                    <a:lnTo>
                      <a:pt x="51" y="76"/>
                    </a:lnTo>
                    <a:lnTo>
                      <a:pt x="58" y="26"/>
                    </a:lnTo>
                    <a:lnTo>
                      <a:pt x="51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f7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7111440" y="4410360"/>
                <a:ext cx="280800" cy="930960"/>
              </a:xfrm>
              <a:custGeom>
                <a:avLst/>
                <a:gdLst/>
                <a:ahLst/>
                <a:rect l="l" t="t" r="r" b="b"/>
                <a:pathLst>
                  <a:path w="722" h="2427">
                    <a:moveTo>
                      <a:pt x="662" y="1323"/>
                    </a:moveTo>
                    <a:lnTo>
                      <a:pt x="688" y="1195"/>
                    </a:lnTo>
                    <a:lnTo>
                      <a:pt x="722" y="1186"/>
                    </a:lnTo>
                    <a:lnTo>
                      <a:pt x="671" y="251"/>
                    </a:lnTo>
                    <a:lnTo>
                      <a:pt x="666" y="221"/>
                    </a:lnTo>
                    <a:lnTo>
                      <a:pt x="655" y="192"/>
                    </a:lnTo>
                    <a:lnTo>
                      <a:pt x="578" y="124"/>
                    </a:lnTo>
                    <a:lnTo>
                      <a:pt x="565" y="110"/>
                    </a:lnTo>
                    <a:lnTo>
                      <a:pt x="552" y="81"/>
                    </a:lnTo>
                    <a:lnTo>
                      <a:pt x="566" y="185"/>
                    </a:lnTo>
                    <a:lnTo>
                      <a:pt x="578" y="327"/>
                    </a:lnTo>
                    <a:lnTo>
                      <a:pt x="581" y="499"/>
                    </a:lnTo>
                    <a:lnTo>
                      <a:pt x="574" y="495"/>
                    </a:lnTo>
                    <a:lnTo>
                      <a:pt x="546" y="422"/>
                    </a:lnTo>
                    <a:lnTo>
                      <a:pt x="511" y="351"/>
                    </a:lnTo>
                    <a:lnTo>
                      <a:pt x="469" y="286"/>
                    </a:lnTo>
                    <a:lnTo>
                      <a:pt x="449" y="259"/>
                    </a:lnTo>
                    <a:lnTo>
                      <a:pt x="415" y="220"/>
                    </a:lnTo>
                    <a:lnTo>
                      <a:pt x="373" y="157"/>
                    </a:lnTo>
                    <a:lnTo>
                      <a:pt x="340" y="92"/>
                    </a:lnTo>
                    <a:lnTo>
                      <a:pt x="312" y="23"/>
                    </a:lnTo>
                    <a:lnTo>
                      <a:pt x="322" y="0"/>
                    </a:lnTo>
                    <a:lnTo>
                      <a:pt x="298" y="16"/>
                    </a:lnTo>
                    <a:lnTo>
                      <a:pt x="263" y="58"/>
                    </a:lnTo>
                    <a:lnTo>
                      <a:pt x="69" y="168"/>
                    </a:lnTo>
                    <a:lnTo>
                      <a:pt x="53" y="169"/>
                    </a:lnTo>
                    <a:lnTo>
                      <a:pt x="41" y="179"/>
                    </a:lnTo>
                    <a:lnTo>
                      <a:pt x="35" y="192"/>
                    </a:lnTo>
                    <a:lnTo>
                      <a:pt x="35" y="201"/>
                    </a:lnTo>
                    <a:lnTo>
                      <a:pt x="15" y="321"/>
                    </a:lnTo>
                    <a:lnTo>
                      <a:pt x="3" y="443"/>
                    </a:lnTo>
                    <a:lnTo>
                      <a:pt x="0" y="564"/>
                    </a:lnTo>
                    <a:lnTo>
                      <a:pt x="6" y="686"/>
                    </a:lnTo>
                    <a:lnTo>
                      <a:pt x="18" y="791"/>
                    </a:lnTo>
                    <a:lnTo>
                      <a:pt x="48" y="893"/>
                    </a:lnTo>
                    <a:lnTo>
                      <a:pt x="86" y="990"/>
                    </a:lnTo>
                    <a:lnTo>
                      <a:pt x="111" y="1045"/>
                    </a:lnTo>
                    <a:lnTo>
                      <a:pt x="95" y="1208"/>
                    </a:lnTo>
                    <a:lnTo>
                      <a:pt x="95" y="1221"/>
                    </a:lnTo>
                    <a:lnTo>
                      <a:pt x="145" y="1221"/>
                    </a:lnTo>
                    <a:lnTo>
                      <a:pt x="145" y="2394"/>
                    </a:lnTo>
                    <a:lnTo>
                      <a:pt x="272" y="2427"/>
                    </a:lnTo>
                    <a:lnTo>
                      <a:pt x="349" y="2401"/>
                    </a:lnTo>
                    <a:lnTo>
                      <a:pt x="357" y="2156"/>
                    </a:lnTo>
                    <a:lnTo>
                      <a:pt x="366" y="2039"/>
                    </a:lnTo>
                    <a:lnTo>
                      <a:pt x="391" y="1812"/>
                    </a:lnTo>
                    <a:lnTo>
                      <a:pt x="399" y="2006"/>
                    </a:lnTo>
                    <a:lnTo>
                      <a:pt x="399" y="2029"/>
                    </a:lnTo>
                    <a:lnTo>
                      <a:pt x="399" y="2174"/>
                    </a:lnTo>
                    <a:lnTo>
                      <a:pt x="391" y="2317"/>
                    </a:lnTo>
                    <a:lnTo>
                      <a:pt x="645" y="2317"/>
                    </a:lnTo>
                    <a:lnTo>
                      <a:pt x="629" y="2275"/>
                    </a:lnTo>
                    <a:lnTo>
                      <a:pt x="637" y="2233"/>
                    </a:lnTo>
                    <a:lnTo>
                      <a:pt x="637" y="1812"/>
                    </a:lnTo>
                    <a:lnTo>
                      <a:pt x="662" y="1323"/>
                    </a:lnTo>
                    <a:close/>
                  </a:path>
                </a:pathLst>
              </a:custGeom>
              <a:solidFill>
                <a:srgbClr val="0054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7342560" y="4781160"/>
                <a:ext cx="37440" cy="84240"/>
              </a:xfrm>
              <a:custGeom>
                <a:avLst/>
                <a:gdLst/>
                <a:ahLst/>
                <a:rect l="l" t="t" r="r" b="b"/>
                <a:pathLst>
                  <a:path w="94" h="220">
                    <a:moveTo>
                      <a:pt x="94" y="220"/>
                    </a:moveTo>
                    <a:lnTo>
                      <a:pt x="83" y="216"/>
                    </a:lnTo>
                    <a:lnTo>
                      <a:pt x="61" y="204"/>
                    </a:lnTo>
                    <a:lnTo>
                      <a:pt x="43" y="184"/>
                    </a:lnTo>
                    <a:lnTo>
                      <a:pt x="35" y="16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7336440" y="4458600"/>
                <a:ext cx="16200" cy="148680"/>
              </a:xfrm>
              <a:custGeom>
                <a:avLst/>
                <a:gdLst/>
                <a:ahLst/>
                <a:rect l="l" t="t" r="r" b="b"/>
                <a:pathLst>
                  <a:path w="42" h="389">
                    <a:moveTo>
                      <a:pt x="7" y="389"/>
                    </a:moveTo>
                    <a:lnTo>
                      <a:pt x="42" y="127"/>
                    </a:lnTo>
                    <a:lnTo>
                      <a:pt x="16" y="103"/>
                    </a:lnTo>
                    <a:lnTo>
                      <a:pt x="42" y="8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7154280" y="4500720"/>
                <a:ext cx="92880" cy="360000"/>
              </a:xfrm>
              <a:custGeom>
                <a:avLst/>
                <a:gdLst/>
                <a:ahLst/>
                <a:rect l="l" t="t" r="r" b="b"/>
                <a:pathLst>
                  <a:path w="238" h="939">
                    <a:moveTo>
                      <a:pt x="68" y="0"/>
                    </a:moveTo>
                    <a:lnTo>
                      <a:pt x="87" y="43"/>
                    </a:lnTo>
                    <a:lnTo>
                      <a:pt x="98" y="92"/>
                    </a:lnTo>
                    <a:lnTo>
                      <a:pt x="101" y="141"/>
                    </a:lnTo>
                    <a:lnTo>
                      <a:pt x="114" y="207"/>
                    </a:lnTo>
                    <a:lnTo>
                      <a:pt x="137" y="359"/>
                    </a:lnTo>
                    <a:lnTo>
                      <a:pt x="152" y="513"/>
                    </a:lnTo>
                    <a:lnTo>
                      <a:pt x="238" y="893"/>
                    </a:lnTo>
                    <a:lnTo>
                      <a:pt x="187" y="917"/>
                    </a:lnTo>
                    <a:lnTo>
                      <a:pt x="133" y="935"/>
                    </a:lnTo>
                    <a:lnTo>
                      <a:pt x="74" y="939"/>
                    </a:lnTo>
                    <a:lnTo>
                      <a:pt x="20" y="848"/>
                    </a:lnTo>
                    <a:lnTo>
                      <a:pt x="0" y="8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7213680" y="4432320"/>
                <a:ext cx="128880" cy="197640"/>
              </a:xfrm>
              <a:custGeom>
                <a:avLst/>
                <a:gdLst/>
                <a:ahLst/>
                <a:rect l="l" t="t" r="r" b="b"/>
                <a:pathLst>
                  <a:path w="331" h="515">
                    <a:moveTo>
                      <a:pt x="331" y="515"/>
                    </a:moveTo>
                    <a:lnTo>
                      <a:pt x="282" y="480"/>
                    </a:lnTo>
                    <a:lnTo>
                      <a:pt x="221" y="429"/>
                    </a:lnTo>
                    <a:lnTo>
                      <a:pt x="167" y="372"/>
                    </a:lnTo>
                    <a:lnTo>
                      <a:pt x="118" y="308"/>
                    </a:lnTo>
                    <a:lnTo>
                      <a:pt x="77" y="240"/>
                    </a:lnTo>
                    <a:lnTo>
                      <a:pt x="103" y="196"/>
                    </a:lnTo>
                    <a:lnTo>
                      <a:pt x="44" y="188"/>
                    </a:lnTo>
                    <a:lnTo>
                      <a:pt x="30" y="165"/>
                    </a:lnTo>
                    <a:lnTo>
                      <a:pt x="13" y="111"/>
                    </a:lnTo>
                    <a:lnTo>
                      <a:pt x="3" y="5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7167600" y="4601160"/>
                <a:ext cx="177120" cy="277560"/>
              </a:xfrm>
              <a:custGeom>
                <a:avLst/>
                <a:gdLst/>
                <a:ahLst/>
                <a:rect l="l" t="t" r="r" b="b"/>
                <a:pathLst>
                  <a:path w="453" h="725">
                    <a:moveTo>
                      <a:pt x="430" y="0"/>
                    </a:moveTo>
                    <a:lnTo>
                      <a:pt x="450" y="78"/>
                    </a:lnTo>
                    <a:lnTo>
                      <a:pt x="453" y="217"/>
                    </a:lnTo>
                    <a:lnTo>
                      <a:pt x="449" y="356"/>
                    </a:lnTo>
                    <a:lnTo>
                      <a:pt x="437" y="495"/>
                    </a:lnTo>
                    <a:lnTo>
                      <a:pt x="415" y="633"/>
                    </a:lnTo>
                    <a:lnTo>
                      <a:pt x="402" y="660"/>
                    </a:lnTo>
                    <a:lnTo>
                      <a:pt x="381" y="686"/>
                    </a:lnTo>
                    <a:lnTo>
                      <a:pt x="353" y="706"/>
                    </a:lnTo>
                    <a:lnTo>
                      <a:pt x="323" y="719"/>
                    </a:lnTo>
                    <a:lnTo>
                      <a:pt x="288" y="725"/>
                    </a:lnTo>
                    <a:lnTo>
                      <a:pt x="0" y="7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7197120" y="4849560"/>
                <a:ext cx="85680" cy="65160"/>
              </a:xfrm>
              <a:custGeom>
                <a:avLst/>
                <a:gdLst/>
                <a:ahLst/>
                <a:rect l="l" t="t" r="r" b="b"/>
                <a:pathLst>
                  <a:path w="220" h="169">
                    <a:moveTo>
                      <a:pt x="0" y="42"/>
                    </a:moveTo>
                    <a:lnTo>
                      <a:pt x="7" y="75"/>
                    </a:lnTo>
                    <a:lnTo>
                      <a:pt x="17" y="109"/>
                    </a:lnTo>
                    <a:lnTo>
                      <a:pt x="27" y="133"/>
                    </a:lnTo>
                    <a:lnTo>
                      <a:pt x="42" y="158"/>
                    </a:lnTo>
                    <a:lnTo>
                      <a:pt x="52" y="166"/>
                    </a:lnTo>
                    <a:lnTo>
                      <a:pt x="62" y="168"/>
                    </a:lnTo>
                    <a:lnTo>
                      <a:pt x="72" y="166"/>
                    </a:lnTo>
                    <a:lnTo>
                      <a:pt x="80" y="162"/>
                    </a:lnTo>
                    <a:lnTo>
                      <a:pt x="94" y="169"/>
                    </a:lnTo>
                    <a:lnTo>
                      <a:pt x="115" y="169"/>
                    </a:lnTo>
                    <a:lnTo>
                      <a:pt x="128" y="165"/>
                    </a:lnTo>
                    <a:lnTo>
                      <a:pt x="136" y="159"/>
                    </a:lnTo>
                    <a:lnTo>
                      <a:pt x="154" y="159"/>
                    </a:lnTo>
                    <a:lnTo>
                      <a:pt x="173" y="152"/>
                    </a:lnTo>
                    <a:lnTo>
                      <a:pt x="220" y="117"/>
                    </a:lnTo>
                    <a:lnTo>
                      <a:pt x="220" y="109"/>
                    </a:lnTo>
                    <a:lnTo>
                      <a:pt x="206" y="67"/>
                    </a:lnTo>
                    <a:lnTo>
                      <a:pt x="190" y="43"/>
                    </a:lnTo>
                    <a:lnTo>
                      <a:pt x="170" y="25"/>
                    </a:lnTo>
                    <a:lnTo>
                      <a:pt x="149" y="14"/>
                    </a:lnTo>
                    <a:lnTo>
                      <a:pt x="120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7187040" y="4844160"/>
                <a:ext cx="60120" cy="24480"/>
              </a:xfrm>
              <a:custGeom>
                <a:avLst/>
                <a:gdLst/>
                <a:ahLst/>
                <a:rect l="l" t="t" r="r" b="b"/>
                <a:pathLst>
                  <a:path w="154" h="65">
                    <a:moveTo>
                      <a:pt x="49" y="41"/>
                    </a:moveTo>
                    <a:lnTo>
                      <a:pt x="103" y="23"/>
                    </a:lnTo>
                    <a:lnTo>
                      <a:pt x="149" y="0"/>
                    </a:lnTo>
                    <a:lnTo>
                      <a:pt x="154" y="15"/>
                    </a:lnTo>
                    <a:lnTo>
                      <a:pt x="126" y="29"/>
                    </a:lnTo>
                    <a:lnTo>
                      <a:pt x="68" y="51"/>
                    </a:lnTo>
                    <a:lnTo>
                      <a:pt x="10" y="65"/>
                    </a:lnTo>
                    <a:lnTo>
                      <a:pt x="0" y="45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7264440" y="5282640"/>
                <a:ext cx="910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7167600" y="5312160"/>
                <a:ext cx="80280" cy="12240"/>
              </a:xfrm>
              <a:custGeom>
                <a:avLst/>
                <a:gdLst/>
                <a:ahLst/>
                <a:rect l="l" t="t" r="r" b="b"/>
                <a:pathLst>
                  <a:path w="205" h="33">
                    <a:moveTo>
                      <a:pt x="0" y="0"/>
                    </a:moveTo>
                    <a:lnTo>
                      <a:pt x="127" y="33"/>
                    </a:lnTo>
                    <a:lnTo>
                      <a:pt x="205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7086600" y="4878000"/>
                <a:ext cx="302760" cy="224640"/>
              </a:xfrm>
              <a:custGeom>
                <a:avLst/>
                <a:gdLst/>
                <a:ahLst/>
                <a:rect l="l" t="t" r="r" b="b"/>
                <a:pathLst>
                  <a:path w="775" h="585">
                    <a:moveTo>
                      <a:pt x="33" y="103"/>
                    </a:moveTo>
                    <a:lnTo>
                      <a:pt x="0" y="136"/>
                    </a:lnTo>
                    <a:lnTo>
                      <a:pt x="0" y="550"/>
                    </a:lnTo>
                    <a:lnTo>
                      <a:pt x="33" y="583"/>
                    </a:lnTo>
                    <a:lnTo>
                      <a:pt x="717" y="585"/>
                    </a:lnTo>
                    <a:lnTo>
                      <a:pt x="775" y="548"/>
                    </a:lnTo>
                    <a:lnTo>
                      <a:pt x="775" y="143"/>
                    </a:lnTo>
                    <a:lnTo>
                      <a:pt x="715" y="103"/>
                    </a:lnTo>
                    <a:lnTo>
                      <a:pt x="531" y="103"/>
                    </a:lnTo>
                    <a:lnTo>
                      <a:pt x="527" y="87"/>
                    </a:lnTo>
                    <a:lnTo>
                      <a:pt x="521" y="71"/>
                    </a:lnTo>
                    <a:lnTo>
                      <a:pt x="511" y="55"/>
                    </a:lnTo>
                    <a:lnTo>
                      <a:pt x="502" y="45"/>
                    </a:lnTo>
                    <a:lnTo>
                      <a:pt x="482" y="40"/>
                    </a:lnTo>
                    <a:lnTo>
                      <a:pt x="464" y="30"/>
                    </a:lnTo>
                    <a:lnTo>
                      <a:pt x="451" y="16"/>
                    </a:lnTo>
                    <a:lnTo>
                      <a:pt x="440" y="0"/>
                    </a:lnTo>
                    <a:lnTo>
                      <a:pt x="444" y="43"/>
                    </a:lnTo>
                    <a:lnTo>
                      <a:pt x="454" y="48"/>
                    </a:lnTo>
                    <a:lnTo>
                      <a:pt x="466" y="56"/>
                    </a:lnTo>
                    <a:lnTo>
                      <a:pt x="474" y="63"/>
                    </a:lnTo>
                    <a:lnTo>
                      <a:pt x="485" y="76"/>
                    </a:lnTo>
                    <a:lnTo>
                      <a:pt x="490" y="90"/>
                    </a:lnTo>
                    <a:lnTo>
                      <a:pt x="495" y="103"/>
                    </a:lnTo>
                    <a:lnTo>
                      <a:pt x="300" y="103"/>
                    </a:lnTo>
                    <a:lnTo>
                      <a:pt x="300" y="92"/>
                    </a:lnTo>
                    <a:lnTo>
                      <a:pt x="303" y="81"/>
                    </a:lnTo>
                    <a:lnTo>
                      <a:pt x="306" y="71"/>
                    </a:lnTo>
                    <a:lnTo>
                      <a:pt x="312" y="61"/>
                    </a:lnTo>
                    <a:lnTo>
                      <a:pt x="310" y="59"/>
                    </a:lnTo>
                    <a:lnTo>
                      <a:pt x="300" y="35"/>
                    </a:lnTo>
                    <a:lnTo>
                      <a:pt x="297" y="23"/>
                    </a:lnTo>
                    <a:lnTo>
                      <a:pt x="289" y="33"/>
                    </a:lnTo>
                    <a:lnTo>
                      <a:pt x="280" y="45"/>
                    </a:lnTo>
                    <a:lnTo>
                      <a:pt x="274" y="59"/>
                    </a:lnTo>
                    <a:lnTo>
                      <a:pt x="268" y="72"/>
                    </a:lnTo>
                    <a:lnTo>
                      <a:pt x="266" y="85"/>
                    </a:lnTo>
                    <a:lnTo>
                      <a:pt x="266" y="94"/>
                    </a:lnTo>
                    <a:lnTo>
                      <a:pt x="264" y="103"/>
                    </a:lnTo>
                    <a:lnTo>
                      <a:pt x="261" y="103"/>
                    </a:lnTo>
                    <a:lnTo>
                      <a:pt x="33" y="103"/>
                    </a:lnTo>
                    <a:close/>
                  </a:path>
                </a:pathLst>
              </a:custGeom>
              <a:solidFill>
                <a:srgbClr val="b5b5b5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7365240" y="4917960"/>
                <a:ext cx="13680" cy="183960"/>
              </a:xfrm>
              <a:custGeom>
                <a:avLst/>
                <a:gdLst/>
                <a:ahLst/>
                <a:rect l="l" t="t" r="r" b="b"/>
                <a:pathLst>
                  <a:path w="35" h="480">
                    <a:moveTo>
                      <a:pt x="1" y="0"/>
                    </a:moveTo>
                    <a:lnTo>
                      <a:pt x="35" y="31"/>
                    </a:lnTo>
                    <a:lnTo>
                      <a:pt x="35" y="447"/>
                    </a:lnTo>
                    <a:lnTo>
                      <a:pt x="0" y="4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7099560" y="4928400"/>
                <a:ext cx="265320" cy="163800"/>
              </a:xfrm>
              <a:custGeom>
                <a:avLst/>
                <a:gdLst/>
                <a:ahLst/>
                <a:rect l="l" t="t" r="r" b="b"/>
                <a:pathLst>
                  <a:path w="679" h="430">
                    <a:moveTo>
                      <a:pt x="29" y="0"/>
                    </a:moveTo>
                    <a:lnTo>
                      <a:pt x="0" y="28"/>
                    </a:lnTo>
                    <a:lnTo>
                      <a:pt x="0" y="405"/>
                    </a:lnTo>
                    <a:lnTo>
                      <a:pt x="25" y="430"/>
                    </a:lnTo>
                    <a:lnTo>
                      <a:pt x="655" y="430"/>
                    </a:lnTo>
                    <a:lnTo>
                      <a:pt x="679" y="404"/>
                    </a:lnTo>
                    <a:lnTo>
                      <a:pt x="679" y="23"/>
                    </a:lnTo>
                    <a:lnTo>
                      <a:pt x="658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2121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flipH="1" flipV="1">
                <a:off x="7241760" y="4900680"/>
                <a:ext cx="1008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 flipH="1" flipV="1">
                <a:off x="7230600" y="4903560"/>
                <a:ext cx="10800" cy="9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 flipH="1" flipV="1">
                <a:off x="7220160" y="4904280"/>
                <a:ext cx="6120" cy="68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7331400" y="4328280"/>
                <a:ext cx="20160" cy="468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29" y="0"/>
                    </a:moveTo>
                    <a:lnTo>
                      <a:pt x="52" y="0"/>
                    </a:lnTo>
                    <a:lnTo>
                      <a:pt x="49" y="5"/>
                    </a:lnTo>
                    <a:lnTo>
                      <a:pt x="32" y="5"/>
                    </a:lnTo>
                    <a:lnTo>
                      <a:pt x="0" y="1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7329960" y="4340520"/>
                <a:ext cx="14040" cy="432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7" y="0"/>
                    </a:moveTo>
                    <a:lnTo>
                      <a:pt x="0" y="5"/>
                    </a:lnTo>
                    <a:lnTo>
                      <a:pt x="34" y="12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7213680" y="4267080"/>
                <a:ext cx="134280" cy="127080"/>
              </a:xfrm>
              <a:custGeom>
                <a:avLst/>
                <a:gdLst/>
                <a:ahLst/>
                <a:rect l="l" t="t" r="r" b="b"/>
                <a:pathLst>
                  <a:path w="344" h="331">
                    <a:moveTo>
                      <a:pt x="62" y="305"/>
                    </a:moveTo>
                    <a:lnTo>
                      <a:pt x="49" y="285"/>
                    </a:lnTo>
                    <a:lnTo>
                      <a:pt x="17" y="243"/>
                    </a:lnTo>
                    <a:lnTo>
                      <a:pt x="6" y="205"/>
                    </a:lnTo>
                    <a:lnTo>
                      <a:pt x="0" y="168"/>
                    </a:lnTo>
                    <a:lnTo>
                      <a:pt x="6" y="130"/>
                    </a:lnTo>
                    <a:lnTo>
                      <a:pt x="36" y="72"/>
                    </a:lnTo>
                    <a:lnTo>
                      <a:pt x="49" y="56"/>
                    </a:lnTo>
                    <a:lnTo>
                      <a:pt x="75" y="32"/>
                    </a:lnTo>
                    <a:lnTo>
                      <a:pt x="109" y="10"/>
                    </a:lnTo>
                    <a:lnTo>
                      <a:pt x="147" y="3"/>
                    </a:lnTo>
                    <a:lnTo>
                      <a:pt x="183" y="0"/>
                    </a:lnTo>
                    <a:lnTo>
                      <a:pt x="222" y="3"/>
                    </a:lnTo>
                    <a:lnTo>
                      <a:pt x="247" y="4"/>
                    </a:lnTo>
                    <a:lnTo>
                      <a:pt x="287" y="11"/>
                    </a:lnTo>
                    <a:lnTo>
                      <a:pt x="309" y="19"/>
                    </a:lnTo>
                    <a:lnTo>
                      <a:pt x="326" y="32"/>
                    </a:lnTo>
                    <a:lnTo>
                      <a:pt x="340" y="50"/>
                    </a:lnTo>
                    <a:lnTo>
                      <a:pt x="344" y="74"/>
                    </a:lnTo>
                    <a:lnTo>
                      <a:pt x="340" y="95"/>
                    </a:lnTo>
                    <a:lnTo>
                      <a:pt x="340" y="95"/>
                    </a:lnTo>
                    <a:lnTo>
                      <a:pt x="297" y="82"/>
                    </a:lnTo>
                    <a:lnTo>
                      <a:pt x="254" y="76"/>
                    </a:lnTo>
                    <a:lnTo>
                      <a:pt x="213" y="79"/>
                    </a:lnTo>
                    <a:lnTo>
                      <a:pt x="213" y="79"/>
                    </a:lnTo>
                    <a:lnTo>
                      <a:pt x="196" y="82"/>
                    </a:lnTo>
                    <a:lnTo>
                      <a:pt x="213" y="105"/>
                    </a:lnTo>
                    <a:lnTo>
                      <a:pt x="226" y="134"/>
                    </a:lnTo>
                    <a:lnTo>
                      <a:pt x="226" y="143"/>
                    </a:lnTo>
                    <a:lnTo>
                      <a:pt x="216" y="163"/>
                    </a:lnTo>
                    <a:lnTo>
                      <a:pt x="186" y="204"/>
                    </a:lnTo>
                    <a:lnTo>
                      <a:pt x="154" y="204"/>
                    </a:lnTo>
                    <a:lnTo>
                      <a:pt x="149" y="191"/>
                    </a:lnTo>
                    <a:lnTo>
                      <a:pt x="145" y="185"/>
                    </a:lnTo>
                    <a:lnTo>
                      <a:pt x="136" y="179"/>
                    </a:lnTo>
                    <a:lnTo>
                      <a:pt x="128" y="176"/>
                    </a:lnTo>
                    <a:lnTo>
                      <a:pt x="112" y="181"/>
                    </a:lnTo>
                    <a:lnTo>
                      <a:pt x="99" y="194"/>
                    </a:lnTo>
                    <a:lnTo>
                      <a:pt x="93" y="210"/>
                    </a:lnTo>
                    <a:lnTo>
                      <a:pt x="94" y="223"/>
                    </a:lnTo>
                    <a:lnTo>
                      <a:pt x="96" y="231"/>
                    </a:lnTo>
                    <a:lnTo>
                      <a:pt x="103" y="250"/>
                    </a:lnTo>
                    <a:lnTo>
                      <a:pt x="113" y="266"/>
                    </a:lnTo>
                    <a:lnTo>
                      <a:pt x="119" y="272"/>
                    </a:lnTo>
                    <a:lnTo>
                      <a:pt x="106" y="289"/>
                    </a:lnTo>
                    <a:lnTo>
                      <a:pt x="96" y="304"/>
                    </a:lnTo>
                    <a:lnTo>
                      <a:pt x="81" y="320"/>
                    </a:lnTo>
                    <a:lnTo>
                      <a:pt x="68" y="331"/>
                    </a:lnTo>
                    <a:lnTo>
                      <a:pt x="62" y="30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7259760" y="4368960"/>
                <a:ext cx="24840" cy="2376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6"/>
                    </a:moveTo>
                    <a:lnTo>
                      <a:pt x="11" y="10"/>
                    </a:lnTo>
                    <a:lnTo>
                      <a:pt x="21" y="9"/>
                    </a:lnTo>
                    <a:lnTo>
                      <a:pt x="27" y="6"/>
                    </a:lnTo>
                    <a:lnTo>
                      <a:pt x="34" y="0"/>
                    </a:lnTo>
                    <a:lnTo>
                      <a:pt x="45" y="32"/>
                    </a:lnTo>
                    <a:lnTo>
                      <a:pt x="63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7326000" y="467856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30" y="17"/>
                    </a:moveTo>
                    <a:lnTo>
                      <a:pt x="29" y="8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8" y="3"/>
                    </a:lnTo>
                    <a:lnTo>
                      <a:pt x="3" y="8"/>
                    </a:lnTo>
                    <a:lnTo>
                      <a:pt x="0" y="17"/>
                    </a:lnTo>
                    <a:lnTo>
                      <a:pt x="3" y="26"/>
                    </a:lnTo>
                    <a:lnTo>
                      <a:pt x="8" y="33"/>
                    </a:lnTo>
                    <a:lnTo>
                      <a:pt x="16" y="34"/>
                    </a:lnTo>
                    <a:lnTo>
                      <a:pt x="23" y="33"/>
                    </a:lnTo>
                    <a:lnTo>
                      <a:pt x="29" y="26"/>
                    </a:lnTo>
                    <a:lnTo>
                      <a:pt x="30" y="17"/>
                    </a:lnTo>
                    <a:lnTo>
                      <a:pt x="3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7383240" y="4745160"/>
                <a:ext cx="52200" cy="39960"/>
              </a:xfrm>
              <a:custGeom>
                <a:avLst/>
                <a:gdLst/>
                <a:ahLst/>
                <a:rect l="l" t="t" r="r" b="b"/>
                <a:pathLst>
                  <a:path w="135" h="105">
                    <a:moveTo>
                      <a:pt x="74" y="16"/>
                    </a:moveTo>
                    <a:lnTo>
                      <a:pt x="51" y="18"/>
                    </a:lnTo>
                    <a:lnTo>
                      <a:pt x="46" y="5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9" y="8"/>
                    </a:lnTo>
                    <a:lnTo>
                      <a:pt x="27" y="16"/>
                    </a:lnTo>
                    <a:lnTo>
                      <a:pt x="22" y="11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9" y="16"/>
                    </a:lnTo>
                    <a:lnTo>
                      <a:pt x="9" y="21"/>
                    </a:lnTo>
                    <a:lnTo>
                      <a:pt x="11" y="70"/>
                    </a:lnTo>
                    <a:lnTo>
                      <a:pt x="9" y="70"/>
                    </a:lnTo>
                    <a:lnTo>
                      <a:pt x="3" y="74"/>
                    </a:lnTo>
                    <a:lnTo>
                      <a:pt x="0" y="80"/>
                    </a:lnTo>
                    <a:lnTo>
                      <a:pt x="0" y="86"/>
                    </a:lnTo>
                    <a:lnTo>
                      <a:pt x="4" y="92"/>
                    </a:lnTo>
                    <a:lnTo>
                      <a:pt x="7" y="94"/>
                    </a:lnTo>
                    <a:lnTo>
                      <a:pt x="9" y="96"/>
                    </a:lnTo>
                    <a:lnTo>
                      <a:pt x="51" y="105"/>
                    </a:lnTo>
                    <a:lnTo>
                      <a:pt x="106" y="76"/>
                    </a:lnTo>
                    <a:lnTo>
                      <a:pt x="109" y="73"/>
                    </a:lnTo>
                    <a:lnTo>
                      <a:pt x="119" y="61"/>
                    </a:lnTo>
                    <a:lnTo>
                      <a:pt x="126" y="50"/>
                    </a:lnTo>
                    <a:lnTo>
                      <a:pt x="132" y="37"/>
                    </a:lnTo>
                    <a:lnTo>
                      <a:pt x="133" y="22"/>
                    </a:lnTo>
                    <a:lnTo>
                      <a:pt x="135" y="13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7402680" y="475164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23" y="0"/>
                    </a:moveTo>
                    <a:lnTo>
                      <a:pt x="48" y="16"/>
                    </a:lnTo>
                    <a:lnTo>
                      <a:pt x="13" y="3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7386120" y="4753080"/>
                <a:ext cx="5400" cy="1908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0"/>
                    </a:moveTo>
                    <a:lnTo>
                      <a:pt x="4" y="24"/>
                    </a:lnTo>
                    <a:lnTo>
                      <a:pt x="13" y="50"/>
                    </a:lnTo>
                    <a:lnTo>
                      <a:pt x="1" y="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7392600" y="4773600"/>
                <a:ext cx="1152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7394040" y="4752360"/>
                <a:ext cx="14760" cy="2376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0" y="0"/>
                    </a:moveTo>
                    <a:lnTo>
                      <a:pt x="4" y="16"/>
                    </a:lnTo>
                    <a:lnTo>
                      <a:pt x="14" y="45"/>
                    </a:lnTo>
                    <a:lnTo>
                      <a:pt x="38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 flipH="1">
                <a:off x="7338600" y="4374720"/>
                <a:ext cx="3600" cy="129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40" name=""/>
          <p:cNvGrpSpPr/>
          <p:nvPr/>
        </p:nvGrpSpPr>
        <p:grpSpPr>
          <a:xfrm>
            <a:off x="7315200" y="4419720"/>
            <a:ext cx="457200" cy="1186920"/>
            <a:chOff x="7315200" y="4419720"/>
            <a:chExt cx="457200" cy="1186920"/>
          </a:xfrm>
        </p:grpSpPr>
        <p:sp>
          <p:nvSpPr>
            <p:cNvPr id="1941" name=""/>
            <p:cNvSpPr/>
            <p:nvPr/>
          </p:nvSpPr>
          <p:spPr>
            <a:xfrm>
              <a:off x="7315200" y="5450040"/>
              <a:ext cx="457200" cy="15660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2" name=""/>
            <p:cNvGrpSpPr/>
            <p:nvPr/>
          </p:nvGrpSpPr>
          <p:grpSpPr>
            <a:xfrm>
              <a:off x="7315200" y="4419720"/>
              <a:ext cx="352440" cy="1117080"/>
              <a:chOff x="7315200" y="4419720"/>
              <a:chExt cx="352440" cy="1117080"/>
            </a:xfrm>
          </p:grpSpPr>
          <p:sp>
            <p:nvSpPr>
              <p:cNvPr id="1943" name=""/>
              <p:cNvSpPr/>
              <p:nvPr/>
            </p:nvSpPr>
            <p:spPr>
              <a:xfrm>
                <a:off x="7465680" y="4447080"/>
                <a:ext cx="131760" cy="156960"/>
              </a:xfrm>
              <a:custGeom>
                <a:avLst/>
                <a:gdLst/>
                <a:ahLst/>
                <a:rect l="l" t="t" r="r" b="b"/>
                <a:pathLst>
                  <a:path w="337" h="410">
                    <a:moveTo>
                      <a:pt x="218" y="410"/>
                    </a:moveTo>
                    <a:lnTo>
                      <a:pt x="0" y="410"/>
                    </a:lnTo>
                    <a:lnTo>
                      <a:pt x="0" y="303"/>
                    </a:lnTo>
                    <a:lnTo>
                      <a:pt x="7" y="261"/>
                    </a:lnTo>
                    <a:lnTo>
                      <a:pt x="7" y="0"/>
                    </a:lnTo>
                    <a:lnTo>
                      <a:pt x="280" y="0"/>
                    </a:lnTo>
                    <a:lnTo>
                      <a:pt x="279" y="23"/>
                    </a:lnTo>
                    <a:lnTo>
                      <a:pt x="305" y="71"/>
                    </a:lnTo>
                    <a:lnTo>
                      <a:pt x="310" y="83"/>
                    </a:lnTo>
                    <a:lnTo>
                      <a:pt x="309" y="96"/>
                    </a:lnTo>
                    <a:lnTo>
                      <a:pt x="297" y="122"/>
                    </a:lnTo>
                    <a:lnTo>
                      <a:pt x="313" y="138"/>
                    </a:lnTo>
                    <a:lnTo>
                      <a:pt x="337" y="168"/>
                    </a:lnTo>
                    <a:lnTo>
                      <a:pt x="326" y="183"/>
                    </a:lnTo>
                    <a:lnTo>
                      <a:pt x="310" y="187"/>
                    </a:lnTo>
                    <a:lnTo>
                      <a:pt x="310" y="211"/>
                    </a:lnTo>
                    <a:lnTo>
                      <a:pt x="313" y="214"/>
                    </a:lnTo>
                    <a:lnTo>
                      <a:pt x="313" y="223"/>
                    </a:lnTo>
                    <a:lnTo>
                      <a:pt x="267" y="227"/>
                    </a:lnTo>
                    <a:lnTo>
                      <a:pt x="265" y="235"/>
                    </a:lnTo>
                    <a:lnTo>
                      <a:pt x="308" y="246"/>
                    </a:lnTo>
                    <a:lnTo>
                      <a:pt x="305" y="262"/>
                    </a:lnTo>
                    <a:lnTo>
                      <a:pt x="313" y="282"/>
                    </a:lnTo>
                    <a:lnTo>
                      <a:pt x="315" y="287"/>
                    </a:lnTo>
                    <a:lnTo>
                      <a:pt x="315" y="295"/>
                    </a:lnTo>
                    <a:lnTo>
                      <a:pt x="312" y="304"/>
                    </a:lnTo>
                    <a:lnTo>
                      <a:pt x="305" y="310"/>
                    </a:lnTo>
                    <a:lnTo>
                      <a:pt x="296" y="310"/>
                    </a:lnTo>
                    <a:lnTo>
                      <a:pt x="239" y="319"/>
                    </a:lnTo>
                    <a:lnTo>
                      <a:pt x="228" y="342"/>
                    </a:lnTo>
                    <a:lnTo>
                      <a:pt x="228" y="358"/>
                    </a:lnTo>
                    <a:lnTo>
                      <a:pt x="218" y="378"/>
                    </a:lnTo>
                    <a:lnTo>
                      <a:pt x="218" y="410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7604640" y="4749840"/>
                <a:ext cx="63000" cy="155520"/>
              </a:xfrm>
              <a:custGeom>
                <a:avLst/>
                <a:gdLst/>
                <a:ahLst/>
                <a:rect l="l" t="t" r="r" b="b"/>
                <a:pathLst>
                  <a:path w="162" h="406">
                    <a:moveTo>
                      <a:pt x="0" y="18"/>
                    </a:moveTo>
                    <a:lnTo>
                      <a:pt x="77" y="0"/>
                    </a:lnTo>
                    <a:lnTo>
                      <a:pt x="162" y="397"/>
                    </a:lnTo>
                    <a:lnTo>
                      <a:pt x="18" y="40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7399440" y="5481720"/>
                <a:ext cx="95760" cy="55080"/>
              </a:xfrm>
              <a:custGeom>
                <a:avLst/>
                <a:gdLst/>
                <a:ahLst/>
                <a:rect l="l" t="t" r="r" b="b"/>
                <a:pathLst>
                  <a:path w="246" h="143">
                    <a:moveTo>
                      <a:pt x="175" y="0"/>
                    </a:moveTo>
                    <a:lnTo>
                      <a:pt x="220" y="71"/>
                    </a:lnTo>
                    <a:lnTo>
                      <a:pt x="220" y="71"/>
                    </a:lnTo>
                    <a:lnTo>
                      <a:pt x="223" y="72"/>
                    </a:lnTo>
                    <a:lnTo>
                      <a:pt x="238" y="88"/>
                    </a:lnTo>
                    <a:lnTo>
                      <a:pt x="246" y="108"/>
                    </a:lnTo>
                    <a:lnTo>
                      <a:pt x="246" y="130"/>
                    </a:lnTo>
                    <a:lnTo>
                      <a:pt x="246" y="130"/>
                    </a:lnTo>
                    <a:lnTo>
                      <a:pt x="213" y="137"/>
                    </a:lnTo>
                    <a:lnTo>
                      <a:pt x="181" y="142"/>
                    </a:lnTo>
                    <a:lnTo>
                      <a:pt x="133" y="143"/>
                    </a:lnTo>
                    <a:lnTo>
                      <a:pt x="85" y="139"/>
                    </a:lnTo>
                    <a:lnTo>
                      <a:pt x="74" y="136"/>
                    </a:lnTo>
                    <a:lnTo>
                      <a:pt x="48" y="124"/>
                    </a:lnTo>
                    <a:lnTo>
                      <a:pt x="0" y="58"/>
                    </a:lnTo>
                    <a:lnTo>
                      <a:pt x="0" y="23"/>
                    </a:lnTo>
                    <a:lnTo>
                      <a:pt x="6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7494480" y="5448960"/>
                <a:ext cx="161640" cy="41040"/>
              </a:xfrm>
              <a:custGeom>
                <a:avLst/>
                <a:gdLst/>
                <a:ahLst/>
                <a:rect l="l" t="t" r="r" b="b"/>
                <a:pathLst>
                  <a:path w="414" h="107">
                    <a:moveTo>
                      <a:pt x="235" y="0"/>
                    </a:moveTo>
                    <a:lnTo>
                      <a:pt x="252" y="9"/>
                    </a:lnTo>
                    <a:lnTo>
                      <a:pt x="281" y="29"/>
                    </a:lnTo>
                    <a:lnTo>
                      <a:pt x="316" y="39"/>
                    </a:lnTo>
                    <a:lnTo>
                      <a:pt x="380" y="45"/>
                    </a:lnTo>
                    <a:lnTo>
                      <a:pt x="393" y="48"/>
                    </a:lnTo>
                    <a:lnTo>
                      <a:pt x="402" y="57"/>
                    </a:lnTo>
                    <a:lnTo>
                      <a:pt x="405" y="71"/>
                    </a:lnTo>
                    <a:lnTo>
                      <a:pt x="406" y="96"/>
                    </a:lnTo>
                    <a:lnTo>
                      <a:pt x="414" y="96"/>
                    </a:lnTo>
                    <a:lnTo>
                      <a:pt x="414" y="107"/>
                    </a:lnTo>
                    <a:lnTo>
                      <a:pt x="226" y="107"/>
                    </a:lnTo>
                    <a:lnTo>
                      <a:pt x="125" y="90"/>
                    </a:lnTo>
                    <a:lnTo>
                      <a:pt x="116" y="107"/>
                    </a:lnTo>
                    <a:lnTo>
                      <a:pt x="116" y="107"/>
                    </a:lnTo>
                    <a:lnTo>
                      <a:pt x="62" y="107"/>
                    </a:lnTo>
                    <a:lnTo>
                      <a:pt x="23" y="103"/>
                    </a:lnTo>
                    <a:lnTo>
                      <a:pt x="6" y="101"/>
                    </a:lnTo>
                    <a:lnTo>
                      <a:pt x="6" y="88"/>
                    </a:lnTo>
                    <a:lnTo>
                      <a:pt x="0" y="57"/>
                    </a:lnTo>
                    <a:lnTo>
                      <a:pt x="0" y="39"/>
                    </a:lnTo>
                    <a:lnTo>
                      <a:pt x="4" y="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7452360" y="4562640"/>
                <a:ext cx="119160" cy="210600"/>
              </a:xfrm>
              <a:custGeom>
                <a:avLst/>
                <a:gdLst/>
                <a:ahLst/>
                <a:rect l="l" t="t" r="r" b="b"/>
                <a:pathLst>
                  <a:path w="306" h="550">
                    <a:moveTo>
                      <a:pt x="253" y="75"/>
                    </a:moveTo>
                    <a:lnTo>
                      <a:pt x="226" y="101"/>
                    </a:lnTo>
                    <a:lnTo>
                      <a:pt x="229" y="100"/>
                    </a:lnTo>
                    <a:lnTo>
                      <a:pt x="228" y="100"/>
                    </a:lnTo>
                    <a:lnTo>
                      <a:pt x="160" y="73"/>
                    </a:lnTo>
                    <a:lnTo>
                      <a:pt x="94" y="40"/>
                    </a:lnTo>
                    <a:lnTo>
                      <a:pt x="33" y="0"/>
                    </a:lnTo>
                    <a:lnTo>
                      <a:pt x="0" y="46"/>
                    </a:lnTo>
                    <a:lnTo>
                      <a:pt x="0" y="550"/>
                    </a:lnTo>
                    <a:lnTo>
                      <a:pt x="306" y="550"/>
                    </a:lnTo>
                    <a:lnTo>
                      <a:pt x="306" y="169"/>
                    </a:lnTo>
                    <a:lnTo>
                      <a:pt x="263" y="82"/>
                    </a:lnTo>
                    <a:lnTo>
                      <a:pt x="253" y="75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7476480" y="4601880"/>
                <a:ext cx="66240" cy="32040"/>
              </a:xfrm>
              <a:custGeom>
                <a:avLst/>
                <a:gdLst/>
                <a:ahLst/>
                <a:rect l="l" t="t" r="r" b="b"/>
                <a:pathLst>
                  <a:path w="169" h="84">
                    <a:moveTo>
                      <a:pt x="0" y="25"/>
                    </a:moveTo>
                    <a:lnTo>
                      <a:pt x="72" y="84"/>
                    </a:lnTo>
                    <a:lnTo>
                      <a:pt x="1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7543080" y="4601880"/>
                <a:ext cx="14760" cy="21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7525800" y="4601160"/>
                <a:ext cx="45000" cy="155520"/>
              </a:xfrm>
              <a:custGeom>
                <a:avLst/>
                <a:gdLst/>
                <a:ahLst/>
                <a:rect l="l" t="t" r="r" b="b"/>
                <a:pathLst>
                  <a:path w="118" h="405">
                    <a:moveTo>
                      <a:pt x="0" y="41"/>
                    </a:moveTo>
                    <a:lnTo>
                      <a:pt x="25" y="76"/>
                    </a:lnTo>
                    <a:lnTo>
                      <a:pt x="18" y="85"/>
                    </a:lnTo>
                    <a:lnTo>
                      <a:pt x="8" y="211"/>
                    </a:lnTo>
                    <a:lnTo>
                      <a:pt x="18" y="387"/>
                    </a:lnTo>
                    <a:lnTo>
                      <a:pt x="118" y="405"/>
                    </a:lnTo>
                    <a:lnTo>
                      <a:pt x="84" y="151"/>
                    </a:lnTo>
                    <a:lnTo>
                      <a:pt x="51" y="76"/>
                    </a:lnTo>
                    <a:lnTo>
                      <a:pt x="58" y="26"/>
                    </a:lnTo>
                    <a:lnTo>
                      <a:pt x="51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f7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7340040" y="4562640"/>
                <a:ext cx="280800" cy="930600"/>
              </a:xfrm>
              <a:custGeom>
                <a:avLst/>
                <a:gdLst/>
                <a:ahLst/>
                <a:rect l="l" t="t" r="r" b="b"/>
                <a:pathLst>
                  <a:path w="722" h="2427">
                    <a:moveTo>
                      <a:pt x="662" y="1323"/>
                    </a:moveTo>
                    <a:lnTo>
                      <a:pt x="688" y="1195"/>
                    </a:lnTo>
                    <a:lnTo>
                      <a:pt x="722" y="1186"/>
                    </a:lnTo>
                    <a:lnTo>
                      <a:pt x="671" y="251"/>
                    </a:lnTo>
                    <a:lnTo>
                      <a:pt x="666" y="221"/>
                    </a:lnTo>
                    <a:lnTo>
                      <a:pt x="655" y="192"/>
                    </a:lnTo>
                    <a:lnTo>
                      <a:pt x="578" y="124"/>
                    </a:lnTo>
                    <a:lnTo>
                      <a:pt x="565" y="110"/>
                    </a:lnTo>
                    <a:lnTo>
                      <a:pt x="552" y="81"/>
                    </a:lnTo>
                    <a:lnTo>
                      <a:pt x="566" y="185"/>
                    </a:lnTo>
                    <a:lnTo>
                      <a:pt x="578" y="327"/>
                    </a:lnTo>
                    <a:lnTo>
                      <a:pt x="581" y="499"/>
                    </a:lnTo>
                    <a:lnTo>
                      <a:pt x="574" y="495"/>
                    </a:lnTo>
                    <a:lnTo>
                      <a:pt x="546" y="422"/>
                    </a:lnTo>
                    <a:lnTo>
                      <a:pt x="511" y="351"/>
                    </a:lnTo>
                    <a:lnTo>
                      <a:pt x="469" y="286"/>
                    </a:lnTo>
                    <a:lnTo>
                      <a:pt x="449" y="259"/>
                    </a:lnTo>
                    <a:lnTo>
                      <a:pt x="415" y="220"/>
                    </a:lnTo>
                    <a:lnTo>
                      <a:pt x="373" y="157"/>
                    </a:lnTo>
                    <a:lnTo>
                      <a:pt x="340" y="92"/>
                    </a:lnTo>
                    <a:lnTo>
                      <a:pt x="312" y="23"/>
                    </a:lnTo>
                    <a:lnTo>
                      <a:pt x="322" y="0"/>
                    </a:lnTo>
                    <a:lnTo>
                      <a:pt x="298" y="16"/>
                    </a:lnTo>
                    <a:lnTo>
                      <a:pt x="263" y="58"/>
                    </a:lnTo>
                    <a:lnTo>
                      <a:pt x="69" y="168"/>
                    </a:lnTo>
                    <a:lnTo>
                      <a:pt x="53" y="169"/>
                    </a:lnTo>
                    <a:lnTo>
                      <a:pt x="41" y="179"/>
                    </a:lnTo>
                    <a:lnTo>
                      <a:pt x="35" y="192"/>
                    </a:lnTo>
                    <a:lnTo>
                      <a:pt x="35" y="201"/>
                    </a:lnTo>
                    <a:lnTo>
                      <a:pt x="15" y="321"/>
                    </a:lnTo>
                    <a:lnTo>
                      <a:pt x="3" y="443"/>
                    </a:lnTo>
                    <a:lnTo>
                      <a:pt x="0" y="564"/>
                    </a:lnTo>
                    <a:lnTo>
                      <a:pt x="6" y="686"/>
                    </a:lnTo>
                    <a:lnTo>
                      <a:pt x="18" y="791"/>
                    </a:lnTo>
                    <a:lnTo>
                      <a:pt x="48" y="893"/>
                    </a:lnTo>
                    <a:lnTo>
                      <a:pt x="86" y="990"/>
                    </a:lnTo>
                    <a:lnTo>
                      <a:pt x="111" y="1045"/>
                    </a:lnTo>
                    <a:lnTo>
                      <a:pt x="95" y="1208"/>
                    </a:lnTo>
                    <a:lnTo>
                      <a:pt x="95" y="1221"/>
                    </a:lnTo>
                    <a:lnTo>
                      <a:pt x="145" y="1221"/>
                    </a:lnTo>
                    <a:lnTo>
                      <a:pt x="145" y="2394"/>
                    </a:lnTo>
                    <a:lnTo>
                      <a:pt x="272" y="2427"/>
                    </a:lnTo>
                    <a:lnTo>
                      <a:pt x="349" y="2401"/>
                    </a:lnTo>
                    <a:lnTo>
                      <a:pt x="357" y="2156"/>
                    </a:lnTo>
                    <a:lnTo>
                      <a:pt x="366" y="2039"/>
                    </a:lnTo>
                    <a:lnTo>
                      <a:pt x="391" y="1812"/>
                    </a:lnTo>
                    <a:lnTo>
                      <a:pt x="399" y="2006"/>
                    </a:lnTo>
                    <a:lnTo>
                      <a:pt x="399" y="2029"/>
                    </a:lnTo>
                    <a:lnTo>
                      <a:pt x="399" y="2174"/>
                    </a:lnTo>
                    <a:lnTo>
                      <a:pt x="391" y="2317"/>
                    </a:lnTo>
                    <a:lnTo>
                      <a:pt x="645" y="2317"/>
                    </a:lnTo>
                    <a:lnTo>
                      <a:pt x="629" y="2275"/>
                    </a:lnTo>
                    <a:lnTo>
                      <a:pt x="637" y="2233"/>
                    </a:lnTo>
                    <a:lnTo>
                      <a:pt x="637" y="1812"/>
                    </a:lnTo>
                    <a:lnTo>
                      <a:pt x="662" y="1323"/>
                    </a:lnTo>
                    <a:close/>
                  </a:path>
                </a:pathLst>
              </a:custGeom>
              <a:solidFill>
                <a:srgbClr val="0054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571160" y="4933800"/>
                <a:ext cx="37440" cy="84240"/>
              </a:xfrm>
              <a:custGeom>
                <a:avLst/>
                <a:gdLst/>
                <a:ahLst/>
                <a:rect l="l" t="t" r="r" b="b"/>
                <a:pathLst>
                  <a:path w="94" h="220">
                    <a:moveTo>
                      <a:pt x="94" y="220"/>
                    </a:moveTo>
                    <a:lnTo>
                      <a:pt x="83" y="216"/>
                    </a:lnTo>
                    <a:lnTo>
                      <a:pt x="61" y="204"/>
                    </a:lnTo>
                    <a:lnTo>
                      <a:pt x="43" y="184"/>
                    </a:lnTo>
                    <a:lnTo>
                      <a:pt x="35" y="16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7565040" y="4611240"/>
                <a:ext cx="16200" cy="148320"/>
              </a:xfrm>
              <a:custGeom>
                <a:avLst/>
                <a:gdLst/>
                <a:ahLst/>
                <a:rect l="l" t="t" r="r" b="b"/>
                <a:pathLst>
                  <a:path w="42" h="389">
                    <a:moveTo>
                      <a:pt x="7" y="389"/>
                    </a:moveTo>
                    <a:lnTo>
                      <a:pt x="42" y="127"/>
                    </a:lnTo>
                    <a:lnTo>
                      <a:pt x="16" y="103"/>
                    </a:lnTo>
                    <a:lnTo>
                      <a:pt x="42" y="8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7382880" y="4653360"/>
                <a:ext cx="92880" cy="360000"/>
              </a:xfrm>
              <a:custGeom>
                <a:avLst/>
                <a:gdLst/>
                <a:ahLst/>
                <a:rect l="l" t="t" r="r" b="b"/>
                <a:pathLst>
                  <a:path w="238" h="939">
                    <a:moveTo>
                      <a:pt x="68" y="0"/>
                    </a:moveTo>
                    <a:lnTo>
                      <a:pt x="87" y="43"/>
                    </a:lnTo>
                    <a:lnTo>
                      <a:pt x="98" y="92"/>
                    </a:lnTo>
                    <a:lnTo>
                      <a:pt x="101" y="141"/>
                    </a:lnTo>
                    <a:lnTo>
                      <a:pt x="114" y="207"/>
                    </a:lnTo>
                    <a:lnTo>
                      <a:pt x="137" y="359"/>
                    </a:lnTo>
                    <a:lnTo>
                      <a:pt x="152" y="513"/>
                    </a:lnTo>
                    <a:lnTo>
                      <a:pt x="238" y="893"/>
                    </a:lnTo>
                    <a:lnTo>
                      <a:pt x="187" y="917"/>
                    </a:lnTo>
                    <a:lnTo>
                      <a:pt x="133" y="935"/>
                    </a:lnTo>
                    <a:lnTo>
                      <a:pt x="74" y="939"/>
                    </a:lnTo>
                    <a:lnTo>
                      <a:pt x="20" y="848"/>
                    </a:lnTo>
                    <a:lnTo>
                      <a:pt x="0" y="8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7442280" y="4584960"/>
                <a:ext cx="128880" cy="197640"/>
              </a:xfrm>
              <a:custGeom>
                <a:avLst/>
                <a:gdLst/>
                <a:ahLst/>
                <a:rect l="l" t="t" r="r" b="b"/>
                <a:pathLst>
                  <a:path w="331" h="515">
                    <a:moveTo>
                      <a:pt x="331" y="515"/>
                    </a:moveTo>
                    <a:lnTo>
                      <a:pt x="282" y="480"/>
                    </a:lnTo>
                    <a:lnTo>
                      <a:pt x="221" y="429"/>
                    </a:lnTo>
                    <a:lnTo>
                      <a:pt x="167" y="372"/>
                    </a:lnTo>
                    <a:lnTo>
                      <a:pt x="118" y="308"/>
                    </a:lnTo>
                    <a:lnTo>
                      <a:pt x="77" y="240"/>
                    </a:lnTo>
                    <a:lnTo>
                      <a:pt x="103" y="196"/>
                    </a:lnTo>
                    <a:lnTo>
                      <a:pt x="44" y="188"/>
                    </a:lnTo>
                    <a:lnTo>
                      <a:pt x="30" y="165"/>
                    </a:lnTo>
                    <a:lnTo>
                      <a:pt x="13" y="111"/>
                    </a:lnTo>
                    <a:lnTo>
                      <a:pt x="3" y="5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7396200" y="4753800"/>
                <a:ext cx="177120" cy="277560"/>
              </a:xfrm>
              <a:custGeom>
                <a:avLst/>
                <a:gdLst/>
                <a:ahLst/>
                <a:rect l="l" t="t" r="r" b="b"/>
                <a:pathLst>
                  <a:path w="453" h="725">
                    <a:moveTo>
                      <a:pt x="430" y="0"/>
                    </a:moveTo>
                    <a:lnTo>
                      <a:pt x="450" y="78"/>
                    </a:lnTo>
                    <a:lnTo>
                      <a:pt x="453" y="217"/>
                    </a:lnTo>
                    <a:lnTo>
                      <a:pt x="449" y="356"/>
                    </a:lnTo>
                    <a:lnTo>
                      <a:pt x="437" y="495"/>
                    </a:lnTo>
                    <a:lnTo>
                      <a:pt x="415" y="633"/>
                    </a:lnTo>
                    <a:lnTo>
                      <a:pt x="402" y="660"/>
                    </a:lnTo>
                    <a:lnTo>
                      <a:pt x="381" y="686"/>
                    </a:lnTo>
                    <a:lnTo>
                      <a:pt x="353" y="706"/>
                    </a:lnTo>
                    <a:lnTo>
                      <a:pt x="323" y="719"/>
                    </a:lnTo>
                    <a:lnTo>
                      <a:pt x="288" y="725"/>
                    </a:lnTo>
                    <a:lnTo>
                      <a:pt x="0" y="7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7425720" y="5002200"/>
                <a:ext cx="85680" cy="65160"/>
              </a:xfrm>
              <a:custGeom>
                <a:avLst/>
                <a:gdLst/>
                <a:ahLst/>
                <a:rect l="l" t="t" r="r" b="b"/>
                <a:pathLst>
                  <a:path w="220" h="169">
                    <a:moveTo>
                      <a:pt x="0" y="42"/>
                    </a:moveTo>
                    <a:lnTo>
                      <a:pt x="7" y="75"/>
                    </a:lnTo>
                    <a:lnTo>
                      <a:pt x="17" y="109"/>
                    </a:lnTo>
                    <a:lnTo>
                      <a:pt x="27" y="133"/>
                    </a:lnTo>
                    <a:lnTo>
                      <a:pt x="42" y="158"/>
                    </a:lnTo>
                    <a:lnTo>
                      <a:pt x="52" y="166"/>
                    </a:lnTo>
                    <a:lnTo>
                      <a:pt x="62" y="168"/>
                    </a:lnTo>
                    <a:lnTo>
                      <a:pt x="72" y="166"/>
                    </a:lnTo>
                    <a:lnTo>
                      <a:pt x="80" y="162"/>
                    </a:lnTo>
                    <a:lnTo>
                      <a:pt x="94" y="169"/>
                    </a:lnTo>
                    <a:lnTo>
                      <a:pt x="115" y="169"/>
                    </a:lnTo>
                    <a:lnTo>
                      <a:pt x="128" y="165"/>
                    </a:lnTo>
                    <a:lnTo>
                      <a:pt x="136" y="159"/>
                    </a:lnTo>
                    <a:lnTo>
                      <a:pt x="154" y="159"/>
                    </a:lnTo>
                    <a:lnTo>
                      <a:pt x="173" y="152"/>
                    </a:lnTo>
                    <a:lnTo>
                      <a:pt x="220" y="117"/>
                    </a:lnTo>
                    <a:lnTo>
                      <a:pt x="220" y="109"/>
                    </a:lnTo>
                    <a:lnTo>
                      <a:pt x="206" y="67"/>
                    </a:lnTo>
                    <a:lnTo>
                      <a:pt x="190" y="43"/>
                    </a:lnTo>
                    <a:lnTo>
                      <a:pt x="170" y="25"/>
                    </a:lnTo>
                    <a:lnTo>
                      <a:pt x="149" y="14"/>
                    </a:lnTo>
                    <a:lnTo>
                      <a:pt x="120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7415640" y="4996800"/>
                <a:ext cx="60120" cy="24480"/>
              </a:xfrm>
              <a:custGeom>
                <a:avLst/>
                <a:gdLst/>
                <a:ahLst/>
                <a:rect l="l" t="t" r="r" b="b"/>
                <a:pathLst>
                  <a:path w="154" h="65">
                    <a:moveTo>
                      <a:pt x="49" y="41"/>
                    </a:moveTo>
                    <a:lnTo>
                      <a:pt x="103" y="23"/>
                    </a:lnTo>
                    <a:lnTo>
                      <a:pt x="149" y="0"/>
                    </a:lnTo>
                    <a:lnTo>
                      <a:pt x="154" y="15"/>
                    </a:lnTo>
                    <a:lnTo>
                      <a:pt x="126" y="29"/>
                    </a:lnTo>
                    <a:lnTo>
                      <a:pt x="68" y="51"/>
                    </a:lnTo>
                    <a:lnTo>
                      <a:pt x="10" y="65"/>
                    </a:lnTo>
                    <a:lnTo>
                      <a:pt x="0" y="45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7493040" y="5435280"/>
                <a:ext cx="910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7396200" y="5464440"/>
                <a:ext cx="80280" cy="12240"/>
              </a:xfrm>
              <a:custGeom>
                <a:avLst/>
                <a:gdLst/>
                <a:ahLst/>
                <a:rect l="l" t="t" r="r" b="b"/>
                <a:pathLst>
                  <a:path w="205" h="33">
                    <a:moveTo>
                      <a:pt x="0" y="0"/>
                    </a:moveTo>
                    <a:lnTo>
                      <a:pt x="127" y="33"/>
                    </a:lnTo>
                    <a:lnTo>
                      <a:pt x="205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7315200" y="5030280"/>
                <a:ext cx="302760" cy="224280"/>
              </a:xfrm>
              <a:custGeom>
                <a:avLst/>
                <a:gdLst/>
                <a:ahLst/>
                <a:rect l="l" t="t" r="r" b="b"/>
                <a:pathLst>
                  <a:path w="775" h="585">
                    <a:moveTo>
                      <a:pt x="33" y="103"/>
                    </a:moveTo>
                    <a:lnTo>
                      <a:pt x="0" y="136"/>
                    </a:lnTo>
                    <a:lnTo>
                      <a:pt x="0" y="550"/>
                    </a:lnTo>
                    <a:lnTo>
                      <a:pt x="33" y="583"/>
                    </a:lnTo>
                    <a:lnTo>
                      <a:pt x="717" y="585"/>
                    </a:lnTo>
                    <a:lnTo>
                      <a:pt x="775" y="548"/>
                    </a:lnTo>
                    <a:lnTo>
                      <a:pt x="775" y="143"/>
                    </a:lnTo>
                    <a:lnTo>
                      <a:pt x="715" y="103"/>
                    </a:lnTo>
                    <a:lnTo>
                      <a:pt x="531" y="103"/>
                    </a:lnTo>
                    <a:lnTo>
                      <a:pt x="527" y="87"/>
                    </a:lnTo>
                    <a:lnTo>
                      <a:pt x="521" y="71"/>
                    </a:lnTo>
                    <a:lnTo>
                      <a:pt x="511" y="55"/>
                    </a:lnTo>
                    <a:lnTo>
                      <a:pt x="502" y="45"/>
                    </a:lnTo>
                    <a:lnTo>
                      <a:pt x="482" y="40"/>
                    </a:lnTo>
                    <a:lnTo>
                      <a:pt x="464" y="30"/>
                    </a:lnTo>
                    <a:lnTo>
                      <a:pt x="451" y="16"/>
                    </a:lnTo>
                    <a:lnTo>
                      <a:pt x="440" y="0"/>
                    </a:lnTo>
                    <a:lnTo>
                      <a:pt x="444" y="43"/>
                    </a:lnTo>
                    <a:lnTo>
                      <a:pt x="454" y="48"/>
                    </a:lnTo>
                    <a:lnTo>
                      <a:pt x="466" y="56"/>
                    </a:lnTo>
                    <a:lnTo>
                      <a:pt x="474" y="63"/>
                    </a:lnTo>
                    <a:lnTo>
                      <a:pt x="485" y="76"/>
                    </a:lnTo>
                    <a:lnTo>
                      <a:pt x="490" y="90"/>
                    </a:lnTo>
                    <a:lnTo>
                      <a:pt x="495" y="103"/>
                    </a:lnTo>
                    <a:lnTo>
                      <a:pt x="300" y="103"/>
                    </a:lnTo>
                    <a:lnTo>
                      <a:pt x="300" y="92"/>
                    </a:lnTo>
                    <a:lnTo>
                      <a:pt x="303" y="81"/>
                    </a:lnTo>
                    <a:lnTo>
                      <a:pt x="306" y="71"/>
                    </a:lnTo>
                    <a:lnTo>
                      <a:pt x="312" y="61"/>
                    </a:lnTo>
                    <a:lnTo>
                      <a:pt x="310" y="59"/>
                    </a:lnTo>
                    <a:lnTo>
                      <a:pt x="300" y="35"/>
                    </a:lnTo>
                    <a:lnTo>
                      <a:pt x="297" y="23"/>
                    </a:lnTo>
                    <a:lnTo>
                      <a:pt x="289" y="33"/>
                    </a:lnTo>
                    <a:lnTo>
                      <a:pt x="280" y="45"/>
                    </a:lnTo>
                    <a:lnTo>
                      <a:pt x="274" y="59"/>
                    </a:lnTo>
                    <a:lnTo>
                      <a:pt x="268" y="72"/>
                    </a:lnTo>
                    <a:lnTo>
                      <a:pt x="266" y="85"/>
                    </a:lnTo>
                    <a:lnTo>
                      <a:pt x="266" y="94"/>
                    </a:lnTo>
                    <a:lnTo>
                      <a:pt x="264" y="103"/>
                    </a:lnTo>
                    <a:lnTo>
                      <a:pt x="261" y="103"/>
                    </a:lnTo>
                    <a:lnTo>
                      <a:pt x="33" y="103"/>
                    </a:lnTo>
                    <a:close/>
                  </a:path>
                </a:pathLst>
              </a:custGeom>
              <a:solidFill>
                <a:srgbClr val="b5b5b5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7593840" y="5070240"/>
                <a:ext cx="13680" cy="183960"/>
              </a:xfrm>
              <a:custGeom>
                <a:avLst/>
                <a:gdLst/>
                <a:ahLst/>
                <a:rect l="l" t="t" r="r" b="b"/>
                <a:pathLst>
                  <a:path w="35" h="480">
                    <a:moveTo>
                      <a:pt x="1" y="0"/>
                    </a:moveTo>
                    <a:lnTo>
                      <a:pt x="35" y="31"/>
                    </a:lnTo>
                    <a:lnTo>
                      <a:pt x="35" y="447"/>
                    </a:lnTo>
                    <a:lnTo>
                      <a:pt x="0" y="4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7328160" y="5081040"/>
                <a:ext cx="265320" cy="163800"/>
              </a:xfrm>
              <a:custGeom>
                <a:avLst/>
                <a:gdLst/>
                <a:ahLst/>
                <a:rect l="l" t="t" r="r" b="b"/>
                <a:pathLst>
                  <a:path w="679" h="430">
                    <a:moveTo>
                      <a:pt x="29" y="0"/>
                    </a:moveTo>
                    <a:lnTo>
                      <a:pt x="0" y="28"/>
                    </a:lnTo>
                    <a:lnTo>
                      <a:pt x="0" y="405"/>
                    </a:lnTo>
                    <a:lnTo>
                      <a:pt x="25" y="430"/>
                    </a:lnTo>
                    <a:lnTo>
                      <a:pt x="655" y="430"/>
                    </a:lnTo>
                    <a:lnTo>
                      <a:pt x="679" y="404"/>
                    </a:lnTo>
                    <a:lnTo>
                      <a:pt x="679" y="23"/>
                    </a:lnTo>
                    <a:lnTo>
                      <a:pt x="658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2121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 flipH="1" flipV="1">
                <a:off x="7470360" y="5052960"/>
                <a:ext cx="1008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 flipH="1" flipV="1">
                <a:off x="7459200" y="5056200"/>
                <a:ext cx="10800" cy="9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 flipH="1" flipV="1">
                <a:off x="7448760" y="5056920"/>
                <a:ext cx="6120" cy="68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7560000" y="4480560"/>
                <a:ext cx="20160" cy="468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29" y="0"/>
                    </a:moveTo>
                    <a:lnTo>
                      <a:pt x="52" y="0"/>
                    </a:lnTo>
                    <a:lnTo>
                      <a:pt x="49" y="5"/>
                    </a:lnTo>
                    <a:lnTo>
                      <a:pt x="32" y="5"/>
                    </a:lnTo>
                    <a:lnTo>
                      <a:pt x="0" y="1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7558560" y="4493160"/>
                <a:ext cx="14040" cy="432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7" y="0"/>
                    </a:moveTo>
                    <a:lnTo>
                      <a:pt x="0" y="5"/>
                    </a:lnTo>
                    <a:lnTo>
                      <a:pt x="34" y="12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7442280" y="4419720"/>
                <a:ext cx="134280" cy="127080"/>
              </a:xfrm>
              <a:custGeom>
                <a:avLst/>
                <a:gdLst/>
                <a:ahLst/>
                <a:rect l="l" t="t" r="r" b="b"/>
                <a:pathLst>
                  <a:path w="344" h="331">
                    <a:moveTo>
                      <a:pt x="62" y="305"/>
                    </a:moveTo>
                    <a:lnTo>
                      <a:pt x="49" y="285"/>
                    </a:lnTo>
                    <a:lnTo>
                      <a:pt x="17" y="243"/>
                    </a:lnTo>
                    <a:lnTo>
                      <a:pt x="6" y="205"/>
                    </a:lnTo>
                    <a:lnTo>
                      <a:pt x="0" y="168"/>
                    </a:lnTo>
                    <a:lnTo>
                      <a:pt x="6" y="130"/>
                    </a:lnTo>
                    <a:lnTo>
                      <a:pt x="36" y="72"/>
                    </a:lnTo>
                    <a:lnTo>
                      <a:pt x="49" y="56"/>
                    </a:lnTo>
                    <a:lnTo>
                      <a:pt x="75" y="32"/>
                    </a:lnTo>
                    <a:lnTo>
                      <a:pt x="109" y="10"/>
                    </a:lnTo>
                    <a:lnTo>
                      <a:pt x="147" y="3"/>
                    </a:lnTo>
                    <a:lnTo>
                      <a:pt x="183" y="0"/>
                    </a:lnTo>
                    <a:lnTo>
                      <a:pt x="222" y="3"/>
                    </a:lnTo>
                    <a:lnTo>
                      <a:pt x="247" y="4"/>
                    </a:lnTo>
                    <a:lnTo>
                      <a:pt x="287" y="11"/>
                    </a:lnTo>
                    <a:lnTo>
                      <a:pt x="309" y="19"/>
                    </a:lnTo>
                    <a:lnTo>
                      <a:pt x="326" y="32"/>
                    </a:lnTo>
                    <a:lnTo>
                      <a:pt x="340" y="50"/>
                    </a:lnTo>
                    <a:lnTo>
                      <a:pt x="344" y="74"/>
                    </a:lnTo>
                    <a:lnTo>
                      <a:pt x="340" y="95"/>
                    </a:lnTo>
                    <a:lnTo>
                      <a:pt x="340" y="95"/>
                    </a:lnTo>
                    <a:lnTo>
                      <a:pt x="297" y="82"/>
                    </a:lnTo>
                    <a:lnTo>
                      <a:pt x="254" y="76"/>
                    </a:lnTo>
                    <a:lnTo>
                      <a:pt x="213" y="79"/>
                    </a:lnTo>
                    <a:lnTo>
                      <a:pt x="213" y="79"/>
                    </a:lnTo>
                    <a:lnTo>
                      <a:pt x="196" y="82"/>
                    </a:lnTo>
                    <a:lnTo>
                      <a:pt x="213" y="105"/>
                    </a:lnTo>
                    <a:lnTo>
                      <a:pt x="226" y="134"/>
                    </a:lnTo>
                    <a:lnTo>
                      <a:pt x="226" y="143"/>
                    </a:lnTo>
                    <a:lnTo>
                      <a:pt x="216" y="163"/>
                    </a:lnTo>
                    <a:lnTo>
                      <a:pt x="186" y="204"/>
                    </a:lnTo>
                    <a:lnTo>
                      <a:pt x="154" y="204"/>
                    </a:lnTo>
                    <a:lnTo>
                      <a:pt x="149" y="191"/>
                    </a:lnTo>
                    <a:lnTo>
                      <a:pt x="145" y="185"/>
                    </a:lnTo>
                    <a:lnTo>
                      <a:pt x="136" y="179"/>
                    </a:lnTo>
                    <a:lnTo>
                      <a:pt x="128" y="176"/>
                    </a:lnTo>
                    <a:lnTo>
                      <a:pt x="112" y="181"/>
                    </a:lnTo>
                    <a:lnTo>
                      <a:pt x="99" y="194"/>
                    </a:lnTo>
                    <a:lnTo>
                      <a:pt x="93" y="210"/>
                    </a:lnTo>
                    <a:lnTo>
                      <a:pt x="94" y="223"/>
                    </a:lnTo>
                    <a:lnTo>
                      <a:pt x="96" y="231"/>
                    </a:lnTo>
                    <a:lnTo>
                      <a:pt x="103" y="250"/>
                    </a:lnTo>
                    <a:lnTo>
                      <a:pt x="113" y="266"/>
                    </a:lnTo>
                    <a:lnTo>
                      <a:pt x="119" y="272"/>
                    </a:lnTo>
                    <a:lnTo>
                      <a:pt x="106" y="289"/>
                    </a:lnTo>
                    <a:lnTo>
                      <a:pt x="96" y="304"/>
                    </a:lnTo>
                    <a:lnTo>
                      <a:pt x="81" y="320"/>
                    </a:lnTo>
                    <a:lnTo>
                      <a:pt x="68" y="331"/>
                    </a:lnTo>
                    <a:lnTo>
                      <a:pt x="62" y="30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7488360" y="4521240"/>
                <a:ext cx="24840" cy="2376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6"/>
                    </a:moveTo>
                    <a:lnTo>
                      <a:pt x="11" y="10"/>
                    </a:lnTo>
                    <a:lnTo>
                      <a:pt x="21" y="9"/>
                    </a:lnTo>
                    <a:lnTo>
                      <a:pt x="27" y="6"/>
                    </a:lnTo>
                    <a:lnTo>
                      <a:pt x="34" y="0"/>
                    </a:lnTo>
                    <a:lnTo>
                      <a:pt x="45" y="32"/>
                    </a:lnTo>
                    <a:lnTo>
                      <a:pt x="63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7554600" y="483120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30" y="17"/>
                    </a:moveTo>
                    <a:lnTo>
                      <a:pt x="29" y="8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8" y="3"/>
                    </a:lnTo>
                    <a:lnTo>
                      <a:pt x="3" y="8"/>
                    </a:lnTo>
                    <a:lnTo>
                      <a:pt x="0" y="17"/>
                    </a:lnTo>
                    <a:lnTo>
                      <a:pt x="3" y="26"/>
                    </a:lnTo>
                    <a:lnTo>
                      <a:pt x="8" y="33"/>
                    </a:lnTo>
                    <a:lnTo>
                      <a:pt x="16" y="34"/>
                    </a:lnTo>
                    <a:lnTo>
                      <a:pt x="23" y="33"/>
                    </a:lnTo>
                    <a:lnTo>
                      <a:pt x="29" y="26"/>
                    </a:lnTo>
                    <a:lnTo>
                      <a:pt x="30" y="17"/>
                    </a:lnTo>
                    <a:lnTo>
                      <a:pt x="3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7611840" y="4897800"/>
                <a:ext cx="52200" cy="39960"/>
              </a:xfrm>
              <a:custGeom>
                <a:avLst/>
                <a:gdLst/>
                <a:ahLst/>
                <a:rect l="l" t="t" r="r" b="b"/>
                <a:pathLst>
                  <a:path w="135" h="105">
                    <a:moveTo>
                      <a:pt x="74" y="16"/>
                    </a:moveTo>
                    <a:lnTo>
                      <a:pt x="51" y="18"/>
                    </a:lnTo>
                    <a:lnTo>
                      <a:pt x="46" y="5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9" y="8"/>
                    </a:lnTo>
                    <a:lnTo>
                      <a:pt x="27" y="16"/>
                    </a:lnTo>
                    <a:lnTo>
                      <a:pt x="22" y="11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9" y="16"/>
                    </a:lnTo>
                    <a:lnTo>
                      <a:pt x="9" y="21"/>
                    </a:lnTo>
                    <a:lnTo>
                      <a:pt x="11" y="70"/>
                    </a:lnTo>
                    <a:lnTo>
                      <a:pt x="9" y="70"/>
                    </a:lnTo>
                    <a:lnTo>
                      <a:pt x="3" y="74"/>
                    </a:lnTo>
                    <a:lnTo>
                      <a:pt x="0" y="80"/>
                    </a:lnTo>
                    <a:lnTo>
                      <a:pt x="0" y="86"/>
                    </a:lnTo>
                    <a:lnTo>
                      <a:pt x="4" y="92"/>
                    </a:lnTo>
                    <a:lnTo>
                      <a:pt x="7" y="94"/>
                    </a:lnTo>
                    <a:lnTo>
                      <a:pt x="9" y="96"/>
                    </a:lnTo>
                    <a:lnTo>
                      <a:pt x="51" y="105"/>
                    </a:lnTo>
                    <a:lnTo>
                      <a:pt x="106" y="76"/>
                    </a:lnTo>
                    <a:lnTo>
                      <a:pt x="109" y="73"/>
                    </a:lnTo>
                    <a:lnTo>
                      <a:pt x="119" y="61"/>
                    </a:lnTo>
                    <a:lnTo>
                      <a:pt x="126" y="50"/>
                    </a:lnTo>
                    <a:lnTo>
                      <a:pt x="132" y="37"/>
                    </a:lnTo>
                    <a:lnTo>
                      <a:pt x="133" y="22"/>
                    </a:lnTo>
                    <a:lnTo>
                      <a:pt x="135" y="13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7631280" y="490392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23" y="0"/>
                    </a:moveTo>
                    <a:lnTo>
                      <a:pt x="48" y="16"/>
                    </a:lnTo>
                    <a:lnTo>
                      <a:pt x="13" y="3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7614720" y="4905360"/>
                <a:ext cx="5400" cy="1908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0"/>
                    </a:moveTo>
                    <a:lnTo>
                      <a:pt x="4" y="24"/>
                    </a:lnTo>
                    <a:lnTo>
                      <a:pt x="13" y="50"/>
                    </a:lnTo>
                    <a:lnTo>
                      <a:pt x="1" y="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7621200" y="4926240"/>
                <a:ext cx="1152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7622640" y="4904640"/>
                <a:ext cx="14760" cy="2376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0" y="0"/>
                    </a:moveTo>
                    <a:lnTo>
                      <a:pt x="4" y="16"/>
                    </a:lnTo>
                    <a:lnTo>
                      <a:pt x="14" y="45"/>
                    </a:lnTo>
                    <a:lnTo>
                      <a:pt x="38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 flipH="1">
                <a:off x="7567200" y="4527360"/>
                <a:ext cx="3600" cy="129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78" name=""/>
          <p:cNvGrpSpPr/>
          <p:nvPr/>
        </p:nvGrpSpPr>
        <p:grpSpPr>
          <a:xfrm>
            <a:off x="7086600" y="4495680"/>
            <a:ext cx="457200" cy="1187280"/>
            <a:chOff x="7086600" y="4495680"/>
            <a:chExt cx="457200" cy="1187280"/>
          </a:xfrm>
        </p:grpSpPr>
        <p:sp>
          <p:nvSpPr>
            <p:cNvPr id="1979" name=""/>
            <p:cNvSpPr/>
            <p:nvPr/>
          </p:nvSpPr>
          <p:spPr>
            <a:xfrm>
              <a:off x="7086600" y="5526360"/>
              <a:ext cx="457200" cy="15660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0" name=""/>
            <p:cNvGrpSpPr/>
            <p:nvPr/>
          </p:nvGrpSpPr>
          <p:grpSpPr>
            <a:xfrm>
              <a:off x="7086600" y="4495680"/>
              <a:ext cx="352440" cy="1117440"/>
              <a:chOff x="7086600" y="4495680"/>
              <a:chExt cx="352440" cy="1117440"/>
            </a:xfrm>
          </p:grpSpPr>
          <p:sp>
            <p:nvSpPr>
              <p:cNvPr id="1981" name=""/>
              <p:cNvSpPr/>
              <p:nvPr/>
            </p:nvSpPr>
            <p:spPr>
              <a:xfrm>
                <a:off x="7237080" y="4523040"/>
                <a:ext cx="131760" cy="156960"/>
              </a:xfrm>
              <a:custGeom>
                <a:avLst/>
                <a:gdLst/>
                <a:ahLst/>
                <a:rect l="l" t="t" r="r" b="b"/>
                <a:pathLst>
                  <a:path w="337" h="410">
                    <a:moveTo>
                      <a:pt x="218" y="410"/>
                    </a:moveTo>
                    <a:lnTo>
                      <a:pt x="0" y="410"/>
                    </a:lnTo>
                    <a:lnTo>
                      <a:pt x="0" y="303"/>
                    </a:lnTo>
                    <a:lnTo>
                      <a:pt x="7" y="261"/>
                    </a:lnTo>
                    <a:lnTo>
                      <a:pt x="7" y="0"/>
                    </a:lnTo>
                    <a:lnTo>
                      <a:pt x="280" y="0"/>
                    </a:lnTo>
                    <a:lnTo>
                      <a:pt x="279" y="23"/>
                    </a:lnTo>
                    <a:lnTo>
                      <a:pt x="305" y="71"/>
                    </a:lnTo>
                    <a:lnTo>
                      <a:pt x="310" y="83"/>
                    </a:lnTo>
                    <a:lnTo>
                      <a:pt x="309" y="96"/>
                    </a:lnTo>
                    <a:lnTo>
                      <a:pt x="297" y="122"/>
                    </a:lnTo>
                    <a:lnTo>
                      <a:pt x="313" y="138"/>
                    </a:lnTo>
                    <a:lnTo>
                      <a:pt x="337" y="168"/>
                    </a:lnTo>
                    <a:lnTo>
                      <a:pt x="326" y="183"/>
                    </a:lnTo>
                    <a:lnTo>
                      <a:pt x="310" y="187"/>
                    </a:lnTo>
                    <a:lnTo>
                      <a:pt x="310" y="211"/>
                    </a:lnTo>
                    <a:lnTo>
                      <a:pt x="313" y="214"/>
                    </a:lnTo>
                    <a:lnTo>
                      <a:pt x="313" y="223"/>
                    </a:lnTo>
                    <a:lnTo>
                      <a:pt x="267" y="227"/>
                    </a:lnTo>
                    <a:lnTo>
                      <a:pt x="265" y="235"/>
                    </a:lnTo>
                    <a:lnTo>
                      <a:pt x="308" y="246"/>
                    </a:lnTo>
                    <a:lnTo>
                      <a:pt x="305" y="262"/>
                    </a:lnTo>
                    <a:lnTo>
                      <a:pt x="313" y="282"/>
                    </a:lnTo>
                    <a:lnTo>
                      <a:pt x="315" y="287"/>
                    </a:lnTo>
                    <a:lnTo>
                      <a:pt x="315" y="295"/>
                    </a:lnTo>
                    <a:lnTo>
                      <a:pt x="312" y="304"/>
                    </a:lnTo>
                    <a:lnTo>
                      <a:pt x="305" y="310"/>
                    </a:lnTo>
                    <a:lnTo>
                      <a:pt x="296" y="310"/>
                    </a:lnTo>
                    <a:lnTo>
                      <a:pt x="239" y="319"/>
                    </a:lnTo>
                    <a:lnTo>
                      <a:pt x="228" y="342"/>
                    </a:lnTo>
                    <a:lnTo>
                      <a:pt x="228" y="358"/>
                    </a:lnTo>
                    <a:lnTo>
                      <a:pt x="218" y="378"/>
                    </a:lnTo>
                    <a:lnTo>
                      <a:pt x="218" y="410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7376040" y="4825800"/>
                <a:ext cx="63000" cy="155520"/>
              </a:xfrm>
              <a:custGeom>
                <a:avLst/>
                <a:gdLst/>
                <a:ahLst/>
                <a:rect l="l" t="t" r="r" b="b"/>
                <a:pathLst>
                  <a:path w="162" h="406">
                    <a:moveTo>
                      <a:pt x="0" y="18"/>
                    </a:moveTo>
                    <a:lnTo>
                      <a:pt x="77" y="0"/>
                    </a:lnTo>
                    <a:lnTo>
                      <a:pt x="162" y="397"/>
                    </a:lnTo>
                    <a:lnTo>
                      <a:pt x="18" y="40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7170840" y="5558040"/>
                <a:ext cx="95760" cy="55080"/>
              </a:xfrm>
              <a:custGeom>
                <a:avLst/>
                <a:gdLst/>
                <a:ahLst/>
                <a:rect l="l" t="t" r="r" b="b"/>
                <a:pathLst>
                  <a:path w="246" h="143">
                    <a:moveTo>
                      <a:pt x="175" y="0"/>
                    </a:moveTo>
                    <a:lnTo>
                      <a:pt x="220" y="71"/>
                    </a:lnTo>
                    <a:lnTo>
                      <a:pt x="220" y="71"/>
                    </a:lnTo>
                    <a:lnTo>
                      <a:pt x="223" y="72"/>
                    </a:lnTo>
                    <a:lnTo>
                      <a:pt x="238" y="88"/>
                    </a:lnTo>
                    <a:lnTo>
                      <a:pt x="246" y="108"/>
                    </a:lnTo>
                    <a:lnTo>
                      <a:pt x="246" y="130"/>
                    </a:lnTo>
                    <a:lnTo>
                      <a:pt x="246" y="130"/>
                    </a:lnTo>
                    <a:lnTo>
                      <a:pt x="213" y="137"/>
                    </a:lnTo>
                    <a:lnTo>
                      <a:pt x="181" y="142"/>
                    </a:lnTo>
                    <a:lnTo>
                      <a:pt x="133" y="143"/>
                    </a:lnTo>
                    <a:lnTo>
                      <a:pt x="85" y="139"/>
                    </a:lnTo>
                    <a:lnTo>
                      <a:pt x="74" y="136"/>
                    </a:lnTo>
                    <a:lnTo>
                      <a:pt x="48" y="124"/>
                    </a:lnTo>
                    <a:lnTo>
                      <a:pt x="0" y="58"/>
                    </a:lnTo>
                    <a:lnTo>
                      <a:pt x="0" y="23"/>
                    </a:lnTo>
                    <a:lnTo>
                      <a:pt x="6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7265880" y="5525280"/>
                <a:ext cx="161640" cy="41040"/>
              </a:xfrm>
              <a:custGeom>
                <a:avLst/>
                <a:gdLst/>
                <a:ahLst/>
                <a:rect l="l" t="t" r="r" b="b"/>
                <a:pathLst>
                  <a:path w="414" h="107">
                    <a:moveTo>
                      <a:pt x="235" y="0"/>
                    </a:moveTo>
                    <a:lnTo>
                      <a:pt x="252" y="9"/>
                    </a:lnTo>
                    <a:lnTo>
                      <a:pt x="281" y="29"/>
                    </a:lnTo>
                    <a:lnTo>
                      <a:pt x="316" y="39"/>
                    </a:lnTo>
                    <a:lnTo>
                      <a:pt x="380" y="45"/>
                    </a:lnTo>
                    <a:lnTo>
                      <a:pt x="393" y="48"/>
                    </a:lnTo>
                    <a:lnTo>
                      <a:pt x="402" y="57"/>
                    </a:lnTo>
                    <a:lnTo>
                      <a:pt x="405" y="71"/>
                    </a:lnTo>
                    <a:lnTo>
                      <a:pt x="406" y="96"/>
                    </a:lnTo>
                    <a:lnTo>
                      <a:pt x="414" y="96"/>
                    </a:lnTo>
                    <a:lnTo>
                      <a:pt x="414" y="107"/>
                    </a:lnTo>
                    <a:lnTo>
                      <a:pt x="226" y="107"/>
                    </a:lnTo>
                    <a:lnTo>
                      <a:pt x="125" y="90"/>
                    </a:lnTo>
                    <a:lnTo>
                      <a:pt x="116" y="107"/>
                    </a:lnTo>
                    <a:lnTo>
                      <a:pt x="116" y="107"/>
                    </a:lnTo>
                    <a:lnTo>
                      <a:pt x="62" y="107"/>
                    </a:lnTo>
                    <a:lnTo>
                      <a:pt x="23" y="103"/>
                    </a:lnTo>
                    <a:lnTo>
                      <a:pt x="6" y="101"/>
                    </a:lnTo>
                    <a:lnTo>
                      <a:pt x="6" y="88"/>
                    </a:lnTo>
                    <a:lnTo>
                      <a:pt x="0" y="57"/>
                    </a:lnTo>
                    <a:lnTo>
                      <a:pt x="0" y="39"/>
                    </a:lnTo>
                    <a:lnTo>
                      <a:pt x="4" y="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7223760" y="4638960"/>
                <a:ext cx="119160" cy="210600"/>
              </a:xfrm>
              <a:custGeom>
                <a:avLst/>
                <a:gdLst/>
                <a:ahLst/>
                <a:rect l="l" t="t" r="r" b="b"/>
                <a:pathLst>
                  <a:path w="306" h="550">
                    <a:moveTo>
                      <a:pt x="253" y="75"/>
                    </a:moveTo>
                    <a:lnTo>
                      <a:pt x="226" y="101"/>
                    </a:lnTo>
                    <a:lnTo>
                      <a:pt x="229" y="100"/>
                    </a:lnTo>
                    <a:lnTo>
                      <a:pt x="228" y="100"/>
                    </a:lnTo>
                    <a:lnTo>
                      <a:pt x="160" y="73"/>
                    </a:lnTo>
                    <a:lnTo>
                      <a:pt x="94" y="40"/>
                    </a:lnTo>
                    <a:lnTo>
                      <a:pt x="33" y="0"/>
                    </a:lnTo>
                    <a:lnTo>
                      <a:pt x="0" y="46"/>
                    </a:lnTo>
                    <a:lnTo>
                      <a:pt x="0" y="550"/>
                    </a:lnTo>
                    <a:lnTo>
                      <a:pt x="306" y="550"/>
                    </a:lnTo>
                    <a:lnTo>
                      <a:pt x="306" y="169"/>
                    </a:lnTo>
                    <a:lnTo>
                      <a:pt x="263" y="82"/>
                    </a:lnTo>
                    <a:lnTo>
                      <a:pt x="253" y="75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7247880" y="4677840"/>
                <a:ext cx="66240" cy="32040"/>
              </a:xfrm>
              <a:custGeom>
                <a:avLst/>
                <a:gdLst/>
                <a:ahLst/>
                <a:rect l="l" t="t" r="r" b="b"/>
                <a:pathLst>
                  <a:path w="169" h="84">
                    <a:moveTo>
                      <a:pt x="0" y="25"/>
                    </a:moveTo>
                    <a:lnTo>
                      <a:pt x="72" y="84"/>
                    </a:lnTo>
                    <a:lnTo>
                      <a:pt x="1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7314480" y="4677840"/>
                <a:ext cx="14760" cy="21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7297200" y="4677120"/>
                <a:ext cx="45000" cy="155520"/>
              </a:xfrm>
              <a:custGeom>
                <a:avLst/>
                <a:gdLst/>
                <a:ahLst/>
                <a:rect l="l" t="t" r="r" b="b"/>
                <a:pathLst>
                  <a:path w="118" h="405">
                    <a:moveTo>
                      <a:pt x="0" y="41"/>
                    </a:moveTo>
                    <a:lnTo>
                      <a:pt x="25" y="76"/>
                    </a:lnTo>
                    <a:lnTo>
                      <a:pt x="18" y="85"/>
                    </a:lnTo>
                    <a:lnTo>
                      <a:pt x="8" y="211"/>
                    </a:lnTo>
                    <a:lnTo>
                      <a:pt x="18" y="387"/>
                    </a:lnTo>
                    <a:lnTo>
                      <a:pt x="118" y="405"/>
                    </a:lnTo>
                    <a:lnTo>
                      <a:pt x="84" y="151"/>
                    </a:lnTo>
                    <a:lnTo>
                      <a:pt x="51" y="76"/>
                    </a:lnTo>
                    <a:lnTo>
                      <a:pt x="58" y="26"/>
                    </a:lnTo>
                    <a:lnTo>
                      <a:pt x="51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f7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7111440" y="4638960"/>
                <a:ext cx="280800" cy="930960"/>
              </a:xfrm>
              <a:custGeom>
                <a:avLst/>
                <a:gdLst/>
                <a:ahLst/>
                <a:rect l="l" t="t" r="r" b="b"/>
                <a:pathLst>
                  <a:path w="722" h="2427">
                    <a:moveTo>
                      <a:pt x="662" y="1323"/>
                    </a:moveTo>
                    <a:lnTo>
                      <a:pt x="688" y="1195"/>
                    </a:lnTo>
                    <a:lnTo>
                      <a:pt x="722" y="1186"/>
                    </a:lnTo>
                    <a:lnTo>
                      <a:pt x="671" y="251"/>
                    </a:lnTo>
                    <a:lnTo>
                      <a:pt x="666" y="221"/>
                    </a:lnTo>
                    <a:lnTo>
                      <a:pt x="655" y="192"/>
                    </a:lnTo>
                    <a:lnTo>
                      <a:pt x="578" y="124"/>
                    </a:lnTo>
                    <a:lnTo>
                      <a:pt x="565" y="110"/>
                    </a:lnTo>
                    <a:lnTo>
                      <a:pt x="552" y="81"/>
                    </a:lnTo>
                    <a:lnTo>
                      <a:pt x="566" y="185"/>
                    </a:lnTo>
                    <a:lnTo>
                      <a:pt x="578" y="327"/>
                    </a:lnTo>
                    <a:lnTo>
                      <a:pt x="581" y="499"/>
                    </a:lnTo>
                    <a:lnTo>
                      <a:pt x="574" y="495"/>
                    </a:lnTo>
                    <a:lnTo>
                      <a:pt x="546" y="422"/>
                    </a:lnTo>
                    <a:lnTo>
                      <a:pt x="511" y="351"/>
                    </a:lnTo>
                    <a:lnTo>
                      <a:pt x="469" y="286"/>
                    </a:lnTo>
                    <a:lnTo>
                      <a:pt x="449" y="259"/>
                    </a:lnTo>
                    <a:lnTo>
                      <a:pt x="415" y="220"/>
                    </a:lnTo>
                    <a:lnTo>
                      <a:pt x="373" y="157"/>
                    </a:lnTo>
                    <a:lnTo>
                      <a:pt x="340" y="92"/>
                    </a:lnTo>
                    <a:lnTo>
                      <a:pt x="312" y="23"/>
                    </a:lnTo>
                    <a:lnTo>
                      <a:pt x="322" y="0"/>
                    </a:lnTo>
                    <a:lnTo>
                      <a:pt x="298" y="16"/>
                    </a:lnTo>
                    <a:lnTo>
                      <a:pt x="263" y="58"/>
                    </a:lnTo>
                    <a:lnTo>
                      <a:pt x="69" y="168"/>
                    </a:lnTo>
                    <a:lnTo>
                      <a:pt x="53" y="169"/>
                    </a:lnTo>
                    <a:lnTo>
                      <a:pt x="41" y="179"/>
                    </a:lnTo>
                    <a:lnTo>
                      <a:pt x="35" y="192"/>
                    </a:lnTo>
                    <a:lnTo>
                      <a:pt x="35" y="201"/>
                    </a:lnTo>
                    <a:lnTo>
                      <a:pt x="15" y="321"/>
                    </a:lnTo>
                    <a:lnTo>
                      <a:pt x="3" y="443"/>
                    </a:lnTo>
                    <a:lnTo>
                      <a:pt x="0" y="564"/>
                    </a:lnTo>
                    <a:lnTo>
                      <a:pt x="6" y="686"/>
                    </a:lnTo>
                    <a:lnTo>
                      <a:pt x="18" y="791"/>
                    </a:lnTo>
                    <a:lnTo>
                      <a:pt x="48" y="893"/>
                    </a:lnTo>
                    <a:lnTo>
                      <a:pt x="86" y="990"/>
                    </a:lnTo>
                    <a:lnTo>
                      <a:pt x="111" y="1045"/>
                    </a:lnTo>
                    <a:lnTo>
                      <a:pt x="95" y="1208"/>
                    </a:lnTo>
                    <a:lnTo>
                      <a:pt x="95" y="1221"/>
                    </a:lnTo>
                    <a:lnTo>
                      <a:pt x="145" y="1221"/>
                    </a:lnTo>
                    <a:lnTo>
                      <a:pt x="145" y="2394"/>
                    </a:lnTo>
                    <a:lnTo>
                      <a:pt x="272" y="2427"/>
                    </a:lnTo>
                    <a:lnTo>
                      <a:pt x="349" y="2401"/>
                    </a:lnTo>
                    <a:lnTo>
                      <a:pt x="357" y="2156"/>
                    </a:lnTo>
                    <a:lnTo>
                      <a:pt x="366" y="2039"/>
                    </a:lnTo>
                    <a:lnTo>
                      <a:pt x="391" y="1812"/>
                    </a:lnTo>
                    <a:lnTo>
                      <a:pt x="399" y="2006"/>
                    </a:lnTo>
                    <a:lnTo>
                      <a:pt x="399" y="2029"/>
                    </a:lnTo>
                    <a:lnTo>
                      <a:pt x="399" y="2174"/>
                    </a:lnTo>
                    <a:lnTo>
                      <a:pt x="391" y="2317"/>
                    </a:lnTo>
                    <a:lnTo>
                      <a:pt x="645" y="2317"/>
                    </a:lnTo>
                    <a:lnTo>
                      <a:pt x="629" y="2275"/>
                    </a:lnTo>
                    <a:lnTo>
                      <a:pt x="637" y="2233"/>
                    </a:lnTo>
                    <a:lnTo>
                      <a:pt x="637" y="1812"/>
                    </a:lnTo>
                    <a:lnTo>
                      <a:pt x="662" y="1323"/>
                    </a:lnTo>
                    <a:close/>
                  </a:path>
                </a:pathLst>
              </a:custGeom>
              <a:solidFill>
                <a:srgbClr val="0054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7342560" y="5009760"/>
                <a:ext cx="37440" cy="84240"/>
              </a:xfrm>
              <a:custGeom>
                <a:avLst/>
                <a:gdLst/>
                <a:ahLst/>
                <a:rect l="l" t="t" r="r" b="b"/>
                <a:pathLst>
                  <a:path w="94" h="220">
                    <a:moveTo>
                      <a:pt x="94" y="220"/>
                    </a:moveTo>
                    <a:lnTo>
                      <a:pt x="83" y="216"/>
                    </a:lnTo>
                    <a:lnTo>
                      <a:pt x="61" y="204"/>
                    </a:lnTo>
                    <a:lnTo>
                      <a:pt x="43" y="184"/>
                    </a:lnTo>
                    <a:lnTo>
                      <a:pt x="35" y="16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7336440" y="4687200"/>
                <a:ext cx="16200" cy="148680"/>
              </a:xfrm>
              <a:custGeom>
                <a:avLst/>
                <a:gdLst/>
                <a:ahLst/>
                <a:rect l="l" t="t" r="r" b="b"/>
                <a:pathLst>
                  <a:path w="42" h="389">
                    <a:moveTo>
                      <a:pt x="7" y="389"/>
                    </a:moveTo>
                    <a:lnTo>
                      <a:pt x="42" y="127"/>
                    </a:lnTo>
                    <a:lnTo>
                      <a:pt x="16" y="103"/>
                    </a:lnTo>
                    <a:lnTo>
                      <a:pt x="42" y="8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7154280" y="4729320"/>
                <a:ext cx="92880" cy="360000"/>
              </a:xfrm>
              <a:custGeom>
                <a:avLst/>
                <a:gdLst/>
                <a:ahLst/>
                <a:rect l="l" t="t" r="r" b="b"/>
                <a:pathLst>
                  <a:path w="238" h="939">
                    <a:moveTo>
                      <a:pt x="68" y="0"/>
                    </a:moveTo>
                    <a:lnTo>
                      <a:pt x="87" y="43"/>
                    </a:lnTo>
                    <a:lnTo>
                      <a:pt x="98" y="92"/>
                    </a:lnTo>
                    <a:lnTo>
                      <a:pt x="101" y="141"/>
                    </a:lnTo>
                    <a:lnTo>
                      <a:pt x="114" y="207"/>
                    </a:lnTo>
                    <a:lnTo>
                      <a:pt x="137" y="359"/>
                    </a:lnTo>
                    <a:lnTo>
                      <a:pt x="152" y="513"/>
                    </a:lnTo>
                    <a:lnTo>
                      <a:pt x="238" y="893"/>
                    </a:lnTo>
                    <a:lnTo>
                      <a:pt x="187" y="917"/>
                    </a:lnTo>
                    <a:lnTo>
                      <a:pt x="133" y="935"/>
                    </a:lnTo>
                    <a:lnTo>
                      <a:pt x="74" y="939"/>
                    </a:lnTo>
                    <a:lnTo>
                      <a:pt x="20" y="848"/>
                    </a:lnTo>
                    <a:lnTo>
                      <a:pt x="0" y="8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7213680" y="4660920"/>
                <a:ext cx="128880" cy="197640"/>
              </a:xfrm>
              <a:custGeom>
                <a:avLst/>
                <a:gdLst/>
                <a:ahLst/>
                <a:rect l="l" t="t" r="r" b="b"/>
                <a:pathLst>
                  <a:path w="331" h="515">
                    <a:moveTo>
                      <a:pt x="331" y="515"/>
                    </a:moveTo>
                    <a:lnTo>
                      <a:pt x="282" y="480"/>
                    </a:lnTo>
                    <a:lnTo>
                      <a:pt x="221" y="429"/>
                    </a:lnTo>
                    <a:lnTo>
                      <a:pt x="167" y="372"/>
                    </a:lnTo>
                    <a:lnTo>
                      <a:pt x="118" y="308"/>
                    </a:lnTo>
                    <a:lnTo>
                      <a:pt x="77" y="240"/>
                    </a:lnTo>
                    <a:lnTo>
                      <a:pt x="103" y="196"/>
                    </a:lnTo>
                    <a:lnTo>
                      <a:pt x="44" y="188"/>
                    </a:lnTo>
                    <a:lnTo>
                      <a:pt x="30" y="165"/>
                    </a:lnTo>
                    <a:lnTo>
                      <a:pt x="13" y="111"/>
                    </a:lnTo>
                    <a:lnTo>
                      <a:pt x="3" y="5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7167600" y="4829760"/>
                <a:ext cx="177120" cy="277560"/>
              </a:xfrm>
              <a:custGeom>
                <a:avLst/>
                <a:gdLst/>
                <a:ahLst/>
                <a:rect l="l" t="t" r="r" b="b"/>
                <a:pathLst>
                  <a:path w="453" h="725">
                    <a:moveTo>
                      <a:pt x="430" y="0"/>
                    </a:moveTo>
                    <a:lnTo>
                      <a:pt x="450" y="78"/>
                    </a:lnTo>
                    <a:lnTo>
                      <a:pt x="453" y="217"/>
                    </a:lnTo>
                    <a:lnTo>
                      <a:pt x="449" y="356"/>
                    </a:lnTo>
                    <a:lnTo>
                      <a:pt x="437" y="495"/>
                    </a:lnTo>
                    <a:lnTo>
                      <a:pt x="415" y="633"/>
                    </a:lnTo>
                    <a:lnTo>
                      <a:pt x="402" y="660"/>
                    </a:lnTo>
                    <a:lnTo>
                      <a:pt x="381" y="686"/>
                    </a:lnTo>
                    <a:lnTo>
                      <a:pt x="353" y="706"/>
                    </a:lnTo>
                    <a:lnTo>
                      <a:pt x="323" y="719"/>
                    </a:lnTo>
                    <a:lnTo>
                      <a:pt x="288" y="725"/>
                    </a:lnTo>
                    <a:lnTo>
                      <a:pt x="0" y="7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7197120" y="5078160"/>
                <a:ext cx="85680" cy="65160"/>
              </a:xfrm>
              <a:custGeom>
                <a:avLst/>
                <a:gdLst/>
                <a:ahLst/>
                <a:rect l="l" t="t" r="r" b="b"/>
                <a:pathLst>
                  <a:path w="220" h="169">
                    <a:moveTo>
                      <a:pt x="0" y="42"/>
                    </a:moveTo>
                    <a:lnTo>
                      <a:pt x="7" y="75"/>
                    </a:lnTo>
                    <a:lnTo>
                      <a:pt x="17" y="109"/>
                    </a:lnTo>
                    <a:lnTo>
                      <a:pt x="27" y="133"/>
                    </a:lnTo>
                    <a:lnTo>
                      <a:pt x="42" y="158"/>
                    </a:lnTo>
                    <a:lnTo>
                      <a:pt x="52" y="166"/>
                    </a:lnTo>
                    <a:lnTo>
                      <a:pt x="62" y="168"/>
                    </a:lnTo>
                    <a:lnTo>
                      <a:pt x="72" y="166"/>
                    </a:lnTo>
                    <a:lnTo>
                      <a:pt x="80" y="162"/>
                    </a:lnTo>
                    <a:lnTo>
                      <a:pt x="94" y="169"/>
                    </a:lnTo>
                    <a:lnTo>
                      <a:pt x="115" y="169"/>
                    </a:lnTo>
                    <a:lnTo>
                      <a:pt x="128" y="165"/>
                    </a:lnTo>
                    <a:lnTo>
                      <a:pt x="136" y="159"/>
                    </a:lnTo>
                    <a:lnTo>
                      <a:pt x="154" y="159"/>
                    </a:lnTo>
                    <a:lnTo>
                      <a:pt x="173" y="152"/>
                    </a:lnTo>
                    <a:lnTo>
                      <a:pt x="220" y="117"/>
                    </a:lnTo>
                    <a:lnTo>
                      <a:pt x="220" y="109"/>
                    </a:lnTo>
                    <a:lnTo>
                      <a:pt x="206" y="67"/>
                    </a:lnTo>
                    <a:lnTo>
                      <a:pt x="190" y="43"/>
                    </a:lnTo>
                    <a:lnTo>
                      <a:pt x="170" y="25"/>
                    </a:lnTo>
                    <a:lnTo>
                      <a:pt x="149" y="14"/>
                    </a:lnTo>
                    <a:lnTo>
                      <a:pt x="120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7187040" y="5072760"/>
                <a:ext cx="60120" cy="24480"/>
              </a:xfrm>
              <a:custGeom>
                <a:avLst/>
                <a:gdLst/>
                <a:ahLst/>
                <a:rect l="l" t="t" r="r" b="b"/>
                <a:pathLst>
                  <a:path w="154" h="65">
                    <a:moveTo>
                      <a:pt x="49" y="41"/>
                    </a:moveTo>
                    <a:lnTo>
                      <a:pt x="103" y="23"/>
                    </a:lnTo>
                    <a:lnTo>
                      <a:pt x="149" y="0"/>
                    </a:lnTo>
                    <a:lnTo>
                      <a:pt x="154" y="15"/>
                    </a:lnTo>
                    <a:lnTo>
                      <a:pt x="126" y="29"/>
                    </a:lnTo>
                    <a:lnTo>
                      <a:pt x="68" y="51"/>
                    </a:lnTo>
                    <a:lnTo>
                      <a:pt x="10" y="65"/>
                    </a:lnTo>
                    <a:lnTo>
                      <a:pt x="0" y="45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7264440" y="5511240"/>
                <a:ext cx="910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7167600" y="5540760"/>
                <a:ext cx="80280" cy="12240"/>
              </a:xfrm>
              <a:custGeom>
                <a:avLst/>
                <a:gdLst/>
                <a:ahLst/>
                <a:rect l="l" t="t" r="r" b="b"/>
                <a:pathLst>
                  <a:path w="205" h="33">
                    <a:moveTo>
                      <a:pt x="0" y="0"/>
                    </a:moveTo>
                    <a:lnTo>
                      <a:pt x="127" y="33"/>
                    </a:lnTo>
                    <a:lnTo>
                      <a:pt x="205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086600" y="5106600"/>
                <a:ext cx="302760" cy="224640"/>
              </a:xfrm>
              <a:custGeom>
                <a:avLst/>
                <a:gdLst/>
                <a:ahLst/>
                <a:rect l="l" t="t" r="r" b="b"/>
                <a:pathLst>
                  <a:path w="775" h="585">
                    <a:moveTo>
                      <a:pt x="33" y="103"/>
                    </a:moveTo>
                    <a:lnTo>
                      <a:pt x="0" y="136"/>
                    </a:lnTo>
                    <a:lnTo>
                      <a:pt x="0" y="550"/>
                    </a:lnTo>
                    <a:lnTo>
                      <a:pt x="33" y="583"/>
                    </a:lnTo>
                    <a:lnTo>
                      <a:pt x="717" y="585"/>
                    </a:lnTo>
                    <a:lnTo>
                      <a:pt x="775" y="548"/>
                    </a:lnTo>
                    <a:lnTo>
                      <a:pt x="775" y="143"/>
                    </a:lnTo>
                    <a:lnTo>
                      <a:pt x="715" y="103"/>
                    </a:lnTo>
                    <a:lnTo>
                      <a:pt x="531" y="103"/>
                    </a:lnTo>
                    <a:lnTo>
                      <a:pt x="527" y="87"/>
                    </a:lnTo>
                    <a:lnTo>
                      <a:pt x="521" y="71"/>
                    </a:lnTo>
                    <a:lnTo>
                      <a:pt x="511" y="55"/>
                    </a:lnTo>
                    <a:lnTo>
                      <a:pt x="502" y="45"/>
                    </a:lnTo>
                    <a:lnTo>
                      <a:pt x="482" y="40"/>
                    </a:lnTo>
                    <a:lnTo>
                      <a:pt x="464" y="30"/>
                    </a:lnTo>
                    <a:lnTo>
                      <a:pt x="451" y="16"/>
                    </a:lnTo>
                    <a:lnTo>
                      <a:pt x="440" y="0"/>
                    </a:lnTo>
                    <a:lnTo>
                      <a:pt x="444" y="43"/>
                    </a:lnTo>
                    <a:lnTo>
                      <a:pt x="454" y="48"/>
                    </a:lnTo>
                    <a:lnTo>
                      <a:pt x="466" y="56"/>
                    </a:lnTo>
                    <a:lnTo>
                      <a:pt x="474" y="63"/>
                    </a:lnTo>
                    <a:lnTo>
                      <a:pt x="485" y="76"/>
                    </a:lnTo>
                    <a:lnTo>
                      <a:pt x="490" y="90"/>
                    </a:lnTo>
                    <a:lnTo>
                      <a:pt x="495" y="103"/>
                    </a:lnTo>
                    <a:lnTo>
                      <a:pt x="300" y="103"/>
                    </a:lnTo>
                    <a:lnTo>
                      <a:pt x="300" y="92"/>
                    </a:lnTo>
                    <a:lnTo>
                      <a:pt x="303" y="81"/>
                    </a:lnTo>
                    <a:lnTo>
                      <a:pt x="306" y="71"/>
                    </a:lnTo>
                    <a:lnTo>
                      <a:pt x="312" y="61"/>
                    </a:lnTo>
                    <a:lnTo>
                      <a:pt x="310" y="59"/>
                    </a:lnTo>
                    <a:lnTo>
                      <a:pt x="300" y="35"/>
                    </a:lnTo>
                    <a:lnTo>
                      <a:pt x="297" y="23"/>
                    </a:lnTo>
                    <a:lnTo>
                      <a:pt x="289" y="33"/>
                    </a:lnTo>
                    <a:lnTo>
                      <a:pt x="280" y="45"/>
                    </a:lnTo>
                    <a:lnTo>
                      <a:pt x="274" y="59"/>
                    </a:lnTo>
                    <a:lnTo>
                      <a:pt x="268" y="72"/>
                    </a:lnTo>
                    <a:lnTo>
                      <a:pt x="266" y="85"/>
                    </a:lnTo>
                    <a:lnTo>
                      <a:pt x="266" y="94"/>
                    </a:lnTo>
                    <a:lnTo>
                      <a:pt x="264" y="103"/>
                    </a:lnTo>
                    <a:lnTo>
                      <a:pt x="261" y="103"/>
                    </a:lnTo>
                    <a:lnTo>
                      <a:pt x="33" y="103"/>
                    </a:lnTo>
                    <a:close/>
                  </a:path>
                </a:pathLst>
              </a:custGeom>
              <a:solidFill>
                <a:srgbClr val="b5b5b5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7365240" y="5146560"/>
                <a:ext cx="13680" cy="183960"/>
              </a:xfrm>
              <a:custGeom>
                <a:avLst/>
                <a:gdLst/>
                <a:ahLst/>
                <a:rect l="l" t="t" r="r" b="b"/>
                <a:pathLst>
                  <a:path w="35" h="480">
                    <a:moveTo>
                      <a:pt x="1" y="0"/>
                    </a:moveTo>
                    <a:lnTo>
                      <a:pt x="35" y="31"/>
                    </a:lnTo>
                    <a:lnTo>
                      <a:pt x="35" y="447"/>
                    </a:lnTo>
                    <a:lnTo>
                      <a:pt x="0" y="4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7099560" y="5157000"/>
                <a:ext cx="265320" cy="163800"/>
              </a:xfrm>
              <a:custGeom>
                <a:avLst/>
                <a:gdLst/>
                <a:ahLst/>
                <a:rect l="l" t="t" r="r" b="b"/>
                <a:pathLst>
                  <a:path w="679" h="430">
                    <a:moveTo>
                      <a:pt x="29" y="0"/>
                    </a:moveTo>
                    <a:lnTo>
                      <a:pt x="0" y="28"/>
                    </a:lnTo>
                    <a:lnTo>
                      <a:pt x="0" y="405"/>
                    </a:lnTo>
                    <a:lnTo>
                      <a:pt x="25" y="430"/>
                    </a:lnTo>
                    <a:lnTo>
                      <a:pt x="655" y="430"/>
                    </a:lnTo>
                    <a:lnTo>
                      <a:pt x="679" y="404"/>
                    </a:lnTo>
                    <a:lnTo>
                      <a:pt x="679" y="23"/>
                    </a:lnTo>
                    <a:lnTo>
                      <a:pt x="658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2121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flipH="1" flipV="1">
                <a:off x="7241760" y="5129280"/>
                <a:ext cx="1008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 flipH="1" flipV="1">
                <a:off x="7230600" y="5132160"/>
                <a:ext cx="10800" cy="9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 flipH="1" flipV="1">
                <a:off x="7220160" y="5132880"/>
                <a:ext cx="6120" cy="68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7331400" y="4556880"/>
                <a:ext cx="20160" cy="468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29" y="0"/>
                    </a:moveTo>
                    <a:lnTo>
                      <a:pt x="52" y="0"/>
                    </a:lnTo>
                    <a:lnTo>
                      <a:pt x="49" y="5"/>
                    </a:lnTo>
                    <a:lnTo>
                      <a:pt x="32" y="5"/>
                    </a:lnTo>
                    <a:lnTo>
                      <a:pt x="0" y="1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7329960" y="4569120"/>
                <a:ext cx="14040" cy="432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7" y="0"/>
                    </a:moveTo>
                    <a:lnTo>
                      <a:pt x="0" y="5"/>
                    </a:lnTo>
                    <a:lnTo>
                      <a:pt x="34" y="12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7213680" y="4495680"/>
                <a:ext cx="134280" cy="127080"/>
              </a:xfrm>
              <a:custGeom>
                <a:avLst/>
                <a:gdLst/>
                <a:ahLst/>
                <a:rect l="l" t="t" r="r" b="b"/>
                <a:pathLst>
                  <a:path w="344" h="331">
                    <a:moveTo>
                      <a:pt x="62" y="305"/>
                    </a:moveTo>
                    <a:lnTo>
                      <a:pt x="49" y="285"/>
                    </a:lnTo>
                    <a:lnTo>
                      <a:pt x="17" y="243"/>
                    </a:lnTo>
                    <a:lnTo>
                      <a:pt x="6" y="205"/>
                    </a:lnTo>
                    <a:lnTo>
                      <a:pt x="0" y="168"/>
                    </a:lnTo>
                    <a:lnTo>
                      <a:pt x="6" y="130"/>
                    </a:lnTo>
                    <a:lnTo>
                      <a:pt x="36" y="72"/>
                    </a:lnTo>
                    <a:lnTo>
                      <a:pt x="49" y="56"/>
                    </a:lnTo>
                    <a:lnTo>
                      <a:pt x="75" y="32"/>
                    </a:lnTo>
                    <a:lnTo>
                      <a:pt x="109" y="10"/>
                    </a:lnTo>
                    <a:lnTo>
                      <a:pt x="147" y="3"/>
                    </a:lnTo>
                    <a:lnTo>
                      <a:pt x="183" y="0"/>
                    </a:lnTo>
                    <a:lnTo>
                      <a:pt x="222" y="3"/>
                    </a:lnTo>
                    <a:lnTo>
                      <a:pt x="247" y="4"/>
                    </a:lnTo>
                    <a:lnTo>
                      <a:pt x="287" y="11"/>
                    </a:lnTo>
                    <a:lnTo>
                      <a:pt x="309" y="19"/>
                    </a:lnTo>
                    <a:lnTo>
                      <a:pt x="326" y="32"/>
                    </a:lnTo>
                    <a:lnTo>
                      <a:pt x="340" y="50"/>
                    </a:lnTo>
                    <a:lnTo>
                      <a:pt x="344" y="74"/>
                    </a:lnTo>
                    <a:lnTo>
                      <a:pt x="340" y="95"/>
                    </a:lnTo>
                    <a:lnTo>
                      <a:pt x="340" y="95"/>
                    </a:lnTo>
                    <a:lnTo>
                      <a:pt x="297" y="82"/>
                    </a:lnTo>
                    <a:lnTo>
                      <a:pt x="254" y="76"/>
                    </a:lnTo>
                    <a:lnTo>
                      <a:pt x="213" y="79"/>
                    </a:lnTo>
                    <a:lnTo>
                      <a:pt x="213" y="79"/>
                    </a:lnTo>
                    <a:lnTo>
                      <a:pt x="196" y="82"/>
                    </a:lnTo>
                    <a:lnTo>
                      <a:pt x="213" y="105"/>
                    </a:lnTo>
                    <a:lnTo>
                      <a:pt x="226" y="134"/>
                    </a:lnTo>
                    <a:lnTo>
                      <a:pt x="226" y="143"/>
                    </a:lnTo>
                    <a:lnTo>
                      <a:pt x="216" y="163"/>
                    </a:lnTo>
                    <a:lnTo>
                      <a:pt x="186" y="204"/>
                    </a:lnTo>
                    <a:lnTo>
                      <a:pt x="154" y="204"/>
                    </a:lnTo>
                    <a:lnTo>
                      <a:pt x="149" y="191"/>
                    </a:lnTo>
                    <a:lnTo>
                      <a:pt x="145" y="185"/>
                    </a:lnTo>
                    <a:lnTo>
                      <a:pt x="136" y="179"/>
                    </a:lnTo>
                    <a:lnTo>
                      <a:pt x="128" y="176"/>
                    </a:lnTo>
                    <a:lnTo>
                      <a:pt x="112" y="181"/>
                    </a:lnTo>
                    <a:lnTo>
                      <a:pt x="99" y="194"/>
                    </a:lnTo>
                    <a:lnTo>
                      <a:pt x="93" y="210"/>
                    </a:lnTo>
                    <a:lnTo>
                      <a:pt x="94" y="223"/>
                    </a:lnTo>
                    <a:lnTo>
                      <a:pt x="96" y="231"/>
                    </a:lnTo>
                    <a:lnTo>
                      <a:pt x="103" y="250"/>
                    </a:lnTo>
                    <a:lnTo>
                      <a:pt x="113" y="266"/>
                    </a:lnTo>
                    <a:lnTo>
                      <a:pt x="119" y="272"/>
                    </a:lnTo>
                    <a:lnTo>
                      <a:pt x="106" y="289"/>
                    </a:lnTo>
                    <a:lnTo>
                      <a:pt x="96" y="304"/>
                    </a:lnTo>
                    <a:lnTo>
                      <a:pt x="81" y="320"/>
                    </a:lnTo>
                    <a:lnTo>
                      <a:pt x="68" y="331"/>
                    </a:lnTo>
                    <a:lnTo>
                      <a:pt x="62" y="30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7259760" y="4597560"/>
                <a:ext cx="24840" cy="2376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6"/>
                    </a:moveTo>
                    <a:lnTo>
                      <a:pt x="11" y="10"/>
                    </a:lnTo>
                    <a:lnTo>
                      <a:pt x="21" y="9"/>
                    </a:lnTo>
                    <a:lnTo>
                      <a:pt x="27" y="6"/>
                    </a:lnTo>
                    <a:lnTo>
                      <a:pt x="34" y="0"/>
                    </a:lnTo>
                    <a:lnTo>
                      <a:pt x="45" y="32"/>
                    </a:lnTo>
                    <a:lnTo>
                      <a:pt x="63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7326000" y="490716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30" y="17"/>
                    </a:moveTo>
                    <a:lnTo>
                      <a:pt x="29" y="8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8" y="3"/>
                    </a:lnTo>
                    <a:lnTo>
                      <a:pt x="3" y="8"/>
                    </a:lnTo>
                    <a:lnTo>
                      <a:pt x="0" y="17"/>
                    </a:lnTo>
                    <a:lnTo>
                      <a:pt x="3" y="26"/>
                    </a:lnTo>
                    <a:lnTo>
                      <a:pt x="8" y="33"/>
                    </a:lnTo>
                    <a:lnTo>
                      <a:pt x="16" y="34"/>
                    </a:lnTo>
                    <a:lnTo>
                      <a:pt x="23" y="33"/>
                    </a:lnTo>
                    <a:lnTo>
                      <a:pt x="29" y="26"/>
                    </a:lnTo>
                    <a:lnTo>
                      <a:pt x="30" y="17"/>
                    </a:lnTo>
                    <a:lnTo>
                      <a:pt x="3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7383240" y="4973760"/>
                <a:ext cx="52200" cy="39960"/>
              </a:xfrm>
              <a:custGeom>
                <a:avLst/>
                <a:gdLst/>
                <a:ahLst/>
                <a:rect l="l" t="t" r="r" b="b"/>
                <a:pathLst>
                  <a:path w="135" h="105">
                    <a:moveTo>
                      <a:pt x="74" y="16"/>
                    </a:moveTo>
                    <a:lnTo>
                      <a:pt x="51" y="18"/>
                    </a:lnTo>
                    <a:lnTo>
                      <a:pt x="46" y="5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9" y="8"/>
                    </a:lnTo>
                    <a:lnTo>
                      <a:pt x="27" y="16"/>
                    </a:lnTo>
                    <a:lnTo>
                      <a:pt x="22" y="11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9" y="16"/>
                    </a:lnTo>
                    <a:lnTo>
                      <a:pt x="9" y="21"/>
                    </a:lnTo>
                    <a:lnTo>
                      <a:pt x="11" y="70"/>
                    </a:lnTo>
                    <a:lnTo>
                      <a:pt x="9" y="70"/>
                    </a:lnTo>
                    <a:lnTo>
                      <a:pt x="3" y="74"/>
                    </a:lnTo>
                    <a:lnTo>
                      <a:pt x="0" y="80"/>
                    </a:lnTo>
                    <a:lnTo>
                      <a:pt x="0" y="86"/>
                    </a:lnTo>
                    <a:lnTo>
                      <a:pt x="4" y="92"/>
                    </a:lnTo>
                    <a:lnTo>
                      <a:pt x="7" y="94"/>
                    </a:lnTo>
                    <a:lnTo>
                      <a:pt x="9" y="96"/>
                    </a:lnTo>
                    <a:lnTo>
                      <a:pt x="51" y="105"/>
                    </a:lnTo>
                    <a:lnTo>
                      <a:pt x="106" y="76"/>
                    </a:lnTo>
                    <a:lnTo>
                      <a:pt x="109" y="73"/>
                    </a:lnTo>
                    <a:lnTo>
                      <a:pt x="119" y="61"/>
                    </a:lnTo>
                    <a:lnTo>
                      <a:pt x="126" y="50"/>
                    </a:lnTo>
                    <a:lnTo>
                      <a:pt x="132" y="37"/>
                    </a:lnTo>
                    <a:lnTo>
                      <a:pt x="133" y="22"/>
                    </a:lnTo>
                    <a:lnTo>
                      <a:pt x="135" y="13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7402680" y="498024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23" y="0"/>
                    </a:moveTo>
                    <a:lnTo>
                      <a:pt x="48" y="16"/>
                    </a:lnTo>
                    <a:lnTo>
                      <a:pt x="13" y="3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7386120" y="4981680"/>
                <a:ext cx="5400" cy="1908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0"/>
                    </a:moveTo>
                    <a:lnTo>
                      <a:pt x="4" y="24"/>
                    </a:lnTo>
                    <a:lnTo>
                      <a:pt x="13" y="50"/>
                    </a:lnTo>
                    <a:lnTo>
                      <a:pt x="1" y="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7392600" y="5002200"/>
                <a:ext cx="1152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7394040" y="4980960"/>
                <a:ext cx="14760" cy="2376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0" y="0"/>
                    </a:moveTo>
                    <a:lnTo>
                      <a:pt x="4" y="16"/>
                    </a:lnTo>
                    <a:lnTo>
                      <a:pt x="14" y="45"/>
                    </a:lnTo>
                    <a:lnTo>
                      <a:pt x="38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 flipH="1">
                <a:off x="7338600" y="4603320"/>
                <a:ext cx="3600" cy="129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6" name=""/>
          <p:cNvSpPr/>
          <p:nvPr/>
        </p:nvSpPr>
        <p:spPr>
          <a:xfrm>
            <a:off x="304920" y="45720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 readers } == 1 writer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st reader entering &amp; last reader leav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wr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762120" y="1676520"/>
            <a:ext cx="1143000" cy="452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570" y="34333"/>
                </a:moveTo>
                <a:lnTo>
                  <a:pt x="23040" y="5457"/>
                </a:lnTo>
              </a:path>
              <a:path w="21600" h="21600">
                <a:moveTo>
                  <a:pt x="23040" y="0"/>
                </a:moveTo>
                <a:lnTo>
                  <a:pt x="23040" y="21600"/>
                </a:ln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952560" y="2286000"/>
            <a:ext cx="1295280" cy="45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26" y="30164"/>
                </a:moveTo>
                <a:lnTo>
                  <a:pt x="-1271" y="5457"/>
                </a:lnTo>
              </a:path>
              <a:path w="21600" h="21600">
                <a:moveTo>
                  <a:pt x="-1271" y="0"/>
                </a:moveTo>
                <a:lnTo>
                  <a:pt x="-1271" y="21600"/>
                </a:ln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4191120" y="1447920"/>
            <a:ext cx="4147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ritical Section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4191120" y="4191120"/>
            <a:ext cx="203652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2897" y="-6244"/>
                </a:moveTo>
                <a:lnTo>
                  <a:pt x="22408" y="4000"/>
                </a:lnTo>
              </a:path>
              <a:path w="21600" h="21600">
                <a:moveTo>
                  <a:pt x="22408" y="0"/>
                </a:moveTo>
                <a:lnTo>
                  <a:pt x="22408" y="21600"/>
                </a:ln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ve of Rea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4" dur="indefinite" restart="never" nodeType="tmRoot">
          <p:childTnLst>
            <p:seq>
              <p:cTn id="1765" dur="indefinite" nodeType="mainSeq">
                <p:childTnLst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0" dur="5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1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fill="hold">
                            <p:stCondLst>
                              <p:cond delay="500"/>
                            </p:stCondLst>
                            <p:childTnLst>
                              <p:par>
                                <p:cTn id="178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85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0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fill="hold">
                            <p:stCondLst>
                              <p:cond delay="500"/>
                            </p:stCondLst>
                            <p:childTnLst>
                              <p:par>
                                <p:cTn id="17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4" dur="5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9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fill="hold">
                            <p:stCondLst>
                              <p:cond delay="500"/>
                            </p:stCondLst>
                            <p:childTnLst>
                              <p:par>
                                <p:cTn id="18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8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2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6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7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3" fill="hold">
                            <p:stCondLst>
                              <p:cond delay="500"/>
                            </p:stCondLst>
                            <p:childTnLst>
                              <p:par>
                                <p:cTn id="18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0" dur="5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4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8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2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9" fill="hold">
                            <p:stCondLst>
                              <p:cond delay="500"/>
                            </p:stCondLst>
                            <p:childTnLst>
                              <p:par>
                                <p:cTn id="186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62" dur="5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7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ers / Wri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nt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ers preced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rs preced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ing a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3" name=""/>
          <p:cNvGrpSpPr/>
          <p:nvPr/>
        </p:nvGrpSpPr>
        <p:grpSpPr>
          <a:xfrm>
            <a:off x="4419720" y="2314440"/>
            <a:ext cx="3219120" cy="914400"/>
            <a:chOff x="4419720" y="2314440"/>
            <a:chExt cx="3219120" cy="914400"/>
          </a:xfrm>
        </p:grpSpPr>
        <p:sp>
          <p:nvSpPr>
            <p:cNvPr id="2024" name=""/>
            <p:cNvSpPr/>
            <p:nvPr/>
          </p:nvSpPr>
          <p:spPr>
            <a:xfrm>
              <a:off x="4419720" y="2314440"/>
              <a:ext cx="304560" cy="91440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5011920" y="2565720"/>
              <a:ext cx="262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Starvation Possible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8" dur="indefinite" restart="never" nodeType="tmRoot">
          <p:childTnLst>
            <p:seq>
              <p:cTn id="1869" dur="indefinite" nodeType="mainSeq">
                <p:childTnLst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4" dur="500"/>
                                        <p:tgtEl>
                                          <p:spTgt spid="2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9" dur="500"/>
                                        <p:tgtEl>
                                          <p:spTgt spid="20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4" dur="500"/>
                                        <p:tgtEl>
                                          <p:spTgt spid="20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9" dur="500"/>
                                        <p:tgtEl>
                                          <p:spTgt spid="20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2" dur="500"/>
                                        <p:tgtEl>
                                          <p:spTgt spid="20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97" dur="5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6" name=""/>
          <p:cNvGrpSpPr/>
          <p:nvPr/>
        </p:nvGrpSpPr>
        <p:grpSpPr>
          <a:xfrm>
            <a:off x="685800" y="2819520"/>
            <a:ext cx="3276720" cy="3200400"/>
            <a:chOff x="685800" y="2819520"/>
            <a:chExt cx="3276720" cy="3200400"/>
          </a:xfrm>
        </p:grpSpPr>
        <p:sp>
          <p:nvSpPr>
            <p:cNvPr id="2027" name=""/>
            <p:cNvSpPr/>
            <p:nvPr/>
          </p:nvSpPr>
          <p:spPr>
            <a:xfrm>
              <a:off x="685800" y="3139920"/>
              <a:ext cx="3276720" cy="288000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… 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Write 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85800" y="28195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e00"/>
                  </a:solidFill>
                  <a:latin typeface="Arial"/>
                </a:rPr>
                <a:t>Wri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9" name=""/>
          <p:cNvSpPr/>
          <p:nvPr/>
        </p:nvSpPr>
        <p:spPr>
          <a:xfrm>
            <a:off x="685800" y="1523880"/>
            <a:ext cx="7924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wrt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nt rcount = 0;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ers / Wri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1066680" y="3786120"/>
            <a:ext cx="18288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P (&amp; wr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1066680" y="4632480"/>
            <a:ext cx="18288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V (&amp; wr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3" name=""/>
          <p:cNvGrpSpPr/>
          <p:nvPr/>
        </p:nvGrpSpPr>
        <p:grpSpPr>
          <a:xfrm>
            <a:off x="4800600" y="1447920"/>
            <a:ext cx="3733560" cy="4571640"/>
            <a:chOff x="4800600" y="1447920"/>
            <a:chExt cx="3733560" cy="4571640"/>
          </a:xfrm>
        </p:grpSpPr>
        <p:sp>
          <p:nvSpPr>
            <p:cNvPr id="2034" name=""/>
            <p:cNvSpPr/>
            <p:nvPr/>
          </p:nvSpPr>
          <p:spPr>
            <a:xfrm>
              <a:off x="4800600" y="1806120"/>
              <a:ext cx="3733560" cy="42134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… 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Read 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4800600" y="1447920"/>
              <a:ext cx="147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e00"/>
                  </a:solidFill>
                  <a:latin typeface="Arial"/>
                </a:rPr>
                <a:t>R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6" name=""/>
          <p:cNvSpPr/>
          <p:nvPr/>
        </p:nvSpPr>
        <p:spPr>
          <a:xfrm>
            <a:off x="5181480" y="2641680"/>
            <a:ext cx="3276720" cy="7038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count++;</a:t>
            </a:r>
            <a:br>
              <a:rPr sz="2000"/>
            </a:b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if (rcount == 1) P (&amp; wr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5181480" y="4508640"/>
            <a:ext cx="3276720" cy="7038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count--;</a:t>
            </a:r>
            <a:br>
              <a:rPr sz="2000"/>
            </a:b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if (rcount == 0) V (&amp; wr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5181480" y="5189400"/>
            <a:ext cx="182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V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5181480" y="3348000"/>
            <a:ext cx="182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V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5181480" y="2243160"/>
            <a:ext cx="182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P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5181480" y="4098960"/>
            <a:ext cx="182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P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704880" y="2209680"/>
            <a:ext cx="3139920" cy="39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semaphore mutex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 txBox="1"/>
          <p:nvPr/>
        </p:nvSpPr>
        <p:spPr>
          <a:xfrm>
            <a:off x="5867280" y="1143000"/>
            <a:ext cx="285300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aders precedenc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8" dur="indefinite" restart="never" nodeType="tmRoot">
          <p:childTnLst>
            <p:seq>
              <p:cTn id="1899" dur="indefinite" nodeType="mainSeq">
                <p:childTnLst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4" dur="5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9" dur="5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4" dur="5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500"/>
                            </p:stCondLst>
                            <p:childTnLst>
                              <p:par>
                                <p:cTn id="19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8" dur="500"/>
                                        <p:tgtEl>
                                          <p:spTgt spid="2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3" dur="5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8" dur="500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3" dur="5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8" dur="5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3" dur="5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5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500"/>
                            </p:stCondLst>
                            <p:childTnLst>
                              <p:par>
                                <p:cTn id="19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8" dur="5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4" dur="5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5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6" fill="hold">
                            <p:stCondLst>
                              <p:cond delay="500"/>
                            </p:stCondLst>
                            <p:childTnLst>
                              <p:par>
                                <p:cTn id="19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9" dur="5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5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5" dur="500" fill="hold"/>
                                        <p:tgtEl>
                                          <p:spTgt spid="2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500" fill="hold"/>
                                        <p:tgtEl>
                                          <p:spTgt spid="2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4" name="" descr=""/>
          <p:cNvPicPr/>
          <p:nvPr/>
        </p:nvPicPr>
        <p:blipFill>
          <a:blip r:embed="rId1"/>
          <a:stretch/>
        </p:blipFill>
        <p:spPr>
          <a:xfrm>
            <a:off x="6400800" y="2133720"/>
            <a:ext cx="938160" cy="2178000"/>
          </a:xfrm>
          <a:prstGeom prst="rect">
            <a:avLst/>
          </a:prstGeom>
          <a:ln w="0">
            <a:noFill/>
          </a:ln>
        </p:spPr>
      </p:pic>
      <p:pic>
        <p:nvPicPr>
          <p:cNvPr id="2045" name="" descr=""/>
          <p:cNvPicPr/>
          <p:nvPr/>
        </p:nvPicPr>
        <p:blipFill>
          <a:blip r:embed="rId2"/>
          <a:stretch/>
        </p:blipFill>
        <p:spPr>
          <a:xfrm>
            <a:off x="3429000" y="1600200"/>
            <a:ext cx="892080" cy="2071800"/>
          </a:xfrm>
          <a:prstGeom prst="rect">
            <a:avLst/>
          </a:prstGeom>
          <a:ln w="0">
            <a:noFill/>
          </a:ln>
        </p:spPr>
      </p:pic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ning Philosoph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7" name=""/>
          <p:cNvGrpSpPr/>
          <p:nvPr/>
        </p:nvGrpSpPr>
        <p:grpSpPr>
          <a:xfrm>
            <a:off x="3048120" y="2743200"/>
            <a:ext cx="3809880" cy="2590560"/>
            <a:chOff x="3048120" y="2743200"/>
            <a:chExt cx="3809880" cy="2590560"/>
          </a:xfrm>
        </p:grpSpPr>
        <p:grpSp>
          <p:nvGrpSpPr>
            <p:cNvPr id="2048" name=""/>
            <p:cNvGrpSpPr/>
            <p:nvPr/>
          </p:nvGrpSpPr>
          <p:grpSpPr>
            <a:xfrm>
              <a:off x="4572000" y="4038480"/>
              <a:ext cx="838080" cy="1295280"/>
              <a:chOff x="4572000" y="4038480"/>
              <a:chExt cx="838080" cy="1295280"/>
            </a:xfrm>
          </p:grpSpPr>
          <p:sp>
            <p:nvSpPr>
              <p:cNvPr id="2049" name=""/>
              <p:cNvSpPr/>
              <p:nvPr/>
            </p:nvSpPr>
            <p:spPr>
              <a:xfrm>
                <a:off x="4572000" y="4876560"/>
                <a:ext cx="838080" cy="457200"/>
              </a:xfrm>
              <a:prstGeom prst="ellipse">
                <a:avLst/>
              </a:prstGeom>
              <a:solidFill>
                <a:srgbClr val="cc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4762440" y="4038480"/>
                <a:ext cx="457200" cy="1143000"/>
              </a:xfrm>
              <a:prstGeom prst="can">
                <a:avLst>
                  <a:gd name="adj" fmla="val 25000"/>
                </a:avLst>
              </a:prstGeom>
              <a:solidFill>
                <a:srgbClr val="cc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1" name=""/>
            <p:cNvSpPr/>
            <p:nvPr/>
          </p:nvSpPr>
          <p:spPr>
            <a:xfrm>
              <a:off x="3048120" y="2743200"/>
              <a:ext cx="3809880" cy="1828800"/>
            </a:xfrm>
            <a:prstGeom prst="ellipse">
              <a:avLst/>
            </a:prstGeom>
            <a:solidFill>
              <a:srgbClr val="cc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2" name=""/>
          <p:cNvGrpSpPr/>
          <p:nvPr/>
        </p:nvGrpSpPr>
        <p:grpSpPr>
          <a:xfrm>
            <a:off x="3906720" y="2971080"/>
            <a:ext cx="698400" cy="606600"/>
            <a:chOff x="3906720" y="2971080"/>
            <a:chExt cx="698400" cy="606600"/>
          </a:xfrm>
        </p:grpSpPr>
        <p:sp>
          <p:nvSpPr>
            <p:cNvPr id="2053" name=""/>
            <p:cNvSpPr/>
            <p:nvPr/>
          </p:nvSpPr>
          <p:spPr>
            <a:xfrm rot="1574400">
              <a:off x="4296960" y="3362400"/>
              <a:ext cx="183600" cy="135720"/>
            </a:xfrm>
            <a:custGeom>
              <a:avLst/>
              <a:gdLst/>
              <a:ahLst/>
              <a:rect l="l" t="t" r="r" b="b"/>
              <a:pathLst>
                <a:path w="429" h="268">
                  <a:moveTo>
                    <a:pt x="413" y="99"/>
                  </a:moveTo>
                  <a:lnTo>
                    <a:pt x="422" y="103"/>
                  </a:lnTo>
                  <a:lnTo>
                    <a:pt x="429" y="147"/>
                  </a:lnTo>
                  <a:lnTo>
                    <a:pt x="413" y="190"/>
                  </a:lnTo>
                  <a:lnTo>
                    <a:pt x="389" y="229"/>
                  </a:lnTo>
                  <a:lnTo>
                    <a:pt x="371" y="265"/>
                  </a:lnTo>
                  <a:lnTo>
                    <a:pt x="329" y="265"/>
                  </a:lnTo>
                  <a:lnTo>
                    <a:pt x="284" y="268"/>
                  </a:lnTo>
                  <a:lnTo>
                    <a:pt x="231" y="264"/>
                  </a:lnTo>
                  <a:lnTo>
                    <a:pt x="167" y="241"/>
                  </a:lnTo>
                  <a:lnTo>
                    <a:pt x="104" y="205"/>
                  </a:lnTo>
                  <a:lnTo>
                    <a:pt x="65" y="173"/>
                  </a:lnTo>
                  <a:lnTo>
                    <a:pt x="39" y="131"/>
                  </a:lnTo>
                  <a:lnTo>
                    <a:pt x="11" y="63"/>
                  </a:lnTo>
                  <a:lnTo>
                    <a:pt x="0" y="30"/>
                  </a:lnTo>
                  <a:lnTo>
                    <a:pt x="10" y="9"/>
                  </a:lnTo>
                  <a:lnTo>
                    <a:pt x="42" y="0"/>
                  </a:lnTo>
                  <a:lnTo>
                    <a:pt x="76" y="13"/>
                  </a:lnTo>
                  <a:lnTo>
                    <a:pt x="121" y="38"/>
                  </a:lnTo>
                  <a:lnTo>
                    <a:pt x="181" y="64"/>
                  </a:lnTo>
                  <a:lnTo>
                    <a:pt x="268" y="87"/>
                  </a:lnTo>
                  <a:lnTo>
                    <a:pt x="327" y="87"/>
                  </a:lnTo>
                  <a:lnTo>
                    <a:pt x="364" y="90"/>
                  </a:lnTo>
                  <a:lnTo>
                    <a:pt x="413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 rot="1574400">
              <a:off x="4431240" y="3483360"/>
              <a:ext cx="123840" cy="7020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2"/>
                  </a:lnTo>
                  <a:lnTo>
                    <a:pt x="182" y="109"/>
                  </a:lnTo>
                  <a:lnTo>
                    <a:pt x="228" y="77"/>
                  </a:lnTo>
                  <a:lnTo>
                    <a:pt x="261" y="41"/>
                  </a:lnTo>
                  <a:lnTo>
                    <a:pt x="281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 rot="1574400">
              <a:off x="4458240" y="3448440"/>
              <a:ext cx="123840" cy="7020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2"/>
                  </a:lnTo>
                  <a:lnTo>
                    <a:pt x="181" y="109"/>
                  </a:lnTo>
                  <a:lnTo>
                    <a:pt x="228" y="77"/>
                  </a:lnTo>
                  <a:lnTo>
                    <a:pt x="261" y="41"/>
                  </a:lnTo>
                  <a:lnTo>
                    <a:pt x="281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 rot="1574400">
              <a:off x="4471560" y="3410280"/>
              <a:ext cx="123840" cy="7056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1"/>
                  </a:lnTo>
                  <a:lnTo>
                    <a:pt x="182" y="108"/>
                  </a:lnTo>
                  <a:lnTo>
                    <a:pt x="228" y="77"/>
                  </a:lnTo>
                  <a:lnTo>
                    <a:pt x="261" y="40"/>
                  </a:lnTo>
                  <a:lnTo>
                    <a:pt x="282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 rot="1574400">
              <a:off x="3924000" y="3068280"/>
              <a:ext cx="484920" cy="191160"/>
            </a:xfrm>
            <a:custGeom>
              <a:avLst/>
              <a:gdLst/>
              <a:ahLst/>
              <a:rect l="l" t="t" r="r" b="b"/>
              <a:pathLst>
                <a:path w="1138" h="381">
                  <a:moveTo>
                    <a:pt x="1138" y="381"/>
                  </a:moveTo>
                  <a:lnTo>
                    <a:pt x="1122" y="360"/>
                  </a:lnTo>
                  <a:lnTo>
                    <a:pt x="1076" y="308"/>
                  </a:lnTo>
                  <a:lnTo>
                    <a:pt x="1043" y="276"/>
                  </a:lnTo>
                  <a:lnTo>
                    <a:pt x="1002" y="244"/>
                  </a:lnTo>
                  <a:lnTo>
                    <a:pt x="956" y="212"/>
                  </a:lnTo>
                  <a:lnTo>
                    <a:pt x="904" y="184"/>
                  </a:lnTo>
                  <a:lnTo>
                    <a:pt x="785" y="135"/>
                  </a:lnTo>
                  <a:lnTo>
                    <a:pt x="694" y="108"/>
                  </a:lnTo>
                  <a:lnTo>
                    <a:pt x="619" y="95"/>
                  </a:lnTo>
                  <a:lnTo>
                    <a:pt x="552" y="94"/>
                  </a:lnTo>
                  <a:lnTo>
                    <a:pt x="484" y="95"/>
                  </a:lnTo>
                  <a:lnTo>
                    <a:pt x="404" y="93"/>
                  </a:lnTo>
                  <a:lnTo>
                    <a:pt x="303" y="82"/>
                  </a:lnTo>
                  <a:lnTo>
                    <a:pt x="172" y="55"/>
                  </a:lnTo>
                  <a:lnTo>
                    <a:pt x="105" y="36"/>
                  </a:lnTo>
                  <a:lnTo>
                    <a:pt x="50" y="19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8" name=""/>
          <p:cNvGrpSpPr/>
          <p:nvPr/>
        </p:nvGrpSpPr>
        <p:grpSpPr>
          <a:xfrm>
            <a:off x="3559680" y="3680640"/>
            <a:ext cx="798840" cy="444600"/>
            <a:chOff x="3559680" y="3680640"/>
            <a:chExt cx="798840" cy="444600"/>
          </a:xfrm>
        </p:grpSpPr>
        <p:sp>
          <p:nvSpPr>
            <p:cNvPr id="2059" name=""/>
            <p:cNvSpPr/>
            <p:nvPr/>
          </p:nvSpPr>
          <p:spPr>
            <a:xfrm rot="19632600">
              <a:off x="4066200" y="3791880"/>
              <a:ext cx="183600" cy="135720"/>
            </a:xfrm>
            <a:custGeom>
              <a:avLst/>
              <a:gdLst/>
              <a:ahLst/>
              <a:rect l="l" t="t" r="r" b="b"/>
              <a:pathLst>
                <a:path w="429" h="268">
                  <a:moveTo>
                    <a:pt x="413" y="99"/>
                  </a:moveTo>
                  <a:lnTo>
                    <a:pt x="422" y="103"/>
                  </a:lnTo>
                  <a:lnTo>
                    <a:pt x="429" y="147"/>
                  </a:lnTo>
                  <a:lnTo>
                    <a:pt x="413" y="190"/>
                  </a:lnTo>
                  <a:lnTo>
                    <a:pt x="389" y="229"/>
                  </a:lnTo>
                  <a:lnTo>
                    <a:pt x="371" y="265"/>
                  </a:lnTo>
                  <a:lnTo>
                    <a:pt x="329" y="265"/>
                  </a:lnTo>
                  <a:lnTo>
                    <a:pt x="284" y="268"/>
                  </a:lnTo>
                  <a:lnTo>
                    <a:pt x="231" y="264"/>
                  </a:lnTo>
                  <a:lnTo>
                    <a:pt x="167" y="241"/>
                  </a:lnTo>
                  <a:lnTo>
                    <a:pt x="104" y="205"/>
                  </a:lnTo>
                  <a:lnTo>
                    <a:pt x="65" y="173"/>
                  </a:lnTo>
                  <a:lnTo>
                    <a:pt x="39" y="131"/>
                  </a:lnTo>
                  <a:lnTo>
                    <a:pt x="11" y="63"/>
                  </a:lnTo>
                  <a:lnTo>
                    <a:pt x="0" y="30"/>
                  </a:lnTo>
                  <a:lnTo>
                    <a:pt x="10" y="9"/>
                  </a:lnTo>
                  <a:lnTo>
                    <a:pt x="42" y="0"/>
                  </a:lnTo>
                  <a:lnTo>
                    <a:pt x="76" y="13"/>
                  </a:lnTo>
                  <a:lnTo>
                    <a:pt x="121" y="38"/>
                  </a:lnTo>
                  <a:lnTo>
                    <a:pt x="181" y="64"/>
                  </a:lnTo>
                  <a:lnTo>
                    <a:pt x="268" y="87"/>
                  </a:lnTo>
                  <a:lnTo>
                    <a:pt x="327" y="87"/>
                  </a:lnTo>
                  <a:lnTo>
                    <a:pt x="364" y="90"/>
                  </a:lnTo>
                  <a:lnTo>
                    <a:pt x="413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 rot="19632600">
              <a:off x="4225320" y="3781080"/>
              <a:ext cx="123840" cy="7020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2"/>
                  </a:lnTo>
                  <a:lnTo>
                    <a:pt x="182" y="109"/>
                  </a:lnTo>
                  <a:lnTo>
                    <a:pt x="228" y="77"/>
                  </a:lnTo>
                  <a:lnTo>
                    <a:pt x="261" y="41"/>
                  </a:lnTo>
                  <a:lnTo>
                    <a:pt x="281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 rot="19632600">
              <a:off x="4209480" y="3740400"/>
              <a:ext cx="123840" cy="7020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2"/>
                  </a:lnTo>
                  <a:lnTo>
                    <a:pt x="181" y="109"/>
                  </a:lnTo>
                  <a:lnTo>
                    <a:pt x="228" y="77"/>
                  </a:lnTo>
                  <a:lnTo>
                    <a:pt x="261" y="41"/>
                  </a:lnTo>
                  <a:lnTo>
                    <a:pt x="281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 rot="19632600">
              <a:off x="4183560" y="3708360"/>
              <a:ext cx="123840" cy="7056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1"/>
                  </a:lnTo>
                  <a:lnTo>
                    <a:pt x="182" y="108"/>
                  </a:lnTo>
                  <a:lnTo>
                    <a:pt x="228" y="77"/>
                  </a:lnTo>
                  <a:lnTo>
                    <a:pt x="261" y="40"/>
                  </a:lnTo>
                  <a:lnTo>
                    <a:pt x="282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rot="19632600">
              <a:off x="3572640" y="3817800"/>
              <a:ext cx="484920" cy="191160"/>
            </a:xfrm>
            <a:custGeom>
              <a:avLst/>
              <a:gdLst/>
              <a:ahLst/>
              <a:rect l="l" t="t" r="r" b="b"/>
              <a:pathLst>
                <a:path w="1138" h="381">
                  <a:moveTo>
                    <a:pt x="1138" y="381"/>
                  </a:moveTo>
                  <a:lnTo>
                    <a:pt x="1122" y="360"/>
                  </a:lnTo>
                  <a:lnTo>
                    <a:pt x="1076" y="308"/>
                  </a:lnTo>
                  <a:lnTo>
                    <a:pt x="1043" y="276"/>
                  </a:lnTo>
                  <a:lnTo>
                    <a:pt x="1002" y="244"/>
                  </a:lnTo>
                  <a:lnTo>
                    <a:pt x="956" y="212"/>
                  </a:lnTo>
                  <a:lnTo>
                    <a:pt x="904" y="184"/>
                  </a:lnTo>
                  <a:lnTo>
                    <a:pt x="785" y="135"/>
                  </a:lnTo>
                  <a:lnTo>
                    <a:pt x="694" y="108"/>
                  </a:lnTo>
                  <a:lnTo>
                    <a:pt x="619" y="95"/>
                  </a:lnTo>
                  <a:lnTo>
                    <a:pt x="552" y="94"/>
                  </a:lnTo>
                  <a:lnTo>
                    <a:pt x="484" y="95"/>
                  </a:lnTo>
                  <a:lnTo>
                    <a:pt x="404" y="93"/>
                  </a:lnTo>
                  <a:lnTo>
                    <a:pt x="303" y="82"/>
                  </a:lnTo>
                  <a:lnTo>
                    <a:pt x="172" y="55"/>
                  </a:lnTo>
                  <a:lnTo>
                    <a:pt x="105" y="36"/>
                  </a:lnTo>
                  <a:lnTo>
                    <a:pt x="50" y="19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4" name=""/>
          <p:cNvGrpSpPr/>
          <p:nvPr/>
        </p:nvGrpSpPr>
        <p:grpSpPr>
          <a:xfrm>
            <a:off x="4842000" y="3889440"/>
            <a:ext cx="363960" cy="682560"/>
            <a:chOff x="4842000" y="3889440"/>
            <a:chExt cx="363960" cy="682560"/>
          </a:xfrm>
        </p:grpSpPr>
        <p:sp>
          <p:nvSpPr>
            <p:cNvPr id="2065" name=""/>
            <p:cNvSpPr/>
            <p:nvPr/>
          </p:nvSpPr>
          <p:spPr>
            <a:xfrm rot="16507800">
              <a:off x="5039640" y="4007520"/>
              <a:ext cx="164880" cy="135720"/>
            </a:xfrm>
            <a:custGeom>
              <a:avLst/>
              <a:gdLst/>
              <a:ahLst/>
              <a:rect l="l" t="t" r="r" b="b"/>
              <a:pathLst>
                <a:path w="429" h="268">
                  <a:moveTo>
                    <a:pt x="413" y="99"/>
                  </a:moveTo>
                  <a:lnTo>
                    <a:pt x="422" y="103"/>
                  </a:lnTo>
                  <a:lnTo>
                    <a:pt x="429" y="147"/>
                  </a:lnTo>
                  <a:lnTo>
                    <a:pt x="413" y="190"/>
                  </a:lnTo>
                  <a:lnTo>
                    <a:pt x="389" y="229"/>
                  </a:lnTo>
                  <a:lnTo>
                    <a:pt x="371" y="265"/>
                  </a:lnTo>
                  <a:lnTo>
                    <a:pt x="329" y="265"/>
                  </a:lnTo>
                  <a:lnTo>
                    <a:pt x="284" y="268"/>
                  </a:lnTo>
                  <a:lnTo>
                    <a:pt x="231" y="264"/>
                  </a:lnTo>
                  <a:lnTo>
                    <a:pt x="167" y="241"/>
                  </a:lnTo>
                  <a:lnTo>
                    <a:pt x="104" y="205"/>
                  </a:lnTo>
                  <a:lnTo>
                    <a:pt x="65" y="173"/>
                  </a:lnTo>
                  <a:lnTo>
                    <a:pt x="39" y="131"/>
                  </a:lnTo>
                  <a:lnTo>
                    <a:pt x="11" y="63"/>
                  </a:lnTo>
                  <a:lnTo>
                    <a:pt x="0" y="30"/>
                  </a:lnTo>
                  <a:lnTo>
                    <a:pt x="10" y="9"/>
                  </a:lnTo>
                  <a:lnTo>
                    <a:pt x="42" y="0"/>
                  </a:lnTo>
                  <a:lnTo>
                    <a:pt x="76" y="13"/>
                  </a:lnTo>
                  <a:lnTo>
                    <a:pt x="121" y="38"/>
                  </a:lnTo>
                  <a:lnTo>
                    <a:pt x="181" y="64"/>
                  </a:lnTo>
                  <a:lnTo>
                    <a:pt x="268" y="87"/>
                  </a:lnTo>
                  <a:lnTo>
                    <a:pt x="327" y="87"/>
                  </a:lnTo>
                  <a:lnTo>
                    <a:pt x="364" y="90"/>
                  </a:lnTo>
                  <a:lnTo>
                    <a:pt x="413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 rot="16507800">
              <a:off x="5110200" y="3924720"/>
              <a:ext cx="111240" cy="7020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2"/>
                  </a:lnTo>
                  <a:lnTo>
                    <a:pt x="182" y="109"/>
                  </a:lnTo>
                  <a:lnTo>
                    <a:pt x="228" y="77"/>
                  </a:lnTo>
                  <a:lnTo>
                    <a:pt x="261" y="41"/>
                  </a:lnTo>
                  <a:lnTo>
                    <a:pt x="281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 rot="16507800">
              <a:off x="5067720" y="3912840"/>
              <a:ext cx="111240" cy="7020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2"/>
                  </a:lnTo>
                  <a:lnTo>
                    <a:pt x="181" y="109"/>
                  </a:lnTo>
                  <a:lnTo>
                    <a:pt x="228" y="77"/>
                  </a:lnTo>
                  <a:lnTo>
                    <a:pt x="261" y="41"/>
                  </a:lnTo>
                  <a:lnTo>
                    <a:pt x="281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 rot="16507800">
              <a:off x="5027400" y="3912840"/>
              <a:ext cx="111240" cy="7056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1"/>
                  </a:lnTo>
                  <a:lnTo>
                    <a:pt x="182" y="108"/>
                  </a:lnTo>
                  <a:lnTo>
                    <a:pt x="228" y="77"/>
                  </a:lnTo>
                  <a:lnTo>
                    <a:pt x="261" y="40"/>
                  </a:lnTo>
                  <a:lnTo>
                    <a:pt x="282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 rot="16507800">
              <a:off x="4738680" y="4250880"/>
              <a:ext cx="435600" cy="191160"/>
            </a:xfrm>
            <a:custGeom>
              <a:avLst/>
              <a:gdLst/>
              <a:ahLst/>
              <a:rect l="l" t="t" r="r" b="b"/>
              <a:pathLst>
                <a:path w="1138" h="381">
                  <a:moveTo>
                    <a:pt x="1138" y="381"/>
                  </a:moveTo>
                  <a:lnTo>
                    <a:pt x="1122" y="360"/>
                  </a:lnTo>
                  <a:lnTo>
                    <a:pt x="1076" y="308"/>
                  </a:lnTo>
                  <a:lnTo>
                    <a:pt x="1043" y="276"/>
                  </a:lnTo>
                  <a:lnTo>
                    <a:pt x="1002" y="244"/>
                  </a:lnTo>
                  <a:lnTo>
                    <a:pt x="956" y="212"/>
                  </a:lnTo>
                  <a:lnTo>
                    <a:pt x="904" y="184"/>
                  </a:lnTo>
                  <a:lnTo>
                    <a:pt x="785" y="135"/>
                  </a:lnTo>
                  <a:lnTo>
                    <a:pt x="694" y="108"/>
                  </a:lnTo>
                  <a:lnTo>
                    <a:pt x="619" y="95"/>
                  </a:lnTo>
                  <a:lnTo>
                    <a:pt x="552" y="94"/>
                  </a:lnTo>
                  <a:lnTo>
                    <a:pt x="484" y="95"/>
                  </a:lnTo>
                  <a:lnTo>
                    <a:pt x="404" y="93"/>
                  </a:lnTo>
                  <a:lnTo>
                    <a:pt x="303" y="82"/>
                  </a:lnTo>
                  <a:lnTo>
                    <a:pt x="172" y="55"/>
                  </a:lnTo>
                  <a:lnTo>
                    <a:pt x="105" y="36"/>
                  </a:lnTo>
                  <a:lnTo>
                    <a:pt x="50" y="19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0" name=""/>
          <p:cNvGrpSpPr/>
          <p:nvPr/>
        </p:nvGrpSpPr>
        <p:grpSpPr>
          <a:xfrm>
            <a:off x="5782680" y="3515400"/>
            <a:ext cx="785160" cy="304200"/>
            <a:chOff x="5782680" y="3515400"/>
            <a:chExt cx="785160" cy="304200"/>
          </a:xfrm>
        </p:grpSpPr>
        <p:sp>
          <p:nvSpPr>
            <p:cNvPr id="2071" name=""/>
            <p:cNvSpPr/>
            <p:nvPr/>
          </p:nvSpPr>
          <p:spPr>
            <a:xfrm rot="10453200">
              <a:off x="5895360" y="3524040"/>
              <a:ext cx="183600" cy="135720"/>
            </a:xfrm>
            <a:custGeom>
              <a:avLst/>
              <a:gdLst/>
              <a:ahLst/>
              <a:rect l="l" t="t" r="r" b="b"/>
              <a:pathLst>
                <a:path w="429" h="268">
                  <a:moveTo>
                    <a:pt x="413" y="99"/>
                  </a:moveTo>
                  <a:lnTo>
                    <a:pt x="422" y="103"/>
                  </a:lnTo>
                  <a:lnTo>
                    <a:pt x="429" y="147"/>
                  </a:lnTo>
                  <a:lnTo>
                    <a:pt x="413" y="190"/>
                  </a:lnTo>
                  <a:lnTo>
                    <a:pt x="389" y="229"/>
                  </a:lnTo>
                  <a:lnTo>
                    <a:pt x="371" y="265"/>
                  </a:lnTo>
                  <a:lnTo>
                    <a:pt x="329" y="265"/>
                  </a:lnTo>
                  <a:lnTo>
                    <a:pt x="284" y="268"/>
                  </a:lnTo>
                  <a:lnTo>
                    <a:pt x="231" y="264"/>
                  </a:lnTo>
                  <a:lnTo>
                    <a:pt x="167" y="241"/>
                  </a:lnTo>
                  <a:lnTo>
                    <a:pt x="104" y="205"/>
                  </a:lnTo>
                  <a:lnTo>
                    <a:pt x="65" y="173"/>
                  </a:lnTo>
                  <a:lnTo>
                    <a:pt x="39" y="131"/>
                  </a:lnTo>
                  <a:lnTo>
                    <a:pt x="11" y="63"/>
                  </a:lnTo>
                  <a:lnTo>
                    <a:pt x="0" y="30"/>
                  </a:lnTo>
                  <a:lnTo>
                    <a:pt x="10" y="9"/>
                  </a:lnTo>
                  <a:lnTo>
                    <a:pt x="42" y="0"/>
                  </a:lnTo>
                  <a:lnTo>
                    <a:pt x="76" y="13"/>
                  </a:lnTo>
                  <a:lnTo>
                    <a:pt x="121" y="38"/>
                  </a:lnTo>
                  <a:lnTo>
                    <a:pt x="181" y="64"/>
                  </a:lnTo>
                  <a:lnTo>
                    <a:pt x="268" y="87"/>
                  </a:lnTo>
                  <a:lnTo>
                    <a:pt x="327" y="87"/>
                  </a:lnTo>
                  <a:lnTo>
                    <a:pt x="364" y="90"/>
                  </a:lnTo>
                  <a:lnTo>
                    <a:pt x="413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 rot="10453200">
              <a:off x="5790240" y="3537360"/>
              <a:ext cx="123840" cy="7020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2"/>
                  </a:lnTo>
                  <a:lnTo>
                    <a:pt x="182" y="109"/>
                  </a:lnTo>
                  <a:lnTo>
                    <a:pt x="228" y="77"/>
                  </a:lnTo>
                  <a:lnTo>
                    <a:pt x="261" y="41"/>
                  </a:lnTo>
                  <a:lnTo>
                    <a:pt x="281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rot="10453200">
              <a:off x="5785920" y="3580920"/>
              <a:ext cx="123840" cy="7020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2"/>
                  </a:lnTo>
                  <a:lnTo>
                    <a:pt x="181" y="109"/>
                  </a:lnTo>
                  <a:lnTo>
                    <a:pt x="228" y="77"/>
                  </a:lnTo>
                  <a:lnTo>
                    <a:pt x="261" y="41"/>
                  </a:lnTo>
                  <a:lnTo>
                    <a:pt x="281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rot="10453200">
              <a:off x="5794200" y="3620520"/>
              <a:ext cx="123840" cy="7056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1"/>
                  </a:lnTo>
                  <a:lnTo>
                    <a:pt x="182" y="108"/>
                  </a:lnTo>
                  <a:lnTo>
                    <a:pt x="228" y="77"/>
                  </a:lnTo>
                  <a:lnTo>
                    <a:pt x="261" y="40"/>
                  </a:lnTo>
                  <a:lnTo>
                    <a:pt x="282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 rot="10453200">
              <a:off x="6074280" y="3604320"/>
              <a:ext cx="484920" cy="191160"/>
            </a:xfrm>
            <a:custGeom>
              <a:avLst/>
              <a:gdLst/>
              <a:ahLst/>
              <a:rect l="l" t="t" r="r" b="b"/>
              <a:pathLst>
                <a:path w="1138" h="381">
                  <a:moveTo>
                    <a:pt x="1138" y="381"/>
                  </a:moveTo>
                  <a:lnTo>
                    <a:pt x="1122" y="360"/>
                  </a:lnTo>
                  <a:lnTo>
                    <a:pt x="1076" y="308"/>
                  </a:lnTo>
                  <a:lnTo>
                    <a:pt x="1043" y="276"/>
                  </a:lnTo>
                  <a:lnTo>
                    <a:pt x="1002" y="244"/>
                  </a:lnTo>
                  <a:lnTo>
                    <a:pt x="956" y="212"/>
                  </a:lnTo>
                  <a:lnTo>
                    <a:pt x="904" y="184"/>
                  </a:lnTo>
                  <a:lnTo>
                    <a:pt x="785" y="135"/>
                  </a:lnTo>
                  <a:lnTo>
                    <a:pt x="694" y="108"/>
                  </a:lnTo>
                  <a:lnTo>
                    <a:pt x="619" y="95"/>
                  </a:lnTo>
                  <a:lnTo>
                    <a:pt x="552" y="94"/>
                  </a:lnTo>
                  <a:lnTo>
                    <a:pt x="484" y="95"/>
                  </a:lnTo>
                  <a:lnTo>
                    <a:pt x="404" y="93"/>
                  </a:lnTo>
                  <a:lnTo>
                    <a:pt x="303" y="82"/>
                  </a:lnTo>
                  <a:lnTo>
                    <a:pt x="172" y="55"/>
                  </a:lnTo>
                  <a:lnTo>
                    <a:pt x="105" y="36"/>
                  </a:lnTo>
                  <a:lnTo>
                    <a:pt x="50" y="19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6" name=""/>
          <p:cNvGrpSpPr/>
          <p:nvPr/>
        </p:nvGrpSpPr>
        <p:grpSpPr>
          <a:xfrm>
            <a:off x="5184360" y="2859120"/>
            <a:ext cx="608400" cy="504720"/>
            <a:chOff x="5184360" y="2859120"/>
            <a:chExt cx="608400" cy="504720"/>
          </a:xfrm>
        </p:grpSpPr>
        <p:sp>
          <p:nvSpPr>
            <p:cNvPr id="2077" name=""/>
            <p:cNvSpPr/>
            <p:nvPr/>
          </p:nvSpPr>
          <p:spPr>
            <a:xfrm rot="7655400">
              <a:off x="5259600" y="3117600"/>
              <a:ext cx="146520" cy="135720"/>
            </a:xfrm>
            <a:custGeom>
              <a:avLst/>
              <a:gdLst/>
              <a:ahLst/>
              <a:rect l="l" t="t" r="r" b="b"/>
              <a:pathLst>
                <a:path w="429" h="268">
                  <a:moveTo>
                    <a:pt x="413" y="99"/>
                  </a:moveTo>
                  <a:lnTo>
                    <a:pt x="422" y="103"/>
                  </a:lnTo>
                  <a:lnTo>
                    <a:pt x="429" y="147"/>
                  </a:lnTo>
                  <a:lnTo>
                    <a:pt x="413" y="190"/>
                  </a:lnTo>
                  <a:lnTo>
                    <a:pt x="389" y="229"/>
                  </a:lnTo>
                  <a:lnTo>
                    <a:pt x="371" y="265"/>
                  </a:lnTo>
                  <a:lnTo>
                    <a:pt x="329" y="265"/>
                  </a:lnTo>
                  <a:lnTo>
                    <a:pt x="284" y="268"/>
                  </a:lnTo>
                  <a:lnTo>
                    <a:pt x="231" y="264"/>
                  </a:lnTo>
                  <a:lnTo>
                    <a:pt x="167" y="241"/>
                  </a:lnTo>
                  <a:lnTo>
                    <a:pt x="104" y="205"/>
                  </a:lnTo>
                  <a:lnTo>
                    <a:pt x="65" y="173"/>
                  </a:lnTo>
                  <a:lnTo>
                    <a:pt x="39" y="131"/>
                  </a:lnTo>
                  <a:lnTo>
                    <a:pt x="11" y="63"/>
                  </a:lnTo>
                  <a:lnTo>
                    <a:pt x="0" y="30"/>
                  </a:lnTo>
                  <a:lnTo>
                    <a:pt x="10" y="9"/>
                  </a:lnTo>
                  <a:lnTo>
                    <a:pt x="42" y="0"/>
                  </a:lnTo>
                  <a:lnTo>
                    <a:pt x="76" y="13"/>
                  </a:lnTo>
                  <a:lnTo>
                    <a:pt x="121" y="38"/>
                  </a:lnTo>
                  <a:lnTo>
                    <a:pt x="181" y="64"/>
                  </a:lnTo>
                  <a:lnTo>
                    <a:pt x="268" y="87"/>
                  </a:lnTo>
                  <a:lnTo>
                    <a:pt x="327" y="87"/>
                  </a:lnTo>
                  <a:lnTo>
                    <a:pt x="364" y="90"/>
                  </a:lnTo>
                  <a:lnTo>
                    <a:pt x="413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rot="7655400">
              <a:off x="5192640" y="3214080"/>
              <a:ext cx="99000" cy="7020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2"/>
                  </a:lnTo>
                  <a:lnTo>
                    <a:pt x="182" y="109"/>
                  </a:lnTo>
                  <a:lnTo>
                    <a:pt x="228" y="77"/>
                  </a:lnTo>
                  <a:lnTo>
                    <a:pt x="261" y="41"/>
                  </a:lnTo>
                  <a:lnTo>
                    <a:pt x="281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rot="7655400">
              <a:off x="5222520" y="3245760"/>
              <a:ext cx="99000" cy="7020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2"/>
                  </a:lnTo>
                  <a:lnTo>
                    <a:pt x="181" y="109"/>
                  </a:lnTo>
                  <a:lnTo>
                    <a:pt x="228" y="77"/>
                  </a:lnTo>
                  <a:lnTo>
                    <a:pt x="261" y="41"/>
                  </a:lnTo>
                  <a:lnTo>
                    <a:pt x="281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rot="7655400">
              <a:off x="5256360" y="3267720"/>
              <a:ext cx="99000" cy="7056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1"/>
                  </a:lnTo>
                  <a:lnTo>
                    <a:pt x="182" y="108"/>
                  </a:lnTo>
                  <a:lnTo>
                    <a:pt x="228" y="77"/>
                  </a:lnTo>
                  <a:lnTo>
                    <a:pt x="261" y="40"/>
                  </a:lnTo>
                  <a:lnTo>
                    <a:pt x="282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 rot="7655400">
              <a:off x="5405400" y="2975040"/>
              <a:ext cx="387000" cy="191160"/>
            </a:xfrm>
            <a:custGeom>
              <a:avLst/>
              <a:gdLst/>
              <a:ahLst/>
              <a:rect l="l" t="t" r="r" b="b"/>
              <a:pathLst>
                <a:path w="1138" h="381">
                  <a:moveTo>
                    <a:pt x="1138" y="381"/>
                  </a:moveTo>
                  <a:lnTo>
                    <a:pt x="1122" y="360"/>
                  </a:lnTo>
                  <a:lnTo>
                    <a:pt x="1076" y="308"/>
                  </a:lnTo>
                  <a:lnTo>
                    <a:pt x="1043" y="276"/>
                  </a:lnTo>
                  <a:lnTo>
                    <a:pt x="1002" y="244"/>
                  </a:lnTo>
                  <a:lnTo>
                    <a:pt x="956" y="212"/>
                  </a:lnTo>
                  <a:lnTo>
                    <a:pt x="904" y="184"/>
                  </a:lnTo>
                  <a:lnTo>
                    <a:pt x="785" y="135"/>
                  </a:lnTo>
                  <a:lnTo>
                    <a:pt x="694" y="108"/>
                  </a:lnTo>
                  <a:lnTo>
                    <a:pt x="619" y="95"/>
                  </a:lnTo>
                  <a:lnTo>
                    <a:pt x="552" y="94"/>
                  </a:lnTo>
                  <a:lnTo>
                    <a:pt x="484" y="95"/>
                  </a:lnTo>
                  <a:lnTo>
                    <a:pt x="404" y="93"/>
                  </a:lnTo>
                  <a:lnTo>
                    <a:pt x="303" y="82"/>
                  </a:lnTo>
                  <a:lnTo>
                    <a:pt x="172" y="55"/>
                  </a:lnTo>
                  <a:lnTo>
                    <a:pt x="105" y="36"/>
                  </a:lnTo>
                  <a:lnTo>
                    <a:pt x="50" y="19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2" name=""/>
          <p:cNvGrpSpPr/>
          <p:nvPr/>
        </p:nvGrpSpPr>
        <p:grpSpPr>
          <a:xfrm>
            <a:off x="4038480" y="3962520"/>
            <a:ext cx="762120" cy="536400"/>
            <a:chOff x="4038480" y="3962520"/>
            <a:chExt cx="762120" cy="536400"/>
          </a:xfrm>
        </p:grpSpPr>
        <p:sp>
          <p:nvSpPr>
            <p:cNvPr id="2083" name=""/>
            <p:cNvSpPr/>
            <p:nvPr/>
          </p:nvSpPr>
          <p:spPr>
            <a:xfrm>
              <a:off x="4038480" y="3962520"/>
              <a:ext cx="762120" cy="5364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107240" y="4010760"/>
              <a:ext cx="623520" cy="437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5" name=""/>
          <p:cNvGrpSpPr/>
          <p:nvPr/>
        </p:nvGrpSpPr>
        <p:grpSpPr>
          <a:xfrm>
            <a:off x="5334120" y="3886200"/>
            <a:ext cx="761760" cy="536400"/>
            <a:chOff x="5334120" y="3886200"/>
            <a:chExt cx="761760" cy="536400"/>
          </a:xfrm>
        </p:grpSpPr>
        <p:sp>
          <p:nvSpPr>
            <p:cNvPr id="2086" name=""/>
            <p:cNvSpPr/>
            <p:nvPr/>
          </p:nvSpPr>
          <p:spPr>
            <a:xfrm>
              <a:off x="5334120" y="3886200"/>
              <a:ext cx="761760" cy="5364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402880" y="3934440"/>
              <a:ext cx="623160" cy="437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8" name=""/>
          <p:cNvGrpSpPr/>
          <p:nvPr/>
        </p:nvGrpSpPr>
        <p:grpSpPr>
          <a:xfrm>
            <a:off x="3352680" y="3200400"/>
            <a:ext cx="762120" cy="536400"/>
            <a:chOff x="3352680" y="3200400"/>
            <a:chExt cx="762120" cy="536400"/>
          </a:xfrm>
        </p:grpSpPr>
        <p:sp>
          <p:nvSpPr>
            <p:cNvPr id="2089" name=""/>
            <p:cNvSpPr/>
            <p:nvPr/>
          </p:nvSpPr>
          <p:spPr>
            <a:xfrm>
              <a:off x="3352680" y="3200400"/>
              <a:ext cx="762120" cy="5364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421440" y="3248640"/>
              <a:ext cx="623520" cy="437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1" name=""/>
          <p:cNvGrpSpPr/>
          <p:nvPr/>
        </p:nvGrpSpPr>
        <p:grpSpPr>
          <a:xfrm>
            <a:off x="4495680" y="2816280"/>
            <a:ext cx="685800" cy="536400"/>
            <a:chOff x="4495680" y="2816280"/>
            <a:chExt cx="685800" cy="536400"/>
          </a:xfrm>
        </p:grpSpPr>
        <p:sp>
          <p:nvSpPr>
            <p:cNvPr id="2092" name=""/>
            <p:cNvSpPr/>
            <p:nvPr/>
          </p:nvSpPr>
          <p:spPr>
            <a:xfrm>
              <a:off x="4495680" y="2816280"/>
              <a:ext cx="685800" cy="5364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4557600" y="2864520"/>
              <a:ext cx="561240" cy="437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4" name=""/>
          <p:cNvGrpSpPr/>
          <p:nvPr/>
        </p:nvGrpSpPr>
        <p:grpSpPr>
          <a:xfrm>
            <a:off x="5715000" y="2971800"/>
            <a:ext cx="685800" cy="536400"/>
            <a:chOff x="5715000" y="2971800"/>
            <a:chExt cx="685800" cy="536400"/>
          </a:xfrm>
        </p:grpSpPr>
        <p:sp>
          <p:nvSpPr>
            <p:cNvPr id="2095" name=""/>
            <p:cNvSpPr/>
            <p:nvPr/>
          </p:nvSpPr>
          <p:spPr>
            <a:xfrm>
              <a:off x="5715000" y="2971800"/>
              <a:ext cx="685800" cy="5364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776920" y="3020040"/>
              <a:ext cx="561240" cy="437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97" name="" descr=""/>
          <p:cNvPicPr/>
          <p:nvPr/>
        </p:nvPicPr>
        <p:blipFill>
          <a:blip r:embed="rId3"/>
          <a:stretch/>
        </p:blipFill>
        <p:spPr>
          <a:xfrm>
            <a:off x="990720" y="2590920"/>
            <a:ext cx="892080" cy="2071440"/>
          </a:xfrm>
          <a:prstGeom prst="rect">
            <a:avLst/>
          </a:prstGeom>
          <a:ln w="0">
            <a:noFill/>
          </a:ln>
        </p:spPr>
      </p:pic>
      <p:pic>
        <p:nvPicPr>
          <p:cNvPr id="2098" name="" descr=""/>
          <p:cNvPicPr/>
          <p:nvPr/>
        </p:nvPicPr>
        <p:blipFill>
          <a:blip r:embed="rId4"/>
          <a:stretch/>
        </p:blipFill>
        <p:spPr>
          <a:xfrm>
            <a:off x="2133720" y="3962520"/>
            <a:ext cx="892080" cy="2071440"/>
          </a:xfrm>
          <a:prstGeom prst="rect">
            <a:avLst/>
          </a:prstGeom>
          <a:ln w="0">
            <a:noFill/>
          </a:ln>
        </p:spPr>
      </p:pic>
      <p:pic>
        <p:nvPicPr>
          <p:cNvPr id="2099" name="" descr=""/>
          <p:cNvPicPr/>
          <p:nvPr/>
        </p:nvPicPr>
        <p:blipFill>
          <a:blip r:embed="rId5"/>
          <a:stretch/>
        </p:blipFill>
        <p:spPr>
          <a:xfrm>
            <a:off x="7848720" y="3962520"/>
            <a:ext cx="938160" cy="2178000"/>
          </a:xfrm>
          <a:prstGeom prst="rect">
            <a:avLst/>
          </a:prstGeom>
          <a:ln w="0">
            <a:noFill/>
          </a:ln>
        </p:spPr>
      </p:pic>
      <p:grpSp>
        <p:nvGrpSpPr>
          <p:cNvPr id="2100" name=""/>
          <p:cNvGrpSpPr/>
          <p:nvPr/>
        </p:nvGrpSpPr>
        <p:grpSpPr>
          <a:xfrm>
            <a:off x="4525920" y="3261600"/>
            <a:ext cx="1036800" cy="472320"/>
            <a:chOff x="4525920" y="3261600"/>
            <a:chExt cx="1036800" cy="472320"/>
          </a:xfrm>
        </p:grpSpPr>
        <p:sp>
          <p:nvSpPr>
            <p:cNvPr id="2101" name=""/>
            <p:cNvSpPr/>
            <p:nvPr/>
          </p:nvSpPr>
          <p:spPr>
            <a:xfrm>
              <a:off x="4648320" y="3505320"/>
              <a:ext cx="914400" cy="228600"/>
            </a:xfrm>
            <a:prstGeom prst="can">
              <a:avLst>
                <a:gd name="adj" fmla="val 50000"/>
              </a:avLst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 flipV="1">
              <a:off x="4648320" y="3429000"/>
              <a:ext cx="884160" cy="187200"/>
            </a:xfrm>
            <a:custGeom>
              <a:avLst/>
              <a:gdLst/>
              <a:ahLst/>
              <a:rect l="l" t="t" r="r" b="b"/>
              <a:pathLst>
                <a:path w="976" h="328">
                  <a:moveTo>
                    <a:pt x="0" y="288"/>
                  </a:moveTo>
                  <a:cubicBezTo>
                    <a:pt x="0" y="308"/>
                    <a:pt x="0" y="328"/>
                    <a:pt x="48" y="288"/>
                  </a:cubicBezTo>
                  <a:cubicBezTo>
                    <a:pt x="96" y="248"/>
                    <a:pt x="208" y="56"/>
                    <a:pt x="288" y="48"/>
                  </a:cubicBezTo>
                  <a:cubicBezTo>
                    <a:pt x="368" y="40"/>
                    <a:pt x="424" y="216"/>
                    <a:pt x="528" y="240"/>
                  </a:cubicBezTo>
                  <a:cubicBezTo>
                    <a:pt x="632" y="264"/>
                    <a:pt x="848" y="216"/>
                    <a:pt x="912" y="192"/>
                  </a:cubicBezTo>
                  <a:cubicBezTo>
                    <a:pt x="976" y="168"/>
                    <a:pt x="936" y="112"/>
                    <a:pt x="912" y="96"/>
                  </a:cubicBezTo>
                  <a:cubicBezTo>
                    <a:pt x="888" y="80"/>
                    <a:pt x="792" y="112"/>
                    <a:pt x="768" y="96"/>
                  </a:cubicBezTo>
                  <a:cubicBezTo>
                    <a:pt x="744" y="80"/>
                    <a:pt x="756" y="40"/>
                    <a:pt x="768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rot="853200">
              <a:off x="4723920" y="3352680"/>
              <a:ext cx="771480" cy="227160"/>
            </a:xfrm>
            <a:custGeom>
              <a:avLst/>
              <a:gdLst/>
              <a:ahLst/>
              <a:rect l="l" t="t" r="r" b="b"/>
              <a:pathLst>
                <a:path w="976" h="328">
                  <a:moveTo>
                    <a:pt x="0" y="288"/>
                  </a:moveTo>
                  <a:cubicBezTo>
                    <a:pt x="0" y="308"/>
                    <a:pt x="0" y="328"/>
                    <a:pt x="48" y="288"/>
                  </a:cubicBezTo>
                  <a:cubicBezTo>
                    <a:pt x="96" y="248"/>
                    <a:pt x="208" y="56"/>
                    <a:pt x="288" y="48"/>
                  </a:cubicBezTo>
                  <a:cubicBezTo>
                    <a:pt x="368" y="40"/>
                    <a:pt x="424" y="216"/>
                    <a:pt x="528" y="240"/>
                  </a:cubicBezTo>
                  <a:cubicBezTo>
                    <a:pt x="632" y="264"/>
                    <a:pt x="848" y="216"/>
                    <a:pt x="912" y="192"/>
                  </a:cubicBezTo>
                  <a:cubicBezTo>
                    <a:pt x="976" y="168"/>
                    <a:pt x="936" y="112"/>
                    <a:pt x="912" y="96"/>
                  </a:cubicBezTo>
                  <a:cubicBezTo>
                    <a:pt x="888" y="80"/>
                    <a:pt x="792" y="112"/>
                    <a:pt x="768" y="96"/>
                  </a:cubicBezTo>
                  <a:cubicBezTo>
                    <a:pt x="744" y="80"/>
                    <a:pt x="756" y="40"/>
                    <a:pt x="768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rot="943800">
              <a:off x="4572000" y="3429000"/>
              <a:ext cx="930240" cy="152280"/>
            </a:xfrm>
            <a:custGeom>
              <a:avLst/>
              <a:gdLst/>
              <a:ahLst/>
              <a:rect l="l" t="t" r="r" b="b"/>
              <a:pathLst>
                <a:path w="976" h="328">
                  <a:moveTo>
                    <a:pt x="0" y="288"/>
                  </a:moveTo>
                  <a:cubicBezTo>
                    <a:pt x="0" y="308"/>
                    <a:pt x="0" y="328"/>
                    <a:pt x="48" y="288"/>
                  </a:cubicBezTo>
                  <a:cubicBezTo>
                    <a:pt x="96" y="248"/>
                    <a:pt x="208" y="56"/>
                    <a:pt x="288" y="48"/>
                  </a:cubicBezTo>
                  <a:cubicBezTo>
                    <a:pt x="368" y="40"/>
                    <a:pt x="424" y="216"/>
                    <a:pt x="528" y="240"/>
                  </a:cubicBezTo>
                  <a:cubicBezTo>
                    <a:pt x="632" y="264"/>
                    <a:pt x="848" y="216"/>
                    <a:pt x="912" y="192"/>
                  </a:cubicBezTo>
                  <a:cubicBezTo>
                    <a:pt x="976" y="168"/>
                    <a:pt x="936" y="112"/>
                    <a:pt x="912" y="96"/>
                  </a:cubicBezTo>
                  <a:cubicBezTo>
                    <a:pt x="888" y="80"/>
                    <a:pt x="792" y="112"/>
                    <a:pt x="768" y="96"/>
                  </a:cubicBezTo>
                  <a:cubicBezTo>
                    <a:pt x="744" y="80"/>
                    <a:pt x="756" y="40"/>
                    <a:pt x="768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4525920" y="3505320"/>
              <a:ext cx="808200" cy="110880"/>
            </a:xfrm>
            <a:custGeom>
              <a:avLst/>
              <a:gdLst/>
              <a:ahLst/>
              <a:rect l="l" t="t" r="r" b="b"/>
              <a:pathLst>
                <a:path w="976" h="328">
                  <a:moveTo>
                    <a:pt x="0" y="288"/>
                  </a:moveTo>
                  <a:cubicBezTo>
                    <a:pt x="0" y="308"/>
                    <a:pt x="0" y="328"/>
                    <a:pt x="48" y="288"/>
                  </a:cubicBezTo>
                  <a:cubicBezTo>
                    <a:pt x="96" y="248"/>
                    <a:pt x="208" y="56"/>
                    <a:pt x="288" y="48"/>
                  </a:cubicBezTo>
                  <a:cubicBezTo>
                    <a:pt x="368" y="40"/>
                    <a:pt x="424" y="216"/>
                    <a:pt x="528" y="240"/>
                  </a:cubicBezTo>
                  <a:cubicBezTo>
                    <a:pt x="632" y="264"/>
                    <a:pt x="848" y="216"/>
                    <a:pt x="912" y="192"/>
                  </a:cubicBezTo>
                  <a:cubicBezTo>
                    <a:pt x="976" y="168"/>
                    <a:pt x="936" y="112"/>
                    <a:pt x="912" y="96"/>
                  </a:cubicBezTo>
                  <a:cubicBezTo>
                    <a:pt x="888" y="80"/>
                    <a:pt x="792" y="112"/>
                    <a:pt x="768" y="96"/>
                  </a:cubicBezTo>
                  <a:cubicBezTo>
                    <a:pt x="744" y="80"/>
                    <a:pt x="756" y="40"/>
                    <a:pt x="768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6" name=""/>
          <p:cNvSpPr/>
          <p:nvPr/>
        </p:nvSpPr>
        <p:spPr>
          <a:xfrm>
            <a:off x="1676520" y="1676520"/>
            <a:ext cx="1523880" cy="761760"/>
          </a:xfrm>
          <a:prstGeom prst="cloudCallout">
            <a:avLst>
              <a:gd name="adj1" fmla="val -43125"/>
              <a:gd name="adj2" fmla="val 72083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Why is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6400800" y="1371600"/>
            <a:ext cx="1676520" cy="685800"/>
          </a:xfrm>
          <a:prstGeom prst="cloudCallout">
            <a:avLst>
              <a:gd name="adj1" fmla="val -34657"/>
              <a:gd name="adj2" fmla="val 7453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uppos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1523880" y="3200400"/>
            <a:ext cx="1676520" cy="609480"/>
          </a:xfrm>
          <a:prstGeom prst="cloudCallout">
            <a:avLst>
              <a:gd name="adj1" fmla="val 22347"/>
              <a:gd name="adj2" fmla="val 10599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A is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6781680" y="2971800"/>
            <a:ext cx="1676520" cy="685800"/>
          </a:xfrm>
          <a:prstGeom prst="cloudCallout">
            <a:avLst>
              <a:gd name="adj1" fmla="val 22347"/>
              <a:gd name="adj2" fmla="val 99768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What if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4419720" y="1295280"/>
            <a:ext cx="1676160" cy="685800"/>
          </a:xfrm>
          <a:prstGeom prst="cloudCallout">
            <a:avLst>
              <a:gd name="adj1" fmla="val -57671"/>
              <a:gd name="adj2" fmla="val 13888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How about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6400800" y="1371600"/>
            <a:ext cx="1676520" cy="685800"/>
          </a:xfrm>
          <a:prstGeom prst="cloudCallout">
            <a:avLst>
              <a:gd name="adj1" fmla="val -34657"/>
              <a:gd name="adj2" fmla="val 74537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UNGR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7" dur="indefinite" restart="never" nodeType="tmRoot">
          <p:childTnLst>
            <p:seq>
              <p:cTn id="1968" dur="indefinite" nodeType="mainSeq">
                <p:childTnLst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3" dur="500"/>
                                        <p:tgtEl>
                                          <p:spTgt spid="2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4" fill="hold">
                            <p:stCondLst>
                              <p:cond delay="500"/>
                            </p:stCondLst>
                            <p:childTnLst>
                              <p:par>
                                <p:cTn id="19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7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1" dur="500"/>
                                        <p:tgtEl>
                                          <p:spTgt spid="2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5" dur="500"/>
                                        <p:tgtEl>
                                          <p:spTgt spid="2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9" dur="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4" dur="500"/>
                                        <p:tgtEl>
                                          <p:spTgt spid="2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8" dur="500"/>
                                        <p:tgtEl>
                                          <p:spTgt spid="2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2" dur="500"/>
                                        <p:tgtEl>
                                          <p:spTgt spid="2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6" dur="500"/>
                                        <p:tgtEl>
                                          <p:spTgt spid="2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0" dur="500"/>
                                        <p:tgtEl>
                                          <p:spTgt spid="2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5" dur="500"/>
                                        <p:tgtEl>
                                          <p:spTgt spid="2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fill="hold">
                      <p:stCondLst>
                        <p:cond delay="indefinite"/>
                      </p:stCondLst>
                      <p:childTnLst>
                        <p:par>
                          <p:cTn id="2017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0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2" fill="hold">
                            <p:stCondLst>
                              <p:cond delay="500"/>
                            </p:stCondLst>
                            <p:childTnLst>
                              <p:par>
                                <p:cTn id="20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5" dur="500" fill="hold"/>
                                        <p:tgtEl>
                                          <p:spTgt spid="20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500" fill="hold"/>
                                        <p:tgtEl>
                                          <p:spTgt spid="20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0" dur="500" fill="hold"/>
                                        <p:tgtEl>
                                          <p:spTgt spid="2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1" dur="500" fill="hold"/>
                                        <p:tgtEl>
                                          <p:spTgt spid="2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0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6" dur="500" fill="hold"/>
                                        <p:tgtEl>
                                          <p:spTgt spid="20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500" fill="hold"/>
                                        <p:tgtEl>
                                          <p:spTgt spid="20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8" fill="hold">
                            <p:stCondLst>
                              <p:cond delay="500"/>
                            </p:stCondLst>
                            <p:childTnLst>
                              <p:par>
                                <p:cTn id="204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1" dur="500" fill="hold"/>
                                        <p:tgtEl>
                                          <p:spTgt spid="2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500" fill="hold"/>
                                        <p:tgtEl>
                                          <p:spTgt spid="2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500" fill="hold"/>
                                        <p:tgtEl>
                                          <p:spTgt spid="2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2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6" dur="500" fill="hold"/>
                                        <p:tgtEl>
                                          <p:spTgt spid="2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2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2" dur="500"/>
                                        <p:tgtEl>
                                          <p:spTgt spid="2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ning Philosoph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ilosoph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Thin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ung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wo forks (one at a time)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— if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E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atisfi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t down the two f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nchronization Problem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neighbours cannot eat at the sam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7" dur="indefinite" restart="never" nodeType="tmRoot">
          <p:childTnLst>
            <p:seq>
              <p:cTn id="2078" dur="indefinite" nodeType="mainSeq">
                <p:childTnLst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3" dur="500"/>
                                        <p:tgtEl>
                                          <p:spTgt spid="2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4" fill="hold">
                      <p:stCondLst>
                        <p:cond delay="indefinite"/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8" dur="500"/>
                                        <p:tgtEl>
                                          <p:spTgt spid="2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3" dur="500"/>
                                        <p:tgtEl>
                                          <p:spTgt spid="2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6" dur="500"/>
                                        <p:tgtEl>
                                          <p:spTgt spid="2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1" dur="500"/>
                                        <p:tgtEl>
                                          <p:spTgt spid="2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6" dur="500"/>
                                        <p:tgtEl>
                                          <p:spTgt spid="2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9" dur="500"/>
                                        <p:tgtEl>
                                          <p:spTgt spid="2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4" dur="500"/>
                                        <p:tgtEl>
                                          <p:spTgt spid="2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9" dur="500"/>
                                        <p:tgtEl>
                                          <p:spTgt spid="2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ning Philosoph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emaphore [ ] fork = { 1, 1, 1, 1, 1 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6" name=""/>
          <p:cNvGrpSpPr/>
          <p:nvPr/>
        </p:nvGrpSpPr>
        <p:grpSpPr>
          <a:xfrm>
            <a:off x="762120" y="2111400"/>
            <a:ext cx="3733560" cy="3755880"/>
            <a:chOff x="762120" y="2111400"/>
            <a:chExt cx="3733560" cy="3755880"/>
          </a:xfrm>
        </p:grpSpPr>
        <p:sp>
          <p:nvSpPr>
            <p:cNvPr id="2117" name=""/>
            <p:cNvSpPr/>
            <p:nvPr/>
          </p:nvSpPr>
          <p:spPr>
            <a:xfrm>
              <a:off x="762120" y="2568600"/>
              <a:ext cx="3733560" cy="329868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while (true)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Think(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2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Eat(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7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762120" y="211140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Arial"/>
                </a:rPr>
                <a:t>Philosopher </a:t>
              </a: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9" name=""/>
          <p:cNvSpPr/>
          <p:nvPr/>
        </p:nvSpPr>
        <p:spPr>
          <a:xfrm>
            <a:off x="1143000" y="34066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fork[ i 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143000" y="38149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fork[ (i+1) % 5 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1143000" y="45291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fork[ i 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1143000" y="49150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fork[ (i+1) % 5 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3" name=""/>
          <p:cNvGrpSpPr/>
          <p:nvPr/>
        </p:nvGrpSpPr>
        <p:grpSpPr>
          <a:xfrm>
            <a:off x="3886200" y="3429000"/>
            <a:ext cx="3962520" cy="762120"/>
            <a:chOff x="3886200" y="3429000"/>
            <a:chExt cx="3962520" cy="762120"/>
          </a:xfrm>
        </p:grpSpPr>
        <p:sp>
          <p:nvSpPr>
            <p:cNvPr id="2124" name=""/>
            <p:cNvSpPr/>
            <p:nvPr/>
          </p:nvSpPr>
          <p:spPr>
            <a:xfrm>
              <a:off x="3886200" y="3429000"/>
              <a:ext cx="304920" cy="7621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4343400" y="3581280"/>
              <a:ext cx="350532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ick up left and right f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6" name=""/>
          <p:cNvGrpSpPr/>
          <p:nvPr/>
        </p:nvGrpSpPr>
        <p:grpSpPr>
          <a:xfrm>
            <a:off x="3886200" y="4495680"/>
            <a:ext cx="3962520" cy="762120"/>
            <a:chOff x="3886200" y="4495680"/>
            <a:chExt cx="3962520" cy="762120"/>
          </a:xfrm>
        </p:grpSpPr>
        <p:sp>
          <p:nvSpPr>
            <p:cNvPr id="2127" name=""/>
            <p:cNvSpPr/>
            <p:nvPr/>
          </p:nvSpPr>
          <p:spPr>
            <a:xfrm>
              <a:off x="3886200" y="4495680"/>
              <a:ext cx="304920" cy="7621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4343400" y="4647960"/>
              <a:ext cx="350532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ut down left and right f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0" dur="indefinite" restart="never" nodeType="tmRoot">
          <p:childTnLst>
            <p:seq>
              <p:cTn id="2121" dur="indefinite" nodeType="mainSeq">
                <p:childTnLst>
                  <p:par>
                    <p:cTn id="2122" fill="hold">
                      <p:stCondLst>
                        <p:cond delay="indefinite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6" dur="500"/>
                                        <p:tgtEl>
                                          <p:spTgt spid="2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31" dur="500"/>
                                        <p:tgtEl>
                                          <p:spTgt spid="2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6" dur="500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500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8" fill="hold">
                      <p:stCondLst>
                        <p:cond delay="indefinite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2" dur="500" fill="hold"/>
                                        <p:tgtEl>
                                          <p:spTgt spid="2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3" dur="500" fill="hold"/>
                                        <p:tgtEl>
                                          <p:spTgt spid="2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8" dur="500"/>
                                        <p:tgtEl>
                                          <p:spTgt spid="2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9" fill="hold">
                      <p:stCondLst>
                        <p:cond delay="indefinite"/>
                      </p:stCondLst>
                      <p:childTnLst>
                        <p:par>
                          <p:cTn id="2150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3" dur="500" fill="hold"/>
                                        <p:tgtEl>
                                          <p:spTgt spid="2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500" fill="hold"/>
                                        <p:tgtEl>
                                          <p:spTgt spid="2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9" dur="500" fill="hold"/>
                                        <p:tgtEl>
                                          <p:spTgt spid="2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500" fill="hold"/>
                                        <p:tgtEl>
                                          <p:spTgt spid="2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65" dur="500"/>
                                        <p:tgtEl>
                                          <p:spTgt spid="2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ning Philosoph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dlock is possibl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hilosophers take their left fork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1" name=""/>
          <p:cNvGrpSpPr/>
          <p:nvPr/>
        </p:nvGrpSpPr>
        <p:grpSpPr>
          <a:xfrm>
            <a:off x="6451200" y="1905120"/>
            <a:ext cx="1168920" cy="2178000"/>
            <a:chOff x="6451200" y="1905120"/>
            <a:chExt cx="1168920" cy="2178000"/>
          </a:xfrm>
        </p:grpSpPr>
        <p:pic>
          <p:nvPicPr>
            <p:cNvPr id="2132" name="" descr=""/>
            <p:cNvPicPr/>
            <p:nvPr/>
          </p:nvPicPr>
          <p:blipFill>
            <a:blip r:embed="rId1"/>
            <a:stretch/>
          </p:blipFill>
          <p:spPr>
            <a:xfrm>
              <a:off x="6681960" y="1905120"/>
              <a:ext cx="938160" cy="217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33" name=""/>
            <p:cNvGrpSpPr/>
            <p:nvPr/>
          </p:nvGrpSpPr>
          <p:grpSpPr>
            <a:xfrm>
              <a:off x="6451200" y="2506680"/>
              <a:ext cx="693360" cy="222480"/>
              <a:chOff x="6451200" y="2506680"/>
              <a:chExt cx="693360" cy="222480"/>
            </a:xfrm>
          </p:grpSpPr>
          <p:sp>
            <p:nvSpPr>
              <p:cNvPr id="2134" name=""/>
              <p:cNvSpPr/>
              <p:nvPr/>
            </p:nvSpPr>
            <p:spPr>
              <a:xfrm rot="10453200">
                <a:off x="6550560" y="2514600"/>
                <a:ext cx="162720" cy="97920"/>
              </a:xfrm>
              <a:custGeom>
                <a:avLst/>
                <a:gdLst/>
                <a:ahLst/>
                <a:rect l="l" t="t" r="r" b="b"/>
                <a:pathLst>
                  <a:path w="429" h="268">
                    <a:moveTo>
                      <a:pt x="413" y="99"/>
                    </a:moveTo>
                    <a:lnTo>
                      <a:pt x="422" y="103"/>
                    </a:lnTo>
                    <a:lnTo>
                      <a:pt x="429" y="147"/>
                    </a:lnTo>
                    <a:lnTo>
                      <a:pt x="413" y="190"/>
                    </a:lnTo>
                    <a:lnTo>
                      <a:pt x="389" y="229"/>
                    </a:lnTo>
                    <a:lnTo>
                      <a:pt x="371" y="265"/>
                    </a:lnTo>
                    <a:lnTo>
                      <a:pt x="329" y="265"/>
                    </a:lnTo>
                    <a:lnTo>
                      <a:pt x="284" y="268"/>
                    </a:lnTo>
                    <a:lnTo>
                      <a:pt x="231" y="264"/>
                    </a:lnTo>
                    <a:lnTo>
                      <a:pt x="167" y="241"/>
                    </a:lnTo>
                    <a:lnTo>
                      <a:pt x="104" y="205"/>
                    </a:lnTo>
                    <a:lnTo>
                      <a:pt x="65" y="173"/>
                    </a:lnTo>
                    <a:lnTo>
                      <a:pt x="39" y="131"/>
                    </a:lnTo>
                    <a:lnTo>
                      <a:pt x="11" y="63"/>
                    </a:lnTo>
                    <a:lnTo>
                      <a:pt x="0" y="30"/>
                    </a:lnTo>
                    <a:lnTo>
                      <a:pt x="10" y="9"/>
                    </a:lnTo>
                    <a:lnTo>
                      <a:pt x="42" y="0"/>
                    </a:lnTo>
                    <a:lnTo>
                      <a:pt x="76" y="13"/>
                    </a:lnTo>
                    <a:lnTo>
                      <a:pt x="121" y="38"/>
                    </a:lnTo>
                    <a:lnTo>
                      <a:pt x="181" y="64"/>
                    </a:lnTo>
                    <a:lnTo>
                      <a:pt x="268" y="87"/>
                    </a:lnTo>
                    <a:lnTo>
                      <a:pt x="327" y="87"/>
                    </a:lnTo>
                    <a:lnTo>
                      <a:pt x="364" y="90"/>
                    </a:lnTo>
                    <a:lnTo>
                      <a:pt x="413" y="99"/>
                    </a:lnTo>
                    <a:close/>
                  </a:path>
                </a:pathLst>
              </a:custGeom>
              <a:solidFill>
                <a:srgbClr val="00279f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 rot="10453200">
                <a:off x="6454440" y="2523960"/>
                <a:ext cx="110880" cy="50040"/>
              </a:xfrm>
              <a:custGeom>
                <a:avLst/>
                <a:gdLst/>
                <a:ahLst/>
                <a:rect l="l" t="t" r="r" b="b"/>
                <a:pathLst>
                  <a:path w="288" h="139">
                    <a:moveTo>
                      <a:pt x="0" y="136"/>
                    </a:moveTo>
                    <a:lnTo>
                      <a:pt x="17" y="138"/>
                    </a:lnTo>
                    <a:lnTo>
                      <a:pt x="59" y="139"/>
                    </a:lnTo>
                    <a:lnTo>
                      <a:pt x="118" y="132"/>
                    </a:lnTo>
                    <a:lnTo>
                      <a:pt x="182" y="109"/>
                    </a:lnTo>
                    <a:lnTo>
                      <a:pt x="228" y="77"/>
                    </a:lnTo>
                    <a:lnTo>
                      <a:pt x="261" y="41"/>
                    </a:lnTo>
                    <a:lnTo>
                      <a:pt x="281" y="11"/>
                    </a:lnTo>
                    <a:lnTo>
                      <a:pt x="288" y="0"/>
                    </a:lnTo>
                  </a:path>
                </a:pathLst>
              </a:custGeom>
              <a:solidFill>
                <a:srgbClr val="00279f"/>
              </a:solidFill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rot="10453200">
                <a:off x="6453000" y="2554560"/>
                <a:ext cx="109440" cy="50040"/>
              </a:xfrm>
              <a:custGeom>
                <a:avLst/>
                <a:gdLst/>
                <a:ahLst/>
                <a:rect l="l" t="t" r="r" b="b"/>
                <a:pathLst>
                  <a:path w="288" h="139">
                    <a:moveTo>
                      <a:pt x="0" y="136"/>
                    </a:moveTo>
                    <a:lnTo>
                      <a:pt x="17" y="138"/>
                    </a:lnTo>
                    <a:lnTo>
                      <a:pt x="59" y="139"/>
                    </a:lnTo>
                    <a:lnTo>
                      <a:pt x="118" y="132"/>
                    </a:lnTo>
                    <a:lnTo>
                      <a:pt x="181" y="109"/>
                    </a:lnTo>
                    <a:lnTo>
                      <a:pt x="228" y="77"/>
                    </a:lnTo>
                    <a:lnTo>
                      <a:pt x="261" y="41"/>
                    </a:lnTo>
                    <a:lnTo>
                      <a:pt x="281" y="11"/>
                    </a:lnTo>
                    <a:lnTo>
                      <a:pt x="288" y="0"/>
                    </a:lnTo>
                  </a:path>
                </a:pathLst>
              </a:custGeom>
              <a:solidFill>
                <a:srgbClr val="00279f"/>
              </a:solidFill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rot="10453200">
                <a:off x="6459840" y="2581920"/>
                <a:ext cx="109440" cy="51480"/>
              </a:xfrm>
              <a:custGeom>
                <a:avLst/>
                <a:gdLst/>
                <a:ahLst/>
                <a:rect l="l" t="t" r="r" b="b"/>
                <a:pathLst>
                  <a:path w="288" h="139">
                    <a:moveTo>
                      <a:pt x="0" y="136"/>
                    </a:moveTo>
                    <a:lnTo>
                      <a:pt x="17" y="138"/>
                    </a:lnTo>
                    <a:lnTo>
                      <a:pt x="59" y="139"/>
                    </a:lnTo>
                    <a:lnTo>
                      <a:pt x="118" y="131"/>
                    </a:lnTo>
                    <a:lnTo>
                      <a:pt x="182" y="108"/>
                    </a:lnTo>
                    <a:lnTo>
                      <a:pt x="228" y="77"/>
                    </a:lnTo>
                    <a:lnTo>
                      <a:pt x="261" y="40"/>
                    </a:lnTo>
                    <a:lnTo>
                      <a:pt x="282" y="11"/>
                    </a:lnTo>
                    <a:lnTo>
                      <a:pt x="288" y="0"/>
                    </a:lnTo>
                  </a:path>
                </a:pathLst>
              </a:custGeom>
              <a:solidFill>
                <a:srgbClr val="00279f"/>
              </a:solidFill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rot="10453200">
                <a:off x="6708600" y="2570040"/>
                <a:ext cx="429840" cy="137880"/>
              </a:xfrm>
              <a:custGeom>
                <a:avLst/>
                <a:gdLst/>
                <a:ahLst/>
                <a:rect l="l" t="t" r="r" b="b"/>
                <a:pathLst>
                  <a:path w="1138" h="381">
                    <a:moveTo>
                      <a:pt x="1138" y="381"/>
                    </a:moveTo>
                    <a:lnTo>
                      <a:pt x="1122" y="360"/>
                    </a:lnTo>
                    <a:lnTo>
                      <a:pt x="1076" y="308"/>
                    </a:lnTo>
                    <a:lnTo>
                      <a:pt x="1043" y="276"/>
                    </a:lnTo>
                    <a:lnTo>
                      <a:pt x="1002" y="244"/>
                    </a:lnTo>
                    <a:lnTo>
                      <a:pt x="956" y="212"/>
                    </a:lnTo>
                    <a:lnTo>
                      <a:pt x="904" y="184"/>
                    </a:lnTo>
                    <a:lnTo>
                      <a:pt x="785" y="135"/>
                    </a:lnTo>
                    <a:lnTo>
                      <a:pt x="694" y="108"/>
                    </a:lnTo>
                    <a:lnTo>
                      <a:pt x="619" y="95"/>
                    </a:lnTo>
                    <a:lnTo>
                      <a:pt x="552" y="94"/>
                    </a:lnTo>
                    <a:lnTo>
                      <a:pt x="484" y="95"/>
                    </a:lnTo>
                    <a:lnTo>
                      <a:pt x="404" y="93"/>
                    </a:lnTo>
                    <a:lnTo>
                      <a:pt x="303" y="82"/>
                    </a:lnTo>
                    <a:lnTo>
                      <a:pt x="172" y="55"/>
                    </a:lnTo>
                    <a:lnTo>
                      <a:pt x="105" y="36"/>
                    </a:lnTo>
                    <a:lnTo>
                      <a:pt x="50" y="19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9" name=""/>
          <p:cNvSpPr/>
          <p:nvPr/>
        </p:nvSpPr>
        <p:spPr>
          <a:xfrm>
            <a:off x="685800" y="297180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Solu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solu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ake first fork with lowest 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t most 4 philosophers at th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2 forks inside CS if both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6" dur="indefinite" restart="never" nodeType="tmRoot">
          <p:childTnLst>
            <p:seq>
              <p:cTn id="2167" dur="indefinite" nodeType="mainSeq">
                <p:childTnLst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2" dur="500"/>
                                        <p:tgtEl>
                                          <p:spTgt spid="2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7" dur="500"/>
                                        <p:tgtEl>
                                          <p:spTgt spid="2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8" fill="hold">
                            <p:stCondLst>
                              <p:cond delay="500"/>
                            </p:stCondLst>
                            <p:childTnLst>
                              <p:par>
                                <p:cTn id="21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1" dur="500"/>
                                        <p:tgtEl>
                                          <p:spTgt spid="2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fill="hold">
                      <p:stCondLst>
                        <p:cond delay="indefinite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6" dur="500"/>
                                        <p:tgtEl>
                                          <p:spTgt spid="2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1" dur="500"/>
                                        <p:tgtEl>
                                          <p:spTgt spid="2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6" dur="500"/>
                                        <p:tgtEl>
                                          <p:spTgt spid="2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1" dur="500"/>
                                        <p:tgtEl>
                                          <p:spTgt spid="2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fill="hold">
                      <p:stCondLst>
                        <p:cond delay="indefinite"/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6" dur="500"/>
                                        <p:tgtEl>
                                          <p:spTgt spid="2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nguage Construc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stif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itional Reg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rent Pascal, Modu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nchronization in Jav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7" dur="indefinite" restart="never" nodeType="tmRoot">
          <p:childTnLst>
            <p:seq>
              <p:cTn id="2208" dur="indefinite" nodeType="mainSeq">
                <p:childTnLst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3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ustif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phores used incorrect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 dependent err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4" name=""/>
          <p:cNvGrpSpPr/>
          <p:nvPr/>
        </p:nvGrpSpPr>
        <p:grpSpPr>
          <a:xfrm>
            <a:off x="5864400" y="2209680"/>
            <a:ext cx="2155680" cy="1676520"/>
            <a:chOff x="5864400" y="2209680"/>
            <a:chExt cx="2155680" cy="1676520"/>
          </a:xfrm>
        </p:grpSpPr>
        <p:sp>
          <p:nvSpPr>
            <p:cNvPr id="2145" name=""/>
            <p:cNvSpPr/>
            <p:nvPr/>
          </p:nvSpPr>
          <p:spPr>
            <a:xfrm>
              <a:off x="6248160" y="2590920"/>
              <a:ext cx="1143000" cy="129528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P (&amp;s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V (&amp;s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864400" y="2209680"/>
              <a:ext cx="215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semaphore s = 1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7" name=""/>
          <p:cNvSpPr/>
          <p:nvPr/>
        </p:nvSpPr>
        <p:spPr>
          <a:xfrm>
            <a:off x="7391520" y="4038480"/>
            <a:ext cx="1143000" cy="12956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 (&amp;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(&amp;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533520" y="4038480"/>
            <a:ext cx="1143000" cy="12956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(&amp;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(&amp;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9" name=""/>
          <p:cNvGrpSpPr/>
          <p:nvPr/>
        </p:nvGrpSpPr>
        <p:grpSpPr>
          <a:xfrm>
            <a:off x="2247840" y="4038480"/>
            <a:ext cx="1143000" cy="1295280"/>
            <a:chOff x="2247840" y="4038480"/>
            <a:chExt cx="1143000" cy="1295280"/>
          </a:xfrm>
        </p:grpSpPr>
        <p:sp>
          <p:nvSpPr>
            <p:cNvPr id="2150" name=""/>
            <p:cNvSpPr/>
            <p:nvPr/>
          </p:nvSpPr>
          <p:spPr>
            <a:xfrm>
              <a:off x="2247840" y="4038480"/>
              <a:ext cx="1143000" cy="129528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P (&amp;s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V (&amp;s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324160" y="4267080"/>
              <a:ext cx="838080" cy="76320"/>
            </a:xfrm>
            <a:custGeom>
              <a:avLst/>
              <a:gdLst/>
              <a:ahLst/>
              <a:rect l="l" t="t" r="r" b="b"/>
              <a:pathLst>
                <a:path w="528" h="48">
                  <a:moveTo>
                    <a:pt x="0" y="48"/>
                  </a:moveTo>
                  <a:cubicBezTo>
                    <a:pt x="28" y="24"/>
                    <a:pt x="56" y="0"/>
                    <a:pt x="96" y="0"/>
                  </a:cubicBezTo>
                  <a:cubicBezTo>
                    <a:pt x="136" y="0"/>
                    <a:pt x="192" y="48"/>
                    <a:pt x="240" y="48"/>
                  </a:cubicBezTo>
                  <a:cubicBezTo>
                    <a:pt x="288" y="48"/>
                    <a:pt x="336" y="0"/>
                    <a:pt x="384" y="0"/>
                  </a:cubicBezTo>
                  <a:cubicBezTo>
                    <a:pt x="432" y="0"/>
                    <a:pt x="480" y="24"/>
                    <a:pt x="528" y="4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2" name=""/>
          <p:cNvGrpSpPr/>
          <p:nvPr/>
        </p:nvGrpSpPr>
        <p:grpSpPr>
          <a:xfrm>
            <a:off x="3962520" y="4038480"/>
            <a:ext cx="1143000" cy="1295640"/>
            <a:chOff x="3962520" y="4038480"/>
            <a:chExt cx="1143000" cy="1295640"/>
          </a:xfrm>
        </p:grpSpPr>
        <p:sp>
          <p:nvSpPr>
            <p:cNvPr id="2153" name=""/>
            <p:cNvSpPr/>
            <p:nvPr/>
          </p:nvSpPr>
          <p:spPr>
            <a:xfrm>
              <a:off x="3962520" y="4038480"/>
              <a:ext cx="1143000" cy="12956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P (&amp;s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V (&amp;s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4038480" y="4952880"/>
              <a:ext cx="838440" cy="76320"/>
            </a:xfrm>
            <a:custGeom>
              <a:avLst/>
              <a:gdLst/>
              <a:ahLst/>
              <a:rect l="l" t="t" r="r" b="b"/>
              <a:pathLst>
                <a:path w="528" h="48">
                  <a:moveTo>
                    <a:pt x="0" y="48"/>
                  </a:moveTo>
                  <a:cubicBezTo>
                    <a:pt x="28" y="24"/>
                    <a:pt x="56" y="0"/>
                    <a:pt x="96" y="0"/>
                  </a:cubicBezTo>
                  <a:cubicBezTo>
                    <a:pt x="136" y="0"/>
                    <a:pt x="192" y="48"/>
                    <a:pt x="240" y="48"/>
                  </a:cubicBezTo>
                  <a:cubicBezTo>
                    <a:pt x="288" y="48"/>
                    <a:pt x="336" y="0"/>
                    <a:pt x="384" y="0"/>
                  </a:cubicBezTo>
                  <a:cubicBezTo>
                    <a:pt x="432" y="0"/>
                    <a:pt x="480" y="24"/>
                    <a:pt x="528" y="4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5" name=""/>
          <p:cNvSpPr/>
          <p:nvPr/>
        </p:nvSpPr>
        <p:spPr>
          <a:xfrm>
            <a:off x="5676840" y="4038480"/>
            <a:ext cx="1143000" cy="12956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(&amp;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 (&amp;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4392720" y="5462640"/>
            <a:ext cx="1218960" cy="64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342" y="-10994"/>
                </a:moveTo>
                <a:lnTo>
                  <a:pt x="-1350" y="3775"/>
                </a:lnTo>
              </a:path>
              <a:path w="21600" h="21600">
                <a:moveTo>
                  <a:pt x="-1350" y="0"/>
                </a:moveTo>
                <a:lnTo>
                  <a:pt x="-1350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future deadlo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2735280" y="5475240"/>
            <a:ext cx="998640" cy="64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52" y="-9071"/>
                </a:moveTo>
                <a:lnTo>
                  <a:pt x="-1648" y="3775"/>
                </a:lnTo>
              </a:path>
              <a:path w="21600" h="21600">
                <a:moveTo>
                  <a:pt x="-1648" y="0"/>
                </a:moveTo>
                <a:lnTo>
                  <a:pt x="-1648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up to 2 in 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7696080" y="5757840"/>
            <a:ext cx="121932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81" y="-33307"/>
                </a:moveTo>
                <a:lnTo>
                  <a:pt x="-1350" y="6507"/>
                </a:lnTo>
              </a:path>
              <a:path w="21600" h="21600">
                <a:moveTo>
                  <a:pt x="-1350" y="0"/>
                </a:moveTo>
                <a:lnTo>
                  <a:pt x="-1350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deadlo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6049800" y="5468760"/>
            <a:ext cx="960480" cy="64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957" y="-10510"/>
                </a:moveTo>
                <a:lnTo>
                  <a:pt x="-1714" y="3775"/>
                </a:lnTo>
              </a:path>
              <a:path w="21600" h="21600">
                <a:moveTo>
                  <a:pt x="-1714" y="0"/>
                </a:moveTo>
                <a:lnTo>
                  <a:pt x="-1714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up to 3 in 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191120" y="3200400"/>
            <a:ext cx="960480" cy="64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5876" y="36439"/>
                </a:moveTo>
                <a:lnTo>
                  <a:pt x="23314" y="3775"/>
                </a:lnTo>
              </a:path>
              <a:path w="21600" h="21600">
                <a:moveTo>
                  <a:pt x="23314" y="0"/>
                </a:moveTo>
                <a:lnTo>
                  <a:pt x="23314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up to 3 in 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2941560" y="3200400"/>
            <a:ext cx="960480" cy="64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783" y="45788"/>
                </a:moveTo>
                <a:lnTo>
                  <a:pt x="-1714" y="3775"/>
                </a:lnTo>
              </a:path>
              <a:path w="21600" h="21600">
                <a:moveTo>
                  <a:pt x="-1714" y="0"/>
                </a:moveTo>
                <a:lnTo>
                  <a:pt x="-1714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up to 2 in 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1295280" y="3232080"/>
            <a:ext cx="960480" cy="64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776" y="35907"/>
                </a:moveTo>
                <a:lnTo>
                  <a:pt x="-1714" y="3775"/>
                </a:lnTo>
              </a:path>
              <a:path w="21600" h="21600">
                <a:moveTo>
                  <a:pt x="-1714" y="0"/>
                </a:moveTo>
                <a:lnTo>
                  <a:pt x="-1714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up to 3 in 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4" dur="indefinite" restart="never" nodeType="tmRoot">
          <p:childTnLst>
            <p:seq>
              <p:cTn id="2215" dur="indefinite" nodeType="mainSeq">
                <p:childTnLst>
                  <p:par>
                    <p:cTn id="2216" fill="hold">
                      <p:stCondLst>
                        <p:cond delay="indefinite"/>
                      </p:stCondLst>
                      <p:childTnLst>
                        <p:par>
                          <p:cTn id="2217" fill="hold">
                            <p:stCondLst>
                              <p:cond delay="0"/>
                            </p:stCondLst>
                            <p:childTnLst>
                              <p:par>
                                <p:cTn id="2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0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5" dur="500"/>
                                        <p:tgtEl>
                                          <p:spTgt spid="2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0" dur="5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5" dur="500"/>
                                        <p:tgtEl>
                                          <p:spTgt spid="2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6" fill="hold">
                      <p:stCondLst>
                        <p:cond delay="indefinite"/>
                      </p:stCondLst>
                      <p:childTnLst>
                        <p:par>
                          <p:cTn id="2237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0" dur="500"/>
                                        <p:tgtEl>
                                          <p:spTgt spid="2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1" fill="hold">
                      <p:stCondLst>
                        <p:cond delay="indefinite"/>
                      </p:stCondLst>
                      <p:childTnLst>
                        <p:par>
                          <p:cTn id="2242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5" dur="500"/>
                                        <p:tgtEl>
                                          <p:spTgt spid="2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0" dur="500"/>
                                        <p:tgtEl>
                                          <p:spTgt spid="2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55" dur="5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0" dur="500"/>
                                        <p:tgtEl>
                                          <p:spTgt spid="2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5" dur="500"/>
                                        <p:tgtEl>
                                          <p:spTgt spid="2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70" dur="5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5" dur="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6" fill="hold">
                      <p:stCondLst>
                        <p:cond delay="indefinite"/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0" dur="500"/>
                                        <p:tgtEl>
                                          <p:spTgt spid="2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5562720" y="3886200"/>
            <a:ext cx="2133360" cy="914400"/>
            <a:chOff x="5562720" y="3886200"/>
            <a:chExt cx="2133360" cy="914400"/>
          </a:xfrm>
        </p:grpSpPr>
        <p:sp>
          <p:nvSpPr>
            <p:cNvPr id="172" name=""/>
            <p:cNvSpPr/>
            <p:nvPr/>
          </p:nvSpPr>
          <p:spPr>
            <a:xfrm>
              <a:off x="5562720" y="4343400"/>
              <a:ext cx="2133360" cy="4572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58760" y="3886200"/>
              <a:ext cx="1236960" cy="4572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67400" y="4267440"/>
              <a:ext cx="1219680" cy="3045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988920" y="2209680"/>
            <a:ext cx="1602000" cy="457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5320" y="333360"/>
            <a:ext cx="693396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073480"/>
            <a:ext cx="1601640" cy="457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08640" y="2133720"/>
            <a:ext cx="2897280" cy="9903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5210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V(s)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Symbol"/>
                <a:ea typeface="Symbol"/>
              </a:rPr>
              <a:t>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++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P(s)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Symbol"/>
                <a:ea typeface="Symbol"/>
              </a:rPr>
              <a:t>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s == 0)  {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--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1521000"/>
            <a:ext cx="38102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P(s)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s == 0)  {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--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P(s)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s == 0)  {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--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762120" y="4724280"/>
            <a:ext cx="2512800" cy="1295280"/>
            <a:chOff x="762120" y="4724280"/>
            <a:chExt cx="2512800" cy="1295280"/>
          </a:xfrm>
        </p:grpSpPr>
        <p:sp>
          <p:nvSpPr>
            <p:cNvPr id="182" name=""/>
            <p:cNvSpPr/>
            <p:nvPr/>
          </p:nvSpPr>
          <p:spPr>
            <a:xfrm>
              <a:off x="762120" y="4724280"/>
              <a:ext cx="2154960" cy="129528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36"/>
                    <a:pt x="144" y="72"/>
                    <a:pt x="192" y="144"/>
                  </a:cubicBezTo>
                  <a:cubicBezTo>
                    <a:pt x="240" y="216"/>
                    <a:pt x="264" y="324"/>
                    <a:pt x="288" y="43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79600" y="4867560"/>
              <a:ext cx="1795320" cy="100764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cubicBezTo>
                    <a:pt x="164" y="44"/>
                    <a:pt x="88" y="88"/>
                    <a:pt x="48" y="144"/>
                  </a:cubicBezTo>
                  <a:cubicBezTo>
                    <a:pt x="8" y="200"/>
                    <a:pt x="4" y="268"/>
                    <a:pt x="0" y="336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257800" y="2133720"/>
            <a:ext cx="2512800" cy="1294920"/>
            <a:chOff x="5257800" y="2133720"/>
            <a:chExt cx="2512800" cy="1294920"/>
          </a:xfrm>
        </p:grpSpPr>
        <p:sp>
          <p:nvSpPr>
            <p:cNvPr id="185" name=""/>
            <p:cNvSpPr/>
            <p:nvPr/>
          </p:nvSpPr>
          <p:spPr>
            <a:xfrm>
              <a:off x="5257800" y="2133720"/>
              <a:ext cx="2154960" cy="129492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36"/>
                    <a:pt x="144" y="72"/>
                    <a:pt x="192" y="144"/>
                  </a:cubicBezTo>
                  <a:cubicBezTo>
                    <a:pt x="240" y="216"/>
                    <a:pt x="264" y="324"/>
                    <a:pt x="288" y="43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75280" y="2277000"/>
              <a:ext cx="1795320" cy="100728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cubicBezTo>
                    <a:pt x="164" y="44"/>
                    <a:pt x="88" y="88"/>
                    <a:pt x="48" y="144"/>
                  </a:cubicBezTo>
                  <a:cubicBezTo>
                    <a:pt x="8" y="200"/>
                    <a:pt x="4" y="268"/>
                    <a:pt x="0" y="336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ustif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Constru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uce # time dependent err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sily added to any languag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pre-process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565200" y="4038480"/>
            <a:ext cx="2438280" cy="1572120"/>
          </a:xfrm>
          <a:prstGeom prst="rect">
            <a:avLst/>
          </a:prstGeom>
          <a:solidFill>
            <a:srgbClr val="cecece"/>
          </a:solidFill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region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v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do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3048120" y="46483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3603600" y="4343400"/>
            <a:ext cx="1905120" cy="1066680"/>
          </a:xfrm>
          <a:prstGeom prst="plus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Pre-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6118200" y="3657600"/>
            <a:ext cx="2438280" cy="2303640"/>
          </a:xfrm>
          <a:prstGeom prst="rect">
            <a:avLst/>
          </a:prstGeom>
          <a:solidFill>
            <a:srgbClr val="cecece"/>
          </a:solidFill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P (&amp; v_mutex);</a:t>
            </a:r>
            <a:br>
              <a:rPr sz="2400"/>
            </a:b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;</a:t>
            </a:r>
            <a:br>
              <a:rPr sz="2400"/>
            </a:b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V (&amp; v_mute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5540400" y="46483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1" dur="indefinite" restart="never" nodeType="tmRoot">
          <p:childTnLst>
            <p:seq>
              <p:cTn id="2282" dur="indefinite" nodeType="mainSeq">
                <p:childTnLst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7" dur="500"/>
                                        <p:tgtEl>
                                          <p:spTgt spid="2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fill="hold">
                      <p:stCondLst>
                        <p:cond delay="indefinite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2" dur="500"/>
                                        <p:tgtEl>
                                          <p:spTgt spid="2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7" dur="500"/>
                                        <p:tgtEl>
                                          <p:spTgt spid="2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2" dur="500" fill="hold"/>
                                        <p:tgtEl>
                                          <p:spTgt spid="2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3" dur="500" fill="hold"/>
                                        <p:tgtEl>
                                          <p:spTgt spid="2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8" dur="500"/>
                                        <p:tgtEl>
                                          <p:spTgt spid="2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9" fill="hold">
                            <p:stCondLst>
                              <p:cond delay="500"/>
                            </p:stCondLst>
                            <p:childTnLst>
                              <p:par>
                                <p:cTn id="231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12" dur="500"/>
                                        <p:tgtEl>
                                          <p:spTgt spid="2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16" dur="500"/>
                                        <p:tgtEl>
                                          <p:spTgt spid="2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0" dur="50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itional Critical Reg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hared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SomeType v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riabl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ONLY accessible i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gi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constru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region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v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do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STATEMEN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TEMENT executed in a 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region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v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BoolExpr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do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STATEMEN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oolExpr and STATEMENT inside C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f BoolExpr =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STATEMENT executed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f BoolExpr =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tual exclusion relinquished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cess delayed until BoolExpr true and region is f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itional Critical Reg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3659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region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v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true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do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S1   ||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region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v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true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do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S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3659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Symbol"/>
                <a:ea typeface="Symbol"/>
              </a:rPr>
              <a:t>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3659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1 ; S2   </a:t>
            </a:r>
            <a:r>
              <a:rPr b="1" i="1" lang="en-US" sz="2400" spc="-1" strike="noStrike">
                <a:solidFill>
                  <a:srgbClr val="00279f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S2 ; S1 </a:t>
            </a:r>
            <a:br>
              <a:rPr sz="2400"/>
            </a:b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659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685800" y="3657600"/>
            <a:ext cx="76960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nt: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region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v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do {</a:t>
            </a:r>
            <a:br>
              <a:rPr sz="2400"/>
            </a:b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TATEMENT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wait (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oolExpr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TATEMENT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1" dur="indefinite" restart="never" nodeType="tmRoot">
          <p:childTnLst>
            <p:seq>
              <p:cTn id="2322" dur="indefinite" nodeType="mainSeq">
                <p:childTnLst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7" dur="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unded Buffer using CC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181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shared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struct {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tem [N] pool;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nt count, in, out;      </a:t>
            </a: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// init 0, 0, 0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 buf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7" name=""/>
          <p:cNvGrpSpPr/>
          <p:nvPr/>
        </p:nvGrpSpPr>
        <p:grpSpPr>
          <a:xfrm>
            <a:off x="4952880" y="2514600"/>
            <a:ext cx="3647880" cy="3580920"/>
            <a:chOff x="4952880" y="2514600"/>
            <a:chExt cx="3647880" cy="3580920"/>
          </a:xfrm>
        </p:grpSpPr>
        <p:sp>
          <p:nvSpPr>
            <p:cNvPr id="2178" name=""/>
            <p:cNvSpPr/>
            <p:nvPr/>
          </p:nvSpPr>
          <p:spPr>
            <a:xfrm>
              <a:off x="4952880" y="2826000"/>
              <a:ext cx="3575520" cy="326952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519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ile (tr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519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9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 ic;</a:t>
              </a:r>
              <a:br>
                <a:rPr sz="2000"/>
              </a:br>
              <a:br>
                <a:rPr sz="2000"/>
              </a:br>
              <a:br>
                <a:rPr sz="2000"/>
              </a:br>
              <a:br>
                <a:rPr sz="1600"/>
              </a:br>
              <a:br>
                <a:rPr sz="1600"/>
              </a:b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nsume (ic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519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519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7021080" y="2514600"/>
              <a:ext cx="15796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ae00"/>
                  </a:solidFill>
                  <a:latin typeface="Arial"/>
                </a:rPr>
                <a:t>Consu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0" name=""/>
          <p:cNvSpPr/>
          <p:nvPr/>
        </p:nvSpPr>
        <p:spPr>
          <a:xfrm>
            <a:off x="5524200" y="3700440"/>
            <a:ext cx="2861640" cy="1739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region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bu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hen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count &gt; 0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do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c = pool[ou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out = (out + 1) %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count--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1" name=""/>
          <p:cNvGrpSpPr/>
          <p:nvPr/>
        </p:nvGrpSpPr>
        <p:grpSpPr>
          <a:xfrm>
            <a:off x="609480" y="2735280"/>
            <a:ext cx="3962160" cy="3352680"/>
            <a:chOff x="609480" y="2735280"/>
            <a:chExt cx="3962160" cy="3352680"/>
          </a:xfrm>
        </p:grpSpPr>
        <p:sp>
          <p:nvSpPr>
            <p:cNvPr id="2182" name=""/>
            <p:cNvSpPr/>
            <p:nvPr/>
          </p:nvSpPr>
          <p:spPr>
            <a:xfrm>
              <a:off x="3103200" y="2735280"/>
              <a:ext cx="14684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ae00"/>
                  </a:solidFill>
                  <a:latin typeface="Arial"/>
                </a:rPr>
                <a:t>Produc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09480" y="3040200"/>
              <a:ext cx="3713760" cy="304776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61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ile (tr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61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61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 ip = produce(…);</a:t>
              </a:r>
              <a:br>
                <a:rPr sz="2000"/>
              </a:br>
              <a:br>
                <a:rPr sz="2000"/>
              </a:br>
              <a:br>
                <a:rPr sz="2000"/>
              </a:br>
              <a:br>
                <a:rPr sz="2000"/>
              </a:br>
              <a:br>
                <a:rPr sz="2000"/>
              </a:br>
              <a:br>
                <a:rPr sz="2000"/>
              </a:b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61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61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4" name=""/>
          <p:cNvSpPr/>
          <p:nvPr/>
        </p:nvSpPr>
        <p:spPr>
          <a:xfrm>
            <a:off x="1107360" y="3898800"/>
            <a:ext cx="2746080" cy="1739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region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bu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hen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count &lt; N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do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ool[in] = i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n = (in + 1) %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count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8" dur="indefinite" restart="never" nodeType="tmRoot">
          <p:childTnLst>
            <p:seq>
              <p:cTn id="2329" dur="indefinite" nodeType="mainSeq">
                <p:childTnLst>
                  <p:par>
                    <p:cTn id="2330" fill="hold">
                      <p:stCondLst>
                        <p:cond delay="indefinite"/>
                      </p:stCondLst>
                      <p:childTnLst>
                        <p:par>
                          <p:cTn id="2331" fill="hold">
                            <p:stCondLst>
                              <p:cond delay="0"/>
                            </p:stCondLst>
                            <p:childTnLst>
                              <p:par>
                                <p:cTn id="23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4" dur="500"/>
                                        <p:tgtEl>
                                          <p:spTgt spid="2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9" dur="500"/>
                                        <p:tgtEl>
                                          <p:spTgt spid="2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0" fill="hold">
                      <p:stCondLst>
                        <p:cond delay="indefinite"/>
                      </p:stCondLst>
                      <p:childTnLst>
                        <p:par>
                          <p:cTn id="2341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4" dur="500" fill="hold"/>
                                        <p:tgtEl>
                                          <p:spTgt spid="2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5" dur="500" fill="hold"/>
                                        <p:tgtEl>
                                          <p:spTgt spid="2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0" dur="500" fill="hold"/>
                                        <p:tgtEl>
                                          <p:spTgt spid="2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1" dur="500" fill="hold"/>
                                        <p:tgtEl>
                                          <p:spTgt spid="2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4" dur="500" fill="hold"/>
                                        <p:tgtEl>
                                          <p:spTgt spid="2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5" dur="500" fill="hold"/>
                                        <p:tgtEl>
                                          <p:spTgt spid="2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6" fill="hold">
                      <p:stCondLst>
                        <p:cond delay="indefinite"/>
                      </p:stCondLst>
                      <p:childTnLst>
                        <p:par>
                          <p:cTn id="2357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0" dur="500" fill="hold"/>
                                        <p:tgtEl>
                                          <p:spTgt spid="2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500" fill="hold"/>
                                        <p:tgtEl>
                                          <p:spTgt spid="2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2" fill="hold">
                            <p:stCondLst>
                              <p:cond delay="500"/>
                            </p:stCondLst>
                            <p:childTnLst>
                              <p:par>
                                <p:cTn id="23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5" dur="500" fill="hold"/>
                                        <p:tgtEl>
                                          <p:spTgt spid="2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6" dur="500" fill="hold"/>
                                        <p:tgtEl>
                                          <p:spTgt spid="2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0" dur="500" fill="hold"/>
                                        <p:tgtEl>
                                          <p:spTgt spid="2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1" dur="500" fill="hold"/>
                                        <p:tgtEl>
                                          <p:spTgt spid="2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2" fill="hold">
                      <p:stCondLst>
                        <p:cond delay="indefinite"/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6" dur="500" fill="hold"/>
                                        <p:tgtEl>
                                          <p:spTgt spid="2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500" fill="hold"/>
                                        <p:tgtEl>
                                          <p:spTgt spid="2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8" fill="hold">
                      <p:stCondLst>
                        <p:cond delay="indefinite"/>
                      </p:stCondLst>
                      <p:childTnLst>
                        <p:par>
                          <p:cTn id="2379" fill="hold">
                            <p:stCondLst>
                              <p:cond delay="0"/>
                            </p:stCondLst>
                            <p:childTnLst>
                              <p:par>
                                <p:cTn id="2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2" dur="500" fill="hold"/>
                                        <p:tgtEl>
                                          <p:spTgt spid="2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3" dur="500" fill="hold"/>
                                        <p:tgtEl>
                                          <p:spTgt spid="2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4" fill="hold">
                      <p:stCondLst>
                        <p:cond delay="indefinite"/>
                      </p:stCondLst>
                      <p:childTnLst>
                        <p:par>
                          <p:cTn id="2385" fill="hold">
                            <p:stCondLst>
                              <p:cond delay="0"/>
                            </p:stCondLst>
                            <p:childTnLst>
                              <p:par>
                                <p:cTn id="2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8" dur="500" fill="hold"/>
                                        <p:tgtEl>
                                          <p:spTgt spid="2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9" dur="500" fill="hold"/>
                                        <p:tgtEl>
                                          <p:spTgt spid="2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2" dur="500" fill="hold"/>
                                        <p:tgtEl>
                                          <p:spTgt spid="2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3" dur="500" fill="hold"/>
                                        <p:tgtEl>
                                          <p:spTgt spid="2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4" fill="hold">
                      <p:stCondLst>
                        <p:cond delay="indefinite"/>
                      </p:stCondLst>
                      <p:childTnLst>
                        <p:par>
                          <p:cTn id="2395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8" dur="500" fill="hold"/>
                                        <p:tgtEl>
                                          <p:spTgt spid="2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500" fill="hold"/>
                                        <p:tgtEl>
                                          <p:spTgt spid="2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0" fill="hold">
                            <p:stCondLst>
                              <p:cond delay="500"/>
                            </p:stCondLst>
                            <p:childTnLst>
                              <p:par>
                                <p:cTn id="24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3" dur="500" fill="hold"/>
                                        <p:tgtEl>
                                          <p:spTgt spid="2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500" fill="hold"/>
                                        <p:tgtEl>
                                          <p:spTgt spid="2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8" dur="500" fill="hold"/>
                                        <p:tgtEl>
                                          <p:spTgt spid="2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500" fill="hold"/>
                                        <p:tgtEl>
                                          <p:spTgt spid="2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0" fill="hold">
                      <p:stCondLst>
                        <p:cond delay="indefinite"/>
                      </p:stCondLst>
                      <p:childTnLst>
                        <p:par>
                          <p:cTn id="2411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4" dur="500" fill="hold"/>
                                        <p:tgtEl>
                                          <p:spTgt spid="2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5" dur="500" fill="hold"/>
                                        <p:tgtEl>
                                          <p:spTgt spid="2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ers/Writers using CC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33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shared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struct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nt nreaders; // init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nt nwriters;   </a:t>
            </a: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// init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boolean busy;     </a:t>
            </a: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// init fal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 rw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7" name=""/>
          <p:cNvGrpSpPr/>
          <p:nvPr/>
        </p:nvGrpSpPr>
        <p:grpSpPr>
          <a:xfrm>
            <a:off x="3981600" y="2736720"/>
            <a:ext cx="4799880" cy="3359160"/>
            <a:chOff x="3981600" y="2736720"/>
            <a:chExt cx="4799880" cy="3359160"/>
          </a:xfrm>
        </p:grpSpPr>
        <p:sp>
          <p:nvSpPr>
            <p:cNvPr id="2188" name=""/>
            <p:cNvSpPr/>
            <p:nvPr/>
          </p:nvSpPr>
          <p:spPr>
            <a:xfrm>
              <a:off x="3981600" y="3029040"/>
              <a:ext cx="4704480" cy="30668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700000"/>
                </a:lnSpc>
                <a:tabLst>
                  <a:tab algn="l" pos="0"/>
                  <a:tab algn="l" pos="797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ad/Write 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6702840" y="2736720"/>
              <a:ext cx="20786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e00"/>
                  </a:solidFill>
                  <a:latin typeface="Arial"/>
                </a:rPr>
                <a:t>Wri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0" name=""/>
          <p:cNvSpPr/>
          <p:nvPr/>
        </p:nvSpPr>
        <p:spPr>
          <a:xfrm>
            <a:off x="4085280" y="3179880"/>
            <a:ext cx="4396320" cy="13125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region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rw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do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writers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await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((nreaders == 0) &amp;&amp; ! bus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busy 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1" name=""/>
          <p:cNvGrpSpPr/>
          <p:nvPr/>
        </p:nvGrpSpPr>
        <p:grpSpPr>
          <a:xfrm>
            <a:off x="542880" y="3726000"/>
            <a:ext cx="3352320" cy="2369880"/>
            <a:chOff x="542880" y="3726000"/>
            <a:chExt cx="3352320" cy="2369880"/>
          </a:xfrm>
        </p:grpSpPr>
        <p:sp>
          <p:nvSpPr>
            <p:cNvPr id="2192" name=""/>
            <p:cNvSpPr/>
            <p:nvPr/>
          </p:nvSpPr>
          <p:spPr>
            <a:xfrm>
              <a:off x="2473200" y="3726000"/>
              <a:ext cx="14220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e00"/>
                  </a:solidFill>
                  <a:latin typeface="Arial"/>
                </a:rPr>
                <a:t>R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42880" y="4030560"/>
              <a:ext cx="3263760" cy="206532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510000"/>
                </a:lnSpc>
                <a:tabLst>
                  <a:tab algn="l" pos="0"/>
                  <a:tab algn="l" pos="797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ad 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797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4" name=""/>
          <p:cNvSpPr/>
          <p:nvPr/>
        </p:nvSpPr>
        <p:spPr>
          <a:xfrm>
            <a:off x="623880" y="4191120"/>
            <a:ext cx="3124080" cy="8251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region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r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hen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nwriters == 0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do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readers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619200" y="5445000"/>
            <a:ext cx="3124080" cy="5814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region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r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do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readers--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4091040" y="4954680"/>
            <a:ext cx="4495680" cy="10688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region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rw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do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writers--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busy 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 txBox="1"/>
          <p:nvPr/>
        </p:nvSpPr>
        <p:spPr>
          <a:xfrm>
            <a:off x="5562720" y="1981080"/>
            <a:ext cx="285264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riters precedenc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6" dur="indefinite" restart="never" nodeType="tmRoot">
          <p:childTnLst>
            <p:seq>
              <p:cTn id="2417" dur="indefinite" nodeType="mainSeq">
                <p:childTnLst>
                  <p:par>
                    <p:cTn id="2418" fill="hold">
                      <p:stCondLst>
                        <p:cond delay="indefinite"/>
                      </p:stCondLst>
                      <p:childTnLst>
                        <p:par>
                          <p:cTn id="2419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2" dur="500"/>
                                        <p:tgtEl>
                                          <p:spTgt spid="2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5" dur="500"/>
                                        <p:tgtEl>
                                          <p:spTgt spid="2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0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5" dur="500"/>
                                        <p:tgtEl>
                                          <p:spTgt spid="2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fill="hold">
                      <p:stCondLst>
                        <p:cond delay="indefinite"/>
                      </p:stCondLst>
                      <p:childTnLst>
                        <p:par>
                          <p:cTn id="2437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0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4" dur="500" fill="hold"/>
                                        <p:tgtEl>
                                          <p:spTgt spid="2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5" dur="500" fill="hold"/>
                                        <p:tgtEl>
                                          <p:spTgt spid="2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6" fill="hold">
                      <p:stCondLst>
                        <p:cond delay="indefinite"/>
                      </p:stCondLst>
                      <p:childTnLst>
                        <p:par>
                          <p:cTn id="2447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0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1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4" dur="500" fill="hold"/>
                                        <p:tgtEl>
                                          <p:spTgt spid="2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500" fill="hold"/>
                                        <p:tgtEl>
                                          <p:spTgt spid="2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0" dur="500"/>
                                        <p:tgtEl>
                                          <p:spTgt spid="2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5" dur="500" fill="hold"/>
                                        <p:tgtEl>
                                          <p:spTgt spid="2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6" dur="500" fill="hold"/>
                                        <p:tgtEl>
                                          <p:spTgt spid="2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7" fill="hold">
                      <p:stCondLst>
                        <p:cond delay="indefinite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1" dur="500" fill="hold"/>
                                        <p:tgtEl>
                                          <p:spTgt spid="2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500" fill="hold"/>
                                        <p:tgtEl>
                                          <p:spTgt spid="2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7" dur="500"/>
                                        <p:tgtEl>
                                          <p:spTgt spid="2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8" fill="hold">
                      <p:stCondLst>
                        <p:cond delay="indefinite"/>
                      </p:stCondLst>
                      <p:childTnLst>
                        <p:par>
                          <p:cTn id="2479" fill="hold">
                            <p:stCondLst>
                              <p:cond delay="0"/>
                            </p:stCondLst>
                            <p:childTnLst>
                              <p:par>
                                <p:cTn id="2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2" dur="500" fill="hold"/>
                                        <p:tgtEl>
                                          <p:spTgt spid="2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3" dur="500" fill="hold"/>
                                        <p:tgtEl>
                                          <p:spTgt spid="2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4" fill="hold">
                      <p:stCondLst>
                        <p:cond delay="indefinite"/>
                      </p:stCondLst>
                      <p:childTnLst>
                        <p:par>
                          <p:cTn id="2485" fill="hold">
                            <p:stCondLst>
                              <p:cond delay="0"/>
                            </p:stCondLst>
                            <p:childTnLst>
                              <p:par>
                                <p:cTn id="24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8" dur="500" fill="hold"/>
                                        <p:tgtEl>
                                          <p:spTgt spid="2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500" fill="hold"/>
                                        <p:tgtEl>
                                          <p:spTgt spid="2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2" dur="500" fill="hold"/>
                                        <p:tgtEl>
                                          <p:spTgt spid="2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3" dur="500" fill="hold"/>
                                        <p:tgtEl>
                                          <p:spTgt spid="2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6" dur="500" fill="hold"/>
                                        <p:tgtEl>
                                          <p:spTgt spid="2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500" fill="hold"/>
                                        <p:tgtEl>
                                          <p:spTgt spid="2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2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3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6" dur="500" fill="hold"/>
                                        <p:tgtEl>
                                          <p:spTgt spid="2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7" dur="500" fill="hold"/>
                                        <p:tgtEl>
                                          <p:spTgt spid="2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0" dur="500" fill="hold"/>
                                        <p:tgtEl>
                                          <p:spTgt spid="2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500" fill="hold"/>
                                        <p:tgtEl>
                                          <p:spTgt spid="2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2" fill="hold">
                      <p:stCondLst>
                        <p:cond delay="indefinite"/>
                      </p:stCondLst>
                      <p:childTnLst>
                        <p:par>
                          <p:cTn id="2513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6" dur="500" fill="hold"/>
                                        <p:tgtEl>
                                          <p:spTgt spid="2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7" dur="500" fill="hold"/>
                                        <p:tgtEl>
                                          <p:spTgt spid="2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8" fill="hold">
                      <p:stCondLst>
                        <p:cond delay="indefinite"/>
                      </p:stCondLst>
                      <p:childTnLst>
                        <p:par>
                          <p:cTn id="2519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2" dur="500" fill="hold"/>
                                        <p:tgtEl>
                                          <p:spTgt spid="2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3" dur="500" fill="hold"/>
                                        <p:tgtEl>
                                          <p:spTgt spid="2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8" dur="500"/>
                                        <p:tgtEl>
                                          <p:spTgt spid="2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3" dur="500" fill="hold"/>
                                        <p:tgtEl>
                                          <p:spTgt spid="2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4" dur="500" fill="hold"/>
                                        <p:tgtEl>
                                          <p:spTgt spid="2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5" fill="hold">
                            <p:stCondLst>
                              <p:cond delay="500"/>
                            </p:stCondLst>
                            <p:childTnLst>
                              <p:par>
                                <p:cTn id="25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8" dur="500" fill="hold"/>
                                        <p:tgtEl>
                                          <p:spTgt spid="2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500" fill="hold"/>
                                        <p:tgtEl>
                                          <p:spTgt spid="2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fill="hold">
                      <p:stCondLst>
                        <p:cond delay="indefinite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4" dur="500" fill="hold"/>
                                        <p:tgtEl>
                                          <p:spTgt spid="2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5" dur="500" fill="hold"/>
                                        <p:tgtEl>
                                          <p:spTgt spid="2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6" fill="hold">
                      <p:stCondLst>
                        <p:cond delay="indefinite"/>
                      </p:stCondLst>
                      <p:childTnLst>
                        <p:par>
                          <p:cTn id="2547" fill="hold">
                            <p:stCondLst>
                              <p:cond delay="0"/>
                            </p:stCondLst>
                            <p:childTnLst>
                              <p:par>
                                <p:cTn id="25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0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1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 with 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9" name=""/>
          <p:cNvGrpSpPr/>
          <p:nvPr/>
        </p:nvGrpSpPr>
        <p:grpSpPr>
          <a:xfrm>
            <a:off x="1752480" y="2798640"/>
            <a:ext cx="3886200" cy="1925640"/>
            <a:chOff x="1752480" y="2798640"/>
            <a:chExt cx="3886200" cy="1925640"/>
          </a:xfrm>
        </p:grpSpPr>
        <p:grpSp>
          <p:nvGrpSpPr>
            <p:cNvPr id="2200" name=""/>
            <p:cNvGrpSpPr/>
            <p:nvPr/>
          </p:nvGrpSpPr>
          <p:grpSpPr>
            <a:xfrm>
              <a:off x="1752480" y="2927520"/>
              <a:ext cx="3886200" cy="1796760"/>
              <a:chOff x="1752480" y="2927520"/>
              <a:chExt cx="3886200" cy="1796760"/>
            </a:xfrm>
          </p:grpSpPr>
          <p:sp>
            <p:nvSpPr>
              <p:cNvPr id="2201" name=""/>
              <p:cNvSpPr/>
              <p:nvPr/>
            </p:nvSpPr>
            <p:spPr>
              <a:xfrm>
                <a:off x="1752480" y="2927520"/>
                <a:ext cx="3886200" cy="179676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2259000" y="3376440"/>
                <a:ext cx="2873520" cy="898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1836720" y="3017880"/>
                <a:ext cx="3718080" cy="16160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2090880" y="3260880"/>
                <a:ext cx="3209760" cy="11682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5" name=""/>
            <p:cNvSpPr/>
            <p:nvPr/>
          </p:nvSpPr>
          <p:spPr>
            <a:xfrm>
              <a:off x="2590920" y="2798640"/>
              <a:ext cx="21333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6" name=""/>
          <p:cNvGrpSpPr/>
          <p:nvPr/>
        </p:nvGrpSpPr>
        <p:grpSpPr>
          <a:xfrm>
            <a:off x="3962520" y="2496960"/>
            <a:ext cx="838080" cy="459720"/>
            <a:chOff x="3962520" y="2496960"/>
            <a:chExt cx="838080" cy="459720"/>
          </a:xfrm>
        </p:grpSpPr>
        <p:sp>
          <p:nvSpPr>
            <p:cNvPr id="2207" name=""/>
            <p:cNvSpPr/>
            <p:nvPr/>
          </p:nvSpPr>
          <p:spPr>
            <a:xfrm>
              <a:off x="3962520" y="2874960"/>
              <a:ext cx="838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3963960" y="249696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Arial"/>
                </a:rPr>
                <a:t>tr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9" name=""/>
          <p:cNvGrpSpPr/>
          <p:nvPr/>
        </p:nvGrpSpPr>
        <p:grpSpPr>
          <a:xfrm>
            <a:off x="3847320" y="3411360"/>
            <a:ext cx="953280" cy="459720"/>
            <a:chOff x="3847320" y="3411360"/>
            <a:chExt cx="953280" cy="459720"/>
          </a:xfrm>
        </p:grpSpPr>
        <p:sp>
          <p:nvSpPr>
            <p:cNvPr id="2210" name=""/>
            <p:cNvSpPr/>
            <p:nvPr/>
          </p:nvSpPr>
          <p:spPr>
            <a:xfrm>
              <a:off x="3962520" y="3459240"/>
              <a:ext cx="838080" cy="177840"/>
            </a:xfrm>
            <a:custGeom>
              <a:avLst/>
              <a:gdLst/>
              <a:ahLst/>
              <a:rect l="l" t="t" r="r" b="b"/>
              <a:pathLst>
                <a:path w="528" h="112">
                  <a:moveTo>
                    <a:pt x="0" y="16"/>
                  </a:moveTo>
                  <a:cubicBezTo>
                    <a:pt x="100" y="8"/>
                    <a:pt x="200" y="0"/>
                    <a:pt x="288" y="16"/>
                  </a:cubicBezTo>
                  <a:cubicBezTo>
                    <a:pt x="376" y="32"/>
                    <a:pt x="452" y="72"/>
                    <a:pt x="528" y="112"/>
                  </a:cubicBezTo>
                </a:path>
              </a:pathLst>
            </a:custGeom>
            <a:noFill/>
            <a:ln w="3816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3847320" y="341136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0128"/>
                  </a:solidFill>
                  <a:latin typeface="Arial"/>
                </a:rPr>
                <a:t>fa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2" name=""/>
          <p:cNvSpPr/>
          <p:nvPr/>
        </p:nvSpPr>
        <p:spPr>
          <a:xfrm>
            <a:off x="5489280" y="2649600"/>
            <a:ext cx="20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3505320" y="22096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BoolExp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4" name=""/>
          <p:cNvGrpSpPr/>
          <p:nvPr/>
        </p:nvGrpSpPr>
        <p:grpSpPr>
          <a:xfrm>
            <a:off x="380880" y="2388240"/>
            <a:ext cx="1524240" cy="1652760"/>
            <a:chOff x="380880" y="2388240"/>
            <a:chExt cx="1524240" cy="1652760"/>
          </a:xfrm>
        </p:grpSpPr>
        <p:grpSp>
          <p:nvGrpSpPr>
            <p:cNvPr id="2215" name=""/>
            <p:cNvGrpSpPr/>
            <p:nvPr/>
          </p:nvGrpSpPr>
          <p:grpSpPr>
            <a:xfrm>
              <a:off x="785880" y="2388240"/>
              <a:ext cx="839520" cy="1040760"/>
              <a:chOff x="785880" y="2388240"/>
              <a:chExt cx="839520" cy="1040760"/>
            </a:xfrm>
          </p:grpSpPr>
          <p:sp>
            <p:nvSpPr>
              <p:cNvPr id="2216" name=""/>
              <p:cNvSpPr/>
              <p:nvPr/>
            </p:nvSpPr>
            <p:spPr>
              <a:xfrm>
                <a:off x="929520" y="2514600"/>
                <a:ext cx="125640" cy="9144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17" name=""/>
              <p:cNvGrpSpPr/>
              <p:nvPr/>
            </p:nvGrpSpPr>
            <p:grpSpPr>
              <a:xfrm>
                <a:off x="785880" y="2388240"/>
                <a:ext cx="839520" cy="529200"/>
                <a:chOff x="785880" y="2388240"/>
                <a:chExt cx="839520" cy="529200"/>
              </a:xfrm>
            </p:grpSpPr>
            <p:sp>
              <p:nvSpPr>
                <p:cNvPr id="2218" name=""/>
                <p:cNvSpPr/>
                <p:nvPr/>
              </p:nvSpPr>
              <p:spPr>
                <a:xfrm rot="3885600">
                  <a:off x="1067040" y="2404800"/>
                  <a:ext cx="75960" cy="67068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19" name=""/>
                <p:cNvGrpSpPr/>
                <p:nvPr/>
              </p:nvGrpSpPr>
              <p:grpSpPr>
                <a:xfrm>
                  <a:off x="1192320" y="2388240"/>
                  <a:ext cx="433080" cy="418680"/>
                  <a:chOff x="1192320" y="2388240"/>
                  <a:chExt cx="433080" cy="418680"/>
                </a:xfrm>
              </p:grpSpPr>
              <p:sp>
                <p:nvSpPr>
                  <p:cNvPr id="2220" name=""/>
                  <p:cNvSpPr/>
                  <p:nvPr/>
                </p:nvSpPr>
                <p:spPr>
                  <a:xfrm rot="3885600">
                    <a:off x="1256400" y="2430000"/>
                    <a:ext cx="304920" cy="3351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1" name=""/>
                  <p:cNvSpPr/>
                  <p:nvPr/>
                </p:nvSpPr>
                <p:spPr>
                  <a:xfrm rot="3885600">
                    <a:off x="1332360" y="2513520"/>
                    <a:ext cx="15264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222" name=""/>
            <p:cNvSpPr/>
            <p:nvPr/>
          </p:nvSpPr>
          <p:spPr>
            <a:xfrm>
              <a:off x="380880" y="35812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ute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3" name=""/>
          <p:cNvGrpSpPr/>
          <p:nvPr/>
        </p:nvGrpSpPr>
        <p:grpSpPr>
          <a:xfrm>
            <a:off x="784080" y="2388240"/>
            <a:ext cx="839520" cy="1040760"/>
            <a:chOff x="784080" y="2388240"/>
            <a:chExt cx="839520" cy="1040760"/>
          </a:xfrm>
        </p:grpSpPr>
        <p:sp>
          <p:nvSpPr>
            <p:cNvPr id="2224" name=""/>
            <p:cNvSpPr/>
            <p:nvPr/>
          </p:nvSpPr>
          <p:spPr>
            <a:xfrm>
              <a:off x="928080" y="2514600"/>
              <a:ext cx="12564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5" name=""/>
            <p:cNvGrpSpPr/>
            <p:nvPr/>
          </p:nvGrpSpPr>
          <p:grpSpPr>
            <a:xfrm>
              <a:off x="784080" y="2388240"/>
              <a:ext cx="839520" cy="529200"/>
              <a:chOff x="784080" y="2388240"/>
              <a:chExt cx="839520" cy="529200"/>
            </a:xfrm>
          </p:grpSpPr>
          <p:sp>
            <p:nvSpPr>
              <p:cNvPr id="2226" name=""/>
              <p:cNvSpPr/>
              <p:nvPr/>
            </p:nvSpPr>
            <p:spPr>
              <a:xfrm rot="3885600">
                <a:off x="1065240" y="2404800"/>
                <a:ext cx="75960" cy="67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7" name=""/>
              <p:cNvGrpSpPr/>
              <p:nvPr/>
            </p:nvGrpSpPr>
            <p:grpSpPr>
              <a:xfrm>
                <a:off x="1190520" y="2388240"/>
                <a:ext cx="433080" cy="418680"/>
                <a:chOff x="1190520" y="2388240"/>
                <a:chExt cx="433080" cy="418680"/>
              </a:xfrm>
            </p:grpSpPr>
            <p:sp>
              <p:nvSpPr>
                <p:cNvPr id="2228" name=""/>
                <p:cNvSpPr/>
                <p:nvPr/>
              </p:nvSpPr>
              <p:spPr>
                <a:xfrm rot="3885600">
                  <a:off x="1254600" y="2430000"/>
                  <a:ext cx="304920" cy="3351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 rot="3885600">
                  <a:off x="1330560" y="2513520"/>
                  <a:ext cx="152640" cy="16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30" name=""/>
          <p:cNvGrpSpPr/>
          <p:nvPr/>
        </p:nvGrpSpPr>
        <p:grpSpPr>
          <a:xfrm>
            <a:off x="761760" y="2514600"/>
            <a:ext cx="839880" cy="914400"/>
            <a:chOff x="761760" y="2514600"/>
            <a:chExt cx="839880" cy="914400"/>
          </a:xfrm>
        </p:grpSpPr>
        <p:sp>
          <p:nvSpPr>
            <p:cNvPr id="2231" name=""/>
            <p:cNvSpPr/>
            <p:nvPr/>
          </p:nvSpPr>
          <p:spPr>
            <a:xfrm>
              <a:off x="930240" y="2514600"/>
              <a:ext cx="124920" cy="914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2" name=""/>
            <p:cNvGrpSpPr/>
            <p:nvPr/>
          </p:nvGrpSpPr>
          <p:grpSpPr>
            <a:xfrm>
              <a:off x="761760" y="2553840"/>
              <a:ext cx="839880" cy="307800"/>
              <a:chOff x="761760" y="2553840"/>
              <a:chExt cx="839880" cy="307800"/>
            </a:xfrm>
          </p:grpSpPr>
          <p:sp>
            <p:nvSpPr>
              <p:cNvPr id="2233" name=""/>
              <p:cNvSpPr/>
              <p:nvPr/>
            </p:nvSpPr>
            <p:spPr>
              <a:xfrm rot="5434200">
                <a:off x="1059120" y="2368440"/>
                <a:ext cx="75960" cy="67068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34" name=""/>
              <p:cNvGrpSpPr/>
              <p:nvPr/>
            </p:nvGrpSpPr>
            <p:grpSpPr>
              <a:xfrm>
                <a:off x="1263600" y="2553840"/>
                <a:ext cx="338040" cy="307800"/>
                <a:chOff x="1263600" y="2553840"/>
                <a:chExt cx="338040" cy="307800"/>
              </a:xfrm>
            </p:grpSpPr>
            <p:sp>
              <p:nvSpPr>
                <p:cNvPr id="2235" name=""/>
                <p:cNvSpPr/>
                <p:nvPr/>
              </p:nvSpPr>
              <p:spPr>
                <a:xfrm rot="5434200">
                  <a:off x="1280160" y="2539800"/>
                  <a:ext cx="304560" cy="335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 rot="5434200">
                  <a:off x="1356480" y="2623320"/>
                  <a:ext cx="152280" cy="16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37" name=""/>
          <p:cNvGrpSpPr/>
          <p:nvPr/>
        </p:nvGrpSpPr>
        <p:grpSpPr>
          <a:xfrm>
            <a:off x="2133720" y="3733920"/>
            <a:ext cx="1220040" cy="1526400"/>
            <a:chOff x="2133720" y="3733920"/>
            <a:chExt cx="1220040" cy="1526400"/>
          </a:xfrm>
        </p:grpSpPr>
        <p:grpSp>
          <p:nvGrpSpPr>
            <p:cNvPr id="2238" name=""/>
            <p:cNvGrpSpPr/>
            <p:nvPr/>
          </p:nvGrpSpPr>
          <p:grpSpPr>
            <a:xfrm>
              <a:off x="2513880" y="3733920"/>
              <a:ext cx="839880" cy="914400"/>
              <a:chOff x="2513880" y="3733920"/>
              <a:chExt cx="839880" cy="914400"/>
            </a:xfrm>
          </p:grpSpPr>
          <p:sp>
            <p:nvSpPr>
              <p:cNvPr id="2239" name=""/>
              <p:cNvSpPr/>
              <p:nvPr/>
            </p:nvSpPr>
            <p:spPr>
              <a:xfrm>
                <a:off x="2682360" y="3733920"/>
                <a:ext cx="124920" cy="9144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0" name=""/>
              <p:cNvGrpSpPr/>
              <p:nvPr/>
            </p:nvGrpSpPr>
            <p:grpSpPr>
              <a:xfrm>
                <a:off x="2513880" y="3773160"/>
                <a:ext cx="839880" cy="307800"/>
                <a:chOff x="2513880" y="3773160"/>
                <a:chExt cx="839880" cy="307800"/>
              </a:xfrm>
            </p:grpSpPr>
            <p:sp>
              <p:nvSpPr>
                <p:cNvPr id="2241" name=""/>
                <p:cNvSpPr/>
                <p:nvPr/>
              </p:nvSpPr>
              <p:spPr>
                <a:xfrm rot="5434200">
                  <a:off x="2811240" y="3587760"/>
                  <a:ext cx="75960" cy="67068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42" name=""/>
                <p:cNvGrpSpPr/>
                <p:nvPr/>
              </p:nvGrpSpPr>
              <p:grpSpPr>
                <a:xfrm>
                  <a:off x="3015720" y="3773160"/>
                  <a:ext cx="338040" cy="307800"/>
                  <a:chOff x="3015720" y="3773160"/>
                  <a:chExt cx="338040" cy="307800"/>
                </a:xfrm>
              </p:grpSpPr>
              <p:sp>
                <p:nvSpPr>
                  <p:cNvPr id="2243" name=""/>
                  <p:cNvSpPr/>
                  <p:nvPr/>
                </p:nvSpPr>
                <p:spPr>
                  <a:xfrm rot="5434200">
                    <a:off x="3032280" y="3759120"/>
                    <a:ext cx="304560" cy="3351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4" name=""/>
                  <p:cNvSpPr/>
                  <p:nvPr/>
                </p:nvSpPr>
                <p:spPr>
                  <a:xfrm rot="5434200">
                    <a:off x="3108600" y="3842640"/>
                    <a:ext cx="15228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245" name=""/>
            <p:cNvSpPr/>
            <p:nvPr/>
          </p:nvSpPr>
          <p:spPr>
            <a:xfrm>
              <a:off x="2133720" y="48006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l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6" name=""/>
          <p:cNvGrpSpPr/>
          <p:nvPr/>
        </p:nvGrpSpPr>
        <p:grpSpPr>
          <a:xfrm>
            <a:off x="1066680" y="3027240"/>
            <a:ext cx="7238880" cy="304920"/>
            <a:chOff x="1066680" y="3027240"/>
            <a:chExt cx="7238880" cy="304920"/>
          </a:xfrm>
        </p:grpSpPr>
        <p:sp>
          <p:nvSpPr>
            <p:cNvPr id="2247" name=""/>
            <p:cNvSpPr/>
            <p:nvPr/>
          </p:nvSpPr>
          <p:spPr>
            <a:xfrm>
              <a:off x="1143000" y="3027240"/>
              <a:ext cx="7162560" cy="3049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066680" y="3092400"/>
              <a:ext cx="723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066680" y="3244680"/>
              <a:ext cx="723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50" name=""/>
          <p:cNvGraphicFramePr/>
          <p:nvPr/>
        </p:nvGraphicFramePr>
        <p:xfrm>
          <a:off x="1752480" y="2749680"/>
          <a:ext cx="914400" cy="469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52480" y="2749680"/>
                    <a:ext cx="91440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2" dur="indefinite" restart="never" nodeType="tmRoot">
          <p:childTnLst>
            <p:seq>
              <p:cTn id="2553" dur="indefinite" nodeType="mainSeq">
                <p:childTnLst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8" dur="500"/>
                                        <p:tgtEl>
                                          <p:spTgt spid="2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3" dur="500"/>
                                        <p:tgtEl>
                                          <p:spTgt spid="2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4" fill="hold">
                      <p:stCondLst>
                        <p:cond delay="indefinite"/>
                      </p:stCondLst>
                      <p:childTnLst>
                        <p:par>
                          <p:cTn id="2565" fill="hold">
                            <p:stCondLst>
                              <p:cond delay="0"/>
                            </p:stCondLst>
                            <p:childTnLst>
                              <p:par>
                                <p:cTn id="25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8" dur="5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9" fill="hold">
                            <p:stCondLst>
                              <p:cond delay="500"/>
                            </p:stCondLst>
                            <p:childTnLst>
                              <p:par>
                                <p:cTn id="2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2" dur="500"/>
                                        <p:tgtEl>
                                          <p:spTgt spid="2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6" dur="500"/>
                                        <p:tgtEl>
                                          <p:spTgt spid="2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fill="hold">
                      <p:stCondLst>
                        <p:cond delay="indefinite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1" dur="500"/>
                                        <p:tgtEl>
                                          <p:spTgt spid="2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2" fill="hold">
                            <p:stCondLst>
                              <p:cond delay="500"/>
                            </p:stCondLst>
                            <p:childTnLst>
                              <p:par>
                                <p:cTn id="2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5" dur="500"/>
                                        <p:tgtEl>
                                          <p:spTgt spid="2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6" fill="hold">
                      <p:stCondLst>
                        <p:cond delay="indefinite"/>
                      </p:stCondLst>
                      <p:childTnLst>
                        <p:par>
                          <p:cTn id="2587" fill="hold">
                            <p:stCondLst>
                              <p:cond delay="0"/>
                            </p:stCondLst>
                            <p:childTnLst>
                              <p:par>
                                <p:cTn id="25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0" dur="500"/>
                                        <p:tgtEl>
                                          <p:spTgt spid="2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1" fill="hold">
                      <p:stCondLst>
                        <p:cond delay="indefinite"/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5" dur="500"/>
                                        <p:tgtEl>
                                          <p:spTgt spid="2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fill="hold">
                            <p:stCondLst>
                              <p:cond delay="500"/>
                            </p:stCondLst>
                            <p:childTnLst>
                              <p:par>
                                <p:cTn id="25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 with 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5489280" y="2649600"/>
            <a:ext cx="20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4" name=""/>
          <p:cNvGrpSpPr/>
          <p:nvPr/>
        </p:nvGrpSpPr>
        <p:grpSpPr>
          <a:xfrm>
            <a:off x="761760" y="2209680"/>
            <a:ext cx="7543800" cy="3050640"/>
            <a:chOff x="761760" y="2209680"/>
            <a:chExt cx="7543800" cy="3050640"/>
          </a:xfrm>
        </p:grpSpPr>
        <p:sp>
          <p:nvSpPr>
            <p:cNvPr id="2255" name=""/>
            <p:cNvSpPr/>
            <p:nvPr/>
          </p:nvSpPr>
          <p:spPr>
            <a:xfrm>
              <a:off x="1752480" y="2927520"/>
              <a:ext cx="3886200" cy="17967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2259000" y="3376440"/>
              <a:ext cx="2873520" cy="898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836720" y="3017880"/>
              <a:ext cx="3718080" cy="1616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8" name=""/>
            <p:cNvGrpSpPr/>
            <p:nvPr/>
          </p:nvGrpSpPr>
          <p:grpSpPr>
            <a:xfrm>
              <a:off x="1066680" y="3027240"/>
              <a:ext cx="7238880" cy="304920"/>
              <a:chOff x="1066680" y="3027240"/>
              <a:chExt cx="7238880" cy="304920"/>
            </a:xfrm>
          </p:grpSpPr>
          <p:sp>
            <p:nvSpPr>
              <p:cNvPr id="2259" name=""/>
              <p:cNvSpPr/>
              <p:nvPr/>
            </p:nvSpPr>
            <p:spPr>
              <a:xfrm>
                <a:off x="1143000" y="3027240"/>
                <a:ext cx="7162560" cy="304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066680" y="3092400"/>
                <a:ext cx="723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066680" y="3244680"/>
                <a:ext cx="723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2" name=""/>
            <p:cNvSpPr/>
            <p:nvPr/>
          </p:nvSpPr>
          <p:spPr>
            <a:xfrm>
              <a:off x="2090880" y="3260880"/>
              <a:ext cx="3209760" cy="1168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2590920" y="2798640"/>
              <a:ext cx="21333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3962520" y="3459240"/>
              <a:ext cx="838080" cy="177840"/>
            </a:xfrm>
            <a:custGeom>
              <a:avLst/>
              <a:gdLst/>
              <a:ahLst/>
              <a:rect l="l" t="t" r="r" b="b"/>
              <a:pathLst>
                <a:path w="528" h="112">
                  <a:moveTo>
                    <a:pt x="0" y="16"/>
                  </a:moveTo>
                  <a:cubicBezTo>
                    <a:pt x="100" y="8"/>
                    <a:pt x="200" y="0"/>
                    <a:pt x="288" y="16"/>
                  </a:cubicBezTo>
                  <a:cubicBezTo>
                    <a:pt x="376" y="32"/>
                    <a:pt x="452" y="72"/>
                    <a:pt x="528" y="112"/>
                  </a:cubicBezTo>
                </a:path>
              </a:pathLst>
            </a:custGeom>
            <a:noFill/>
            <a:ln w="3816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3962520" y="2874960"/>
              <a:ext cx="838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3963960" y="249696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Arial"/>
                </a:rPr>
                <a:t>tr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3847320" y="341136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0128"/>
                  </a:solidFill>
                  <a:latin typeface="Arial"/>
                </a:rPr>
                <a:t>fa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3505320" y="22096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Arial"/>
                </a:rPr>
                <a:t>BoolExpr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9" name=""/>
            <p:cNvGrpSpPr/>
            <p:nvPr/>
          </p:nvGrpSpPr>
          <p:grpSpPr>
            <a:xfrm>
              <a:off x="1828800" y="3733920"/>
              <a:ext cx="1220400" cy="1526400"/>
              <a:chOff x="1828800" y="3733920"/>
              <a:chExt cx="1220400" cy="1526400"/>
            </a:xfrm>
          </p:grpSpPr>
          <p:grpSp>
            <p:nvGrpSpPr>
              <p:cNvPr id="2270" name=""/>
              <p:cNvGrpSpPr/>
              <p:nvPr/>
            </p:nvGrpSpPr>
            <p:grpSpPr>
              <a:xfrm>
                <a:off x="2209320" y="3733920"/>
                <a:ext cx="839880" cy="914400"/>
                <a:chOff x="2209320" y="3733920"/>
                <a:chExt cx="839880" cy="914400"/>
              </a:xfrm>
            </p:grpSpPr>
            <p:sp>
              <p:nvSpPr>
                <p:cNvPr id="2271" name=""/>
                <p:cNvSpPr/>
                <p:nvPr/>
              </p:nvSpPr>
              <p:spPr>
                <a:xfrm>
                  <a:off x="2378160" y="3733920"/>
                  <a:ext cx="125280" cy="91440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72" name=""/>
                <p:cNvGrpSpPr/>
                <p:nvPr/>
              </p:nvGrpSpPr>
              <p:grpSpPr>
                <a:xfrm>
                  <a:off x="2209320" y="3773160"/>
                  <a:ext cx="839880" cy="307800"/>
                  <a:chOff x="2209320" y="3773160"/>
                  <a:chExt cx="839880" cy="307800"/>
                </a:xfrm>
              </p:grpSpPr>
              <p:sp>
                <p:nvSpPr>
                  <p:cNvPr id="2273" name=""/>
                  <p:cNvSpPr/>
                  <p:nvPr/>
                </p:nvSpPr>
                <p:spPr>
                  <a:xfrm rot="5434200">
                    <a:off x="2506680" y="3587760"/>
                    <a:ext cx="75960" cy="67068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74" name=""/>
                  <p:cNvGrpSpPr/>
                  <p:nvPr/>
                </p:nvGrpSpPr>
                <p:grpSpPr>
                  <a:xfrm>
                    <a:off x="2711160" y="3773160"/>
                    <a:ext cx="338040" cy="307800"/>
                    <a:chOff x="2711160" y="3773160"/>
                    <a:chExt cx="338040" cy="307800"/>
                  </a:xfrm>
                </p:grpSpPr>
                <p:sp>
                  <p:nvSpPr>
                    <p:cNvPr id="2275" name=""/>
                    <p:cNvSpPr/>
                    <p:nvPr/>
                  </p:nvSpPr>
                  <p:spPr>
                    <a:xfrm rot="5434200">
                      <a:off x="2727720" y="3759120"/>
                      <a:ext cx="304560" cy="335160"/>
                    </a:xfrm>
                    <a:prstGeom prst="ellipse">
                      <a:avLst/>
                    </a:prstGeom>
                    <a:solidFill>
                      <a:srgbClr val="fc0128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6" name=""/>
                    <p:cNvSpPr/>
                    <p:nvPr/>
                  </p:nvSpPr>
                  <p:spPr>
                    <a:xfrm rot="5434200">
                      <a:off x="2804040" y="3842640"/>
                      <a:ext cx="152280" cy="167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277" name=""/>
              <p:cNvSpPr/>
              <p:nvPr/>
            </p:nvSpPr>
            <p:spPr>
              <a:xfrm>
                <a:off x="1828800" y="4800600"/>
                <a:ext cx="12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dela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8" name=""/>
            <p:cNvGrpSpPr/>
            <p:nvPr/>
          </p:nvGrpSpPr>
          <p:grpSpPr>
            <a:xfrm>
              <a:off x="784080" y="2388240"/>
              <a:ext cx="839520" cy="1040760"/>
              <a:chOff x="784080" y="2388240"/>
              <a:chExt cx="839520" cy="1040760"/>
            </a:xfrm>
          </p:grpSpPr>
          <p:sp>
            <p:nvSpPr>
              <p:cNvPr id="2279" name=""/>
              <p:cNvSpPr/>
              <p:nvPr/>
            </p:nvSpPr>
            <p:spPr>
              <a:xfrm>
                <a:off x="928080" y="2514600"/>
                <a:ext cx="125640" cy="914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80" name=""/>
              <p:cNvGrpSpPr/>
              <p:nvPr/>
            </p:nvGrpSpPr>
            <p:grpSpPr>
              <a:xfrm>
                <a:off x="784080" y="2388240"/>
                <a:ext cx="839520" cy="529200"/>
                <a:chOff x="784080" y="2388240"/>
                <a:chExt cx="839520" cy="529200"/>
              </a:xfrm>
            </p:grpSpPr>
            <p:sp>
              <p:nvSpPr>
                <p:cNvPr id="2281" name=""/>
                <p:cNvSpPr/>
                <p:nvPr/>
              </p:nvSpPr>
              <p:spPr>
                <a:xfrm rot="3885600">
                  <a:off x="1065240" y="2404800"/>
                  <a:ext cx="75960" cy="670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82" name=""/>
                <p:cNvGrpSpPr/>
                <p:nvPr/>
              </p:nvGrpSpPr>
              <p:grpSpPr>
                <a:xfrm>
                  <a:off x="1190520" y="2388240"/>
                  <a:ext cx="433080" cy="418680"/>
                  <a:chOff x="1190520" y="2388240"/>
                  <a:chExt cx="433080" cy="418680"/>
                </a:xfrm>
              </p:grpSpPr>
              <p:sp>
                <p:nvSpPr>
                  <p:cNvPr id="2283" name=""/>
                  <p:cNvSpPr/>
                  <p:nvPr/>
                </p:nvSpPr>
                <p:spPr>
                  <a:xfrm rot="3885600">
                    <a:off x="1254600" y="2430000"/>
                    <a:ext cx="304920" cy="335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4" name=""/>
                  <p:cNvSpPr/>
                  <p:nvPr/>
                </p:nvSpPr>
                <p:spPr>
                  <a:xfrm rot="3885600">
                    <a:off x="1330560" y="2513520"/>
                    <a:ext cx="15264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285" name=""/>
            <p:cNvGrpSpPr/>
            <p:nvPr/>
          </p:nvGrpSpPr>
          <p:grpSpPr>
            <a:xfrm>
              <a:off x="761760" y="2514600"/>
              <a:ext cx="839880" cy="914400"/>
              <a:chOff x="761760" y="2514600"/>
              <a:chExt cx="839880" cy="914400"/>
            </a:xfrm>
          </p:grpSpPr>
          <p:sp>
            <p:nvSpPr>
              <p:cNvPr id="2286" name=""/>
              <p:cNvSpPr/>
              <p:nvPr/>
            </p:nvSpPr>
            <p:spPr>
              <a:xfrm>
                <a:off x="930240" y="2514600"/>
                <a:ext cx="124920" cy="91440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87" name=""/>
              <p:cNvGrpSpPr/>
              <p:nvPr/>
            </p:nvGrpSpPr>
            <p:grpSpPr>
              <a:xfrm>
                <a:off x="761760" y="2553840"/>
                <a:ext cx="839880" cy="307800"/>
                <a:chOff x="761760" y="2553840"/>
                <a:chExt cx="839880" cy="307800"/>
              </a:xfrm>
            </p:grpSpPr>
            <p:sp>
              <p:nvSpPr>
                <p:cNvPr id="2288" name=""/>
                <p:cNvSpPr/>
                <p:nvPr/>
              </p:nvSpPr>
              <p:spPr>
                <a:xfrm rot="5434200">
                  <a:off x="1059120" y="2368440"/>
                  <a:ext cx="75960" cy="67068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89" name=""/>
                <p:cNvGrpSpPr/>
                <p:nvPr/>
              </p:nvGrpSpPr>
              <p:grpSpPr>
                <a:xfrm>
                  <a:off x="1263600" y="2553840"/>
                  <a:ext cx="338040" cy="307800"/>
                  <a:chOff x="1263600" y="2553840"/>
                  <a:chExt cx="338040" cy="307800"/>
                </a:xfrm>
              </p:grpSpPr>
              <p:sp>
                <p:nvSpPr>
                  <p:cNvPr id="2290" name=""/>
                  <p:cNvSpPr/>
                  <p:nvPr/>
                </p:nvSpPr>
                <p:spPr>
                  <a:xfrm rot="5434200">
                    <a:off x="1280160" y="2539800"/>
                    <a:ext cx="304560" cy="3351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1" name=""/>
                  <p:cNvSpPr/>
                  <p:nvPr/>
                </p:nvSpPr>
                <p:spPr>
                  <a:xfrm rot="5434200">
                    <a:off x="1356480" y="2623320"/>
                    <a:ext cx="15228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292" name=""/>
            <p:cNvSpPr/>
            <p:nvPr/>
          </p:nvSpPr>
          <p:spPr>
            <a:xfrm>
              <a:off x="1414440" y="4835520"/>
              <a:ext cx="1440" cy="14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 flipH="1" rot="495600">
              <a:off x="2842920" y="4143240"/>
              <a:ext cx="912600" cy="469800"/>
            </a:xfrm>
            <a:custGeom>
              <a:avLst/>
              <a:gdLst/>
              <a:ahLst/>
              <a:rect l="l" t="t" r="r" b="b"/>
              <a:pathLst>
                <a:path w="2301" h="1182">
                  <a:moveTo>
                    <a:pt x="366" y="509"/>
                  </a:moveTo>
                  <a:lnTo>
                    <a:pt x="366" y="495"/>
                  </a:lnTo>
                  <a:lnTo>
                    <a:pt x="368" y="481"/>
                  </a:lnTo>
                  <a:lnTo>
                    <a:pt x="373" y="468"/>
                  </a:lnTo>
                  <a:lnTo>
                    <a:pt x="380" y="457"/>
                  </a:lnTo>
                  <a:lnTo>
                    <a:pt x="445" y="466"/>
                  </a:lnTo>
                  <a:lnTo>
                    <a:pt x="446" y="479"/>
                  </a:lnTo>
                  <a:lnTo>
                    <a:pt x="446" y="496"/>
                  </a:lnTo>
                  <a:lnTo>
                    <a:pt x="450" y="510"/>
                  </a:lnTo>
                  <a:lnTo>
                    <a:pt x="462" y="513"/>
                  </a:lnTo>
                  <a:lnTo>
                    <a:pt x="462" y="508"/>
                  </a:lnTo>
                  <a:lnTo>
                    <a:pt x="462" y="502"/>
                  </a:lnTo>
                  <a:lnTo>
                    <a:pt x="462" y="496"/>
                  </a:lnTo>
                  <a:lnTo>
                    <a:pt x="458" y="491"/>
                  </a:lnTo>
                  <a:lnTo>
                    <a:pt x="461" y="487"/>
                  </a:lnTo>
                  <a:lnTo>
                    <a:pt x="464" y="482"/>
                  </a:lnTo>
                  <a:lnTo>
                    <a:pt x="468" y="480"/>
                  </a:lnTo>
                  <a:lnTo>
                    <a:pt x="472" y="477"/>
                  </a:lnTo>
                  <a:lnTo>
                    <a:pt x="475" y="468"/>
                  </a:lnTo>
                  <a:lnTo>
                    <a:pt x="477" y="458"/>
                  </a:lnTo>
                  <a:lnTo>
                    <a:pt x="476" y="447"/>
                  </a:lnTo>
                  <a:lnTo>
                    <a:pt x="474" y="437"/>
                  </a:lnTo>
                  <a:lnTo>
                    <a:pt x="471" y="436"/>
                  </a:lnTo>
                  <a:lnTo>
                    <a:pt x="470" y="436"/>
                  </a:lnTo>
                  <a:lnTo>
                    <a:pt x="469" y="436"/>
                  </a:lnTo>
                  <a:lnTo>
                    <a:pt x="470" y="436"/>
                  </a:lnTo>
                  <a:lnTo>
                    <a:pt x="453" y="435"/>
                  </a:lnTo>
                  <a:lnTo>
                    <a:pt x="448" y="442"/>
                  </a:lnTo>
                  <a:lnTo>
                    <a:pt x="448" y="454"/>
                  </a:lnTo>
                  <a:lnTo>
                    <a:pt x="445" y="466"/>
                  </a:lnTo>
                  <a:lnTo>
                    <a:pt x="380" y="457"/>
                  </a:lnTo>
                  <a:lnTo>
                    <a:pt x="304" y="457"/>
                  </a:lnTo>
                  <a:lnTo>
                    <a:pt x="241" y="457"/>
                  </a:lnTo>
                  <a:lnTo>
                    <a:pt x="237" y="458"/>
                  </a:lnTo>
                  <a:lnTo>
                    <a:pt x="228" y="458"/>
                  </a:lnTo>
                  <a:lnTo>
                    <a:pt x="215" y="458"/>
                  </a:lnTo>
                  <a:lnTo>
                    <a:pt x="201" y="458"/>
                  </a:lnTo>
                  <a:lnTo>
                    <a:pt x="187" y="458"/>
                  </a:lnTo>
                  <a:lnTo>
                    <a:pt x="174" y="457"/>
                  </a:lnTo>
                  <a:lnTo>
                    <a:pt x="165" y="457"/>
                  </a:lnTo>
                  <a:lnTo>
                    <a:pt x="162" y="457"/>
                  </a:lnTo>
                  <a:lnTo>
                    <a:pt x="108" y="461"/>
                  </a:lnTo>
                  <a:lnTo>
                    <a:pt x="103" y="459"/>
                  </a:lnTo>
                  <a:lnTo>
                    <a:pt x="99" y="457"/>
                  </a:lnTo>
                  <a:lnTo>
                    <a:pt x="96" y="452"/>
                  </a:lnTo>
                  <a:lnTo>
                    <a:pt x="97" y="446"/>
                  </a:lnTo>
                  <a:lnTo>
                    <a:pt x="91" y="447"/>
                  </a:lnTo>
                  <a:lnTo>
                    <a:pt x="86" y="450"/>
                  </a:lnTo>
                  <a:lnTo>
                    <a:pt x="80" y="451"/>
                  </a:lnTo>
                  <a:lnTo>
                    <a:pt x="74" y="447"/>
                  </a:lnTo>
                  <a:lnTo>
                    <a:pt x="71" y="439"/>
                  </a:lnTo>
                  <a:lnTo>
                    <a:pt x="67" y="431"/>
                  </a:lnTo>
                  <a:lnTo>
                    <a:pt x="61" y="426"/>
                  </a:lnTo>
                  <a:lnTo>
                    <a:pt x="53" y="429"/>
                  </a:lnTo>
                  <a:lnTo>
                    <a:pt x="45" y="420"/>
                  </a:lnTo>
                  <a:lnTo>
                    <a:pt x="35" y="410"/>
                  </a:lnTo>
                  <a:lnTo>
                    <a:pt x="27" y="400"/>
                  </a:lnTo>
                  <a:lnTo>
                    <a:pt x="24" y="387"/>
                  </a:lnTo>
                  <a:lnTo>
                    <a:pt x="16" y="380"/>
                  </a:lnTo>
                  <a:lnTo>
                    <a:pt x="7" y="372"/>
                  </a:lnTo>
                  <a:lnTo>
                    <a:pt x="2" y="363"/>
                  </a:lnTo>
                  <a:lnTo>
                    <a:pt x="0" y="350"/>
                  </a:lnTo>
                  <a:lnTo>
                    <a:pt x="3" y="342"/>
                  </a:lnTo>
                  <a:lnTo>
                    <a:pt x="468" y="344"/>
                  </a:lnTo>
                  <a:lnTo>
                    <a:pt x="468" y="352"/>
                  </a:lnTo>
                  <a:lnTo>
                    <a:pt x="467" y="360"/>
                  </a:lnTo>
                  <a:lnTo>
                    <a:pt x="463" y="367"/>
                  </a:lnTo>
                  <a:lnTo>
                    <a:pt x="457" y="373"/>
                  </a:lnTo>
                  <a:lnTo>
                    <a:pt x="462" y="376"/>
                  </a:lnTo>
                  <a:lnTo>
                    <a:pt x="467" y="379"/>
                  </a:lnTo>
                  <a:lnTo>
                    <a:pt x="472" y="380"/>
                  </a:lnTo>
                  <a:lnTo>
                    <a:pt x="478" y="380"/>
                  </a:lnTo>
                  <a:lnTo>
                    <a:pt x="476" y="376"/>
                  </a:lnTo>
                  <a:lnTo>
                    <a:pt x="474" y="371"/>
                  </a:lnTo>
                  <a:lnTo>
                    <a:pt x="471" y="366"/>
                  </a:lnTo>
                  <a:lnTo>
                    <a:pt x="472" y="360"/>
                  </a:lnTo>
                  <a:lnTo>
                    <a:pt x="481" y="358"/>
                  </a:lnTo>
                  <a:lnTo>
                    <a:pt x="487" y="355"/>
                  </a:lnTo>
                  <a:lnTo>
                    <a:pt x="494" y="349"/>
                  </a:lnTo>
                  <a:lnTo>
                    <a:pt x="500" y="343"/>
                  </a:lnTo>
                  <a:lnTo>
                    <a:pt x="505" y="338"/>
                  </a:lnTo>
                  <a:lnTo>
                    <a:pt x="511" y="333"/>
                  </a:lnTo>
                  <a:lnTo>
                    <a:pt x="518" y="329"/>
                  </a:lnTo>
                  <a:lnTo>
                    <a:pt x="525" y="327"/>
                  </a:lnTo>
                  <a:lnTo>
                    <a:pt x="536" y="318"/>
                  </a:lnTo>
                  <a:lnTo>
                    <a:pt x="528" y="315"/>
                  </a:lnTo>
                  <a:lnTo>
                    <a:pt x="516" y="315"/>
                  </a:lnTo>
                  <a:lnTo>
                    <a:pt x="507" y="313"/>
                  </a:lnTo>
                  <a:lnTo>
                    <a:pt x="504" y="303"/>
                  </a:lnTo>
                  <a:lnTo>
                    <a:pt x="503" y="303"/>
                  </a:lnTo>
                  <a:lnTo>
                    <a:pt x="503" y="298"/>
                  </a:lnTo>
                  <a:lnTo>
                    <a:pt x="504" y="298"/>
                  </a:lnTo>
                  <a:lnTo>
                    <a:pt x="504" y="299"/>
                  </a:lnTo>
                  <a:lnTo>
                    <a:pt x="507" y="293"/>
                  </a:lnTo>
                  <a:lnTo>
                    <a:pt x="512" y="291"/>
                  </a:lnTo>
                  <a:lnTo>
                    <a:pt x="518" y="291"/>
                  </a:lnTo>
                  <a:lnTo>
                    <a:pt x="525" y="291"/>
                  </a:lnTo>
                  <a:lnTo>
                    <a:pt x="530" y="292"/>
                  </a:lnTo>
                  <a:lnTo>
                    <a:pt x="536" y="292"/>
                  </a:lnTo>
                  <a:lnTo>
                    <a:pt x="541" y="290"/>
                  </a:lnTo>
                  <a:lnTo>
                    <a:pt x="544" y="286"/>
                  </a:lnTo>
                  <a:lnTo>
                    <a:pt x="536" y="284"/>
                  </a:lnTo>
                  <a:lnTo>
                    <a:pt x="528" y="285"/>
                  </a:lnTo>
                  <a:lnTo>
                    <a:pt x="520" y="285"/>
                  </a:lnTo>
                  <a:lnTo>
                    <a:pt x="512" y="284"/>
                  </a:lnTo>
                  <a:lnTo>
                    <a:pt x="498" y="284"/>
                  </a:lnTo>
                  <a:lnTo>
                    <a:pt x="485" y="283"/>
                  </a:lnTo>
                  <a:lnTo>
                    <a:pt x="472" y="284"/>
                  </a:lnTo>
                  <a:lnTo>
                    <a:pt x="460" y="284"/>
                  </a:lnTo>
                  <a:lnTo>
                    <a:pt x="447" y="284"/>
                  </a:lnTo>
                  <a:lnTo>
                    <a:pt x="435" y="284"/>
                  </a:lnTo>
                  <a:lnTo>
                    <a:pt x="423" y="283"/>
                  </a:lnTo>
                  <a:lnTo>
                    <a:pt x="411" y="282"/>
                  </a:lnTo>
                  <a:lnTo>
                    <a:pt x="410" y="277"/>
                  </a:lnTo>
                  <a:lnTo>
                    <a:pt x="409" y="274"/>
                  </a:lnTo>
                  <a:lnTo>
                    <a:pt x="407" y="270"/>
                  </a:lnTo>
                  <a:lnTo>
                    <a:pt x="411" y="267"/>
                  </a:lnTo>
                  <a:lnTo>
                    <a:pt x="433" y="265"/>
                  </a:lnTo>
                  <a:lnTo>
                    <a:pt x="455" y="265"/>
                  </a:lnTo>
                  <a:lnTo>
                    <a:pt x="477" y="265"/>
                  </a:lnTo>
                  <a:lnTo>
                    <a:pt x="498" y="265"/>
                  </a:lnTo>
                  <a:lnTo>
                    <a:pt x="518" y="265"/>
                  </a:lnTo>
                  <a:lnTo>
                    <a:pt x="539" y="265"/>
                  </a:lnTo>
                  <a:lnTo>
                    <a:pt x="561" y="265"/>
                  </a:lnTo>
                  <a:lnTo>
                    <a:pt x="581" y="264"/>
                  </a:lnTo>
                  <a:lnTo>
                    <a:pt x="585" y="267"/>
                  </a:lnTo>
                  <a:lnTo>
                    <a:pt x="588" y="267"/>
                  </a:lnTo>
                  <a:lnTo>
                    <a:pt x="591" y="267"/>
                  </a:lnTo>
                  <a:lnTo>
                    <a:pt x="593" y="269"/>
                  </a:lnTo>
                  <a:lnTo>
                    <a:pt x="594" y="275"/>
                  </a:lnTo>
                  <a:lnTo>
                    <a:pt x="592" y="281"/>
                  </a:lnTo>
                  <a:lnTo>
                    <a:pt x="590" y="284"/>
                  </a:lnTo>
                  <a:lnTo>
                    <a:pt x="587" y="289"/>
                  </a:lnTo>
                  <a:lnTo>
                    <a:pt x="593" y="291"/>
                  </a:lnTo>
                  <a:lnTo>
                    <a:pt x="598" y="292"/>
                  </a:lnTo>
                  <a:lnTo>
                    <a:pt x="603" y="292"/>
                  </a:lnTo>
                  <a:lnTo>
                    <a:pt x="609" y="292"/>
                  </a:lnTo>
                  <a:lnTo>
                    <a:pt x="615" y="292"/>
                  </a:lnTo>
                  <a:lnTo>
                    <a:pt x="620" y="293"/>
                  </a:lnTo>
                  <a:lnTo>
                    <a:pt x="624" y="296"/>
                  </a:lnTo>
                  <a:lnTo>
                    <a:pt x="628" y="300"/>
                  </a:lnTo>
                  <a:lnTo>
                    <a:pt x="629" y="308"/>
                  </a:lnTo>
                  <a:lnTo>
                    <a:pt x="624" y="313"/>
                  </a:lnTo>
                  <a:lnTo>
                    <a:pt x="617" y="315"/>
                  </a:lnTo>
                  <a:lnTo>
                    <a:pt x="610" y="315"/>
                  </a:lnTo>
                  <a:lnTo>
                    <a:pt x="607" y="314"/>
                  </a:lnTo>
                  <a:lnTo>
                    <a:pt x="603" y="313"/>
                  </a:lnTo>
                  <a:lnTo>
                    <a:pt x="599" y="314"/>
                  </a:lnTo>
                  <a:lnTo>
                    <a:pt x="595" y="315"/>
                  </a:lnTo>
                  <a:lnTo>
                    <a:pt x="602" y="318"/>
                  </a:lnTo>
                  <a:lnTo>
                    <a:pt x="608" y="320"/>
                  </a:lnTo>
                  <a:lnTo>
                    <a:pt x="614" y="322"/>
                  </a:lnTo>
                  <a:lnTo>
                    <a:pt x="621" y="323"/>
                  </a:lnTo>
                  <a:lnTo>
                    <a:pt x="627" y="326"/>
                  </a:lnTo>
                  <a:lnTo>
                    <a:pt x="632" y="329"/>
                  </a:lnTo>
                  <a:lnTo>
                    <a:pt x="637" y="333"/>
                  </a:lnTo>
                  <a:lnTo>
                    <a:pt x="643" y="336"/>
                  </a:lnTo>
                  <a:lnTo>
                    <a:pt x="649" y="342"/>
                  </a:lnTo>
                  <a:lnTo>
                    <a:pt x="654" y="348"/>
                  </a:lnTo>
                  <a:lnTo>
                    <a:pt x="661" y="354"/>
                  </a:lnTo>
                  <a:lnTo>
                    <a:pt x="667" y="358"/>
                  </a:lnTo>
                  <a:lnTo>
                    <a:pt x="675" y="380"/>
                  </a:lnTo>
                  <a:lnTo>
                    <a:pt x="672" y="384"/>
                  </a:lnTo>
                  <a:lnTo>
                    <a:pt x="666" y="388"/>
                  </a:lnTo>
                  <a:lnTo>
                    <a:pt x="660" y="391"/>
                  </a:lnTo>
                  <a:lnTo>
                    <a:pt x="656" y="393"/>
                  </a:lnTo>
                  <a:lnTo>
                    <a:pt x="653" y="395"/>
                  </a:lnTo>
                  <a:lnTo>
                    <a:pt x="652" y="399"/>
                  </a:lnTo>
                  <a:lnTo>
                    <a:pt x="653" y="403"/>
                  </a:lnTo>
                  <a:lnTo>
                    <a:pt x="656" y="406"/>
                  </a:lnTo>
                  <a:lnTo>
                    <a:pt x="653" y="417"/>
                  </a:lnTo>
                  <a:lnTo>
                    <a:pt x="651" y="430"/>
                  </a:lnTo>
                  <a:lnTo>
                    <a:pt x="650" y="443"/>
                  </a:lnTo>
                  <a:lnTo>
                    <a:pt x="651" y="453"/>
                  </a:lnTo>
                  <a:lnTo>
                    <a:pt x="651" y="465"/>
                  </a:lnTo>
                  <a:lnTo>
                    <a:pt x="657" y="473"/>
                  </a:lnTo>
                  <a:lnTo>
                    <a:pt x="665" y="479"/>
                  </a:lnTo>
                  <a:lnTo>
                    <a:pt x="675" y="482"/>
                  </a:lnTo>
                  <a:lnTo>
                    <a:pt x="676" y="488"/>
                  </a:lnTo>
                  <a:lnTo>
                    <a:pt x="675" y="494"/>
                  </a:lnTo>
                  <a:lnTo>
                    <a:pt x="673" y="498"/>
                  </a:lnTo>
                  <a:lnTo>
                    <a:pt x="670" y="502"/>
                  </a:lnTo>
                  <a:lnTo>
                    <a:pt x="672" y="502"/>
                  </a:lnTo>
                  <a:lnTo>
                    <a:pt x="671" y="509"/>
                  </a:lnTo>
                  <a:lnTo>
                    <a:pt x="682" y="515"/>
                  </a:lnTo>
                  <a:lnTo>
                    <a:pt x="693" y="519"/>
                  </a:lnTo>
                  <a:lnTo>
                    <a:pt x="704" y="524"/>
                  </a:lnTo>
                  <a:lnTo>
                    <a:pt x="716" y="527"/>
                  </a:lnTo>
                  <a:lnTo>
                    <a:pt x="728" y="531"/>
                  </a:lnTo>
                  <a:lnTo>
                    <a:pt x="739" y="534"/>
                  </a:lnTo>
                  <a:lnTo>
                    <a:pt x="751" y="538"/>
                  </a:lnTo>
                  <a:lnTo>
                    <a:pt x="762" y="542"/>
                  </a:lnTo>
                  <a:lnTo>
                    <a:pt x="775" y="549"/>
                  </a:lnTo>
                  <a:lnTo>
                    <a:pt x="789" y="553"/>
                  </a:lnTo>
                  <a:lnTo>
                    <a:pt x="803" y="555"/>
                  </a:lnTo>
                  <a:lnTo>
                    <a:pt x="818" y="555"/>
                  </a:lnTo>
                  <a:lnTo>
                    <a:pt x="833" y="555"/>
                  </a:lnTo>
                  <a:lnTo>
                    <a:pt x="848" y="554"/>
                  </a:lnTo>
                  <a:lnTo>
                    <a:pt x="863" y="554"/>
                  </a:lnTo>
                  <a:lnTo>
                    <a:pt x="878" y="554"/>
                  </a:lnTo>
                  <a:lnTo>
                    <a:pt x="881" y="550"/>
                  </a:lnTo>
                  <a:lnTo>
                    <a:pt x="875" y="547"/>
                  </a:lnTo>
                  <a:lnTo>
                    <a:pt x="868" y="546"/>
                  </a:lnTo>
                  <a:lnTo>
                    <a:pt x="860" y="546"/>
                  </a:lnTo>
                  <a:lnTo>
                    <a:pt x="852" y="547"/>
                  </a:lnTo>
                  <a:lnTo>
                    <a:pt x="846" y="539"/>
                  </a:lnTo>
                  <a:lnTo>
                    <a:pt x="847" y="528"/>
                  </a:lnTo>
                  <a:lnTo>
                    <a:pt x="850" y="517"/>
                  </a:lnTo>
                  <a:lnTo>
                    <a:pt x="850" y="506"/>
                  </a:lnTo>
                  <a:lnTo>
                    <a:pt x="852" y="493"/>
                  </a:lnTo>
                  <a:lnTo>
                    <a:pt x="853" y="460"/>
                  </a:lnTo>
                  <a:lnTo>
                    <a:pt x="852" y="425"/>
                  </a:lnTo>
                  <a:lnTo>
                    <a:pt x="846" y="403"/>
                  </a:lnTo>
                  <a:lnTo>
                    <a:pt x="846" y="399"/>
                  </a:lnTo>
                  <a:lnTo>
                    <a:pt x="847" y="394"/>
                  </a:lnTo>
                  <a:lnTo>
                    <a:pt x="848" y="388"/>
                  </a:lnTo>
                  <a:lnTo>
                    <a:pt x="850" y="385"/>
                  </a:lnTo>
                  <a:lnTo>
                    <a:pt x="857" y="384"/>
                  </a:lnTo>
                  <a:lnTo>
                    <a:pt x="864" y="384"/>
                  </a:lnTo>
                  <a:lnTo>
                    <a:pt x="871" y="384"/>
                  </a:lnTo>
                  <a:lnTo>
                    <a:pt x="878" y="384"/>
                  </a:lnTo>
                  <a:lnTo>
                    <a:pt x="884" y="384"/>
                  </a:lnTo>
                  <a:lnTo>
                    <a:pt x="891" y="384"/>
                  </a:lnTo>
                  <a:lnTo>
                    <a:pt x="898" y="384"/>
                  </a:lnTo>
                  <a:lnTo>
                    <a:pt x="905" y="382"/>
                  </a:lnTo>
                  <a:lnTo>
                    <a:pt x="918" y="365"/>
                  </a:lnTo>
                  <a:lnTo>
                    <a:pt x="921" y="363"/>
                  </a:lnTo>
                  <a:lnTo>
                    <a:pt x="925" y="360"/>
                  </a:lnTo>
                  <a:lnTo>
                    <a:pt x="927" y="357"/>
                  </a:lnTo>
                  <a:lnTo>
                    <a:pt x="928" y="354"/>
                  </a:lnTo>
                  <a:lnTo>
                    <a:pt x="922" y="352"/>
                  </a:lnTo>
                  <a:lnTo>
                    <a:pt x="917" y="354"/>
                  </a:lnTo>
                  <a:lnTo>
                    <a:pt x="911" y="354"/>
                  </a:lnTo>
                  <a:lnTo>
                    <a:pt x="906" y="355"/>
                  </a:lnTo>
                  <a:lnTo>
                    <a:pt x="900" y="355"/>
                  </a:lnTo>
                  <a:lnTo>
                    <a:pt x="897" y="354"/>
                  </a:lnTo>
                  <a:lnTo>
                    <a:pt x="893" y="350"/>
                  </a:lnTo>
                  <a:lnTo>
                    <a:pt x="890" y="345"/>
                  </a:lnTo>
                  <a:lnTo>
                    <a:pt x="893" y="336"/>
                  </a:lnTo>
                  <a:lnTo>
                    <a:pt x="900" y="328"/>
                  </a:lnTo>
                  <a:lnTo>
                    <a:pt x="906" y="320"/>
                  </a:lnTo>
                  <a:lnTo>
                    <a:pt x="905" y="308"/>
                  </a:lnTo>
                  <a:lnTo>
                    <a:pt x="906" y="308"/>
                  </a:lnTo>
                  <a:lnTo>
                    <a:pt x="908" y="294"/>
                  </a:lnTo>
                  <a:lnTo>
                    <a:pt x="912" y="279"/>
                  </a:lnTo>
                  <a:lnTo>
                    <a:pt x="918" y="267"/>
                  </a:lnTo>
                  <a:lnTo>
                    <a:pt x="927" y="257"/>
                  </a:lnTo>
                  <a:lnTo>
                    <a:pt x="923" y="254"/>
                  </a:lnTo>
                  <a:lnTo>
                    <a:pt x="918" y="259"/>
                  </a:lnTo>
                  <a:lnTo>
                    <a:pt x="913" y="262"/>
                  </a:lnTo>
                  <a:lnTo>
                    <a:pt x="908" y="265"/>
                  </a:lnTo>
                  <a:lnTo>
                    <a:pt x="904" y="269"/>
                  </a:lnTo>
                  <a:lnTo>
                    <a:pt x="899" y="272"/>
                  </a:lnTo>
                  <a:lnTo>
                    <a:pt x="896" y="276"/>
                  </a:lnTo>
                  <a:lnTo>
                    <a:pt x="891" y="279"/>
                  </a:lnTo>
                  <a:lnTo>
                    <a:pt x="885" y="284"/>
                  </a:lnTo>
                  <a:lnTo>
                    <a:pt x="872" y="292"/>
                  </a:lnTo>
                  <a:lnTo>
                    <a:pt x="860" y="300"/>
                  </a:lnTo>
                  <a:lnTo>
                    <a:pt x="848" y="308"/>
                  </a:lnTo>
                  <a:lnTo>
                    <a:pt x="837" y="316"/>
                  </a:lnTo>
                  <a:lnTo>
                    <a:pt x="825" y="325"/>
                  </a:lnTo>
                  <a:lnTo>
                    <a:pt x="813" y="333"/>
                  </a:lnTo>
                  <a:lnTo>
                    <a:pt x="801" y="341"/>
                  </a:lnTo>
                  <a:lnTo>
                    <a:pt x="788" y="349"/>
                  </a:lnTo>
                  <a:lnTo>
                    <a:pt x="774" y="354"/>
                  </a:lnTo>
                  <a:lnTo>
                    <a:pt x="761" y="358"/>
                  </a:lnTo>
                  <a:lnTo>
                    <a:pt x="747" y="364"/>
                  </a:lnTo>
                  <a:lnTo>
                    <a:pt x="733" y="370"/>
                  </a:lnTo>
                  <a:lnTo>
                    <a:pt x="721" y="374"/>
                  </a:lnTo>
                  <a:lnTo>
                    <a:pt x="705" y="378"/>
                  </a:lnTo>
                  <a:lnTo>
                    <a:pt x="690" y="380"/>
                  </a:lnTo>
                  <a:lnTo>
                    <a:pt x="675" y="380"/>
                  </a:lnTo>
                  <a:lnTo>
                    <a:pt x="667" y="358"/>
                  </a:lnTo>
                  <a:lnTo>
                    <a:pt x="678" y="358"/>
                  </a:lnTo>
                  <a:lnTo>
                    <a:pt x="689" y="357"/>
                  </a:lnTo>
                  <a:lnTo>
                    <a:pt x="700" y="356"/>
                  </a:lnTo>
                  <a:lnTo>
                    <a:pt x="711" y="355"/>
                  </a:lnTo>
                  <a:lnTo>
                    <a:pt x="722" y="352"/>
                  </a:lnTo>
                  <a:lnTo>
                    <a:pt x="732" y="349"/>
                  </a:lnTo>
                  <a:lnTo>
                    <a:pt x="741" y="345"/>
                  </a:lnTo>
                  <a:lnTo>
                    <a:pt x="751" y="341"/>
                  </a:lnTo>
                  <a:lnTo>
                    <a:pt x="774" y="333"/>
                  </a:lnTo>
                  <a:lnTo>
                    <a:pt x="796" y="322"/>
                  </a:lnTo>
                  <a:lnTo>
                    <a:pt x="816" y="311"/>
                  </a:lnTo>
                  <a:lnTo>
                    <a:pt x="835" y="297"/>
                  </a:lnTo>
                  <a:lnTo>
                    <a:pt x="853" y="283"/>
                  </a:lnTo>
                  <a:lnTo>
                    <a:pt x="871" y="268"/>
                  </a:lnTo>
                  <a:lnTo>
                    <a:pt x="890" y="254"/>
                  </a:lnTo>
                  <a:lnTo>
                    <a:pt x="910" y="240"/>
                  </a:lnTo>
                  <a:lnTo>
                    <a:pt x="915" y="234"/>
                  </a:lnTo>
                  <a:lnTo>
                    <a:pt x="921" y="226"/>
                  </a:lnTo>
                  <a:lnTo>
                    <a:pt x="927" y="219"/>
                  </a:lnTo>
                  <a:lnTo>
                    <a:pt x="935" y="213"/>
                  </a:lnTo>
                  <a:lnTo>
                    <a:pt x="941" y="213"/>
                  </a:lnTo>
                  <a:lnTo>
                    <a:pt x="947" y="213"/>
                  </a:lnTo>
                  <a:lnTo>
                    <a:pt x="952" y="216"/>
                  </a:lnTo>
                  <a:lnTo>
                    <a:pt x="955" y="221"/>
                  </a:lnTo>
                  <a:lnTo>
                    <a:pt x="955" y="227"/>
                  </a:lnTo>
                  <a:lnTo>
                    <a:pt x="955" y="233"/>
                  </a:lnTo>
                  <a:lnTo>
                    <a:pt x="956" y="239"/>
                  </a:lnTo>
                  <a:lnTo>
                    <a:pt x="961" y="242"/>
                  </a:lnTo>
                  <a:lnTo>
                    <a:pt x="964" y="250"/>
                  </a:lnTo>
                  <a:lnTo>
                    <a:pt x="969" y="259"/>
                  </a:lnTo>
                  <a:lnTo>
                    <a:pt x="976" y="265"/>
                  </a:lnTo>
                  <a:lnTo>
                    <a:pt x="983" y="272"/>
                  </a:lnTo>
                  <a:lnTo>
                    <a:pt x="987" y="291"/>
                  </a:lnTo>
                  <a:lnTo>
                    <a:pt x="988" y="311"/>
                  </a:lnTo>
                  <a:lnTo>
                    <a:pt x="992" y="327"/>
                  </a:lnTo>
                  <a:lnTo>
                    <a:pt x="1006" y="340"/>
                  </a:lnTo>
                  <a:lnTo>
                    <a:pt x="1007" y="342"/>
                  </a:lnTo>
                  <a:lnTo>
                    <a:pt x="1006" y="344"/>
                  </a:lnTo>
                  <a:lnTo>
                    <a:pt x="1005" y="347"/>
                  </a:lnTo>
                  <a:lnTo>
                    <a:pt x="1003" y="350"/>
                  </a:lnTo>
                  <a:lnTo>
                    <a:pt x="957" y="352"/>
                  </a:lnTo>
                  <a:lnTo>
                    <a:pt x="961" y="359"/>
                  </a:lnTo>
                  <a:lnTo>
                    <a:pt x="970" y="365"/>
                  </a:lnTo>
                  <a:lnTo>
                    <a:pt x="979" y="371"/>
                  </a:lnTo>
                  <a:lnTo>
                    <a:pt x="983" y="380"/>
                  </a:lnTo>
                  <a:lnTo>
                    <a:pt x="987" y="379"/>
                  </a:lnTo>
                  <a:lnTo>
                    <a:pt x="988" y="379"/>
                  </a:lnTo>
                  <a:lnTo>
                    <a:pt x="993" y="380"/>
                  </a:lnTo>
                  <a:lnTo>
                    <a:pt x="1000" y="381"/>
                  </a:lnTo>
                  <a:lnTo>
                    <a:pt x="1008" y="382"/>
                  </a:lnTo>
                  <a:lnTo>
                    <a:pt x="1016" y="384"/>
                  </a:lnTo>
                  <a:lnTo>
                    <a:pt x="1026" y="385"/>
                  </a:lnTo>
                  <a:lnTo>
                    <a:pt x="1034" y="385"/>
                  </a:lnTo>
                  <a:lnTo>
                    <a:pt x="1042" y="384"/>
                  </a:lnTo>
                  <a:lnTo>
                    <a:pt x="1046" y="387"/>
                  </a:lnTo>
                  <a:lnTo>
                    <a:pt x="1049" y="391"/>
                  </a:lnTo>
                  <a:lnTo>
                    <a:pt x="1050" y="396"/>
                  </a:lnTo>
                  <a:lnTo>
                    <a:pt x="1050" y="402"/>
                  </a:lnTo>
                  <a:lnTo>
                    <a:pt x="1043" y="413"/>
                  </a:lnTo>
                  <a:lnTo>
                    <a:pt x="1041" y="426"/>
                  </a:lnTo>
                  <a:lnTo>
                    <a:pt x="1041" y="443"/>
                  </a:lnTo>
                  <a:lnTo>
                    <a:pt x="1039" y="457"/>
                  </a:lnTo>
                  <a:lnTo>
                    <a:pt x="1041" y="467"/>
                  </a:lnTo>
                  <a:lnTo>
                    <a:pt x="1039" y="476"/>
                  </a:lnTo>
                  <a:lnTo>
                    <a:pt x="1038" y="486"/>
                  </a:lnTo>
                  <a:lnTo>
                    <a:pt x="1039" y="497"/>
                  </a:lnTo>
                  <a:lnTo>
                    <a:pt x="1042" y="541"/>
                  </a:lnTo>
                  <a:lnTo>
                    <a:pt x="1038" y="545"/>
                  </a:lnTo>
                  <a:lnTo>
                    <a:pt x="1034" y="545"/>
                  </a:lnTo>
                  <a:lnTo>
                    <a:pt x="1029" y="544"/>
                  </a:lnTo>
                  <a:lnTo>
                    <a:pt x="1024" y="545"/>
                  </a:lnTo>
                  <a:lnTo>
                    <a:pt x="1019" y="545"/>
                  </a:lnTo>
                  <a:lnTo>
                    <a:pt x="1013" y="544"/>
                  </a:lnTo>
                  <a:lnTo>
                    <a:pt x="1007" y="545"/>
                  </a:lnTo>
                  <a:lnTo>
                    <a:pt x="1003" y="548"/>
                  </a:lnTo>
                  <a:lnTo>
                    <a:pt x="1007" y="552"/>
                  </a:lnTo>
                  <a:lnTo>
                    <a:pt x="1012" y="554"/>
                  </a:lnTo>
                  <a:lnTo>
                    <a:pt x="1016" y="554"/>
                  </a:lnTo>
                  <a:lnTo>
                    <a:pt x="1022" y="553"/>
                  </a:lnTo>
                  <a:lnTo>
                    <a:pt x="1028" y="553"/>
                  </a:lnTo>
                  <a:lnTo>
                    <a:pt x="1034" y="553"/>
                  </a:lnTo>
                  <a:lnTo>
                    <a:pt x="1038" y="553"/>
                  </a:lnTo>
                  <a:lnTo>
                    <a:pt x="1043" y="555"/>
                  </a:lnTo>
                  <a:lnTo>
                    <a:pt x="1050" y="554"/>
                  </a:lnTo>
                  <a:lnTo>
                    <a:pt x="1057" y="553"/>
                  </a:lnTo>
                  <a:lnTo>
                    <a:pt x="1060" y="549"/>
                  </a:lnTo>
                  <a:lnTo>
                    <a:pt x="1059" y="542"/>
                  </a:lnTo>
                  <a:lnTo>
                    <a:pt x="1060" y="534"/>
                  </a:lnTo>
                  <a:lnTo>
                    <a:pt x="1060" y="525"/>
                  </a:lnTo>
                  <a:lnTo>
                    <a:pt x="1060" y="517"/>
                  </a:lnTo>
                  <a:lnTo>
                    <a:pt x="1063" y="510"/>
                  </a:lnTo>
                  <a:lnTo>
                    <a:pt x="1063" y="489"/>
                  </a:lnTo>
                  <a:lnTo>
                    <a:pt x="1064" y="489"/>
                  </a:lnTo>
                  <a:lnTo>
                    <a:pt x="1066" y="467"/>
                  </a:lnTo>
                  <a:lnTo>
                    <a:pt x="1067" y="443"/>
                  </a:lnTo>
                  <a:lnTo>
                    <a:pt x="1070" y="420"/>
                  </a:lnTo>
                  <a:lnTo>
                    <a:pt x="1072" y="395"/>
                  </a:lnTo>
                  <a:lnTo>
                    <a:pt x="1077" y="372"/>
                  </a:lnTo>
                  <a:lnTo>
                    <a:pt x="1085" y="351"/>
                  </a:lnTo>
                  <a:lnTo>
                    <a:pt x="1095" y="333"/>
                  </a:lnTo>
                  <a:lnTo>
                    <a:pt x="1111" y="318"/>
                  </a:lnTo>
                  <a:lnTo>
                    <a:pt x="1118" y="312"/>
                  </a:lnTo>
                  <a:lnTo>
                    <a:pt x="1125" y="307"/>
                  </a:lnTo>
                  <a:lnTo>
                    <a:pt x="1132" y="301"/>
                  </a:lnTo>
                  <a:lnTo>
                    <a:pt x="1139" y="297"/>
                  </a:lnTo>
                  <a:lnTo>
                    <a:pt x="1146" y="292"/>
                  </a:lnTo>
                  <a:lnTo>
                    <a:pt x="1154" y="287"/>
                  </a:lnTo>
                  <a:lnTo>
                    <a:pt x="1163" y="285"/>
                  </a:lnTo>
                  <a:lnTo>
                    <a:pt x="1174" y="283"/>
                  </a:lnTo>
                  <a:lnTo>
                    <a:pt x="1158" y="311"/>
                  </a:lnTo>
                  <a:lnTo>
                    <a:pt x="1148" y="314"/>
                  </a:lnTo>
                  <a:lnTo>
                    <a:pt x="1140" y="319"/>
                  </a:lnTo>
                  <a:lnTo>
                    <a:pt x="1132" y="325"/>
                  </a:lnTo>
                  <a:lnTo>
                    <a:pt x="1126" y="330"/>
                  </a:lnTo>
                  <a:lnTo>
                    <a:pt x="1119" y="338"/>
                  </a:lnTo>
                  <a:lnTo>
                    <a:pt x="1115" y="345"/>
                  </a:lnTo>
                  <a:lnTo>
                    <a:pt x="1109" y="354"/>
                  </a:lnTo>
                  <a:lnTo>
                    <a:pt x="1104" y="360"/>
                  </a:lnTo>
                  <a:lnTo>
                    <a:pt x="1096" y="394"/>
                  </a:lnTo>
                  <a:lnTo>
                    <a:pt x="1092" y="429"/>
                  </a:lnTo>
                  <a:lnTo>
                    <a:pt x="1088" y="465"/>
                  </a:lnTo>
                  <a:lnTo>
                    <a:pt x="1086" y="499"/>
                  </a:lnTo>
                  <a:lnTo>
                    <a:pt x="1086" y="513"/>
                  </a:lnTo>
                  <a:lnTo>
                    <a:pt x="1086" y="528"/>
                  </a:lnTo>
                  <a:lnTo>
                    <a:pt x="1088" y="541"/>
                  </a:lnTo>
                  <a:lnTo>
                    <a:pt x="1095" y="550"/>
                  </a:lnTo>
                  <a:lnTo>
                    <a:pt x="1099" y="532"/>
                  </a:lnTo>
                  <a:lnTo>
                    <a:pt x="1107" y="517"/>
                  </a:lnTo>
                  <a:lnTo>
                    <a:pt x="1114" y="501"/>
                  </a:lnTo>
                  <a:lnTo>
                    <a:pt x="1116" y="481"/>
                  </a:lnTo>
                  <a:lnTo>
                    <a:pt x="1114" y="465"/>
                  </a:lnTo>
                  <a:lnTo>
                    <a:pt x="1115" y="447"/>
                  </a:lnTo>
                  <a:lnTo>
                    <a:pt x="1114" y="431"/>
                  </a:lnTo>
                  <a:lnTo>
                    <a:pt x="1104" y="418"/>
                  </a:lnTo>
                  <a:lnTo>
                    <a:pt x="1102" y="409"/>
                  </a:lnTo>
                  <a:lnTo>
                    <a:pt x="1103" y="402"/>
                  </a:lnTo>
                  <a:lnTo>
                    <a:pt x="1108" y="398"/>
                  </a:lnTo>
                  <a:lnTo>
                    <a:pt x="1114" y="394"/>
                  </a:lnTo>
                  <a:lnTo>
                    <a:pt x="1121" y="391"/>
                  </a:lnTo>
                  <a:lnTo>
                    <a:pt x="1128" y="387"/>
                  </a:lnTo>
                  <a:lnTo>
                    <a:pt x="1133" y="381"/>
                  </a:lnTo>
                  <a:lnTo>
                    <a:pt x="1137" y="376"/>
                  </a:lnTo>
                  <a:lnTo>
                    <a:pt x="1144" y="370"/>
                  </a:lnTo>
                  <a:lnTo>
                    <a:pt x="1152" y="365"/>
                  </a:lnTo>
                  <a:lnTo>
                    <a:pt x="1160" y="360"/>
                  </a:lnTo>
                  <a:lnTo>
                    <a:pt x="1166" y="354"/>
                  </a:lnTo>
                  <a:lnTo>
                    <a:pt x="1163" y="350"/>
                  </a:lnTo>
                  <a:lnTo>
                    <a:pt x="1160" y="348"/>
                  </a:lnTo>
                  <a:lnTo>
                    <a:pt x="1157" y="347"/>
                  </a:lnTo>
                  <a:lnTo>
                    <a:pt x="1152" y="347"/>
                  </a:lnTo>
                  <a:lnTo>
                    <a:pt x="1150" y="344"/>
                  </a:lnTo>
                  <a:lnTo>
                    <a:pt x="1147" y="341"/>
                  </a:lnTo>
                  <a:lnTo>
                    <a:pt x="1146" y="337"/>
                  </a:lnTo>
                  <a:lnTo>
                    <a:pt x="1146" y="331"/>
                  </a:lnTo>
                  <a:lnTo>
                    <a:pt x="1150" y="329"/>
                  </a:lnTo>
                  <a:lnTo>
                    <a:pt x="1154" y="327"/>
                  </a:lnTo>
                  <a:lnTo>
                    <a:pt x="1160" y="326"/>
                  </a:lnTo>
                  <a:lnTo>
                    <a:pt x="1165" y="326"/>
                  </a:lnTo>
                  <a:lnTo>
                    <a:pt x="1170" y="326"/>
                  </a:lnTo>
                  <a:lnTo>
                    <a:pt x="1175" y="326"/>
                  </a:lnTo>
                  <a:lnTo>
                    <a:pt x="1180" y="325"/>
                  </a:lnTo>
                  <a:lnTo>
                    <a:pt x="1184" y="323"/>
                  </a:lnTo>
                  <a:lnTo>
                    <a:pt x="1181" y="320"/>
                  </a:lnTo>
                  <a:lnTo>
                    <a:pt x="1179" y="314"/>
                  </a:lnTo>
                  <a:lnTo>
                    <a:pt x="1176" y="309"/>
                  </a:lnTo>
                  <a:lnTo>
                    <a:pt x="1173" y="306"/>
                  </a:lnTo>
                  <a:lnTo>
                    <a:pt x="1168" y="307"/>
                  </a:lnTo>
                  <a:lnTo>
                    <a:pt x="1165" y="308"/>
                  </a:lnTo>
                  <a:lnTo>
                    <a:pt x="1161" y="311"/>
                  </a:lnTo>
                  <a:lnTo>
                    <a:pt x="1161" y="315"/>
                  </a:lnTo>
                  <a:lnTo>
                    <a:pt x="1160" y="314"/>
                  </a:lnTo>
                  <a:lnTo>
                    <a:pt x="1158" y="314"/>
                  </a:lnTo>
                  <a:lnTo>
                    <a:pt x="1157" y="313"/>
                  </a:lnTo>
                  <a:lnTo>
                    <a:pt x="1158" y="311"/>
                  </a:lnTo>
                  <a:lnTo>
                    <a:pt x="1174" y="283"/>
                  </a:lnTo>
                  <a:lnTo>
                    <a:pt x="1182" y="278"/>
                  </a:lnTo>
                  <a:lnTo>
                    <a:pt x="1187" y="254"/>
                  </a:lnTo>
                  <a:lnTo>
                    <a:pt x="1192" y="225"/>
                  </a:lnTo>
                  <a:lnTo>
                    <a:pt x="1198" y="201"/>
                  </a:lnTo>
                  <a:lnTo>
                    <a:pt x="1204" y="190"/>
                  </a:lnTo>
                  <a:lnTo>
                    <a:pt x="1215" y="204"/>
                  </a:lnTo>
                  <a:lnTo>
                    <a:pt x="1221" y="231"/>
                  </a:lnTo>
                  <a:lnTo>
                    <a:pt x="1226" y="262"/>
                  </a:lnTo>
                  <a:lnTo>
                    <a:pt x="1228" y="286"/>
                  </a:lnTo>
                  <a:lnTo>
                    <a:pt x="1230" y="291"/>
                  </a:lnTo>
                  <a:lnTo>
                    <a:pt x="1231" y="297"/>
                  </a:lnTo>
                  <a:lnTo>
                    <a:pt x="1230" y="303"/>
                  </a:lnTo>
                  <a:lnTo>
                    <a:pt x="1228" y="307"/>
                  </a:lnTo>
                  <a:lnTo>
                    <a:pt x="1225" y="311"/>
                  </a:lnTo>
                  <a:lnTo>
                    <a:pt x="1223" y="314"/>
                  </a:lnTo>
                  <a:lnTo>
                    <a:pt x="1221" y="318"/>
                  </a:lnTo>
                  <a:lnTo>
                    <a:pt x="1220" y="321"/>
                  </a:lnTo>
                  <a:lnTo>
                    <a:pt x="1225" y="325"/>
                  </a:lnTo>
                  <a:lnTo>
                    <a:pt x="1231" y="326"/>
                  </a:lnTo>
                  <a:lnTo>
                    <a:pt x="1238" y="326"/>
                  </a:lnTo>
                  <a:lnTo>
                    <a:pt x="1245" y="326"/>
                  </a:lnTo>
                  <a:lnTo>
                    <a:pt x="1252" y="327"/>
                  </a:lnTo>
                  <a:lnTo>
                    <a:pt x="1255" y="329"/>
                  </a:lnTo>
                  <a:lnTo>
                    <a:pt x="1256" y="334"/>
                  </a:lnTo>
                  <a:lnTo>
                    <a:pt x="1254" y="342"/>
                  </a:lnTo>
                  <a:lnTo>
                    <a:pt x="1252" y="345"/>
                  </a:lnTo>
                  <a:lnTo>
                    <a:pt x="1249" y="348"/>
                  </a:lnTo>
                  <a:lnTo>
                    <a:pt x="1248" y="351"/>
                  </a:lnTo>
                  <a:lnTo>
                    <a:pt x="1248" y="355"/>
                  </a:lnTo>
                  <a:lnTo>
                    <a:pt x="1256" y="358"/>
                  </a:lnTo>
                  <a:lnTo>
                    <a:pt x="1262" y="364"/>
                  </a:lnTo>
                  <a:lnTo>
                    <a:pt x="1267" y="372"/>
                  </a:lnTo>
                  <a:lnTo>
                    <a:pt x="1271" y="379"/>
                  </a:lnTo>
                  <a:lnTo>
                    <a:pt x="1275" y="387"/>
                  </a:lnTo>
                  <a:lnTo>
                    <a:pt x="1281" y="394"/>
                  </a:lnTo>
                  <a:lnTo>
                    <a:pt x="1286" y="399"/>
                  </a:lnTo>
                  <a:lnTo>
                    <a:pt x="1296" y="402"/>
                  </a:lnTo>
                  <a:lnTo>
                    <a:pt x="1299" y="406"/>
                  </a:lnTo>
                  <a:lnTo>
                    <a:pt x="1300" y="410"/>
                  </a:lnTo>
                  <a:lnTo>
                    <a:pt x="1301" y="415"/>
                  </a:lnTo>
                  <a:lnTo>
                    <a:pt x="1301" y="417"/>
                  </a:lnTo>
                  <a:lnTo>
                    <a:pt x="1299" y="422"/>
                  </a:lnTo>
                  <a:lnTo>
                    <a:pt x="1297" y="425"/>
                  </a:lnTo>
                  <a:lnTo>
                    <a:pt x="1292" y="429"/>
                  </a:lnTo>
                  <a:lnTo>
                    <a:pt x="1288" y="432"/>
                  </a:lnTo>
                  <a:lnTo>
                    <a:pt x="1285" y="451"/>
                  </a:lnTo>
                  <a:lnTo>
                    <a:pt x="1285" y="469"/>
                  </a:lnTo>
                  <a:lnTo>
                    <a:pt x="1285" y="489"/>
                  </a:lnTo>
                  <a:lnTo>
                    <a:pt x="1286" y="506"/>
                  </a:lnTo>
                  <a:lnTo>
                    <a:pt x="1293" y="511"/>
                  </a:lnTo>
                  <a:lnTo>
                    <a:pt x="1299" y="518"/>
                  </a:lnTo>
                  <a:lnTo>
                    <a:pt x="1301" y="527"/>
                  </a:lnTo>
                  <a:lnTo>
                    <a:pt x="1304" y="535"/>
                  </a:lnTo>
                  <a:lnTo>
                    <a:pt x="1307" y="544"/>
                  </a:lnTo>
                  <a:lnTo>
                    <a:pt x="1311" y="550"/>
                  </a:lnTo>
                  <a:lnTo>
                    <a:pt x="1318" y="554"/>
                  </a:lnTo>
                  <a:lnTo>
                    <a:pt x="1327" y="553"/>
                  </a:lnTo>
                  <a:lnTo>
                    <a:pt x="1340" y="553"/>
                  </a:lnTo>
                  <a:lnTo>
                    <a:pt x="1352" y="554"/>
                  </a:lnTo>
                  <a:lnTo>
                    <a:pt x="1365" y="554"/>
                  </a:lnTo>
                  <a:lnTo>
                    <a:pt x="1378" y="554"/>
                  </a:lnTo>
                  <a:lnTo>
                    <a:pt x="1391" y="554"/>
                  </a:lnTo>
                  <a:lnTo>
                    <a:pt x="1405" y="554"/>
                  </a:lnTo>
                  <a:lnTo>
                    <a:pt x="1417" y="554"/>
                  </a:lnTo>
                  <a:lnTo>
                    <a:pt x="1431" y="553"/>
                  </a:lnTo>
                  <a:lnTo>
                    <a:pt x="1444" y="553"/>
                  </a:lnTo>
                  <a:lnTo>
                    <a:pt x="1458" y="553"/>
                  </a:lnTo>
                  <a:lnTo>
                    <a:pt x="1472" y="553"/>
                  </a:lnTo>
                  <a:lnTo>
                    <a:pt x="1485" y="553"/>
                  </a:lnTo>
                  <a:lnTo>
                    <a:pt x="1499" y="553"/>
                  </a:lnTo>
                  <a:lnTo>
                    <a:pt x="1513" y="553"/>
                  </a:lnTo>
                  <a:lnTo>
                    <a:pt x="1525" y="554"/>
                  </a:lnTo>
                  <a:lnTo>
                    <a:pt x="1539" y="554"/>
                  </a:lnTo>
                  <a:lnTo>
                    <a:pt x="1545" y="553"/>
                  </a:lnTo>
                  <a:lnTo>
                    <a:pt x="1546" y="548"/>
                  </a:lnTo>
                  <a:lnTo>
                    <a:pt x="1545" y="544"/>
                  </a:lnTo>
                  <a:lnTo>
                    <a:pt x="1545" y="538"/>
                  </a:lnTo>
                  <a:lnTo>
                    <a:pt x="1536" y="532"/>
                  </a:lnTo>
                  <a:lnTo>
                    <a:pt x="1533" y="524"/>
                  </a:lnTo>
                  <a:lnTo>
                    <a:pt x="1533" y="515"/>
                  </a:lnTo>
                  <a:lnTo>
                    <a:pt x="1533" y="504"/>
                  </a:lnTo>
                  <a:lnTo>
                    <a:pt x="1540" y="498"/>
                  </a:lnTo>
                  <a:lnTo>
                    <a:pt x="1542" y="491"/>
                  </a:lnTo>
                  <a:lnTo>
                    <a:pt x="1539" y="482"/>
                  </a:lnTo>
                  <a:lnTo>
                    <a:pt x="1539" y="473"/>
                  </a:lnTo>
                  <a:lnTo>
                    <a:pt x="1526" y="435"/>
                  </a:lnTo>
                  <a:lnTo>
                    <a:pt x="1510" y="382"/>
                  </a:lnTo>
                  <a:lnTo>
                    <a:pt x="1492" y="322"/>
                  </a:lnTo>
                  <a:lnTo>
                    <a:pt x="1473" y="260"/>
                  </a:lnTo>
                  <a:lnTo>
                    <a:pt x="1455" y="202"/>
                  </a:lnTo>
                  <a:lnTo>
                    <a:pt x="1439" y="153"/>
                  </a:lnTo>
                  <a:lnTo>
                    <a:pt x="1429" y="119"/>
                  </a:lnTo>
                  <a:lnTo>
                    <a:pt x="1424" y="107"/>
                  </a:lnTo>
                  <a:lnTo>
                    <a:pt x="1420" y="104"/>
                  </a:lnTo>
                  <a:lnTo>
                    <a:pt x="1417" y="81"/>
                  </a:lnTo>
                  <a:lnTo>
                    <a:pt x="1417" y="55"/>
                  </a:lnTo>
                  <a:lnTo>
                    <a:pt x="1417" y="28"/>
                  </a:lnTo>
                  <a:lnTo>
                    <a:pt x="1417" y="2"/>
                  </a:lnTo>
                  <a:lnTo>
                    <a:pt x="1429" y="2"/>
                  </a:lnTo>
                  <a:lnTo>
                    <a:pt x="1445" y="1"/>
                  </a:lnTo>
                  <a:lnTo>
                    <a:pt x="1465" y="1"/>
                  </a:lnTo>
                  <a:lnTo>
                    <a:pt x="1488" y="1"/>
                  </a:lnTo>
                  <a:lnTo>
                    <a:pt x="1516" y="0"/>
                  </a:lnTo>
                  <a:lnTo>
                    <a:pt x="1545" y="0"/>
                  </a:lnTo>
                  <a:lnTo>
                    <a:pt x="1575" y="0"/>
                  </a:lnTo>
                  <a:lnTo>
                    <a:pt x="1608" y="0"/>
                  </a:lnTo>
                  <a:lnTo>
                    <a:pt x="1640" y="0"/>
                  </a:lnTo>
                  <a:lnTo>
                    <a:pt x="1673" y="0"/>
                  </a:lnTo>
                  <a:lnTo>
                    <a:pt x="1705" y="0"/>
                  </a:lnTo>
                  <a:lnTo>
                    <a:pt x="1735" y="0"/>
                  </a:lnTo>
                  <a:lnTo>
                    <a:pt x="1764" y="0"/>
                  </a:lnTo>
                  <a:lnTo>
                    <a:pt x="1791" y="0"/>
                  </a:lnTo>
                  <a:lnTo>
                    <a:pt x="1815" y="0"/>
                  </a:lnTo>
                  <a:lnTo>
                    <a:pt x="1835" y="0"/>
                  </a:lnTo>
                  <a:lnTo>
                    <a:pt x="1837" y="16"/>
                  </a:lnTo>
                  <a:lnTo>
                    <a:pt x="1836" y="48"/>
                  </a:lnTo>
                  <a:lnTo>
                    <a:pt x="1834" y="78"/>
                  </a:lnTo>
                  <a:lnTo>
                    <a:pt x="1833" y="91"/>
                  </a:lnTo>
                  <a:lnTo>
                    <a:pt x="1827" y="99"/>
                  </a:lnTo>
                  <a:lnTo>
                    <a:pt x="1821" y="104"/>
                  </a:lnTo>
                  <a:lnTo>
                    <a:pt x="1814" y="110"/>
                  </a:lnTo>
                  <a:lnTo>
                    <a:pt x="1808" y="118"/>
                  </a:lnTo>
                  <a:lnTo>
                    <a:pt x="1802" y="141"/>
                  </a:lnTo>
                  <a:lnTo>
                    <a:pt x="1793" y="180"/>
                  </a:lnTo>
                  <a:lnTo>
                    <a:pt x="1780" y="228"/>
                  </a:lnTo>
                  <a:lnTo>
                    <a:pt x="1766" y="283"/>
                  </a:lnTo>
                  <a:lnTo>
                    <a:pt x="1750" y="337"/>
                  </a:lnTo>
                  <a:lnTo>
                    <a:pt x="1736" y="386"/>
                  </a:lnTo>
                  <a:lnTo>
                    <a:pt x="1722" y="424"/>
                  </a:lnTo>
                  <a:lnTo>
                    <a:pt x="1713" y="446"/>
                  </a:lnTo>
                  <a:lnTo>
                    <a:pt x="1712" y="464"/>
                  </a:lnTo>
                  <a:lnTo>
                    <a:pt x="1707" y="482"/>
                  </a:lnTo>
                  <a:lnTo>
                    <a:pt x="1705" y="499"/>
                  </a:lnTo>
                  <a:lnTo>
                    <a:pt x="1708" y="518"/>
                  </a:lnTo>
                  <a:lnTo>
                    <a:pt x="1712" y="527"/>
                  </a:lnTo>
                  <a:lnTo>
                    <a:pt x="1719" y="542"/>
                  </a:lnTo>
                  <a:lnTo>
                    <a:pt x="1725" y="556"/>
                  </a:lnTo>
                  <a:lnTo>
                    <a:pt x="1728" y="563"/>
                  </a:lnTo>
                  <a:lnTo>
                    <a:pt x="1737" y="560"/>
                  </a:lnTo>
                  <a:lnTo>
                    <a:pt x="1747" y="555"/>
                  </a:lnTo>
                  <a:lnTo>
                    <a:pt x="1754" y="548"/>
                  </a:lnTo>
                  <a:lnTo>
                    <a:pt x="1754" y="538"/>
                  </a:lnTo>
                  <a:lnTo>
                    <a:pt x="1754" y="515"/>
                  </a:lnTo>
                  <a:lnTo>
                    <a:pt x="1754" y="493"/>
                  </a:lnTo>
                  <a:lnTo>
                    <a:pt x="1754" y="471"/>
                  </a:lnTo>
                  <a:lnTo>
                    <a:pt x="1755" y="449"/>
                  </a:lnTo>
                  <a:lnTo>
                    <a:pt x="1754" y="442"/>
                  </a:lnTo>
                  <a:lnTo>
                    <a:pt x="1754" y="433"/>
                  </a:lnTo>
                  <a:lnTo>
                    <a:pt x="1750" y="428"/>
                  </a:lnTo>
                  <a:lnTo>
                    <a:pt x="1743" y="426"/>
                  </a:lnTo>
                  <a:lnTo>
                    <a:pt x="1741" y="424"/>
                  </a:lnTo>
                  <a:lnTo>
                    <a:pt x="1740" y="421"/>
                  </a:lnTo>
                  <a:lnTo>
                    <a:pt x="1741" y="416"/>
                  </a:lnTo>
                  <a:lnTo>
                    <a:pt x="1742" y="414"/>
                  </a:lnTo>
                  <a:lnTo>
                    <a:pt x="1749" y="409"/>
                  </a:lnTo>
                  <a:lnTo>
                    <a:pt x="1757" y="404"/>
                  </a:lnTo>
                  <a:lnTo>
                    <a:pt x="1765" y="401"/>
                  </a:lnTo>
                  <a:lnTo>
                    <a:pt x="1773" y="398"/>
                  </a:lnTo>
                  <a:lnTo>
                    <a:pt x="1782" y="395"/>
                  </a:lnTo>
                  <a:lnTo>
                    <a:pt x="1791" y="393"/>
                  </a:lnTo>
                  <a:lnTo>
                    <a:pt x="1801" y="391"/>
                  </a:lnTo>
                  <a:lnTo>
                    <a:pt x="1811" y="388"/>
                  </a:lnTo>
                  <a:lnTo>
                    <a:pt x="1843" y="395"/>
                  </a:lnTo>
                  <a:lnTo>
                    <a:pt x="1844" y="388"/>
                  </a:lnTo>
                  <a:lnTo>
                    <a:pt x="1848" y="381"/>
                  </a:lnTo>
                  <a:lnTo>
                    <a:pt x="1853" y="379"/>
                  </a:lnTo>
                  <a:lnTo>
                    <a:pt x="1862" y="379"/>
                  </a:lnTo>
                  <a:lnTo>
                    <a:pt x="1867" y="381"/>
                  </a:lnTo>
                  <a:lnTo>
                    <a:pt x="1873" y="380"/>
                  </a:lnTo>
                  <a:lnTo>
                    <a:pt x="1877" y="384"/>
                  </a:lnTo>
                  <a:lnTo>
                    <a:pt x="1875" y="393"/>
                  </a:lnTo>
                  <a:lnTo>
                    <a:pt x="1874" y="393"/>
                  </a:lnTo>
                  <a:lnTo>
                    <a:pt x="1877" y="400"/>
                  </a:lnTo>
                  <a:lnTo>
                    <a:pt x="1882" y="406"/>
                  </a:lnTo>
                  <a:lnTo>
                    <a:pt x="1888" y="411"/>
                  </a:lnTo>
                  <a:lnTo>
                    <a:pt x="1886" y="420"/>
                  </a:lnTo>
                  <a:lnTo>
                    <a:pt x="1877" y="440"/>
                  </a:lnTo>
                  <a:lnTo>
                    <a:pt x="1873" y="487"/>
                  </a:lnTo>
                  <a:lnTo>
                    <a:pt x="1878" y="534"/>
                  </a:lnTo>
                  <a:lnTo>
                    <a:pt x="1891" y="564"/>
                  </a:lnTo>
                  <a:lnTo>
                    <a:pt x="1891" y="574"/>
                  </a:lnTo>
                  <a:lnTo>
                    <a:pt x="1889" y="582"/>
                  </a:lnTo>
                  <a:lnTo>
                    <a:pt x="1886" y="589"/>
                  </a:lnTo>
                  <a:lnTo>
                    <a:pt x="1880" y="594"/>
                  </a:lnTo>
                  <a:lnTo>
                    <a:pt x="1882" y="604"/>
                  </a:lnTo>
                  <a:lnTo>
                    <a:pt x="1882" y="616"/>
                  </a:lnTo>
                  <a:lnTo>
                    <a:pt x="1877" y="628"/>
                  </a:lnTo>
                  <a:lnTo>
                    <a:pt x="1859" y="635"/>
                  </a:lnTo>
                  <a:lnTo>
                    <a:pt x="1851" y="637"/>
                  </a:lnTo>
                  <a:lnTo>
                    <a:pt x="1845" y="636"/>
                  </a:lnTo>
                  <a:lnTo>
                    <a:pt x="1838" y="636"/>
                  </a:lnTo>
                  <a:lnTo>
                    <a:pt x="1831" y="637"/>
                  </a:lnTo>
                  <a:lnTo>
                    <a:pt x="1826" y="643"/>
                  </a:lnTo>
                  <a:lnTo>
                    <a:pt x="1821" y="649"/>
                  </a:lnTo>
                  <a:lnTo>
                    <a:pt x="1816" y="656"/>
                  </a:lnTo>
                  <a:lnTo>
                    <a:pt x="1816" y="664"/>
                  </a:lnTo>
                  <a:lnTo>
                    <a:pt x="1816" y="672"/>
                  </a:lnTo>
                  <a:lnTo>
                    <a:pt x="1816" y="692"/>
                  </a:lnTo>
                  <a:lnTo>
                    <a:pt x="1813" y="714"/>
                  </a:lnTo>
                  <a:lnTo>
                    <a:pt x="1802" y="731"/>
                  </a:lnTo>
                  <a:lnTo>
                    <a:pt x="1771" y="708"/>
                  </a:lnTo>
                  <a:lnTo>
                    <a:pt x="1778" y="695"/>
                  </a:lnTo>
                  <a:lnTo>
                    <a:pt x="1780" y="678"/>
                  </a:lnTo>
                  <a:lnTo>
                    <a:pt x="1779" y="661"/>
                  </a:lnTo>
                  <a:lnTo>
                    <a:pt x="1777" y="651"/>
                  </a:lnTo>
                  <a:lnTo>
                    <a:pt x="1773" y="652"/>
                  </a:lnTo>
                  <a:lnTo>
                    <a:pt x="1771" y="656"/>
                  </a:lnTo>
                  <a:lnTo>
                    <a:pt x="1768" y="659"/>
                  </a:lnTo>
                  <a:lnTo>
                    <a:pt x="1762" y="662"/>
                  </a:lnTo>
                  <a:lnTo>
                    <a:pt x="1755" y="661"/>
                  </a:lnTo>
                  <a:lnTo>
                    <a:pt x="1750" y="656"/>
                  </a:lnTo>
                  <a:lnTo>
                    <a:pt x="1747" y="652"/>
                  </a:lnTo>
                  <a:lnTo>
                    <a:pt x="1741" y="651"/>
                  </a:lnTo>
                  <a:lnTo>
                    <a:pt x="1736" y="650"/>
                  </a:lnTo>
                  <a:lnTo>
                    <a:pt x="1734" y="647"/>
                  </a:lnTo>
                  <a:lnTo>
                    <a:pt x="1733" y="643"/>
                  </a:lnTo>
                  <a:lnTo>
                    <a:pt x="1731" y="640"/>
                  </a:lnTo>
                  <a:lnTo>
                    <a:pt x="1729" y="645"/>
                  </a:lnTo>
                  <a:lnTo>
                    <a:pt x="1728" y="650"/>
                  </a:lnTo>
                  <a:lnTo>
                    <a:pt x="1728" y="655"/>
                  </a:lnTo>
                  <a:lnTo>
                    <a:pt x="1728" y="662"/>
                  </a:lnTo>
                  <a:lnTo>
                    <a:pt x="1731" y="662"/>
                  </a:lnTo>
                  <a:lnTo>
                    <a:pt x="1733" y="669"/>
                  </a:lnTo>
                  <a:lnTo>
                    <a:pt x="1741" y="669"/>
                  </a:lnTo>
                  <a:lnTo>
                    <a:pt x="1750" y="667"/>
                  </a:lnTo>
                  <a:lnTo>
                    <a:pt x="1757" y="670"/>
                  </a:lnTo>
                  <a:lnTo>
                    <a:pt x="1764" y="676"/>
                  </a:lnTo>
                  <a:lnTo>
                    <a:pt x="1769" y="681"/>
                  </a:lnTo>
                  <a:lnTo>
                    <a:pt x="1772" y="689"/>
                  </a:lnTo>
                  <a:lnTo>
                    <a:pt x="1772" y="699"/>
                  </a:lnTo>
                  <a:lnTo>
                    <a:pt x="1766" y="703"/>
                  </a:lnTo>
                  <a:lnTo>
                    <a:pt x="1759" y="706"/>
                  </a:lnTo>
                  <a:lnTo>
                    <a:pt x="1751" y="707"/>
                  </a:lnTo>
                  <a:lnTo>
                    <a:pt x="1743" y="706"/>
                  </a:lnTo>
                  <a:lnTo>
                    <a:pt x="1744" y="707"/>
                  </a:lnTo>
                  <a:lnTo>
                    <a:pt x="1746" y="707"/>
                  </a:lnTo>
                  <a:lnTo>
                    <a:pt x="1747" y="708"/>
                  </a:lnTo>
                  <a:lnTo>
                    <a:pt x="1747" y="709"/>
                  </a:lnTo>
                  <a:lnTo>
                    <a:pt x="1753" y="713"/>
                  </a:lnTo>
                  <a:lnTo>
                    <a:pt x="1759" y="714"/>
                  </a:lnTo>
                  <a:lnTo>
                    <a:pt x="1765" y="713"/>
                  </a:lnTo>
                  <a:lnTo>
                    <a:pt x="1771" y="708"/>
                  </a:lnTo>
                  <a:lnTo>
                    <a:pt x="1802" y="731"/>
                  </a:lnTo>
                  <a:lnTo>
                    <a:pt x="1799" y="735"/>
                  </a:lnTo>
                  <a:lnTo>
                    <a:pt x="1794" y="737"/>
                  </a:lnTo>
                  <a:lnTo>
                    <a:pt x="1791" y="739"/>
                  </a:lnTo>
                  <a:lnTo>
                    <a:pt x="1786" y="744"/>
                  </a:lnTo>
                  <a:lnTo>
                    <a:pt x="1795" y="753"/>
                  </a:lnTo>
                  <a:lnTo>
                    <a:pt x="1811" y="767"/>
                  </a:lnTo>
                  <a:lnTo>
                    <a:pt x="1828" y="784"/>
                  </a:lnTo>
                  <a:lnTo>
                    <a:pt x="1849" y="803"/>
                  </a:lnTo>
                  <a:lnTo>
                    <a:pt x="1870" y="822"/>
                  </a:lnTo>
                  <a:lnTo>
                    <a:pt x="1889" y="839"/>
                  </a:lnTo>
                  <a:lnTo>
                    <a:pt x="1906" y="853"/>
                  </a:lnTo>
                  <a:lnTo>
                    <a:pt x="1918" y="863"/>
                  </a:lnTo>
                  <a:lnTo>
                    <a:pt x="1888" y="884"/>
                  </a:lnTo>
                  <a:lnTo>
                    <a:pt x="1875" y="871"/>
                  </a:lnTo>
                  <a:lnTo>
                    <a:pt x="1859" y="854"/>
                  </a:lnTo>
                  <a:lnTo>
                    <a:pt x="1838" y="835"/>
                  </a:lnTo>
                  <a:lnTo>
                    <a:pt x="1816" y="815"/>
                  </a:lnTo>
                  <a:lnTo>
                    <a:pt x="1794" y="796"/>
                  </a:lnTo>
                  <a:lnTo>
                    <a:pt x="1775" y="778"/>
                  </a:lnTo>
                  <a:lnTo>
                    <a:pt x="1758" y="765"/>
                  </a:lnTo>
                  <a:lnTo>
                    <a:pt x="1747" y="756"/>
                  </a:lnTo>
                  <a:lnTo>
                    <a:pt x="1743" y="874"/>
                  </a:lnTo>
                  <a:lnTo>
                    <a:pt x="1750" y="877"/>
                  </a:lnTo>
                  <a:lnTo>
                    <a:pt x="1758" y="875"/>
                  </a:lnTo>
                  <a:lnTo>
                    <a:pt x="1766" y="873"/>
                  </a:lnTo>
                  <a:lnTo>
                    <a:pt x="1773" y="871"/>
                  </a:lnTo>
                  <a:lnTo>
                    <a:pt x="1779" y="873"/>
                  </a:lnTo>
                  <a:lnTo>
                    <a:pt x="1783" y="875"/>
                  </a:lnTo>
                  <a:lnTo>
                    <a:pt x="1786" y="878"/>
                  </a:lnTo>
                  <a:lnTo>
                    <a:pt x="1787" y="883"/>
                  </a:lnTo>
                  <a:lnTo>
                    <a:pt x="1800" y="885"/>
                  </a:lnTo>
                  <a:lnTo>
                    <a:pt x="1813" y="886"/>
                  </a:lnTo>
                  <a:lnTo>
                    <a:pt x="1824" y="888"/>
                  </a:lnTo>
                  <a:lnTo>
                    <a:pt x="1837" y="886"/>
                  </a:lnTo>
                  <a:lnTo>
                    <a:pt x="1850" y="885"/>
                  </a:lnTo>
                  <a:lnTo>
                    <a:pt x="1863" y="885"/>
                  </a:lnTo>
                  <a:lnTo>
                    <a:pt x="1875" y="884"/>
                  </a:lnTo>
                  <a:lnTo>
                    <a:pt x="1888" y="884"/>
                  </a:lnTo>
                  <a:lnTo>
                    <a:pt x="1918" y="863"/>
                  </a:lnTo>
                  <a:lnTo>
                    <a:pt x="1925" y="866"/>
                  </a:lnTo>
                  <a:lnTo>
                    <a:pt x="1936" y="868"/>
                  </a:lnTo>
                  <a:lnTo>
                    <a:pt x="1949" y="870"/>
                  </a:lnTo>
                  <a:lnTo>
                    <a:pt x="1964" y="873"/>
                  </a:lnTo>
                  <a:lnTo>
                    <a:pt x="1979" y="876"/>
                  </a:lnTo>
                  <a:lnTo>
                    <a:pt x="1993" y="882"/>
                  </a:lnTo>
                  <a:lnTo>
                    <a:pt x="2005" y="889"/>
                  </a:lnTo>
                  <a:lnTo>
                    <a:pt x="2016" y="898"/>
                  </a:lnTo>
                  <a:lnTo>
                    <a:pt x="2019" y="904"/>
                  </a:lnTo>
                  <a:lnTo>
                    <a:pt x="2019" y="912"/>
                  </a:lnTo>
                  <a:lnTo>
                    <a:pt x="2018" y="920"/>
                  </a:lnTo>
                  <a:lnTo>
                    <a:pt x="2019" y="928"/>
                  </a:lnTo>
                  <a:lnTo>
                    <a:pt x="2027" y="934"/>
                  </a:lnTo>
                  <a:lnTo>
                    <a:pt x="2039" y="942"/>
                  </a:lnTo>
                  <a:lnTo>
                    <a:pt x="2053" y="952"/>
                  </a:lnTo>
                  <a:lnTo>
                    <a:pt x="2071" y="964"/>
                  </a:lnTo>
                  <a:lnTo>
                    <a:pt x="2090" y="977"/>
                  </a:lnTo>
                  <a:lnTo>
                    <a:pt x="2111" y="992"/>
                  </a:lnTo>
                  <a:lnTo>
                    <a:pt x="2133" y="1006"/>
                  </a:lnTo>
                  <a:lnTo>
                    <a:pt x="2155" y="1021"/>
                  </a:lnTo>
                  <a:lnTo>
                    <a:pt x="2177" y="1036"/>
                  </a:lnTo>
                  <a:lnTo>
                    <a:pt x="2198" y="1050"/>
                  </a:lnTo>
                  <a:lnTo>
                    <a:pt x="2216" y="1063"/>
                  </a:lnTo>
                  <a:lnTo>
                    <a:pt x="2234" y="1074"/>
                  </a:lnTo>
                  <a:lnTo>
                    <a:pt x="2248" y="1083"/>
                  </a:lnTo>
                  <a:lnTo>
                    <a:pt x="2259" y="1091"/>
                  </a:lnTo>
                  <a:lnTo>
                    <a:pt x="2266" y="1096"/>
                  </a:lnTo>
                  <a:lnTo>
                    <a:pt x="2269" y="1097"/>
                  </a:lnTo>
                  <a:lnTo>
                    <a:pt x="2269" y="1102"/>
                  </a:lnTo>
                  <a:lnTo>
                    <a:pt x="2266" y="1104"/>
                  </a:lnTo>
                  <a:lnTo>
                    <a:pt x="2263" y="1107"/>
                  </a:lnTo>
                  <a:lnTo>
                    <a:pt x="2259" y="1109"/>
                  </a:lnTo>
                  <a:lnTo>
                    <a:pt x="2251" y="1109"/>
                  </a:lnTo>
                  <a:lnTo>
                    <a:pt x="2240" y="1109"/>
                  </a:lnTo>
                  <a:lnTo>
                    <a:pt x="2224" y="1109"/>
                  </a:lnTo>
                  <a:lnTo>
                    <a:pt x="2208" y="1109"/>
                  </a:lnTo>
                  <a:lnTo>
                    <a:pt x="2189" y="1109"/>
                  </a:lnTo>
                  <a:lnTo>
                    <a:pt x="2168" y="1108"/>
                  </a:lnTo>
                  <a:lnTo>
                    <a:pt x="2147" y="1108"/>
                  </a:lnTo>
                  <a:lnTo>
                    <a:pt x="2124" y="1108"/>
                  </a:lnTo>
                  <a:lnTo>
                    <a:pt x="2102" y="1108"/>
                  </a:lnTo>
                  <a:lnTo>
                    <a:pt x="2078" y="1108"/>
                  </a:lnTo>
                  <a:lnTo>
                    <a:pt x="2057" y="1108"/>
                  </a:lnTo>
                  <a:lnTo>
                    <a:pt x="2037" y="1108"/>
                  </a:lnTo>
                  <a:lnTo>
                    <a:pt x="2018" y="1108"/>
                  </a:lnTo>
                  <a:lnTo>
                    <a:pt x="2002" y="1108"/>
                  </a:lnTo>
                  <a:lnTo>
                    <a:pt x="1988" y="1108"/>
                  </a:lnTo>
                  <a:lnTo>
                    <a:pt x="1976" y="1108"/>
                  </a:lnTo>
                  <a:lnTo>
                    <a:pt x="1971" y="1101"/>
                  </a:lnTo>
                  <a:lnTo>
                    <a:pt x="1967" y="1094"/>
                  </a:lnTo>
                  <a:lnTo>
                    <a:pt x="1962" y="1087"/>
                  </a:lnTo>
                  <a:lnTo>
                    <a:pt x="1959" y="1079"/>
                  </a:lnTo>
                  <a:lnTo>
                    <a:pt x="1955" y="1072"/>
                  </a:lnTo>
                  <a:lnTo>
                    <a:pt x="1952" y="1065"/>
                  </a:lnTo>
                  <a:lnTo>
                    <a:pt x="1946" y="1058"/>
                  </a:lnTo>
                  <a:lnTo>
                    <a:pt x="1940" y="1051"/>
                  </a:lnTo>
                  <a:lnTo>
                    <a:pt x="1937" y="1053"/>
                  </a:lnTo>
                  <a:lnTo>
                    <a:pt x="1933" y="1064"/>
                  </a:lnTo>
                  <a:lnTo>
                    <a:pt x="1930" y="1073"/>
                  </a:lnTo>
                  <a:lnTo>
                    <a:pt x="1925" y="1082"/>
                  </a:lnTo>
                  <a:lnTo>
                    <a:pt x="1921" y="1091"/>
                  </a:lnTo>
                  <a:lnTo>
                    <a:pt x="1915" y="1101"/>
                  </a:lnTo>
                  <a:lnTo>
                    <a:pt x="1908" y="1109"/>
                  </a:lnTo>
                  <a:lnTo>
                    <a:pt x="1901" y="1117"/>
                  </a:lnTo>
                  <a:lnTo>
                    <a:pt x="1893" y="1124"/>
                  </a:lnTo>
                  <a:lnTo>
                    <a:pt x="2301" y="1124"/>
                  </a:lnTo>
                  <a:lnTo>
                    <a:pt x="2301" y="1181"/>
                  </a:lnTo>
                  <a:lnTo>
                    <a:pt x="1786" y="1181"/>
                  </a:lnTo>
                  <a:lnTo>
                    <a:pt x="1783" y="1126"/>
                  </a:lnTo>
                  <a:lnTo>
                    <a:pt x="1783" y="1125"/>
                  </a:lnTo>
                  <a:lnTo>
                    <a:pt x="1776" y="1117"/>
                  </a:lnTo>
                  <a:lnTo>
                    <a:pt x="1769" y="1109"/>
                  </a:lnTo>
                  <a:lnTo>
                    <a:pt x="1761" y="1100"/>
                  </a:lnTo>
                  <a:lnTo>
                    <a:pt x="1754" y="1091"/>
                  </a:lnTo>
                  <a:lnTo>
                    <a:pt x="1728" y="1091"/>
                  </a:lnTo>
                  <a:lnTo>
                    <a:pt x="1700" y="1091"/>
                  </a:lnTo>
                  <a:lnTo>
                    <a:pt x="1670" y="1091"/>
                  </a:lnTo>
                  <a:lnTo>
                    <a:pt x="1641" y="1093"/>
                  </a:lnTo>
                  <a:lnTo>
                    <a:pt x="1615" y="1093"/>
                  </a:lnTo>
                  <a:lnTo>
                    <a:pt x="1594" y="1094"/>
                  </a:lnTo>
                  <a:lnTo>
                    <a:pt x="1580" y="1094"/>
                  </a:lnTo>
                  <a:lnTo>
                    <a:pt x="1574" y="1094"/>
                  </a:lnTo>
                  <a:lnTo>
                    <a:pt x="1584" y="1067"/>
                  </a:lnTo>
                  <a:lnTo>
                    <a:pt x="1590" y="1067"/>
                  </a:lnTo>
                  <a:lnTo>
                    <a:pt x="1606" y="1067"/>
                  </a:lnTo>
                  <a:lnTo>
                    <a:pt x="1628" y="1067"/>
                  </a:lnTo>
                  <a:lnTo>
                    <a:pt x="1655" y="1067"/>
                  </a:lnTo>
                  <a:lnTo>
                    <a:pt x="1682" y="1067"/>
                  </a:lnTo>
                  <a:lnTo>
                    <a:pt x="1706" y="1067"/>
                  </a:lnTo>
                  <a:lnTo>
                    <a:pt x="1725" y="1066"/>
                  </a:lnTo>
                  <a:lnTo>
                    <a:pt x="1734" y="1066"/>
                  </a:lnTo>
                  <a:lnTo>
                    <a:pt x="1739" y="1064"/>
                  </a:lnTo>
                  <a:lnTo>
                    <a:pt x="1739" y="1060"/>
                  </a:lnTo>
                  <a:lnTo>
                    <a:pt x="1737" y="1056"/>
                  </a:lnTo>
                  <a:lnTo>
                    <a:pt x="1736" y="1051"/>
                  </a:lnTo>
                  <a:lnTo>
                    <a:pt x="1729" y="1050"/>
                  </a:lnTo>
                  <a:lnTo>
                    <a:pt x="1724" y="1047"/>
                  </a:lnTo>
                  <a:lnTo>
                    <a:pt x="1718" y="1045"/>
                  </a:lnTo>
                  <a:lnTo>
                    <a:pt x="1713" y="1042"/>
                  </a:lnTo>
                  <a:lnTo>
                    <a:pt x="1707" y="1038"/>
                  </a:lnTo>
                  <a:lnTo>
                    <a:pt x="1702" y="1035"/>
                  </a:lnTo>
                  <a:lnTo>
                    <a:pt x="1696" y="1032"/>
                  </a:lnTo>
                  <a:lnTo>
                    <a:pt x="1690" y="1030"/>
                  </a:lnTo>
                  <a:lnTo>
                    <a:pt x="1683" y="1034"/>
                  </a:lnTo>
                  <a:lnTo>
                    <a:pt x="1676" y="1036"/>
                  </a:lnTo>
                  <a:lnTo>
                    <a:pt x="1669" y="1037"/>
                  </a:lnTo>
                  <a:lnTo>
                    <a:pt x="1661" y="1038"/>
                  </a:lnTo>
                  <a:lnTo>
                    <a:pt x="1654" y="1037"/>
                  </a:lnTo>
                  <a:lnTo>
                    <a:pt x="1647" y="1036"/>
                  </a:lnTo>
                  <a:lnTo>
                    <a:pt x="1640" y="1034"/>
                  </a:lnTo>
                  <a:lnTo>
                    <a:pt x="1634" y="1030"/>
                  </a:lnTo>
                  <a:lnTo>
                    <a:pt x="1627" y="1034"/>
                  </a:lnTo>
                  <a:lnTo>
                    <a:pt x="1622" y="1036"/>
                  </a:lnTo>
                  <a:lnTo>
                    <a:pt x="1615" y="1039"/>
                  </a:lnTo>
                  <a:lnTo>
                    <a:pt x="1609" y="1042"/>
                  </a:lnTo>
                  <a:lnTo>
                    <a:pt x="1602" y="1044"/>
                  </a:lnTo>
                  <a:lnTo>
                    <a:pt x="1596" y="1047"/>
                  </a:lnTo>
                  <a:lnTo>
                    <a:pt x="1590" y="1051"/>
                  </a:lnTo>
                  <a:lnTo>
                    <a:pt x="1584" y="1056"/>
                  </a:lnTo>
                  <a:lnTo>
                    <a:pt x="1584" y="1067"/>
                  </a:lnTo>
                  <a:lnTo>
                    <a:pt x="1574" y="1094"/>
                  </a:lnTo>
                  <a:lnTo>
                    <a:pt x="1567" y="1095"/>
                  </a:lnTo>
                  <a:lnTo>
                    <a:pt x="1561" y="1097"/>
                  </a:lnTo>
                  <a:lnTo>
                    <a:pt x="1557" y="1102"/>
                  </a:lnTo>
                  <a:lnTo>
                    <a:pt x="1552" y="1107"/>
                  </a:lnTo>
                  <a:lnTo>
                    <a:pt x="1547" y="1112"/>
                  </a:lnTo>
                  <a:lnTo>
                    <a:pt x="1543" y="1118"/>
                  </a:lnTo>
                  <a:lnTo>
                    <a:pt x="1538" y="1123"/>
                  </a:lnTo>
                  <a:lnTo>
                    <a:pt x="1533" y="1127"/>
                  </a:lnTo>
                  <a:lnTo>
                    <a:pt x="1542" y="1129"/>
                  </a:lnTo>
                  <a:lnTo>
                    <a:pt x="1554" y="1129"/>
                  </a:lnTo>
                  <a:lnTo>
                    <a:pt x="1569" y="1129"/>
                  </a:lnTo>
                  <a:lnTo>
                    <a:pt x="1587" y="1129"/>
                  </a:lnTo>
                  <a:lnTo>
                    <a:pt x="1605" y="1129"/>
                  </a:lnTo>
                  <a:lnTo>
                    <a:pt x="1626" y="1127"/>
                  </a:lnTo>
                  <a:lnTo>
                    <a:pt x="1648" y="1127"/>
                  </a:lnTo>
                  <a:lnTo>
                    <a:pt x="1669" y="1126"/>
                  </a:lnTo>
                  <a:lnTo>
                    <a:pt x="1691" y="1126"/>
                  </a:lnTo>
                  <a:lnTo>
                    <a:pt x="1711" y="1125"/>
                  </a:lnTo>
                  <a:lnTo>
                    <a:pt x="1729" y="1125"/>
                  </a:lnTo>
                  <a:lnTo>
                    <a:pt x="1747" y="1125"/>
                  </a:lnTo>
                  <a:lnTo>
                    <a:pt x="1761" y="1124"/>
                  </a:lnTo>
                  <a:lnTo>
                    <a:pt x="1772" y="1124"/>
                  </a:lnTo>
                  <a:lnTo>
                    <a:pt x="1779" y="1125"/>
                  </a:lnTo>
                  <a:lnTo>
                    <a:pt x="1783" y="1125"/>
                  </a:lnTo>
                  <a:lnTo>
                    <a:pt x="1786" y="1181"/>
                  </a:lnTo>
                  <a:lnTo>
                    <a:pt x="1365" y="1181"/>
                  </a:lnTo>
                  <a:lnTo>
                    <a:pt x="1387" y="1130"/>
                  </a:lnTo>
                  <a:lnTo>
                    <a:pt x="1392" y="1127"/>
                  </a:lnTo>
                  <a:lnTo>
                    <a:pt x="1395" y="1129"/>
                  </a:lnTo>
                  <a:lnTo>
                    <a:pt x="1400" y="1130"/>
                  </a:lnTo>
                  <a:lnTo>
                    <a:pt x="1404" y="1129"/>
                  </a:lnTo>
                  <a:lnTo>
                    <a:pt x="1392" y="1110"/>
                  </a:lnTo>
                  <a:lnTo>
                    <a:pt x="1386" y="1109"/>
                  </a:lnTo>
                  <a:lnTo>
                    <a:pt x="1381" y="1111"/>
                  </a:lnTo>
                  <a:lnTo>
                    <a:pt x="1376" y="1115"/>
                  </a:lnTo>
                  <a:lnTo>
                    <a:pt x="1370" y="1116"/>
                  </a:lnTo>
                  <a:lnTo>
                    <a:pt x="1361" y="1107"/>
                  </a:lnTo>
                  <a:lnTo>
                    <a:pt x="1357" y="1096"/>
                  </a:lnTo>
                  <a:lnTo>
                    <a:pt x="1358" y="1086"/>
                  </a:lnTo>
                  <a:lnTo>
                    <a:pt x="1363" y="1074"/>
                  </a:lnTo>
                  <a:lnTo>
                    <a:pt x="1368" y="1063"/>
                  </a:lnTo>
                  <a:lnTo>
                    <a:pt x="1373" y="1050"/>
                  </a:lnTo>
                  <a:lnTo>
                    <a:pt x="1377" y="1038"/>
                  </a:lnTo>
                  <a:lnTo>
                    <a:pt x="1376" y="1025"/>
                  </a:lnTo>
                  <a:lnTo>
                    <a:pt x="1370" y="1018"/>
                  </a:lnTo>
                  <a:lnTo>
                    <a:pt x="1365" y="1010"/>
                  </a:lnTo>
                  <a:lnTo>
                    <a:pt x="1363" y="1001"/>
                  </a:lnTo>
                  <a:lnTo>
                    <a:pt x="1361" y="992"/>
                  </a:lnTo>
                  <a:lnTo>
                    <a:pt x="1412" y="884"/>
                  </a:lnTo>
                  <a:lnTo>
                    <a:pt x="1529" y="883"/>
                  </a:lnTo>
                  <a:lnTo>
                    <a:pt x="1535" y="878"/>
                  </a:lnTo>
                  <a:lnTo>
                    <a:pt x="1542" y="871"/>
                  </a:lnTo>
                  <a:lnTo>
                    <a:pt x="1545" y="864"/>
                  </a:lnTo>
                  <a:lnTo>
                    <a:pt x="1546" y="856"/>
                  </a:lnTo>
                  <a:lnTo>
                    <a:pt x="1540" y="852"/>
                  </a:lnTo>
                  <a:lnTo>
                    <a:pt x="1535" y="854"/>
                  </a:lnTo>
                  <a:lnTo>
                    <a:pt x="1528" y="859"/>
                  </a:lnTo>
                  <a:lnTo>
                    <a:pt x="1521" y="862"/>
                  </a:lnTo>
                  <a:lnTo>
                    <a:pt x="1514" y="863"/>
                  </a:lnTo>
                  <a:lnTo>
                    <a:pt x="1506" y="863"/>
                  </a:lnTo>
                  <a:lnTo>
                    <a:pt x="1497" y="861"/>
                  </a:lnTo>
                  <a:lnTo>
                    <a:pt x="1490" y="857"/>
                  </a:lnTo>
                  <a:lnTo>
                    <a:pt x="1482" y="851"/>
                  </a:lnTo>
                  <a:lnTo>
                    <a:pt x="1473" y="846"/>
                  </a:lnTo>
                  <a:lnTo>
                    <a:pt x="1464" y="845"/>
                  </a:lnTo>
                  <a:lnTo>
                    <a:pt x="1452" y="844"/>
                  </a:lnTo>
                  <a:lnTo>
                    <a:pt x="1441" y="844"/>
                  </a:lnTo>
                  <a:lnTo>
                    <a:pt x="1430" y="845"/>
                  </a:lnTo>
                  <a:lnTo>
                    <a:pt x="1419" y="844"/>
                  </a:lnTo>
                  <a:lnTo>
                    <a:pt x="1408" y="842"/>
                  </a:lnTo>
                  <a:lnTo>
                    <a:pt x="1402" y="845"/>
                  </a:lnTo>
                  <a:lnTo>
                    <a:pt x="1397" y="846"/>
                  </a:lnTo>
                  <a:lnTo>
                    <a:pt x="1392" y="848"/>
                  </a:lnTo>
                  <a:lnTo>
                    <a:pt x="1391" y="853"/>
                  </a:lnTo>
                  <a:lnTo>
                    <a:pt x="1398" y="860"/>
                  </a:lnTo>
                  <a:lnTo>
                    <a:pt x="1404" y="867"/>
                  </a:lnTo>
                  <a:lnTo>
                    <a:pt x="1408" y="875"/>
                  </a:lnTo>
                  <a:lnTo>
                    <a:pt x="1412" y="884"/>
                  </a:lnTo>
                  <a:lnTo>
                    <a:pt x="1361" y="992"/>
                  </a:lnTo>
                  <a:lnTo>
                    <a:pt x="1357" y="993"/>
                  </a:lnTo>
                  <a:lnTo>
                    <a:pt x="1354" y="993"/>
                  </a:lnTo>
                  <a:lnTo>
                    <a:pt x="1349" y="992"/>
                  </a:lnTo>
                  <a:lnTo>
                    <a:pt x="1347" y="990"/>
                  </a:lnTo>
                  <a:lnTo>
                    <a:pt x="1347" y="998"/>
                  </a:lnTo>
                  <a:lnTo>
                    <a:pt x="1347" y="1003"/>
                  </a:lnTo>
                  <a:lnTo>
                    <a:pt x="1348" y="1010"/>
                  </a:lnTo>
                  <a:lnTo>
                    <a:pt x="1347" y="1018"/>
                  </a:lnTo>
                  <a:lnTo>
                    <a:pt x="1346" y="1025"/>
                  </a:lnTo>
                  <a:lnTo>
                    <a:pt x="1347" y="1034"/>
                  </a:lnTo>
                  <a:lnTo>
                    <a:pt x="1348" y="1041"/>
                  </a:lnTo>
                  <a:lnTo>
                    <a:pt x="1344" y="1046"/>
                  </a:lnTo>
                  <a:lnTo>
                    <a:pt x="1336" y="1047"/>
                  </a:lnTo>
                  <a:lnTo>
                    <a:pt x="1329" y="1046"/>
                  </a:lnTo>
                  <a:lnTo>
                    <a:pt x="1322" y="1043"/>
                  </a:lnTo>
                  <a:lnTo>
                    <a:pt x="1318" y="1038"/>
                  </a:lnTo>
                  <a:lnTo>
                    <a:pt x="1313" y="1046"/>
                  </a:lnTo>
                  <a:lnTo>
                    <a:pt x="1307" y="1056"/>
                  </a:lnTo>
                  <a:lnTo>
                    <a:pt x="1301" y="1064"/>
                  </a:lnTo>
                  <a:lnTo>
                    <a:pt x="1296" y="1072"/>
                  </a:lnTo>
                  <a:lnTo>
                    <a:pt x="1290" y="1080"/>
                  </a:lnTo>
                  <a:lnTo>
                    <a:pt x="1283" y="1088"/>
                  </a:lnTo>
                  <a:lnTo>
                    <a:pt x="1276" y="1095"/>
                  </a:lnTo>
                  <a:lnTo>
                    <a:pt x="1269" y="1103"/>
                  </a:lnTo>
                  <a:lnTo>
                    <a:pt x="1261" y="1110"/>
                  </a:lnTo>
                  <a:lnTo>
                    <a:pt x="1253" y="1117"/>
                  </a:lnTo>
                  <a:lnTo>
                    <a:pt x="1245" y="1123"/>
                  </a:lnTo>
                  <a:lnTo>
                    <a:pt x="1235" y="1129"/>
                  </a:lnTo>
                  <a:lnTo>
                    <a:pt x="1254" y="1131"/>
                  </a:lnTo>
                  <a:lnTo>
                    <a:pt x="1272" y="1131"/>
                  </a:lnTo>
                  <a:lnTo>
                    <a:pt x="1291" y="1131"/>
                  </a:lnTo>
                  <a:lnTo>
                    <a:pt x="1310" y="1131"/>
                  </a:lnTo>
                  <a:lnTo>
                    <a:pt x="1329" y="1130"/>
                  </a:lnTo>
                  <a:lnTo>
                    <a:pt x="1349" y="1130"/>
                  </a:lnTo>
                  <a:lnTo>
                    <a:pt x="1368" y="1130"/>
                  </a:lnTo>
                  <a:lnTo>
                    <a:pt x="1387" y="1130"/>
                  </a:lnTo>
                  <a:lnTo>
                    <a:pt x="1365" y="1181"/>
                  </a:lnTo>
                  <a:lnTo>
                    <a:pt x="864" y="1181"/>
                  </a:lnTo>
                  <a:lnTo>
                    <a:pt x="876" y="1130"/>
                  </a:lnTo>
                  <a:lnTo>
                    <a:pt x="1071" y="1130"/>
                  </a:lnTo>
                  <a:lnTo>
                    <a:pt x="1077" y="1131"/>
                  </a:lnTo>
                  <a:lnTo>
                    <a:pt x="1080" y="1131"/>
                  </a:lnTo>
                  <a:lnTo>
                    <a:pt x="1085" y="1131"/>
                  </a:lnTo>
                  <a:lnTo>
                    <a:pt x="1089" y="1130"/>
                  </a:lnTo>
                  <a:lnTo>
                    <a:pt x="1082" y="1125"/>
                  </a:lnTo>
                  <a:lnTo>
                    <a:pt x="1077" y="1120"/>
                  </a:lnTo>
                  <a:lnTo>
                    <a:pt x="1071" y="1116"/>
                  </a:lnTo>
                  <a:lnTo>
                    <a:pt x="1065" y="1112"/>
                  </a:lnTo>
                  <a:lnTo>
                    <a:pt x="1059" y="1108"/>
                  </a:lnTo>
                  <a:lnTo>
                    <a:pt x="1053" y="1103"/>
                  </a:lnTo>
                  <a:lnTo>
                    <a:pt x="1048" y="1098"/>
                  </a:lnTo>
                  <a:lnTo>
                    <a:pt x="1043" y="1093"/>
                  </a:lnTo>
                  <a:lnTo>
                    <a:pt x="1089" y="1093"/>
                  </a:lnTo>
                  <a:lnTo>
                    <a:pt x="1093" y="1090"/>
                  </a:lnTo>
                  <a:lnTo>
                    <a:pt x="1100" y="1082"/>
                  </a:lnTo>
                  <a:lnTo>
                    <a:pt x="1107" y="1069"/>
                  </a:lnTo>
                  <a:lnTo>
                    <a:pt x="1115" y="1053"/>
                  </a:lnTo>
                  <a:lnTo>
                    <a:pt x="1123" y="1036"/>
                  </a:lnTo>
                  <a:lnTo>
                    <a:pt x="1130" y="1020"/>
                  </a:lnTo>
                  <a:lnTo>
                    <a:pt x="1137" y="1008"/>
                  </a:lnTo>
                  <a:lnTo>
                    <a:pt x="1140" y="1000"/>
                  </a:lnTo>
                  <a:lnTo>
                    <a:pt x="1160" y="999"/>
                  </a:lnTo>
                  <a:lnTo>
                    <a:pt x="1155" y="1017"/>
                  </a:lnTo>
                  <a:lnTo>
                    <a:pt x="1150" y="1053"/>
                  </a:lnTo>
                  <a:lnTo>
                    <a:pt x="1145" y="1089"/>
                  </a:lnTo>
                  <a:lnTo>
                    <a:pt x="1144" y="1110"/>
                  </a:lnTo>
                  <a:lnTo>
                    <a:pt x="1148" y="1110"/>
                  </a:lnTo>
                  <a:lnTo>
                    <a:pt x="1152" y="1110"/>
                  </a:lnTo>
                  <a:lnTo>
                    <a:pt x="1157" y="1110"/>
                  </a:lnTo>
                  <a:lnTo>
                    <a:pt x="1161" y="1111"/>
                  </a:lnTo>
                  <a:lnTo>
                    <a:pt x="1168" y="1110"/>
                  </a:lnTo>
                  <a:lnTo>
                    <a:pt x="1174" y="1110"/>
                  </a:lnTo>
                  <a:lnTo>
                    <a:pt x="1179" y="1110"/>
                  </a:lnTo>
                  <a:lnTo>
                    <a:pt x="1182" y="1110"/>
                  </a:lnTo>
                  <a:lnTo>
                    <a:pt x="1174" y="991"/>
                  </a:lnTo>
                  <a:lnTo>
                    <a:pt x="1176" y="996"/>
                  </a:lnTo>
                  <a:lnTo>
                    <a:pt x="1181" y="1009"/>
                  </a:lnTo>
                  <a:lnTo>
                    <a:pt x="1188" y="1027"/>
                  </a:lnTo>
                  <a:lnTo>
                    <a:pt x="1195" y="1045"/>
                  </a:lnTo>
                  <a:lnTo>
                    <a:pt x="1203" y="1065"/>
                  </a:lnTo>
                  <a:lnTo>
                    <a:pt x="1210" y="1081"/>
                  </a:lnTo>
                  <a:lnTo>
                    <a:pt x="1215" y="1093"/>
                  </a:lnTo>
                  <a:lnTo>
                    <a:pt x="1218" y="1098"/>
                  </a:lnTo>
                  <a:lnTo>
                    <a:pt x="1224" y="1094"/>
                  </a:lnTo>
                  <a:lnTo>
                    <a:pt x="1232" y="1089"/>
                  </a:lnTo>
                  <a:lnTo>
                    <a:pt x="1239" y="1086"/>
                  </a:lnTo>
                  <a:lnTo>
                    <a:pt x="1242" y="1085"/>
                  </a:lnTo>
                  <a:lnTo>
                    <a:pt x="1240" y="1079"/>
                  </a:lnTo>
                  <a:lnTo>
                    <a:pt x="1238" y="1074"/>
                  </a:lnTo>
                  <a:lnTo>
                    <a:pt x="1235" y="1069"/>
                  </a:lnTo>
                  <a:lnTo>
                    <a:pt x="1233" y="1068"/>
                  </a:lnTo>
                  <a:lnTo>
                    <a:pt x="1274" y="1053"/>
                  </a:lnTo>
                  <a:lnTo>
                    <a:pt x="1278" y="1047"/>
                  </a:lnTo>
                  <a:lnTo>
                    <a:pt x="1284" y="1038"/>
                  </a:lnTo>
                  <a:lnTo>
                    <a:pt x="1290" y="1030"/>
                  </a:lnTo>
                  <a:lnTo>
                    <a:pt x="1292" y="1024"/>
                  </a:lnTo>
                  <a:lnTo>
                    <a:pt x="1286" y="1021"/>
                  </a:lnTo>
                  <a:lnTo>
                    <a:pt x="1276" y="1017"/>
                  </a:lnTo>
                  <a:lnTo>
                    <a:pt x="1262" y="1013"/>
                  </a:lnTo>
                  <a:lnTo>
                    <a:pt x="1248" y="1007"/>
                  </a:lnTo>
                  <a:lnTo>
                    <a:pt x="1233" y="1002"/>
                  </a:lnTo>
                  <a:lnTo>
                    <a:pt x="1219" y="999"/>
                  </a:lnTo>
                  <a:lnTo>
                    <a:pt x="1209" y="995"/>
                  </a:lnTo>
                  <a:lnTo>
                    <a:pt x="1202" y="994"/>
                  </a:lnTo>
                  <a:lnTo>
                    <a:pt x="1194" y="977"/>
                  </a:lnTo>
                  <a:lnTo>
                    <a:pt x="1203" y="976"/>
                  </a:lnTo>
                  <a:lnTo>
                    <a:pt x="1218" y="976"/>
                  </a:lnTo>
                  <a:lnTo>
                    <a:pt x="1237" y="974"/>
                  </a:lnTo>
                  <a:lnTo>
                    <a:pt x="1256" y="973"/>
                  </a:lnTo>
                  <a:lnTo>
                    <a:pt x="1275" y="972"/>
                  </a:lnTo>
                  <a:lnTo>
                    <a:pt x="1292" y="972"/>
                  </a:lnTo>
                  <a:lnTo>
                    <a:pt x="1303" y="971"/>
                  </a:lnTo>
                  <a:lnTo>
                    <a:pt x="1307" y="971"/>
                  </a:lnTo>
                  <a:lnTo>
                    <a:pt x="1306" y="964"/>
                  </a:lnTo>
                  <a:lnTo>
                    <a:pt x="1303" y="954"/>
                  </a:lnTo>
                  <a:lnTo>
                    <a:pt x="1300" y="943"/>
                  </a:lnTo>
                  <a:lnTo>
                    <a:pt x="1298" y="937"/>
                  </a:lnTo>
                  <a:lnTo>
                    <a:pt x="1245" y="954"/>
                  </a:lnTo>
                  <a:lnTo>
                    <a:pt x="1223" y="913"/>
                  </a:lnTo>
                  <a:lnTo>
                    <a:pt x="1226" y="912"/>
                  </a:lnTo>
                  <a:lnTo>
                    <a:pt x="1232" y="908"/>
                  </a:lnTo>
                  <a:lnTo>
                    <a:pt x="1240" y="905"/>
                  </a:lnTo>
                  <a:lnTo>
                    <a:pt x="1248" y="900"/>
                  </a:lnTo>
                  <a:lnTo>
                    <a:pt x="1255" y="896"/>
                  </a:lnTo>
                  <a:lnTo>
                    <a:pt x="1261" y="890"/>
                  </a:lnTo>
                  <a:lnTo>
                    <a:pt x="1264" y="885"/>
                  </a:lnTo>
                  <a:lnTo>
                    <a:pt x="1266" y="882"/>
                  </a:lnTo>
                  <a:lnTo>
                    <a:pt x="1261" y="873"/>
                  </a:lnTo>
                  <a:lnTo>
                    <a:pt x="1254" y="864"/>
                  </a:lnTo>
                  <a:lnTo>
                    <a:pt x="1246" y="859"/>
                  </a:lnTo>
                  <a:lnTo>
                    <a:pt x="1238" y="856"/>
                  </a:lnTo>
                  <a:lnTo>
                    <a:pt x="1175" y="954"/>
                  </a:lnTo>
                  <a:lnTo>
                    <a:pt x="1223" y="913"/>
                  </a:lnTo>
                  <a:lnTo>
                    <a:pt x="1245" y="954"/>
                  </a:lnTo>
                  <a:lnTo>
                    <a:pt x="1194" y="977"/>
                  </a:lnTo>
                  <a:lnTo>
                    <a:pt x="1202" y="994"/>
                  </a:lnTo>
                  <a:lnTo>
                    <a:pt x="1274" y="1053"/>
                  </a:lnTo>
                  <a:lnTo>
                    <a:pt x="1233" y="1068"/>
                  </a:lnTo>
                  <a:lnTo>
                    <a:pt x="1228" y="1065"/>
                  </a:lnTo>
                  <a:lnTo>
                    <a:pt x="1221" y="1057"/>
                  </a:lnTo>
                  <a:lnTo>
                    <a:pt x="1213" y="1044"/>
                  </a:lnTo>
                  <a:lnTo>
                    <a:pt x="1204" y="1030"/>
                  </a:lnTo>
                  <a:lnTo>
                    <a:pt x="1194" y="1015"/>
                  </a:lnTo>
                  <a:lnTo>
                    <a:pt x="1186" y="1003"/>
                  </a:lnTo>
                  <a:lnTo>
                    <a:pt x="1179" y="994"/>
                  </a:lnTo>
                  <a:lnTo>
                    <a:pt x="1174" y="991"/>
                  </a:lnTo>
                  <a:lnTo>
                    <a:pt x="1182" y="1110"/>
                  </a:lnTo>
                  <a:lnTo>
                    <a:pt x="1179" y="1089"/>
                  </a:lnTo>
                  <a:lnTo>
                    <a:pt x="1172" y="1057"/>
                  </a:lnTo>
                  <a:lnTo>
                    <a:pt x="1165" y="1023"/>
                  </a:lnTo>
                  <a:lnTo>
                    <a:pt x="1160" y="999"/>
                  </a:lnTo>
                  <a:lnTo>
                    <a:pt x="1140" y="1000"/>
                  </a:lnTo>
                  <a:lnTo>
                    <a:pt x="1117" y="1020"/>
                  </a:lnTo>
                  <a:lnTo>
                    <a:pt x="1136" y="984"/>
                  </a:lnTo>
                  <a:lnTo>
                    <a:pt x="1097" y="978"/>
                  </a:lnTo>
                  <a:lnTo>
                    <a:pt x="1095" y="957"/>
                  </a:lnTo>
                  <a:lnTo>
                    <a:pt x="1099" y="957"/>
                  </a:lnTo>
                  <a:lnTo>
                    <a:pt x="1103" y="958"/>
                  </a:lnTo>
                  <a:lnTo>
                    <a:pt x="1109" y="959"/>
                  </a:lnTo>
                  <a:lnTo>
                    <a:pt x="1115" y="961"/>
                  </a:lnTo>
                  <a:lnTo>
                    <a:pt x="1122" y="962"/>
                  </a:lnTo>
                  <a:lnTo>
                    <a:pt x="1126" y="963"/>
                  </a:lnTo>
                  <a:lnTo>
                    <a:pt x="1131" y="964"/>
                  </a:lnTo>
                  <a:lnTo>
                    <a:pt x="1135" y="965"/>
                  </a:lnTo>
                  <a:lnTo>
                    <a:pt x="1130" y="963"/>
                  </a:lnTo>
                  <a:lnTo>
                    <a:pt x="1118" y="957"/>
                  </a:lnTo>
                  <a:lnTo>
                    <a:pt x="1102" y="948"/>
                  </a:lnTo>
                  <a:lnTo>
                    <a:pt x="1083" y="939"/>
                  </a:lnTo>
                  <a:lnTo>
                    <a:pt x="1064" y="929"/>
                  </a:lnTo>
                  <a:lnTo>
                    <a:pt x="1048" y="921"/>
                  </a:lnTo>
                  <a:lnTo>
                    <a:pt x="1036" y="915"/>
                  </a:lnTo>
                  <a:lnTo>
                    <a:pt x="1031" y="913"/>
                  </a:lnTo>
                  <a:lnTo>
                    <a:pt x="1054" y="876"/>
                  </a:lnTo>
                  <a:lnTo>
                    <a:pt x="1061" y="879"/>
                  </a:lnTo>
                  <a:lnTo>
                    <a:pt x="1073" y="889"/>
                  </a:lnTo>
                  <a:lnTo>
                    <a:pt x="1087" y="899"/>
                  </a:lnTo>
                  <a:lnTo>
                    <a:pt x="1102" y="912"/>
                  </a:lnTo>
                  <a:lnTo>
                    <a:pt x="1117" y="925"/>
                  </a:lnTo>
                  <a:lnTo>
                    <a:pt x="1130" y="935"/>
                  </a:lnTo>
                  <a:lnTo>
                    <a:pt x="1139" y="942"/>
                  </a:lnTo>
                  <a:lnTo>
                    <a:pt x="1144" y="944"/>
                  </a:lnTo>
                  <a:lnTo>
                    <a:pt x="1085" y="852"/>
                  </a:lnTo>
                  <a:lnTo>
                    <a:pt x="1139" y="831"/>
                  </a:lnTo>
                  <a:lnTo>
                    <a:pt x="1161" y="946"/>
                  </a:lnTo>
                  <a:lnTo>
                    <a:pt x="1182" y="832"/>
                  </a:lnTo>
                  <a:lnTo>
                    <a:pt x="1176" y="831"/>
                  </a:lnTo>
                  <a:lnTo>
                    <a:pt x="1169" y="830"/>
                  </a:lnTo>
                  <a:lnTo>
                    <a:pt x="1163" y="830"/>
                  </a:lnTo>
                  <a:lnTo>
                    <a:pt x="1158" y="830"/>
                  </a:lnTo>
                  <a:lnTo>
                    <a:pt x="1153" y="830"/>
                  </a:lnTo>
                  <a:lnTo>
                    <a:pt x="1147" y="830"/>
                  </a:lnTo>
                  <a:lnTo>
                    <a:pt x="1143" y="831"/>
                  </a:lnTo>
                  <a:lnTo>
                    <a:pt x="1139" y="831"/>
                  </a:lnTo>
                  <a:lnTo>
                    <a:pt x="1085" y="852"/>
                  </a:lnTo>
                  <a:lnTo>
                    <a:pt x="1077" y="857"/>
                  </a:lnTo>
                  <a:lnTo>
                    <a:pt x="1066" y="864"/>
                  </a:lnTo>
                  <a:lnTo>
                    <a:pt x="1058" y="871"/>
                  </a:lnTo>
                  <a:lnTo>
                    <a:pt x="1054" y="876"/>
                  </a:lnTo>
                  <a:lnTo>
                    <a:pt x="1031" y="913"/>
                  </a:lnTo>
                  <a:lnTo>
                    <a:pt x="1028" y="920"/>
                  </a:lnTo>
                  <a:lnTo>
                    <a:pt x="1026" y="928"/>
                  </a:lnTo>
                  <a:lnTo>
                    <a:pt x="1023" y="936"/>
                  </a:lnTo>
                  <a:lnTo>
                    <a:pt x="1021" y="944"/>
                  </a:lnTo>
                  <a:lnTo>
                    <a:pt x="1024" y="944"/>
                  </a:lnTo>
                  <a:lnTo>
                    <a:pt x="1031" y="947"/>
                  </a:lnTo>
                  <a:lnTo>
                    <a:pt x="1043" y="948"/>
                  </a:lnTo>
                  <a:lnTo>
                    <a:pt x="1057" y="950"/>
                  </a:lnTo>
                  <a:lnTo>
                    <a:pt x="1070" y="954"/>
                  </a:lnTo>
                  <a:lnTo>
                    <a:pt x="1081" y="955"/>
                  </a:lnTo>
                  <a:lnTo>
                    <a:pt x="1090" y="957"/>
                  </a:lnTo>
                  <a:lnTo>
                    <a:pt x="1095" y="957"/>
                  </a:lnTo>
                  <a:lnTo>
                    <a:pt x="1097" y="978"/>
                  </a:lnTo>
                  <a:lnTo>
                    <a:pt x="1089" y="977"/>
                  </a:lnTo>
                  <a:lnTo>
                    <a:pt x="1079" y="977"/>
                  </a:lnTo>
                  <a:lnTo>
                    <a:pt x="1066" y="977"/>
                  </a:lnTo>
                  <a:lnTo>
                    <a:pt x="1053" y="978"/>
                  </a:lnTo>
                  <a:lnTo>
                    <a:pt x="1041" y="978"/>
                  </a:lnTo>
                  <a:lnTo>
                    <a:pt x="1030" y="979"/>
                  </a:lnTo>
                  <a:lnTo>
                    <a:pt x="1022" y="979"/>
                  </a:lnTo>
                  <a:lnTo>
                    <a:pt x="1020" y="979"/>
                  </a:lnTo>
                  <a:lnTo>
                    <a:pt x="1021" y="986"/>
                  </a:lnTo>
                  <a:lnTo>
                    <a:pt x="1023" y="993"/>
                  </a:lnTo>
                  <a:lnTo>
                    <a:pt x="1026" y="1000"/>
                  </a:lnTo>
                  <a:lnTo>
                    <a:pt x="1027" y="1007"/>
                  </a:lnTo>
                  <a:lnTo>
                    <a:pt x="1136" y="984"/>
                  </a:lnTo>
                  <a:lnTo>
                    <a:pt x="1117" y="1020"/>
                  </a:lnTo>
                  <a:lnTo>
                    <a:pt x="1111" y="1023"/>
                  </a:lnTo>
                  <a:lnTo>
                    <a:pt x="1103" y="1029"/>
                  </a:lnTo>
                  <a:lnTo>
                    <a:pt x="1093" y="1036"/>
                  </a:lnTo>
                  <a:lnTo>
                    <a:pt x="1083" y="1044"/>
                  </a:lnTo>
                  <a:lnTo>
                    <a:pt x="1073" y="1052"/>
                  </a:lnTo>
                  <a:lnTo>
                    <a:pt x="1065" y="1058"/>
                  </a:lnTo>
                  <a:lnTo>
                    <a:pt x="1058" y="1063"/>
                  </a:lnTo>
                  <a:lnTo>
                    <a:pt x="1054" y="1064"/>
                  </a:lnTo>
                  <a:lnTo>
                    <a:pt x="1058" y="1069"/>
                  </a:lnTo>
                  <a:lnTo>
                    <a:pt x="1063" y="1074"/>
                  </a:lnTo>
                  <a:lnTo>
                    <a:pt x="1068" y="1079"/>
                  </a:lnTo>
                  <a:lnTo>
                    <a:pt x="1074" y="1083"/>
                  </a:lnTo>
                  <a:lnTo>
                    <a:pt x="1080" y="1087"/>
                  </a:lnTo>
                  <a:lnTo>
                    <a:pt x="1085" y="1089"/>
                  </a:lnTo>
                  <a:lnTo>
                    <a:pt x="1088" y="1091"/>
                  </a:lnTo>
                  <a:lnTo>
                    <a:pt x="1089" y="1093"/>
                  </a:lnTo>
                  <a:lnTo>
                    <a:pt x="1043" y="1093"/>
                  </a:lnTo>
                  <a:lnTo>
                    <a:pt x="1030" y="1074"/>
                  </a:lnTo>
                  <a:lnTo>
                    <a:pt x="1022" y="1071"/>
                  </a:lnTo>
                  <a:lnTo>
                    <a:pt x="1014" y="1068"/>
                  </a:lnTo>
                  <a:lnTo>
                    <a:pt x="1006" y="1068"/>
                  </a:lnTo>
                  <a:lnTo>
                    <a:pt x="998" y="1069"/>
                  </a:lnTo>
                  <a:lnTo>
                    <a:pt x="990" y="1071"/>
                  </a:lnTo>
                  <a:lnTo>
                    <a:pt x="980" y="1072"/>
                  </a:lnTo>
                  <a:lnTo>
                    <a:pt x="971" y="1072"/>
                  </a:lnTo>
                  <a:lnTo>
                    <a:pt x="962" y="1072"/>
                  </a:lnTo>
                  <a:lnTo>
                    <a:pt x="959" y="1081"/>
                  </a:lnTo>
                  <a:lnTo>
                    <a:pt x="956" y="1088"/>
                  </a:lnTo>
                  <a:lnTo>
                    <a:pt x="952" y="1095"/>
                  </a:lnTo>
                  <a:lnTo>
                    <a:pt x="948" y="1100"/>
                  </a:lnTo>
                  <a:lnTo>
                    <a:pt x="943" y="1105"/>
                  </a:lnTo>
                  <a:lnTo>
                    <a:pt x="937" y="1110"/>
                  </a:lnTo>
                  <a:lnTo>
                    <a:pt x="932" y="1113"/>
                  </a:lnTo>
                  <a:lnTo>
                    <a:pt x="923" y="1118"/>
                  </a:lnTo>
                  <a:lnTo>
                    <a:pt x="917" y="1116"/>
                  </a:lnTo>
                  <a:lnTo>
                    <a:pt x="911" y="1112"/>
                  </a:lnTo>
                  <a:lnTo>
                    <a:pt x="905" y="1109"/>
                  </a:lnTo>
                  <a:lnTo>
                    <a:pt x="899" y="1107"/>
                  </a:lnTo>
                  <a:lnTo>
                    <a:pt x="876" y="1130"/>
                  </a:lnTo>
                  <a:lnTo>
                    <a:pt x="864" y="1181"/>
                  </a:lnTo>
                  <a:lnTo>
                    <a:pt x="799" y="1181"/>
                  </a:lnTo>
                  <a:lnTo>
                    <a:pt x="790" y="1105"/>
                  </a:lnTo>
                  <a:lnTo>
                    <a:pt x="797" y="1105"/>
                  </a:lnTo>
                  <a:lnTo>
                    <a:pt x="803" y="1105"/>
                  </a:lnTo>
                  <a:lnTo>
                    <a:pt x="808" y="1105"/>
                  </a:lnTo>
                  <a:lnTo>
                    <a:pt x="812" y="1104"/>
                  </a:lnTo>
                  <a:lnTo>
                    <a:pt x="804" y="985"/>
                  </a:lnTo>
                  <a:lnTo>
                    <a:pt x="806" y="991"/>
                  </a:lnTo>
                  <a:lnTo>
                    <a:pt x="811" y="1003"/>
                  </a:lnTo>
                  <a:lnTo>
                    <a:pt x="817" y="1021"/>
                  </a:lnTo>
                  <a:lnTo>
                    <a:pt x="825" y="1041"/>
                  </a:lnTo>
                  <a:lnTo>
                    <a:pt x="832" y="1059"/>
                  </a:lnTo>
                  <a:lnTo>
                    <a:pt x="840" y="1076"/>
                  </a:lnTo>
                  <a:lnTo>
                    <a:pt x="845" y="1088"/>
                  </a:lnTo>
                  <a:lnTo>
                    <a:pt x="848" y="1094"/>
                  </a:lnTo>
                  <a:lnTo>
                    <a:pt x="854" y="1089"/>
                  </a:lnTo>
                  <a:lnTo>
                    <a:pt x="862" y="1085"/>
                  </a:lnTo>
                  <a:lnTo>
                    <a:pt x="869" y="1081"/>
                  </a:lnTo>
                  <a:lnTo>
                    <a:pt x="871" y="1080"/>
                  </a:lnTo>
                  <a:lnTo>
                    <a:pt x="870" y="1074"/>
                  </a:lnTo>
                  <a:lnTo>
                    <a:pt x="868" y="1069"/>
                  </a:lnTo>
                  <a:lnTo>
                    <a:pt x="864" y="1065"/>
                  </a:lnTo>
                  <a:lnTo>
                    <a:pt x="862" y="1064"/>
                  </a:lnTo>
                  <a:lnTo>
                    <a:pt x="904" y="1049"/>
                  </a:lnTo>
                  <a:lnTo>
                    <a:pt x="908" y="1043"/>
                  </a:lnTo>
                  <a:lnTo>
                    <a:pt x="914" y="1034"/>
                  </a:lnTo>
                  <a:lnTo>
                    <a:pt x="920" y="1024"/>
                  </a:lnTo>
                  <a:lnTo>
                    <a:pt x="922" y="1018"/>
                  </a:lnTo>
                  <a:lnTo>
                    <a:pt x="917" y="1016"/>
                  </a:lnTo>
                  <a:lnTo>
                    <a:pt x="906" y="1013"/>
                  </a:lnTo>
                  <a:lnTo>
                    <a:pt x="892" y="1008"/>
                  </a:lnTo>
                  <a:lnTo>
                    <a:pt x="877" y="1002"/>
                  </a:lnTo>
                  <a:lnTo>
                    <a:pt x="863" y="998"/>
                  </a:lnTo>
                  <a:lnTo>
                    <a:pt x="849" y="994"/>
                  </a:lnTo>
                  <a:lnTo>
                    <a:pt x="839" y="991"/>
                  </a:lnTo>
                  <a:lnTo>
                    <a:pt x="832" y="990"/>
                  </a:lnTo>
                  <a:lnTo>
                    <a:pt x="824" y="972"/>
                  </a:lnTo>
                  <a:lnTo>
                    <a:pt x="833" y="971"/>
                  </a:lnTo>
                  <a:lnTo>
                    <a:pt x="848" y="971"/>
                  </a:lnTo>
                  <a:lnTo>
                    <a:pt x="867" y="970"/>
                  </a:lnTo>
                  <a:lnTo>
                    <a:pt x="886" y="969"/>
                  </a:lnTo>
                  <a:lnTo>
                    <a:pt x="905" y="968"/>
                  </a:lnTo>
                  <a:lnTo>
                    <a:pt x="922" y="968"/>
                  </a:lnTo>
                  <a:lnTo>
                    <a:pt x="933" y="966"/>
                  </a:lnTo>
                  <a:lnTo>
                    <a:pt x="937" y="966"/>
                  </a:lnTo>
                  <a:lnTo>
                    <a:pt x="936" y="959"/>
                  </a:lnTo>
                  <a:lnTo>
                    <a:pt x="933" y="949"/>
                  </a:lnTo>
                  <a:lnTo>
                    <a:pt x="929" y="939"/>
                  </a:lnTo>
                  <a:lnTo>
                    <a:pt x="927" y="933"/>
                  </a:lnTo>
                  <a:lnTo>
                    <a:pt x="875" y="948"/>
                  </a:lnTo>
                  <a:lnTo>
                    <a:pt x="852" y="908"/>
                  </a:lnTo>
                  <a:lnTo>
                    <a:pt x="855" y="907"/>
                  </a:lnTo>
                  <a:lnTo>
                    <a:pt x="861" y="904"/>
                  </a:lnTo>
                  <a:lnTo>
                    <a:pt x="869" y="899"/>
                  </a:lnTo>
                  <a:lnTo>
                    <a:pt x="877" y="895"/>
                  </a:lnTo>
                  <a:lnTo>
                    <a:pt x="884" y="890"/>
                  </a:lnTo>
                  <a:lnTo>
                    <a:pt x="891" y="885"/>
                  </a:lnTo>
                  <a:lnTo>
                    <a:pt x="894" y="881"/>
                  </a:lnTo>
                  <a:lnTo>
                    <a:pt x="896" y="877"/>
                  </a:lnTo>
                  <a:lnTo>
                    <a:pt x="891" y="868"/>
                  </a:lnTo>
                  <a:lnTo>
                    <a:pt x="884" y="860"/>
                  </a:lnTo>
                  <a:lnTo>
                    <a:pt x="876" y="854"/>
                  </a:lnTo>
                  <a:lnTo>
                    <a:pt x="867" y="852"/>
                  </a:lnTo>
                  <a:lnTo>
                    <a:pt x="805" y="948"/>
                  </a:lnTo>
                  <a:lnTo>
                    <a:pt x="852" y="908"/>
                  </a:lnTo>
                  <a:lnTo>
                    <a:pt x="875" y="948"/>
                  </a:lnTo>
                  <a:lnTo>
                    <a:pt x="824" y="972"/>
                  </a:lnTo>
                  <a:lnTo>
                    <a:pt x="832" y="990"/>
                  </a:lnTo>
                  <a:lnTo>
                    <a:pt x="904" y="1049"/>
                  </a:lnTo>
                  <a:lnTo>
                    <a:pt x="862" y="1064"/>
                  </a:lnTo>
                  <a:lnTo>
                    <a:pt x="859" y="1060"/>
                  </a:lnTo>
                  <a:lnTo>
                    <a:pt x="852" y="1052"/>
                  </a:lnTo>
                  <a:lnTo>
                    <a:pt x="843" y="1039"/>
                  </a:lnTo>
                  <a:lnTo>
                    <a:pt x="833" y="1024"/>
                  </a:lnTo>
                  <a:lnTo>
                    <a:pt x="824" y="1010"/>
                  </a:lnTo>
                  <a:lnTo>
                    <a:pt x="816" y="998"/>
                  </a:lnTo>
                  <a:lnTo>
                    <a:pt x="809" y="988"/>
                  </a:lnTo>
                  <a:lnTo>
                    <a:pt x="804" y="985"/>
                  </a:lnTo>
                  <a:lnTo>
                    <a:pt x="812" y="1104"/>
                  </a:lnTo>
                  <a:lnTo>
                    <a:pt x="809" y="1085"/>
                  </a:lnTo>
                  <a:lnTo>
                    <a:pt x="802" y="1052"/>
                  </a:lnTo>
                  <a:lnTo>
                    <a:pt x="795" y="1017"/>
                  </a:lnTo>
                  <a:lnTo>
                    <a:pt x="789" y="993"/>
                  </a:lnTo>
                  <a:lnTo>
                    <a:pt x="770" y="995"/>
                  </a:lnTo>
                  <a:lnTo>
                    <a:pt x="747" y="1014"/>
                  </a:lnTo>
                  <a:lnTo>
                    <a:pt x="765" y="979"/>
                  </a:lnTo>
                  <a:lnTo>
                    <a:pt x="726" y="973"/>
                  </a:lnTo>
                  <a:lnTo>
                    <a:pt x="725" y="952"/>
                  </a:lnTo>
                  <a:lnTo>
                    <a:pt x="729" y="952"/>
                  </a:lnTo>
                  <a:lnTo>
                    <a:pt x="733" y="954"/>
                  </a:lnTo>
                  <a:lnTo>
                    <a:pt x="738" y="955"/>
                  </a:lnTo>
                  <a:lnTo>
                    <a:pt x="745" y="956"/>
                  </a:lnTo>
                  <a:lnTo>
                    <a:pt x="751" y="957"/>
                  </a:lnTo>
                  <a:lnTo>
                    <a:pt x="755" y="958"/>
                  </a:lnTo>
                  <a:lnTo>
                    <a:pt x="760" y="959"/>
                  </a:lnTo>
                  <a:lnTo>
                    <a:pt x="763" y="961"/>
                  </a:lnTo>
                  <a:lnTo>
                    <a:pt x="759" y="957"/>
                  </a:lnTo>
                  <a:lnTo>
                    <a:pt x="747" y="951"/>
                  </a:lnTo>
                  <a:lnTo>
                    <a:pt x="731" y="943"/>
                  </a:lnTo>
                  <a:lnTo>
                    <a:pt x="712" y="934"/>
                  </a:lnTo>
                  <a:lnTo>
                    <a:pt x="693" y="925"/>
                  </a:lnTo>
                  <a:lnTo>
                    <a:pt x="676" y="917"/>
                  </a:lnTo>
                  <a:lnTo>
                    <a:pt x="665" y="911"/>
                  </a:lnTo>
                  <a:lnTo>
                    <a:pt x="660" y="908"/>
                  </a:lnTo>
                  <a:lnTo>
                    <a:pt x="685" y="871"/>
                  </a:lnTo>
                  <a:lnTo>
                    <a:pt x="692" y="875"/>
                  </a:lnTo>
                  <a:lnTo>
                    <a:pt x="702" y="884"/>
                  </a:lnTo>
                  <a:lnTo>
                    <a:pt x="716" y="895"/>
                  </a:lnTo>
                  <a:lnTo>
                    <a:pt x="732" y="907"/>
                  </a:lnTo>
                  <a:lnTo>
                    <a:pt x="747" y="920"/>
                  </a:lnTo>
                  <a:lnTo>
                    <a:pt x="760" y="930"/>
                  </a:lnTo>
                  <a:lnTo>
                    <a:pt x="769" y="937"/>
                  </a:lnTo>
                  <a:lnTo>
                    <a:pt x="773" y="940"/>
                  </a:lnTo>
                  <a:lnTo>
                    <a:pt x="715" y="847"/>
                  </a:lnTo>
                  <a:lnTo>
                    <a:pt x="768" y="826"/>
                  </a:lnTo>
                  <a:lnTo>
                    <a:pt x="790" y="941"/>
                  </a:lnTo>
                  <a:lnTo>
                    <a:pt x="811" y="826"/>
                  </a:lnTo>
                  <a:lnTo>
                    <a:pt x="805" y="825"/>
                  </a:lnTo>
                  <a:lnTo>
                    <a:pt x="799" y="825"/>
                  </a:lnTo>
                  <a:lnTo>
                    <a:pt x="794" y="824"/>
                  </a:lnTo>
                  <a:lnTo>
                    <a:pt x="788" y="824"/>
                  </a:lnTo>
                  <a:lnTo>
                    <a:pt x="782" y="825"/>
                  </a:lnTo>
                  <a:lnTo>
                    <a:pt x="777" y="825"/>
                  </a:lnTo>
                  <a:lnTo>
                    <a:pt x="773" y="826"/>
                  </a:lnTo>
                  <a:lnTo>
                    <a:pt x="768" y="826"/>
                  </a:lnTo>
                  <a:lnTo>
                    <a:pt x="715" y="847"/>
                  </a:lnTo>
                  <a:lnTo>
                    <a:pt x="707" y="853"/>
                  </a:lnTo>
                  <a:lnTo>
                    <a:pt x="696" y="860"/>
                  </a:lnTo>
                  <a:lnTo>
                    <a:pt x="688" y="867"/>
                  </a:lnTo>
                  <a:lnTo>
                    <a:pt x="685" y="871"/>
                  </a:lnTo>
                  <a:lnTo>
                    <a:pt x="660" y="908"/>
                  </a:lnTo>
                  <a:lnTo>
                    <a:pt x="658" y="914"/>
                  </a:lnTo>
                  <a:lnTo>
                    <a:pt x="656" y="922"/>
                  </a:lnTo>
                  <a:lnTo>
                    <a:pt x="653" y="932"/>
                  </a:lnTo>
                  <a:lnTo>
                    <a:pt x="651" y="940"/>
                  </a:lnTo>
                  <a:lnTo>
                    <a:pt x="654" y="940"/>
                  </a:lnTo>
                  <a:lnTo>
                    <a:pt x="661" y="942"/>
                  </a:lnTo>
                  <a:lnTo>
                    <a:pt x="673" y="943"/>
                  </a:lnTo>
                  <a:lnTo>
                    <a:pt x="687" y="946"/>
                  </a:lnTo>
                  <a:lnTo>
                    <a:pt x="700" y="949"/>
                  </a:lnTo>
                  <a:lnTo>
                    <a:pt x="711" y="950"/>
                  </a:lnTo>
                  <a:lnTo>
                    <a:pt x="721" y="952"/>
                  </a:lnTo>
                  <a:lnTo>
                    <a:pt x="725" y="952"/>
                  </a:lnTo>
                  <a:lnTo>
                    <a:pt x="726" y="973"/>
                  </a:lnTo>
                  <a:lnTo>
                    <a:pt x="719" y="972"/>
                  </a:lnTo>
                  <a:lnTo>
                    <a:pt x="708" y="972"/>
                  </a:lnTo>
                  <a:lnTo>
                    <a:pt x="696" y="972"/>
                  </a:lnTo>
                  <a:lnTo>
                    <a:pt x="682" y="973"/>
                  </a:lnTo>
                  <a:lnTo>
                    <a:pt x="670" y="973"/>
                  </a:lnTo>
                  <a:lnTo>
                    <a:pt x="659" y="974"/>
                  </a:lnTo>
                  <a:lnTo>
                    <a:pt x="651" y="974"/>
                  </a:lnTo>
                  <a:lnTo>
                    <a:pt x="649" y="974"/>
                  </a:lnTo>
                  <a:lnTo>
                    <a:pt x="650" y="981"/>
                  </a:lnTo>
                  <a:lnTo>
                    <a:pt x="652" y="988"/>
                  </a:lnTo>
                  <a:lnTo>
                    <a:pt x="654" y="995"/>
                  </a:lnTo>
                  <a:lnTo>
                    <a:pt x="656" y="1002"/>
                  </a:lnTo>
                  <a:lnTo>
                    <a:pt x="765" y="979"/>
                  </a:lnTo>
                  <a:lnTo>
                    <a:pt x="747" y="1014"/>
                  </a:lnTo>
                  <a:lnTo>
                    <a:pt x="740" y="1017"/>
                  </a:lnTo>
                  <a:lnTo>
                    <a:pt x="732" y="1023"/>
                  </a:lnTo>
                  <a:lnTo>
                    <a:pt x="723" y="1031"/>
                  </a:lnTo>
                  <a:lnTo>
                    <a:pt x="712" y="1039"/>
                  </a:lnTo>
                  <a:lnTo>
                    <a:pt x="703" y="1046"/>
                  </a:lnTo>
                  <a:lnTo>
                    <a:pt x="694" y="1053"/>
                  </a:lnTo>
                  <a:lnTo>
                    <a:pt x="688" y="1058"/>
                  </a:lnTo>
                  <a:lnTo>
                    <a:pt x="685" y="1059"/>
                  </a:lnTo>
                  <a:lnTo>
                    <a:pt x="688" y="1065"/>
                  </a:lnTo>
                  <a:lnTo>
                    <a:pt x="693" y="1069"/>
                  </a:lnTo>
                  <a:lnTo>
                    <a:pt x="699" y="1074"/>
                  </a:lnTo>
                  <a:lnTo>
                    <a:pt x="704" y="1079"/>
                  </a:lnTo>
                  <a:lnTo>
                    <a:pt x="710" y="1082"/>
                  </a:lnTo>
                  <a:lnTo>
                    <a:pt x="715" y="1085"/>
                  </a:lnTo>
                  <a:lnTo>
                    <a:pt x="718" y="1087"/>
                  </a:lnTo>
                  <a:lnTo>
                    <a:pt x="719" y="1088"/>
                  </a:lnTo>
                  <a:lnTo>
                    <a:pt x="723" y="1086"/>
                  </a:lnTo>
                  <a:lnTo>
                    <a:pt x="730" y="1078"/>
                  </a:lnTo>
                  <a:lnTo>
                    <a:pt x="737" y="1064"/>
                  </a:lnTo>
                  <a:lnTo>
                    <a:pt x="745" y="1047"/>
                  </a:lnTo>
                  <a:lnTo>
                    <a:pt x="753" y="1031"/>
                  </a:lnTo>
                  <a:lnTo>
                    <a:pt x="760" y="1015"/>
                  </a:lnTo>
                  <a:lnTo>
                    <a:pt x="767" y="1002"/>
                  </a:lnTo>
                  <a:lnTo>
                    <a:pt x="770" y="995"/>
                  </a:lnTo>
                  <a:lnTo>
                    <a:pt x="789" y="993"/>
                  </a:lnTo>
                  <a:lnTo>
                    <a:pt x="785" y="1013"/>
                  </a:lnTo>
                  <a:lnTo>
                    <a:pt x="780" y="1049"/>
                  </a:lnTo>
                  <a:lnTo>
                    <a:pt x="774" y="1085"/>
                  </a:lnTo>
                  <a:lnTo>
                    <a:pt x="773" y="1104"/>
                  </a:lnTo>
                  <a:lnTo>
                    <a:pt x="777" y="1104"/>
                  </a:lnTo>
                  <a:lnTo>
                    <a:pt x="782" y="1104"/>
                  </a:lnTo>
                  <a:lnTo>
                    <a:pt x="785" y="1105"/>
                  </a:lnTo>
                  <a:lnTo>
                    <a:pt x="790" y="1105"/>
                  </a:lnTo>
                  <a:lnTo>
                    <a:pt x="799" y="1181"/>
                  </a:lnTo>
                  <a:lnTo>
                    <a:pt x="752" y="1181"/>
                  </a:lnTo>
                  <a:lnTo>
                    <a:pt x="707" y="1130"/>
                  </a:lnTo>
                  <a:lnTo>
                    <a:pt x="704" y="1129"/>
                  </a:lnTo>
                  <a:lnTo>
                    <a:pt x="700" y="1124"/>
                  </a:lnTo>
                  <a:lnTo>
                    <a:pt x="693" y="1118"/>
                  </a:lnTo>
                  <a:lnTo>
                    <a:pt x="683" y="1109"/>
                  </a:lnTo>
                  <a:lnTo>
                    <a:pt x="674" y="1100"/>
                  </a:lnTo>
                  <a:lnTo>
                    <a:pt x="665" y="1088"/>
                  </a:lnTo>
                  <a:lnTo>
                    <a:pt x="658" y="1076"/>
                  </a:lnTo>
                  <a:lnTo>
                    <a:pt x="652" y="1064"/>
                  </a:lnTo>
                  <a:lnTo>
                    <a:pt x="646" y="1069"/>
                  </a:lnTo>
                  <a:lnTo>
                    <a:pt x="644" y="1076"/>
                  </a:lnTo>
                  <a:lnTo>
                    <a:pt x="642" y="1086"/>
                  </a:lnTo>
                  <a:lnTo>
                    <a:pt x="639" y="1093"/>
                  </a:lnTo>
                  <a:lnTo>
                    <a:pt x="631" y="1096"/>
                  </a:lnTo>
                  <a:lnTo>
                    <a:pt x="614" y="1098"/>
                  </a:lnTo>
                  <a:lnTo>
                    <a:pt x="590" y="1100"/>
                  </a:lnTo>
                  <a:lnTo>
                    <a:pt x="562" y="1101"/>
                  </a:lnTo>
                  <a:lnTo>
                    <a:pt x="532" y="1102"/>
                  </a:lnTo>
                  <a:lnTo>
                    <a:pt x="501" y="1102"/>
                  </a:lnTo>
                  <a:lnTo>
                    <a:pt x="476" y="1102"/>
                  </a:lnTo>
                  <a:lnTo>
                    <a:pt x="455" y="1102"/>
                  </a:lnTo>
                  <a:lnTo>
                    <a:pt x="448" y="1110"/>
                  </a:lnTo>
                  <a:lnTo>
                    <a:pt x="441" y="1117"/>
                  </a:lnTo>
                  <a:lnTo>
                    <a:pt x="433" y="1124"/>
                  </a:lnTo>
                  <a:lnTo>
                    <a:pt x="425" y="1130"/>
                  </a:lnTo>
                  <a:lnTo>
                    <a:pt x="707" y="1130"/>
                  </a:lnTo>
                  <a:lnTo>
                    <a:pt x="752" y="1181"/>
                  </a:lnTo>
                  <a:lnTo>
                    <a:pt x="734" y="1181"/>
                  </a:lnTo>
                  <a:lnTo>
                    <a:pt x="704" y="1182"/>
                  </a:lnTo>
                  <a:lnTo>
                    <a:pt x="664" y="1182"/>
                  </a:lnTo>
                  <a:lnTo>
                    <a:pt x="614" y="1182"/>
                  </a:lnTo>
                  <a:lnTo>
                    <a:pt x="557" y="1182"/>
                  </a:lnTo>
                  <a:lnTo>
                    <a:pt x="496" y="1182"/>
                  </a:lnTo>
                  <a:lnTo>
                    <a:pt x="431" y="1182"/>
                  </a:lnTo>
                  <a:lnTo>
                    <a:pt x="365" y="1182"/>
                  </a:lnTo>
                  <a:lnTo>
                    <a:pt x="298" y="1182"/>
                  </a:lnTo>
                  <a:lnTo>
                    <a:pt x="236" y="1182"/>
                  </a:lnTo>
                  <a:lnTo>
                    <a:pt x="177" y="1181"/>
                  </a:lnTo>
                  <a:lnTo>
                    <a:pt x="125" y="1181"/>
                  </a:lnTo>
                  <a:lnTo>
                    <a:pt x="80" y="1181"/>
                  </a:lnTo>
                  <a:lnTo>
                    <a:pt x="47" y="1181"/>
                  </a:lnTo>
                  <a:lnTo>
                    <a:pt x="26" y="1181"/>
                  </a:lnTo>
                  <a:lnTo>
                    <a:pt x="18" y="1181"/>
                  </a:lnTo>
                  <a:lnTo>
                    <a:pt x="18" y="1130"/>
                  </a:lnTo>
                  <a:lnTo>
                    <a:pt x="253" y="1130"/>
                  </a:lnTo>
                  <a:lnTo>
                    <a:pt x="245" y="1122"/>
                  </a:lnTo>
                  <a:lnTo>
                    <a:pt x="238" y="1113"/>
                  </a:lnTo>
                  <a:lnTo>
                    <a:pt x="230" y="1105"/>
                  </a:lnTo>
                  <a:lnTo>
                    <a:pt x="223" y="1097"/>
                  </a:lnTo>
                  <a:lnTo>
                    <a:pt x="216" y="1089"/>
                  </a:lnTo>
                  <a:lnTo>
                    <a:pt x="210" y="1080"/>
                  </a:lnTo>
                  <a:lnTo>
                    <a:pt x="205" y="1071"/>
                  </a:lnTo>
                  <a:lnTo>
                    <a:pt x="201" y="1061"/>
                  </a:lnTo>
                  <a:lnTo>
                    <a:pt x="189" y="1037"/>
                  </a:lnTo>
                  <a:lnTo>
                    <a:pt x="184" y="1008"/>
                  </a:lnTo>
                  <a:lnTo>
                    <a:pt x="180" y="979"/>
                  </a:lnTo>
                  <a:lnTo>
                    <a:pt x="178" y="957"/>
                  </a:lnTo>
                  <a:lnTo>
                    <a:pt x="210" y="948"/>
                  </a:lnTo>
                  <a:lnTo>
                    <a:pt x="213" y="956"/>
                  </a:lnTo>
                  <a:lnTo>
                    <a:pt x="214" y="980"/>
                  </a:lnTo>
                  <a:lnTo>
                    <a:pt x="214" y="986"/>
                  </a:lnTo>
                  <a:lnTo>
                    <a:pt x="216" y="993"/>
                  </a:lnTo>
                  <a:lnTo>
                    <a:pt x="218" y="999"/>
                  </a:lnTo>
                  <a:lnTo>
                    <a:pt x="221" y="1003"/>
                  </a:lnTo>
                  <a:lnTo>
                    <a:pt x="227" y="1002"/>
                  </a:lnTo>
                  <a:lnTo>
                    <a:pt x="234" y="1001"/>
                  </a:lnTo>
                  <a:lnTo>
                    <a:pt x="242" y="999"/>
                  </a:lnTo>
                  <a:lnTo>
                    <a:pt x="250" y="996"/>
                  </a:lnTo>
                  <a:lnTo>
                    <a:pt x="257" y="994"/>
                  </a:lnTo>
                  <a:lnTo>
                    <a:pt x="264" y="992"/>
                  </a:lnTo>
                  <a:lnTo>
                    <a:pt x="269" y="990"/>
                  </a:lnTo>
                  <a:lnTo>
                    <a:pt x="273" y="986"/>
                  </a:lnTo>
                  <a:lnTo>
                    <a:pt x="288" y="1014"/>
                  </a:lnTo>
                  <a:lnTo>
                    <a:pt x="281" y="1015"/>
                  </a:lnTo>
                  <a:lnTo>
                    <a:pt x="273" y="1016"/>
                  </a:lnTo>
                  <a:lnTo>
                    <a:pt x="265" y="1017"/>
                  </a:lnTo>
                  <a:lnTo>
                    <a:pt x="257" y="1020"/>
                  </a:lnTo>
                  <a:lnTo>
                    <a:pt x="247" y="1022"/>
                  </a:lnTo>
                  <a:lnTo>
                    <a:pt x="241" y="1024"/>
                  </a:lnTo>
                  <a:lnTo>
                    <a:pt x="232" y="1027"/>
                  </a:lnTo>
                  <a:lnTo>
                    <a:pt x="225" y="1029"/>
                  </a:lnTo>
                  <a:lnTo>
                    <a:pt x="227" y="1037"/>
                  </a:lnTo>
                  <a:lnTo>
                    <a:pt x="229" y="1044"/>
                  </a:lnTo>
                  <a:lnTo>
                    <a:pt x="231" y="1050"/>
                  </a:lnTo>
                  <a:lnTo>
                    <a:pt x="237" y="1056"/>
                  </a:lnTo>
                  <a:lnTo>
                    <a:pt x="252" y="1079"/>
                  </a:lnTo>
                  <a:lnTo>
                    <a:pt x="256" y="1083"/>
                  </a:lnTo>
                  <a:lnTo>
                    <a:pt x="264" y="1090"/>
                  </a:lnTo>
                  <a:lnTo>
                    <a:pt x="274" y="1097"/>
                  </a:lnTo>
                  <a:lnTo>
                    <a:pt x="283" y="1104"/>
                  </a:lnTo>
                  <a:lnTo>
                    <a:pt x="323" y="1120"/>
                  </a:lnTo>
                  <a:lnTo>
                    <a:pt x="327" y="1120"/>
                  </a:lnTo>
                  <a:lnTo>
                    <a:pt x="332" y="1120"/>
                  </a:lnTo>
                  <a:lnTo>
                    <a:pt x="338" y="1120"/>
                  </a:lnTo>
                  <a:lnTo>
                    <a:pt x="344" y="1120"/>
                  </a:lnTo>
                  <a:lnTo>
                    <a:pt x="349" y="1119"/>
                  </a:lnTo>
                  <a:lnTo>
                    <a:pt x="355" y="1118"/>
                  </a:lnTo>
                  <a:lnTo>
                    <a:pt x="359" y="1116"/>
                  </a:lnTo>
                  <a:lnTo>
                    <a:pt x="361" y="1112"/>
                  </a:lnTo>
                  <a:lnTo>
                    <a:pt x="356" y="1104"/>
                  </a:lnTo>
                  <a:lnTo>
                    <a:pt x="351" y="1096"/>
                  </a:lnTo>
                  <a:lnTo>
                    <a:pt x="344" y="1090"/>
                  </a:lnTo>
                  <a:lnTo>
                    <a:pt x="337" y="1085"/>
                  </a:lnTo>
                  <a:lnTo>
                    <a:pt x="333" y="1093"/>
                  </a:lnTo>
                  <a:lnTo>
                    <a:pt x="329" y="1104"/>
                  </a:lnTo>
                  <a:lnTo>
                    <a:pt x="325" y="1116"/>
                  </a:lnTo>
                  <a:lnTo>
                    <a:pt x="323" y="1120"/>
                  </a:lnTo>
                  <a:lnTo>
                    <a:pt x="283" y="1104"/>
                  </a:lnTo>
                  <a:lnTo>
                    <a:pt x="290" y="1089"/>
                  </a:lnTo>
                  <a:lnTo>
                    <a:pt x="300" y="1073"/>
                  </a:lnTo>
                  <a:lnTo>
                    <a:pt x="305" y="1056"/>
                  </a:lnTo>
                  <a:lnTo>
                    <a:pt x="308" y="1039"/>
                  </a:lnTo>
                  <a:lnTo>
                    <a:pt x="301" y="1043"/>
                  </a:lnTo>
                  <a:lnTo>
                    <a:pt x="293" y="1049"/>
                  </a:lnTo>
                  <a:lnTo>
                    <a:pt x="285" y="1054"/>
                  </a:lnTo>
                  <a:lnTo>
                    <a:pt x="275" y="1061"/>
                  </a:lnTo>
                  <a:lnTo>
                    <a:pt x="266" y="1067"/>
                  </a:lnTo>
                  <a:lnTo>
                    <a:pt x="259" y="1073"/>
                  </a:lnTo>
                  <a:lnTo>
                    <a:pt x="254" y="1076"/>
                  </a:lnTo>
                  <a:lnTo>
                    <a:pt x="252" y="1079"/>
                  </a:lnTo>
                  <a:lnTo>
                    <a:pt x="237" y="1056"/>
                  </a:lnTo>
                  <a:lnTo>
                    <a:pt x="243" y="1051"/>
                  </a:lnTo>
                  <a:lnTo>
                    <a:pt x="249" y="1047"/>
                  </a:lnTo>
                  <a:lnTo>
                    <a:pt x="256" y="1043"/>
                  </a:lnTo>
                  <a:lnTo>
                    <a:pt x="263" y="1038"/>
                  </a:lnTo>
                  <a:lnTo>
                    <a:pt x="269" y="1034"/>
                  </a:lnTo>
                  <a:lnTo>
                    <a:pt x="276" y="1028"/>
                  </a:lnTo>
                  <a:lnTo>
                    <a:pt x="282" y="1023"/>
                  </a:lnTo>
                  <a:lnTo>
                    <a:pt x="288" y="1018"/>
                  </a:lnTo>
                  <a:lnTo>
                    <a:pt x="288" y="1014"/>
                  </a:lnTo>
                  <a:lnTo>
                    <a:pt x="273" y="986"/>
                  </a:lnTo>
                  <a:lnTo>
                    <a:pt x="267" y="985"/>
                  </a:lnTo>
                  <a:lnTo>
                    <a:pt x="260" y="983"/>
                  </a:lnTo>
                  <a:lnTo>
                    <a:pt x="252" y="981"/>
                  </a:lnTo>
                  <a:lnTo>
                    <a:pt x="244" y="980"/>
                  </a:lnTo>
                  <a:lnTo>
                    <a:pt x="235" y="980"/>
                  </a:lnTo>
                  <a:lnTo>
                    <a:pt x="227" y="979"/>
                  </a:lnTo>
                  <a:lnTo>
                    <a:pt x="220" y="979"/>
                  </a:lnTo>
                  <a:lnTo>
                    <a:pt x="214" y="980"/>
                  </a:lnTo>
                  <a:lnTo>
                    <a:pt x="213" y="956"/>
                  </a:lnTo>
                  <a:lnTo>
                    <a:pt x="217" y="957"/>
                  </a:lnTo>
                  <a:lnTo>
                    <a:pt x="225" y="956"/>
                  </a:lnTo>
                  <a:lnTo>
                    <a:pt x="235" y="954"/>
                  </a:lnTo>
                  <a:lnTo>
                    <a:pt x="244" y="950"/>
                  </a:lnTo>
                  <a:lnTo>
                    <a:pt x="253" y="947"/>
                  </a:lnTo>
                  <a:lnTo>
                    <a:pt x="261" y="942"/>
                  </a:lnTo>
                  <a:lnTo>
                    <a:pt x="267" y="939"/>
                  </a:lnTo>
                  <a:lnTo>
                    <a:pt x="269" y="935"/>
                  </a:lnTo>
                  <a:lnTo>
                    <a:pt x="210" y="937"/>
                  </a:lnTo>
                  <a:lnTo>
                    <a:pt x="210" y="948"/>
                  </a:lnTo>
                  <a:lnTo>
                    <a:pt x="178" y="957"/>
                  </a:lnTo>
                  <a:lnTo>
                    <a:pt x="152" y="956"/>
                  </a:lnTo>
                  <a:lnTo>
                    <a:pt x="145" y="964"/>
                  </a:lnTo>
                  <a:lnTo>
                    <a:pt x="135" y="970"/>
                  </a:lnTo>
                  <a:lnTo>
                    <a:pt x="125" y="973"/>
                  </a:lnTo>
                  <a:lnTo>
                    <a:pt x="120" y="974"/>
                  </a:lnTo>
                  <a:lnTo>
                    <a:pt x="122" y="1061"/>
                  </a:lnTo>
                  <a:lnTo>
                    <a:pt x="87" y="1065"/>
                  </a:lnTo>
                  <a:lnTo>
                    <a:pt x="87" y="1046"/>
                  </a:lnTo>
                  <a:lnTo>
                    <a:pt x="86" y="1007"/>
                  </a:lnTo>
                  <a:lnTo>
                    <a:pt x="85" y="965"/>
                  </a:lnTo>
                  <a:lnTo>
                    <a:pt x="86" y="946"/>
                  </a:lnTo>
                  <a:lnTo>
                    <a:pt x="96" y="940"/>
                  </a:lnTo>
                  <a:lnTo>
                    <a:pt x="103" y="933"/>
                  </a:lnTo>
                  <a:lnTo>
                    <a:pt x="108" y="923"/>
                  </a:lnTo>
                  <a:lnTo>
                    <a:pt x="108" y="913"/>
                  </a:lnTo>
                  <a:lnTo>
                    <a:pt x="109" y="847"/>
                  </a:lnTo>
                  <a:lnTo>
                    <a:pt x="111" y="699"/>
                  </a:lnTo>
                  <a:lnTo>
                    <a:pt x="111" y="545"/>
                  </a:lnTo>
                  <a:lnTo>
                    <a:pt x="108" y="461"/>
                  </a:lnTo>
                  <a:lnTo>
                    <a:pt x="162" y="457"/>
                  </a:lnTo>
                  <a:lnTo>
                    <a:pt x="159" y="493"/>
                  </a:lnTo>
                  <a:lnTo>
                    <a:pt x="160" y="540"/>
                  </a:lnTo>
                  <a:lnTo>
                    <a:pt x="163" y="582"/>
                  </a:lnTo>
                  <a:lnTo>
                    <a:pt x="164" y="599"/>
                  </a:lnTo>
                  <a:lnTo>
                    <a:pt x="173" y="600"/>
                  </a:lnTo>
                  <a:lnTo>
                    <a:pt x="184" y="600"/>
                  </a:lnTo>
                  <a:lnTo>
                    <a:pt x="193" y="600"/>
                  </a:lnTo>
                  <a:lnTo>
                    <a:pt x="202" y="600"/>
                  </a:lnTo>
                  <a:lnTo>
                    <a:pt x="212" y="599"/>
                  </a:lnTo>
                  <a:lnTo>
                    <a:pt x="221" y="599"/>
                  </a:lnTo>
                  <a:lnTo>
                    <a:pt x="231" y="599"/>
                  </a:lnTo>
                  <a:lnTo>
                    <a:pt x="241" y="599"/>
                  </a:lnTo>
                  <a:lnTo>
                    <a:pt x="241" y="457"/>
                  </a:lnTo>
                  <a:lnTo>
                    <a:pt x="304" y="457"/>
                  </a:lnTo>
                  <a:lnTo>
                    <a:pt x="307" y="484"/>
                  </a:lnTo>
                  <a:lnTo>
                    <a:pt x="305" y="512"/>
                  </a:lnTo>
                  <a:lnTo>
                    <a:pt x="305" y="540"/>
                  </a:lnTo>
                  <a:lnTo>
                    <a:pt x="307" y="566"/>
                  </a:lnTo>
                  <a:lnTo>
                    <a:pt x="309" y="563"/>
                  </a:lnTo>
                  <a:lnTo>
                    <a:pt x="314" y="556"/>
                  </a:lnTo>
                  <a:lnTo>
                    <a:pt x="319" y="547"/>
                  </a:lnTo>
                  <a:lnTo>
                    <a:pt x="327" y="537"/>
                  </a:lnTo>
                  <a:lnTo>
                    <a:pt x="336" y="526"/>
                  </a:lnTo>
                  <a:lnTo>
                    <a:pt x="345" y="517"/>
                  </a:lnTo>
                  <a:lnTo>
                    <a:pt x="355" y="511"/>
                  </a:lnTo>
                  <a:lnTo>
                    <a:pt x="366" y="5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 flipH="1" rot="20461800">
              <a:off x="4191120" y="4025880"/>
              <a:ext cx="912600" cy="469800"/>
            </a:xfrm>
            <a:custGeom>
              <a:avLst/>
              <a:gdLst/>
              <a:ahLst/>
              <a:rect l="l" t="t" r="r" b="b"/>
              <a:pathLst>
                <a:path w="2301" h="1182">
                  <a:moveTo>
                    <a:pt x="366" y="509"/>
                  </a:moveTo>
                  <a:lnTo>
                    <a:pt x="366" y="495"/>
                  </a:lnTo>
                  <a:lnTo>
                    <a:pt x="368" y="481"/>
                  </a:lnTo>
                  <a:lnTo>
                    <a:pt x="373" y="468"/>
                  </a:lnTo>
                  <a:lnTo>
                    <a:pt x="380" y="457"/>
                  </a:lnTo>
                  <a:lnTo>
                    <a:pt x="445" y="466"/>
                  </a:lnTo>
                  <a:lnTo>
                    <a:pt x="446" y="479"/>
                  </a:lnTo>
                  <a:lnTo>
                    <a:pt x="446" y="496"/>
                  </a:lnTo>
                  <a:lnTo>
                    <a:pt x="450" y="510"/>
                  </a:lnTo>
                  <a:lnTo>
                    <a:pt x="462" y="513"/>
                  </a:lnTo>
                  <a:lnTo>
                    <a:pt x="462" y="508"/>
                  </a:lnTo>
                  <a:lnTo>
                    <a:pt x="462" y="502"/>
                  </a:lnTo>
                  <a:lnTo>
                    <a:pt x="462" y="496"/>
                  </a:lnTo>
                  <a:lnTo>
                    <a:pt x="458" y="491"/>
                  </a:lnTo>
                  <a:lnTo>
                    <a:pt x="461" y="487"/>
                  </a:lnTo>
                  <a:lnTo>
                    <a:pt x="464" y="482"/>
                  </a:lnTo>
                  <a:lnTo>
                    <a:pt x="468" y="480"/>
                  </a:lnTo>
                  <a:lnTo>
                    <a:pt x="472" y="477"/>
                  </a:lnTo>
                  <a:lnTo>
                    <a:pt x="475" y="468"/>
                  </a:lnTo>
                  <a:lnTo>
                    <a:pt x="477" y="458"/>
                  </a:lnTo>
                  <a:lnTo>
                    <a:pt x="476" y="447"/>
                  </a:lnTo>
                  <a:lnTo>
                    <a:pt x="474" y="437"/>
                  </a:lnTo>
                  <a:lnTo>
                    <a:pt x="471" y="436"/>
                  </a:lnTo>
                  <a:lnTo>
                    <a:pt x="470" y="436"/>
                  </a:lnTo>
                  <a:lnTo>
                    <a:pt x="469" y="436"/>
                  </a:lnTo>
                  <a:lnTo>
                    <a:pt x="470" y="436"/>
                  </a:lnTo>
                  <a:lnTo>
                    <a:pt x="453" y="435"/>
                  </a:lnTo>
                  <a:lnTo>
                    <a:pt x="448" y="442"/>
                  </a:lnTo>
                  <a:lnTo>
                    <a:pt x="448" y="454"/>
                  </a:lnTo>
                  <a:lnTo>
                    <a:pt x="445" y="466"/>
                  </a:lnTo>
                  <a:lnTo>
                    <a:pt x="380" y="457"/>
                  </a:lnTo>
                  <a:lnTo>
                    <a:pt x="304" y="457"/>
                  </a:lnTo>
                  <a:lnTo>
                    <a:pt x="241" y="457"/>
                  </a:lnTo>
                  <a:lnTo>
                    <a:pt x="237" y="458"/>
                  </a:lnTo>
                  <a:lnTo>
                    <a:pt x="228" y="458"/>
                  </a:lnTo>
                  <a:lnTo>
                    <a:pt x="215" y="458"/>
                  </a:lnTo>
                  <a:lnTo>
                    <a:pt x="201" y="458"/>
                  </a:lnTo>
                  <a:lnTo>
                    <a:pt x="187" y="458"/>
                  </a:lnTo>
                  <a:lnTo>
                    <a:pt x="174" y="457"/>
                  </a:lnTo>
                  <a:lnTo>
                    <a:pt x="165" y="457"/>
                  </a:lnTo>
                  <a:lnTo>
                    <a:pt x="162" y="457"/>
                  </a:lnTo>
                  <a:lnTo>
                    <a:pt x="108" y="461"/>
                  </a:lnTo>
                  <a:lnTo>
                    <a:pt x="103" y="459"/>
                  </a:lnTo>
                  <a:lnTo>
                    <a:pt x="99" y="457"/>
                  </a:lnTo>
                  <a:lnTo>
                    <a:pt x="96" y="452"/>
                  </a:lnTo>
                  <a:lnTo>
                    <a:pt x="97" y="446"/>
                  </a:lnTo>
                  <a:lnTo>
                    <a:pt x="91" y="447"/>
                  </a:lnTo>
                  <a:lnTo>
                    <a:pt x="86" y="450"/>
                  </a:lnTo>
                  <a:lnTo>
                    <a:pt x="80" y="451"/>
                  </a:lnTo>
                  <a:lnTo>
                    <a:pt x="74" y="447"/>
                  </a:lnTo>
                  <a:lnTo>
                    <a:pt x="71" y="439"/>
                  </a:lnTo>
                  <a:lnTo>
                    <a:pt x="67" y="431"/>
                  </a:lnTo>
                  <a:lnTo>
                    <a:pt x="61" y="426"/>
                  </a:lnTo>
                  <a:lnTo>
                    <a:pt x="53" y="429"/>
                  </a:lnTo>
                  <a:lnTo>
                    <a:pt x="45" y="420"/>
                  </a:lnTo>
                  <a:lnTo>
                    <a:pt x="35" y="410"/>
                  </a:lnTo>
                  <a:lnTo>
                    <a:pt x="27" y="400"/>
                  </a:lnTo>
                  <a:lnTo>
                    <a:pt x="24" y="387"/>
                  </a:lnTo>
                  <a:lnTo>
                    <a:pt x="16" y="380"/>
                  </a:lnTo>
                  <a:lnTo>
                    <a:pt x="7" y="372"/>
                  </a:lnTo>
                  <a:lnTo>
                    <a:pt x="2" y="363"/>
                  </a:lnTo>
                  <a:lnTo>
                    <a:pt x="0" y="350"/>
                  </a:lnTo>
                  <a:lnTo>
                    <a:pt x="3" y="342"/>
                  </a:lnTo>
                  <a:lnTo>
                    <a:pt x="468" y="344"/>
                  </a:lnTo>
                  <a:lnTo>
                    <a:pt x="468" y="352"/>
                  </a:lnTo>
                  <a:lnTo>
                    <a:pt x="467" y="360"/>
                  </a:lnTo>
                  <a:lnTo>
                    <a:pt x="463" y="367"/>
                  </a:lnTo>
                  <a:lnTo>
                    <a:pt x="457" y="373"/>
                  </a:lnTo>
                  <a:lnTo>
                    <a:pt x="462" y="376"/>
                  </a:lnTo>
                  <a:lnTo>
                    <a:pt x="467" y="379"/>
                  </a:lnTo>
                  <a:lnTo>
                    <a:pt x="472" y="380"/>
                  </a:lnTo>
                  <a:lnTo>
                    <a:pt x="478" y="380"/>
                  </a:lnTo>
                  <a:lnTo>
                    <a:pt x="476" y="376"/>
                  </a:lnTo>
                  <a:lnTo>
                    <a:pt x="474" y="371"/>
                  </a:lnTo>
                  <a:lnTo>
                    <a:pt x="471" y="366"/>
                  </a:lnTo>
                  <a:lnTo>
                    <a:pt x="472" y="360"/>
                  </a:lnTo>
                  <a:lnTo>
                    <a:pt x="481" y="358"/>
                  </a:lnTo>
                  <a:lnTo>
                    <a:pt x="487" y="355"/>
                  </a:lnTo>
                  <a:lnTo>
                    <a:pt x="494" y="349"/>
                  </a:lnTo>
                  <a:lnTo>
                    <a:pt x="500" y="343"/>
                  </a:lnTo>
                  <a:lnTo>
                    <a:pt x="505" y="338"/>
                  </a:lnTo>
                  <a:lnTo>
                    <a:pt x="511" y="333"/>
                  </a:lnTo>
                  <a:lnTo>
                    <a:pt x="518" y="329"/>
                  </a:lnTo>
                  <a:lnTo>
                    <a:pt x="525" y="327"/>
                  </a:lnTo>
                  <a:lnTo>
                    <a:pt x="536" y="318"/>
                  </a:lnTo>
                  <a:lnTo>
                    <a:pt x="528" y="315"/>
                  </a:lnTo>
                  <a:lnTo>
                    <a:pt x="516" y="315"/>
                  </a:lnTo>
                  <a:lnTo>
                    <a:pt x="507" y="313"/>
                  </a:lnTo>
                  <a:lnTo>
                    <a:pt x="504" y="303"/>
                  </a:lnTo>
                  <a:lnTo>
                    <a:pt x="503" y="303"/>
                  </a:lnTo>
                  <a:lnTo>
                    <a:pt x="503" y="298"/>
                  </a:lnTo>
                  <a:lnTo>
                    <a:pt x="504" y="298"/>
                  </a:lnTo>
                  <a:lnTo>
                    <a:pt x="504" y="299"/>
                  </a:lnTo>
                  <a:lnTo>
                    <a:pt x="507" y="293"/>
                  </a:lnTo>
                  <a:lnTo>
                    <a:pt x="512" y="291"/>
                  </a:lnTo>
                  <a:lnTo>
                    <a:pt x="518" y="291"/>
                  </a:lnTo>
                  <a:lnTo>
                    <a:pt x="525" y="291"/>
                  </a:lnTo>
                  <a:lnTo>
                    <a:pt x="530" y="292"/>
                  </a:lnTo>
                  <a:lnTo>
                    <a:pt x="536" y="292"/>
                  </a:lnTo>
                  <a:lnTo>
                    <a:pt x="541" y="290"/>
                  </a:lnTo>
                  <a:lnTo>
                    <a:pt x="544" y="286"/>
                  </a:lnTo>
                  <a:lnTo>
                    <a:pt x="536" y="284"/>
                  </a:lnTo>
                  <a:lnTo>
                    <a:pt x="528" y="285"/>
                  </a:lnTo>
                  <a:lnTo>
                    <a:pt x="520" y="285"/>
                  </a:lnTo>
                  <a:lnTo>
                    <a:pt x="512" y="284"/>
                  </a:lnTo>
                  <a:lnTo>
                    <a:pt x="498" y="284"/>
                  </a:lnTo>
                  <a:lnTo>
                    <a:pt x="485" y="283"/>
                  </a:lnTo>
                  <a:lnTo>
                    <a:pt x="472" y="284"/>
                  </a:lnTo>
                  <a:lnTo>
                    <a:pt x="460" y="284"/>
                  </a:lnTo>
                  <a:lnTo>
                    <a:pt x="447" y="284"/>
                  </a:lnTo>
                  <a:lnTo>
                    <a:pt x="435" y="284"/>
                  </a:lnTo>
                  <a:lnTo>
                    <a:pt x="423" y="283"/>
                  </a:lnTo>
                  <a:lnTo>
                    <a:pt x="411" y="282"/>
                  </a:lnTo>
                  <a:lnTo>
                    <a:pt x="410" y="277"/>
                  </a:lnTo>
                  <a:lnTo>
                    <a:pt x="409" y="274"/>
                  </a:lnTo>
                  <a:lnTo>
                    <a:pt x="407" y="270"/>
                  </a:lnTo>
                  <a:lnTo>
                    <a:pt x="411" y="267"/>
                  </a:lnTo>
                  <a:lnTo>
                    <a:pt x="433" y="265"/>
                  </a:lnTo>
                  <a:lnTo>
                    <a:pt x="455" y="265"/>
                  </a:lnTo>
                  <a:lnTo>
                    <a:pt x="477" y="265"/>
                  </a:lnTo>
                  <a:lnTo>
                    <a:pt x="498" y="265"/>
                  </a:lnTo>
                  <a:lnTo>
                    <a:pt x="518" y="265"/>
                  </a:lnTo>
                  <a:lnTo>
                    <a:pt x="539" y="265"/>
                  </a:lnTo>
                  <a:lnTo>
                    <a:pt x="561" y="265"/>
                  </a:lnTo>
                  <a:lnTo>
                    <a:pt x="581" y="264"/>
                  </a:lnTo>
                  <a:lnTo>
                    <a:pt x="585" y="267"/>
                  </a:lnTo>
                  <a:lnTo>
                    <a:pt x="588" y="267"/>
                  </a:lnTo>
                  <a:lnTo>
                    <a:pt x="591" y="267"/>
                  </a:lnTo>
                  <a:lnTo>
                    <a:pt x="593" y="269"/>
                  </a:lnTo>
                  <a:lnTo>
                    <a:pt x="594" y="275"/>
                  </a:lnTo>
                  <a:lnTo>
                    <a:pt x="592" y="281"/>
                  </a:lnTo>
                  <a:lnTo>
                    <a:pt x="590" y="284"/>
                  </a:lnTo>
                  <a:lnTo>
                    <a:pt x="587" y="289"/>
                  </a:lnTo>
                  <a:lnTo>
                    <a:pt x="593" y="291"/>
                  </a:lnTo>
                  <a:lnTo>
                    <a:pt x="598" y="292"/>
                  </a:lnTo>
                  <a:lnTo>
                    <a:pt x="603" y="292"/>
                  </a:lnTo>
                  <a:lnTo>
                    <a:pt x="609" y="292"/>
                  </a:lnTo>
                  <a:lnTo>
                    <a:pt x="615" y="292"/>
                  </a:lnTo>
                  <a:lnTo>
                    <a:pt x="620" y="293"/>
                  </a:lnTo>
                  <a:lnTo>
                    <a:pt x="624" y="296"/>
                  </a:lnTo>
                  <a:lnTo>
                    <a:pt x="628" y="300"/>
                  </a:lnTo>
                  <a:lnTo>
                    <a:pt x="629" y="308"/>
                  </a:lnTo>
                  <a:lnTo>
                    <a:pt x="624" y="313"/>
                  </a:lnTo>
                  <a:lnTo>
                    <a:pt x="617" y="315"/>
                  </a:lnTo>
                  <a:lnTo>
                    <a:pt x="610" y="315"/>
                  </a:lnTo>
                  <a:lnTo>
                    <a:pt x="607" y="314"/>
                  </a:lnTo>
                  <a:lnTo>
                    <a:pt x="603" y="313"/>
                  </a:lnTo>
                  <a:lnTo>
                    <a:pt x="599" y="314"/>
                  </a:lnTo>
                  <a:lnTo>
                    <a:pt x="595" y="315"/>
                  </a:lnTo>
                  <a:lnTo>
                    <a:pt x="602" y="318"/>
                  </a:lnTo>
                  <a:lnTo>
                    <a:pt x="608" y="320"/>
                  </a:lnTo>
                  <a:lnTo>
                    <a:pt x="614" y="322"/>
                  </a:lnTo>
                  <a:lnTo>
                    <a:pt x="621" y="323"/>
                  </a:lnTo>
                  <a:lnTo>
                    <a:pt x="627" y="326"/>
                  </a:lnTo>
                  <a:lnTo>
                    <a:pt x="632" y="329"/>
                  </a:lnTo>
                  <a:lnTo>
                    <a:pt x="637" y="333"/>
                  </a:lnTo>
                  <a:lnTo>
                    <a:pt x="643" y="336"/>
                  </a:lnTo>
                  <a:lnTo>
                    <a:pt x="649" y="342"/>
                  </a:lnTo>
                  <a:lnTo>
                    <a:pt x="654" y="348"/>
                  </a:lnTo>
                  <a:lnTo>
                    <a:pt x="661" y="354"/>
                  </a:lnTo>
                  <a:lnTo>
                    <a:pt x="667" y="358"/>
                  </a:lnTo>
                  <a:lnTo>
                    <a:pt x="675" y="380"/>
                  </a:lnTo>
                  <a:lnTo>
                    <a:pt x="672" y="384"/>
                  </a:lnTo>
                  <a:lnTo>
                    <a:pt x="666" y="388"/>
                  </a:lnTo>
                  <a:lnTo>
                    <a:pt x="660" y="391"/>
                  </a:lnTo>
                  <a:lnTo>
                    <a:pt x="656" y="393"/>
                  </a:lnTo>
                  <a:lnTo>
                    <a:pt x="653" y="395"/>
                  </a:lnTo>
                  <a:lnTo>
                    <a:pt x="652" y="399"/>
                  </a:lnTo>
                  <a:lnTo>
                    <a:pt x="653" y="403"/>
                  </a:lnTo>
                  <a:lnTo>
                    <a:pt x="656" y="406"/>
                  </a:lnTo>
                  <a:lnTo>
                    <a:pt x="653" y="417"/>
                  </a:lnTo>
                  <a:lnTo>
                    <a:pt x="651" y="430"/>
                  </a:lnTo>
                  <a:lnTo>
                    <a:pt x="650" y="443"/>
                  </a:lnTo>
                  <a:lnTo>
                    <a:pt x="651" y="453"/>
                  </a:lnTo>
                  <a:lnTo>
                    <a:pt x="651" y="465"/>
                  </a:lnTo>
                  <a:lnTo>
                    <a:pt x="657" y="473"/>
                  </a:lnTo>
                  <a:lnTo>
                    <a:pt x="665" y="479"/>
                  </a:lnTo>
                  <a:lnTo>
                    <a:pt x="675" y="482"/>
                  </a:lnTo>
                  <a:lnTo>
                    <a:pt x="676" y="488"/>
                  </a:lnTo>
                  <a:lnTo>
                    <a:pt x="675" y="494"/>
                  </a:lnTo>
                  <a:lnTo>
                    <a:pt x="673" y="498"/>
                  </a:lnTo>
                  <a:lnTo>
                    <a:pt x="670" y="502"/>
                  </a:lnTo>
                  <a:lnTo>
                    <a:pt x="672" y="502"/>
                  </a:lnTo>
                  <a:lnTo>
                    <a:pt x="671" y="509"/>
                  </a:lnTo>
                  <a:lnTo>
                    <a:pt x="682" y="515"/>
                  </a:lnTo>
                  <a:lnTo>
                    <a:pt x="693" y="519"/>
                  </a:lnTo>
                  <a:lnTo>
                    <a:pt x="704" y="524"/>
                  </a:lnTo>
                  <a:lnTo>
                    <a:pt x="716" y="527"/>
                  </a:lnTo>
                  <a:lnTo>
                    <a:pt x="728" y="531"/>
                  </a:lnTo>
                  <a:lnTo>
                    <a:pt x="739" y="534"/>
                  </a:lnTo>
                  <a:lnTo>
                    <a:pt x="751" y="538"/>
                  </a:lnTo>
                  <a:lnTo>
                    <a:pt x="762" y="542"/>
                  </a:lnTo>
                  <a:lnTo>
                    <a:pt x="775" y="549"/>
                  </a:lnTo>
                  <a:lnTo>
                    <a:pt x="789" y="553"/>
                  </a:lnTo>
                  <a:lnTo>
                    <a:pt x="803" y="555"/>
                  </a:lnTo>
                  <a:lnTo>
                    <a:pt x="818" y="555"/>
                  </a:lnTo>
                  <a:lnTo>
                    <a:pt x="833" y="555"/>
                  </a:lnTo>
                  <a:lnTo>
                    <a:pt x="848" y="554"/>
                  </a:lnTo>
                  <a:lnTo>
                    <a:pt x="863" y="554"/>
                  </a:lnTo>
                  <a:lnTo>
                    <a:pt x="878" y="554"/>
                  </a:lnTo>
                  <a:lnTo>
                    <a:pt x="881" y="550"/>
                  </a:lnTo>
                  <a:lnTo>
                    <a:pt x="875" y="547"/>
                  </a:lnTo>
                  <a:lnTo>
                    <a:pt x="868" y="546"/>
                  </a:lnTo>
                  <a:lnTo>
                    <a:pt x="860" y="546"/>
                  </a:lnTo>
                  <a:lnTo>
                    <a:pt x="852" y="547"/>
                  </a:lnTo>
                  <a:lnTo>
                    <a:pt x="846" y="539"/>
                  </a:lnTo>
                  <a:lnTo>
                    <a:pt x="847" y="528"/>
                  </a:lnTo>
                  <a:lnTo>
                    <a:pt x="850" y="517"/>
                  </a:lnTo>
                  <a:lnTo>
                    <a:pt x="850" y="506"/>
                  </a:lnTo>
                  <a:lnTo>
                    <a:pt x="852" y="493"/>
                  </a:lnTo>
                  <a:lnTo>
                    <a:pt x="853" y="460"/>
                  </a:lnTo>
                  <a:lnTo>
                    <a:pt x="852" y="425"/>
                  </a:lnTo>
                  <a:lnTo>
                    <a:pt x="846" y="403"/>
                  </a:lnTo>
                  <a:lnTo>
                    <a:pt x="846" y="399"/>
                  </a:lnTo>
                  <a:lnTo>
                    <a:pt x="847" y="394"/>
                  </a:lnTo>
                  <a:lnTo>
                    <a:pt x="848" y="388"/>
                  </a:lnTo>
                  <a:lnTo>
                    <a:pt x="850" y="385"/>
                  </a:lnTo>
                  <a:lnTo>
                    <a:pt x="857" y="384"/>
                  </a:lnTo>
                  <a:lnTo>
                    <a:pt x="864" y="384"/>
                  </a:lnTo>
                  <a:lnTo>
                    <a:pt x="871" y="384"/>
                  </a:lnTo>
                  <a:lnTo>
                    <a:pt x="878" y="384"/>
                  </a:lnTo>
                  <a:lnTo>
                    <a:pt x="884" y="384"/>
                  </a:lnTo>
                  <a:lnTo>
                    <a:pt x="891" y="384"/>
                  </a:lnTo>
                  <a:lnTo>
                    <a:pt x="898" y="384"/>
                  </a:lnTo>
                  <a:lnTo>
                    <a:pt x="905" y="382"/>
                  </a:lnTo>
                  <a:lnTo>
                    <a:pt x="918" y="365"/>
                  </a:lnTo>
                  <a:lnTo>
                    <a:pt x="921" y="363"/>
                  </a:lnTo>
                  <a:lnTo>
                    <a:pt x="925" y="360"/>
                  </a:lnTo>
                  <a:lnTo>
                    <a:pt x="927" y="357"/>
                  </a:lnTo>
                  <a:lnTo>
                    <a:pt x="928" y="354"/>
                  </a:lnTo>
                  <a:lnTo>
                    <a:pt x="922" y="352"/>
                  </a:lnTo>
                  <a:lnTo>
                    <a:pt x="917" y="354"/>
                  </a:lnTo>
                  <a:lnTo>
                    <a:pt x="911" y="354"/>
                  </a:lnTo>
                  <a:lnTo>
                    <a:pt x="906" y="355"/>
                  </a:lnTo>
                  <a:lnTo>
                    <a:pt x="900" y="355"/>
                  </a:lnTo>
                  <a:lnTo>
                    <a:pt x="897" y="354"/>
                  </a:lnTo>
                  <a:lnTo>
                    <a:pt x="893" y="350"/>
                  </a:lnTo>
                  <a:lnTo>
                    <a:pt x="890" y="345"/>
                  </a:lnTo>
                  <a:lnTo>
                    <a:pt x="893" y="336"/>
                  </a:lnTo>
                  <a:lnTo>
                    <a:pt x="900" y="328"/>
                  </a:lnTo>
                  <a:lnTo>
                    <a:pt x="906" y="320"/>
                  </a:lnTo>
                  <a:lnTo>
                    <a:pt x="905" y="308"/>
                  </a:lnTo>
                  <a:lnTo>
                    <a:pt x="906" y="308"/>
                  </a:lnTo>
                  <a:lnTo>
                    <a:pt x="908" y="294"/>
                  </a:lnTo>
                  <a:lnTo>
                    <a:pt x="912" y="279"/>
                  </a:lnTo>
                  <a:lnTo>
                    <a:pt x="918" y="267"/>
                  </a:lnTo>
                  <a:lnTo>
                    <a:pt x="927" y="257"/>
                  </a:lnTo>
                  <a:lnTo>
                    <a:pt x="923" y="254"/>
                  </a:lnTo>
                  <a:lnTo>
                    <a:pt x="918" y="259"/>
                  </a:lnTo>
                  <a:lnTo>
                    <a:pt x="913" y="262"/>
                  </a:lnTo>
                  <a:lnTo>
                    <a:pt x="908" y="265"/>
                  </a:lnTo>
                  <a:lnTo>
                    <a:pt x="904" y="269"/>
                  </a:lnTo>
                  <a:lnTo>
                    <a:pt x="899" y="272"/>
                  </a:lnTo>
                  <a:lnTo>
                    <a:pt x="896" y="276"/>
                  </a:lnTo>
                  <a:lnTo>
                    <a:pt x="891" y="279"/>
                  </a:lnTo>
                  <a:lnTo>
                    <a:pt x="885" y="284"/>
                  </a:lnTo>
                  <a:lnTo>
                    <a:pt x="872" y="292"/>
                  </a:lnTo>
                  <a:lnTo>
                    <a:pt x="860" y="300"/>
                  </a:lnTo>
                  <a:lnTo>
                    <a:pt x="848" y="308"/>
                  </a:lnTo>
                  <a:lnTo>
                    <a:pt x="837" y="316"/>
                  </a:lnTo>
                  <a:lnTo>
                    <a:pt x="825" y="325"/>
                  </a:lnTo>
                  <a:lnTo>
                    <a:pt x="813" y="333"/>
                  </a:lnTo>
                  <a:lnTo>
                    <a:pt x="801" y="341"/>
                  </a:lnTo>
                  <a:lnTo>
                    <a:pt x="788" y="349"/>
                  </a:lnTo>
                  <a:lnTo>
                    <a:pt x="774" y="354"/>
                  </a:lnTo>
                  <a:lnTo>
                    <a:pt x="761" y="358"/>
                  </a:lnTo>
                  <a:lnTo>
                    <a:pt x="747" y="364"/>
                  </a:lnTo>
                  <a:lnTo>
                    <a:pt x="733" y="370"/>
                  </a:lnTo>
                  <a:lnTo>
                    <a:pt x="721" y="374"/>
                  </a:lnTo>
                  <a:lnTo>
                    <a:pt x="705" y="378"/>
                  </a:lnTo>
                  <a:lnTo>
                    <a:pt x="690" y="380"/>
                  </a:lnTo>
                  <a:lnTo>
                    <a:pt x="675" y="380"/>
                  </a:lnTo>
                  <a:lnTo>
                    <a:pt x="667" y="358"/>
                  </a:lnTo>
                  <a:lnTo>
                    <a:pt x="678" y="358"/>
                  </a:lnTo>
                  <a:lnTo>
                    <a:pt x="689" y="357"/>
                  </a:lnTo>
                  <a:lnTo>
                    <a:pt x="700" y="356"/>
                  </a:lnTo>
                  <a:lnTo>
                    <a:pt x="711" y="355"/>
                  </a:lnTo>
                  <a:lnTo>
                    <a:pt x="722" y="352"/>
                  </a:lnTo>
                  <a:lnTo>
                    <a:pt x="732" y="349"/>
                  </a:lnTo>
                  <a:lnTo>
                    <a:pt x="741" y="345"/>
                  </a:lnTo>
                  <a:lnTo>
                    <a:pt x="751" y="341"/>
                  </a:lnTo>
                  <a:lnTo>
                    <a:pt x="774" y="333"/>
                  </a:lnTo>
                  <a:lnTo>
                    <a:pt x="796" y="322"/>
                  </a:lnTo>
                  <a:lnTo>
                    <a:pt x="816" y="311"/>
                  </a:lnTo>
                  <a:lnTo>
                    <a:pt x="835" y="297"/>
                  </a:lnTo>
                  <a:lnTo>
                    <a:pt x="853" y="283"/>
                  </a:lnTo>
                  <a:lnTo>
                    <a:pt x="871" y="268"/>
                  </a:lnTo>
                  <a:lnTo>
                    <a:pt x="890" y="254"/>
                  </a:lnTo>
                  <a:lnTo>
                    <a:pt x="910" y="240"/>
                  </a:lnTo>
                  <a:lnTo>
                    <a:pt x="915" y="234"/>
                  </a:lnTo>
                  <a:lnTo>
                    <a:pt x="921" y="226"/>
                  </a:lnTo>
                  <a:lnTo>
                    <a:pt x="927" y="219"/>
                  </a:lnTo>
                  <a:lnTo>
                    <a:pt x="935" y="213"/>
                  </a:lnTo>
                  <a:lnTo>
                    <a:pt x="941" y="213"/>
                  </a:lnTo>
                  <a:lnTo>
                    <a:pt x="947" y="213"/>
                  </a:lnTo>
                  <a:lnTo>
                    <a:pt x="952" y="216"/>
                  </a:lnTo>
                  <a:lnTo>
                    <a:pt x="955" y="221"/>
                  </a:lnTo>
                  <a:lnTo>
                    <a:pt x="955" y="227"/>
                  </a:lnTo>
                  <a:lnTo>
                    <a:pt x="955" y="233"/>
                  </a:lnTo>
                  <a:lnTo>
                    <a:pt x="956" y="239"/>
                  </a:lnTo>
                  <a:lnTo>
                    <a:pt x="961" y="242"/>
                  </a:lnTo>
                  <a:lnTo>
                    <a:pt x="964" y="250"/>
                  </a:lnTo>
                  <a:lnTo>
                    <a:pt x="969" y="259"/>
                  </a:lnTo>
                  <a:lnTo>
                    <a:pt x="976" y="265"/>
                  </a:lnTo>
                  <a:lnTo>
                    <a:pt x="983" y="272"/>
                  </a:lnTo>
                  <a:lnTo>
                    <a:pt x="987" y="291"/>
                  </a:lnTo>
                  <a:lnTo>
                    <a:pt x="988" y="311"/>
                  </a:lnTo>
                  <a:lnTo>
                    <a:pt x="992" y="327"/>
                  </a:lnTo>
                  <a:lnTo>
                    <a:pt x="1006" y="340"/>
                  </a:lnTo>
                  <a:lnTo>
                    <a:pt x="1007" y="342"/>
                  </a:lnTo>
                  <a:lnTo>
                    <a:pt x="1006" y="344"/>
                  </a:lnTo>
                  <a:lnTo>
                    <a:pt x="1005" y="347"/>
                  </a:lnTo>
                  <a:lnTo>
                    <a:pt x="1003" y="350"/>
                  </a:lnTo>
                  <a:lnTo>
                    <a:pt x="957" y="352"/>
                  </a:lnTo>
                  <a:lnTo>
                    <a:pt x="961" y="359"/>
                  </a:lnTo>
                  <a:lnTo>
                    <a:pt x="970" y="365"/>
                  </a:lnTo>
                  <a:lnTo>
                    <a:pt x="979" y="371"/>
                  </a:lnTo>
                  <a:lnTo>
                    <a:pt x="983" y="380"/>
                  </a:lnTo>
                  <a:lnTo>
                    <a:pt x="987" y="379"/>
                  </a:lnTo>
                  <a:lnTo>
                    <a:pt x="988" y="379"/>
                  </a:lnTo>
                  <a:lnTo>
                    <a:pt x="993" y="380"/>
                  </a:lnTo>
                  <a:lnTo>
                    <a:pt x="1000" y="381"/>
                  </a:lnTo>
                  <a:lnTo>
                    <a:pt x="1008" y="382"/>
                  </a:lnTo>
                  <a:lnTo>
                    <a:pt x="1016" y="384"/>
                  </a:lnTo>
                  <a:lnTo>
                    <a:pt x="1026" y="385"/>
                  </a:lnTo>
                  <a:lnTo>
                    <a:pt x="1034" y="385"/>
                  </a:lnTo>
                  <a:lnTo>
                    <a:pt x="1042" y="384"/>
                  </a:lnTo>
                  <a:lnTo>
                    <a:pt x="1046" y="387"/>
                  </a:lnTo>
                  <a:lnTo>
                    <a:pt x="1049" y="391"/>
                  </a:lnTo>
                  <a:lnTo>
                    <a:pt x="1050" y="396"/>
                  </a:lnTo>
                  <a:lnTo>
                    <a:pt x="1050" y="402"/>
                  </a:lnTo>
                  <a:lnTo>
                    <a:pt x="1043" y="413"/>
                  </a:lnTo>
                  <a:lnTo>
                    <a:pt x="1041" y="426"/>
                  </a:lnTo>
                  <a:lnTo>
                    <a:pt x="1041" y="443"/>
                  </a:lnTo>
                  <a:lnTo>
                    <a:pt x="1039" y="457"/>
                  </a:lnTo>
                  <a:lnTo>
                    <a:pt x="1041" y="467"/>
                  </a:lnTo>
                  <a:lnTo>
                    <a:pt x="1039" y="476"/>
                  </a:lnTo>
                  <a:lnTo>
                    <a:pt x="1038" y="486"/>
                  </a:lnTo>
                  <a:lnTo>
                    <a:pt x="1039" y="497"/>
                  </a:lnTo>
                  <a:lnTo>
                    <a:pt x="1042" y="541"/>
                  </a:lnTo>
                  <a:lnTo>
                    <a:pt x="1038" y="545"/>
                  </a:lnTo>
                  <a:lnTo>
                    <a:pt x="1034" y="545"/>
                  </a:lnTo>
                  <a:lnTo>
                    <a:pt x="1029" y="544"/>
                  </a:lnTo>
                  <a:lnTo>
                    <a:pt x="1024" y="545"/>
                  </a:lnTo>
                  <a:lnTo>
                    <a:pt x="1019" y="545"/>
                  </a:lnTo>
                  <a:lnTo>
                    <a:pt x="1013" y="544"/>
                  </a:lnTo>
                  <a:lnTo>
                    <a:pt x="1007" y="545"/>
                  </a:lnTo>
                  <a:lnTo>
                    <a:pt x="1003" y="548"/>
                  </a:lnTo>
                  <a:lnTo>
                    <a:pt x="1007" y="552"/>
                  </a:lnTo>
                  <a:lnTo>
                    <a:pt x="1012" y="554"/>
                  </a:lnTo>
                  <a:lnTo>
                    <a:pt x="1016" y="554"/>
                  </a:lnTo>
                  <a:lnTo>
                    <a:pt x="1022" y="553"/>
                  </a:lnTo>
                  <a:lnTo>
                    <a:pt x="1028" y="553"/>
                  </a:lnTo>
                  <a:lnTo>
                    <a:pt x="1034" y="553"/>
                  </a:lnTo>
                  <a:lnTo>
                    <a:pt x="1038" y="553"/>
                  </a:lnTo>
                  <a:lnTo>
                    <a:pt x="1043" y="555"/>
                  </a:lnTo>
                  <a:lnTo>
                    <a:pt x="1050" y="554"/>
                  </a:lnTo>
                  <a:lnTo>
                    <a:pt x="1057" y="553"/>
                  </a:lnTo>
                  <a:lnTo>
                    <a:pt x="1060" y="549"/>
                  </a:lnTo>
                  <a:lnTo>
                    <a:pt x="1059" y="542"/>
                  </a:lnTo>
                  <a:lnTo>
                    <a:pt x="1060" y="534"/>
                  </a:lnTo>
                  <a:lnTo>
                    <a:pt x="1060" y="525"/>
                  </a:lnTo>
                  <a:lnTo>
                    <a:pt x="1060" y="517"/>
                  </a:lnTo>
                  <a:lnTo>
                    <a:pt x="1063" y="510"/>
                  </a:lnTo>
                  <a:lnTo>
                    <a:pt x="1063" y="489"/>
                  </a:lnTo>
                  <a:lnTo>
                    <a:pt x="1064" y="489"/>
                  </a:lnTo>
                  <a:lnTo>
                    <a:pt x="1066" y="467"/>
                  </a:lnTo>
                  <a:lnTo>
                    <a:pt x="1067" y="443"/>
                  </a:lnTo>
                  <a:lnTo>
                    <a:pt x="1070" y="420"/>
                  </a:lnTo>
                  <a:lnTo>
                    <a:pt x="1072" y="395"/>
                  </a:lnTo>
                  <a:lnTo>
                    <a:pt x="1077" y="372"/>
                  </a:lnTo>
                  <a:lnTo>
                    <a:pt x="1085" y="351"/>
                  </a:lnTo>
                  <a:lnTo>
                    <a:pt x="1095" y="333"/>
                  </a:lnTo>
                  <a:lnTo>
                    <a:pt x="1111" y="318"/>
                  </a:lnTo>
                  <a:lnTo>
                    <a:pt x="1118" y="312"/>
                  </a:lnTo>
                  <a:lnTo>
                    <a:pt x="1125" y="307"/>
                  </a:lnTo>
                  <a:lnTo>
                    <a:pt x="1132" y="301"/>
                  </a:lnTo>
                  <a:lnTo>
                    <a:pt x="1139" y="297"/>
                  </a:lnTo>
                  <a:lnTo>
                    <a:pt x="1146" y="292"/>
                  </a:lnTo>
                  <a:lnTo>
                    <a:pt x="1154" y="287"/>
                  </a:lnTo>
                  <a:lnTo>
                    <a:pt x="1163" y="285"/>
                  </a:lnTo>
                  <a:lnTo>
                    <a:pt x="1174" y="283"/>
                  </a:lnTo>
                  <a:lnTo>
                    <a:pt x="1158" y="311"/>
                  </a:lnTo>
                  <a:lnTo>
                    <a:pt x="1148" y="314"/>
                  </a:lnTo>
                  <a:lnTo>
                    <a:pt x="1140" y="319"/>
                  </a:lnTo>
                  <a:lnTo>
                    <a:pt x="1132" y="325"/>
                  </a:lnTo>
                  <a:lnTo>
                    <a:pt x="1126" y="330"/>
                  </a:lnTo>
                  <a:lnTo>
                    <a:pt x="1119" y="338"/>
                  </a:lnTo>
                  <a:lnTo>
                    <a:pt x="1115" y="345"/>
                  </a:lnTo>
                  <a:lnTo>
                    <a:pt x="1109" y="354"/>
                  </a:lnTo>
                  <a:lnTo>
                    <a:pt x="1104" y="360"/>
                  </a:lnTo>
                  <a:lnTo>
                    <a:pt x="1096" y="394"/>
                  </a:lnTo>
                  <a:lnTo>
                    <a:pt x="1092" y="429"/>
                  </a:lnTo>
                  <a:lnTo>
                    <a:pt x="1088" y="465"/>
                  </a:lnTo>
                  <a:lnTo>
                    <a:pt x="1086" y="499"/>
                  </a:lnTo>
                  <a:lnTo>
                    <a:pt x="1086" y="513"/>
                  </a:lnTo>
                  <a:lnTo>
                    <a:pt x="1086" y="528"/>
                  </a:lnTo>
                  <a:lnTo>
                    <a:pt x="1088" y="541"/>
                  </a:lnTo>
                  <a:lnTo>
                    <a:pt x="1095" y="550"/>
                  </a:lnTo>
                  <a:lnTo>
                    <a:pt x="1099" y="532"/>
                  </a:lnTo>
                  <a:lnTo>
                    <a:pt x="1107" y="517"/>
                  </a:lnTo>
                  <a:lnTo>
                    <a:pt x="1114" y="501"/>
                  </a:lnTo>
                  <a:lnTo>
                    <a:pt x="1116" y="481"/>
                  </a:lnTo>
                  <a:lnTo>
                    <a:pt x="1114" y="465"/>
                  </a:lnTo>
                  <a:lnTo>
                    <a:pt x="1115" y="447"/>
                  </a:lnTo>
                  <a:lnTo>
                    <a:pt x="1114" y="431"/>
                  </a:lnTo>
                  <a:lnTo>
                    <a:pt x="1104" y="418"/>
                  </a:lnTo>
                  <a:lnTo>
                    <a:pt x="1102" y="409"/>
                  </a:lnTo>
                  <a:lnTo>
                    <a:pt x="1103" y="402"/>
                  </a:lnTo>
                  <a:lnTo>
                    <a:pt x="1108" y="398"/>
                  </a:lnTo>
                  <a:lnTo>
                    <a:pt x="1114" y="394"/>
                  </a:lnTo>
                  <a:lnTo>
                    <a:pt x="1121" y="391"/>
                  </a:lnTo>
                  <a:lnTo>
                    <a:pt x="1128" y="387"/>
                  </a:lnTo>
                  <a:lnTo>
                    <a:pt x="1133" y="381"/>
                  </a:lnTo>
                  <a:lnTo>
                    <a:pt x="1137" y="376"/>
                  </a:lnTo>
                  <a:lnTo>
                    <a:pt x="1144" y="370"/>
                  </a:lnTo>
                  <a:lnTo>
                    <a:pt x="1152" y="365"/>
                  </a:lnTo>
                  <a:lnTo>
                    <a:pt x="1160" y="360"/>
                  </a:lnTo>
                  <a:lnTo>
                    <a:pt x="1166" y="354"/>
                  </a:lnTo>
                  <a:lnTo>
                    <a:pt x="1163" y="350"/>
                  </a:lnTo>
                  <a:lnTo>
                    <a:pt x="1160" y="348"/>
                  </a:lnTo>
                  <a:lnTo>
                    <a:pt x="1157" y="347"/>
                  </a:lnTo>
                  <a:lnTo>
                    <a:pt x="1152" y="347"/>
                  </a:lnTo>
                  <a:lnTo>
                    <a:pt x="1150" y="344"/>
                  </a:lnTo>
                  <a:lnTo>
                    <a:pt x="1147" y="341"/>
                  </a:lnTo>
                  <a:lnTo>
                    <a:pt x="1146" y="337"/>
                  </a:lnTo>
                  <a:lnTo>
                    <a:pt x="1146" y="331"/>
                  </a:lnTo>
                  <a:lnTo>
                    <a:pt x="1150" y="329"/>
                  </a:lnTo>
                  <a:lnTo>
                    <a:pt x="1154" y="327"/>
                  </a:lnTo>
                  <a:lnTo>
                    <a:pt x="1160" y="326"/>
                  </a:lnTo>
                  <a:lnTo>
                    <a:pt x="1165" y="326"/>
                  </a:lnTo>
                  <a:lnTo>
                    <a:pt x="1170" y="326"/>
                  </a:lnTo>
                  <a:lnTo>
                    <a:pt x="1175" y="326"/>
                  </a:lnTo>
                  <a:lnTo>
                    <a:pt x="1180" y="325"/>
                  </a:lnTo>
                  <a:lnTo>
                    <a:pt x="1184" y="323"/>
                  </a:lnTo>
                  <a:lnTo>
                    <a:pt x="1181" y="320"/>
                  </a:lnTo>
                  <a:lnTo>
                    <a:pt x="1179" y="314"/>
                  </a:lnTo>
                  <a:lnTo>
                    <a:pt x="1176" y="309"/>
                  </a:lnTo>
                  <a:lnTo>
                    <a:pt x="1173" y="306"/>
                  </a:lnTo>
                  <a:lnTo>
                    <a:pt x="1168" y="307"/>
                  </a:lnTo>
                  <a:lnTo>
                    <a:pt x="1165" y="308"/>
                  </a:lnTo>
                  <a:lnTo>
                    <a:pt x="1161" y="311"/>
                  </a:lnTo>
                  <a:lnTo>
                    <a:pt x="1161" y="315"/>
                  </a:lnTo>
                  <a:lnTo>
                    <a:pt x="1160" y="314"/>
                  </a:lnTo>
                  <a:lnTo>
                    <a:pt x="1158" y="314"/>
                  </a:lnTo>
                  <a:lnTo>
                    <a:pt x="1157" y="313"/>
                  </a:lnTo>
                  <a:lnTo>
                    <a:pt x="1158" y="311"/>
                  </a:lnTo>
                  <a:lnTo>
                    <a:pt x="1174" y="283"/>
                  </a:lnTo>
                  <a:lnTo>
                    <a:pt x="1182" y="278"/>
                  </a:lnTo>
                  <a:lnTo>
                    <a:pt x="1187" y="254"/>
                  </a:lnTo>
                  <a:lnTo>
                    <a:pt x="1192" y="225"/>
                  </a:lnTo>
                  <a:lnTo>
                    <a:pt x="1198" y="201"/>
                  </a:lnTo>
                  <a:lnTo>
                    <a:pt x="1204" y="190"/>
                  </a:lnTo>
                  <a:lnTo>
                    <a:pt x="1215" y="204"/>
                  </a:lnTo>
                  <a:lnTo>
                    <a:pt x="1221" y="231"/>
                  </a:lnTo>
                  <a:lnTo>
                    <a:pt x="1226" y="262"/>
                  </a:lnTo>
                  <a:lnTo>
                    <a:pt x="1228" y="286"/>
                  </a:lnTo>
                  <a:lnTo>
                    <a:pt x="1230" y="291"/>
                  </a:lnTo>
                  <a:lnTo>
                    <a:pt x="1231" y="297"/>
                  </a:lnTo>
                  <a:lnTo>
                    <a:pt x="1230" y="303"/>
                  </a:lnTo>
                  <a:lnTo>
                    <a:pt x="1228" y="307"/>
                  </a:lnTo>
                  <a:lnTo>
                    <a:pt x="1225" y="311"/>
                  </a:lnTo>
                  <a:lnTo>
                    <a:pt x="1223" y="314"/>
                  </a:lnTo>
                  <a:lnTo>
                    <a:pt x="1221" y="318"/>
                  </a:lnTo>
                  <a:lnTo>
                    <a:pt x="1220" y="321"/>
                  </a:lnTo>
                  <a:lnTo>
                    <a:pt x="1225" y="325"/>
                  </a:lnTo>
                  <a:lnTo>
                    <a:pt x="1231" y="326"/>
                  </a:lnTo>
                  <a:lnTo>
                    <a:pt x="1238" y="326"/>
                  </a:lnTo>
                  <a:lnTo>
                    <a:pt x="1245" y="326"/>
                  </a:lnTo>
                  <a:lnTo>
                    <a:pt x="1252" y="327"/>
                  </a:lnTo>
                  <a:lnTo>
                    <a:pt x="1255" y="329"/>
                  </a:lnTo>
                  <a:lnTo>
                    <a:pt x="1256" y="334"/>
                  </a:lnTo>
                  <a:lnTo>
                    <a:pt x="1254" y="342"/>
                  </a:lnTo>
                  <a:lnTo>
                    <a:pt x="1252" y="345"/>
                  </a:lnTo>
                  <a:lnTo>
                    <a:pt x="1249" y="348"/>
                  </a:lnTo>
                  <a:lnTo>
                    <a:pt x="1248" y="351"/>
                  </a:lnTo>
                  <a:lnTo>
                    <a:pt x="1248" y="355"/>
                  </a:lnTo>
                  <a:lnTo>
                    <a:pt x="1256" y="358"/>
                  </a:lnTo>
                  <a:lnTo>
                    <a:pt x="1262" y="364"/>
                  </a:lnTo>
                  <a:lnTo>
                    <a:pt x="1267" y="372"/>
                  </a:lnTo>
                  <a:lnTo>
                    <a:pt x="1271" y="379"/>
                  </a:lnTo>
                  <a:lnTo>
                    <a:pt x="1275" y="387"/>
                  </a:lnTo>
                  <a:lnTo>
                    <a:pt x="1281" y="394"/>
                  </a:lnTo>
                  <a:lnTo>
                    <a:pt x="1286" y="399"/>
                  </a:lnTo>
                  <a:lnTo>
                    <a:pt x="1296" y="402"/>
                  </a:lnTo>
                  <a:lnTo>
                    <a:pt x="1299" y="406"/>
                  </a:lnTo>
                  <a:lnTo>
                    <a:pt x="1300" y="410"/>
                  </a:lnTo>
                  <a:lnTo>
                    <a:pt x="1301" y="415"/>
                  </a:lnTo>
                  <a:lnTo>
                    <a:pt x="1301" y="417"/>
                  </a:lnTo>
                  <a:lnTo>
                    <a:pt x="1299" y="422"/>
                  </a:lnTo>
                  <a:lnTo>
                    <a:pt x="1297" y="425"/>
                  </a:lnTo>
                  <a:lnTo>
                    <a:pt x="1292" y="429"/>
                  </a:lnTo>
                  <a:lnTo>
                    <a:pt x="1288" y="432"/>
                  </a:lnTo>
                  <a:lnTo>
                    <a:pt x="1285" y="451"/>
                  </a:lnTo>
                  <a:lnTo>
                    <a:pt x="1285" y="469"/>
                  </a:lnTo>
                  <a:lnTo>
                    <a:pt x="1285" y="489"/>
                  </a:lnTo>
                  <a:lnTo>
                    <a:pt x="1286" y="506"/>
                  </a:lnTo>
                  <a:lnTo>
                    <a:pt x="1293" y="511"/>
                  </a:lnTo>
                  <a:lnTo>
                    <a:pt x="1299" y="518"/>
                  </a:lnTo>
                  <a:lnTo>
                    <a:pt x="1301" y="527"/>
                  </a:lnTo>
                  <a:lnTo>
                    <a:pt x="1304" y="535"/>
                  </a:lnTo>
                  <a:lnTo>
                    <a:pt x="1307" y="544"/>
                  </a:lnTo>
                  <a:lnTo>
                    <a:pt x="1311" y="550"/>
                  </a:lnTo>
                  <a:lnTo>
                    <a:pt x="1318" y="554"/>
                  </a:lnTo>
                  <a:lnTo>
                    <a:pt x="1327" y="553"/>
                  </a:lnTo>
                  <a:lnTo>
                    <a:pt x="1340" y="553"/>
                  </a:lnTo>
                  <a:lnTo>
                    <a:pt x="1352" y="554"/>
                  </a:lnTo>
                  <a:lnTo>
                    <a:pt x="1365" y="554"/>
                  </a:lnTo>
                  <a:lnTo>
                    <a:pt x="1378" y="554"/>
                  </a:lnTo>
                  <a:lnTo>
                    <a:pt x="1391" y="554"/>
                  </a:lnTo>
                  <a:lnTo>
                    <a:pt x="1405" y="554"/>
                  </a:lnTo>
                  <a:lnTo>
                    <a:pt x="1417" y="554"/>
                  </a:lnTo>
                  <a:lnTo>
                    <a:pt x="1431" y="553"/>
                  </a:lnTo>
                  <a:lnTo>
                    <a:pt x="1444" y="553"/>
                  </a:lnTo>
                  <a:lnTo>
                    <a:pt x="1458" y="553"/>
                  </a:lnTo>
                  <a:lnTo>
                    <a:pt x="1472" y="553"/>
                  </a:lnTo>
                  <a:lnTo>
                    <a:pt x="1485" y="553"/>
                  </a:lnTo>
                  <a:lnTo>
                    <a:pt x="1499" y="553"/>
                  </a:lnTo>
                  <a:lnTo>
                    <a:pt x="1513" y="553"/>
                  </a:lnTo>
                  <a:lnTo>
                    <a:pt x="1525" y="554"/>
                  </a:lnTo>
                  <a:lnTo>
                    <a:pt x="1539" y="554"/>
                  </a:lnTo>
                  <a:lnTo>
                    <a:pt x="1545" y="553"/>
                  </a:lnTo>
                  <a:lnTo>
                    <a:pt x="1546" y="548"/>
                  </a:lnTo>
                  <a:lnTo>
                    <a:pt x="1545" y="544"/>
                  </a:lnTo>
                  <a:lnTo>
                    <a:pt x="1545" y="538"/>
                  </a:lnTo>
                  <a:lnTo>
                    <a:pt x="1536" y="532"/>
                  </a:lnTo>
                  <a:lnTo>
                    <a:pt x="1533" y="524"/>
                  </a:lnTo>
                  <a:lnTo>
                    <a:pt x="1533" y="515"/>
                  </a:lnTo>
                  <a:lnTo>
                    <a:pt x="1533" y="504"/>
                  </a:lnTo>
                  <a:lnTo>
                    <a:pt x="1540" y="498"/>
                  </a:lnTo>
                  <a:lnTo>
                    <a:pt x="1542" y="491"/>
                  </a:lnTo>
                  <a:lnTo>
                    <a:pt x="1539" y="482"/>
                  </a:lnTo>
                  <a:lnTo>
                    <a:pt x="1539" y="473"/>
                  </a:lnTo>
                  <a:lnTo>
                    <a:pt x="1526" y="435"/>
                  </a:lnTo>
                  <a:lnTo>
                    <a:pt x="1510" y="382"/>
                  </a:lnTo>
                  <a:lnTo>
                    <a:pt x="1492" y="322"/>
                  </a:lnTo>
                  <a:lnTo>
                    <a:pt x="1473" y="260"/>
                  </a:lnTo>
                  <a:lnTo>
                    <a:pt x="1455" y="202"/>
                  </a:lnTo>
                  <a:lnTo>
                    <a:pt x="1439" y="153"/>
                  </a:lnTo>
                  <a:lnTo>
                    <a:pt x="1429" y="119"/>
                  </a:lnTo>
                  <a:lnTo>
                    <a:pt x="1424" y="107"/>
                  </a:lnTo>
                  <a:lnTo>
                    <a:pt x="1420" y="104"/>
                  </a:lnTo>
                  <a:lnTo>
                    <a:pt x="1417" y="81"/>
                  </a:lnTo>
                  <a:lnTo>
                    <a:pt x="1417" y="55"/>
                  </a:lnTo>
                  <a:lnTo>
                    <a:pt x="1417" y="28"/>
                  </a:lnTo>
                  <a:lnTo>
                    <a:pt x="1417" y="2"/>
                  </a:lnTo>
                  <a:lnTo>
                    <a:pt x="1429" y="2"/>
                  </a:lnTo>
                  <a:lnTo>
                    <a:pt x="1445" y="1"/>
                  </a:lnTo>
                  <a:lnTo>
                    <a:pt x="1465" y="1"/>
                  </a:lnTo>
                  <a:lnTo>
                    <a:pt x="1488" y="1"/>
                  </a:lnTo>
                  <a:lnTo>
                    <a:pt x="1516" y="0"/>
                  </a:lnTo>
                  <a:lnTo>
                    <a:pt x="1545" y="0"/>
                  </a:lnTo>
                  <a:lnTo>
                    <a:pt x="1575" y="0"/>
                  </a:lnTo>
                  <a:lnTo>
                    <a:pt x="1608" y="0"/>
                  </a:lnTo>
                  <a:lnTo>
                    <a:pt x="1640" y="0"/>
                  </a:lnTo>
                  <a:lnTo>
                    <a:pt x="1673" y="0"/>
                  </a:lnTo>
                  <a:lnTo>
                    <a:pt x="1705" y="0"/>
                  </a:lnTo>
                  <a:lnTo>
                    <a:pt x="1735" y="0"/>
                  </a:lnTo>
                  <a:lnTo>
                    <a:pt x="1764" y="0"/>
                  </a:lnTo>
                  <a:lnTo>
                    <a:pt x="1791" y="0"/>
                  </a:lnTo>
                  <a:lnTo>
                    <a:pt x="1815" y="0"/>
                  </a:lnTo>
                  <a:lnTo>
                    <a:pt x="1835" y="0"/>
                  </a:lnTo>
                  <a:lnTo>
                    <a:pt x="1837" y="16"/>
                  </a:lnTo>
                  <a:lnTo>
                    <a:pt x="1836" y="48"/>
                  </a:lnTo>
                  <a:lnTo>
                    <a:pt x="1834" y="78"/>
                  </a:lnTo>
                  <a:lnTo>
                    <a:pt x="1833" y="91"/>
                  </a:lnTo>
                  <a:lnTo>
                    <a:pt x="1827" y="99"/>
                  </a:lnTo>
                  <a:lnTo>
                    <a:pt x="1821" y="104"/>
                  </a:lnTo>
                  <a:lnTo>
                    <a:pt x="1814" y="110"/>
                  </a:lnTo>
                  <a:lnTo>
                    <a:pt x="1808" y="118"/>
                  </a:lnTo>
                  <a:lnTo>
                    <a:pt x="1802" y="141"/>
                  </a:lnTo>
                  <a:lnTo>
                    <a:pt x="1793" y="180"/>
                  </a:lnTo>
                  <a:lnTo>
                    <a:pt x="1780" y="228"/>
                  </a:lnTo>
                  <a:lnTo>
                    <a:pt x="1766" y="283"/>
                  </a:lnTo>
                  <a:lnTo>
                    <a:pt x="1750" y="337"/>
                  </a:lnTo>
                  <a:lnTo>
                    <a:pt x="1736" y="386"/>
                  </a:lnTo>
                  <a:lnTo>
                    <a:pt x="1722" y="424"/>
                  </a:lnTo>
                  <a:lnTo>
                    <a:pt x="1713" y="446"/>
                  </a:lnTo>
                  <a:lnTo>
                    <a:pt x="1712" y="464"/>
                  </a:lnTo>
                  <a:lnTo>
                    <a:pt x="1707" y="482"/>
                  </a:lnTo>
                  <a:lnTo>
                    <a:pt x="1705" y="499"/>
                  </a:lnTo>
                  <a:lnTo>
                    <a:pt x="1708" y="518"/>
                  </a:lnTo>
                  <a:lnTo>
                    <a:pt x="1712" y="527"/>
                  </a:lnTo>
                  <a:lnTo>
                    <a:pt x="1719" y="542"/>
                  </a:lnTo>
                  <a:lnTo>
                    <a:pt x="1725" y="556"/>
                  </a:lnTo>
                  <a:lnTo>
                    <a:pt x="1728" y="563"/>
                  </a:lnTo>
                  <a:lnTo>
                    <a:pt x="1737" y="560"/>
                  </a:lnTo>
                  <a:lnTo>
                    <a:pt x="1747" y="555"/>
                  </a:lnTo>
                  <a:lnTo>
                    <a:pt x="1754" y="548"/>
                  </a:lnTo>
                  <a:lnTo>
                    <a:pt x="1754" y="538"/>
                  </a:lnTo>
                  <a:lnTo>
                    <a:pt x="1754" y="515"/>
                  </a:lnTo>
                  <a:lnTo>
                    <a:pt x="1754" y="493"/>
                  </a:lnTo>
                  <a:lnTo>
                    <a:pt x="1754" y="471"/>
                  </a:lnTo>
                  <a:lnTo>
                    <a:pt x="1755" y="449"/>
                  </a:lnTo>
                  <a:lnTo>
                    <a:pt x="1754" y="442"/>
                  </a:lnTo>
                  <a:lnTo>
                    <a:pt x="1754" y="433"/>
                  </a:lnTo>
                  <a:lnTo>
                    <a:pt x="1750" y="428"/>
                  </a:lnTo>
                  <a:lnTo>
                    <a:pt x="1743" y="426"/>
                  </a:lnTo>
                  <a:lnTo>
                    <a:pt x="1741" y="424"/>
                  </a:lnTo>
                  <a:lnTo>
                    <a:pt x="1740" y="421"/>
                  </a:lnTo>
                  <a:lnTo>
                    <a:pt x="1741" y="416"/>
                  </a:lnTo>
                  <a:lnTo>
                    <a:pt x="1742" y="414"/>
                  </a:lnTo>
                  <a:lnTo>
                    <a:pt x="1749" y="409"/>
                  </a:lnTo>
                  <a:lnTo>
                    <a:pt x="1757" y="404"/>
                  </a:lnTo>
                  <a:lnTo>
                    <a:pt x="1765" y="401"/>
                  </a:lnTo>
                  <a:lnTo>
                    <a:pt x="1773" y="398"/>
                  </a:lnTo>
                  <a:lnTo>
                    <a:pt x="1782" y="395"/>
                  </a:lnTo>
                  <a:lnTo>
                    <a:pt x="1791" y="393"/>
                  </a:lnTo>
                  <a:lnTo>
                    <a:pt x="1801" y="391"/>
                  </a:lnTo>
                  <a:lnTo>
                    <a:pt x="1811" y="388"/>
                  </a:lnTo>
                  <a:lnTo>
                    <a:pt x="1843" y="395"/>
                  </a:lnTo>
                  <a:lnTo>
                    <a:pt x="1844" y="388"/>
                  </a:lnTo>
                  <a:lnTo>
                    <a:pt x="1848" y="381"/>
                  </a:lnTo>
                  <a:lnTo>
                    <a:pt x="1853" y="379"/>
                  </a:lnTo>
                  <a:lnTo>
                    <a:pt x="1862" y="379"/>
                  </a:lnTo>
                  <a:lnTo>
                    <a:pt x="1867" y="381"/>
                  </a:lnTo>
                  <a:lnTo>
                    <a:pt x="1873" y="380"/>
                  </a:lnTo>
                  <a:lnTo>
                    <a:pt x="1877" y="384"/>
                  </a:lnTo>
                  <a:lnTo>
                    <a:pt x="1875" y="393"/>
                  </a:lnTo>
                  <a:lnTo>
                    <a:pt x="1874" y="393"/>
                  </a:lnTo>
                  <a:lnTo>
                    <a:pt x="1877" y="400"/>
                  </a:lnTo>
                  <a:lnTo>
                    <a:pt x="1882" y="406"/>
                  </a:lnTo>
                  <a:lnTo>
                    <a:pt x="1888" y="411"/>
                  </a:lnTo>
                  <a:lnTo>
                    <a:pt x="1886" y="420"/>
                  </a:lnTo>
                  <a:lnTo>
                    <a:pt x="1877" y="440"/>
                  </a:lnTo>
                  <a:lnTo>
                    <a:pt x="1873" y="487"/>
                  </a:lnTo>
                  <a:lnTo>
                    <a:pt x="1878" y="534"/>
                  </a:lnTo>
                  <a:lnTo>
                    <a:pt x="1891" y="564"/>
                  </a:lnTo>
                  <a:lnTo>
                    <a:pt x="1891" y="574"/>
                  </a:lnTo>
                  <a:lnTo>
                    <a:pt x="1889" y="582"/>
                  </a:lnTo>
                  <a:lnTo>
                    <a:pt x="1886" y="589"/>
                  </a:lnTo>
                  <a:lnTo>
                    <a:pt x="1880" y="594"/>
                  </a:lnTo>
                  <a:lnTo>
                    <a:pt x="1882" y="604"/>
                  </a:lnTo>
                  <a:lnTo>
                    <a:pt x="1882" y="616"/>
                  </a:lnTo>
                  <a:lnTo>
                    <a:pt x="1877" y="628"/>
                  </a:lnTo>
                  <a:lnTo>
                    <a:pt x="1859" y="635"/>
                  </a:lnTo>
                  <a:lnTo>
                    <a:pt x="1851" y="637"/>
                  </a:lnTo>
                  <a:lnTo>
                    <a:pt x="1845" y="636"/>
                  </a:lnTo>
                  <a:lnTo>
                    <a:pt x="1838" y="636"/>
                  </a:lnTo>
                  <a:lnTo>
                    <a:pt x="1831" y="637"/>
                  </a:lnTo>
                  <a:lnTo>
                    <a:pt x="1826" y="643"/>
                  </a:lnTo>
                  <a:lnTo>
                    <a:pt x="1821" y="649"/>
                  </a:lnTo>
                  <a:lnTo>
                    <a:pt x="1816" y="656"/>
                  </a:lnTo>
                  <a:lnTo>
                    <a:pt x="1816" y="664"/>
                  </a:lnTo>
                  <a:lnTo>
                    <a:pt x="1816" y="672"/>
                  </a:lnTo>
                  <a:lnTo>
                    <a:pt x="1816" y="692"/>
                  </a:lnTo>
                  <a:lnTo>
                    <a:pt x="1813" y="714"/>
                  </a:lnTo>
                  <a:lnTo>
                    <a:pt x="1802" y="731"/>
                  </a:lnTo>
                  <a:lnTo>
                    <a:pt x="1771" y="708"/>
                  </a:lnTo>
                  <a:lnTo>
                    <a:pt x="1778" y="695"/>
                  </a:lnTo>
                  <a:lnTo>
                    <a:pt x="1780" y="678"/>
                  </a:lnTo>
                  <a:lnTo>
                    <a:pt x="1779" y="661"/>
                  </a:lnTo>
                  <a:lnTo>
                    <a:pt x="1777" y="651"/>
                  </a:lnTo>
                  <a:lnTo>
                    <a:pt x="1773" y="652"/>
                  </a:lnTo>
                  <a:lnTo>
                    <a:pt x="1771" y="656"/>
                  </a:lnTo>
                  <a:lnTo>
                    <a:pt x="1768" y="659"/>
                  </a:lnTo>
                  <a:lnTo>
                    <a:pt x="1762" y="662"/>
                  </a:lnTo>
                  <a:lnTo>
                    <a:pt x="1755" y="661"/>
                  </a:lnTo>
                  <a:lnTo>
                    <a:pt x="1750" y="656"/>
                  </a:lnTo>
                  <a:lnTo>
                    <a:pt x="1747" y="652"/>
                  </a:lnTo>
                  <a:lnTo>
                    <a:pt x="1741" y="651"/>
                  </a:lnTo>
                  <a:lnTo>
                    <a:pt x="1736" y="650"/>
                  </a:lnTo>
                  <a:lnTo>
                    <a:pt x="1734" y="647"/>
                  </a:lnTo>
                  <a:lnTo>
                    <a:pt x="1733" y="643"/>
                  </a:lnTo>
                  <a:lnTo>
                    <a:pt x="1731" y="640"/>
                  </a:lnTo>
                  <a:lnTo>
                    <a:pt x="1729" y="645"/>
                  </a:lnTo>
                  <a:lnTo>
                    <a:pt x="1728" y="650"/>
                  </a:lnTo>
                  <a:lnTo>
                    <a:pt x="1728" y="655"/>
                  </a:lnTo>
                  <a:lnTo>
                    <a:pt x="1728" y="662"/>
                  </a:lnTo>
                  <a:lnTo>
                    <a:pt x="1731" y="662"/>
                  </a:lnTo>
                  <a:lnTo>
                    <a:pt x="1733" y="669"/>
                  </a:lnTo>
                  <a:lnTo>
                    <a:pt x="1741" y="669"/>
                  </a:lnTo>
                  <a:lnTo>
                    <a:pt x="1750" y="667"/>
                  </a:lnTo>
                  <a:lnTo>
                    <a:pt x="1757" y="670"/>
                  </a:lnTo>
                  <a:lnTo>
                    <a:pt x="1764" y="676"/>
                  </a:lnTo>
                  <a:lnTo>
                    <a:pt x="1769" y="681"/>
                  </a:lnTo>
                  <a:lnTo>
                    <a:pt x="1772" y="689"/>
                  </a:lnTo>
                  <a:lnTo>
                    <a:pt x="1772" y="699"/>
                  </a:lnTo>
                  <a:lnTo>
                    <a:pt x="1766" y="703"/>
                  </a:lnTo>
                  <a:lnTo>
                    <a:pt x="1759" y="706"/>
                  </a:lnTo>
                  <a:lnTo>
                    <a:pt x="1751" y="707"/>
                  </a:lnTo>
                  <a:lnTo>
                    <a:pt x="1743" y="706"/>
                  </a:lnTo>
                  <a:lnTo>
                    <a:pt x="1744" y="707"/>
                  </a:lnTo>
                  <a:lnTo>
                    <a:pt x="1746" y="707"/>
                  </a:lnTo>
                  <a:lnTo>
                    <a:pt x="1747" y="708"/>
                  </a:lnTo>
                  <a:lnTo>
                    <a:pt x="1747" y="709"/>
                  </a:lnTo>
                  <a:lnTo>
                    <a:pt x="1753" y="713"/>
                  </a:lnTo>
                  <a:lnTo>
                    <a:pt x="1759" y="714"/>
                  </a:lnTo>
                  <a:lnTo>
                    <a:pt x="1765" y="713"/>
                  </a:lnTo>
                  <a:lnTo>
                    <a:pt x="1771" y="708"/>
                  </a:lnTo>
                  <a:lnTo>
                    <a:pt x="1802" y="731"/>
                  </a:lnTo>
                  <a:lnTo>
                    <a:pt x="1799" y="735"/>
                  </a:lnTo>
                  <a:lnTo>
                    <a:pt x="1794" y="737"/>
                  </a:lnTo>
                  <a:lnTo>
                    <a:pt x="1791" y="739"/>
                  </a:lnTo>
                  <a:lnTo>
                    <a:pt x="1786" y="744"/>
                  </a:lnTo>
                  <a:lnTo>
                    <a:pt x="1795" y="753"/>
                  </a:lnTo>
                  <a:lnTo>
                    <a:pt x="1811" y="767"/>
                  </a:lnTo>
                  <a:lnTo>
                    <a:pt x="1828" y="784"/>
                  </a:lnTo>
                  <a:lnTo>
                    <a:pt x="1849" y="803"/>
                  </a:lnTo>
                  <a:lnTo>
                    <a:pt x="1870" y="822"/>
                  </a:lnTo>
                  <a:lnTo>
                    <a:pt x="1889" y="839"/>
                  </a:lnTo>
                  <a:lnTo>
                    <a:pt x="1906" y="853"/>
                  </a:lnTo>
                  <a:lnTo>
                    <a:pt x="1918" y="863"/>
                  </a:lnTo>
                  <a:lnTo>
                    <a:pt x="1888" y="884"/>
                  </a:lnTo>
                  <a:lnTo>
                    <a:pt x="1875" y="871"/>
                  </a:lnTo>
                  <a:lnTo>
                    <a:pt x="1859" y="854"/>
                  </a:lnTo>
                  <a:lnTo>
                    <a:pt x="1838" y="835"/>
                  </a:lnTo>
                  <a:lnTo>
                    <a:pt x="1816" y="815"/>
                  </a:lnTo>
                  <a:lnTo>
                    <a:pt x="1794" y="796"/>
                  </a:lnTo>
                  <a:lnTo>
                    <a:pt x="1775" y="778"/>
                  </a:lnTo>
                  <a:lnTo>
                    <a:pt x="1758" y="765"/>
                  </a:lnTo>
                  <a:lnTo>
                    <a:pt x="1747" y="756"/>
                  </a:lnTo>
                  <a:lnTo>
                    <a:pt x="1743" y="874"/>
                  </a:lnTo>
                  <a:lnTo>
                    <a:pt x="1750" y="877"/>
                  </a:lnTo>
                  <a:lnTo>
                    <a:pt x="1758" y="875"/>
                  </a:lnTo>
                  <a:lnTo>
                    <a:pt x="1766" y="873"/>
                  </a:lnTo>
                  <a:lnTo>
                    <a:pt x="1773" y="871"/>
                  </a:lnTo>
                  <a:lnTo>
                    <a:pt x="1779" y="873"/>
                  </a:lnTo>
                  <a:lnTo>
                    <a:pt x="1783" y="875"/>
                  </a:lnTo>
                  <a:lnTo>
                    <a:pt x="1786" y="878"/>
                  </a:lnTo>
                  <a:lnTo>
                    <a:pt x="1787" y="883"/>
                  </a:lnTo>
                  <a:lnTo>
                    <a:pt x="1800" y="885"/>
                  </a:lnTo>
                  <a:lnTo>
                    <a:pt x="1813" y="886"/>
                  </a:lnTo>
                  <a:lnTo>
                    <a:pt x="1824" y="888"/>
                  </a:lnTo>
                  <a:lnTo>
                    <a:pt x="1837" y="886"/>
                  </a:lnTo>
                  <a:lnTo>
                    <a:pt x="1850" y="885"/>
                  </a:lnTo>
                  <a:lnTo>
                    <a:pt x="1863" y="885"/>
                  </a:lnTo>
                  <a:lnTo>
                    <a:pt x="1875" y="884"/>
                  </a:lnTo>
                  <a:lnTo>
                    <a:pt x="1888" y="884"/>
                  </a:lnTo>
                  <a:lnTo>
                    <a:pt x="1918" y="863"/>
                  </a:lnTo>
                  <a:lnTo>
                    <a:pt x="1925" y="866"/>
                  </a:lnTo>
                  <a:lnTo>
                    <a:pt x="1936" y="868"/>
                  </a:lnTo>
                  <a:lnTo>
                    <a:pt x="1949" y="870"/>
                  </a:lnTo>
                  <a:lnTo>
                    <a:pt x="1964" y="873"/>
                  </a:lnTo>
                  <a:lnTo>
                    <a:pt x="1979" y="876"/>
                  </a:lnTo>
                  <a:lnTo>
                    <a:pt x="1993" y="882"/>
                  </a:lnTo>
                  <a:lnTo>
                    <a:pt x="2005" y="889"/>
                  </a:lnTo>
                  <a:lnTo>
                    <a:pt x="2016" y="898"/>
                  </a:lnTo>
                  <a:lnTo>
                    <a:pt x="2019" y="904"/>
                  </a:lnTo>
                  <a:lnTo>
                    <a:pt x="2019" y="912"/>
                  </a:lnTo>
                  <a:lnTo>
                    <a:pt x="2018" y="920"/>
                  </a:lnTo>
                  <a:lnTo>
                    <a:pt x="2019" y="928"/>
                  </a:lnTo>
                  <a:lnTo>
                    <a:pt x="2027" y="934"/>
                  </a:lnTo>
                  <a:lnTo>
                    <a:pt x="2039" y="942"/>
                  </a:lnTo>
                  <a:lnTo>
                    <a:pt x="2053" y="952"/>
                  </a:lnTo>
                  <a:lnTo>
                    <a:pt x="2071" y="964"/>
                  </a:lnTo>
                  <a:lnTo>
                    <a:pt x="2090" y="977"/>
                  </a:lnTo>
                  <a:lnTo>
                    <a:pt x="2111" y="992"/>
                  </a:lnTo>
                  <a:lnTo>
                    <a:pt x="2133" y="1006"/>
                  </a:lnTo>
                  <a:lnTo>
                    <a:pt x="2155" y="1021"/>
                  </a:lnTo>
                  <a:lnTo>
                    <a:pt x="2177" y="1036"/>
                  </a:lnTo>
                  <a:lnTo>
                    <a:pt x="2198" y="1050"/>
                  </a:lnTo>
                  <a:lnTo>
                    <a:pt x="2216" y="1063"/>
                  </a:lnTo>
                  <a:lnTo>
                    <a:pt x="2234" y="1074"/>
                  </a:lnTo>
                  <a:lnTo>
                    <a:pt x="2248" y="1083"/>
                  </a:lnTo>
                  <a:lnTo>
                    <a:pt x="2259" y="1091"/>
                  </a:lnTo>
                  <a:lnTo>
                    <a:pt x="2266" y="1096"/>
                  </a:lnTo>
                  <a:lnTo>
                    <a:pt x="2269" y="1097"/>
                  </a:lnTo>
                  <a:lnTo>
                    <a:pt x="2269" y="1102"/>
                  </a:lnTo>
                  <a:lnTo>
                    <a:pt x="2266" y="1104"/>
                  </a:lnTo>
                  <a:lnTo>
                    <a:pt x="2263" y="1107"/>
                  </a:lnTo>
                  <a:lnTo>
                    <a:pt x="2259" y="1109"/>
                  </a:lnTo>
                  <a:lnTo>
                    <a:pt x="2251" y="1109"/>
                  </a:lnTo>
                  <a:lnTo>
                    <a:pt x="2240" y="1109"/>
                  </a:lnTo>
                  <a:lnTo>
                    <a:pt x="2224" y="1109"/>
                  </a:lnTo>
                  <a:lnTo>
                    <a:pt x="2208" y="1109"/>
                  </a:lnTo>
                  <a:lnTo>
                    <a:pt x="2189" y="1109"/>
                  </a:lnTo>
                  <a:lnTo>
                    <a:pt x="2168" y="1108"/>
                  </a:lnTo>
                  <a:lnTo>
                    <a:pt x="2147" y="1108"/>
                  </a:lnTo>
                  <a:lnTo>
                    <a:pt x="2124" y="1108"/>
                  </a:lnTo>
                  <a:lnTo>
                    <a:pt x="2102" y="1108"/>
                  </a:lnTo>
                  <a:lnTo>
                    <a:pt x="2078" y="1108"/>
                  </a:lnTo>
                  <a:lnTo>
                    <a:pt x="2057" y="1108"/>
                  </a:lnTo>
                  <a:lnTo>
                    <a:pt x="2037" y="1108"/>
                  </a:lnTo>
                  <a:lnTo>
                    <a:pt x="2018" y="1108"/>
                  </a:lnTo>
                  <a:lnTo>
                    <a:pt x="2002" y="1108"/>
                  </a:lnTo>
                  <a:lnTo>
                    <a:pt x="1988" y="1108"/>
                  </a:lnTo>
                  <a:lnTo>
                    <a:pt x="1976" y="1108"/>
                  </a:lnTo>
                  <a:lnTo>
                    <a:pt x="1971" y="1101"/>
                  </a:lnTo>
                  <a:lnTo>
                    <a:pt x="1967" y="1094"/>
                  </a:lnTo>
                  <a:lnTo>
                    <a:pt x="1962" y="1087"/>
                  </a:lnTo>
                  <a:lnTo>
                    <a:pt x="1959" y="1079"/>
                  </a:lnTo>
                  <a:lnTo>
                    <a:pt x="1955" y="1072"/>
                  </a:lnTo>
                  <a:lnTo>
                    <a:pt x="1952" y="1065"/>
                  </a:lnTo>
                  <a:lnTo>
                    <a:pt x="1946" y="1058"/>
                  </a:lnTo>
                  <a:lnTo>
                    <a:pt x="1940" y="1051"/>
                  </a:lnTo>
                  <a:lnTo>
                    <a:pt x="1937" y="1053"/>
                  </a:lnTo>
                  <a:lnTo>
                    <a:pt x="1933" y="1064"/>
                  </a:lnTo>
                  <a:lnTo>
                    <a:pt x="1930" y="1073"/>
                  </a:lnTo>
                  <a:lnTo>
                    <a:pt x="1925" y="1082"/>
                  </a:lnTo>
                  <a:lnTo>
                    <a:pt x="1921" y="1091"/>
                  </a:lnTo>
                  <a:lnTo>
                    <a:pt x="1915" y="1101"/>
                  </a:lnTo>
                  <a:lnTo>
                    <a:pt x="1908" y="1109"/>
                  </a:lnTo>
                  <a:lnTo>
                    <a:pt x="1901" y="1117"/>
                  </a:lnTo>
                  <a:lnTo>
                    <a:pt x="1893" y="1124"/>
                  </a:lnTo>
                  <a:lnTo>
                    <a:pt x="2301" y="1124"/>
                  </a:lnTo>
                  <a:lnTo>
                    <a:pt x="2301" y="1181"/>
                  </a:lnTo>
                  <a:lnTo>
                    <a:pt x="1786" y="1181"/>
                  </a:lnTo>
                  <a:lnTo>
                    <a:pt x="1783" y="1126"/>
                  </a:lnTo>
                  <a:lnTo>
                    <a:pt x="1783" y="1125"/>
                  </a:lnTo>
                  <a:lnTo>
                    <a:pt x="1776" y="1117"/>
                  </a:lnTo>
                  <a:lnTo>
                    <a:pt x="1769" y="1109"/>
                  </a:lnTo>
                  <a:lnTo>
                    <a:pt x="1761" y="1100"/>
                  </a:lnTo>
                  <a:lnTo>
                    <a:pt x="1754" y="1091"/>
                  </a:lnTo>
                  <a:lnTo>
                    <a:pt x="1728" y="1091"/>
                  </a:lnTo>
                  <a:lnTo>
                    <a:pt x="1700" y="1091"/>
                  </a:lnTo>
                  <a:lnTo>
                    <a:pt x="1670" y="1091"/>
                  </a:lnTo>
                  <a:lnTo>
                    <a:pt x="1641" y="1093"/>
                  </a:lnTo>
                  <a:lnTo>
                    <a:pt x="1615" y="1093"/>
                  </a:lnTo>
                  <a:lnTo>
                    <a:pt x="1594" y="1094"/>
                  </a:lnTo>
                  <a:lnTo>
                    <a:pt x="1580" y="1094"/>
                  </a:lnTo>
                  <a:lnTo>
                    <a:pt x="1574" y="1094"/>
                  </a:lnTo>
                  <a:lnTo>
                    <a:pt x="1584" y="1067"/>
                  </a:lnTo>
                  <a:lnTo>
                    <a:pt x="1590" y="1067"/>
                  </a:lnTo>
                  <a:lnTo>
                    <a:pt x="1606" y="1067"/>
                  </a:lnTo>
                  <a:lnTo>
                    <a:pt x="1628" y="1067"/>
                  </a:lnTo>
                  <a:lnTo>
                    <a:pt x="1655" y="1067"/>
                  </a:lnTo>
                  <a:lnTo>
                    <a:pt x="1682" y="1067"/>
                  </a:lnTo>
                  <a:lnTo>
                    <a:pt x="1706" y="1067"/>
                  </a:lnTo>
                  <a:lnTo>
                    <a:pt x="1725" y="1066"/>
                  </a:lnTo>
                  <a:lnTo>
                    <a:pt x="1734" y="1066"/>
                  </a:lnTo>
                  <a:lnTo>
                    <a:pt x="1739" y="1064"/>
                  </a:lnTo>
                  <a:lnTo>
                    <a:pt x="1739" y="1060"/>
                  </a:lnTo>
                  <a:lnTo>
                    <a:pt x="1737" y="1056"/>
                  </a:lnTo>
                  <a:lnTo>
                    <a:pt x="1736" y="1051"/>
                  </a:lnTo>
                  <a:lnTo>
                    <a:pt x="1729" y="1050"/>
                  </a:lnTo>
                  <a:lnTo>
                    <a:pt x="1724" y="1047"/>
                  </a:lnTo>
                  <a:lnTo>
                    <a:pt x="1718" y="1045"/>
                  </a:lnTo>
                  <a:lnTo>
                    <a:pt x="1713" y="1042"/>
                  </a:lnTo>
                  <a:lnTo>
                    <a:pt x="1707" y="1038"/>
                  </a:lnTo>
                  <a:lnTo>
                    <a:pt x="1702" y="1035"/>
                  </a:lnTo>
                  <a:lnTo>
                    <a:pt x="1696" y="1032"/>
                  </a:lnTo>
                  <a:lnTo>
                    <a:pt x="1690" y="1030"/>
                  </a:lnTo>
                  <a:lnTo>
                    <a:pt x="1683" y="1034"/>
                  </a:lnTo>
                  <a:lnTo>
                    <a:pt x="1676" y="1036"/>
                  </a:lnTo>
                  <a:lnTo>
                    <a:pt x="1669" y="1037"/>
                  </a:lnTo>
                  <a:lnTo>
                    <a:pt x="1661" y="1038"/>
                  </a:lnTo>
                  <a:lnTo>
                    <a:pt x="1654" y="1037"/>
                  </a:lnTo>
                  <a:lnTo>
                    <a:pt x="1647" y="1036"/>
                  </a:lnTo>
                  <a:lnTo>
                    <a:pt x="1640" y="1034"/>
                  </a:lnTo>
                  <a:lnTo>
                    <a:pt x="1634" y="1030"/>
                  </a:lnTo>
                  <a:lnTo>
                    <a:pt x="1627" y="1034"/>
                  </a:lnTo>
                  <a:lnTo>
                    <a:pt x="1622" y="1036"/>
                  </a:lnTo>
                  <a:lnTo>
                    <a:pt x="1615" y="1039"/>
                  </a:lnTo>
                  <a:lnTo>
                    <a:pt x="1609" y="1042"/>
                  </a:lnTo>
                  <a:lnTo>
                    <a:pt x="1602" y="1044"/>
                  </a:lnTo>
                  <a:lnTo>
                    <a:pt x="1596" y="1047"/>
                  </a:lnTo>
                  <a:lnTo>
                    <a:pt x="1590" y="1051"/>
                  </a:lnTo>
                  <a:lnTo>
                    <a:pt x="1584" y="1056"/>
                  </a:lnTo>
                  <a:lnTo>
                    <a:pt x="1584" y="1067"/>
                  </a:lnTo>
                  <a:lnTo>
                    <a:pt x="1574" y="1094"/>
                  </a:lnTo>
                  <a:lnTo>
                    <a:pt x="1567" y="1095"/>
                  </a:lnTo>
                  <a:lnTo>
                    <a:pt x="1561" y="1097"/>
                  </a:lnTo>
                  <a:lnTo>
                    <a:pt x="1557" y="1102"/>
                  </a:lnTo>
                  <a:lnTo>
                    <a:pt x="1552" y="1107"/>
                  </a:lnTo>
                  <a:lnTo>
                    <a:pt x="1547" y="1112"/>
                  </a:lnTo>
                  <a:lnTo>
                    <a:pt x="1543" y="1118"/>
                  </a:lnTo>
                  <a:lnTo>
                    <a:pt x="1538" y="1123"/>
                  </a:lnTo>
                  <a:lnTo>
                    <a:pt x="1533" y="1127"/>
                  </a:lnTo>
                  <a:lnTo>
                    <a:pt x="1542" y="1129"/>
                  </a:lnTo>
                  <a:lnTo>
                    <a:pt x="1554" y="1129"/>
                  </a:lnTo>
                  <a:lnTo>
                    <a:pt x="1569" y="1129"/>
                  </a:lnTo>
                  <a:lnTo>
                    <a:pt x="1587" y="1129"/>
                  </a:lnTo>
                  <a:lnTo>
                    <a:pt x="1605" y="1129"/>
                  </a:lnTo>
                  <a:lnTo>
                    <a:pt x="1626" y="1127"/>
                  </a:lnTo>
                  <a:lnTo>
                    <a:pt x="1648" y="1127"/>
                  </a:lnTo>
                  <a:lnTo>
                    <a:pt x="1669" y="1126"/>
                  </a:lnTo>
                  <a:lnTo>
                    <a:pt x="1691" y="1126"/>
                  </a:lnTo>
                  <a:lnTo>
                    <a:pt x="1711" y="1125"/>
                  </a:lnTo>
                  <a:lnTo>
                    <a:pt x="1729" y="1125"/>
                  </a:lnTo>
                  <a:lnTo>
                    <a:pt x="1747" y="1125"/>
                  </a:lnTo>
                  <a:lnTo>
                    <a:pt x="1761" y="1124"/>
                  </a:lnTo>
                  <a:lnTo>
                    <a:pt x="1772" y="1124"/>
                  </a:lnTo>
                  <a:lnTo>
                    <a:pt x="1779" y="1125"/>
                  </a:lnTo>
                  <a:lnTo>
                    <a:pt x="1783" y="1125"/>
                  </a:lnTo>
                  <a:lnTo>
                    <a:pt x="1786" y="1181"/>
                  </a:lnTo>
                  <a:lnTo>
                    <a:pt x="1365" y="1181"/>
                  </a:lnTo>
                  <a:lnTo>
                    <a:pt x="1387" y="1130"/>
                  </a:lnTo>
                  <a:lnTo>
                    <a:pt x="1392" y="1127"/>
                  </a:lnTo>
                  <a:lnTo>
                    <a:pt x="1395" y="1129"/>
                  </a:lnTo>
                  <a:lnTo>
                    <a:pt x="1400" y="1130"/>
                  </a:lnTo>
                  <a:lnTo>
                    <a:pt x="1404" y="1129"/>
                  </a:lnTo>
                  <a:lnTo>
                    <a:pt x="1392" y="1110"/>
                  </a:lnTo>
                  <a:lnTo>
                    <a:pt x="1386" y="1109"/>
                  </a:lnTo>
                  <a:lnTo>
                    <a:pt x="1381" y="1111"/>
                  </a:lnTo>
                  <a:lnTo>
                    <a:pt x="1376" y="1115"/>
                  </a:lnTo>
                  <a:lnTo>
                    <a:pt x="1370" y="1116"/>
                  </a:lnTo>
                  <a:lnTo>
                    <a:pt x="1361" y="1107"/>
                  </a:lnTo>
                  <a:lnTo>
                    <a:pt x="1357" y="1096"/>
                  </a:lnTo>
                  <a:lnTo>
                    <a:pt x="1358" y="1086"/>
                  </a:lnTo>
                  <a:lnTo>
                    <a:pt x="1363" y="1074"/>
                  </a:lnTo>
                  <a:lnTo>
                    <a:pt x="1368" y="1063"/>
                  </a:lnTo>
                  <a:lnTo>
                    <a:pt x="1373" y="1050"/>
                  </a:lnTo>
                  <a:lnTo>
                    <a:pt x="1377" y="1038"/>
                  </a:lnTo>
                  <a:lnTo>
                    <a:pt x="1376" y="1025"/>
                  </a:lnTo>
                  <a:lnTo>
                    <a:pt x="1370" y="1018"/>
                  </a:lnTo>
                  <a:lnTo>
                    <a:pt x="1365" y="1010"/>
                  </a:lnTo>
                  <a:lnTo>
                    <a:pt x="1363" y="1001"/>
                  </a:lnTo>
                  <a:lnTo>
                    <a:pt x="1361" y="992"/>
                  </a:lnTo>
                  <a:lnTo>
                    <a:pt x="1412" y="884"/>
                  </a:lnTo>
                  <a:lnTo>
                    <a:pt x="1529" y="883"/>
                  </a:lnTo>
                  <a:lnTo>
                    <a:pt x="1535" y="878"/>
                  </a:lnTo>
                  <a:lnTo>
                    <a:pt x="1542" y="871"/>
                  </a:lnTo>
                  <a:lnTo>
                    <a:pt x="1545" y="864"/>
                  </a:lnTo>
                  <a:lnTo>
                    <a:pt x="1546" y="856"/>
                  </a:lnTo>
                  <a:lnTo>
                    <a:pt x="1540" y="852"/>
                  </a:lnTo>
                  <a:lnTo>
                    <a:pt x="1535" y="854"/>
                  </a:lnTo>
                  <a:lnTo>
                    <a:pt x="1528" y="859"/>
                  </a:lnTo>
                  <a:lnTo>
                    <a:pt x="1521" y="862"/>
                  </a:lnTo>
                  <a:lnTo>
                    <a:pt x="1514" y="863"/>
                  </a:lnTo>
                  <a:lnTo>
                    <a:pt x="1506" y="863"/>
                  </a:lnTo>
                  <a:lnTo>
                    <a:pt x="1497" y="861"/>
                  </a:lnTo>
                  <a:lnTo>
                    <a:pt x="1490" y="857"/>
                  </a:lnTo>
                  <a:lnTo>
                    <a:pt x="1482" y="851"/>
                  </a:lnTo>
                  <a:lnTo>
                    <a:pt x="1473" y="846"/>
                  </a:lnTo>
                  <a:lnTo>
                    <a:pt x="1464" y="845"/>
                  </a:lnTo>
                  <a:lnTo>
                    <a:pt x="1452" y="844"/>
                  </a:lnTo>
                  <a:lnTo>
                    <a:pt x="1441" y="844"/>
                  </a:lnTo>
                  <a:lnTo>
                    <a:pt x="1430" y="845"/>
                  </a:lnTo>
                  <a:lnTo>
                    <a:pt x="1419" y="844"/>
                  </a:lnTo>
                  <a:lnTo>
                    <a:pt x="1408" y="842"/>
                  </a:lnTo>
                  <a:lnTo>
                    <a:pt x="1402" y="845"/>
                  </a:lnTo>
                  <a:lnTo>
                    <a:pt x="1397" y="846"/>
                  </a:lnTo>
                  <a:lnTo>
                    <a:pt x="1392" y="848"/>
                  </a:lnTo>
                  <a:lnTo>
                    <a:pt x="1391" y="853"/>
                  </a:lnTo>
                  <a:lnTo>
                    <a:pt x="1398" y="860"/>
                  </a:lnTo>
                  <a:lnTo>
                    <a:pt x="1404" y="867"/>
                  </a:lnTo>
                  <a:lnTo>
                    <a:pt x="1408" y="875"/>
                  </a:lnTo>
                  <a:lnTo>
                    <a:pt x="1412" y="884"/>
                  </a:lnTo>
                  <a:lnTo>
                    <a:pt x="1361" y="992"/>
                  </a:lnTo>
                  <a:lnTo>
                    <a:pt x="1357" y="993"/>
                  </a:lnTo>
                  <a:lnTo>
                    <a:pt x="1354" y="993"/>
                  </a:lnTo>
                  <a:lnTo>
                    <a:pt x="1349" y="992"/>
                  </a:lnTo>
                  <a:lnTo>
                    <a:pt x="1347" y="990"/>
                  </a:lnTo>
                  <a:lnTo>
                    <a:pt x="1347" y="998"/>
                  </a:lnTo>
                  <a:lnTo>
                    <a:pt x="1347" y="1003"/>
                  </a:lnTo>
                  <a:lnTo>
                    <a:pt x="1348" y="1010"/>
                  </a:lnTo>
                  <a:lnTo>
                    <a:pt x="1347" y="1018"/>
                  </a:lnTo>
                  <a:lnTo>
                    <a:pt x="1346" y="1025"/>
                  </a:lnTo>
                  <a:lnTo>
                    <a:pt x="1347" y="1034"/>
                  </a:lnTo>
                  <a:lnTo>
                    <a:pt x="1348" y="1041"/>
                  </a:lnTo>
                  <a:lnTo>
                    <a:pt x="1344" y="1046"/>
                  </a:lnTo>
                  <a:lnTo>
                    <a:pt x="1336" y="1047"/>
                  </a:lnTo>
                  <a:lnTo>
                    <a:pt x="1329" y="1046"/>
                  </a:lnTo>
                  <a:lnTo>
                    <a:pt x="1322" y="1043"/>
                  </a:lnTo>
                  <a:lnTo>
                    <a:pt x="1318" y="1038"/>
                  </a:lnTo>
                  <a:lnTo>
                    <a:pt x="1313" y="1046"/>
                  </a:lnTo>
                  <a:lnTo>
                    <a:pt x="1307" y="1056"/>
                  </a:lnTo>
                  <a:lnTo>
                    <a:pt x="1301" y="1064"/>
                  </a:lnTo>
                  <a:lnTo>
                    <a:pt x="1296" y="1072"/>
                  </a:lnTo>
                  <a:lnTo>
                    <a:pt x="1290" y="1080"/>
                  </a:lnTo>
                  <a:lnTo>
                    <a:pt x="1283" y="1088"/>
                  </a:lnTo>
                  <a:lnTo>
                    <a:pt x="1276" y="1095"/>
                  </a:lnTo>
                  <a:lnTo>
                    <a:pt x="1269" y="1103"/>
                  </a:lnTo>
                  <a:lnTo>
                    <a:pt x="1261" y="1110"/>
                  </a:lnTo>
                  <a:lnTo>
                    <a:pt x="1253" y="1117"/>
                  </a:lnTo>
                  <a:lnTo>
                    <a:pt x="1245" y="1123"/>
                  </a:lnTo>
                  <a:lnTo>
                    <a:pt x="1235" y="1129"/>
                  </a:lnTo>
                  <a:lnTo>
                    <a:pt x="1254" y="1131"/>
                  </a:lnTo>
                  <a:lnTo>
                    <a:pt x="1272" y="1131"/>
                  </a:lnTo>
                  <a:lnTo>
                    <a:pt x="1291" y="1131"/>
                  </a:lnTo>
                  <a:lnTo>
                    <a:pt x="1310" y="1131"/>
                  </a:lnTo>
                  <a:lnTo>
                    <a:pt x="1329" y="1130"/>
                  </a:lnTo>
                  <a:lnTo>
                    <a:pt x="1349" y="1130"/>
                  </a:lnTo>
                  <a:lnTo>
                    <a:pt x="1368" y="1130"/>
                  </a:lnTo>
                  <a:lnTo>
                    <a:pt x="1387" y="1130"/>
                  </a:lnTo>
                  <a:lnTo>
                    <a:pt x="1365" y="1181"/>
                  </a:lnTo>
                  <a:lnTo>
                    <a:pt x="864" y="1181"/>
                  </a:lnTo>
                  <a:lnTo>
                    <a:pt x="876" y="1130"/>
                  </a:lnTo>
                  <a:lnTo>
                    <a:pt x="1071" y="1130"/>
                  </a:lnTo>
                  <a:lnTo>
                    <a:pt x="1077" y="1131"/>
                  </a:lnTo>
                  <a:lnTo>
                    <a:pt x="1080" y="1131"/>
                  </a:lnTo>
                  <a:lnTo>
                    <a:pt x="1085" y="1131"/>
                  </a:lnTo>
                  <a:lnTo>
                    <a:pt x="1089" y="1130"/>
                  </a:lnTo>
                  <a:lnTo>
                    <a:pt x="1082" y="1125"/>
                  </a:lnTo>
                  <a:lnTo>
                    <a:pt x="1077" y="1120"/>
                  </a:lnTo>
                  <a:lnTo>
                    <a:pt x="1071" y="1116"/>
                  </a:lnTo>
                  <a:lnTo>
                    <a:pt x="1065" y="1112"/>
                  </a:lnTo>
                  <a:lnTo>
                    <a:pt x="1059" y="1108"/>
                  </a:lnTo>
                  <a:lnTo>
                    <a:pt x="1053" y="1103"/>
                  </a:lnTo>
                  <a:lnTo>
                    <a:pt x="1048" y="1098"/>
                  </a:lnTo>
                  <a:lnTo>
                    <a:pt x="1043" y="1093"/>
                  </a:lnTo>
                  <a:lnTo>
                    <a:pt x="1089" y="1093"/>
                  </a:lnTo>
                  <a:lnTo>
                    <a:pt x="1093" y="1090"/>
                  </a:lnTo>
                  <a:lnTo>
                    <a:pt x="1100" y="1082"/>
                  </a:lnTo>
                  <a:lnTo>
                    <a:pt x="1107" y="1069"/>
                  </a:lnTo>
                  <a:lnTo>
                    <a:pt x="1115" y="1053"/>
                  </a:lnTo>
                  <a:lnTo>
                    <a:pt x="1123" y="1036"/>
                  </a:lnTo>
                  <a:lnTo>
                    <a:pt x="1130" y="1020"/>
                  </a:lnTo>
                  <a:lnTo>
                    <a:pt x="1137" y="1008"/>
                  </a:lnTo>
                  <a:lnTo>
                    <a:pt x="1140" y="1000"/>
                  </a:lnTo>
                  <a:lnTo>
                    <a:pt x="1160" y="999"/>
                  </a:lnTo>
                  <a:lnTo>
                    <a:pt x="1155" y="1017"/>
                  </a:lnTo>
                  <a:lnTo>
                    <a:pt x="1150" y="1053"/>
                  </a:lnTo>
                  <a:lnTo>
                    <a:pt x="1145" y="1089"/>
                  </a:lnTo>
                  <a:lnTo>
                    <a:pt x="1144" y="1110"/>
                  </a:lnTo>
                  <a:lnTo>
                    <a:pt x="1148" y="1110"/>
                  </a:lnTo>
                  <a:lnTo>
                    <a:pt x="1152" y="1110"/>
                  </a:lnTo>
                  <a:lnTo>
                    <a:pt x="1157" y="1110"/>
                  </a:lnTo>
                  <a:lnTo>
                    <a:pt x="1161" y="1111"/>
                  </a:lnTo>
                  <a:lnTo>
                    <a:pt x="1168" y="1110"/>
                  </a:lnTo>
                  <a:lnTo>
                    <a:pt x="1174" y="1110"/>
                  </a:lnTo>
                  <a:lnTo>
                    <a:pt x="1179" y="1110"/>
                  </a:lnTo>
                  <a:lnTo>
                    <a:pt x="1182" y="1110"/>
                  </a:lnTo>
                  <a:lnTo>
                    <a:pt x="1174" y="991"/>
                  </a:lnTo>
                  <a:lnTo>
                    <a:pt x="1176" y="996"/>
                  </a:lnTo>
                  <a:lnTo>
                    <a:pt x="1181" y="1009"/>
                  </a:lnTo>
                  <a:lnTo>
                    <a:pt x="1188" y="1027"/>
                  </a:lnTo>
                  <a:lnTo>
                    <a:pt x="1195" y="1045"/>
                  </a:lnTo>
                  <a:lnTo>
                    <a:pt x="1203" y="1065"/>
                  </a:lnTo>
                  <a:lnTo>
                    <a:pt x="1210" y="1081"/>
                  </a:lnTo>
                  <a:lnTo>
                    <a:pt x="1215" y="1093"/>
                  </a:lnTo>
                  <a:lnTo>
                    <a:pt x="1218" y="1098"/>
                  </a:lnTo>
                  <a:lnTo>
                    <a:pt x="1224" y="1094"/>
                  </a:lnTo>
                  <a:lnTo>
                    <a:pt x="1232" y="1089"/>
                  </a:lnTo>
                  <a:lnTo>
                    <a:pt x="1239" y="1086"/>
                  </a:lnTo>
                  <a:lnTo>
                    <a:pt x="1242" y="1085"/>
                  </a:lnTo>
                  <a:lnTo>
                    <a:pt x="1240" y="1079"/>
                  </a:lnTo>
                  <a:lnTo>
                    <a:pt x="1238" y="1074"/>
                  </a:lnTo>
                  <a:lnTo>
                    <a:pt x="1235" y="1069"/>
                  </a:lnTo>
                  <a:lnTo>
                    <a:pt x="1233" y="1068"/>
                  </a:lnTo>
                  <a:lnTo>
                    <a:pt x="1274" y="1053"/>
                  </a:lnTo>
                  <a:lnTo>
                    <a:pt x="1278" y="1047"/>
                  </a:lnTo>
                  <a:lnTo>
                    <a:pt x="1284" y="1038"/>
                  </a:lnTo>
                  <a:lnTo>
                    <a:pt x="1290" y="1030"/>
                  </a:lnTo>
                  <a:lnTo>
                    <a:pt x="1292" y="1024"/>
                  </a:lnTo>
                  <a:lnTo>
                    <a:pt x="1286" y="1021"/>
                  </a:lnTo>
                  <a:lnTo>
                    <a:pt x="1276" y="1017"/>
                  </a:lnTo>
                  <a:lnTo>
                    <a:pt x="1262" y="1013"/>
                  </a:lnTo>
                  <a:lnTo>
                    <a:pt x="1248" y="1007"/>
                  </a:lnTo>
                  <a:lnTo>
                    <a:pt x="1233" y="1002"/>
                  </a:lnTo>
                  <a:lnTo>
                    <a:pt x="1219" y="999"/>
                  </a:lnTo>
                  <a:lnTo>
                    <a:pt x="1209" y="995"/>
                  </a:lnTo>
                  <a:lnTo>
                    <a:pt x="1202" y="994"/>
                  </a:lnTo>
                  <a:lnTo>
                    <a:pt x="1194" y="977"/>
                  </a:lnTo>
                  <a:lnTo>
                    <a:pt x="1203" y="976"/>
                  </a:lnTo>
                  <a:lnTo>
                    <a:pt x="1218" y="976"/>
                  </a:lnTo>
                  <a:lnTo>
                    <a:pt x="1237" y="974"/>
                  </a:lnTo>
                  <a:lnTo>
                    <a:pt x="1256" y="973"/>
                  </a:lnTo>
                  <a:lnTo>
                    <a:pt x="1275" y="972"/>
                  </a:lnTo>
                  <a:lnTo>
                    <a:pt x="1292" y="972"/>
                  </a:lnTo>
                  <a:lnTo>
                    <a:pt x="1303" y="971"/>
                  </a:lnTo>
                  <a:lnTo>
                    <a:pt x="1307" y="971"/>
                  </a:lnTo>
                  <a:lnTo>
                    <a:pt x="1306" y="964"/>
                  </a:lnTo>
                  <a:lnTo>
                    <a:pt x="1303" y="954"/>
                  </a:lnTo>
                  <a:lnTo>
                    <a:pt x="1300" y="943"/>
                  </a:lnTo>
                  <a:lnTo>
                    <a:pt x="1298" y="937"/>
                  </a:lnTo>
                  <a:lnTo>
                    <a:pt x="1245" y="954"/>
                  </a:lnTo>
                  <a:lnTo>
                    <a:pt x="1223" y="913"/>
                  </a:lnTo>
                  <a:lnTo>
                    <a:pt x="1226" y="912"/>
                  </a:lnTo>
                  <a:lnTo>
                    <a:pt x="1232" y="908"/>
                  </a:lnTo>
                  <a:lnTo>
                    <a:pt x="1240" y="905"/>
                  </a:lnTo>
                  <a:lnTo>
                    <a:pt x="1248" y="900"/>
                  </a:lnTo>
                  <a:lnTo>
                    <a:pt x="1255" y="896"/>
                  </a:lnTo>
                  <a:lnTo>
                    <a:pt x="1261" y="890"/>
                  </a:lnTo>
                  <a:lnTo>
                    <a:pt x="1264" y="885"/>
                  </a:lnTo>
                  <a:lnTo>
                    <a:pt x="1266" y="882"/>
                  </a:lnTo>
                  <a:lnTo>
                    <a:pt x="1261" y="873"/>
                  </a:lnTo>
                  <a:lnTo>
                    <a:pt x="1254" y="864"/>
                  </a:lnTo>
                  <a:lnTo>
                    <a:pt x="1246" y="859"/>
                  </a:lnTo>
                  <a:lnTo>
                    <a:pt x="1238" y="856"/>
                  </a:lnTo>
                  <a:lnTo>
                    <a:pt x="1175" y="954"/>
                  </a:lnTo>
                  <a:lnTo>
                    <a:pt x="1223" y="913"/>
                  </a:lnTo>
                  <a:lnTo>
                    <a:pt x="1245" y="954"/>
                  </a:lnTo>
                  <a:lnTo>
                    <a:pt x="1194" y="977"/>
                  </a:lnTo>
                  <a:lnTo>
                    <a:pt x="1202" y="994"/>
                  </a:lnTo>
                  <a:lnTo>
                    <a:pt x="1274" y="1053"/>
                  </a:lnTo>
                  <a:lnTo>
                    <a:pt x="1233" y="1068"/>
                  </a:lnTo>
                  <a:lnTo>
                    <a:pt x="1228" y="1065"/>
                  </a:lnTo>
                  <a:lnTo>
                    <a:pt x="1221" y="1057"/>
                  </a:lnTo>
                  <a:lnTo>
                    <a:pt x="1213" y="1044"/>
                  </a:lnTo>
                  <a:lnTo>
                    <a:pt x="1204" y="1030"/>
                  </a:lnTo>
                  <a:lnTo>
                    <a:pt x="1194" y="1015"/>
                  </a:lnTo>
                  <a:lnTo>
                    <a:pt x="1186" y="1003"/>
                  </a:lnTo>
                  <a:lnTo>
                    <a:pt x="1179" y="994"/>
                  </a:lnTo>
                  <a:lnTo>
                    <a:pt x="1174" y="991"/>
                  </a:lnTo>
                  <a:lnTo>
                    <a:pt x="1182" y="1110"/>
                  </a:lnTo>
                  <a:lnTo>
                    <a:pt x="1179" y="1089"/>
                  </a:lnTo>
                  <a:lnTo>
                    <a:pt x="1172" y="1057"/>
                  </a:lnTo>
                  <a:lnTo>
                    <a:pt x="1165" y="1023"/>
                  </a:lnTo>
                  <a:lnTo>
                    <a:pt x="1160" y="999"/>
                  </a:lnTo>
                  <a:lnTo>
                    <a:pt x="1140" y="1000"/>
                  </a:lnTo>
                  <a:lnTo>
                    <a:pt x="1117" y="1020"/>
                  </a:lnTo>
                  <a:lnTo>
                    <a:pt x="1136" y="984"/>
                  </a:lnTo>
                  <a:lnTo>
                    <a:pt x="1097" y="978"/>
                  </a:lnTo>
                  <a:lnTo>
                    <a:pt x="1095" y="957"/>
                  </a:lnTo>
                  <a:lnTo>
                    <a:pt x="1099" y="957"/>
                  </a:lnTo>
                  <a:lnTo>
                    <a:pt x="1103" y="958"/>
                  </a:lnTo>
                  <a:lnTo>
                    <a:pt x="1109" y="959"/>
                  </a:lnTo>
                  <a:lnTo>
                    <a:pt x="1115" y="961"/>
                  </a:lnTo>
                  <a:lnTo>
                    <a:pt x="1122" y="962"/>
                  </a:lnTo>
                  <a:lnTo>
                    <a:pt x="1126" y="963"/>
                  </a:lnTo>
                  <a:lnTo>
                    <a:pt x="1131" y="964"/>
                  </a:lnTo>
                  <a:lnTo>
                    <a:pt x="1135" y="965"/>
                  </a:lnTo>
                  <a:lnTo>
                    <a:pt x="1130" y="963"/>
                  </a:lnTo>
                  <a:lnTo>
                    <a:pt x="1118" y="957"/>
                  </a:lnTo>
                  <a:lnTo>
                    <a:pt x="1102" y="948"/>
                  </a:lnTo>
                  <a:lnTo>
                    <a:pt x="1083" y="939"/>
                  </a:lnTo>
                  <a:lnTo>
                    <a:pt x="1064" y="929"/>
                  </a:lnTo>
                  <a:lnTo>
                    <a:pt x="1048" y="921"/>
                  </a:lnTo>
                  <a:lnTo>
                    <a:pt x="1036" y="915"/>
                  </a:lnTo>
                  <a:lnTo>
                    <a:pt x="1031" y="913"/>
                  </a:lnTo>
                  <a:lnTo>
                    <a:pt x="1054" y="876"/>
                  </a:lnTo>
                  <a:lnTo>
                    <a:pt x="1061" y="879"/>
                  </a:lnTo>
                  <a:lnTo>
                    <a:pt x="1073" y="889"/>
                  </a:lnTo>
                  <a:lnTo>
                    <a:pt x="1087" y="899"/>
                  </a:lnTo>
                  <a:lnTo>
                    <a:pt x="1102" y="912"/>
                  </a:lnTo>
                  <a:lnTo>
                    <a:pt x="1117" y="925"/>
                  </a:lnTo>
                  <a:lnTo>
                    <a:pt x="1130" y="935"/>
                  </a:lnTo>
                  <a:lnTo>
                    <a:pt x="1139" y="942"/>
                  </a:lnTo>
                  <a:lnTo>
                    <a:pt x="1144" y="944"/>
                  </a:lnTo>
                  <a:lnTo>
                    <a:pt x="1085" y="852"/>
                  </a:lnTo>
                  <a:lnTo>
                    <a:pt x="1139" y="831"/>
                  </a:lnTo>
                  <a:lnTo>
                    <a:pt x="1161" y="946"/>
                  </a:lnTo>
                  <a:lnTo>
                    <a:pt x="1182" y="832"/>
                  </a:lnTo>
                  <a:lnTo>
                    <a:pt x="1176" y="831"/>
                  </a:lnTo>
                  <a:lnTo>
                    <a:pt x="1169" y="830"/>
                  </a:lnTo>
                  <a:lnTo>
                    <a:pt x="1163" y="830"/>
                  </a:lnTo>
                  <a:lnTo>
                    <a:pt x="1158" y="830"/>
                  </a:lnTo>
                  <a:lnTo>
                    <a:pt x="1153" y="830"/>
                  </a:lnTo>
                  <a:lnTo>
                    <a:pt x="1147" y="830"/>
                  </a:lnTo>
                  <a:lnTo>
                    <a:pt x="1143" y="831"/>
                  </a:lnTo>
                  <a:lnTo>
                    <a:pt x="1139" y="831"/>
                  </a:lnTo>
                  <a:lnTo>
                    <a:pt x="1085" y="852"/>
                  </a:lnTo>
                  <a:lnTo>
                    <a:pt x="1077" y="857"/>
                  </a:lnTo>
                  <a:lnTo>
                    <a:pt x="1066" y="864"/>
                  </a:lnTo>
                  <a:lnTo>
                    <a:pt x="1058" y="871"/>
                  </a:lnTo>
                  <a:lnTo>
                    <a:pt x="1054" y="876"/>
                  </a:lnTo>
                  <a:lnTo>
                    <a:pt x="1031" y="913"/>
                  </a:lnTo>
                  <a:lnTo>
                    <a:pt x="1028" y="920"/>
                  </a:lnTo>
                  <a:lnTo>
                    <a:pt x="1026" y="928"/>
                  </a:lnTo>
                  <a:lnTo>
                    <a:pt x="1023" y="936"/>
                  </a:lnTo>
                  <a:lnTo>
                    <a:pt x="1021" y="944"/>
                  </a:lnTo>
                  <a:lnTo>
                    <a:pt x="1024" y="944"/>
                  </a:lnTo>
                  <a:lnTo>
                    <a:pt x="1031" y="947"/>
                  </a:lnTo>
                  <a:lnTo>
                    <a:pt x="1043" y="948"/>
                  </a:lnTo>
                  <a:lnTo>
                    <a:pt x="1057" y="950"/>
                  </a:lnTo>
                  <a:lnTo>
                    <a:pt x="1070" y="954"/>
                  </a:lnTo>
                  <a:lnTo>
                    <a:pt x="1081" y="955"/>
                  </a:lnTo>
                  <a:lnTo>
                    <a:pt x="1090" y="957"/>
                  </a:lnTo>
                  <a:lnTo>
                    <a:pt x="1095" y="957"/>
                  </a:lnTo>
                  <a:lnTo>
                    <a:pt x="1097" y="978"/>
                  </a:lnTo>
                  <a:lnTo>
                    <a:pt x="1089" y="977"/>
                  </a:lnTo>
                  <a:lnTo>
                    <a:pt x="1079" y="977"/>
                  </a:lnTo>
                  <a:lnTo>
                    <a:pt x="1066" y="977"/>
                  </a:lnTo>
                  <a:lnTo>
                    <a:pt x="1053" y="978"/>
                  </a:lnTo>
                  <a:lnTo>
                    <a:pt x="1041" y="978"/>
                  </a:lnTo>
                  <a:lnTo>
                    <a:pt x="1030" y="979"/>
                  </a:lnTo>
                  <a:lnTo>
                    <a:pt x="1022" y="979"/>
                  </a:lnTo>
                  <a:lnTo>
                    <a:pt x="1020" y="979"/>
                  </a:lnTo>
                  <a:lnTo>
                    <a:pt x="1021" y="986"/>
                  </a:lnTo>
                  <a:lnTo>
                    <a:pt x="1023" y="993"/>
                  </a:lnTo>
                  <a:lnTo>
                    <a:pt x="1026" y="1000"/>
                  </a:lnTo>
                  <a:lnTo>
                    <a:pt x="1027" y="1007"/>
                  </a:lnTo>
                  <a:lnTo>
                    <a:pt x="1136" y="984"/>
                  </a:lnTo>
                  <a:lnTo>
                    <a:pt x="1117" y="1020"/>
                  </a:lnTo>
                  <a:lnTo>
                    <a:pt x="1111" y="1023"/>
                  </a:lnTo>
                  <a:lnTo>
                    <a:pt x="1103" y="1029"/>
                  </a:lnTo>
                  <a:lnTo>
                    <a:pt x="1093" y="1036"/>
                  </a:lnTo>
                  <a:lnTo>
                    <a:pt x="1083" y="1044"/>
                  </a:lnTo>
                  <a:lnTo>
                    <a:pt x="1073" y="1052"/>
                  </a:lnTo>
                  <a:lnTo>
                    <a:pt x="1065" y="1058"/>
                  </a:lnTo>
                  <a:lnTo>
                    <a:pt x="1058" y="1063"/>
                  </a:lnTo>
                  <a:lnTo>
                    <a:pt x="1054" y="1064"/>
                  </a:lnTo>
                  <a:lnTo>
                    <a:pt x="1058" y="1069"/>
                  </a:lnTo>
                  <a:lnTo>
                    <a:pt x="1063" y="1074"/>
                  </a:lnTo>
                  <a:lnTo>
                    <a:pt x="1068" y="1079"/>
                  </a:lnTo>
                  <a:lnTo>
                    <a:pt x="1074" y="1083"/>
                  </a:lnTo>
                  <a:lnTo>
                    <a:pt x="1080" y="1087"/>
                  </a:lnTo>
                  <a:lnTo>
                    <a:pt x="1085" y="1089"/>
                  </a:lnTo>
                  <a:lnTo>
                    <a:pt x="1088" y="1091"/>
                  </a:lnTo>
                  <a:lnTo>
                    <a:pt x="1089" y="1093"/>
                  </a:lnTo>
                  <a:lnTo>
                    <a:pt x="1043" y="1093"/>
                  </a:lnTo>
                  <a:lnTo>
                    <a:pt x="1030" y="1074"/>
                  </a:lnTo>
                  <a:lnTo>
                    <a:pt x="1022" y="1071"/>
                  </a:lnTo>
                  <a:lnTo>
                    <a:pt x="1014" y="1068"/>
                  </a:lnTo>
                  <a:lnTo>
                    <a:pt x="1006" y="1068"/>
                  </a:lnTo>
                  <a:lnTo>
                    <a:pt x="998" y="1069"/>
                  </a:lnTo>
                  <a:lnTo>
                    <a:pt x="990" y="1071"/>
                  </a:lnTo>
                  <a:lnTo>
                    <a:pt x="980" y="1072"/>
                  </a:lnTo>
                  <a:lnTo>
                    <a:pt x="971" y="1072"/>
                  </a:lnTo>
                  <a:lnTo>
                    <a:pt x="962" y="1072"/>
                  </a:lnTo>
                  <a:lnTo>
                    <a:pt x="959" y="1081"/>
                  </a:lnTo>
                  <a:lnTo>
                    <a:pt x="956" y="1088"/>
                  </a:lnTo>
                  <a:lnTo>
                    <a:pt x="952" y="1095"/>
                  </a:lnTo>
                  <a:lnTo>
                    <a:pt x="948" y="1100"/>
                  </a:lnTo>
                  <a:lnTo>
                    <a:pt x="943" y="1105"/>
                  </a:lnTo>
                  <a:lnTo>
                    <a:pt x="937" y="1110"/>
                  </a:lnTo>
                  <a:lnTo>
                    <a:pt x="932" y="1113"/>
                  </a:lnTo>
                  <a:lnTo>
                    <a:pt x="923" y="1118"/>
                  </a:lnTo>
                  <a:lnTo>
                    <a:pt x="917" y="1116"/>
                  </a:lnTo>
                  <a:lnTo>
                    <a:pt x="911" y="1112"/>
                  </a:lnTo>
                  <a:lnTo>
                    <a:pt x="905" y="1109"/>
                  </a:lnTo>
                  <a:lnTo>
                    <a:pt x="899" y="1107"/>
                  </a:lnTo>
                  <a:lnTo>
                    <a:pt x="876" y="1130"/>
                  </a:lnTo>
                  <a:lnTo>
                    <a:pt x="864" y="1181"/>
                  </a:lnTo>
                  <a:lnTo>
                    <a:pt x="799" y="1181"/>
                  </a:lnTo>
                  <a:lnTo>
                    <a:pt x="790" y="1105"/>
                  </a:lnTo>
                  <a:lnTo>
                    <a:pt x="797" y="1105"/>
                  </a:lnTo>
                  <a:lnTo>
                    <a:pt x="803" y="1105"/>
                  </a:lnTo>
                  <a:lnTo>
                    <a:pt x="808" y="1105"/>
                  </a:lnTo>
                  <a:lnTo>
                    <a:pt x="812" y="1104"/>
                  </a:lnTo>
                  <a:lnTo>
                    <a:pt x="804" y="985"/>
                  </a:lnTo>
                  <a:lnTo>
                    <a:pt x="806" y="991"/>
                  </a:lnTo>
                  <a:lnTo>
                    <a:pt x="811" y="1003"/>
                  </a:lnTo>
                  <a:lnTo>
                    <a:pt x="817" y="1021"/>
                  </a:lnTo>
                  <a:lnTo>
                    <a:pt x="825" y="1041"/>
                  </a:lnTo>
                  <a:lnTo>
                    <a:pt x="832" y="1059"/>
                  </a:lnTo>
                  <a:lnTo>
                    <a:pt x="840" y="1076"/>
                  </a:lnTo>
                  <a:lnTo>
                    <a:pt x="845" y="1088"/>
                  </a:lnTo>
                  <a:lnTo>
                    <a:pt x="848" y="1094"/>
                  </a:lnTo>
                  <a:lnTo>
                    <a:pt x="854" y="1089"/>
                  </a:lnTo>
                  <a:lnTo>
                    <a:pt x="862" y="1085"/>
                  </a:lnTo>
                  <a:lnTo>
                    <a:pt x="869" y="1081"/>
                  </a:lnTo>
                  <a:lnTo>
                    <a:pt x="871" y="1080"/>
                  </a:lnTo>
                  <a:lnTo>
                    <a:pt x="870" y="1074"/>
                  </a:lnTo>
                  <a:lnTo>
                    <a:pt x="868" y="1069"/>
                  </a:lnTo>
                  <a:lnTo>
                    <a:pt x="864" y="1065"/>
                  </a:lnTo>
                  <a:lnTo>
                    <a:pt x="862" y="1064"/>
                  </a:lnTo>
                  <a:lnTo>
                    <a:pt x="904" y="1049"/>
                  </a:lnTo>
                  <a:lnTo>
                    <a:pt x="908" y="1043"/>
                  </a:lnTo>
                  <a:lnTo>
                    <a:pt x="914" y="1034"/>
                  </a:lnTo>
                  <a:lnTo>
                    <a:pt x="920" y="1024"/>
                  </a:lnTo>
                  <a:lnTo>
                    <a:pt x="922" y="1018"/>
                  </a:lnTo>
                  <a:lnTo>
                    <a:pt x="917" y="1016"/>
                  </a:lnTo>
                  <a:lnTo>
                    <a:pt x="906" y="1013"/>
                  </a:lnTo>
                  <a:lnTo>
                    <a:pt x="892" y="1008"/>
                  </a:lnTo>
                  <a:lnTo>
                    <a:pt x="877" y="1002"/>
                  </a:lnTo>
                  <a:lnTo>
                    <a:pt x="863" y="998"/>
                  </a:lnTo>
                  <a:lnTo>
                    <a:pt x="849" y="994"/>
                  </a:lnTo>
                  <a:lnTo>
                    <a:pt x="839" y="991"/>
                  </a:lnTo>
                  <a:lnTo>
                    <a:pt x="832" y="990"/>
                  </a:lnTo>
                  <a:lnTo>
                    <a:pt x="824" y="972"/>
                  </a:lnTo>
                  <a:lnTo>
                    <a:pt x="833" y="971"/>
                  </a:lnTo>
                  <a:lnTo>
                    <a:pt x="848" y="971"/>
                  </a:lnTo>
                  <a:lnTo>
                    <a:pt x="867" y="970"/>
                  </a:lnTo>
                  <a:lnTo>
                    <a:pt x="886" y="969"/>
                  </a:lnTo>
                  <a:lnTo>
                    <a:pt x="905" y="968"/>
                  </a:lnTo>
                  <a:lnTo>
                    <a:pt x="922" y="968"/>
                  </a:lnTo>
                  <a:lnTo>
                    <a:pt x="933" y="966"/>
                  </a:lnTo>
                  <a:lnTo>
                    <a:pt x="937" y="966"/>
                  </a:lnTo>
                  <a:lnTo>
                    <a:pt x="936" y="959"/>
                  </a:lnTo>
                  <a:lnTo>
                    <a:pt x="933" y="949"/>
                  </a:lnTo>
                  <a:lnTo>
                    <a:pt x="929" y="939"/>
                  </a:lnTo>
                  <a:lnTo>
                    <a:pt x="927" y="933"/>
                  </a:lnTo>
                  <a:lnTo>
                    <a:pt x="875" y="948"/>
                  </a:lnTo>
                  <a:lnTo>
                    <a:pt x="852" y="908"/>
                  </a:lnTo>
                  <a:lnTo>
                    <a:pt x="855" y="907"/>
                  </a:lnTo>
                  <a:lnTo>
                    <a:pt x="861" y="904"/>
                  </a:lnTo>
                  <a:lnTo>
                    <a:pt x="869" y="899"/>
                  </a:lnTo>
                  <a:lnTo>
                    <a:pt x="877" y="895"/>
                  </a:lnTo>
                  <a:lnTo>
                    <a:pt x="884" y="890"/>
                  </a:lnTo>
                  <a:lnTo>
                    <a:pt x="891" y="885"/>
                  </a:lnTo>
                  <a:lnTo>
                    <a:pt x="894" y="881"/>
                  </a:lnTo>
                  <a:lnTo>
                    <a:pt x="896" y="877"/>
                  </a:lnTo>
                  <a:lnTo>
                    <a:pt x="891" y="868"/>
                  </a:lnTo>
                  <a:lnTo>
                    <a:pt x="884" y="860"/>
                  </a:lnTo>
                  <a:lnTo>
                    <a:pt x="876" y="854"/>
                  </a:lnTo>
                  <a:lnTo>
                    <a:pt x="867" y="852"/>
                  </a:lnTo>
                  <a:lnTo>
                    <a:pt x="805" y="948"/>
                  </a:lnTo>
                  <a:lnTo>
                    <a:pt x="852" y="908"/>
                  </a:lnTo>
                  <a:lnTo>
                    <a:pt x="875" y="948"/>
                  </a:lnTo>
                  <a:lnTo>
                    <a:pt x="824" y="972"/>
                  </a:lnTo>
                  <a:lnTo>
                    <a:pt x="832" y="990"/>
                  </a:lnTo>
                  <a:lnTo>
                    <a:pt x="904" y="1049"/>
                  </a:lnTo>
                  <a:lnTo>
                    <a:pt x="862" y="1064"/>
                  </a:lnTo>
                  <a:lnTo>
                    <a:pt x="859" y="1060"/>
                  </a:lnTo>
                  <a:lnTo>
                    <a:pt x="852" y="1052"/>
                  </a:lnTo>
                  <a:lnTo>
                    <a:pt x="843" y="1039"/>
                  </a:lnTo>
                  <a:lnTo>
                    <a:pt x="833" y="1024"/>
                  </a:lnTo>
                  <a:lnTo>
                    <a:pt x="824" y="1010"/>
                  </a:lnTo>
                  <a:lnTo>
                    <a:pt x="816" y="998"/>
                  </a:lnTo>
                  <a:lnTo>
                    <a:pt x="809" y="988"/>
                  </a:lnTo>
                  <a:lnTo>
                    <a:pt x="804" y="985"/>
                  </a:lnTo>
                  <a:lnTo>
                    <a:pt x="812" y="1104"/>
                  </a:lnTo>
                  <a:lnTo>
                    <a:pt x="809" y="1085"/>
                  </a:lnTo>
                  <a:lnTo>
                    <a:pt x="802" y="1052"/>
                  </a:lnTo>
                  <a:lnTo>
                    <a:pt x="795" y="1017"/>
                  </a:lnTo>
                  <a:lnTo>
                    <a:pt x="789" y="993"/>
                  </a:lnTo>
                  <a:lnTo>
                    <a:pt x="770" y="995"/>
                  </a:lnTo>
                  <a:lnTo>
                    <a:pt x="747" y="1014"/>
                  </a:lnTo>
                  <a:lnTo>
                    <a:pt x="765" y="979"/>
                  </a:lnTo>
                  <a:lnTo>
                    <a:pt x="726" y="973"/>
                  </a:lnTo>
                  <a:lnTo>
                    <a:pt x="725" y="952"/>
                  </a:lnTo>
                  <a:lnTo>
                    <a:pt x="729" y="952"/>
                  </a:lnTo>
                  <a:lnTo>
                    <a:pt x="733" y="954"/>
                  </a:lnTo>
                  <a:lnTo>
                    <a:pt x="738" y="955"/>
                  </a:lnTo>
                  <a:lnTo>
                    <a:pt x="745" y="956"/>
                  </a:lnTo>
                  <a:lnTo>
                    <a:pt x="751" y="957"/>
                  </a:lnTo>
                  <a:lnTo>
                    <a:pt x="755" y="958"/>
                  </a:lnTo>
                  <a:lnTo>
                    <a:pt x="760" y="959"/>
                  </a:lnTo>
                  <a:lnTo>
                    <a:pt x="763" y="961"/>
                  </a:lnTo>
                  <a:lnTo>
                    <a:pt x="759" y="957"/>
                  </a:lnTo>
                  <a:lnTo>
                    <a:pt x="747" y="951"/>
                  </a:lnTo>
                  <a:lnTo>
                    <a:pt x="731" y="943"/>
                  </a:lnTo>
                  <a:lnTo>
                    <a:pt x="712" y="934"/>
                  </a:lnTo>
                  <a:lnTo>
                    <a:pt x="693" y="925"/>
                  </a:lnTo>
                  <a:lnTo>
                    <a:pt x="676" y="917"/>
                  </a:lnTo>
                  <a:lnTo>
                    <a:pt x="665" y="911"/>
                  </a:lnTo>
                  <a:lnTo>
                    <a:pt x="660" y="908"/>
                  </a:lnTo>
                  <a:lnTo>
                    <a:pt x="685" y="871"/>
                  </a:lnTo>
                  <a:lnTo>
                    <a:pt x="692" y="875"/>
                  </a:lnTo>
                  <a:lnTo>
                    <a:pt x="702" y="884"/>
                  </a:lnTo>
                  <a:lnTo>
                    <a:pt x="716" y="895"/>
                  </a:lnTo>
                  <a:lnTo>
                    <a:pt x="732" y="907"/>
                  </a:lnTo>
                  <a:lnTo>
                    <a:pt x="747" y="920"/>
                  </a:lnTo>
                  <a:lnTo>
                    <a:pt x="760" y="930"/>
                  </a:lnTo>
                  <a:lnTo>
                    <a:pt x="769" y="937"/>
                  </a:lnTo>
                  <a:lnTo>
                    <a:pt x="773" y="940"/>
                  </a:lnTo>
                  <a:lnTo>
                    <a:pt x="715" y="847"/>
                  </a:lnTo>
                  <a:lnTo>
                    <a:pt x="768" y="826"/>
                  </a:lnTo>
                  <a:lnTo>
                    <a:pt x="790" y="941"/>
                  </a:lnTo>
                  <a:lnTo>
                    <a:pt x="811" y="826"/>
                  </a:lnTo>
                  <a:lnTo>
                    <a:pt x="805" y="825"/>
                  </a:lnTo>
                  <a:lnTo>
                    <a:pt x="799" y="825"/>
                  </a:lnTo>
                  <a:lnTo>
                    <a:pt x="794" y="824"/>
                  </a:lnTo>
                  <a:lnTo>
                    <a:pt x="788" y="824"/>
                  </a:lnTo>
                  <a:lnTo>
                    <a:pt x="782" y="825"/>
                  </a:lnTo>
                  <a:lnTo>
                    <a:pt x="777" y="825"/>
                  </a:lnTo>
                  <a:lnTo>
                    <a:pt x="773" y="826"/>
                  </a:lnTo>
                  <a:lnTo>
                    <a:pt x="768" y="826"/>
                  </a:lnTo>
                  <a:lnTo>
                    <a:pt x="715" y="847"/>
                  </a:lnTo>
                  <a:lnTo>
                    <a:pt x="707" y="853"/>
                  </a:lnTo>
                  <a:lnTo>
                    <a:pt x="696" y="860"/>
                  </a:lnTo>
                  <a:lnTo>
                    <a:pt x="688" y="867"/>
                  </a:lnTo>
                  <a:lnTo>
                    <a:pt x="685" y="871"/>
                  </a:lnTo>
                  <a:lnTo>
                    <a:pt x="660" y="908"/>
                  </a:lnTo>
                  <a:lnTo>
                    <a:pt x="658" y="914"/>
                  </a:lnTo>
                  <a:lnTo>
                    <a:pt x="656" y="922"/>
                  </a:lnTo>
                  <a:lnTo>
                    <a:pt x="653" y="932"/>
                  </a:lnTo>
                  <a:lnTo>
                    <a:pt x="651" y="940"/>
                  </a:lnTo>
                  <a:lnTo>
                    <a:pt x="654" y="940"/>
                  </a:lnTo>
                  <a:lnTo>
                    <a:pt x="661" y="942"/>
                  </a:lnTo>
                  <a:lnTo>
                    <a:pt x="673" y="943"/>
                  </a:lnTo>
                  <a:lnTo>
                    <a:pt x="687" y="946"/>
                  </a:lnTo>
                  <a:lnTo>
                    <a:pt x="700" y="949"/>
                  </a:lnTo>
                  <a:lnTo>
                    <a:pt x="711" y="950"/>
                  </a:lnTo>
                  <a:lnTo>
                    <a:pt x="721" y="952"/>
                  </a:lnTo>
                  <a:lnTo>
                    <a:pt x="725" y="952"/>
                  </a:lnTo>
                  <a:lnTo>
                    <a:pt x="726" y="973"/>
                  </a:lnTo>
                  <a:lnTo>
                    <a:pt x="719" y="972"/>
                  </a:lnTo>
                  <a:lnTo>
                    <a:pt x="708" y="972"/>
                  </a:lnTo>
                  <a:lnTo>
                    <a:pt x="696" y="972"/>
                  </a:lnTo>
                  <a:lnTo>
                    <a:pt x="682" y="973"/>
                  </a:lnTo>
                  <a:lnTo>
                    <a:pt x="670" y="973"/>
                  </a:lnTo>
                  <a:lnTo>
                    <a:pt x="659" y="974"/>
                  </a:lnTo>
                  <a:lnTo>
                    <a:pt x="651" y="974"/>
                  </a:lnTo>
                  <a:lnTo>
                    <a:pt x="649" y="974"/>
                  </a:lnTo>
                  <a:lnTo>
                    <a:pt x="650" y="981"/>
                  </a:lnTo>
                  <a:lnTo>
                    <a:pt x="652" y="988"/>
                  </a:lnTo>
                  <a:lnTo>
                    <a:pt x="654" y="995"/>
                  </a:lnTo>
                  <a:lnTo>
                    <a:pt x="656" y="1002"/>
                  </a:lnTo>
                  <a:lnTo>
                    <a:pt x="765" y="979"/>
                  </a:lnTo>
                  <a:lnTo>
                    <a:pt x="747" y="1014"/>
                  </a:lnTo>
                  <a:lnTo>
                    <a:pt x="740" y="1017"/>
                  </a:lnTo>
                  <a:lnTo>
                    <a:pt x="732" y="1023"/>
                  </a:lnTo>
                  <a:lnTo>
                    <a:pt x="723" y="1031"/>
                  </a:lnTo>
                  <a:lnTo>
                    <a:pt x="712" y="1039"/>
                  </a:lnTo>
                  <a:lnTo>
                    <a:pt x="703" y="1046"/>
                  </a:lnTo>
                  <a:lnTo>
                    <a:pt x="694" y="1053"/>
                  </a:lnTo>
                  <a:lnTo>
                    <a:pt x="688" y="1058"/>
                  </a:lnTo>
                  <a:lnTo>
                    <a:pt x="685" y="1059"/>
                  </a:lnTo>
                  <a:lnTo>
                    <a:pt x="688" y="1065"/>
                  </a:lnTo>
                  <a:lnTo>
                    <a:pt x="693" y="1069"/>
                  </a:lnTo>
                  <a:lnTo>
                    <a:pt x="699" y="1074"/>
                  </a:lnTo>
                  <a:lnTo>
                    <a:pt x="704" y="1079"/>
                  </a:lnTo>
                  <a:lnTo>
                    <a:pt x="710" y="1082"/>
                  </a:lnTo>
                  <a:lnTo>
                    <a:pt x="715" y="1085"/>
                  </a:lnTo>
                  <a:lnTo>
                    <a:pt x="718" y="1087"/>
                  </a:lnTo>
                  <a:lnTo>
                    <a:pt x="719" y="1088"/>
                  </a:lnTo>
                  <a:lnTo>
                    <a:pt x="723" y="1086"/>
                  </a:lnTo>
                  <a:lnTo>
                    <a:pt x="730" y="1078"/>
                  </a:lnTo>
                  <a:lnTo>
                    <a:pt x="737" y="1064"/>
                  </a:lnTo>
                  <a:lnTo>
                    <a:pt x="745" y="1047"/>
                  </a:lnTo>
                  <a:lnTo>
                    <a:pt x="753" y="1031"/>
                  </a:lnTo>
                  <a:lnTo>
                    <a:pt x="760" y="1015"/>
                  </a:lnTo>
                  <a:lnTo>
                    <a:pt x="767" y="1002"/>
                  </a:lnTo>
                  <a:lnTo>
                    <a:pt x="770" y="995"/>
                  </a:lnTo>
                  <a:lnTo>
                    <a:pt x="789" y="993"/>
                  </a:lnTo>
                  <a:lnTo>
                    <a:pt x="785" y="1013"/>
                  </a:lnTo>
                  <a:lnTo>
                    <a:pt x="780" y="1049"/>
                  </a:lnTo>
                  <a:lnTo>
                    <a:pt x="774" y="1085"/>
                  </a:lnTo>
                  <a:lnTo>
                    <a:pt x="773" y="1104"/>
                  </a:lnTo>
                  <a:lnTo>
                    <a:pt x="777" y="1104"/>
                  </a:lnTo>
                  <a:lnTo>
                    <a:pt x="782" y="1104"/>
                  </a:lnTo>
                  <a:lnTo>
                    <a:pt x="785" y="1105"/>
                  </a:lnTo>
                  <a:lnTo>
                    <a:pt x="790" y="1105"/>
                  </a:lnTo>
                  <a:lnTo>
                    <a:pt x="799" y="1181"/>
                  </a:lnTo>
                  <a:lnTo>
                    <a:pt x="752" y="1181"/>
                  </a:lnTo>
                  <a:lnTo>
                    <a:pt x="707" y="1130"/>
                  </a:lnTo>
                  <a:lnTo>
                    <a:pt x="704" y="1129"/>
                  </a:lnTo>
                  <a:lnTo>
                    <a:pt x="700" y="1124"/>
                  </a:lnTo>
                  <a:lnTo>
                    <a:pt x="693" y="1118"/>
                  </a:lnTo>
                  <a:lnTo>
                    <a:pt x="683" y="1109"/>
                  </a:lnTo>
                  <a:lnTo>
                    <a:pt x="674" y="1100"/>
                  </a:lnTo>
                  <a:lnTo>
                    <a:pt x="665" y="1088"/>
                  </a:lnTo>
                  <a:lnTo>
                    <a:pt x="658" y="1076"/>
                  </a:lnTo>
                  <a:lnTo>
                    <a:pt x="652" y="1064"/>
                  </a:lnTo>
                  <a:lnTo>
                    <a:pt x="646" y="1069"/>
                  </a:lnTo>
                  <a:lnTo>
                    <a:pt x="644" y="1076"/>
                  </a:lnTo>
                  <a:lnTo>
                    <a:pt x="642" y="1086"/>
                  </a:lnTo>
                  <a:lnTo>
                    <a:pt x="639" y="1093"/>
                  </a:lnTo>
                  <a:lnTo>
                    <a:pt x="631" y="1096"/>
                  </a:lnTo>
                  <a:lnTo>
                    <a:pt x="614" y="1098"/>
                  </a:lnTo>
                  <a:lnTo>
                    <a:pt x="590" y="1100"/>
                  </a:lnTo>
                  <a:lnTo>
                    <a:pt x="562" y="1101"/>
                  </a:lnTo>
                  <a:lnTo>
                    <a:pt x="532" y="1102"/>
                  </a:lnTo>
                  <a:lnTo>
                    <a:pt x="501" y="1102"/>
                  </a:lnTo>
                  <a:lnTo>
                    <a:pt x="476" y="1102"/>
                  </a:lnTo>
                  <a:lnTo>
                    <a:pt x="455" y="1102"/>
                  </a:lnTo>
                  <a:lnTo>
                    <a:pt x="448" y="1110"/>
                  </a:lnTo>
                  <a:lnTo>
                    <a:pt x="441" y="1117"/>
                  </a:lnTo>
                  <a:lnTo>
                    <a:pt x="433" y="1124"/>
                  </a:lnTo>
                  <a:lnTo>
                    <a:pt x="425" y="1130"/>
                  </a:lnTo>
                  <a:lnTo>
                    <a:pt x="707" y="1130"/>
                  </a:lnTo>
                  <a:lnTo>
                    <a:pt x="752" y="1181"/>
                  </a:lnTo>
                  <a:lnTo>
                    <a:pt x="734" y="1181"/>
                  </a:lnTo>
                  <a:lnTo>
                    <a:pt x="704" y="1182"/>
                  </a:lnTo>
                  <a:lnTo>
                    <a:pt x="664" y="1182"/>
                  </a:lnTo>
                  <a:lnTo>
                    <a:pt x="614" y="1182"/>
                  </a:lnTo>
                  <a:lnTo>
                    <a:pt x="557" y="1182"/>
                  </a:lnTo>
                  <a:lnTo>
                    <a:pt x="496" y="1182"/>
                  </a:lnTo>
                  <a:lnTo>
                    <a:pt x="431" y="1182"/>
                  </a:lnTo>
                  <a:lnTo>
                    <a:pt x="365" y="1182"/>
                  </a:lnTo>
                  <a:lnTo>
                    <a:pt x="298" y="1182"/>
                  </a:lnTo>
                  <a:lnTo>
                    <a:pt x="236" y="1182"/>
                  </a:lnTo>
                  <a:lnTo>
                    <a:pt x="177" y="1181"/>
                  </a:lnTo>
                  <a:lnTo>
                    <a:pt x="125" y="1181"/>
                  </a:lnTo>
                  <a:lnTo>
                    <a:pt x="80" y="1181"/>
                  </a:lnTo>
                  <a:lnTo>
                    <a:pt x="47" y="1181"/>
                  </a:lnTo>
                  <a:lnTo>
                    <a:pt x="26" y="1181"/>
                  </a:lnTo>
                  <a:lnTo>
                    <a:pt x="18" y="1181"/>
                  </a:lnTo>
                  <a:lnTo>
                    <a:pt x="18" y="1130"/>
                  </a:lnTo>
                  <a:lnTo>
                    <a:pt x="253" y="1130"/>
                  </a:lnTo>
                  <a:lnTo>
                    <a:pt x="245" y="1122"/>
                  </a:lnTo>
                  <a:lnTo>
                    <a:pt x="238" y="1113"/>
                  </a:lnTo>
                  <a:lnTo>
                    <a:pt x="230" y="1105"/>
                  </a:lnTo>
                  <a:lnTo>
                    <a:pt x="223" y="1097"/>
                  </a:lnTo>
                  <a:lnTo>
                    <a:pt x="216" y="1089"/>
                  </a:lnTo>
                  <a:lnTo>
                    <a:pt x="210" y="1080"/>
                  </a:lnTo>
                  <a:lnTo>
                    <a:pt x="205" y="1071"/>
                  </a:lnTo>
                  <a:lnTo>
                    <a:pt x="201" y="1061"/>
                  </a:lnTo>
                  <a:lnTo>
                    <a:pt x="189" y="1037"/>
                  </a:lnTo>
                  <a:lnTo>
                    <a:pt x="184" y="1008"/>
                  </a:lnTo>
                  <a:lnTo>
                    <a:pt x="180" y="979"/>
                  </a:lnTo>
                  <a:lnTo>
                    <a:pt x="178" y="957"/>
                  </a:lnTo>
                  <a:lnTo>
                    <a:pt x="210" y="948"/>
                  </a:lnTo>
                  <a:lnTo>
                    <a:pt x="213" y="956"/>
                  </a:lnTo>
                  <a:lnTo>
                    <a:pt x="214" y="980"/>
                  </a:lnTo>
                  <a:lnTo>
                    <a:pt x="214" y="986"/>
                  </a:lnTo>
                  <a:lnTo>
                    <a:pt x="216" y="993"/>
                  </a:lnTo>
                  <a:lnTo>
                    <a:pt x="218" y="999"/>
                  </a:lnTo>
                  <a:lnTo>
                    <a:pt x="221" y="1003"/>
                  </a:lnTo>
                  <a:lnTo>
                    <a:pt x="227" y="1002"/>
                  </a:lnTo>
                  <a:lnTo>
                    <a:pt x="234" y="1001"/>
                  </a:lnTo>
                  <a:lnTo>
                    <a:pt x="242" y="999"/>
                  </a:lnTo>
                  <a:lnTo>
                    <a:pt x="250" y="996"/>
                  </a:lnTo>
                  <a:lnTo>
                    <a:pt x="257" y="994"/>
                  </a:lnTo>
                  <a:lnTo>
                    <a:pt x="264" y="992"/>
                  </a:lnTo>
                  <a:lnTo>
                    <a:pt x="269" y="990"/>
                  </a:lnTo>
                  <a:lnTo>
                    <a:pt x="273" y="986"/>
                  </a:lnTo>
                  <a:lnTo>
                    <a:pt x="288" y="1014"/>
                  </a:lnTo>
                  <a:lnTo>
                    <a:pt x="281" y="1015"/>
                  </a:lnTo>
                  <a:lnTo>
                    <a:pt x="273" y="1016"/>
                  </a:lnTo>
                  <a:lnTo>
                    <a:pt x="265" y="1017"/>
                  </a:lnTo>
                  <a:lnTo>
                    <a:pt x="257" y="1020"/>
                  </a:lnTo>
                  <a:lnTo>
                    <a:pt x="247" y="1022"/>
                  </a:lnTo>
                  <a:lnTo>
                    <a:pt x="241" y="1024"/>
                  </a:lnTo>
                  <a:lnTo>
                    <a:pt x="232" y="1027"/>
                  </a:lnTo>
                  <a:lnTo>
                    <a:pt x="225" y="1029"/>
                  </a:lnTo>
                  <a:lnTo>
                    <a:pt x="227" y="1037"/>
                  </a:lnTo>
                  <a:lnTo>
                    <a:pt x="229" y="1044"/>
                  </a:lnTo>
                  <a:lnTo>
                    <a:pt x="231" y="1050"/>
                  </a:lnTo>
                  <a:lnTo>
                    <a:pt x="237" y="1056"/>
                  </a:lnTo>
                  <a:lnTo>
                    <a:pt x="252" y="1079"/>
                  </a:lnTo>
                  <a:lnTo>
                    <a:pt x="256" y="1083"/>
                  </a:lnTo>
                  <a:lnTo>
                    <a:pt x="264" y="1090"/>
                  </a:lnTo>
                  <a:lnTo>
                    <a:pt x="274" y="1097"/>
                  </a:lnTo>
                  <a:lnTo>
                    <a:pt x="283" y="1104"/>
                  </a:lnTo>
                  <a:lnTo>
                    <a:pt x="323" y="1120"/>
                  </a:lnTo>
                  <a:lnTo>
                    <a:pt x="327" y="1120"/>
                  </a:lnTo>
                  <a:lnTo>
                    <a:pt x="332" y="1120"/>
                  </a:lnTo>
                  <a:lnTo>
                    <a:pt x="338" y="1120"/>
                  </a:lnTo>
                  <a:lnTo>
                    <a:pt x="344" y="1120"/>
                  </a:lnTo>
                  <a:lnTo>
                    <a:pt x="349" y="1119"/>
                  </a:lnTo>
                  <a:lnTo>
                    <a:pt x="355" y="1118"/>
                  </a:lnTo>
                  <a:lnTo>
                    <a:pt x="359" y="1116"/>
                  </a:lnTo>
                  <a:lnTo>
                    <a:pt x="361" y="1112"/>
                  </a:lnTo>
                  <a:lnTo>
                    <a:pt x="356" y="1104"/>
                  </a:lnTo>
                  <a:lnTo>
                    <a:pt x="351" y="1096"/>
                  </a:lnTo>
                  <a:lnTo>
                    <a:pt x="344" y="1090"/>
                  </a:lnTo>
                  <a:lnTo>
                    <a:pt x="337" y="1085"/>
                  </a:lnTo>
                  <a:lnTo>
                    <a:pt x="333" y="1093"/>
                  </a:lnTo>
                  <a:lnTo>
                    <a:pt x="329" y="1104"/>
                  </a:lnTo>
                  <a:lnTo>
                    <a:pt x="325" y="1116"/>
                  </a:lnTo>
                  <a:lnTo>
                    <a:pt x="323" y="1120"/>
                  </a:lnTo>
                  <a:lnTo>
                    <a:pt x="283" y="1104"/>
                  </a:lnTo>
                  <a:lnTo>
                    <a:pt x="290" y="1089"/>
                  </a:lnTo>
                  <a:lnTo>
                    <a:pt x="300" y="1073"/>
                  </a:lnTo>
                  <a:lnTo>
                    <a:pt x="305" y="1056"/>
                  </a:lnTo>
                  <a:lnTo>
                    <a:pt x="308" y="1039"/>
                  </a:lnTo>
                  <a:lnTo>
                    <a:pt x="301" y="1043"/>
                  </a:lnTo>
                  <a:lnTo>
                    <a:pt x="293" y="1049"/>
                  </a:lnTo>
                  <a:lnTo>
                    <a:pt x="285" y="1054"/>
                  </a:lnTo>
                  <a:lnTo>
                    <a:pt x="275" y="1061"/>
                  </a:lnTo>
                  <a:lnTo>
                    <a:pt x="266" y="1067"/>
                  </a:lnTo>
                  <a:lnTo>
                    <a:pt x="259" y="1073"/>
                  </a:lnTo>
                  <a:lnTo>
                    <a:pt x="254" y="1076"/>
                  </a:lnTo>
                  <a:lnTo>
                    <a:pt x="252" y="1079"/>
                  </a:lnTo>
                  <a:lnTo>
                    <a:pt x="237" y="1056"/>
                  </a:lnTo>
                  <a:lnTo>
                    <a:pt x="243" y="1051"/>
                  </a:lnTo>
                  <a:lnTo>
                    <a:pt x="249" y="1047"/>
                  </a:lnTo>
                  <a:lnTo>
                    <a:pt x="256" y="1043"/>
                  </a:lnTo>
                  <a:lnTo>
                    <a:pt x="263" y="1038"/>
                  </a:lnTo>
                  <a:lnTo>
                    <a:pt x="269" y="1034"/>
                  </a:lnTo>
                  <a:lnTo>
                    <a:pt x="276" y="1028"/>
                  </a:lnTo>
                  <a:lnTo>
                    <a:pt x="282" y="1023"/>
                  </a:lnTo>
                  <a:lnTo>
                    <a:pt x="288" y="1018"/>
                  </a:lnTo>
                  <a:lnTo>
                    <a:pt x="288" y="1014"/>
                  </a:lnTo>
                  <a:lnTo>
                    <a:pt x="273" y="986"/>
                  </a:lnTo>
                  <a:lnTo>
                    <a:pt x="267" y="985"/>
                  </a:lnTo>
                  <a:lnTo>
                    <a:pt x="260" y="983"/>
                  </a:lnTo>
                  <a:lnTo>
                    <a:pt x="252" y="981"/>
                  </a:lnTo>
                  <a:lnTo>
                    <a:pt x="244" y="980"/>
                  </a:lnTo>
                  <a:lnTo>
                    <a:pt x="235" y="980"/>
                  </a:lnTo>
                  <a:lnTo>
                    <a:pt x="227" y="979"/>
                  </a:lnTo>
                  <a:lnTo>
                    <a:pt x="220" y="979"/>
                  </a:lnTo>
                  <a:lnTo>
                    <a:pt x="214" y="980"/>
                  </a:lnTo>
                  <a:lnTo>
                    <a:pt x="213" y="956"/>
                  </a:lnTo>
                  <a:lnTo>
                    <a:pt x="217" y="957"/>
                  </a:lnTo>
                  <a:lnTo>
                    <a:pt x="225" y="956"/>
                  </a:lnTo>
                  <a:lnTo>
                    <a:pt x="235" y="954"/>
                  </a:lnTo>
                  <a:lnTo>
                    <a:pt x="244" y="950"/>
                  </a:lnTo>
                  <a:lnTo>
                    <a:pt x="253" y="947"/>
                  </a:lnTo>
                  <a:lnTo>
                    <a:pt x="261" y="942"/>
                  </a:lnTo>
                  <a:lnTo>
                    <a:pt x="267" y="939"/>
                  </a:lnTo>
                  <a:lnTo>
                    <a:pt x="269" y="935"/>
                  </a:lnTo>
                  <a:lnTo>
                    <a:pt x="210" y="937"/>
                  </a:lnTo>
                  <a:lnTo>
                    <a:pt x="210" y="948"/>
                  </a:lnTo>
                  <a:lnTo>
                    <a:pt x="178" y="957"/>
                  </a:lnTo>
                  <a:lnTo>
                    <a:pt x="152" y="956"/>
                  </a:lnTo>
                  <a:lnTo>
                    <a:pt x="145" y="964"/>
                  </a:lnTo>
                  <a:lnTo>
                    <a:pt x="135" y="970"/>
                  </a:lnTo>
                  <a:lnTo>
                    <a:pt x="125" y="973"/>
                  </a:lnTo>
                  <a:lnTo>
                    <a:pt x="120" y="974"/>
                  </a:lnTo>
                  <a:lnTo>
                    <a:pt x="122" y="1061"/>
                  </a:lnTo>
                  <a:lnTo>
                    <a:pt x="87" y="1065"/>
                  </a:lnTo>
                  <a:lnTo>
                    <a:pt x="87" y="1046"/>
                  </a:lnTo>
                  <a:lnTo>
                    <a:pt x="86" y="1007"/>
                  </a:lnTo>
                  <a:lnTo>
                    <a:pt x="85" y="965"/>
                  </a:lnTo>
                  <a:lnTo>
                    <a:pt x="86" y="946"/>
                  </a:lnTo>
                  <a:lnTo>
                    <a:pt x="96" y="940"/>
                  </a:lnTo>
                  <a:lnTo>
                    <a:pt x="103" y="933"/>
                  </a:lnTo>
                  <a:lnTo>
                    <a:pt x="108" y="923"/>
                  </a:lnTo>
                  <a:lnTo>
                    <a:pt x="108" y="913"/>
                  </a:lnTo>
                  <a:lnTo>
                    <a:pt x="109" y="847"/>
                  </a:lnTo>
                  <a:lnTo>
                    <a:pt x="111" y="699"/>
                  </a:lnTo>
                  <a:lnTo>
                    <a:pt x="111" y="545"/>
                  </a:lnTo>
                  <a:lnTo>
                    <a:pt x="108" y="461"/>
                  </a:lnTo>
                  <a:lnTo>
                    <a:pt x="162" y="457"/>
                  </a:lnTo>
                  <a:lnTo>
                    <a:pt x="159" y="493"/>
                  </a:lnTo>
                  <a:lnTo>
                    <a:pt x="160" y="540"/>
                  </a:lnTo>
                  <a:lnTo>
                    <a:pt x="163" y="582"/>
                  </a:lnTo>
                  <a:lnTo>
                    <a:pt x="164" y="599"/>
                  </a:lnTo>
                  <a:lnTo>
                    <a:pt x="173" y="600"/>
                  </a:lnTo>
                  <a:lnTo>
                    <a:pt x="184" y="600"/>
                  </a:lnTo>
                  <a:lnTo>
                    <a:pt x="193" y="600"/>
                  </a:lnTo>
                  <a:lnTo>
                    <a:pt x="202" y="600"/>
                  </a:lnTo>
                  <a:lnTo>
                    <a:pt x="212" y="599"/>
                  </a:lnTo>
                  <a:lnTo>
                    <a:pt x="221" y="599"/>
                  </a:lnTo>
                  <a:lnTo>
                    <a:pt x="231" y="599"/>
                  </a:lnTo>
                  <a:lnTo>
                    <a:pt x="241" y="599"/>
                  </a:lnTo>
                  <a:lnTo>
                    <a:pt x="241" y="457"/>
                  </a:lnTo>
                  <a:lnTo>
                    <a:pt x="304" y="457"/>
                  </a:lnTo>
                  <a:lnTo>
                    <a:pt x="307" y="484"/>
                  </a:lnTo>
                  <a:lnTo>
                    <a:pt x="305" y="512"/>
                  </a:lnTo>
                  <a:lnTo>
                    <a:pt x="305" y="540"/>
                  </a:lnTo>
                  <a:lnTo>
                    <a:pt x="307" y="566"/>
                  </a:lnTo>
                  <a:lnTo>
                    <a:pt x="309" y="563"/>
                  </a:lnTo>
                  <a:lnTo>
                    <a:pt x="314" y="556"/>
                  </a:lnTo>
                  <a:lnTo>
                    <a:pt x="319" y="547"/>
                  </a:lnTo>
                  <a:lnTo>
                    <a:pt x="327" y="537"/>
                  </a:lnTo>
                  <a:lnTo>
                    <a:pt x="336" y="526"/>
                  </a:lnTo>
                  <a:lnTo>
                    <a:pt x="345" y="517"/>
                  </a:lnTo>
                  <a:lnTo>
                    <a:pt x="355" y="511"/>
                  </a:lnTo>
                  <a:lnTo>
                    <a:pt x="366" y="5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5" name=""/>
          <p:cNvSpPr/>
          <p:nvPr/>
        </p:nvSpPr>
        <p:spPr>
          <a:xfrm>
            <a:off x="1143000" y="2743200"/>
            <a:ext cx="912960" cy="469800"/>
          </a:xfrm>
          <a:custGeom>
            <a:avLst/>
            <a:gdLst/>
            <a:ahLst/>
            <a:rect l="l" t="t" r="r" b="b"/>
            <a:pathLst>
              <a:path w="2301" h="1182">
                <a:moveTo>
                  <a:pt x="366" y="509"/>
                </a:moveTo>
                <a:lnTo>
                  <a:pt x="366" y="495"/>
                </a:lnTo>
                <a:lnTo>
                  <a:pt x="368" y="481"/>
                </a:lnTo>
                <a:lnTo>
                  <a:pt x="373" y="468"/>
                </a:lnTo>
                <a:lnTo>
                  <a:pt x="380" y="457"/>
                </a:lnTo>
                <a:lnTo>
                  <a:pt x="445" y="466"/>
                </a:lnTo>
                <a:lnTo>
                  <a:pt x="446" y="479"/>
                </a:lnTo>
                <a:lnTo>
                  <a:pt x="446" y="496"/>
                </a:lnTo>
                <a:lnTo>
                  <a:pt x="450" y="510"/>
                </a:lnTo>
                <a:lnTo>
                  <a:pt x="462" y="513"/>
                </a:lnTo>
                <a:lnTo>
                  <a:pt x="462" y="508"/>
                </a:lnTo>
                <a:lnTo>
                  <a:pt x="462" y="502"/>
                </a:lnTo>
                <a:lnTo>
                  <a:pt x="462" y="496"/>
                </a:lnTo>
                <a:lnTo>
                  <a:pt x="458" y="491"/>
                </a:lnTo>
                <a:lnTo>
                  <a:pt x="461" y="487"/>
                </a:lnTo>
                <a:lnTo>
                  <a:pt x="464" y="482"/>
                </a:lnTo>
                <a:lnTo>
                  <a:pt x="468" y="480"/>
                </a:lnTo>
                <a:lnTo>
                  <a:pt x="472" y="477"/>
                </a:lnTo>
                <a:lnTo>
                  <a:pt x="475" y="468"/>
                </a:lnTo>
                <a:lnTo>
                  <a:pt x="477" y="458"/>
                </a:lnTo>
                <a:lnTo>
                  <a:pt x="476" y="447"/>
                </a:lnTo>
                <a:lnTo>
                  <a:pt x="474" y="437"/>
                </a:lnTo>
                <a:lnTo>
                  <a:pt x="471" y="436"/>
                </a:lnTo>
                <a:lnTo>
                  <a:pt x="470" y="436"/>
                </a:lnTo>
                <a:lnTo>
                  <a:pt x="469" y="436"/>
                </a:lnTo>
                <a:lnTo>
                  <a:pt x="470" y="436"/>
                </a:lnTo>
                <a:lnTo>
                  <a:pt x="453" y="435"/>
                </a:lnTo>
                <a:lnTo>
                  <a:pt x="448" y="442"/>
                </a:lnTo>
                <a:lnTo>
                  <a:pt x="448" y="454"/>
                </a:lnTo>
                <a:lnTo>
                  <a:pt x="445" y="466"/>
                </a:lnTo>
                <a:lnTo>
                  <a:pt x="380" y="457"/>
                </a:lnTo>
                <a:lnTo>
                  <a:pt x="304" y="457"/>
                </a:lnTo>
                <a:lnTo>
                  <a:pt x="241" y="457"/>
                </a:lnTo>
                <a:lnTo>
                  <a:pt x="237" y="458"/>
                </a:lnTo>
                <a:lnTo>
                  <a:pt x="228" y="458"/>
                </a:lnTo>
                <a:lnTo>
                  <a:pt x="215" y="458"/>
                </a:lnTo>
                <a:lnTo>
                  <a:pt x="201" y="458"/>
                </a:lnTo>
                <a:lnTo>
                  <a:pt x="187" y="458"/>
                </a:lnTo>
                <a:lnTo>
                  <a:pt x="174" y="457"/>
                </a:lnTo>
                <a:lnTo>
                  <a:pt x="165" y="457"/>
                </a:lnTo>
                <a:lnTo>
                  <a:pt x="162" y="457"/>
                </a:lnTo>
                <a:lnTo>
                  <a:pt x="108" y="461"/>
                </a:lnTo>
                <a:lnTo>
                  <a:pt x="103" y="459"/>
                </a:lnTo>
                <a:lnTo>
                  <a:pt x="99" y="457"/>
                </a:lnTo>
                <a:lnTo>
                  <a:pt x="96" y="452"/>
                </a:lnTo>
                <a:lnTo>
                  <a:pt x="97" y="446"/>
                </a:lnTo>
                <a:lnTo>
                  <a:pt x="91" y="447"/>
                </a:lnTo>
                <a:lnTo>
                  <a:pt x="86" y="450"/>
                </a:lnTo>
                <a:lnTo>
                  <a:pt x="80" y="451"/>
                </a:lnTo>
                <a:lnTo>
                  <a:pt x="74" y="447"/>
                </a:lnTo>
                <a:lnTo>
                  <a:pt x="71" y="439"/>
                </a:lnTo>
                <a:lnTo>
                  <a:pt x="67" y="431"/>
                </a:lnTo>
                <a:lnTo>
                  <a:pt x="61" y="426"/>
                </a:lnTo>
                <a:lnTo>
                  <a:pt x="53" y="429"/>
                </a:lnTo>
                <a:lnTo>
                  <a:pt x="45" y="420"/>
                </a:lnTo>
                <a:lnTo>
                  <a:pt x="35" y="410"/>
                </a:lnTo>
                <a:lnTo>
                  <a:pt x="27" y="400"/>
                </a:lnTo>
                <a:lnTo>
                  <a:pt x="24" y="387"/>
                </a:lnTo>
                <a:lnTo>
                  <a:pt x="16" y="380"/>
                </a:lnTo>
                <a:lnTo>
                  <a:pt x="7" y="372"/>
                </a:lnTo>
                <a:lnTo>
                  <a:pt x="2" y="363"/>
                </a:lnTo>
                <a:lnTo>
                  <a:pt x="0" y="350"/>
                </a:lnTo>
                <a:lnTo>
                  <a:pt x="3" y="342"/>
                </a:lnTo>
                <a:lnTo>
                  <a:pt x="468" y="344"/>
                </a:lnTo>
                <a:lnTo>
                  <a:pt x="468" y="352"/>
                </a:lnTo>
                <a:lnTo>
                  <a:pt x="467" y="360"/>
                </a:lnTo>
                <a:lnTo>
                  <a:pt x="463" y="367"/>
                </a:lnTo>
                <a:lnTo>
                  <a:pt x="457" y="373"/>
                </a:lnTo>
                <a:lnTo>
                  <a:pt x="462" y="376"/>
                </a:lnTo>
                <a:lnTo>
                  <a:pt x="467" y="379"/>
                </a:lnTo>
                <a:lnTo>
                  <a:pt x="472" y="380"/>
                </a:lnTo>
                <a:lnTo>
                  <a:pt x="478" y="380"/>
                </a:lnTo>
                <a:lnTo>
                  <a:pt x="476" y="376"/>
                </a:lnTo>
                <a:lnTo>
                  <a:pt x="474" y="371"/>
                </a:lnTo>
                <a:lnTo>
                  <a:pt x="471" y="366"/>
                </a:lnTo>
                <a:lnTo>
                  <a:pt x="472" y="360"/>
                </a:lnTo>
                <a:lnTo>
                  <a:pt x="481" y="358"/>
                </a:lnTo>
                <a:lnTo>
                  <a:pt x="487" y="355"/>
                </a:lnTo>
                <a:lnTo>
                  <a:pt x="494" y="349"/>
                </a:lnTo>
                <a:lnTo>
                  <a:pt x="500" y="343"/>
                </a:lnTo>
                <a:lnTo>
                  <a:pt x="505" y="338"/>
                </a:lnTo>
                <a:lnTo>
                  <a:pt x="511" y="333"/>
                </a:lnTo>
                <a:lnTo>
                  <a:pt x="518" y="329"/>
                </a:lnTo>
                <a:lnTo>
                  <a:pt x="525" y="327"/>
                </a:lnTo>
                <a:lnTo>
                  <a:pt x="536" y="318"/>
                </a:lnTo>
                <a:lnTo>
                  <a:pt x="528" y="315"/>
                </a:lnTo>
                <a:lnTo>
                  <a:pt x="516" y="315"/>
                </a:lnTo>
                <a:lnTo>
                  <a:pt x="507" y="313"/>
                </a:lnTo>
                <a:lnTo>
                  <a:pt x="504" y="303"/>
                </a:lnTo>
                <a:lnTo>
                  <a:pt x="503" y="303"/>
                </a:lnTo>
                <a:lnTo>
                  <a:pt x="503" y="298"/>
                </a:lnTo>
                <a:lnTo>
                  <a:pt x="504" y="298"/>
                </a:lnTo>
                <a:lnTo>
                  <a:pt x="504" y="299"/>
                </a:lnTo>
                <a:lnTo>
                  <a:pt x="507" y="293"/>
                </a:lnTo>
                <a:lnTo>
                  <a:pt x="512" y="291"/>
                </a:lnTo>
                <a:lnTo>
                  <a:pt x="518" y="291"/>
                </a:lnTo>
                <a:lnTo>
                  <a:pt x="525" y="291"/>
                </a:lnTo>
                <a:lnTo>
                  <a:pt x="530" y="292"/>
                </a:lnTo>
                <a:lnTo>
                  <a:pt x="536" y="292"/>
                </a:lnTo>
                <a:lnTo>
                  <a:pt x="541" y="290"/>
                </a:lnTo>
                <a:lnTo>
                  <a:pt x="544" y="286"/>
                </a:lnTo>
                <a:lnTo>
                  <a:pt x="536" y="284"/>
                </a:lnTo>
                <a:lnTo>
                  <a:pt x="528" y="285"/>
                </a:lnTo>
                <a:lnTo>
                  <a:pt x="520" y="285"/>
                </a:lnTo>
                <a:lnTo>
                  <a:pt x="512" y="284"/>
                </a:lnTo>
                <a:lnTo>
                  <a:pt x="498" y="284"/>
                </a:lnTo>
                <a:lnTo>
                  <a:pt x="485" y="283"/>
                </a:lnTo>
                <a:lnTo>
                  <a:pt x="472" y="284"/>
                </a:lnTo>
                <a:lnTo>
                  <a:pt x="460" y="284"/>
                </a:lnTo>
                <a:lnTo>
                  <a:pt x="447" y="284"/>
                </a:lnTo>
                <a:lnTo>
                  <a:pt x="435" y="284"/>
                </a:lnTo>
                <a:lnTo>
                  <a:pt x="423" y="283"/>
                </a:lnTo>
                <a:lnTo>
                  <a:pt x="411" y="282"/>
                </a:lnTo>
                <a:lnTo>
                  <a:pt x="410" y="277"/>
                </a:lnTo>
                <a:lnTo>
                  <a:pt x="409" y="274"/>
                </a:lnTo>
                <a:lnTo>
                  <a:pt x="407" y="270"/>
                </a:lnTo>
                <a:lnTo>
                  <a:pt x="411" y="267"/>
                </a:lnTo>
                <a:lnTo>
                  <a:pt x="433" y="265"/>
                </a:lnTo>
                <a:lnTo>
                  <a:pt x="455" y="265"/>
                </a:lnTo>
                <a:lnTo>
                  <a:pt x="477" y="265"/>
                </a:lnTo>
                <a:lnTo>
                  <a:pt x="498" y="265"/>
                </a:lnTo>
                <a:lnTo>
                  <a:pt x="518" y="265"/>
                </a:lnTo>
                <a:lnTo>
                  <a:pt x="539" y="265"/>
                </a:lnTo>
                <a:lnTo>
                  <a:pt x="561" y="265"/>
                </a:lnTo>
                <a:lnTo>
                  <a:pt x="581" y="264"/>
                </a:lnTo>
                <a:lnTo>
                  <a:pt x="585" y="267"/>
                </a:lnTo>
                <a:lnTo>
                  <a:pt x="588" y="267"/>
                </a:lnTo>
                <a:lnTo>
                  <a:pt x="591" y="267"/>
                </a:lnTo>
                <a:lnTo>
                  <a:pt x="593" y="269"/>
                </a:lnTo>
                <a:lnTo>
                  <a:pt x="594" y="275"/>
                </a:lnTo>
                <a:lnTo>
                  <a:pt x="592" y="281"/>
                </a:lnTo>
                <a:lnTo>
                  <a:pt x="590" y="284"/>
                </a:lnTo>
                <a:lnTo>
                  <a:pt x="587" y="289"/>
                </a:lnTo>
                <a:lnTo>
                  <a:pt x="593" y="291"/>
                </a:lnTo>
                <a:lnTo>
                  <a:pt x="598" y="292"/>
                </a:lnTo>
                <a:lnTo>
                  <a:pt x="603" y="292"/>
                </a:lnTo>
                <a:lnTo>
                  <a:pt x="609" y="292"/>
                </a:lnTo>
                <a:lnTo>
                  <a:pt x="615" y="292"/>
                </a:lnTo>
                <a:lnTo>
                  <a:pt x="620" y="293"/>
                </a:lnTo>
                <a:lnTo>
                  <a:pt x="624" y="296"/>
                </a:lnTo>
                <a:lnTo>
                  <a:pt x="628" y="300"/>
                </a:lnTo>
                <a:lnTo>
                  <a:pt x="629" y="308"/>
                </a:lnTo>
                <a:lnTo>
                  <a:pt x="624" y="313"/>
                </a:lnTo>
                <a:lnTo>
                  <a:pt x="617" y="315"/>
                </a:lnTo>
                <a:lnTo>
                  <a:pt x="610" y="315"/>
                </a:lnTo>
                <a:lnTo>
                  <a:pt x="607" y="314"/>
                </a:lnTo>
                <a:lnTo>
                  <a:pt x="603" y="313"/>
                </a:lnTo>
                <a:lnTo>
                  <a:pt x="599" y="314"/>
                </a:lnTo>
                <a:lnTo>
                  <a:pt x="595" y="315"/>
                </a:lnTo>
                <a:lnTo>
                  <a:pt x="602" y="318"/>
                </a:lnTo>
                <a:lnTo>
                  <a:pt x="608" y="320"/>
                </a:lnTo>
                <a:lnTo>
                  <a:pt x="614" y="322"/>
                </a:lnTo>
                <a:lnTo>
                  <a:pt x="621" y="323"/>
                </a:lnTo>
                <a:lnTo>
                  <a:pt x="627" y="326"/>
                </a:lnTo>
                <a:lnTo>
                  <a:pt x="632" y="329"/>
                </a:lnTo>
                <a:lnTo>
                  <a:pt x="637" y="333"/>
                </a:lnTo>
                <a:lnTo>
                  <a:pt x="643" y="336"/>
                </a:lnTo>
                <a:lnTo>
                  <a:pt x="649" y="342"/>
                </a:lnTo>
                <a:lnTo>
                  <a:pt x="654" y="348"/>
                </a:lnTo>
                <a:lnTo>
                  <a:pt x="661" y="354"/>
                </a:lnTo>
                <a:lnTo>
                  <a:pt x="667" y="358"/>
                </a:lnTo>
                <a:lnTo>
                  <a:pt x="675" y="380"/>
                </a:lnTo>
                <a:lnTo>
                  <a:pt x="672" y="384"/>
                </a:lnTo>
                <a:lnTo>
                  <a:pt x="666" y="388"/>
                </a:lnTo>
                <a:lnTo>
                  <a:pt x="660" y="391"/>
                </a:lnTo>
                <a:lnTo>
                  <a:pt x="656" y="393"/>
                </a:lnTo>
                <a:lnTo>
                  <a:pt x="653" y="395"/>
                </a:lnTo>
                <a:lnTo>
                  <a:pt x="652" y="399"/>
                </a:lnTo>
                <a:lnTo>
                  <a:pt x="653" y="403"/>
                </a:lnTo>
                <a:lnTo>
                  <a:pt x="656" y="406"/>
                </a:lnTo>
                <a:lnTo>
                  <a:pt x="653" y="417"/>
                </a:lnTo>
                <a:lnTo>
                  <a:pt x="651" y="430"/>
                </a:lnTo>
                <a:lnTo>
                  <a:pt x="650" y="443"/>
                </a:lnTo>
                <a:lnTo>
                  <a:pt x="651" y="453"/>
                </a:lnTo>
                <a:lnTo>
                  <a:pt x="651" y="465"/>
                </a:lnTo>
                <a:lnTo>
                  <a:pt x="657" y="473"/>
                </a:lnTo>
                <a:lnTo>
                  <a:pt x="665" y="479"/>
                </a:lnTo>
                <a:lnTo>
                  <a:pt x="675" y="482"/>
                </a:lnTo>
                <a:lnTo>
                  <a:pt x="676" y="488"/>
                </a:lnTo>
                <a:lnTo>
                  <a:pt x="675" y="494"/>
                </a:lnTo>
                <a:lnTo>
                  <a:pt x="673" y="498"/>
                </a:lnTo>
                <a:lnTo>
                  <a:pt x="670" y="502"/>
                </a:lnTo>
                <a:lnTo>
                  <a:pt x="672" y="502"/>
                </a:lnTo>
                <a:lnTo>
                  <a:pt x="671" y="509"/>
                </a:lnTo>
                <a:lnTo>
                  <a:pt x="682" y="515"/>
                </a:lnTo>
                <a:lnTo>
                  <a:pt x="693" y="519"/>
                </a:lnTo>
                <a:lnTo>
                  <a:pt x="704" y="524"/>
                </a:lnTo>
                <a:lnTo>
                  <a:pt x="716" y="527"/>
                </a:lnTo>
                <a:lnTo>
                  <a:pt x="728" y="531"/>
                </a:lnTo>
                <a:lnTo>
                  <a:pt x="739" y="534"/>
                </a:lnTo>
                <a:lnTo>
                  <a:pt x="751" y="538"/>
                </a:lnTo>
                <a:lnTo>
                  <a:pt x="762" y="542"/>
                </a:lnTo>
                <a:lnTo>
                  <a:pt x="775" y="549"/>
                </a:lnTo>
                <a:lnTo>
                  <a:pt x="789" y="553"/>
                </a:lnTo>
                <a:lnTo>
                  <a:pt x="803" y="555"/>
                </a:lnTo>
                <a:lnTo>
                  <a:pt x="818" y="555"/>
                </a:lnTo>
                <a:lnTo>
                  <a:pt x="833" y="555"/>
                </a:lnTo>
                <a:lnTo>
                  <a:pt x="848" y="554"/>
                </a:lnTo>
                <a:lnTo>
                  <a:pt x="863" y="554"/>
                </a:lnTo>
                <a:lnTo>
                  <a:pt x="878" y="554"/>
                </a:lnTo>
                <a:lnTo>
                  <a:pt x="881" y="550"/>
                </a:lnTo>
                <a:lnTo>
                  <a:pt x="875" y="547"/>
                </a:lnTo>
                <a:lnTo>
                  <a:pt x="868" y="546"/>
                </a:lnTo>
                <a:lnTo>
                  <a:pt x="860" y="546"/>
                </a:lnTo>
                <a:lnTo>
                  <a:pt x="852" y="547"/>
                </a:lnTo>
                <a:lnTo>
                  <a:pt x="846" y="539"/>
                </a:lnTo>
                <a:lnTo>
                  <a:pt x="847" y="528"/>
                </a:lnTo>
                <a:lnTo>
                  <a:pt x="850" y="517"/>
                </a:lnTo>
                <a:lnTo>
                  <a:pt x="850" y="506"/>
                </a:lnTo>
                <a:lnTo>
                  <a:pt x="852" y="493"/>
                </a:lnTo>
                <a:lnTo>
                  <a:pt x="853" y="460"/>
                </a:lnTo>
                <a:lnTo>
                  <a:pt x="852" y="425"/>
                </a:lnTo>
                <a:lnTo>
                  <a:pt x="846" y="403"/>
                </a:lnTo>
                <a:lnTo>
                  <a:pt x="846" y="399"/>
                </a:lnTo>
                <a:lnTo>
                  <a:pt x="847" y="394"/>
                </a:lnTo>
                <a:lnTo>
                  <a:pt x="848" y="388"/>
                </a:lnTo>
                <a:lnTo>
                  <a:pt x="850" y="385"/>
                </a:lnTo>
                <a:lnTo>
                  <a:pt x="857" y="384"/>
                </a:lnTo>
                <a:lnTo>
                  <a:pt x="864" y="384"/>
                </a:lnTo>
                <a:lnTo>
                  <a:pt x="871" y="384"/>
                </a:lnTo>
                <a:lnTo>
                  <a:pt x="878" y="384"/>
                </a:lnTo>
                <a:lnTo>
                  <a:pt x="884" y="384"/>
                </a:lnTo>
                <a:lnTo>
                  <a:pt x="891" y="384"/>
                </a:lnTo>
                <a:lnTo>
                  <a:pt x="898" y="384"/>
                </a:lnTo>
                <a:lnTo>
                  <a:pt x="905" y="382"/>
                </a:lnTo>
                <a:lnTo>
                  <a:pt x="918" y="365"/>
                </a:lnTo>
                <a:lnTo>
                  <a:pt x="921" y="363"/>
                </a:lnTo>
                <a:lnTo>
                  <a:pt x="925" y="360"/>
                </a:lnTo>
                <a:lnTo>
                  <a:pt x="927" y="357"/>
                </a:lnTo>
                <a:lnTo>
                  <a:pt x="928" y="354"/>
                </a:lnTo>
                <a:lnTo>
                  <a:pt x="922" y="352"/>
                </a:lnTo>
                <a:lnTo>
                  <a:pt x="917" y="354"/>
                </a:lnTo>
                <a:lnTo>
                  <a:pt x="911" y="354"/>
                </a:lnTo>
                <a:lnTo>
                  <a:pt x="906" y="355"/>
                </a:lnTo>
                <a:lnTo>
                  <a:pt x="900" y="355"/>
                </a:lnTo>
                <a:lnTo>
                  <a:pt x="897" y="354"/>
                </a:lnTo>
                <a:lnTo>
                  <a:pt x="893" y="350"/>
                </a:lnTo>
                <a:lnTo>
                  <a:pt x="890" y="345"/>
                </a:lnTo>
                <a:lnTo>
                  <a:pt x="893" y="336"/>
                </a:lnTo>
                <a:lnTo>
                  <a:pt x="900" y="328"/>
                </a:lnTo>
                <a:lnTo>
                  <a:pt x="906" y="320"/>
                </a:lnTo>
                <a:lnTo>
                  <a:pt x="905" y="308"/>
                </a:lnTo>
                <a:lnTo>
                  <a:pt x="906" y="308"/>
                </a:lnTo>
                <a:lnTo>
                  <a:pt x="908" y="294"/>
                </a:lnTo>
                <a:lnTo>
                  <a:pt x="912" y="279"/>
                </a:lnTo>
                <a:lnTo>
                  <a:pt x="918" y="267"/>
                </a:lnTo>
                <a:lnTo>
                  <a:pt x="927" y="257"/>
                </a:lnTo>
                <a:lnTo>
                  <a:pt x="923" y="254"/>
                </a:lnTo>
                <a:lnTo>
                  <a:pt x="918" y="259"/>
                </a:lnTo>
                <a:lnTo>
                  <a:pt x="913" y="262"/>
                </a:lnTo>
                <a:lnTo>
                  <a:pt x="908" y="265"/>
                </a:lnTo>
                <a:lnTo>
                  <a:pt x="904" y="269"/>
                </a:lnTo>
                <a:lnTo>
                  <a:pt x="899" y="272"/>
                </a:lnTo>
                <a:lnTo>
                  <a:pt x="896" y="276"/>
                </a:lnTo>
                <a:lnTo>
                  <a:pt x="891" y="279"/>
                </a:lnTo>
                <a:lnTo>
                  <a:pt x="885" y="284"/>
                </a:lnTo>
                <a:lnTo>
                  <a:pt x="872" y="292"/>
                </a:lnTo>
                <a:lnTo>
                  <a:pt x="860" y="300"/>
                </a:lnTo>
                <a:lnTo>
                  <a:pt x="848" y="308"/>
                </a:lnTo>
                <a:lnTo>
                  <a:pt x="837" y="316"/>
                </a:lnTo>
                <a:lnTo>
                  <a:pt x="825" y="325"/>
                </a:lnTo>
                <a:lnTo>
                  <a:pt x="813" y="333"/>
                </a:lnTo>
                <a:lnTo>
                  <a:pt x="801" y="341"/>
                </a:lnTo>
                <a:lnTo>
                  <a:pt x="788" y="349"/>
                </a:lnTo>
                <a:lnTo>
                  <a:pt x="774" y="354"/>
                </a:lnTo>
                <a:lnTo>
                  <a:pt x="761" y="358"/>
                </a:lnTo>
                <a:lnTo>
                  <a:pt x="747" y="364"/>
                </a:lnTo>
                <a:lnTo>
                  <a:pt x="733" y="370"/>
                </a:lnTo>
                <a:lnTo>
                  <a:pt x="721" y="374"/>
                </a:lnTo>
                <a:lnTo>
                  <a:pt x="705" y="378"/>
                </a:lnTo>
                <a:lnTo>
                  <a:pt x="690" y="380"/>
                </a:lnTo>
                <a:lnTo>
                  <a:pt x="675" y="380"/>
                </a:lnTo>
                <a:lnTo>
                  <a:pt x="667" y="358"/>
                </a:lnTo>
                <a:lnTo>
                  <a:pt x="678" y="358"/>
                </a:lnTo>
                <a:lnTo>
                  <a:pt x="689" y="357"/>
                </a:lnTo>
                <a:lnTo>
                  <a:pt x="700" y="356"/>
                </a:lnTo>
                <a:lnTo>
                  <a:pt x="711" y="355"/>
                </a:lnTo>
                <a:lnTo>
                  <a:pt x="722" y="352"/>
                </a:lnTo>
                <a:lnTo>
                  <a:pt x="732" y="349"/>
                </a:lnTo>
                <a:lnTo>
                  <a:pt x="741" y="345"/>
                </a:lnTo>
                <a:lnTo>
                  <a:pt x="751" y="341"/>
                </a:lnTo>
                <a:lnTo>
                  <a:pt x="774" y="333"/>
                </a:lnTo>
                <a:lnTo>
                  <a:pt x="796" y="322"/>
                </a:lnTo>
                <a:lnTo>
                  <a:pt x="816" y="311"/>
                </a:lnTo>
                <a:lnTo>
                  <a:pt x="835" y="297"/>
                </a:lnTo>
                <a:lnTo>
                  <a:pt x="853" y="283"/>
                </a:lnTo>
                <a:lnTo>
                  <a:pt x="871" y="268"/>
                </a:lnTo>
                <a:lnTo>
                  <a:pt x="890" y="254"/>
                </a:lnTo>
                <a:lnTo>
                  <a:pt x="910" y="240"/>
                </a:lnTo>
                <a:lnTo>
                  <a:pt x="915" y="234"/>
                </a:lnTo>
                <a:lnTo>
                  <a:pt x="921" y="226"/>
                </a:lnTo>
                <a:lnTo>
                  <a:pt x="927" y="219"/>
                </a:lnTo>
                <a:lnTo>
                  <a:pt x="935" y="213"/>
                </a:lnTo>
                <a:lnTo>
                  <a:pt x="941" y="213"/>
                </a:lnTo>
                <a:lnTo>
                  <a:pt x="947" y="213"/>
                </a:lnTo>
                <a:lnTo>
                  <a:pt x="952" y="216"/>
                </a:lnTo>
                <a:lnTo>
                  <a:pt x="955" y="221"/>
                </a:lnTo>
                <a:lnTo>
                  <a:pt x="955" y="227"/>
                </a:lnTo>
                <a:lnTo>
                  <a:pt x="955" y="233"/>
                </a:lnTo>
                <a:lnTo>
                  <a:pt x="956" y="239"/>
                </a:lnTo>
                <a:lnTo>
                  <a:pt x="961" y="242"/>
                </a:lnTo>
                <a:lnTo>
                  <a:pt x="964" y="250"/>
                </a:lnTo>
                <a:lnTo>
                  <a:pt x="969" y="259"/>
                </a:lnTo>
                <a:lnTo>
                  <a:pt x="976" y="265"/>
                </a:lnTo>
                <a:lnTo>
                  <a:pt x="983" y="272"/>
                </a:lnTo>
                <a:lnTo>
                  <a:pt x="987" y="291"/>
                </a:lnTo>
                <a:lnTo>
                  <a:pt x="988" y="311"/>
                </a:lnTo>
                <a:lnTo>
                  <a:pt x="992" y="327"/>
                </a:lnTo>
                <a:lnTo>
                  <a:pt x="1006" y="340"/>
                </a:lnTo>
                <a:lnTo>
                  <a:pt x="1007" y="342"/>
                </a:lnTo>
                <a:lnTo>
                  <a:pt x="1006" y="344"/>
                </a:lnTo>
                <a:lnTo>
                  <a:pt x="1005" y="347"/>
                </a:lnTo>
                <a:lnTo>
                  <a:pt x="1003" y="350"/>
                </a:lnTo>
                <a:lnTo>
                  <a:pt x="957" y="352"/>
                </a:lnTo>
                <a:lnTo>
                  <a:pt x="961" y="359"/>
                </a:lnTo>
                <a:lnTo>
                  <a:pt x="970" y="365"/>
                </a:lnTo>
                <a:lnTo>
                  <a:pt x="979" y="371"/>
                </a:lnTo>
                <a:lnTo>
                  <a:pt x="983" y="380"/>
                </a:lnTo>
                <a:lnTo>
                  <a:pt x="987" y="379"/>
                </a:lnTo>
                <a:lnTo>
                  <a:pt x="988" y="379"/>
                </a:lnTo>
                <a:lnTo>
                  <a:pt x="993" y="380"/>
                </a:lnTo>
                <a:lnTo>
                  <a:pt x="1000" y="381"/>
                </a:lnTo>
                <a:lnTo>
                  <a:pt x="1008" y="382"/>
                </a:lnTo>
                <a:lnTo>
                  <a:pt x="1016" y="384"/>
                </a:lnTo>
                <a:lnTo>
                  <a:pt x="1026" y="385"/>
                </a:lnTo>
                <a:lnTo>
                  <a:pt x="1034" y="385"/>
                </a:lnTo>
                <a:lnTo>
                  <a:pt x="1042" y="384"/>
                </a:lnTo>
                <a:lnTo>
                  <a:pt x="1046" y="387"/>
                </a:lnTo>
                <a:lnTo>
                  <a:pt x="1049" y="391"/>
                </a:lnTo>
                <a:lnTo>
                  <a:pt x="1050" y="396"/>
                </a:lnTo>
                <a:lnTo>
                  <a:pt x="1050" y="402"/>
                </a:lnTo>
                <a:lnTo>
                  <a:pt x="1043" y="413"/>
                </a:lnTo>
                <a:lnTo>
                  <a:pt x="1041" y="426"/>
                </a:lnTo>
                <a:lnTo>
                  <a:pt x="1041" y="443"/>
                </a:lnTo>
                <a:lnTo>
                  <a:pt x="1039" y="457"/>
                </a:lnTo>
                <a:lnTo>
                  <a:pt x="1041" y="467"/>
                </a:lnTo>
                <a:lnTo>
                  <a:pt x="1039" y="476"/>
                </a:lnTo>
                <a:lnTo>
                  <a:pt x="1038" y="486"/>
                </a:lnTo>
                <a:lnTo>
                  <a:pt x="1039" y="497"/>
                </a:lnTo>
                <a:lnTo>
                  <a:pt x="1042" y="541"/>
                </a:lnTo>
                <a:lnTo>
                  <a:pt x="1038" y="545"/>
                </a:lnTo>
                <a:lnTo>
                  <a:pt x="1034" y="545"/>
                </a:lnTo>
                <a:lnTo>
                  <a:pt x="1029" y="544"/>
                </a:lnTo>
                <a:lnTo>
                  <a:pt x="1024" y="545"/>
                </a:lnTo>
                <a:lnTo>
                  <a:pt x="1019" y="545"/>
                </a:lnTo>
                <a:lnTo>
                  <a:pt x="1013" y="544"/>
                </a:lnTo>
                <a:lnTo>
                  <a:pt x="1007" y="545"/>
                </a:lnTo>
                <a:lnTo>
                  <a:pt x="1003" y="548"/>
                </a:lnTo>
                <a:lnTo>
                  <a:pt x="1007" y="552"/>
                </a:lnTo>
                <a:lnTo>
                  <a:pt x="1012" y="554"/>
                </a:lnTo>
                <a:lnTo>
                  <a:pt x="1016" y="554"/>
                </a:lnTo>
                <a:lnTo>
                  <a:pt x="1022" y="553"/>
                </a:lnTo>
                <a:lnTo>
                  <a:pt x="1028" y="553"/>
                </a:lnTo>
                <a:lnTo>
                  <a:pt x="1034" y="553"/>
                </a:lnTo>
                <a:lnTo>
                  <a:pt x="1038" y="553"/>
                </a:lnTo>
                <a:lnTo>
                  <a:pt x="1043" y="555"/>
                </a:lnTo>
                <a:lnTo>
                  <a:pt x="1050" y="554"/>
                </a:lnTo>
                <a:lnTo>
                  <a:pt x="1057" y="553"/>
                </a:lnTo>
                <a:lnTo>
                  <a:pt x="1060" y="549"/>
                </a:lnTo>
                <a:lnTo>
                  <a:pt x="1059" y="542"/>
                </a:lnTo>
                <a:lnTo>
                  <a:pt x="1060" y="534"/>
                </a:lnTo>
                <a:lnTo>
                  <a:pt x="1060" y="525"/>
                </a:lnTo>
                <a:lnTo>
                  <a:pt x="1060" y="517"/>
                </a:lnTo>
                <a:lnTo>
                  <a:pt x="1063" y="510"/>
                </a:lnTo>
                <a:lnTo>
                  <a:pt x="1063" y="489"/>
                </a:lnTo>
                <a:lnTo>
                  <a:pt x="1064" y="489"/>
                </a:lnTo>
                <a:lnTo>
                  <a:pt x="1066" y="467"/>
                </a:lnTo>
                <a:lnTo>
                  <a:pt x="1067" y="443"/>
                </a:lnTo>
                <a:lnTo>
                  <a:pt x="1070" y="420"/>
                </a:lnTo>
                <a:lnTo>
                  <a:pt x="1072" y="395"/>
                </a:lnTo>
                <a:lnTo>
                  <a:pt x="1077" y="372"/>
                </a:lnTo>
                <a:lnTo>
                  <a:pt x="1085" y="351"/>
                </a:lnTo>
                <a:lnTo>
                  <a:pt x="1095" y="333"/>
                </a:lnTo>
                <a:lnTo>
                  <a:pt x="1111" y="318"/>
                </a:lnTo>
                <a:lnTo>
                  <a:pt x="1118" y="312"/>
                </a:lnTo>
                <a:lnTo>
                  <a:pt x="1125" y="307"/>
                </a:lnTo>
                <a:lnTo>
                  <a:pt x="1132" y="301"/>
                </a:lnTo>
                <a:lnTo>
                  <a:pt x="1139" y="297"/>
                </a:lnTo>
                <a:lnTo>
                  <a:pt x="1146" y="292"/>
                </a:lnTo>
                <a:lnTo>
                  <a:pt x="1154" y="287"/>
                </a:lnTo>
                <a:lnTo>
                  <a:pt x="1163" y="285"/>
                </a:lnTo>
                <a:lnTo>
                  <a:pt x="1174" y="283"/>
                </a:lnTo>
                <a:lnTo>
                  <a:pt x="1158" y="311"/>
                </a:lnTo>
                <a:lnTo>
                  <a:pt x="1148" y="314"/>
                </a:lnTo>
                <a:lnTo>
                  <a:pt x="1140" y="319"/>
                </a:lnTo>
                <a:lnTo>
                  <a:pt x="1132" y="325"/>
                </a:lnTo>
                <a:lnTo>
                  <a:pt x="1126" y="330"/>
                </a:lnTo>
                <a:lnTo>
                  <a:pt x="1119" y="338"/>
                </a:lnTo>
                <a:lnTo>
                  <a:pt x="1115" y="345"/>
                </a:lnTo>
                <a:lnTo>
                  <a:pt x="1109" y="354"/>
                </a:lnTo>
                <a:lnTo>
                  <a:pt x="1104" y="360"/>
                </a:lnTo>
                <a:lnTo>
                  <a:pt x="1096" y="394"/>
                </a:lnTo>
                <a:lnTo>
                  <a:pt x="1092" y="429"/>
                </a:lnTo>
                <a:lnTo>
                  <a:pt x="1088" y="465"/>
                </a:lnTo>
                <a:lnTo>
                  <a:pt x="1086" y="499"/>
                </a:lnTo>
                <a:lnTo>
                  <a:pt x="1086" y="513"/>
                </a:lnTo>
                <a:lnTo>
                  <a:pt x="1086" y="528"/>
                </a:lnTo>
                <a:lnTo>
                  <a:pt x="1088" y="541"/>
                </a:lnTo>
                <a:lnTo>
                  <a:pt x="1095" y="550"/>
                </a:lnTo>
                <a:lnTo>
                  <a:pt x="1099" y="532"/>
                </a:lnTo>
                <a:lnTo>
                  <a:pt x="1107" y="517"/>
                </a:lnTo>
                <a:lnTo>
                  <a:pt x="1114" y="501"/>
                </a:lnTo>
                <a:lnTo>
                  <a:pt x="1116" y="481"/>
                </a:lnTo>
                <a:lnTo>
                  <a:pt x="1114" y="465"/>
                </a:lnTo>
                <a:lnTo>
                  <a:pt x="1115" y="447"/>
                </a:lnTo>
                <a:lnTo>
                  <a:pt x="1114" y="431"/>
                </a:lnTo>
                <a:lnTo>
                  <a:pt x="1104" y="418"/>
                </a:lnTo>
                <a:lnTo>
                  <a:pt x="1102" y="409"/>
                </a:lnTo>
                <a:lnTo>
                  <a:pt x="1103" y="402"/>
                </a:lnTo>
                <a:lnTo>
                  <a:pt x="1108" y="398"/>
                </a:lnTo>
                <a:lnTo>
                  <a:pt x="1114" y="394"/>
                </a:lnTo>
                <a:lnTo>
                  <a:pt x="1121" y="391"/>
                </a:lnTo>
                <a:lnTo>
                  <a:pt x="1128" y="387"/>
                </a:lnTo>
                <a:lnTo>
                  <a:pt x="1133" y="381"/>
                </a:lnTo>
                <a:lnTo>
                  <a:pt x="1137" y="376"/>
                </a:lnTo>
                <a:lnTo>
                  <a:pt x="1144" y="370"/>
                </a:lnTo>
                <a:lnTo>
                  <a:pt x="1152" y="365"/>
                </a:lnTo>
                <a:lnTo>
                  <a:pt x="1160" y="360"/>
                </a:lnTo>
                <a:lnTo>
                  <a:pt x="1166" y="354"/>
                </a:lnTo>
                <a:lnTo>
                  <a:pt x="1163" y="350"/>
                </a:lnTo>
                <a:lnTo>
                  <a:pt x="1160" y="348"/>
                </a:lnTo>
                <a:lnTo>
                  <a:pt x="1157" y="347"/>
                </a:lnTo>
                <a:lnTo>
                  <a:pt x="1152" y="347"/>
                </a:lnTo>
                <a:lnTo>
                  <a:pt x="1150" y="344"/>
                </a:lnTo>
                <a:lnTo>
                  <a:pt x="1147" y="341"/>
                </a:lnTo>
                <a:lnTo>
                  <a:pt x="1146" y="337"/>
                </a:lnTo>
                <a:lnTo>
                  <a:pt x="1146" y="331"/>
                </a:lnTo>
                <a:lnTo>
                  <a:pt x="1150" y="329"/>
                </a:lnTo>
                <a:lnTo>
                  <a:pt x="1154" y="327"/>
                </a:lnTo>
                <a:lnTo>
                  <a:pt x="1160" y="326"/>
                </a:lnTo>
                <a:lnTo>
                  <a:pt x="1165" y="326"/>
                </a:lnTo>
                <a:lnTo>
                  <a:pt x="1170" y="326"/>
                </a:lnTo>
                <a:lnTo>
                  <a:pt x="1175" y="326"/>
                </a:lnTo>
                <a:lnTo>
                  <a:pt x="1180" y="325"/>
                </a:lnTo>
                <a:lnTo>
                  <a:pt x="1184" y="323"/>
                </a:lnTo>
                <a:lnTo>
                  <a:pt x="1181" y="320"/>
                </a:lnTo>
                <a:lnTo>
                  <a:pt x="1179" y="314"/>
                </a:lnTo>
                <a:lnTo>
                  <a:pt x="1176" y="309"/>
                </a:lnTo>
                <a:lnTo>
                  <a:pt x="1173" y="306"/>
                </a:lnTo>
                <a:lnTo>
                  <a:pt x="1168" y="307"/>
                </a:lnTo>
                <a:lnTo>
                  <a:pt x="1165" y="308"/>
                </a:lnTo>
                <a:lnTo>
                  <a:pt x="1161" y="311"/>
                </a:lnTo>
                <a:lnTo>
                  <a:pt x="1161" y="315"/>
                </a:lnTo>
                <a:lnTo>
                  <a:pt x="1160" y="314"/>
                </a:lnTo>
                <a:lnTo>
                  <a:pt x="1158" y="314"/>
                </a:lnTo>
                <a:lnTo>
                  <a:pt x="1157" y="313"/>
                </a:lnTo>
                <a:lnTo>
                  <a:pt x="1158" y="311"/>
                </a:lnTo>
                <a:lnTo>
                  <a:pt x="1174" y="283"/>
                </a:lnTo>
                <a:lnTo>
                  <a:pt x="1182" y="278"/>
                </a:lnTo>
                <a:lnTo>
                  <a:pt x="1187" y="254"/>
                </a:lnTo>
                <a:lnTo>
                  <a:pt x="1192" y="225"/>
                </a:lnTo>
                <a:lnTo>
                  <a:pt x="1198" y="201"/>
                </a:lnTo>
                <a:lnTo>
                  <a:pt x="1204" y="190"/>
                </a:lnTo>
                <a:lnTo>
                  <a:pt x="1215" y="204"/>
                </a:lnTo>
                <a:lnTo>
                  <a:pt x="1221" y="231"/>
                </a:lnTo>
                <a:lnTo>
                  <a:pt x="1226" y="262"/>
                </a:lnTo>
                <a:lnTo>
                  <a:pt x="1228" y="286"/>
                </a:lnTo>
                <a:lnTo>
                  <a:pt x="1230" y="291"/>
                </a:lnTo>
                <a:lnTo>
                  <a:pt x="1231" y="297"/>
                </a:lnTo>
                <a:lnTo>
                  <a:pt x="1230" y="303"/>
                </a:lnTo>
                <a:lnTo>
                  <a:pt x="1228" y="307"/>
                </a:lnTo>
                <a:lnTo>
                  <a:pt x="1225" y="311"/>
                </a:lnTo>
                <a:lnTo>
                  <a:pt x="1223" y="314"/>
                </a:lnTo>
                <a:lnTo>
                  <a:pt x="1221" y="318"/>
                </a:lnTo>
                <a:lnTo>
                  <a:pt x="1220" y="321"/>
                </a:lnTo>
                <a:lnTo>
                  <a:pt x="1225" y="325"/>
                </a:lnTo>
                <a:lnTo>
                  <a:pt x="1231" y="326"/>
                </a:lnTo>
                <a:lnTo>
                  <a:pt x="1238" y="326"/>
                </a:lnTo>
                <a:lnTo>
                  <a:pt x="1245" y="326"/>
                </a:lnTo>
                <a:lnTo>
                  <a:pt x="1252" y="327"/>
                </a:lnTo>
                <a:lnTo>
                  <a:pt x="1255" y="329"/>
                </a:lnTo>
                <a:lnTo>
                  <a:pt x="1256" y="334"/>
                </a:lnTo>
                <a:lnTo>
                  <a:pt x="1254" y="342"/>
                </a:lnTo>
                <a:lnTo>
                  <a:pt x="1252" y="345"/>
                </a:lnTo>
                <a:lnTo>
                  <a:pt x="1249" y="348"/>
                </a:lnTo>
                <a:lnTo>
                  <a:pt x="1248" y="351"/>
                </a:lnTo>
                <a:lnTo>
                  <a:pt x="1248" y="355"/>
                </a:lnTo>
                <a:lnTo>
                  <a:pt x="1256" y="358"/>
                </a:lnTo>
                <a:lnTo>
                  <a:pt x="1262" y="364"/>
                </a:lnTo>
                <a:lnTo>
                  <a:pt x="1267" y="372"/>
                </a:lnTo>
                <a:lnTo>
                  <a:pt x="1271" y="379"/>
                </a:lnTo>
                <a:lnTo>
                  <a:pt x="1275" y="387"/>
                </a:lnTo>
                <a:lnTo>
                  <a:pt x="1281" y="394"/>
                </a:lnTo>
                <a:lnTo>
                  <a:pt x="1286" y="399"/>
                </a:lnTo>
                <a:lnTo>
                  <a:pt x="1296" y="402"/>
                </a:lnTo>
                <a:lnTo>
                  <a:pt x="1299" y="406"/>
                </a:lnTo>
                <a:lnTo>
                  <a:pt x="1300" y="410"/>
                </a:lnTo>
                <a:lnTo>
                  <a:pt x="1301" y="415"/>
                </a:lnTo>
                <a:lnTo>
                  <a:pt x="1301" y="417"/>
                </a:lnTo>
                <a:lnTo>
                  <a:pt x="1299" y="422"/>
                </a:lnTo>
                <a:lnTo>
                  <a:pt x="1297" y="425"/>
                </a:lnTo>
                <a:lnTo>
                  <a:pt x="1292" y="429"/>
                </a:lnTo>
                <a:lnTo>
                  <a:pt x="1288" y="432"/>
                </a:lnTo>
                <a:lnTo>
                  <a:pt x="1285" y="451"/>
                </a:lnTo>
                <a:lnTo>
                  <a:pt x="1285" y="469"/>
                </a:lnTo>
                <a:lnTo>
                  <a:pt x="1285" y="489"/>
                </a:lnTo>
                <a:lnTo>
                  <a:pt x="1286" y="506"/>
                </a:lnTo>
                <a:lnTo>
                  <a:pt x="1293" y="511"/>
                </a:lnTo>
                <a:lnTo>
                  <a:pt x="1299" y="518"/>
                </a:lnTo>
                <a:lnTo>
                  <a:pt x="1301" y="527"/>
                </a:lnTo>
                <a:lnTo>
                  <a:pt x="1304" y="535"/>
                </a:lnTo>
                <a:lnTo>
                  <a:pt x="1307" y="544"/>
                </a:lnTo>
                <a:lnTo>
                  <a:pt x="1311" y="550"/>
                </a:lnTo>
                <a:lnTo>
                  <a:pt x="1318" y="554"/>
                </a:lnTo>
                <a:lnTo>
                  <a:pt x="1327" y="553"/>
                </a:lnTo>
                <a:lnTo>
                  <a:pt x="1340" y="553"/>
                </a:lnTo>
                <a:lnTo>
                  <a:pt x="1352" y="554"/>
                </a:lnTo>
                <a:lnTo>
                  <a:pt x="1365" y="554"/>
                </a:lnTo>
                <a:lnTo>
                  <a:pt x="1378" y="554"/>
                </a:lnTo>
                <a:lnTo>
                  <a:pt x="1391" y="554"/>
                </a:lnTo>
                <a:lnTo>
                  <a:pt x="1405" y="554"/>
                </a:lnTo>
                <a:lnTo>
                  <a:pt x="1417" y="554"/>
                </a:lnTo>
                <a:lnTo>
                  <a:pt x="1431" y="553"/>
                </a:lnTo>
                <a:lnTo>
                  <a:pt x="1444" y="553"/>
                </a:lnTo>
                <a:lnTo>
                  <a:pt x="1458" y="553"/>
                </a:lnTo>
                <a:lnTo>
                  <a:pt x="1472" y="553"/>
                </a:lnTo>
                <a:lnTo>
                  <a:pt x="1485" y="553"/>
                </a:lnTo>
                <a:lnTo>
                  <a:pt x="1499" y="553"/>
                </a:lnTo>
                <a:lnTo>
                  <a:pt x="1513" y="553"/>
                </a:lnTo>
                <a:lnTo>
                  <a:pt x="1525" y="554"/>
                </a:lnTo>
                <a:lnTo>
                  <a:pt x="1539" y="554"/>
                </a:lnTo>
                <a:lnTo>
                  <a:pt x="1545" y="553"/>
                </a:lnTo>
                <a:lnTo>
                  <a:pt x="1546" y="548"/>
                </a:lnTo>
                <a:lnTo>
                  <a:pt x="1545" y="544"/>
                </a:lnTo>
                <a:lnTo>
                  <a:pt x="1545" y="538"/>
                </a:lnTo>
                <a:lnTo>
                  <a:pt x="1536" y="532"/>
                </a:lnTo>
                <a:lnTo>
                  <a:pt x="1533" y="524"/>
                </a:lnTo>
                <a:lnTo>
                  <a:pt x="1533" y="515"/>
                </a:lnTo>
                <a:lnTo>
                  <a:pt x="1533" y="504"/>
                </a:lnTo>
                <a:lnTo>
                  <a:pt x="1540" y="498"/>
                </a:lnTo>
                <a:lnTo>
                  <a:pt x="1542" y="491"/>
                </a:lnTo>
                <a:lnTo>
                  <a:pt x="1539" y="482"/>
                </a:lnTo>
                <a:lnTo>
                  <a:pt x="1539" y="473"/>
                </a:lnTo>
                <a:lnTo>
                  <a:pt x="1526" y="435"/>
                </a:lnTo>
                <a:lnTo>
                  <a:pt x="1510" y="382"/>
                </a:lnTo>
                <a:lnTo>
                  <a:pt x="1492" y="322"/>
                </a:lnTo>
                <a:lnTo>
                  <a:pt x="1473" y="260"/>
                </a:lnTo>
                <a:lnTo>
                  <a:pt x="1455" y="202"/>
                </a:lnTo>
                <a:lnTo>
                  <a:pt x="1439" y="153"/>
                </a:lnTo>
                <a:lnTo>
                  <a:pt x="1429" y="119"/>
                </a:lnTo>
                <a:lnTo>
                  <a:pt x="1424" y="107"/>
                </a:lnTo>
                <a:lnTo>
                  <a:pt x="1420" y="104"/>
                </a:lnTo>
                <a:lnTo>
                  <a:pt x="1417" y="81"/>
                </a:lnTo>
                <a:lnTo>
                  <a:pt x="1417" y="55"/>
                </a:lnTo>
                <a:lnTo>
                  <a:pt x="1417" y="28"/>
                </a:lnTo>
                <a:lnTo>
                  <a:pt x="1417" y="2"/>
                </a:lnTo>
                <a:lnTo>
                  <a:pt x="1429" y="2"/>
                </a:lnTo>
                <a:lnTo>
                  <a:pt x="1445" y="1"/>
                </a:lnTo>
                <a:lnTo>
                  <a:pt x="1465" y="1"/>
                </a:lnTo>
                <a:lnTo>
                  <a:pt x="1488" y="1"/>
                </a:lnTo>
                <a:lnTo>
                  <a:pt x="1516" y="0"/>
                </a:lnTo>
                <a:lnTo>
                  <a:pt x="1545" y="0"/>
                </a:lnTo>
                <a:lnTo>
                  <a:pt x="1575" y="0"/>
                </a:lnTo>
                <a:lnTo>
                  <a:pt x="1608" y="0"/>
                </a:lnTo>
                <a:lnTo>
                  <a:pt x="1640" y="0"/>
                </a:lnTo>
                <a:lnTo>
                  <a:pt x="1673" y="0"/>
                </a:lnTo>
                <a:lnTo>
                  <a:pt x="1705" y="0"/>
                </a:lnTo>
                <a:lnTo>
                  <a:pt x="1735" y="0"/>
                </a:lnTo>
                <a:lnTo>
                  <a:pt x="1764" y="0"/>
                </a:lnTo>
                <a:lnTo>
                  <a:pt x="1791" y="0"/>
                </a:lnTo>
                <a:lnTo>
                  <a:pt x="1815" y="0"/>
                </a:lnTo>
                <a:lnTo>
                  <a:pt x="1835" y="0"/>
                </a:lnTo>
                <a:lnTo>
                  <a:pt x="1837" y="16"/>
                </a:lnTo>
                <a:lnTo>
                  <a:pt x="1836" y="48"/>
                </a:lnTo>
                <a:lnTo>
                  <a:pt x="1834" y="78"/>
                </a:lnTo>
                <a:lnTo>
                  <a:pt x="1833" y="91"/>
                </a:lnTo>
                <a:lnTo>
                  <a:pt x="1827" y="99"/>
                </a:lnTo>
                <a:lnTo>
                  <a:pt x="1821" y="104"/>
                </a:lnTo>
                <a:lnTo>
                  <a:pt x="1814" y="110"/>
                </a:lnTo>
                <a:lnTo>
                  <a:pt x="1808" y="118"/>
                </a:lnTo>
                <a:lnTo>
                  <a:pt x="1802" y="141"/>
                </a:lnTo>
                <a:lnTo>
                  <a:pt x="1793" y="180"/>
                </a:lnTo>
                <a:lnTo>
                  <a:pt x="1780" y="228"/>
                </a:lnTo>
                <a:lnTo>
                  <a:pt x="1766" y="283"/>
                </a:lnTo>
                <a:lnTo>
                  <a:pt x="1750" y="337"/>
                </a:lnTo>
                <a:lnTo>
                  <a:pt x="1736" y="386"/>
                </a:lnTo>
                <a:lnTo>
                  <a:pt x="1722" y="424"/>
                </a:lnTo>
                <a:lnTo>
                  <a:pt x="1713" y="446"/>
                </a:lnTo>
                <a:lnTo>
                  <a:pt x="1712" y="464"/>
                </a:lnTo>
                <a:lnTo>
                  <a:pt x="1707" y="482"/>
                </a:lnTo>
                <a:lnTo>
                  <a:pt x="1705" y="499"/>
                </a:lnTo>
                <a:lnTo>
                  <a:pt x="1708" y="518"/>
                </a:lnTo>
                <a:lnTo>
                  <a:pt x="1712" y="527"/>
                </a:lnTo>
                <a:lnTo>
                  <a:pt x="1719" y="542"/>
                </a:lnTo>
                <a:lnTo>
                  <a:pt x="1725" y="556"/>
                </a:lnTo>
                <a:lnTo>
                  <a:pt x="1728" y="563"/>
                </a:lnTo>
                <a:lnTo>
                  <a:pt x="1737" y="560"/>
                </a:lnTo>
                <a:lnTo>
                  <a:pt x="1747" y="555"/>
                </a:lnTo>
                <a:lnTo>
                  <a:pt x="1754" y="548"/>
                </a:lnTo>
                <a:lnTo>
                  <a:pt x="1754" y="538"/>
                </a:lnTo>
                <a:lnTo>
                  <a:pt x="1754" y="515"/>
                </a:lnTo>
                <a:lnTo>
                  <a:pt x="1754" y="493"/>
                </a:lnTo>
                <a:lnTo>
                  <a:pt x="1754" y="471"/>
                </a:lnTo>
                <a:lnTo>
                  <a:pt x="1755" y="449"/>
                </a:lnTo>
                <a:lnTo>
                  <a:pt x="1754" y="442"/>
                </a:lnTo>
                <a:lnTo>
                  <a:pt x="1754" y="433"/>
                </a:lnTo>
                <a:lnTo>
                  <a:pt x="1750" y="428"/>
                </a:lnTo>
                <a:lnTo>
                  <a:pt x="1743" y="426"/>
                </a:lnTo>
                <a:lnTo>
                  <a:pt x="1741" y="424"/>
                </a:lnTo>
                <a:lnTo>
                  <a:pt x="1740" y="421"/>
                </a:lnTo>
                <a:lnTo>
                  <a:pt x="1741" y="416"/>
                </a:lnTo>
                <a:lnTo>
                  <a:pt x="1742" y="414"/>
                </a:lnTo>
                <a:lnTo>
                  <a:pt x="1749" y="409"/>
                </a:lnTo>
                <a:lnTo>
                  <a:pt x="1757" y="404"/>
                </a:lnTo>
                <a:lnTo>
                  <a:pt x="1765" y="401"/>
                </a:lnTo>
                <a:lnTo>
                  <a:pt x="1773" y="398"/>
                </a:lnTo>
                <a:lnTo>
                  <a:pt x="1782" y="395"/>
                </a:lnTo>
                <a:lnTo>
                  <a:pt x="1791" y="393"/>
                </a:lnTo>
                <a:lnTo>
                  <a:pt x="1801" y="391"/>
                </a:lnTo>
                <a:lnTo>
                  <a:pt x="1811" y="388"/>
                </a:lnTo>
                <a:lnTo>
                  <a:pt x="1843" y="395"/>
                </a:lnTo>
                <a:lnTo>
                  <a:pt x="1844" y="388"/>
                </a:lnTo>
                <a:lnTo>
                  <a:pt x="1848" y="381"/>
                </a:lnTo>
                <a:lnTo>
                  <a:pt x="1853" y="379"/>
                </a:lnTo>
                <a:lnTo>
                  <a:pt x="1862" y="379"/>
                </a:lnTo>
                <a:lnTo>
                  <a:pt x="1867" y="381"/>
                </a:lnTo>
                <a:lnTo>
                  <a:pt x="1873" y="380"/>
                </a:lnTo>
                <a:lnTo>
                  <a:pt x="1877" y="384"/>
                </a:lnTo>
                <a:lnTo>
                  <a:pt x="1875" y="393"/>
                </a:lnTo>
                <a:lnTo>
                  <a:pt x="1874" y="393"/>
                </a:lnTo>
                <a:lnTo>
                  <a:pt x="1877" y="400"/>
                </a:lnTo>
                <a:lnTo>
                  <a:pt x="1882" y="406"/>
                </a:lnTo>
                <a:lnTo>
                  <a:pt x="1888" y="411"/>
                </a:lnTo>
                <a:lnTo>
                  <a:pt x="1886" y="420"/>
                </a:lnTo>
                <a:lnTo>
                  <a:pt x="1877" y="440"/>
                </a:lnTo>
                <a:lnTo>
                  <a:pt x="1873" y="487"/>
                </a:lnTo>
                <a:lnTo>
                  <a:pt x="1878" y="534"/>
                </a:lnTo>
                <a:lnTo>
                  <a:pt x="1891" y="564"/>
                </a:lnTo>
                <a:lnTo>
                  <a:pt x="1891" y="574"/>
                </a:lnTo>
                <a:lnTo>
                  <a:pt x="1889" y="582"/>
                </a:lnTo>
                <a:lnTo>
                  <a:pt x="1886" y="589"/>
                </a:lnTo>
                <a:lnTo>
                  <a:pt x="1880" y="594"/>
                </a:lnTo>
                <a:lnTo>
                  <a:pt x="1882" y="604"/>
                </a:lnTo>
                <a:lnTo>
                  <a:pt x="1882" y="616"/>
                </a:lnTo>
                <a:lnTo>
                  <a:pt x="1877" y="628"/>
                </a:lnTo>
                <a:lnTo>
                  <a:pt x="1859" y="635"/>
                </a:lnTo>
                <a:lnTo>
                  <a:pt x="1851" y="637"/>
                </a:lnTo>
                <a:lnTo>
                  <a:pt x="1845" y="636"/>
                </a:lnTo>
                <a:lnTo>
                  <a:pt x="1838" y="636"/>
                </a:lnTo>
                <a:lnTo>
                  <a:pt x="1831" y="637"/>
                </a:lnTo>
                <a:lnTo>
                  <a:pt x="1826" y="643"/>
                </a:lnTo>
                <a:lnTo>
                  <a:pt x="1821" y="649"/>
                </a:lnTo>
                <a:lnTo>
                  <a:pt x="1816" y="656"/>
                </a:lnTo>
                <a:lnTo>
                  <a:pt x="1816" y="664"/>
                </a:lnTo>
                <a:lnTo>
                  <a:pt x="1816" y="672"/>
                </a:lnTo>
                <a:lnTo>
                  <a:pt x="1816" y="692"/>
                </a:lnTo>
                <a:lnTo>
                  <a:pt x="1813" y="714"/>
                </a:lnTo>
                <a:lnTo>
                  <a:pt x="1802" y="731"/>
                </a:lnTo>
                <a:lnTo>
                  <a:pt x="1771" y="708"/>
                </a:lnTo>
                <a:lnTo>
                  <a:pt x="1778" y="695"/>
                </a:lnTo>
                <a:lnTo>
                  <a:pt x="1780" y="678"/>
                </a:lnTo>
                <a:lnTo>
                  <a:pt x="1779" y="661"/>
                </a:lnTo>
                <a:lnTo>
                  <a:pt x="1777" y="651"/>
                </a:lnTo>
                <a:lnTo>
                  <a:pt x="1773" y="652"/>
                </a:lnTo>
                <a:lnTo>
                  <a:pt x="1771" y="656"/>
                </a:lnTo>
                <a:lnTo>
                  <a:pt x="1768" y="659"/>
                </a:lnTo>
                <a:lnTo>
                  <a:pt x="1762" y="662"/>
                </a:lnTo>
                <a:lnTo>
                  <a:pt x="1755" y="661"/>
                </a:lnTo>
                <a:lnTo>
                  <a:pt x="1750" y="656"/>
                </a:lnTo>
                <a:lnTo>
                  <a:pt x="1747" y="652"/>
                </a:lnTo>
                <a:lnTo>
                  <a:pt x="1741" y="651"/>
                </a:lnTo>
                <a:lnTo>
                  <a:pt x="1736" y="650"/>
                </a:lnTo>
                <a:lnTo>
                  <a:pt x="1734" y="647"/>
                </a:lnTo>
                <a:lnTo>
                  <a:pt x="1733" y="643"/>
                </a:lnTo>
                <a:lnTo>
                  <a:pt x="1731" y="640"/>
                </a:lnTo>
                <a:lnTo>
                  <a:pt x="1729" y="645"/>
                </a:lnTo>
                <a:lnTo>
                  <a:pt x="1728" y="650"/>
                </a:lnTo>
                <a:lnTo>
                  <a:pt x="1728" y="655"/>
                </a:lnTo>
                <a:lnTo>
                  <a:pt x="1728" y="662"/>
                </a:lnTo>
                <a:lnTo>
                  <a:pt x="1731" y="662"/>
                </a:lnTo>
                <a:lnTo>
                  <a:pt x="1733" y="669"/>
                </a:lnTo>
                <a:lnTo>
                  <a:pt x="1741" y="669"/>
                </a:lnTo>
                <a:lnTo>
                  <a:pt x="1750" y="667"/>
                </a:lnTo>
                <a:lnTo>
                  <a:pt x="1757" y="670"/>
                </a:lnTo>
                <a:lnTo>
                  <a:pt x="1764" y="676"/>
                </a:lnTo>
                <a:lnTo>
                  <a:pt x="1769" y="681"/>
                </a:lnTo>
                <a:lnTo>
                  <a:pt x="1772" y="689"/>
                </a:lnTo>
                <a:lnTo>
                  <a:pt x="1772" y="699"/>
                </a:lnTo>
                <a:lnTo>
                  <a:pt x="1766" y="703"/>
                </a:lnTo>
                <a:lnTo>
                  <a:pt x="1759" y="706"/>
                </a:lnTo>
                <a:lnTo>
                  <a:pt x="1751" y="707"/>
                </a:lnTo>
                <a:lnTo>
                  <a:pt x="1743" y="706"/>
                </a:lnTo>
                <a:lnTo>
                  <a:pt x="1744" y="707"/>
                </a:lnTo>
                <a:lnTo>
                  <a:pt x="1746" y="707"/>
                </a:lnTo>
                <a:lnTo>
                  <a:pt x="1747" y="708"/>
                </a:lnTo>
                <a:lnTo>
                  <a:pt x="1747" y="709"/>
                </a:lnTo>
                <a:lnTo>
                  <a:pt x="1753" y="713"/>
                </a:lnTo>
                <a:lnTo>
                  <a:pt x="1759" y="714"/>
                </a:lnTo>
                <a:lnTo>
                  <a:pt x="1765" y="713"/>
                </a:lnTo>
                <a:lnTo>
                  <a:pt x="1771" y="708"/>
                </a:lnTo>
                <a:lnTo>
                  <a:pt x="1802" y="731"/>
                </a:lnTo>
                <a:lnTo>
                  <a:pt x="1799" y="735"/>
                </a:lnTo>
                <a:lnTo>
                  <a:pt x="1794" y="737"/>
                </a:lnTo>
                <a:lnTo>
                  <a:pt x="1791" y="739"/>
                </a:lnTo>
                <a:lnTo>
                  <a:pt x="1786" y="744"/>
                </a:lnTo>
                <a:lnTo>
                  <a:pt x="1795" y="753"/>
                </a:lnTo>
                <a:lnTo>
                  <a:pt x="1811" y="767"/>
                </a:lnTo>
                <a:lnTo>
                  <a:pt x="1828" y="784"/>
                </a:lnTo>
                <a:lnTo>
                  <a:pt x="1849" y="803"/>
                </a:lnTo>
                <a:lnTo>
                  <a:pt x="1870" y="822"/>
                </a:lnTo>
                <a:lnTo>
                  <a:pt x="1889" y="839"/>
                </a:lnTo>
                <a:lnTo>
                  <a:pt x="1906" y="853"/>
                </a:lnTo>
                <a:lnTo>
                  <a:pt x="1918" y="863"/>
                </a:lnTo>
                <a:lnTo>
                  <a:pt x="1888" y="884"/>
                </a:lnTo>
                <a:lnTo>
                  <a:pt x="1875" y="871"/>
                </a:lnTo>
                <a:lnTo>
                  <a:pt x="1859" y="854"/>
                </a:lnTo>
                <a:lnTo>
                  <a:pt x="1838" y="835"/>
                </a:lnTo>
                <a:lnTo>
                  <a:pt x="1816" y="815"/>
                </a:lnTo>
                <a:lnTo>
                  <a:pt x="1794" y="796"/>
                </a:lnTo>
                <a:lnTo>
                  <a:pt x="1775" y="778"/>
                </a:lnTo>
                <a:lnTo>
                  <a:pt x="1758" y="765"/>
                </a:lnTo>
                <a:lnTo>
                  <a:pt x="1747" y="756"/>
                </a:lnTo>
                <a:lnTo>
                  <a:pt x="1743" y="874"/>
                </a:lnTo>
                <a:lnTo>
                  <a:pt x="1750" y="877"/>
                </a:lnTo>
                <a:lnTo>
                  <a:pt x="1758" y="875"/>
                </a:lnTo>
                <a:lnTo>
                  <a:pt x="1766" y="873"/>
                </a:lnTo>
                <a:lnTo>
                  <a:pt x="1773" y="871"/>
                </a:lnTo>
                <a:lnTo>
                  <a:pt x="1779" y="873"/>
                </a:lnTo>
                <a:lnTo>
                  <a:pt x="1783" y="875"/>
                </a:lnTo>
                <a:lnTo>
                  <a:pt x="1786" y="878"/>
                </a:lnTo>
                <a:lnTo>
                  <a:pt x="1787" y="883"/>
                </a:lnTo>
                <a:lnTo>
                  <a:pt x="1800" y="885"/>
                </a:lnTo>
                <a:lnTo>
                  <a:pt x="1813" y="886"/>
                </a:lnTo>
                <a:lnTo>
                  <a:pt x="1824" y="888"/>
                </a:lnTo>
                <a:lnTo>
                  <a:pt x="1837" y="886"/>
                </a:lnTo>
                <a:lnTo>
                  <a:pt x="1850" y="885"/>
                </a:lnTo>
                <a:lnTo>
                  <a:pt x="1863" y="885"/>
                </a:lnTo>
                <a:lnTo>
                  <a:pt x="1875" y="884"/>
                </a:lnTo>
                <a:lnTo>
                  <a:pt x="1888" y="884"/>
                </a:lnTo>
                <a:lnTo>
                  <a:pt x="1918" y="863"/>
                </a:lnTo>
                <a:lnTo>
                  <a:pt x="1925" y="866"/>
                </a:lnTo>
                <a:lnTo>
                  <a:pt x="1936" y="868"/>
                </a:lnTo>
                <a:lnTo>
                  <a:pt x="1949" y="870"/>
                </a:lnTo>
                <a:lnTo>
                  <a:pt x="1964" y="873"/>
                </a:lnTo>
                <a:lnTo>
                  <a:pt x="1979" y="876"/>
                </a:lnTo>
                <a:lnTo>
                  <a:pt x="1993" y="882"/>
                </a:lnTo>
                <a:lnTo>
                  <a:pt x="2005" y="889"/>
                </a:lnTo>
                <a:lnTo>
                  <a:pt x="2016" y="898"/>
                </a:lnTo>
                <a:lnTo>
                  <a:pt x="2019" y="904"/>
                </a:lnTo>
                <a:lnTo>
                  <a:pt x="2019" y="912"/>
                </a:lnTo>
                <a:lnTo>
                  <a:pt x="2018" y="920"/>
                </a:lnTo>
                <a:lnTo>
                  <a:pt x="2019" y="928"/>
                </a:lnTo>
                <a:lnTo>
                  <a:pt x="2027" y="934"/>
                </a:lnTo>
                <a:lnTo>
                  <a:pt x="2039" y="942"/>
                </a:lnTo>
                <a:lnTo>
                  <a:pt x="2053" y="952"/>
                </a:lnTo>
                <a:lnTo>
                  <a:pt x="2071" y="964"/>
                </a:lnTo>
                <a:lnTo>
                  <a:pt x="2090" y="977"/>
                </a:lnTo>
                <a:lnTo>
                  <a:pt x="2111" y="992"/>
                </a:lnTo>
                <a:lnTo>
                  <a:pt x="2133" y="1006"/>
                </a:lnTo>
                <a:lnTo>
                  <a:pt x="2155" y="1021"/>
                </a:lnTo>
                <a:lnTo>
                  <a:pt x="2177" y="1036"/>
                </a:lnTo>
                <a:lnTo>
                  <a:pt x="2198" y="1050"/>
                </a:lnTo>
                <a:lnTo>
                  <a:pt x="2216" y="1063"/>
                </a:lnTo>
                <a:lnTo>
                  <a:pt x="2234" y="1074"/>
                </a:lnTo>
                <a:lnTo>
                  <a:pt x="2248" y="1083"/>
                </a:lnTo>
                <a:lnTo>
                  <a:pt x="2259" y="1091"/>
                </a:lnTo>
                <a:lnTo>
                  <a:pt x="2266" y="1096"/>
                </a:lnTo>
                <a:lnTo>
                  <a:pt x="2269" y="1097"/>
                </a:lnTo>
                <a:lnTo>
                  <a:pt x="2269" y="1102"/>
                </a:lnTo>
                <a:lnTo>
                  <a:pt x="2266" y="1104"/>
                </a:lnTo>
                <a:lnTo>
                  <a:pt x="2263" y="1107"/>
                </a:lnTo>
                <a:lnTo>
                  <a:pt x="2259" y="1109"/>
                </a:lnTo>
                <a:lnTo>
                  <a:pt x="2251" y="1109"/>
                </a:lnTo>
                <a:lnTo>
                  <a:pt x="2240" y="1109"/>
                </a:lnTo>
                <a:lnTo>
                  <a:pt x="2224" y="1109"/>
                </a:lnTo>
                <a:lnTo>
                  <a:pt x="2208" y="1109"/>
                </a:lnTo>
                <a:lnTo>
                  <a:pt x="2189" y="1109"/>
                </a:lnTo>
                <a:lnTo>
                  <a:pt x="2168" y="1108"/>
                </a:lnTo>
                <a:lnTo>
                  <a:pt x="2147" y="1108"/>
                </a:lnTo>
                <a:lnTo>
                  <a:pt x="2124" y="1108"/>
                </a:lnTo>
                <a:lnTo>
                  <a:pt x="2102" y="1108"/>
                </a:lnTo>
                <a:lnTo>
                  <a:pt x="2078" y="1108"/>
                </a:lnTo>
                <a:lnTo>
                  <a:pt x="2057" y="1108"/>
                </a:lnTo>
                <a:lnTo>
                  <a:pt x="2037" y="1108"/>
                </a:lnTo>
                <a:lnTo>
                  <a:pt x="2018" y="1108"/>
                </a:lnTo>
                <a:lnTo>
                  <a:pt x="2002" y="1108"/>
                </a:lnTo>
                <a:lnTo>
                  <a:pt x="1988" y="1108"/>
                </a:lnTo>
                <a:lnTo>
                  <a:pt x="1976" y="1108"/>
                </a:lnTo>
                <a:lnTo>
                  <a:pt x="1971" y="1101"/>
                </a:lnTo>
                <a:lnTo>
                  <a:pt x="1967" y="1094"/>
                </a:lnTo>
                <a:lnTo>
                  <a:pt x="1962" y="1087"/>
                </a:lnTo>
                <a:lnTo>
                  <a:pt x="1959" y="1079"/>
                </a:lnTo>
                <a:lnTo>
                  <a:pt x="1955" y="1072"/>
                </a:lnTo>
                <a:lnTo>
                  <a:pt x="1952" y="1065"/>
                </a:lnTo>
                <a:lnTo>
                  <a:pt x="1946" y="1058"/>
                </a:lnTo>
                <a:lnTo>
                  <a:pt x="1940" y="1051"/>
                </a:lnTo>
                <a:lnTo>
                  <a:pt x="1937" y="1053"/>
                </a:lnTo>
                <a:lnTo>
                  <a:pt x="1933" y="1064"/>
                </a:lnTo>
                <a:lnTo>
                  <a:pt x="1930" y="1073"/>
                </a:lnTo>
                <a:lnTo>
                  <a:pt x="1925" y="1082"/>
                </a:lnTo>
                <a:lnTo>
                  <a:pt x="1921" y="1091"/>
                </a:lnTo>
                <a:lnTo>
                  <a:pt x="1915" y="1101"/>
                </a:lnTo>
                <a:lnTo>
                  <a:pt x="1908" y="1109"/>
                </a:lnTo>
                <a:lnTo>
                  <a:pt x="1901" y="1117"/>
                </a:lnTo>
                <a:lnTo>
                  <a:pt x="1893" y="1124"/>
                </a:lnTo>
                <a:lnTo>
                  <a:pt x="2301" y="1124"/>
                </a:lnTo>
                <a:lnTo>
                  <a:pt x="2301" y="1181"/>
                </a:lnTo>
                <a:lnTo>
                  <a:pt x="1786" y="1181"/>
                </a:lnTo>
                <a:lnTo>
                  <a:pt x="1783" y="1126"/>
                </a:lnTo>
                <a:lnTo>
                  <a:pt x="1783" y="1125"/>
                </a:lnTo>
                <a:lnTo>
                  <a:pt x="1776" y="1117"/>
                </a:lnTo>
                <a:lnTo>
                  <a:pt x="1769" y="1109"/>
                </a:lnTo>
                <a:lnTo>
                  <a:pt x="1761" y="1100"/>
                </a:lnTo>
                <a:lnTo>
                  <a:pt x="1754" y="1091"/>
                </a:lnTo>
                <a:lnTo>
                  <a:pt x="1728" y="1091"/>
                </a:lnTo>
                <a:lnTo>
                  <a:pt x="1700" y="1091"/>
                </a:lnTo>
                <a:lnTo>
                  <a:pt x="1670" y="1091"/>
                </a:lnTo>
                <a:lnTo>
                  <a:pt x="1641" y="1093"/>
                </a:lnTo>
                <a:lnTo>
                  <a:pt x="1615" y="1093"/>
                </a:lnTo>
                <a:lnTo>
                  <a:pt x="1594" y="1094"/>
                </a:lnTo>
                <a:lnTo>
                  <a:pt x="1580" y="1094"/>
                </a:lnTo>
                <a:lnTo>
                  <a:pt x="1574" y="1094"/>
                </a:lnTo>
                <a:lnTo>
                  <a:pt x="1584" y="1067"/>
                </a:lnTo>
                <a:lnTo>
                  <a:pt x="1590" y="1067"/>
                </a:lnTo>
                <a:lnTo>
                  <a:pt x="1606" y="1067"/>
                </a:lnTo>
                <a:lnTo>
                  <a:pt x="1628" y="1067"/>
                </a:lnTo>
                <a:lnTo>
                  <a:pt x="1655" y="1067"/>
                </a:lnTo>
                <a:lnTo>
                  <a:pt x="1682" y="1067"/>
                </a:lnTo>
                <a:lnTo>
                  <a:pt x="1706" y="1067"/>
                </a:lnTo>
                <a:lnTo>
                  <a:pt x="1725" y="1066"/>
                </a:lnTo>
                <a:lnTo>
                  <a:pt x="1734" y="1066"/>
                </a:lnTo>
                <a:lnTo>
                  <a:pt x="1739" y="1064"/>
                </a:lnTo>
                <a:lnTo>
                  <a:pt x="1739" y="1060"/>
                </a:lnTo>
                <a:lnTo>
                  <a:pt x="1737" y="1056"/>
                </a:lnTo>
                <a:lnTo>
                  <a:pt x="1736" y="1051"/>
                </a:lnTo>
                <a:lnTo>
                  <a:pt x="1729" y="1050"/>
                </a:lnTo>
                <a:lnTo>
                  <a:pt x="1724" y="1047"/>
                </a:lnTo>
                <a:lnTo>
                  <a:pt x="1718" y="1045"/>
                </a:lnTo>
                <a:lnTo>
                  <a:pt x="1713" y="1042"/>
                </a:lnTo>
                <a:lnTo>
                  <a:pt x="1707" y="1038"/>
                </a:lnTo>
                <a:lnTo>
                  <a:pt x="1702" y="1035"/>
                </a:lnTo>
                <a:lnTo>
                  <a:pt x="1696" y="1032"/>
                </a:lnTo>
                <a:lnTo>
                  <a:pt x="1690" y="1030"/>
                </a:lnTo>
                <a:lnTo>
                  <a:pt x="1683" y="1034"/>
                </a:lnTo>
                <a:lnTo>
                  <a:pt x="1676" y="1036"/>
                </a:lnTo>
                <a:lnTo>
                  <a:pt x="1669" y="1037"/>
                </a:lnTo>
                <a:lnTo>
                  <a:pt x="1661" y="1038"/>
                </a:lnTo>
                <a:lnTo>
                  <a:pt x="1654" y="1037"/>
                </a:lnTo>
                <a:lnTo>
                  <a:pt x="1647" y="1036"/>
                </a:lnTo>
                <a:lnTo>
                  <a:pt x="1640" y="1034"/>
                </a:lnTo>
                <a:lnTo>
                  <a:pt x="1634" y="1030"/>
                </a:lnTo>
                <a:lnTo>
                  <a:pt x="1627" y="1034"/>
                </a:lnTo>
                <a:lnTo>
                  <a:pt x="1622" y="1036"/>
                </a:lnTo>
                <a:lnTo>
                  <a:pt x="1615" y="1039"/>
                </a:lnTo>
                <a:lnTo>
                  <a:pt x="1609" y="1042"/>
                </a:lnTo>
                <a:lnTo>
                  <a:pt x="1602" y="1044"/>
                </a:lnTo>
                <a:lnTo>
                  <a:pt x="1596" y="1047"/>
                </a:lnTo>
                <a:lnTo>
                  <a:pt x="1590" y="1051"/>
                </a:lnTo>
                <a:lnTo>
                  <a:pt x="1584" y="1056"/>
                </a:lnTo>
                <a:lnTo>
                  <a:pt x="1584" y="1067"/>
                </a:lnTo>
                <a:lnTo>
                  <a:pt x="1574" y="1094"/>
                </a:lnTo>
                <a:lnTo>
                  <a:pt x="1567" y="1095"/>
                </a:lnTo>
                <a:lnTo>
                  <a:pt x="1561" y="1097"/>
                </a:lnTo>
                <a:lnTo>
                  <a:pt x="1557" y="1102"/>
                </a:lnTo>
                <a:lnTo>
                  <a:pt x="1552" y="1107"/>
                </a:lnTo>
                <a:lnTo>
                  <a:pt x="1547" y="1112"/>
                </a:lnTo>
                <a:lnTo>
                  <a:pt x="1543" y="1118"/>
                </a:lnTo>
                <a:lnTo>
                  <a:pt x="1538" y="1123"/>
                </a:lnTo>
                <a:lnTo>
                  <a:pt x="1533" y="1127"/>
                </a:lnTo>
                <a:lnTo>
                  <a:pt x="1542" y="1129"/>
                </a:lnTo>
                <a:lnTo>
                  <a:pt x="1554" y="1129"/>
                </a:lnTo>
                <a:lnTo>
                  <a:pt x="1569" y="1129"/>
                </a:lnTo>
                <a:lnTo>
                  <a:pt x="1587" y="1129"/>
                </a:lnTo>
                <a:lnTo>
                  <a:pt x="1605" y="1129"/>
                </a:lnTo>
                <a:lnTo>
                  <a:pt x="1626" y="1127"/>
                </a:lnTo>
                <a:lnTo>
                  <a:pt x="1648" y="1127"/>
                </a:lnTo>
                <a:lnTo>
                  <a:pt x="1669" y="1126"/>
                </a:lnTo>
                <a:lnTo>
                  <a:pt x="1691" y="1126"/>
                </a:lnTo>
                <a:lnTo>
                  <a:pt x="1711" y="1125"/>
                </a:lnTo>
                <a:lnTo>
                  <a:pt x="1729" y="1125"/>
                </a:lnTo>
                <a:lnTo>
                  <a:pt x="1747" y="1125"/>
                </a:lnTo>
                <a:lnTo>
                  <a:pt x="1761" y="1124"/>
                </a:lnTo>
                <a:lnTo>
                  <a:pt x="1772" y="1124"/>
                </a:lnTo>
                <a:lnTo>
                  <a:pt x="1779" y="1125"/>
                </a:lnTo>
                <a:lnTo>
                  <a:pt x="1783" y="1125"/>
                </a:lnTo>
                <a:lnTo>
                  <a:pt x="1786" y="1181"/>
                </a:lnTo>
                <a:lnTo>
                  <a:pt x="1365" y="1181"/>
                </a:lnTo>
                <a:lnTo>
                  <a:pt x="1387" y="1130"/>
                </a:lnTo>
                <a:lnTo>
                  <a:pt x="1392" y="1127"/>
                </a:lnTo>
                <a:lnTo>
                  <a:pt x="1395" y="1129"/>
                </a:lnTo>
                <a:lnTo>
                  <a:pt x="1400" y="1130"/>
                </a:lnTo>
                <a:lnTo>
                  <a:pt x="1404" y="1129"/>
                </a:lnTo>
                <a:lnTo>
                  <a:pt x="1392" y="1110"/>
                </a:lnTo>
                <a:lnTo>
                  <a:pt x="1386" y="1109"/>
                </a:lnTo>
                <a:lnTo>
                  <a:pt x="1381" y="1111"/>
                </a:lnTo>
                <a:lnTo>
                  <a:pt x="1376" y="1115"/>
                </a:lnTo>
                <a:lnTo>
                  <a:pt x="1370" y="1116"/>
                </a:lnTo>
                <a:lnTo>
                  <a:pt x="1361" y="1107"/>
                </a:lnTo>
                <a:lnTo>
                  <a:pt x="1357" y="1096"/>
                </a:lnTo>
                <a:lnTo>
                  <a:pt x="1358" y="1086"/>
                </a:lnTo>
                <a:lnTo>
                  <a:pt x="1363" y="1074"/>
                </a:lnTo>
                <a:lnTo>
                  <a:pt x="1368" y="1063"/>
                </a:lnTo>
                <a:lnTo>
                  <a:pt x="1373" y="1050"/>
                </a:lnTo>
                <a:lnTo>
                  <a:pt x="1377" y="1038"/>
                </a:lnTo>
                <a:lnTo>
                  <a:pt x="1376" y="1025"/>
                </a:lnTo>
                <a:lnTo>
                  <a:pt x="1370" y="1018"/>
                </a:lnTo>
                <a:lnTo>
                  <a:pt x="1365" y="1010"/>
                </a:lnTo>
                <a:lnTo>
                  <a:pt x="1363" y="1001"/>
                </a:lnTo>
                <a:lnTo>
                  <a:pt x="1361" y="992"/>
                </a:lnTo>
                <a:lnTo>
                  <a:pt x="1412" y="884"/>
                </a:lnTo>
                <a:lnTo>
                  <a:pt x="1529" y="883"/>
                </a:lnTo>
                <a:lnTo>
                  <a:pt x="1535" y="878"/>
                </a:lnTo>
                <a:lnTo>
                  <a:pt x="1542" y="871"/>
                </a:lnTo>
                <a:lnTo>
                  <a:pt x="1545" y="864"/>
                </a:lnTo>
                <a:lnTo>
                  <a:pt x="1546" y="856"/>
                </a:lnTo>
                <a:lnTo>
                  <a:pt x="1540" y="852"/>
                </a:lnTo>
                <a:lnTo>
                  <a:pt x="1535" y="854"/>
                </a:lnTo>
                <a:lnTo>
                  <a:pt x="1528" y="859"/>
                </a:lnTo>
                <a:lnTo>
                  <a:pt x="1521" y="862"/>
                </a:lnTo>
                <a:lnTo>
                  <a:pt x="1514" y="863"/>
                </a:lnTo>
                <a:lnTo>
                  <a:pt x="1506" y="863"/>
                </a:lnTo>
                <a:lnTo>
                  <a:pt x="1497" y="861"/>
                </a:lnTo>
                <a:lnTo>
                  <a:pt x="1490" y="857"/>
                </a:lnTo>
                <a:lnTo>
                  <a:pt x="1482" y="851"/>
                </a:lnTo>
                <a:lnTo>
                  <a:pt x="1473" y="846"/>
                </a:lnTo>
                <a:lnTo>
                  <a:pt x="1464" y="845"/>
                </a:lnTo>
                <a:lnTo>
                  <a:pt x="1452" y="844"/>
                </a:lnTo>
                <a:lnTo>
                  <a:pt x="1441" y="844"/>
                </a:lnTo>
                <a:lnTo>
                  <a:pt x="1430" y="845"/>
                </a:lnTo>
                <a:lnTo>
                  <a:pt x="1419" y="844"/>
                </a:lnTo>
                <a:lnTo>
                  <a:pt x="1408" y="842"/>
                </a:lnTo>
                <a:lnTo>
                  <a:pt x="1402" y="845"/>
                </a:lnTo>
                <a:lnTo>
                  <a:pt x="1397" y="846"/>
                </a:lnTo>
                <a:lnTo>
                  <a:pt x="1392" y="848"/>
                </a:lnTo>
                <a:lnTo>
                  <a:pt x="1391" y="853"/>
                </a:lnTo>
                <a:lnTo>
                  <a:pt x="1398" y="860"/>
                </a:lnTo>
                <a:lnTo>
                  <a:pt x="1404" y="867"/>
                </a:lnTo>
                <a:lnTo>
                  <a:pt x="1408" y="875"/>
                </a:lnTo>
                <a:lnTo>
                  <a:pt x="1412" y="884"/>
                </a:lnTo>
                <a:lnTo>
                  <a:pt x="1361" y="992"/>
                </a:lnTo>
                <a:lnTo>
                  <a:pt x="1357" y="993"/>
                </a:lnTo>
                <a:lnTo>
                  <a:pt x="1354" y="993"/>
                </a:lnTo>
                <a:lnTo>
                  <a:pt x="1349" y="992"/>
                </a:lnTo>
                <a:lnTo>
                  <a:pt x="1347" y="990"/>
                </a:lnTo>
                <a:lnTo>
                  <a:pt x="1347" y="998"/>
                </a:lnTo>
                <a:lnTo>
                  <a:pt x="1347" y="1003"/>
                </a:lnTo>
                <a:lnTo>
                  <a:pt x="1348" y="1010"/>
                </a:lnTo>
                <a:lnTo>
                  <a:pt x="1347" y="1018"/>
                </a:lnTo>
                <a:lnTo>
                  <a:pt x="1346" y="1025"/>
                </a:lnTo>
                <a:lnTo>
                  <a:pt x="1347" y="1034"/>
                </a:lnTo>
                <a:lnTo>
                  <a:pt x="1348" y="1041"/>
                </a:lnTo>
                <a:lnTo>
                  <a:pt x="1344" y="1046"/>
                </a:lnTo>
                <a:lnTo>
                  <a:pt x="1336" y="1047"/>
                </a:lnTo>
                <a:lnTo>
                  <a:pt x="1329" y="1046"/>
                </a:lnTo>
                <a:lnTo>
                  <a:pt x="1322" y="1043"/>
                </a:lnTo>
                <a:lnTo>
                  <a:pt x="1318" y="1038"/>
                </a:lnTo>
                <a:lnTo>
                  <a:pt x="1313" y="1046"/>
                </a:lnTo>
                <a:lnTo>
                  <a:pt x="1307" y="1056"/>
                </a:lnTo>
                <a:lnTo>
                  <a:pt x="1301" y="1064"/>
                </a:lnTo>
                <a:lnTo>
                  <a:pt x="1296" y="1072"/>
                </a:lnTo>
                <a:lnTo>
                  <a:pt x="1290" y="1080"/>
                </a:lnTo>
                <a:lnTo>
                  <a:pt x="1283" y="1088"/>
                </a:lnTo>
                <a:lnTo>
                  <a:pt x="1276" y="1095"/>
                </a:lnTo>
                <a:lnTo>
                  <a:pt x="1269" y="1103"/>
                </a:lnTo>
                <a:lnTo>
                  <a:pt x="1261" y="1110"/>
                </a:lnTo>
                <a:lnTo>
                  <a:pt x="1253" y="1117"/>
                </a:lnTo>
                <a:lnTo>
                  <a:pt x="1245" y="1123"/>
                </a:lnTo>
                <a:lnTo>
                  <a:pt x="1235" y="1129"/>
                </a:lnTo>
                <a:lnTo>
                  <a:pt x="1254" y="1131"/>
                </a:lnTo>
                <a:lnTo>
                  <a:pt x="1272" y="1131"/>
                </a:lnTo>
                <a:lnTo>
                  <a:pt x="1291" y="1131"/>
                </a:lnTo>
                <a:lnTo>
                  <a:pt x="1310" y="1131"/>
                </a:lnTo>
                <a:lnTo>
                  <a:pt x="1329" y="1130"/>
                </a:lnTo>
                <a:lnTo>
                  <a:pt x="1349" y="1130"/>
                </a:lnTo>
                <a:lnTo>
                  <a:pt x="1368" y="1130"/>
                </a:lnTo>
                <a:lnTo>
                  <a:pt x="1387" y="1130"/>
                </a:lnTo>
                <a:lnTo>
                  <a:pt x="1365" y="1181"/>
                </a:lnTo>
                <a:lnTo>
                  <a:pt x="864" y="1181"/>
                </a:lnTo>
                <a:lnTo>
                  <a:pt x="876" y="1130"/>
                </a:lnTo>
                <a:lnTo>
                  <a:pt x="1071" y="1130"/>
                </a:lnTo>
                <a:lnTo>
                  <a:pt x="1077" y="1131"/>
                </a:lnTo>
                <a:lnTo>
                  <a:pt x="1080" y="1131"/>
                </a:lnTo>
                <a:lnTo>
                  <a:pt x="1085" y="1131"/>
                </a:lnTo>
                <a:lnTo>
                  <a:pt x="1089" y="1130"/>
                </a:lnTo>
                <a:lnTo>
                  <a:pt x="1082" y="1125"/>
                </a:lnTo>
                <a:lnTo>
                  <a:pt x="1077" y="1120"/>
                </a:lnTo>
                <a:lnTo>
                  <a:pt x="1071" y="1116"/>
                </a:lnTo>
                <a:lnTo>
                  <a:pt x="1065" y="1112"/>
                </a:lnTo>
                <a:lnTo>
                  <a:pt x="1059" y="1108"/>
                </a:lnTo>
                <a:lnTo>
                  <a:pt x="1053" y="1103"/>
                </a:lnTo>
                <a:lnTo>
                  <a:pt x="1048" y="1098"/>
                </a:lnTo>
                <a:lnTo>
                  <a:pt x="1043" y="1093"/>
                </a:lnTo>
                <a:lnTo>
                  <a:pt x="1089" y="1093"/>
                </a:lnTo>
                <a:lnTo>
                  <a:pt x="1093" y="1090"/>
                </a:lnTo>
                <a:lnTo>
                  <a:pt x="1100" y="1082"/>
                </a:lnTo>
                <a:lnTo>
                  <a:pt x="1107" y="1069"/>
                </a:lnTo>
                <a:lnTo>
                  <a:pt x="1115" y="1053"/>
                </a:lnTo>
                <a:lnTo>
                  <a:pt x="1123" y="1036"/>
                </a:lnTo>
                <a:lnTo>
                  <a:pt x="1130" y="1020"/>
                </a:lnTo>
                <a:lnTo>
                  <a:pt x="1137" y="1008"/>
                </a:lnTo>
                <a:lnTo>
                  <a:pt x="1140" y="1000"/>
                </a:lnTo>
                <a:lnTo>
                  <a:pt x="1160" y="999"/>
                </a:lnTo>
                <a:lnTo>
                  <a:pt x="1155" y="1017"/>
                </a:lnTo>
                <a:lnTo>
                  <a:pt x="1150" y="1053"/>
                </a:lnTo>
                <a:lnTo>
                  <a:pt x="1145" y="1089"/>
                </a:lnTo>
                <a:lnTo>
                  <a:pt x="1144" y="1110"/>
                </a:lnTo>
                <a:lnTo>
                  <a:pt x="1148" y="1110"/>
                </a:lnTo>
                <a:lnTo>
                  <a:pt x="1152" y="1110"/>
                </a:lnTo>
                <a:lnTo>
                  <a:pt x="1157" y="1110"/>
                </a:lnTo>
                <a:lnTo>
                  <a:pt x="1161" y="1111"/>
                </a:lnTo>
                <a:lnTo>
                  <a:pt x="1168" y="1110"/>
                </a:lnTo>
                <a:lnTo>
                  <a:pt x="1174" y="1110"/>
                </a:lnTo>
                <a:lnTo>
                  <a:pt x="1179" y="1110"/>
                </a:lnTo>
                <a:lnTo>
                  <a:pt x="1182" y="1110"/>
                </a:lnTo>
                <a:lnTo>
                  <a:pt x="1174" y="991"/>
                </a:lnTo>
                <a:lnTo>
                  <a:pt x="1176" y="996"/>
                </a:lnTo>
                <a:lnTo>
                  <a:pt x="1181" y="1009"/>
                </a:lnTo>
                <a:lnTo>
                  <a:pt x="1188" y="1027"/>
                </a:lnTo>
                <a:lnTo>
                  <a:pt x="1195" y="1045"/>
                </a:lnTo>
                <a:lnTo>
                  <a:pt x="1203" y="1065"/>
                </a:lnTo>
                <a:lnTo>
                  <a:pt x="1210" y="1081"/>
                </a:lnTo>
                <a:lnTo>
                  <a:pt x="1215" y="1093"/>
                </a:lnTo>
                <a:lnTo>
                  <a:pt x="1218" y="1098"/>
                </a:lnTo>
                <a:lnTo>
                  <a:pt x="1224" y="1094"/>
                </a:lnTo>
                <a:lnTo>
                  <a:pt x="1232" y="1089"/>
                </a:lnTo>
                <a:lnTo>
                  <a:pt x="1239" y="1086"/>
                </a:lnTo>
                <a:lnTo>
                  <a:pt x="1242" y="1085"/>
                </a:lnTo>
                <a:lnTo>
                  <a:pt x="1240" y="1079"/>
                </a:lnTo>
                <a:lnTo>
                  <a:pt x="1238" y="1074"/>
                </a:lnTo>
                <a:lnTo>
                  <a:pt x="1235" y="1069"/>
                </a:lnTo>
                <a:lnTo>
                  <a:pt x="1233" y="1068"/>
                </a:lnTo>
                <a:lnTo>
                  <a:pt x="1274" y="1053"/>
                </a:lnTo>
                <a:lnTo>
                  <a:pt x="1278" y="1047"/>
                </a:lnTo>
                <a:lnTo>
                  <a:pt x="1284" y="1038"/>
                </a:lnTo>
                <a:lnTo>
                  <a:pt x="1290" y="1030"/>
                </a:lnTo>
                <a:lnTo>
                  <a:pt x="1292" y="1024"/>
                </a:lnTo>
                <a:lnTo>
                  <a:pt x="1286" y="1021"/>
                </a:lnTo>
                <a:lnTo>
                  <a:pt x="1276" y="1017"/>
                </a:lnTo>
                <a:lnTo>
                  <a:pt x="1262" y="1013"/>
                </a:lnTo>
                <a:lnTo>
                  <a:pt x="1248" y="1007"/>
                </a:lnTo>
                <a:lnTo>
                  <a:pt x="1233" y="1002"/>
                </a:lnTo>
                <a:lnTo>
                  <a:pt x="1219" y="999"/>
                </a:lnTo>
                <a:lnTo>
                  <a:pt x="1209" y="995"/>
                </a:lnTo>
                <a:lnTo>
                  <a:pt x="1202" y="994"/>
                </a:lnTo>
                <a:lnTo>
                  <a:pt x="1194" y="977"/>
                </a:lnTo>
                <a:lnTo>
                  <a:pt x="1203" y="976"/>
                </a:lnTo>
                <a:lnTo>
                  <a:pt x="1218" y="976"/>
                </a:lnTo>
                <a:lnTo>
                  <a:pt x="1237" y="974"/>
                </a:lnTo>
                <a:lnTo>
                  <a:pt x="1256" y="973"/>
                </a:lnTo>
                <a:lnTo>
                  <a:pt x="1275" y="972"/>
                </a:lnTo>
                <a:lnTo>
                  <a:pt x="1292" y="972"/>
                </a:lnTo>
                <a:lnTo>
                  <a:pt x="1303" y="971"/>
                </a:lnTo>
                <a:lnTo>
                  <a:pt x="1307" y="971"/>
                </a:lnTo>
                <a:lnTo>
                  <a:pt x="1306" y="964"/>
                </a:lnTo>
                <a:lnTo>
                  <a:pt x="1303" y="954"/>
                </a:lnTo>
                <a:lnTo>
                  <a:pt x="1300" y="943"/>
                </a:lnTo>
                <a:lnTo>
                  <a:pt x="1298" y="937"/>
                </a:lnTo>
                <a:lnTo>
                  <a:pt x="1245" y="954"/>
                </a:lnTo>
                <a:lnTo>
                  <a:pt x="1223" y="913"/>
                </a:lnTo>
                <a:lnTo>
                  <a:pt x="1226" y="912"/>
                </a:lnTo>
                <a:lnTo>
                  <a:pt x="1232" y="908"/>
                </a:lnTo>
                <a:lnTo>
                  <a:pt x="1240" y="905"/>
                </a:lnTo>
                <a:lnTo>
                  <a:pt x="1248" y="900"/>
                </a:lnTo>
                <a:lnTo>
                  <a:pt x="1255" y="896"/>
                </a:lnTo>
                <a:lnTo>
                  <a:pt x="1261" y="890"/>
                </a:lnTo>
                <a:lnTo>
                  <a:pt x="1264" y="885"/>
                </a:lnTo>
                <a:lnTo>
                  <a:pt x="1266" y="882"/>
                </a:lnTo>
                <a:lnTo>
                  <a:pt x="1261" y="873"/>
                </a:lnTo>
                <a:lnTo>
                  <a:pt x="1254" y="864"/>
                </a:lnTo>
                <a:lnTo>
                  <a:pt x="1246" y="859"/>
                </a:lnTo>
                <a:lnTo>
                  <a:pt x="1238" y="856"/>
                </a:lnTo>
                <a:lnTo>
                  <a:pt x="1175" y="954"/>
                </a:lnTo>
                <a:lnTo>
                  <a:pt x="1223" y="913"/>
                </a:lnTo>
                <a:lnTo>
                  <a:pt x="1245" y="954"/>
                </a:lnTo>
                <a:lnTo>
                  <a:pt x="1194" y="977"/>
                </a:lnTo>
                <a:lnTo>
                  <a:pt x="1202" y="994"/>
                </a:lnTo>
                <a:lnTo>
                  <a:pt x="1274" y="1053"/>
                </a:lnTo>
                <a:lnTo>
                  <a:pt x="1233" y="1068"/>
                </a:lnTo>
                <a:lnTo>
                  <a:pt x="1228" y="1065"/>
                </a:lnTo>
                <a:lnTo>
                  <a:pt x="1221" y="1057"/>
                </a:lnTo>
                <a:lnTo>
                  <a:pt x="1213" y="1044"/>
                </a:lnTo>
                <a:lnTo>
                  <a:pt x="1204" y="1030"/>
                </a:lnTo>
                <a:lnTo>
                  <a:pt x="1194" y="1015"/>
                </a:lnTo>
                <a:lnTo>
                  <a:pt x="1186" y="1003"/>
                </a:lnTo>
                <a:lnTo>
                  <a:pt x="1179" y="994"/>
                </a:lnTo>
                <a:lnTo>
                  <a:pt x="1174" y="991"/>
                </a:lnTo>
                <a:lnTo>
                  <a:pt x="1182" y="1110"/>
                </a:lnTo>
                <a:lnTo>
                  <a:pt x="1179" y="1089"/>
                </a:lnTo>
                <a:lnTo>
                  <a:pt x="1172" y="1057"/>
                </a:lnTo>
                <a:lnTo>
                  <a:pt x="1165" y="1023"/>
                </a:lnTo>
                <a:lnTo>
                  <a:pt x="1160" y="999"/>
                </a:lnTo>
                <a:lnTo>
                  <a:pt x="1140" y="1000"/>
                </a:lnTo>
                <a:lnTo>
                  <a:pt x="1117" y="1020"/>
                </a:lnTo>
                <a:lnTo>
                  <a:pt x="1136" y="984"/>
                </a:lnTo>
                <a:lnTo>
                  <a:pt x="1097" y="978"/>
                </a:lnTo>
                <a:lnTo>
                  <a:pt x="1095" y="957"/>
                </a:lnTo>
                <a:lnTo>
                  <a:pt x="1099" y="957"/>
                </a:lnTo>
                <a:lnTo>
                  <a:pt x="1103" y="958"/>
                </a:lnTo>
                <a:lnTo>
                  <a:pt x="1109" y="959"/>
                </a:lnTo>
                <a:lnTo>
                  <a:pt x="1115" y="961"/>
                </a:lnTo>
                <a:lnTo>
                  <a:pt x="1122" y="962"/>
                </a:lnTo>
                <a:lnTo>
                  <a:pt x="1126" y="963"/>
                </a:lnTo>
                <a:lnTo>
                  <a:pt x="1131" y="964"/>
                </a:lnTo>
                <a:lnTo>
                  <a:pt x="1135" y="965"/>
                </a:lnTo>
                <a:lnTo>
                  <a:pt x="1130" y="963"/>
                </a:lnTo>
                <a:lnTo>
                  <a:pt x="1118" y="957"/>
                </a:lnTo>
                <a:lnTo>
                  <a:pt x="1102" y="948"/>
                </a:lnTo>
                <a:lnTo>
                  <a:pt x="1083" y="939"/>
                </a:lnTo>
                <a:lnTo>
                  <a:pt x="1064" y="929"/>
                </a:lnTo>
                <a:lnTo>
                  <a:pt x="1048" y="921"/>
                </a:lnTo>
                <a:lnTo>
                  <a:pt x="1036" y="915"/>
                </a:lnTo>
                <a:lnTo>
                  <a:pt x="1031" y="913"/>
                </a:lnTo>
                <a:lnTo>
                  <a:pt x="1054" y="876"/>
                </a:lnTo>
                <a:lnTo>
                  <a:pt x="1061" y="879"/>
                </a:lnTo>
                <a:lnTo>
                  <a:pt x="1073" y="889"/>
                </a:lnTo>
                <a:lnTo>
                  <a:pt x="1087" y="899"/>
                </a:lnTo>
                <a:lnTo>
                  <a:pt x="1102" y="912"/>
                </a:lnTo>
                <a:lnTo>
                  <a:pt x="1117" y="925"/>
                </a:lnTo>
                <a:lnTo>
                  <a:pt x="1130" y="935"/>
                </a:lnTo>
                <a:lnTo>
                  <a:pt x="1139" y="942"/>
                </a:lnTo>
                <a:lnTo>
                  <a:pt x="1144" y="944"/>
                </a:lnTo>
                <a:lnTo>
                  <a:pt x="1085" y="852"/>
                </a:lnTo>
                <a:lnTo>
                  <a:pt x="1139" y="831"/>
                </a:lnTo>
                <a:lnTo>
                  <a:pt x="1161" y="946"/>
                </a:lnTo>
                <a:lnTo>
                  <a:pt x="1182" y="832"/>
                </a:lnTo>
                <a:lnTo>
                  <a:pt x="1176" y="831"/>
                </a:lnTo>
                <a:lnTo>
                  <a:pt x="1169" y="830"/>
                </a:lnTo>
                <a:lnTo>
                  <a:pt x="1163" y="830"/>
                </a:lnTo>
                <a:lnTo>
                  <a:pt x="1158" y="830"/>
                </a:lnTo>
                <a:lnTo>
                  <a:pt x="1153" y="830"/>
                </a:lnTo>
                <a:lnTo>
                  <a:pt x="1147" y="830"/>
                </a:lnTo>
                <a:lnTo>
                  <a:pt x="1143" y="831"/>
                </a:lnTo>
                <a:lnTo>
                  <a:pt x="1139" y="831"/>
                </a:lnTo>
                <a:lnTo>
                  <a:pt x="1085" y="852"/>
                </a:lnTo>
                <a:lnTo>
                  <a:pt x="1077" y="857"/>
                </a:lnTo>
                <a:lnTo>
                  <a:pt x="1066" y="864"/>
                </a:lnTo>
                <a:lnTo>
                  <a:pt x="1058" y="871"/>
                </a:lnTo>
                <a:lnTo>
                  <a:pt x="1054" y="876"/>
                </a:lnTo>
                <a:lnTo>
                  <a:pt x="1031" y="913"/>
                </a:lnTo>
                <a:lnTo>
                  <a:pt x="1028" y="920"/>
                </a:lnTo>
                <a:lnTo>
                  <a:pt x="1026" y="928"/>
                </a:lnTo>
                <a:lnTo>
                  <a:pt x="1023" y="936"/>
                </a:lnTo>
                <a:lnTo>
                  <a:pt x="1021" y="944"/>
                </a:lnTo>
                <a:lnTo>
                  <a:pt x="1024" y="944"/>
                </a:lnTo>
                <a:lnTo>
                  <a:pt x="1031" y="947"/>
                </a:lnTo>
                <a:lnTo>
                  <a:pt x="1043" y="948"/>
                </a:lnTo>
                <a:lnTo>
                  <a:pt x="1057" y="950"/>
                </a:lnTo>
                <a:lnTo>
                  <a:pt x="1070" y="954"/>
                </a:lnTo>
                <a:lnTo>
                  <a:pt x="1081" y="955"/>
                </a:lnTo>
                <a:lnTo>
                  <a:pt x="1090" y="957"/>
                </a:lnTo>
                <a:lnTo>
                  <a:pt x="1095" y="957"/>
                </a:lnTo>
                <a:lnTo>
                  <a:pt x="1097" y="978"/>
                </a:lnTo>
                <a:lnTo>
                  <a:pt x="1089" y="977"/>
                </a:lnTo>
                <a:lnTo>
                  <a:pt x="1079" y="977"/>
                </a:lnTo>
                <a:lnTo>
                  <a:pt x="1066" y="977"/>
                </a:lnTo>
                <a:lnTo>
                  <a:pt x="1053" y="978"/>
                </a:lnTo>
                <a:lnTo>
                  <a:pt x="1041" y="978"/>
                </a:lnTo>
                <a:lnTo>
                  <a:pt x="1030" y="979"/>
                </a:lnTo>
                <a:lnTo>
                  <a:pt x="1022" y="979"/>
                </a:lnTo>
                <a:lnTo>
                  <a:pt x="1020" y="979"/>
                </a:lnTo>
                <a:lnTo>
                  <a:pt x="1021" y="986"/>
                </a:lnTo>
                <a:lnTo>
                  <a:pt x="1023" y="993"/>
                </a:lnTo>
                <a:lnTo>
                  <a:pt x="1026" y="1000"/>
                </a:lnTo>
                <a:lnTo>
                  <a:pt x="1027" y="1007"/>
                </a:lnTo>
                <a:lnTo>
                  <a:pt x="1136" y="984"/>
                </a:lnTo>
                <a:lnTo>
                  <a:pt x="1117" y="1020"/>
                </a:lnTo>
                <a:lnTo>
                  <a:pt x="1111" y="1023"/>
                </a:lnTo>
                <a:lnTo>
                  <a:pt x="1103" y="1029"/>
                </a:lnTo>
                <a:lnTo>
                  <a:pt x="1093" y="1036"/>
                </a:lnTo>
                <a:lnTo>
                  <a:pt x="1083" y="1044"/>
                </a:lnTo>
                <a:lnTo>
                  <a:pt x="1073" y="1052"/>
                </a:lnTo>
                <a:lnTo>
                  <a:pt x="1065" y="1058"/>
                </a:lnTo>
                <a:lnTo>
                  <a:pt x="1058" y="1063"/>
                </a:lnTo>
                <a:lnTo>
                  <a:pt x="1054" y="1064"/>
                </a:lnTo>
                <a:lnTo>
                  <a:pt x="1058" y="1069"/>
                </a:lnTo>
                <a:lnTo>
                  <a:pt x="1063" y="1074"/>
                </a:lnTo>
                <a:lnTo>
                  <a:pt x="1068" y="1079"/>
                </a:lnTo>
                <a:lnTo>
                  <a:pt x="1074" y="1083"/>
                </a:lnTo>
                <a:lnTo>
                  <a:pt x="1080" y="1087"/>
                </a:lnTo>
                <a:lnTo>
                  <a:pt x="1085" y="1089"/>
                </a:lnTo>
                <a:lnTo>
                  <a:pt x="1088" y="1091"/>
                </a:lnTo>
                <a:lnTo>
                  <a:pt x="1089" y="1093"/>
                </a:lnTo>
                <a:lnTo>
                  <a:pt x="1043" y="1093"/>
                </a:lnTo>
                <a:lnTo>
                  <a:pt x="1030" y="1074"/>
                </a:lnTo>
                <a:lnTo>
                  <a:pt x="1022" y="1071"/>
                </a:lnTo>
                <a:lnTo>
                  <a:pt x="1014" y="1068"/>
                </a:lnTo>
                <a:lnTo>
                  <a:pt x="1006" y="1068"/>
                </a:lnTo>
                <a:lnTo>
                  <a:pt x="998" y="1069"/>
                </a:lnTo>
                <a:lnTo>
                  <a:pt x="990" y="1071"/>
                </a:lnTo>
                <a:lnTo>
                  <a:pt x="980" y="1072"/>
                </a:lnTo>
                <a:lnTo>
                  <a:pt x="971" y="1072"/>
                </a:lnTo>
                <a:lnTo>
                  <a:pt x="962" y="1072"/>
                </a:lnTo>
                <a:lnTo>
                  <a:pt x="959" y="1081"/>
                </a:lnTo>
                <a:lnTo>
                  <a:pt x="956" y="1088"/>
                </a:lnTo>
                <a:lnTo>
                  <a:pt x="952" y="1095"/>
                </a:lnTo>
                <a:lnTo>
                  <a:pt x="948" y="1100"/>
                </a:lnTo>
                <a:lnTo>
                  <a:pt x="943" y="1105"/>
                </a:lnTo>
                <a:lnTo>
                  <a:pt x="937" y="1110"/>
                </a:lnTo>
                <a:lnTo>
                  <a:pt x="932" y="1113"/>
                </a:lnTo>
                <a:lnTo>
                  <a:pt x="923" y="1118"/>
                </a:lnTo>
                <a:lnTo>
                  <a:pt x="917" y="1116"/>
                </a:lnTo>
                <a:lnTo>
                  <a:pt x="911" y="1112"/>
                </a:lnTo>
                <a:lnTo>
                  <a:pt x="905" y="1109"/>
                </a:lnTo>
                <a:lnTo>
                  <a:pt x="899" y="1107"/>
                </a:lnTo>
                <a:lnTo>
                  <a:pt x="876" y="1130"/>
                </a:lnTo>
                <a:lnTo>
                  <a:pt x="864" y="1181"/>
                </a:lnTo>
                <a:lnTo>
                  <a:pt x="799" y="1181"/>
                </a:lnTo>
                <a:lnTo>
                  <a:pt x="790" y="1105"/>
                </a:lnTo>
                <a:lnTo>
                  <a:pt x="797" y="1105"/>
                </a:lnTo>
                <a:lnTo>
                  <a:pt x="803" y="1105"/>
                </a:lnTo>
                <a:lnTo>
                  <a:pt x="808" y="1105"/>
                </a:lnTo>
                <a:lnTo>
                  <a:pt x="812" y="1104"/>
                </a:lnTo>
                <a:lnTo>
                  <a:pt x="804" y="985"/>
                </a:lnTo>
                <a:lnTo>
                  <a:pt x="806" y="991"/>
                </a:lnTo>
                <a:lnTo>
                  <a:pt x="811" y="1003"/>
                </a:lnTo>
                <a:lnTo>
                  <a:pt x="817" y="1021"/>
                </a:lnTo>
                <a:lnTo>
                  <a:pt x="825" y="1041"/>
                </a:lnTo>
                <a:lnTo>
                  <a:pt x="832" y="1059"/>
                </a:lnTo>
                <a:lnTo>
                  <a:pt x="840" y="1076"/>
                </a:lnTo>
                <a:lnTo>
                  <a:pt x="845" y="1088"/>
                </a:lnTo>
                <a:lnTo>
                  <a:pt x="848" y="1094"/>
                </a:lnTo>
                <a:lnTo>
                  <a:pt x="854" y="1089"/>
                </a:lnTo>
                <a:lnTo>
                  <a:pt x="862" y="1085"/>
                </a:lnTo>
                <a:lnTo>
                  <a:pt x="869" y="1081"/>
                </a:lnTo>
                <a:lnTo>
                  <a:pt x="871" y="1080"/>
                </a:lnTo>
                <a:lnTo>
                  <a:pt x="870" y="1074"/>
                </a:lnTo>
                <a:lnTo>
                  <a:pt x="868" y="1069"/>
                </a:lnTo>
                <a:lnTo>
                  <a:pt x="864" y="1065"/>
                </a:lnTo>
                <a:lnTo>
                  <a:pt x="862" y="1064"/>
                </a:lnTo>
                <a:lnTo>
                  <a:pt x="904" y="1049"/>
                </a:lnTo>
                <a:lnTo>
                  <a:pt x="908" y="1043"/>
                </a:lnTo>
                <a:lnTo>
                  <a:pt x="914" y="1034"/>
                </a:lnTo>
                <a:lnTo>
                  <a:pt x="920" y="1024"/>
                </a:lnTo>
                <a:lnTo>
                  <a:pt x="922" y="1018"/>
                </a:lnTo>
                <a:lnTo>
                  <a:pt x="917" y="1016"/>
                </a:lnTo>
                <a:lnTo>
                  <a:pt x="906" y="1013"/>
                </a:lnTo>
                <a:lnTo>
                  <a:pt x="892" y="1008"/>
                </a:lnTo>
                <a:lnTo>
                  <a:pt x="877" y="1002"/>
                </a:lnTo>
                <a:lnTo>
                  <a:pt x="863" y="998"/>
                </a:lnTo>
                <a:lnTo>
                  <a:pt x="849" y="994"/>
                </a:lnTo>
                <a:lnTo>
                  <a:pt x="839" y="991"/>
                </a:lnTo>
                <a:lnTo>
                  <a:pt x="832" y="990"/>
                </a:lnTo>
                <a:lnTo>
                  <a:pt x="824" y="972"/>
                </a:lnTo>
                <a:lnTo>
                  <a:pt x="833" y="971"/>
                </a:lnTo>
                <a:lnTo>
                  <a:pt x="848" y="971"/>
                </a:lnTo>
                <a:lnTo>
                  <a:pt x="867" y="970"/>
                </a:lnTo>
                <a:lnTo>
                  <a:pt x="886" y="969"/>
                </a:lnTo>
                <a:lnTo>
                  <a:pt x="905" y="968"/>
                </a:lnTo>
                <a:lnTo>
                  <a:pt x="922" y="968"/>
                </a:lnTo>
                <a:lnTo>
                  <a:pt x="933" y="966"/>
                </a:lnTo>
                <a:lnTo>
                  <a:pt x="937" y="966"/>
                </a:lnTo>
                <a:lnTo>
                  <a:pt x="936" y="959"/>
                </a:lnTo>
                <a:lnTo>
                  <a:pt x="933" y="949"/>
                </a:lnTo>
                <a:lnTo>
                  <a:pt x="929" y="939"/>
                </a:lnTo>
                <a:lnTo>
                  <a:pt x="927" y="933"/>
                </a:lnTo>
                <a:lnTo>
                  <a:pt x="875" y="948"/>
                </a:lnTo>
                <a:lnTo>
                  <a:pt x="852" y="908"/>
                </a:lnTo>
                <a:lnTo>
                  <a:pt x="855" y="907"/>
                </a:lnTo>
                <a:lnTo>
                  <a:pt x="861" y="904"/>
                </a:lnTo>
                <a:lnTo>
                  <a:pt x="869" y="899"/>
                </a:lnTo>
                <a:lnTo>
                  <a:pt x="877" y="895"/>
                </a:lnTo>
                <a:lnTo>
                  <a:pt x="884" y="890"/>
                </a:lnTo>
                <a:lnTo>
                  <a:pt x="891" y="885"/>
                </a:lnTo>
                <a:lnTo>
                  <a:pt x="894" y="881"/>
                </a:lnTo>
                <a:lnTo>
                  <a:pt x="896" y="877"/>
                </a:lnTo>
                <a:lnTo>
                  <a:pt x="891" y="868"/>
                </a:lnTo>
                <a:lnTo>
                  <a:pt x="884" y="860"/>
                </a:lnTo>
                <a:lnTo>
                  <a:pt x="876" y="854"/>
                </a:lnTo>
                <a:lnTo>
                  <a:pt x="867" y="852"/>
                </a:lnTo>
                <a:lnTo>
                  <a:pt x="805" y="948"/>
                </a:lnTo>
                <a:lnTo>
                  <a:pt x="852" y="908"/>
                </a:lnTo>
                <a:lnTo>
                  <a:pt x="875" y="948"/>
                </a:lnTo>
                <a:lnTo>
                  <a:pt x="824" y="972"/>
                </a:lnTo>
                <a:lnTo>
                  <a:pt x="832" y="990"/>
                </a:lnTo>
                <a:lnTo>
                  <a:pt x="904" y="1049"/>
                </a:lnTo>
                <a:lnTo>
                  <a:pt x="862" y="1064"/>
                </a:lnTo>
                <a:lnTo>
                  <a:pt x="859" y="1060"/>
                </a:lnTo>
                <a:lnTo>
                  <a:pt x="852" y="1052"/>
                </a:lnTo>
                <a:lnTo>
                  <a:pt x="843" y="1039"/>
                </a:lnTo>
                <a:lnTo>
                  <a:pt x="833" y="1024"/>
                </a:lnTo>
                <a:lnTo>
                  <a:pt x="824" y="1010"/>
                </a:lnTo>
                <a:lnTo>
                  <a:pt x="816" y="998"/>
                </a:lnTo>
                <a:lnTo>
                  <a:pt x="809" y="988"/>
                </a:lnTo>
                <a:lnTo>
                  <a:pt x="804" y="985"/>
                </a:lnTo>
                <a:lnTo>
                  <a:pt x="812" y="1104"/>
                </a:lnTo>
                <a:lnTo>
                  <a:pt x="809" y="1085"/>
                </a:lnTo>
                <a:lnTo>
                  <a:pt x="802" y="1052"/>
                </a:lnTo>
                <a:lnTo>
                  <a:pt x="795" y="1017"/>
                </a:lnTo>
                <a:lnTo>
                  <a:pt x="789" y="993"/>
                </a:lnTo>
                <a:lnTo>
                  <a:pt x="770" y="995"/>
                </a:lnTo>
                <a:lnTo>
                  <a:pt x="747" y="1014"/>
                </a:lnTo>
                <a:lnTo>
                  <a:pt x="765" y="979"/>
                </a:lnTo>
                <a:lnTo>
                  <a:pt x="726" y="973"/>
                </a:lnTo>
                <a:lnTo>
                  <a:pt x="725" y="952"/>
                </a:lnTo>
                <a:lnTo>
                  <a:pt x="729" y="952"/>
                </a:lnTo>
                <a:lnTo>
                  <a:pt x="733" y="954"/>
                </a:lnTo>
                <a:lnTo>
                  <a:pt x="738" y="955"/>
                </a:lnTo>
                <a:lnTo>
                  <a:pt x="745" y="956"/>
                </a:lnTo>
                <a:lnTo>
                  <a:pt x="751" y="957"/>
                </a:lnTo>
                <a:lnTo>
                  <a:pt x="755" y="958"/>
                </a:lnTo>
                <a:lnTo>
                  <a:pt x="760" y="959"/>
                </a:lnTo>
                <a:lnTo>
                  <a:pt x="763" y="961"/>
                </a:lnTo>
                <a:lnTo>
                  <a:pt x="759" y="957"/>
                </a:lnTo>
                <a:lnTo>
                  <a:pt x="747" y="951"/>
                </a:lnTo>
                <a:lnTo>
                  <a:pt x="731" y="943"/>
                </a:lnTo>
                <a:lnTo>
                  <a:pt x="712" y="934"/>
                </a:lnTo>
                <a:lnTo>
                  <a:pt x="693" y="925"/>
                </a:lnTo>
                <a:lnTo>
                  <a:pt x="676" y="917"/>
                </a:lnTo>
                <a:lnTo>
                  <a:pt x="665" y="911"/>
                </a:lnTo>
                <a:lnTo>
                  <a:pt x="660" y="908"/>
                </a:lnTo>
                <a:lnTo>
                  <a:pt x="685" y="871"/>
                </a:lnTo>
                <a:lnTo>
                  <a:pt x="692" y="875"/>
                </a:lnTo>
                <a:lnTo>
                  <a:pt x="702" y="884"/>
                </a:lnTo>
                <a:lnTo>
                  <a:pt x="716" y="895"/>
                </a:lnTo>
                <a:lnTo>
                  <a:pt x="732" y="907"/>
                </a:lnTo>
                <a:lnTo>
                  <a:pt x="747" y="920"/>
                </a:lnTo>
                <a:lnTo>
                  <a:pt x="760" y="930"/>
                </a:lnTo>
                <a:lnTo>
                  <a:pt x="769" y="937"/>
                </a:lnTo>
                <a:lnTo>
                  <a:pt x="773" y="940"/>
                </a:lnTo>
                <a:lnTo>
                  <a:pt x="715" y="847"/>
                </a:lnTo>
                <a:lnTo>
                  <a:pt x="768" y="826"/>
                </a:lnTo>
                <a:lnTo>
                  <a:pt x="790" y="941"/>
                </a:lnTo>
                <a:lnTo>
                  <a:pt x="811" y="826"/>
                </a:lnTo>
                <a:lnTo>
                  <a:pt x="805" y="825"/>
                </a:lnTo>
                <a:lnTo>
                  <a:pt x="799" y="825"/>
                </a:lnTo>
                <a:lnTo>
                  <a:pt x="794" y="824"/>
                </a:lnTo>
                <a:lnTo>
                  <a:pt x="788" y="824"/>
                </a:lnTo>
                <a:lnTo>
                  <a:pt x="782" y="825"/>
                </a:lnTo>
                <a:lnTo>
                  <a:pt x="777" y="825"/>
                </a:lnTo>
                <a:lnTo>
                  <a:pt x="773" y="826"/>
                </a:lnTo>
                <a:lnTo>
                  <a:pt x="768" y="826"/>
                </a:lnTo>
                <a:lnTo>
                  <a:pt x="715" y="847"/>
                </a:lnTo>
                <a:lnTo>
                  <a:pt x="707" y="853"/>
                </a:lnTo>
                <a:lnTo>
                  <a:pt x="696" y="860"/>
                </a:lnTo>
                <a:lnTo>
                  <a:pt x="688" y="867"/>
                </a:lnTo>
                <a:lnTo>
                  <a:pt x="685" y="871"/>
                </a:lnTo>
                <a:lnTo>
                  <a:pt x="660" y="908"/>
                </a:lnTo>
                <a:lnTo>
                  <a:pt x="658" y="914"/>
                </a:lnTo>
                <a:lnTo>
                  <a:pt x="656" y="922"/>
                </a:lnTo>
                <a:lnTo>
                  <a:pt x="653" y="932"/>
                </a:lnTo>
                <a:lnTo>
                  <a:pt x="651" y="940"/>
                </a:lnTo>
                <a:lnTo>
                  <a:pt x="654" y="940"/>
                </a:lnTo>
                <a:lnTo>
                  <a:pt x="661" y="942"/>
                </a:lnTo>
                <a:lnTo>
                  <a:pt x="673" y="943"/>
                </a:lnTo>
                <a:lnTo>
                  <a:pt x="687" y="946"/>
                </a:lnTo>
                <a:lnTo>
                  <a:pt x="700" y="949"/>
                </a:lnTo>
                <a:lnTo>
                  <a:pt x="711" y="950"/>
                </a:lnTo>
                <a:lnTo>
                  <a:pt x="721" y="952"/>
                </a:lnTo>
                <a:lnTo>
                  <a:pt x="725" y="952"/>
                </a:lnTo>
                <a:lnTo>
                  <a:pt x="726" y="973"/>
                </a:lnTo>
                <a:lnTo>
                  <a:pt x="719" y="972"/>
                </a:lnTo>
                <a:lnTo>
                  <a:pt x="708" y="972"/>
                </a:lnTo>
                <a:lnTo>
                  <a:pt x="696" y="972"/>
                </a:lnTo>
                <a:lnTo>
                  <a:pt x="682" y="973"/>
                </a:lnTo>
                <a:lnTo>
                  <a:pt x="670" y="973"/>
                </a:lnTo>
                <a:lnTo>
                  <a:pt x="659" y="974"/>
                </a:lnTo>
                <a:lnTo>
                  <a:pt x="651" y="974"/>
                </a:lnTo>
                <a:lnTo>
                  <a:pt x="649" y="974"/>
                </a:lnTo>
                <a:lnTo>
                  <a:pt x="650" y="981"/>
                </a:lnTo>
                <a:lnTo>
                  <a:pt x="652" y="988"/>
                </a:lnTo>
                <a:lnTo>
                  <a:pt x="654" y="995"/>
                </a:lnTo>
                <a:lnTo>
                  <a:pt x="656" y="1002"/>
                </a:lnTo>
                <a:lnTo>
                  <a:pt x="765" y="979"/>
                </a:lnTo>
                <a:lnTo>
                  <a:pt x="747" y="1014"/>
                </a:lnTo>
                <a:lnTo>
                  <a:pt x="740" y="1017"/>
                </a:lnTo>
                <a:lnTo>
                  <a:pt x="732" y="1023"/>
                </a:lnTo>
                <a:lnTo>
                  <a:pt x="723" y="1031"/>
                </a:lnTo>
                <a:lnTo>
                  <a:pt x="712" y="1039"/>
                </a:lnTo>
                <a:lnTo>
                  <a:pt x="703" y="1046"/>
                </a:lnTo>
                <a:lnTo>
                  <a:pt x="694" y="1053"/>
                </a:lnTo>
                <a:lnTo>
                  <a:pt x="688" y="1058"/>
                </a:lnTo>
                <a:lnTo>
                  <a:pt x="685" y="1059"/>
                </a:lnTo>
                <a:lnTo>
                  <a:pt x="688" y="1065"/>
                </a:lnTo>
                <a:lnTo>
                  <a:pt x="693" y="1069"/>
                </a:lnTo>
                <a:lnTo>
                  <a:pt x="699" y="1074"/>
                </a:lnTo>
                <a:lnTo>
                  <a:pt x="704" y="1079"/>
                </a:lnTo>
                <a:lnTo>
                  <a:pt x="710" y="1082"/>
                </a:lnTo>
                <a:lnTo>
                  <a:pt x="715" y="1085"/>
                </a:lnTo>
                <a:lnTo>
                  <a:pt x="718" y="1087"/>
                </a:lnTo>
                <a:lnTo>
                  <a:pt x="719" y="1088"/>
                </a:lnTo>
                <a:lnTo>
                  <a:pt x="723" y="1086"/>
                </a:lnTo>
                <a:lnTo>
                  <a:pt x="730" y="1078"/>
                </a:lnTo>
                <a:lnTo>
                  <a:pt x="737" y="1064"/>
                </a:lnTo>
                <a:lnTo>
                  <a:pt x="745" y="1047"/>
                </a:lnTo>
                <a:lnTo>
                  <a:pt x="753" y="1031"/>
                </a:lnTo>
                <a:lnTo>
                  <a:pt x="760" y="1015"/>
                </a:lnTo>
                <a:lnTo>
                  <a:pt x="767" y="1002"/>
                </a:lnTo>
                <a:lnTo>
                  <a:pt x="770" y="995"/>
                </a:lnTo>
                <a:lnTo>
                  <a:pt x="789" y="993"/>
                </a:lnTo>
                <a:lnTo>
                  <a:pt x="785" y="1013"/>
                </a:lnTo>
                <a:lnTo>
                  <a:pt x="780" y="1049"/>
                </a:lnTo>
                <a:lnTo>
                  <a:pt x="774" y="1085"/>
                </a:lnTo>
                <a:lnTo>
                  <a:pt x="773" y="1104"/>
                </a:lnTo>
                <a:lnTo>
                  <a:pt x="777" y="1104"/>
                </a:lnTo>
                <a:lnTo>
                  <a:pt x="782" y="1104"/>
                </a:lnTo>
                <a:lnTo>
                  <a:pt x="785" y="1105"/>
                </a:lnTo>
                <a:lnTo>
                  <a:pt x="790" y="1105"/>
                </a:lnTo>
                <a:lnTo>
                  <a:pt x="799" y="1181"/>
                </a:lnTo>
                <a:lnTo>
                  <a:pt x="752" y="1181"/>
                </a:lnTo>
                <a:lnTo>
                  <a:pt x="707" y="1130"/>
                </a:lnTo>
                <a:lnTo>
                  <a:pt x="704" y="1129"/>
                </a:lnTo>
                <a:lnTo>
                  <a:pt x="700" y="1124"/>
                </a:lnTo>
                <a:lnTo>
                  <a:pt x="693" y="1118"/>
                </a:lnTo>
                <a:lnTo>
                  <a:pt x="683" y="1109"/>
                </a:lnTo>
                <a:lnTo>
                  <a:pt x="674" y="1100"/>
                </a:lnTo>
                <a:lnTo>
                  <a:pt x="665" y="1088"/>
                </a:lnTo>
                <a:lnTo>
                  <a:pt x="658" y="1076"/>
                </a:lnTo>
                <a:lnTo>
                  <a:pt x="652" y="1064"/>
                </a:lnTo>
                <a:lnTo>
                  <a:pt x="646" y="1069"/>
                </a:lnTo>
                <a:lnTo>
                  <a:pt x="644" y="1076"/>
                </a:lnTo>
                <a:lnTo>
                  <a:pt x="642" y="1086"/>
                </a:lnTo>
                <a:lnTo>
                  <a:pt x="639" y="1093"/>
                </a:lnTo>
                <a:lnTo>
                  <a:pt x="631" y="1096"/>
                </a:lnTo>
                <a:lnTo>
                  <a:pt x="614" y="1098"/>
                </a:lnTo>
                <a:lnTo>
                  <a:pt x="590" y="1100"/>
                </a:lnTo>
                <a:lnTo>
                  <a:pt x="562" y="1101"/>
                </a:lnTo>
                <a:lnTo>
                  <a:pt x="532" y="1102"/>
                </a:lnTo>
                <a:lnTo>
                  <a:pt x="501" y="1102"/>
                </a:lnTo>
                <a:lnTo>
                  <a:pt x="476" y="1102"/>
                </a:lnTo>
                <a:lnTo>
                  <a:pt x="455" y="1102"/>
                </a:lnTo>
                <a:lnTo>
                  <a:pt x="448" y="1110"/>
                </a:lnTo>
                <a:lnTo>
                  <a:pt x="441" y="1117"/>
                </a:lnTo>
                <a:lnTo>
                  <a:pt x="433" y="1124"/>
                </a:lnTo>
                <a:lnTo>
                  <a:pt x="425" y="1130"/>
                </a:lnTo>
                <a:lnTo>
                  <a:pt x="707" y="1130"/>
                </a:lnTo>
                <a:lnTo>
                  <a:pt x="752" y="1181"/>
                </a:lnTo>
                <a:lnTo>
                  <a:pt x="734" y="1181"/>
                </a:lnTo>
                <a:lnTo>
                  <a:pt x="704" y="1182"/>
                </a:lnTo>
                <a:lnTo>
                  <a:pt x="664" y="1182"/>
                </a:lnTo>
                <a:lnTo>
                  <a:pt x="614" y="1182"/>
                </a:lnTo>
                <a:lnTo>
                  <a:pt x="557" y="1182"/>
                </a:lnTo>
                <a:lnTo>
                  <a:pt x="496" y="1182"/>
                </a:lnTo>
                <a:lnTo>
                  <a:pt x="431" y="1182"/>
                </a:lnTo>
                <a:lnTo>
                  <a:pt x="365" y="1182"/>
                </a:lnTo>
                <a:lnTo>
                  <a:pt x="298" y="1182"/>
                </a:lnTo>
                <a:lnTo>
                  <a:pt x="236" y="1182"/>
                </a:lnTo>
                <a:lnTo>
                  <a:pt x="177" y="1181"/>
                </a:lnTo>
                <a:lnTo>
                  <a:pt x="125" y="1181"/>
                </a:lnTo>
                <a:lnTo>
                  <a:pt x="80" y="1181"/>
                </a:lnTo>
                <a:lnTo>
                  <a:pt x="47" y="1181"/>
                </a:lnTo>
                <a:lnTo>
                  <a:pt x="26" y="1181"/>
                </a:lnTo>
                <a:lnTo>
                  <a:pt x="18" y="1181"/>
                </a:lnTo>
                <a:lnTo>
                  <a:pt x="18" y="1130"/>
                </a:lnTo>
                <a:lnTo>
                  <a:pt x="253" y="1130"/>
                </a:lnTo>
                <a:lnTo>
                  <a:pt x="245" y="1122"/>
                </a:lnTo>
                <a:lnTo>
                  <a:pt x="238" y="1113"/>
                </a:lnTo>
                <a:lnTo>
                  <a:pt x="230" y="1105"/>
                </a:lnTo>
                <a:lnTo>
                  <a:pt x="223" y="1097"/>
                </a:lnTo>
                <a:lnTo>
                  <a:pt x="216" y="1089"/>
                </a:lnTo>
                <a:lnTo>
                  <a:pt x="210" y="1080"/>
                </a:lnTo>
                <a:lnTo>
                  <a:pt x="205" y="1071"/>
                </a:lnTo>
                <a:lnTo>
                  <a:pt x="201" y="1061"/>
                </a:lnTo>
                <a:lnTo>
                  <a:pt x="189" y="1037"/>
                </a:lnTo>
                <a:lnTo>
                  <a:pt x="184" y="1008"/>
                </a:lnTo>
                <a:lnTo>
                  <a:pt x="180" y="979"/>
                </a:lnTo>
                <a:lnTo>
                  <a:pt x="178" y="957"/>
                </a:lnTo>
                <a:lnTo>
                  <a:pt x="210" y="948"/>
                </a:lnTo>
                <a:lnTo>
                  <a:pt x="213" y="956"/>
                </a:lnTo>
                <a:lnTo>
                  <a:pt x="214" y="980"/>
                </a:lnTo>
                <a:lnTo>
                  <a:pt x="214" y="986"/>
                </a:lnTo>
                <a:lnTo>
                  <a:pt x="216" y="993"/>
                </a:lnTo>
                <a:lnTo>
                  <a:pt x="218" y="999"/>
                </a:lnTo>
                <a:lnTo>
                  <a:pt x="221" y="1003"/>
                </a:lnTo>
                <a:lnTo>
                  <a:pt x="227" y="1002"/>
                </a:lnTo>
                <a:lnTo>
                  <a:pt x="234" y="1001"/>
                </a:lnTo>
                <a:lnTo>
                  <a:pt x="242" y="999"/>
                </a:lnTo>
                <a:lnTo>
                  <a:pt x="250" y="996"/>
                </a:lnTo>
                <a:lnTo>
                  <a:pt x="257" y="994"/>
                </a:lnTo>
                <a:lnTo>
                  <a:pt x="264" y="992"/>
                </a:lnTo>
                <a:lnTo>
                  <a:pt x="269" y="990"/>
                </a:lnTo>
                <a:lnTo>
                  <a:pt x="273" y="986"/>
                </a:lnTo>
                <a:lnTo>
                  <a:pt x="288" y="1014"/>
                </a:lnTo>
                <a:lnTo>
                  <a:pt x="281" y="1015"/>
                </a:lnTo>
                <a:lnTo>
                  <a:pt x="273" y="1016"/>
                </a:lnTo>
                <a:lnTo>
                  <a:pt x="265" y="1017"/>
                </a:lnTo>
                <a:lnTo>
                  <a:pt x="257" y="1020"/>
                </a:lnTo>
                <a:lnTo>
                  <a:pt x="247" y="1022"/>
                </a:lnTo>
                <a:lnTo>
                  <a:pt x="241" y="1024"/>
                </a:lnTo>
                <a:lnTo>
                  <a:pt x="232" y="1027"/>
                </a:lnTo>
                <a:lnTo>
                  <a:pt x="225" y="1029"/>
                </a:lnTo>
                <a:lnTo>
                  <a:pt x="227" y="1037"/>
                </a:lnTo>
                <a:lnTo>
                  <a:pt x="229" y="1044"/>
                </a:lnTo>
                <a:lnTo>
                  <a:pt x="231" y="1050"/>
                </a:lnTo>
                <a:lnTo>
                  <a:pt x="237" y="1056"/>
                </a:lnTo>
                <a:lnTo>
                  <a:pt x="252" y="1079"/>
                </a:lnTo>
                <a:lnTo>
                  <a:pt x="256" y="1083"/>
                </a:lnTo>
                <a:lnTo>
                  <a:pt x="264" y="1090"/>
                </a:lnTo>
                <a:lnTo>
                  <a:pt x="274" y="1097"/>
                </a:lnTo>
                <a:lnTo>
                  <a:pt x="283" y="1104"/>
                </a:lnTo>
                <a:lnTo>
                  <a:pt x="323" y="1120"/>
                </a:lnTo>
                <a:lnTo>
                  <a:pt x="327" y="1120"/>
                </a:lnTo>
                <a:lnTo>
                  <a:pt x="332" y="1120"/>
                </a:lnTo>
                <a:lnTo>
                  <a:pt x="338" y="1120"/>
                </a:lnTo>
                <a:lnTo>
                  <a:pt x="344" y="1120"/>
                </a:lnTo>
                <a:lnTo>
                  <a:pt x="349" y="1119"/>
                </a:lnTo>
                <a:lnTo>
                  <a:pt x="355" y="1118"/>
                </a:lnTo>
                <a:lnTo>
                  <a:pt x="359" y="1116"/>
                </a:lnTo>
                <a:lnTo>
                  <a:pt x="361" y="1112"/>
                </a:lnTo>
                <a:lnTo>
                  <a:pt x="356" y="1104"/>
                </a:lnTo>
                <a:lnTo>
                  <a:pt x="351" y="1096"/>
                </a:lnTo>
                <a:lnTo>
                  <a:pt x="344" y="1090"/>
                </a:lnTo>
                <a:lnTo>
                  <a:pt x="337" y="1085"/>
                </a:lnTo>
                <a:lnTo>
                  <a:pt x="333" y="1093"/>
                </a:lnTo>
                <a:lnTo>
                  <a:pt x="329" y="1104"/>
                </a:lnTo>
                <a:lnTo>
                  <a:pt x="325" y="1116"/>
                </a:lnTo>
                <a:lnTo>
                  <a:pt x="323" y="1120"/>
                </a:lnTo>
                <a:lnTo>
                  <a:pt x="283" y="1104"/>
                </a:lnTo>
                <a:lnTo>
                  <a:pt x="290" y="1089"/>
                </a:lnTo>
                <a:lnTo>
                  <a:pt x="300" y="1073"/>
                </a:lnTo>
                <a:lnTo>
                  <a:pt x="305" y="1056"/>
                </a:lnTo>
                <a:lnTo>
                  <a:pt x="308" y="1039"/>
                </a:lnTo>
                <a:lnTo>
                  <a:pt x="301" y="1043"/>
                </a:lnTo>
                <a:lnTo>
                  <a:pt x="293" y="1049"/>
                </a:lnTo>
                <a:lnTo>
                  <a:pt x="285" y="1054"/>
                </a:lnTo>
                <a:lnTo>
                  <a:pt x="275" y="1061"/>
                </a:lnTo>
                <a:lnTo>
                  <a:pt x="266" y="1067"/>
                </a:lnTo>
                <a:lnTo>
                  <a:pt x="259" y="1073"/>
                </a:lnTo>
                <a:lnTo>
                  <a:pt x="254" y="1076"/>
                </a:lnTo>
                <a:lnTo>
                  <a:pt x="252" y="1079"/>
                </a:lnTo>
                <a:lnTo>
                  <a:pt x="237" y="1056"/>
                </a:lnTo>
                <a:lnTo>
                  <a:pt x="243" y="1051"/>
                </a:lnTo>
                <a:lnTo>
                  <a:pt x="249" y="1047"/>
                </a:lnTo>
                <a:lnTo>
                  <a:pt x="256" y="1043"/>
                </a:lnTo>
                <a:lnTo>
                  <a:pt x="263" y="1038"/>
                </a:lnTo>
                <a:lnTo>
                  <a:pt x="269" y="1034"/>
                </a:lnTo>
                <a:lnTo>
                  <a:pt x="276" y="1028"/>
                </a:lnTo>
                <a:lnTo>
                  <a:pt x="282" y="1023"/>
                </a:lnTo>
                <a:lnTo>
                  <a:pt x="288" y="1018"/>
                </a:lnTo>
                <a:lnTo>
                  <a:pt x="288" y="1014"/>
                </a:lnTo>
                <a:lnTo>
                  <a:pt x="273" y="986"/>
                </a:lnTo>
                <a:lnTo>
                  <a:pt x="267" y="985"/>
                </a:lnTo>
                <a:lnTo>
                  <a:pt x="260" y="983"/>
                </a:lnTo>
                <a:lnTo>
                  <a:pt x="252" y="981"/>
                </a:lnTo>
                <a:lnTo>
                  <a:pt x="244" y="980"/>
                </a:lnTo>
                <a:lnTo>
                  <a:pt x="235" y="980"/>
                </a:lnTo>
                <a:lnTo>
                  <a:pt x="227" y="979"/>
                </a:lnTo>
                <a:lnTo>
                  <a:pt x="220" y="979"/>
                </a:lnTo>
                <a:lnTo>
                  <a:pt x="214" y="980"/>
                </a:lnTo>
                <a:lnTo>
                  <a:pt x="213" y="956"/>
                </a:lnTo>
                <a:lnTo>
                  <a:pt x="217" y="957"/>
                </a:lnTo>
                <a:lnTo>
                  <a:pt x="225" y="956"/>
                </a:lnTo>
                <a:lnTo>
                  <a:pt x="235" y="954"/>
                </a:lnTo>
                <a:lnTo>
                  <a:pt x="244" y="950"/>
                </a:lnTo>
                <a:lnTo>
                  <a:pt x="253" y="947"/>
                </a:lnTo>
                <a:lnTo>
                  <a:pt x="261" y="942"/>
                </a:lnTo>
                <a:lnTo>
                  <a:pt x="267" y="939"/>
                </a:lnTo>
                <a:lnTo>
                  <a:pt x="269" y="935"/>
                </a:lnTo>
                <a:lnTo>
                  <a:pt x="210" y="937"/>
                </a:lnTo>
                <a:lnTo>
                  <a:pt x="210" y="948"/>
                </a:lnTo>
                <a:lnTo>
                  <a:pt x="178" y="957"/>
                </a:lnTo>
                <a:lnTo>
                  <a:pt x="152" y="956"/>
                </a:lnTo>
                <a:lnTo>
                  <a:pt x="145" y="964"/>
                </a:lnTo>
                <a:lnTo>
                  <a:pt x="135" y="970"/>
                </a:lnTo>
                <a:lnTo>
                  <a:pt x="125" y="973"/>
                </a:lnTo>
                <a:lnTo>
                  <a:pt x="120" y="974"/>
                </a:lnTo>
                <a:lnTo>
                  <a:pt x="122" y="1061"/>
                </a:lnTo>
                <a:lnTo>
                  <a:pt x="87" y="1065"/>
                </a:lnTo>
                <a:lnTo>
                  <a:pt x="87" y="1046"/>
                </a:lnTo>
                <a:lnTo>
                  <a:pt x="86" y="1007"/>
                </a:lnTo>
                <a:lnTo>
                  <a:pt x="85" y="965"/>
                </a:lnTo>
                <a:lnTo>
                  <a:pt x="86" y="946"/>
                </a:lnTo>
                <a:lnTo>
                  <a:pt x="96" y="940"/>
                </a:lnTo>
                <a:lnTo>
                  <a:pt x="103" y="933"/>
                </a:lnTo>
                <a:lnTo>
                  <a:pt x="108" y="923"/>
                </a:lnTo>
                <a:lnTo>
                  <a:pt x="108" y="913"/>
                </a:lnTo>
                <a:lnTo>
                  <a:pt x="109" y="847"/>
                </a:lnTo>
                <a:lnTo>
                  <a:pt x="111" y="699"/>
                </a:lnTo>
                <a:lnTo>
                  <a:pt x="111" y="545"/>
                </a:lnTo>
                <a:lnTo>
                  <a:pt x="108" y="461"/>
                </a:lnTo>
                <a:lnTo>
                  <a:pt x="162" y="457"/>
                </a:lnTo>
                <a:lnTo>
                  <a:pt x="159" y="493"/>
                </a:lnTo>
                <a:lnTo>
                  <a:pt x="160" y="540"/>
                </a:lnTo>
                <a:lnTo>
                  <a:pt x="163" y="582"/>
                </a:lnTo>
                <a:lnTo>
                  <a:pt x="164" y="599"/>
                </a:lnTo>
                <a:lnTo>
                  <a:pt x="173" y="600"/>
                </a:lnTo>
                <a:lnTo>
                  <a:pt x="184" y="600"/>
                </a:lnTo>
                <a:lnTo>
                  <a:pt x="193" y="600"/>
                </a:lnTo>
                <a:lnTo>
                  <a:pt x="202" y="600"/>
                </a:lnTo>
                <a:lnTo>
                  <a:pt x="212" y="599"/>
                </a:lnTo>
                <a:lnTo>
                  <a:pt x="221" y="599"/>
                </a:lnTo>
                <a:lnTo>
                  <a:pt x="231" y="599"/>
                </a:lnTo>
                <a:lnTo>
                  <a:pt x="241" y="599"/>
                </a:lnTo>
                <a:lnTo>
                  <a:pt x="241" y="457"/>
                </a:lnTo>
                <a:lnTo>
                  <a:pt x="304" y="457"/>
                </a:lnTo>
                <a:lnTo>
                  <a:pt x="307" y="484"/>
                </a:lnTo>
                <a:lnTo>
                  <a:pt x="305" y="512"/>
                </a:lnTo>
                <a:lnTo>
                  <a:pt x="305" y="540"/>
                </a:lnTo>
                <a:lnTo>
                  <a:pt x="307" y="566"/>
                </a:lnTo>
                <a:lnTo>
                  <a:pt x="309" y="563"/>
                </a:lnTo>
                <a:lnTo>
                  <a:pt x="314" y="556"/>
                </a:lnTo>
                <a:lnTo>
                  <a:pt x="319" y="547"/>
                </a:lnTo>
                <a:lnTo>
                  <a:pt x="327" y="537"/>
                </a:lnTo>
                <a:lnTo>
                  <a:pt x="336" y="526"/>
                </a:lnTo>
                <a:lnTo>
                  <a:pt x="345" y="517"/>
                </a:lnTo>
                <a:lnTo>
                  <a:pt x="355" y="511"/>
                </a:lnTo>
                <a:lnTo>
                  <a:pt x="366" y="5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6" name=""/>
          <p:cNvGraphicFramePr/>
          <p:nvPr/>
        </p:nvGraphicFramePr>
        <p:xfrm>
          <a:off x="7467480" y="2787480"/>
          <a:ext cx="914400" cy="47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467480" y="2787480"/>
                    <a:ext cx="9144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8" name=""/>
          <p:cNvSpPr/>
          <p:nvPr/>
        </p:nvSpPr>
        <p:spPr>
          <a:xfrm flipH="1" flipV="1">
            <a:off x="5104800" y="3429000"/>
            <a:ext cx="2895480" cy="1752480"/>
          </a:xfrm>
          <a:custGeom>
            <a:avLst/>
            <a:gdLst>
              <a:gd name="textAreaLeft" fmla="*/ -360 w 2895480"/>
              <a:gd name="textAreaRight" fmla="*/ 2895480 w 2895480"/>
              <a:gd name="textAreaTop" fmla="*/ 360 h 1752480"/>
              <a:gd name="textAreaBottom" fmla="*/ 1753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269" stAng="10800000" swAng="5400000"/>
                <a:lnTo>
                  <a:pt x="18049" y="4891"/>
                </a:lnTo>
                <a:lnTo>
                  <a:pt x="18049" y="0"/>
                </a:lnTo>
                <a:lnTo>
                  <a:pt x="21600" y="6079"/>
                </a:lnTo>
                <a:lnTo>
                  <a:pt x="18049" y="12158"/>
                </a:lnTo>
                <a:lnTo>
                  <a:pt x="18049" y="7267"/>
                </a:lnTo>
                <a:lnTo>
                  <a:pt x="12427" y="7267"/>
                </a:lnTo>
                <a:arcTo wR="10051" hR="4893" stAng="16200000" swAng="-5400000"/>
                <a:lnTo>
                  <a:pt x="2376" y="2160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5521680" y="4797360"/>
            <a:ext cx="270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: Reevaluat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lexp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2" dur="indefinite" restart="never" nodeType="tmRoot">
          <p:childTnLst>
            <p:seq>
              <p:cTn id="2603" dur="indefinite" nodeType="mainSeq">
                <p:childTnLst>
                  <p:par>
                    <p:cTn id="2604" fill="hold">
                      <p:stCondLst>
                        <p:cond delay="0"/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2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2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15" fill="hold">
                            <p:stCondLst>
                              <p:cond delay="500"/>
                            </p:stCondLst>
                            <p:childTnLst>
                              <p:par>
                                <p:cTn id="26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8" dur="500"/>
                                        <p:tgtEl>
                                          <p:spTgt spid="2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9" fill="hold">
                      <p:stCondLst>
                        <p:cond delay="indefinite"/>
                      </p:stCondLst>
                      <p:childTnLst>
                        <p:par>
                          <p:cTn id="2620" fill="hold">
                            <p:stCondLst>
                              <p:cond delay="0"/>
                            </p:stCondLst>
                            <p:childTnLst>
                              <p:par>
                                <p:cTn id="26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3" dur="5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 with 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1" name=""/>
          <p:cNvGrpSpPr/>
          <p:nvPr/>
        </p:nvGrpSpPr>
        <p:grpSpPr>
          <a:xfrm>
            <a:off x="1828800" y="4800600"/>
            <a:ext cx="5562720" cy="304920"/>
            <a:chOff x="1828800" y="4800600"/>
            <a:chExt cx="5562720" cy="304920"/>
          </a:xfrm>
        </p:grpSpPr>
        <p:sp>
          <p:nvSpPr>
            <p:cNvPr id="2302" name=""/>
            <p:cNvSpPr/>
            <p:nvPr/>
          </p:nvSpPr>
          <p:spPr>
            <a:xfrm>
              <a:off x="1887120" y="4800600"/>
              <a:ext cx="5504040" cy="304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1828800" y="4865760"/>
              <a:ext cx="556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828800" y="5018040"/>
              <a:ext cx="556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5" name=""/>
          <p:cNvGrpSpPr/>
          <p:nvPr/>
        </p:nvGrpSpPr>
        <p:grpSpPr>
          <a:xfrm>
            <a:off x="1523880" y="4191120"/>
            <a:ext cx="1220400" cy="1526400"/>
            <a:chOff x="1523880" y="4191120"/>
            <a:chExt cx="1220400" cy="1526400"/>
          </a:xfrm>
        </p:grpSpPr>
        <p:grpSp>
          <p:nvGrpSpPr>
            <p:cNvPr id="2306" name=""/>
            <p:cNvGrpSpPr/>
            <p:nvPr/>
          </p:nvGrpSpPr>
          <p:grpSpPr>
            <a:xfrm>
              <a:off x="1904400" y="4191120"/>
              <a:ext cx="839880" cy="914400"/>
              <a:chOff x="1904400" y="4191120"/>
              <a:chExt cx="839880" cy="914400"/>
            </a:xfrm>
          </p:grpSpPr>
          <p:sp>
            <p:nvSpPr>
              <p:cNvPr id="2307" name=""/>
              <p:cNvSpPr/>
              <p:nvPr/>
            </p:nvSpPr>
            <p:spPr>
              <a:xfrm>
                <a:off x="2073240" y="4191120"/>
                <a:ext cx="125280" cy="9144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08" name=""/>
              <p:cNvGrpSpPr/>
              <p:nvPr/>
            </p:nvGrpSpPr>
            <p:grpSpPr>
              <a:xfrm>
                <a:off x="1904400" y="4230360"/>
                <a:ext cx="839880" cy="307800"/>
                <a:chOff x="1904400" y="4230360"/>
                <a:chExt cx="839880" cy="307800"/>
              </a:xfrm>
            </p:grpSpPr>
            <p:sp>
              <p:nvSpPr>
                <p:cNvPr id="2309" name=""/>
                <p:cNvSpPr/>
                <p:nvPr/>
              </p:nvSpPr>
              <p:spPr>
                <a:xfrm rot="5434200">
                  <a:off x="2201760" y="4044960"/>
                  <a:ext cx="75960" cy="67068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10" name=""/>
                <p:cNvGrpSpPr/>
                <p:nvPr/>
              </p:nvGrpSpPr>
              <p:grpSpPr>
                <a:xfrm>
                  <a:off x="2406240" y="4230360"/>
                  <a:ext cx="338040" cy="307800"/>
                  <a:chOff x="2406240" y="4230360"/>
                  <a:chExt cx="338040" cy="307800"/>
                </a:xfrm>
              </p:grpSpPr>
              <p:sp>
                <p:nvSpPr>
                  <p:cNvPr id="2311" name=""/>
                  <p:cNvSpPr/>
                  <p:nvPr/>
                </p:nvSpPr>
                <p:spPr>
                  <a:xfrm rot="5434200">
                    <a:off x="2422800" y="4216320"/>
                    <a:ext cx="304560" cy="3351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2" name=""/>
                  <p:cNvSpPr/>
                  <p:nvPr/>
                </p:nvSpPr>
                <p:spPr>
                  <a:xfrm rot="5434200">
                    <a:off x="2499120" y="4299840"/>
                    <a:ext cx="15228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313" name=""/>
            <p:cNvSpPr/>
            <p:nvPr/>
          </p:nvSpPr>
          <p:spPr>
            <a:xfrm>
              <a:off x="1523880" y="52578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lay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4" name=""/>
          <p:cNvGrpSpPr/>
          <p:nvPr/>
        </p:nvGrpSpPr>
        <p:grpSpPr>
          <a:xfrm>
            <a:off x="4648320" y="4267080"/>
            <a:ext cx="1220040" cy="1526400"/>
            <a:chOff x="4648320" y="4267080"/>
            <a:chExt cx="1220040" cy="1526400"/>
          </a:xfrm>
        </p:grpSpPr>
        <p:grpSp>
          <p:nvGrpSpPr>
            <p:cNvPr id="2315" name=""/>
            <p:cNvGrpSpPr/>
            <p:nvPr/>
          </p:nvGrpSpPr>
          <p:grpSpPr>
            <a:xfrm>
              <a:off x="5028480" y="4267080"/>
              <a:ext cx="839880" cy="914400"/>
              <a:chOff x="5028480" y="4267080"/>
              <a:chExt cx="839880" cy="914400"/>
            </a:xfrm>
          </p:grpSpPr>
          <p:sp>
            <p:nvSpPr>
              <p:cNvPr id="2316" name=""/>
              <p:cNvSpPr/>
              <p:nvPr/>
            </p:nvSpPr>
            <p:spPr>
              <a:xfrm>
                <a:off x="5196960" y="4267080"/>
                <a:ext cx="124920" cy="9144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17" name=""/>
              <p:cNvGrpSpPr/>
              <p:nvPr/>
            </p:nvGrpSpPr>
            <p:grpSpPr>
              <a:xfrm>
                <a:off x="5028480" y="4306320"/>
                <a:ext cx="839880" cy="307800"/>
                <a:chOff x="5028480" y="4306320"/>
                <a:chExt cx="839880" cy="307800"/>
              </a:xfrm>
            </p:grpSpPr>
            <p:sp>
              <p:nvSpPr>
                <p:cNvPr id="2318" name=""/>
                <p:cNvSpPr/>
                <p:nvPr/>
              </p:nvSpPr>
              <p:spPr>
                <a:xfrm rot="5434200">
                  <a:off x="5325840" y="4120920"/>
                  <a:ext cx="75960" cy="67068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19" name=""/>
                <p:cNvGrpSpPr/>
                <p:nvPr/>
              </p:nvGrpSpPr>
              <p:grpSpPr>
                <a:xfrm>
                  <a:off x="5530320" y="4306320"/>
                  <a:ext cx="338040" cy="307800"/>
                  <a:chOff x="5530320" y="4306320"/>
                  <a:chExt cx="338040" cy="307800"/>
                </a:xfrm>
              </p:grpSpPr>
              <p:sp>
                <p:nvSpPr>
                  <p:cNvPr id="2320" name=""/>
                  <p:cNvSpPr/>
                  <p:nvPr/>
                </p:nvSpPr>
                <p:spPr>
                  <a:xfrm rot="5434200">
                    <a:off x="5546880" y="4292280"/>
                    <a:ext cx="304560" cy="3351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1" name=""/>
                  <p:cNvSpPr/>
                  <p:nvPr/>
                </p:nvSpPr>
                <p:spPr>
                  <a:xfrm rot="5434200">
                    <a:off x="5623200" y="4375800"/>
                    <a:ext cx="15228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322" name=""/>
            <p:cNvSpPr/>
            <p:nvPr/>
          </p:nvSpPr>
          <p:spPr>
            <a:xfrm>
              <a:off x="4648320" y="53337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lay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3" name=""/>
          <p:cNvGrpSpPr/>
          <p:nvPr/>
        </p:nvGrpSpPr>
        <p:grpSpPr>
          <a:xfrm>
            <a:off x="914400" y="2590920"/>
            <a:ext cx="7010280" cy="2666880"/>
            <a:chOff x="914400" y="2590920"/>
            <a:chExt cx="7010280" cy="2666880"/>
          </a:xfrm>
        </p:grpSpPr>
        <p:sp>
          <p:nvSpPr>
            <p:cNvPr id="2324" name=""/>
            <p:cNvSpPr/>
            <p:nvPr/>
          </p:nvSpPr>
          <p:spPr>
            <a:xfrm>
              <a:off x="914400" y="2895480"/>
              <a:ext cx="838080" cy="23623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4191120" y="2590920"/>
              <a:ext cx="3733560" cy="2133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6" name=""/>
          <p:cNvSpPr/>
          <p:nvPr/>
        </p:nvSpPr>
        <p:spPr>
          <a:xfrm>
            <a:off x="4044600" y="1525680"/>
            <a:ext cx="45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No assumption about</a:t>
            </a:r>
            <a:br>
              <a:rPr sz="2400"/>
            </a:b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cheduling of semaphore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7" name=""/>
          <p:cNvGrpSpPr/>
          <p:nvPr/>
        </p:nvGrpSpPr>
        <p:grpSpPr>
          <a:xfrm>
            <a:off x="472320" y="1745640"/>
            <a:ext cx="3642120" cy="2265480"/>
            <a:chOff x="472320" y="1745640"/>
            <a:chExt cx="3642120" cy="2265480"/>
          </a:xfrm>
        </p:grpSpPr>
        <p:sp>
          <p:nvSpPr>
            <p:cNvPr id="2328" name=""/>
            <p:cNvSpPr/>
            <p:nvPr/>
          </p:nvSpPr>
          <p:spPr>
            <a:xfrm>
              <a:off x="1146960" y="2150640"/>
              <a:ext cx="2702520" cy="14007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499400" y="2500560"/>
              <a:ext cx="1998000" cy="70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205640" y="2221200"/>
              <a:ext cx="2585520" cy="1260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1" name=""/>
            <p:cNvGrpSpPr/>
            <p:nvPr/>
          </p:nvGrpSpPr>
          <p:grpSpPr>
            <a:xfrm>
              <a:off x="669960" y="2184120"/>
              <a:ext cx="3444480" cy="312480"/>
              <a:chOff x="669960" y="2184120"/>
              <a:chExt cx="3444480" cy="312480"/>
            </a:xfrm>
          </p:grpSpPr>
          <p:sp>
            <p:nvSpPr>
              <p:cNvPr id="2332" name=""/>
              <p:cNvSpPr/>
              <p:nvPr/>
            </p:nvSpPr>
            <p:spPr>
              <a:xfrm>
                <a:off x="705960" y="2184120"/>
                <a:ext cx="3408120" cy="3124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669960" y="2250720"/>
                <a:ext cx="3444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669960" y="2406960"/>
                <a:ext cx="3444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5" name=""/>
            <p:cNvSpPr/>
            <p:nvPr/>
          </p:nvSpPr>
          <p:spPr>
            <a:xfrm>
              <a:off x="1382400" y="2410560"/>
              <a:ext cx="2232000" cy="910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1730160" y="2050200"/>
              <a:ext cx="1483560" cy="17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683800" y="2565000"/>
              <a:ext cx="582480" cy="138600"/>
            </a:xfrm>
            <a:custGeom>
              <a:avLst/>
              <a:gdLst/>
              <a:ahLst/>
              <a:rect l="l" t="t" r="r" b="b"/>
              <a:pathLst>
                <a:path w="528" h="112">
                  <a:moveTo>
                    <a:pt x="0" y="16"/>
                  </a:moveTo>
                  <a:cubicBezTo>
                    <a:pt x="100" y="8"/>
                    <a:pt x="200" y="0"/>
                    <a:pt x="288" y="16"/>
                  </a:cubicBezTo>
                  <a:cubicBezTo>
                    <a:pt x="376" y="32"/>
                    <a:pt x="452" y="72"/>
                    <a:pt x="528" y="112"/>
                  </a:cubicBezTo>
                </a:path>
              </a:pathLst>
            </a:custGeom>
            <a:noFill/>
            <a:ln w="3816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602440" y="25750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9" name=""/>
            <p:cNvGrpSpPr/>
            <p:nvPr/>
          </p:nvGrpSpPr>
          <p:grpSpPr>
            <a:xfrm>
              <a:off x="1200240" y="2779200"/>
              <a:ext cx="848160" cy="1231920"/>
              <a:chOff x="1200240" y="2779200"/>
              <a:chExt cx="848160" cy="1231920"/>
            </a:xfrm>
          </p:grpSpPr>
          <p:grpSp>
            <p:nvGrpSpPr>
              <p:cNvPr id="2340" name=""/>
              <p:cNvGrpSpPr/>
              <p:nvPr/>
            </p:nvGrpSpPr>
            <p:grpSpPr>
              <a:xfrm>
                <a:off x="1464480" y="2779200"/>
                <a:ext cx="583920" cy="712800"/>
                <a:chOff x="1464480" y="2779200"/>
                <a:chExt cx="583920" cy="712800"/>
              </a:xfrm>
            </p:grpSpPr>
            <p:sp>
              <p:nvSpPr>
                <p:cNvPr id="2341" name=""/>
                <p:cNvSpPr/>
                <p:nvPr/>
              </p:nvSpPr>
              <p:spPr>
                <a:xfrm>
                  <a:off x="1581840" y="2779200"/>
                  <a:ext cx="86760" cy="71280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42" name=""/>
                <p:cNvGrpSpPr/>
                <p:nvPr/>
              </p:nvGrpSpPr>
              <p:grpSpPr>
                <a:xfrm>
                  <a:off x="1464480" y="2809440"/>
                  <a:ext cx="583920" cy="239400"/>
                  <a:chOff x="1464480" y="2809440"/>
                  <a:chExt cx="583920" cy="239400"/>
                </a:xfrm>
              </p:grpSpPr>
              <p:sp>
                <p:nvSpPr>
                  <p:cNvPr id="2343" name=""/>
                  <p:cNvSpPr/>
                  <p:nvPr/>
                </p:nvSpPr>
                <p:spPr>
                  <a:xfrm rot="5434200">
                    <a:off x="1668240" y="2693520"/>
                    <a:ext cx="59040" cy="466200"/>
                  </a:xfrm>
                  <a:prstGeom prst="rect">
                    <a:avLst/>
                  </a:prstGeom>
                  <a:blipFill rotWithShape="0">
                    <a:blip r:embed="rId9"/>
                    <a:srcRect/>
                    <a:tile tx="0" ty="0" sx="100000" sy="100000" algn="ctr"/>
                  </a:blip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44" name=""/>
                  <p:cNvGrpSpPr/>
                  <p:nvPr/>
                </p:nvGrpSpPr>
                <p:grpSpPr>
                  <a:xfrm>
                    <a:off x="1812960" y="2809440"/>
                    <a:ext cx="235440" cy="239400"/>
                    <a:chOff x="1812960" y="2809440"/>
                    <a:chExt cx="235440" cy="239400"/>
                  </a:xfrm>
                </p:grpSpPr>
                <p:sp>
                  <p:nvSpPr>
                    <p:cNvPr id="2345" name=""/>
                    <p:cNvSpPr/>
                    <p:nvPr/>
                  </p:nvSpPr>
                  <p:spPr>
                    <a:xfrm rot="5434200">
                      <a:off x="1811880" y="2812320"/>
                      <a:ext cx="237240" cy="232920"/>
                    </a:xfrm>
                    <a:prstGeom prst="ellipse">
                      <a:avLst/>
                    </a:prstGeom>
                    <a:solidFill>
                      <a:srgbClr val="fc0128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6" name=""/>
                    <p:cNvSpPr/>
                    <p:nvPr/>
                  </p:nvSpPr>
                  <p:spPr>
                    <a:xfrm rot="5434200">
                      <a:off x="1871640" y="2870280"/>
                      <a:ext cx="118800" cy="116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00" bIns="36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347" name=""/>
              <p:cNvSpPr/>
              <p:nvPr/>
            </p:nvSpPr>
            <p:spPr>
              <a:xfrm>
                <a:off x="1200240" y="3612240"/>
                <a:ext cx="84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ela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8" name=""/>
            <p:cNvGrpSpPr/>
            <p:nvPr/>
          </p:nvGrpSpPr>
          <p:grpSpPr>
            <a:xfrm>
              <a:off x="472320" y="1745640"/>
              <a:ext cx="590040" cy="795960"/>
              <a:chOff x="472320" y="1745640"/>
              <a:chExt cx="590040" cy="795960"/>
            </a:xfrm>
          </p:grpSpPr>
          <p:sp>
            <p:nvSpPr>
              <p:cNvPr id="2349" name=""/>
              <p:cNvSpPr/>
              <p:nvPr/>
            </p:nvSpPr>
            <p:spPr>
              <a:xfrm>
                <a:off x="573840" y="1828800"/>
                <a:ext cx="87120" cy="712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50" name=""/>
              <p:cNvGrpSpPr/>
              <p:nvPr/>
            </p:nvGrpSpPr>
            <p:grpSpPr>
              <a:xfrm>
                <a:off x="472320" y="1745640"/>
                <a:ext cx="590040" cy="382320"/>
                <a:chOff x="472320" y="1745640"/>
                <a:chExt cx="590040" cy="382320"/>
              </a:xfrm>
            </p:grpSpPr>
            <p:sp>
              <p:nvSpPr>
                <p:cNvPr id="2351" name=""/>
                <p:cNvSpPr/>
                <p:nvPr/>
              </p:nvSpPr>
              <p:spPr>
                <a:xfrm rot="3885600">
                  <a:off x="665640" y="1768680"/>
                  <a:ext cx="59400" cy="466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52" name=""/>
                <p:cNvGrpSpPr/>
                <p:nvPr/>
              </p:nvGrpSpPr>
              <p:grpSpPr>
                <a:xfrm>
                  <a:off x="750600" y="1745640"/>
                  <a:ext cx="311760" cy="314280"/>
                  <a:chOff x="750600" y="1745640"/>
                  <a:chExt cx="311760" cy="314280"/>
                </a:xfrm>
              </p:grpSpPr>
              <p:sp>
                <p:nvSpPr>
                  <p:cNvPr id="2353" name=""/>
                  <p:cNvSpPr/>
                  <p:nvPr/>
                </p:nvSpPr>
                <p:spPr>
                  <a:xfrm rot="3885600">
                    <a:off x="787680" y="1785960"/>
                    <a:ext cx="237600" cy="232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4" name=""/>
                  <p:cNvSpPr/>
                  <p:nvPr/>
                </p:nvSpPr>
                <p:spPr>
                  <a:xfrm rot="3885600">
                    <a:off x="847080" y="1843920"/>
                    <a:ext cx="118800" cy="116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355" name=""/>
            <p:cNvSpPr/>
            <p:nvPr/>
          </p:nvSpPr>
          <p:spPr>
            <a:xfrm>
              <a:off x="911880" y="3638160"/>
              <a:ext cx="720" cy="10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H="1" rot="495600">
              <a:off x="1905120" y="3098520"/>
              <a:ext cx="634320" cy="366480"/>
            </a:xfrm>
            <a:custGeom>
              <a:avLst/>
              <a:gdLst/>
              <a:ahLst/>
              <a:rect l="l" t="t" r="r" b="b"/>
              <a:pathLst>
                <a:path w="2301" h="1182">
                  <a:moveTo>
                    <a:pt x="366" y="509"/>
                  </a:moveTo>
                  <a:lnTo>
                    <a:pt x="366" y="495"/>
                  </a:lnTo>
                  <a:lnTo>
                    <a:pt x="368" y="481"/>
                  </a:lnTo>
                  <a:lnTo>
                    <a:pt x="373" y="468"/>
                  </a:lnTo>
                  <a:lnTo>
                    <a:pt x="380" y="457"/>
                  </a:lnTo>
                  <a:lnTo>
                    <a:pt x="445" y="466"/>
                  </a:lnTo>
                  <a:lnTo>
                    <a:pt x="446" y="479"/>
                  </a:lnTo>
                  <a:lnTo>
                    <a:pt x="446" y="496"/>
                  </a:lnTo>
                  <a:lnTo>
                    <a:pt x="450" y="510"/>
                  </a:lnTo>
                  <a:lnTo>
                    <a:pt x="462" y="513"/>
                  </a:lnTo>
                  <a:lnTo>
                    <a:pt x="462" y="508"/>
                  </a:lnTo>
                  <a:lnTo>
                    <a:pt x="462" y="502"/>
                  </a:lnTo>
                  <a:lnTo>
                    <a:pt x="462" y="496"/>
                  </a:lnTo>
                  <a:lnTo>
                    <a:pt x="458" y="491"/>
                  </a:lnTo>
                  <a:lnTo>
                    <a:pt x="461" y="487"/>
                  </a:lnTo>
                  <a:lnTo>
                    <a:pt x="464" y="482"/>
                  </a:lnTo>
                  <a:lnTo>
                    <a:pt x="468" y="480"/>
                  </a:lnTo>
                  <a:lnTo>
                    <a:pt x="472" y="477"/>
                  </a:lnTo>
                  <a:lnTo>
                    <a:pt x="475" y="468"/>
                  </a:lnTo>
                  <a:lnTo>
                    <a:pt x="477" y="458"/>
                  </a:lnTo>
                  <a:lnTo>
                    <a:pt x="476" y="447"/>
                  </a:lnTo>
                  <a:lnTo>
                    <a:pt x="474" y="437"/>
                  </a:lnTo>
                  <a:lnTo>
                    <a:pt x="471" y="436"/>
                  </a:lnTo>
                  <a:lnTo>
                    <a:pt x="470" y="436"/>
                  </a:lnTo>
                  <a:lnTo>
                    <a:pt x="469" y="436"/>
                  </a:lnTo>
                  <a:lnTo>
                    <a:pt x="470" y="436"/>
                  </a:lnTo>
                  <a:lnTo>
                    <a:pt x="453" y="435"/>
                  </a:lnTo>
                  <a:lnTo>
                    <a:pt x="448" y="442"/>
                  </a:lnTo>
                  <a:lnTo>
                    <a:pt x="448" y="454"/>
                  </a:lnTo>
                  <a:lnTo>
                    <a:pt x="445" y="466"/>
                  </a:lnTo>
                  <a:lnTo>
                    <a:pt x="380" y="457"/>
                  </a:lnTo>
                  <a:lnTo>
                    <a:pt x="304" y="457"/>
                  </a:lnTo>
                  <a:lnTo>
                    <a:pt x="241" y="457"/>
                  </a:lnTo>
                  <a:lnTo>
                    <a:pt x="237" y="458"/>
                  </a:lnTo>
                  <a:lnTo>
                    <a:pt x="228" y="458"/>
                  </a:lnTo>
                  <a:lnTo>
                    <a:pt x="215" y="458"/>
                  </a:lnTo>
                  <a:lnTo>
                    <a:pt x="201" y="458"/>
                  </a:lnTo>
                  <a:lnTo>
                    <a:pt x="187" y="458"/>
                  </a:lnTo>
                  <a:lnTo>
                    <a:pt x="174" y="457"/>
                  </a:lnTo>
                  <a:lnTo>
                    <a:pt x="165" y="457"/>
                  </a:lnTo>
                  <a:lnTo>
                    <a:pt x="162" y="457"/>
                  </a:lnTo>
                  <a:lnTo>
                    <a:pt x="108" y="461"/>
                  </a:lnTo>
                  <a:lnTo>
                    <a:pt x="103" y="459"/>
                  </a:lnTo>
                  <a:lnTo>
                    <a:pt x="99" y="457"/>
                  </a:lnTo>
                  <a:lnTo>
                    <a:pt x="96" y="452"/>
                  </a:lnTo>
                  <a:lnTo>
                    <a:pt x="97" y="446"/>
                  </a:lnTo>
                  <a:lnTo>
                    <a:pt x="91" y="447"/>
                  </a:lnTo>
                  <a:lnTo>
                    <a:pt x="86" y="450"/>
                  </a:lnTo>
                  <a:lnTo>
                    <a:pt x="80" y="451"/>
                  </a:lnTo>
                  <a:lnTo>
                    <a:pt x="74" y="447"/>
                  </a:lnTo>
                  <a:lnTo>
                    <a:pt x="71" y="439"/>
                  </a:lnTo>
                  <a:lnTo>
                    <a:pt x="67" y="431"/>
                  </a:lnTo>
                  <a:lnTo>
                    <a:pt x="61" y="426"/>
                  </a:lnTo>
                  <a:lnTo>
                    <a:pt x="53" y="429"/>
                  </a:lnTo>
                  <a:lnTo>
                    <a:pt x="45" y="420"/>
                  </a:lnTo>
                  <a:lnTo>
                    <a:pt x="35" y="410"/>
                  </a:lnTo>
                  <a:lnTo>
                    <a:pt x="27" y="400"/>
                  </a:lnTo>
                  <a:lnTo>
                    <a:pt x="24" y="387"/>
                  </a:lnTo>
                  <a:lnTo>
                    <a:pt x="16" y="380"/>
                  </a:lnTo>
                  <a:lnTo>
                    <a:pt x="7" y="372"/>
                  </a:lnTo>
                  <a:lnTo>
                    <a:pt x="2" y="363"/>
                  </a:lnTo>
                  <a:lnTo>
                    <a:pt x="0" y="350"/>
                  </a:lnTo>
                  <a:lnTo>
                    <a:pt x="3" y="342"/>
                  </a:lnTo>
                  <a:lnTo>
                    <a:pt x="468" y="344"/>
                  </a:lnTo>
                  <a:lnTo>
                    <a:pt x="468" y="352"/>
                  </a:lnTo>
                  <a:lnTo>
                    <a:pt x="467" y="360"/>
                  </a:lnTo>
                  <a:lnTo>
                    <a:pt x="463" y="367"/>
                  </a:lnTo>
                  <a:lnTo>
                    <a:pt x="457" y="373"/>
                  </a:lnTo>
                  <a:lnTo>
                    <a:pt x="462" y="376"/>
                  </a:lnTo>
                  <a:lnTo>
                    <a:pt x="467" y="379"/>
                  </a:lnTo>
                  <a:lnTo>
                    <a:pt x="472" y="380"/>
                  </a:lnTo>
                  <a:lnTo>
                    <a:pt x="478" y="380"/>
                  </a:lnTo>
                  <a:lnTo>
                    <a:pt x="476" y="376"/>
                  </a:lnTo>
                  <a:lnTo>
                    <a:pt x="474" y="371"/>
                  </a:lnTo>
                  <a:lnTo>
                    <a:pt x="471" y="366"/>
                  </a:lnTo>
                  <a:lnTo>
                    <a:pt x="472" y="360"/>
                  </a:lnTo>
                  <a:lnTo>
                    <a:pt x="481" y="358"/>
                  </a:lnTo>
                  <a:lnTo>
                    <a:pt x="487" y="355"/>
                  </a:lnTo>
                  <a:lnTo>
                    <a:pt x="494" y="349"/>
                  </a:lnTo>
                  <a:lnTo>
                    <a:pt x="500" y="343"/>
                  </a:lnTo>
                  <a:lnTo>
                    <a:pt x="505" y="338"/>
                  </a:lnTo>
                  <a:lnTo>
                    <a:pt x="511" y="333"/>
                  </a:lnTo>
                  <a:lnTo>
                    <a:pt x="518" y="329"/>
                  </a:lnTo>
                  <a:lnTo>
                    <a:pt x="525" y="327"/>
                  </a:lnTo>
                  <a:lnTo>
                    <a:pt x="536" y="318"/>
                  </a:lnTo>
                  <a:lnTo>
                    <a:pt x="528" y="315"/>
                  </a:lnTo>
                  <a:lnTo>
                    <a:pt x="516" y="315"/>
                  </a:lnTo>
                  <a:lnTo>
                    <a:pt x="507" y="313"/>
                  </a:lnTo>
                  <a:lnTo>
                    <a:pt x="504" y="303"/>
                  </a:lnTo>
                  <a:lnTo>
                    <a:pt x="503" y="303"/>
                  </a:lnTo>
                  <a:lnTo>
                    <a:pt x="503" y="298"/>
                  </a:lnTo>
                  <a:lnTo>
                    <a:pt x="504" y="298"/>
                  </a:lnTo>
                  <a:lnTo>
                    <a:pt x="504" y="299"/>
                  </a:lnTo>
                  <a:lnTo>
                    <a:pt x="507" y="293"/>
                  </a:lnTo>
                  <a:lnTo>
                    <a:pt x="512" y="291"/>
                  </a:lnTo>
                  <a:lnTo>
                    <a:pt x="518" y="291"/>
                  </a:lnTo>
                  <a:lnTo>
                    <a:pt x="525" y="291"/>
                  </a:lnTo>
                  <a:lnTo>
                    <a:pt x="530" y="292"/>
                  </a:lnTo>
                  <a:lnTo>
                    <a:pt x="536" y="292"/>
                  </a:lnTo>
                  <a:lnTo>
                    <a:pt x="541" y="290"/>
                  </a:lnTo>
                  <a:lnTo>
                    <a:pt x="544" y="286"/>
                  </a:lnTo>
                  <a:lnTo>
                    <a:pt x="536" y="284"/>
                  </a:lnTo>
                  <a:lnTo>
                    <a:pt x="528" y="285"/>
                  </a:lnTo>
                  <a:lnTo>
                    <a:pt x="520" y="285"/>
                  </a:lnTo>
                  <a:lnTo>
                    <a:pt x="512" y="284"/>
                  </a:lnTo>
                  <a:lnTo>
                    <a:pt x="498" y="284"/>
                  </a:lnTo>
                  <a:lnTo>
                    <a:pt x="485" y="283"/>
                  </a:lnTo>
                  <a:lnTo>
                    <a:pt x="472" y="284"/>
                  </a:lnTo>
                  <a:lnTo>
                    <a:pt x="460" y="284"/>
                  </a:lnTo>
                  <a:lnTo>
                    <a:pt x="447" y="284"/>
                  </a:lnTo>
                  <a:lnTo>
                    <a:pt x="435" y="284"/>
                  </a:lnTo>
                  <a:lnTo>
                    <a:pt x="423" y="283"/>
                  </a:lnTo>
                  <a:lnTo>
                    <a:pt x="411" y="282"/>
                  </a:lnTo>
                  <a:lnTo>
                    <a:pt x="410" y="277"/>
                  </a:lnTo>
                  <a:lnTo>
                    <a:pt x="409" y="274"/>
                  </a:lnTo>
                  <a:lnTo>
                    <a:pt x="407" y="270"/>
                  </a:lnTo>
                  <a:lnTo>
                    <a:pt x="411" y="267"/>
                  </a:lnTo>
                  <a:lnTo>
                    <a:pt x="433" y="265"/>
                  </a:lnTo>
                  <a:lnTo>
                    <a:pt x="455" y="265"/>
                  </a:lnTo>
                  <a:lnTo>
                    <a:pt x="477" y="265"/>
                  </a:lnTo>
                  <a:lnTo>
                    <a:pt x="498" y="265"/>
                  </a:lnTo>
                  <a:lnTo>
                    <a:pt x="518" y="265"/>
                  </a:lnTo>
                  <a:lnTo>
                    <a:pt x="539" y="265"/>
                  </a:lnTo>
                  <a:lnTo>
                    <a:pt x="561" y="265"/>
                  </a:lnTo>
                  <a:lnTo>
                    <a:pt x="581" y="264"/>
                  </a:lnTo>
                  <a:lnTo>
                    <a:pt x="585" y="267"/>
                  </a:lnTo>
                  <a:lnTo>
                    <a:pt x="588" y="267"/>
                  </a:lnTo>
                  <a:lnTo>
                    <a:pt x="591" y="267"/>
                  </a:lnTo>
                  <a:lnTo>
                    <a:pt x="593" y="269"/>
                  </a:lnTo>
                  <a:lnTo>
                    <a:pt x="594" y="275"/>
                  </a:lnTo>
                  <a:lnTo>
                    <a:pt x="592" y="281"/>
                  </a:lnTo>
                  <a:lnTo>
                    <a:pt x="590" y="284"/>
                  </a:lnTo>
                  <a:lnTo>
                    <a:pt x="587" y="289"/>
                  </a:lnTo>
                  <a:lnTo>
                    <a:pt x="593" y="291"/>
                  </a:lnTo>
                  <a:lnTo>
                    <a:pt x="598" y="292"/>
                  </a:lnTo>
                  <a:lnTo>
                    <a:pt x="603" y="292"/>
                  </a:lnTo>
                  <a:lnTo>
                    <a:pt x="609" y="292"/>
                  </a:lnTo>
                  <a:lnTo>
                    <a:pt x="615" y="292"/>
                  </a:lnTo>
                  <a:lnTo>
                    <a:pt x="620" y="293"/>
                  </a:lnTo>
                  <a:lnTo>
                    <a:pt x="624" y="296"/>
                  </a:lnTo>
                  <a:lnTo>
                    <a:pt x="628" y="300"/>
                  </a:lnTo>
                  <a:lnTo>
                    <a:pt x="629" y="308"/>
                  </a:lnTo>
                  <a:lnTo>
                    <a:pt x="624" y="313"/>
                  </a:lnTo>
                  <a:lnTo>
                    <a:pt x="617" y="315"/>
                  </a:lnTo>
                  <a:lnTo>
                    <a:pt x="610" y="315"/>
                  </a:lnTo>
                  <a:lnTo>
                    <a:pt x="607" y="314"/>
                  </a:lnTo>
                  <a:lnTo>
                    <a:pt x="603" y="313"/>
                  </a:lnTo>
                  <a:lnTo>
                    <a:pt x="599" y="314"/>
                  </a:lnTo>
                  <a:lnTo>
                    <a:pt x="595" y="315"/>
                  </a:lnTo>
                  <a:lnTo>
                    <a:pt x="602" y="318"/>
                  </a:lnTo>
                  <a:lnTo>
                    <a:pt x="608" y="320"/>
                  </a:lnTo>
                  <a:lnTo>
                    <a:pt x="614" y="322"/>
                  </a:lnTo>
                  <a:lnTo>
                    <a:pt x="621" y="323"/>
                  </a:lnTo>
                  <a:lnTo>
                    <a:pt x="627" y="326"/>
                  </a:lnTo>
                  <a:lnTo>
                    <a:pt x="632" y="329"/>
                  </a:lnTo>
                  <a:lnTo>
                    <a:pt x="637" y="333"/>
                  </a:lnTo>
                  <a:lnTo>
                    <a:pt x="643" y="336"/>
                  </a:lnTo>
                  <a:lnTo>
                    <a:pt x="649" y="342"/>
                  </a:lnTo>
                  <a:lnTo>
                    <a:pt x="654" y="348"/>
                  </a:lnTo>
                  <a:lnTo>
                    <a:pt x="661" y="354"/>
                  </a:lnTo>
                  <a:lnTo>
                    <a:pt x="667" y="358"/>
                  </a:lnTo>
                  <a:lnTo>
                    <a:pt x="675" y="380"/>
                  </a:lnTo>
                  <a:lnTo>
                    <a:pt x="672" y="384"/>
                  </a:lnTo>
                  <a:lnTo>
                    <a:pt x="666" y="388"/>
                  </a:lnTo>
                  <a:lnTo>
                    <a:pt x="660" y="391"/>
                  </a:lnTo>
                  <a:lnTo>
                    <a:pt x="656" y="393"/>
                  </a:lnTo>
                  <a:lnTo>
                    <a:pt x="653" y="395"/>
                  </a:lnTo>
                  <a:lnTo>
                    <a:pt x="652" y="399"/>
                  </a:lnTo>
                  <a:lnTo>
                    <a:pt x="653" y="403"/>
                  </a:lnTo>
                  <a:lnTo>
                    <a:pt x="656" y="406"/>
                  </a:lnTo>
                  <a:lnTo>
                    <a:pt x="653" y="417"/>
                  </a:lnTo>
                  <a:lnTo>
                    <a:pt x="651" y="430"/>
                  </a:lnTo>
                  <a:lnTo>
                    <a:pt x="650" y="443"/>
                  </a:lnTo>
                  <a:lnTo>
                    <a:pt x="651" y="453"/>
                  </a:lnTo>
                  <a:lnTo>
                    <a:pt x="651" y="465"/>
                  </a:lnTo>
                  <a:lnTo>
                    <a:pt x="657" y="473"/>
                  </a:lnTo>
                  <a:lnTo>
                    <a:pt x="665" y="479"/>
                  </a:lnTo>
                  <a:lnTo>
                    <a:pt x="675" y="482"/>
                  </a:lnTo>
                  <a:lnTo>
                    <a:pt x="676" y="488"/>
                  </a:lnTo>
                  <a:lnTo>
                    <a:pt x="675" y="494"/>
                  </a:lnTo>
                  <a:lnTo>
                    <a:pt x="673" y="498"/>
                  </a:lnTo>
                  <a:lnTo>
                    <a:pt x="670" y="502"/>
                  </a:lnTo>
                  <a:lnTo>
                    <a:pt x="672" y="502"/>
                  </a:lnTo>
                  <a:lnTo>
                    <a:pt x="671" y="509"/>
                  </a:lnTo>
                  <a:lnTo>
                    <a:pt x="682" y="515"/>
                  </a:lnTo>
                  <a:lnTo>
                    <a:pt x="693" y="519"/>
                  </a:lnTo>
                  <a:lnTo>
                    <a:pt x="704" y="524"/>
                  </a:lnTo>
                  <a:lnTo>
                    <a:pt x="716" y="527"/>
                  </a:lnTo>
                  <a:lnTo>
                    <a:pt x="728" y="531"/>
                  </a:lnTo>
                  <a:lnTo>
                    <a:pt x="739" y="534"/>
                  </a:lnTo>
                  <a:lnTo>
                    <a:pt x="751" y="538"/>
                  </a:lnTo>
                  <a:lnTo>
                    <a:pt x="762" y="542"/>
                  </a:lnTo>
                  <a:lnTo>
                    <a:pt x="775" y="549"/>
                  </a:lnTo>
                  <a:lnTo>
                    <a:pt x="789" y="553"/>
                  </a:lnTo>
                  <a:lnTo>
                    <a:pt x="803" y="555"/>
                  </a:lnTo>
                  <a:lnTo>
                    <a:pt x="818" y="555"/>
                  </a:lnTo>
                  <a:lnTo>
                    <a:pt x="833" y="555"/>
                  </a:lnTo>
                  <a:lnTo>
                    <a:pt x="848" y="554"/>
                  </a:lnTo>
                  <a:lnTo>
                    <a:pt x="863" y="554"/>
                  </a:lnTo>
                  <a:lnTo>
                    <a:pt x="878" y="554"/>
                  </a:lnTo>
                  <a:lnTo>
                    <a:pt x="881" y="550"/>
                  </a:lnTo>
                  <a:lnTo>
                    <a:pt x="875" y="547"/>
                  </a:lnTo>
                  <a:lnTo>
                    <a:pt x="868" y="546"/>
                  </a:lnTo>
                  <a:lnTo>
                    <a:pt x="860" y="546"/>
                  </a:lnTo>
                  <a:lnTo>
                    <a:pt x="852" y="547"/>
                  </a:lnTo>
                  <a:lnTo>
                    <a:pt x="846" y="539"/>
                  </a:lnTo>
                  <a:lnTo>
                    <a:pt x="847" y="528"/>
                  </a:lnTo>
                  <a:lnTo>
                    <a:pt x="850" y="517"/>
                  </a:lnTo>
                  <a:lnTo>
                    <a:pt x="850" y="506"/>
                  </a:lnTo>
                  <a:lnTo>
                    <a:pt x="852" y="493"/>
                  </a:lnTo>
                  <a:lnTo>
                    <a:pt x="853" y="460"/>
                  </a:lnTo>
                  <a:lnTo>
                    <a:pt x="852" y="425"/>
                  </a:lnTo>
                  <a:lnTo>
                    <a:pt x="846" y="403"/>
                  </a:lnTo>
                  <a:lnTo>
                    <a:pt x="846" y="399"/>
                  </a:lnTo>
                  <a:lnTo>
                    <a:pt x="847" y="394"/>
                  </a:lnTo>
                  <a:lnTo>
                    <a:pt x="848" y="388"/>
                  </a:lnTo>
                  <a:lnTo>
                    <a:pt x="850" y="385"/>
                  </a:lnTo>
                  <a:lnTo>
                    <a:pt x="857" y="384"/>
                  </a:lnTo>
                  <a:lnTo>
                    <a:pt x="864" y="384"/>
                  </a:lnTo>
                  <a:lnTo>
                    <a:pt x="871" y="384"/>
                  </a:lnTo>
                  <a:lnTo>
                    <a:pt x="878" y="384"/>
                  </a:lnTo>
                  <a:lnTo>
                    <a:pt x="884" y="384"/>
                  </a:lnTo>
                  <a:lnTo>
                    <a:pt x="891" y="384"/>
                  </a:lnTo>
                  <a:lnTo>
                    <a:pt x="898" y="384"/>
                  </a:lnTo>
                  <a:lnTo>
                    <a:pt x="905" y="382"/>
                  </a:lnTo>
                  <a:lnTo>
                    <a:pt x="918" y="365"/>
                  </a:lnTo>
                  <a:lnTo>
                    <a:pt x="921" y="363"/>
                  </a:lnTo>
                  <a:lnTo>
                    <a:pt x="925" y="360"/>
                  </a:lnTo>
                  <a:lnTo>
                    <a:pt x="927" y="357"/>
                  </a:lnTo>
                  <a:lnTo>
                    <a:pt x="928" y="354"/>
                  </a:lnTo>
                  <a:lnTo>
                    <a:pt x="922" y="352"/>
                  </a:lnTo>
                  <a:lnTo>
                    <a:pt x="917" y="354"/>
                  </a:lnTo>
                  <a:lnTo>
                    <a:pt x="911" y="354"/>
                  </a:lnTo>
                  <a:lnTo>
                    <a:pt x="906" y="355"/>
                  </a:lnTo>
                  <a:lnTo>
                    <a:pt x="900" y="355"/>
                  </a:lnTo>
                  <a:lnTo>
                    <a:pt x="897" y="354"/>
                  </a:lnTo>
                  <a:lnTo>
                    <a:pt x="893" y="350"/>
                  </a:lnTo>
                  <a:lnTo>
                    <a:pt x="890" y="345"/>
                  </a:lnTo>
                  <a:lnTo>
                    <a:pt x="893" y="336"/>
                  </a:lnTo>
                  <a:lnTo>
                    <a:pt x="900" y="328"/>
                  </a:lnTo>
                  <a:lnTo>
                    <a:pt x="906" y="320"/>
                  </a:lnTo>
                  <a:lnTo>
                    <a:pt x="905" y="308"/>
                  </a:lnTo>
                  <a:lnTo>
                    <a:pt x="906" y="308"/>
                  </a:lnTo>
                  <a:lnTo>
                    <a:pt x="908" y="294"/>
                  </a:lnTo>
                  <a:lnTo>
                    <a:pt x="912" y="279"/>
                  </a:lnTo>
                  <a:lnTo>
                    <a:pt x="918" y="267"/>
                  </a:lnTo>
                  <a:lnTo>
                    <a:pt x="927" y="257"/>
                  </a:lnTo>
                  <a:lnTo>
                    <a:pt x="923" y="254"/>
                  </a:lnTo>
                  <a:lnTo>
                    <a:pt x="918" y="259"/>
                  </a:lnTo>
                  <a:lnTo>
                    <a:pt x="913" y="262"/>
                  </a:lnTo>
                  <a:lnTo>
                    <a:pt x="908" y="265"/>
                  </a:lnTo>
                  <a:lnTo>
                    <a:pt x="904" y="269"/>
                  </a:lnTo>
                  <a:lnTo>
                    <a:pt x="899" y="272"/>
                  </a:lnTo>
                  <a:lnTo>
                    <a:pt x="896" y="276"/>
                  </a:lnTo>
                  <a:lnTo>
                    <a:pt x="891" y="279"/>
                  </a:lnTo>
                  <a:lnTo>
                    <a:pt x="885" y="284"/>
                  </a:lnTo>
                  <a:lnTo>
                    <a:pt x="872" y="292"/>
                  </a:lnTo>
                  <a:lnTo>
                    <a:pt x="860" y="300"/>
                  </a:lnTo>
                  <a:lnTo>
                    <a:pt x="848" y="308"/>
                  </a:lnTo>
                  <a:lnTo>
                    <a:pt x="837" y="316"/>
                  </a:lnTo>
                  <a:lnTo>
                    <a:pt x="825" y="325"/>
                  </a:lnTo>
                  <a:lnTo>
                    <a:pt x="813" y="333"/>
                  </a:lnTo>
                  <a:lnTo>
                    <a:pt x="801" y="341"/>
                  </a:lnTo>
                  <a:lnTo>
                    <a:pt x="788" y="349"/>
                  </a:lnTo>
                  <a:lnTo>
                    <a:pt x="774" y="354"/>
                  </a:lnTo>
                  <a:lnTo>
                    <a:pt x="761" y="358"/>
                  </a:lnTo>
                  <a:lnTo>
                    <a:pt x="747" y="364"/>
                  </a:lnTo>
                  <a:lnTo>
                    <a:pt x="733" y="370"/>
                  </a:lnTo>
                  <a:lnTo>
                    <a:pt x="721" y="374"/>
                  </a:lnTo>
                  <a:lnTo>
                    <a:pt x="705" y="378"/>
                  </a:lnTo>
                  <a:lnTo>
                    <a:pt x="690" y="380"/>
                  </a:lnTo>
                  <a:lnTo>
                    <a:pt x="675" y="380"/>
                  </a:lnTo>
                  <a:lnTo>
                    <a:pt x="667" y="358"/>
                  </a:lnTo>
                  <a:lnTo>
                    <a:pt x="678" y="358"/>
                  </a:lnTo>
                  <a:lnTo>
                    <a:pt x="689" y="357"/>
                  </a:lnTo>
                  <a:lnTo>
                    <a:pt x="700" y="356"/>
                  </a:lnTo>
                  <a:lnTo>
                    <a:pt x="711" y="355"/>
                  </a:lnTo>
                  <a:lnTo>
                    <a:pt x="722" y="352"/>
                  </a:lnTo>
                  <a:lnTo>
                    <a:pt x="732" y="349"/>
                  </a:lnTo>
                  <a:lnTo>
                    <a:pt x="741" y="345"/>
                  </a:lnTo>
                  <a:lnTo>
                    <a:pt x="751" y="341"/>
                  </a:lnTo>
                  <a:lnTo>
                    <a:pt x="774" y="333"/>
                  </a:lnTo>
                  <a:lnTo>
                    <a:pt x="796" y="322"/>
                  </a:lnTo>
                  <a:lnTo>
                    <a:pt x="816" y="311"/>
                  </a:lnTo>
                  <a:lnTo>
                    <a:pt x="835" y="297"/>
                  </a:lnTo>
                  <a:lnTo>
                    <a:pt x="853" y="283"/>
                  </a:lnTo>
                  <a:lnTo>
                    <a:pt x="871" y="268"/>
                  </a:lnTo>
                  <a:lnTo>
                    <a:pt x="890" y="254"/>
                  </a:lnTo>
                  <a:lnTo>
                    <a:pt x="910" y="240"/>
                  </a:lnTo>
                  <a:lnTo>
                    <a:pt x="915" y="234"/>
                  </a:lnTo>
                  <a:lnTo>
                    <a:pt x="921" y="226"/>
                  </a:lnTo>
                  <a:lnTo>
                    <a:pt x="927" y="219"/>
                  </a:lnTo>
                  <a:lnTo>
                    <a:pt x="935" y="213"/>
                  </a:lnTo>
                  <a:lnTo>
                    <a:pt x="941" y="213"/>
                  </a:lnTo>
                  <a:lnTo>
                    <a:pt x="947" y="213"/>
                  </a:lnTo>
                  <a:lnTo>
                    <a:pt x="952" y="216"/>
                  </a:lnTo>
                  <a:lnTo>
                    <a:pt x="955" y="221"/>
                  </a:lnTo>
                  <a:lnTo>
                    <a:pt x="955" y="227"/>
                  </a:lnTo>
                  <a:lnTo>
                    <a:pt x="955" y="233"/>
                  </a:lnTo>
                  <a:lnTo>
                    <a:pt x="956" y="239"/>
                  </a:lnTo>
                  <a:lnTo>
                    <a:pt x="961" y="242"/>
                  </a:lnTo>
                  <a:lnTo>
                    <a:pt x="964" y="250"/>
                  </a:lnTo>
                  <a:lnTo>
                    <a:pt x="969" y="259"/>
                  </a:lnTo>
                  <a:lnTo>
                    <a:pt x="976" y="265"/>
                  </a:lnTo>
                  <a:lnTo>
                    <a:pt x="983" y="272"/>
                  </a:lnTo>
                  <a:lnTo>
                    <a:pt x="987" y="291"/>
                  </a:lnTo>
                  <a:lnTo>
                    <a:pt x="988" y="311"/>
                  </a:lnTo>
                  <a:lnTo>
                    <a:pt x="992" y="327"/>
                  </a:lnTo>
                  <a:lnTo>
                    <a:pt x="1006" y="340"/>
                  </a:lnTo>
                  <a:lnTo>
                    <a:pt x="1007" y="342"/>
                  </a:lnTo>
                  <a:lnTo>
                    <a:pt x="1006" y="344"/>
                  </a:lnTo>
                  <a:lnTo>
                    <a:pt x="1005" y="347"/>
                  </a:lnTo>
                  <a:lnTo>
                    <a:pt x="1003" y="350"/>
                  </a:lnTo>
                  <a:lnTo>
                    <a:pt x="957" y="352"/>
                  </a:lnTo>
                  <a:lnTo>
                    <a:pt x="961" y="359"/>
                  </a:lnTo>
                  <a:lnTo>
                    <a:pt x="970" y="365"/>
                  </a:lnTo>
                  <a:lnTo>
                    <a:pt x="979" y="371"/>
                  </a:lnTo>
                  <a:lnTo>
                    <a:pt x="983" y="380"/>
                  </a:lnTo>
                  <a:lnTo>
                    <a:pt x="987" y="379"/>
                  </a:lnTo>
                  <a:lnTo>
                    <a:pt x="988" y="379"/>
                  </a:lnTo>
                  <a:lnTo>
                    <a:pt x="993" y="380"/>
                  </a:lnTo>
                  <a:lnTo>
                    <a:pt x="1000" y="381"/>
                  </a:lnTo>
                  <a:lnTo>
                    <a:pt x="1008" y="382"/>
                  </a:lnTo>
                  <a:lnTo>
                    <a:pt x="1016" y="384"/>
                  </a:lnTo>
                  <a:lnTo>
                    <a:pt x="1026" y="385"/>
                  </a:lnTo>
                  <a:lnTo>
                    <a:pt x="1034" y="385"/>
                  </a:lnTo>
                  <a:lnTo>
                    <a:pt x="1042" y="384"/>
                  </a:lnTo>
                  <a:lnTo>
                    <a:pt x="1046" y="387"/>
                  </a:lnTo>
                  <a:lnTo>
                    <a:pt x="1049" y="391"/>
                  </a:lnTo>
                  <a:lnTo>
                    <a:pt x="1050" y="396"/>
                  </a:lnTo>
                  <a:lnTo>
                    <a:pt x="1050" y="402"/>
                  </a:lnTo>
                  <a:lnTo>
                    <a:pt x="1043" y="413"/>
                  </a:lnTo>
                  <a:lnTo>
                    <a:pt x="1041" y="426"/>
                  </a:lnTo>
                  <a:lnTo>
                    <a:pt x="1041" y="443"/>
                  </a:lnTo>
                  <a:lnTo>
                    <a:pt x="1039" y="457"/>
                  </a:lnTo>
                  <a:lnTo>
                    <a:pt x="1041" y="467"/>
                  </a:lnTo>
                  <a:lnTo>
                    <a:pt x="1039" y="476"/>
                  </a:lnTo>
                  <a:lnTo>
                    <a:pt x="1038" y="486"/>
                  </a:lnTo>
                  <a:lnTo>
                    <a:pt x="1039" y="497"/>
                  </a:lnTo>
                  <a:lnTo>
                    <a:pt x="1042" y="541"/>
                  </a:lnTo>
                  <a:lnTo>
                    <a:pt x="1038" y="545"/>
                  </a:lnTo>
                  <a:lnTo>
                    <a:pt x="1034" y="545"/>
                  </a:lnTo>
                  <a:lnTo>
                    <a:pt x="1029" y="544"/>
                  </a:lnTo>
                  <a:lnTo>
                    <a:pt x="1024" y="545"/>
                  </a:lnTo>
                  <a:lnTo>
                    <a:pt x="1019" y="545"/>
                  </a:lnTo>
                  <a:lnTo>
                    <a:pt x="1013" y="544"/>
                  </a:lnTo>
                  <a:lnTo>
                    <a:pt x="1007" y="545"/>
                  </a:lnTo>
                  <a:lnTo>
                    <a:pt x="1003" y="548"/>
                  </a:lnTo>
                  <a:lnTo>
                    <a:pt x="1007" y="552"/>
                  </a:lnTo>
                  <a:lnTo>
                    <a:pt x="1012" y="554"/>
                  </a:lnTo>
                  <a:lnTo>
                    <a:pt x="1016" y="554"/>
                  </a:lnTo>
                  <a:lnTo>
                    <a:pt x="1022" y="553"/>
                  </a:lnTo>
                  <a:lnTo>
                    <a:pt x="1028" y="553"/>
                  </a:lnTo>
                  <a:lnTo>
                    <a:pt x="1034" y="553"/>
                  </a:lnTo>
                  <a:lnTo>
                    <a:pt x="1038" y="553"/>
                  </a:lnTo>
                  <a:lnTo>
                    <a:pt x="1043" y="555"/>
                  </a:lnTo>
                  <a:lnTo>
                    <a:pt x="1050" y="554"/>
                  </a:lnTo>
                  <a:lnTo>
                    <a:pt x="1057" y="553"/>
                  </a:lnTo>
                  <a:lnTo>
                    <a:pt x="1060" y="549"/>
                  </a:lnTo>
                  <a:lnTo>
                    <a:pt x="1059" y="542"/>
                  </a:lnTo>
                  <a:lnTo>
                    <a:pt x="1060" y="534"/>
                  </a:lnTo>
                  <a:lnTo>
                    <a:pt x="1060" y="525"/>
                  </a:lnTo>
                  <a:lnTo>
                    <a:pt x="1060" y="517"/>
                  </a:lnTo>
                  <a:lnTo>
                    <a:pt x="1063" y="510"/>
                  </a:lnTo>
                  <a:lnTo>
                    <a:pt x="1063" y="489"/>
                  </a:lnTo>
                  <a:lnTo>
                    <a:pt x="1064" y="489"/>
                  </a:lnTo>
                  <a:lnTo>
                    <a:pt x="1066" y="467"/>
                  </a:lnTo>
                  <a:lnTo>
                    <a:pt x="1067" y="443"/>
                  </a:lnTo>
                  <a:lnTo>
                    <a:pt x="1070" y="420"/>
                  </a:lnTo>
                  <a:lnTo>
                    <a:pt x="1072" y="395"/>
                  </a:lnTo>
                  <a:lnTo>
                    <a:pt x="1077" y="372"/>
                  </a:lnTo>
                  <a:lnTo>
                    <a:pt x="1085" y="351"/>
                  </a:lnTo>
                  <a:lnTo>
                    <a:pt x="1095" y="333"/>
                  </a:lnTo>
                  <a:lnTo>
                    <a:pt x="1111" y="318"/>
                  </a:lnTo>
                  <a:lnTo>
                    <a:pt x="1118" y="312"/>
                  </a:lnTo>
                  <a:lnTo>
                    <a:pt x="1125" y="307"/>
                  </a:lnTo>
                  <a:lnTo>
                    <a:pt x="1132" y="301"/>
                  </a:lnTo>
                  <a:lnTo>
                    <a:pt x="1139" y="297"/>
                  </a:lnTo>
                  <a:lnTo>
                    <a:pt x="1146" y="292"/>
                  </a:lnTo>
                  <a:lnTo>
                    <a:pt x="1154" y="287"/>
                  </a:lnTo>
                  <a:lnTo>
                    <a:pt x="1163" y="285"/>
                  </a:lnTo>
                  <a:lnTo>
                    <a:pt x="1174" y="283"/>
                  </a:lnTo>
                  <a:lnTo>
                    <a:pt x="1158" y="311"/>
                  </a:lnTo>
                  <a:lnTo>
                    <a:pt x="1148" y="314"/>
                  </a:lnTo>
                  <a:lnTo>
                    <a:pt x="1140" y="319"/>
                  </a:lnTo>
                  <a:lnTo>
                    <a:pt x="1132" y="325"/>
                  </a:lnTo>
                  <a:lnTo>
                    <a:pt x="1126" y="330"/>
                  </a:lnTo>
                  <a:lnTo>
                    <a:pt x="1119" y="338"/>
                  </a:lnTo>
                  <a:lnTo>
                    <a:pt x="1115" y="345"/>
                  </a:lnTo>
                  <a:lnTo>
                    <a:pt x="1109" y="354"/>
                  </a:lnTo>
                  <a:lnTo>
                    <a:pt x="1104" y="360"/>
                  </a:lnTo>
                  <a:lnTo>
                    <a:pt x="1096" y="394"/>
                  </a:lnTo>
                  <a:lnTo>
                    <a:pt x="1092" y="429"/>
                  </a:lnTo>
                  <a:lnTo>
                    <a:pt x="1088" y="465"/>
                  </a:lnTo>
                  <a:lnTo>
                    <a:pt x="1086" y="499"/>
                  </a:lnTo>
                  <a:lnTo>
                    <a:pt x="1086" y="513"/>
                  </a:lnTo>
                  <a:lnTo>
                    <a:pt x="1086" y="528"/>
                  </a:lnTo>
                  <a:lnTo>
                    <a:pt x="1088" y="541"/>
                  </a:lnTo>
                  <a:lnTo>
                    <a:pt x="1095" y="550"/>
                  </a:lnTo>
                  <a:lnTo>
                    <a:pt x="1099" y="532"/>
                  </a:lnTo>
                  <a:lnTo>
                    <a:pt x="1107" y="517"/>
                  </a:lnTo>
                  <a:lnTo>
                    <a:pt x="1114" y="501"/>
                  </a:lnTo>
                  <a:lnTo>
                    <a:pt x="1116" y="481"/>
                  </a:lnTo>
                  <a:lnTo>
                    <a:pt x="1114" y="465"/>
                  </a:lnTo>
                  <a:lnTo>
                    <a:pt x="1115" y="447"/>
                  </a:lnTo>
                  <a:lnTo>
                    <a:pt x="1114" y="431"/>
                  </a:lnTo>
                  <a:lnTo>
                    <a:pt x="1104" y="418"/>
                  </a:lnTo>
                  <a:lnTo>
                    <a:pt x="1102" y="409"/>
                  </a:lnTo>
                  <a:lnTo>
                    <a:pt x="1103" y="402"/>
                  </a:lnTo>
                  <a:lnTo>
                    <a:pt x="1108" y="398"/>
                  </a:lnTo>
                  <a:lnTo>
                    <a:pt x="1114" y="394"/>
                  </a:lnTo>
                  <a:lnTo>
                    <a:pt x="1121" y="391"/>
                  </a:lnTo>
                  <a:lnTo>
                    <a:pt x="1128" y="387"/>
                  </a:lnTo>
                  <a:lnTo>
                    <a:pt x="1133" y="381"/>
                  </a:lnTo>
                  <a:lnTo>
                    <a:pt x="1137" y="376"/>
                  </a:lnTo>
                  <a:lnTo>
                    <a:pt x="1144" y="370"/>
                  </a:lnTo>
                  <a:lnTo>
                    <a:pt x="1152" y="365"/>
                  </a:lnTo>
                  <a:lnTo>
                    <a:pt x="1160" y="360"/>
                  </a:lnTo>
                  <a:lnTo>
                    <a:pt x="1166" y="354"/>
                  </a:lnTo>
                  <a:lnTo>
                    <a:pt x="1163" y="350"/>
                  </a:lnTo>
                  <a:lnTo>
                    <a:pt x="1160" y="348"/>
                  </a:lnTo>
                  <a:lnTo>
                    <a:pt x="1157" y="347"/>
                  </a:lnTo>
                  <a:lnTo>
                    <a:pt x="1152" y="347"/>
                  </a:lnTo>
                  <a:lnTo>
                    <a:pt x="1150" y="344"/>
                  </a:lnTo>
                  <a:lnTo>
                    <a:pt x="1147" y="341"/>
                  </a:lnTo>
                  <a:lnTo>
                    <a:pt x="1146" y="337"/>
                  </a:lnTo>
                  <a:lnTo>
                    <a:pt x="1146" y="331"/>
                  </a:lnTo>
                  <a:lnTo>
                    <a:pt x="1150" y="329"/>
                  </a:lnTo>
                  <a:lnTo>
                    <a:pt x="1154" y="327"/>
                  </a:lnTo>
                  <a:lnTo>
                    <a:pt x="1160" y="326"/>
                  </a:lnTo>
                  <a:lnTo>
                    <a:pt x="1165" y="326"/>
                  </a:lnTo>
                  <a:lnTo>
                    <a:pt x="1170" y="326"/>
                  </a:lnTo>
                  <a:lnTo>
                    <a:pt x="1175" y="326"/>
                  </a:lnTo>
                  <a:lnTo>
                    <a:pt x="1180" y="325"/>
                  </a:lnTo>
                  <a:lnTo>
                    <a:pt x="1184" y="323"/>
                  </a:lnTo>
                  <a:lnTo>
                    <a:pt x="1181" y="320"/>
                  </a:lnTo>
                  <a:lnTo>
                    <a:pt x="1179" y="314"/>
                  </a:lnTo>
                  <a:lnTo>
                    <a:pt x="1176" y="309"/>
                  </a:lnTo>
                  <a:lnTo>
                    <a:pt x="1173" y="306"/>
                  </a:lnTo>
                  <a:lnTo>
                    <a:pt x="1168" y="307"/>
                  </a:lnTo>
                  <a:lnTo>
                    <a:pt x="1165" y="308"/>
                  </a:lnTo>
                  <a:lnTo>
                    <a:pt x="1161" y="311"/>
                  </a:lnTo>
                  <a:lnTo>
                    <a:pt x="1161" y="315"/>
                  </a:lnTo>
                  <a:lnTo>
                    <a:pt x="1160" y="314"/>
                  </a:lnTo>
                  <a:lnTo>
                    <a:pt x="1158" y="314"/>
                  </a:lnTo>
                  <a:lnTo>
                    <a:pt x="1157" y="313"/>
                  </a:lnTo>
                  <a:lnTo>
                    <a:pt x="1158" y="311"/>
                  </a:lnTo>
                  <a:lnTo>
                    <a:pt x="1174" y="283"/>
                  </a:lnTo>
                  <a:lnTo>
                    <a:pt x="1182" y="278"/>
                  </a:lnTo>
                  <a:lnTo>
                    <a:pt x="1187" y="254"/>
                  </a:lnTo>
                  <a:lnTo>
                    <a:pt x="1192" y="225"/>
                  </a:lnTo>
                  <a:lnTo>
                    <a:pt x="1198" y="201"/>
                  </a:lnTo>
                  <a:lnTo>
                    <a:pt x="1204" y="190"/>
                  </a:lnTo>
                  <a:lnTo>
                    <a:pt x="1215" y="204"/>
                  </a:lnTo>
                  <a:lnTo>
                    <a:pt x="1221" y="231"/>
                  </a:lnTo>
                  <a:lnTo>
                    <a:pt x="1226" y="262"/>
                  </a:lnTo>
                  <a:lnTo>
                    <a:pt x="1228" y="286"/>
                  </a:lnTo>
                  <a:lnTo>
                    <a:pt x="1230" y="291"/>
                  </a:lnTo>
                  <a:lnTo>
                    <a:pt x="1231" y="297"/>
                  </a:lnTo>
                  <a:lnTo>
                    <a:pt x="1230" y="303"/>
                  </a:lnTo>
                  <a:lnTo>
                    <a:pt x="1228" y="307"/>
                  </a:lnTo>
                  <a:lnTo>
                    <a:pt x="1225" y="311"/>
                  </a:lnTo>
                  <a:lnTo>
                    <a:pt x="1223" y="314"/>
                  </a:lnTo>
                  <a:lnTo>
                    <a:pt x="1221" y="318"/>
                  </a:lnTo>
                  <a:lnTo>
                    <a:pt x="1220" y="321"/>
                  </a:lnTo>
                  <a:lnTo>
                    <a:pt x="1225" y="325"/>
                  </a:lnTo>
                  <a:lnTo>
                    <a:pt x="1231" y="326"/>
                  </a:lnTo>
                  <a:lnTo>
                    <a:pt x="1238" y="326"/>
                  </a:lnTo>
                  <a:lnTo>
                    <a:pt x="1245" y="326"/>
                  </a:lnTo>
                  <a:lnTo>
                    <a:pt x="1252" y="327"/>
                  </a:lnTo>
                  <a:lnTo>
                    <a:pt x="1255" y="329"/>
                  </a:lnTo>
                  <a:lnTo>
                    <a:pt x="1256" y="334"/>
                  </a:lnTo>
                  <a:lnTo>
                    <a:pt x="1254" y="342"/>
                  </a:lnTo>
                  <a:lnTo>
                    <a:pt x="1252" y="345"/>
                  </a:lnTo>
                  <a:lnTo>
                    <a:pt x="1249" y="348"/>
                  </a:lnTo>
                  <a:lnTo>
                    <a:pt x="1248" y="351"/>
                  </a:lnTo>
                  <a:lnTo>
                    <a:pt x="1248" y="355"/>
                  </a:lnTo>
                  <a:lnTo>
                    <a:pt x="1256" y="358"/>
                  </a:lnTo>
                  <a:lnTo>
                    <a:pt x="1262" y="364"/>
                  </a:lnTo>
                  <a:lnTo>
                    <a:pt x="1267" y="372"/>
                  </a:lnTo>
                  <a:lnTo>
                    <a:pt x="1271" y="379"/>
                  </a:lnTo>
                  <a:lnTo>
                    <a:pt x="1275" y="387"/>
                  </a:lnTo>
                  <a:lnTo>
                    <a:pt x="1281" y="394"/>
                  </a:lnTo>
                  <a:lnTo>
                    <a:pt x="1286" y="399"/>
                  </a:lnTo>
                  <a:lnTo>
                    <a:pt x="1296" y="402"/>
                  </a:lnTo>
                  <a:lnTo>
                    <a:pt x="1299" y="406"/>
                  </a:lnTo>
                  <a:lnTo>
                    <a:pt x="1300" y="410"/>
                  </a:lnTo>
                  <a:lnTo>
                    <a:pt x="1301" y="415"/>
                  </a:lnTo>
                  <a:lnTo>
                    <a:pt x="1301" y="417"/>
                  </a:lnTo>
                  <a:lnTo>
                    <a:pt x="1299" y="422"/>
                  </a:lnTo>
                  <a:lnTo>
                    <a:pt x="1297" y="425"/>
                  </a:lnTo>
                  <a:lnTo>
                    <a:pt x="1292" y="429"/>
                  </a:lnTo>
                  <a:lnTo>
                    <a:pt x="1288" y="432"/>
                  </a:lnTo>
                  <a:lnTo>
                    <a:pt x="1285" y="451"/>
                  </a:lnTo>
                  <a:lnTo>
                    <a:pt x="1285" y="469"/>
                  </a:lnTo>
                  <a:lnTo>
                    <a:pt x="1285" y="489"/>
                  </a:lnTo>
                  <a:lnTo>
                    <a:pt x="1286" y="506"/>
                  </a:lnTo>
                  <a:lnTo>
                    <a:pt x="1293" y="511"/>
                  </a:lnTo>
                  <a:lnTo>
                    <a:pt x="1299" y="518"/>
                  </a:lnTo>
                  <a:lnTo>
                    <a:pt x="1301" y="527"/>
                  </a:lnTo>
                  <a:lnTo>
                    <a:pt x="1304" y="535"/>
                  </a:lnTo>
                  <a:lnTo>
                    <a:pt x="1307" y="544"/>
                  </a:lnTo>
                  <a:lnTo>
                    <a:pt x="1311" y="550"/>
                  </a:lnTo>
                  <a:lnTo>
                    <a:pt x="1318" y="554"/>
                  </a:lnTo>
                  <a:lnTo>
                    <a:pt x="1327" y="553"/>
                  </a:lnTo>
                  <a:lnTo>
                    <a:pt x="1340" y="553"/>
                  </a:lnTo>
                  <a:lnTo>
                    <a:pt x="1352" y="554"/>
                  </a:lnTo>
                  <a:lnTo>
                    <a:pt x="1365" y="554"/>
                  </a:lnTo>
                  <a:lnTo>
                    <a:pt x="1378" y="554"/>
                  </a:lnTo>
                  <a:lnTo>
                    <a:pt x="1391" y="554"/>
                  </a:lnTo>
                  <a:lnTo>
                    <a:pt x="1405" y="554"/>
                  </a:lnTo>
                  <a:lnTo>
                    <a:pt x="1417" y="554"/>
                  </a:lnTo>
                  <a:lnTo>
                    <a:pt x="1431" y="553"/>
                  </a:lnTo>
                  <a:lnTo>
                    <a:pt x="1444" y="553"/>
                  </a:lnTo>
                  <a:lnTo>
                    <a:pt x="1458" y="553"/>
                  </a:lnTo>
                  <a:lnTo>
                    <a:pt x="1472" y="553"/>
                  </a:lnTo>
                  <a:lnTo>
                    <a:pt x="1485" y="553"/>
                  </a:lnTo>
                  <a:lnTo>
                    <a:pt x="1499" y="553"/>
                  </a:lnTo>
                  <a:lnTo>
                    <a:pt x="1513" y="553"/>
                  </a:lnTo>
                  <a:lnTo>
                    <a:pt x="1525" y="554"/>
                  </a:lnTo>
                  <a:lnTo>
                    <a:pt x="1539" y="554"/>
                  </a:lnTo>
                  <a:lnTo>
                    <a:pt x="1545" y="553"/>
                  </a:lnTo>
                  <a:lnTo>
                    <a:pt x="1546" y="548"/>
                  </a:lnTo>
                  <a:lnTo>
                    <a:pt x="1545" y="544"/>
                  </a:lnTo>
                  <a:lnTo>
                    <a:pt x="1545" y="538"/>
                  </a:lnTo>
                  <a:lnTo>
                    <a:pt x="1536" y="532"/>
                  </a:lnTo>
                  <a:lnTo>
                    <a:pt x="1533" y="524"/>
                  </a:lnTo>
                  <a:lnTo>
                    <a:pt x="1533" y="515"/>
                  </a:lnTo>
                  <a:lnTo>
                    <a:pt x="1533" y="504"/>
                  </a:lnTo>
                  <a:lnTo>
                    <a:pt x="1540" y="498"/>
                  </a:lnTo>
                  <a:lnTo>
                    <a:pt x="1542" y="491"/>
                  </a:lnTo>
                  <a:lnTo>
                    <a:pt x="1539" y="482"/>
                  </a:lnTo>
                  <a:lnTo>
                    <a:pt x="1539" y="473"/>
                  </a:lnTo>
                  <a:lnTo>
                    <a:pt x="1526" y="435"/>
                  </a:lnTo>
                  <a:lnTo>
                    <a:pt x="1510" y="382"/>
                  </a:lnTo>
                  <a:lnTo>
                    <a:pt x="1492" y="322"/>
                  </a:lnTo>
                  <a:lnTo>
                    <a:pt x="1473" y="260"/>
                  </a:lnTo>
                  <a:lnTo>
                    <a:pt x="1455" y="202"/>
                  </a:lnTo>
                  <a:lnTo>
                    <a:pt x="1439" y="153"/>
                  </a:lnTo>
                  <a:lnTo>
                    <a:pt x="1429" y="119"/>
                  </a:lnTo>
                  <a:lnTo>
                    <a:pt x="1424" y="107"/>
                  </a:lnTo>
                  <a:lnTo>
                    <a:pt x="1420" y="104"/>
                  </a:lnTo>
                  <a:lnTo>
                    <a:pt x="1417" y="81"/>
                  </a:lnTo>
                  <a:lnTo>
                    <a:pt x="1417" y="55"/>
                  </a:lnTo>
                  <a:lnTo>
                    <a:pt x="1417" y="28"/>
                  </a:lnTo>
                  <a:lnTo>
                    <a:pt x="1417" y="2"/>
                  </a:lnTo>
                  <a:lnTo>
                    <a:pt x="1429" y="2"/>
                  </a:lnTo>
                  <a:lnTo>
                    <a:pt x="1445" y="1"/>
                  </a:lnTo>
                  <a:lnTo>
                    <a:pt x="1465" y="1"/>
                  </a:lnTo>
                  <a:lnTo>
                    <a:pt x="1488" y="1"/>
                  </a:lnTo>
                  <a:lnTo>
                    <a:pt x="1516" y="0"/>
                  </a:lnTo>
                  <a:lnTo>
                    <a:pt x="1545" y="0"/>
                  </a:lnTo>
                  <a:lnTo>
                    <a:pt x="1575" y="0"/>
                  </a:lnTo>
                  <a:lnTo>
                    <a:pt x="1608" y="0"/>
                  </a:lnTo>
                  <a:lnTo>
                    <a:pt x="1640" y="0"/>
                  </a:lnTo>
                  <a:lnTo>
                    <a:pt x="1673" y="0"/>
                  </a:lnTo>
                  <a:lnTo>
                    <a:pt x="1705" y="0"/>
                  </a:lnTo>
                  <a:lnTo>
                    <a:pt x="1735" y="0"/>
                  </a:lnTo>
                  <a:lnTo>
                    <a:pt x="1764" y="0"/>
                  </a:lnTo>
                  <a:lnTo>
                    <a:pt x="1791" y="0"/>
                  </a:lnTo>
                  <a:lnTo>
                    <a:pt x="1815" y="0"/>
                  </a:lnTo>
                  <a:lnTo>
                    <a:pt x="1835" y="0"/>
                  </a:lnTo>
                  <a:lnTo>
                    <a:pt x="1837" y="16"/>
                  </a:lnTo>
                  <a:lnTo>
                    <a:pt x="1836" y="48"/>
                  </a:lnTo>
                  <a:lnTo>
                    <a:pt x="1834" y="78"/>
                  </a:lnTo>
                  <a:lnTo>
                    <a:pt x="1833" y="91"/>
                  </a:lnTo>
                  <a:lnTo>
                    <a:pt x="1827" y="99"/>
                  </a:lnTo>
                  <a:lnTo>
                    <a:pt x="1821" y="104"/>
                  </a:lnTo>
                  <a:lnTo>
                    <a:pt x="1814" y="110"/>
                  </a:lnTo>
                  <a:lnTo>
                    <a:pt x="1808" y="118"/>
                  </a:lnTo>
                  <a:lnTo>
                    <a:pt x="1802" y="141"/>
                  </a:lnTo>
                  <a:lnTo>
                    <a:pt x="1793" y="180"/>
                  </a:lnTo>
                  <a:lnTo>
                    <a:pt x="1780" y="228"/>
                  </a:lnTo>
                  <a:lnTo>
                    <a:pt x="1766" y="283"/>
                  </a:lnTo>
                  <a:lnTo>
                    <a:pt x="1750" y="337"/>
                  </a:lnTo>
                  <a:lnTo>
                    <a:pt x="1736" y="386"/>
                  </a:lnTo>
                  <a:lnTo>
                    <a:pt x="1722" y="424"/>
                  </a:lnTo>
                  <a:lnTo>
                    <a:pt x="1713" y="446"/>
                  </a:lnTo>
                  <a:lnTo>
                    <a:pt x="1712" y="464"/>
                  </a:lnTo>
                  <a:lnTo>
                    <a:pt x="1707" y="482"/>
                  </a:lnTo>
                  <a:lnTo>
                    <a:pt x="1705" y="499"/>
                  </a:lnTo>
                  <a:lnTo>
                    <a:pt x="1708" y="518"/>
                  </a:lnTo>
                  <a:lnTo>
                    <a:pt x="1712" y="527"/>
                  </a:lnTo>
                  <a:lnTo>
                    <a:pt x="1719" y="542"/>
                  </a:lnTo>
                  <a:lnTo>
                    <a:pt x="1725" y="556"/>
                  </a:lnTo>
                  <a:lnTo>
                    <a:pt x="1728" y="563"/>
                  </a:lnTo>
                  <a:lnTo>
                    <a:pt x="1737" y="560"/>
                  </a:lnTo>
                  <a:lnTo>
                    <a:pt x="1747" y="555"/>
                  </a:lnTo>
                  <a:lnTo>
                    <a:pt x="1754" y="548"/>
                  </a:lnTo>
                  <a:lnTo>
                    <a:pt x="1754" y="538"/>
                  </a:lnTo>
                  <a:lnTo>
                    <a:pt x="1754" y="515"/>
                  </a:lnTo>
                  <a:lnTo>
                    <a:pt x="1754" y="493"/>
                  </a:lnTo>
                  <a:lnTo>
                    <a:pt x="1754" y="471"/>
                  </a:lnTo>
                  <a:lnTo>
                    <a:pt x="1755" y="449"/>
                  </a:lnTo>
                  <a:lnTo>
                    <a:pt x="1754" y="442"/>
                  </a:lnTo>
                  <a:lnTo>
                    <a:pt x="1754" y="433"/>
                  </a:lnTo>
                  <a:lnTo>
                    <a:pt x="1750" y="428"/>
                  </a:lnTo>
                  <a:lnTo>
                    <a:pt x="1743" y="426"/>
                  </a:lnTo>
                  <a:lnTo>
                    <a:pt x="1741" y="424"/>
                  </a:lnTo>
                  <a:lnTo>
                    <a:pt x="1740" y="421"/>
                  </a:lnTo>
                  <a:lnTo>
                    <a:pt x="1741" y="416"/>
                  </a:lnTo>
                  <a:lnTo>
                    <a:pt x="1742" y="414"/>
                  </a:lnTo>
                  <a:lnTo>
                    <a:pt x="1749" y="409"/>
                  </a:lnTo>
                  <a:lnTo>
                    <a:pt x="1757" y="404"/>
                  </a:lnTo>
                  <a:lnTo>
                    <a:pt x="1765" y="401"/>
                  </a:lnTo>
                  <a:lnTo>
                    <a:pt x="1773" y="398"/>
                  </a:lnTo>
                  <a:lnTo>
                    <a:pt x="1782" y="395"/>
                  </a:lnTo>
                  <a:lnTo>
                    <a:pt x="1791" y="393"/>
                  </a:lnTo>
                  <a:lnTo>
                    <a:pt x="1801" y="391"/>
                  </a:lnTo>
                  <a:lnTo>
                    <a:pt x="1811" y="388"/>
                  </a:lnTo>
                  <a:lnTo>
                    <a:pt x="1843" y="395"/>
                  </a:lnTo>
                  <a:lnTo>
                    <a:pt x="1844" y="388"/>
                  </a:lnTo>
                  <a:lnTo>
                    <a:pt x="1848" y="381"/>
                  </a:lnTo>
                  <a:lnTo>
                    <a:pt x="1853" y="379"/>
                  </a:lnTo>
                  <a:lnTo>
                    <a:pt x="1862" y="379"/>
                  </a:lnTo>
                  <a:lnTo>
                    <a:pt x="1867" y="381"/>
                  </a:lnTo>
                  <a:lnTo>
                    <a:pt x="1873" y="380"/>
                  </a:lnTo>
                  <a:lnTo>
                    <a:pt x="1877" y="384"/>
                  </a:lnTo>
                  <a:lnTo>
                    <a:pt x="1875" y="393"/>
                  </a:lnTo>
                  <a:lnTo>
                    <a:pt x="1874" y="393"/>
                  </a:lnTo>
                  <a:lnTo>
                    <a:pt x="1877" y="400"/>
                  </a:lnTo>
                  <a:lnTo>
                    <a:pt x="1882" y="406"/>
                  </a:lnTo>
                  <a:lnTo>
                    <a:pt x="1888" y="411"/>
                  </a:lnTo>
                  <a:lnTo>
                    <a:pt x="1886" y="420"/>
                  </a:lnTo>
                  <a:lnTo>
                    <a:pt x="1877" y="440"/>
                  </a:lnTo>
                  <a:lnTo>
                    <a:pt x="1873" y="487"/>
                  </a:lnTo>
                  <a:lnTo>
                    <a:pt x="1878" y="534"/>
                  </a:lnTo>
                  <a:lnTo>
                    <a:pt x="1891" y="564"/>
                  </a:lnTo>
                  <a:lnTo>
                    <a:pt x="1891" y="574"/>
                  </a:lnTo>
                  <a:lnTo>
                    <a:pt x="1889" y="582"/>
                  </a:lnTo>
                  <a:lnTo>
                    <a:pt x="1886" y="589"/>
                  </a:lnTo>
                  <a:lnTo>
                    <a:pt x="1880" y="594"/>
                  </a:lnTo>
                  <a:lnTo>
                    <a:pt x="1882" y="604"/>
                  </a:lnTo>
                  <a:lnTo>
                    <a:pt x="1882" y="616"/>
                  </a:lnTo>
                  <a:lnTo>
                    <a:pt x="1877" y="628"/>
                  </a:lnTo>
                  <a:lnTo>
                    <a:pt x="1859" y="635"/>
                  </a:lnTo>
                  <a:lnTo>
                    <a:pt x="1851" y="637"/>
                  </a:lnTo>
                  <a:lnTo>
                    <a:pt x="1845" y="636"/>
                  </a:lnTo>
                  <a:lnTo>
                    <a:pt x="1838" y="636"/>
                  </a:lnTo>
                  <a:lnTo>
                    <a:pt x="1831" y="637"/>
                  </a:lnTo>
                  <a:lnTo>
                    <a:pt x="1826" y="643"/>
                  </a:lnTo>
                  <a:lnTo>
                    <a:pt x="1821" y="649"/>
                  </a:lnTo>
                  <a:lnTo>
                    <a:pt x="1816" y="656"/>
                  </a:lnTo>
                  <a:lnTo>
                    <a:pt x="1816" y="664"/>
                  </a:lnTo>
                  <a:lnTo>
                    <a:pt x="1816" y="672"/>
                  </a:lnTo>
                  <a:lnTo>
                    <a:pt x="1816" y="692"/>
                  </a:lnTo>
                  <a:lnTo>
                    <a:pt x="1813" y="714"/>
                  </a:lnTo>
                  <a:lnTo>
                    <a:pt x="1802" y="731"/>
                  </a:lnTo>
                  <a:lnTo>
                    <a:pt x="1771" y="708"/>
                  </a:lnTo>
                  <a:lnTo>
                    <a:pt x="1778" y="695"/>
                  </a:lnTo>
                  <a:lnTo>
                    <a:pt x="1780" y="678"/>
                  </a:lnTo>
                  <a:lnTo>
                    <a:pt x="1779" y="661"/>
                  </a:lnTo>
                  <a:lnTo>
                    <a:pt x="1777" y="651"/>
                  </a:lnTo>
                  <a:lnTo>
                    <a:pt x="1773" y="652"/>
                  </a:lnTo>
                  <a:lnTo>
                    <a:pt x="1771" y="656"/>
                  </a:lnTo>
                  <a:lnTo>
                    <a:pt x="1768" y="659"/>
                  </a:lnTo>
                  <a:lnTo>
                    <a:pt x="1762" y="662"/>
                  </a:lnTo>
                  <a:lnTo>
                    <a:pt x="1755" y="661"/>
                  </a:lnTo>
                  <a:lnTo>
                    <a:pt x="1750" y="656"/>
                  </a:lnTo>
                  <a:lnTo>
                    <a:pt x="1747" y="652"/>
                  </a:lnTo>
                  <a:lnTo>
                    <a:pt x="1741" y="651"/>
                  </a:lnTo>
                  <a:lnTo>
                    <a:pt x="1736" y="650"/>
                  </a:lnTo>
                  <a:lnTo>
                    <a:pt x="1734" y="647"/>
                  </a:lnTo>
                  <a:lnTo>
                    <a:pt x="1733" y="643"/>
                  </a:lnTo>
                  <a:lnTo>
                    <a:pt x="1731" y="640"/>
                  </a:lnTo>
                  <a:lnTo>
                    <a:pt x="1729" y="645"/>
                  </a:lnTo>
                  <a:lnTo>
                    <a:pt x="1728" y="650"/>
                  </a:lnTo>
                  <a:lnTo>
                    <a:pt x="1728" y="655"/>
                  </a:lnTo>
                  <a:lnTo>
                    <a:pt x="1728" y="662"/>
                  </a:lnTo>
                  <a:lnTo>
                    <a:pt x="1731" y="662"/>
                  </a:lnTo>
                  <a:lnTo>
                    <a:pt x="1733" y="669"/>
                  </a:lnTo>
                  <a:lnTo>
                    <a:pt x="1741" y="669"/>
                  </a:lnTo>
                  <a:lnTo>
                    <a:pt x="1750" y="667"/>
                  </a:lnTo>
                  <a:lnTo>
                    <a:pt x="1757" y="670"/>
                  </a:lnTo>
                  <a:lnTo>
                    <a:pt x="1764" y="676"/>
                  </a:lnTo>
                  <a:lnTo>
                    <a:pt x="1769" y="681"/>
                  </a:lnTo>
                  <a:lnTo>
                    <a:pt x="1772" y="689"/>
                  </a:lnTo>
                  <a:lnTo>
                    <a:pt x="1772" y="699"/>
                  </a:lnTo>
                  <a:lnTo>
                    <a:pt x="1766" y="703"/>
                  </a:lnTo>
                  <a:lnTo>
                    <a:pt x="1759" y="706"/>
                  </a:lnTo>
                  <a:lnTo>
                    <a:pt x="1751" y="707"/>
                  </a:lnTo>
                  <a:lnTo>
                    <a:pt x="1743" y="706"/>
                  </a:lnTo>
                  <a:lnTo>
                    <a:pt x="1744" y="707"/>
                  </a:lnTo>
                  <a:lnTo>
                    <a:pt x="1746" y="707"/>
                  </a:lnTo>
                  <a:lnTo>
                    <a:pt x="1747" y="708"/>
                  </a:lnTo>
                  <a:lnTo>
                    <a:pt x="1747" y="709"/>
                  </a:lnTo>
                  <a:lnTo>
                    <a:pt x="1753" y="713"/>
                  </a:lnTo>
                  <a:lnTo>
                    <a:pt x="1759" y="714"/>
                  </a:lnTo>
                  <a:lnTo>
                    <a:pt x="1765" y="713"/>
                  </a:lnTo>
                  <a:lnTo>
                    <a:pt x="1771" y="708"/>
                  </a:lnTo>
                  <a:lnTo>
                    <a:pt x="1802" y="731"/>
                  </a:lnTo>
                  <a:lnTo>
                    <a:pt x="1799" y="735"/>
                  </a:lnTo>
                  <a:lnTo>
                    <a:pt x="1794" y="737"/>
                  </a:lnTo>
                  <a:lnTo>
                    <a:pt x="1791" y="739"/>
                  </a:lnTo>
                  <a:lnTo>
                    <a:pt x="1786" y="744"/>
                  </a:lnTo>
                  <a:lnTo>
                    <a:pt x="1795" y="753"/>
                  </a:lnTo>
                  <a:lnTo>
                    <a:pt x="1811" y="767"/>
                  </a:lnTo>
                  <a:lnTo>
                    <a:pt x="1828" y="784"/>
                  </a:lnTo>
                  <a:lnTo>
                    <a:pt x="1849" y="803"/>
                  </a:lnTo>
                  <a:lnTo>
                    <a:pt x="1870" y="822"/>
                  </a:lnTo>
                  <a:lnTo>
                    <a:pt x="1889" y="839"/>
                  </a:lnTo>
                  <a:lnTo>
                    <a:pt x="1906" y="853"/>
                  </a:lnTo>
                  <a:lnTo>
                    <a:pt x="1918" y="863"/>
                  </a:lnTo>
                  <a:lnTo>
                    <a:pt x="1888" y="884"/>
                  </a:lnTo>
                  <a:lnTo>
                    <a:pt x="1875" y="871"/>
                  </a:lnTo>
                  <a:lnTo>
                    <a:pt x="1859" y="854"/>
                  </a:lnTo>
                  <a:lnTo>
                    <a:pt x="1838" y="835"/>
                  </a:lnTo>
                  <a:lnTo>
                    <a:pt x="1816" y="815"/>
                  </a:lnTo>
                  <a:lnTo>
                    <a:pt x="1794" y="796"/>
                  </a:lnTo>
                  <a:lnTo>
                    <a:pt x="1775" y="778"/>
                  </a:lnTo>
                  <a:lnTo>
                    <a:pt x="1758" y="765"/>
                  </a:lnTo>
                  <a:lnTo>
                    <a:pt x="1747" y="756"/>
                  </a:lnTo>
                  <a:lnTo>
                    <a:pt x="1743" y="874"/>
                  </a:lnTo>
                  <a:lnTo>
                    <a:pt x="1750" y="877"/>
                  </a:lnTo>
                  <a:lnTo>
                    <a:pt x="1758" y="875"/>
                  </a:lnTo>
                  <a:lnTo>
                    <a:pt x="1766" y="873"/>
                  </a:lnTo>
                  <a:lnTo>
                    <a:pt x="1773" y="871"/>
                  </a:lnTo>
                  <a:lnTo>
                    <a:pt x="1779" y="873"/>
                  </a:lnTo>
                  <a:lnTo>
                    <a:pt x="1783" y="875"/>
                  </a:lnTo>
                  <a:lnTo>
                    <a:pt x="1786" y="878"/>
                  </a:lnTo>
                  <a:lnTo>
                    <a:pt x="1787" y="883"/>
                  </a:lnTo>
                  <a:lnTo>
                    <a:pt x="1800" y="885"/>
                  </a:lnTo>
                  <a:lnTo>
                    <a:pt x="1813" y="886"/>
                  </a:lnTo>
                  <a:lnTo>
                    <a:pt x="1824" y="888"/>
                  </a:lnTo>
                  <a:lnTo>
                    <a:pt x="1837" y="886"/>
                  </a:lnTo>
                  <a:lnTo>
                    <a:pt x="1850" y="885"/>
                  </a:lnTo>
                  <a:lnTo>
                    <a:pt x="1863" y="885"/>
                  </a:lnTo>
                  <a:lnTo>
                    <a:pt x="1875" y="884"/>
                  </a:lnTo>
                  <a:lnTo>
                    <a:pt x="1888" y="884"/>
                  </a:lnTo>
                  <a:lnTo>
                    <a:pt x="1918" y="863"/>
                  </a:lnTo>
                  <a:lnTo>
                    <a:pt x="1925" y="866"/>
                  </a:lnTo>
                  <a:lnTo>
                    <a:pt x="1936" y="868"/>
                  </a:lnTo>
                  <a:lnTo>
                    <a:pt x="1949" y="870"/>
                  </a:lnTo>
                  <a:lnTo>
                    <a:pt x="1964" y="873"/>
                  </a:lnTo>
                  <a:lnTo>
                    <a:pt x="1979" y="876"/>
                  </a:lnTo>
                  <a:lnTo>
                    <a:pt x="1993" y="882"/>
                  </a:lnTo>
                  <a:lnTo>
                    <a:pt x="2005" y="889"/>
                  </a:lnTo>
                  <a:lnTo>
                    <a:pt x="2016" y="898"/>
                  </a:lnTo>
                  <a:lnTo>
                    <a:pt x="2019" y="904"/>
                  </a:lnTo>
                  <a:lnTo>
                    <a:pt x="2019" y="912"/>
                  </a:lnTo>
                  <a:lnTo>
                    <a:pt x="2018" y="920"/>
                  </a:lnTo>
                  <a:lnTo>
                    <a:pt x="2019" y="928"/>
                  </a:lnTo>
                  <a:lnTo>
                    <a:pt x="2027" y="934"/>
                  </a:lnTo>
                  <a:lnTo>
                    <a:pt x="2039" y="942"/>
                  </a:lnTo>
                  <a:lnTo>
                    <a:pt x="2053" y="952"/>
                  </a:lnTo>
                  <a:lnTo>
                    <a:pt x="2071" y="964"/>
                  </a:lnTo>
                  <a:lnTo>
                    <a:pt x="2090" y="977"/>
                  </a:lnTo>
                  <a:lnTo>
                    <a:pt x="2111" y="992"/>
                  </a:lnTo>
                  <a:lnTo>
                    <a:pt x="2133" y="1006"/>
                  </a:lnTo>
                  <a:lnTo>
                    <a:pt x="2155" y="1021"/>
                  </a:lnTo>
                  <a:lnTo>
                    <a:pt x="2177" y="1036"/>
                  </a:lnTo>
                  <a:lnTo>
                    <a:pt x="2198" y="1050"/>
                  </a:lnTo>
                  <a:lnTo>
                    <a:pt x="2216" y="1063"/>
                  </a:lnTo>
                  <a:lnTo>
                    <a:pt x="2234" y="1074"/>
                  </a:lnTo>
                  <a:lnTo>
                    <a:pt x="2248" y="1083"/>
                  </a:lnTo>
                  <a:lnTo>
                    <a:pt x="2259" y="1091"/>
                  </a:lnTo>
                  <a:lnTo>
                    <a:pt x="2266" y="1096"/>
                  </a:lnTo>
                  <a:lnTo>
                    <a:pt x="2269" y="1097"/>
                  </a:lnTo>
                  <a:lnTo>
                    <a:pt x="2269" y="1102"/>
                  </a:lnTo>
                  <a:lnTo>
                    <a:pt x="2266" y="1104"/>
                  </a:lnTo>
                  <a:lnTo>
                    <a:pt x="2263" y="1107"/>
                  </a:lnTo>
                  <a:lnTo>
                    <a:pt x="2259" y="1109"/>
                  </a:lnTo>
                  <a:lnTo>
                    <a:pt x="2251" y="1109"/>
                  </a:lnTo>
                  <a:lnTo>
                    <a:pt x="2240" y="1109"/>
                  </a:lnTo>
                  <a:lnTo>
                    <a:pt x="2224" y="1109"/>
                  </a:lnTo>
                  <a:lnTo>
                    <a:pt x="2208" y="1109"/>
                  </a:lnTo>
                  <a:lnTo>
                    <a:pt x="2189" y="1109"/>
                  </a:lnTo>
                  <a:lnTo>
                    <a:pt x="2168" y="1108"/>
                  </a:lnTo>
                  <a:lnTo>
                    <a:pt x="2147" y="1108"/>
                  </a:lnTo>
                  <a:lnTo>
                    <a:pt x="2124" y="1108"/>
                  </a:lnTo>
                  <a:lnTo>
                    <a:pt x="2102" y="1108"/>
                  </a:lnTo>
                  <a:lnTo>
                    <a:pt x="2078" y="1108"/>
                  </a:lnTo>
                  <a:lnTo>
                    <a:pt x="2057" y="1108"/>
                  </a:lnTo>
                  <a:lnTo>
                    <a:pt x="2037" y="1108"/>
                  </a:lnTo>
                  <a:lnTo>
                    <a:pt x="2018" y="1108"/>
                  </a:lnTo>
                  <a:lnTo>
                    <a:pt x="2002" y="1108"/>
                  </a:lnTo>
                  <a:lnTo>
                    <a:pt x="1988" y="1108"/>
                  </a:lnTo>
                  <a:lnTo>
                    <a:pt x="1976" y="1108"/>
                  </a:lnTo>
                  <a:lnTo>
                    <a:pt x="1971" y="1101"/>
                  </a:lnTo>
                  <a:lnTo>
                    <a:pt x="1967" y="1094"/>
                  </a:lnTo>
                  <a:lnTo>
                    <a:pt x="1962" y="1087"/>
                  </a:lnTo>
                  <a:lnTo>
                    <a:pt x="1959" y="1079"/>
                  </a:lnTo>
                  <a:lnTo>
                    <a:pt x="1955" y="1072"/>
                  </a:lnTo>
                  <a:lnTo>
                    <a:pt x="1952" y="1065"/>
                  </a:lnTo>
                  <a:lnTo>
                    <a:pt x="1946" y="1058"/>
                  </a:lnTo>
                  <a:lnTo>
                    <a:pt x="1940" y="1051"/>
                  </a:lnTo>
                  <a:lnTo>
                    <a:pt x="1937" y="1053"/>
                  </a:lnTo>
                  <a:lnTo>
                    <a:pt x="1933" y="1064"/>
                  </a:lnTo>
                  <a:lnTo>
                    <a:pt x="1930" y="1073"/>
                  </a:lnTo>
                  <a:lnTo>
                    <a:pt x="1925" y="1082"/>
                  </a:lnTo>
                  <a:lnTo>
                    <a:pt x="1921" y="1091"/>
                  </a:lnTo>
                  <a:lnTo>
                    <a:pt x="1915" y="1101"/>
                  </a:lnTo>
                  <a:lnTo>
                    <a:pt x="1908" y="1109"/>
                  </a:lnTo>
                  <a:lnTo>
                    <a:pt x="1901" y="1117"/>
                  </a:lnTo>
                  <a:lnTo>
                    <a:pt x="1893" y="1124"/>
                  </a:lnTo>
                  <a:lnTo>
                    <a:pt x="2301" y="1124"/>
                  </a:lnTo>
                  <a:lnTo>
                    <a:pt x="2301" y="1181"/>
                  </a:lnTo>
                  <a:lnTo>
                    <a:pt x="1786" y="1181"/>
                  </a:lnTo>
                  <a:lnTo>
                    <a:pt x="1783" y="1126"/>
                  </a:lnTo>
                  <a:lnTo>
                    <a:pt x="1783" y="1125"/>
                  </a:lnTo>
                  <a:lnTo>
                    <a:pt x="1776" y="1117"/>
                  </a:lnTo>
                  <a:lnTo>
                    <a:pt x="1769" y="1109"/>
                  </a:lnTo>
                  <a:lnTo>
                    <a:pt x="1761" y="1100"/>
                  </a:lnTo>
                  <a:lnTo>
                    <a:pt x="1754" y="1091"/>
                  </a:lnTo>
                  <a:lnTo>
                    <a:pt x="1728" y="1091"/>
                  </a:lnTo>
                  <a:lnTo>
                    <a:pt x="1700" y="1091"/>
                  </a:lnTo>
                  <a:lnTo>
                    <a:pt x="1670" y="1091"/>
                  </a:lnTo>
                  <a:lnTo>
                    <a:pt x="1641" y="1093"/>
                  </a:lnTo>
                  <a:lnTo>
                    <a:pt x="1615" y="1093"/>
                  </a:lnTo>
                  <a:lnTo>
                    <a:pt x="1594" y="1094"/>
                  </a:lnTo>
                  <a:lnTo>
                    <a:pt x="1580" y="1094"/>
                  </a:lnTo>
                  <a:lnTo>
                    <a:pt x="1574" y="1094"/>
                  </a:lnTo>
                  <a:lnTo>
                    <a:pt x="1584" y="1067"/>
                  </a:lnTo>
                  <a:lnTo>
                    <a:pt x="1590" y="1067"/>
                  </a:lnTo>
                  <a:lnTo>
                    <a:pt x="1606" y="1067"/>
                  </a:lnTo>
                  <a:lnTo>
                    <a:pt x="1628" y="1067"/>
                  </a:lnTo>
                  <a:lnTo>
                    <a:pt x="1655" y="1067"/>
                  </a:lnTo>
                  <a:lnTo>
                    <a:pt x="1682" y="1067"/>
                  </a:lnTo>
                  <a:lnTo>
                    <a:pt x="1706" y="1067"/>
                  </a:lnTo>
                  <a:lnTo>
                    <a:pt x="1725" y="1066"/>
                  </a:lnTo>
                  <a:lnTo>
                    <a:pt x="1734" y="1066"/>
                  </a:lnTo>
                  <a:lnTo>
                    <a:pt x="1739" y="1064"/>
                  </a:lnTo>
                  <a:lnTo>
                    <a:pt x="1739" y="1060"/>
                  </a:lnTo>
                  <a:lnTo>
                    <a:pt x="1737" y="1056"/>
                  </a:lnTo>
                  <a:lnTo>
                    <a:pt x="1736" y="1051"/>
                  </a:lnTo>
                  <a:lnTo>
                    <a:pt x="1729" y="1050"/>
                  </a:lnTo>
                  <a:lnTo>
                    <a:pt x="1724" y="1047"/>
                  </a:lnTo>
                  <a:lnTo>
                    <a:pt x="1718" y="1045"/>
                  </a:lnTo>
                  <a:lnTo>
                    <a:pt x="1713" y="1042"/>
                  </a:lnTo>
                  <a:lnTo>
                    <a:pt x="1707" y="1038"/>
                  </a:lnTo>
                  <a:lnTo>
                    <a:pt x="1702" y="1035"/>
                  </a:lnTo>
                  <a:lnTo>
                    <a:pt x="1696" y="1032"/>
                  </a:lnTo>
                  <a:lnTo>
                    <a:pt x="1690" y="1030"/>
                  </a:lnTo>
                  <a:lnTo>
                    <a:pt x="1683" y="1034"/>
                  </a:lnTo>
                  <a:lnTo>
                    <a:pt x="1676" y="1036"/>
                  </a:lnTo>
                  <a:lnTo>
                    <a:pt x="1669" y="1037"/>
                  </a:lnTo>
                  <a:lnTo>
                    <a:pt x="1661" y="1038"/>
                  </a:lnTo>
                  <a:lnTo>
                    <a:pt x="1654" y="1037"/>
                  </a:lnTo>
                  <a:lnTo>
                    <a:pt x="1647" y="1036"/>
                  </a:lnTo>
                  <a:lnTo>
                    <a:pt x="1640" y="1034"/>
                  </a:lnTo>
                  <a:lnTo>
                    <a:pt x="1634" y="1030"/>
                  </a:lnTo>
                  <a:lnTo>
                    <a:pt x="1627" y="1034"/>
                  </a:lnTo>
                  <a:lnTo>
                    <a:pt x="1622" y="1036"/>
                  </a:lnTo>
                  <a:lnTo>
                    <a:pt x="1615" y="1039"/>
                  </a:lnTo>
                  <a:lnTo>
                    <a:pt x="1609" y="1042"/>
                  </a:lnTo>
                  <a:lnTo>
                    <a:pt x="1602" y="1044"/>
                  </a:lnTo>
                  <a:lnTo>
                    <a:pt x="1596" y="1047"/>
                  </a:lnTo>
                  <a:lnTo>
                    <a:pt x="1590" y="1051"/>
                  </a:lnTo>
                  <a:lnTo>
                    <a:pt x="1584" y="1056"/>
                  </a:lnTo>
                  <a:lnTo>
                    <a:pt x="1584" y="1067"/>
                  </a:lnTo>
                  <a:lnTo>
                    <a:pt x="1574" y="1094"/>
                  </a:lnTo>
                  <a:lnTo>
                    <a:pt x="1567" y="1095"/>
                  </a:lnTo>
                  <a:lnTo>
                    <a:pt x="1561" y="1097"/>
                  </a:lnTo>
                  <a:lnTo>
                    <a:pt x="1557" y="1102"/>
                  </a:lnTo>
                  <a:lnTo>
                    <a:pt x="1552" y="1107"/>
                  </a:lnTo>
                  <a:lnTo>
                    <a:pt x="1547" y="1112"/>
                  </a:lnTo>
                  <a:lnTo>
                    <a:pt x="1543" y="1118"/>
                  </a:lnTo>
                  <a:lnTo>
                    <a:pt x="1538" y="1123"/>
                  </a:lnTo>
                  <a:lnTo>
                    <a:pt x="1533" y="1127"/>
                  </a:lnTo>
                  <a:lnTo>
                    <a:pt x="1542" y="1129"/>
                  </a:lnTo>
                  <a:lnTo>
                    <a:pt x="1554" y="1129"/>
                  </a:lnTo>
                  <a:lnTo>
                    <a:pt x="1569" y="1129"/>
                  </a:lnTo>
                  <a:lnTo>
                    <a:pt x="1587" y="1129"/>
                  </a:lnTo>
                  <a:lnTo>
                    <a:pt x="1605" y="1129"/>
                  </a:lnTo>
                  <a:lnTo>
                    <a:pt x="1626" y="1127"/>
                  </a:lnTo>
                  <a:lnTo>
                    <a:pt x="1648" y="1127"/>
                  </a:lnTo>
                  <a:lnTo>
                    <a:pt x="1669" y="1126"/>
                  </a:lnTo>
                  <a:lnTo>
                    <a:pt x="1691" y="1126"/>
                  </a:lnTo>
                  <a:lnTo>
                    <a:pt x="1711" y="1125"/>
                  </a:lnTo>
                  <a:lnTo>
                    <a:pt x="1729" y="1125"/>
                  </a:lnTo>
                  <a:lnTo>
                    <a:pt x="1747" y="1125"/>
                  </a:lnTo>
                  <a:lnTo>
                    <a:pt x="1761" y="1124"/>
                  </a:lnTo>
                  <a:lnTo>
                    <a:pt x="1772" y="1124"/>
                  </a:lnTo>
                  <a:lnTo>
                    <a:pt x="1779" y="1125"/>
                  </a:lnTo>
                  <a:lnTo>
                    <a:pt x="1783" y="1125"/>
                  </a:lnTo>
                  <a:lnTo>
                    <a:pt x="1786" y="1181"/>
                  </a:lnTo>
                  <a:lnTo>
                    <a:pt x="1365" y="1181"/>
                  </a:lnTo>
                  <a:lnTo>
                    <a:pt x="1387" y="1130"/>
                  </a:lnTo>
                  <a:lnTo>
                    <a:pt x="1392" y="1127"/>
                  </a:lnTo>
                  <a:lnTo>
                    <a:pt x="1395" y="1129"/>
                  </a:lnTo>
                  <a:lnTo>
                    <a:pt x="1400" y="1130"/>
                  </a:lnTo>
                  <a:lnTo>
                    <a:pt x="1404" y="1129"/>
                  </a:lnTo>
                  <a:lnTo>
                    <a:pt x="1392" y="1110"/>
                  </a:lnTo>
                  <a:lnTo>
                    <a:pt x="1386" y="1109"/>
                  </a:lnTo>
                  <a:lnTo>
                    <a:pt x="1381" y="1111"/>
                  </a:lnTo>
                  <a:lnTo>
                    <a:pt x="1376" y="1115"/>
                  </a:lnTo>
                  <a:lnTo>
                    <a:pt x="1370" y="1116"/>
                  </a:lnTo>
                  <a:lnTo>
                    <a:pt x="1361" y="1107"/>
                  </a:lnTo>
                  <a:lnTo>
                    <a:pt x="1357" y="1096"/>
                  </a:lnTo>
                  <a:lnTo>
                    <a:pt x="1358" y="1086"/>
                  </a:lnTo>
                  <a:lnTo>
                    <a:pt x="1363" y="1074"/>
                  </a:lnTo>
                  <a:lnTo>
                    <a:pt x="1368" y="1063"/>
                  </a:lnTo>
                  <a:lnTo>
                    <a:pt x="1373" y="1050"/>
                  </a:lnTo>
                  <a:lnTo>
                    <a:pt x="1377" y="1038"/>
                  </a:lnTo>
                  <a:lnTo>
                    <a:pt x="1376" y="1025"/>
                  </a:lnTo>
                  <a:lnTo>
                    <a:pt x="1370" y="1018"/>
                  </a:lnTo>
                  <a:lnTo>
                    <a:pt x="1365" y="1010"/>
                  </a:lnTo>
                  <a:lnTo>
                    <a:pt x="1363" y="1001"/>
                  </a:lnTo>
                  <a:lnTo>
                    <a:pt x="1361" y="992"/>
                  </a:lnTo>
                  <a:lnTo>
                    <a:pt x="1412" y="884"/>
                  </a:lnTo>
                  <a:lnTo>
                    <a:pt x="1529" y="883"/>
                  </a:lnTo>
                  <a:lnTo>
                    <a:pt x="1535" y="878"/>
                  </a:lnTo>
                  <a:lnTo>
                    <a:pt x="1542" y="871"/>
                  </a:lnTo>
                  <a:lnTo>
                    <a:pt x="1545" y="864"/>
                  </a:lnTo>
                  <a:lnTo>
                    <a:pt x="1546" y="856"/>
                  </a:lnTo>
                  <a:lnTo>
                    <a:pt x="1540" y="852"/>
                  </a:lnTo>
                  <a:lnTo>
                    <a:pt x="1535" y="854"/>
                  </a:lnTo>
                  <a:lnTo>
                    <a:pt x="1528" y="859"/>
                  </a:lnTo>
                  <a:lnTo>
                    <a:pt x="1521" y="862"/>
                  </a:lnTo>
                  <a:lnTo>
                    <a:pt x="1514" y="863"/>
                  </a:lnTo>
                  <a:lnTo>
                    <a:pt x="1506" y="863"/>
                  </a:lnTo>
                  <a:lnTo>
                    <a:pt x="1497" y="861"/>
                  </a:lnTo>
                  <a:lnTo>
                    <a:pt x="1490" y="857"/>
                  </a:lnTo>
                  <a:lnTo>
                    <a:pt x="1482" y="851"/>
                  </a:lnTo>
                  <a:lnTo>
                    <a:pt x="1473" y="846"/>
                  </a:lnTo>
                  <a:lnTo>
                    <a:pt x="1464" y="845"/>
                  </a:lnTo>
                  <a:lnTo>
                    <a:pt x="1452" y="844"/>
                  </a:lnTo>
                  <a:lnTo>
                    <a:pt x="1441" y="844"/>
                  </a:lnTo>
                  <a:lnTo>
                    <a:pt x="1430" y="845"/>
                  </a:lnTo>
                  <a:lnTo>
                    <a:pt x="1419" y="844"/>
                  </a:lnTo>
                  <a:lnTo>
                    <a:pt x="1408" y="842"/>
                  </a:lnTo>
                  <a:lnTo>
                    <a:pt x="1402" y="845"/>
                  </a:lnTo>
                  <a:lnTo>
                    <a:pt x="1397" y="846"/>
                  </a:lnTo>
                  <a:lnTo>
                    <a:pt x="1392" y="848"/>
                  </a:lnTo>
                  <a:lnTo>
                    <a:pt x="1391" y="853"/>
                  </a:lnTo>
                  <a:lnTo>
                    <a:pt x="1398" y="860"/>
                  </a:lnTo>
                  <a:lnTo>
                    <a:pt x="1404" y="867"/>
                  </a:lnTo>
                  <a:lnTo>
                    <a:pt x="1408" y="875"/>
                  </a:lnTo>
                  <a:lnTo>
                    <a:pt x="1412" y="884"/>
                  </a:lnTo>
                  <a:lnTo>
                    <a:pt x="1361" y="992"/>
                  </a:lnTo>
                  <a:lnTo>
                    <a:pt x="1357" y="993"/>
                  </a:lnTo>
                  <a:lnTo>
                    <a:pt x="1354" y="993"/>
                  </a:lnTo>
                  <a:lnTo>
                    <a:pt x="1349" y="992"/>
                  </a:lnTo>
                  <a:lnTo>
                    <a:pt x="1347" y="990"/>
                  </a:lnTo>
                  <a:lnTo>
                    <a:pt x="1347" y="998"/>
                  </a:lnTo>
                  <a:lnTo>
                    <a:pt x="1347" y="1003"/>
                  </a:lnTo>
                  <a:lnTo>
                    <a:pt x="1348" y="1010"/>
                  </a:lnTo>
                  <a:lnTo>
                    <a:pt x="1347" y="1018"/>
                  </a:lnTo>
                  <a:lnTo>
                    <a:pt x="1346" y="1025"/>
                  </a:lnTo>
                  <a:lnTo>
                    <a:pt x="1347" y="1034"/>
                  </a:lnTo>
                  <a:lnTo>
                    <a:pt x="1348" y="1041"/>
                  </a:lnTo>
                  <a:lnTo>
                    <a:pt x="1344" y="1046"/>
                  </a:lnTo>
                  <a:lnTo>
                    <a:pt x="1336" y="1047"/>
                  </a:lnTo>
                  <a:lnTo>
                    <a:pt x="1329" y="1046"/>
                  </a:lnTo>
                  <a:lnTo>
                    <a:pt x="1322" y="1043"/>
                  </a:lnTo>
                  <a:lnTo>
                    <a:pt x="1318" y="1038"/>
                  </a:lnTo>
                  <a:lnTo>
                    <a:pt x="1313" y="1046"/>
                  </a:lnTo>
                  <a:lnTo>
                    <a:pt x="1307" y="1056"/>
                  </a:lnTo>
                  <a:lnTo>
                    <a:pt x="1301" y="1064"/>
                  </a:lnTo>
                  <a:lnTo>
                    <a:pt x="1296" y="1072"/>
                  </a:lnTo>
                  <a:lnTo>
                    <a:pt x="1290" y="1080"/>
                  </a:lnTo>
                  <a:lnTo>
                    <a:pt x="1283" y="1088"/>
                  </a:lnTo>
                  <a:lnTo>
                    <a:pt x="1276" y="1095"/>
                  </a:lnTo>
                  <a:lnTo>
                    <a:pt x="1269" y="1103"/>
                  </a:lnTo>
                  <a:lnTo>
                    <a:pt x="1261" y="1110"/>
                  </a:lnTo>
                  <a:lnTo>
                    <a:pt x="1253" y="1117"/>
                  </a:lnTo>
                  <a:lnTo>
                    <a:pt x="1245" y="1123"/>
                  </a:lnTo>
                  <a:lnTo>
                    <a:pt x="1235" y="1129"/>
                  </a:lnTo>
                  <a:lnTo>
                    <a:pt x="1254" y="1131"/>
                  </a:lnTo>
                  <a:lnTo>
                    <a:pt x="1272" y="1131"/>
                  </a:lnTo>
                  <a:lnTo>
                    <a:pt x="1291" y="1131"/>
                  </a:lnTo>
                  <a:lnTo>
                    <a:pt x="1310" y="1131"/>
                  </a:lnTo>
                  <a:lnTo>
                    <a:pt x="1329" y="1130"/>
                  </a:lnTo>
                  <a:lnTo>
                    <a:pt x="1349" y="1130"/>
                  </a:lnTo>
                  <a:lnTo>
                    <a:pt x="1368" y="1130"/>
                  </a:lnTo>
                  <a:lnTo>
                    <a:pt x="1387" y="1130"/>
                  </a:lnTo>
                  <a:lnTo>
                    <a:pt x="1365" y="1181"/>
                  </a:lnTo>
                  <a:lnTo>
                    <a:pt x="864" y="1181"/>
                  </a:lnTo>
                  <a:lnTo>
                    <a:pt x="876" y="1130"/>
                  </a:lnTo>
                  <a:lnTo>
                    <a:pt x="1071" y="1130"/>
                  </a:lnTo>
                  <a:lnTo>
                    <a:pt x="1077" y="1131"/>
                  </a:lnTo>
                  <a:lnTo>
                    <a:pt x="1080" y="1131"/>
                  </a:lnTo>
                  <a:lnTo>
                    <a:pt x="1085" y="1131"/>
                  </a:lnTo>
                  <a:lnTo>
                    <a:pt x="1089" y="1130"/>
                  </a:lnTo>
                  <a:lnTo>
                    <a:pt x="1082" y="1125"/>
                  </a:lnTo>
                  <a:lnTo>
                    <a:pt x="1077" y="1120"/>
                  </a:lnTo>
                  <a:lnTo>
                    <a:pt x="1071" y="1116"/>
                  </a:lnTo>
                  <a:lnTo>
                    <a:pt x="1065" y="1112"/>
                  </a:lnTo>
                  <a:lnTo>
                    <a:pt x="1059" y="1108"/>
                  </a:lnTo>
                  <a:lnTo>
                    <a:pt x="1053" y="1103"/>
                  </a:lnTo>
                  <a:lnTo>
                    <a:pt x="1048" y="1098"/>
                  </a:lnTo>
                  <a:lnTo>
                    <a:pt x="1043" y="1093"/>
                  </a:lnTo>
                  <a:lnTo>
                    <a:pt x="1089" y="1093"/>
                  </a:lnTo>
                  <a:lnTo>
                    <a:pt x="1093" y="1090"/>
                  </a:lnTo>
                  <a:lnTo>
                    <a:pt x="1100" y="1082"/>
                  </a:lnTo>
                  <a:lnTo>
                    <a:pt x="1107" y="1069"/>
                  </a:lnTo>
                  <a:lnTo>
                    <a:pt x="1115" y="1053"/>
                  </a:lnTo>
                  <a:lnTo>
                    <a:pt x="1123" y="1036"/>
                  </a:lnTo>
                  <a:lnTo>
                    <a:pt x="1130" y="1020"/>
                  </a:lnTo>
                  <a:lnTo>
                    <a:pt x="1137" y="1008"/>
                  </a:lnTo>
                  <a:lnTo>
                    <a:pt x="1140" y="1000"/>
                  </a:lnTo>
                  <a:lnTo>
                    <a:pt x="1160" y="999"/>
                  </a:lnTo>
                  <a:lnTo>
                    <a:pt x="1155" y="1017"/>
                  </a:lnTo>
                  <a:lnTo>
                    <a:pt x="1150" y="1053"/>
                  </a:lnTo>
                  <a:lnTo>
                    <a:pt x="1145" y="1089"/>
                  </a:lnTo>
                  <a:lnTo>
                    <a:pt x="1144" y="1110"/>
                  </a:lnTo>
                  <a:lnTo>
                    <a:pt x="1148" y="1110"/>
                  </a:lnTo>
                  <a:lnTo>
                    <a:pt x="1152" y="1110"/>
                  </a:lnTo>
                  <a:lnTo>
                    <a:pt x="1157" y="1110"/>
                  </a:lnTo>
                  <a:lnTo>
                    <a:pt x="1161" y="1111"/>
                  </a:lnTo>
                  <a:lnTo>
                    <a:pt x="1168" y="1110"/>
                  </a:lnTo>
                  <a:lnTo>
                    <a:pt x="1174" y="1110"/>
                  </a:lnTo>
                  <a:lnTo>
                    <a:pt x="1179" y="1110"/>
                  </a:lnTo>
                  <a:lnTo>
                    <a:pt x="1182" y="1110"/>
                  </a:lnTo>
                  <a:lnTo>
                    <a:pt x="1174" y="991"/>
                  </a:lnTo>
                  <a:lnTo>
                    <a:pt x="1176" y="996"/>
                  </a:lnTo>
                  <a:lnTo>
                    <a:pt x="1181" y="1009"/>
                  </a:lnTo>
                  <a:lnTo>
                    <a:pt x="1188" y="1027"/>
                  </a:lnTo>
                  <a:lnTo>
                    <a:pt x="1195" y="1045"/>
                  </a:lnTo>
                  <a:lnTo>
                    <a:pt x="1203" y="1065"/>
                  </a:lnTo>
                  <a:lnTo>
                    <a:pt x="1210" y="1081"/>
                  </a:lnTo>
                  <a:lnTo>
                    <a:pt x="1215" y="1093"/>
                  </a:lnTo>
                  <a:lnTo>
                    <a:pt x="1218" y="1098"/>
                  </a:lnTo>
                  <a:lnTo>
                    <a:pt x="1224" y="1094"/>
                  </a:lnTo>
                  <a:lnTo>
                    <a:pt x="1232" y="1089"/>
                  </a:lnTo>
                  <a:lnTo>
                    <a:pt x="1239" y="1086"/>
                  </a:lnTo>
                  <a:lnTo>
                    <a:pt x="1242" y="1085"/>
                  </a:lnTo>
                  <a:lnTo>
                    <a:pt x="1240" y="1079"/>
                  </a:lnTo>
                  <a:lnTo>
                    <a:pt x="1238" y="1074"/>
                  </a:lnTo>
                  <a:lnTo>
                    <a:pt x="1235" y="1069"/>
                  </a:lnTo>
                  <a:lnTo>
                    <a:pt x="1233" y="1068"/>
                  </a:lnTo>
                  <a:lnTo>
                    <a:pt x="1274" y="1053"/>
                  </a:lnTo>
                  <a:lnTo>
                    <a:pt x="1278" y="1047"/>
                  </a:lnTo>
                  <a:lnTo>
                    <a:pt x="1284" y="1038"/>
                  </a:lnTo>
                  <a:lnTo>
                    <a:pt x="1290" y="1030"/>
                  </a:lnTo>
                  <a:lnTo>
                    <a:pt x="1292" y="1024"/>
                  </a:lnTo>
                  <a:lnTo>
                    <a:pt x="1286" y="1021"/>
                  </a:lnTo>
                  <a:lnTo>
                    <a:pt x="1276" y="1017"/>
                  </a:lnTo>
                  <a:lnTo>
                    <a:pt x="1262" y="1013"/>
                  </a:lnTo>
                  <a:lnTo>
                    <a:pt x="1248" y="1007"/>
                  </a:lnTo>
                  <a:lnTo>
                    <a:pt x="1233" y="1002"/>
                  </a:lnTo>
                  <a:lnTo>
                    <a:pt x="1219" y="999"/>
                  </a:lnTo>
                  <a:lnTo>
                    <a:pt x="1209" y="995"/>
                  </a:lnTo>
                  <a:lnTo>
                    <a:pt x="1202" y="994"/>
                  </a:lnTo>
                  <a:lnTo>
                    <a:pt x="1194" y="977"/>
                  </a:lnTo>
                  <a:lnTo>
                    <a:pt x="1203" y="976"/>
                  </a:lnTo>
                  <a:lnTo>
                    <a:pt x="1218" y="976"/>
                  </a:lnTo>
                  <a:lnTo>
                    <a:pt x="1237" y="974"/>
                  </a:lnTo>
                  <a:lnTo>
                    <a:pt x="1256" y="973"/>
                  </a:lnTo>
                  <a:lnTo>
                    <a:pt x="1275" y="972"/>
                  </a:lnTo>
                  <a:lnTo>
                    <a:pt x="1292" y="972"/>
                  </a:lnTo>
                  <a:lnTo>
                    <a:pt x="1303" y="971"/>
                  </a:lnTo>
                  <a:lnTo>
                    <a:pt x="1307" y="971"/>
                  </a:lnTo>
                  <a:lnTo>
                    <a:pt x="1306" y="964"/>
                  </a:lnTo>
                  <a:lnTo>
                    <a:pt x="1303" y="954"/>
                  </a:lnTo>
                  <a:lnTo>
                    <a:pt x="1300" y="943"/>
                  </a:lnTo>
                  <a:lnTo>
                    <a:pt x="1298" y="937"/>
                  </a:lnTo>
                  <a:lnTo>
                    <a:pt x="1245" y="954"/>
                  </a:lnTo>
                  <a:lnTo>
                    <a:pt x="1223" y="913"/>
                  </a:lnTo>
                  <a:lnTo>
                    <a:pt x="1226" y="912"/>
                  </a:lnTo>
                  <a:lnTo>
                    <a:pt x="1232" y="908"/>
                  </a:lnTo>
                  <a:lnTo>
                    <a:pt x="1240" y="905"/>
                  </a:lnTo>
                  <a:lnTo>
                    <a:pt x="1248" y="900"/>
                  </a:lnTo>
                  <a:lnTo>
                    <a:pt x="1255" y="896"/>
                  </a:lnTo>
                  <a:lnTo>
                    <a:pt x="1261" y="890"/>
                  </a:lnTo>
                  <a:lnTo>
                    <a:pt x="1264" y="885"/>
                  </a:lnTo>
                  <a:lnTo>
                    <a:pt x="1266" y="882"/>
                  </a:lnTo>
                  <a:lnTo>
                    <a:pt x="1261" y="873"/>
                  </a:lnTo>
                  <a:lnTo>
                    <a:pt x="1254" y="864"/>
                  </a:lnTo>
                  <a:lnTo>
                    <a:pt x="1246" y="859"/>
                  </a:lnTo>
                  <a:lnTo>
                    <a:pt x="1238" y="856"/>
                  </a:lnTo>
                  <a:lnTo>
                    <a:pt x="1175" y="954"/>
                  </a:lnTo>
                  <a:lnTo>
                    <a:pt x="1223" y="913"/>
                  </a:lnTo>
                  <a:lnTo>
                    <a:pt x="1245" y="954"/>
                  </a:lnTo>
                  <a:lnTo>
                    <a:pt x="1194" y="977"/>
                  </a:lnTo>
                  <a:lnTo>
                    <a:pt x="1202" y="994"/>
                  </a:lnTo>
                  <a:lnTo>
                    <a:pt x="1274" y="1053"/>
                  </a:lnTo>
                  <a:lnTo>
                    <a:pt x="1233" y="1068"/>
                  </a:lnTo>
                  <a:lnTo>
                    <a:pt x="1228" y="1065"/>
                  </a:lnTo>
                  <a:lnTo>
                    <a:pt x="1221" y="1057"/>
                  </a:lnTo>
                  <a:lnTo>
                    <a:pt x="1213" y="1044"/>
                  </a:lnTo>
                  <a:lnTo>
                    <a:pt x="1204" y="1030"/>
                  </a:lnTo>
                  <a:lnTo>
                    <a:pt x="1194" y="1015"/>
                  </a:lnTo>
                  <a:lnTo>
                    <a:pt x="1186" y="1003"/>
                  </a:lnTo>
                  <a:lnTo>
                    <a:pt x="1179" y="994"/>
                  </a:lnTo>
                  <a:lnTo>
                    <a:pt x="1174" y="991"/>
                  </a:lnTo>
                  <a:lnTo>
                    <a:pt x="1182" y="1110"/>
                  </a:lnTo>
                  <a:lnTo>
                    <a:pt x="1179" y="1089"/>
                  </a:lnTo>
                  <a:lnTo>
                    <a:pt x="1172" y="1057"/>
                  </a:lnTo>
                  <a:lnTo>
                    <a:pt x="1165" y="1023"/>
                  </a:lnTo>
                  <a:lnTo>
                    <a:pt x="1160" y="999"/>
                  </a:lnTo>
                  <a:lnTo>
                    <a:pt x="1140" y="1000"/>
                  </a:lnTo>
                  <a:lnTo>
                    <a:pt x="1117" y="1020"/>
                  </a:lnTo>
                  <a:lnTo>
                    <a:pt x="1136" y="984"/>
                  </a:lnTo>
                  <a:lnTo>
                    <a:pt x="1097" y="978"/>
                  </a:lnTo>
                  <a:lnTo>
                    <a:pt x="1095" y="957"/>
                  </a:lnTo>
                  <a:lnTo>
                    <a:pt x="1099" y="957"/>
                  </a:lnTo>
                  <a:lnTo>
                    <a:pt x="1103" y="958"/>
                  </a:lnTo>
                  <a:lnTo>
                    <a:pt x="1109" y="959"/>
                  </a:lnTo>
                  <a:lnTo>
                    <a:pt x="1115" y="961"/>
                  </a:lnTo>
                  <a:lnTo>
                    <a:pt x="1122" y="962"/>
                  </a:lnTo>
                  <a:lnTo>
                    <a:pt x="1126" y="963"/>
                  </a:lnTo>
                  <a:lnTo>
                    <a:pt x="1131" y="964"/>
                  </a:lnTo>
                  <a:lnTo>
                    <a:pt x="1135" y="965"/>
                  </a:lnTo>
                  <a:lnTo>
                    <a:pt x="1130" y="963"/>
                  </a:lnTo>
                  <a:lnTo>
                    <a:pt x="1118" y="957"/>
                  </a:lnTo>
                  <a:lnTo>
                    <a:pt x="1102" y="948"/>
                  </a:lnTo>
                  <a:lnTo>
                    <a:pt x="1083" y="939"/>
                  </a:lnTo>
                  <a:lnTo>
                    <a:pt x="1064" y="929"/>
                  </a:lnTo>
                  <a:lnTo>
                    <a:pt x="1048" y="921"/>
                  </a:lnTo>
                  <a:lnTo>
                    <a:pt x="1036" y="915"/>
                  </a:lnTo>
                  <a:lnTo>
                    <a:pt x="1031" y="913"/>
                  </a:lnTo>
                  <a:lnTo>
                    <a:pt x="1054" y="876"/>
                  </a:lnTo>
                  <a:lnTo>
                    <a:pt x="1061" y="879"/>
                  </a:lnTo>
                  <a:lnTo>
                    <a:pt x="1073" y="889"/>
                  </a:lnTo>
                  <a:lnTo>
                    <a:pt x="1087" y="899"/>
                  </a:lnTo>
                  <a:lnTo>
                    <a:pt x="1102" y="912"/>
                  </a:lnTo>
                  <a:lnTo>
                    <a:pt x="1117" y="925"/>
                  </a:lnTo>
                  <a:lnTo>
                    <a:pt x="1130" y="935"/>
                  </a:lnTo>
                  <a:lnTo>
                    <a:pt x="1139" y="942"/>
                  </a:lnTo>
                  <a:lnTo>
                    <a:pt x="1144" y="944"/>
                  </a:lnTo>
                  <a:lnTo>
                    <a:pt x="1085" y="852"/>
                  </a:lnTo>
                  <a:lnTo>
                    <a:pt x="1139" y="831"/>
                  </a:lnTo>
                  <a:lnTo>
                    <a:pt x="1161" y="946"/>
                  </a:lnTo>
                  <a:lnTo>
                    <a:pt x="1182" y="832"/>
                  </a:lnTo>
                  <a:lnTo>
                    <a:pt x="1176" y="831"/>
                  </a:lnTo>
                  <a:lnTo>
                    <a:pt x="1169" y="830"/>
                  </a:lnTo>
                  <a:lnTo>
                    <a:pt x="1163" y="830"/>
                  </a:lnTo>
                  <a:lnTo>
                    <a:pt x="1158" y="830"/>
                  </a:lnTo>
                  <a:lnTo>
                    <a:pt x="1153" y="830"/>
                  </a:lnTo>
                  <a:lnTo>
                    <a:pt x="1147" y="830"/>
                  </a:lnTo>
                  <a:lnTo>
                    <a:pt x="1143" y="831"/>
                  </a:lnTo>
                  <a:lnTo>
                    <a:pt x="1139" y="831"/>
                  </a:lnTo>
                  <a:lnTo>
                    <a:pt x="1085" y="852"/>
                  </a:lnTo>
                  <a:lnTo>
                    <a:pt x="1077" y="857"/>
                  </a:lnTo>
                  <a:lnTo>
                    <a:pt x="1066" y="864"/>
                  </a:lnTo>
                  <a:lnTo>
                    <a:pt x="1058" y="871"/>
                  </a:lnTo>
                  <a:lnTo>
                    <a:pt x="1054" y="876"/>
                  </a:lnTo>
                  <a:lnTo>
                    <a:pt x="1031" y="913"/>
                  </a:lnTo>
                  <a:lnTo>
                    <a:pt x="1028" y="920"/>
                  </a:lnTo>
                  <a:lnTo>
                    <a:pt x="1026" y="928"/>
                  </a:lnTo>
                  <a:lnTo>
                    <a:pt x="1023" y="936"/>
                  </a:lnTo>
                  <a:lnTo>
                    <a:pt x="1021" y="944"/>
                  </a:lnTo>
                  <a:lnTo>
                    <a:pt x="1024" y="944"/>
                  </a:lnTo>
                  <a:lnTo>
                    <a:pt x="1031" y="947"/>
                  </a:lnTo>
                  <a:lnTo>
                    <a:pt x="1043" y="948"/>
                  </a:lnTo>
                  <a:lnTo>
                    <a:pt x="1057" y="950"/>
                  </a:lnTo>
                  <a:lnTo>
                    <a:pt x="1070" y="954"/>
                  </a:lnTo>
                  <a:lnTo>
                    <a:pt x="1081" y="955"/>
                  </a:lnTo>
                  <a:lnTo>
                    <a:pt x="1090" y="957"/>
                  </a:lnTo>
                  <a:lnTo>
                    <a:pt x="1095" y="957"/>
                  </a:lnTo>
                  <a:lnTo>
                    <a:pt x="1097" y="978"/>
                  </a:lnTo>
                  <a:lnTo>
                    <a:pt x="1089" y="977"/>
                  </a:lnTo>
                  <a:lnTo>
                    <a:pt x="1079" y="977"/>
                  </a:lnTo>
                  <a:lnTo>
                    <a:pt x="1066" y="977"/>
                  </a:lnTo>
                  <a:lnTo>
                    <a:pt x="1053" y="978"/>
                  </a:lnTo>
                  <a:lnTo>
                    <a:pt x="1041" y="978"/>
                  </a:lnTo>
                  <a:lnTo>
                    <a:pt x="1030" y="979"/>
                  </a:lnTo>
                  <a:lnTo>
                    <a:pt x="1022" y="979"/>
                  </a:lnTo>
                  <a:lnTo>
                    <a:pt x="1020" y="979"/>
                  </a:lnTo>
                  <a:lnTo>
                    <a:pt x="1021" y="986"/>
                  </a:lnTo>
                  <a:lnTo>
                    <a:pt x="1023" y="993"/>
                  </a:lnTo>
                  <a:lnTo>
                    <a:pt x="1026" y="1000"/>
                  </a:lnTo>
                  <a:lnTo>
                    <a:pt x="1027" y="1007"/>
                  </a:lnTo>
                  <a:lnTo>
                    <a:pt x="1136" y="984"/>
                  </a:lnTo>
                  <a:lnTo>
                    <a:pt x="1117" y="1020"/>
                  </a:lnTo>
                  <a:lnTo>
                    <a:pt x="1111" y="1023"/>
                  </a:lnTo>
                  <a:lnTo>
                    <a:pt x="1103" y="1029"/>
                  </a:lnTo>
                  <a:lnTo>
                    <a:pt x="1093" y="1036"/>
                  </a:lnTo>
                  <a:lnTo>
                    <a:pt x="1083" y="1044"/>
                  </a:lnTo>
                  <a:lnTo>
                    <a:pt x="1073" y="1052"/>
                  </a:lnTo>
                  <a:lnTo>
                    <a:pt x="1065" y="1058"/>
                  </a:lnTo>
                  <a:lnTo>
                    <a:pt x="1058" y="1063"/>
                  </a:lnTo>
                  <a:lnTo>
                    <a:pt x="1054" y="1064"/>
                  </a:lnTo>
                  <a:lnTo>
                    <a:pt x="1058" y="1069"/>
                  </a:lnTo>
                  <a:lnTo>
                    <a:pt x="1063" y="1074"/>
                  </a:lnTo>
                  <a:lnTo>
                    <a:pt x="1068" y="1079"/>
                  </a:lnTo>
                  <a:lnTo>
                    <a:pt x="1074" y="1083"/>
                  </a:lnTo>
                  <a:lnTo>
                    <a:pt x="1080" y="1087"/>
                  </a:lnTo>
                  <a:lnTo>
                    <a:pt x="1085" y="1089"/>
                  </a:lnTo>
                  <a:lnTo>
                    <a:pt x="1088" y="1091"/>
                  </a:lnTo>
                  <a:lnTo>
                    <a:pt x="1089" y="1093"/>
                  </a:lnTo>
                  <a:lnTo>
                    <a:pt x="1043" y="1093"/>
                  </a:lnTo>
                  <a:lnTo>
                    <a:pt x="1030" y="1074"/>
                  </a:lnTo>
                  <a:lnTo>
                    <a:pt x="1022" y="1071"/>
                  </a:lnTo>
                  <a:lnTo>
                    <a:pt x="1014" y="1068"/>
                  </a:lnTo>
                  <a:lnTo>
                    <a:pt x="1006" y="1068"/>
                  </a:lnTo>
                  <a:lnTo>
                    <a:pt x="998" y="1069"/>
                  </a:lnTo>
                  <a:lnTo>
                    <a:pt x="990" y="1071"/>
                  </a:lnTo>
                  <a:lnTo>
                    <a:pt x="980" y="1072"/>
                  </a:lnTo>
                  <a:lnTo>
                    <a:pt x="971" y="1072"/>
                  </a:lnTo>
                  <a:lnTo>
                    <a:pt x="962" y="1072"/>
                  </a:lnTo>
                  <a:lnTo>
                    <a:pt x="959" y="1081"/>
                  </a:lnTo>
                  <a:lnTo>
                    <a:pt x="956" y="1088"/>
                  </a:lnTo>
                  <a:lnTo>
                    <a:pt x="952" y="1095"/>
                  </a:lnTo>
                  <a:lnTo>
                    <a:pt x="948" y="1100"/>
                  </a:lnTo>
                  <a:lnTo>
                    <a:pt x="943" y="1105"/>
                  </a:lnTo>
                  <a:lnTo>
                    <a:pt x="937" y="1110"/>
                  </a:lnTo>
                  <a:lnTo>
                    <a:pt x="932" y="1113"/>
                  </a:lnTo>
                  <a:lnTo>
                    <a:pt x="923" y="1118"/>
                  </a:lnTo>
                  <a:lnTo>
                    <a:pt x="917" y="1116"/>
                  </a:lnTo>
                  <a:lnTo>
                    <a:pt x="911" y="1112"/>
                  </a:lnTo>
                  <a:lnTo>
                    <a:pt x="905" y="1109"/>
                  </a:lnTo>
                  <a:lnTo>
                    <a:pt x="899" y="1107"/>
                  </a:lnTo>
                  <a:lnTo>
                    <a:pt x="876" y="1130"/>
                  </a:lnTo>
                  <a:lnTo>
                    <a:pt x="864" y="1181"/>
                  </a:lnTo>
                  <a:lnTo>
                    <a:pt x="799" y="1181"/>
                  </a:lnTo>
                  <a:lnTo>
                    <a:pt x="790" y="1105"/>
                  </a:lnTo>
                  <a:lnTo>
                    <a:pt x="797" y="1105"/>
                  </a:lnTo>
                  <a:lnTo>
                    <a:pt x="803" y="1105"/>
                  </a:lnTo>
                  <a:lnTo>
                    <a:pt x="808" y="1105"/>
                  </a:lnTo>
                  <a:lnTo>
                    <a:pt x="812" y="1104"/>
                  </a:lnTo>
                  <a:lnTo>
                    <a:pt x="804" y="985"/>
                  </a:lnTo>
                  <a:lnTo>
                    <a:pt x="806" y="991"/>
                  </a:lnTo>
                  <a:lnTo>
                    <a:pt x="811" y="1003"/>
                  </a:lnTo>
                  <a:lnTo>
                    <a:pt x="817" y="1021"/>
                  </a:lnTo>
                  <a:lnTo>
                    <a:pt x="825" y="1041"/>
                  </a:lnTo>
                  <a:lnTo>
                    <a:pt x="832" y="1059"/>
                  </a:lnTo>
                  <a:lnTo>
                    <a:pt x="840" y="1076"/>
                  </a:lnTo>
                  <a:lnTo>
                    <a:pt x="845" y="1088"/>
                  </a:lnTo>
                  <a:lnTo>
                    <a:pt x="848" y="1094"/>
                  </a:lnTo>
                  <a:lnTo>
                    <a:pt x="854" y="1089"/>
                  </a:lnTo>
                  <a:lnTo>
                    <a:pt x="862" y="1085"/>
                  </a:lnTo>
                  <a:lnTo>
                    <a:pt x="869" y="1081"/>
                  </a:lnTo>
                  <a:lnTo>
                    <a:pt x="871" y="1080"/>
                  </a:lnTo>
                  <a:lnTo>
                    <a:pt x="870" y="1074"/>
                  </a:lnTo>
                  <a:lnTo>
                    <a:pt x="868" y="1069"/>
                  </a:lnTo>
                  <a:lnTo>
                    <a:pt x="864" y="1065"/>
                  </a:lnTo>
                  <a:lnTo>
                    <a:pt x="862" y="1064"/>
                  </a:lnTo>
                  <a:lnTo>
                    <a:pt x="904" y="1049"/>
                  </a:lnTo>
                  <a:lnTo>
                    <a:pt x="908" y="1043"/>
                  </a:lnTo>
                  <a:lnTo>
                    <a:pt x="914" y="1034"/>
                  </a:lnTo>
                  <a:lnTo>
                    <a:pt x="920" y="1024"/>
                  </a:lnTo>
                  <a:lnTo>
                    <a:pt x="922" y="1018"/>
                  </a:lnTo>
                  <a:lnTo>
                    <a:pt x="917" y="1016"/>
                  </a:lnTo>
                  <a:lnTo>
                    <a:pt x="906" y="1013"/>
                  </a:lnTo>
                  <a:lnTo>
                    <a:pt x="892" y="1008"/>
                  </a:lnTo>
                  <a:lnTo>
                    <a:pt x="877" y="1002"/>
                  </a:lnTo>
                  <a:lnTo>
                    <a:pt x="863" y="998"/>
                  </a:lnTo>
                  <a:lnTo>
                    <a:pt x="849" y="994"/>
                  </a:lnTo>
                  <a:lnTo>
                    <a:pt x="839" y="991"/>
                  </a:lnTo>
                  <a:lnTo>
                    <a:pt x="832" y="990"/>
                  </a:lnTo>
                  <a:lnTo>
                    <a:pt x="824" y="972"/>
                  </a:lnTo>
                  <a:lnTo>
                    <a:pt x="833" y="971"/>
                  </a:lnTo>
                  <a:lnTo>
                    <a:pt x="848" y="971"/>
                  </a:lnTo>
                  <a:lnTo>
                    <a:pt x="867" y="970"/>
                  </a:lnTo>
                  <a:lnTo>
                    <a:pt x="886" y="969"/>
                  </a:lnTo>
                  <a:lnTo>
                    <a:pt x="905" y="968"/>
                  </a:lnTo>
                  <a:lnTo>
                    <a:pt x="922" y="968"/>
                  </a:lnTo>
                  <a:lnTo>
                    <a:pt x="933" y="966"/>
                  </a:lnTo>
                  <a:lnTo>
                    <a:pt x="937" y="966"/>
                  </a:lnTo>
                  <a:lnTo>
                    <a:pt x="936" y="959"/>
                  </a:lnTo>
                  <a:lnTo>
                    <a:pt x="933" y="949"/>
                  </a:lnTo>
                  <a:lnTo>
                    <a:pt x="929" y="939"/>
                  </a:lnTo>
                  <a:lnTo>
                    <a:pt x="927" y="933"/>
                  </a:lnTo>
                  <a:lnTo>
                    <a:pt x="875" y="948"/>
                  </a:lnTo>
                  <a:lnTo>
                    <a:pt x="852" y="908"/>
                  </a:lnTo>
                  <a:lnTo>
                    <a:pt x="855" y="907"/>
                  </a:lnTo>
                  <a:lnTo>
                    <a:pt x="861" y="904"/>
                  </a:lnTo>
                  <a:lnTo>
                    <a:pt x="869" y="899"/>
                  </a:lnTo>
                  <a:lnTo>
                    <a:pt x="877" y="895"/>
                  </a:lnTo>
                  <a:lnTo>
                    <a:pt x="884" y="890"/>
                  </a:lnTo>
                  <a:lnTo>
                    <a:pt x="891" y="885"/>
                  </a:lnTo>
                  <a:lnTo>
                    <a:pt x="894" y="881"/>
                  </a:lnTo>
                  <a:lnTo>
                    <a:pt x="896" y="877"/>
                  </a:lnTo>
                  <a:lnTo>
                    <a:pt x="891" y="868"/>
                  </a:lnTo>
                  <a:lnTo>
                    <a:pt x="884" y="860"/>
                  </a:lnTo>
                  <a:lnTo>
                    <a:pt x="876" y="854"/>
                  </a:lnTo>
                  <a:lnTo>
                    <a:pt x="867" y="852"/>
                  </a:lnTo>
                  <a:lnTo>
                    <a:pt x="805" y="948"/>
                  </a:lnTo>
                  <a:lnTo>
                    <a:pt x="852" y="908"/>
                  </a:lnTo>
                  <a:lnTo>
                    <a:pt x="875" y="948"/>
                  </a:lnTo>
                  <a:lnTo>
                    <a:pt x="824" y="972"/>
                  </a:lnTo>
                  <a:lnTo>
                    <a:pt x="832" y="990"/>
                  </a:lnTo>
                  <a:lnTo>
                    <a:pt x="904" y="1049"/>
                  </a:lnTo>
                  <a:lnTo>
                    <a:pt x="862" y="1064"/>
                  </a:lnTo>
                  <a:lnTo>
                    <a:pt x="859" y="1060"/>
                  </a:lnTo>
                  <a:lnTo>
                    <a:pt x="852" y="1052"/>
                  </a:lnTo>
                  <a:lnTo>
                    <a:pt x="843" y="1039"/>
                  </a:lnTo>
                  <a:lnTo>
                    <a:pt x="833" y="1024"/>
                  </a:lnTo>
                  <a:lnTo>
                    <a:pt x="824" y="1010"/>
                  </a:lnTo>
                  <a:lnTo>
                    <a:pt x="816" y="998"/>
                  </a:lnTo>
                  <a:lnTo>
                    <a:pt x="809" y="988"/>
                  </a:lnTo>
                  <a:lnTo>
                    <a:pt x="804" y="985"/>
                  </a:lnTo>
                  <a:lnTo>
                    <a:pt x="812" y="1104"/>
                  </a:lnTo>
                  <a:lnTo>
                    <a:pt x="809" y="1085"/>
                  </a:lnTo>
                  <a:lnTo>
                    <a:pt x="802" y="1052"/>
                  </a:lnTo>
                  <a:lnTo>
                    <a:pt x="795" y="1017"/>
                  </a:lnTo>
                  <a:lnTo>
                    <a:pt x="789" y="993"/>
                  </a:lnTo>
                  <a:lnTo>
                    <a:pt x="770" y="995"/>
                  </a:lnTo>
                  <a:lnTo>
                    <a:pt x="747" y="1014"/>
                  </a:lnTo>
                  <a:lnTo>
                    <a:pt x="765" y="979"/>
                  </a:lnTo>
                  <a:lnTo>
                    <a:pt x="726" y="973"/>
                  </a:lnTo>
                  <a:lnTo>
                    <a:pt x="725" y="952"/>
                  </a:lnTo>
                  <a:lnTo>
                    <a:pt x="729" y="952"/>
                  </a:lnTo>
                  <a:lnTo>
                    <a:pt x="733" y="954"/>
                  </a:lnTo>
                  <a:lnTo>
                    <a:pt x="738" y="955"/>
                  </a:lnTo>
                  <a:lnTo>
                    <a:pt x="745" y="956"/>
                  </a:lnTo>
                  <a:lnTo>
                    <a:pt x="751" y="957"/>
                  </a:lnTo>
                  <a:lnTo>
                    <a:pt x="755" y="958"/>
                  </a:lnTo>
                  <a:lnTo>
                    <a:pt x="760" y="959"/>
                  </a:lnTo>
                  <a:lnTo>
                    <a:pt x="763" y="961"/>
                  </a:lnTo>
                  <a:lnTo>
                    <a:pt x="759" y="957"/>
                  </a:lnTo>
                  <a:lnTo>
                    <a:pt x="747" y="951"/>
                  </a:lnTo>
                  <a:lnTo>
                    <a:pt x="731" y="943"/>
                  </a:lnTo>
                  <a:lnTo>
                    <a:pt x="712" y="934"/>
                  </a:lnTo>
                  <a:lnTo>
                    <a:pt x="693" y="925"/>
                  </a:lnTo>
                  <a:lnTo>
                    <a:pt x="676" y="917"/>
                  </a:lnTo>
                  <a:lnTo>
                    <a:pt x="665" y="911"/>
                  </a:lnTo>
                  <a:lnTo>
                    <a:pt x="660" y="908"/>
                  </a:lnTo>
                  <a:lnTo>
                    <a:pt x="685" y="871"/>
                  </a:lnTo>
                  <a:lnTo>
                    <a:pt x="692" y="875"/>
                  </a:lnTo>
                  <a:lnTo>
                    <a:pt x="702" y="884"/>
                  </a:lnTo>
                  <a:lnTo>
                    <a:pt x="716" y="895"/>
                  </a:lnTo>
                  <a:lnTo>
                    <a:pt x="732" y="907"/>
                  </a:lnTo>
                  <a:lnTo>
                    <a:pt x="747" y="920"/>
                  </a:lnTo>
                  <a:lnTo>
                    <a:pt x="760" y="930"/>
                  </a:lnTo>
                  <a:lnTo>
                    <a:pt x="769" y="937"/>
                  </a:lnTo>
                  <a:lnTo>
                    <a:pt x="773" y="940"/>
                  </a:lnTo>
                  <a:lnTo>
                    <a:pt x="715" y="847"/>
                  </a:lnTo>
                  <a:lnTo>
                    <a:pt x="768" y="826"/>
                  </a:lnTo>
                  <a:lnTo>
                    <a:pt x="790" y="941"/>
                  </a:lnTo>
                  <a:lnTo>
                    <a:pt x="811" y="826"/>
                  </a:lnTo>
                  <a:lnTo>
                    <a:pt x="805" y="825"/>
                  </a:lnTo>
                  <a:lnTo>
                    <a:pt x="799" y="825"/>
                  </a:lnTo>
                  <a:lnTo>
                    <a:pt x="794" y="824"/>
                  </a:lnTo>
                  <a:lnTo>
                    <a:pt x="788" y="824"/>
                  </a:lnTo>
                  <a:lnTo>
                    <a:pt x="782" y="825"/>
                  </a:lnTo>
                  <a:lnTo>
                    <a:pt x="777" y="825"/>
                  </a:lnTo>
                  <a:lnTo>
                    <a:pt x="773" y="826"/>
                  </a:lnTo>
                  <a:lnTo>
                    <a:pt x="768" y="826"/>
                  </a:lnTo>
                  <a:lnTo>
                    <a:pt x="715" y="847"/>
                  </a:lnTo>
                  <a:lnTo>
                    <a:pt x="707" y="853"/>
                  </a:lnTo>
                  <a:lnTo>
                    <a:pt x="696" y="860"/>
                  </a:lnTo>
                  <a:lnTo>
                    <a:pt x="688" y="867"/>
                  </a:lnTo>
                  <a:lnTo>
                    <a:pt x="685" y="871"/>
                  </a:lnTo>
                  <a:lnTo>
                    <a:pt x="660" y="908"/>
                  </a:lnTo>
                  <a:lnTo>
                    <a:pt x="658" y="914"/>
                  </a:lnTo>
                  <a:lnTo>
                    <a:pt x="656" y="922"/>
                  </a:lnTo>
                  <a:lnTo>
                    <a:pt x="653" y="932"/>
                  </a:lnTo>
                  <a:lnTo>
                    <a:pt x="651" y="940"/>
                  </a:lnTo>
                  <a:lnTo>
                    <a:pt x="654" y="940"/>
                  </a:lnTo>
                  <a:lnTo>
                    <a:pt x="661" y="942"/>
                  </a:lnTo>
                  <a:lnTo>
                    <a:pt x="673" y="943"/>
                  </a:lnTo>
                  <a:lnTo>
                    <a:pt x="687" y="946"/>
                  </a:lnTo>
                  <a:lnTo>
                    <a:pt x="700" y="949"/>
                  </a:lnTo>
                  <a:lnTo>
                    <a:pt x="711" y="950"/>
                  </a:lnTo>
                  <a:lnTo>
                    <a:pt x="721" y="952"/>
                  </a:lnTo>
                  <a:lnTo>
                    <a:pt x="725" y="952"/>
                  </a:lnTo>
                  <a:lnTo>
                    <a:pt x="726" y="973"/>
                  </a:lnTo>
                  <a:lnTo>
                    <a:pt x="719" y="972"/>
                  </a:lnTo>
                  <a:lnTo>
                    <a:pt x="708" y="972"/>
                  </a:lnTo>
                  <a:lnTo>
                    <a:pt x="696" y="972"/>
                  </a:lnTo>
                  <a:lnTo>
                    <a:pt x="682" y="973"/>
                  </a:lnTo>
                  <a:lnTo>
                    <a:pt x="670" y="973"/>
                  </a:lnTo>
                  <a:lnTo>
                    <a:pt x="659" y="974"/>
                  </a:lnTo>
                  <a:lnTo>
                    <a:pt x="651" y="974"/>
                  </a:lnTo>
                  <a:lnTo>
                    <a:pt x="649" y="974"/>
                  </a:lnTo>
                  <a:lnTo>
                    <a:pt x="650" y="981"/>
                  </a:lnTo>
                  <a:lnTo>
                    <a:pt x="652" y="988"/>
                  </a:lnTo>
                  <a:lnTo>
                    <a:pt x="654" y="995"/>
                  </a:lnTo>
                  <a:lnTo>
                    <a:pt x="656" y="1002"/>
                  </a:lnTo>
                  <a:lnTo>
                    <a:pt x="765" y="979"/>
                  </a:lnTo>
                  <a:lnTo>
                    <a:pt x="747" y="1014"/>
                  </a:lnTo>
                  <a:lnTo>
                    <a:pt x="740" y="1017"/>
                  </a:lnTo>
                  <a:lnTo>
                    <a:pt x="732" y="1023"/>
                  </a:lnTo>
                  <a:lnTo>
                    <a:pt x="723" y="1031"/>
                  </a:lnTo>
                  <a:lnTo>
                    <a:pt x="712" y="1039"/>
                  </a:lnTo>
                  <a:lnTo>
                    <a:pt x="703" y="1046"/>
                  </a:lnTo>
                  <a:lnTo>
                    <a:pt x="694" y="1053"/>
                  </a:lnTo>
                  <a:lnTo>
                    <a:pt x="688" y="1058"/>
                  </a:lnTo>
                  <a:lnTo>
                    <a:pt x="685" y="1059"/>
                  </a:lnTo>
                  <a:lnTo>
                    <a:pt x="688" y="1065"/>
                  </a:lnTo>
                  <a:lnTo>
                    <a:pt x="693" y="1069"/>
                  </a:lnTo>
                  <a:lnTo>
                    <a:pt x="699" y="1074"/>
                  </a:lnTo>
                  <a:lnTo>
                    <a:pt x="704" y="1079"/>
                  </a:lnTo>
                  <a:lnTo>
                    <a:pt x="710" y="1082"/>
                  </a:lnTo>
                  <a:lnTo>
                    <a:pt x="715" y="1085"/>
                  </a:lnTo>
                  <a:lnTo>
                    <a:pt x="718" y="1087"/>
                  </a:lnTo>
                  <a:lnTo>
                    <a:pt x="719" y="1088"/>
                  </a:lnTo>
                  <a:lnTo>
                    <a:pt x="723" y="1086"/>
                  </a:lnTo>
                  <a:lnTo>
                    <a:pt x="730" y="1078"/>
                  </a:lnTo>
                  <a:lnTo>
                    <a:pt x="737" y="1064"/>
                  </a:lnTo>
                  <a:lnTo>
                    <a:pt x="745" y="1047"/>
                  </a:lnTo>
                  <a:lnTo>
                    <a:pt x="753" y="1031"/>
                  </a:lnTo>
                  <a:lnTo>
                    <a:pt x="760" y="1015"/>
                  </a:lnTo>
                  <a:lnTo>
                    <a:pt x="767" y="1002"/>
                  </a:lnTo>
                  <a:lnTo>
                    <a:pt x="770" y="995"/>
                  </a:lnTo>
                  <a:lnTo>
                    <a:pt x="789" y="993"/>
                  </a:lnTo>
                  <a:lnTo>
                    <a:pt x="785" y="1013"/>
                  </a:lnTo>
                  <a:lnTo>
                    <a:pt x="780" y="1049"/>
                  </a:lnTo>
                  <a:lnTo>
                    <a:pt x="774" y="1085"/>
                  </a:lnTo>
                  <a:lnTo>
                    <a:pt x="773" y="1104"/>
                  </a:lnTo>
                  <a:lnTo>
                    <a:pt x="777" y="1104"/>
                  </a:lnTo>
                  <a:lnTo>
                    <a:pt x="782" y="1104"/>
                  </a:lnTo>
                  <a:lnTo>
                    <a:pt x="785" y="1105"/>
                  </a:lnTo>
                  <a:lnTo>
                    <a:pt x="790" y="1105"/>
                  </a:lnTo>
                  <a:lnTo>
                    <a:pt x="799" y="1181"/>
                  </a:lnTo>
                  <a:lnTo>
                    <a:pt x="752" y="1181"/>
                  </a:lnTo>
                  <a:lnTo>
                    <a:pt x="707" y="1130"/>
                  </a:lnTo>
                  <a:lnTo>
                    <a:pt x="704" y="1129"/>
                  </a:lnTo>
                  <a:lnTo>
                    <a:pt x="700" y="1124"/>
                  </a:lnTo>
                  <a:lnTo>
                    <a:pt x="693" y="1118"/>
                  </a:lnTo>
                  <a:lnTo>
                    <a:pt x="683" y="1109"/>
                  </a:lnTo>
                  <a:lnTo>
                    <a:pt x="674" y="1100"/>
                  </a:lnTo>
                  <a:lnTo>
                    <a:pt x="665" y="1088"/>
                  </a:lnTo>
                  <a:lnTo>
                    <a:pt x="658" y="1076"/>
                  </a:lnTo>
                  <a:lnTo>
                    <a:pt x="652" y="1064"/>
                  </a:lnTo>
                  <a:lnTo>
                    <a:pt x="646" y="1069"/>
                  </a:lnTo>
                  <a:lnTo>
                    <a:pt x="644" y="1076"/>
                  </a:lnTo>
                  <a:lnTo>
                    <a:pt x="642" y="1086"/>
                  </a:lnTo>
                  <a:lnTo>
                    <a:pt x="639" y="1093"/>
                  </a:lnTo>
                  <a:lnTo>
                    <a:pt x="631" y="1096"/>
                  </a:lnTo>
                  <a:lnTo>
                    <a:pt x="614" y="1098"/>
                  </a:lnTo>
                  <a:lnTo>
                    <a:pt x="590" y="1100"/>
                  </a:lnTo>
                  <a:lnTo>
                    <a:pt x="562" y="1101"/>
                  </a:lnTo>
                  <a:lnTo>
                    <a:pt x="532" y="1102"/>
                  </a:lnTo>
                  <a:lnTo>
                    <a:pt x="501" y="1102"/>
                  </a:lnTo>
                  <a:lnTo>
                    <a:pt x="476" y="1102"/>
                  </a:lnTo>
                  <a:lnTo>
                    <a:pt x="455" y="1102"/>
                  </a:lnTo>
                  <a:lnTo>
                    <a:pt x="448" y="1110"/>
                  </a:lnTo>
                  <a:lnTo>
                    <a:pt x="441" y="1117"/>
                  </a:lnTo>
                  <a:lnTo>
                    <a:pt x="433" y="1124"/>
                  </a:lnTo>
                  <a:lnTo>
                    <a:pt x="425" y="1130"/>
                  </a:lnTo>
                  <a:lnTo>
                    <a:pt x="707" y="1130"/>
                  </a:lnTo>
                  <a:lnTo>
                    <a:pt x="752" y="1181"/>
                  </a:lnTo>
                  <a:lnTo>
                    <a:pt x="734" y="1181"/>
                  </a:lnTo>
                  <a:lnTo>
                    <a:pt x="704" y="1182"/>
                  </a:lnTo>
                  <a:lnTo>
                    <a:pt x="664" y="1182"/>
                  </a:lnTo>
                  <a:lnTo>
                    <a:pt x="614" y="1182"/>
                  </a:lnTo>
                  <a:lnTo>
                    <a:pt x="557" y="1182"/>
                  </a:lnTo>
                  <a:lnTo>
                    <a:pt x="496" y="1182"/>
                  </a:lnTo>
                  <a:lnTo>
                    <a:pt x="431" y="1182"/>
                  </a:lnTo>
                  <a:lnTo>
                    <a:pt x="365" y="1182"/>
                  </a:lnTo>
                  <a:lnTo>
                    <a:pt x="298" y="1182"/>
                  </a:lnTo>
                  <a:lnTo>
                    <a:pt x="236" y="1182"/>
                  </a:lnTo>
                  <a:lnTo>
                    <a:pt x="177" y="1181"/>
                  </a:lnTo>
                  <a:lnTo>
                    <a:pt x="125" y="1181"/>
                  </a:lnTo>
                  <a:lnTo>
                    <a:pt x="80" y="1181"/>
                  </a:lnTo>
                  <a:lnTo>
                    <a:pt x="47" y="1181"/>
                  </a:lnTo>
                  <a:lnTo>
                    <a:pt x="26" y="1181"/>
                  </a:lnTo>
                  <a:lnTo>
                    <a:pt x="18" y="1181"/>
                  </a:lnTo>
                  <a:lnTo>
                    <a:pt x="18" y="1130"/>
                  </a:lnTo>
                  <a:lnTo>
                    <a:pt x="253" y="1130"/>
                  </a:lnTo>
                  <a:lnTo>
                    <a:pt x="245" y="1122"/>
                  </a:lnTo>
                  <a:lnTo>
                    <a:pt x="238" y="1113"/>
                  </a:lnTo>
                  <a:lnTo>
                    <a:pt x="230" y="1105"/>
                  </a:lnTo>
                  <a:lnTo>
                    <a:pt x="223" y="1097"/>
                  </a:lnTo>
                  <a:lnTo>
                    <a:pt x="216" y="1089"/>
                  </a:lnTo>
                  <a:lnTo>
                    <a:pt x="210" y="1080"/>
                  </a:lnTo>
                  <a:lnTo>
                    <a:pt x="205" y="1071"/>
                  </a:lnTo>
                  <a:lnTo>
                    <a:pt x="201" y="1061"/>
                  </a:lnTo>
                  <a:lnTo>
                    <a:pt x="189" y="1037"/>
                  </a:lnTo>
                  <a:lnTo>
                    <a:pt x="184" y="1008"/>
                  </a:lnTo>
                  <a:lnTo>
                    <a:pt x="180" y="979"/>
                  </a:lnTo>
                  <a:lnTo>
                    <a:pt x="178" y="957"/>
                  </a:lnTo>
                  <a:lnTo>
                    <a:pt x="210" y="948"/>
                  </a:lnTo>
                  <a:lnTo>
                    <a:pt x="213" y="956"/>
                  </a:lnTo>
                  <a:lnTo>
                    <a:pt x="214" y="980"/>
                  </a:lnTo>
                  <a:lnTo>
                    <a:pt x="214" y="986"/>
                  </a:lnTo>
                  <a:lnTo>
                    <a:pt x="216" y="993"/>
                  </a:lnTo>
                  <a:lnTo>
                    <a:pt x="218" y="999"/>
                  </a:lnTo>
                  <a:lnTo>
                    <a:pt x="221" y="1003"/>
                  </a:lnTo>
                  <a:lnTo>
                    <a:pt x="227" y="1002"/>
                  </a:lnTo>
                  <a:lnTo>
                    <a:pt x="234" y="1001"/>
                  </a:lnTo>
                  <a:lnTo>
                    <a:pt x="242" y="999"/>
                  </a:lnTo>
                  <a:lnTo>
                    <a:pt x="250" y="996"/>
                  </a:lnTo>
                  <a:lnTo>
                    <a:pt x="257" y="994"/>
                  </a:lnTo>
                  <a:lnTo>
                    <a:pt x="264" y="992"/>
                  </a:lnTo>
                  <a:lnTo>
                    <a:pt x="269" y="990"/>
                  </a:lnTo>
                  <a:lnTo>
                    <a:pt x="273" y="986"/>
                  </a:lnTo>
                  <a:lnTo>
                    <a:pt x="288" y="1014"/>
                  </a:lnTo>
                  <a:lnTo>
                    <a:pt x="281" y="1015"/>
                  </a:lnTo>
                  <a:lnTo>
                    <a:pt x="273" y="1016"/>
                  </a:lnTo>
                  <a:lnTo>
                    <a:pt x="265" y="1017"/>
                  </a:lnTo>
                  <a:lnTo>
                    <a:pt x="257" y="1020"/>
                  </a:lnTo>
                  <a:lnTo>
                    <a:pt x="247" y="1022"/>
                  </a:lnTo>
                  <a:lnTo>
                    <a:pt x="241" y="1024"/>
                  </a:lnTo>
                  <a:lnTo>
                    <a:pt x="232" y="1027"/>
                  </a:lnTo>
                  <a:lnTo>
                    <a:pt x="225" y="1029"/>
                  </a:lnTo>
                  <a:lnTo>
                    <a:pt x="227" y="1037"/>
                  </a:lnTo>
                  <a:lnTo>
                    <a:pt x="229" y="1044"/>
                  </a:lnTo>
                  <a:lnTo>
                    <a:pt x="231" y="1050"/>
                  </a:lnTo>
                  <a:lnTo>
                    <a:pt x="237" y="1056"/>
                  </a:lnTo>
                  <a:lnTo>
                    <a:pt x="252" y="1079"/>
                  </a:lnTo>
                  <a:lnTo>
                    <a:pt x="256" y="1083"/>
                  </a:lnTo>
                  <a:lnTo>
                    <a:pt x="264" y="1090"/>
                  </a:lnTo>
                  <a:lnTo>
                    <a:pt x="274" y="1097"/>
                  </a:lnTo>
                  <a:lnTo>
                    <a:pt x="283" y="1104"/>
                  </a:lnTo>
                  <a:lnTo>
                    <a:pt x="323" y="1120"/>
                  </a:lnTo>
                  <a:lnTo>
                    <a:pt x="327" y="1120"/>
                  </a:lnTo>
                  <a:lnTo>
                    <a:pt x="332" y="1120"/>
                  </a:lnTo>
                  <a:lnTo>
                    <a:pt x="338" y="1120"/>
                  </a:lnTo>
                  <a:lnTo>
                    <a:pt x="344" y="1120"/>
                  </a:lnTo>
                  <a:lnTo>
                    <a:pt x="349" y="1119"/>
                  </a:lnTo>
                  <a:lnTo>
                    <a:pt x="355" y="1118"/>
                  </a:lnTo>
                  <a:lnTo>
                    <a:pt x="359" y="1116"/>
                  </a:lnTo>
                  <a:lnTo>
                    <a:pt x="361" y="1112"/>
                  </a:lnTo>
                  <a:lnTo>
                    <a:pt x="356" y="1104"/>
                  </a:lnTo>
                  <a:lnTo>
                    <a:pt x="351" y="1096"/>
                  </a:lnTo>
                  <a:lnTo>
                    <a:pt x="344" y="1090"/>
                  </a:lnTo>
                  <a:lnTo>
                    <a:pt x="337" y="1085"/>
                  </a:lnTo>
                  <a:lnTo>
                    <a:pt x="333" y="1093"/>
                  </a:lnTo>
                  <a:lnTo>
                    <a:pt x="329" y="1104"/>
                  </a:lnTo>
                  <a:lnTo>
                    <a:pt x="325" y="1116"/>
                  </a:lnTo>
                  <a:lnTo>
                    <a:pt x="323" y="1120"/>
                  </a:lnTo>
                  <a:lnTo>
                    <a:pt x="283" y="1104"/>
                  </a:lnTo>
                  <a:lnTo>
                    <a:pt x="290" y="1089"/>
                  </a:lnTo>
                  <a:lnTo>
                    <a:pt x="300" y="1073"/>
                  </a:lnTo>
                  <a:lnTo>
                    <a:pt x="305" y="1056"/>
                  </a:lnTo>
                  <a:lnTo>
                    <a:pt x="308" y="1039"/>
                  </a:lnTo>
                  <a:lnTo>
                    <a:pt x="301" y="1043"/>
                  </a:lnTo>
                  <a:lnTo>
                    <a:pt x="293" y="1049"/>
                  </a:lnTo>
                  <a:lnTo>
                    <a:pt x="285" y="1054"/>
                  </a:lnTo>
                  <a:lnTo>
                    <a:pt x="275" y="1061"/>
                  </a:lnTo>
                  <a:lnTo>
                    <a:pt x="266" y="1067"/>
                  </a:lnTo>
                  <a:lnTo>
                    <a:pt x="259" y="1073"/>
                  </a:lnTo>
                  <a:lnTo>
                    <a:pt x="254" y="1076"/>
                  </a:lnTo>
                  <a:lnTo>
                    <a:pt x="252" y="1079"/>
                  </a:lnTo>
                  <a:lnTo>
                    <a:pt x="237" y="1056"/>
                  </a:lnTo>
                  <a:lnTo>
                    <a:pt x="243" y="1051"/>
                  </a:lnTo>
                  <a:lnTo>
                    <a:pt x="249" y="1047"/>
                  </a:lnTo>
                  <a:lnTo>
                    <a:pt x="256" y="1043"/>
                  </a:lnTo>
                  <a:lnTo>
                    <a:pt x="263" y="1038"/>
                  </a:lnTo>
                  <a:lnTo>
                    <a:pt x="269" y="1034"/>
                  </a:lnTo>
                  <a:lnTo>
                    <a:pt x="276" y="1028"/>
                  </a:lnTo>
                  <a:lnTo>
                    <a:pt x="282" y="1023"/>
                  </a:lnTo>
                  <a:lnTo>
                    <a:pt x="288" y="1018"/>
                  </a:lnTo>
                  <a:lnTo>
                    <a:pt x="288" y="1014"/>
                  </a:lnTo>
                  <a:lnTo>
                    <a:pt x="273" y="986"/>
                  </a:lnTo>
                  <a:lnTo>
                    <a:pt x="267" y="985"/>
                  </a:lnTo>
                  <a:lnTo>
                    <a:pt x="260" y="983"/>
                  </a:lnTo>
                  <a:lnTo>
                    <a:pt x="252" y="981"/>
                  </a:lnTo>
                  <a:lnTo>
                    <a:pt x="244" y="980"/>
                  </a:lnTo>
                  <a:lnTo>
                    <a:pt x="235" y="980"/>
                  </a:lnTo>
                  <a:lnTo>
                    <a:pt x="227" y="979"/>
                  </a:lnTo>
                  <a:lnTo>
                    <a:pt x="220" y="979"/>
                  </a:lnTo>
                  <a:lnTo>
                    <a:pt x="214" y="980"/>
                  </a:lnTo>
                  <a:lnTo>
                    <a:pt x="213" y="956"/>
                  </a:lnTo>
                  <a:lnTo>
                    <a:pt x="217" y="957"/>
                  </a:lnTo>
                  <a:lnTo>
                    <a:pt x="225" y="956"/>
                  </a:lnTo>
                  <a:lnTo>
                    <a:pt x="235" y="954"/>
                  </a:lnTo>
                  <a:lnTo>
                    <a:pt x="244" y="950"/>
                  </a:lnTo>
                  <a:lnTo>
                    <a:pt x="253" y="947"/>
                  </a:lnTo>
                  <a:lnTo>
                    <a:pt x="261" y="942"/>
                  </a:lnTo>
                  <a:lnTo>
                    <a:pt x="267" y="939"/>
                  </a:lnTo>
                  <a:lnTo>
                    <a:pt x="269" y="935"/>
                  </a:lnTo>
                  <a:lnTo>
                    <a:pt x="210" y="937"/>
                  </a:lnTo>
                  <a:lnTo>
                    <a:pt x="210" y="948"/>
                  </a:lnTo>
                  <a:lnTo>
                    <a:pt x="178" y="957"/>
                  </a:lnTo>
                  <a:lnTo>
                    <a:pt x="152" y="956"/>
                  </a:lnTo>
                  <a:lnTo>
                    <a:pt x="145" y="964"/>
                  </a:lnTo>
                  <a:lnTo>
                    <a:pt x="135" y="970"/>
                  </a:lnTo>
                  <a:lnTo>
                    <a:pt x="125" y="973"/>
                  </a:lnTo>
                  <a:lnTo>
                    <a:pt x="120" y="974"/>
                  </a:lnTo>
                  <a:lnTo>
                    <a:pt x="122" y="1061"/>
                  </a:lnTo>
                  <a:lnTo>
                    <a:pt x="87" y="1065"/>
                  </a:lnTo>
                  <a:lnTo>
                    <a:pt x="87" y="1046"/>
                  </a:lnTo>
                  <a:lnTo>
                    <a:pt x="86" y="1007"/>
                  </a:lnTo>
                  <a:lnTo>
                    <a:pt x="85" y="965"/>
                  </a:lnTo>
                  <a:lnTo>
                    <a:pt x="86" y="946"/>
                  </a:lnTo>
                  <a:lnTo>
                    <a:pt x="96" y="940"/>
                  </a:lnTo>
                  <a:lnTo>
                    <a:pt x="103" y="933"/>
                  </a:lnTo>
                  <a:lnTo>
                    <a:pt x="108" y="923"/>
                  </a:lnTo>
                  <a:lnTo>
                    <a:pt x="108" y="913"/>
                  </a:lnTo>
                  <a:lnTo>
                    <a:pt x="109" y="847"/>
                  </a:lnTo>
                  <a:lnTo>
                    <a:pt x="111" y="699"/>
                  </a:lnTo>
                  <a:lnTo>
                    <a:pt x="111" y="545"/>
                  </a:lnTo>
                  <a:lnTo>
                    <a:pt x="108" y="461"/>
                  </a:lnTo>
                  <a:lnTo>
                    <a:pt x="162" y="457"/>
                  </a:lnTo>
                  <a:lnTo>
                    <a:pt x="159" y="493"/>
                  </a:lnTo>
                  <a:lnTo>
                    <a:pt x="160" y="540"/>
                  </a:lnTo>
                  <a:lnTo>
                    <a:pt x="163" y="582"/>
                  </a:lnTo>
                  <a:lnTo>
                    <a:pt x="164" y="599"/>
                  </a:lnTo>
                  <a:lnTo>
                    <a:pt x="173" y="600"/>
                  </a:lnTo>
                  <a:lnTo>
                    <a:pt x="184" y="600"/>
                  </a:lnTo>
                  <a:lnTo>
                    <a:pt x="193" y="600"/>
                  </a:lnTo>
                  <a:lnTo>
                    <a:pt x="202" y="600"/>
                  </a:lnTo>
                  <a:lnTo>
                    <a:pt x="212" y="599"/>
                  </a:lnTo>
                  <a:lnTo>
                    <a:pt x="221" y="599"/>
                  </a:lnTo>
                  <a:lnTo>
                    <a:pt x="231" y="599"/>
                  </a:lnTo>
                  <a:lnTo>
                    <a:pt x="241" y="599"/>
                  </a:lnTo>
                  <a:lnTo>
                    <a:pt x="241" y="457"/>
                  </a:lnTo>
                  <a:lnTo>
                    <a:pt x="304" y="457"/>
                  </a:lnTo>
                  <a:lnTo>
                    <a:pt x="307" y="484"/>
                  </a:lnTo>
                  <a:lnTo>
                    <a:pt x="305" y="512"/>
                  </a:lnTo>
                  <a:lnTo>
                    <a:pt x="305" y="540"/>
                  </a:lnTo>
                  <a:lnTo>
                    <a:pt x="307" y="566"/>
                  </a:lnTo>
                  <a:lnTo>
                    <a:pt x="309" y="563"/>
                  </a:lnTo>
                  <a:lnTo>
                    <a:pt x="314" y="556"/>
                  </a:lnTo>
                  <a:lnTo>
                    <a:pt x="319" y="547"/>
                  </a:lnTo>
                  <a:lnTo>
                    <a:pt x="327" y="537"/>
                  </a:lnTo>
                  <a:lnTo>
                    <a:pt x="336" y="526"/>
                  </a:lnTo>
                  <a:lnTo>
                    <a:pt x="345" y="517"/>
                  </a:lnTo>
                  <a:lnTo>
                    <a:pt x="355" y="511"/>
                  </a:lnTo>
                  <a:lnTo>
                    <a:pt x="366" y="5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 rot="20461800">
              <a:off x="2841840" y="3006720"/>
              <a:ext cx="634320" cy="366120"/>
            </a:xfrm>
            <a:custGeom>
              <a:avLst/>
              <a:gdLst/>
              <a:ahLst/>
              <a:rect l="l" t="t" r="r" b="b"/>
              <a:pathLst>
                <a:path w="2301" h="1182">
                  <a:moveTo>
                    <a:pt x="366" y="509"/>
                  </a:moveTo>
                  <a:lnTo>
                    <a:pt x="366" y="495"/>
                  </a:lnTo>
                  <a:lnTo>
                    <a:pt x="368" y="481"/>
                  </a:lnTo>
                  <a:lnTo>
                    <a:pt x="373" y="468"/>
                  </a:lnTo>
                  <a:lnTo>
                    <a:pt x="380" y="457"/>
                  </a:lnTo>
                  <a:lnTo>
                    <a:pt x="445" y="466"/>
                  </a:lnTo>
                  <a:lnTo>
                    <a:pt x="446" y="479"/>
                  </a:lnTo>
                  <a:lnTo>
                    <a:pt x="446" y="496"/>
                  </a:lnTo>
                  <a:lnTo>
                    <a:pt x="450" y="510"/>
                  </a:lnTo>
                  <a:lnTo>
                    <a:pt x="462" y="513"/>
                  </a:lnTo>
                  <a:lnTo>
                    <a:pt x="462" y="508"/>
                  </a:lnTo>
                  <a:lnTo>
                    <a:pt x="462" y="502"/>
                  </a:lnTo>
                  <a:lnTo>
                    <a:pt x="462" y="496"/>
                  </a:lnTo>
                  <a:lnTo>
                    <a:pt x="458" y="491"/>
                  </a:lnTo>
                  <a:lnTo>
                    <a:pt x="461" y="487"/>
                  </a:lnTo>
                  <a:lnTo>
                    <a:pt x="464" y="482"/>
                  </a:lnTo>
                  <a:lnTo>
                    <a:pt x="468" y="480"/>
                  </a:lnTo>
                  <a:lnTo>
                    <a:pt x="472" y="477"/>
                  </a:lnTo>
                  <a:lnTo>
                    <a:pt x="475" y="468"/>
                  </a:lnTo>
                  <a:lnTo>
                    <a:pt x="477" y="458"/>
                  </a:lnTo>
                  <a:lnTo>
                    <a:pt x="476" y="447"/>
                  </a:lnTo>
                  <a:lnTo>
                    <a:pt x="474" y="437"/>
                  </a:lnTo>
                  <a:lnTo>
                    <a:pt x="471" y="436"/>
                  </a:lnTo>
                  <a:lnTo>
                    <a:pt x="470" y="436"/>
                  </a:lnTo>
                  <a:lnTo>
                    <a:pt x="469" y="436"/>
                  </a:lnTo>
                  <a:lnTo>
                    <a:pt x="470" y="436"/>
                  </a:lnTo>
                  <a:lnTo>
                    <a:pt x="453" y="435"/>
                  </a:lnTo>
                  <a:lnTo>
                    <a:pt x="448" y="442"/>
                  </a:lnTo>
                  <a:lnTo>
                    <a:pt x="448" y="454"/>
                  </a:lnTo>
                  <a:lnTo>
                    <a:pt x="445" y="466"/>
                  </a:lnTo>
                  <a:lnTo>
                    <a:pt x="380" y="457"/>
                  </a:lnTo>
                  <a:lnTo>
                    <a:pt x="304" y="457"/>
                  </a:lnTo>
                  <a:lnTo>
                    <a:pt x="241" y="457"/>
                  </a:lnTo>
                  <a:lnTo>
                    <a:pt x="237" y="458"/>
                  </a:lnTo>
                  <a:lnTo>
                    <a:pt x="228" y="458"/>
                  </a:lnTo>
                  <a:lnTo>
                    <a:pt x="215" y="458"/>
                  </a:lnTo>
                  <a:lnTo>
                    <a:pt x="201" y="458"/>
                  </a:lnTo>
                  <a:lnTo>
                    <a:pt x="187" y="458"/>
                  </a:lnTo>
                  <a:lnTo>
                    <a:pt x="174" y="457"/>
                  </a:lnTo>
                  <a:lnTo>
                    <a:pt x="165" y="457"/>
                  </a:lnTo>
                  <a:lnTo>
                    <a:pt x="162" y="457"/>
                  </a:lnTo>
                  <a:lnTo>
                    <a:pt x="108" y="461"/>
                  </a:lnTo>
                  <a:lnTo>
                    <a:pt x="103" y="459"/>
                  </a:lnTo>
                  <a:lnTo>
                    <a:pt x="99" y="457"/>
                  </a:lnTo>
                  <a:lnTo>
                    <a:pt x="96" y="452"/>
                  </a:lnTo>
                  <a:lnTo>
                    <a:pt x="97" y="446"/>
                  </a:lnTo>
                  <a:lnTo>
                    <a:pt x="91" y="447"/>
                  </a:lnTo>
                  <a:lnTo>
                    <a:pt x="86" y="450"/>
                  </a:lnTo>
                  <a:lnTo>
                    <a:pt x="80" y="451"/>
                  </a:lnTo>
                  <a:lnTo>
                    <a:pt x="74" y="447"/>
                  </a:lnTo>
                  <a:lnTo>
                    <a:pt x="71" y="439"/>
                  </a:lnTo>
                  <a:lnTo>
                    <a:pt x="67" y="431"/>
                  </a:lnTo>
                  <a:lnTo>
                    <a:pt x="61" y="426"/>
                  </a:lnTo>
                  <a:lnTo>
                    <a:pt x="53" y="429"/>
                  </a:lnTo>
                  <a:lnTo>
                    <a:pt x="45" y="420"/>
                  </a:lnTo>
                  <a:lnTo>
                    <a:pt x="35" y="410"/>
                  </a:lnTo>
                  <a:lnTo>
                    <a:pt x="27" y="400"/>
                  </a:lnTo>
                  <a:lnTo>
                    <a:pt x="24" y="387"/>
                  </a:lnTo>
                  <a:lnTo>
                    <a:pt x="16" y="380"/>
                  </a:lnTo>
                  <a:lnTo>
                    <a:pt x="7" y="372"/>
                  </a:lnTo>
                  <a:lnTo>
                    <a:pt x="2" y="363"/>
                  </a:lnTo>
                  <a:lnTo>
                    <a:pt x="0" y="350"/>
                  </a:lnTo>
                  <a:lnTo>
                    <a:pt x="3" y="342"/>
                  </a:lnTo>
                  <a:lnTo>
                    <a:pt x="468" y="344"/>
                  </a:lnTo>
                  <a:lnTo>
                    <a:pt x="468" y="352"/>
                  </a:lnTo>
                  <a:lnTo>
                    <a:pt x="467" y="360"/>
                  </a:lnTo>
                  <a:lnTo>
                    <a:pt x="463" y="367"/>
                  </a:lnTo>
                  <a:lnTo>
                    <a:pt x="457" y="373"/>
                  </a:lnTo>
                  <a:lnTo>
                    <a:pt x="462" y="376"/>
                  </a:lnTo>
                  <a:lnTo>
                    <a:pt x="467" y="379"/>
                  </a:lnTo>
                  <a:lnTo>
                    <a:pt x="472" y="380"/>
                  </a:lnTo>
                  <a:lnTo>
                    <a:pt x="478" y="380"/>
                  </a:lnTo>
                  <a:lnTo>
                    <a:pt x="476" y="376"/>
                  </a:lnTo>
                  <a:lnTo>
                    <a:pt x="474" y="371"/>
                  </a:lnTo>
                  <a:lnTo>
                    <a:pt x="471" y="366"/>
                  </a:lnTo>
                  <a:lnTo>
                    <a:pt x="472" y="360"/>
                  </a:lnTo>
                  <a:lnTo>
                    <a:pt x="481" y="358"/>
                  </a:lnTo>
                  <a:lnTo>
                    <a:pt x="487" y="355"/>
                  </a:lnTo>
                  <a:lnTo>
                    <a:pt x="494" y="349"/>
                  </a:lnTo>
                  <a:lnTo>
                    <a:pt x="500" y="343"/>
                  </a:lnTo>
                  <a:lnTo>
                    <a:pt x="505" y="338"/>
                  </a:lnTo>
                  <a:lnTo>
                    <a:pt x="511" y="333"/>
                  </a:lnTo>
                  <a:lnTo>
                    <a:pt x="518" y="329"/>
                  </a:lnTo>
                  <a:lnTo>
                    <a:pt x="525" y="327"/>
                  </a:lnTo>
                  <a:lnTo>
                    <a:pt x="536" y="318"/>
                  </a:lnTo>
                  <a:lnTo>
                    <a:pt x="528" y="315"/>
                  </a:lnTo>
                  <a:lnTo>
                    <a:pt x="516" y="315"/>
                  </a:lnTo>
                  <a:lnTo>
                    <a:pt x="507" y="313"/>
                  </a:lnTo>
                  <a:lnTo>
                    <a:pt x="504" y="303"/>
                  </a:lnTo>
                  <a:lnTo>
                    <a:pt x="503" y="303"/>
                  </a:lnTo>
                  <a:lnTo>
                    <a:pt x="503" y="298"/>
                  </a:lnTo>
                  <a:lnTo>
                    <a:pt x="504" y="298"/>
                  </a:lnTo>
                  <a:lnTo>
                    <a:pt x="504" y="299"/>
                  </a:lnTo>
                  <a:lnTo>
                    <a:pt x="507" y="293"/>
                  </a:lnTo>
                  <a:lnTo>
                    <a:pt x="512" y="291"/>
                  </a:lnTo>
                  <a:lnTo>
                    <a:pt x="518" y="291"/>
                  </a:lnTo>
                  <a:lnTo>
                    <a:pt x="525" y="291"/>
                  </a:lnTo>
                  <a:lnTo>
                    <a:pt x="530" y="292"/>
                  </a:lnTo>
                  <a:lnTo>
                    <a:pt x="536" y="292"/>
                  </a:lnTo>
                  <a:lnTo>
                    <a:pt x="541" y="290"/>
                  </a:lnTo>
                  <a:lnTo>
                    <a:pt x="544" y="286"/>
                  </a:lnTo>
                  <a:lnTo>
                    <a:pt x="536" y="284"/>
                  </a:lnTo>
                  <a:lnTo>
                    <a:pt x="528" y="285"/>
                  </a:lnTo>
                  <a:lnTo>
                    <a:pt x="520" y="285"/>
                  </a:lnTo>
                  <a:lnTo>
                    <a:pt x="512" y="284"/>
                  </a:lnTo>
                  <a:lnTo>
                    <a:pt x="498" y="284"/>
                  </a:lnTo>
                  <a:lnTo>
                    <a:pt x="485" y="283"/>
                  </a:lnTo>
                  <a:lnTo>
                    <a:pt x="472" y="284"/>
                  </a:lnTo>
                  <a:lnTo>
                    <a:pt x="460" y="284"/>
                  </a:lnTo>
                  <a:lnTo>
                    <a:pt x="447" y="284"/>
                  </a:lnTo>
                  <a:lnTo>
                    <a:pt x="435" y="284"/>
                  </a:lnTo>
                  <a:lnTo>
                    <a:pt x="423" y="283"/>
                  </a:lnTo>
                  <a:lnTo>
                    <a:pt x="411" y="282"/>
                  </a:lnTo>
                  <a:lnTo>
                    <a:pt x="410" y="277"/>
                  </a:lnTo>
                  <a:lnTo>
                    <a:pt x="409" y="274"/>
                  </a:lnTo>
                  <a:lnTo>
                    <a:pt x="407" y="270"/>
                  </a:lnTo>
                  <a:lnTo>
                    <a:pt x="411" y="267"/>
                  </a:lnTo>
                  <a:lnTo>
                    <a:pt x="433" y="265"/>
                  </a:lnTo>
                  <a:lnTo>
                    <a:pt x="455" y="265"/>
                  </a:lnTo>
                  <a:lnTo>
                    <a:pt x="477" y="265"/>
                  </a:lnTo>
                  <a:lnTo>
                    <a:pt x="498" y="265"/>
                  </a:lnTo>
                  <a:lnTo>
                    <a:pt x="518" y="265"/>
                  </a:lnTo>
                  <a:lnTo>
                    <a:pt x="539" y="265"/>
                  </a:lnTo>
                  <a:lnTo>
                    <a:pt x="561" y="265"/>
                  </a:lnTo>
                  <a:lnTo>
                    <a:pt x="581" y="264"/>
                  </a:lnTo>
                  <a:lnTo>
                    <a:pt x="585" y="267"/>
                  </a:lnTo>
                  <a:lnTo>
                    <a:pt x="588" y="267"/>
                  </a:lnTo>
                  <a:lnTo>
                    <a:pt x="591" y="267"/>
                  </a:lnTo>
                  <a:lnTo>
                    <a:pt x="593" y="269"/>
                  </a:lnTo>
                  <a:lnTo>
                    <a:pt x="594" y="275"/>
                  </a:lnTo>
                  <a:lnTo>
                    <a:pt x="592" y="281"/>
                  </a:lnTo>
                  <a:lnTo>
                    <a:pt x="590" y="284"/>
                  </a:lnTo>
                  <a:lnTo>
                    <a:pt x="587" y="289"/>
                  </a:lnTo>
                  <a:lnTo>
                    <a:pt x="593" y="291"/>
                  </a:lnTo>
                  <a:lnTo>
                    <a:pt x="598" y="292"/>
                  </a:lnTo>
                  <a:lnTo>
                    <a:pt x="603" y="292"/>
                  </a:lnTo>
                  <a:lnTo>
                    <a:pt x="609" y="292"/>
                  </a:lnTo>
                  <a:lnTo>
                    <a:pt x="615" y="292"/>
                  </a:lnTo>
                  <a:lnTo>
                    <a:pt x="620" y="293"/>
                  </a:lnTo>
                  <a:lnTo>
                    <a:pt x="624" y="296"/>
                  </a:lnTo>
                  <a:lnTo>
                    <a:pt x="628" y="300"/>
                  </a:lnTo>
                  <a:lnTo>
                    <a:pt x="629" y="308"/>
                  </a:lnTo>
                  <a:lnTo>
                    <a:pt x="624" y="313"/>
                  </a:lnTo>
                  <a:lnTo>
                    <a:pt x="617" y="315"/>
                  </a:lnTo>
                  <a:lnTo>
                    <a:pt x="610" y="315"/>
                  </a:lnTo>
                  <a:lnTo>
                    <a:pt x="607" y="314"/>
                  </a:lnTo>
                  <a:lnTo>
                    <a:pt x="603" y="313"/>
                  </a:lnTo>
                  <a:lnTo>
                    <a:pt x="599" y="314"/>
                  </a:lnTo>
                  <a:lnTo>
                    <a:pt x="595" y="315"/>
                  </a:lnTo>
                  <a:lnTo>
                    <a:pt x="602" y="318"/>
                  </a:lnTo>
                  <a:lnTo>
                    <a:pt x="608" y="320"/>
                  </a:lnTo>
                  <a:lnTo>
                    <a:pt x="614" y="322"/>
                  </a:lnTo>
                  <a:lnTo>
                    <a:pt x="621" y="323"/>
                  </a:lnTo>
                  <a:lnTo>
                    <a:pt x="627" y="326"/>
                  </a:lnTo>
                  <a:lnTo>
                    <a:pt x="632" y="329"/>
                  </a:lnTo>
                  <a:lnTo>
                    <a:pt x="637" y="333"/>
                  </a:lnTo>
                  <a:lnTo>
                    <a:pt x="643" y="336"/>
                  </a:lnTo>
                  <a:lnTo>
                    <a:pt x="649" y="342"/>
                  </a:lnTo>
                  <a:lnTo>
                    <a:pt x="654" y="348"/>
                  </a:lnTo>
                  <a:lnTo>
                    <a:pt x="661" y="354"/>
                  </a:lnTo>
                  <a:lnTo>
                    <a:pt x="667" y="358"/>
                  </a:lnTo>
                  <a:lnTo>
                    <a:pt x="675" y="380"/>
                  </a:lnTo>
                  <a:lnTo>
                    <a:pt x="672" y="384"/>
                  </a:lnTo>
                  <a:lnTo>
                    <a:pt x="666" y="388"/>
                  </a:lnTo>
                  <a:lnTo>
                    <a:pt x="660" y="391"/>
                  </a:lnTo>
                  <a:lnTo>
                    <a:pt x="656" y="393"/>
                  </a:lnTo>
                  <a:lnTo>
                    <a:pt x="653" y="395"/>
                  </a:lnTo>
                  <a:lnTo>
                    <a:pt x="652" y="399"/>
                  </a:lnTo>
                  <a:lnTo>
                    <a:pt x="653" y="403"/>
                  </a:lnTo>
                  <a:lnTo>
                    <a:pt x="656" y="406"/>
                  </a:lnTo>
                  <a:lnTo>
                    <a:pt x="653" y="417"/>
                  </a:lnTo>
                  <a:lnTo>
                    <a:pt x="651" y="430"/>
                  </a:lnTo>
                  <a:lnTo>
                    <a:pt x="650" y="443"/>
                  </a:lnTo>
                  <a:lnTo>
                    <a:pt x="651" y="453"/>
                  </a:lnTo>
                  <a:lnTo>
                    <a:pt x="651" y="465"/>
                  </a:lnTo>
                  <a:lnTo>
                    <a:pt x="657" y="473"/>
                  </a:lnTo>
                  <a:lnTo>
                    <a:pt x="665" y="479"/>
                  </a:lnTo>
                  <a:lnTo>
                    <a:pt x="675" y="482"/>
                  </a:lnTo>
                  <a:lnTo>
                    <a:pt x="676" y="488"/>
                  </a:lnTo>
                  <a:lnTo>
                    <a:pt x="675" y="494"/>
                  </a:lnTo>
                  <a:lnTo>
                    <a:pt x="673" y="498"/>
                  </a:lnTo>
                  <a:lnTo>
                    <a:pt x="670" y="502"/>
                  </a:lnTo>
                  <a:lnTo>
                    <a:pt x="672" y="502"/>
                  </a:lnTo>
                  <a:lnTo>
                    <a:pt x="671" y="509"/>
                  </a:lnTo>
                  <a:lnTo>
                    <a:pt x="682" y="515"/>
                  </a:lnTo>
                  <a:lnTo>
                    <a:pt x="693" y="519"/>
                  </a:lnTo>
                  <a:lnTo>
                    <a:pt x="704" y="524"/>
                  </a:lnTo>
                  <a:lnTo>
                    <a:pt x="716" y="527"/>
                  </a:lnTo>
                  <a:lnTo>
                    <a:pt x="728" y="531"/>
                  </a:lnTo>
                  <a:lnTo>
                    <a:pt x="739" y="534"/>
                  </a:lnTo>
                  <a:lnTo>
                    <a:pt x="751" y="538"/>
                  </a:lnTo>
                  <a:lnTo>
                    <a:pt x="762" y="542"/>
                  </a:lnTo>
                  <a:lnTo>
                    <a:pt x="775" y="549"/>
                  </a:lnTo>
                  <a:lnTo>
                    <a:pt x="789" y="553"/>
                  </a:lnTo>
                  <a:lnTo>
                    <a:pt x="803" y="555"/>
                  </a:lnTo>
                  <a:lnTo>
                    <a:pt x="818" y="555"/>
                  </a:lnTo>
                  <a:lnTo>
                    <a:pt x="833" y="555"/>
                  </a:lnTo>
                  <a:lnTo>
                    <a:pt x="848" y="554"/>
                  </a:lnTo>
                  <a:lnTo>
                    <a:pt x="863" y="554"/>
                  </a:lnTo>
                  <a:lnTo>
                    <a:pt x="878" y="554"/>
                  </a:lnTo>
                  <a:lnTo>
                    <a:pt x="881" y="550"/>
                  </a:lnTo>
                  <a:lnTo>
                    <a:pt x="875" y="547"/>
                  </a:lnTo>
                  <a:lnTo>
                    <a:pt x="868" y="546"/>
                  </a:lnTo>
                  <a:lnTo>
                    <a:pt x="860" y="546"/>
                  </a:lnTo>
                  <a:lnTo>
                    <a:pt x="852" y="547"/>
                  </a:lnTo>
                  <a:lnTo>
                    <a:pt x="846" y="539"/>
                  </a:lnTo>
                  <a:lnTo>
                    <a:pt x="847" y="528"/>
                  </a:lnTo>
                  <a:lnTo>
                    <a:pt x="850" y="517"/>
                  </a:lnTo>
                  <a:lnTo>
                    <a:pt x="850" y="506"/>
                  </a:lnTo>
                  <a:lnTo>
                    <a:pt x="852" y="493"/>
                  </a:lnTo>
                  <a:lnTo>
                    <a:pt x="853" y="460"/>
                  </a:lnTo>
                  <a:lnTo>
                    <a:pt x="852" y="425"/>
                  </a:lnTo>
                  <a:lnTo>
                    <a:pt x="846" y="403"/>
                  </a:lnTo>
                  <a:lnTo>
                    <a:pt x="846" y="399"/>
                  </a:lnTo>
                  <a:lnTo>
                    <a:pt x="847" y="394"/>
                  </a:lnTo>
                  <a:lnTo>
                    <a:pt x="848" y="388"/>
                  </a:lnTo>
                  <a:lnTo>
                    <a:pt x="850" y="385"/>
                  </a:lnTo>
                  <a:lnTo>
                    <a:pt x="857" y="384"/>
                  </a:lnTo>
                  <a:lnTo>
                    <a:pt x="864" y="384"/>
                  </a:lnTo>
                  <a:lnTo>
                    <a:pt x="871" y="384"/>
                  </a:lnTo>
                  <a:lnTo>
                    <a:pt x="878" y="384"/>
                  </a:lnTo>
                  <a:lnTo>
                    <a:pt x="884" y="384"/>
                  </a:lnTo>
                  <a:lnTo>
                    <a:pt x="891" y="384"/>
                  </a:lnTo>
                  <a:lnTo>
                    <a:pt x="898" y="384"/>
                  </a:lnTo>
                  <a:lnTo>
                    <a:pt x="905" y="382"/>
                  </a:lnTo>
                  <a:lnTo>
                    <a:pt x="918" y="365"/>
                  </a:lnTo>
                  <a:lnTo>
                    <a:pt x="921" y="363"/>
                  </a:lnTo>
                  <a:lnTo>
                    <a:pt x="925" y="360"/>
                  </a:lnTo>
                  <a:lnTo>
                    <a:pt x="927" y="357"/>
                  </a:lnTo>
                  <a:lnTo>
                    <a:pt x="928" y="354"/>
                  </a:lnTo>
                  <a:lnTo>
                    <a:pt x="922" y="352"/>
                  </a:lnTo>
                  <a:lnTo>
                    <a:pt x="917" y="354"/>
                  </a:lnTo>
                  <a:lnTo>
                    <a:pt x="911" y="354"/>
                  </a:lnTo>
                  <a:lnTo>
                    <a:pt x="906" y="355"/>
                  </a:lnTo>
                  <a:lnTo>
                    <a:pt x="900" y="355"/>
                  </a:lnTo>
                  <a:lnTo>
                    <a:pt x="897" y="354"/>
                  </a:lnTo>
                  <a:lnTo>
                    <a:pt x="893" y="350"/>
                  </a:lnTo>
                  <a:lnTo>
                    <a:pt x="890" y="345"/>
                  </a:lnTo>
                  <a:lnTo>
                    <a:pt x="893" y="336"/>
                  </a:lnTo>
                  <a:lnTo>
                    <a:pt x="900" y="328"/>
                  </a:lnTo>
                  <a:lnTo>
                    <a:pt x="906" y="320"/>
                  </a:lnTo>
                  <a:lnTo>
                    <a:pt x="905" y="308"/>
                  </a:lnTo>
                  <a:lnTo>
                    <a:pt x="906" y="308"/>
                  </a:lnTo>
                  <a:lnTo>
                    <a:pt x="908" y="294"/>
                  </a:lnTo>
                  <a:lnTo>
                    <a:pt x="912" y="279"/>
                  </a:lnTo>
                  <a:lnTo>
                    <a:pt x="918" y="267"/>
                  </a:lnTo>
                  <a:lnTo>
                    <a:pt x="927" y="257"/>
                  </a:lnTo>
                  <a:lnTo>
                    <a:pt x="923" y="254"/>
                  </a:lnTo>
                  <a:lnTo>
                    <a:pt x="918" y="259"/>
                  </a:lnTo>
                  <a:lnTo>
                    <a:pt x="913" y="262"/>
                  </a:lnTo>
                  <a:lnTo>
                    <a:pt x="908" y="265"/>
                  </a:lnTo>
                  <a:lnTo>
                    <a:pt x="904" y="269"/>
                  </a:lnTo>
                  <a:lnTo>
                    <a:pt x="899" y="272"/>
                  </a:lnTo>
                  <a:lnTo>
                    <a:pt x="896" y="276"/>
                  </a:lnTo>
                  <a:lnTo>
                    <a:pt x="891" y="279"/>
                  </a:lnTo>
                  <a:lnTo>
                    <a:pt x="885" y="284"/>
                  </a:lnTo>
                  <a:lnTo>
                    <a:pt x="872" y="292"/>
                  </a:lnTo>
                  <a:lnTo>
                    <a:pt x="860" y="300"/>
                  </a:lnTo>
                  <a:lnTo>
                    <a:pt x="848" y="308"/>
                  </a:lnTo>
                  <a:lnTo>
                    <a:pt x="837" y="316"/>
                  </a:lnTo>
                  <a:lnTo>
                    <a:pt x="825" y="325"/>
                  </a:lnTo>
                  <a:lnTo>
                    <a:pt x="813" y="333"/>
                  </a:lnTo>
                  <a:lnTo>
                    <a:pt x="801" y="341"/>
                  </a:lnTo>
                  <a:lnTo>
                    <a:pt x="788" y="349"/>
                  </a:lnTo>
                  <a:lnTo>
                    <a:pt x="774" y="354"/>
                  </a:lnTo>
                  <a:lnTo>
                    <a:pt x="761" y="358"/>
                  </a:lnTo>
                  <a:lnTo>
                    <a:pt x="747" y="364"/>
                  </a:lnTo>
                  <a:lnTo>
                    <a:pt x="733" y="370"/>
                  </a:lnTo>
                  <a:lnTo>
                    <a:pt x="721" y="374"/>
                  </a:lnTo>
                  <a:lnTo>
                    <a:pt x="705" y="378"/>
                  </a:lnTo>
                  <a:lnTo>
                    <a:pt x="690" y="380"/>
                  </a:lnTo>
                  <a:lnTo>
                    <a:pt x="675" y="380"/>
                  </a:lnTo>
                  <a:lnTo>
                    <a:pt x="667" y="358"/>
                  </a:lnTo>
                  <a:lnTo>
                    <a:pt x="678" y="358"/>
                  </a:lnTo>
                  <a:lnTo>
                    <a:pt x="689" y="357"/>
                  </a:lnTo>
                  <a:lnTo>
                    <a:pt x="700" y="356"/>
                  </a:lnTo>
                  <a:lnTo>
                    <a:pt x="711" y="355"/>
                  </a:lnTo>
                  <a:lnTo>
                    <a:pt x="722" y="352"/>
                  </a:lnTo>
                  <a:lnTo>
                    <a:pt x="732" y="349"/>
                  </a:lnTo>
                  <a:lnTo>
                    <a:pt x="741" y="345"/>
                  </a:lnTo>
                  <a:lnTo>
                    <a:pt x="751" y="341"/>
                  </a:lnTo>
                  <a:lnTo>
                    <a:pt x="774" y="333"/>
                  </a:lnTo>
                  <a:lnTo>
                    <a:pt x="796" y="322"/>
                  </a:lnTo>
                  <a:lnTo>
                    <a:pt x="816" y="311"/>
                  </a:lnTo>
                  <a:lnTo>
                    <a:pt x="835" y="297"/>
                  </a:lnTo>
                  <a:lnTo>
                    <a:pt x="853" y="283"/>
                  </a:lnTo>
                  <a:lnTo>
                    <a:pt x="871" y="268"/>
                  </a:lnTo>
                  <a:lnTo>
                    <a:pt x="890" y="254"/>
                  </a:lnTo>
                  <a:lnTo>
                    <a:pt x="910" y="240"/>
                  </a:lnTo>
                  <a:lnTo>
                    <a:pt x="915" y="234"/>
                  </a:lnTo>
                  <a:lnTo>
                    <a:pt x="921" y="226"/>
                  </a:lnTo>
                  <a:lnTo>
                    <a:pt x="927" y="219"/>
                  </a:lnTo>
                  <a:lnTo>
                    <a:pt x="935" y="213"/>
                  </a:lnTo>
                  <a:lnTo>
                    <a:pt x="941" y="213"/>
                  </a:lnTo>
                  <a:lnTo>
                    <a:pt x="947" y="213"/>
                  </a:lnTo>
                  <a:lnTo>
                    <a:pt x="952" y="216"/>
                  </a:lnTo>
                  <a:lnTo>
                    <a:pt x="955" y="221"/>
                  </a:lnTo>
                  <a:lnTo>
                    <a:pt x="955" y="227"/>
                  </a:lnTo>
                  <a:lnTo>
                    <a:pt x="955" y="233"/>
                  </a:lnTo>
                  <a:lnTo>
                    <a:pt x="956" y="239"/>
                  </a:lnTo>
                  <a:lnTo>
                    <a:pt x="961" y="242"/>
                  </a:lnTo>
                  <a:lnTo>
                    <a:pt x="964" y="250"/>
                  </a:lnTo>
                  <a:lnTo>
                    <a:pt x="969" y="259"/>
                  </a:lnTo>
                  <a:lnTo>
                    <a:pt x="976" y="265"/>
                  </a:lnTo>
                  <a:lnTo>
                    <a:pt x="983" y="272"/>
                  </a:lnTo>
                  <a:lnTo>
                    <a:pt x="987" y="291"/>
                  </a:lnTo>
                  <a:lnTo>
                    <a:pt x="988" y="311"/>
                  </a:lnTo>
                  <a:lnTo>
                    <a:pt x="992" y="327"/>
                  </a:lnTo>
                  <a:lnTo>
                    <a:pt x="1006" y="340"/>
                  </a:lnTo>
                  <a:lnTo>
                    <a:pt x="1007" y="342"/>
                  </a:lnTo>
                  <a:lnTo>
                    <a:pt x="1006" y="344"/>
                  </a:lnTo>
                  <a:lnTo>
                    <a:pt x="1005" y="347"/>
                  </a:lnTo>
                  <a:lnTo>
                    <a:pt x="1003" y="350"/>
                  </a:lnTo>
                  <a:lnTo>
                    <a:pt x="957" y="352"/>
                  </a:lnTo>
                  <a:lnTo>
                    <a:pt x="961" y="359"/>
                  </a:lnTo>
                  <a:lnTo>
                    <a:pt x="970" y="365"/>
                  </a:lnTo>
                  <a:lnTo>
                    <a:pt x="979" y="371"/>
                  </a:lnTo>
                  <a:lnTo>
                    <a:pt x="983" y="380"/>
                  </a:lnTo>
                  <a:lnTo>
                    <a:pt x="987" y="379"/>
                  </a:lnTo>
                  <a:lnTo>
                    <a:pt x="988" y="379"/>
                  </a:lnTo>
                  <a:lnTo>
                    <a:pt x="993" y="380"/>
                  </a:lnTo>
                  <a:lnTo>
                    <a:pt x="1000" y="381"/>
                  </a:lnTo>
                  <a:lnTo>
                    <a:pt x="1008" y="382"/>
                  </a:lnTo>
                  <a:lnTo>
                    <a:pt x="1016" y="384"/>
                  </a:lnTo>
                  <a:lnTo>
                    <a:pt x="1026" y="385"/>
                  </a:lnTo>
                  <a:lnTo>
                    <a:pt x="1034" y="385"/>
                  </a:lnTo>
                  <a:lnTo>
                    <a:pt x="1042" y="384"/>
                  </a:lnTo>
                  <a:lnTo>
                    <a:pt x="1046" y="387"/>
                  </a:lnTo>
                  <a:lnTo>
                    <a:pt x="1049" y="391"/>
                  </a:lnTo>
                  <a:lnTo>
                    <a:pt x="1050" y="396"/>
                  </a:lnTo>
                  <a:lnTo>
                    <a:pt x="1050" y="402"/>
                  </a:lnTo>
                  <a:lnTo>
                    <a:pt x="1043" y="413"/>
                  </a:lnTo>
                  <a:lnTo>
                    <a:pt x="1041" y="426"/>
                  </a:lnTo>
                  <a:lnTo>
                    <a:pt x="1041" y="443"/>
                  </a:lnTo>
                  <a:lnTo>
                    <a:pt x="1039" y="457"/>
                  </a:lnTo>
                  <a:lnTo>
                    <a:pt x="1041" y="467"/>
                  </a:lnTo>
                  <a:lnTo>
                    <a:pt x="1039" y="476"/>
                  </a:lnTo>
                  <a:lnTo>
                    <a:pt x="1038" y="486"/>
                  </a:lnTo>
                  <a:lnTo>
                    <a:pt x="1039" y="497"/>
                  </a:lnTo>
                  <a:lnTo>
                    <a:pt x="1042" y="541"/>
                  </a:lnTo>
                  <a:lnTo>
                    <a:pt x="1038" y="545"/>
                  </a:lnTo>
                  <a:lnTo>
                    <a:pt x="1034" y="545"/>
                  </a:lnTo>
                  <a:lnTo>
                    <a:pt x="1029" y="544"/>
                  </a:lnTo>
                  <a:lnTo>
                    <a:pt x="1024" y="545"/>
                  </a:lnTo>
                  <a:lnTo>
                    <a:pt x="1019" y="545"/>
                  </a:lnTo>
                  <a:lnTo>
                    <a:pt x="1013" y="544"/>
                  </a:lnTo>
                  <a:lnTo>
                    <a:pt x="1007" y="545"/>
                  </a:lnTo>
                  <a:lnTo>
                    <a:pt x="1003" y="548"/>
                  </a:lnTo>
                  <a:lnTo>
                    <a:pt x="1007" y="552"/>
                  </a:lnTo>
                  <a:lnTo>
                    <a:pt x="1012" y="554"/>
                  </a:lnTo>
                  <a:lnTo>
                    <a:pt x="1016" y="554"/>
                  </a:lnTo>
                  <a:lnTo>
                    <a:pt x="1022" y="553"/>
                  </a:lnTo>
                  <a:lnTo>
                    <a:pt x="1028" y="553"/>
                  </a:lnTo>
                  <a:lnTo>
                    <a:pt x="1034" y="553"/>
                  </a:lnTo>
                  <a:lnTo>
                    <a:pt x="1038" y="553"/>
                  </a:lnTo>
                  <a:lnTo>
                    <a:pt x="1043" y="555"/>
                  </a:lnTo>
                  <a:lnTo>
                    <a:pt x="1050" y="554"/>
                  </a:lnTo>
                  <a:lnTo>
                    <a:pt x="1057" y="553"/>
                  </a:lnTo>
                  <a:lnTo>
                    <a:pt x="1060" y="549"/>
                  </a:lnTo>
                  <a:lnTo>
                    <a:pt x="1059" y="542"/>
                  </a:lnTo>
                  <a:lnTo>
                    <a:pt x="1060" y="534"/>
                  </a:lnTo>
                  <a:lnTo>
                    <a:pt x="1060" y="525"/>
                  </a:lnTo>
                  <a:lnTo>
                    <a:pt x="1060" y="517"/>
                  </a:lnTo>
                  <a:lnTo>
                    <a:pt x="1063" y="510"/>
                  </a:lnTo>
                  <a:lnTo>
                    <a:pt x="1063" y="489"/>
                  </a:lnTo>
                  <a:lnTo>
                    <a:pt x="1064" y="489"/>
                  </a:lnTo>
                  <a:lnTo>
                    <a:pt x="1066" y="467"/>
                  </a:lnTo>
                  <a:lnTo>
                    <a:pt x="1067" y="443"/>
                  </a:lnTo>
                  <a:lnTo>
                    <a:pt x="1070" y="420"/>
                  </a:lnTo>
                  <a:lnTo>
                    <a:pt x="1072" y="395"/>
                  </a:lnTo>
                  <a:lnTo>
                    <a:pt x="1077" y="372"/>
                  </a:lnTo>
                  <a:lnTo>
                    <a:pt x="1085" y="351"/>
                  </a:lnTo>
                  <a:lnTo>
                    <a:pt x="1095" y="333"/>
                  </a:lnTo>
                  <a:lnTo>
                    <a:pt x="1111" y="318"/>
                  </a:lnTo>
                  <a:lnTo>
                    <a:pt x="1118" y="312"/>
                  </a:lnTo>
                  <a:lnTo>
                    <a:pt x="1125" y="307"/>
                  </a:lnTo>
                  <a:lnTo>
                    <a:pt x="1132" y="301"/>
                  </a:lnTo>
                  <a:lnTo>
                    <a:pt x="1139" y="297"/>
                  </a:lnTo>
                  <a:lnTo>
                    <a:pt x="1146" y="292"/>
                  </a:lnTo>
                  <a:lnTo>
                    <a:pt x="1154" y="287"/>
                  </a:lnTo>
                  <a:lnTo>
                    <a:pt x="1163" y="285"/>
                  </a:lnTo>
                  <a:lnTo>
                    <a:pt x="1174" y="283"/>
                  </a:lnTo>
                  <a:lnTo>
                    <a:pt x="1158" y="311"/>
                  </a:lnTo>
                  <a:lnTo>
                    <a:pt x="1148" y="314"/>
                  </a:lnTo>
                  <a:lnTo>
                    <a:pt x="1140" y="319"/>
                  </a:lnTo>
                  <a:lnTo>
                    <a:pt x="1132" y="325"/>
                  </a:lnTo>
                  <a:lnTo>
                    <a:pt x="1126" y="330"/>
                  </a:lnTo>
                  <a:lnTo>
                    <a:pt x="1119" y="338"/>
                  </a:lnTo>
                  <a:lnTo>
                    <a:pt x="1115" y="345"/>
                  </a:lnTo>
                  <a:lnTo>
                    <a:pt x="1109" y="354"/>
                  </a:lnTo>
                  <a:lnTo>
                    <a:pt x="1104" y="360"/>
                  </a:lnTo>
                  <a:lnTo>
                    <a:pt x="1096" y="394"/>
                  </a:lnTo>
                  <a:lnTo>
                    <a:pt x="1092" y="429"/>
                  </a:lnTo>
                  <a:lnTo>
                    <a:pt x="1088" y="465"/>
                  </a:lnTo>
                  <a:lnTo>
                    <a:pt x="1086" y="499"/>
                  </a:lnTo>
                  <a:lnTo>
                    <a:pt x="1086" y="513"/>
                  </a:lnTo>
                  <a:lnTo>
                    <a:pt x="1086" y="528"/>
                  </a:lnTo>
                  <a:lnTo>
                    <a:pt x="1088" y="541"/>
                  </a:lnTo>
                  <a:lnTo>
                    <a:pt x="1095" y="550"/>
                  </a:lnTo>
                  <a:lnTo>
                    <a:pt x="1099" y="532"/>
                  </a:lnTo>
                  <a:lnTo>
                    <a:pt x="1107" y="517"/>
                  </a:lnTo>
                  <a:lnTo>
                    <a:pt x="1114" y="501"/>
                  </a:lnTo>
                  <a:lnTo>
                    <a:pt x="1116" y="481"/>
                  </a:lnTo>
                  <a:lnTo>
                    <a:pt x="1114" y="465"/>
                  </a:lnTo>
                  <a:lnTo>
                    <a:pt x="1115" y="447"/>
                  </a:lnTo>
                  <a:lnTo>
                    <a:pt x="1114" y="431"/>
                  </a:lnTo>
                  <a:lnTo>
                    <a:pt x="1104" y="418"/>
                  </a:lnTo>
                  <a:lnTo>
                    <a:pt x="1102" y="409"/>
                  </a:lnTo>
                  <a:lnTo>
                    <a:pt x="1103" y="402"/>
                  </a:lnTo>
                  <a:lnTo>
                    <a:pt x="1108" y="398"/>
                  </a:lnTo>
                  <a:lnTo>
                    <a:pt x="1114" y="394"/>
                  </a:lnTo>
                  <a:lnTo>
                    <a:pt x="1121" y="391"/>
                  </a:lnTo>
                  <a:lnTo>
                    <a:pt x="1128" y="387"/>
                  </a:lnTo>
                  <a:lnTo>
                    <a:pt x="1133" y="381"/>
                  </a:lnTo>
                  <a:lnTo>
                    <a:pt x="1137" y="376"/>
                  </a:lnTo>
                  <a:lnTo>
                    <a:pt x="1144" y="370"/>
                  </a:lnTo>
                  <a:lnTo>
                    <a:pt x="1152" y="365"/>
                  </a:lnTo>
                  <a:lnTo>
                    <a:pt x="1160" y="360"/>
                  </a:lnTo>
                  <a:lnTo>
                    <a:pt x="1166" y="354"/>
                  </a:lnTo>
                  <a:lnTo>
                    <a:pt x="1163" y="350"/>
                  </a:lnTo>
                  <a:lnTo>
                    <a:pt x="1160" y="348"/>
                  </a:lnTo>
                  <a:lnTo>
                    <a:pt x="1157" y="347"/>
                  </a:lnTo>
                  <a:lnTo>
                    <a:pt x="1152" y="347"/>
                  </a:lnTo>
                  <a:lnTo>
                    <a:pt x="1150" y="344"/>
                  </a:lnTo>
                  <a:lnTo>
                    <a:pt x="1147" y="341"/>
                  </a:lnTo>
                  <a:lnTo>
                    <a:pt x="1146" y="337"/>
                  </a:lnTo>
                  <a:lnTo>
                    <a:pt x="1146" y="331"/>
                  </a:lnTo>
                  <a:lnTo>
                    <a:pt x="1150" y="329"/>
                  </a:lnTo>
                  <a:lnTo>
                    <a:pt x="1154" y="327"/>
                  </a:lnTo>
                  <a:lnTo>
                    <a:pt x="1160" y="326"/>
                  </a:lnTo>
                  <a:lnTo>
                    <a:pt x="1165" y="326"/>
                  </a:lnTo>
                  <a:lnTo>
                    <a:pt x="1170" y="326"/>
                  </a:lnTo>
                  <a:lnTo>
                    <a:pt x="1175" y="326"/>
                  </a:lnTo>
                  <a:lnTo>
                    <a:pt x="1180" y="325"/>
                  </a:lnTo>
                  <a:lnTo>
                    <a:pt x="1184" y="323"/>
                  </a:lnTo>
                  <a:lnTo>
                    <a:pt x="1181" y="320"/>
                  </a:lnTo>
                  <a:lnTo>
                    <a:pt x="1179" y="314"/>
                  </a:lnTo>
                  <a:lnTo>
                    <a:pt x="1176" y="309"/>
                  </a:lnTo>
                  <a:lnTo>
                    <a:pt x="1173" y="306"/>
                  </a:lnTo>
                  <a:lnTo>
                    <a:pt x="1168" y="307"/>
                  </a:lnTo>
                  <a:lnTo>
                    <a:pt x="1165" y="308"/>
                  </a:lnTo>
                  <a:lnTo>
                    <a:pt x="1161" y="311"/>
                  </a:lnTo>
                  <a:lnTo>
                    <a:pt x="1161" y="315"/>
                  </a:lnTo>
                  <a:lnTo>
                    <a:pt x="1160" y="314"/>
                  </a:lnTo>
                  <a:lnTo>
                    <a:pt x="1158" y="314"/>
                  </a:lnTo>
                  <a:lnTo>
                    <a:pt x="1157" y="313"/>
                  </a:lnTo>
                  <a:lnTo>
                    <a:pt x="1158" y="311"/>
                  </a:lnTo>
                  <a:lnTo>
                    <a:pt x="1174" y="283"/>
                  </a:lnTo>
                  <a:lnTo>
                    <a:pt x="1182" y="278"/>
                  </a:lnTo>
                  <a:lnTo>
                    <a:pt x="1187" y="254"/>
                  </a:lnTo>
                  <a:lnTo>
                    <a:pt x="1192" y="225"/>
                  </a:lnTo>
                  <a:lnTo>
                    <a:pt x="1198" y="201"/>
                  </a:lnTo>
                  <a:lnTo>
                    <a:pt x="1204" y="190"/>
                  </a:lnTo>
                  <a:lnTo>
                    <a:pt x="1215" y="204"/>
                  </a:lnTo>
                  <a:lnTo>
                    <a:pt x="1221" y="231"/>
                  </a:lnTo>
                  <a:lnTo>
                    <a:pt x="1226" y="262"/>
                  </a:lnTo>
                  <a:lnTo>
                    <a:pt x="1228" y="286"/>
                  </a:lnTo>
                  <a:lnTo>
                    <a:pt x="1230" y="291"/>
                  </a:lnTo>
                  <a:lnTo>
                    <a:pt x="1231" y="297"/>
                  </a:lnTo>
                  <a:lnTo>
                    <a:pt x="1230" y="303"/>
                  </a:lnTo>
                  <a:lnTo>
                    <a:pt x="1228" y="307"/>
                  </a:lnTo>
                  <a:lnTo>
                    <a:pt x="1225" y="311"/>
                  </a:lnTo>
                  <a:lnTo>
                    <a:pt x="1223" y="314"/>
                  </a:lnTo>
                  <a:lnTo>
                    <a:pt x="1221" y="318"/>
                  </a:lnTo>
                  <a:lnTo>
                    <a:pt x="1220" y="321"/>
                  </a:lnTo>
                  <a:lnTo>
                    <a:pt x="1225" y="325"/>
                  </a:lnTo>
                  <a:lnTo>
                    <a:pt x="1231" y="326"/>
                  </a:lnTo>
                  <a:lnTo>
                    <a:pt x="1238" y="326"/>
                  </a:lnTo>
                  <a:lnTo>
                    <a:pt x="1245" y="326"/>
                  </a:lnTo>
                  <a:lnTo>
                    <a:pt x="1252" y="327"/>
                  </a:lnTo>
                  <a:lnTo>
                    <a:pt x="1255" y="329"/>
                  </a:lnTo>
                  <a:lnTo>
                    <a:pt x="1256" y="334"/>
                  </a:lnTo>
                  <a:lnTo>
                    <a:pt x="1254" y="342"/>
                  </a:lnTo>
                  <a:lnTo>
                    <a:pt x="1252" y="345"/>
                  </a:lnTo>
                  <a:lnTo>
                    <a:pt x="1249" y="348"/>
                  </a:lnTo>
                  <a:lnTo>
                    <a:pt x="1248" y="351"/>
                  </a:lnTo>
                  <a:lnTo>
                    <a:pt x="1248" y="355"/>
                  </a:lnTo>
                  <a:lnTo>
                    <a:pt x="1256" y="358"/>
                  </a:lnTo>
                  <a:lnTo>
                    <a:pt x="1262" y="364"/>
                  </a:lnTo>
                  <a:lnTo>
                    <a:pt x="1267" y="372"/>
                  </a:lnTo>
                  <a:lnTo>
                    <a:pt x="1271" y="379"/>
                  </a:lnTo>
                  <a:lnTo>
                    <a:pt x="1275" y="387"/>
                  </a:lnTo>
                  <a:lnTo>
                    <a:pt x="1281" y="394"/>
                  </a:lnTo>
                  <a:lnTo>
                    <a:pt x="1286" y="399"/>
                  </a:lnTo>
                  <a:lnTo>
                    <a:pt x="1296" y="402"/>
                  </a:lnTo>
                  <a:lnTo>
                    <a:pt x="1299" y="406"/>
                  </a:lnTo>
                  <a:lnTo>
                    <a:pt x="1300" y="410"/>
                  </a:lnTo>
                  <a:lnTo>
                    <a:pt x="1301" y="415"/>
                  </a:lnTo>
                  <a:lnTo>
                    <a:pt x="1301" y="417"/>
                  </a:lnTo>
                  <a:lnTo>
                    <a:pt x="1299" y="422"/>
                  </a:lnTo>
                  <a:lnTo>
                    <a:pt x="1297" y="425"/>
                  </a:lnTo>
                  <a:lnTo>
                    <a:pt x="1292" y="429"/>
                  </a:lnTo>
                  <a:lnTo>
                    <a:pt x="1288" y="432"/>
                  </a:lnTo>
                  <a:lnTo>
                    <a:pt x="1285" y="451"/>
                  </a:lnTo>
                  <a:lnTo>
                    <a:pt x="1285" y="469"/>
                  </a:lnTo>
                  <a:lnTo>
                    <a:pt x="1285" y="489"/>
                  </a:lnTo>
                  <a:lnTo>
                    <a:pt x="1286" y="506"/>
                  </a:lnTo>
                  <a:lnTo>
                    <a:pt x="1293" y="511"/>
                  </a:lnTo>
                  <a:lnTo>
                    <a:pt x="1299" y="518"/>
                  </a:lnTo>
                  <a:lnTo>
                    <a:pt x="1301" y="527"/>
                  </a:lnTo>
                  <a:lnTo>
                    <a:pt x="1304" y="535"/>
                  </a:lnTo>
                  <a:lnTo>
                    <a:pt x="1307" y="544"/>
                  </a:lnTo>
                  <a:lnTo>
                    <a:pt x="1311" y="550"/>
                  </a:lnTo>
                  <a:lnTo>
                    <a:pt x="1318" y="554"/>
                  </a:lnTo>
                  <a:lnTo>
                    <a:pt x="1327" y="553"/>
                  </a:lnTo>
                  <a:lnTo>
                    <a:pt x="1340" y="553"/>
                  </a:lnTo>
                  <a:lnTo>
                    <a:pt x="1352" y="554"/>
                  </a:lnTo>
                  <a:lnTo>
                    <a:pt x="1365" y="554"/>
                  </a:lnTo>
                  <a:lnTo>
                    <a:pt x="1378" y="554"/>
                  </a:lnTo>
                  <a:lnTo>
                    <a:pt x="1391" y="554"/>
                  </a:lnTo>
                  <a:lnTo>
                    <a:pt x="1405" y="554"/>
                  </a:lnTo>
                  <a:lnTo>
                    <a:pt x="1417" y="554"/>
                  </a:lnTo>
                  <a:lnTo>
                    <a:pt x="1431" y="553"/>
                  </a:lnTo>
                  <a:lnTo>
                    <a:pt x="1444" y="553"/>
                  </a:lnTo>
                  <a:lnTo>
                    <a:pt x="1458" y="553"/>
                  </a:lnTo>
                  <a:lnTo>
                    <a:pt x="1472" y="553"/>
                  </a:lnTo>
                  <a:lnTo>
                    <a:pt x="1485" y="553"/>
                  </a:lnTo>
                  <a:lnTo>
                    <a:pt x="1499" y="553"/>
                  </a:lnTo>
                  <a:lnTo>
                    <a:pt x="1513" y="553"/>
                  </a:lnTo>
                  <a:lnTo>
                    <a:pt x="1525" y="554"/>
                  </a:lnTo>
                  <a:lnTo>
                    <a:pt x="1539" y="554"/>
                  </a:lnTo>
                  <a:lnTo>
                    <a:pt x="1545" y="553"/>
                  </a:lnTo>
                  <a:lnTo>
                    <a:pt x="1546" y="548"/>
                  </a:lnTo>
                  <a:lnTo>
                    <a:pt x="1545" y="544"/>
                  </a:lnTo>
                  <a:lnTo>
                    <a:pt x="1545" y="538"/>
                  </a:lnTo>
                  <a:lnTo>
                    <a:pt x="1536" y="532"/>
                  </a:lnTo>
                  <a:lnTo>
                    <a:pt x="1533" y="524"/>
                  </a:lnTo>
                  <a:lnTo>
                    <a:pt x="1533" y="515"/>
                  </a:lnTo>
                  <a:lnTo>
                    <a:pt x="1533" y="504"/>
                  </a:lnTo>
                  <a:lnTo>
                    <a:pt x="1540" y="498"/>
                  </a:lnTo>
                  <a:lnTo>
                    <a:pt x="1542" y="491"/>
                  </a:lnTo>
                  <a:lnTo>
                    <a:pt x="1539" y="482"/>
                  </a:lnTo>
                  <a:lnTo>
                    <a:pt x="1539" y="473"/>
                  </a:lnTo>
                  <a:lnTo>
                    <a:pt x="1526" y="435"/>
                  </a:lnTo>
                  <a:lnTo>
                    <a:pt x="1510" y="382"/>
                  </a:lnTo>
                  <a:lnTo>
                    <a:pt x="1492" y="322"/>
                  </a:lnTo>
                  <a:lnTo>
                    <a:pt x="1473" y="260"/>
                  </a:lnTo>
                  <a:lnTo>
                    <a:pt x="1455" y="202"/>
                  </a:lnTo>
                  <a:lnTo>
                    <a:pt x="1439" y="153"/>
                  </a:lnTo>
                  <a:lnTo>
                    <a:pt x="1429" y="119"/>
                  </a:lnTo>
                  <a:lnTo>
                    <a:pt x="1424" y="107"/>
                  </a:lnTo>
                  <a:lnTo>
                    <a:pt x="1420" y="104"/>
                  </a:lnTo>
                  <a:lnTo>
                    <a:pt x="1417" y="81"/>
                  </a:lnTo>
                  <a:lnTo>
                    <a:pt x="1417" y="55"/>
                  </a:lnTo>
                  <a:lnTo>
                    <a:pt x="1417" y="28"/>
                  </a:lnTo>
                  <a:lnTo>
                    <a:pt x="1417" y="2"/>
                  </a:lnTo>
                  <a:lnTo>
                    <a:pt x="1429" y="2"/>
                  </a:lnTo>
                  <a:lnTo>
                    <a:pt x="1445" y="1"/>
                  </a:lnTo>
                  <a:lnTo>
                    <a:pt x="1465" y="1"/>
                  </a:lnTo>
                  <a:lnTo>
                    <a:pt x="1488" y="1"/>
                  </a:lnTo>
                  <a:lnTo>
                    <a:pt x="1516" y="0"/>
                  </a:lnTo>
                  <a:lnTo>
                    <a:pt x="1545" y="0"/>
                  </a:lnTo>
                  <a:lnTo>
                    <a:pt x="1575" y="0"/>
                  </a:lnTo>
                  <a:lnTo>
                    <a:pt x="1608" y="0"/>
                  </a:lnTo>
                  <a:lnTo>
                    <a:pt x="1640" y="0"/>
                  </a:lnTo>
                  <a:lnTo>
                    <a:pt x="1673" y="0"/>
                  </a:lnTo>
                  <a:lnTo>
                    <a:pt x="1705" y="0"/>
                  </a:lnTo>
                  <a:lnTo>
                    <a:pt x="1735" y="0"/>
                  </a:lnTo>
                  <a:lnTo>
                    <a:pt x="1764" y="0"/>
                  </a:lnTo>
                  <a:lnTo>
                    <a:pt x="1791" y="0"/>
                  </a:lnTo>
                  <a:lnTo>
                    <a:pt x="1815" y="0"/>
                  </a:lnTo>
                  <a:lnTo>
                    <a:pt x="1835" y="0"/>
                  </a:lnTo>
                  <a:lnTo>
                    <a:pt x="1837" y="16"/>
                  </a:lnTo>
                  <a:lnTo>
                    <a:pt x="1836" y="48"/>
                  </a:lnTo>
                  <a:lnTo>
                    <a:pt x="1834" y="78"/>
                  </a:lnTo>
                  <a:lnTo>
                    <a:pt x="1833" y="91"/>
                  </a:lnTo>
                  <a:lnTo>
                    <a:pt x="1827" y="99"/>
                  </a:lnTo>
                  <a:lnTo>
                    <a:pt x="1821" y="104"/>
                  </a:lnTo>
                  <a:lnTo>
                    <a:pt x="1814" y="110"/>
                  </a:lnTo>
                  <a:lnTo>
                    <a:pt x="1808" y="118"/>
                  </a:lnTo>
                  <a:lnTo>
                    <a:pt x="1802" y="141"/>
                  </a:lnTo>
                  <a:lnTo>
                    <a:pt x="1793" y="180"/>
                  </a:lnTo>
                  <a:lnTo>
                    <a:pt x="1780" y="228"/>
                  </a:lnTo>
                  <a:lnTo>
                    <a:pt x="1766" y="283"/>
                  </a:lnTo>
                  <a:lnTo>
                    <a:pt x="1750" y="337"/>
                  </a:lnTo>
                  <a:lnTo>
                    <a:pt x="1736" y="386"/>
                  </a:lnTo>
                  <a:lnTo>
                    <a:pt x="1722" y="424"/>
                  </a:lnTo>
                  <a:lnTo>
                    <a:pt x="1713" y="446"/>
                  </a:lnTo>
                  <a:lnTo>
                    <a:pt x="1712" y="464"/>
                  </a:lnTo>
                  <a:lnTo>
                    <a:pt x="1707" y="482"/>
                  </a:lnTo>
                  <a:lnTo>
                    <a:pt x="1705" y="499"/>
                  </a:lnTo>
                  <a:lnTo>
                    <a:pt x="1708" y="518"/>
                  </a:lnTo>
                  <a:lnTo>
                    <a:pt x="1712" y="527"/>
                  </a:lnTo>
                  <a:lnTo>
                    <a:pt x="1719" y="542"/>
                  </a:lnTo>
                  <a:lnTo>
                    <a:pt x="1725" y="556"/>
                  </a:lnTo>
                  <a:lnTo>
                    <a:pt x="1728" y="563"/>
                  </a:lnTo>
                  <a:lnTo>
                    <a:pt x="1737" y="560"/>
                  </a:lnTo>
                  <a:lnTo>
                    <a:pt x="1747" y="555"/>
                  </a:lnTo>
                  <a:lnTo>
                    <a:pt x="1754" y="548"/>
                  </a:lnTo>
                  <a:lnTo>
                    <a:pt x="1754" y="538"/>
                  </a:lnTo>
                  <a:lnTo>
                    <a:pt x="1754" y="515"/>
                  </a:lnTo>
                  <a:lnTo>
                    <a:pt x="1754" y="493"/>
                  </a:lnTo>
                  <a:lnTo>
                    <a:pt x="1754" y="471"/>
                  </a:lnTo>
                  <a:lnTo>
                    <a:pt x="1755" y="449"/>
                  </a:lnTo>
                  <a:lnTo>
                    <a:pt x="1754" y="442"/>
                  </a:lnTo>
                  <a:lnTo>
                    <a:pt x="1754" y="433"/>
                  </a:lnTo>
                  <a:lnTo>
                    <a:pt x="1750" y="428"/>
                  </a:lnTo>
                  <a:lnTo>
                    <a:pt x="1743" y="426"/>
                  </a:lnTo>
                  <a:lnTo>
                    <a:pt x="1741" y="424"/>
                  </a:lnTo>
                  <a:lnTo>
                    <a:pt x="1740" y="421"/>
                  </a:lnTo>
                  <a:lnTo>
                    <a:pt x="1741" y="416"/>
                  </a:lnTo>
                  <a:lnTo>
                    <a:pt x="1742" y="414"/>
                  </a:lnTo>
                  <a:lnTo>
                    <a:pt x="1749" y="409"/>
                  </a:lnTo>
                  <a:lnTo>
                    <a:pt x="1757" y="404"/>
                  </a:lnTo>
                  <a:lnTo>
                    <a:pt x="1765" y="401"/>
                  </a:lnTo>
                  <a:lnTo>
                    <a:pt x="1773" y="398"/>
                  </a:lnTo>
                  <a:lnTo>
                    <a:pt x="1782" y="395"/>
                  </a:lnTo>
                  <a:lnTo>
                    <a:pt x="1791" y="393"/>
                  </a:lnTo>
                  <a:lnTo>
                    <a:pt x="1801" y="391"/>
                  </a:lnTo>
                  <a:lnTo>
                    <a:pt x="1811" y="388"/>
                  </a:lnTo>
                  <a:lnTo>
                    <a:pt x="1843" y="395"/>
                  </a:lnTo>
                  <a:lnTo>
                    <a:pt x="1844" y="388"/>
                  </a:lnTo>
                  <a:lnTo>
                    <a:pt x="1848" y="381"/>
                  </a:lnTo>
                  <a:lnTo>
                    <a:pt x="1853" y="379"/>
                  </a:lnTo>
                  <a:lnTo>
                    <a:pt x="1862" y="379"/>
                  </a:lnTo>
                  <a:lnTo>
                    <a:pt x="1867" y="381"/>
                  </a:lnTo>
                  <a:lnTo>
                    <a:pt x="1873" y="380"/>
                  </a:lnTo>
                  <a:lnTo>
                    <a:pt x="1877" y="384"/>
                  </a:lnTo>
                  <a:lnTo>
                    <a:pt x="1875" y="393"/>
                  </a:lnTo>
                  <a:lnTo>
                    <a:pt x="1874" y="393"/>
                  </a:lnTo>
                  <a:lnTo>
                    <a:pt x="1877" y="400"/>
                  </a:lnTo>
                  <a:lnTo>
                    <a:pt x="1882" y="406"/>
                  </a:lnTo>
                  <a:lnTo>
                    <a:pt x="1888" y="411"/>
                  </a:lnTo>
                  <a:lnTo>
                    <a:pt x="1886" y="420"/>
                  </a:lnTo>
                  <a:lnTo>
                    <a:pt x="1877" y="440"/>
                  </a:lnTo>
                  <a:lnTo>
                    <a:pt x="1873" y="487"/>
                  </a:lnTo>
                  <a:lnTo>
                    <a:pt x="1878" y="534"/>
                  </a:lnTo>
                  <a:lnTo>
                    <a:pt x="1891" y="564"/>
                  </a:lnTo>
                  <a:lnTo>
                    <a:pt x="1891" y="574"/>
                  </a:lnTo>
                  <a:lnTo>
                    <a:pt x="1889" y="582"/>
                  </a:lnTo>
                  <a:lnTo>
                    <a:pt x="1886" y="589"/>
                  </a:lnTo>
                  <a:lnTo>
                    <a:pt x="1880" y="594"/>
                  </a:lnTo>
                  <a:lnTo>
                    <a:pt x="1882" y="604"/>
                  </a:lnTo>
                  <a:lnTo>
                    <a:pt x="1882" y="616"/>
                  </a:lnTo>
                  <a:lnTo>
                    <a:pt x="1877" y="628"/>
                  </a:lnTo>
                  <a:lnTo>
                    <a:pt x="1859" y="635"/>
                  </a:lnTo>
                  <a:lnTo>
                    <a:pt x="1851" y="637"/>
                  </a:lnTo>
                  <a:lnTo>
                    <a:pt x="1845" y="636"/>
                  </a:lnTo>
                  <a:lnTo>
                    <a:pt x="1838" y="636"/>
                  </a:lnTo>
                  <a:lnTo>
                    <a:pt x="1831" y="637"/>
                  </a:lnTo>
                  <a:lnTo>
                    <a:pt x="1826" y="643"/>
                  </a:lnTo>
                  <a:lnTo>
                    <a:pt x="1821" y="649"/>
                  </a:lnTo>
                  <a:lnTo>
                    <a:pt x="1816" y="656"/>
                  </a:lnTo>
                  <a:lnTo>
                    <a:pt x="1816" y="664"/>
                  </a:lnTo>
                  <a:lnTo>
                    <a:pt x="1816" y="672"/>
                  </a:lnTo>
                  <a:lnTo>
                    <a:pt x="1816" y="692"/>
                  </a:lnTo>
                  <a:lnTo>
                    <a:pt x="1813" y="714"/>
                  </a:lnTo>
                  <a:lnTo>
                    <a:pt x="1802" y="731"/>
                  </a:lnTo>
                  <a:lnTo>
                    <a:pt x="1771" y="708"/>
                  </a:lnTo>
                  <a:lnTo>
                    <a:pt x="1778" y="695"/>
                  </a:lnTo>
                  <a:lnTo>
                    <a:pt x="1780" y="678"/>
                  </a:lnTo>
                  <a:lnTo>
                    <a:pt x="1779" y="661"/>
                  </a:lnTo>
                  <a:lnTo>
                    <a:pt x="1777" y="651"/>
                  </a:lnTo>
                  <a:lnTo>
                    <a:pt x="1773" y="652"/>
                  </a:lnTo>
                  <a:lnTo>
                    <a:pt x="1771" y="656"/>
                  </a:lnTo>
                  <a:lnTo>
                    <a:pt x="1768" y="659"/>
                  </a:lnTo>
                  <a:lnTo>
                    <a:pt x="1762" y="662"/>
                  </a:lnTo>
                  <a:lnTo>
                    <a:pt x="1755" y="661"/>
                  </a:lnTo>
                  <a:lnTo>
                    <a:pt x="1750" y="656"/>
                  </a:lnTo>
                  <a:lnTo>
                    <a:pt x="1747" y="652"/>
                  </a:lnTo>
                  <a:lnTo>
                    <a:pt x="1741" y="651"/>
                  </a:lnTo>
                  <a:lnTo>
                    <a:pt x="1736" y="650"/>
                  </a:lnTo>
                  <a:lnTo>
                    <a:pt x="1734" y="647"/>
                  </a:lnTo>
                  <a:lnTo>
                    <a:pt x="1733" y="643"/>
                  </a:lnTo>
                  <a:lnTo>
                    <a:pt x="1731" y="640"/>
                  </a:lnTo>
                  <a:lnTo>
                    <a:pt x="1729" y="645"/>
                  </a:lnTo>
                  <a:lnTo>
                    <a:pt x="1728" y="650"/>
                  </a:lnTo>
                  <a:lnTo>
                    <a:pt x="1728" y="655"/>
                  </a:lnTo>
                  <a:lnTo>
                    <a:pt x="1728" y="662"/>
                  </a:lnTo>
                  <a:lnTo>
                    <a:pt x="1731" y="662"/>
                  </a:lnTo>
                  <a:lnTo>
                    <a:pt x="1733" y="669"/>
                  </a:lnTo>
                  <a:lnTo>
                    <a:pt x="1741" y="669"/>
                  </a:lnTo>
                  <a:lnTo>
                    <a:pt x="1750" y="667"/>
                  </a:lnTo>
                  <a:lnTo>
                    <a:pt x="1757" y="670"/>
                  </a:lnTo>
                  <a:lnTo>
                    <a:pt x="1764" y="676"/>
                  </a:lnTo>
                  <a:lnTo>
                    <a:pt x="1769" y="681"/>
                  </a:lnTo>
                  <a:lnTo>
                    <a:pt x="1772" y="689"/>
                  </a:lnTo>
                  <a:lnTo>
                    <a:pt x="1772" y="699"/>
                  </a:lnTo>
                  <a:lnTo>
                    <a:pt x="1766" y="703"/>
                  </a:lnTo>
                  <a:lnTo>
                    <a:pt x="1759" y="706"/>
                  </a:lnTo>
                  <a:lnTo>
                    <a:pt x="1751" y="707"/>
                  </a:lnTo>
                  <a:lnTo>
                    <a:pt x="1743" y="706"/>
                  </a:lnTo>
                  <a:lnTo>
                    <a:pt x="1744" y="707"/>
                  </a:lnTo>
                  <a:lnTo>
                    <a:pt x="1746" y="707"/>
                  </a:lnTo>
                  <a:lnTo>
                    <a:pt x="1747" y="708"/>
                  </a:lnTo>
                  <a:lnTo>
                    <a:pt x="1747" y="709"/>
                  </a:lnTo>
                  <a:lnTo>
                    <a:pt x="1753" y="713"/>
                  </a:lnTo>
                  <a:lnTo>
                    <a:pt x="1759" y="714"/>
                  </a:lnTo>
                  <a:lnTo>
                    <a:pt x="1765" y="713"/>
                  </a:lnTo>
                  <a:lnTo>
                    <a:pt x="1771" y="708"/>
                  </a:lnTo>
                  <a:lnTo>
                    <a:pt x="1802" y="731"/>
                  </a:lnTo>
                  <a:lnTo>
                    <a:pt x="1799" y="735"/>
                  </a:lnTo>
                  <a:lnTo>
                    <a:pt x="1794" y="737"/>
                  </a:lnTo>
                  <a:lnTo>
                    <a:pt x="1791" y="739"/>
                  </a:lnTo>
                  <a:lnTo>
                    <a:pt x="1786" y="744"/>
                  </a:lnTo>
                  <a:lnTo>
                    <a:pt x="1795" y="753"/>
                  </a:lnTo>
                  <a:lnTo>
                    <a:pt x="1811" y="767"/>
                  </a:lnTo>
                  <a:lnTo>
                    <a:pt x="1828" y="784"/>
                  </a:lnTo>
                  <a:lnTo>
                    <a:pt x="1849" y="803"/>
                  </a:lnTo>
                  <a:lnTo>
                    <a:pt x="1870" y="822"/>
                  </a:lnTo>
                  <a:lnTo>
                    <a:pt x="1889" y="839"/>
                  </a:lnTo>
                  <a:lnTo>
                    <a:pt x="1906" y="853"/>
                  </a:lnTo>
                  <a:lnTo>
                    <a:pt x="1918" y="863"/>
                  </a:lnTo>
                  <a:lnTo>
                    <a:pt x="1888" y="884"/>
                  </a:lnTo>
                  <a:lnTo>
                    <a:pt x="1875" y="871"/>
                  </a:lnTo>
                  <a:lnTo>
                    <a:pt x="1859" y="854"/>
                  </a:lnTo>
                  <a:lnTo>
                    <a:pt x="1838" y="835"/>
                  </a:lnTo>
                  <a:lnTo>
                    <a:pt x="1816" y="815"/>
                  </a:lnTo>
                  <a:lnTo>
                    <a:pt x="1794" y="796"/>
                  </a:lnTo>
                  <a:lnTo>
                    <a:pt x="1775" y="778"/>
                  </a:lnTo>
                  <a:lnTo>
                    <a:pt x="1758" y="765"/>
                  </a:lnTo>
                  <a:lnTo>
                    <a:pt x="1747" y="756"/>
                  </a:lnTo>
                  <a:lnTo>
                    <a:pt x="1743" y="874"/>
                  </a:lnTo>
                  <a:lnTo>
                    <a:pt x="1750" y="877"/>
                  </a:lnTo>
                  <a:lnTo>
                    <a:pt x="1758" y="875"/>
                  </a:lnTo>
                  <a:lnTo>
                    <a:pt x="1766" y="873"/>
                  </a:lnTo>
                  <a:lnTo>
                    <a:pt x="1773" y="871"/>
                  </a:lnTo>
                  <a:lnTo>
                    <a:pt x="1779" y="873"/>
                  </a:lnTo>
                  <a:lnTo>
                    <a:pt x="1783" y="875"/>
                  </a:lnTo>
                  <a:lnTo>
                    <a:pt x="1786" y="878"/>
                  </a:lnTo>
                  <a:lnTo>
                    <a:pt x="1787" y="883"/>
                  </a:lnTo>
                  <a:lnTo>
                    <a:pt x="1800" y="885"/>
                  </a:lnTo>
                  <a:lnTo>
                    <a:pt x="1813" y="886"/>
                  </a:lnTo>
                  <a:lnTo>
                    <a:pt x="1824" y="888"/>
                  </a:lnTo>
                  <a:lnTo>
                    <a:pt x="1837" y="886"/>
                  </a:lnTo>
                  <a:lnTo>
                    <a:pt x="1850" y="885"/>
                  </a:lnTo>
                  <a:lnTo>
                    <a:pt x="1863" y="885"/>
                  </a:lnTo>
                  <a:lnTo>
                    <a:pt x="1875" y="884"/>
                  </a:lnTo>
                  <a:lnTo>
                    <a:pt x="1888" y="884"/>
                  </a:lnTo>
                  <a:lnTo>
                    <a:pt x="1918" y="863"/>
                  </a:lnTo>
                  <a:lnTo>
                    <a:pt x="1925" y="866"/>
                  </a:lnTo>
                  <a:lnTo>
                    <a:pt x="1936" y="868"/>
                  </a:lnTo>
                  <a:lnTo>
                    <a:pt x="1949" y="870"/>
                  </a:lnTo>
                  <a:lnTo>
                    <a:pt x="1964" y="873"/>
                  </a:lnTo>
                  <a:lnTo>
                    <a:pt x="1979" y="876"/>
                  </a:lnTo>
                  <a:lnTo>
                    <a:pt x="1993" y="882"/>
                  </a:lnTo>
                  <a:lnTo>
                    <a:pt x="2005" y="889"/>
                  </a:lnTo>
                  <a:lnTo>
                    <a:pt x="2016" y="898"/>
                  </a:lnTo>
                  <a:lnTo>
                    <a:pt x="2019" y="904"/>
                  </a:lnTo>
                  <a:lnTo>
                    <a:pt x="2019" y="912"/>
                  </a:lnTo>
                  <a:lnTo>
                    <a:pt x="2018" y="920"/>
                  </a:lnTo>
                  <a:lnTo>
                    <a:pt x="2019" y="928"/>
                  </a:lnTo>
                  <a:lnTo>
                    <a:pt x="2027" y="934"/>
                  </a:lnTo>
                  <a:lnTo>
                    <a:pt x="2039" y="942"/>
                  </a:lnTo>
                  <a:lnTo>
                    <a:pt x="2053" y="952"/>
                  </a:lnTo>
                  <a:lnTo>
                    <a:pt x="2071" y="964"/>
                  </a:lnTo>
                  <a:lnTo>
                    <a:pt x="2090" y="977"/>
                  </a:lnTo>
                  <a:lnTo>
                    <a:pt x="2111" y="992"/>
                  </a:lnTo>
                  <a:lnTo>
                    <a:pt x="2133" y="1006"/>
                  </a:lnTo>
                  <a:lnTo>
                    <a:pt x="2155" y="1021"/>
                  </a:lnTo>
                  <a:lnTo>
                    <a:pt x="2177" y="1036"/>
                  </a:lnTo>
                  <a:lnTo>
                    <a:pt x="2198" y="1050"/>
                  </a:lnTo>
                  <a:lnTo>
                    <a:pt x="2216" y="1063"/>
                  </a:lnTo>
                  <a:lnTo>
                    <a:pt x="2234" y="1074"/>
                  </a:lnTo>
                  <a:lnTo>
                    <a:pt x="2248" y="1083"/>
                  </a:lnTo>
                  <a:lnTo>
                    <a:pt x="2259" y="1091"/>
                  </a:lnTo>
                  <a:lnTo>
                    <a:pt x="2266" y="1096"/>
                  </a:lnTo>
                  <a:lnTo>
                    <a:pt x="2269" y="1097"/>
                  </a:lnTo>
                  <a:lnTo>
                    <a:pt x="2269" y="1102"/>
                  </a:lnTo>
                  <a:lnTo>
                    <a:pt x="2266" y="1104"/>
                  </a:lnTo>
                  <a:lnTo>
                    <a:pt x="2263" y="1107"/>
                  </a:lnTo>
                  <a:lnTo>
                    <a:pt x="2259" y="1109"/>
                  </a:lnTo>
                  <a:lnTo>
                    <a:pt x="2251" y="1109"/>
                  </a:lnTo>
                  <a:lnTo>
                    <a:pt x="2240" y="1109"/>
                  </a:lnTo>
                  <a:lnTo>
                    <a:pt x="2224" y="1109"/>
                  </a:lnTo>
                  <a:lnTo>
                    <a:pt x="2208" y="1109"/>
                  </a:lnTo>
                  <a:lnTo>
                    <a:pt x="2189" y="1109"/>
                  </a:lnTo>
                  <a:lnTo>
                    <a:pt x="2168" y="1108"/>
                  </a:lnTo>
                  <a:lnTo>
                    <a:pt x="2147" y="1108"/>
                  </a:lnTo>
                  <a:lnTo>
                    <a:pt x="2124" y="1108"/>
                  </a:lnTo>
                  <a:lnTo>
                    <a:pt x="2102" y="1108"/>
                  </a:lnTo>
                  <a:lnTo>
                    <a:pt x="2078" y="1108"/>
                  </a:lnTo>
                  <a:lnTo>
                    <a:pt x="2057" y="1108"/>
                  </a:lnTo>
                  <a:lnTo>
                    <a:pt x="2037" y="1108"/>
                  </a:lnTo>
                  <a:lnTo>
                    <a:pt x="2018" y="1108"/>
                  </a:lnTo>
                  <a:lnTo>
                    <a:pt x="2002" y="1108"/>
                  </a:lnTo>
                  <a:lnTo>
                    <a:pt x="1988" y="1108"/>
                  </a:lnTo>
                  <a:lnTo>
                    <a:pt x="1976" y="1108"/>
                  </a:lnTo>
                  <a:lnTo>
                    <a:pt x="1971" y="1101"/>
                  </a:lnTo>
                  <a:lnTo>
                    <a:pt x="1967" y="1094"/>
                  </a:lnTo>
                  <a:lnTo>
                    <a:pt x="1962" y="1087"/>
                  </a:lnTo>
                  <a:lnTo>
                    <a:pt x="1959" y="1079"/>
                  </a:lnTo>
                  <a:lnTo>
                    <a:pt x="1955" y="1072"/>
                  </a:lnTo>
                  <a:lnTo>
                    <a:pt x="1952" y="1065"/>
                  </a:lnTo>
                  <a:lnTo>
                    <a:pt x="1946" y="1058"/>
                  </a:lnTo>
                  <a:lnTo>
                    <a:pt x="1940" y="1051"/>
                  </a:lnTo>
                  <a:lnTo>
                    <a:pt x="1937" y="1053"/>
                  </a:lnTo>
                  <a:lnTo>
                    <a:pt x="1933" y="1064"/>
                  </a:lnTo>
                  <a:lnTo>
                    <a:pt x="1930" y="1073"/>
                  </a:lnTo>
                  <a:lnTo>
                    <a:pt x="1925" y="1082"/>
                  </a:lnTo>
                  <a:lnTo>
                    <a:pt x="1921" y="1091"/>
                  </a:lnTo>
                  <a:lnTo>
                    <a:pt x="1915" y="1101"/>
                  </a:lnTo>
                  <a:lnTo>
                    <a:pt x="1908" y="1109"/>
                  </a:lnTo>
                  <a:lnTo>
                    <a:pt x="1901" y="1117"/>
                  </a:lnTo>
                  <a:lnTo>
                    <a:pt x="1893" y="1124"/>
                  </a:lnTo>
                  <a:lnTo>
                    <a:pt x="2301" y="1124"/>
                  </a:lnTo>
                  <a:lnTo>
                    <a:pt x="2301" y="1181"/>
                  </a:lnTo>
                  <a:lnTo>
                    <a:pt x="1786" y="1181"/>
                  </a:lnTo>
                  <a:lnTo>
                    <a:pt x="1783" y="1126"/>
                  </a:lnTo>
                  <a:lnTo>
                    <a:pt x="1783" y="1125"/>
                  </a:lnTo>
                  <a:lnTo>
                    <a:pt x="1776" y="1117"/>
                  </a:lnTo>
                  <a:lnTo>
                    <a:pt x="1769" y="1109"/>
                  </a:lnTo>
                  <a:lnTo>
                    <a:pt x="1761" y="1100"/>
                  </a:lnTo>
                  <a:lnTo>
                    <a:pt x="1754" y="1091"/>
                  </a:lnTo>
                  <a:lnTo>
                    <a:pt x="1728" y="1091"/>
                  </a:lnTo>
                  <a:lnTo>
                    <a:pt x="1700" y="1091"/>
                  </a:lnTo>
                  <a:lnTo>
                    <a:pt x="1670" y="1091"/>
                  </a:lnTo>
                  <a:lnTo>
                    <a:pt x="1641" y="1093"/>
                  </a:lnTo>
                  <a:lnTo>
                    <a:pt x="1615" y="1093"/>
                  </a:lnTo>
                  <a:lnTo>
                    <a:pt x="1594" y="1094"/>
                  </a:lnTo>
                  <a:lnTo>
                    <a:pt x="1580" y="1094"/>
                  </a:lnTo>
                  <a:lnTo>
                    <a:pt x="1574" y="1094"/>
                  </a:lnTo>
                  <a:lnTo>
                    <a:pt x="1584" y="1067"/>
                  </a:lnTo>
                  <a:lnTo>
                    <a:pt x="1590" y="1067"/>
                  </a:lnTo>
                  <a:lnTo>
                    <a:pt x="1606" y="1067"/>
                  </a:lnTo>
                  <a:lnTo>
                    <a:pt x="1628" y="1067"/>
                  </a:lnTo>
                  <a:lnTo>
                    <a:pt x="1655" y="1067"/>
                  </a:lnTo>
                  <a:lnTo>
                    <a:pt x="1682" y="1067"/>
                  </a:lnTo>
                  <a:lnTo>
                    <a:pt x="1706" y="1067"/>
                  </a:lnTo>
                  <a:lnTo>
                    <a:pt x="1725" y="1066"/>
                  </a:lnTo>
                  <a:lnTo>
                    <a:pt x="1734" y="1066"/>
                  </a:lnTo>
                  <a:lnTo>
                    <a:pt x="1739" y="1064"/>
                  </a:lnTo>
                  <a:lnTo>
                    <a:pt x="1739" y="1060"/>
                  </a:lnTo>
                  <a:lnTo>
                    <a:pt x="1737" y="1056"/>
                  </a:lnTo>
                  <a:lnTo>
                    <a:pt x="1736" y="1051"/>
                  </a:lnTo>
                  <a:lnTo>
                    <a:pt x="1729" y="1050"/>
                  </a:lnTo>
                  <a:lnTo>
                    <a:pt x="1724" y="1047"/>
                  </a:lnTo>
                  <a:lnTo>
                    <a:pt x="1718" y="1045"/>
                  </a:lnTo>
                  <a:lnTo>
                    <a:pt x="1713" y="1042"/>
                  </a:lnTo>
                  <a:lnTo>
                    <a:pt x="1707" y="1038"/>
                  </a:lnTo>
                  <a:lnTo>
                    <a:pt x="1702" y="1035"/>
                  </a:lnTo>
                  <a:lnTo>
                    <a:pt x="1696" y="1032"/>
                  </a:lnTo>
                  <a:lnTo>
                    <a:pt x="1690" y="1030"/>
                  </a:lnTo>
                  <a:lnTo>
                    <a:pt x="1683" y="1034"/>
                  </a:lnTo>
                  <a:lnTo>
                    <a:pt x="1676" y="1036"/>
                  </a:lnTo>
                  <a:lnTo>
                    <a:pt x="1669" y="1037"/>
                  </a:lnTo>
                  <a:lnTo>
                    <a:pt x="1661" y="1038"/>
                  </a:lnTo>
                  <a:lnTo>
                    <a:pt x="1654" y="1037"/>
                  </a:lnTo>
                  <a:lnTo>
                    <a:pt x="1647" y="1036"/>
                  </a:lnTo>
                  <a:lnTo>
                    <a:pt x="1640" y="1034"/>
                  </a:lnTo>
                  <a:lnTo>
                    <a:pt x="1634" y="1030"/>
                  </a:lnTo>
                  <a:lnTo>
                    <a:pt x="1627" y="1034"/>
                  </a:lnTo>
                  <a:lnTo>
                    <a:pt x="1622" y="1036"/>
                  </a:lnTo>
                  <a:lnTo>
                    <a:pt x="1615" y="1039"/>
                  </a:lnTo>
                  <a:lnTo>
                    <a:pt x="1609" y="1042"/>
                  </a:lnTo>
                  <a:lnTo>
                    <a:pt x="1602" y="1044"/>
                  </a:lnTo>
                  <a:lnTo>
                    <a:pt x="1596" y="1047"/>
                  </a:lnTo>
                  <a:lnTo>
                    <a:pt x="1590" y="1051"/>
                  </a:lnTo>
                  <a:lnTo>
                    <a:pt x="1584" y="1056"/>
                  </a:lnTo>
                  <a:lnTo>
                    <a:pt x="1584" y="1067"/>
                  </a:lnTo>
                  <a:lnTo>
                    <a:pt x="1574" y="1094"/>
                  </a:lnTo>
                  <a:lnTo>
                    <a:pt x="1567" y="1095"/>
                  </a:lnTo>
                  <a:lnTo>
                    <a:pt x="1561" y="1097"/>
                  </a:lnTo>
                  <a:lnTo>
                    <a:pt x="1557" y="1102"/>
                  </a:lnTo>
                  <a:lnTo>
                    <a:pt x="1552" y="1107"/>
                  </a:lnTo>
                  <a:lnTo>
                    <a:pt x="1547" y="1112"/>
                  </a:lnTo>
                  <a:lnTo>
                    <a:pt x="1543" y="1118"/>
                  </a:lnTo>
                  <a:lnTo>
                    <a:pt x="1538" y="1123"/>
                  </a:lnTo>
                  <a:lnTo>
                    <a:pt x="1533" y="1127"/>
                  </a:lnTo>
                  <a:lnTo>
                    <a:pt x="1542" y="1129"/>
                  </a:lnTo>
                  <a:lnTo>
                    <a:pt x="1554" y="1129"/>
                  </a:lnTo>
                  <a:lnTo>
                    <a:pt x="1569" y="1129"/>
                  </a:lnTo>
                  <a:lnTo>
                    <a:pt x="1587" y="1129"/>
                  </a:lnTo>
                  <a:lnTo>
                    <a:pt x="1605" y="1129"/>
                  </a:lnTo>
                  <a:lnTo>
                    <a:pt x="1626" y="1127"/>
                  </a:lnTo>
                  <a:lnTo>
                    <a:pt x="1648" y="1127"/>
                  </a:lnTo>
                  <a:lnTo>
                    <a:pt x="1669" y="1126"/>
                  </a:lnTo>
                  <a:lnTo>
                    <a:pt x="1691" y="1126"/>
                  </a:lnTo>
                  <a:lnTo>
                    <a:pt x="1711" y="1125"/>
                  </a:lnTo>
                  <a:lnTo>
                    <a:pt x="1729" y="1125"/>
                  </a:lnTo>
                  <a:lnTo>
                    <a:pt x="1747" y="1125"/>
                  </a:lnTo>
                  <a:lnTo>
                    <a:pt x="1761" y="1124"/>
                  </a:lnTo>
                  <a:lnTo>
                    <a:pt x="1772" y="1124"/>
                  </a:lnTo>
                  <a:lnTo>
                    <a:pt x="1779" y="1125"/>
                  </a:lnTo>
                  <a:lnTo>
                    <a:pt x="1783" y="1125"/>
                  </a:lnTo>
                  <a:lnTo>
                    <a:pt x="1786" y="1181"/>
                  </a:lnTo>
                  <a:lnTo>
                    <a:pt x="1365" y="1181"/>
                  </a:lnTo>
                  <a:lnTo>
                    <a:pt x="1387" y="1130"/>
                  </a:lnTo>
                  <a:lnTo>
                    <a:pt x="1392" y="1127"/>
                  </a:lnTo>
                  <a:lnTo>
                    <a:pt x="1395" y="1129"/>
                  </a:lnTo>
                  <a:lnTo>
                    <a:pt x="1400" y="1130"/>
                  </a:lnTo>
                  <a:lnTo>
                    <a:pt x="1404" y="1129"/>
                  </a:lnTo>
                  <a:lnTo>
                    <a:pt x="1392" y="1110"/>
                  </a:lnTo>
                  <a:lnTo>
                    <a:pt x="1386" y="1109"/>
                  </a:lnTo>
                  <a:lnTo>
                    <a:pt x="1381" y="1111"/>
                  </a:lnTo>
                  <a:lnTo>
                    <a:pt x="1376" y="1115"/>
                  </a:lnTo>
                  <a:lnTo>
                    <a:pt x="1370" y="1116"/>
                  </a:lnTo>
                  <a:lnTo>
                    <a:pt x="1361" y="1107"/>
                  </a:lnTo>
                  <a:lnTo>
                    <a:pt x="1357" y="1096"/>
                  </a:lnTo>
                  <a:lnTo>
                    <a:pt x="1358" y="1086"/>
                  </a:lnTo>
                  <a:lnTo>
                    <a:pt x="1363" y="1074"/>
                  </a:lnTo>
                  <a:lnTo>
                    <a:pt x="1368" y="1063"/>
                  </a:lnTo>
                  <a:lnTo>
                    <a:pt x="1373" y="1050"/>
                  </a:lnTo>
                  <a:lnTo>
                    <a:pt x="1377" y="1038"/>
                  </a:lnTo>
                  <a:lnTo>
                    <a:pt x="1376" y="1025"/>
                  </a:lnTo>
                  <a:lnTo>
                    <a:pt x="1370" y="1018"/>
                  </a:lnTo>
                  <a:lnTo>
                    <a:pt x="1365" y="1010"/>
                  </a:lnTo>
                  <a:lnTo>
                    <a:pt x="1363" y="1001"/>
                  </a:lnTo>
                  <a:lnTo>
                    <a:pt x="1361" y="992"/>
                  </a:lnTo>
                  <a:lnTo>
                    <a:pt x="1412" y="884"/>
                  </a:lnTo>
                  <a:lnTo>
                    <a:pt x="1529" y="883"/>
                  </a:lnTo>
                  <a:lnTo>
                    <a:pt x="1535" y="878"/>
                  </a:lnTo>
                  <a:lnTo>
                    <a:pt x="1542" y="871"/>
                  </a:lnTo>
                  <a:lnTo>
                    <a:pt x="1545" y="864"/>
                  </a:lnTo>
                  <a:lnTo>
                    <a:pt x="1546" y="856"/>
                  </a:lnTo>
                  <a:lnTo>
                    <a:pt x="1540" y="852"/>
                  </a:lnTo>
                  <a:lnTo>
                    <a:pt x="1535" y="854"/>
                  </a:lnTo>
                  <a:lnTo>
                    <a:pt x="1528" y="859"/>
                  </a:lnTo>
                  <a:lnTo>
                    <a:pt x="1521" y="862"/>
                  </a:lnTo>
                  <a:lnTo>
                    <a:pt x="1514" y="863"/>
                  </a:lnTo>
                  <a:lnTo>
                    <a:pt x="1506" y="863"/>
                  </a:lnTo>
                  <a:lnTo>
                    <a:pt x="1497" y="861"/>
                  </a:lnTo>
                  <a:lnTo>
                    <a:pt x="1490" y="857"/>
                  </a:lnTo>
                  <a:lnTo>
                    <a:pt x="1482" y="851"/>
                  </a:lnTo>
                  <a:lnTo>
                    <a:pt x="1473" y="846"/>
                  </a:lnTo>
                  <a:lnTo>
                    <a:pt x="1464" y="845"/>
                  </a:lnTo>
                  <a:lnTo>
                    <a:pt x="1452" y="844"/>
                  </a:lnTo>
                  <a:lnTo>
                    <a:pt x="1441" y="844"/>
                  </a:lnTo>
                  <a:lnTo>
                    <a:pt x="1430" y="845"/>
                  </a:lnTo>
                  <a:lnTo>
                    <a:pt x="1419" y="844"/>
                  </a:lnTo>
                  <a:lnTo>
                    <a:pt x="1408" y="842"/>
                  </a:lnTo>
                  <a:lnTo>
                    <a:pt x="1402" y="845"/>
                  </a:lnTo>
                  <a:lnTo>
                    <a:pt x="1397" y="846"/>
                  </a:lnTo>
                  <a:lnTo>
                    <a:pt x="1392" y="848"/>
                  </a:lnTo>
                  <a:lnTo>
                    <a:pt x="1391" y="853"/>
                  </a:lnTo>
                  <a:lnTo>
                    <a:pt x="1398" y="860"/>
                  </a:lnTo>
                  <a:lnTo>
                    <a:pt x="1404" y="867"/>
                  </a:lnTo>
                  <a:lnTo>
                    <a:pt x="1408" y="875"/>
                  </a:lnTo>
                  <a:lnTo>
                    <a:pt x="1412" y="884"/>
                  </a:lnTo>
                  <a:lnTo>
                    <a:pt x="1361" y="992"/>
                  </a:lnTo>
                  <a:lnTo>
                    <a:pt x="1357" y="993"/>
                  </a:lnTo>
                  <a:lnTo>
                    <a:pt x="1354" y="993"/>
                  </a:lnTo>
                  <a:lnTo>
                    <a:pt x="1349" y="992"/>
                  </a:lnTo>
                  <a:lnTo>
                    <a:pt x="1347" y="990"/>
                  </a:lnTo>
                  <a:lnTo>
                    <a:pt x="1347" y="998"/>
                  </a:lnTo>
                  <a:lnTo>
                    <a:pt x="1347" y="1003"/>
                  </a:lnTo>
                  <a:lnTo>
                    <a:pt x="1348" y="1010"/>
                  </a:lnTo>
                  <a:lnTo>
                    <a:pt x="1347" y="1018"/>
                  </a:lnTo>
                  <a:lnTo>
                    <a:pt x="1346" y="1025"/>
                  </a:lnTo>
                  <a:lnTo>
                    <a:pt x="1347" y="1034"/>
                  </a:lnTo>
                  <a:lnTo>
                    <a:pt x="1348" y="1041"/>
                  </a:lnTo>
                  <a:lnTo>
                    <a:pt x="1344" y="1046"/>
                  </a:lnTo>
                  <a:lnTo>
                    <a:pt x="1336" y="1047"/>
                  </a:lnTo>
                  <a:lnTo>
                    <a:pt x="1329" y="1046"/>
                  </a:lnTo>
                  <a:lnTo>
                    <a:pt x="1322" y="1043"/>
                  </a:lnTo>
                  <a:lnTo>
                    <a:pt x="1318" y="1038"/>
                  </a:lnTo>
                  <a:lnTo>
                    <a:pt x="1313" y="1046"/>
                  </a:lnTo>
                  <a:lnTo>
                    <a:pt x="1307" y="1056"/>
                  </a:lnTo>
                  <a:lnTo>
                    <a:pt x="1301" y="1064"/>
                  </a:lnTo>
                  <a:lnTo>
                    <a:pt x="1296" y="1072"/>
                  </a:lnTo>
                  <a:lnTo>
                    <a:pt x="1290" y="1080"/>
                  </a:lnTo>
                  <a:lnTo>
                    <a:pt x="1283" y="1088"/>
                  </a:lnTo>
                  <a:lnTo>
                    <a:pt x="1276" y="1095"/>
                  </a:lnTo>
                  <a:lnTo>
                    <a:pt x="1269" y="1103"/>
                  </a:lnTo>
                  <a:lnTo>
                    <a:pt x="1261" y="1110"/>
                  </a:lnTo>
                  <a:lnTo>
                    <a:pt x="1253" y="1117"/>
                  </a:lnTo>
                  <a:lnTo>
                    <a:pt x="1245" y="1123"/>
                  </a:lnTo>
                  <a:lnTo>
                    <a:pt x="1235" y="1129"/>
                  </a:lnTo>
                  <a:lnTo>
                    <a:pt x="1254" y="1131"/>
                  </a:lnTo>
                  <a:lnTo>
                    <a:pt x="1272" y="1131"/>
                  </a:lnTo>
                  <a:lnTo>
                    <a:pt x="1291" y="1131"/>
                  </a:lnTo>
                  <a:lnTo>
                    <a:pt x="1310" y="1131"/>
                  </a:lnTo>
                  <a:lnTo>
                    <a:pt x="1329" y="1130"/>
                  </a:lnTo>
                  <a:lnTo>
                    <a:pt x="1349" y="1130"/>
                  </a:lnTo>
                  <a:lnTo>
                    <a:pt x="1368" y="1130"/>
                  </a:lnTo>
                  <a:lnTo>
                    <a:pt x="1387" y="1130"/>
                  </a:lnTo>
                  <a:lnTo>
                    <a:pt x="1365" y="1181"/>
                  </a:lnTo>
                  <a:lnTo>
                    <a:pt x="864" y="1181"/>
                  </a:lnTo>
                  <a:lnTo>
                    <a:pt x="876" y="1130"/>
                  </a:lnTo>
                  <a:lnTo>
                    <a:pt x="1071" y="1130"/>
                  </a:lnTo>
                  <a:lnTo>
                    <a:pt x="1077" y="1131"/>
                  </a:lnTo>
                  <a:lnTo>
                    <a:pt x="1080" y="1131"/>
                  </a:lnTo>
                  <a:lnTo>
                    <a:pt x="1085" y="1131"/>
                  </a:lnTo>
                  <a:lnTo>
                    <a:pt x="1089" y="1130"/>
                  </a:lnTo>
                  <a:lnTo>
                    <a:pt x="1082" y="1125"/>
                  </a:lnTo>
                  <a:lnTo>
                    <a:pt x="1077" y="1120"/>
                  </a:lnTo>
                  <a:lnTo>
                    <a:pt x="1071" y="1116"/>
                  </a:lnTo>
                  <a:lnTo>
                    <a:pt x="1065" y="1112"/>
                  </a:lnTo>
                  <a:lnTo>
                    <a:pt x="1059" y="1108"/>
                  </a:lnTo>
                  <a:lnTo>
                    <a:pt x="1053" y="1103"/>
                  </a:lnTo>
                  <a:lnTo>
                    <a:pt x="1048" y="1098"/>
                  </a:lnTo>
                  <a:lnTo>
                    <a:pt x="1043" y="1093"/>
                  </a:lnTo>
                  <a:lnTo>
                    <a:pt x="1089" y="1093"/>
                  </a:lnTo>
                  <a:lnTo>
                    <a:pt x="1093" y="1090"/>
                  </a:lnTo>
                  <a:lnTo>
                    <a:pt x="1100" y="1082"/>
                  </a:lnTo>
                  <a:lnTo>
                    <a:pt x="1107" y="1069"/>
                  </a:lnTo>
                  <a:lnTo>
                    <a:pt x="1115" y="1053"/>
                  </a:lnTo>
                  <a:lnTo>
                    <a:pt x="1123" y="1036"/>
                  </a:lnTo>
                  <a:lnTo>
                    <a:pt x="1130" y="1020"/>
                  </a:lnTo>
                  <a:lnTo>
                    <a:pt x="1137" y="1008"/>
                  </a:lnTo>
                  <a:lnTo>
                    <a:pt x="1140" y="1000"/>
                  </a:lnTo>
                  <a:lnTo>
                    <a:pt x="1160" y="999"/>
                  </a:lnTo>
                  <a:lnTo>
                    <a:pt x="1155" y="1017"/>
                  </a:lnTo>
                  <a:lnTo>
                    <a:pt x="1150" y="1053"/>
                  </a:lnTo>
                  <a:lnTo>
                    <a:pt x="1145" y="1089"/>
                  </a:lnTo>
                  <a:lnTo>
                    <a:pt x="1144" y="1110"/>
                  </a:lnTo>
                  <a:lnTo>
                    <a:pt x="1148" y="1110"/>
                  </a:lnTo>
                  <a:lnTo>
                    <a:pt x="1152" y="1110"/>
                  </a:lnTo>
                  <a:lnTo>
                    <a:pt x="1157" y="1110"/>
                  </a:lnTo>
                  <a:lnTo>
                    <a:pt x="1161" y="1111"/>
                  </a:lnTo>
                  <a:lnTo>
                    <a:pt x="1168" y="1110"/>
                  </a:lnTo>
                  <a:lnTo>
                    <a:pt x="1174" y="1110"/>
                  </a:lnTo>
                  <a:lnTo>
                    <a:pt x="1179" y="1110"/>
                  </a:lnTo>
                  <a:lnTo>
                    <a:pt x="1182" y="1110"/>
                  </a:lnTo>
                  <a:lnTo>
                    <a:pt x="1174" y="991"/>
                  </a:lnTo>
                  <a:lnTo>
                    <a:pt x="1176" y="996"/>
                  </a:lnTo>
                  <a:lnTo>
                    <a:pt x="1181" y="1009"/>
                  </a:lnTo>
                  <a:lnTo>
                    <a:pt x="1188" y="1027"/>
                  </a:lnTo>
                  <a:lnTo>
                    <a:pt x="1195" y="1045"/>
                  </a:lnTo>
                  <a:lnTo>
                    <a:pt x="1203" y="1065"/>
                  </a:lnTo>
                  <a:lnTo>
                    <a:pt x="1210" y="1081"/>
                  </a:lnTo>
                  <a:lnTo>
                    <a:pt x="1215" y="1093"/>
                  </a:lnTo>
                  <a:lnTo>
                    <a:pt x="1218" y="1098"/>
                  </a:lnTo>
                  <a:lnTo>
                    <a:pt x="1224" y="1094"/>
                  </a:lnTo>
                  <a:lnTo>
                    <a:pt x="1232" y="1089"/>
                  </a:lnTo>
                  <a:lnTo>
                    <a:pt x="1239" y="1086"/>
                  </a:lnTo>
                  <a:lnTo>
                    <a:pt x="1242" y="1085"/>
                  </a:lnTo>
                  <a:lnTo>
                    <a:pt x="1240" y="1079"/>
                  </a:lnTo>
                  <a:lnTo>
                    <a:pt x="1238" y="1074"/>
                  </a:lnTo>
                  <a:lnTo>
                    <a:pt x="1235" y="1069"/>
                  </a:lnTo>
                  <a:lnTo>
                    <a:pt x="1233" y="1068"/>
                  </a:lnTo>
                  <a:lnTo>
                    <a:pt x="1274" y="1053"/>
                  </a:lnTo>
                  <a:lnTo>
                    <a:pt x="1278" y="1047"/>
                  </a:lnTo>
                  <a:lnTo>
                    <a:pt x="1284" y="1038"/>
                  </a:lnTo>
                  <a:lnTo>
                    <a:pt x="1290" y="1030"/>
                  </a:lnTo>
                  <a:lnTo>
                    <a:pt x="1292" y="1024"/>
                  </a:lnTo>
                  <a:lnTo>
                    <a:pt x="1286" y="1021"/>
                  </a:lnTo>
                  <a:lnTo>
                    <a:pt x="1276" y="1017"/>
                  </a:lnTo>
                  <a:lnTo>
                    <a:pt x="1262" y="1013"/>
                  </a:lnTo>
                  <a:lnTo>
                    <a:pt x="1248" y="1007"/>
                  </a:lnTo>
                  <a:lnTo>
                    <a:pt x="1233" y="1002"/>
                  </a:lnTo>
                  <a:lnTo>
                    <a:pt x="1219" y="999"/>
                  </a:lnTo>
                  <a:lnTo>
                    <a:pt x="1209" y="995"/>
                  </a:lnTo>
                  <a:lnTo>
                    <a:pt x="1202" y="994"/>
                  </a:lnTo>
                  <a:lnTo>
                    <a:pt x="1194" y="977"/>
                  </a:lnTo>
                  <a:lnTo>
                    <a:pt x="1203" y="976"/>
                  </a:lnTo>
                  <a:lnTo>
                    <a:pt x="1218" y="976"/>
                  </a:lnTo>
                  <a:lnTo>
                    <a:pt x="1237" y="974"/>
                  </a:lnTo>
                  <a:lnTo>
                    <a:pt x="1256" y="973"/>
                  </a:lnTo>
                  <a:lnTo>
                    <a:pt x="1275" y="972"/>
                  </a:lnTo>
                  <a:lnTo>
                    <a:pt x="1292" y="972"/>
                  </a:lnTo>
                  <a:lnTo>
                    <a:pt x="1303" y="971"/>
                  </a:lnTo>
                  <a:lnTo>
                    <a:pt x="1307" y="971"/>
                  </a:lnTo>
                  <a:lnTo>
                    <a:pt x="1306" y="964"/>
                  </a:lnTo>
                  <a:lnTo>
                    <a:pt x="1303" y="954"/>
                  </a:lnTo>
                  <a:lnTo>
                    <a:pt x="1300" y="943"/>
                  </a:lnTo>
                  <a:lnTo>
                    <a:pt x="1298" y="937"/>
                  </a:lnTo>
                  <a:lnTo>
                    <a:pt x="1245" y="954"/>
                  </a:lnTo>
                  <a:lnTo>
                    <a:pt x="1223" y="913"/>
                  </a:lnTo>
                  <a:lnTo>
                    <a:pt x="1226" y="912"/>
                  </a:lnTo>
                  <a:lnTo>
                    <a:pt x="1232" y="908"/>
                  </a:lnTo>
                  <a:lnTo>
                    <a:pt x="1240" y="905"/>
                  </a:lnTo>
                  <a:lnTo>
                    <a:pt x="1248" y="900"/>
                  </a:lnTo>
                  <a:lnTo>
                    <a:pt x="1255" y="896"/>
                  </a:lnTo>
                  <a:lnTo>
                    <a:pt x="1261" y="890"/>
                  </a:lnTo>
                  <a:lnTo>
                    <a:pt x="1264" y="885"/>
                  </a:lnTo>
                  <a:lnTo>
                    <a:pt x="1266" y="882"/>
                  </a:lnTo>
                  <a:lnTo>
                    <a:pt x="1261" y="873"/>
                  </a:lnTo>
                  <a:lnTo>
                    <a:pt x="1254" y="864"/>
                  </a:lnTo>
                  <a:lnTo>
                    <a:pt x="1246" y="859"/>
                  </a:lnTo>
                  <a:lnTo>
                    <a:pt x="1238" y="856"/>
                  </a:lnTo>
                  <a:lnTo>
                    <a:pt x="1175" y="954"/>
                  </a:lnTo>
                  <a:lnTo>
                    <a:pt x="1223" y="913"/>
                  </a:lnTo>
                  <a:lnTo>
                    <a:pt x="1245" y="954"/>
                  </a:lnTo>
                  <a:lnTo>
                    <a:pt x="1194" y="977"/>
                  </a:lnTo>
                  <a:lnTo>
                    <a:pt x="1202" y="994"/>
                  </a:lnTo>
                  <a:lnTo>
                    <a:pt x="1274" y="1053"/>
                  </a:lnTo>
                  <a:lnTo>
                    <a:pt x="1233" y="1068"/>
                  </a:lnTo>
                  <a:lnTo>
                    <a:pt x="1228" y="1065"/>
                  </a:lnTo>
                  <a:lnTo>
                    <a:pt x="1221" y="1057"/>
                  </a:lnTo>
                  <a:lnTo>
                    <a:pt x="1213" y="1044"/>
                  </a:lnTo>
                  <a:lnTo>
                    <a:pt x="1204" y="1030"/>
                  </a:lnTo>
                  <a:lnTo>
                    <a:pt x="1194" y="1015"/>
                  </a:lnTo>
                  <a:lnTo>
                    <a:pt x="1186" y="1003"/>
                  </a:lnTo>
                  <a:lnTo>
                    <a:pt x="1179" y="994"/>
                  </a:lnTo>
                  <a:lnTo>
                    <a:pt x="1174" y="991"/>
                  </a:lnTo>
                  <a:lnTo>
                    <a:pt x="1182" y="1110"/>
                  </a:lnTo>
                  <a:lnTo>
                    <a:pt x="1179" y="1089"/>
                  </a:lnTo>
                  <a:lnTo>
                    <a:pt x="1172" y="1057"/>
                  </a:lnTo>
                  <a:lnTo>
                    <a:pt x="1165" y="1023"/>
                  </a:lnTo>
                  <a:lnTo>
                    <a:pt x="1160" y="999"/>
                  </a:lnTo>
                  <a:lnTo>
                    <a:pt x="1140" y="1000"/>
                  </a:lnTo>
                  <a:lnTo>
                    <a:pt x="1117" y="1020"/>
                  </a:lnTo>
                  <a:lnTo>
                    <a:pt x="1136" y="984"/>
                  </a:lnTo>
                  <a:lnTo>
                    <a:pt x="1097" y="978"/>
                  </a:lnTo>
                  <a:lnTo>
                    <a:pt x="1095" y="957"/>
                  </a:lnTo>
                  <a:lnTo>
                    <a:pt x="1099" y="957"/>
                  </a:lnTo>
                  <a:lnTo>
                    <a:pt x="1103" y="958"/>
                  </a:lnTo>
                  <a:lnTo>
                    <a:pt x="1109" y="959"/>
                  </a:lnTo>
                  <a:lnTo>
                    <a:pt x="1115" y="961"/>
                  </a:lnTo>
                  <a:lnTo>
                    <a:pt x="1122" y="962"/>
                  </a:lnTo>
                  <a:lnTo>
                    <a:pt x="1126" y="963"/>
                  </a:lnTo>
                  <a:lnTo>
                    <a:pt x="1131" y="964"/>
                  </a:lnTo>
                  <a:lnTo>
                    <a:pt x="1135" y="965"/>
                  </a:lnTo>
                  <a:lnTo>
                    <a:pt x="1130" y="963"/>
                  </a:lnTo>
                  <a:lnTo>
                    <a:pt x="1118" y="957"/>
                  </a:lnTo>
                  <a:lnTo>
                    <a:pt x="1102" y="948"/>
                  </a:lnTo>
                  <a:lnTo>
                    <a:pt x="1083" y="939"/>
                  </a:lnTo>
                  <a:lnTo>
                    <a:pt x="1064" y="929"/>
                  </a:lnTo>
                  <a:lnTo>
                    <a:pt x="1048" y="921"/>
                  </a:lnTo>
                  <a:lnTo>
                    <a:pt x="1036" y="915"/>
                  </a:lnTo>
                  <a:lnTo>
                    <a:pt x="1031" y="913"/>
                  </a:lnTo>
                  <a:lnTo>
                    <a:pt x="1054" y="876"/>
                  </a:lnTo>
                  <a:lnTo>
                    <a:pt x="1061" y="879"/>
                  </a:lnTo>
                  <a:lnTo>
                    <a:pt x="1073" y="889"/>
                  </a:lnTo>
                  <a:lnTo>
                    <a:pt x="1087" y="899"/>
                  </a:lnTo>
                  <a:lnTo>
                    <a:pt x="1102" y="912"/>
                  </a:lnTo>
                  <a:lnTo>
                    <a:pt x="1117" y="925"/>
                  </a:lnTo>
                  <a:lnTo>
                    <a:pt x="1130" y="935"/>
                  </a:lnTo>
                  <a:lnTo>
                    <a:pt x="1139" y="942"/>
                  </a:lnTo>
                  <a:lnTo>
                    <a:pt x="1144" y="944"/>
                  </a:lnTo>
                  <a:lnTo>
                    <a:pt x="1085" y="852"/>
                  </a:lnTo>
                  <a:lnTo>
                    <a:pt x="1139" y="831"/>
                  </a:lnTo>
                  <a:lnTo>
                    <a:pt x="1161" y="946"/>
                  </a:lnTo>
                  <a:lnTo>
                    <a:pt x="1182" y="832"/>
                  </a:lnTo>
                  <a:lnTo>
                    <a:pt x="1176" y="831"/>
                  </a:lnTo>
                  <a:lnTo>
                    <a:pt x="1169" y="830"/>
                  </a:lnTo>
                  <a:lnTo>
                    <a:pt x="1163" y="830"/>
                  </a:lnTo>
                  <a:lnTo>
                    <a:pt x="1158" y="830"/>
                  </a:lnTo>
                  <a:lnTo>
                    <a:pt x="1153" y="830"/>
                  </a:lnTo>
                  <a:lnTo>
                    <a:pt x="1147" y="830"/>
                  </a:lnTo>
                  <a:lnTo>
                    <a:pt x="1143" y="831"/>
                  </a:lnTo>
                  <a:lnTo>
                    <a:pt x="1139" y="831"/>
                  </a:lnTo>
                  <a:lnTo>
                    <a:pt x="1085" y="852"/>
                  </a:lnTo>
                  <a:lnTo>
                    <a:pt x="1077" y="857"/>
                  </a:lnTo>
                  <a:lnTo>
                    <a:pt x="1066" y="864"/>
                  </a:lnTo>
                  <a:lnTo>
                    <a:pt x="1058" y="871"/>
                  </a:lnTo>
                  <a:lnTo>
                    <a:pt x="1054" y="876"/>
                  </a:lnTo>
                  <a:lnTo>
                    <a:pt x="1031" y="913"/>
                  </a:lnTo>
                  <a:lnTo>
                    <a:pt x="1028" y="920"/>
                  </a:lnTo>
                  <a:lnTo>
                    <a:pt x="1026" y="928"/>
                  </a:lnTo>
                  <a:lnTo>
                    <a:pt x="1023" y="936"/>
                  </a:lnTo>
                  <a:lnTo>
                    <a:pt x="1021" y="944"/>
                  </a:lnTo>
                  <a:lnTo>
                    <a:pt x="1024" y="944"/>
                  </a:lnTo>
                  <a:lnTo>
                    <a:pt x="1031" y="947"/>
                  </a:lnTo>
                  <a:lnTo>
                    <a:pt x="1043" y="948"/>
                  </a:lnTo>
                  <a:lnTo>
                    <a:pt x="1057" y="950"/>
                  </a:lnTo>
                  <a:lnTo>
                    <a:pt x="1070" y="954"/>
                  </a:lnTo>
                  <a:lnTo>
                    <a:pt x="1081" y="955"/>
                  </a:lnTo>
                  <a:lnTo>
                    <a:pt x="1090" y="957"/>
                  </a:lnTo>
                  <a:lnTo>
                    <a:pt x="1095" y="957"/>
                  </a:lnTo>
                  <a:lnTo>
                    <a:pt x="1097" y="978"/>
                  </a:lnTo>
                  <a:lnTo>
                    <a:pt x="1089" y="977"/>
                  </a:lnTo>
                  <a:lnTo>
                    <a:pt x="1079" y="977"/>
                  </a:lnTo>
                  <a:lnTo>
                    <a:pt x="1066" y="977"/>
                  </a:lnTo>
                  <a:lnTo>
                    <a:pt x="1053" y="978"/>
                  </a:lnTo>
                  <a:lnTo>
                    <a:pt x="1041" y="978"/>
                  </a:lnTo>
                  <a:lnTo>
                    <a:pt x="1030" y="979"/>
                  </a:lnTo>
                  <a:lnTo>
                    <a:pt x="1022" y="979"/>
                  </a:lnTo>
                  <a:lnTo>
                    <a:pt x="1020" y="979"/>
                  </a:lnTo>
                  <a:lnTo>
                    <a:pt x="1021" y="986"/>
                  </a:lnTo>
                  <a:lnTo>
                    <a:pt x="1023" y="993"/>
                  </a:lnTo>
                  <a:lnTo>
                    <a:pt x="1026" y="1000"/>
                  </a:lnTo>
                  <a:lnTo>
                    <a:pt x="1027" y="1007"/>
                  </a:lnTo>
                  <a:lnTo>
                    <a:pt x="1136" y="984"/>
                  </a:lnTo>
                  <a:lnTo>
                    <a:pt x="1117" y="1020"/>
                  </a:lnTo>
                  <a:lnTo>
                    <a:pt x="1111" y="1023"/>
                  </a:lnTo>
                  <a:lnTo>
                    <a:pt x="1103" y="1029"/>
                  </a:lnTo>
                  <a:lnTo>
                    <a:pt x="1093" y="1036"/>
                  </a:lnTo>
                  <a:lnTo>
                    <a:pt x="1083" y="1044"/>
                  </a:lnTo>
                  <a:lnTo>
                    <a:pt x="1073" y="1052"/>
                  </a:lnTo>
                  <a:lnTo>
                    <a:pt x="1065" y="1058"/>
                  </a:lnTo>
                  <a:lnTo>
                    <a:pt x="1058" y="1063"/>
                  </a:lnTo>
                  <a:lnTo>
                    <a:pt x="1054" y="1064"/>
                  </a:lnTo>
                  <a:lnTo>
                    <a:pt x="1058" y="1069"/>
                  </a:lnTo>
                  <a:lnTo>
                    <a:pt x="1063" y="1074"/>
                  </a:lnTo>
                  <a:lnTo>
                    <a:pt x="1068" y="1079"/>
                  </a:lnTo>
                  <a:lnTo>
                    <a:pt x="1074" y="1083"/>
                  </a:lnTo>
                  <a:lnTo>
                    <a:pt x="1080" y="1087"/>
                  </a:lnTo>
                  <a:lnTo>
                    <a:pt x="1085" y="1089"/>
                  </a:lnTo>
                  <a:lnTo>
                    <a:pt x="1088" y="1091"/>
                  </a:lnTo>
                  <a:lnTo>
                    <a:pt x="1089" y="1093"/>
                  </a:lnTo>
                  <a:lnTo>
                    <a:pt x="1043" y="1093"/>
                  </a:lnTo>
                  <a:lnTo>
                    <a:pt x="1030" y="1074"/>
                  </a:lnTo>
                  <a:lnTo>
                    <a:pt x="1022" y="1071"/>
                  </a:lnTo>
                  <a:lnTo>
                    <a:pt x="1014" y="1068"/>
                  </a:lnTo>
                  <a:lnTo>
                    <a:pt x="1006" y="1068"/>
                  </a:lnTo>
                  <a:lnTo>
                    <a:pt x="998" y="1069"/>
                  </a:lnTo>
                  <a:lnTo>
                    <a:pt x="990" y="1071"/>
                  </a:lnTo>
                  <a:lnTo>
                    <a:pt x="980" y="1072"/>
                  </a:lnTo>
                  <a:lnTo>
                    <a:pt x="971" y="1072"/>
                  </a:lnTo>
                  <a:lnTo>
                    <a:pt x="962" y="1072"/>
                  </a:lnTo>
                  <a:lnTo>
                    <a:pt x="959" y="1081"/>
                  </a:lnTo>
                  <a:lnTo>
                    <a:pt x="956" y="1088"/>
                  </a:lnTo>
                  <a:lnTo>
                    <a:pt x="952" y="1095"/>
                  </a:lnTo>
                  <a:lnTo>
                    <a:pt x="948" y="1100"/>
                  </a:lnTo>
                  <a:lnTo>
                    <a:pt x="943" y="1105"/>
                  </a:lnTo>
                  <a:lnTo>
                    <a:pt x="937" y="1110"/>
                  </a:lnTo>
                  <a:lnTo>
                    <a:pt x="932" y="1113"/>
                  </a:lnTo>
                  <a:lnTo>
                    <a:pt x="923" y="1118"/>
                  </a:lnTo>
                  <a:lnTo>
                    <a:pt x="917" y="1116"/>
                  </a:lnTo>
                  <a:lnTo>
                    <a:pt x="911" y="1112"/>
                  </a:lnTo>
                  <a:lnTo>
                    <a:pt x="905" y="1109"/>
                  </a:lnTo>
                  <a:lnTo>
                    <a:pt x="899" y="1107"/>
                  </a:lnTo>
                  <a:lnTo>
                    <a:pt x="876" y="1130"/>
                  </a:lnTo>
                  <a:lnTo>
                    <a:pt x="864" y="1181"/>
                  </a:lnTo>
                  <a:lnTo>
                    <a:pt x="799" y="1181"/>
                  </a:lnTo>
                  <a:lnTo>
                    <a:pt x="790" y="1105"/>
                  </a:lnTo>
                  <a:lnTo>
                    <a:pt x="797" y="1105"/>
                  </a:lnTo>
                  <a:lnTo>
                    <a:pt x="803" y="1105"/>
                  </a:lnTo>
                  <a:lnTo>
                    <a:pt x="808" y="1105"/>
                  </a:lnTo>
                  <a:lnTo>
                    <a:pt x="812" y="1104"/>
                  </a:lnTo>
                  <a:lnTo>
                    <a:pt x="804" y="985"/>
                  </a:lnTo>
                  <a:lnTo>
                    <a:pt x="806" y="991"/>
                  </a:lnTo>
                  <a:lnTo>
                    <a:pt x="811" y="1003"/>
                  </a:lnTo>
                  <a:lnTo>
                    <a:pt x="817" y="1021"/>
                  </a:lnTo>
                  <a:lnTo>
                    <a:pt x="825" y="1041"/>
                  </a:lnTo>
                  <a:lnTo>
                    <a:pt x="832" y="1059"/>
                  </a:lnTo>
                  <a:lnTo>
                    <a:pt x="840" y="1076"/>
                  </a:lnTo>
                  <a:lnTo>
                    <a:pt x="845" y="1088"/>
                  </a:lnTo>
                  <a:lnTo>
                    <a:pt x="848" y="1094"/>
                  </a:lnTo>
                  <a:lnTo>
                    <a:pt x="854" y="1089"/>
                  </a:lnTo>
                  <a:lnTo>
                    <a:pt x="862" y="1085"/>
                  </a:lnTo>
                  <a:lnTo>
                    <a:pt x="869" y="1081"/>
                  </a:lnTo>
                  <a:lnTo>
                    <a:pt x="871" y="1080"/>
                  </a:lnTo>
                  <a:lnTo>
                    <a:pt x="870" y="1074"/>
                  </a:lnTo>
                  <a:lnTo>
                    <a:pt x="868" y="1069"/>
                  </a:lnTo>
                  <a:lnTo>
                    <a:pt x="864" y="1065"/>
                  </a:lnTo>
                  <a:lnTo>
                    <a:pt x="862" y="1064"/>
                  </a:lnTo>
                  <a:lnTo>
                    <a:pt x="904" y="1049"/>
                  </a:lnTo>
                  <a:lnTo>
                    <a:pt x="908" y="1043"/>
                  </a:lnTo>
                  <a:lnTo>
                    <a:pt x="914" y="1034"/>
                  </a:lnTo>
                  <a:lnTo>
                    <a:pt x="920" y="1024"/>
                  </a:lnTo>
                  <a:lnTo>
                    <a:pt x="922" y="1018"/>
                  </a:lnTo>
                  <a:lnTo>
                    <a:pt x="917" y="1016"/>
                  </a:lnTo>
                  <a:lnTo>
                    <a:pt x="906" y="1013"/>
                  </a:lnTo>
                  <a:lnTo>
                    <a:pt x="892" y="1008"/>
                  </a:lnTo>
                  <a:lnTo>
                    <a:pt x="877" y="1002"/>
                  </a:lnTo>
                  <a:lnTo>
                    <a:pt x="863" y="998"/>
                  </a:lnTo>
                  <a:lnTo>
                    <a:pt x="849" y="994"/>
                  </a:lnTo>
                  <a:lnTo>
                    <a:pt x="839" y="991"/>
                  </a:lnTo>
                  <a:lnTo>
                    <a:pt x="832" y="990"/>
                  </a:lnTo>
                  <a:lnTo>
                    <a:pt x="824" y="972"/>
                  </a:lnTo>
                  <a:lnTo>
                    <a:pt x="833" y="971"/>
                  </a:lnTo>
                  <a:lnTo>
                    <a:pt x="848" y="971"/>
                  </a:lnTo>
                  <a:lnTo>
                    <a:pt x="867" y="970"/>
                  </a:lnTo>
                  <a:lnTo>
                    <a:pt x="886" y="969"/>
                  </a:lnTo>
                  <a:lnTo>
                    <a:pt x="905" y="968"/>
                  </a:lnTo>
                  <a:lnTo>
                    <a:pt x="922" y="968"/>
                  </a:lnTo>
                  <a:lnTo>
                    <a:pt x="933" y="966"/>
                  </a:lnTo>
                  <a:lnTo>
                    <a:pt x="937" y="966"/>
                  </a:lnTo>
                  <a:lnTo>
                    <a:pt x="936" y="959"/>
                  </a:lnTo>
                  <a:lnTo>
                    <a:pt x="933" y="949"/>
                  </a:lnTo>
                  <a:lnTo>
                    <a:pt x="929" y="939"/>
                  </a:lnTo>
                  <a:lnTo>
                    <a:pt x="927" y="933"/>
                  </a:lnTo>
                  <a:lnTo>
                    <a:pt x="875" y="948"/>
                  </a:lnTo>
                  <a:lnTo>
                    <a:pt x="852" y="908"/>
                  </a:lnTo>
                  <a:lnTo>
                    <a:pt x="855" y="907"/>
                  </a:lnTo>
                  <a:lnTo>
                    <a:pt x="861" y="904"/>
                  </a:lnTo>
                  <a:lnTo>
                    <a:pt x="869" y="899"/>
                  </a:lnTo>
                  <a:lnTo>
                    <a:pt x="877" y="895"/>
                  </a:lnTo>
                  <a:lnTo>
                    <a:pt x="884" y="890"/>
                  </a:lnTo>
                  <a:lnTo>
                    <a:pt x="891" y="885"/>
                  </a:lnTo>
                  <a:lnTo>
                    <a:pt x="894" y="881"/>
                  </a:lnTo>
                  <a:lnTo>
                    <a:pt x="896" y="877"/>
                  </a:lnTo>
                  <a:lnTo>
                    <a:pt x="891" y="868"/>
                  </a:lnTo>
                  <a:lnTo>
                    <a:pt x="884" y="860"/>
                  </a:lnTo>
                  <a:lnTo>
                    <a:pt x="876" y="854"/>
                  </a:lnTo>
                  <a:lnTo>
                    <a:pt x="867" y="852"/>
                  </a:lnTo>
                  <a:lnTo>
                    <a:pt x="805" y="948"/>
                  </a:lnTo>
                  <a:lnTo>
                    <a:pt x="852" y="908"/>
                  </a:lnTo>
                  <a:lnTo>
                    <a:pt x="875" y="948"/>
                  </a:lnTo>
                  <a:lnTo>
                    <a:pt x="824" y="972"/>
                  </a:lnTo>
                  <a:lnTo>
                    <a:pt x="832" y="990"/>
                  </a:lnTo>
                  <a:lnTo>
                    <a:pt x="904" y="1049"/>
                  </a:lnTo>
                  <a:lnTo>
                    <a:pt x="862" y="1064"/>
                  </a:lnTo>
                  <a:lnTo>
                    <a:pt x="859" y="1060"/>
                  </a:lnTo>
                  <a:lnTo>
                    <a:pt x="852" y="1052"/>
                  </a:lnTo>
                  <a:lnTo>
                    <a:pt x="843" y="1039"/>
                  </a:lnTo>
                  <a:lnTo>
                    <a:pt x="833" y="1024"/>
                  </a:lnTo>
                  <a:lnTo>
                    <a:pt x="824" y="1010"/>
                  </a:lnTo>
                  <a:lnTo>
                    <a:pt x="816" y="998"/>
                  </a:lnTo>
                  <a:lnTo>
                    <a:pt x="809" y="988"/>
                  </a:lnTo>
                  <a:lnTo>
                    <a:pt x="804" y="985"/>
                  </a:lnTo>
                  <a:lnTo>
                    <a:pt x="812" y="1104"/>
                  </a:lnTo>
                  <a:lnTo>
                    <a:pt x="809" y="1085"/>
                  </a:lnTo>
                  <a:lnTo>
                    <a:pt x="802" y="1052"/>
                  </a:lnTo>
                  <a:lnTo>
                    <a:pt x="795" y="1017"/>
                  </a:lnTo>
                  <a:lnTo>
                    <a:pt x="789" y="993"/>
                  </a:lnTo>
                  <a:lnTo>
                    <a:pt x="770" y="995"/>
                  </a:lnTo>
                  <a:lnTo>
                    <a:pt x="747" y="1014"/>
                  </a:lnTo>
                  <a:lnTo>
                    <a:pt x="765" y="979"/>
                  </a:lnTo>
                  <a:lnTo>
                    <a:pt x="726" y="973"/>
                  </a:lnTo>
                  <a:lnTo>
                    <a:pt x="725" y="952"/>
                  </a:lnTo>
                  <a:lnTo>
                    <a:pt x="729" y="952"/>
                  </a:lnTo>
                  <a:lnTo>
                    <a:pt x="733" y="954"/>
                  </a:lnTo>
                  <a:lnTo>
                    <a:pt x="738" y="955"/>
                  </a:lnTo>
                  <a:lnTo>
                    <a:pt x="745" y="956"/>
                  </a:lnTo>
                  <a:lnTo>
                    <a:pt x="751" y="957"/>
                  </a:lnTo>
                  <a:lnTo>
                    <a:pt x="755" y="958"/>
                  </a:lnTo>
                  <a:lnTo>
                    <a:pt x="760" y="959"/>
                  </a:lnTo>
                  <a:lnTo>
                    <a:pt x="763" y="961"/>
                  </a:lnTo>
                  <a:lnTo>
                    <a:pt x="759" y="957"/>
                  </a:lnTo>
                  <a:lnTo>
                    <a:pt x="747" y="951"/>
                  </a:lnTo>
                  <a:lnTo>
                    <a:pt x="731" y="943"/>
                  </a:lnTo>
                  <a:lnTo>
                    <a:pt x="712" y="934"/>
                  </a:lnTo>
                  <a:lnTo>
                    <a:pt x="693" y="925"/>
                  </a:lnTo>
                  <a:lnTo>
                    <a:pt x="676" y="917"/>
                  </a:lnTo>
                  <a:lnTo>
                    <a:pt x="665" y="911"/>
                  </a:lnTo>
                  <a:lnTo>
                    <a:pt x="660" y="908"/>
                  </a:lnTo>
                  <a:lnTo>
                    <a:pt x="685" y="871"/>
                  </a:lnTo>
                  <a:lnTo>
                    <a:pt x="692" y="875"/>
                  </a:lnTo>
                  <a:lnTo>
                    <a:pt x="702" y="884"/>
                  </a:lnTo>
                  <a:lnTo>
                    <a:pt x="716" y="895"/>
                  </a:lnTo>
                  <a:lnTo>
                    <a:pt x="732" y="907"/>
                  </a:lnTo>
                  <a:lnTo>
                    <a:pt x="747" y="920"/>
                  </a:lnTo>
                  <a:lnTo>
                    <a:pt x="760" y="930"/>
                  </a:lnTo>
                  <a:lnTo>
                    <a:pt x="769" y="937"/>
                  </a:lnTo>
                  <a:lnTo>
                    <a:pt x="773" y="940"/>
                  </a:lnTo>
                  <a:lnTo>
                    <a:pt x="715" y="847"/>
                  </a:lnTo>
                  <a:lnTo>
                    <a:pt x="768" y="826"/>
                  </a:lnTo>
                  <a:lnTo>
                    <a:pt x="790" y="941"/>
                  </a:lnTo>
                  <a:lnTo>
                    <a:pt x="811" y="826"/>
                  </a:lnTo>
                  <a:lnTo>
                    <a:pt x="805" y="825"/>
                  </a:lnTo>
                  <a:lnTo>
                    <a:pt x="799" y="825"/>
                  </a:lnTo>
                  <a:lnTo>
                    <a:pt x="794" y="824"/>
                  </a:lnTo>
                  <a:lnTo>
                    <a:pt x="788" y="824"/>
                  </a:lnTo>
                  <a:lnTo>
                    <a:pt x="782" y="825"/>
                  </a:lnTo>
                  <a:lnTo>
                    <a:pt x="777" y="825"/>
                  </a:lnTo>
                  <a:lnTo>
                    <a:pt x="773" y="826"/>
                  </a:lnTo>
                  <a:lnTo>
                    <a:pt x="768" y="826"/>
                  </a:lnTo>
                  <a:lnTo>
                    <a:pt x="715" y="847"/>
                  </a:lnTo>
                  <a:lnTo>
                    <a:pt x="707" y="853"/>
                  </a:lnTo>
                  <a:lnTo>
                    <a:pt x="696" y="860"/>
                  </a:lnTo>
                  <a:lnTo>
                    <a:pt x="688" y="867"/>
                  </a:lnTo>
                  <a:lnTo>
                    <a:pt x="685" y="871"/>
                  </a:lnTo>
                  <a:lnTo>
                    <a:pt x="660" y="908"/>
                  </a:lnTo>
                  <a:lnTo>
                    <a:pt x="658" y="914"/>
                  </a:lnTo>
                  <a:lnTo>
                    <a:pt x="656" y="922"/>
                  </a:lnTo>
                  <a:lnTo>
                    <a:pt x="653" y="932"/>
                  </a:lnTo>
                  <a:lnTo>
                    <a:pt x="651" y="940"/>
                  </a:lnTo>
                  <a:lnTo>
                    <a:pt x="654" y="940"/>
                  </a:lnTo>
                  <a:lnTo>
                    <a:pt x="661" y="942"/>
                  </a:lnTo>
                  <a:lnTo>
                    <a:pt x="673" y="943"/>
                  </a:lnTo>
                  <a:lnTo>
                    <a:pt x="687" y="946"/>
                  </a:lnTo>
                  <a:lnTo>
                    <a:pt x="700" y="949"/>
                  </a:lnTo>
                  <a:lnTo>
                    <a:pt x="711" y="950"/>
                  </a:lnTo>
                  <a:lnTo>
                    <a:pt x="721" y="952"/>
                  </a:lnTo>
                  <a:lnTo>
                    <a:pt x="725" y="952"/>
                  </a:lnTo>
                  <a:lnTo>
                    <a:pt x="726" y="973"/>
                  </a:lnTo>
                  <a:lnTo>
                    <a:pt x="719" y="972"/>
                  </a:lnTo>
                  <a:lnTo>
                    <a:pt x="708" y="972"/>
                  </a:lnTo>
                  <a:lnTo>
                    <a:pt x="696" y="972"/>
                  </a:lnTo>
                  <a:lnTo>
                    <a:pt x="682" y="973"/>
                  </a:lnTo>
                  <a:lnTo>
                    <a:pt x="670" y="973"/>
                  </a:lnTo>
                  <a:lnTo>
                    <a:pt x="659" y="974"/>
                  </a:lnTo>
                  <a:lnTo>
                    <a:pt x="651" y="974"/>
                  </a:lnTo>
                  <a:lnTo>
                    <a:pt x="649" y="974"/>
                  </a:lnTo>
                  <a:lnTo>
                    <a:pt x="650" y="981"/>
                  </a:lnTo>
                  <a:lnTo>
                    <a:pt x="652" y="988"/>
                  </a:lnTo>
                  <a:lnTo>
                    <a:pt x="654" y="995"/>
                  </a:lnTo>
                  <a:lnTo>
                    <a:pt x="656" y="1002"/>
                  </a:lnTo>
                  <a:lnTo>
                    <a:pt x="765" y="979"/>
                  </a:lnTo>
                  <a:lnTo>
                    <a:pt x="747" y="1014"/>
                  </a:lnTo>
                  <a:lnTo>
                    <a:pt x="740" y="1017"/>
                  </a:lnTo>
                  <a:lnTo>
                    <a:pt x="732" y="1023"/>
                  </a:lnTo>
                  <a:lnTo>
                    <a:pt x="723" y="1031"/>
                  </a:lnTo>
                  <a:lnTo>
                    <a:pt x="712" y="1039"/>
                  </a:lnTo>
                  <a:lnTo>
                    <a:pt x="703" y="1046"/>
                  </a:lnTo>
                  <a:lnTo>
                    <a:pt x="694" y="1053"/>
                  </a:lnTo>
                  <a:lnTo>
                    <a:pt x="688" y="1058"/>
                  </a:lnTo>
                  <a:lnTo>
                    <a:pt x="685" y="1059"/>
                  </a:lnTo>
                  <a:lnTo>
                    <a:pt x="688" y="1065"/>
                  </a:lnTo>
                  <a:lnTo>
                    <a:pt x="693" y="1069"/>
                  </a:lnTo>
                  <a:lnTo>
                    <a:pt x="699" y="1074"/>
                  </a:lnTo>
                  <a:lnTo>
                    <a:pt x="704" y="1079"/>
                  </a:lnTo>
                  <a:lnTo>
                    <a:pt x="710" y="1082"/>
                  </a:lnTo>
                  <a:lnTo>
                    <a:pt x="715" y="1085"/>
                  </a:lnTo>
                  <a:lnTo>
                    <a:pt x="718" y="1087"/>
                  </a:lnTo>
                  <a:lnTo>
                    <a:pt x="719" y="1088"/>
                  </a:lnTo>
                  <a:lnTo>
                    <a:pt x="723" y="1086"/>
                  </a:lnTo>
                  <a:lnTo>
                    <a:pt x="730" y="1078"/>
                  </a:lnTo>
                  <a:lnTo>
                    <a:pt x="737" y="1064"/>
                  </a:lnTo>
                  <a:lnTo>
                    <a:pt x="745" y="1047"/>
                  </a:lnTo>
                  <a:lnTo>
                    <a:pt x="753" y="1031"/>
                  </a:lnTo>
                  <a:lnTo>
                    <a:pt x="760" y="1015"/>
                  </a:lnTo>
                  <a:lnTo>
                    <a:pt x="767" y="1002"/>
                  </a:lnTo>
                  <a:lnTo>
                    <a:pt x="770" y="995"/>
                  </a:lnTo>
                  <a:lnTo>
                    <a:pt x="789" y="993"/>
                  </a:lnTo>
                  <a:lnTo>
                    <a:pt x="785" y="1013"/>
                  </a:lnTo>
                  <a:lnTo>
                    <a:pt x="780" y="1049"/>
                  </a:lnTo>
                  <a:lnTo>
                    <a:pt x="774" y="1085"/>
                  </a:lnTo>
                  <a:lnTo>
                    <a:pt x="773" y="1104"/>
                  </a:lnTo>
                  <a:lnTo>
                    <a:pt x="777" y="1104"/>
                  </a:lnTo>
                  <a:lnTo>
                    <a:pt x="782" y="1104"/>
                  </a:lnTo>
                  <a:lnTo>
                    <a:pt x="785" y="1105"/>
                  </a:lnTo>
                  <a:lnTo>
                    <a:pt x="790" y="1105"/>
                  </a:lnTo>
                  <a:lnTo>
                    <a:pt x="799" y="1181"/>
                  </a:lnTo>
                  <a:lnTo>
                    <a:pt x="752" y="1181"/>
                  </a:lnTo>
                  <a:lnTo>
                    <a:pt x="707" y="1130"/>
                  </a:lnTo>
                  <a:lnTo>
                    <a:pt x="704" y="1129"/>
                  </a:lnTo>
                  <a:lnTo>
                    <a:pt x="700" y="1124"/>
                  </a:lnTo>
                  <a:lnTo>
                    <a:pt x="693" y="1118"/>
                  </a:lnTo>
                  <a:lnTo>
                    <a:pt x="683" y="1109"/>
                  </a:lnTo>
                  <a:lnTo>
                    <a:pt x="674" y="1100"/>
                  </a:lnTo>
                  <a:lnTo>
                    <a:pt x="665" y="1088"/>
                  </a:lnTo>
                  <a:lnTo>
                    <a:pt x="658" y="1076"/>
                  </a:lnTo>
                  <a:lnTo>
                    <a:pt x="652" y="1064"/>
                  </a:lnTo>
                  <a:lnTo>
                    <a:pt x="646" y="1069"/>
                  </a:lnTo>
                  <a:lnTo>
                    <a:pt x="644" y="1076"/>
                  </a:lnTo>
                  <a:lnTo>
                    <a:pt x="642" y="1086"/>
                  </a:lnTo>
                  <a:lnTo>
                    <a:pt x="639" y="1093"/>
                  </a:lnTo>
                  <a:lnTo>
                    <a:pt x="631" y="1096"/>
                  </a:lnTo>
                  <a:lnTo>
                    <a:pt x="614" y="1098"/>
                  </a:lnTo>
                  <a:lnTo>
                    <a:pt x="590" y="1100"/>
                  </a:lnTo>
                  <a:lnTo>
                    <a:pt x="562" y="1101"/>
                  </a:lnTo>
                  <a:lnTo>
                    <a:pt x="532" y="1102"/>
                  </a:lnTo>
                  <a:lnTo>
                    <a:pt x="501" y="1102"/>
                  </a:lnTo>
                  <a:lnTo>
                    <a:pt x="476" y="1102"/>
                  </a:lnTo>
                  <a:lnTo>
                    <a:pt x="455" y="1102"/>
                  </a:lnTo>
                  <a:lnTo>
                    <a:pt x="448" y="1110"/>
                  </a:lnTo>
                  <a:lnTo>
                    <a:pt x="441" y="1117"/>
                  </a:lnTo>
                  <a:lnTo>
                    <a:pt x="433" y="1124"/>
                  </a:lnTo>
                  <a:lnTo>
                    <a:pt x="425" y="1130"/>
                  </a:lnTo>
                  <a:lnTo>
                    <a:pt x="707" y="1130"/>
                  </a:lnTo>
                  <a:lnTo>
                    <a:pt x="752" y="1181"/>
                  </a:lnTo>
                  <a:lnTo>
                    <a:pt x="734" y="1181"/>
                  </a:lnTo>
                  <a:lnTo>
                    <a:pt x="704" y="1182"/>
                  </a:lnTo>
                  <a:lnTo>
                    <a:pt x="664" y="1182"/>
                  </a:lnTo>
                  <a:lnTo>
                    <a:pt x="614" y="1182"/>
                  </a:lnTo>
                  <a:lnTo>
                    <a:pt x="557" y="1182"/>
                  </a:lnTo>
                  <a:lnTo>
                    <a:pt x="496" y="1182"/>
                  </a:lnTo>
                  <a:lnTo>
                    <a:pt x="431" y="1182"/>
                  </a:lnTo>
                  <a:lnTo>
                    <a:pt x="365" y="1182"/>
                  </a:lnTo>
                  <a:lnTo>
                    <a:pt x="298" y="1182"/>
                  </a:lnTo>
                  <a:lnTo>
                    <a:pt x="236" y="1182"/>
                  </a:lnTo>
                  <a:lnTo>
                    <a:pt x="177" y="1181"/>
                  </a:lnTo>
                  <a:lnTo>
                    <a:pt x="125" y="1181"/>
                  </a:lnTo>
                  <a:lnTo>
                    <a:pt x="80" y="1181"/>
                  </a:lnTo>
                  <a:lnTo>
                    <a:pt x="47" y="1181"/>
                  </a:lnTo>
                  <a:lnTo>
                    <a:pt x="26" y="1181"/>
                  </a:lnTo>
                  <a:lnTo>
                    <a:pt x="18" y="1181"/>
                  </a:lnTo>
                  <a:lnTo>
                    <a:pt x="18" y="1130"/>
                  </a:lnTo>
                  <a:lnTo>
                    <a:pt x="253" y="1130"/>
                  </a:lnTo>
                  <a:lnTo>
                    <a:pt x="245" y="1122"/>
                  </a:lnTo>
                  <a:lnTo>
                    <a:pt x="238" y="1113"/>
                  </a:lnTo>
                  <a:lnTo>
                    <a:pt x="230" y="1105"/>
                  </a:lnTo>
                  <a:lnTo>
                    <a:pt x="223" y="1097"/>
                  </a:lnTo>
                  <a:lnTo>
                    <a:pt x="216" y="1089"/>
                  </a:lnTo>
                  <a:lnTo>
                    <a:pt x="210" y="1080"/>
                  </a:lnTo>
                  <a:lnTo>
                    <a:pt x="205" y="1071"/>
                  </a:lnTo>
                  <a:lnTo>
                    <a:pt x="201" y="1061"/>
                  </a:lnTo>
                  <a:lnTo>
                    <a:pt x="189" y="1037"/>
                  </a:lnTo>
                  <a:lnTo>
                    <a:pt x="184" y="1008"/>
                  </a:lnTo>
                  <a:lnTo>
                    <a:pt x="180" y="979"/>
                  </a:lnTo>
                  <a:lnTo>
                    <a:pt x="178" y="957"/>
                  </a:lnTo>
                  <a:lnTo>
                    <a:pt x="210" y="948"/>
                  </a:lnTo>
                  <a:lnTo>
                    <a:pt x="213" y="956"/>
                  </a:lnTo>
                  <a:lnTo>
                    <a:pt x="214" y="980"/>
                  </a:lnTo>
                  <a:lnTo>
                    <a:pt x="214" y="986"/>
                  </a:lnTo>
                  <a:lnTo>
                    <a:pt x="216" y="993"/>
                  </a:lnTo>
                  <a:lnTo>
                    <a:pt x="218" y="999"/>
                  </a:lnTo>
                  <a:lnTo>
                    <a:pt x="221" y="1003"/>
                  </a:lnTo>
                  <a:lnTo>
                    <a:pt x="227" y="1002"/>
                  </a:lnTo>
                  <a:lnTo>
                    <a:pt x="234" y="1001"/>
                  </a:lnTo>
                  <a:lnTo>
                    <a:pt x="242" y="999"/>
                  </a:lnTo>
                  <a:lnTo>
                    <a:pt x="250" y="996"/>
                  </a:lnTo>
                  <a:lnTo>
                    <a:pt x="257" y="994"/>
                  </a:lnTo>
                  <a:lnTo>
                    <a:pt x="264" y="992"/>
                  </a:lnTo>
                  <a:lnTo>
                    <a:pt x="269" y="990"/>
                  </a:lnTo>
                  <a:lnTo>
                    <a:pt x="273" y="986"/>
                  </a:lnTo>
                  <a:lnTo>
                    <a:pt x="288" y="1014"/>
                  </a:lnTo>
                  <a:lnTo>
                    <a:pt x="281" y="1015"/>
                  </a:lnTo>
                  <a:lnTo>
                    <a:pt x="273" y="1016"/>
                  </a:lnTo>
                  <a:lnTo>
                    <a:pt x="265" y="1017"/>
                  </a:lnTo>
                  <a:lnTo>
                    <a:pt x="257" y="1020"/>
                  </a:lnTo>
                  <a:lnTo>
                    <a:pt x="247" y="1022"/>
                  </a:lnTo>
                  <a:lnTo>
                    <a:pt x="241" y="1024"/>
                  </a:lnTo>
                  <a:lnTo>
                    <a:pt x="232" y="1027"/>
                  </a:lnTo>
                  <a:lnTo>
                    <a:pt x="225" y="1029"/>
                  </a:lnTo>
                  <a:lnTo>
                    <a:pt x="227" y="1037"/>
                  </a:lnTo>
                  <a:lnTo>
                    <a:pt x="229" y="1044"/>
                  </a:lnTo>
                  <a:lnTo>
                    <a:pt x="231" y="1050"/>
                  </a:lnTo>
                  <a:lnTo>
                    <a:pt x="237" y="1056"/>
                  </a:lnTo>
                  <a:lnTo>
                    <a:pt x="252" y="1079"/>
                  </a:lnTo>
                  <a:lnTo>
                    <a:pt x="256" y="1083"/>
                  </a:lnTo>
                  <a:lnTo>
                    <a:pt x="264" y="1090"/>
                  </a:lnTo>
                  <a:lnTo>
                    <a:pt x="274" y="1097"/>
                  </a:lnTo>
                  <a:lnTo>
                    <a:pt x="283" y="1104"/>
                  </a:lnTo>
                  <a:lnTo>
                    <a:pt x="323" y="1120"/>
                  </a:lnTo>
                  <a:lnTo>
                    <a:pt x="327" y="1120"/>
                  </a:lnTo>
                  <a:lnTo>
                    <a:pt x="332" y="1120"/>
                  </a:lnTo>
                  <a:lnTo>
                    <a:pt x="338" y="1120"/>
                  </a:lnTo>
                  <a:lnTo>
                    <a:pt x="344" y="1120"/>
                  </a:lnTo>
                  <a:lnTo>
                    <a:pt x="349" y="1119"/>
                  </a:lnTo>
                  <a:lnTo>
                    <a:pt x="355" y="1118"/>
                  </a:lnTo>
                  <a:lnTo>
                    <a:pt x="359" y="1116"/>
                  </a:lnTo>
                  <a:lnTo>
                    <a:pt x="361" y="1112"/>
                  </a:lnTo>
                  <a:lnTo>
                    <a:pt x="356" y="1104"/>
                  </a:lnTo>
                  <a:lnTo>
                    <a:pt x="351" y="1096"/>
                  </a:lnTo>
                  <a:lnTo>
                    <a:pt x="344" y="1090"/>
                  </a:lnTo>
                  <a:lnTo>
                    <a:pt x="337" y="1085"/>
                  </a:lnTo>
                  <a:lnTo>
                    <a:pt x="333" y="1093"/>
                  </a:lnTo>
                  <a:lnTo>
                    <a:pt x="329" y="1104"/>
                  </a:lnTo>
                  <a:lnTo>
                    <a:pt x="325" y="1116"/>
                  </a:lnTo>
                  <a:lnTo>
                    <a:pt x="323" y="1120"/>
                  </a:lnTo>
                  <a:lnTo>
                    <a:pt x="283" y="1104"/>
                  </a:lnTo>
                  <a:lnTo>
                    <a:pt x="290" y="1089"/>
                  </a:lnTo>
                  <a:lnTo>
                    <a:pt x="300" y="1073"/>
                  </a:lnTo>
                  <a:lnTo>
                    <a:pt x="305" y="1056"/>
                  </a:lnTo>
                  <a:lnTo>
                    <a:pt x="308" y="1039"/>
                  </a:lnTo>
                  <a:lnTo>
                    <a:pt x="301" y="1043"/>
                  </a:lnTo>
                  <a:lnTo>
                    <a:pt x="293" y="1049"/>
                  </a:lnTo>
                  <a:lnTo>
                    <a:pt x="285" y="1054"/>
                  </a:lnTo>
                  <a:lnTo>
                    <a:pt x="275" y="1061"/>
                  </a:lnTo>
                  <a:lnTo>
                    <a:pt x="266" y="1067"/>
                  </a:lnTo>
                  <a:lnTo>
                    <a:pt x="259" y="1073"/>
                  </a:lnTo>
                  <a:lnTo>
                    <a:pt x="254" y="1076"/>
                  </a:lnTo>
                  <a:lnTo>
                    <a:pt x="252" y="1079"/>
                  </a:lnTo>
                  <a:lnTo>
                    <a:pt x="237" y="1056"/>
                  </a:lnTo>
                  <a:lnTo>
                    <a:pt x="243" y="1051"/>
                  </a:lnTo>
                  <a:lnTo>
                    <a:pt x="249" y="1047"/>
                  </a:lnTo>
                  <a:lnTo>
                    <a:pt x="256" y="1043"/>
                  </a:lnTo>
                  <a:lnTo>
                    <a:pt x="263" y="1038"/>
                  </a:lnTo>
                  <a:lnTo>
                    <a:pt x="269" y="1034"/>
                  </a:lnTo>
                  <a:lnTo>
                    <a:pt x="276" y="1028"/>
                  </a:lnTo>
                  <a:lnTo>
                    <a:pt x="282" y="1023"/>
                  </a:lnTo>
                  <a:lnTo>
                    <a:pt x="288" y="1018"/>
                  </a:lnTo>
                  <a:lnTo>
                    <a:pt x="288" y="1014"/>
                  </a:lnTo>
                  <a:lnTo>
                    <a:pt x="273" y="986"/>
                  </a:lnTo>
                  <a:lnTo>
                    <a:pt x="267" y="985"/>
                  </a:lnTo>
                  <a:lnTo>
                    <a:pt x="260" y="983"/>
                  </a:lnTo>
                  <a:lnTo>
                    <a:pt x="252" y="981"/>
                  </a:lnTo>
                  <a:lnTo>
                    <a:pt x="244" y="980"/>
                  </a:lnTo>
                  <a:lnTo>
                    <a:pt x="235" y="980"/>
                  </a:lnTo>
                  <a:lnTo>
                    <a:pt x="227" y="979"/>
                  </a:lnTo>
                  <a:lnTo>
                    <a:pt x="220" y="979"/>
                  </a:lnTo>
                  <a:lnTo>
                    <a:pt x="214" y="980"/>
                  </a:lnTo>
                  <a:lnTo>
                    <a:pt x="213" y="956"/>
                  </a:lnTo>
                  <a:lnTo>
                    <a:pt x="217" y="957"/>
                  </a:lnTo>
                  <a:lnTo>
                    <a:pt x="225" y="956"/>
                  </a:lnTo>
                  <a:lnTo>
                    <a:pt x="235" y="954"/>
                  </a:lnTo>
                  <a:lnTo>
                    <a:pt x="244" y="950"/>
                  </a:lnTo>
                  <a:lnTo>
                    <a:pt x="253" y="947"/>
                  </a:lnTo>
                  <a:lnTo>
                    <a:pt x="261" y="942"/>
                  </a:lnTo>
                  <a:lnTo>
                    <a:pt x="267" y="939"/>
                  </a:lnTo>
                  <a:lnTo>
                    <a:pt x="269" y="935"/>
                  </a:lnTo>
                  <a:lnTo>
                    <a:pt x="210" y="937"/>
                  </a:lnTo>
                  <a:lnTo>
                    <a:pt x="210" y="948"/>
                  </a:lnTo>
                  <a:lnTo>
                    <a:pt x="178" y="957"/>
                  </a:lnTo>
                  <a:lnTo>
                    <a:pt x="152" y="956"/>
                  </a:lnTo>
                  <a:lnTo>
                    <a:pt x="145" y="964"/>
                  </a:lnTo>
                  <a:lnTo>
                    <a:pt x="135" y="970"/>
                  </a:lnTo>
                  <a:lnTo>
                    <a:pt x="125" y="973"/>
                  </a:lnTo>
                  <a:lnTo>
                    <a:pt x="120" y="974"/>
                  </a:lnTo>
                  <a:lnTo>
                    <a:pt x="122" y="1061"/>
                  </a:lnTo>
                  <a:lnTo>
                    <a:pt x="87" y="1065"/>
                  </a:lnTo>
                  <a:lnTo>
                    <a:pt x="87" y="1046"/>
                  </a:lnTo>
                  <a:lnTo>
                    <a:pt x="86" y="1007"/>
                  </a:lnTo>
                  <a:lnTo>
                    <a:pt x="85" y="965"/>
                  </a:lnTo>
                  <a:lnTo>
                    <a:pt x="86" y="946"/>
                  </a:lnTo>
                  <a:lnTo>
                    <a:pt x="96" y="940"/>
                  </a:lnTo>
                  <a:lnTo>
                    <a:pt x="103" y="933"/>
                  </a:lnTo>
                  <a:lnTo>
                    <a:pt x="108" y="923"/>
                  </a:lnTo>
                  <a:lnTo>
                    <a:pt x="108" y="913"/>
                  </a:lnTo>
                  <a:lnTo>
                    <a:pt x="109" y="847"/>
                  </a:lnTo>
                  <a:lnTo>
                    <a:pt x="111" y="699"/>
                  </a:lnTo>
                  <a:lnTo>
                    <a:pt x="111" y="545"/>
                  </a:lnTo>
                  <a:lnTo>
                    <a:pt x="108" y="461"/>
                  </a:lnTo>
                  <a:lnTo>
                    <a:pt x="162" y="457"/>
                  </a:lnTo>
                  <a:lnTo>
                    <a:pt x="159" y="493"/>
                  </a:lnTo>
                  <a:lnTo>
                    <a:pt x="160" y="540"/>
                  </a:lnTo>
                  <a:lnTo>
                    <a:pt x="163" y="582"/>
                  </a:lnTo>
                  <a:lnTo>
                    <a:pt x="164" y="599"/>
                  </a:lnTo>
                  <a:lnTo>
                    <a:pt x="173" y="600"/>
                  </a:lnTo>
                  <a:lnTo>
                    <a:pt x="184" y="600"/>
                  </a:lnTo>
                  <a:lnTo>
                    <a:pt x="193" y="600"/>
                  </a:lnTo>
                  <a:lnTo>
                    <a:pt x="202" y="600"/>
                  </a:lnTo>
                  <a:lnTo>
                    <a:pt x="212" y="599"/>
                  </a:lnTo>
                  <a:lnTo>
                    <a:pt x="221" y="599"/>
                  </a:lnTo>
                  <a:lnTo>
                    <a:pt x="231" y="599"/>
                  </a:lnTo>
                  <a:lnTo>
                    <a:pt x="241" y="599"/>
                  </a:lnTo>
                  <a:lnTo>
                    <a:pt x="241" y="457"/>
                  </a:lnTo>
                  <a:lnTo>
                    <a:pt x="304" y="457"/>
                  </a:lnTo>
                  <a:lnTo>
                    <a:pt x="307" y="484"/>
                  </a:lnTo>
                  <a:lnTo>
                    <a:pt x="305" y="512"/>
                  </a:lnTo>
                  <a:lnTo>
                    <a:pt x="305" y="540"/>
                  </a:lnTo>
                  <a:lnTo>
                    <a:pt x="307" y="566"/>
                  </a:lnTo>
                  <a:lnTo>
                    <a:pt x="309" y="563"/>
                  </a:lnTo>
                  <a:lnTo>
                    <a:pt x="314" y="556"/>
                  </a:lnTo>
                  <a:lnTo>
                    <a:pt x="319" y="547"/>
                  </a:lnTo>
                  <a:lnTo>
                    <a:pt x="327" y="537"/>
                  </a:lnTo>
                  <a:lnTo>
                    <a:pt x="336" y="526"/>
                  </a:lnTo>
                  <a:lnTo>
                    <a:pt x="345" y="517"/>
                  </a:lnTo>
                  <a:lnTo>
                    <a:pt x="355" y="511"/>
                  </a:lnTo>
                  <a:lnTo>
                    <a:pt x="366" y="5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8" name=""/>
          <p:cNvSpPr/>
          <p:nvPr/>
        </p:nvSpPr>
        <p:spPr>
          <a:xfrm flipH="1" rot="234600">
            <a:off x="2361240" y="4560480"/>
            <a:ext cx="685800" cy="433440"/>
          </a:xfrm>
          <a:custGeom>
            <a:avLst/>
            <a:gdLst/>
            <a:ahLst/>
            <a:rect l="l" t="t" r="r" b="b"/>
            <a:pathLst>
              <a:path w="2301" h="1182">
                <a:moveTo>
                  <a:pt x="366" y="509"/>
                </a:moveTo>
                <a:lnTo>
                  <a:pt x="366" y="495"/>
                </a:lnTo>
                <a:lnTo>
                  <a:pt x="368" y="481"/>
                </a:lnTo>
                <a:lnTo>
                  <a:pt x="373" y="468"/>
                </a:lnTo>
                <a:lnTo>
                  <a:pt x="380" y="457"/>
                </a:lnTo>
                <a:lnTo>
                  <a:pt x="445" y="466"/>
                </a:lnTo>
                <a:lnTo>
                  <a:pt x="446" y="479"/>
                </a:lnTo>
                <a:lnTo>
                  <a:pt x="446" y="496"/>
                </a:lnTo>
                <a:lnTo>
                  <a:pt x="450" y="510"/>
                </a:lnTo>
                <a:lnTo>
                  <a:pt x="462" y="513"/>
                </a:lnTo>
                <a:lnTo>
                  <a:pt x="462" y="508"/>
                </a:lnTo>
                <a:lnTo>
                  <a:pt x="462" y="502"/>
                </a:lnTo>
                <a:lnTo>
                  <a:pt x="462" y="496"/>
                </a:lnTo>
                <a:lnTo>
                  <a:pt x="458" y="491"/>
                </a:lnTo>
                <a:lnTo>
                  <a:pt x="461" y="487"/>
                </a:lnTo>
                <a:lnTo>
                  <a:pt x="464" y="482"/>
                </a:lnTo>
                <a:lnTo>
                  <a:pt x="468" y="480"/>
                </a:lnTo>
                <a:lnTo>
                  <a:pt x="472" y="477"/>
                </a:lnTo>
                <a:lnTo>
                  <a:pt x="475" y="468"/>
                </a:lnTo>
                <a:lnTo>
                  <a:pt x="477" y="458"/>
                </a:lnTo>
                <a:lnTo>
                  <a:pt x="476" y="447"/>
                </a:lnTo>
                <a:lnTo>
                  <a:pt x="474" y="437"/>
                </a:lnTo>
                <a:lnTo>
                  <a:pt x="471" y="436"/>
                </a:lnTo>
                <a:lnTo>
                  <a:pt x="470" y="436"/>
                </a:lnTo>
                <a:lnTo>
                  <a:pt x="469" y="436"/>
                </a:lnTo>
                <a:lnTo>
                  <a:pt x="470" y="436"/>
                </a:lnTo>
                <a:lnTo>
                  <a:pt x="453" y="435"/>
                </a:lnTo>
                <a:lnTo>
                  <a:pt x="448" y="442"/>
                </a:lnTo>
                <a:lnTo>
                  <a:pt x="448" y="454"/>
                </a:lnTo>
                <a:lnTo>
                  <a:pt x="445" y="466"/>
                </a:lnTo>
                <a:lnTo>
                  <a:pt x="380" y="457"/>
                </a:lnTo>
                <a:lnTo>
                  <a:pt x="304" y="457"/>
                </a:lnTo>
                <a:lnTo>
                  <a:pt x="241" y="457"/>
                </a:lnTo>
                <a:lnTo>
                  <a:pt x="237" y="458"/>
                </a:lnTo>
                <a:lnTo>
                  <a:pt x="228" y="458"/>
                </a:lnTo>
                <a:lnTo>
                  <a:pt x="215" y="458"/>
                </a:lnTo>
                <a:lnTo>
                  <a:pt x="201" y="458"/>
                </a:lnTo>
                <a:lnTo>
                  <a:pt x="187" y="458"/>
                </a:lnTo>
                <a:lnTo>
                  <a:pt x="174" y="457"/>
                </a:lnTo>
                <a:lnTo>
                  <a:pt x="165" y="457"/>
                </a:lnTo>
                <a:lnTo>
                  <a:pt x="162" y="457"/>
                </a:lnTo>
                <a:lnTo>
                  <a:pt x="108" y="461"/>
                </a:lnTo>
                <a:lnTo>
                  <a:pt x="103" y="459"/>
                </a:lnTo>
                <a:lnTo>
                  <a:pt x="99" y="457"/>
                </a:lnTo>
                <a:lnTo>
                  <a:pt x="96" y="452"/>
                </a:lnTo>
                <a:lnTo>
                  <a:pt x="97" y="446"/>
                </a:lnTo>
                <a:lnTo>
                  <a:pt x="91" y="447"/>
                </a:lnTo>
                <a:lnTo>
                  <a:pt x="86" y="450"/>
                </a:lnTo>
                <a:lnTo>
                  <a:pt x="80" y="451"/>
                </a:lnTo>
                <a:lnTo>
                  <a:pt x="74" y="447"/>
                </a:lnTo>
                <a:lnTo>
                  <a:pt x="71" y="439"/>
                </a:lnTo>
                <a:lnTo>
                  <a:pt x="67" y="431"/>
                </a:lnTo>
                <a:lnTo>
                  <a:pt x="61" y="426"/>
                </a:lnTo>
                <a:lnTo>
                  <a:pt x="53" y="429"/>
                </a:lnTo>
                <a:lnTo>
                  <a:pt x="45" y="420"/>
                </a:lnTo>
                <a:lnTo>
                  <a:pt x="35" y="410"/>
                </a:lnTo>
                <a:lnTo>
                  <a:pt x="27" y="400"/>
                </a:lnTo>
                <a:lnTo>
                  <a:pt x="24" y="387"/>
                </a:lnTo>
                <a:lnTo>
                  <a:pt x="16" y="380"/>
                </a:lnTo>
                <a:lnTo>
                  <a:pt x="7" y="372"/>
                </a:lnTo>
                <a:lnTo>
                  <a:pt x="2" y="363"/>
                </a:lnTo>
                <a:lnTo>
                  <a:pt x="0" y="350"/>
                </a:lnTo>
                <a:lnTo>
                  <a:pt x="3" y="342"/>
                </a:lnTo>
                <a:lnTo>
                  <a:pt x="468" y="344"/>
                </a:lnTo>
                <a:lnTo>
                  <a:pt x="468" y="352"/>
                </a:lnTo>
                <a:lnTo>
                  <a:pt x="467" y="360"/>
                </a:lnTo>
                <a:lnTo>
                  <a:pt x="463" y="367"/>
                </a:lnTo>
                <a:lnTo>
                  <a:pt x="457" y="373"/>
                </a:lnTo>
                <a:lnTo>
                  <a:pt x="462" y="376"/>
                </a:lnTo>
                <a:lnTo>
                  <a:pt x="467" y="379"/>
                </a:lnTo>
                <a:lnTo>
                  <a:pt x="472" y="380"/>
                </a:lnTo>
                <a:lnTo>
                  <a:pt x="478" y="380"/>
                </a:lnTo>
                <a:lnTo>
                  <a:pt x="476" y="376"/>
                </a:lnTo>
                <a:lnTo>
                  <a:pt x="474" y="371"/>
                </a:lnTo>
                <a:lnTo>
                  <a:pt x="471" y="366"/>
                </a:lnTo>
                <a:lnTo>
                  <a:pt x="472" y="360"/>
                </a:lnTo>
                <a:lnTo>
                  <a:pt x="481" y="358"/>
                </a:lnTo>
                <a:lnTo>
                  <a:pt x="487" y="355"/>
                </a:lnTo>
                <a:lnTo>
                  <a:pt x="494" y="349"/>
                </a:lnTo>
                <a:lnTo>
                  <a:pt x="500" y="343"/>
                </a:lnTo>
                <a:lnTo>
                  <a:pt x="505" y="338"/>
                </a:lnTo>
                <a:lnTo>
                  <a:pt x="511" y="333"/>
                </a:lnTo>
                <a:lnTo>
                  <a:pt x="518" y="329"/>
                </a:lnTo>
                <a:lnTo>
                  <a:pt x="525" y="327"/>
                </a:lnTo>
                <a:lnTo>
                  <a:pt x="536" y="318"/>
                </a:lnTo>
                <a:lnTo>
                  <a:pt x="528" y="315"/>
                </a:lnTo>
                <a:lnTo>
                  <a:pt x="516" y="315"/>
                </a:lnTo>
                <a:lnTo>
                  <a:pt x="507" y="313"/>
                </a:lnTo>
                <a:lnTo>
                  <a:pt x="504" y="303"/>
                </a:lnTo>
                <a:lnTo>
                  <a:pt x="503" y="303"/>
                </a:lnTo>
                <a:lnTo>
                  <a:pt x="503" y="298"/>
                </a:lnTo>
                <a:lnTo>
                  <a:pt x="504" y="298"/>
                </a:lnTo>
                <a:lnTo>
                  <a:pt x="504" y="299"/>
                </a:lnTo>
                <a:lnTo>
                  <a:pt x="507" y="293"/>
                </a:lnTo>
                <a:lnTo>
                  <a:pt x="512" y="291"/>
                </a:lnTo>
                <a:lnTo>
                  <a:pt x="518" y="291"/>
                </a:lnTo>
                <a:lnTo>
                  <a:pt x="525" y="291"/>
                </a:lnTo>
                <a:lnTo>
                  <a:pt x="530" y="292"/>
                </a:lnTo>
                <a:lnTo>
                  <a:pt x="536" y="292"/>
                </a:lnTo>
                <a:lnTo>
                  <a:pt x="541" y="290"/>
                </a:lnTo>
                <a:lnTo>
                  <a:pt x="544" y="286"/>
                </a:lnTo>
                <a:lnTo>
                  <a:pt x="536" y="284"/>
                </a:lnTo>
                <a:lnTo>
                  <a:pt x="528" y="285"/>
                </a:lnTo>
                <a:lnTo>
                  <a:pt x="520" y="285"/>
                </a:lnTo>
                <a:lnTo>
                  <a:pt x="512" y="284"/>
                </a:lnTo>
                <a:lnTo>
                  <a:pt x="498" y="284"/>
                </a:lnTo>
                <a:lnTo>
                  <a:pt x="485" y="283"/>
                </a:lnTo>
                <a:lnTo>
                  <a:pt x="472" y="284"/>
                </a:lnTo>
                <a:lnTo>
                  <a:pt x="460" y="284"/>
                </a:lnTo>
                <a:lnTo>
                  <a:pt x="447" y="284"/>
                </a:lnTo>
                <a:lnTo>
                  <a:pt x="435" y="284"/>
                </a:lnTo>
                <a:lnTo>
                  <a:pt x="423" y="283"/>
                </a:lnTo>
                <a:lnTo>
                  <a:pt x="411" y="282"/>
                </a:lnTo>
                <a:lnTo>
                  <a:pt x="410" y="277"/>
                </a:lnTo>
                <a:lnTo>
                  <a:pt x="409" y="274"/>
                </a:lnTo>
                <a:lnTo>
                  <a:pt x="407" y="270"/>
                </a:lnTo>
                <a:lnTo>
                  <a:pt x="411" y="267"/>
                </a:lnTo>
                <a:lnTo>
                  <a:pt x="433" y="265"/>
                </a:lnTo>
                <a:lnTo>
                  <a:pt x="455" y="265"/>
                </a:lnTo>
                <a:lnTo>
                  <a:pt x="477" y="265"/>
                </a:lnTo>
                <a:lnTo>
                  <a:pt x="498" y="265"/>
                </a:lnTo>
                <a:lnTo>
                  <a:pt x="518" y="265"/>
                </a:lnTo>
                <a:lnTo>
                  <a:pt x="539" y="265"/>
                </a:lnTo>
                <a:lnTo>
                  <a:pt x="561" y="265"/>
                </a:lnTo>
                <a:lnTo>
                  <a:pt x="581" y="264"/>
                </a:lnTo>
                <a:lnTo>
                  <a:pt x="585" y="267"/>
                </a:lnTo>
                <a:lnTo>
                  <a:pt x="588" y="267"/>
                </a:lnTo>
                <a:lnTo>
                  <a:pt x="591" y="267"/>
                </a:lnTo>
                <a:lnTo>
                  <a:pt x="593" y="269"/>
                </a:lnTo>
                <a:lnTo>
                  <a:pt x="594" y="275"/>
                </a:lnTo>
                <a:lnTo>
                  <a:pt x="592" y="281"/>
                </a:lnTo>
                <a:lnTo>
                  <a:pt x="590" y="284"/>
                </a:lnTo>
                <a:lnTo>
                  <a:pt x="587" y="289"/>
                </a:lnTo>
                <a:lnTo>
                  <a:pt x="593" y="291"/>
                </a:lnTo>
                <a:lnTo>
                  <a:pt x="598" y="292"/>
                </a:lnTo>
                <a:lnTo>
                  <a:pt x="603" y="292"/>
                </a:lnTo>
                <a:lnTo>
                  <a:pt x="609" y="292"/>
                </a:lnTo>
                <a:lnTo>
                  <a:pt x="615" y="292"/>
                </a:lnTo>
                <a:lnTo>
                  <a:pt x="620" y="293"/>
                </a:lnTo>
                <a:lnTo>
                  <a:pt x="624" y="296"/>
                </a:lnTo>
                <a:lnTo>
                  <a:pt x="628" y="300"/>
                </a:lnTo>
                <a:lnTo>
                  <a:pt x="629" y="308"/>
                </a:lnTo>
                <a:lnTo>
                  <a:pt x="624" y="313"/>
                </a:lnTo>
                <a:lnTo>
                  <a:pt x="617" y="315"/>
                </a:lnTo>
                <a:lnTo>
                  <a:pt x="610" y="315"/>
                </a:lnTo>
                <a:lnTo>
                  <a:pt x="607" y="314"/>
                </a:lnTo>
                <a:lnTo>
                  <a:pt x="603" y="313"/>
                </a:lnTo>
                <a:lnTo>
                  <a:pt x="599" y="314"/>
                </a:lnTo>
                <a:lnTo>
                  <a:pt x="595" y="315"/>
                </a:lnTo>
                <a:lnTo>
                  <a:pt x="602" y="318"/>
                </a:lnTo>
                <a:lnTo>
                  <a:pt x="608" y="320"/>
                </a:lnTo>
                <a:lnTo>
                  <a:pt x="614" y="322"/>
                </a:lnTo>
                <a:lnTo>
                  <a:pt x="621" y="323"/>
                </a:lnTo>
                <a:lnTo>
                  <a:pt x="627" y="326"/>
                </a:lnTo>
                <a:lnTo>
                  <a:pt x="632" y="329"/>
                </a:lnTo>
                <a:lnTo>
                  <a:pt x="637" y="333"/>
                </a:lnTo>
                <a:lnTo>
                  <a:pt x="643" y="336"/>
                </a:lnTo>
                <a:lnTo>
                  <a:pt x="649" y="342"/>
                </a:lnTo>
                <a:lnTo>
                  <a:pt x="654" y="348"/>
                </a:lnTo>
                <a:lnTo>
                  <a:pt x="661" y="354"/>
                </a:lnTo>
                <a:lnTo>
                  <a:pt x="667" y="358"/>
                </a:lnTo>
                <a:lnTo>
                  <a:pt x="675" y="380"/>
                </a:lnTo>
                <a:lnTo>
                  <a:pt x="672" y="384"/>
                </a:lnTo>
                <a:lnTo>
                  <a:pt x="666" y="388"/>
                </a:lnTo>
                <a:lnTo>
                  <a:pt x="660" y="391"/>
                </a:lnTo>
                <a:lnTo>
                  <a:pt x="656" y="393"/>
                </a:lnTo>
                <a:lnTo>
                  <a:pt x="653" y="395"/>
                </a:lnTo>
                <a:lnTo>
                  <a:pt x="652" y="399"/>
                </a:lnTo>
                <a:lnTo>
                  <a:pt x="653" y="403"/>
                </a:lnTo>
                <a:lnTo>
                  <a:pt x="656" y="406"/>
                </a:lnTo>
                <a:lnTo>
                  <a:pt x="653" y="417"/>
                </a:lnTo>
                <a:lnTo>
                  <a:pt x="651" y="430"/>
                </a:lnTo>
                <a:lnTo>
                  <a:pt x="650" y="443"/>
                </a:lnTo>
                <a:lnTo>
                  <a:pt x="651" y="453"/>
                </a:lnTo>
                <a:lnTo>
                  <a:pt x="651" y="465"/>
                </a:lnTo>
                <a:lnTo>
                  <a:pt x="657" y="473"/>
                </a:lnTo>
                <a:lnTo>
                  <a:pt x="665" y="479"/>
                </a:lnTo>
                <a:lnTo>
                  <a:pt x="675" y="482"/>
                </a:lnTo>
                <a:lnTo>
                  <a:pt x="676" y="488"/>
                </a:lnTo>
                <a:lnTo>
                  <a:pt x="675" y="494"/>
                </a:lnTo>
                <a:lnTo>
                  <a:pt x="673" y="498"/>
                </a:lnTo>
                <a:lnTo>
                  <a:pt x="670" y="502"/>
                </a:lnTo>
                <a:lnTo>
                  <a:pt x="672" y="502"/>
                </a:lnTo>
                <a:lnTo>
                  <a:pt x="671" y="509"/>
                </a:lnTo>
                <a:lnTo>
                  <a:pt x="682" y="515"/>
                </a:lnTo>
                <a:lnTo>
                  <a:pt x="693" y="519"/>
                </a:lnTo>
                <a:lnTo>
                  <a:pt x="704" y="524"/>
                </a:lnTo>
                <a:lnTo>
                  <a:pt x="716" y="527"/>
                </a:lnTo>
                <a:lnTo>
                  <a:pt x="728" y="531"/>
                </a:lnTo>
                <a:lnTo>
                  <a:pt x="739" y="534"/>
                </a:lnTo>
                <a:lnTo>
                  <a:pt x="751" y="538"/>
                </a:lnTo>
                <a:lnTo>
                  <a:pt x="762" y="542"/>
                </a:lnTo>
                <a:lnTo>
                  <a:pt x="775" y="549"/>
                </a:lnTo>
                <a:lnTo>
                  <a:pt x="789" y="553"/>
                </a:lnTo>
                <a:lnTo>
                  <a:pt x="803" y="555"/>
                </a:lnTo>
                <a:lnTo>
                  <a:pt x="818" y="555"/>
                </a:lnTo>
                <a:lnTo>
                  <a:pt x="833" y="555"/>
                </a:lnTo>
                <a:lnTo>
                  <a:pt x="848" y="554"/>
                </a:lnTo>
                <a:lnTo>
                  <a:pt x="863" y="554"/>
                </a:lnTo>
                <a:lnTo>
                  <a:pt x="878" y="554"/>
                </a:lnTo>
                <a:lnTo>
                  <a:pt x="881" y="550"/>
                </a:lnTo>
                <a:lnTo>
                  <a:pt x="875" y="547"/>
                </a:lnTo>
                <a:lnTo>
                  <a:pt x="868" y="546"/>
                </a:lnTo>
                <a:lnTo>
                  <a:pt x="860" y="546"/>
                </a:lnTo>
                <a:lnTo>
                  <a:pt x="852" y="547"/>
                </a:lnTo>
                <a:lnTo>
                  <a:pt x="846" y="539"/>
                </a:lnTo>
                <a:lnTo>
                  <a:pt x="847" y="528"/>
                </a:lnTo>
                <a:lnTo>
                  <a:pt x="850" y="517"/>
                </a:lnTo>
                <a:lnTo>
                  <a:pt x="850" y="506"/>
                </a:lnTo>
                <a:lnTo>
                  <a:pt x="852" y="493"/>
                </a:lnTo>
                <a:lnTo>
                  <a:pt x="853" y="460"/>
                </a:lnTo>
                <a:lnTo>
                  <a:pt x="852" y="425"/>
                </a:lnTo>
                <a:lnTo>
                  <a:pt x="846" y="403"/>
                </a:lnTo>
                <a:lnTo>
                  <a:pt x="846" y="399"/>
                </a:lnTo>
                <a:lnTo>
                  <a:pt x="847" y="394"/>
                </a:lnTo>
                <a:lnTo>
                  <a:pt x="848" y="388"/>
                </a:lnTo>
                <a:lnTo>
                  <a:pt x="850" y="385"/>
                </a:lnTo>
                <a:lnTo>
                  <a:pt x="857" y="384"/>
                </a:lnTo>
                <a:lnTo>
                  <a:pt x="864" y="384"/>
                </a:lnTo>
                <a:lnTo>
                  <a:pt x="871" y="384"/>
                </a:lnTo>
                <a:lnTo>
                  <a:pt x="878" y="384"/>
                </a:lnTo>
                <a:lnTo>
                  <a:pt x="884" y="384"/>
                </a:lnTo>
                <a:lnTo>
                  <a:pt x="891" y="384"/>
                </a:lnTo>
                <a:lnTo>
                  <a:pt x="898" y="384"/>
                </a:lnTo>
                <a:lnTo>
                  <a:pt x="905" y="382"/>
                </a:lnTo>
                <a:lnTo>
                  <a:pt x="918" y="365"/>
                </a:lnTo>
                <a:lnTo>
                  <a:pt x="921" y="363"/>
                </a:lnTo>
                <a:lnTo>
                  <a:pt x="925" y="360"/>
                </a:lnTo>
                <a:lnTo>
                  <a:pt x="927" y="357"/>
                </a:lnTo>
                <a:lnTo>
                  <a:pt x="928" y="354"/>
                </a:lnTo>
                <a:lnTo>
                  <a:pt x="922" y="352"/>
                </a:lnTo>
                <a:lnTo>
                  <a:pt x="917" y="354"/>
                </a:lnTo>
                <a:lnTo>
                  <a:pt x="911" y="354"/>
                </a:lnTo>
                <a:lnTo>
                  <a:pt x="906" y="355"/>
                </a:lnTo>
                <a:lnTo>
                  <a:pt x="900" y="355"/>
                </a:lnTo>
                <a:lnTo>
                  <a:pt x="897" y="354"/>
                </a:lnTo>
                <a:lnTo>
                  <a:pt x="893" y="350"/>
                </a:lnTo>
                <a:lnTo>
                  <a:pt x="890" y="345"/>
                </a:lnTo>
                <a:lnTo>
                  <a:pt x="893" y="336"/>
                </a:lnTo>
                <a:lnTo>
                  <a:pt x="900" y="328"/>
                </a:lnTo>
                <a:lnTo>
                  <a:pt x="906" y="320"/>
                </a:lnTo>
                <a:lnTo>
                  <a:pt x="905" y="308"/>
                </a:lnTo>
                <a:lnTo>
                  <a:pt x="906" y="308"/>
                </a:lnTo>
                <a:lnTo>
                  <a:pt x="908" y="294"/>
                </a:lnTo>
                <a:lnTo>
                  <a:pt x="912" y="279"/>
                </a:lnTo>
                <a:lnTo>
                  <a:pt x="918" y="267"/>
                </a:lnTo>
                <a:lnTo>
                  <a:pt x="927" y="257"/>
                </a:lnTo>
                <a:lnTo>
                  <a:pt x="923" y="254"/>
                </a:lnTo>
                <a:lnTo>
                  <a:pt x="918" y="259"/>
                </a:lnTo>
                <a:lnTo>
                  <a:pt x="913" y="262"/>
                </a:lnTo>
                <a:lnTo>
                  <a:pt x="908" y="265"/>
                </a:lnTo>
                <a:lnTo>
                  <a:pt x="904" y="269"/>
                </a:lnTo>
                <a:lnTo>
                  <a:pt x="899" y="272"/>
                </a:lnTo>
                <a:lnTo>
                  <a:pt x="896" y="276"/>
                </a:lnTo>
                <a:lnTo>
                  <a:pt x="891" y="279"/>
                </a:lnTo>
                <a:lnTo>
                  <a:pt x="885" y="284"/>
                </a:lnTo>
                <a:lnTo>
                  <a:pt x="872" y="292"/>
                </a:lnTo>
                <a:lnTo>
                  <a:pt x="860" y="300"/>
                </a:lnTo>
                <a:lnTo>
                  <a:pt x="848" y="308"/>
                </a:lnTo>
                <a:lnTo>
                  <a:pt x="837" y="316"/>
                </a:lnTo>
                <a:lnTo>
                  <a:pt x="825" y="325"/>
                </a:lnTo>
                <a:lnTo>
                  <a:pt x="813" y="333"/>
                </a:lnTo>
                <a:lnTo>
                  <a:pt x="801" y="341"/>
                </a:lnTo>
                <a:lnTo>
                  <a:pt x="788" y="349"/>
                </a:lnTo>
                <a:lnTo>
                  <a:pt x="774" y="354"/>
                </a:lnTo>
                <a:lnTo>
                  <a:pt x="761" y="358"/>
                </a:lnTo>
                <a:lnTo>
                  <a:pt x="747" y="364"/>
                </a:lnTo>
                <a:lnTo>
                  <a:pt x="733" y="370"/>
                </a:lnTo>
                <a:lnTo>
                  <a:pt x="721" y="374"/>
                </a:lnTo>
                <a:lnTo>
                  <a:pt x="705" y="378"/>
                </a:lnTo>
                <a:lnTo>
                  <a:pt x="690" y="380"/>
                </a:lnTo>
                <a:lnTo>
                  <a:pt x="675" y="380"/>
                </a:lnTo>
                <a:lnTo>
                  <a:pt x="667" y="358"/>
                </a:lnTo>
                <a:lnTo>
                  <a:pt x="678" y="358"/>
                </a:lnTo>
                <a:lnTo>
                  <a:pt x="689" y="357"/>
                </a:lnTo>
                <a:lnTo>
                  <a:pt x="700" y="356"/>
                </a:lnTo>
                <a:lnTo>
                  <a:pt x="711" y="355"/>
                </a:lnTo>
                <a:lnTo>
                  <a:pt x="722" y="352"/>
                </a:lnTo>
                <a:lnTo>
                  <a:pt x="732" y="349"/>
                </a:lnTo>
                <a:lnTo>
                  <a:pt x="741" y="345"/>
                </a:lnTo>
                <a:lnTo>
                  <a:pt x="751" y="341"/>
                </a:lnTo>
                <a:lnTo>
                  <a:pt x="774" y="333"/>
                </a:lnTo>
                <a:lnTo>
                  <a:pt x="796" y="322"/>
                </a:lnTo>
                <a:lnTo>
                  <a:pt x="816" y="311"/>
                </a:lnTo>
                <a:lnTo>
                  <a:pt x="835" y="297"/>
                </a:lnTo>
                <a:lnTo>
                  <a:pt x="853" y="283"/>
                </a:lnTo>
                <a:lnTo>
                  <a:pt x="871" y="268"/>
                </a:lnTo>
                <a:lnTo>
                  <a:pt x="890" y="254"/>
                </a:lnTo>
                <a:lnTo>
                  <a:pt x="910" y="240"/>
                </a:lnTo>
                <a:lnTo>
                  <a:pt x="915" y="234"/>
                </a:lnTo>
                <a:lnTo>
                  <a:pt x="921" y="226"/>
                </a:lnTo>
                <a:lnTo>
                  <a:pt x="927" y="219"/>
                </a:lnTo>
                <a:lnTo>
                  <a:pt x="935" y="213"/>
                </a:lnTo>
                <a:lnTo>
                  <a:pt x="941" y="213"/>
                </a:lnTo>
                <a:lnTo>
                  <a:pt x="947" y="213"/>
                </a:lnTo>
                <a:lnTo>
                  <a:pt x="952" y="216"/>
                </a:lnTo>
                <a:lnTo>
                  <a:pt x="955" y="221"/>
                </a:lnTo>
                <a:lnTo>
                  <a:pt x="955" y="227"/>
                </a:lnTo>
                <a:lnTo>
                  <a:pt x="955" y="233"/>
                </a:lnTo>
                <a:lnTo>
                  <a:pt x="956" y="239"/>
                </a:lnTo>
                <a:lnTo>
                  <a:pt x="961" y="242"/>
                </a:lnTo>
                <a:lnTo>
                  <a:pt x="964" y="250"/>
                </a:lnTo>
                <a:lnTo>
                  <a:pt x="969" y="259"/>
                </a:lnTo>
                <a:lnTo>
                  <a:pt x="976" y="265"/>
                </a:lnTo>
                <a:lnTo>
                  <a:pt x="983" y="272"/>
                </a:lnTo>
                <a:lnTo>
                  <a:pt x="987" y="291"/>
                </a:lnTo>
                <a:lnTo>
                  <a:pt x="988" y="311"/>
                </a:lnTo>
                <a:lnTo>
                  <a:pt x="992" y="327"/>
                </a:lnTo>
                <a:lnTo>
                  <a:pt x="1006" y="340"/>
                </a:lnTo>
                <a:lnTo>
                  <a:pt x="1007" y="342"/>
                </a:lnTo>
                <a:lnTo>
                  <a:pt x="1006" y="344"/>
                </a:lnTo>
                <a:lnTo>
                  <a:pt x="1005" y="347"/>
                </a:lnTo>
                <a:lnTo>
                  <a:pt x="1003" y="350"/>
                </a:lnTo>
                <a:lnTo>
                  <a:pt x="957" y="352"/>
                </a:lnTo>
                <a:lnTo>
                  <a:pt x="961" y="359"/>
                </a:lnTo>
                <a:lnTo>
                  <a:pt x="970" y="365"/>
                </a:lnTo>
                <a:lnTo>
                  <a:pt x="979" y="371"/>
                </a:lnTo>
                <a:lnTo>
                  <a:pt x="983" y="380"/>
                </a:lnTo>
                <a:lnTo>
                  <a:pt x="987" y="379"/>
                </a:lnTo>
                <a:lnTo>
                  <a:pt x="988" y="379"/>
                </a:lnTo>
                <a:lnTo>
                  <a:pt x="993" y="380"/>
                </a:lnTo>
                <a:lnTo>
                  <a:pt x="1000" y="381"/>
                </a:lnTo>
                <a:lnTo>
                  <a:pt x="1008" y="382"/>
                </a:lnTo>
                <a:lnTo>
                  <a:pt x="1016" y="384"/>
                </a:lnTo>
                <a:lnTo>
                  <a:pt x="1026" y="385"/>
                </a:lnTo>
                <a:lnTo>
                  <a:pt x="1034" y="385"/>
                </a:lnTo>
                <a:lnTo>
                  <a:pt x="1042" y="384"/>
                </a:lnTo>
                <a:lnTo>
                  <a:pt x="1046" y="387"/>
                </a:lnTo>
                <a:lnTo>
                  <a:pt x="1049" y="391"/>
                </a:lnTo>
                <a:lnTo>
                  <a:pt x="1050" y="396"/>
                </a:lnTo>
                <a:lnTo>
                  <a:pt x="1050" y="402"/>
                </a:lnTo>
                <a:lnTo>
                  <a:pt x="1043" y="413"/>
                </a:lnTo>
                <a:lnTo>
                  <a:pt x="1041" y="426"/>
                </a:lnTo>
                <a:lnTo>
                  <a:pt x="1041" y="443"/>
                </a:lnTo>
                <a:lnTo>
                  <a:pt x="1039" y="457"/>
                </a:lnTo>
                <a:lnTo>
                  <a:pt x="1041" y="467"/>
                </a:lnTo>
                <a:lnTo>
                  <a:pt x="1039" y="476"/>
                </a:lnTo>
                <a:lnTo>
                  <a:pt x="1038" y="486"/>
                </a:lnTo>
                <a:lnTo>
                  <a:pt x="1039" y="497"/>
                </a:lnTo>
                <a:lnTo>
                  <a:pt x="1042" y="541"/>
                </a:lnTo>
                <a:lnTo>
                  <a:pt x="1038" y="545"/>
                </a:lnTo>
                <a:lnTo>
                  <a:pt x="1034" y="545"/>
                </a:lnTo>
                <a:lnTo>
                  <a:pt x="1029" y="544"/>
                </a:lnTo>
                <a:lnTo>
                  <a:pt x="1024" y="545"/>
                </a:lnTo>
                <a:lnTo>
                  <a:pt x="1019" y="545"/>
                </a:lnTo>
                <a:lnTo>
                  <a:pt x="1013" y="544"/>
                </a:lnTo>
                <a:lnTo>
                  <a:pt x="1007" y="545"/>
                </a:lnTo>
                <a:lnTo>
                  <a:pt x="1003" y="548"/>
                </a:lnTo>
                <a:lnTo>
                  <a:pt x="1007" y="552"/>
                </a:lnTo>
                <a:lnTo>
                  <a:pt x="1012" y="554"/>
                </a:lnTo>
                <a:lnTo>
                  <a:pt x="1016" y="554"/>
                </a:lnTo>
                <a:lnTo>
                  <a:pt x="1022" y="553"/>
                </a:lnTo>
                <a:lnTo>
                  <a:pt x="1028" y="553"/>
                </a:lnTo>
                <a:lnTo>
                  <a:pt x="1034" y="553"/>
                </a:lnTo>
                <a:lnTo>
                  <a:pt x="1038" y="553"/>
                </a:lnTo>
                <a:lnTo>
                  <a:pt x="1043" y="555"/>
                </a:lnTo>
                <a:lnTo>
                  <a:pt x="1050" y="554"/>
                </a:lnTo>
                <a:lnTo>
                  <a:pt x="1057" y="553"/>
                </a:lnTo>
                <a:lnTo>
                  <a:pt x="1060" y="549"/>
                </a:lnTo>
                <a:lnTo>
                  <a:pt x="1059" y="542"/>
                </a:lnTo>
                <a:lnTo>
                  <a:pt x="1060" y="534"/>
                </a:lnTo>
                <a:lnTo>
                  <a:pt x="1060" y="525"/>
                </a:lnTo>
                <a:lnTo>
                  <a:pt x="1060" y="517"/>
                </a:lnTo>
                <a:lnTo>
                  <a:pt x="1063" y="510"/>
                </a:lnTo>
                <a:lnTo>
                  <a:pt x="1063" y="489"/>
                </a:lnTo>
                <a:lnTo>
                  <a:pt x="1064" y="489"/>
                </a:lnTo>
                <a:lnTo>
                  <a:pt x="1066" y="467"/>
                </a:lnTo>
                <a:lnTo>
                  <a:pt x="1067" y="443"/>
                </a:lnTo>
                <a:lnTo>
                  <a:pt x="1070" y="420"/>
                </a:lnTo>
                <a:lnTo>
                  <a:pt x="1072" y="395"/>
                </a:lnTo>
                <a:lnTo>
                  <a:pt x="1077" y="372"/>
                </a:lnTo>
                <a:lnTo>
                  <a:pt x="1085" y="351"/>
                </a:lnTo>
                <a:lnTo>
                  <a:pt x="1095" y="333"/>
                </a:lnTo>
                <a:lnTo>
                  <a:pt x="1111" y="318"/>
                </a:lnTo>
                <a:lnTo>
                  <a:pt x="1118" y="312"/>
                </a:lnTo>
                <a:lnTo>
                  <a:pt x="1125" y="307"/>
                </a:lnTo>
                <a:lnTo>
                  <a:pt x="1132" y="301"/>
                </a:lnTo>
                <a:lnTo>
                  <a:pt x="1139" y="297"/>
                </a:lnTo>
                <a:lnTo>
                  <a:pt x="1146" y="292"/>
                </a:lnTo>
                <a:lnTo>
                  <a:pt x="1154" y="287"/>
                </a:lnTo>
                <a:lnTo>
                  <a:pt x="1163" y="285"/>
                </a:lnTo>
                <a:lnTo>
                  <a:pt x="1174" y="283"/>
                </a:lnTo>
                <a:lnTo>
                  <a:pt x="1158" y="311"/>
                </a:lnTo>
                <a:lnTo>
                  <a:pt x="1148" y="314"/>
                </a:lnTo>
                <a:lnTo>
                  <a:pt x="1140" y="319"/>
                </a:lnTo>
                <a:lnTo>
                  <a:pt x="1132" y="325"/>
                </a:lnTo>
                <a:lnTo>
                  <a:pt x="1126" y="330"/>
                </a:lnTo>
                <a:lnTo>
                  <a:pt x="1119" y="338"/>
                </a:lnTo>
                <a:lnTo>
                  <a:pt x="1115" y="345"/>
                </a:lnTo>
                <a:lnTo>
                  <a:pt x="1109" y="354"/>
                </a:lnTo>
                <a:lnTo>
                  <a:pt x="1104" y="360"/>
                </a:lnTo>
                <a:lnTo>
                  <a:pt x="1096" y="394"/>
                </a:lnTo>
                <a:lnTo>
                  <a:pt x="1092" y="429"/>
                </a:lnTo>
                <a:lnTo>
                  <a:pt x="1088" y="465"/>
                </a:lnTo>
                <a:lnTo>
                  <a:pt x="1086" y="499"/>
                </a:lnTo>
                <a:lnTo>
                  <a:pt x="1086" y="513"/>
                </a:lnTo>
                <a:lnTo>
                  <a:pt x="1086" y="528"/>
                </a:lnTo>
                <a:lnTo>
                  <a:pt x="1088" y="541"/>
                </a:lnTo>
                <a:lnTo>
                  <a:pt x="1095" y="550"/>
                </a:lnTo>
                <a:lnTo>
                  <a:pt x="1099" y="532"/>
                </a:lnTo>
                <a:lnTo>
                  <a:pt x="1107" y="517"/>
                </a:lnTo>
                <a:lnTo>
                  <a:pt x="1114" y="501"/>
                </a:lnTo>
                <a:lnTo>
                  <a:pt x="1116" y="481"/>
                </a:lnTo>
                <a:lnTo>
                  <a:pt x="1114" y="465"/>
                </a:lnTo>
                <a:lnTo>
                  <a:pt x="1115" y="447"/>
                </a:lnTo>
                <a:lnTo>
                  <a:pt x="1114" y="431"/>
                </a:lnTo>
                <a:lnTo>
                  <a:pt x="1104" y="418"/>
                </a:lnTo>
                <a:lnTo>
                  <a:pt x="1102" y="409"/>
                </a:lnTo>
                <a:lnTo>
                  <a:pt x="1103" y="402"/>
                </a:lnTo>
                <a:lnTo>
                  <a:pt x="1108" y="398"/>
                </a:lnTo>
                <a:lnTo>
                  <a:pt x="1114" y="394"/>
                </a:lnTo>
                <a:lnTo>
                  <a:pt x="1121" y="391"/>
                </a:lnTo>
                <a:lnTo>
                  <a:pt x="1128" y="387"/>
                </a:lnTo>
                <a:lnTo>
                  <a:pt x="1133" y="381"/>
                </a:lnTo>
                <a:lnTo>
                  <a:pt x="1137" y="376"/>
                </a:lnTo>
                <a:lnTo>
                  <a:pt x="1144" y="370"/>
                </a:lnTo>
                <a:lnTo>
                  <a:pt x="1152" y="365"/>
                </a:lnTo>
                <a:lnTo>
                  <a:pt x="1160" y="360"/>
                </a:lnTo>
                <a:lnTo>
                  <a:pt x="1166" y="354"/>
                </a:lnTo>
                <a:lnTo>
                  <a:pt x="1163" y="350"/>
                </a:lnTo>
                <a:lnTo>
                  <a:pt x="1160" y="348"/>
                </a:lnTo>
                <a:lnTo>
                  <a:pt x="1157" y="347"/>
                </a:lnTo>
                <a:lnTo>
                  <a:pt x="1152" y="347"/>
                </a:lnTo>
                <a:lnTo>
                  <a:pt x="1150" y="344"/>
                </a:lnTo>
                <a:lnTo>
                  <a:pt x="1147" y="341"/>
                </a:lnTo>
                <a:lnTo>
                  <a:pt x="1146" y="337"/>
                </a:lnTo>
                <a:lnTo>
                  <a:pt x="1146" y="331"/>
                </a:lnTo>
                <a:lnTo>
                  <a:pt x="1150" y="329"/>
                </a:lnTo>
                <a:lnTo>
                  <a:pt x="1154" y="327"/>
                </a:lnTo>
                <a:lnTo>
                  <a:pt x="1160" y="326"/>
                </a:lnTo>
                <a:lnTo>
                  <a:pt x="1165" y="326"/>
                </a:lnTo>
                <a:lnTo>
                  <a:pt x="1170" y="326"/>
                </a:lnTo>
                <a:lnTo>
                  <a:pt x="1175" y="326"/>
                </a:lnTo>
                <a:lnTo>
                  <a:pt x="1180" y="325"/>
                </a:lnTo>
                <a:lnTo>
                  <a:pt x="1184" y="323"/>
                </a:lnTo>
                <a:lnTo>
                  <a:pt x="1181" y="320"/>
                </a:lnTo>
                <a:lnTo>
                  <a:pt x="1179" y="314"/>
                </a:lnTo>
                <a:lnTo>
                  <a:pt x="1176" y="309"/>
                </a:lnTo>
                <a:lnTo>
                  <a:pt x="1173" y="306"/>
                </a:lnTo>
                <a:lnTo>
                  <a:pt x="1168" y="307"/>
                </a:lnTo>
                <a:lnTo>
                  <a:pt x="1165" y="308"/>
                </a:lnTo>
                <a:lnTo>
                  <a:pt x="1161" y="311"/>
                </a:lnTo>
                <a:lnTo>
                  <a:pt x="1161" y="315"/>
                </a:lnTo>
                <a:lnTo>
                  <a:pt x="1160" y="314"/>
                </a:lnTo>
                <a:lnTo>
                  <a:pt x="1158" y="314"/>
                </a:lnTo>
                <a:lnTo>
                  <a:pt x="1157" y="313"/>
                </a:lnTo>
                <a:lnTo>
                  <a:pt x="1158" y="311"/>
                </a:lnTo>
                <a:lnTo>
                  <a:pt x="1174" y="283"/>
                </a:lnTo>
                <a:lnTo>
                  <a:pt x="1182" y="278"/>
                </a:lnTo>
                <a:lnTo>
                  <a:pt x="1187" y="254"/>
                </a:lnTo>
                <a:lnTo>
                  <a:pt x="1192" y="225"/>
                </a:lnTo>
                <a:lnTo>
                  <a:pt x="1198" y="201"/>
                </a:lnTo>
                <a:lnTo>
                  <a:pt x="1204" y="190"/>
                </a:lnTo>
                <a:lnTo>
                  <a:pt x="1215" y="204"/>
                </a:lnTo>
                <a:lnTo>
                  <a:pt x="1221" y="231"/>
                </a:lnTo>
                <a:lnTo>
                  <a:pt x="1226" y="262"/>
                </a:lnTo>
                <a:lnTo>
                  <a:pt x="1228" y="286"/>
                </a:lnTo>
                <a:lnTo>
                  <a:pt x="1230" y="291"/>
                </a:lnTo>
                <a:lnTo>
                  <a:pt x="1231" y="297"/>
                </a:lnTo>
                <a:lnTo>
                  <a:pt x="1230" y="303"/>
                </a:lnTo>
                <a:lnTo>
                  <a:pt x="1228" y="307"/>
                </a:lnTo>
                <a:lnTo>
                  <a:pt x="1225" y="311"/>
                </a:lnTo>
                <a:lnTo>
                  <a:pt x="1223" y="314"/>
                </a:lnTo>
                <a:lnTo>
                  <a:pt x="1221" y="318"/>
                </a:lnTo>
                <a:lnTo>
                  <a:pt x="1220" y="321"/>
                </a:lnTo>
                <a:lnTo>
                  <a:pt x="1225" y="325"/>
                </a:lnTo>
                <a:lnTo>
                  <a:pt x="1231" y="326"/>
                </a:lnTo>
                <a:lnTo>
                  <a:pt x="1238" y="326"/>
                </a:lnTo>
                <a:lnTo>
                  <a:pt x="1245" y="326"/>
                </a:lnTo>
                <a:lnTo>
                  <a:pt x="1252" y="327"/>
                </a:lnTo>
                <a:lnTo>
                  <a:pt x="1255" y="329"/>
                </a:lnTo>
                <a:lnTo>
                  <a:pt x="1256" y="334"/>
                </a:lnTo>
                <a:lnTo>
                  <a:pt x="1254" y="342"/>
                </a:lnTo>
                <a:lnTo>
                  <a:pt x="1252" y="345"/>
                </a:lnTo>
                <a:lnTo>
                  <a:pt x="1249" y="348"/>
                </a:lnTo>
                <a:lnTo>
                  <a:pt x="1248" y="351"/>
                </a:lnTo>
                <a:lnTo>
                  <a:pt x="1248" y="355"/>
                </a:lnTo>
                <a:lnTo>
                  <a:pt x="1256" y="358"/>
                </a:lnTo>
                <a:lnTo>
                  <a:pt x="1262" y="364"/>
                </a:lnTo>
                <a:lnTo>
                  <a:pt x="1267" y="372"/>
                </a:lnTo>
                <a:lnTo>
                  <a:pt x="1271" y="379"/>
                </a:lnTo>
                <a:lnTo>
                  <a:pt x="1275" y="387"/>
                </a:lnTo>
                <a:lnTo>
                  <a:pt x="1281" y="394"/>
                </a:lnTo>
                <a:lnTo>
                  <a:pt x="1286" y="399"/>
                </a:lnTo>
                <a:lnTo>
                  <a:pt x="1296" y="402"/>
                </a:lnTo>
                <a:lnTo>
                  <a:pt x="1299" y="406"/>
                </a:lnTo>
                <a:lnTo>
                  <a:pt x="1300" y="410"/>
                </a:lnTo>
                <a:lnTo>
                  <a:pt x="1301" y="415"/>
                </a:lnTo>
                <a:lnTo>
                  <a:pt x="1301" y="417"/>
                </a:lnTo>
                <a:lnTo>
                  <a:pt x="1299" y="422"/>
                </a:lnTo>
                <a:lnTo>
                  <a:pt x="1297" y="425"/>
                </a:lnTo>
                <a:lnTo>
                  <a:pt x="1292" y="429"/>
                </a:lnTo>
                <a:lnTo>
                  <a:pt x="1288" y="432"/>
                </a:lnTo>
                <a:lnTo>
                  <a:pt x="1285" y="451"/>
                </a:lnTo>
                <a:lnTo>
                  <a:pt x="1285" y="469"/>
                </a:lnTo>
                <a:lnTo>
                  <a:pt x="1285" y="489"/>
                </a:lnTo>
                <a:lnTo>
                  <a:pt x="1286" y="506"/>
                </a:lnTo>
                <a:lnTo>
                  <a:pt x="1293" y="511"/>
                </a:lnTo>
                <a:lnTo>
                  <a:pt x="1299" y="518"/>
                </a:lnTo>
                <a:lnTo>
                  <a:pt x="1301" y="527"/>
                </a:lnTo>
                <a:lnTo>
                  <a:pt x="1304" y="535"/>
                </a:lnTo>
                <a:lnTo>
                  <a:pt x="1307" y="544"/>
                </a:lnTo>
                <a:lnTo>
                  <a:pt x="1311" y="550"/>
                </a:lnTo>
                <a:lnTo>
                  <a:pt x="1318" y="554"/>
                </a:lnTo>
                <a:lnTo>
                  <a:pt x="1327" y="553"/>
                </a:lnTo>
                <a:lnTo>
                  <a:pt x="1340" y="553"/>
                </a:lnTo>
                <a:lnTo>
                  <a:pt x="1352" y="554"/>
                </a:lnTo>
                <a:lnTo>
                  <a:pt x="1365" y="554"/>
                </a:lnTo>
                <a:lnTo>
                  <a:pt x="1378" y="554"/>
                </a:lnTo>
                <a:lnTo>
                  <a:pt x="1391" y="554"/>
                </a:lnTo>
                <a:lnTo>
                  <a:pt x="1405" y="554"/>
                </a:lnTo>
                <a:lnTo>
                  <a:pt x="1417" y="554"/>
                </a:lnTo>
                <a:lnTo>
                  <a:pt x="1431" y="553"/>
                </a:lnTo>
                <a:lnTo>
                  <a:pt x="1444" y="553"/>
                </a:lnTo>
                <a:lnTo>
                  <a:pt x="1458" y="553"/>
                </a:lnTo>
                <a:lnTo>
                  <a:pt x="1472" y="553"/>
                </a:lnTo>
                <a:lnTo>
                  <a:pt x="1485" y="553"/>
                </a:lnTo>
                <a:lnTo>
                  <a:pt x="1499" y="553"/>
                </a:lnTo>
                <a:lnTo>
                  <a:pt x="1513" y="553"/>
                </a:lnTo>
                <a:lnTo>
                  <a:pt x="1525" y="554"/>
                </a:lnTo>
                <a:lnTo>
                  <a:pt x="1539" y="554"/>
                </a:lnTo>
                <a:lnTo>
                  <a:pt x="1545" y="553"/>
                </a:lnTo>
                <a:lnTo>
                  <a:pt x="1546" y="548"/>
                </a:lnTo>
                <a:lnTo>
                  <a:pt x="1545" y="544"/>
                </a:lnTo>
                <a:lnTo>
                  <a:pt x="1545" y="538"/>
                </a:lnTo>
                <a:lnTo>
                  <a:pt x="1536" y="532"/>
                </a:lnTo>
                <a:lnTo>
                  <a:pt x="1533" y="524"/>
                </a:lnTo>
                <a:lnTo>
                  <a:pt x="1533" y="515"/>
                </a:lnTo>
                <a:lnTo>
                  <a:pt x="1533" y="504"/>
                </a:lnTo>
                <a:lnTo>
                  <a:pt x="1540" y="498"/>
                </a:lnTo>
                <a:lnTo>
                  <a:pt x="1542" y="491"/>
                </a:lnTo>
                <a:lnTo>
                  <a:pt x="1539" y="482"/>
                </a:lnTo>
                <a:lnTo>
                  <a:pt x="1539" y="473"/>
                </a:lnTo>
                <a:lnTo>
                  <a:pt x="1526" y="435"/>
                </a:lnTo>
                <a:lnTo>
                  <a:pt x="1510" y="382"/>
                </a:lnTo>
                <a:lnTo>
                  <a:pt x="1492" y="322"/>
                </a:lnTo>
                <a:lnTo>
                  <a:pt x="1473" y="260"/>
                </a:lnTo>
                <a:lnTo>
                  <a:pt x="1455" y="202"/>
                </a:lnTo>
                <a:lnTo>
                  <a:pt x="1439" y="153"/>
                </a:lnTo>
                <a:lnTo>
                  <a:pt x="1429" y="119"/>
                </a:lnTo>
                <a:lnTo>
                  <a:pt x="1424" y="107"/>
                </a:lnTo>
                <a:lnTo>
                  <a:pt x="1420" y="104"/>
                </a:lnTo>
                <a:lnTo>
                  <a:pt x="1417" y="81"/>
                </a:lnTo>
                <a:lnTo>
                  <a:pt x="1417" y="55"/>
                </a:lnTo>
                <a:lnTo>
                  <a:pt x="1417" y="28"/>
                </a:lnTo>
                <a:lnTo>
                  <a:pt x="1417" y="2"/>
                </a:lnTo>
                <a:lnTo>
                  <a:pt x="1429" y="2"/>
                </a:lnTo>
                <a:lnTo>
                  <a:pt x="1445" y="1"/>
                </a:lnTo>
                <a:lnTo>
                  <a:pt x="1465" y="1"/>
                </a:lnTo>
                <a:lnTo>
                  <a:pt x="1488" y="1"/>
                </a:lnTo>
                <a:lnTo>
                  <a:pt x="1516" y="0"/>
                </a:lnTo>
                <a:lnTo>
                  <a:pt x="1545" y="0"/>
                </a:lnTo>
                <a:lnTo>
                  <a:pt x="1575" y="0"/>
                </a:lnTo>
                <a:lnTo>
                  <a:pt x="1608" y="0"/>
                </a:lnTo>
                <a:lnTo>
                  <a:pt x="1640" y="0"/>
                </a:lnTo>
                <a:lnTo>
                  <a:pt x="1673" y="0"/>
                </a:lnTo>
                <a:lnTo>
                  <a:pt x="1705" y="0"/>
                </a:lnTo>
                <a:lnTo>
                  <a:pt x="1735" y="0"/>
                </a:lnTo>
                <a:lnTo>
                  <a:pt x="1764" y="0"/>
                </a:lnTo>
                <a:lnTo>
                  <a:pt x="1791" y="0"/>
                </a:lnTo>
                <a:lnTo>
                  <a:pt x="1815" y="0"/>
                </a:lnTo>
                <a:lnTo>
                  <a:pt x="1835" y="0"/>
                </a:lnTo>
                <a:lnTo>
                  <a:pt x="1837" y="16"/>
                </a:lnTo>
                <a:lnTo>
                  <a:pt x="1836" y="48"/>
                </a:lnTo>
                <a:lnTo>
                  <a:pt x="1834" y="78"/>
                </a:lnTo>
                <a:lnTo>
                  <a:pt x="1833" y="91"/>
                </a:lnTo>
                <a:lnTo>
                  <a:pt x="1827" y="99"/>
                </a:lnTo>
                <a:lnTo>
                  <a:pt x="1821" y="104"/>
                </a:lnTo>
                <a:lnTo>
                  <a:pt x="1814" y="110"/>
                </a:lnTo>
                <a:lnTo>
                  <a:pt x="1808" y="118"/>
                </a:lnTo>
                <a:lnTo>
                  <a:pt x="1802" y="141"/>
                </a:lnTo>
                <a:lnTo>
                  <a:pt x="1793" y="180"/>
                </a:lnTo>
                <a:lnTo>
                  <a:pt x="1780" y="228"/>
                </a:lnTo>
                <a:lnTo>
                  <a:pt x="1766" y="283"/>
                </a:lnTo>
                <a:lnTo>
                  <a:pt x="1750" y="337"/>
                </a:lnTo>
                <a:lnTo>
                  <a:pt x="1736" y="386"/>
                </a:lnTo>
                <a:lnTo>
                  <a:pt x="1722" y="424"/>
                </a:lnTo>
                <a:lnTo>
                  <a:pt x="1713" y="446"/>
                </a:lnTo>
                <a:lnTo>
                  <a:pt x="1712" y="464"/>
                </a:lnTo>
                <a:lnTo>
                  <a:pt x="1707" y="482"/>
                </a:lnTo>
                <a:lnTo>
                  <a:pt x="1705" y="499"/>
                </a:lnTo>
                <a:lnTo>
                  <a:pt x="1708" y="518"/>
                </a:lnTo>
                <a:lnTo>
                  <a:pt x="1712" y="527"/>
                </a:lnTo>
                <a:lnTo>
                  <a:pt x="1719" y="542"/>
                </a:lnTo>
                <a:lnTo>
                  <a:pt x="1725" y="556"/>
                </a:lnTo>
                <a:lnTo>
                  <a:pt x="1728" y="563"/>
                </a:lnTo>
                <a:lnTo>
                  <a:pt x="1737" y="560"/>
                </a:lnTo>
                <a:lnTo>
                  <a:pt x="1747" y="555"/>
                </a:lnTo>
                <a:lnTo>
                  <a:pt x="1754" y="548"/>
                </a:lnTo>
                <a:lnTo>
                  <a:pt x="1754" y="538"/>
                </a:lnTo>
                <a:lnTo>
                  <a:pt x="1754" y="515"/>
                </a:lnTo>
                <a:lnTo>
                  <a:pt x="1754" y="493"/>
                </a:lnTo>
                <a:lnTo>
                  <a:pt x="1754" y="471"/>
                </a:lnTo>
                <a:lnTo>
                  <a:pt x="1755" y="449"/>
                </a:lnTo>
                <a:lnTo>
                  <a:pt x="1754" y="442"/>
                </a:lnTo>
                <a:lnTo>
                  <a:pt x="1754" y="433"/>
                </a:lnTo>
                <a:lnTo>
                  <a:pt x="1750" y="428"/>
                </a:lnTo>
                <a:lnTo>
                  <a:pt x="1743" y="426"/>
                </a:lnTo>
                <a:lnTo>
                  <a:pt x="1741" y="424"/>
                </a:lnTo>
                <a:lnTo>
                  <a:pt x="1740" y="421"/>
                </a:lnTo>
                <a:lnTo>
                  <a:pt x="1741" y="416"/>
                </a:lnTo>
                <a:lnTo>
                  <a:pt x="1742" y="414"/>
                </a:lnTo>
                <a:lnTo>
                  <a:pt x="1749" y="409"/>
                </a:lnTo>
                <a:lnTo>
                  <a:pt x="1757" y="404"/>
                </a:lnTo>
                <a:lnTo>
                  <a:pt x="1765" y="401"/>
                </a:lnTo>
                <a:lnTo>
                  <a:pt x="1773" y="398"/>
                </a:lnTo>
                <a:lnTo>
                  <a:pt x="1782" y="395"/>
                </a:lnTo>
                <a:lnTo>
                  <a:pt x="1791" y="393"/>
                </a:lnTo>
                <a:lnTo>
                  <a:pt x="1801" y="391"/>
                </a:lnTo>
                <a:lnTo>
                  <a:pt x="1811" y="388"/>
                </a:lnTo>
                <a:lnTo>
                  <a:pt x="1843" y="395"/>
                </a:lnTo>
                <a:lnTo>
                  <a:pt x="1844" y="388"/>
                </a:lnTo>
                <a:lnTo>
                  <a:pt x="1848" y="381"/>
                </a:lnTo>
                <a:lnTo>
                  <a:pt x="1853" y="379"/>
                </a:lnTo>
                <a:lnTo>
                  <a:pt x="1862" y="379"/>
                </a:lnTo>
                <a:lnTo>
                  <a:pt x="1867" y="381"/>
                </a:lnTo>
                <a:lnTo>
                  <a:pt x="1873" y="380"/>
                </a:lnTo>
                <a:lnTo>
                  <a:pt x="1877" y="384"/>
                </a:lnTo>
                <a:lnTo>
                  <a:pt x="1875" y="393"/>
                </a:lnTo>
                <a:lnTo>
                  <a:pt x="1874" y="393"/>
                </a:lnTo>
                <a:lnTo>
                  <a:pt x="1877" y="400"/>
                </a:lnTo>
                <a:lnTo>
                  <a:pt x="1882" y="406"/>
                </a:lnTo>
                <a:lnTo>
                  <a:pt x="1888" y="411"/>
                </a:lnTo>
                <a:lnTo>
                  <a:pt x="1886" y="420"/>
                </a:lnTo>
                <a:lnTo>
                  <a:pt x="1877" y="440"/>
                </a:lnTo>
                <a:lnTo>
                  <a:pt x="1873" y="487"/>
                </a:lnTo>
                <a:lnTo>
                  <a:pt x="1878" y="534"/>
                </a:lnTo>
                <a:lnTo>
                  <a:pt x="1891" y="564"/>
                </a:lnTo>
                <a:lnTo>
                  <a:pt x="1891" y="574"/>
                </a:lnTo>
                <a:lnTo>
                  <a:pt x="1889" y="582"/>
                </a:lnTo>
                <a:lnTo>
                  <a:pt x="1886" y="589"/>
                </a:lnTo>
                <a:lnTo>
                  <a:pt x="1880" y="594"/>
                </a:lnTo>
                <a:lnTo>
                  <a:pt x="1882" y="604"/>
                </a:lnTo>
                <a:lnTo>
                  <a:pt x="1882" y="616"/>
                </a:lnTo>
                <a:lnTo>
                  <a:pt x="1877" y="628"/>
                </a:lnTo>
                <a:lnTo>
                  <a:pt x="1859" y="635"/>
                </a:lnTo>
                <a:lnTo>
                  <a:pt x="1851" y="637"/>
                </a:lnTo>
                <a:lnTo>
                  <a:pt x="1845" y="636"/>
                </a:lnTo>
                <a:lnTo>
                  <a:pt x="1838" y="636"/>
                </a:lnTo>
                <a:lnTo>
                  <a:pt x="1831" y="637"/>
                </a:lnTo>
                <a:lnTo>
                  <a:pt x="1826" y="643"/>
                </a:lnTo>
                <a:lnTo>
                  <a:pt x="1821" y="649"/>
                </a:lnTo>
                <a:lnTo>
                  <a:pt x="1816" y="656"/>
                </a:lnTo>
                <a:lnTo>
                  <a:pt x="1816" y="664"/>
                </a:lnTo>
                <a:lnTo>
                  <a:pt x="1816" y="672"/>
                </a:lnTo>
                <a:lnTo>
                  <a:pt x="1816" y="692"/>
                </a:lnTo>
                <a:lnTo>
                  <a:pt x="1813" y="714"/>
                </a:lnTo>
                <a:lnTo>
                  <a:pt x="1802" y="731"/>
                </a:lnTo>
                <a:lnTo>
                  <a:pt x="1771" y="708"/>
                </a:lnTo>
                <a:lnTo>
                  <a:pt x="1778" y="695"/>
                </a:lnTo>
                <a:lnTo>
                  <a:pt x="1780" y="678"/>
                </a:lnTo>
                <a:lnTo>
                  <a:pt x="1779" y="661"/>
                </a:lnTo>
                <a:lnTo>
                  <a:pt x="1777" y="651"/>
                </a:lnTo>
                <a:lnTo>
                  <a:pt x="1773" y="652"/>
                </a:lnTo>
                <a:lnTo>
                  <a:pt x="1771" y="656"/>
                </a:lnTo>
                <a:lnTo>
                  <a:pt x="1768" y="659"/>
                </a:lnTo>
                <a:lnTo>
                  <a:pt x="1762" y="662"/>
                </a:lnTo>
                <a:lnTo>
                  <a:pt x="1755" y="661"/>
                </a:lnTo>
                <a:lnTo>
                  <a:pt x="1750" y="656"/>
                </a:lnTo>
                <a:lnTo>
                  <a:pt x="1747" y="652"/>
                </a:lnTo>
                <a:lnTo>
                  <a:pt x="1741" y="651"/>
                </a:lnTo>
                <a:lnTo>
                  <a:pt x="1736" y="650"/>
                </a:lnTo>
                <a:lnTo>
                  <a:pt x="1734" y="647"/>
                </a:lnTo>
                <a:lnTo>
                  <a:pt x="1733" y="643"/>
                </a:lnTo>
                <a:lnTo>
                  <a:pt x="1731" y="640"/>
                </a:lnTo>
                <a:lnTo>
                  <a:pt x="1729" y="645"/>
                </a:lnTo>
                <a:lnTo>
                  <a:pt x="1728" y="650"/>
                </a:lnTo>
                <a:lnTo>
                  <a:pt x="1728" y="655"/>
                </a:lnTo>
                <a:lnTo>
                  <a:pt x="1728" y="662"/>
                </a:lnTo>
                <a:lnTo>
                  <a:pt x="1731" y="662"/>
                </a:lnTo>
                <a:lnTo>
                  <a:pt x="1733" y="669"/>
                </a:lnTo>
                <a:lnTo>
                  <a:pt x="1741" y="669"/>
                </a:lnTo>
                <a:lnTo>
                  <a:pt x="1750" y="667"/>
                </a:lnTo>
                <a:lnTo>
                  <a:pt x="1757" y="670"/>
                </a:lnTo>
                <a:lnTo>
                  <a:pt x="1764" y="676"/>
                </a:lnTo>
                <a:lnTo>
                  <a:pt x="1769" y="681"/>
                </a:lnTo>
                <a:lnTo>
                  <a:pt x="1772" y="689"/>
                </a:lnTo>
                <a:lnTo>
                  <a:pt x="1772" y="699"/>
                </a:lnTo>
                <a:lnTo>
                  <a:pt x="1766" y="703"/>
                </a:lnTo>
                <a:lnTo>
                  <a:pt x="1759" y="706"/>
                </a:lnTo>
                <a:lnTo>
                  <a:pt x="1751" y="707"/>
                </a:lnTo>
                <a:lnTo>
                  <a:pt x="1743" y="706"/>
                </a:lnTo>
                <a:lnTo>
                  <a:pt x="1744" y="707"/>
                </a:lnTo>
                <a:lnTo>
                  <a:pt x="1746" y="707"/>
                </a:lnTo>
                <a:lnTo>
                  <a:pt x="1747" y="708"/>
                </a:lnTo>
                <a:lnTo>
                  <a:pt x="1747" y="709"/>
                </a:lnTo>
                <a:lnTo>
                  <a:pt x="1753" y="713"/>
                </a:lnTo>
                <a:lnTo>
                  <a:pt x="1759" y="714"/>
                </a:lnTo>
                <a:lnTo>
                  <a:pt x="1765" y="713"/>
                </a:lnTo>
                <a:lnTo>
                  <a:pt x="1771" y="708"/>
                </a:lnTo>
                <a:lnTo>
                  <a:pt x="1802" y="731"/>
                </a:lnTo>
                <a:lnTo>
                  <a:pt x="1799" y="735"/>
                </a:lnTo>
                <a:lnTo>
                  <a:pt x="1794" y="737"/>
                </a:lnTo>
                <a:lnTo>
                  <a:pt x="1791" y="739"/>
                </a:lnTo>
                <a:lnTo>
                  <a:pt x="1786" y="744"/>
                </a:lnTo>
                <a:lnTo>
                  <a:pt x="1795" y="753"/>
                </a:lnTo>
                <a:lnTo>
                  <a:pt x="1811" y="767"/>
                </a:lnTo>
                <a:lnTo>
                  <a:pt x="1828" y="784"/>
                </a:lnTo>
                <a:lnTo>
                  <a:pt x="1849" y="803"/>
                </a:lnTo>
                <a:lnTo>
                  <a:pt x="1870" y="822"/>
                </a:lnTo>
                <a:lnTo>
                  <a:pt x="1889" y="839"/>
                </a:lnTo>
                <a:lnTo>
                  <a:pt x="1906" y="853"/>
                </a:lnTo>
                <a:lnTo>
                  <a:pt x="1918" y="863"/>
                </a:lnTo>
                <a:lnTo>
                  <a:pt x="1888" y="884"/>
                </a:lnTo>
                <a:lnTo>
                  <a:pt x="1875" y="871"/>
                </a:lnTo>
                <a:lnTo>
                  <a:pt x="1859" y="854"/>
                </a:lnTo>
                <a:lnTo>
                  <a:pt x="1838" y="835"/>
                </a:lnTo>
                <a:lnTo>
                  <a:pt x="1816" y="815"/>
                </a:lnTo>
                <a:lnTo>
                  <a:pt x="1794" y="796"/>
                </a:lnTo>
                <a:lnTo>
                  <a:pt x="1775" y="778"/>
                </a:lnTo>
                <a:lnTo>
                  <a:pt x="1758" y="765"/>
                </a:lnTo>
                <a:lnTo>
                  <a:pt x="1747" y="756"/>
                </a:lnTo>
                <a:lnTo>
                  <a:pt x="1743" y="874"/>
                </a:lnTo>
                <a:lnTo>
                  <a:pt x="1750" y="877"/>
                </a:lnTo>
                <a:lnTo>
                  <a:pt x="1758" y="875"/>
                </a:lnTo>
                <a:lnTo>
                  <a:pt x="1766" y="873"/>
                </a:lnTo>
                <a:lnTo>
                  <a:pt x="1773" y="871"/>
                </a:lnTo>
                <a:lnTo>
                  <a:pt x="1779" y="873"/>
                </a:lnTo>
                <a:lnTo>
                  <a:pt x="1783" y="875"/>
                </a:lnTo>
                <a:lnTo>
                  <a:pt x="1786" y="878"/>
                </a:lnTo>
                <a:lnTo>
                  <a:pt x="1787" y="883"/>
                </a:lnTo>
                <a:lnTo>
                  <a:pt x="1800" y="885"/>
                </a:lnTo>
                <a:lnTo>
                  <a:pt x="1813" y="886"/>
                </a:lnTo>
                <a:lnTo>
                  <a:pt x="1824" y="888"/>
                </a:lnTo>
                <a:lnTo>
                  <a:pt x="1837" y="886"/>
                </a:lnTo>
                <a:lnTo>
                  <a:pt x="1850" y="885"/>
                </a:lnTo>
                <a:lnTo>
                  <a:pt x="1863" y="885"/>
                </a:lnTo>
                <a:lnTo>
                  <a:pt x="1875" y="884"/>
                </a:lnTo>
                <a:lnTo>
                  <a:pt x="1888" y="884"/>
                </a:lnTo>
                <a:lnTo>
                  <a:pt x="1918" y="863"/>
                </a:lnTo>
                <a:lnTo>
                  <a:pt x="1925" y="866"/>
                </a:lnTo>
                <a:lnTo>
                  <a:pt x="1936" y="868"/>
                </a:lnTo>
                <a:lnTo>
                  <a:pt x="1949" y="870"/>
                </a:lnTo>
                <a:lnTo>
                  <a:pt x="1964" y="873"/>
                </a:lnTo>
                <a:lnTo>
                  <a:pt x="1979" y="876"/>
                </a:lnTo>
                <a:lnTo>
                  <a:pt x="1993" y="882"/>
                </a:lnTo>
                <a:lnTo>
                  <a:pt x="2005" y="889"/>
                </a:lnTo>
                <a:lnTo>
                  <a:pt x="2016" y="898"/>
                </a:lnTo>
                <a:lnTo>
                  <a:pt x="2019" y="904"/>
                </a:lnTo>
                <a:lnTo>
                  <a:pt x="2019" y="912"/>
                </a:lnTo>
                <a:lnTo>
                  <a:pt x="2018" y="920"/>
                </a:lnTo>
                <a:lnTo>
                  <a:pt x="2019" y="928"/>
                </a:lnTo>
                <a:lnTo>
                  <a:pt x="2027" y="934"/>
                </a:lnTo>
                <a:lnTo>
                  <a:pt x="2039" y="942"/>
                </a:lnTo>
                <a:lnTo>
                  <a:pt x="2053" y="952"/>
                </a:lnTo>
                <a:lnTo>
                  <a:pt x="2071" y="964"/>
                </a:lnTo>
                <a:lnTo>
                  <a:pt x="2090" y="977"/>
                </a:lnTo>
                <a:lnTo>
                  <a:pt x="2111" y="992"/>
                </a:lnTo>
                <a:lnTo>
                  <a:pt x="2133" y="1006"/>
                </a:lnTo>
                <a:lnTo>
                  <a:pt x="2155" y="1021"/>
                </a:lnTo>
                <a:lnTo>
                  <a:pt x="2177" y="1036"/>
                </a:lnTo>
                <a:lnTo>
                  <a:pt x="2198" y="1050"/>
                </a:lnTo>
                <a:lnTo>
                  <a:pt x="2216" y="1063"/>
                </a:lnTo>
                <a:lnTo>
                  <a:pt x="2234" y="1074"/>
                </a:lnTo>
                <a:lnTo>
                  <a:pt x="2248" y="1083"/>
                </a:lnTo>
                <a:lnTo>
                  <a:pt x="2259" y="1091"/>
                </a:lnTo>
                <a:lnTo>
                  <a:pt x="2266" y="1096"/>
                </a:lnTo>
                <a:lnTo>
                  <a:pt x="2269" y="1097"/>
                </a:lnTo>
                <a:lnTo>
                  <a:pt x="2269" y="1102"/>
                </a:lnTo>
                <a:lnTo>
                  <a:pt x="2266" y="1104"/>
                </a:lnTo>
                <a:lnTo>
                  <a:pt x="2263" y="1107"/>
                </a:lnTo>
                <a:lnTo>
                  <a:pt x="2259" y="1109"/>
                </a:lnTo>
                <a:lnTo>
                  <a:pt x="2251" y="1109"/>
                </a:lnTo>
                <a:lnTo>
                  <a:pt x="2240" y="1109"/>
                </a:lnTo>
                <a:lnTo>
                  <a:pt x="2224" y="1109"/>
                </a:lnTo>
                <a:lnTo>
                  <a:pt x="2208" y="1109"/>
                </a:lnTo>
                <a:lnTo>
                  <a:pt x="2189" y="1109"/>
                </a:lnTo>
                <a:lnTo>
                  <a:pt x="2168" y="1108"/>
                </a:lnTo>
                <a:lnTo>
                  <a:pt x="2147" y="1108"/>
                </a:lnTo>
                <a:lnTo>
                  <a:pt x="2124" y="1108"/>
                </a:lnTo>
                <a:lnTo>
                  <a:pt x="2102" y="1108"/>
                </a:lnTo>
                <a:lnTo>
                  <a:pt x="2078" y="1108"/>
                </a:lnTo>
                <a:lnTo>
                  <a:pt x="2057" y="1108"/>
                </a:lnTo>
                <a:lnTo>
                  <a:pt x="2037" y="1108"/>
                </a:lnTo>
                <a:lnTo>
                  <a:pt x="2018" y="1108"/>
                </a:lnTo>
                <a:lnTo>
                  <a:pt x="2002" y="1108"/>
                </a:lnTo>
                <a:lnTo>
                  <a:pt x="1988" y="1108"/>
                </a:lnTo>
                <a:lnTo>
                  <a:pt x="1976" y="1108"/>
                </a:lnTo>
                <a:lnTo>
                  <a:pt x="1971" y="1101"/>
                </a:lnTo>
                <a:lnTo>
                  <a:pt x="1967" y="1094"/>
                </a:lnTo>
                <a:lnTo>
                  <a:pt x="1962" y="1087"/>
                </a:lnTo>
                <a:lnTo>
                  <a:pt x="1959" y="1079"/>
                </a:lnTo>
                <a:lnTo>
                  <a:pt x="1955" y="1072"/>
                </a:lnTo>
                <a:lnTo>
                  <a:pt x="1952" y="1065"/>
                </a:lnTo>
                <a:lnTo>
                  <a:pt x="1946" y="1058"/>
                </a:lnTo>
                <a:lnTo>
                  <a:pt x="1940" y="1051"/>
                </a:lnTo>
                <a:lnTo>
                  <a:pt x="1937" y="1053"/>
                </a:lnTo>
                <a:lnTo>
                  <a:pt x="1933" y="1064"/>
                </a:lnTo>
                <a:lnTo>
                  <a:pt x="1930" y="1073"/>
                </a:lnTo>
                <a:lnTo>
                  <a:pt x="1925" y="1082"/>
                </a:lnTo>
                <a:lnTo>
                  <a:pt x="1921" y="1091"/>
                </a:lnTo>
                <a:lnTo>
                  <a:pt x="1915" y="1101"/>
                </a:lnTo>
                <a:lnTo>
                  <a:pt x="1908" y="1109"/>
                </a:lnTo>
                <a:lnTo>
                  <a:pt x="1901" y="1117"/>
                </a:lnTo>
                <a:lnTo>
                  <a:pt x="1893" y="1124"/>
                </a:lnTo>
                <a:lnTo>
                  <a:pt x="2301" y="1124"/>
                </a:lnTo>
                <a:lnTo>
                  <a:pt x="2301" y="1181"/>
                </a:lnTo>
                <a:lnTo>
                  <a:pt x="1786" y="1181"/>
                </a:lnTo>
                <a:lnTo>
                  <a:pt x="1783" y="1126"/>
                </a:lnTo>
                <a:lnTo>
                  <a:pt x="1783" y="1125"/>
                </a:lnTo>
                <a:lnTo>
                  <a:pt x="1776" y="1117"/>
                </a:lnTo>
                <a:lnTo>
                  <a:pt x="1769" y="1109"/>
                </a:lnTo>
                <a:lnTo>
                  <a:pt x="1761" y="1100"/>
                </a:lnTo>
                <a:lnTo>
                  <a:pt x="1754" y="1091"/>
                </a:lnTo>
                <a:lnTo>
                  <a:pt x="1728" y="1091"/>
                </a:lnTo>
                <a:lnTo>
                  <a:pt x="1700" y="1091"/>
                </a:lnTo>
                <a:lnTo>
                  <a:pt x="1670" y="1091"/>
                </a:lnTo>
                <a:lnTo>
                  <a:pt x="1641" y="1093"/>
                </a:lnTo>
                <a:lnTo>
                  <a:pt x="1615" y="1093"/>
                </a:lnTo>
                <a:lnTo>
                  <a:pt x="1594" y="1094"/>
                </a:lnTo>
                <a:lnTo>
                  <a:pt x="1580" y="1094"/>
                </a:lnTo>
                <a:lnTo>
                  <a:pt x="1574" y="1094"/>
                </a:lnTo>
                <a:lnTo>
                  <a:pt x="1584" y="1067"/>
                </a:lnTo>
                <a:lnTo>
                  <a:pt x="1590" y="1067"/>
                </a:lnTo>
                <a:lnTo>
                  <a:pt x="1606" y="1067"/>
                </a:lnTo>
                <a:lnTo>
                  <a:pt x="1628" y="1067"/>
                </a:lnTo>
                <a:lnTo>
                  <a:pt x="1655" y="1067"/>
                </a:lnTo>
                <a:lnTo>
                  <a:pt x="1682" y="1067"/>
                </a:lnTo>
                <a:lnTo>
                  <a:pt x="1706" y="1067"/>
                </a:lnTo>
                <a:lnTo>
                  <a:pt x="1725" y="1066"/>
                </a:lnTo>
                <a:lnTo>
                  <a:pt x="1734" y="1066"/>
                </a:lnTo>
                <a:lnTo>
                  <a:pt x="1739" y="1064"/>
                </a:lnTo>
                <a:lnTo>
                  <a:pt x="1739" y="1060"/>
                </a:lnTo>
                <a:lnTo>
                  <a:pt x="1737" y="1056"/>
                </a:lnTo>
                <a:lnTo>
                  <a:pt x="1736" y="1051"/>
                </a:lnTo>
                <a:lnTo>
                  <a:pt x="1729" y="1050"/>
                </a:lnTo>
                <a:lnTo>
                  <a:pt x="1724" y="1047"/>
                </a:lnTo>
                <a:lnTo>
                  <a:pt x="1718" y="1045"/>
                </a:lnTo>
                <a:lnTo>
                  <a:pt x="1713" y="1042"/>
                </a:lnTo>
                <a:lnTo>
                  <a:pt x="1707" y="1038"/>
                </a:lnTo>
                <a:lnTo>
                  <a:pt x="1702" y="1035"/>
                </a:lnTo>
                <a:lnTo>
                  <a:pt x="1696" y="1032"/>
                </a:lnTo>
                <a:lnTo>
                  <a:pt x="1690" y="1030"/>
                </a:lnTo>
                <a:lnTo>
                  <a:pt x="1683" y="1034"/>
                </a:lnTo>
                <a:lnTo>
                  <a:pt x="1676" y="1036"/>
                </a:lnTo>
                <a:lnTo>
                  <a:pt x="1669" y="1037"/>
                </a:lnTo>
                <a:lnTo>
                  <a:pt x="1661" y="1038"/>
                </a:lnTo>
                <a:lnTo>
                  <a:pt x="1654" y="1037"/>
                </a:lnTo>
                <a:lnTo>
                  <a:pt x="1647" y="1036"/>
                </a:lnTo>
                <a:lnTo>
                  <a:pt x="1640" y="1034"/>
                </a:lnTo>
                <a:lnTo>
                  <a:pt x="1634" y="1030"/>
                </a:lnTo>
                <a:lnTo>
                  <a:pt x="1627" y="1034"/>
                </a:lnTo>
                <a:lnTo>
                  <a:pt x="1622" y="1036"/>
                </a:lnTo>
                <a:lnTo>
                  <a:pt x="1615" y="1039"/>
                </a:lnTo>
                <a:lnTo>
                  <a:pt x="1609" y="1042"/>
                </a:lnTo>
                <a:lnTo>
                  <a:pt x="1602" y="1044"/>
                </a:lnTo>
                <a:lnTo>
                  <a:pt x="1596" y="1047"/>
                </a:lnTo>
                <a:lnTo>
                  <a:pt x="1590" y="1051"/>
                </a:lnTo>
                <a:lnTo>
                  <a:pt x="1584" y="1056"/>
                </a:lnTo>
                <a:lnTo>
                  <a:pt x="1584" y="1067"/>
                </a:lnTo>
                <a:lnTo>
                  <a:pt x="1574" y="1094"/>
                </a:lnTo>
                <a:lnTo>
                  <a:pt x="1567" y="1095"/>
                </a:lnTo>
                <a:lnTo>
                  <a:pt x="1561" y="1097"/>
                </a:lnTo>
                <a:lnTo>
                  <a:pt x="1557" y="1102"/>
                </a:lnTo>
                <a:lnTo>
                  <a:pt x="1552" y="1107"/>
                </a:lnTo>
                <a:lnTo>
                  <a:pt x="1547" y="1112"/>
                </a:lnTo>
                <a:lnTo>
                  <a:pt x="1543" y="1118"/>
                </a:lnTo>
                <a:lnTo>
                  <a:pt x="1538" y="1123"/>
                </a:lnTo>
                <a:lnTo>
                  <a:pt x="1533" y="1127"/>
                </a:lnTo>
                <a:lnTo>
                  <a:pt x="1542" y="1129"/>
                </a:lnTo>
                <a:lnTo>
                  <a:pt x="1554" y="1129"/>
                </a:lnTo>
                <a:lnTo>
                  <a:pt x="1569" y="1129"/>
                </a:lnTo>
                <a:lnTo>
                  <a:pt x="1587" y="1129"/>
                </a:lnTo>
                <a:lnTo>
                  <a:pt x="1605" y="1129"/>
                </a:lnTo>
                <a:lnTo>
                  <a:pt x="1626" y="1127"/>
                </a:lnTo>
                <a:lnTo>
                  <a:pt x="1648" y="1127"/>
                </a:lnTo>
                <a:lnTo>
                  <a:pt x="1669" y="1126"/>
                </a:lnTo>
                <a:lnTo>
                  <a:pt x="1691" y="1126"/>
                </a:lnTo>
                <a:lnTo>
                  <a:pt x="1711" y="1125"/>
                </a:lnTo>
                <a:lnTo>
                  <a:pt x="1729" y="1125"/>
                </a:lnTo>
                <a:lnTo>
                  <a:pt x="1747" y="1125"/>
                </a:lnTo>
                <a:lnTo>
                  <a:pt x="1761" y="1124"/>
                </a:lnTo>
                <a:lnTo>
                  <a:pt x="1772" y="1124"/>
                </a:lnTo>
                <a:lnTo>
                  <a:pt x="1779" y="1125"/>
                </a:lnTo>
                <a:lnTo>
                  <a:pt x="1783" y="1125"/>
                </a:lnTo>
                <a:lnTo>
                  <a:pt x="1786" y="1181"/>
                </a:lnTo>
                <a:lnTo>
                  <a:pt x="1365" y="1181"/>
                </a:lnTo>
                <a:lnTo>
                  <a:pt x="1387" y="1130"/>
                </a:lnTo>
                <a:lnTo>
                  <a:pt x="1392" y="1127"/>
                </a:lnTo>
                <a:lnTo>
                  <a:pt x="1395" y="1129"/>
                </a:lnTo>
                <a:lnTo>
                  <a:pt x="1400" y="1130"/>
                </a:lnTo>
                <a:lnTo>
                  <a:pt x="1404" y="1129"/>
                </a:lnTo>
                <a:lnTo>
                  <a:pt x="1392" y="1110"/>
                </a:lnTo>
                <a:lnTo>
                  <a:pt x="1386" y="1109"/>
                </a:lnTo>
                <a:lnTo>
                  <a:pt x="1381" y="1111"/>
                </a:lnTo>
                <a:lnTo>
                  <a:pt x="1376" y="1115"/>
                </a:lnTo>
                <a:lnTo>
                  <a:pt x="1370" y="1116"/>
                </a:lnTo>
                <a:lnTo>
                  <a:pt x="1361" y="1107"/>
                </a:lnTo>
                <a:lnTo>
                  <a:pt x="1357" y="1096"/>
                </a:lnTo>
                <a:lnTo>
                  <a:pt x="1358" y="1086"/>
                </a:lnTo>
                <a:lnTo>
                  <a:pt x="1363" y="1074"/>
                </a:lnTo>
                <a:lnTo>
                  <a:pt x="1368" y="1063"/>
                </a:lnTo>
                <a:lnTo>
                  <a:pt x="1373" y="1050"/>
                </a:lnTo>
                <a:lnTo>
                  <a:pt x="1377" y="1038"/>
                </a:lnTo>
                <a:lnTo>
                  <a:pt x="1376" y="1025"/>
                </a:lnTo>
                <a:lnTo>
                  <a:pt x="1370" y="1018"/>
                </a:lnTo>
                <a:lnTo>
                  <a:pt x="1365" y="1010"/>
                </a:lnTo>
                <a:lnTo>
                  <a:pt x="1363" y="1001"/>
                </a:lnTo>
                <a:lnTo>
                  <a:pt x="1361" y="992"/>
                </a:lnTo>
                <a:lnTo>
                  <a:pt x="1412" y="884"/>
                </a:lnTo>
                <a:lnTo>
                  <a:pt x="1529" y="883"/>
                </a:lnTo>
                <a:lnTo>
                  <a:pt x="1535" y="878"/>
                </a:lnTo>
                <a:lnTo>
                  <a:pt x="1542" y="871"/>
                </a:lnTo>
                <a:lnTo>
                  <a:pt x="1545" y="864"/>
                </a:lnTo>
                <a:lnTo>
                  <a:pt x="1546" y="856"/>
                </a:lnTo>
                <a:lnTo>
                  <a:pt x="1540" y="852"/>
                </a:lnTo>
                <a:lnTo>
                  <a:pt x="1535" y="854"/>
                </a:lnTo>
                <a:lnTo>
                  <a:pt x="1528" y="859"/>
                </a:lnTo>
                <a:lnTo>
                  <a:pt x="1521" y="862"/>
                </a:lnTo>
                <a:lnTo>
                  <a:pt x="1514" y="863"/>
                </a:lnTo>
                <a:lnTo>
                  <a:pt x="1506" y="863"/>
                </a:lnTo>
                <a:lnTo>
                  <a:pt x="1497" y="861"/>
                </a:lnTo>
                <a:lnTo>
                  <a:pt x="1490" y="857"/>
                </a:lnTo>
                <a:lnTo>
                  <a:pt x="1482" y="851"/>
                </a:lnTo>
                <a:lnTo>
                  <a:pt x="1473" y="846"/>
                </a:lnTo>
                <a:lnTo>
                  <a:pt x="1464" y="845"/>
                </a:lnTo>
                <a:lnTo>
                  <a:pt x="1452" y="844"/>
                </a:lnTo>
                <a:lnTo>
                  <a:pt x="1441" y="844"/>
                </a:lnTo>
                <a:lnTo>
                  <a:pt x="1430" y="845"/>
                </a:lnTo>
                <a:lnTo>
                  <a:pt x="1419" y="844"/>
                </a:lnTo>
                <a:lnTo>
                  <a:pt x="1408" y="842"/>
                </a:lnTo>
                <a:lnTo>
                  <a:pt x="1402" y="845"/>
                </a:lnTo>
                <a:lnTo>
                  <a:pt x="1397" y="846"/>
                </a:lnTo>
                <a:lnTo>
                  <a:pt x="1392" y="848"/>
                </a:lnTo>
                <a:lnTo>
                  <a:pt x="1391" y="853"/>
                </a:lnTo>
                <a:lnTo>
                  <a:pt x="1398" y="860"/>
                </a:lnTo>
                <a:lnTo>
                  <a:pt x="1404" y="867"/>
                </a:lnTo>
                <a:lnTo>
                  <a:pt x="1408" y="875"/>
                </a:lnTo>
                <a:lnTo>
                  <a:pt x="1412" y="884"/>
                </a:lnTo>
                <a:lnTo>
                  <a:pt x="1361" y="992"/>
                </a:lnTo>
                <a:lnTo>
                  <a:pt x="1357" y="993"/>
                </a:lnTo>
                <a:lnTo>
                  <a:pt x="1354" y="993"/>
                </a:lnTo>
                <a:lnTo>
                  <a:pt x="1349" y="992"/>
                </a:lnTo>
                <a:lnTo>
                  <a:pt x="1347" y="990"/>
                </a:lnTo>
                <a:lnTo>
                  <a:pt x="1347" y="998"/>
                </a:lnTo>
                <a:lnTo>
                  <a:pt x="1347" y="1003"/>
                </a:lnTo>
                <a:lnTo>
                  <a:pt x="1348" y="1010"/>
                </a:lnTo>
                <a:lnTo>
                  <a:pt x="1347" y="1018"/>
                </a:lnTo>
                <a:lnTo>
                  <a:pt x="1346" y="1025"/>
                </a:lnTo>
                <a:lnTo>
                  <a:pt x="1347" y="1034"/>
                </a:lnTo>
                <a:lnTo>
                  <a:pt x="1348" y="1041"/>
                </a:lnTo>
                <a:lnTo>
                  <a:pt x="1344" y="1046"/>
                </a:lnTo>
                <a:lnTo>
                  <a:pt x="1336" y="1047"/>
                </a:lnTo>
                <a:lnTo>
                  <a:pt x="1329" y="1046"/>
                </a:lnTo>
                <a:lnTo>
                  <a:pt x="1322" y="1043"/>
                </a:lnTo>
                <a:lnTo>
                  <a:pt x="1318" y="1038"/>
                </a:lnTo>
                <a:lnTo>
                  <a:pt x="1313" y="1046"/>
                </a:lnTo>
                <a:lnTo>
                  <a:pt x="1307" y="1056"/>
                </a:lnTo>
                <a:lnTo>
                  <a:pt x="1301" y="1064"/>
                </a:lnTo>
                <a:lnTo>
                  <a:pt x="1296" y="1072"/>
                </a:lnTo>
                <a:lnTo>
                  <a:pt x="1290" y="1080"/>
                </a:lnTo>
                <a:lnTo>
                  <a:pt x="1283" y="1088"/>
                </a:lnTo>
                <a:lnTo>
                  <a:pt x="1276" y="1095"/>
                </a:lnTo>
                <a:lnTo>
                  <a:pt x="1269" y="1103"/>
                </a:lnTo>
                <a:lnTo>
                  <a:pt x="1261" y="1110"/>
                </a:lnTo>
                <a:lnTo>
                  <a:pt x="1253" y="1117"/>
                </a:lnTo>
                <a:lnTo>
                  <a:pt x="1245" y="1123"/>
                </a:lnTo>
                <a:lnTo>
                  <a:pt x="1235" y="1129"/>
                </a:lnTo>
                <a:lnTo>
                  <a:pt x="1254" y="1131"/>
                </a:lnTo>
                <a:lnTo>
                  <a:pt x="1272" y="1131"/>
                </a:lnTo>
                <a:lnTo>
                  <a:pt x="1291" y="1131"/>
                </a:lnTo>
                <a:lnTo>
                  <a:pt x="1310" y="1131"/>
                </a:lnTo>
                <a:lnTo>
                  <a:pt x="1329" y="1130"/>
                </a:lnTo>
                <a:lnTo>
                  <a:pt x="1349" y="1130"/>
                </a:lnTo>
                <a:lnTo>
                  <a:pt x="1368" y="1130"/>
                </a:lnTo>
                <a:lnTo>
                  <a:pt x="1387" y="1130"/>
                </a:lnTo>
                <a:lnTo>
                  <a:pt x="1365" y="1181"/>
                </a:lnTo>
                <a:lnTo>
                  <a:pt x="864" y="1181"/>
                </a:lnTo>
                <a:lnTo>
                  <a:pt x="876" y="1130"/>
                </a:lnTo>
                <a:lnTo>
                  <a:pt x="1071" y="1130"/>
                </a:lnTo>
                <a:lnTo>
                  <a:pt x="1077" y="1131"/>
                </a:lnTo>
                <a:lnTo>
                  <a:pt x="1080" y="1131"/>
                </a:lnTo>
                <a:lnTo>
                  <a:pt x="1085" y="1131"/>
                </a:lnTo>
                <a:lnTo>
                  <a:pt x="1089" y="1130"/>
                </a:lnTo>
                <a:lnTo>
                  <a:pt x="1082" y="1125"/>
                </a:lnTo>
                <a:lnTo>
                  <a:pt x="1077" y="1120"/>
                </a:lnTo>
                <a:lnTo>
                  <a:pt x="1071" y="1116"/>
                </a:lnTo>
                <a:lnTo>
                  <a:pt x="1065" y="1112"/>
                </a:lnTo>
                <a:lnTo>
                  <a:pt x="1059" y="1108"/>
                </a:lnTo>
                <a:lnTo>
                  <a:pt x="1053" y="1103"/>
                </a:lnTo>
                <a:lnTo>
                  <a:pt x="1048" y="1098"/>
                </a:lnTo>
                <a:lnTo>
                  <a:pt x="1043" y="1093"/>
                </a:lnTo>
                <a:lnTo>
                  <a:pt x="1089" y="1093"/>
                </a:lnTo>
                <a:lnTo>
                  <a:pt x="1093" y="1090"/>
                </a:lnTo>
                <a:lnTo>
                  <a:pt x="1100" y="1082"/>
                </a:lnTo>
                <a:lnTo>
                  <a:pt x="1107" y="1069"/>
                </a:lnTo>
                <a:lnTo>
                  <a:pt x="1115" y="1053"/>
                </a:lnTo>
                <a:lnTo>
                  <a:pt x="1123" y="1036"/>
                </a:lnTo>
                <a:lnTo>
                  <a:pt x="1130" y="1020"/>
                </a:lnTo>
                <a:lnTo>
                  <a:pt x="1137" y="1008"/>
                </a:lnTo>
                <a:lnTo>
                  <a:pt x="1140" y="1000"/>
                </a:lnTo>
                <a:lnTo>
                  <a:pt x="1160" y="999"/>
                </a:lnTo>
                <a:lnTo>
                  <a:pt x="1155" y="1017"/>
                </a:lnTo>
                <a:lnTo>
                  <a:pt x="1150" y="1053"/>
                </a:lnTo>
                <a:lnTo>
                  <a:pt x="1145" y="1089"/>
                </a:lnTo>
                <a:lnTo>
                  <a:pt x="1144" y="1110"/>
                </a:lnTo>
                <a:lnTo>
                  <a:pt x="1148" y="1110"/>
                </a:lnTo>
                <a:lnTo>
                  <a:pt x="1152" y="1110"/>
                </a:lnTo>
                <a:lnTo>
                  <a:pt x="1157" y="1110"/>
                </a:lnTo>
                <a:lnTo>
                  <a:pt x="1161" y="1111"/>
                </a:lnTo>
                <a:lnTo>
                  <a:pt x="1168" y="1110"/>
                </a:lnTo>
                <a:lnTo>
                  <a:pt x="1174" y="1110"/>
                </a:lnTo>
                <a:lnTo>
                  <a:pt x="1179" y="1110"/>
                </a:lnTo>
                <a:lnTo>
                  <a:pt x="1182" y="1110"/>
                </a:lnTo>
                <a:lnTo>
                  <a:pt x="1174" y="991"/>
                </a:lnTo>
                <a:lnTo>
                  <a:pt x="1176" y="996"/>
                </a:lnTo>
                <a:lnTo>
                  <a:pt x="1181" y="1009"/>
                </a:lnTo>
                <a:lnTo>
                  <a:pt x="1188" y="1027"/>
                </a:lnTo>
                <a:lnTo>
                  <a:pt x="1195" y="1045"/>
                </a:lnTo>
                <a:lnTo>
                  <a:pt x="1203" y="1065"/>
                </a:lnTo>
                <a:lnTo>
                  <a:pt x="1210" y="1081"/>
                </a:lnTo>
                <a:lnTo>
                  <a:pt x="1215" y="1093"/>
                </a:lnTo>
                <a:lnTo>
                  <a:pt x="1218" y="1098"/>
                </a:lnTo>
                <a:lnTo>
                  <a:pt x="1224" y="1094"/>
                </a:lnTo>
                <a:lnTo>
                  <a:pt x="1232" y="1089"/>
                </a:lnTo>
                <a:lnTo>
                  <a:pt x="1239" y="1086"/>
                </a:lnTo>
                <a:lnTo>
                  <a:pt x="1242" y="1085"/>
                </a:lnTo>
                <a:lnTo>
                  <a:pt x="1240" y="1079"/>
                </a:lnTo>
                <a:lnTo>
                  <a:pt x="1238" y="1074"/>
                </a:lnTo>
                <a:lnTo>
                  <a:pt x="1235" y="1069"/>
                </a:lnTo>
                <a:lnTo>
                  <a:pt x="1233" y="1068"/>
                </a:lnTo>
                <a:lnTo>
                  <a:pt x="1274" y="1053"/>
                </a:lnTo>
                <a:lnTo>
                  <a:pt x="1278" y="1047"/>
                </a:lnTo>
                <a:lnTo>
                  <a:pt x="1284" y="1038"/>
                </a:lnTo>
                <a:lnTo>
                  <a:pt x="1290" y="1030"/>
                </a:lnTo>
                <a:lnTo>
                  <a:pt x="1292" y="1024"/>
                </a:lnTo>
                <a:lnTo>
                  <a:pt x="1286" y="1021"/>
                </a:lnTo>
                <a:lnTo>
                  <a:pt x="1276" y="1017"/>
                </a:lnTo>
                <a:lnTo>
                  <a:pt x="1262" y="1013"/>
                </a:lnTo>
                <a:lnTo>
                  <a:pt x="1248" y="1007"/>
                </a:lnTo>
                <a:lnTo>
                  <a:pt x="1233" y="1002"/>
                </a:lnTo>
                <a:lnTo>
                  <a:pt x="1219" y="999"/>
                </a:lnTo>
                <a:lnTo>
                  <a:pt x="1209" y="995"/>
                </a:lnTo>
                <a:lnTo>
                  <a:pt x="1202" y="994"/>
                </a:lnTo>
                <a:lnTo>
                  <a:pt x="1194" y="977"/>
                </a:lnTo>
                <a:lnTo>
                  <a:pt x="1203" y="976"/>
                </a:lnTo>
                <a:lnTo>
                  <a:pt x="1218" y="976"/>
                </a:lnTo>
                <a:lnTo>
                  <a:pt x="1237" y="974"/>
                </a:lnTo>
                <a:lnTo>
                  <a:pt x="1256" y="973"/>
                </a:lnTo>
                <a:lnTo>
                  <a:pt x="1275" y="972"/>
                </a:lnTo>
                <a:lnTo>
                  <a:pt x="1292" y="972"/>
                </a:lnTo>
                <a:lnTo>
                  <a:pt x="1303" y="971"/>
                </a:lnTo>
                <a:lnTo>
                  <a:pt x="1307" y="971"/>
                </a:lnTo>
                <a:lnTo>
                  <a:pt x="1306" y="964"/>
                </a:lnTo>
                <a:lnTo>
                  <a:pt x="1303" y="954"/>
                </a:lnTo>
                <a:lnTo>
                  <a:pt x="1300" y="943"/>
                </a:lnTo>
                <a:lnTo>
                  <a:pt x="1298" y="937"/>
                </a:lnTo>
                <a:lnTo>
                  <a:pt x="1245" y="954"/>
                </a:lnTo>
                <a:lnTo>
                  <a:pt x="1223" y="913"/>
                </a:lnTo>
                <a:lnTo>
                  <a:pt x="1226" y="912"/>
                </a:lnTo>
                <a:lnTo>
                  <a:pt x="1232" y="908"/>
                </a:lnTo>
                <a:lnTo>
                  <a:pt x="1240" y="905"/>
                </a:lnTo>
                <a:lnTo>
                  <a:pt x="1248" y="900"/>
                </a:lnTo>
                <a:lnTo>
                  <a:pt x="1255" y="896"/>
                </a:lnTo>
                <a:lnTo>
                  <a:pt x="1261" y="890"/>
                </a:lnTo>
                <a:lnTo>
                  <a:pt x="1264" y="885"/>
                </a:lnTo>
                <a:lnTo>
                  <a:pt x="1266" y="882"/>
                </a:lnTo>
                <a:lnTo>
                  <a:pt x="1261" y="873"/>
                </a:lnTo>
                <a:lnTo>
                  <a:pt x="1254" y="864"/>
                </a:lnTo>
                <a:lnTo>
                  <a:pt x="1246" y="859"/>
                </a:lnTo>
                <a:lnTo>
                  <a:pt x="1238" y="856"/>
                </a:lnTo>
                <a:lnTo>
                  <a:pt x="1175" y="954"/>
                </a:lnTo>
                <a:lnTo>
                  <a:pt x="1223" y="913"/>
                </a:lnTo>
                <a:lnTo>
                  <a:pt x="1245" y="954"/>
                </a:lnTo>
                <a:lnTo>
                  <a:pt x="1194" y="977"/>
                </a:lnTo>
                <a:lnTo>
                  <a:pt x="1202" y="994"/>
                </a:lnTo>
                <a:lnTo>
                  <a:pt x="1274" y="1053"/>
                </a:lnTo>
                <a:lnTo>
                  <a:pt x="1233" y="1068"/>
                </a:lnTo>
                <a:lnTo>
                  <a:pt x="1228" y="1065"/>
                </a:lnTo>
                <a:lnTo>
                  <a:pt x="1221" y="1057"/>
                </a:lnTo>
                <a:lnTo>
                  <a:pt x="1213" y="1044"/>
                </a:lnTo>
                <a:lnTo>
                  <a:pt x="1204" y="1030"/>
                </a:lnTo>
                <a:lnTo>
                  <a:pt x="1194" y="1015"/>
                </a:lnTo>
                <a:lnTo>
                  <a:pt x="1186" y="1003"/>
                </a:lnTo>
                <a:lnTo>
                  <a:pt x="1179" y="994"/>
                </a:lnTo>
                <a:lnTo>
                  <a:pt x="1174" y="991"/>
                </a:lnTo>
                <a:lnTo>
                  <a:pt x="1182" y="1110"/>
                </a:lnTo>
                <a:lnTo>
                  <a:pt x="1179" y="1089"/>
                </a:lnTo>
                <a:lnTo>
                  <a:pt x="1172" y="1057"/>
                </a:lnTo>
                <a:lnTo>
                  <a:pt x="1165" y="1023"/>
                </a:lnTo>
                <a:lnTo>
                  <a:pt x="1160" y="999"/>
                </a:lnTo>
                <a:lnTo>
                  <a:pt x="1140" y="1000"/>
                </a:lnTo>
                <a:lnTo>
                  <a:pt x="1117" y="1020"/>
                </a:lnTo>
                <a:lnTo>
                  <a:pt x="1136" y="984"/>
                </a:lnTo>
                <a:lnTo>
                  <a:pt x="1097" y="978"/>
                </a:lnTo>
                <a:lnTo>
                  <a:pt x="1095" y="957"/>
                </a:lnTo>
                <a:lnTo>
                  <a:pt x="1099" y="957"/>
                </a:lnTo>
                <a:lnTo>
                  <a:pt x="1103" y="958"/>
                </a:lnTo>
                <a:lnTo>
                  <a:pt x="1109" y="959"/>
                </a:lnTo>
                <a:lnTo>
                  <a:pt x="1115" y="961"/>
                </a:lnTo>
                <a:lnTo>
                  <a:pt x="1122" y="962"/>
                </a:lnTo>
                <a:lnTo>
                  <a:pt x="1126" y="963"/>
                </a:lnTo>
                <a:lnTo>
                  <a:pt x="1131" y="964"/>
                </a:lnTo>
                <a:lnTo>
                  <a:pt x="1135" y="965"/>
                </a:lnTo>
                <a:lnTo>
                  <a:pt x="1130" y="963"/>
                </a:lnTo>
                <a:lnTo>
                  <a:pt x="1118" y="957"/>
                </a:lnTo>
                <a:lnTo>
                  <a:pt x="1102" y="948"/>
                </a:lnTo>
                <a:lnTo>
                  <a:pt x="1083" y="939"/>
                </a:lnTo>
                <a:lnTo>
                  <a:pt x="1064" y="929"/>
                </a:lnTo>
                <a:lnTo>
                  <a:pt x="1048" y="921"/>
                </a:lnTo>
                <a:lnTo>
                  <a:pt x="1036" y="915"/>
                </a:lnTo>
                <a:lnTo>
                  <a:pt x="1031" y="913"/>
                </a:lnTo>
                <a:lnTo>
                  <a:pt x="1054" y="876"/>
                </a:lnTo>
                <a:lnTo>
                  <a:pt x="1061" y="879"/>
                </a:lnTo>
                <a:lnTo>
                  <a:pt x="1073" y="889"/>
                </a:lnTo>
                <a:lnTo>
                  <a:pt x="1087" y="899"/>
                </a:lnTo>
                <a:lnTo>
                  <a:pt x="1102" y="912"/>
                </a:lnTo>
                <a:lnTo>
                  <a:pt x="1117" y="925"/>
                </a:lnTo>
                <a:lnTo>
                  <a:pt x="1130" y="935"/>
                </a:lnTo>
                <a:lnTo>
                  <a:pt x="1139" y="942"/>
                </a:lnTo>
                <a:lnTo>
                  <a:pt x="1144" y="944"/>
                </a:lnTo>
                <a:lnTo>
                  <a:pt x="1085" y="852"/>
                </a:lnTo>
                <a:lnTo>
                  <a:pt x="1139" y="831"/>
                </a:lnTo>
                <a:lnTo>
                  <a:pt x="1161" y="946"/>
                </a:lnTo>
                <a:lnTo>
                  <a:pt x="1182" y="832"/>
                </a:lnTo>
                <a:lnTo>
                  <a:pt x="1176" y="831"/>
                </a:lnTo>
                <a:lnTo>
                  <a:pt x="1169" y="830"/>
                </a:lnTo>
                <a:lnTo>
                  <a:pt x="1163" y="830"/>
                </a:lnTo>
                <a:lnTo>
                  <a:pt x="1158" y="830"/>
                </a:lnTo>
                <a:lnTo>
                  <a:pt x="1153" y="830"/>
                </a:lnTo>
                <a:lnTo>
                  <a:pt x="1147" y="830"/>
                </a:lnTo>
                <a:lnTo>
                  <a:pt x="1143" y="831"/>
                </a:lnTo>
                <a:lnTo>
                  <a:pt x="1139" y="831"/>
                </a:lnTo>
                <a:lnTo>
                  <a:pt x="1085" y="852"/>
                </a:lnTo>
                <a:lnTo>
                  <a:pt x="1077" y="857"/>
                </a:lnTo>
                <a:lnTo>
                  <a:pt x="1066" y="864"/>
                </a:lnTo>
                <a:lnTo>
                  <a:pt x="1058" y="871"/>
                </a:lnTo>
                <a:lnTo>
                  <a:pt x="1054" y="876"/>
                </a:lnTo>
                <a:lnTo>
                  <a:pt x="1031" y="913"/>
                </a:lnTo>
                <a:lnTo>
                  <a:pt x="1028" y="920"/>
                </a:lnTo>
                <a:lnTo>
                  <a:pt x="1026" y="928"/>
                </a:lnTo>
                <a:lnTo>
                  <a:pt x="1023" y="936"/>
                </a:lnTo>
                <a:lnTo>
                  <a:pt x="1021" y="944"/>
                </a:lnTo>
                <a:lnTo>
                  <a:pt x="1024" y="944"/>
                </a:lnTo>
                <a:lnTo>
                  <a:pt x="1031" y="947"/>
                </a:lnTo>
                <a:lnTo>
                  <a:pt x="1043" y="948"/>
                </a:lnTo>
                <a:lnTo>
                  <a:pt x="1057" y="950"/>
                </a:lnTo>
                <a:lnTo>
                  <a:pt x="1070" y="954"/>
                </a:lnTo>
                <a:lnTo>
                  <a:pt x="1081" y="955"/>
                </a:lnTo>
                <a:lnTo>
                  <a:pt x="1090" y="957"/>
                </a:lnTo>
                <a:lnTo>
                  <a:pt x="1095" y="957"/>
                </a:lnTo>
                <a:lnTo>
                  <a:pt x="1097" y="978"/>
                </a:lnTo>
                <a:lnTo>
                  <a:pt x="1089" y="977"/>
                </a:lnTo>
                <a:lnTo>
                  <a:pt x="1079" y="977"/>
                </a:lnTo>
                <a:lnTo>
                  <a:pt x="1066" y="977"/>
                </a:lnTo>
                <a:lnTo>
                  <a:pt x="1053" y="978"/>
                </a:lnTo>
                <a:lnTo>
                  <a:pt x="1041" y="978"/>
                </a:lnTo>
                <a:lnTo>
                  <a:pt x="1030" y="979"/>
                </a:lnTo>
                <a:lnTo>
                  <a:pt x="1022" y="979"/>
                </a:lnTo>
                <a:lnTo>
                  <a:pt x="1020" y="979"/>
                </a:lnTo>
                <a:lnTo>
                  <a:pt x="1021" y="986"/>
                </a:lnTo>
                <a:lnTo>
                  <a:pt x="1023" y="993"/>
                </a:lnTo>
                <a:lnTo>
                  <a:pt x="1026" y="1000"/>
                </a:lnTo>
                <a:lnTo>
                  <a:pt x="1027" y="1007"/>
                </a:lnTo>
                <a:lnTo>
                  <a:pt x="1136" y="984"/>
                </a:lnTo>
                <a:lnTo>
                  <a:pt x="1117" y="1020"/>
                </a:lnTo>
                <a:lnTo>
                  <a:pt x="1111" y="1023"/>
                </a:lnTo>
                <a:lnTo>
                  <a:pt x="1103" y="1029"/>
                </a:lnTo>
                <a:lnTo>
                  <a:pt x="1093" y="1036"/>
                </a:lnTo>
                <a:lnTo>
                  <a:pt x="1083" y="1044"/>
                </a:lnTo>
                <a:lnTo>
                  <a:pt x="1073" y="1052"/>
                </a:lnTo>
                <a:lnTo>
                  <a:pt x="1065" y="1058"/>
                </a:lnTo>
                <a:lnTo>
                  <a:pt x="1058" y="1063"/>
                </a:lnTo>
                <a:lnTo>
                  <a:pt x="1054" y="1064"/>
                </a:lnTo>
                <a:lnTo>
                  <a:pt x="1058" y="1069"/>
                </a:lnTo>
                <a:lnTo>
                  <a:pt x="1063" y="1074"/>
                </a:lnTo>
                <a:lnTo>
                  <a:pt x="1068" y="1079"/>
                </a:lnTo>
                <a:lnTo>
                  <a:pt x="1074" y="1083"/>
                </a:lnTo>
                <a:lnTo>
                  <a:pt x="1080" y="1087"/>
                </a:lnTo>
                <a:lnTo>
                  <a:pt x="1085" y="1089"/>
                </a:lnTo>
                <a:lnTo>
                  <a:pt x="1088" y="1091"/>
                </a:lnTo>
                <a:lnTo>
                  <a:pt x="1089" y="1093"/>
                </a:lnTo>
                <a:lnTo>
                  <a:pt x="1043" y="1093"/>
                </a:lnTo>
                <a:lnTo>
                  <a:pt x="1030" y="1074"/>
                </a:lnTo>
                <a:lnTo>
                  <a:pt x="1022" y="1071"/>
                </a:lnTo>
                <a:lnTo>
                  <a:pt x="1014" y="1068"/>
                </a:lnTo>
                <a:lnTo>
                  <a:pt x="1006" y="1068"/>
                </a:lnTo>
                <a:lnTo>
                  <a:pt x="998" y="1069"/>
                </a:lnTo>
                <a:lnTo>
                  <a:pt x="990" y="1071"/>
                </a:lnTo>
                <a:lnTo>
                  <a:pt x="980" y="1072"/>
                </a:lnTo>
                <a:lnTo>
                  <a:pt x="971" y="1072"/>
                </a:lnTo>
                <a:lnTo>
                  <a:pt x="962" y="1072"/>
                </a:lnTo>
                <a:lnTo>
                  <a:pt x="959" y="1081"/>
                </a:lnTo>
                <a:lnTo>
                  <a:pt x="956" y="1088"/>
                </a:lnTo>
                <a:lnTo>
                  <a:pt x="952" y="1095"/>
                </a:lnTo>
                <a:lnTo>
                  <a:pt x="948" y="1100"/>
                </a:lnTo>
                <a:lnTo>
                  <a:pt x="943" y="1105"/>
                </a:lnTo>
                <a:lnTo>
                  <a:pt x="937" y="1110"/>
                </a:lnTo>
                <a:lnTo>
                  <a:pt x="932" y="1113"/>
                </a:lnTo>
                <a:lnTo>
                  <a:pt x="923" y="1118"/>
                </a:lnTo>
                <a:lnTo>
                  <a:pt x="917" y="1116"/>
                </a:lnTo>
                <a:lnTo>
                  <a:pt x="911" y="1112"/>
                </a:lnTo>
                <a:lnTo>
                  <a:pt x="905" y="1109"/>
                </a:lnTo>
                <a:lnTo>
                  <a:pt x="899" y="1107"/>
                </a:lnTo>
                <a:lnTo>
                  <a:pt x="876" y="1130"/>
                </a:lnTo>
                <a:lnTo>
                  <a:pt x="864" y="1181"/>
                </a:lnTo>
                <a:lnTo>
                  <a:pt x="799" y="1181"/>
                </a:lnTo>
                <a:lnTo>
                  <a:pt x="790" y="1105"/>
                </a:lnTo>
                <a:lnTo>
                  <a:pt x="797" y="1105"/>
                </a:lnTo>
                <a:lnTo>
                  <a:pt x="803" y="1105"/>
                </a:lnTo>
                <a:lnTo>
                  <a:pt x="808" y="1105"/>
                </a:lnTo>
                <a:lnTo>
                  <a:pt x="812" y="1104"/>
                </a:lnTo>
                <a:lnTo>
                  <a:pt x="804" y="985"/>
                </a:lnTo>
                <a:lnTo>
                  <a:pt x="806" y="991"/>
                </a:lnTo>
                <a:lnTo>
                  <a:pt x="811" y="1003"/>
                </a:lnTo>
                <a:lnTo>
                  <a:pt x="817" y="1021"/>
                </a:lnTo>
                <a:lnTo>
                  <a:pt x="825" y="1041"/>
                </a:lnTo>
                <a:lnTo>
                  <a:pt x="832" y="1059"/>
                </a:lnTo>
                <a:lnTo>
                  <a:pt x="840" y="1076"/>
                </a:lnTo>
                <a:lnTo>
                  <a:pt x="845" y="1088"/>
                </a:lnTo>
                <a:lnTo>
                  <a:pt x="848" y="1094"/>
                </a:lnTo>
                <a:lnTo>
                  <a:pt x="854" y="1089"/>
                </a:lnTo>
                <a:lnTo>
                  <a:pt x="862" y="1085"/>
                </a:lnTo>
                <a:lnTo>
                  <a:pt x="869" y="1081"/>
                </a:lnTo>
                <a:lnTo>
                  <a:pt x="871" y="1080"/>
                </a:lnTo>
                <a:lnTo>
                  <a:pt x="870" y="1074"/>
                </a:lnTo>
                <a:lnTo>
                  <a:pt x="868" y="1069"/>
                </a:lnTo>
                <a:lnTo>
                  <a:pt x="864" y="1065"/>
                </a:lnTo>
                <a:lnTo>
                  <a:pt x="862" y="1064"/>
                </a:lnTo>
                <a:lnTo>
                  <a:pt x="904" y="1049"/>
                </a:lnTo>
                <a:lnTo>
                  <a:pt x="908" y="1043"/>
                </a:lnTo>
                <a:lnTo>
                  <a:pt x="914" y="1034"/>
                </a:lnTo>
                <a:lnTo>
                  <a:pt x="920" y="1024"/>
                </a:lnTo>
                <a:lnTo>
                  <a:pt x="922" y="1018"/>
                </a:lnTo>
                <a:lnTo>
                  <a:pt x="917" y="1016"/>
                </a:lnTo>
                <a:lnTo>
                  <a:pt x="906" y="1013"/>
                </a:lnTo>
                <a:lnTo>
                  <a:pt x="892" y="1008"/>
                </a:lnTo>
                <a:lnTo>
                  <a:pt x="877" y="1002"/>
                </a:lnTo>
                <a:lnTo>
                  <a:pt x="863" y="998"/>
                </a:lnTo>
                <a:lnTo>
                  <a:pt x="849" y="994"/>
                </a:lnTo>
                <a:lnTo>
                  <a:pt x="839" y="991"/>
                </a:lnTo>
                <a:lnTo>
                  <a:pt x="832" y="990"/>
                </a:lnTo>
                <a:lnTo>
                  <a:pt x="824" y="972"/>
                </a:lnTo>
                <a:lnTo>
                  <a:pt x="833" y="971"/>
                </a:lnTo>
                <a:lnTo>
                  <a:pt x="848" y="971"/>
                </a:lnTo>
                <a:lnTo>
                  <a:pt x="867" y="970"/>
                </a:lnTo>
                <a:lnTo>
                  <a:pt x="886" y="969"/>
                </a:lnTo>
                <a:lnTo>
                  <a:pt x="905" y="968"/>
                </a:lnTo>
                <a:lnTo>
                  <a:pt x="922" y="968"/>
                </a:lnTo>
                <a:lnTo>
                  <a:pt x="933" y="966"/>
                </a:lnTo>
                <a:lnTo>
                  <a:pt x="937" y="966"/>
                </a:lnTo>
                <a:lnTo>
                  <a:pt x="936" y="959"/>
                </a:lnTo>
                <a:lnTo>
                  <a:pt x="933" y="949"/>
                </a:lnTo>
                <a:lnTo>
                  <a:pt x="929" y="939"/>
                </a:lnTo>
                <a:lnTo>
                  <a:pt x="927" y="933"/>
                </a:lnTo>
                <a:lnTo>
                  <a:pt x="875" y="948"/>
                </a:lnTo>
                <a:lnTo>
                  <a:pt x="852" y="908"/>
                </a:lnTo>
                <a:lnTo>
                  <a:pt x="855" y="907"/>
                </a:lnTo>
                <a:lnTo>
                  <a:pt x="861" y="904"/>
                </a:lnTo>
                <a:lnTo>
                  <a:pt x="869" y="899"/>
                </a:lnTo>
                <a:lnTo>
                  <a:pt x="877" y="895"/>
                </a:lnTo>
                <a:lnTo>
                  <a:pt x="884" y="890"/>
                </a:lnTo>
                <a:lnTo>
                  <a:pt x="891" y="885"/>
                </a:lnTo>
                <a:lnTo>
                  <a:pt x="894" y="881"/>
                </a:lnTo>
                <a:lnTo>
                  <a:pt x="896" y="877"/>
                </a:lnTo>
                <a:lnTo>
                  <a:pt x="891" y="868"/>
                </a:lnTo>
                <a:lnTo>
                  <a:pt x="884" y="860"/>
                </a:lnTo>
                <a:lnTo>
                  <a:pt x="876" y="854"/>
                </a:lnTo>
                <a:lnTo>
                  <a:pt x="867" y="852"/>
                </a:lnTo>
                <a:lnTo>
                  <a:pt x="805" y="948"/>
                </a:lnTo>
                <a:lnTo>
                  <a:pt x="852" y="908"/>
                </a:lnTo>
                <a:lnTo>
                  <a:pt x="875" y="948"/>
                </a:lnTo>
                <a:lnTo>
                  <a:pt x="824" y="972"/>
                </a:lnTo>
                <a:lnTo>
                  <a:pt x="832" y="990"/>
                </a:lnTo>
                <a:lnTo>
                  <a:pt x="904" y="1049"/>
                </a:lnTo>
                <a:lnTo>
                  <a:pt x="862" y="1064"/>
                </a:lnTo>
                <a:lnTo>
                  <a:pt x="859" y="1060"/>
                </a:lnTo>
                <a:lnTo>
                  <a:pt x="852" y="1052"/>
                </a:lnTo>
                <a:lnTo>
                  <a:pt x="843" y="1039"/>
                </a:lnTo>
                <a:lnTo>
                  <a:pt x="833" y="1024"/>
                </a:lnTo>
                <a:lnTo>
                  <a:pt x="824" y="1010"/>
                </a:lnTo>
                <a:lnTo>
                  <a:pt x="816" y="998"/>
                </a:lnTo>
                <a:lnTo>
                  <a:pt x="809" y="988"/>
                </a:lnTo>
                <a:lnTo>
                  <a:pt x="804" y="985"/>
                </a:lnTo>
                <a:lnTo>
                  <a:pt x="812" y="1104"/>
                </a:lnTo>
                <a:lnTo>
                  <a:pt x="809" y="1085"/>
                </a:lnTo>
                <a:lnTo>
                  <a:pt x="802" y="1052"/>
                </a:lnTo>
                <a:lnTo>
                  <a:pt x="795" y="1017"/>
                </a:lnTo>
                <a:lnTo>
                  <a:pt x="789" y="993"/>
                </a:lnTo>
                <a:lnTo>
                  <a:pt x="770" y="995"/>
                </a:lnTo>
                <a:lnTo>
                  <a:pt x="747" y="1014"/>
                </a:lnTo>
                <a:lnTo>
                  <a:pt x="765" y="979"/>
                </a:lnTo>
                <a:lnTo>
                  <a:pt x="726" y="973"/>
                </a:lnTo>
                <a:lnTo>
                  <a:pt x="725" y="952"/>
                </a:lnTo>
                <a:lnTo>
                  <a:pt x="729" y="952"/>
                </a:lnTo>
                <a:lnTo>
                  <a:pt x="733" y="954"/>
                </a:lnTo>
                <a:lnTo>
                  <a:pt x="738" y="955"/>
                </a:lnTo>
                <a:lnTo>
                  <a:pt x="745" y="956"/>
                </a:lnTo>
                <a:lnTo>
                  <a:pt x="751" y="957"/>
                </a:lnTo>
                <a:lnTo>
                  <a:pt x="755" y="958"/>
                </a:lnTo>
                <a:lnTo>
                  <a:pt x="760" y="959"/>
                </a:lnTo>
                <a:lnTo>
                  <a:pt x="763" y="961"/>
                </a:lnTo>
                <a:lnTo>
                  <a:pt x="759" y="957"/>
                </a:lnTo>
                <a:lnTo>
                  <a:pt x="747" y="951"/>
                </a:lnTo>
                <a:lnTo>
                  <a:pt x="731" y="943"/>
                </a:lnTo>
                <a:lnTo>
                  <a:pt x="712" y="934"/>
                </a:lnTo>
                <a:lnTo>
                  <a:pt x="693" y="925"/>
                </a:lnTo>
                <a:lnTo>
                  <a:pt x="676" y="917"/>
                </a:lnTo>
                <a:lnTo>
                  <a:pt x="665" y="911"/>
                </a:lnTo>
                <a:lnTo>
                  <a:pt x="660" y="908"/>
                </a:lnTo>
                <a:lnTo>
                  <a:pt x="685" y="871"/>
                </a:lnTo>
                <a:lnTo>
                  <a:pt x="692" y="875"/>
                </a:lnTo>
                <a:lnTo>
                  <a:pt x="702" y="884"/>
                </a:lnTo>
                <a:lnTo>
                  <a:pt x="716" y="895"/>
                </a:lnTo>
                <a:lnTo>
                  <a:pt x="732" y="907"/>
                </a:lnTo>
                <a:lnTo>
                  <a:pt x="747" y="920"/>
                </a:lnTo>
                <a:lnTo>
                  <a:pt x="760" y="930"/>
                </a:lnTo>
                <a:lnTo>
                  <a:pt x="769" y="937"/>
                </a:lnTo>
                <a:lnTo>
                  <a:pt x="773" y="940"/>
                </a:lnTo>
                <a:lnTo>
                  <a:pt x="715" y="847"/>
                </a:lnTo>
                <a:lnTo>
                  <a:pt x="768" y="826"/>
                </a:lnTo>
                <a:lnTo>
                  <a:pt x="790" y="941"/>
                </a:lnTo>
                <a:lnTo>
                  <a:pt x="811" y="826"/>
                </a:lnTo>
                <a:lnTo>
                  <a:pt x="805" y="825"/>
                </a:lnTo>
                <a:lnTo>
                  <a:pt x="799" y="825"/>
                </a:lnTo>
                <a:lnTo>
                  <a:pt x="794" y="824"/>
                </a:lnTo>
                <a:lnTo>
                  <a:pt x="788" y="824"/>
                </a:lnTo>
                <a:lnTo>
                  <a:pt x="782" y="825"/>
                </a:lnTo>
                <a:lnTo>
                  <a:pt x="777" y="825"/>
                </a:lnTo>
                <a:lnTo>
                  <a:pt x="773" y="826"/>
                </a:lnTo>
                <a:lnTo>
                  <a:pt x="768" y="826"/>
                </a:lnTo>
                <a:lnTo>
                  <a:pt x="715" y="847"/>
                </a:lnTo>
                <a:lnTo>
                  <a:pt x="707" y="853"/>
                </a:lnTo>
                <a:lnTo>
                  <a:pt x="696" y="860"/>
                </a:lnTo>
                <a:lnTo>
                  <a:pt x="688" y="867"/>
                </a:lnTo>
                <a:lnTo>
                  <a:pt x="685" y="871"/>
                </a:lnTo>
                <a:lnTo>
                  <a:pt x="660" y="908"/>
                </a:lnTo>
                <a:lnTo>
                  <a:pt x="658" y="914"/>
                </a:lnTo>
                <a:lnTo>
                  <a:pt x="656" y="922"/>
                </a:lnTo>
                <a:lnTo>
                  <a:pt x="653" y="932"/>
                </a:lnTo>
                <a:lnTo>
                  <a:pt x="651" y="940"/>
                </a:lnTo>
                <a:lnTo>
                  <a:pt x="654" y="940"/>
                </a:lnTo>
                <a:lnTo>
                  <a:pt x="661" y="942"/>
                </a:lnTo>
                <a:lnTo>
                  <a:pt x="673" y="943"/>
                </a:lnTo>
                <a:lnTo>
                  <a:pt x="687" y="946"/>
                </a:lnTo>
                <a:lnTo>
                  <a:pt x="700" y="949"/>
                </a:lnTo>
                <a:lnTo>
                  <a:pt x="711" y="950"/>
                </a:lnTo>
                <a:lnTo>
                  <a:pt x="721" y="952"/>
                </a:lnTo>
                <a:lnTo>
                  <a:pt x="725" y="952"/>
                </a:lnTo>
                <a:lnTo>
                  <a:pt x="726" y="973"/>
                </a:lnTo>
                <a:lnTo>
                  <a:pt x="719" y="972"/>
                </a:lnTo>
                <a:lnTo>
                  <a:pt x="708" y="972"/>
                </a:lnTo>
                <a:lnTo>
                  <a:pt x="696" y="972"/>
                </a:lnTo>
                <a:lnTo>
                  <a:pt x="682" y="973"/>
                </a:lnTo>
                <a:lnTo>
                  <a:pt x="670" y="973"/>
                </a:lnTo>
                <a:lnTo>
                  <a:pt x="659" y="974"/>
                </a:lnTo>
                <a:lnTo>
                  <a:pt x="651" y="974"/>
                </a:lnTo>
                <a:lnTo>
                  <a:pt x="649" y="974"/>
                </a:lnTo>
                <a:lnTo>
                  <a:pt x="650" y="981"/>
                </a:lnTo>
                <a:lnTo>
                  <a:pt x="652" y="988"/>
                </a:lnTo>
                <a:lnTo>
                  <a:pt x="654" y="995"/>
                </a:lnTo>
                <a:lnTo>
                  <a:pt x="656" y="1002"/>
                </a:lnTo>
                <a:lnTo>
                  <a:pt x="765" y="979"/>
                </a:lnTo>
                <a:lnTo>
                  <a:pt x="747" y="1014"/>
                </a:lnTo>
                <a:lnTo>
                  <a:pt x="740" y="1017"/>
                </a:lnTo>
                <a:lnTo>
                  <a:pt x="732" y="1023"/>
                </a:lnTo>
                <a:lnTo>
                  <a:pt x="723" y="1031"/>
                </a:lnTo>
                <a:lnTo>
                  <a:pt x="712" y="1039"/>
                </a:lnTo>
                <a:lnTo>
                  <a:pt x="703" y="1046"/>
                </a:lnTo>
                <a:lnTo>
                  <a:pt x="694" y="1053"/>
                </a:lnTo>
                <a:lnTo>
                  <a:pt x="688" y="1058"/>
                </a:lnTo>
                <a:lnTo>
                  <a:pt x="685" y="1059"/>
                </a:lnTo>
                <a:lnTo>
                  <a:pt x="688" y="1065"/>
                </a:lnTo>
                <a:lnTo>
                  <a:pt x="693" y="1069"/>
                </a:lnTo>
                <a:lnTo>
                  <a:pt x="699" y="1074"/>
                </a:lnTo>
                <a:lnTo>
                  <a:pt x="704" y="1079"/>
                </a:lnTo>
                <a:lnTo>
                  <a:pt x="710" y="1082"/>
                </a:lnTo>
                <a:lnTo>
                  <a:pt x="715" y="1085"/>
                </a:lnTo>
                <a:lnTo>
                  <a:pt x="718" y="1087"/>
                </a:lnTo>
                <a:lnTo>
                  <a:pt x="719" y="1088"/>
                </a:lnTo>
                <a:lnTo>
                  <a:pt x="723" y="1086"/>
                </a:lnTo>
                <a:lnTo>
                  <a:pt x="730" y="1078"/>
                </a:lnTo>
                <a:lnTo>
                  <a:pt x="737" y="1064"/>
                </a:lnTo>
                <a:lnTo>
                  <a:pt x="745" y="1047"/>
                </a:lnTo>
                <a:lnTo>
                  <a:pt x="753" y="1031"/>
                </a:lnTo>
                <a:lnTo>
                  <a:pt x="760" y="1015"/>
                </a:lnTo>
                <a:lnTo>
                  <a:pt x="767" y="1002"/>
                </a:lnTo>
                <a:lnTo>
                  <a:pt x="770" y="995"/>
                </a:lnTo>
                <a:lnTo>
                  <a:pt x="789" y="993"/>
                </a:lnTo>
                <a:lnTo>
                  <a:pt x="785" y="1013"/>
                </a:lnTo>
                <a:lnTo>
                  <a:pt x="780" y="1049"/>
                </a:lnTo>
                <a:lnTo>
                  <a:pt x="774" y="1085"/>
                </a:lnTo>
                <a:lnTo>
                  <a:pt x="773" y="1104"/>
                </a:lnTo>
                <a:lnTo>
                  <a:pt x="777" y="1104"/>
                </a:lnTo>
                <a:lnTo>
                  <a:pt x="782" y="1104"/>
                </a:lnTo>
                <a:lnTo>
                  <a:pt x="785" y="1105"/>
                </a:lnTo>
                <a:lnTo>
                  <a:pt x="790" y="1105"/>
                </a:lnTo>
                <a:lnTo>
                  <a:pt x="799" y="1181"/>
                </a:lnTo>
                <a:lnTo>
                  <a:pt x="752" y="1181"/>
                </a:lnTo>
                <a:lnTo>
                  <a:pt x="707" y="1130"/>
                </a:lnTo>
                <a:lnTo>
                  <a:pt x="704" y="1129"/>
                </a:lnTo>
                <a:lnTo>
                  <a:pt x="700" y="1124"/>
                </a:lnTo>
                <a:lnTo>
                  <a:pt x="693" y="1118"/>
                </a:lnTo>
                <a:lnTo>
                  <a:pt x="683" y="1109"/>
                </a:lnTo>
                <a:lnTo>
                  <a:pt x="674" y="1100"/>
                </a:lnTo>
                <a:lnTo>
                  <a:pt x="665" y="1088"/>
                </a:lnTo>
                <a:lnTo>
                  <a:pt x="658" y="1076"/>
                </a:lnTo>
                <a:lnTo>
                  <a:pt x="652" y="1064"/>
                </a:lnTo>
                <a:lnTo>
                  <a:pt x="646" y="1069"/>
                </a:lnTo>
                <a:lnTo>
                  <a:pt x="644" y="1076"/>
                </a:lnTo>
                <a:lnTo>
                  <a:pt x="642" y="1086"/>
                </a:lnTo>
                <a:lnTo>
                  <a:pt x="639" y="1093"/>
                </a:lnTo>
                <a:lnTo>
                  <a:pt x="631" y="1096"/>
                </a:lnTo>
                <a:lnTo>
                  <a:pt x="614" y="1098"/>
                </a:lnTo>
                <a:lnTo>
                  <a:pt x="590" y="1100"/>
                </a:lnTo>
                <a:lnTo>
                  <a:pt x="562" y="1101"/>
                </a:lnTo>
                <a:lnTo>
                  <a:pt x="532" y="1102"/>
                </a:lnTo>
                <a:lnTo>
                  <a:pt x="501" y="1102"/>
                </a:lnTo>
                <a:lnTo>
                  <a:pt x="476" y="1102"/>
                </a:lnTo>
                <a:lnTo>
                  <a:pt x="455" y="1102"/>
                </a:lnTo>
                <a:lnTo>
                  <a:pt x="448" y="1110"/>
                </a:lnTo>
                <a:lnTo>
                  <a:pt x="441" y="1117"/>
                </a:lnTo>
                <a:lnTo>
                  <a:pt x="433" y="1124"/>
                </a:lnTo>
                <a:lnTo>
                  <a:pt x="425" y="1130"/>
                </a:lnTo>
                <a:lnTo>
                  <a:pt x="707" y="1130"/>
                </a:lnTo>
                <a:lnTo>
                  <a:pt x="752" y="1181"/>
                </a:lnTo>
                <a:lnTo>
                  <a:pt x="734" y="1181"/>
                </a:lnTo>
                <a:lnTo>
                  <a:pt x="704" y="1182"/>
                </a:lnTo>
                <a:lnTo>
                  <a:pt x="664" y="1182"/>
                </a:lnTo>
                <a:lnTo>
                  <a:pt x="614" y="1182"/>
                </a:lnTo>
                <a:lnTo>
                  <a:pt x="557" y="1182"/>
                </a:lnTo>
                <a:lnTo>
                  <a:pt x="496" y="1182"/>
                </a:lnTo>
                <a:lnTo>
                  <a:pt x="431" y="1182"/>
                </a:lnTo>
                <a:lnTo>
                  <a:pt x="365" y="1182"/>
                </a:lnTo>
                <a:lnTo>
                  <a:pt x="298" y="1182"/>
                </a:lnTo>
                <a:lnTo>
                  <a:pt x="236" y="1182"/>
                </a:lnTo>
                <a:lnTo>
                  <a:pt x="177" y="1181"/>
                </a:lnTo>
                <a:lnTo>
                  <a:pt x="125" y="1181"/>
                </a:lnTo>
                <a:lnTo>
                  <a:pt x="80" y="1181"/>
                </a:lnTo>
                <a:lnTo>
                  <a:pt x="47" y="1181"/>
                </a:lnTo>
                <a:lnTo>
                  <a:pt x="26" y="1181"/>
                </a:lnTo>
                <a:lnTo>
                  <a:pt x="18" y="1181"/>
                </a:lnTo>
                <a:lnTo>
                  <a:pt x="18" y="1130"/>
                </a:lnTo>
                <a:lnTo>
                  <a:pt x="253" y="1130"/>
                </a:lnTo>
                <a:lnTo>
                  <a:pt x="245" y="1122"/>
                </a:lnTo>
                <a:lnTo>
                  <a:pt x="238" y="1113"/>
                </a:lnTo>
                <a:lnTo>
                  <a:pt x="230" y="1105"/>
                </a:lnTo>
                <a:lnTo>
                  <a:pt x="223" y="1097"/>
                </a:lnTo>
                <a:lnTo>
                  <a:pt x="216" y="1089"/>
                </a:lnTo>
                <a:lnTo>
                  <a:pt x="210" y="1080"/>
                </a:lnTo>
                <a:lnTo>
                  <a:pt x="205" y="1071"/>
                </a:lnTo>
                <a:lnTo>
                  <a:pt x="201" y="1061"/>
                </a:lnTo>
                <a:lnTo>
                  <a:pt x="189" y="1037"/>
                </a:lnTo>
                <a:lnTo>
                  <a:pt x="184" y="1008"/>
                </a:lnTo>
                <a:lnTo>
                  <a:pt x="180" y="979"/>
                </a:lnTo>
                <a:lnTo>
                  <a:pt x="178" y="957"/>
                </a:lnTo>
                <a:lnTo>
                  <a:pt x="210" y="948"/>
                </a:lnTo>
                <a:lnTo>
                  <a:pt x="213" y="956"/>
                </a:lnTo>
                <a:lnTo>
                  <a:pt x="214" y="980"/>
                </a:lnTo>
                <a:lnTo>
                  <a:pt x="214" y="986"/>
                </a:lnTo>
                <a:lnTo>
                  <a:pt x="216" y="993"/>
                </a:lnTo>
                <a:lnTo>
                  <a:pt x="218" y="999"/>
                </a:lnTo>
                <a:lnTo>
                  <a:pt x="221" y="1003"/>
                </a:lnTo>
                <a:lnTo>
                  <a:pt x="227" y="1002"/>
                </a:lnTo>
                <a:lnTo>
                  <a:pt x="234" y="1001"/>
                </a:lnTo>
                <a:lnTo>
                  <a:pt x="242" y="999"/>
                </a:lnTo>
                <a:lnTo>
                  <a:pt x="250" y="996"/>
                </a:lnTo>
                <a:lnTo>
                  <a:pt x="257" y="994"/>
                </a:lnTo>
                <a:lnTo>
                  <a:pt x="264" y="992"/>
                </a:lnTo>
                <a:lnTo>
                  <a:pt x="269" y="990"/>
                </a:lnTo>
                <a:lnTo>
                  <a:pt x="273" y="986"/>
                </a:lnTo>
                <a:lnTo>
                  <a:pt x="288" y="1014"/>
                </a:lnTo>
                <a:lnTo>
                  <a:pt x="281" y="1015"/>
                </a:lnTo>
                <a:lnTo>
                  <a:pt x="273" y="1016"/>
                </a:lnTo>
                <a:lnTo>
                  <a:pt x="265" y="1017"/>
                </a:lnTo>
                <a:lnTo>
                  <a:pt x="257" y="1020"/>
                </a:lnTo>
                <a:lnTo>
                  <a:pt x="247" y="1022"/>
                </a:lnTo>
                <a:lnTo>
                  <a:pt x="241" y="1024"/>
                </a:lnTo>
                <a:lnTo>
                  <a:pt x="232" y="1027"/>
                </a:lnTo>
                <a:lnTo>
                  <a:pt x="225" y="1029"/>
                </a:lnTo>
                <a:lnTo>
                  <a:pt x="227" y="1037"/>
                </a:lnTo>
                <a:lnTo>
                  <a:pt x="229" y="1044"/>
                </a:lnTo>
                <a:lnTo>
                  <a:pt x="231" y="1050"/>
                </a:lnTo>
                <a:lnTo>
                  <a:pt x="237" y="1056"/>
                </a:lnTo>
                <a:lnTo>
                  <a:pt x="252" y="1079"/>
                </a:lnTo>
                <a:lnTo>
                  <a:pt x="256" y="1083"/>
                </a:lnTo>
                <a:lnTo>
                  <a:pt x="264" y="1090"/>
                </a:lnTo>
                <a:lnTo>
                  <a:pt x="274" y="1097"/>
                </a:lnTo>
                <a:lnTo>
                  <a:pt x="283" y="1104"/>
                </a:lnTo>
                <a:lnTo>
                  <a:pt x="323" y="1120"/>
                </a:lnTo>
                <a:lnTo>
                  <a:pt x="327" y="1120"/>
                </a:lnTo>
                <a:lnTo>
                  <a:pt x="332" y="1120"/>
                </a:lnTo>
                <a:lnTo>
                  <a:pt x="338" y="1120"/>
                </a:lnTo>
                <a:lnTo>
                  <a:pt x="344" y="1120"/>
                </a:lnTo>
                <a:lnTo>
                  <a:pt x="349" y="1119"/>
                </a:lnTo>
                <a:lnTo>
                  <a:pt x="355" y="1118"/>
                </a:lnTo>
                <a:lnTo>
                  <a:pt x="359" y="1116"/>
                </a:lnTo>
                <a:lnTo>
                  <a:pt x="361" y="1112"/>
                </a:lnTo>
                <a:lnTo>
                  <a:pt x="356" y="1104"/>
                </a:lnTo>
                <a:lnTo>
                  <a:pt x="351" y="1096"/>
                </a:lnTo>
                <a:lnTo>
                  <a:pt x="344" y="1090"/>
                </a:lnTo>
                <a:lnTo>
                  <a:pt x="337" y="1085"/>
                </a:lnTo>
                <a:lnTo>
                  <a:pt x="333" y="1093"/>
                </a:lnTo>
                <a:lnTo>
                  <a:pt x="329" y="1104"/>
                </a:lnTo>
                <a:lnTo>
                  <a:pt x="325" y="1116"/>
                </a:lnTo>
                <a:lnTo>
                  <a:pt x="323" y="1120"/>
                </a:lnTo>
                <a:lnTo>
                  <a:pt x="283" y="1104"/>
                </a:lnTo>
                <a:lnTo>
                  <a:pt x="290" y="1089"/>
                </a:lnTo>
                <a:lnTo>
                  <a:pt x="300" y="1073"/>
                </a:lnTo>
                <a:lnTo>
                  <a:pt x="305" y="1056"/>
                </a:lnTo>
                <a:lnTo>
                  <a:pt x="308" y="1039"/>
                </a:lnTo>
                <a:lnTo>
                  <a:pt x="301" y="1043"/>
                </a:lnTo>
                <a:lnTo>
                  <a:pt x="293" y="1049"/>
                </a:lnTo>
                <a:lnTo>
                  <a:pt x="285" y="1054"/>
                </a:lnTo>
                <a:lnTo>
                  <a:pt x="275" y="1061"/>
                </a:lnTo>
                <a:lnTo>
                  <a:pt x="266" y="1067"/>
                </a:lnTo>
                <a:lnTo>
                  <a:pt x="259" y="1073"/>
                </a:lnTo>
                <a:lnTo>
                  <a:pt x="254" y="1076"/>
                </a:lnTo>
                <a:lnTo>
                  <a:pt x="252" y="1079"/>
                </a:lnTo>
                <a:lnTo>
                  <a:pt x="237" y="1056"/>
                </a:lnTo>
                <a:lnTo>
                  <a:pt x="243" y="1051"/>
                </a:lnTo>
                <a:lnTo>
                  <a:pt x="249" y="1047"/>
                </a:lnTo>
                <a:lnTo>
                  <a:pt x="256" y="1043"/>
                </a:lnTo>
                <a:lnTo>
                  <a:pt x="263" y="1038"/>
                </a:lnTo>
                <a:lnTo>
                  <a:pt x="269" y="1034"/>
                </a:lnTo>
                <a:lnTo>
                  <a:pt x="276" y="1028"/>
                </a:lnTo>
                <a:lnTo>
                  <a:pt x="282" y="1023"/>
                </a:lnTo>
                <a:lnTo>
                  <a:pt x="288" y="1018"/>
                </a:lnTo>
                <a:lnTo>
                  <a:pt x="288" y="1014"/>
                </a:lnTo>
                <a:lnTo>
                  <a:pt x="273" y="986"/>
                </a:lnTo>
                <a:lnTo>
                  <a:pt x="267" y="985"/>
                </a:lnTo>
                <a:lnTo>
                  <a:pt x="260" y="983"/>
                </a:lnTo>
                <a:lnTo>
                  <a:pt x="252" y="981"/>
                </a:lnTo>
                <a:lnTo>
                  <a:pt x="244" y="980"/>
                </a:lnTo>
                <a:lnTo>
                  <a:pt x="235" y="980"/>
                </a:lnTo>
                <a:lnTo>
                  <a:pt x="227" y="979"/>
                </a:lnTo>
                <a:lnTo>
                  <a:pt x="220" y="979"/>
                </a:lnTo>
                <a:lnTo>
                  <a:pt x="214" y="980"/>
                </a:lnTo>
                <a:lnTo>
                  <a:pt x="213" y="956"/>
                </a:lnTo>
                <a:lnTo>
                  <a:pt x="217" y="957"/>
                </a:lnTo>
                <a:lnTo>
                  <a:pt x="225" y="956"/>
                </a:lnTo>
                <a:lnTo>
                  <a:pt x="235" y="954"/>
                </a:lnTo>
                <a:lnTo>
                  <a:pt x="244" y="950"/>
                </a:lnTo>
                <a:lnTo>
                  <a:pt x="253" y="947"/>
                </a:lnTo>
                <a:lnTo>
                  <a:pt x="261" y="942"/>
                </a:lnTo>
                <a:lnTo>
                  <a:pt x="267" y="939"/>
                </a:lnTo>
                <a:lnTo>
                  <a:pt x="269" y="935"/>
                </a:lnTo>
                <a:lnTo>
                  <a:pt x="210" y="937"/>
                </a:lnTo>
                <a:lnTo>
                  <a:pt x="210" y="948"/>
                </a:lnTo>
                <a:lnTo>
                  <a:pt x="178" y="957"/>
                </a:lnTo>
                <a:lnTo>
                  <a:pt x="152" y="956"/>
                </a:lnTo>
                <a:lnTo>
                  <a:pt x="145" y="964"/>
                </a:lnTo>
                <a:lnTo>
                  <a:pt x="135" y="970"/>
                </a:lnTo>
                <a:lnTo>
                  <a:pt x="125" y="973"/>
                </a:lnTo>
                <a:lnTo>
                  <a:pt x="120" y="974"/>
                </a:lnTo>
                <a:lnTo>
                  <a:pt x="122" y="1061"/>
                </a:lnTo>
                <a:lnTo>
                  <a:pt x="87" y="1065"/>
                </a:lnTo>
                <a:lnTo>
                  <a:pt x="87" y="1046"/>
                </a:lnTo>
                <a:lnTo>
                  <a:pt x="86" y="1007"/>
                </a:lnTo>
                <a:lnTo>
                  <a:pt x="85" y="965"/>
                </a:lnTo>
                <a:lnTo>
                  <a:pt x="86" y="946"/>
                </a:lnTo>
                <a:lnTo>
                  <a:pt x="96" y="940"/>
                </a:lnTo>
                <a:lnTo>
                  <a:pt x="103" y="933"/>
                </a:lnTo>
                <a:lnTo>
                  <a:pt x="108" y="923"/>
                </a:lnTo>
                <a:lnTo>
                  <a:pt x="108" y="913"/>
                </a:lnTo>
                <a:lnTo>
                  <a:pt x="109" y="847"/>
                </a:lnTo>
                <a:lnTo>
                  <a:pt x="111" y="699"/>
                </a:lnTo>
                <a:lnTo>
                  <a:pt x="111" y="545"/>
                </a:lnTo>
                <a:lnTo>
                  <a:pt x="108" y="461"/>
                </a:lnTo>
                <a:lnTo>
                  <a:pt x="162" y="457"/>
                </a:lnTo>
                <a:lnTo>
                  <a:pt x="159" y="493"/>
                </a:lnTo>
                <a:lnTo>
                  <a:pt x="160" y="540"/>
                </a:lnTo>
                <a:lnTo>
                  <a:pt x="163" y="582"/>
                </a:lnTo>
                <a:lnTo>
                  <a:pt x="164" y="599"/>
                </a:lnTo>
                <a:lnTo>
                  <a:pt x="173" y="600"/>
                </a:lnTo>
                <a:lnTo>
                  <a:pt x="184" y="600"/>
                </a:lnTo>
                <a:lnTo>
                  <a:pt x="193" y="600"/>
                </a:lnTo>
                <a:lnTo>
                  <a:pt x="202" y="600"/>
                </a:lnTo>
                <a:lnTo>
                  <a:pt x="212" y="599"/>
                </a:lnTo>
                <a:lnTo>
                  <a:pt x="221" y="599"/>
                </a:lnTo>
                <a:lnTo>
                  <a:pt x="231" y="599"/>
                </a:lnTo>
                <a:lnTo>
                  <a:pt x="241" y="599"/>
                </a:lnTo>
                <a:lnTo>
                  <a:pt x="241" y="457"/>
                </a:lnTo>
                <a:lnTo>
                  <a:pt x="304" y="457"/>
                </a:lnTo>
                <a:lnTo>
                  <a:pt x="307" y="484"/>
                </a:lnTo>
                <a:lnTo>
                  <a:pt x="305" y="512"/>
                </a:lnTo>
                <a:lnTo>
                  <a:pt x="305" y="540"/>
                </a:lnTo>
                <a:lnTo>
                  <a:pt x="307" y="566"/>
                </a:lnTo>
                <a:lnTo>
                  <a:pt x="309" y="563"/>
                </a:lnTo>
                <a:lnTo>
                  <a:pt x="314" y="556"/>
                </a:lnTo>
                <a:lnTo>
                  <a:pt x="319" y="547"/>
                </a:lnTo>
                <a:lnTo>
                  <a:pt x="327" y="537"/>
                </a:lnTo>
                <a:lnTo>
                  <a:pt x="336" y="526"/>
                </a:lnTo>
                <a:lnTo>
                  <a:pt x="345" y="517"/>
                </a:lnTo>
                <a:lnTo>
                  <a:pt x="355" y="511"/>
                </a:lnTo>
                <a:lnTo>
                  <a:pt x="366" y="5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H="1" rot="234600">
            <a:off x="5578920" y="4571640"/>
            <a:ext cx="685800" cy="433440"/>
          </a:xfrm>
          <a:custGeom>
            <a:avLst/>
            <a:gdLst/>
            <a:ahLst/>
            <a:rect l="l" t="t" r="r" b="b"/>
            <a:pathLst>
              <a:path w="2301" h="1182">
                <a:moveTo>
                  <a:pt x="366" y="509"/>
                </a:moveTo>
                <a:lnTo>
                  <a:pt x="366" y="495"/>
                </a:lnTo>
                <a:lnTo>
                  <a:pt x="368" y="481"/>
                </a:lnTo>
                <a:lnTo>
                  <a:pt x="373" y="468"/>
                </a:lnTo>
                <a:lnTo>
                  <a:pt x="380" y="457"/>
                </a:lnTo>
                <a:lnTo>
                  <a:pt x="445" y="466"/>
                </a:lnTo>
                <a:lnTo>
                  <a:pt x="446" y="479"/>
                </a:lnTo>
                <a:lnTo>
                  <a:pt x="446" y="496"/>
                </a:lnTo>
                <a:lnTo>
                  <a:pt x="450" y="510"/>
                </a:lnTo>
                <a:lnTo>
                  <a:pt x="462" y="513"/>
                </a:lnTo>
                <a:lnTo>
                  <a:pt x="462" y="508"/>
                </a:lnTo>
                <a:lnTo>
                  <a:pt x="462" y="502"/>
                </a:lnTo>
                <a:lnTo>
                  <a:pt x="462" y="496"/>
                </a:lnTo>
                <a:lnTo>
                  <a:pt x="458" y="491"/>
                </a:lnTo>
                <a:lnTo>
                  <a:pt x="461" y="487"/>
                </a:lnTo>
                <a:lnTo>
                  <a:pt x="464" y="482"/>
                </a:lnTo>
                <a:lnTo>
                  <a:pt x="468" y="480"/>
                </a:lnTo>
                <a:lnTo>
                  <a:pt x="472" y="477"/>
                </a:lnTo>
                <a:lnTo>
                  <a:pt x="475" y="468"/>
                </a:lnTo>
                <a:lnTo>
                  <a:pt x="477" y="458"/>
                </a:lnTo>
                <a:lnTo>
                  <a:pt x="476" y="447"/>
                </a:lnTo>
                <a:lnTo>
                  <a:pt x="474" y="437"/>
                </a:lnTo>
                <a:lnTo>
                  <a:pt x="471" y="436"/>
                </a:lnTo>
                <a:lnTo>
                  <a:pt x="470" y="436"/>
                </a:lnTo>
                <a:lnTo>
                  <a:pt x="469" y="436"/>
                </a:lnTo>
                <a:lnTo>
                  <a:pt x="470" y="436"/>
                </a:lnTo>
                <a:lnTo>
                  <a:pt x="453" y="435"/>
                </a:lnTo>
                <a:lnTo>
                  <a:pt x="448" y="442"/>
                </a:lnTo>
                <a:lnTo>
                  <a:pt x="448" y="454"/>
                </a:lnTo>
                <a:lnTo>
                  <a:pt x="445" y="466"/>
                </a:lnTo>
                <a:lnTo>
                  <a:pt x="380" y="457"/>
                </a:lnTo>
                <a:lnTo>
                  <a:pt x="304" y="457"/>
                </a:lnTo>
                <a:lnTo>
                  <a:pt x="241" y="457"/>
                </a:lnTo>
                <a:lnTo>
                  <a:pt x="237" y="458"/>
                </a:lnTo>
                <a:lnTo>
                  <a:pt x="228" y="458"/>
                </a:lnTo>
                <a:lnTo>
                  <a:pt x="215" y="458"/>
                </a:lnTo>
                <a:lnTo>
                  <a:pt x="201" y="458"/>
                </a:lnTo>
                <a:lnTo>
                  <a:pt x="187" y="458"/>
                </a:lnTo>
                <a:lnTo>
                  <a:pt x="174" y="457"/>
                </a:lnTo>
                <a:lnTo>
                  <a:pt x="165" y="457"/>
                </a:lnTo>
                <a:lnTo>
                  <a:pt x="162" y="457"/>
                </a:lnTo>
                <a:lnTo>
                  <a:pt x="108" y="461"/>
                </a:lnTo>
                <a:lnTo>
                  <a:pt x="103" y="459"/>
                </a:lnTo>
                <a:lnTo>
                  <a:pt x="99" y="457"/>
                </a:lnTo>
                <a:lnTo>
                  <a:pt x="96" y="452"/>
                </a:lnTo>
                <a:lnTo>
                  <a:pt x="97" y="446"/>
                </a:lnTo>
                <a:lnTo>
                  <a:pt x="91" y="447"/>
                </a:lnTo>
                <a:lnTo>
                  <a:pt x="86" y="450"/>
                </a:lnTo>
                <a:lnTo>
                  <a:pt x="80" y="451"/>
                </a:lnTo>
                <a:lnTo>
                  <a:pt x="74" y="447"/>
                </a:lnTo>
                <a:lnTo>
                  <a:pt x="71" y="439"/>
                </a:lnTo>
                <a:lnTo>
                  <a:pt x="67" y="431"/>
                </a:lnTo>
                <a:lnTo>
                  <a:pt x="61" y="426"/>
                </a:lnTo>
                <a:lnTo>
                  <a:pt x="53" y="429"/>
                </a:lnTo>
                <a:lnTo>
                  <a:pt x="45" y="420"/>
                </a:lnTo>
                <a:lnTo>
                  <a:pt x="35" y="410"/>
                </a:lnTo>
                <a:lnTo>
                  <a:pt x="27" y="400"/>
                </a:lnTo>
                <a:lnTo>
                  <a:pt x="24" y="387"/>
                </a:lnTo>
                <a:lnTo>
                  <a:pt x="16" y="380"/>
                </a:lnTo>
                <a:lnTo>
                  <a:pt x="7" y="372"/>
                </a:lnTo>
                <a:lnTo>
                  <a:pt x="2" y="363"/>
                </a:lnTo>
                <a:lnTo>
                  <a:pt x="0" y="350"/>
                </a:lnTo>
                <a:lnTo>
                  <a:pt x="3" y="342"/>
                </a:lnTo>
                <a:lnTo>
                  <a:pt x="468" y="344"/>
                </a:lnTo>
                <a:lnTo>
                  <a:pt x="468" y="352"/>
                </a:lnTo>
                <a:lnTo>
                  <a:pt x="467" y="360"/>
                </a:lnTo>
                <a:lnTo>
                  <a:pt x="463" y="367"/>
                </a:lnTo>
                <a:lnTo>
                  <a:pt x="457" y="373"/>
                </a:lnTo>
                <a:lnTo>
                  <a:pt x="462" y="376"/>
                </a:lnTo>
                <a:lnTo>
                  <a:pt x="467" y="379"/>
                </a:lnTo>
                <a:lnTo>
                  <a:pt x="472" y="380"/>
                </a:lnTo>
                <a:lnTo>
                  <a:pt x="478" y="380"/>
                </a:lnTo>
                <a:lnTo>
                  <a:pt x="476" y="376"/>
                </a:lnTo>
                <a:lnTo>
                  <a:pt x="474" y="371"/>
                </a:lnTo>
                <a:lnTo>
                  <a:pt x="471" y="366"/>
                </a:lnTo>
                <a:lnTo>
                  <a:pt x="472" y="360"/>
                </a:lnTo>
                <a:lnTo>
                  <a:pt x="481" y="358"/>
                </a:lnTo>
                <a:lnTo>
                  <a:pt x="487" y="355"/>
                </a:lnTo>
                <a:lnTo>
                  <a:pt x="494" y="349"/>
                </a:lnTo>
                <a:lnTo>
                  <a:pt x="500" y="343"/>
                </a:lnTo>
                <a:lnTo>
                  <a:pt x="505" y="338"/>
                </a:lnTo>
                <a:lnTo>
                  <a:pt x="511" y="333"/>
                </a:lnTo>
                <a:lnTo>
                  <a:pt x="518" y="329"/>
                </a:lnTo>
                <a:lnTo>
                  <a:pt x="525" y="327"/>
                </a:lnTo>
                <a:lnTo>
                  <a:pt x="536" y="318"/>
                </a:lnTo>
                <a:lnTo>
                  <a:pt x="528" y="315"/>
                </a:lnTo>
                <a:lnTo>
                  <a:pt x="516" y="315"/>
                </a:lnTo>
                <a:lnTo>
                  <a:pt x="507" y="313"/>
                </a:lnTo>
                <a:lnTo>
                  <a:pt x="504" y="303"/>
                </a:lnTo>
                <a:lnTo>
                  <a:pt x="503" y="303"/>
                </a:lnTo>
                <a:lnTo>
                  <a:pt x="503" y="298"/>
                </a:lnTo>
                <a:lnTo>
                  <a:pt x="504" y="298"/>
                </a:lnTo>
                <a:lnTo>
                  <a:pt x="504" y="299"/>
                </a:lnTo>
                <a:lnTo>
                  <a:pt x="507" y="293"/>
                </a:lnTo>
                <a:lnTo>
                  <a:pt x="512" y="291"/>
                </a:lnTo>
                <a:lnTo>
                  <a:pt x="518" y="291"/>
                </a:lnTo>
                <a:lnTo>
                  <a:pt x="525" y="291"/>
                </a:lnTo>
                <a:lnTo>
                  <a:pt x="530" y="292"/>
                </a:lnTo>
                <a:lnTo>
                  <a:pt x="536" y="292"/>
                </a:lnTo>
                <a:lnTo>
                  <a:pt x="541" y="290"/>
                </a:lnTo>
                <a:lnTo>
                  <a:pt x="544" y="286"/>
                </a:lnTo>
                <a:lnTo>
                  <a:pt x="536" y="284"/>
                </a:lnTo>
                <a:lnTo>
                  <a:pt x="528" y="285"/>
                </a:lnTo>
                <a:lnTo>
                  <a:pt x="520" y="285"/>
                </a:lnTo>
                <a:lnTo>
                  <a:pt x="512" y="284"/>
                </a:lnTo>
                <a:lnTo>
                  <a:pt x="498" y="284"/>
                </a:lnTo>
                <a:lnTo>
                  <a:pt x="485" y="283"/>
                </a:lnTo>
                <a:lnTo>
                  <a:pt x="472" y="284"/>
                </a:lnTo>
                <a:lnTo>
                  <a:pt x="460" y="284"/>
                </a:lnTo>
                <a:lnTo>
                  <a:pt x="447" y="284"/>
                </a:lnTo>
                <a:lnTo>
                  <a:pt x="435" y="284"/>
                </a:lnTo>
                <a:lnTo>
                  <a:pt x="423" y="283"/>
                </a:lnTo>
                <a:lnTo>
                  <a:pt x="411" y="282"/>
                </a:lnTo>
                <a:lnTo>
                  <a:pt x="410" y="277"/>
                </a:lnTo>
                <a:lnTo>
                  <a:pt x="409" y="274"/>
                </a:lnTo>
                <a:lnTo>
                  <a:pt x="407" y="270"/>
                </a:lnTo>
                <a:lnTo>
                  <a:pt x="411" y="267"/>
                </a:lnTo>
                <a:lnTo>
                  <a:pt x="433" y="265"/>
                </a:lnTo>
                <a:lnTo>
                  <a:pt x="455" y="265"/>
                </a:lnTo>
                <a:lnTo>
                  <a:pt x="477" y="265"/>
                </a:lnTo>
                <a:lnTo>
                  <a:pt x="498" y="265"/>
                </a:lnTo>
                <a:lnTo>
                  <a:pt x="518" y="265"/>
                </a:lnTo>
                <a:lnTo>
                  <a:pt x="539" y="265"/>
                </a:lnTo>
                <a:lnTo>
                  <a:pt x="561" y="265"/>
                </a:lnTo>
                <a:lnTo>
                  <a:pt x="581" y="264"/>
                </a:lnTo>
                <a:lnTo>
                  <a:pt x="585" y="267"/>
                </a:lnTo>
                <a:lnTo>
                  <a:pt x="588" y="267"/>
                </a:lnTo>
                <a:lnTo>
                  <a:pt x="591" y="267"/>
                </a:lnTo>
                <a:lnTo>
                  <a:pt x="593" y="269"/>
                </a:lnTo>
                <a:lnTo>
                  <a:pt x="594" y="275"/>
                </a:lnTo>
                <a:lnTo>
                  <a:pt x="592" y="281"/>
                </a:lnTo>
                <a:lnTo>
                  <a:pt x="590" y="284"/>
                </a:lnTo>
                <a:lnTo>
                  <a:pt x="587" y="289"/>
                </a:lnTo>
                <a:lnTo>
                  <a:pt x="593" y="291"/>
                </a:lnTo>
                <a:lnTo>
                  <a:pt x="598" y="292"/>
                </a:lnTo>
                <a:lnTo>
                  <a:pt x="603" y="292"/>
                </a:lnTo>
                <a:lnTo>
                  <a:pt x="609" y="292"/>
                </a:lnTo>
                <a:lnTo>
                  <a:pt x="615" y="292"/>
                </a:lnTo>
                <a:lnTo>
                  <a:pt x="620" y="293"/>
                </a:lnTo>
                <a:lnTo>
                  <a:pt x="624" y="296"/>
                </a:lnTo>
                <a:lnTo>
                  <a:pt x="628" y="300"/>
                </a:lnTo>
                <a:lnTo>
                  <a:pt x="629" y="308"/>
                </a:lnTo>
                <a:lnTo>
                  <a:pt x="624" y="313"/>
                </a:lnTo>
                <a:lnTo>
                  <a:pt x="617" y="315"/>
                </a:lnTo>
                <a:lnTo>
                  <a:pt x="610" y="315"/>
                </a:lnTo>
                <a:lnTo>
                  <a:pt x="607" y="314"/>
                </a:lnTo>
                <a:lnTo>
                  <a:pt x="603" y="313"/>
                </a:lnTo>
                <a:lnTo>
                  <a:pt x="599" y="314"/>
                </a:lnTo>
                <a:lnTo>
                  <a:pt x="595" y="315"/>
                </a:lnTo>
                <a:lnTo>
                  <a:pt x="602" y="318"/>
                </a:lnTo>
                <a:lnTo>
                  <a:pt x="608" y="320"/>
                </a:lnTo>
                <a:lnTo>
                  <a:pt x="614" y="322"/>
                </a:lnTo>
                <a:lnTo>
                  <a:pt x="621" y="323"/>
                </a:lnTo>
                <a:lnTo>
                  <a:pt x="627" y="326"/>
                </a:lnTo>
                <a:lnTo>
                  <a:pt x="632" y="329"/>
                </a:lnTo>
                <a:lnTo>
                  <a:pt x="637" y="333"/>
                </a:lnTo>
                <a:lnTo>
                  <a:pt x="643" y="336"/>
                </a:lnTo>
                <a:lnTo>
                  <a:pt x="649" y="342"/>
                </a:lnTo>
                <a:lnTo>
                  <a:pt x="654" y="348"/>
                </a:lnTo>
                <a:lnTo>
                  <a:pt x="661" y="354"/>
                </a:lnTo>
                <a:lnTo>
                  <a:pt x="667" y="358"/>
                </a:lnTo>
                <a:lnTo>
                  <a:pt x="675" y="380"/>
                </a:lnTo>
                <a:lnTo>
                  <a:pt x="672" y="384"/>
                </a:lnTo>
                <a:lnTo>
                  <a:pt x="666" y="388"/>
                </a:lnTo>
                <a:lnTo>
                  <a:pt x="660" y="391"/>
                </a:lnTo>
                <a:lnTo>
                  <a:pt x="656" y="393"/>
                </a:lnTo>
                <a:lnTo>
                  <a:pt x="653" y="395"/>
                </a:lnTo>
                <a:lnTo>
                  <a:pt x="652" y="399"/>
                </a:lnTo>
                <a:lnTo>
                  <a:pt x="653" y="403"/>
                </a:lnTo>
                <a:lnTo>
                  <a:pt x="656" y="406"/>
                </a:lnTo>
                <a:lnTo>
                  <a:pt x="653" y="417"/>
                </a:lnTo>
                <a:lnTo>
                  <a:pt x="651" y="430"/>
                </a:lnTo>
                <a:lnTo>
                  <a:pt x="650" y="443"/>
                </a:lnTo>
                <a:lnTo>
                  <a:pt x="651" y="453"/>
                </a:lnTo>
                <a:lnTo>
                  <a:pt x="651" y="465"/>
                </a:lnTo>
                <a:lnTo>
                  <a:pt x="657" y="473"/>
                </a:lnTo>
                <a:lnTo>
                  <a:pt x="665" y="479"/>
                </a:lnTo>
                <a:lnTo>
                  <a:pt x="675" y="482"/>
                </a:lnTo>
                <a:lnTo>
                  <a:pt x="676" y="488"/>
                </a:lnTo>
                <a:lnTo>
                  <a:pt x="675" y="494"/>
                </a:lnTo>
                <a:lnTo>
                  <a:pt x="673" y="498"/>
                </a:lnTo>
                <a:lnTo>
                  <a:pt x="670" y="502"/>
                </a:lnTo>
                <a:lnTo>
                  <a:pt x="672" y="502"/>
                </a:lnTo>
                <a:lnTo>
                  <a:pt x="671" y="509"/>
                </a:lnTo>
                <a:lnTo>
                  <a:pt x="682" y="515"/>
                </a:lnTo>
                <a:lnTo>
                  <a:pt x="693" y="519"/>
                </a:lnTo>
                <a:lnTo>
                  <a:pt x="704" y="524"/>
                </a:lnTo>
                <a:lnTo>
                  <a:pt x="716" y="527"/>
                </a:lnTo>
                <a:lnTo>
                  <a:pt x="728" y="531"/>
                </a:lnTo>
                <a:lnTo>
                  <a:pt x="739" y="534"/>
                </a:lnTo>
                <a:lnTo>
                  <a:pt x="751" y="538"/>
                </a:lnTo>
                <a:lnTo>
                  <a:pt x="762" y="542"/>
                </a:lnTo>
                <a:lnTo>
                  <a:pt x="775" y="549"/>
                </a:lnTo>
                <a:lnTo>
                  <a:pt x="789" y="553"/>
                </a:lnTo>
                <a:lnTo>
                  <a:pt x="803" y="555"/>
                </a:lnTo>
                <a:lnTo>
                  <a:pt x="818" y="555"/>
                </a:lnTo>
                <a:lnTo>
                  <a:pt x="833" y="555"/>
                </a:lnTo>
                <a:lnTo>
                  <a:pt x="848" y="554"/>
                </a:lnTo>
                <a:lnTo>
                  <a:pt x="863" y="554"/>
                </a:lnTo>
                <a:lnTo>
                  <a:pt x="878" y="554"/>
                </a:lnTo>
                <a:lnTo>
                  <a:pt x="881" y="550"/>
                </a:lnTo>
                <a:lnTo>
                  <a:pt x="875" y="547"/>
                </a:lnTo>
                <a:lnTo>
                  <a:pt x="868" y="546"/>
                </a:lnTo>
                <a:lnTo>
                  <a:pt x="860" y="546"/>
                </a:lnTo>
                <a:lnTo>
                  <a:pt x="852" y="547"/>
                </a:lnTo>
                <a:lnTo>
                  <a:pt x="846" y="539"/>
                </a:lnTo>
                <a:lnTo>
                  <a:pt x="847" y="528"/>
                </a:lnTo>
                <a:lnTo>
                  <a:pt x="850" y="517"/>
                </a:lnTo>
                <a:lnTo>
                  <a:pt x="850" y="506"/>
                </a:lnTo>
                <a:lnTo>
                  <a:pt x="852" y="493"/>
                </a:lnTo>
                <a:lnTo>
                  <a:pt x="853" y="460"/>
                </a:lnTo>
                <a:lnTo>
                  <a:pt x="852" y="425"/>
                </a:lnTo>
                <a:lnTo>
                  <a:pt x="846" y="403"/>
                </a:lnTo>
                <a:lnTo>
                  <a:pt x="846" y="399"/>
                </a:lnTo>
                <a:lnTo>
                  <a:pt x="847" y="394"/>
                </a:lnTo>
                <a:lnTo>
                  <a:pt x="848" y="388"/>
                </a:lnTo>
                <a:lnTo>
                  <a:pt x="850" y="385"/>
                </a:lnTo>
                <a:lnTo>
                  <a:pt x="857" y="384"/>
                </a:lnTo>
                <a:lnTo>
                  <a:pt x="864" y="384"/>
                </a:lnTo>
                <a:lnTo>
                  <a:pt x="871" y="384"/>
                </a:lnTo>
                <a:lnTo>
                  <a:pt x="878" y="384"/>
                </a:lnTo>
                <a:lnTo>
                  <a:pt x="884" y="384"/>
                </a:lnTo>
                <a:lnTo>
                  <a:pt x="891" y="384"/>
                </a:lnTo>
                <a:lnTo>
                  <a:pt x="898" y="384"/>
                </a:lnTo>
                <a:lnTo>
                  <a:pt x="905" y="382"/>
                </a:lnTo>
                <a:lnTo>
                  <a:pt x="918" y="365"/>
                </a:lnTo>
                <a:lnTo>
                  <a:pt x="921" y="363"/>
                </a:lnTo>
                <a:lnTo>
                  <a:pt x="925" y="360"/>
                </a:lnTo>
                <a:lnTo>
                  <a:pt x="927" y="357"/>
                </a:lnTo>
                <a:lnTo>
                  <a:pt x="928" y="354"/>
                </a:lnTo>
                <a:lnTo>
                  <a:pt x="922" y="352"/>
                </a:lnTo>
                <a:lnTo>
                  <a:pt x="917" y="354"/>
                </a:lnTo>
                <a:lnTo>
                  <a:pt x="911" y="354"/>
                </a:lnTo>
                <a:lnTo>
                  <a:pt x="906" y="355"/>
                </a:lnTo>
                <a:lnTo>
                  <a:pt x="900" y="355"/>
                </a:lnTo>
                <a:lnTo>
                  <a:pt x="897" y="354"/>
                </a:lnTo>
                <a:lnTo>
                  <a:pt x="893" y="350"/>
                </a:lnTo>
                <a:lnTo>
                  <a:pt x="890" y="345"/>
                </a:lnTo>
                <a:lnTo>
                  <a:pt x="893" y="336"/>
                </a:lnTo>
                <a:lnTo>
                  <a:pt x="900" y="328"/>
                </a:lnTo>
                <a:lnTo>
                  <a:pt x="906" y="320"/>
                </a:lnTo>
                <a:lnTo>
                  <a:pt x="905" y="308"/>
                </a:lnTo>
                <a:lnTo>
                  <a:pt x="906" y="308"/>
                </a:lnTo>
                <a:lnTo>
                  <a:pt x="908" y="294"/>
                </a:lnTo>
                <a:lnTo>
                  <a:pt x="912" y="279"/>
                </a:lnTo>
                <a:lnTo>
                  <a:pt x="918" y="267"/>
                </a:lnTo>
                <a:lnTo>
                  <a:pt x="927" y="257"/>
                </a:lnTo>
                <a:lnTo>
                  <a:pt x="923" y="254"/>
                </a:lnTo>
                <a:lnTo>
                  <a:pt x="918" y="259"/>
                </a:lnTo>
                <a:lnTo>
                  <a:pt x="913" y="262"/>
                </a:lnTo>
                <a:lnTo>
                  <a:pt x="908" y="265"/>
                </a:lnTo>
                <a:lnTo>
                  <a:pt x="904" y="269"/>
                </a:lnTo>
                <a:lnTo>
                  <a:pt x="899" y="272"/>
                </a:lnTo>
                <a:lnTo>
                  <a:pt x="896" y="276"/>
                </a:lnTo>
                <a:lnTo>
                  <a:pt x="891" y="279"/>
                </a:lnTo>
                <a:lnTo>
                  <a:pt x="885" y="284"/>
                </a:lnTo>
                <a:lnTo>
                  <a:pt x="872" y="292"/>
                </a:lnTo>
                <a:lnTo>
                  <a:pt x="860" y="300"/>
                </a:lnTo>
                <a:lnTo>
                  <a:pt x="848" y="308"/>
                </a:lnTo>
                <a:lnTo>
                  <a:pt x="837" y="316"/>
                </a:lnTo>
                <a:lnTo>
                  <a:pt x="825" y="325"/>
                </a:lnTo>
                <a:lnTo>
                  <a:pt x="813" y="333"/>
                </a:lnTo>
                <a:lnTo>
                  <a:pt x="801" y="341"/>
                </a:lnTo>
                <a:lnTo>
                  <a:pt x="788" y="349"/>
                </a:lnTo>
                <a:lnTo>
                  <a:pt x="774" y="354"/>
                </a:lnTo>
                <a:lnTo>
                  <a:pt x="761" y="358"/>
                </a:lnTo>
                <a:lnTo>
                  <a:pt x="747" y="364"/>
                </a:lnTo>
                <a:lnTo>
                  <a:pt x="733" y="370"/>
                </a:lnTo>
                <a:lnTo>
                  <a:pt x="721" y="374"/>
                </a:lnTo>
                <a:lnTo>
                  <a:pt x="705" y="378"/>
                </a:lnTo>
                <a:lnTo>
                  <a:pt x="690" y="380"/>
                </a:lnTo>
                <a:lnTo>
                  <a:pt x="675" y="380"/>
                </a:lnTo>
                <a:lnTo>
                  <a:pt x="667" y="358"/>
                </a:lnTo>
                <a:lnTo>
                  <a:pt x="678" y="358"/>
                </a:lnTo>
                <a:lnTo>
                  <a:pt x="689" y="357"/>
                </a:lnTo>
                <a:lnTo>
                  <a:pt x="700" y="356"/>
                </a:lnTo>
                <a:lnTo>
                  <a:pt x="711" y="355"/>
                </a:lnTo>
                <a:lnTo>
                  <a:pt x="722" y="352"/>
                </a:lnTo>
                <a:lnTo>
                  <a:pt x="732" y="349"/>
                </a:lnTo>
                <a:lnTo>
                  <a:pt x="741" y="345"/>
                </a:lnTo>
                <a:lnTo>
                  <a:pt x="751" y="341"/>
                </a:lnTo>
                <a:lnTo>
                  <a:pt x="774" y="333"/>
                </a:lnTo>
                <a:lnTo>
                  <a:pt x="796" y="322"/>
                </a:lnTo>
                <a:lnTo>
                  <a:pt x="816" y="311"/>
                </a:lnTo>
                <a:lnTo>
                  <a:pt x="835" y="297"/>
                </a:lnTo>
                <a:lnTo>
                  <a:pt x="853" y="283"/>
                </a:lnTo>
                <a:lnTo>
                  <a:pt x="871" y="268"/>
                </a:lnTo>
                <a:lnTo>
                  <a:pt x="890" y="254"/>
                </a:lnTo>
                <a:lnTo>
                  <a:pt x="910" y="240"/>
                </a:lnTo>
                <a:lnTo>
                  <a:pt x="915" y="234"/>
                </a:lnTo>
                <a:lnTo>
                  <a:pt x="921" y="226"/>
                </a:lnTo>
                <a:lnTo>
                  <a:pt x="927" y="219"/>
                </a:lnTo>
                <a:lnTo>
                  <a:pt x="935" y="213"/>
                </a:lnTo>
                <a:lnTo>
                  <a:pt x="941" y="213"/>
                </a:lnTo>
                <a:lnTo>
                  <a:pt x="947" y="213"/>
                </a:lnTo>
                <a:lnTo>
                  <a:pt x="952" y="216"/>
                </a:lnTo>
                <a:lnTo>
                  <a:pt x="955" y="221"/>
                </a:lnTo>
                <a:lnTo>
                  <a:pt x="955" y="227"/>
                </a:lnTo>
                <a:lnTo>
                  <a:pt x="955" y="233"/>
                </a:lnTo>
                <a:lnTo>
                  <a:pt x="956" y="239"/>
                </a:lnTo>
                <a:lnTo>
                  <a:pt x="961" y="242"/>
                </a:lnTo>
                <a:lnTo>
                  <a:pt x="964" y="250"/>
                </a:lnTo>
                <a:lnTo>
                  <a:pt x="969" y="259"/>
                </a:lnTo>
                <a:lnTo>
                  <a:pt x="976" y="265"/>
                </a:lnTo>
                <a:lnTo>
                  <a:pt x="983" y="272"/>
                </a:lnTo>
                <a:lnTo>
                  <a:pt x="987" y="291"/>
                </a:lnTo>
                <a:lnTo>
                  <a:pt x="988" y="311"/>
                </a:lnTo>
                <a:lnTo>
                  <a:pt x="992" y="327"/>
                </a:lnTo>
                <a:lnTo>
                  <a:pt x="1006" y="340"/>
                </a:lnTo>
                <a:lnTo>
                  <a:pt x="1007" y="342"/>
                </a:lnTo>
                <a:lnTo>
                  <a:pt x="1006" y="344"/>
                </a:lnTo>
                <a:lnTo>
                  <a:pt x="1005" y="347"/>
                </a:lnTo>
                <a:lnTo>
                  <a:pt x="1003" y="350"/>
                </a:lnTo>
                <a:lnTo>
                  <a:pt x="957" y="352"/>
                </a:lnTo>
                <a:lnTo>
                  <a:pt x="961" y="359"/>
                </a:lnTo>
                <a:lnTo>
                  <a:pt x="970" y="365"/>
                </a:lnTo>
                <a:lnTo>
                  <a:pt x="979" y="371"/>
                </a:lnTo>
                <a:lnTo>
                  <a:pt x="983" y="380"/>
                </a:lnTo>
                <a:lnTo>
                  <a:pt x="987" y="379"/>
                </a:lnTo>
                <a:lnTo>
                  <a:pt x="988" y="379"/>
                </a:lnTo>
                <a:lnTo>
                  <a:pt x="993" y="380"/>
                </a:lnTo>
                <a:lnTo>
                  <a:pt x="1000" y="381"/>
                </a:lnTo>
                <a:lnTo>
                  <a:pt x="1008" y="382"/>
                </a:lnTo>
                <a:lnTo>
                  <a:pt x="1016" y="384"/>
                </a:lnTo>
                <a:lnTo>
                  <a:pt x="1026" y="385"/>
                </a:lnTo>
                <a:lnTo>
                  <a:pt x="1034" y="385"/>
                </a:lnTo>
                <a:lnTo>
                  <a:pt x="1042" y="384"/>
                </a:lnTo>
                <a:lnTo>
                  <a:pt x="1046" y="387"/>
                </a:lnTo>
                <a:lnTo>
                  <a:pt x="1049" y="391"/>
                </a:lnTo>
                <a:lnTo>
                  <a:pt x="1050" y="396"/>
                </a:lnTo>
                <a:lnTo>
                  <a:pt x="1050" y="402"/>
                </a:lnTo>
                <a:lnTo>
                  <a:pt x="1043" y="413"/>
                </a:lnTo>
                <a:lnTo>
                  <a:pt x="1041" y="426"/>
                </a:lnTo>
                <a:lnTo>
                  <a:pt x="1041" y="443"/>
                </a:lnTo>
                <a:lnTo>
                  <a:pt x="1039" y="457"/>
                </a:lnTo>
                <a:lnTo>
                  <a:pt x="1041" y="467"/>
                </a:lnTo>
                <a:lnTo>
                  <a:pt x="1039" y="476"/>
                </a:lnTo>
                <a:lnTo>
                  <a:pt x="1038" y="486"/>
                </a:lnTo>
                <a:lnTo>
                  <a:pt x="1039" y="497"/>
                </a:lnTo>
                <a:lnTo>
                  <a:pt x="1042" y="541"/>
                </a:lnTo>
                <a:lnTo>
                  <a:pt x="1038" y="545"/>
                </a:lnTo>
                <a:lnTo>
                  <a:pt x="1034" y="545"/>
                </a:lnTo>
                <a:lnTo>
                  <a:pt x="1029" y="544"/>
                </a:lnTo>
                <a:lnTo>
                  <a:pt x="1024" y="545"/>
                </a:lnTo>
                <a:lnTo>
                  <a:pt x="1019" y="545"/>
                </a:lnTo>
                <a:lnTo>
                  <a:pt x="1013" y="544"/>
                </a:lnTo>
                <a:lnTo>
                  <a:pt x="1007" y="545"/>
                </a:lnTo>
                <a:lnTo>
                  <a:pt x="1003" y="548"/>
                </a:lnTo>
                <a:lnTo>
                  <a:pt x="1007" y="552"/>
                </a:lnTo>
                <a:lnTo>
                  <a:pt x="1012" y="554"/>
                </a:lnTo>
                <a:lnTo>
                  <a:pt x="1016" y="554"/>
                </a:lnTo>
                <a:lnTo>
                  <a:pt x="1022" y="553"/>
                </a:lnTo>
                <a:lnTo>
                  <a:pt x="1028" y="553"/>
                </a:lnTo>
                <a:lnTo>
                  <a:pt x="1034" y="553"/>
                </a:lnTo>
                <a:lnTo>
                  <a:pt x="1038" y="553"/>
                </a:lnTo>
                <a:lnTo>
                  <a:pt x="1043" y="555"/>
                </a:lnTo>
                <a:lnTo>
                  <a:pt x="1050" y="554"/>
                </a:lnTo>
                <a:lnTo>
                  <a:pt x="1057" y="553"/>
                </a:lnTo>
                <a:lnTo>
                  <a:pt x="1060" y="549"/>
                </a:lnTo>
                <a:lnTo>
                  <a:pt x="1059" y="542"/>
                </a:lnTo>
                <a:lnTo>
                  <a:pt x="1060" y="534"/>
                </a:lnTo>
                <a:lnTo>
                  <a:pt x="1060" y="525"/>
                </a:lnTo>
                <a:lnTo>
                  <a:pt x="1060" y="517"/>
                </a:lnTo>
                <a:lnTo>
                  <a:pt x="1063" y="510"/>
                </a:lnTo>
                <a:lnTo>
                  <a:pt x="1063" y="489"/>
                </a:lnTo>
                <a:lnTo>
                  <a:pt x="1064" y="489"/>
                </a:lnTo>
                <a:lnTo>
                  <a:pt x="1066" y="467"/>
                </a:lnTo>
                <a:lnTo>
                  <a:pt x="1067" y="443"/>
                </a:lnTo>
                <a:lnTo>
                  <a:pt x="1070" y="420"/>
                </a:lnTo>
                <a:lnTo>
                  <a:pt x="1072" y="395"/>
                </a:lnTo>
                <a:lnTo>
                  <a:pt x="1077" y="372"/>
                </a:lnTo>
                <a:lnTo>
                  <a:pt x="1085" y="351"/>
                </a:lnTo>
                <a:lnTo>
                  <a:pt x="1095" y="333"/>
                </a:lnTo>
                <a:lnTo>
                  <a:pt x="1111" y="318"/>
                </a:lnTo>
                <a:lnTo>
                  <a:pt x="1118" y="312"/>
                </a:lnTo>
                <a:lnTo>
                  <a:pt x="1125" y="307"/>
                </a:lnTo>
                <a:lnTo>
                  <a:pt x="1132" y="301"/>
                </a:lnTo>
                <a:lnTo>
                  <a:pt x="1139" y="297"/>
                </a:lnTo>
                <a:lnTo>
                  <a:pt x="1146" y="292"/>
                </a:lnTo>
                <a:lnTo>
                  <a:pt x="1154" y="287"/>
                </a:lnTo>
                <a:lnTo>
                  <a:pt x="1163" y="285"/>
                </a:lnTo>
                <a:lnTo>
                  <a:pt x="1174" y="283"/>
                </a:lnTo>
                <a:lnTo>
                  <a:pt x="1158" y="311"/>
                </a:lnTo>
                <a:lnTo>
                  <a:pt x="1148" y="314"/>
                </a:lnTo>
                <a:lnTo>
                  <a:pt x="1140" y="319"/>
                </a:lnTo>
                <a:lnTo>
                  <a:pt x="1132" y="325"/>
                </a:lnTo>
                <a:lnTo>
                  <a:pt x="1126" y="330"/>
                </a:lnTo>
                <a:lnTo>
                  <a:pt x="1119" y="338"/>
                </a:lnTo>
                <a:lnTo>
                  <a:pt x="1115" y="345"/>
                </a:lnTo>
                <a:lnTo>
                  <a:pt x="1109" y="354"/>
                </a:lnTo>
                <a:lnTo>
                  <a:pt x="1104" y="360"/>
                </a:lnTo>
                <a:lnTo>
                  <a:pt x="1096" y="394"/>
                </a:lnTo>
                <a:lnTo>
                  <a:pt x="1092" y="429"/>
                </a:lnTo>
                <a:lnTo>
                  <a:pt x="1088" y="465"/>
                </a:lnTo>
                <a:lnTo>
                  <a:pt x="1086" y="499"/>
                </a:lnTo>
                <a:lnTo>
                  <a:pt x="1086" y="513"/>
                </a:lnTo>
                <a:lnTo>
                  <a:pt x="1086" y="528"/>
                </a:lnTo>
                <a:lnTo>
                  <a:pt x="1088" y="541"/>
                </a:lnTo>
                <a:lnTo>
                  <a:pt x="1095" y="550"/>
                </a:lnTo>
                <a:lnTo>
                  <a:pt x="1099" y="532"/>
                </a:lnTo>
                <a:lnTo>
                  <a:pt x="1107" y="517"/>
                </a:lnTo>
                <a:lnTo>
                  <a:pt x="1114" y="501"/>
                </a:lnTo>
                <a:lnTo>
                  <a:pt x="1116" y="481"/>
                </a:lnTo>
                <a:lnTo>
                  <a:pt x="1114" y="465"/>
                </a:lnTo>
                <a:lnTo>
                  <a:pt x="1115" y="447"/>
                </a:lnTo>
                <a:lnTo>
                  <a:pt x="1114" y="431"/>
                </a:lnTo>
                <a:lnTo>
                  <a:pt x="1104" y="418"/>
                </a:lnTo>
                <a:lnTo>
                  <a:pt x="1102" y="409"/>
                </a:lnTo>
                <a:lnTo>
                  <a:pt x="1103" y="402"/>
                </a:lnTo>
                <a:lnTo>
                  <a:pt x="1108" y="398"/>
                </a:lnTo>
                <a:lnTo>
                  <a:pt x="1114" y="394"/>
                </a:lnTo>
                <a:lnTo>
                  <a:pt x="1121" y="391"/>
                </a:lnTo>
                <a:lnTo>
                  <a:pt x="1128" y="387"/>
                </a:lnTo>
                <a:lnTo>
                  <a:pt x="1133" y="381"/>
                </a:lnTo>
                <a:lnTo>
                  <a:pt x="1137" y="376"/>
                </a:lnTo>
                <a:lnTo>
                  <a:pt x="1144" y="370"/>
                </a:lnTo>
                <a:lnTo>
                  <a:pt x="1152" y="365"/>
                </a:lnTo>
                <a:lnTo>
                  <a:pt x="1160" y="360"/>
                </a:lnTo>
                <a:lnTo>
                  <a:pt x="1166" y="354"/>
                </a:lnTo>
                <a:lnTo>
                  <a:pt x="1163" y="350"/>
                </a:lnTo>
                <a:lnTo>
                  <a:pt x="1160" y="348"/>
                </a:lnTo>
                <a:lnTo>
                  <a:pt x="1157" y="347"/>
                </a:lnTo>
                <a:lnTo>
                  <a:pt x="1152" y="347"/>
                </a:lnTo>
                <a:lnTo>
                  <a:pt x="1150" y="344"/>
                </a:lnTo>
                <a:lnTo>
                  <a:pt x="1147" y="341"/>
                </a:lnTo>
                <a:lnTo>
                  <a:pt x="1146" y="337"/>
                </a:lnTo>
                <a:lnTo>
                  <a:pt x="1146" y="331"/>
                </a:lnTo>
                <a:lnTo>
                  <a:pt x="1150" y="329"/>
                </a:lnTo>
                <a:lnTo>
                  <a:pt x="1154" y="327"/>
                </a:lnTo>
                <a:lnTo>
                  <a:pt x="1160" y="326"/>
                </a:lnTo>
                <a:lnTo>
                  <a:pt x="1165" y="326"/>
                </a:lnTo>
                <a:lnTo>
                  <a:pt x="1170" y="326"/>
                </a:lnTo>
                <a:lnTo>
                  <a:pt x="1175" y="326"/>
                </a:lnTo>
                <a:lnTo>
                  <a:pt x="1180" y="325"/>
                </a:lnTo>
                <a:lnTo>
                  <a:pt x="1184" y="323"/>
                </a:lnTo>
                <a:lnTo>
                  <a:pt x="1181" y="320"/>
                </a:lnTo>
                <a:lnTo>
                  <a:pt x="1179" y="314"/>
                </a:lnTo>
                <a:lnTo>
                  <a:pt x="1176" y="309"/>
                </a:lnTo>
                <a:lnTo>
                  <a:pt x="1173" y="306"/>
                </a:lnTo>
                <a:lnTo>
                  <a:pt x="1168" y="307"/>
                </a:lnTo>
                <a:lnTo>
                  <a:pt x="1165" y="308"/>
                </a:lnTo>
                <a:lnTo>
                  <a:pt x="1161" y="311"/>
                </a:lnTo>
                <a:lnTo>
                  <a:pt x="1161" y="315"/>
                </a:lnTo>
                <a:lnTo>
                  <a:pt x="1160" y="314"/>
                </a:lnTo>
                <a:lnTo>
                  <a:pt x="1158" y="314"/>
                </a:lnTo>
                <a:lnTo>
                  <a:pt x="1157" y="313"/>
                </a:lnTo>
                <a:lnTo>
                  <a:pt x="1158" y="311"/>
                </a:lnTo>
                <a:lnTo>
                  <a:pt x="1174" y="283"/>
                </a:lnTo>
                <a:lnTo>
                  <a:pt x="1182" y="278"/>
                </a:lnTo>
                <a:lnTo>
                  <a:pt x="1187" y="254"/>
                </a:lnTo>
                <a:lnTo>
                  <a:pt x="1192" y="225"/>
                </a:lnTo>
                <a:lnTo>
                  <a:pt x="1198" y="201"/>
                </a:lnTo>
                <a:lnTo>
                  <a:pt x="1204" y="190"/>
                </a:lnTo>
                <a:lnTo>
                  <a:pt x="1215" y="204"/>
                </a:lnTo>
                <a:lnTo>
                  <a:pt x="1221" y="231"/>
                </a:lnTo>
                <a:lnTo>
                  <a:pt x="1226" y="262"/>
                </a:lnTo>
                <a:lnTo>
                  <a:pt x="1228" y="286"/>
                </a:lnTo>
                <a:lnTo>
                  <a:pt x="1230" y="291"/>
                </a:lnTo>
                <a:lnTo>
                  <a:pt x="1231" y="297"/>
                </a:lnTo>
                <a:lnTo>
                  <a:pt x="1230" y="303"/>
                </a:lnTo>
                <a:lnTo>
                  <a:pt x="1228" y="307"/>
                </a:lnTo>
                <a:lnTo>
                  <a:pt x="1225" y="311"/>
                </a:lnTo>
                <a:lnTo>
                  <a:pt x="1223" y="314"/>
                </a:lnTo>
                <a:lnTo>
                  <a:pt x="1221" y="318"/>
                </a:lnTo>
                <a:lnTo>
                  <a:pt x="1220" y="321"/>
                </a:lnTo>
                <a:lnTo>
                  <a:pt x="1225" y="325"/>
                </a:lnTo>
                <a:lnTo>
                  <a:pt x="1231" y="326"/>
                </a:lnTo>
                <a:lnTo>
                  <a:pt x="1238" y="326"/>
                </a:lnTo>
                <a:lnTo>
                  <a:pt x="1245" y="326"/>
                </a:lnTo>
                <a:lnTo>
                  <a:pt x="1252" y="327"/>
                </a:lnTo>
                <a:lnTo>
                  <a:pt x="1255" y="329"/>
                </a:lnTo>
                <a:lnTo>
                  <a:pt x="1256" y="334"/>
                </a:lnTo>
                <a:lnTo>
                  <a:pt x="1254" y="342"/>
                </a:lnTo>
                <a:lnTo>
                  <a:pt x="1252" y="345"/>
                </a:lnTo>
                <a:lnTo>
                  <a:pt x="1249" y="348"/>
                </a:lnTo>
                <a:lnTo>
                  <a:pt x="1248" y="351"/>
                </a:lnTo>
                <a:lnTo>
                  <a:pt x="1248" y="355"/>
                </a:lnTo>
                <a:lnTo>
                  <a:pt x="1256" y="358"/>
                </a:lnTo>
                <a:lnTo>
                  <a:pt x="1262" y="364"/>
                </a:lnTo>
                <a:lnTo>
                  <a:pt x="1267" y="372"/>
                </a:lnTo>
                <a:lnTo>
                  <a:pt x="1271" y="379"/>
                </a:lnTo>
                <a:lnTo>
                  <a:pt x="1275" y="387"/>
                </a:lnTo>
                <a:lnTo>
                  <a:pt x="1281" y="394"/>
                </a:lnTo>
                <a:lnTo>
                  <a:pt x="1286" y="399"/>
                </a:lnTo>
                <a:lnTo>
                  <a:pt x="1296" y="402"/>
                </a:lnTo>
                <a:lnTo>
                  <a:pt x="1299" y="406"/>
                </a:lnTo>
                <a:lnTo>
                  <a:pt x="1300" y="410"/>
                </a:lnTo>
                <a:lnTo>
                  <a:pt x="1301" y="415"/>
                </a:lnTo>
                <a:lnTo>
                  <a:pt x="1301" y="417"/>
                </a:lnTo>
                <a:lnTo>
                  <a:pt x="1299" y="422"/>
                </a:lnTo>
                <a:lnTo>
                  <a:pt x="1297" y="425"/>
                </a:lnTo>
                <a:lnTo>
                  <a:pt x="1292" y="429"/>
                </a:lnTo>
                <a:lnTo>
                  <a:pt x="1288" y="432"/>
                </a:lnTo>
                <a:lnTo>
                  <a:pt x="1285" y="451"/>
                </a:lnTo>
                <a:lnTo>
                  <a:pt x="1285" y="469"/>
                </a:lnTo>
                <a:lnTo>
                  <a:pt x="1285" y="489"/>
                </a:lnTo>
                <a:lnTo>
                  <a:pt x="1286" y="506"/>
                </a:lnTo>
                <a:lnTo>
                  <a:pt x="1293" y="511"/>
                </a:lnTo>
                <a:lnTo>
                  <a:pt x="1299" y="518"/>
                </a:lnTo>
                <a:lnTo>
                  <a:pt x="1301" y="527"/>
                </a:lnTo>
                <a:lnTo>
                  <a:pt x="1304" y="535"/>
                </a:lnTo>
                <a:lnTo>
                  <a:pt x="1307" y="544"/>
                </a:lnTo>
                <a:lnTo>
                  <a:pt x="1311" y="550"/>
                </a:lnTo>
                <a:lnTo>
                  <a:pt x="1318" y="554"/>
                </a:lnTo>
                <a:lnTo>
                  <a:pt x="1327" y="553"/>
                </a:lnTo>
                <a:lnTo>
                  <a:pt x="1340" y="553"/>
                </a:lnTo>
                <a:lnTo>
                  <a:pt x="1352" y="554"/>
                </a:lnTo>
                <a:lnTo>
                  <a:pt x="1365" y="554"/>
                </a:lnTo>
                <a:lnTo>
                  <a:pt x="1378" y="554"/>
                </a:lnTo>
                <a:lnTo>
                  <a:pt x="1391" y="554"/>
                </a:lnTo>
                <a:lnTo>
                  <a:pt x="1405" y="554"/>
                </a:lnTo>
                <a:lnTo>
                  <a:pt x="1417" y="554"/>
                </a:lnTo>
                <a:lnTo>
                  <a:pt x="1431" y="553"/>
                </a:lnTo>
                <a:lnTo>
                  <a:pt x="1444" y="553"/>
                </a:lnTo>
                <a:lnTo>
                  <a:pt x="1458" y="553"/>
                </a:lnTo>
                <a:lnTo>
                  <a:pt x="1472" y="553"/>
                </a:lnTo>
                <a:lnTo>
                  <a:pt x="1485" y="553"/>
                </a:lnTo>
                <a:lnTo>
                  <a:pt x="1499" y="553"/>
                </a:lnTo>
                <a:lnTo>
                  <a:pt x="1513" y="553"/>
                </a:lnTo>
                <a:lnTo>
                  <a:pt x="1525" y="554"/>
                </a:lnTo>
                <a:lnTo>
                  <a:pt x="1539" y="554"/>
                </a:lnTo>
                <a:lnTo>
                  <a:pt x="1545" y="553"/>
                </a:lnTo>
                <a:lnTo>
                  <a:pt x="1546" y="548"/>
                </a:lnTo>
                <a:lnTo>
                  <a:pt x="1545" y="544"/>
                </a:lnTo>
                <a:lnTo>
                  <a:pt x="1545" y="538"/>
                </a:lnTo>
                <a:lnTo>
                  <a:pt x="1536" y="532"/>
                </a:lnTo>
                <a:lnTo>
                  <a:pt x="1533" y="524"/>
                </a:lnTo>
                <a:lnTo>
                  <a:pt x="1533" y="515"/>
                </a:lnTo>
                <a:lnTo>
                  <a:pt x="1533" y="504"/>
                </a:lnTo>
                <a:lnTo>
                  <a:pt x="1540" y="498"/>
                </a:lnTo>
                <a:lnTo>
                  <a:pt x="1542" y="491"/>
                </a:lnTo>
                <a:lnTo>
                  <a:pt x="1539" y="482"/>
                </a:lnTo>
                <a:lnTo>
                  <a:pt x="1539" y="473"/>
                </a:lnTo>
                <a:lnTo>
                  <a:pt x="1526" y="435"/>
                </a:lnTo>
                <a:lnTo>
                  <a:pt x="1510" y="382"/>
                </a:lnTo>
                <a:lnTo>
                  <a:pt x="1492" y="322"/>
                </a:lnTo>
                <a:lnTo>
                  <a:pt x="1473" y="260"/>
                </a:lnTo>
                <a:lnTo>
                  <a:pt x="1455" y="202"/>
                </a:lnTo>
                <a:lnTo>
                  <a:pt x="1439" y="153"/>
                </a:lnTo>
                <a:lnTo>
                  <a:pt x="1429" y="119"/>
                </a:lnTo>
                <a:lnTo>
                  <a:pt x="1424" y="107"/>
                </a:lnTo>
                <a:lnTo>
                  <a:pt x="1420" y="104"/>
                </a:lnTo>
                <a:lnTo>
                  <a:pt x="1417" y="81"/>
                </a:lnTo>
                <a:lnTo>
                  <a:pt x="1417" y="55"/>
                </a:lnTo>
                <a:lnTo>
                  <a:pt x="1417" y="28"/>
                </a:lnTo>
                <a:lnTo>
                  <a:pt x="1417" y="2"/>
                </a:lnTo>
                <a:lnTo>
                  <a:pt x="1429" y="2"/>
                </a:lnTo>
                <a:lnTo>
                  <a:pt x="1445" y="1"/>
                </a:lnTo>
                <a:lnTo>
                  <a:pt x="1465" y="1"/>
                </a:lnTo>
                <a:lnTo>
                  <a:pt x="1488" y="1"/>
                </a:lnTo>
                <a:lnTo>
                  <a:pt x="1516" y="0"/>
                </a:lnTo>
                <a:lnTo>
                  <a:pt x="1545" y="0"/>
                </a:lnTo>
                <a:lnTo>
                  <a:pt x="1575" y="0"/>
                </a:lnTo>
                <a:lnTo>
                  <a:pt x="1608" y="0"/>
                </a:lnTo>
                <a:lnTo>
                  <a:pt x="1640" y="0"/>
                </a:lnTo>
                <a:lnTo>
                  <a:pt x="1673" y="0"/>
                </a:lnTo>
                <a:lnTo>
                  <a:pt x="1705" y="0"/>
                </a:lnTo>
                <a:lnTo>
                  <a:pt x="1735" y="0"/>
                </a:lnTo>
                <a:lnTo>
                  <a:pt x="1764" y="0"/>
                </a:lnTo>
                <a:lnTo>
                  <a:pt x="1791" y="0"/>
                </a:lnTo>
                <a:lnTo>
                  <a:pt x="1815" y="0"/>
                </a:lnTo>
                <a:lnTo>
                  <a:pt x="1835" y="0"/>
                </a:lnTo>
                <a:lnTo>
                  <a:pt x="1837" y="16"/>
                </a:lnTo>
                <a:lnTo>
                  <a:pt x="1836" y="48"/>
                </a:lnTo>
                <a:lnTo>
                  <a:pt x="1834" y="78"/>
                </a:lnTo>
                <a:lnTo>
                  <a:pt x="1833" y="91"/>
                </a:lnTo>
                <a:lnTo>
                  <a:pt x="1827" y="99"/>
                </a:lnTo>
                <a:lnTo>
                  <a:pt x="1821" y="104"/>
                </a:lnTo>
                <a:lnTo>
                  <a:pt x="1814" y="110"/>
                </a:lnTo>
                <a:lnTo>
                  <a:pt x="1808" y="118"/>
                </a:lnTo>
                <a:lnTo>
                  <a:pt x="1802" y="141"/>
                </a:lnTo>
                <a:lnTo>
                  <a:pt x="1793" y="180"/>
                </a:lnTo>
                <a:lnTo>
                  <a:pt x="1780" y="228"/>
                </a:lnTo>
                <a:lnTo>
                  <a:pt x="1766" y="283"/>
                </a:lnTo>
                <a:lnTo>
                  <a:pt x="1750" y="337"/>
                </a:lnTo>
                <a:lnTo>
                  <a:pt x="1736" y="386"/>
                </a:lnTo>
                <a:lnTo>
                  <a:pt x="1722" y="424"/>
                </a:lnTo>
                <a:lnTo>
                  <a:pt x="1713" y="446"/>
                </a:lnTo>
                <a:lnTo>
                  <a:pt x="1712" y="464"/>
                </a:lnTo>
                <a:lnTo>
                  <a:pt x="1707" y="482"/>
                </a:lnTo>
                <a:lnTo>
                  <a:pt x="1705" y="499"/>
                </a:lnTo>
                <a:lnTo>
                  <a:pt x="1708" y="518"/>
                </a:lnTo>
                <a:lnTo>
                  <a:pt x="1712" y="527"/>
                </a:lnTo>
                <a:lnTo>
                  <a:pt x="1719" y="542"/>
                </a:lnTo>
                <a:lnTo>
                  <a:pt x="1725" y="556"/>
                </a:lnTo>
                <a:lnTo>
                  <a:pt x="1728" y="563"/>
                </a:lnTo>
                <a:lnTo>
                  <a:pt x="1737" y="560"/>
                </a:lnTo>
                <a:lnTo>
                  <a:pt x="1747" y="555"/>
                </a:lnTo>
                <a:lnTo>
                  <a:pt x="1754" y="548"/>
                </a:lnTo>
                <a:lnTo>
                  <a:pt x="1754" y="538"/>
                </a:lnTo>
                <a:lnTo>
                  <a:pt x="1754" y="515"/>
                </a:lnTo>
                <a:lnTo>
                  <a:pt x="1754" y="493"/>
                </a:lnTo>
                <a:lnTo>
                  <a:pt x="1754" y="471"/>
                </a:lnTo>
                <a:lnTo>
                  <a:pt x="1755" y="449"/>
                </a:lnTo>
                <a:lnTo>
                  <a:pt x="1754" y="442"/>
                </a:lnTo>
                <a:lnTo>
                  <a:pt x="1754" y="433"/>
                </a:lnTo>
                <a:lnTo>
                  <a:pt x="1750" y="428"/>
                </a:lnTo>
                <a:lnTo>
                  <a:pt x="1743" y="426"/>
                </a:lnTo>
                <a:lnTo>
                  <a:pt x="1741" y="424"/>
                </a:lnTo>
                <a:lnTo>
                  <a:pt x="1740" y="421"/>
                </a:lnTo>
                <a:lnTo>
                  <a:pt x="1741" y="416"/>
                </a:lnTo>
                <a:lnTo>
                  <a:pt x="1742" y="414"/>
                </a:lnTo>
                <a:lnTo>
                  <a:pt x="1749" y="409"/>
                </a:lnTo>
                <a:lnTo>
                  <a:pt x="1757" y="404"/>
                </a:lnTo>
                <a:lnTo>
                  <a:pt x="1765" y="401"/>
                </a:lnTo>
                <a:lnTo>
                  <a:pt x="1773" y="398"/>
                </a:lnTo>
                <a:lnTo>
                  <a:pt x="1782" y="395"/>
                </a:lnTo>
                <a:lnTo>
                  <a:pt x="1791" y="393"/>
                </a:lnTo>
                <a:lnTo>
                  <a:pt x="1801" y="391"/>
                </a:lnTo>
                <a:lnTo>
                  <a:pt x="1811" y="388"/>
                </a:lnTo>
                <a:lnTo>
                  <a:pt x="1843" y="395"/>
                </a:lnTo>
                <a:lnTo>
                  <a:pt x="1844" y="388"/>
                </a:lnTo>
                <a:lnTo>
                  <a:pt x="1848" y="381"/>
                </a:lnTo>
                <a:lnTo>
                  <a:pt x="1853" y="379"/>
                </a:lnTo>
                <a:lnTo>
                  <a:pt x="1862" y="379"/>
                </a:lnTo>
                <a:lnTo>
                  <a:pt x="1867" y="381"/>
                </a:lnTo>
                <a:lnTo>
                  <a:pt x="1873" y="380"/>
                </a:lnTo>
                <a:lnTo>
                  <a:pt x="1877" y="384"/>
                </a:lnTo>
                <a:lnTo>
                  <a:pt x="1875" y="393"/>
                </a:lnTo>
                <a:lnTo>
                  <a:pt x="1874" y="393"/>
                </a:lnTo>
                <a:lnTo>
                  <a:pt x="1877" y="400"/>
                </a:lnTo>
                <a:lnTo>
                  <a:pt x="1882" y="406"/>
                </a:lnTo>
                <a:lnTo>
                  <a:pt x="1888" y="411"/>
                </a:lnTo>
                <a:lnTo>
                  <a:pt x="1886" y="420"/>
                </a:lnTo>
                <a:lnTo>
                  <a:pt x="1877" y="440"/>
                </a:lnTo>
                <a:lnTo>
                  <a:pt x="1873" y="487"/>
                </a:lnTo>
                <a:lnTo>
                  <a:pt x="1878" y="534"/>
                </a:lnTo>
                <a:lnTo>
                  <a:pt x="1891" y="564"/>
                </a:lnTo>
                <a:lnTo>
                  <a:pt x="1891" y="574"/>
                </a:lnTo>
                <a:lnTo>
                  <a:pt x="1889" y="582"/>
                </a:lnTo>
                <a:lnTo>
                  <a:pt x="1886" y="589"/>
                </a:lnTo>
                <a:lnTo>
                  <a:pt x="1880" y="594"/>
                </a:lnTo>
                <a:lnTo>
                  <a:pt x="1882" y="604"/>
                </a:lnTo>
                <a:lnTo>
                  <a:pt x="1882" y="616"/>
                </a:lnTo>
                <a:lnTo>
                  <a:pt x="1877" y="628"/>
                </a:lnTo>
                <a:lnTo>
                  <a:pt x="1859" y="635"/>
                </a:lnTo>
                <a:lnTo>
                  <a:pt x="1851" y="637"/>
                </a:lnTo>
                <a:lnTo>
                  <a:pt x="1845" y="636"/>
                </a:lnTo>
                <a:lnTo>
                  <a:pt x="1838" y="636"/>
                </a:lnTo>
                <a:lnTo>
                  <a:pt x="1831" y="637"/>
                </a:lnTo>
                <a:lnTo>
                  <a:pt x="1826" y="643"/>
                </a:lnTo>
                <a:lnTo>
                  <a:pt x="1821" y="649"/>
                </a:lnTo>
                <a:lnTo>
                  <a:pt x="1816" y="656"/>
                </a:lnTo>
                <a:lnTo>
                  <a:pt x="1816" y="664"/>
                </a:lnTo>
                <a:lnTo>
                  <a:pt x="1816" y="672"/>
                </a:lnTo>
                <a:lnTo>
                  <a:pt x="1816" y="692"/>
                </a:lnTo>
                <a:lnTo>
                  <a:pt x="1813" y="714"/>
                </a:lnTo>
                <a:lnTo>
                  <a:pt x="1802" y="731"/>
                </a:lnTo>
                <a:lnTo>
                  <a:pt x="1771" y="708"/>
                </a:lnTo>
                <a:lnTo>
                  <a:pt x="1778" y="695"/>
                </a:lnTo>
                <a:lnTo>
                  <a:pt x="1780" y="678"/>
                </a:lnTo>
                <a:lnTo>
                  <a:pt x="1779" y="661"/>
                </a:lnTo>
                <a:lnTo>
                  <a:pt x="1777" y="651"/>
                </a:lnTo>
                <a:lnTo>
                  <a:pt x="1773" y="652"/>
                </a:lnTo>
                <a:lnTo>
                  <a:pt x="1771" y="656"/>
                </a:lnTo>
                <a:lnTo>
                  <a:pt x="1768" y="659"/>
                </a:lnTo>
                <a:lnTo>
                  <a:pt x="1762" y="662"/>
                </a:lnTo>
                <a:lnTo>
                  <a:pt x="1755" y="661"/>
                </a:lnTo>
                <a:lnTo>
                  <a:pt x="1750" y="656"/>
                </a:lnTo>
                <a:lnTo>
                  <a:pt x="1747" y="652"/>
                </a:lnTo>
                <a:lnTo>
                  <a:pt x="1741" y="651"/>
                </a:lnTo>
                <a:lnTo>
                  <a:pt x="1736" y="650"/>
                </a:lnTo>
                <a:lnTo>
                  <a:pt x="1734" y="647"/>
                </a:lnTo>
                <a:lnTo>
                  <a:pt x="1733" y="643"/>
                </a:lnTo>
                <a:lnTo>
                  <a:pt x="1731" y="640"/>
                </a:lnTo>
                <a:lnTo>
                  <a:pt x="1729" y="645"/>
                </a:lnTo>
                <a:lnTo>
                  <a:pt x="1728" y="650"/>
                </a:lnTo>
                <a:lnTo>
                  <a:pt x="1728" y="655"/>
                </a:lnTo>
                <a:lnTo>
                  <a:pt x="1728" y="662"/>
                </a:lnTo>
                <a:lnTo>
                  <a:pt x="1731" y="662"/>
                </a:lnTo>
                <a:lnTo>
                  <a:pt x="1733" y="669"/>
                </a:lnTo>
                <a:lnTo>
                  <a:pt x="1741" y="669"/>
                </a:lnTo>
                <a:lnTo>
                  <a:pt x="1750" y="667"/>
                </a:lnTo>
                <a:lnTo>
                  <a:pt x="1757" y="670"/>
                </a:lnTo>
                <a:lnTo>
                  <a:pt x="1764" y="676"/>
                </a:lnTo>
                <a:lnTo>
                  <a:pt x="1769" y="681"/>
                </a:lnTo>
                <a:lnTo>
                  <a:pt x="1772" y="689"/>
                </a:lnTo>
                <a:lnTo>
                  <a:pt x="1772" y="699"/>
                </a:lnTo>
                <a:lnTo>
                  <a:pt x="1766" y="703"/>
                </a:lnTo>
                <a:lnTo>
                  <a:pt x="1759" y="706"/>
                </a:lnTo>
                <a:lnTo>
                  <a:pt x="1751" y="707"/>
                </a:lnTo>
                <a:lnTo>
                  <a:pt x="1743" y="706"/>
                </a:lnTo>
                <a:lnTo>
                  <a:pt x="1744" y="707"/>
                </a:lnTo>
                <a:lnTo>
                  <a:pt x="1746" y="707"/>
                </a:lnTo>
                <a:lnTo>
                  <a:pt x="1747" y="708"/>
                </a:lnTo>
                <a:lnTo>
                  <a:pt x="1747" y="709"/>
                </a:lnTo>
                <a:lnTo>
                  <a:pt x="1753" y="713"/>
                </a:lnTo>
                <a:lnTo>
                  <a:pt x="1759" y="714"/>
                </a:lnTo>
                <a:lnTo>
                  <a:pt x="1765" y="713"/>
                </a:lnTo>
                <a:lnTo>
                  <a:pt x="1771" y="708"/>
                </a:lnTo>
                <a:lnTo>
                  <a:pt x="1802" y="731"/>
                </a:lnTo>
                <a:lnTo>
                  <a:pt x="1799" y="735"/>
                </a:lnTo>
                <a:lnTo>
                  <a:pt x="1794" y="737"/>
                </a:lnTo>
                <a:lnTo>
                  <a:pt x="1791" y="739"/>
                </a:lnTo>
                <a:lnTo>
                  <a:pt x="1786" y="744"/>
                </a:lnTo>
                <a:lnTo>
                  <a:pt x="1795" y="753"/>
                </a:lnTo>
                <a:lnTo>
                  <a:pt x="1811" y="767"/>
                </a:lnTo>
                <a:lnTo>
                  <a:pt x="1828" y="784"/>
                </a:lnTo>
                <a:lnTo>
                  <a:pt x="1849" y="803"/>
                </a:lnTo>
                <a:lnTo>
                  <a:pt x="1870" y="822"/>
                </a:lnTo>
                <a:lnTo>
                  <a:pt x="1889" y="839"/>
                </a:lnTo>
                <a:lnTo>
                  <a:pt x="1906" y="853"/>
                </a:lnTo>
                <a:lnTo>
                  <a:pt x="1918" y="863"/>
                </a:lnTo>
                <a:lnTo>
                  <a:pt x="1888" y="884"/>
                </a:lnTo>
                <a:lnTo>
                  <a:pt x="1875" y="871"/>
                </a:lnTo>
                <a:lnTo>
                  <a:pt x="1859" y="854"/>
                </a:lnTo>
                <a:lnTo>
                  <a:pt x="1838" y="835"/>
                </a:lnTo>
                <a:lnTo>
                  <a:pt x="1816" y="815"/>
                </a:lnTo>
                <a:lnTo>
                  <a:pt x="1794" y="796"/>
                </a:lnTo>
                <a:lnTo>
                  <a:pt x="1775" y="778"/>
                </a:lnTo>
                <a:lnTo>
                  <a:pt x="1758" y="765"/>
                </a:lnTo>
                <a:lnTo>
                  <a:pt x="1747" y="756"/>
                </a:lnTo>
                <a:lnTo>
                  <a:pt x="1743" y="874"/>
                </a:lnTo>
                <a:lnTo>
                  <a:pt x="1750" y="877"/>
                </a:lnTo>
                <a:lnTo>
                  <a:pt x="1758" y="875"/>
                </a:lnTo>
                <a:lnTo>
                  <a:pt x="1766" y="873"/>
                </a:lnTo>
                <a:lnTo>
                  <a:pt x="1773" y="871"/>
                </a:lnTo>
                <a:lnTo>
                  <a:pt x="1779" y="873"/>
                </a:lnTo>
                <a:lnTo>
                  <a:pt x="1783" y="875"/>
                </a:lnTo>
                <a:lnTo>
                  <a:pt x="1786" y="878"/>
                </a:lnTo>
                <a:lnTo>
                  <a:pt x="1787" y="883"/>
                </a:lnTo>
                <a:lnTo>
                  <a:pt x="1800" y="885"/>
                </a:lnTo>
                <a:lnTo>
                  <a:pt x="1813" y="886"/>
                </a:lnTo>
                <a:lnTo>
                  <a:pt x="1824" y="888"/>
                </a:lnTo>
                <a:lnTo>
                  <a:pt x="1837" y="886"/>
                </a:lnTo>
                <a:lnTo>
                  <a:pt x="1850" y="885"/>
                </a:lnTo>
                <a:lnTo>
                  <a:pt x="1863" y="885"/>
                </a:lnTo>
                <a:lnTo>
                  <a:pt x="1875" y="884"/>
                </a:lnTo>
                <a:lnTo>
                  <a:pt x="1888" y="884"/>
                </a:lnTo>
                <a:lnTo>
                  <a:pt x="1918" y="863"/>
                </a:lnTo>
                <a:lnTo>
                  <a:pt x="1925" y="866"/>
                </a:lnTo>
                <a:lnTo>
                  <a:pt x="1936" y="868"/>
                </a:lnTo>
                <a:lnTo>
                  <a:pt x="1949" y="870"/>
                </a:lnTo>
                <a:lnTo>
                  <a:pt x="1964" y="873"/>
                </a:lnTo>
                <a:lnTo>
                  <a:pt x="1979" y="876"/>
                </a:lnTo>
                <a:lnTo>
                  <a:pt x="1993" y="882"/>
                </a:lnTo>
                <a:lnTo>
                  <a:pt x="2005" y="889"/>
                </a:lnTo>
                <a:lnTo>
                  <a:pt x="2016" y="898"/>
                </a:lnTo>
                <a:lnTo>
                  <a:pt x="2019" y="904"/>
                </a:lnTo>
                <a:lnTo>
                  <a:pt x="2019" y="912"/>
                </a:lnTo>
                <a:lnTo>
                  <a:pt x="2018" y="920"/>
                </a:lnTo>
                <a:lnTo>
                  <a:pt x="2019" y="928"/>
                </a:lnTo>
                <a:lnTo>
                  <a:pt x="2027" y="934"/>
                </a:lnTo>
                <a:lnTo>
                  <a:pt x="2039" y="942"/>
                </a:lnTo>
                <a:lnTo>
                  <a:pt x="2053" y="952"/>
                </a:lnTo>
                <a:lnTo>
                  <a:pt x="2071" y="964"/>
                </a:lnTo>
                <a:lnTo>
                  <a:pt x="2090" y="977"/>
                </a:lnTo>
                <a:lnTo>
                  <a:pt x="2111" y="992"/>
                </a:lnTo>
                <a:lnTo>
                  <a:pt x="2133" y="1006"/>
                </a:lnTo>
                <a:lnTo>
                  <a:pt x="2155" y="1021"/>
                </a:lnTo>
                <a:lnTo>
                  <a:pt x="2177" y="1036"/>
                </a:lnTo>
                <a:lnTo>
                  <a:pt x="2198" y="1050"/>
                </a:lnTo>
                <a:lnTo>
                  <a:pt x="2216" y="1063"/>
                </a:lnTo>
                <a:lnTo>
                  <a:pt x="2234" y="1074"/>
                </a:lnTo>
                <a:lnTo>
                  <a:pt x="2248" y="1083"/>
                </a:lnTo>
                <a:lnTo>
                  <a:pt x="2259" y="1091"/>
                </a:lnTo>
                <a:lnTo>
                  <a:pt x="2266" y="1096"/>
                </a:lnTo>
                <a:lnTo>
                  <a:pt x="2269" y="1097"/>
                </a:lnTo>
                <a:lnTo>
                  <a:pt x="2269" y="1102"/>
                </a:lnTo>
                <a:lnTo>
                  <a:pt x="2266" y="1104"/>
                </a:lnTo>
                <a:lnTo>
                  <a:pt x="2263" y="1107"/>
                </a:lnTo>
                <a:lnTo>
                  <a:pt x="2259" y="1109"/>
                </a:lnTo>
                <a:lnTo>
                  <a:pt x="2251" y="1109"/>
                </a:lnTo>
                <a:lnTo>
                  <a:pt x="2240" y="1109"/>
                </a:lnTo>
                <a:lnTo>
                  <a:pt x="2224" y="1109"/>
                </a:lnTo>
                <a:lnTo>
                  <a:pt x="2208" y="1109"/>
                </a:lnTo>
                <a:lnTo>
                  <a:pt x="2189" y="1109"/>
                </a:lnTo>
                <a:lnTo>
                  <a:pt x="2168" y="1108"/>
                </a:lnTo>
                <a:lnTo>
                  <a:pt x="2147" y="1108"/>
                </a:lnTo>
                <a:lnTo>
                  <a:pt x="2124" y="1108"/>
                </a:lnTo>
                <a:lnTo>
                  <a:pt x="2102" y="1108"/>
                </a:lnTo>
                <a:lnTo>
                  <a:pt x="2078" y="1108"/>
                </a:lnTo>
                <a:lnTo>
                  <a:pt x="2057" y="1108"/>
                </a:lnTo>
                <a:lnTo>
                  <a:pt x="2037" y="1108"/>
                </a:lnTo>
                <a:lnTo>
                  <a:pt x="2018" y="1108"/>
                </a:lnTo>
                <a:lnTo>
                  <a:pt x="2002" y="1108"/>
                </a:lnTo>
                <a:lnTo>
                  <a:pt x="1988" y="1108"/>
                </a:lnTo>
                <a:lnTo>
                  <a:pt x="1976" y="1108"/>
                </a:lnTo>
                <a:lnTo>
                  <a:pt x="1971" y="1101"/>
                </a:lnTo>
                <a:lnTo>
                  <a:pt x="1967" y="1094"/>
                </a:lnTo>
                <a:lnTo>
                  <a:pt x="1962" y="1087"/>
                </a:lnTo>
                <a:lnTo>
                  <a:pt x="1959" y="1079"/>
                </a:lnTo>
                <a:lnTo>
                  <a:pt x="1955" y="1072"/>
                </a:lnTo>
                <a:lnTo>
                  <a:pt x="1952" y="1065"/>
                </a:lnTo>
                <a:lnTo>
                  <a:pt x="1946" y="1058"/>
                </a:lnTo>
                <a:lnTo>
                  <a:pt x="1940" y="1051"/>
                </a:lnTo>
                <a:lnTo>
                  <a:pt x="1937" y="1053"/>
                </a:lnTo>
                <a:lnTo>
                  <a:pt x="1933" y="1064"/>
                </a:lnTo>
                <a:lnTo>
                  <a:pt x="1930" y="1073"/>
                </a:lnTo>
                <a:lnTo>
                  <a:pt x="1925" y="1082"/>
                </a:lnTo>
                <a:lnTo>
                  <a:pt x="1921" y="1091"/>
                </a:lnTo>
                <a:lnTo>
                  <a:pt x="1915" y="1101"/>
                </a:lnTo>
                <a:lnTo>
                  <a:pt x="1908" y="1109"/>
                </a:lnTo>
                <a:lnTo>
                  <a:pt x="1901" y="1117"/>
                </a:lnTo>
                <a:lnTo>
                  <a:pt x="1893" y="1124"/>
                </a:lnTo>
                <a:lnTo>
                  <a:pt x="2301" y="1124"/>
                </a:lnTo>
                <a:lnTo>
                  <a:pt x="2301" y="1181"/>
                </a:lnTo>
                <a:lnTo>
                  <a:pt x="1786" y="1181"/>
                </a:lnTo>
                <a:lnTo>
                  <a:pt x="1783" y="1126"/>
                </a:lnTo>
                <a:lnTo>
                  <a:pt x="1783" y="1125"/>
                </a:lnTo>
                <a:lnTo>
                  <a:pt x="1776" y="1117"/>
                </a:lnTo>
                <a:lnTo>
                  <a:pt x="1769" y="1109"/>
                </a:lnTo>
                <a:lnTo>
                  <a:pt x="1761" y="1100"/>
                </a:lnTo>
                <a:lnTo>
                  <a:pt x="1754" y="1091"/>
                </a:lnTo>
                <a:lnTo>
                  <a:pt x="1728" y="1091"/>
                </a:lnTo>
                <a:lnTo>
                  <a:pt x="1700" y="1091"/>
                </a:lnTo>
                <a:lnTo>
                  <a:pt x="1670" y="1091"/>
                </a:lnTo>
                <a:lnTo>
                  <a:pt x="1641" y="1093"/>
                </a:lnTo>
                <a:lnTo>
                  <a:pt x="1615" y="1093"/>
                </a:lnTo>
                <a:lnTo>
                  <a:pt x="1594" y="1094"/>
                </a:lnTo>
                <a:lnTo>
                  <a:pt x="1580" y="1094"/>
                </a:lnTo>
                <a:lnTo>
                  <a:pt x="1574" y="1094"/>
                </a:lnTo>
                <a:lnTo>
                  <a:pt x="1584" y="1067"/>
                </a:lnTo>
                <a:lnTo>
                  <a:pt x="1590" y="1067"/>
                </a:lnTo>
                <a:lnTo>
                  <a:pt x="1606" y="1067"/>
                </a:lnTo>
                <a:lnTo>
                  <a:pt x="1628" y="1067"/>
                </a:lnTo>
                <a:lnTo>
                  <a:pt x="1655" y="1067"/>
                </a:lnTo>
                <a:lnTo>
                  <a:pt x="1682" y="1067"/>
                </a:lnTo>
                <a:lnTo>
                  <a:pt x="1706" y="1067"/>
                </a:lnTo>
                <a:lnTo>
                  <a:pt x="1725" y="1066"/>
                </a:lnTo>
                <a:lnTo>
                  <a:pt x="1734" y="1066"/>
                </a:lnTo>
                <a:lnTo>
                  <a:pt x="1739" y="1064"/>
                </a:lnTo>
                <a:lnTo>
                  <a:pt x="1739" y="1060"/>
                </a:lnTo>
                <a:lnTo>
                  <a:pt x="1737" y="1056"/>
                </a:lnTo>
                <a:lnTo>
                  <a:pt x="1736" y="1051"/>
                </a:lnTo>
                <a:lnTo>
                  <a:pt x="1729" y="1050"/>
                </a:lnTo>
                <a:lnTo>
                  <a:pt x="1724" y="1047"/>
                </a:lnTo>
                <a:lnTo>
                  <a:pt x="1718" y="1045"/>
                </a:lnTo>
                <a:lnTo>
                  <a:pt x="1713" y="1042"/>
                </a:lnTo>
                <a:lnTo>
                  <a:pt x="1707" y="1038"/>
                </a:lnTo>
                <a:lnTo>
                  <a:pt x="1702" y="1035"/>
                </a:lnTo>
                <a:lnTo>
                  <a:pt x="1696" y="1032"/>
                </a:lnTo>
                <a:lnTo>
                  <a:pt x="1690" y="1030"/>
                </a:lnTo>
                <a:lnTo>
                  <a:pt x="1683" y="1034"/>
                </a:lnTo>
                <a:lnTo>
                  <a:pt x="1676" y="1036"/>
                </a:lnTo>
                <a:lnTo>
                  <a:pt x="1669" y="1037"/>
                </a:lnTo>
                <a:lnTo>
                  <a:pt x="1661" y="1038"/>
                </a:lnTo>
                <a:lnTo>
                  <a:pt x="1654" y="1037"/>
                </a:lnTo>
                <a:lnTo>
                  <a:pt x="1647" y="1036"/>
                </a:lnTo>
                <a:lnTo>
                  <a:pt x="1640" y="1034"/>
                </a:lnTo>
                <a:lnTo>
                  <a:pt x="1634" y="1030"/>
                </a:lnTo>
                <a:lnTo>
                  <a:pt x="1627" y="1034"/>
                </a:lnTo>
                <a:lnTo>
                  <a:pt x="1622" y="1036"/>
                </a:lnTo>
                <a:lnTo>
                  <a:pt x="1615" y="1039"/>
                </a:lnTo>
                <a:lnTo>
                  <a:pt x="1609" y="1042"/>
                </a:lnTo>
                <a:lnTo>
                  <a:pt x="1602" y="1044"/>
                </a:lnTo>
                <a:lnTo>
                  <a:pt x="1596" y="1047"/>
                </a:lnTo>
                <a:lnTo>
                  <a:pt x="1590" y="1051"/>
                </a:lnTo>
                <a:lnTo>
                  <a:pt x="1584" y="1056"/>
                </a:lnTo>
                <a:lnTo>
                  <a:pt x="1584" y="1067"/>
                </a:lnTo>
                <a:lnTo>
                  <a:pt x="1574" y="1094"/>
                </a:lnTo>
                <a:lnTo>
                  <a:pt x="1567" y="1095"/>
                </a:lnTo>
                <a:lnTo>
                  <a:pt x="1561" y="1097"/>
                </a:lnTo>
                <a:lnTo>
                  <a:pt x="1557" y="1102"/>
                </a:lnTo>
                <a:lnTo>
                  <a:pt x="1552" y="1107"/>
                </a:lnTo>
                <a:lnTo>
                  <a:pt x="1547" y="1112"/>
                </a:lnTo>
                <a:lnTo>
                  <a:pt x="1543" y="1118"/>
                </a:lnTo>
                <a:lnTo>
                  <a:pt x="1538" y="1123"/>
                </a:lnTo>
                <a:lnTo>
                  <a:pt x="1533" y="1127"/>
                </a:lnTo>
                <a:lnTo>
                  <a:pt x="1542" y="1129"/>
                </a:lnTo>
                <a:lnTo>
                  <a:pt x="1554" y="1129"/>
                </a:lnTo>
                <a:lnTo>
                  <a:pt x="1569" y="1129"/>
                </a:lnTo>
                <a:lnTo>
                  <a:pt x="1587" y="1129"/>
                </a:lnTo>
                <a:lnTo>
                  <a:pt x="1605" y="1129"/>
                </a:lnTo>
                <a:lnTo>
                  <a:pt x="1626" y="1127"/>
                </a:lnTo>
                <a:lnTo>
                  <a:pt x="1648" y="1127"/>
                </a:lnTo>
                <a:lnTo>
                  <a:pt x="1669" y="1126"/>
                </a:lnTo>
                <a:lnTo>
                  <a:pt x="1691" y="1126"/>
                </a:lnTo>
                <a:lnTo>
                  <a:pt x="1711" y="1125"/>
                </a:lnTo>
                <a:lnTo>
                  <a:pt x="1729" y="1125"/>
                </a:lnTo>
                <a:lnTo>
                  <a:pt x="1747" y="1125"/>
                </a:lnTo>
                <a:lnTo>
                  <a:pt x="1761" y="1124"/>
                </a:lnTo>
                <a:lnTo>
                  <a:pt x="1772" y="1124"/>
                </a:lnTo>
                <a:lnTo>
                  <a:pt x="1779" y="1125"/>
                </a:lnTo>
                <a:lnTo>
                  <a:pt x="1783" y="1125"/>
                </a:lnTo>
                <a:lnTo>
                  <a:pt x="1786" y="1181"/>
                </a:lnTo>
                <a:lnTo>
                  <a:pt x="1365" y="1181"/>
                </a:lnTo>
                <a:lnTo>
                  <a:pt x="1387" y="1130"/>
                </a:lnTo>
                <a:lnTo>
                  <a:pt x="1392" y="1127"/>
                </a:lnTo>
                <a:lnTo>
                  <a:pt x="1395" y="1129"/>
                </a:lnTo>
                <a:lnTo>
                  <a:pt x="1400" y="1130"/>
                </a:lnTo>
                <a:lnTo>
                  <a:pt x="1404" y="1129"/>
                </a:lnTo>
                <a:lnTo>
                  <a:pt x="1392" y="1110"/>
                </a:lnTo>
                <a:lnTo>
                  <a:pt x="1386" y="1109"/>
                </a:lnTo>
                <a:lnTo>
                  <a:pt x="1381" y="1111"/>
                </a:lnTo>
                <a:lnTo>
                  <a:pt x="1376" y="1115"/>
                </a:lnTo>
                <a:lnTo>
                  <a:pt x="1370" y="1116"/>
                </a:lnTo>
                <a:lnTo>
                  <a:pt x="1361" y="1107"/>
                </a:lnTo>
                <a:lnTo>
                  <a:pt x="1357" y="1096"/>
                </a:lnTo>
                <a:lnTo>
                  <a:pt x="1358" y="1086"/>
                </a:lnTo>
                <a:lnTo>
                  <a:pt x="1363" y="1074"/>
                </a:lnTo>
                <a:lnTo>
                  <a:pt x="1368" y="1063"/>
                </a:lnTo>
                <a:lnTo>
                  <a:pt x="1373" y="1050"/>
                </a:lnTo>
                <a:lnTo>
                  <a:pt x="1377" y="1038"/>
                </a:lnTo>
                <a:lnTo>
                  <a:pt x="1376" y="1025"/>
                </a:lnTo>
                <a:lnTo>
                  <a:pt x="1370" y="1018"/>
                </a:lnTo>
                <a:lnTo>
                  <a:pt x="1365" y="1010"/>
                </a:lnTo>
                <a:lnTo>
                  <a:pt x="1363" y="1001"/>
                </a:lnTo>
                <a:lnTo>
                  <a:pt x="1361" y="992"/>
                </a:lnTo>
                <a:lnTo>
                  <a:pt x="1412" y="884"/>
                </a:lnTo>
                <a:lnTo>
                  <a:pt x="1529" y="883"/>
                </a:lnTo>
                <a:lnTo>
                  <a:pt x="1535" y="878"/>
                </a:lnTo>
                <a:lnTo>
                  <a:pt x="1542" y="871"/>
                </a:lnTo>
                <a:lnTo>
                  <a:pt x="1545" y="864"/>
                </a:lnTo>
                <a:lnTo>
                  <a:pt x="1546" y="856"/>
                </a:lnTo>
                <a:lnTo>
                  <a:pt x="1540" y="852"/>
                </a:lnTo>
                <a:lnTo>
                  <a:pt x="1535" y="854"/>
                </a:lnTo>
                <a:lnTo>
                  <a:pt x="1528" y="859"/>
                </a:lnTo>
                <a:lnTo>
                  <a:pt x="1521" y="862"/>
                </a:lnTo>
                <a:lnTo>
                  <a:pt x="1514" y="863"/>
                </a:lnTo>
                <a:lnTo>
                  <a:pt x="1506" y="863"/>
                </a:lnTo>
                <a:lnTo>
                  <a:pt x="1497" y="861"/>
                </a:lnTo>
                <a:lnTo>
                  <a:pt x="1490" y="857"/>
                </a:lnTo>
                <a:lnTo>
                  <a:pt x="1482" y="851"/>
                </a:lnTo>
                <a:lnTo>
                  <a:pt x="1473" y="846"/>
                </a:lnTo>
                <a:lnTo>
                  <a:pt x="1464" y="845"/>
                </a:lnTo>
                <a:lnTo>
                  <a:pt x="1452" y="844"/>
                </a:lnTo>
                <a:lnTo>
                  <a:pt x="1441" y="844"/>
                </a:lnTo>
                <a:lnTo>
                  <a:pt x="1430" y="845"/>
                </a:lnTo>
                <a:lnTo>
                  <a:pt x="1419" y="844"/>
                </a:lnTo>
                <a:lnTo>
                  <a:pt x="1408" y="842"/>
                </a:lnTo>
                <a:lnTo>
                  <a:pt x="1402" y="845"/>
                </a:lnTo>
                <a:lnTo>
                  <a:pt x="1397" y="846"/>
                </a:lnTo>
                <a:lnTo>
                  <a:pt x="1392" y="848"/>
                </a:lnTo>
                <a:lnTo>
                  <a:pt x="1391" y="853"/>
                </a:lnTo>
                <a:lnTo>
                  <a:pt x="1398" y="860"/>
                </a:lnTo>
                <a:lnTo>
                  <a:pt x="1404" y="867"/>
                </a:lnTo>
                <a:lnTo>
                  <a:pt x="1408" y="875"/>
                </a:lnTo>
                <a:lnTo>
                  <a:pt x="1412" y="884"/>
                </a:lnTo>
                <a:lnTo>
                  <a:pt x="1361" y="992"/>
                </a:lnTo>
                <a:lnTo>
                  <a:pt x="1357" y="993"/>
                </a:lnTo>
                <a:lnTo>
                  <a:pt x="1354" y="993"/>
                </a:lnTo>
                <a:lnTo>
                  <a:pt x="1349" y="992"/>
                </a:lnTo>
                <a:lnTo>
                  <a:pt x="1347" y="990"/>
                </a:lnTo>
                <a:lnTo>
                  <a:pt x="1347" y="998"/>
                </a:lnTo>
                <a:lnTo>
                  <a:pt x="1347" y="1003"/>
                </a:lnTo>
                <a:lnTo>
                  <a:pt x="1348" y="1010"/>
                </a:lnTo>
                <a:lnTo>
                  <a:pt x="1347" y="1018"/>
                </a:lnTo>
                <a:lnTo>
                  <a:pt x="1346" y="1025"/>
                </a:lnTo>
                <a:lnTo>
                  <a:pt x="1347" y="1034"/>
                </a:lnTo>
                <a:lnTo>
                  <a:pt x="1348" y="1041"/>
                </a:lnTo>
                <a:lnTo>
                  <a:pt x="1344" y="1046"/>
                </a:lnTo>
                <a:lnTo>
                  <a:pt x="1336" y="1047"/>
                </a:lnTo>
                <a:lnTo>
                  <a:pt x="1329" y="1046"/>
                </a:lnTo>
                <a:lnTo>
                  <a:pt x="1322" y="1043"/>
                </a:lnTo>
                <a:lnTo>
                  <a:pt x="1318" y="1038"/>
                </a:lnTo>
                <a:lnTo>
                  <a:pt x="1313" y="1046"/>
                </a:lnTo>
                <a:lnTo>
                  <a:pt x="1307" y="1056"/>
                </a:lnTo>
                <a:lnTo>
                  <a:pt x="1301" y="1064"/>
                </a:lnTo>
                <a:lnTo>
                  <a:pt x="1296" y="1072"/>
                </a:lnTo>
                <a:lnTo>
                  <a:pt x="1290" y="1080"/>
                </a:lnTo>
                <a:lnTo>
                  <a:pt x="1283" y="1088"/>
                </a:lnTo>
                <a:lnTo>
                  <a:pt x="1276" y="1095"/>
                </a:lnTo>
                <a:lnTo>
                  <a:pt x="1269" y="1103"/>
                </a:lnTo>
                <a:lnTo>
                  <a:pt x="1261" y="1110"/>
                </a:lnTo>
                <a:lnTo>
                  <a:pt x="1253" y="1117"/>
                </a:lnTo>
                <a:lnTo>
                  <a:pt x="1245" y="1123"/>
                </a:lnTo>
                <a:lnTo>
                  <a:pt x="1235" y="1129"/>
                </a:lnTo>
                <a:lnTo>
                  <a:pt x="1254" y="1131"/>
                </a:lnTo>
                <a:lnTo>
                  <a:pt x="1272" y="1131"/>
                </a:lnTo>
                <a:lnTo>
                  <a:pt x="1291" y="1131"/>
                </a:lnTo>
                <a:lnTo>
                  <a:pt x="1310" y="1131"/>
                </a:lnTo>
                <a:lnTo>
                  <a:pt x="1329" y="1130"/>
                </a:lnTo>
                <a:lnTo>
                  <a:pt x="1349" y="1130"/>
                </a:lnTo>
                <a:lnTo>
                  <a:pt x="1368" y="1130"/>
                </a:lnTo>
                <a:lnTo>
                  <a:pt x="1387" y="1130"/>
                </a:lnTo>
                <a:lnTo>
                  <a:pt x="1365" y="1181"/>
                </a:lnTo>
                <a:lnTo>
                  <a:pt x="864" y="1181"/>
                </a:lnTo>
                <a:lnTo>
                  <a:pt x="876" y="1130"/>
                </a:lnTo>
                <a:lnTo>
                  <a:pt x="1071" y="1130"/>
                </a:lnTo>
                <a:lnTo>
                  <a:pt x="1077" y="1131"/>
                </a:lnTo>
                <a:lnTo>
                  <a:pt x="1080" y="1131"/>
                </a:lnTo>
                <a:lnTo>
                  <a:pt x="1085" y="1131"/>
                </a:lnTo>
                <a:lnTo>
                  <a:pt x="1089" y="1130"/>
                </a:lnTo>
                <a:lnTo>
                  <a:pt x="1082" y="1125"/>
                </a:lnTo>
                <a:lnTo>
                  <a:pt x="1077" y="1120"/>
                </a:lnTo>
                <a:lnTo>
                  <a:pt x="1071" y="1116"/>
                </a:lnTo>
                <a:lnTo>
                  <a:pt x="1065" y="1112"/>
                </a:lnTo>
                <a:lnTo>
                  <a:pt x="1059" y="1108"/>
                </a:lnTo>
                <a:lnTo>
                  <a:pt x="1053" y="1103"/>
                </a:lnTo>
                <a:lnTo>
                  <a:pt x="1048" y="1098"/>
                </a:lnTo>
                <a:lnTo>
                  <a:pt x="1043" y="1093"/>
                </a:lnTo>
                <a:lnTo>
                  <a:pt x="1089" y="1093"/>
                </a:lnTo>
                <a:lnTo>
                  <a:pt x="1093" y="1090"/>
                </a:lnTo>
                <a:lnTo>
                  <a:pt x="1100" y="1082"/>
                </a:lnTo>
                <a:lnTo>
                  <a:pt x="1107" y="1069"/>
                </a:lnTo>
                <a:lnTo>
                  <a:pt x="1115" y="1053"/>
                </a:lnTo>
                <a:lnTo>
                  <a:pt x="1123" y="1036"/>
                </a:lnTo>
                <a:lnTo>
                  <a:pt x="1130" y="1020"/>
                </a:lnTo>
                <a:lnTo>
                  <a:pt x="1137" y="1008"/>
                </a:lnTo>
                <a:lnTo>
                  <a:pt x="1140" y="1000"/>
                </a:lnTo>
                <a:lnTo>
                  <a:pt x="1160" y="999"/>
                </a:lnTo>
                <a:lnTo>
                  <a:pt x="1155" y="1017"/>
                </a:lnTo>
                <a:lnTo>
                  <a:pt x="1150" y="1053"/>
                </a:lnTo>
                <a:lnTo>
                  <a:pt x="1145" y="1089"/>
                </a:lnTo>
                <a:lnTo>
                  <a:pt x="1144" y="1110"/>
                </a:lnTo>
                <a:lnTo>
                  <a:pt x="1148" y="1110"/>
                </a:lnTo>
                <a:lnTo>
                  <a:pt x="1152" y="1110"/>
                </a:lnTo>
                <a:lnTo>
                  <a:pt x="1157" y="1110"/>
                </a:lnTo>
                <a:lnTo>
                  <a:pt x="1161" y="1111"/>
                </a:lnTo>
                <a:lnTo>
                  <a:pt x="1168" y="1110"/>
                </a:lnTo>
                <a:lnTo>
                  <a:pt x="1174" y="1110"/>
                </a:lnTo>
                <a:lnTo>
                  <a:pt x="1179" y="1110"/>
                </a:lnTo>
                <a:lnTo>
                  <a:pt x="1182" y="1110"/>
                </a:lnTo>
                <a:lnTo>
                  <a:pt x="1174" y="991"/>
                </a:lnTo>
                <a:lnTo>
                  <a:pt x="1176" y="996"/>
                </a:lnTo>
                <a:lnTo>
                  <a:pt x="1181" y="1009"/>
                </a:lnTo>
                <a:lnTo>
                  <a:pt x="1188" y="1027"/>
                </a:lnTo>
                <a:lnTo>
                  <a:pt x="1195" y="1045"/>
                </a:lnTo>
                <a:lnTo>
                  <a:pt x="1203" y="1065"/>
                </a:lnTo>
                <a:lnTo>
                  <a:pt x="1210" y="1081"/>
                </a:lnTo>
                <a:lnTo>
                  <a:pt x="1215" y="1093"/>
                </a:lnTo>
                <a:lnTo>
                  <a:pt x="1218" y="1098"/>
                </a:lnTo>
                <a:lnTo>
                  <a:pt x="1224" y="1094"/>
                </a:lnTo>
                <a:lnTo>
                  <a:pt x="1232" y="1089"/>
                </a:lnTo>
                <a:lnTo>
                  <a:pt x="1239" y="1086"/>
                </a:lnTo>
                <a:lnTo>
                  <a:pt x="1242" y="1085"/>
                </a:lnTo>
                <a:lnTo>
                  <a:pt x="1240" y="1079"/>
                </a:lnTo>
                <a:lnTo>
                  <a:pt x="1238" y="1074"/>
                </a:lnTo>
                <a:lnTo>
                  <a:pt x="1235" y="1069"/>
                </a:lnTo>
                <a:lnTo>
                  <a:pt x="1233" y="1068"/>
                </a:lnTo>
                <a:lnTo>
                  <a:pt x="1274" y="1053"/>
                </a:lnTo>
                <a:lnTo>
                  <a:pt x="1278" y="1047"/>
                </a:lnTo>
                <a:lnTo>
                  <a:pt x="1284" y="1038"/>
                </a:lnTo>
                <a:lnTo>
                  <a:pt x="1290" y="1030"/>
                </a:lnTo>
                <a:lnTo>
                  <a:pt x="1292" y="1024"/>
                </a:lnTo>
                <a:lnTo>
                  <a:pt x="1286" y="1021"/>
                </a:lnTo>
                <a:lnTo>
                  <a:pt x="1276" y="1017"/>
                </a:lnTo>
                <a:lnTo>
                  <a:pt x="1262" y="1013"/>
                </a:lnTo>
                <a:lnTo>
                  <a:pt x="1248" y="1007"/>
                </a:lnTo>
                <a:lnTo>
                  <a:pt x="1233" y="1002"/>
                </a:lnTo>
                <a:lnTo>
                  <a:pt x="1219" y="999"/>
                </a:lnTo>
                <a:lnTo>
                  <a:pt x="1209" y="995"/>
                </a:lnTo>
                <a:lnTo>
                  <a:pt x="1202" y="994"/>
                </a:lnTo>
                <a:lnTo>
                  <a:pt x="1194" y="977"/>
                </a:lnTo>
                <a:lnTo>
                  <a:pt x="1203" y="976"/>
                </a:lnTo>
                <a:lnTo>
                  <a:pt x="1218" y="976"/>
                </a:lnTo>
                <a:lnTo>
                  <a:pt x="1237" y="974"/>
                </a:lnTo>
                <a:lnTo>
                  <a:pt x="1256" y="973"/>
                </a:lnTo>
                <a:lnTo>
                  <a:pt x="1275" y="972"/>
                </a:lnTo>
                <a:lnTo>
                  <a:pt x="1292" y="972"/>
                </a:lnTo>
                <a:lnTo>
                  <a:pt x="1303" y="971"/>
                </a:lnTo>
                <a:lnTo>
                  <a:pt x="1307" y="971"/>
                </a:lnTo>
                <a:lnTo>
                  <a:pt x="1306" y="964"/>
                </a:lnTo>
                <a:lnTo>
                  <a:pt x="1303" y="954"/>
                </a:lnTo>
                <a:lnTo>
                  <a:pt x="1300" y="943"/>
                </a:lnTo>
                <a:lnTo>
                  <a:pt x="1298" y="937"/>
                </a:lnTo>
                <a:lnTo>
                  <a:pt x="1245" y="954"/>
                </a:lnTo>
                <a:lnTo>
                  <a:pt x="1223" y="913"/>
                </a:lnTo>
                <a:lnTo>
                  <a:pt x="1226" y="912"/>
                </a:lnTo>
                <a:lnTo>
                  <a:pt x="1232" y="908"/>
                </a:lnTo>
                <a:lnTo>
                  <a:pt x="1240" y="905"/>
                </a:lnTo>
                <a:lnTo>
                  <a:pt x="1248" y="900"/>
                </a:lnTo>
                <a:lnTo>
                  <a:pt x="1255" y="896"/>
                </a:lnTo>
                <a:lnTo>
                  <a:pt x="1261" y="890"/>
                </a:lnTo>
                <a:lnTo>
                  <a:pt x="1264" y="885"/>
                </a:lnTo>
                <a:lnTo>
                  <a:pt x="1266" y="882"/>
                </a:lnTo>
                <a:lnTo>
                  <a:pt x="1261" y="873"/>
                </a:lnTo>
                <a:lnTo>
                  <a:pt x="1254" y="864"/>
                </a:lnTo>
                <a:lnTo>
                  <a:pt x="1246" y="859"/>
                </a:lnTo>
                <a:lnTo>
                  <a:pt x="1238" y="856"/>
                </a:lnTo>
                <a:lnTo>
                  <a:pt x="1175" y="954"/>
                </a:lnTo>
                <a:lnTo>
                  <a:pt x="1223" y="913"/>
                </a:lnTo>
                <a:lnTo>
                  <a:pt x="1245" y="954"/>
                </a:lnTo>
                <a:lnTo>
                  <a:pt x="1194" y="977"/>
                </a:lnTo>
                <a:lnTo>
                  <a:pt x="1202" y="994"/>
                </a:lnTo>
                <a:lnTo>
                  <a:pt x="1274" y="1053"/>
                </a:lnTo>
                <a:lnTo>
                  <a:pt x="1233" y="1068"/>
                </a:lnTo>
                <a:lnTo>
                  <a:pt x="1228" y="1065"/>
                </a:lnTo>
                <a:lnTo>
                  <a:pt x="1221" y="1057"/>
                </a:lnTo>
                <a:lnTo>
                  <a:pt x="1213" y="1044"/>
                </a:lnTo>
                <a:lnTo>
                  <a:pt x="1204" y="1030"/>
                </a:lnTo>
                <a:lnTo>
                  <a:pt x="1194" y="1015"/>
                </a:lnTo>
                <a:lnTo>
                  <a:pt x="1186" y="1003"/>
                </a:lnTo>
                <a:lnTo>
                  <a:pt x="1179" y="994"/>
                </a:lnTo>
                <a:lnTo>
                  <a:pt x="1174" y="991"/>
                </a:lnTo>
                <a:lnTo>
                  <a:pt x="1182" y="1110"/>
                </a:lnTo>
                <a:lnTo>
                  <a:pt x="1179" y="1089"/>
                </a:lnTo>
                <a:lnTo>
                  <a:pt x="1172" y="1057"/>
                </a:lnTo>
                <a:lnTo>
                  <a:pt x="1165" y="1023"/>
                </a:lnTo>
                <a:lnTo>
                  <a:pt x="1160" y="999"/>
                </a:lnTo>
                <a:lnTo>
                  <a:pt x="1140" y="1000"/>
                </a:lnTo>
                <a:lnTo>
                  <a:pt x="1117" y="1020"/>
                </a:lnTo>
                <a:lnTo>
                  <a:pt x="1136" y="984"/>
                </a:lnTo>
                <a:lnTo>
                  <a:pt x="1097" y="978"/>
                </a:lnTo>
                <a:lnTo>
                  <a:pt x="1095" y="957"/>
                </a:lnTo>
                <a:lnTo>
                  <a:pt x="1099" y="957"/>
                </a:lnTo>
                <a:lnTo>
                  <a:pt x="1103" y="958"/>
                </a:lnTo>
                <a:lnTo>
                  <a:pt x="1109" y="959"/>
                </a:lnTo>
                <a:lnTo>
                  <a:pt x="1115" y="961"/>
                </a:lnTo>
                <a:lnTo>
                  <a:pt x="1122" y="962"/>
                </a:lnTo>
                <a:lnTo>
                  <a:pt x="1126" y="963"/>
                </a:lnTo>
                <a:lnTo>
                  <a:pt x="1131" y="964"/>
                </a:lnTo>
                <a:lnTo>
                  <a:pt x="1135" y="965"/>
                </a:lnTo>
                <a:lnTo>
                  <a:pt x="1130" y="963"/>
                </a:lnTo>
                <a:lnTo>
                  <a:pt x="1118" y="957"/>
                </a:lnTo>
                <a:lnTo>
                  <a:pt x="1102" y="948"/>
                </a:lnTo>
                <a:lnTo>
                  <a:pt x="1083" y="939"/>
                </a:lnTo>
                <a:lnTo>
                  <a:pt x="1064" y="929"/>
                </a:lnTo>
                <a:lnTo>
                  <a:pt x="1048" y="921"/>
                </a:lnTo>
                <a:lnTo>
                  <a:pt x="1036" y="915"/>
                </a:lnTo>
                <a:lnTo>
                  <a:pt x="1031" y="913"/>
                </a:lnTo>
                <a:lnTo>
                  <a:pt x="1054" y="876"/>
                </a:lnTo>
                <a:lnTo>
                  <a:pt x="1061" y="879"/>
                </a:lnTo>
                <a:lnTo>
                  <a:pt x="1073" y="889"/>
                </a:lnTo>
                <a:lnTo>
                  <a:pt x="1087" y="899"/>
                </a:lnTo>
                <a:lnTo>
                  <a:pt x="1102" y="912"/>
                </a:lnTo>
                <a:lnTo>
                  <a:pt x="1117" y="925"/>
                </a:lnTo>
                <a:lnTo>
                  <a:pt x="1130" y="935"/>
                </a:lnTo>
                <a:lnTo>
                  <a:pt x="1139" y="942"/>
                </a:lnTo>
                <a:lnTo>
                  <a:pt x="1144" y="944"/>
                </a:lnTo>
                <a:lnTo>
                  <a:pt x="1085" y="852"/>
                </a:lnTo>
                <a:lnTo>
                  <a:pt x="1139" y="831"/>
                </a:lnTo>
                <a:lnTo>
                  <a:pt x="1161" y="946"/>
                </a:lnTo>
                <a:lnTo>
                  <a:pt x="1182" y="832"/>
                </a:lnTo>
                <a:lnTo>
                  <a:pt x="1176" y="831"/>
                </a:lnTo>
                <a:lnTo>
                  <a:pt x="1169" y="830"/>
                </a:lnTo>
                <a:lnTo>
                  <a:pt x="1163" y="830"/>
                </a:lnTo>
                <a:lnTo>
                  <a:pt x="1158" y="830"/>
                </a:lnTo>
                <a:lnTo>
                  <a:pt x="1153" y="830"/>
                </a:lnTo>
                <a:lnTo>
                  <a:pt x="1147" y="830"/>
                </a:lnTo>
                <a:lnTo>
                  <a:pt x="1143" y="831"/>
                </a:lnTo>
                <a:lnTo>
                  <a:pt x="1139" y="831"/>
                </a:lnTo>
                <a:lnTo>
                  <a:pt x="1085" y="852"/>
                </a:lnTo>
                <a:lnTo>
                  <a:pt x="1077" y="857"/>
                </a:lnTo>
                <a:lnTo>
                  <a:pt x="1066" y="864"/>
                </a:lnTo>
                <a:lnTo>
                  <a:pt x="1058" y="871"/>
                </a:lnTo>
                <a:lnTo>
                  <a:pt x="1054" y="876"/>
                </a:lnTo>
                <a:lnTo>
                  <a:pt x="1031" y="913"/>
                </a:lnTo>
                <a:lnTo>
                  <a:pt x="1028" y="920"/>
                </a:lnTo>
                <a:lnTo>
                  <a:pt x="1026" y="928"/>
                </a:lnTo>
                <a:lnTo>
                  <a:pt x="1023" y="936"/>
                </a:lnTo>
                <a:lnTo>
                  <a:pt x="1021" y="944"/>
                </a:lnTo>
                <a:lnTo>
                  <a:pt x="1024" y="944"/>
                </a:lnTo>
                <a:lnTo>
                  <a:pt x="1031" y="947"/>
                </a:lnTo>
                <a:lnTo>
                  <a:pt x="1043" y="948"/>
                </a:lnTo>
                <a:lnTo>
                  <a:pt x="1057" y="950"/>
                </a:lnTo>
                <a:lnTo>
                  <a:pt x="1070" y="954"/>
                </a:lnTo>
                <a:lnTo>
                  <a:pt x="1081" y="955"/>
                </a:lnTo>
                <a:lnTo>
                  <a:pt x="1090" y="957"/>
                </a:lnTo>
                <a:lnTo>
                  <a:pt x="1095" y="957"/>
                </a:lnTo>
                <a:lnTo>
                  <a:pt x="1097" y="978"/>
                </a:lnTo>
                <a:lnTo>
                  <a:pt x="1089" y="977"/>
                </a:lnTo>
                <a:lnTo>
                  <a:pt x="1079" y="977"/>
                </a:lnTo>
                <a:lnTo>
                  <a:pt x="1066" y="977"/>
                </a:lnTo>
                <a:lnTo>
                  <a:pt x="1053" y="978"/>
                </a:lnTo>
                <a:lnTo>
                  <a:pt x="1041" y="978"/>
                </a:lnTo>
                <a:lnTo>
                  <a:pt x="1030" y="979"/>
                </a:lnTo>
                <a:lnTo>
                  <a:pt x="1022" y="979"/>
                </a:lnTo>
                <a:lnTo>
                  <a:pt x="1020" y="979"/>
                </a:lnTo>
                <a:lnTo>
                  <a:pt x="1021" y="986"/>
                </a:lnTo>
                <a:lnTo>
                  <a:pt x="1023" y="993"/>
                </a:lnTo>
                <a:lnTo>
                  <a:pt x="1026" y="1000"/>
                </a:lnTo>
                <a:lnTo>
                  <a:pt x="1027" y="1007"/>
                </a:lnTo>
                <a:lnTo>
                  <a:pt x="1136" y="984"/>
                </a:lnTo>
                <a:lnTo>
                  <a:pt x="1117" y="1020"/>
                </a:lnTo>
                <a:lnTo>
                  <a:pt x="1111" y="1023"/>
                </a:lnTo>
                <a:lnTo>
                  <a:pt x="1103" y="1029"/>
                </a:lnTo>
                <a:lnTo>
                  <a:pt x="1093" y="1036"/>
                </a:lnTo>
                <a:lnTo>
                  <a:pt x="1083" y="1044"/>
                </a:lnTo>
                <a:lnTo>
                  <a:pt x="1073" y="1052"/>
                </a:lnTo>
                <a:lnTo>
                  <a:pt x="1065" y="1058"/>
                </a:lnTo>
                <a:lnTo>
                  <a:pt x="1058" y="1063"/>
                </a:lnTo>
                <a:lnTo>
                  <a:pt x="1054" y="1064"/>
                </a:lnTo>
                <a:lnTo>
                  <a:pt x="1058" y="1069"/>
                </a:lnTo>
                <a:lnTo>
                  <a:pt x="1063" y="1074"/>
                </a:lnTo>
                <a:lnTo>
                  <a:pt x="1068" y="1079"/>
                </a:lnTo>
                <a:lnTo>
                  <a:pt x="1074" y="1083"/>
                </a:lnTo>
                <a:lnTo>
                  <a:pt x="1080" y="1087"/>
                </a:lnTo>
                <a:lnTo>
                  <a:pt x="1085" y="1089"/>
                </a:lnTo>
                <a:lnTo>
                  <a:pt x="1088" y="1091"/>
                </a:lnTo>
                <a:lnTo>
                  <a:pt x="1089" y="1093"/>
                </a:lnTo>
                <a:lnTo>
                  <a:pt x="1043" y="1093"/>
                </a:lnTo>
                <a:lnTo>
                  <a:pt x="1030" y="1074"/>
                </a:lnTo>
                <a:lnTo>
                  <a:pt x="1022" y="1071"/>
                </a:lnTo>
                <a:lnTo>
                  <a:pt x="1014" y="1068"/>
                </a:lnTo>
                <a:lnTo>
                  <a:pt x="1006" y="1068"/>
                </a:lnTo>
                <a:lnTo>
                  <a:pt x="998" y="1069"/>
                </a:lnTo>
                <a:lnTo>
                  <a:pt x="990" y="1071"/>
                </a:lnTo>
                <a:lnTo>
                  <a:pt x="980" y="1072"/>
                </a:lnTo>
                <a:lnTo>
                  <a:pt x="971" y="1072"/>
                </a:lnTo>
                <a:lnTo>
                  <a:pt x="962" y="1072"/>
                </a:lnTo>
                <a:lnTo>
                  <a:pt x="959" y="1081"/>
                </a:lnTo>
                <a:lnTo>
                  <a:pt x="956" y="1088"/>
                </a:lnTo>
                <a:lnTo>
                  <a:pt x="952" y="1095"/>
                </a:lnTo>
                <a:lnTo>
                  <a:pt x="948" y="1100"/>
                </a:lnTo>
                <a:lnTo>
                  <a:pt x="943" y="1105"/>
                </a:lnTo>
                <a:lnTo>
                  <a:pt x="937" y="1110"/>
                </a:lnTo>
                <a:lnTo>
                  <a:pt x="932" y="1113"/>
                </a:lnTo>
                <a:lnTo>
                  <a:pt x="923" y="1118"/>
                </a:lnTo>
                <a:lnTo>
                  <a:pt x="917" y="1116"/>
                </a:lnTo>
                <a:lnTo>
                  <a:pt x="911" y="1112"/>
                </a:lnTo>
                <a:lnTo>
                  <a:pt x="905" y="1109"/>
                </a:lnTo>
                <a:lnTo>
                  <a:pt x="899" y="1107"/>
                </a:lnTo>
                <a:lnTo>
                  <a:pt x="876" y="1130"/>
                </a:lnTo>
                <a:lnTo>
                  <a:pt x="864" y="1181"/>
                </a:lnTo>
                <a:lnTo>
                  <a:pt x="799" y="1181"/>
                </a:lnTo>
                <a:lnTo>
                  <a:pt x="790" y="1105"/>
                </a:lnTo>
                <a:lnTo>
                  <a:pt x="797" y="1105"/>
                </a:lnTo>
                <a:lnTo>
                  <a:pt x="803" y="1105"/>
                </a:lnTo>
                <a:lnTo>
                  <a:pt x="808" y="1105"/>
                </a:lnTo>
                <a:lnTo>
                  <a:pt x="812" y="1104"/>
                </a:lnTo>
                <a:lnTo>
                  <a:pt x="804" y="985"/>
                </a:lnTo>
                <a:lnTo>
                  <a:pt x="806" y="991"/>
                </a:lnTo>
                <a:lnTo>
                  <a:pt x="811" y="1003"/>
                </a:lnTo>
                <a:lnTo>
                  <a:pt x="817" y="1021"/>
                </a:lnTo>
                <a:lnTo>
                  <a:pt x="825" y="1041"/>
                </a:lnTo>
                <a:lnTo>
                  <a:pt x="832" y="1059"/>
                </a:lnTo>
                <a:lnTo>
                  <a:pt x="840" y="1076"/>
                </a:lnTo>
                <a:lnTo>
                  <a:pt x="845" y="1088"/>
                </a:lnTo>
                <a:lnTo>
                  <a:pt x="848" y="1094"/>
                </a:lnTo>
                <a:lnTo>
                  <a:pt x="854" y="1089"/>
                </a:lnTo>
                <a:lnTo>
                  <a:pt x="862" y="1085"/>
                </a:lnTo>
                <a:lnTo>
                  <a:pt x="869" y="1081"/>
                </a:lnTo>
                <a:lnTo>
                  <a:pt x="871" y="1080"/>
                </a:lnTo>
                <a:lnTo>
                  <a:pt x="870" y="1074"/>
                </a:lnTo>
                <a:lnTo>
                  <a:pt x="868" y="1069"/>
                </a:lnTo>
                <a:lnTo>
                  <a:pt x="864" y="1065"/>
                </a:lnTo>
                <a:lnTo>
                  <a:pt x="862" y="1064"/>
                </a:lnTo>
                <a:lnTo>
                  <a:pt x="904" y="1049"/>
                </a:lnTo>
                <a:lnTo>
                  <a:pt x="908" y="1043"/>
                </a:lnTo>
                <a:lnTo>
                  <a:pt x="914" y="1034"/>
                </a:lnTo>
                <a:lnTo>
                  <a:pt x="920" y="1024"/>
                </a:lnTo>
                <a:lnTo>
                  <a:pt x="922" y="1018"/>
                </a:lnTo>
                <a:lnTo>
                  <a:pt x="917" y="1016"/>
                </a:lnTo>
                <a:lnTo>
                  <a:pt x="906" y="1013"/>
                </a:lnTo>
                <a:lnTo>
                  <a:pt x="892" y="1008"/>
                </a:lnTo>
                <a:lnTo>
                  <a:pt x="877" y="1002"/>
                </a:lnTo>
                <a:lnTo>
                  <a:pt x="863" y="998"/>
                </a:lnTo>
                <a:lnTo>
                  <a:pt x="849" y="994"/>
                </a:lnTo>
                <a:lnTo>
                  <a:pt x="839" y="991"/>
                </a:lnTo>
                <a:lnTo>
                  <a:pt x="832" y="990"/>
                </a:lnTo>
                <a:lnTo>
                  <a:pt x="824" y="972"/>
                </a:lnTo>
                <a:lnTo>
                  <a:pt x="833" y="971"/>
                </a:lnTo>
                <a:lnTo>
                  <a:pt x="848" y="971"/>
                </a:lnTo>
                <a:lnTo>
                  <a:pt x="867" y="970"/>
                </a:lnTo>
                <a:lnTo>
                  <a:pt x="886" y="969"/>
                </a:lnTo>
                <a:lnTo>
                  <a:pt x="905" y="968"/>
                </a:lnTo>
                <a:lnTo>
                  <a:pt x="922" y="968"/>
                </a:lnTo>
                <a:lnTo>
                  <a:pt x="933" y="966"/>
                </a:lnTo>
                <a:lnTo>
                  <a:pt x="937" y="966"/>
                </a:lnTo>
                <a:lnTo>
                  <a:pt x="936" y="959"/>
                </a:lnTo>
                <a:lnTo>
                  <a:pt x="933" y="949"/>
                </a:lnTo>
                <a:lnTo>
                  <a:pt x="929" y="939"/>
                </a:lnTo>
                <a:lnTo>
                  <a:pt x="927" y="933"/>
                </a:lnTo>
                <a:lnTo>
                  <a:pt x="875" y="948"/>
                </a:lnTo>
                <a:lnTo>
                  <a:pt x="852" y="908"/>
                </a:lnTo>
                <a:lnTo>
                  <a:pt x="855" y="907"/>
                </a:lnTo>
                <a:lnTo>
                  <a:pt x="861" y="904"/>
                </a:lnTo>
                <a:lnTo>
                  <a:pt x="869" y="899"/>
                </a:lnTo>
                <a:lnTo>
                  <a:pt x="877" y="895"/>
                </a:lnTo>
                <a:lnTo>
                  <a:pt x="884" y="890"/>
                </a:lnTo>
                <a:lnTo>
                  <a:pt x="891" y="885"/>
                </a:lnTo>
                <a:lnTo>
                  <a:pt x="894" y="881"/>
                </a:lnTo>
                <a:lnTo>
                  <a:pt x="896" y="877"/>
                </a:lnTo>
                <a:lnTo>
                  <a:pt x="891" y="868"/>
                </a:lnTo>
                <a:lnTo>
                  <a:pt x="884" y="860"/>
                </a:lnTo>
                <a:lnTo>
                  <a:pt x="876" y="854"/>
                </a:lnTo>
                <a:lnTo>
                  <a:pt x="867" y="852"/>
                </a:lnTo>
                <a:lnTo>
                  <a:pt x="805" y="948"/>
                </a:lnTo>
                <a:lnTo>
                  <a:pt x="852" y="908"/>
                </a:lnTo>
                <a:lnTo>
                  <a:pt x="875" y="948"/>
                </a:lnTo>
                <a:lnTo>
                  <a:pt x="824" y="972"/>
                </a:lnTo>
                <a:lnTo>
                  <a:pt x="832" y="990"/>
                </a:lnTo>
                <a:lnTo>
                  <a:pt x="904" y="1049"/>
                </a:lnTo>
                <a:lnTo>
                  <a:pt x="862" y="1064"/>
                </a:lnTo>
                <a:lnTo>
                  <a:pt x="859" y="1060"/>
                </a:lnTo>
                <a:lnTo>
                  <a:pt x="852" y="1052"/>
                </a:lnTo>
                <a:lnTo>
                  <a:pt x="843" y="1039"/>
                </a:lnTo>
                <a:lnTo>
                  <a:pt x="833" y="1024"/>
                </a:lnTo>
                <a:lnTo>
                  <a:pt x="824" y="1010"/>
                </a:lnTo>
                <a:lnTo>
                  <a:pt x="816" y="998"/>
                </a:lnTo>
                <a:lnTo>
                  <a:pt x="809" y="988"/>
                </a:lnTo>
                <a:lnTo>
                  <a:pt x="804" y="985"/>
                </a:lnTo>
                <a:lnTo>
                  <a:pt x="812" y="1104"/>
                </a:lnTo>
                <a:lnTo>
                  <a:pt x="809" y="1085"/>
                </a:lnTo>
                <a:lnTo>
                  <a:pt x="802" y="1052"/>
                </a:lnTo>
                <a:lnTo>
                  <a:pt x="795" y="1017"/>
                </a:lnTo>
                <a:lnTo>
                  <a:pt x="789" y="993"/>
                </a:lnTo>
                <a:lnTo>
                  <a:pt x="770" y="995"/>
                </a:lnTo>
                <a:lnTo>
                  <a:pt x="747" y="1014"/>
                </a:lnTo>
                <a:lnTo>
                  <a:pt x="765" y="979"/>
                </a:lnTo>
                <a:lnTo>
                  <a:pt x="726" y="973"/>
                </a:lnTo>
                <a:lnTo>
                  <a:pt x="725" y="952"/>
                </a:lnTo>
                <a:lnTo>
                  <a:pt x="729" y="952"/>
                </a:lnTo>
                <a:lnTo>
                  <a:pt x="733" y="954"/>
                </a:lnTo>
                <a:lnTo>
                  <a:pt x="738" y="955"/>
                </a:lnTo>
                <a:lnTo>
                  <a:pt x="745" y="956"/>
                </a:lnTo>
                <a:lnTo>
                  <a:pt x="751" y="957"/>
                </a:lnTo>
                <a:lnTo>
                  <a:pt x="755" y="958"/>
                </a:lnTo>
                <a:lnTo>
                  <a:pt x="760" y="959"/>
                </a:lnTo>
                <a:lnTo>
                  <a:pt x="763" y="961"/>
                </a:lnTo>
                <a:lnTo>
                  <a:pt x="759" y="957"/>
                </a:lnTo>
                <a:lnTo>
                  <a:pt x="747" y="951"/>
                </a:lnTo>
                <a:lnTo>
                  <a:pt x="731" y="943"/>
                </a:lnTo>
                <a:lnTo>
                  <a:pt x="712" y="934"/>
                </a:lnTo>
                <a:lnTo>
                  <a:pt x="693" y="925"/>
                </a:lnTo>
                <a:lnTo>
                  <a:pt x="676" y="917"/>
                </a:lnTo>
                <a:lnTo>
                  <a:pt x="665" y="911"/>
                </a:lnTo>
                <a:lnTo>
                  <a:pt x="660" y="908"/>
                </a:lnTo>
                <a:lnTo>
                  <a:pt x="685" y="871"/>
                </a:lnTo>
                <a:lnTo>
                  <a:pt x="692" y="875"/>
                </a:lnTo>
                <a:lnTo>
                  <a:pt x="702" y="884"/>
                </a:lnTo>
                <a:lnTo>
                  <a:pt x="716" y="895"/>
                </a:lnTo>
                <a:lnTo>
                  <a:pt x="732" y="907"/>
                </a:lnTo>
                <a:lnTo>
                  <a:pt x="747" y="920"/>
                </a:lnTo>
                <a:lnTo>
                  <a:pt x="760" y="930"/>
                </a:lnTo>
                <a:lnTo>
                  <a:pt x="769" y="937"/>
                </a:lnTo>
                <a:lnTo>
                  <a:pt x="773" y="940"/>
                </a:lnTo>
                <a:lnTo>
                  <a:pt x="715" y="847"/>
                </a:lnTo>
                <a:lnTo>
                  <a:pt x="768" y="826"/>
                </a:lnTo>
                <a:lnTo>
                  <a:pt x="790" y="941"/>
                </a:lnTo>
                <a:lnTo>
                  <a:pt x="811" y="826"/>
                </a:lnTo>
                <a:lnTo>
                  <a:pt x="805" y="825"/>
                </a:lnTo>
                <a:lnTo>
                  <a:pt x="799" y="825"/>
                </a:lnTo>
                <a:lnTo>
                  <a:pt x="794" y="824"/>
                </a:lnTo>
                <a:lnTo>
                  <a:pt x="788" y="824"/>
                </a:lnTo>
                <a:lnTo>
                  <a:pt x="782" y="825"/>
                </a:lnTo>
                <a:lnTo>
                  <a:pt x="777" y="825"/>
                </a:lnTo>
                <a:lnTo>
                  <a:pt x="773" y="826"/>
                </a:lnTo>
                <a:lnTo>
                  <a:pt x="768" y="826"/>
                </a:lnTo>
                <a:lnTo>
                  <a:pt x="715" y="847"/>
                </a:lnTo>
                <a:lnTo>
                  <a:pt x="707" y="853"/>
                </a:lnTo>
                <a:lnTo>
                  <a:pt x="696" y="860"/>
                </a:lnTo>
                <a:lnTo>
                  <a:pt x="688" y="867"/>
                </a:lnTo>
                <a:lnTo>
                  <a:pt x="685" y="871"/>
                </a:lnTo>
                <a:lnTo>
                  <a:pt x="660" y="908"/>
                </a:lnTo>
                <a:lnTo>
                  <a:pt x="658" y="914"/>
                </a:lnTo>
                <a:lnTo>
                  <a:pt x="656" y="922"/>
                </a:lnTo>
                <a:lnTo>
                  <a:pt x="653" y="932"/>
                </a:lnTo>
                <a:lnTo>
                  <a:pt x="651" y="940"/>
                </a:lnTo>
                <a:lnTo>
                  <a:pt x="654" y="940"/>
                </a:lnTo>
                <a:lnTo>
                  <a:pt x="661" y="942"/>
                </a:lnTo>
                <a:lnTo>
                  <a:pt x="673" y="943"/>
                </a:lnTo>
                <a:lnTo>
                  <a:pt x="687" y="946"/>
                </a:lnTo>
                <a:lnTo>
                  <a:pt x="700" y="949"/>
                </a:lnTo>
                <a:lnTo>
                  <a:pt x="711" y="950"/>
                </a:lnTo>
                <a:lnTo>
                  <a:pt x="721" y="952"/>
                </a:lnTo>
                <a:lnTo>
                  <a:pt x="725" y="952"/>
                </a:lnTo>
                <a:lnTo>
                  <a:pt x="726" y="973"/>
                </a:lnTo>
                <a:lnTo>
                  <a:pt x="719" y="972"/>
                </a:lnTo>
                <a:lnTo>
                  <a:pt x="708" y="972"/>
                </a:lnTo>
                <a:lnTo>
                  <a:pt x="696" y="972"/>
                </a:lnTo>
                <a:lnTo>
                  <a:pt x="682" y="973"/>
                </a:lnTo>
                <a:lnTo>
                  <a:pt x="670" y="973"/>
                </a:lnTo>
                <a:lnTo>
                  <a:pt x="659" y="974"/>
                </a:lnTo>
                <a:lnTo>
                  <a:pt x="651" y="974"/>
                </a:lnTo>
                <a:lnTo>
                  <a:pt x="649" y="974"/>
                </a:lnTo>
                <a:lnTo>
                  <a:pt x="650" y="981"/>
                </a:lnTo>
                <a:lnTo>
                  <a:pt x="652" y="988"/>
                </a:lnTo>
                <a:lnTo>
                  <a:pt x="654" y="995"/>
                </a:lnTo>
                <a:lnTo>
                  <a:pt x="656" y="1002"/>
                </a:lnTo>
                <a:lnTo>
                  <a:pt x="765" y="979"/>
                </a:lnTo>
                <a:lnTo>
                  <a:pt x="747" y="1014"/>
                </a:lnTo>
                <a:lnTo>
                  <a:pt x="740" y="1017"/>
                </a:lnTo>
                <a:lnTo>
                  <a:pt x="732" y="1023"/>
                </a:lnTo>
                <a:lnTo>
                  <a:pt x="723" y="1031"/>
                </a:lnTo>
                <a:lnTo>
                  <a:pt x="712" y="1039"/>
                </a:lnTo>
                <a:lnTo>
                  <a:pt x="703" y="1046"/>
                </a:lnTo>
                <a:lnTo>
                  <a:pt x="694" y="1053"/>
                </a:lnTo>
                <a:lnTo>
                  <a:pt x="688" y="1058"/>
                </a:lnTo>
                <a:lnTo>
                  <a:pt x="685" y="1059"/>
                </a:lnTo>
                <a:lnTo>
                  <a:pt x="688" y="1065"/>
                </a:lnTo>
                <a:lnTo>
                  <a:pt x="693" y="1069"/>
                </a:lnTo>
                <a:lnTo>
                  <a:pt x="699" y="1074"/>
                </a:lnTo>
                <a:lnTo>
                  <a:pt x="704" y="1079"/>
                </a:lnTo>
                <a:lnTo>
                  <a:pt x="710" y="1082"/>
                </a:lnTo>
                <a:lnTo>
                  <a:pt x="715" y="1085"/>
                </a:lnTo>
                <a:lnTo>
                  <a:pt x="718" y="1087"/>
                </a:lnTo>
                <a:lnTo>
                  <a:pt x="719" y="1088"/>
                </a:lnTo>
                <a:lnTo>
                  <a:pt x="723" y="1086"/>
                </a:lnTo>
                <a:lnTo>
                  <a:pt x="730" y="1078"/>
                </a:lnTo>
                <a:lnTo>
                  <a:pt x="737" y="1064"/>
                </a:lnTo>
                <a:lnTo>
                  <a:pt x="745" y="1047"/>
                </a:lnTo>
                <a:lnTo>
                  <a:pt x="753" y="1031"/>
                </a:lnTo>
                <a:lnTo>
                  <a:pt x="760" y="1015"/>
                </a:lnTo>
                <a:lnTo>
                  <a:pt x="767" y="1002"/>
                </a:lnTo>
                <a:lnTo>
                  <a:pt x="770" y="995"/>
                </a:lnTo>
                <a:lnTo>
                  <a:pt x="789" y="993"/>
                </a:lnTo>
                <a:lnTo>
                  <a:pt x="785" y="1013"/>
                </a:lnTo>
                <a:lnTo>
                  <a:pt x="780" y="1049"/>
                </a:lnTo>
                <a:lnTo>
                  <a:pt x="774" y="1085"/>
                </a:lnTo>
                <a:lnTo>
                  <a:pt x="773" y="1104"/>
                </a:lnTo>
                <a:lnTo>
                  <a:pt x="777" y="1104"/>
                </a:lnTo>
                <a:lnTo>
                  <a:pt x="782" y="1104"/>
                </a:lnTo>
                <a:lnTo>
                  <a:pt x="785" y="1105"/>
                </a:lnTo>
                <a:lnTo>
                  <a:pt x="790" y="1105"/>
                </a:lnTo>
                <a:lnTo>
                  <a:pt x="799" y="1181"/>
                </a:lnTo>
                <a:lnTo>
                  <a:pt x="752" y="1181"/>
                </a:lnTo>
                <a:lnTo>
                  <a:pt x="707" y="1130"/>
                </a:lnTo>
                <a:lnTo>
                  <a:pt x="704" y="1129"/>
                </a:lnTo>
                <a:lnTo>
                  <a:pt x="700" y="1124"/>
                </a:lnTo>
                <a:lnTo>
                  <a:pt x="693" y="1118"/>
                </a:lnTo>
                <a:lnTo>
                  <a:pt x="683" y="1109"/>
                </a:lnTo>
                <a:lnTo>
                  <a:pt x="674" y="1100"/>
                </a:lnTo>
                <a:lnTo>
                  <a:pt x="665" y="1088"/>
                </a:lnTo>
                <a:lnTo>
                  <a:pt x="658" y="1076"/>
                </a:lnTo>
                <a:lnTo>
                  <a:pt x="652" y="1064"/>
                </a:lnTo>
                <a:lnTo>
                  <a:pt x="646" y="1069"/>
                </a:lnTo>
                <a:lnTo>
                  <a:pt x="644" y="1076"/>
                </a:lnTo>
                <a:lnTo>
                  <a:pt x="642" y="1086"/>
                </a:lnTo>
                <a:lnTo>
                  <a:pt x="639" y="1093"/>
                </a:lnTo>
                <a:lnTo>
                  <a:pt x="631" y="1096"/>
                </a:lnTo>
                <a:lnTo>
                  <a:pt x="614" y="1098"/>
                </a:lnTo>
                <a:lnTo>
                  <a:pt x="590" y="1100"/>
                </a:lnTo>
                <a:lnTo>
                  <a:pt x="562" y="1101"/>
                </a:lnTo>
                <a:lnTo>
                  <a:pt x="532" y="1102"/>
                </a:lnTo>
                <a:lnTo>
                  <a:pt x="501" y="1102"/>
                </a:lnTo>
                <a:lnTo>
                  <a:pt x="476" y="1102"/>
                </a:lnTo>
                <a:lnTo>
                  <a:pt x="455" y="1102"/>
                </a:lnTo>
                <a:lnTo>
                  <a:pt x="448" y="1110"/>
                </a:lnTo>
                <a:lnTo>
                  <a:pt x="441" y="1117"/>
                </a:lnTo>
                <a:lnTo>
                  <a:pt x="433" y="1124"/>
                </a:lnTo>
                <a:lnTo>
                  <a:pt x="425" y="1130"/>
                </a:lnTo>
                <a:lnTo>
                  <a:pt x="707" y="1130"/>
                </a:lnTo>
                <a:lnTo>
                  <a:pt x="752" y="1181"/>
                </a:lnTo>
                <a:lnTo>
                  <a:pt x="734" y="1181"/>
                </a:lnTo>
                <a:lnTo>
                  <a:pt x="704" y="1182"/>
                </a:lnTo>
                <a:lnTo>
                  <a:pt x="664" y="1182"/>
                </a:lnTo>
                <a:lnTo>
                  <a:pt x="614" y="1182"/>
                </a:lnTo>
                <a:lnTo>
                  <a:pt x="557" y="1182"/>
                </a:lnTo>
                <a:lnTo>
                  <a:pt x="496" y="1182"/>
                </a:lnTo>
                <a:lnTo>
                  <a:pt x="431" y="1182"/>
                </a:lnTo>
                <a:lnTo>
                  <a:pt x="365" y="1182"/>
                </a:lnTo>
                <a:lnTo>
                  <a:pt x="298" y="1182"/>
                </a:lnTo>
                <a:lnTo>
                  <a:pt x="236" y="1182"/>
                </a:lnTo>
                <a:lnTo>
                  <a:pt x="177" y="1181"/>
                </a:lnTo>
                <a:lnTo>
                  <a:pt x="125" y="1181"/>
                </a:lnTo>
                <a:lnTo>
                  <a:pt x="80" y="1181"/>
                </a:lnTo>
                <a:lnTo>
                  <a:pt x="47" y="1181"/>
                </a:lnTo>
                <a:lnTo>
                  <a:pt x="26" y="1181"/>
                </a:lnTo>
                <a:lnTo>
                  <a:pt x="18" y="1181"/>
                </a:lnTo>
                <a:lnTo>
                  <a:pt x="18" y="1130"/>
                </a:lnTo>
                <a:lnTo>
                  <a:pt x="253" y="1130"/>
                </a:lnTo>
                <a:lnTo>
                  <a:pt x="245" y="1122"/>
                </a:lnTo>
                <a:lnTo>
                  <a:pt x="238" y="1113"/>
                </a:lnTo>
                <a:lnTo>
                  <a:pt x="230" y="1105"/>
                </a:lnTo>
                <a:lnTo>
                  <a:pt x="223" y="1097"/>
                </a:lnTo>
                <a:lnTo>
                  <a:pt x="216" y="1089"/>
                </a:lnTo>
                <a:lnTo>
                  <a:pt x="210" y="1080"/>
                </a:lnTo>
                <a:lnTo>
                  <a:pt x="205" y="1071"/>
                </a:lnTo>
                <a:lnTo>
                  <a:pt x="201" y="1061"/>
                </a:lnTo>
                <a:lnTo>
                  <a:pt x="189" y="1037"/>
                </a:lnTo>
                <a:lnTo>
                  <a:pt x="184" y="1008"/>
                </a:lnTo>
                <a:lnTo>
                  <a:pt x="180" y="979"/>
                </a:lnTo>
                <a:lnTo>
                  <a:pt x="178" y="957"/>
                </a:lnTo>
                <a:lnTo>
                  <a:pt x="210" y="948"/>
                </a:lnTo>
                <a:lnTo>
                  <a:pt x="213" y="956"/>
                </a:lnTo>
                <a:lnTo>
                  <a:pt x="214" y="980"/>
                </a:lnTo>
                <a:lnTo>
                  <a:pt x="214" y="986"/>
                </a:lnTo>
                <a:lnTo>
                  <a:pt x="216" y="993"/>
                </a:lnTo>
                <a:lnTo>
                  <a:pt x="218" y="999"/>
                </a:lnTo>
                <a:lnTo>
                  <a:pt x="221" y="1003"/>
                </a:lnTo>
                <a:lnTo>
                  <a:pt x="227" y="1002"/>
                </a:lnTo>
                <a:lnTo>
                  <a:pt x="234" y="1001"/>
                </a:lnTo>
                <a:lnTo>
                  <a:pt x="242" y="999"/>
                </a:lnTo>
                <a:lnTo>
                  <a:pt x="250" y="996"/>
                </a:lnTo>
                <a:lnTo>
                  <a:pt x="257" y="994"/>
                </a:lnTo>
                <a:lnTo>
                  <a:pt x="264" y="992"/>
                </a:lnTo>
                <a:lnTo>
                  <a:pt x="269" y="990"/>
                </a:lnTo>
                <a:lnTo>
                  <a:pt x="273" y="986"/>
                </a:lnTo>
                <a:lnTo>
                  <a:pt x="288" y="1014"/>
                </a:lnTo>
                <a:lnTo>
                  <a:pt x="281" y="1015"/>
                </a:lnTo>
                <a:lnTo>
                  <a:pt x="273" y="1016"/>
                </a:lnTo>
                <a:lnTo>
                  <a:pt x="265" y="1017"/>
                </a:lnTo>
                <a:lnTo>
                  <a:pt x="257" y="1020"/>
                </a:lnTo>
                <a:lnTo>
                  <a:pt x="247" y="1022"/>
                </a:lnTo>
                <a:lnTo>
                  <a:pt x="241" y="1024"/>
                </a:lnTo>
                <a:lnTo>
                  <a:pt x="232" y="1027"/>
                </a:lnTo>
                <a:lnTo>
                  <a:pt x="225" y="1029"/>
                </a:lnTo>
                <a:lnTo>
                  <a:pt x="227" y="1037"/>
                </a:lnTo>
                <a:lnTo>
                  <a:pt x="229" y="1044"/>
                </a:lnTo>
                <a:lnTo>
                  <a:pt x="231" y="1050"/>
                </a:lnTo>
                <a:lnTo>
                  <a:pt x="237" y="1056"/>
                </a:lnTo>
                <a:lnTo>
                  <a:pt x="252" y="1079"/>
                </a:lnTo>
                <a:lnTo>
                  <a:pt x="256" y="1083"/>
                </a:lnTo>
                <a:lnTo>
                  <a:pt x="264" y="1090"/>
                </a:lnTo>
                <a:lnTo>
                  <a:pt x="274" y="1097"/>
                </a:lnTo>
                <a:lnTo>
                  <a:pt x="283" y="1104"/>
                </a:lnTo>
                <a:lnTo>
                  <a:pt x="323" y="1120"/>
                </a:lnTo>
                <a:lnTo>
                  <a:pt x="327" y="1120"/>
                </a:lnTo>
                <a:lnTo>
                  <a:pt x="332" y="1120"/>
                </a:lnTo>
                <a:lnTo>
                  <a:pt x="338" y="1120"/>
                </a:lnTo>
                <a:lnTo>
                  <a:pt x="344" y="1120"/>
                </a:lnTo>
                <a:lnTo>
                  <a:pt x="349" y="1119"/>
                </a:lnTo>
                <a:lnTo>
                  <a:pt x="355" y="1118"/>
                </a:lnTo>
                <a:lnTo>
                  <a:pt x="359" y="1116"/>
                </a:lnTo>
                <a:lnTo>
                  <a:pt x="361" y="1112"/>
                </a:lnTo>
                <a:lnTo>
                  <a:pt x="356" y="1104"/>
                </a:lnTo>
                <a:lnTo>
                  <a:pt x="351" y="1096"/>
                </a:lnTo>
                <a:lnTo>
                  <a:pt x="344" y="1090"/>
                </a:lnTo>
                <a:lnTo>
                  <a:pt x="337" y="1085"/>
                </a:lnTo>
                <a:lnTo>
                  <a:pt x="333" y="1093"/>
                </a:lnTo>
                <a:lnTo>
                  <a:pt x="329" y="1104"/>
                </a:lnTo>
                <a:lnTo>
                  <a:pt x="325" y="1116"/>
                </a:lnTo>
                <a:lnTo>
                  <a:pt x="323" y="1120"/>
                </a:lnTo>
                <a:lnTo>
                  <a:pt x="283" y="1104"/>
                </a:lnTo>
                <a:lnTo>
                  <a:pt x="290" y="1089"/>
                </a:lnTo>
                <a:lnTo>
                  <a:pt x="300" y="1073"/>
                </a:lnTo>
                <a:lnTo>
                  <a:pt x="305" y="1056"/>
                </a:lnTo>
                <a:lnTo>
                  <a:pt x="308" y="1039"/>
                </a:lnTo>
                <a:lnTo>
                  <a:pt x="301" y="1043"/>
                </a:lnTo>
                <a:lnTo>
                  <a:pt x="293" y="1049"/>
                </a:lnTo>
                <a:lnTo>
                  <a:pt x="285" y="1054"/>
                </a:lnTo>
                <a:lnTo>
                  <a:pt x="275" y="1061"/>
                </a:lnTo>
                <a:lnTo>
                  <a:pt x="266" y="1067"/>
                </a:lnTo>
                <a:lnTo>
                  <a:pt x="259" y="1073"/>
                </a:lnTo>
                <a:lnTo>
                  <a:pt x="254" y="1076"/>
                </a:lnTo>
                <a:lnTo>
                  <a:pt x="252" y="1079"/>
                </a:lnTo>
                <a:lnTo>
                  <a:pt x="237" y="1056"/>
                </a:lnTo>
                <a:lnTo>
                  <a:pt x="243" y="1051"/>
                </a:lnTo>
                <a:lnTo>
                  <a:pt x="249" y="1047"/>
                </a:lnTo>
                <a:lnTo>
                  <a:pt x="256" y="1043"/>
                </a:lnTo>
                <a:lnTo>
                  <a:pt x="263" y="1038"/>
                </a:lnTo>
                <a:lnTo>
                  <a:pt x="269" y="1034"/>
                </a:lnTo>
                <a:lnTo>
                  <a:pt x="276" y="1028"/>
                </a:lnTo>
                <a:lnTo>
                  <a:pt x="282" y="1023"/>
                </a:lnTo>
                <a:lnTo>
                  <a:pt x="288" y="1018"/>
                </a:lnTo>
                <a:lnTo>
                  <a:pt x="288" y="1014"/>
                </a:lnTo>
                <a:lnTo>
                  <a:pt x="273" y="986"/>
                </a:lnTo>
                <a:lnTo>
                  <a:pt x="267" y="985"/>
                </a:lnTo>
                <a:lnTo>
                  <a:pt x="260" y="983"/>
                </a:lnTo>
                <a:lnTo>
                  <a:pt x="252" y="981"/>
                </a:lnTo>
                <a:lnTo>
                  <a:pt x="244" y="980"/>
                </a:lnTo>
                <a:lnTo>
                  <a:pt x="235" y="980"/>
                </a:lnTo>
                <a:lnTo>
                  <a:pt x="227" y="979"/>
                </a:lnTo>
                <a:lnTo>
                  <a:pt x="220" y="979"/>
                </a:lnTo>
                <a:lnTo>
                  <a:pt x="214" y="980"/>
                </a:lnTo>
                <a:lnTo>
                  <a:pt x="213" y="956"/>
                </a:lnTo>
                <a:lnTo>
                  <a:pt x="217" y="957"/>
                </a:lnTo>
                <a:lnTo>
                  <a:pt x="225" y="956"/>
                </a:lnTo>
                <a:lnTo>
                  <a:pt x="235" y="954"/>
                </a:lnTo>
                <a:lnTo>
                  <a:pt x="244" y="950"/>
                </a:lnTo>
                <a:lnTo>
                  <a:pt x="253" y="947"/>
                </a:lnTo>
                <a:lnTo>
                  <a:pt x="261" y="942"/>
                </a:lnTo>
                <a:lnTo>
                  <a:pt x="267" y="939"/>
                </a:lnTo>
                <a:lnTo>
                  <a:pt x="269" y="935"/>
                </a:lnTo>
                <a:lnTo>
                  <a:pt x="210" y="937"/>
                </a:lnTo>
                <a:lnTo>
                  <a:pt x="210" y="948"/>
                </a:lnTo>
                <a:lnTo>
                  <a:pt x="178" y="957"/>
                </a:lnTo>
                <a:lnTo>
                  <a:pt x="152" y="956"/>
                </a:lnTo>
                <a:lnTo>
                  <a:pt x="145" y="964"/>
                </a:lnTo>
                <a:lnTo>
                  <a:pt x="135" y="970"/>
                </a:lnTo>
                <a:lnTo>
                  <a:pt x="125" y="973"/>
                </a:lnTo>
                <a:lnTo>
                  <a:pt x="120" y="974"/>
                </a:lnTo>
                <a:lnTo>
                  <a:pt x="122" y="1061"/>
                </a:lnTo>
                <a:lnTo>
                  <a:pt x="87" y="1065"/>
                </a:lnTo>
                <a:lnTo>
                  <a:pt x="87" y="1046"/>
                </a:lnTo>
                <a:lnTo>
                  <a:pt x="86" y="1007"/>
                </a:lnTo>
                <a:lnTo>
                  <a:pt x="85" y="965"/>
                </a:lnTo>
                <a:lnTo>
                  <a:pt x="86" y="946"/>
                </a:lnTo>
                <a:lnTo>
                  <a:pt x="96" y="940"/>
                </a:lnTo>
                <a:lnTo>
                  <a:pt x="103" y="933"/>
                </a:lnTo>
                <a:lnTo>
                  <a:pt x="108" y="923"/>
                </a:lnTo>
                <a:lnTo>
                  <a:pt x="108" y="913"/>
                </a:lnTo>
                <a:lnTo>
                  <a:pt x="109" y="847"/>
                </a:lnTo>
                <a:lnTo>
                  <a:pt x="111" y="699"/>
                </a:lnTo>
                <a:lnTo>
                  <a:pt x="111" y="545"/>
                </a:lnTo>
                <a:lnTo>
                  <a:pt x="108" y="461"/>
                </a:lnTo>
                <a:lnTo>
                  <a:pt x="162" y="457"/>
                </a:lnTo>
                <a:lnTo>
                  <a:pt x="159" y="493"/>
                </a:lnTo>
                <a:lnTo>
                  <a:pt x="160" y="540"/>
                </a:lnTo>
                <a:lnTo>
                  <a:pt x="163" y="582"/>
                </a:lnTo>
                <a:lnTo>
                  <a:pt x="164" y="599"/>
                </a:lnTo>
                <a:lnTo>
                  <a:pt x="173" y="600"/>
                </a:lnTo>
                <a:lnTo>
                  <a:pt x="184" y="600"/>
                </a:lnTo>
                <a:lnTo>
                  <a:pt x="193" y="600"/>
                </a:lnTo>
                <a:lnTo>
                  <a:pt x="202" y="600"/>
                </a:lnTo>
                <a:lnTo>
                  <a:pt x="212" y="599"/>
                </a:lnTo>
                <a:lnTo>
                  <a:pt x="221" y="599"/>
                </a:lnTo>
                <a:lnTo>
                  <a:pt x="231" y="599"/>
                </a:lnTo>
                <a:lnTo>
                  <a:pt x="241" y="599"/>
                </a:lnTo>
                <a:lnTo>
                  <a:pt x="241" y="457"/>
                </a:lnTo>
                <a:lnTo>
                  <a:pt x="304" y="457"/>
                </a:lnTo>
                <a:lnTo>
                  <a:pt x="307" y="484"/>
                </a:lnTo>
                <a:lnTo>
                  <a:pt x="305" y="512"/>
                </a:lnTo>
                <a:lnTo>
                  <a:pt x="305" y="540"/>
                </a:lnTo>
                <a:lnTo>
                  <a:pt x="307" y="566"/>
                </a:lnTo>
                <a:lnTo>
                  <a:pt x="309" y="563"/>
                </a:lnTo>
                <a:lnTo>
                  <a:pt x="314" y="556"/>
                </a:lnTo>
                <a:lnTo>
                  <a:pt x="319" y="547"/>
                </a:lnTo>
                <a:lnTo>
                  <a:pt x="327" y="537"/>
                </a:lnTo>
                <a:lnTo>
                  <a:pt x="336" y="526"/>
                </a:lnTo>
                <a:lnTo>
                  <a:pt x="345" y="517"/>
                </a:lnTo>
                <a:lnTo>
                  <a:pt x="355" y="511"/>
                </a:lnTo>
                <a:lnTo>
                  <a:pt x="366" y="5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 flipH="1" rot="234600">
            <a:off x="6628320" y="4571640"/>
            <a:ext cx="685800" cy="433440"/>
          </a:xfrm>
          <a:custGeom>
            <a:avLst/>
            <a:gdLst/>
            <a:ahLst/>
            <a:rect l="l" t="t" r="r" b="b"/>
            <a:pathLst>
              <a:path w="2301" h="1182">
                <a:moveTo>
                  <a:pt x="366" y="509"/>
                </a:moveTo>
                <a:lnTo>
                  <a:pt x="366" y="495"/>
                </a:lnTo>
                <a:lnTo>
                  <a:pt x="368" y="481"/>
                </a:lnTo>
                <a:lnTo>
                  <a:pt x="373" y="468"/>
                </a:lnTo>
                <a:lnTo>
                  <a:pt x="380" y="457"/>
                </a:lnTo>
                <a:lnTo>
                  <a:pt x="445" y="466"/>
                </a:lnTo>
                <a:lnTo>
                  <a:pt x="446" y="479"/>
                </a:lnTo>
                <a:lnTo>
                  <a:pt x="446" y="496"/>
                </a:lnTo>
                <a:lnTo>
                  <a:pt x="450" y="510"/>
                </a:lnTo>
                <a:lnTo>
                  <a:pt x="462" y="513"/>
                </a:lnTo>
                <a:lnTo>
                  <a:pt x="462" y="508"/>
                </a:lnTo>
                <a:lnTo>
                  <a:pt x="462" y="502"/>
                </a:lnTo>
                <a:lnTo>
                  <a:pt x="462" y="496"/>
                </a:lnTo>
                <a:lnTo>
                  <a:pt x="458" y="491"/>
                </a:lnTo>
                <a:lnTo>
                  <a:pt x="461" y="487"/>
                </a:lnTo>
                <a:lnTo>
                  <a:pt x="464" y="482"/>
                </a:lnTo>
                <a:lnTo>
                  <a:pt x="468" y="480"/>
                </a:lnTo>
                <a:lnTo>
                  <a:pt x="472" y="477"/>
                </a:lnTo>
                <a:lnTo>
                  <a:pt x="475" y="468"/>
                </a:lnTo>
                <a:lnTo>
                  <a:pt x="477" y="458"/>
                </a:lnTo>
                <a:lnTo>
                  <a:pt x="476" y="447"/>
                </a:lnTo>
                <a:lnTo>
                  <a:pt x="474" y="437"/>
                </a:lnTo>
                <a:lnTo>
                  <a:pt x="471" y="436"/>
                </a:lnTo>
                <a:lnTo>
                  <a:pt x="470" y="436"/>
                </a:lnTo>
                <a:lnTo>
                  <a:pt x="469" y="436"/>
                </a:lnTo>
                <a:lnTo>
                  <a:pt x="470" y="436"/>
                </a:lnTo>
                <a:lnTo>
                  <a:pt x="453" y="435"/>
                </a:lnTo>
                <a:lnTo>
                  <a:pt x="448" y="442"/>
                </a:lnTo>
                <a:lnTo>
                  <a:pt x="448" y="454"/>
                </a:lnTo>
                <a:lnTo>
                  <a:pt x="445" y="466"/>
                </a:lnTo>
                <a:lnTo>
                  <a:pt x="380" y="457"/>
                </a:lnTo>
                <a:lnTo>
                  <a:pt x="304" y="457"/>
                </a:lnTo>
                <a:lnTo>
                  <a:pt x="241" y="457"/>
                </a:lnTo>
                <a:lnTo>
                  <a:pt x="237" y="458"/>
                </a:lnTo>
                <a:lnTo>
                  <a:pt x="228" y="458"/>
                </a:lnTo>
                <a:lnTo>
                  <a:pt x="215" y="458"/>
                </a:lnTo>
                <a:lnTo>
                  <a:pt x="201" y="458"/>
                </a:lnTo>
                <a:lnTo>
                  <a:pt x="187" y="458"/>
                </a:lnTo>
                <a:lnTo>
                  <a:pt x="174" y="457"/>
                </a:lnTo>
                <a:lnTo>
                  <a:pt x="165" y="457"/>
                </a:lnTo>
                <a:lnTo>
                  <a:pt x="162" y="457"/>
                </a:lnTo>
                <a:lnTo>
                  <a:pt x="108" y="461"/>
                </a:lnTo>
                <a:lnTo>
                  <a:pt x="103" y="459"/>
                </a:lnTo>
                <a:lnTo>
                  <a:pt x="99" y="457"/>
                </a:lnTo>
                <a:lnTo>
                  <a:pt x="96" y="452"/>
                </a:lnTo>
                <a:lnTo>
                  <a:pt x="97" y="446"/>
                </a:lnTo>
                <a:lnTo>
                  <a:pt x="91" y="447"/>
                </a:lnTo>
                <a:lnTo>
                  <a:pt x="86" y="450"/>
                </a:lnTo>
                <a:lnTo>
                  <a:pt x="80" y="451"/>
                </a:lnTo>
                <a:lnTo>
                  <a:pt x="74" y="447"/>
                </a:lnTo>
                <a:lnTo>
                  <a:pt x="71" y="439"/>
                </a:lnTo>
                <a:lnTo>
                  <a:pt x="67" y="431"/>
                </a:lnTo>
                <a:lnTo>
                  <a:pt x="61" y="426"/>
                </a:lnTo>
                <a:lnTo>
                  <a:pt x="53" y="429"/>
                </a:lnTo>
                <a:lnTo>
                  <a:pt x="45" y="420"/>
                </a:lnTo>
                <a:lnTo>
                  <a:pt x="35" y="410"/>
                </a:lnTo>
                <a:lnTo>
                  <a:pt x="27" y="400"/>
                </a:lnTo>
                <a:lnTo>
                  <a:pt x="24" y="387"/>
                </a:lnTo>
                <a:lnTo>
                  <a:pt x="16" y="380"/>
                </a:lnTo>
                <a:lnTo>
                  <a:pt x="7" y="372"/>
                </a:lnTo>
                <a:lnTo>
                  <a:pt x="2" y="363"/>
                </a:lnTo>
                <a:lnTo>
                  <a:pt x="0" y="350"/>
                </a:lnTo>
                <a:lnTo>
                  <a:pt x="3" y="342"/>
                </a:lnTo>
                <a:lnTo>
                  <a:pt x="468" y="344"/>
                </a:lnTo>
                <a:lnTo>
                  <a:pt x="468" y="352"/>
                </a:lnTo>
                <a:lnTo>
                  <a:pt x="467" y="360"/>
                </a:lnTo>
                <a:lnTo>
                  <a:pt x="463" y="367"/>
                </a:lnTo>
                <a:lnTo>
                  <a:pt x="457" y="373"/>
                </a:lnTo>
                <a:lnTo>
                  <a:pt x="462" y="376"/>
                </a:lnTo>
                <a:lnTo>
                  <a:pt x="467" y="379"/>
                </a:lnTo>
                <a:lnTo>
                  <a:pt x="472" y="380"/>
                </a:lnTo>
                <a:lnTo>
                  <a:pt x="478" y="380"/>
                </a:lnTo>
                <a:lnTo>
                  <a:pt x="476" y="376"/>
                </a:lnTo>
                <a:lnTo>
                  <a:pt x="474" y="371"/>
                </a:lnTo>
                <a:lnTo>
                  <a:pt x="471" y="366"/>
                </a:lnTo>
                <a:lnTo>
                  <a:pt x="472" y="360"/>
                </a:lnTo>
                <a:lnTo>
                  <a:pt x="481" y="358"/>
                </a:lnTo>
                <a:lnTo>
                  <a:pt x="487" y="355"/>
                </a:lnTo>
                <a:lnTo>
                  <a:pt x="494" y="349"/>
                </a:lnTo>
                <a:lnTo>
                  <a:pt x="500" y="343"/>
                </a:lnTo>
                <a:lnTo>
                  <a:pt x="505" y="338"/>
                </a:lnTo>
                <a:lnTo>
                  <a:pt x="511" y="333"/>
                </a:lnTo>
                <a:lnTo>
                  <a:pt x="518" y="329"/>
                </a:lnTo>
                <a:lnTo>
                  <a:pt x="525" y="327"/>
                </a:lnTo>
                <a:lnTo>
                  <a:pt x="536" y="318"/>
                </a:lnTo>
                <a:lnTo>
                  <a:pt x="528" y="315"/>
                </a:lnTo>
                <a:lnTo>
                  <a:pt x="516" y="315"/>
                </a:lnTo>
                <a:lnTo>
                  <a:pt x="507" y="313"/>
                </a:lnTo>
                <a:lnTo>
                  <a:pt x="504" y="303"/>
                </a:lnTo>
                <a:lnTo>
                  <a:pt x="503" y="303"/>
                </a:lnTo>
                <a:lnTo>
                  <a:pt x="503" y="298"/>
                </a:lnTo>
                <a:lnTo>
                  <a:pt x="504" y="298"/>
                </a:lnTo>
                <a:lnTo>
                  <a:pt x="504" y="299"/>
                </a:lnTo>
                <a:lnTo>
                  <a:pt x="507" y="293"/>
                </a:lnTo>
                <a:lnTo>
                  <a:pt x="512" y="291"/>
                </a:lnTo>
                <a:lnTo>
                  <a:pt x="518" y="291"/>
                </a:lnTo>
                <a:lnTo>
                  <a:pt x="525" y="291"/>
                </a:lnTo>
                <a:lnTo>
                  <a:pt x="530" y="292"/>
                </a:lnTo>
                <a:lnTo>
                  <a:pt x="536" y="292"/>
                </a:lnTo>
                <a:lnTo>
                  <a:pt x="541" y="290"/>
                </a:lnTo>
                <a:lnTo>
                  <a:pt x="544" y="286"/>
                </a:lnTo>
                <a:lnTo>
                  <a:pt x="536" y="284"/>
                </a:lnTo>
                <a:lnTo>
                  <a:pt x="528" y="285"/>
                </a:lnTo>
                <a:lnTo>
                  <a:pt x="520" y="285"/>
                </a:lnTo>
                <a:lnTo>
                  <a:pt x="512" y="284"/>
                </a:lnTo>
                <a:lnTo>
                  <a:pt x="498" y="284"/>
                </a:lnTo>
                <a:lnTo>
                  <a:pt x="485" y="283"/>
                </a:lnTo>
                <a:lnTo>
                  <a:pt x="472" y="284"/>
                </a:lnTo>
                <a:lnTo>
                  <a:pt x="460" y="284"/>
                </a:lnTo>
                <a:lnTo>
                  <a:pt x="447" y="284"/>
                </a:lnTo>
                <a:lnTo>
                  <a:pt x="435" y="284"/>
                </a:lnTo>
                <a:lnTo>
                  <a:pt x="423" y="283"/>
                </a:lnTo>
                <a:lnTo>
                  <a:pt x="411" y="282"/>
                </a:lnTo>
                <a:lnTo>
                  <a:pt x="410" y="277"/>
                </a:lnTo>
                <a:lnTo>
                  <a:pt x="409" y="274"/>
                </a:lnTo>
                <a:lnTo>
                  <a:pt x="407" y="270"/>
                </a:lnTo>
                <a:lnTo>
                  <a:pt x="411" y="267"/>
                </a:lnTo>
                <a:lnTo>
                  <a:pt x="433" y="265"/>
                </a:lnTo>
                <a:lnTo>
                  <a:pt x="455" y="265"/>
                </a:lnTo>
                <a:lnTo>
                  <a:pt x="477" y="265"/>
                </a:lnTo>
                <a:lnTo>
                  <a:pt x="498" y="265"/>
                </a:lnTo>
                <a:lnTo>
                  <a:pt x="518" y="265"/>
                </a:lnTo>
                <a:lnTo>
                  <a:pt x="539" y="265"/>
                </a:lnTo>
                <a:lnTo>
                  <a:pt x="561" y="265"/>
                </a:lnTo>
                <a:lnTo>
                  <a:pt x="581" y="264"/>
                </a:lnTo>
                <a:lnTo>
                  <a:pt x="585" y="267"/>
                </a:lnTo>
                <a:lnTo>
                  <a:pt x="588" y="267"/>
                </a:lnTo>
                <a:lnTo>
                  <a:pt x="591" y="267"/>
                </a:lnTo>
                <a:lnTo>
                  <a:pt x="593" y="269"/>
                </a:lnTo>
                <a:lnTo>
                  <a:pt x="594" y="275"/>
                </a:lnTo>
                <a:lnTo>
                  <a:pt x="592" y="281"/>
                </a:lnTo>
                <a:lnTo>
                  <a:pt x="590" y="284"/>
                </a:lnTo>
                <a:lnTo>
                  <a:pt x="587" y="289"/>
                </a:lnTo>
                <a:lnTo>
                  <a:pt x="593" y="291"/>
                </a:lnTo>
                <a:lnTo>
                  <a:pt x="598" y="292"/>
                </a:lnTo>
                <a:lnTo>
                  <a:pt x="603" y="292"/>
                </a:lnTo>
                <a:lnTo>
                  <a:pt x="609" y="292"/>
                </a:lnTo>
                <a:lnTo>
                  <a:pt x="615" y="292"/>
                </a:lnTo>
                <a:lnTo>
                  <a:pt x="620" y="293"/>
                </a:lnTo>
                <a:lnTo>
                  <a:pt x="624" y="296"/>
                </a:lnTo>
                <a:lnTo>
                  <a:pt x="628" y="300"/>
                </a:lnTo>
                <a:lnTo>
                  <a:pt x="629" y="308"/>
                </a:lnTo>
                <a:lnTo>
                  <a:pt x="624" y="313"/>
                </a:lnTo>
                <a:lnTo>
                  <a:pt x="617" y="315"/>
                </a:lnTo>
                <a:lnTo>
                  <a:pt x="610" y="315"/>
                </a:lnTo>
                <a:lnTo>
                  <a:pt x="607" y="314"/>
                </a:lnTo>
                <a:lnTo>
                  <a:pt x="603" y="313"/>
                </a:lnTo>
                <a:lnTo>
                  <a:pt x="599" y="314"/>
                </a:lnTo>
                <a:lnTo>
                  <a:pt x="595" y="315"/>
                </a:lnTo>
                <a:lnTo>
                  <a:pt x="602" y="318"/>
                </a:lnTo>
                <a:lnTo>
                  <a:pt x="608" y="320"/>
                </a:lnTo>
                <a:lnTo>
                  <a:pt x="614" y="322"/>
                </a:lnTo>
                <a:lnTo>
                  <a:pt x="621" y="323"/>
                </a:lnTo>
                <a:lnTo>
                  <a:pt x="627" y="326"/>
                </a:lnTo>
                <a:lnTo>
                  <a:pt x="632" y="329"/>
                </a:lnTo>
                <a:lnTo>
                  <a:pt x="637" y="333"/>
                </a:lnTo>
                <a:lnTo>
                  <a:pt x="643" y="336"/>
                </a:lnTo>
                <a:lnTo>
                  <a:pt x="649" y="342"/>
                </a:lnTo>
                <a:lnTo>
                  <a:pt x="654" y="348"/>
                </a:lnTo>
                <a:lnTo>
                  <a:pt x="661" y="354"/>
                </a:lnTo>
                <a:lnTo>
                  <a:pt x="667" y="358"/>
                </a:lnTo>
                <a:lnTo>
                  <a:pt x="675" y="380"/>
                </a:lnTo>
                <a:lnTo>
                  <a:pt x="672" y="384"/>
                </a:lnTo>
                <a:lnTo>
                  <a:pt x="666" y="388"/>
                </a:lnTo>
                <a:lnTo>
                  <a:pt x="660" y="391"/>
                </a:lnTo>
                <a:lnTo>
                  <a:pt x="656" y="393"/>
                </a:lnTo>
                <a:lnTo>
                  <a:pt x="653" y="395"/>
                </a:lnTo>
                <a:lnTo>
                  <a:pt x="652" y="399"/>
                </a:lnTo>
                <a:lnTo>
                  <a:pt x="653" y="403"/>
                </a:lnTo>
                <a:lnTo>
                  <a:pt x="656" y="406"/>
                </a:lnTo>
                <a:lnTo>
                  <a:pt x="653" y="417"/>
                </a:lnTo>
                <a:lnTo>
                  <a:pt x="651" y="430"/>
                </a:lnTo>
                <a:lnTo>
                  <a:pt x="650" y="443"/>
                </a:lnTo>
                <a:lnTo>
                  <a:pt x="651" y="453"/>
                </a:lnTo>
                <a:lnTo>
                  <a:pt x="651" y="465"/>
                </a:lnTo>
                <a:lnTo>
                  <a:pt x="657" y="473"/>
                </a:lnTo>
                <a:lnTo>
                  <a:pt x="665" y="479"/>
                </a:lnTo>
                <a:lnTo>
                  <a:pt x="675" y="482"/>
                </a:lnTo>
                <a:lnTo>
                  <a:pt x="676" y="488"/>
                </a:lnTo>
                <a:lnTo>
                  <a:pt x="675" y="494"/>
                </a:lnTo>
                <a:lnTo>
                  <a:pt x="673" y="498"/>
                </a:lnTo>
                <a:lnTo>
                  <a:pt x="670" y="502"/>
                </a:lnTo>
                <a:lnTo>
                  <a:pt x="672" y="502"/>
                </a:lnTo>
                <a:lnTo>
                  <a:pt x="671" y="509"/>
                </a:lnTo>
                <a:lnTo>
                  <a:pt x="682" y="515"/>
                </a:lnTo>
                <a:lnTo>
                  <a:pt x="693" y="519"/>
                </a:lnTo>
                <a:lnTo>
                  <a:pt x="704" y="524"/>
                </a:lnTo>
                <a:lnTo>
                  <a:pt x="716" y="527"/>
                </a:lnTo>
                <a:lnTo>
                  <a:pt x="728" y="531"/>
                </a:lnTo>
                <a:lnTo>
                  <a:pt x="739" y="534"/>
                </a:lnTo>
                <a:lnTo>
                  <a:pt x="751" y="538"/>
                </a:lnTo>
                <a:lnTo>
                  <a:pt x="762" y="542"/>
                </a:lnTo>
                <a:lnTo>
                  <a:pt x="775" y="549"/>
                </a:lnTo>
                <a:lnTo>
                  <a:pt x="789" y="553"/>
                </a:lnTo>
                <a:lnTo>
                  <a:pt x="803" y="555"/>
                </a:lnTo>
                <a:lnTo>
                  <a:pt x="818" y="555"/>
                </a:lnTo>
                <a:lnTo>
                  <a:pt x="833" y="555"/>
                </a:lnTo>
                <a:lnTo>
                  <a:pt x="848" y="554"/>
                </a:lnTo>
                <a:lnTo>
                  <a:pt x="863" y="554"/>
                </a:lnTo>
                <a:lnTo>
                  <a:pt x="878" y="554"/>
                </a:lnTo>
                <a:lnTo>
                  <a:pt x="881" y="550"/>
                </a:lnTo>
                <a:lnTo>
                  <a:pt x="875" y="547"/>
                </a:lnTo>
                <a:lnTo>
                  <a:pt x="868" y="546"/>
                </a:lnTo>
                <a:lnTo>
                  <a:pt x="860" y="546"/>
                </a:lnTo>
                <a:lnTo>
                  <a:pt x="852" y="547"/>
                </a:lnTo>
                <a:lnTo>
                  <a:pt x="846" y="539"/>
                </a:lnTo>
                <a:lnTo>
                  <a:pt x="847" y="528"/>
                </a:lnTo>
                <a:lnTo>
                  <a:pt x="850" y="517"/>
                </a:lnTo>
                <a:lnTo>
                  <a:pt x="850" y="506"/>
                </a:lnTo>
                <a:lnTo>
                  <a:pt x="852" y="493"/>
                </a:lnTo>
                <a:lnTo>
                  <a:pt x="853" y="460"/>
                </a:lnTo>
                <a:lnTo>
                  <a:pt x="852" y="425"/>
                </a:lnTo>
                <a:lnTo>
                  <a:pt x="846" y="403"/>
                </a:lnTo>
                <a:lnTo>
                  <a:pt x="846" y="399"/>
                </a:lnTo>
                <a:lnTo>
                  <a:pt x="847" y="394"/>
                </a:lnTo>
                <a:lnTo>
                  <a:pt x="848" y="388"/>
                </a:lnTo>
                <a:lnTo>
                  <a:pt x="850" y="385"/>
                </a:lnTo>
                <a:lnTo>
                  <a:pt x="857" y="384"/>
                </a:lnTo>
                <a:lnTo>
                  <a:pt x="864" y="384"/>
                </a:lnTo>
                <a:lnTo>
                  <a:pt x="871" y="384"/>
                </a:lnTo>
                <a:lnTo>
                  <a:pt x="878" y="384"/>
                </a:lnTo>
                <a:lnTo>
                  <a:pt x="884" y="384"/>
                </a:lnTo>
                <a:lnTo>
                  <a:pt x="891" y="384"/>
                </a:lnTo>
                <a:lnTo>
                  <a:pt x="898" y="384"/>
                </a:lnTo>
                <a:lnTo>
                  <a:pt x="905" y="382"/>
                </a:lnTo>
                <a:lnTo>
                  <a:pt x="918" y="365"/>
                </a:lnTo>
                <a:lnTo>
                  <a:pt x="921" y="363"/>
                </a:lnTo>
                <a:lnTo>
                  <a:pt x="925" y="360"/>
                </a:lnTo>
                <a:lnTo>
                  <a:pt x="927" y="357"/>
                </a:lnTo>
                <a:lnTo>
                  <a:pt x="928" y="354"/>
                </a:lnTo>
                <a:lnTo>
                  <a:pt x="922" y="352"/>
                </a:lnTo>
                <a:lnTo>
                  <a:pt x="917" y="354"/>
                </a:lnTo>
                <a:lnTo>
                  <a:pt x="911" y="354"/>
                </a:lnTo>
                <a:lnTo>
                  <a:pt x="906" y="355"/>
                </a:lnTo>
                <a:lnTo>
                  <a:pt x="900" y="355"/>
                </a:lnTo>
                <a:lnTo>
                  <a:pt x="897" y="354"/>
                </a:lnTo>
                <a:lnTo>
                  <a:pt x="893" y="350"/>
                </a:lnTo>
                <a:lnTo>
                  <a:pt x="890" y="345"/>
                </a:lnTo>
                <a:lnTo>
                  <a:pt x="893" y="336"/>
                </a:lnTo>
                <a:lnTo>
                  <a:pt x="900" y="328"/>
                </a:lnTo>
                <a:lnTo>
                  <a:pt x="906" y="320"/>
                </a:lnTo>
                <a:lnTo>
                  <a:pt x="905" y="308"/>
                </a:lnTo>
                <a:lnTo>
                  <a:pt x="906" y="308"/>
                </a:lnTo>
                <a:lnTo>
                  <a:pt x="908" y="294"/>
                </a:lnTo>
                <a:lnTo>
                  <a:pt x="912" y="279"/>
                </a:lnTo>
                <a:lnTo>
                  <a:pt x="918" y="267"/>
                </a:lnTo>
                <a:lnTo>
                  <a:pt x="927" y="257"/>
                </a:lnTo>
                <a:lnTo>
                  <a:pt x="923" y="254"/>
                </a:lnTo>
                <a:lnTo>
                  <a:pt x="918" y="259"/>
                </a:lnTo>
                <a:lnTo>
                  <a:pt x="913" y="262"/>
                </a:lnTo>
                <a:lnTo>
                  <a:pt x="908" y="265"/>
                </a:lnTo>
                <a:lnTo>
                  <a:pt x="904" y="269"/>
                </a:lnTo>
                <a:lnTo>
                  <a:pt x="899" y="272"/>
                </a:lnTo>
                <a:lnTo>
                  <a:pt x="896" y="276"/>
                </a:lnTo>
                <a:lnTo>
                  <a:pt x="891" y="279"/>
                </a:lnTo>
                <a:lnTo>
                  <a:pt x="885" y="284"/>
                </a:lnTo>
                <a:lnTo>
                  <a:pt x="872" y="292"/>
                </a:lnTo>
                <a:lnTo>
                  <a:pt x="860" y="300"/>
                </a:lnTo>
                <a:lnTo>
                  <a:pt x="848" y="308"/>
                </a:lnTo>
                <a:lnTo>
                  <a:pt x="837" y="316"/>
                </a:lnTo>
                <a:lnTo>
                  <a:pt x="825" y="325"/>
                </a:lnTo>
                <a:lnTo>
                  <a:pt x="813" y="333"/>
                </a:lnTo>
                <a:lnTo>
                  <a:pt x="801" y="341"/>
                </a:lnTo>
                <a:lnTo>
                  <a:pt x="788" y="349"/>
                </a:lnTo>
                <a:lnTo>
                  <a:pt x="774" y="354"/>
                </a:lnTo>
                <a:lnTo>
                  <a:pt x="761" y="358"/>
                </a:lnTo>
                <a:lnTo>
                  <a:pt x="747" y="364"/>
                </a:lnTo>
                <a:lnTo>
                  <a:pt x="733" y="370"/>
                </a:lnTo>
                <a:lnTo>
                  <a:pt x="721" y="374"/>
                </a:lnTo>
                <a:lnTo>
                  <a:pt x="705" y="378"/>
                </a:lnTo>
                <a:lnTo>
                  <a:pt x="690" y="380"/>
                </a:lnTo>
                <a:lnTo>
                  <a:pt x="675" y="380"/>
                </a:lnTo>
                <a:lnTo>
                  <a:pt x="667" y="358"/>
                </a:lnTo>
                <a:lnTo>
                  <a:pt x="678" y="358"/>
                </a:lnTo>
                <a:lnTo>
                  <a:pt x="689" y="357"/>
                </a:lnTo>
                <a:lnTo>
                  <a:pt x="700" y="356"/>
                </a:lnTo>
                <a:lnTo>
                  <a:pt x="711" y="355"/>
                </a:lnTo>
                <a:lnTo>
                  <a:pt x="722" y="352"/>
                </a:lnTo>
                <a:lnTo>
                  <a:pt x="732" y="349"/>
                </a:lnTo>
                <a:lnTo>
                  <a:pt x="741" y="345"/>
                </a:lnTo>
                <a:lnTo>
                  <a:pt x="751" y="341"/>
                </a:lnTo>
                <a:lnTo>
                  <a:pt x="774" y="333"/>
                </a:lnTo>
                <a:lnTo>
                  <a:pt x="796" y="322"/>
                </a:lnTo>
                <a:lnTo>
                  <a:pt x="816" y="311"/>
                </a:lnTo>
                <a:lnTo>
                  <a:pt x="835" y="297"/>
                </a:lnTo>
                <a:lnTo>
                  <a:pt x="853" y="283"/>
                </a:lnTo>
                <a:lnTo>
                  <a:pt x="871" y="268"/>
                </a:lnTo>
                <a:lnTo>
                  <a:pt x="890" y="254"/>
                </a:lnTo>
                <a:lnTo>
                  <a:pt x="910" y="240"/>
                </a:lnTo>
                <a:lnTo>
                  <a:pt x="915" y="234"/>
                </a:lnTo>
                <a:lnTo>
                  <a:pt x="921" y="226"/>
                </a:lnTo>
                <a:lnTo>
                  <a:pt x="927" y="219"/>
                </a:lnTo>
                <a:lnTo>
                  <a:pt x="935" y="213"/>
                </a:lnTo>
                <a:lnTo>
                  <a:pt x="941" y="213"/>
                </a:lnTo>
                <a:lnTo>
                  <a:pt x="947" y="213"/>
                </a:lnTo>
                <a:lnTo>
                  <a:pt x="952" y="216"/>
                </a:lnTo>
                <a:lnTo>
                  <a:pt x="955" y="221"/>
                </a:lnTo>
                <a:lnTo>
                  <a:pt x="955" y="227"/>
                </a:lnTo>
                <a:lnTo>
                  <a:pt x="955" y="233"/>
                </a:lnTo>
                <a:lnTo>
                  <a:pt x="956" y="239"/>
                </a:lnTo>
                <a:lnTo>
                  <a:pt x="961" y="242"/>
                </a:lnTo>
                <a:lnTo>
                  <a:pt x="964" y="250"/>
                </a:lnTo>
                <a:lnTo>
                  <a:pt x="969" y="259"/>
                </a:lnTo>
                <a:lnTo>
                  <a:pt x="976" y="265"/>
                </a:lnTo>
                <a:lnTo>
                  <a:pt x="983" y="272"/>
                </a:lnTo>
                <a:lnTo>
                  <a:pt x="987" y="291"/>
                </a:lnTo>
                <a:lnTo>
                  <a:pt x="988" y="311"/>
                </a:lnTo>
                <a:lnTo>
                  <a:pt x="992" y="327"/>
                </a:lnTo>
                <a:lnTo>
                  <a:pt x="1006" y="340"/>
                </a:lnTo>
                <a:lnTo>
                  <a:pt x="1007" y="342"/>
                </a:lnTo>
                <a:lnTo>
                  <a:pt x="1006" y="344"/>
                </a:lnTo>
                <a:lnTo>
                  <a:pt x="1005" y="347"/>
                </a:lnTo>
                <a:lnTo>
                  <a:pt x="1003" y="350"/>
                </a:lnTo>
                <a:lnTo>
                  <a:pt x="957" y="352"/>
                </a:lnTo>
                <a:lnTo>
                  <a:pt x="961" y="359"/>
                </a:lnTo>
                <a:lnTo>
                  <a:pt x="970" y="365"/>
                </a:lnTo>
                <a:lnTo>
                  <a:pt x="979" y="371"/>
                </a:lnTo>
                <a:lnTo>
                  <a:pt x="983" y="380"/>
                </a:lnTo>
                <a:lnTo>
                  <a:pt x="987" y="379"/>
                </a:lnTo>
                <a:lnTo>
                  <a:pt x="988" y="379"/>
                </a:lnTo>
                <a:lnTo>
                  <a:pt x="993" y="380"/>
                </a:lnTo>
                <a:lnTo>
                  <a:pt x="1000" y="381"/>
                </a:lnTo>
                <a:lnTo>
                  <a:pt x="1008" y="382"/>
                </a:lnTo>
                <a:lnTo>
                  <a:pt x="1016" y="384"/>
                </a:lnTo>
                <a:lnTo>
                  <a:pt x="1026" y="385"/>
                </a:lnTo>
                <a:lnTo>
                  <a:pt x="1034" y="385"/>
                </a:lnTo>
                <a:lnTo>
                  <a:pt x="1042" y="384"/>
                </a:lnTo>
                <a:lnTo>
                  <a:pt x="1046" y="387"/>
                </a:lnTo>
                <a:lnTo>
                  <a:pt x="1049" y="391"/>
                </a:lnTo>
                <a:lnTo>
                  <a:pt x="1050" y="396"/>
                </a:lnTo>
                <a:lnTo>
                  <a:pt x="1050" y="402"/>
                </a:lnTo>
                <a:lnTo>
                  <a:pt x="1043" y="413"/>
                </a:lnTo>
                <a:lnTo>
                  <a:pt x="1041" y="426"/>
                </a:lnTo>
                <a:lnTo>
                  <a:pt x="1041" y="443"/>
                </a:lnTo>
                <a:lnTo>
                  <a:pt x="1039" y="457"/>
                </a:lnTo>
                <a:lnTo>
                  <a:pt x="1041" y="467"/>
                </a:lnTo>
                <a:lnTo>
                  <a:pt x="1039" y="476"/>
                </a:lnTo>
                <a:lnTo>
                  <a:pt x="1038" y="486"/>
                </a:lnTo>
                <a:lnTo>
                  <a:pt x="1039" y="497"/>
                </a:lnTo>
                <a:lnTo>
                  <a:pt x="1042" y="541"/>
                </a:lnTo>
                <a:lnTo>
                  <a:pt x="1038" y="545"/>
                </a:lnTo>
                <a:lnTo>
                  <a:pt x="1034" y="545"/>
                </a:lnTo>
                <a:lnTo>
                  <a:pt x="1029" y="544"/>
                </a:lnTo>
                <a:lnTo>
                  <a:pt x="1024" y="545"/>
                </a:lnTo>
                <a:lnTo>
                  <a:pt x="1019" y="545"/>
                </a:lnTo>
                <a:lnTo>
                  <a:pt x="1013" y="544"/>
                </a:lnTo>
                <a:lnTo>
                  <a:pt x="1007" y="545"/>
                </a:lnTo>
                <a:lnTo>
                  <a:pt x="1003" y="548"/>
                </a:lnTo>
                <a:lnTo>
                  <a:pt x="1007" y="552"/>
                </a:lnTo>
                <a:lnTo>
                  <a:pt x="1012" y="554"/>
                </a:lnTo>
                <a:lnTo>
                  <a:pt x="1016" y="554"/>
                </a:lnTo>
                <a:lnTo>
                  <a:pt x="1022" y="553"/>
                </a:lnTo>
                <a:lnTo>
                  <a:pt x="1028" y="553"/>
                </a:lnTo>
                <a:lnTo>
                  <a:pt x="1034" y="553"/>
                </a:lnTo>
                <a:lnTo>
                  <a:pt x="1038" y="553"/>
                </a:lnTo>
                <a:lnTo>
                  <a:pt x="1043" y="555"/>
                </a:lnTo>
                <a:lnTo>
                  <a:pt x="1050" y="554"/>
                </a:lnTo>
                <a:lnTo>
                  <a:pt x="1057" y="553"/>
                </a:lnTo>
                <a:lnTo>
                  <a:pt x="1060" y="549"/>
                </a:lnTo>
                <a:lnTo>
                  <a:pt x="1059" y="542"/>
                </a:lnTo>
                <a:lnTo>
                  <a:pt x="1060" y="534"/>
                </a:lnTo>
                <a:lnTo>
                  <a:pt x="1060" y="525"/>
                </a:lnTo>
                <a:lnTo>
                  <a:pt x="1060" y="517"/>
                </a:lnTo>
                <a:lnTo>
                  <a:pt x="1063" y="510"/>
                </a:lnTo>
                <a:lnTo>
                  <a:pt x="1063" y="489"/>
                </a:lnTo>
                <a:lnTo>
                  <a:pt x="1064" y="489"/>
                </a:lnTo>
                <a:lnTo>
                  <a:pt x="1066" y="467"/>
                </a:lnTo>
                <a:lnTo>
                  <a:pt x="1067" y="443"/>
                </a:lnTo>
                <a:lnTo>
                  <a:pt x="1070" y="420"/>
                </a:lnTo>
                <a:lnTo>
                  <a:pt x="1072" y="395"/>
                </a:lnTo>
                <a:lnTo>
                  <a:pt x="1077" y="372"/>
                </a:lnTo>
                <a:lnTo>
                  <a:pt x="1085" y="351"/>
                </a:lnTo>
                <a:lnTo>
                  <a:pt x="1095" y="333"/>
                </a:lnTo>
                <a:lnTo>
                  <a:pt x="1111" y="318"/>
                </a:lnTo>
                <a:lnTo>
                  <a:pt x="1118" y="312"/>
                </a:lnTo>
                <a:lnTo>
                  <a:pt x="1125" y="307"/>
                </a:lnTo>
                <a:lnTo>
                  <a:pt x="1132" y="301"/>
                </a:lnTo>
                <a:lnTo>
                  <a:pt x="1139" y="297"/>
                </a:lnTo>
                <a:lnTo>
                  <a:pt x="1146" y="292"/>
                </a:lnTo>
                <a:lnTo>
                  <a:pt x="1154" y="287"/>
                </a:lnTo>
                <a:lnTo>
                  <a:pt x="1163" y="285"/>
                </a:lnTo>
                <a:lnTo>
                  <a:pt x="1174" y="283"/>
                </a:lnTo>
                <a:lnTo>
                  <a:pt x="1158" y="311"/>
                </a:lnTo>
                <a:lnTo>
                  <a:pt x="1148" y="314"/>
                </a:lnTo>
                <a:lnTo>
                  <a:pt x="1140" y="319"/>
                </a:lnTo>
                <a:lnTo>
                  <a:pt x="1132" y="325"/>
                </a:lnTo>
                <a:lnTo>
                  <a:pt x="1126" y="330"/>
                </a:lnTo>
                <a:lnTo>
                  <a:pt x="1119" y="338"/>
                </a:lnTo>
                <a:lnTo>
                  <a:pt x="1115" y="345"/>
                </a:lnTo>
                <a:lnTo>
                  <a:pt x="1109" y="354"/>
                </a:lnTo>
                <a:lnTo>
                  <a:pt x="1104" y="360"/>
                </a:lnTo>
                <a:lnTo>
                  <a:pt x="1096" y="394"/>
                </a:lnTo>
                <a:lnTo>
                  <a:pt x="1092" y="429"/>
                </a:lnTo>
                <a:lnTo>
                  <a:pt x="1088" y="465"/>
                </a:lnTo>
                <a:lnTo>
                  <a:pt x="1086" y="499"/>
                </a:lnTo>
                <a:lnTo>
                  <a:pt x="1086" y="513"/>
                </a:lnTo>
                <a:lnTo>
                  <a:pt x="1086" y="528"/>
                </a:lnTo>
                <a:lnTo>
                  <a:pt x="1088" y="541"/>
                </a:lnTo>
                <a:lnTo>
                  <a:pt x="1095" y="550"/>
                </a:lnTo>
                <a:lnTo>
                  <a:pt x="1099" y="532"/>
                </a:lnTo>
                <a:lnTo>
                  <a:pt x="1107" y="517"/>
                </a:lnTo>
                <a:lnTo>
                  <a:pt x="1114" y="501"/>
                </a:lnTo>
                <a:lnTo>
                  <a:pt x="1116" y="481"/>
                </a:lnTo>
                <a:lnTo>
                  <a:pt x="1114" y="465"/>
                </a:lnTo>
                <a:lnTo>
                  <a:pt x="1115" y="447"/>
                </a:lnTo>
                <a:lnTo>
                  <a:pt x="1114" y="431"/>
                </a:lnTo>
                <a:lnTo>
                  <a:pt x="1104" y="418"/>
                </a:lnTo>
                <a:lnTo>
                  <a:pt x="1102" y="409"/>
                </a:lnTo>
                <a:lnTo>
                  <a:pt x="1103" y="402"/>
                </a:lnTo>
                <a:lnTo>
                  <a:pt x="1108" y="398"/>
                </a:lnTo>
                <a:lnTo>
                  <a:pt x="1114" y="394"/>
                </a:lnTo>
                <a:lnTo>
                  <a:pt x="1121" y="391"/>
                </a:lnTo>
                <a:lnTo>
                  <a:pt x="1128" y="387"/>
                </a:lnTo>
                <a:lnTo>
                  <a:pt x="1133" y="381"/>
                </a:lnTo>
                <a:lnTo>
                  <a:pt x="1137" y="376"/>
                </a:lnTo>
                <a:lnTo>
                  <a:pt x="1144" y="370"/>
                </a:lnTo>
                <a:lnTo>
                  <a:pt x="1152" y="365"/>
                </a:lnTo>
                <a:lnTo>
                  <a:pt x="1160" y="360"/>
                </a:lnTo>
                <a:lnTo>
                  <a:pt x="1166" y="354"/>
                </a:lnTo>
                <a:lnTo>
                  <a:pt x="1163" y="350"/>
                </a:lnTo>
                <a:lnTo>
                  <a:pt x="1160" y="348"/>
                </a:lnTo>
                <a:lnTo>
                  <a:pt x="1157" y="347"/>
                </a:lnTo>
                <a:lnTo>
                  <a:pt x="1152" y="347"/>
                </a:lnTo>
                <a:lnTo>
                  <a:pt x="1150" y="344"/>
                </a:lnTo>
                <a:lnTo>
                  <a:pt x="1147" y="341"/>
                </a:lnTo>
                <a:lnTo>
                  <a:pt x="1146" y="337"/>
                </a:lnTo>
                <a:lnTo>
                  <a:pt x="1146" y="331"/>
                </a:lnTo>
                <a:lnTo>
                  <a:pt x="1150" y="329"/>
                </a:lnTo>
                <a:lnTo>
                  <a:pt x="1154" y="327"/>
                </a:lnTo>
                <a:lnTo>
                  <a:pt x="1160" y="326"/>
                </a:lnTo>
                <a:lnTo>
                  <a:pt x="1165" y="326"/>
                </a:lnTo>
                <a:lnTo>
                  <a:pt x="1170" y="326"/>
                </a:lnTo>
                <a:lnTo>
                  <a:pt x="1175" y="326"/>
                </a:lnTo>
                <a:lnTo>
                  <a:pt x="1180" y="325"/>
                </a:lnTo>
                <a:lnTo>
                  <a:pt x="1184" y="323"/>
                </a:lnTo>
                <a:lnTo>
                  <a:pt x="1181" y="320"/>
                </a:lnTo>
                <a:lnTo>
                  <a:pt x="1179" y="314"/>
                </a:lnTo>
                <a:lnTo>
                  <a:pt x="1176" y="309"/>
                </a:lnTo>
                <a:lnTo>
                  <a:pt x="1173" y="306"/>
                </a:lnTo>
                <a:lnTo>
                  <a:pt x="1168" y="307"/>
                </a:lnTo>
                <a:lnTo>
                  <a:pt x="1165" y="308"/>
                </a:lnTo>
                <a:lnTo>
                  <a:pt x="1161" y="311"/>
                </a:lnTo>
                <a:lnTo>
                  <a:pt x="1161" y="315"/>
                </a:lnTo>
                <a:lnTo>
                  <a:pt x="1160" y="314"/>
                </a:lnTo>
                <a:lnTo>
                  <a:pt x="1158" y="314"/>
                </a:lnTo>
                <a:lnTo>
                  <a:pt x="1157" y="313"/>
                </a:lnTo>
                <a:lnTo>
                  <a:pt x="1158" y="311"/>
                </a:lnTo>
                <a:lnTo>
                  <a:pt x="1174" y="283"/>
                </a:lnTo>
                <a:lnTo>
                  <a:pt x="1182" y="278"/>
                </a:lnTo>
                <a:lnTo>
                  <a:pt x="1187" y="254"/>
                </a:lnTo>
                <a:lnTo>
                  <a:pt x="1192" y="225"/>
                </a:lnTo>
                <a:lnTo>
                  <a:pt x="1198" y="201"/>
                </a:lnTo>
                <a:lnTo>
                  <a:pt x="1204" y="190"/>
                </a:lnTo>
                <a:lnTo>
                  <a:pt x="1215" y="204"/>
                </a:lnTo>
                <a:lnTo>
                  <a:pt x="1221" y="231"/>
                </a:lnTo>
                <a:lnTo>
                  <a:pt x="1226" y="262"/>
                </a:lnTo>
                <a:lnTo>
                  <a:pt x="1228" y="286"/>
                </a:lnTo>
                <a:lnTo>
                  <a:pt x="1230" y="291"/>
                </a:lnTo>
                <a:lnTo>
                  <a:pt x="1231" y="297"/>
                </a:lnTo>
                <a:lnTo>
                  <a:pt x="1230" y="303"/>
                </a:lnTo>
                <a:lnTo>
                  <a:pt x="1228" y="307"/>
                </a:lnTo>
                <a:lnTo>
                  <a:pt x="1225" y="311"/>
                </a:lnTo>
                <a:lnTo>
                  <a:pt x="1223" y="314"/>
                </a:lnTo>
                <a:lnTo>
                  <a:pt x="1221" y="318"/>
                </a:lnTo>
                <a:lnTo>
                  <a:pt x="1220" y="321"/>
                </a:lnTo>
                <a:lnTo>
                  <a:pt x="1225" y="325"/>
                </a:lnTo>
                <a:lnTo>
                  <a:pt x="1231" y="326"/>
                </a:lnTo>
                <a:lnTo>
                  <a:pt x="1238" y="326"/>
                </a:lnTo>
                <a:lnTo>
                  <a:pt x="1245" y="326"/>
                </a:lnTo>
                <a:lnTo>
                  <a:pt x="1252" y="327"/>
                </a:lnTo>
                <a:lnTo>
                  <a:pt x="1255" y="329"/>
                </a:lnTo>
                <a:lnTo>
                  <a:pt x="1256" y="334"/>
                </a:lnTo>
                <a:lnTo>
                  <a:pt x="1254" y="342"/>
                </a:lnTo>
                <a:lnTo>
                  <a:pt x="1252" y="345"/>
                </a:lnTo>
                <a:lnTo>
                  <a:pt x="1249" y="348"/>
                </a:lnTo>
                <a:lnTo>
                  <a:pt x="1248" y="351"/>
                </a:lnTo>
                <a:lnTo>
                  <a:pt x="1248" y="355"/>
                </a:lnTo>
                <a:lnTo>
                  <a:pt x="1256" y="358"/>
                </a:lnTo>
                <a:lnTo>
                  <a:pt x="1262" y="364"/>
                </a:lnTo>
                <a:lnTo>
                  <a:pt x="1267" y="372"/>
                </a:lnTo>
                <a:lnTo>
                  <a:pt x="1271" y="379"/>
                </a:lnTo>
                <a:lnTo>
                  <a:pt x="1275" y="387"/>
                </a:lnTo>
                <a:lnTo>
                  <a:pt x="1281" y="394"/>
                </a:lnTo>
                <a:lnTo>
                  <a:pt x="1286" y="399"/>
                </a:lnTo>
                <a:lnTo>
                  <a:pt x="1296" y="402"/>
                </a:lnTo>
                <a:lnTo>
                  <a:pt x="1299" y="406"/>
                </a:lnTo>
                <a:lnTo>
                  <a:pt x="1300" y="410"/>
                </a:lnTo>
                <a:lnTo>
                  <a:pt x="1301" y="415"/>
                </a:lnTo>
                <a:lnTo>
                  <a:pt x="1301" y="417"/>
                </a:lnTo>
                <a:lnTo>
                  <a:pt x="1299" y="422"/>
                </a:lnTo>
                <a:lnTo>
                  <a:pt x="1297" y="425"/>
                </a:lnTo>
                <a:lnTo>
                  <a:pt x="1292" y="429"/>
                </a:lnTo>
                <a:lnTo>
                  <a:pt x="1288" y="432"/>
                </a:lnTo>
                <a:lnTo>
                  <a:pt x="1285" y="451"/>
                </a:lnTo>
                <a:lnTo>
                  <a:pt x="1285" y="469"/>
                </a:lnTo>
                <a:lnTo>
                  <a:pt x="1285" y="489"/>
                </a:lnTo>
                <a:lnTo>
                  <a:pt x="1286" y="506"/>
                </a:lnTo>
                <a:lnTo>
                  <a:pt x="1293" y="511"/>
                </a:lnTo>
                <a:lnTo>
                  <a:pt x="1299" y="518"/>
                </a:lnTo>
                <a:lnTo>
                  <a:pt x="1301" y="527"/>
                </a:lnTo>
                <a:lnTo>
                  <a:pt x="1304" y="535"/>
                </a:lnTo>
                <a:lnTo>
                  <a:pt x="1307" y="544"/>
                </a:lnTo>
                <a:lnTo>
                  <a:pt x="1311" y="550"/>
                </a:lnTo>
                <a:lnTo>
                  <a:pt x="1318" y="554"/>
                </a:lnTo>
                <a:lnTo>
                  <a:pt x="1327" y="553"/>
                </a:lnTo>
                <a:lnTo>
                  <a:pt x="1340" y="553"/>
                </a:lnTo>
                <a:lnTo>
                  <a:pt x="1352" y="554"/>
                </a:lnTo>
                <a:lnTo>
                  <a:pt x="1365" y="554"/>
                </a:lnTo>
                <a:lnTo>
                  <a:pt x="1378" y="554"/>
                </a:lnTo>
                <a:lnTo>
                  <a:pt x="1391" y="554"/>
                </a:lnTo>
                <a:lnTo>
                  <a:pt x="1405" y="554"/>
                </a:lnTo>
                <a:lnTo>
                  <a:pt x="1417" y="554"/>
                </a:lnTo>
                <a:lnTo>
                  <a:pt x="1431" y="553"/>
                </a:lnTo>
                <a:lnTo>
                  <a:pt x="1444" y="553"/>
                </a:lnTo>
                <a:lnTo>
                  <a:pt x="1458" y="553"/>
                </a:lnTo>
                <a:lnTo>
                  <a:pt x="1472" y="553"/>
                </a:lnTo>
                <a:lnTo>
                  <a:pt x="1485" y="553"/>
                </a:lnTo>
                <a:lnTo>
                  <a:pt x="1499" y="553"/>
                </a:lnTo>
                <a:lnTo>
                  <a:pt x="1513" y="553"/>
                </a:lnTo>
                <a:lnTo>
                  <a:pt x="1525" y="554"/>
                </a:lnTo>
                <a:lnTo>
                  <a:pt x="1539" y="554"/>
                </a:lnTo>
                <a:lnTo>
                  <a:pt x="1545" y="553"/>
                </a:lnTo>
                <a:lnTo>
                  <a:pt x="1546" y="548"/>
                </a:lnTo>
                <a:lnTo>
                  <a:pt x="1545" y="544"/>
                </a:lnTo>
                <a:lnTo>
                  <a:pt x="1545" y="538"/>
                </a:lnTo>
                <a:lnTo>
                  <a:pt x="1536" y="532"/>
                </a:lnTo>
                <a:lnTo>
                  <a:pt x="1533" y="524"/>
                </a:lnTo>
                <a:lnTo>
                  <a:pt x="1533" y="515"/>
                </a:lnTo>
                <a:lnTo>
                  <a:pt x="1533" y="504"/>
                </a:lnTo>
                <a:lnTo>
                  <a:pt x="1540" y="498"/>
                </a:lnTo>
                <a:lnTo>
                  <a:pt x="1542" y="491"/>
                </a:lnTo>
                <a:lnTo>
                  <a:pt x="1539" y="482"/>
                </a:lnTo>
                <a:lnTo>
                  <a:pt x="1539" y="473"/>
                </a:lnTo>
                <a:lnTo>
                  <a:pt x="1526" y="435"/>
                </a:lnTo>
                <a:lnTo>
                  <a:pt x="1510" y="382"/>
                </a:lnTo>
                <a:lnTo>
                  <a:pt x="1492" y="322"/>
                </a:lnTo>
                <a:lnTo>
                  <a:pt x="1473" y="260"/>
                </a:lnTo>
                <a:lnTo>
                  <a:pt x="1455" y="202"/>
                </a:lnTo>
                <a:lnTo>
                  <a:pt x="1439" y="153"/>
                </a:lnTo>
                <a:lnTo>
                  <a:pt x="1429" y="119"/>
                </a:lnTo>
                <a:lnTo>
                  <a:pt x="1424" y="107"/>
                </a:lnTo>
                <a:lnTo>
                  <a:pt x="1420" y="104"/>
                </a:lnTo>
                <a:lnTo>
                  <a:pt x="1417" y="81"/>
                </a:lnTo>
                <a:lnTo>
                  <a:pt x="1417" y="55"/>
                </a:lnTo>
                <a:lnTo>
                  <a:pt x="1417" y="28"/>
                </a:lnTo>
                <a:lnTo>
                  <a:pt x="1417" y="2"/>
                </a:lnTo>
                <a:lnTo>
                  <a:pt x="1429" y="2"/>
                </a:lnTo>
                <a:lnTo>
                  <a:pt x="1445" y="1"/>
                </a:lnTo>
                <a:lnTo>
                  <a:pt x="1465" y="1"/>
                </a:lnTo>
                <a:lnTo>
                  <a:pt x="1488" y="1"/>
                </a:lnTo>
                <a:lnTo>
                  <a:pt x="1516" y="0"/>
                </a:lnTo>
                <a:lnTo>
                  <a:pt x="1545" y="0"/>
                </a:lnTo>
                <a:lnTo>
                  <a:pt x="1575" y="0"/>
                </a:lnTo>
                <a:lnTo>
                  <a:pt x="1608" y="0"/>
                </a:lnTo>
                <a:lnTo>
                  <a:pt x="1640" y="0"/>
                </a:lnTo>
                <a:lnTo>
                  <a:pt x="1673" y="0"/>
                </a:lnTo>
                <a:lnTo>
                  <a:pt x="1705" y="0"/>
                </a:lnTo>
                <a:lnTo>
                  <a:pt x="1735" y="0"/>
                </a:lnTo>
                <a:lnTo>
                  <a:pt x="1764" y="0"/>
                </a:lnTo>
                <a:lnTo>
                  <a:pt x="1791" y="0"/>
                </a:lnTo>
                <a:lnTo>
                  <a:pt x="1815" y="0"/>
                </a:lnTo>
                <a:lnTo>
                  <a:pt x="1835" y="0"/>
                </a:lnTo>
                <a:lnTo>
                  <a:pt x="1837" y="16"/>
                </a:lnTo>
                <a:lnTo>
                  <a:pt x="1836" y="48"/>
                </a:lnTo>
                <a:lnTo>
                  <a:pt x="1834" y="78"/>
                </a:lnTo>
                <a:lnTo>
                  <a:pt x="1833" y="91"/>
                </a:lnTo>
                <a:lnTo>
                  <a:pt x="1827" y="99"/>
                </a:lnTo>
                <a:lnTo>
                  <a:pt x="1821" y="104"/>
                </a:lnTo>
                <a:lnTo>
                  <a:pt x="1814" y="110"/>
                </a:lnTo>
                <a:lnTo>
                  <a:pt x="1808" y="118"/>
                </a:lnTo>
                <a:lnTo>
                  <a:pt x="1802" y="141"/>
                </a:lnTo>
                <a:lnTo>
                  <a:pt x="1793" y="180"/>
                </a:lnTo>
                <a:lnTo>
                  <a:pt x="1780" y="228"/>
                </a:lnTo>
                <a:lnTo>
                  <a:pt x="1766" y="283"/>
                </a:lnTo>
                <a:lnTo>
                  <a:pt x="1750" y="337"/>
                </a:lnTo>
                <a:lnTo>
                  <a:pt x="1736" y="386"/>
                </a:lnTo>
                <a:lnTo>
                  <a:pt x="1722" y="424"/>
                </a:lnTo>
                <a:lnTo>
                  <a:pt x="1713" y="446"/>
                </a:lnTo>
                <a:lnTo>
                  <a:pt x="1712" y="464"/>
                </a:lnTo>
                <a:lnTo>
                  <a:pt x="1707" y="482"/>
                </a:lnTo>
                <a:lnTo>
                  <a:pt x="1705" y="499"/>
                </a:lnTo>
                <a:lnTo>
                  <a:pt x="1708" y="518"/>
                </a:lnTo>
                <a:lnTo>
                  <a:pt x="1712" y="527"/>
                </a:lnTo>
                <a:lnTo>
                  <a:pt x="1719" y="542"/>
                </a:lnTo>
                <a:lnTo>
                  <a:pt x="1725" y="556"/>
                </a:lnTo>
                <a:lnTo>
                  <a:pt x="1728" y="563"/>
                </a:lnTo>
                <a:lnTo>
                  <a:pt x="1737" y="560"/>
                </a:lnTo>
                <a:lnTo>
                  <a:pt x="1747" y="555"/>
                </a:lnTo>
                <a:lnTo>
                  <a:pt x="1754" y="548"/>
                </a:lnTo>
                <a:lnTo>
                  <a:pt x="1754" y="538"/>
                </a:lnTo>
                <a:lnTo>
                  <a:pt x="1754" y="515"/>
                </a:lnTo>
                <a:lnTo>
                  <a:pt x="1754" y="493"/>
                </a:lnTo>
                <a:lnTo>
                  <a:pt x="1754" y="471"/>
                </a:lnTo>
                <a:lnTo>
                  <a:pt x="1755" y="449"/>
                </a:lnTo>
                <a:lnTo>
                  <a:pt x="1754" y="442"/>
                </a:lnTo>
                <a:lnTo>
                  <a:pt x="1754" y="433"/>
                </a:lnTo>
                <a:lnTo>
                  <a:pt x="1750" y="428"/>
                </a:lnTo>
                <a:lnTo>
                  <a:pt x="1743" y="426"/>
                </a:lnTo>
                <a:lnTo>
                  <a:pt x="1741" y="424"/>
                </a:lnTo>
                <a:lnTo>
                  <a:pt x="1740" y="421"/>
                </a:lnTo>
                <a:lnTo>
                  <a:pt x="1741" y="416"/>
                </a:lnTo>
                <a:lnTo>
                  <a:pt x="1742" y="414"/>
                </a:lnTo>
                <a:lnTo>
                  <a:pt x="1749" y="409"/>
                </a:lnTo>
                <a:lnTo>
                  <a:pt x="1757" y="404"/>
                </a:lnTo>
                <a:lnTo>
                  <a:pt x="1765" y="401"/>
                </a:lnTo>
                <a:lnTo>
                  <a:pt x="1773" y="398"/>
                </a:lnTo>
                <a:lnTo>
                  <a:pt x="1782" y="395"/>
                </a:lnTo>
                <a:lnTo>
                  <a:pt x="1791" y="393"/>
                </a:lnTo>
                <a:lnTo>
                  <a:pt x="1801" y="391"/>
                </a:lnTo>
                <a:lnTo>
                  <a:pt x="1811" y="388"/>
                </a:lnTo>
                <a:lnTo>
                  <a:pt x="1843" y="395"/>
                </a:lnTo>
                <a:lnTo>
                  <a:pt x="1844" y="388"/>
                </a:lnTo>
                <a:lnTo>
                  <a:pt x="1848" y="381"/>
                </a:lnTo>
                <a:lnTo>
                  <a:pt x="1853" y="379"/>
                </a:lnTo>
                <a:lnTo>
                  <a:pt x="1862" y="379"/>
                </a:lnTo>
                <a:lnTo>
                  <a:pt x="1867" y="381"/>
                </a:lnTo>
                <a:lnTo>
                  <a:pt x="1873" y="380"/>
                </a:lnTo>
                <a:lnTo>
                  <a:pt x="1877" y="384"/>
                </a:lnTo>
                <a:lnTo>
                  <a:pt x="1875" y="393"/>
                </a:lnTo>
                <a:lnTo>
                  <a:pt x="1874" y="393"/>
                </a:lnTo>
                <a:lnTo>
                  <a:pt x="1877" y="400"/>
                </a:lnTo>
                <a:lnTo>
                  <a:pt x="1882" y="406"/>
                </a:lnTo>
                <a:lnTo>
                  <a:pt x="1888" y="411"/>
                </a:lnTo>
                <a:lnTo>
                  <a:pt x="1886" y="420"/>
                </a:lnTo>
                <a:lnTo>
                  <a:pt x="1877" y="440"/>
                </a:lnTo>
                <a:lnTo>
                  <a:pt x="1873" y="487"/>
                </a:lnTo>
                <a:lnTo>
                  <a:pt x="1878" y="534"/>
                </a:lnTo>
                <a:lnTo>
                  <a:pt x="1891" y="564"/>
                </a:lnTo>
                <a:lnTo>
                  <a:pt x="1891" y="574"/>
                </a:lnTo>
                <a:lnTo>
                  <a:pt x="1889" y="582"/>
                </a:lnTo>
                <a:lnTo>
                  <a:pt x="1886" y="589"/>
                </a:lnTo>
                <a:lnTo>
                  <a:pt x="1880" y="594"/>
                </a:lnTo>
                <a:lnTo>
                  <a:pt x="1882" y="604"/>
                </a:lnTo>
                <a:lnTo>
                  <a:pt x="1882" y="616"/>
                </a:lnTo>
                <a:lnTo>
                  <a:pt x="1877" y="628"/>
                </a:lnTo>
                <a:lnTo>
                  <a:pt x="1859" y="635"/>
                </a:lnTo>
                <a:lnTo>
                  <a:pt x="1851" y="637"/>
                </a:lnTo>
                <a:lnTo>
                  <a:pt x="1845" y="636"/>
                </a:lnTo>
                <a:lnTo>
                  <a:pt x="1838" y="636"/>
                </a:lnTo>
                <a:lnTo>
                  <a:pt x="1831" y="637"/>
                </a:lnTo>
                <a:lnTo>
                  <a:pt x="1826" y="643"/>
                </a:lnTo>
                <a:lnTo>
                  <a:pt x="1821" y="649"/>
                </a:lnTo>
                <a:lnTo>
                  <a:pt x="1816" y="656"/>
                </a:lnTo>
                <a:lnTo>
                  <a:pt x="1816" y="664"/>
                </a:lnTo>
                <a:lnTo>
                  <a:pt x="1816" y="672"/>
                </a:lnTo>
                <a:lnTo>
                  <a:pt x="1816" y="692"/>
                </a:lnTo>
                <a:lnTo>
                  <a:pt x="1813" y="714"/>
                </a:lnTo>
                <a:lnTo>
                  <a:pt x="1802" y="731"/>
                </a:lnTo>
                <a:lnTo>
                  <a:pt x="1771" y="708"/>
                </a:lnTo>
                <a:lnTo>
                  <a:pt x="1778" y="695"/>
                </a:lnTo>
                <a:lnTo>
                  <a:pt x="1780" y="678"/>
                </a:lnTo>
                <a:lnTo>
                  <a:pt x="1779" y="661"/>
                </a:lnTo>
                <a:lnTo>
                  <a:pt x="1777" y="651"/>
                </a:lnTo>
                <a:lnTo>
                  <a:pt x="1773" y="652"/>
                </a:lnTo>
                <a:lnTo>
                  <a:pt x="1771" y="656"/>
                </a:lnTo>
                <a:lnTo>
                  <a:pt x="1768" y="659"/>
                </a:lnTo>
                <a:lnTo>
                  <a:pt x="1762" y="662"/>
                </a:lnTo>
                <a:lnTo>
                  <a:pt x="1755" y="661"/>
                </a:lnTo>
                <a:lnTo>
                  <a:pt x="1750" y="656"/>
                </a:lnTo>
                <a:lnTo>
                  <a:pt x="1747" y="652"/>
                </a:lnTo>
                <a:lnTo>
                  <a:pt x="1741" y="651"/>
                </a:lnTo>
                <a:lnTo>
                  <a:pt x="1736" y="650"/>
                </a:lnTo>
                <a:lnTo>
                  <a:pt x="1734" y="647"/>
                </a:lnTo>
                <a:lnTo>
                  <a:pt x="1733" y="643"/>
                </a:lnTo>
                <a:lnTo>
                  <a:pt x="1731" y="640"/>
                </a:lnTo>
                <a:lnTo>
                  <a:pt x="1729" y="645"/>
                </a:lnTo>
                <a:lnTo>
                  <a:pt x="1728" y="650"/>
                </a:lnTo>
                <a:lnTo>
                  <a:pt x="1728" y="655"/>
                </a:lnTo>
                <a:lnTo>
                  <a:pt x="1728" y="662"/>
                </a:lnTo>
                <a:lnTo>
                  <a:pt x="1731" y="662"/>
                </a:lnTo>
                <a:lnTo>
                  <a:pt x="1733" y="669"/>
                </a:lnTo>
                <a:lnTo>
                  <a:pt x="1741" y="669"/>
                </a:lnTo>
                <a:lnTo>
                  <a:pt x="1750" y="667"/>
                </a:lnTo>
                <a:lnTo>
                  <a:pt x="1757" y="670"/>
                </a:lnTo>
                <a:lnTo>
                  <a:pt x="1764" y="676"/>
                </a:lnTo>
                <a:lnTo>
                  <a:pt x="1769" y="681"/>
                </a:lnTo>
                <a:lnTo>
                  <a:pt x="1772" y="689"/>
                </a:lnTo>
                <a:lnTo>
                  <a:pt x="1772" y="699"/>
                </a:lnTo>
                <a:lnTo>
                  <a:pt x="1766" y="703"/>
                </a:lnTo>
                <a:lnTo>
                  <a:pt x="1759" y="706"/>
                </a:lnTo>
                <a:lnTo>
                  <a:pt x="1751" y="707"/>
                </a:lnTo>
                <a:lnTo>
                  <a:pt x="1743" y="706"/>
                </a:lnTo>
                <a:lnTo>
                  <a:pt x="1744" y="707"/>
                </a:lnTo>
                <a:lnTo>
                  <a:pt x="1746" y="707"/>
                </a:lnTo>
                <a:lnTo>
                  <a:pt x="1747" y="708"/>
                </a:lnTo>
                <a:lnTo>
                  <a:pt x="1747" y="709"/>
                </a:lnTo>
                <a:lnTo>
                  <a:pt x="1753" y="713"/>
                </a:lnTo>
                <a:lnTo>
                  <a:pt x="1759" y="714"/>
                </a:lnTo>
                <a:lnTo>
                  <a:pt x="1765" y="713"/>
                </a:lnTo>
                <a:lnTo>
                  <a:pt x="1771" y="708"/>
                </a:lnTo>
                <a:lnTo>
                  <a:pt x="1802" y="731"/>
                </a:lnTo>
                <a:lnTo>
                  <a:pt x="1799" y="735"/>
                </a:lnTo>
                <a:lnTo>
                  <a:pt x="1794" y="737"/>
                </a:lnTo>
                <a:lnTo>
                  <a:pt x="1791" y="739"/>
                </a:lnTo>
                <a:lnTo>
                  <a:pt x="1786" y="744"/>
                </a:lnTo>
                <a:lnTo>
                  <a:pt x="1795" y="753"/>
                </a:lnTo>
                <a:lnTo>
                  <a:pt x="1811" y="767"/>
                </a:lnTo>
                <a:lnTo>
                  <a:pt x="1828" y="784"/>
                </a:lnTo>
                <a:lnTo>
                  <a:pt x="1849" y="803"/>
                </a:lnTo>
                <a:lnTo>
                  <a:pt x="1870" y="822"/>
                </a:lnTo>
                <a:lnTo>
                  <a:pt x="1889" y="839"/>
                </a:lnTo>
                <a:lnTo>
                  <a:pt x="1906" y="853"/>
                </a:lnTo>
                <a:lnTo>
                  <a:pt x="1918" y="863"/>
                </a:lnTo>
                <a:lnTo>
                  <a:pt x="1888" y="884"/>
                </a:lnTo>
                <a:lnTo>
                  <a:pt x="1875" y="871"/>
                </a:lnTo>
                <a:lnTo>
                  <a:pt x="1859" y="854"/>
                </a:lnTo>
                <a:lnTo>
                  <a:pt x="1838" y="835"/>
                </a:lnTo>
                <a:lnTo>
                  <a:pt x="1816" y="815"/>
                </a:lnTo>
                <a:lnTo>
                  <a:pt x="1794" y="796"/>
                </a:lnTo>
                <a:lnTo>
                  <a:pt x="1775" y="778"/>
                </a:lnTo>
                <a:lnTo>
                  <a:pt x="1758" y="765"/>
                </a:lnTo>
                <a:lnTo>
                  <a:pt x="1747" y="756"/>
                </a:lnTo>
                <a:lnTo>
                  <a:pt x="1743" y="874"/>
                </a:lnTo>
                <a:lnTo>
                  <a:pt x="1750" y="877"/>
                </a:lnTo>
                <a:lnTo>
                  <a:pt x="1758" y="875"/>
                </a:lnTo>
                <a:lnTo>
                  <a:pt x="1766" y="873"/>
                </a:lnTo>
                <a:lnTo>
                  <a:pt x="1773" y="871"/>
                </a:lnTo>
                <a:lnTo>
                  <a:pt x="1779" y="873"/>
                </a:lnTo>
                <a:lnTo>
                  <a:pt x="1783" y="875"/>
                </a:lnTo>
                <a:lnTo>
                  <a:pt x="1786" y="878"/>
                </a:lnTo>
                <a:lnTo>
                  <a:pt x="1787" y="883"/>
                </a:lnTo>
                <a:lnTo>
                  <a:pt x="1800" y="885"/>
                </a:lnTo>
                <a:lnTo>
                  <a:pt x="1813" y="886"/>
                </a:lnTo>
                <a:lnTo>
                  <a:pt x="1824" y="888"/>
                </a:lnTo>
                <a:lnTo>
                  <a:pt x="1837" y="886"/>
                </a:lnTo>
                <a:lnTo>
                  <a:pt x="1850" y="885"/>
                </a:lnTo>
                <a:lnTo>
                  <a:pt x="1863" y="885"/>
                </a:lnTo>
                <a:lnTo>
                  <a:pt x="1875" y="884"/>
                </a:lnTo>
                <a:lnTo>
                  <a:pt x="1888" y="884"/>
                </a:lnTo>
                <a:lnTo>
                  <a:pt x="1918" y="863"/>
                </a:lnTo>
                <a:lnTo>
                  <a:pt x="1925" y="866"/>
                </a:lnTo>
                <a:lnTo>
                  <a:pt x="1936" y="868"/>
                </a:lnTo>
                <a:lnTo>
                  <a:pt x="1949" y="870"/>
                </a:lnTo>
                <a:lnTo>
                  <a:pt x="1964" y="873"/>
                </a:lnTo>
                <a:lnTo>
                  <a:pt x="1979" y="876"/>
                </a:lnTo>
                <a:lnTo>
                  <a:pt x="1993" y="882"/>
                </a:lnTo>
                <a:lnTo>
                  <a:pt x="2005" y="889"/>
                </a:lnTo>
                <a:lnTo>
                  <a:pt x="2016" y="898"/>
                </a:lnTo>
                <a:lnTo>
                  <a:pt x="2019" y="904"/>
                </a:lnTo>
                <a:lnTo>
                  <a:pt x="2019" y="912"/>
                </a:lnTo>
                <a:lnTo>
                  <a:pt x="2018" y="920"/>
                </a:lnTo>
                <a:lnTo>
                  <a:pt x="2019" y="928"/>
                </a:lnTo>
                <a:lnTo>
                  <a:pt x="2027" y="934"/>
                </a:lnTo>
                <a:lnTo>
                  <a:pt x="2039" y="942"/>
                </a:lnTo>
                <a:lnTo>
                  <a:pt x="2053" y="952"/>
                </a:lnTo>
                <a:lnTo>
                  <a:pt x="2071" y="964"/>
                </a:lnTo>
                <a:lnTo>
                  <a:pt x="2090" y="977"/>
                </a:lnTo>
                <a:lnTo>
                  <a:pt x="2111" y="992"/>
                </a:lnTo>
                <a:lnTo>
                  <a:pt x="2133" y="1006"/>
                </a:lnTo>
                <a:lnTo>
                  <a:pt x="2155" y="1021"/>
                </a:lnTo>
                <a:lnTo>
                  <a:pt x="2177" y="1036"/>
                </a:lnTo>
                <a:lnTo>
                  <a:pt x="2198" y="1050"/>
                </a:lnTo>
                <a:lnTo>
                  <a:pt x="2216" y="1063"/>
                </a:lnTo>
                <a:lnTo>
                  <a:pt x="2234" y="1074"/>
                </a:lnTo>
                <a:lnTo>
                  <a:pt x="2248" y="1083"/>
                </a:lnTo>
                <a:lnTo>
                  <a:pt x="2259" y="1091"/>
                </a:lnTo>
                <a:lnTo>
                  <a:pt x="2266" y="1096"/>
                </a:lnTo>
                <a:lnTo>
                  <a:pt x="2269" y="1097"/>
                </a:lnTo>
                <a:lnTo>
                  <a:pt x="2269" y="1102"/>
                </a:lnTo>
                <a:lnTo>
                  <a:pt x="2266" y="1104"/>
                </a:lnTo>
                <a:lnTo>
                  <a:pt x="2263" y="1107"/>
                </a:lnTo>
                <a:lnTo>
                  <a:pt x="2259" y="1109"/>
                </a:lnTo>
                <a:lnTo>
                  <a:pt x="2251" y="1109"/>
                </a:lnTo>
                <a:lnTo>
                  <a:pt x="2240" y="1109"/>
                </a:lnTo>
                <a:lnTo>
                  <a:pt x="2224" y="1109"/>
                </a:lnTo>
                <a:lnTo>
                  <a:pt x="2208" y="1109"/>
                </a:lnTo>
                <a:lnTo>
                  <a:pt x="2189" y="1109"/>
                </a:lnTo>
                <a:lnTo>
                  <a:pt x="2168" y="1108"/>
                </a:lnTo>
                <a:lnTo>
                  <a:pt x="2147" y="1108"/>
                </a:lnTo>
                <a:lnTo>
                  <a:pt x="2124" y="1108"/>
                </a:lnTo>
                <a:lnTo>
                  <a:pt x="2102" y="1108"/>
                </a:lnTo>
                <a:lnTo>
                  <a:pt x="2078" y="1108"/>
                </a:lnTo>
                <a:lnTo>
                  <a:pt x="2057" y="1108"/>
                </a:lnTo>
                <a:lnTo>
                  <a:pt x="2037" y="1108"/>
                </a:lnTo>
                <a:lnTo>
                  <a:pt x="2018" y="1108"/>
                </a:lnTo>
                <a:lnTo>
                  <a:pt x="2002" y="1108"/>
                </a:lnTo>
                <a:lnTo>
                  <a:pt x="1988" y="1108"/>
                </a:lnTo>
                <a:lnTo>
                  <a:pt x="1976" y="1108"/>
                </a:lnTo>
                <a:lnTo>
                  <a:pt x="1971" y="1101"/>
                </a:lnTo>
                <a:lnTo>
                  <a:pt x="1967" y="1094"/>
                </a:lnTo>
                <a:lnTo>
                  <a:pt x="1962" y="1087"/>
                </a:lnTo>
                <a:lnTo>
                  <a:pt x="1959" y="1079"/>
                </a:lnTo>
                <a:lnTo>
                  <a:pt x="1955" y="1072"/>
                </a:lnTo>
                <a:lnTo>
                  <a:pt x="1952" y="1065"/>
                </a:lnTo>
                <a:lnTo>
                  <a:pt x="1946" y="1058"/>
                </a:lnTo>
                <a:lnTo>
                  <a:pt x="1940" y="1051"/>
                </a:lnTo>
                <a:lnTo>
                  <a:pt x="1937" y="1053"/>
                </a:lnTo>
                <a:lnTo>
                  <a:pt x="1933" y="1064"/>
                </a:lnTo>
                <a:lnTo>
                  <a:pt x="1930" y="1073"/>
                </a:lnTo>
                <a:lnTo>
                  <a:pt x="1925" y="1082"/>
                </a:lnTo>
                <a:lnTo>
                  <a:pt x="1921" y="1091"/>
                </a:lnTo>
                <a:lnTo>
                  <a:pt x="1915" y="1101"/>
                </a:lnTo>
                <a:lnTo>
                  <a:pt x="1908" y="1109"/>
                </a:lnTo>
                <a:lnTo>
                  <a:pt x="1901" y="1117"/>
                </a:lnTo>
                <a:lnTo>
                  <a:pt x="1893" y="1124"/>
                </a:lnTo>
                <a:lnTo>
                  <a:pt x="2301" y="1124"/>
                </a:lnTo>
                <a:lnTo>
                  <a:pt x="2301" y="1181"/>
                </a:lnTo>
                <a:lnTo>
                  <a:pt x="1786" y="1181"/>
                </a:lnTo>
                <a:lnTo>
                  <a:pt x="1783" y="1126"/>
                </a:lnTo>
                <a:lnTo>
                  <a:pt x="1783" y="1125"/>
                </a:lnTo>
                <a:lnTo>
                  <a:pt x="1776" y="1117"/>
                </a:lnTo>
                <a:lnTo>
                  <a:pt x="1769" y="1109"/>
                </a:lnTo>
                <a:lnTo>
                  <a:pt x="1761" y="1100"/>
                </a:lnTo>
                <a:lnTo>
                  <a:pt x="1754" y="1091"/>
                </a:lnTo>
                <a:lnTo>
                  <a:pt x="1728" y="1091"/>
                </a:lnTo>
                <a:lnTo>
                  <a:pt x="1700" y="1091"/>
                </a:lnTo>
                <a:lnTo>
                  <a:pt x="1670" y="1091"/>
                </a:lnTo>
                <a:lnTo>
                  <a:pt x="1641" y="1093"/>
                </a:lnTo>
                <a:lnTo>
                  <a:pt x="1615" y="1093"/>
                </a:lnTo>
                <a:lnTo>
                  <a:pt x="1594" y="1094"/>
                </a:lnTo>
                <a:lnTo>
                  <a:pt x="1580" y="1094"/>
                </a:lnTo>
                <a:lnTo>
                  <a:pt x="1574" y="1094"/>
                </a:lnTo>
                <a:lnTo>
                  <a:pt x="1584" y="1067"/>
                </a:lnTo>
                <a:lnTo>
                  <a:pt x="1590" y="1067"/>
                </a:lnTo>
                <a:lnTo>
                  <a:pt x="1606" y="1067"/>
                </a:lnTo>
                <a:lnTo>
                  <a:pt x="1628" y="1067"/>
                </a:lnTo>
                <a:lnTo>
                  <a:pt x="1655" y="1067"/>
                </a:lnTo>
                <a:lnTo>
                  <a:pt x="1682" y="1067"/>
                </a:lnTo>
                <a:lnTo>
                  <a:pt x="1706" y="1067"/>
                </a:lnTo>
                <a:lnTo>
                  <a:pt x="1725" y="1066"/>
                </a:lnTo>
                <a:lnTo>
                  <a:pt x="1734" y="1066"/>
                </a:lnTo>
                <a:lnTo>
                  <a:pt x="1739" y="1064"/>
                </a:lnTo>
                <a:lnTo>
                  <a:pt x="1739" y="1060"/>
                </a:lnTo>
                <a:lnTo>
                  <a:pt x="1737" y="1056"/>
                </a:lnTo>
                <a:lnTo>
                  <a:pt x="1736" y="1051"/>
                </a:lnTo>
                <a:lnTo>
                  <a:pt x="1729" y="1050"/>
                </a:lnTo>
                <a:lnTo>
                  <a:pt x="1724" y="1047"/>
                </a:lnTo>
                <a:lnTo>
                  <a:pt x="1718" y="1045"/>
                </a:lnTo>
                <a:lnTo>
                  <a:pt x="1713" y="1042"/>
                </a:lnTo>
                <a:lnTo>
                  <a:pt x="1707" y="1038"/>
                </a:lnTo>
                <a:lnTo>
                  <a:pt x="1702" y="1035"/>
                </a:lnTo>
                <a:lnTo>
                  <a:pt x="1696" y="1032"/>
                </a:lnTo>
                <a:lnTo>
                  <a:pt x="1690" y="1030"/>
                </a:lnTo>
                <a:lnTo>
                  <a:pt x="1683" y="1034"/>
                </a:lnTo>
                <a:lnTo>
                  <a:pt x="1676" y="1036"/>
                </a:lnTo>
                <a:lnTo>
                  <a:pt x="1669" y="1037"/>
                </a:lnTo>
                <a:lnTo>
                  <a:pt x="1661" y="1038"/>
                </a:lnTo>
                <a:lnTo>
                  <a:pt x="1654" y="1037"/>
                </a:lnTo>
                <a:lnTo>
                  <a:pt x="1647" y="1036"/>
                </a:lnTo>
                <a:lnTo>
                  <a:pt x="1640" y="1034"/>
                </a:lnTo>
                <a:lnTo>
                  <a:pt x="1634" y="1030"/>
                </a:lnTo>
                <a:lnTo>
                  <a:pt x="1627" y="1034"/>
                </a:lnTo>
                <a:lnTo>
                  <a:pt x="1622" y="1036"/>
                </a:lnTo>
                <a:lnTo>
                  <a:pt x="1615" y="1039"/>
                </a:lnTo>
                <a:lnTo>
                  <a:pt x="1609" y="1042"/>
                </a:lnTo>
                <a:lnTo>
                  <a:pt x="1602" y="1044"/>
                </a:lnTo>
                <a:lnTo>
                  <a:pt x="1596" y="1047"/>
                </a:lnTo>
                <a:lnTo>
                  <a:pt x="1590" y="1051"/>
                </a:lnTo>
                <a:lnTo>
                  <a:pt x="1584" y="1056"/>
                </a:lnTo>
                <a:lnTo>
                  <a:pt x="1584" y="1067"/>
                </a:lnTo>
                <a:lnTo>
                  <a:pt x="1574" y="1094"/>
                </a:lnTo>
                <a:lnTo>
                  <a:pt x="1567" y="1095"/>
                </a:lnTo>
                <a:lnTo>
                  <a:pt x="1561" y="1097"/>
                </a:lnTo>
                <a:lnTo>
                  <a:pt x="1557" y="1102"/>
                </a:lnTo>
                <a:lnTo>
                  <a:pt x="1552" y="1107"/>
                </a:lnTo>
                <a:lnTo>
                  <a:pt x="1547" y="1112"/>
                </a:lnTo>
                <a:lnTo>
                  <a:pt x="1543" y="1118"/>
                </a:lnTo>
                <a:lnTo>
                  <a:pt x="1538" y="1123"/>
                </a:lnTo>
                <a:lnTo>
                  <a:pt x="1533" y="1127"/>
                </a:lnTo>
                <a:lnTo>
                  <a:pt x="1542" y="1129"/>
                </a:lnTo>
                <a:lnTo>
                  <a:pt x="1554" y="1129"/>
                </a:lnTo>
                <a:lnTo>
                  <a:pt x="1569" y="1129"/>
                </a:lnTo>
                <a:lnTo>
                  <a:pt x="1587" y="1129"/>
                </a:lnTo>
                <a:lnTo>
                  <a:pt x="1605" y="1129"/>
                </a:lnTo>
                <a:lnTo>
                  <a:pt x="1626" y="1127"/>
                </a:lnTo>
                <a:lnTo>
                  <a:pt x="1648" y="1127"/>
                </a:lnTo>
                <a:lnTo>
                  <a:pt x="1669" y="1126"/>
                </a:lnTo>
                <a:lnTo>
                  <a:pt x="1691" y="1126"/>
                </a:lnTo>
                <a:lnTo>
                  <a:pt x="1711" y="1125"/>
                </a:lnTo>
                <a:lnTo>
                  <a:pt x="1729" y="1125"/>
                </a:lnTo>
                <a:lnTo>
                  <a:pt x="1747" y="1125"/>
                </a:lnTo>
                <a:lnTo>
                  <a:pt x="1761" y="1124"/>
                </a:lnTo>
                <a:lnTo>
                  <a:pt x="1772" y="1124"/>
                </a:lnTo>
                <a:lnTo>
                  <a:pt x="1779" y="1125"/>
                </a:lnTo>
                <a:lnTo>
                  <a:pt x="1783" y="1125"/>
                </a:lnTo>
                <a:lnTo>
                  <a:pt x="1786" y="1181"/>
                </a:lnTo>
                <a:lnTo>
                  <a:pt x="1365" y="1181"/>
                </a:lnTo>
                <a:lnTo>
                  <a:pt x="1387" y="1130"/>
                </a:lnTo>
                <a:lnTo>
                  <a:pt x="1392" y="1127"/>
                </a:lnTo>
                <a:lnTo>
                  <a:pt x="1395" y="1129"/>
                </a:lnTo>
                <a:lnTo>
                  <a:pt x="1400" y="1130"/>
                </a:lnTo>
                <a:lnTo>
                  <a:pt x="1404" y="1129"/>
                </a:lnTo>
                <a:lnTo>
                  <a:pt x="1392" y="1110"/>
                </a:lnTo>
                <a:lnTo>
                  <a:pt x="1386" y="1109"/>
                </a:lnTo>
                <a:lnTo>
                  <a:pt x="1381" y="1111"/>
                </a:lnTo>
                <a:lnTo>
                  <a:pt x="1376" y="1115"/>
                </a:lnTo>
                <a:lnTo>
                  <a:pt x="1370" y="1116"/>
                </a:lnTo>
                <a:lnTo>
                  <a:pt x="1361" y="1107"/>
                </a:lnTo>
                <a:lnTo>
                  <a:pt x="1357" y="1096"/>
                </a:lnTo>
                <a:lnTo>
                  <a:pt x="1358" y="1086"/>
                </a:lnTo>
                <a:lnTo>
                  <a:pt x="1363" y="1074"/>
                </a:lnTo>
                <a:lnTo>
                  <a:pt x="1368" y="1063"/>
                </a:lnTo>
                <a:lnTo>
                  <a:pt x="1373" y="1050"/>
                </a:lnTo>
                <a:lnTo>
                  <a:pt x="1377" y="1038"/>
                </a:lnTo>
                <a:lnTo>
                  <a:pt x="1376" y="1025"/>
                </a:lnTo>
                <a:lnTo>
                  <a:pt x="1370" y="1018"/>
                </a:lnTo>
                <a:lnTo>
                  <a:pt x="1365" y="1010"/>
                </a:lnTo>
                <a:lnTo>
                  <a:pt x="1363" y="1001"/>
                </a:lnTo>
                <a:lnTo>
                  <a:pt x="1361" y="992"/>
                </a:lnTo>
                <a:lnTo>
                  <a:pt x="1412" y="884"/>
                </a:lnTo>
                <a:lnTo>
                  <a:pt x="1529" y="883"/>
                </a:lnTo>
                <a:lnTo>
                  <a:pt x="1535" y="878"/>
                </a:lnTo>
                <a:lnTo>
                  <a:pt x="1542" y="871"/>
                </a:lnTo>
                <a:lnTo>
                  <a:pt x="1545" y="864"/>
                </a:lnTo>
                <a:lnTo>
                  <a:pt x="1546" y="856"/>
                </a:lnTo>
                <a:lnTo>
                  <a:pt x="1540" y="852"/>
                </a:lnTo>
                <a:lnTo>
                  <a:pt x="1535" y="854"/>
                </a:lnTo>
                <a:lnTo>
                  <a:pt x="1528" y="859"/>
                </a:lnTo>
                <a:lnTo>
                  <a:pt x="1521" y="862"/>
                </a:lnTo>
                <a:lnTo>
                  <a:pt x="1514" y="863"/>
                </a:lnTo>
                <a:lnTo>
                  <a:pt x="1506" y="863"/>
                </a:lnTo>
                <a:lnTo>
                  <a:pt x="1497" y="861"/>
                </a:lnTo>
                <a:lnTo>
                  <a:pt x="1490" y="857"/>
                </a:lnTo>
                <a:lnTo>
                  <a:pt x="1482" y="851"/>
                </a:lnTo>
                <a:lnTo>
                  <a:pt x="1473" y="846"/>
                </a:lnTo>
                <a:lnTo>
                  <a:pt x="1464" y="845"/>
                </a:lnTo>
                <a:lnTo>
                  <a:pt x="1452" y="844"/>
                </a:lnTo>
                <a:lnTo>
                  <a:pt x="1441" y="844"/>
                </a:lnTo>
                <a:lnTo>
                  <a:pt x="1430" y="845"/>
                </a:lnTo>
                <a:lnTo>
                  <a:pt x="1419" y="844"/>
                </a:lnTo>
                <a:lnTo>
                  <a:pt x="1408" y="842"/>
                </a:lnTo>
                <a:lnTo>
                  <a:pt x="1402" y="845"/>
                </a:lnTo>
                <a:lnTo>
                  <a:pt x="1397" y="846"/>
                </a:lnTo>
                <a:lnTo>
                  <a:pt x="1392" y="848"/>
                </a:lnTo>
                <a:lnTo>
                  <a:pt x="1391" y="853"/>
                </a:lnTo>
                <a:lnTo>
                  <a:pt x="1398" y="860"/>
                </a:lnTo>
                <a:lnTo>
                  <a:pt x="1404" y="867"/>
                </a:lnTo>
                <a:lnTo>
                  <a:pt x="1408" y="875"/>
                </a:lnTo>
                <a:lnTo>
                  <a:pt x="1412" y="884"/>
                </a:lnTo>
                <a:lnTo>
                  <a:pt x="1361" y="992"/>
                </a:lnTo>
                <a:lnTo>
                  <a:pt x="1357" y="993"/>
                </a:lnTo>
                <a:lnTo>
                  <a:pt x="1354" y="993"/>
                </a:lnTo>
                <a:lnTo>
                  <a:pt x="1349" y="992"/>
                </a:lnTo>
                <a:lnTo>
                  <a:pt x="1347" y="990"/>
                </a:lnTo>
                <a:lnTo>
                  <a:pt x="1347" y="998"/>
                </a:lnTo>
                <a:lnTo>
                  <a:pt x="1347" y="1003"/>
                </a:lnTo>
                <a:lnTo>
                  <a:pt x="1348" y="1010"/>
                </a:lnTo>
                <a:lnTo>
                  <a:pt x="1347" y="1018"/>
                </a:lnTo>
                <a:lnTo>
                  <a:pt x="1346" y="1025"/>
                </a:lnTo>
                <a:lnTo>
                  <a:pt x="1347" y="1034"/>
                </a:lnTo>
                <a:lnTo>
                  <a:pt x="1348" y="1041"/>
                </a:lnTo>
                <a:lnTo>
                  <a:pt x="1344" y="1046"/>
                </a:lnTo>
                <a:lnTo>
                  <a:pt x="1336" y="1047"/>
                </a:lnTo>
                <a:lnTo>
                  <a:pt x="1329" y="1046"/>
                </a:lnTo>
                <a:lnTo>
                  <a:pt x="1322" y="1043"/>
                </a:lnTo>
                <a:lnTo>
                  <a:pt x="1318" y="1038"/>
                </a:lnTo>
                <a:lnTo>
                  <a:pt x="1313" y="1046"/>
                </a:lnTo>
                <a:lnTo>
                  <a:pt x="1307" y="1056"/>
                </a:lnTo>
                <a:lnTo>
                  <a:pt x="1301" y="1064"/>
                </a:lnTo>
                <a:lnTo>
                  <a:pt x="1296" y="1072"/>
                </a:lnTo>
                <a:lnTo>
                  <a:pt x="1290" y="1080"/>
                </a:lnTo>
                <a:lnTo>
                  <a:pt x="1283" y="1088"/>
                </a:lnTo>
                <a:lnTo>
                  <a:pt x="1276" y="1095"/>
                </a:lnTo>
                <a:lnTo>
                  <a:pt x="1269" y="1103"/>
                </a:lnTo>
                <a:lnTo>
                  <a:pt x="1261" y="1110"/>
                </a:lnTo>
                <a:lnTo>
                  <a:pt x="1253" y="1117"/>
                </a:lnTo>
                <a:lnTo>
                  <a:pt x="1245" y="1123"/>
                </a:lnTo>
                <a:lnTo>
                  <a:pt x="1235" y="1129"/>
                </a:lnTo>
                <a:lnTo>
                  <a:pt x="1254" y="1131"/>
                </a:lnTo>
                <a:lnTo>
                  <a:pt x="1272" y="1131"/>
                </a:lnTo>
                <a:lnTo>
                  <a:pt x="1291" y="1131"/>
                </a:lnTo>
                <a:lnTo>
                  <a:pt x="1310" y="1131"/>
                </a:lnTo>
                <a:lnTo>
                  <a:pt x="1329" y="1130"/>
                </a:lnTo>
                <a:lnTo>
                  <a:pt x="1349" y="1130"/>
                </a:lnTo>
                <a:lnTo>
                  <a:pt x="1368" y="1130"/>
                </a:lnTo>
                <a:lnTo>
                  <a:pt x="1387" y="1130"/>
                </a:lnTo>
                <a:lnTo>
                  <a:pt x="1365" y="1181"/>
                </a:lnTo>
                <a:lnTo>
                  <a:pt x="864" y="1181"/>
                </a:lnTo>
                <a:lnTo>
                  <a:pt x="876" y="1130"/>
                </a:lnTo>
                <a:lnTo>
                  <a:pt x="1071" y="1130"/>
                </a:lnTo>
                <a:lnTo>
                  <a:pt x="1077" y="1131"/>
                </a:lnTo>
                <a:lnTo>
                  <a:pt x="1080" y="1131"/>
                </a:lnTo>
                <a:lnTo>
                  <a:pt x="1085" y="1131"/>
                </a:lnTo>
                <a:lnTo>
                  <a:pt x="1089" y="1130"/>
                </a:lnTo>
                <a:lnTo>
                  <a:pt x="1082" y="1125"/>
                </a:lnTo>
                <a:lnTo>
                  <a:pt x="1077" y="1120"/>
                </a:lnTo>
                <a:lnTo>
                  <a:pt x="1071" y="1116"/>
                </a:lnTo>
                <a:lnTo>
                  <a:pt x="1065" y="1112"/>
                </a:lnTo>
                <a:lnTo>
                  <a:pt x="1059" y="1108"/>
                </a:lnTo>
                <a:lnTo>
                  <a:pt x="1053" y="1103"/>
                </a:lnTo>
                <a:lnTo>
                  <a:pt x="1048" y="1098"/>
                </a:lnTo>
                <a:lnTo>
                  <a:pt x="1043" y="1093"/>
                </a:lnTo>
                <a:lnTo>
                  <a:pt x="1089" y="1093"/>
                </a:lnTo>
                <a:lnTo>
                  <a:pt x="1093" y="1090"/>
                </a:lnTo>
                <a:lnTo>
                  <a:pt x="1100" y="1082"/>
                </a:lnTo>
                <a:lnTo>
                  <a:pt x="1107" y="1069"/>
                </a:lnTo>
                <a:lnTo>
                  <a:pt x="1115" y="1053"/>
                </a:lnTo>
                <a:lnTo>
                  <a:pt x="1123" y="1036"/>
                </a:lnTo>
                <a:lnTo>
                  <a:pt x="1130" y="1020"/>
                </a:lnTo>
                <a:lnTo>
                  <a:pt x="1137" y="1008"/>
                </a:lnTo>
                <a:lnTo>
                  <a:pt x="1140" y="1000"/>
                </a:lnTo>
                <a:lnTo>
                  <a:pt x="1160" y="999"/>
                </a:lnTo>
                <a:lnTo>
                  <a:pt x="1155" y="1017"/>
                </a:lnTo>
                <a:lnTo>
                  <a:pt x="1150" y="1053"/>
                </a:lnTo>
                <a:lnTo>
                  <a:pt x="1145" y="1089"/>
                </a:lnTo>
                <a:lnTo>
                  <a:pt x="1144" y="1110"/>
                </a:lnTo>
                <a:lnTo>
                  <a:pt x="1148" y="1110"/>
                </a:lnTo>
                <a:lnTo>
                  <a:pt x="1152" y="1110"/>
                </a:lnTo>
                <a:lnTo>
                  <a:pt x="1157" y="1110"/>
                </a:lnTo>
                <a:lnTo>
                  <a:pt x="1161" y="1111"/>
                </a:lnTo>
                <a:lnTo>
                  <a:pt x="1168" y="1110"/>
                </a:lnTo>
                <a:lnTo>
                  <a:pt x="1174" y="1110"/>
                </a:lnTo>
                <a:lnTo>
                  <a:pt x="1179" y="1110"/>
                </a:lnTo>
                <a:lnTo>
                  <a:pt x="1182" y="1110"/>
                </a:lnTo>
                <a:lnTo>
                  <a:pt x="1174" y="991"/>
                </a:lnTo>
                <a:lnTo>
                  <a:pt x="1176" y="996"/>
                </a:lnTo>
                <a:lnTo>
                  <a:pt x="1181" y="1009"/>
                </a:lnTo>
                <a:lnTo>
                  <a:pt x="1188" y="1027"/>
                </a:lnTo>
                <a:lnTo>
                  <a:pt x="1195" y="1045"/>
                </a:lnTo>
                <a:lnTo>
                  <a:pt x="1203" y="1065"/>
                </a:lnTo>
                <a:lnTo>
                  <a:pt x="1210" y="1081"/>
                </a:lnTo>
                <a:lnTo>
                  <a:pt x="1215" y="1093"/>
                </a:lnTo>
                <a:lnTo>
                  <a:pt x="1218" y="1098"/>
                </a:lnTo>
                <a:lnTo>
                  <a:pt x="1224" y="1094"/>
                </a:lnTo>
                <a:lnTo>
                  <a:pt x="1232" y="1089"/>
                </a:lnTo>
                <a:lnTo>
                  <a:pt x="1239" y="1086"/>
                </a:lnTo>
                <a:lnTo>
                  <a:pt x="1242" y="1085"/>
                </a:lnTo>
                <a:lnTo>
                  <a:pt x="1240" y="1079"/>
                </a:lnTo>
                <a:lnTo>
                  <a:pt x="1238" y="1074"/>
                </a:lnTo>
                <a:lnTo>
                  <a:pt x="1235" y="1069"/>
                </a:lnTo>
                <a:lnTo>
                  <a:pt x="1233" y="1068"/>
                </a:lnTo>
                <a:lnTo>
                  <a:pt x="1274" y="1053"/>
                </a:lnTo>
                <a:lnTo>
                  <a:pt x="1278" y="1047"/>
                </a:lnTo>
                <a:lnTo>
                  <a:pt x="1284" y="1038"/>
                </a:lnTo>
                <a:lnTo>
                  <a:pt x="1290" y="1030"/>
                </a:lnTo>
                <a:lnTo>
                  <a:pt x="1292" y="1024"/>
                </a:lnTo>
                <a:lnTo>
                  <a:pt x="1286" y="1021"/>
                </a:lnTo>
                <a:lnTo>
                  <a:pt x="1276" y="1017"/>
                </a:lnTo>
                <a:lnTo>
                  <a:pt x="1262" y="1013"/>
                </a:lnTo>
                <a:lnTo>
                  <a:pt x="1248" y="1007"/>
                </a:lnTo>
                <a:lnTo>
                  <a:pt x="1233" y="1002"/>
                </a:lnTo>
                <a:lnTo>
                  <a:pt x="1219" y="999"/>
                </a:lnTo>
                <a:lnTo>
                  <a:pt x="1209" y="995"/>
                </a:lnTo>
                <a:lnTo>
                  <a:pt x="1202" y="994"/>
                </a:lnTo>
                <a:lnTo>
                  <a:pt x="1194" y="977"/>
                </a:lnTo>
                <a:lnTo>
                  <a:pt x="1203" y="976"/>
                </a:lnTo>
                <a:lnTo>
                  <a:pt x="1218" y="976"/>
                </a:lnTo>
                <a:lnTo>
                  <a:pt x="1237" y="974"/>
                </a:lnTo>
                <a:lnTo>
                  <a:pt x="1256" y="973"/>
                </a:lnTo>
                <a:lnTo>
                  <a:pt x="1275" y="972"/>
                </a:lnTo>
                <a:lnTo>
                  <a:pt x="1292" y="972"/>
                </a:lnTo>
                <a:lnTo>
                  <a:pt x="1303" y="971"/>
                </a:lnTo>
                <a:lnTo>
                  <a:pt x="1307" y="971"/>
                </a:lnTo>
                <a:lnTo>
                  <a:pt x="1306" y="964"/>
                </a:lnTo>
                <a:lnTo>
                  <a:pt x="1303" y="954"/>
                </a:lnTo>
                <a:lnTo>
                  <a:pt x="1300" y="943"/>
                </a:lnTo>
                <a:lnTo>
                  <a:pt x="1298" y="937"/>
                </a:lnTo>
                <a:lnTo>
                  <a:pt x="1245" y="954"/>
                </a:lnTo>
                <a:lnTo>
                  <a:pt x="1223" y="913"/>
                </a:lnTo>
                <a:lnTo>
                  <a:pt x="1226" y="912"/>
                </a:lnTo>
                <a:lnTo>
                  <a:pt x="1232" y="908"/>
                </a:lnTo>
                <a:lnTo>
                  <a:pt x="1240" y="905"/>
                </a:lnTo>
                <a:lnTo>
                  <a:pt x="1248" y="900"/>
                </a:lnTo>
                <a:lnTo>
                  <a:pt x="1255" y="896"/>
                </a:lnTo>
                <a:lnTo>
                  <a:pt x="1261" y="890"/>
                </a:lnTo>
                <a:lnTo>
                  <a:pt x="1264" y="885"/>
                </a:lnTo>
                <a:lnTo>
                  <a:pt x="1266" y="882"/>
                </a:lnTo>
                <a:lnTo>
                  <a:pt x="1261" y="873"/>
                </a:lnTo>
                <a:lnTo>
                  <a:pt x="1254" y="864"/>
                </a:lnTo>
                <a:lnTo>
                  <a:pt x="1246" y="859"/>
                </a:lnTo>
                <a:lnTo>
                  <a:pt x="1238" y="856"/>
                </a:lnTo>
                <a:lnTo>
                  <a:pt x="1175" y="954"/>
                </a:lnTo>
                <a:lnTo>
                  <a:pt x="1223" y="913"/>
                </a:lnTo>
                <a:lnTo>
                  <a:pt x="1245" y="954"/>
                </a:lnTo>
                <a:lnTo>
                  <a:pt x="1194" y="977"/>
                </a:lnTo>
                <a:lnTo>
                  <a:pt x="1202" y="994"/>
                </a:lnTo>
                <a:lnTo>
                  <a:pt x="1274" y="1053"/>
                </a:lnTo>
                <a:lnTo>
                  <a:pt x="1233" y="1068"/>
                </a:lnTo>
                <a:lnTo>
                  <a:pt x="1228" y="1065"/>
                </a:lnTo>
                <a:lnTo>
                  <a:pt x="1221" y="1057"/>
                </a:lnTo>
                <a:lnTo>
                  <a:pt x="1213" y="1044"/>
                </a:lnTo>
                <a:lnTo>
                  <a:pt x="1204" y="1030"/>
                </a:lnTo>
                <a:lnTo>
                  <a:pt x="1194" y="1015"/>
                </a:lnTo>
                <a:lnTo>
                  <a:pt x="1186" y="1003"/>
                </a:lnTo>
                <a:lnTo>
                  <a:pt x="1179" y="994"/>
                </a:lnTo>
                <a:lnTo>
                  <a:pt x="1174" y="991"/>
                </a:lnTo>
                <a:lnTo>
                  <a:pt x="1182" y="1110"/>
                </a:lnTo>
                <a:lnTo>
                  <a:pt x="1179" y="1089"/>
                </a:lnTo>
                <a:lnTo>
                  <a:pt x="1172" y="1057"/>
                </a:lnTo>
                <a:lnTo>
                  <a:pt x="1165" y="1023"/>
                </a:lnTo>
                <a:lnTo>
                  <a:pt x="1160" y="999"/>
                </a:lnTo>
                <a:lnTo>
                  <a:pt x="1140" y="1000"/>
                </a:lnTo>
                <a:lnTo>
                  <a:pt x="1117" y="1020"/>
                </a:lnTo>
                <a:lnTo>
                  <a:pt x="1136" y="984"/>
                </a:lnTo>
                <a:lnTo>
                  <a:pt x="1097" y="978"/>
                </a:lnTo>
                <a:lnTo>
                  <a:pt x="1095" y="957"/>
                </a:lnTo>
                <a:lnTo>
                  <a:pt x="1099" y="957"/>
                </a:lnTo>
                <a:lnTo>
                  <a:pt x="1103" y="958"/>
                </a:lnTo>
                <a:lnTo>
                  <a:pt x="1109" y="959"/>
                </a:lnTo>
                <a:lnTo>
                  <a:pt x="1115" y="961"/>
                </a:lnTo>
                <a:lnTo>
                  <a:pt x="1122" y="962"/>
                </a:lnTo>
                <a:lnTo>
                  <a:pt x="1126" y="963"/>
                </a:lnTo>
                <a:lnTo>
                  <a:pt x="1131" y="964"/>
                </a:lnTo>
                <a:lnTo>
                  <a:pt x="1135" y="965"/>
                </a:lnTo>
                <a:lnTo>
                  <a:pt x="1130" y="963"/>
                </a:lnTo>
                <a:lnTo>
                  <a:pt x="1118" y="957"/>
                </a:lnTo>
                <a:lnTo>
                  <a:pt x="1102" y="948"/>
                </a:lnTo>
                <a:lnTo>
                  <a:pt x="1083" y="939"/>
                </a:lnTo>
                <a:lnTo>
                  <a:pt x="1064" y="929"/>
                </a:lnTo>
                <a:lnTo>
                  <a:pt x="1048" y="921"/>
                </a:lnTo>
                <a:lnTo>
                  <a:pt x="1036" y="915"/>
                </a:lnTo>
                <a:lnTo>
                  <a:pt x="1031" y="913"/>
                </a:lnTo>
                <a:lnTo>
                  <a:pt x="1054" y="876"/>
                </a:lnTo>
                <a:lnTo>
                  <a:pt x="1061" y="879"/>
                </a:lnTo>
                <a:lnTo>
                  <a:pt x="1073" y="889"/>
                </a:lnTo>
                <a:lnTo>
                  <a:pt x="1087" y="899"/>
                </a:lnTo>
                <a:lnTo>
                  <a:pt x="1102" y="912"/>
                </a:lnTo>
                <a:lnTo>
                  <a:pt x="1117" y="925"/>
                </a:lnTo>
                <a:lnTo>
                  <a:pt x="1130" y="935"/>
                </a:lnTo>
                <a:lnTo>
                  <a:pt x="1139" y="942"/>
                </a:lnTo>
                <a:lnTo>
                  <a:pt x="1144" y="944"/>
                </a:lnTo>
                <a:lnTo>
                  <a:pt x="1085" y="852"/>
                </a:lnTo>
                <a:lnTo>
                  <a:pt x="1139" y="831"/>
                </a:lnTo>
                <a:lnTo>
                  <a:pt x="1161" y="946"/>
                </a:lnTo>
                <a:lnTo>
                  <a:pt x="1182" y="832"/>
                </a:lnTo>
                <a:lnTo>
                  <a:pt x="1176" y="831"/>
                </a:lnTo>
                <a:lnTo>
                  <a:pt x="1169" y="830"/>
                </a:lnTo>
                <a:lnTo>
                  <a:pt x="1163" y="830"/>
                </a:lnTo>
                <a:lnTo>
                  <a:pt x="1158" y="830"/>
                </a:lnTo>
                <a:lnTo>
                  <a:pt x="1153" y="830"/>
                </a:lnTo>
                <a:lnTo>
                  <a:pt x="1147" y="830"/>
                </a:lnTo>
                <a:lnTo>
                  <a:pt x="1143" y="831"/>
                </a:lnTo>
                <a:lnTo>
                  <a:pt x="1139" y="831"/>
                </a:lnTo>
                <a:lnTo>
                  <a:pt x="1085" y="852"/>
                </a:lnTo>
                <a:lnTo>
                  <a:pt x="1077" y="857"/>
                </a:lnTo>
                <a:lnTo>
                  <a:pt x="1066" y="864"/>
                </a:lnTo>
                <a:lnTo>
                  <a:pt x="1058" y="871"/>
                </a:lnTo>
                <a:lnTo>
                  <a:pt x="1054" y="876"/>
                </a:lnTo>
                <a:lnTo>
                  <a:pt x="1031" y="913"/>
                </a:lnTo>
                <a:lnTo>
                  <a:pt x="1028" y="920"/>
                </a:lnTo>
                <a:lnTo>
                  <a:pt x="1026" y="928"/>
                </a:lnTo>
                <a:lnTo>
                  <a:pt x="1023" y="936"/>
                </a:lnTo>
                <a:lnTo>
                  <a:pt x="1021" y="944"/>
                </a:lnTo>
                <a:lnTo>
                  <a:pt x="1024" y="944"/>
                </a:lnTo>
                <a:lnTo>
                  <a:pt x="1031" y="947"/>
                </a:lnTo>
                <a:lnTo>
                  <a:pt x="1043" y="948"/>
                </a:lnTo>
                <a:lnTo>
                  <a:pt x="1057" y="950"/>
                </a:lnTo>
                <a:lnTo>
                  <a:pt x="1070" y="954"/>
                </a:lnTo>
                <a:lnTo>
                  <a:pt x="1081" y="955"/>
                </a:lnTo>
                <a:lnTo>
                  <a:pt x="1090" y="957"/>
                </a:lnTo>
                <a:lnTo>
                  <a:pt x="1095" y="957"/>
                </a:lnTo>
                <a:lnTo>
                  <a:pt x="1097" y="978"/>
                </a:lnTo>
                <a:lnTo>
                  <a:pt x="1089" y="977"/>
                </a:lnTo>
                <a:lnTo>
                  <a:pt x="1079" y="977"/>
                </a:lnTo>
                <a:lnTo>
                  <a:pt x="1066" y="977"/>
                </a:lnTo>
                <a:lnTo>
                  <a:pt x="1053" y="978"/>
                </a:lnTo>
                <a:lnTo>
                  <a:pt x="1041" y="978"/>
                </a:lnTo>
                <a:lnTo>
                  <a:pt x="1030" y="979"/>
                </a:lnTo>
                <a:lnTo>
                  <a:pt x="1022" y="979"/>
                </a:lnTo>
                <a:lnTo>
                  <a:pt x="1020" y="979"/>
                </a:lnTo>
                <a:lnTo>
                  <a:pt x="1021" y="986"/>
                </a:lnTo>
                <a:lnTo>
                  <a:pt x="1023" y="993"/>
                </a:lnTo>
                <a:lnTo>
                  <a:pt x="1026" y="1000"/>
                </a:lnTo>
                <a:lnTo>
                  <a:pt x="1027" y="1007"/>
                </a:lnTo>
                <a:lnTo>
                  <a:pt x="1136" y="984"/>
                </a:lnTo>
                <a:lnTo>
                  <a:pt x="1117" y="1020"/>
                </a:lnTo>
                <a:lnTo>
                  <a:pt x="1111" y="1023"/>
                </a:lnTo>
                <a:lnTo>
                  <a:pt x="1103" y="1029"/>
                </a:lnTo>
                <a:lnTo>
                  <a:pt x="1093" y="1036"/>
                </a:lnTo>
                <a:lnTo>
                  <a:pt x="1083" y="1044"/>
                </a:lnTo>
                <a:lnTo>
                  <a:pt x="1073" y="1052"/>
                </a:lnTo>
                <a:lnTo>
                  <a:pt x="1065" y="1058"/>
                </a:lnTo>
                <a:lnTo>
                  <a:pt x="1058" y="1063"/>
                </a:lnTo>
                <a:lnTo>
                  <a:pt x="1054" y="1064"/>
                </a:lnTo>
                <a:lnTo>
                  <a:pt x="1058" y="1069"/>
                </a:lnTo>
                <a:lnTo>
                  <a:pt x="1063" y="1074"/>
                </a:lnTo>
                <a:lnTo>
                  <a:pt x="1068" y="1079"/>
                </a:lnTo>
                <a:lnTo>
                  <a:pt x="1074" y="1083"/>
                </a:lnTo>
                <a:lnTo>
                  <a:pt x="1080" y="1087"/>
                </a:lnTo>
                <a:lnTo>
                  <a:pt x="1085" y="1089"/>
                </a:lnTo>
                <a:lnTo>
                  <a:pt x="1088" y="1091"/>
                </a:lnTo>
                <a:lnTo>
                  <a:pt x="1089" y="1093"/>
                </a:lnTo>
                <a:lnTo>
                  <a:pt x="1043" y="1093"/>
                </a:lnTo>
                <a:lnTo>
                  <a:pt x="1030" y="1074"/>
                </a:lnTo>
                <a:lnTo>
                  <a:pt x="1022" y="1071"/>
                </a:lnTo>
                <a:lnTo>
                  <a:pt x="1014" y="1068"/>
                </a:lnTo>
                <a:lnTo>
                  <a:pt x="1006" y="1068"/>
                </a:lnTo>
                <a:lnTo>
                  <a:pt x="998" y="1069"/>
                </a:lnTo>
                <a:lnTo>
                  <a:pt x="990" y="1071"/>
                </a:lnTo>
                <a:lnTo>
                  <a:pt x="980" y="1072"/>
                </a:lnTo>
                <a:lnTo>
                  <a:pt x="971" y="1072"/>
                </a:lnTo>
                <a:lnTo>
                  <a:pt x="962" y="1072"/>
                </a:lnTo>
                <a:lnTo>
                  <a:pt x="959" y="1081"/>
                </a:lnTo>
                <a:lnTo>
                  <a:pt x="956" y="1088"/>
                </a:lnTo>
                <a:lnTo>
                  <a:pt x="952" y="1095"/>
                </a:lnTo>
                <a:lnTo>
                  <a:pt x="948" y="1100"/>
                </a:lnTo>
                <a:lnTo>
                  <a:pt x="943" y="1105"/>
                </a:lnTo>
                <a:lnTo>
                  <a:pt x="937" y="1110"/>
                </a:lnTo>
                <a:lnTo>
                  <a:pt x="932" y="1113"/>
                </a:lnTo>
                <a:lnTo>
                  <a:pt x="923" y="1118"/>
                </a:lnTo>
                <a:lnTo>
                  <a:pt x="917" y="1116"/>
                </a:lnTo>
                <a:lnTo>
                  <a:pt x="911" y="1112"/>
                </a:lnTo>
                <a:lnTo>
                  <a:pt x="905" y="1109"/>
                </a:lnTo>
                <a:lnTo>
                  <a:pt x="899" y="1107"/>
                </a:lnTo>
                <a:lnTo>
                  <a:pt x="876" y="1130"/>
                </a:lnTo>
                <a:lnTo>
                  <a:pt x="864" y="1181"/>
                </a:lnTo>
                <a:lnTo>
                  <a:pt x="799" y="1181"/>
                </a:lnTo>
                <a:lnTo>
                  <a:pt x="790" y="1105"/>
                </a:lnTo>
                <a:lnTo>
                  <a:pt x="797" y="1105"/>
                </a:lnTo>
                <a:lnTo>
                  <a:pt x="803" y="1105"/>
                </a:lnTo>
                <a:lnTo>
                  <a:pt x="808" y="1105"/>
                </a:lnTo>
                <a:lnTo>
                  <a:pt x="812" y="1104"/>
                </a:lnTo>
                <a:lnTo>
                  <a:pt x="804" y="985"/>
                </a:lnTo>
                <a:lnTo>
                  <a:pt x="806" y="991"/>
                </a:lnTo>
                <a:lnTo>
                  <a:pt x="811" y="1003"/>
                </a:lnTo>
                <a:lnTo>
                  <a:pt x="817" y="1021"/>
                </a:lnTo>
                <a:lnTo>
                  <a:pt x="825" y="1041"/>
                </a:lnTo>
                <a:lnTo>
                  <a:pt x="832" y="1059"/>
                </a:lnTo>
                <a:lnTo>
                  <a:pt x="840" y="1076"/>
                </a:lnTo>
                <a:lnTo>
                  <a:pt x="845" y="1088"/>
                </a:lnTo>
                <a:lnTo>
                  <a:pt x="848" y="1094"/>
                </a:lnTo>
                <a:lnTo>
                  <a:pt x="854" y="1089"/>
                </a:lnTo>
                <a:lnTo>
                  <a:pt x="862" y="1085"/>
                </a:lnTo>
                <a:lnTo>
                  <a:pt x="869" y="1081"/>
                </a:lnTo>
                <a:lnTo>
                  <a:pt x="871" y="1080"/>
                </a:lnTo>
                <a:lnTo>
                  <a:pt x="870" y="1074"/>
                </a:lnTo>
                <a:lnTo>
                  <a:pt x="868" y="1069"/>
                </a:lnTo>
                <a:lnTo>
                  <a:pt x="864" y="1065"/>
                </a:lnTo>
                <a:lnTo>
                  <a:pt x="862" y="1064"/>
                </a:lnTo>
                <a:lnTo>
                  <a:pt x="904" y="1049"/>
                </a:lnTo>
                <a:lnTo>
                  <a:pt x="908" y="1043"/>
                </a:lnTo>
                <a:lnTo>
                  <a:pt x="914" y="1034"/>
                </a:lnTo>
                <a:lnTo>
                  <a:pt x="920" y="1024"/>
                </a:lnTo>
                <a:lnTo>
                  <a:pt x="922" y="1018"/>
                </a:lnTo>
                <a:lnTo>
                  <a:pt x="917" y="1016"/>
                </a:lnTo>
                <a:lnTo>
                  <a:pt x="906" y="1013"/>
                </a:lnTo>
                <a:lnTo>
                  <a:pt x="892" y="1008"/>
                </a:lnTo>
                <a:lnTo>
                  <a:pt x="877" y="1002"/>
                </a:lnTo>
                <a:lnTo>
                  <a:pt x="863" y="998"/>
                </a:lnTo>
                <a:lnTo>
                  <a:pt x="849" y="994"/>
                </a:lnTo>
                <a:lnTo>
                  <a:pt x="839" y="991"/>
                </a:lnTo>
                <a:lnTo>
                  <a:pt x="832" y="990"/>
                </a:lnTo>
                <a:lnTo>
                  <a:pt x="824" y="972"/>
                </a:lnTo>
                <a:lnTo>
                  <a:pt x="833" y="971"/>
                </a:lnTo>
                <a:lnTo>
                  <a:pt x="848" y="971"/>
                </a:lnTo>
                <a:lnTo>
                  <a:pt x="867" y="970"/>
                </a:lnTo>
                <a:lnTo>
                  <a:pt x="886" y="969"/>
                </a:lnTo>
                <a:lnTo>
                  <a:pt x="905" y="968"/>
                </a:lnTo>
                <a:lnTo>
                  <a:pt x="922" y="968"/>
                </a:lnTo>
                <a:lnTo>
                  <a:pt x="933" y="966"/>
                </a:lnTo>
                <a:lnTo>
                  <a:pt x="937" y="966"/>
                </a:lnTo>
                <a:lnTo>
                  <a:pt x="936" y="959"/>
                </a:lnTo>
                <a:lnTo>
                  <a:pt x="933" y="949"/>
                </a:lnTo>
                <a:lnTo>
                  <a:pt x="929" y="939"/>
                </a:lnTo>
                <a:lnTo>
                  <a:pt x="927" y="933"/>
                </a:lnTo>
                <a:lnTo>
                  <a:pt x="875" y="948"/>
                </a:lnTo>
                <a:lnTo>
                  <a:pt x="852" y="908"/>
                </a:lnTo>
                <a:lnTo>
                  <a:pt x="855" y="907"/>
                </a:lnTo>
                <a:lnTo>
                  <a:pt x="861" y="904"/>
                </a:lnTo>
                <a:lnTo>
                  <a:pt x="869" y="899"/>
                </a:lnTo>
                <a:lnTo>
                  <a:pt x="877" y="895"/>
                </a:lnTo>
                <a:lnTo>
                  <a:pt x="884" y="890"/>
                </a:lnTo>
                <a:lnTo>
                  <a:pt x="891" y="885"/>
                </a:lnTo>
                <a:lnTo>
                  <a:pt x="894" y="881"/>
                </a:lnTo>
                <a:lnTo>
                  <a:pt x="896" y="877"/>
                </a:lnTo>
                <a:lnTo>
                  <a:pt x="891" y="868"/>
                </a:lnTo>
                <a:lnTo>
                  <a:pt x="884" y="860"/>
                </a:lnTo>
                <a:lnTo>
                  <a:pt x="876" y="854"/>
                </a:lnTo>
                <a:lnTo>
                  <a:pt x="867" y="852"/>
                </a:lnTo>
                <a:lnTo>
                  <a:pt x="805" y="948"/>
                </a:lnTo>
                <a:lnTo>
                  <a:pt x="852" y="908"/>
                </a:lnTo>
                <a:lnTo>
                  <a:pt x="875" y="948"/>
                </a:lnTo>
                <a:lnTo>
                  <a:pt x="824" y="972"/>
                </a:lnTo>
                <a:lnTo>
                  <a:pt x="832" y="990"/>
                </a:lnTo>
                <a:lnTo>
                  <a:pt x="904" y="1049"/>
                </a:lnTo>
                <a:lnTo>
                  <a:pt x="862" y="1064"/>
                </a:lnTo>
                <a:lnTo>
                  <a:pt x="859" y="1060"/>
                </a:lnTo>
                <a:lnTo>
                  <a:pt x="852" y="1052"/>
                </a:lnTo>
                <a:lnTo>
                  <a:pt x="843" y="1039"/>
                </a:lnTo>
                <a:lnTo>
                  <a:pt x="833" y="1024"/>
                </a:lnTo>
                <a:lnTo>
                  <a:pt x="824" y="1010"/>
                </a:lnTo>
                <a:lnTo>
                  <a:pt x="816" y="998"/>
                </a:lnTo>
                <a:lnTo>
                  <a:pt x="809" y="988"/>
                </a:lnTo>
                <a:lnTo>
                  <a:pt x="804" y="985"/>
                </a:lnTo>
                <a:lnTo>
                  <a:pt x="812" y="1104"/>
                </a:lnTo>
                <a:lnTo>
                  <a:pt x="809" y="1085"/>
                </a:lnTo>
                <a:lnTo>
                  <a:pt x="802" y="1052"/>
                </a:lnTo>
                <a:lnTo>
                  <a:pt x="795" y="1017"/>
                </a:lnTo>
                <a:lnTo>
                  <a:pt x="789" y="993"/>
                </a:lnTo>
                <a:lnTo>
                  <a:pt x="770" y="995"/>
                </a:lnTo>
                <a:lnTo>
                  <a:pt x="747" y="1014"/>
                </a:lnTo>
                <a:lnTo>
                  <a:pt x="765" y="979"/>
                </a:lnTo>
                <a:lnTo>
                  <a:pt x="726" y="973"/>
                </a:lnTo>
                <a:lnTo>
                  <a:pt x="725" y="952"/>
                </a:lnTo>
                <a:lnTo>
                  <a:pt x="729" y="952"/>
                </a:lnTo>
                <a:lnTo>
                  <a:pt x="733" y="954"/>
                </a:lnTo>
                <a:lnTo>
                  <a:pt x="738" y="955"/>
                </a:lnTo>
                <a:lnTo>
                  <a:pt x="745" y="956"/>
                </a:lnTo>
                <a:lnTo>
                  <a:pt x="751" y="957"/>
                </a:lnTo>
                <a:lnTo>
                  <a:pt x="755" y="958"/>
                </a:lnTo>
                <a:lnTo>
                  <a:pt x="760" y="959"/>
                </a:lnTo>
                <a:lnTo>
                  <a:pt x="763" y="961"/>
                </a:lnTo>
                <a:lnTo>
                  <a:pt x="759" y="957"/>
                </a:lnTo>
                <a:lnTo>
                  <a:pt x="747" y="951"/>
                </a:lnTo>
                <a:lnTo>
                  <a:pt x="731" y="943"/>
                </a:lnTo>
                <a:lnTo>
                  <a:pt x="712" y="934"/>
                </a:lnTo>
                <a:lnTo>
                  <a:pt x="693" y="925"/>
                </a:lnTo>
                <a:lnTo>
                  <a:pt x="676" y="917"/>
                </a:lnTo>
                <a:lnTo>
                  <a:pt x="665" y="911"/>
                </a:lnTo>
                <a:lnTo>
                  <a:pt x="660" y="908"/>
                </a:lnTo>
                <a:lnTo>
                  <a:pt x="685" y="871"/>
                </a:lnTo>
                <a:lnTo>
                  <a:pt x="692" y="875"/>
                </a:lnTo>
                <a:lnTo>
                  <a:pt x="702" y="884"/>
                </a:lnTo>
                <a:lnTo>
                  <a:pt x="716" y="895"/>
                </a:lnTo>
                <a:lnTo>
                  <a:pt x="732" y="907"/>
                </a:lnTo>
                <a:lnTo>
                  <a:pt x="747" y="920"/>
                </a:lnTo>
                <a:lnTo>
                  <a:pt x="760" y="930"/>
                </a:lnTo>
                <a:lnTo>
                  <a:pt x="769" y="937"/>
                </a:lnTo>
                <a:lnTo>
                  <a:pt x="773" y="940"/>
                </a:lnTo>
                <a:lnTo>
                  <a:pt x="715" y="847"/>
                </a:lnTo>
                <a:lnTo>
                  <a:pt x="768" y="826"/>
                </a:lnTo>
                <a:lnTo>
                  <a:pt x="790" y="941"/>
                </a:lnTo>
                <a:lnTo>
                  <a:pt x="811" y="826"/>
                </a:lnTo>
                <a:lnTo>
                  <a:pt x="805" y="825"/>
                </a:lnTo>
                <a:lnTo>
                  <a:pt x="799" y="825"/>
                </a:lnTo>
                <a:lnTo>
                  <a:pt x="794" y="824"/>
                </a:lnTo>
                <a:lnTo>
                  <a:pt x="788" y="824"/>
                </a:lnTo>
                <a:lnTo>
                  <a:pt x="782" y="825"/>
                </a:lnTo>
                <a:lnTo>
                  <a:pt x="777" y="825"/>
                </a:lnTo>
                <a:lnTo>
                  <a:pt x="773" y="826"/>
                </a:lnTo>
                <a:lnTo>
                  <a:pt x="768" y="826"/>
                </a:lnTo>
                <a:lnTo>
                  <a:pt x="715" y="847"/>
                </a:lnTo>
                <a:lnTo>
                  <a:pt x="707" y="853"/>
                </a:lnTo>
                <a:lnTo>
                  <a:pt x="696" y="860"/>
                </a:lnTo>
                <a:lnTo>
                  <a:pt x="688" y="867"/>
                </a:lnTo>
                <a:lnTo>
                  <a:pt x="685" y="871"/>
                </a:lnTo>
                <a:lnTo>
                  <a:pt x="660" y="908"/>
                </a:lnTo>
                <a:lnTo>
                  <a:pt x="658" y="914"/>
                </a:lnTo>
                <a:lnTo>
                  <a:pt x="656" y="922"/>
                </a:lnTo>
                <a:lnTo>
                  <a:pt x="653" y="932"/>
                </a:lnTo>
                <a:lnTo>
                  <a:pt x="651" y="940"/>
                </a:lnTo>
                <a:lnTo>
                  <a:pt x="654" y="940"/>
                </a:lnTo>
                <a:lnTo>
                  <a:pt x="661" y="942"/>
                </a:lnTo>
                <a:lnTo>
                  <a:pt x="673" y="943"/>
                </a:lnTo>
                <a:lnTo>
                  <a:pt x="687" y="946"/>
                </a:lnTo>
                <a:lnTo>
                  <a:pt x="700" y="949"/>
                </a:lnTo>
                <a:lnTo>
                  <a:pt x="711" y="950"/>
                </a:lnTo>
                <a:lnTo>
                  <a:pt x="721" y="952"/>
                </a:lnTo>
                <a:lnTo>
                  <a:pt x="725" y="952"/>
                </a:lnTo>
                <a:lnTo>
                  <a:pt x="726" y="973"/>
                </a:lnTo>
                <a:lnTo>
                  <a:pt x="719" y="972"/>
                </a:lnTo>
                <a:lnTo>
                  <a:pt x="708" y="972"/>
                </a:lnTo>
                <a:lnTo>
                  <a:pt x="696" y="972"/>
                </a:lnTo>
                <a:lnTo>
                  <a:pt x="682" y="973"/>
                </a:lnTo>
                <a:lnTo>
                  <a:pt x="670" y="973"/>
                </a:lnTo>
                <a:lnTo>
                  <a:pt x="659" y="974"/>
                </a:lnTo>
                <a:lnTo>
                  <a:pt x="651" y="974"/>
                </a:lnTo>
                <a:lnTo>
                  <a:pt x="649" y="974"/>
                </a:lnTo>
                <a:lnTo>
                  <a:pt x="650" y="981"/>
                </a:lnTo>
                <a:lnTo>
                  <a:pt x="652" y="988"/>
                </a:lnTo>
                <a:lnTo>
                  <a:pt x="654" y="995"/>
                </a:lnTo>
                <a:lnTo>
                  <a:pt x="656" y="1002"/>
                </a:lnTo>
                <a:lnTo>
                  <a:pt x="765" y="979"/>
                </a:lnTo>
                <a:lnTo>
                  <a:pt x="747" y="1014"/>
                </a:lnTo>
                <a:lnTo>
                  <a:pt x="740" y="1017"/>
                </a:lnTo>
                <a:lnTo>
                  <a:pt x="732" y="1023"/>
                </a:lnTo>
                <a:lnTo>
                  <a:pt x="723" y="1031"/>
                </a:lnTo>
                <a:lnTo>
                  <a:pt x="712" y="1039"/>
                </a:lnTo>
                <a:lnTo>
                  <a:pt x="703" y="1046"/>
                </a:lnTo>
                <a:lnTo>
                  <a:pt x="694" y="1053"/>
                </a:lnTo>
                <a:lnTo>
                  <a:pt x="688" y="1058"/>
                </a:lnTo>
                <a:lnTo>
                  <a:pt x="685" y="1059"/>
                </a:lnTo>
                <a:lnTo>
                  <a:pt x="688" y="1065"/>
                </a:lnTo>
                <a:lnTo>
                  <a:pt x="693" y="1069"/>
                </a:lnTo>
                <a:lnTo>
                  <a:pt x="699" y="1074"/>
                </a:lnTo>
                <a:lnTo>
                  <a:pt x="704" y="1079"/>
                </a:lnTo>
                <a:lnTo>
                  <a:pt x="710" y="1082"/>
                </a:lnTo>
                <a:lnTo>
                  <a:pt x="715" y="1085"/>
                </a:lnTo>
                <a:lnTo>
                  <a:pt x="718" y="1087"/>
                </a:lnTo>
                <a:lnTo>
                  <a:pt x="719" y="1088"/>
                </a:lnTo>
                <a:lnTo>
                  <a:pt x="723" y="1086"/>
                </a:lnTo>
                <a:lnTo>
                  <a:pt x="730" y="1078"/>
                </a:lnTo>
                <a:lnTo>
                  <a:pt x="737" y="1064"/>
                </a:lnTo>
                <a:lnTo>
                  <a:pt x="745" y="1047"/>
                </a:lnTo>
                <a:lnTo>
                  <a:pt x="753" y="1031"/>
                </a:lnTo>
                <a:lnTo>
                  <a:pt x="760" y="1015"/>
                </a:lnTo>
                <a:lnTo>
                  <a:pt x="767" y="1002"/>
                </a:lnTo>
                <a:lnTo>
                  <a:pt x="770" y="995"/>
                </a:lnTo>
                <a:lnTo>
                  <a:pt x="789" y="993"/>
                </a:lnTo>
                <a:lnTo>
                  <a:pt x="785" y="1013"/>
                </a:lnTo>
                <a:lnTo>
                  <a:pt x="780" y="1049"/>
                </a:lnTo>
                <a:lnTo>
                  <a:pt x="774" y="1085"/>
                </a:lnTo>
                <a:lnTo>
                  <a:pt x="773" y="1104"/>
                </a:lnTo>
                <a:lnTo>
                  <a:pt x="777" y="1104"/>
                </a:lnTo>
                <a:lnTo>
                  <a:pt x="782" y="1104"/>
                </a:lnTo>
                <a:lnTo>
                  <a:pt x="785" y="1105"/>
                </a:lnTo>
                <a:lnTo>
                  <a:pt x="790" y="1105"/>
                </a:lnTo>
                <a:lnTo>
                  <a:pt x="799" y="1181"/>
                </a:lnTo>
                <a:lnTo>
                  <a:pt x="752" y="1181"/>
                </a:lnTo>
                <a:lnTo>
                  <a:pt x="707" y="1130"/>
                </a:lnTo>
                <a:lnTo>
                  <a:pt x="704" y="1129"/>
                </a:lnTo>
                <a:lnTo>
                  <a:pt x="700" y="1124"/>
                </a:lnTo>
                <a:lnTo>
                  <a:pt x="693" y="1118"/>
                </a:lnTo>
                <a:lnTo>
                  <a:pt x="683" y="1109"/>
                </a:lnTo>
                <a:lnTo>
                  <a:pt x="674" y="1100"/>
                </a:lnTo>
                <a:lnTo>
                  <a:pt x="665" y="1088"/>
                </a:lnTo>
                <a:lnTo>
                  <a:pt x="658" y="1076"/>
                </a:lnTo>
                <a:lnTo>
                  <a:pt x="652" y="1064"/>
                </a:lnTo>
                <a:lnTo>
                  <a:pt x="646" y="1069"/>
                </a:lnTo>
                <a:lnTo>
                  <a:pt x="644" y="1076"/>
                </a:lnTo>
                <a:lnTo>
                  <a:pt x="642" y="1086"/>
                </a:lnTo>
                <a:lnTo>
                  <a:pt x="639" y="1093"/>
                </a:lnTo>
                <a:lnTo>
                  <a:pt x="631" y="1096"/>
                </a:lnTo>
                <a:lnTo>
                  <a:pt x="614" y="1098"/>
                </a:lnTo>
                <a:lnTo>
                  <a:pt x="590" y="1100"/>
                </a:lnTo>
                <a:lnTo>
                  <a:pt x="562" y="1101"/>
                </a:lnTo>
                <a:lnTo>
                  <a:pt x="532" y="1102"/>
                </a:lnTo>
                <a:lnTo>
                  <a:pt x="501" y="1102"/>
                </a:lnTo>
                <a:lnTo>
                  <a:pt x="476" y="1102"/>
                </a:lnTo>
                <a:lnTo>
                  <a:pt x="455" y="1102"/>
                </a:lnTo>
                <a:lnTo>
                  <a:pt x="448" y="1110"/>
                </a:lnTo>
                <a:lnTo>
                  <a:pt x="441" y="1117"/>
                </a:lnTo>
                <a:lnTo>
                  <a:pt x="433" y="1124"/>
                </a:lnTo>
                <a:lnTo>
                  <a:pt x="425" y="1130"/>
                </a:lnTo>
                <a:lnTo>
                  <a:pt x="707" y="1130"/>
                </a:lnTo>
                <a:lnTo>
                  <a:pt x="752" y="1181"/>
                </a:lnTo>
                <a:lnTo>
                  <a:pt x="734" y="1181"/>
                </a:lnTo>
                <a:lnTo>
                  <a:pt x="704" y="1182"/>
                </a:lnTo>
                <a:lnTo>
                  <a:pt x="664" y="1182"/>
                </a:lnTo>
                <a:lnTo>
                  <a:pt x="614" y="1182"/>
                </a:lnTo>
                <a:lnTo>
                  <a:pt x="557" y="1182"/>
                </a:lnTo>
                <a:lnTo>
                  <a:pt x="496" y="1182"/>
                </a:lnTo>
                <a:lnTo>
                  <a:pt x="431" y="1182"/>
                </a:lnTo>
                <a:lnTo>
                  <a:pt x="365" y="1182"/>
                </a:lnTo>
                <a:lnTo>
                  <a:pt x="298" y="1182"/>
                </a:lnTo>
                <a:lnTo>
                  <a:pt x="236" y="1182"/>
                </a:lnTo>
                <a:lnTo>
                  <a:pt x="177" y="1181"/>
                </a:lnTo>
                <a:lnTo>
                  <a:pt x="125" y="1181"/>
                </a:lnTo>
                <a:lnTo>
                  <a:pt x="80" y="1181"/>
                </a:lnTo>
                <a:lnTo>
                  <a:pt x="47" y="1181"/>
                </a:lnTo>
                <a:lnTo>
                  <a:pt x="26" y="1181"/>
                </a:lnTo>
                <a:lnTo>
                  <a:pt x="18" y="1181"/>
                </a:lnTo>
                <a:lnTo>
                  <a:pt x="18" y="1130"/>
                </a:lnTo>
                <a:lnTo>
                  <a:pt x="253" y="1130"/>
                </a:lnTo>
                <a:lnTo>
                  <a:pt x="245" y="1122"/>
                </a:lnTo>
                <a:lnTo>
                  <a:pt x="238" y="1113"/>
                </a:lnTo>
                <a:lnTo>
                  <a:pt x="230" y="1105"/>
                </a:lnTo>
                <a:lnTo>
                  <a:pt x="223" y="1097"/>
                </a:lnTo>
                <a:lnTo>
                  <a:pt x="216" y="1089"/>
                </a:lnTo>
                <a:lnTo>
                  <a:pt x="210" y="1080"/>
                </a:lnTo>
                <a:lnTo>
                  <a:pt x="205" y="1071"/>
                </a:lnTo>
                <a:lnTo>
                  <a:pt x="201" y="1061"/>
                </a:lnTo>
                <a:lnTo>
                  <a:pt x="189" y="1037"/>
                </a:lnTo>
                <a:lnTo>
                  <a:pt x="184" y="1008"/>
                </a:lnTo>
                <a:lnTo>
                  <a:pt x="180" y="979"/>
                </a:lnTo>
                <a:lnTo>
                  <a:pt x="178" y="957"/>
                </a:lnTo>
                <a:lnTo>
                  <a:pt x="210" y="948"/>
                </a:lnTo>
                <a:lnTo>
                  <a:pt x="213" y="956"/>
                </a:lnTo>
                <a:lnTo>
                  <a:pt x="214" y="980"/>
                </a:lnTo>
                <a:lnTo>
                  <a:pt x="214" y="986"/>
                </a:lnTo>
                <a:lnTo>
                  <a:pt x="216" y="993"/>
                </a:lnTo>
                <a:lnTo>
                  <a:pt x="218" y="999"/>
                </a:lnTo>
                <a:lnTo>
                  <a:pt x="221" y="1003"/>
                </a:lnTo>
                <a:lnTo>
                  <a:pt x="227" y="1002"/>
                </a:lnTo>
                <a:lnTo>
                  <a:pt x="234" y="1001"/>
                </a:lnTo>
                <a:lnTo>
                  <a:pt x="242" y="999"/>
                </a:lnTo>
                <a:lnTo>
                  <a:pt x="250" y="996"/>
                </a:lnTo>
                <a:lnTo>
                  <a:pt x="257" y="994"/>
                </a:lnTo>
                <a:lnTo>
                  <a:pt x="264" y="992"/>
                </a:lnTo>
                <a:lnTo>
                  <a:pt x="269" y="990"/>
                </a:lnTo>
                <a:lnTo>
                  <a:pt x="273" y="986"/>
                </a:lnTo>
                <a:lnTo>
                  <a:pt x="288" y="1014"/>
                </a:lnTo>
                <a:lnTo>
                  <a:pt x="281" y="1015"/>
                </a:lnTo>
                <a:lnTo>
                  <a:pt x="273" y="1016"/>
                </a:lnTo>
                <a:lnTo>
                  <a:pt x="265" y="1017"/>
                </a:lnTo>
                <a:lnTo>
                  <a:pt x="257" y="1020"/>
                </a:lnTo>
                <a:lnTo>
                  <a:pt x="247" y="1022"/>
                </a:lnTo>
                <a:lnTo>
                  <a:pt x="241" y="1024"/>
                </a:lnTo>
                <a:lnTo>
                  <a:pt x="232" y="1027"/>
                </a:lnTo>
                <a:lnTo>
                  <a:pt x="225" y="1029"/>
                </a:lnTo>
                <a:lnTo>
                  <a:pt x="227" y="1037"/>
                </a:lnTo>
                <a:lnTo>
                  <a:pt x="229" y="1044"/>
                </a:lnTo>
                <a:lnTo>
                  <a:pt x="231" y="1050"/>
                </a:lnTo>
                <a:lnTo>
                  <a:pt x="237" y="1056"/>
                </a:lnTo>
                <a:lnTo>
                  <a:pt x="252" y="1079"/>
                </a:lnTo>
                <a:lnTo>
                  <a:pt x="256" y="1083"/>
                </a:lnTo>
                <a:lnTo>
                  <a:pt x="264" y="1090"/>
                </a:lnTo>
                <a:lnTo>
                  <a:pt x="274" y="1097"/>
                </a:lnTo>
                <a:lnTo>
                  <a:pt x="283" y="1104"/>
                </a:lnTo>
                <a:lnTo>
                  <a:pt x="323" y="1120"/>
                </a:lnTo>
                <a:lnTo>
                  <a:pt x="327" y="1120"/>
                </a:lnTo>
                <a:lnTo>
                  <a:pt x="332" y="1120"/>
                </a:lnTo>
                <a:lnTo>
                  <a:pt x="338" y="1120"/>
                </a:lnTo>
                <a:lnTo>
                  <a:pt x="344" y="1120"/>
                </a:lnTo>
                <a:lnTo>
                  <a:pt x="349" y="1119"/>
                </a:lnTo>
                <a:lnTo>
                  <a:pt x="355" y="1118"/>
                </a:lnTo>
                <a:lnTo>
                  <a:pt x="359" y="1116"/>
                </a:lnTo>
                <a:lnTo>
                  <a:pt x="361" y="1112"/>
                </a:lnTo>
                <a:lnTo>
                  <a:pt x="356" y="1104"/>
                </a:lnTo>
                <a:lnTo>
                  <a:pt x="351" y="1096"/>
                </a:lnTo>
                <a:lnTo>
                  <a:pt x="344" y="1090"/>
                </a:lnTo>
                <a:lnTo>
                  <a:pt x="337" y="1085"/>
                </a:lnTo>
                <a:lnTo>
                  <a:pt x="333" y="1093"/>
                </a:lnTo>
                <a:lnTo>
                  <a:pt x="329" y="1104"/>
                </a:lnTo>
                <a:lnTo>
                  <a:pt x="325" y="1116"/>
                </a:lnTo>
                <a:lnTo>
                  <a:pt x="323" y="1120"/>
                </a:lnTo>
                <a:lnTo>
                  <a:pt x="283" y="1104"/>
                </a:lnTo>
                <a:lnTo>
                  <a:pt x="290" y="1089"/>
                </a:lnTo>
                <a:lnTo>
                  <a:pt x="300" y="1073"/>
                </a:lnTo>
                <a:lnTo>
                  <a:pt x="305" y="1056"/>
                </a:lnTo>
                <a:lnTo>
                  <a:pt x="308" y="1039"/>
                </a:lnTo>
                <a:lnTo>
                  <a:pt x="301" y="1043"/>
                </a:lnTo>
                <a:lnTo>
                  <a:pt x="293" y="1049"/>
                </a:lnTo>
                <a:lnTo>
                  <a:pt x="285" y="1054"/>
                </a:lnTo>
                <a:lnTo>
                  <a:pt x="275" y="1061"/>
                </a:lnTo>
                <a:lnTo>
                  <a:pt x="266" y="1067"/>
                </a:lnTo>
                <a:lnTo>
                  <a:pt x="259" y="1073"/>
                </a:lnTo>
                <a:lnTo>
                  <a:pt x="254" y="1076"/>
                </a:lnTo>
                <a:lnTo>
                  <a:pt x="252" y="1079"/>
                </a:lnTo>
                <a:lnTo>
                  <a:pt x="237" y="1056"/>
                </a:lnTo>
                <a:lnTo>
                  <a:pt x="243" y="1051"/>
                </a:lnTo>
                <a:lnTo>
                  <a:pt x="249" y="1047"/>
                </a:lnTo>
                <a:lnTo>
                  <a:pt x="256" y="1043"/>
                </a:lnTo>
                <a:lnTo>
                  <a:pt x="263" y="1038"/>
                </a:lnTo>
                <a:lnTo>
                  <a:pt x="269" y="1034"/>
                </a:lnTo>
                <a:lnTo>
                  <a:pt x="276" y="1028"/>
                </a:lnTo>
                <a:lnTo>
                  <a:pt x="282" y="1023"/>
                </a:lnTo>
                <a:lnTo>
                  <a:pt x="288" y="1018"/>
                </a:lnTo>
                <a:lnTo>
                  <a:pt x="288" y="1014"/>
                </a:lnTo>
                <a:lnTo>
                  <a:pt x="273" y="986"/>
                </a:lnTo>
                <a:lnTo>
                  <a:pt x="267" y="985"/>
                </a:lnTo>
                <a:lnTo>
                  <a:pt x="260" y="983"/>
                </a:lnTo>
                <a:lnTo>
                  <a:pt x="252" y="981"/>
                </a:lnTo>
                <a:lnTo>
                  <a:pt x="244" y="980"/>
                </a:lnTo>
                <a:lnTo>
                  <a:pt x="235" y="980"/>
                </a:lnTo>
                <a:lnTo>
                  <a:pt x="227" y="979"/>
                </a:lnTo>
                <a:lnTo>
                  <a:pt x="220" y="979"/>
                </a:lnTo>
                <a:lnTo>
                  <a:pt x="214" y="980"/>
                </a:lnTo>
                <a:lnTo>
                  <a:pt x="213" y="956"/>
                </a:lnTo>
                <a:lnTo>
                  <a:pt x="217" y="957"/>
                </a:lnTo>
                <a:lnTo>
                  <a:pt x="225" y="956"/>
                </a:lnTo>
                <a:lnTo>
                  <a:pt x="235" y="954"/>
                </a:lnTo>
                <a:lnTo>
                  <a:pt x="244" y="950"/>
                </a:lnTo>
                <a:lnTo>
                  <a:pt x="253" y="947"/>
                </a:lnTo>
                <a:lnTo>
                  <a:pt x="261" y="942"/>
                </a:lnTo>
                <a:lnTo>
                  <a:pt x="267" y="939"/>
                </a:lnTo>
                <a:lnTo>
                  <a:pt x="269" y="935"/>
                </a:lnTo>
                <a:lnTo>
                  <a:pt x="210" y="937"/>
                </a:lnTo>
                <a:lnTo>
                  <a:pt x="210" y="948"/>
                </a:lnTo>
                <a:lnTo>
                  <a:pt x="178" y="957"/>
                </a:lnTo>
                <a:lnTo>
                  <a:pt x="152" y="956"/>
                </a:lnTo>
                <a:lnTo>
                  <a:pt x="145" y="964"/>
                </a:lnTo>
                <a:lnTo>
                  <a:pt x="135" y="970"/>
                </a:lnTo>
                <a:lnTo>
                  <a:pt x="125" y="973"/>
                </a:lnTo>
                <a:lnTo>
                  <a:pt x="120" y="974"/>
                </a:lnTo>
                <a:lnTo>
                  <a:pt x="122" y="1061"/>
                </a:lnTo>
                <a:lnTo>
                  <a:pt x="87" y="1065"/>
                </a:lnTo>
                <a:lnTo>
                  <a:pt x="87" y="1046"/>
                </a:lnTo>
                <a:lnTo>
                  <a:pt x="86" y="1007"/>
                </a:lnTo>
                <a:lnTo>
                  <a:pt x="85" y="965"/>
                </a:lnTo>
                <a:lnTo>
                  <a:pt x="86" y="946"/>
                </a:lnTo>
                <a:lnTo>
                  <a:pt x="96" y="940"/>
                </a:lnTo>
                <a:lnTo>
                  <a:pt x="103" y="933"/>
                </a:lnTo>
                <a:lnTo>
                  <a:pt x="108" y="923"/>
                </a:lnTo>
                <a:lnTo>
                  <a:pt x="108" y="913"/>
                </a:lnTo>
                <a:lnTo>
                  <a:pt x="109" y="847"/>
                </a:lnTo>
                <a:lnTo>
                  <a:pt x="111" y="699"/>
                </a:lnTo>
                <a:lnTo>
                  <a:pt x="111" y="545"/>
                </a:lnTo>
                <a:lnTo>
                  <a:pt x="108" y="461"/>
                </a:lnTo>
                <a:lnTo>
                  <a:pt x="162" y="457"/>
                </a:lnTo>
                <a:lnTo>
                  <a:pt x="159" y="493"/>
                </a:lnTo>
                <a:lnTo>
                  <a:pt x="160" y="540"/>
                </a:lnTo>
                <a:lnTo>
                  <a:pt x="163" y="582"/>
                </a:lnTo>
                <a:lnTo>
                  <a:pt x="164" y="599"/>
                </a:lnTo>
                <a:lnTo>
                  <a:pt x="173" y="600"/>
                </a:lnTo>
                <a:lnTo>
                  <a:pt x="184" y="600"/>
                </a:lnTo>
                <a:lnTo>
                  <a:pt x="193" y="600"/>
                </a:lnTo>
                <a:lnTo>
                  <a:pt x="202" y="600"/>
                </a:lnTo>
                <a:lnTo>
                  <a:pt x="212" y="599"/>
                </a:lnTo>
                <a:lnTo>
                  <a:pt x="221" y="599"/>
                </a:lnTo>
                <a:lnTo>
                  <a:pt x="231" y="599"/>
                </a:lnTo>
                <a:lnTo>
                  <a:pt x="241" y="599"/>
                </a:lnTo>
                <a:lnTo>
                  <a:pt x="241" y="457"/>
                </a:lnTo>
                <a:lnTo>
                  <a:pt x="304" y="457"/>
                </a:lnTo>
                <a:lnTo>
                  <a:pt x="307" y="484"/>
                </a:lnTo>
                <a:lnTo>
                  <a:pt x="305" y="512"/>
                </a:lnTo>
                <a:lnTo>
                  <a:pt x="305" y="540"/>
                </a:lnTo>
                <a:lnTo>
                  <a:pt x="307" y="566"/>
                </a:lnTo>
                <a:lnTo>
                  <a:pt x="309" y="563"/>
                </a:lnTo>
                <a:lnTo>
                  <a:pt x="314" y="556"/>
                </a:lnTo>
                <a:lnTo>
                  <a:pt x="319" y="547"/>
                </a:lnTo>
                <a:lnTo>
                  <a:pt x="327" y="537"/>
                </a:lnTo>
                <a:lnTo>
                  <a:pt x="336" y="526"/>
                </a:lnTo>
                <a:lnTo>
                  <a:pt x="345" y="517"/>
                </a:lnTo>
                <a:lnTo>
                  <a:pt x="355" y="511"/>
                </a:lnTo>
                <a:lnTo>
                  <a:pt x="366" y="5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324360" y="566100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Evalu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7886160" y="414972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s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324360" y="566100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Evalu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4" dur="indefinite" restart="never" nodeType="tmRoot">
          <p:childTnLst>
            <p:seq>
              <p:cTn id="2625" dur="indefinite" nodeType="mainSeq">
                <p:childTnLst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0" dur="500"/>
                                        <p:tgtEl>
                                          <p:spTgt spid="2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5" dur="500"/>
                                        <p:tgtEl>
                                          <p:spTgt spid="2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6" fill="hold">
                      <p:stCondLst>
                        <p:cond delay="indefinite"/>
                      </p:stCondLst>
                      <p:childTnLst>
                        <p:par>
                          <p:cTn id="2637" fill="hold">
                            <p:stCondLst>
                              <p:cond delay="0"/>
                            </p:stCondLst>
                            <p:childTnLst>
                              <p:par>
                                <p:cTn id="2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0" dur="500"/>
                                        <p:tgtEl>
                                          <p:spTgt spid="2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1" fill="hold">
                            <p:stCondLst>
                              <p:cond delay="500"/>
                            </p:stCondLst>
                            <p:childTnLst>
                              <p:par>
                                <p:cTn id="26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4" dur="50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8" dur="500"/>
                                        <p:tgtEl>
                                          <p:spTgt spid="2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fill="hold">
                      <p:stCondLst>
                        <p:cond delay="indefinite"/>
                      </p:stCondLst>
                      <p:childTnLst>
                        <p:par>
                          <p:cTn id="2650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53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4" fill="hold">
                      <p:stCondLst>
                        <p:cond delay="indefinite"/>
                      </p:stCondLst>
                      <p:childTnLst>
                        <p:par>
                          <p:cTn id="2655" fill="hold">
                            <p:stCondLst>
                              <p:cond delay="0"/>
                            </p:stCondLst>
                            <p:childTnLst>
                              <p:par>
                                <p:cTn id="2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8" dur="5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9" dur="5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2" dur="5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3" dur="5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4" fill="hold">
                      <p:stCondLst>
                        <p:cond delay="indefinite"/>
                      </p:stCondLst>
                      <p:childTnLst>
                        <p:par>
                          <p:cTn id="2665" fill="hold">
                            <p:stCondLst>
                              <p:cond delay="0"/>
                            </p:stCondLst>
                            <p:childTnLst>
                              <p:par>
                                <p:cTn id="266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6763E-006 L -0.25296 1.6763E-006 E">
                                      <p:cBhvr>
                                        <p:cTn id="2667" dur="2000" fill="hold"/>
                                        <p:tgtEl>
                                          <p:spTgt spid="2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8" fill="hold">
                      <p:stCondLst>
                        <p:cond delay="indefinite"/>
                      </p:stCondLst>
                      <p:childTnLst>
                        <p:par>
                          <p:cTn id="2669" fill="hold">
                            <p:stCondLst>
                              <p:cond delay="0"/>
                            </p:stCondLst>
                            <p:childTnLst>
                              <p:par>
                                <p:cTn id="267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671" dur="2000" fill="hold"/>
                                        <p:tgtEl>
                                          <p:spTgt spid="2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2" fill="hold">
                      <p:stCondLst>
                        <p:cond delay="indefinite"/>
                      </p:stCondLst>
                      <p:childTnLst>
                        <p:par>
                          <p:cTn id="2673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04624E-007 L -0.15746 -4.04624E-007 E">
                                      <p:cBhvr>
                                        <p:cTn id="2675" dur="2000" fill="hold"/>
                                        <p:tgtEl>
                                          <p:spTgt spid="2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2" dur="10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fill="hold">
                      <p:stCondLst>
                        <p:cond delay="indefinite"/>
                      </p:stCondLst>
                      <p:childTnLst>
                        <p:par>
                          <p:cTn id="2688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10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8455 0.00301 L 0.35382 0.00301 E">
                                      <p:cBhvr>
                                        <p:cTn id="2702" dur="2000" fill="hold"/>
                                        <p:tgtEl>
                                          <p:spTgt spid="2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fill="hold">
                      <p:stCondLst>
                        <p:cond delay="indefinite"/>
                      </p:stCondLst>
                      <p:childTnLst>
                        <p:par>
                          <p:cTn id="2704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173 -0.00139 L -0.48802 -0.00139 E">
                                      <p:cBhvr>
                                        <p:cTn id="2706" dur="2000" fill="hold"/>
                                        <p:tgtEl>
                                          <p:spTgt spid="2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3" dur="1000" fill="hold"/>
                                        <p:tgtEl>
                                          <p:spTgt spid="2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8" fill="hold">
                      <p:stCondLst>
                        <p:cond delay="indefinite"/>
                      </p:stCondLst>
                      <p:childTnLst>
                        <p:par>
                          <p:cTn id="271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20" dur="1" fill="hold"/>
                                  <p:tgtEl>
                                    <p:spTgt spid="2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 with 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611280" y="1752480"/>
            <a:ext cx="2743200" cy="38916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 SomeType v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11280" y="4114800"/>
            <a:ext cx="2743200" cy="388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 v do 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4572000" y="1752480"/>
            <a:ext cx="3276720" cy="190512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ype v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v_mutex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v_delay1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v_delay2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nt v_count1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nt v_count2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4572000" y="4114800"/>
            <a:ext cx="3276720" cy="99072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v_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v_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3581280" y="17524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3581280" y="411480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1" dur="indefinite" restart="never" nodeType="tmRoot">
          <p:childTnLst>
            <p:seq>
              <p:cTn id="2722" dur="indefinite" nodeType="mainSeq">
                <p:childTnLst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7" dur="500"/>
                                        <p:tgtEl>
                                          <p:spTgt spid="2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2" dur="500"/>
                                        <p:tgtEl>
                                          <p:spTgt spid="2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3" fill="hold">
                            <p:stCondLst>
                              <p:cond delay="500"/>
                            </p:stCondLst>
                            <p:childTnLst>
                              <p:par>
                                <p:cTn id="27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6" dur="500"/>
                                        <p:tgtEl>
                                          <p:spTgt spid="2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7" fill="hold">
                      <p:stCondLst>
                        <p:cond delay="indefinite"/>
                      </p:stCondLst>
                      <p:childTnLst>
                        <p:par>
                          <p:cTn id="2738" fill="hold">
                            <p:stCondLst>
                              <p:cond delay="0"/>
                            </p:stCondLst>
                            <p:childTnLst>
                              <p:par>
                                <p:cTn id="2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1" dur="500"/>
                                        <p:tgtEl>
                                          <p:spTgt spid="2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2" fill="hold">
                      <p:stCondLst>
                        <p:cond delay="indefinite"/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6" dur="500"/>
                                        <p:tgtEl>
                                          <p:spTgt spid="2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7" fill="hold">
                            <p:stCondLst>
                              <p:cond delay="500"/>
                            </p:stCondLst>
                            <p:childTnLst>
                              <p:par>
                                <p:cTn id="27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0" dur="500"/>
                                        <p:tgtEl>
                                          <p:spTgt spid="2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5" dur="500"/>
                                        <p:tgtEl>
                                          <p:spTgt spid="2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6" fill="hold">
                      <p:stCondLst>
                        <p:cond delay="indefinite"/>
                      </p:stCondLst>
                      <p:childTnLst>
                        <p:par>
                          <p:cTn id="2757" fill="hold">
                            <p:stCondLst>
                              <p:cond delay="0"/>
                            </p:stCondLst>
                            <p:childTnLst>
                              <p:par>
                                <p:cTn id="2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0" dur="500"/>
                                        <p:tgtEl>
                                          <p:spTgt spid="2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1" fill="hold">
                      <p:stCondLst>
                        <p:cond delay="indefinite"/>
                      </p:stCondLst>
                      <p:childTnLst>
                        <p:par>
                          <p:cTn id="2762" fill="hold">
                            <p:stCondLst>
                              <p:cond delay="0"/>
                            </p:stCondLst>
                            <p:childTnLst>
                              <p:par>
                                <p:cTn id="2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5" dur="500"/>
                                        <p:tgtEl>
                                          <p:spTgt spid="2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 with 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611280" y="1447920"/>
            <a:ext cx="2894040" cy="388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 v when B do 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4191120" y="1447920"/>
            <a:ext cx="4724280" cy="472428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v_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while ( ! B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_count1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v_count2 &gt; 0)  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v_delay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lse  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v_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v_delay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_count1--; v_count2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v_count1 &gt; 0)  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v_delay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lse  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v_delay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v_delay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_count2--;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v_count1 &gt; 0) 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v_delay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lse { 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v_count2 &gt; 0) 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v_delay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lse 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v_mutex);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581280" y="14479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1295280" y="2382840"/>
            <a:ext cx="2667240" cy="1008720"/>
          </a:xfrm>
          <a:prstGeom prst="borderCallout1">
            <a:avLst>
              <a:gd name="adj1" fmla="val 18750"/>
              <a:gd name="adj2" fmla="val -8333"/>
              <a:gd name="adj3" fmla="val -37458"/>
              <a:gd name="adj4" fmla="val 131888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Reevaluation of B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very time a process leaves the C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6" name=""/>
          <p:cNvGrpSpPr/>
          <p:nvPr/>
        </p:nvGrpSpPr>
        <p:grpSpPr>
          <a:xfrm>
            <a:off x="304920" y="4503600"/>
            <a:ext cx="3251160" cy="1325520"/>
            <a:chOff x="304920" y="4503600"/>
            <a:chExt cx="3251160" cy="1325520"/>
          </a:xfrm>
        </p:grpSpPr>
        <p:grpSp>
          <p:nvGrpSpPr>
            <p:cNvPr id="2377" name=""/>
            <p:cNvGrpSpPr/>
            <p:nvPr/>
          </p:nvGrpSpPr>
          <p:grpSpPr>
            <a:xfrm>
              <a:off x="457200" y="5068800"/>
              <a:ext cx="3098880" cy="265320"/>
              <a:chOff x="457200" y="5068800"/>
              <a:chExt cx="3098880" cy="265320"/>
            </a:xfrm>
          </p:grpSpPr>
          <p:sp>
            <p:nvSpPr>
              <p:cNvPr id="2378" name=""/>
              <p:cNvSpPr/>
              <p:nvPr/>
            </p:nvSpPr>
            <p:spPr>
              <a:xfrm>
                <a:off x="489600" y="5068800"/>
                <a:ext cx="3066120" cy="265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457200" y="5125320"/>
                <a:ext cx="309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457200" y="5257800"/>
                <a:ext cx="309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1" name=""/>
            <p:cNvGrpSpPr/>
            <p:nvPr/>
          </p:nvGrpSpPr>
          <p:grpSpPr>
            <a:xfrm>
              <a:off x="304920" y="4503600"/>
              <a:ext cx="972000" cy="1325520"/>
              <a:chOff x="304920" y="4503600"/>
              <a:chExt cx="972000" cy="1325520"/>
            </a:xfrm>
          </p:grpSpPr>
          <p:grpSp>
            <p:nvGrpSpPr>
              <p:cNvPr id="2382" name=""/>
              <p:cNvGrpSpPr/>
              <p:nvPr/>
            </p:nvGrpSpPr>
            <p:grpSpPr>
              <a:xfrm>
                <a:off x="607680" y="4503600"/>
                <a:ext cx="669240" cy="794520"/>
                <a:chOff x="607680" y="4503600"/>
                <a:chExt cx="669240" cy="794520"/>
              </a:xfrm>
            </p:grpSpPr>
            <p:sp>
              <p:nvSpPr>
                <p:cNvPr id="2383" name=""/>
                <p:cNvSpPr/>
                <p:nvPr/>
              </p:nvSpPr>
              <p:spPr>
                <a:xfrm>
                  <a:off x="741960" y="4503600"/>
                  <a:ext cx="99720" cy="7945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84" name=""/>
                <p:cNvGrpSpPr/>
                <p:nvPr/>
              </p:nvGrpSpPr>
              <p:grpSpPr>
                <a:xfrm>
                  <a:off x="607680" y="4537440"/>
                  <a:ext cx="669240" cy="267120"/>
                  <a:chOff x="607680" y="4537440"/>
                  <a:chExt cx="669240" cy="267120"/>
                </a:xfrm>
              </p:grpSpPr>
              <p:sp>
                <p:nvSpPr>
                  <p:cNvPr id="2385" name=""/>
                  <p:cNvSpPr/>
                  <p:nvPr/>
                </p:nvSpPr>
                <p:spPr>
                  <a:xfrm rot="5434200">
                    <a:off x="842040" y="4401000"/>
                    <a:ext cx="65880" cy="53424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86" name=""/>
                  <p:cNvGrpSpPr/>
                  <p:nvPr/>
                </p:nvGrpSpPr>
                <p:grpSpPr>
                  <a:xfrm>
                    <a:off x="1007280" y="4537440"/>
                    <a:ext cx="269640" cy="267120"/>
                    <a:chOff x="1007280" y="4537440"/>
                    <a:chExt cx="269640" cy="267120"/>
                  </a:xfrm>
                </p:grpSpPr>
                <p:sp>
                  <p:nvSpPr>
                    <p:cNvPr id="2387" name=""/>
                    <p:cNvSpPr/>
                    <p:nvPr/>
                  </p:nvSpPr>
                  <p:spPr>
                    <a:xfrm rot="5434200">
                      <a:off x="1009440" y="4537080"/>
                      <a:ext cx="264600" cy="267120"/>
                    </a:xfrm>
                    <a:prstGeom prst="ellipse">
                      <a:avLst/>
                    </a:prstGeom>
                    <a:solidFill>
                      <a:srgbClr val="fc0128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8" name=""/>
                    <p:cNvSpPr/>
                    <p:nvPr/>
                  </p:nvSpPr>
                  <p:spPr>
                    <a:xfrm rot="5434200">
                      <a:off x="1075680" y="4603680"/>
                      <a:ext cx="132480" cy="133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389" name=""/>
              <p:cNvSpPr/>
              <p:nvPr/>
            </p:nvSpPr>
            <p:spPr>
              <a:xfrm>
                <a:off x="304920" y="5430240"/>
                <a:ext cx="97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elay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0" name=""/>
            <p:cNvGrpSpPr/>
            <p:nvPr/>
          </p:nvGrpSpPr>
          <p:grpSpPr>
            <a:xfrm>
              <a:off x="2133720" y="4503600"/>
              <a:ext cx="972000" cy="1325520"/>
              <a:chOff x="2133720" y="4503600"/>
              <a:chExt cx="972000" cy="1325520"/>
            </a:xfrm>
          </p:grpSpPr>
          <p:grpSp>
            <p:nvGrpSpPr>
              <p:cNvPr id="2391" name=""/>
              <p:cNvGrpSpPr/>
              <p:nvPr/>
            </p:nvGrpSpPr>
            <p:grpSpPr>
              <a:xfrm>
                <a:off x="2436480" y="4503600"/>
                <a:ext cx="669240" cy="794520"/>
                <a:chOff x="2436480" y="4503600"/>
                <a:chExt cx="669240" cy="794520"/>
              </a:xfrm>
            </p:grpSpPr>
            <p:sp>
              <p:nvSpPr>
                <p:cNvPr id="2392" name=""/>
                <p:cNvSpPr/>
                <p:nvPr/>
              </p:nvSpPr>
              <p:spPr>
                <a:xfrm>
                  <a:off x="2570760" y="4503600"/>
                  <a:ext cx="99720" cy="79452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93" name=""/>
                <p:cNvGrpSpPr/>
                <p:nvPr/>
              </p:nvGrpSpPr>
              <p:grpSpPr>
                <a:xfrm>
                  <a:off x="2436480" y="4537440"/>
                  <a:ext cx="669240" cy="267120"/>
                  <a:chOff x="2436480" y="4537440"/>
                  <a:chExt cx="669240" cy="267120"/>
                </a:xfrm>
              </p:grpSpPr>
              <p:sp>
                <p:nvSpPr>
                  <p:cNvPr id="2394" name=""/>
                  <p:cNvSpPr/>
                  <p:nvPr/>
                </p:nvSpPr>
                <p:spPr>
                  <a:xfrm rot="5434200">
                    <a:off x="2670840" y="4401000"/>
                    <a:ext cx="65880" cy="534240"/>
                  </a:xfrm>
                  <a:prstGeom prst="rect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95" name=""/>
                  <p:cNvGrpSpPr/>
                  <p:nvPr/>
                </p:nvGrpSpPr>
                <p:grpSpPr>
                  <a:xfrm>
                    <a:off x="2836080" y="4537440"/>
                    <a:ext cx="269640" cy="267120"/>
                    <a:chOff x="2836080" y="4537440"/>
                    <a:chExt cx="269640" cy="267120"/>
                  </a:xfrm>
                </p:grpSpPr>
                <p:sp>
                  <p:nvSpPr>
                    <p:cNvPr id="2396" name=""/>
                    <p:cNvSpPr/>
                    <p:nvPr/>
                  </p:nvSpPr>
                  <p:spPr>
                    <a:xfrm rot="5434200">
                      <a:off x="2838240" y="4537080"/>
                      <a:ext cx="264600" cy="267120"/>
                    </a:xfrm>
                    <a:prstGeom prst="ellipse">
                      <a:avLst/>
                    </a:prstGeom>
                    <a:solidFill>
                      <a:srgbClr val="fc0128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7" name=""/>
                    <p:cNvSpPr/>
                    <p:nvPr/>
                  </p:nvSpPr>
                  <p:spPr>
                    <a:xfrm rot="5434200">
                      <a:off x="2904480" y="4603680"/>
                      <a:ext cx="132480" cy="133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398" name=""/>
              <p:cNvSpPr/>
              <p:nvPr/>
            </p:nvSpPr>
            <p:spPr>
              <a:xfrm>
                <a:off x="2133720" y="5430240"/>
                <a:ext cx="97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elay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99" name=""/>
          <p:cNvSpPr/>
          <p:nvPr/>
        </p:nvSpPr>
        <p:spPr>
          <a:xfrm flipH="1" rot="234600">
            <a:off x="2894400" y="4800240"/>
            <a:ext cx="685800" cy="433440"/>
          </a:xfrm>
          <a:custGeom>
            <a:avLst/>
            <a:gdLst/>
            <a:ahLst/>
            <a:rect l="l" t="t" r="r" b="b"/>
            <a:pathLst>
              <a:path w="2301" h="1182">
                <a:moveTo>
                  <a:pt x="366" y="509"/>
                </a:moveTo>
                <a:lnTo>
                  <a:pt x="366" y="495"/>
                </a:lnTo>
                <a:lnTo>
                  <a:pt x="368" y="481"/>
                </a:lnTo>
                <a:lnTo>
                  <a:pt x="373" y="468"/>
                </a:lnTo>
                <a:lnTo>
                  <a:pt x="380" y="457"/>
                </a:lnTo>
                <a:lnTo>
                  <a:pt x="445" y="466"/>
                </a:lnTo>
                <a:lnTo>
                  <a:pt x="446" y="479"/>
                </a:lnTo>
                <a:lnTo>
                  <a:pt x="446" y="496"/>
                </a:lnTo>
                <a:lnTo>
                  <a:pt x="450" y="510"/>
                </a:lnTo>
                <a:lnTo>
                  <a:pt x="462" y="513"/>
                </a:lnTo>
                <a:lnTo>
                  <a:pt x="462" y="508"/>
                </a:lnTo>
                <a:lnTo>
                  <a:pt x="462" y="502"/>
                </a:lnTo>
                <a:lnTo>
                  <a:pt x="462" y="496"/>
                </a:lnTo>
                <a:lnTo>
                  <a:pt x="458" y="491"/>
                </a:lnTo>
                <a:lnTo>
                  <a:pt x="461" y="487"/>
                </a:lnTo>
                <a:lnTo>
                  <a:pt x="464" y="482"/>
                </a:lnTo>
                <a:lnTo>
                  <a:pt x="468" y="480"/>
                </a:lnTo>
                <a:lnTo>
                  <a:pt x="472" y="477"/>
                </a:lnTo>
                <a:lnTo>
                  <a:pt x="475" y="468"/>
                </a:lnTo>
                <a:lnTo>
                  <a:pt x="477" y="458"/>
                </a:lnTo>
                <a:lnTo>
                  <a:pt x="476" y="447"/>
                </a:lnTo>
                <a:lnTo>
                  <a:pt x="474" y="437"/>
                </a:lnTo>
                <a:lnTo>
                  <a:pt x="471" y="436"/>
                </a:lnTo>
                <a:lnTo>
                  <a:pt x="470" y="436"/>
                </a:lnTo>
                <a:lnTo>
                  <a:pt x="469" y="436"/>
                </a:lnTo>
                <a:lnTo>
                  <a:pt x="470" y="436"/>
                </a:lnTo>
                <a:lnTo>
                  <a:pt x="453" y="435"/>
                </a:lnTo>
                <a:lnTo>
                  <a:pt x="448" y="442"/>
                </a:lnTo>
                <a:lnTo>
                  <a:pt x="448" y="454"/>
                </a:lnTo>
                <a:lnTo>
                  <a:pt x="445" y="466"/>
                </a:lnTo>
                <a:lnTo>
                  <a:pt x="380" y="457"/>
                </a:lnTo>
                <a:lnTo>
                  <a:pt x="304" y="457"/>
                </a:lnTo>
                <a:lnTo>
                  <a:pt x="241" y="457"/>
                </a:lnTo>
                <a:lnTo>
                  <a:pt x="237" y="458"/>
                </a:lnTo>
                <a:lnTo>
                  <a:pt x="228" y="458"/>
                </a:lnTo>
                <a:lnTo>
                  <a:pt x="215" y="458"/>
                </a:lnTo>
                <a:lnTo>
                  <a:pt x="201" y="458"/>
                </a:lnTo>
                <a:lnTo>
                  <a:pt x="187" y="458"/>
                </a:lnTo>
                <a:lnTo>
                  <a:pt x="174" y="457"/>
                </a:lnTo>
                <a:lnTo>
                  <a:pt x="165" y="457"/>
                </a:lnTo>
                <a:lnTo>
                  <a:pt x="162" y="457"/>
                </a:lnTo>
                <a:lnTo>
                  <a:pt x="108" y="461"/>
                </a:lnTo>
                <a:lnTo>
                  <a:pt x="103" y="459"/>
                </a:lnTo>
                <a:lnTo>
                  <a:pt x="99" y="457"/>
                </a:lnTo>
                <a:lnTo>
                  <a:pt x="96" y="452"/>
                </a:lnTo>
                <a:lnTo>
                  <a:pt x="97" y="446"/>
                </a:lnTo>
                <a:lnTo>
                  <a:pt x="91" y="447"/>
                </a:lnTo>
                <a:lnTo>
                  <a:pt x="86" y="450"/>
                </a:lnTo>
                <a:lnTo>
                  <a:pt x="80" y="451"/>
                </a:lnTo>
                <a:lnTo>
                  <a:pt x="74" y="447"/>
                </a:lnTo>
                <a:lnTo>
                  <a:pt x="71" y="439"/>
                </a:lnTo>
                <a:lnTo>
                  <a:pt x="67" y="431"/>
                </a:lnTo>
                <a:lnTo>
                  <a:pt x="61" y="426"/>
                </a:lnTo>
                <a:lnTo>
                  <a:pt x="53" y="429"/>
                </a:lnTo>
                <a:lnTo>
                  <a:pt x="45" y="420"/>
                </a:lnTo>
                <a:lnTo>
                  <a:pt x="35" y="410"/>
                </a:lnTo>
                <a:lnTo>
                  <a:pt x="27" y="400"/>
                </a:lnTo>
                <a:lnTo>
                  <a:pt x="24" y="387"/>
                </a:lnTo>
                <a:lnTo>
                  <a:pt x="16" y="380"/>
                </a:lnTo>
                <a:lnTo>
                  <a:pt x="7" y="372"/>
                </a:lnTo>
                <a:lnTo>
                  <a:pt x="2" y="363"/>
                </a:lnTo>
                <a:lnTo>
                  <a:pt x="0" y="350"/>
                </a:lnTo>
                <a:lnTo>
                  <a:pt x="3" y="342"/>
                </a:lnTo>
                <a:lnTo>
                  <a:pt x="468" y="344"/>
                </a:lnTo>
                <a:lnTo>
                  <a:pt x="468" y="352"/>
                </a:lnTo>
                <a:lnTo>
                  <a:pt x="467" y="360"/>
                </a:lnTo>
                <a:lnTo>
                  <a:pt x="463" y="367"/>
                </a:lnTo>
                <a:lnTo>
                  <a:pt x="457" y="373"/>
                </a:lnTo>
                <a:lnTo>
                  <a:pt x="462" y="376"/>
                </a:lnTo>
                <a:lnTo>
                  <a:pt x="467" y="379"/>
                </a:lnTo>
                <a:lnTo>
                  <a:pt x="472" y="380"/>
                </a:lnTo>
                <a:lnTo>
                  <a:pt x="478" y="380"/>
                </a:lnTo>
                <a:lnTo>
                  <a:pt x="476" y="376"/>
                </a:lnTo>
                <a:lnTo>
                  <a:pt x="474" y="371"/>
                </a:lnTo>
                <a:lnTo>
                  <a:pt x="471" y="366"/>
                </a:lnTo>
                <a:lnTo>
                  <a:pt x="472" y="360"/>
                </a:lnTo>
                <a:lnTo>
                  <a:pt x="481" y="358"/>
                </a:lnTo>
                <a:lnTo>
                  <a:pt x="487" y="355"/>
                </a:lnTo>
                <a:lnTo>
                  <a:pt x="494" y="349"/>
                </a:lnTo>
                <a:lnTo>
                  <a:pt x="500" y="343"/>
                </a:lnTo>
                <a:lnTo>
                  <a:pt x="505" y="338"/>
                </a:lnTo>
                <a:lnTo>
                  <a:pt x="511" y="333"/>
                </a:lnTo>
                <a:lnTo>
                  <a:pt x="518" y="329"/>
                </a:lnTo>
                <a:lnTo>
                  <a:pt x="525" y="327"/>
                </a:lnTo>
                <a:lnTo>
                  <a:pt x="536" y="318"/>
                </a:lnTo>
                <a:lnTo>
                  <a:pt x="528" y="315"/>
                </a:lnTo>
                <a:lnTo>
                  <a:pt x="516" y="315"/>
                </a:lnTo>
                <a:lnTo>
                  <a:pt x="507" y="313"/>
                </a:lnTo>
                <a:lnTo>
                  <a:pt x="504" y="303"/>
                </a:lnTo>
                <a:lnTo>
                  <a:pt x="503" y="303"/>
                </a:lnTo>
                <a:lnTo>
                  <a:pt x="503" y="298"/>
                </a:lnTo>
                <a:lnTo>
                  <a:pt x="504" y="298"/>
                </a:lnTo>
                <a:lnTo>
                  <a:pt x="504" y="299"/>
                </a:lnTo>
                <a:lnTo>
                  <a:pt x="507" y="293"/>
                </a:lnTo>
                <a:lnTo>
                  <a:pt x="512" y="291"/>
                </a:lnTo>
                <a:lnTo>
                  <a:pt x="518" y="291"/>
                </a:lnTo>
                <a:lnTo>
                  <a:pt x="525" y="291"/>
                </a:lnTo>
                <a:lnTo>
                  <a:pt x="530" y="292"/>
                </a:lnTo>
                <a:lnTo>
                  <a:pt x="536" y="292"/>
                </a:lnTo>
                <a:lnTo>
                  <a:pt x="541" y="290"/>
                </a:lnTo>
                <a:lnTo>
                  <a:pt x="544" y="286"/>
                </a:lnTo>
                <a:lnTo>
                  <a:pt x="536" y="284"/>
                </a:lnTo>
                <a:lnTo>
                  <a:pt x="528" y="285"/>
                </a:lnTo>
                <a:lnTo>
                  <a:pt x="520" y="285"/>
                </a:lnTo>
                <a:lnTo>
                  <a:pt x="512" y="284"/>
                </a:lnTo>
                <a:lnTo>
                  <a:pt x="498" y="284"/>
                </a:lnTo>
                <a:lnTo>
                  <a:pt x="485" y="283"/>
                </a:lnTo>
                <a:lnTo>
                  <a:pt x="472" y="284"/>
                </a:lnTo>
                <a:lnTo>
                  <a:pt x="460" y="284"/>
                </a:lnTo>
                <a:lnTo>
                  <a:pt x="447" y="284"/>
                </a:lnTo>
                <a:lnTo>
                  <a:pt x="435" y="284"/>
                </a:lnTo>
                <a:lnTo>
                  <a:pt x="423" y="283"/>
                </a:lnTo>
                <a:lnTo>
                  <a:pt x="411" y="282"/>
                </a:lnTo>
                <a:lnTo>
                  <a:pt x="410" y="277"/>
                </a:lnTo>
                <a:lnTo>
                  <a:pt x="409" y="274"/>
                </a:lnTo>
                <a:lnTo>
                  <a:pt x="407" y="270"/>
                </a:lnTo>
                <a:lnTo>
                  <a:pt x="411" y="267"/>
                </a:lnTo>
                <a:lnTo>
                  <a:pt x="433" y="265"/>
                </a:lnTo>
                <a:lnTo>
                  <a:pt x="455" y="265"/>
                </a:lnTo>
                <a:lnTo>
                  <a:pt x="477" y="265"/>
                </a:lnTo>
                <a:lnTo>
                  <a:pt x="498" y="265"/>
                </a:lnTo>
                <a:lnTo>
                  <a:pt x="518" y="265"/>
                </a:lnTo>
                <a:lnTo>
                  <a:pt x="539" y="265"/>
                </a:lnTo>
                <a:lnTo>
                  <a:pt x="561" y="265"/>
                </a:lnTo>
                <a:lnTo>
                  <a:pt x="581" y="264"/>
                </a:lnTo>
                <a:lnTo>
                  <a:pt x="585" y="267"/>
                </a:lnTo>
                <a:lnTo>
                  <a:pt x="588" y="267"/>
                </a:lnTo>
                <a:lnTo>
                  <a:pt x="591" y="267"/>
                </a:lnTo>
                <a:lnTo>
                  <a:pt x="593" y="269"/>
                </a:lnTo>
                <a:lnTo>
                  <a:pt x="594" y="275"/>
                </a:lnTo>
                <a:lnTo>
                  <a:pt x="592" y="281"/>
                </a:lnTo>
                <a:lnTo>
                  <a:pt x="590" y="284"/>
                </a:lnTo>
                <a:lnTo>
                  <a:pt x="587" y="289"/>
                </a:lnTo>
                <a:lnTo>
                  <a:pt x="593" y="291"/>
                </a:lnTo>
                <a:lnTo>
                  <a:pt x="598" y="292"/>
                </a:lnTo>
                <a:lnTo>
                  <a:pt x="603" y="292"/>
                </a:lnTo>
                <a:lnTo>
                  <a:pt x="609" y="292"/>
                </a:lnTo>
                <a:lnTo>
                  <a:pt x="615" y="292"/>
                </a:lnTo>
                <a:lnTo>
                  <a:pt x="620" y="293"/>
                </a:lnTo>
                <a:lnTo>
                  <a:pt x="624" y="296"/>
                </a:lnTo>
                <a:lnTo>
                  <a:pt x="628" y="300"/>
                </a:lnTo>
                <a:lnTo>
                  <a:pt x="629" y="308"/>
                </a:lnTo>
                <a:lnTo>
                  <a:pt x="624" y="313"/>
                </a:lnTo>
                <a:lnTo>
                  <a:pt x="617" y="315"/>
                </a:lnTo>
                <a:lnTo>
                  <a:pt x="610" y="315"/>
                </a:lnTo>
                <a:lnTo>
                  <a:pt x="607" y="314"/>
                </a:lnTo>
                <a:lnTo>
                  <a:pt x="603" y="313"/>
                </a:lnTo>
                <a:lnTo>
                  <a:pt x="599" y="314"/>
                </a:lnTo>
                <a:lnTo>
                  <a:pt x="595" y="315"/>
                </a:lnTo>
                <a:lnTo>
                  <a:pt x="602" y="318"/>
                </a:lnTo>
                <a:lnTo>
                  <a:pt x="608" y="320"/>
                </a:lnTo>
                <a:lnTo>
                  <a:pt x="614" y="322"/>
                </a:lnTo>
                <a:lnTo>
                  <a:pt x="621" y="323"/>
                </a:lnTo>
                <a:lnTo>
                  <a:pt x="627" y="326"/>
                </a:lnTo>
                <a:lnTo>
                  <a:pt x="632" y="329"/>
                </a:lnTo>
                <a:lnTo>
                  <a:pt x="637" y="333"/>
                </a:lnTo>
                <a:lnTo>
                  <a:pt x="643" y="336"/>
                </a:lnTo>
                <a:lnTo>
                  <a:pt x="649" y="342"/>
                </a:lnTo>
                <a:lnTo>
                  <a:pt x="654" y="348"/>
                </a:lnTo>
                <a:lnTo>
                  <a:pt x="661" y="354"/>
                </a:lnTo>
                <a:lnTo>
                  <a:pt x="667" y="358"/>
                </a:lnTo>
                <a:lnTo>
                  <a:pt x="675" y="380"/>
                </a:lnTo>
                <a:lnTo>
                  <a:pt x="672" y="384"/>
                </a:lnTo>
                <a:lnTo>
                  <a:pt x="666" y="388"/>
                </a:lnTo>
                <a:lnTo>
                  <a:pt x="660" y="391"/>
                </a:lnTo>
                <a:lnTo>
                  <a:pt x="656" y="393"/>
                </a:lnTo>
                <a:lnTo>
                  <a:pt x="653" y="395"/>
                </a:lnTo>
                <a:lnTo>
                  <a:pt x="652" y="399"/>
                </a:lnTo>
                <a:lnTo>
                  <a:pt x="653" y="403"/>
                </a:lnTo>
                <a:lnTo>
                  <a:pt x="656" y="406"/>
                </a:lnTo>
                <a:lnTo>
                  <a:pt x="653" y="417"/>
                </a:lnTo>
                <a:lnTo>
                  <a:pt x="651" y="430"/>
                </a:lnTo>
                <a:lnTo>
                  <a:pt x="650" y="443"/>
                </a:lnTo>
                <a:lnTo>
                  <a:pt x="651" y="453"/>
                </a:lnTo>
                <a:lnTo>
                  <a:pt x="651" y="465"/>
                </a:lnTo>
                <a:lnTo>
                  <a:pt x="657" y="473"/>
                </a:lnTo>
                <a:lnTo>
                  <a:pt x="665" y="479"/>
                </a:lnTo>
                <a:lnTo>
                  <a:pt x="675" y="482"/>
                </a:lnTo>
                <a:lnTo>
                  <a:pt x="676" y="488"/>
                </a:lnTo>
                <a:lnTo>
                  <a:pt x="675" y="494"/>
                </a:lnTo>
                <a:lnTo>
                  <a:pt x="673" y="498"/>
                </a:lnTo>
                <a:lnTo>
                  <a:pt x="670" y="502"/>
                </a:lnTo>
                <a:lnTo>
                  <a:pt x="672" y="502"/>
                </a:lnTo>
                <a:lnTo>
                  <a:pt x="671" y="509"/>
                </a:lnTo>
                <a:lnTo>
                  <a:pt x="682" y="515"/>
                </a:lnTo>
                <a:lnTo>
                  <a:pt x="693" y="519"/>
                </a:lnTo>
                <a:lnTo>
                  <a:pt x="704" y="524"/>
                </a:lnTo>
                <a:lnTo>
                  <a:pt x="716" y="527"/>
                </a:lnTo>
                <a:lnTo>
                  <a:pt x="728" y="531"/>
                </a:lnTo>
                <a:lnTo>
                  <a:pt x="739" y="534"/>
                </a:lnTo>
                <a:lnTo>
                  <a:pt x="751" y="538"/>
                </a:lnTo>
                <a:lnTo>
                  <a:pt x="762" y="542"/>
                </a:lnTo>
                <a:lnTo>
                  <a:pt x="775" y="549"/>
                </a:lnTo>
                <a:lnTo>
                  <a:pt x="789" y="553"/>
                </a:lnTo>
                <a:lnTo>
                  <a:pt x="803" y="555"/>
                </a:lnTo>
                <a:lnTo>
                  <a:pt x="818" y="555"/>
                </a:lnTo>
                <a:lnTo>
                  <a:pt x="833" y="555"/>
                </a:lnTo>
                <a:lnTo>
                  <a:pt x="848" y="554"/>
                </a:lnTo>
                <a:lnTo>
                  <a:pt x="863" y="554"/>
                </a:lnTo>
                <a:lnTo>
                  <a:pt x="878" y="554"/>
                </a:lnTo>
                <a:lnTo>
                  <a:pt x="881" y="550"/>
                </a:lnTo>
                <a:lnTo>
                  <a:pt x="875" y="547"/>
                </a:lnTo>
                <a:lnTo>
                  <a:pt x="868" y="546"/>
                </a:lnTo>
                <a:lnTo>
                  <a:pt x="860" y="546"/>
                </a:lnTo>
                <a:lnTo>
                  <a:pt x="852" y="547"/>
                </a:lnTo>
                <a:lnTo>
                  <a:pt x="846" y="539"/>
                </a:lnTo>
                <a:lnTo>
                  <a:pt x="847" y="528"/>
                </a:lnTo>
                <a:lnTo>
                  <a:pt x="850" y="517"/>
                </a:lnTo>
                <a:lnTo>
                  <a:pt x="850" y="506"/>
                </a:lnTo>
                <a:lnTo>
                  <a:pt x="852" y="493"/>
                </a:lnTo>
                <a:lnTo>
                  <a:pt x="853" y="460"/>
                </a:lnTo>
                <a:lnTo>
                  <a:pt x="852" y="425"/>
                </a:lnTo>
                <a:lnTo>
                  <a:pt x="846" y="403"/>
                </a:lnTo>
                <a:lnTo>
                  <a:pt x="846" y="399"/>
                </a:lnTo>
                <a:lnTo>
                  <a:pt x="847" y="394"/>
                </a:lnTo>
                <a:lnTo>
                  <a:pt x="848" y="388"/>
                </a:lnTo>
                <a:lnTo>
                  <a:pt x="850" y="385"/>
                </a:lnTo>
                <a:lnTo>
                  <a:pt x="857" y="384"/>
                </a:lnTo>
                <a:lnTo>
                  <a:pt x="864" y="384"/>
                </a:lnTo>
                <a:lnTo>
                  <a:pt x="871" y="384"/>
                </a:lnTo>
                <a:lnTo>
                  <a:pt x="878" y="384"/>
                </a:lnTo>
                <a:lnTo>
                  <a:pt x="884" y="384"/>
                </a:lnTo>
                <a:lnTo>
                  <a:pt x="891" y="384"/>
                </a:lnTo>
                <a:lnTo>
                  <a:pt x="898" y="384"/>
                </a:lnTo>
                <a:lnTo>
                  <a:pt x="905" y="382"/>
                </a:lnTo>
                <a:lnTo>
                  <a:pt x="918" y="365"/>
                </a:lnTo>
                <a:lnTo>
                  <a:pt x="921" y="363"/>
                </a:lnTo>
                <a:lnTo>
                  <a:pt x="925" y="360"/>
                </a:lnTo>
                <a:lnTo>
                  <a:pt x="927" y="357"/>
                </a:lnTo>
                <a:lnTo>
                  <a:pt x="928" y="354"/>
                </a:lnTo>
                <a:lnTo>
                  <a:pt x="922" y="352"/>
                </a:lnTo>
                <a:lnTo>
                  <a:pt x="917" y="354"/>
                </a:lnTo>
                <a:lnTo>
                  <a:pt x="911" y="354"/>
                </a:lnTo>
                <a:lnTo>
                  <a:pt x="906" y="355"/>
                </a:lnTo>
                <a:lnTo>
                  <a:pt x="900" y="355"/>
                </a:lnTo>
                <a:lnTo>
                  <a:pt x="897" y="354"/>
                </a:lnTo>
                <a:lnTo>
                  <a:pt x="893" y="350"/>
                </a:lnTo>
                <a:lnTo>
                  <a:pt x="890" y="345"/>
                </a:lnTo>
                <a:lnTo>
                  <a:pt x="893" y="336"/>
                </a:lnTo>
                <a:lnTo>
                  <a:pt x="900" y="328"/>
                </a:lnTo>
                <a:lnTo>
                  <a:pt x="906" y="320"/>
                </a:lnTo>
                <a:lnTo>
                  <a:pt x="905" y="308"/>
                </a:lnTo>
                <a:lnTo>
                  <a:pt x="906" y="308"/>
                </a:lnTo>
                <a:lnTo>
                  <a:pt x="908" y="294"/>
                </a:lnTo>
                <a:lnTo>
                  <a:pt x="912" y="279"/>
                </a:lnTo>
                <a:lnTo>
                  <a:pt x="918" y="267"/>
                </a:lnTo>
                <a:lnTo>
                  <a:pt x="927" y="257"/>
                </a:lnTo>
                <a:lnTo>
                  <a:pt x="923" y="254"/>
                </a:lnTo>
                <a:lnTo>
                  <a:pt x="918" y="259"/>
                </a:lnTo>
                <a:lnTo>
                  <a:pt x="913" y="262"/>
                </a:lnTo>
                <a:lnTo>
                  <a:pt x="908" y="265"/>
                </a:lnTo>
                <a:lnTo>
                  <a:pt x="904" y="269"/>
                </a:lnTo>
                <a:lnTo>
                  <a:pt x="899" y="272"/>
                </a:lnTo>
                <a:lnTo>
                  <a:pt x="896" y="276"/>
                </a:lnTo>
                <a:lnTo>
                  <a:pt x="891" y="279"/>
                </a:lnTo>
                <a:lnTo>
                  <a:pt x="885" y="284"/>
                </a:lnTo>
                <a:lnTo>
                  <a:pt x="872" y="292"/>
                </a:lnTo>
                <a:lnTo>
                  <a:pt x="860" y="300"/>
                </a:lnTo>
                <a:lnTo>
                  <a:pt x="848" y="308"/>
                </a:lnTo>
                <a:lnTo>
                  <a:pt x="837" y="316"/>
                </a:lnTo>
                <a:lnTo>
                  <a:pt x="825" y="325"/>
                </a:lnTo>
                <a:lnTo>
                  <a:pt x="813" y="333"/>
                </a:lnTo>
                <a:lnTo>
                  <a:pt x="801" y="341"/>
                </a:lnTo>
                <a:lnTo>
                  <a:pt x="788" y="349"/>
                </a:lnTo>
                <a:lnTo>
                  <a:pt x="774" y="354"/>
                </a:lnTo>
                <a:lnTo>
                  <a:pt x="761" y="358"/>
                </a:lnTo>
                <a:lnTo>
                  <a:pt x="747" y="364"/>
                </a:lnTo>
                <a:lnTo>
                  <a:pt x="733" y="370"/>
                </a:lnTo>
                <a:lnTo>
                  <a:pt x="721" y="374"/>
                </a:lnTo>
                <a:lnTo>
                  <a:pt x="705" y="378"/>
                </a:lnTo>
                <a:lnTo>
                  <a:pt x="690" y="380"/>
                </a:lnTo>
                <a:lnTo>
                  <a:pt x="675" y="380"/>
                </a:lnTo>
                <a:lnTo>
                  <a:pt x="667" y="358"/>
                </a:lnTo>
                <a:lnTo>
                  <a:pt x="678" y="358"/>
                </a:lnTo>
                <a:lnTo>
                  <a:pt x="689" y="357"/>
                </a:lnTo>
                <a:lnTo>
                  <a:pt x="700" y="356"/>
                </a:lnTo>
                <a:lnTo>
                  <a:pt x="711" y="355"/>
                </a:lnTo>
                <a:lnTo>
                  <a:pt x="722" y="352"/>
                </a:lnTo>
                <a:lnTo>
                  <a:pt x="732" y="349"/>
                </a:lnTo>
                <a:lnTo>
                  <a:pt x="741" y="345"/>
                </a:lnTo>
                <a:lnTo>
                  <a:pt x="751" y="341"/>
                </a:lnTo>
                <a:lnTo>
                  <a:pt x="774" y="333"/>
                </a:lnTo>
                <a:lnTo>
                  <a:pt x="796" y="322"/>
                </a:lnTo>
                <a:lnTo>
                  <a:pt x="816" y="311"/>
                </a:lnTo>
                <a:lnTo>
                  <a:pt x="835" y="297"/>
                </a:lnTo>
                <a:lnTo>
                  <a:pt x="853" y="283"/>
                </a:lnTo>
                <a:lnTo>
                  <a:pt x="871" y="268"/>
                </a:lnTo>
                <a:lnTo>
                  <a:pt x="890" y="254"/>
                </a:lnTo>
                <a:lnTo>
                  <a:pt x="910" y="240"/>
                </a:lnTo>
                <a:lnTo>
                  <a:pt x="915" y="234"/>
                </a:lnTo>
                <a:lnTo>
                  <a:pt x="921" y="226"/>
                </a:lnTo>
                <a:lnTo>
                  <a:pt x="927" y="219"/>
                </a:lnTo>
                <a:lnTo>
                  <a:pt x="935" y="213"/>
                </a:lnTo>
                <a:lnTo>
                  <a:pt x="941" y="213"/>
                </a:lnTo>
                <a:lnTo>
                  <a:pt x="947" y="213"/>
                </a:lnTo>
                <a:lnTo>
                  <a:pt x="952" y="216"/>
                </a:lnTo>
                <a:lnTo>
                  <a:pt x="955" y="221"/>
                </a:lnTo>
                <a:lnTo>
                  <a:pt x="955" y="227"/>
                </a:lnTo>
                <a:lnTo>
                  <a:pt x="955" y="233"/>
                </a:lnTo>
                <a:lnTo>
                  <a:pt x="956" y="239"/>
                </a:lnTo>
                <a:lnTo>
                  <a:pt x="961" y="242"/>
                </a:lnTo>
                <a:lnTo>
                  <a:pt x="964" y="250"/>
                </a:lnTo>
                <a:lnTo>
                  <a:pt x="969" y="259"/>
                </a:lnTo>
                <a:lnTo>
                  <a:pt x="976" y="265"/>
                </a:lnTo>
                <a:lnTo>
                  <a:pt x="983" y="272"/>
                </a:lnTo>
                <a:lnTo>
                  <a:pt x="987" y="291"/>
                </a:lnTo>
                <a:lnTo>
                  <a:pt x="988" y="311"/>
                </a:lnTo>
                <a:lnTo>
                  <a:pt x="992" y="327"/>
                </a:lnTo>
                <a:lnTo>
                  <a:pt x="1006" y="340"/>
                </a:lnTo>
                <a:lnTo>
                  <a:pt x="1007" y="342"/>
                </a:lnTo>
                <a:lnTo>
                  <a:pt x="1006" y="344"/>
                </a:lnTo>
                <a:lnTo>
                  <a:pt x="1005" y="347"/>
                </a:lnTo>
                <a:lnTo>
                  <a:pt x="1003" y="350"/>
                </a:lnTo>
                <a:lnTo>
                  <a:pt x="957" y="352"/>
                </a:lnTo>
                <a:lnTo>
                  <a:pt x="961" y="359"/>
                </a:lnTo>
                <a:lnTo>
                  <a:pt x="970" y="365"/>
                </a:lnTo>
                <a:lnTo>
                  <a:pt x="979" y="371"/>
                </a:lnTo>
                <a:lnTo>
                  <a:pt x="983" y="380"/>
                </a:lnTo>
                <a:lnTo>
                  <a:pt x="987" y="379"/>
                </a:lnTo>
                <a:lnTo>
                  <a:pt x="988" y="379"/>
                </a:lnTo>
                <a:lnTo>
                  <a:pt x="993" y="380"/>
                </a:lnTo>
                <a:lnTo>
                  <a:pt x="1000" y="381"/>
                </a:lnTo>
                <a:lnTo>
                  <a:pt x="1008" y="382"/>
                </a:lnTo>
                <a:lnTo>
                  <a:pt x="1016" y="384"/>
                </a:lnTo>
                <a:lnTo>
                  <a:pt x="1026" y="385"/>
                </a:lnTo>
                <a:lnTo>
                  <a:pt x="1034" y="385"/>
                </a:lnTo>
                <a:lnTo>
                  <a:pt x="1042" y="384"/>
                </a:lnTo>
                <a:lnTo>
                  <a:pt x="1046" y="387"/>
                </a:lnTo>
                <a:lnTo>
                  <a:pt x="1049" y="391"/>
                </a:lnTo>
                <a:lnTo>
                  <a:pt x="1050" y="396"/>
                </a:lnTo>
                <a:lnTo>
                  <a:pt x="1050" y="402"/>
                </a:lnTo>
                <a:lnTo>
                  <a:pt x="1043" y="413"/>
                </a:lnTo>
                <a:lnTo>
                  <a:pt x="1041" y="426"/>
                </a:lnTo>
                <a:lnTo>
                  <a:pt x="1041" y="443"/>
                </a:lnTo>
                <a:lnTo>
                  <a:pt x="1039" y="457"/>
                </a:lnTo>
                <a:lnTo>
                  <a:pt x="1041" y="467"/>
                </a:lnTo>
                <a:lnTo>
                  <a:pt x="1039" y="476"/>
                </a:lnTo>
                <a:lnTo>
                  <a:pt x="1038" y="486"/>
                </a:lnTo>
                <a:lnTo>
                  <a:pt x="1039" y="497"/>
                </a:lnTo>
                <a:lnTo>
                  <a:pt x="1042" y="541"/>
                </a:lnTo>
                <a:lnTo>
                  <a:pt x="1038" y="545"/>
                </a:lnTo>
                <a:lnTo>
                  <a:pt x="1034" y="545"/>
                </a:lnTo>
                <a:lnTo>
                  <a:pt x="1029" y="544"/>
                </a:lnTo>
                <a:lnTo>
                  <a:pt x="1024" y="545"/>
                </a:lnTo>
                <a:lnTo>
                  <a:pt x="1019" y="545"/>
                </a:lnTo>
                <a:lnTo>
                  <a:pt x="1013" y="544"/>
                </a:lnTo>
                <a:lnTo>
                  <a:pt x="1007" y="545"/>
                </a:lnTo>
                <a:lnTo>
                  <a:pt x="1003" y="548"/>
                </a:lnTo>
                <a:lnTo>
                  <a:pt x="1007" y="552"/>
                </a:lnTo>
                <a:lnTo>
                  <a:pt x="1012" y="554"/>
                </a:lnTo>
                <a:lnTo>
                  <a:pt x="1016" y="554"/>
                </a:lnTo>
                <a:lnTo>
                  <a:pt x="1022" y="553"/>
                </a:lnTo>
                <a:lnTo>
                  <a:pt x="1028" y="553"/>
                </a:lnTo>
                <a:lnTo>
                  <a:pt x="1034" y="553"/>
                </a:lnTo>
                <a:lnTo>
                  <a:pt x="1038" y="553"/>
                </a:lnTo>
                <a:lnTo>
                  <a:pt x="1043" y="555"/>
                </a:lnTo>
                <a:lnTo>
                  <a:pt x="1050" y="554"/>
                </a:lnTo>
                <a:lnTo>
                  <a:pt x="1057" y="553"/>
                </a:lnTo>
                <a:lnTo>
                  <a:pt x="1060" y="549"/>
                </a:lnTo>
                <a:lnTo>
                  <a:pt x="1059" y="542"/>
                </a:lnTo>
                <a:lnTo>
                  <a:pt x="1060" y="534"/>
                </a:lnTo>
                <a:lnTo>
                  <a:pt x="1060" y="525"/>
                </a:lnTo>
                <a:lnTo>
                  <a:pt x="1060" y="517"/>
                </a:lnTo>
                <a:lnTo>
                  <a:pt x="1063" y="510"/>
                </a:lnTo>
                <a:lnTo>
                  <a:pt x="1063" y="489"/>
                </a:lnTo>
                <a:lnTo>
                  <a:pt x="1064" y="489"/>
                </a:lnTo>
                <a:lnTo>
                  <a:pt x="1066" y="467"/>
                </a:lnTo>
                <a:lnTo>
                  <a:pt x="1067" y="443"/>
                </a:lnTo>
                <a:lnTo>
                  <a:pt x="1070" y="420"/>
                </a:lnTo>
                <a:lnTo>
                  <a:pt x="1072" y="395"/>
                </a:lnTo>
                <a:lnTo>
                  <a:pt x="1077" y="372"/>
                </a:lnTo>
                <a:lnTo>
                  <a:pt x="1085" y="351"/>
                </a:lnTo>
                <a:lnTo>
                  <a:pt x="1095" y="333"/>
                </a:lnTo>
                <a:lnTo>
                  <a:pt x="1111" y="318"/>
                </a:lnTo>
                <a:lnTo>
                  <a:pt x="1118" y="312"/>
                </a:lnTo>
                <a:lnTo>
                  <a:pt x="1125" y="307"/>
                </a:lnTo>
                <a:lnTo>
                  <a:pt x="1132" y="301"/>
                </a:lnTo>
                <a:lnTo>
                  <a:pt x="1139" y="297"/>
                </a:lnTo>
                <a:lnTo>
                  <a:pt x="1146" y="292"/>
                </a:lnTo>
                <a:lnTo>
                  <a:pt x="1154" y="287"/>
                </a:lnTo>
                <a:lnTo>
                  <a:pt x="1163" y="285"/>
                </a:lnTo>
                <a:lnTo>
                  <a:pt x="1174" y="283"/>
                </a:lnTo>
                <a:lnTo>
                  <a:pt x="1158" y="311"/>
                </a:lnTo>
                <a:lnTo>
                  <a:pt x="1148" y="314"/>
                </a:lnTo>
                <a:lnTo>
                  <a:pt x="1140" y="319"/>
                </a:lnTo>
                <a:lnTo>
                  <a:pt x="1132" y="325"/>
                </a:lnTo>
                <a:lnTo>
                  <a:pt x="1126" y="330"/>
                </a:lnTo>
                <a:lnTo>
                  <a:pt x="1119" y="338"/>
                </a:lnTo>
                <a:lnTo>
                  <a:pt x="1115" y="345"/>
                </a:lnTo>
                <a:lnTo>
                  <a:pt x="1109" y="354"/>
                </a:lnTo>
                <a:lnTo>
                  <a:pt x="1104" y="360"/>
                </a:lnTo>
                <a:lnTo>
                  <a:pt x="1096" y="394"/>
                </a:lnTo>
                <a:lnTo>
                  <a:pt x="1092" y="429"/>
                </a:lnTo>
                <a:lnTo>
                  <a:pt x="1088" y="465"/>
                </a:lnTo>
                <a:lnTo>
                  <a:pt x="1086" y="499"/>
                </a:lnTo>
                <a:lnTo>
                  <a:pt x="1086" y="513"/>
                </a:lnTo>
                <a:lnTo>
                  <a:pt x="1086" y="528"/>
                </a:lnTo>
                <a:lnTo>
                  <a:pt x="1088" y="541"/>
                </a:lnTo>
                <a:lnTo>
                  <a:pt x="1095" y="550"/>
                </a:lnTo>
                <a:lnTo>
                  <a:pt x="1099" y="532"/>
                </a:lnTo>
                <a:lnTo>
                  <a:pt x="1107" y="517"/>
                </a:lnTo>
                <a:lnTo>
                  <a:pt x="1114" y="501"/>
                </a:lnTo>
                <a:lnTo>
                  <a:pt x="1116" y="481"/>
                </a:lnTo>
                <a:lnTo>
                  <a:pt x="1114" y="465"/>
                </a:lnTo>
                <a:lnTo>
                  <a:pt x="1115" y="447"/>
                </a:lnTo>
                <a:lnTo>
                  <a:pt x="1114" y="431"/>
                </a:lnTo>
                <a:lnTo>
                  <a:pt x="1104" y="418"/>
                </a:lnTo>
                <a:lnTo>
                  <a:pt x="1102" y="409"/>
                </a:lnTo>
                <a:lnTo>
                  <a:pt x="1103" y="402"/>
                </a:lnTo>
                <a:lnTo>
                  <a:pt x="1108" y="398"/>
                </a:lnTo>
                <a:lnTo>
                  <a:pt x="1114" y="394"/>
                </a:lnTo>
                <a:lnTo>
                  <a:pt x="1121" y="391"/>
                </a:lnTo>
                <a:lnTo>
                  <a:pt x="1128" y="387"/>
                </a:lnTo>
                <a:lnTo>
                  <a:pt x="1133" y="381"/>
                </a:lnTo>
                <a:lnTo>
                  <a:pt x="1137" y="376"/>
                </a:lnTo>
                <a:lnTo>
                  <a:pt x="1144" y="370"/>
                </a:lnTo>
                <a:lnTo>
                  <a:pt x="1152" y="365"/>
                </a:lnTo>
                <a:lnTo>
                  <a:pt x="1160" y="360"/>
                </a:lnTo>
                <a:lnTo>
                  <a:pt x="1166" y="354"/>
                </a:lnTo>
                <a:lnTo>
                  <a:pt x="1163" y="350"/>
                </a:lnTo>
                <a:lnTo>
                  <a:pt x="1160" y="348"/>
                </a:lnTo>
                <a:lnTo>
                  <a:pt x="1157" y="347"/>
                </a:lnTo>
                <a:lnTo>
                  <a:pt x="1152" y="347"/>
                </a:lnTo>
                <a:lnTo>
                  <a:pt x="1150" y="344"/>
                </a:lnTo>
                <a:lnTo>
                  <a:pt x="1147" y="341"/>
                </a:lnTo>
                <a:lnTo>
                  <a:pt x="1146" y="337"/>
                </a:lnTo>
                <a:lnTo>
                  <a:pt x="1146" y="331"/>
                </a:lnTo>
                <a:lnTo>
                  <a:pt x="1150" y="329"/>
                </a:lnTo>
                <a:lnTo>
                  <a:pt x="1154" y="327"/>
                </a:lnTo>
                <a:lnTo>
                  <a:pt x="1160" y="326"/>
                </a:lnTo>
                <a:lnTo>
                  <a:pt x="1165" y="326"/>
                </a:lnTo>
                <a:lnTo>
                  <a:pt x="1170" y="326"/>
                </a:lnTo>
                <a:lnTo>
                  <a:pt x="1175" y="326"/>
                </a:lnTo>
                <a:lnTo>
                  <a:pt x="1180" y="325"/>
                </a:lnTo>
                <a:lnTo>
                  <a:pt x="1184" y="323"/>
                </a:lnTo>
                <a:lnTo>
                  <a:pt x="1181" y="320"/>
                </a:lnTo>
                <a:lnTo>
                  <a:pt x="1179" y="314"/>
                </a:lnTo>
                <a:lnTo>
                  <a:pt x="1176" y="309"/>
                </a:lnTo>
                <a:lnTo>
                  <a:pt x="1173" y="306"/>
                </a:lnTo>
                <a:lnTo>
                  <a:pt x="1168" y="307"/>
                </a:lnTo>
                <a:lnTo>
                  <a:pt x="1165" y="308"/>
                </a:lnTo>
                <a:lnTo>
                  <a:pt x="1161" y="311"/>
                </a:lnTo>
                <a:lnTo>
                  <a:pt x="1161" y="315"/>
                </a:lnTo>
                <a:lnTo>
                  <a:pt x="1160" y="314"/>
                </a:lnTo>
                <a:lnTo>
                  <a:pt x="1158" y="314"/>
                </a:lnTo>
                <a:lnTo>
                  <a:pt x="1157" y="313"/>
                </a:lnTo>
                <a:lnTo>
                  <a:pt x="1158" y="311"/>
                </a:lnTo>
                <a:lnTo>
                  <a:pt x="1174" y="283"/>
                </a:lnTo>
                <a:lnTo>
                  <a:pt x="1182" y="278"/>
                </a:lnTo>
                <a:lnTo>
                  <a:pt x="1187" y="254"/>
                </a:lnTo>
                <a:lnTo>
                  <a:pt x="1192" y="225"/>
                </a:lnTo>
                <a:lnTo>
                  <a:pt x="1198" y="201"/>
                </a:lnTo>
                <a:lnTo>
                  <a:pt x="1204" y="190"/>
                </a:lnTo>
                <a:lnTo>
                  <a:pt x="1215" y="204"/>
                </a:lnTo>
                <a:lnTo>
                  <a:pt x="1221" y="231"/>
                </a:lnTo>
                <a:lnTo>
                  <a:pt x="1226" y="262"/>
                </a:lnTo>
                <a:lnTo>
                  <a:pt x="1228" y="286"/>
                </a:lnTo>
                <a:lnTo>
                  <a:pt x="1230" y="291"/>
                </a:lnTo>
                <a:lnTo>
                  <a:pt x="1231" y="297"/>
                </a:lnTo>
                <a:lnTo>
                  <a:pt x="1230" y="303"/>
                </a:lnTo>
                <a:lnTo>
                  <a:pt x="1228" y="307"/>
                </a:lnTo>
                <a:lnTo>
                  <a:pt x="1225" y="311"/>
                </a:lnTo>
                <a:lnTo>
                  <a:pt x="1223" y="314"/>
                </a:lnTo>
                <a:lnTo>
                  <a:pt x="1221" y="318"/>
                </a:lnTo>
                <a:lnTo>
                  <a:pt x="1220" y="321"/>
                </a:lnTo>
                <a:lnTo>
                  <a:pt x="1225" y="325"/>
                </a:lnTo>
                <a:lnTo>
                  <a:pt x="1231" y="326"/>
                </a:lnTo>
                <a:lnTo>
                  <a:pt x="1238" y="326"/>
                </a:lnTo>
                <a:lnTo>
                  <a:pt x="1245" y="326"/>
                </a:lnTo>
                <a:lnTo>
                  <a:pt x="1252" y="327"/>
                </a:lnTo>
                <a:lnTo>
                  <a:pt x="1255" y="329"/>
                </a:lnTo>
                <a:lnTo>
                  <a:pt x="1256" y="334"/>
                </a:lnTo>
                <a:lnTo>
                  <a:pt x="1254" y="342"/>
                </a:lnTo>
                <a:lnTo>
                  <a:pt x="1252" y="345"/>
                </a:lnTo>
                <a:lnTo>
                  <a:pt x="1249" y="348"/>
                </a:lnTo>
                <a:lnTo>
                  <a:pt x="1248" y="351"/>
                </a:lnTo>
                <a:lnTo>
                  <a:pt x="1248" y="355"/>
                </a:lnTo>
                <a:lnTo>
                  <a:pt x="1256" y="358"/>
                </a:lnTo>
                <a:lnTo>
                  <a:pt x="1262" y="364"/>
                </a:lnTo>
                <a:lnTo>
                  <a:pt x="1267" y="372"/>
                </a:lnTo>
                <a:lnTo>
                  <a:pt x="1271" y="379"/>
                </a:lnTo>
                <a:lnTo>
                  <a:pt x="1275" y="387"/>
                </a:lnTo>
                <a:lnTo>
                  <a:pt x="1281" y="394"/>
                </a:lnTo>
                <a:lnTo>
                  <a:pt x="1286" y="399"/>
                </a:lnTo>
                <a:lnTo>
                  <a:pt x="1296" y="402"/>
                </a:lnTo>
                <a:lnTo>
                  <a:pt x="1299" y="406"/>
                </a:lnTo>
                <a:lnTo>
                  <a:pt x="1300" y="410"/>
                </a:lnTo>
                <a:lnTo>
                  <a:pt x="1301" y="415"/>
                </a:lnTo>
                <a:lnTo>
                  <a:pt x="1301" y="417"/>
                </a:lnTo>
                <a:lnTo>
                  <a:pt x="1299" y="422"/>
                </a:lnTo>
                <a:lnTo>
                  <a:pt x="1297" y="425"/>
                </a:lnTo>
                <a:lnTo>
                  <a:pt x="1292" y="429"/>
                </a:lnTo>
                <a:lnTo>
                  <a:pt x="1288" y="432"/>
                </a:lnTo>
                <a:lnTo>
                  <a:pt x="1285" y="451"/>
                </a:lnTo>
                <a:lnTo>
                  <a:pt x="1285" y="469"/>
                </a:lnTo>
                <a:lnTo>
                  <a:pt x="1285" y="489"/>
                </a:lnTo>
                <a:lnTo>
                  <a:pt x="1286" y="506"/>
                </a:lnTo>
                <a:lnTo>
                  <a:pt x="1293" y="511"/>
                </a:lnTo>
                <a:lnTo>
                  <a:pt x="1299" y="518"/>
                </a:lnTo>
                <a:lnTo>
                  <a:pt x="1301" y="527"/>
                </a:lnTo>
                <a:lnTo>
                  <a:pt x="1304" y="535"/>
                </a:lnTo>
                <a:lnTo>
                  <a:pt x="1307" y="544"/>
                </a:lnTo>
                <a:lnTo>
                  <a:pt x="1311" y="550"/>
                </a:lnTo>
                <a:lnTo>
                  <a:pt x="1318" y="554"/>
                </a:lnTo>
                <a:lnTo>
                  <a:pt x="1327" y="553"/>
                </a:lnTo>
                <a:lnTo>
                  <a:pt x="1340" y="553"/>
                </a:lnTo>
                <a:lnTo>
                  <a:pt x="1352" y="554"/>
                </a:lnTo>
                <a:lnTo>
                  <a:pt x="1365" y="554"/>
                </a:lnTo>
                <a:lnTo>
                  <a:pt x="1378" y="554"/>
                </a:lnTo>
                <a:lnTo>
                  <a:pt x="1391" y="554"/>
                </a:lnTo>
                <a:lnTo>
                  <a:pt x="1405" y="554"/>
                </a:lnTo>
                <a:lnTo>
                  <a:pt x="1417" y="554"/>
                </a:lnTo>
                <a:lnTo>
                  <a:pt x="1431" y="553"/>
                </a:lnTo>
                <a:lnTo>
                  <a:pt x="1444" y="553"/>
                </a:lnTo>
                <a:lnTo>
                  <a:pt x="1458" y="553"/>
                </a:lnTo>
                <a:lnTo>
                  <a:pt x="1472" y="553"/>
                </a:lnTo>
                <a:lnTo>
                  <a:pt x="1485" y="553"/>
                </a:lnTo>
                <a:lnTo>
                  <a:pt x="1499" y="553"/>
                </a:lnTo>
                <a:lnTo>
                  <a:pt x="1513" y="553"/>
                </a:lnTo>
                <a:lnTo>
                  <a:pt x="1525" y="554"/>
                </a:lnTo>
                <a:lnTo>
                  <a:pt x="1539" y="554"/>
                </a:lnTo>
                <a:lnTo>
                  <a:pt x="1545" y="553"/>
                </a:lnTo>
                <a:lnTo>
                  <a:pt x="1546" y="548"/>
                </a:lnTo>
                <a:lnTo>
                  <a:pt x="1545" y="544"/>
                </a:lnTo>
                <a:lnTo>
                  <a:pt x="1545" y="538"/>
                </a:lnTo>
                <a:lnTo>
                  <a:pt x="1536" y="532"/>
                </a:lnTo>
                <a:lnTo>
                  <a:pt x="1533" y="524"/>
                </a:lnTo>
                <a:lnTo>
                  <a:pt x="1533" y="515"/>
                </a:lnTo>
                <a:lnTo>
                  <a:pt x="1533" y="504"/>
                </a:lnTo>
                <a:lnTo>
                  <a:pt x="1540" y="498"/>
                </a:lnTo>
                <a:lnTo>
                  <a:pt x="1542" y="491"/>
                </a:lnTo>
                <a:lnTo>
                  <a:pt x="1539" y="482"/>
                </a:lnTo>
                <a:lnTo>
                  <a:pt x="1539" y="473"/>
                </a:lnTo>
                <a:lnTo>
                  <a:pt x="1526" y="435"/>
                </a:lnTo>
                <a:lnTo>
                  <a:pt x="1510" y="382"/>
                </a:lnTo>
                <a:lnTo>
                  <a:pt x="1492" y="322"/>
                </a:lnTo>
                <a:lnTo>
                  <a:pt x="1473" y="260"/>
                </a:lnTo>
                <a:lnTo>
                  <a:pt x="1455" y="202"/>
                </a:lnTo>
                <a:lnTo>
                  <a:pt x="1439" y="153"/>
                </a:lnTo>
                <a:lnTo>
                  <a:pt x="1429" y="119"/>
                </a:lnTo>
                <a:lnTo>
                  <a:pt x="1424" y="107"/>
                </a:lnTo>
                <a:lnTo>
                  <a:pt x="1420" y="104"/>
                </a:lnTo>
                <a:lnTo>
                  <a:pt x="1417" y="81"/>
                </a:lnTo>
                <a:lnTo>
                  <a:pt x="1417" y="55"/>
                </a:lnTo>
                <a:lnTo>
                  <a:pt x="1417" y="28"/>
                </a:lnTo>
                <a:lnTo>
                  <a:pt x="1417" y="2"/>
                </a:lnTo>
                <a:lnTo>
                  <a:pt x="1429" y="2"/>
                </a:lnTo>
                <a:lnTo>
                  <a:pt x="1445" y="1"/>
                </a:lnTo>
                <a:lnTo>
                  <a:pt x="1465" y="1"/>
                </a:lnTo>
                <a:lnTo>
                  <a:pt x="1488" y="1"/>
                </a:lnTo>
                <a:lnTo>
                  <a:pt x="1516" y="0"/>
                </a:lnTo>
                <a:lnTo>
                  <a:pt x="1545" y="0"/>
                </a:lnTo>
                <a:lnTo>
                  <a:pt x="1575" y="0"/>
                </a:lnTo>
                <a:lnTo>
                  <a:pt x="1608" y="0"/>
                </a:lnTo>
                <a:lnTo>
                  <a:pt x="1640" y="0"/>
                </a:lnTo>
                <a:lnTo>
                  <a:pt x="1673" y="0"/>
                </a:lnTo>
                <a:lnTo>
                  <a:pt x="1705" y="0"/>
                </a:lnTo>
                <a:lnTo>
                  <a:pt x="1735" y="0"/>
                </a:lnTo>
                <a:lnTo>
                  <a:pt x="1764" y="0"/>
                </a:lnTo>
                <a:lnTo>
                  <a:pt x="1791" y="0"/>
                </a:lnTo>
                <a:lnTo>
                  <a:pt x="1815" y="0"/>
                </a:lnTo>
                <a:lnTo>
                  <a:pt x="1835" y="0"/>
                </a:lnTo>
                <a:lnTo>
                  <a:pt x="1837" y="16"/>
                </a:lnTo>
                <a:lnTo>
                  <a:pt x="1836" y="48"/>
                </a:lnTo>
                <a:lnTo>
                  <a:pt x="1834" y="78"/>
                </a:lnTo>
                <a:lnTo>
                  <a:pt x="1833" y="91"/>
                </a:lnTo>
                <a:lnTo>
                  <a:pt x="1827" y="99"/>
                </a:lnTo>
                <a:lnTo>
                  <a:pt x="1821" y="104"/>
                </a:lnTo>
                <a:lnTo>
                  <a:pt x="1814" y="110"/>
                </a:lnTo>
                <a:lnTo>
                  <a:pt x="1808" y="118"/>
                </a:lnTo>
                <a:lnTo>
                  <a:pt x="1802" y="141"/>
                </a:lnTo>
                <a:lnTo>
                  <a:pt x="1793" y="180"/>
                </a:lnTo>
                <a:lnTo>
                  <a:pt x="1780" y="228"/>
                </a:lnTo>
                <a:lnTo>
                  <a:pt x="1766" y="283"/>
                </a:lnTo>
                <a:lnTo>
                  <a:pt x="1750" y="337"/>
                </a:lnTo>
                <a:lnTo>
                  <a:pt x="1736" y="386"/>
                </a:lnTo>
                <a:lnTo>
                  <a:pt x="1722" y="424"/>
                </a:lnTo>
                <a:lnTo>
                  <a:pt x="1713" y="446"/>
                </a:lnTo>
                <a:lnTo>
                  <a:pt x="1712" y="464"/>
                </a:lnTo>
                <a:lnTo>
                  <a:pt x="1707" y="482"/>
                </a:lnTo>
                <a:lnTo>
                  <a:pt x="1705" y="499"/>
                </a:lnTo>
                <a:lnTo>
                  <a:pt x="1708" y="518"/>
                </a:lnTo>
                <a:lnTo>
                  <a:pt x="1712" y="527"/>
                </a:lnTo>
                <a:lnTo>
                  <a:pt x="1719" y="542"/>
                </a:lnTo>
                <a:lnTo>
                  <a:pt x="1725" y="556"/>
                </a:lnTo>
                <a:lnTo>
                  <a:pt x="1728" y="563"/>
                </a:lnTo>
                <a:lnTo>
                  <a:pt x="1737" y="560"/>
                </a:lnTo>
                <a:lnTo>
                  <a:pt x="1747" y="555"/>
                </a:lnTo>
                <a:lnTo>
                  <a:pt x="1754" y="548"/>
                </a:lnTo>
                <a:lnTo>
                  <a:pt x="1754" y="538"/>
                </a:lnTo>
                <a:lnTo>
                  <a:pt x="1754" y="515"/>
                </a:lnTo>
                <a:lnTo>
                  <a:pt x="1754" y="493"/>
                </a:lnTo>
                <a:lnTo>
                  <a:pt x="1754" y="471"/>
                </a:lnTo>
                <a:lnTo>
                  <a:pt x="1755" y="449"/>
                </a:lnTo>
                <a:lnTo>
                  <a:pt x="1754" y="442"/>
                </a:lnTo>
                <a:lnTo>
                  <a:pt x="1754" y="433"/>
                </a:lnTo>
                <a:lnTo>
                  <a:pt x="1750" y="428"/>
                </a:lnTo>
                <a:lnTo>
                  <a:pt x="1743" y="426"/>
                </a:lnTo>
                <a:lnTo>
                  <a:pt x="1741" y="424"/>
                </a:lnTo>
                <a:lnTo>
                  <a:pt x="1740" y="421"/>
                </a:lnTo>
                <a:lnTo>
                  <a:pt x="1741" y="416"/>
                </a:lnTo>
                <a:lnTo>
                  <a:pt x="1742" y="414"/>
                </a:lnTo>
                <a:lnTo>
                  <a:pt x="1749" y="409"/>
                </a:lnTo>
                <a:lnTo>
                  <a:pt x="1757" y="404"/>
                </a:lnTo>
                <a:lnTo>
                  <a:pt x="1765" y="401"/>
                </a:lnTo>
                <a:lnTo>
                  <a:pt x="1773" y="398"/>
                </a:lnTo>
                <a:lnTo>
                  <a:pt x="1782" y="395"/>
                </a:lnTo>
                <a:lnTo>
                  <a:pt x="1791" y="393"/>
                </a:lnTo>
                <a:lnTo>
                  <a:pt x="1801" y="391"/>
                </a:lnTo>
                <a:lnTo>
                  <a:pt x="1811" y="388"/>
                </a:lnTo>
                <a:lnTo>
                  <a:pt x="1843" y="395"/>
                </a:lnTo>
                <a:lnTo>
                  <a:pt x="1844" y="388"/>
                </a:lnTo>
                <a:lnTo>
                  <a:pt x="1848" y="381"/>
                </a:lnTo>
                <a:lnTo>
                  <a:pt x="1853" y="379"/>
                </a:lnTo>
                <a:lnTo>
                  <a:pt x="1862" y="379"/>
                </a:lnTo>
                <a:lnTo>
                  <a:pt x="1867" y="381"/>
                </a:lnTo>
                <a:lnTo>
                  <a:pt x="1873" y="380"/>
                </a:lnTo>
                <a:lnTo>
                  <a:pt x="1877" y="384"/>
                </a:lnTo>
                <a:lnTo>
                  <a:pt x="1875" y="393"/>
                </a:lnTo>
                <a:lnTo>
                  <a:pt x="1874" y="393"/>
                </a:lnTo>
                <a:lnTo>
                  <a:pt x="1877" y="400"/>
                </a:lnTo>
                <a:lnTo>
                  <a:pt x="1882" y="406"/>
                </a:lnTo>
                <a:lnTo>
                  <a:pt x="1888" y="411"/>
                </a:lnTo>
                <a:lnTo>
                  <a:pt x="1886" y="420"/>
                </a:lnTo>
                <a:lnTo>
                  <a:pt x="1877" y="440"/>
                </a:lnTo>
                <a:lnTo>
                  <a:pt x="1873" y="487"/>
                </a:lnTo>
                <a:lnTo>
                  <a:pt x="1878" y="534"/>
                </a:lnTo>
                <a:lnTo>
                  <a:pt x="1891" y="564"/>
                </a:lnTo>
                <a:lnTo>
                  <a:pt x="1891" y="574"/>
                </a:lnTo>
                <a:lnTo>
                  <a:pt x="1889" y="582"/>
                </a:lnTo>
                <a:lnTo>
                  <a:pt x="1886" y="589"/>
                </a:lnTo>
                <a:lnTo>
                  <a:pt x="1880" y="594"/>
                </a:lnTo>
                <a:lnTo>
                  <a:pt x="1882" y="604"/>
                </a:lnTo>
                <a:lnTo>
                  <a:pt x="1882" y="616"/>
                </a:lnTo>
                <a:lnTo>
                  <a:pt x="1877" y="628"/>
                </a:lnTo>
                <a:lnTo>
                  <a:pt x="1859" y="635"/>
                </a:lnTo>
                <a:lnTo>
                  <a:pt x="1851" y="637"/>
                </a:lnTo>
                <a:lnTo>
                  <a:pt x="1845" y="636"/>
                </a:lnTo>
                <a:lnTo>
                  <a:pt x="1838" y="636"/>
                </a:lnTo>
                <a:lnTo>
                  <a:pt x="1831" y="637"/>
                </a:lnTo>
                <a:lnTo>
                  <a:pt x="1826" y="643"/>
                </a:lnTo>
                <a:lnTo>
                  <a:pt x="1821" y="649"/>
                </a:lnTo>
                <a:lnTo>
                  <a:pt x="1816" y="656"/>
                </a:lnTo>
                <a:lnTo>
                  <a:pt x="1816" y="664"/>
                </a:lnTo>
                <a:lnTo>
                  <a:pt x="1816" y="672"/>
                </a:lnTo>
                <a:lnTo>
                  <a:pt x="1816" y="692"/>
                </a:lnTo>
                <a:lnTo>
                  <a:pt x="1813" y="714"/>
                </a:lnTo>
                <a:lnTo>
                  <a:pt x="1802" y="731"/>
                </a:lnTo>
                <a:lnTo>
                  <a:pt x="1771" y="708"/>
                </a:lnTo>
                <a:lnTo>
                  <a:pt x="1778" y="695"/>
                </a:lnTo>
                <a:lnTo>
                  <a:pt x="1780" y="678"/>
                </a:lnTo>
                <a:lnTo>
                  <a:pt x="1779" y="661"/>
                </a:lnTo>
                <a:lnTo>
                  <a:pt x="1777" y="651"/>
                </a:lnTo>
                <a:lnTo>
                  <a:pt x="1773" y="652"/>
                </a:lnTo>
                <a:lnTo>
                  <a:pt x="1771" y="656"/>
                </a:lnTo>
                <a:lnTo>
                  <a:pt x="1768" y="659"/>
                </a:lnTo>
                <a:lnTo>
                  <a:pt x="1762" y="662"/>
                </a:lnTo>
                <a:lnTo>
                  <a:pt x="1755" y="661"/>
                </a:lnTo>
                <a:lnTo>
                  <a:pt x="1750" y="656"/>
                </a:lnTo>
                <a:lnTo>
                  <a:pt x="1747" y="652"/>
                </a:lnTo>
                <a:lnTo>
                  <a:pt x="1741" y="651"/>
                </a:lnTo>
                <a:lnTo>
                  <a:pt x="1736" y="650"/>
                </a:lnTo>
                <a:lnTo>
                  <a:pt x="1734" y="647"/>
                </a:lnTo>
                <a:lnTo>
                  <a:pt x="1733" y="643"/>
                </a:lnTo>
                <a:lnTo>
                  <a:pt x="1731" y="640"/>
                </a:lnTo>
                <a:lnTo>
                  <a:pt x="1729" y="645"/>
                </a:lnTo>
                <a:lnTo>
                  <a:pt x="1728" y="650"/>
                </a:lnTo>
                <a:lnTo>
                  <a:pt x="1728" y="655"/>
                </a:lnTo>
                <a:lnTo>
                  <a:pt x="1728" y="662"/>
                </a:lnTo>
                <a:lnTo>
                  <a:pt x="1731" y="662"/>
                </a:lnTo>
                <a:lnTo>
                  <a:pt x="1733" y="669"/>
                </a:lnTo>
                <a:lnTo>
                  <a:pt x="1741" y="669"/>
                </a:lnTo>
                <a:lnTo>
                  <a:pt x="1750" y="667"/>
                </a:lnTo>
                <a:lnTo>
                  <a:pt x="1757" y="670"/>
                </a:lnTo>
                <a:lnTo>
                  <a:pt x="1764" y="676"/>
                </a:lnTo>
                <a:lnTo>
                  <a:pt x="1769" y="681"/>
                </a:lnTo>
                <a:lnTo>
                  <a:pt x="1772" y="689"/>
                </a:lnTo>
                <a:lnTo>
                  <a:pt x="1772" y="699"/>
                </a:lnTo>
                <a:lnTo>
                  <a:pt x="1766" y="703"/>
                </a:lnTo>
                <a:lnTo>
                  <a:pt x="1759" y="706"/>
                </a:lnTo>
                <a:lnTo>
                  <a:pt x="1751" y="707"/>
                </a:lnTo>
                <a:lnTo>
                  <a:pt x="1743" y="706"/>
                </a:lnTo>
                <a:lnTo>
                  <a:pt x="1744" y="707"/>
                </a:lnTo>
                <a:lnTo>
                  <a:pt x="1746" y="707"/>
                </a:lnTo>
                <a:lnTo>
                  <a:pt x="1747" y="708"/>
                </a:lnTo>
                <a:lnTo>
                  <a:pt x="1747" y="709"/>
                </a:lnTo>
                <a:lnTo>
                  <a:pt x="1753" y="713"/>
                </a:lnTo>
                <a:lnTo>
                  <a:pt x="1759" y="714"/>
                </a:lnTo>
                <a:lnTo>
                  <a:pt x="1765" y="713"/>
                </a:lnTo>
                <a:lnTo>
                  <a:pt x="1771" y="708"/>
                </a:lnTo>
                <a:lnTo>
                  <a:pt x="1802" y="731"/>
                </a:lnTo>
                <a:lnTo>
                  <a:pt x="1799" y="735"/>
                </a:lnTo>
                <a:lnTo>
                  <a:pt x="1794" y="737"/>
                </a:lnTo>
                <a:lnTo>
                  <a:pt x="1791" y="739"/>
                </a:lnTo>
                <a:lnTo>
                  <a:pt x="1786" y="744"/>
                </a:lnTo>
                <a:lnTo>
                  <a:pt x="1795" y="753"/>
                </a:lnTo>
                <a:lnTo>
                  <a:pt x="1811" y="767"/>
                </a:lnTo>
                <a:lnTo>
                  <a:pt x="1828" y="784"/>
                </a:lnTo>
                <a:lnTo>
                  <a:pt x="1849" y="803"/>
                </a:lnTo>
                <a:lnTo>
                  <a:pt x="1870" y="822"/>
                </a:lnTo>
                <a:lnTo>
                  <a:pt x="1889" y="839"/>
                </a:lnTo>
                <a:lnTo>
                  <a:pt x="1906" y="853"/>
                </a:lnTo>
                <a:lnTo>
                  <a:pt x="1918" y="863"/>
                </a:lnTo>
                <a:lnTo>
                  <a:pt x="1888" y="884"/>
                </a:lnTo>
                <a:lnTo>
                  <a:pt x="1875" y="871"/>
                </a:lnTo>
                <a:lnTo>
                  <a:pt x="1859" y="854"/>
                </a:lnTo>
                <a:lnTo>
                  <a:pt x="1838" y="835"/>
                </a:lnTo>
                <a:lnTo>
                  <a:pt x="1816" y="815"/>
                </a:lnTo>
                <a:lnTo>
                  <a:pt x="1794" y="796"/>
                </a:lnTo>
                <a:lnTo>
                  <a:pt x="1775" y="778"/>
                </a:lnTo>
                <a:lnTo>
                  <a:pt x="1758" y="765"/>
                </a:lnTo>
                <a:lnTo>
                  <a:pt x="1747" y="756"/>
                </a:lnTo>
                <a:lnTo>
                  <a:pt x="1743" y="874"/>
                </a:lnTo>
                <a:lnTo>
                  <a:pt x="1750" y="877"/>
                </a:lnTo>
                <a:lnTo>
                  <a:pt x="1758" y="875"/>
                </a:lnTo>
                <a:lnTo>
                  <a:pt x="1766" y="873"/>
                </a:lnTo>
                <a:lnTo>
                  <a:pt x="1773" y="871"/>
                </a:lnTo>
                <a:lnTo>
                  <a:pt x="1779" y="873"/>
                </a:lnTo>
                <a:lnTo>
                  <a:pt x="1783" y="875"/>
                </a:lnTo>
                <a:lnTo>
                  <a:pt x="1786" y="878"/>
                </a:lnTo>
                <a:lnTo>
                  <a:pt x="1787" y="883"/>
                </a:lnTo>
                <a:lnTo>
                  <a:pt x="1800" y="885"/>
                </a:lnTo>
                <a:lnTo>
                  <a:pt x="1813" y="886"/>
                </a:lnTo>
                <a:lnTo>
                  <a:pt x="1824" y="888"/>
                </a:lnTo>
                <a:lnTo>
                  <a:pt x="1837" y="886"/>
                </a:lnTo>
                <a:lnTo>
                  <a:pt x="1850" y="885"/>
                </a:lnTo>
                <a:lnTo>
                  <a:pt x="1863" y="885"/>
                </a:lnTo>
                <a:lnTo>
                  <a:pt x="1875" y="884"/>
                </a:lnTo>
                <a:lnTo>
                  <a:pt x="1888" y="884"/>
                </a:lnTo>
                <a:lnTo>
                  <a:pt x="1918" y="863"/>
                </a:lnTo>
                <a:lnTo>
                  <a:pt x="1925" y="866"/>
                </a:lnTo>
                <a:lnTo>
                  <a:pt x="1936" y="868"/>
                </a:lnTo>
                <a:lnTo>
                  <a:pt x="1949" y="870"/>
                </a:lnTo>
                <a:lnTo>
                  <a:pt x="1964" y="873"/>
                </a:lnTo>
                <a:lnTo>
                  <a:pt x="1979" y="876"/>
                </a:lnTo>
                <a:lnTo>
                  <a:pt x="1993" y="882"/>
                </a:lnTo>
                <a:lnTo>
                  <a:pt x="2005" y="889"/>
                </a:lnTo>
                <a:lnTo>
                  <a:pt x="2016" y="898"/>
                </a:lnTo>
                <a:lnTo>
                  <a:pt x="2019" y="904"/>
                </a:lnTo>
                <a:lnTo>
                  <a:pt x="2019" y="912"/>
                </a:lnTo>
                <a:lnTo>
                  <a:pt x="2018" y="920"/>
                </a:lnTo>
                <a:lnTo>
                  <a:pt x="2019" y="928"/>
                </a:lnTo>
                <a:lnTo>
                  <a:pt x="2027" y="934"/>
                </a:lnTo>
                <a:lnTo>
                  <a:pt x="2039" y="942"/>
                </a:lnTo>
                <a:lnTo>
                  <a:pt x="2053" y="952"/>
                </a:lnTo>
                <a:lnTo>
                  <a:pt x="2071" y="964"/>
                </a:lnTo>
                <a:lnTo>
                  <a:pt x="2090" y="977"/>
                </a:lnTo>
                <a:lnTo>
                  <a:pt x="2111" y="992"/>
                </a:lnTo>
                <a:lnTo>
                  <a:pt x="2133" y="1006"/>
                </a:lnTo>
                <a:lnTo>
                  <a:pt x="2155" y="1021"/>
                </a:lnTo>
                <a:lnTo>
                  <a:pt x="2177" y="1036"/>
                </a:lnTo>
                <a:lnTo>
                  <a:pt x="2198" y="1050"/>
                </a:lnTo>
                <a:lnTo>
                  <a:pt x="2216" y="1063"/>
                </a:lnTo>
                <a:lnTo>
                  <a:pt x="2234" y="1074"/>
                </a:lnTo>
                <a:lnTo>
                  <a:pt x="2248" y="1083"/>
                </a:lnTo>
                <a:lnTo>
                  <a:pt x="2259" y="1091"/>
                </a:lnTo>
                <a:lnTo>
                  <a:pt x="2266" y="1096"/>
                </a:lnTo>
                <a:lnTo>
                  <a:pt x="2269" y="1097"/>
                </a:lnTo>
                <a:lnTo>
                  <a:pt x="2269" y="1102"/>
                </a:lnTo>
                <a:lnTo>
                  <a:pt x="2266" y="1104"/>
                </a:lnTo>
                <a:lnTo>
                  <a:pt x="2263" y="1107"/>
                </a:lnTo>
                <a:lnTo>
                  <a:pt x="2259" y="1109"/>
                </a:lnTo>
                <a:lnTo>
                  <a:pt x="2251" y="1109"/>
                </a:lnTo>
                <a:lnTo>
                  <a:pt x="2240" y="1109"/>
                </a:lnTo>
                <a:lnTo>
                  <a:pt x="2224" y="1109"/>
                </a:lnTo>
                <a:lnTo>
                  <a:pt x="2208" y="1109"/>
                </a:lnTo>
                <a:lnTo>
                  <a:pt x="2189" y="1109"/>
                </a:lnTo>
                <a:lnTo>
                  <a:pt x="2168" y="1108"/>
                </a:lnTo>
                <a:lnTo>
                  <a:pt x="2147" y="1108"/>
                </a:lnTo>
                <a:lnTo>
                  <a:pt x="2124" y="1108"/>
                </a:lnTo>
                <a:lnTo>
                  <a:pt x="2102" y="1108"/>
                </a:lnTo>
                <a:lnTo>
                  <a:pt x="2078" y="1108"/>
                </a:lnTo>
                <a:lnTo>
                  <a:pt x="2057" y="1108"/>
                </a:lnTo>
                <a:lnTo>
                  <a:pt x="2037" y="1108"/>
                </a:lnTo>
                <a:lnTo>
                  <a:pt x="2018" y="1108"/>
                </a:lnTo>
                <a:lnTo>
                  <a:pt x="2002" y="1108"/>
                </a:lnTo>
                <a:lnTo>
                  <a:pt x="1988" y="1108"/>
                </a:lnTo>
                <a:lnTo>
                  <a:pt x="1976" y="1108"/>
                </a:lnTo>
                <a:lnTo>
                  <a:pt x="1971" y="1101"/>
                </a:lnTo>
                <a:lnTo>
                  <a:pt x="1967" y="1094"/>
                </a:lnTo>
                <a:lnTo>
                  <a:pt x="1962" y="1087"/>
                </a:lnTo>
                <a:lnTo>
                  <a:pt x="1959" y="1079"/>
                </a:lnTo>
                <a:lnTo>
                  <a:pt x="1955" y="1072"/>
                </a:lnTo>
                <a:lnTo>
                  <a:pt x="1952" y="1065"/>
                </a:lnTo>
                <a:lnTo>
                  <a:pt x="1946" y="1058"/>
                </a:lnTo>
                <a:lnTo>
                  <a:pt x="1940" y="1051"/>
                </a:lnTo>
                <a:lnTo>
                  <a:pt x="1937" y="1053"/>
                </a:lnTo>
                <a:lnTo>
                  <a:pt x="1933" y="1064"/>
                </a:lnTo>
                <a:lnTo>
                  <a:pt x="1930" y="1073"/>
                </a:lnTo>
                <a:lnTo>
                  <a:pt x="1925" y="1082"/>
                </a:lnTo>
                <a:lnTo>
                  <a:pt x="1921" y="1091"/>
                </a:lnTo>
                <a:lnTo>
                  <a:pt x="1915" y="1101"/>
                </a:lnTo>
                <a:lnTo>
                  <a:pt x="1908" y="1109"/>
                </a:lnTo>
                <a:lnTo>
                  <a:pt x="1901" y="1117"/>
                </a:lnTo>
                <a:lnTo>
                  <a:pt x="1893" y="1124"/>
                </a:lnTo>
                <a:lnTo>
                  <a:pt x="2301" y="1124"/>
                </a:lnTo>
                <a:lnTo>
                  <a:pt x="2301" y="1181"/>
                </a:lnTo>
                <a:lnTo>
                  <a:pt x="1786" y="1181"/>
                </a:lnTo>
                <a:lnTo>
                  <a:pt x="1783" y="1126"/>
                </a:lnTo>
                <a:lnTo>
                  <a:pt x="1783" y="1125"/>
                </a:lnTo>
                <a:lnTo>
                  <a:pt x="1776" y="1117"/>
                </a:lnTo>
                <a:lnTo>
                  <a:pt x="1769" y="1109"/>
                </a:lnTo>
                <a:lnTo>
                  <a:pt x="1761" y="1100"/>
                </a:lnTo>
                <a:lnTo>
                  <a:pt x="1754" y="1091"/>
                </a:lnTo>
                <a:lnTo>
                  <a:pt x="1728" y="1091"/>
                </a:lnTo>
                <a:lnTo>
                  <a:pt x="1700" y="1091"/>
                </a:lnTo>
                <a:lnTo>
                  <a:pt x="1670" y="1091"/>
                </a:lnTo>
                <a:lnTo>
                  <a:pt x="1641" y="1093"/>
                </a:lnTo>
                <a:lnTo>
                  <a:pt x="1615" y="1093"/>
                </a:lnTo>
                <a:lnTo>
                  <a:pt x="1594" y="1094"/>
                </a:lnTo>
                <a:lnTo>
                  <a:pt x="1580" y="1094"/>
                </a:lnTo>
                <a:lnTo>
                  <a:pt x="1574" y="1094"/>
                </a:lnTo>
                <a:lnTo>
                  <a:pt x="1584" y="1067"/>
                </a:lnTo>
                <a:lnTo>
                  <a:pt x="1590" y="1067"/>
                </a:lnTo>
                <a:lnTo>
                  <a:pt x="1606" y="1067"/>
                </a:lnTo>
                <a:lnTo>
                  <a:pt x="1628" y="1067"/>
                </a:lnTo>
                <a:lnTo>
                  <a:pt x="1655" y="1067"/>
                </a:lnTo>
                <a:lnTo>
                  <a:pt x="1682" y="1067"/>
                </a:lnTo>
                <a:lnTo>
                  <a:pt x="1706" y="1067"/>
                </a:lnTo>
                <a:lnTo>
                  <a:pt x="1725" y="1066"/>
                </a:lnTo>
                <a:lnTo>
                  <a:pt x="1734" y="1066"/>
                </a:lnTo>
                <a:lnTo>
                  <a:pt x="1739" y="1064"/>
                </a:lnTo>
                <a:lnTo>
                  <a:pt x="1739" y="1060"/>
                </a:lnTo>
                <a:lnTo>
                  <a:pt x="1737" y="1056"/>
                </a:lnTo>
                <a:lnTo>
                  <a:pt x="1736" y="1051"/>
                </a:lnTo>
                <a:lnTo>
                  <a:pt x="1729" y="1050"/>
                </a:lnTo>
                <a:lnTo>
                  <a:pt x="1724" y="1047"/>
                </a:lnTo>
                <a:lnTo>
                  <a:pt x="1718" y="1045"/>
                </a:lnTo>
                <a:lnTo>
                  <a:pt x="1713" y="1042"/>
                </a:lnTo>
                <a:lnTo>
                  <a:pt x="1707" y="1038"/>
                </a:lnTo>
                <a:lnTo>
                  <a:pt x="1702" y="1035"/>
                </a:lnTo>
                <a:lnTo>
                  <a:pt x="1696" y="1032"/>
                </a:lnTo>
                <a:lnTo>
                  <a:pt x="1690" y="1030"/>
                </a:lnTo>
                <a:lnTo>
                  <a:pt x="1683" y="1034"/>
                </a:lnTo>
                <a:lnTo>
                  <a:pt x="1676" y="1036"/>
                </a:lnTo>
                <a:lnTo>
                  <a:pt x="1669" y="1037"/>
                </a:lnTo>
                <a:lnTo>
                  <a:pt x="1661" y="1038"/>
                </a:lnTo>
                <a:lnTo>
                  <a:pt x="1654" y="1037"/>
                </a:lnTo>
                <a:lnTo>
                  <a:pt x="1647" y="1036"/>
                </a:lnTo>
                <a:lnTo>
                  <a:pt x="1640" y="1034"/>
                </a:lnTo>
                <a:lnTo>
                  <a:pt x="1634" y="1030"/>
                </a:lnTo>
                <a:lnTo>
                  <a:pt x="1627" y="1034"/>
                </a:lnTo>
                <a:lnTo>
                  <a:pt x="1622" y="1036"/>
                </a:lnTo>
                <a:lnTo>
                  <a:pt x="1615" y="1039"/>
                </a:lnTo>
                <a:lnTo>
                  <a:pt x="1609" y="1042"/>
                </a:lnTo>
                <a:lnTo>
                  <a:pt x="1602" y="1044"/>
                </a:lnTo>
                <a:lnTo>
                  <a:pt x="1596" y="1047"/>
                </a:lnTo>
                <a:lnTo>
                  <a:pt x="1590" y="1051"/>
                </a:lnTo>
                <a:lnTo>
                  <a:pt x="1584" y="1056"/>
                </a:lnTo>
                <a:lnTo>
                  <a:pt x="1584" y="1067"/>
                </a:lnTo>
                <a:lnTo>
                  <a:pt x="1574" y="1094"/>
                </a:lnTo>
                <a:lnTo>
                  <a:pt x="1567" y="1095"/>
                </a:lnTo>
                <a:lnTo>
                  <a:pt x="1561" y="1097"/>
                </a:lnTo>
                <a:lnTo>
                  <a:pt x="1557" y="1102"/>
                </a:lnTo>
                <a:lnTo>
                  <a:pt x="1552" y="1107"/>
                </a:lnTo>
                <a:lnTo>
                  <a:pt x="1547" y="1112"/>
                </a:lnTo>
                <a:lnTo>
                  <a:pt x="1543" y="1118"/>
                </a:lnTo>
                <a:lnTo>
                  <a:pt x="1538" y="1123"/>
                </a:lnTo>
                <a:lnTo>
                  <a:pt x="1533" y="1127"/>
                </a:lnTo>
                <a:lnTo>
                  <a:pt x="1542" y="1129"/>
                </a:lnTo>
                <a:lnTo>
                  <a:pt x="1554" y="1129"/>
                </a:lnTo>
                <a:lnTo>
                  <a:pt x="1569" y="1129"/>
                </a:lnTo>
                <a:lnTo>
                  <a:pt x="1587" y="1129"/>
                </a:lnTo>
                <a:lnTo>
                  <a:pt x="1605" y="1129"/>
                </a:lnTo>
                <a:lnTo>
                  <a:pt x="1626" y="1127"/>
                </a:lnTo>
                <a:lnTo>
                  <a:pt x="1648" y="1127"/>
                </a:lnTo>
                <a:lnTo>
                  <a:pt x="1669" y="1126"/>
                </a:lnTo>
                <a:lnTo>
                  <a:pt x="1691" y="1126"/>
                </a:lnTo>
                <a:lnTo>
                  <a:pt x="1711" y="1125"/>
                </a:lnTo>
                <a:lnTo>
                  <a:pt x="1729" y="1125"/>
                </a:lnTo>
                <a:lnTo>
                  <a:pt x="1747" y="1125"/>
                </a:lnTo>
                <a:lnTo>
                  <a:pt x="1761" y="1124"/>
                </a:lnTo>
                <a:lnTo>
                  <a:pt x="1772" y="1124"/>
                </a:lnTo>
                <a:lnTo>
                  <a:pt x="1779" y="1125"/>
                </a:lnTo>
                <a:lnTo>
                  <a:pt x="1783" y="1125"/>
                </a:lnTo>
                <a:lnTo>
                  <a:pt x="1786" y="1181"/>
                </a:lnTo>
                <a:lnTo>
                  <a:pt x="1365" y="1181"/>
                </a:lnTo>
                <a:lnTo>
                  <a:pt x="1387" y="1130"/>
                </a:lnTo>
                <a:lnTo>
                  <a:pt x="1392" y="1127"/>
                </a:lnTo>
                <a:lnTo>
                  <a:pt x="1395" y="1129"/>
                </a:lnTo>
                <a:lnTo>
                  <a:pt x="1400" y="1130"/>
                </a:lnTo>
                <a:lnTo>
                  <a:pt x="1404" y="1129"/>
                </a:lnTo>
                <a:lnTo>
                  <a:pt x="1392" y="1110"/>
                </a:lnTo>
                <a:lnTo>
                  <a:pt x="1386" y="1109"/>
                </a:lnTo>
                <a:lnTo>
                  <a:pt x="1381" y="1111"/>
                </a:lnTo>
                <a:lnTo>
                  <a:pt x="1376" y="1115"/>
                </a:lnTo>
                <a:lnTo>
                  <a:pt x="1370" y="1116"/>
                </a:lnTo>
                <a:lnTo>
                  <a:pt x="1361" y="1107"/>
                </a:lnTo>
                <a:lnTo>
                  <a:pt x="1357" y="1096"/>
                </a:lnTo>
                <a:lnTo>
                  <a:pt x="1358" y="1086"/>
                </a:lnTo>
                <a:lnTo>
                  <a:pt x="1363" y="1074"/>
                </a:lnTo>
                <a:lnTo>
                  <a:pt x="1368" y="1063"/>
                </a:lnTo>
                <a:lnTo>
                  <a:pt x="1373" y="1050"/>
                </a:lnTo>
                <a:lnTo>
                  <a:pt x="1377" y="1038"/>
                </a:lnTo>
                <a:lnTo>
                  <a:pt x="1376" y="1025"/>
                </a:lnTo>
                <a:lnTo>
                  <a:pt x="1370" y="1018"/>
                </a:lnTo>
                <a:lnTo>
                  <a:pt x="1365" y="1010"/>
                </a:lnTo>
                <a:lnTo>
                  <a:pt x="1363" y="1001"/>
                </a:lnTo>
                <a:lnTo>
                  <a:pt x="1361" y="992"/>
                </a:lnTo>
                <a:lnTo>
                  <a:pt x="1412" y="884"/>
                </a:lnTo>
                <a:lnTo>
                  <a:pt x="1529" y="883"/>
                </a:lnTo>
                <a:lnTo>
                  <a:pt x="1535" y="878"/>
                </a:lnTo>
                <a:lnTo>
                  <a:pt x="1542" y="871"/>
                </a:lnTo>
                <a:lnTo>
                  <a:pt x="1545" y="864"/>
                </a:lnTo>
                <a:lnTo>
                  <a:pt x="1546" y="856"/>
                </a:lnTo>
                <a:lnTo>
                  <a:pt x="1540" y="852"/>
                </a:lnTo>
                <a:lnTo>
                  <a:pt x="1535" y="854"/>
                </a:lnTo>
                <a:lnTo>
                  <a:pt x="1528" y="859"/>
                </a:lnTo>
                <a:lnTo>
                  <a:pt x="1521" y="862"/>
                </a:lnTo>
                <a:lnTo>
                  <a:pt x="1514" y="863"/>
                </a:lnTo>
                <a:lnTo>
                  <a:pt x="1506" y="863"/>
                </a:lnTo>
                <a:lnTo>
                  <a:pt x="1497" y="861"/>
                </a:lnTo>
                <a:lnTo>
                  <a:pt x="1490" y="857"/>
                </a:lnTo>
                <a:lnTo>
                  <a:pt x="1482" y="851"/>
                </a:lnTo>
                <a:lnTo>
                  <a:pt x="1473" y="846"/>
                </a:lnTo>
                <a:lnTo>
                  <a:pt x="1464" y="845"/>
                </a:lnTo>
                <a:lnTo>
                  <a:pt x="1452" y="844"/>
                </a:lnTo>
                <a:lnTo>
                  <a:pt x="1441" y="844"/>
                </a:lnTo>
                <a:lnTo>
                  <a:pt x="1430" y="845"/>
                </a:lnTo>
                <a:lnTo>
                  <a:pt x="1419" y="844"/>
                </a:lnTo>
                <a:lnTo>
                  <a:pt x="1408" y="842"/>
                </a:lnTo>
                <a:lnTo>
                  <a:pt x="1402" y="845"/>
                </a:lnTo>
                <a:lnTo>
                  <a:pt x="1397" y="846"/>
                </a:lnTo>
                <a:lnTo>
                  <a:pt x="1392" y="848"/>
                </a:lnTo>
                <a:lnTo>
                  <a:pt x="1391" y="853"/>
                </a:lnTo>
                <a:lnTo>
                  <a:pt x="1398" y="860"/>
                </a:lnTo>
                <a:lnTo>
                  <a:pt x="1404" y="867"/>
                </a:lnTo>
                <a:lnTo>
                  <a:pt x="1408" y="875"/>
                </a:lnTo>
                <a:lnTo>
                  <a:pt x="1412" y="884"/>
                </a:lnTo>
                <a:lnTo>
                  <a:pt x="1361" y="992"/>
                </a:lnTo>
                <a:lnTo>
                  <a:pt x="1357" y="993"/>
                </a:lnTo>
                <a:lnTo>
                  <a:pt x="1354" y="993"/>
                </a:lnTo>
                <a:lnTo>
                  <a:pt x="1349" y="992"/>
                </a:lnTo>
                <a:lnTo>
                  <a:pt x="1347" y="990"/>
                </a:lnTo>
                <a:lnTo>
                  <a:pt x="1347" y="998"/>
                </a:lnTo>
                <a:lnTo>
                  <a:pt x="1347" y="1003"/>
                </a:lnTo>
                <a:lnTo>
                  <a:pt x="1348" y="1010"/>
                </a:lnTo>
                <a:lnTo>
                  <a:pt x="1347" y="1018"/>
                </a:lnTo>
                <a:lnTo>
                  <a:pt x="1346" y="1025"/>
                </a:lnTo>
                <a:lnTo>
                  <a:pt x="1347" y="1034"/>
                </a:lnTo>
                <a:lnTo>
                  <a:pt x="1348" y="1041"/>
                </a:lnTo>
                <a:lnTo>
                  <a:pt x="1344" y="1046"/>
                </a:lnTo>
                <a:lnTo>
                  <a:pt x="1336" y="1047"/>
                </a:lnTo>
                <a:lnTo>
                  <a:pt x="1329" y="1046"/>
                </a:lnTo>
                <a:lnTo>
                  <a:pt x="1322" y="1043"/>
                </a:lnTo>
                <a:lnTo>
                  <a:pt x="1318" y="1038"/>
                </a:lnTo>
                <a:lnTo>
                  <a:pt x="1313" y="1046"/>
                </a:lnTo>
                <a:lnTo>
                  <a:pt x="1307" y="1056"/>
                </a:lnTo>
                <a:lnTo>
                  <a:pt x="1301" y="1064"/>
                </a:lnTo>
                <a:lnTo>
                  <a:pt x="1296" y="1072"/>
                </a:lnTo>
                <a:lnTo>
                  <a:pt x="1290" y="1080"/>
                </a:lnTo>
                <a:lnTo>
                  <a:pt x="1283" y="1088"/>
                </a:lnTo>
                <a:lnTo>
                  <a:pt x="1276" y="1095"/>
                </a:lnTo>
                <a:lnTo>
                  <a:pt x="1269" y="1103"/>
                </a:lnTo>
                <a:lnTo>
                  <a:pt x="1261" y="1110"/>
                </a:lnTo>
                <a:lnTo>
                  <a:pt x="1253" y="1117"/>
                </a:lnTo>
                <a:lnTo>
                  <a:pt x="1245" y="1123"/>
                </a:lnTo>
                <a:lnTo>
                  <a:pt x="1235" y="1129"/>
                </a:lnTo>
                <a:lnTo>
                  <a:pt x="1254" y="1131"/>
                </a:lnTo>
                <a:lnTo>
                  <a:pt x="1272" y="1131"/>
                </a:lnTo>
                <a:lnTo>
                  <a:pt x="1291" y="1131"/>
                </a:lnTo>
                <a:lnTo>
                  <a:pt x="1310" y="1131"/>
                </a:lnTo>
                <a:lnTo>
                  <a:pt x="1329" y="1130"/>
                </a:lnTo>
                <a:lnTo>
                  <a:pt x="1349" y="1130"/>
                </a:lnTo>
                <a:lnTo>
                  <a:pt x="1368" y="1130"/>
                </a:lnTo>
                <a:lnTo>
                  <a:pt x="1387" y="1130"/>
                </a:lnTo>
                <a:lnTo>
                  <a:pt x="1365" y="1181"/>
                </a:lnTo>
                <a:lnTo>
                  <a:pt x="864" y="1181"/>
                </a:lnTo>
                <a:lnTo>
                  <a:pt x="876" y="1130"/>
                </a:lnTo>
                <a:lnTo>
                  <a:pt x="1071" y="1130"/>
                </a:lnTo>
                <a:lnTo>
                  <a:pt x="1077" y="1131"/>
                </a:lnTo>
                <a:lnTo>
                  <a:pt x="1080" y="1131"/>
                </a:lnTo>
                <a:lnTo>
                  <a:pt x="1085" y="1131"/>
                </a:lnTo>
                <a:lnTo>
                  <a:pt x="1089" y="1130"/>
                </a:lnTo>
                <a:lnTo>
                  <a:pt x="1082" y="1125"/>
                </a:lnTo>
                <a:lnTo>
                  <a:pt x="1077" y="1120"/>
                </a:lnTo>
                <a:lnTo>
                  <a:pt x="1071" y="1116"/>
                </a:lnTo>
                <a:lnTo>
                  <a:pt x="1065" y="1112"/>
                </a:lnTo>
                <a:lnTo>
                  <a:pt x="1059" y="1108"/>
                </a:lnTo>
                <a:lnTo>
                  <a:pt x="1053" y="1103"/>
                </a:lnTo>
                <a:lnTo>
                  <a:pt x="1048" y="1098"/>
                </a:lnTo>
                <a:lnTo>
                  <a:pt x="1043" y="1093"/>
                </a:lnTo>
                <a:lnTo>
                  <a:pt x="1089" y="1093"/>
                </a:lnTo>
                <a:lnTo>
                  <a:pt x="1093" y="1090"/>
                </a:lnTo>
                <a:lnTo>
                  <a:pt x="1100" y="1082"/>
                </a:lnTo>
                <a:lnTo>
                  <a:pt x="1107" y="1069"/>
                </a:lnTo>
                <a:lnTo>
                  <a:pt x="1115" y="1053"/>
                </a:lnTo>
                <a:lnTo>
                  <a:pt x="1123" y="1036"/>
                </a:lnTo>
                <a:lnTo>
                  <a:pt x="1130" y="1020"/>
                </a:lnTo>
                <a:lnTo>
                  <a:pt x="1137" y="1008"/>
                </a:lnTo>
                <a:lnTo>
                  <a:pt x="1140" y="1000"/>
                </a:lnTo>
                <a:lnTo>
                  <a:pt x="1160" y="999"/>
                </a:lnTo>
                <a:lnTo>
                  <a:pt x="1155" y="1017"/>
                </a:lnTo>
                <a:lnTo>
                  <a:pt x="1150" y="1053"/>
                </a:lnTo>
                <a:lnTo>
                  <a:pt x="1145" y="1089"/>
                </a:lnTo>
                <a:lnTo>
                  <a:pt x="1144" y="1110"/>
                </a:lnTo>
                <a:lnTo>
                  <a:pt x="1148" y="1110"/>
                </a:lnTo>
                <a:lnTo>
                  <a:pt x="1152" y="1110"/>
                </a:lnTo>
                <a:lnTo>
                  <a:pt x="1157" y="1110"/>
                </a:lnTo>
                <a:lnTo>
                  <a:pt x="1161" y="1111"/>
                </a:lnTo>
                <a:lnTo>
                  <a:pt x="1168" y="1110"/>
                </a:lnTo>
                <a:lnTo>
                  <a:pt x="1174" y="1110"/>
                </a:lnTo>
                <a:lnTo>
                  <a:pt x="1179" y="1110"/>
                </a:lnTo>
                <a:lnTo>
                  <a:pt x="1182" y="1110"/>
                </a:lnTo>
                <a:lnTo>
                  <a:pt x="1174" y="991"/>
                </a:lnTo>
                <a:lnTo>
                  <a:pt x="1176" y="996"/>
                </a:lnTo>
                <a:lnTo>
                  <a:pt x="1181" y="1009"/>
                </a:lnTo>
                <a:lnTo>
                  <a:pt x="1188" y="1027"/>
                </a:lnTo>
                <a:lnTo>
                  <a:pt x="1195" y="1045"/>
                </a:lnTo>
                <a:lnTo>
                  <a:pt x="1203" y="1065"/>
                </a:lnTo>
                <a:lnTo>
                  <a:pt x="1210" y="1081"/>
                </a:lnTo>
                <a:lnTo>
                  <a:pt x="1215" y="1093"/>
                </a:lnTo>
                <a:lnTo>
                  <a:pt x="1218" y="1098"/>
                </a:lnTo>
                <a:lnTo>
                  <a:pt x="1224" y="1094"/>
                </a:lnTo>
                <a:lnTo>
                  <a:pt x="1232" y="1089"/>
                </a:lnTo>
                <a:lnTo>
                  <a:pt x="1239" y="1086"/>
                </a:lnTo>
                <a:lnTo>
                  <a:pt x="1242" y="1085"/>
                </a:lnTo>
                <a:lnTo>
                  <a:pt x="1240" y="1079"/>
                </a:lnTo>
                <a:lnTo>
                  <a:pt x="1238" y="1074"/>
                </a:lnTo>
                <a:lnTo>
                  <a:pt x="1235" y="1069"/>
                </a:lnTo>
                <a:lnTo>
                  <a:pt x="1233" y="1068"/>
                </a:lnTo>
                <a:lnTo>
                  <a:pt x="1274" y="1053"/>
                </a:lnTo>
                <a:lnTo>
                  <a:pt x="1278" y="1047"/>
                </a:lnTo>
                <a:lnTo>
                  <a:pt x="1284" y="1038"/>
                </a:lnTo>
                <a:lnTo>
                  <a:pt x="1290" y="1030"/>
                </a:lnTo>
                <a:lnTo>
                  <a:pt x="1292" y="1024"/>
                </a:lnTo>
                <a:lnTo>
                  <a:pt x="1286" y="1021"/>
                </a:lnTo>
                <a:lnTo>
                  <a:pt x="1276" y="1017"/>
                </a:lnTo>
                <a:lnTo>
                  <a:pt x="1262" y="1013"/>
                </a:lnTo>
                <a:lnTo>
                  <a:pt x="1248" y="1007"/>
                </a:lnTo>
                <a:lnTo>
                  <a:pt x="1233" y="1002"/>
                </a:lnTo>
                <a:lnTo>
                  <a:pt x="1219" y="999"/>
                </a:lnTo>
                <a:lnTo>
                  <a:pt x="1209" y="995"/>
                </a:lnTo>
                <a:lnTo>
                  <a:pt x="1202" y="994"/>
                </a:lnTo>
                <a:lnTo>
                  <a:pt x="1194" y="977"/>
                </a:lnTo>
                <a:lnTo>
                  <a:pt x="1203" y="976"/>
                </a:lnTo>
                <a:lnTo>
                  <a:pt x="1218" y="976"/>
                </a:lnTo>
                <a:lnTo>
                  <a:pt x="1237" y="974"/>
                </a:lnTo>
                <a:lnTo>
                  <a:pt x="1256" y="973"/>
                </a:lnTo>
                <a:lnTo>
                  <a:pt x="1275" y="972"/>
                </a:lnTo>
                <a:lnTo>
                  <a:pt x="1292" y="972"/>
                </a:lnTo>
                <a:lnTo>
                  <a:pt x="1303" y="971"/>
                </a:lnTo>
                <a:lnTo>
                  <a:pt x="1307" y="971"/>
                </a:lnTo>
                <a:lnTo>
                  <a:pt x="1306" y="964"/>
                </a:lnTo>
                <a:lnTo>
                  <a:pt x="1303" y="954"/>
                </a:lnTo>
                <a:lnTo>
                  <a:pt x="1300" y="943"/>
                </a:lnTo>
                <a:lnTo>
                  <a:pt x="1298" y="937"/>
                </a:lnTo>
                <a:lnTo>
                  <a:pt x="1245" y="954"/>
                </a:lnTo>
                <a:lnTo>
                  <a:pt x="1223" y="913"/>
                </a:lnTo>
                <a:lnTo>
                  <a:pt x="1226" y="912"/>
                </a:lnTo>
                <a:lnTo>
                  <a:pt x="1232" y="908"/>
                </a:lnTo>
                <a:lnTo>
                  <a:pt x="1240" y="905"/>
                </a:lnTo>
                <a:lnTo>
                  <a:pt x="1248" y="900"/>
                </a:lnTo>
                <a:lnTo>
                  <a:pt x="1255" y="896"/>
                </a:lnTo>
                <a:lnTo>
                  <a:pt x="1261" y="890"/>
                </a:lnTo>
                <a:lnTo>
                  <a:pt x="1264" y="885"/>
                </a:lnTo>
                <a:lnTo>
                  <a:pt x="1266" y="882"/>
                </a:lnTo>
                <a:lnTo>
                  <a:pt x="1261" y="873"/>
                </a:lnTo>
                <a:lnTo>
                  <a:pt x="1254" y="864"/>
                </a:lnTo>
                <a:lnTo>
                  <a:pt x="1246" y="859"/>
                </a:lnTo>
                <a:lnTo>
                  <a:pt x="1238" y="856"/>
                </a:lnTo>
                <a:lnTo>
                  <a:pt x="1175" y="954"/>
                </a:lnTo>
                <a:lnTo>
                  <a:pt x="1223" y="913"/>
                </a:lnTo>
                <a:lnTo>
                  <a:pt x="1245" y="954"/>
                </a:lnTo>
                <a:lnTo>
                  <a:pt x="1194" y="977"/>
                </a:lnTo>
                <a:lnTo>
                  <a:pt x="1202" y="994"/>
                </a:lnTo>
                <a:lnTo>
                  <a:pt x="1274" y="1053"/>
                </a:lnTo>
                <a:lnTo>
                  <a:pt x="1233" y="1068"/>
                </a:lnTo>
                <a:lnTo>
                  <a:pt x="1228" y="1065"/>
                </a:lnTo>
                <a:lnTo>
                  <a:pt x="1221" y="1057"/>
                </a:lnTo>
                <a:lnTo>
                  <a:pt x="1213" y="1044"/>
                </a:lnTo>
                <a:lnTo>
                  <a:pt x="1204" y="1030"/>
                </a:lnTo>
                <a:lnTo>
                  <a:pt x="1194" y="1015"/>
                </a:lnTo>
                <a:lnTo>
                  <a:pt x="1186" y="1003"/>
                </a:lnTo>
                <a:lnTo>
                  <a:pt x="1179" y="994"/>
                </a:lnTo>
                <a:lnTo>
                  <a:pt x="1174" y="991"/>
                </a:lnTo>
                <a:lnTo>
                  <a:pt x="1182" y="1110"/>
                </a:lnTo>
                <a:lnTo>
                  <a:pt x="1179" y="1089"/>
                </a:lnTo>
                <a:lnTo>
                  <a:pt x="1172" y="1057"/>
                </a:lnTo>
                <a:lnTo>
                  <a:pt x="1165" y="1023"/>
                </a:lnTo>
                <a:lnTo>
                  <a:pt x="1160" y="999"/>
                </a:lnTo>
                <a:lnTo>
                  <a:pt x="1140" y="1000"/>
                </a:lnTo>
                <a:lnTo>
                  <a:pt x="1117" y="1020"/>
                </a:lnTo>
                <a:lnTo>
                  <a:pt x="1136" y="984"/>
                </a:lnTo>
                <a:lnTo>
                  <a:pt x="1097" y="978"/>
                </a:lnTo>
                <a:lnTo>
                  <a:pt x="1095" y="957"/>
                </a:lnTo>
                <a:lnTo>
                  <a:pt x="1099" y="957"/>
                </a:lnTo>
                <a:lnTo>
                  <a:pt x="1103" y="958"/>
                </a:lnTo>
                <a:lnTo>
                  <a:pt x="1109" y="959"/>
                </a:lnTo>
                <a:lnTo>
                  <a:pt x="1115" y="961"/>
                </a:lnTo>
                <a:lnTo>
                  <a:pt x="1122" y="962"/>
                </a:lnTo>
                <a:lnTo>
                  <a:pt x="1126" y="963"/>
                </a:lnTo>
                <a:lnTo>
                  <a:pt x="1131" y="964"/>
                </a:lnTo>
                <a:lnTo>
                  <a:pt x="1135" y="965"/>
                </a:lnTo>
                <a:lnTo>
                  <a:pt x="1130" y="963"/>
                </a:lnTo>
                <a:lnTo>
                  <a:pt x="1118" y="957"/>
                </a:lnTo>
                <a:lnTo>
                  <a:pt x="1102" y="948"/>
                </a:lnTo>
                <a:lnTo>
                  <a:pt x="1083" y="939"/>
                </a:lnTo>
                <a:lnTo>
                  <a:pt x="1064" y="929"/>
                </a:lnTo>
                <a:lnTo>
                  <a:pt x="1048" y="921"/>
                </a:lnTo>
                <a:lnTo>
                  <a:pt x="1036" y="915"/>
                </a:lnTo>
                <a:lnTo>
                  <a:pt x="1031" y="913"/>
                </a:lnTo>
                <a:lnTo>
                  <a:pt x="1054" y="876"/>
                </a:lnTo>
                <a:lnTo>
                  <a:pt x="1061" y="879"/>
                </a:lnTo>
                <a:lnTo>
                  <a:pt x="1073" y="889"/>
                </a:lnTo>
                <a:lnTo>
                  <a:pt x="1087" y="899"/>
                </a:lnTo>
                <a:lnTo>
                  <a:pt x="1102" y="912"/>
                </a:lnTo>
                <a:lnTo>
                  <a:pt x="1117" y="925"/>
                </a:lnTo>
                <a:lnTo>
                  <a:pt x="1130" y="935"/>
                </a:lnTo>
                <a:lnTo>
                  <a:pt x="1139" y="942"/>
                </a:lnTo>
                <a:lnTo>
                  <a:pt x="1144" y="944"/>
                </a:lnTo>
                <a:lnTo>
                  <a:pt x="1085" y="852"/>
                </a:lnTo>
                <a:lnTo>
                  <a:pt x="1139" y="831"/>
                </a:lnTo>
                <a:lnTo>
                  <a:pt x="1161" y="946"/>
                </a:lnTo>
                <a:lnTo>
                  <a:pt x="1182" y="832"/>
                </a:lnTo>
                <a:lnTo>
                  <a:pt x="1176" y="831"/>
                </a:lnTo>
                <a:lnTo>
                  <a:pt x="1169" y="830"/>
                </a:lnTo>
                <a:lnTo>
                  <a:pt x="1163" y="830"/>
                </a:lnTo>
                <a:lnTo>
                  <a:pt x="1158" y="830"/>
                </a:lnTo>
                <a:lnTo>
                  <a:pt x="1153" y="830"/>
                </a:lnTo>
                <a:lnTo>
                  <a:pt x="1147" y="830"/>
                </a:lnTo>
                <a:lnTo>
                  <a:pt x="1143" y="831"/>
                </a:lnTo>
                <a:lnTo>
                  <a:pt x="1139" y="831"/>
                </a:lnTo>
                <a:lnTo>
                  <a:pt x="1085" y="852"/>
                </a:lnTo>
                <a:lnTo>
                  <a:pt x="1077" y="857"/>
                </a:lnTo>
                <a:lnTo>
                  <a:pt x="1066" y="864"/>
                </a:lnTo>
                <a:lnTo>
                  <a:pt x="1058" y="871"/>
                </a:lnTo>
                <a:lnTo>
                  <a:pt x="1054" y="876"/>
                </a:lnTo>
                <a:lnTo>
                  <a:pt x="1031" y="913"/>
                </a:lnTo>
                <a:lnTo>
                  <a:pt x="1028" y="920"/>
                </a:lnTo>
                <a:lnTo>
                  <a:pt x="1026" y="928"/>
                </a:lnTo>
                <a:lnTo>
                  <a:pt x="1023" y="936"/>
                </a:lnTo>
                <a:lnTo>
                  <a:pt x="1021" y="944"/>
                </a:lnTo>
                <a:lnTo>
                  <a:pt x="1024" y="944"/>
                </a:lnTo>
                <a:lnTo>
                  <a:pt x="1031" y="947"/>
                </a:lnTo>
                <a:lnTo>
                  <a:pt x="1043" y="948"/>
                </a:lnTo>
                <a:lnTo>
                  <a:pt x="1057" y="950"/>
                </a:lnTo>
                <a:lnTo>
                  <a:pt x="1070" y="954"/>
                </a:lnTo>
                <a:lnTo>
                  <a:pt x="1081" y="955"/>
                </a:lnTo>
                <a:lnTo>
                  <a:pt x="1090" y="957"/>
                </a:lnTo>
                <a:lnTo>
                  <a:pt x="1095" y="957"/>
                </a:lnTo>
                <a:lnTo>
                  <a:pt x="1097" y="978"/>
                </a:lnTo>
                <a:lnTo>
                  <a:pt x="1089" y="977"/>
                </a:lnTo>
                <a:lnTo>
                  <a:pt x="1079" y="977"/>
                </a:lnTo>
                <a:lnTo>
                  <a:pt x="1066" y="977"/>
                </a:lnTo>
                <a:lnTo>
                  <a:pt x="1053" y="978"/>
                </a:lnTo>
                <a:lnTo>
                  <a:pt x="1041" y="978"/>
                </a:lnTo>
                <a:lnTo>
                  <a:pt x="1030" y="979"/>
                </a:lnTo>
                <a:lnTo>
                  <a:pt x="1022" y="979"/>
                </a:lnTo>
                <a:lnTo>
                  <a:pt x="1020" y="979"/>
                </a:lnTo>
                <a:lnTo>
                  <a:pt x="1021" y="986"/>
                </a:lnTo>
                <a:lnTo>
                  <a:pt x="1023" y="993"/>
                </a:lnTo>
                <a:lnTo>
                  <a:pt x="1026" y="1000"/>
                </a:lnTo>
                <a:lnTo>
                  <a:pt x="1027" y="1007"/>
                </a:lnTo>
                <a:lnTo>
                  <a:pt x="1136" y="984"/>
                </a:lnTo>
                <a:lnTo>
                  <a:pt x="1117" y="1020"/>
                </a:lnTo>
                <a:lnTo>
                  <a:pt x="1111" y="1023"/>
                </a:lnTo>
                <a:lnTo>
                  <a:pt x="1103" y="1029"/>
                </a:lnTo>
                <a:lnTo>
                  <a:pt x="1093" y="1036"/>
                </a:lnTo>
                <a:lnTo>
                  <a:pt x="1083" y="1044"/>
                </a:lnTo>
                <a:lnTo>
                  <a:pt x="1073" y="1052"/>
                </a:lnTo>
                <a:lnTo>
                  <a:pt x="1065" y="1058"/>
                </a:lnTo>
                <a:lnTo>
                  <a:pt x="1058" y="1063"/>
                </a:lnTo>
                <a:lnTo>
                  <a:pt x="1054" y="1064"/>
                </a:lnTo>
                <a:lnTo>
                  <a:pt x="1058" y="1069"/>
                </a:lnTo>
                <a:lnTo>
                  <a:pt x="1063" y="1074"/>
                </a:lnTo>
                <a:lnTo>
                  <a:pt x="1068" y="1079"/>
                </a:lnTo>
                <a:lnTo>
                  <a:pt x="1074" y="1083"/>
                </a:lnTo>
                <a:lnTo>
                  <a:pt x="1080" y="1087"/>
                </a:lnTo>
                <a:lnTo>
                  <a:pt x="1085" y="1089"/>
                </a:lnTo>
                <a:lnTo>
                  <a:pt x="1088" y="1091"/>
                </a:lnTo>
                <a:lnTo>
                  <a:pt x="1089" y="1093"/>
                </a:lnTo>
                <a:lnTo>
                  <a:pt x="1043" y="1093"/>
                </a:lnTo>
                <a:lnTo>
                  <a:pt x="1030" y="1074"/>
                </a:lnTo>
                <a:lnTo>
                  <a:pt x="1022" y="1071"/>
                </a:lnTo>
                <a:lnTo>
                  <a:pt x="1014" y="1068"/>
                </a:lnTo>
                <a:lnTo>
                  <a:pt x="1006" y="1068"/>
                </a:lnTo>
                <a:lnTo>
                  <a:pt x="998" y="1069"/>
                </a:lnTo>
                <a:lnTo>
                  <a:pt x="990" y="1071"/>
                </a:lnTo>
                <a:lnTo>
                  <a:pt x="980" y="1072"/>
                </a:lnTo>
                <a:lnTo>
                  <a:pt x="971" y="1072"/>
                </a:lnTo>
                <a:lnTo>
                  <a:pt x="962" y="1072"/>
                </a:lnTo>
                <a:lnTo>
                  <a:pt x="959" y="1081"/>
                </a:lnTo>
                <a:lnTo>
                  <a:pt x="956" y="1088"/>
                </a:lnTo>
                <a:lnTo>
                  <a:pt x="952" y="1095"/>
                </a:lnTo>
                <a:lnTo>
                  <a:pt x="948" y="1100"/>
                </a:lnTo>
                <a:lnTo>
                  <a:pt x="943" y="1105"/>
                </a:lnTo>
                <a:lnTo>
                  <a:pt x="937" y="1110"/>
                </a:lnTo>
                <a:lnTo>
                  <a:pt x="932" y="1113"/>
                </a:lnTo>
                <a:lnTo>
                  <a:pt x="923" y="1118"/>
                </a:lnTo>
                <a:lnTo>
                  <a:pt x="917" y="1116"/>
                </a:lnTo>
                <a:lnTo>
                  <a:pt x="911" y="1112"/>
                </a:lnTo>
                <a:lnTo>
                  <a:pt x="905" y="1109"/>
                </a:lnTo>
                <a:lnTo>
                  <a:pt x="899" y="1107"/>
                </a:lnTo>
                <a:lnTo>
                  <a:pt x="876" y="1130"/>
                </a:lnTo>
                <a:lnTo>
                  <a:pt x="864" y="1181"/>
                </a:lnTo>
                <a:lnTo>
                  <a:pt x="799" y="1181"/>
                </a:lnTo>
                <a:lnTo>
                  <a:pt x="790" y="1105"/>
                </a:lnTo>
                <a:lnTo>
                  <a:pt x="797" y="1105"/>
                </a:lnTo>
                <a:lnTo>
                  <a:pt x="803" y="1105"/>
                </a:lnTo>
                <a:lnTo>
                  <a:pt x="808" y="1105"/>
                </a:lnTo>
                <a:lnTo>
                  <a:pt x="812" y="1104"/>
                </a:lnTo>
                <a:lnTo>
                  <a:pt x="804" y="985"/>
                </a:lnTo>
                <a:lnTo>
                  <a:pt x="806" y="991"/>
                </a:lnTo>
                <a:lnTo>
                  <a:pt x="811" y="1003"/>
                </a:lnTo>
                <a:lnTo>
                  <a:pt x="817" y="1021"/>
                </a:lnTo>
                <a:lnTo>
                  <a:pt x="825" y="1041"/>
                </a:lnTo>
                <a:lnTo>
                  <a:pt x="832" y="1059"/>
                </a:lnTo>
                <a:lnTo>
                  <a:pt x="840" y="1076"/>
                </a:lnTo>
                <a:lnTo>
                  <a:pt x="845" y="1088"/>
                </a:lnTo>
                <a:lnTo>
                  <a:pt x="848" y="1094"/>
                </a:lnTo>
                <a:lnTo>
                  <a:pt x="854" y="1089"/>
                </a:lnTo>
                <a:lnTo>
                  <a:pt x="862" y="1085"/>
                </a:lnTo>
                <a:lnTo>
                  <a:pt x="869" y="1081"/>
                </a:lnTo>
                <a:lnTo>
                  <a:pt x="871" y="1080"/>
                </a:lnTo>
                <a:lnTo>
                  <a:pt x="870" y="1074"/>
                </a:lnTo>
                <a:lnTo>
                  <a:pt x="868" y="1069"/>
                </a:lnTo>
                <a:lnTo>
                  <a:pt x="864" y="1065"/>
                </a:lnTo>
                <a:lnTo>
                  <a:pt x="862" y="1064"/>
                </a:lnTo>
                <a:lnTo>
                  <a:pt x="904" y="1049"/>
                </a:lnTo>
                <a:lnTo>
                  <a:pt x="908" y="1043"/>
                </a:lnTo>
                <a:lnTo>
                  <a:pt x="914" y="1034"/>
                </a:lnTo>
                <a:lnTo>
                  <a:pt x="920" y="1024"/>
                </a:lnTo>
                <a:lnTo>
                  <a:pt x="922" y="1018"/>
                </a:lnTo>
                <a:lnTo>
                  <a:pt x="917" y="1016"/>
                </a:lnTo>
                <a:lnTo>
                  <a:pt x="906" y="1013"/>
                </a:lnTo>
                <a:lnTo>
                  <a:pt x="892" y="1008"/>
                </a:lnTo>
                <a:lnTo>
                  <a:pt x="877" y="1002"/>
                </a:lnTo>
                <a:lnTo>
                  <a:pt x="863" y="998"/>
                </a:lnTo>
                <a:lnTo>
                  <a:pt x="849" y="994"/>
                </a:lnTo>
                <a:lnTo>
                  <a:pt x="839" y="991"/>
                </a:lnTo>
                <a:lnTo>
                  <a:pt x="832" y="990"/>
                </a:lnTo>
                <a:lnTo>
                  <a:pt x="824" y="972"/>
                </a:lnTo>
                <a:lnTo>
                  <a:pt x="833" y="971"/>
                </a:lnTo>
                <a:lnTo>
                  <a:pt x="848" y="971"/>
                </a:lnTo>
                <a:lnTo>
                  <a:pt x="867" y="970"/>
                </a:lnTo>
                <a:lnTo>
                  <a:pt x="886" y="969"/>
                </a:lnTo>
                <a:lnTo>
                  <a:pt x="905" y="968"/>
                </a:lnTo>
                <a:lnTo>
                  <a:pt x="922" y="968"/>
                </a:lnTo>
                <a:lnTo>
                  <a:pt x="933" y="966"/>
                </a:lnTo>
                <a:lnTo>
                  <a:pt x="937" y="966"/>
                </a:lnTo>
                <a:lnTo>
                  <a:pt x="936" y="959"/>
                </a:lnTo>
                <a:lnTo>
                  <a:pt x="933" y="949"/>
                </a:lnTo>
                <a:lnTo>
                  <a:pt x="929" y="939"/>
                </a:lnTo>
                <a:lnTo>
                  <a:pt x="927" y="933"/>
                </a:lnTo>
                <a:lnTo>
                  <a:pt x="875" y="948"/>
                </a:lnTo>
                <a:lnTo>
                  <a:pt x="852" y="908"/>
                </a:lnTo>
                <a:lnTo>
                  <a:pt x="855" y="907"/>
                </a:lnTo>
                <a:lnTo>
                  <a:pt x="861" y="904"/>
                </a:lnTo>
                <a:lnTo>
                  <a:pt x="869" y="899"/>
                </a:lnTo>
                <a:lnTo>
                  <a:pt x="877" y="895"/>
                </a:lnTo>
                <a:lnTo>
                  <a:pt x="884" y="890"/>
                </a:lnTo>
                <a:lnTo>
                  <a:pt x="891" y="885"/>
                </a:lnTo>
                <a:lnTo>
                  <a:pt x="894" y="881"/>
                </a:lnTo>
                <a:lnTo>
                  <a:pt x="896" y="877"/>
                </a:lnTo>
                <a:lnTo>
                  <a:pt x="891" y="868"/>
                </a:lnTo>
                <a:lnTo>
                  <a:pt x="884" y="860"/>
                </a:lnTo>
                <a:lnTo>
                  <a:pt x="876" y="854"/>
                </a:lnTo>
                <a:lnTo>
                  <a:pt x="867" y="852"/>
                </a:lnTo>
                <a:lnTo>
                  <a:pt x="805" y="948"/>
                </a:lnTo>
                <a:lnTo>
                  <a:pt x="852" y="908"/>
                </a:lnTo>
                <a:lnTo>
                  <a:pt x="875" y="948"/>
                </a:lnTo>
                <a:lnTo>
                  <a:pt x="824" y="972"/>
                </a:lnTo>
                <a:lnTo>
                  <a:pt x="832" y="990"/>
                </a:lnTo>
                <a:lnTo>
                  <a:pt x="904" y="1049"/>
                </a:lnTo>
                <a:lnTo>
                  <a:pt x="862" y="1064"/>
                </a:lnTo>
                <a:lnTo>
                  <a:pt x="859" y="1060"/>
                </a:lnTo>
                <a:lnTo>
                  <a:pt x="852" y="1052"/>
                </a:lnTo>
                <a:lnTo>
                  <a:pt x="843" y="1039"/>
                </a:lnTo>
                <a:lnTo>
                  <a:pt x="833" y="1024"/>
                </a:lnTo>
                <a:lnTo>
                  <a:pt x="824" y="1010"/>
                </a:lnTo>
                <a:lnTo>
                  <a:pt x="816" y="998"/>
                </a:lnTo>
                <a:lnTo>
                  <a:pt x="809" y="988"/>
                </a:lnTo>
                <a:lnTo>
                  <a:pt x="804" y="985"/>
                </a:lnTo>
                <a:lnTo>
                  <a:pt x="812" y="1104"/>
                </a:lnTo>
                <a:lnTo>
                  <a:pt x="809" y="1085"/>
                </a:lnTo>
                <a:lnTo>
                  <a:pt x="802" y="1052"/>
                </a:lnTo>
                <a:lnTo>
                  <a:pt x="795" y="1017"/>
                </a:lnTo>
                <a:lnTo>
                  <a:pt x="789" y="993"/>
                </a:lnTo>
                <a:lnTo>
                  <a:pt x="770" y="995"/>
                </a:lnTo>
                <a:lnTo>
                  <a:pt x="747" y="1014"/>
                </a:lnTo>
                <a:lnTo>
                  <a:pt x="765" y="979"/>
                </a:lnTo>
                <a:lnTo>
                  <a:pt x="726" y="973"/>
                </a:lnTo>
                <a:lnTo>
                  <a:pt x="725" y="952"/>
                </a:lnTo>
                <a:lnTo>
                  <a:pt x="729" y="952"/>
                </a:lnTo>
                <a:lnTo>
                  <a:pt x="733" y="954"/>
                </a:lnTo>
                <a:lnTo>
                  <a:pt x="738" y="955"/>
                </a:lnTo>
                <a:lnTo>
                  <a:pt x="745" y="956"/>
                </a:lnTo>
                <a:lnTo>
                  <a:pt x="751" y="957"/>
                </a:lnTo>
                <a:lnTo>
                  <a:pt x="755" y="958"/>
                </a:lnTo>
                <a:lnTo>
                  <a:pt x="760" y="959"/>
                </a:lnTo>
                <a:lnTo>
                  <a:pt x="763" y="961"/>
                </a:lnTo>
                <a:lnTo>
                  <a:pt x="759" y="957"/>
                </a:lnTo>
                <a:lnTo>
                  <a:pt x="747" y="951"/>
                </a:lnTo>
                <a:lnTo>
                  <a:pt x="731" y="943"/>
                </a:lnTo>
                <a:lnTo>
                  <a:pt x="712" y="934"/>
                </a:lnTo>
                <a:lnTo>
                  <a:pt x="693" y="925"/>
                </a:lnTo>
                <a:lnTo>
                  <a:pt x="676" y="917"/>
                </a:lnTo>
                <a:lnTo>
                  <a:pt x="665" y="911"/>
                </a:lnTo>
                <a:lnTo>
                  <a:pt x="660" y="908"/>
                </a:lnTo>
                <a:lnTo>
                  <a:pt x="685" y="871"/>
                </a:lnTo>
                <a:lnTo>
                  <a:pt x="692" y="875"/>
                </a:lnTo>
                <a:lnTo>
                  <a:pt x="702" y="884"/>
                </a:lnTo>
                <a:lnTo>
                  <a:pt x="716" y="895"/>
                </a:lnTo>
                <a:lnTo>
                  <a:pt x="732" y="907"/>
                </a:lnTo>
                <a:lnTo>
                  <a:pt x="747" y="920"/>
                </a:lnTo>
                <a:lnTo>
                  <a:pt x="760" y="930"/>
                </a:lnTo>
                <a:lnTo>
                  <a:pt x="769" y="937"/>
                </a:lnTo>
                <a:lnTo>
                  <a:pt x="773" y="940"/>
                </a:lnTo>
                <a:lnTo>
                  <a:pt x="715" y="847"/>
                </a:lnTo>
                <a:lnTo>
                  <a:pt x="768" y="826"/>
                </a:lnTo>
                <a:lnTo>
                  <a:pt x="790" y="941"/>
                </a:lnTo>
                <a:lnTo>
                  <a:pt x="811" y="826"/>
                </a:lnTo>
                <a:lnTo>
                  <a:pt x="805" y="825"/>
                </a:lnTo>
                <a:lnTo>
                  <a:pt x="799" y="825"/>
                </a:lnTo>
                <a:lnTo>
                  <a:pt x="794" y="824"/>
                </a:lnTo>
                <a:lnTo>
                  <a:pt x="788" y="824"/>
                </a:lnTo>
                <a:lnTo>
                  <a:pt x="782" y="825"/>
                </a:lnTo>
                <a:lnTo>
                  <a:pt x="777" y="825"/>
                </a:lnTo>
                <a:lnTo>
                  <a:pt x="773" y="826"/>
                </a:lnTo>
                <a:lnTo>
                  <a:pt x="768" y="826"/>
                </a:lnTo>
                <a:lnTo>
                  <a:pt x="715" y="847"/>
                </a:lnTo>
                <a:lnTo>
                  <a:pt x="707" y="853"/>
                </a:lnTo>
                <a:lnTo>
                  <a:pt x="696" y="860"/>
                </a:lnTo>
                <a:lnTo>
                  <a:pt x="688" y="867"/>
                </a:lnTo>
                <a:lnTo>
                  <a:pt x="685" y="871"/>
                </a:lnTo>
                <a:lnTo>
                  <a:pt x="660" y="908"/>
                </a:lnTo>
                <a:lnTo>
                  <a:pt x="658" y="914"/>
                </a:lnTo>
                <a:lnTo>
                  <a:pt x="656" y="922"/>
                </a:lnTo>
                <a:lnTo>
                  <a:pt x="653" y="932"/>
                </a:lnTo>
                <a:lnTo>
                  <a:pt x="651" y="940"/>
                </a:lnTo>
                <a:lnTo>
                  <a:pt x="654" y="940"/>
                </a:lnTo>
                <a:lnTo>
                  <a:pt x="661" y="942"/>
                </a:lnTo>
                <a:lnTo>
                  <a:pt x="673" y="943"/>
                </a:lnTo>
                <a:lnTo>
                  <a:pt x="687" y="946"/>
                </a:lnTo>
                <a:lnTo>
                  <a:pt x="700" y="949"/>
                </a:lnTo>
                <a:lnTo>
                  <a:pt x="711" y="950"/>
                </a:lnTo>
                <a:lnTo>
                  <a:pt x="721" y="952"/>
                </a:lnTo>
                <a:lnTo>
                  <a:pt x="725" y="952"/>
                </a:lnTo>
                <a:lnTo>
                  <a:pt x="726" y="973"/>
                </a:lnTo>
                <a:lnTo>
                  <a:pt x="719" y="972"/>
                </a:lnTo>
                <a:lnTo>
                  <a:pt x="708" y="972"/>
                </a:lnTo>
                <a:lnTo>
                  <a:pt x="696" y="972"/>
                </a:lnTo>
                <a:lnTo>
                  <a:pt x="682" y="973"/>
                </a:lnTo>
                <a:lnTo>
                  <a:pt x="670" y="973"/>
                </a:lnTo>
                <a:lnTo>
                  <a:pt x="659" y="974"/>
                </a:lnTo>
                <a:lnTo>
                  <a:pt x="651" y="974"/>
                </a:lnTo>
                <a:lnTo>
                  <a:pt x="649" y="974"/>
                </a:lnTo>
                <a:lnTo>
                  <a:pt x="650" y="981"/>
                </a:lnTo>
                <a:lnTo>
                  <a:pt x="652" y="988"/>
                </a:lnTo>
                <a:lnTo>
                  <a:pt x="654" y="995"/>
                </a:lnTo>
                <a:lnTo>
                  <a:pt x="656" y="1002"/>
                </a:lnTo>
                <a:lnTo>
                  <a:pt x="765" y="979"/>
                </a:lnTo>
                <a:lnTo>
                  <a:pt x="747" y="1014"/>
                </a:lnTo>
                <a:lnTo>
                  <a:pt x="740" y="1017"/>
                </a:lnTo>
                <a:lnTo>
                  <a:pt x="732" y="1023"/>
                </a:lnTo>
                <a:lnTo>
                  <a:pt x="723" y="1031"/>
                </a:lnTo>
                <a:lnTo>
                  <a:pt x="712" y="1039"/>
                </a:lnTo>
                <a:lnTo>
                  <a:pt x="703" y="1046"/>
                </a:lnTo>
                <a:lnTo>
                  <a:pt x="694" y="1053"/>
                </a:lnTo>
                <a:lnTo>
                  <a:pt x="688" y="1058"/>
                </a:lnTo>
                <a:lnTo>
                  <a:pt x="685" y="1059"/>
                </a:lnTo>
                <a:lnTo>
                  <a:pt x="688" y="1065"/>
                </a:lnTo>
                <a:lnTo>
                  <a:pt x="693" y="1069"/>
                </a:lnTo>
                <a:lnTo>
                  <a:pt x="699" y="1074"/>
                </a:lnTo>
                <a:lnTo>
                  <a:pt x="704" y="1079"/>
                </a:lnTo>
                <a:lnTo>
                  <a:pt x="710" y="1082"/>
                </a:lnTo>
                <a:lnTo>
                  <a:pt x="715" y="1085"/>
                </a:lnTo>
                <a:lnTo>
                  <a:pt x="718" y="1087"/>
                </a:lnTo>
                <a:lnTo>
                  <a:pt x="719" y="1088"/>
                </a:lnTo>
                <a:lnTo>
                  <a:pt x="723" y="1086"/>
                </a:lnTo>
                <a:lnTo>
                  <a:pt x="730" y="1078"/>
                </a:lnTo>
                <a:lnTo>
                  <a:pt x="737" y="1064"/>
                </a:lnTo>
                <a:lnTo>
                  <a:pt x="745" y="1047"/>
                </a:lnTo>
                <a:lnTo>
                  <a:pt x="753" y="1031"/>
                </a:lnTo>
                <a:lnTo>
                  <a:pt x="760" y="1015"/>
                </a:lnTo>
                <a:lnTo>
                  <a:pt x="767" y="1002"/>
                </a:lnTo>
                <a:lnTo>
                  <a:pt x="770" y="995"/>
                </a:lnTo>
                <a:lnTo>
                  <a:pt x="789" y="993"/>
                </a:lnTo>
                <a:lnTo>
                  <a:pt x="785" y="1013"/>
                </a:lnTo>
                <a:lnTo>
                  <a:pt x="780" y="1049"/>
                </a:lnTo>
                <a:lnTo>
                  <a:pt x="774" y="1085"/>
                </a:lnTo>
                <a:lnTo>
                  <a:pt x="773" y="1104"/>
                </a:lnTo>
                <a:lnTo>
                  <a:pt x="777" y="1104"/>
                </a:lnTo>
                <a:lnTo>
                  <a:pt x="782" y="1104"/>
                </a:lnTo>
                <a:lnTo>
                  <a:pt x="785" y="1105"/>
                </a:lnTo>
                <a:lnTo>
                  <a:pt x="790" y="1105"/>
                </a:lnTo>
                <a:lnTo>
                  <a:pt x="799" y="1181"/>
                </a:lnTo>
                <a:lnTo>
                  <a:pt x="752" y="1181"/>
                </a:lnTo>
                <a:lnTo>
                  <a:pt x="707" y="1130"/>
                </a:lnTo>
                <a:lnTo>
                  <a:pt x="704" y="1129"/>
                </a:lnTo>
                <a:lnTo>
                  <a:pt x="700" y="1124"/>
                </a:lnTo>
                <a:lnTo>
                  <a:pt x="693" y="1118"/>
                </a:lnTo>
                <a:lnTo>
                  <a:pt x="683" y="1109"/>
                </a:lnTo>
                <a:lnTo>
                  <a:pt x="674" y="1100"/>
                </a:lnTo>
                <a:lnTo>
                  <a:pt x="665" y="1088"/>
                </a:lnTo>
                <a:lnTo>
                  <a:pt x="658" y="1076"/>
                </a:lnTo>
                <a:lnTo>
                  <a:pt x="652" y="1064"/>
                </a:lnTo>
                <a:lnTo>
                  <a:pt x="646" y="1069"/>
                </a:lnTo>
                <a:lnTo>
                  <a:pt x="644" y="1076"/>
                </a:lnTo>
                <a:lnTo>
                  <a:pt x="642" y="1086"/>
                </a:lnTo>
                <a:lnTo>
                  <a:pt x="639" y="1093"/>
                </a:lnTo>
                <a:lnTo>
                  <a:pt x="631" y="1096"/>
                </a:lnTo>
                <a:lnTo>
                  <a:pt x="614" y="1098"/>
                </a:lnTo>
                <a:lnTo>
                  <a:pt x="590" y="1100"/>
                </a:lnTo>
                <a:lnTo>
                  <a:pt x="562" y="1101"/>
                </a:lnTo>
                <a:lnTo>
                  <a:pt x="532" y="1102"/>
                </a:lnTo>
                <a:lnTo>
                  <a:pt x="501" y="1102"/>
                </a:lnTo>
                <a:lnTo>
                  <a:pt x="476" y="1102"/>
                </a:lnTo>
                <a:lnTo>
                  <a:pt x="455" y="1102"/>
                </a:lnTo>
                <a:lnTo>
                  <a:pt x="448" y="1110"/>
                </a:lnTo>
                <a:lnTo>
                  <a:pt x="441" y="1117"/>
                </a:lnTo>
                <a:lnTo>
                  <a:pt x="433" y="1124"/>
                </a:lnTo>
                <a:lnTo>
                  <a:pt x="425" y="1130"/>
                </a:lnTo>
                <a:lnTo>
                  <a:pt x="707" y="1130"/>
                </a:lnTo>
                <a:lnTo>
                  <a:pt x="752" y="1181"/>
                </a:lnTo>
                <a:lnTo>
                  <a:pt x="734" y="1181"/>
                </a:lnTo>
                <a:lnTo>
                  <a:pt x="704" y="1182"/>
                </a:lnTo>
                <a:lnTo>
                  <a:pt x="664" y="1182"/>
                </a:lnTo>
                <a:lnTo>
                  <a:pt x="614" y="1182"/>
                </a:lnTo>
                <a:lnTo>
                  <a:pt x="557" y="1182"/>
                </a:lnTo>
                <a:lnTo>
                  <a:pt x="496" y="1182"/>
                </a:lnTo>
                <a:lnTo>
                  <a:pt x="431" y="1182"/>
                </a:lnTo>
                <a:lnTo>
                  <a:pt x="365" y="1182"/>
                </a:lnTo>
                <a:lnTo>
                  <a:pt x="298" y="1182"/>
                </a:lnTo>
                <a:lnTo>
                  <a:pt x="236" y="1182"/>
                </a:lnTo>
                <a:lnTo>
                  <a:pt x="177" y="1181"/>
                </a:lnTo>
                <a:lnTo>
                  <a:pt x="125" y="1181"/>
                </a:lnTo>
                <a:lnTo>
                  <a:pt x="80" y="1181"/>
                </a:lnTo>
                <a:lnTo>
                  <a:pt x="47" y="1181"/>
                </a:lnTo>
                <a:lnTo>
                  <a:pt x="26" y="1181"/>
                </a:lnTo>
                <a:lnTo>
                  <a:pt x="18" y="1181"/>
                </a:lnTo>
                <a:lnTo>
                  <a:pt x="18" y="1130"/>
                </a:lnTo>
                <a:lnTo>
                  <a:pt x="253" y="1130"/>
                </a:lnTo>
                <a:lnTo>
                  <a:pt x="245" y="1122"/>
                </a:lnTo>
                <a:lnTo>
                  <a:pt x="238" y="1113"/>
                </a:lnTo>
                <a:lnTo>
                  <a:pt x="230" y="1105"/>
                </a:lnTo>
                <a:lnTo>
                  <a:pt x="223" y="1097"/>
                </a:lnTo>
                <a:lnTo>
                  <a:pt x="216" y="1089"/>
                </a:lnTo>
                <a:lnTo>
                  <a:pt x="210" y="1080"/>
                </a:lnTo>
                <a:lnTo>
                  <a:pt x="205" y="1071"/>
                </a:lnTo>
                <a:lnTo>
                  <a:pt x="201" y="1061"/>
                </a:lnTo>
                <a:lnTo>
                  <a:pt x="189" y="1037"/>
                </a:lnTo>
                <a:lnTo>
                  <a:pt x="184" y="1008"/>
                </a:lnTo>
                <a:lnTo>
                  <a:pt x="180" y="979"/>
                </a:lnTo>
                <a:lnTo>
                  <a:pt x="178" y="957"/>
                </a:lnTo>
                <a:lnTo>
                  <a:pt x="210" y="948"/>
                </a:lnTo>
                <a:lnTo>
                  <a:pt x="213" y="956"/>
                </a:lnTo>
                <a:lnTo>
                  <a:pt x="214" y="980"/>
                </a:lnTo>
                <a:lnTo>
                  <a:pt x="214" y="986"/>
                </a:lnTo>
                <a:lnTo>
                  <a:pt x="216" y="993"/>
                </a:lnTo>
                <a:lnTo>
                  <a:pt x="218" y="999"/>
                </a:lnTo>
                <a:lnTo>
                  <a:pt x="221" y="1003"/>
                </a:lnTo>
                <a:lnTo>
                  <a:pt x="227" y="1002"/>
                </a:lnTo>
                <a:lnTo>
                  <a:pt x="234" y="1001"/>
                </a:lnTo>
                <a:lnTo>
                  <a:pt x="242" y="999"/>
                </a:lnTo>
                <a:lnTo>
                  <a:pt x="250" y="996"/>
                </a:lnTo>
                <a:lnTo>
                  <a:pt x="257" y="994"/>
                </a:lnTo>
                <a:lnTo>
                  <a:pt x="264" y="992"/>
                </a:lnTo>
                <a:lnTo>
                  <a:pt x="269" y="990"/>
                </a:lnTo>
                <a:lnTo>
                  <a:pt x="273" y="986"/>
                </a:lnTo>
                <a:lnTo>
                  <a:pt x="288" y="1014"/>
                </a:lnTo>
                <a:lnTo>
                  <a:pt x="281" y="1015"/>
                </a:lnTo>
                <a:lnTo>
                  <a:pt x="273" y="1016"/>
                </a:lnTo>
                <a:lnTo>
                  <a:pt x="265" y="1017"/>
                </a:lnTo>
                <a:lnTo>
                  <a:pt x="257" y="1020"/>
                </a:lnTo>
                <a:lnTo>
                  <a:pt x="247" y="1022"/>
                </a:lnTo>
                <a:lnTo>
                  <a:pt x="241" y="1024"/>
                </a:lnTo>
                <a:lnTo>
                  <a:pt x="232" y="1027"/>
                </a:lnTo>
                <a:lnTo>
                  <a:pt x="225" y="1029"/>
                </a:lnTo>
                <a:lnTo>
                  <a:pt x="227" y="1037"/>
                </a:lnTo>
                <a:lnTo>
                  <a:pt x="229" y="1044"/>
                </a:lnTo>
                <a:lnTo>
                  <a:pt x="231" y="1050"/>
                </a:lnTo>
                <a:lnTo>
                  <a:pt x="237" y="1056"/>
                </a:lnTo>
                <a:lnTo>
                  <a:pt x="252" y="1079"/>
                </a:lnTo>
                <a:lnTo>
                  <a:pt x="256" y="1083"/>
                </a:lnTo>
                <a:lnTo>
                  <a:pt x="264" y="1090"/>
                </a:lnTo>
                <a:lnTo>
                  <a:pt x="274" y="1097"/>
                </a:lnTo>
                <a:lnTo>
                  <a:pt x="283" y="1104"/>
                </a:lnTo>
                <a:lnTo>
                  <a:pt x="323" y="1120"/>
                </a:lnTo>
                <a:lnTo>
                  <a:pt x="327" y="1120"/>
                </a:lnTo>
                <a:lnTo>
                  <a:pt x="332" y="1120"/>
                </a:lnTo>
                <a:lnTo>
                  <a:pt x="338" y="1120"/>
                </a:lnTo>
                <a:lnTo>
                  <a:pt x="344" y="1120"/>
                </a:lnTo>
                <a:lnTo>
                  <a:pt x="349" y="1119"/>
                </a:lnTo>
                <a:lnTo>
                  <a:pt x="355" y="1118"/>
                </a:lnTo>
                <a:lnTo>
                  <a:pt x="359" y="1116"/>
                </a:lnTo>
                <a:lnTo>
                  <a:pt x="361" y="1112"/>
                </a:lnTo>
                <a:lnTo>
                  <a:pt x="356" y="1104"/>
                </a:lnTo>
                <a:lnTo>
                  <a:pt x="351" y="1096"/>
                </a:lnTo>
                <a:lnTo>
                  <a:pt x="344" y="1090"/>
                </a:lnTo>
                <a:lnTo>
                  <a:pt x="337" y="1085"/>
                </a:lnTo>
                <a:lnTo>
                  <a:pt x="333" y="1093"/>
                </a:lnTo>
                <a:lnTo>
                  <a:pt x="329" y="1104"/>
                </a:lnTo>
                <a:lnTo>
                  <a:pt x="325" y="1116"/>
                </a:lnTo>
                <a:lnTo>
                  <a:pt x="323" y="1120"/>
                </a:lnTo>
                <a:lnTo>
                  <a:pt x="283" y="1104"/>
                </a:lnTo>
                <a:lnTo>
                  <a:pt x="290" y="1089"/>
                </a:lnTo>
                <a:lnTo>
                  <a:pt x="300" y="1073"/>
                </a:lnTo>
                <a:lnTo>
                  <a:pt x="305" y="1056"/>
                </a:lnTo>
                <a:lnTo>
                  <a:pt x="308" y="1039"/>
                </a:lnTo>
                <a:lnTo>
                  <a:pt x="301" y="1043"/>
                </a:lnTo>
                <a:lnTo>
                  <a:pt x="293" y="1049"/>
                </a:lnTo>
                <a:lnTo>
                  <a:pt x="285" y="1054"/>
                </a:lnTo>
                <a:lnTo>
                  <a:pt x="275" y="1061"/>
                </a:lnTo>
                <a:lnTo>
                  <a:pt x="266" y="1067"/>
                </a:lnTo>
                <a:lnTo>
                  <a:pt x="259" y="1073"/>
                </a:lnTo>
                <a:lnTo>
                  <a:pt x="254" y="1076"/>
                </a:lnTo>
                <a:lnTo>
                  <a:pt x="252" y="1079"/>
                </a:lnTo>
                <a:lnTo>
                  <a:pt x="237" y="1056"/>
                </a:lnTo>
                <a:lnTo>
                  <a:pt x="243" y="1051"/>
                </a:lnTo>
                <a:lnTo>
                  <a:pt x="249" y="1047"/>
                </a:lnTo>
                <a:lnTo>
                  <a:pt x="256" y="1043"/>
                </a:lnTo>
                <a:lnTo>
                  <a:pt x="263" y="1038"/>
                </a:lnTo>
                <a:lnTo>
                  <a:pt x="269" y="1034"/>
                </a:lnTo>
                <a:lnTo>
                  <a:pt x="276" y="1028"/>
                </a:lnTo>
                <a:lnTo>
                  <a:pt x="282" y="1023"/>
                </a:lnTo>
                <a:lnTo>
                  <a:pt x="288" y="1018"/>
                </a:lnTo>
                <a:lnTo>
                  <a:pt x="288" y="1014"/>
                </a:lnTo>
                <a:lnTo>
                  <a:pt x="273" y="986"/>
                </a:lnTo>
                <a:lnTo>
                  <a:pt x="267" y="985"/>
                </a:lnTo>
                <a:lnTo>
                  <a:pt x="260" y="983"/>
                </a:lnTo>
                <a:lnTo>
                  <a:pt x="252" y="981"/>
                </a:lnTo>
                <a:lnTo>
                  <a:pt x="244" y="980"/>
                </a:lnTo>
                <a:lnTo>
                  <a:pt x="235" y="980"/>
                </a:lnTo>
                <a:lnTo>
                  <a:pt x="227" y="979"/>
                </a:lnTo>
                <a:lnTo>
                  <a:pt x="220" y="979"/>
                </a:lnTo>
                <a:lnTo>
                  <a:pt x="214" y="980"/>
                </a:lnTo>
                <a:lnTo>
                  <a:pt x="213" y="956"/>
                </a:lnTo>
                <a:lnTo>
                  <a:pt x="217" y="957"/>
                </a:lnTo>
                <a:lnTo>
                  <a:pt x="225" y="956"/>
                </a:lnTo>
                <a:lnTo>
                  <a:pt x="235" y="954"/>
                </a:lnTo>
                <a:lnTo>
                  <a:pt x="244" y="950"/>
                </a:lnTo>
                <a:lnTo>
                  <a:pt x="253" y="947"/>
                </a:lnTo>
                <a:lnTo>
                  <a:pt x="261" y="942"/>
                </a:lnTo>
                <a:lnTo>
                  <a:pt x="267" y="939"/>
                </a:lnTo>
                <a:lnTo>
                  <a:pt x="269" y="935"/>
                </a:lnTo>
                <a:lnTo>
                  <a:pt x="210" y="937"/>
                </a:lnTo>
                <a:lnTo>
                  <a:pt x="210" y="948"/>
                </a:lnTo>
                <a:lnTo>
                  <a:pt x="178" y="957"/>
                </a:lnTo>
                <a:lnTo>
                  <a:pt x="152" y="956"/>
                </a:lnTo>
                <a:lnTo>
                  <a:pt x="145" y="964"/>
                </a:lnTo>
                <a:lnTo>
                  <a:pt x="135" y="970"/>
                </a:lnTo>
                <a:lnTo>
                  <a:pt x="125" y="973"/>
                </a:lnTo>
                <a:lnTo>
                  <a:pt x="120" y="974"/>
                </a:lnTo>
                <a:lnTo>
                  <a:pt x="122" y="1061"/>
                </a:lnTo>
                <a:lnTo>
                  <a:pt x="87" y="1065"/>
                </a:lnTo>
                <a:lnTo>
                  <a:pt x="87" y="1046"/>
                </a:lnTo>
                <a:lnTo>
                  <a:pt x="86" y="1007"/>
                </a:lnTo>
                <a:lnTo>
                  <a:pt x="85" y="965"/>
                </a:lnTo>
                <a:lnTo>
                  <a:pt x="86" y="946"/>
                </a:lnTo>
                <a:lnTo>
                  <a:pt x="96" y="940"/>
                </a:lnTo>
                <a:lnTo>
                  <a:pt x="103" y="933"/>
                </a:lnTo>
                <a:lnTo>
                  <a:pt x="108" y="923"/>
                </a:lnTo>
                <a:lnTo>
                  <a:pt x="108" y="913"/>
                </a:lnTo>
                <a:lnTo>
                  <a:pt x="109" y="847"/>
                </a:lnTo>
                <a:lnTo>
                  <a:pt x="111" y="699"/>
                </a:lnTo>
                <a:lnTo>
                  <a:pt x="111" y="545"/>
                </a:lnTo>
                <a:lnTo>
                  <a:pt x="108" y="461"/>
                </a:lnTo>
                <a:lnTo>
                  <a:pt x="162" y="457"/>
                </a:lnTo>
                <a:lnTo>
                  <a:pt x="159" y="493"/>
                </a:lnTo>
                <a:lnTo>
                  <a:pt x="160" y="540"/>
                </a:lnTo>
                <a:lnTo>
                  <a:pt x="163" y="582"/>
                </a:lnTo>
                <a:lnTo>
                  <a:pt x="164" y="599"/>
                </a:lnTo>
                <a:lnTo>
                  <a:pt x="173" y="600"/>
                </a:lnTo>
                <a:lnTo>
                  <a:pt x="184" y="600"/>
                </a:lnTo>
                <a:lnTo>
                  <a:pt x="193" y="600"/>
                </a:lnTo>
                <a:lnTo>
                  <a:pt x="202" y="600"/>
                </a:lnTo>
                <a:lnTo>
                  <a:pt x="212" y="599"/>
                </a:lnTo>
                <a:lnTo>
                  <a:pt x="221" y="599"/>
                </a:lnTo>
                <a:lnTo>
                  <a:pt x="231" y="599"/>
                </a:lnTo>
                <a:lnTo>
                  <a:pt x="241" y="599"/>
                </a:lnTo>
                <a:lnTo>
                  <a:pt x="241" y="457"/>
                </a:lnTo>
                <a:lnTo>
                  <a:pt x="304" y="457"/>
                </a:lnTo>
                <a:lnTo>
                  <a:pt x="307" y="484"/>
                </a:lnTo>
                <a:lnTo>
                  <a:pt x="305" y="512"/>
                </a:lnTo>
                <a:lnTo>
                  <a:pt x="305" y="540"/>
                </a:lnTo>
                <a:lnTo>
                  <a:pt x="307" y="566"/>
                </a:lnTo>
                <a:lnTo>
                  <a:pt x="309" y="563"/>
                </a:lnTo>
                <a:lnTo>
                  <a:pt x="314" y="556"/>
                </a:lnTo>
                <a:lnTo>
                  <a:pt x="319" y="547"/>
                </a:lnTo>
                <a:lnTo>
                  <a:pt x="327" y="537"/>
                </a:lnTo>
                <a:lnTo>
                  <a:pt x="336" y="526"/>
                </a:lnTo>
                <a:lnTo>
                  <a:pt x="345" y="517"/>
                </a:lnTo>
                <a:lnTo>
                  <a:pt x="355" y="511"/>
                </a:lnTo>
                <a:lnTo>
                  <a:pt x="366" y="5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0" name=""/>
          <p:cNvGrpSpPr/>
          <p:nvPr/>
        </p:nvGrpSpPr>
        <p:grpSpPr>
          <a:xfrm>
            <a:off x="825480" y="3716280"/>
            <a:ext cx="2008080" cy="647640"/>
            <a:chOff x="825480" y="3716280"/>
            <a:chExt cx="2008080" cy="647640"/>
          </a:xfrm>
        </p:grpSpPr>
        <p:sp>
          <p:nvSpPr>
            <p:cNvPr id="2401" name=""/>
            <p:cNvSpPr/>
            <p:nvPr/>
          </p:nvSpPr>
          <p:spPr>
            <a:xfrm rot="16200000">
              <a:off x="1655640" y="3392280"/>
              <a:ext cx="287280" cy="1655640"/>
            </a:xfrm>
            <a:custGeom>
              <a:avLst/>
              <a:gdLst>
                <a:gd name="textAreaLeft" fmla="*/ 0 w 287280"/>
                <a:gd name="textAreaRight" fmla="*/ 103680 w 287280"/>
                <a:gd name="textAreaTop" fmla="*/ 42840 h 1655640"/>
                <a:gd name="textAreaBottom" fmla="*/ 161280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825480" y="3716280"/>
              <a:ext cx="200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y re-evalu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3" name=""/>
          <p:cNvGrpSpPr/>
          <p:nvPr/>
        </p:nvGrpSpPr>
        <p:grpSpPr>
          <a:xfrm>
            <a:off x="1332000" y="4508640"/>
            <a:ext cx="915120" cy="743400"/>
            <a:chOff x="1332000" y="4508640"/>
            <a:chExt cx="915120" cy="743400"/>
          </a:xfrm>
        </p:grpSpPr>
        <p:sp>
          <p:nvSpPr>
            <p:cNvPr id="2404" name=""/>
            <p:cNvSpPr/>
            <p:nvPr/>
          </p:nvSpPr>
          <p:spPr>
            <a:xfrm flipH="1" rot="234600">
              <a:off x="1547280" y="4795560"/>
              <a:ext cx="685440" cy="433440"/>
            </a:xfrm>
            <a:custGeom>
              <a:avLst/>
              <a:gdLst/>
              <a:ahLst/>
              <a:rect l="l" t="t" r="r" b="b"/>
              <a:pathLst>
                <a:path w="2301" h="1182">
                  <a:moveTo>
                    <a:pt x="366" y="509"/>
                  </a:moveTo>
                  <a:lnTo>
                    <a:pt x="366" y="495"/>
                  </a:lnTo>
                  <a:lnTo>
                    <a:pt x="368" y="481"/>
                  </a:lnTo>
                  <a:lnTo>
                    <a:pt x="373" y="468"/>
                  </a:lnTo>
                  <a:lnTo>
                    <a:pt x="380" y="457"/>
                  </a:lnTo>
                  <a:lnTo>
                    <a:pt x="445" y="466"/>
                  </a:lnTo>
                  <a:lnTo>
                    <a:pt x="446" y="479"/>
                  </a:lnTo>
                  <a:lnTo>
                    <a:pt x="446" y="496"/>
                  </a:lnTo>
                  <a:lnTo>
                    <a:pt x="450" y="510"/>
                  </a:lnTo>
                  <a:lnTo>
                    <a:pt x="462" y="513"/>
                  </a:lnTo>
                  <a:lnTo>
                    <a:pt x="462" y="508"/>
                  </a:lnTo>
                  <a:lnTo>
                    <a:pt x="462" y="502"/>
                  </a:lnTo>
                  <a:lnTo>
                    <a:pt x="462" y="496"/>
                  </a:lnTo>
                  <a:lnTo>
                    <a:pt x="458" y="491"/>
                  </a:lnTo>
                  <a:lnTo>
                    <a:pt x="461" y="487"/>
                  </a:lnTo>
                  <a:lnTo>
                    <a:pt x="464" y="482"/>
                  </a:lnTo>
                  <a:lnTo>
                    <a:pt x="468" y="480"/>
                  </a:lnTo>
                  <a:lnTo>
                    <a:pt x="472" y="477"/>
                  </a:lnTo>
                  <a:lnTo>
                    <a:pt x="475" y="468"/>
                  </a:lnTo>
                  <a:lnTo>
                    <a:pt x="477" y="458"/>
                  </a:lnTo>
                  <a:lnTo>
                    <a:pt x="476" y="447"/>
                  </a:lnTo>
                  <a:lnTo>
                    <a:pt x="474" y="437"/>
                  </a:lnTo>
                  <a:lnTo>
                    <a:pt x="471" y="436"/>
                  </a:lnTo>
                  <a:lnTo>
                    <a:pt x="470" y="436"/>
                  </a:lnTo>
                  <a:lnTo>
                    <a:pt x="469" y="436"/>
                  </a:lnTo>
                  <a:lnTo>
                    <a:pt x="470" y="436"/>
                  </a:lnTo>
                  <a:lnTo>
                    <a:pt x="453" y="435"/>
                  </a:lnTo>
                  <a:lnTo>
                    <a:pt x="448" y="442"/>
                  </a:lnTo>
                  <a:lnTo>
                    <a:pt x="448" y="454"/>
                  </a:lnTo>
                  <a:lnTo>
                    <a:pt x="445" y="466"/>
                  </a:lnTo>
                  <a:lnTo>
                    <a:pt x="380" y="457"/>
                  </a:lnTo>
                  <a:lnTo>
                    <a:pt x="304" y="457"/>
                  </a:lnTo>
                  <a:lnTo>
                    <a:pt x="241" y="457"/>
                  </a:lnTo>
                  <a:lnTo>
                    <a:pt x="237" y="458"/>
                  </a:lnTo>
                  <a:lnTo>
                    <a:pt x="228" y="458"/>
                  </a:lnTo>
                  <a:lnTo>
                    <a:pt x="215" y="458"/>
                  </a:lnTo>
                  <a:lnTo>
                    <a:pt x="201" y="458"/>
                  </a:lnTo>
                  <a:lnTo>
                    <a:pt x="187" y="458"/>
                  </a:lnTo>
                  <a:lnTo>
                    <a:pt x="174" y="457"/>
                  </a:lnTo>
                  <a:lnTo>
                    <a:pt x="165" y="457"/>
                  </a:lnTo>
                  <a:lnTo>
                    <a:pt x="162" y="457"/>
                  </a:lnTo>
                  <a:lnTo>
                    <a:pt x="108" y="461"/>
                  </a:lnTo>
                  <a:lnTo>
                    <a:pt x="103" y="459"/>
                  </a:lnTo>
                  <a:lnTo>
                    <a:pt x="99" y="457"/>
                  </a:lnTo>
                  <a:lnTo>
                    <a:pt x="96" y="452"/>
                  </a:lnTo>
                  <a:lnTo>
                    <a:pt x="97" y="446"/>
                  </a:lnTo>
                  <a:lnTo>
                    <a:pt x="91" y="447"/>
                  </a:lnTo>
                  <a:lnTo>
                    <a:pt x="86" y="450"/>
                  </a:lnTo>
                  <a:lnTo>
                    <a:pt x="80" y="451"/>
                  </a:lnTo>
                  <a:lnTo>
                    <a:pt x="74" y="447"/>
                  </a:lnTo>
                  <a:lnTo>
                    <a:pt x="71" y="439"/>
                  </a:lnTo>
                  <a:lnTo>
                    <a:pt x="67" y="431"/>
                  </a:lnTo>
                  <a:lnTo>
                    <a:pt x="61" y="426"/>
                  </a:lnTo>
                  <a:lnTo>
                    <a:pt x="53" y="429"/>
                  </a:lnTo>
                  <a:lnTo>
                    <a:pt x="45" y="420"/>
                  </a:lnTo>
                  <a:lnTo>
                    <a:pt x="35" y="410"/>
                  </a:lnTo>
                  <a:lnTo>
                    <a:pt x="27" y="400"/>
                  </a:lnTo>
                  <a:lnTo>
                    <a:pt x="24" y="387"/>
                  </a:lnTo>
                  <a:lnTo>
                    <a:pt x="16" y="380"/>
                  </a:lnTo>
                  <a:lnTo>
                    <a:pt x="7" y="372"/>
                  </a:lnTo>
                  <a:lnTo>
                    <a:pt x="2" y="363"/>
                  </a:lnTo>
                  <a:lnTo>
                    <a:pt x="0" y="350"/>
                  </a:lnTo>
                  <a:lnTo>
                    <a:pt x="3" y="342"/>
                  </a:lnTo>
                  <a:lnTo>
                    <a:pt x="468" y="344"/>
                  </a:lnTo>
                  <a:lnTo>
                    <a:pt x="468" y="352"/>
                  </a:lnTo>
                  <a:lnTo>
                    <a:pt x="467" y="360"/>
                  </a:lnTo>
                  <a:lnTo>
                    <a:pt x="463" y="367"/>
                  </a:lnTo>
                  <a:lnTo>
                    <a:pt x="457" y="373"/>
                  </a:lnTo>
                  <a:lnTo>
                    <a:pt x="462" y="376"/>
                  </a:lnTo>
                  <a:lnTo>
                    <a:pt x="467" y="379"/>
                  </a:lnTo>
                  <a:lnTo>
                    <a:pt x="472" y="380"/>
                  </a:lnTo>
                  <a:lnTo>
                    <a:pt x="478" y="380"/>
                  </a:lnTo>
                  <a:lnTo>
                    <a:pt x="476" y="376"/>
                  </a:lnTo>
                  <a:lnTo>
                    <a:pt x="474" y="371"/>
                  </a:lnTo>
                  <a:lnTo>
                    <a:pt x="471" y="366"/>
                  </a:lnTo>
                  <a:lnTo>
                    <a:pt x="472" y="360"/>
                  </a:lnTo>
                  <a:lnTo>
                    <a:pt x="481" y="358"/>
                  </a:lnTo>
                  <a:lnTo>
                    <a:pt x="487" y="355"/>
                  </a:lnTo>
                  <a:lnTo>
                    <a:pt x="494" y="349"/>
                  </a:lnTo>
                  <a:lnTo>
                    <a:pt x="500" y="343"/>
                  </a:lnTo>
                  <a:lnTo>
                    <a:pt x="505" y="338"/>
                  </a:lnTo>
                  <a:lnTo>
                    <a:pt x="511" y="333"/>
                  </a:lnTo>
                  <a:lnTo>
                    <a:pt x="518" y="329"/>
                  </a:lnTo>
                  <a:lnTo>
                    <a:pt x="525" y="327"/>
                  </a:lnTo>
                  <a:lnTo>
                    <a:pt x="536" y="318"/>
                  </a:lnTo>
                  <a:lnTo>
                    <a:pt x="528" y="315"/>
                  </a:lnTo>
                  <a:lnTo>
                    <a:pt x="516" y="315"/>
                  </a:lnTo>
                  <a:lnTo>
                    <a:pt x="507" y="313"/>
                  </a:lnTo>
                  <a:lnTo>
                    <a:pt x="504" y="303"/>
                  </a:lnTo>
                  <a:lnTo>
                    <a:pt x="503" y="303"/>
                  </a:lnTo>
                  <a:lnTo>
                    <a:pt x="503" y="298"/>
                  </a:lnTo>
                  <a:lnTo>
                    <a:pt x="504" y="298"/>
                  </a:lnTo>
                  <a:lnTo>
                    <a:pt x="504" y="299"/>
                  </a:lnTo>
                  <a:lnTo>
                    <a:pt x="507" y="293"/>
                  </a:lnTo>
                  <a:lnTo>
                    <a:pt x="512" y="291"/>
                  </a:lnTo>
                  <a:lnTo>
                    <a:pt x="518" y="291"/>
                  </a:lnTo>
                  <a:lnTo>
                    <a:pt x="525" y="291"/>
                  </a:lnTo>
                  <a:lnTo>
                    <a:pt x="530" y="292"/>
                  </a:lnTo>
                  <a:lnTo>
                    <a:pt x="536" y="292"/>
                  </a:lnTo>
                  <a:lnTo>
                    <a:pt x="541" y="290"/>
                  </a:lnTo>
                  <a:lnTo>
                    <a:pt x="544" y="286"/>
                  </a:lnTo>
                  <a:lnTo>
                    <a:pt x="536" y="284"/>
                  </a:lnTo>
                  <a:lnTo>
                    <a:pt x="528" y="285"/>
                  </a:lnTo>
                  <a:lnTo>
                    <a:pt x="520" y="285"/>
                  </a:lnTo>
                  <a:lnTo>
                    <a:pt x="512" y="284"/>
                  </a:lnTo>
                  <a:lnTo>
                    <a:pt x="498" y="284"/>
                  </a:lnTo>
                  <a:lnTo>
                    <a:pt x="485" y="283"/>
                  </a:lnTo>
                  <a:lnTo>
                    <a:pt x="472" y="284"/>
                  </a:lnTo>
                  <a:lnTo>
                    <a:pt x="460" y="284"/>
                  </a:lnTo>
                  <a:lnTo>
                    <a:pt x="447" y="284"/>
                  </a:lnTo>
                  <a:lnTo>
                    <a:pt x="435" y="284"/>
                  </a:lnTo>
                  <a:lnTo>
                    <a:pt x="423" y="283"/>
                  </a:lnTo>
                  <a:lnTo>
                    <a:pt x="411" y="282"/>
                  </a:lnTo>
                  <a:lnTo>
                    <a:pt x="410" y="277"/>
                  </a:lnTo>
                  <a:lnTo>
                    <a:pt x="409" y="274"/>
                  </a:lnTo>
                  <a:lnTo>
                    <a:pt x="407" y="270"/>
                  </a:lnTo>
                  <a:lnTo>
                    <a:pt x="411" y="267"/>
                  </a:lnTo>
                  <a:lnTo>
                    <a:pt x="433" y="265"/>
                  </a:lnTo>
                  <a:lnTo>
                    <a:pt x="455" y="265"/>
                  </a:lnTo>
                  <a:lnTo>
                    <a:pt x="477" y="265"/>
                  </a:lnTo>
                  <a:lnTo>
                    <a:pt x="498" y="265"/>
                  </a:lnTo>
                  <a:lnTo>
                    <a:pt x="518" y="265"/>
                  </a:lnTo>
                  <a:lnTo>
                    <a:pt x="539" y="265"/>
                  </a:lnTo>
                  <a:lnTo>
                    <a:pt x="561" y="265"/>
                  </a:lnTo>
                  <a:lnTo>
                    <a:pt x="581" y="264"/>
                  </a:lnTo>
                  <a:lnTo>
                    <a:pt x="585" y="267"/>
                  </a:lnTo>
                  <a:lnTo>
                    <a:pt x="588" y="267"/>
                  </a:lnTo>
                  <a:lnTo>
                    <a:pt x="591" y="267"/>
                  </a:lnTo>
                  <a:lnTo>
                    <a:pt x="593" y="269"/>
                  </a:lnTo>
                  <a:lnTo>
                    <a:pt x="594" y="275"/>
                  </a:lnTo>
                  <a:lnTo>
                    <a:pt x="592" y="281"/>
                  </a:lnTo>
                  <a:lnTo>
                    <a:pt x="590" y="284"/>
                  </a:lnTo>
                  <a:lnTo>
                    <a:pt x="587" y="289"/>
                  </a:lnTo>
                  <a:lnTo>
                    <a:pt x="593" y="291"/>
                  </a:lnTo>
                  <a:lnTo>
                    <a:pt x="598" y="292"/>
                  </a:lnTo>
                  <a:lnTo>
                    <a:pt x="603" y="292"/>
                  </a:lnTo>
                  <a:lnTo>
                    <a:pt x="609" y="292"/>
                  </a:lnTo>
                  <a:lnTo>
                    <a:pt x="615" y="292"/>
                  </a:lnTo>
                  <a:lnTo>
                    <a:pt x="620" y="293"/>
                  </a:lnTo>
                  <a:lnTo>
                    <a:pt x="624" y="296"/>
                  </a:lnTo>
                  <a:lnTo>
                    <a:pt x="628" y="300"/>
                  </a:lnTo>
                  <a:lnTo>
                    <a:pt x="629" y="308"/>
                  </a:lnTo>
                  <a:lnTo>
                    <a:pt x="624" y="313"/>
                  </a:lnTo>
                  <a:lnTo>
                    <a:pt x="617" y="315"/>
                  </a:lnTo>
                  <a:lnTo>
                    <a:pt x="610" y="315"/>
                  </a:lnTo>
                  <a:lnTo>
                    <a:pt x="607" y="314"/>
                  </a:lnTo>
                  <a:lnTo>
                    <a:pt x="603" y="313"/>
                  </a:lnTo>
                  <a:lnTo>
                    <a:pt x="599" y="314"/>
                  </a:lnTo>
                  <a:lnTo>
                    <a:pt x="595" y="315"/>
                  </a:lnTo>
                  <a:lnTo>
                    <a:pt x="602" y="318"/>
                  </a:lnTo>
                  <a:lnTo>
                    <a:pt x="608" y="320"/>
                  </a:lnTo>
                  <a:lnTo>
                    <a:pt x="614" y="322"/>
                  </a:lnTo>
                  <a:lnTo>
                    <a:pt x="621" y="323"/>
                  </a:lnTo>
                  <a:lnTo>
                    <a:pt x="627" y="326"/>
                  </a:lnTo>
                  <a:lnTo>
                    <a:pt x="632" y="329"/>
                  </a:lnTo>
                  <a:lnTo>
                    <a:pt x="637" y="333"/>
                  </a:lnTo>
                  <a:lnTo>
                    <a:pt x="643" y="336"/>
                  </a:lnTo>
                  <a:lnTo>
                    <a:pt x="649" y="342"/>
                  </a:lnTo>
                  <a:lnTo>
                    <a:pt x="654" y="348"/>
                  </a:lnTo>
                  <a:lnTo>
                    <a:pt x="661" y="354"/>
                  </a:lnTo>
                  <a:lnTo>
                    <a:pt x="667" y="358"/>
                  </a:lnTo>
                  <a:lnTo>
                    <a:pt x="675" y="380"/>
                  </a:lnTo>
                  <a:lnTo>
                    <a:pt x="672" y="384"/>
                  </a:lnTo>
                  <a:lnTo>
                    <a:pt x="666" y="388"/>
                  </a:lnTo>
                  <a:lnTo>
                    <a:pt x="660" y="391"/>
                  </a:lnTo>
                  <a:lnTo>
                    <a:pt x="656" y="393"/>
                  </a:lnTo>
                  <a:lnTo>
                    <a:pt x="653" y="395"/>
                  </a:lnTo>
                  <a:lnTo>
                    <a:pt x="652" y="399"/>
                  </a:lnTo>
                  <a:lnTo>
                    <a:pt x="653" y="403"/>
                  </a:lnTo>
                  <a:lnTo>
                    <a:pt x="656" y="406"/>
                  </a:lnTo>
                  <a:lnTo>
                    <a:pt x="653" y="417"/>
                  </a:lnTo>
                  <a:lnTo>
                    <a:pt x="651" y="430"/>
                  </a:lnTo>
                  <a:lnTo>
                    <a:pt x="650" y="443"/>
                  </a:lnTo>
                  <a:lnTo>
                    <a:pt x="651" y="453"/>
                  </a:lnTo>
                  <a:lnTo>
                    <a:pt x="651" y="465"/>
                  </a:lnTo>
                  <a:lnTo>
                    <a:pt x="657" y="473"/>
                  </a:lnTo>
                  <a:lnTo>
                    <a:pt x="665" y="479"/>
                  </a:lnTo>
                  <a:lnTo>
                    <a:pt x="675" y="482"/>
                  </a:lnTo>
                  <a:lnTo>
                    <a:pt x="676" y="488"/>
                  </a:lnTo>
                  <a:lnTo>
                    <a:pt x="675" y="494"/>
                  </a:lnTo>
                  <a:lnTo>
                    <a:pt x="673" y="498"/>
                  </a:lnTo>
                  <a:lnTo>
                    <a:pt x="670" y="502"/>
                  </a:lnTo>
                  <a:lnTo>
                    <a:pt x="672" y="502"/>
                  </a:lnTo>
                  <a:lnTo>
                    <a:pt x="671" y="509"/>
                  </a:lnTo>
                  <a:lnTo>
                    <a:pt x="682" y="515"/>
                  </a:lnTo>
                  <a:lnTo>
                    <a:pt x="693" y="519"/>
                  </a:lnTo>
                  <a:lnTo>
                    <a:pt x="704" y="524"/>
                  </a:lnTo>
                  <a:lnTo>
                    <a:pt x="716" y="527"/>
                  </a:lnTo>
                  <a:lnTo>
                    <a:pt x="728" y="531"/>
                  </a:lnTo>
                  <a:lnTo>
                    <a:pt x="739" y="534"/>
                  </a:lnTo>
                  <a:lnTo>
                    <a:pt x="751" y="538"/>
                  </a:lnTo>
                  <a:lnTo>
                    <a:pt x="762" y="542"/>
                  </a:lnTo>
                  <a:lnTo>
                    <a:pt x="775" y="549"/>
                  </a:lnTo>
                  <a:lnTo>
                    <a:pt x="789" y="553"/>
                  </a:lnTo>
                  <a:lnTo>
                    <a:pt x="803" y="555"/>
                  </a:lnTo>
                  <a:lnTo>
                    <a:pt x="818" y="555"/>
                  </a:lnTo>
                  <a:lnTo>
                    <a:pt x="833" y="555"/>
                  </a:lnTo>
                  <a:lnTo>
                    <a:pt x="848" y="554"/>
                  </a:lnTo>
                  <a:lnTo>
                    <a:pt x="863" y="554"/>
                  </a:lnTo>
                  <a:lnTo>
                    <a:pt x="878" y="554"/>
                  </a:lnTo>
                  <a:lnTo>
                    <a:pt x="881" y="550"/>
                  </a:lnTo>
                  <a:lnTo>
                    <a:pt x="875" y="547"/>
                  </a:lnTo>
                  <a:lnTo>
                    <a:pt x="868" y="546"/>
                  </a:lnTo>
                  <a:lnTo>
                    <a:pt x="860" y="546"/>
                  </a:lnTo>
                  <a:lnTo>
                    <a:pt x="852" y="547"/>
                  </a:lnTo>
                  <a:lnTo>
                    <a:pt x="846" y="539"/>
                  </a:lnTo>
                  <a:lnTo>
                    <a:pt x="847" y="528"/>
                  </a:lnTo>
                  <a:lnTo>
                    <a:pt x="850" y="517"/>
                  </a:lnTo>
                  <a:lnTo>
                    <a:pt x="850" y="506"/>
                  </a:lnTo>
                  <a:lnTo>
                    <a:pt x="852" y="493"/>
                  </a:lnTo>
                  <a:lnTo>
                    <a:pt x="853" y="460"/>
                  </a:lnTo>
                  <a:lnTo>
                    <a:pt x="852" y="425"/>
                  </a:lnTo>
                  <a:lnTo>
                    <a:pt x="846" y="403"/>
                  </a:lnTo>
                  <a:lnTo>
                    <a:pt x="846" y="399"/>
                  </a:lnTo>
                  <a:lnTo>
                    <a:pt x="847" y="394"/>
                  </a:lnTo>
                  <a:lnTo>
                    <a:pt x="848" y="388"/>
                  </a:lnTo>
                  <a:lnTo>
                    <a:pt x="850" y="385"/>
                  </a:lnTo>
                  <a:lnTo>
                    <a:pt x="857" y="384"/>
                  </a:lnTo>
                  <a:lnTo>
                    <a:pt x="864" y="384"/>
                  </a:lnTo>
                  <a:lnTo>
                    <a:pt x="871" y="384"/>
                  </a:lnTo>
                  <a:lnTo>
                    <a:pt x="878" y="384"/>
                  </a:lnTo>
                  <a:lnTo>
                    <a:pt x="884" y="384"/>
                  </a:lnTo>
                  <a:lnTo>
                    <a:pt x="891" y="384"/>
                  </a:lnTo>
                  <a:lnTo>
                    <a:pt x="898" y="384"/>
                  </a:lnTo>
                  <a:lnTo>
                    <a:pt x="905" y="382"/>
                  </a:lnTo>
                  <a:lnTo>
                    <a:pt x="918" y="365"/>
                  </a:lnTo>
                  <a:lnTo>
                    <a:pt x="921" y="363"/>
                  </a:lnTo>
                  <a:lnTo>
                    <a:pt x="925" y="360"/>
                  </a:lnTo>
                  <a:lnTo>
                    <a:pt x="927" y="357"/>
                  </a:lnTo>
                  <a:lnTo>
                    <a:pt x="928" y="354"/>
                  </a:lnTo>
                  <a:lnTo>
                    <a:pt x="922" y="352"/>
                  </a:lnTo>
                  <a:lnTo>
                    <a:pt x="917" y="354"/>
                  </a:lnTo>
                  <a:lnTo>
                    <a:pt x="911" y="354"/>
                  </a:lnTo>
                  <a:lnTo>
                    <a:pt x="906" y="355"/>
                  </a:lnTo>
                  <a:lnTo>
                    <a:pt x="900" y="355"/>
                  </a:lnTo>
                  <a:lnTo>
                    <a:pt x="897" y="354"/>
                  </a:lnTo>
                  <a:lnTo>
                    <a:pt x="893" y="350"/>
                  </a:lnTo>
                  <a:lnTo>
                    <a:pt x="890" y="345"/>
                  </a:lnTo>
                  <a:lnTo>
                    <a:pt x="893" y="336"/>
                  </a:lnTo>
                  <a:lnTo>
                    <a:pt x="900" y="328"/>
                  </a:lnTo>
                  <a:lnTo>
                    <a:pt x="906" y="320"/>
                  </a:lnTo>
                  <a:lnTo>
                    <a:pt x="905" y="308"/>
                  </a:lnTo>
                  <a:lnTo>
                    <a:pt x="906" y="308"/>
                  </a:lnTo>
                  <a:lnTo>
                    <a:pt x="908" y="294"/>
                  </a:lnTo>
                  <a:lnTo>
                    <a:pt x="912" y="279"/>
                  </a:lnTo>
                  <a:lnTo>
                    <a:pt x="918" y="267"/>
                  </a:lnTo>
                  <a:lnTo>
                    <a:pt x="927" y="257"/>
                  </a:lnTo>
                  <a:lnTo>
                    <a:pt x="923" y="254"/>
                  </a:lnTo>
                  <a:lnTo>
                    <a:pt x="918" y="259"/>
                  </a:lnTo>
                  <a:lnTo>
                    <a:pt x="913" y="262"/>
                  </a:lnTo>
                  <a:lnTo>
                    <a:pt x="908" y="265"/>
                  </a:lnTo>
                  <a:lnTo>
                    <a:pt x="904" y="269"/>
                  </a:lnTo>
                  <a:lnTo>
                    <a:pt x="899" y="272"/>
                  </a:lnTo>
                  <a:lnTo>
                    <a:pt x="896" y="276"/>
                  </a:lnTo>
                  <a:lnTo>
                    <a:pt x="891" y="279"/>
                  </a:lnTo>
                  <a:lnTo>
                    <a:pt x="885" y="284"/>
                  </a:lnTo>
                  <a:lnTo>
                    <a:pt x="872" y="292"/>
                  </a:lnTo>
                  <a:lnTo>
                    <a:pt x="860" y="300"/>
                  </a:lnTo>
                  <a:lnTo>
                    <a:pt x="848" y="308"/>
                  </a:lnTo>
                  <a:lnTo>
                    <a:pt x="837" y="316"/>
                  </a:lnTo>
                  <a:lnTo>
                    <a:pt x="825" y="325"/>
                  </a:lnTo>
                  <a:lnTo>
                    <a:pt x="813" y="333"/>
                  </a:lnTo>
                  <a:lnTo>
                    <a:pt x="801" y="341"/>
                  </a:lnTo>
                  <a:lnTo>
                    <a:pt x="788" y="349"/>
                  </a:lnTo>
                  <a:lnTo>
                    <a:pt x="774" y="354"/>
                  </a:lnTo>
                  <a:lnTo>
                    <a:pt x="761" y="358"/>
                  </a:lnTo>
                  <a:lnTo>
                    <a:pt x="747" y="364"/>
                  </a:lnTo>
                  <a:lnTo>
                    <a:pt x="733" y="370"/>
                  </a:lnTo>
                  <a:lnTo>
                    <a:pt x="721" y="374"/>
                  </a:lnTo>
                  <a:lnTo>
                    <a:pt x="705" y="378"/>
                  </a:lnTo>
                  <a:lnTo>
                    <a:pt x="690" y="380"/>
                  </a:lnTo>
                  <a:lnTo>
                    <a:pt x="675" y="380"/>
                  </a:lnTo>
                  <a:lnTo>
                    <a:pt x="667" y="358"/>
                  </a:lnTo>
                  <a:lnTo>
                    <a:pt x="678" y="358"/>
                  </a:lnTo>
                  <a:lnTo>
                    <a:pt x="689" y="357"/>
                  </a:lnTo>
                  <a:lnTo>
                    <a:pt x="700" y="356"/>
                  </a:lnTo>
                  <a:lnTo>
                    <a:pt x="711" y="355"/>
                  </a:lnTo>
                  <a:lnTo>
                    <a:pt x="722" y="352"/>
                  </a:lnTo>
                  <a:lnTo>
                    <a:pt x="732" y="349"/>
                  </a:lnTo>
                  <a:lnTo>
                    <a:pt x="741" y="345"/>
                  </a:lnTo>
                  <a:lnTo>
                    <a:pt x="751" y="341"/>
                  </a:lnTo>
                  <a:lnTo>
                    <a:pt x="774" y="333"/>
                  </a:lnTo>
                  <a:lnTo>
                    <a:pt x="796" y="322"/>
                  </a:lnTo>
                  <a:lnTo>
                    <a:pt x="816" y="311"/>
                  </a:lnTo>
                  <a:lnTo>
                    <a:pt x="835" y="297"/>
                  </a:lnTo>
                  <a:lnTo>
                    <a:pt x="853" y="283"/>
                  </a:lnTo>
                  <a:lnTo>
                    <a:pt x="871" y="268"/>
                  </a:lnTo>
                  <a:lnTo>
                    <a:pt x="890" y="254"/>
                  </a:lnTo>
                  <a:lnTo>
                    <a:pt x="910" y="240"/>
                  </a:lnTo>
                  <a:lnTo>
                    <a:pt x="915" y="234"/>
                  </a:lnTo>
                  <a:lnTo>
                    <a:pt x="921" y="226"/>
                  </a:lnTo>
                  <a:lnTo>
                    <a:pt x="927" y="219"/>
                  </a:lnTo>
                  <a:lnTo>
                    <a:pt x="935" y="213"/>
                  </a:lnTo>
                  <a:lnTo>
                    <a:pt x="941" y="213"/>
                  </a:lnTo>
                  <a:lnTo>
                    <a:pt x="947" y="213"/>
                  </a:lnTo>
                  <a:lnTo>
                    <a:pt x="952" y="216"/>
                  </a:lnTo>
                  <a:lnTo>
                    <a:pt x="955" y="221"/>
                  </a:lnTo>
                  <a:lnTo>
                    <a:pt x="955" y="227"/>
                  </a:lnTo>
                  <a:lnTo>
                    <a:pt x="955" y="233"/>
                  </a:lnTo>
                  <a:lnTo>
                    <a:pt x="956" y="239"/>
                  </a:lnTo>
                  <a:lnTo>
                    <a:pt x="961" y="242"/>
                  </a:lnTo>
                  <a:lnTo>
                    <a:pt x="964" y="250"/>
                  </a:lnTo>
                  <a:lnTo>
                    <a:pt x="969" y="259"/>
                  </a:lnTo>
                  <a:lnTo>
                    <a:pt x="976" y="265"/>
                  </a:lnTo>
                  <a:lnTo>
                    <a:pt x="983" y="272"/>
                  </a:lnTo>
                  <a:lnTo>
                    <a:pt x="987" y="291"/>
                  </a:lnTo>
                  <a:lnTo>
                    <a:pt x="988" y="311"/>
                  </a:lnTo>
                  <a:lnTo>
                    <a:pt x="992" y="327"/>
                  </a:lnTo>
                  <a:lnTo>
                    <a:pt x="1006" y="340"/>
                  </a:lnTo>
                  <a:lnTo>
                    <a:pt x="1007" y="342"/>
                  </a:lnTo>
                  <a:lnTo>
                    <a:pt x="1006" y="344"/>
                  </a:lnTo>
                  <a:lnTo>
                    <a:pt x="1005" y="347"/>
                  </a:lnTo>
                  <a:lnTo>
                    <a:pt x="1003" y="350"/>
                  </a:lnTo>
                  <a:lnTo>
                    <a:pt x="957" y="352"/>
                  </a:lnTo>
                  <a:lnTo>
                    <a:pt x="961" y="359"/>
                  </a:lnTo>
                  <a:lnTo>
                    <a:pt x="970" y="365"/>
                  </a:lnTo>
                  <a:lnTo>
                    <a:pt x="979" y="371"/>
                  </a:lnTo>
                  <a:lnTo>
                    <a:pt x="983" y="380"/>
                  </a:lnTo>
                  <a:lnTo>
                    <a:pt x="987" y="379"/>
                  </a:lnTo>
                  <a:lnTo>
                    <a:pt x="988" y="379"/>
                  </a:lnTo>
                  <a:lnTo>
                    <a:pt x="993" y="380"/>
                  </a:lnTo>
                  <a:lnTo>
                    <a:pt x="1000" y="381"/>
                  </a:lnTo>
                  <a:lnTo>
                    <a:pt x="1008" y="382"/>
                  </a:lnTo>
                  <a:lnTo>
                    <a:pt x="1016" y="384"/>
                  </a:lnTo>
                  <a:lnTo>
                    <a:pt x="1026" y="385"/>
                  </a:lnTo>
                  <a:lnTo>
                    <a:pt x="1034" y="385"/>
                  </a:lnTo>
                  <a:lnTo>
                    <a:pt x="1042" y="384"/>
                  </a:lnTo>
                  <a:lnTo>
                    <a:pt x="1046" y="387"/>
                  </a:lnTo>
                  <a:lnTo>
                    <a:pt x="1049" y="391"/>
                  </a:lnTo>
                  <a:lnTo>
                    <a:pt x="1050" y="396"/>
                  </a:lnTo>
                  <a:lnTo>
                    <a:pt x="1050" y="402"/>
                  </a:lnTo>
                  <a:lnTo>
                    <a:pt x="1043" y="413"/>
                  </a:lnTo>
                  <a:lnTo>
                    <a:pt x="1041" y="426"/>
                  </a:lnTo>
                  <a:lnTo>
                    <a:pt x="1041" y="443"/>
                  </a:lnTo>
                  <a:lnTo>
                    <a:pt x="1039" y="457"/>
                  </a:lnTo>
                  <a:lnTo>
                    <a:pt x="1041" y="467"/>
                  </a:lnTo>
                  <a:lnTo>
                    <a:pt x="1039" y="476"/>
                  </a:lnTo>
                  <a:lnTo>
                    <a:pt x="1038" y="486"/>
                  </a:lnTo>
                  <a:lnTo>
                    <a:pt x="1039" y="497"/>
                  </a:lnTo>
                  <a:lnTo>
                    <a:pt x="1042" y="541"/>
                  </a:lnTo>
                  <a:lnTo>
                    <a:pt x="1038" y="545"/>
                  </a:lnTo>
                  <a:lnTo>
                    <a:pt x="1034" y="545"/>
                  </a:lnTo>
                  <a:lnTo>
                    <a:pt x="1029" y="544"/>
                  </a:lnTo>
                  <a:lnTo>
                    <a:pt x="1024" y="545"/>
                  </a:lnTo>
                  <a:lnTo>
                    <a:pt x="1019" y="545"/>
                  </a:lnTo>
                  <a:lnTo>
                    <a:pt x="1013" y="544"/>
                  </a:lnTo>
                  <a:lnTo>
                    <a:pt x="1007" y="545"/>
                  </a:lnTo>
                  <a:lnTo>
                    <a:pt x="1003" y="548"/>
                  </a:lnTo>
                  <a:lnTo>
                    <a:pt x="1007" y="552"/>
                  </a:lnTo>
                  <a:lnTo>
                    <a:pt x="1012" y="554"/>
                  </a:lnTo>
                  <a:lnTo>
                    <a:pt x="1016" y="554"/>
                  </a:lnTo>
                  <a:lnTo>
                    <a:pt x="1022" y="553"/>
                  </a:lnTo>
                  <a:lnTo>
                    <a:pt x="1028" y="553"/>
                  </a:lnTo>
                  <a:lnTo>
                    <a:pt x="1034" y="553"/>
                  </a:lnTo>
                  <a:lnTo>
                    <a:pt x="1038" y="553"/>
                  </a:lnTo>
                  <a:lnTo>
                    <a:pt x="1043" y="555"/>
                  </a:lnTo>
                  <a:lnTo>
                    <a:pt x="1050" y="554"/>
                  </a:lnTo>
                  <a:lnTo>
                    <a:pt x="1057" y="553"/>
                  </a:lnTo>
                  <a:lnTo>
                    <a:pt x="1060" y="549"/>
                  </a:lnTo>
                  <a:lnTo>
                    <a:pt x="1059" y="542"/>
                  </a:lnTo>
                  <a:lnTo>
                    <a:pt x="1060" y="534"/>
                  </a:lnTo>
                  <a:lnTo>
                    <a:pt x="1060" y="525"/>
                  </a:lnTo>
                  <a:lnTo>
                    <a:pt x="1060" y="517"/>
                  </a:lnTo>
                  <a:lnTo>
                    <a:pt x="1063" y="510"/>
                  </a:lnTo>
                  <a:lnTo>
                    <a:pt x="1063" y="489"/>
                  </a:lnTo>
                  <a:lnTo>
                    <a:pt x="1064" y="489"/>
                  </a:lnTo>
                  <a:lnTo>
                    <a:pt x="1066" y="467"/>
                  </a:lnTo>
                  <a:lnTo>
                    <a:pt x="1067" y="443"/>
                  </a:lnTo>
                  <a:lnTo>
                    <a:pt x="1070" y="420"/>
                  </a:lnTo>
                  <a:lnTo>
                    <a:pt x="1072" y="395"/>
                  </a:lnTo>
                  <a:lnTo>
                    <a:pt x="1077" y="372"/>
                  </a:lnTo>
                  <a:lnTo>
                    <a:pt x="1085" y="351"/>
                  </a:lnTo>
                  <a:lnTo>
                    <a:pt x="1095" y="333"/>
                  </a:lnTo>
                  <a:lnTo>
                    <a:pt x="1111" y="318"/>
                  </a:lnTo>
                  <a:lnTo>
                    <a:pt x="1118" y="312"/>
                  </a:lnTo>
                  <a:lnTo>
                    <a:pt x="1125" y="307"/>
                  </a:lnTo>
                  <a:lnTo>
                    <a:pt x="1132" y="301"/>
                  </a:lnTo>
                  <a:lnTo>
                    <a:pt x="1139" y="297"/>
                  </a:lnTo>
                  <a:lnTo>
                    <a:pt x="1146" y="292"/>
                  </a:lnTo>
                  <a:lnTo>
                    <a:pt x="1154" y="287"/>
                  </a:lnTo>
                  <a:lnTo>
                    <a:pt x="1163" y="285"/>
                  </a:lnTo>
                  <a:lnTo>
                    <a:pt x="1174" y="283"/>
                  </a:lnTo>
                  <a:lnTo>
                    <a:pt x="1158" y="311"/>
                  </a:lnTo>
                  <a:lnTo>
                    <a:pt x="1148" y="314"/>
                  </a:lnTo>
                  <a:lnTo>
                    <a:pt x="1140" y="319"/>
                  </a:lnTo>
                  <a:lnTo>
                    <a:pt x="1132" y="325"/>
                  </a:lnTo>
                  <a:lnTo>
                    <a:pt x="1126" y="330"/>
                  </a:lnTo>
                  <a:lnTo>
                    <a:pt x="1119" y="338"/>
                  </a:lnTo>
                  <a:lnTo>
                    <a:pt x="1115" y="345"/>
                  </a:lnTo>
                  <a:lnTo>
                    <a:pt x="1109" y="354"/>
                  </a:lnTo>
                  <a:lnTo>
                    <a:pt x="1104" y="360"/>
                  </a:lnTo>
                  <a:lnTo>
                    <a:pt x="1096" y="394"/>
                  </a:lnTo>
                  <a:lnTo>
                    <a:pt x="1092" y="429"/>
                  </a:lnTo>
                  <a:lnTo>
                    <a:pt x="1088" y="465"/>
                  </a:lnTo>
                  <a:lnTo>
                    <a:pt x="1086" y="499"/>
                  </a:lnTo>
                  <a:lnTo>
                    <a:pt x="1086" y="513"/>
                  </a:lnTo>
                  <a:lnTo>
                    <a:pt x="1086" y="528"/>
                  </a:lnTo>
                  <a:lnTo>
                    <a:pt x="1088" y="541"/>
                  </a:lnTo>
                  <a:lnTo>
                    <a:pt x="1095" y="550"/>
                  </a:lnTo>
                  <a:lnTo>
                    <a:pt x="1099" y="532"/>
                  </a:lnTo>
                  <a:lnTo>
                    <a:pt x="1107" y="517"/>
                  </a:lnTo>
                  <a:lnTo>
                    <a:pt x="1114" y="501"/>
                  </a:lnTo>
                  <a:lnTo>
                    <a:pt x="1116" y="481"/>
                  </a:lnTo>
                  <a:lnTo>
                    <a:pt x="1114" y="465"/>
                  </a:lnTo>
                  <a:lnTo>
                    <a:pt x="1115" y="447"/>
                  </a:lnTo>
                  <a:lnTo>
                    <a:pt x="1114" y="431"/>
                  </a:lnTo>
                  <a:lnTo>
                    <a:pt x="1104" y="418"/>
                  </a:lnTo>
                  <a:lnTo>
                    <a:pt x="1102" y="409"/>
                  </a:lnTo>
                  <a:lnTo>
                    <a:pt x="1103" y="402"/>
                  </a:lnTo>
                  <a:lnTo>
                    <a:pt x="1108" y="398"/>
                  </a:lnTo>
                  <a:lnTo>
                    <a:pt x="1114" y="394"/>
                  </a:lnTo>
                  <a:lnTo>
                    <a:pt x="1121" y="391"/>
                  </a:lnTo>
                  <a:lnTo>
                    <a:pt x="1128" y="387"/>
                  </a:lnTo>
                  <a:lnTo>
                    <a:pt x="1133" y="381"/>
                  </a:lnTo>
                  <a:lnTo>
                    <a:pt x="1137" y="376"/>
                  </a:lnTo>
                  <a:lnTo>
                    <a:pt x="1144" y="370"/>
                  </a:lnTo>
                  <a:lnTo>
                    <a:pt x="1152" y="365"/>
                  </a:lnTo>
                  <a:lnTo>
                    <a:pt x="1160" y="360"/>
                  </a:lnTo>
                  <a:lnTo>
                    <a:pt x="1166" y="354"/>
                  </a:lnTo>
                  <a:lnTo>
                    <a:pt x="1163" y="350"/>
                  </a:lnTo>
                  <a:lnTo>
                    <a:pt x="1160" y="348"/>
                  </a:lnTo>
                  <a:lnTo>
                    <a:pt x="1157" y="347"/>
                  </a:lnTo>
                  <a:lnTo>
                    <a:pt x="1152" y="347"/>
                  </a:lnTo>
                  <a:lnTo>
                    <a:pt x="1150" y="344"/>
                  </a:lnTo>
                  <a:lnTo>
                    <a:pt x="1147" y="341"/>
                  </a:lnTo>
                  <a:lnTo>
                    <a:pt x="1146" y="337"/>
                  </a:lnTo>
                  <a:lnTo>
                    <a:pt x="1146" y="331"/>
                  </a:lnTo>
                  <a:lnTo>
                    <a:pt x="1150" y="329"/>
                  </a:lnTo>
                  <a:lnTo>
                    <a:pt x="1154" y="327"/>
                  </a:lnTo>
                  <a:lnTo>
                    <a:pt x="1160" y="326"/>
                  </a:lnTo>
                  <a:lnTo>
                    <a:pt x="1165" y="326"/>
                  </a:lnTo>
                  <a:lnTo>
                    <a:pt x="1170" y="326"/>
                  </a:lnTo>
                  <a:lnTo>
                    <a:pt x="1175" y="326"/>
                  </a:lnTo>
                  <a:lnTo>
                    <a:pt x="1180" y="325"/>
                  </a:lnTo>
                  <a:lnTo>
                    <a:pt x="1184" y="323"/>
                  </a:lnTo>
                  <a:lnTo>
                    <a:pt x="1181" y="320"/>
                  </a:lnTo>
                  <a:lnTo>
                    <a:pt x="1179" y="314"/>
                  </a:lnTo>
                  <a:lnTo>
                    <a:pt x="1176" y="309"/>
                  </a:lnTo>
                  <a:lnTo>
                    <a:pt x="1173" y="306"/>
                  </a:lnTo>
                  <a:lnTo>
                    <a:pt x="1168" y="307"/>
                  </a:lnTo>
                  <a:lnTo>
                    <a:pt x="1165" y="308"/>
                  </a:lnTo>
                  <a:lnTo>
                    <a:pt x="1161" y="311"/>
                  </a:lnTo>
                  <a:lnTo>
                    <a:pt x="1161" y="315"/>
                  </a:lnTo>
                  <a:lnTo>
                    <a:pt x="1160" y="314"/>
                  </a:lnTo>
                  <a:lnTo>
                    <a:pt x="1158" y="314"/>
                  </a:lnTo>
                  <a:lnTo>
                    <a:pt x="1157" y="313"/>
                  </a:lnTo>
                  <a:lnTo>
                    <a:pt x="1158" y="311"/>
                  </a:lnTo>
                  <a:lnTo>
                    <a:pt x="1174" y="283"/>
                  </a:lnTo>
                  <a:lnTo>
                    <a:pt x="1182" y="278"/>
                  </a:lnTo>
                  <a:lnTo>
                    <a:pt x="1187" y="254"/>
                  </a:lnTo>
                  <a:lnTo>
                    <a:pt x="1192" y="225"/>
                  </a:lnTo>
                  <a:lnTo>
                    <a:pt x="1198" y="201"/>
                  </a:lnTo>
                  <a:lnTo>
                    <a:pt x="1204" y="190"/>
                  </a:lnTo>
                  <a:lnTo>
                    <a:pt x="1215" y="204"/>
                  </a:lnTo>
                  <a:lnTo>
                    <a:pt x="1221" y="231"/>
                  </a:lnTo>
                  <a:lnTo>
                    <a:pt x="1226" y="262"/>
                  </a:lnTo>
                  <a:lnTo>
                    <a:pt x="1228" y="286"/>
                  </a:lnTo>
                  <a:lnTo>
                    <a:pt x="1230" y="291"/>
                  </a:lnTo>
                  <a:lnTo>
                    <a:pt x="1231" y="297"/>
                  </a:lnTo>
                  <a:lnTo>
                    <a:pt x="1230" y="303"/>
                  </a:lnTo>
                  <a:lnTo>
                    <a:pt x="1228" y="307"/>
                  </a:lnTo>
                  <a:lnTo>
                    <a:pt x="1225" y="311"/>
                  </a:lnTo>
                  <a:lnTo>
                    <a:pt x="1223" y="314"/>
                  </a:lnTo>
                  <a:lnTo>
                    <a:pt x="1221" y="318"/>
                  </a:lnTo>
                  <a:lnTo>
                    <a:pt x="1220" y="321"/>
                  </a:lnTo>
                  <a:lnTo>
                    <a:pt x="1225" y="325"/>
                  </a:lnTo>
                  <a:lnTo>
                    <a:pt x="1231" y="326"/>
                  </a:lnTo>
                  <a:lnTo>
                    <a:pt x="1238" y="326"/>
                  </a:lnTo>
                  <a:lnTo>
                    <a:pt x="1245" y="326"/>
                  </a:lnTo>
                  <a:lnTo>
                    <a:pt x="1252" y="327"/>
                  </a:lnTo>
                  <a:lnTo>
                    <a:pt x="1255" y="329"/>
                  </a:lnTo>
                  <a:lnTo>
                    <a:pt x="1256" y="334"/>
                  </a:lnTo>
                  <a:lnTo>
                    <a:pt x="1254" y="342"/>
                  </a:lnTo>
                  <a:lnTo>
                    <a:pt x="1252" y="345"/>
                  </a:lnTo>
                  <a:lnTo>
                    <a:pt x="1249" y="348"/>
                  </a:lnTo>
                  <a:lnTo>
                    <a:pt x="1248" y="351"/>
                  </a:lnTo>
                  <a:lnTo>
                    <a:pt x="1248" y="355"/>
                  </a:lnTo>
                  <a:lnTo>
                    <a:pt x="1256" y="358"/>
                  </a:lnTo>
                  <a:lnTo>
                    <a:pt x="1262" y="364"/>
                  </a:lnTo>
                  <a:lnTo>
                    <a:pt x="1267" y="372"/>
                  </a:lnTo>
                  <a:lnTo>
                    <a:pt x="1271" y="379"/>
                  </a:lnTo>
                  <a:lnTo>
                    <a:pt x="1275" y="387"/>
                  </a:lnTo>
                  <a:lnTo>
                    <a:pt x="1281" y="394"/>
                  </a:lnTo>
                  <a:lnTo>
                    <a:pt x="1286" y="399"/>
                  </a:lnTo>
                  <a:lnTo>
                    <a:pt x="1296" y="402"/>
                  </a:lnTo>
                  <a:lnTo>
                    <a:pt x="1299" y="406"/>
                  </a:lnTo>
                  <a:lnTo>
                    <a:pt x="1300" y="410"/>
                  </a:lnTo>
                  <a:lnTo>
                    <a:pt x="1301" y="415"/>
                  </a:lnTo>
                  <a:lnTo>
                    <a:pt x="1301" y="417"/>
                  </a:lnTo>
                  <a:lnTo>
                    <a:pt x="1299" y="422"/>
                  </a:lnTo>
                  <a:lnTo>
                    <a:pt x="1297" y="425"/>
                  </a:lnTo>
                  <a:lnTo>
                    <a:pt x="1292" y="429"/>
                  </a:lnTo>
                  <a:lnTo>
                    <a:pt x="1288" y="432"/>
                  </a:lnTo>
                  <a:lnTo>
                    <a:pt x="1285" y="451"/>
                  </a:lnTo>
                  <a:lnTo>
                    <a:pt x="1285" y="469"/>
                  </a:lnTo>
                  <a:lnTo>
                    <a:pt x="1285" y="489"/>
                  </a:lnTo>
                  <a:lnTo>
                    <a:pt x="1286" y="506"/>
                  </a:lnTo>
                  <a:lnTo>
                    <a:pt x="1293" y="511"/>
                  </a:lnTo>
                  <a:lnTo>
                    <a:pt x="1299" y="518"/>
                  </a:lnTo>
                  <a:lnTo>
                    <a:pt x="1301" y="527"/>
                  </a:lnTo>
                  <a:lnTo>
                    <a:pt x="1304" y="535"/>
                  </a:lnTo>
                  <a:lnTo>
                    <a:pt x="1307" y="544"/>
                  </a:lnTo>
                  <a:lnTo>
                    <a:pt x="1311" y="550"/>
                  </a:lnTo>
                  <a:lnTo>
                    <a:pt x="1318" y="554"/>
                  </a:lnTo>
                  <a:lnTo>
                    <a:pt x="1327" y="553"/>
                  </a:lnTo>
                  <a:lnTo>
                    <a:pt x="1340" y="553"/>
                  </a:lnTo>
                  <a:lnTo>
                    <a:pt x="1352" y="554"/>
                  </a:lnTo>
                  <a:lnTo>
                    <a:pt x="1365" y="554"/>
                  </a:lnTo>
                  <a:lnTo>
                    <a:pt x="1378" y="554"/>
                  </a:lnTo>
                  <a:lnTo>
                    <a:pt x="1391" y="554"/>
                  </a:lnTo>
                  <a:lnTo>
                    <a:pt x="1405" y="554"/>
                  </a:lnTo>
                  <a:lnTo>
                    <a:pt x="1417" y="554"/>
                  </a:lnTo>
                  <a:lnTo>
                    <a:pt x="1431" y="553"/>
                  </a:lnTo>
                  <a:lnTo>
                    <a:pt x="1444" y="553"/>
                  </a:lnTo>
                  <a:lnTo>
                    <a:pt x="1458" y="553"/>
                  </a:lnTo>
                  <a:lnTo>
                    <a:pt x="1472" y="553"/>
                  </a:lnTo>
                  <a:lnTo>
                    <a:pt x="1485" y="553"/>
                  </a:lnTo>
                  <a:lnTo>
                    <a:pt x="1499" y="553"/>
                  </a:lnTo>
                  <a:lnTo>
                    <a:pt x="1513" y="553"/>
                  </a:lnTo>
                  <a:lnTo>
                    <a:pt x="1525" y="554"/>
                  </a:lnTo>
                  <a:lnTo>
                    <a:pt x="1539" y="554"/>
                  </a:lnTo>
                  <a:lnTo>
                    <a:pt x="1545" y="553"/>
                  </a:lnTo>
                  <a:lnTo>
                    <a:pt x="1546" y="548"/>
                  </a:lnTo>
                  <a:lnTo>
                    <a:pt x="1545" y="544"/>
                  </a:lnTo>
                  <a:lnTo>
                    <a:pt x="1545" y="538"/>
                  </a:lnTo>
                  <a:lnTo>
                    <a:pt x="1536" y="532"/>
                  </a:lnTo>
                  <a:lnTo>
                    <a:pt x="1533" y="524"/>
                  </a:lnTo>
                  <a:lnTo>
                    <a:pt x="1533" y="515"/>
                  </a:lnTo>
                  <a:lnTo>
                    <a:pt x="1533" y="504"/>
                  </a:lnTo>
                  <a:lnTo>
                    <a:pt x="1540" y="498"/>
                  </a:lnTo>
                  <a:lnTo>
                    <a:pt x="1542" y="491"/>
                  </a:lnTo>
                  <a:lnTo>
                    <a:pt x="1539" y="482"/>
                  </a:lnTo>
                  <a:lnTo>
                    <a:pt x="1539" y="473"/>
                  </a:lnTo>
                  <a:lnTo>
                    <a:pt x="1526" y="435"/>
                  </a:lnTo>
                  <a:lnTo>
                    <a:pt x="1510" y="382"/>
                  </a:lnTo>
                  <a:lnTo>
                    <a:pt x="1492" y="322"/>
                  </a:lnTo>
                  <a:lnTo>
                    <a:pt x="1473" y="260"/>
                  </a:lnTo>
                  <a:lnTo>
                    <a:pt x="1455" y="202"/>
                  </a:lnTo>
                  <a:lnTo>
                    <a:pt x="1439" y="153"/>
                  </a:lnTo>
                  <a:lnTo>
                    <a:pt x="1429" y="119"/>
                  </a:lnTo>
                  <a:lnTo>
                    <a:pt x="1424" y="107"/>
                  </a:lnTo>
                  <a:lnTo>
                    <a:pt x="1420" y="104"/>
                  </a:lnTo>
                  <a:lnTo>
                    <a:pt x="1417" y="81"/>
                  </a:lnTo>
                  <a:lnTo>
                    <a:pt x="1417" y="55"/>
                  </a:lnTo>
                  <a:lnTo>
                    <a:pt x="1417" y="28"/>
                  </a:lnTo>
                  <a:lnTo>
                    <a:pt x="1417" y="2"/>
                  </a:lnTo>
                  <a:lnTo>
                    <a:pt x="1429" y="2"/>
                  </a:lnTo>
                  <a:lnTo>
                    <a:pt x="1445" y="1"/>
                  </a:lnTo>
                  <a:lnTo>
                    <a:pt x="1465" y="1"/>
                  </a:lnTo>
                  <a:lnTo>
                    <a:pt x="1488" y="1"/>
                  </a:lnTo>
                  <a:lnTo>
                    <a:pt x="1516" y="0"/>
                  </a:lnTo>
                  <a:lnTo>
                    <a:pt x="1545" y="0"/>
                  </a:lnTo>
                  <a:lnTo>
                    <a:pt x="1575" y="0"/>
                  </a:lnTo>
                  <a:lnTo>
                    <a:pt x="1608" y="0"/>
                  </a:lnTo>
                  <a:lnTo>
                    <a:pt x="1640" y="0"/>
                  </a:lnTo>
                  <a:lnTo>
                    <a:pt x="1673" y="0"/>
                  </a:lnTo>
                  <a:lnTo>
                    <a:pt x="1705" y="0"/>
                  </a:lnTo>
                  <a:lnTo>
                    <a:pt x="1735" y="0"/>
                  </a:lnTo>
                  <a:lnTo>
                    <a:pt x="1764" y="0"/>
                  </a:lnTo>
                  <a:lnTo>
                    <a:pt x="1791" y="0"/>
                  </a:lnTo>
                  <a:lnTo>
                    <a:pt x="1815" y="0"/>
                  </a:lnTo>
                  <a:lnTo>
                    <a:pt x="1835" y="0"/>
                  </a:lnTo>
                  <a:lnTo>
                    <a:pt x="1837" y="16"/>
                  </a:lnTo>
                  <a:lnTo>
                    <a:pt x="1836" y="48"/>
                  </a:lnTo>
                  <a:lnTo>
                    <a:pt x="1834" y="78"/>
                  </a:lnTo>
                  <a:lnTo>
                    <a:pt x="1833" y="91"/>
                  </a:lnTo>
                  <a:lnTo>
                    <a:pt x="1827" y="99"/>
                  </a:lnTo>
                  <a:lnTo>
                    <a:pt x="1821" y="104"/>
                  </a:lnTo>
                  <a:lnTo>
                    <a:pt x="1814" y="110"/>
                  </a:lnTo>
                  <a:lnTo>
                    <a:pt x="1808" y="118"/>
                  </a:lnTo>
                  <a:lnTo>
                    <a:pt x="1802" y="141"/>
                  </a:lnTo>
                  <a:lnTo>
                    <a:pt x="1793" y="180"/>
                  </a:lnTo>
                  <a:lnTo>
                    <a:pt x="1780" y="228"/>
                  </a:lnTo>
                  <a:lnTo>
                    <a:pt x="1766" y="283"/>
                  </a:lnTo>
                  <a:lnTo>
                    <a:pt x="1750" y="337"/>
                  </a:lnTo>
                  <a:lnTo>
                    <a:pt x="1736" y="386"/>
                  </a:lnTo>
                  <a:lnTo>
                    <a:pt x="1722" y="424"/>
                  </a:lnTo>
                  <a:lnTo>
                    <a:pt x="1713" y="446"/>
                  </a:lnTo>
                  <a:lnTo>
                    <a:pt x="1712" y="464"/>
                  </a:lnTo>
                  <a:lnTo>
                    <a:pt x="1707" y="482"/>
                  </a:lnTo>
                  <a:lnTo>
                    <a:pt x="1705" y="499"/>
                  </a:lnTo>
                  <a:lnTo>
                    <a:pt x="1708" y="518"/>
                  </a:lnTo>
                  <a:lnTo>
                    <a:pt x="1712" y="527"/>
                  </a:lnTo>
                  <a:lnTo>
                    <a:pt x="1719" y="542"/>
                  </a:lnTo>
                  <a:lnTo>
                    <a:pt x="1725" y="556"/>
                  </a:lnTo>
                  <a:lnTo>
                    <a:pt x="1728" y="563"/>
                  </a:lnTo>
                  <a:lnTo>
                    <a:pt x="1737" y="560"/>
                  </a:lnTo>
                  <a:lnTo>
                    <a:pt x="1747" y="555"/>
                  </a:lnTo>
                  <a:lnTo>
                    <a:pt x="1754" y="548"/>
                  </a:lnTo>
                  <a:lnTo>
                    <a:pt x="1754" y="538"/>
                  </a:lnTo>
                  <a:lnTo>
                    <a:pt x="1754" y="515"/>
                  </a:lnTo>
                  <a:lnTo>
                    <a:pt x="1754" y="493"/>
                  </a:lnTo>
                  <a:lnTo>
                    <a:pt x="1754" y="471"/>
                  </a:lnTo>
                  <a:lnTo>
                    <a:pt x="1755" y="449"/>
                  </a:lnTo>
                  <a:lnTo>
                    <a:pt x="1754" y="442"/>
                  </a:lnTo>
                  <a:lnTo>
                    <a:pt x="1754" y="433"/>
                  </a:lnTo>
                  <a:lnTo>
                    <a:pt x="1750" y="428"/>
                  </a:lnTo>
                  <a:lnTo>
                    <a:pt x="1743" y="426"/>
                  </a:lnTo>
                  <a:lnTo>
                    <a:pt x="1741" y="424"/>
                  </a:lnTo>
                  <a:lnTo>
                    <a:pt x="1740" y="421"/>
                  </a:lnTo>
                  <a:lnTo>
                    <a:pt x="1741" y="416"/>
                  </a:lnTo>
                  <a:lnTo>
                    <a:pt x="1742" y="414"/>
                  </a:lnTo>
                  <a:lnTo>
                    <a:pt x="1749" y="409"/>
                  </a:lnTo>
                  <a:lnTo>
                    <a:pt x="1757" y="404"/>
                  </a:lnTo>
                  <a:lnTo>
                    <a:pt x="1765" y="401"/>
                  </a:lnTo>
                  <a:lnTo>
                    <a:pt x="1773" y="398"/>
                  </a:lnTo>
                  <a:lnTo>
                    <a:pt x="1782" y="395"/>
                  </a:lnTo>
                  <a:lnTo>
                    <a:pt x="1791" y="393"/>
                  </a:lnTo>
                  <a:lnTo>
                    <a:pt x="1801" y="391"/>
                  </a:lnTo>
                  <a:lnTo>
                    <a:pt x="1811" y="388"/>
                  </a:lnTo>
                  <a:lnTo>
                    <a:pt x="1843" y="395"/>
                  </a:lnTo>
                  <a:lnTo>
                    <a:pt x="1844" y="388"/>
                  </a:lnTo>
                  <a:lnTo>
                    <a:pt x="1848" y="381"/>
                  </a:lnTo>
                  <a:lnTo>
                    <a:pt x="1853" y="379"/>
                  </a:lnTo>
                  <a:lnTo>
                    <a:pt x="1862" y="379"/>
                  </a:lnTo>
                  <a:lnTo>
                    <a:pt x="1867" y="381"/>
                  </a:lnTo>
                  <a:lnTo>
                    <a:pt x="1873" y="380"/>
                  </a:lnTo>
                  <a:lnTo>
                    <a:pt x="1877" y="384"/>
                  </a:lnTo>
                  <a:lnTo>
                    <a:pt x="1875" y="393"/>
                  </a:lnTo>
                  <a:lnTo>
                    <a:pt x="1874" y="393"/>
                  </a:lnTo>
                  <a:lnTo>
                    <a:pt x="1877" y="400"/>
                  </a:lnTo>
                  <a:lnTo>
                    <a:pt x="1882" y="406"/>
                  </a:lnTo>
                  <a:lnTo>
                    <a:pt x="1888" y="411"/>
                  </a:lnTo>
                  <a:lnTo>
                    <a:pt x="1886" y="420"/>
                  </a:lnTo>
                  <a:lnTo>
                    <a:pt x="1877" y="440"/>
                  </a:lnTo>
                  <a:lnTo>
                    <a:pt x="1873" y="487"/>
                  </a:lnTo>
                  <a:lnTo>
                    <a:pt x="1878" y="534"/>
                  </a:lnTo>
                  <a:lnTo>
                    <a:pt x="1891" y="564"/>
                  </a:lnTo>
                  <a:lnTo>
                    <a:pt x="1891" y="574"/>
                  </a:lnTo>
                  <a:lnTo>
                    <a:pt x="1889" y="582"/>
                  </a:lnTo>
                  <a:lnTo>
                    <a:pt x="1886" y="589"/>
                  </a:lnTo>
                  <a:lnTo>
                    <a:pt x="1880" y="594"/>
                  </a:lnTo>
                  <a:lnTo>
                    <a:pt x="1882" y="604"/>
                  </a:lnTo>
                  <a:lnTo>
                    <a:pt x="1882" y="616"/>
                  </a:lnTo>
                  <a:lnTo>
                    <a:pt x="1877" y="628"/>
                  </a:lnTo>
                  <a:lnTo>
                    <a:pt x="1859" y="635"/>
                  </a:lnTo>
                  <a:lnTo>
                    <a:pt x="1851" y="637"/>
                  </a:lnTo>
                  <a:lnTo>
                    <a:pt x="1845" y="636"/>
                  </a:lnTo>
                  <a:lnTo>
                    <a:pt x="1838" y="636"/>
                  </a:lnTo>
                  <a:lnTo>
                    <a:pt x="1831" y="637"/>
                  </a:lnTo>
                  <a:lnTo>
                    <a:pt x="1826" y="643"/>
                  </a:lnTo>
                  <a:lnTo>
                    <a:pt x="1821" y="649"/>
                  </a:lnTo>
                  <a:lnTo>
                    <a:pt x="1816" y="656"/>
                  </a:lnTo>
                  <a:lnTo>
                    <a:pt x="1816" y="664"/>
                  </a:lnTo>
                  <a:lnTo>
                    <a:pt x="1816" y="672"/>
                  </a:lnTo>
                  <a:lnTo>
                    <a:pt x="1816" y="692"/>
                  </a:lnTo>
                  <a:lnTo>
                    <a:pt x="1813" y="714"/>
                  </a:lnTo>
                  <a:lnTo>
                    <a:pt x="1802" y="731"/>
                  </a:lnTo>
                  <a:lnTo>
                    <a:pt x="1771" y="708"/>
                  </a:lnTo>
                  <a:lnTo>
                    <a:pt x="1778" y="695"/>
                  </a:lnTo>
                  <a:lnTo>
                    <a:pt x="1780" y="678"/>
                  </a:lnTo>
                  <a:lnTo>
                    <a:pt x="1779" y="661"/>
                  </a:lnTo>
                  <a:lnTo>
                    <a:pt x="1777" y="651"/>
                  </a:lnTo>
                  <a:lnTo>
                    <a:pt x="1773" y="652"/>
                  </a:lnTo>
                  <a:lnTo>
                    <a:pt x="1771" y="656"/>
                  </a:lnTo>
                  <a:lnTo>
                    <a:pt x="1768" y="659"/>
                  </a:lnTo>
                  <a:lnTo>
                    <a:pt x="1762" y="662"/>
                  </a:lnTo>
                  <a:lnTo>
                    <a:pt x="1755" y="661"/>
                  </a:lnTo>
                  <a:lnTo>
                    <a:pt x="1750" y="656"/>
                  </a:lnTo>
                  <a:lnTo>
                    <a:pt x="1747" y="652"/>
                  </a:lnTo>
                  <a:lnTo>
                    <a:pt x="1741" y="651"/>
                  </a:lnTo>
                  <a:lnTo>
                    <a:pt x="1736" y="650"/>
                  </a:lnTo>
                  <a:lnTo>
                    <a:pt x="1734" y="647"/>
                  </a:lnTo>
                  <a:lnTo>
                    <a:pt x="1733" y="643"/>
                  </a:lnTo>
                  <a:lnTo>
                    <a:pt x="1731" y="640"/>
                  </a:lnTo>
                  <a:lnTo>
                    <a:pt x="1729" y="645"/>
                  </a:lnTo>
                  <a:lnTo>
                    <a:pt x="1728" y="650"/>
                  </a:lnTo>
                  <a:lnTo>
                    <a:pt x="1728" y="655"/>
                  </a:lnTo>
                  <a:lnTo>
                    <a:pt x="1728" y="662"/>
                  </a:lnTo>
                  <a:lnTo>
                    <a:pt x="1731" y="662"/>
                  </a:lnTo>
                  <a:lnTo>
                    <a:pt x="1733" y="669"/>
                  </a:lnTo>
                  <a:lnTo>
                    <a:pt x="1741" y="669"/>
                  </a:lnTo>
                  <a:lnTo>
                    <a:pt x="1750" y="667"/>
                  </a:lnTo>
                  <a:lnTo>
                    <a:pt x="1757" y="670"/>
                  </a:lnTo>
                  <a:lnTo>
                    <a:pt x="1764" y="676"/>
                  </a:lnTo>
                  <a:lnTo>
                    <a:pt x="1769" y="681"/>
                  </a:lnTo>
                  <a:lnTo>
                    <a:pt x="1772" y="689"/>
                  </a:lnTo>
                  <a:lnTo>
                    <a:pt x="1772" y="699"/>
                  </a:lnTo>
                  <a:lnTo>
                    <a:pt x="1766" y="703"/>
                  </a:lnTo>
                  <a:lnTo>
                    <a:pt x="1759" y="706"/>
                  </a:lnTo>
                  <a:lnTo>
                    <a:pt x="1751" y="707"/>
                  </a:lnTo>
                  <a:lnTo>
                    <a:pt x="1743" y="706"/>
                  </a:lnTo>
                  <a:lnTo>
                    <a:pt x="1744" y="707"/>
                  </a:lnTo>
                  <a:lnTo>
                    <a:pt x="1746" y="707"/>
                  </a:lnTo>
                  <a:lnTo>
                    <a:pt x="1747" y="708"/>
                  </a:lnTo>
                  <a:lnTo>
                    <a:pt x="1747" y="709"/>
                  </a:lnTo>
                  <a:lnTo>
                    <a:pt x="1753" y="713"/>
                  </a:lnTo>
                  <a:lnTo>
                    <a:pt x="1759" y="714"/>
                  </a:lnTo>
                  <a:lnTo>
                    <a:pt x="1765" y="713"/>
                  </a:lnTo>
                  <a:lnTo>
                    <a:pt x="1771" y="708"/>
                  </a:lnTo>
                  <a:lnTo>
                    <a:pt x="1802" y="731"/>
                  </a:lnTo>
                  <a:lnTo>
                    <a:pt x="1799" y="735"/>
                  </a:lnTo>
                  <a:lnTo>
                    <a:pt x="1794" y="737"/>
                  </a:lnTo>
                  <a:lnTo>
                    <a:pt x="1791" y="739"/>
                  </a:lnTo>
                  <a:lnTo>
                    <a:pt x="1786" y="744"/>
                  </a:lnTo>
                  <a:lnTo>
                    <a:pt x="1795" y="753"/>
                  </a:lnTo>
                  <a:lnTo>
                    <a:pt x="1811" y="767"/>
                  </a:lnTo>
                  <a:lnTo>
                    <a:pt x="1828" y="784"/>
                  </a:lnTo>
                  <a:lnTo>
                    <a:pt x="1849" y="803"/>
                  </a:lnTo>
                  <a:lnTo>
                    <a:pt x="1870" y="822"/>
                  </a:lnTo>
                  <a:lnTo>
                    <a:pt x="1889" y="839"/>
                  </a:lnTo>
                  <a:lnTo>
                    <a:pt x="1906" y="853"/>
                  </a:lnTo>
                  <a:lnTo>
                    <a:pt x="1918" y="863"/>
                  </a:lnTo>
                  <a:lnTo>
                    <a:pt x="1888" y="884"/>
                  </a:lnTo>
                  <a:lnTo>
                    <a:pt x="1875" y="871"/>
                  </a:lnTo>
                  <a:lnTo>
                    <a:pt x="1859" y="854"/>
                  </a:lnTo>
                  <a:lnTo>
                    <a:pt x="1838" y="835"/>
                  </a:lnTo>
                  <a:lnTo>
                    <a:pt x="1816" y="815"/>
                  </a:lnTo>
                  <a:lnTo>
                    <a:pt x="1794" y="796"/>
                  </a:lnTo>
                  <a:lnTo>
                    <a:pt x="1775" y="778"/>
                  </a:lnTo>
                  <a:lnTo>
                    <a:pt x="1758" y="765"/>
                  </a:lnTo>
                  <a:lnTo>
                    <a:pt x="1747" y="756"/>
                  </a:lnTo>
                  <a:lnTo>
                    <a:pt x="1743" y="874"/>
                  </a:lnTo>
                  <a:lnTo>
                    <a:pt x="1750" y="877"/>
                  </a:lnTo>
                  <a:lnTo>
                    <a:pt x="1758" y="875"/>
                  </a:lnTo>
                  <a:lnTo>
                    <a:pt x="1766" y="873"/>
                  </a:lnTo>
                  <a:lnTo>
                    <a:pt x="1773" y="871"/>
                  </a:lnTo>
                  <a:lnTo>
                    <a:pt x="1779" y="873"/>
                  </a:lnTo>
                  <a:lnTo>
                    <a:pt x="1783" y="875"/>
                  </a:lnTo>
                  <a:lnTo>
                    <a:pt x="1786" y="878"/>
                  </a:lnTo>
                  <a:lnTo>
                    <a:pt x="1787" y="883"/>
                  </a:lnTo>
                  <a:lnTo>
                    <a:pt x="1800" y="885"/>
                  </a:lnTo>
                  <a:lnTo>
                    <a:pt x="1813" y="886"/>
                  </a:lnTo>
                  <a:lnTo>
                    <a:pt x="1824" y="888"/>
                  </a:lnTo>
                  <a:lnTo>
                    <a:pt x="1837" y="886"/>
                  </a:lnTo>
                  <a:lnTo>
                    <a:pt x="1850" y="885"/>
                  </a:lnTo>
                  <a:lnTo>
                    <a:pt x="1863" y="885"/>
                  </a:lnTo>
                  <a:lnTo>
                    <a:pt x="1875" y="884"/>
                  </a:lnTo>
                  <a:lnTo>
                    <a:pt x="1888" y="884"/>
                  </a:lnTo>
                  <a:lnTo>
                    <a:pt x="1918" y="863"/>
                  </a:lnTo>
                  <a:lnTo>
                    <a:pt x="1925" y="866"/>
                  </a:lnTo>
                  <a:lnTo>
                    <a:pt x="1936" y="868"/>
                  </a:lnTo>
                  <a:lnTo>
                    <a:pt x="1949" y="870"/>
                  </a:lnTo>
                  <a:lnTo>
                    <a:pt x="1964" y="873"/>
                  </a:lnTo>
                  <a:lnTo>
                    <a:pt x="1979" y="876"/>
                  </a:lnTo>
                  <a:lnTo>
                    <a:pt x="1993" y="882"/>
                  </a:lnTo>
                  <a:lnTo>
                    <a:pt x="2005" y="889"/>
                  </a:lnTo>
                  <a:lnTo>
                    <a:pt x="2016" y="898"/>
                  </a:lnTo>
                  <a:lnTo>
                    <a:pt x="2019" y="904"/>
                  </a:lnTo>
                  <a:lnTo>
                    <a:pt x="2019" y="912"/>
                  </a:lnTo>
                  <a:lnTo>
                    <a:pt x="2018" y="920"/>
                  </a:lnTo>
                  <a:lnTo>
                    <a:pt x="2019" y="928"/>
                  </a:lnTo>
                  <a:lnTo>
                    <a:pt x="2027" y="934"/>
                  </a:lnTo>
                  <a:lnTo>
                    <a:pt x="2039" y="942"/>
                  </a:lnTo>
                  <a:lnTo>
                    <a:pt x="2053" y="952"/>
                  </a:lnTo>
                  <a:lnTo>
                    <a:pt x="2071" y="964"/>
                  </a:lnTo>
                  <a:lnTo>
                    <a:pt x="2090" y="977"/>
                  </a:lnTo>
                  <a:lnTo>
                    <a:pt x="2111" y="992"/>
                  </a:lnTo>
                  <a:lnTo>
                    <a:pt x="2133" y="1006"/>
                  </a:lnTo>
                  <a:lnTo>
                    <a:pt x="2155" y="1021"/>
                  </a:lnTo>
                  <a:lnTo>
                    <a:pt x="2177" y="1036"/>
                  </a:lnTo>
                  <a:lnTo>
                    <a:pt x="2198" y="1050"/>
                  </a:lnTo>
                  <a:lnTo>
                    <a:pt x="2216" y="1063"/>
                  </a:lnTo>
                  <a:lnTo>
                    <a:pt x="2234" y="1074"/>
                  </a:lnTo>
                  <a:lnTo>
                    <a:pt x="2248" y="1083"/>
                  </a:lnTo>
                  <a:lnTo>
                    <a:pt x="2259" y="1091"/>
                  </a:lnTo>
                  <a:lnTo>
                    <a:pt x="2266" y="1096"/>
                  </a:lnTo>
                  <a:lnTo>
                    <a:pt x="2269" y="1097"/>
                  </a:lnTo>
                  <a:lnTo>
                    <a:pt x="2269" y="1102"/>
                  </a:lnTo>
                  <a:lnTo>
                    <a:pt x="2266" y="1104"/>
                  </a:lnTo>
                  <a:lnTo>
                    <a:pt x="2263" y="1107"/>
                  </a:lnTo>
                  <a:lnTo>
                    <a:pt x="2259" y="1109"/>
                  </a:lnTo>
                  <a:lnTo>
                    <a:pt x="2251" y="1109"/>
                  </a:lnTo>
                  <a:lnTo>
                    <a:pt x="2240" y="1109"/>
                  </a:lnTo>
                  <a:lnTo>
                    <a:pt x="2224" y="1109"/>
                  </a:lnTo>
                  <a:lnTo>
                    <a:pt x="2208" y="1109"/>
                  </a:lnTo>
                  <a:lnTo>
                    <a:pt x="2189" y="1109"/>
                  </a:lnTo>
                  <a:lnTo>
                    <a:pt x="2168" y="1108"/>
                  </a:lnTo>
                  <a:lnTo>
                    <a:pt x="2147" y="1108"/>
                  </a:lnTo>
                  <a:lnTo>
                    <a:pt x="2124" y="1108"/>
                  </a:lnTo>
                  <a:lnTo>
                    <a:pt x="2102" y="1108"/>
                  </a:lnTo>
                  <a:lnTo>
                    <a:pt x="2078" y="1108"/>
                  </a:lnTo>
                  <a:lnTo>
                    <a:pt x="2057" y="1108"/>
                  </a:lnTo>
                  <a:lnTo>
                    <a:pt x="2037" y="1108"/>
                  </a:lnTo>
                  <a:lnTo>
                    <a:pt x="2018" y="1108"/>
                  </a:lnTo>
                  <a:lnTo>
                    <a:pt x="2002" y="1108"/>
                  </a:lnTo>
                  <a:lnTo>
                    <a:pt x="1988" y="1108"/>
                  </a:lnTo>
                  <a:lnTo>
                    <a:pt x="1976" y="1108"/>
                  </a:lnTo>
                  <a:lnTo>
                    <a:pt x="1971" y="1101"/>
                  </a:lnTo>
                  <a:lnTo>
                    <a:pt x="1967" y="1094"/>
                  </a:lnTo>
                  <a:lnTo>
                    <a:pt x="1962" y="1087"/>
                  </a:lnTo>
                  <a:lnTo>
                    <a:pt x="1959" y="1079"/>
                  </a:lnTo>
                  <a:lnTo>
                    <a:pt x="1955" y="1072"/>
                  </a:lnTo>
                  <a:lnTo>
                    <a:pt x="1952" y="1065"/>
                  </a:lnTo>
                  <a:lnTo>
                    <a:pt x="1946" y="1058"/>
                  </a:lnTo>
                  <a:lnTo>
                    <a:pt x="1940" y="1051"/>
                  </a:lnTo>
                  <a:lnTo>
                    <a:pt x="1937" y="1053"/>
                  </a:lnTo>
                  <a:lnTo>
                    <a:pt x="1933" y="1064"/>
                  </a:lnTo>
                  <a:lnTo>
                    <a:pt x="1930" y="1073"/>
                  </a:lnTo>
                  <a:lnTo>
                    <a:pt x="1925" y="1082"/>
                  </a:lnTo>
                  <a:lnTo>
                    <a:pt x="1921" y="1091"/>
                  </a:lnTo>
                  <a:lnTo>
                    <a:pt x="1915" y="1101"/>
                  </a:lnTo>
                  <a:lnTo>
                    <a:pt x="1908" y="1109"/>
                  </a:lnTo>
                  <a:lnTo>
                    <a:pt x="1901" y="1117"/>
                  </a:lnTo>
                  <a:lnTo>
                    <a:pt x="1893" y="1124"/>
                  </a:lnTo>
                  <a:lnTo>
                    <a:pt x="2301" y="1124"/>
                  </a:lnTo>
                  <a:lnTo>
                    <a:pt x="2301" y="1181"/>
                  </a:lnTo>
                  <a:lnTo>
                    <a:pt x="1786" y="1181"/>
                  </a:lnTo>
                  <a:lnTo>
                    <a:pt x="1783" y="1126"/>
                  </a:lnTo>
                  <a:lnTo>
                    <a:pt x="1783" y="1125"/>
                  </a:lnTo>
                  <a:lnTo>
                    <a:pt x="1776" y="1117"/>
                  </a:lnTo>
                  <a:lnTo>
                    <a:pt x="1769" y="1109"/>
                  </a:lnTo>
                  <a:lnTo>
                    <a:pt x="1761" y="1100"/>
                  </a:lnTo>
                  <a:lnTo>
                    <a:pt x="1754" y="1091"/>
                  </a:lnTo>
                  <a:lnTo>
                    <a:pt x="1728" y="1091"/>
                  </a:lnTo>
                  <a:lnTo>
                    <a:pt x="1700" y="1091"/>
                  </a:lnTo>
                  <a:lnTo>
                    <a:pt x="1670" y="1091"/>
                  </a:lnTo>
                  <a:lnTo>
                    <a:pt x="1641" y="1093"/>
                  </a:lnTo>
                  <a:lnTo>
                    <a:pt x="1615" y="1093"/>
                  </a:lnTo>
                  <a:lnTo>
                    <a:pt x="1594" y="1094"/>
                  </a:lnTo>
                  <a:lnTo>
                    <a:pt x="1580" y="1094"/>
                  </a:lnTo>
                  <a:lnTo>
                    <a:pt x="1574" y="1094"/>
                  </a:lnTo>
                  <a:lnTo>
                    <a:pt x="1584" y="1067"/>
                  </a:lnTo>
                  <a:lnTo>
                    <a:pt x="1590" y="1067"/>
                  </a:lnTo>
                  <a:lnTo>
                    <a:pt x="1606" y="1067"/>
                  </a:lnTo>
                  <a:lnTo>
                    <a:pt x="1628" y="1067"/>
                  </a:lnTo>
                  <a:lnTo>
                    <a:pt x="1655" y="1067"/>
                  </a:lnTo>
                  <a:lnTo>
                    <a:pt x="1682" y="1067"/>
                  </a:lnTo>
                  <a:lnTo>
                    <a:pt x="1706" y="1067"/>
                  </a:lnTo>
                  <a:lnTo>
                    <a:pt x="1725" y="1066"/>
                  </a:lnTo>
                  <a:lnTo>
                    <a:pt x="1734" y="1066"/>
                  </a:lnTo>
                  <a:lnTo>
                    <a:pt x="1739" y="1064"/>
                  </a:lnTo>
                  <a:lnTo>
                    <a:pt x="1739" y="1060"/>
                  </a:lnTo>
                  <a:lnTo>
                    <a:pt x="1737" y="1056"/>
                  </a:lnTo>
                  <a:lnTo>
                    <a:pt x="1736" y="1051"/>
                  </a:lnTo>
                  <a:lnTo>
                    <a:pt x="1729" y="1050"/>
                  </a:lnTo>
                  <a:lnTo>
                    <a:pt x="1724" y="1047"/>
                  </a:lnTo>
                  <a:lnTo>
                    <a:pt x="1718" y="1045"/>
                  </a:lnTo>
                  <a:lnTo>
                    <a:pt x="1713" y="1042"/>
                  </a:lnTo>
                  <a:lnTo>
                    <a:pt x="1707" y="1038"/>
                  </a:lnTo>
                  <a:lnTo>
                    <a:pt x="1702" y="1035"/>
                  </a:lnTo>
                  <a:lnTo>
                    <a:pt x="1696" y="1032"/>
                  </a:lnTo>
                  <a:lnTo>
                    <a:pt x="1690" y="1030"/>
                  </a:lnTo>
                  <a:lnTo>
                    <a:pt x="1683" y="1034"/>
                  </a:lnTo>
                  <a:lnTo>
                    <a:pt x="1676" y="1036"/>
                  </a:lnTo>
                  <a:lnTo>
                    <a:pt x="1669" y="1037"/>
                  </a:lnTo>
                  <a:lnTo>
                    <a:pt x="1661" y="1038"/>
                  </a:lnTo>
                  <a:lnTo>
                    <a:pt x="1654" y="1037"/>
                  </a:lnTo>
                  <a:lnTo>
                    <a:pt x="1647" y="1036"/>
                  </a:lnTo>
                  <a:lnTo>
                    <a:pt x="1640" y="1034"/>
                  </a:lnTo>
                  <a:lnTo>
                    <a:pt x="1634" y="1030"/>
                  </a:lnTo>
                  <a:lnTo>
                    <a:pt x="1627" y="1034"/>
                  </a:lnTo>
                  <a:lnTo>
                    <a:pt x="1622" y="1036"/>
                  </a:lnTo>
                  <a:lnTo>
                    <a:pt x="1615" y="1039"/>
                  </a:lnTo>
                  <a:lnTo>
                    <a:pt x="1609" y="1042"/>
                  </a:lnTo>
                  <a:lnTo>
                    <a:pt x="1602" y="1044"/>
                  </a:lnTo>
                  <a:lnTo>
                    <a:pt x="1596" y="1047"/>
                  </a:lnTo>
                  <a:lnTo>
                    <a:pt x="1590" y="1051"/>
                  </a:lnTo>
                  <a:lnTo>
                    <a:pt x="1584" y="1056"/>
                  </a:lnTo>
                  <a:lnTo>
                    <a:pt x="1584" y="1067"/>
                  </a:lnTo>
                  <a:lnTo>
                    <a:pt x="1574" y="1094"/>
                  </a:lnTo>
                  <a:lnTo>
                    <a:pt x="1567" y="1095"/>
                  </a:lnTo>
                  <a:lnTo>
                    <a:pt x="1561" y="1097"/>
                  </a:lnTo>
                  <a:lnTo>
                    <a:pt x="1557" y="1102"/>
                  </a:lnTo>
                  <a:lnTo>
                    <a:pt x="1552" y="1107"/>
                  </a:lnTo>
                  <a:lnTo>
                    <a:pt x="1547" y="1112"/>
                  </a:lnTo>
                  <a:lnTo>
                    <a:pt x="1543" y="1118"/>
                  </a:lnTo>
                  <a:lnTo>
                    <a:pt x="1538" y="1123"/>
                  </a:lnTo>
                  <a:lnTo>
                    <a:pt x="1533" y="1127"/>
                  </a:lnTo>
                  <a:lnTo>
                    <a:pt x="1542" y="1129"/>
                  </a:lnTo>
                  <a:lnTo>
                    <a:pt x="1554" y="1129"/>
                  </a:lnTo>
                  <a:lnTo>
                    <a:pt x="1569" y="1129"/>
                  </a:lnTo>
                  <a:lnTo>
                    <a:pt x="1587" y="1129"/>
                  </a:lnTo>
                  <a:lnTo>
                    <a:pt x="1605" y="1129"/>
                  </a:lnTo>
                  <a:lnTo>
                    <a:pt x="1626" y="1127"/>
                  </a:lnTo>
                  <a:lnTo>
                    <a:pt x="1648" y="1127"/>
                  </a:lnTo>
                  <a:lnTo>
                    <a:pt x="1669" y="1126"/>
                  </a:lnTo>
                  <a:lnTo>
                    <a:pt x="1691" y="1126"/>
                  </a:lnTo>
                  <a:lnTo>
                    <a:pt x="1711" y="1125"/>
                  </a:lnTo>
                  <a:lnTo>
                    <a:pt x="1729" y="1125"/>
                  </a:lnTo>
                  <a:lnTo>
                    <a:pt x="1747" y="1125"/>
                  </a:lnTo>
                  <a:lnTo>
                    <a:pt x="1761" y="1124"/>
                  </a:lnTo>
                  <a:lnTo>
                    <a:pt x="1772" y="1124"/>
                  </a:lnTo>
                  <a:lnTo>
                    <a:pt x="1779" y="1125"/>
                  </a:lnTo>
                  <a:lnTo>
                    <a:pt x="1783" y="1125"/>
                  </a:lnTo>
                  <a:lnTo>
                    <a:pt x="1786" y="1181"/>
                  </a:lnTo>
                  <a:lnTo>
                    <a:pt x="1365" y="1181"/>
                  </a:lnTo>
                  <a:lnTo>
                    <a:pt x="1387" y="1130"/>
                  </a:lnTo>
                  <a:lnTo>
                    <a:pt x="1392" y="1127"/>
                  </a:lnTo>
                  <a:lnTo>
                    <a:pt x="1395" y="1129"/>
                  </a:lnTo>
                  <a:lnTo>
                    <a:pt x="1400" y="1130"/>
                  </a:lnTo>
                  <a:lnTo>
                    <a:pt x="1404" y="1129"/>
                  </a:lnTo>
                  <a:lnTo>
                    <a:pt x="1392" y="1110"/>
                  </a:lnTo>
                  <a:lnTo>
                    <a:pt x="1386" y="1109"/>
                  </a:lnTo>
                  <a:lnTo>
                    <a:pt x="1381" y="1111"/>
                  </a:lnTo>
                  <a:lnTo>
                    <a:pt x="1376" y="1115"/>
                  </a:lnTo>
                  <a:lnTo>
                    <a:pt x="1370" y="1116"/>
                  </a:lnTo>
                  <a:lnTo>
                    <a:pt x="1361" y="1107"/>
                  </a:lnTo>
                  <a:lnTo>
                    <a:pt x="1357" y="1096"/>
                  </a:lnTo>
                  <a:lnTo>
                    <a:pt x="1358" y="1086"/>
                  </a:lnTo>
                  <a:lnTo>
                    <a:pt x="1363" y="1074"/>
                  </a:lnTo>
                  <a:lnTo>
                    <a:pt x="1368" y="1063"/>
                  </a:lnTo>
                  <a:lnTo>
                    <a:pt x="1373" y="1050"/>
                  </a:lnTo>
                  <a:lnTo>
                    <a:pt x="1377" y="1038"/>
                  </a:lnTo>
                  <a:lnTo>
                    <a:pt x="1376" y="1025"/>
                  </a:lnTo>
                  <a:lnTo>
                    <a:pt x="1370" y="1018"/>
                  </a:lnTo>
                  <a:lnTo>
                    <a:pt x="1365" y="1010"/>
                  </a:lnTo>
                  <a:lnTo>
                    <a:pt x="1363" y="1001"/>
                  </a:lnTo>
                  <a:lnTo>
                    <a:pt x="1361" y="992"/>
                  </a:lnTo>
                  <a:lnTo>
                    <a:pt x="1412" y="884"/>
                  </a:lnTo>
                  <a:lnTo>
                    <a:pt x="1529" y="883"/>
                  </a:lnTo>
                  <a:lnTo>
                    <a:pt x="1535" y="878"/>
                  </a:lnTo>
                  <a:lnTo>
                    <a:pt x="1542" y="871"/>
                  </a:lnTo>
                  <a:lnTo>
                    <a:pt x="1545" y="864"/>
                  </a:lnTo>
                  <a:lnTo>
                    <a:pt x="1546" y="856"/>
                  </a:lnTo>
                  <a:lnTo>
                    <a:pt x="1540" y="852"/>
                  </a:lnTo>
                  <a:lnTo>
                    <a:pt x="1535" y="854"/>
                  </a:lnTo>
                  <a:lnTo>
                    <a:pt x="1528" y="859"/>
                  </a:lnTo>
                  <a:lnTo>
                    <a:pt x="1521" y="862"/>
                  </a:lnTo>
                  <a:lnTo>
                    <a:pt x="1514" y="863"/>
                  </a:lnTo>
                  <a:lnTo>
                    <a:pt x="1506" y="863"/>
                  </a:lnTo>
                  <a:lnTo>
                    <a:pt x="1497" y="861"/>
                  </a:lnTo>
                  <a:lnTo>
                    <a:pt x="1490" y="857"/>
                  </a:lnTo>
                  <a:lnTo>
                    <a:pt x="1482" y="851"/>
                  </a:lnTo>
                  <a:lnTo>
                    <a:pt x="1473" y="846"/>
                  </a:lnTo>
                  <a:lnTo>
                    <a:pt x="1464" y="845"/>
                  </a:lnTo>
                  <a:lnTo>
                    <a:pt x="1452" y="844"/>
                  </a:lnTo>
                  <a:lnTo>
                    <a:pt x="1441" y="844"/>
                  </a:lnTo>
                  <a:lnTo>
                    <a:pt x="1430" y="845"/>
                  </a:lnTo>
                  <a:lnTo>
                    <a:pt x="1419" y="844"/>
                  </a:lnTo>
                  <a:lnTo>
                    <a:pt x="1408" y="842"/>
                  </a:lnTo>
                  <a:lnTo>
                    <a:pt x="1402" y="845"/>
                  </a:lnTo>
                  <a:lnTo>
                    <a:pt x="1397" y="846"/>
                  </a:lnTo>
                  <a:lnTo>
                    <a:pt x="1392" y="848"/>
                  </a:lnTo>
                  <a:lnTo>
                    <a:pt x="1391" y="853"/>
                  </a:lnTo>
                  <a:lnTo>
                    <a:pt x="1398" y="860"/>
                  </a:lnTo>
                  <a:lnTo>
                    <a:pt x="1404" y="867"/>
                  </a:lnTo>
                  <a:lnTo>
                    <a:pt x="1408" y="875"/>
                  </a:lnTo>
                  <a:lnTo>
                    <a:pt x="1412" y="884"/>
                  </a:lnTo>
                  <a:lnTo>
                    <a:pt x="1361" y="992"/>
                  </a:lnTo>
                  <a:lnTo>
                    <a:pt x="1357" y="993"/>
                  </a:lnTo>
                  <a:lnTo>
                    <a:pt x="1354" y="993"/>
                  </a:lnTo>
                  <a:lnTo>
                    <a:pt x="1349" y="992"/>
                  </a:lnTo>
                  <a:lnTo>
                    <a:pt x="1347" y="990"/>
                  </a:lnTo>
                  <a:lnTo>
                    <a:pt x="1347" y="998"/>
                  </a:lnTo>
                  <a:lnTo>
                    <a:pt x="1347" y="1003"/>
                  </a:lnTo>
                  <a:lnTo>
                    <a:pt x="1348" y="1010"/>
                  </a:lnTo>
                  <a:lnTo>
                    <a:pt x="1347" y="1018"/>
                  </a:lnTo>
                  <a:lnTo>
                    <a:pt x="1346" y="1025"/>
                  </a:lnTo>
                  <a:lnTo>
                    <a:pt x="1347" y="1034"/>
                  </a:lnTo>
                  <a:lnTo>
                    <a:pt x="1348" y="1041"/>
                  </a:lnTo>
                  <a:lnTo>
                    <a:pt x="1344" y="1046"/>
                  </a:lnTo>
                  <a:lnTo>
                    <a:pt x="1336" y="1047"/>
                  </a:lnTo>
                  <a:lnTo>
                    <a:pt x="1329" y="1046"/>
                  </a:lnTo>
                  <a:lnTo>
                    <a:pt x="1322" y="1043"/>
                  </a:lnTo>
                  <a:lnTo>
                    <a:pt x="1318" y="1038"/>
                  </a:lnTo>
                  <a:lnTo>
                    <a:pt x="1313" y="1046"/>
                  </a:lnTo>
                  <a:lnTo>
                    <a:pt x="1307" y="1056"/>
                  </a:lnTo>
                  <a:lnTo>
                    <a:pt x="1301" y="1064"/>
                  </a:lnTo>
                  <a:lnTo>
                    <a:pt x="1296" y="1072"/>
                  </a:lnTo>
                  <a:lnTo>
                    <a:pt x="1290" y="1080"/>
                  </a:lnTo>
                  <a:lnTo>
                    <a:pt x="1283" y="1088"/>
                  </a:lnTo>
                  <a:lnTo>
                    <a:pt x="1276" y="1095"/>
                  </a:lnTo>
                  <a:lnTo>
                    <a:pt x="1269" y="1103"/>
                  </a:lnTo>
                  <a:lnTo>
                    <a:pt x="1261" y="1110"/>
                  </a:lnTo>
                  <a:lnTo>
                    <a:pt x="1253" y="1117"/>
                  </a:lnTo>
                  <a:lnTo>
                    <a:pt x="1245" y="1123"/>
                  </a:lnTo>
                  <a:lnTo>
                    <a:pt x="1235" y="1129"/>
                  </a:lnTo>
                  <a:lnTo>
                    <a:pt x="1254" y="1131"/>
                  </a:lnTo>
                  <a:lnTo>
                    <a:pt x="1272" y="1131"/>
                  </a:lnTo>
                  <a:lnTo>
                    <a:pt x="1291" y="1131"/>
                  </a:lnTo>
                  <a:lnTo>
                    <a:pt x="1310" y="1131"/>
                  </a:lnTo>
                  <a:lnTo>
                    <a:pt x="1329" y="1130"/>
                  </a:lnTo>
                  <a:lnTo>
                    <a:pt x="1349" y="1130"/>
                  </a:lnTo>
                  <a:lnTo>
                    <a:pt x="1368" y="1130"/>
                  </a:lnTo>
                  <a:lnTo>
                    <a:pt x="1387" y="1130"/>
                  </a:lnTo>
                  <a:lnTo>
                    <a:pt x="1365" y="1181"/>
                  </a:lnTo>
                  <a:lnTo>
                    <a:pt x="864" y="1181"/>
                  </a:lnTo>
                  <a:lnTo>
                    <a:pt x="876" y="1130"/>
                  </a:lnTo>
                  <a:lnTo>
                    <a:pt x="1071" y="1130"/>
                  </a:lnTo>
                  <a:lnTo>
                    <a:pt x="1077" y="1131"/>
                  </a:lnTo>
                  <a:lnTo>
                    <a:pt x="1080" y="1131"/>
                  </a:lnTo>
                  <a:lnTo>
                    <a:pt x="1085" y="1131"/>
                  </a:lnTo>
                  <a:lnTo>
                    <a:pt x="1089" y="1130"/>
                  </a:lnTo>
                  <a:lnTo>
                    <a:pt x="1082" y="1125"/>
                  </a:lnTo>
                  <a:lnTo>
                    <a:pt x="1077" y="1120"/>
                  </a:lnTo>
                  <a:lnTo>
                    <a:pt x="1071" y="1116"/>
                  </a:lnTo>
                  <a:lnTo>
                    <a:pt x="1065" y="1112"/>
                  </a:lnTo>
                  <a:lnTo>
                    <a:pt x="1059" y="1108"/>
                  </a:lnTo>
                  <a:lnTo>
                    <a:pt x="1053" y="1103"/>
                  </a:lnTo>
                  <a:lnTo>
                    <a:pt x="1048" y="1098"/>
                  </a:lnTo>
                  <a:lnTo>
                    <a:pt x="1043" y="1093"/>
                  </a:lnTo>
                  <a:lnTo>
                    <a:pt x="1089" y="1093"/>
                  </a:lnTo>
                  <a:lnTo>
                    <a:pt x="1093" y="1090"/>
                  </a:lnTo>
                  <a:lnTo>
                    <a:pt x="1100" y="1082"/>
                  </a:lnTo>
                  <a:lnTo>
                    <a:pt x="1107" y="1069"/>
                  </a:lnTo>
                  <a:lnTo>
                    <a:pt x="1115" y="1053"/>
                  </a:lnTo>
                  <a:lnTo>
                    <a:pt x="1123" y="1036"/>
                  </a:lnTo>
                  <a:lnTo>
                    <a:pt x="1130" y="1020"/>
                  </a:lnTo>
                  <a:lnTo>
                    <a:pt x="1137" y="1008"/>
                  </a:lnTo>
                  <a:lnTo>
                    <a:pt x="1140" y="1000"/>
                  </a:lnTo>
                  <a:lnTo>
                    <a:pt x="1160" y="999"/>
                  </a:lnTo>
                  <a:lnTo>
                    <a:pt x="1155" y="1017"/>
                  </a:lnTo>
                  <a:lnTo>
                    <a:pt x="1150" y="1053"/>
                  </a:lnTo>
                  <a:lnTo>
                    <a:pt x="1145" y="1089"/>
                  </a:lnTo>
                  <a:lnTo>
                    <a:pt x="1144" y="1110"/>
                  </a:lnTo>
                  <a:lnTo>
                    <a:pt x="1148" y="1110"/>
                  </a:lnTo>
                  <a:lnTo>
                    <a:pt x="1152" y="1110"/>
                  </a:lnTo>
                  <a:lnTo>
                    <a:pt x="1157" y="1110"/>
                  </a:lnTo>
                  <a:lnTo>
                    <a:pt x="1161" y="1111"/>
                  </a:lnTo>
                  <a:lnTo>
                    <a:pt x="1168" y="1110"/>
                  </a:lnTo>
                  <a:lnTo>
                    <a:pt x="1174" y="1110"/>
                  </a:lnTo>
                  <a:lnTo>
                    <a:pt x="1179" y="1110"/>
                  </a:lnTo>
                  <a:lnTo>
                    <a:pt x="1182" y="1110"/>
                  </a:lnTo>
                  <a:lnTo>
                    <a:pt x="1174" y="991"/>
                  </a:lnTo>
                  <a:lnTo>
                    <a:pt x="1176" y="996"/>
                  </a:lnTo>
                  <a:lnTo>
                    <a:pt x="1181" y="1009"/>
                  </a:lnTo>
                  <a:lnTo>
                    <a:pt x="1188" y="1027"/>
                  </a:lnTo>
                  <a:lnTo>
                    <a:pt x="1195" y="1045"/>
                  </a:lnTo>
                  <a:lnTo>
                    <a:pt x="1203" y="1065"/>
                  </a:lnTo>
                  <a:lnTo>
                    <a:pt x="1210" y="1081"/>
                  </a:lnTo>
                  <a:lnTo>
                    <a:pt x="1215" y="1093"/>
                  </a:lnTo>
                  <a:lnTo>
                    <a:pt x="1218" y="1098"/>
                  </a:lnTo>
                  <a:lnTo>
                    <a:pt x="1224" y="1094"/>
                  </a:lnTo>
                  <a:lnTo>
                    <a:pt x="1232" y="1089"/>
                  </a:lnTo>
                  <a:lnTo>
                    <a:pt x="1239" y="1086"/>
                  </a:lnTo>
                  <a:lnTo>
                    <a:pt x="1242" y="1085"/>
                  </a:lnTo>
                  <a:lnTo>
                    <a:pt x="1240" y="1079"/>
                  </a:lnTo>
                  <a:lnTo>
                    <a:pt x="1238" y="1074"/>
                  </a:lnTo>
                  <a:lnTo>
                    <a:pt x="1235" y="1069"/>
                  </a:lnTo>
                  <a:lnTo>
                    <a:pt x="1233" y="1068"/>
                  </a:lnTo>
                  <a:lnTo>
                    <a:pt x="1274" y="1053"/>
                  </a:lnTo>
                  <a:lnTo>
                    <a:pt x="1278" y="1047"/>
                  </a:lnTo>
                  <a:lnTo>
                    <a:pt x="1284" y="1038"/>
                  </a:lnTo>
                  <a:lnTo>
                    <a:pt x="1290" y="1030"/>
                  </a:lnTo>
                  <a:lnTo>
                    <a:pt x="1292" y="1024"/>
                  </a:lnTo>
                  <a:lnTo>
                    <a:pt x="1286" y="1021"/>
                  </a:lnTo>
                  <a:lnTo>
                    <a:pt x="1276" y="1017"/>
                  </a:lnTo>
                  <a:lnTo>
                    <a:pt x="1262" y="1013"/>
                  </a:lnTo>
                  <a:lnTo>
                    <a:pt x="1248" y="1007"/>
                  </a:lnTo>
                  <a:lnTo>
                    <a:pt x="1233" y="1002"/>
                  </a:lnTo>
                  <a:lnTo>
                    <a:pt x="1219" y="999"/>
                  </a:lnTo>
                  <a:lnTo>
                    <a:pt x="1209" y="995"/>
                  </a:lnTo>
                  <a:lnTo>
                    <a:pt x="1202" y="994"/>
                  </a:lnTo>
                  <a:lnTo>
                    <a:pt x="1194" y="977"/>
                  </a:lnTo>
                  <a:lnTo>
                    <a:pt x="1203" y="976"/>
                  </a:lnTo>
                  <a:lnTo>
                    <a:pt x="1218" y="976"/>
                  </a:lnTo>
                  <a:lnTo>
                    <a:pt x="1237" y="974"/>
                  </a:lnTo>
                  <a:lnTo>
                    <a:pt x="1256" y="973"/>
                  </a:lnTo>
                  <a:lnTo>
                    <a:pt x="1275" y="972"/>
                  </a:lnTo>
                  <a:lnTo>
                    <a:pt x="1292" y="972"/>
                  </a:lnTo>
                  <a:lnTo>
                    <a:pt x="1303" y="971"/>
                  </a:lnTo>
                  <a:lnTo>
                    <a:pt x="1307" y="971"/>
                  </a:lnTo>
                  <a:lnTo>
                    <a:pt x="1306" y="964"/>
                  </a:lnTo>
                  <a:lnTo>
                    <a:pt x="1303" y="954"/>
                  </a:lnTo>
                  <a:lnTo>
                    <a:pt x="1300" y="943"/>
                  </a:lnTo>
                  <a:lnTo>
                    <a:pt x="1298" y="937"/>
                  </a:lnTo>
                  <a:lnTo>
                    <a:pt x="1245" y="954"/>
                  </a:lnTo>
                  <a:lnTo>
                    <a:pt x="1223" y="913"/>
                  </a:lnTo>
                  <a:lnTo>
                    <a:pt x="1226" y="912"/>
                  </a:lnTo>
                  <a:lnTo>
                    <a:pt x="1232" y="908"/>
                  </a:lnTo>
                  <a:lnTo>
                    <a:pt x="1240" y="905"/>
                  </a:lnTo>
                  <a:lnTo>
                    <a:pt x="1248" y="900"/>
                  </a:lnTo>
                  <a:lnTo>
                    <a:pt x="1255" y="896"/>
                  </a:lnTo>
                  <a:lnTo>
                    <a:pt x="1261" y="890"/>
                  </a:lnTo>
                  <a:lnTo>
                    <a:pt x="1264" y="885"/>
                  </a:lnTo>
                  <a:lnTo>
                    <a:pt x="1266" y="882"/>
                  </a:lnTo>
                  <a:lnTo>
                    <a:pt x="1261" y="873"/>
                  </a:lnTo>
                  <a:lnTo>
                    <a:pt x="1254" y="864"/>
                  </a:lnTo>
                  <a:lnTo>
                    <a:pt x="1246" y="859"/>
                  </a:lnTo>
                  <a:lnTo>
                    <a:pt x="1238" y="856"/>
                  </a:lnTo>
                  <a:lnTo>
                    <a:pt x="1175" y="954"/>
                  </a:lnTo>
                  <a:lnTo>
                    <a:pt x="1223" y="913"/>
                  </a:lnTo>
                  <a:lnTo>
                    <a:pt x="1245" y="954"/>
                  </a:lnTo>
                  <a:lnTo>
                    <a:pt x="1194" y="977"/>
                  </a:lnTo>
                  <a:lnTo>
                    <a:pt x="1202" y="994"/>
                  </a:lnTo>
                  <a:lnTo>
                    <a:pt x="1274" y="1053"/>
                  </a:lnTo>
                  <a:lnTo>
                    <a:pt x="1233" y="1068"/>
                  </a:lnTo>
                  <a:lnTo>
                    <a:pt x="1228" y="1065"/>
                  </a:lnTo>
                  <a:lnTo>
                    <a:pt x="1221" y="1057"/>
                  </a:lnTo>
                  <a:lnTo>
                    <a:pt x="1213" y="1044"/>
                  </a:lnTo>
                  <a:lnTo>
                    <a:pt x="1204" y="1030"/>
                  </a:lnTo>
                  <a:lnTo>
                    <a:pt x="1194" y="1015"/>
                  </a:lnTo>
                  <a:lnTo>
                    <a:pt x="1186" y="1003"/>
                  </a:lnTo>
                  <a:lnTo>
                    <a:pt x="1179" y="994"/>
                  </a:lnTo>
                  <a:lnTo>
                    <a:pt x="1174" y="991"/>
                  </a:lnTo>
                  <a:lnTo>
                    <a:pt x="1182" y="1110"/>
                  </a:lnTo>
                  <a:lnTo>
                    <a:pt x="1179" y="1089"/>
                  </a:lnTo>
                  <a:lnTo>
                    <a:pt x="1172" y="1057"/>
                  </a:lnTo>
                  <a:lnTo>
                    <a:pt x="1165" y="1023"/>
                  </a:lnTo>
                  <a:lnTo>
                    <a:pt x="1160" y="999"/>
                  </a:lnTo>
                  <a:lnTo>
                    <a:pt x="1140" y="1000"/>
                  </a:lnTo>
                  <a:lnTo>
                    <a:pt x="1117" y="1020"/>
                  </a:lnTo>
                  <a:lnTo>
                    <a:pt x="1136" y="984"/>
                  </a:lnTo>
                  <a:lnTo>
                    <a:pt x="1097" y="978"/>
                  </a:lnTo>
                  <a:lnTo>
                    <a:pt x="1095" y="957"/>
                  </a:lnTo>
                  <a:lnTo>
                    <a:pt x="1099" y="957"/>
                  </a:lnTo>
                  <a:lnTo>
                    <a:pt x="1103" y="958"/>
                  </a:lnTo>
                  <a:lnTo>
                    <a:pt x="1109" y="959"/>
                  </a:lnTo>
                  <a:lnTo>
                    <a:pt x="1115" y="961"/>
                  </a:lnTo>
                  <a:lnTo>
                    <a:pt x="1122" y="962"/>
                  </a:lnTo>
                  <a:lnTo>
                    <a:pt x="1126" y="963"/>
                  </a:lnTo>
                  <a:lnTo>
                    <a:pt x="1131" y="964"/>
                  </a:lnTo>
                  <a:lnTo>
                    <a:pt x="1135" y="965"/>
                  </a:lnTo>
                  <a:lnTo>
                    <a:pt x="1130" y="963"/>
                  </a:lnTo>
                  <a:lnTo>
                    <a:pt x="1118" y="957"/>
                  </a:lnTo>
                  <a:lnTo>
                    <a:pt x="1102" y="948"/>
                  </a:lnTo>
                  <a:lnTo>
                    <a:pt x="1083" y="939"/>
                  </a:lnTo>
                  <a:lnTo>
                    <a:pt x="1064" y="929"/>
                  </a:lnTo>
                  <a:lnTo>
                    <a:pt x="1048" y="921"/>
                  </a:lnTo>
                  <a:lnTo>
                    <a:pt x="1036" y="915"/>
                  </a:lnTo>
                  <a:lnTo>
                    <a:pt x="1031" y="913"/>
                  </a:lnTo>
                  <a:lnTo>
                    <a:pt x="1054" y="876"/>
                  </a:lnTo>
                  <a:lnTo>
                    <a:pt x="1061" y="879"/>
                  </a:lnTo>
                  <a:lnTo>
                    <a:pt x="1073" y="889"/>
                  </a:lnTo>
                  <a:lnTo>
                    <a:pt x="1087" y="899"/>
                  </a:lnTo>
                  <a:lnTo>
                    <a:pt x="1102" y="912"/>
                  </a:lnTo>
                  <a:lnTo>
                    <a:pt x="1117" y="925"/>
                  </a:lnTo>
                  <a:lnTo>
                    <a:pt x="1130" y="935"/>
                  </a:lnTo>
                  <a:lnTo>
                    <a:pt x="1139" y="942"/>
                  </a:lnTo>
                  <a:lnTo>
                    <a:pt x="1144" y="944"/>
                  </a:lnTo>
                  <a:lnTo>
                    <a:pt x="1085" y="852"/>
                  </a:lnTo>
                  <a:lnTo>
                    <a:pt x="1139" y="831"/>
                  </a:lnTo>
                  <a:lnTo>
                    <a:pt x="1161" y="946"/>
                  </a:lnTo>
                  <a:lnTo>
                    <a:pt x="1182" y="832"/>
                  </a:lnTo>
                  <a:lnTo>
                    <a:pt x="1176" y="831"/>
                  </a:lnTo>
                  <a:lnTo>
                    <a:pt x="1169" y="830"/>
                  </a:lnTo>
                  <a:lnTo>
                    <a:pt x="1163" y="830"/>
                  </a:lnTo>
                  <a:lnTo>
                    <a:pt x="1158" y="830"/>
                  </a:lnTo>
                  <a:lnTo>
                    <a:pt x="1153" y="830"/>
                  </a:lnTo>
                  <a:lnTo>
                    <a:pt x="1147" y="830"/>
                  </a:lnTo>
                  <a:lnTo>
                    <a:pt x="1143" y="831"/>
                  </a:lnTo>
                  <a:lnTo>
                    <a:pt x="1139" y="831"/>
                  </a:lnTo>
                  <a:lnTo>
                    <a:pt x="1085" y="852"/>
                  </a:lnTo>
                  <a:lnTo>
                    <a:pt x="1077" y="857"/>
                  </a:lnTo>
                  <a:lnTo>
                    <a:pt x="1066" y="864"/>
                  </a:lnTo>
                  <a:lnTo>
                    <a:pt x="1058" y="871"/>
                  </a:lnTo>
                  <a:lnTo>
                    <a:pt x="1054" y="876"/>
                  </a:lnTo>
                  <a:lnTo>
                    <a:pt x="1031" y="913"/>
                  </a:lnTo>
                  <a:lnTo>
                    <a:pt x="1028" y="920"/>
                  </a:lnTo>
                  <a:lnTo>
                    <a:pt x="1026" y="928"/>
                  </a:lnTo>
                  <a:lnTo>
                    <a:pt x="1023" y="936"/>
                  </a:lnTo>
                  <a:lnTo>
                    <a:pt x="1021" y="944"/>
                  </a:lnTo>
                  <a:lnTo>
                    <a:pt x="1024" y="944"/>
                  </a:lnTo>
                  <a:lnTo>
                    <a:pt x="1031" y="947"/>
                  </a:lnTo>
                  <a:lnTo>
                    <a:pt x="1043" y="948"/>
                  </a:lnTo>
                  <a:lnTo>
                    <a:pt x="1057" y="950"/>
                  </a:lnTo>
                  <a:lnTo>
                    <a:pt x="1070" y="954"/>
                  </a:lnTo>
                  <a:lnTo>
                    <a:pt x="1081" y="955"/>
                  </a:lnTo>
                  <a:lnTo>
                    <a:pt x="1090" y="957"/>
                  </a:lnTo>
                  <a:lnTo>
                    <a:pt x="1095" y="957"/>
                  </a:lnTo>
                  <a:lnTo>
                    <a:pt x="1097" y="978"/>
                  </a:lnTo>
                  <a:lnTo>
                    <a:pt x="1089" y="977"/>
                  </a:lnTo>
                  <a:lnTo>
                    <a:pt x="1079" y="977"/>
                  </a:lnTo>
                  <a:lnTo>
                    <a:pt x="1066" y="977"/>
                  </a:lnTo>
                  <a:lnTo>
                    <a:pt x="1053" y="978"/>
                  </a:lnTo>
                  <a:lnTo>
                    <a:pt x="1041" y="978"/>
                  </a:lnTo>
                  <a:lnTo>
                    <a:pt x="1030" y="979"/>
                  </a:lnTo>
                  <a:lnTo>
                    <a:pt x="1022" y="979"/>
                  </a:lnTo>
                  <a:lnTo>
                    <a:pt x="1020" y="979"/>
                  </a:lnTo>
                  <a:lnTo>
                    <a:pt x="1021" y="986"/>
                  </a:lnTo>
                  <a:lnTo>
                    <a:pt x="1023" y="993"/>
                  </a:lnTo>
                  <a:lnTo>
                    <a:pt x="1026" y="1000"/>
                  </a:lnTo>
                  <a:lnTo>
                    <a:pt x="1027" y="1007"/>
                  </a:lnTo>
                  <a:lnTo>
                    <a:pt x="1136" y="984"/>
                  </a:lnTo>
                  <a:lnTo>
                    <a:pt x="1117" y="1020"/>
                  </a:lnTo>
                  <a:lnTo>
                    <a:pt x="1111" y="1023"/>
                  </a:lnTo>
                  <a:lnTo>
                    <a:pt x="1103" y="1029"/>
                  </a:lnTo>
                  <a:lnTo>
                    <a:pt x="1093" y="1036"/>
                  </a:lnTo>
                  <a:lnTo>
                    <a:pt x="1083" y="1044"/>
                  </a:lnTo>
                  <a:lnTo>
                    <a:pt x="1073" y="1052"/>
                  </a:lnTo>
                  <a:lnTo>
                    <a:pt x="1065" y="1058"/>
                  </a:lnTo>
                  <a:lnTo>
                    <a:pt x="1058" y="1063"/>
                  </a:lnTo>
                  <a:lnTo>
                    <a:pt x="1054" y="1064"/>
                  </a:lnTo>
                  <a:lnTo>
                    <a:pt x="1058" y="1069"/>
                  </a:lnTo>
                  <a:lnTo>
                    <a:pt x="1063" y="1074"/>
                  </a:lnTo>
                  <a:lnTo>
                    <a:pt x="1068" y="1079"/>
                  </a:lnTo>
                  <a:lnTo>
                    <a:pt x="1074" y="1083"/>
                  </a:lnTo>
                  <a:lnTo>
                    <a:pt x="1080" y="1087"/>
                  </a:lnTo>
                  <a:lnTo>
                    <a:pt x="1085" y="1089"/>
                  </a:lnTo>
                  <a:lnTo>
                    <a:pt x="1088" y="1091"/>
                  </a:lnTo>
                  <a:lnTo>
                    <a:pt x="1089" y="1093"/>
                  </a:lnTo>
                  <a:lnTo>
                    <a:pt x="1043" y="1093"/>
                  </a:lnTo>
                  <a:lnTo>
                    <a:pt x="1030" y="1074"/>
                  </a:lnTo>
                  <a:lnTo>
                    <a:pt x="1022" y="1071"/>
                  </a:lnTo>
                  <a:lnTo>
                    <a:pt x="1014" y="1068"/>
                  </a:lnTo>
                  <a:lnTo>
                    <a:pt x="1006" y="1068"/>
                  </a:lnTo>
                  <a:lnTo>
                    <a:pt x="998" y="1069"/>
                  </a:lnTo>
                  <a:lnTo>
                    <a:pt x="990" y="1071"/>
                  </a:lnTo>
                  <a:lnTo>
                    <a:pt x="980" y="1072"/>
                  </a:lnTo>
                  <a:lnTo>
                    <a:pt x="971" y="1072"/>
                  </a:lnTo>
                  <a:lnTo>
                    <a:pt x="962" y="1072"/>
                  </a:lnTo>
                  <a:lnTo>
                    <a:pt x="959" y="1081"/>
                  </a:lnTo>
                  <a:lnTo>
                    <a:pt x="956" y="1088"/>
                  </a:lnTo>
                  <a:lnTo>
                    <a:pt x="952" y="1095"/>
                  </a:lnTo>
                  <a:lnTo>
                    <a:pt x="948" y="1100"/>
                  </a:lnTo>
                  <a:lnTo>
                    <a:pt x="943" y="1105"/>
                  </a:lnTo>
                  <a:lnTo>
                    <a:pt x="937" y="1110"/>
                  </a:lnTo>
                  <a:lnTo>
                    <a:pt x="932" y="1113"/>
                  </a:lnTo>
                  <a:lnTo>
                    <a:pt x="923" y="1118"/>
                  </a:lnTo>
                  <a:lnTo>
                    <a:pt x="917" y="1116"/>
                  </a:lnTo>
                  <a:lnTo>
                    <a:pt x="911" y="1112"/>
                  </a:lnTo>
                  <a:lnTo>
                    <a:pt x="905" y="1109"/>
                  </a:lnTo>
                  <a:lnTo>
                    <a:pt x="899" y="1107"/>
                  </a:lnTo>
                  <a:lnTo>
                    <a:pt x="876" y="1130"/>
                  </a:lnTo>
                  <a:lnTo>
                    <a:pt x="864" y="1181"/>
                  </a:lnTo>
                  <a:lnTo>
                    <a:pt x="799" y="1181"/>
                  </a:lnTo>
                  <a:lnTo>
                    <a:pt x="790" y="1105"/>
                  </a:lnTo>
                  <a:lnTo>
                    <a:pt x="797" y="1105"/>
                  </a:lnTo>
                  <a:lnTo>
                    <a:pt x="803" y="1105"/>
                  </a:lnTo>
                  <a:lnTo>
                    <a:pt x="808" y="1105"/>
                  </a:lnTo>
                  <a:lnTo>
                    <a:pt x="812" y="1104"/>
                  </a:lnTo>
                  <a:lnTo>
                    <a:pt x="804" y="985"/>
                  </a:lnTo>
                  <a:lnTo>
                    <a:pt x="806" y="991"/>
                  </a:lnTo>
                  <a:lnTo>
                    <a:pt x="811" y="1003"/>
                  </a:lnTo>
                  <a:lnTo>
                    <a:pt x="817" y="1021"/>
                  </a:lnTo>
                  <a:lnTo>
                    <a:pt x="825" y="1041"/>
                  </a:lnTo>
                  <a:lnTo>
                    <a:pt x="832" y="1059"/>
                  </a:lnTo>
                  <a:lnTo>
                    <a:pt x="840" y="1076"/>
                  </a:lnTo>
                  <a:lnTo>
                    <a:pt x="845" y="1088"/>
                  </a:lnTo>
                  <a:lnTo>
                    <a:pt x="848" y="1094"/>
                  </a:lnTo>
                  <a:lnTo>
                    <a:pt x="854" y="1089"/>
                  </a:lnTo>
                  <a:lnTo>
                    <a:pt x="862" y="1085"/>
                  </a:lnTo>
                  <a:lnTo>
                    <a:pt x="869" y="1081"/>
                  </a:lnTo>
                  <a:lnTo>
                    <a:pt x="871" y="1080"/>
                  </a:lnTo>
                  <a:lnTo>
                    <a:pt x="870" y="1074"/>
                  </a:lnTo>
                  <a:lnTo>
                    <a:pt x="868" y="1069"/>
                  </a:lnTo>
                  <a:lnTo>
                    <a:pt x="864" y="1065"/>
                  </a:lnTo>
                  <a:lnTo>
                    <a:pt x="862" y="1064"/>
                  </a:lnTo>
                  <a:lnTo>
                    <a:pt x="904" y="1049"/>
                  </a:lnTo>
                  <a:lnTo>
                    <a:pt x="908" y="1043"/>
                  </a:lnTo>
                  <a:lnTo>
                    <a:pt x="914" y="1034"/>
                  </a:lnTo>
                  <a:lnTo>
                    <a:pt x="920" y="1024"/>
                  </a:lnTo>
                  <a:lnTo>
                    <a:pt x="922" y="1018"/>
                  </a:lnTo>
                  <a:lnTo>
                    <a:pt x="917" y="1016"/>
                  </a:lnTo>
                  <a:lnTo>
                    <a:pt x="906" y="1013"/>
                  </a:lnTo>
                  <a:lnTo>
                    <a:pt x="892" y="1008"/>
                  </a:lnTo>
                  <a:lnTo>
                    <a:pt x="877" y="1002"/>
                  </a:lnTo>
                  <a:lnTo>
                    <a:pt x="863" y="998"/>
                  </a:lnTo>
                  <a:lnTo>
                    <a:pt x="849" y="994"/>
                  </a:lnTo>
                  <a:lnTo>
                    <a:pt x="839" y="991"/>
                  </a:lnTo>
                  <a:lnTo>
                    <a:pt x="832" y="990"/>
                  </a:lnTo>
                  <a:lnTo>
                    <a:pt x="824" y="972"/>
                  </a:lnTo>
                  <a:lnTo>
                    <a:pt x="833" y="971"/>
                  </a:lnTo>
                  <a:lnTo>
                    <a:pt x="848" y="971"/>
                  </a:lnTo>
                  <a:lnTo>
                    <a:pt x="867" y="970"/>
                  </a:lnTo>
                  <a:lnTo>
                    <a:pt x="886" y="969"/>
                  </a:lnTo>
                  <a:lnTo>
                    <a:pt x="905" y="968"/>
                  </a:lnTo>
                  <a:lnTo>
                    <a:pt x="922" y="968"/>
                  </a:lnTo>
                  <a:lnTo>
                    <a:pt x="933" y="966"/>
                  </a:lnTo>
                  <a:lnTo>
                    <a:pt x="937" y="966"/>
                  </a:lnTo>
                  <a:lnTo>
                    <a:pt x="936" y="959"/>
                  </a:lnTo>
                  <a:lnTo>
                    <a:pt x="933" y="949"/>
                  </a:lnTo>
                  <a:lnTo>
                    <a:pt x="929" y="939"/>
                  </a:lnTo>
                  <a:lnTo>
                    <a:pt x="927" y="933"/>
                  </a:lnTo>
                  <a:lnTo>
                    <a:pt x="875" y="948"/>
                  </a:lnTo>
                  <a:lnTo>
                    <a:pt x="852" y="908"/>
                  </a:lnTo>
                  <a:lnTo>
                    <a:pt x="855" y="907"/>
                  </a:lnTo>
                  <a:lnTo>
                    <a:pt x="861" y="904"/>
                  </a:lnTo>
                  <a:lnTo>
                    <a:pt x="869" y="899"/>
                  </a:lnTo>
                  <a:lnTo>
                    <a:pt x="877" y="895"/>
                  </a:lnTo>
                  <a:lnTo>
                    <a:pt x="884" y="890"/>
                  </a:lnTo>
                  <a:lnTo>
                    <a:pt x="891" y="885"/>
                  </a:lnTo>
                  <a:lnTo>
                    <a:pt x="894" y="881"/>
                  </a:lnTo>
                  <a:lnTo>
                    <a:pt x="896" y="877"/>
                  </a:lnTo>
                  <a:lnTo>
                    <a:pt x="891" y="868"/>
                  </a:lnTo>
                  <a:lnTo>
                    <a:pt x="884" y="860"/>
                  </a:lnTo>
                  <a:lnTo>
                    <a:pt x="876" y="854"/>
                  </a:lnTo>
                  <a:lnTo>
                    <a:pt x="867" y="852"/>
                  </a:lnTo>
                  <a:lnTo>
                    <a:pt x="805" y="948"/>
                  </a:lnTo>
                  <a:lnTo>
                    <a:pt x="852" y="908"/>
                  </a:lnTo>
                  <a:lnTo>
                    <a:pt x="875" y="948"/>
                  </a:lnTo>
                  <a:lnTo>
                    <a:pt x="824" y="972"/>
                  </a:lnTo>
                  <a:lnTo>
                    <a:pt x="832" y="990"/>
                  </a:lnTo>
                  <a:lnTo>
                    <a:pt x="904" y="1049"/>
                  </a:lnTo>
                  <a:lnTo>
                    <a:pt x="862" y="1064"/>
                  </a:lnTo>
                  <a:lnTo>
                    <a:pt x="859" y="1060"/>
                  </a:lnTo>
                  <a:lnTo>
                    <a:pt x="852" y="1052"/>
                  </a:lnTo>
                  <a:lnTo>
                    <a:pt x="843" y="1039"/>
                  </a:lnTo>
                  <a:lnTo>
                    <a:pt x="833" y="1024"/>
                  </a:lnTo>
                  <a:lnTo>
                    <a:pt x="824" y="1010"/>
                  </a:lnTo>
                  <a:lnTo>
                    <a:pt x="816" y="998"/>
                  </a:lnTo>
                  <a:lnTo>
                    <a:pt x="809" y="988"/>
                  </a:lnTo>
                  <a:lnTo>
                    <a:pt x="804" y="985"/>
                  </a:lnTo>
                  <a:lnTo>
                    <a:pt x="812" y="1104"/>
                  </a:lnTo>
                  <a:lnTo>
                    <a:pt x="809" y="1085"/>
                  </a:lnTo>
                  <a:lnTo>
                    <a:pt x="802" y="1052"/>
                  </a:lnTo>
                  <a:lnTo>
                    <a:pt x="795" y="1017"/>
                  </a:lnTo>
                  <a:lnTo>
                    <a:pt x="789" y="993"/>
                  </a:lnTo>
                  <a:lnTo>
                    <a:pt x="770" y="995"/>
                  </a:lnTo>
                  <a:lnTo>
                    <a:pt x="747" y="1014"/>
                  </a:lnTo>
                  <a:lnTo>
                    <a:pt x="765" y="979"/>
                  </a:lnTo>
                  <a:lnTo>
                    <a:pt x="726" y="973"/>
                  </a:lnTo>
                  <a:lnTo>
                    <a:pt x="725" y="952"/>
                  </a:lnTo>
                  <a:lnTo>
                    <a:pt x="729" y="952"/>
                  </a:lnTo>
                  <a:lnTo>
                    <a:pt x="733" y="954"/>
                  </a:lnTo>
                  <a:lnTo>
                    <a:pt x="738" y="955"/>
                  </a:lnTo>
                  <a:lnTo>
                    <a:pt x="745" y="956"/>
                  </a:lnTo>
                  <a:lnTo>
                    <a:pt x="751" y="957"/>
                  </a:lnTo>
                  <a:lnTo>
                    <a:pt x="755" y="958"/>
                  </a:lnTo>
                  <a:lnTo>
                    <a:pt x="760" y="959"/>
                  </a:lnTo>
                  <a:lnTo>
                    <a:pt x="763" y="961"/>
                  </a:lnTo>
                  <a:lnTo>
                    <a:pt x="759" y="957"/>
                  </a:lnTo>
                  <a:lnTo>
                    <a:pt x="747" y="951"/>
                  </a:lnTo>
                  <a:lnTo>
                    <a:pt x="731" y="943"/>
                  </a:lnTo>
                  <a:lnTo>
                    <a:pt x="712" y="934"/>
                  </a:lnTo>
                  <a:lnTo>
                    <a:pt x="693" y="925"/>
                  </a:lnTo>
                  <a:lnTo>
                    <a:pt x="676" y="917"/>
                  </a:lnTo>
                  <a:lnTo>
                    <a:pt x="665" y="911"/>
                  </a:lnTo>
                  <a:lnTo>
                    <a:pt x="660" y="908"/>
                  </a:lnTo>
                  <a:lnTo>
                    <a:pt x="685" y="871"/>
                  </a:lnTo>
                  <a:lnTo>
                    <a:pt x="692" y="875"/>
                  </a:lnTo>
                  <a:lnTo>
                    <a:pt x="702" y="884"/>
                  </a:lnTo>
                  <a:lnTo>
                    <a:pt x="716" y="895"/>
                  </a:lnTo>
                  <a:lnTo>
                    <a:pt x="732" y="907"/>
                  </a:lnTo>
                  <a:lnTo>
                    <a:pt x="747" y="920"/>
                  </a:lnTo>
                  <a:lnTo>
                    <a:pt x="760" y="930"/>
                  </a:lnTo>
                  <a:lnTo>
                    <a:pt x="769" y="937"/>
                  </a:lnTo>
                  <a:lnTo>
                    <a:pt x="773" y="940"/>
                  </a:lnTo>
                  <a:lnTo>
                    <a:pt x="715" y="847"/>
                  </a:lnTo>
                  <a:lnTo>
                    <a:pt x="768" y="826"/>
                  </a:lnTo>
                  <a:lnTo>
                    <a:pt x="790" y="941"/>
                  </a:lnTo>
                  <a:lnTo>
                    <a:pt x="811" y="826"/>
                  </a:lnTo>
                  <a:lnTo>
                    <a:pt x="805" y="825"/>
                  </a:lnTo>
                  <a:lnTo>
                    <a:pt x="799" y="825"/>
                  </a:lnTo>
                  <a:lnTo>
                    <a:pt x="794" y="824"/>
                  </a:lnTo>
                  <a:lnTo>
                    <a:pt x="788" y="824"/>
                  </a:lnTo>
                  <a:lnTo>
                    <a:pt x="782" y="825"/>
                  </a:lnTo>
                  <a:lnTo>
                    <a:pt x="777" y="825"/>
                  </a:lnTo>
                  <a:lnTo>
                    <a:pt x="773" y="826"/>
                  </a:lnTo>
                  <a:lnTo>
                    <a:pt x="768" y="826"/>
                  </a:lnTo>
                  <a:lnTo>
                    <a:pt x="715" y="847"/>
                  </a:lnTo>
                  <a:lnTo>
                    <a:pt x="707" y="853"/>
                  </a:lnTo>
                  <a:lnTo>
                    <a:pt x="696" y="860"/>
                  </a:lnTo>
                  <a:lnTo>
                    <a:pt x="688" y="867"/>
                  </a:lnTo>
                  <a:lnTo>
                    <a:pt x="685" y="871"/>
                  </a:lnTo>
                  <a:lnTo>
                    <a:pt x="660" y="908"/>
                  </a:lnTo>
                  <a:lnTo>
                    <a:pt x="658" y="914"/>
                  </a:lnTo>
                  <a:lnTo>
                    <a:pt x="656" y="922"/>
                  </a:lnTo>
                  <a:lnTo>
                    <a:pt x="653" y="932"/>
                  </a:lnTo>
                  <a:lnTo>
                    <a:pt x="651" y="940"/>
                  </a:lnTo>
                  <a:lnTo>
                    <a:pt x="654" y="940"/>
                  </a:lnTo>
                  <a:lnTo>
                    <a:pt x="661" y="942"/>
                  </a:lnTo>
                  <a:lnTo>
                    <a:pt x="673" y="943"/>
                  </a:lnTo>
                  <a:lnTo>
                    <a:pt x="687" y="946"/>
                  </a:lnTo>
                  <a:lnTo>
                    <a:pt x="700" y="949"/>
                  </a:lnTo>
                  <a:lnTo>
                    <a:pt x="711" y="950"/>
                  </a:lnTo>
                  <a:lnTo>
                    <a:pt x="721" y="952"/>
                  </a:lnTo>
                  <a:lnTo>
                    <a:pt x="725" y="952"/>
                  </a:lnTo>
                  <a:lnTo>
                    <a:pt x="726" y="973"/>
                  </a:lnTo>
                  <a:lnTo>
                    <a:pt x="719" y="972"/>
                  </a:lnTo>
                  <a:lnTo>
                    <a:pt x="708" y="972"/>
                  </a:lnTo>
                  <a:lnTo>
                    <a:pt x="696" y="972"/>
                  </a:lnTo>
                  <a:lnTo>
                    <a:pt x="682" y="973"/>
                  </a:lnTo>
                  <a:lnTo>
                    <a:pt x="670" y="973"/>
                  </a:lnTo>
                  <a:lnTo>
                    <a:pt x="659" y="974"/>
                  </a:lnTo>
                  <a:lnTo>
                    <a:pt x="651" y="974"/>
                  </a:lnTo>
                  <a:lnTo>
                    <a:pt x="649" y="974"/>
                  </a:lnTo>
                  <a:lnTo>
                    <a:pt x="650" y="981"/>
                  </a:lnTo>
                  <a:lnTo>
                    <a:pt x="652" y="988"/>
                  </a:lnTo>
                  <a:lnTo>
                    <a:pt x="654" y="995"/>
                  </a:lnTo>
                  <a:lnTo>
                    <a:pt x="656" y="1002"/>
                  </a:lnTo>
                  <a:lnTo>
                    <a:pt x="765" y="979"/>
                  </a:lnTo>
                  <a:lnTo>
                    <a:pt x="747" y="1014"/>
                  </a:lnTo>
                  <a:lnTo>
                    <a:pt x="740" y="1017"/>
                  </a:lnTo>
                  <a:lnTo>
                    <a:pt x="732" y="1023"/>
                  </a:lnTo>
                  <a:lnTo>
                    <a:pt x="723" y="1031"/>
                  </a:lnTo>
                  <a:lnTo>
                    <a:pt x="712" y="1039"/>
                  </a:lnTo>
                  <a:lnTo>
                    <a:pt x="703" y="1046"/>
                  </a:lnTo>
                  <a:lnTo>
                    <a:pt x="694" y="1053"/>
                  </a:lnTo>
                  <a:lnTo>
                    <a:pt x="688" y="1058"/>
                  </a:lnTo>
                  <a:lnTo>
                    <a:pt x="685" y="1059"/>
                  </a:lnTo>
                  <a:lnTo>
                    <a:pt x="688" y="1065"/>
                  </a:lnTo>
                  <a:lnTo>
                    <a:pt x="693" y="1069"/>
                  </a:lnTo>
                  <a:lnTo>
                    <a:pt x="699" y="1074"/>
                  </a:lnTo>
                  <a:lnTo>
                    <a:pt x="704" y="1079"/>
                  </a:lnTo>
                  <a:lnTo>
                    <a:pt x="710" y="1082"/>
                  </a:lnTo>
                  <a:lnTo>
                    <a:pt x="715" y="1085"/>
                  </a:lnTo>
                  <a:lnTo>
                    <a:pt x="718" y="1087"/>
                  </a:lnTo>
                  <a:lnTo>
                    <a:pt x="719" y="1088"/>
                  </a:lnTo>
                  <a:lnTo>
                    <a:pt x="723" y="1086"/>
                  </a:lnTo>
                  <a:lnTo>
                    <a:pt x="730" y="1078"/>
                  </a:lnTo>
                  <a:lnTo>
                    <a:pt x="737" y="1064"/>
                  </a:lnTo>
                  <a:lnTo>
                    <a:pt x="745" y="1047"/>
                  </a:lnTo>
                  <a:lnTo>
                    <a:pt x="753" y="1031"/>
                  </a:lnTo>
                  <a:lnTo>
                    <a:pt x="760" y="1015"/>
                  </a:lnTo>
                  <a:lnTo>
                    <a:pt x="767" y="1002"/>
                  </a:lnTo>
                  <a:lnTo>
                    <a:pt x="770" y="995"/>
                  </a:lnTo>
                  <a:lnTo>
                    <a:pt x="789" y="993"/>
                  </a:lnTo>
                  <a:lnTo>
                    <a:pt x="785" y="1013"/>
                  </a:lnTo>
                  <a:lnTo>
                    <a:pt x="780" y="1049"/>
                  </a:lnTo>
                  <a:lnTo>
                    <a:pt x="774" y="1085"/>
                  </a:lnTo>
                  <a:lnTo>
                    <a:pt x="773" y="1104"/>
                  </a:lnTo>
                  <a:lnTo>
                    <a:pt x="777" y="1104"/>
                  </a:lnTo>
                  <a:lnTo>
                    <a:pt x="782" y="1104"/>
                  </a:lnTo>
                  <a:lnTo>
                    <a:pt x="785" y="1105"/>
                  </a:lnTo>
                  <a:lnTo>
                    <a:pt x="790" y="1105"/>
                  </a:lnTo>
                  <a:lnTo>
                    <a:pt x="799" y="1181"/>
                  </a:lnTo>
                  <a:lnTo>
                    <a:pt x="752" y="1181"/>
                  </a:lnTo>
                  <a:lnTo>
                    <a:pt x="707" y="1130"/>
                  </a:lnTo>
                  <a:lnTo>
                    <a:pt x="704" y="1129"/>
                  </a:lnTo>
                  <a:lnTo>
                    <a:pt x="700" y="1124"/>
                  </a:lnTo>
                  <a:lnTo>
                    <a:pt x="693" y="1118"/>
                  </a:lnTo>
                  <a:lnTo>
                    <a:pt x="683" y="1109"/>
                  </a:lnTo>
                  <a:lnTo>
                    <a:pt x="674" y="1100"/>
                  </a:lnTo>
                  <a:lnTo>
                    <a:pt x="665" y="1088"/>
                  </a:lnTo>
                  <a:lnTo>
                    <a:pt x="658" y="1076"/>
                  </a:lnTo>
                  <a:lnTo>
                    <a:pt x="652" y="1064"/>
                  </a:lnTo>
                  <a:lnTo>
                    <a:pt x="646" y="1069"/>
                  </a:lnTo>
                  <a:lnTo>
                    <a:pt x="644" y="1076"/>
                  </a:lnTo>
                  <a:lnTo>
                    <a:pt x="642" y="1086"/>
                  </a:lnTo>
                  <a:lnTo>
                    <a:pt x="639" y="1093"/>
                  </a:lnTo>
                  <a:lnTo>
                    <a:pt x="631" y="1096"/>
                  </a:lnTo>
                  <a:lnTo>
                    <a:pt x="614" y="1098"/>
                  </a:lnTo>
                  <a:lnTo>
                    <a:pt x="590" y="1100"/>
                  </a:lnTo>
                  <a:lnTo>
                    <a:pt x="562" y="1101"/>
                  </a:lnTo>
                  <a:lnTo>
                    <a:pt x="532" y="1102"/>
                  </a:lnTo>
                  <a:lnTo>
                    <a:pt x="501" y="1102"/>
                  </a:lnTo>
                  <a:lnTo>
                    <a:pt x="476" y="1102"/>
                  </a:lnTo>
                  <a:lnTo>
                    <a:pt x="455" y="1102"/>
                  </a:lnTo>
                  <a:lnTo>
                    <a:pt x="448" y="1110"/>
                  </a:lnTo>
                  <a:lnTo>
                    <a:pt x="441" y="1117"/>
                  </a:lnTo>
                  <a:lnTo>
                    <a:pt x="433" y="1124"/>
                  </a:lnTo>
                  <a:lnTo>
                    <a:pt x="425" y="1130"/>
                  </a:lnTo>
                  <a:lnTo>
                    <a:pt x="707" y="1130"/>
                  </a:lnTo>
                  <a:lnTo>
                    <a:pt x="752" y="1181"/>
                  </a:lnTo>
                  <a:lnTo>
                    <a:pt x="734" y="1181"/>
                  </a:lnTo>
                  <a:lnTo>
                    <a:pt x="704" y="1182"/>
                  </a:lnTo>
                  <a:lnTo>
                    <a:pt x="664" y="1182"/>
                  </a:lnTo>
                  <a:lnTo>
                    <a:pt x="614" y="1182"/>
                  </a:lnTo>
                  <a:lnTo>
                    <a:pt x="557" y="1182"/>
                  </a:lnTo>
                  <a:lnTo>
                    <a:pt x="496" y="1182"/>
                  </a:lnTo>
                  <a:lnTo>
                    <a:pt x="431" y="1182"/>
                  </a:lnTo>
                  <a:lnTo>
                    <a:pt x="365" y="1182"/>
                  </a:lnTo>
                  <a:lnTo>
                    <a:pt x="298" y="1182"/>
                  </a:lnTo>
                  <a:lnTo>
                    <a:pt x="236" y="1182"/>
                  </a:lnTo>
                  <a:lnTo>
                    <a:pt x="177" y="1181"/>
                  </a:lnTo>
                  <a:lnTo>
                    <a:pt x="125" y="1181"/>
                  </a:lnTo>
                  <a:lnTo>
                    <a:pt x="80" y="1181"/>
                  </a:lnTo>
                  <a:lnTo>
                    <a:pt x="47" y="1181"/>
                  </a:lnTo>
                  <a:lnTo>
                    <a:pt x="26" y="1181"/>
                  </a:lnTo>
                  <a:lnTo>
                    <a:pt x="18" y="1181"/>
                  </a:lnTo>
                  <a:lnTo>
                    <a:pt x="18" y="1130"/>
                  </a:lnTo>
                  <a:lnTo>
                    <a:pt x="253" y="1130"/>
                  </a:lnTo>
                  <a:lnTo>
                    <a:pt x="245" y="1122"/>
                  </a:lnTo>
                  <a:lnTo>
                    <a:pt x="238" y="1113"/>
                  </a:lnTo>
                  <a:lnTo>
                    <a:pt x="230" y="1105"/>
                  </a:lnTo>
                  <a:lnTo>
                    <a:pt x="223" y="1097"/>
                  </a:lnTo>
                  <a:lnTo>
                    <a:pt x="216" y="1089"/>
                  </a:lnTo>
                  <a:lnTo>
                    <a:pt x="210" y="1080"/>
                  </a:lnTo>
                  <a:lnTo>
                    <a:pt x="205" y="1071"/>
                  </a:lnTo>
                  <a:lnTo>
                    <a:pt x="201" y="1061"/>
                  </a:lnTo>
                  <a:lnTo>
                    <a:pt x="189" y="1037"/>
                  </a:lnTo>
                  <a:lnTo>
                    <a:pt x="184" y="1008"/>
                  </a:lnTo>
                  <a:lnTo>
                    <a:pt x="180" y="979"/>
                  </a:lnTo>
                  <a:lnTo>
                    <a:pt x="178" y="957"/>
                  </a:lnTo>
                  <a:lnTo>
                    <a:pt x="210" y="948"/>
                  </a:lnTo>
                  <a:lnTo>
                    <a:pt x="213" y="956"/>
                  </a:lnTo>
                  <a:lnTo>
                    <a:pt x="214" y="980"/>
                  </a:lnTo>
                  <a:lnTo>
                    <a:pt x="214" y="986"/>
                  </a:lnTo>
                  <a:lnTo>
                    <a:pt x="216" y="993"/>
                  </a:lnTo>
                  <a:lnTo>
                    <a:pt x="218" y="999"/>
                  </a:lnTo>
                  <a:lnTo>
                    <a:pt x="221" y="1003"/>
                  </a:lnTo>
                  <a:lnTo>
                    <a:pt x="227" y="1002"/>
                  </a:lnTo>
                  <a:lnTo>
                    <a:pt x="234" y="1001"/>
                  </a:lnTo>
                  <a:lnTo>
                    <a:pt x="242" y="999"/>
                  </a:lnTo>
                  <a:lnTo>
                    <a:pt x="250" y="996"/>
                  </a:lnTo>
                  <a:lnTo>
                    <a:pt x="257" y="994"/>
                  </a:lnTo>
                  <a:lnTo>
                    <a:pt x="264" y="992"/>
                  </a:lnTo>
                  <a:lnTo>
                    <a:pt x="269" y="990"/>
                  </a:lnTo>
                  <a:lnTo>
                    <a:pt x="273" y="986"/>
                  </a:lnTo>
                  <a:lnTo>
                    <a:pt x="288" y="1014"/>
                  </a:lnTo>
                  <a:lnTo>
                    <a:pt x="281" y="1015"/>
                  </a:lnTo>
                  <a:lnTo>
                    <a:pt x="273" y="1016"/>
                  </a:lnTo>
                  <a:lnTo>
                    <a:pt x="265" y="1017"/>
                  </a:lnTo>
                  <a:lnTo>
                    <a:pt x="257" y="1020"/>
                  </a:lnTo>
                  <a:lnTo>
                    <a:pt x="247" y="1022"/>
                  </a:lnTo>
                  <a:lnTo>
                    <a:pt x="241" y="1024"/>
                  </a:lnTo>
                  <a:lnTo>
                    <a:pt x="232" y="1027"/>
                  </a:lnTo>
                  <a:lnTo>
                    <a:pt x="225" y="1029"/>
                  </a:lnTo>
                  <a:lnTo>
                    <a:pt x="227" y="1037"/>
                  </a:lnTo>
                  <a:lnTo>
                    <a:pt x="229" y="1044"/>
                  </a:lnTo>
                  <a:lnTo>
                    <a:pt x="231" y="1050"/>
                  </a:lnTo>
                  <a:lnTo>
                    <a:pt x="237" y="1056"/>
                  </a:lnTo>
                  <a:lnTo>
                    <a:pt x="252" y="1079"/>
                  </a:lnTo>
                  <a:lnTo>
                    <a:pt x="256" y="1083"/>
                  </a:lnTo>
                  <a:lnTo>
                    <a:pt x="264" y="1090"/>
                  </a:lnTo>
                  <a:lnTo>
                    <a:pt x="274" y="1097"/>
                  </a:lnTo>
                  <a:lnTo>
                    <a:pt x="283" y="1104"/>
                  </a:lnTo>
                  <a:lnTo>
                    <a:pt x="323" y="1120"/>
                  </a:lnTo>
                  <a:lnTo>
                    <a:pt x="327" y="1120"/>
                  </a:lnTo>
                  <a:lnTo>
                    <a:pt x="332" y="1120"/>
                  </a:lnTo>
                  <a:lnTo>
                    <a:pt x="338" y="1120"/>
                  </a:lnTo>
                  <a:lnTo>
                    <a:pt x="344" y="1120"/>
                  </a:lnTo>
                  <a:lnTo>
                    <a:pt x="349" y="1119"/>
                  </a:lnTo>
                  <a:lnTo>
                    <a:pt x="355" y="1118"/>
                  </a:lnTo>
                  <a:lnTo>
                    <a:pt x="359" y="1116"/>
                  </a:lnTo>
                  <a:lnTo>
                    <a:pt x="361" y="1112"/>
                  </a:lnTo>
                  <a:lnTo>
                    <a:pt x="356" y="1104"/>
                  </a:lnTo>
                  <a:lnTo>
                    <a:pt x="351" y="1096"/>
                  </a:lnTo>
                  <a:lnTo>
                    <a:pt x="344" y="1090"/>
                  </a:lnTo>
                  <a:lnTo>
                    <a:pt x="337" y="1085"/>
                  </a:lnTo>
                  <a:lnTo>
                    <a:pt x="333" y="1093"/>
                  </a:lnTo>
                  <a:lnTo>
                    <a:pt x="329" y="1104"/>
                  </a:lnTo>
                  <a:lnTo>
                    <a:pt x="325" y="1116"/>
                  </a:lnTo>
                  <a:lnTo>
                    <a:pt x="323" y="1120"/>
                  </a:lnTo>
                  <a:lnTo>
                    <a:pt x="283" y="1104"/>
                  </a:lnTo>
                  <a:lnTo>
                    <a:pt x="290" y="1089"/>
                  </a:lnTo>
                  <a:lnTo>
                    <a:pt x="300" y="1073"/>
                  </a:lnTo>
                  <a:lnTo>
                    <a:pt x="305" y="1056"/>
                  </a:lnTo>
                  <a:lnTo>
                    <a:pt x="308" y="1039"/>
                  </a:lnTo>
                  <a:lnTo>
                    <a:pt x="301" y="1043"/>
                  </a:lnTo>
                  <a:lnTo>
                    <a:pt x="293" y="1049"/>
                  </a:lnTo>
                  <a:lnTo>
                    <a:pt x="285" y="1054"/>
                  </a:lnTo>
                  <a:lnTo>
                    <a:pt x="275" y="1061"/>
                  </a:lnTo>
                  <a:lnTo>
                    <a:pt x="266" y="1067"/>
                  </a:lnTo>
                  <a:lnTo>
                    <a:pt x="259" y="1073"/>
                  </a:lnTo>
                  <a:lnTo>
                    <a:pt x="254" y="1076"/>
                  </a:lnTo>
                  <a:lnTo>
                    <a:pt x="252" y="1079"/>
                  </a:lnTo>
                  <a:lnTo>
                    <a:pt x="237" y="1056"/>
                  </a:lnTo>
                  <a:lnTo>
                    <a:pt x="243" y="1051"/>
                  </a:lnTo>
                  <a:lnTo>
                    <a:pt x="249" y="1047"/>
                  </a:lnTo>
                  <a:lnTo>
                    <a:pt x="256" y="1043"/>
                  </a:lnTo>
                  <a:lnTo>
                    <a:pt x="263" y="1038"/>
                  </a:lnTo>
                  <a:lnTo>
                    <a:pt x="269" y="1034"/>
                  </a:lnTo>
                  <a:lnTo>
                    <a:pt x="276" y="1028"/>
                  </a:lnTo>
                  <a:lnTo>
                    <a:pt x="282" y="1023"/>
                  </a:lnTo>
                  <a:lnTo>
                    <a:pt x="288" y="1018"/>
                  </a:lnTo>
                  <a:lnTo>
                    <a:pt x="288" y="1014"/>
                  </a:lnTo>
                  <a:lnTo>
                    <a:pt x="273" y="986"/>
                  </a:lnTo>
                  <a:lnTo>
                    <a:pt x="267" y="985"/>
                  </a:lnTo>
                  <a:lnTo>
                    <a:pt x="260" y="983"/>
                  </a:lnTo>
                  <a:lnTo>
                    <a:pt x="252" y="981"/>
                  </a:lnTo>
                  <a:lnTo>
                    <a:pt x="244" y="980"/>
                  </a:lnTo>
                  <a:lnTo>
                    <a:pt x="235" y="980"/>
                  </a:lnTo>
                  <a:lnTo>
                    <a:pt x="227" y="979"/>
                  </a:lnTo>
                  <a:lnTo>
                    <a:pt x="220" y="979"/>
                  </a:lnTo>
                  <a:lnTo>
                    <a:pt x="214" y="980"/>
                  </a:lnTo>
                  <a:lnTo>
                    <a:pt x="213" y="956"/>
                  </a:lnTo>
                  <a:lnTo>
                    <a:pt x="217" y="957"/>
                  </a:lnTo>
                  <a:lnTo>
                    <a:pt x="225" y="956"/>
                  </a:lnTo>
                  <a:lnTo>
                    <a:pt x="235" y="954"/>
                  </a:lnTo>
                  <a:lnTo>
                    <a:pt x="244" y="950"/>
                  </a:lnTo>
                  <a:lnTo>
                    <a:pt x="253" y="947"/>
                  </a:lnTo>
                  <a:lnTo>
                    <a:pt x="261" y="942"/>
                  </a:lnTo>
                  <a:lnTo>
                    <a:pt x="267" y="939"/>
                  </a:lnTo>
                  <a:lnTo>
                    <a:pt x="269" y="935"/>
                  </a:lnTo>
                  <a:lnTo>
                    <a:pt x="210" y="937"/>
                  </a:lnTo>
                  <a:lnTo>
                    <a:pt x="210" y="948"/>
                  </a:lnTo>
                  <a:lnTo>
                    <a:pt x="178" y="957"/>
                  </a:lnTo>
                  <a:lnTo>
                    <a:pt x="152" y="956"/>
                  </a:lnTo>
                  <a:lnTo>
                    <a:pt x="145" y="964"/>
                  </a:lnTo>
                  <a:lnTo>
                    <a:pt x="135" y="970"/>
                  </a:lnTo>
                  <a:lnTo>
                    <a:pt x="125" y="973"/>
                  </a:lnTo>
                  <a:lnTo>
                    <a:pt x="120" y="974"/>
                  </a:lnTo>
                  <a:lnTo>
                    <a:pt x="122" y="1061"/>
                  </a:lnTo>
                  <a:lnTo>
                    <a:pt x="87" y="1065"/>
                  </a:lnTo>
                  <a:lnTo>
                    <a:pt x="87" y="1046"/>
                  </a:lnTo>
                  <a:lnTo>
                    <a:pt x="86" y="1007"/>
                  </a:lnTo>
                  <a:lnTo>
                    <a:pt x="85" y="965"/>
                  </a:lnTo>
                  <a:lnTo>
                    <a:pt x="86" y="946"/>
                  </a:lnTo>
                  <a:lnTo>
                    <a:pt x="96" y="940"/>
                  </a:lnTo>
                  <a:lnTo>
                    <a:pt x="103" y="933"/>
                  </a:lnTo>
                  <a:lnTo>
                    <a:pt x="108" y="923"/>
                  </a:lnTo>
                  <a:lnTo>
                    <a:pt x="108" y="913"/>
                  </a:lnTo>
                  <a:lnTo>
                    <a:pt x="109" y="847"/>
                  </a:lnTo>
                  <a:lnTo>
                    <a:pt x="111" y="699"/>
                  </a:lnTo>
                  <a:lnTo>
                    <a:pt x="111" y="545"/>
                  </a:lnTo>
                  <a:lnTo>
                    <a:pt x="108" y="461"/>
                  </a:lnTo>
                  <a:lnTo>
                    <a:pt x="162" y="457"/>
                  </a:lnTo>
                  <a:lnTo>
                    <a:pt x="159" y="493"/>
                  </a:lnTo>
                  <a:lnTo>
                    <a:pt x="160" y="540"/>
                  </a:lnTo>
                  <a:lnTo>
                    <a:pt x="163" y="582"/>
                  </a:lnTo>
                  <a:lnTo>
                    <a:pt x="164" y="599"/>
                  </a:lnTo>
                  <a:lnTo>
                    <a:pt x="173" y="600"/>
                  </a:lnTo>
                  <a:lnTo>
                    <a:pt x="184" y="600"/>
                  </a:lnTo>
                  <a:lnTo>
                    <a:pt x="193" y="600"/>
                  </a:lnTo>
                  <a:lnTo>
                    <a:pt x="202" y="600"/>
                  </a:lnTo>
                  <a:lnTo>
                    <a:pt x="212" y="599"/>
                  </a:lnTo>
                  <a:lnTo>
                    <a:pt x="221" y="599"/>
                  </a:lnTo>
                  <a:lnTo>
                    <a:pt x="231" y="599"/>
                  </a:lnTo>
                  <a:lnTo>
                    <a:pt x="241" y="599"/>
                  </a:lnTo>
                  <a:lnTo>
                    <a:pt x="241" y="457"/>
                  </a:lnTo>
                  <a:lnTo>
                    <a:pt x="304" y="457"/>
                  </a:lnTo>
                  <a:lnTo>
                    <a:pt x="307" y="484"/>
                  </a:lnTo>
                  <a:lnTo>
                    <a:pt x="305" y="512"/>
                  </a:lnTo>
                  <a:lnTo>
                    <a:pt x="305" y="540"/>
                  </a:lnTo>
                  <a:lnTo>
                    <a:pt x="307" y="566"/>
                  </a:lnTo>
                  <a:lnTo>
                    <a:pt x="309" y="563"/>
                  </a:lnTo>
                  <a:lnTo>
                    <a:pt x="314" y="556"/>
                  </a:lnTo>
                  <a:lnTo>
                    <a:pt x="319" y="547"/>
                  </a:lnTo>
                  <a:lnTo>
                    <a:pt x="327" y="537"/>
                  </a:lnTo>
                  <a:lnTo>
                    <a:pt x="336" y="526"/>
                  </a:lnTo>
                  <a:lnTo>
                    <a:pt x="345" y="517"/>
                  </a:lnTo>
                  <a:lnTo>
                    <a:pt x="355" y="511"/>
                  </a:lnTo>
                  <a:lnTo>
                    <a:pt x="366" y="5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1332000" y="4508640"/>
              <a:ext cx="43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6" name=""/>
          <p:cNvGrpSpPr/>
          <p:nvPr/>
        </p:nvGrpSpPr>
        <p:grpSpPr>
          <a:xfrm>
            <a:off x="2700360" y="4508640"/>
            <a:ext cx="915480" cy="743400"/>
            <a:chOff x="2700360" y="4508640"/>
            <a:chExt cx="915480" cy="743400"/>
          </a:xfrm>
        </p:grpSpPr>
        <p:sp>
          <p:nvSpPr>
            <p:cNvPr id="2407" name=""/>
            <p:cNvSpPr/>
            <p:nvPr/>
          </p:nvSpPr>
          <p:spPr>
            <a:xfrm flipH="1" rot="234600">
              <a:off x="2915280" y="4795560"/>
              <a:ext cx="685800" cy="433440"/>
            </a:xfrm>
            <a:custGeom>
              <a:avLst/>
              <a:gdLst/>
              <a:ahLst/>
              <a:rect l="l" t="t" r="r" b="b"/>
              <a:pathLst>
                <a:path w="2301" h="1182">
                  <a:moveTo>
                    <a:pt x="366" y="509"/>
                  </a:moveTo>
                  <a:lnTo>
                    <a:pt x="366" y="495"/>
                  </a:lnTo>
                  <a:lnTo>
                    <a:pt x="368" y="481"/>
                  </a:lnTo>
                  <a:lnTo>
                    <a:pt x="373" y="468"/>
                  </a:lnTo>
                  <a:lnTo>
                    <a:pt x="380" y="457"/>
                  </a:lnTo>
                  <a:lnTo>
                    <a:pt x="445" y="466"/>
                  </a:lnTo>
                  <a:lnTo>
                    <a:pt x="446" y="479"/>
                  </a:lnTo>
                  <a:lnTo>
                    <a:pt x="446" y="496"/>
                  </a:lnTo>
                  <a:lnTo>
                    <a:pt x="450" y="510"/>
                  </a:lnTo>
                  <a:lnTo>
                    <a:pt x="462" y="513"/>
                  </a:lnTo>
                  <a:lnTo>
                    <a:pt x="462" y="508"/>
                  </a:lnTo>
                  <a:lnTo>
                    <a:pt x="462" y="502"/>
                  </a:lnTo>
                  <a:lnTo>
                    <a:pt x="462" y="496"/>
                  </a:lnTo>
                  <a:lnTo>
                    <a:pt x="458" y="491"/>
                  </a:lnTo>
                  <a:lnTo>
                    <a:pt x="461" y="487"/>
                  </a:lnTo>
                  <a:lnTo>
                    <a:pt x="464" y="482"/>
                  </a:lnTo>
                  <a:lnTo>
                    <a:pt x="468" y="480"/>
                  </a:lnTo>
                  <a:lnTo>
                    <a:pt x="472" y="477"/>
                  </a:lnTo>
                  <a:lnTo>
                    <a:pt x="475" y="468"/>
                  </a:lnTo>
                  <a:lnTo>
                    <a:pt x="477" y="458"/>
                  </a:lnTo>
                  <a:lnTo>
                    <a:pt x="476" y="447"/>
                  </a:lnTo>
                  <a:lnTo>
                    <a:pt x="474" y="437"/>
                  </a:lnTo>
                  <a:lnTo>
                    <a:pt x="471" y="436"/>
                  </a:lnTo>
                  <a:lnTo>
                    <a:pt x="470" y="436"/>
                  </a:lnTo>
                  <a:lnTo>
                    <a:pt x="469" y="436"/>
                  </a:lnTo>
                  <a:lnTo>
                    <a:pt x="470" y="436"/>
                  </a:lnTo>
                  <a:lnTo>
                    <a:pt x="453" y="435"/>
                  </a:lnTo>
                  <a:lnTo>
                    <a:pt x="448" y="442"/>
                  </a:lnTo>
                  <a:lnTo>
                    <a:pt x="448" y="454"/>
                  </a:lnTo>
                  <a:lnTo>
                    <a:pt x="445" y="466"/>
                  </a:lnTo>
                  <a:lnTo>
                    <a:pt x="380" y="457"/>
                  </a:lnTo>
                  <a:lnTo>
                    <a:pt x="304" y="457"/>
                  </a:lnTo>
                  <a:lnTo>
                    <a:pt x="241" y="457"/>
                  </a:lnTo>
                  <a:lnTo>
                    <a:pt x="237" y="458"/>
                  </a:lnTo>
                  <a:lnTo>
                    <a:pt x="228" y="458"/>
                  </a:lnTo>
                  <a:lnTo>
                    <a:pt x="215" y="458"/>
                  </a:lnTo>
                  <a:lnTo>
                    <a:pt x="201" y="458"/>
                  </a:lnTo>
                  <a:lnTo>
                    <a:pt x="187" y="458"/>
                  </a:lnTo>
                  <a:lnTo>
                    <a:pt x="174" y="457"/>
                  </a:lnTo>
                  <a:lnTo>
                    <a:pt x="165" y="457"/>
                  </a:lnTo>
                  <a:lnTo>
                    <a:pt x="162" y="457"/>
                  </a:lnTo>
                  <a:lnTo>
                    <a:pt x="108" y="461"/>
                  </a:lnTo>
                  <a:lnTo>
                    <a:pt x="103" y="459"/>
                  </a:lnTo>
                  <a:lnTo>
                    <a:pt x="99" y="457"/>
                  </a:lnTo>
                  <a:lnTo>
                    <a:pt x="96" y="452"/>
                  </a:lnTo>
                  <a:lnTo>
                    <a:pt x="97" y="446"/>
                  </a:lnTo>
                  <a:lnTo>
                    <a:pt x="91" y="447"/>
                  </a:lnTo>
                  <a:lnTo>
                    <a:pt x="86" y="450"/>
                  </a:lnTo>
                  <a:lnTo>
                    <a:pt x="80" y="451"/>
                  </a:lnTo>
                  <a:lnTo>
                    <a:pt x="74" y="447"/>
                  </a:lnTo>
                  <a:lnTo>
                    <a:pt x="71" y="439"/>
                  </a:lnTo>
                  <a:lnTo>
                    <a:pt x="67" y="431"/>
                  </a:lnTo>
                  <a:lnTo>
                    <a:pt x="61" y="426"/>
                  </a:lnTo>
                  <a:lnTo>
                    <a:pt x="53" y="429"/>
                  </a:lnTo>
                  <a:lnTo>
                    <a:pt x="45" y="420"/>
                  </a:lnTo>
                  <a:lnTo>
                    <a:pt x="35" y="410"/>
                  </a:lnTo>
                  <a:lnTo>
                    <a:pt x="27" y="400"/>
                  </a:lnTo>
                  <a:lnTo>
                    <a:pt x="24" y="387"/>
                  </a:lnTo>
                  <a:lnTo>
                    <a:pt x="16" y="380"/>
                  </a:lnTo>
                  <a:lnTo>
                    <a:pt x="7" y="372"/>
                  </a:lnTo>
                  <a:lnTo>
                    <a:pt x="2" y="363"/>
                  </a:lnTo>
                  <a:lnTo>
                    <a:pt x="0" y="350"/>
                  </a:lnTo>
                  <a:lnTo>
                    <a:pt x="3" y="342"/>
                  </a:lnTo>
                  <a:lnTo>
                    <a:pt x="468" y="344"/>
                  </a:lnTo>
                  <a:lnTo>
                    <a:pt x="468" y="352"/>
                  </a:lnTo>
                  <a:lnTo>
                    <a:pt x="467" y="360"/>
                  </a:lnTo>
                  <a:lnTo>
                    <a:pt x="463" y="367"/>
                  </a:lnTo>
                  <a:lnTo>
                    <a:pt x="457" y="373"/>
                  </a:lnTo>
                  <a:lnTo>
                    <a:pt x="462" y="376"/>
                  </a:lnTo>
                  <a:lnTo>
                    <a:pt x="467" y="379"/>
                  </a:lnTo>
                  <a:lnTo>
                    <a:pt x="472" y="380"/>
                  </a:lnTo>
                  <a:lnTo>
                    <a:pt x="478" y="380"/>
                  </a:lnTo>
                  <a:lnTo>
                    <a:pt x="476" y="376"/>
                  </a:lnTo>
                  <a:lnTo>
                    <a:pt x="474" y="371"/>
                  </a:lnTo>
                  <a:lnTo>
                    <a:pt x="471" y="366"/>
                  </a:lnTo>
                  <a:lnTo>
                    <a:pt x="472" y="360"/>
                  </a:lnTo>
                  <a:lnTo>
                    <a:pt x="481" y="358"/>
                  </a:lnTo>
                  <a:lnTo>
                    <a:pt x="487" y="355"/>
                  </a:lnTo>
                  <a:lnTo>
                    <a:pt x="494" y="349"/>
                  </a:lnTo>
                  <a:lnTo>
                    <a:pt x="500" y="343"/>
                  </a:lnTo>
                  <a:lnTo>
                    <a:pt x="505" y="338"/>
                  </a:lnTo>
                  <a:lnTo>
                    <a:pt x="511" y="333"/>
                  </a:lnTo>
                  <a:lnTo>
                    <a:pt x="518" y="329"/>
                  </a:lnTo>
                  <a:lnTo>
                    <a:pt x="525" y="327"/>
                  </a:lnTo>
                  <a:lnTo>
                    <a:pt x="536" y="318"/>
                  </a:lnTo>
                  <a:lnTo>
                    <a:pt x="528" y="315"/>
                  </a:lnTo>
                  <a:lnTo>
                    <a:pt x="516" y="315"/>
                  </a:lnTo>
                  <a:lnTo>
                    <a:pt x="507" y="313"/>
                  </a:lnTo>
                  <a:lnTo>
                    <a:pt x="504" y="303"/>
                  </a:lnTo>
                  <a:lnTo>
                    <a:pt x="503" y="303"/>
                  </a:lnTo>
                  <a:lnTo>
                    <a:pt x="503" y="298"/>
                  </a:lnTo>
                  <a:lnTo>
                    <a:pt x="504" y="298"/>
                  </a:lnTo>
                  <a:lnTo>
                    <a:pt x="504" y="299"/>
                  </a:lnTo>
                  <a:lnTo>
                    <a:pt x="507" y="293"/>
                  </a:lnTo>
                  <a:lnTo>
                    <a:pt x="512" y="291"/>
                  </a:lnTo>
                  <a:lnTo>
                    <a:pt x="518" y="291"/>
                  </a:lnTo>
                  <a:lnTo>
                    <a:pt x="525" y="291"/>
                  </a:lnTo>
                  <a:lnTo>
                    <a:pt x="530" y="292"/>
                  </a:lnTo>
                  <a:lnTo>
                    <a:pt x="536" y="292"/>
                  </a:lnTo>
                  <a:lnTo>
                    <a:pt x="541" y="290"/>
                  </a:lnTo>
                  <a:lnTo>
                    <a:pt x="544" y="286"/>
                  </a:lnTo>
                  <a:lnTo>
                    <a:pt x="536" y="284"/>
                  </a:lnTo>
                  <a:lnTo>
                    <a:pt x="528" y="285"/>
                  </a:lnTo>
                  <a:lnTo>
                    <a:pt x="520" y="285"/>
                  </a:lnTo>
                  <a:lnTo>
                    <a:pt x="512" y="284"/>
                  </a:lnTo>
                  <a:lnTo>
                    <a:pt x="498" y="284"/>
                  </a:lnTo>
                  <a:lnTo>
                    <a:pt x="485" y="283"/>
                  </a:lnTo>
                  <a:lnTo>
                    <a:pt x="472" y="284"/>
                  </a:lnTo>
                  <a:lnTo>
                    <a:pt x="460" y="284"/>
                  </a:lnTo>
                  <a:lnTo>
                    <a:pt x="447" y="284"/>
                  </a:lnTo>
                  <a:lnTo>
                    <a:pt x="435" y="284"/>
                  </a:lnTo>
                  <a:lnTo>
                    <a:pt x="423" y="283"/>
                  </a:lnTo>
                  <a:lnTo>
                    <a:pt x="411" y="282"/>
                  </a:lnTo>
                  <a:lnTo>
                    <a:pt x="410" y="277"/>
                  </a:lnTo>
                  <a:lnTo>
                    <a:pt x="409" y="274"/>
                  </a:lnTo>
                  <a:lnTo>
                    <a:pt x="407" y="270"/>
                  </a:lnTo>
                  <a:lnTo>
                    <a:pt x="411" y="267"/>
                  </a:lnTo>
                  <a:lnTo>
                    <a:pt x="433" y="265"/>
                  </a:lnTo>
                  <a:lnTo>
                    <a:pt x="455" y="265"/>
                  </a:lnTo>
                  <a:lnTo>
                    <a:pt x="477" y="265"/>
                  </a:lnTo>
                  <a:lnTo>
                    <a:pt x="498" y="265"/>
                  </a:lnTo>
                  <a:lnTo>
                    <a:pt x="518" y="265"/>
                  </a:lnTo>
                  <a:lnTo>
                    <a:pt x="539" y="265"/>
                  </a:lnTo>
                  <a:lnTo>
                    <a:pt x="561" y="265"/>
                  </a:lnTo>
                  <a:lnTo>
                    <a:pt x="581" y="264"/>
                  </a:lnTo>
                  <a:lnTo>
                    <a:pt x="585" y="267"/>
                  </a:lnTo>
                  <a:lnTo>
                    <a:pt x="588" y="267"/>
                  </a:lnTo>
                  <a:lnTo>
                    <a:pt x="591" y="267"/>
                  </a:lnTo>
                  <a:lnTo>
                    <a:pt x="593" y="269"/>
                  </a:lnTo>
                  <a:lnTo>
                    <a:pt x="594" y="275"/>
                  </a:lnTo>
                  <a:lnTo>
                    <a:pt x="592" y="281"/>
                  </a:lnTo>
                  <a:lnTo>
                    <a:pt x="590" y="284"/>
                  </a:lnTo>
                  <a:lnTo>
                    <a:pt x="587" y="289"/>
                  </a:lnTo>
                  <a:lnTo>
                    <a:pt x="593" y="291"/>
                  </a:lnTo>
                  <a:lnTo>
                    <a:pt x="598" y="292"/>
                  </a:lnTo>
                  <a:lnTo>
                    <a:pt x="603" y="292"/>
                  </a:lnTo>
                  <a:lnTo>
                    <a:pt x="609" y="292"/>
                  </a:lnTo>
                  <a:lnTo>
                    <a:pt x="615" y="292"/>
                  </a:lnTo>
                  <a:lnTo>
                    <a:pt x="620" y="293"/>
                  </a:lnTo>
                  <a:lnTo>
                    <a:pt x="624" y="296"/>
                  </a:lnTo>
                  <a:lnTo>
                    <a:pt x="628" y="300"/>
                  </a:lnTo>
                  <a:lnTo>
                    <a:pt x="629" y="308"/>
                  </a:lnTo>
                  <a:lnTo>
                    <a:pt x="624" y="313"/>
                  </a:lnTo>
                  <a:lnTo>
                    <a:pt x="617" y="315"/>
                  </a:lnTo>
                  <a:lnTo>
                    <a:pt x="610" y="315"/>
                  </a:lnTo>
                  <a:lnTo>
                    <a:pt x="607" y="314"/>
                  </a:lnTo>
                  <a:lnTo>
                    <a:pt x="603" y="313"/>
                  </a:lnTo>
                  <a:lnTo>
                    <a:pt x="599" y="314"/>
                  </a:lnTo>
                  <a:lnTo>
                    <a:pt x="595" y="315"/>
                  </a:lnTo>
                  <a:lnTo>
                    <a:pt x="602" y="318"/>
                  </a:lnTo>
                  <a:lnTo>
                    <a:pt x="608" y="320"/>
                  </a:lnTo>
                  <a:lnTo>
                    <a:pt x="614" y="322"/>
                  </a:lnTo>
                  <a:lnTo>
                    <a:pt x="621" y="323"/>
                  </a:lnTo>
                  <a:lnTo>
                    <a:pt x="627" y="326"/>
                  </a:lnTo>
                  <a:lnTo>
                    <a:pt x="632" y="329"/>
                  </a:lnTo>
                  <a:lnTo>
                    <a:pt x="637" y="333"/>
                  </a:lnTo>
                  <a:lnTo>
                    <a:pt x="643" y="336"/>
                  </a:lnTo>
                  <a:lnTo>
                    <a:pt x="649" y="342"/>
                  </a:lnTo>
                  <a:lnTo>
                    <a:pt x="654" y="348"/>
                  </a:lnTo>
                  <a:lnTo>
                    <a:pt x="661" y="354"/>
                  </a:lnTo>
                  <a:lnTo>
                    <a:pt x="667" y="358"/>
                  </a:lnTo>
                  <a:lnTo>
                    <a:pt x="675" y="380"/>
                  </a:lnTo>
                  <a:lnTo>
                    <a:pt x="672" y="384"/>
                  </a:lnTo>
                  <a:lnTo>
                    <a:pt x="666" y="388"/>
                  </a:lnTo>
                  <a:lnTo>
                    <a:pt x="660" y="391"/>
                  </a:lnTo>
                  <a:lnTo>
                    <a:pt x="656" y="393"/>
                  </a:lnTo>
                  <a:lnTo>
                    <a:pt x="653" y="395"/>
                  </a:lnTo>
                  <a:lnTo>
                    <a:pt x="652" y="399"/>
                  </a:lnTo>
                  <a:lnTo>
                    <a:pt x="653" y="403"/>
                  </a:lnTo>
                  <a:lnTo>
                    <a:pt x="656" y="406"/>
                  </a:lnTo>
                  <a:lnTo>
                    <a:pt x="653" y="417"/>
                  </a:lnTo>
                  <a:lnTo>
                    <a:pt x="651" y="430"/>
                  </a:lnTo>
                  <a:lnTo>
                    <a:pt x="650" y="443"/>
                  </a:lnTo>
                  <a:lnTo>
                    <a:pt x="651" y="453"/>
                  </a:lnTo>
                  <a:lnTo>
                    <a:pt x="651" y="465"/>
                  </a:lnTo>
                  <a:lnTo>
                    <a:pt x="657" y="473"/>
                  </a:lnTo>
                  <a:lnTo>
                    <a:pt x="665" y="479"/>
                  </a:lnTo>
                  <a:lnTo>
                    <a:pt x="675" y="482"/>
                  </a:lnTo>
                  <a:lnTo>
                    <a:pt x="676" y="488"/>
                  </a:lnTo>
                  <a:lnTo>
                    <a:pt x="675" y="494"/>
                  </a:lnTo>
                  <a:lnTo>
                    <a:pt x="673" y="498"/>
                  </a:lnTo>
                  <a:lnTo>
                    <a:pt x="670" y="502"/>
                  </a:lnTo>
                  <a:lnTo>
                    <a:pt x="672" y="502"/>
                  </a:lnTo>
                  <a:lnTo>
                    <a:pt x="671" y="509"/>
                  </a:lnTo>
                  <a:lnTo>
                    <a:pt x="682" y="515"/>
                  </a:lnTo>
                  <a:lnTo>
                    <a:pt x="693" y="519"/>
                  </a:lnTo>
                  <a:lnTo>
                    <a:pt x="704" y="524"/>
                  </a:lnTo>
                  <a:lnTo>
                    <a:pt x="716" y="527"/>
                  </a:lnTo>
                  <a:lnTo>
                    <a:pt x="728" y="531"/>
                  </a:lnTo>
                  <a:lnTo>
                    <a:pt x="739" y="534"/>
                  </a:lnTo>
                  <a:lnTo>
                    <a:pt x="751" y="538"/>
                  </a:lnTo>
                  <a:lnTo>
                    <a:pt x="762" y="542"/>
                  </a:lnTo>
                  <a:lnTo>
                    <a:pt x="775" y="549"/>
                  </a:lnTo>
                  <a:lnTo>
                    <a:pt x="789" y="553"/>
                  </a:lnTo>
                  <a:lnTo>
                    <a:pt x="803" y="555"/>
                  </a:lnTo>
                  <a:lnTo>
                    <a:pt x="818" y="555"/>
                  </a:lnTo>
                  <a:lnTo>
                    <a:pt x="833" y="555"/>
                  </a:lnTo>
                  <a:lnTo>
                    <a:pt x="848" y="554"/>
                  </a:lnTo>
                  <a:lnTo>
                    <a:pt x="863" y="554"/>
                  </a:lnTo>
                  <a:lnTo>
                    <a:pt x="878" y="554"/>
                  </a:lnTo>
                  <a:lnTo>
                    <a:pt x="881" y="550"/>
                  </a:lnTo>
                  <a:lnTo>
                    <a:pt x="875" y="547"/>
                  </a:lnTo>
                  <a:lnTo>
                    <a:pt x="868" y="546"/>
                  </a:lnTo>
                  <a:lnTo>
                    <a:pt x="860" y="546"/>
                  </a:lnTo>
                  <a:lnTo>
                    <a:pt x="852" y="547"/>
                  </a:lnTo>
                  <a:lnTo>
                    <a:pt x="846" y="539"/>
                  </a:lnTo>
                  <a:lnTo>
                    <a:pt x="847" y="528"/>
                  </a:lnTo>
                  <a:lnTo>
                    <a:pt x="850" y="517"/>
                  </a:lnTo>
                  <a:lnTo>
                    <a:pt x="850" y="506"/>
                  </a:lnTo>
                  <a:lnTo>
                    <a:pt x="852" y="493"/>
                  </a:lnTo>
                  <a:lnTo>
                    <a:pt x="853" y="460"/>
                  </a:lnTo>
                  <a:lnTo>
                    <a:pt x="852" y="425"/>
                  </a:lnTo>
                  <a:lnTo>
                    <a:pt x="846" y="403"/>
                  </a:lnTo>
                  <a:lnTo>
                    <a:pt x="846" y="399"/>
                  </a:lnTo>
                  <a:lnTo>
                    <a:pt x="847" y="394"/>
                  </a:lnTo>
                  <a:lnTo>
                    <a:pt x="848" y="388"/>
                  </a:lnTo>
                  <a:lnTo>
                    <a:pt x="850" y="385"/>
                  </a:lnTo>
                  <a:lnTo>
                    <a:pt x="857" y="384"/>
                  </a:lnTo>
                  <a:lnTo>
                    <a:pt x="864" y="384"/>
                  </a:lnTo>
                  <a:lnTo>
                    <a:pt x="871" y="384"/>
                  </a:lnTo>
                  <a:lnTo>
                    <a:pt x="878" y="384"/>
                  </a:lnTo>
                  <a:lnTo>
                    <a:pt x="884" y="384"/>
                  </a:lnTo>
                  <a:lnTo>
                    <a:pt x="891" y="384"/>
                  </a:lnTo>
                  <a:lnTo>
                    <a:pt x="898" y="384"/>
                  </a:lnTo>
                  <a:lnTo>
                    <a:pt x="905" y="382"/>
                  </a:lnTo>
                  <a:lnTo>
                    <a:pt x="918" y="365"/>
                  </a:lnTo>
                  <a:lnTo>
                    <a:pt x="921" y="363"/>
                  </a:lnTo>
                  <a:lnTo>
                    <a:pt x="925" y="360"/>
                  </a:lnTo>
                  <a:lnTo>
                    <a:pt x="927" y="357"/>
                  </a:lnTo>
                  <a:lnTo>
                    <a:pt x="928" y="354"/>
                  </a:lnTo>
                  <a:lnTo>
                    <a:pt x="922" y="352"/>
                  </a:lnTo>
                  <a:lnTo>
                    <a:pt x="917" y="354"/>
                  </a:lnTo>
                  <a:lnTo>
                    <a:pt x="911" y="354"/>
                  </a:lnTo>
                  <a:lnTo>
                    <a:pt x="906" y="355"/>
                  </a:lnTo>
                  <a:lnTo>
                    <a:pt x="900" y="355"/>
                  </a:lnTo>
                  <a:lnTo>
                    <a:pt x="897" y="354"/>
                  </a:lnTo>
                  <a:lnTo>
                    <a:pt x="893" y="350"/>
                  </a:lnTo>
                  <a:lnTo>
                    <a:pt x="890" y="345"/>
                  </a:lnTo>
                  <a:lnTo>
                    <a:pt x="893" y="336"/>
                  </a:lnTo>
                  <a:lnTo>
                    <a:pt x="900" y="328"/>
                  </a:lnTo>
                  <a:lnTo>
                    <a:pt x="906" y="320"/>
                  </a:lnTo>
                  <a:lnTo>
                    <a:pt x="905" y="308"/>
                  </a:lnTo>
                  <a:lnTo>
                    <a:pt x="906" y="308"/>
                  </a:lnTo>
                  <a:lnTo>
                    <a:pt x="908" y="294"/>
                  </a:lnTo>
                  <a:lnTo>
                    <a:pt x="912" y="279"/>
                  </a:lnTo>
                  <a:lnTo>
                    <a:pt x="918" y="267"/>
                  </a:lnTo>
                  <a:lnTo>
                    <a:pt x="927" y="257"/>
                  </a:lnTo>
                  <a:lnTo>
                    <a:pt x="923" y="254"/>
                  </a:lnTo>
                  <a:lnTo>
                    <a:pt x="918" y="259"/>
                  </a:lnTo>
                  <a:lnTo>
                    <a:pt x="913" y="262"/>
                  </a:lnTo>
                  <a:lnTo>
                    <a:pt x="908" y="265"/>
                  </a:lnTo>
                  <a:lnTo>
                    <a:pt x="904" y="269"/>
                  </a:lnTo>
                  <a:lnTo>
                    <a:pt x="899" y="272"/>
                  </a:lnTo>
                  <a:lnTo>
                    <a:pt x="896" y="276"/>
                  </a:lnTo>
                  <a:lnTo>
                    <a:pt x="891" y="279"/>
                  </a:lnTo>
                  <a:lnTo>
                    <a:pt x="885" y="284"/>
                  </a:lnTo>
                  <a:lnTo>
                    <a:pt x="872" y="292"/>
                  </a:lnTo>
                  <a:lnTo>
                    <a:pt x="860" y="300"/>
                  </a:lnTo>
                  <a:lnTo>
                    <a:pt x="848" y="308"/>
                  </a:lnTo>
                  <a:lnTo>
                    <a:pt x="837" y="316"/>
                  </a:lnTo>
                  <a:lnTo>
                    <a:pt x="825" y="325"/>
                  </a:lnTo>
                  <a:lnTo>
                    <a:pt x="813" y="333"/>
                  </a:lnTo>
                  <a:lnTo>
                    <a:pt x="801" y="341"/>
                  </a:lnTo>
                  <a:lnTo>
                    <a:pt x="788" y="349"/>
                  </a:lnTo>
                  <a:lnTo>
                    <a:pt x="774" y="354"/>
                  </a:lnTo>
                  <a:lnTo>
                    <a:pt x="761" y="358"/>
                  </a:lnTo>
                  <a:lnTo>
                    <a:pt x="747" y="364"/>
                  </a:lnTo>
                  <a:lnTo>
                    <a:pt x="733" y="370"/>
                  </a:lnTo>
                  <a:lnTo>
                    <a:pt x="721" y="374"/>
                  </a:lnTo>
                  <a:lnTo>
                    <a:pt x="705" y="378"/>
                  </a:lnTo>
                  <a:lnTo>
                    <a:pt x="690" y="380"/>
                  </a:lnTo>
                  <a:lnTo>
                    <a:pt x="675" y="380"/>
                  </a:lnTo>
                  <a:lnTo>
                    <a:pt x="667" y="358"/>
                  </a:lnTo>
                  <a:lnTo>
                    <a:pt x="678" y="358"/>
                  </a:lnTo>
                  <a:lnTo>
                    <a:pt x="689" y="357"/>
                  </a:lnTo>
                  <a:lnTo>
                    <a:pt x="700" y="356"/>
                  </a:lnTo>
                  <a:lnTo>
                    <a:pt x="711" y="355"/>
                  </a:lnTo>
                  <a:lnTo>
                    <a:pt x="722" y="352"/>
                  </a:lnTo>
                  <a:lnTo>
                    <a:pt x="732" y="349"/>
                  </a:lnTo>
                  <a:lnTo>
                    <a:pt x="741" y="345"/>
                  </a:lnTo>
                  <a:lnTo>
                    <a:pt x="751" y="341"/>
                  </a:lnTo>
                  <a:lnTo>
                    <a:pt x="774" y="333"/>
                  </a:lnTo>
                  <a:lnTo>
                    <a:pt x="796" y="322"/>
                  </a:lnTo>
                  <a:lnTo>
                    <a:pt x="816" y="311"/>
                  </a:lnTo>
                  <a:lnTo>
                    <a:pt x="835" y="297"/>
                  </a:lnTo>
                  <a:lnTo>
                    <a:pt x="853" y="283"/>
                  </a:lnTo>
                  <a:lnTo>
                    <a:pt x="871" y="268"/>
                  </a:lnTo>
                  <a:lnTo>
                    <a:pt x="890" y="254"/>
                  </a:lnTo>
                  <a:lnTo>
                    <a:pt x="910" y="240"/>
                  </a:lnTo>
                  <a:lnTo>
                    <a:pt x="915" y="234"/>
                  </a:lnTo>
                  <a:lnTo>
                    <a:pt x="921" y="226"/>
                  </a:lnTo>
                  <a:lnTo>
                    <a:pt x="927" y="219"/>
                  </a:lnTo>
                  <a:lnTo>
                    <a:pt x="935" y="213"/>
                  </a:lnTo>
                  <a:lnTo>
                    <a:pt x="941" y="213"/>
                  </a:lnTo>
                  <a:lnTo>
                    <a:pt x="947" y="213"/>
                  </a:lnTo>
                  <a:lnTo>
                    <a:pt x="952" y="216"/>
                  </a:lnTo>
                  <a:lnTo>
                    <a:pt x="955" y="221"/>
                  </a:lnTo>
                  <a:lnTo>
                    <a:pt x="955" y="227"/>
                  </a:lnTo>
                  <a:lnTo>
                    <a:pt x="955" y="233"/>
                  </a:lnTo>
                  <a:lnTo>
                    <a:pt x="956" y="239"/>
                  </a:lnTo>
                  <a:lnTo>
                    <a:pt x="961" y="242"/>
                  </a:lnTo>
                  <a:lnTo>
                    <a:pt x="964" y="250"/>
                  </a:lnTo>
                  <a:lnTo>
                    <a:pt x="969" y="259"/>
                  </a:lnTo>
                  <a:lnTo>
                    <a:pt x="976" y="265"/>
                  </a:lnTo>
                  <a:lnTo>
                    <a:pt x="983" y="272"/>
                  </a:lnTo>
                  <a:lnTo>
                    <a:pt x="987" y="291"/>
                  </a:lnTo>
                  <a:lnTo>
                    <a:pt x="988" y="311"/>
                  </a:lnTo>
                  <a:lnTo>
                    <a:pt x="992" y="327"/>
                  </a:lnTo>
                  <a:lnTo>
                    <a:pt x="1006" y="340"/>
                  </a:lnTo>
                  <a:lnTo>
                    <a:pt x="1007" y="342"/>
                  </a:lnTo>
                  <a:lnTo>
                    <a:pt x="1006" y="344"/>
                  </a:lnTo>
                  <a:lnTo>
                    <a:pt x="1005" y="347"/>
                  </a:lnTo>
                  <a:lnTo>
                    <a:pt x="1003" y="350"/>
                  </a:lnTo>
                  <a:lnTo>
                    <a:pt x="957" y="352"/>
                  </a:lnTo>
                  <a:lnTo>
                    <a:pt x="961" y="359"/>
                  </a:lnTo>
                  <a:lnTo>
                    <a:pt x="970" y="365"/>
                  </a:lnTo>
                  <a:lnTo>
                    <a:pt x="979" y="371"/>
                  </a:lnTo>
                  <a:lnTo>
                    <a:pt x="983" y="380"/>
                  </a:lnTo>
                  <a:lnTo>
                    <a:pt x="987" y="379"/>
                  </a:lnTo>
                  <a:lnTo>
                    <a:pt x="988" y="379"/>
                  </a:lnTo>
                  <a:lnTo>
                    <a:pt x="993" y="380"/>
                  </a:lnTo>
                  <a:lnTo>
                    <a:pt x="1000" y="381"/>
                  </a:lnTo>
                  <a:lnTo>
                    <a:pt x="1008" y="382"/>
                  </a:lnTo>
                  <a:lnTo>
                    <a:pt x="1016" y="384"/>
                  </a:lnTo>
                  <a:lnTo>
                    <a:pt x="1026" y="385"/>
                  </a:lnTo>
                  <a:lnTo>
                    <a:pt x="1034" y="385"/>
                  </a:lnTo>
                  <a:lnTo>
                    <a:pt x="1042" y="384"/>
                  </a:lnTo>
                  <a:lnTo>
                    <a:pt x="1046" y="387"/>
                  </a:lnTo>
                  <a:lnTo>
                    <a:pt x="1049" y="391"/>
                  </a:lnTo>
                  <a:lnTo>
                    <a:pt x="1050" y="396"/>
                  </a:lnTo>
                  <a:lnTo>
                    <a:pt x="1050" y="402"/>
                  </a:lnTo>
                  <a:lnTo>
                    <a:pt x="1043" y="413"/>
                  </a:lnTo>
                  <a:lnTo>
                    <a:pt x="1041" y="426"/>
                  </a:lnTo>
                  <a:lnTo>
                    <a:pt x="1041" y="443"/>
                  </a:lnTo>
                  <a:lnTo>
                    <a:pt x="1039" y="457"/>
                  </a:lnTo>
                  <a:lnTo>
                    <a:pt x="1041" y="467"/>
                  </a:lnTo>
                  <a:lnTo>
                    <a:pt x="1039" y="476"/>
                  </a:lnTo>
                  <a:lnTo>
                    <a:pt x="1038" y="486"/>
                  </a:lnTo>
                  <a:lnTo>
                    <a:pt x="1039" y="497"/>
                  </a:lnTo>
                  <a:lnTo>
                    <a:pt x="1042" y="541"/>
                  </a:lnTo>
                  <a:lnTo>
                    <a:pt x="1038" y="545"/>
                  </a:lnTo>
                  <a:lnTo>
                    <a:pt x="1034" y="545"/>
                  </a:lnTo>
                  <a:lnTo>
                    <a:pt x="1029" y="544"/>
                  </a:lnTo>
                  <a:lnTo>
                    <a:pt x="1024" y="545"/>
                  </a:lnTo>
                  <a:lnTo>
                    <a:pt x="1019" y="545"/>
                  </a:lnTo>
                  <a:lnTo>
                    <a:pt x="1013" y="544"/>
                  </a:lnTo>
                  <a:lnTo>
                    <a:pt x="1007" y="545"/>
                  </a:lnTo>
                  <a:lnTo>
                    <a:pt x="1003" y="548"/>
                  </a:lnTo>
                  <a:lnTo>
                    <a:pt x="1007" y="552"/>
                  </a:lnTo>
                  <a:lnTo>
                    <a:pt x="1012" y="554"/>
                  </a:lnTo>
                  <a:lnTo>
                    <a:pt x="1016" y="554"/>
                  </a:lnTo>
                  <a:lnTo>
                    <a:pt x="1022" y="553"/>
                  </a:lnTo>
                  <a:lnTo>
                    <a:pt x="1028" y="553"/>
                  </a:lnTo>
                  <a:lnTo>
                    <a:pt x="1034" y="553"/>
                  </a:lnTo>
                  <a:lnTo>
                    <a:pt x="1038" y="553"/>
                  </a:lnTo>
                  <a:lnTo>
                    <a:pt x="1043" y="555"/>
                  </a:lnTo>
                  <a:lnTo>
                    <a:pt x="1050" y="554"/>
                  </a:lnTo>
                  <a:lnTo>
                    <a:pt x="1057" y="553"/>
                  </a:lnTo>
                  <a:lnTo>
                    <a:pt x="1060" y="549"/>
                  </a:lnTo>
                  <a:lnTo>
                    <a:pt x="1059" y="542"/>
                  </a:lnTo>
                  <a:lnTo>
                    <a:pt x="1060" y="534"/>
                  </a:lnTo>
                  <a:lnTo>
                    <a:pt x="1060" y="525"/>
                  </a:lnTo>
                  <a:lnTo>
                    <a:pt x="1060" y="517"/>
                  </a:lnTo>
                  <a:lnTo>
                    <a:pt x="1063" y="510"/>
                  </a:lnTo>
                  <a:lnTo>
                    <a:pt x="1063" y="489"/>
                  </a:lnTo>
                  <a:lnTo>
                    <a:pt x="1064" y="489"/>
                  </a:lnTo>
                  <a:lnTo>
                    <a:pt x="1066" y="467"/>
                  </a:lnTo>
                  <a:lnTo>
                    <a:pt x="1067" y="443"/>
                  </a:lnTo>
                  <a:lnTo>
                    <a:pt x="1070" y="420"/>
                  </a:lnTo>
                  <a:lnTo>
                    <a:pt x="1072" y="395"/>
                  </a:lnTo>
                  <a:lnTo>
                    <a:pt x="1077" y="372"/>
                  </a:lnTo>
                  <a:lnTo>
                    <a:pt x="1085" y="351"/>
                  </a:lnTo>
                  <a:lnTo>
                    <a:pt x="1095" y="333"/>
                  </a:lnTo>
                  <a:lnTo>
                    <a:pt x="1111" y="318"/>
                  </a:lnTo>
                  <a:lnTo>
                    <a:pt x="1118" y="312"/>
                  </a:lnTo>
                  <a:lnTo>
                    <a:pt x="1125" y="307"/>
                  </a:lnTo>
                  <a:lnTo>
                    <a:pt x="1132" y="301"/>
                  </a:lnTo>
                  <a:lnTo>
                    <a:pt x="1139" y="297"/>
                  </a:lnTo>
                  <a:lnTo>
                    <a:pt x="1146" y="292"/>
                  </a:lnTo>
                  <a:lnTo>
                    <a:pt x="1154" y="287"/>
                  </a:lnTo>
                  <a:lnTo>
                    <a:pt x="1163" y="285"/>
                  </a:lnTo>
                  <a:lnTo>
                    <a:pt x="1174" y="283"/>
                  </a:lnTo>
                  <a:lnTo>
                    <a:pt x="1158" y="311"/>
                  </a:lnTo>
                  <a:lnTo>
                    <a:pt x="1148" y="314"/>
                  </a:lnTo>
                  <a:lnTo>
                    <a:pt x="1140" y="319"/>
                  </a:lnTo>
                  <a:lnTo>
                    <a:pt x="1132" y="325"/>
                  </a:lnTo>
                  <a:lnTo>
                    <a:pt x="1126" y="330"/>
                  </a:lnTo>
                  <a:lnTo>
                    <a:pt x="1119" y="338"/>
                  </a:lnTo>
                  <a:lnTo>
                    <a:pt x="1115" y="345"/>
                  </a:lnTo>
                  <a:lnTo>
                    <a:pt x="1109" y="354"/>
                  </a:lnTo>
                  <a:lnTo>
                    <a:pt x="1104" y="360"/>
                  </a:lnTo>
                  <a:lnTo>
                    <a:pt x="1096" y="394"/>
                  </a:lnTo>
                  <a:lnTo>
                    <a:pt x="1092" y="429"/>
                  </a:lnTo>
                  <a:lnTo>
                    <a:pt x="1088" y="465"/>
                  </a:lnTo>
                  <a:lnTo>
                    <a:pt x="1086" y="499"/>
                  </a:lnTo>
                  <a:lnTo>
                    <a:pt x="1086" y="513"/>
                  </a:lnTo>
                  <a:lnTo>
                    <a:pt x="1086" y="528"/>
                  </a:lnTo>
                  <a:lnTo>
                    <a:pt x="1088" y="541"/>
                  </a:lnTo>
                  <a:lnTo>
                    <a:pt x="1095" y="550"/>
                  </a:lnTo>
                  <a:lnTo>
                    <a:pt x="1099" y="532"/>
                  </a:lnTo>
                  <a:lnTo>
                    <a:pt x="1107" y="517"/>
                  </a:lnTo>
                  <a:lnTo>
                    <a:pt x="1114" y="501"/>
                  </a:lnTo>
                  <a:lnTo>
                    <a:pt x="1116" y="481"/>
                  </a:lnTo>
                  <a:lnTo>
                    <a:pt x="1114" y="465"/>
                  </a:lnTo>
                  <a:lnTo>
                    <a:pt x="1115" y="447"/>
                  </a:lnTo>
                  <a:lnTo>
                    <a:pt x="1114" y="431"/>
                  </a:lnTo>
                  <a:lnTo>
                    <a:pt x="1104" y="418"/>
                  </a:lnTo>
                  <a:lnTo>
                    <a:pt x="1102" y="409"/>
                  </a:lnTo>
                  <a:lnTo>
                    <a:pt x="1103" y="402"/>
                  </a:lnTo>
                  <a:lnTo>
                    <a:pt x="1108" y="398"/>
                  </a:lnTo>
                  <a:lnTo>
                    <a:pt x="1114" y="394"/>
                  </a:lnTo>
                  <a:lnTo>
                    <a:pt x="1121" y="391"/>
                  </a:lnTo>
                  <a:lnTo>
                    <a:pt x="1128" y="387"/>
                  </a:lnTo>
                  <a:lnTo>
                    <a:pt x="1133" y="381"/>
                  </a:lnTo>
                  <a:lnTo>
                    <a:pt x="1137" y="376"/>
                  </a:lnTo>
                  <a:lnTo>
                    <a:pt x="1144" y="370"/>
                  </a:lnTo>
                  <a:lnTo>
                    <a:pt x="1152" y="365"/>
                  </a:lnTo>
                  <a:lnTo>
                    <a:pt x="1160" y="360"/>
                  </a:lnTo>
                  <a:lnTo>
                    <a:pt x="1166" y="354"/>
                  </a:lnTo>
                  <a:lnTo>
                    <a:pt x="1163" y="350"/>
                  </a:lnTo>
                  <a:lnTo>
                    <a:pt x="1160" y="348"/>
                  </a:lnTo>
                  <a:lnTo>
                    <a:pt x="1157" y="347"/>
                  </a:lnTo>
                  <a:lnTo>
                    <a:pt x="1152" y="347"/>
                  </a:lnTo>
                  <a:lnTo>
                    <a:pt x="1150" y="344"/>
                  </a:lnTo>
                  <a:lnTo>
                    <a:pt x="1147" y="341"/>
                  </a:lnTo>
                  <a:lnTo>
                    <a:pt x="1146" y="337"/>
                  </a:lnTo>
                  <a:lnTo>
                    <a:pt x="1146" y="331"/>
                  </a:lnTo>
                  <a:lnTo>
                    <a:pt x="1150" y="329"/>
                  </a:lnTo>
                  <a:lnTo>
                    <a:pt x="1154" y="327"/>
                  </a:lnTo>
                  <a:lnTo>
                    <a:pt x="1160" y="326"/>
                  </a:lnTo>
                  <a:lnTo>
                    <a:pt x="1165" y="326"/>
                  </a:lnTo>
                  <a:lnTo>
                    <a:pt x="1170" y="326"/>
                  </a:lnTo>
                  <a:lnTo>
                    <a:pt x="1175" y="326"/>
                  </a:lnTo>
                  <a:lnTo>
                    <a:pt x="1180" y="325"/>
                  </a:lnTo>
                  <a:lnTo>
                    <a:pt x="1184" y="323"/>
                  </a:lnTo>
                  <a:lnTo>
                    <a:pt x="1181" y="320"/>
                  </a:lnTo>
                  <a:lnTo>
                    <a:pt x="1179" y="314"/>
                  </a:lnTo>
                  <a:lnTo>
                    <a:pt x="1176" y="309"/>
                  </a:lnTo>
                  <a:lnTo>
                    <a:pt x="1173" y="306"/>
                  </a:lnTo>
                  <a:lnTo>
                    <a:pt x="1168" y="307"/>
                  </a:lnTo>
                  <a:lnTo>
                    <a:pt x="1165" y="308"/>
                  </a:lnTo>
                  <a:lnTo>
                    <a:pt x="1161" y="311"/>
                  </a:lnTo>
                  <a:lnTo>
                    <a:pt x="1161" y="315"/>
                  </a:lnTo>
                  <a:lnTo>
                    <a:pt x="1160" y="314"/>
                  </a:lnTo>
                  <a:lnTo>
                    <a:pt x="1158" y="314"/>
                  </a:lnTo>
                  <a:lnTo>
                    <a:pt x="1157" y="313"/>
                  </a:lnTo>
                  <a:lnTo>
                    <a:pt x="1158" y="311"/>
                  </a:lnTo>
                  <a:lnTo>
                    <a:pt x="1174" y="283"/>
                  </a:lnTo>
                  <a:lnTo>
                    <a:pt x="1182" y="278"/>
                  </a:lnTo>
                  <a:lnTo>
                    <a:pt x="1187" y="254"/>
                  </a:lnTo>
                  <a:lnTo>
                    <a:pt x="1192" y="225"/>
                  </a:lnTo>
                  <a:lnTo>
                    <a:pt x="1198" y="201"/>
                  </a:lnTo>
                  <a:lnTo>
                    <a:pt x="1204" y="190"/>
                  </a:lnTo>
                  <a:lnTo>
                    <a:pt x="1215" y="204"/>
                  </a:lnTo>
                  <a:lnTo>
                    <a:pt x="1221" y="231"/>
                  </a:lnTo>
                  <a:lnTo>
                    <a:pt x="1226" y="262"/>
                  </a:lnTo>
                  <a:lnTo>
                    <a:pt x="1228" y="286"/>
                  </a:lnTo>
                  <a:lnTo>
                    <a:pt x="1230" y="291"/>
                  </a:lnTo>
                  <a:lnTo>
                    <a:pt x="1231" y="297"/>
                  </a:lnTo>
                  <a:lnTo>
                    <a:pt x="1230" y="303"/>
                  </a:lnTo>
                  <a:lnTo>
                    <a:pt x="1228" y="307"/>
                  </a:lnTo>
                  <a:lnTo>
                    <a:pt x="1225" y="311"/>
                  </a:lnTo>
                  <a:lnTo>
                    <a:pt x="1223" y="314"/>
                  </a:lnTo>
                  <a:lnTo>
                    <a:pt x="1221" y="318"/>
                  </a:lnTo>
                  <a:lnTo>
                    <a:pt x="1220" y="321"/>
                  </a:lnTo>
                  <a:lnTo>
                    <a:pt x="1225" y="325"/>
                  </a:lnTo>
                  <a:lnTo>
                    <a:pt x="1231" y="326"/>
                  </a:lnTo>
                  <a:lnTo>
                    <a:pt x="1238" y="326"/>
                  </a:lnTo>
                  <a:lnTo>
                    <a:pt x="1245" y="326"/>
                  </a:lnTo>
                  <a:lnTo>
                    <a:pt x="1252" y="327"/>
                  </a:lnTo>
                  <a:lnTo>
                    <a:pt x="1255" y="329"/>
                  </a:lnTo>
                  <a:lnTo>
                    <a:pt x="1256" y="334"/>
                  </a:lnTo>
                  <a:lnTo>
                    <a:pt x="1254" y="342"/>
                  </a:lnTo>
                  <a:lnTo>
                    <a:pt x="1252" y="345"/>
                  </a:lnTo>
                  <a:lnTo>
                    <a:pt x="1249" y="348"/>
                  </a:lnTo>
                  <a:lnTo>
                    <a:pt x="1248" y="351"/>
                  </a:lnTo>
                  <a:lnTo>
                    <a:pt x="1248" y="355"/>
                  </a:lnTo>
                  <a:lnTo>
                    <a:pt x="1256" y="358"/>
                  </a:lnTo>
                  <a:lnTo>
                    <a:pt x="1262" y="364"/>
                  </a:lnTo>
                  <a:lnTo>
                    <a:pt x="1267" y="372"/>
                  </a:lnTo>
                  <a:lnTo>
                    <a:pt x="1271" y="379"/>
                  </a:lnTo>
                  <a:lnTo>
                    <a:pt x="1275" y="387"/>
                  </a:lnTo>
                  <a:lnTo>
                    <a:pt x="1281" y="394"/>
                  </a:lnTo>
                  <a:lnTo>
                    <a:pt x="1286" y="399"/>
                  </a:lnTo>
                  <a:lnTo>
                    <a:pt x="1296" y="402"/>
                  </a:lnTo>
                  <a:lnTo>
                    <a:pt x="1299" y="406"/>
                  </a:lnTo>
                  <a:lnTo>
                    <a:pt x="1300" y="410"/>
                  </a:lnTo>
                  <a:lnTo>
                    <a:pt x="1301" y="415"/>
                  </a:lnTo>
                  <a:lnTo>
                    <a:pt x="1301" y="417"/>
                  </a:lnTo>
                  <a:lnTo>
                    <a:pt x="1299" y="422"/>
                  </a:lnTo>
                  <a:lnTo>
                    <a:pt x="1297" y="425"/>
                  </a:lnTo>
                  <a:lnTo>
                    <a:pt x="1292" y="429"/>
                  </a:lnTo>
                  <a:lnTo>
                    <a:pt x="1288" y="432"/>
                  </a:lnTo>
                  <a:lnTo>
                    <a:pt x="1285" y="451"/>
                  </a:lnTo>
                  <a:lnTo>
                    <a:pt x="1285" y="469"/>
                  </a:lnTo>
                  <a:lnTo>
                    <a:pt x="1285" y="489"/>
                  </a:lnTo>
                  <a:lnTo>
                    <a:pt x="1286" y="506"/>
                  </a:lnTo>
                  <a:lnTo>
                    <a:pt x="1293" y="511"/>
                  </a:lnTo>
                  <a:lnTo>
                    <a:pt x="1299" y="518"/>
                  </a:lnTo>
                  <a:lnTo>
                    <a:pt x="1301" y="527"/>
                  </a:lnTo>
                  <a:lnTo>
                    <a:pt x="1304" y="535"/>
                  </a:lnTo>
                  <a:lnTo>
                    <a:pt x="1307" y="544"/>
                  </a:lnTo>
                  <a:lnTo>
                    <a:pt x="1311" y="550"/>
                  </a:lnTo>
                  <a:lnTo>
                    <a:pt x="1318" y="554"/>
                  </a:lnTo>
                  <a:lnTo>
                    <a:pt x="1327" y="553"/>
                  </a:lnTo>
                  <a:lnTo>
                    <a:pt x="1340" y="553"/>
                  </a:lnTo>
                  <a:lnTo>
                    <a:pt x="1352" y="554"/>
                  </a:lnTo>
                  <a:lnTo>
                    <a:pt x="1365" y="554"/>
                  </a:lnTo>
                  <a:lnTo>
                    <a:pt x="1378" y="554"/>
                  </a:lnTo>
                  <a:lnTo>
                    <a:pt x="1391" y="554"/>
                  </a:lnTo>
                  <a:lnTo>
                    <a:pt x="1405" y="554"/>
                  </a:lnTo>
                  <a:lnTo>
                    <a:pt x="1417" y="554"/>
                  </a:lnTo>
                  <a:lnTo>
                    <a:pt x="1431" y="553"/>
                  </a:lnTo>
                  <a:lnTo>
                    <a:pt x="1444" y="553"/>
                  </a:lnTo>
                  <a:lnTo>
                    <a:pt x="1458" y="553"/>
                  </a:lnTo>
                  <a:lnTo>
                    <a:pt x="1472" y="553"/>
                  </a:lnTo>
                  <a:lnTo>
                    <a:pt x="1485" y="553"/>
                  </a:lnTo>
                  <a:lnTo>
                    <a:pt x="1499" y="553"/>
                  </a:lnTo>
                  <a:lnTo>
                    <a:pt x="1513" y="553"/>
                  </a:lnTo>
                  <a:lnTo>
                    <a:pt x="1525" y="554"/>
                  </a:lnTo>
                  <a:lnTo>
                    <a:pt x="1539" y="554"/>
                  </a:lnTo>
                  <a:lnTo>
                    <a:pt x="1545" y="553"/>
                  </a:lnTo>
                  <a:lnTo>
                    <a:pt x="1546" y="548"/>
                  </a:lnTo>
                  <a:lnTo>
                    <a:pt x="1545" y="544"/>
                  </a:lnTo>
                  <a:lnTo>
                    <a:pt x="1545" y="538"/>
                  </a:lnTo>
                  <a:lnTo>
                    <a:pt x="1536" y="532"/>
                  </a:lnTo>
                  <a:lnTo>
                    <a:pt x="1533" y="524"/>
                  </a:lnTo>
                  <a:lnTo>
                    <a:pt x="1533" y="515"/>
                  </a:lnTo>
                  <a:lnTo>
                    <a:pt x="1533" y="504"/>
                  </a:lnTo>
                  <a:lnTo>
                    <a:pt x="1540" y="498"/>
                  </a:lnTo>
                  <a:lnTo>
                    <a:pt x="1542" y="491"/>
                  </a:lnTo>
                  <a:lnTo>
                    <a:pt x="1539" y="482"/>
                  </a:lnTo>
                  <a:lnTo>
                    <a:pt x="1539" y="473"/>
                  </a:lnTo>
                  <a:lnTo>
                    <a:pt x="1526" y="435"/>
                  </a:lnTo>
                  <a:lnTo>
                    <a:pt x="1510" y="382"/>
                  </a:lnTo>
                  <a:lnTo>
                    <a:pt x="1492" y="322"/>
                  </a:lnTo>
                  <a:lnTo>
                    <a:pt x="1473" y="260"/>
                  </a:lnTo>
                  <a:lnTo>
                    <a:pt x="1455" y="202"/>
                  </a:lnTo>
                  <a:lnTo>
                    <a:pt x="1439" y="153"/>
                  </a:lnTo>
                  <a:lnTo>
                    <a:pt x="1429" y="119"/>
                  </a:lnTo>
                  <a:lnTo>
                    <a:pt x="1424" y="107"/>
                  </a:lnTo>
                  <a:lnTo>
                    <a:pt x="1420" y="104"/>
                  </a:lnTo>
                  <a:lnTo>
                    <a:pt x="1417" y="81"/>
                  </a:lnTo>
                  <a:lnTo>
                    <a:pt x="1417" y="55"/>
                  </a:lnTo>
                  <a:lnTo>
                    <a:pt x="1417" y="28"/>
                  </a:lnTo>
                  <a:lnTo>
                    <a:pt x="1417" y="2"/>
                  </a:lnTo>
                  <a:lnTo>
                    <a:pt x="1429" y="2"/>
                  </a:lnTo>
                  <a:lnTo>
                    <a:pt x="1445" y="1"/>
                  </a:lnTo>
                  <a:lnTo>
                    <a:pt x="1465" y="1"/>
                  </a:lnTo>
                  <a:lnTo>
                    <a:pt x="1488" y="1"/>
                  </a:lnTo>
                  <a:lnTo>
                    <a:pt x="1516" y="0"/>
                  </a:lnTo>
                  <a:lnTo>
                    <a:pt x="1545" y="0"/>
                  </a:lnTo>
                  <a:lnTo>
                    <a:pt x="1575" y="0"/>
                  </a:lnTo>
                  <a:lnTo>
                    <a:pt x="1608" y="0"/>
                  </a:lnTo>
                  <a:lnTo>
                    <a:pt x="1640" y="0"/>
                  </a:lnTo>
                  <a:lnTo>
                    <a:pt x="1673" y="0"/>
                  </a:lnTo>
                  <a:lnTo>
                    <a:pt x="1705" y="0"/>
                  </a:lnTo>
                  <a:lnTo>
                    <a:pt x="1735" y="0"/>
                  </a:lnTo>
                  <a:lnTo>
                    <a:pt x="1764" y="0"/>
                  </a:lnTo>
                  <a:lnTo>
                    <a:pt x="1791" y="0"/>
                  </a:lnTo>
                  <a:lnTo>
                    <a:pt x="1815" y="0"/>
                  </a:lnTo>
                  <a:lnTo>
                    <a:pt x="1835" y="0"/>
                  </a:lnTo>
                  <a:lnTo>
                    <a:pt x="1837" y="16"/>
                  </a:lnTo>
                  <a:lnTo>
                    <a:pt x="1836" y="48"/>
                  </a:lnTo>
                  <a:lnTo>
                    <a:pt x="1834" y="78"/>
                  </a:lnTo>
                  <a:lnTo>
                    <a:pt x="1833" y="91"/>
                  </a:lnTo>
                  <a:lnTo>
                    <a:pt x="1827" y="99"/>
                  </a:lnTo>
                  <a:lnTo>
                    <a:pt x="1821" y="104"/>
                  </a:lnTo>
                  <a:lnTo>
                    <a:pt x="1814" y="110"/>
                  </a:lnTo>
                  <a:lnTo>
                    <a:pt x="1808" y="118"/>
                  </a:lnTo>
                  <a:lnTo>
                    <a:pt x="1802" y="141"/>
                  </a:lnTo>
                  <a:lnTo>
                    <a:pt x="1793" y="180"/>
                  </a:lnTo>
                  <a:lnTo>
                    <a:pt x="1780" y="228"/>
                  </a:lnTo>
                  <a:lnTo>
                    <a:pt x="1766" y="283"/>
                  </a:lnTo>
                  <a:lnTo>
                    <a:pt x="1750" y="337"/>
                  </a:lnTo>
                  <a:lnTo>
                    <a:pt x="1736" y="386"/>
                  </a:lnTo>
                  <a:lnTo>
                    <a:pt x="1722" y="424"/>
                  </a:lnTo>
                  <a:lnTo>
                    <a:pt x="1713" y="446"/>
                  </a:lnTo>
                  <a:lnTo>
                    <a:pt x="1712" y="464"/>
                  </a:lnTo>
                  <a:lnTo>
                    <a:pt x="1707" y="482"/>
                  </a:lnTo>
                  <a:lnTo>
                    <a:pt x="1705" y="499"/>
                  </a:lnTo>
                  <a:lnTo>
                    <a:pt x="1708" y="518"/>
                  </a:lnTo>
                  <a:lnTo>
                    <a:pt x="1712" y="527"/>
                  </a:lnTo>
                  <a:lnTo>
                    <a:pt x="1719" y="542"/>
                  </a:lnTo>
                  <a:lnTo>
                    <a:pt x="1725" y="556"/>
                  </a:lnTo>
                  <a:lnTo>
                    <a:pt x="1728" y="563"/>
                  </a:lnTo>
                  <a:lnTo>
                    <a:pt x="1737" y="560"/>
                  </a:lnTo>
                  <a:lnTo>
                    <a:pt x="1747" y="555"/>
                  </a:lnTo>
                  <a:lnTo>
                    <a:pt x="1754" y="548"/>
                  </a:lnTo>
                  <a:lnTo>
                    <a:pt x="1754" y="538"/>
                  </a:lnTo>
                  <a:lnTo>
                    <a:pt x="1754" y="515"/>
                  </a:lnTo>
                  <a:lnTo>
                    <a:pt x="1754" y="493"/>
                  </a:lnTo>
                  <a:lnTo>
                    <a:pt x="1754" y="471"/>
                  </a:lnTo>
                  <a:lnTo>
                    <a:pt x="1755" y="449"/>
                  </a:lnTo>
                  <a:lnTo>
                    <a:pt x="1754" y="442"/>
                  </a:lnTo>
                  <a:lnTo>
                    <a:pt x="1754" y="433"/>
                  </a:lnTo>
                  <a:lnTo>
                    <a:pt x="1750" y="428"/>
                  </a:lnTo>
                  <a:lnTo>
                    <a:pt x="1743" y="426"/>
                  </a:lnTo>
                  <a:lnTo>
                    <a:pt x="1741" y="424"/>
                  </a:lnTo>
                  <a:lnTo>
                    <a:pt x="1740" y="421"/>
                  </a:lnTo>
                  <a:lnTo>
                    <a:pt x="1741" y="416"/>
                  </a:lnTo>
                  <a:lnTo>
                    <a:pt x="1742" y="414"/>
                  </a:lnTo>
                  <a:lnTo>
                    <a:pt x="1749" y="409"/>
                  </a:lnTo>
                  <a:lnTo>
                    <a:pt x="1757" y="404"/>
                  </a:lnTo>
                  <a:lnTo>
                    <a:pt x="1765" y="401"/>
                  </a:lnTo>
                  <a:lnTo>
                    <a:pt x="1773" y="398"/>
                  </a:lnTo>
                  <a:lnTo>
                    <a:pt x="1782" y="395"/>
                  </a:lnTo>
                  <a:lnTo>
                    <a:pt x="1791" y="393"/>
                  </a:lnTo>
                  <a:lnTo>
                    <a:pt x="1801" y="391"/>
                  </a:lnTo>
                  <a:lnTo>
                    <a:pt x="1811" y="388"/>
                  </a:lnTo>
                  <a:lnTo>
                    <a:pt x="1843" y="395"/>
                  </a:lnTo>
                  <a:lnTo>
                    <a:pt x="1844" y="388"/>
                  </a:lnTo>
                  <a:lnTo>
                    <a:pt x="1848" y="381"/>
                  </a:lnTo>
                  <a:lnTo>
                    <a:pt x="1853" y="379"/>
                  </a:lnTo>
                  <a:lnTo>
                    <a:pt x="1862" y="379"/>
                  </a:lnTo>
                  <a:lnTo>
                    <a:pt x="1867" y="381"/>
                  </a:lnTo>
                  <a:lnTo>
                    <a:pt x="1873" y="380"/>
                  </a:lnTo>
                  <a:lnTo>
                    <a:pt x="1877" y="384"/>
                  </a:lnTo>
                  <a:lnTo>
                    <a:pt x="1875" y="393"/>
                  </a:lnTo>
                  <a:lnTo>
                    <a:pt x="1874" y="393"/>
                  </a:lnTo>
                  <a:lnTo>
                    <a:pt x="1877" y="400"/>
                  </a:lnTo>
                  <a:lnTo>
                    <a:pt x="1882" y="406"/>
                  </a:lnTo>
                  <a:lnTo>
                    <a:pt x="1888" y="411"/>
                  </a:lnTo>
                  <a:lnTo>
                    <a:pt x="1886" y="420"/>
                  </a:lnTo>
                  <a:lnTo>
                    <a:pt x="1877" y="440"/>
                  </a:lnTo>
                  <a:lnTo>
                    <a:pt x="1873" y="487"/>
                  </a:lnTo>
                  <a:lnTo>
                    <a:pt x="1878" y="534"/>
                  </a:lnTo>
                  <a:lnTo>
                    <a:pt x="1891" y="564"/>
                  </a:lnTo>
                  <a:lnTo>
                    <a:pt x="1891" y="574"/>
                  </a:lnTo>
                  <a:lnTo>
                    <a:pt x="1889" y="582"/>
                  </a:lnTo>
                  <a:lnTo>
                    <a:pt x="1886" y="589"/>
                  </a:lnTo>
                  <a:lnTo>
                    <a:pt x="1880" y="594"/>
                  </a:lnTo>
                  <a:lnTo>
                    <a:pt x="1882" y="604"/>
                  </a:lnTo>
                  <a:lnTo>
                    <a:pt x="1882" y="616"/>
                  </a:lnTo>
                  <a:lnTo>
                    <a:pt x="1877" y="628"/>
                  </a:lnTo>
                  <a:lnTo>
                    <a:pt x="1859" y="635"/>
                  </a:lnTo>
                  <a:lnTo>
                    <a:pt x="1851" y="637"/>
                  </a:lnTo>
                  <a:lnTo>
                    <a:pt x="1845" y="636"/>
                  </a:lnTo>
                  <a:lnTo>
                    <a:pt x="1838" y="636"/>
                  </a:lnTo>
                  <a:lnTo>
                    <a:pt x="1831" y="637"/>
                  </a:lnTo>
                  <a:lnTo>
                    <a:pt x="1826" y="643"/>
                  </a:lnTo>
                  <a:lnTo>
                    <a:pt x="1821" y="649"/>
                  </a:lnTo>
                  <a:lnTo>
                    <a:pt x="1816" y="656"/>
                  </a:lnTo>
                  <a:lnTo>
                    <a:pt x="1816" y="664"/>
                  </a:lnTo>
                  <a:lnTo>
                    <a:pt x="1816" y="672"/>
                  </a:lnTo>
                  <a:lnTo>
                    <a:pt x="1816" y="692"/>
                  </a:lnTo>
                  <a:lnTo>
                    <a:pt x="1813" y="714"/>
                  </a:lnTo>
                  <a:lnTo>
                    <a:pt x="1802" y="731"/>
                  </a:lnTo>
                  <a:lnTo>
                    <a:pt x="1771" y="708"/>
                  </a:lnTo>
                  <a:lnTo>
                    <a:pt x="1778" y="695"/>
                  </a:lnTo>
                  <a:lnTo>
                    <a:pt x="1780" y="678"/>
                  </a:lnTo>
                  <a:lnTo>
                    <a:pt x="1779" y="661"/>
                  </a:lnTo>
                  <a:lnTo>
                    <a:pt x="1777" y="651"/>
                  </a:lnTo>
                  <a:lnTo>
                    <a:pt x="1773" y="652"/>
                  </a:lnTo>
                  <a:lnTo>
                    <a:pt x="1771" y="656"/>
                  </a:lnTo>
                  <a:lnTo>
                    <a:pt x="1768" y="659"/>
                  </a:lnTo>
                  <a:lnTo>
                    <a:pt x="1762" y="662"/>
                  </a:lnTo>
                  <a:lnTo>
                    <a:pt x="1755" y="661"/>
                  </a:lnTo>
                  <a:lnTo>
                    <a:pt x="1750" y="656"/>
                  </a:lnTo>
                  <a:lnTo>
                    <a:pt x="1747" y="652"/>
                  </a:lnTo>
                  <a:lnTo>
                    <a:pt x="1741" y="651"/>
                  </a:lnTo>
                  <a:lnTo>
                    <a:pt x="1736" y="650"/>
                  </a:lnTo>
                  <a:lnTo>
                    <a:pt x="1734" y="647"/>
                  </a:lnTo>
                  <a:lnTo>
                    <a:pt x="1733" y="643"/>
                  </a:lnTo>
                  <a:lnTo>
                    <a:pt x="1731" y="640"/>
                  </a:lnTo>
                  <a:lnTo>
                    <a:pt x="1729" y="645"/>
                  </a:lnTo>
                  <a:lnTo>
                    <a:pt x="1728" y="650"/>
                  </a:lnTo>
                  <a:lnTo>
                    <a:pt x="1728" y="655"/>
                  </a:lnTo>
                  <a:lnTo>
                    <a:pt x="1728" y="662"/>
                  </a:lnTo>
                  <a:lnTo>
                    <a:pt x="1731" y="662"/>
                  </a:lnTo>
                  <a:lnTo>
                    <a:pt x="1733" y="669"/>
                  </a:lnTo>
                  <a:lnTo>
                    <a:pt x="1741" y="669"/>
                  </a:lnTo>
                  <a:lnTo>
                    <a:pt x="1750" y="667"/>
                  </a:lnTo>
                  <a:lnTo>
                    <a:pt x="1757" y="670"/>
                  </a:lnTo>
                  <a:lnTo>
                    <a:pt x="1764" y="676"/>
                  </a:lnTo>
                  <a:lnTo>
                    <a:pt x="1769" y="681"/>
                  </a:lnTo>
                  <a:lnTo>
                    <a:pt x="1772" y="689"/>
                  </a:lnTo>
                  <a:lnTo>
                    <a:pt x="1772" y="699"/>
                  </a:lnTo>
                  <a:lnTo>
                    <a:pt x="1766" y="703"/>
                  </a:lnTo>
                  <a:lnTo>
                    <a:pt x="1759" y="706"/>
                  </a:lnTo>
                  <a:lnTo>
                    <a:pt x="1751" y="707"/>
                  </a:lnTo>
                  <a:lnTo>
                    <a:pt x="1743" y="706"/>
                  </a:lnTo>
                  <a:lnTo>
                    <a:pt x="1744" y="707"/>
                  </a:lnTo>
                  <a:lnTo>
                    <a:pt x="1746" y="707"/>
                  </a:lnTo>
                  <a:lnTo>
                    <a:pt x="1747" y="708"/>
                  </a:lnTo>
                  <a:lnTo>
                    <a:pt x="1747" y="709"/>
                  </a:lnTo>
                  <a:lnTo>
                    <a:pt x="1753" y="713"/>
                  </a:lnTo>
                  <a:lnTo>
                    <a:pt x="1759" y="714"/>
                  </a:lnTo>
                  <a:lnTo>
                    <a:pt x="1765" y="713"/>
                  </a:lnTo>
                  <a:lnTo>
                    <a:pt x="1771" y="708"/>
                  </a:lnTo>
                  <a:lnTo>
                    <a:pt x="1802" y="731"/>
                  </a:lnTo>
                  <a:lnTo>
                    <a:pt x="1799" y="735"/>
                  </a:lnTo>
                  <a:lnTo>
                    <a:pt x="1794" y="737"/>
                  </a:lnTo>
                  <a:lnTo>
                    <a:pt x="1791" y="739"/>
                  </a:lnTo>
                  <a:lnTo>
                    <a:pt x="1786" y="744"/>
                  </a:lnTo>
                  <a:lnTo>
                    <a:pt x="1795" y="753"/>
                  </a:lnTo>
                  <a:lnTo>
                    <a:pt x="1811" y="767"/>
                  </a:lnTo>
                  <a:lnTo>
                    <a:pt x="1828" y="784"/>
                  </a:lnTo>
                  <a:lnTo>
                    <a:pt x="1849" y="803"/>
                  </a:lnTo>
                  <a:lnTo>
                    <a:pt x="1870" y="822"/>
                  </a:lnTo>
                  <a:lnTo>
                    <a:pt x="1889" y="839"/>
                  </a:lnTo>
                  <a:lnTo>
                    <a:pt x="1906" y="853"/>
                  </a:lnTo>
                  <a:lnTo>
                    <a:pt x="1918" y="863"/>
                  </a:lnTo>
                  <a:lnTo>
                    <a:pt x="1888" y="884"/>
                  </a:lnTo>
                  <a:lnTo>
                    <a:pt x="1875" y="871"/>
                  </a:lnTo>
                  <a:lnTo>
                    <a:pt x="1859" y="854"/>
                  </a:lnTo>
                  <a:lnTo>
                    <a:pt x="1838" y="835"/>
                  </a:lnTo>
                  <a:lnTo>
                    <a:pt x="1816" y="815"/>
                  </a:lnTo>
                  <a:lnTo>
                    <a:pt x="1794" y="796"/>
                  </a:lnTo>
                  <a:lnTo>
                    <a:pt x="1775" y="778"/>
                  </a:lnTo>
                  <a:lnTo>
                    <a:pt x="1758" y="765"/>
                  </a:lnTo>
                  <a:lnTo>
                    <a:pt x="1747" y="756"/>
                  </a:lnTo>
                  <a:lnTo>
                    <a:pt x="1743" y="874"/>
                  </a:lnTo>
                  <a:lnTo>
                    <a:pt x="1750" y="877"/>
                  </a:lnTo>
                  <a:lnTo>
                    <a:pt x="1758" y="875"/>
                  </a:lnTo>
                  <a:lnTo>
                    <a:pt x="1766" y="873"/>
                  </a:lnTo>
                  <a:lnTo>
                    <a:pt x="1773" y="871"/>
                  </a:lnTo>
                  <a:lnTo>
                    <a:pt x="1779" y="873"/>
                  </a:lnTo>
                  <a:lnTo>
                    <a:pt x="1783" y="875"/>
                  </a:lnTo>
                  <a:lnTo>
                    <a:pt x="1786" y="878"/>
                  </a:lnTo>
                  <a:lnTo>
                    <a:pt x="1787" y="883"/>
                  </a:lnTo>
                  <a:lnTo>
                    <a:pt x="1800" y="885"/>
                  </a:lnTo>
                  <a:lnTo>
                    <a:pt x="1813" y="886"/>
                  </a:lnTo>
                  <a:lnTo>
                    <a:pt x="1824" y="888"/>
                  </a:lnTo>
                  <a:lnTo>
                    <a:pt x="1837" y="886"/>
                  </a:lnTo>
                  <a:lnTo>
                    <a:pt x="1850" y="885"/>
                  </a:lnTo>
                  <a:lnTo>
                    <a:pt x="1863" y="885"/>
                  </a:lnTo>
                  <a:lnTo>
                    <a:pt x="1875" y="884"/>
                  </a:lnTo>
                  <a:lnTo>
                    <a:pt x="1888" y="884"/>
                  </a:lnTo>
                  <a:lnTo>
                    <a:pt x="1918" y="863"/>
                  </a:lnTo>
                  <a:lnTo>
                    <a:pt x="1925" y="866"/>
                  </a:lnTo>
                  <a:lnTo>
                    <a:pt x="1936" y="868"/>
                  </a:lnTo>
                  <a:lnTo>
                    <a:pt x="1949" y="870"/>
                  </a:lnTo>
                  <a:lnTo>
                    <a:pt x="1964" y="873"/>
                  </a:lnTo>
                  <a:lnTo>
                    <a:pt x="1979" y="876"/>
                  </a:lnTo>
                  <a:lnTo>
                    <a:pt x="1993" y="882"/>
                  </a:lnTo>
                  <a:lnTo>
                    <a:pt x="2005" y="889"/>
                  </a:lnTo>
                  <a:lnTo>
                    <a:pt x="2016" y="898"/>
                  </a:lnTo>
                  <a:lnTo>
                    <a:pt x="2019" y="904"/>
                  </a:lnTo>
                  <a:lnTo>
                    <a:pt x="2019" y="912"/>
                  </a:lnTo>
                  <a:lnTo>
                    <a:pt x="2018" y="920"/>
                  </a:lnTo>
                  <a:lnTo>
                    <a:pt x="2019" y="928"/>
                  </a:lnTo>
                  <a:lnTo>
                    <a:pt x="2027" y="934"/>
                  </a:lnTo>
                  <a:lnTo>
                    <a:pt x="2039" y="942"/>
                  </a:lnTo>
                  <a:lnTo>
                    <a:pt x="2053" y="952"/>
                  </a:lnTo>
                  <a:lnTo>
                    <a:pt x="2071" y="964"/>
                  </a:lnTo>
                  <a:lnTo>
                    <a:pt x="2090" y="977"/>
                  </a:lnTo>
                  <a:lnTo>
                    <a:pt x="2111" y="992"/>
                  </a:lnTo>
                  <a:lnTo>
                    <a:pt x="2133" y="1006"/>
                  </a:lnTo>
                  <a:lnTo>
                    <a:pt x="2155" y="1021"/>
                  </a:lnTo>
                  <a:lnTo>
                    <a:pt x="2177" y="1036"/>
                  </a:lnTo>
                  <a:lnTo>
                    <a:pt x="2198" y="1050"/>
                  </a:lnTo>
                  <a:lnTo>
                    <a:pt x="2216" y="1063"/>
                  </a:lnTo>
                  <a:lnTo>
                    <a:pt x="2234" y="1074"/>
                  </a:lnTo>
                  <a:lnTo>
                    <a:pt x="2248" y="1083"/>
                  </a:lnTo>
                  <a:lnTo>
                    <a:pt x="2259" y="1091"/>
                  </a:lnTo>
                  <a:lnTo>
                    <a:pt x="2266" y="1096"/>
                  </a:lnTo>
                  <a:lnTo>
                    <a:pt x="2269" y="1097"/>
                  </a:lnTo>
                  <a:lnTo>
                    <a:pt x="2269" y="1102"/>
                  </a:lnTo>
                  <a:lnTo>
                    <a:pt x="2266" y="1104"/>
                  </a:lnTo>
                  <a:lnTo>
                    <a:pt x="2263" y="1107"/>
                  </a:lnTo>
                  <a:lnTo>
                    <a:pt x="2259" y="1109"/>
                  </a:lnTo>
                  <a:lnTo>
                    <a:pt x="2251" y="1109"/>
                  </a:lnTo>
                  <a:lnTo>
                    <a:pt x="2240" y="1109"/>
                  </a:lnTo>
                  <a:lnTo>
                    <a:pt x="2224" y="1109"/>
                  </a:lnTo>
                  <a:lnTo>
                    <a:pt x="2208" y="1109"/>
                  </a:lnTo>
                  <a:lnTo>
                    <a:pt x="2189" y="1109"/>
                  </a:lnTo>
                  <a:lnTo>
                    <a:pt x="2168" y="1108"/>
                  </a:lnTo>
                  <a:lnTo>
                    <a:pt x="2147" y="1108"/>
                  </a:lnTo>
                  <a:lnTo>
                    <a:pt x="2124" y="1108"/>
                  </a:lnTo>
                  <a:lnTo>
                    <a:pt x="2102" y="1108"/>
                  </a:lnTo>
                  <a:lnTo>
                    <a:pt x="2078" y="1108"/>
                  </a:lnTo>
                  <a:lnTo>
                    <a:pt x="2057" y="1108"/>
                  </a:lnTo>
                  <a:lnTo>
                    <a:pt x="2037" y="1108"/>
                  </a:lnTo>
                  <a:lnTo>
                    <a:pt x="2018" y="1108"/>
                  </a:lnTo>
                  <a:lnTo>
                    <a:pt x="2002" y="1108"/>
                  </a:lnTo>
                  <a:lnTo>
                    <a:pt x="1988" y="1108"/>
                  </a:lnTo>
                  <a:lnTo>
                    <a:pt x="1976" y="1108"/>
                  </a:lnTo>
                  <a:lnTo>
                    <a:pt x="1971" y="1101"/>
                  </a:lnTo>
                  <a:lnTo>
                    <a:pt x="1967" y="1094"/>
                  </a:lnTo>
                  <a:lnTo>
                    <a:pt x="1962" y="1087"/>
                  </a:lnTo>
                  <a:lnTo>
                    <a:pt x="1959" y="1079"/>
                  </a:lnTo>
                  <a:lnTo>
                    <a:pt x="1955" y="1072"/>
                  </a:lnTo>
                  <a:lnTo>
                    <a:pt x="1952" y="1065"/>
                  </a:lnTo>
                  <a:lnTo>
                    <a:pt x="1946" y="1058"/>
                  </a:lnTo>
                  <a:lnTo>
                    <a:pt x="1940" y="1051"/>
                  </a:lnTo>
                  <a:lnTo>
                    <a:pt x="1937" y="1053"/>
                  </a:lnTo>
                  <a:lnTo>
                    <a:pt x="1933" y="1064"/>
                  </a:lnTo>
                  <a:lnTo>
                    <a:pt x="1930" y="1073"/>
                  </a:lnTo>
                  <a:lnTo>
                    <a:pt x="1925" y="1082"/>
                  </a:lnTo>
                  <a:lnTo>
                    <a:pt x="1921" y="1091"/>
                  </a:lnTo>
                  <a:lnTo>
                    <a:pt x="1915" y="1101"/>
                  </a:lnTo>
                  <a:lnTo>
                    <a:pt x="1908" y="1109"/>
                  </a:lnTo>
                  <a:lnTo>
                    <a:pt x="1901" y="1117"/>
                  </a:lnTo>
                  <a:lnTo>
                    <a:pt x="1893" y="1124"/>
                  </a:lnTo>
                  <a:lnTo>
                    <a:pt x="2301" y="1124"/>
                  </a:lnTo>
                  <a:lnTo>
                    <a:pt x="2301" y="1181"/>
                  </a:lnTo>
                  <a:lnTo>
                    <a:pt x="1786" y="1181"/>
                  </a:lnTo>
                  <a:lnTo>
                    <a:pt x="1783" y="1126"/>
                  </a:lnTo>
                  <a:lnTo>
                    <a:pt x="1783" y="1125"/>
                  </a:lnTo>
                  <a:lnTo>
                    <a:pt x="1776" y="1117"/>
                  </a:lnTo>
                  <a:lnTo>
                    <a:pt x="1769" y="1109"/>
                  </a:lnTo>
                  <a:lnTo>
                    <a:pt x="1761" y="1100"/>
                  </a:lnTo>
                  <a:lnTo>
                    <a:pt x="1754" y="1091"/>
                  </a:lnTo>
                  <a:lnTo>
                    <a:pt x="1728" y="1091"/>
                  </a:lnTo>
                  <a:lnTo>
                    <a:pt x="1700" y="1091"/>
                  </a:lnTo>
                  <a:lnTo>
                    <a:pt x="1670" y="1091"/>
                  </a:lnTo>
                  <a:lnTo>
                    <a:pt x="1641" y="1093"/>
                  </a:lnTo>
                  <a:lnTo>
                    <a:pt x="1615" y="1093"/>
                  </a:lnTo>
                  <a:lnTo>
                    <a:pt x="1594" y="1094"/>
                  </a:lnTo>
                  <a:lnTo>
                    <a:pt x="1580" y="1094"/>
                  </a:lnTo>
                  <a:lnTo>
                    <a:pt x="1574" y="1094"/>
                  </a:lnTo>
                  <a:lnTo>
                    <a:pt x="1584" y="1067"/>
                  </a:lnTo>
                  <a:lnTo>
                    <a:pt x="1590" y="1067"/>
                  </a:lnTo>
                  <a:lnTo>
                    <a:pt x="1606" y="1067"/>
                  </a:lnTo>
                  <a:lnTo>
                    <a:pt x="1628" y="1067"/>
                  </a:lnTo>
                  <a:lnTo>
                    <a:pt x="1655" y="1067"/>
                  </a:lnTo>
                  <a:lnTo>
                    <a:pt x="1682" y="1067"/>
                  </a:lnTo>
                  <a:lnTo>
                    <a:pt x="1706" y="1067"/>
                  </a:lnTo>
                  <a:lnTo>
                    <a:pt x="1725" y="1066"/>
                  </a:lnTo>
                  <a:lnTo>
                    <a:pt x="1734" y="1066"/>
                  </a:lnTo>
                  <a:lnTo>
                    <a:pt x="1739" y="1064"/>
                  </a:lnTo>
                  <a:lnTo>
                    <a:pt x="1739" y="1060"/>
                  </a:lnTo>
                  <a:lnTo>
                    <a:pt x="1737" y="1056"/>
                  </a:lnTo>
                  <a:lnTo>
                    <a:pt x="1736" y="1051"/>
                  </a:lnTo>
                  <a:lnTo>
                    <a:pt x="1729" y="1050"/>
                  </a:lnTo>
                  <a:lnTo>
                    <a:pt x="1724" y="1047"/>
                  </a:lnTo>
                  <a:lnTo>
                    <a:pt x="1718" y="1045"/>
                  </a:lnTo>
                  <a:lnTo>
                    <a:pt x="1713" y="1042"/>
                  </a:lnTo>
                  <a:lnTo>
                    <a:pt x="1707" y="1038"/>
                  </a:lnTo>
                  <a:lnTo>
                    <a:pt x="1702" y="1035"/>
                  </a:lnTo>
                  <a:lnTo>
                    <a:pt x="1696" y="1032"/>
                  </a:lnTo>
                  <a:lnTo>
                    <a:pt x="1690" y="1030"/>
                  </a:lnTo>
                  <a:lnTo>
                    <a:pt x="1683" y="1034"/>
                  </a:lnTo>
                  <a:lnTo>
                    <a:pt x="1676" y="1036"/>
                  </a:lnTo>
                  <a:lnTo>
                    <a:pt x="1669" y="1037"/>
                  </a:lnTo>
                  <a:lnTo>
                    <a:pt x="1661" y="1038"/>
                  </a:lnTo>
                  <a:lnTo>
                    <a:pt x="1654" y="1037"/>
                  </a:lnTo>
                  <a:lnTo>
                    <a:pt x="1647" y="1036"/>
                  </a:lnTo>
                  <a:lnTo>
                    <a:pt x="1640" y="1034"/>
                  </a:lnTo>
                  <a:lnTo>
                    <a:pt x="1634" y="1030"/>
                  </a:lnTo>
                  <a:lnTo>
                    <a:pt x="1627" y="1034"/>
                  </a:lnTo>
                  <a:lnTo>
                    <a:pt x="1622" y="1036"/>
                  </a:lnTo>
                  <a:lnTo>
                    <a:pt x="1615" y="1039"/>
                  </a:lnTo>
                  <a:lnTo>
                    <a:pt x="1609" y="1042"/>
                  </a:lnTo>
                  <a:lnTo>
                    <a:pt x="1602" y="1044"/>
                  </a:lnTo>
                  <a:lnTo>
                    <a:pt x="1596" y="1047"/>
                  </a:lnTo>
                  <a:lnTo>
                    <a:pt x="1590" y="1051"/>
                  </a:lnTo>
                  <a:lnTo>
                    <a:pt x="1584" y="1056"/>
                  </a:lnTo>
                  <a:lnTo>
                    <a:pt x="1584" y="1067"/>
                  </a:lnTo>
                  <a:lnTo>
                    <a:pt x="1574" y="1094"/>
                  </a:lnTo>
                  <a:lnTo>
                    <a:pt x="1567" y="1095"/>
                  </a:lnTo>
                  <a:lnTo>
                    <a:pt x="1561" y="1097"/>
                  </a:lnTo>
                  <a:lnTo>
                    <a:pt x="1557" y="1102"/>
                  </a:lnTo>
                  <a:lnTo>
                    <a:pt x="1552" y="1107"/>
                  </a:lnTo>
                  <a:lnTo>
                    <a:pt x="1547" y="1112"/>
                  </a:lnTo>
                  <a:lnTo>
                    <a:pt x="1543" y="1118"/>
                  </a:lnTo>
                  <a:lnTo>
                    <a:pt x="1538" y="1123"/>
                  </a:lnTo>
                  <a:lnTo>
                    <a:pt x="1533" y="1127"/>
                  </a:lnTo>
                  <a:lnTo>
                    <a:pt x="1542" y="1129"/>
                  </a:lnTo>
                  <a:lnTo>
                    <a:pt x="1554" y="1129"/>
                  </a:lnTo>
                  <a:lnTo>
                    <a:pt x="1569" y="1129"/>
                  </a:lnTo>
                  <a:lnTo>
                    <a:pt x="1587" y="1129"/>
                  </a:lnTo>
                  <a:lnTo>
                    <a:pt x="1605" y="1129"/>
                  </a:lnTo>
                  <a:lnTo>
                    <a:pt x="1626" y="1127"/>
                  </a:lnTo>
                  <a:lnTo>
                    <a:pt x="1648" y="1127"/>
                  </a:lnTo>
                  <a:lnTo>
                    <a:pt x="1669" y="1126"/>
                  </a:lnTo>
                  <a:lnTo>
                    <a:pt x="1691" y="1126"/>
                  </a:lnTo>
                  <a:lnTo>
                    <a:pt x="1711" y="1125"/>
                  </a:lnTo>
                  <a:lnTo>
                    <a:pt x="1729" y="1125"/>
                  </a:lnTo>
                  <a:lnTo>
                    <a:pt x="1747" y="1125"/>
                  </a:lnTo>
                  <a:lnTo>
                    <a:pt x="1761" y="1124"/>
                  </a:lnTo>
                  <a:lnTo>
                    <a:pt x="1772" y="1124"/>
                  </a:lnTo>
                  <a:lnTo>
                    <a:pt x="1779" y="1125"/>
                  </a:lnTo>
                  <a:lnTo>
                    <a:pt x="1783" y="1125"/>
                  </a:lnTo>
                  <a:lnTo>
                    <a:pt x="1786" y="1181"/>
                  </a:lnTo>
                  <a:lnTo>
                    <a:pt x="1365" y="1181"/>
                  </a:lnTo>
                  <a:lnTo>
                    <a:pt x="1387" y="1130"/>
                  </a:lnTo>
                  <a:lnTo>
                    <a:pt x="1392" y="1127"/>
                  </a:lnTo>
                  <a:lnTo>
                    <a:pt x="1395" y="1129"/>
                  </a:lnTo>
                  <a:lnTo>
                    <a:pt x="1400" y="1130"/>
                  </a:lnTo>
                  <a:lnTo>
                    <a:pt x="1404" y="1129"/>
                  </a:lnTo>
                  <a:lnTo>
                    <a:pt x="1392" y="1110"/>
                  </a:lnTo>
                  <a:lnTo>
                    <a:pt x="1386" y="1109"/>
                  </a:lnTo>
                  <a:lnTo>
                    <a:pt x="1381" y="1111"/>
                  </a:lnTo>
                  <a:lnTo>
                    <a:pt x="1376" y="1115"/>
                  </a:lnTo>
                  <a:lnTo>
                    <a:pt x="1370" y="1116"/>
                  </a:lnTo>
                  <a:lnTo>
                    <a:pt x="1361" y="1107"/>
                  </a:lnTo>
                  <a:lnTo>
                    <a:pt x="1357" y="1096"/>
                  </a:lnTo>
                  <a:lnTo>
                    <a:pt x="1358" y="1086"/>
                  </a:lnTo>
                  <a:lnTo>
                    <a:pt x="1363" y="1074"/>
                  </a:lnTo>
                  <a:lnTo>
                    <a:pt x="1368" y="1063"/>
                  </a:lnTo>
                  <a:lnTo>
                    <a:pt x="1373" y="1050"/>
                  </a:lnTo>
                  <a:lnTo>
                    <a:pt x="1377" y="1038"/>
                  </a:lnTo>
                  <a:lnTo>
                    <a:pt x="1376" y="1025"/>
                  </a:lnTo>
                  <a:lnTo>
                    <a:pt x="1370" y="1018"/>
                  </a:lnTo>
                  <a:lnTo>
                    <a:pt x="1365" y="1010"/>
                  </a:lnTo>
                  <a:lnTo>
                    <a:pt x="1363" y="1001"/>
                  </a:lnTo>
                  <a:lnTo>
                    <a:pt x="1361" y="992"/>
                  </a:lnTo>
                  <a:lnTo>
                    <a:pt x="1412" y="884"/>
                  </a:lnTo>
                  <a:lnTo>
                    <a:pt x="1529" y="883"/>
                  </a:lnTo>
                  <a:lnTo>
                    <a:pt x="1535" y="878"/>
                  </a:lnTo>
                  <a:lnTo>
                    <a:pt x="1542" y="871"/>
                  </a:lnTo>
                  <a:lnTo>
                    <a:pt x="1545" y="864"/>
                  </a:lnTo>
                  <a:lnTo>
                    <a:pt x="1546" y="856"/>
                  </a:lnTo>
                  <a:lnTo>
                    <a:pt x="1540" y="852"/>
                  </a:lnTo>
                  <a:lnTo>
                    <a:pt x="1535" y="854"/>
                  </a:lnTo>
                  <a:lnTo>
                    <a:pt x="1528" y="859"/>
                  </a:lnTo>
                  <a:lnTo>
                    <a:pt x="1521" y="862"/>
                  </a:lnTo>
                  <a:lnTo>
                    <a:pt x="1514" y="863"/>
                  </a:lnTo>
                  <a:lnTo>
                    <a:pt x="1506" y="863"/>
                  </a:lnTo>
                  <a:lnTo>
                    <a:pt x="1497" y="861"/>
                  </a:lnTo>
                  <a:lnTo>
                    <a:pt x="1490" y="857"/>
                  </a:lnTo>
                  <a:lnTo>
                    <a:pt x="1482" y="851"/>
                  </a:lnTo>
                  <a:lnTo>
                    <a:pt x="1473" y="846"/>
                  </a:lnTo>
                  <a:lnTo>
                    <a:pt x="1464" y="845"/>
                  </a:lnTo>
                  <a:lnTo>
                    <a:pt x="1452" y="844"/>
                  </a:lnTo>
                  <a:lnTo>
                    <a:pt x="1441" y="844"/>
                  </a:lnTo>
                  <a:lnTo>
                    <a:pt x="1430" y="845"/>
                  </a:lnTo>
                  <a:lnTo>
                    <a:pt x="1419" y="844"/>
                  </a:lnTo>
                  <a:lnTo>
                    <a:pt x="1408" y="842"/>
                  </a:lnTo>
                  <a:lnTo>
                    <a:pt x="1402" y="845"/>
                  </a:lnTo>
                  <a:lnTo>
                    <a:pt x="1397" y="846"/>
                  </a:lnTo>
                  <a:lnTo>
                    <a:pt x="1392" y="848"/>
                  </a:lnTo>
                  <a:lnTo>
                    <a:pt x="1391" y="853"/>
                  </a:lnTo>
                  <a:lnTo>
                    <a:pt x="1398" y="860"/>
                  </a:lnTo>
                  <a:lnTo>
                    <a:pt x="1404" y="867"/>
                  </a:lnTo>
                  <a:lnTo>
                    <a:pt x="1408" y="875"/>
                  </a:lnTo>
                  <a:lnTo>
                    <a:pt x="1412" y="884"/>
                  </a:lnTo>
                  <a:lnTo>
                    <a:pt x="1361" y="992"/>
                  </a:lnTo>
                  <a:lnTo>
                    <a:pt x="1357" y="993"/>
                  </a:lnTo>
                  <a:lnTo>
                    <a:pt x="1354" y="993"/>
                  </a:lnTo>
                  <a:lnTo>
                    <a:pt x="1349" y="992"/>
                  </a:lnTo>
                  <a:lnTo>
                    <a:pt x="1347" y="990"/>
                  </a:lnTo>
                  <a:lnTo>
                    <a:pt x="1347" y="998"/>
                  </a:lnTo>
                  <a:lnTo>
                    <a:pt x="1347" y="1003"/>
                  </a:lnTo>
                  <a:lnTo>
                    <a:pt x="1348" y="1010"/>
                  </a:lnTo>
                  <a:lnTo>
                    <a:pt x="1347" y="1018"/>
                  </a:lnTo>
                  <a:lnTo>
                    <a:pt x="1346" y="1025"/>
                  </a:lnTo>
                  <a:lnTo>
                    <a:pt x="1347" y="1034"/>
                  </a:lnTo>
                  <a:lnTo>
                    <a:pt x="1348" y="1041"/>
                  </a:lnTo>
                  <a:lnTo>
                    <a:pt x="1344" y="1046"/>
                  </a:lnTo>
                  <a:lnTo>
                    <a:pt x="1336" y="1047"/>
                  </a:lnTo>
                  <a:lnTo>
                    <a:pt x="1329" y="1046"/>
                  </a:lnTo>
                  <a:lnTo>
                    <a:pt x="1322" y="1043"/>
                  </a:lnTo>
                  <a:lnTo>
                    <a:pt x="1318" y="1038"/>
                  </a:lnTo>
                  <a:lnTo>
                    <a:pt x="1313" y="1046"/>
                  </a:lnTo>
                  <a:lnTo>
                    <a:pt x="1307" y="1056"/>
                  </a:lnTo>
                  <a:lnTo>
                    <a:pt x="1301" y="1064"/>
                  </a:lnTo>
                  <a:lnTo>
                    <a:pt x="1296" y="1072"/>
                  </a:lnTo>
                  <a:lnTo>
                    <a:pt x="1290" y="1080"/>
                  </a:lnTo>
                  <a:lnTo>
                    <a:pt x="1283" y="1088"/>
                  </a:lnTo>
                  <a:lnTo>
                    <a:pt x="1276" y="1095"/>
                  </a:lnTo>
                  <a:lnTo>
                    <a:pt x="1269" y="1103"/>
                  </a:lnTo>
                  <a:lnTo>
                    <a:pt x="1261" y="1110"/>
                  </a:lnTo>
                  <a:lnTo>
                    <a:pt x="1253" y="1117"/>
                  </a:lnTo>
                  <a:lnTo>
                    <a:pt x="1245" y="1123"/>
                  </a:lnTo>
                  <a:lnTo>
                    <a:pt x="1235" y="1129"/>
                  </a:lnTo>
                  <a:lnTo>
                    <a:pt x="1254" y="1131"/>
                  </a:lnTo>
                  <a:lnTo>
                    <a:pt x="1272" y="1131"/>
                  </a:lnTo>
                  <a:lnTo>
                    <a:pt x="1291" y="1131"/>
                  </a:lnTo>
                  <a:lnTo>
                    <a:pt x="1310" y="1131"/>
                  </a:lnTo>
                  <a:lnTo>
                    <a:pt x="1329" y="1130"/>
                  </a:lnTo>
                  <a:lnTo>
                    <a:pt x="1349" y="1130"/>
                  </a:lnTo>
                  <a:lnTo>
                    <a:pt x="1368" y="1130"/>
                  </a:lnTo>
                  <a:lnTo>
                    <a:pt x="1387" y="1130"/>
                  </a:lnTo>
                  <a:lnTo>
                    <a:pt x="1365" y="1181"/>
                  </a:lnTo>
                  <a:lnTo>
                    <a:pt x="864" y="1181"/>
                  </a:lnTo>
                  <a:lnTo>
                    <a:pt x="876" y="1130"/>
                  </a:lnTo>
                  <a:lnTo>
                    <a:pt x="1071" y="1130"/>
                  </a:lnTo>
                  <a:lnTo>
                    <a:pt x="1077" y="1131"/>
                  </a:lnTo>
                  <a:lnTo>
                    <a:pt x="1080" y="1131"/>
                  </a:lnTo>
                  <a:lnTo>
                    <a:pt x="1085" y="1131"/>
                  </a:lnTo>
                  <a:lnTo>
                    <a:pt x="1089" y="1130"/>
                  </a:lnTo>
                  <a:lnTo>
                    <a:pt x="1082" y="1125"/>
                  </a:lnTo>
                  <a:lnTo>
                    <a:pt x="1077" y="1120"/>
                  </a:lnTo>
                  <a:lnTo>
                    <a:pt x="1071" y="1116"/>
                  </a:lnTo>
                  <a:lnTo>
                    <a:pt x="1065" y="1112"/>
                  </a:lnTo>
                  <a:lnTo>
                    <a:pt x="1059" y="1108"/>
                  </a:lnTo>
                  <a:lnTo>
                    <a:pt x="1053" y="1103"/>
                  </a:lnTo>
                  <a:lnTo>
                    <a:pt x="1048" y="1098"/>
                  </a:lnTo>
                  <a:lnTo>
                    <a:pt x="1043" y="1093"/>
                  </a:lnTo>
                  <a:lnTo>
                    <a:pt x="1089" y="1093"/>
                  </a:lnTo>
                  <a:lnTo>
                    <a:pt x="1093" y="1090"/>
                  </a:lnTo>
                  <a:lnTo>
                    <a:pt x="1100" y="1082"/>
                  </a:lnTo>
                  <a:lnTo>
                    <a:pt x="1107" y="1069"/>
                  </a:lnTo>
                  <a:lnTo>
                    <a:pt x="1115" y="1053"/>
                  </a:lnTo>
                  <a:lnTo>
                    <a:pt x="1123" y="1036"/>
                  </a:lnTo>
                  <a:lnTo>
                    <a:pt x="1130" y="1020"/>
                  </a:lnTo>
                  <a:lnTo>
                    <a:pt x="1137" y="1008"/>
                  </a:lnTo>
                  <a:lnTo>
                    <a:pt x="1140" y="1000"/>
                  </a:lnTo>
                  <a:lnTo>
                    <a:pt x="1160" y="999"/>
                  </a:lnTo>
                  <a:lnTo>
                    <a:pt x="1155" y="1017"/>
                  </a:lnTo>
                  <a:lnTo>
                    <a:pt x="1150" y="1053"/>
                  </a:lnTo>
                  <a:lnTo>
                    <a:pt x="1145" y="1089"/>
                  </a:lnTo>
                  <a:lnTo>
                    <a:pt x="1144" y="1110"/>
                  </a:lnTo>
                  <a:lnTo>
                    <a:pt x="1148" y="1110"/>
                  </a:lnTo>
                  <a:lnTo>
                    <a:pt x="1152" y="1110"/>
                  </a:lnTo>
                  <a:lnTo>
                    <a:pt x="1157" y="1110"/>
                  </a:lnTo>
                  <a:lnTo>
                    <a:pt x="1161" y="1111"/>
                  </a:lnTo>
                  <a:lnTo>
                    <a:pt x="1168" y="1110"/>
                  </a:lnTo>
                  <a:lnTo>
                    <a:pt x="1174" y="1110"/>
                  </a:lnTo>
                  <a:lnTo>
                    <a:pt x="1179" y="1110"/>
                  </a:lnTo>
                  <a:lnTo>
                    <a:pt x="1182" y="1110"/>
                  </a:lnTo>
                  <a:lnTo>
                    <a:pt x="1174" y="991"/>
                  </a:lnTo>
                  <a:lnTo>
                    <a:pt x="1176" y="996"/>
                  </a:lnTo>
                  <a:lnTo>
                    <a:pt x="1181" y="1009"/>
                  </a:lnTo>
                  <a:lnTo>
                    <a:pt x="1188" y="1027"/>
                  </a:lnTo>
                  <a:lnTo>
                    <a:pt x="1195" y="1045"/>
                  </a:lnTo>
                  <a:lnTo>
                    <a:pt x="1203" y="1065"/>
                  </a:lnTo>
                  <a:lnTo>
                    <a:pt x="1210" y="1081"/>
                  </a:lnTo>
                  <a:lnTo>
                    <a:pt x="1215" y="1093"/>
                  </a:lnTo>
                  <a:lnTo>
                    <a:pt x="1218" y="1098"/>
                  </a:lnTo>
                  <a:lnTo>
                    <a:pt x="1224" y="1094"/>
                  </a:lnTo>
                  <a:lnTo>
                    <a:pt x="1232" y="1089"/>
                  </a:lnTo>
                  <a:lnTo>
                    <a:pt x="1239" y="1086"/>
                  </a:lnTo>
                  <a:lnTo>
                    <a:pt x="1242" y="1085"/>
                  </a:lnTo>
                  <a:lnTo>
                    <a:pt x="1240" y="1079"/>
                  </a:lnTo>
                  <a:lnTo>
                    <a:pt x="1238" y="1074"/>
                  </a:lnTo>
                  <a:lnTo>
                    <a:pt x="1235" y="1069"/>
                  </a:lnTo>
                  <a:lnTo>
                    <a:pt x="1233" y="1068"/>
                  </a:lnTo>
                  <a:lnTo>
                    <a:pt x="1274" y="1053"/>
                  </a:lnTo>
                  <a:lnTo>
                    <a:pt x="1278" y="1047"/>
                  </a:lnTo>
                  <a:lnTo>
                    <a:pt x="1284" y="1038"/>
                  </a:lnTo>
                  <a:lnTo>
                    <a:pt x="1290" y="1030"/>
                  </a:lnTo>
                  <a:lnTo>
                    <a:pt x="1292" y="1024"/>
                  </a:lnTo>
                  <a:lnTo>
                    <a:pt x="1286" y="1021"/>
                  </a:lnTo>
                  <a:lnTo>
                    <a:pt x="1276" y="1017"/>
                  </a:lnTo>
                  <a:lnTo>
                    <a:pt x="1262" y="1013"/>
                  </a:lnTo>
                  <a:lnTo>
                    <a:pt x="1248" y="1007"/>
                  </a:lnTo>
                  <a:lnTo>
                    <a:pt x="1233" y="1002"/>
                  </a:lnTo>
                  <a:lnTo>
                    <a:pt x="1219" y="999"/>
                  </a:lnTo>
                  <a:lnTo>
                    <a:pt x="1209" y="995"/>
                  </a:lnTo>
                  <a:lnTo>
                    <a:pt x="1202" y="994"/>
                  </a:lnTo>
                  <a:lnTo>
                    <a:pt x="1194" y="977"/>
                  </a:lnTo>
                  <a:lnTo>
                    <a:pt x="1203" y="976"/>
                  </a:lnTo>
                  <a:lnTo>
                    <a:pt x="1218" y="976"/>
                  </a:lnTo>
                  <a:lnTo>
                    <a:pt x="1237" y="974"/>
                  </a:lnTo>
                  <a:lnTo>
                    <a:pt x="1256" y="973"/>
                  </a:lnTo>
                  <a:lnTo>
                    <a:pt x="1275" y="972"/>
                  </a:lnTo>
                  <a:lnTo>
                    <a:pt x="1292" y="972"/>
                  </a:lnTo>
                  <a:lnTo>
                    <a:pt x="1303" y="971"/>
                  </a:lnTo>
                  <a:lnTo>
                    <a:pt x="1307" y="971"/>
                  </a:lnTo>
                  <a:lnTo>
                    <a:pt x="1306" y="964"/>
                  </a:lnTo>
                  <a:lnTo>
                    <a:pt x="1303" y="954"/>
                  </a:lnTo>
                  <a:lnTo>
                    <a:pt x="1300" y="943"/>
                  </a:lnTo>
                  <a:lnTo>
                    <a:pt x="1298" y="937"/>
                  </a:lnTo>
                  <a:lnTo>
                    <a:pt x="1245" y="954"/>
                  </a:lnTo>
                  <a:lnTo>
                    <a:pt x="1223" y="913"/>
                  </a:lnTo>
                  <a:lnTo>
                    <a:pt x="1226" y="912"/>
                  </a:lnTo>
                  <a:lnTo>
                    <a:pt x="1232" y="908"/>
                  </a:lnTo>
                  <a:lnTo>
                    <a:pt x="1240" y="905"/>
                  </a:lnTo>
                  <a:lnTo>
                    <a:pt x="1248" y="900"/>
                  </a:lnTo>
                  <a:lnTo>
                    <a:pt x="1255" y="896"/>
                  </a:lnTo>
                  <a:lnTo>
                    <a:pt x="1261" y="890"/>
                  </a:lnTo>
                  <a:lnTo>
                    <a:pt x="1264" y="885"/>
                  </a:lnTo>
                  <a:lnTo>
                    <a:pt x="1266" y="882"/>
                  </a:lnTo>
                  <a:lnTo>
                    <a:pt x="1261" y="873"/>
                  </a:lnTo>
                  <a:lnTo>
                    <a:pt x="1254" y="864"/>
                  </a:lnTo>
                  <a:lnTo>
                    <a:pt x="1246" y="859"/>
                  </a:lnTo>
                  <a:lnTo>
                    <a:pt x="1238" y="856"/>
                  </a:lnTo>
                  <a:lnTo>
                    <a:pt x="1175" y="954"/>
                  </a:lnTo>
                  <a:lnTo>
                    <a:pt x="1223" y="913"/>
                  </a:lnTo>
                  <a:lnTo>
                    <a:pt x="1245" y="954"/>
                  </a:lnTo>
                  <a:lnTo>
                    <a:pt x="1194" y="977"/>
                  </a:lnTo>
                  <a:lnTo>
                    <a:pt x="1202" y="994"/>
                  </a:lnTo>
                  <a:lnTo>
                    <a:pt x="1274" y="1053"/>
                  </a:lnTo>
                  <a:lnTo>
                    <a:pt x="1233" y="1068"/>
                  </a:lnTo>
                  <a:lnTo>
                    <a:pt x="1228" y="1065"/>
                  </a:lnTo>
                  <a:lnTo>
                    <a:pt x="1221" y="1057"/>
                  </a:lnTo>
                  <a:lnTo>
                    <a:pt x="1213" y="1044"/>
                  </a:lnTo>
                  <a:lnTo>
                    <a:pt x="1204" y="1030"/>
                  </a:lnTo>
                  <a:lnTo>
                    <a:pt x="1194" y="1015"/>
                  </a:lnTo>
                  <a:lnTo>
                    <a:pt x="1186" y="1003"/>
                  </a:lnTo>
                  <a:lnTo>
                    <a:pt x="1179" y="994"/>
                  </a:lnTo>
                  <a:lnTo>
                    <a:pt x="1174" y="991"/>
                  </a:lnTo>
                  <a:lnTo>
                    <a:pt x="1182" y="1110"/>
                  </a:lnTo>
                  <a:lnTo>
                    <a:pt x="1179" y="1089"/>
                  </a:lnTo>
                  <a:lnTo>
                    <a:pt x="1172" y="1057"/>
                  </a:lnTo>
                  <a:lnTo>
                    <a:pt x="1165" y="1023"/>
                  </a:lnTo>
                  <a:lnTo>
                    <a:pt x="1160" y="999"/>
                  </a:lnTo>
                  <a:lnTo>
                    <a:pt x="1140" y="1000"/>
                  </a:lnTo>
                  <a:lnTo>
                    <a:pt x="1117" y="1020"/>
                  </a:lnTo>
                  <a:lnTo>
                    <a:pt x="1136" y="984"/>
                  </a:lnTo>
                  <a:lnTo>
                    <a:pt x="1097" y="978"/>
                  </a:lnTo>
                  <a:lnTo>
                    <a:pt x="1095" y="957"/>
                  </a:lnTo>
                  <a:lnTo>
                    <a:pt x="1099" y="957"/>
                  </a:lnTo>
                  <a:lnTo>
                    <a:pt x="1103" y="958"/>
                  </a:lnTo>
                  <a:lnTo>
                    <a:pt x="1109" y="959"/>
                  </a:lnTo>
                  <a:lnTo>
                    <a:pt x="1115" y="961"/>
                  </a:lnTo>
                  <a:lnTo>
                    <a:pt x="1122" y="962"/>
                  </a:lnTo>
                  <a:lnTo>
                    <a:pt x="1126" y="963"/>
                  </a:lnTo>
                  <a:lnTo>
                    <a:pt x="1131" y="964"/>
                  </a:lnTo>
                  <a:lnTo>
                    <a:pt x="1135" y="965"/>
                  </a:lnTo>
                  <a:lnTo>
                    <a:pt x="1130" y="963"/>
                  </a:lnTo>
                  <a:lnTo>
                    <a:pt x="1118" y="957"/>
                  </a:lnTo>
                  <a:lnTo>
                    <a:pt x="1102" y="948"/>
                  </a:lnTo>
                  <a:lnTo>
                    <a:pt x="1083" y="939"/>
                  </a:lnTo>
                  <a:lnTo>
                    <a:pt x="1064" y="929"/>
                  </a:lnTo>
                  <a:lnTo>
                    <a:pt x="1048" y="921"/>
                  </a:lnTo>
                  <a:lnTo>
                    <a:pt x="1036" y="915"/>
                  </a:lnTo>
                  <a:lnTo>
                    <a:pt x="1031" y="913"/>
                  </a:lnTo>
                  <a:lnTo>
                    <a:pt x="1054" y="876"/>
                  </a:lnTo>
                  <a:lnTo>
                    <a:pt x="1061" y="879"/>
                  </a:lnTo>
                  <a:lnTo>
                    <a:pt x="1073" y="889"/>
                  </a:lnTo>
                  <a:lnTo>
                    <a:pt x="1087" y="899"/>
                  </a:lnTo>
                  <a:lnTo>
                    <a:pt x="1102" y="912"/>
                  </a:lnTo>
                  <a:lnTo>
                    <a:pt x="1117" y="925"/>
                  </a:lnTo>
                  <a:lnTo>
                    <a:pt x="1130" y="935"/>
                  </a:lnTo>
                  <a:lnTo>
                    <a:pt x="1139" y="942"/>
                  </a:lnTo>
                  <a:lnTo>
                    <a:pt x="1144" y="944"/>
                  </a:lnTo>
                  <a:lnTo>
                    <a:pt x="1085" y="852"/>
                  </a:lnTo>
                  <a:lnTo>
                    <a:pt x="1139" y="831"/>
                  </a:lnTo>
                  <a:lnTo>
                    <a:pt x="1161" y="946"/>
                  </a:lnTo>
                  <a:lnTo>
                    <a:pt x="1182" y="832"/>
                  </a:lnTo>
                  <a:lnTo>
                    <a:pt x="1176" y="831"/>
                  </a:lnTo>
                  <a:lnTo>
                    <a:pt x="1169" y="830"/>
                  </a:lnTo>
                  <a:lnTo>
                    <a:pt x="1163" y="830"/>
                  </a:lnTo>
                  <a:lnTo>
                    <a:pt x="1158" y="830"/>
                  </a:lnTo>
                  <a:lnTo>
                    <a:pt x="1153" y="830"/>
                  </a:lnTo>
                  <a:lnTo>
                    <a:pt x="1147" y="830"/>
                  </a:lnTo>
                  <a:lnTo>
                    <a:pt x="1143" y="831"/>
                  </a:lnTo>
                  <a:lnTo>
                    <a:pt x="1139" y="831"/>
                  </a:lnTo>
                  <a:lnTo>
                    <a:pt x="1085" y="852"/>
                  </a:lnTo>
                  <a:lnTo>
                    <a:pt x="1077" y="857"/>
                  </a:lnTo>
                  <a:lnTo>
                    <a:pt x="1066" y="864"/>
                  </a:lnTo>
                  <a:lnTo>
                    <a:pt x="1058" y="871"/>
                  </a:lnTo>
                  <a:lnTo>
                    <a:pt x="1054" y="876"/>
                  </a:lnTo>
                  <a:lnTo>
                    <a:pt x="1031" y="913"/>
                  </a:lnTo>
                  <a:lnTo>
                    <a:pt x="1028" y="920"/>
                  </a:lnTo>
                  <a:lnTo>
                    <a:pt x="1026" y="928"/>
                  </a:lnTo>
                  <a:lnTo>
                    <a:pt x="1023" y="936"/>
                  </a:lnTo>
                  <a:lnTo>
                    <a:pt x="1021" y="944"/>
                  </a:lnTo>
                  <a:lnTo>
                    <a:pt x="1024" y="944"/>
                  </a:lnTo>
                  <a:lnTo>
                    <a:pt x="1031" y="947"/>
                  </a:lnTo>
                  <a:lnTo>
                    <a:pt x="1043" y="948"/>
                  </a:lnTo>
                  <a:lnTo>
                    <a:pt x="1057" y="950"/>
                  </a:lnTo>
                  <a:lnTo>
                    <a:pt x="1070" y="954"/>
                  </a:lnTo>
                  <a:lnTo>
                    <a:pt x="1081" y="955"/>
                  </a:lnTo>
                  <a:lnTo>
                    <a:pt x="1090" y="957"/>
                  </a:lnTo>
                  <a:lnTo>
                    <a:pt x="1095" y="957"/>
                  </a:lnTo>
                  <a:lnTo>
                    <a:pt x="1097" y="978"/>
                  </a:lnTo>
                  <a:lnTo>
                    <a:pt x="1089" y="977"/>
                  </a:lnTo>
                  <a:lnTo>
                    <a:pt x="1079" y="977"/>
                  </a:lnTo>
                  <a:lnTo>
                    <a:pt x="1066" y="977"/>
                  </a:lnTo>
                  <a:lnTo>
                    <a:pt x="1053" y="978"/>
                  </a:lnTo>
                  <a:lnTo>
                    <a:pt x="1041" y="978"/>
                  </a:lnTo>
                  <a:lnTo>
                    <a:pt x="1030" y="979"/>
                  </a:lnTo>
                  <a:lnTo>
                    <a:pt x="1022" y="979"/>
                  </a:lnTo>
                  <a:lnTo>
                    <a:pt x="1020" y="979"/>
                  </a:lnTo>
                  <a:lnTo>
                    <a:pt x="1021" y="986"/>
                  </a:lnTo>
                  <a:lnTo>
                    <a:pt x="1023" y="993"/>
                  </a:lnTo>
                  <a:lnTo>
                    <a:pt x="1026" y="1000"/>
                  </a:lnTo>
                  <a:lnTo>
                    <a:pt x="1027" y="1007"/>
                  </a:lnTo>
                  <a:lnTo>
                    <a:pt x="1136" y="984"/>
                  </a:lnTo>
                  <a:lnTo>
                    <a:pt x="1117" y="1020"/>
                  </a:lnTo>
                  <a:lnTo>
                    <a:pt x="1111" y="1023"/>
                  </a:lnTo>
                  <a:lnTo>
                    <a:pt x="1103" y="1029"/>
                  </a:lnTo>
                  <a:lnTo>
                    <a:pt x="1093" y="1036"/>
                  </a:lnTo>
                  <a:lnTo>
                    <a:pt x="1083" y="1044"/>
                  </a:lnTo>
                  <a:lnTo>
                    <a:pt x="1073" y="1052"/>
                  </a:lnTo>
                  <a:lnTo>
                    <a:pt x="1065" y="1058"/>
                  </a:lnTo>
                  <a:lnTo>
                    <a:pt x="1058" y="1063"/>
                  </a:lnTo>
                  <a:lnTo>
                    <a:pt x="1054" y="1064"/>
                  </a:lnTo>
                  <a:lnTo>
                    <a:pt x="1058" y="1069"/>
                  </a:lnTo>
                  <a:lnTo>
                    <a:pt x="1063" y="1074"/>
                  </a:lnTo>
                  <a:lnTo>
                    <a:pt x="1068" y="1079"/>
                  </a:lnTo>
                  <a:lnTo>
                    <a:pt x="1074" y="1083"/>
                  </a:lnTo>
                  <a:lnTo>
                    <a:pt x="1080" y="1087"/>
                  </a:lnTo>
                  <a:lnTo>
                    <a:pt x="1085" y="1089"/>
                  </a:lnTo>
                  <a:lnTo>
                    <a:pt x="1088" y="1091"/>
                  </a:lnTo>
                  <a:lnTo>
                    <a:pt x="1089" y="1093"/>
                  </a:lnTo>
                  <a:lnTo>
                    <a:pt x="1043" y="1093"/>
                  </a:lnTo>
                  <a:lnTo>
                    <a:pt x="1030" y="1074"/>
                  </a:lnTo>
                  <a:lnTo>
                    <a:pt x="1022" y="1071"/>
                  </a:lnTo>
                  <a:lnTo>
                    <a:pt x="1014" y="1068"/>
                  </a:lnTo>
                  <a:lnTo>
                    <a:pt x="1006" y="1068"/>
                  </a:lnTo>
                  <a:lnTo>
                    <a:pt x="998" y="1069"/>
                  </a:lnTo>
                  <a:lnTo>
                    <a:pt x="990" y="1071"/>
                  </a:lnTo>
                  <a:lnTo>
                    <a:pt x="980" y="1072"/>
                  </a:lnTo>
                  <a:lnTo>
                    <a:pt x="971" y="1072"/>
                  </a:lnTo>
                  <a:lnTo>
                    <a:pt x="962" y="1072"/>
                  </a:lnTo>
                  <a:lnTo>
                    <a:pt x="959" y="1081"/>
                  </a:lnTo>
                  <a:lnTo>
                    <a:pt x="956" y="1088"/>
                  </a:lnTo>
                  <a:lnTo>
                    <a:pt x="952" y="1095"/>
                  </a:lnTo>
                  <a:lnTo>
                    <a:pt x="948" y="1100"/>
                  </a:lnTo>
                  <a:lnTo>
                    <a:pt x="943" y="1105"/>
                  </a:lnTo>
                  <a:lnTo>
                    <a:pt x="937" y="1110"/>
                  </a:lnTo>
                  <a:lnTo>
                    <a:pt x="932" y="1113"/>
                  </a:lnTo>
                  <a:lnTo>
                    <a:pt x="923" y="1118"/>
                  </a:lnTo>
                  <a:lnTo>
                    <a:pt x="917" y="1116"/>
                  </a:lnTo>
                  <a:lnTo>
                    <a:pt x="911" y="1112"/>
                  </a:lnTo>
                  <a:lnTo>
                    <a:pt x="905" y="1109"/>
                  </a:lnTo>
                  <a:lnTo>
                    <a:pt x="899" y="1107"/>
                  </a:lnTo>
                  <a:lnTo>
                    <a:pt x="876" y="1130"/>
                  </a:lnTo>
                  <a:lnTo>
                    <a:pt x="864" y="1181"/>
                  </a:lnTo>
                  <a:lnTo>
                    <a:pt x="799" y="1181"/>
                  </a:lnTo>
                  <a:lnTo>
                    <a:pt x="790" y="1105"/>
                  </a:lnTo>
                  <a:lnTo>
                    <a:pt x="797" y="1105"/>
                  </a:lnTo>
                  <a:lnTo>
                    <a:pt x="803" y="1105"/>
                  </a:lnTo>
                  <a:lnTo>
                    <a:pt x="808" y="1105"/>
                  </a:lnTo>
                  <a:lnTo>
                    <a:pt x="812" y="1104"/>
                  </a:lnTo>
                  <a:lnTo>
                    <a:pt x="804" y="985"/>
                  </a:lnTo>
                  <a:lnTo>
                    <a:pt x="806" y="991"/>
                  </a:lnTo>
                  <a:lnTo>
                    <a:pt x="811" y="1003"/>
                  </a:lnTo>
                  <a:lnTo>
                    <a:pt x="817" y="1021"/>
                  </a:lnTo>
                  <a:lnTo>
                    <a:pt x="825" y="1041"/>
                  </a:lnTo>
                  <a:lnTo>
                    <a:pt x="832" y="1059"/>
                  </a:lnTo>
                  <a:lnTo>
                    <a:pt x="840" y="1076"/>
                  </a:lnTo>
                  <a:lnTo>
                    <a:pt x="845" y="1088"/>
                  </a:lnTo>
                  <a:lnTo>
                    <a:pt x="848" y="1094"/>
                  </a:lnTo>
                  <a:lnTo>
                    <a:pt x="854" y="1089"/>
                  </a:lnTo>
                  <a:lnTo>
                    <a:pt x="862" y="1085"/>
                  </a:lnTo>
                  <a:lnTo>
                    <a:pt x="869" y="1081"/>
                  </a:lnTo>
                  <a:lnTo>
                    <a:pt x="871" y="1080"/>
                  </a:lnTo>
                  <a:lnTo>
                    <a:pt x="870" y="1074"/>
                  </a:lnTo>
                  <a:lnTo>
                    <a:pt x="868" y="1069"/>
                  </a:lnTo>
                  <a:lnTo>
                    <a:pt x="864" y="1065"/>
                  </a:lnTo>
                  <a:lnTo>
                    <a:pt x="862" y="1064"/>
                  </a:lnTo>
                  <a:lnTo>
                    <a:pt x="904" y="1049"/>
                  </a:lnTo>
                  <a:lnTo>
                    <a:pt x="908" y="1043"/>
                  </a:lnTo>
                  <a:lnTo>
                    <a:pt x="914" y="1034"/>
                  </a:lnTo>
                  <a:lnTo>
                    <a:pt x="920" y="1024"/>
                  </a:lnTo>
                  <a:lnTo>
                    <a:pt x="922" y="1018"/>
                  </a:lnTo>
                  <a:lnTo>
                    <a:pt x="917" y="1016"/>
                  </a:lnTo>
                  <a:lnTo>
                    <a:pt x="906" y="1013"/>
                  </a:lnTo>
                  <a:lnTo>
                    <a:pt x="892" y="1008"/>
                  </a:lnTo>
                  <a:lnTo>
                    <a:pt x="877" y="1002"/>
                  </a:lnTo>
                  <a:lnTo>
                    <a:pt x="863" y="998"/>
                  </a:lnTo>
                  <a:lnTo>
                    <a:pt x="849" y="994"/>
                  </a:lnTo>
                  <a:lnTo>
                    <a:pt x="839" y="991"/>
                  </a:lnTo>
                  <a:lnTo>
                    <a:pt x="832" y="990"/>
                  </a:lnTo>
                  <a:lnTo>
                    <a:pt x="824" y="972"/>
                  </a:lnTo>
                  <a:lnTo>
                    <a:pt x="833" y="971"/>
                  </a:lnTo>
                  <a:lnTo>
                    <a:pt x="848" y="971"/>
                  </a:lnTo>
                  <a:lnTo>
                    <a:pt x="867" y="970"/>
                  </a:lnTo>
                  <a:lnTo>
                    <a:pt x="886" y="969"/>
                  </a:lnTo>
                  <a:lnTo>
                    <a:pt x="905" y="968"/>
                  </a:lnTo>
                  <a:lnTo>
                    <a:pt x="922" y="968"/>
                  </a:lnTo>
                  <a:lnTo>
                    <a:pt x="933" y="966"/>
                  </a:lnTo>
                  <a:lnTo>
                    <a:pt x="937" y="966"/>
                  </a:lnTo>
                  <a:lnTo>
                    <a:pt x="936" y="959"/>
                  </a:lnTo>
                  <a:lnTo>
                    <a:pt x="933" y="949"/>
                  </a:lnTo>
                  <a:lnTo>
                    <a:pt x="929" y="939"/>
                  </a:lnTo>
                  <a:lnTo>
                    <a:pt x="927" y="933"/>
                  </a:lnTo>
                  <a:lnTo>
                    <a:pt x="875" y="948"/>
                  </a:lnTo>
                  <a:lnTo>
                    <a:pt x="852" y="908"/>
                  </a:lnTo>
                  <a:lnTo>
                    <a:pt x="855" y="907"/>
                  </a:lnTo>
                  <a:lnTo>
                    <a:pt x="861" y="904"/>
                  </a:lnTo>
                  <a:lnTo>
                    <a:pt x="869" y="899"/>
                  </a:lnTo>
                  <a:lnTo>
                    <a:pt x="877" y="895"/>
                  </a:lnTo>
                  <a:lnTo>
                    <a:pt x="884" y="890"/>
                  </a:lnTo>
                  <a:lnTo>
                    <a:pt x="891" y="885"/>
                  </a:lnTo>
                  <a:lnTo>
                    <a:pt x="894" y="881"/>
                  </a:lnTo>
                  <a:lnTo>
                    <a:pt x="896" y="877"/>
                  </a:lnTo>
                  <a:lnTo>
                    <a:pt x="891" y="868"/>
                  </a:lnTo>
                  <a:lnTo>
                    <a:pt x="884" y="860"/>
                  </a:lnTo>
                  <a:lnTo>
                    <a:pt x="876" y="854"/>
                  </a:lnTo>
                  <a:lnTo>
                    <a:pt x="867" y="852"/>
                  </a:lnTo>
                  <a:lnTo>
                    <a:pt x="805" y="948"/>
                  </a:lnTo>
                  <a:lnTo>
                    <a:pt x="852" y="908"/>
                  </a:lnTo>
                  <a:lnTo>
                    <a:pt x="875" y="948"/>
                  </a:lnTo>
                  <a:lnTo>
                    <a:pt x="824" y="972"/>
                  </a:lnTo>
                  <a:lnTo>
                    <a:pt x="832" y="990"/>
                  </a:lnTo>
                  <a:lnTo>
                    <a:pt x="904" y="1049"/>
                  </a:lnTo>
                  <a:lnTo>
                    <a:pt x="862" y="1064"/>
                  </a:lnTo>
                  <a:lnTo>
                    <a:pt x="859" y="1060"/>
                  </a:lnTo>
                  <a:lnTo>
                    <a:pt x="852" y="1052"/>
                  </a:lnTo>
                  <a:lnTo>
                    <a:pt x="843" y="1039"/>
                  </a:lnTo>
                  <a:lnTo>
                    <a:pt x="833" y="1024"/>
                  </a:lnTo>
                  <a:lnTo>
                    <a:pt x="824" y="1010"/>
                  </a:lnTo>
                  <a:lnTo>
                    <a:pt x="816" y="998"/>
                  </a:lnTo>
                  <a:lnTo>
                    <a:pt x="809" y="988"/>
                  </a:lnTo>
                  <a:lnTo>
                    <a:pt x="804" y="985"/>
                  </a:lnTo>
                  <a:lnTo>
                    <a:pt x="812" y="1104"/>
                  </a:lnTo>
                  <a:lnTo>
                    <a:pt x="809" y="1085"/>
                  </a:lnTo>
                  <a:lnTo>
                    <a:pt x="802" y="1052"/>
                  </a:lnTo>
                  <a:lnTo>
                    <a:pt x="795" y="1017"/>
                  </a:lnTo>
                  <a:lnTo>
                    <a:pt x="789" y="993"/>
                  </a:lnTo>
                  <a:lnTo>
                    <a:pt x="770" y="995"/>
                  </a:lnTo>
                  <a:lnTo>
                    <a:pt x="747" y="1014"/>
                  </a:lnTo>
                  <a:lnTo>
                    <a:pt x="765" y="979"/>
                  </a:lnTo>
                  <a:lnTo>
                    <a:pt x="726" y="973"/>
                  </a:lnTo>
                  <a:lnTo>
                    <a:pt x="725" y="952"/>
                  </a:lnTo>
                  <a:lnTo>
                    <a:pt x="729" y="952"/>
                  </a:lnTo>
                  <a:lnTo>
                    <a:pt x="733" y="954"/>
                  </a:lnTo>
                  <a:lnTo>
                    <a:pt x="738" y="955"/>
                  </a:lnTo>
                  <a:lnTo>
                    <a:pt x="745" y="956"/>
                  </a:lnTo>
                  <a:lnTo>
                    <a:pt x="751" y="957"/>
                  </a:lnTo>
                  <a:lnTo>
                    <a:pt x="755" y="958"/>
                  </a:lnTo>
                  <a:lnTo>
                    <a:pt x="760" y="959"/>
                  </a:lnTo>
                  <a:lnTo>
                    <a:pt x="763" y="961"/>
                  </a:lnTo>
                  <a:lnTo>
                    <a:pt x="759" y="957"/>
                  </a:lnTo>
                  <a:lnTo>
                    <a:pt x="747" y="951"/>
                  </a:lnTo>
                  <a:lnTo>
                    <a:pt x="731" y="943"/>
                  </a:lnTo>
                  <a:lnTo>
                    <a:pt x="712" y="934"/>
                  </a:lnTo>
                  <a:lnTo>
                    <a:pt x="693" y="925"/>
                  </a:lnTo>
                  <a:lnTo>
                    <a:pt x="676" y="917"/>
                  </a:lnTo>
                  <a:lnTo>
                    <a:pt x="665" y="911"/>
                  </a:lnTo>
                  <a:lnTo>
                    <a:pt x="660" y="908"/>
                  </a:lnTo>
                  <a:lnTo>
                    <a:pt x="685" y="871"/>
                  </a:lnTo>
                  <a:lnTo>
                    <a:pt x="692" y="875"/>
                  </a:lnTo>
                  <a:lnTo>
                    <a:pt x="702" y="884"/>
                  </a:lnTo>
                  <a:lnTo>
                    <a:pt x="716" y="895"/>
                  </a:lnTo>
                  <a:lnTo>
                    <a:pt x="732" y="907"/>
                  </a:lnTo>
                  <a:lnTo>
                    <a:pt x="747" y="920"/>
                  </a:lnTo>
                  <a:lnTo>
                    <a:pt x="760" y="930"/>
                  </a:lnTo>
                  <a:lnTo>
                    <a:pt x="769" y="937"/>
                  </a:lnTo>
                  <a:lnTo>
                    <a:pt x="773" y="940"/>
                  </a:lnTo>
                  <a:lnTo>
                    <a:pt x="715" y="847"/>
                  </a:lnTo>
                  <a:lnTo>
                    <a:pt x="768" y="826"/>
                  </a:lnTo>
                  <a:lnTo>
                    <a:pt x="790" y="941"/>
                  </a:lnTo>
                  <a:lnTo>
                    <a:pt x="811" y="826"/>
                  </a:lnTo>
                  <a:lnTo>
                    <a:pt x="805" y="825"/>
                  </a:lnTo>
                  <a:lnTo>
                    <a:pt x="799" y="825"/>
                  </a:lnTo>
                  <a:lnTo>
                    <a:pt x="794" y="824"/>
                  </a:lnTo>
                  <a:lnTo>
                    <a:pt x="788" y="824"/>
                  </a:lnTo>
                  <a:lnTo>
                    <a:pt x="782" y="825"/>
                  </a:lnTo>
                  <a:lnTo>
                    <a:pt x="777" y="825"/>
                  </a:lnTo>
                  <a:lnTo>
                    <a:pt x="773" y="826"/>
                  </a:lnTo>
                  <a:lnTo>
                    <a:pt x="768" y="826"/>
                  </a:lnTo>
                  <a:lnTo>
                    <a:pt x="715" y="847"/>
                  </a:lnTo>
                  <a:lnTo>
                    <a:pt x="707" y="853"/>
                  </a:lnTo>
                  <a:lnTo>
                    <a:pt x="696" y="860"/>
                  </a:lnTo>
                  <a:lnTo>
                    <a:pt x="688" y="867"/>
                  </a:lnTo>
                  <a:lnTo>
                    <a:pt x="685" y="871"/>
                  </a:lnTo>
                  <a:lnTo>
                    <a:pt x="660" y="908"/>
                  </a:lnTo>
                  <a:lnTo>
                    <a:pt x="658" y="914"/>
                  </a:lnTo>
                  <a:lnTo>
                    <a:pt x="656" y="922"/>
                  </a:lnTo>
                  <a:lnTo>
                    <a:pt x="653" y="932"/>
                  </a:lnTo>
                  <a:lnTo>
                    <a:pt x="651" y="940"/>
                  </a:lnTo>
                  <a:lnTo>
                    <a:pt x="654" y="940"/>
                  </a:lnTo>
                  <a:lnTo>
                    <a:pt x="661" y="942"/>
                  </a:lnTo>
                  <a:lnTo>
                    <a:pt x="673" y="943"/>
                  </a:lnTo>
                  <a:lnTo>
                    <a:pt x="687" y="946"/>
                  </a:lnTo>
                  <a:lnTo>
                    <a:pt x="700" y="949"/>
                  </a:lnTo>
                  <a:lnTo>
                    <a:pt x="711" y="950"/>
                  </a:lnTo>
                  <a:lnTo>
                    <a:pt x="721" y="952"/>
                  </a:lnTo>
                  <a:lnTo>
                    <a:pt x="725" y="952"/>
                  </a:lnTo>
                  <a:lnTo>
                    <a:pt x="726" y="973"/>
                  </a:lnTo>
                  <a:lnTo>
                    <a:pt x="719" y="972"/>
                  </a:lnTo>
                  <a:lnTo>
                    <a:pt x="708" y="972"/>
                  </a:lnTo>
                  <a:lnTo>
                    <a:pt x="696" y="972"/>
                  </a:lnTo>
                  <a:lnTo>
                    <a:pt x="682" y="973"/>
                  </a:lnTo>
                  <a:lnTo>
                    <a:pt x="670" y="973"/>
                  </a:lnTo>
                  <a:lnTo>
                    <a:pt x="659" y="974"/>
                  </a:lnTo>
                  <a:lnTo>
                    <a:pt x="651" y="974"/>
                  </a:lnTo>
                  <a:lnTo>
                    <a:pt x="649" y="974"/>
                  </a:lnTo>
                  <a:lnTo>
                    <a:pt x="650" y="981"/>
                  </a:lnTo>
                  <a:lnTo>
                    <a:pt x="652" y="988"/>
                  </a:lnTo>
                  <a:lnTo>
                    <a:pt x="654" y="995"/>
                  </a:lnTo>
                  <a:lnTo>
                    <a:pt x="656" y="1002"/>
                  </a:lnTo>
                  <a:lnTo>
                    <a:pt x="765" y="979"/>
                  </a:lnTo>
                  <a:lnTo>
                    <a:pt x="747" y="1014"/>
                  </a:lnTo>
                  <a:lnTo>
                    <a:pt x="740" y="1017"/>
                  </a:lnTo>
                  <a:lnTo>
                    <a:pt x="732" y="1023"/>
                  </a:lnTo>
                  <a:lnTo>
                    <a:pt x="723" y="1031"/>
                  </a:lnTo>
                  <a:lnTo>
                    <a:pt x="712" y="1039"/>
                  </a:lnTo>
                  <a:lnTo>
                    <a:pt x="703" y="1046"/>
                  </a:lnTo>
                  <a:lnTo>
                    <a:pt x="694" y="1053"/>
                  </a:lnTo>
                  <a:lnTo>
                    <a:pt x="688" y="1058"/>
                  </a:lnTo>
                  <a:lnTo>
                    <a:pt x="685" y="1059"/>
                  </a:lnTo>
                  <a:lnTo>
                    <a:pt x="688" y="1065"/>
                  </a:lnTo>
                  <a:lnTo>
                    <a:pt x="693" y="1069"/>
                  </a:lnTo>
                  <a:lnTo>
                    <a:pt x="699" y="1074"/>
                  </a:lnTo>
                  <a:lnTo>
                    <a:pt x="704" y="1079"/>
                  </a:lnTo>
                  <a:lnTo>
                    <a:pt x="710" y="1082"/>
                  </a:lnTo>
                  <a:lnTo>
                    <a:pt x="715" y="1085"/>
                  </a:lnTo>
                  <a:lnTo>
                    <a:pt x="718" y="1087"/>
                  </a:lnTo>
                  <a:lnTo>
                    <a:pt x="719" y="1088"/>
                  </a:lnTo>
                  <a:lnTo>
                    <a:pt x="723" y="1086"/>
                  </a:lnTo>
                  <a:lnTo>
                    <a:pt x="730" y="1078"/>
                  </a:lnTo>
                  <a:lnTo>
                    <a:pt x="737" y="1064"/>
                  </a:lnTo>
                  <a:lnTo>
                    <a:pt x="745" y="1047"/>
                  </a:lnTo>
                  <a:lnTo>
                    <a:pt x="753" y="1031"/>
                  </a:lnTo>
                  <a:lnTo>
                    <a:pt x="760" y="1015"/>
                  </a:lnTo>
                  <a:lnTo>
                    <a:pt x="767" y="1002"/>
                  </a:lnTo>
                  <a:lnTo>
                    <a:pt x="770" y="995"/>
                  </a:lnTo>
                  <a:lnTo>
                    <a:pt x="789" y="993"/>
                  </a:lnTo>
                  <a:lnTo>
                    <a:pt x="785" y="1013"/>
                  </a:lnTo>
                  <a:lnTo>
                    <a:pt x="780" y="1049"/>
                  </a:lnTo>
                  <a:lnTo>
                    <a:pt x="774" y="1085"/>
                  </a:lnTo>
                  <a:lnTo>
                    <a:pt x="773" y="1104"/>
                  </a:lnTo>
                  <a:lnTo>
                    <a:pt x="777" y="1104"/>
                  </a:lnTo>
                  <a:lnTo>
                    <a:pt x="782" y="1104"/>
                  </a:lnTo>
                  <a:lnTo>
                    <a:pt x="785" y="1105"/>
                  </a:lnTo>
                  <a:lnTo>
                    <a:pt x="790" y="1105"/>
                  </a:lnTo>
                  <a:lnTo>
                    <a:pt x="799" y="1181"/>
                  </a:lnTo>
                  <a:lnTo>
                    <a:pt x="752" y="1181"/>
                  </a:lnTo>
                  <a:lnTo>
                    <a:pt x="707" y="1130"/>
                  </a:lnTo>
                  <a:lnTo>
                    <a:pt x="704" y="1129"/>
                  </a:lnTo>
                  <a:lnTo>
                    <a:pt x="700" y="1124"/>
                  </a:lnTo>
                  <a:lnTo>
                    <a:pt x="693" y="1118"/>
                  </a:lnTo>
                  <a:lnTo>
                    <a:pt x="683" y="1109"/>
                  </a:lnTo>
                  <a:lnTo>
                    <a:pt x="674" y="1100"/>
                  </a:lnTo>
                  <a:lnTo>
                    <a:pt x="665" y="1088"/>
                  </a:lnTo>
                  <a:lnTo>
                    <a:pt x="658" y="1076"/>
                  </a:lnTo>
                  <a:lnTo>
                    <a:pt x="652" y="1064"/>
                  </a:lnTo>
                  <a:lnTo>
                    <a:pt x="646" y="1069"/>
                  </a:lnTo>
                  <a:lnTo>
                    <a:pt x="644" y="1076"/>
                  </a:lnTo>
                  <a:lnTo>
                    <a:pt x="642" y="1086"/>
                  </a:lnTo>
                  <a:lnTo>
                    <a:pt x="639" y="1093"/>
                  </a:lnTo>
                  <a:lnTo>
                    <a:pt x="631" y="1096"/>
                  </a:lnTo>
                  <a:lnTo>
                    <a:pt x="614" y="1098"/>
                  </a:lnTo>
                  <a:lnTo>
                    <a:pt x="590" y="1100"/>
                  </a:lnTo>
                  <a:lnTo>
                    <a:pt x="562" y="1101"/>
                  </a:lnTo>
                  <a:lnTo>
                    <a:pt x="532" y="1102"/>
                  </a:lnTo>
                  <a:lnTo>
                    <a:pt x="501" y="1102"/>
                  </a:lnTo>
                  <a:lnTo>
                    <a:pt x="476" y="1102"/>
                  </a:lnTo>
                  <a:lnTo>
                    <a:pt x="455" y="1102"/>
                  </a:lnTo>
                  <a:lnTo>
                    <a:pt x="448" y="1110"/>
                  </a:lnTo>
                  <a:lnTo>
                    <a:pt x="441" y="1117"/>
                  </a:lnTo>
                  <a:lnTo>
                    <a:pt x="433" y="1124"/>
                  </a:lnTo>
                  <a:lnTo>
                    <a:pt x="425" y="1130"/>
                  </a:lnTo>
                  <a:lnTo>
                    <a:pt x="707" y="1130"/>
                  </a:lnTo>
                  <a:lnTo>
                    <a:pt x="752" y="1181"/>
                  </a:lnTo>
                  <a:lnTo>
                    <a:pt x="734" y="1181"/>
                  </a:lnTo>
                  <a:lnTo>
                    <a:pt x="704" y="1182"/>
                  </a:lnTo>
                  <a:lnTo>
                    <a:pt x="664" y="1182"/>
                  </a:lnTo>
                  <a:lnTo>
                    <a:pt x="614" y="1182"/>
                  </a:lnTo>
                  <a:lnTo>
                    <a:pt x="557" y="1182"/>
                  </a:lnTo>
                  <a:lnTo>
                    <a:pt x="496" y="1182"/>
                  </a:lnTo>
                  <a:lnTo>
                    <a:pt x="431" y="1182"/>
                  </a:lnTo>
                  <a:lnTo>
                    <a:pt x="365" y="1182"/>
                  </a:lnTo>
                  <a:lnTo>
                    <a:pt x="298" y="1182"/>
                  </a:lnTo>
                  <a:lnTo>
                    <a:pt x="236" y="1182"/>
                  </a:lnTo>
                  <a:lnTo>
                    <a:pt x="177" y="1181"/>
                  </a:lnTo>
                  <a:lnTo>
                    <a:pt x="125" y="1181"/>
                  </a:lnTo>
                  <a:lnTo>
                    <a:pt x="80" y="1181"/>
                  </a:lnTo>
                  <a:lnTo>
                    <a:pt x="47" y="1181"/>
                  </a:lnTo>
                  <a:lnTo>
                    <a:pt x="26" y="1181"/>
                  </a:lnTo>
                  <a:lnTo>
                    <a:pt x="18" y="1181"/>
                  </a:lnTo>
                  <a:lnTo>
                    <a:pt x="18" y="1130"/>
                  </a:lnTo>
                  <a:lnTo>
                    <a:pt x="253" y="1130"/>
                  </a:lnTo>
                  <a:lnTo>
                    <a:pt x="245" y="1122"/>
                  </a:lnTo>
                  <a:lnTo>
                    <a:pt x="238" y="1113"/>
                  </a:lnTo>
                  <a:lnTo>
                    <a:pt x="230" y="1105"/>
                  </a:lnTo>
                  <a:lnTo>
                    <a:pt x="223" y="1097"/>
                  </a:lnTo>
                  <a:lnTo>
                    <a:pt x="216" y="1089"/>
                  </a:lnTo>
                  <a:lnTo>
                    <a:pt x="210" y="1080"/>
                  </a:lnTo>
                  <a:lnTo>
                    <a:pt x="205" y="1071"/>
                  </a:lnTo>
                  <a:lnTo>
                    <a:pt x="201" y="1061"/>
                  </a:lnTo>
                  <a:lnTo>
                    <a:pt x="189" y="1037"/>
                  </a:lnTo>
                  <a:lnTo>
                    <a:pt x="184" y="1008"/>
                  </a:lnTo>
                  <a:lnTo>
                    <a:pt x="180" y="979"/>
                  </a:lnTo>
                  <a:lnTo>
                    <a:pt x="178" y="957"/>
                  </a:lnTo>
                  <a:lnTo>
                    <a:pt x="210" y="948"/>
                  </a:lnTo>
                  <a:lnTo>
                    <a:pt x="213" y="956"/>
                  </a:lnTo>
                  <a:lnTo>
                    <a:pt x="214" y="980"/>
                  </a:lnTo>
                  <a:lnTo>
                    <a:pt x="214" y="986"/>
                  </a:lnTo>
                  <a:lnTo>
                    <a:pt x="216" y="993"/>
                  </a:lnTo>
                  <a:lnTo>
                    <a:pt x="218" y="999"/>
                  </a:lnTo>
                  <a:lnTo>
                    <a:pt x="221" y="1003"/>
                  </a:lnTo>
                  <a:lnTo>
                    <a:pt x="227" y="1002"/>
                  </a:lnTo>
                  <a:lnTo>
                    <a:pt x="234" y="1001"/>
                  </a:lnTo>
                  <a:lnTo>
                    <a:pt x="242" y="999"/>
                  </a:lnTo>
                  <a:lnTo>
                    <a:pt x="250" y="996"/>
                  </a:lnTo>
                  <a:lnTo>
                    <a:pt x="257" y="994"/>
                  </a:lnTo>
                  <a:lnTo>
                    <a:pt x="264" y="992"/>
                  </a:lnTo>
                  <a:lnTo>
                    <a:pt x="269" y="990"/>
                  </a:lnTo>
                  <a:lnTo>
                    <a:pt x="273" y="986"/>
                  </a:lnTo>
                  <a:lnTo>
                    <a:pt x="288" y="1014"/>
                  </a:lnTo>
                  <a:lnTo>
                    <a:pt x="281" y="1015"/>
                  </a:lnTo>
                  <a:lnTo>
                    <a:pt x="273" y="1016"/>
                  </a:lnTo>
                  <a:lnTo>
                    <a:pt x="265" y="1017"/>
                  </a:lnTo>
                  <a:lnTo>
                    <a:pt x="257" y="1020"/>
                  </a:lnTo>
                  <a:lnTo>
                    <a:pt x="247" y="1022"/>
                  </a:lnTo>
                  <a:lnTo>
                    <a:pt x="241" y="1024"/>
                  </a:lnTo>
                  <a:lnTo>
                    <a:pt x="232" y="1027"/>
                  </a:lnTo>
                  <a:lnTo>
                    <a:pt x="225" y="1029"/>
                  </a:lnTo>
                  <a:lnTo>
                    <a:pt x="227" y="1037"/>
                  </a:lnTo>
                  <a:lnTo>
                    <a:pt x="229" y="1044"/>
                  </a:lnTo>
                  <a:lnTo>
                    <a:pt x="231" y="1050"/>
                  </a:lnTo>
                  <a:lnTo>
                    <a:pt x="237" y="1056"/>
                  </a:lnTo>
                  <a:lnTo>
                    <a:pt x="252" y="1079"/>
                  </a:lnTo>
                  <a:lnTo>
                    <a:pt x="256" y="1083"/>
                  </a:lnTo>
                  <a:lnTo>
                    <a:pt x="264" y="1090"/>
                  </a:lnTo>
                  <a:lnTo>
                    <a:pt x="274" y="1097"/>
                  </a:lnTo>
                  <a:lnTo>
                    <a:pt x="283" y="1104"/>
                  </a:lnTo>
                  <a:lnTo>
                    <a:pt x="323" y="1120"/>
                  </a:lnTo>
                  <a:lnTo>
                    <a:pt x="327" y="1120"/>
                  </a:lnTo>
                  <a:lnTo>
                    <a:pt x="332" y="1120"/>
                  </a:lnTo>
                  <a:lnTo>
                    <a:pt x="338" y="1120"/>
                  </a:lnTo>
                  <a:lnTo>
                    <a:pt x="344" y="1120"/>
                  </a:lnTo>
                  <a:lnTo>
                    <a:pt x="349" y="1119"/>
                  </a:lnTo>
                  <a:lnTo>
                    <a:pt x="355" y="1118"/>
                  </a:lnTo>
                  <a:lnTo>
                    <a:pt x="359" y="1116"/>
                  </a:lnTo>
                  <a:lnTo>
                    <a:pt x="361" y="1112"/>
                  </a:lnTo>
                  <a:lnTo>
                    <a:pt x="356" y="1104"/>
                  </a:lnTo>
                  <a:lnTo>
                    <a:pt x="351" y="1096"/>
                  </a:lnTo>
                  <a:lnTo>
                    <a:pt x="344" y="1090"/>
                  </a:lnTo>
                  <a:lnTo>
                    <a:pt x="337" y="1085"/>
                  </a:lnTo>
                  <a:lnTo>
                    <a:pt x="333" y="1093"/>
                  </a:lnTo>
                  <a:lnTo>
                    <a:pt x="329" y="1104"/>
                  </a:lnTo>
                  <a:lnTo>
                    <a:pt x="325" y="1116"/>
                  </a:lnTo>
                  <a:lnTo>
                    <a:pt x="323" y="1120"/>
                  </a:lnTo>
                  <a:lnTo>
                    <a:pt x="283" y="1104"/>
                  </a:lnTo>
                  <a:lnTo>
                    <a:pt x="290" y="1089"/>
                  </a:lnTo>
                  <a:lnTo>
                    <a:pt x="300" y="1073"/>
                  </a:lnTo>
                  <a:lnTo>
                    <a:pt x="305" y="1056"/>
                  </a:lnTo>
                  <a:lnTo>
                    <a:pt x="308" y="1039"/>
                  </a:lnTo>
                  <a:lnTo>
                    <a:pt x="301" y="1043"/>
                  </a:lnTo>
                  <a:lnTo>
                    <a:pt x="293" y="1049"/>
                  </a:lnTo>
                  <a:lnTo>
                    <a:pt x="285" y="1054"/>
                  </a:lnTo>
                  <a:lnTo>
                    <a:pt x="275" y="1061"/>
                  </a:lnTo>
                  <a:lnTo>
                    <a:pt x="266" y="1067"/>
                  </a:lnTo>
                  <a:lnTo>
                    <a:pt x="259" y="1073"/>
                  </a:lnTo>
                  <a:lnTo>
                    <a:pt x="254" y="1076"/>
                  </a:lnTo>
                  <a:lnTo>
                    <a:pt x="252" y="1079"/>
                  </a:lnTo>
                  <a:lnTo>
                    <a:pt x="237" y="1056"/>
                  </a:lnTo>
                  <a:lnTo>
                    <a:pt x="243" y="1051"/>
                  </a:lnTo>
                  <a:lnTo>
                    <a:pt x="249" y="1047"/>
                  </a:lnTo>
                  <a:lnTo>
                    <a:pt x="256" y="1043"/>
                  </a:lnTo>
                  <a:lnTo>
                    <a:pt x="263" y="1038"/>
                  </a:lnTo>
                  <a:lnTo>
                    <a:pt x="269" y="1034"/>
                  </a:lnTo>
                  <a:lnTo>
                    <a:pt x="276" y="1028"/>
                  </a:lnTo>
                  <a:lnTo>
                    <a:pt x="282" y="1023"/>
                  </a:lnTo>
                  <a:lnTo>
                    <a:pt x="288" y="1018"/>
                  </a:lnTo>
                  <a:lnTo>
                    <a:pt x="288" y="1014"/>
                  </a:lnTo>
                  <a:lnTo>
                    <a:pt x="273" y="986"/>
                  </a:lnTo>
                  <a:lnTo>
                    <a:pt x="267" y="985"/>
                  </a:lnTo>
                  <a:lnTo>
                    <a:pt x="260" y="983"/>
                  </a:lnTo>
                  <a:lnTo>
                    <a:pt x="252" y="981"/>
                  </a:lnTo>
                  <a:lnTo>
                    <a:pt x="244" y="980"/>
                  </a:lnTo>
                  <a:lnTo>
                    <a:pt x="235" y="980"/>
                  </a:lnTo>
                  <a:lnTo>
                    <a:pt x="227" y="979"/>
                  </a:lnTo>
                  <a:lnTo>
                    <a:pt x="220" y="979"/>
                  </a:lnTo>
                  <a:lnTo>
                    <a:pt x="214" y="980"/>
                  </a:lnTo>
                  <a:lnTo>
                    <a:pt x="213" y="956"/>
                  </a:lnTo>
                  <a:lnTo>
                    <a:pt x="217" y="957"/>
                  </a:lnTo>
                  <a:lnTo>
                    <a:pt x="225" y="956"/>
                  </a:lnTo>
                  <a:lnTo>
                    <a:pt x="235" y="954"/>
                  </a:lnTo>
                  <a:lnTo>
                    <a:pt x="244" y="950"/>
                  </a:lnTo>
                  <a:lnTo>
                    <a:pt x="253" y="947"/>
                  </a:lnTo>
                  <a:lnTo>
                    <a:pt x="261" y="942"/>
                  </a:lnTo>
                  <a:lnTo>
                    <a:pt x="267" y="939"/>
                  </a:lnTo>
                  <a:lnTo>
                    <a:pt x="269" y="935"/>
                  </a:lnTo>
                  <a:lnTo>
                    <a:pt x="210" y="937"/>
                  </a:lnTo>
                  <a:lnTo>
                    <a:pt x="210" y="948"/>
                  </a:lnTo>
                  <a:lnTo>
                    <a:pt x="178" y="957"/>
                  </a:lnTo>
                  <a:lnTo>
                    <a:pt x="152" y="956"/>
                  </a:lnTo>
                  <a:lnTo>
                    <a:pt x="145" y="964"/>
                  </a:lnTo>
                  <a:lnTo>
                    <a:pt x="135" y="970"/>
                  </a:lnTo>
                  <a:lnTo>
                    <a:pt x="125" y="973"/>
                  </a:lnTo>
                  <a:lnTo>
                    <a:pt x="120" y="974"/>
                  </a:lnTo>
                  <a:lnTo>
                    <a:pt x="122" y="1061"/>
                  </a:lnTo>
                  <a:lnTo>
                    <a:pt x="87" y="1065"/>
                  </a:lnTo>
                  <a:lnTo>
                    <a:pt x="87" y="1046"/>
                  </a:lnTo>
                  <a:lnTo>
                    <a:pt x="86" y="1007"/>
                  </a:lnTo>
                  <a:lnTo>
                    <a:pt x="85" y="965"/>
                  </a:lnTo>
                  <a:lnTo>
                    <a:pt x="86" y="946"/>
                  </a:lnTo>
                  <a:lnTo>
                    <a:pt x="96" y="940"/>
                  </a:lnTo>
                  <a:lnTo>
                    <a:pt x="103" y="933"/>
                  </a:lnTo>
                  <a:lnTo>
                    <a:pt x="108" y="923"/>
                  </a:lnTo>
                  <a:lnTo>
                    <a:pt x="108" y="913"/>
                  </a:lnTo>
                  <a:lnTo>
                    <a:pt x="109" y="847"/>
                  </a:lnTo>
                  <a:lnTo>
                    <a:pt x="111" y="699"/>
                  </a:lnTo>
                  <a:lnTo>
                    <a:pt x="111" y="545"/>
                  </a:lnTo>
                  <a:lnTo>
                    <a:pt x="108" y="461"/>
                  </a:lnTo>
                  <a:lnTo>
                    <a:pt x="162" y="457"/>
                  </a:lnTo>
                  <a:lnTo>
                    <a:pt x="159" y="493"/>
                  </a:lnTo>
                  <a:lnTo>
                    <a:pt x="160" y="540"/>
                  </a:lnTo>
                  <a:lnTo>
                    <a:pt x="163" y="582"/>
                  </a:lnTo>
                  <a:lnTo>
                    <a:pt x="164" y="599"/>
                  </a:lnTo>
                  <a:lnTo>
                    <a:pt x="173" y="600"/>
                  </a:lnTo>
                  <a:lnTo>
                    <a:pt x="184" y="600"/>
                  </a:lnTo>
                  <a:lnTo>
                    <a:pt x="193" y="600"/>
                  </a:lnTo>
                  <a:lnTo>
                    <a:pt x="202" y="600"/>
                  </a:lnTo>
                  <a:lnTo>
                    <a:pt x="212" y="599"/>
                  </a:lnTo>
                  <a:lnTo>
                    <a:pt x="221" y="599"/>
                  </a:lnTo>
                  <a:lnTo>
                    <a:pt x="231" y="599"/>
                  </a:lnTo>
                  <a:lnTo>
                    <a:pt x="241" y="599"/>
                  </a:lnTo>
                  <a:lnTo>
                    <a:pt x="241" y="457"/>
                  </a:lnTo>
                  <a:lnTo>
                    <a:pt x="304" y="457"/>
                  </a:lnTo>
                  <a:lnTo>
                    <a:pt x="307" y="484"/>
                  </a:lnTo>
                  <a:lnTo>
                    <a:pt x="305" y="512"/>
                  </a:lnTo>
                  <a:lnTo>
                    <a:pt x="305" y="540"/>
                  </a:lnTo>
                  <a:lnTo>
                    <a:pt x="307" y="566"/>
                  </a:lnTo>
                  <a:lnTo>
                    <a:pt x="309" y="563"/>
                  </a:lnTo>
                  <a:lnTo>
                    <a:pt x="314" y="556"/>
                  </a:lnTo>
                  <a:lnTo>
                    <a:pt x="319" y="547"/>
                  </a:lnTo>
                  <a:lnTo>
                    <a:pt x="327" y="537"/>
                  </a:lnTo>
                  <a:lnTo>
                    <a:pt x="336" y="526"/>
                  </a:lnTo>
                  <a:lnTo>
                    <a:pt x="345" y="517"/>
                  </a:lnTo>
                  <a:lnTo>
                    <a:pt x="355" y="511"/>
                  </a:lnTo>
                  <a:lnTo>
                    <a:pt x="366" y="5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700360" y="4508640"/>
              <a:ext cx="43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6" dur="indefinite" restart="never" nodeType="tmRoot">
          <p:childTnLst>
            <p:seq>
              <p:cTn id="2767" dur="indefinite" nodeType="mainSeq">
                <p:childTnLst>
                  <p:par>
                    <p:cTn id="2768" fill="hold">
                      <p:stCondLst>
                        <p:cond delay="indefinite"/>
                      </p:stCondLst>
                      <p:childTnLst>
                        <p:par>
                          <p:cTn id="2769" fill="hold">
                            <p:stCondLst>
                              <p:cond delay="0"/>
                            </p:stCondLst>
                            <p:childTnLst>
                              <p:par>
                                <p:cTn id="2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2" dur="500"/>
                                        <p:tgtEl>
                                          <p:spTgt spid="2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6" dur="500"/>
                                        <p:tgtEl>
                                          <p:spTgt spid="2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0" dur="500"/>
                                        <p:tgtEl>
                                          <p:spTgt spid="2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4" dur="500"/>
                                        <p:tgtEl>
                                          <p:spTgt spid="23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5" fill="hold">
                      <p:stCondLst>
                        <p:cond delay="indefinite"/>
                      </p:stCondLst>
                      <p:childTnLst>
                        <p:par>
                          <p:cTn id="2786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9" dur="500"/>
                                        <p:tgtEl>
                                          <p:spTgt spid="2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0" fill="hold">
                            <p:stCondLst>
                              <p:cond delay="500"/>
                            </p:stCondLst>
                            <p:childTnLst>
                              <p:par>
                                <p:cTn id="279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93" dur="500"/>
                                        <p:tgtEl>
                                          <p:spTgt spid="2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8" dur="500" fill="hold"/>
                                        <p:tgtEl>
                                          <p:spTgt spid="2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9" dur="500" fill="hold"/>
                                        <p:tgtEl>
                                          <p:spTgt spid="2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0" fill="hold">
                      <p:stCondLst>
                        <p:cond delay="indefinite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4" dur="500"/>
                                        <p:tgtEl>
                                          <p:spTgt spid="2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5" fill="hold">
                      <p:stCondLst>
                        <p:cond delay="indefinite"/>
                      </p:stCondLst>
                      <p:childTnLst>
                        <p:par>
                          <p:cTn id="2806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9" dur="500"/>
                                        <p:tgtEl>
                                          <p:spTgt spid="2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3" dur="500"/>
                                        <p:tgtEl>
                                          <p:spTgt spid="2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17" dur="500"/>
                                        <p:tgtEl>
                                          <p:spTgt spid="2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8" fill="hold">
                      <p:stCondLst>
                        <p:cond delay="indefinite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69942E-006 L -0.20851 -0.00047 E">
                                      <p:cBhvr>
                                        <p:cTn id="2821" dur="2000" fill="hold"/>
                                        <p:tgtEl>
                                          <p:spTgt spid="2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2" fill="hold">
                      <p:stCondLst>
                        <p:cond delay="indefinite"/>
                      </p:stCondLst>
                      <p:childTnLst>
                        <p:par>
                          <p:cTn id="2823" fill="hold">
                            <p:stCondLst>
                              <p:cond delay="0"/>
                            </p:stCondLst>
                            <p:childTnLst>
                              <p:par>
                                <p:cTn id="28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6" dur="500"/>
                                        <p:tgtEl>
                                          <p:spTgt spid="2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0" dur="500"/>
                                        <p:tgtEl>
                                          <p:spTgt spid="2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1" fill="hold">
                      <p:stCondLst>
                        <p:cond delay="indefinite"/>
                      </p:stCondLst>
                      <p:childTnLst>
                        <p:par>
                          <p:cTn id="2832" fill="hold">
                            <p:stCondLst>
                              <p:cond delay="0"/>
                            </p:stCondLst>
                            <p:childTnLst>
                              <p:par>
                                <p:cTn id="28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51 -0.00047 L -0.31875 -0.00047 E">
                                      <p:cBhvr>
                                        <p:cTn id="2834" dur="2000" fill="hold"/>
                                        <p:tgtEl>
                                          <p:spTgt spid="2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5" fill="hold">
                      <p:stCondLst>
                        <p:cond delay="indefinite"/>
                      </p:stCondLst>
                      <p:childTnLst>
                        <p:par>
                          <p:cTn id="2836" fill="hold">
                            <p:stCondLst>
                              <p:cond delay="0"/>
                            </p:stCondLst>
                            <p:childTnLst>
                              <p:par>
                                <p:cTn id="28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9" dur="500"/>
                                        <p:tgtEl>
                                          <p:spTgt spid="2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0" fill="hold">
                      <p:stCondLst>
                        <p:cond delay="indefinite"/>
                      </p:stCondLst>
                      <p:childTnLst>
                        <p:par>
                          <p:cTn id="2841" fill="hold">
                            <p:stCondLst>
                              <p:cond delay="0"/>
                            </p:stCondLst>
                            <p:childTnLst>
                              <p:par>
                                <p:cTn id="28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4" dur="500"/>
                                        <p:tgtEl>
                                          <p:spTgt spid="2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5" fill="hold">
                      <p:stCondLst>
                        <p:cond delay="indefinite"/>
                      </p:stCondLst>
                      <p:childTnLst>
                        <p:par>
                          <p:cTn id="2846" fill="hold">
                            <p:stCondLst>
                              <p:cond delay="0"/>
                            </p:stCondLst>
                            <p:childTnLst>
                              <p:par>
                                <p:cTn id="28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9" dur="500" fill="hold"/>
                                        <p:tgtEl>
                                          <p:spTgt spid="2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0" dur="500" fill="hold"/>
                                        <p:tgtEl>
                                          <p:spTgt spid="2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1" fill="hold">
                      <p:stCondLst>
                        <p:cond delay="indefinite"/>
                      </p:stCondLst>
                      <p:childTnLst>
                        <p:par>
                          <p:cTn id="2852" fill="hold">
                            <p:stCondLst>
                              <p:cond delay="0"/>
                            </p:stCondLst>
                            <p:childTnLst>
                              <p:par>
                                <p:cTn id="28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5" dur="500"/>
                                        <p:tgtEl>
                                          <p:spTgt spid="2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57" fill="hold">
                            <p:stCondLst>
                              <p:cond delay="500"/>
                            </p:stCondLst>
                            <p:childTnLst>
                              <p:par>
                                <p:cTn id="28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0" dur="500"/>
                                        <p:tgtEl>
                                          <p:spTgt spid="2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1" fill="hold">
                      <p:stCondLst>
                        <p:cond delay="indefinite"/>
                      </p:stCondLst>
                      <p:childTnLst>
                        <p:par>
                          <p:cTn id="2862" fill="hold">
                            <p:stCondLst>
                              <p:cond delay="0"/>
                            </p:stCondLst>
                            <p:childTnLst>
                              <p:par>
                                <p:cTn id="28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5" dur="500" fill="hold"/>
                                        <p:tgtEl>
                                          <p:spTgt spid="2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6" dur="500" fill="hold"/>
                                        <p:tgtEl>
                                          <p:spTgt spid="2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7" fill="hold">
                      <p:stCondLst>
                        <p:cond delay="indefinite"/>
                      </p:stCondLst>
                      <p:childTnLst>
                        <p:par>
                          <p:cTn id="2868" fill="hold">
                            <p:stCondLst>
                              <p:cond delay="0"/>
                            </p:stCondLst>
                            <p:childTnLst>
                              <p:par>
                                <p:cTn id="28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1" dur="500"/>
                                        <p:tgtEl>
                                          <p:spTgt spid="2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73" fill="hold">
                            <p:stCondLst>
                              <p:cond delay="500"/>
                            </p:stCondLst>
                            <p:childTnLst>
                              <p:par>
                                <p:cTn id="28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6" dur="500"/>
                                        <p:tgtEl>
                                          <p:spTgt spid="2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7" fill="hold">
                      <p:stCondLst>
                        <p:cond delay="indefinite"/>
                      </p:stCondLst>
                      <p:childTnLst>
                        <p:par>
                          <p:cTn id="2878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1" dur="500"/>
                                        <p:tgtEl>
                                          <p:spTgt spid="23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2" fill="hold">
                      <p:stCondLst>
                        <p:cond delay="indefinite"/>
                      </p:stCondLst>
                      <p:childTnLst>
                        <p:par>
                          <p:cTn id="2883" fill="hold">
                            <p:stCondLst>
                              <p:cond delay="0"/>
                            </p:stCondLst>
                            <p:childTnLst>
                              <p:par>
                                <p:cTn id="28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6" dur="500"/>
                                        <p:tgtEl>
                                          <p:spTgt spid="23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7" fill="hold">
                      <p:stCondLst>
                        <p:cond delay="indefinite"/>
                      </p:stCondLst>
                      <p:childTnLst>
                        <p:par>
                          <p:cTn id="2888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1" dur="500"/>
                                        <p:tgtEl>
                                          <p:spTgt spid="23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phore: Implementation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void P (semaphore *s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(*s == 0)  {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s--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void V (semaphore *s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s++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2590920"/>
            <a:ext cx="137160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137160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00200" y="3809880"/>
            <a:ext cx="137160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6680" y="4952880"/>
            <a:ext cx="137160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666880"/>
            <a:ext cx="137160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29200" y="3581280"/>
            <a:ext cx="137160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35440" y="4370400"/>
            <a:ext cx="1636560" cy="81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69" y="-7397"/>
                </a:moveTo>
                <a:lnTo>
                  <a:pt x="-1006" y="3043"/>
                </a:lnTo>
              </a:path>
              <a:path w="21600" h="21600">
                <a:moveTo>
                  <a:pt x="-1006" y="0"/>
                </a:moveTo>
                <a:lnTo>
                  <a:pt x="-1006" y="2160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opted in Concurrent Pascal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[Brinch Hansen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 [Hoare]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with special proper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1143000" y="2819520"/>
            <a:ext cx="5638680" cy="289548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monitor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riable decla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ype1 P1 (…) { 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ype2 P2 (…) { 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ypeN PN (…) { 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AME (…) { …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4267080" y="5105520"/>
            <a:ext cx="243864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550" y="-3490"/>
                </a:moveTo>
                <a:lnTo>
                  <a:pt x="-675" y="3456"/>
                </a:lnTo>
              </a:path>
              <a:path w="21600" h="21600">
                <a:moveTo>
                  <a:pt x="-675" y="0"/>
                </a:moveTo>
                <a:lnTo>
                  <a:pt x="-675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Constructor or initialization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4876920" y="3019320"/>
            <a:ext cx="123192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825" y="13926"/>
                </a:moveTo>
                <a:lnTo>
                  <a:pt x="-1336" y="6028"/>
                </a:lnTo>
              </a:path>
              <a:path w="21600" h="21600">
                <a:moveTo>
                  <a:pt x="-1336" y="0"/>
                </a:moveTo>
                <a:lnTo>
                  <a:pt x="-1336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6934320" y="2590920"/>
            <a:ext cx="1904760" cy="205740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Only 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1 process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at a time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active in the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mon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7543800" y="4952880"/>
            <a:ext cx="123192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285" y="-27044"/>
                </a:moveTo>
                <a:lnTo>
                  <a:pt x="-1336" y="3456"/>
                </a:lnTo>
              </a:path>
              <a:path w="21600" h="21600">
                <a:moveTo>
                  <a:pt x="-1336" y="0"/>
                </a:moveTo>
                <a:lnTo>
                  <a:pt x="-1336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very Pi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s a 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 txBox="1"/>
          <p:nvPr/>
        </p:nvSpPr>
        <p:spPr>
          <a:xfrm>
            <a:off x="228600" y="2286000"/>
            <a:ext cx="137160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42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/= Java or C++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2" dur="indefinite" restart="never" nodeType="tmRoot">
          <p:childTnLst>
            <p:seq>
              <p:cTn id="2893" dur="indefinite" nodeType="mainSeq">
                <p:childTnLst>
                  <p:par>
                    <p:cTn id="2894" fill="hold">
                      <p:stCondLst>
                        <p:cond delay="indefinite"/>
                      </p:stCondLst>
                      <p:childTnLst>
                        <p:par>
                          <p:cTn id="2895" fill="hold">
                            <p:stCondLst>
                              <p:cond delay="0"/>
                            </p:stCondLst>
                            <p:childTnLst>
                              <p:par>
                                <p:cTn id="28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8" dur="500"/>
                                        <p:tgtEl>
                                          <p:spTgt spid="2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9" fill="hold">
                      <p:stCondLst>
                        <p:cond delay="indefinite"/>
                      </p:stCondLst>
                      <p:childTnLst>
                        <p:par>
                          <p:cTn id="2900" fill="hold">
                            <p:stCondLst>
                              <p:cond delay="0"/>
                            </p:stCondLst>
                            <p:childTnLst>
                              <p:par>
                                <p:cTn id="29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3" dur="500"/>
                                        <p:tgtEl>
                                          <p:spTgt spid="2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4" fill="hold">
                      <p:stCondLst>
                        <p:cond delay="indefinite"/>
                      </p:stCondLst>
                      <p:childTnLst>
                        <p:par>
                          <p:cTn id="2905" fill="hold">
                            <p:stCondLst>
                              <p:cond delay="0"/>
                            </p:stCondLst>
                            <p:childTnLst>
                              <p:par>
                                <p:cTn id="29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8" dur="500"/>
                                        <p:tgtEl>
                                          <p:spTgt spid="2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9" fill="hold">
                      <p:stCondLst>
                        <p:cond delay="indefinite"/>
                      </p:stCondLst>
                      <p:childTnLst>
                        <p:par>
                          <p:cTn id="2910" fill="hold">
                            <p:stCondLst>
                              <p:cond delay="0"/>
                            </p:stCondLst>
                            <p:childTnLst>
                              <p:par>
                                <p:cTn id="29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3" dur="500"/>
                                        <p:tgtEl>
                                          <p:spTgt spid="2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4" fill="hold">
                      <p:stCondLst>
                        <p:cond delay="indefinite"/>
                      </p:stCondLst>
                      <p:childTnLst>
                        <p:par>
                          <p:cTn id="2915" fill="hold">
                            <p:stCondLst>
                              <p:cond delay="0"/>
                            </p:stCondLst>
                            <p:childTnLst>
                              <p:par>
                                <p:cTn id="29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8" dur="500"/>
                                        <p:tgtEl>
                                          <p:spTgt spid="2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9" fill="hold">
                      <p:stCondLst>
                        <p:cond delay="indefinite"/>
                      </p:stCondLst>
                      <p:childTnLst>
                        <p:par>
                          <p:cTn id="2920" fill="hold">
                            <p:stCondLst>
                              <p:cond delay="0"/>
                            </p:stCondLst>
                            <p:childTnLst>
                              <p:par>
                                <p:cTn id="29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3" dur="500" fill="hold"/>
                                        <p:tgtEl>
                                          <p:spTgt spid="2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4" dur="500" fill="hold"/>
                                        <p:tgtEl>
                                          <p:spTgt spid="2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5" fill="hold">
                      <p:stCondLst>
                        <p:cond delay="indefinite"/>
                      </p:stCondLst>
                      <p:childTnLst>
                        <p:par>
                          <p:cTn id="2926" fill="hold">
                            <p:stCondLst>
                              <p:cond delay="0"/>
                            </p:stCondLst>
                            <p:childTnLst>
                              <p:par>
                                <p:cTn id="29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29" dur="500"/>
                                        <p:tgtEl>
                                          <p:spTgt spid="2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0" fill="hold">
                      <p:stCondLst>
                        <p:cond delay="indefinite"/>
                      </p:stCondLst>
                      <p:childTnLst>
                        <p:par>
                          <p:cTn id="2931" fill="hold">
                            <p:stCondLst>
                              <p:cond delay="0"/>
                            </p:stCondLst>
                            <p:childTnLst>
                              <p:par>
                                <p:cTn id="293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4" dur="500" fill="hold"/>
                                        <p:tgtEl>
                                          <p:spTgt spid="2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5" dur="500" fill="hold"/>
                                        <p:tgtEl>
                                          <p:spTgt spid="2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6" dur="500" fill="hold"/>
                                        <p:tgtEl>
                                          <p:spTgt spid="2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7" dur="500" fill="hold"/>
                                        <p:tgtEl>
                                          <p:spTgt spid="2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1600200" y="1523880"/>
            <a:ext cx="4267080" cy="45720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2552760" y="1981080"/>
            <a:ext cx="2362320" cy="6858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ha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1905120" y="3048120"/>
            <a:ext cx="533160" cy="1447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2590920" y="3048120"/>
            <a:ext cx="533160" cy="1447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4876920" y="3048120"/>
            <a:ext cx="533160" cy="1447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2590920" y="4800600"/>
            <a:ext cx="2361960" cy="6858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Initialization</a:t>
            </a:r>
            <a:br>
              <a:rPr sz="2400"/>
            </a:b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(construc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5715000" y="1981080"/>
            <a:ext cx="990720" cy="36828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Proc.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6477120" y="2592360"/>
            <a:ext cx="990360" cy="36828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Proc.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7238880" y="3179880"/>
            <a:ext cx="990720" cy="36828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Proc.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5181480" y="21337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6400800" y="236232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7086600" y="29512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5106960" y="160020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Entry 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2730600" y="3200400"/>
            <a:ext cx="253800" cy="9907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3352680" y="3838680"/>
            <a:ext cx="1032120" cy="368280"/>
          </a:xfrm>
          <a:prstGeom prst="borderCallout1">
            <a:avLst>
              <a:gd name="adj1" fmla="val 18750"/>
              <a:gd name="adj2" fmla="val -8333"/>
              <a:gd name="adj3" fmla="val 21189"/>
              <a:gd name="adj4" fmla="val -39675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Proc.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8" dur="indefinite" restart="never" nodeType="tmRoot">
          <p:childTnLst>
            <p:seq>
              <p:cTn id="2939" dur="indefinite" nodeType="mainSeq">
                <p:childTnLst>
                  <p:par>
                    <p:cTn id="2940" fill="hold">
                      <p:stCondLst>
                        <p:cond delay="indefinite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4" dur="500"/>
                                        <p:tgtEl>
                                          <p:spTgt spid="2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5" fill="hold">
                      <p:stCondLst>
                        <p:cond delay="indefinite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9" dur="500"/>
                                        <p:tgtEl>
                                          <p:spTgt spid="2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0" fill="hold">
                      <p:stCondLst>
                        <p:cond delay="indefinite"/>
                      </p:stCondLst>
                      <p:childTnLst>
                        <p:par>
                          <p:cTn id="2951" fill="hold">
                            <p:stCondLst>
                              <p:cond delay="0"/>
                            </p:stCondLst>
                            <p:childTnLst>
                              <p:par>
                                <p:cTn id="29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4" dur="500"/>
                                        <p:tgtEl>
                                          <p:spTgt spid="2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5" fill="hold">
                      <p:stCondLst>
                        <p:cond delay="indefinite"/>
                      </p:stCondLst>
                      <p:childTnLst>
                        <p:par>
                          <p:cTn id="2956" fill="hold">
                            <p:stCondLst>
                              <p:cond delay="0"/>
                            </p:stCondLst>
                            <p:childTnLst>
                              <p:par>
                                <p:cTn id="29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9" dur="500"/>
                                        <p:tgtEl>
                                          <p:spTgt spid="2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0" fill="hold">
                      <p:stCondLst>
                        <p:cond delay="indefinite"/>
                      </p:stCondLst>
                      <p:childTnLst>
                        <p:par>
                          <p:cTn id="2961" fill="hold">
                            <p:stCondLst>
                              <p:cond delay="0"/>
                            </p:stCondLst>
                            <p:childTnLst>
                              <p:par>
                                <p:cTn id="29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4" dur="500"/>
                                        <p:tgtEl>
                                          <p:spTgt spid="2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5" fill="hold">
                      <p:stCondLst>
                        <p:cond delay="indefinite"/>
                      </p:stCondLst>
                      <p:childTnLst>
                        <p:par>
                          <p:cTn id="2966" fill="hold">
                            <p:stCondLst>
                              <p:cond delay="0"/>
                            </p:stCondLst>
                            <p:childTnLst>
                              <p:par>
                                <p:cTn id="29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9" dur="500"/>
                                        <p:tgtEl>
                                          <p:spTgt spid="2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0" fill="hold">
                      <p:stCondLst>
                        <p:cond delay="indefinite"/>
                      </p:stCondLst>
                      <p:childTnLst>
                        <p:par>
                          <p:cTn id="2971" fill="hold">
                            <p:stCondLst>
                              <p:cond delay="0"/>
                            </p:stCondLst>
                            <p:childTnLst>
                              <p:par>
                                <p:cTn id="29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74" dur="500"/>
                                        <p:tgtEl>
                                          <p:spTgt spid="2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5" fill="hold">
                            <p:stCondLst>
                              <p:cond delay="500"/>
                            </p:stCondLst>
                            <p:childTnLst>
                              <p:par>
                                <p:cTn id="29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78" dur="500"/>
                                        <p:tgtEl>
                                          <p:spTgt spid="2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9" fill="hold">
                      <p:stCondLst>
                        <p:cond delay="indefinite"/>
                      </p:stCondLst>
                      <p:childTnLst>
                        <p:par>
                          <p:cTn id="2980" fill="hold">
                            <p:stCondLst>
                              <p:cond delay="0"/>
                            </p:stCondLst>
                            <p:childTnLst>
                              <p:par>
                                <p:cTn id="29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3" dur="500"/>
                                        <p:tgtEl>
                                          <p:spTgt spid="2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4" fill="hold">
                      <p:stCondLst>
                        <p:cond delay="indefinite"/>
                      </p:stCondLst>
                      <p:childTnLst>
                        <p:par>
                          <p:cTn id="2985" fill="hold">
                            <p:stCondLst>
                              <p:cond delay="0"/>
                            </p:stCondLst>
                            <p:childTnLst>
                              <p:par>
                                <p:cTn id="29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8" dur="500"/>
                                        <p:tgtEl>
                                          <p:spTgt spid="2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2" dur="5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6" dur="500"/>
                                        <p:tgtEl>
                                          <p:spTgt spid="2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0" dur="500"/>
                                        <p:tgtEl>
                                          <p:spTgt spid="2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4" dur="500"/>
                                        <p:tgtEl>
                                          <p:spTgt spid="2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5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8" dur="500"/>
                                        <p:tgtEl>
                                          <p:spTgt spid="2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tional Synchronization Mechanism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 vari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2 oper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1185840" y="3657600"/>
            <a:ext cx="4419720" cy="243828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monit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condition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TypeK Pk (…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x.wa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…; 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x.sig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9" dur="indefinite" restart="never" nodeType="tmRoot">
          <p:childTnLst>
            <p:seq>
              <p:cTn id="3010" dur="indefinite" nodeType="mainSeq">
                <p:childTnLst>
                  <p:par>
                    <p:cTn id="3011" fill="hold">
                      <p:stCondLst>
                        <p:cond delay="indefinite"/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5" dur="500"/>
                                        <p:tgtEl>
                                          <p:spTgt spid="2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6" fill="hold">
                      <p:stCondLst>
                        <p:cond delay="indefinite"/>
                      </p:stCondLst>
                      <p:childTnLst>
                        <p:par>
                          <p:cTn id="3017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0" dur="500"/>
                                        <p:tgtEl>
                                          <p:spTgt spid="2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4" dur="500"/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7" dur="500"/>
                                        <p:tgtEl>
                                          <p:spTgt spid="2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8" fill="hold">
                      <p:stCondLst>
                        <p:cond delay="indefinite"/>
                      </p:stCondLst>
                      <p:childTnLst>
                        <p:par>
                          <p:cTn id="3029" fill="hold">
                            <p:stCondLst>
                              <p:cond delay="0"/>
                            </p:stCondLst>
                            <p:childTnLst>
                              <p:par>
                                <p:cTn id="30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2" dur="500"/>
                                        <p:tgtEl>
                                          <p:spTgt spid="2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5" dur="500"/>
                                        <p:tgtEl>
                                          <p:spTgt spid="2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6" fill="hold">
                      <p:stCondLst>
                        <p:cond delay="indefinite"/>
                      </p:stCondLst>
                      <p:childTnLst>
                        <p:par>
                          <p:cTn id="3037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0" dur="500"/>
                                        <p:tgtEl>
                                          <p:spTgt spid="2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1" fill="hold">
                      <p:stCondLst>
                        <p:cond delay="indefinite"/>
                      </p:stCondLst>
                      <p:childTnLst>
                        <p:par>
                          <p:cTn id="3042" fill="hold">
                            <p:stCondLst>
                              <p:cond delay="0"/>
                            </p:stCondLst>
                            <p:childTnLst>
                              <p:par>
                                <p:cTn id="30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5" dur="500"/>
                                        <p:tgtEl>
                                          <p:spTgt spid="2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279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x.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wa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pend until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x.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ig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cess can enter the moni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279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x.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sign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process waiting for x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me 1 process waiting for 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ield to awoken process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Hoare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ing process has prece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ing process leaves monitor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Concurrent Pascal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6" dur="indefinite" restart="never" nodeType="tmRoot">
          <p:childTnLst>
            <p:seq>
              <p:cTn id="3047" dur="indefinite" nodeType="mainSeq">
                <p:childTnLst>
                  <p:par>
                    <p:cTn id="3048" fill="hold">
                      <p:stCondLst>
                        <p:cond delay="indefinite"/>
                      </p:stCondLst>
                      <p:childTnLst>
                        <p:par>
                          <p:cTn id="3049" fill="hold">
                            <p:stCondLst>
                              <p:cond delay="0"/>
                            </p:stCondLst>
                            <p:childTnLst>
                              <p:par>
                                <p:cTn id="30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2" dur="500"/>
                                        <p:tgtEl>
                                          <p:spTgt spid="2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5" dur="500"/>
                                        <p:tgtEl>
                                          <p:spTgt spid="2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8" dur="500"/>
                                        <p:tgtEl>
                                          <p:spTgt spid="2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9" fill="hold">
                      <p:stCondLst>
                        <p:cond delay="indefinite"/>
                      </p:stCondLst>
                      <p:childTnLst>
                        <p:par>
                          <p:cTn id="3060" fill="hold">
                            <p:stCondLst>
                              <p:cond delay="0"/>
                            </p:stCondLst>
                            <p:childTnLst>
                              <p:par>
                                <p:cTn id="30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3" dur="500"/>
                                        <p:tgtEl>
                                          <p:spTgt spid="2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6" dur="500"/>
                                        <p:tgtEl>
                                          <p:spTgt spid="2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9" dur="500"/>
                                        <p:tgtEl>
                                          <p:spTgt spid="2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2" dur="500"/>
                                        <p:tgtEl>
                                          <p:spTgt spid="2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5" dur="500"/>
                                        <p:tgtEl>
                                          <p:spTgt spid="2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8" dur="500"/>
                                        <p:tgtEl>
                                          <p:spTgt spid="2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unded Buff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>
            <a:off x="685800" y="1523880"/>
            <a:ext cx="48769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it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ff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buffer(…) {…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put(item ip) { …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item get() { …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ffer buf = new buffer(…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0" name=""/>
          <p:cNvGrpSpPr/>
          <p:nvPr/>
        </p:nvGrpSpPr>
        <p:grpSpPr>
          <a:xfrm>
            <a:off x="685800" y="3659040"/>
            <a:ext cx="3495600" cy="1979640"/>
            <a:chOff x="685800" y="3659040"/>
            <a:chExt cx="3495600" cy="1979640"/>
          </a:xfrm>
        </p:grpSpPr>
        <p:grpSp>
          <p:nvGrpSpPr>
            <p:cNvPr id="2441" name=""/>
            <p:cNvGrpSpPr/>
            <p:nvPr/>
          </p:nvGrpSpPr>
          <p:grpSpPr>
            <a:xfrm>
              <a:off x="685800" y="3733920"/>
              <a:ext cx="3495600" cy="1904760"/>
              <a:chOff x="685800" y="3733920"/>
              <a:chExt cx="3495600" cy="1904760"/>
            </a:xfrm>
          </p:grpSpPr>
          <p:sp>
            <p:nvSpPr>
              <p:cNvPr id="2442" name=""/>
              <p:cNvSpPr/>
              <p:nvPr/>
            </p:nvSpPr>
            <p:spPr>
              <a:xfrm>
                <a:off x="2886120" y="3733920"/>
                <a:ext cx="129528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ae00"/>
                    </a:solidFill>
                    <a:latin typeface="Arial"/>
                  </a:rPr>
                  <a:t>Produc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685800" y="4038480"/>
                <a:ext cx="3276720" cy="1600200"/>
              </a:xfrm>
              <a:prstGeom prst="rect">
                <a:avLst/>
              </a:prstGeom>
              <a:noFill/>
              <a:ln w="381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797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hile (true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97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{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97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p = produce(…)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97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buf.put(ip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97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}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97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4" name=""/>
            <p:cNvSpPr/>
            <p:nvPr/>
          </p:nvSpPr>
          <p:spPr>
            <a:xfrm>
              <a:off x="687240" y="3659040"/>
              <a:ext cx="99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 ip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5" name=""/>
          <p:cNvGrpSpPr/>
          <p:nvPr/>
        </p:nvGrpSpPr>
        <p:grpSpPr>
          <a:xfrm>
            <a:off x="4419720" y="3659040"/>
            <a:ext cx="3504960" cy="1979280"/>
            <a:chOff x="4419720" y="3659040"/>
            <a:chExt cx="3504960" cy="1979280"/>
          </a:xfrm>
        </p:grpSpPr>
        <p:grpSp>
          <p:nvGrpSpPr>
            <p:cNvPr id="2446" name=""/>
            <p:cNvGrpSpPr/>
            <p:nvPr/>
          </p:nvGrpSpPr>
          <p:grpSpPr>
            <a:xfrm>
              <a:off x="4419720" y="3733920"/>
              <a:ext cx="3504960" cy="1904400"/>
              <a:chOff x="4419720" y="3733920"/>
              <a:chExt cx="3504960" cy="1904400"/>
            </a:xfrm>
          </p:grpSpPr>
          <p:sp>
            <p:nvSpPr>
              <p:cNvPr id="2447" name=""/>
              <p:cNvSpPr/>
              <p:nvPr/>
            </p:nvSpPr>
            <p:spPr>
              <a:xfrm>
                <a:off x="6477120" y="3733920"/>
                <a:ext cx="144756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ae00"/>
                    </a:solidFill>
                    <a:latin typeface="Arial"/>
                  </a:rPr>
                  <a:t>Consum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4419720" y="4038480"/>
                <a:ext cx="3276360" cy="1599840"/>
              </a:xfrm>
              <a:prstGeom prst="rect">
                <a:avLst/>
              </a:prstGeom>
              <a:noFill/>
              <a:ln w="381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797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hile (true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97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{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97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c = buf.get ()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97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nsume (ic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97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}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97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9" name=""/>
            <p:cNvSpPr/>
            <p:nvPr/>
          </p:nvSpPr>
          <p:spPr>
            <a:xfrm>
              <a:off x="4420800" y="3659040"/>
              <a:ext cx="98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 ic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9" dur="indefinite" restart="never" nodeType="tmRoot">
          <p:childTnLst>
            <p:seq>
              <p:cTn id="3080" dur="indefinite" nodeType="mainSeq">
                <p:childTnLst>
                  <p:par>
                    <p:cTn id="3081" fill="hold">
                      <p:stCondLst>
                        <p:cond delay="indefinite"/>
                      </p:stCondLst>
                      <p:childTnLst>
                        <p:par>
                          <p:cTn id="3082" fill="hold">
                            <p:stCondLst>
                              <p:cond delay="0"/>
                            </p:stCondLst>
                            <p:childTnLst>
                              <p:par>
                                <p:cTn id="30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5" dur="500"/>
                                        <p:tgtEl>
                                          <p:spTgt spid="2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6" fill="hold">
                      <p:stCondLst>
                        <p:cond delay="indefinite"/>
                      </p:stCondLst>
                      <p:childTnLst>
                        <p:par>
                          <p:cTn id="3087" fill="hold">
                            <p:stCondLst>
                              <p:cond delay="0"/>
                            </p:stCondLst>
                            <p:childTnLst>
                              <p:par>
                                <p:cTn id="30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0" dur="500"/>
                                        <p:tgtEl>
                                          <p:spTgt spid="2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1" fill="hold">
                      <p:stCondLst>
                        <p:cond delay="indefinite"/>
                      </p:stCondLst>
                      <p:childTnLst>
                        <p:par>
                          <p:cTn id="3092" fill="hold">
                            <p:stCondLst>
                              <p:cond delay="0"/>
                            </p:stCondLst>
                            <p:childTnLst>
                              <p:par>
                                <p:cTn id="30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5" dur="500"/>
                                        <p:tgtEl>
                                          <p:spTgt spid="2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unded Buff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1" name=""/>
          <p:cNvGrpSpPr/>
          <p:nvPr/>
        </p:nvGrpSpPr>
        <p:grpSpPr>
          <a:xfrm>
            <a:off x="1066680" y="2895480"/>
            <a:ext cx="4953240" cy="3005280"/>
            <a:chOff x="1066680" y="2895480"/>
            <a:chExt cx="4953240" cy="3005280"/>
          </a:xfrm>
        </p:grpSpPr>
        <p:sp>
          <p:nvSpPr>
            <p:cNvPr id="2452" name=""/>
            <p:cNvSpPr/>
            <p:nvPr/>
          </p:nvSpPr>
          <p:spPr>
            <a:xfrm>
              <a:off x="1066680" y="4376880"/>
              <a:ext cx="4953240" cy="1523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1066680" y="2895480"/>
              <a:ext cx="4953240" cy="137160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4" name=""/>
          <p:cNvSpPr/>
          <p:nvPr/>
        </p:nvSpPr>
        <p:spPr>
          <a:xfrm>
            <a:off x="609480" y="1378080"/>
            <a:ext cx="5486400" cy="4798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monitor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buff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tem pool [] = new item[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nt in, out, cou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ublic buffer () { in = 0; out = 0; count = 0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ublic void put (item ip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ool[in] = ip;  in = (in + 1) %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count++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ublic item get 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tem ic = pool[out];  out = (out + 1) %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count</a:t>
            </a:r>
            <a:r>
              <a:rPr b="1" lang="en-US" sz="2000" spc="-1" strike="noStrike">
                <a:solidFill>
                  <a:srgbClr val="00279f"/>
                </a:solidFill>
                <a:latin typeface="Symbol"/>
                <a:ea typeface="Symbol"/>
              </a:rPr>
              <a:t>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 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return (i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1452960" y="3192480"/>
            <a:ext cx="28965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count == N)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free.wait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1454400" y="4602240"/>
            <a:ext cx="2739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count == 0)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full.wait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1039320" y="2178000"/>
            <a:ext cx="19044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condition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ree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3009240" y="2178000"/>
            <a:ext cx="17902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condition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ull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2501640" y="3657600"/>
            <a:ext cx="13114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full.signal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2536920" y="504360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free.signal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6" dur="indefinite" restart="never" nodeType="tmRoot">
          <p:childTnLst>
            <p:seq>
              <p:cTn id="3097" dur="indefinite" nodeType="mainSeq">
                <p:childTnLst>
                  <p:par>
                    <p:cTn id="3098" fill="hold">
                      <p:stCondLst>
                        <p:cond delay="indefinite"/>
                      </p:stCondLst>
                      <p:childTnLst>
                        <p:par>
                          <p:cTn id="3099" fill="hold">
                            <p:stCondLst>
                              <p:cond delay="0"/>
                            </p:stCondLst>
                            <p:childTnLst>
                              <p:par>
                                <p:cTn id="3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2" dur="500"/>
                                        <p:tgtEl>
                                          <p:spTgt spid="2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3" fill="hold">
                      <p:stCondLst>
                        <p:cond delay="indefinite"/>
                      </p:stCondLst>
                      <p:childTnLst>
                        <p:par>
                          <p:cTn id="3104" fill="hold">
                            <p:stCondLst>
                              <p:cond delay="0"/>
                            </p:stCondLst>
                            <p:childTnLst>
                              <p:par>
                                <p:cTn id="3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7" dur="500"/>
                                        <p:tgtEl>
                                          <p:spTgt spid="2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8" fill="hold">
                      <p:stCondLst>
                        <p:cond delay="indefinite"/>
                      </p:stCondLst>
                      <p:childTnLst>
                        <p:par>
                          <p:cTn id="3109" fill="hold">
                            <p:stCondLst>
                              <p:cond delay="0"/>
                            </p:stCondLst>
                            <p:childTnLst>
                              <p:par>
                                <p:cTn id="3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2" dur="500"/>
                                        <p:tgtEl>
                                          <p:spTgt spid="2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3" fill="hold">
                      <p:stCondLst>
                        <p:cond delay="indefinite"/>
                      </p:stCondLst>
                      <p:childTnLst>
                        <p:par>
                          <p:cTn id="3114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7" dur="500"/>
                                        <p:tgtEl>
                                          <p:spTgt spid="2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8" fill="hold">
                      <p:stCondLst>
                        <p:cond delay="indefinite"/>
                      </p:stCondLst>
                      <p:childTnLst>
                        <p:par>
                          <p:cTn id="3119" fill="hold">
                            <p:stCondLst>
                              <p:cond delay="0"/>
                            </p:stCondLst>
                            <p:childTnLst>
                              <p:par>
                                <p:cTn id="3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2" dur="500"/>
                                        <p:tgtEl>
                                          <p:spTgt spid="2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3" fill="hold">
                      <p:stCondLst>
                        <p:cond delay="indefinite"/>
                      </p:stCondLst>
                      <p:childTnLst>
                        <p:par>
                          <p:cTn id="3124" fill="hold">
                            <p:stCondLst>
                              <p:cond delay="0"/>
                            </p:stCondLst>
                            <p:childTnLst>
                              <p:par>
                                <p:cTn id="3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7" dur="500"/>
                                        <p:tgtEl>
                                          <p:spTgt spid="2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8" fill="hold">
                      <p:stCondLst>
                        <p:cond delay="indefinite"/>
                      </p:stCondLst>
                      <p:childTnLst>
                        <p:par>
                          <p:cTn id="3129" fill="hold">
                            <p:stCondLst>
                              <p:cond delay="0"/>
                            </p:stCondLst>
                            <p:childTnLst>
                              <p:par>
                                <p:cTn id="3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2" dur="500"/>
                                        <p:tgtEl>
                                          <p:spTgt spid="2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3" fill="hold">
                      <p:stCondLst>
                        <p:cond delay="indefinite"/>
                      </p:stCondLst>
                      <p:childTnLst>
                        <p:par>
                          <p:cTn id="3134" fill="hold">
                            <p:stCondLst>
                              <p:cond delay="0"/>
                            </p:stCondLst>
                            <p:childTnLst>
                              <p:par>
                                <p:cTn id="3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7" dur="500"/>
                                        <p:tgtEl>
                                          <p:spTgt spid="2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ning Philosoph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>
            <a:off x="685800" y="1676520"/>
            <a:ext cx="7162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 dining_philo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dining_philos () { …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ick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t i) { 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utd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nt i) { 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ning_philos dp = new dining_phil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3" name=""/>
          <p:cNvGrpSpPr/>
          <p:nvPr/>
        </p:nvGrpSpPr>
        <p:grpSpPr>
          <a:xfrm>
            <a:off x="5038560" y="3429000"/>
            <a:ext cx="3724200" cy="2590920"/>
            <a:chOff x="5038560" y="3429000"/>
            <a:chExt cx="3724200" cy="2590920"/>
          </a:xfrm>
        </p:grpSpPr>
        <p:sp>
          <p:nvSpPr>
            <p:cNvPr id="2464" name=""/>
            <p:cNvSpPr/>
            <p:nvPr/>
          </p:nvSpPr>
          <p:spPr>
            <a:xfrm>
              <a:off x="6714720" y="3429000"/>
              <a:ext cx="20480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e00"/>
                  </a:solidFill>
                  <a:latin typeface="Arial"/>
                </a:rPr>
                <a:t>Philosopher </a:t>
              </a:r>
              <a:r>
                <a:rPr b="1" i="1" lang="en-US" sz="1800" spc="-1" strike="noStrike">
                  <a:solidFill>
                    <a:srgbClr val="00ae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5038560" y="3733920"/>
              <a:ext cx="3276360" cy="228600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97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ile (tr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797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797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ink(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797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dp.pickup (i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797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at(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797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dp.putdown (i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797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797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8" dur="indefinite" restart="never" nodeType="tmRoot">
          <p:childTnLst>
            <p:seq>
              <p:cTn id="3139" dur="indefinite" nodeType="mainSeq">
                <p:childTnLst>
                  <p:par>
                    <p:cTn id="3140" fill="hold">
                      <p:stCondLst>
                        <p:cond delay="indefinite"/>
                      </p:stCondLst>
                      <p:childTnLst>
                        <p:par>
                          <p:cTn id="3141" fill="hold">
                            <p:stCondLst>
                              <p:cond delay="0"/>
                            </p:stCondLst>
                            <p:childTnLst>
                              <p:par>
                                <p:cTn id="3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4" dur="500"/>
                                        <p:tgtEl>
                                          <p:spTgt spid="2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5" fill="hold">
                      <p:stCondLst>
                        <p:cond delay="indefinite"/>
                      </p:stCondLst>
                      <p:childTnLst>
                        <p:par>
                          <p:cTn id="3146" fill="hold">
                            <p:stCondLst>
                              <p:cond delay="0"/>
                            </p:stCondLst>
                            <p:childTnLst>
                              <p:par>
                                <p:cTn id="3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9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"/>
          <p:cNvSpPr/>
          <p:nvPr/>
        </p:nvSpPr>
        <p:spPr>
          <a:xfrm>
            <a:off x="914400" y="4016520"/>
            <a:ext cx="6405480" cy="13395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914400" y="2438280"/>
            <a:ext cx="6405480" cy="14194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609480" y="1525680"/>
            <a:ext cx="7162920" cy="45702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monitor dining_philosopher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nt [] state = new int[5]; </a:t>
            </a: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// thinking=0, hungry=1, eating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oid pickup (int i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tate[i] = hungr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test (i);  </a:t>
            </a: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// if forks available, state[i] == e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oid putdown (int i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tate[i] = thinkin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test (i+1 % 5); </a:t>
            </a: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// wake up right neighbou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test (i+4 % 5); </a:t>
            </a: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// wake up left neighbou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…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(continued) ...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ning Philosoph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>
            <a:off x="1433520" y="3260880"/>
            <a:ext cx="3675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state[i] != eating) 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self[i].wait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1004040" y="2057400"/>
            <a:ext cx="421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condition self [ ] = new condition [5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0" dur="indefinite" restart="never" nodeType="tmRoot">
          <p:childTnLst>
            <p:seq>
              <p:cTn id="3151" dur="indefinite" nodeType="mainSeq">
                <p:childTnLst>
                  <p:par>
                    <p:cTn id="3152" fill="hold">
                      <p:stCondLst>
                        <p:cond delay="indefinite"/>
                      </p:stCondLst>
                      <p:childTnLst>
                        <p:par>
                          <p:cTn id="3153" fill="hold">
                            <p:stCondLst>
                              <p:cond delay="0"/>
                            </p:stCondLst>
                            <p:childTnLst>
                              <p:par>
                                <p:cTn id="3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6" dur="500"/>
                                        <p:tgtEl>
                                          <p:spTgt spid="2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9" dur="500"/>
                                        <p:tgtEl>
                                          <p:spTgt spid="24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0" fill="hold">
                      <p:stCondLst>
                        <p:cond delay="indefinite"/>
                      </p:stCondLst>
                      <p:childTnLst>
                        <p:par>
                          <p:cTn id="3161" fill="hold">
                            <p:stCondLst>
                              <p:cond delay="0"/>
                            </p:stCondLst>
                            <p:childTnLst>
                              <p:par>
                                <p:cTn id="3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4" dur="500"/>
                                        <p:tgtEl>
                                          <p:spTgt spid="2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7" dur="500"/>
                                        <p:tgtEl>
                                          <p:spTgt spid="2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0" dur="500"/>
                                        <p:tgtEl>
                                          <p:spTgt spid="2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1" fill="hold">
                      <p:stCondLst>
                        <p:cond delay="indefinite"/>
                      </p:stCondLst>
                      <p:childTnLst>
                        <p:par>
                          <p:cTn id="3172" fill="hold">
                            <p:stCondLst>
                              <p:cond delay="0"/>
                            </p:stCondLst>
                            <p:childTnLst>
                              <p:par>
                                <p:cTn id="3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5" dur="500"/>
                                        <p:tgtEl>
                                          <p:spTgt spid="24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8" dur="500"/>
                                        <p:tgtEl>
                                          <p:spTgt spid="2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1" dur="500"/>
                                        <p:tgtEl>
                                          <p:spTgt spid="24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2" fill="hold">
                      <p:stCondLst>
                        <p:cond delay="indefinite"/>
                      </p:stCondLst>
                      <p:childTnLst>
                        <p:par>
                          <p:cTn id="3183" fill="hold">
                            <p:stCondLst>
                              <p:cond delay="0"/>
                            </p:stCondLst>
                            <p:childTnLst>
                              <p:par>
                                <p:cTn id="3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6" dur="500"/>
                                        <p:tgtEl>
                                          <p:spTgt spid="2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7" fill="hold">
                      <p:stCondLst>
                        <p:cond delay="indefinite"/>
                      </p:stCondLst>
                      <p:childTnLst>
                        <p:par>
                          <p:cTn id="3188" fill="hold">
                            <p:stCondLst>
                              <p:cond delay="0"/>
                            </p:stCondLst>
                            <p:childTnLst>
                              <p:par>
                                <p:cTn id="3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1" dur="500"/>
                                        <p:tgtEl>
                                          <p:spTgt spid="2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2" fill="hold">
                      <p:stCondLst>
                        <p:cond delay="indefinite"/>
                      </p:stCondLst>
                      <p:childTnLst>
                        <p:par>
                          <p:cTn id="3193" fill="hold">
                            <p:stCondLst>
                              <p:cond delay="0"/>
                            </p:stCondLst>
                            <p:childTnLst>
                              <p:par>
                                <p:cTn id="3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6" dur="500"/>
                                        <p:tgtEl>
                                          <p:spTgt spid="24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7" fill="hold">
                      <p:stCondLst>
                        <p:cond delay="indefinite"/>
                      </p:stCondLst>
                      <p:childTnLst>
                        <p:par>
                          <p:cTn id="3198" fill="hold">
                            <p:stCondLst>
                              <p:cond delay="0"/>
                            </p:stCondLst>
                            <p:childTnLst>
                              <p:par>
                                <p:cTn id="3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1" dur="500"/>
                                        <p:tgtEl>
                                          <p:spTgt spid="2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2" fill="hold">
                      <p:stCondLst>
                        <p:cond delay="indefinite"/>
                      </p:stCondLst>
                      <p:childTnLst>
                        <p:par>
                          <p:cTn id="3203" fill="hold">
                            <p:stCondLst>
                              <p:cond delay="0"/>
                            </p:stCondLst>
                            <p:childTnLst>
                              <p:par>
                                <p:cTn id="3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6" dur="500"/>
                                        <p:tgtEl>
                                          <p:spTgt spid="2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7" fill="hold">
                            <p:stCondLst>
                              <p:cond delay="500"/>
                            </p:stCondLst>
                            <p:childTnLst>
                              <p:par>
                                <p:cTn id="3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0" dur="500"/>
                                        <p:tgtEl>
                                          <p:spTgt spid="2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1" fill="hold">
                      <p:stCondLst>
                        <p:cond delay="indefinite"/>
                      </p:stCondLst>
                      <p:childTnLst>
                        <p:par>
                          <p:cTn id="3212" fill="hold">
                            <p:stCondLst>
                              <p:cond delay="0"/>
                            </p:stCondLst>
                            <p:childTnLst>
                              <p:par>
                                <p:cTn id="3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5" dur="500"/>
                                        <p:tgtEl>
                                          <p:spTgt spid="24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6" fill="hold">
                            <p:stCondLst>
                              <p:cond delay="500"/>
                            </p:stCondLst>
                            <p:childTnLst>
                              <p:par>
                                <p:cTn id="3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9" dur="500"/>
                                        <p:tgtEl>
                                          <p:spTgt spid="24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ning Philosoph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1066680" y="4865760"/>
            <a:ext cx="5867640" cy="930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1066680" y="2319480"/>
            <a:ext cx="5867640" cy="24033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609480" y="1523880"/>
            <a:ext cx="6477120" cy="457056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monitor dining_philosopher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…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oid test (int k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state[k] == hungry  &amp;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tate[(k+1) % 5] != eating &amp;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tate[(k+4) % 5] != eating)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tate[k] = eating; 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ublic dining_philosophers 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for (int i = 0; i&lt;5; i++) state[i] = thinkin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2240280" y="3809880"/>
            <a:ext cx="37573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self[k].signal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  </a:t>
            </a: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// wake up philo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0" dur="indefinite" restart="never" nodeType="tmRoot">
          <p:childTnLst>
            <p:seq>
              <p:cTn id="3221" dur="indefinite" nodeType="mainSeq">
                <p:childTnLst>
                  <p:par>
                    <p:cTn id="3222" fill="hold">
                      <p:stCondLst>
                        <p:cond delay="indefinite"/>
                      </p:stCondLst>
                      <p:childTnLst>
                        <p:par>
                          <p:cTn id="3223" fill="hold">
                            <p:stCondLst>
                              <p:cond delay="0"/>
                            </p:stCondLst>
                            <p:childTnLst>
                              <p:par>
                                <p:cTn id="3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6" dur="500"/>
                                        <p:tgtEl>
                                          <p:spTgt spid="2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9" dur="500"/>
                                        <p:tgtEl>
                                          <p:spTgt spid="2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2" dur="500"/>
                                        <p:tgtEl>
                                          <p:spTgt spid="24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5" dur="500"/>
                                        <p:tgtEl>
                                          <p:spTgt spid="2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8" dur="500"/>
                                        <p:tgtEl>
                                          <p:spTgt spid="24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1" dur="500"/>
                                        <p:tgtEl>
                                          <p:spTgt spid="2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2" fill="hold">
                      <p:stCondLst>
                        <p:cond delay="indefinite"/>
                      </p:stCondLst>
                      <p:childTnLst>
                        <p:par>
                          <p:cTn id="3243" fill="hold">
                            <p:stCondLst>
                              <p:cond delay="0"/>
                            </p:stCondLst>
                            <p:childTnLst>
                              <p:par>
                                <p:cTn id="3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6" dur="500"/>
                                        <p:tgtEl>
                                          <p:spTgt spid="2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9" dur="500"/>
                                        <p:tgtEl>
                                          <p:spTgt spid="2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2" dur="500"/>
                                        <p:tgtEl>
                                          <p:spTgt spid="2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3" fill="hold">
                      <p:stCondLst>
                        <p:cond delay="indefinite"/>
                      </p:stCondLst>
                      <p:childTnLst>
                        <p:par>
                          <p:cTn id="3254" fill="hold">
                            <p:stCondLst>
                              <p:cond delay="0"/>
                            </p:stCondLst>
                            <p:childTnLst>
                              <p:par>
                                <p:cTn id="3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7" dur="500"/>
                                        <p:tgtEl>
                                          <p:spTgt spid="2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0" dur="500"/>
                                        <p:tgtEl>
                                          <p:spTgt spid="2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3" dur="500"/>
                                        <p:tgtEl>
                                          <p:spTgt spid="2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6" dur="500"/>
                                        <p:tgtEl>
                                          <p:spTgt spid="2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7" fill="hold">
                      <p:stCondLst>
                        <p:cond delay="indefinite"/>
                      </p:stCondLst>
                      <p:childTnLst>
                        <p:par>
                          <p:cTn id="3268" fill="hold">
                            <p:stCondLst>
                              <p:cond delay="0"/>
                            </p:stCondLst>
                            <p:childTnLst>
                              <p:par>
                                <p:cTn id="3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1" dur="500"/>
                                        <p:tgtEl>
                                          <p:spTgt spid="2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2" fill="hold">
                      <p:stCondLst>
                        <p:cond delay="indefinite"/>
                      </p:stCondLst>
                      <p:childTnLst>
                        <p:par>
                          <p:cTn id="3273" fill="hold">
                            <p:stCondLst>
                              <p:cond delay="0"/>
                            </p:stCondLst>
                            <p:childTnLst>
                              <p:par>
                                <p:cTn id="3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6" dur="500"/>
                                        <p:tgtEl>
                                          <p:spTgt spid="2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ning Philosoph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279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eadlock fr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Forks taken in pickup (= C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279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tarvat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maphores: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tical S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05740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typedef semaphore 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emaphore s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933640"/>
            <a:ext cx="3809880" cy="31622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Critical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Remainder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19320" y="3728880"/>
            <a:ext cx="2895480" cy="381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(&amp; 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19320" y="4467240"/>
            <a:ext cx="2895480" cy="380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V(&amp; 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524196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C-Note: P and V are defined as procedure call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859280" y="3500280"/>
            <a:ext cx="3816360" cy="144720"/>
            <a:chOff x="4859280" y="3500280"/>
            <a:chExt cx="3816360" cy="144720"/>
          </a:xfrm>
        </p:grpSpPr>
        <p:sp>
          <p:nvSpPr>
            <p:cNvPr id="205" name=""/>
            <p:cNvSpPr/>
            <p:nvPr/>
          </p:nvSpPr>
          <p:spPr>
            <a:xfrm>
              <a:off x="4899240" y="3500280"/>
              <a:ext cx="377604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59280" y="3531240"/>
              <a:ext cx="38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59280" y="3603600"/>
              <a:ext cx="38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075280" y="3716280"/>
            <a:ext cx="3816360" cy="144360"/>
            <a:chOff x="5075280" y="3716280"/>
            <a:chExt cx="3816360" cy="144360"/>
          </a:xfrm>
        </p:grpSpPr>
        <p:sp>
          <p:nvSpPr>
            <p:cNvPr id="209" name=""/>
            <p:cNvSpPr/>
            <p:nvPr/>
          </p:nvSpPr>
          <p:spPr>
            <a:xfrm>
              <a:off x="5115240" y="3716280"/>
              <a:ext cx="3776040" cy="14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75280" y="3746880"/>
              <a:ext cx="38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75280" y="3819240"/>
              <a:ext cx="38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291280" y="3932280"/>
            <a:ext cx="3816360" cy="144360"/>
            <a:chOff x="5291280" y="3932280"/>
            <a:chExt cx="3816360" cy="144360"/>
          </a:xfrm>
        </p:grpSpPr>
        <p:sp>
          <p:nvSpPr>
            <p:cNvPr id="213" name=""/>
            <p:cNvSpPr/>
            <p:nvPr/>
          </p:nvSpPr>
          <p:spPr>
            <a:xfrm>
              <a:off x="5331240" y="3932280"/>
              <a:ext cx="3776040" cy="144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91280" y="3962880"/>
              <a:ext cx="38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91280" y="4035240"/>
              <a:ext cx="38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883040" y="2942280"/>
            <a:ext cx="839520" cy="1040760"/>
            <a:chOff x="4883040" y="2942280"/>
            <a:chExt cx="839520" cy="1040760"/>
          </a:xfrm>
        </p:grpSpPr>
        <p:sp>
          <p:nvSpPr>
            <p:cNvPr id="217" name=""/>
            <p:cNvSpPr/>
            <p:nvPr/>
          </p:nvSpPr>
          <p:spPr>
            <a:xfrm>
              <a:off x="5026680" y="3068640"/>
              <a:ext cx="125640" cy="914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4883040" y="2942280"/>
              <a:ext cx="839520" cy="529200"/>
              <a:chOff x="4883040" y="2942280"/>
              <a:chExt cx="839520" cy="529200"/>
            </a:xfrm>
          </p:grpSpPr>
          <p:sp>
            <p:nvSpPr>
              <p:cNvPr id="219" name=""/>
              <p:cNvSpPr/>
              <p:nvPr/>
            </p:nvSpPr>
            <p:spPr>
              <a:xfrm rot="3885600">
                <a:off x="5164200" y="2958840"/>
                <a:ext cx="75960" cy="67068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5289480" y="2942280"/>
                <a:ext cx="433080" cy="418680"/>
                <a:chOff x="5289480" y="2942280"/>
                <a:chExt cx="433080" cy="418680"/>
              </a:xfrm>
            </p:grpSpPr>
            <p:sp>
              <p:nvSpPr>
                <p:cNvPr id="221" name=""/>
                <p:cNvSpPr/>
                <p:nvPr/>
              </p:nvSpPr>
              <p:spPr>
                <a:xfrm rot="3885600">
                  <a:off x="5353560" y="2984040"/>
                  <a:ext cx="304920" cy="335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3885600">
                  <a:off x="5429520" y="3067560"/>
                  <a:ext cx="152640" cy="16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ning Philosoph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1598040" y="2928960"/>
            <a:ext cx="780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hung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1" name=""/>
          <p:cNvGrpSpPr/>
          <p:nvPr/>
        </p:nvGrpSpPr>
        <p:grpSpPr>
          <a:xfrm>
            <a:off x="1599480" y="3182760"/>
            <a:ext cx="1984320" cy="305280"/>
            <a:chOff x="1599480" y="3182760"/>
            <a:chExt cx="1984320" cy="305280"/>
          </a:xfrm>
        </p:grpSpPr>
        <p:sp>
          <p:nvSpPr>
            <p:cNvPr id="2482" name=""/>
            <p:cNvSpPr/>
            <p:nvPr/>
          </p:nvSpPr>
          <p:spPr>
            <a:xfrm>
              <a:off x="1599480" y="3182760"/>
              <a:ext cx="694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Arial"/>
                </a:rPr>
                <a:t>e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802960" y="3182760"/>
              <a:ext cx="780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hung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4" name=""/>
          <p:cNvSpPr/>
          <p:nvPr/>
        </p:nvSpPr>
        <p:spPr>
          <a:xfrm>
            <a:off x="4004640" y="3436920"/>
            <a:ext cx="780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hung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5" name=""/>
          <p:cNvGrpSpPr/>
          <p:nvPr/>
        </p:nvGrpSpPr>
        <p:grpSpPr>
          <a:xfrm>
            <a:off x="1599120" y="3689280"/>
            <a:ext cx="4354920" cy="305280"/>
            <a:chOff x="1599120" y="3689280"/>
            <a:chExt cx="4354920" cy="305280"/>
          </a:xfrm>
        </p:grpSpPr>
        <p:sp>
          <p:nvSpPr>
            <p:cNvPr id="2486" name=""/>
            <p:cNvSpPr/>
            <p:nvPr/>
          </p:nvSpPr>
          <p:spPr>
            <a:xfrm>
              <a:off x="1599120" y="3689280"/>
              <a:ext cx="878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thin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4006080" y="3689280"/>
              <a:ext cx="694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Arial"/>
                </a:rPr>
                <a:t>e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5173200" y="3689280"/>
              <a:ext cx="780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hung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9" name=""/>
          <p:cNvSpPr/>
          <p:nvPr/>
        </p:nvSpPr>
        <p:spPr>
          <a:xfrm>
            <a:off x="1598040" y="4419720"/>
            <a:ext cx="780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hung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6338160" y="3962520"/>
            <a:ext cx="780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hung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6339600" y="4191120"/>
            <a:ext cx="694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e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2" name=""/>
          <p:cNvGrpSpPr/>
          <p:nvPr/>
        </p:nvGrpSpPr>
        <p:grpSpPr>
          <a:xfrm>
            <a:off x="1599480" y="4702320"/>
            <a:ext cx="5618520" cy="305280"/>
            <a:chOff x="1599480" y="4702320"/>
            <a:chExt cx="5618520" cy="305280"/>
          </a:xfrm>
        </p:grpSpPr>
        <p:sp>
          <p:nvSpPr>
            <p:cNvPr id="2493" name=""/>
            <p:cNvSpPr/>
            <p:nvPr/>
          </p:nvSpPr>
          <p:spPr>
            <a:xfrm>
              <a:off x="1599480" y="4702320"/>
              <a:ext cx="694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Arial"/>
                </a:rPr>
                <a:t>e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6339600" y="4702320"/>
              <a:ext cx="878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thin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5" name=""/>
          <p:cNvGrpSpPr/>
          <p:nvPr/>
        </p:nvGrpSpPr>
        <p:grpSpPr>
          <a:xfrm>
            <a:off x="4005720" y="4956120"/>
            <a:ext cx="1862640" cy="305280"/>
            <a:chOff x="4005720" y="4956120"/>
            <a:chExt cx="1862640" cy="305280"/>
          </a:xfrm>
        </p:grpSpPr>
        <p:sp>
          <p:nvSpPr>
            <p:cNvPr id="2496" name=""/>
            <p:cNvSpPr/>
            <p:nvPr/>
          </p:nvSpPr>
          <p:spPr>
            <a:xfrm>
              <a:off x="4005720" y="4956120"/>
              <a:ext cx="878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thin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5174280" y="4956120"/>
              <a:ext cx="694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Arial"/>
                </a:rPr>
                <a:t>e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8" name=""/>
          <p:cNvGrpSpPr/>
          <p:nvPr/>
        </p:nvGrpSpPr>
        <p:grpSpPr>
          <a:xfrm>
            <a:off x="4004640" y="5208480"/>
            <a:ext cx="2048040" cy="305280"/>
            <a:chOff x="4004640" y="5208480"/>
            <a:chExt cx="2048040" cy="305280"/>
          </a:xfrm>
        </p:grpSpPr>
        <p:sp>
          <p:nvSpPr>
            <p:cNvPr id="2499" name=""/>
            <p:cNvSpPr/>
            <p:nvPr/>
          </p:nvSpPr>
          <p:spPr>
            <a:xfrm>
              <a:off x="4004640" y="5208480"/>
              <a:ext cx="780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hung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5174280" y="5208480"/>
              <a:ext cx="878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thin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1" name=""/>
          <p:cNvSpPr/>
          <p:nvPr/>
        </p:nvSpPr>
        <p:spPr>
          <a:xfrm>
            <a:off x="4006080" y="5462640"/>
            <a:ext cx="694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e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1599120" y="5715000"/>
            <a:ext cx="878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thin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3" name=""/>
          <p:cNvGrpSpPr/>
          <p:nvPr/>
        </p:nvGrpSpPr>
        <p:grpSpPr>
          <a:xfrm>
            <a:off x="1599120" y="2666880"/>
            <a:ext cx="5618880" cy="305280"/>
            <a:chOff x="1599120" y="2666880"/>
            <a:chExt cx="5618880" cy="305280"/>
          </a:xfrm>
        </p:grpSpPr>
        <p:sp>
          <p:nvSpPr>
            <p:cNvPr id="2504" name=""/>
            <p:cNvSpPr/>
            <p:nvPr/>
          </p:nvSpPr>
          <p:spPr>
            <a:xfrm>
              <a:off x="1599120" y="2666880"/>
              <a:ext cx="878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thin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2804040" y="2666880"/>
              <a:ext cx="878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thin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4005720" y="2666880"/>
              <a:ext cx="878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thin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174280" y="2666880"/>
              <a:ext cx="878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thin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6339600" y="2666880"/>
              <a:ext cx="878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thin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9" name=""/>
          <p:cNvGrpSpPr/>
          <p:nvPr/>
        </p:nvGrpSpPr>
        <p:grpSpPr>
          <a:xfrm>
            <a:off x="1523880" y="2133720"/>
            <a:ext cx="5507280" cy="3870360"/>
            <a:chOff x="1523880" y="2133720"/>
            <a:chExt cx="5507280" cy="3870360"/>
          </a:xfrm>
        </p:grpSpPr>
        <p:sp>
          <p:nvSpPr>
            <p:cNvPr id="2510" name=""/>
            <p:cNvSpPr/>
            <p:nvPr/>
          </p:nvSpPr>
          <p:spPr>
            <a:xfrm>
              <a:off x="1523880" y="2567160"/>
              <a:ext cx="550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1" name=""/>
            <p:cNvGrpSpPr/>
            <p:nvPr/>
          </p:nvGrpSpPr>
          <p:grpSpPr>
            <a:xfrm>
              <a:off x="1773720" y="2133720"/>
              <a:ext cx="5105520" cy="3870360"/>
              <a:chOff x="1773720" y="2133720"/>
              <a:chExt cx="5105520" cy="3870360"/>
            </a:xfrm>
          </p:grpSpPr>
          <p:sp>
            <p:nvSpPr>
              <p:cNvPr id="2512" name=""/>
              <p:cNvSpPr/>
              <p:nvPr/>
            </p:nvSpPr>
            <p:spPr>
              <a:xfrm>
                <a:off x="2658960" y="2270160"/>
                <a:ext cx="1800" cy="3733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3822840" y="2270160"/>
                <a:ext cx="1440" cy="3733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4986360" y="2270160"/>
                <a:ext cx="1440" cy="3733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6149880" y="2270160"/>
                <a:ext cx="1800" cy="3733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16" name=""/>
              <p:cNvGrpSpPr/>
              <p:nvPr/>
            </p:nvGrpSpPr>
            <p:grpSpPr>
              <a:xfrm>
                <a:off x="1773720" y="2133720"/>
                <a:ext cx="5105520" cy="416520"/>
                <a:chOff x="1773720" y="2133720"/>
                <a:chExt cx="5105520" cy="416520"/>
              </a:xfrm>
            </p:grpSpPr>
            <p:sp>
              <p:nvSpPr>
                <p:cNvPr id="2517" name=""/>
                <p:cNvSpPr/>
                <p:nvPr/>
              </p:nvSpPr>
              <p:spPr>
                <a:xfrm>
                  <a:off x="1773720" y="2133720"/>
                  <a:ext cx="47160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80"/>
                      </a:solidFill>
                      <a:latin typeface="Arial"/>
                    </a:rPr>
                    <a:t>Ph</a:t>
                  </a:r>
                  <a:r>
                    <a:rPr b="0" lang="en-US" sz="2400" spc="-1" strike="noStrike" baseline="-25000">
                      <a:solidFill>
                        <a:srgbClr val="000080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>
                  <a:off x="2931120" y="2133720"/>
                  <a:ext cx="47160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80"/>
                      </a:solidFill>
                      <a:latin typeface="Arial"/>
                    </a:rPr>
                    <a:t>Ph</a:t>
                  </a:r>
                  <a:r>
                    <a:rPr b="0" lang="en-US" sz="2400" spc="-1" strike="noStrike" baseline="-25000">
                      <a:solidFill>
                        <a:srgbClr val="00008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>
                  <a:off x="4089960" y="2133720"/>
                  <a:ext cx="47160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80"/>
                      </a:solidFill>
                      <a:latin typeface="Arial"/>
                    </a:rPr>
                    <a:t>Ph</a:t>
                  </a:r>
                  <a:r>
                    <a:rPr b="0" lang="en-US" sz="2400" spc="-1" strike="noStrike" baseline="-25000">
                      <a:solidFill>
                        <a:srgbClr val="00008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>
                  <a:off x="5248800" y="2133720"/>
                  <a:ext cx="47160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80"/>
                      </a:solidFill>
                      <a:latin typeface="Arial"/>
                    </a:rPr>
                    <a:t>Ph</a:t>
                  </a:r>
                  <a:r>
                    <a:rPr b="0" lang="en-US" sz="2400" spc="-1" strike="noStrike" baseline="-25000">
                      <a:solidFill>
                        <a:srgbClr val="000080"/>
                      </a:solidFill>
                      <a:latin typeface="Arial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>
                  <a:off x="6407640" y="2133720"/>
                  <a:ext cx="47160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80"/>
                      </a:solidFill>
                      <a:latin typeface="Arial"/>
                    </a:rPr>
                    <a:t>Ph</a:t>
                  </a:r>
                  <a:r>
                    <a:rPr b="0" lang="en-US" sz="2400" spc="-1" strike="noStrike" baseline="-25000">
                      <a:solidFill>
                        <a:srgbClr val="000080"/>
                      </a:solidFill>
                      <a:latin typeface="Arial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22" name=""/>
          <p:cNvGrpSpPr/>
          <p:nvPr/>
        </p:nvGrpSpPr>
        <p:grpSpPr>
          <a:xfrm>
            <a:off x="685080" y="2666880"/>
            <a:ext cx="399960" cy="3353040"/>
            <a:chOff x="685080" y="2666880"/>
            <a:chExt cx="399960" cy="3353040"/>
          </a:xfrm>
        </p:grpSpPr>
        <p:sp>
          <p:nvSpPr>
            <p:cNvPr id="2523" name=""/>
            <p:cNvSpPr/>
            <p:nvPr/>
          </p:nvSpPr>
          <p:spPr>
            <a:xfrm>
              <a:off x="1066680" y="2666880"/>
              <a:ext cx="0" cy="335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 rot="16204800">
              <a:off x="465840" y="418176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5" name=""/>
          <p:cNvGrpSpPr/>
          <p:nvPr/>
        </p:nvGrpSpPr>
        <p:grpSpPr>
          <a:xfrm>
            <a:off x="2971800" y="5334120"/>
            <a:ext cx="457200" cy="609480"/>
            <a:chOff x="2971800" y="5334120"/>
            <a:chExt cx="457200" cy="609480"/>
          </a:xfrm>
        </p:grpSpPr>
        <p:sp>
          <p:nvSpPr>
            <p:cNvPr id="2526" name=""/>
            <p:cNvSpPr/>
            <p:nvPr/>
          </p:nvSpPr>
          <p:spPr>
            <a:xfrm>
              <a:off x="3167640" y="5334120"/>
              <a:ext cx="65160" cy="60948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2971800" y="5469120"/>
              <a:ext cx="457200" cy="6768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8" name=""/>
          <p:cNvSpPr txBox="1"/>
          <p:nvPr/>
        </p:nvSpPr>
        <p:spPr>
          <a:xfrm>
            <a:off x="457200" y="1371600"/>
            <a:ext cx="347184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tarvation Possib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7" dur="indefinite" restart="never" nodeType="tmRoot">
          <p:childTnLst>
            <p:seq>
              <p:cTn id="3278" dur="indefinite" nodeType="mainSeq">
                <p:childTnLst>
                  <p:par>
                    <p:cTn id="3279" fill="hold">
                      <p:stCondLst>
                        <p:cond delay="indefinite"/>
                      </p:stCondLst>
                      <p:childTnLst>
                        <p:par>
                          <p:cTn id="3280" fill="hold">
                            <p:stCondLst>
                              <p:cond delay="0"/>
                            </p:stCondLst>
                            <p:childTnLst>
                              <p:par>
                                <p:cTn id="3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3" dur="500"/>
                                        <p:tgtEl>
                                          <p:spTgt spid="2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4" fill="hold">
                      <p:stCondLst>
                        <p:cond delay="indefinite"/>
                      </p:stCondLst>
                      <p:childTnLst>
                        <p:par>
                          <p:cTn id="3285" fill="hold">
                            <p:stCondLst>
                              <p:cond delay="0"/>
                            </p:stCondLst>
                            <p:childTnLst>
                              <p:par>
                                <p:cTn id="3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8" dur="500" fill="hold"/>
                                        <p:tgtEl>
                                          <p:spTgt spid="2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9" dur="500" fill="hold"/>
                                        <p:tgtEl>
                                          <p:spTgt spid="2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0" fill="hold">
                      <p:stCondLst>
                        <p:cond delay="indefinite"/>
                      </p:stCondLst>
                      <p:childTnLst>
                        <p:par>
                          <p:cTn id="3291" fill="hold">
                            <p:stCondLst>
                              <p:cond delay="0"/>
                            </p:stCondLst>
                            <p:childTnLst>
                              <p:par>
                                <p:cTn id="3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4" dur="500"/>
                                        <p:tgtEl>
                                          <p:spTgt spid="2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5" fill="hold">
                      <p:stCondLst>
                        <p:cond delay="indefinite"/>
                      </p:stCondLst>
                      <p:childTnLst>
                        <p:par>
                          <p:cTn id="3296" fill="hold">
                            <p:stCondLst>
                              <p:cond delay="0"/>
                            </p:stCondLst>
                            <p:childTnLst>
                              <p:par>
                                <p:cTn id="3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9" dur="500"/>
                                        <p:tgtEl>
                                          <p:spTgt spid="2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0" fill="hold">
                      <p:stCondLst>
                        <p:cond delay="indefinite"/>
                      </p:stCondLst>
                      <p:childTnLst>
                        <p:par>
                          <p:cTn id="3301" fill="hold">
                            <p:stCondLst>
                              <p:cond delay="0"/>
                            </p:stCondLst>
                            <p:childTnLst>
                              <p:par>
                                <p:cTn id="3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4" dur="500"/>
                                        <p:tgtEl>
                                          <p:spTgt spid="2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5" fill="hold">
                      <p:stCondLst>
                        <p:cond delay="indefinite"/>
                      </p:stCondLst>
                      <p:childTnLst>
                        <p:par>
                          <p:cTn id="3306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9" dur="500"/>
                                        <p:tgtEl>
                                          <p:spTgt spid="2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0" fill="hold">
                      <p:stCondLst>
                        <p:cond delay="indefinite"/>
                      </p:stCondLst>
                      <p:childTnLst>
                        <p:par>
                          <p:cTn id="3311" fill="hold">
                            <p:stCondLst>
                              <p:cond delay="0"/>
                            </p:stCondLst>
                            <p:childTnLst>
                              <p:par>
                                <p:cTn id="3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4" dur="500"/>
                                        <p:tgtEl>
                                          <p:spTgt spid="2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5" fill="hold">
                      <p:stCondLst>
                        <p:cond delay="indefinite"/>
                      </p:stCondLst>
                      <p:childTnLst>
                        <p:par>
                          <p:cTn id="3316" fill="hold">
                            <p:stCondLst>
                              <p:cond delay="0"/>
                            </p:stCondLst>
                            <p:childTnLst>
                              <p:par>
                                <p:cTn id="3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9" dur="500"/>
                                        <p:tgtEl>
                                          <p:spTgt spid="2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0" fill="hold">
                      <p:stCondLst>
                        <p:cond delay="indefinite"/>
                      </p:stCondLst>
                      <p:childTnLst>
                        <p:par>
                          <p:cTn id="3321" fill="hold">
                            <p:stCondLst>
                              <p:cond delay="0"/>
                            </p:stCondLst>
                            <p:childTnLst>
                              <p:par>
                                <p:cTn id="3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4" dur="500"/>
                                        <p:tgtEl>
                                          <p:spTgt spid="2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5" fill="hold">
                      <p:stCondLst>
                        <p:cond delay="indefinite"/>
                      </p:stCondLst>
                      <p:childTnLst>
                        <p:par>
                          <p:cTn id="3326" fill="hold">
                            <p:stCondLst>
                              <p:cond delay="0"/>
                            </p:stCondLst>
                            <p:childTnLst>
                              <p:par>
                                <p:cTn id="3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9" dur="500"/>
                                        <p:tgtEl>
                                          <p:spTgt spid="2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0" fill="hold">
                      <p:stCondLst>
                        <p:cond delay="indefinite"/>
                      </p:stCondLst>
                      <p:childTnLst>
                        <p:par>
                          <p:cTn id="3331" fill="hold">
                            <p:stCondLst>
                              <p:cond delay="0"/>
                            </p:stCondLst>
                            <p:childTnLst>
                              <p:par>
                                <p:cTn id="3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4" dur="500"/>
                                        <p:tgtEl>
                                          <p:spTgt spid="2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5" fill="hold">
                      <p:stCondLst>
                        <p:cond delay="indefinite"/>
                      </p:stCondLst>
                      <p:childTnLst>
                        <p:par>
                          <p:cTn id="3336" fill="hold">
                            <p:stCondLst>
                              <p:cond delay="0"/>
                            </p:stCondLst>
                            <p:childTnLst>
                              <p:par>
                                <p:cTn id="3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9" dur="500"/>
                                        <p:tgtEl>
                                          <p:spTgt spid="2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0" fill="hold">
                      <p:stCondLst>
                        <p:cond delay="indefinite"/>
                      </p:stCondLst>
                      <p:childTnLst>
                        <p:par>
                          <p:cTn id="3341" fill="hold">
                            <p:stCondLst>
                              <p:cond delay="0"/>
                            </p:stCondLst>
                            <p:childTnLst>
                              <p:par>
                                <p:cTn id="3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4" dur="500"/>
                                        <p:tgtEl>
                                          <p:spTgt spid="2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5" fill="hold">
                      <p:stCondLst>
                        <p:cond delay="indefinite"/>
                      </p:stCondLst>
                      <p:childTnLst>
                        <p:par>
                          <p:cTn id="3346" fill="hold">
                            <p:stCondLst>
                              <p:cond delay="0"/>
                            </p:stCondLst>
                            <p:childTnLst>
                              <p:par>
                                <p:cTn id="3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9" dur="500"/>
                                        <p:tgtEl>
                                          <p:spTgt spid="2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0" fill="hold">
                      <p:stCondLst>
                        <p:cond delay="indefinite"/>
                      </p:stCondLst>
                      <p:childTnLst>
                        <p:par>
                          <p:cTn id="3351" fill="hold">
                            <p:stCondLst>
                              <p:cond delay="0"/>
                            </p:stCondLst>
                            <p:childTnLst>
                              <p:par>
                                <p:cTn id="3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4" dur="500"/>
                                        <p:tgtEl>
                                          <p:spTgt spid="2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5" fill="hold">
                      <p:stCondLst>
                        <p:cond delay="indefinite"/>
                      </p:stCondLst>
                      <p:childTnLst>
                        <p:par>
                          <p:cTn id="3356" fill="hold">
                            <p:stCondLst>
                              <p:cond delay="0"/>
                            </p:stCondLst>
                            <p:childTnLst>
                              <p:par>
                                <p:cTn id="33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9" dur="5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0" dur="5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36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4" dur="500" fill="hold"/>
                                        <p:tgtEl>
                                          <p:spTgt spid="2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5" dur="500" fill="hold"/>
                                        <p:tgtEl>
                                          <p:spTgt spid="2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6" dur="500" fill="hold"/>
                                        <p:tgtEl>
                                          <p:spTgt spid="2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7" dur="500" fill="hold"/>
                                        <p:tgtEl>
                                          <p:spTgt spid="2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"/>
          <p:cNvSpPr/>
          <p:nvPr/>
        </p:nvSpPr>
        <p:spPr>
          <a:xfrm>
            <a:off x="4429080" y="5686560"/>
            <a:ext cx="1362240" cy="398880"/>
          </a:xfrm>
          <a:prstGeom prst="borderCallout1">
            <a:avLst>
              <a:gd name="adj1" fmla="val 18750"/>
              <a:gd name="adj2" fmla="val -8333"/>
              <a:gd name="adj3" fmla="val -85300"/>
              <a:gd name="adj4" fmla="val 80050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sted monitor-cal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1" name=""/>
          <p:cNvGrpSpPr/>
          <p:nvPr/>
        </p:nvGrpSpPr>
        <p:grpSpPr>
          <a:xfrm>
            <a:off x="685800" y="1447920"/>
            <a:ext cx="3886200" cy="4572000"/>
            <a:chOff x="685800" y="1447920"/>
            <a:chExt cx="3886200" cy="4572000"/>
          </a:xfrm>
        </p:grpSpPr>
        <p:sp>
          <p:nvSpPr>
            <p:cNvPr id="2532" name=""/>
            <p:cNvSpPr/>
            <p:nvPr/>
          </p:nvSpPr>
          <p:spPr>
            <a:xfrm>
              <a:off x="685800" y="1447920"/>
              <a:ext cx="3886200" cy="457200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nitor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1600200" y="2133720"/>
              <a:ext cx="2095560" cy="6858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Shared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990720" y="2971800"/>
              <a:ext cx="533160" cy="1447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P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1676520" y="2971800"/>
              <a:ext cx="533160" cy="1447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P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3657600" y="2971800"/>
              <a:ext cx="533520" cy="1447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P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1638360" y="4724280"/>
              <a:ext cx="1942920" cy="6858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Initialization</a:t>
              </a:r>
              <a:br>
                <a:rPr sz="2400"/>
              </a:b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(constructo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8" name=""/>
          <p:cNvSpPr/>
          <p:nvPr/>
        </p:nvSpPr>
        <p:spPr>
          <a:xfrm>
            <a:off x="1816200" y="3124080"/>
            <a:ext cx="253800" cy="9907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2438280" y="3762360"/>
            <a:ext cx="1032120" cy="368280"/>
          </a:xfrm>
          <a:prstGeom prst="borderCallout1">
            <a:avLst>
              <a:gd name="adj1" fmla="val 18750"/>
              <a:gd name="adj2" fmla="val -8333"/>
              <a:gd name="adj3" fmla="val 21189"/>
              <a:gd name="adj4" fmla="val -39675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Proc.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0" name=""/>
          <p:cNvGrpSpPr/>
          <p:nvPr/>
        </p:nvGrpSpPr>
        <p:grpSpPr>
          <a:xfrm>
            <a:off x="4724280" y="1447920"/>
            <a:ext cx="3886200" cy="4572000"/>
            <a:chOff x="4724280" y="1447920"/>
            <a:chExt cx="3886200" cy="4572000"/>
          </a:xfrm>
        </p:grpSpPr>
        <p:sp>
          <p:nvSpPr>
            <p:cNvPr id="2541" name=""/>
            <p:cNvSpPr/>
            <p:nvPr/>
          </p:nvSpPr>
          <p:spPr>
            <a:xfrm>
              <a:off x="4724280" y="1447920"/>
              <a:ext cx="3886200" cy="457200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nitor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5638680" y="2133720"/>
              <a:ext cx="2095560" cy="6858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Shared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5029200" y="2971800"/>
              <a:ext cx="533520" cy="1447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F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5715000" y="2971800"/>
              <a:ext cx="533520" cy="1447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F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7696080" y="2971800"/>
              <a:ext cx="533520" cy="1447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F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5676840" y="4724280"/>
              <a:ext cx="1943280" cy="6858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Initialization</a:t>
              </a:r>
              <a:br>
                <a:rPr sz="2400"/>
              </a:b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(constructo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7" name=""/>
          <p:cNvSpPr/>
          <p:nvPr/>
        </p:nvSpPr>
        <p:spPr>
          <a:xfrm>
            <a:off x="5854680" y="3124080"/>
            <a:ext cx="254160" cy="9907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1905120" y="2946240"/>
            <a:ext cx="4114800" cy="787680"/>
          </a:xfrm>
          <a:custGeom>
            <a:avLst/>
            <a:gdLst/>
            <a:ahLst/>
            <a:rect l="l" t="t" r="r" b="b"/>
            <a:pathLst>
              <a:path w="2592" h="736">
                <a:moveTo>
                  <a:pt x="0" y="736"/>
                </a:moveTo>
                <a:cubicBezTo>
                  <a:pt x="284" y="508"/>
                  <a:pt x="568" y="280"/>
                  <a:pt x="912" y="160"/>
                </a:cubicBezTo>
                <a:cubicBezTo>
                  <a:pt x="1256" y="40"/>
                  <a:pt x="1784" y="32"/>
                  <a:pt x="2064" y="16"/>
                </a:cubicBezTo>
                <a:cubicBezTo>
                  <a:pt x="2344" y="0"/>
                  <a:pt x="2468" y="32"/>
                  <a:pt x="2592" y="64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5867280" y="3413160"/>
            <a:ext cx="685800" cy="3988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4429080" y="5686560"/>
            <a:ext cx="1362240" cy="398880"/>
          </a:xfrm>
          <a:prstGeom prst="borderCallout1">
            <a:avLst>
              <a:gd name="adj1" fmla="val 18750"/>
              <a:gd name="adj2" fmla="val -8333"/>
              <a:gd name="adj3" fmla="val -85300"/>
              <a:gd name="adj4" fmla="val 80050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457200" y="5686560"/>
            <a:ext cx="1362240" cy="398880"/>
          </a:xfrm>
          <a:prstGeom prst="borderCallout1">
            <a:avLst>
              <a:gd name="adj1" fmla="val 18750"/>
              <a:gd name="adj2" fmla="val -8333"/>
              <a:gd name="adj3" fmla="val -85300"/>
              <a:gd name="adj4" fmla="val 80050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228600" y="5486400"/>
            <a:ext cx="1905120" cy="762120"/>
          </a:xfrm>
          <a:prstGeom prst="ellipse">
            <a:avLst/>
          </a:prstGeom>
          <a:noFill/>
          <a:ln w="572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8" dur="indefinite" restart="never" nodeType="tmRoot">
          <p:childTnLst>
            <p:seq>
              <p:cTn id="3369" dur="indefinite" nodeType="mainSeq">
                <p:childTnLst>
                  <p:par>
                    <p:cTn id="3370" fill="hold">
                      <p:stCondLst>
                        <p:cond delay="indefinite"/>
                      </p:stCondLst>
                      <p:childTnLst>
                        <p:par>
                          <p:cTn id="3371" fill="hold">
                            <p:stCondLst>
                              <p:cond delay="0"/>
                            </p:stCondLst>
                            <p:childTnLst>
                              <p:par>
                                <p:cTn id="33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4" dur="500"/>
                                        <p:tgtEl>
                                          <p:spTgt spid="2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5" fill="hold">
                      <p:stCondLst>
                        <p:cond delay="indefinite"/>
                      </p:stCondLst>
                      <p:childTnLst>
                        <p:par>
                          <p:cTn id="3376" fill="hold">
                            <p:stCondLst>
                              <p:cond delay="0"/>
                            </p:stCondLst>
                            <p:childTnLst>
                              <p:par>
                                <p:cTn id="33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9" dur="500"/>
                                        <p:tgtEl>
                                          <p:spTgt spid="2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0" fill="hold">
                      <p:stCondLst>
                        <p:cond delay="indefinite"/>
                      </p:stCondLst>
                      <p:childTnLst>
                        <p:par>
                          <p:cTn id="3381" fill="hold">
                            <p:stCondLst>
                              <p:cond delay="0"/>
                            </p:stCondLst>
                            <p:childTnLst>
                              <p:par>
                                <p:cTn id="33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84" dur="500"/>
                                        <p:tgtEl>
                                          <p:spTgt spid="2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3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88" dur="500"/>
                                        <p:tgtEl>
                                          <p:spTgt spid="2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92" dur="500"/>
                                        <p:tgtEl>
                                          <p:spTgt spid="2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3" fill="hold">
                      <p:stCondLst>
                        <p:cond delay="indefinite"/>
                      </p:stCondLst>
                      <p:childTnLst>
                        <p:par>
                          <p:cTn id="3394" fill="hold">
                            <p:stCondLst>
                              <p:cond delay="0"/>
                            </p:stCondLst>
                            <p:childTnLst>
                              <p:par>
                                <p:cTn id="3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7" dur="500"/>
                                        <p:tgtEl>
                                          <p:spTgt spid="2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01" dur="500"/>
                                        <p:tgtEl>
                                          <p:spTgt spid="2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05" dur="500"/>
                                        <p:tgtEl>
                                          <p:spTgt spid="2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6" fill="hold">
                      <p:stCondLst>
                        <p:cond delay="indefinite"/>
                      </p:stCondLst>
                      <p:childTnLst>
                        <p:par>
                          <p:cTn id="3407" fill="hold">
                            <p:stCondLst>
                              <p:cond delay="0"/>
                            </p:stCondLst>
                            <p:childTnLst>
                              <p:par>
                                <p:cTn id="340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0" dur="500" fill="hold"/>
                                        <p:tgtEl>
                                          <p:spTgt spid="2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1" dur="500" fill="hold"/>
                                        <p:tgtEl>
                                          <p:spTgt spid="2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2" fill="hold">
                            <p:stCondLst>
                              <p:cond delay="500"/>
                            </p:stCondLst>
                            <p:childTnLst>
                              <p:par>
                                <p:cTn id="34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15" dur="500"/>
                                        <p:tgtEl>
                                          <p:spTgt spid="2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6" fill="hold">
                      <p:stCondLst>
                        <p:cond delay="indefinite"/>
                      </p:stCondLst>
                      <p:childTnLst>
                        <p:par>
                          <p:cTn id="3417" fill="hold">
                            <p:stCondLst>
                              <p:cond delay="0"/>
                            </p:stCondLst>
                            <p:childTnLst>
                              <p:par>
                                <p:cTn id="3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0" dur="500" fill="hold"/>
                                        <p:tgtEl>
                                          <p:spTgt spid="2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1" dur="500" fill="hold"/>
                                        <p:tgtEl>
                                          <p:spTgt spid="2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 with 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4" name=""/>
          <p:cNvGrpSpPr/>
          <p:nvPr/>
        </p:nvGrpSpPr>
        <p:grpSpPr>
          <a:xfrm>
            <a:off x="4038480" y="2862360"/>
            <a:ext cx="2971800" cy="1849320"/>
            <a:chOff x="4038480" y="2862360"/>
            <a:chExt cx="2971800" cy="1849320"/>
          </a:xfrm>
        </p:grpSpPr>
        <p:sp>
          <p:nvSpPr>
            <p:cNvPr id="2555" name=""/>
            <p:cNvSpPr/>
            <p:nvPr/>
          </p:nvSpPr>
          <p:spPr>
            <a:xfrm>
              <a:off x="4038480" y="2990880"/>
              <a:ext cx="2895840" cy="17208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4419720" y="3440160"/>
              <a:ext cx="2266920" cy="898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4122720" y="3081240"/>
              <a:ext cx="2770200" cy="1554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4343400" y="3340080"/>
              <a:ext cx="2349360" cy="1082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4876920" y="2862360"/>
              <a:ext cx="21333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0" name=""/>
          <p:cNvGrpSpPr/>
          <p:nvPr/>
        </p:nvGrpSpPr>
        <p:grpSpPr>
          <a:xfrm>
            <a:off x="5487480" y="3522600"/>
            <a:ext cx="1140840" cy="495720"/>
            <a:chOff x="5487480" y="3522600"/>
            <a:chExt cx="1140840" cy="495720"/>
          </a:xfrm>
        </p:grpSpPr>
        <p:sp>
          <p:nvSpPr>
            <p:cNvPr id="2561" name=""/>
            <p:cNvSpPr/>
            <p:nvPr/>
          </p:nvSpPr>
          <p:spPr>
            <a:xfrm>
              <a:off x="5867280" y="3522600"/>
              <a:ext cx="623880" cy="177840"/>
            </a:xfrm>
            <a:custGeom>
              <a:avLst/>
              <a:gdLst/>
              <a:ahLst/>
              <a:rect l="l" t="t" r="r" b="b"/>
              <a:pathLst>
                <a:path w="528" h="112">
                  <a:moveTo>
                    <a:pt x="0" y="16"/>
                  </a:moveTo>
                  <a:cubicBezTo>
                    <a:pt x="100" y="8"/>
                    <a:pt x="200" y="0"/>
                    <a:pt x="288" y="16"/>
                  </a:cubicBezTo>
                  <a:cubicBezTo>
                    <a:pt x="376" y="32"/>
                    <a:pt x="452" y="72"/>
                    <a:pt x="528" y="112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5487480" y="3619440"/>
              <a:ext cx="114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?.sig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3" name=""/>
          <p:cNvGrpSpPr/>
          <p:nvPr/>
        </p:nvGrpSpPr>
        <p:grpSpPr>
          <a:xfrm>
            <a:off x="4114800" y="3797280"/>
            <a:ext cx="1447920" cy="1770480"/>
            <a:chOff x="4114800" y="3797280"/>
            <a:chExt cx="1447920" cy="1770480"/>
          </a:xfrm>
        </p:grpSpPr>
        <p:grpSp>
          <p:nvGrpSpPr>
            <p:cNvPr id="2564" name=""/>
            <p:cNvGrpSpPr/>
            <p:nvPr/>
          </p:nvGrpSpPr>
          <p:grpSpPr>
            <a:xfrm>
              <a:off x="4571640" y="3797280"/>
              <a:ext cx="839880" cy="914400"/>
              <a:chOff x="4571640" y="3797280"/>
              <a:chExt cx="839880" cy="914400"/>
            </a:xfrm>
          </p:grpSpPr>
          <p:sp>
            <p:nvSpPr>
              <p:cNvPr id="2565" name=""/>
              <p:cNvSpPr/>
              <p:nvPr/>
            </p:nvSpPr>
            <p:spPr>
              <a:xfrm>
                <a:off x="4740480" y="3797280"/>
                <a:ext cx="125280" cy="9144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66" name=""/>
              <p:cNvGrpSpPr/>
              <p:nvPr/>
            </p:nvGrpSpPr>
            <p:grpSpPr>
              <a:xfrm>
                <a:off x="4571640" y="3836520"/>
                <a:ext cx="839880" cy="307800"/>
                <a:chOff x="4571640" y="3836520"/>
                <a:chExt cx="839880" cy="307800"/>
              </a:xfrm>
            </p:grpSpPr>
            <p:sp>
              <p:nvSpPr>
                <p:cNvPr id="2567" name=""/>
                <p:cNvSpPr/>
                <p:nvPr/>
              </p:nvSpPr>
              <p:spPr>
                <a:xfrm rot="5434200">
                  <a:off x="4869000" y="3651120"/>
                  <a:ext cx="75960" cy="67068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68" name=""/>
                <p:cNvGrpSpPr/>
                <p:nvPr/>
              </p:nvGrpSpPr>
              <p:grpSpPr>
                <a:xfrm>
                  <a:off x="5073480" y="3836520"/>
                  <a:ext cx="338040" cy="307800"/>
                  <a:chOff x="5073480" y="3836520"/>
                  <a:chExt cx="338040" cy="307800"/>
                </a:xfrm>
              </p:grpSpPr>
              <p:sp>
                <p:nvSpPr>
                  <p:cNvPr id="2569" name=""/>
                  <p:cNvSpPr/>
                  <p:nvPr/>
                </p:nvSpPr>
                <p:spPr>
                  <a:xfrm rot="5434200">
                    <a:off x="5090040" y="3822480"/>
                    <a:ext cx="304560" cy="3351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0" name=""/>
                  <p:cNvSpPr/>
                  <p:nvPr/>
                </p:nvSpPr>
                <p:spPr>
                  <a:xfrm rot="5434200">
                    <a:off x="5166360" y="3906000"/>
                    <a:ext cx="15228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71" name=""/>
            <p:cNvSpPr/>
            <p:nvPr/>
          </p:nvSpPr>
          <p:spPr>
            <a:xfrm>
              <a:off x="4114800" y="4863960"/>
              <a:ext cx="144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xt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xt_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2" name=""/>
          <p:cNvSpPr/>
          <p:nvPr/>
        </p:nvSpPr>
        <p:spPr>
          <a:xfrm>
            <a:off x="228600" y="2057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3" name=""/>
          <p:cNvGrpSpPr/>
          <p:nvPr/>
        </p:nvGrpSpPr>
        <p:grpSpPr>
          <a:xfrm>
            <a:off x="747720" y="2388240"/>
            <a:ext cx="863280" cy="1040760"/>
            <a:chOff x="747720" y="2388240"/>
            <a:chExt cx="863280" cy="1040760"/>
          </a:xfrm>
        </p:grpSpPr>
        <p:sp>
          <p:nvSpPr>
            <p:cNvPr id="2574" name=""/>
            <p:cNvSpPr/>
            <p:nvPr/>
          </p:nvSpPr>
          <p:spPr>
            <a:xfrm>
              <a:off x="747720" y="2438280"/>
              <a:ext cx="83808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5" name=""/>
            <p:cNvGrpSpPr/>
            <p:nvPr/>
          </p:nvGrpSpPr>
          <p:grpSpPr>
            <a:xfrm>
              <a:off x="771480" y="2388240"/>
              <a:ext cx="839520" cy="1040760"/>
              <a:chOff x="771480" y="2388240"/>
              <a:chExt cx="839520" cy="1040760"/>
            </a:xfrm>
          </p:grpSpPr>
          <p:sp>
            <p:nvSpPr>
              <p:cNvPr id="2576" name=""/>
              <p:cNvSpPr/>
              <p:nvPr/>
            </p:nvSpPr>
            <p:spPr>
              <a:xfrm>
                <a:off x="915120" y="2514600"/>
                <a:ext cx="125640" cy="9144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7" name=""/>
              <p:cNvGrpSpPr/>
              <p:nvPr/>
            </p:nvGrpSpPr>
            <p:grpSpPr>
              <a:xfrm>
                <a:off x="771480" y="2388240"/>
                <a:ext cx="839520" cy="529200"/>
                <a:chOff x="771480" y="2388240"/>
                <a:chExt cx="839520" cy="529200"/>
              </a:xfrm>
            </p:grpSpPr>
            <p:sp>
              <p:nvSpPr>
                <p:cNvPr id="2578" name=""/>
                <p:cNvSpPr/>
                <p:nvPr/>
              </p:nvSpPr>
              <p:spPr>
                <a:xfrm rot="3885600">
                  <a:off x="1052640" y="2404800"/>
                  <a:ext cx="75960" cy="67068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79" name=""/>
                <p:cNvGrpSpPr/>
                <p:nvPr/>
              </p:nvGrpSpPr>
              <p:grpSpPr>
                <a:xfrm>
                  <a:off x="1177920" y="2388240"/>
                  <a:ext cx="433080" cy="418680"/>
                  <a:chOff x="1177920" y="2388240"/>
                  <a:chExt cx="433080" cy="418680"/>
                </a:xfrm>
              </p:grpSpPr>
              <p:sp>
                <p:nvSpPr>
                  <p:cNvPr id="2580" name=""/>
                  <p:cNvSpPr/>
                  <p:nvPr/>
                </p:nvSpPr>
                <p:spPr>
                  <a:xfrm rot="3885600">
                    <a:off x="1242000" y="2430000"/>
                    <a:ext cx="304920" cy="3351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1" name=""/>
                  <p:cNvSpPr/>
                  <p:nvPr/>
                </p:nvSpPr>
                <p:spPr>
                  <a:xfrm rot="3885600">
                    <a:off x="1317960" y="2513520"/>
                    <a:ext cx="15264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582" name=""/>
          <p:cNvGrpSpPr/>
          <p:nvPr/>
        </p:nvGrpSpPr>
        <p:grpSpPr>
          <a:xfrm>
            <a:off x="747360" y="2438280"/>
            <a:ext cx="839880" cy="990720"/>
            <a:chOff x="747360" y="2438280"/>
            <a:chExt cx="839880" cy="990720"/>
          </a:xfrm>
        </p:grpSpPr>
        <p:sp>
          <p:nvSpPr>
            <p:cNvPr id="2583" name=""/>
            <p:cNvSpPr/>
            <p:nvPr/>
          </p:nvSpPr>
          <p:spPr>
            <a:xfrm>
              <a:off x="747720" y="2438280"/>
              <a:ext cx="83808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4" name=""/>
            <p:cNvGrpSpPr/>
            <p:nvPr/>
          </p:nvGrpSpPr>
          <p:grpSpPr>
            <a:xfrm>
              <a:off x="747360" y="2514600"/>
              <a:ext cx="839880" cy="914400"/>
              <a:chOff x="747360" y="2514600"/>
              <a:chExt cx="839880" cy="914400"/>
            </a:xfrm>
          </p:grpSpPr>
          <p:sp>
            <p:nvSpPr>
              <p:cNvPr id="2585" name=""/>
              <p:cNvSpPr/>
              <p:nvPr/>
            </p:nvSpPr>
            <p:spPr>
              <a:xfrm>
                <a:off x="915840" y="2514600"/>
                <a:ext cx="124920" cy="9144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86" name=""/>
              <p:cNvGrpSpPr/>
              <p:nvPr/>
            </p:nvGrpSpPr>
            <p:grpSpPr>
              <a:xfrm>
                <a:off x="747360" y="2553840"/>
                <a:ext cx="839880" cy="307800"/>
                <a:chOff x="747360" y="2553840"/>
                <a:chExt cx="839880" cy="307800"/>
              </a:xfrm>
            </p:grpSpPr>
            <p:sp>
              <p:nvSpPr>
                <p:cNvPr id="2587" name=""/>
                <p:cNvSpPr/>
                <p:nvPr/>
              </p:nvSpPr>
              <p:spPr>
                <a:xfrm rot="5434200">
                  <a:off x="1044720" y="2368440"/>
                  <a:ext cx="75960" cy="67068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88" name=""/>
                <p:cNvGrpSpPr/>
                <p:nvPr/>
              </p:nvGrpSpPr>
              <p:grpSpPr>
                <a:xfrm>
                  <a:off x="1249200" y="2553840"/>
                  <a:ext cx="338040" cy="307800"/>
                  <a:chOff x="1249200" y="2553840"/>
                  <a:chExt cx="338040" cy="307800"/>
                </a:xfrm>
              </p:grpSpPr>
              <p:sp>
                <p:nvSpPr>
                  <p:cNvPr id="2589" name=""/>
                  <p:cNvSpPr/>
                  <p:nvPr/>
                </p:nvSpPr>
                <p:spPr>
                  <a:xfrm rot="5434200">
                    <a:off x="1265760" y="2539800"/>
                    <a:ext cx="304560" cy="3351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0" name=""/>
                  <p:cNvSpPr/>
                  <p:nvPr/>
                </p:nvSpPr>
                <p:spPr>
                  <a:xfrm rot="5434200">
                    <a:off x="1342080" y="2623320"/>
                    <a:ext cx="15228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591" name=""/>
          <p:cNvGrpSpPr/>
          <p:nvPr/>
        </p:nvGrpSpPr>
        <p:grpSpPr>
          <a:xfrm>
            <a:off x="762120" y="2388240"/>
            <a:ext cx="863280" cy="1040760"/>
            <a:chOff x="762120" y="2388240"/>
            <a:chExt cx="863280" cy="1040760"/>
          </a:xfrm>
        </p:grpSpPr>
        <p:sp>
          <p:nvSpPr>
            <p:cNvPr id="2592" name=""/>
            <p:cNvSpPr/>
            <p:nvPr/>
          </p:nvSpPr>
          <p:spPr>
            <a:xfrm>
              <a:off x="762120" y="2438280"/>
              <a:ext cx="83808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3" name=""/>
            <p:cNvGrpSpPr/>
            <p:nvPr/>
          </p:nvGrpSpPr>
          <p:grpSpPr>
            <a:xfrm>
              <a:off x="785880" y="2388240"/>
              <a:ext cx="839520" cy="1040760"/>
              <a:chOff x="785880" y="2388240"/>
              <a:chExt cx="839520" cy="1040760"/>
            </a:xfrm>
          </p:grpSpPr>
          <p:sp>
            <p:nvSpPr>
              <p:cNvPr id="2594" name=""/>
              <p:cNvSpPr/>
              <p:nvPr/>
            </p:nvSpPr>
            <p:spPr>
              <a:xfrm>
                <a:off x="929520" y="2514600"/>
                <a:ext cx="125640" cy="91440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95" name=""/>
              <p:cNvGrpSpPr/>
              <p:nvPr/>
            </p:nvGrpSpPr>
            <p:grpSpPr>
              <a:xfrm>
                <a:off x="785880" y="2388240"/>
                <a:ext cx="839520" cy="529200"/>
                <a:chOff x="785880" y="2388240"/>
                <a:chExt cx="839520" cy="529200"/>
              </a:xfrm>
            </p:grpSpPr>
            <p:sp>
              <p:nvSpPr>
                <p:cNvPr id="2596" name=""/>
                <p:cNvSpPr/>
                <p:nvPr/>
              </p:nvSpPr>
              <p:spPr>
                <a:xfrm rot="3885600">
                  <a:off x="1067040" y="2404800"/>
                  <a:ext cx="75960" cy="67068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97" name=""/>
                <p:cNvGrpSpPr/>
                <p:nvPr/>
              </p:nvGrpSpPr>
              <p:grpSpPr>
                <a:xfrm>
                  <a:off x="1192320" y="2388240"/>
                  <a:ext cx="433080" cy="418680"/>
                  <a:chOff x="1192320" y="2388240"/>
                  <a:chExt cx="433080" cy="418680"/>
                </a:xfrm>
              </p:grpSpPr>
              <p:sp>
                <p:nvSpPr>
                  <p:cNvPr id="2598" name=""/>
                  <p:cNvSpPr/>
                  <p:nvPr/>
                </p:nvSpPr>
                <p:spPr>
                  <a:xfrm rot="3885600">
                    <a:off x="1256400" y="2430000"/>
                    <a:ext cx="304920" cy="3351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9" name=""/>
                  <p:cNvSpPr/>
                  <p:nvPr/>
                </p:nvSpPr>
                <p:spPr>
                  <a:xfrm rot="3885600">
                    <a:off x="1332360" y="2513520"/>
                    <a:ext cx="15264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600" name=""/>
          <p:cNvGrpSpPr/>
          <p:nvPr/>
        </p:nvGrpSpPr>
        <p:grpSpPr>
          <a:xfrm>
            <a:off x="747360" y="2438280"/>
            <a:ext cx="839880" cy="990720"/>
            <a:chOff x="747360" y="2438280"/>
            <a:chExt cx="839880" cy="990720"/>
          </a:xfrm>
        </p:grpSpPr>
        <p:sp>
          <p:nvSpPr>
            <p:cNvPr id="2601" name=""/>
            <p:cNvSpPr/>
            <p:nvPr/>
          </p:nvSpPr>
          <p:spPr>
            <a:xfrm>
              <a:off x="747720" y="2438280"/>
              <a:ext cx="83808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2" name=""/>
            <p:cNvGrpSpPr/>
            <p:nvPr/>
          </p:nvGrpSpPr>
          <p:grpSpPr>
            <a:xfrm>
              <a:off x="747360" y="2514600"/>
              <a:ext cx="839880" cy="914400"/>
              <a:chOff x="747360" y="2514600"/>
              <a:chExt cx="839880" cy="914400"/>
            </a:xfrm>
          </p:grpSpPr>
          <p:sp>
            <p:nvSpPr>
              <p:cNvPr id="2603" name=""/>
              <p:cNvSpPr/>
              <p:nvPr/>
            </p:nvSpPr>
            <p:spPr>
              <a:xfrm>
                <a:off x="915840" y="2514600"/>
                <a:ext cx="124920" cy="91440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04" name=""/>
              <p:cNvGrpSpPr/>
              <p:nvPr/>
            </p:nvGrpSpPr>
            <p:grpSpPr>
              <a:xfrm>
                <a:off x="747360" y="2553840"/>
                <a:ext cx="839880" cy="307800"/>
                <a:chOff x="747360" y="2553840"/>
                <a:chExt cx="839880" cy="307800"/>
              </a:xfrm>
            </p:grpSpPr>
            <p:sp>
              <p:nvSpPr>
                <p:cNvPr id="2605" name=""/>
                <p:cNvSpPr/>
                <p:nvPr/>
              </p:nvSpPr>
              <p:spPr>
                <a:xfrm rot="5434200">
                  <a:off x="1044720" y="2368440"/>
                  <a:ext cx="75960" cy="670680"/>
                </a:xfrm>
                <a:prstGeom prst="rect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06" name=""/>
                <p:cNvGrpSpPr/>
                <p:nvPr/>
              </p:nvGrpSpPr>
              <p:grpSpPr>
                <a:xfrm>
                  <a:off x="1249200" y="2553840"/>
                  <a:ext cx="338040" cy="307800"/>
                  <a:chOff x="1249200" y="2553840"/>
                  <a:chExt cx="338040" cy="307800"/>
                </a:xfrm>
              </p:grpSpPr>
              <p:sp>
                <p:nvSpPr>
                  <p:cNvPr id="2607" name=""/>
                  <p:cNvSpPr/>
                  <p:nvPr/>
                </p:nvSpPr>
                <p:spPr>
                  <a:xfrm rot="5434200">
                    <a:off x="1265760" y="2539800"/>
                    <a:ext cx="304560" cy="3351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8" name=""/>
                  <p:cNvSpPr/>
                  <p:nvPr/>
                </p:nvSpPr>
                <p:spPr>
                  <a:xfrm rot="5434200">
                    <a:off x="1342080" y="2623320"/>
                    <a:ext cx="15228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609" name=""/>
          <p:cNvGrpSpPr/>
          <p:nvPr/>
        </p:nvGrpSpPr>
        <p:grpSpPr>
          <a:xfrm>
            <a:off x="990720" y="2798640"/>
            <a:ext cx="2971800" cy="1849680"/>
            <a:chOff x="990720" y="2798640"/>
            <a:chExt cx="2971800" cy="1849680"/>
          </a:xfrm>
        </p:grpSpPr>
        <p:sp>
          <p:nvSpPr>
            <p:cNvPr id="2610" name=""/>
            <p:cNvSpPr/>
            <p:nvPr/>
          </p:nvSpPr>
          <p:spPr>
            <a:xfrm>
              <a:off x="990720" y="2927520"/>
              <a:ext cx="2895480" cy="172080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1371600" y="3376440"/>
              <a:ext cx="2266920" cy="898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1074600" y="3017880"/>
              <a:ext cx="2770200" cy="1554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1295280" y="3276720"/>
              <a:ext cx="2349720" cy="1082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1828800" y="2798640"/>
              <a:ext cx="2133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5" name=""/>
          <p:cNvGrpSpPr/>
          <p:nvPr/>
        </p:nvGrpSpPr>
        <p:grpSpPr>
          <a:xfrm>
            <a:off x="2441880" y="3459240"/>
            <a:ext cx="1001520" cy="495720"/>
            <a:chOff x="2441880" y="3459240"/>
            <a:chExt cx="1001520" cy="495720"/>
          </a:xfrm>
        </p:grpSpPr>
        <p:sp>
          <p:nvSpPr>
            <p:cNvPr id="2616" name=""/>
            <p:cNvSpPr/>
            <p:nvPr/>
          </p:nvSpPr>
          <p:spPr>
            <a:xfrm>
              <a:off x="2819520" y="3459240"/>
              <a:ext cx="623880" cy="177840"/>
            </a:xfrm>
            <a:custGeom>
              <a:avLst/>
              <a:gdLst/>
              <a:ahLst/>
              <a:rect l="l" t="t" r="r" b="b"/>
              <a:pathLst>
                <a:path w="528" h="112">
                  <a:moveTo>
                    <a:pt x="0" y="16"/>
                  </a:moveTo>
                  <a:cubicBezTo>
                    <a:pt x="100" y="8"/>
                    <a:pt x="200" y="0"/>
                    <a:pt x="288" y="16"/>
                  </a:cubicBezTo>
                  <a:cubicBezTo>
                    <a:pt x="376" y="32"/>
                    <a:pt x="452" y="72"/>
                    <a:pt x="528" y="112"/>
                  </a:cubicBezTo>
                </a:path>
              </a:pathLst>
            </a:custGeom>
            <a:noFill/>
            <a:ln w="3816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2441880" y="3556080"/>
              <a:ext cx="8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x.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8" name=""/>
          <p:cNvGrpSpPr/>
          <p:nvPr/>
        </p:nvGrpSpPr>
        <p:grpSpPr>
          <a:xfrm>
            <a:off x="1066680" y="3657600"/>
            <a:ext cx="1220400" cy="1770480"/>
            <a:chOff x="1066680" y="3657600"/>
            <a:chExt cx="1220400" cy="1770480"/>
          </a:xfrm>
        </p:grpSpPr>
        <p:grpSp>
          <p:nvGrpSpPr>
            <p:cNvPr id="2619" name=""/>
            <p:cNvGrpSpPr/>
            <p:nvPr/>
          </p:nvGrpSpPr>
          <p:grpSpPr>
            <a:xfrm>
              <a:off x="1447200" y="3657600"/>
              <a:ext cx="839880" cy="914400"/>
              <a:chOff x="1447200" y="3657600"/>
              <a:chExt cx="839880" cy="914400"/>
            </a:xfrm>
          </p:grpSpPr>
          <p:sp>
            <p:nvSpPr>
              <p:cNvPr id="2620" name=""/>
              <p:cNvSpPr/>
              <p:nvPr/>
            </p:nvSpPr>
            <p:spPr>
              <a:xfrm>
                <a:off x="1616040" y="3657600"/>
                <a:ext cx="125280" cy="91440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1" name=""/>
              <p:cNvGrpSpPr/>
              <p:nvPr/>
            </p:nvGrpSpPr>
            <p:grpSpPr>
              <a:xfrm>
                <a:off x="1447200" y="3696840"/>
                <a:ext cx="839880" cy="307800"/>
                <a:chOff x="1447200" y="3696840"/>
                <a:chExt cx="839880" cy="307800"/>
              </a:xfrm>
            </p:grpSpPr>
            <p:sp>
              <p:nvSpPr>
                <p:cNvPr id="2622" name=""/>
                <p:cNvSpPr/>
                <p:nvPr/>
              </p:nvSpPr>
              <p:spPr>
                <a:xfrm rot="5434200">
                  <a:off x="1744560" y="3511440"/>
                  <a:ext cx="75960" cy="670680"/>
                </a:xfrm>
                <a:prstGeom prst="rect">
                  <a:avLst/>
                </a:prstGeom>
                <a:blipFill rotWithShape="0">
                  <a:blip r:embed="rId14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23" name=""/>
                <p:cNvGrpSpPr/>
                <p:nvPr/>
              </p:nvGrpSpPr>
              <p:grpSpPr>
                <a:xfrm>
                  <a:off x="1949040" y="3696840"/>
                  <a:ext cx="338040" cy="307800"/>
                  <a:chOff x="1949040" y="3696840"/>
                  <a:chExt cx="338040" cy="307800"/>
                </a:xfrm>
              </p:grpSpPr>
              <p:sp>
                <p:nvSpPr>
                  <p:cNvPr id="2624" name=""/>
                  <p:cNvSpPr/>
                  <p:nvPr/>
                </p:nvSpPr>
                <p:spPr>
                  <a:xfrm rot="5434200">
                    <a:off x="1965600" y="3682800"/>
                    <a:ext cx="304560" cy="3351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5" name=""/>
                  <p:cNvSpPr/>
                  <p:nvPr/>
                </p:nvSpPr>
                <p:spPr>
                  <a:xfrm rot="5434200">
                    <a:off x="2041920" y="3766320"/>
                    <a:ext cx="15228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626" name=""/>
            <p:cNvSpPr/>
            <p:nvPr/>
          </p:nvSpPr>
          <p:spPr>
            <a:xfrm>
              <a:off x="1066680" y="4724280"/>
              <a:ext cx="1219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_delay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_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7" name=""/>
          <p:cNvSpPr/>
          <p:nvPr/>
        </p:nvSpPr>
        <p:spPr>
          <a:xfrm flipH="1" rot="234600">
            <a:off x="1904400" y="4114800"/>
            <a:ext cx="838080" cy="433440"/>
          </a:xfrm>
          <a:custGeom>
            <a:avLst/>
            <a:gdLst/>
            <a:ahLst/>
            <a:rect l="l" t="t" r="r" b="b"/>
            <a:pathLst>
              <a:path w="2301" h="1182">
                <a:moveTo>
                  <a:pt x="366" y="509"/>
                </a:moveTo>
                <a:lnTo>
                  <a:pt x="366" y="495"/>
                </a:lnTo>
                <a:lnTo>
                  <a:pt x="368" y="481"/>
                </a:lnTo>
                <a:lnTo>
                  <a:pt x="373" y="468"/>
                </a:lnTo>
                <a:lnTo>
                  <a:pt x="380" y="457"/>
                </a:lnTo>
                <a:lnTo>
                  <a:pt x="445" y="466"/>
                </a:lnTo>
                <a:lnTo>
                  <a:pt x="446" y="479"/>
                </a:lnTo>
                <a:lnTo>
                  <a:pt x="446" y="496"/>
                </a:lnTo>
                <a:lnTo>
                  <a:pt x="450" y="510"/>
                </a:lnTo>
                <a:lnTo>
                  <a:pt x="462" y="513"/>
                </a:lnTo>
                <a:lnTo>
                  <a:pt x="462" y="508"/>
                </a:lnTo>
                <a:lnTo>
                  <a:pt x="462" y="502"/>
                </a:lnTo>
                <a:lnTo>
                  <a:pt x="462" y="496"/>
                </a:lnTo>
                <a:lnTo>
                  <a:pt x="458" y="491"/>
                </a:lnTo>
                <a:lnTo>
                  <a:pt x="461" y="487"/>
                </a:lnTo>
                <a:lnTo>
                  <a:pt x="464" y="482"/>
                </a:lnTo>
                <a:lnTo>
                  <a:pt x="468" y="480"/>
                </a:lnTo>
                <a:lnTo>
                  <a:pt x="472" y="477"/>
                </a:lnTo>
                <a:lnTo>
                  <a:pt x="475" y="468"/>
                </a:lnTo>
                <a:lnTo>
                  <a:pt x="477" y="458"/>
                </a:lnTo>
                <a:lnTo>
                  <a:pt x="476" y="447"/>
                </a:lnTo>
                <a:lnTo>
                  <a:pt x="474" y="437"/>
                </a:lnTo>
                <a:lnTo>
                  <a:pt x="471" y="436"/>
                </a:lnTo>
                <a:lnTo>
                  <a:pt x="470" y="436"/>
                </a:lnTo>
                <a:lnTo>
                  <a:pt x="469" y="436"/>
                </a:lnTo>
                <a:lnTo>
                  <a:pt x="470" y="436"/>
                </a:lnTo>
                <a:lnTo>
                  <a:pt x="453" y="435"/>
                </a:lnTo>
                <a:lnTo>
                  <a:pt x="448" y="442"/>
                </a:lnTo>
                <a:lnTo>
                  <a:pt x="448" y="454"/>
                </a:lnTo>
                <a:lnTo>
                  <a:pt x="445" y="466"/>
                </a:lnTo>
                <a:lnTo>
                  <a:pt x="380" y="457"/>
                </a:lnTo>
                <a:lnTo>
                  <a:pt x="304" y="457"/>
                </a:lnTo>
                <a:lnTo>
                  <a:pt x="241" y="457"/>
                </a:lnTo>
                <a:lnTo>
                  <a:pt x="237" y="458"/>
                </a:lnTo>
                <a:lnTo>
                  <a:pt x="228" y="458"/>
                </a:lnTo>
                <a:lnTo>
                  <a:pt x="215" y="458"/>
                </a:lnTo>
                <a:lnTo>
                  <a:pt x="201" y="458"/>
                </a:lnTo>
                <a:lnTo>
                  <a:pt x="187" y="458"/>
                </a:lnTo>
                <a:lnTo>
                  <a:pt x="174" y="457"/>
                </a:lnTo>
                <a:lnTo>
                  <a:pt x="165" y="457"/>
                </a:lnTo>
                <a:lnTo>
                  <a:pt x="162" y="457"/>
                </a:lnTo>
                <a:lnTo>
                  <a:pt x="108" y="461"/>
                </a:lnTo>
                <a:lnTo>
                  <a:pt x="103" y="459"/>
                </a:lnTo>
                <a:lnTo>
                  <a:pt x="99" y="457"/>
                </a:lnTo>
                <a:lnTo>
                  <a:pt x="96" y="452"/>
                </a:lnTo>
                <a:lnTo>
                  <a:pt x="97" y="446"/>
                </a:lnTo>
                <a:lnTo>
                  <a:pt x="91" y="447"/>
                </a:lnTo>
                <a:lnTo>
                  <a:pt x="86" y="450"/>
                </a:lnTo>
                <a:lnTo>
                  <a:pt x="80" y="451"/>
                </a:lnTo>
                <a:lnTo>
                  <a:pt x="74" y="447"/>
                </a:lnTo>
                <a:lnTo>
                  <a:pt x="71" y="439"/>
                </a:lnTo>
                <a:lnTo>
                  <a:pt x="67" y="431"/>
                </a:lnTo>
                <a:lnTo>
                  <a:pt x="61" y="426"/>
                </a:lnTo>
                <a:lnTo>
                  <a:pt x="53" y="429"/>
                </a:lnTo>
                <a:lnTo>
                  <a:pt x="45" y="420"/>
                </a:lnTo>
                <a:lnTo>
                  <a:pt x="35" y="410"/>
                </a:lnTo>
                <a:lnTo>
                  <a:pt x="27" y="400"/>
                </a:lnTo>
                <a:lnTo>
                  <a:pt x="24" y="387"/>
                </a:lnTo>
                <a:lnTo>
                  <a:pt x="16" y="380"/>
                </a:lnTo>
                <a:lnTo>
                  <a:pt x="7" y="372"/>
                </a:lnTo>
                <a:lnTo>
                  <a:pt x="2" y="363"/>
                </a:lnTo>
                <a:lnTo>
                  <a:pt x="0" y="350"/>
                </a:lnTo>
                <a:lnTo>
                  <a:pt x="3" y="342"/>
                </a:lnTo>
                <a:lnTo>
                  <a:pt x="468" y="344"/>
                </a:lnTo>
                <a:lnTo>
                  <a:pt x="468" y="352"/>
                </a:lnTo>
                <a:lnTo>
                  <a:pt x="467" y="360"/>
                </a:lnTo>
                <a:lnTo>
                  <a:pt x="463" y="367"/>
                </a:lnTo>
                <a:lnTo>
                  <a:pt x="457" y="373"/>
                </a:lnTo>
                <a:lnTo>
                  <a:pt x="462" y="376"/>
                </a:lnTo>
                <a:lnTo>
                  <a:pt x="467" y="379"/>
                </a:lnTo>
                <a:lnTo>
                  <a:pt x="472" y="380"/>
                </a:lnTo>
                <a:lnTo>
                  <a:pt x="478" y="380"/>
                </a:lnTo>
                <a:lnTo>
                  <a:pt x="476" y="376"/>
                </a:lnTo>
                <a:lnTo>
                  <a:pt x="474" y="371"/>
                </a:lnTo>
                <a:lnTo>
                  <a:pt x="471" y="366"/>
                </a:lnTo>
                <a:lnTo>
                  <a:pt x="472" y="360"/>
                </a:lnTo>
                <a:lnTo>
                  <a:pt x="481" y="358"/>
                </a:lnTo>
                <a:lnTo>
                  <a:pt x="487" y="355"/>
                </a:lnTo>
                <a:lnTo>
                  <a:pt x="494" y="349"/>
                </a:lnTo>
                <a:lnTo>
                  <a:pt x="500" y="343"/>
                </a:lnTo>
                <a:lnTo>
                  <a:pt x="505" y="338"/>
                </a:lnTo>
                <a:lnTo>
                  <a:pt x="511" y="333"/>
                </a:lnTo>
                <a:lnTo>
                  <a:pt x="518" y="329"/>
                </a:lnTo>
                <a:lnTo>
                  <a:pt x="525" y="327"/>
                </a:lnTo>
                <a:lnTo>
                  <a:pt x="536" y="318"/>
                </a:lnTo>
                <a:lnTo>
                  <a:pt x="528" y="315"/>
                </a:lnTo>
                <a:lnTo>
                  <a:pt x="516" y="315"/>
                </a:lnTo>
                <a:lnTo>
                  <a:pt x="507" y="313"/>
                </a:lnTo>
                <a:lnTo>
                  <a:pt x="504" y="303"/>
                </a:lnTo>
                <a:lnTo>
                  <a:pt x="503" y="303"/>
                </a:lnTo>
                <a:lnTo>
                  <a:pt x="503" y="298"/>
                </a:lnTo>
                <a:lnTo>
                  <a:pt x="504" y="298"/>
                </a:lnTo>
                <a:lnTo>
                  <a:pt x="504" y="299"/>
                </a:lnTo>
                <a:lnTo>
                  <a:pt x="507" y="293"/>
                </a:lnTo>
                <a:lnTo>
                  <a:pt x="512" y="291"/>
                </a:lnTo>
                <a:lnTo>
                  <a:pt x="518" y="291"/>
                </a:lnTo>
                <a:lnTo>
                  <a:pt x="525" y="291"/>
                </a:lnTo>
                <a:lnTo>
                  <a:pt x="530" y="292"/>
                </a:lnTo>
                <a:lnTo>
                  <a:pt x="536" y="292"/>
                </a:lnTo>
                <a:lnTo>
                  <a:pt x="541" y="290"/>
                </a:lnTo>
                <a:lnTo>
                  <a:pt x="544" y="286"/>
                </a:lnTo>
                <a:lnTo>
                  <a:pt x="536" y="284"/>
                </a:lnTo>
                <a:lnTo>
                  <a:pt x="528" y="285"/>
                </a:lnTo>
                <a:lnTo>
                  <a:pt x="520" y="285"/>
                </a:lnTo>
                <a:lnTo>
                  <a:pt x="512" y="284"/>
                </a:lnTo>
                <a:lnTo>
                  <a:pt x="498" y="284"/>
                </a:lnTo>
                <a:lnTo>
                  <a:pt x="485" y="283"/>
                </a:lnTo>
                <a:lnTo>
                  <a:pt x="472" y="284"/>
                </a:lnTo>
                <a:lnTo>
                  <a:pt x="460" y="284"/>
                </a:lnTo>
                <a:lnTo>
                  <a:pt x="447" y="284"/>
                </a:lnTo>
                <a:lnTo>
                  <a:pt x="435" y="284"/>
                </a:lnTo>
                <a:lnTo>
                  <a:pt x="423" y="283"/>
                </a:lnTo>
                <a:lnTo>
                  <a:pt x="411" y="282"/>
                </a:lnTo>
                <a:lnTo>
                  <a:pt x="410" y="277"/>
                </a:lnTo>
                <a:lnTo>
                  <a:pt x="409" y="274"/>
                </a:lnTo>
                <a:lnTo>
                  <a:pt x="407" y="270"/>
                </a:lnTo>
                <a:lnTo>
                  <a:pt x="411" y="267"/>
                </a:lnTo>
                <a:lnTo>
                  <a:pt x="433" y="265"/>
                </a:lnTo>
                <a:lnTo>
                  <a:pt x="455" y="265"/>
                </a:lnTo>
                <a:lnTo>
                  <a:pt x="477" y="265"/>
                </a:lnTo>
                <a:lnTo>
                  <a:pt x="498" y="265"/>
                </a:lnTo>
                <a:lnTo>
                  <a:pt x="518" y="265"/>
                </a:lnTo>
                <a:lnTo>
                  <a:pt x="539" y="265"/>
                </a:lnTo>
                <a:lnTo>
                  <a:pt x="561" y="265"/>
                </a:lnTo>
                <a:lnTo>
                  <a:pt x="581" y="264"/>
                </a:lnTo>
                <a:lnTo>
                  <a:pt x="585" y="267"/>
                </a:lnTo>
                <a:lnTo>
                  <a:pt x="588" y="267"/>
                </a:lnTo>
                <a:lnTo>
                  <a:pt x="591" y="267"/>
                </a:lnTo>
                <a:lnTo>
                  <a:pt x="593" y="269"/>
                </a:lnTo>
                <a:lnTo>
                  <a:pt x="594" y="275"/>
                </a:lnTo>
                <a:lnTo>
                  <a:pt x="592" y="281"/>
                </a:lnTo>
                <a:lnTo>
                  <a:pt x="590" y="284"/>
                </a:lnTo>
                <a:lnTo>
                  <a:pt x="587" y="289"/>
                </a:lnTo>
                <a:lnTo>
                  <a:pt x="593" y="291"/>
                </a:lnTo>
                <a:lnTo>
                  <a:pt x="598" y="292"/>
                </a:lnTo>
                <a:lnTo>
                  <a:pt x="603" y="292"/>
                </a:lnTo>
                <a:lnTo>
                  <a:pt x="609" y="292"/>
                </a:lnTo>
                <a:lnTo>
                  <a:pt x="615" y="292"/>
                </a:lnTo>
                <a:lnTo>
                  <a:pt x="620" y="293"/>
                </a:lnTo>
                <a:lnTo>
                  <a:pt x="624" y="296"/>
                </a:lnTo>
                <a:lnTo>
                  <a:pt x="628" y="300"/>
                </a:lnTo>
                <a:lnTo>
                  <a:pt x="629" y="308"/>
                </a:lnTo>
                <a:lnTo>
                  <a:pt x="624" y="313"/>
                </a:lnTo>
                <a:lnTo>
                  <a:pt x="617" y="315"/>
                </a:lnTo>
                <a:lnTo>
                  <a:pt x="610" y="315"/>
                </a:lnTo>
                <a:lnTo>
                  <a:pt x="607" y="314"/>
                </a:lnTo>
                <a:lnTo>
                  <a:pt x="603" y="313"/>
                </a:lnTo>
                <a:lnTo>
                  <a:pt x="599" y="314"/>
                </a:lnTo>
                <a:lnTo>
                  <a:pt x="595" y="315"/>
                </a:lnTo>
                <a:lnTo>
                  <a:pt x="602" y="318"/>
                </a:lnTo>
                <a:lnTo>
                  <a:pt x="608" y="320"/>
                </a:lnTo>
                <a:lnTo>
                  <a:pt x="614" y="322"/>
                </a:lnTo>
                <a:lnTo>
                  <a:pt x="621" y="323"/>
                </a:lnTo>
                <a:lnTo>
                  <a:pt x="627" y="326"/>
                </a:lnTo>
                <a:lnTo>
                  <a:pt x="632" y="329"/>
                </a:lnTo>
                <a:lnTo>
                  <a:pt x="637" y="333"/>
                </a:lnTo>
                <a:lnTo>
                  <a:pt x="643" y="336"/>
                </a:lnTo>
                <a:lnTo>
                  <a:pt x="649" y="342"/>
                </a:lnTo>
                <a:lnTo>
                  <a:pt x="654" y="348"/>
                </a:lnTo>
                <a:lnTo>
                  <a:pt x="661" y="354"/>
                </a:lnTo>
                <a:lnTo>
                  <a:pt x="667" y="358"/>
                </a:lnTo>
                <a:lnTo>
                  <a:pt x="675" y="380"/>
                </a:lnTo>
                <a:lnTo>
                  <a:pt x="672" y="384"/>
                </a:lnTo>
                <a:lnTo>
                  <a:pt x="666" y="388"/>
                </a:lnTo>
                <a:lnTo>
                  <a:pt x="660" y="391"/>
                </a:lnTo>
                <a:lnTo>
                  <a:pt x="656" y="393"/>
                </a:lnTo>
                <a:lnTo>
                  <a:pt x="653" y="395"/>
                </a:lnTo>
                <a:lnTo>
                  <a:pt x="652" y="399"/>
                </a:lnTo>
                <a:lnTo>
                  <a:pt x="653" y="403"/>
                </a:lnTo>
                <a:lnTo>
                  <a:pt x="656" y="406"/>
                </a:lnTo>
                <a:lnTo>
                  <a:pt x="653" y="417"/>
                </a:lnTo>
                <a:lnTo>
                  <a:pt x="651" y="430"/>
                </a:lnTo>
                <a:lnTo>
                  <a:pt x="650" y="443"/>
                </a:lnTo>
                <a:lnTo>
                  <a:pt x="651" y="453"/>
                </a:lnTo>
                <a:lnTo>
                  <a:pt x="651" y="465"/>
                </a:lnTo>
                <a:lnTo>
                  <a:pt x="657" y="473"/>
                </a:lnTo>
                <a:lnTo>
                  <a:pt x="665" y="479"/>
                </a:lnTo>
                <a:lnTo>
                  <a:pt x="675" y="482"/>
                </a:lnTo>
                <a:lnTo>
                  <a:pt x="676" y="488"/>
                </a:lnTo>
                <a:lnTo>
                  <a:pt x="675" y="494"/>
                </a:lnTo>
                <a:lnTo>
                  <a:pt x="673" y="498"/>
                </a:lnTo>
                <a:lnTo>
                  <a:pt x="670" y="502"/>
                </a:lnTo>
                <a:lnTo>
                  <a:pt x="672" y="502"/>
                </a:lnTo>
                <a:lnTo>
                  <a:pt x="671" y="509"/>
                </a:lnTo>
                <a:lnTo>
                  <a:pt x="682" y="515"/>
                </a:lnTo>
                <a:lnTo>
                  <a:pt x="693" y="519"/>
                </a:lnTo>
                <a:lnTo>
                  <a:pt x="704" y="524"/>
                </a:lnTo>
                <a:lnTo>
                  <a:pt x="716" y="527"/>
                </a:lnTo>
                <a:lnTo>
                  <a:pt x="728" y="531"/>
                </a:lnTo>
                <a:lnTo>
                  <a:pt x="739" y="534"/>
                </a:lnTo>
                <a:lnTo>
                  <a:pt x="751" y="538"/>
                </a:lnTo>
                <a:lnTo>
                  <a:pt x="762" y="542"/>
                </a:lnTo>
                <a:lnTo>
                  <a:pt x="775" y="549"/>
                </a:lnTo>
                <a:lnTo>
                  <a:pt x="789" y="553"/>
                </a:lnTo>
                <a:lnTo>
                  <a:pt x="803" y="555"/>
                </a:lnTo>
                <a:lnTo>
                  <a:pt x="818" y="555"/>
                </a:lnTo>
                <a:lnTo>
                  <a:pt x="833" y="555"/>
                </a:lnTo>
                <a:lnTo>
                  <a:pt x="848" y="554"/>
                </a:lnTo>
                <a:lnTo>
                  <a:pt x="863" y="554"/>
                </a:lnTo>
                <a:lnTo>
                  <a:pt x="878" y="554"/>
                </a:lnTo>
                <a:lnTo>
                  <a:pt x="881" y="550"/>
                </a:lnTo>
                <a:lnTo>
                  <a:pt x="875" y="547"/>
                </a:lnTo>
                <a:lnTo>
                  <a:pt x="868" y="546"/>
                </a:lnTo>
                <a:lnTo>
                  <a:pt x="860" y="546"/>
                </a:lnTo>
                <a:lnTo>
                  <a:pt x="852" y="547"/>
                </a:lnTo>
                <a:lnTo>
                  <a:pt x="846" y="539"/>
                </a:lnTo>
                <a:lnTo>
                  <a:pt x="847" y="528"/>
                </a:lnTo>
                <a:lnTo>
                  <a:pt x="850" y="517"/>
                </a:lnTo>
                <a:lnTo>
                  <a:pt x="850" y="506"/>
                </a:lnTo>
                <a:lnTo>
                  <a:pt x="852" y="493"/>
                </a:lnTo>
                <a:lnTo>
                  <a:pt x="853" y="460"/>
                </a:lnTo>
                <a:lnTo>
                  <a:pt x="852" y="425"/>
                </a:lnTo>
                <a:lnTo>
                  <a:pt x="846" y="403"/>
                </a:lnTo>
                <a:lnTo>
                  <a:pt x="846" y="399"/>
                </a:lnTo>
                <a:lnTo>
                  <a:pt x="847" y="394"/>
                </a:lnTo>
                <a:lnTo>
                  <a:pt x="848" y="388"/>
                </a:lnTo>
                <a:lnTo>
                  <a:pt x="850" y="385"/>
                </a:lnTo>
                <a:lnTo>
                  <a:pt x="857" y="384"/>
                </a:lnTo>
                <a:lnTo>
                  <a:pt x="864" y="384"/>
                </a:lnTo>
                <a:lnTo>
                  <a:pt x="871" y="384"/>
                </a:lnTo>
                <a:lnTo>
                  <a:pt x="878" y="384"/>
                </a:lnTo>
                <a:lnTo>
                  <a:pt x="884" y="384"/>
                </a:lnTo>
                <a:lnTo>
                  <a:pt x="891" y="384"/>
                </a:lnTo>
                <a:lnTo>
                  <a:pt x="898" y="384"/>
                </a:lnTo>
                <a:lnTo>
                  <a:pt x="905" y="382"/>
                </a:lnTo>
                <a:lnTo>
                  <a:pt x="918" y="365"/>
                </a:lnTo>
                <a:lnTo>
                  <a:pt x="921" y="363"/>
                </a:lnTo>
                <a:lnTo>
                  <a:pt x="925" y="360"/>
                </a:lnTo>
                <a:lnTo>
                  <a:pt x="927" y="357"/>
                </a:lnTo>
                <a:lnTo>
                  <a:pt x="928" y="354"/>
                </a:lnTo>
                <a:lnTo>
                  <a:pt x="922" y="352"/>
                </a:lnTo>
                <a:lnTo>
                  <a:pt x="917" y="354"/>
                </a:lnTo>
                <a:lnTo>
                  <a:pt x="911" y="354"/>
                </a:lnTo>
                <a:lnTo>
                  <a:pt x="906" y="355"/>
                </a:lnTo>
                <a:lnTo>
                  <a:pt x="900" y="355"/>
                </a:lnTo>
                <a:lnTo>
                  <a:pt x="897" y="354"/>
                </a:lnTo>
                <a:lnTo>
                  <a:pt x="893" y="350"/>
                </a:lnTo>
                <a:lnTo>
                  <a:pt x="890" y="345"/>
                </a:lnTo>
                <a:lnTo>
                  <a:pt x="893" y="336"/>
                </a:lnTo>
                <a:lnTo>
                  <a:pt x="900" y="328"/>
                </a:lnTo>
                <a:lnTo>
                  <a:pt x="906" y="320"/>
                </a:lnTo>
                <a:lnTo>
                  <a:pt x="905" y="308"/>
                </a:lnTo>
                <a:lnTo>
                  <a:pt x="906" y="308"/>
                </a:lnTo>
                <a:lnTo>
                  <a:pt x="908" y="294"/>
                </a:lnTo>
                <a:lnTo>
                  <a:pt x="912" y="279"/>
                </a:lnTo>
                <a:lnTo>
                  <a:pt x="918" y="267"/>
                </a:lnTo>
                <a:lnTo>
                  <a:pt x="927" y="257"/>
                </a:lnTo>
                <a:lnTo>
                  <a:pt x="923" y="254"/>
                </a:lnTo>
                <a:lnTo>
                  <a:pt x="918" y="259"/>
                </a:lnTo>
                <a:lnTo>
                  <a:pt x="913" y="262"/>
                </a:lnTo>
                <a:lnTo>
                  <a:pt x="908" y="265"/>
                </a:lnTo>
                <a:lnTo>
                  <a:pt x="904" y="269"/>
                </a:lnTo>
                <a:lnTo>
                  <a:pt x="899" y="272"/>
                </a:lnTo>
                <a:lnTo>
                  <a:pt x="896" y="276"/>
                </a:lnTo>
                <a:lnTo>
                  <a:pt x="891" y="279"/>
                </a:lnTo>
                <a:lnTo>
                  <a:pt x="885" y="284"/>
                </a:lnTo>
                <a:lnTo>
                  <a:pt x="872" y="292"/>
                </a:lnTo>
                <a:lnTo>
                  <a:pt x="860" y="300"/>
                </a:lnTo>
                <a:lnTo>
                  <a:pt x="848" y="308"/>
                </a:lnTo>
                <a:lnTo>
                  <a:pt x="837" y="316"/>
                </a:lnTo>
                <a:lnTo>
                  <a:pt x="825" y="325"/>
                </a:lnTo>
                <a:lnTo>
                  <a:pt x="813" y="333"/>
                </a:lnTo>
                <a:lnTo>
                  <a:pt x="801" y="341"/>
                </a:lnTo>
                <a:lnTo>
                  <a:pt x="788" y="349"/>
                </a:lnTo>
                <a:lnTo>
                  <a:pt x="774" y="354"/>
                </a:lnTo>
                <a:lnTo>
                  <a:pt x="761" y="358"/>
                </a:lnTo>
                <a:lnTo>
                  <a:pt x="747" y="364"/>
                </a:lnTo>
                <a:lnTo>
                  <a:pt x="733" y="370"/>
                </a:lnTo>
                <a:lnTo>
                  <a:pt x="721" y="374"/>
                </a:lnTo>
                <a:lnTo>
                  <a:pt x="705" y="378"/>
                </a:lnTo>
                <a:lnTo>
                  <a:pt x="690" y="380"/>
                </a:lnTo>
                <a:lnTo>
                  <a:pt x="675" y="380"/>
                </a:lnTo>
                <a:lnTo>
                  <a:pt x="667" y="358"/>
                </a:lnTo>
                <a:lnTo>
                  <a:pt x="678" y="358"/>
                </a:lnTo>
                <a:lnTo>
                  <a:pt x="689" y="357"/>
                </a:lnTo>
                <a:lnTo>
                  <a:pt x="700" y="356"/>
                </a:lnTo>
                <a:lnTo>
                  <a:pt x="711" y="355"/>
                </a:lnTo>
                <a:lnTo>
                  <a:pt x="722" y="352"/>
                </a:lnTo>
                <a:lnTo>
                  <a:pt x="732" y="349"/>
                </a:lnTo>
                <a:lnTo>
                  <a:pt x="741" y="345"/>
                </a:lnTo>
                <a:lnTo>
                  <a:pt x="751" y="341"/>
                </a:lnTo>
                <a:lnTo>
                  <a:pt x="774" y="333"/>
                </a:lnTo>
                <a:lnTo>
                  <a:pt x="796" y="322"/>
                </a:lnTo>
                <a:lnTo>
                  <a:pt x="816" y="311"/>
                </a:lnTo>
                <a:lnTo>
                  <a:pt x="835" y="297"/>
                </a:lnTo>
                <a:lnTo>
                  <a:pt x="853" y="283"/>
                </a:lnTo>
                <a:lnTo>
                  <a:pt x="871" y="268"/>
                </a:lnTo>
                <a:lnTo>
                  <a:pt x="890" y="254"/>
                </a:lnTo>
                <a:lnTo>
                  <a:pt x="910" y="240"/>
                </a:lnTo>
                <a:lnTo>
                  <a:pt x="915" y="234"/>
                </a:lnTo>
                <a:lnTo>
                  <a:pt x="921" y="226"/>
                </a:lnTo>
                <a:lnTo>
                  <a:pt x="927" y="219"/>
                </a:lnTo>
                <a:lnTo>
                  <a:pt x="935" y="213"/>
                </a:lnTo>
                <a:lnTo>
                  <a:pt x="941" y="213"/>
                </a:lnTo>
                <a:lnTo>
                  <a:pt x="947" y="213"/>
                </a:lnTo>
                <a:lnTo>
                  <a:pt x="952" y="216"/>
                </a:lnTo>
                <a:lnTo>
                  <a:pt x="955" y="221"/>
                </a:lnTo>
                <a:lnTo>
                  <a:pt x="955" y="227"/>
                </a:lnTo>
                <a:lnTo>
                  <a:pt x="955" y="233"/>
                </a:lnTo>
                <a:lnTo>
                  <a:pt x="956" y="239"/>
                </a:lnTo>
                <a:lnTo>
                  <a:pt x="961" y="242"/>
                </a:lnTo>
                <a:lnTo>
                  <a:pt x="964" y="250"/>
                </a:lnTo>
                <a:lnTo>
                  <a:pt x="969" y="259"/>
                </a:lnTo>
                <a:lnTo>
                  <a:pt x="976" y="265"/>
                </a:lnTo>
                <a:lnTo>
                  <a:pt x="983" y="272"/>
                </a:lnTo>
                <a:lnTo>
                  <a:pt x="987" y="291"/>
                </a:lnTo>
                <a:lnTo>
                  <a:pt x="988" y="311"/>
                </a:lnTo>
                <a:lnTo>
                  <a:pt x="992" y="327"/>
                </a:lnTo>
                <a:lnTo>
                  <a:pt x="1006" y="340"/>
                </a:lnTo>
                <a:lnTo>
                  <a:pt x="1007" y="342"/>
                </a:lnTo>
                <a:lnTo>
                  <a:pt x="1006" y="344"/>
                </a:lnTo>
                <a:lnTo>
                  <a:pt x="1005" y="347"/>
                </a:lnTo>
                <a:lnTo>
                  <a:pt x="1003" y="350"/>
                </a:lnTo>
                <a:lnTo>
                  <a:pt x="957" y="352"/>
                </a:lnTo>
                <a:lnTo>
                  <a:pt x="961" y="359"/>
                </a:lnTo>
                <a:lnTo>
                  <a:pt x="970" y="365"/>
                </a:lnTo>
                <a:lnTo>
                  <a:pt x="979" y="371"/>
                </a:lnTo>
                <a:lnTo>
                  <a:pt x="983" y="380"/>
                </a:lnTo>
                <a:lnTo>
                  <a:pt x="987" y="379"/>
                </a:lnTo>
                <a:lnTo>
                  <a:pt x="988" y="379"/>
                </a:lnTo>
                <a:lnTo>
                  <a:pt x="993" y="380"/>
                </a:lnTo>
                <a:lnTo>
                  <a:pt x="1000" y="381"/>
                </a:lnTo>
                <a:lnTo>
                  <a:pt x="1008" y="382"/>
                </a:lnTo>
                <a:lnTo>
                  <a:pt x="1016" y="384"/>
                </a:lnTo>
                <a:lnTo>
                  <a:pt x="1026" y="385"/>
                </a:lnTo>
                <a:lnTo>
                  <a:pt x="1034" y="385"/>
                </a:lnTo>
                <a:lnTo>
                  <a:pt x="1042" y="384"/>
                </a:lnTo>
                <a:lnTo>
                  <a:pt x="1046" y="387"/>
                </a:lnTo>
                <a:lnTo>
                  <a:pt x="1049" y="391"/>
                </a:lnTo>
                <a:lnTo>
                  <a:pt x="1050" y="396"/>
                </a:lnTo>
                <a:lnTo>
                  <a:pt x="1050" y="402"/>
                </a:lnTo>
                <a:lnTo>
                  <a:pt x="1043" y="413"/>
                </a:lnTo>
                <a:lnTo>
                  <a:pt x="1041" y="426"/>
                </a:lnTo>
                <a:lnTo>
                  <a:pt x="1041" y="443"/>
                </a:lnTo>
                <a:lnTo>
                  <a:pt x="1039" y="457"/>
                </a:lnTo>
                <a:lnTo>
                  <a:pt x="1041" y="467"/>
                </a:lnTo>
                <a:lnTo>
                  <a:pt x="1039" y="476"/>
                </a:lnTo>
                <a:lnTo>
                  <a:pt x="1038" y="486"/>
                </a:lnTo>
                <a:lnTo>
                  <a:pt x="1039" y="497"/>
                </a:lnTo>
                <a:lnTo>
                  <a:pt x="1042" y="541"/>
                </a:lnTo>
                <a:lnTo>
                  <a:pt x="1038" y="545"/>
                </a:lnTo>
                <a:lnTo>
                  <a:pt x="1034" y="545"/>
                </a:lnTo>
                <a:lnTo>
                  <a:pt x="1029" y="544"/>
                </a:lnTo>
                <a:lnTo>
                  <a:pt x="1024" y="545"/>
                </a:lnTo>
                <a:lnTo>
                  <a:pt x="1019" y="545"/>
                </a:lnTo>
                <a:lnTo>
                  <a:pt x="1013" y="544"/>
                </a:lnTo>
                <a:lnTo>
                  <a:pt x="1007" y="545"/>
                </a:lnTo>
                <a:lnTo>
                  <a:pt x="1003" y="548"/>
                </a:lnTo>
                <a:lnTo>
                  <a:pt x="1007" y="552"/>
                </a:lnTo>
                <a:lnTo>
                  <a:pt x="1012" y="554"/>
                </a:lnTo>
                <a:lnTo>
                  <a:pt x="1016" y="554"/>
                </a:lnTo>
                <a:lnTo>
                  <a:pt x="1022" y="553"/>
                </a:lnTo>
                <a:lnTo>
                  <a:pt x="1028" y="553"/>
                </a:lnTo>
                <a:lnTo>
                  <a:pt x="1034" y="553"/>
                </a:lnTo>
                <a:lnTo>
                  <a:pt x="1038" y="553"/>
                </a:lnTo>
                <a:lnTo>
                  <a:pt x="1043" y="555"/>
                </a:lnTo>
                <a:lnTo>
                  <a:pt x="1050" y="554"/>
                </a:lnTo>
                <a:lnTo>
                  <a:pt x="1057" y="553"/>
                </a:lnTo>
                <a:lnTo>
                  <a:pt x="1060" y="549"/>
                </a:lnTo>
                <a:lnTo>
                  <a:pt x="1059" y="542"/>
                </a:lnTo>
                <a:lnTo>
                  <a:pt x="1060" y="534"/>
                </a:lnTo>
                <a:lnTo>
                  <a:pt x="1060" y="525"/>
                </a:lnTo>
                <a:lnTo>
                  <a:pt x="1060" y="517"/>
                </a:lnTo>
                <a:lnTo>
                  <a:pt x="1063" y="510"/>
                </a:lnTo>
                <a:lnTo>
                  <a:pt x="1063" y="489"/>
                </a:lnTo>
                <a:lnTo>
                  <a:pt x="1064" y="489"/>
                </a:lnTo>
                <a:lnTo>
                  <a:pt x="1066" y="467"/>
                </a:lnTo>
                <a:lnTo>
                  <a:pt x="1067" y="443"/>
                </a:lnTo>
                <a:lnTo>
                  <a:pt x="1070" y="420"/>
                </a:lnTo>
                <a:lnTo>
                  <a:pt x="1072" y="395"/>
                </a:lnTo>
                <a:lnTo>
                  <a:pt x="1077" y="372"/>
                </a:lnTo>
                <a:lnTo>
                  <a:pt x="1085" y="351"/>
                </a:lnTo>
                <a:lnTo>
                  <a:pt x="1095" y="333"/>
                </a:lnTo>
                <a:lnTo>
                  <a:pt x="1111" y="318"/>
                </a:lnTo>
                <a:lnTo>
                  <a:pt x="1118" y="312"/>
                </a:lnTo>
                <a:lnTo>
                  <a:pt x="1125" y="307"/>
                </a:lnTo>
                <a:lnTo>
                  <a:pt x="1132" y="301"/>
                </a:lnTo>
                <a:lnTo>
                  <a:pt x="1139" y="297"/>
                </a:lnTo>
                <a:lnTo>
                  <a:pt x="1146" y="292"/>
                </a:lnTo>
                <a:lnTo>
                  <a:pt x="1154" y="287"/>
                </a:lnTo>
                <a:lnTo>
                  <a:pt x="1163" y="285"/>
                </a:lnTo>
                <a:lnTo>
                  <a:pt x="1174" y="283"/>
                </a:lnTo>
                <a:lnTo>
                  <a:pt x="1158" y="311"/>
                </a:lnTo>
                <a:lnTo>
                  <a:pt x="1148" y="314"/>
                </a:lnTo>
                <a:lnTo>
                  <a:pt x="1140" y="319"/>
                </a:lnTo>
                <a:lnTo>
                  <a:pt x="1132" y="325"/>
                </a:lnTo>
                <a:lnTo>
                  <a:pt x="1126" y="330"/>
                </a:lnTo>
                <a:lnTo>
                  <a:pt x="1119" y="338"/>
                </a:lnTo>
                <a:lnTo>
                  <a:pt x="1115" y="345"/>
                </a:lnTo>
                <a:lnTo>
                  <a:pt x="1109" y="354"/>
                </a:lnTo>
                <a:lnTo>
                  <a:pt x="1104" y="360"/>
                </a:lnTo>
                <a:lnTo>
                  <a:pt x="1096" y="394"/>
                </a:lnTo>
                <a:lnTo>
                  <a:pt x="1092" y="429"/>
                </a:lnTo>
                <a:lnTo>
                  <a:pt x="1088" y="465"/>
                </a:lnTo>
                <a:lnTo>
                  <a:pt x="1086" y="499"/>
                </a:lnTo>
                <a:lnTo>
                  <a:pt x="1086" y="513"/>
                </a:lnTo>
                <a:lnTo>
                  <a:pt x="1086" y="528"/>
                </a:lnTo>
                <a:lnTo>
                  <a:pt x="1088" y="541"/>
                </a:lnTo>
                <a:lnTo>
                  <a:pt x="1095" y="550"/>
                </a:lnTo>
                <a:lnTo>
                  <a:pt x="1099" y="532"/>
                </a:lnTo>
                <a:lnTo>
                  <a:pt x="1107" y="517"/>
                </a:lnTo>
                <a:lnTo>
                  <a:pt x="1114" y="501"/>
                </a:lnTo>
                <a:lnTo>
                  <a:pt x="1116" y="481"/>
                </a:lnTo>
                <a:lnTo>
                  <a:pt x="1114" y="465"/>
                </a:lnTo>
                <a:lnTo>
                  <a:pt x="1115" y="447"/>
                </a:lnTo>
                <a:lnTo>
                  <a:pt x="1114" y="431"/>
                </a:lnTo>
                <a:lnTo>
                  <a:pt x="1104" y="418"/>
                </a:lnTo>
                <a:lnTo>
                  <a:pt x="1102" y="409"/>
                </a:lnTo>
                <a:lnTo>
                  <a:pt x="1103" y="402"/>
                </a:lnTo>
                <a:lnTo>
                  <a:pt x="1108" y="398"/>
                </a:lnTo>
                <a:lnTo>
                  <a:pt x="1114" y="394"/>
                </a:lnTo>
                <a:lnTo>
                  <a:pt x="1121" y="391"/>
                </a:lnTo>
                <a:lnTo>
                  <a:pt x="1128" y="387"/>
                </a:lnTo>
                <a:lnTo>
                  <a:pt x="1133" y="381"/>
                </a:lnTo>
                <a:lnTo>
                  <a:pt x="1137" y="376"/>
                </a:lnTo>
                <a:lnTo>
                  <a:pt x="1144" y="370"/>
                </a:lnTo>
                <a:lnTo>
                  <a:pt x="1152" y="365"/>
                </a:lnTo>
                <a:lnTo>
                  <a:pt x="1160" y="360"/>
                </a:lnTo>
                <a:lnTo>
                  <a:pt x="1166" y="354"/>
                </a:lnTo>
                <a:lnTo>
                  <a:pt x="1163" y="350"/>
                </a:lnTo>
                <a:lnTo>
                  <a:pt x="1160" y="348"/>
                </a:lnTo>
                <a:lnTo>
                  <a:pt x="1157" y="347"/>
                </a:lnTo>
                <a:lnTo>
                  <a:pt x="1152" y="347"/>
                </a:lnTo>
                <a:lnTo>
                  <a:pt x="1150" y="344"/>
                </a:lnTo>
                <a:lnTo>
                  <a:pt x="1147" y="341"/>
                </a:lnTo>
                <a:lnTo>
                  <a:pt x="1146" y="337"/>
                </a:lnTo>
                <a:lnTo>
                  <a:pt x="1146" y="331"/>
                </a:lnTo>
                <a:lnTo>
                  <a:pt x="1150" y="329"/>
                </a:lnTo>
                <a:lnTo>
                  <a:pt x="1154" y="327"/>
                </a:lnTo>
                <a:lnTo>
                  <a:pt x="1160" y="326"/>
                </a:lnTo>
                <a:lnTo>
                  <a:pt x="1165" y="326"/>
                </a:lnTo>
                <a:lnTo>
                  <a:pt x="1170" y="326"/>
                </a:lnTo>
                <a:lnTo>
                  <a:pt x="1175" y="326"/>
                </a:lnTo>
                <a:lnTo>
                  <a:pt x="1180" y="325"/>
                </a:lnTo>
                <a:lnTo>
                  <a:pt x="1184" y="323"/>
                </a:lnTo>
                <a:lnTo>
                  <a:pt x="1181" y="320"/>
                </a:lnTo>
                <a:lnTo>
                  <a:pt x="1179" y="314"/>
                </a:lnTo>
                <a:lnTo>
                  <a:pt x="1176" y="309"/>
                </a:lnTo>
                <a:lnTo>
                  <a:pt x="1173" y="306"/>
                </a:lnTo>
                <a:lnTo>
                  <a:pt x="1168" y="307"/>
                </a:lnTo>
                <a:lnTo>
                  <a:pt x="1165" y="308"/>
                </a:lnTo>
                <a:lnTo>
                  <a:pt x="1161" y="311"/>
                </a:lnTo>
                <a:lnTo>
                  <a:pt x="1161" y="315"/>
                </a:lnTo>
                <a:lnTo>
                  <a:pt x="1160" y="314"/>
                </a:lnTo>
                <a:lnTo>
                  <a:pt x="1158" y="314"/>
                </a:lnTo>
                <a:lnTo>
                  <a:pt x="1157" y="313"/>
                </a:lnTo>
                <a:lnTo>
                  <a:pt x="1158" y="311"/>
                </a:lnTo>
                <a:lnTo>
                  <a:pt x="1174" y="283"/>
                </a:lnTo>
                <a:lnTo>
                  <a:pt x="1182" y="278"/>
                </a:lnTo>
                <a:lnTo>
                  <a:pt x="1187" y="254"/>
                </a:lnTo>
                <a:lnTo>
                  <a:pt x="1192" y="225"/>
                </a:lnTo>
                <a:lnTo>
                  <a:pt x="1198" y="201"/>
                </a:lnTo>
                <a:lnTo>
                  <a:pt x="1204" y="190"/>
                </a:lnTo>
                <a:lnTo>
                  <a:pt x="1215" y="204"/>
                </a:lnTo>
                <a:lnTo>
                  <a:pt x="1221" y="231"/>
                </a:lnTo>
                <a:lnTo>
                  <a:pt x="1226" y="262"/>
                </a:lnTo>
                <a:lnTo>
                  <a:pt x="1228" y="286"/>
                </a:lnTo>
                <a:lnTo>
                  <a:pt x="1230" y="291"/>
                </a:lnTo>
                <a:lnTo>
                  <a:pt x="1231" y="297"/>
                </a:lnTo>
                <a:lnTo>
                  <a:pt x="1230" y="303"/>
                </a:lnTo>
                <a:lnTo>
                  <a:pt x="1228" y="307"/>
                </a:lnTo>
                <a:lnTo>
                  <a:pt x="1225" y="311"/>
                </a:lnTo>
                <a:lnTo>
                  <a:pt x="1223" y="314"/>
                </a:lnTo>
                <a:lnTo>
                  <a:pt x="1221" y="318"/>
                </a:lnTo>
                <a:lnTo>
                  <a:pt x="1220" y="321"/>
                </a:lnTo>
                <a:lnTo>
                  <a:pt x="1225" y="325"/>
                </a:lnTo>
                <a:lnTo>
                  <a:pt x="1231" y="326"/>
                </a:lnTo>
                <a:lnTo>
                  <a:pt x="1238" y="326"/>
                </a:lnTo>
                <a:lnTo>
                  <a:pt x="1245" y="326"/>
                </a:lnTo>
                <a:lnTo>
                  <a:pt x="1252" y="327"/>
                </a:lnTo>
                <a:lnTo>
                  <a:pt x="1255" y="329"/>
                </a:lnTo>
                <a:lnTo>
                  <a:pt x="1256" y="334"/>
                </a:lnTo>
                <a:lnTo>
                  <a:pt x="1254" y="342"/>
                </a:lnTo>
                <a:lnTo>
                  <a:pt x="1252" y="345"/>
                </a:lnTo>
                <a:lnTo>
                  <a:pt x="1249" y="348"/>
                </a:lnTo>
                <a:lnTo>
                  <a:pt x="1248" y="351"/>
                </a:lnTo>
                <a:lnTo>
                  <a:pt x="1248" y="355"/>
                </a:lnTo>
                <a:lnTo>
                  <a:pt x="1256" y="358"/>
                </a:lnTo>
                <a:lnTo>
                  <a:pt x="1262" y="364"/>
                </a:lnTo>
                <a:lnTo>
                  <a:pt x="1267" y="372"/>
                </a:lnTo>
                <a:lnTo>
                  <a:pt x="1271" y="379"/>
                </a:lnTo>
                <a:lnTo>
                  <a:pt x="1275" y="387"/>
                </a:lnTo>
                <a:lnTo>
                  <a:pt x="1281" y="394"/>
                </a:lnTo>
                <a:lnTo>
                  <a:pt x="1286" y="399"/>
                </a:lnTo>
                <a:lnTo>
                  <a:pt x="1296" y="402"/>
                </a:lnTo>
                <a:lnTo>
                  <a:pt x="1299" y="406"/>
                </a:lnTo>
                <a:lnTo>
                  <a:pt x="1300" y="410"/>
                </a:lnTo>
                <a:lnTo>
                  <a:pt x="1301" y="415"/>
                </a:lnTo>
                <a:lnTo>
                  <a:pt x="1301" y="417"/>
                </a:lnTo>
                <a:lnTo>
                  <a:pt x="1299" y="422"/>
                </a:lnTo>
                <a:lnTo>
                  <a:pt x="1297" y="425"/>
                </a:lnTo>
                <a:lnTo>
                  <a:pt x="1292" y="429"/>
                </a:lnTo>
                <a:lnTo>
                  <a:pt x="1288" y="432"/>
                </a:lnTo>
                <a:lnTo>
                  <a:pt x="1285" y="451"/>
                </a:lnTo>
                <a:lnTo>
                  <a:pt x="1285" y="469"/>
                </a:lnTo>
                <a:lnTo>
                  <a:pt x="1285" y="489"/>
                </a:lnTo>
                <a:lnTo>
                  <a:pt x="1286" y="506"/>
                </a:lnTo>
                <a:lnTo>
                  <a:pt x="1293" y="511"/>
                </a:lnTo>
                <a:lnTo>
                  <a:pt x="1299" y="518"/>
                </a:lnTo>
                <a:lnTo>
                  <a:pt x="1301" y="527"/>
                </a:lnTo>
                <a:lnTo>
                  <a:pt x="1304" y="535"/>
                </a:lnTo>
                <a:lnTo>
                  <a:pt x="1307" y="544"/>
                </a:lnTo>
                <a:lnTo>
                  <a:pt x="1311" y="550"/>
                </a:lnTo>
                <a:lnTo>
                  <a:pt x="1318" y="554"/>
                </a:lnTo>
                <a:lnTo>
                  <a:pt x="1327" y="553"/>
                </a:lnTo>
                <a:lnTo>
                  <a:pt x="1340" y="553"/>
                </a:lnTo>
                <a:lnTo>
                  <a:pt x="1352" y="554"/>
                </a:lnTo>
                <a:lnTo>
                  <a:pt x="1365" y="554"/>
                </a:lnTo>
                <a:lnTo>
                  <a:pt x="1378" y="554"/>
                </a:lnTo>
                <a:lnTo>
                  <a:pt x="1391" y="554"/>
                </a:lnTo>
                <a:lnTo>
                  <a:pt x="1405" y="554"/>
                </a:lnTo>
                <a:lnTo>
                  <a:pt x="1417" y="554"/>
                </a:lnTo>
                <a:lnTo>
                  <a:pt x="1431" y="553"/>
                </a:lnTo>
                <a:lnTo>
                  <a:pt x="1444" y="553"/>
                </a:lnTo>
                <a:lnTo>
                  <a:pt x="1458" y="553"/>
                </a:lnTo>
                <a:lnTo>
                  <a:pt x="1472" y="553"/>
                </a:lnTo>
                <a:lnTo>
                  <a:pt x="1485" y="553"/>
                </a:lnTo>
                <a:lnTo>
                  <a:pt x="1499" y="553"/>
                </a:lnTo>
                <a:lnTo>
                  <a:pt x="1513" y="553"/>
                </a:lnTo>
                <a:lnTo>
                  <a:pt x="1525" y="554"/>
                </a:lnTo>
                <a:lnTo>
                  <a:pt x="1539" y="554"/>
                </a:lnTo>
                <a:lnTo>
                  <a:pt x="1545" y="553"/>
                </a:lnTo>
                <a:lnTo>
                  <a:pt x="1546" y="548"/>
                </a:lnTo>
                <a:lnTo>
                  <a:pt x="1545" y="544"/>
                </a:lnTo>
                <a:lnTo>
                  <a:pt x="1545" y="538"/>
                </a:lnTo>
                <a:lnTo>
                  <a:pt x="1536" y="532"/>
                </a:lnTo>
                <a:lnTo>
                  <a:pt x="1533" y="524"/>
                </a:lnTo>
                <a:lnTo>
                  <a:pt x="1533" y="515"/>
                </a:lnTo>
                <a:lnTo>
                  <a:pt x="1533" y="504"/>
                </a:lnTo>
                <a:lnTo>
                  <a:pt x="1540" y="498"/>
                </a:lnTo>
                <a:lnTo>
                  <a:pt x="1542" y="491"/>
                </a:lnTo>
                <a:lnTo>
                  <a:pt x="1539" y="482"/>
                </a:lnTo>
                <a:lnTo>
                  <a:pt x="1539" y="473"/>
                </a:lnTo>
                <a:lnTo>
                  <a:pt x="1526" y="435"/>
                </a:lnTo>
                <a:lnTo>
                  <a:pt x="1510" y="382"/>
                </a:lnTo>
                <a:lnTo>
                  <a:pt x="1492" y="322"/>
                </a:lnTo>
                <a:lnTo>
                  <a:pt x="1473" y="260"/>
                </a:lnTo>
                <a:lnTo>
                  <a:pt x="1455" y="202"/>
                </a:lnTo>
                <a:lnTo>
                  <a:pt x="1439" y="153"/>
                </a:lnTo>
                <a:lnTo>
                  <a:pt x="1429" y="119"/>
                </a:lnTo>
                <a:lnTo>
                  <a:pt x="1424" y="107"/>
                </a:lnTo>
                <a:lnTo>
                  <a:pt x="1420" y="104"/>
                </a:lnTo>
                <a:lnTo>
                  <a:pt x="1417" y="81"/>
                </a:lnTo>
                <a:lnTo>
                  <a:pt x="1417" y="55"/>
                </a:lnTo>
                <a:lnTo>
                  <a:pt x="1417" y="28"/>
                </a:lnTo>
                <a:lnTo>
                  <a:pt x="1417" y="2"/>
                </a:lnTo>
                <a:lnTo>
                  <a:pt x="1429" y="2"/>
                </a:lnTo>
                <a:lnTo>
                  <a:pt x="1445" y="1"/>
                </a:lnTo>
                <a:lnTo>
                  <a:pt x="1465" y="1"/>
                </a:lnTo>
                <a:lnTo>
                  <a:pt x="1488" y="1"/>
                </a:lnTo>
                <a:lnTo>
                  <a:pt x="1516" y="0"/>
                </a:lnTo>
                <a:lnTo>
                  <a:pt x="1545" y="0"/>
                </a:lnTo>
                <a:lnTo>
                  <a:pt x="1575" y="0"/>
                </a:lnTo>
                <a:lnTo>
                  <a:pt x="1608" y="0"/>
                </a:lnTo>
                <a:lnTo>
                  <a:pt x="1640" y="0"/>
                </a:lnTo>
                <a:lnTo>
                  <a:pt x="1673" y="0"/>
                </a:lnTo>
                <a:lnTo>
                  <a:pt x="1705" y="0"/>
                </a:lnTo>
                <a:lnTo>
                  <a:pt x="1735" y="0"/>
                </a:lnTo>
                <a:lnTo>
                  <a:pt x="1764" y="0"/>
                </a:lnTo>
                <a:lnTo>
                  <a:pt x="1791" y="0"/>
                </a:lnTo>
                <a:lnTo>
                  <a:pt x="1815" y="0"/>
                </a:lnTo>
                <a:lnTo>
                  <a:pt x="1835" y="0"/>
                </a:lnTo>
                <a:lnTo>
                  <a:pt x="1837" y="16"/>
                </a:lnTo>
                <a:lnTo>
                  <a:pt x="1836" y="48"/>
                </a:lnTo>
                <a:lnTo>
                  <a:pt x="1834" y="78"/>
                </a:lnTo>
                <a:lnTo>
                  <a:pt x="1833" y="91"/>
                </a:lnTo>
                <a:lnTo>
                  <a:pt x="1827" y="99"/>
                </a:lnTo>
                <a:lnTo>
                  <a:pt x="1821" y="104"/>
                </a:lnTo>
                <a:lnTo>
                  <a:pt x="1814" y="110"/>
                </a:lnTo>
                <a:lnTo>
                  <a:pt x="1808" y="118"/>
                </a:lnTo>
                <a:lnTo>
                  <a:pt x="1802" y="141"/>
                </a:lnTo>
                <a:lnTo>
                  <a:pt x="1793" y="180"/>
                </a:lnTo>
                <a:lnTo>
                  <a:pt x="1780" y="228"/>
                </a:lnTo>
                <a:lnTo>
                  <a:pt x="1766" y="283"/>
                </a:lnTo>
                <a:lnTo>
                  <a:pt x="1750" y="337"/>
                </a:lnTo>
                <a:lnTo>
                  <a:pt x="1736" y="386"/>
                </a:lnTo>
                <a:lnTo>
                  <a:pt x="1722" y="424"/>
                </a:lnTo>
                <a:lnTo>
                  <a:pt x="1713" y="446"/>
                </a:lnTo>
                <a:lnTo>
                  <a:pt x="1712" y="464"/>
                </a:lnTo>
                <a:lnTo>
                  <a:pt x="1707" y="482"/>
                </a:lnTo>
                <a:lnTo>
                  <a:pt x="1705" y="499"/>
                </a:lnTo>
                <a:lnTo>
                  <a:pt x="1708" y="518"/>
                </a:lnTo>
                <a:lnTo>
                  <a:pt x="1712" y="527"/>
                </a:lnTo>
                <a:lnTo>
                  <a:pt x="1719" y="542"/>
                </a:lnTo>
                <a:lnTo>
                  <a:pt x="1725" y="556"/>
                </a:lnTo>
                <a:lnTo>
                  <a:pt x="1728" y="563"/>
                </a:lnTo>
                <a:lnTo>
                  <a:pt x="1737" y="560"/>
                </a:lnTo>
                <a:lnTo>
                  <a:pt x="1747" y="555"/>
                </a:lnTo>
                <a:lnTo>
                  <a:pt x="1754" y="548"/>
                </a:lnTo>
                <a:lnTo>
                  <a:pt x="1754" y="538"/>
                </a:lnTo>
                <a:lnTo>
                  <a:pt x="1754" y="515"/>
                </a:lnTo>
                <a:lnTo>
                  <a:pt x="1754" y="493"/>
                </a:lnTo>
                <a:lnTo>
                  <a:pt x="1754" y="471"/>
                </a:lnTo>
                <a:lnTo>
                  <a:pt x="1755" y="449"/>
                </a:lnTo>
                <a:lnTo>
                  <a:pt x="1754" y="442"/>
                </a:lnTo>
                <a:lnTo>
                  <a:pt x="1754" y="433"/>
                </a:lnTo>
                <a:lnTo>
                  <a:pt x="1750" y="428"/>
                </a:lnTo>
                <a:lnTo>
                  <a:pt x="1743" y="426"/>
                </a:lnTo>
                <a:lnTo>
                  <a:pt x="1741" y="424"/>
                </a:lnTo>
                <a:lnTo>
                  <a:pt x="1740" y="421"/>
                </a:lnTo>
                <a:lnTo>
                  <a:pt x="1741" y="416"/>
                </a:lnTo>
                <a:lnTo>
                  <a:pt x="1742" y="414"/>
                </a:lnTo>
                <a:lnTo>
                  <a:pt x="1749" y="409"/>
                </a:lnTo>
                <a:lnTo>
                  <a:pt x="1757" y="404"/>
                </a:lnTo>
                <a:lnTo>
                  <a:pt x="1765" y="401"/>
                </a:lnTo>
                <a:lnTo>
                  <a:pt x="1773" y="398"/>
                </a:lnTo>
                <a:lnTo>
                  <a:pt x="1782" y="395"/>
                </a:lnTo>
                <a:lnTo>
                  <a:pt x="1791" y="393"/>
                </a:lnTo>
                <a:lnTo>
                  <a:pt x="1801" y="391"/>
                </a:lnTo>
                <a:lnTo>
                  <a:pt x="1811" y="388"/>
                </a:lnTo>
                <a:lnTo>
                  <a:pt x="1843" y="395"/>
                </a:lnTo>
                <a:lnTo>
                  <a:pt x="1844" y="388"/>
                </a:lnTo>
                <a:lnTo>
                  <a:pt x="1848" y="381"/>
                </a:lnTo>
                <a:lnTo>
                  <a:pt x="1853" y="379"/>
                </a:lnTo>
                <a:lnTo>
                  <a:pt x="1862" y="379"/>
                </a:lnTo>
                <a:lnTo>
                  <a:pt x="1867" y="381"/>
                </a:lnTo>
                <a:lnTo>
                  <a:pt x="1873" y="380"/>
                </a:lnTo>
                <a:lnTo>
                  <a:pt x="1877" y="384"/>
                </a:lnTo>
                <a:lnTo>
                  <a:pt x="1875" y="393"/>
                </a:lnTo>
                <a:lnTo>
                  <a:pt x="1874" y="393"/>
                </a:lnTo>
                <a:lnTo>
                  <a:pt x="1877" y="400"/>
                </a:lnTo>
                <a:lnTo>
                  <a:pt x="1882" y="406"/>
                </a:lnTo>
                <a:lnTo>
                  <a:pt x="1888" y="411"/>
                </a:lnTo>
                <a:lnTo>
                  <a:pt x="1886" y="420"/>
                </a:lnTo>
                <a:lnTo>
                  <a:pt x="1877" y="440"/>
                </a:lnTo>
                <a:lnTo>
                  <a:pt x="1873" y="487"/>
                </a:lnTo>
                <a:lnTo>
                  <a:pt x="1878" y="534"/>
                </a:lnTo>
                <a:lnTo>
                  <a:pt x="1891" y="564"/>
                </a:lnTo>
                <a:lnTo>
                  <a:pt x="1891" y="574"/>
                </a:lnTo>
                <a:lnTo>
                  <a:pt x="1889" y="582"/>
                </a:lnTo>
                <a:lnTo>
                  <a:pt x="1886" y="589"/>
                </a:lnTo>
                <a:lnTo>
                  <a:pt x="1880" y="594"/>
                </a:lnTo>
                <a:lnTo>
                  <a:pt x="1882" y="604"/>
                </a:lnTo>
                <a:lnTo>
                  <a:pt x="1882" y="616"/>
                </a:lnTo>
                <a:lnTo>
                  <a:pt x="1877" y="628"/>
                </a:lnTo>
                <a:lnTo>
                  <a:pt x="1859" y="635"/>
                </a:lnTo>
                <a:lnTo>
                  <a:pt x="1851" y="637"/>
                </a:lnTo>
                <a:lnTo>
                  <a:pt x="1845" y="636"/>
                </a:lnTo>
                <a:lnTo>
                  <a:pt x="1838" y="636"/>
                </a:lnTo>
                <a:lnTo>
                  <a:pt x="1831" y="637"/>
                </a:lnTo>
                <a:lnTo>
                  <a:pt x="1826" y="643"/>
                </a:lnTo>
                <a:lnTo>
                  <a:pt x="1821" y="649"/>
                </a:lnTo>
                <a:lnTo>
                  <a:pt x="1816" y="656"/>
                </a:lnTo>
                <a:lnTo>
                  <a:pt x="1816" y="664"/>
                </a:lnTo>
                <a:lnTo>
                  <a:pt x="1816" y="672"/>
                </a:lnTo>
                <a:lnTo>
                  <a:pt x="1816" y="692"/>
                </a:lnTo>
                <a:lnTo>
                  <a:pt x="1813" y="714"/>
                </a:lnTo>
                <a:lnTo>
                  <a:pt x="1802" y="731"/>
                </a:lnTo>
                <a:lnTo>
                  <a:pt x="1771" y="708"/>
                </a:lnTo>
                <a:lnTo>
                  <a:pt x="1778" y="695"/>
                </a:lnTo>
                <a:lnTo>
                  <a:pt x="1780" y="678"/>
                </a:lnTo>
                <a:lnTo>
                  <a:pt x="1779" y="661"/>
                </a:lnTo>
                <a:lnTo>
                  <a:pt x="1777" y="651"/>
                </a:lnTo>
                <a:lnTo>
                  <a:pt x="1773" y="652"/>
                </a:lnTo>
                <a:lnTo>
                  <a:pt x="1771" y="656"/>
                </a:lnTo>
                <a:lnTo>
                  <a:pt x="1768" y="659"/>
                </a:lnTo>
                <a:lnTo>
                  <a:pt x="1762" y="662"/>
                </a:lnTo>
                <a:lnTo>
                  <a:pt x="1755" y="661"/>
                </a:lnTo>
                <a:lnTo>
                  <a:pt x="1750" y="656"/>
                </a:lnTo>
                <a:lnTo>
                  <a:pt x="1747" y="652"/>
                </a:lnTo>
                <a:lnTo>
                  <a:pt x="1741" y="651"/>
                </a:lnTo>
                <a:lnTo>
                  <a:pt x="1736" y="650"/>
                </a:lnTo>
                <a:lnTo>
                  <a:pt x="1734" y="647"/>
                </a:lnTo>
                <a:lnTo>
                  <a:pt x="1733" y="643"/>
                </a:lnTo>
                <a:lnTo>
                  <a:pt x="1731" y="640"/>
                </a:lnTo>
                <a:lnTo>
                  <a:pt x="1729" y="645"/>
                </a:lnTo>
                <a:lnTo>
                  <a:pt x="1728" y="650"/>
                </a:lnTo>
                <a:lnTo>
                  <a:pt x="1728" y="655"/>
                </a:lnTo>
                <a:lnTo>
                  <a:pt x="1728" y="662"/>
                </a:lnTo>
                <a:lnTo>
                  <a:pt x="1731" y="662"/>
                </a:lnTo>
                <a:lnTo>
                  <a:pt x="1733" y="669"/>
                </a:lnTo>
                <a:lnTo>
                  <a:pt x="1741" y="669"/>
                </a:lnTo>
                <a:lnTo>
                  <a:pt x="1750" y="667"/>
                </a:lnTo>
                <a:lnTo>
                  <a:pt x="1757" y="670"/>
                </a:lnTo>
                <a:lnTo>
                  <a:pt x="1764" y="676"/>
                </a:lnTo>
                <a:lnTo>
                  <a:pt x="1769" y="681"/>
                </a:lnTo>
                <a:lnTo>
                  <a:pt x="1772" y="689"/>
                </a:lnTo>
                <a:lnTo>
                  <a:pt x="1772" y="699"/>
                </a:lnTo>
                <a:lnTo>
                  <a:pt x="1766" y="703"/>
                </a:lnTo>
                <a:lnTo>
                  <a:pt x="1759" y="706"/>
                </a:lnTo>
                <a:lnTo>
                  <a:pt x="1751" y="707"/>
                </a:lnTo>
                <a:lnTo>
                  <a:pt x="1743" y="706"/>
                </a:lnTo>
                <a:lnTo>
                  <a:pt x="1744" y="707"/>
                </a:lnTo>
                <a:lnTo>
                  <a:pt x="1746" y="707"/>
                </a:lnTo>
                <a:lnTo>
                  <a:pt x="1747" y="708"/>
                </a:lnTo>
                <a:lnTo>
                  <a:pt x="1747" y="709"/>
                </a:lnTo>
                <a:lnTo>
                  <a:pt x="1753" y="713"/>
                </a:lnTo>
                <a:lnTo>
                  <a:pt x="1759" y="714"/>
                </a:lnTo>
                <a:lnTo>
                  <a:pt x="1765" y="713"/>
                </a:lnTo>
                <a:lnTo>
                  <a:pt x="1771" y="708"/>
                </a:lnTo>
                <a:lnTo>
                  <a:pt x="1802" y="731"/>
                </a:lnTo>
                <a:lnTo>
                  <a:pt x="1799" y="735"/>
                </a:lnTo>
                <a:lnTo>
                  <a:pt x="1794" y="737"/>
                </a:lnTo>
                <a:lnTo>
                  <a:pt x="1791" y="739"/>
                </a:lnTo>
                <a:lnTo>
                  <a:pt x="1786" y="744"/>
                </a:lnTo>
                <a:lnTo>
                  <a:pt x="1795" y="753"/>
                </a:lnTo>
                <a:lnTo>
                  <a:pt x="1811" y="767"/>
                </a:lnTo>
                <a:lnTo>
                  <a:pt x="1828" y="784"/>
                </a:lnTo>
                <a:lnTo>
                  <a:pt x="1849" y="803"/>
                </a:lnTo>
                <a:lnTo>
                  <a:pt x="1870" y="822"/>
                </a:lnTo>
                <a:lnTo>
                  <a:pt x="1889" y="839"/>
                </a:lnTo>
                <a:lnTo>
                  <a:pt x="1906" y="853"/>
                </a:lnTo>
                <a:lnTo>
                  <a:pt x="1918" y="863"/>
                </a:lnTo>
                <a:lnTo>
                  <a:pt x="1888" y="884"/>
                </a:lnTo>
                <a:lnTo>
                  <a:pt x="1875" y="871"/>
                </a:lnTo>
                <a:lnTo>
                  <a:pt x="1859" y="854"/>
                </a:lnTo>
                <a:lnTo>
                  <a:pt x="1838" y="835"/>
                </a:lnTo>
                <a:lnTo>
                  <a:pt x="1816" y="815"/>
                </a:lnTo>
                <a:lnTo>
                  <a:pt x="1794" y="796"/>
                </a:lnTo>
                <a:lnTo>
                  <a:pt x="1775" y="778"/>
                </a:lnTo>
                <a:lnTo>
                  <a:pt x="1758" y="765"/>
                </a:lnTo>
                <a:lnTo>
                  <a:pt x="1747" y="756"/>
                </a:lnTo>
                <a:lnTo>
                  <a:pt x="1743" y="874"/>
                </a:lnTo>
                <a:lnTo>
                  <a:pt x="1750" y="877"/>
                </a:lnTo>
                <a:lnTo>
                  <a:pt x="1758" y="875"/>
                </a:lnTo>
                <a:lnTo>
                  <a:pt x="1766" y="873"/>
                </a:lnTo>
                <a:lnTo>
                  <a:pt x="1773" y="871"/>
                </a:lnTo>
                <a:lnTo>
                  <a:pt x="1779" y="873"/>
                </a:lnTo>
                <a:lnTo>
                  <a:pt x="1783" y="875"/>
                </a:lnTo>
                <a:lnTo>
                  <a:pt x="1786" y="878"/>
                </a:lnTo>
                <a:lnTo>
                  <a:pt x="1787" y="883"/>
                </a:lnTo>
                <a:lnTo>
                  <a:pt x="1800" y="885"/>
                </a:lnTo>
                <a:lnTo>
                  <a:pt x="1813" y="886"/>
                </a:lnTo>
                <a:lnTo>
                  <a:pt x="1824" y="888"/>
                </a:lnTo>
                <a:lnTo>
                  <a:pt x="1837" y="886"/>
                </a:lnTo>
                <a:lnTo>
                  <a:pt x="1850" y="885"/>
                </a:lnTo>
                <a:lnTo>
                  <a:pt x="1863" y="885"/>
                </a:lnTo>
                <a:lnTo>
                  <a:pt x="1875" y="884"/>
                </a:lnTo>
                <a:lnTo>
                  <a:pt x="1888" y="884"/>
                </a:lnTo>
                <a:lnTo>
                  <a:pt x="1918" y="863"/>
                </a:lnTo>
                <a:lnTo>
                  <a:pt x="1925" y="866"/>
                </a:lnTo>
                <a:lnTo>
                  <a:pt x="1936" y="868"/>
                </a:lnTo>
                <a:lnTo>
                  <a:pt x="1949" y="870"/>
                </a:lnTo>
                <a:lnTo>
                  <a:pt x="1964" y="873"/>
                </a:lnTo>
                <a:lnTo>
                  <a:pt x="1979" y="876"/>
                </a:lnTo>
                <a:lnTo>
                  <a:pt x="1993" y="882"/>
                </a:lnTo>
                <a:lnTo>
                  <a:pt x="2005" y="889"/>
                </a:lnTo>
                <a:lnTo>
                  <a:pt x="2016" y="898"/>
                </a:lnTo>
                <a:lnTo>
                  <a:pt x="2019" y="904"/>
                </a:lnTo>
                <a:lnTo>
                  <a:pt x="2019" y="912"/>
                </a:lnTo>
                <a:lnTo>
                  <a:pt x="2018" y="920"/>
                </a:lnTo>
                <a:lnTo>
                  <a:pt x="2019" y="928"/>
                </a:lnTo>
                <a:lnTo>
                  <a:pt x="2027" y="934"/>
                </a:lnTo>
                <a:lnTo>
                  <a:pt x="2039" y="942"/>
                </a:lnTo>
                <a:lnTo>
                  <a:pt x="2053" y="952"/>
                </a:lnTo>
                <a:lnTo>
                  <a:pt x="2071" y="964"/>
                </a:lnTo>
                <a:lnTo>
                  <a:pt x="2090" y="977"/>
                </a:lnTo>
                <a:lnTo>
                  <a:pt x="2111" y="992"/>
                </a:lnTo>
                <a:lnTo>
                  <a:pt x="2133" y="1006"/>
                </a:lnTo>
                <a:lnTo>
                  <a:pt x="2155" y="1021"/>
                </a:lnTo>
                <a:lnTo>
                  <a:pt x="2177" y="1036"/>
                </a:lnTo>
                <a:lnTo>
                  <a:pt x="2198" y="1050"/>
                </a:lnTo>
                <a:lnTo>
                  <a:pt x="2216" y="1063"/>
                </a:lnTo>
                <a:lnTo>
                  <a:pt x="2234" y="1074"/>
                </a:lnTo>
                <a:lnTo>
                  <a:pt x="2248" y="1083"/>
                </a:lnTo>
                <a:lnTo>
                  <a:pt x="2259" y="1091"/>
                </a:lnTo>
                <a:lnTo>
                  <a:pt x="2266" y="1096"/>
                </a:lnTo>
                <a:lnTo>
                  <a:pt x="2269" y="1097"/>
                </a:lnTo>
                <a:lnTo>
                  <a:pt x="2269" y="1102"/>
                </a:lnTo>
                <a:lnTo>
                  <a:pt x="2266" y="1104"/>
                </a:lnTo>
                <a:lnTo>
                  <a:pt x="2263" y="1107"/>
                </a:lnTo>
                <a:lnTo>
                  <a:pt x="2259" y="1109"/>
                </a:lnTo>
                <a:lnTo>
                  <a:pt x="2251" y="1109"/>
                </a:lnTo>
                <a:lnTo>
                  <a:pt x="2240" y="1109"/>
                </a:lnTo>
                <a:lnTo>
                  <a:pt x="2224" y="1109"/>
                </a:lnTo>
                <a:lnTo>
                  <a:pt x="2208" y="1109"/>
                </a:lnTo>
                <a:lnTo>
                  <a:pt x="2189" y="1109"/>
                </a:lnTo>
                <a:lnTo>
                  <a:pt x="2168" y="1108"/>
                </a:lnTo>
                <a:lnTo>
                  <a:pt x="2147" y="1108"/>
                </a:lnTo>
                <a:lnTo>
                  <a:pt x="2124" y="1108"/>
                </a:lnTo>
                <a:lnTo>
                  <a:pt x="2102" y="1108"/>
                </a:lnTo>
                <a:lnTo>
                  <a:pt x="2078" y="1108"/>
                </a:lnTo>
                <a:lnTo>
                  <a:pt x="2057" y="1108"/>
                </a:lnTo>
                <a:lnTo>
                  <a:pt x="2037" y="1108"/>
                </a:lnTo>
                <a:lnTo>
                  <a:pt x="2018" y="1108"/>
                </a:lnTo>
                <a:lnTo>
                  <a:pt x="2002" y="1108"/>
                </a:lnTo>
                <a:lnTo>
                  <a:pt x="1988" y="1108"/>
                </a:lnTo>
                <a:lnTo>
                  <a:pt x="1976" y="1108"/>
                </a:lnTo>
                <a:lnTo>
                  <a:pt x="1971" y="1101"/>
                </a:lnTo>
                <a:lnTo>
                  <a:pt x="1967" y="1094"/>
                </a:lnTo>
                <a:lnTo>
                  <a:pt x="1962" y="1087"/>
                </a:lnTo>
                <a:lnTo>
                  <a:pt x="1959" y="1079"/>
                </a:lnTo>
                <a:lnTo>
                  <a:pt x="1955" y="1072"/>
                </a:lnTo>
                <a:lnTo>
                  <a:pt x="1952" y="1065"/>
                </a:lnTo>
                <a:lnTo>
                  <a:pt x="1946" y="1058"/>
                </a:lnTo>
                <a:lnTo>
                  <a:pt x="1940" y="1051"/>
                </a:lnTo>
                <a:lnTo>
                  <a:pt x="1937" y="1053"/>
                </a:lnTo>
                <a:lnTo>
                  <a:pt x="1933" y="1064"/>
                </a:lnTo>
                <a:lnTo>
                  <a:pt x="1930" y="1073"/>
                </a:lnTo>
                <a:lnTo>
                  <a:pt x="1925" y="1082"/>
                </a:lnTo>
                <a:lnTo>
                  <a:pt x="1921" y="1091"/>
                </a:lnTo>
                <a:lnTo>
                  <a:pt x="1915" y="1101"/>
                </a:lnTo>
                <a:lnTo>
                  <a:pt x="1908" y="1109"/>
                </a:lnTo>
                <a:lnTo>
                  <a:pt x="1901" y="1117"/>
                </a:lnTo>
                <a:lnTo>
                  <a:pt x="1893" y="1124"/>
                </a:lnTo>
                <a:lnTo>
                  <a:pt x="2301" y="1124"/>
                </a:lnTo>
                <a:lnTo>
                  <a:pt x="2301" y="1181"/>
                </a:lnTo>
                <a:lnTo>
                  <a:pt x="1786" y="1181"/>
                </a:lnTo>
                <a:lnTo>
                  <a:pt x="1783" y="1126"/>
                </a:lnTo>
                <a:lnTo>
                  <a:pt x="1783" y="1125"/>
                </a:lnTo>
                <a:lnTo>
                  <a:pt x="1776" y="1117"/>
                </a:lnTo>
                <a:lnTo>
                  <a:pt x="1769" y="1109"/>
                </a:lnTo>
                <a:lnTo>
                  <a:pt x="1761" y="1100"/>
                </a:lnTo>
                <a:lnTo>
                  <a:pt x="1754" y="1091"/>
                </a:lnTo>
                <a:lnTo>
                  <a:pt x="1728" y="1091"/>
                </a:lnTo>
                <a:lnTo>
                  <a:pt x="1700" y="1091"/>
                </a:lnTo>
                <a:lnTo>
                  <a:pt x="1670" y="1091"/>
                </a:lnTo>
                <a:lnTo>
                  <a:pt x="1641" y="1093"/>
                </a:lnTo>
                <a:lnTo>
                  <a:pt x="1615" y="1093"/>
                </a:lnTo>
                <a:lnTo>
                  <a:pt x="1594" y="1094"/>
                </a:lnTo>
                <a:lnTo>
                  <a:pt x="1580" y="1094"/>
                </a:lnTo>
                <a:lnTo>
                  <a:pt x="1574" y="1094"/>
                </a:lnTo>
                <a:lnTo>
                  <a:pt x="1584" y="1067"/>
                </a:lnTo>
                <a:lnTo>
                  <a:pt x="1590" y="1067"/>
                </a:lnTo>
                <a:lnTo>
                  <a:pt x="1606" y="1067"/>
                </a:lnTo>
                <a:lnTo>
                  <a:pt x="1628" y="1067"/>
                </a:lnTo>
                <a:lnTo>
                  <a:pt x="1655" y="1067"/>
                </a:lnTo>
                <a:lnTo>
                  <a:pt x="1682" y="1067"/>
                </a:lnTo>
                <a:lnTo>
                  <a:pt x="1706" y="1067"/>
                </a:lnTo>
                <a:lnTo>
                  <a:pt x="1725" y="1066"/>
                </a:lnTo>
                <a:lnTo>
                  <a:pt x="1734" y="1066"/>
                </a:lnTo>
                <a:lnTo>
                  <a:pt x="1739" y="1064"/>
                </a:lnTo>
                <a:lnTo>
                  <a:pt x="1739" y="1060"/>
                </a:lnTo>
                <a:lnTo>
                  <a:pt x="1737" y="1056"/>
                </a:lnTo>
                <a:lnTo>
                  <a:pt x="1736" y="1051"/>
                </a:lnTo>
                <a:lnTo>
                  <a:pt x="1729" y="1050"/>
                </a:lnTo>
                <a:lnTo>
                  <a:pt x="1724" y="1047"/>
                </a:lnTo>
                <a:lnTo>
                  <a:pt x="1718" y="1045"/>
                </a:lnTo>
                <a:lnTo>
                  <a:pt x="1713" y="1042"/>
                </a:lnTo>
                <a:lnTo>
                  <a:pt x="1707" y="1038"/>
                </a:lnTo>
                <a:lnTo>
                  <a:pt x="1702" y="1035"/>
                </a:lnTo>
                <a:lnTo>
                  <a:pt x="1696" y="1032"/>
                </a:lnTo>
                <a:lnTo>
                  <a:pt x="1690" y="1030"/>
                </a:lnTo>
                <a:lnTo>
                  <a:pt x="1683" y="1034"/>
                </a:lnTo>
                <a:lnTo>
                  <a:pt x="1676" y="1036"/>
                </a:lnTo>
                <a:lnTo>
                  <a:pt x="1669" y="1037"/>
                </a:lnTo>
                <a:lnTo>
                  <a:pt x="1661" y="1038"/>
                </a:lnTo>
                <a:lnTo>
                  <a:pt x="1654" y="1037"/>
                </a:lnTo>
                <a:lnTo>
                  <a:pt x="1647" y="1036"/>
                </a:lnTo>
                <a:lnTo>
                  <a:pt x="1640" y="1034"/>
                </a:lnTo>
                <a:lnTo>
                  <a:pt x="1634" y="1030"/>
                </a:lnTo>
                <a:lnTo>
                  <a:pt x="1627" y="1034"/>
                </a:lnTo>
                <a:lnTo>
                  <a:pt x="1622" y="1036"/>
                </a:lnTo>
                <a:lnTo>
                  <a:pt x="1615" y="1039"/>
                </a:lnTo>
                <a:lnTo>
                  <a:pt x="1609" y="1042"/>
                </a:lnTo>
                <a:lnTo>
                  <a:pt x="1602" y="1044"/>
                </a:lnTo>
                <a:lnTo>
                  <a:pt x="1596" y="1047"/>
                </a:lnTo>
                <a:lnTo>
                  <a:pt x="1590" y="1051"/>
                </a:lnTo>
                <a:lnTo>
                  <a:pt x="1584" y="1056"/>
                </a:lnTo>
                <a:lnTo>
                  <a:pt x="1584" y="1067"/>
                </a:lnTo>
                <a:lnTo>
                  <a:pt x="1574" y="1094"/>
                </a:lnTo>
                <a:lnTo>
                  <a:pt x="1567" y="1095"/>
                </a:lnTo>
                <a:lnTo>
                  <a:pt x="1561" y="1097"/>
                </a:lnTo>
                <a:lnTo>
                  <a:pt x="1557" y="1102"/>
                </a:lnTo>
                <a:lnTo>
                  <a:pt x="1552" y="1107"/>
                </a:lnTo>
                <a:lnTo>
                  <a:pt x="1547" y="1112"/>
                </a:lnTo>
                <a:lnTo>
                  <a:pt x="1543" y="1118"/>
                </a:lnTo>
                <a:lnTo>
                  <a:pt x="1538" y="1123"/>
                </a:lnTo>
                <a:lnTo>
                  <a:pt x="1533" y="1127"/>
                </a:lnTo>
                <a:lnTo>
                  <a:pt x="1542" y="1129"/>
                </a:lnTo>
                <a:lnTo>
                  <a:pt x="1554" y="1129"/>
                </a:lnTo>
                <a:lnTo>
                  <a:pt x="1569" y="1129"/>
                </a:lnTo>
                <a:lnTo>
                  <a:pt x="1587" y="1129"/>
                </a:lnTo>
                <a:lnTo>
                  <a:pt x="1605" y="1129"/>
                </a:lnTo>
                <a:lnTo>
                  <a:pt x="1626" y="1127"/>
                </a:lnTo>
                <a:lnTo>
                  <a:pt x="1648" y="1127"/>
                </a:lnTo>
                <a:lnTo>
                  <a:pt x="1669" y="1126"/>
                </a:lnTo>
                <a:lnTo>
                  <a:pt x="1691" y="1126"/>
                </a:lnTo>
                <a:lnTo>
                  <a:pt x="1711" y="1125"/>
                </a:lnTo>
                <a:lnTo>
                  <a:pt x="1729" y="1125"/>
                </a:lnTo>
                <a:lnTo>
                  <a:pt x="1747" y="1125"/>
                </a:lnTo>
                <a:lnTo>
                  <a:pt x="1761" y="1124"/>
                </a:lnTo>
                <a:lnTo>
                  <a:pt x="1772" y="1124"/>
                </a:lnTo>
                <a:lnTo>
                  <a:pt x="1779" y="1125"/>
                </a:lnTo>
                <a:lnTo>
                  <a:pt x="1783" y="1125"/>
                </a:lnTo>
                <a:lnTo>
                  <a:pt x="1786" y="1181"/>
                </a:lnTo>
                <a:lnTo>
                  <a:pt x="1365" y="1181"/>
                </a:lnTo>
                <a:lnTo>
                  <a:pt x="1387" y="1130"/>
                </a:lnTo>
                <a:lnTo>
                  <a:pt x="1392" y="1127"/>
                </a:lnTo>
                <a:lnTo>
                  <a:pt x="1395" y="1129"/>
                </a:lnTo>
                <a:lnTo>
                  <a:pt x="1400" y="1130"/>
                </a:lnTo>
                <a:lnTo>
                  <a:pt x="1404" y="1129"/>
                </a:lnTo>
                <a:lnTo>
                  <a:pt x="1392" y="1110"/>
                </a:lnTo>
                <a:lnTo>
                  <a:pt x="1386" y="1109"/>
                </a:lnTo>
                <a:lnTo>
                  <a:pt x="1381" y="1111"/>
                </a:lnTo>
                <a:lnTo>
                  <a:pt x="1376" y="1115"/>
                </a:lnTo>
                <a:lnTo>
                  <a:pt x="1370" y="1116"/>
                </a:lnTo>
                <a:lnTo>
                  <a:pt x="1361" y="1107"/>
                </a:lnTo>
                <a:lnTo>
                  <a:pt x="1357" y="1096"/>
                </a:lnTo>
                <a:lnTo>
                  <a:pt x="1358" y="1086"/>
                </a:lnTo>
                <a:lnTo>
                  <a:pt x="1363" y="1074"/>
                </a:lnTo>
                <a:lnTo>
                  <a:pt x="1368" y="1063"/>
                </a:lnTo>
                <a:lnTo>
                  <a:pt x="1373" y="1050"/>
                </a:lnTo>
                <a:lnTo>
                  <a:pt x="1377" y="1038"/>
                </a:lnTo>
                <a:lnTo>
                  <a:pt x="1376" y="1025"/>
                </a:lnTo>
                <a:lnTo>
                  <a:pt x="1370" y="1018"/>
                </a:lnTo>
                <a:lnTo>
                  <a:pt x="1365" y="1010"/>
                </a:lnTo>
                <a:lnTo>
                  <a:pt x="1363" y="1001"/>
                </a:lnTo>
                <a:lnTo>
                  <a:pt x="1361" y="992"/>
                </a:lnTo>
                <a:lnTo>
                  <a:pt x="1412" y="884"/>
                </a:lnTo>
                <a:lnTo>
                  <a:pt x="1529" y="883"/>
                </a:lnTo>
                <a:lnTo>
                  <a:pt x="1535" y="878"/>
                </a:lnTo>
                <a:lnTo>
                  <a:pt x="1542" y="871"/>
                </a:lnTo>
                <a:lnTo>
                  <a:pt x="1545" y="864"/>
                </a:lnTo>
                <a:lnTo>
                  <a:pt x="1546" y="856"/>
                </a:lnTo>
                <a:lnTo>
                  <a:pt x="1540" y="852"/>
                </a:lnTo>
                <a:lnTo>
                  <a:pt x="1535" y="854"/>
                </a:lnTo>
                <a:lnTo>
                  <a:pt x="1528" y="859"/>
                </a:lnTo>
                <a:lnTo>
                  <a:pt x="1521" y="862"/>
                </a:lnTo>
                <a:lnTo>
                  <a:pt x="1514" y="863"/>
                </a:lnTo>
                <a:lnTo>
                  <a:pt x="1506" y="863"/>
                </a:lnTo>
                <a:lnTo>
                  <a:pt x="1497" y="861"/>
                </a:lnTo>
                <a:lnTo>
                  <a:pt x="1490" y="857"/>
                </a:lnTo>
                <a:lnTo>
                  <a:pt x="1482" y="851"/>
                </a:lnTo>
                <a:lnTo>
                  <a:pt x="1473" y="846"/>
                </a:lnTo>
                <a:lnTo>
                  <a:pt x="1464" y="845"/>
                </a:lnTo>
                <a:lnTo>
                  <a:pt x="1452" y="844"/>
                </a:lnTo>
                <a:lnTo>
                  <a:pt x="1441" y="844"/>
                </a:lnTo>
                <a:lnTo>
                  <a:pt x="1430" y="845"/>
                </a:lnTo>
                <a:lnTo>
                  <a:pt x="1419" y="844"/>
                </a:lnTo>
                <a:lnTo>
                  <a:pt x="1408" y="842"/>
                </a:lnTo>
                <a:lnTo>
                  <a:pt x="1402" y="845"/>
                </a:lnTo>
                <a:lnTo>
                  <a:pt x="1397" y="846"/>
                </a:lnTo>
                <a:lnTo>
                  <a:pt x="1392" y="848"/>
                </a:lnTo>
                <a:lnTo>
                  <a:pt x="1391" y="853"/>
                </a:lnTo>
                <a:lnTo>
                  <a:pt x="1398" y="860"/>
                </a:lnTo>
                <a:lnTo>
                  <a:pt x="1404" y="867"/>
                </a:lnTo>
                <a:lnTo>
                  <a:pt x="1408" y="875"/>
                </a:lnTo>
                <a:lnTo>
                  <a:pt x="1412" y="884"/>
                </a:lnTo>
                <a:lnTo>
                  <a:pt x="1361" y="992"/>
                </a:lnTo>
                <a:lnTo>
                  <a:pt x="1357" y="993"/>
                </a:lnTo>
                <a:lnTo>
                  <a:pt x="1354" y="993"/>
                </a:lnTo>
                <a:lnTo>
                  <a:pt x="1349" y="992"/>
                </a:lnTo>
                <a:lnTo>
                  <a:pt x="1347" y="990"/>
                </a:lnTo>
                <a:lnTo>
                  <a:pt x="1347" y="998"/>
                </a:lnTo>
                <a:lnTo>
                  <a:pt x="1347" y="1003"/>
                </a:lnTo>
                <a:lnTo>
                  <a:pt x="1348" y="1010"/>
                </a:lnTo>
                <a:lnTo>
                  <a:pt x="1347" y="1018"/>
                </a:lnTo>
                <a:lnTo>
                  <a:pt x="1346" y="1025"/>
                </a:lnTo>
                <a:lnTo>
                  <a:pt x="1347" y="1034"/>
                </a:lnTo>
                <a:lnTo>
                  <a:pt x="1348" y="1041"/>
                </a:lnTo>
                <a:lnTo>
                  <a:pt x="1344" y="1046"/>
                </a:lnTo>
                <a:lnTo>
                  <a:pt x="1336" y="1047"/>
                </a:lnTo>
                <a:lnTo>
                  <a:pt x="1329" y="1046"/>
                </a:lnTo>
                <a:lnTo>
                  <a:pt x="1322" y="1043"/>
                </a:lnTo>
                <a:lnTo>
                  <a:pt x="1318" y="1038"/>
                </a:lnTo>
                <a:lnTo>
                  <a:pt x="1313" y="1046"/>
                </a:lnTo>
                <a:lnTo>
                  <a:pt x="1307" y="1056"/>
                </a:lnTo>
                <a:lnTo>
                  <a:pt x="1301" y="1064"/>
                </a:lnTo>
                <a:lnTo>
                  <a:pt x="1296" y="1072"/>
                </a:lnTo>
                <a:lnTo>
                  <a:pt x="1290" y="1080"/>
                </a:lnTo>
                <a:lnTo>
                  <a:pt x="1283" y="1088"/>
                </a:lnTo>
                <a:lnTo>
                  <a:pt x="1276" y="1095"/>
                </a:lnTo>
                <a:lnTo>
                  <a:pt x="1269" y="1103"/>
                </a:lnTo>
                <a:lnTo>
                  <a:pt x="1261" y="1110"/>
                </a:lnTo>
                <a:lnTo>
                  <a:pt x="1253" y="1117"/>
                </a:lnTo>
                <a:lnTo>
                  <a:pt x="1245" y="1123"/>
                </a:lnTo>
                <a:lnTo>
                  <a:pt x="1235" y="1129"/>
                </a:lnTo>
                <a:lnTo>
                  <a:pt x="1254" y="1131"/>
                </a:lnTo>
                <a:lnTo>
                  <a:pt x="1272" y="1131"/>
                </a:lnTo>
                <a:lnTo>
                  <a:pt x="1291" y="1131"/>
                </a:lnTo>
                <a:lnTo>
                  <a:pt x="1310" y="1131"/>
                </a:lnTo>
                <a:lnTo>
                  <a:pt x="1329" y="1130"/>
                </a:lnTo>
                <a:lnTo>
                  <a:pt x="1349" y="1130"/>
                </a:lnTo>
                <a:lnTo>
                  <a:pt x="1368" y="1130"/>
                </a:lnTo>
                <a:lnTo>
                  <a:pt x="1387" y="1130"/>
                </a:lnTo>
                <a:lnTo>
                  <a:pt x="1365" y="1181"/>
                </a:lnTo>
                <a:lnTo>
                  <a:pt x="864" y="1181"/>
                </a:lnTo>
                <a:lnTo>
                  <a:pt x="876" y="1130"/>
                </a:lnTo>
                <a:lnTo>
                  <a:pt x="1071" y="1130"/>
                </a:lnTo>
                <a:lnTo>
                  <a:pt x="1077" y="1131"/>
                </a:lnTo>
                <a:lnTo>
                  <a:pt x="1080" y="1131"/>
                </a:lnTo>
                <a:lnTo>
                  <a:pt x="1085" y="1131"/>
                </a:lnTo>
                <a:lnTo>
                  <a:pt x="1089" y="1130"/>
                </a:lnTo>
                <a:lnTo>
                  <a:pt x="1082" y="1125"/>
                </a:lnTo>
                <a:lnTo>
                  <a:pt x="1077" y="1120"/>
                </a:lnTo>
                <a:lnTo>
                  <a:pt x="1071" y="1116"/>
                </a:lnTo>
                <a:lnTo>
                  <a:pt x="1065" y="1112"/>
                </a:lnTo>
                <a:lnTo>
                  <a:pt x="1059" y="1108"/>
                </a:lnTo>
                <a:lnTo>
                  <a:pt x="1053" y="1103"/>
                </a:lnTo>
                <a:lnTo>
                  <a:pt x="1048" y="1098"/>
                </a:lnTo>
                <a:lnTo>
                  <a:pt x="1043" y="1093"/>
                </a:lnTo>
                <a:lnTo>
                  <a:pt x="1089" y="1093"/>
                </a:lnTo>
                <a:lnTo>
                  <a:pt x="1093" y="1090"/>
                </a:lnTo>
                <a:lnTo>
                  <a:pt x="1100" y="1082"/>
                </a:lnTo>
                <a:lnTo>
                  <a:pt x="1107" y="1069"/>
                </a:lnTo>
                <a:lnTo>
                  <a:pt x="1115" y="1053"/>
                </a:lnTo>
                <a:lnTo>
                  <a:pt x="1123" y="1036"/>
                </a:lnTo>
                <a:lnTo>
                  <a:pt x="1130" y="1020"/>
                </a:lnTo>
                <a:lnTo>
                  <a:pt x="1137" y="1008"/>
                </a:lnTo>
                <a:lnTo>
                  <a:pt x="1140" y="1000"/>
                </a:lnTo>
                <a:lnTo>
                  <a:pt x="1160" y="999"/>
                </a:lnTo>
                <a:lnTo>
                  <a:pt x="1155" y="1017"/>
                </a:lnTo>
                <a:lnTo>
                  <a:pt x="1150" y="1053"/>
                </a:lnTo>
                <a:lnTo>
                  <a:pt x="1145" y="1089"/>
                </a:lnTo>
                <a:lnTo>
                  <a:pt x="1144" y="1110"/>
                </a:lnTo>
                <a:lnTo>
                  <a:pt x="1148" y="1110"/>
                </a:lnTo>
                <a:lnTo>
                  <a:pt x="1152" y="1110"/>
                </a:lnTo>
                <a:lnTo>
                  <a:pt x="1157" y="1110"/>
                </a:lnTo>
                <a:lnTo>
                  <a:pt x="1161" y="1111"/>
                </a:lnTo>
                <a:lnTo>
                  <a:pt x="1168" y="1110"/>
                </a:lnTo>
                <a:lnTo>
                  <a:pt x="1174" y="1110"/>
                </a:lnTo>
                <a:lnTo>
                  <a:pt x="1179" y="1110"/>
                </a:lnTo>
                <a:lnTo>
                  <a:pt x="1182" y="1110"/>
                </a:lnTo>
                <a:lnTo>
                  <a:pt x="1174" y="991"/>
                </a:lnTo>
                <a:lnTo>
                  <a:pt x="1176" y="996"/>
                </a:lnTo>
                <a:lnTo>
                  <a:pt x="1181" y="1009"/>
                </a:lnTo>
                <a:lnTo>
                  <a:pt x="1188" y="1027"/>
                </a:lnTo>
                <a:lnTo>
                  <a:pt x="1195" y="1045"/>
                </a:lnTo>
                <a:lnTo>
                  <a:pt x="1203" y="1065"/>
                </a:lnTo>
                <a:lnTo>
                  <a:pt x="1210" y="1081"/>
                </a:lnTo>
                <a:lnTo>
                  <a:pt x="1215" y="1093"/>
                </a:lnTo>
                <a:lnTo>
                  <a:pt x="1218" y="1098"/>
                </a:lnTo>
                <a:lnTo>
                  <a:pt x="1224" y="1094"/>
                </a:lnTo>
                <a:lnTo>
                  <a:pt x="1232" y="1089"/>
                </a:lnTo>
                <a:lnTo>
                  <a:pt x="1239" y="1086"/>
                </a:lnTo>
                <a:lnTo>
                  <a:pt x="1242" y="1085"/>
                </a:lnTo>
                <a:lnTo>
                  <a:pt x="1240" y="1079"/>
                </a:lnTo>
                <a:lnTo>
                  <a:pt x="1238" y="1074"/>
                </a:lnTo>
                <a:lnTo>
                  <a:pt x="1235" y="1069"/>
                </a:lnTo>
                <a:lnTo>
                  <a:pt x="1233" y="1068"/>
                </a:lnTo>
                <a:lnTo>
                  <a:pt x="1274" y="1053"/>
                </a:lnTo>
                <a:lnTo>
                  <a:pt x="1278" y="1047"/>
                </a:lnTo>
                <a:lnTo>
                  <a:pt x="1284" y="1038"/>
                </a:lnTo>
                <a:lnTo>
                  <a:pt x="1290" y="1030"/>
                </a:lnTo>
                <a:lnTo>
                  <a:pt x="1292" y="1024"/>
                </a:lnTo>
                <a:lnTo>
                  <a:pt x="1286" y="1021"/>
                </a:lnTo>
                <a:lnTo>
                  <a:pt x="1276" y="1017"/>
                </a:lnTo>
                <a:lnTo>
                  <a:pt x="1262" y="1013"/>
                </a:lnTo>
                <a:lnTo>
                  <a:pt x="1248" y="1007"/>
                </a:lnTo>
                <a:lnTo>
                  <a:pt x="1233" y="1002"/>
                </a:lnTo>
                <a:lnTo>
                  <a:pt x="1219" y="999"/>
                </a:lnTo>
                <a:lnTo>
                  <a:pt x="1209" y="995"/>
                </a:lnTo>
                <a:lnTo>
                  <a:pt x="1202" y="994"/>
                </a:lnTo>
                <a:lnTo>
                  <a:pt x="1194" y="977"/>
                </a:lnTo>
                <a:lnTo>
                  <a:pt x="1203" y="976"/>
                </a:lnTo>
                <a:lnTo>
                  <a:pt x="1218" y="976"/>
                </a:lnTo>
                <a:lnTo>
                  <a:pt x="1237" y="974"/>
                </a:lnTo>
                <a:lnTo>
                  <a:pt x="1256" y="973"/>
                </a:lnTo>
                <a:lnTo>
                  <a:pt x="1275" y="972"/>
                </a:lnTo>
                <a:lnTo>
                  <a:pt x="1292" y="972"/>
                </a:lnTo>
                <a:lnTo>
                  <a:pt x="1303" y="971"/>
                </a:lnTo>
                <a:lnTo>
                  <a:pt x="1307" y="971"/>
                </a:lnTo>
                <a:lnTo>
                  <a:pt x="1306" y="964"/>
                </a:lnTo>
                <a:lnTo>
                  <a:pt x="1303" y="954"/>
                </a:lnTo>
                <a:lnTo>
                  <a:pt x="1300" y="943"/>
                </a:lnTo>
                <a:lnTo>
                  <a:pt x="1298" y="937"/>
                </a:lnTo>
                <a:lnTo>
                  <a:pt x="1245" y="954"/>
                </a:lnTo>
                <a:lnTo>
                  <a:pt x="1223" y="913"/>
                </a:lnTo>
                <a:lnTo>
                  <a:pt x="1226" y="912"/>
                </a:lnTo>
                <a:lnTo>
                  <a:pt x="1232" y="908"/>
                </a:lnTo>
                <a:lnTo>
                  <a:pt x="1240" y="905"/>
                </a:lnTo>
                <a:lnTo>
                  <a:pt x="1248" y="900"/>
                </a:lnTo>
                <a:lnTo>
                  <a:pt x="1255" y="896"/>
                </a:lnTo>
                <a:lnTo>
                  <a:pt x="1261" y="890"/>
                </a:lnTo>
                <a:lnTo>
                  <a:pt x="1264" y="885"/>
                </a:lnTo>
                <a:lnTo>
                  <a:pt x="1266" y="882"/>
                </a:lnTo>
                <a:lnTo>
                  <a:pt x="1261" y="873"/>
                </a:lnTo>
                <a:lnTo>
                  <a:pt x="1254" y="864"/>
                </a:lnTo>
                <a:lnTo>
                  <a:pt x="1246" y="859"/>
                </a:lnTo>
                <a:lnTo>
                  <a:pt x="1238" y="856"/>
                </a:lnTo>
                <a:lnTo>
                  <a:pt x="1175" y="954"/>
                </a:lnTo>
                <a:lnTo>
                  <a:pt x="1223" y="913"/>
                </a:lnTo>
                <a:lnTo>
                  <a:pt x="1245" y="954"/>
                </a:lnTo>
                <a:lnTo>
                  <a:pt x="1194" y="977"/>
                </a:lnTo>
                <a:lnTo>
                  <a:pt x="1202" y="994"/>
                </a:lnTo>
                <a:lnTo>
                  <a:pt x="1274" y="1053"/>
                </a:lnTo>
                <a:lnTo>
                  <a:pt x="1233" y="1068"/>
                </a:lnTo>
                <a:lnTo>
                  <a:pt x="1228" y="1065"/>
                </a:lnTo>
                <a:lnTo>
                  <a:pt x="1221" y="1057"/>
                </a:lnTo>
                <a:lnTo>
                  <a:pt x="1213" y="1044"/>
                </a:lnTo>
                <a:lnTo>
                  <a:pt x="1204" y="1030"/>
                </a:lnTo>
                <a:lnTo>
                  <a:pt x="1194" y="1015"/>
                </a:lnTo>
                <a:lnTo>
                  <a:pt x="1186" y="1003"/>
                </a:lnTo>
                <a:lnTo>
                  <a:pt x="1179" y="994"/>
                </a:lnTo>
                <a:lnTo>
                  <a:pt x="1174" y="991"/>
                </a:lnTo>
                <a:lnTo>
                  <a:pt x="1182" y="1110"/>
                </a:lnTo>
                <a:lnTo>
                  <a:pt x="1179" y="1089"/>
                </a:lnTo>
                <a:lnTo>
                  <a:pt x="1172" y="1057"/>
                </a:lnTo>
                <a:lnTo>
                  <a:pt x="1165" y="1023"/>
                </a:lnTo>
                <a:lnTo>
                  <a:pt x="1160" y="999"/>
                </a:lnTo>
                <a:lnTo>
                  <a:pt x="1140" y="1000"/>
                </a:lnTo>
                <a:lnTo>
                  <a:pt x="1117" y="1020"/>
                </a:lnTo>
                <a:lnTo>
                  <a:pt x="1136" y="984"/>
                </a:lnTo>
                <a:lnTo>
                  <a:pt x="1097" y="978"/>
                </a:lnTo>
                <a:lnTo>
                  <a:pt x="1095" y="957"/>
                </a:lnTo>
                <a:lnTo>
                  <a:pt x="1099" y="957"/>
                </a:lnTo>
                <a:lnTo>
                  <a:pt x="1103" y="958"/>
                </a:lnTo>
                <a:lnTo>
                  <a:pt x="1109" y="959"/>
                </a:lnTo>
                <a:lnTo>
                  <a:pt x="1115" y="961"/>
                </a:lnTo>
                <a:lnTo>
                  <a:pt x="1122" y="962"/>
                </a:lnTo>
                <a:lnTo>
                  <a:pt x="1126" y="963"/>
                </a:lnTo>
                <a:lnTo>
                  <a:pt x="1131" y="964"/>
                </a:lnTo>
                <a:lnTo>
                  <a:pt x="1135" y="965"/>
                </a:lnTo>
                <a:lnTo>
                  <a:pt x="1130" y="963"/>
                </a:lnTo>
                <a:lnTo>
                  <a:pt x="1118" y="957"/>
                </a:lnTo>
                <a:lnTo>
                  <a:pt x="1102" y="948"/>
                </a:lnTo>
                <a:lnTo>
                  <a:pt x="1083" y="939"/>
                </a:lnTo>
                <a:lnTo>
                  <a:pt x="1064" y="929"/>
                </a:lnTo>
                <a:lnTo>
                  <a:pt x="1048" y="921"/>
                </a:lnTo>
                <a:lnTo>
                  <a:pt x="1036" y="915"/>
                </a:lnTo>
                <a:lnTo>
                  <a:pt x="1031" y="913"/>
                </a:lnTo>
                <a:lnTo>
                  <a:pt x="1054" y="876"/>
                </a:lnTo>
                <a:lnTo>
                  <a:pt x="1061" y="879"/>
                </a:lnTo>
                <a:lnTo>
                  <a:pt x="1073" y="889"/>
                </a:lnTo>
                <a:lnTo>
                  <a:pt x="1087" y="899"/>
                </a:lnTo>
                <a:lnTo>
                  <a:pt x="1102" y="912"/>
                </a:lnTo>
                <a:lnTo>
                  <a:pt x="1117" y="925"/>
                </a:lnTo>
                <a:lnTo>
                  <a:pt x="1130" y="935"/>
                </a:lnTo>
                <a:lnTo>
                  <a:pt x="1139" y="942"/>
                </a:lnTo>
                <a:lnTo>
                  <a:pt x="1144" y="944"/>
                </a:lnTo>
                <a:lnTo>
                  <a:pt x="1085" y="852"/>
                </a:lnTo>
                <a:lnTo>
                  <a:pt x="1139" y="831"/>
                </a:lnTo>
                <a:lnTo>
                  <a:pt x="1161" y="946"/>
                </a:lnTo>
                <a:lnTo>
                  <a:pt x="1182" y="832"/>
                </a:lnTo>
                <a:lnTo>
                  <a:pt x="1176" y="831"/>
                </a:lnTo>
                <a:lnTo>
                  <a:pt x="1169" y="830"/>
                </a:lnTo>
                <a:lnTo>
                  <a:pt x="1163" y="830"/>
                </a:lnTo>
                <a:lnTo>
                  <a:pt x="1158" y="830"/>
                </a:lnTo>
                <a:lnTo>
                  <a:pt x="1153" y="830"/>
                </a:lnTo>
                <a:lnTo>
                  <a:pt x="1147" y="830"/>
                </a:lnTo>
                <a:lnTo>
                  <a:pt x="1143" y="831"/>
                </a:lnTo>
                <a:lnTo>
                  <a:pt x="1139" y="831"/>
                </a:lnTo>
                <a:lnTo>
                  <a:pt x="1085" y="852"/>
                </a:lnTo>
                <a:lnTo>
                  <a:pt x="1077" y="857"/>
                </a:lnTo>
                <a:lnTo>
                  <a:pt x="1066" y="864"/>
                </a:lnTo>
                <a:lnTo>
                  <a:pt x="1058" y="871"/>
                </a:lnTo>
                <a:lnTo>
                  <a:pt x="1054" y="876"/>
                </a:lnTo>
                <a:lnTo>
                  <a:pt x="1031" y="913"/>
                </a:lnTo>
                <a:lnTo>
                  <a:pt x="1028" y="920"/>
                </a:lnTo>
                <a:lnTo>
                  <a:pt x="1026" y="928"/>
                </a:lnTo>
                <a:lnTo>
                  <a:pt x="1023" y="936"/>
                </a:lnTo>
                <a:lnTo>
                  <a:pt x="1021" y="944"/>
                </a:lnTo>
                <a:lnTo>
                  <a:pt x="1024" y="944"/>
                </a:lnTo>
                <a:lnTo>
                  <a:pt x="1031" y="947"/>
                </a:lnTo>
                <a:lnTo>
                  <a:pt x="1043" y="948"/>
                </a:lnTo>
                <a:lnTo>
                  <a:pt x="1057" y="950"/>
                </a:lnTo>
                <a:lnTo>
                  <a:pt x="1070" y="954"/>
                </a:lnTo>
                <a:lnTo>
                  <a:pt x="1081" y="955"/>
                </a:lnTo>
                <a:lnTo>
                  <a:pt x="1090" y="957"/>
                </a:lnTo>
                <a:lnTo>
                  <a:pt x="1095" y="957"/>
                </a:lnTo>
                <a:lnTo>
                  <a:pt x="1097" y="978"/>
                </a:lnTo>
                <a:lnTo>
                  <a:pt x="1089" y="977"/>
                </a:lnTo>
                <a:lnTo>
                  <a:pt x="1079" y="977"/>
                </a:lnTo>
                <a:lnTo>
                  <a:pt x="1066" y="977"/>
                </a:lnTo>
                <a:lnTo>
                  <a:pt x="1053" y="978"/>
                </a:lnTo>
                <a:lnTo>
                  <a:pt x="1041" y="978"/>
                </a:lnTo>
                <a:lnTo>
                  <a:pt x="1030" y="979"/>
                </a:lnTo>
                <a:lnTo>
                  <a:pt x="1022" y="979"/>
                </a:lnTo>
                <a:lnTo>
                  <a:pt x="1020" y="979"/>
                </a:lnTo>
                <a:lnTo>
                  <a:pt x="1021" y="986"/>
                </a:lnTo>
                <a:lnTo>
                  <a:pt x="1023" y="993"/>
                </a:lnTo>
                <a:lnTo>
                  <a:pt x="1026" y="1000"/>
                </a:lnTo>
                <a:lnTo>
                  <a:pt x="1027" y="1007"/>
                </a:lnTo>
                <a:lnTo>
                  <a:pt x="1136" y="984"/>
                </a:lnTo>
                <a:lnTo>
                  <a:pt x="1117" y="1020"/>
                </a:lnTo>
                <a:lnTo>
                  <a:pt x="1111" y="1023"/>
                </a:lnTo>
                <a:lnTo>
                  <a:pt x="1103" y="1029"/>
                </a:lnTo>
                <a:lnTo>
                  <a:pt x="1093" y="1036"/>
                </a:lnTo>
                <a:lnTo>
                  <a:pt x="1083" y="1044"/>
                </a:lnTo>
                <a:lnTo>
                  <a:pt x="1073" y="1052"/>
                </a:lnTo>
                <a:lnTo>
                  <a:pt x="1065" y="1058"/>
                </a:lnTo>
                <a:lnTo>
                  <a:pt x="1058" y="1063"/>
                </a:lnTo>
                <a:lnTo>
                  <a:pt x="1054" y="1064"/>
                </a:lnTo>
                <a:lnTo>
                  <a:pt x="1058" y="1069"/>
                </a:lnTo>
                <a:lnTo>
                  <a:pt x="1063" y="1074"/>
                </a:lnTo>
                <a:lnTo>
                  <a:pt x="1068" y="1079"/>
                </a:lnTo>
                <a:lnTo>
                  <a:pt x="1074" y="1083"/>
                </a:lnTo>
                <a:lnTo>
                  <a:pt x="1080" y="1087"/>
                </a:lnTo>
                <a:lnTo>
                  <a:pt x="1085" y="1089"/>
                </a:lnTo>
                <a:lnTo>
                  <a:pt x="1088" y="1091"/>
                </a:lnTo>
                <a:lnTo>
                  <a:pt x="1089" y="1093"/>
                </a:lnTo>
                <a:lnTo>
                  <a:pt x="1043" y="1093"/>
                </a:lnTo>
                <a:lnTo>
                  <a:pt x="1030" y="1074"/>
                </a:lnTo>
                <a:lnTo>
                  <a:pt x="1022" y="1071"/>
                </a:lnTo>
                <a:lnTo>
                  <a:pt x="1014" y="1068"/>
                </a:lnTo>
                <a:lnTo>
                  <a:pt x="1006" y="1068"/>
                </a:lnTo>
                <a:lnTo>
                  <a:pt x="998" y="1069"/>
                </a:lnTo>
                <a:lnTo>
                  <a:pt x="990" y="1071"/>
                </a:lnTo>
                <a:lnTo>
                  <a:pt x="980" y="1072"/>
                </a:lnTo>
                <a:lnTo>
                  <a:pt x="971" y="1072"/>
                </a:lnTo>
                <a:lnTo>
                  <a:pt x="962" y="1072"/>
                </a:lnTo>
                <a:lnTo>
                  <a:pt x="959" y="1081"/>
                </a:lnTo>
                <a:lnTo>
                  <a:pt x="956" y="1088"/>
                </a:lnTo>
                <a:lnTo>
                  <a:pt x="952" y="1095"/>
                </a:lnTo>
                <a:lnTo>
                  <a:pt x="948" y="1100"/>
                </a:lnTo>
                <a:lnTo>
                  <a:pt x="943" y="1105"/>
                </a:lnTo>
                <a:lnTo>
                  <a:pt x="937" y="1110"/>
                </a:lnTo>
                <a:lnTo>
                  <a:pt x="932" y="1113"/>
                </a:lnTo>
                <a:lnTo>
                  <a:pt x="923" y="1118"/>
                </a:lnTo>
                <a:lnTo>
                  <a:pt x="917" y="1116"/>
                </a:lnTo>
                <a:lnTo>
                  <a:pt x="911" y="1112"/>
                </a:lnTo>
                <a:lnTo>
                  <a:pt x="905" y="1109"/>
                </a:lnTo>
                <a:lnTo>
                  <a:pt x="899" y="1107"/>
                </a:lnTo>
                <a:lnTo>
                  <a:pt x="876" y="1130"/>
                </a:lnTo>
                <a:lnTo>
                  <a:pt x="864" y="1181"/>
                </a:lnTo>
                <a:lnTo>
                  <a:pt x="799" y="1181"/>
                </a:lnTo>
                <a:lnTo>
                  <a:pt x="790" y="1105"/>
                </a:lnTo>
                <a:lnTo>
                  <a:pt x="797" y="1105"/>
                </a:lnTo>
                <a:lnTo>
                  <a:pt x="803" y="1105"/>
                </a:lnTo>
                <a:lnTo>
                  <a:pt x="808" y="1105"/>
                </a:lnTo>
                <a:lnTo>
                  <a:pt x="812" y="1104"/>
                </a:lnTo>
                <a:lnTo>
                  <a:pt x="804" y="985"/>
                </a:lnTo>
                <a:lnTo>
                  <a:pt x="806" y="991"/>
                </a:lnTo>
                <a:lnTo>
                  <a:pt x="811" y="1003"/>
                </a:lnTo>
                <a:lnTo>
                  <a:pt x="817" y="1021"/>
                </a:lnTo>
                <a:lnTo>
                  <a:pt x="825" y="1041"/>
                </a:lnTo>
                <a:lnTo>
                  <a:pt x="832" y="1059"/>
                </a:lnTo>
                <a:lnTo>
                  <a:pt x="840" y="1076"/>
                </a:lnTo>
                <a:lnTo>
                  <a:pt x="845" y="1088"/>
                </a:lnTo>
                <a:lnTo>
                  <a:pt x="848" y="1094"/>
                </a:lnTo>
                <a:lnTo>
                  <a:pt x="854" y="1089"/>
                </a:lnTo>
                <a:lnTo>
                  <a:pt x="862" y="1085"/>
                </a:lnTo>
                <a:lnTo>
                  <a:pt x="869" y="1081"/>
                </a:lnTo>
                <a:lnTo>
                  <a:pt x="871" y="1080"/>
                </a:lnTo>
                <a:lnTo>
                  <a:pt x="870" y="1074"/>
                </a:lnTo>
                <a:lnTo>
                  <a:pt x="868" y="1069"/>
                </a:lnTo>
                <a:lnTo>
                  <a:pt x="864" y="1065"/>
                </a:lnTo>
                <a:lnTo>
                  <a:pt x="862" y="1064"/>
                </a:lnTo>
                <a:lnTo>
                  <a:pt x="904" y="1049"/>
                </a:lnTo>
                <a:lnTo>
                  <a:pt x="908" y="1043"/>
                </a:lnTo>
                <a:lnTo>
                  <a:pt x="914" y="1034"/>
                </a:lnTo>
                <a:lnTo>
                  <a:pt x="920" y="1024"/>
                </a:lnTo>
                <a:lnTo>
                  <a:pt x="922" y="1018"/>
                </a:lnTo>
                <a:lnTo>
                  <a:pt x="917" y="1016"/>
                </a:lnTo>
                <a:lnTo>
                  <a:pt x="906" y="1013"/>
                </a:lnTo>
                <a:lnTo>
                  <a:pt x="892" y="1008"/>
                </a:lnTo>
                <a:lnTo>
                  <a:pt x="877" y="1002"/>
                </a:lnTo>
                <a:lnTo>
                  <a:pt x="863" y="998"/>
                </a:lnTo>
                <a:lnTo>
                  <a:pt x="849" y="994"/>
                </a:lnTo>
                <a:lnTo>
                  <a:pt x="839" y="991"/>
                </a:lnTo>
                <a:lnTo>
                  <a:pt x="832" y="990"/>
                </a:lnTo>
                <a:lnTo>
                  <a:pt x="824" y="972"/>
                </a:lnTo>
                <a:lnTo>
                  <a:pt x="833" y="971"/>
                </a:lnTo>
                <a:lnTo>
                  <a:pt x="848" y="971"/>
                </a:lnTo>
                <a:lnTo>
                  <a:pt x="867" y="970"/>
                </a:lnTo>
                <a:lnTo>
                  <a:pt x="886" y="969"/>
                </a:lnTo>
                <a:lnTo>
                  <a:pt x="905" y="968"/>
                </a:lnTo>
                <a:lnTo>
                  <a:pt x="922" y="968"/>
                </a:lnTo>
                <a:lnTo>
                  <a:pt x="933" y="966"/>
                </a:lnTo>
                <a:lnTo>
                  <a:pt x="937" y="966"/>
                </a:lnTo>
                <a:lnTo>
                  <a:pt x="936" y="959"/>
                </a:lnTo>
                <a:lnTo>
                  <a:pt x="933" y="949"/>
                </a:lnTo>
                <a:lnTo>
                  <a:pt x="929" y="939"/>
                </a:lnTo>
                <a:lnTo>
                  <a:pt x="927" y="933"/>
                </a:lnTo>
                <a:lnTo>
                  <a:pt x="875" y="948"/>
                </a:lnTo>
                <a:lnTo>
                  <a:pt x="852" y="908"/>
                </a:lnTo>
                <a:lnTo>
                  <a:pt x="855" y="907"/>
                </a:lnTo>
                <a:lnTo>
                  <a:pt x="861" y="904"/>
                </a:lnTo>
                <a:lnTo>
                  <a:pt x="869" y="899"/>
                </a:lnTo>
                <a:lnTo>
                  <a:pt x="877" y="895"/>
                </a:lnTo>
                <a:lnTo>
                  <a:pt x="884" y="890"/>
                </a:lnTo>
                <a:lnTo>
                  <a:pt x="891" y="885"/>
                </a:lnTo>
                <a:lnTo>
                  <a:pt x="894" y="881"/>
                </a:lnTo>
                <a:lnTo>
                  <a:pt x="896" y="877"/>
                </a:lnTo>
                <a:lnTo>
                  <a:pt x="891" y="868"/>
                </a:lnTo>
                <a:lnTo>
                  <a:pt x="884" y="860"/>
                </a:lnTo>
                <a:lnTo>
                  <a:pt x="876" y="854"/>
                </a:lnTo>
                <a:lnTo>
                  <a:pt x="867" y="852"/>
                </a:lnTo>
                <a:lnTo>
                  <a:pt x="805" y="948"/>
                </a:lnTo>
                <a:lnTo>
                  <a:pt x="852" y="908"/>
                </a:lnTo>
                <a:lnTo>
                  <a:pt x="875" y="948"/>
                </a:lnTo>
                <a:lnTo>
                  <a:pt x="824" y="972"/>
                </a:lnTo>
                <a:lnTo>
                  <a:pt x="832" y="990"/>
                </a:lnTo>
                <a:lnTo>
                  <a:pt x="904" y="1049"/>
                </a:lnTo>
                <a:lnTo>
                  <a:pt x="862" y="1064"/>
                </a:lnTo>
                <a:lnTo>
                  <a:pt x="859" y="1060"/>
                </a:lnTo>
                <a:lnTo>
                  <a:pt x="852" y="1052"/>
                </a:lnTo>
                <a:lnTo>
                  <a:pt x="843" y="1039"/>
                </a:lnTo>
                <a:lnTo>
                  <a:pt x="833" y="1024"/>
                </a:lnTo>
                <a:lnTo>
                  <a:pt x="824" y="1010"/>
                </a:lnTo>
                <a:lnTo>
                  <a:pt x="816" y="998"/>
                </a:lnTo>
                <a:lnTo>
                  <a:pt x="809" y="988"/>
                </a:lnTo>
                <a:lnTo>
                  <a:pt x="804" y="985"/>
                </a:lnTo>
                <a:lnTo>
                  <a:pt x="812" y="1104"/>
                </a:lnTo>
                <a:lnTo>
                  <a:pt x="809" y="1085"/>
                </a:lnTo>
                <a:lnTo>
                  <a:pt x="802" y="1052"/>
                </a:lnTo>
                <a:lnTo>
                  <a:pt x="795" y="1017"/>
                </a:lnTo>
                <a:lnTo>
                  <a:pt x="789" y="993"/>
                </a:lnTo>
                <a:lnTo>
                  <a:pt x="770" y="995"/>
                </a:lnTo>
                <a:lnTo>
                  <a:pt x="747" y="1014"/>
                </a:lnTo>
                <a:lnTo>
                  <a:pt x="765" y="979"/>
                </a:lnTo>
                <a:lnTo>
                  <a:pt x="726" y="973"/>
                </a:lnTo>
                <a:lnTo>
                  <a:pt x="725" y="952"/>
                </a:lnTo>
                <a:lnTo>
                  <a:pt x="729" y="952"/>
                </a:lnTo>
                <a:lnTo>
                  <a:pt x="733" y="954"/>
                </a:lnTo>
                <a:lnTo>
                  <a:pt x="738" y="955"/>
                </a:lnTo>
                <a:lnTo>
                  <a:pt x="745" y="956"/>
                </a:lnTo>
                <a:lnTo>
                  <a:pt x="751" y="957"/>
                </a:lnTo>
                <a:lnTo>
                  <a:pt x="755" y="958"/>
                </a:lnTo>
                <a:lnTo>
                  <a:pt x="760" y="959"/>
                </a:lnTo>
                <a:lnTo>
                  <a:pt x="763" y="961"/>
                </a:lnTo>
                <a:lnTo>
                  <a:pt x="759" y="957"/>
                </a:lnTo>
                <a:lnTo>
                  <a:pt x="747" y="951"/>
                </a:lnTo>
                <a:lnTo>
                  <a:pt x="731" y="943"/>
                </a:lnTo>
                <a:lnTo>
                  <a:pt x="712" y="934"/>
                </a:lnTo>
                <a:lnTo>
                  <a:pt x="693" y="925"/>
                </a:lnTo>
                <a:lnTo>
                  <a:pt x="676" y="917"/>
                </a:lnTo>
                <a:lnTo>
                  <a:pt x="665" y="911"/>
                </a:lnTo>
                <a:lnTo>
                  <a:pt x="660" y="908"/>
                </a:lnTo>
                <a:lnTo>
                  <a:pt x="685" y="871"/>
                </a:lnTo>
                <a:lnTo>
                  <a:pt x="692" y="875"/>
                </a:lnTo>
                <a:lnTo>
                  <a:pt x="702" y="884"/>
                </a:lnTo>
                <a:lnTo>
                  <a:pt x="716" y="895"/>
                </a:lnTo>
                <a:lnTo>
                  <a:pt x="732" y="907"/>
                </a:lnTo>
                <a:lnTo>
                  <a:pt x="747" y="920"/>
                </a:lnTo>
                <a:lnTo>
                  <a:pt x="760" y="930"/>
                </a:lnTo>
                <a:lnTo>
                  <a:pt x="769" y="937"/>
                </a:lnTo>
                <a:lnTo>
                  <a:pt x="773" y="940"/>
                </a:lnTo>
                <a:lnTo>
                  <a:pt x="715" y="847"/>
                </a:lnTo>
                <a:lnTo>
                  <a:pt x="768" y="826"/>
                </a:lnTo>
                <a:lnTo>
                  <a:pt x="790" y="941"/>
                </a:lnTo>
                <a:lnTo>
                  <a:pt x="811" y="826"/>
                </a:lnTo>
                <a:lnTo>
                  <a:pt x="805" y="825"/>
                </a:lnTo>
                <a:lnTo>
                  <a:pt x="799" y="825"/>
                </a:lnTo>
                <a:lnTo>
                  <a:pt x="794" y="824"/>
                </a:lnTo>
                <a:lnTo>
                  <a:pt x="788" y="824"/>
                </a:lnTo>
                <a:lnTo>
                  <a:pt x="782" y="825"/>
                </a:lnTo>
                <a:lnTo>
                  <a:pt x="777" y="825"/>
                </a:lnTo>
                <a:lnTo>
                  <a:pt x="773" y="826"/>
                </a:lnTo>
                <a:lnTo>
                  <a:pt x="768" y="826"/>
                </a:lnTo>
                <a:lnTo>
                  <a:pt x="715" y="847"/>
                </a:lnTo>
                <a:lnTo>
                  <a:pt x="707" y="853"/>
                </a:lnTo>
                <a:lnTo>
                  <a:pt x="696" y="860"/>
                </a:lnTo>
                <a:lnTo>
                  <a:pt x="688" y="867"/>
                </a:lnTo>
                <a:lnTo>
                  <a:pt x="685" y="871"/>
                </a:lnTo>
                <a:lnTo>
                  <a:pt x="660" y="908"/>
                </a:lnTo>
                <a:lnTo>
                  <a:pt x="658" y="914"/>
                </a:lnTo>
                <a:lnTo>
                  <a:pt x="656" y="922"/>
                </a:lnTo>
                <a:lnTo>
                  <a:pt x="653" y="932"/>
                </a:lnTo>
                <a:lnTo>
                  <a:pt x="651" y="940"/>
                </a:lnTo>
                <a:lnTo>
                  <a:pt x="654" y="940"/>
                </a:lnTo>
                <a:lnTo>
                  <a:pt x="661" y="942"/>
                </a:lnTo>
                <a:lnTo>
                  <a:pt x="673" y="943"/>
                </a:lnTo>
                <a:lnTo>
                  <a:pt x="687" y="946"/>
                </a:lnTo>
                <a:lnTo>
                  <a:pt x="700" y="949"/>
                </a:lnTo>
                <a:lnTo>
                  <a:pt x="711" y="950"/>
                </a:lnTo>
                <a:lnTo>
                  <a:pt x="721" y="952"/>
                </a:lnTo>
                <a:lnTo>
                  <a:pt x="725" y="952"/>
                </a:lnTo>
                <a:lnTo>
                  <a:pt x="726" y="973"/>
                </a:lnTo>
                <a:lnTo>
                  <a:pt x="719" y="972"/>
                </a:lnTo>
                <a:lnTo>
                  <a:pt x="708" y="972"/>
                </a:lnTo>
                <a:lnTo>
                  <a:pt x="696" y="972"/>
                </a:lnTo>
                <a:lnTo>
                  <a:pt x="682" y="973"/>
                </a:lnTo>
                <a:lnTo>
                  <a:pt x="670" y="973"/>
                </a:lnTo>
                <a:lnTo>
                  <a:pt x="659" y="974"/>
                </a:lnTo>
                <a:lnTo>
                  <a:pt x="651" y="974"/>
                </a:lnTo>
                <a:lnTo>
                  <a:pt x="649" y="974"/>
                </a:lnTo>
                <a:lnTo>
                  <a:pt x="650" y="981"/>
                </a:lnTo>
                <a:lnTo>
                  <a:pt x="652" y="988"/>
                </a:lnTo>
                <a:lnTo>
                  <a:pt x="654" y="995"/>
                </a:lnTo>
                <a:lnTo>
                  <a:pt x="656" y="1002"/>
                </a:lnTo>
                <a:lnTo>
                  <a:pt x="765" y="979"/>
                </a:lnTo>
                <a:lnTo>
                  <a:pt x="747" y="1014"/>
                </a:lnTo>
                <a:lnTo>
                  <a:pt x="740" y="1017"/>
                </a:lnTo>
                <a:lnTo>
                  <a:pt x="732" y="1023"/>
                </a:lnTo>
                <a:lnTo>
                  <a:pt x="723" y="1031"/>
                </a:lnTo>
                <a:lnTo>
                  <a:pt x="712" y="1039"/>
                </a:lnTo>
                <a:lnTo>
                  <a:pt x="703" y="1046"/>
                </a:lnTo>
                <a:lnTo>
                  <a:pt x="694" y="1053"/>
                </a:lnTo>
                <a:lnTo>
                  <a:pt x="688" y="1058"/>
                </a:lnTo>
                <a:lnTo>
                  <a:pt x="685" y="1059"/>
                </a:lnTo>
                <a:lnTo>
                  <a:pt x="688" y="1065"/>
                </a:lnTo>
                <a:lnTo>
                  <a:pt x="693" y="1069"/>
                </a:lnTo>
                <a:lnTo>
                  <a:pt x="699" y="1074"/>
                </a:lnTo>
                <a:lnTo>
                  <a:pt x="704" y="1079"/>
                </a:lnTo>
                <a:lnTo>
                  <a:pt x="710" y="1082"/>
                </a:lnTo>
                <a:lnTo>
                  <a:pt x="715" y="1085"/>
                </a:lnTo>
                <a:lnTo>
                  <a:pt x="718" y="1087"/>
                </a:lnTo>
                <a:lnTo>
                  <a:pt x="719" y="1088"/>
                </a:lnTo>
                <a:lnTo>
                  <a:pt x="723" y="1086"/>
                </a:lnTo>
                <a:lnTo>
                  <a:pt x="730" y="1078"/>
                </a:lnTo>
                <a:lnTo>
                  <a:pt x="737" y="1064"/>
                </a:lnTo>
                <a:lnTo>
                  <a:pt x="745" y="1047"/>
                </a:lnTo>
                <a:lnTo>
                  <a:pt x="753" y="1031"/>
                </a:lnTo>
                <a:lnTo>
                  <a:pt x="760" y="1015"/>
                </a:lnTo>
                <a:lnTo>
                  <a:pt x="767" y="1002"/>
                </a:lnTo>
                <a:lnTo>
                  <a:pt x="770" y="995"/>
                </a:lnTo>
                <a:lnTo>
                  <a:pt x="789" y="993"/>
                </a:lnTo>
                <a:lnTo>
                  <a:pt x="785" y="1013"/>
                </a:lnTo>
                <a:lnTo>
                  <a:pt x="780" y="1049"/>
                </a:lnTo>
                <a:lnTo>
                  <a:pt x="774" y="1085"/>
                </a:lnTo>
                <a:lnTo>
                  <a:pt x="773" y="1104"/>
                </a:lnTo>
                <a:lnTo>
                  <a:pt x="777" y="1104"/>
                </a:lnTo>
                <a:lnTo>
                  <a:pt x="782" y="1104"/>
                </a:lnTo>
                <a:lnTo>
                  <a:pt x="785" y="1105"/>
                </a:lnTo>
                <a:lnTo>
                  <a:pt x="790" y="1105"/>
                </a:lnTo>
                <a:lnTo>
                  <a:pt x="799" y="1181"/>
                </a:lnTo>
                <a:lnTo>
                  <a:pt x="752" y="1181"/>
                </a:lnTo>
                <a:lnTo>
                  <a:pt x="707" y="1130"/>
                </a:lnTo>
                <a:lnTo>
                  <a:pt x="704" y="1129"/>
                </a:lnTo>
                <a:lnTo>
                  <a:pt x="700" y="1124"/>
                </a:lnTo>
                <a:lnTo>
                  <a:pt x="693" y="1118"/>
                </a:lnTo>
                <a:lnTo>
                  <a:pt x="683" y="1109"/>
                </a:lnTo>
                <a:lnTo>
                  <a:pt x="674" y="1100"/>
                </a:lnTo>
                <a:lnTo>
                  <a:pt x="665" y="1088"/>
                </a:lnTo>
                <a:lnTo>
                  <a:pt x="658" y="1076"/>
                </a:lnTo>
                <a:lnTo>
                  <a:pt x="652" y="1064"/>
                </a:lnTo>
                <a:lnTo>
                  <a:pt x="646" y="1069"/>
                </a:lnTo>
                <a:lnTo>
                  <a:pt x="644" y="1076"/>
                </a:lnTo>
                <a:lnTo>
                  <a:pt x="642" y="1086"/>
                </a:lnTo>
                <a:lnTo>
                  <a:pt x="639" y="1093"/>
                </a:lnTo>
                <a:lnTo>
                  <a:pt x="631" y="1096"/>
                </a:lnTo>
                <a:lnTo>
                  <a:pt x="614" y="1098"/>
                </a:lnTo>
                <a:lnTo>
                  <a:pt x="590" y="1100"/>
                </a:lnTo>
                <a:lnTo>
                  <a:pt x="562" y="1101"/>
                </a:lnTo>
                <a:lnTo>
                  <a:pt x="532" y="1102"/>
                </a:lnTo>
                <a:lnTo>
                  <a:pt x="501" y="1102"/>
                </a:lnTo>
                <a:lnTo>
                  <a:pt x="476" y="1102"/>
                </a:lnTo>
                <a:lnTo>
                  <a:pt x="455" y="1102"/>
                </a:lnTo>
                <a:lnTo>
                  <a:pt x="448" y="1110"/>
                </a:lnTo>
                <a:lnTo>
                  <a:pt x="441" y="1117"/>
                </a:lnTo>
                <a:lnTo>
                  <a:pt x="433" y="1124"/>
                </a:lnTo>
                <a:lnTo>
                  <a:pt x="425" y="1130"/>
                </a:lnTo>
                <a:lnTo>
                  <a:pt x="707" y="1130"/>
                </a:lnTo>
                <a:lnTo>
                  <a:pt x="752" y="1181"/>
                </a:lnTo>
                <a:lnTo>
                  <a:pt x="734" y="1181"/>
                </a:lnTo>
                <a:lnTo>
                  <a:pt x="704" y="1182"/>
                </a:lnTo>
                <a:lnTo>
                  <a:pt x="664" y="1182"/>
                </a:lnTo>
                <a:lnTo>
                  <a:pt x="614" y="1182"/>
                </a:lnTo>
                <a:lnTo>
                  <a:pt x="557" y="1182"/>
                </a:lnTo>
                <a:lnTo>
                  <a:pt x="496" y="1182"/>
                </a:lnTo>
                <a:lnTo>
                  <a:pt x="431" y="1182"/>
                </a:lnTo>
                <a:lnTo>
                  <a:pt x="365" y="1182"/>
                </a:lnTo>
                <a:lnTo>
                  <a:pt x="298" y="1182"/>
                </a:lnTo>
                <a:lnTo>
                  <a:pt x="236" y="1182"/>
                </a:lnTo>
                <a:lnTo>
                  <a:pt x="177" y="1181"/>
                </a:lnTo>
                <a:lnTo>
                  <a:pt x="125" y="1181"/>
                </a:lnTo>
                <a:lnTo>
                  <a:pt x="80" y="1181"/>
                </a:lnTo>
                <a:lnTo>
                  <a:pt x="47" y="1181"/>
                </a:lnTo>
                <a:lnTo>
                  <a:pt x="26" y="1181"/>
                </a:lnTo>
                <a:lnTo>
                  <a:pt x="18" y="1181"/>
                </a:lnTo>
                <a:lnTo>
                  <a:pt x="18" y="1130"/>
                </a:lnTo>
                <a:lnTo>
                  <a:pt x="253" y="1130"/>
                </a:lnTo>
                <a:lnTo>
                  <a:pt x="245" y="1122"/>
                </a:lnTo>
                <a:lnTo>
                  <a:pt x="238" y="1113"/>
                </a:lnTo>
                <a:lnTo>
                  <a:pt x="230" y="1105"/>
                </a:lnTo>
                <a:lnTo>
                  <a:pt x="223" y="1097"/>
                </a:lnTo>
                <a:lnTo>
                  <a:pt x="216" y="1089"/>
                </a:lnTo>
                <a:lnTo>
                  <a:pt x="210" y="1080"/>
                </a:lnTo>
                <a:lnTo>
                  <a:pt x="205" y="1071"/>
                </a:lnTo>
                <a:lnTo>
                  <a:pt x="201" y="1061"/>
                </a:lnTo>
                <a:lnTo>
                  <a:pt x="189" y="1037"/>
                </a:lnTo>
                <a:lnTo>
                  <a:pt x="184" y="1008"/>
                </a:lnTo>
                <a:lnTo>
                  <a:pt x="180" y="979"/>
                </a:lnTo>
                <a:lnTo>
                  <a:pt x="178" y="957"/>
                </a:lnTo>
                <a:lnTo>
                  <a:pt x="210" y="948"/>
                </a:lnTo>
                <a:lnTo>
                  <a:pt x="213" y="956"/>
                </a:lnTo>
                <a:lnTo>
                  <a:pt x="214" y="980"/>
                </a:lnTo>
                <a:lnTo>
                  <a:pt x="214" y="986"/>
                </a:lnTo>
                <a:lnTo>
                  <a:pt x="216" y="993"/>
                </a:lnTo>
                <a:lnTo>
                  <a:pt x="218" y="999"/>
                </a:lnTo>
                <a:lnTo>
                  <a:pt x="221" y="1003"/>
                </a:lnTo>
                <a:lnTo>
                  <a:pt x="227" y="1002"/>
                </a:lnTo>
                <a:lnTo>
                  <a:pt x="234" y="1001"/>
                </a:lnTo>
                <a:lnTo>
                  <a:pt x="242" y="999"/>
                </a:lnTo>
                <a:lnTo>
                  <a:pt x="250" y="996"/>
                </a:lnTo>
                <a:lnTo>
                  <a:pt x="257" y="994"/>
                </a:lnTo>
                <a:lnTo>
                  <a:pt x="264" y="992"/>
                </a:lnTo>
                <a:lnTo>
                  <a:pt x="269" y="990"/>
                </a:lnTo>
                <a:lnTo>
                  <a:pt x="273" y="986"/>
                </a:lnTo>
                <a:lnTo>
                  <a:pt x="288" y="1014"/>
                </a:lnTo>
                <a:lnTo>
                  <a:pt x="281" y="1015"/>
                </a:lnTo>
                <a:lnTo>
                  <a:pt x="273" y="1016"/>
                </a:lnTo>
                <a:lnTo>
                  <a:pt x="265" y="1017"/>
                </a:lnTo>
                <a:lnTo>
                  <a:pt x="257" y="1020"/>
                </a:lnTo>
                <a:lnTo>
                  <a:pt x="247" y="1022"/>
                </a:lnTo>
                <a:lnTo>
                  <a:pt x="241" y="1024"/>
                </a:lnTo>
                <a:lnTo>
                  <a:pt x="232" y="1027"/>
                </a:lnTo>
                <a:lnTo>
                  <a:pt x="225" y="1029"/>
                </a:lnTo>
                <a:lnTo>
                  <a:pt x="227" y="1037"/>
                </a:lnTo>
                <a:lnTo>
                  <a:pt x="229" y="1044"/>
                </a:lnTo>
                <a:lnTo>
                  <a:pt x="231" y="1050"/>
                </a:lnTo>
                <a:lnTo>
                  <a:pt x="237" y="1056"/>
                </a:lnTo>
                <a:lnTo>
                  <a:pt x="252" y="1079"/>
                </a:lnTo>
                <a:lnTo>
                  <a:pt x="256" y="1083"/>
                </a:lnTo>
                <a:lnTo>
                  <a:pt x="264" y="1090"/>
                </a:lnTo>
                <a:lnTo>
                  <a:pt x="274" y="1097"/>
                </a:lnTo>
                <a:lnTo>
                  <a:pt x="283" y="1104"/>
                </a:lnTo>
                <a:lnTo>
                  <a:pt x="323" y="1120"/>
                </a:lnTo>
                <a:lnTo>
                  <a:pt x="327" y="1120"/>
                </a:lnTo>
                <a:lnTo>
                  <a:pt x="332" y="1120"/>
                </a:lnTo>
                <a:lnTo>
                  <a:pt x="338" y="1120"/>
                </a:lnTo>
                <a:lnTo>
                  <a:pt x="344" y="1120"/>
                </a:lnTo>
                <a:lnTo>
                  <a:pt x="349" y="1119"/>
                </a:lnTo>
                <a:lnTo>
                  <a:pt x="355" y="1118"/>
                </a:lnTo>
                <a:lnTo>
                  <a:pt x="359" y="1116"/>
                </a:lnTo>
                <a:lnTo>
                  <a:pt x="361" y="1112"/>
                </a:lnTo>
                <a:lnTo>
                  <a:pt x="356" y="1104"/>
                </a:lnTo>
                <a:lnTo>
                  <a:pt x="351" y="1096"/>
                </a:lnTo>
                <a:lnTo>
                  <a:pt x="344" y="1090"/>
                </a:lnTo>
                <a:lnTo>
                  <a:pt x="337" y="1085"/>
                </a:lnTo>
                <a:lnTo>
                  <a:pt x="333" y="1093"/>
                </a:lnTo>
                <a:lnTo>
                  <a:pt x="329" y="1104"/>
                </a:lnTo>
                <a:lnTo>
                  <a:pt x="325" y="1116"/>
                </a:lnTo>
                <a:lnTo>
                  <a:pt x="323" y="1120"/>
                </a:lnTo>
                <a:lnTo>
                  <a:pt x="283" y="1104"/>
                </a:lnTo>
                <a:lnTo>
                  <a:pt x="290" y="1089"/>
                </a:lnTo>
                <a:lnTo>
                  <a:pt x="300" y="1073"/>
                </a:lnTo>
                <a:lnTo>
                  <a:pt x="305" y="1056"/>
                </a:lnTo>
                <a:lnTo>
                  <a:pt x="308" y="1039"/>
                </a:lnTo>
                <a:lnTo>
                  <a:pt x="301" y="1043"/>
                </a:lnTo>
                <a:lnTo>
                  <a:pt x="293" y="1049"/>
                </a:lnTo>
                <a:lnTo>
                  <a:pt x="285" y="1054"/>
                </a:lnTo>
                <a:lnTo>
                  <a:pt x="275" y="1061"/>
                </a:lnTo>
                <a:lnTo>
                  <a:pt x="266" y="1067"/>
                </a:lnTo>
                <a:lnTo>
                  <a:pt x="259" y="1073"/>
                </a:lnTo>
                <a:lnTo>
                  <a:pt x="254" y="1076"/>
                </a:lnTo>
                <a:lnTo>
                  <a:pt x="252" y="1079"/>
                </a:lnTo>
                <a:lnTo>
                  <a:pt x="237" y="1056"/>
                </a:lnTo>
                <a:lnTo>
                  <a:pt x="243" y="1051"/>
                </a:lnTo>
                <a:lnTo>
                  <a:pt x="249" y="1047"/>
                </a:lnTo>
                <a:lnTo>
                  <a:pt x="256" y="1043"/>
                </a:lnTo>
                <a:lnTo>
                  <a:pt x="263" y="1038"/>
                </a:lnTo>
                <a:lnTo>
                  <a:pt x="269" y="1034"/>
                </a:lnTo>
                <a:lnTo>
                  <a:pt x="276" y="1028"/>
                </a:lnTo>
                <a:lnTo>
                  <a:pt x="282" y="1023"/>
                </a:lnTo>
                <a:lnTo>
                  <a:pt x="288" y="1018"/>
                </a:lnTo>
                <a:lnTo>
                  <a:pt x="288" y="1014"/>
                </a:lnTo>
                <a:lnTo>
                  <a:pt x="273" y="986"/>
                </a:lnTo>
                <a:lnTo>
                  <a:pt x="267" y="985"/>
                </a:lnTo>
                <a:lnTo>
                  <a:pt x="260" y="983"/>
                </a:lnTo>
                <a:lnTo>
                  <a:pt x="252" y="981"/>
                </a:lnTo>
                <a:lnTo>
                  <a:pt x="244" y="980"/>
                </a:lnTo>
                <a:lnTo>
                  <a:pt x="235" y="980"/>
                </a:lnTo>
                <a:lnTo>
                  <a:pt x="227" y="979"/>
                </a:lnTo>
                <a:lnTo>
                  <a:pt x="220" y="979"/>
                </a:lnTo>
                <a:lnTo>
                  <a:pt x="214" y="980"/>
                </a:lnTo>
                <a:lnTo>
                  <a:pt x="213" y="956"/>
                </a:lnTo>
                <a:lnTo>
                  <a:pt x="217" y="957"/>
                </a:lnTo>
                <a:lnTo>
                  <a:pt x="225" y="956"/>
                </a:lnTo>
                <a:lnTo>
                  <a:pt x="235" y="954"/>
                </a:lnTo>
                <a:lnTo>
                  <a:pt x="244" y="950"/>
                </a:lnTo>
                <a:lnTo>
                  <a:pt x="253" y="947"/>
                </a:lnTo>
                <a:lnTo>
                  <a:pt x="261" y="942"/>
                </a:lnTo>
                <a:lnTo>
                  <a:pt x="267" y="939"/>
                </a:lnTo>
                <a:lnTo>
                  <a:pt x="269" y="935"/>
                </a:lnTo>
                <a:lnTo>
                  <a:pt x="210" y="937"/>
                </a:lnTo>
                <a:lnTo>
                  <a:pt x="210" y="948"/>
                </a:lnTo>
                <a:lnTo>
                  <a:pt x="178" y="957"/>
                </a:lnTo>
                <a:lnTo>
                  <a:pt x="152" y="956"/>
                </a:lnTo>
                <a:lnTo>
                  <a:pt x="145" y="964"/>
                </a:lnTo>
                <a:lnTo>
                  <a:pt x="135" y="970"/>
                </a:lnTo>
                <a:lnTo>
                  <a:pt x="125" y="973"/>
                </a:lnTo>
                <a:lnTo>
                  <a:pt x="120" y="974"/>
                </a:lnTo>
                <a:lnTo>
                  <a:pt x="122" y="1061"/>
                </a:lnTo>
                <a:lnTo>
                  <a:pt x="87" y="1065"/>
                </a:lnTo>
                <a:lnTo>
                  <a:pt x="87" y="1046"/>
                </a:lnTo>
                <a:lnTo>
                  <a:pt x="86" y="1007"/>
                </a:lnTo>
                <a:lnTo>
                  <a:pt x="85" y="965"/>
                </a:lnTo>
                <a:lnTo>
                  <a:pt x="86" y="946"/>
                </a:lnTo>
                <a:lnTo>
                  <a:pt x="96" y="940"/>
                </a:lnTo>
                <a:lnTo>
                  <a:pt x="103" y="933"/>
                </a:lnTo>
                <a:lnTo>
                  <a:pt x="108" y="923"/>
                </a:lnTo>
                <a:lnTo>
                  <a:pt x="108" y="913"/>
                </a:lnTo>
                <a:lnTo>
                  <a:pt x="109" y="847"/>
                </a:lnTo>
                <a:lnTo>
                  <a:pt x="111" y="699"/>
                </a:lnTo>
                <a:lnTo>
                  <a:pt x="111" y="545"/>
                </a:lnTo>
                <a:lnTo>
                  <a:pt x="108" y="461"/>
                </a:lnTo>
                <a:lnTo>
                  <a:pt x="162" y="457"/>
                </a:lnTo>
                <a:lnTo>
                  <a:pt x="159" y="493"/>
                </a:lnTo>
                <a:lnTo>
                  <a:pt x="160" y="540"/>
                </a:lnTo>
                <a:lnTo>
                  <a:pt x="163" y="582"/>
                </a:lnTo>
                <a:lnTo>
                  <a:pt x="164" y="599"/>
                </a:lnTo>
                <a:lnTo>
                  <a:pt x="173" y="600"/>
                </a:lnTo>
                <a:lnTo>
                  <a:pt x="184" y="600"/>
                </a:lnTo>
                <a:lnTo>
                  <a:pt x="193" y="600"/>
                </a:lnTo>
                <a:lnTo>
                  <a:pt x="202" y="600"/>
                </a:lnTo>
                <a:lnTo>
                  <a:pt x="212" y="599"/>
                </a:lnTo>
                <a:lnTo>
                  <a:pt x="221" y="599"/>
                </a:lnTo>
                <a:lnTo>
                  <a:pt x="231" y="599"/>
                </a:lnTo>
                <a:lnTo>
                  <a:pt x="241" y="599"/>
                </a:lnTo>
                <a:lnTo>
                  <a:pt x="241" y="457"/>
                </a:lnTo>
                <a:lnTo>
                  <a:pt x="304" y="457"/>
                </a:lnTo>
                <a:lnTo>
                  <a:pt x="307" y="484"/>
                </a:lnTo>
                <a:lnTo>
                  <a:pt x="305" y="512"/>
                </a:lnTo>
                <a:lnTo>
                  <a:pt x="305" y="540"/>
                </a:lnTo>
                <a:lnTo>
                  <a:pt x="307" y="566"/>
                </a:lnTo>
                <a:lnTo>
                  <a:pt x="309" y="563"/>
                </a:lnTo>
                <a:lnTo>
                  <a:pt x="314" y="556"/>
                </a:lnTo>
                <a:lnTo>
                  <a:pt x="319" y="547"/>
                </a:lnTo>
                <a:lnTo>
                  <a:pt x="327" y="537"/>
                </a:lnTo>
                <a:lnTo>
                  <a:pt x="336" y="526"/>
                </a:lnTo>
                <a:lnTo>
                  <a:pt x="345" y="517"/>
                </a:lnTo>
                <a:lnTo>
                  <a:pt x="355" y="511"/>
                </a:lnTo>
                <a:lnTo>
                  <a:pt x="366" y="5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8" name=""/>
          <p:cNvGrpSpPr/>
          <p:nvPr/>
        </p:nvGrpSpPr>
        <p:grpSpPr>
          <a:xfrm>
            <a:off x="1066680" y="3027240"/>
            <a:ext cx="7238880" cy="304920"/>
            <a:chOff x="1066680" y="3027240"/>
            <a:chExt cx="7238880" cy="304920"/>
          </a:xfrm>
        </p:grpSpPr>
        <p:sp>
          <p:nvSpPr>
            <p:cNvPr id="2629" name=""/>
            <p:cNvSpPr/>
            <p:nvPr/>
          </p:nvSpPr>
          <p:spPr>
            <a:xfrm>
              <a:off x="1143000" y="3027240"/>
              <a:ext cx="7162560" cy="30492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1066680" y="3092400"/>
              <a:ext cx="723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1066680" y="3244680"/>
              <a:ext cx="723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632" name=""/>
          <p:cNvGraphicFramePr/>
          <p:nvPr/>
        </p:nvGraphicFramePr>
        <p:xfrm>
          <a:off x="3809880" y="2771640"/>
          <a:ext cx="914400" cy="4701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63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809880" y="2771640"/>
                    <a:ext cx="9144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4" name=""/>
          <p:cNvGraphicFramePr/>
          <p:nvPr/>
        </p:nvGraphicFramePr>
        <p:xfrm>
          <a:off x="1905120" y="2771640"/>
          <a:ext cx="914400" cy="4701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635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905120" y="2771640"/>
                    <a:ext cx="9144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2" dur="indefinite" restart="never" nodeType="tmRoot">
          <p:childTnLst>
            <p:seq>
              <p:cTn id="3423" dur="indefinite" nodeType="mainSeq">
                <p:childTnLst>
                  <p:par>
                    <p:cTn id="3424" fill="hold">
                      <p:stCondLst>
                        <p:cond delay="indefinite"/>
                      </p:stCondLst>
                      <p:childTnLst>
                        <p:par>
                          <p:cTn id="3425" fill="hold">
                            <p:stCondLst>
                              <p:cond delay="0"/>
                            </p:stCondLst>
                            <p:childTnLst>
                              <p:par>
                                <p:cTn id="3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8" dur="500"/>
                                        <p:tgtEl>
                                          <p:spTgt spid="2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9" fill="hold">
                            <p:stCondLst>
                              <p:cond delay="500"/>
                            </p:stCondLst>
                            <p:childTnLst>
                              <p:par>
                                <p:cTn id="34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2" dur="500"/>
                                        <p:tgtEl>
                                          <p:spTgt spid="2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3" fill="hold">
                      <p:stCondLst>
                        <p:cond delay="indefinite"/>
                      </p:stCondLst>
                      <p:childTnLst>
                        <p:par>
                          <p:cTn id="3434" fill="hold">
                            <p:stCondLst>
                              <p:cond delay="0"/>
                            </p:stCondLst>
                            <p:childTnLst>
                              <p:par>
                                <p:cTn id="3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7" dur="500"/>
                                        <p:tgtEl>
                                          <p:spTgt spid="2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8" fill="hold">
                      <p:stCondLst>
                        <p:cond delay="indefinite"/>
                      </p:stCondLst>
                      <p:childTnLst>
                        <p:par>
                          <p:cTn id="3439" fill="hold">
                            <p:stCondLst>
                              <p:cond delay="0"/>
                            </p:stCondLst>
                            <p:childTnLst>
                              <p:par>
                                <p:cTn id="3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2" dur="500"/>
                                        <p:tgtEl>
                                          <p:spTgt spid="2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3" fill="hold">
                      <p:stCondLst>
                        <p:cond delay="indefinite"/>
                      </p:stCondLst>
                      <p:childTnLst>
                        <p:par>
                          <p:cTn id="3444" fill="hold">
                            <p:stCondLst>
                              <p:cond delay="0"/>
                            </p:stCondLst>
                            <p:childTnLst>
                              <p:par>
                                <p:cTn id="3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7" dur="500"/>
                                        <p:tgtEl>
                                          <p:spTgt spid="2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8" fill="hold">
                      <p:stCondLst>
                        <p:cond delay="indefinite"/>
                      </p:stCondLst>
                      <p:childTnLst>
                        <p:par>
                          <p:cTn id="3449" fill="hold">
                            <p:stCondLst>
                              <p:cond delay="0"/>
                            </p:stCondLst>
                            <p:childTnLst>
                              <p:par>
                                <p:cTn id="34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2" dur="500"/>
                                        <p:tgtEl>
                                          <p:spTgt spid="2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3" fill="hold">
                      <p:stCondLst>
                        <p:cond delay="indefinite"/>
                      </p:stCondLst>
                      <p:childTnLst>
                        <p:par>
                          <p:cTn id="3454" fill="hold">
                            <p:stCondLst>
                              <p:cond delay="0"/>
                            </p:stCondLst>
                            <p:childTnLst>
                              <p:par>
                                <p:cTn id="3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7" fill="hold">
                            <p:stCondLst>
                              <p:cond delay="500"/>
                            </p:stCondLst>
                            <p:childTnLst>
                              <p:par>
                                <p:cTn id="3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0" dur="500" fill="hold"/>
                                        <p:tgtEl>
                                          <p:spTgt spid="2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1" dur="500" fill="hold"/>
                                        <p:tgtEl>
                                          <p:spTgt spid="2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2" fill="hold">
                      <p:stCondLst>
                        <p:cond delay="indefinite"/>
                      </p:stCondLst>
                      <p:childTnLst>
                        <p:par>
                          <p:cTn id="3463" fill="hold">
                            <p:stCondLst>
                              <p:cond delay="0"/>
                            </p:stCondLst>
                            <p:childTnLst>
                              <p:par>
                                <p:cTn id="34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66" dur="500"/>
                                        <p:tgtEl>
                                          <p:spTgt spid="2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68" fill="hold">
                            <p:stCondLst>
                              <p:cond delay="500"/>
                            </p:stCondLst>
                            <p:childTnLst>
                              <p:par>
                                <p:cTn id="34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1" fill="hold">
                      <p:stCondLst>
                        <p:cond delay="indefinite"/>
                      </p:stCondLst>
                      <p:childTnLst>
                        <p:par>
                          <p:cTn id="3472" fill="hold">
                            <p:stCondLst>
                              <p:cond delay="0"/>
                            </p:stCondLst>
                            <p:childTnLst>
                              <p:par>
                                <p:cTn id="3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5" fill="hold">
                            <p:stCondLst>
                              <p:cond delay="500"/>
                            </p:stCondLst>
                            <p:childTnLst>
                              <p:par>
                                <p:cTn id="3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8" dur="500" fill="hold"/>
                                        <p:tgtEl>
                                          <p:spTgt spid="2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9" dur="500" fill="hold"/>
                                        <p:tgtEl>
                                          <p:spTgt spid="2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0" fill="hold">
                      <p:stCondLst>
                        <p:cond delay="indefinite"/>
                      </p:stCondLst>
                      <p:childTnLst>
                        <p:par>
                          <p:cTn id="3481" fill="hold">
                            <p:stCondLst>
                              <p:cond delay="0"/>
                            </p:stCondLst>
                            <p:childTnLst>
                              <p:par>
                                <p:cTn id="3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4" dur="500"/>
                                        <p:tgtEl>
                                          <p:spTgt spid="2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5" fill="hold">
                            <p:stCondLst>
                              <p:cond delay="500"/>
                            </p:stCondLst>
                            <p:childTnLst>
                              <p:par>
                                <p:cTn id="3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8" dur="500"/>
                                        <p:tgtEl>
                                          <p:spTgt spid="2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2" dur="500"/>
                                        <p:tgtEl>
                                          <p:spTgt spid="2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 with 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"/>
          <p:cNvSpPr/>
          <p:nvPr/>
        </p:nvSpPr>
        <p:spPr>
          <a:xfrm>
            <a:off x="611280" y="1790640"/>
            <a:ext cx="3046320" cy="6098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 NAM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611280" y="3048120"/>
            <a:ext cx="3046320" cy="388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: condi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4572000" y="1752480"/>
            <a:ext cx="4114800" cy="11430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AME {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mutex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next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nt next_count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4572000" y="3048120"/>
            <a:ext cx="4114800" cy="685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x_delay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nt x_count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3809880" y="19051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3809880" y="30481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609480" y="3886200"/>
            <a:ext cx="3048120" cy="129528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F (…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4570560" y="3886200"/>
            <a:ext cx="4116240" cy="220968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ublic void F (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 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ody of F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next_count &gt; 0) 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nex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lse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3808440" y="38862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3" dur="indefinite" restart="never" nodeType="tmRoot">
          <p:childTnLst>
            <p:seq>
              <p:cTn id="3494" dur="indefinite" nodeType="mainSeq">
                <p:childTnLst>
                  <p:par>
                    <p:cTn id="3495" fill="hold">
                      <p:stCondLst>
                        <p:cond delay="indefinite"/>
                      </p:stCondLst>
                      <p:childTnLst>
                        <p:par>
                          <p:cTn id="3496" fill="hold">
                            <p:stCondLst>
                              <p:cond delay="0"/>
                            </p:stCondLst>
                            <p:childTnLst>
                              <p:par>
                                <p:cTn id="3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9" dur="500"/>
                                        <p:tgtEl>
                                          <p:spTgt spid="2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0" fill="hold">
                      <p:stCondLst>
                        <p:cond delay="indefinite"/>
                      </p:stCondLst>
                      <p:childTnLst>
                        <p:par>
                          <p:cTn id="3501" fill="hold">
                            <p:stCondLst>
                              <p:cond delay="0"/>
                            </p:stCondLst>
                            <p:childTnLst>
                              <p:par>
                                <p:cTn id="35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04" dur="500"/>
                                        <p:tgtEl>
                                          <p:spTgt spid="2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5" fill="hold">
                            <p:stCondLst>
                              <p:cond delay="500"/>
                            </p:stCondLst>
                            <p:childTnLst>
                              <p:par>
                                <p:cTn id="35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8" dur="500"/>
                                        <p:tgtEl>
                                          <p:spTgt spid="2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9" fill="hold">
                      <p:stCondLst>
                        <p:cond delay="indefinite"/>
                      </p:stCondLst>
                      <p:childTnLst>
                        <p:par>
                          <p:cTn id="3510" fill="hold">
                            <p:stCondLst>
                              <p:cond delay="0"/>
                            </p:stCondLst>
                            <p:childTnLst>
                              <p:par>
                                <p:cTn id="3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3" dur="500"/>
                                        <p:tgtEl>
                                          <p:spTgt spid="2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fill="hold">
                      <p:stCondLst>
                        <p:cond delay="indefinite"/>
                      </p:stCondLst>
                      <p:childTnLst>
                        <p:par>
                          <p:cTn id="3515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18" dur="500"/>
                                        <p:tgtEl>
                                          <p:spTgt spid="2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9" fill="hold">
                            <p:stCondLst>
                              <p:cond delay="500"/>
                            </p:stCondLst>
                            <p:childTnLst>
                              <p:par>
                                <p:cTn id="35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2" dur="500"/>
                                        <p:tgtEl>
                                          <p:spTgt spid="2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3" fill="hold">
                      <p:stCondLst>
                        <p:cond delay="indefinite"/>
                      </p:stCondLst>
                      <p:childTnLst>
                        <p:par>
                          <p:cTn id="3524" fill="hold">
                            <p:stCondLst>
                              <p:cond delay="0"/>
                            </p:stCondLst>
                            <p:childTnLst>
                              <p:par>
                                <p:cTn id="3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7" dur="500"/>
                                        <p:tgtEl>
                                          <p:spTgt spid="2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8" fill="hold">
                      <p:stCondLst>
                        <p:cond delay="indefinite"/>
                      </p:stCondLst>
                      <p:childTnLst>
                        <p:par>
                          <p:cTn id="3529" fill="hold">
                            <p:stCondLst>
                              <p:cond delay="0"/>
                            </p:stCondLst>
                            <p:childTnLst>
                              <p:par>
                                <p:cTn id="35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32" dur="500"/>
                                        <p:tgtEl>
                                          <p:spTgt spid="2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3" fill="hold">
                            <p:stCondLst>
                              <p:cond delay="500"/>
                            </p:stCondLst>
                            <p:childTnLst>
                              <p:par>
                                <p:cTn id="35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6" dur="500"/>
                                        <p:tgtEl>
                                          <p:spTgt spid="2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0" dur="500"/>
                                        <p:tgtEl>
                                          <p:spTgt spid="2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3" dur="500"/>
                                        <p:tgtEl>
                                          <p:spTgt spid="2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6" dur="500"/>
                                        <p:tgtEl>
                                          <p:spTgt spid="2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9" dur="500"/>
                                        <p:tgtEl>
                                          <p:spTgt spid="2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0" fill="hold">
                      <p:stCondLst>
                        <p:cond delay="indefinite"/>
                      </p:stCondLst>
                      <p:childTnLst>
                        <p:par>
                          <p:cTn id="3551" fill="hold">
                            <p:stCondLst>
                              <p:cond delay="0"/>
                            </p:stCondLst>
                            <p:childTnLst>
                              <p:par>
                                <p:cTn id="35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4" dur="500"/>
                                        <p:tgtEl>
                                          <p:spTgt spid="2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5" fill="hold">
                      <p:stCondLst>
                        <p:cond delay="indefinite"/>
                      </p:stCondLst>
                      <p:childTnLst>
                        <p:par>
                          <p:cTn id="3556" fill="hold">
                            <p:stCondLst>
                              <p:cond delay="0"/>
                            </p:stCondLst>
                            <p:childTnLst>
                              <p:par>
                                <p:cTn id="35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9" dur="500"/>
                                        <p:tgtEl>
                                          <p:spTgt spid="2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0" fill="hold">
                      <p:stCondLst>
                        <p:cond delay="indefinite"/>
                      </p:stCondLst>
                      <p:childTnLst>
                        <p:par>
                          <p:cTn id="3561" fill="hold">
                            <p:stCondLst>
                              <p:cond delay="0"/>
                            </p:stCondLst>
                            <p:childTnLst>
                              <p:par>
                                <p:cTn id="3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4" dur="500"/>
                                        <p:tgtEl>
                                          <p:spTgt spid="2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 with 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"/>
          <p:cNvSpPr/>
          <p:nvPr/>
        </p:nvSpPr>
        <p:spPr>
          <a:xfrm>
            <a:off x="611280" y="1790640"/>
            <a:ext cx="3046320" cy="4190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611280" y="3886200"/>
            <a:ext cx="3046320" cy="388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4572000" y="1752480"/>
            <a:ext cx="4114800" cy="17528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x_count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next_count &gt; 0)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nex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lse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x_dela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x_count--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3809880" y="19051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3809880" y="38862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4572000" y="3809880"/>
            <a:ext cx="4114800" cy="213372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6188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x_count &gt; 0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ext_count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x_dela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nex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ext_count--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5" dur="indefinite" restart="never" nodeType="tmRoot">
          <p:childTnLst>
            <p:seq>
              <p:cTn id="3566" dur="indefinite" nodeType="mainSeq">
                <p:childTnLst>
                  <p:par>
                    <p:cTn id="3567" fill="hold">
                      <p:stCondLst>
                        <p:cond delay="indefinite"/>
                      </p:stCondLst>
                      <p:childTnLst>
                        <p:par>
                          <p:cTn id="3568" fill="hold">
                            <p:stCondLst>
                              <p:cond delay="0"/>
                            </p:stCondLst>
                            <p:childTnLst>
                              <p:par>
                                <p:cTn id="3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1" dur="500"/>
                                        <p:tgtEl>
                                          <p:spTgt spid="2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2" fill="hold">
                      <p:stCondLst>
                        <p:cond delay="indefinite"/>
                      </p:stCondLst>
                      <p:childTnLst>
                        <p:par>
                          <p:cTn id="3573" fill="hold">
                            <p:stCondLst>
                              <p:cond delay="0"/>
                            </p:stCondLst>
                            <p:childTnLst>
                              <p:par>
                                <p:cTn id="35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76" dur="500"/>
                                        <p:tgtEl>
                                          <p:spTgt spid="2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7" fill="hold">
                            <p:stCondLst>
                              <p:cond delay="500"/>
                            </p:stCondLst>
                            <p:childTnLst>
                              <p:par>
                                <p:cTn id="35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0" dur="500"/>
                                        <p:tgtEl>
                                          <p:spTgt spid="2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1" fill="hold">
                      <p:stCondLst>
                        <p:cond delay="indefinite"/>
                      </p:stCondLst>
                      <p:childTnLst>
                        <p:par>
                          <p:cTn id="3582" fill="hold">
                            <p:stCondLst>
                              <p:cond delay="0"/>
                            </p:stCondLst>
                            <p:childTnLst>
                              <p:par>
                                <p:cTn id="35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5" dur="500"/>
                                        <p:tgtEl>
                                          <p:spTgt spid="2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6" fill="hold">
                            <p:stCondLst>
                              <p:cond delay="500"/>
                            </p:stCondLst>
                            <p:childTnLst>
                              <p:par>
                                <p:cTn id="3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9" dur="500"/>
                                        <p:tgtEl>
                                          <p:spTgt spid="2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3" dur="500"/>
                                        <p:tgtEl>
                                          <p:spTgt spid="2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4" fill="hold">
                      <p:stCondLst>
                        <p:cond delay="indefinite"/>
                      </p:stCondLst>
                      <p:childTnLst>
                        <p:par>
                          <p:cTn id="3595" fill="hold">
                            <p:stCondLst>
                              <p:cond delay="0"/>
                            </p:stCondLst>
                            <p:childTnLst>
                              <p:par>
                                <p:cTn id="35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8" dur="500"/>
                                        <p:tgtEl>
                                          <p:spTgt spid="2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9" fill="hold">
                      <p:stCondLst>
                        <p:cond delay="indefinite"/>
                      </p:stCondLst>
                      <p:childTnLst>
                        <p:par>
                          <p:cTn id="3600" fill="hold">
                            <p:stCondLst>
                              <p:cond delay="0"/>
                            </p:stCondLst>
                            <p:childTnLst>
                              <p:par>
                                <p:cTn id="3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3" dur="500"/>
                                        <p:tgtEl>
                                          <p:spTgt spid="2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4" fill="hold">
                      <p:stCondLst>
                        <p:cond delay="indefinite"/>
                      </p:stCondLst>
                      <p:childTnLst>
                        <p:par>
                          <p:cTn id="3605" fill="hold">
                            <p:stCondLst>
                              <p:cond delay="0"/>
                            </p:stCondLst>
                            <p:childTnLst>
                              <p:par>
                                <p:cTn id="36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8" dur="500"/>
                                        <p:tgtEl>
                                          <p:spTgt spid="2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9" fill="hold">
                      <p:stCondLst>
                        <p:cond delay="indefinite"/>
                      </p:stCondLst>
                      <p:childTnLst>
                        <p:par>
                          <p:cTn id="3610" fill="hold">
                            <p:stCondLst>
                              <p:cond delay="0"/>
                            </p:stCondLst>
                            <p:childTnLst>
                              <p:par>
                                <p:cTn id="36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13" dur="500"/>
                                        <p:tgtEl>
                                          <p:spTgt spid="2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4" fill="hold">
                            <p:stCondLst>
                              <p:cond delay="500"/>
                            </p:stCondLst>
                            <p:childTnLst>
                              <p:par>
                                <p:cTn id="3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7" dur="500"/>
                                        <p:tgtEl>
                                          <p:spTgt spid="2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8" fill="hold">
                      <p:stCondLst>
                        <p:cond delay="indefinite"/>
                      </p:stCondLst>
                      <p:childTnLst>
                        <p:par>
                          <p:cTn id="3619" fill="hold">
                            <p:stCondLst>
                              <p:cond delay="0"/>
                            </p:stCondLst>
                            <p:childTnLst>
                              <p:par>
                                <p:cTn id="36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2" dur="500"/>
                                        <p:tgtEl>
                                          <p:spTgt spid="2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5" dur="500"/>
                                        <p:tgtEl>
                                          <p:spTgt spid="26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6" fill="hold">
                      <p:stCondLst>
                        <p:cond delay="indefinite"/>
                      </p:stCondLst>
                      <p:childTnLst>
                        <p:par>
                          <p:cTn id="3627" fill="hold">
                            <p:stCondLst>
                              <p:cond delay="0"/>
                            </p:stCondLst>
                            <p:childTnLst>
                              <p:par>
                                <p:cTn id="36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0" dur="500"/>
                                        <p:tgtEl>
                                          <p:spTgt spid="2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1" fill="hold">
                            <p:stCondLst>
                              <p:cond delay="500"/>
                            </p:stCondLst>
                            <p:childTnLst>
                              <p:par>
                                <p:cTn id="36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4" dur="500"/>
                                        <p:tgtEl>
                                          <p:spTgt spid="2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8" dur="500"/>
                                        <p:tgtEl>
                                          <p:spTgt spid="2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9" fill="hold">
                      <p:stCondLst>
                        <p:cond delay="indefinite"/>
                      </p:stCondLst>
                      <p:childTnLst>
                        <p:par>
                          <p:cTn id="3640" fill="hold">
                            <p:stCondLst>
                              <p:cond delay="0"/>
                            </p:stCondLst>
                            <p:childTnLst>
                              <p:par>
                                <p:cTn id="3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3" dur="500"/>
                                        <p:tgtEl>
                                          <p:spTgt spid="2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 Manag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4" name=""/>
          <p:cNvGraphicFramePr/>
          <p:nvPr/>
        </p:nvGraphicFramePr>
        <p:xfrm>
          <a:off x="990720" y="1828800"/>
          <a:ext cx="2819160" cy="19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2819160" cy="19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6" name=""/>
          <p:cNvSpPr/>
          <p:nvPr/>
        </p:nvSpPr>
        <p:spPr>
          <a:xfrm>
            <a:off x="1599840" y="3867120"/>
            <a:ext cx="231732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lusive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Acqu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7" name=""/>
          <p:cNvGraphicFramePr/>
          <p:nvPr/>
        </p:nvGraphicFramePr>
        <p:xfrm>
          <a:off x="4114800" y="1905120"/>
          <a:ext cx="1574640" cy="248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1905120"/>
                    <a:ext cx="1574640" cy="24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9" name=""/>
          <p:cNvSpPr/>
          <p:nvPr/>
        </p:nvSpPr>
        <p:spPr>
          <a:xfrm>
            <a:off x="5410440" y="190512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4" dur="indefinite" restart="never" nodeType="tmRoot">
          <p:childTnLst>
            <p:seq>
              <p:cTn id="3645" dur="indefinite" nodeType="mainSeq">
                <p:childTnLst>
                  <p:par>
                    <p:cTn id="3646" fill="hold">
                      <p:stCondLst>
                        <p:cond delay="indefinite"/>
                      </p:stCondLst>
                      <p:childTnLst>
                        <p:par>
                          <p:cTn id="3647" fill="hold">
                            <p:stCondLst>
                              <p:cond delay="0"/>
                            </p:stCondLst>
                            <p:childTnLst>
                              <p:par>
                                <p:cTn id="36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0" dur="500" fill="hold"/>
                                        <p:tgtEl>
                                          <p:spTgt spid="2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1" dur="500" fill="hold"/>
                                        <p:tgtEl>
                                          <p:spTgt spid="2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2" fill="hold">
                      <p:stCondLst>
                        <p:cond delay="indefinite"/>
                      </p:stCondLst>
                      <p:childTnLst>
                        <p:par>
                          <p:cTn id="3653" fill="hold">
                            <p:stCondLst>
                              <p:cond delay="0"/>
                            </p:stCondLst>
                            <p:childTnLst>
                              <p:par>
                                <p:cTn id="36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6" dur="500"/>
                                        <p:tgtEl>
                                          <p:spTgt spid="2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7" fill="hold">
                      <p:stCondLst>
                        <p:cond delay="indefinite"/>
                      </p:stCondLst>
                      <p:childTnLst>
                        <p:par>
                          <p:cTn id="3658" fill="hold">
                            <p:stCondLst>
                              <p:cond delay="0"/>
                            </p:stCondLst>
                            <p:childTnLst>
                              <p:par>
                                <p:cTn id="36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1" dur="500"/>
                                        <p:tgtEl>
                                          <p:spTgt spid="2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2" fill="hold">
                      <p:stCondLst>
                        <p:cond delay="indefinite"/>
                      </p:stCondLst>
                      <p:childTnLst>
                        <p:par>
                          <p:cTn id="3663" fill="hold">
                            <p:stCondLst>
                              <p:cond delay="0"/>
                            </p:stCondLst>
                            <p:childTnLst>
                              <p:par>
                                <p:cTn id="36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6" dur="500"/>
                                        <p:tgtEl>
                                          <p:spTgt spid="2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7" fill="hold">
                      <p:stCondLst>
                        <p:cond delay="indefinite"/>
                      </p:stCondLst>
                      <p:childTnLst>
                        <p:par>
                          <p:cTn id="3668" fill="hold">
                            <p:stCondLst>
                              <p:cond delay="0"/>
                            </p:stCondLst>
                            <p:childTnLst>
                              <p:par>
                                <p:cTn id="36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1" dur="500"/>
                                        <p:tgtEl>
                                          <p:spTgt spid="2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2" fill="hold">
                      <p:stCondLst>
                        <p:cond delay="indefinite"/>
                      </p:stCondLst>
                      <p:childTnLst>
                        <p:par>
                          <p:cTn id="3673" fill="hold">
                            <p:stCondLst>
                              <p:cond delay="0"/>
                            </p:stCondLst>
                            <p:childTnLst>
                              <p:par>
                                <p:cTn id="36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6" dur="500"/>
                                        <p:tgtEl>
                                          <p:spTgt spid="2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7" fill="hold">
                      <p:stCondLst>
                        <p:cond delay="indefinite"/>
                      </p:stCondLst>
                      <p:childTnLst>
                        <p:par>
                          <p:cTn id="3678" fill="hold">
                            <p:stCondLst>
                              <p:cond delay="0"/>
                            </p:stCondLst>
                            <p:childTnLst>
                              <p:par>
                                <p:cTn id="36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1" dur="500" fill="hold"/>
                                        <p:tgtEl>
                                          <p:spTgt spid="2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2" dur="500" fill="hold"/>
                                        <p:tgtEl>
                                          <p:spTgt spid="2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3" fill="hold">
                            <p:stCondLst>
                              <p:cond delay="500"/>
                            </p:stCondLst>
                            <p:childTnLst>
                              <p:par>
                                <p:cTn id="36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6" dur="500"/>
                                        <p:tgtEl>
                                          <p:spTgt spid="2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 Manag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1" name=""/>
          <p:cNvGrpSpPr/>
          <p:nvPr/>
        </p:nvGrpSpPr>
        <p:grpSpPr>
          <a:xfrm>
            <a:off x="609480" y="1525680"/>
            <a:ext cx="5410440" cy="4417920"/>
            <a:chOff x="609480" y="1525680"/>
            <a:chExt cx="5410440" cy="4417920"/>
          </a:xfrm>
        </p:grpSpPr>
        <p:sp>
          <p:nvSpPr>
            <p:cNvPr id="2662" name=""/>
            <p:cNvSpPr/>
            <p:nvPr/>
          </p:nvSpPr>
          <p:spPr>
            <a:xfrm>
              <a:off x="990720" y="2895480"/>
              <a:ext cx="4876560" cy="12956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990720" y="4267080"/>
              <a:ext cx="4876560" cy="12193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609480" y="1525680"/>
              <a:ext cx="5410440" cy="441792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monitor manager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bool busy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public manager() { busy = false; 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public void acquire()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busy = true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}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public void release()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busy = false;</a:t>
              </a:r>
              <a:br>
                <a:rPr sz="2000"/>
              </a:b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5" name=""/>
          <p:cNvSpPr/>
          <p:nvPr/>
        </p:nvSpPr>
        <p:spPr>
          <a:xfrm>
            <a:off x="6248520" y="4276800"/>
            <a:ext cx="2361960" cy="1666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r.acquir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se device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r.relea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6246360" y="3049560"/>
            <a:ext cx="242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 mgr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manage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1454040" y="3149640"/>
            <a:ext cx="27547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busy) then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free.wa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1441440" y="480060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free.signal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1051920" y="21384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condition fre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7" dur="indefinite" restart="never" nodeType="tmRoot">
          <p:childTnLst>
            <p:seq>
              <p:cTn id="3688" dur="indefinite" nodeType="mainSeq">
                <p:childTnLst>
                  <p:par>
                    <p:cTn id="3689" fill="hold">
                      <p:stCondLst>
                        <p:cond delay="indefinite"/>
                      </p:stCondLst>
                      <p:childTnLst>
                        <p:par>
                          <p:cTn id="3690" fill="hold">
                            <p:stCondLst>
                              <p:cond delay="0"/>
                            </p:stCondLst>
                            <p:childTnLst>
                              <p:par>
                                <p:cTn id="36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3" dur="500"/>
                                        <p:tgtEl>
                                          <p:spTgt spid="2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4" fill="hold">
                      <p:stCondLst>
                        <p:cond delay="indefinite"/>
                      </p:stCondLst>
                      <p:childTnLst>
                        <p:par>
                          <p:cTn id="3695" fill="hold">
                            <p:stCondLst>
                              <p:cond delay="0"/>
                            </p:stCondLst>
                            <p:childTnLst>
                              <p:par>
                                <p:cTn id="3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8" dur="500"/>
                                        <p:tgtEl>
                                          <p:spTgt spid="2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9" fill="hold">
                      <p:stCondLst>
                        <p:cond delay="indefinite"/>
                      </p:stCondLst>
                      <p:childTnLst>
                        <p:par>
                          <p:cTn id="3700" fill="hold">
                            <p:stCondLst>
                              <p:cond delay="0"/>
                            </p:stCondLst>
                            <p:childTnLst>
                              <p:par>
                                <p:cTn id="37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3" dur="500"/>
                                        <p:tgtEl>
                                          <p:spTgt spid="2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4" fill="hold">
                      <p:stCondLst>
                        <p:cond delay="indefinite"/>
                      </p:stCondLst>
                      <p:childTnLst>
                        <p:par>
                          <p:cTn id="3705" fill="hold">
                            <p:stCondLst>
                              <p:cond delay="0"/>
                            </p:stCondLst>
                            <p:childTnLst>
                              <p:par>
                                <p:cTn id="3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8" dur="500"/>
                                        <p:tgtEl>
                                          <p:spTgt spid="2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9" fill="hold">
                      <p:stCondLst>
                        <p:cond delay="indefinite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3" dur="500"/>
                                        <p:tgtEl>
                                          <p:spTgt spid="2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4" fill="hold">
                      <p:stCondLst>
                        <p:cond delay="indefinite"/>
                      </p:stCondLst>
                      <p:childTnLst>
                        <p:par>
                          <p:cTn id="3715" fill="hold">
                            <p:stCondLst>
                              <p:cond delay="0"/>
                            </p:stCondLst>
                            <p:childTnLst>
                              <p:par>
                                <p:cTn id="3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8" dur="500"/>
                                        <p:tgtEl>
                                          <p:spTgt spid="2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 Manag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1" name=""/>
          <p:cNvGraphicFramePr/>
          <p:nvPr/>
        </p:nvGraphicFramePr>
        <p:xfrm>
          <a:off x="990720" y="1828800"/>
          <a:ext cx="2819160" cy="19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2819160" cy="19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3" name=""/>
          <p:cNvGraphicFramePr/>
          <p:nvPr/>
        </p:nvGraphicFramePr>
        <p:xfrm>
          <a:off x="4114800" y="1905120"/>
          <a:ext cx="1574640" cy="248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1905120"/>
                    <a:ext cx="1574640" cy="24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5" name=""/>
          <p:cNvSpPr/>
          <p:nvPr/>
        </p:nvSpPr>
        <p:spPr>
          <a:xfrm>
            <a:off x="4115160" y="152388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6" name=""/>
          <p:cNvGrpSpPr/>
          <p:nvPr/>
        </p:nvGrpSpPr>
        <p:grpSpPr>
          <a:xfrm>
            <a:off x="5608800" y="3352680"/>
            <a:ext cx="1630080" cy="1881720"/>
            <a:chOff x="5608800" y="3352680"/>
            <a:chExt cx="1630080" cy="1881720"/>
          </a:xfrm>
        </p:grpSpPr>
        <p:graphicFrame>
          <p:nvGraphicFramePr>
            <p:cNvPr id="2677" name=""/>
            <p:cNvGraphicFramePr/>
            <p:nvPr/>
          </p:nvGraphicFramePr>
          <p:xfrm>
            <a:off x="5608800" y="3352680"/>
            <a:ext cx="1630080" cy="1600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7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08800" y="3352680"/>
                      <a:ext cx="163008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79" name=""/>
            <p:cNvSpPr/>
            <p:nvPr/>
          </p:nvSpPr>
          <p:spPr>
            <a:xfrm>
              <a:off x="5913360" y="4724280"/>
              <a:ext cx="53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0" name=""/>
          <p:cNvGrpSpPr/>
          <p:nvPr/>
        </p:nvGrpSpPr>
        <p:grpSpPr>
          <a:xfrm>
            <a:off x="6218280" y="3429000"/>
            <a:ext cx="1630440" cy="1881720"/>
            <a:chOff x="6218280" y="3429000"/>
            <a:chExt cx="1630440" cy="1881720"/>
          </a:xfrm>
        </p:grpSpPr>
        <p:graphicFrame>
          <p:nvGraphicFramePr>
            <p:cNvPr id="2681" name=""/>
            <p:cNvGraphicFramePr/>
            <p:nvPr/>
          </p:nvGraphicFramePr>
          <p:xfrm>
            <a:off x="6218280" y="3429000"/>
            <a:ext cx="1630440" cy="1600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68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18280" y="3429000"/>
                      <a:ext cx="163044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83" name=""/>
            <p:cNvSpPr/>
            <p:nvPr/>
          </p:nvSpPr>
          <p:spPr>
            <a:xfrm>
              <a:off x="6523200" y="48006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4" name=""/>
          <p:cNvGrpSpPr/>
          <p:nvPr/>
        </p:nvGrpSpPr>
        <p:grpSpPr>
          <a:xfrm>
            <a:off x="6904080" y="3581280"/>
            <a:ext cx="1630440" cy="1881720"/>
            <a:chOff x="6904080" y="3581280"/>
            <a:chExt cx="1630440" cy="1881720"/>
          </a:xfrm>
        </p:grpSpPr>
        <p:graphicFrame>
          <p:nvGraphicFramePr>
            <p:cNvPr id="2685" name=""/>
            <p:cNvGraphicFramePr/>
            <p:nvPr/>
          </p:nvGraphicFramePr>
          <p:xfrm>
            <a:off x="6904080" y="3581280"/>
            <a:ext cx="1630440" cy="1600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68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904080" y="3581280"/>
                      <a:ext cx="163044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87" name=""/>
            <p:cNvSpPr/>
            <p:nvPr/>
          </p:nvSpPr>
          <p:spPr>
            <a:xfrm>
              <a:off x="7209000" y="495288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8" name=""/>
          <p:cNvSpPr/>
          <p:nvPr/>
        </p:nvSpPr>
        <p:spPr>
          <a:xfrm>
            <a:off x="5638680" y="29718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condition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fre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9" name=""/>
          <p:cNvGrpSpPr/>
          <p:nvPr/>
        </p:nvGrpSpPr>
        <p:grpSpPr>
          <a:xfrm>
            <a:off x="3124080" y="2743200"/>
            <a:ext cx="690840" cy="2948400"/>
            <a:chOff x="3124080" y="2743200"/>
            <a:chExt cx="690840" cy="2948400"/>
          </a:xfrm>
        </p:grpSpPr>
        <p:graphicFrame>
          <p:nvGraphicFramePr>
            <p:cNvPr id="2690" name=""/>
            <p:cNvGraphicFramePr/>
            <p:nvPr/>
          </p:nvGraphicFramePr>
          <p:xfrm>
            <a:off x="3124080" y="2743200"/>
            <a:ext cx="690840" cy="25909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69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124080" y="2743200"/>
                      <a:ext cx="690840" cy="259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92" name=""/>
            <p:cNvSpPr/>
            <p:nvPr/>
          </p:nvSpPr>
          <p:spPr>
            <a:xfrm>
              <a:off x="3200400" y="518148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3" name=""/>
          <p:cNvSpPr/>
          <p:nvPr/>
        </p:nvSpPr>
        <p:spPr>
          <a:xfrm>
            <a:off x="838080" y="38862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busy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846000" y="3886200"/>
            <a:ext cx="1752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busy 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5" name=""/>
          <p:cNvGrpSpPr/>
          <p:nvPr/>
        </p:nvGrpSpPr>
        <p:grpSpPr>
          <a:xfrm>
            <a:off x="5608800" y="3354480"/>
            <a:ext cx="2925720" cy="2110320"/>
            <a:chOff x="5608800" y="3354480"/>
            <a:chExt cx="2925720" cy="2110320"/>
          </a:xfrm>
        </p:grpSpPr>
        <p:sp>
          <p:nvSpPr>
            <p:cNvPr id="2696" name=""/>
            <p:cNvSpPr/>
            <p:nvPr/>
          </p:nvSpPr>
          <p:spPr>
            <a:xfrm>
              <a:off x="5608800" y="3354480"/>
              <a:ext cx="1600200" cy="198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7" name=""/>
            <p:cNvGrpSpPr/>
            <p:nvPr/>
          </p:nvGrpSpPr>
          <p:grpSpPr>
            <a:xfrm>
              <a:off x="6218640" y="3430800"/>
              <a:ext cx="1630080" cy="1881720"/>
              <a:chOff x="6218640" y="3430800"/>
              <a:chExt cx="1630080" cy="1881720"/>
            </a:xfrm>
          </p:grpSpPr>
          <p:graphicFrame>
            <p:nvGraphicFramePr>
              <p:cNvPr id="2698" name=""/>
              <p:cNvGraphicFramePr/>
              <p:nvPr/>
            </p:nvGraphicFramePr>
            <p:xfrm>
              <a:off x="6218640" y="3430800"/>
              <a:ext cx="1630080" cy="160020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699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218640" y="3430800"/>
                        <a:ext cx="1630080" cy="160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700" name=""/>
              <p:cNvSpPr/>
              <p:nvPr/>
            </p:nvSpPr>
            <p:spPr>
              <a:xfrm>
                <a:off x="6523200" y="4802400"/>
                <a:ext cx="532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1" name=""/>
            <p:cNvGrpSpPr/>
            <p:nvPr/>
          </p:nvGrpSpPr>
          <p:grpSpPr>
            <a:xfrm>
              <a:off x="6904440" y="3583080"/>
              <a:ext cx="1630080" cy="1881720"/>
              <a:chOff x="6904440" y="3583080"/>
              <a:chExt cx="1630080" cy="1881720"/>
            </a:xfrm>
          </p:grpSpPr>
          <p:graphicFrame>
            <p:nvGraphicFramePr>
              <p:cNvPr id="2702" name=""/>
              <p:cNvGraphicFramePr/>
              <p:nvPr/>
            </p:nvGraphicFramePr>
            <p:xfrm>
              <a:off x="6904440" y="3583080"/>
              <a:ext cx="1630080" cy="160020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2703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6904440" y="3583080"/>
                        <a:ext cx="1630080" cy="160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704" name=""/>
              <p:cNvSpPr/>
              <p:nvPr/>
            </p:nvSpPr>
            <p:spPr>
              <a:xfrm>
                <a:off x="7209000" y="4954680"/>
                <a:ext cx="532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05" name=""/>
          <p:cNvSpPr/>
          <p:nvPr/>
        </p:nvSpPr>
        <p:spPr>
          <a:xfrm>
            <a:off x="2971800" y="2743200"/>
            <a:ext cx="990720" cy="297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838080" y="3886200"/>
            <a:ext cx="1752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busy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846000" y="3886200"/>
            <a:ext cx="1752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busy 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8" name=""/>
          <p:cNvGrpSpPr/>
          <p:nvPr/>
        </p:nvGrpSpPr>
        <p:grpSpPr>
          <a:xfrm>
            <a:off x="2895480" y="2743200"/>
            <a:ext cx="1098720" cy="2948400"/>
            <a:chOff x="2895480" y="2743200"/>
            <a:chExt cx="1098720" cy="2948400"/>
          </a:xfrm>
        </p:grpSpPr>
        <p:sp>
          <p:nvSpPr>
            <p:cNvPr id="2709" name=""/>
            <p:cNvSpPr/>
            <p:nvPr/>
          </p:nvSpPr>
          <p:spPr>
            <a:xfrm>
              <a:off x="3200400" y="518148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10" name=""/>
            <p:cNvGraphicFramePr/>
            <p:nvPr/>
          </p:nvGraphicFramePr>
          <p:xfrm>
            <a:off x="2895480" y="2743200"/>
            <a:ext cx="1098720" cy="26161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71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895480" y="2743200"/>
                      <a:ext cx="109872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12" name=""/>
          <p:cNvSpPr/>
          <p:nvPr/>
        </p:nvSpPr>
        <p:spPr>
          <a:xfrm>
            <a:off x="4648320" y="52578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FCFS</a:t>
            </a:r>
            <a:br>
              <a:rPr sz="2800"/>
            </a:b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(sched. alg. of que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9" dur="indefinite" restart="never" nodeType="tmRoot">
          <p:childTnLst>
            <p:seq>
              <p:cTn id="3720" dur="indefinite" nodeType="mainSeq">
                <p:childTnLst>
                  <p:par>
                    <p:cTn id="3721" fill="hold">
                      <p:stCondLst>
                        <p:cond delay="indefinite"/>
                      </p:stCondLst>
                      <p:childTnLst>
                        <p:par>
                          <p:cTn id="3722" fill="hold">
                            <p:stCondLst>
                              <p:cond delay="0"/>
                            </p:stCondLst>
                            <p:childTnLst>
                              <p:par>
                                <p:cTn id="37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5" dur="500" fill="hold"/>
                                        <p:tgtEl>
                                          <p:spTgt spid="2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6" dur="500" fill="hold"/>
                                        <p:tgtEl>
                                          <p:spTgt spid="2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7" fill="hold">
                      <p:stCondLst>
                        <p:cond delay="indefinite"/>
                      </p:stCondLst>
                      <p:childTnLst>
                        <p:par>
                          <p:cTn id="3728" fill="hold">
                            <p:stCondLst>
                              <p:cond delay="0"/>
                            </p:stCondLst>
                            <p:childTnLst>
                              <p:par>
                                <p:cTn id="37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1" dur="500" fill="hold"/>
                                        <p:tgtEl>
                                          <p:spTgt spid="2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2" dur="500" fill="hold"/>
                                        <p:tgtEl>
                                          <p:spTgt spid="2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3" fill="hold">
                            <p:stCondLst>
                              <p:cond delay="500"/>
                            </p:stCondLst>
                            <p:childTnLst>
                              <p:par>
                                <p:cTn id="37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6" dur="500"/>
                                        <p:tgtEl>
                                          <p:spTgt spid="2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7" fill="hold">
                      <p:stCondLst>
                        <p:cond delay="indefinite"/>
                      </p:stCondLst>
                      <p:childTnLst>
                        <p:par>
                          <p:cTn id="3738" fill="hold">
                            <p:stCondLst>
                              <p:cond delay="0"/>
                            </p:stCondLst>
                            <p:childTnLst>
                              <p:par>
                                <p:cTn id="37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1" dur="500"/>
                                        <p:tgtEl>
                                          <p:spTgt spid="2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2" fill="hold">
                            <p:stCondLst>
                              <p:cond delay="500"/>
                            </p:stCondLst>
                            <p:childTnLst>
                              <p:par>
                                <p:cTn id="37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5" dur="500"/>
                                        <p:tgtEl>
                                          <p:spTgt spid="2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6" fill="hold">
                      <p:stCondLst>
                        <p:cond delay="indefinite"/>
                      </p:stCondLst>
                      <p:childTnLst>
                        <p:par>
                          <p:cTn id="3747" fill="hold">
                            <p:stCondLst>
                              <p:cond delay="0"/>
                            </p:stCondLst>
                            <p:childTnLst>
                              <p:par>
                                <p:cTn id="37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0" dur="500"/>
                                        <p:tgtEl>
                                          <p:spTgt spid="2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1" fill="hold">
                      <p:stCondLst>
                        <p:cond delay="indefinite"/>
                      </p:stCondLst>
                      <p:childTnLst>
                        <p:par>
                          <p:cTn id="3752" fill="hold">
                            <p:stCondLst>
                              <p:cond delay="0"/>
                            </p:stCondLst>
                            <p:childTnLst>
                              <p:par>
                                <p:cTn id="3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5" dur="500"/>
                                        <p:tgtEl>
                                          <p:spTgt spid="2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6" fill="hold">
                      <p:stCondLst>
                        <p:cond delay="indefinite"/>
                      </p:stCondLst>
                      <p:childTnLst>
                        <p:par>
                          <p:cTn id="3757" fill="hold">
                            <p:stCondLst>
                              <p:cond delay="0"/>
                            </p:stCondLst>
                            <p:childTnLst>
                              <p:par>
                                <p:cTn id="37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0" dur="500" fill="hold"/>
                                        <p:tgtEl>
                                          <p:spTgt spid="2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1" dur="500" fill="hold"/>
                                        <p:tgtEl>
                                          <p:spTgt spid="2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2" fill="hold">
                      <p:stCondLst>
                        <p:cond delay="indefinite"/>
                      </p:stCondLst>
                      <p:childTnLst>
                        <p:par>
                          <p:cTn id="3763" fill="hold">
                            <p:stCondLst>
                              <p:cond delay="0"/>
                            </p:stCondLst>
                            <p:childTnLst>
                              <p:par>
                                <p:cTn id="37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6" dur="500" fill="hold"/>
                                        <p:tgtEl>
                                          <p:spTgt spid="2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7" dur="500" fill="hold"/>
                                        <p:tgtEl>
                                          <p:spTgt spid="2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fill="hold">
                      <p:stCondLst>
                        <p:cond delay="indefinite"/>
                      </p:stCondLst>
                      <p:childTnLst>
                        <p:par>
                          <p:cTn id="3769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2" dur="500" fill="hold"/>
                                        <p:tgtEl>
                                          <p:spTgt spid="2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3" dur="500" fill="hold"/>
                                        <p:tgtEl>
                                          <p:spTgt spid="2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fill="hold">
                      <p:stCondLst>
                        <p:cond delay="indefinite"/>
                      </p:stCondLst>
                      <p:childTnLst>
                        <p:par>
                          <p:cTn id="3775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1" dur="500"/>
                                        <p:tgtEl>
                                          <p:spTgt spid="2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2" fill="hold">
                      <p:stCondLst>
                        <p:cond delay="indefinite"/>
                      </p:stCondLst>
                      <p:childTnLst>
                        <p:par>
                          <p:cTn id="3783" fill="hold">
                            <p:stCondLst>
                              <p:cond delay="0"/>
                            </p:stCondLst>
                            <p:childTnLst>
                              <p:par>
                                <p:cTn id="3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6" fill="hold">
                            <p:stCondLst>
                              <p:cond delay="500"/>
                            </p:stCondLst>
                            <p:childTnLst>
                              <p:par>
                                <p:cTn id="37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9" dur="500" fill="hold"/>
                                        <p:tgtEl>
                                          <p:spTgt spid="2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0" dur="500" fill="hold"/>
                                        <p:tgtEl>
                                          <p:spTgt spid="2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4" dur="500"/>
                                        <p:tgtEl>
                                          <p:spTgt spid="2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5" fill="hold">
                      <p:stCondLst>
                        <p:cond delay="indefinite"/>
                      </p:stCondLst>
                      <p:childTnLst>
                        <p:par>
                          <p:cTn id="3796" fill="hold">
                            <p:stCondLst>
                              <p:cond delay="0"/>
                            </p:stCondLst>
                            <p:childTnLst>
                              <p:par>
                                <p:cTn id="379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9" dur="500" fill="hold"/>
                                        <p:tgtEl>
                                          <p:spTgt spid="2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0" dur="500" fill="hold"/>
                                        <p:tgtEl>
                                          <p:spTgt spid="2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ortest Job First Schedul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4" name=""/>
          <p:cNvGraphicFramePr/>
          <p:nvPr/>
        </p:nvGraphicFramePr>
        <p:xfrm>
          <a:off x="990720" y="1828800"/>
          <a:ext cx="2819160" cy="19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2819160" cy="19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6" name=""/>
          <p:cNvGraphicFramePr/>
          <p:nvPr/>
        </p:nvGraphicFramePr>
        <p:xfrm>
          <a:off x="4114800" y="1905120"/>
          <a:ext cx="1574640" cy="248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1905120"/>
                    <a:ext cx="1574640" cy="24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8" name=""/>
          <p:cNvSpPr/>
          <p:nvPr/>
        </p:nvSpPr>
        <p:spPr>
          <a:xfrm>
            <a:off x="5410440" y="190512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9" name=""/>
          <p:cNvGrpSpPr/>
          <p:nvPr/>
        </p:nvGrpSpPr>
        <p:grpSpPr>
          <a:xfrm>
            <a:off x="5608800" y="3352680"/>
            <a:ext cx="1630080" cy="1881720"/>
            <a:chOff x="5608800" y="3352680"/>
            <a:chExt cx="1630080" cy="1881720"/>
          </a:xfrm>
        </p:grpSpPr>
        <p:graphicFrame>
          <p:nvGraphicFramePr>
            <p:cNvPr id="2720" name=""/>
            <p:cNvGraphicFramePr/>
            <p:nvPr/>
          </p:nvGraphicFramePr>
          <p:xfrm>
            <a:off x="5608800" y="3352680"/>
            <a:ext cx="1630080" cy="1600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2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08800" y="3352680"/>
                      <a:ext cx="163008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22" name=""/>
            <p:cNvSpPr/>
            <p:nvPr/>
          </p:nvSpPr>
          <p:spPr>
            <a:xfrm>
              <a:off x="5913360" y="4724280"/>
              <a:ext cx="53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3" name=""/>
          <p:cNvGrpSpPr/>
          <p:nvPr/>
        </p:nvGrpSpPr>
        <p:grpSpPr>
          <a:xfrm>
            <a:off x="6218280" y="3352680"/>
            <a:ext cx="1630440" cy="1881720"/>
            <a:chOff x="6218280" y="3352680"/>
            <a:chExt cx="1630440" cy="1881720"/>
          </a:xfrm>
        </p:grpSpPr>
        <p:graphicFrame>
          <p:nvGraphicFramePr>
            <p:cNvPr id="2724" name=""/>
            <p:cNvGraphicFramePr/>
            <p:nvPr/>
          </p:nvGraphicFramePr>
          <p:xfrm>
            <a:off x="6218280" y="3352680"/>
            <a:ext cx="1630440" cy="1600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72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18280" y="3352680"/>
                      <a:ext cx="163044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26" name=""/>
            <p:cNvSpPr/>
            <p:nvPr/>
          </p:nvSpPr>
          <p:spPr>
            <a:xfrm>
              <a:off x="6523200" y="472428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7" name=""/>
          <p:cNvGrpSpPr/>
          <p:nvPr/>
        </p:nvGrpSpPr>
        <p:grpSpPr>
          <a:xfrm>
            <a:off x="6904080" y="3581280"/>
            <a:ext cx="1630440" cy="1881720"/>
            <a:chOff x="6904080" y="3581280"/>
            <a:chExt cx="1630440" cy="1881720"/>
          </a:xfrm>
        </p:grpSpPr>
        <p:graphicFrame>
          <p:nvGraphicFramePr>
            <p:cNvPr id="2728" name=""/>
            <p:cNvGraphicFramePr/>
            <p:nvPr/>
          </p:nvGraphicFramePr>
          <p:xfrm>
            <a:off x="6904080" y="3581280"/>
            <a:ext cx="1630440" cy="1600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72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904080" y="3581280"/>
                      <a:ext cx="163044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30" name=""/>
            <p:cNvSpPr/>
            <p:nvPr/>
          </p:nvSpPr>
          <p:spPr>
            <a:xfrm>
              <a:off x="7209000" y="495288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1" name=""/>
          <p:cNvSpPr/>
          <p:nvPr/>
        </p:nvSpPr>
        <p:spPr>
          <a:xfrm>
            <a:off x="5715000" y="29718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Condition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fre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2" name=""/>
          <p:cNvGrpSpPr/>
          <p:nvPr/>
        </p:nvGrpSpPr>
        <p:grpSpPr>
          <a:xfrm>
            <a:off x="3124080" y="2743200"/>
            <a:ext cx="690840" cy="2948400"/>
            <a:chOff x="3124080" y="2743200"/>
            <a:chExt cx="690840" cy="2948400"/>
          </a:xfrm>
        </p:grpSpPr>
        <p:graphicFrame>
          <p:nvGraphicFramePr>
            <p:cNvPr id="2733" name=""/>
            <p:cNvGraphicFramePr/>
            <p:nvPr/>
          </p:nvGraphicFramePr>
          <p:xfrm>
            <a:off x="3124080" y="2743200"/>
            <a:ext cx="690840" cy="25909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73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124080" y="2743200"/>
                      <a:ext cx="690840" cy="259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35" name=""/>
            <p:cNvSpPr/>
            <p:nvPr/>
          </p:nvSpPr>
          <p:spPr>
            <a:xfrm>
              <a:off x="3200400" y="518148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6" name=""/>
          <p:cNvSpPr/>
          <p:nvPr/>
        </p:nvSpPr>
        <p:spPr>
          <a:xfrm>
            <a:off x="838080" y="38862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busy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846000" y="3886200"/>
            <a:ext cx="1752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busy 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2971800" y="2743200"/>
            <a:ext cx="990720" cy="297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838080" y="3886200"/>
            <a:ext cx="1752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busy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846000" y="3886200"/>
            <a:ext cx="1752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busy 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4648320" y="52578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SJF</a:t>
            </a:r>
            <a:br>
              <a:rPr sz="2800"/>
            </a:b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(sched. alg. of Manag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>
            <a:off x="5638680" y="50673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0 m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6456240" y="52052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4 m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7161120" y="5334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7 m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5" name=""/>
          <p:cNvGrpSpPr/>
          <p:nvPr/>
        </p:nvGrpSpPr>
        <p:grpSpPr>
          <a:xfrm>
            <a:off x="5608800" y="3352680"/>
            <a:ext cx="2925720" cy="2210040"/>
            <a:chOff x="5608800" y="3352680"/>
            <a:chExt cx="2925720" cy="2210040"/>
          </a:xfrm>
        </p:grpSpPr>
        <p:grpSp>
          <p:nvGrpSpPr>
            <p:cNvPr id="2746" name=""/>
            <p:cNvGrpSpPr/>
            <p:nvPr/>
          </p:nvGrpSpPr>
          <p:grpSpPr>
            <a:xfrm>
              <a:off x="5608800" y="3352680"/>
              <a:ext cx="2925720" cy="2110320"/>
              <a:chOff x="5608800" y="3352680"/>
              <a:chExt cx="2925720" cy="2110320"/>
            </a:xfrm>
          </p:grpSpPr>
          <p:sp>
            <p:nvSpPr>
              <p:cNvPr id="2747" name=""/>
              <p:cNvSpPr/>
              <p:nvPr/>
            </p:nvSpPr>
            <p:spPr>
              <a:xfrm>
                <a:off x="6248520" y="3352680"/>
                <a:ext cx="1600200" cy="1981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48" name=""/>
              <p:cNvGrpSpPr/>
              <p:nvPr/>
            </p:nvGrpSpPr>
            <p:grpSpPr>
              <a:xfrm>
                <a:off x="5608800" y="3352680"/>
                <a:ext cx="1630440" cy="1881720"/>
                <a:chOff x="5608800" y="3352680"/>
                <a:chExt cx="1630440" cy="1881720"/>
              </a:xfrm>
            </p:grpSpPr>
            <p:graphicFrame>
              <p:nvGraphicFramePr>
                <p:cNvPr id="2749" name=""/>
                <p:cNvGraphicFramePr/>
                <p:nvPr/>
              </p:nvGraphicFramePr>
              <p:xfrm>
                <a:off x="5608800" y="3352680"/>
                <a:ext cx="1630440" cy="1600200"/>
              </p:xfrm>
              <a:graphic>
                <a:graphicData uri="http://schemas.openxmlformats.org/presentationml/2006/ole">
                  <p:oleObj r:id="rId13" spid="">
                    <p:embed/>
                    <p:pic>
                      <p:nvPicPr>
                        <p:cNvPr id="2750" name="" descr=""/>
                        <p:cNvPicPr/>
                        <p:nvPr/>
                      </p:nvPicPr>
                      <p:blipFill>
                        <a:blip r:embed="rId14"/>
                        <a:stretch/>
                      </p:blipFill>
                      <p:spPr>
                        <a:xfrm>
                          <a:off x="5608800" y="3352680"/>
                          <a:ext cx="1630440" cy="16002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751" name=""/>
                <p:cNvSpPr/>
                <p:nvPr/>
              </p:nvSpPr>
              <p:spPr>
                <a:xfrm>
                  <a:off x="5913720" y="4724280"/>
                  <a:ext cx="533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2" name=""/>
              <p:cNvGrpSpPr/>
              <p:nvPr/>
            </p:nvGrpSpPr>
            <p:grpSpPr>
              <a:xfrm>
                <a:off x="6904080" y="3581280"/>
                <a:ext cx="1630440" cy="1881720"/>
                <a:chOff x="6904080" y="3581280"/>
                <a:chExt cx="1630440" cy="1881720"/>
              </a:xfrm>
            </p:grpSpPr>
            <p:graphicFrame>
              <p:nvGraphicFramePr>
                <p:cNvPr id="2753" name=""/>
                <p:cNvGraphicFramePr/>
                <p:nvPr/>
              </p:nvGraphicFramePr>
              <p:xfrm>
                <a:off x="6904080" y="3581280"/>
                <a:ext cx="1630440" cy="1600200"/>
              </p:xfrm>
              <a:graphic>
                <a:graphicData uri="http://schemas.openxmlformats.org/presentationml/2006/ole">
                  <p:oleObj r:id="rId15" spid="">
                    <p:embed/>
                    <p:pic>
                      <p:nvPicPr>
                        <p:cNvPr id="2754" name="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6904080" y="3581280"/>
                          <a:ext cx="1630440" cy="16002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755" name=""/>
                <p:cNvSpPr/>
                <p:nvPr/>
              </p:nvSpPr>
              <p:spPr>
                <a:xfrm>
                  <a:off x="7209000" y="4952880"/>
                  <a:ext cx="533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56" name=""/>
            <p:cNvSpPr/>
            <p:nvPr/>
          </p:nvSpPr>
          <p:spPr>
            <a:xfrm>
              <a:off x="6477120" y="5181480"/>
              <a:ext cx="76176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7" name=""/>
          <p:cNvGrpSpPr/>
          <p:nvPr/>
        </p:nvGrpSpPr>
        <p:grpSpPr>
          <a:xfrm>
            <a:off x="3011400" y="2709720"/>
            <a:ext cx="986040" cy="2981880"/>
            <a:chOff x="3011400" y="2709720"/>
            <a:chExt cx="986040" cy="2981880"/>
          </a:xfrm>
        </p:grpSpPr>
        <p:sp>
          <p:nvSpPr>
            <p:cNvPr id="2758" name=""/>
            <p:cNvSpPr/>
            <p:nvPr/>
          </p:nvSpPr>
          <p:spPr>
            <a:xfrm>
              <a:off x="3200400" y="518148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59" name=""/>
            <p:cNvGraphicFramePr/>
            <p:nvPr/>
          </p:nvGraphicFramePr>
          <p:xfrm>
            <a:off x="3011400" y="2709720"/>
            <a:ext cx="986040" cy="25909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76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011400" y="2709720"/>
                      <a:ext cx="986040" cy="259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61" name=""/>
          <p:cNvSpPr/>
          <p:nvPr/>
        </p:nvSpPr>
        <p:spPr>
          <a:xfrm>
            <a:off x="616320" y="4343400"/>
            <a:ext cx="22806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>
              <a:lnSpc>
                <a:spcPct val="13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Acquire (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>
              <a:lnSpc>
                <a:spcPct val="13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>
              <a:lnSpc>
                <a:spcPct val="13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1" dur="indefinite" restart="never" nodeType="tmRoot">
          <p:childTnLst>
            <p:seq>
              <p:cTn id="3802" dur="indefinite" nodeType="mainSeq">
                <p:childTnLst>
                  <p:par>
                    <p:cTn id="3803" fill="hold">
                      <p:stCondLst>
                        <p:cond delay="indefinite"/>
                      </p:stCondLst>
                      <p:childTnLst>
                        <p:par>
                          <p:cTn id="3804" fill="hold">
                            <p:stCondLst>
                              <p:cond delay="0"/>
                            </p:stCondLst>
                            <p:childTnLst>
                              <p:par>
                                <p:cTn id="38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7" dur="500" fill="hold"/>
                                        <p:tgtEl>
                                          <p:spTgt spid="2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8" dur="500" fill="hold"/>
                                        <p:tgtEl>
                                          <p:spTgt spid="2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9" fill="hold">
                      <p:stCondLst>
                        <p:cond delay="indefinite"/>
                      </p:stCondLst>
                      <p:childTnLst>
                        <p:par>
                          <p:cTn id="3810" fill="hold">
                            <p:stCondLst>
                              <p:cond delay="0"/>
                            </p:stCondLst>
                            <p:childTnLst>
                              <p:par>
                                <p:cTn id="38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3" dur="500" fill="hold"/>
                                        <p:tgtEl>
                                          <p:spTgt spid="2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4" dur="500" fill="hold"/>
                                        <p:tgtEl>
                                          <p:spTgt spid="2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5" fill="hold">
                            <p:stCondLst>
                              <p:cond delay="500"/>
                            </p:stCondLst>
                            <p:childTnLst>
                              <p:par>
                                <p:cTn id="38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8" dur="500"/>
                                        <p:tgtEl>
                                          <p:spTgt spid="2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9" fill="hold">
                      <p:stCondLst>
                        <p:cond delay="indefinite"/>
                      </p:stCondLst>
                      <p:childTnLst>
                        <p:par>
                          <p:cTn id="3820" fill="hold">
                            <p:stCondLst>
                              <p:cond delay="0"/>
                            </p:stCondLst>
                            <p:childTnLst>
                              <p:par>
                                <p:cTn id="38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3" dur="500"/>
                                        <p:tgtEl>
                                          <p:spTgt spid="2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4" fill="hold">
                      <p:stCondLst>
                        <p:cond delay="indefinite"/>
                      </p:stCondLst>
                      <p:childTnLst>
                        <p:par>
                          <p:cTn id="3825" fill="hold">
                            <p:stCondLst>
                              <p:cond delay="0"/>
                            </p:stCondLst>
                            <p:childTnLst>
                              <p:par>
                                <p:cTn id="38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8" dur="500"/>
                                        <p:tgtEl>
                                          <p:spTgt spid="2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9" fill="hold">
                      <p:stCondLst>
                        <p:cond delay="indefinite"/>
                      </p:stCondLst>
                      <p:childTnLst>
                        <p:par>
                          <p:cTn id="3830" fill="hold">
                            <p:stCondLst>
                              <p:cond delay="0"/>
                            </p:stCondLst>
                            <p:childTnLst>
                              <p:par>
                                <p:cTn id="38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3" dur="500"/>
                                        <p:tgtEl>
                                          <p:spTgt spid="27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4" fill="hold">
                      <p:stCondLst>
                        <p:cond delay="indefinite"/>
                      </p:stCondLst>
                      <p:childTnLst>
                        <p:par>
                          <p:cTn id="3835" fill="hold">
                            <p:stCondLst>
                              <p:cond delay="0"/>
                            </p:stCondLst>
                            <p:childTnLst>
                              <p:par>
                                <p:cTn id="38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8" dur="500"/>
                                        <p:tgtEl>
                                          <p:spTgt spid="27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9" fill="hold">
                      <p:stCondLst>
                        <p:cond delay="indefinite"/>
                      </p:stCondLst>
                      <p:childTnLst>
                        <p:par>
                          <p:cTn id="3840" fill="hold">
                            <p:stCondLst>
                              <p:cond delay="0"/>
                            </p:stCondLst>
                            <p:childTnLst>
                              <p:par>
                                <p:cTn id="38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3" dur="500"/>
                                        <p:tgtEl>
                                          <p:spTgt spid="2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4" fill="hold">
                            <p:stCondLst>
                              <p:cond delay="500"/>
                            </p:stCondLst>
                            <p:childTnLst>
                              <p:par>
                                <p:cTn id="38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7" dur="500"/>
                                        <p:tgtEl>
                                          <p:spTgt spid="2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8" fill="hold">
                      <p:stCondLst>
                        <p:cond delay="indefinite"/>
                      </p:stCondLst>
                      <p:childTnLst>
                        <p:par>
                          <p:cTn id="3849" fill="hold">
                            <p:stCondLst>
                              <p:cond delay="0"/>
                            </p:stCondLst>
                            <p:childTnLst>
                              <p:par>
                                <p:cTn id="38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2" dur="500"/>
                                        <p:tgtEl>
                                          <p:spTgt spid="2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3" fill="hold">
                      <p:stCondLst>
                        <p:cond delay="indefinite"/>
                      </p:stCondLst>
                      <p:childTnLst>
                        <p:par>
                          <p:cTn id="3854" fill="hold">
                            <p:stCondLst>
                              <p:cond delay="0"/>
                            </p:stCondLst>
                            <p:childTnLst>
                              <p:par>
                                <p:cTn id="3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7" dur="500"/>
                                        <p:tgtEl>
                                          <p:spTgt spid="2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8" fill="hold">
                      <p:stCondLst>
                        <p:cond delay="indefinite"/>
                      </p:stCondLst>
                      <p:childTnLst>
                        <p:par>
                          <p:cTn id="3859" fill="hold">
                            <p:stCondLst>
                              <p:cond delay="0"/>
                            </p:stCondLst>
                            <p:childTnLst>
                              <p:par>
                                <p:cTn id="38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2" dur="500" fill="hold"/>
                                        <p:tgtEl>
                                          <p:spTgt spid="2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3" dur="500" fill="hold"/>
                                        <p:tgtEl>
                                          <p:spTgt spid="2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4" fill="hold">
                      <p:stCondLst>
                        <p:cond delay="indefinite"/>
                      </p:stCondLst>
                      <p:childTnLst>
                        <p:par>
                          <p:cTn id="3865" fill="hold">
                            <p:stCondLst>
                              <p:cond delay="0"/>
                            </p:stCondLst>
                            <p:childTnLst>
                              <p:par>
                                <p:cTn id="386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8" dur="500" fill="hold"/>
                                        <p:tgtEl>
                                          <p:spTgt spid="2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9" dur="500" fill="hold"/>
                                        <p:tgtEl>
                                          <p:spTgt spid="2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0" fill="hold">
                      <p:stCondLst>
                        <p:cond delay="indefinite"/>
                      </p:stCondLst>
                      <p:childTnLst>
                        <p:par>
                          <p:cTn id="3871" fill="hold">
                            <p:stCondLst>
                              <p:cond delay="0"/>
                            </p:stCondLst>
                            <p:childTnLst>
                              <p:par>
                                <p:cTn id="38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4" dur="500" fill="hold"/>
                                        <p:tgtEl>
                                          <p:spTgt spid="2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5" dur="500" fill="hold"/>
                                        <p:tgtEl>
                                          <p:spTgt spid="2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6" fill="hold">
                      <p:stCondLst>
                        <p:cond delay="indefinite"/>
                      </p:stCondLst>
                      <p:childTnLst>
                        <p:par>
                          <p:cTn id="3877" fill="hold">
                            <p:stCondLst>
                              <p:cond delay="0"/>
                            </p:stCondLst>
                            <p:childTnLst>
                              <p:par>
                                <p:cTn id="387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0" dur="500" fill="hold"/>
                                        <p:tgtEl>
                                          <p:spTgt spid="2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1" dur="500" fill="hold"/>
                                        <p:tgtEl>
                                          <p:spTgt spid="2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2" fill="hold">
                      <p:stCondLst>
                        <p:cond delay="indefinite"/>
                      </p:stCondLst>
                      <p:childTnLst>
                        <p:par>
                          <p:cTn id="3883" fill="hold">
                            <p:stCondLst>
                              <p:cond delay="0"/>
                            </p:stCondLst>
                            <p:childTnLst>
                              <p:par>
                                <p:cTn id="38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6" dur="500" fill="hold"/>
                                        <p:tgtEl>
                                          <p:spTgt spid="2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7" dur="500" fill="hold"/>
                                        <p:tgtEl>
                                          <p:spTgt spid="2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8" fill="hold">
                      <p:stCondLst>
                        <p:cond delay="indefinite"/>
                      </p:stCondLst>
                      <p:childTnLst>
                        <p:par>
                          <p:cTn id="3889" fill="hold">
                            <p:stCondLst>
                              <p:cond delay="0"/>
                            </p:stCondLst>
                            <p:childTnLst>
                              <p:par>
                                <p:cTn id="389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2" dur="500" fill="hold"/>
                                        <p:tgtEl>
                                          <p:spTgt spid="2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3" dur="500" fill="hold"/>
                                        <p:tgtEl>
                                          <p:spTgt spid="2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4" fill="hold">
                      <p:stCondLst>
                        <p:cond delay="indefinite"/>
                      </p:stCondLst>
                      <p:childTnLst>
                        <p:par>
                          <p:cTn id="3895" fill="hold">
                            <p:stCondLst>
                              <p:cond delay="0"/>
                            </p:stCondLst>
                            <p:childTnLst>
                              <p:par>
                                <p:cTn id="3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1" dur="500"/>
                                        <p:tgtEl>
                                          <p:spTgt spid="2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2" fill="hold">
                      <p:stCondLst>
                        <p:cond delay="indefinite"/>
                      </p:stCondLst>
                      <p:childTnLst>
                        <p:par>
                          <p:cTn id="3903" fill="hold">
                            <p:stCondLst>
                              <p:cond delay="0"/>
                            </p:stCondLst>
                            <p:childTnLst>
                              <p:par>
                                <p:cTn id="3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6" fill="hold">
                            <p:stCondLst>
                              <p:cond delay="500"/>
                            </p:stCondLst>
                            <p:childTnLst>
                              <p:par>
                                <p:cTn id="39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09" dur="500"/>
                                        <p:tgtEl>
                                          <p:spTgt spid="2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3" dur="500"/>
                                        <p:tgtEl>
                                          <p:spTgt spid="2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4" fill="hold">
                      <p:stCondLst>
                        <p:cond delay="indefinite"/>
                      </p:stCondLst>
                      <p:childTnLst>
                        <p:par>
                          <p:cTn id="3915" fill="hold">
                            <p:stCondLst>
                              <p:cond delay="0"/>
                            </p:stCondLst>
                            <p:childTnLst>
                              <p:par>
                                <p:cTn id="391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8" dur="500" fill="hold"/>
                                        <p:tgtEl>
                                          <p:spTgt spid="2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9" dur="500" fill="hold"/>
                                        <p:tgtEl>
                                          <p:spTgt spid="2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itional Wa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ition vari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x.wa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x.sig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ich process resumed? Sched. alg. of que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10000"/>
              </a:lnSpc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x.wait (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riority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x.sig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ume process with highest prio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0" dur="indefinite" restart="never" nodeType="tmRoot">
          <p:childTnLst>
            <p:seq>
              <p:cTn id="3921" dur="indefinite" nodeType="mainSeq">
                <p:childTnLst>
                  <p:par>
                    <p:cTn id="3922" fill="hold">
                      <p:stCondLst>
                        <p:cond delay="indefinite"/>
                      </p:stCondLst>
                      <p:childTnLst>
                        <p:par>
                          <p:cTn id="3923" fill="hold">
                            <p:stCondLst>
                              <p:cond delay="0"/>
                            </p:stCondLst>
                            <p:childTnLst>
                              <p:par>
                                <p:cTn id="39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6" dur="500"/>
                                        <p:tgtEl>
                                          <p:spTgt spid="2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7" fill="hold">
                      <p:stCondLst>
                        <p:cond delay="indefinite"/>
                      </p:stCondLst>
                      <p:childTnLst>
                        <p:par>
                          <p:cTn id="3928" fill="hold">
                            <p:stCondLst>
                              <p:cond delay="0"/>
                            </p:stCondLst>
                            <p:childTnLst>
                              <p:par>
                                <p:cTn id="39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1" dur="500"/>
                                        <p:tgtEl>
                                          <p:spTgt spid="2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2" fill="hold">
                      <p:stCondLst>
                        <p:cond delay="indefinite"/>
                      </p:stCondLst>
                      <p:childTnLst>
                        <p:par>
                          <p:cTn id="3933" fill="hold">
                            <p:stCondLst>
                              <p:cond delay="0"/>
                            </p:stCondLst>
                            <p:childTnLst>
                              <p:par>
                                <p:cTn id="39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6" dur="500"/>
                                        <p:tgtEl>
                                          <p:spTgt spid="2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7" fill="hold">
                      <p:stCondLst>
                        <p:cond delay="indefinite"/>
                      </p:stCondLst>
                      <p:childTnLst>
                        <p:par>
                          <p:cTn id="3938" fill="hold">
                            <p:stCondLst>
                              <p:cond delay="0"/>
                            </p:stCondLst>
                            <p:childTnLst>
                              <p:par>
                                <p:cTn id="39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1" dur="500"/>
                                        <p:tgtEl>
                                          <p:spTgt spid="27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2" fill="hold">
                      <p:stCondLst>
                        <p:cond delay="indefinite"/>
                      </p:stCondLst>
                      <p:childTnLst>
                        <p:par>
                          <p:cTn id="3943" fill="hold">
                            <p:stCondLst>
                              <p:cond delay="0"/>
                            </p:stCondLst>
                            <p:childTnLst>
                              <p:par>
                                <p:cTn id="39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6" dur="500"/>
                                        <p:tgtEl>
                                          <p:spTgt spid="2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705720" y="4305240"/>
            <a:ext cx="1676160" cy="17906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maphores: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nchron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cess 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cess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29200" y="3657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emaphore s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4305240"/>
            <a:ext cx="1676520" cy="17906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81680" y="4757760"/>
            <a:ext cx="1295640" cy="380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P(&amp;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48320" y="5257800"/>
            <a:ext cx="1295280" cy="380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V(&amp;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3809880"/>
            <a:ext cx="83808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362320" y="3048120"/>
            <a:ext cx="686520" cy="685800"/>
            <a:chOff x="2362320" y="3048120"/>
            <a:chExt cx="686520" cy="685800"/>
          </a:xfrm>
        </p:grpSpPr>
        <p:sp>
          <p:nvSpPr>
            <p:cNvPr id="232" name=""/>
            <p:cNvSpPr/>
            <p:nvPr/>
          </p:nvSpPr>
          <p:spPr>
            <a:xfrm>
              <a:off x="2499840" y="3048120"/>
              <a:ext cx="10224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2362320" y="3076920"/>
              <a:ext cx="686520" cy="231120"/>
              <a:chOff x="2362320" y="3076920"/>
              <a:chExt cx="686520" cy="231120"/>
            </a:xfrm>
          </p:grpSpPr>
          <p:sp>
            <p:nvSpPr>
              <p:cNvPr id="234" name=""/>
              <p:cNvSpPr/>
              <p:nvPr/>
            </p:nvSpPr>
            <p:spPr>
              <a:xfrm rot="5434200">
                <a:off x="2608200" y="2915640"/>
                <a:ext cx="56880" cy="5486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5" name=""/>
              <p:cNvGrpSpPr/>
              <p:nvPr/>
            </p:nvGrpSpPr>
            <p:grpSpPr>
              <a:xfrm>
                <a:off x="2772360" y="3076920"/>
                <a:ext cx="276480" cy="231120"/>
                <a:chOff x="2772360" y="3076920"/>
                <a:chExt cx="276480" cy="231120"/>
              </a:xfrm>
            </p:grpSpPr>
            <p:sp>
              <p:nvSpPr>
                <p:cNvPr id="236" name=""/>
                <p:cNvSpPr/>
                <p:nvPr/>
              </p:nvSpPr>
              <p:spPr>
                <a:xfrm rot="5434200">
                  <a:off x="2796120" y="3055320"/>
                  <a:ext cx="228240" cy="27432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rot="5434200">
                  <a:off x="2853720" y="3124080"/>
                  <a:ext cx="114120" cy="1371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8" name=""/>
          <p:cNvGrpSpPr/>
          <p:nvPr/>
        </p:nvGrpSpPr>
        <p:grpSpPr>
          <a:xfrm>
            <a:off x="2362320" y="3048120"/>
            <a:ext cx="686520" cy="685800"/>
            <a:chOff x="2362320" y="3048120"/>
            <a:chExt cx="686520" cy="685800"/>
          </a:xfrm>
        </p:grpSpPr>
        <p:sp>
          <p:nvSpPr>
            <p:cNvPr id="239" name=""/>
            <p:cNvSpPr/>
            <p:nvPr/>
          </p:nvSpPr>
          <p:spPr>
            <a:xfrm>
              <a:off x="2499840" y="3048120"/>
              <a:ext cx="102240" cy="68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2362320" y="3076920"/>
              <a:ext cx="686520" cy="231120"/>
              <a:chOff x="2362320" y="3076920"/>
              <a:chExt cx="686520" cy="231120"/>
            </a:xfrm>
          </p:grpSpPr>
          <p:sp>
            <p:nvSpPr>
              <p:cNvPr id="241" name=""/>
              <p:cNvSpPr/>
              <p:nvPr/>
            </p:nvSpPr>
            <p:spPr>
              <a:xfrm rot="5434200">
                <a:off x="2608200" y="2915640"/>
                <a:ext cx="56880" cy="548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2772360" y="3076920"/>
                <a:ext cx="276480" cy="231120"/>
                <a:chOff x="2772360" y="3076920"/>
                <a:chExt cx="276480" cy="231120"/>
              </a:xfrm>
            </p:grpSpPr>
            <p:sp>
              <p:nvSpPr>
                <p:cNvPr id="243" name=""/>
                <p:cNvSpPr/>
                <p:nvPr/>
              </p:nvSpPr>
              <p:spPr>
                <a:xfrm rot="5434200">
                  <a:off x="2796120" y="3055320"/>
                  <a:ext cx="228240" cy="274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rot="5434200">
                  <a:off x="2853720" y="3124080"/>
                  <a:ext cx="114120" cy="1371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5" name=""/>
          <p:cNvGrpSpPr/>
          <p:nvPr/>
        </p:nvGrpSpPr>
        <p:grpSpPr>
          <a:xfrm>
            <a:off x="2364120" y="2929680"/>
            <a:ext cx="703440" cy="804240"/>
            <a:chOff x="2364120" y="2929680"/>
            <a:chExt cx="703440" cy="804240"/>
          </a:xfrm>
        </p:grpSpPr>
        <p:sp>
          <p:nvSpPr>
            <p:cNvPr id="246" name=""/>
            <p:cNvSpPr/>
            <p:nvPr/>
          </p:nvSpPr>
          <p:spPr>
            <a:xfrm>
              <a:off x="2499840" y="2971800"/>
              <a:ext cx="102240" cy="762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2364120" y="2929680"/>
              <a:ext cx="703440" cy="309240"/>
              <a:chOff x="2364120" y="2929680"/>
              <a:chExt cx="703440" cy="309240"/>
            </a:xfrm>
          </p:grpSpPr>
          <p:sp>
            <p:nvSpPr>
              <p:cNvPr id="248" name=""/>
              <p:cNvSpPr/>
              <p:nvPr/>
            </p:nvSpPr>
            <p:spPr>
              <a:xfrm rot="4620000">
                <a:off x="2606760" y="2871720"/>
                <a:ext cx="63360" cy="54864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9" name=""/>
              <p:cNvGrpSpPr/>
              <p:nvPr/>
            </p:nvGrpSpPr>
            <p:grpSpPr>
              <a:xfrm>
                <a:off x="2743200" y="2929680"/>
                <a:ext cx="324360" cy="309240"/>
                <a:chOff x="2743200" y="2929680"/>
                <a:chExt cx="324360" cy="309240"/>
              </a:xfrm>
            </p:grpSpPr>
            <p:sp>
              <p:nvSpPr>
                <p:cNvPr id="250" name=""/>
                <p:cNvSpPr/>
                <p:nvPr/>
              </p:nvSpPr>
              <p:spPr>
                <a:xfrm rot="4620000">
                  <a:off x="2778120" y="2946960"/>
                  <a:ext cx="254160" cy="27432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rot="4620000">
                  <a:off x="2841840" y="3015360"/>
                  <a:ext cx="127080" cy="1371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2" name=""/>
          <p:cNvSpPr/>
          <p:nvPr/>
        </p:nvSpPr>
        <p:spPr>
          <a:xfrm>
            <a:off x="2514600" y="3352680"/>
            <a:ext cx="1143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P (&amp;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3962520"/>
            <a:ext cx="1143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e00"/>
                </a:solidFill>
                <a:latin typeface="Arial"/>
              </a:rPr>
              <a:t>V (&amp;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87600" y="3200400"/>
            <a:ext cx="698400" cy="990720"/>
          </a:xfrm>
          <a:custGeom>
            <a:avLst/>
            <a:gdLst/>
            <a:ahLst/>
            <a:rect l="l" t="t" r="r" b="b"/>
            <a:pathLst>
              <a:path w="440" h="624">
                <a:moveTo>
                  <a:pt x="104" y="624"/>
                </a:moveTo>
                <a:cubicBezTo>
                  <a:pt x="52" y="436"/>
                  <a:pt x="0" y="248"/>
                  <a:pt x="56" y="144"/>
                </a:cubicBezTo>
                <a:cubicBezTo>
                  <a:pt x="112" y="40"/>
                  <a:pt x="276" y="20"/>
                  <a:pt x="440" y="0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ortest Job Fir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5" name=""/>
          <p:cNvGrpSpPr/>
          <p:nvPr/>
        </p:nvGrpSpPr>
        <p:grpSpPr>
          <a:xfrm>
            <a:off x="609480" y="1525680"/>
            <a:ext cx="5410440" cy="4417920"/>
            <a:chOff x="609480" y="1525680"/>
            <a:chExt cx="5410440" cy="4417920"/>
          </a:xfrm>
        </p:grpSpPr>
        <p:sp>
          <p:nvSpPr>
            <p:cNvPr id="2766" name=""/>
            <p:cNvSpPr/>
            <p:nvPr/>
          </p:nvSpPr>
          <p:spPr>
            <a:xfrm>
              <a:off x="990720" y="2895480"/>
              <a:ext cx="4876560" cy="14479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990720" y="4419720"/>
              <a:ext cx="4876560" cy="114300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609480" y="1525680"/>
              <a:ext cx="5410440" cy="441792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monitor manager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boolean busy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condition free;</a:t>
              </a: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public manager () { busy = false; 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public void acquire()                </a:t>
              </a:r>
              <a:br>
                <a:rPr sz="2000"/>
              </a:b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if (busy) then  </a:t>
              </a: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free.wai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busy = tr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public void release()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busy = false;</a:t>
              </a:r>
              <a:br>
                <a:rPr sz="2000"/>
              </a:b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8000"/>
                  </a:solidFill>
                  <a:latin typeface="Arial"/>
                </a:rPr>
                <a:t>free.sig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}</a:t>
              </a:r>
              <a:br>
                <a:rPr sz="2000"/>
              </a:b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9" name=""/>
          <p:cNvSpPr/>
          <p:nvPr/>
        </p:nvSpPr>
        <p:spPr>
          <a:xfrm>
            <a:off x="6172200" y="4419720"/>
            <a:ext cx="2362320" cy="1666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r.acquir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se device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r.relea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6246360" y="3049560"/>
            <a:ext cx="242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 mgr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manage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4098960" y="3505320"/>
            <a:ext cx="4917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(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3224160" y="2846520"/>
            <a:ext cx="11239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(t: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7635960" y="4632480"/>
            <a:ext cx="704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(1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5867280" y="1600200"/>
            <a:ext cx="2590920" cy="129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137" y="33591"/>
                </a:moveTo>
                <a:lnTo>
                  <a:pt x="-635" y="1906"/>
                </a:lnTo>
              </a:path>
              <a:path w="21600" h="21600">
                <a:moveTo>
                  <a:pt x="-635" y="0"/>
                </a:moveTo>
                <a:lnTo>
                  <a:pt x="-635" y="21600"/>
                </a:lnTo>
              </a:path>
            </a:pathLst>
          </a:cu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0 = highest prior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 write free.wait(MAX-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7" dur="indefinite" restart="never" nodeType="tmRoot">
          <p:childTnLst>
            <p:seq>
              <p:cTn id="3948" dur="indefinite" nodeType="mainSeq">
                <p:childTnLst>
                  <p:par>
                    <p:cTn id="3949" fill="hold">
                      <p:stCondLst>
                        <p:cond delay="indefinite"/>
                      </p:stCondLst>
                      <p:childTnLst>
                        <p:par>
                          <p:cTn id="3950" fill="hold">
                            <p:stCondLst>
                              <p:cond delay="0"/>
                            </p:stCondLst>
                            <p:childTnLst>
                              <p:par>
                                <p:cTn id="39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3" dur="500"/>
                                        <p:tgtEl>
                                          <p:spTgt spid="2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7" dur="500"/>
                                        <p:tgtEl>
                                          <p:spTgt spid="2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1" dur="500"/>
                                        <p:tgtEl>
                                          <p:spTgt spid="2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2" fill="hold">
                      <p:stCondLst>
                        <p:cond delay="indefinite"/>
                      </p:stCondLst>
                      <p:childTnLst>
                        <p:par>
                          <p:cTn id="3963" fill="hold">
                            <p:stCondLst>
                              <p:cond delay="0"/>
                            </p:stCondLst>
                            <p:childTnLst>
                              <p:par>
                                <p:cTn id="39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6" dur="500" fill="hold"/>
                                        <p:tgtEl>
                                          <p:spTgt spid="2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7" dur="500" fill="hold"/>
                                        <p:tgtEl>
                                          <p:spTgt spid="2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8" fill="hold">
                            <p:stCondLst>
                              <p:cond delay="500"/>
                            </p:stCondLst>
                            <p:childTnLst>
                              <p:par>
                                <p:cTn id="39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1" dur="5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2" dur="5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3" fill="hold">
                      <p:stCondLst>
                        <p:cond delay="indefinite"/>
                      </p:stCondLst>
                      <p:childTnLst>
                        <p:par>
                          <p:cTn id="3974" fill="hold">
                            <p:stCondLst>
                              <p:cond delay="0"/>
                            </p:stCondLst>
                            <p:childTnLst>
                              <p:par>
                                <p:cTn id="39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7" dur="500" fill="hold"/>
                                        <p:tgtEl>
                                          <p:spTgt spid="2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8" dur="500" fill="hold"/>
                                        <p:tgtEl>
                                          <p:spTgt spid="2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9" fill="hold">
                      <p:stCondLst>
                        <p:cond delay="indefinite"/>
                      </p:stCondLst>
                      <p:childTnLst>
                        <p:par>
                          <p:cTn id="3980" fill="hold">
                            <p:stCondLst>
                              <p:cond delay="0"/>
                            </p:stCondLst>
                            <p:childTnLst>
                              <p:par>
                                <p:cTn id="39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3" dur="500"/>
                                        <p:tgtEl>
                                          <p:spTgt spid="2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itors: 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sier to write synchronization co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 time-dependent err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... still possi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533520" y="4038480"/>
            <a:ext cx="2332080" cy="12956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mgr.acquire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…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use resource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mgr.relea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6705720" y="3156120"/>
            <a:ext cx="1600200" cy="64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33" y="36548"/>
                </a:moveTo>
                <a:lnTo>
                  <a:pt x="-1029" y="3775"/>
                </a:lnTo>
              </a:path>
              <a:path w="21600" h="21600">
                <a:moveTo>
                  <a:pt x="-1029" y="0"/>
                </a:moveTo>
                <a:lnTo>
                  <a:pt x="-1029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Release but</a:t>
            </a:r>
            <a:br>
              <a:rPr sz="1800"/>
            </a:b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not acquir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579600" y="4876920"/>
            <a:ext cx="1523880" cy="75960"/>
          </a:xfrm>
          <a:custGeom>
            <a:avLst/>
            <a:gdLst/>
            <a:ahLst/>
            <a:rect l="l" t="t" r="r" b="b"/>
            <a:pathLst>
              <a:path w="528" h="48">
                <a:moveTo>
                  <a:pt x="0" y="48"/>
                </a:moveTo>
                <a:cubicBezTo>
                  <a:pt x="28" y="24"/>
                  <a:pt x="56" y="0"/>
                  <a:pt x="96" y="0"/>
                </a:cubicBezTo>
                <a:cubicBezTo>
                  <a:pt x="136" y="0"/>
                  <a:pt x="192" y="48"/>
                  <a:pt x="240" y="48"/>
                </a:cubicBezTo>
                <a:cubicBezTo>
                  <a:pt x="288" y="48"/>
                  <a:pt x="336" y="0"/>
                  <a:pt x="384" y="0"/>
                </a:cubicBezTo>
                <a:cubicBezTo>
                  <a:pt x="432" y="0"/>
                  <a:pt x="480" y="24"/>
                  <a:pt x="528" y="48"/>
                </a:cubicBezTo>
              </a:path>
            </a:pathLst>
          </a:custGeom>
          <a:noFill/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3352680" y="4038480"/>
            <a:ext cx="2332080" cy="12956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mgr.acquire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…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use resource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mgr.relea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3398760" y="4267080"/>
            <a:ext cx="2057400" cy="76320"/>
          </a:xfrm>
          <a:custGeom>
            <a:avLst/>
            <a:gdLst/>
            <a:ahLst/>
            <a:rect l="l" t="t" r="r" b="b"/>
            <a:pathLst>
              <a:path w="528" h="48">
                <a:moveTo>
                  <a:pt x="0" y="48"/>
                </a:moveTo>
                <a:cubicBezTo>
                  <a:pt x="28" y="24"/>
                  <a:pt x="56" y="0"/>
                  <a:pt x="96" y="0"/>
                </a:cubicBezTo>
                <a:cubicBezTo>
                  <a:pt x="136" y="0"/>
                  <a:pt x="192" y="48"/>
                  <a:pt x="240" y="48"/>
                </a:cubicBezTo>
                <a:cubicBezTo>
                  <a:pt x="288" y="48"/>
                  <a:pt x="336" y="0"/>
                  <a:pt x="384" y="0"/>
                </a:cubicBezTo>
                <a:cubicBezTo>
                  <a:pt x="432" y="0"/>
                  <a:pt x="480" y="24"/>
                  <a:pt x="528" y="48"/>
                </a:cubicBezTo>
              </a:path>
            </a:pathLst>
          </a:custGeom>
          <a:noFill/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6202440" y="4038480"/>
            <a:ext cx="2332080" cy="167652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mgr.relea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mgr.acquire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…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use resource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mgr.relea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3733920" y="3156120"/>
            <a:ext cx="1676160" cy="64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776" y="46998"/>
                </a:moveTo>
                <a:lnTo>
                  <a:pt x="-982" y="3775"/>
                </a:lnTo>
              </a:path>
              <a:path w="21600" h="21600">
                <a:moveTo>
                  <a:pt x="-982" y="0"/>
                </a:moveTo>
                <a:lnTo>
                  <a:pt x="-982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Use but</a:t>
            </a:r>
            <a:br>
              <a:rPr sz="1800"/>
            </a:b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not acquir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914400" y="3200400"/>
            <a:ext cx="1752480" cy="64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129" y="59817"/>
                </a:moveTo>
                <a:lnTo>
                  <a:pt x="-939" y="3775"/>
                </a:lnTo>
              </a:path>
              <a:path w="21600" h="21600">
                <a:moveTo>
                  <a:pt x="-939" y="0"/>
                </a:moveTo>
                <a:lnTo>
                  <a:pt x="-939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Forget to</a:t>
            </a:r>
            <a:br>
              <a:rPr sz="1800"/>
            </a:b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release 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4" dur="indefinite" restart="never" nodeType="tmRoot">
          <p:childTnLst>
            <p:seq>
              <p:cTn id="3985" dur="indefinite" nodeType="mainSeq">
                <p:childTnLst>
                  <p:par>
                    <p:cTn id="3986" fill="hold">
                      <p:stCondLst>
                        <p:cond delay="indefinite"/>
                      </p:stCondLst>
                      <p:childTnLst>
                        <p:par>
                          <p:cTn id="3987" fill="hold">
                            <p:stCondLst>
                              <p:cond delay="0"/>
                            </p:stCondLst>
                            <p:childTnLst>
                              <p:par>
                                <p:cTn id="39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0" dur="500"/>
                                        <p:tgtEl>
                                          <p:spTgt spid="2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1" fill="hold">
                      <p:stCondLst>
                        <p:cond delay="indefinite"/>
                      </p:stCondLst>
                      <p:childTnLst>
                        <p:par>
                          <p:cTn id="3992" fill="hold">
                            <p:stCondLst>
                              <p:cond delay="0"/>
                            </p:stCondLst>
                            <p:childTnLst>
                              <p:par>
                                <p:cTn id="39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5" dur="500"/>
                                        <p:tgtEl>
                                          <p:spTgt spid="2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6" fill="hold">
                      <p:stCondLst>
                        <p:cond delay="indefinite"/>
                      </p:stCondLst>
                      <p:childTnLst>
                        <p:par>
                          <p:cTn id="3997" fill="hold">
                            <p:stCondLst>
                              <p:cond delay="0"/>
                            </p:stCondLst>
                            <p:childTnLst>
                              <p:par>
                                <p:cTn id="39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0" dur="500" fill="hold"/>
                                        <p:tgtEl>
                                          <p:spTgt spid="2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1" dur="500" fill="hold"/>
                                        <p:tgtEl>
                                          <p:spTgt spid="2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2" fill="hold">
                      <p:stCondLst>
                        <p:cond delay="indefinite"/>
                      </p:stCondLst>
                      <p:childTnLst>
                        <p:par>
                          <p:cTn id="4003" fill="hold">
                            <p:stCondLst>
                              <p:cond delay="0"/>
                            </p:stCondLst>
                            <p:childTnLst>
                              <p:par>
                                <p:cTn id="40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06" dur="500"/>
                                        <p:tgtEl>
                                          <p:spTgt spid="2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7" fill="hold">
                      <p:stCondLst>
                        <p:cond delay="indefinite"/>
                      </p:stCondLst>
                      <p:childTnLst>
                        <p:par>
                          <p:cTn id="4008" fill="hold">
                            <p:stCondLst>
                              <p:cond delay="0"/>
                            </p:stCondLst>
                            <p:childTnLst>
                              <p:par>
                                <p:cTn id="40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1" dur="500"/>
                                        <p:tgtEl>
                                          <p:spTgt spid="2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2" fill="hold">
                      <p:stCondLst>
                        <p:cond delay="indefinite"/>
                      </p:stCondLst>
                      <p:childTnLst>
                        <p:par>
                          <p:cTn id="4013" fill="hold">
                            <p:stCondLst>
                              <p:cond delay="0"/>
                            </p:stCondLst>
                            <p:childTnLst>
                              <p:par>
                                <p:cTn id="40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6" dur="500" fill="hold"/>
                                        <p:tgtEl>
                                          <p:spTgt spid="2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7" dur="500" fill="hold"/>
                                        <p:tgtEl>
                                          <p:spTgt spid="2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8" fill="hold">
                      <p:stCondLst>
                        <p:cond delay="indefinite"/>
                      </p:stCondLst>
                      <p:childTnLst>
                        <p:par>
                          <p:cTn id="4019" fill="hold">
                            <p:stCondLst>
                              <p:cond delay="0"/>
                            </p:stCondLst>
                            <p:childTnLst>
                              <p:par>
                                <p:cTn id="40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22" dur="500"/>
                                        <p:tgtEl>
                                          <p:spTgt spid="2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3" fill="hold">
                      <p:stCondLst>
                        <p:cond delay="indefinite"/>
                      </p:stCondLst>
                      <p:childTnLst>
                        <p:par>
                          <p:cTn id="4024" fill="hold">
                            <p:stCondLst>
                              <p:cond delay="0"/>
                            </p:stCondLst>
                            <p:childTnLst>
                              <p:par>
                                <p:cTn id="40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7" dur="500"/>
                                        <p:tgtEl>
                                          <p:spTgt spid="2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8" fill="hold">
                      <p:stCondLst>
                        <p:cond delay="indefinite"/>
                      </p:stCondLst>
                      <p:childTnLst>
                        <p:par>
                          <p:cTn id="4029" fill="hold">
                            <p:stCondLst>
                              <p:cond delay="0"/>
                            </p:stCondLst>
                            <p:childTnLst>
                              <p:par>
                                <p:cTn id="40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32" dur="500"/>
                                        <p:tgtEl>
                                          <p:spTgt spid="2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itors: 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"/>
          <p:cNvSpPr/>
          <p:nvPr/>
        </p:nvSpPr>
        <p:spPr>
          <a:xfrm>
            <a:off x="990720" y="2133720"/>
            <a:ext cx="5410080" cy="38862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monitor manag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boolean bus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condition fre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ublic manager () { busy = false; }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  void acquire (time t) { 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  void release() { …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6781680" y="2895480"/>
            <a:ext cx="1981440" cy="91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7639" y="30340"/>
                </a:moveTo>
                <a:lnTo>
                  <a:pt x="-831" y="2658"/>
                </a:lnTo>
              </a:path>
              <a:path w="21600" h="21600">
                <a:moveTo>
                  <a:pt x="-831" y="0"/>
                </a:moveTo>
                <a:lnTo>
                  <a:pt x="-831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icult to predict all uses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1419120" y="4191120"/>
            <a:ext cx="3657600" cy="14475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ublic void use (time t, …) { 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acquire (t);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…;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release (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9" name=""/>
          <p:cNvGrpSpPr/>
          <p:nvPr/>
        </p:nvGrpSpPr>
        <p:grpSpPr>
          <a:xfrm>
            <a:off x="3048120" y="4648320"/>
            <a:ext cx="5715000" cy="1191240"/>
            <a:chOff x="3048120" y="4648320"/>
            <a:chExt cx="5715000" cy="1191240"/>
          </a:xfrm>
        </p:grpSpPr>
        <p:sp>
          <p:nvSpPr>
            <p:cNvPr id="2790" name=""/>
            <p:cNvSpPr/>
            <p:nvPr/>
          </p:nvSpPr>
          <p:spPr>
            <a:xfrm>
              <a:off x="6781680" y="4648320"/>
              <a:ext cx="1981440" cy="11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38837" y="-2238"/>
                  </a:moveTo>
                  <a:lnTo>
                    <a:pt x="-831" y="2052"/>
                  </a:lnTo>
                </a:path>
                <a:path w="21600" h="21600">
                  <a:moveTo>
                    <a:pt x="-831" y="0"/>
                  </a:moveTo>
                  <a:lnTo>
                    <a:pt x="-831" y="21600"/>
                  </a:lnTo>
                </a:path>
              </a:pathLst>
            </a:cu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eless!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cheduling =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ched. alg. of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try 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H="1" flipV="1">
              <a:off x="3048120" y="5116320"/>
              <a:ext cx="3657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2" name=""/>
          <p:cNvSpPr/>
          <p:nvPr/>
        </p:nvSpPr>
        <p:spPr>
          <a:xfrm>
            <a:off x="1420920" y="3344760"/>
            <a:ext cx="945720" cy="7038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 txBox="1"/>
          <p:nvPr/>
        </p:nvSpPr>
        <p:spPr>
          <a:xfrm>
            <a:off x="685800" y="1295280"/>
            <a:ext cx="710244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annot incorporate resource in Monitor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3" dur="indefinite" restart="never" nodeType="tmRoot">
          <p:childTnLst>
            <p:seq>
              <p:cTn id="4034" dur="indefinite" nodeType="mainSeq">
                <p:childTnLst>
                  <p:par>
                    <p:cTn id="4035" fill="hold">
                      <p:stCondLst>
                        <p:cond delay="indefinite"/>
                      </p:stCondLst>
                      <p:childTnLst>
                        <p:par>
                          <p:cTn id="4036" fill="hold">
                            <p:stCondLst>
                              <p:cond delay="0"/>
                            </p:stCondLst>
                            <p:childTnLst>
                              <p:par>
                                <p:cTn id="40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9" dur="500"/>
                                        <p:tgtEl>
                                          <p:spTgt spid="2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0" fill="hold">
                      <p:stCondLst>
                        <p:cond delay="indefinite"/>
                      </p:stCondLst>
                      <p:childTnLst>
                        <p:par>
                          <p:cTn id="4041" fill="hold">
                            <p:stCondLst>
                              <p:cond delay="0"/>
                            </p:stCondLst>
                            <p:childTnLst>
                              <p:par>
                                <p:cTn id="4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4" dur="500"/>
                                        <p:tgtEl>
                                          <p:spTgt spid="2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5" fill="hold">
                            <p:stCondLst>
                              <p:cond delay="500"/>
                            </p:stCondLst>
                            <p:childTnLst>
                              <p:par>
                                <p:cTn id="40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8" dur="500"/>
                                        <p:tgtEl>
                                          <p:spTgt spid="2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9" fill="hold">
                      <p:stCondLst>
                        <p:cond delay="indefinite"/>
                      </p:stCondLst>
                      <p:childTnLst>
                        <p:par>
                          <p:cTn id="4050" fill="hold">
                            <p:stCondLst>
                              <p:cond delay="0"/>
                            </p:stCondLst>
                            <p:childTnLst>
                              <p:par>
                                <p:cTn id="40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53" dur="500"/>
                                        <p:tgtEl>
                                          <p:spTgt spid="2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4" fill="hold">
                      <p:stCondLst>
                        <p:cond delay="indefinite"/>
                      </p:stCondLst>
                      <p:childTnLst>
                        <p:par>
                          <p:cTn id="4055" fill="hold">
                            <p:stCondLst>
                              <p:cond delay="0"/>
                            </p:stCondLst>
                            <p:childTnLst>
                              <p:par>
                                <p:cTn id="4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58" dur="500"/>
                                        <p:tgtEl>
                                          <p:spTgt spid="2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9" fill="hold">
                      <p:stCondLst>
                        <p:cond delay="indefinite"/>
                      </p:stCondLst>
                      <p:childTnLst>
                        <p:par>
                          <p:cTn id="4060" fill="hold">
                            <p:stCondLst>
                              <p:cond delay="0"/>
                            </p:stCondLst>
                            <p:childTnLst>
                              <p:par>
                                <p:cTn id="40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3" dur="500" fill="hold"/>
                                        <p:tgtEl>
                                          <p:spTgt spid="2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4" dur="500" fill="hold"/>
                                        <p:tgtEl>
                                          <p:spTgt spid="2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itors: 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ectnes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ify correct order of monitor cal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ent access if monitor igno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itor provides process with “token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ation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1600200" y="2133720"/>
            <a:ext cx="1828800" cy="3047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8" name=""/>
          <p:cNvGrpSpPr/>
          <p:nvPr/>
        </p:nvGrpSpPr>
        <p:grpSpPr>
          <a:xfrm>
            <a:off x="1143000" y="3209040"/>
            <a:ext cx="897840" cy="1334520"/>
            <a:chOff x="1143000" y="3209040"/>
            <a:chExt cx="897840" cy="1334520"/>
          </a:xfrm>
        </p:grpSpPr>
        <p:sp>
          <p:nvSpPr>
            <p:cNvPr id="2799" name=""/>
            <p:cNvSpPr/>
            <p:nvPr/>
          </p:nvSpPr>
          <p:spPr>
            <a:xfrm>
              <a:off x="1148040" y="3889440"/>
              <a:ext cx="823680" cy="65412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1143000" y="3773520"/>
              <a:ext cx="820800" cy="24156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1509840" y="4105440"/>
              <a:ext cx="100080" cy="30636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 rot="3105600">
              <a:off x="1400760" y="3358440"/>
              <a:ext cx="58572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803" name=""/>
          <p:cNvGraphicFramePr/>
          <p:nvPr/>
        </p:nvGraphicFramePr>
        <p:xfrm>
          <a:off x="7086600" y="3819600"/>
          <a:ext cx="53352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381960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5" name=""/>
          <p:cNvGraphicFramePr/>
          <p:nvPr/>
        </p:nvGraphicFramePr>
        <p:xfrm>
          <a:off x="7238880" y="3971880"/>
          <a:ext cx="533520" cy="52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8880" y="397188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7" name=""/>
          <p:cNvGraphicFramePr/>
          <p:nvPr/>
        </p:nvGraphicFramePr>
        <p:xfrm>
          <a:off x="7391520" y="4124160"/>
          <a:ext cx="533160" cy="52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4124160"/>
                    <a:ext cx="5331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9" name=""/>
          <p:cNvGraphicFramePr/>
          <p:nvPr/>
        </p:nvGraphicFramePr>
        <p:xfrm>
          <a:off x="7543800" y="4276800"/>
          <a:ext cx="533520" cy="52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427680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1" name=""/>
          <p:cNvSpPr/>
          <p:nvPr/>
        </p:nvSpPr>
        <p:spPr>
          <a:xfrm>
            <a:off x="4952880" y="2133720"/>
            <a:ext cx="1828800" cy="3047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6934320" y="32004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in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3" name=""/>
          <p:cNvGrpSpPr/>
          <p:nvPr/>
        </p:nvGrpSpPr>
        <p:grpSpPr>
          <a:xfrm>
            <a:off x="4495680" y="3581280"/>
            <a:ext cx="828720" cy="1062000"/>
            <a:chOff x="4495680" y="3581280"/>
            <a:chExt cx="828720" cy="1062000"/>
          </a:xfrm>
        </p:grpSpPr>
        <p:sp>
          <p:nvSpPr>
            <p:cNvPr id="2814" name=""/>
            <p:cNvSpPr/>
            <p:nvPr/>
          </p:nvSpPr>
          <p:spPr>
            <a:xfrm>
              <a:off x="4500360" y="3988440"/>
              <a:ext cx="824040" cy="65484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495680" y="3873240"/>
              <a:ext cx="821160" cy="24048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862520" y="4204800"/>
              <a:ext cx="99720" cy="30600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628880" y="3581280"/>
              <a:ext cx="58536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8" name=""/>
          <p:cNvSpPr/>
          <p:nvPr/>
        </p:nvSpPr>
        <p:spPr>
          <a:xfrm>
            <a:off x="1905120" y="3124080"/>
            <a:ext cx="83808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1981080" y="4114800"/>
            <a:ext cx="838440" cy="53352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2057400" y="3276720"/>
            <a:ext cx="838080" cy="533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2286000" y="3429000"/>
            <a:ext cx="83808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2133720" y="4267080"/>
            <a:ext cx="838080" cy="53352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647640" y="5229360"/>
            <a:ext cx="194328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3768" y="-15040"/>
                </a:moveTo>
                <a:lnTo>
                  <a:pt x="22447" y="3456"/>
                </a:lnTo>
              </a:path>
              <a:path w="21600" h="21600">
                <a:moveTo>
                  <a:pt x="22447" y="0"/>
                </a:moveTo>
                <a:lnTo>
                  <a:pt x="22447" y="21600"/>
                </a:lnTo>
              </a:path>
            </a:pathLst>
          </a:cu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hronise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5562720" y="4191120"/>
            <a:ext cx="838080" cy="53316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6095880" y="4191120"/>
            <a:ext cx="165240" cy="53316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2819520" y="1600200"/>
            <a:ext cx="220968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83" y="58406"/>
                </a:moveTo>
                <a:lnTo>
                  <a:pt x="-745" y="3456"/>
                </a:lnTo>
              </a:path>
              <a:path w="21600" h="21600">
                <a:moveTo>
                  <a:pt x="-745" y="0"/>
                </a:moveTo>
                <a:lnTo>
                  <a:pt x="-745" y="21600"/>
                </a:ln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synchronise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5105520" y="3124080"/>
            <a:ext cx="83808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5562720" y="3124080"/>
            <a:ext cx="16488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5867280" y="3429000"/>
            <a:ext cx="83844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6324480" y="3429000"/>
            <a:ext cx="16524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6019920" y="3429000"/>
            <a:ext cx="16488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2" name=""/>
          <p:cNvGraphicFramePr/>
          <p:nvPr/>
        </p:nvGraphicFramePr>
        <p:xfrm>
          <a:off x="3733920" y="4114800"/>
          <a:ext cx="533160" cy="523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33920" y="4114800"/>
                    <a:ext cx="533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4" name=""/>
          <p:cNvGraphicFramePr/>
          <p:nvPr/>
        </p:nvGraphicFramePr>
        <p:xfrm>
          <a:off x="3886200" y="4267080"/>
          <a:ext cx="533520" cy="524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3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86200" y="4267080"/>
                    <a:ext cx="53352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6" name=""/>
          <p:cNvGraphicFramePr/>
          <p:nvPr/>
        </p:nvGraphicFramePr>
        <p:xfrm>
          <a:off x="4038480" y="4419720"/>
          <a:ext cx="533520" cy="52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3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38480" y="441972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8" name=""/>
          <p:cNvSpPr/>
          <p:nvPr/>
        </p:nvSpPr>
        <p:spPr>
          <a:xfrm>
            <a:off x="6308640" y="1523880"/>
            <a:ext cx="260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omparable to</a:t>
            </a:r>
            <a:br>
              <a:rPr sz="2000"/>
            </a:b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monitor with </a:t>
            </a:r>
            <a:br>
              <a:rPr sz="2000"/>
            </a:b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 condition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4572000" y="5334120"/>
            <a:ext cx="213372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163" y="-14223"/>
                </a:moveTo>
                <a:lnTo>
                  <a:pt x="-771" y="2422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ing to acquire the 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7696080" y="5146560"/>
            <a:ext cx="110520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967" y="-21633"/>
                </a:moveTo>
                <a:lnTo>
                  <a:pt x="-1490" y="3456"/>
                </a:lnTo>
              </a:path>
              <a:path w="21600" h="21600">
                <a:moveTo>
                  <a:pt x="-1490" y="0"/>
                </a:moveTo>
                <a:lnTo>
                  <a:pt x="-1490" y="21600"/>
                </a:lnTo>
              </a:path>
            </a:pathLst>
          </a:cu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3657600" y="3276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5" dur="indefinite" restart="never" nodeType="tmRoot">
          <p:childTnLst>
            <p:seq>
              <p:cTn id="4066" dur="indefinite" nodeType="mainSeq">
                <p:childTnLst>
                  <p:par>
                    <p:cTn id="4067" fill="hold">
                      <p:stCondLst>
                        <p:cond delay="indefinite"/>
                      </p:stCondLst>
                      <p:childTnLst>
                        <p:par>
                          <p:cTn id="4068" fill="hold">
                            <p:stCondLst>
                              <p:cond delay="0"/>
                            </p:stCondLst>
                            <p:childTnLst>
                              <p:par>
                                <p:cTn id="40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1" dur="500"/>
                                        <p:tgtEl>
                                          <p:spTgt spid="2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2" fill="hold">
                      <p:stCondLst>
                        <p:cond delay="indefinite"/>
                      </p:stCondLst>
                      <p:childTnLst>
                        <p:par>
                          <p:cTn id="4073" fill="hold">
                            <p:stCondLst>
                              <p:cond delay="0"/>
                            </p:stCondLst>
                            <p:childTnLst>
                              <p:par>
                                <p:cTn id="40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6" dur="500" fill="hold"/>
                                        <p:tgtEl>
                                          <p:spTgt spid="2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7" dur="500" fill="hold"/>
                                        <p:tgtEl>
                                          <p:spTgt spid="2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8" fill="hold">
                            <p:stCondLst>
                              <p:cond delay="500"/>
                            </p:stCondLst>
                            <p:childTnLst>
                              <p:par>
                                <p:cTn id="40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1" dur="500" fill="hold"/>
                                        <p:tgtEl>
                                          <p:spTgt spid="2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2" dur="500" fill="hold"/>
                                        <p:tgtEl>
                                          <p:spTgt spid="2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6" dur="500" fill="hold"/>
                                        <p:tgtEl>
                                          <p:spTgt spid="2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7" dur="500" fill="hold"/>
                                        <p:tgtEl>
                                          <p:spTgt spid="2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1" dur="500"/>
                                        <p:tgtEl>
                                          <p:spTgt spid="2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2" fill="hold">
                      <p:stCondLst>
                        <p:cond delay="indefinite"/>
                      </p:stCondLst>
                      <p:childTnLst>
                        <p:par>
                          <p:cTn id="4093" fill="hold">
                            <p:stCondLst>
                              <p:cond delay="0"/>
                            </p:stCondLst>
                            <p:childTnLst>
                              <p:par>
                                <p:cTn id="40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6" dur="500" fill="hold"/>
                                        <p:tgtEl>
                                          <p:spTgt spid="2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7" dur="500" fill="hold"/>
                                        <p:tgtEl>
                                          <p:spTgt spid="2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1" dur="500" fill="hold"/>
                                        <p:tgtEl>
                                          <p:spTgt spid="2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2" dur="500" fill="hold"/>
                                        <p:tgtEl>
                                          <p:spTgt spid="2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06" dur="500"/>
                                        <p:tgtEl>
                                          <p:spTgt spid="2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7" fill="hold">
                      <p:stCondLst>
                        <p:cond delay="indefinite"/>
                      </p:stCondLst>
                      <p:childTnLst>
                        <p:par>
                          <p:cTn id="4108" fill="hold">
                            <p:stCondLst>
                              <p:cond delay="0"/>
                            </p:stCondLst>
                            <p:childTnLst>
                              <p:par>
                                <p:cTn id="4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1" dur="500" fill="hold"/>
                                        <p:tgtEl>
                                          <p:spTgt spid="2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2" dur="500" fill="hold"/>
                                        <p:tgtEl>
                                          <p:spTgt spid="2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3" fill="hold">
                      <p:stCondLst>
                        <p:cond delay="indefinite"/>
                      </p:stCondLst>
                      <p:childTnLst>
                        <p:par>
                          <p:cTn id="4114" fill="hold">
                            <p:stCondLst>
                              <p:cond delay="0"/>
                            </p:stCondLst>
                            <p:childTnLst>
                              <p:par>
                                <p:cTn id="4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7" dur="500"/>
                                        <p:tgtEl>
                                          <p:spTgt spid="2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1" dur="500" fill="hold"/>
                                        <p:tgtEl>
                                          <p:spTgt spid="2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2" dur="500" fill="hold"/>
                                        <p:tgtEl>
                                          <p:spTgt spid="2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6" dur="500" fill="hold"/>
                                        <p:tgtEl>
                                          <p:spTgt spid="2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7" dur="500" fill="hold"/>
                                        <p:tgtEl>
                                          <p:spTgt spid="2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1" dur="500" fill="hold"/>
                                        <p:tgtEl>
                                          <p:spTgt spid="2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2" dur="500" fill="hold"/>
                                        <p:tgtEl>
                                          <p:spTgt spid="2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6" dur="500"/>
                                        <p:tgtEl>
                                          <p:spTgt spid="2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7" fill="hold">
                      <p:stCondLst>
                        <p:cond delay="indefinite"/>
                      </p:stCondLst>
                      <p:childTnLst>
                        <p:par>
                          <p:cTn id="4138" fill="hold">
                            <p:stCondLst>
                              <p:cond delay="0"/>
                            </p:stCondLst>
                            <p:childTnLst>
                              <p:par>
                                <p:cTn id="41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41" dur="500"/>
                                        <p:tgtEl>
                                          <p:spTgt spid="2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2" fill="hold">
                            <p:stCondLst>
                              <p:cond delay="500"/>
                            </p:stCondLst>
                            <p:childTnLst>
                              <p:par>
                                <p:cTn id="414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45" dur="500"/>
                                        <p:tgtEl>
                                          <p:spTgt spid="2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49" dur="500"/>
                                        <p:tgtEl>
                                          <p:spTgt spid="2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0" fill="hold">
                      <p:stCondLst>
                        <p:cond delay="indefinite"/>
                      </p:stCondLst>
                      <p:childTnLst>
                        <p:par>
                          <p:cTn id="4151" fill="hold">
                            <p:stCondLst>
                              <p:cond delay="0"/>
                            </p:stCondLst>
                            <p:childTnLst>
                              <p:par>
                                <p:cTn id="4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4" dur="500" fill="hold"/>
                                        <p:tgtEl>
                                          <p:spTgt spid="2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5" dur="500" fill="hold"/>
                                        <p:tgtEl>
                                          <p:spTgt spid="2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6" fill="hold">
                            <p:stCondLst>
                              <p:cond delay="500"/>
                            </p:stCondLst>
                            <p:childTnLst>
                              <p:par>
                                <p:cTn id="41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9" dur="500"/>
                                        <p:tgtEl>
                                          <p:spTgt spid="2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0" fill="hold">
                      <p:stCondLst>
                        <p:cond delay="indefinite"/>
                      </p:stCondLst>
                      <p:childTnLst>
                        <p:par>
                          <p:cTn id="4161" fill="hold">
                            <p:stCondLst>
                              <p:cond delay="0"/>
                            </p:stCondLst>
                            <p:childTnLst>
                              <p:par>
                                <p:cTn id="4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4" dur="500"/>
                                        <p:tgtEl>
                                          <p:spTgt spid="2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8" dur="500" fill="hold"/>
                                        <p:tgtEl>
                                          <p:spTgt spid="2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9" dur="500" fill="hold"/>
                                        <p:tgtEl>
                                          <p:spTgt spid="2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3" dur="500" fill="hold"/>
                                        <p:tgtEl>
                                          <p:spTgt spid="2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4" dur="500" fill="hold"/>
                                        <p:tgtEl>
                                          <p:spTgt spid="2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8" dur="500" fill="hold"/>
                                        <p:tgtEl>
                                          <p:spTgt spid="2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9" dur="500" fill="hold"/>
                                        <p:tgtEl>
                                          <p:spTgt spid="2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83" dur="500"/>
                                        <p:tgtEl>
                                          <p:spTgt spid="2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4" fill="hold">
                      <p:stCondLst>
                        <p:cond delay="indefinite"/>
                      </p:stCondLst>
                      <p:childTnLst>
                        <p:par>
                          <p:cTn id="4185" fill="hold">
                            <p:stCondLst>
                              <p:cond delay="0"/>
                            </p:stCondLst>
                            <p:childTnLst>
                              <p:par>
                                <p:cTn id="4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8" dur="500"/>
                                        <p:tgtEl>
                                          <p:spTgt spid="2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9" fill="hold">
                            <p:stCondLst>
                              <p:cond delay="500"/>
                            </p:stCondLst>
                            <p:childTnLst>
                              <p:par>
                                <p:cTn id="4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2" dur="500" fill="hold"/>
                                        <p:tgtEl>
                                          <p:spTgt spid="2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3" dur="500" fill="hold"/>
                                        <p:tgtEl>
                                          <p:spTgt spid="2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7" dur="500" fill="hold"/>
                                        <p:tgtEl>
                                          <p:spTgt spid="2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8" dur="500" fill="hold"/>
                                        <p:tgtEl>
                                          <p:spTgt spid="2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2" dur="500" fill="hold"/>
                                        <p:tgtEl>
                                          <p:spTgt spid="2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3" dur="500" fill="hold"/>
                                        <p:tgtEl>
                                          <p:spTgt spid="2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7" dur="500" fill="hold"/>
                                        <p:tgtEl>
                                          <p:spTgt spid="2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8" dur="500" fill="hold"/>
                                        <p:tgtEl>
                                          <p:spTgt spid="2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9" fill="hold">
                            <p:stCondLst>
                              <p:cond delay="2500"/>
                            </p:stCondLst>
                            <p:childTnLst>
                              <p:par>
                                <p:cTn id="42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2" dur="500"/>
                                        <p:tgtEl>
                                          <p:spTgt spid="2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ation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3" name=""/>
          <p:cNvGraphicFramePr/>
          <p:nvPr/>
        </p:nvGraphicFramePr>
        <p:xfrm>
          <a:off x="6019920" y="4343400"/>
          <a:ext cx="533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4343400"/>
                    <a:ext cx="533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5" name=""/>
          <p:cNvGraphicFramePr/>
          <p:nvPr/>
        </p:nvGraphicFramePr>
        <p:xfrm>
          <a:off x="6172200" y="4495680"/>
          <a:ext cx="53352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4495680"/>
                    <a:ext cx="53352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7" name=""/>
          <p:cNvGraphicFramePr/>
          <p:nvPr/>
        </p:nvGraphicFramePr>
        <p:xfrm>
          <a:off x="6324480" y="4648320"/>
          <a:ext cx="533520" cy="52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464832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9" name=""/>
          <p:cNvGraphicFramePr/>
          <p:nvPr/>
        </p:nvGraphicFramePr>
        <p:xfrm>
          <a:off x="6477120" y="4800600"/>
          <a:ext cx="533160" cy="52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77120" y="4800600"/>
                    <a:ext cx="533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1" name=""/>
          <p:cNvSpPr/>
          <p:nvPr/>
        </p:nvSpPr>
        <p:spPr>
          <a:xfrm>
            <a:off x="2895480" y="1981080"/>
            <a:ext cx="2286000" cy="35816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5943600" y="35812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in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3352680" y="4038480"/>
            <a:ext cx="990720" cy="53352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4038480" y="4038480"/>
            <a:ext cx="16524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3124080" y="2743200"/>
            <a:ext cx="83844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3581280" y="2743200"/>
            <a:ext cx="16524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3809880" y="3352680"/>
            <a:ext cx="83844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4267080" y="3352680"/>
            <a:ext cx="16524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3962520" y="3352680"/>
            <a:ext cx="16488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0" name=""/>
          <p:cNvGraphicFramePr/>
          <p:nvPr/>
        </p:nvGraphicFramePr>
        <p:xfrm>
          <a:off x="1143000" y="4648320"/>
          <a:ext cx="533520" cy="523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43000" y="464832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2" name=""/>
          <p:cNvSpPr/>
          <p:nvPr/>
        </p:nvSpPr>
        <p:spPr>
          <a:xfrm>
            <a:off x="4800600" y="3657600"/>
            <a:ext cx="914400" cy="533520"/>
          </a:xfrm>
          <a:prstGeom prst="wedgeRoundRectCallout">
            <a:avLst>
              <a:gd name="adj1" fmla="val -125000"/>
              <a:gd name="adj2" fmla="val 76189"/>
              <a:gd name="adj3" fmla="val 16667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a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3" name=""/>
          <p:cNvGrpSpPr/>
          <p:nvPr/>
        </p:nvGrpSpPr>
        <p:grpSpPr>
          <a:xfrm>
            <a:off x="1927080" y="3804120"/>
            <a:ext cx="897840" cy="1334520"/>
            <a:chOff x="1927080" y="3804120"/>
            <a:chExt cx="897840" cy="1334520"/>
          </a:xfrm>
        </p:grpSpPr>
        <p:sp>
          <p:nvSpPr>
            <p:cNvPr id="2864" name=""/>
            <p:cNvSpPr/>
            <p:nvPr/>
          </p:nvSpPr>
          <p:spPr>
            <a:xfrm>
              <a:off x="1932120" y="4484520"/>
              <a:ext cx="823680" cy="65412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1927080" y="4368600"/>
              <a:ext cx="820800" cy="24156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2293920" y="4700520"/>
              <a:ext cx="100080" cy="30636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 rot="3105600">
              <a:off x="2184840" y="3953520"/>
              <a:ext cx="58572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8" name=""/>
          <p:cNvSpPr/>
          <p:nvPr/>
        </p:nvSpPr>
        <p:spPr>
          <a:xfrm>
            <a:off x="1844640" y="3705120"/>
            <a:ext cx="1077840" cy="1690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9" name=""/>
          <p:cNvGrpSpPr/>
          <p:nvPr/>
        </p:nvGrpSpPr>
        <p:grpSpPr>
          <a:xfrm>
            <a:off x="1927080" y="3973680"/>
            <a:ext cx="828720" cy="1062000"/>
            <a:chOff x="1927080" y="3973680"/>
            <a:chExt cx="828720" cy="1062000"/>
          </a:xfrm>
        </p:grpSpPr>
        <p:sp>
          <p:nvSpPr>
            <p:cNvPr id="2870" name=""/>
            <p:cNvSpPr/>
            <p:nvPr/>
          </p:nvSpPr>
          <p:spPr>
            <a:xfrm>
              <a:off x="1931760" y="4380840"/>
              <a:ext cx="824040" cy="65484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1927080" y="4265640"/>
              <a:ext cx="821160" cy="24048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2293920" y="4597200"/>
              <a:ext cx="99720" cy="30600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2060280" y="3973680"/>
              <a:ext cx="58536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4" name=""/>
          <p:cNvSpPr/>
          <p:nvPr/>
        </p:nvSpPr>
        <p:spPr>
          <a:xfrm>
            <a:off x="4038480" y="4038480"/>
            <a:ext cx="16524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f95a7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1846440" y="3705120"/>
            <a:ext cx="1077840" cy="1690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6" name=""/>
          <p:cNvGrpSpPr/>
          <p:nvPr/>
        </p:nvGrpSpPr>
        <p:grpSpPr>
          <a:xfrm>
            <a:off x="1927080" y="3804120"/>
            <a:ext cx="897840" cy="1334520"/>
            <a:chOff x="1927080" y="3804120"/>
            <a:chExt cx="897840" cy="1334520"/>
          </a:xfrm>
        </p:grpSpPr>
        <p:sp>
          <p:nvSpPr>
            <p:cNvPr id="2877" name=""/>
            <p:cNvSpPr/>
            <p:nvPr/>
          </p:nvSpPr>
          <p:spPr>
            <a:xfrm>
              <a:off x="1932120" y="4484520"/>
              <a:ext cx="823680" cy="65412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1927080" y="4368600"/>
              <a:ext cx="820800" cy="24156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2293920" y="4700520"/>
              <a:ext cx="100080" cy="30636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 rot="3105600">
              <a:off x="2184840" y="3953520"/>
              <a:ext cx="58572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1" name=""/>
          <p:cNvSpPr/>
          <p:nvPr/>
        </p:nvSpPr>
        <p:spPr>
          <a:xfrm>
            <a:off x="1143000" y="4648320"/>
            <a:ext cx="6094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2" name=""/>
          <p:cNvGraphicFramePr/>
          <p:nvPr/>
        </p:nvGraphicFramePr>
        <p:xfrm>
          <a:off x="1295280" y="4800600"/>
          <a:ext cx="533520" cy="523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8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95280" y="480060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4" name=""/>
          <p:cNvGraphicFramePr/>
          <p:nvPr/>
        </p:nvGraphicFramePr>
        <p:xfrm>
          <a:off x="1447920" y="4952880"/>
          <a:ext cx="533160" cy="524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47920" y="4952880"/>
                    <a:ext cx="5331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6" name=""/>
          <p:cNvSpPr/>
          <p:nvPr/>
        </p:nvSpPr>
        <p:spPr>
          <a:xfrm>
            <a:off x="1846440" y="3705120"/>
            <a:ext cx="1077840" cy="1690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7" name=""/>
          <p:cNvGrpSpPr/>
          <p:nvPr/>
        </p:nvGrpSpPr>
        <p:grpSpPr>
          <a:xfrm>
            <a:off x="1927080" y="3975120"/>
            <a:ext cx="828720" cy="1062000"/>
            <a:chOff x="1927080" y="3975120"/>
            <a:chExt cx="828720" cy="1062000"/>
          </a:xfrm>
        </p:grpSpPr>
        <p:sp>
          <p:nvSpPr>
            <p:cNvPr id="2888" name=""/>
            <p:cNvSpPr/>
            <p:nvPr/>
          </p:nvSpPr>
          <p:spPr>
            <a:xfrm>
              <a:off x="1931760" y="4382280"/>
              <a:ext cx="824040" cy="65484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1927080" y="4267080"/>
              <a:ext cx="821160" cy="24048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2293920" y="4598640"/>
              <a:ext cx="99720" cy="30600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2060280" y="3975120"/>
              <a:ext cx="58536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2" name=""/>
          <p:cNvSpPr/>
          <p:nvPr/>
        </p:nvSpPr>
        <p:spPr>
          <a:xfrm>
            <a:off x="3581280" y="4800600"/>
            <a:ext cx="990720" cy="53352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4330800" y="4800600"/>
            <a:ext cx="16488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 flipH="1">
            <a:off x="4648320" y="335268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2971800" y="4876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2666880" y="39625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2971800" y="4876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2666880" y="39625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3" dur="indefinite" restart="never" nodeType="tmRoot">
          <p:childTnLst>
            <p:seq>
              <p:cTn id="4214" dur="indefinite" nodeType="mainSeq">
                <p:childTnLst>
                  <p:par>
                    <p:cTn id="4215" fill="hold">
                      <p:stCondLst>
                        <p:cond delay="indefinite"/>
                      </p:stCondLst>
                      <p:childTnLst>
                        <p:par>
                          <p:cTn id="4216" fill="hold">
                            <p:stCondLst>
                              <p:cond delay="0"/>
                            </p:stCondLst>
                            <p:childTnLst>
                              <p:par>
                                <p:cTn id="4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9" dur="500"/>
                                        <p:tgtEl>
                                          <p:spTgt spid="2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3" dur="500"/>
                                        <p:tgtEl>
                                          <p:spTgt spid="2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7" dur="500"/>
                                        <p:tgtEl>
                                          <p:spTgt spid="2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1" dur="500"/>
                                        <p:tgtEl>
                                          <p:spTgt spid="2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5" dur="500"/>
                                        <p:tgtEl>
                                          <p:spTgt spid="2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6" fill="hold">
                      <p:stCondLst>
                        <p:cond delay="indefinite"/>
                      </p:stCondLst>
                      <p:childTnLst>
                        <p:par>
                          <p:cTn id="4237" fill="hold">
                            <p:stCondLst>
                              <p:cond delay="0"/>
                            </p:stCondLst>
                            <p:childTnLst>
                              <p:par>
                                <p:cTn id="4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0" dur="1000" fill="hold"/>
                                        <p:tgtEl>
                                          <p:spTgt spid="2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1" dur="1000" fill="hold"/>
                                        <p:tgtEl>
                                          <p:spTgt spid="2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2" dur="1000" fill="hold"/>
                                        <p:tgtEl>
                                          <p:spTgt spid="2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3" dur="1000" fill="hold"/>
                                        <p:tgtEl>
                                          <p:spTgt spid="2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4" fill="hold">
                      <p:stCondLst>
                        <p:cond delay="indefinite"/>
                      </p:stCondLst>
                      <p:childTnLst>
                        <p:par>
                          <p:cTn id="4245" fill="hold">
                            <p:stCondLst>
                              <p:cond delay="0"/>
                            </p:stCondLst>
                            <p:childTnLst>
                              <p:par>
                                <p:cTn id="42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48" dur="500"/>
                                        <p:tgtEl>
                                          <p:spTgt spid="2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9" fill="hold">
                            <p:stCondLst>
                              <p:cond delay="500"/>
                            </p:stCondLst>
                            <p:childTnLst>
                              <p:par>
                                <p:cTn id="4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2" dur="500" fill="hold"/>
                                        <p:tgtEl>
                                          <p:spTgt spid="2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3" dur="500" fill="hold"/>
                                        <p:tgtEl>
                                          <p:spTgt spid="2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7" dur="500" fill="hold"/>
                                        <p:tgtEl>
                                          <p:spTgt spid="2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8" dur="500" fill="hold"/>
                                        <p:tgtEl>
                                          <p:spTgt spid="2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2" dur="500" fill="hold"/>
                                        <p:tgtEl>
                                          <p:spTgt spid="2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3" dur="500" fill="hold"/>
                                        <p:tgtEl>
                                          <p:spTgt spid="2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67" dur="500"/>
                                        <p:tgtEl>
                                          <p:spTgt spid="2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42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71" dur="500"/>
                                        <p:tgtEl>
                                          <p:spTgt spid="2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2" fill="hold">
                      <p:stCondLst>
                        <p:cond delay="indefinite"/>
                      </p:stCondLst>
                      <p:childTnLst>
                        <p:par>
                          <p:cTn id="4273" fill="hold">
                            <p:stCondLst>
                              <p:cond delay="0"/>
                            </p:stCondLst>
                            <p:childTnLst>
                              <p:par>
                                <p:cTn id="4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6" dur="500" fill="hold"/>
                                        <p:tgtEl>
                                          <p:spTgt spid="2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7" dur="500" fill="hold"/>
                                        <p:tgtEl>
                                          <p:spTgt spid="2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8" fill="hold">
                      <p:stCondLst>
                        <p:cond delay="indefinite"/>
                      </p:stCondLst>
                      <p:childTnLst>
                        <p:par>
                          <p:cTn id="4279" fill="hold">
                            <p:stCondLst>
                              <p:cond delay="0"/>
                            </p:stCondLst>
                            <p:childTnLst>
                              <p:par>
                                <p:cTn id="4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83" fill="hold">
                            <p:stCondLst>
                              <p:cond delay="500"/>
                            </p:stCondLst>
                            <p:childTnLst>
                              <p:par>
                                <p:cTn id="4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89" dur="500"/>
                                        <p:tgtEl>
                                          <p:spTgt spid="2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0" fill="hold">
                      <p:stCondLst>
                        <p:cond delay="indefinite"/>
                      </p:stCondLst>
                      <p:childTnLst>
                        <p:par>
                          <p:cTn id="4291" fill="hold">
                            <p:stCondLst>
                              <p:cond delay="0"/>
                            </p:stCondLst>
                            <p:childTnLst>
                              <p:par>
                                <p:cTn id="429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94" dur="500"/>
                                        <p:tgtEl>
                                          <p:spTgt spid="2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95" dur="1" fill="hold">
                                    <p:stCondLst>
                                      <p:cond evt="end">
                                        <p:tn val="4292"/>
                                      </p:cond>
                                    </p:stCondLst>
                                  </p:cTn>
                                  <p:tgtEl>
                                    <p:spTgt spid="28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96" fill="hold">
                            <p:stCondLst>
                              <p:cond delay="500"/>
                            </p:stCondLst>
                            <p:childTnLst>
                              <p:par>
                                <p:cTn id="429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99" dur="500"/>
                                        <p:tgtEl>
                                          <p:spTgt spid="2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0" fill="hold">
                      <p:stCondLst>
                        <p:cond delay="indefinite"/>
                      </p:stCondLst>
                      <p:childTnLst>
                        <p:par>
                          <p:cTn id="4301" fill="hold">
                            <p:stCondLst>
                              <p:cond delay="0"/>
                            </p:stCondLst>
                            <p:childTnLst>
                              <p:par>
                                <p:cTn id="43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04" dur="500"/>
                                        <p:tgtEl>
                                          <p:spTgt spid="2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5" fill="hold">
                      <p:stCondLst>
                        <p:cond delay="indefinite"/>
                      </p:stCondLst>
                      <p:childTnLst>
                        <p:par>
                          <p:cTn id="4306" fill="hold">
                            <p:stCondLst>
                              <p:cond delay="0"/>
                            </p:stCondLst>
                            <p:childTnLst>
                              <p:par>
                                <p:cTn id="4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9" dur="500" fill="hold"/>
                                        <p:tgtEl>
                                          <p:spTgt spid="2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0" dur="500" fill="hold"/>
                                        <p:tgtEl>
                                          <p:spTgt spid="2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12" fill="hold">
                      <p:stCondLst>
                        <p:cond delay="indefinite"/>
                      </p:stCondLst>
                      <p:childTnLst>
                        <p:par>
                          <p:cTn id="4313" fill="hold">
                            <p:stCondLst>
                              <p:cond delay="0"/>
                            </p:stCondLst>
                            <p:childTnLst>
                              <p:par>
                                <p:cTn id="43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16" dur="500"/>
                                        <p:tgtEl>
                                          <p:spTgt spid="2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17" dur="1" fill="hold">
                                    <p:stCondLst>
                                      <p:cond evt="end">
                                        <p:tn val="4314"/>
                                      </p:cond>
                                    </p:stCondLst>
                                  </p:cTn>
                                  <p:tgtEl>
                                    <p:spTgt spid="28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18" fill="hold">
                            <p:stCondLst>
                              <p:cond delay="500"/>
                            </p:stCondLst>
                            <p:childTnLst>
                              <p:par>
                                <p:cTn id="43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1" dur="500" fill="hold"/>
                                        <p:tgtEl>
                                          <p:spTgt spid="2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2" dur="500" fill="hold"/>
                                        <p:tgtEl>
                                          <p:spTgt spid="2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3" fill="hold">
                      <p:stCondLst>
                        <p:cond delay="indefinite"/>
                      </p:stCondLst>
                      <p:childTnLst>
                        <p:par>
                          <p:cTn id="4324" fill="hold">
                            <p:stCondLst>
                              <p:cond delay="0"/>
                            </p:stCondLst>
                            <p:childTnLst>
                              <p:par>
                                <p:cTn id="43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27" dur="500"/>
                                        <p:tgtEl>
                                          <p:spTgt spid="2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28" dur="1" fill="hold">
                                    <p:stCondLst>
                                      <p:cond evt="end">
                                        <p:tn val="4325"/>
                                      </p:cond>
                                    </p:stCondLst>
                                  </p:cTn>
                                  <p:tgtEl>
                                    <p:spTgt spid="28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2" dur="500" fill="hold"/>
                                        <p:tgtEl>
                                          <p:spTgt spid="2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3" dur="500" fill="hold"/>
                                        <p:tgtEl>
                                          <p:spTgt spid="2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4" fill="hold">
                      <p:stCondLst>
                        <p:cond delay="indefinite"/>
                      </p:stCondLst>
                      <p:childTnLst>
                        <p:par>
                          <p:cTn id="4335" fill="hold">
                            <p:stCondLst>
                              <p:cond delay="0"/>
                            </p:stCondLst>
                            <p:childTnLst>
                              <p:par>
                                <p:cTn id="43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38" dur="500"/>
                                        <p:tgtEl>
                                          <p:spTgt spid="2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9" fill="hold">
                      <p:stCondLst>
                        <p:cond delay="indefinite"/>
                      </p:stCondLst>
                      <p:childTnLst>
                        <p:par>
                          <p:cTn id="4340" fill="hold">
                            <p:stCondLst>
                              <p:cond delay="0"/>
                            </p:stCondLst>
                            <p:childTnLst>
                              <p:par>
                                <p:cTn id="4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44" fill="hold">
                            <p:stCondLst>
                              <p:cond delay="500"/>
                            </p:stCondLst>
                            <p:childTnLst>
                              <p:par>
                                <p:cTn id="434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7" dur="500" fill="hold"/>
                                        <p:tgtEl>
                                          <p:spTgt spid="2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8" dur="500" fill="hold"/>
                                        <p:tgtEl>
                                          <p:spTgt spid="2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5" fill="hold">
                      <p:stCondLst>
                        <p:cond delay="indefinite"/>
                      </p:stCondLst>
                      <p:childTnLst>
                        <p:par>
                          <p:cTn id="4356" fill="hold">
                            <p:stCondLst>
                              <p:cond delay="0"/>
                            </p:stCondLst>
                            <p:childTnLst>
                              <p:par>
                                <p:cTn id="4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9" fill="hold">
                            <p:stCondLst>
                              <p:cond delay="500"/>
                            </p:stCondLst>
                            <p:childTnLst>
                              <p:par>
                                <p:cTn id="4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5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68" dur="500"/>
                                        <p:tgtEl>
                                          <p:spTgt spid="2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ation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0" name=""/>
          <p:cNvGraphicFramePr/>
          <p:nvPr/>
        </p:nvGraphicFramePr>
        <p:xfrm>
          <a:off x="6019920" y="4343400"/>
          <a:ext cx="533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4343400"/>
                    <a:ext cx="533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2" name=""/>
          <p:cNvSpPr/>
          <p:nvPr/>
        </p:nvSpPr>
        <p:spPr>
          <a:xfrm>
            <a:off x="2895480" y="1981080"/>
            <a:ext cx="2286000" cy="35816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5943600" y="35812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in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3352680" y="4038480"/>
            <a:ext cx="990720" cy="53352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4038480" y="4191120"/>
            <a:ext cx="228600" cy="38088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3124080" y="2743200"/>
            <a:ext cx="83844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3581280" y="2743200"/>
            <a:ext cx="16524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3809880" y="3352680"/>
            <a:ext cx="83844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4267080" y="3352680"/>
            <a:ext cx="16524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3962520" y="3352680"/>
            <a:ext cx="16488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1" name=""/>
          <p:cNvGraphicFramePr/>
          <p:nvPr/>
        </p:nvGraphicFramePr>
        <p:xfrm>
          <a:off x="1295280" y="4800600"/>
          <a:ext cx="533520" cy="52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80060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3" name=""/>
          <p:cNvSpPr/>
          <p:nvPr/>
        </p:nvSpPr>
        <p:spPr>
          <a:xfrm>
            <a:off x="3581280" y="4800600"/>
            <a:ext cx="990720" cy="53352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4330800" y="4800600"/>
            <a:ext cx="16488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4419720" y="3886200"/>
            <a:ext cx="1371600" cy="533520"/>
          </a:xfrm>
          <a:prstGeom prst="wedgeRoundRectCallout">
            <a:avLst>
              <a:gd name="adj1" fmla="val -48379"/>
              <a:gd name="adj2" fmla="val 187203"/>
              <a:gd name="adj3" fmla="val 16667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tify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5867280" y="4343400"/>
            <a:ext cx="5335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1143000" y="4724280"/>
            <a:ext cx="60948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8" name=""/>
          <p:cNvGraphicFramePr/>
          <p:nvPr/>
        </p:nvGraphicFramePr>
        <p:xfrm>
          <a:off x="1447920" y="4952880"/>
          <a:ext cx="533160" cy="52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4952880"/>
                    <a:ext cx="5331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0" name=""/>
          <p:cNvSpPr/>
          <p:nvPr/>
        </p:nvSpPr>
        <p:spPr>
          <a:xfrm>
            <a:off x="1295280" y="4876920"/>
            <a:ext cx="60984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1" name=""/>
          <p:cNvGraphicFramePr/>
          <p:nvPr/>
        </p:nvGraphicFramePr>
        <p:xfrm>
          <a:off x="1676520" y="5114880"/>
          <a:ext cx="533160" cy="52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5114880"/>
                    <a:ext cx="533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3" name=""/>
          <p:cNvSpPr/>
          <p:nvPr/>
        </p:nvSpPr>
        <p:spPr>
          <a:xfrm>
            <a:off x="3429000" y="4038480"/>
            <a:ext cx="16524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3733920" y="4800600"/>
            <a:ext cx="16488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3429000" y="4038480"/>
            <a:ext cx="16524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f95a7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3733920" y="4800600"/>
            <a:ext cx="16488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f95a7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>
            <a:off x="1600200" y="5105520"/>
            <a:ext cx="6094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4330800" y="4800600"/>
            <a:ext cx="16488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f95a7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9" name=""/>
          <p:cNvGrpSpPr/>
          <p:nvPr/>
        </p:nvGrpSpPr>
        <p:grpSpPr>
          <a:xfrm>
            <a:off x="1928880" y="3973680"/>
            <a:ext cx="828720" cy="1062000"/>
            <a:chOff x="1928880" y="3973680"/>
            <a:chExt cx="828720" cy="1062000"/>
          </a:xfrm>
        </p:grpSpPr>
        <p:sp>
          <p:nvSpPr>
            <p:cNvPr id="2930" name=""/>
            <p:cNvSpPr/>
            <p:nvPr/>
          </p:nvSpPr>
          <p:spPr>
            <a:xfrm>
              <a:off x="1933560" y="4380840"/>
              <a:ext cx="824040" cy="65484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1928880" y="4265640"/>
              <a:ext cx="821160" cy="24048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2295720" y="4597200"/>
              <a:ext cx="99720" cy="30600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2062080" y="3973680"/>
              <a:ext cx="58536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4" name=""/>
          <p:cNvSpPr/>
          <p:nvPr/>
        </p:nvSpPr>
        <p:spPr>
          <a:xfrm>
            <a:off x="1814400" y="3648240"/>
            <a:ext cx="1078200" cy="1690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5" name=""/>
          <p:cNvGrpSpPr/>
          <p:nvPr/>
        </p:nvGrpSpPr>
        <p:grpSpPr>
          <a:xfrm>
            <a:off x="1928880" y="3804120"/>
            <a:ext cx="897840" cy="1334520"/>
            <a:chOff x="1928880" y="3804120"/>
            <a:chExt cx="897840" cy="1334520"/>
          </a:xfrm>
        </p:grpSpPr>
        <p:sp>
          <p:nvSpPr>
            <p:cNvPr id="2936" name=""/>
            <p:cNvSpPr/>
            <p:nvPr/>
          </p:nvSpPr>
          <p:spPr>
            <a:xfrm>
              <a:off x="1933920" y="4484520"/>
              <a:ext cx="823680" cy="65412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1928880" y="4368600"/>
              <a:ext cx="820800" cy="24156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2295720" y="4700520"/>
              <a:ext cx="100080" cy="30636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 rot="3105600">
              <a:off x="2186640" y="3953520"/>
              <a:ext cx="58572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0" name=""/>
          <p:cNvSpPr/>
          <p:nvPr/>
        </p:nvSpPr>
        <p:spPr>
          <a:xfrm>
            <a:off x="1838160" y="3705120"/>
            <a:ext cx="1078200" cy="1690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1" name=""/>
          <p:cNvGrpSpPr/>
          <p:nvPr/>
        </p:nvGrpSpPr>
        <p:grpSpPr>
          <a:xfrm>
            <a:off x="1928880" y="3973680"/>
            <a:ext cx="828720" cy="1062000"/>
            <a:chOff x="1928880" y="3973680"/>
            <a:chExt cx="828720" cy="1062000"/>
          </a:xfrm>
        </p:grpSpPr>
        <p:sp>
          <p:nvSpPr>
            <p:cNvPr id="2942" name=""/>
            <p:cNvSpPr/>
            <p:nvPr/>
          </p:nvSpPr>
          <p:spPr>
            <a:xfrm>
              <a:off x="1933560" y="4380840"/>
              <a:ext cx="824040" cy="65484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1928880" y="4265640"/>
              <a:ext cx="821160" cy="24048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2295720" y="4597200"/>
              <a:ext cx="99720" cy="30600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2062080" y="3973680"/>
              <a:ext cx="58536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6" name=""/>
          <p:cNvSpPr/>
          <p:nvPr/>
        </p:nvSpPr>
        <p:spPr>
          <a:xfrm>
            <a:off x="1814400" y="3705120"/>
            <a:ext cx="1078200" cy="1690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7" name=""/>
          <p:cNvGrpSpPr/>
          <p:nvPr/>
        </p:nvGrpSpPr>
        <p:grpSpPr>
          <a:xfrm>
            <a:off x="1928880" y="3804120"/>
            <a:ext cx="897840" cy="1334520"/>
            <a:chOff x="1928880" y="3804120"/>
            <a:chExt cx="897840" cy="1334520"/>
          </a:xfrm>
        </p:grpSpPr>
        <p:sp>
          <p:nvSpPr>
            <p:cNvPr id="2948" name=""/>
            <p:cNvSpPr/>
            <p:nvPr/>
          </p:nvSpPr>
          <p:spPr>
            <a:xfrm>
              <a:off x="1933920" y="4484520"/>
              <a:ext cx="823680" cy="65412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1928880" y="4368600"/>
              <a:ext cx="820800" cy="24156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2295720" y="4700520"/>
              <a:ext cx="100080" cy="30636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 rot="3105600">
              <a:off x="2186640" y="3953520"/>
              <a:ext cx="58572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2" name=""/>
          <p:cNvSpPr/>
          <p:nvPr/>
        </p:nvSpPr>
        <p:spPr>
          <a:xfrm>
            <a:off x="1847880" y="3705120"/>
            <a:ext cx="1077840" cy="1690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3" name=""/>
          <p:cNvGrpSpPr/>
          <p:nvPr/>
        </p:nvGrpSpPr>
        <p:grpSpPr>
          <a:xfrm>
            <a:off x="1928880" y="3973680"/>
            <a:ext cx="828720" cy="1062000"/>
            <a:chOff x="1928880" y="3973680"/>
            <a:chExt cx="828720" cy="1062000"/>
          </a:xfrm>
        </p:grpSpPr>
        <p:sp>
          <p:nvSpPr>
            <p:cNvPr id="2954" name=""/>
            <p:cNvSpPr/>
            <p:nvPr/>
          </p:nvSpPr>
          <p:spPr>
            <a:xfrm>
              <a:off x="1933560" y="4380840"/>
              <a:ext cx="824040" cy="65484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1928880" y="4265640"/>
              <a:ext cx="821160" cy="24048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2295720" y="4597200"/>
              <a:ext cx="99720" cy="30600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2062080" y="3973680"/>
              <a:ext cx="58536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8" name=""/>
          <p:cNvSpPr/>
          <p:nvPr/>
        </p:nvSpPr>
        <p:spPr>
          <a:xfrm>
            <a:off x="1824120" y="3705120"/>
            <a:ext cx="1077840" cy="1690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9" name=""/>
          <p:cNvGrpSpPr/>
          <p:nvPr/>
        </p:nvGrpSpPr>
        <p:grpSpPr>
          <a:xfrm>
            <a:off x="1928880" y="3804120"/>
            <a:ext cx="897840" cy="1334520"/>
            <a:chOff x="1928880" y="3804120"/>
            <a:chExt cx="897840" cy="1334520"/>
          </a:xfrm>
        </p:grpSpPr>
        <p:sp>
          <p:nvSpPr>
            <p:cNvPr id="2960" name=""/>
            <p:cNvSpPr/>
            <p:nvPr/>
          </p:nvSpPr>
          <p:spPr>
            <a:xfrm>
              <a:off x="1933920" y="4484520"/>
              <a:ext cx="823680" cy="65412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1928880" y="4368600"/>
              <a:ext cx="820800" cy="24156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2295720" y="4700520"/>
              <a:ext cx="100080" cy="30636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 rot="3105600">
              <a:off x="2186640" y="3953520"/>
              <a:ext cx="58572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4" name=""/>
          <p:cNvSpPr/>
          <p:nvPr/>
        </p:nvSpPr>
        <p:spPr>
          <a:xfrm>
            <a:off x="1814400" y="3705120"/>
            <a:ext cx="1078200" cy="1690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5" name=""/>
          <p:cNvGrpSpPr/>
          <p:nvPr/>
        </p:nvGrpSpPr>
        <p:grpSpPr>
          <a:xfrm>
            <a:off x="1928880" y="3975120"/>
            <a:ext cx="828720" cy="1062000"/>
            <a:chOff x="1928880" y="3975120"/>
            <a:chExt cx="828720" cy="1062000"/>
          </a:xfrm>
        </p:grpSpPr>
        <p:sp>
          <p:nvSpPr>
            <p:cNvPr id="2966" name=""/>
            <p:cNvSpPr/>
            <p:nvPr/>
          </p:nvSpPr>
          <p:spPr>
            <a:xfrm>
              <a:off x="1933560" y="4382280"/>
              <a:ext cx="824040" cy="65484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1928880" y="4267080"/>
              <a:ext cx="821160" cy="24048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2295720" y="4598640"/>
              <a:ext cx="99720" cy="30600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2062080" y="3975120"/>
              <a:ext cx="58536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70" name=""/>
          <p:cNvGraphicFramePr/>
          <p:nvPr/>
        </p:nvGraphicFramePr>
        <p:xfrm>
          <a:off x="6172200" y="4495680"/>
          <a:ext cx="533520" cy="52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72200" y="4495680"/>
                    <a:ext cx="53352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2" name=""/>
          <p:cNvGraphicFramePr/>
          <p:nvPr/>
        </p:nvGraphicFramePr>
        <p:xfrm>
          <a:off x="6324480" y="4648320"/>
          <a:ext cx="533520" cy="523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7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24480" y="464832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4" name=""/>
          <p:cNvGraphicFramePr/>
          <p:nvPr/>
        </p:nvGraphicFramePr>
        <p:xfrm>
          <a:off x="6477120" y="4800600"/>
          <a:ext cx="533160" cy="52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7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77120" y="4800600"/>
                    <a:ext cx="533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9" dur="indefinite" restart="never" nodeType="tmRoot">
          <p:childTnLst>
            <p:seq>
              <p:cTn id="4370" dur="indefinite" nodeType="mainSeq">
                <p:childTnLst>
                  <p:par>
                    <p:cTn id="4371" fill="hold">
                      <p:stCondLst>
                        <p:cond delay="indefinite"/>
                      </p:stCondLst>
                      <p:childTnLst>
                        <p:par>
                          <p:cTn id="4372" fill="hold">
                            <p:stCondLst>
                              <p:cond delay="0"/>
                            </p:stCondLst>
                            <p:childTnLst>
                              <p:par>
                                <p:cTn id="43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75" dur="500"/>
                                        <p:tgtEl>
                                          <p:spTgt spid="2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6" fill="hold">
                      <p:stCondLst>
                        <p:cond delay="indefinite"/>
                      </p:stCondLst>
                      <p:childTnLst>
                        <p:par>
                          <p:cTn id="4377" fill="hold">
                            <p:stCondLst>
                              <p:cond delay="0"/>
                            </p:stCondLst>
                            <p:childTnLst>
                              <p:par>
                                <p:cTn id="4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81" fill="hold">
                            <p:stCondLst>
                              <p:cond delay="500"/>
                            </p:stCondLst>
                            <p:childTnLst>
                              <p:par>
                                <p:cTn id="43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4" dur="5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5" dur="5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6" fill="hold">
                      <p:stCondLst>
                        <p:cond delay="indefinite"/>
                      </p:stCondLst>
                      <p:childTnLst>
                        <p:par>
                          <p:cTn id="4387" fill="hold">
                            <p:stCondLst>
                              <p:cond delay="0"/>
                            </p:stCondLst>
                            <p:childTnLst>
                              <p:par>
                                <p:cTn id="4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0" fill="hold">
                            <p:stCondLst>
                              <p:cond delay="500"/>
                            </p:stCondLst>
                            <p:childTnLst>
                              <p:par>
                                <p:cTn id="4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6" fill="hold">
                      <p:stCondLst>
                        <p:cond delay="indefinite"/>
                      </p:stCondLst>
                      <p:childTnLst>
                        <p:par>
                          <p:cTn id="4397" fill="hold">
                            <p:stCondLst>
                              <p:cond delay="0"/>
                            </p:stCondLst>
                            <p:childTnLst>
                              <p:par>
                                <p:cTn id="4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09" dur="500"/>
                                        <p:tgtEl>
                                          <p:spTgt spid="2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0" fill="hold">
                      <p:stCondLst>
                        <p:cond delay="indefinite"/>
                      </p:stCondLst>
                      <p:childTnLst>
                        <p:par>
                          <p:cTn id="4411" fill="hold">
                            <p:stCondLst>
                              <p:cond delay="0"/>
                            </p:stCondLst>
                            <p:childTnLst>
                              <p:par>
                                <p:cTn id="4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0" fill="hold">
                      <p:stCondLst>
                        <p:cond delay="indefinite"/>
                      </p:stCondLst>
                      <p:childTnLst>
                        <p:par>
                          <p:cTn id="4421" fill="hold">
                            <p:stCondLst>
                              <p:cond delay="0"/>
                            </p:stCondLst>
                            <p:childTnLst>
                              <p:par>
                                <p:cTn id="4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0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33" dur="500"/>
                                        <p:tgtEl>
                                          <p:spTgt spid="2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4" fill="hold">
                      <p:stCondLst>
                        <p:cond delay="indefinite"/>
                      </p:stCondLst>
                      <p:childTnLst>
                        <p:par>
                          <p:cTn id="4435" fill="hold">
                            <p:stCondLst>
                              <p:cond delay="0"/>
                            </p:stCondLst>
                            <p:childTnLst>
                              <p:par>
                                <p:cTn id="4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4" fill="hold">
                      <p:stCondLst>
                        <p:cond delay="indefinite"/>
                      </p:stCondLst>
                      <p:childTnLst>
                        <p:par>
                          <p:cTn id="4445" fill="hold">
                            <p:stCondLst>
                              <p:cond delay="0"/>
                            </p:stCondLst>
                            <p:childTnLst>
                              <p:par>
                                <p:cTn id="4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57" dur="500"/>
                                        <p:tgtEl>
                                          <p:spTgt spid="2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ation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undedBuffer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synchroniz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id put (int i) { 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synchroniz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tem get () { 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countBuffer () { … }  // returns # of items in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653400" y="3913200"/>
            <a:ext cx="661356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iz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 lock (mutex) with each instance of that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synchroniz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hod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itical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of method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of method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king/unlocking atom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1905120" y="2209680"/>
            <a:ext cx="1752480" cy="457200"/>
          </a:xfrm>
          <a:prstGeom prst="ellipse">
            <a:avLst/>
          </a:prstGeom>
          <a:noFill/>
          <a:ln cap="rnd" w="3816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8" dur="indefinite" restart="never" nodeType="tmRoot">
          <p:childTnLst>
            <p:seq>
              <p:cTn id="4459" dur="indefinite" nodeType="mainSeq">
                <p:childTnLst>
                  <p:par>
                    <p:cTn id="4460" fill="hold">
                      <p:stCondLst>
                        <p:cond delay="indefinite"/>
                      </p:stCondLst>
                      <p:childTnLst>
                        <p:par>
                          <p:cTn id="4461" fill="hold">
                            <p:stCondLst>
                              <p:cond delay="0"/>
                            </p:stCondLst>
                            <p:childTnLst>
                              <p:par>
                                <p:cTn id="44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4" dur="500"/>
                                        <p:tgtEl>
                                          <p:spTgt spid="2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8" dur="500" fill="hold"/>
                                        <p:tgtEl>
                                          <p:spTgt spid="2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9" dur="500" fill="hold"/>
                                        <p:tgtEl>
                                          <p:spTgt spid="2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0" fill="hold">
                      <p:stCondLst>
                        <p:cond delay="indefinite"/>
                      </p:stCondLst>
                      <p:childTnLst>
                        <p:par>
                          <p:cTn id="4471" fill="hold">
                            <p:stCondLst>
                              <p:cond delay="0"/>
                            </p:stCondLst>
                            <p:childTnLst>
                              <p:par>
                                <p:cTn id="4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4" dur="500"/>
                                        <p:tgtEl>
                                          <p:spTgt spid="2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ation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entrantClass 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synchroniz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oid a () { …; b(); …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synchroniz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oid b () { …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738720" y="4400640"/>
            <a:ext cx="7772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loc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-ent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ad c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qui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lock it already ho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5" dur="indefinite" restart="never" nodeType="tmRoot">
          <p:childTnLst>
            <p:seq>
              <p:cTn id="4476" dur="indefinite" nodeType="mainSeq">
                <p:childTnLst>
                  <p:par>
                    <p:cTn id="4477" fill="hold">
                      <p:stCondLst>
                        <p:cond delay="indefinite"/>
                      </p:stCondLst>
                      <p:childTnLst>
                        <p:par>
                          <p:cTn id="4478" fill="hold">
                            <p:stCondLst>
                              <p:cond delay="0"/>
                            </p:stCondLst>
                            <p:childTnLst>
                              <p:par>
                                <p:cTn id="44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81" dur="500"/>
                                        <p:tgtEl>
                                          <p:spTgt spid="2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2" fill="hold">
                      <p:stCondLst>
                        <p:cond delay="indefinite"/>
                      </p:stCondLst>
                      <p:childTnLst>
                        <p:par>
                          <p:cTn id="4483" fill="hold">
                            <p:stCondLst>
                              <p:cond delay="0"/>
                            </p:stCondLst>
                            <p:childTnLst>
                              <p:par>
                                <p:cTn id="4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6" dur="500"/>
                                        <p:tgtEl>
                                          <p:spTgt spid="2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7" fill="hold">
                      <p:stCondLst>
                        <p:cond delay="indefinite"/>
                      </p:stCondLst>
                      <p:childTnLst>
                        <p:par>
                          <p:cTn id="4488" fill="hold">
                            <p:stCondLst>
                              <p:cond delay="0"/>
                            </p:stCondLst>
                            <p:childTnLst>
                              <p:par>
                                <p:cTn id="4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1" dur="500"/>
                                        <p:tgtEl>
                                          <p:spTgt spid="29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2" fill="hold">
                      <p:stCondLst>
                        <p:cond delay="indefinite"/>
                      </p:stCondLst>
                      <p:childTnLst>
                        <p:par>
                          <p:cTn id="4493" fill="hold">
                            <p:stCondLst>
                              <p:cond delay="0"/>
                            </p:stCondLst>
                            <p:childTnLst>
                              <p:par>
                                <p:cTn id="4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6" dur="500"/>
                                        <p:tgtEl>
                                          <p:spTgt spid="29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3" name=""/>
          <p:cNvSpPr/>
          <p:nvPr/>
        </p:nvSpPr>
        <p:spPr>
          <a:xfrm>
            <a:off x="1066680" y="2438280"/>
            <a:ext cx="3657600" cy="28195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ation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1523880" y="3200400"/>
            <a:ext cx="2949840" cy="121932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tlySynchronizedClass 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oid c 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ynchron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his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S 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4952880" y="3851280"/>
            <a:ext cx="2971800" cy="825480"/>
          </a:xfrm>
          <a:prstGeom prst="borderCallout1">
            <a:avLst>
              <a:gd name="adj1" fmla="val 18750"/>
              <a:gd name="adj2" fmla="val -8333"/>
              <a:gd name="adj3" fmla="val -17259"/>
              <a:gd name="adj4" fmla="val -55060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part of method is synchron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7" dur="indefinite" restart="never" nodeType="tmRoot">
          <p:childTnLst>
            <p:seq>
              <p:cTn id="4498" dur="indefinite" nodeType="mainSeq">
                <p:childTnLst>
                  <p:par>
                    <p:cTn id="4499" fill="hold">
                      <p:stCondLst>
                        <p:cond delay="indefinite"/>
                      </p:stCondLst>
                      <p:childTnLst>
                        <p:par>
                          <p:cTn id="4500" fill="hold">
                            <p:stCondLst>
                              <p:cond delay="0"/>
                            </p:stCondLst>
                            <p:childTnLst>
                              <p:par>
                                <p:cTn id="45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03" dur="500"/>
                                        <p:tgtEl>
                                          <p:spTgt spid="2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4" fill="hold">
                      <p:stCondLst>
                        <p:cond delay="indefinite"/>
                      </p:stCondLst>
                      <p:childTnLst>
                        <p:par>
                          <p:cTn id="4505" fill="hold">
                            <p:stCondLst>
                              <p:cond delay="0"/>
                            </p:stCondLst>
                            <p:childTnLst>
                              <p:par>
                                <p:cTn id="45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8" dur="500" fill="hold"/>
                                        <p:tgtEl>
                                          <p:spTgt spid="2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9" dur="500" fill="hold"/>
                                        <p:tgtEl>
                                          <p:spTgt spid="2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0" fill="hold">
                      <p:stCondLst>
                        <p:cond delay="indefinite"/>
                      </p:stCondLst>
                      <p:childTnLst>
                        <p:par>
                          <p:cTn id="4511" fill="hold">
                            <p:stCondLst>
                              <p:cond delay="0"/>
                            </p:stCondLst>
                            <p:childTnLst>
                              <p:par>
                                <p:cTn id="4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4" dur="500" fill="hold"/>
                                        <p:tgtEl>
                                          <p:spTgt spid="2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5" dur="500" fill="hold"/>
                                        <p:tgtEl>
                                          <p:spTgt spid="2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6" fill="hold">
                      <p:stCondLst>
                        <p:cond delay="indefinite"/>
                      </p:stCondLst>
                      <p:childTnLst>
                        <p:par>
                          <p:cTn id="4517" fill="hold">
                            <p:stCondLst>
                              <p:cond delay="0"/>
                            </p:stCondLst>
                            <p:childTnLst>
                              <p:par>
                                <p:cTn id="45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20" dur="500"/>
                                        <p:tgtEl>
                                          <p:spTgt spid="2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maphore: Proble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dlo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s = 1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r = 1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v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if the queue is not a FIFO que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62120" y="28954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762120" y="2895480"/>
            <a:ext cx="3124080" cy="3124440"/>
            <a:chOff x="762120" y="2895480"/>
            <a:chExt cx="3124080" cy="3124440"/>
          </a:xfrm>
        </p:grpSpPr>
        <p:sp>
          <p:nvSpPr>
            <p:cNvPr id="260" name=""/>
            <p:cNvSpPr/>
            <p:nvPr/>
          </p:nvSpPr>
          <p:spPr>
            <a:xfrm>
              <a:off x="2286000" y="2895480"/>
              <a:ext cx="0" cy="312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2120" y="3352680"/>
              <a:ext cx="312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62" name=""/>
          <p:cNvGraphicFramePr/>
          <p:nvPr/>
        </p:nvGraphicFramePr>
        <p:xfrm>
          <a:off x="2743200" y="5562720"/>
          <a:ext cx="53352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556272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914400" y="5191200"/>
          <a:ext cx="533520" cy="52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519120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838080" y="5286240"/>
            <a:ext cx="28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(&amp;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9040" y="3422520"/>
            <a:ext cx="3178440" cy="18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(&amp;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// s == 0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(&amp;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// r =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(&amp;r);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8" name=""/>
          <p:cNvSpPr/>
          <p:nvPr/>
        </p:nvSpPr>
        <p:spPr>
          <a:xfrm>
            <a:off x="1066680" y="2438280"/>
            <a:ext cx="3581640" cy="28195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ation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"/>
          <p:cNvSpPr/>
          <p:nvPr/>
        </p:nvSpPr>
        <p:spPr>
          <a:xfrm>
            <a:off x="1600200" y="3200400"/>
            <a:ext cx="2819520" cy="121932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tlySynchronizedClass 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oid d 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ynchron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bj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S 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4952880" y="3851280"/>
            <a:ext cx="2590920" cy="825480"/>
          </a:xfrm>
          <a:prstGeom prst="borderCallout1">
            <a:avLst>
              <a:gd name="adj1" fmla="val 18750"/>
              <a:gd name="adj2" fmla="val -8333"/>
              <a:gd name="adj3" fmla="val -6666"/>
              <a:gd name="adj4" fmla="val -32462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ize on an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1" dur="indefinite" restart="never" nodeType="tmRoot">
          <p:childTnLst>
            <p:seq>
              <p:cTn id="4522" dur="indefinite" nodeType="mainSeq">
                <p:childTnLst>
                  <p:par>
                    <p:cTn id="4523" fill="hold">
                      <p:stCondLst>
                        <p:cond delay="indefinite"/>
                      </p:stCondLst>
                      <p:childTnLst>
                        <p:par>
                          <p:cTn id="4524" fill="hold">
                            <p:stCondLst>
                              <p:cond delay="0"/>
                            </p:stCondLst>
                            <p:childTnLst>
                              <p:par>
                                <p:cTn id="45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27" dur="500"/>
                                        <p:tgtEl>
                                          <p:spTgt spid="2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8" fill="hold">
                      <p:stCondLst>
                        <p:cond delay="indefinite"/>
                      </p:stCondLst>
                      <p:childTnLst>
                        <p:par>
                          <p:cTn id="4529" fill="hold">
                            <p:stCondLst>
                              <p:cond delay="0"/>
                            </p:stCondLst>
                            <p:childTnLst>
                              <p:par>
                                <p:cTn id="45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32" dur="500"/>
                                        <p:tgtEl>
                                          <p:spTgt spid="2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3" fill="hold">
                      <p:stCondLst>
                        <p:cond delay="indefinite"/>
                      </p:stCondLst>
                      <p:childTnLst>
                        <p:par>
                          <p:cTn id="4534" fill="hold">
                            <p:stCondLst>
                              <p:cond delay="0"/>
                            </p:stCondLst>
                            <p:childTnLst>
                              <p:par>
                                <p:cTn id="45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7" dur="500" fill="hold"/>
                                        <p:tgtEl>
                                          <p:spTgt spid="2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8" dur="500" fill="hold"/>
                                        <p:tgtEl>
                                          <p:spTgt spid="2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9" fill="hold">
                      <p:stCondLst>
                        <p:cond delay="indefinite"/>
                      </p:stCondLst>
                      <p:childTnLst>
                        <p:par>
                          <p:cTn id="4540" fill="hold">
                            <p:stCondLst>
                              <p:cond delay="0"/>
                            </p:stCondLst>
                            <p:childTnLst>
                              <p:par>
                                <p:cTn id="45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43" dur="500"/>
                                        <p:tgtEl>
                                          <p:spTgt spid="2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ation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Object.wa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nquishes the 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s for a not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mes when a) notified and b) lock is reac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9f"/>
                </a:solidFill>
                <a:latin typeface="Arial"/>
              </a:rPr>
              <a:t>Object.wait (long time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9f"/>
                </a:solidFill>
                <a:latin typeface="Arial"/>
              </a:rPr>
              <a:t>Object.wait (long timeout, int nanoseco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Object.notify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fies one thread waiting on tha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Object.notifyAll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fies all threads waiting on tha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4952880" y="1523880"/>
            <a:ext cx="3733920" cy="8384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10476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if Thre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wns lock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4" dur="indefinite" restart="never" nodeType="tmRoot">
          <p:childTnLst>
            <p:seq>
              <p:cTn id="4545" dur="indefinite" nodeType="mainSeq">
                <p:childTnLst>
                  <p:par>
                    <p:cTn id="4546" fill="hold">
                      <p:stCondLst>
                        <p:cond delay="indefinite"/>
                      </p:stCondLst>
                      <p:childTnLst>
                        <p:par>
                          <p:cTn id="4547" fill="hold">
                            <p:stCondLst>
                              <p:cond delay="0"/>
                            </p:stCondLst>
                            <p:childTnLst>
                              <p:par>
                                <p:cTn id="4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0" dur="500"/>
                                        <p:tgtEl>
                                          <p:spTgt spid="2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3" dur="500"/>
                                        <p:tgtEl>
                                          <p:spTgt spid="2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6" dur="500"/>
                                        <p:tgtEl>
                                          <p:spTgt spid="29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9" dur="500"/>
                                        <p:tgtEl>
                                          <p:spTgt spid="29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0" fill="hold">
                      <p:stCondLst>
                        <p:cond delay="indefinite"/>
                      </p:stCondLst>
                      <p:childTnLst>
                        <p:par>
                          <p:cTn id="4561" fill="hold">
                            <p:stCondLst>
                              <p:cond delay="0"/>
                            </p:stCondLst>
                            <p:childTnLst>
                              <p:par>
                                <p:cTn id="4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4" dur="500"/>
                                        <p:tgtEl>
                                          <p:spTgt spid="29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5" fill="hold">
                      <p:stCondLst>
                        <p:cond delay="indefinite"/>
                      </p:stCondLst>
                      <p:childTnLst>
                        <p:par>
                          <p:cTn id="4566" fill="hold">
                            <p:stCondLst>
                              <p:cond delay="0"/>
                            </p:stCondLst>
                            <p:childTnLst>
                              <p:par>
                                <p:cTn id="45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9" dur="500"/>
                                        <p:tgtEl>
                                          <p:spTgt spid="29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0" fill="hold">
                      <p:stCondLst>
                        <p:cond delay="indefinite"/>
                      </p:stCondLst>
                      <p:childTnLst>
                        <p:par>
                          <p:cTn id="4571" fill="hold">
                            <p:stCondLst>
                              <p:cond delay="0"/>
                            </p:stCondLst>
                            <p:childTnLst>
                              <p:par>
                                <p:cTn id="4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4" dur="500"/>
                                        <p:tgtEl>
                                          <p:spTgt spid="29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7" dur="500"/>
                                        <p:tgtEl>
                                          <p:spTgt spid="29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8" fill="hold">
                      <p:stCondLst>
                        <p:cond delay="indefinite"/>
                      </p:stCondLst>
                      <p:childTnLst>
                        <p:par>
                          <p:cTn id="4579" fill="hold">
                            <p:stCondLst>
                              <p:cond delay="0"/>
                            </p:stCondLst>
                            <p:childTnLst>
                              <p:par>
                                <p:cTn id="4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2" dur="500"/>
                                        <p:tgtEl>
                                          <p:spTgt spid="29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5" dur="500"/>
                                        <p:tgtEl>
                                          <p:spTgt spid="29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6" fill="hold">
                      <p:stCondLst>
                        <p:cond delay="indefinite"/>
                      </p:stCondLst>
                      <p:childTnLst>
                        <p:par>
                          <p:cTn id="4587" fill="hold">
                            <p:stCondLst>
                              <p:cond delay="0"/>
                            </p:stCondLst>
                            <p:childTnLst>
                              <p:par>
                                <p:cTn id="458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0" dur="500" fill="hold"/>
                                        <p:tgtEl>
                                          <p:spTgt spid="2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1" dur="500" fill="hold"/>
                                        <p:tgtEl>
                                          <p:spTgt spid="2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ation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"/>
          <p:cNvSpPr/>
          <p:nvPr/>
        </p:nvSpPr>
        <p:spPr>
          <a:xfrm>
            <a:off x="1219320" y="2133720"/>
            <a:ext cx="3124080" cy="3352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1447920" y="3352680"/>
            <a:ext cx="2590560" cy="121932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hronized a(…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4876920" y="2133720"/>
            <a:ext cx="3124080" cy="3352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5105520" y="3352680"/>
            <a:ext cx="2590560" cy="121932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hronized b(…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2971800" y="3657600"/>
            <a:ext cx="2133720" cy="520560"/>
          </a:xfrm>
          <a:custGeom>
            <a:avLst/>
            <a:gdLst/>
            <a:ahLst/>
            <a:rect l="l" t="t" r="r" b="b"/>
            <a:pathLst>
              <a:path w="1344" h="328">
                <a:moveTo>
                  <a:pt x="0" y="328"/>
                </a:moveTo>
                <a:cubicBezTo>
                  <a:pt x="296" y="204"/>
                  <a:pt x="592" y="80"/>
                  <a:pt x="816" y="40"/>
                </a:cubicBezTo>
                <a:cubicBezTo>
                  <a:pt x="1040" y="0"/>
                  <a:pt x="1192" y="44"/>
                  <a:pt x="1344" y="88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2" name=""/>
          <p:cNvGrpSpPr/>
          <p:nvPr/>
        </p:nvGrpSpPr>
        <p:grpSpPr>
          <a:xfrm>
            <a:off x="990720" y="4191120"/>
            <a:ext cx="828720" cy="1062000"/>
            <a:chOff x="990720" y="4191120"/>
            <a:chExt cx="828720" cy="1062000"/>
          </a:xfrm>
        </p:grpSpPr>
        <p:sp>
          <p:nvSpPr>
            <p:cNvPr id="3003" name=""/>
            <p:cNvSpPr/>
            <p:nvPr/>
          </p:nvSpPr>
          <p:spPr>
            <a:xfrm>
              <a:off x="995400" y="4598280"/>
              <a:ext cx="824040" cy="65484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990720" y="4483080"/>
              <a:ext cx="821160" cy="24048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1357560" y="4814640"/>
              <a:ext cx="99720" cy="30600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1123920" y="4191120"/>
              <a:ext cx="58536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7" name=""/>
          <p:cNvSpPr/>
          <p:nvPr/>
        </p:nvSpPr>
        <p:spPr>
          <a:xfrm>
            <a:off x="2819520" y="3733920"/>
            <a:ext cx="164880" cy="53316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6248520" y="3733920"/>
            <a:ext cx="164880" cy="53316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6019920" y="3767040"/>
            <a:ext cx="91440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wai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0" name=""/>
          <p:cNvGrpSpPr/>
          <p:nvPr/>
        </p:nvGrpSpPr>
        <p:grpSpPr>
          <a:xfrm>
            <a:off x="4809960" y="4576680"/>
            <a:ext cx="828720" cy="1062000"/>
            <a:chOff x="4809960" y="4576680"/>
            <a:chExt cx="828720" cy="1062000"/>
          </a:xfrm>
        </p:grpSpPr>
        <p:sp>
          <p:nvSpPr>
            <p:cNvPr id="3011" name=""/>
            <p:cNvSpPr/>
            <p:nvPr/>
          </p:nvSpPr>
          <p:spPr>
            <a:xfrm>
              <a:off x="4814640" y="4983840"/>
              <a:ext cx="824040" cy="65484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4809960" y="4868640"/>
              <a:ext cx="821160" cy="24048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5176800" y="5200200"/>
              <a:ext cx="99720" cy="30600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943160" y="4576680"/>
              <a:ext cx="58536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5" name=""/>
          <p:cNvGrpSpPr/>
          <p:nvPr/>
        </p:nvGrpSpPr>
        <p:grpSpPr>
          <a:xfrm>
            <a:off x="4419720" y="4504320"/>
            <a:ext cx="1600200" cy="1381320"/>
            <a:chOff x="4419720" y="4504320"/>
            <a:chExt cx="1600200" cy="1381320"/>
          </a:xfrm>
        </p:grpSpPr>
        <p:sp>
          <p:nvSpPr>
            <p:cNvPr id="3016" name=""/>
            <p:cNvSpPr/>
            <p:nvPr/>
          </p:nvSpPr>
          <p:spPr>
            <a:xfrm>
              <a:off x="4419720" y="4572000"/>
              <a:ext cx="1600200" cy="1313640"/>
            </a:xfrm>
            <a:prstGeom prst="borderCallout1">
              <a:avLst>
                <a:gd name="adj1" fmla="val 18750"/>
                <a:gd name="adj2" fmla="val -8333"/>
                <a:gd name="adj3" fmla="val -38273"/>
                <a:gd name="adj4" fmla="val 129439"/>
              </a:avLst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7" name=""/>
            <p:cNvGrpSpPr/>
            <p:nvPr/>
          </p:nvGrpSpPr>
          <p:grpSpPr>
            <a:xfrm>
              <a:off x="4800600" y="4504320"/>
              <a:ext cx="897840" cy="1334520"/>
              <a:chOff x="4800600" y="4504320"/>
              <a:chExt cx="897840" cy="1334520"/>
            </a:xfrm>
          </p:grpSpPr>
          <p:sp>
            <p:nvSpPr>
              <p:cNvPr id="3018" name=""/>
              <p:cNvSpPr/>
              <p:nvPr/>
            </p:nvSpPr>
            <p:spPr>
              <a:xfrm>
                <a:off x="4805640" y="5184720"/>
                <a:ext cx="823680" cy="654120"/>
              </a:xfrm>
              <a:custGeom>
                <a:avLst/>
                <a:gdLst/>
                <a:ahLst/>
                <a:rect l="l" t="t" r="r" b="b"/>
                <a:pathLst>
                  <a:path w="2458" h="1557">
                    <a:moveTo>
                      <a:pt x="0" y="3"/>
                    </a:moveTo>
                    <a:lnTo>
                      <a:pt x="0" y="1283"/>
                    </a:lnTo>
                    <a:lnTo>
                      <a:pt x="26" y="1344"/>
                    </a:lnTo>
                    <a:lnTo>
                      <a:pt x="69" y="1377"/>
                    </a:lnTo>
                    <a:lnTo>
                      <a:pt x="154" y="1414"/>
                    </a:lnTo>
                    <a:lnTo>
                      <a:pt x="265" y="1455"/>
                    </a:lnTo>
                    <a:lnTo>
                      <a:pt x="401" y="1491"/>
                    </a:lnTo>
                    <a:lnTo>
                      <a:pt x="597" y="1521"/>
                    </a:lnTo>
                    <a:lnTo>
                      <a:pt x="763" y="1534"/>
                    </a:lnTo>
                    <a:lnTo>
                      <a:pt x="934" y="1554"/>
                    </a:lnTo>
                    <a:lnTo>
                      <a:pt x="1110" y="1557"/>
                    </a:lnTo>
                    <a:lnTo>
                      <a:pt x="1331" y="1557"/>
                    </a:lnTo>
                    <a:lnTo>
                      <a:pt x="1475" y="1554"/>
                    </a:lnTo>
                    <a:lnTo>
                      <a:pt x="1605" y="1546"/>
                    </a:lnTo>
                    <a:lnTo>
                      <a:pt x="1731" y="1534"/>
                    </a:lnTo>
                    <a:lnTo>
                      <a:pt x="1907" y="1513"/>
                    </a:lnTo>
                    <a:lnTo>
                      <a:pt x="2069" y="1488"/>
                    </a:lnTo>
                    <a:lnTo>
                      <a:pt x="2191" y="1455"/>
                    </a:lnTo>
                    <a:lnTo>
                      <a:pt x="2272" y="1432"/>
                    </a:lnTo>
                    <a:lnTo>
                      <a:pt x="2357" y="1392"/>
                    </a:lnTo>
                    <a:lnTo>
                      <a:pt x="2413" y="1356"/>
                    </a:lnTo>
                    <a:lnTo>
                      <a:pt x="2450" y="1311"/>
                    </a:lnTo>
                    <a:lnTo>
                      <a:pt x="2458" y="1272"/>
                    </a:lnTo>
                    <a:lnTo>
                      <a:pt x="245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4800600" y="5068800"/>
                <a:ext cx="820800" cy="241560"/>
              </a:xfrm>
              <a:prstGeom prst="ellipse">
                <a:avLst/>
              </a:prstGeom>
              <a:solidFill>
                <a:srgbClr val="ffb2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5167440" y="5400720"/>
                <a:ext cx="100080" cy="306360"/>
              </a:xfrm>
              <a:custGeom>
                <a:avLst/>
                <a:gdLst/>
                <a:ahLst/>
                <a:rect l="l" t="t" r="r" b="b"/>
                <a:pathLst>
                  <a:path w="299" h="727">
                    <a:moveTo>
                      <a:pt x="57" y="289"/>
                    </a:moveTo>
                    <a:lnTo>
                      <a:pt x="5" y="253"/>
                    </a:lnTo>
                    <a:lnTo>
                      <a:pt x="0" y="199"/>
                    </a:lnTo>
                    <a:lnTo>
                      <a:pt x="0" y="131"/>
                    </a:lnTo>
                    <a:lnTo>
                      <a:pt x="42" y="42"/>
                    </a:lnTo>
                    <a:lnTo>
                      <a:pt x="103" y="0"/>
                    </a:lnTo>
                    <a:lnTo>
                      <a:pt x="184" y="0"/>
                    </a:lnTo>
                    <a:lnTo>
                      <a:pt x="256" y="42"/>
                    </a:lnTo>
                    <a:lnTo>
                      <a:pt x="284" y="131"/>
                    </a:lnTo>
                    <a:lnTo>
                      <a:pt x="271" y="235"/>
                    </a:lnTo>
                    <a:lnTo>
                      <a:pt x="232" y="289"/>
                    </a:lnTo>
                    <a:lnTo>
                      <a:pt x="171" y="312"/>
                    </a:lnTo>
                    <a:lnTo>
                      <a:pt x="299" y="727"/>
                    </a:lnTo>
                    <a:lnTo>
                      <a:pt x="0" y="727"/>
                    </a:lnTo>
                    <a:lnTo>
                      <a:pt x="99" y="306"/>
                    </a:lnTo>
                    <a:lnTo>
                      <a:pt x="57" y="2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 rot="3105600">
                <a:off x="5058360" y="4653720"/>
                <a:ext cx="585720" cy="422280"/>
              </a:xfrm>
              <a:custGeom>
                <a:avLst/>
                <a:gdLst/>
                <a:ahLst/>
                <a:rect l="l" t="t" r="r" b="b"/>
                <a:pathLst>
                  <a:path w="1744" h="1005">
                    <a:moveTo>
                      <a:pt x="0" y="942"/>
                    </a:moveTo>
                    <a:lnTo>
                      <a:pt x="0" y="799"/>
                    </a:lnTo>
                    <a:lnTo>
                      <a:pt x="22" y="665"/>
                    </a:lnTo>
                    <a:lnTo>
                      <a:pt x="61" y="536"/>
                    </a:lnTo>
                    <a:lnTo>
                      <a:pt x="104" y="434"/>
                    </a:lnTo>
                    <a:lnTo>
                      <a:pt x="175" y="340"/>
                    </a:lnTo>
                    <a:lnTo>
                      <a:pt x="229" y="274"/>
                    </a:lnTo>
                    <a:lnTo>
                      <a:pt x="323" y="193"/>
                    </a:lnTo>
                    <a:lnTo>
                      <a:pt x="389" y="150"/>
                    </a:lnTo>
                    <a:lnTo>
                      <a:pt x="487" y="84"/>
                    </a:lnTo>
                    <a:lnTo>
                      <a:pt x="595" y="41"/>
                    </a:lnTo>
                    <a:lnTo>
                      <a:pt x="737" y="8"/>
                    </a:lnTo>
                    <a:lnTo>
                      <a:pt x="869" y="0"/>
                    </a:lnTo>
                    <a:lnTo>
                      <a:pt x="999" y="11"/>
                    </a:lnTo>
                    <a:lnTo>
                      <a:pt x="1108" y="29"/>
                    </a:lnTo>
                    <a:lnTo>
                      <a:pt x="1243" y="76"/>
                    </a:lnTo>
                    <a:lnTo>
                      <a:pt x="1352" y="142"/>
                    </a:lnTo>
                    <a:lnTo>
                      <a:pt x="1428" y="196"/>
                    </a:lnTo>
                    <a:lnTo>
                      <a:pt x="1504" y="270"/>
                    </a:lnTo>
                    <a:lnTo>
                      <a:pt x="1569" y="340"/>
                    </a:lnTo>
                    <a:lnTo>
                      <a:pt x="1619" y="416"/>
                    </a:lnTo>
                    <a:lnTo>
                      <a:pt x="1657" y="490"/>
                    </a:lnTo>
                    <a:lnTo>
                      <a:pt x="1696" y="581"/>
                    </a:lnTo>
                    <a:lnTo>
                      <a:pt x="1711" y="665"/>
                    </a:lnTo>
                    <a:lnTo>
                      <a:pt x="1729" y="734"/>
                    </a:lnTo>
                    <a:lnTo>
                      <a:pt x="1741" y="799"/>
                    </a:lnTo>
                    <a:lnTo>
                      <a:pt x="1744" y="927"/>
                    </a:lnTo>
                    <a:lnTo>
                      <a:pt x="1708" y="960"/>
                    </a:lnTo>
                    <a:lnTo>
                      <a:pt x="1631" y="982"/>
                    </a:lnTo>
                    <a:lnTo>
                      <a:pt x="1543" y="997"/>
                    </a:lnTo>
                    <a:lnTo>
                      <a:pt x="1449" y="982"/>
                    </a:lnTo>
                    <a:lnTo>
                      <a:pt x="1380" y="954"/>
                    </a:lnTo>
                    <a:lnTo>
                      <a:pt x="1362" y="921"/>
                    </a:lnTo>
                    <a:lnTo>
                      <a:pt x="1362" y="764"/>
                    </a:lnTo>
                    <a:lnTo>
                      <a:pt x="1352" y="698"/>
                    </a:lnTo>
                    <a:lnTo>
                      <a:pt x="1326" y="621"/>
                    </a:lnTo>
                    <a:lnTo>
                      <a:pt x="1275" y="536"/>
                    </a:lnTo>
                    <a:lnTo>
                      <a:pt x="1228" y="493"/>
                    </a:lnTo>
                    <a:lnTo>
                      <a:pt x="1177" y="439"/>
                    </a:lnTo>
                    <a:lnTo>
                      <a:pt x="1090" y="394"/>
                    </a:lnTo>
                    <a:lnTo>
                      <a:pt x="1024" y="373"/>
                    </a:lnTo>
                    <a:lnTo>
                      <a:pt x="970" y="350"/>
                    </a:lnTo>
                    <a:lnTo>
                      <a:pt x="912" y="350"/>
                    </a:lnTo>
                    <a:lnTo>
                      <a:pt x="792" y="350"/>
                    </a:lnTo>
                    <a:lnTo>
                      <a:pt x="727" y="361"/>
                    </a:lnTo>
                    <a:lnTo>
                      <a:pt x="643" y="394"/>
                    </a:lnTo>
                    <a:lnTo>
                      <a:pt x="577" y="434"/>
                    </a:lnTo>
                    <a:lnTo>
                      <a:pt x="519" y="478"/>
                    </a:lnTo>
                    <a:lnTo>
                      <a:pt x="468" y="526"/>
                    </a:lnTo>
                    <a:lnTo>
                      <a:pt x="425" y="599"/>
                    </a:lnTo>
                    <a:lnTo>
                      <a:pt x="399" y="657"/>
                    </a:lnTo>
                    <a:lnTo>
                      <a:pt x="381" y="719"/>
                    </a:lnTo>
                    <a:lnTo>
                      <a:pt x="378" y="752"/>
                    </a:lnTo>
                    <a:lnTo>
                      <a:pt x="378" y="931"/>
                    </a:lnTo>
                    <a:lnTo>
                      <a:pt x="348" y="975"/>
                    </a:lnTo>
                    <a:lnTo>
                      <a:pt x="272" y="1005"/>
                    </a:lnTo>
                    <a:lnTo>
                      <a:pt x="193" y="997"/>
                    </a:lnTo>
                    <a:lnTo>
                      <a:pt x="66" y="982"/>
                    </a:lnTo>
                    <a:lnTo>
                      <a:pt x="0" y="942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22" name=""/>
          <p:cNvSpPr/>
          <p:nvPr/>
        </p:nvSpPr>
        <p:spPr>
          <a:xfrm>
            <a:off x="2209680" y="3809880"/>
            <a:ext cx="121932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obj2.b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2" dur="indefinite" restart="never" nodeType="tmRoot">
          <p:childTnLst>
            <p:seq>
              <p:cTn id="4593" dur="indefinite" nodeType="mainSeq">
                <p:childTnLst>
                  <p:par>
                    <p:cTn id="4594" fill="hold">
                      <p:stCondLst>
                        <p:cond delay="indefinite"/>
                      </p:stCondLst>
                      <p:childTnLst>
                        <p:par>
                          <p:cTn id="4595" fill="hold">
                            <p:stCondLst>
                              <p:cond delay="0"/>
                            </p:stCondLst>
                            <p:childTnLst>
                              <p:par>
                                <p:cTn id="45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8" dur="500"/>
                                        <p:tgtEl>
                                          <p:spTgt spid="2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2" dur="500"/>
                                        <p:tgtEl>
                                          <p:spTgt spid="2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3" fill="hold">
                      <p:stCondLst>
                        <p:cond delay="indefinite"/>
                      </p:stCondLst>
                      <p:childTnLst>
                        <p:par>
                          <p:cTn id="4604" fill="hold">
                            <p:stCondLst>
                              <p:cond delay="0"/>
                            </p:stCondLst>
                            <p:childTnLst>
                              <p:par>
                                <p:cTn id="4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7" dur="500"/>
                                        <p:tgtEl>
                                          <p:spTgt spid="2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8" fill="hold">
                            <p:stCondLst>
                              <p:cond delay="500"/>
                            </p:stCondLst>
                            <p:childTnLst>
                              <p:par>
                                <p:cTn id="46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1" dur="500"/>
                                        <p:tgtEl>
                                          <p:spTgt spid="3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2" fill="hold">
                      <p:stCondLst>
                        <p:cond delay="indefinite"/>
                      </p:stCondLst>
                      <p:childTnLst>
                        <p:par>
                          <p:cTn id="4613" fill="hold">
                            <p:stCondLst>
                              <p:cond delay="0"/>
                            </p:stCondLst>
                            <p:childTnLst>
                              <p:par>
                                <p:cTn id="4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6" fill="hold">
                            <p:stCondLst>
                              <p:cond delay="500"/>
                            </p:stCondLst>
                            <p:childTnLst>
                              <p:par>
                                <p:cTn id="46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19" dur="500"/>
                                        <p:tgtEl>
                                          <p:spTgt spid="3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0" fill="hold">
                      <p:stCondLst>
                        <p:cond delay="indefinite"/>
                      </p:stCondLst>
                      <p:childTnLst>
                        <p:par>
                          <p:cTn id="4621" fill="hold">
                            <p:stCondLst>
                              <p:cond delay="0"/>
                            </p:stCondLst>
                            <p:childTnLst>
                              <p:par>
                                <p:cTn id="462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4" dur="500" fill="hold"/>
                                        <p:tgtEl>
                                          <p:spTgt spid="3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5" dur="500" fill="hold"/>
                                        <p:tgtEl>
                                          <p:spTgt spid="3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6" fill="hold">
                      <p:stCondLst>
                        <p:cond delay="indefinite"/>
                      </p:stCondLst>
                      <p:childTnLst>
                        <p:par>
                          <p:cTn id="4627" fill="hold">
                            <p:stCondLst>
                              <p:cond delay="0"/>
                            </p:stCondLst>
                            <p:childTnLst>
                              <p:par>
                                <p:cTn id="4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0" dur="500"/>
                                        <p:tgtEl>
                                          <p:spTgt spid="3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1" fill="hold">
                            <p:stCondLst>
                              <p:cond delay="500"/>
                            </p:stCondLst>
                            <p:childTnLst>
                              <p:par>
                                <p:cTn id="46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37" dur="500"/>
                                        <p:tgtEl>
                                          <p:spTgt spid="3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8" fill="hold">
                      <p:stCondLst>
                        <p:cond delay="indefinite"/>
                      </p:stCondLst>
                      <p:childTnLst>
                        <p:par>
                          <p:cTn id="4639" fill="hold">
                            <p:stCondLst>
                              <p:cond delay="0"/>
                            </p:stCondLst>
                            <p:childTnLst>
                              <p:par>
                                <p:cTn id="46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2" dur="500" fill="hold"/>
                                        <p:tgtEl>
                                          <p:spTgt spid="3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3" dur="500" fill="hold"/>
                                        <p:tgtEl>
                                          <p:spTgt spid="3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4" fill="hold">
                            <p:stCondLst>
                              <p:cond delay="500"/>
                            </p:stCondLst>
                            <p:childTnLst>
                              <p:par>
                                <p:cTn id="46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7" dur="500"/>
                                        <p:tgtEl>
                                          <p:spTgt spid="3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unded Buffer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8380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undedBuffer 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 in = 0, out = 0, count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 [ ] p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undedBuffer (int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l = new Object[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4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ynchron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oid put (Object obj) { …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ynchron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 get () { …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8" dur="indefinite" restart="never" nodeType="tmRoot">
          <p:childTnLst>
            <p:seq>
              <p:cTn id="4649" dur="indefinite" nodeType="mainSeq">
                <p:childTnLst>
                  <p:par>
                    <p:cTn id="4650" fill="hold">
                      <p:stCondLst>
                        <p:cond delay="indefinite"/>
                      </p:stCondLst>
                      <p:childTnLst>
                        <p:par>
                          <p:cTn id="4651" fill="hold">
                            <p:stCondLst>
                              <p:cond delay="0"/>
                            </p:stCondLst>
                            <p:childTnLst>
                              <p:par>
                                <p:cTn id="46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54" dur="500"/>
                                        <p:tgtEl>
                                          <p:spTgt spid="3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unded Buffer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>
            <a:off x="8380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ynchron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oid put (Object obj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l[in] = obj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= (in + 1) % pool.lengt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++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1684440" y="2057400"/>
            <a:ext cx="5859360" cy="17424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unt == pool.length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)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1676160" y="5257800"/>
            <a:ext cx="130068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o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1600200" y="2035080"/>
            <a:ext cx="601164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               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terruptedException e) { …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5" dur="indefinite" restart="never" nodeType="tmRoot">
          <p:childTnLst>
            <p:seq>
              <p:cTn id="4656" dur="indefinite" nodeType="mainSeq">
                <p:childTnLst>
                  <p:par>
                    <p:cTn id="4657" fill="hold">
                      <p:stCondLst>
                        <p:cond delay="indefinite"/>
                      </p:stCondLst>
                      <p:childTnLst>
                        <p:par>
                          <p:cTn id="4658" fill="hold">
                            <p:stCondLst>
                              <p:cond delay="0"/>
                            </p:stCondLst>
                            <p:childTnLst>
                              <p:par>
                                <p:cTn id="46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61" dur="500"/>
                                        <p:tgtEl>
                                          <p:spTgt spid="3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2" fill="hold">
                      <p:stCondLst>
                        <p:cond delay="indefinite"/>
                      </p:stCondLst>
                      <p:childTnLst>
                        <p:par>
                          <p:cTn id="4663" fill="hold">
                            <p:stCondLst>
                              <p:cond delay="0"/>
                            </p:stCondLst>
                            <p:childTnLst>
                              <p:par>
                                <p:cTn id="4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6" dur="500"/>
                                        <p:tgtEl>
                                          <p:spTgt spid="3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7" fill="hold">
                      <p:stCondLst>
                        <p:cond delay="indefinite"/>
                      </p:stCondLst>
                      <p:childTnLst>
                        <p:par>
                          <p:cTn id="4668" fill="hold">
                            <p:stCondLst>
                              <p:cond delay="0"/>
                            </p:stCondLst>
                            <p:childTnLst>
                              <p:par>
                                <p:cTn id="4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1" dur="500"/>
                                        <p:tgtEl>
                                          <p:spTgt spid="3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2" fill="hold">
                      <p:stCondLst>
                        <p:cond delay="indefinite"/>
                      </p:stCondLst>
                      <p:childTnLst>
                        <p:par>
                          <p:cTn id="4673" fill="hold">
                            <p:stCondLst>
                              <p:cond delay="0"/>
                            </p:stCondLst>
                            <p:childTnLst>
                              <p:par>
                                <p:cTn id="4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6" dur="500"/>
                                        <p:tgtEl>
                                          <p:spTgt spid="3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unded Buffer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>
            <a:off x="8380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ynchron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 get 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obj = pool[out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 = (out + 1) % pool.lengt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--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b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1684440" y="2057400"/>
            <a:ext cx="6087960" cy="17787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unt == 0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{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);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(InterruptedException e) { …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3151080" y="4800600"/>
            <a:ext cx="130068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o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4" name="" descr=""/>
          <p:cNvPicPr/>
          <p:nvPr/>
        </p:nvPicPr>
        <p:blipFill>
          <a:blip r:embed="rId1"/>
          <a:stretch/>
        </p:blipFill>
        <p:spPr>
          <a:xfrm>
            <a:off x="5791320" y="4267080"/>
            <a:ext cx="865080" cy="1862280"/>
          </a:xfrm>
          <a:prstGeom prst="rect">
            <a:avLst/>
          </a:prstGeom>
          <a:ln w="0">
            <a:noFill/>
          </a:ln>
        </p:spPr>
      </p:pic>
      <p:sp>
        <p:nvSpPr>
          <p:cNvPr id="3035" name=""/>
          <p:cNvSpPr/>
          <p:nvPr/>
        </p:nvSpPr>
        <p:spPr>
          <a:xfrm>
            <a:off x="6477120" y="3886200"/>
            <a:ext cx="2133360" cy="685800"/>
          </a:xfrm>
          <a:prstGeom prst="cloudCallout">
            <a:avLst>
              <a:gd name="adj1" fmla="val -54837"/>
              <a:gd name="adj2" fmla="val 57407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otifyAll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7" dur="indefinite" restart="never" nodeType="tmRoot">
          <p:childTnLst>
            <p:seq>
              <p:cTn id="4678" dur="indefinite" nodeType="mainSeq">
                <p:childTnLst>
                  <p:par>
                    <p:cTn id="4679" fill="hold">
                      <p:stCondLst>
                        <p:cond delay="indefinite"/>
                      </p:stCondLst>
                      <p:childTnLst>
                        <p:par>
                          <p:cTn id="4680" fill="hold">
                            <p:stCondLst>
                              <p:cond delay="0"/>
                            </p:stCondLst>
                            <p:childTnLst>
                              <p:par>
                                <p:cTn id="46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83" dur="500"/>
                                        <p:tgtEl>
                                          <p:spTgt spid="3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4" fill="hold">
                      <p:stCondLst>
                        <p:cond delay="indefinite"/>
                      </p:stCondLst>
                      <p:childTnLst>
                        <p:par>
                          <p:cTn id="4685" fill="hold">
                            <p:stCondLst>
                              <p:cond delay="0"/>
                            </p:stCondLst>
                            <p:childTnLst>
                              <p:par>
                                <p:cTn id="4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8" dur="500"/>
                                        <p:tgtEl>
                                          <p:spTgt spid="3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9" fill="hold">
                      <p:stCondLst>
                        <p:cond delay="indefinite"/>
                      </p:stCondLst>
                      <p:childTnLst>
                        <p:par>
                          <p:cTn id="4690" fill="hold">
                            <p:stCondLst>
                              <p:cond delay="0"/>
                            </p:stCondLst>
                            <p:childTnLst>
                              <p:par>
                                <p:cTn id="4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3" dur="500"/>
                                        <p:tgtEl>
                                          <p:spTgt spid="3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4" fill="hold">
                      <p:stCondLst>
                        <p:cond delay="indefinite"/>
                      </p:stCondLst>
                      <p:childTnLst>
                        <p:par>
                          <p:cTn id="4695" fill="hold">
                            <p:stCondLst>
                              <p:cond delay="0"/>
                            </p:stCondLst>
                            <p:childTnLst>
                              <p:par>
                                <p:cTn id="46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8" dur="500" fill="hold"/>
                                        <p:tgtEl>
                                          <p:spTgt spid="3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9" dur="500" fill="hold"/>
                                        <p:tgtEl>
                                          <p:spTgt spid="3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0" fill="hold">
                            <p:stCondLst>
                              <p:cond delay="500"/>
                            </p:stCondLst>
                            <p:childTnLst>
                              <p:par>
                                <p:cTn id="47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3" dur="500" fill="hold"/>
                                        <p:tgtEl>
                                          <p:spTgt spid="3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4" dur="500" fill="hold"/>
                                        <p:tgtEl>
                                          <p:spTgt spid="3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ation in a real 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y traditional O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S by disabling/enabling interrup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>
            <a:off x="1143000" y="3429000"/>
            <a:ext cx="5791320" cy="1828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int prevLevel =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setPriorityLevel (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i="1" lang="en-US" sz="2400" spc="-1" strike="noStrike">
                <a:solidFill>
                  <a:srgbClr val="00279f"/>
                </a:solidFill>
                <a:latin typeface="Arial"/>
              </a:rPr>
              <a:t>… </a:t>
            </a:r>
            <a:r>
              <a:rPr b="0" i="1" lang="en-US" sz="2400" spc="-1" strike="noStrike">
                <a:solidFill>
                  <a:srgbClr val="00279f"/>
                </a:solidFill>
                <a:latin typeface="Arial"/>
              </a:rPr>
              <a:t>Modify Shared Data Structure D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etPriorityLevel (prevLeve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7010280" y="3657600"/>
            <a:ext cx="1905120" cy="1008720"/>
          </a:xfrm>
          <a:prstGeom prst="borderCallout1">
            <a:avLst>
              <a:gd name="adj1" fmla="val 18750"/>
              <a:gd name="adj2" fmla="val -8333"/>
              <a:gd name="adj3" fmla="val 21333"/>
              <a:gd name="adj4" fmla="val -49231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interrupts of level &gt; k are allow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6019920" y="2638440"/>
            <a:ext cx="2438280" cy="703800"/>
          </a:xfrm>
          <a:prstGeom prst="borderCallout1">
            <a:avLst>
              <a:gd name="adj1" fmla="val 18750"/>
              <a:gd name="adj2" fmla="val -8333"/>
              <a:gd name="adj3" fmla="val 141870"/>
              <a:gd name="adj4" fmla="val -13462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= highest priority level that needs 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5" dur="indefinite" restart="never" nodeType="tmRoot">
          <p:childTnLst>
            <p:seq>
              <p:cTn id="4706" dur="indefinite" nodeType="mainSeq">
                <p:childTnLst>
                  <p:par>
                    <p:cTn id="4707" fill="hold">
                      <p:stCondLst>
                        <p:cond delay="indefinite"/>
                      </p:stCondLst>
                      <p:childTnLst>
                        <p:par>
                          <p:cTn id="4708" fill="hold">
                            <p:stCondLst>
                              <p:cond delay="0"/>
                            </p:stCondLst>
                            <p:childTnLst>
                              <p:par>
                                <p:cTn id="47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1" dur="500"/>
                                        <p:tgtEl>
                                          <p:spTgt spid="3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2" fill="hold">
                      <p:stCondLst>
                        <p:cond delay="indefinite"/>
                      </p:stCondLst>
                      <p:childTnLst>
                        <p:par>
                          <p:cTn id="4713" fill="hold">
                            <p:stCondLst>
                              <p:cond delay="0"/>
                            </p:stCondLst>
                            <p:childTnLst>
                              <p:par>
                                <p:cTn id="47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16" dur="500"/>
                                        <p:tgtEl>
                                          <p:spTgt spid="3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7" fill="hold">
                      <p:stCondLst>
                        <p:cond delay="indefinite"/>
                      </p:stCondLst>
                      <p:childTnLst>
                        <p:par>
                          <p:cTn id="4718" fill="hold">
                            <p:stCondLst>
                              <p:cond delay="0"/>
                            </p:stCondLst>
                            <p:childTnLst>
                              <p:par>
                                <p:cTn id="47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21" dur="500"/>
                                        <p:tgtEl>
                                          <p:spTgt spid="3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ation in Solaris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upport for Soft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RT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Multithrea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upport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Multiprocess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nchronization Mechanis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daptive Mutex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ondition Vari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Readers/Writers Lo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79f"/>
                </a:solidFill>
                <a:latin typeface="Arial"/>
              </a:rPr>
              <a:t>Semapho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2" dur="indefinite" restart="never" nodeType="tmRoot">
          <p:childTnLst>
            <p:seq>
              <p:cTn id="4723" dur="indefinite" nodeType="mainSeq">
                <p:childTnLst>
                  <p:par>
                    <p:cTn id="4724" fill="hold">
                      <p:stCondLst>
                        <p:cond delay="indefinite"/>
                      </p:stCondLst>
                      <p:childTnLst>
                        <p:par>
                          <p:cTn id="4725" fill="hold">
                            <p:stCondLst>
                              <p:cond delay="0"/>
                            </p:stCondLst>
                            <p:childTnLst>
                              <p:par>
                                <p:cTn id="4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8" dur="500"/>
                                        <p:tgtEl>
                                          <p:spTgt spid="3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1" dur="500"/>
                                        <p:tgtEl>
                                          <p:spTgt spid="3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4" dur="500"/>
                                        <p:tgtEl>
                                          <p:spTgt spid="3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7" dur="500"/>
                                        <p:tgtEl>
                                          <p:spTgt spid="30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8" fill="hold">
                      <p:stCondLst>
                        <p:cond delay="indefinite"/>
                      </p:stCondLst>
                      <p:childTnLst>
                        <p:par>
                          <p:cTn id="4739" fill="hold">
                            <p:stCondLst>
                              <p:cond delay="0"/>
                            </p:stCondLst>
                            <p:childTnLst>
                              <p:par>
                                <p:cTn id="47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2" dur="500"/>
                                        <p:tgtEl>
                                          <p:spTgt spid="30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5" dur="500"/>
                                        <p:tgtEl>
                                          <p:spTgt spid="30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8" dur="500"/>
                                        <p:tgtEl>
                                          <p:spTgt spid="30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1" dur="500"/>
                                        <p:tgtEl>
                                          <p:spTgt spid="30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4" dur="500"/>
                                        <p:tgtEl>
                                          <p:spTgt spid="30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ation in Solaris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>
            <a:off x="2941560" y="251460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Short 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2941560" y="39466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Longer CS</a:t>
            </a:r>
            <a:br>
              <a:rPr sz="2000"/>
            </a:b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| CS | &gt;&gt; | switch 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2941560" y="5165640"/>
            <a:ext cx="221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Data structures</a:t>
            </a:r>
            <a:br>
              <a:rPr sz="2000"/>
            </a:b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mostly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5257800" y="251460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If Holding thread = RUNNING</a:t>
            </a:r>
            <a:br>
              <a:rPr sz="2000"/>
            </a:b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then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busy waiting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279f"/>
                </a:solidFill>
                <a:latin typeface="Arial"/>
              </a:rPr>
              <a:t>(multiProc.)</a:t>
            </a:r>
            <a:br>
              <a:rPr sz="2000"/>
            </a:b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else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L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8" name=""/>
          <p:cNvGrpSpPr/>
          <p:nvPr/>
        </p:nvGrpSpPr>
        <p:grpSpPr>
          <a:xfrm>
            <a:off x="762120" y="1752480"/>
            <a:ext cx="7848360" cy="4343400"/>
            <a:chOff x="762120" y="1752480"/>
            <a:chExt cx="7848360" cy="4343400"/>
          </a:xfrm>
        </p:grpSpPr>
        <p:sp>
          <p:nvSpPr>
            <p:cNvPr id="3049" name=""/>
            <p:cNvSpPr/>
            <p:nvPr/>
          </p:nvSpPr>
          <p:spPr>
            <a:xfrm>
              <a:off x="762120" y="1752480"/>
              <a:ext cx="7467480" cy="422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141560"/>
                  <a:tab algn="l" pos="2282760"/>
                  <a:tab algn="l" pos="3424320"/>
                  <a:tab algn="l" pos="4565520"/>
                  <a:tab algn="l" pos="5707080"/>
                  <a:tab algn="l" pos="6848640"/>
                  <a:tab algn="l" pos="7989840"/>
                  <a:tab algn="l" pos="9131400"/>
                  <a:tab algn="l" pos="10272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sed for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f 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141560"/>
                  <a:tab algn="l" pos="2282760"/>
                  <a:tab algn="l" pos="3424320"/>
                  <a:tab algn="l" pos="4565520"/>
                  <a:tab algn="l" pos="5707080"/>
                  <a:tab algn="l" pos="6848640"/>
                  <a:tab algn="l" pos="7989840"/>
                  <a:tab algn="l" pos="9131400"/>
                  <a:tab algn="l" pos="10272600"/>
                </a:tabLst>
              </a:pP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texes</a:t>
              </a:r>
              <a:br>
                <a:rPr sz="2000"/>
              </a:b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141560"/>
                  <a:tab algn="l" pos="2282760"/>
                  <a:tab algn="l" pos="3424320"/>
                  <a:tab algn="l" pos="4565520"/>
                  <a:tab algn="l" pos="5707080"/>
                  <a:tab algn="l" pos="6848640"/>
                  <a:tab algn="l" pos="7989840"/>
                  <a:tab algn="l" pos="9131400"/>
                  <a:tab algn="l" pos="10272600"/>
                </a:tabLst>
              </a:pP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ariables</a:t>
              </a:r>
              <a:br>
                <a:rPr sz="2000"/>
              </a:b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141560"/>
                  <a:tab algn="l" pos="2282760"/>
                  <a:tab algn="l" pos="3424320"/>
                  <a:tab algn="l" pos="4565520"/>
                  <a:tab algn="l" pos="5707080"/>
                  <a:tab algn="l" pos="6848640"/>
                  <a:tab algn="l" pos="7989840"/>
                  <a:tab algn="l" pos="9131400"/>
                  <a:tab algn="l" pos="10272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aders/Writer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838080" y="228600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838080" y="388620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838080" y="5105520"/>
              <a:ext cx="769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2895480" y="1752480"/>
              <a:ext cx="0" cy="434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5257800" y="1752480"/>
              <a:ext cx="0" cy="434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5" name=""/>
          <p:cNvSpPr/>
          <p:nvPr/>
        </p:nvSpPr>
        <p:spPr>
          <a:xfrm>
            <a:off x="5257800" y="39466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L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5257800" y="516564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L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5" dur="indefinite" restart="never" nodeType="tmRoot">
          <p:childTnLst>
            <p:seq>
              <p:cTn id="4756" dur="indefinite" nodeType="mainSeq">
                <p:childTnLst>
                  <p:par>
                    <p:cTn id="4757" fill="hold">
                      <p:stCondLst>
                        <p:cond delay="indefinite"/>
                      </p:stCondLst>
                      <p:childTnLst>
                        <p:par>
                          <p:cTn id="4758" fill="hold">
                            <p:stCondLst>
                              <p:cond delay="0"/>
                            </p:stCondLst>
                            <p:childTnLst>
                              <p:par>
                                <p:cTn id="47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1" dur="500"/>
                                        <p:tgtEl>
                                          <p:spTgt spid="3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2" fill="hold">
                      <p:stCondLst>
                        <p:cond delay="indefinite"/>
                      </p:stCondLst>
                      <p:childTnLst>
                        <p:par>
                          <p:cTn id="4763" fill="hold">
                            <p:stCondLst>
                              <p:cond delay="0"/>
                            </p:stCondLst>
                            <p:childTnLst>
                              <p:par>
                                <p:cTn id="47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6" dur="500"/>
                                        <p:tgtEl>
                                          <p:spTgt spid="3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7" fill="hold">
                      <p:stCondLst>
                        <p:cond delay="indefinite"/>
                      </p:stCondLst>
                      <p:childTnLst>
                        <p:par>
                          <p:cTn id="4768" fill="hold">
                            <p:stCondLst>
                              <p:cond delay="0"/>
                            </p:stCondLst>
                            <p:childTnLst>
                              <p:par>
                                <p:cTn id="47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1" dur="500"/>
                                        <p:tgtEl>
                                          <p:spTgt spid="3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2" fill="hold">
                      <p:stCondLst>
                        <p:cond delay="indefinite"/>
                      </p:stCondLst>
                      <p:childTnLst>
                        <p:par>
                          <p:cTn id="4773" fill="hold">
                            <p:stCondLst>
                              <p:cond delay="0"/>
                            </p:stCondLst>
                            <p:childTnLst>
                              <p:par>
                                <p:cTn id="47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6" dur="500"/>
                                        <p:tgtEl>
                                          <p:spTgt spid="3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7" fill="hold">
                      <p:stCondLst>
                        <p:cond delay="indefinite"/>
                      </p:stCondLst>
                      <p:childTnLst>
                        <p:par>
                          <p:cTn id="4778" fill="hold">
                            <p:stCondLst>
                              <p:cond delay="0"/>
                            </p:stCondLst>
                            <p:childTnLst>
                              <p:par>
                                <p:cTn id="47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1" dur="500"/>
                                        <p:tgtEl>
                                          <p:spTgt spid="3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2" fill="hold">
                      <p:stCondLst>
                        <p:cond delay="indefinite"/>
                      </p:stCondLst>
                      <p:childTnLst>
                        <p:par>
                          <p:cTn id="4783" fill="hold">
                            <p:stCondLst>
                              <p:cond delay="0"/>
                            </p:stCondLst>
                            <p:childTnLst>
                              <p:par>
                                <p:cTn id="47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6" dur="500"/>
                                        <p:tgtEl>
                                          <p:spTgt spid="3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7" fill="hold">
                      <p:stCondLst>
                        <p:cond delay="indefinite"/>
                      </p:stCondLst>
                      <p:childTnLst>
                        <p:par>
                          <p:cTn id="4788" fill="hold">
                            <p:stCondLst>
                              <p:cond delay="0"/>
                            </p:stCondLst>
                            <p:childTnLst>
                              <p:par>
                                <p:cTn id="47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1" dur="500"/>
                                        <p:tgtEl>
                                          <p:spTgt spid="3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ation in Solaris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279f"/>
              </a:buClr>
              <a:buFont typeface="Helvetica"/>
              <a:buAutoNum type="alphaLcParenR"/>
              <a:tabLst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Mute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id mutex_i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void mutex_l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void mutex_unl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5a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95a7"/>
                </a:solidFill>
                <a:latin typeface="Arial"/>
              </a:rPr>
              <a:t>int mutex_tryl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5a7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id mutex_destro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(b) Semapho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id sema_i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void sema_wa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void sema_p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95a7"/>
                </a:solidFill>
                <a:latin typeface="Arial"/>
              </a:rPr>
              <a:t>int sema_trywa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id sema_destro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171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477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(c) condition vari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id cv_i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void cv_wa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5a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void cv_sig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void cv_broadc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95a7"/>
                </a:solidFill>
                <a:latin typeface="Arial"/>
              </a:rPr>
              <a:t>int cv_timed_wa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id cv_destro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(d) readers/writers lo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id rw_i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void rw_en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void rw_ex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95a7"/>
                </a:solidFill>
                <a:latin typeface="Arial"/>
              </a:rPr>
              <a:t>int rw_tryen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5a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void rw_downgr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void rw_upgr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5a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95a7"/>
                </a:solidFill>
                <a:latin typeface="Arial"/>
              </a:rPr>
              <a:t>int rw_tryupgr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Id rw_destro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5a7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2" dur="indefinite" restart="never" nodeType="tmRoot">
          <p:childTnLst>
            <p:seq>
              <p:cTn id="4793" dur="indefinite" nodeType="mainSeq">
                <p:childTnLst>
                  <p:par>
                    <p:cTn id="4794" fill="hold">
                      <p:stCondLst>
                        <p:cond delay="indefinite"/>
                      </p:stCondLst>
                      <p:childTnLst>
                        <p:par>
                          <p:cTn id="4795" fill="hold">
                            <p:stCondLst>
                              <p:cond delay="0"/>
                            </p:stCondLst>
                            <p:childTnLst>
                              <p:par>
                                <p:cTn id="47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98" dur="500"/>
                                        <p:tgtEl>
                                          <p:spTgt spid="3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02" dur="500"/>
                                        <p:tgtEl>
                                          <p:spTgt spid="30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6" dur="500"/>
                                        <p:tgtEl>
                                          <p:spTgt spid="3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0" dur="500"/>
                                        <p:tgtEl>
                                          <p:spTgt spid="30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1" fill="hold">
                      <p:stCondLst>
                        <p:cond delay="indefinite"/>
                      </p:stCondLst>
                      <p:childTnLst>
                        <p:par>
                          <p:cTn id="4812" fill="hold">
                            <p:stCondLst>
                              <p:cond delay="0"/>
                            </p:stCondLst>
                            <p:childTnLst>
                              <p:par>
                                <p:cTn id="48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15" dur="500"/>
                                        <p:tgtEl>
                                          <p:spTgt spid="30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6" fill="hold">
                            <p:stCondLst>
                              <p:cond delay="500"/>
                            </p:stCondLst>
                            <p:childTnLst>
                              <p:par>
                                <p:cTn id="48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19" dur="500"/>
                                        <p:tgtEl>
                                          <p:spTgt spid="30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0" fill="hold">
                      <p:stCondLst>
                        <p:cond delay="indefinite"/>
                      </p:stCondLst>
                      <p:childTnLst>
                        <p:par>
                          <p:cTn id="4821" fill="hold">
                            <p:stCondLst>
                              <p:cond delay="0"/>
                            </p:stCondLst>
                            <p:childTnLst>
                              <p:par>
                                <p:cTn id="48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24" dur="500"/>
                                        <p:tgtEl>
                                          <p:spTgt spid="30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5" fill="hold">
                            <p:stCondLst>
                              <p:cond delay="500"/>
                            </p:stCondLst>
                            <p:childTnLst>
                              <p:par>
                                <p:cTn id="48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28" dur="500"/>
                                        <p:tgtEl>
                                          <p:spTgt spid="30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9" fill="hold">
                      <p:stCondLst>
                        <p:cond delay="indefinite"/>
                      </p:stCondLst>
                      <p:childTnLst>
                        <p:par>
                          <p:cTn id="4830" fill="hold">
                            <p:stCondLst>
                              <p:cond delay="0"/>
                            </p:stCondLst>
                            <p:childTnLst>
                              <p:par>
                                <p:cTn id="4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3" dur="500"/>
                                        <p:tgtEl>
                                          <p:spTgt spid="30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4" fill="hold">
                            <p:stCondLst>
                              <p:cond delay="500"/>
                            </p:stCondLst>
                            <p:childTnLst>
                              <p:par>
                                <p:cTn id="4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7" dur="500"/>
                                        <p:tgtEl>
                                          <p:spTgt spid="30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8" fill="hold">
                      <p:stCondLst>
                        <p:cond delay="indefinite"/>
                      </p:stCondLst>
                      <p:childTnLst>
                        <p:par>
                          <p:cTn id="4839" fill="hold">
                            <p:stCondLst>
                              <p:cond delay="0"/>
                            </p:stCondLst>
                            <p:childTnLst>
                              <p:par>
                                <p:cTn id="4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2" dur="500"/>
                                        <p:tgtEl>
                                          <p:spTgt spid="30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6" dur="500"/>
                                        <p:tgtEl>
                                          <p:spTgt spid="30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7" fill="hold">
                      <p:stCondLst>
                        <p:cond delay="indefinite"/>
                      </p:stCondLst>
                      <p:childTnLst>
                        <p:par>
                          <p:cTn id="4848" fill="hold">
                            <p:stCondLst>
                              <p:cond delay="0"/>
                            </p:stCondLst>
                            <p:childTnLst>
                              <p:par>
                                <p:cTn id="48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51" dur="500"/>
                                        <p:tgtEl>
                                          <p:spTgt spid="30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2" fill="hold">
                            <p:stCondLst>
                              <p:cond delay="500"/>
                            </p:stCondLst>
                            <p:childTnLst>
                              <p:par>
                                <p:cTn id="48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55" dur="500"/>
                                        <p:tgtEl>
                                          <p:spTgt spid="30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6" fill="hold">
                      <p:stCondLst>
                        <p:cond delay="indefinite"/>
                      </p:stCondLst>
                      <p:childTnLst>
                        <p:par>
                          <p:cTn id="4857" fill="hold">
                            <p:stCondLst>
                              <p:cond delay="0"/>
                            </p:stCondLst>
                            <p:childTnLst>
                              <p:par>
                                <p:cTn id="48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60" dur="500"/>
                                        <p:tgtEl>
                                          <p:spTgt spid="30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1" fill="hold">
                            <p:stCondLst>
                              <p:cond delay="500"/>
                            </p:stCondLst>
                            <p:childTnLst>
                              <p:par>
                                <p:cTn id="48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64" dur="500"/>
                                        <p:tgtEl>
                                          <p:spTgt spid="30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5" fill="hold">
                      <p:stCondLst>
                        <p:cond delay="indefinite"/>
                      </p:stCondLst>
                      <p:childTnLst>
                        <p:par>
                          <p:cTn id="4866" fill="hold">
                            <p:stCondLst>
                              <p:cond delay="0"/>
                            </p:stCondLst>
                            <p:childTnLst>
                              <p:par>
                                <p:cTn id="48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9" dur="500"/>
                                        <p:tgtEl>
                                          <p:spTgt spid="3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0" fill="hold">
                            <p:stCondLst>
                              <p:cond delay="500"/>
                            </p:stCondLst>
                            <p:childTnLst>
                              <p:par>
                                <p:cTn id="48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3" dur="500"/>
                                        <p:tgtEl>
                                          <p:spTgt spid="30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7" dur="500"/>
                                        <p:tgtEl>
                                          <p:spTgt spid="30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8" fill="hold">
                      <p:stCondLst>
                        <p:cond delay="indefinite"/>
                      </p:stCondLst>
                      <p:childTnLst>
                        <p:par>
                          <p:cTn id="4879" fill="hold">
                            <p:stCondLst>
                              <p:cond delay="0"/>
                            </p:stCondLst>
                            <p:childTnLst>
                              <p:par>
                                <p:cTn id="4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2" dur="500"/>
                                        <p:tgtEl>
                                          <p:spTgt spid="30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6" dur="500"/>
                                        <p:tgtEl>
                                          <p:spTgt spid="30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7" fill="hold">
                      <p:stCondLst>
                        <p:cond delay="indefinite"/>
                      </p:stCondLst>
                      <p:childTnLst>
                        <p:par>
                          <p:cTn id="4888" fill="hold">
                            <p:stCondLst>
                              <p:cond delay="0"/>
                            </p:stCondLst>
                            <p:childTnLst>
                              <p:par>
                                <p:cTn id="48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1" dur="500"/>
                                        <p:tgtEl>
                                          <p:spTgt spid="30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2" fill="hold">
                            <p:stCondLst>
                              <p:cond delay="500"/>
                            </p:stCondLst>
                            <p:childTnLst>
                              <p:par>
                                <p:cTn id="4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5" dur="500"/>
                                        <p:tgtEl>
                                          <p:spTgt spid="30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6" fill="hold">
                      <p:stCondLst>
                        <p:cond delay="indefinite"/>
                      </p:stCondLst>
                      <p:childTnLst>
                        <p:par>
                          <p:cTn id="4897" fill="hold">
                            <p:stCondLst>
                              <p:cond delay="0"/>
                            </p:stCondLst>
                            <p:childTnLst>
                              <p:par>
                                <p:cTn id="48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00" dur="500"/>
                                        <p:tgtEl>
                                          <p:spTgt spid="30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1" fill="hold">
                      <p:stCondLst>
                        <p:cond delay="indefinite"/>
                      </p:stCondLst>
                      <p:childTnLst>
                        <p:par>
                          <p:cTn id="4902" fill="hold">
                            <p:stCondLst>
                              <p:cond delay="0"/>
                            </p:stCondLst>
                            <p:childTnLst>
                              <p:par>
                                <p:cTn id="49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05" dur="500"/>
                                        <p:tgtEl>
                                          <p:spTgt spid="30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6" fill="hold">
                      <p:stCondLst>
                        <p:cond delay="indefinite"/>
                      </p:stCondLst>
                      <p:childTnLst>
                        <p:par>
                          <p:cTn id="4907" fill="hold">
                            <p:stCondLst>
                              <p:cond delay="0"/>
                            </p:stCondLst>
                            <p:childTnLst>
                              <p:par>
                                <p:cTn id="4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0" dur="500"/>
                                        <p:tgtEl>
                                          <p:spTgt spid="30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1" fill="hold">
                      <p:stCondLst>
                        <p:cond delay="indefinite"/>
                      </p:stCondLst>
                      <p:childTnLst>
                        <p:par>
                          <p:cTn id="4912" fill="hold">
                            <p:stCondLst>
                              <p:cond delay="0"/>
                            </p:stCondLst>
                            <p:childTnLst>
                              <p:par>
                                <p:cTn id="4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5" dur="500"/>
                                        <p:tgtEl>
                                          <p:spTgt spid="30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6" fill="hold">
                      <p:stCondLst>
                        <p:cond delay="indefinite"/>
                      </p:stCondLst>
                      <p:childTnLst>
                        <p:par>
                          <p:cTn id="4917" fill="hold">
                            <p:stCondLst>
                              <p:cond delay="0"/>
                            </p:stCondLst>
                            <p:childTnLst>
                              <p:par>
                                <p:cTn id="4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0" dur="500"/>
                                        <p:tgtEl>
                                          <p:spTgt spid="30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3T20:24:45Z</dcterms:created>
  <dc:creator>Bart De Decker</dc:creator>
  <dc:description/>
  <dc:language>en-US</dc:language>
  <cp:lastModifiedBy>Bart De Decker</cp:lastModifiedBy>
  <cp:lastPrinted>1999-11-25T16:17:00Z</cp:lastPrinted>
  <dcterms:modified xsi:type="dcterms:W3CDTF">2005-10-21T09:27:16Z</dcterms:modified>
  <cp:revision>103</cp:revision>
  <dc:subject/>
  <dc:title>Module B2: Concurrent Programming</dc:title>
</cp:coreProperties>
</file>