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6532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C8195593-F0CF-490F-8B2F-8FF04EA4B9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3475EC8A-254D-41F9-801B-DF1315532ED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04_ipc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zation of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3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75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40640" y="3352680"/>
            <a:ext cx="399960" cy="2514600"/>
            <a:chOff x="440640" y="3352680"/>
            <a:chExt cx="399960" cy="2514600"/>
          </a:xfrm>
        </p:grpSpPr>
        <p:sp>
          <p:nvSpPr>
            <p:cNvPr id="379" name=""/>
            <p:cNvSpPr/>
            <p:nvPr/>
          </p:nvSpPr>
          <p:spPr>
            <a:xfrm>
              <a:off x="76212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5400">
              <a:off x="25956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19400" y="313848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52480" y="41148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3505320"/>
          <a:ext cx="5331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0532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88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92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4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4876920" y="3657600"/>
            <a:ext cx="1600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B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19400" y="48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A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66680" y="5029200"/>
            <a:ext cx="6782040" cy="398880"/>
            <a:chOff x="1066680" y="5029200"/>
            <a:chExt cx="6782040" cy="398880"/>
          </a:xfrm>
        </p:grpSpPr>
        <p:sp>
          <p:nvSpPr>
            <p:cNvPr id="405" name=""/>
            <p:cNvSpPr/>
            <p:nvPr/>
          </p:nvSpPr>
          <p:spPr>
            <a:xfrm>
              <a:off x="1066680" y="5029200"/>
              <a:ext cx="67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5400" y="502920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08040" y="1676520"/>
            <a:ext cx="398880" cy="4038480"/>
            <a:chOff x="1508040" y="1676520"/>
            <a:chExt cx="398880" cy="4038480"/>
          </a:xfrm>
        </p:grpSpPr>
        <p:sp>
          <p:nvSpPr>
            <p:cNvPr id="408" name=""/>
            <p:cNvSpPr/>
            <p:nvPr/>
          </p:nvSpPr>
          <p:spPr>
            <a:xfrm flipV="1">
              <a:off x="1905120" y="1676520"/>
              <a:ext cx="0" cy="40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1172160" y="24778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581280" y="41911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257800" y="2666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26668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934320" y="1828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1828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4030560"/>
            <a:ext cx="0" cy="99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4030560"/>
            <a:ext cx="1104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619440" y="2217600"/>
            <a:ext cx="0" cy="18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19440" y="2209680"/>
            <a:ext cx="4381560" cy="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010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9960" y="432576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7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5120" y="4495680"/>
            <a:ext cx="121896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124080" y="342864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24080" y="2438280"/>
            <a:ext cx="213372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243828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781680" y="1904760"/>
            <a:ext cx="114300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259092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9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809880"/>
            <a:ext cx="53352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5800" y="44197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914040" y="4876920"/>
            <a:ext cx="6094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426708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33526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mpos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05120" y="5029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39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2819520" y="3581280"/>
            <a:ext cx="144756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7080" y="2819520"/>
            <a:ext cx="28958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133720"/>
            <a:ext cx="289548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43828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4267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19051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19520" y="19051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62920" y="190476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637080" y="2749680"/>
            <a:ext cx="574560" cy="825120"/>
            <a:chOff x="3637080" y="2749680"/>
            <a:chExt cx="574560" cy="825120"/>
          </a:xfrm>
        </p:grpSpPr>
        <p:sp>
          <p:nvSpPr>
            <p:cNvPr id="471" name=""/>
            <p:cNvSpPr/>
            <p:nvPr/>
          </p:nvSpPr>
          <p:spPr>
            <a:xfrm>
              <a:off x="3637080" y="274968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51280" y="3213000"/>
              <a:ext cx="360360" cy="3603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79280" y="5445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Wingdings"/>
                <a:ea typeface="Wingdings"/>
              </a:rPr>
              <a:t>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80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81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5638680" y="2819520"/>
            <a:ext cx="15242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133720"/>
            <a:ext cx="144756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8128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59092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3886200"/>
            <a:ext cx="21333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42670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752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19520" y="17524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24280" y="1981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0384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257800" y="259056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5909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198108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315200" y="16765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315200" y="17521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705720" y="3352680"/>
            <a:ext cx="1904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resource held in nonsharabl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Hold and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rocess hol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res., waiting to acquire ano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an only be released voluntar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04840" y="541008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b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129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05320" y="1828800"/>
            <a:ext cx="761760" cy="990720"/>
            <a:chOff x="3505320" y="1828800"/>
            <a:chExt cx="761760" cy="990720"/>
          </a:xfrm>
        </p:grpSpPr>
        <p:sp>
          <p:nvSpPr>
            <p:cNvPr id="527" name=""/>
            <p:cNvSpPr/>
            <p:nvPr/>
          </p:nvSpPr>
          <p:spPr>
            <a:xfrm>
              <a:off x="3505320" y="22096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6084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98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143000" y="4495680"/>
            <a:ext cx="762120" cy="1368000"/>
            <a:chOff x="1143000" y="4495680"/>
            <a:chExt cx="762120" cy="1368000"/>
          </a:xfrm>
        </p:grpSpPr>
        <p:sp>
          <p:nvSpPr>
            <p:cNvPr id="531" name=""/>
            <p:cNvSpPr/>
            <p:nvPr/>
          </p:nvSpPr>
          <p:spPr>
            <a:xfrm>
              <a:off x="1143000" y="449568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8520" y="54230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447920" y="4686480"/>
              <a:ext cx="152280" cy="533160"/>
              <a:chOff x="1447920" y="4686480"/>
              <a:chExt cx="152280" cy="533160"/>
            </a:xfrm>
          </p:grpSpPr>
          <p:sp>
            <p:nvSpPr>
              <p:cNvPr id="534" name=""/>
              <p:cNvSpPr/>
              <p:nvPr/>
            </p:nvSpPr>
            <p:spPr>
              <a:xfrm>
                <a:off x="1447920" y="4686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47920" y="50673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2971800" y="4343400"/>
            <a:ext cx="761760" cy="1596240"/>
            <a:chOff x="2971800" y="4343400"/>
            <a:chExt cx="761760" cy="1596240"/>
          </a:xfrm>
        </p:grpSpPr>
        <p:grpSp>
          <p:nvGrpSpPr>
            <p:cNvPr id="537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sp>
            <p:nvSpPr>
              <p:cNvPr id="538" name=""/>
              <p:cNvSpPr/>
              <p:nvPr/>
            </p:nvSpPr>
            <p:spPr>
              <a:xfrm>
                <a:off x="2971800" y="4343400"/>
                <a:ext cx="761760" cy="11430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27320" y="54990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327672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76720" y="5181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76720" y="4838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886200" y="339084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5" idx="7"/>
            <a:endCxn id="546" idx="2"/>
          </p:cNvCxnSpPr>
          <p:nvPr/>
        </p:nvCxnSpPr>
        <p:spPr>
          <a:xfrm flipV="1">
            <a:off x="1118880" y="2837880"/>
            <a:ext cx="63396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8" idx="7"/>
            <a:endCxn id="527" idx="1"/>
          </p:cNvCxnSpPr>
          <p:nvPr/>
        </p:nvCxnSpPr>
        <p:spPr>
          <a:xfrm flipV="1">
            <a:off x="2795760" y="2513880"/>
            <a:ext cx="691200" cy="965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29" idx="4"/>
            <a:endCxn id="543" idx="0"/>
          </p:cNvCxnSpPr>
          <p:nvPr/>
        </p:nvCxnSpPr>
        <p:spPr>
          <a:xfrm>
            <a:off x="3885840" y="2590920"/>
            <a:ext cx="343800" cy="8006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0" name=""/>
          <p:cNvGrpSpPr/>
          <p:nvPr/>
        </p:nvGrpSpPr>
        <p:grpSpPr>
          <a:xfrm>
            <a:off x="1371600" y="1828800"/>
            <a:ext cx="762120" cy="990720"/>
            <a:chOff x="1371600" y="1828800"/>
            <a:chExt cx="762120" cy="990720"/>
          </a:xfrm>
        </p:grpSpPr>
        <p:sp>
          <p:nvSpPr>
            <p:cNvPr id="546" name=""/>
            <p:cNvSpPr/>
            <p:nvPr/>
          </p:nvSpPr>
          <p:spPr>
            <a:xfrm>
              <a:off x="13716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71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765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3" name=""/>
          <p:cNvCxnSpPr>
            <a:stCxn id="552" idx="6"/>
            <a:endCxn id="548" idx="1"/>
          </p:cNvCxnSpPr>
          <p:nvPr/>
        </p:nvCxnSpPr>
        <p:spPr>
          <a:xfrm>
            <a:off x="1828800" y="2514240"/>
            <a:ext cx="48168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34" idx="1"/>
            <a:endCxn id="545" idx="4"/>
          </p:cNvCxnSpPr>
          <p:nvPr/>
        </p:nvCxnSpPr>
        <p:spPr>
          <a:xfrm flipH="1" flipV="1">
            <a:off x="875520" y="4000320"/>
            <a:ext cx="594360" cy="708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35" idx="0"/>
            <a:endCxn id="548" idx="4"/>
          </p:cNvCxnSpPr>
          <p:nvPr/>
        </p:nvCxnSpPr>
        <p:spPr>
          <a:xfrm flipV="1">
            <a:off x="1523880" y="3999960"/>
            <a:ext cx="1029600" cy="10674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6" name=""/>
          <p:cNvGrpSpPr/>
          <p:nvPr/>
        </p:nvGrpSpPr>
        <p:grpSpPr>
          <a:xfrm>
            <a:off x="5562720" y="2057400"/>
            <a:ext cx="2738160" cy="398880"/>
            <a:chOff x="5562720" y="2057400"/>
            <a:chExt cx="2738160" cy="398880"/>
          </a:xfrm>
        </p:grpSpPr>
        <p:sp>
          <p:nvSpPr>
            <p:cNvPr id="557" name=""/>
            <p:cNvSpPr/>
            <p:nvPr/>
          </p:nvSpPr>
          <p:spPr>
            <a:xfrm>
              <a:off x="5562720" y="2286000"/>
              <a:ext cx="10666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05720" y="20574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562720" y="2438280"/>
            <a:ext cx="2244240" cy="398880"/>
            <a:chOff x="5562720" y="2438280"/>
            <a:chExt cx="2244240" cy="398880"/>
          </a:xfrm>
        </p:grpSpPr>
        <p:sp>
          <p:nvSpPr>
            <p:cNvPr id="560" name=""/>
            <p:cNvSpPr/>
            <p:nvPr/>
          </p:nvSpPr>
          <p:spPr>
            <a:xfrm>
              <a:off x="5562720" y="2666880"/>
              <a:ext cx="106668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5720" y="24382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724640" y="3973680"/>
            <a:ext cx="2780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 = (Nodes, Ed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= {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33520" y="3390840"/>
            <a:ext cx="936360" cy="614520"/>
            <a:chOff x="533520" y="3390840"/>
            <a:chExt cx="936360" cy="614520"/>
          </a:xfrm>
        </p:grpSpPr>
        <p:sp>
          <p:nvSpPr>
            <p:cNvPr id="545" name=""/>
            <p:cNvSpPr/>
            <p:nvPr/>
          </p:nvSpPr>
          <p:spPr>
            <a:xfrm>
              <a:off x="53352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108900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900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6" name=""/>
          <p:cNvGrpSpPr/>
          <p:nvPr/>
        </p:nvGrpSpPr>
        <p:grpSpPr>
          <a:xfrm>
            <a:off x="2209680" y="3390840"/>
            <a:ext cx="925560" cy="609840"/>
            <a:chOff x="2209680" y="3390840"/>
            <a:chExt cx="925560" cy="609840"/>
          </a:xfrm>
        </p:grpSpPr>
        <p:sp>
          <p:nvSpPr>
            <p:cNvPr id="548" name=""/>
            <p:cNvSpPr/>
            <p:nvPr/>
          </p:nvSpPr>
          <p:spPr>
            <a:xfrm>
              <a:off x="22096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275436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436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9" name=""/>
          <p:cNvSpPr/>
          <p:nvPr/>
        </p:nvSpPr>
        <p:spPr>
          <a:xfrm>
            <a:off x="4724280" y="4703760"/>
            <a:ext cx="4292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= {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24280" y="5418000"/>
            <a:ext cx="42926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83120" y="3352680"/>
            <a:ext cx="37148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y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1 Instance/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3520" y="1828800"/>
            <a:ext cx="4038480" cy="4110840"/>
            <a:chOff x="533520" y="1828800"/>
            <a:chExt cx="4038480" cy="4110840"/>
          </a:xfrm>
        </p:grpSpPr>
        <p:grpSp>
          <p:nvGrpSpPr>
            <p:cNvPr id="574" name=""/>
            <p:cNvGrpSpPr/>
            <p:nvPr/>
          </p:nvGrpSpPr>
          <p:grpSpPr>
            <a:xfrm>
              <a:off x="3505320" y="1828800"/>
              <a:ext cx="761760" cy="990720"/>
              <a:chOff x="3505320" y="1828800"/>
              <a:chExt cx="761760" cy="990720"/>
            </a:xfrm>
          </p:grpSpPr>
          <p:sp>
            <p:nvSpPr>
              <p:cNvPr id="575" name=""/>
              <p:cNvSpPr/>
              <p:nvPr/>
            </p:nvSpPr>
            <p:spPr>
              <a:xfrm>
                <a:off x="3505320" y="22096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6084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143000" y="4495680"/>
              <a:ext cx="762120" cy="1368000"/>
              <a:chOff x="1143000" y="4495680"/>
              <a:chExt cx="762120" cy="1368000"/>
            </a:xfrm>
          </p:grpSpPr>
          <p:sp>
            <p:nvSpPr>
              <p:cNvPr id="579" name=""/>
              <p:cNvSpPr/>
              <p:nvPr/>
            </p:nvSpPr>
            <p:spPr>
              <a:xfrm>
                <a:off x="1143000" y="44956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98520" y="54230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1447920" y="4686480"/>
                <a:ext cx="152280" cy="533160"/>
                <a:chOff x="1447920" y="4686480"/>
                <a:chExt cx="152280" cy="533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447920" y="46864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447920" y="50673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971800" y="4343400"/>
                <a:ext cx="761760" cy="1596240"/>
                <a:chOff x="2971800" y="4343400"/>
                <a:chExt cx="761760" cy="15962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71800" y="4343400"/>
                  <a:ext cx="761760" cy="11430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27320" y="549900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3276720" y="4495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76720" y="5181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76720" y="4838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886200" y="339084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3" idx="7"/>
              <a:endCxn id="594" idx="2"/>
            </p:cNvCxnSpPr>
            <p:nvPr/>
          </p:nvCxnSpPr>
          <p:spPr>
            <a:xfrm flipV="1">
              <a:off x="1118880" y="2837880"/>
              <a:ext cx="633960" cy="64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96" idx="7"/>
              <a:endCxn id="575" idx="1"/>
            </p:cNvCxnSpPr>
            <p:nvPr/>
          </p:nvCxnSpPr>
          <p:spPr>
            <a:xfrm flipV="1">
              <a:off x="2795760" y="2513880"/>
              <a:ext cx="691200" cy="965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7" idx="4"/>
              <a:endCxn id="591" idx="0"/>
            </p:cNvCxnSpPr>
            <p:nvPr/>
          </p:nvCxnSpPr>
          <p:spPr>
            <a:xfrm>
              <a:off x="3885840" y="2590920"/>
              <a:ext cx="343800" cy="800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598" name=""/>
            <p:cNvGrpSpPr/>
            <p:nvPr/>
          </p:nvGrpSpPr>
          <p:grpSpPr>
            <a:xfrm>
              <a:off x="1371600" y="1828800"/>
              <a:ext cx="762120" cy="990720"/>
              <a:chOff x="1371600" y="1828800"/>
              <a:chExt cx="762120" cy="990720"/>
            </a:xfrm>
          </p:grpSpPr>
          <p:sp>
            <p:nvSpPr>
              <p:cNvPr id="594" name=""/>
              <p:cNvSpPr/>
              <p:nvPr/>
            </p:nvSpPr>
            <p:spPr>
              <a:xfrm>
                <a:off x="1371600" y="22096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52712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676520" y="2438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1" name=""/>
            <p:cNvCxnSpPr>
              <a:stCxn id="600" idx="6"/>
              <a:endCxn id="596" idx="1"/>
            </p:cNvCxnSpPr>
            <p:nvPr/>
          </p:nvCxnSpPr>
          <p:spPr>
            <a:xfrm>
              <a:off x="1828800" y="2514240"/>
              <a:ext cx="481680" cy="965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82" idx="1"/>
              <a:endCxn id="593" idx="4"/>
            </p:cNvCxnSpPr>
            <p:nvPr/>
          </p:nvCxnSpPr>
          <p:spPr>
            <a:xfrm flipH="1" flipV="1">
              <a:off x="875520" y="4000320"/>
              <a:ext cx="594360" cy="7084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83" idx="0"/>
              <a:endCxn id="596" idx="4"/>
            </p:cNvCxnSpPr>
            <p:nvPr/>
          </p:nvCxnSpPr>
          <p:spPr>
            <a:xfrm flipV="1">
              <a:off x="1523880" y="3999960"/>
              <a:ext cx="1029600" cy="10674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604" name=""/>
            <p:cNvGrpSpPr/>
            <p:nvPr/>
          </p:nvGrpSpPr>
          <p:grpSpPr>
            <a:xfrm>
              <a:off x="533520" y="3390840"/>
              <a:ext cx="936360" cy="614520"/>
              <a:chOff x="533520" y="3390840"/>
              <a:chExt cx="936360" cy="614520"/>
            </a:xfrm>
          </p:grpSpPr>
          <p:sp>
            <p:nvSpPr>
              <p:cNvPr id="593" name=""/>
              <p:cNvSpPr/>
              <p:nvPr/>
            </p:nvSpPr>
            <p:spPr>
              <a:xfrm>
                <a:off x="53352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5" name=""/>
              <p:cNvGraphicFramePr/>
              <p:nvPr/>
            </p:nvGraphicFramePr>
            <p:xfrm>
              <a:off x="1089000" y="3630600"/>
              <a:ext cx="380880" cy="3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89000" y="363060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7" name=""/>
            <p:cNvGrpSpPr/>
            <p:nvPr/>
          </p:nvGrpSpPr>
          <p:grpSpPr>
            <a:xfrm>
              <a:off x="2209680" y="3390840"/>
              <a:ext cx="925560" cy="609840"/>
              <a:chOff x="2209680" y="3390840"/>
              <a:chExt cx="925560" cy="609840"/>
            </a:xfrm>
          </p:grpSpPr>
          <p:sp>
            <p:nvSpPr>
              <p:cNvPr id="596" name=""/>
              <p:cNvSpPr/>
              <p:nvPr/>
            </p:nvSpPr>
            <p:spPr>
              <a:xfrm>
                <a:off x="220968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8" name=""/>
              <p:cNvGraphicFramePr/>
              <p:nvPr/>
            </p:nvGraphicFramePr>
            <p:xfrm>
              <a:off x="2754360" y="3624120"/>
              <a:ext cx="380880" cy="374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54360" y="362412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608280" y="4848120"/>
            <a:ext cx="762120" cy="1368000"/>
            <a:chOff x="3608280" y="4848120"/>
            <a:chExt cx="762120" cy="1368000"/>
          </a:xfrm>
        </p:grpSpPr>
        <p:sp>
          <p:nvSpPr>
            <p:cNvPr id="612" name=""/>
            <p:cNvSpPr/>
            <p:nvPr/>
          </p:nvSpPr>
          <p:spPr>
            <a:xfrm>
              <a:off x="360828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6380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3913200" y="5038920"/>
              <a:ext cx="152280" cy="533160"/>
              <a:chOff x="3913200" y="5038920"/>
              <a:chExt cx="152280" cy="533160"/>
            </a:xfrm>
          </p:grpSpPr>
          <p:sp>
            <p:nvSpPr>
              <p:cNvPr id="615" name=""/>
              <p:cNvSpPr/>
              <p:nvPr/>
            </p:nvSpPr>
            <p:spPr>
              <a:xfrm>
                <a:off x="391320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1320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17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20" name=""/>
          <p:cNvGrpSpPr/>
          <p:nvPr/>
        </p:nvGrpSpPr>
        <p:grpSpPr>
          <a:xfrm>
            <a:off x="3608280" y="1828800"/>
            <a:ext cx="762120" cy="990720"/>
            <a:chOff x="3608280" y="1828800"/>
            <a:chExt cx="762120" cy="990720"/>
          </a:xfrm>
        </p:grpSpPr>
        <p:sp>
          <p:nvSpPr>
            <p:cNvPr id="619" name=""/>
            <p:cNvSpPr/>
            <p:nvPr/>
          </p:nvSpPr>
          <p:spPr>
            <a:xfrm>
              <a:off x="36082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638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132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3" name=""/>
          <p:cNvCxnSpPr>
            <a:stCxn id="622" idx="5"/>
            <a:endCxn id="624" idx="1"/>
          </p:cNvCxnSpPr>
          <p:nvPr/>
        </p:nvCxnSpPr>
        <p:spPr>
          <a:xfrm>
            <a:off x="4043520" y="2568240"/>
            <a:ext cx="846720" cy="9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15" idx="1"/>
            <a:endCxn id="618" idx="4"/>
          </p:cNvCxnSpPr>
          <p:nvPr/>
        </p:nvCxnSpPr>
        <p:spPr>
          <a:xfrm flipH="1" flipV="1">
            <a:off x="3009240" y="3999960"/>
            <a:ext cx="92628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26" name=""/>
          <p:cNvGrpSpPr/>
          <p:nvPr/>
        </p:nvGrpSpPr>
        <p:grpSpPr>
          <a:xfrm>
            <a:off x="2666880" y="3390840"/>
            <a:ext cx="936360" cy="614520"/>
            <a:chOff x="2666880" y="3390840"/>
            <a:chExt cx="936360" cy="614520"/>
          </a:xfrm>
        </p:grpSpPr>
        <p:sp>
          <p:nvSpPr>
            <p:cNvPr id="618" name=""/>
            <p:cNvSpPr/>
            <p:nvPr/>
          </p:nvSpPr>
          <p:spPr>
            <a:xfrm>
              <a:off x="26668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7" name=""/>
            <p:cNvGraphicFramePr/>
            <p:nvPr/>
          </p:nvGraphicFramePr>
          <p:xfrm>
            <a:off x="322236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236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"/>
          <p:cNvGrpSpPr/>
          <p:nvPr/>
        </p:nvGrpSpPr>
        <p:grpSpPr>
          <a:xfrm>
            <a:off x="4789440" y="3390840"/>
            <a:ext cx="925560" cy="609840"/>
            <a:chOff x="4789440" y="3390840"/>
            <a:chExt cx="925560" cy="609840"/>
          </a:xfrm>
        </p:grpSpPr>
        <p:sp>
          <p:nvSpPr>
            <p:cNvPr id="624" name=""/>
            <p:cNvSpPr/>
            <p:nvPr/>
          </p:nvSpPr>
          <p:spPr>
            <a:xfrm>
              <a:off x="47894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0" name=""/>
            <p:cNvGraphicFramePr/>
            <p:nvPr/>
          </p:nvGraphicFramePr>
          <p:xfrm>
            <a:off x="53341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2" name=""/>
          <p:cNvSpPr/>
          <p:nvPr/>
        </p:nvSpPr>
        <p:spPr>
          <a:xfrm>
            <a:off x="51814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4" idx="3"/>
            <a:endCxn id="612" idx="0"/>
          </p:cNvCxnSpPr>
          <p:nvPr/>
        </p:nvCxnSpPr>
        <p:spPr>
          <a:xfrm flipH="1">
            <a:off x="3989160" y="3911760"/>
            <a:ext cx="9007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3657600" y="3187800"/>
            <a:ext cx="1054080" cy="1282680"/>
          </a:xfrm>
          <a:custGeom>
            <a:avLst/>
            <a:gdLst/>
            <a:ahLst/>
            <a:rect l="l" t="t" r="r" b="b"/>
            <a:pathLst>
              <a:path w="664" h="808">
                <a:moveTo>
                  <a:pt x="96" y="152"/>
                </a:moveTo>
                <a:cubicBezTo>
                  <a:pt x="132" y="76"/>
                  <a:pt x="168" y="0"/>
                  <a:pt x="240" y="8"/>
                </a:cubicBezTo>
                <a:cubicBezTo>
                  <a:pt x="312" y="16"/>
                  <a:pt x="464" y="120"/>
                  <a:pt x="528" y="200"/>
                </a:cubicBezTo>
                <a:cubicBezTo>
                  <a:pt x="592" y="280"/>
                  <a:pt x="664" y="400"/>
                  <a:pt x="624" y="488"/>
                </a:cubicBezTo>
                <a:cubicBezTo>
                  <a:pt x="584" y="576"/>
                  <a:pt x="384" y="680"/>
                  <a:pt x="288" y="728"/>
                </a:cubicBezTo>
                <a:cubicBezTo>
                  <a:pt x="192" y="776"/>
                  <a:pt x="96" y="808"/>
                  <a:pt x="48" y="776"/>
                </a:cubicBezTo>
                <a:cubicBezTo>
                  <a:pt x="0" y="744"/>
                  <a:pt x="0" y="632"/>
                  <a:pt x="0" y="536"/>
                </a:cubicBezTo>
                <a:cubicBezTo>
                  <a:pt x="0" y="440"/>
                  <a:pt x="24" y="320"/>
                  <a:pt x="48" y="200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0" y="2362320"/>
            <a:ext cx="1981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ae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o 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ae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637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38" name=""/>
          <p:cNvGrpSpPr/>
          <p:nvPr/>
        </p:nvGrpSpPr>
        <p:grpSpPr>
          <a:xfrm>
            <a:off x="3619440" y="4838760"/>
            <a:ext cx="762120" cy="1368000"/>
            <a:chOff x="3619440" y="4838760"/>
            <a:chExt cx="762120" cy="1368000"/>
          </a:xfrm>
        </p:grpSpPr>
        <p:sp>
          <p:nvSpPr>
            <p:cNvPr id="639" name=""/>
            <p:cNvSpPr/>
            <p:nvPr/>
          </p:nvSpPr>
          <p:spPr>
            <a:xfrm>
              <a:off x="3619440" y="483876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4960" y="5766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24360" y="5029560"/>
              <a:ext cx="152280" cy="533160"/>
              <a:chOff x="3924360" y="5029560"/>
              <a:chExt cx="152280" cy="533160"/>
            </a:xfrm>
          </p:grpSpPr>
          <p:sp>
            <p:nvSpPr>
              <p:cNvPr id="642" name=""/>
              <p:cNvSpPr/>
              <p:nvPr/>
            </p:nvSpPr>
            <p:spPr>
              <a:xfrm>
                <a:off x="3924360" y="50295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24360" y="5410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44" name=""/>
          <p:cNvCxnSpPr>
            <a:stCxn id="642" idx="1"/>
            <a:endCxn id="618" idx="4"/>
          </p:cNvCxnSpPr>
          <p:nvPr/>
        </p:nvCxnSpPr>
        <p:spPr>
          <a:xfrm flipH="1" flipV="1">
            <a:off x="3009600" y="3999960"/>
            <a:ext cx="937440" cy="105156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stCxn id="624" idx="3"/>
            <a:endCxn id="639" idx="0"/>
          </p:cNvCxnSpPr>
          <p:nvPr/>
        </p:nvCxnSpPr>
        <p:spPr>
          <a:xfrm flipH="1">
            <a:off x="3999960" y="3911760"/>
            <a:ext cx="889560" cy="9086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3" idx="7"/>
            <a:endCxn id="624" idx="4"/>
          </p:cNvCxnSpPr>
          <p:nvPr/>
        </p:nvCxnSpPr>
        <p:spPr>
          <a:xfrm flipV="1">
            <a:off x="4053960" y="3999960"/>
            <a:ext cx="1078560" cy="1432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47" name=""/>
          <p:cNvGrpSpPr/>
          <p:nvPr/>
        </p:nvGrpSpPr>
        <p:grpSpPr>
          <a:xfrm>
            <a:off x="4786200" y="3386160"/>
            <a:ext cx="1266840" cy="923760"/>
            <a:chOff x="4786200" y="3386160"/>
            <a:chExt cx="1266840" cy="923760"/>
          </a:xfrm>
        </p:grpSpPr>
        <p:sp>
          <p:nvSpPr>
            <p:cNvPr id="648" name=""/>
            <p:cNvSpPr/>
            <p:nvPr/>
          </p:nvSpPr>
          <p:spPr>
            <a:xfrm>
              <a:off x="5214960" y="3548160"/>
              <a:ext cx="83808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8620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5105520" y="4467240"/>
            <a:ext cx="838080" cy="638280"/>
          </a:xfrm>
          <a:prstGeom prst="rect">
            <a:avLst/>
          </a:prstGeom>
          <a:ln w="0">
            <a:noFill/>
          </a:ln>
        </p:spPr>
      </p:pic>
      <p:cxnSp>
        <p:nvCxnSpPr>
          <p:cNvPr id="651" name=""/>
          <p:cNvCxnSpPr/>
          <p:nvPr/>
        </p:nvCxnSpPr>
        <p:spPr>
          <a:xfrm flipV="1">
            <a:off x="4054320" y="4004640"/>
            <a:ext cx="1075680" cy="1437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22" idx="5"/>
            <a:endCxn id="649" idx="1"/>
          </p:cNvCxnSpPr>
          <p:nvPr/>
        </p:nvCxnSpPr>
        <p:spPr>
          <a:xfrm>
            <a:off x="4043160" y="2568600"/>
            <a:ext cx="843480" cy="9072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54" name=""/>
          <p:cNvGrpSpPr/>
          <p:nvPr/>
        </p:nvGrpSpPr>
        <p:grpSpPr>
          <a:xfrm>
            <a:off x="2666880" y="3386160"/>
            <a:ext cx="838080" cy="652320"/>
            <a:chOff x="2666880" y="3386160"/>
            <a:chExt cx="838080" cy="652320"/>
          </a:xfrm>
        </p:grpSpPr>
        <p:sp>
          <p:nvSpPr>
            <p:cNvPr id="655" name=""/>
            <p:cNvSpPr/>
            <p:nvPr/>
          </p:nvSpPr>
          <p:spPr>
            <a:xfrm>
              <a:off x="3200400" y="3429000"/>
              <a:ext cx="30456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688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600360" y="1828800"/>
            <a:ext cx="762120" cy="990720"/>
            <a:chOff x="3600360" y="1828800"/>
            <a:chExt cx="762120" cy="990720"/>
          </a:xfrm>
        </p:grpSpPr>
        <p:sp>
          <p:nvSpPr>
            <p:cNvPr id="658" name=""/>
            <p:cNvSpPr/>
            <p:nvPr/>
          </p:nvSpPr>
          <p:spPr>
            <a:xfrm>
              <a:off x="360036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5588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0528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04920" y="4009320"/>
            <a:ext cx="1371960" cy="2206800"/>
            <a:chOff x="3004920" y="4009320"/>
            <a:chExt cx="1371960" cy="2206800"/>
          </a:xfrm>
        </p:grpSpPr>
        <p:grpSp>
          <p:nvGrpSpPr>
            <p:cNvPr id="662" name=""/>
            <p:cNvGrpSpPr/>
            <p:nvPr/>
          </p:nvGrpSpPr>
          <p:grpSpPr>
            <a:xfrm>
              <a:off x="3614760" y="4848120"/>
              <a:ext cx="762120" cy="1368000"/>
              <a:chOff x="3614760" y="4848120"/>
              <a:chExt cx="762120" cy="1368000"/>
            </a:xfrm>
          </p:grpSpPr>
          <p:sp>
            <p:nvSpPr>
              <p:cNvPr id="663" name=""/>
              <p:cNvSpPr/>
              <p:nvPr/>
            </p:nvSpPr>
            <p:spPr>
              <a:xfrm>
                <a:off x="3614760" y="484812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70280" y="5775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919680" y="5038920"/>
                <a:ext cx="152280" cy="533160"/>
                <a:chOff x="3919680" y="5038920"/>
                <a:chExt cx="152280" cy="533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19680" y="50389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19680" y="54198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8" name=""/>
            <p:cNvCxnSpPr>
              <a:stCxn id="666" idx="1"/>
            </p:cNvCxnSpPr>
            <p:nvPr/>
          </p:nvCxnSpPr>
          <p:spPr>
            <a:xfrm flipH="1" flipV="1">
              <a:off x="3004920" y="4009320"/>
              <a:ext cx="937440" cy="10515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cxnSp>
        <p:nvCxnSpPr>
          <p:cNvPr id="669" name=""/>
          <p:cNvCxnSpPr>
            <a:stCxn id="660" idx="2"/>
            <a:endCxn id="656" idx="0"/>
          </p:cNvCxnSpPr>
          <p:nvPr/>
        </p:nvCxnSpPr>
        <p:spPr>
          <a:xfrm flipH="1">
            <a:off x="3009240" y="2514240"/>
            <a:ext cx="896040" cy="872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43400" y="4848120"/>
            <a:ext cx="762120" cy="1368000"/>
            <a:chOff x="4343400" y="4848120"/>
            <a:chExt cx="762120" cy="1368000"/>
          </a:xfrm>
        </p:grpSpPr>
        <p:sp>
          <p:nvSpPr>
            <p:cNvPr id="673" name=""/>
            <p:cNvSpPr/>
            <p:nvPr/>
          </p:nvSpPr>
          <p:spPr>
            <a:xfrm>
              <a:off x="434340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892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648320" y="5038920"/>
              <a:ext cx="152280" cy="533160"/>
              <a:chOff x="4648320" y="5038920"/>
              <a:chExt cx="152280" cy="533160"/>
            </a:xfrm>
          </p:grpSpPr>
          <p:sp>
            <p:nvSpPr>
              <p:cNvPr id="676" name=""/>
              <p:cNvSpPr/>
              <p:nvPr/>
            </p:nvSpPr>
            <p:spPr>
              <a:xfrm>
                <a:off x="464832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4832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7"/>
            <a:endCxn id="680" idx="2"/>
          </p:cNvCxnSpPr>
          <p:nvPr/>
        </p:nvCxnSpPr>
        <p:spPr>
          <a:xfrm flipV="1">
            <a:off x="3328920" y="283788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81" name=""/>
          <p:cNvGrpSpPr/>
          <p:nvPr/>
        </p:nvGrpSpPr>
        <p:grpSpPr>
          <a:xfrm>
            <a:off x="3836880" y="1828800"/>
            <a:ext cx="762120" cy="990720"/>
            <a:chOff x="3836880" y="1828800"/>
            <a:chExt cx="762120" cy="990720"/>
          </a:xfrm>
        </p:grpSpPr>
        <p:sp>
          <p:nvSpPr>
            <p:cNvPr id="680" name=""/>
            <p:cNvSpPr/>
            <p:nvPr/>
          </p:nvSpPr>
          <p:spPr>
            <a:xfrm>
              <a:off x="38368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924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418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4" name=""/>
          <p:cNvCxnSpPr>
            <a:stCxn id="683" idx="6"/>
            <a:endCxn id="685" idx="1"/>
          </p:cNvCxnSpPr>
          <p:nvPr/>
        </p:nvCxnSpPr>
        <p:spPr>
          <a:xfrm>
            <a:off x="4293720" y="2514240"/>
            <a:ext cx="82476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6" idx="1"/>
            <a:endCxn id="685" idx="4"/>
          </p:cNvCxnSpPr>
          <p:nvPr/>
        </p:nvCxnSpPr>
        <p:spPr>
          <a:xfrm flipV="1">
            <a:off x="4669920" y="3999960"/>
            <a:ext cx="69156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87" name=""/>
          <p:cNvGrpSpPr/>
          <p:nvPr/>
        </p:nvGrpSpPr>
        <p:grpSpPr>
          <a:xfrm>
            <a:off x="2743200" y="3390840"/>
            <a:ext cx="936360" cy="614520"/>
            <a:chOff x="2743200" y="3390840"/>
            <a:chExt cx="936360" cy="614520"/>
          </a:xfrm>
        </p:grpSpPr>
        <p:sp>
          <p:nvSpPr>
            <p:cNvPr id="679" name=""/>
            <p:cNvSpPr/>
            <p:nvPr/>
          </p:nvSpPr>
          <p:spPr>
            <a:xfrm>
              <a:off x="274320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8" name=""/>
            <p:cNvGraphicFramePr/>
            <p:nvPr/>
          </p:nvGraphicFramePr>
          <p:xfrm>
            <a:off x="329868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868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0" name=""/>
          <p:cNvGrpSpPr/>
          <p:nvPr/>
        </p:nvGrpSpPr>
        <p:grpSpPr>
          <a:xfrm>
            <a:off x="5018040" y="3390840"/>
            <a:ext cx="925560" cy="609840"/>
            <a:chOff x="5018040" y="3390840"/>
            <a:chExt cx="925560" cy="609840"/>
          </a:xfrm>
        </p:grpSpPr>
        <p:sp>
          <p:nvSpPr>
            <p:cNvPr id="685" name=""/>
            <p:cNvSpPr/>
            <p:nvPr/>
          </p:nvSpPr>
          <p:spPr>
            <a:xfrm>
              <a:off x="50180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"/>
            <p:cNvGraphicFramePr/>
            <p:nvPr/>
          </p:nvGraphicFramePr>
          <p:xfrm>
            <a:off x="55627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3" name=""/>
          <p:cNvSpPr/>
          <p:nvPr/>
        </p:nvSpPr>
        <p:spPr>
          <a:xfrm>
            <a:off x="58672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7" idx="6"/>
            <a:endCxn id="693" idx="2"/>
          </p:cNvCxnSpPr>
          <p:nvPr/>
        </p:nvCxnSpPr>
        <p:spPr>
          <a:xfrm flipV="1">
            <a:off x="4800240" y="4800240"/>
            <a:ext cx="106740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95" name=""/>
          <p:cNvGrpSpPr/>
          <p:nvPr/>
        </p:nvGrpSpPr>
        <p:grpSpPr>
          <a:xfrm>
            <a:off x="3124080" y="4848120"/>
            <a:ext cx="761760" cy="1072440"/>
            <a:chOff x="3124080" y="4848120"/>
            <a:chExt cx="761760" cy="1072440"/>
          </a:xfrm>
        </p:grpSpPr>
        <p:grpSp>
          <p:nvGrpSpPr>
            <p:cNvPr id="696" name=""/>
            <p:cNvGrpSpPr/>
            <p:nvPr/>
          </p:nvGrpSpPr>
          <p:grpSpPr>
            <a:xfrm>
              <a:off x="3124080" y="4848120"/>
              <a:ext cx="761760" cy="1072440"/>
              <a:chOff x="3124080" y="4848120"/>
              <a:chExt cx="761760" cy="1072440"/>
            </a:xfrm>
          </p:grpSpPr>
          <p:sp>
            <p:nvSpPr>
              <p:cNvPr id="697" name=""/>
              <p:cNvSpPr/>
              <p:nvPr/>
            </p:nvSpPr>
            <p:spPr>
              <a:xfrm>
                <a:off x="3124080" y="484812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79600" y="54799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3428640" y="50767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0" name=""/>
          <p:cNvCxnSpPr>
            <a:stCxn id="685" idx="3"/>
            <a:endCxn id="697" idx="0"/>
          </p:cNvCxnSpPr>
          <p:nvPr/>
        </p:nvCxnSpPr>
        <p:spPr>
          <a:xfrm flipH="1">
            <a:off x="3504960" y="3911760"/>
            <a:ext cx="16135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9" idx="2"/>
            <a:endCxn id="679" idx="4"/>
          </p:cNvCxnSpPr>
          <p:nvPr/>
        </p:nvCxnSpPr>
        <p:spPr>
          <a:xfrm flipH="1" flipV="1">
            <a:off x="3085920" y="400032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3581280" y="3162240"/>
            <a:ext cx="1371600" cy="127008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876920" y="2362320"/>
            <a:ext cx="1752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08120"/>
            <a:ext cx="13716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97" y="39538"/>
                </a:moveTo>
                <a:lnTo>
                  <a:pt x="-1200" y="6028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71600" y="5562720"/>
            <a:ext cx="1447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92" y="-18717"/>
                </a:moveTo>
                <a:lnTo>
                  <a:pt x="22737" y="3456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25440" y="1914480"/>
            <a:ext cx="2467080" cy="1565280"/>
            <a:chOff x="1225440" y="1914480"/>
            <a:chExt cx="2467080" cy="1565280"/>
          </a:xfrm>
        </p:grpSpPr>
        <p:sp>
          <p:nvSpPr>
            <p:cNvPr id="89" name=""/>
            <p:cNvSpPr/>
            <p:nvPr/>
          </p:nvSpPr>
          <p:spPr>
            <a:xfrm>
              <a:off x="2851200" y="2046240"/>
              <a:ext cx="199800" cy="698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5440" y="25779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5440" y="2654280"/>
              <a:ext cx="122400" cy="16812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5440" y="2814480"/>
              <a:ext cx="122400" cy="6840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5440" y="2879640"/>
              <a:ext cx="130320" cy="2088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49280" y="2570040"/>
              <a:ext cx="200160" cy="33048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0440" y="2484360"/>
              <a:ext cx="325440" cy="15732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60440" y="258444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0440" y="2793960"/>
              <a:ext cx="223920" cy="889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287820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84360" y="247500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6960" y="2330280"/>
              <a:ext cx="539640" cy="23832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6960" y="2467080"/>
              <a:ext cx="397080" cy="3222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6960" y="2757600"/>
              <a:ext cx="397080" cy="1220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6960" y="287496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4040" y="2314440"/>
              <a:ext cx="365040" cy="60192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3240" y="309096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5400" y="1914480"/>
              <a:ext cx="235080" cy="203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1920" y="267012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8080" y="213516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2200" y="2136600"/>
              <a:ext cx="466920" cy="6066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71760" y="206532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6080" y="2065320"/>
              <a:ext cx="482760" cy="665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8720" y="265896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17880" y="29145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3080" y="294480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51200" y="210672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53040" y="1916280"/>
            <a:ext cx="2467080" cy="1566720"/>
            <a:chOff x="5153040" y="1916280"/>
            <a:chExt cx="2467080" cy="1566720"/>
          </a:xfrm>
        </p:grpSpPr>
        <p:sp>
          <p:nvSpPr>
            <p:cNvPr id="117" name=""/>
            <p:cNvSpPr/>
            <p:nvPr/>
          </p:nvSpPr>
          <p:spPr>
            <a:xfrm>
              <a:off x="5794200" y="2049480"/>
              <a:ext cx="200160" cy="69840"/>
            </a:xfrm>
            <a:custGeom>
              <a:avLst/>
              <a:gdLst/>
              <a:ahLst/>
              <a:rect l="l" t="t" r="r" b="b"/>
              <a:pathLst>
                <a:path w="504" h="176">
                  <a:moveTo>
                    <a:pt x="504" y="176"/>
                  </a:moveTo>
                  <a:lnTo>
                    <a:pt x="0" y="176"/>
                  </a:lnTo>
                  <a:lnTo>
                    <a:pt x="0" y="111"/>
                  </a:lnTo>
                  <a:lnTo>
                    <a:pt x="3" y="102"/>
                  </a:lnTo>
                  <a:lnTo>
                    <a:pt x="10" y="91"/>
                  </a:lnTo>
                  <a:lnTo>
                    <a:pt x="19" y="82"/>
                  </a:lnTo>
                  <a:lnTo>
                    <a:pt x="28" y="69"/>
                  </a:lnTo>
                  <a:lnTo>
                    <a:pt x="40" y="63"/>
                  </a:lnTo>
                  <a:lnTo>
                    <a:pt x="58" y="54"/>
                  </a:lnTo>
                  <a:lnTo>
                    <a:pt x="74" y="45"/>
                  </a:lnTo>
                  <a:lnTo>
                    <a:pt x="91" y="37"/>
                  </a:lnTo>
                  <a:lnTo>
                    <a:pt x="114" y="29"/>
                  </a:lnTo>
                  <a:lnTo>
                    <a:pt x="131" y="20"/>
                  </a:lnTo>
                  <a:lnTo>
                    <a:pt x="154" y="17"/>
                  </a:lnTo>
                  <a:lnTo>
                    <a:pt x="174" y="9"/>
                  </a:lnTo>
                  <a:lnTo>
                    <a:pt x="193" y="4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66" y="0"/>
                  </a:lnTo>
                  <a:lnTo>
                    <a:pt x="283" y="0"/>
                  </a:lnTo>
                  <a:lnTo>
                    <a:pt x="306" y="4"/>
                  </a:lnTo>
                  <a:lnTo>
                    <a:pt x="327" y="12"/>
                  </a:lnTo>
                  <a:lnTo>
                    <a:pt x="348" y="17"/>
                  </a:lnTo>
                  <a:lnTo>
                    <a:pt x="369" y="24"/>
                  </a:lnTo>
                  <a:lnTo>
                    <a:pt x="392" y="29"/>
                  </a:lnTo>
                  <a:lnTo>
                    <a:pt x="408" y="37"/>
                  </a:lnTo>
                  <a:lnTo>
                    <a:pt x="431" y="45"/>
                  </a:lnTo>
                  <a:lnTo>
                    <a:pt x="449" y="57"/>
                  </a:lnTo>
                  <a:lnTo>
                    <a:pt x="464" y="66"/>
                  </a:lnTo>
                  <a:lnTo>
                    <a:pt x="476" y="74"/>
                  </a:lnTo>
                  <a:lnTo>
                    <a:pt x="488" y="82"/>
                  </a:lnTo>
                  <a:lnTo>
                    <a:pt x="497" y="94"/>
                  </a:lnTo>
                  <a:lnTo>
                    <a:pt x="504" y="102"/>
                  </a:lnTo>
                  <a:lnTo>
                    <a:pt x="504" y="111"/>
                  </a:lnTo>
                  <a:lnTo>
                    <a:pt x="504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16720" y="25797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1">
                  <a:moveTo>
                    <a:pt x="0" y="0"/>
                  </a:moveTo>
                  <a:lnTo>
                    <a:pt x="367" y="133"/>
                  </a:lnTo>
                  <a:lnTo>
                    <a:pt x="381" y="137"/>
                  </a:lnTo>
                  <a:lnTo>
                    <a:pt x="391" y="141"/>
                  </a:lnTo>
                  <a:lnTo>
                    <a:pt x="402" y="145"/>
                  </a:lnTo>
                  <a:lnTo>
                    <a:pt x="412" y="153"/>
                  </a:lnTo>
                  <a:lnTo>
                    <a:pt x="421" y="158"/>
                  </a:lnTo>
                  <a:lnTo>
                    <a:pt x="430" y="166"/>
                  </a:lnTo>
                  <a:lnTo>
                    <a:pt x="436" y="170"/>
                  </a:lnTo>
                  <a:lnTo>
                    <a:pt x="442" y="176"/>
                  </a:lnTo>
                  <a:lnTo>
                    <a:pt x="452" y="188"/>
                  </a:lnTo>
                  <a:lnTo>
                    <a:pt x="464" y="195"/>
                  </a:lnTo>
                  <a:lnTo>
                    <a:pt x="473" y="207"/>
                  </a:lnTo>
                  <a:lnTo>
                    <a:pt x="486" y="220"/>
                  </a:lnTo>
                  <a:lnTo>
                    <a:pt x="492" y="232"/>
                  </a:lnTo>
                  <a:lnTo>
                    <a:pt x="500" y="241"/>
                  </a:lnTo>
                  <a:lnTo>
                    <a:pt x="507" y="253"/>
                  </a:lnTo>
                  <a:lnTo>
                    <a:pt x="509" y="261"/>
                  </a:lnTo>
                  <a:lnTo>
                    <a:pt x="202" y="190"/>
                  </a:lnTo>
                  <a:lnTo>
                    <a:pt x="6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7720" y="2655720"/>
              <a:ext cx="122400" cy="168480"/>
            </a:xfrm>
            <a:custGeom>
              <a:avLst/>
              <a:gdLst/>
              <a:ahLst/>
              <a:rect l="l" t="t" r="r" b="b"/>
              <a:pathLst>
                <a:path w="306" h="424">
                  <a:moveTo>
                    <a:pt x="0" y="0"/>
                  </a:moveTo>
                  <a:lnTo>
                    <a:pt x="0" y="404"/>
                  </a:lnTo>
                  <a:lnTo>
                    <a:pt x="306" y="424"/>
                  </a:lnTo>
                  <a:lnTo>
                    <a:pt x="30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7720" y="2816280"/>
              <a:ext cx="122400" cy="6804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0" y="0"/>
                  </a:moveTo>
                  <a:lnTo>
                    <a:pt x="306" y="26"/>
                  </a:lnTo>
                  <a:lnTo>
                    <a:pt x="306" y="174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9800" y="2881440"/>
              <a:ext cx="130320" cy="20520"/>
            </a:xfrm>
            <a:custGeom>
              <a:avLst/>
              <a:gdLst/>
              <a:ahLst/>
              <a:rect l="l" t="t" r="r" b="b"/>
              <a:pathLst>
                <a:path w="326" h="53">
                  <a:moveTo>
                    <a:pt x="0" y="53"/>
                  </a:moveTo>
                  <a:lnTo>
                    <a:pt x="15" y="0"/>
                  </a:lnTo>
                  <a:lnTo>
                    <a:pt x="326" y="8"/>
                  </a:lnTo>
                  <a:lnTo>
                    <a:pt x="323" y="21"/>
                  </a:lnTo>
                  <a:lnTo>
                    <a:pt x="320" y="33"/>
                  </a:lnTo>
                  <a:lnTo>
                    <a:pt x="314" y="42"/>
                  </a:lnTo>
                  <a:lnTo>
                    <a:pt x="305" y="4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96120" y="2571840"/>
              <a:ext cx="200160" cy="331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491" y="834"/>
                  </a:moveTo>
                  <a:lnTo>
                    <a:pt x="497" y="830"/>
                  </a:lnTo>
                  <a:lnTo>
                    <a:pt x="504" y="822"/>
                  </a:lnTo>
                  <a:lnTo>
                    <a:pt x="506" y="805"/>
                  </a:lnTo>
                  <a:lnTo>
                    <a:pt x="506" y="779"/>
                  </a:lnTo>
                  <a:lnTo>
                    <a:pt x="506" y="614"/>
                  </a:lnTo>
                  <a:lnTo>
                    <a:pt x="506" y="211"/>
                  </a:lnTo>
                  <a:lnTo>
                    <a:pt x="506" y="188"/>
                  </a:lnTo>
                  <a:lnTo>
                    <a:pt x="499" y="163"/>
                  </a:lnTo>
                  <a:lnTo>
                    <a:pt x="491" y="141"/>
                  </a:lnTo>
                  <a:lnTo>
                    <a:pt x="476" y="120"/>
                  </a:lnTo>
                  <a:lnTo>
                    <a:pt x="460" y="103"/>
                  </a:lnTo>
                  <a:lnTo>
                    <a:pt x="443" y="88"/>
                  </a:lnTo>
                  <a:lnTo>
                    <a:pt x="424" y="71"/>
                  </a:lnTo>
                  <a:lnTo>
                    <a:pt x="403" y="57"/>
                  </a:lnTo>
                  <a:lnTo>
                    <a:pt x="378" y="46"/>
                  </a:lnTo>
                  <a:lnTo>
                    <a:pt x="358" y="37"/>
                  </a:lnTo>
                  <a:lnTo>
                    <a:pt x="333" y="28"/>
                  </a:lnTo>
                  <a:lnTo>
                    <a:pt x="308" y="20"/>
                  </a:lnTo>
                  <a:lnTo>
                    <a:pt x="284" y="12"/>
                  </a:lnTo>
                  <a:lnTo>
                    <a:pt x="259" y="8"/>
                  </a:lnTo>
                  <a:lnTo>
                    <a:pt x="238" y="4"/>
                  </a:lnTo>
                  <a:lnTo>
                    <a:pt x="216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3" y="4"/>
                  </a:lnTo>
                  <a:lnTo>
                    <a:pt x="134" y="8"/>
                  </a:lnTo>
                  <a:lnTo>
                    <a:pt x="115" y="17"/>
                  </a:lnTo>
                  <a:lnTo>
                    <a:pt x="97" y="25"/>
                  </a:lnTo>
                  <a:lnTo>
                    <a:pt x="82" y="34"/>
                  </a:lnTo>
                  <a:lnTo>
                    <a:pt x="63" y="43"/>
                  </a:lnTo>
                  <a:lnTo>
                    <a:pt x="49" y="55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3" y="96"/>
                  </a:lnTo>
                  <a:lnTo>
                    <a:pt x="7" y="112"/>
                  </a:lnTo>
                  <a:lnTo>
                    <a:pt x="2" y="128"/>
                  </a:lnTo>
                  <a:lnTo>
                    <a:pt x="0" y="145"/>
                  </a:lnTo>
                  <a:lnTo>
                    <a:pt x="0" y="834"/>
                  </a:lnTo>
                  <a:lnTo>
                    <a:pt x="491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59680" y="2486160"/>
              <a:ext cx="325440" cy="15696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0" y="0"/>
                  </a:moveTo>
                  <a:lnTo>
                    <a:pt x="638" y="228"/>
                  </a:lnTo>
                  <a:lnTo>
                    <a:pt x="652" y="232"/>
                  </a:lnTo>
                  <a:lnTo>
                    <a:pt x="671" y="241"/>
                  </a:lnTo>
                  <a:lnTo>
                    <a:pt x="683" y="249"/>
                  </a:lnTo>
                  <a:lnTo>
                    <a:pt x="696" y="253"/>
                  </a:lnTo>
                  <a:lnTo>
                    <a:pt x="708" y="261"/>
                  </a:lnTo>
                  <a:lnTo>
                    <a:pt x="716" y="269"/>
                  </a:lnTo>
                  <a:lnTo>
                    <a:pt x="726" y="273"/>
                  </a:lnTo>
                  <a:lnTo>
                    <a:pt x="735" y="281"/>
                  </a:lnTo>
                  <a:lnTo>
                    <a:pt x="748" y="294"/>
                  </a:lnTo>
                  <a:lnTo>
                    <a:pt x="762" y="312"/>
                  </a:lnTo>
                  <a:lnTo>
                    <a:pt x="778" y="324"/>
                  </a:lnTo>
                  <a:lnTo>
                    <a:pt x="790" y="341"/>
                  </a:lnTo>
                  <a:lnTo>
                    <a:pt x="802" y="357"/>
                  </a:lnTo>
                  <a:lnTo>
                    <a:pt x="811" y="369"/>
                  </a:lnTo>
                  <a:lnTo>
                    <a:pt x="817" y="381"/>
                  </a:lnTo>
                  <a:lnTo>
                    <a:pt x="823" y="394"/>
                  </a:lnTo>
                  <a:lnTo>
                    <a:pt x="260" y="253"/>
                  </a:lnTo>
                  <a:lnTo>
                    <a:pt x="8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61200" y="258588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0" y="0"/>
                  </a:moveTo>
                  <a:lnTo>
                    <a:pt x="0" y="528"/>
                  </a:lnTo>
                  <a:lnTo>
                    <a:pt x="564" y="552"/>
                  </a:lnTo>
                  <a:lnTo>
                    <a:pt x="564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1200" y="2797200"/>
              <a:ext cx="223920" cy="871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0" y="0"/>
                  </a:moveTo>
                  <a:lnTo>
                    <a:pt x="564" y="30"/>
                  </a:lnTo>
                  <a:lnTo>
                    <a:pt x="564" y="223"/>
                  </a:lnTo>
                  <a:lnTo>
                    <a:pt x="0" y="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3280" y="288144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0" y="73"/>
                  </a:moveTo>
                  <a:lnTo>
                    <a:pt x="22" y="0"/>
                  </a:lnTo>
                  <a:lnTo>
                    <a:pt x="585" y="12"/>
                  </a:lnTo>
                  <a:lnTo>
                    <a:pt x="582" y="28"/>
                  </a:lnTo>
                  <a:lnTo>
                    <a:pt x="576" y="45"/>
                  </a:lnTo>
                  <a:lnTo>
                    <a:pt x="566" y="53"/>
                  </a:lnTo>
                  <a:lnTo>
                    <a:pt x="557" y="5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97680" y="247644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1">
                  <a:moveTo>
                    <a:pt x="644" y="1091"/>
                  </a:moveTo>
                  <a:lnTo>
                    <a:pt x="653" y="1083"/>
                  </a:lnTo>
                  <a:lnTo>
                    <a:pt x="661" y="1071"/>
                  </a:lnTo>
                  <a:lnTo>
                    <a:pt x="665" y="1051"/>
                  </a:lnTo>
                  <a:lnTo>
                    <a:pt x="665" y="1018"/>
                  </a:lnTo>
                  <a:lnTo>
                    <a:pt x="665" y="806"/>
                  </a:lnTo>
                  <a:lnTo>
                    <a:pt x="665" y="279"/>
                  </a:lnTo>
                  <a:lnTo>
                    <a:pt x="661" y="241"/>
                  </a:lnTo>
                  <a:lnTo>
                    <a:pt x="655" y="212"/>
                  </a:lnTo>
                  <a:lnTo>
                    <a:pt x="644" y="184"/>
                  </a:lnTo>
                  <a:lnTo>
                    <a:pt x="625" y="153"/>
                  </a:lnTo>
                  <a:lnTo>
                    <a:pt x="606" y="133"/>
                  </a:lnTo>
                  <a:lnTo>
                    <a:pt x="583" y="112"/>
                  </a:lnTo>
                  <a:lnTo>
                    <a:pt x="555" y="91"/>
                  </a:lnTo>
                  <a:lnTo>
                    <a:pt x="528" y="76"/>
                  </a:lnTo>
                  <a:lnTo>
                    <a:pt x="497" y="59"/>
                  </a:lnTo>
                  <a:lnTo>
                    <a:pt x="467" y="46"/>
                  </a:lnTo>
                  <a:lnTo>
                    <a:pt x="433" y="34"/>
                  </a:lnTo>
                  <a:lnTo>
                    <a:pt x="402" y="26"/>
                  </a:lnTo>
                  <a:lnTo>
                    <a:pt x="371" y="16"/>
                  </a:lnTo>
                  <a:lnTo>
                    <a:pt x="338" y="8"/>
                  </a:lnTo>
                  <a:lnTo>
                    <a:pt x="311" y="4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44" y="0"/>
                  </a:lnTo>
                  <a:lnTo>
                    <a:pt x="223" y="0"/>
                  </a:lnTo>
                  <a:lnTo>
                    <a:pt x="201" y="4"/>
                  </a:lnTo>
                  <a:lnTo>
                    <a:pt x="177" y="14"/>
                  </a:lnTo>
                  <a:lnTo>
                    <a:pt x="153" y="22"/>
                  </a:lnTo>
                  <a:lnTo>
                    <a:pt x="131" y="31"/>
                  </a:lnTo>
                  <a:lnTo>
                    <a:pt x="106" y="42"/>
                  </a:lnTo>
                  <a:lnTo>
                    <a:pt x="85" y="54"/>
                  </a:lnTo>
                  <a:lnTo>
                    <a:pt x="65" y="71"/>
                  </a:lnTo>
                  <a:lnTo>
                    <a:pt x="46" y="88"/>
                  </a:lnTo>
                  <a:lnTo>
                    <a:pt x="31" y="104"/>
                  </a:lnTo>
                  <a:lnTo>
                    <a:pt x="18" y="121"/>
                  </a:lnTo>
                  <a:lnTo>
                    <a:pt x="9" y="142"/>
                  </a:lnTo>
                  <a:lnTo>
                    <a:pt x="4" y="167"/>
                  </a:lnTo>
                  <a:lnTo>
                    <a:pt x="0" y="187"/>
                  </a:lnTo>
                  <a:lnTo>
                    <a:pt x="0" y="1088"/>
                  </a:lnTo>
                  <a:lnTo>
                    <a:pt x="644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8600" y="2330280"/>
              <a:ext cx="540000" cy="23976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0" y="0"/>
                  </a:moveTo>
                  <a:lnTo>
                    <a:pt x="1099" y="369"/>
                  </a:lnTo>
                  <a:lnTo>
                    <a:pt x="1124" y="378"/>
                  </a:lnTo>
                  <a:lnTo>
                    <a:pt x="1146" y="386"/>
                  </a:lnTo>
                  <a:lnTo>
                    <a:pt x="1165" y="398"/>
                  </a:lnTo>
                  <a:lnTo>
                    <a:pt x="1182" y="406"/>
                  </a:lnTo>
                  <a:lnTo>
                    <a:pt x="1198" y="418"/>
                  </a:lnTo>
                  <a:lnTo>
                    <a:pt x="1212" y="427"/>
                  </a:lnTo>
                  <a:lnTo>
                    <a:pt x="1225" y="436"/>
                  </a:lnTo>
                  <a:lnTo>
                    <a:pt x="1235" y="444"/>
                  </a:lnTo>
                  <a:lnTo>
                    <a:pt x="1256" y="464"/>
                  </a:lnTo>
                  <a:lnTo>
                    <a:pt x="1274" y="486"/>
                  </a:lnTo>
                  <a:lnTo>
                    <a:pt x="1292" y="506"/>
                  </a:lnTo>
                  <a:lnTo>
                    <a:pt x="1311" y="526"/>
                  </a:lnTo>
                  <a:lnTo>
                    <a:pt x="1326" y="549"/>
                  </a:lnTo>
                  <a:lnTo>
                    <a:pt x="1342" y="569"/>
                  </a:lnTo>
                  <a:lnTo>
                    <a:pt x="1350" y="585"/>
                  </a:lnTo>
                  <a:lnTo>
                    <a:pt x="1359" y="602"/>
                  </a:lnTo>
                  <a:lnTo>
                    <a:pt x="359" y="348"/>
                  </a:lnTo>
                  <a:lnTo>
                    <a:pt x="11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1520" y="2470320"/>
              <a:ext cx="397080" cy="3204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0" y="0"/>
                  </a:moveTo>
                  <a:lnTo>
                    <a:pt x="0" y="731"/>
                  </a:lnTo>
                  <a:lnTo>
                    <a:pt x="1000" y="810"/>
                  </a:lnTo>
                  <a:lnTo>
                    <a:pt x="1000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1520" y="2760840"/>
              <a:ext cx="397080" cy="12060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0" y="0"/>
                  </a:moveTo>
                  <a:lnTo>
                    <a:pt x="1000" y="79"/>
                  </a:lnTo>
                  <a:lnTo>
                    <a:pt x="1000" y="305"/>
                  </a:lnTo>
                  <a:lnTo>
                    <a:pt x="0" y="2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38920" y="287640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0" y="105"/>
                  </a:moveTo>
                  <a:lnTo>
                    <a:pt x="30" y="0"/>
                  </a:lnTo>
                  <a:lnTo>
                    <a:pt x="1031" y="13"/>
                  </a:lnTo>
                  <a:lnTo>
                    <a:pt x="1028" y="26"/>
                  </a:lnTo>
                  <a:lnTo>
                    <a:pt x="1024" y="38"/>
                  </a:lnTo>
                  <a:lnTo>
                    <a:pt x="1021" y="51"/>
                  </a:lnTo>
                  <a:lnTo>
                    <a:pt x="1015" y="60"/>
                  </a:lnTo>
                  <a:lnTo>
                    <a:pt x="1009" y="66"/>
                  </a:lnTo>
                  <a:lnTo>
                    <a:pt x="1003" y="70"/>
                  </a:lnTo>
                  <a:lnTo>
                    <a:pt x="998" y="74"/>
                  </a:lnTo>
                  <a:lnTo>
                    <a:pt x="991" y="8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316240"/>
              <a:ext cx="365040" cy="60156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891" y="1516"/>
                  </a:moveTo>
                  <a:lnTo>
                    <a:pt x="895" y="1511"/>
                  </a:lnTo>
                  <a:lnTo>
                    <a:pt x="901" y="1507"/>
                  </a:lnTo>
                  <a:lnTo>
                    <a:pt x="907" y="1499"/>
                  </a:lnTo>
                  <a:lnTo>
                    <a:pt x="914" y="1485"/>
                  </a:lnTo>
                  <a:lnTo>
                    <a:pt x="918" y="1473"/>
                  </a:lnTo>
                  <a:lnTo>
                    <a:pt x="920" y="1456"/>
                  </a:lnTo>
                  <a:lnTo>
                    <a:pt x="920" y="1436"/>
                  </a:lnTo>
                  <a:lnTo>
                    <a:pt x="920" y="1411"/>
                  </a:lnTo>
                  <a:lnTo>
                    <a:pt x="920" y="1115"/>
                  </a:lnTo>
                  <a:lnTo>
                    <a:pt x="920" y="385"/>
                  </a:lnTo>
                  <a:lnTo>
                    <a:pt x="918" y="336"/>
                  </a:lnTo>
                  <a:lnTo>
                    <a:pt x="905" y="293"/>
                  </a:lnTo>
                  <a:lnTo>
                    <a:pt x="891" y="253"/>
                  </a:lnTo>
                  <a:lnTo>
                    <a:pt x="866" y="216"/>
                  </a:lnTo>
                  <a:lnTo>
                    <a:pt x="838" y="183"/>
                  </a:lnTo>
                  <a:lnTo>
                    <a:pt x="805" y="153"/>
                  </a:lnTo>
                  <a:lnTo>
                    <a:pt x="768" y="128"/>
                  </a:lnTo>
                  <a:lnTo>
                    <a:pt x="728" y="103"/>
                  </a:lnTo>
                  <a:lnTo>
                    <a:pt x="689" y="83"/>
                  </a:lnTo>
                  <a:lnTo>
                    <a:pt x="642" y="63"/>
                  </a:lnTo>
                  <a:lnTo>
                    <a:pt x="601" y="49"/>
                  </a:lnTo>
                  <a:lnTo>
                    <a:pt x="557" y="32"/>
                  </a:lnTo>
                  <a:lnTo>
                    <a:pt x="512" y="20"/>
                  </a:lnTo>
                  <a:lnTo>
                    <a:pt x="471" y="12"/>
                  </a:lnTo>
                  <a:lnTo>
                    <a:pt x="430" y="8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8" y="0"/>
                  </a:lnTo>
                  <a:lnTo>
                    <a:pt x="307" y="4"/>
                  </a:lnTo>
                  <a:lnTo>
                    <a:pt x="278" y="8"/>
                  </a:lnTo>
                  <a:lnTo>
                    <a:pt x="244" y="17"/>
                  </a:lnTo>
                  <a:lnTo>
                    <a:pt x="210" y="28"/>
                  </a:lnTo>
                  <a:lnTo>
                    <a:pt x="179" y="40"/>
                  </a:lnTo>
                  <a:lnTo>
                    <a:pt x="146" y="58"/>
                  </a:lnTo>
                  <a:lnTo>
                    <a:pt x="115" y="78"/>
                  </a:lnTo>
                  <a:lnTo>
                    <a:pt x="87" y="100"/>
                  </a:lnTo>
                  <a:lnTo>
                    <a:pt x="63" y="120"/>
                  </a:lnTo>
                  <a:lnTo>
                    <a:pt x="42" y="145"/>
                  </a:lnTo>
                  <a:lnTo>
                    <a:pt x="23" y="171"/>
                  </a:lnTo>
                  <a:lnTo>
                    <a:pt x="13" y="200"/>
                  </a:lnTo>
                  <a:lnTo>
                    <a:pt x="2" y="228"/>
                  </a:lnTo>
                  <a:lnTo>
                    <a:pt x="0" y="261"/>
                  </a:lnTo>
                  <a:lnTo>
                    <a:pt x="0" y="1511"/>
                  </a:lnTo>
                  <a:lnTo>
                    <a:pt x="891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78600" y="309240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0">
                  <a:moveTo>
                    <a:pt x="388" y="71"/>
                  </a:moveTo>
                  <a:lnTo>
                    <a:pt x="199" y="253"/>
                  </a:lnTo>
                  <a:lnTo>
                    <a:pt x="199" y="378"/>
                  </a:lnTo>
                  <a:lnTo>
                    <a:pt x="160" y="420"/>
                  </a:lnTo>
                  <a:lnTo>
                    <a:pt x="0" y="420"/>
                  </a:lnTo>
                  <a:lnTo>
                    <a:pt x="0" y="391"/>
                  </a:lnTo>
                  <a:lnTo>
                    <a:pt x="28" y="369"/>
                  </a:lnTo>
                  <a:lnTo>
                    <a:pt x="116" y="369"/>
                  </a:lnTo>
                  <a:lnTo>
                    <a:pt x="116" y="0"/>
                  </a:lnTo>
                  <a:lnTo>
                    <a:pt x="199" y="0"/>
                  </a:lnTo>
                  <a:lnTo>
                    <a:pt x="199" y="184"/>
                  </a:lnTo>
                  <a:lnTo>
                    <a:pt x="388" y="8"/>
                  </a:lnTo>
                  <a:lnTo>
                    <a:pt x="38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45080" y="1916280"/>
              <a:ext cx="235080" cy="20448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300" y="514"/>
                  </a:moveTo>
                  <a:lnTo>
                    <a:pt x="0" y="514"/>
                  </a:lnTo>
                  <a:lnTo>
                    <a:pt x="23" y="497"/>
                  </a:lnTo>
                  <a:lnTo>
                    <a:pt x="43" y="477"/>
                  </a:lnTo>
                  <a:lnTo>
                    <a:pt x="64" y="456"/>
                  </a:lnTo>
                  <a:lnTo>
                    <a:pt x="83" y="440"/>
                  </a:lnTo>
                  <a:lnTo>
                    <a:pt x="98" y="415"/>
                  </a:lnTo>
                  <a:lnTo>
                    <a:pt x="111" y="389"/>
                  </a:lnTo>
                  <a:lnTo>
                    <a:pt x="117" y="361"/>
                  </a:lnTo>
                  <a:lnTo>
                    <a:pt x="119" y="336"/>
                  </a:lnTo>
                  <a:lnTo>
                    <a:pt x="119" y="171"/>
                  </a:lnTo>
                  <a:lnTo>
                    <a:pt x="119" y="161"/>
                  </a:lnTo>
                  <a:lnTo>
                    <a:pt x="113" y="153"/>
                  </a:lnTo>
                  <a:lnTo>
                    <a:pt x="106" y="148"/>
                  </a:lnTo>
                  <a:lnTo>
                    <a:pt x="98" y="141"/>
                  </a:lnTo>
                  <a:lnTo>
                    <a:pt x="92" y="136"/>
                  </a:lnTo>
                  <a:lnTo>
                    <a:pt x="86" y="133"/>
                  </a:lnTo>
                  <a:lnTo>
                    <a:pt x="80" y="124"/>
                  </a:lnTo>
                  <a:lnTo>
                    <a:pt x="80" y="116"/>
                  </a:lnTo>
                  <a:lnTo>
                    <a:pt x="80" y="108"/>
                  </a:lnTo>
                  <a:lnTo>
                    <a:pt x="83" y="99"/>
                  </a:lnTo>
                  <a:lnTo>
                    <a:pt x="89" y="95"/>
                  </a:lnTo>
                  <a:lnTo>
                    <a:pt x="92" y="91"/>
                  </a:lnTo>
                  <a:lnTo>
                    <a:pt x="98" y="88"/>
                  </a:lnTo>
                  <a:lnTo>
                    <a:pt x="104" y="83"/>
                  </a:lnTo>
                  <a:lnTo>
                    <a:pt x="111" y="79"/>
                  </a:lnTo>
                  <a:lnTo>
                    <a:pt x="117" y="71"/>
                  </a:lnTo>
                  <a:lnTo>
                    <a:pt x="119" y="57"/>
                  </a:lnTo>
                  <a:lnTo>
                    <a:pt x="125" y="48"/>
                  </a:lnTo>
                  <a:lnTo>
                    <a:pt x="131" y="40"/>
                  </a:lnTo>
                  <a:lnTo>
                    <a:pt x="142" y="34"/>
                  </a:lnTo>
                  <a:lnTo>
                    <a:pt x="150" y="25"/>
                  </a:lnTo>
                  <a:lnTo>
                    <a:pt x="162" y="20"/>
                  </a:lnTo>
                  <a:lnTo>
                    <a:pt x="171" y="16"/>
                  </a:lnTo>
                  <a:lnTo>
                    <a:pt x="186" y="12"/>
                  </a:lnTo>
                  <a:lnTo>
                    <a:pt x="199" y="8"/>
                  </a:lnTo>
                  <a:lnTo>
                    <a:pt x="211" y="8"/>
                  </a:lnTo>
                  <a:lnTo>
                    <a:pt x="226" y="3"/>
                  </a:lnTo>
                  <a:lnTo>
                    <a:pt x="241" y="3"/>
                  </a:lnTo>
                  <a:lnTo>
                    <a:pt x="257" y="3"/>
                  </a:lnTo>
                  <a:lnTo>
                    <a:pt x="269" y="3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10" y="0"/>
                  </a:lnTo>
                  <a:lnTo>
                    <a:pt x="327" y="3"/>
                  </a:lnTo>
                  <a:lnTo>
                    <a:pt x="339" y="3"/>
                  </a:lnTo>
                  <a:lnTo>
                    <a:pt x="354" y="3"/>
                  </a:lnTo>
                  <a:lnTo>
                    <a:pt x="369" y="3"/>
                  </a:lnTo>
                  <a:lnTo>
                    <a:pt x="384" y="8"/>
                  </a:lnTo>
                  <a:lnTo>
                    <a:pt x="396" y="8"/>
                  </a:lnTo>
                  <a:lnTo>
                    <a:pt x="409" y="12"/>
                  </a:lnTo>
                  <a:lnTo>
                    <a:pt x="423" y="16"/>
                  </a:lnTo>
                  <a:lnTo>
                    <a:pt x="434" y="20"/>
                  </a:lnTo>
                  <a:lnTo>
                    <a:pt x="446" y="25"/>
                  </a:lnTo>
                  <a:lnTo>
                    <a:pt x="454" y="34"/>
                  </a:lnTo>
                  <a:lnTo>
                    <a:pt x="464" y="40"/>
                  </a:lnTo>
                  <a:lnTo>
                    <a:pt x="470" y="48"/>
                  </a:lnTo>
                  <a:lnTo>
                    <a:pt x="475" y="57"/>
                  </a:lnTo>
                  <a:lnTo>
                    <a:pt x="479" y="71"/>
                  </a:lnTo>
                  <a:lnTo>
                    <a:pt x="485" y="79"/>
                  </a:lnTo>
                  <a:lnTo>
                    <a:pt x="492" y="83"/>
                  </a:lnTo>
                  <a:lnTo>
                    <a:pt x="498" y="88"/>
                  </a:lnTo>
                  <a:lnTo>
                    <a:pt x="504" y="91"/>
                  </a:lnTo>
                  <a:lnTo>
                    <a:pt x="506" y="95"/>
                  </a:lnTo>
                  <a:lnTo>
                    <a:pt x="512" y="99"/>
                  </a:lnTo>
                  <a:lnTo>
                    <a:pt x="515" y="108"/>
                  </a:lnTo>
                  <a:lnTo>
                    <a:pt x="515" y="116"/>
                  </a:lnTo>
                  <a:lnTo>
                    <a:pt x="515" y="124"/>
                  </a:lnTo>
                  <a:lnTo>
                    <a:pt x="509" y="133"/>
                  </a:lnTo>
                  <a:lnTo>
                    <a:pt x="504" y="136"/>
                  </a:lnTo>
                  <a:lnTo>
                    <a:pt x="494" y="141"/>
                  </a:lnTo>
                  <a:lnTo>
                    <a:pt x="489" y="148"/>
                  </a:lnTo>
                  <a:lnTo>
                    <a:pt x="481" y="153"/>
                  </a:lnTo>
                  <a:lnTo>
                    <a:pt x="475" y="161"/>
                  </a:lnTo>
                  <a:lnTo>
                    <a:pt x="475" y="171"/>
                  </a:lnTo>
                  <a:lnTo>
                    <a:pt x="475" y="336"/>
                  </a:lnTo>
                  <a:lnTo>
                    <a:pt x="479" y="361"/>
                  </a:lnTo>
                  <a:lnTo>
                    <a:pt x="485" y="389"/>
                  </a:lnTo>
                  <a:lnTo>
                    <a:pt x="498" y="415"/>
                  </a:lnTo>
                  <a:lnTo>
                    <a:pt x="512" y="440"/>
                  </a:lnTo>
                  <a:lnTo>
                    <a:pt x="531" y="456"/>
                  </a:lnTo>
                  <a:lnTo>
                    <a:pt x="553" y="477"/>
                  </a:lnTo>
                  <a:lnTo>
                    <a:pt x="573" y="497"/>
                  </a:lnTo>
                  <a:lnTo>
                    <a:pt x="594" y="514"/>
                  </a:lnTo>
                  <a:lnTo>
                    <a:pt x="300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7400" y="267336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5838" y="564"/>
                  </a:moveTo>
                  <a:lnTo>
                    <a:pt x="3887" y="619"/>
                  </a:lnTo>
                  <a:lnTo>
                    <a:pt x="3723" y="477"/>
                  </a:lnTo>
                  <a:lnTo>
                    <a:pt x="3131" y="489"/>
                  </a:lnTo>
                  <a:lnTo>
                    <a:pt x="2912" y="33"/>
                  </a:lnTo>
                  <a:lnTo>
                    <a:pt x="447" y="0"/>
                  </a:lnTo>
                  <a:lnTo>
                    <a:pt x="0" y="0"/>
                  </a:lnTo>
                  <a:lnTo>
                    <a:pt x="0" y="1074"/>
                  </a:lnTo>
                  <a:lnTo>
                    <a:pt x="79" y="1074"/>
                  </a:lnTo>
                  <a:lnTo>
                    <a:pt x="63" y="1103"/>
                  </a:lnTo>
                  <a:lnTo>
                    <a:pt x="48" y="1145"/>
                  </a:lnTo>
                  <a:lnTo>
                    <a:pt x="34" y="1200"/>
                  </a:lnTo>
                  <a:lnTo>
                    <a:pt x="24" y="1257"/>
                  </a:lnTo>
                  <a:lnTo>
                    <a:pt x="15" y="1324"/>
                  </a:lnTo>
                  <a:lnTo>
                    <a:pt x="9" y="1394"/>
                  </a:lnTo>
                  <a:lnTo>
                    <a:pt x="6" y="1469"/>
                  </a:lnTo>
                  <a:lnTo>
                    <a:pt x="6" y="1543"/>
                  </a:lnTo>
                  <a:lnTo>
                    <a:pt x="9" y="1614"/>
                  </a:lnTo>
                  <a:lnTo>
                    <a:pt x="15" y="1686"/>
                  </a:lnTo>
                  <a:lnTo>
                    <a:pt x="24" y="1751"/>
                  </a:lnTo>
                  <a:lnTo>
                    <a:pt x="36" y="1810"/>
                  </a:lnTo>
                  <a:lnTo>
                    <a:pt x="55" y="1859"/>
                  </a:lnTo>
                  <a:lnTo>
                    <a:pt x="73" y="1901"/>
                  </a:lnTo>
                  <a:lnTo>
                    <a:pt x="97" y="1927"/>
                  </a:lnTo>
                  <a:lnTo>
                    <a:pt x="125" y="1939"/>
                  </a:lnTo>
                  <a:lnTo>
                    <a:pt x="174" y="2029"/>
                  </a:lnTo>
                  <a:lnTo>
                    <a:pt x="811" y="2041"/>
                  </a:lnTo>
                  <a:lnTo>
                    <a:pt x="1157" y="1996"/>
                  </a:lnTo>
                  <a:lnTo>
                    <a:pt x="5796" y="847"/>
                  </a:lnTo>
                  <a:lnTo>
                    <a:pt x="5811" y="839"/>
                  </a:lnTo>
                  <a:lnTo>
                    <a:pt x="5820" y="812"/>
                  </a:lnTo>
                  <a:lnTo>
                    <a:pt x="5826" y="784"/>
                  </a:lnTo>
                  <a:lnTo>
                    <a:pt x="5830" y="751"/>
                  </a:lnTo>
                  <a:lnTo>
                    <a:pt x="5830" y="719"/>
                  </a:lnTo>
                  <a:lnTo>
                    <a:pt x="5826" y="688"/>
                  </a:lnTo>
                  <a:lnTo>
                    <a:pt x="5824" y="668"/>
                  </a:lnTo>
                  <a:lnTo>
                    <a:pt x="5820" y="656"/>
                  </a:lnTo>
                  <a:lnTo>
                    <a:pt x="5838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1560" y="213660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974" y="521"/>
                  </a:moveTo>
                  <a:lnTo>
                    <a:pt x="671" y="444"/>
                  </a:lnTo>
                  <a:lnTo>
                    <a:pt x="653" y="430"/>
                  </a:lnTo>
                  <a:lnTo>
                    <a:pt x="632" y="419"/>
                  </a:lnTo>
                  <a:lnTo>
                    <a:pt x="611" y="401"/>
                  </a:lnTo>
                  <a:lnTo>
                    <a:pt x="593" y="389"/>
                  </a:lnTo>
                  <a:lnTo>
                    <a:pt x="571" y="376"/>
                  </a:lnTo>
                  <a:lnTo>
                    <a:pt x="549" y="361"/>
                  </a:lnTo>
                  <a:lnTo>
                    <a:pt x="527" y="348"/>
                  </a:lnTo>
                  <a:lnTo>
                    <a:pt x="507" y="331"/>
                  </a:lnTo>
                  <a:lnTo>
                    <a:pt x="486" y="319"/>
                  </a:lnTo>
                  <a:lnTo>
                    <a:pt x="463" y="307"/>
                  </a:lnTo>
                  <a:lnTo>
                    <a:pt x="442" y="293"/>
                  </a:lnTo>
                  <a:lnTo>
                    <a:pt x="422" y="276"/>
                  </a:lnTo>
                  <a:lnTo>
                    <a:pt x="400" y="264"/>
                  </a:lnTo>
                  <a:lnTo>
                    <a:pt x="379" y="253"/>
                  </a:lnTo>
                  <a:lnTo>
                    <a:pt x="358" y="236"/>
                  </a:lnTo>
                  <a:lnTo>
                    <a:pt x="336" y="223"/>
                  </a:lnTo>
                  <a:lnTo>
                    <a:pt x="315" y="211"/>
                  </a:lnTo>
                  <a:lnTo>
                    <a:pt x="293" y="194"/>
                  </a:lnTo>
                  <a:lnTo>
                    <a:pt x="272" y="183"/>
                  </a:lnTo>
                  <a:lnTo>
                    <a:pt x="251" y="168"/>
                  </a:lnTo>
                  <a:lnTo>
                    <a:pt x="229" y="154"/>
                  </a:lnTo>
                  <a:lnTo>
                    <a:pt x="208" y="140"/>
                  </a:lnTo>
                  <a:lnTo>
                    <a:pt x="186" y="123"/>
                  </a:lnTo>
                  <a:lnTo>
                    <a:pt x="165" y="111"/>
                  </a:lnTo>
                  <a:lnTo>
                    <a:pt x="144" y="99"/>
                  </a:lnTo>
                  <a:lnTo>
                    <a:pt x="122" y="83"/>
                  </a:lnTo>
                  <a:lnTo>
                    <a:pt x="101" y="68"/>
                  </a:lnTo>
                  <a:lnTo>
                    <a:pt x="83" y="58"/>
                  </a:lnTo>
                  <a:lnTo>
                    <a:pt x="61" y="40"/>
                  </a:lnTo>
                  <a:lnTo>
                    <a:pt x="40" y="28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56" y="3"/>
                  </a:lnTo>
                  <a:lnTo>
                    <a:pt x="86" y="3"/>
                  </a:lnTo>
                  <a:lnTo>
                    <a:pt x="116" y="7"/>
                  </a:lnTo>
                  <a:lnTo>
                    <a:pt x="150" y="7"/>
                  </a:lnTo>
                  <a:lnTo>
                    <a:pt x="184" y="11"/>
                  </a:lnTo>
                  <a:lnTo>
                    <a:pt x="217" y="15"/>
                  </a:lnTo>
                  <a:lnTo>
                    <a:pt x="251" y="20"/>
                  </a:lnTo>
                  <a:lnTo>
                    <a:pt x="287" y="28"/>
                  </a:lnTo>
                  <a:lnTo>
                    <a:pt x="321" y="38"/>
                  </a:lnTo>
                  <a:lnTo>
                    <a:pt x="358" y="46"/>
                  </a:lnTo>
                  <a:lnTo>
                    <a:pt x="391" y="52"/>
                  </a:lnTo>
                  <a:lnTo>
                    <a:pt x="428" y="66"/>
                  </a:lnTo>
                  <a:lnTo>
                    <a:pt x="463" y="74"/>
                  </a:lnTo>
                  <a:lnTo>
                    <a:pt x="498" y="86"/>
                  </a:lnTo>
                  <a:lnTo>
                    <a:pt x="535" y="103"/>
                  </a:lnTo>
                  <a:lnTo>
                    <a:pt x="568" y="115"/>
                  </a:lnTo>
                  <a:lnTo>
                    <a:pt x="605" y="131"/>
                  </a:lnTo>
                  <a:lnTo>
                    <a:pt x="638" y="154"/>
                  </a:lnTo>
                  <a:lnTo>
                    <a:pt x="668" y="168"/>
                  </a:lnTo>
                  <a:lnTo>
                    <a:pt x="701" y="191"/>
                  </a:lnTo>
                  <a:lnTo>
                    <a:pt x="732" y="211"/>
                  </a:lnTo>
                  <a:lnTo>
                    <a:pt x="763" y="236"/>
                  </a:lnTo>
                  <a:lnTo>
                    <a:pt x="794" y="261"/>
                  </a:lnTo>
                  <a:lnTo>
                    <a:pt x="821" y="285"/>
                  </a:lnTo>
                  <a:lnTo>
                    <a:pt x="848" y="319"/>
                  </a:lnTo>
                  <a:lnTo>
                    <a:pt x="872" y="348"/>
                  </a:lnTo>
                  <a:lnTo>
                    <a:pt x="897" y="376"/>
                  </a:lnTo>
                  <a:lnTo>
                    <a:pt x="918" y="415"/>
                  </a:lnTo>
                  <a:lnTo>
                    <a:pt x="941" y="447"/>
                  </a:lnTo>
                  <a:lnTo>
                    <a:pt x="955" y="484"/>
                  </a:lnTo>
                  <a:lnTo>
                    <a:pt x="974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6440" y="2136600"/>
              <a:ext cx="466920" cy="60804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0" y="363"/>
                  </a:moveTo>
                  <a:lnTo>
                    <a:pt x="6" y="318"/>
                  </a:lnTo>
                  <a:lnTo>
                    <a:pt x="15" y="276"/>
                  </a:lnTo>
                  <a:lnTo>
                    <a:pt x="34" y="238"/>
                  </a:lnTo>
                  <a:lnTo>
                    <a:pt x="59" y="198"/>
                  </a:lnTo>
                  <a:lnTo>
                    <a:pt x="86" y="165"/>
                  </a:lnTo>
                  <a:lnTo>
                    <a:pt x="119" y="136"/>
                  </a:lnTo>
                  <a:lnTo>
                    <a:pt x="155" y="105"/>
                  </a:lnTo>
                  <a:lnTo>
                    <a:pt x="192" y="82"/>
                  </a:lnTo>
                  <a:lnTo>
                    <a:pt x="234" y="60"/>
                  </a:lnTo>
                  <a:lnTo>
                    <a:pt x="277" y="40"/>
                  </a:lnTo>
                  <a:lnTo>
                    <a:pt x="320" y="22"/>
                  </a:lnTo>
                  <a:lnTo>
                    <a:pt x="363" y="10"/>
                  </a:lnTo>
                  <a:lnTo>
                    <a:pt x="409" y="2"/>
                  </a:lnTo>
                  <a:lnTo>
                    <a:pt x="448" y="0"/>
                  </a:lnTo>
                  <a:lnTo>
                    <a:pt x="489" y="0"/>
                  </a:lnTo>
                  <a:lnTo>
                    <a:pt x="524" y="0"/>
                  </a:lnTo>
                  <a:lnTo>
                    <a:pt x="547" y="2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22" y="14"/>
                  </a:lnTo>
                  <a:lnTo>
                    <a:pt x="647" y="20"/>
                  </a:lnTo>
                  <a:lnTo>
                    <a:pt x="674" y="28"/>
                  </a:lnTo>
                  <a:lnTo>
                    <a:pt x="699" y="36"/>
                  </a:lnTo>
                  <a:lnTo>
                    <a:pt x="726" y="45"/>
                  </a:lnTo>
                  <a:lnTo>
                    <a:pt x="754" y="52"/>
                  </a:lnTo>
                  <a:lnTo>
                    <a:pt x="781" y="60"/>
                  </a:lnTo>
                  <a:lnTo>
                    <a:pt x="808" y="68"/>
                  </a:lnTo>
                  <a:lnTo>
                    <a:pt x="835" y="82"/>
                  </a:lnTo>
                  <a:lnTo>
                    <a:pt x="859" y="93"/>
                  </a:lnTo>
                  <a:lnTo>
                    <a:pt x="887" y="105"/>
                  </a:lnTo>
                  <a:lnTo>
                    <a:pt x="914" y="118"/>
                  </a:lnTo>
                  <a:lnTo>
                    <a:pt x="939" y="136"/>
                  </a:lnTo>
                  <a:lnTo>
                    <a:pt x="964" y="148"/>
                  </a:lnTo>
                  <a:lnTo>
                    <a:pt x="985" y="165"/>
                  </a:lnTo>
                  <a:lnTo>
                    <a:pt x="1010" y="181"/>
                  </a:lnTo>
                  <a:lnTo>
                    <a:pt x="1030" y="198"/>
                  </a:lnTo>
                  <a:lnTo>
                    <a:pt x="1052" y="218"/>
                  </a:lnTo>
                  <a:lnTo>
                    <a:pt x="1071" y="238"/>
                  </a:lnTo>
                  <a:lnTo>
                    <a:pt x="1089" y="261"/>
                  </a:lnTo>
                  <a:lnTo>
                    <a:pt x="1108" y="281"/>
                  </a:lnTo>
                  <a:lnTo>
                    <a:pt x="1118" y="301"/>
                  </a:lnTo>
                  <a:lnTo>
                    <a:pt x="1135" y="326"/>
                  </a:lnTo>
                  <a:lnTo>
                    <a:pt x="1147" y="351"/>
                  </a:lnTo>
                  <a:lnTo>
                    <a:pt x="1156" y="375"/>
                  </a:lnTo>
                  <a:lnTo>
                    <a:pt x="1162" y="406"/>
                  </a:lnTo>
                  <a:lnTo>
                    <a:pt x="1168" y="430"/>
                  </a:lnTo>
                  <a:lnTo>
                    <a:pt x="1174" y="463"/>
                  </a:lnTo>
                  <a:lnTo>
                    <a:pt x="1174" y="491"/>
                  </a:lnTo>
                  <a:lnTo>
                    <a:pt x="1174" y="1530"/>
                  </a:lnTo>
                  <a:lnTo>
                    <a:pt x="12" y="153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1800" y="206676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33" y="0"/>
                  </a:moveTo>
                  <a:lnTo>
                    <a:pt x="1575" y="444"/>
                  </a:lnTo>
                  <a:lnTo>
                    <a:pt x="1615" y="461"/>
                  </a:lnTo>
                  <a:lnTo>
                    <a:pt x="1653" y="477"/>
                  </a:lnTo>
                  <a:lnTo>
                    <a:pt x="1692" y="503"/>
                  </a:lnTo>
                  <a:lnTo>
                    <a:pt x="1729" y="532"/>
                  </a:lnTo>
                  <a:lnTo>
                    <a:pt x="1764" y="565"/>
                  </a:lnTo>
                  <a:lnTo>
                    <a:pt x="1799" y="603"/>
                  </a:lnTo>
                  <a:lnTo>
                    <a:pt x="1832" y="640"/>
                  </a:lnTo>
                  <a:lnTo>
                    <a:pt x="1863" y="685"/>
                  </a:lnTo>
                  <a:lnTo>
                    <a:pt x="1890" y="730"/>
                  </a:lnTo>
                  <a:lnTo>
                    <a:pt x="1917" y="777"/>
                  </a:lnTo>
                  <a:lnTo>
                    <a:pt x="1938" y="830"/>
                  </a:lnTo>
                  <a:lnTo>
                    <a:pt x="1957" y="881"/>
                  </a:lnTo>
                  <a:lnTo>
                    <a:pt x="1971" y="935"/>
                  </a:lnTo>
                  <a:lnTo>
                    <a:pt x="1984" y="989"/>
                  </a:lnTo>
                  <a:lnTo>
                    <a:pt x="1993" y="1043"/>
                  </a:lnTo>
                  <a:lnTo>
                    <a:pt x="1993" y="1097"/>
                  </a:lnTo>
                  <a:lnTo>
                    <a:pt x="1993" y="1146"/>
                  </a:lnTo>
                  <a:lnTo>
                    <a:pt x="1988" y="1200"/>
                  </a:lnTo>
                  <a:lnTo>
                    <a:pt x="1982" y="1254"/>
                  </a:lnTo>
                  <a:lnTo>
                    <a:pt x="1969" y="1304"/>
                  </a:lnTo>
                  <a:lnTo>
                    <a:pt x="1957" y="1359"/>
                  </a:lnTo>
                  <a:lnTo>
                    <a:pt x="1941" y="1412"/>
                  </a:lnTo>
                  <a:lnTo>
                    <a:pt x="1923" y="1462"/>
                  </a:lnTo>
                  <a:lnTo>
                    <a:pt x="1902" y="1507"/>
                  </a:lnTo>
                  <a:lnTo>
                    <a:pt x="1881" y="1549"/>
                  </a:lnTo>
                  <a:lnTo>
                    <a:pt x="1857" y="1589"/>
                  </a:lnTo>
                  <a:lnTo>
                    <a:pt x="1830" y="1624"/>
                  </a:lnTo>
                  <a:lnTo>
                    <a:pt x="1805" y="1657"/>
                  </a:lnTo>
                  <a:lnTo>
                    <a:pt x="1774" y="1683"/>
                  </a:lnTo>
                  <a:lnTo>
                    <a:pt x="1744" y="1697"/>
                  </a:lnTo>
                  <a:lnTo>
                    <a:pt x="1713" y="1711"/>
                  </a:lnTo>
                  <a:lnTo>
                    <a:pt x="1679" y="1715"/>
                  </a:lnTo>
                  <a:lnTo>
                    <a:pt x="0" y="168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6720" y="2068560"/>
              <a:ext cx="482760" cy="6634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10" y="0"/>
                  </a:moveTo>
                  <a:lnTo>
                    <a:pt x="549" y="6"/>
                  </a:lnTo>
                  <a:lnTo>
                    <a:pt x="487" y="18"/>
                  </a:lnTo>
                  <a:lnTo>
                    <a:pt x="430" y="38"/>
                  </a:lnTo>
                  <a:lnTo>
                    <a:pt x="372" y="68"/>
                  </a:lnTo>
                  <a:lnTo>
                    <a:pt x="320" y="100"/>
                  </a:lnTo>
                  <a:lnTo>
                    <a:pt x="271" y="146"/>
                  </a:lnTo>
                  <a:lnTo>
                    <a:pt x="222" y="191"/>
                  </a:lnTo>
                  <a:lnTo>
                    <a:pt x="180" y="245"/>
                  </a:lnTo>
                  <a:lnTo>
                    <a:pt x="140" y="304"/>
                  </a:lnTo>
                  <a:lnTo>
                    <a:pt x="107" y="371"/>
                  </a:lnTo>
                  <a:lnTo>
                    <a:pt x="74" y="441"/>
                  </a:lnTo>
                  <a:lnTo>
                    <a:pt x="49" y="512"/>
                  </a:lnTo>
                  <a:lnTo>
                    <a:pt x="27" y="592"/>
                  </a:lnTo>
                  <a:lnTo>
                    <a:pt x="11" y="669"/>
                  </a:lnTo>
                  <a:lnTo>
                    <a:pt x="3" y="752"/>
                  </a:lnTo>
                  <a:lnTo>
                    <a:pt x="0" y="836"/>
                  </a:lnTo>
                  <a:lnTo>
                    <a:pt x="3" y="922"/>
                  </a:lnTo>
                  <a:lnTo>
                    <a:pt x="11" y="1006"/>
                  </a:lnTo>
                  <a:lnTo>
                    <a:pt x="27" y="1083"/>
                  </a:lnTo>
                  <a:lnTo>
                    <a:pt x="49" y="1163"/>
                  </a:lnTo>
                  <a:lnTo>
                    <a:pt x="74" y="1234"/>
                  </a:lnTo>
                  <a:lnTo>
                    <a:pt x="107" y="1304"/>
                  </a:lnTo>
                  <a:lnTo>
                    <a:pt x="140" y="1367"/>
                  </a:lnTo>
                  <a:lnTo>
                    <a:pt x="180" y="1428"/>
                  </a:lnTo>
                  <a:lnTo>
                    <a:pt x="222" y="1482"/>
                  </a:lnTo>
                  <a:lnTo>
                    <a:pt x="271" y="1528"/>
                  </a:lnTo>
                  <a:lnTo>
                    <a:pt x="320" y="1569"/>
                  </a:lnTo>
                  <a:lnTo>
                    <a:pt x="372" y="1607"/>
                  </a:lnTo>
                  <a:lnTo>
                    <a:pt x="430" y="1636"/>
                  </a:lnTo>
                  <a:lnTo>
                    <a:pt x="487" y="1657"/>
                  </a:lnTo>
                  <a:lnTo>
                    <a:pt x="549" y="1669"/>
                  </a:lnTo>
                  <a:lnTo>
                    <a:pt x="610" y="1675"/>
                  </a:lnTo>
                  <a:lnTo>
                    <a:pt x="674" y="1669"/>
                  </a:lnTo>
                  <a:lnTo>
                    <a:pt x="734" y="1657"/>
                  </a:lnTo>
                  <a:lnTo>
                    <a:pt x="793" y="1636"/>
                  </a:lnTo>
                  <a:lnTo>
                    <a:pt x="847" y="1607"/>
                  </a:lnTo>
                  <a:lnTo>
                    <a:pt x="902" y="1569"/>
                  </a:lnTo>
                  <a:lnTo>
                    <a:pt x="952" y="1528"/>
                  </a:lnTo>
                  <a:lnTo>
                    <a:pt x="997" y="1482"/>
                  </a:lnTo>
                  <a:lnTo>
                    <a:pt x="1043" y="1428"/>
                  </a:lnTo>
                  <a:lnTo>
                    <a:pt x="1082" y="1367"/>
                  </a:lnTo>
                  <a:lnTo>
                    <a:pt x="1116" y="1304"/>
                  </a:lnTo>
                  <a:lnTo>
                    <a:pt x="1145" y="1234"/>
                  </a:lnTo>
                  <a:lnTo>
                    <a:pt x="1173" y="1163"/>
                  </a:lnTo>
                  <a:lnTo>
                    <a:pt x="1192" y="1083"/>
                  </a:lnTo>
                  <a:lnTo>
                    <a:pt x="1207" y="1006"/>
                  </a:lnTo>
                  <a:lnTo>
                    <a:pt x="1219" y="922"/>
                  </a:lnTo>
                  <a:lnTo>
                    <a:pt x="1219" y="836"/>
                  </a:lnTo>
                  <a:lnTo>
                    <a:pt x="1219" y="752"/>
                  </a:lnTo>
                  <a:lnTo>
                    <a:pt x="1207" y="669"/>
                  </a:lnTo>
                  <a:lnTo>
                    <a:pt x="1192" y="592"/>
                  </a:lnTo>
                  <a:lnTo>
                    <a:pt x="1173" y="512"/>
                  </a:lnTo>
                  <a:lnTo>
                    <a:pt x="1145" y="441"/>
                  </a:lnTo>
                  <a:lnTo>
                    <a:pt x="1116" y="371"/>
                  </a:lnTo>
                  <a:lnTo>
                    <a:pt x="1082" y="304"/>
                  </a:lnTo>
                  <a:lnTo>
                    <a:pt x="1043" y="245"/>
                  </a:lnTo>
                  <a:lnTo>
                    <a:pt x="997" y="191"/>
                  </a:lnTo>
                  <a:lnTo>
                    <a:pt x="952" y="146"/>
                  </a:lnTo>
                  <a:lnTo>
                    <a:pt x="902" y="100"/>
                  </a:lnTo>
                  <a:lnTo>
                    <a:pt x="847" y="68"/>
                  </a:lnTo>
                  <a:lnTo>
                    <a:pt x="793" y="38"/>
                  </a:lnTo>
                  <a:lnTo>
                    <a:pt x="734" y="18"/>
                  </a:lnTo>
                  <a:lnTo>
                    <a:pt x="674" y="6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9640" y="266220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1829" y="12"/>
                  </a:moveTo>
                  <a:lnTo>
                    <a:pt x="1458" y="29"/>
                  </a:lnTo>
                  <a:lnTo>
                    <a:pt x="1453" y="75"/>
                  </a:lnTo>
                  <a:lnTo>
                    <a:pt x="1447" y="120"/>
                  </a:lnTo>
                  <a:lnTo>
                    <a:pt x="1443" y="163"/>
                  </a:lnTo>
                  <a:lnTo>
                    <a:pt x="1431" y="204"/>
                  </a:lnTo>
                  <a:lnTo>
                    <a:pt x="1418" y="245"/>
                  </a:lnTo>
                  <a:lnTo>
                    <a:pt x="1406" y="288"/>
                  </a:lnTo>
                  <a:lnTo>
                    <a:pt x="1387" y="328"/>
                  </a:lnTo>
                  <a:lnTo>
                    <a:pt x="1375" y="370"/>
                  </a:lnTo>
                  <a:lnTo>
                    <a:pt x="470" y="353"/>
                  </a:lnTo>
                  <a:lnTo>
                    <a:pt x="487" y="312"/>
                  </a:lnTo>
                  <a:lnTo>
                    <a:pt x="503" y="271"/>
                  </a:lnTo>
                  <a:lnTo>
                    <a:pt x="518" y="225"/>
                  </a:lnTo>
                  <a:lnTo>
                    <a:pt x="528" y="183"/>
                  </a:lnTo>
                  <a:lnTo>
                    <a:pt x="536" y="137"/>
                  </a:lnTo>
                  <a:lnTo>
                    <a:pt x="542" y="92"/>
                  </a:lnTo>
                  <a:lnTo>
                    <a:pt x="546" y="47"/>
                  </a:lnTo>
                  <a:lnTo>
                    <a:pt x="546" y="0"/>
                  </a:lnTo>
                  <a:lnTo>
                    <a:pt x="177" y="0"/>
                  </a:lnTo>
                  <a:lnTo>
                    <a:pt x="173" y="59"/>
                  </a:lnTo>
                  <a:lnTo>
                    <a:pt x="167" y="112"/>
                  </a:lnTo>
                  <a:lnTo>
                    <a:pt x="164" y="163"/>
                  </a:lnTo>
                  <a:lnTo>
                    <a:pt x="162" y="208"/>
                  </a:lnTo>
                  <a:lnTo>
                    <a:pt x="156" y="253"/>
                  </a:lnTo>
                  <a:lnTo>
                    <a:pt x="147" y="300"/>
                  </a:lnTo>
                  <a:lnTo>
                    <a:pt x="139" y="341"/>
                  </a:lnTo>
                  <a:lnTo>
                    <a:pt x="131" y="378"/>
                  </a:lnTo>
                  <a:lnTo>
                    <a:pt x="119" y="416"/>
                  </a:lnTo>
                  <a:lnTo>
                    <a:pt x="110" y="453"/>
                  </a:lnTo>
                  <a:lnTo>
                    <a:pt x="94" y="486"/>
                  </a:lnTo>
                  <a:lnTo>
                    <a:pt x="79" y="518"/>
                  </a:lnTo>
                  <a:lnTo>
                    <a:pt x="65" y="553"/>
                  </a:lnTo>
                  <a:lnTo>
                    <a:pt x="46" y="586"/>
                  </a:lnTo>
                  <a:lnTo>
                    <a:pt x="24" y="618"/>
                  </a:lnTo>
                  <a:lnTo>
                    <a:pt x="0" y="653"/>
                  </a:lnTo>
                  <a:lnTo>
                    <a:pt x="1723" y="689"/>
                  </a:lnTo>
                  <a:lnTo>
                    <a:pt x="1764" y="618"/>
                  </a:lnTo>
                  <a:lnTo>
                    <a:pt x="1793" y="541"/>
                  </a:lnTo>
                  <a:lnTo>
                    <a:pt x="1814" y="461"/>
                  </a:lnTo>
                  <a:lnTo>
                    <a:pt x="1826" y="373"/>
                  </a:lnTo>
                  <a:lnTo>
                    <a:pt x="1832" y="282"/>
                  </a:lnTo>
                  <a:lnTo>
                    <a:pt x="1832" y="195"/>
                  </a:lnTo>
                  <a:lnTo>
                    <a:pt x="1832" y="104"/>
                  </a:lnTo>
                  <a:lnTo>
                    <a:pt x="18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3560" y="29163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89">
                  <a:moveTo>
                    <a:pt x="1649" y="25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83" y="159"/>
                  </a:lnTo>
                  <a:lnTo>
                    <a:pt x="83" y="449"/>
                  </a:lnTo>
                  <a:lnTo>
                    <a:pt x="1513" y="489"/>
                  </a:lnTo>
                  <a:lnTo>
                    <a:pt x="1519" y="179"/>
                  </a:lnTo>
                  <a:lnTo>
                    <a:pt x="1643" y="128"/>
                  </a:lnTo>
                  <a:lnTo>
                    <a:pt x="16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53040" y="294804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5">
                  <a:moveTo>
                    <a:pt x="137" y="425"/>
                  </a:moveTo>
                  <a:lnTo>
                    <a:pt x="165" y="420"/>
                  </a:lnTo>
                  <a:lnTo>
                    <a:pt x="192" y="411"/>
                  </a:lnTo>
                  <a:lnTo>
                    <a:pt x="216" y="391"/>
                  </a:lnTo>
                  <a:lnTo>
                    <a:pt x="234" y="365"/>
                  </a:lnTo>
                  <a:lnTo>
                    <a:pt x="253" y="333"/>
                  </a:lnTo>
                  <a:lnTo>
                    <a:pt x="265" y="296"/>
                  </a:lnTo>
                  <a:lnTo>
                    <a:pt x="274" y="257"/>
                  </a:lnTo>
                  <a:lnTo>
                    <a:pt x="278" y="212"/>
                  </a:lnTo>
                  <a:lnTo>
                    <a:pt x="274" y="172"/>
                  </a:lnTo>
                  <a:lnTo>
                    <a:pt x="265" y="135"/>
                  </a:lnTo>
                  <a:lnTo>
                    <a:pt x="253" y="96"/>
                  </a:lnTo>
                  <a:lnTo>
                    <a:pt x="234" y="63"/>
                  </a:lnTo>
                  <a:lnTo>
                    <a:pt x="216" y="38"/>
                  </a:lnTo>
                  <a:lnTo>
                    <a:pt x="192" y="18"/>
                  </a:lnTo>
                  <a:lnTo>
                    <a:pt x="165" y="4"/>
                  </a:lnTo>
                  <a:lnTo>
                    <a:pt x="137" y="0"/>
                  </a:lnTo>
                  <a:lnTo>
                    <a:pt x="109" y="4"/>
                  </a:lnTo>
                  <a:lnTo>
                    <a:pt x="82" y="18"/>
                  </a:lnTo>
                  <a:lnTo>
                    <a:pt x="61" y="38"/>
                  </a:lnTo>
                  <a:lnTo>
                    <a:pt x="40" y="63"/>
                  </a:lnTo>
                  <a:lnTo>
                    <a:pt x="21" y="96"/>
                  </a:lnTo>
                  <a:lnTo>
                    <a:pt x="9" y="135"/>
                  </a:lnTo>
                  <a:lnTo>
                    <a:pt x="2" y="172"/>
                  </a:lnTo>
                  <a:lnTo>
                    <a:pt x="0" y="212"/>
                  </a:lnTo>
                  <a:lnTo>
                    <a:pt x="2" y="257"/>
                  </a:lnTo>
                  <a:lnTo>
                    <a:pt x="9" y="296"/>
                  </a:lnTo>
                  <a:lnTo>
                    <a:pt x="21" y="333"/>
                  </a:lnTo>
                  <a:lnTo>
                    <a:pt x="40" y="365"/>
                  </a:lnTo>
                  <a:lnTo>
                    <a:pt x="61" y="391"/>
                  </a:lnTo>
                  <a:lnTo>
                    <a:pt x="82" y="411"/>
                  </a:lnTo>
                  <a:lnTo>
                    <a:pt x="109" y="420"/>
                  </a:lnTo>
                  <a:lnTo>
                    <a:pt x="137" y="4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2760" y="210996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507" y="226"/>
                  </a:moveTo>
                  <a:lnTo>
                    <a:pt x="507" y="23"/>
                  </a:lnTo>
                  <a:lnTo>
                    <a:pt x="476" y="17"/>
                  </a:lnTo>
                  <a:lnTo>
                    <a:pt x="445" y="13"/>
                  </a:lnTo>
                  <a:lnTo>
                    <a:pt x="416" y="8"/>
                  </a:lnTo>
                  <a:lnTo>
                    <a:pt x="381" y="3"/>
                  </a:lnTo>
                  <a:lnTo>
                    <a:pt x="350" y="3"/>
                  </a:lnTo>
                  <a:lnTo>
                    <a:pt x="319" y="0"/>
                  </a:lnTo>
                  <a:lnTo>
                    <a:pt x="290" y="0"/>
                  </a:lnTo>
                  <a:lnTo>
                    <a:pt x="257" y="0"/>
                  </a:lnTo>
                  <a:lnTo>
                    <a:pt x="226" y="0"/>
                  </a:lnTo>
                  <a:lnTo>
                    <a:pt x="192" y="0"/>
                  </a:lnTo>
                  <a:lnTo>
                    <a:pt x="162" y="0"/>
                  </a:lnTo>
                  <a:lnTo>
                    <a:pt x="132" y="3"/>
                  </a:lnTo>
                  <a:lnTo>
                    <a:pt x="99" y="8"/>
                  </a:lnTo>
                  <a:lnTo>
                    <a:pt x="68" y="13"/>
                  </a:lnTo>
                  <a:lnTo>
                    <a:pt x="38" y="17"/>
                  </a:lnTo>
                  <a:lnTo>
                    <a:pt x="2" y="23"/>
                  </a:lnTo>
                  <a:lnTo>
                    <a:pt x="0" y="54"/>
                  </a:lnTo>
                  <a:lnTo>
                    <a:pt x="43" y="66"/>
                  </a:lnTo>
                  <a:lnTo>
                    <a:pt x="80" y="78"/>
                  </a:lnTo>
                  <a:lnTo>
                    <a:pt x="116" y="91"/>
                  </a:lnTo>
                  <a:lnTo>
                    <a:pt x="146" y="103"/>
                  </a:lnTo>
                  <a:lnTo>
                    <a:pt x="173" y="117"/>
                  </a:lnTo>
                  <a:lnTo>
                    <a:pt x="198" y="122"/>
                  </a:lnTo>
                  <a:lnTo>
                    <a:pt x="223" y="136"/>
                  </a:lnTo>
                  <a:lnTo>
                    <a:pt x="247" y="147"/>
                  </a:lnTo>
                  <a:lnTo>
                    <a:pt x="265" y="155"/>
                  </a:lnTo>
                  <a:lnTo>
                    <a:pt x="286" y="169"/>
                  </a:lnTo>
                  <a:lnTo>
                    <a:pt x="309" y="180"/>
                  </a:lnTo>
                  <a:lnTo>
                    <a:pt x="325" y="190"/>
                  </a:lnTo>
                  <a:lnTo>
                    <a:pt x="348" y="201"/>
                  </a:lnTo>
                  <a:lnTo>
                    <a:pt x="369" y="215"/>
                  </a:lnTo>
                  <a:lnTo>
                    <a:pt x="394" y="226"/>
                  </a:lnTo>
                  <a:lnTo>
                    <a:pt x="418" y="243"/>
                  </a:lnTo>
                  <a:lnTo>
                    <a:pt x="430" y="243"/>
                  </a:lnTo>
                  <a:lnTo>
                    <a:pt x="445" y="243"/>
                  </a:lnTo>
                  <a:lnTo>
                    <a:pt x="461" y="247"/>
                  </a:lnTo>
                  <a:lnTo>
                    <a:pt x="474" y="247"/>
                  </a:lnTo>
                  <a:lnTo>
                    <a:pt x="488" y="247"/>
                  </a:lnTo>
                  <a:lnTo>
                    <a:pt x="496" y="247"/>
                  </a:lnTo>
                  <a:lnTo>
                    <a:pt x="504" y="238"/>
                  </a:lnTo>
                  <a:lnTo>
                    <a:pt x="507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19320" y="2971800"/>
            <a:ext cx="6400800" cy="1301760"/>
            <a:chOff x="1219320" y="2971800"/>
            <a:chExt cx="6400800" cy="1301760"/>
          </a:xfrm>
        </p:grpSpPr>
        <p:sp>
          <p:nvSpPr>
            <p:cNvPr id="145" name=""/>
            <p:cNvSpPr/>
            <p:nvPr/>
          </p:nvSpPr>
          <p:spPr>
            <a:xfrm>
              <a:off x="1305000" y="2995560"/>
              <a:ext cx="5383080" cy="976320"/>
            </a:xfrm>
            <a:custGeom>
              <a:avLst/>
              <a:gdLst/>
              <a:ahLst/>
              <a:rect l="l" t="t" r="r" b="b"/>
              <a:pathLst>
                <a:path w="13564" h="2456">
                  <a:moveTo>
                    <a:pt x="0" y="0"/>
                  </a:moveTo>
                  <a:lnTo>
                    <a:pt x="13564" y="2347"/>
                  </a:lnTo>
                  <a:lnTo>
                    <a:pt x="13148" y="2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219320" y="2971800"/>
              <a:ext cx="6400800" cy="1301760"/>
              <a:chOff x="1219320" y="2971800"/>
              <a:chExt cx="6400800" cy="130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2478240" y="3003480"/>
                <a:ext cx="5141880" cy="1270080"/>
              </a:xfrm>
              <a:custGeom>
                <a:avLst/>
                <a:gdLst/>
                <a:ahLst/>
                <a:rect l="l" t="t" r="r" b="b"/>
                <a:pathLst>
                  <a:path w="12956" h="3197">
                    <a:moveTo>
                      <a:pt x="12956" y="0"/>
                    </a:moveTo>
                    <a:lnTo>
                      <a:pt x="0" y="3080"/>
                    </a:lnTo>
                    <a:lnTo>
                      <a:pt x="450" y="3197"/>
                    </a:lnTo>
                    <a:lnTo>
                      <a:pt x="129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219320" y="2971800"/>
                <a:ext cx="6306480" cy="1300320"/>
                <a:chOff x="1219320" y="2971800"/>
                <a:chExt cx="6306480" cy="1300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219320" y="3002040"/>
                  <a:ext cx="5141520" cy="1270080"/>
                </a:xfrm>
                <a:custGeom>
                  <a:avLst/>
                  <a:gdLst/>
                  <a:ahLst/>
                  <a:rect l="l" t="t" r="r" b="b"/>
                  <a:pathLst>
                    <a:path w="12956" h="3198">
                      <a:moveTo>
                        <a:pt x="0" y="0"/>
                      </a:moveTo>
                      <a:lnTo>
                        <a:pt x="12956" y="3080"/>
                      </a:lnTo>
                      <a:lnTo>
                        <a:pt x="12506" y="31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42720" y="2971800"/>
                  <a:ext cx="5383080" cy="974880"/>
                </a:xfrm>
                <a:custGeom>
                  <a:avLst/>
                  <a:gdLst/>
                  <a:ahLst/>
                  <a:rect l="l" t="t" r="r" b="b"/>
                  <a:pathLst>
                    <a:path w="13563" h="2456">
                      <a:moveTo>
                        <a:pt x="13563" y="0"/>
                      </a:moveTo>
                      <a:lnTo>
                        <a:pt x="0" y="2347"/>
                      </a:lnTo>
                      <a:lnTo>
                        <a:pt x="415" y="2456"/>
                      </a:lnTo>
                      <a:lnTo>
                        <a:pt x="135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3886200" y="1905120"/>
            <a:ext cx="990360" cy="2286000"/>
            <a:chOff x="3886200" y="1905120"/>
            <a:chExt cx="990360" cy="2286000"/>
          </a:xfrm>
        </p:grpSpPr>
        <p:sp>
          <p:nvSpPr>
            <p:cNvPr id="152" name=""/>
            <p:cNvSpPr/>
            <p:nvPr/>
          </p:nvSpPr>
          <p:spPr>
            <a:xfrm>
              <a:off x="3886200" y="1905120"/>
              <a:ext cx="990360" cy="838080"/>
            </a:xfrm>
            <a:prstGeom prst="hexagon">
              <a:avLst>
                <a:gd name="adj" fmla="val 29543"/>
                <a:gd name="vf" fmla="val 11547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2743200"/>
              <a:ext cx="75960" cy="144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5280" y="2438280"/>
            <a:ext cx="1067040" cy="803160"/>
            <a:chOff x="1295280" y="2438280"/>
            <a:chExt cx="1067040" cy="803160"/>
          </a:xfrm>
        </p:grpSpPr>
        <p:sp>
          <p:nvSpPr>
            <p:cNvPr id="155" name=""/>
            <p:cNvSpPr/>
            <p:nvPr/>
          </p:nvSpPr>
          <p:spPr>
            <a:xfrm>
              <a:off x="1998360" y="2505600"/>
              <a:ext cx="86400" cy="356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778840"/>
              <a:ext cx="87840" cy="5364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2818080"/>
              <a:ext cx="52920" cy="8604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900160"/>
              <a:ext cx="52920" cy="3492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2933640"/>
              <a:ext cx="56160" cy="1044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48560" y="2774520"/>
              <a:ext cx="86400" cy="169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3600" y="2730600"/>
              <a:ext cx="140760" cy="8064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3600" y="2782080"/>
              <a:ext cx="96840" cy="11232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53600" y="2889720"/>
              <a:ext cx="96840" cy="4536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3600" y="2932920"/>
              <a:ext cx="100080" cy="1440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50440" y="2725920"/>
              <a:ext cx="113760" cy="22248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55840" y="2651760"/>
              <a:ext cx="233280" cy="12204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5840" y="2721960"/>
              <a:ext cx="171720" cy="16524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55840" y="2871000"/>
              <a:ext cx="171720" cy="626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5840" y="2931120"/>
              <a:ext cx="177120" cy="2124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7560" y="2643480"/>
              <a:ext cx="157680" cy="30888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4920" y="3042000"/>
              <a:ext cx="66240" cy="8532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90880" y="2438280"/>
              <a:ext cx="101520" cy="104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97800" y="2826000"/>
              <a:ext cx="1001880" cy="4154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0320" y="2551320"/>
              <a:ext cx="166680" cy="10656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0000" y="2552040"/>
              <a:ext cx="201960" cy="3114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4200" y="2515680"/>
              <a:ext cx="342360" cy="34956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9640" y="2515680"/>
              <a:ext cx="208800" cy="341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8880" y="2820240"/>
              <a:ext cx="314280" cy="1400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70360" y="2951640"/>
              <a:ext cx="282960" cy="9936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15160" y="2967120"/>
              <a:ext cx="47160" cy="8604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8360" y="2536920"/>
              <a:ext cx="87120" cy="5040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14400" y="3962520"/>
            <a:ext cx="7010280" cy="16002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2 trains approach each other at a cros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shall come to a full stop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49528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either shall start up again until the other has g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77080" y="5361120"/>
            <a:ext cx="2084400" cy="1307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5589720"/>
            <a:ext cx="1508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5683" y="12769"/>
                </a:moveTo>
                <a:lnTo>
                  <a:pt x="22691" y="4000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62520" y="3321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200400" y="4648320"/>
            <a:ext cx="762120" cy="1367640"/>
            <a:chOff x="3200400" y="4648320"/>
            <a:chExt cx="762120" cy="1367640"/>
          </a:xfrm>
        </p:grpSpPr>
        <p:sp>
          <p:nvSpPr>
            <p:cNvPr id="709" name=""/>
            <p:cNvSpPr/>
            <p:nvPr/>
          </p:nvSpPr>
          <p:spPr>
            <a:xfrm>
              <a:off x="3200400" y="4648320"/>
              <a:ext cx="76212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55920" y="5575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05320" y="4838760"/>
              <a:ext cx="152280" cy="532440"/>
              <a:chOff x="3505320" y="4838760"/>
              <a:chExt cx="152280" cy="532440"/>
            </a:xfrm>
          </p:grpSpPr>
          <p:sp>
            <p:nvSpPr>
              <p:cNvPr id="712" name=""/>
              <p:cNvSpPr/>
              <p:nvPr/>
            </p:nvSpPr>
            <p:spPr>
              <a:xfrm>
                <a:off x="3505320" y="4838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05320" y="5219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4" name=""/>
          <p:cNvCxnSpPr>
            <a:stCxn id="715" idx="7"/>
            <a:endCxn id="716" idx="2"/>
          </p:cNvCxnSpPr>
          <p:nvPr/>
        </p:nvCxnSpPr>
        <p:spPr>
          <a:xfrm flipV="1">
            <a:off x="2109600" y="2761560"/>
            <a:ext cx="17658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17" name=""/>
          <p:cNvGrpSpPr/>
          <p:nvPr/>
        </p:nvGrpSpPr>
        <p:grpSpPr>
          <a:xfrm>
            <a:off x="3494160" y="1752480"/>
            <a:ext cx="761760" cy="990720"/>
            <a:chOff x="3494160" y="1752480"/>
            <a:chExt cx="761760" cy="990720"/>
          </a:xfrm>
        </p:grpSpPr>
        <p:sp>
          <p:nvSpPr>
            <p:cNvPr id="716" name=""/>
            <p:cNvSpPr/>
            <p:nvPr/>
          </p:nvSpPr>
          <p:spPr>
            <a:xfrm>
              <a:off x="3494160" y="21333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4932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8720" y="23619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0" name=""/>
          <p:cNvCxnSpPr>
            <a:stCxn id="719" idx="6"/>
            <a:endCxn id="721" idx="1"/>
          </p:cNvCxnSpPr>
          <p:nvPr/>
        </p:nvCxnSpPr>
        <p:spPr>
          <a:xfrm>
            <a:off x="3951360" y="2437920"/>
            <a:ext cx="11160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2" idx="1"/>
            <a:endCxn id="721" idx="4"/>
          </p:cNvCxnSpPr>
          <p:nvPr/>
        </p:nvCxnSpPr>
        <p:spPr>
          <a:xfrm flipV="1">
            <a:off x="3526920" y="3924000"/>
            <a:ext cx="778680" cy="937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23" name=""/>
          <p:cNvGrpSpPr/>
          <p:nvPr/>
        </p:nvGrpSpPr>
        <p:grpSpPr>
          <a:xfrm>
            <a:off x="1523880" y="3314880"/>
            <a:ext cx="936360" cy="613800"/>
            <a:chOff x="1523880" y="3314880"/>
            <a:chExt cx="936360" cy="613800"/>
          </a:xfrm>
        </p:grpSpPr>
        <p:sp>
          <p:nvSpPr>
            <p:cNvPr id="715" name=""/>
            <p:cNvSpPr/>
            <p:nvPr/>
          </p:nvSpPr>
          <p:spPr>
            <a:xfrm>
              <a:off x="152388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207936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936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6" name=""/>
          <p:cNvGrpSpPr/>
          <p:nvPr/>
        </p:nvGrpSpPr>
        <p:grpSpPr>
          <a:xfrm>
            <a:off x="3962520" y="3314880"/>
            <a:ext cx="925560" cy="609480"/>
            <a:chOff x="3962520" y="3314880"/>
            <a:chExt cx="925560" cy="609480"/>
          </a:xfrm>
        </p:grpSpPr>
        <p:sp>
          <p:nvSpPr>
            <p:cNvPr id="721" name=""/>
            <p:cNvSpPr/>
            <p:nvPr/>
          </p:nvSpPr>
          <p:spPr>
            <a:xfrm>
              <a:off x="396252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7" name=""/>
            <p:cNvGraphicFramePr/>
            <p:nvPr/>
          </p:nvGraphicFramePr>
          <p:xfrm>
            <a:off x="450720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720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29" name=""/>
          <p:cNvCxnSpPr>
            <a:stCxn id="730" idx="4"/>
            <a:endCxn id="709" idx="3"/>
          </p:cNvCxnSpPr>
          <p:nvPr/>
        </p:nvCxnSpPr>
        <p:spPr>
          <a:xfrm flipH="1">
            <a:off x="3981240" y="3962160"/>
            <a:ext cx="2751840" cy="1143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13" idx="2"/>
            <a:endCxn id="715" idx="4"/>
          </p:cNvCxnSpPr>
          <p:nvPr/>
        </p:nvCxnSpPr>
        <p:spPr>
          <a:xfrm flipH="1" flipV="1">
            <a:off x="1866240" y="3924000"/>
            <a:ext cx="1639080" cy="13723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1" idx="7"/>
            <a:endCxn id="733" idx="2"/>
          </p:cNvCxnSpPr>
          <p:nvPr/>
        </p:nvCxnSpPr>
        <p:spPr>
          <a:xfrm flipV="1">
            <a:off x="4547880" y="2761560"/>
            <a:ext cx="7866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6389640" y="3352680"/>
            <a:ext cx="925560" cy="609840"/>
            <a:chOff x="6389640" y="3352680"/>
            <a:chExt cx="925560" cy="609840"/>
          </a:xfrm>
        </p:grpSpPr>
        <p:sp>
          <p:nvSpPr>
            <p:cNvPr id="730" name=""/>
            <p:cNvSpPr/>
            <p:nvPr/>
          </p:nvSpPr>
          <p:spPr>
            <a:xfrm>
              <a:off x="63896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69343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7" name=""/>
          <p:cNvGrpSpPr/>
          <p:nvPr/>
        </p:nvGrpSpPr>
        <p:grpSpPr>
          <a:xfrm>
            <a:off x="4952880" y="1752480"/>
            <a:ext cx="762120" cy="990720"/>
            <a:chOff x="4952880" y="1752480"/>
            <a:chExt cx="762120" cy="990720"/>
          </a:xfrm>
        </p:grpSpPr>
        <p:sp>
          <p:nvSpPr>
            <p:cNvPr id="733" name=""/>
            <p:cNvSpPr/>
            <p:nvPr/>
          </p:nvSpPr>
          <p:spPr>
            <a:xfrm>
              <a:off x="49528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084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78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0" name=""/>
          <p:cNvCxnSpPr>
            <a:stCxn id="739" idx="6"/>
            <a:endCxn id="730" idx="1"/>
          </p:cNvCxnSpPr>
          <p:nvPr/>
        </p:nvCxnSpPr>
        <p:spPr>
          <a:xfrm>
            <a:off x="5409720" y="2437920"/>
            <a:ext cx="1080360" cy="10036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89240" y="3073320"/>
            <a:ext cx="2235240" cy="1752840"/>
          </a:xfrm>
          <a:custGeom>
            <a:avLst/>
            <a:gdLst/>
            <a:ahLst/>
            <a:rect l="l" t="t" r="r" b="b"/>
            <a:pathLst>
              <a:path w="1408" h="1104">
                <a:moveTo>
                  <a:pt x="688" y="176"/>
                </a:moveTo>
                <a:cubicBezTo>
                  <a:pt x="736" y="88"/>
                  <a:pt x="784" y="0"/>
                  <a:pt x="880" y="32"/>
                </a:cubicBezTo>
                <a:cubicBezTo>
                  <a:pt x="976" y="64"/>
                  <a:pt x="1200" y="272"/>
                  <a:pt x="1264" y="368"/>
                </a:cubicBezTo>
                <a:cubicBezTo>
                  <a:pt x="1328" y="464"/>
                  <a:pt x="1408" y="504"/>
                  <a:pt x="1264" y="608"/>
                </a:cubicBezTo>
                <a:cubicBezTo>
                  <a:pt x="1120" y="712"/>
                  <a:pt x="592" y="912"/>
                  <a:pt x="400" y="992"/>
                </a:cubicBezTo>
                <a:cubicBezTo>
                  <a:pt x="208" y="1072"/>
                  <a:pt x="176" y="1104"/>
                  <a:pt x="112" y="1088"/>
                </a:cubicBezTo>
                <a:cubicBezTo>
                  <a:pt x="48" y="1072"/>
                  <a:pt x="0" y="960"/>
                  <a:pt x="16" y="896"/>
                </a:cubicBezTo>
                <a:cubicBezTo>
                  <a:pt x="32" y="832"/>
                  <a:pt x="120" y="752"/>
                  <a:pt x="208" y="704"/>
                </a:cubicBezTo>
                <a:cubicBezTo>
                  <a:pt x="296" y="656"/>
                  <a:pt x="480" y="664"/>
                  <a:pt x="544" y="608"/>
                </a:cubicBezTo>
                <a:cubicBezTo>
                  <a:pt x="608" y="552"/>
                  <a:pt x="568" y="432"/>
                  <a:pt x="592" y="368"/>
                </a:cubicBezTo>
                <a:cubicBezTo>
                  <a:pt x="616" y="304"/>
                  <a:pt x="652" y="264"/>
                  <a:pt x="688" y="22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791320" y="518148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"/>
          <p:cNvSpPr/>
          <p:nvPr/>
        </p:nvSpPr>
        <p:spPr>
          <a:xfrm>
            <a:off x="1104840" y="1511280"/>
            <a:ext cx="6375600" cy="4559400"/>
          </a:xfrm>
          <a:custGeom>
            <a:avLst/>
            <a:gdLst/>
            <a:ahLst/>
            <a:rect l="l" t="t" r="r" b="b"/>
            <a:pathLst>
              <a:path w="4016" h="2872">
                <a:moveTo>
                  <a:pt x="1176" y="2408"/>
                </a:moveTo>
                <a:cubicBezTo>
                  <a:pt x="756" y="2036"/>
                  <a:pt x="336" y="1664"/>
                  <a:pt x="168" y="1448"/>
                </a:cubicBezTo>
                <a:cubicBezTo>
                  <a:pt x="0" y="1232"/>
                  <a:pt x="56" y="1200"/>
                  <a:pt x="168" y="1112"/>
                </a:cubicBezTo>
                <a:cubicBezTo>
                  <a:pt x="280" y="1024"/>
                  <a:pt x="656" y="1000"/>
                  <a:pt x="840" y="920"/>
                </a:cubicBezTo>
                <a:cubicBezTo>
                  <a:pt x="1024" y="840"/>
                  <a:pt x="1160" y="760"/>
                  <a:pt x="1272" y="632"/>
                </a:cubicBezTo>
                <a:cubicBezTo>
                  <a:pt x="1384" y="504"/>
                  <a:pt x="1384" y="232"/>
                  <a:pt x="1512" y="152"/>
                </a:cubicBezTo>
                <a:cubicBezTo>
                  <a:pt x="1640" y="72"/>
                  <a:pt x="1944" y="40"/>
                  <a:pt x="2040" y="152"/>
                </a:cubicBezTo>
                <a:cubicBezTo>
                  <a:pt x="2136" y="264"/>
                  <a:pt x="2064" y="696"/>
                  <a:pt x="2088" y="824"/>
                </a:cubicBezTo>
                <a:cubicBezTo>
                  <a:pt x="2112" y="952"/>
                  <a:pt x="2160" y="936"/>
                  <a:pt x="2184" y="920"/>
                </a:cubicBezTo>
                <a:cubicBezTo>
                  <a:pt x="2208" y="904"/>
                  <a:pt x="2208" y="856"/>
                  <a:pt x="2232" y="728"/>
                </a:cubicBezTo>
                <a:cubicBezTo>
                  <a:pt x="2256" y="600"/>
                  <a:pt x="2256" y="264"/>
                  <a:pt x="2328" y="152"/>
                </a:cubicBezTo>
                <a:cubicBezTo>
                  <a:pt x="2400" y="40"/>
                  <a:pt x="2496" y="0"/>
                  <a:pt x="2664" y="56"/>
                </a:cubicBezTo>
                <a:cubicBezTo>
                  <a:pt x="2832" y="112"/>
                  <a:pt x="3160" y="328"/>
                  <a:pt x="3336" y="488"/>
                </a:cubicBezTo>
                <a:cubicBezTo>
                  <a:pt x="3512" y="648"/>
                  <a:pt x="3608" y="848"/>
                  <a:pt x="3720" y="1016"/>
                </a:cubicBezTo>
                <a:cubicBezTo>
                  <a:pt x="3832" y="1184"/>
                  <a:pt x="4016" y="1360"/>
                  <a:pt x="4008" y="1496"/>
                </a:cubicBezTo>
                <a:cubicBezTo>
                  <a:pt x="4000" y="1632"/>
                  <a:pt x="3896" y="1704"/>
                  <a:pt x="3672" y="1832"/>
                </a:cubicBezTo>
                <a:cubicBezTo>
                  <a:pt x="3448" y="1960"/>
                  <a:pt x="2920" y="2168"/>
                  <a:pt x="2664" y="2264"/>
                </a:cubicBezTo>
                <a:cubicBezTo>
                  <a:pt x="2408" y="2360"/>
                  <a:pt x="2264" y="2336"/>
                  <a:pt x="2136" y="2408"/>
                </a:cubicBezTo>
                <a:cubicBezTo>
                  <a:pt x="2008" y="2480"/>
                  <a:pt x="2016" y="2624"/>
                  <a:pt x="1896" y="2696"/>
                </a:cubicBezTo>
                <a:cubicBezTo>
                  <a:pt x="1776" y="2768"/>
                  <a:pt x="1536" y="2872"/>
                  <a:pt x="1416" y="2840"/>
                </a:cubicBezTo>
                <a:cubicBezTo>
                  <a:pt x="1296" y="2808"/>
                  <a:pt x="1236" y="2656"/>
                  <a:pt x="1176" y="250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33920" y="4772160"/>
            <a:ext cx="761760" cy="1367640"/>
            <a:chOff x="3733920" y="4772160"/>
            <a:chExt cx="761760" cy="1367640"/>
          </a:xfrm>
        </p:grpSpPr>
        <p:sp>
          <p:nvSpPr>
            <p:cNvPr id="746" name=""/>
            <p:cNvSpPr/>
            <p:nvPr/>
          </p:nvSpPr>
          <p:spPr>
            <a:xfrm>
              <a:off x="3733920" y="4772160"/>
              <a:ext cx="76176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9080" y="56991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038480" y="4962600"/>
              <a:ext cx="151920" cy="532440"/>
              <a:chOff x="4038480" y="4962600"/>
              <a:chExt cx="151920" cy="532440"/>
            </a:xfrm>
          </p:grpSpPr>
          <p:sp>
            <p:nvSpPr>
              <p:cNvPr id="749" name=""/>
              <p:cNvSpPr/>
              <p:nvPr/>
            </p:nvSpPr>
            <p:spPr>
              <a:xfrm>
                <a:off x="4038480" y="49626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38480" y="534312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1" name=""/>
          <p:cNvCxnSpPr>
            <a:stCxn id="752" idx="7"/>
            <a:endCxn id="753" idx="2"/>
          </p:cNvCxnSpPr>
          <p:nvPr/>
        </p:nvCxnSpPr>
        <p:spPr>
          <a:xfrm flipV="1">
            <a:off x="1728720" y="276156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54" name=""/>
          <p:cNvGrpSpPr/>
          <p:nvPr/>
        </p:nvGrpSpPr>
        <p:grpSpPr>
          <a:xfrm>
            <a:off x="2236680" y="1752480"/>
            <a:ext cx="762120" cy="990720"/>
            <a:chOff x="2236680" y="1752480"/>
            <a:chExt cx="762120" cy="990720"/>
          </a:xfrm>
        </p:grpSpPr>
        <p:sp>
          <p:nvSpPr>
            <p:cNvPr id="753" name=""/>
            <p:cNvSpPr/>
            <p:nvPr/>
          </p:nvSpPr>
          <p:spPr>
            <a:xfrm>
              <a:off x="22366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922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416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6" idx="6"/>
            <a:endCxn id="758" idx="1"/>
          </p:cNvCxnSpPr>
          <p:nvPr/>
        </p:nvCxnSpPr>
        <p:spPr>
          <a:xfrm>
            <a:off x="2693880" y="2437920"/>
            <a:ext cx="37872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59" name=""/>
          <p:cNvCxnSpPr>
            <a:stCxn id="749" idx="1"/>
            <a:endCxn id="758" idx="4"/>
          </p:cNvCxnSpPr>
          <p:nvPr/>
        </p:nvCxnSpPr>
        <p:spPr>
          <a:xfrm flipH="1" flipV="1">
            <a:off x="3314520" y="3924000"/>
            <a:ext cx="746640" cy="1061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0" name=""/>
          <p:cNvGrpSpPr/>
          <p:nvPr/>
        </p:nvGrpSpPr>
        <p:grpSpPr>
          <a:xfrm>
            <a:off x="1143000" y="3314880"/>
            <a:ext cx="936360" cy="613800"/>
            <a:chOff x="1143000" y="3314880"/>
            <a:chExt cx="936360" cy="613800"/>
          </a:xfrm>
        </p:grpSpPr>
        <p:sp>
          <p:nvSpPr>
            <p:cNvPr id="752" name=""/>
            <p:cNvSpPr/>
            <p:nvPr/>
          </p:nvSpPr>
          <p:spPr>
            <a:xfrm>
              <a:off x="11430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169848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848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2971800" y="3314880"/>
            <a:ext cx="925560" cy="609480"/>
            <a:chOff x="2971800" y="3314880"/>
            <a:chExt cx="925560" cy="609480"/>
          </a:xfrm>
        </p:grpSpPr>
        <p:sp>
          <p:nvSpPr>
            <p:cNvPr id="758" name=""/>
            <p:cNvSpPr/>
            <p:nvPr/>
          </p:nvSpPr>
          <p:spPr>
            <a:xfrm>
              <a:off x="29718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4" name=""/>
            <p:cNvGraphicFramePr/>
            <p:nvPr/>
          </p:nvGraphicFramePr>
          <p:xfrm>
            <a:off x="351648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66" name=""/>
          <p:cNvCxnSpPr>
            <a:stCxn id="750" idx="6"/>
            <a:endCxn id="767" idx="4"/>
          </p:cNvCxnSpPr>
          <p:nvPr/>
        </p:nvCxnSpPr>
        <p:spPr>
          <a:xfrm flipV="1">
            <a:off x="4191120" y="3962160"/>
            <a:ext cx="713520" cy="14580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8" name=""/>
          <p:cNvGrpSpPr/>
          <p:nvPr/>
        </p:nvGrpSpPr>
        <p:grpSpPr>
          <a:xfrm>
            <a:off x="1523880" y="4772160"/>
            <a:ext cx="761760" cy="1072080"/>
            <a:chOff x="1523880" y="4772160"/>
            <a:chExt cx="761760" cy="1072080"/>
          </a:xfrm>
        </p:grpSpPr>
        <p:grpSp>
          <p:nvGrpSpPr>
            <p:cNvPr id="769" name=""/>
            <p:cNvGrpSpPr/>
            <p:nvPr/>
          </p:nvGrpSpPr>
          <p:grpSpPr>
            <a:xfrm>
              <a:off x="1523880" y="4772160"/>
              <a:ext cx="761760" cy="1072080"/>
              <a:chOff x="1523880" y="4772160"/>
              <a:chExt cx="761760" cy="1072080"/>
            </a:xfrm>
          </p:grpSpPr>
          <p:sp>
            <p:nvSpPr>
              <p:cNvPr id="770" name=""/>
              <p:cNvSpPr/>
              <p:nvPr/>
            </p:nvSpPr>
            <p:spPr>
              <a:xfrm>
                <a:off x="1523880" y="477216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679400" y="54036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828440" y="50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3" name=""/>
          <p:cNvCxnSpPr>
            <a:stCxn id="758" idx="3"/>
            <a:endCxn id="770" idx="0"/>
          </p:cNvCxnSpPr>
          <p:nvPr/>
        </p:nvCxnSpPr>
        <p:spPr>
          <a:xfrm flipH="1">
            <a:off x="1904400" y="3835080"/>
            <a:ext cx="1167480" cy="9183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72" idx="2"/>
            <a:endCxn id="752" idx="4"/>
          </p:cNvCxnSpPr>
          <p:nvPr/>
        </p:nvCxnSpPr>
        <p:spPr>
          <a:xfrm flipH="1" flipV="1">
            <a:off x="1485720" y="392400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1981080" y="3086280"/>
            <a:ext cx="838440" cy="126972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67" idx="1"/>
            <a:endCxn id="753" idx="3"/>
          </p:cNvCxnSpPr>
          <p:nvPr/>
        </p:nvCxnSpPr>
        <p:spPr>
          <a:xfrm flipH="1" flipV="1">
            <a:off x="3017520" y="2437920"/>
            <a:ext cx="1643760" cy="10036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77" name=""/>
          <p:cNvGrpSpPr/>
          <p:nvPr/>
        </p:nvGrpSpPr>
        <p:grpSpPr>
          <a:xfrm>
            <a:off x="4560840" y="3352680"/>
            <a:ext cx="925560" cy="609840"/>
            <a:chOff x="4560840" y="3352680"/>
            <a:chExt cx="925560" cy="609840"/>
          </a:xfrm>
        </p:grpSpPr>
        <p:sp>
          <p:nvSpPr>
            <p:cNvPr id="767" name=""/>
            <p:cNvSpPr/>
            <p:nvPr/>
          </p:nvSpPr>
          <p:spPr>
            <a:xfrm>
              <a:off x="45608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51055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0" name=""/>
          <p:cNvSpPr txBox="1"/>
          <p:nvPr/>
        </p:nvSpPr>
        <p:spPr>
          <a:xfrm>
            <a:off x="4152960" y="205740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1" name=""/>
          <p:cNvSpPr/>
          <p:nvPr/>
        </p:nvSpPr>
        <p:spPr>
          <a:xfrm>
            <a:off x="6248520" y="4114800"/>
            <a:ext cx="1828800" cy="1143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6600" y="41911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10280" y="365760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53280" y="495288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19920" y="3429000"/>
            <a:ext cx="2743200" cy="26668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im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all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 &amp; Rec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64000">
            <a:off x="5181120" y="3886200"/>
            <a:ext cx="3203640" cy="152388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029200" y="4148280"/>
            <a:ext cx="609480" cy="263160"/>
            <a:chOff x="5029200" y="4148280"/>
            <a:chExt cx="609480" cy="263160"/>
          </a:xfrm>
        </p:grpSpPr>
        <p:sp>
          <p:nvSpPr>
            <p:cNvPr id="792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577120" y="4367520"/>
              <a:ext cx="52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566680" y="4315320"/>
              <a:ext cx="70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574240" y="4332960"/>
              <a:ext cx="63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7840" y="4343400"/>
              <a:ext cx="48240" cy="792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29200" y="4321080"/>
              <a:ext cx="622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29200" y="4299120"/>
              <a:ext cx="7884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51520" y="4261680"/>
              <a:ext cx="548640" cy="183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53320" y="4268880"/>
              <a:ext cx="532800" cy="1296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55560" y="4154040"/>
              <a:ext cx="314640" cy="2070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87600" y="4302000"/>
              <a:ext cx="293760" cy="57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94800" y="4315320"/>
              <a:ext cx="28080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47520" y="4243680"/>
              <a:ext cx="8640" cy="1317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84800" y="4155480"/>
              <a:ext cx="15840" cy="2037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3000" y="4298400"/>
              <a:ext cx="5760" cy="57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63000" y="4298400"/>
              <a:ext cx="5760" cy="57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12160" y="4265280"/>
              <a:ext cx="2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12160" y="4265280"/>
              <a:ext cx="23760" cy="108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12160" y="4265280"/>
              <a:ext cx="2376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12160" y="4265280"/>
              <a:ext cx="23760" cy="72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67800" y="4259520"/>
              <a:ext cx="241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67800" y="4259520"/>
              <a:ext cx="24120" cy="108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67800" y="4259520"/>
              <a:ext cx="2412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67800" y="4259520"/>
              <a:ext cx="24120" cy="72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67680" y="4242240"/>
              <a:ext cx="136800" cy="33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4320" y="4232880"/>
              <a:ext cx="397440" cy="1656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41800" y="4155480"/>
              <a:ext cx="133560" cy="734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37840" y="4259520"/>
              <a:ext cx="136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34960" y="42688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34960" y="4283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87520" y="4163400"/>
              <a:ext cx="105840" cy="7272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53760" y="4160520"/>
              <a:ext cx="3600" cy="122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924680" y="4191120"/>
            <a:ext cx="533520" cy="232920"/>
            <a:chOff x="7924680" y="4191120"/>
            <a:chExt cx="533520" cy="232920"/>
          </a:xfrm>
        </p:grpSpPr>
        <p:sp>
          <p:nvSpPr>
            <p:cNvPr id="856" name=""/>
            <p:cNvSpPr/>
            <p:nvPr/>
          </p:nvSpPr>
          <p:spPr>
            <a:xfrm>
              <a:off x="8326440" y="4265280"/>
              <a:ext cx="13680" cy="1656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430840" y="42883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434440" y="4298400"/>
              <a:ext cx="15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25040" y="4336920"/>
              <a:ext cx="56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402400" y="4321440"/>
              <a:ext cx="522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411040" y="4330080"/>
              <a:ext cx="435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097120" y="4272120"/>
              <a:ext cx="324360" cy="72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087040" y="4195440"/>
              <a:ext cx="334800" cy="17820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7240" y="4374000"/>
              <a:ext cx="258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37640" y="4367520"/>
              <a:ext cx="30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54560" y="4295880"/>
              <a:ext cx="479520" cy="1116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34280" y="4197240"/>
              <a:ext cx="14040" cy="17640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77600" y="4304520"/>
              <a:ext cx="93960" cy="6480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0320" y="4302720"/>
              <a:ext cx="86400" cy="680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7520" y="4198320"/>
              <a:ext cx="46080" cy="1072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28960" y="4282560"/>
              <a:ext cx="1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28960" y="4282560"/>
              <a:ext cx="19800" cy="1116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63640" y="4333320"/>
              <a:ext cx="264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0040" y="4329000"/>
              <a:ext cx="2700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952880" y="3276720"/>
            <a:ext cx="3657240" cy="1447200"/>
            <a:chOff x="4952880" y="3276720"/>
            <a:chExt cx="3657240" cy="1447200"/>
          </a:xfrm>
        </p:grpSpPr>
        <p:sp>
          <p:nvSpPr>
            <p:cNvPr id="912" name=""/>
            <p:cNvSpPr/>
            <p:nvPr/>
          </p:nvSpPr>
          <p:spPr>
            <a:xfrm>
              <a:off x="4952880" y="3276720"/>
              <a:ext cx="3657240" cy="144720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0880" y="4409280"/>
              <a:ext cx="74124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52120" y="3838680"/>
              <a:ext cx="3852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87840" y="3471120"/>
              <a:ext cx="139320" cy="11304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3641760"/>
              <a:ext cx="597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4356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09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74160" y="4291560"/>
              <a:ext cx="16164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2120" y="400068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2120" y="418752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52120" y="3900960"/>
              <a:ext cx="41076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52120" y="4083480"/>
              <a:ext cx="41076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2440" y="3838680"/>
              <a:ext cx="38808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35840" y="3471120"/>
              <a:ext cx="135360" cy="1130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75440" y="3641760"/>
              <a:ext cx="601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57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87600" y="3641760"/>
              <a:ext cx="651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22160" y="4291560"/>
              <a:ext cx="16128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00120" y="400068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00120" y="418752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00120" y="3900960"/>
              <a:ext cx="41040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00120" y="4083480"/>
              <a:ext cx="41040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36800" y="3785400"/>
              <a:ext cx="692640" cy="133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648320" y="4800600"/>
            <a:ext cx="1752480" cy="1066680"/>
          </a:xfrm>
          <a:prstGeom prst="wedgeEllipseCallout">
            <a:avLst>
              <a:gd name="adj1" fmla="val 73550"/>
              <a:gd name="adj2" fmla="val -869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067280" y="5224320"/>
            <a:ext cx="533160" cy="228600"/>
            <a:chOff x="4067280" y="5224320"/>
            <a:chExt cx="533160" cy="228600"/>
          </a:xfrm>
        </p:grpSpPr>
        <p:sp>
          <p:nvSpPr>
            <p:cNvPr id="937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73640" y="5239440"/>
              <a:ext cx="80280" cy="198000"/>
            </a:xfrm>
            <a:custGeom>
              <a:avLst/>
              <a:gdLst>
                <a:gd name="textAreaLeft" fmla="*/ 2160 w 80280"/>
                <a:gd name="textAreaRight" fmla="*/ 78120 w 80280"/>
                <a:gd name="textAreaTop" fmla="*/ 2160 h 198000"/>
                <a:gd name="textAreaBottom" fmla="*/ 195840 h 198000"/>
              </a:gdLst>
              <a:ahLst/>
              <a:rect l="textAreaLeft" t="textAreaTop" r="textAreaRight" b="textAreaBottom"/>
              <a:pathLst>
                <a:path w="21600" h="53132">
                  <a:moveTo>
                    <a:pt x="2139" y="0"/>
                  </a:moveTo>
                  <a:arcTo wR="2139" hR="2139" stAng="16200000" swAng="-5400000"/>
                  <a:lnTo>
                    <a:pt x="0" y="50993"/>
                  </a:lnTo>
                  <a:arcTo wR="2139" hR="2139" stAng="10800000" swAng="-5400000"/>
                  <a:lnTo>
                    <a:pt x="19461" y="5313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05800" y="5241600"/>
              <a:ext cx="72000" cy="195120"/>
            </a:xfrm>
            <a:custGeom>
              <a:avLst/>
              <a:gdLst>
                <a:gd name="textAreaLeft" fmla="*/ 1800 w 72000"/>
                <a:gd name="textAreaRight" fmla="*/ 70200 w 72000"/>
                <a:gd name="textAreaTop" fmla="*/ 1800 h 195120"/>
                <a:gd name="textAreaBottom" fmla="*/ 193320 h 195120"/>
              </a:gdLst>
              <a:ahLst/>
              <a:rect l="textAreaLeft" t="textAreaTop" r="textAreaRight" b="textAreaBottom"/>
              <a:pathLst>
                <a:path w="21600" h="58352">
                  <a:moveTo>
                    <a:pt x="2143" y="0"/>
                  </a:moveTo>
                  <a:arcTo wR="2143" hR="2143" stAng="16200000" swAng="-5400000"/>
                  <a:lnTo>
                    <a:pt x="0" y="56209"/>
                  </a:lnTo>
                  <a:arcTo wR="2143" hR="2143" stAng="10800000" swAng="-5400000"/>
                  <a:lnTo>
                    <a:pt x="19457" y="5835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346800" y="5224320"/>
            <a:ext cx="457200" cy="228600"/>
            <a:chOff x="6346800" y="5224320"/>
            <a:chExt cx="457200" cy="228600"/>
          </a:xfrm>
        </p:grpSpPr>
        <p:sp>
          <p:nvSpPr>
            <p:cNvPr id="942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57680" y="5240160"/>
              <a:ext cx="89640" cy="196560"/>
            </a:xfrm>
            <a:custGeom>
              <a:avLst/>
              <a:gdLst>
                <a:gd name="textAreaLeft" fmla="*/ 2520 w 89640"/>
                <a:gd name="textAreaRight" fmla="*/ 87120 w 89640"/>
                <a:gd name="textAreaTop" fmla="*/ 2520 h 196560"/>
                <a:gd name="textAreaBottom" fmla="*/ 194040 h 196560"/>
              </a:gdLst>
              <a:ahLst/>
              <a:rect l="textAreaLeft" t="textAreaTop" r="textAreaRight" b="textAreaBottom"/>
              <a:pathLst>
                <a:path w="21600" h="47261">
                  <a:moveTo>
                    <a:pt x="2143" y="0"/>
                  </a:moveTo>
                  <a:arcTo wR="2143" hR="2143" stAng="16200000" swAng="-5400000"/>
                  <a:lnTo>
                    <a:pt x="0" y="45118"/>
                  </a:lnTo>
                  <a:arcTo wR="2143" hR="2143" stAng="10800000" swAng="-5400000"/>
                  <a:lnTo>
                    <a:pt x="19457" y="472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18680" y="5241240"/>
              <a:ext cx="63720" cy="194760"/>
            </a:xfrm>
            <a:custGeom>
              <a:avLst/>
              <a:gdLst>
                <a:gd name="textAreaLeft" fmla="*/ 1800 w 63720"/>
                <a:gd name="textAreaRight" fmla="*/ 61920 w 63720"/>
                <a:gd name="textAreaTop" fmla="*/ 1800 h 194760"/>
                <a:gd name="textAreaBottom" fmla="*/ 192960 h 194760"/>
              </a:gdLst>
              <a:ahLst/>
              <a:rect l="textAreaLeft" t="textAreaTop" r="textAreaRight" b="textAreaBottom"/>
              <a:pathLst>
                <a:path w="21600" h="65771">
                  <a:moveTo>
                    <a:pt x="2150" y="0"/>
                  </a:moveTo>
                  <a:arcTo wR="2150" hR="2150" stAng="16200000" swAng="-5400000"/>
                  <a:lnTo>
                    <a:pt x="0" y="63621"/>
                  </a:lnTo>
                  <a:arcTo wR="2150" hR="2150" stAng="10800000" swAng="-5400000"/>
                  <a:lnTo>
                    <a:pt x="19450" y="65771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757760" y="5181480"/>
            <a:ext cx="1490760" cy="325440"/>
            <a:chOff x="4757760" y="5181480"/>
            <a:chExt cx="1490760" cy="325440"/>
          </a:xfrm>
        </p:grpSpPr>
        <p:sp>
          <p:nvSpPr>
            <p:cNvPr id="947" name=""/>
            <p:cNvSpPr/>
            <p:nvPr/>
          </p:nvSpPr>
          <p:spPr>
            <a:xfrm>
              <a:off x="4757760" y="518148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57760" y="550692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3774E-006 L 0.12934 3.23774E-006 E">
                                      <p:cBhvr>
                                        <p:cTn id="1573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9288E-006 L -0.11232 1.69288E-006 E">
                                      <p:cBhvr>
                                        <p:cTn id="1575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6281E-007 L -0.09445 4.16281E-007 E">
                                      <p:cBhvr>
                                        <p:cTn id="1577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11841E-006 L 0.08663 2.11841E-006 E">
                                      <p:cBhvr>
                                        <p:cTn id="1579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6172200" y="4267080"/>
            <a:ext cx="837720" cy="288720"/>
            <a:chOff x="6172200" y="4267080"/>
            <a:chExt cx="837720" cy="288720"/>
          </a:xfrm>
        </p:grpSpPr>
        <p:sp>
          <p:nvSpPr>
            <p:cNvPr id="951" name=""/>
            <p:cNvSpPr/>
            <p:nvPr/>
          </p:nvSpPr>
          <p:spPr>
            <a:xfrm>
              <a:off x="68032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9667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9728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729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69231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69364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4432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270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961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1927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193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85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553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935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047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72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072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903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46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715000" y="3124080"/>
            <a:ext cx="685800" cy="1523880"/>
            <a:chOff x="5715000" y="3124080"/>
            <a:chExt cx="685800" cy="1523880"/>
          </a:xfrm>
        </p:grpSpPr>
        <p:sp>
          <p:nvSpPr>
            <p:cNvPr id="1008" name=""/>
            <p:cNvSpPr/>
            <p:nvPr/>
          </p:nvSpPr>
          <p:spPr>
            <a:xfrm>
              <a:off x="6009840" y="375912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715000" y="3124080"/>
              <a:ext cx="685800" cy="698400"/>
              <a:chOff x="5715000" y="3124080"/>
              <a:chExt cx="685800" cy="698400"/>
            </a:xfrm>
          </p:grpSpPr>
          <p:sp>
            <p:nvSpPr>
              <p:cNvPr id="1010" name=""/>
              <p:cNvSpPr/>
              <p:nvPr/>
            </p:nvSpPr>
            <p:spPr>
              <a:xfrm>
                <a:off x="5715000" y="3124080"/>
                <a:ext cx="685800" cy="698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39560" y="340956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2" name=""/>
          <p:cNvSpPr/>
          <p:nvPr/>
        </p:nvSpPr>
        <p:spPr>
          <a:xfrm>
            <a:off x="4300560" y="2351160"/>
            <a:ext cx="762120" cy="271440"/>
          </a:xfrm>
          <a:prstGeom prst="rightArrow">
            <a:avLst>
              <a:gd name="adj1" fmla="val 50000"/>
              <a:gd name="adj2" fmla="val 7019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93960" y="167652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72720" y="5089680"/>
            <a:ext cx="513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176880" y="4264200"/>
            <a:ext cx="838080" cy="288720"/>
            <a:chOff x="6176880" y="4264200"/>
            <a:chExt cx="838080" cy="288720"/>
          </a:xfrm>
        </p:grpSpPr>
        <p:sp>
          <p:nvSpPr>
            <p:cNvPr id="1016" name=""/>
            <p:cNvSpPr/>
            <p:nvPr/>
          </p:nvSpPr>
          <p:spPr>
            <a:xfrm>
              <a:off x="6807960" y="435600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971760" y="4384440"/>
              <a:ext cx="2700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977880" y="4396680"/>
              <a:ext cx="2376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77600" y="4444920"/>
              <a:ext cx="892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928200" y="4425480"/>
              <a:ext cx="8208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941160" y="4436280"/>
              <a:ext cx="6876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47960" y="436428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32120" y="4269600"/>
              <a:ext cx="526320" cy="22068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00800" y="4490280"/>
              <a:ext cx="40536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97400" y="4482720"/>
              <a:ext cx="478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24040" y="439380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63240" y="4271760"/>
              <a:ext cx="21960" cy="21852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60040" y="440460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98600" y="440208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09760" y="4273200"/>
              <a:ext cx="72720" cy="1324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12280" y="4377600"/>
              <a:ext cx="30960" cy="13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12280" y="437760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95040" y="4440240"/>
              <a:ext cx="41580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9640" y="4434840"/>
              <a:ext cx="4240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438280" y="3200400"/>
            <a:ext cx="609840" cy="1447560"/>
            <a:chOff x="2438280" y="3200400"/>
            <a:chExt cx="609840" cy="1447560"/>
          </a:xfrm>
        </p:grpSpPr>
        <p:sp>
          <p:nvSpPr>
            <p:cNvPr id="1072" name=""/>
            <p:cNvSpPr/>
            <p:nvPr/>
          </p:nvSpPr>
          <p:spPr>
            <a:xfrm>
              <a:off x="2699280" y="38034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2438280" y="3200400"/>
              <a:ext cx="609840" cy="723960"/>
              <a:chOff x="2438280" y="3200400"/>
              <a:chExt cx="609840" cy="723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438280" y="3200400"/>
                <a:ext cx="60984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76880" y="33206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07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819520" y="2286000"/>
            <a:ext cx="838080" cy="380880"/>
            <a:chOff x="2819520" y="2286000"/>
            <a:chExt cx="838080" cy="380880"/>
          </a:xfrm>
        </p:grpSpPr>
        <p:sp>
          <p:nvSpPr>
            <p:cNvPr id="1080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0120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8036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116760" y="2286000"/>
            <a:ext cx="817200" cy="380520"/>
            <a:chOff x="6116760" y="2286000"/>
            <a:chExt cx="817200" cy="380520"/>
          </a:xfrm>
        </p:grpSpPr>
        <p:sp>
          <p:nvSpPr>
            <p:cNvPr id="1085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15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81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019920" y="2133720"/>
            <a:ext cx="990360" cy="838080"/>
            <a:chOff x="6019920" y="2133720"/>
            <a:chExt cx="990360" cy="838080"/>
          </a:xfrm>
        </p:grpSpPr>
        <p:sp>
          <p:nvSpPr>
            <p:cNvPr id="1090" name=""/>
            <p:cNvSpPr/>
            <p:nvPr/>
          </p:nvSpPr>
          <p:spPr>
            <a:xfrm>
              <a:off x="6019920" y="2273400"/>
              <a:ext cx="990360" cy="69840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02320" y="2133720"/>
              <a:ext cx="354960" cy="77796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743200" y="4232160"/>
            <a:ext cx="838080" cy="339480"/>
            <a:chOff x="2743200" y="4232160"/>
            <a:chExt cx="838080" cy="339480"/>
          </a:xfrm>
        </p:grpSpPr>
        <p:sp>
          <p:nvSpPr>
            <p:cNvPr id="1093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49704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48264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49344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5508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320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320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4160" y="4378320"/>
              <a:ext cx="75456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76320" y="4387680"/>
              <a:ext cx="73260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1708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6100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7072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848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9456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3972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3972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3236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3236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3236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3236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364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364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3364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3364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584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64080" y="4341240"/>
              <a:ext cx="54648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6048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5508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5112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5112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2348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1456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157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5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5738760" y="2286000"/>
            <a:ext cx="817200" cy="380520"/>
            <a:chOff x="5738760" y="2286000"/>
            <a:chExt cx="817200" cy="380520"/>
          </a:xfrm>
        </p:grpSpPr>
        <p:sp>
          <p:nvSpPr>
            <p:cNvPr id="1181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37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03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715000" y="4267080"/>
            <a:ext cx="837720" cy="288720"/>
            <a:chOff x="5715000" y="4267080"/>
            <a:chExt cx="837720" cy="288720"/>
          </a:xfrm>
        </p:grpSpPr>
        <p:sp>
          <p:nvSpPr>
            <p:cNvPr id="1187" name=""/>
            <p:cNvSpPr/>
            <p:nvPr/>
          </p:nvSpPr>
          <p:spPr>
            <a:xfrm>
              <a:off x="63460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65095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5156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157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4659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4792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860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698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389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355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621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013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981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363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475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500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500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331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274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916360" y="3124080"/>
            <a:ext cx="360360" cy="1676520"/>
            <a:chOff x="2916360" y="3124080"/>
            <a:chExt cx="360360" cy="1676520"/>
          </a:xfrm>
        </p:grpSpPr>
        <p:grpSp>
          <p:nvGrpSpPr>
            <p:cNvPr id="1244" name=""/>
            <p:cNvGrpSpPr/>
            <p:nvPr/>
          </p:nvGrpSpPr>
          <p:grpSpPr>
            <a:xfrm>
              <a:off x="2916360" y="3124080"/>
              <a:ext cx="360360" cy="1676520"/>
              <a:chOff x="2916360" y="3124080"/>
              <a:chExt cx="360360" cy="167652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2916360" y="3124080"/>
                <a:ext cx="360360" cy="907920"/>
                <a:chOff x="2916360" y="3124080"/>
                <a:chExt cx="360360" cy="9079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291636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7072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7072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8728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0" name=""/>
                <p:cNvGrpSpPr/>
                <p:nvPr/>
              </p:nvGrpSpPr>
              <p:grpSpPr>
                <a:xfrm>
                  <a:off x="3107520" y="3192480"/>
                  <a:ext cx="37800" cy="36000"/>
                  <a:chOff x="3107520" y="3192480"/>
                  <a:chExt cx="37800" cy="3600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310752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312624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3" name=""/>
                <p:cNvSpPr/>
                <p:nvPr/>
              </p:nvSpPr>
              <p:spPr>
                <a:xfrm>
                  <a:off x="296424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96532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8152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" name=""/>
                <p:cNvGrpSpPr/>
                <p:nvPr/>
              </p:nvGrpSpPr>
              <p:grpSpPr>
                <a:xfrm>
                  <a:off x="3101760" y="3492360"/>
                  <a:ext cx="37800" cy="36000"/>
                  <a:chOff x="3101760" y="3492360"/>
                  <a:chExt cx="37800" cy="3600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310176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12084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2970720" y="3736800"/>
                  <a:ext cx="249480" cy="247320"/>
                  <a:chOff x="2970720" y="3736800"/>
                  <a:chExt cx="249480" cy="24732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297072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2970720" y="3745440"/>
                    <a:ext cx="249480" cy="238680"/>
                    <a:chOff x="2970720" y="3745440"/>
                    <a:chExt cx="249480" cy="23868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297072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298692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3107160" y="3776040"/>
                      <a:ext cx="37800" cy="37080"/>
                      <a:chOff x="3107160" y="3776040"/>
                      <a:chExt cx="37800" cy="37080"/>
                    </a:xfrm>
                  </p:grpSpPr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310716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312588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67" name=""/>
              <p:cNvSpPr/>
              <p:nvPr/>
            </p:nvSpPr>
            <p:spPr>
              <a:xfrm>
                <a:off x="3057840" y="4038480"/>
                <a:ext cx="74520" cy="762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986200" y="3165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75040" y="346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410080" y="3124080"/>
            <a:ext cx="360360" cy="1676520"/>
            <a:chOff x="5410080" y="3124080"/>
            <a:chExt cx="360360" cy="1676520"/>
          </a:xfrm>
        </p:grpSpPr>
        <p:grpSp>
          <p:nvGrpSpPr>
            <p:cNvPr id="1271" name=""/>
            <p:cNvGrpSpPr/>
            <p:nvPr/>
          </p:nvGrpSpPr>
          <p:grpSpPr>
            <a:xfrm>
              <a:off x="5410080" y="3124080"/>
              <a:ext cx="360360" cy="1676520"/>
              <a:chOff x="5410080" y="3124080"/>
              <a:chExt cx="360360" cy="1676520"/>
            </a:xfrm>
          </p:grpSpPr>
          <p:grpSp>
            <p:nvGrpSpPr>
              <p:cNvPr id="1272" name=""/>
              <p:cNvGrpSpPr/>
              <p:nvPr/>
            </p:nvGrpSpPr>
            <p:grpSpPr>
              <a:xfrm>
                <a:off x="5410080" y="3124080"/>
                <a:ext cx="360360" cy="907920"/>
                <a:chOff x="5410080" y="3124080"/>
                <a:chExt cx="360360" cy="9079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41008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46444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46444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48100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5601240" y="3192480"/>
                  <a:ext cx="37800" cy="36000"/>
                  <a:chOff x="5601240" y="3192480"/>
                  <a:chExt cx="37800" cy="360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560124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61996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" name=""/>
                <p:cNvSpPr/>
                <p:nvPr/>
              </p:nvSpPr>
              <p:spPr>
                <a:xfrm>
                  <a:off x="545796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45904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47524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5595480" y="3492360"/>
                  <a:ext cx="37800" cy="36000"/>
                  <a:chOff x="5595480" y="3492360"/>
                  <a:chExt cx="37800" cy="360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59548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61456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5464440" y="3736800"/>
                  <a:ext cx="249480" cy="247320"/>
                  <a:chOff x="5464440" y="3736800"/>
                  <a:chExt cx="249480" cy="2473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546444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5464440" y="3745440"/>
                    <a:ext cx="249480" cy="238680"/>
                    <a:chOff x="5464440" y="3745440"/>
                    <a:chExt cx="249480" cy="238680"/>
                  </a:xfrm>
                </p:grpSpPr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546444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548064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1" name=""/>
                    <p:cNvGrpSpPr/>
                    <p:nvPr/>
                  </p:nvGrpSpPr>
                  <p:grpSpPr>
                    <a:xfrm>
                      <a:off x="5600880" y="3776040"/>
                      <a:ext cx="37800" cy="37080"/>
                      <a:chOff x="5600880" y="3776040"/>
                      <a:chExt cx="37800" cy="37080"/>
                    </a:xfrm>
                  </p:grpSpPr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560088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561960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94" name=""/>
              <p:cNvSpPr/>
              <p:nvPr/>
            </p:nvSpPr>
            <p:spPr>
              <a:xfrm>
                <a:off x="5551560" y="4038480"/>
                <a:ext cx="74520" cy="762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5483160" y="3754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76680" y="3467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327672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4680" y="16765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967320" y="5089680"/>
            <a:ext cx="551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+ Need extra 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0000" y="1557360"/>
            <a:ext cx="1600200" cy="1371600"/>
          </a:xfrm>
          <a:prstGeom prst="wedgeEllipseCallout">
            <a:avLst>
              <a:gd name="adj1" fmla="val -67560"/>
              <a:gd name="adj2" fmla="val 7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88160" y="1839960"/>
            <a:ext cx="609480" cy="762120"/>
          </a:xfrm>
          <a:prstGeom prst="rect">
            <a:avLst/>
          </a:prstGeom>
          <a:solidFill>
            <a:srgbClr val="618ff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019920" y="1981080"/>
            <a:ext cx="457200" cy="612360"/>
            <a:chOff x="6019920" y="1981080"/>
            <a:chExt cx="457200" cy="612360"/>
          </a:xfrm>
        </p:grpSpPr>
        <p:sp>
          <p:nvSpPr>
            <p:cNvPr id="1304" name=""/>
            <p:cNvSpPr/>
            <p:nvPr/>
          </p:nvSpPr>
          <p:spPr>
            <a:xfrm>
              <a:off x="6120720" y="2364840"/>
              <a:ext cx="356040" cy="226080"/>
            </a:xfrm>
            <a:custGeom>
              <a:avLst/>
              <a:gdLst/>
              <a:ahLst/>
              <a:rect l="l" t="t" r="r" b="b"/>
              <a:pathLst>
                <a:path w="1108" h="714">
                  <a:moveTo>
                    <a:pt x="0" y="708"/>
                  </a:moveTo>
                  <a:lnTo>
                    <a:pt x="88" y="600"/>
                  </a:lnTo>
                  <a:lnTo>
                    <a:pt x="326" y="413"/>
                  </a:lnTo>
                  <a:lnTo>
                    <a:pt x="721" y="181"/>
                  </a:lnTo>
                  <a:lnTo>
                    <a:pt x="1014" y="39"/>
                  </a:lnTo>
                  <a:lnTo>
                    <a:pt x="1108" y="0"/>
                  </a:lnTo>
                  <a:lnTo>
                    <a:pt x="1108" y="714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29720" y="2505600"/>
              <a:ext cx="106200" cy="87840"/>
            </a:xfrm>
            <a:custGeom>
              <a:avLst/>
              <a:gdLst/>
              <a:ahLst/>
              <a:rect l="l" t="t" r="r" b="b"/>
              <a:pathLst>
                <a:path w="330" h="274">
                  <a:moveTo>
                    <a:pt x="284" y="0"/>
                  </a:moveTo>
                  <a:lnTo>
                    <a:pt x="282" y="2"/>
                  </a:lnTo>
                  <a:lnTo>
                    <a:pt x="274" y="6"/>
                  </a:lnTo>
                  <a:lnTo>
                    <a:pt x="263" y="14"/>
                  </a:lnTo>
                  <a:lnTo>
                    <a:pt x="247" y="25"/>
                  </a:lnTo>
                  <a:lnTo>
                    <a:pt x="229" y="39"/>
                  </a:lnTo>
                  <a:lnTo>
                    <a:pt x="208" y="55"/>
                  </a:lnTo>
                  <a:lnTo>
                    <a:pt x="186" y="72"/>
                  </a:lnTo>
                  <a:lnTo>
                    <a:pt x="163" y="91"/>
                  </a:lnTo>
                  <a:lnTo>
                    <a:pt x="138" y="111"/>
                  </a:lnTo>
                  <a:lnTo>
                    <a:pt x="114" y="132"/>
                  </a:lnTo>
                  <a:lnTo>
                    <a:pt x="90" y="154"/>
                  </a:lnTo>
                  <a:lnTo>
                    <a:pt x="67" y="177"/>
                  </a:lnTo>
                  <a:lnTo>
                    <a:pt x="47" y="200"/>
                  </a:lnTo>
                  <a:lnTo>
                    <a:pt x="28" y="222"/>
                  </a:lnTo>
                  <a:lnTo>
                    <a:pt x="12" y="246"/>
                  </a:lnTo>
                  <a:lnTo>
                    <a:pt x="0" y="267"/>
                  </a:lnTo>
                  <a:lnTo>
                    <a:pt x="67" y="274"/>
                  </a:lnTo>
                  <a:lnTo>
                    <a:pt x="330" y="58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19920" y="1981080"/>
              <a:ext cx="457200" cy="611280"/>
            </a:xfrm>
            <a:custGeom>
              <a:avLst/>
              <a:gdLst/>
              <a:ahLst/>
              <a:rect l="l" t="t" r="r" b="b"/>
              <a:pathLst>
                <a:path w="1425" h="1925">
                  <a:moveTo>
                    <a:pt x="530" y="13"/>
                  </a:moveTo>
                  <a:lnTo>
                    <a:pt x="543" y="12"/>
                  </a:lnTo>
                  <a:lnTo>
                    <a:pt x="557" y="11"/>
                  </a:lnTo>
                  <a:lnTo>
                    <a:pt x="570" y="9"/>
                  </a:lnTo>
                  <a:lnTo>
                    <a:pt x="584" y="8"/>
                  </a:lnTo>
                  <a:lnTo>
                    <a:pt x="597" y="6"/>
                  </a:lnTo>
                  <a:lnTo>
                    <a:pt x="611" y="5"/>
                  </a:lnTo>
                  <a:lnTo>
                    <a:pt x="625" y="4"/>
                  </a:lnTo>
                  <a:lnTo>
                    <a:pt x="638" y="3"/>
                  </a:lnTo>
                  <a:lnTo>
                    <a:pt x="652" y="2"/>
                  </a:lnTo>
                  <a:lnTo>
                    <a:pt x="666" y="2"/>
                  </a:lnTo>
                  <a:lnTo>
                    <a:pt x="680" y="2"/>
                  </a:lnTo>
                  <a:lnTo>
                    <a:pt x="693" y="3"/>
                  </a:lnTo>
                  <a:lnTo>
                    <a:pt x="706" y="5"/>
                  </a:lnTo>
                  <a:lnTo>
                    <a:pt x="719" y="7"/>
                  </a:lnTo>
                  <a:lnTo>
                    <a:pt x="732" y="11"/>
                  </a:lnTo>
                  <a:lnTo>
                    <a:pt x="745" y="16"/>
                  </a:lnTo>
                  <a:lnTo>
                    <a:pt x="763" y="25"/>
                  </a:lnTo>
                  <a:lnTo>
                    <a:pt x="781" y="36"/>
                  </a:lnTo>
                  <a:lnTo>
                    <a:pt x="798" y="48"/>
                  </a:lnTo>
                  <a:lnTo>
                    <a:pt x="814" y="62"/>
                  </a:lnTo>
                  <a:lnTo>
                    <a:pt x="830" y="77"/>
                  </a:lnTo>
                  <a:lnTo>
                    <a:pt x="844" y="93"/>
                  </a:lnTo>
                  <a:lnTo>
                    <a:pt x="859" y="110"/>
                  </a:lnTo>
                  <a:lnTo>
                    <a:pt x="874" y="126"/>
                  </a:lnTo>
                  <a:lnTo>
                    <a:pt x="889" y="142"/>
                  </a:lnTo>
                  <a:lnTo>
                    <a:pt x="905" y="157"/>
                  </a:lnTo>
                  <a:lnTo>
                    <a:pt x="922" y="172"/>
                  </a:lnTo>
                  <a:lnTo>
                    <a:pt x="939" y="185"/>
                  </a:lnTo>
                  <a:lnTo>
                    <a:pt x="956" y="200"/>
                  </a:lnTo>
                  <a:lnTo>
                    <a:pt x="972" y="216"/>
                  </a:lnTo>
                  <a:lnTo>
                    <a:pt x="987" y="232"/>
                  </a:lnTo>
                  <a:lnTo>
                    <a:pt x="999" y="249"/>
                  </a:lnTo>
                  <a:lnTo>
                    <a:pt x="1009" y="265"/>
                  </a:lnTo>
                  <a:lnTo>
                    <a:pt x="1019" y="282"/>
                  </a:lnTo>
                  <a:lnTo>
                    <a:pt x="1026" y="299"/>
                  </a:lnTo>
                  <a:lnTo>
                    <a:pt x="1033" y="317"/>
                  </a:lnTo>
                  <a:lnTo>
                    <a:pt x="1041" y="335"/>
                  </a:lnTo>
                  <a:lnTo>
                    <a:pt x="1047" y="353"/>
                  </a:lnTo>
                  <a:lnTo>
                    <a:pt x="1052" y="371"/>
                  </a:lnTo>
                  <a:lnTo>
                    <a:pt x="1059" y="389"/>
                  </a:lnTo>
                  <a:lnTo>
                    <a:pt x="1066" y="413"/>
                  </a:lnTo>
                  <a:lnTo>
                    <a:pt x="1074" y="438"/>
                  </a:lnTo>
                  <a:lnTo>
                    <a:pt x="1079" y="463"/>
                  </a:lnTo>
                  <a:lnTo>
                    <a:pt x="1083" y="490"/>
                  </a:lnTo>
                  <a:lnTo>
                    <a:pt x="1085" y="515"/>
                  </a:lnTo>
                  <a:lnTo>
                    <a:pt x="1086" y="543"/>
                  </a:lnTo>
                  <a:lnTo>
                    <a:pt x="1085" y="569"/>
                  </a:lnTo>
                  <a:lnTo>
                    <a:pt x="1081" y="597"/>
                  </a:lnTo>
                  <a:lnTo>
                    <a:pt x="1093" y="602"/>
                  </a:lnTo>
                  <a:lnTo>
                    <a:pt x="1106" y="608"/>
                  </a:lnTo>
                  <a:lnTo>
                    <a:pt x="1119" y="613"/>
                  </a:lnTo>
                  <a:lnTo>
                    <a:pt x="1132" y="619"/>
                  </a:lnTo>
                  <a:lnTo>
                    <a:pt x="1144" y="627"/>
                  </a:lnTo>
                  <a:lnTo>
                    <a:pt x="1153" y="636"/>
                  </a:lnTo>
                  <a:lnTo>
                    <a:pt x="1161" y="648"/>
                  </a:lnTo>
                  <a:lnTo>
                    <a:pt x="1164" y="664"/>
                  </a:lnTo>
                  <a:lnTo>
                    <a:pt x="1163" y="708"/>
                  </a:lnTo>
                  <a:lnTo>
                    <a:pt x="1155" y="751"/>
                  </a:lnTo>
                  <a:lnTo>
                    <a:pt x="1149" y="792"/>
                  </a:lnTo>
                  <a:lnTo>
                    <a:pt x="1151" y="835"/>
                  </a:lnTo>
                  <a:lnTo>
                    <a:pt x="1154" y="845"/>
                  </a:lnTo>
                  <a:lnTo>
                    <a:pt x="1160" y="855"/>
                  </a:lnTo>
                  <a:lnTo>
                    <a:pt x="1165" y="864"/>
                  </a:lnTo>
                  <a:lnTo>
                    <a:pt x="1171" y="874"/>
                  </a:lnTo>
                  <a:lnTo>
                    <a:pt x="1176" y="883"/>
                  </a:lnTo>
                  <a:lnTo>
                    <a:pt x="1179" y="894"/>
                  </a:lnTo>
                  <a:lnTo>
                    <a:pt x="1180" y="905"/>
                  </a:lnTo>
                  <a:lnTo>
                    <a:pt x="1178" y="915"/>
                  </a:lnTo>
                  <a:lnTo>
                    <a:pt x="1175" y="923"/>
                  </a:lnTo>
                  <a:lnTo>
                    <a:pt x="1170" y="930"/>
                  </a:lnTo>
                  <a:lnTo>
                    <a:pt x="1165" y="937"/>
                  </a:lnTo>
                  <a:lnTo>
                    <a:pt x="1160" y="945"/>
                  </a:lnTo>
                  <a:lnTo>
                    <a:pt x="1153" y="951"/>
                  </a:lnTo>
                  <a:lnTo>
                    <a:pt x="1146" y="958"/>
                  </a:lnTo>
                  <a:lnTo>
                    <a:pt x="1140" y="964"/>
                  </a:lnTo>
                  <a:lnTo>
                    <a:pt x="1132" y="969"/>
                  </a:lnTo>
                  <a:lnTo>
                    <a:pt x="1149" y="997"/>
                  </a:lnTo>
                  <a:lnTo>
                    <a:pt x="1166" y="1026"/>
                  </a:lnTo>
                  <a:lnTo>
                    <a:pt x="1183" y="1054"/>
                  </a:lnTo>
                  <a:lnTo>
                    <a:pt x="1200" y="1082"/>
                  </a:lnTo>
                  <a:lnTo>
                    <a:pt x="1217" y="1110"/>
                  </a:lnTo>
                  <a:lnTo>
                    <a:pt x="1235" y="1138"/>
                  </a:lnTo>
                  <a:lnTo>
                    <a:pt x="1254" y="1165"/>
                  </a:lnTo>
                  <a:lnTo>
                    <a:pt x="1274" y="1191"/>
                  </a:lnTo>
                  <a:lnTo>
                    <a:pt x="1283" y="1200"/>
                  </a:lnTo>
                  <a:lnTo>
                    <a:pt x="1292" y="1206"/>
                  </a:lnTo>
                  <a:lnTo>
                    <a:pt x="1303" y="1209"/>
                  </a:lnTo>
                  <a:lnTo>
                    <a:pt x="1314" y="1211"/>
                  </a:lnTo>
                  <a:lnTo>
                    <a:pt x="1326" y="1213"/>
                  </a:lnTo>
                  <a:lnTo>
                    <a:pt x="1338" y="1213"/>
                  </a:lnTo>
                  <a:lnTo>
                    <a:pt x="1351" y="1213"/>
                  </a:lnTo>
                  <a:lnTo>
                    <a:pt x="1363" y="1213"/>
                  </a:lnTo>
                  <a:lnTo>
                    <a:pt x="1425" y="1208"/>
                  </a:lnTo>
                  <a:lnTo>
                    <a:pt x="1425" y="1251"/>
                  </a:lnTo>
                  <a:lnTo>
                    <a:pt x="1366" y="1258"/>
                  </a:lnTo>
                  <a:lnTo>
                    <a:pt x="1356" y="1287"/>
                  </a:lnTo>
                  <a:lnTo>
                    <a:pt x="1348" y="1316"/>
                  </a:lnTo>
                  <a:lnTo>
                    <a:pt x="1339" y="1346"/>
                  </a:lnTo>
                  <a:lnTo>
                    <a:pt x="1334" y="1377"/>
                  </a:lnTo>
                  <a:lnTo>
                    <a:pt x="1329" y="1407"/>
                  </a:lnTo>
                  <a:lnTo>
                    <a:pt x="1325" y="1439"/>
                  </a:lnTo>
                  <a:lnTo>
                    <a:pt x="1325" y="1471"/>
                  </a:lnTo>
                  <a:lnTo>
                    <a:pt x="1326" y="1504"/>
                  </a:lnTo>
                  <a:lnTo>
                    <a:pt x="1329" y="1518"/>
                  </a:lnTo>
                  <a:lnTo>
                    <a:pt x="1332" y="1532"/>
                  </a:lnTo>
                  <a:lnTo>
                    <a:pt x="1334" y="1545"/>
                  </a:lnTo>
                  <a:lnTo>
                    <a:pt x="1334" y="1559"/>
                  </a:lnTo>
                  <a:lnTo>
                    <a:pt x="1320" y="1557"/>
                  </a:lnTo>
                  <a:lnTo>
                    <a:pt x="1305" y="1555"/>
                  </a:lnTo>
                  <a:lnTo>
                    <a:pt x="1291" y="1553"/>
                  </a:lnTo>
                  <a:lnTo>
                    <a:pt x="1277" y="1552"/>
                  </a:lnTo>
                  <a:lnTo>
                    <a:pt x="1262" y="1550"/>
                  </a:lnTo>
                  <a:lnTo>
                    <a:pt x="1248" y="1549"/>
                  </a:lnTo>
                  <a:lnTo>
                    <a:pt x="1233" y="1547"/>
                  </a:lnTo>
                  <a:lnTo>
                    <a:pt x="1218" y="1547"/>
                  </a:lnTo>
                  <a:lnTo>
                    <a:pt x="1203" y="1546"/>
                  </a:lnTo>
                  <a:lnTo>
                    <a:pt x="1188" y="1546"/>
                  </a:lnTo>
                  <a:lnTo>
                    <a:pt x="1174" y="1546"/>
                  </a:lnTo>
                  <a:lnTo>
                    <a:pt x="1159" y="1546"/>
                  </a:lnTo>
                  <a:lnTo>
                    <a:pt x="1144" y="1546"/>
                  </a:lnTo>
                  <a:lnTo>
                    <a:pt x="1129" y="1547"/>
                  </a:lnTo>
                  <a:lnTo>
                    <a:pt x="1114" y="1547"/>
                  </a:lnTo>
                  <a:lnTo>
                    <a:pt x="1099" y="1549"/>
                  </a:lnTo>
                  <a:lnTo>
                    <a:pt x="1078" y="1551"/>
                  </a:lnTo>
                  <a:lnTo>
                    <a:pt x="1058" y="1552"/>
                  </a:lnTo>
                  <a:lnTo>
                    <a:pt x="1038" y="1554"/>
                  </a:lnTo>
                  <a:lnTo>
                    <a:pt x="1017" y="1555"/>
                  </a:lnTo>
                  <a:lnTo>
                    <a:pt x="997" y="1557"/>
                  </a:lnTo>
                  <a:lnTo>
                    <a:pt x="977" y="1558"/>
                  </a:lnTo>
                  <a:lnTo>
                    <a:pt x="957" y="1560"/>
                  </a:lnTo>
                  <a:lnTo>
                    <a:pt x="937" y="1561"/>
                  </a:lnTo>
                  <a:lnTo>
                    <a:pt x="939" y="1573"/>
                  </a:lnTo>
                  <a:lnTo>
                    <a:pt x="942" y="1585"/>
                  </a:lnTo>
                  <a:lnTo>
                    <a:pt x="945" y="1595"/>
                  </a:lnTo>
                  <a:lnTo>
                    <a:pt x="948" y="1607"/>
                  </a:lnTo>
                  <a:lnTo>
                    <a:pt x="953" y="1619"/>
                  </a:lnTo>
                  <a:lnTo>
                    <a:pt x="958" y="1628"/>
                  </a:lnTo>
                  <a:lnTo>
                    <a:pt x="965" y="1639"/>
                  </a:lnTo>
                  <a:lnTo>
                    <a:pt x="975" y="1647"/>
                  </a:lnTo>
                  <a:lnTo>
                    <a:pt x="992" y="1661"/>
                  </a:lnTo>
                  <a:lnTo>
                    <a:pt x="1009" y="1674"/>
                  </a:lnTo>
                  <a:lnTo>
                    <a:pt x="1027" y="1686"/>
                  </a:lnTo>
                  <a:lnTo>
                    <a:pt x="1045" y="1699"/>
                  </a:lnTo>
                  <a:lnTo>
                    <a:pt x="1062" y="1712"/>
                  </a:lnTo>
                  <a:lnTo>
                    <a:pt x="1079" y="1726"/>
                  </a:lnTo>
                  <a:lnTo>
                    <a:pt x="1094" y="1741"/>
                  </a:lnTo>
                  <a:lnTo>
                    <a:pt x="1108" y="1756"/>
                  </a:lnTo>
                  <a:lnTo>
                    <a:pt x="1117" y="1775"/>
                  </a:lnTo>
                  <a:lnTo>
                    <a:pt x="1120" y="1795"/>
                  </a:lnTo>
                  <a:lnTo>
                    <a:pt x="1120" y="1815"/>
                  </a:lnTo>
                  <a:lnTo>
                    <a:pt x="1117" y="1837"/>
                  </a:lnTo>
                  <a:lnTo>
                    <a:pt x="1113" y="1859"/>
                  </a:lnTo>
                  <a:lnTo>
                    <a:pt x="1109" y="1882"/>
                  </a:lnTo>
                  <a:lnTo>
                    <a:pt x="1106" y="1904"/>
                  </a:lnTo>
                  <a:lnTo>
                    <a:pt x="1106" y="1925"/>
                  </a:lnTo>
                  <a:lnTo>
                    <a:pt x="860" y="1925"/>
                  </a:lnTo>
                  <a:lnTo>
                    <a:pt x="857" y="1865"/>
                  </a:lnTo>
                  <a:lnTo>
                    <a:pt x="854" y="1804"/>
                  </a:lnTo>
                  <a:lnTo>
                    <a:pt x="852" y="1744"/>
                  </a:lnTo>
                  <a:lnTo>
                    <a:pt x="850" y="1684"/>
                  </a:lnTo>
                  <a:lnTo>
                    <a:pt x="849" y="1676"/>
                  </a:lnTo>
                  <a:lnTo>
                    <a:pt x="846" y="1668"/>
                  </a:lnTo>
                  <a:lnTo>
                    <a:pt x="842" y="1661"/>
                  </a:lnTo>
                  <a:lnTo>
                    <a:pt x="838" y="1655"/>
                  </a:lnTo>
                  <a:lnTo>
                    <a:pt x="833" y="1647"/>
                  </a:lnTo>
                  <a:lnTo>
                    <a:pt x="826" y="1641"/>
                  </a:lnTo>
                  <a:lnTo>
                    <a:pt x="820" y="1634"/>
                  </a:lnTo>
                  <a:lnTo>
                    <a:pt x="815" y="1628"/>
                  </a:lnTo>
                  <a:lnTo>
                    <a:pt x="800" y="1656"/>
                  </a:lnTo>
                  <a:lnTo>
                    <a:pt x="786" y="1684"/>
                  </a:lnTo>
                  <a:lnTo>
                    <a:pt x="772" y="1712"/>
                  </a:lnTo>
                  <a:lnTo>
                    <a:pt x="758" y="1741"/>
                  </a:lnTo>
                  <a:lnTo>
                    <a:pt x="746" y="1769"/>
                  </a:lnTo>
                  <a:lnTo>
                    <a:pt x="732" y="1798"/>
                  </a:lnTo>
                  <a:lnTo>
                    <a:pt x="719" y="1826"/>
                  </a:lnTo>
                  <a:lnTo>
                    <a:pt x="706" y="1855"/>
                  </a:lnTo>
                  <a:lnTo>
                    <a:pt x="699" y="1832"/>
                  </a:lnTo>
                  <a:lnTo>
                    <a:pt x="691" y="1808"/>
                  </a:lnTo>
                  <a:lnTo>
                    <a:pt x="684" y="1786"/>
                  </a:lnTo>
                  <a:lnTo>
                    <a:pt x="676" y="1763"/>
                  </a:lnTo>
                  <a:lnTo>
                    <a:pt x="666" y="1742"/>
                  </a:lnTo>
                  <a:lnTo>
                    <a:pt x="655" y="1719"/>
                  </a:lnTo>
                  <a:lnTo>
                    <a:pt x="643" y="1698"/>
                  </a:lnTo>
                  <a:lnTo>
                    <a:pt x="629" y="1678"/>
                  </a:lnTo>
                  <a:lnTo>
                    <a:pt x="615" y="1684"/>
                  </a:lnTo>
                  <a:lnTo>
                    <a:pt x="602" y="1692"/>
                  </a:lnTo>
                  <a:lnTo>
                    <a:pt x="588" y="1699"/>
                  </a:lnTo>
                  <a:lnTo>
                    <a:pt x="575" y="1707"/>
                  </a:lnTo>
                  <a:lnTo>
                    <a:pt x="562" y="1714"/>
                  </a:lnTo>
                  <a:lnTo>
                    <a:pt x="548" y="1723"/>
                  </a:lnTo>
                  <a:lnTo>
                    <a:pt x="535" y="1731"/>
                  </a:lnTo>
                  <a:lnTo>
                    <a:pt x="523" y="1741"/>
                  </a:lnTo>
                  <a:lnTo>
                    <a:pt x="510" y="1750"/>
                  </a:lnTo>
                  <a:lnTo>
                    <a:pt x="497" y="1760"/>
                  </a:lnTo>
                  <a:lnTo>
                    <a:pt x="484" y="1769"/>
                  </a:lnTo>
                  <a:lnTo>
                    <a:pt x="472" y="1780"/>
                  </a:lnTo>
                  <a:lnTo>
                    <a:pt x="460" y="1790"/>
                  </a:lnTo>
                  <a:lnTo>
                    <a:pt x="448" y="1801"/>
                  </a:lnTo>
                  <a:lnTo>
                    <a:pt x="437" y="1812"/>
                  </a:lnTo>
                  <a:lnTo>
                    <a:pt x="426" y="1823"/>
                  </a:lnTo>
                  <a:lnTo>
                    <a:pt x="415" y="1836"/>
                  </a:lnTo>
                  <a:lnTo>
                    <a:pt x="406" y="1851"/>
                  </a:lnTo>
                  <a:lnTo>
                    <a:pt x="396" y="1866"/>
                  </a:lnTo>
                  <a:lnTo>
                    <a:pt x="386" y="1881"/>
                  </a:lnTo>
                  <a:lnTo>
                    <a:pt x="375" y="1895"/>
                  </a:lnTo>
                  <a:lnTo>
                    <a:pt x="363" y="1907"/>
                  </a:lnTo>
                  <a:lnTo>
                    <a:pt x="350" y="1918"/>
                  </a:lnTo>
                  <a:lnTo>
                    <a:pt x="334" y="1925"/>
                  </a:lnTo>
                  <a:lnTo>
                    <a:pt x="285" y="1925"/>
                  </a:lnTo>
                  <a:lnTo>
                    <a:pt x="306" y="1905"/>
                  </a:lnTo>
                  <a:lnTo>
                    <a:pt x="324" y="1883"/>
                  </a:lnTo>
                  <a:lnTo>
                    <a:pt x="340" y="1859"/>
                  </a:lnTo>
                  <a:lnTo>
                    <a:pt x="355" y="1836"/>
                  </a:lnTo>
                  <a:lnTo>
                    <a:pt x="369" y="1813"/>
                  </a:lnTo>
                  <a:lnTo>
                    <a:pt x="385" y="1789"/>
                  </a:lnTo>
                  <a:lnTo>
                    <a:pt x="404" y="1768"/>
                  </a:lnTo>
                  <a:lnTo>
                    <a:pt x="425" y="1748"/>
                  </a:lnTo>
                  <a:lnTo>
                    <a:pt x="436" y="1739"/>
                  </a:lnTo>
                  <a:lnTo>
                    <a:pt x="447" y="1730"/>
                  </a:lnTo>
                  <a:lnTo>
                    <a:pt x="458" y="1721"/>
                  </a:lnTo>
                  <a:lnTo>
                    <a:pt x="470" y="1712"/>
                  </a:lnTo>
                  <a:lnTo>
                    <a:pt x="480" y="1702"/>
                  </a:lnTo>
                  <a:lnTo>
                    <a:pt x="491" y="1694"/>
                  </a:lnTo>
                  <a:lnTo>
                    <a:pt x="501" y="1683"/>
                  </a:lnTo>
                  <a:lnTo>
                    <a:pt x="513" y="1674"/>
                  </a:lnTo>
                  <a:lnTo>
                    <a:pt x="524" y="1664"/>
                  </a:lnTo>
                  <a:lnTo>
                    <a:pt x="534" y="1655"/>
                  </a:lnTo>
                  <a:lnTo>
                    <a:pt x="545" y="1645"/>
                  </a:lnTo>
                  <a:lnTo>
                    <a:pt x="556" y="1636"/>
                  </a:lnTo>
                  <a:lnTo>
                    <a:pt x="566" y="1625"/>
                  </a:lnTo>
                  <a:lnTo>
                    <a:pt x="577" y="1615"/>
                  </a:lnTo>
                  <a:lnTo>
                    <a:pt x="587" y="1606"/>
                  </a:lnTo>
                  <a:lnTo>
                    <a:pt x="598" y="1596"/>
                  </a:lnTo>
                  <a:lnTo>
                    <a:pt x="591" y="1580"/>
                  </a:lnTo>
                  <a:lnTo>
                    <a:pt x="586" y="1564"/>
                  </a:lnTo>
                  <a:lnTo>
                    <a:pt x="583" y="1547"/>
                  </a:lnTo>
                  <a:lnTo>
                    <a:pt x="582" y="1529"/>
                  </a:lnTo>
                  <a:lnTo>
                    <a:pt x="581" y="1512"/>
                  </a:lnTo>
                  <a:lnTo>
                    <a:pt x="578" y="1497"/>
                  </a:lnTo>
                  <a:lnTo>
                    <a:pt x="571" y="1482"/>
                  </a:lnTo>
                  <a:lnTo>
                    <a:pt x="562" y="1468"/>
                  </a:lnTo>
                  <a:lnTo>
                    <a:pt x="554" y="1460"/>
                  </a:lnTo>
                  <a:lnTo>
                    <a:pt x="547" y="1454"/>
                  </a:lnTo>
                  <a:lnTo>
                    <a:pt x="539" y="1447"/>
                  </a:lnTo>
                  <a:lnTo>
                    <a:pt x="530" y="1440"/>
                  </a:lnTo>
                  <a:lnTo>
                    <a:pt x="523" y="1433"/>
                  </a:lnTo>
                  <a:lnTo>
                    <a:pt x="514" y="1427"/>
                  </a:lnTo>
                  <a:lnTo>
                    <a:pt x="506" y="1420"/>
                  </a:lnTo>
                  <a:lnTo>
                    <a:pt x="498" y="1414"/>
                  </a:lnTo>
                  <a:lnTo>
                    <a:pt x="487" y="1404"/>
                  </a:lnTo>
                  <a:lnTo>
                    <a:pt x="474" y="1395"/>
                  </a:lnTo>
                  <a:lnTo>
                    <a:pt x="461" y="1385"/>
                  </a:lnTo>
                  <a:lnTo>
                    <a:pt x="448" y="1376"/>
                  </a:lnTo>
                  <a:lnTo>
                    <a:pt x="436" y="1366"/>
                  </a:lnTo>
                  <a:lnTo>
                    <a:pt x="423" y="1357"/>
                  </a:lnTo>
                  <a:lnTo>
                    <a:pt x="411" y="1347"/>
                  </a:lnTo>
                  <a:lnTo>
                    <a:pt x="398" y="1336"/>
                  </a:lnTo>
                  <a:lnTo>
                    <a:pt x="387" y="1326"/>
                  </a:lnTo>
                  <a:lnTo>
                    <a:pt x="376" y="1315"/>
                  </a:lnTo>
                  <a:lnTo>
                    <a:pt x="365" y="1303"/>
                  </a:lnTo>
                  <a:lnTo>
                    <a:pt x="356" y="1291"/>
                  </a:lnTo>
                  <a:lnTo>
                    <a:pt x="347" y="1279"/>
                  </a:lnTo>
                  <a:lnTo>
                    <a:pt x="339" y="1265"/>
                  </a:lnTo>
                  <a:lnTo>
                    <a:pt x="333" y="1251"/>
                  </a:lnTo>
                  <a:lnTo>
                    <a:pt x="327" y="1237"/>
                  </a:lnTo>
                  <a:lnTo>
                    <a:pt x="324" y="1227"/>
                  </a:lnTo>
                  <a:lnTo>
                    <a:pt x="322" y="1218"/>
                  </a:lnTo>
                  <a:lnTo>
                    <a:pt x="320" y="1208"/>
                  </a:lnTo>
                  <a:lnTo>
                    <a:pt x="317" y="1197"/>
                  </a:lnTo>
                  <a:lnTo>
                    <a:pt x="312" y="1189"/>
                  </a:lnTo>
                  <a:lnTo>
                    <a:pt x="307" y="1180"/>
                  </a:lnTo>
                  <a:lnTo>
                    <a:pt x="300" y="1174"/>
                  </a:lnTo>
                  <a:lnTo>
                    <a:pt x="290" y="1169"/>
                  </a:lnTo>
                  <a:lnTo>
                    <a:pt x="281" y="1166"/>
                  </a:lnTo>
                  <a:lnTo>
                    <a:pt x="271" y="1163"/>
                  </a:lnTo>
                  <a:lnTo>
                    <a:pt x="261" y="1160"/>
                  </a:lnTo>
                  <a:lnTo>
                    <a:pt x="253" y="1157"/>
                  </a:lnTo>
                  <a:lnTo>
                    <a:pt x="243" y="1154"/>
                  </a:lnTo>
                  <a:lnTo>
                    <a:pt x="236" y="1149"/>
                  </a:lnTo>
                  <a:lnTo>
                    <a:pt x="230" y="1142"/>
                  </a:lnTo>
                  <a:lnTo>
                    <a:pt x="224" y="1134"/>
                  </a:lnTo>
                  <a:lnTo>
                    <a:pt x="218" y="1108"/>
                  </a:lnTo>
                  <a:lnTo>
                    <a:pt x="214" y="1083"/>
                  </a:lnTo>
                  <a:lnTo>
                    <a:pt x="207" y="1057"/>
                  </a:lnTo>
                  <a:lnTo>
                    <a:pt x="193" y="1035"/>
                  </a:lnTo>
                  <a:lnTo>
                    <a:pt x="181" y="1022"/>
                  </a:lnTo>
                  <a:lnTo>
                    <a:pt x="168" y="1010"/>
                  </a:lnTo>
                  <a:lnTo>
                    <a:pt x="155" y="997"/>
                  </a:lnTo>
                  <a:lnTo>
                    <a:pt x="145" y="982"/>
                  </a:lnTo>
                  <a:lnTo>
                    <a:pt x="136" y="968"/>
                  </a:lnTo>
                  <a:lnTo>
                    <a:pt x="130" y="952"/>
                  </a:lnTo>
                  <a:lnTo>
                    <a:pt x="128" y="935"/>
                  </a:lnTo>
                  <a:lnTo>
                    <a:pt x="130" y="917"/>
                  </a:lnTo>
                  <a:lnTo>
                    <a:pt x="135" y="905"/>
                  </a:lnTo>
                  <a:lnTo>
                    <a:pt x="141" y="893"/>
                  </a:lnTo>
                  <a:lnTo>
                    <a:pt x="146" y="881"/>
                  </a:lnTo>
                  <a:lnTo>
                    <a:pt x="142" y="869"/>
                  </a:lnTo>
                  <a:lnTo>
                    <a:pt x="131" y="850"/>
                  </a:lnTo>
                  <a:lnTo>
                    <a:pt x="117" y="832"/>
                  </a:lnTo>
                  <a:lnTo>
                    <a:pt x="104" y="814"/>
                  </a:lnTo>
                  <a:lnTo>
                    <a:pt x="90" y="796"/>
                  </a:lnTo>
                  <a:lnTo>
                    <a:pt x="78" y="778"/>
                  </a:lnTo>
                  <a:lnTo>
                    <a:pt x="66" y="760"/>
                  </a:lnTo>
                  <a:lnTo>
                    <a:pt x="56" y="741"/>
                  </a:lnTo>
                  <a:lnTo>
                    <a:pt x="48" y="721"/>
                  </a:lnTo>
                  <a:lnTo>
                    <a:pt x="39" y="696"/>
                  </a:lnTo>
                  <a:lnTo>
                    <a:pt x="31" y="670"/>
                  </a:lnTo>
                  <a:lnTo>
                    <a:pt x="23" y="644"/>
                  </a:lnTo>
                  <a:lnTo>
                    <a:pt x="16" y="617"/>
                  </a:lnTo>
                  <a:lnTo>
                    <a:pt x="10" y="591"/>
                  </a:lnTo>
                  <a:lnTo>
                    <a:pt x="4" y="563"/>
                  </a:lnTo>
                  <a:lnTo>
                    <a:pt x="1" y="534"/>
                  </a:lnTo>
                  <a:lnTo>
                    <a:pt x="0" y="506"/>
                  </a:lnTo>
                  <a:lnTo>
                    <a:pt x="3" y="477"/>
                  </a:lnTo>
                  <a:lnTo>
                    <a:pt x="13" y="451"/>
                  </a:lnTo>
                  <a:lnTo>
                    <a:pt x="25" y="425"/>
                  </a:lnTo>
                  <a:lnTo>
                    <a:pt x="37" y="400"/>
                  </a:lnTo>
                  <a:lnTo>
                    <a:pt x="48" y="374"/>
                  </a:lnTo>
                  <a:lnTo>
                    <a:pt x="54" y="348"/>
                  </a:lnTo>
                  <a:lnTo>
                    <a:pt x="54" y="320"/>
                  </a:lnTo>
                  <a:lnTo>
                    <a:pt x="45" y="290"/>
                  </a:lnTo>
                  <a:lnTo>
                    <a:pt x="37" y="267"/>
                  </a:lnTo>
                  <a:lnTo>
                    <a:pt x="36" y="245"/>
                  </a:lnTo>
                  <a:lnTo>
                    <a:pt x="41" y="224"/>
                  </a:lnTo>
                  <a:lnTo>
                    <a:pt x="49" y="203"/>
                  </a:lnTo>
                  <a:lnTo>
                    <a:pt x="60" y="183"/>
                  </a:lnTo>
                  <a:lnTo>
                    <a:pt x="72" y="164"/>
                  </a:lnTo>
                  <a:lnTo>
                    <a:pt x="86" y="146"/>
                  </a:lnTo>
                  <a:lnTo>
                    <a:pt x="100" y="129"/>
                  </a:lnTo>
                  <a:lnTo>
                    <a:pt x="116" y="109"/>
                  </a:lnTo>
                  <a:lnTo>
                    <a:pt x="134" y="91"/>
                  </a:lnTo>
                  <a:lnTo>
                    <a:pt x="152" y="75"/>
                  </a:lnTo>
                  <a:lnTo>
                    <a:pt x="171" y="61"/>
                  </a:lnTo>
                  <a:lnTo>
                    <a:pt x="192" y="48"/>
                  </a:lnTo>
                  <a:lnTo>
                    <a:pt x="213" y="38"/>
                  </a:lnTo>
                  <a:lnTo>
                    <a:pt x="235" y="28"/>
                  </a:lnTo>
                  <a:lnTo>
                    <a:pt x="257" y="21"/>
                  </a:lnTo>
                  <a:lnTo>
                    <a:pt x="281" y="15"/>
                  </a:lnTo>
                  <a:lnTo>
                    <a:pt x="305" y="9"/>
                  </a:lnTo>
                  <a:lnTo>
                    <a:pt x="329" y="5"/>
                  </a:lnTo>
                  <a:lnTo>
                    <a:pt x="354" y="3"/>
                  </a:lnTo>
                  <a:lnTo>
                    <a:pt x="379" y="1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6" y="1"/>
                  </a:lnTo>
                  <a:lnTo>
                    <a:pt x="465" y="2"/>
                  </a:lnTo>
                  <a:lnTo>
                    <a:pt x="475" y="4"/>
                  </a:lnTo>
                  <a:lnTo>
                    <a:pt x="484" y="6"/>
                  </a:lnTo>
                  <a:lnTo>
                    <a:pt x="493" y="8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1" y="13"/>
                  </a:lnTo>
                  <a:lnTo>
                    <a:pt x="5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59160" y="2039400"/>
              <a:ext cx="358560" cy="403920"/>
            </a:xfrm>
            <a:custGeom>
              <a:avLst/>
              <a:gdLst/>
              <a:ahLst/>
              <a:rect l="l" t="t" r="r" b="b"/>
              <a:pathLst>
                <a:path w="1121" h="1270">
                  <a:moveTo>
                    <a:pt x="628" y="18"/>
                  </a:moveTo>
                  <a:lnTo>
                    <a:pt x="634" y="38"/>
                  </a:lnTo>
                  <a:lnTo>
                    <a:pt x="637" y="61"/>
                  </a:lnTo>
                  <a:lnTo>
                    <a:pt x="639" y="83"/>
                  </a:lnTo>
                  <a:lnTo>
                    <a:pt x="639" y="105"/>
                  </a:lnTo>
                  <a:lnTo>
                    <a:pt x="640" y="129"/>
                  </a:lnTo>
                  <a:lnTo>
                    <a:pt x="643" y="150"/>
                  </a:lnTo>
                  <a:lnTo>
                    <a:pt x="650" y="170"/>
                  </a:lnTo>
                  <a:lnTo>
                    <a:pt x="662" y="189"/>
                  </a:lnTo>
                  <a:lnTo>
                    <a:pt x="671" y="200"/>
                  </a:lnTo>
                  <a:lnTo>
                    <a:pt x="681" y="210"/>
                  </a:lnTo>
                  <a:lnTo>
                    <a:pt x="691" y="221"/>
                  </a:lnTo>
                  <a:lnTo>
                    <a:pt x="699" y="233"/>
                  </a:lnTo>
                  <a:lnTo>
                    <a:pt x="708" y="243"/>
                  </a:lnTo>
                  <a:lnTo>
                    <a:pt x="714" y="256"/>
                  </a:lnTo>
                  <a:lnTo>
                    <a:pt x="718" y="269"/>
                  </a:lnTo>
                  <a:lnTo>
                    <a:pt x="721" y="282"/>
                  </a:lnTo>
                  <a:lnTo>
                    <a:pt x="725" y="302"/>
                  </a:lnTo>
                  <a:lnTo>
                    <a:pt x="729" y="321"/>
                  </a:lnTo>
                  <a:lnTo>
                    <a:pt x="736" y="339"/>
                  </a:lnTo>
                  <a:lnTo>
                    <a:pt x="746" y="355"/>
                  </a:lnTo>
                  <a:lnTo>
                    <a:pt x="761" y="372"/>
                  </a:lnTo>
                  <a:lnTo>
                    <a:pt x="777" y="386"/>
                  </a:lnTo>
                  <a:lnTo>
                    <a:pt x="794" y="402"/>
                  </a:lnTo>
                  <a:lnTo>
                    <a:pt x="810" y="418"/>
                  </a:lnTo>
                  <a:lnTo>
                    <a:pt x="822" y="435"/>
                  </a:lnTo>
                  <a:lnTo>
                    <a:pt x="832" y="454"/>
                  </a:lnTo>
                  <a:lnTo>
                    <a:pt x="835" y="476"/>
                  </a:lnTo>
                  <a:lnTo>
                    <a:pt x="832" y="499"/>
                  </a:lnTo>
                  <a:lnTo>
                    <a:pt x="831" y="514"/>
                  </a:lnTo>
                  <a:lnTo>
                    <a:pt x="835" y="525"/>
                  </a:lnTo>
                  <a:lnTo>
                    <a:pt x="842" y="536"/>
                  </a:lnTo>
                  <a:lnTo>
                    <a:pt x="853" y="546"/>
                  </a:lnTo>
                  <a:lnTo>
                    <a:pt x="866" y="554"/>
                  </a:lnTo>
                  <a:lnTo>
                    <a:pt x="880" y="561"/>
                  </a:lnTo>
                  <a:lnTo>
                    <a:pt x="892" y="569"/>
                  </a:lnTo>
                  <a:lnTo>
                    <a:pt x="903" y="575"/>
                  </a:lnTo>
                  <a:lnTo>
                    <a:pt x="913" y="575"/>
                  </a:lnTo>
                  <a:lnTo>
                    <a:pt x="916" y="546"/>
                  </a:lnTo>
                  <a:lnTo>
                    <a:pt x="918" y="515"/>
                  </a:lnTo>
                  <a:lnTo>
                    <a:pt x="921" y="485"/>
                  </a:lnTo>
                  <a:lnTo>
                    <a:pt x="925" y="456"/>
                  </a:lnTo>
                  <a:lnTo>
                    <a:pt x="933" y="454"/>
                  </a:lnTo>
                  <a:lnTo>
                    <a:pt x="941" y="452"/>
                  </a:lnTo>
                  <a:lnTo>
                    <a:pt x="950" y="451"/>
                  </a:lnTo>
                  <a:lnTo>
                    <a:pt x="959" y="450"/>
                  </a:lnTo>
                  <a:lnTo>
                    <a:pt x="968" y="450"/>
                  </a:lnTo>
                  <a:lnTo>
                    <a:pt x="976" y="452"/>
                  </a:lnTo>
                  <a:lnTo>
                    <a:pt x="983" y="455"/>
                  </a:lnTo>
                  <a:lnTo>
                    <a:pt x="989" y="462"/>
                  </a:lnTo>
                  <a:lnTo>
                    <a:pt x="1000" y="483"/>
                  </a:lnTo>
                  <a:lnTo>
                    <a:pt x="1003" y="504"/>
                  </a:lnTo>
                  <a:lnTo>
                    <a:pt x="1002" y="526"/>
                  </a:lnTo>
                  <a:lnTo>
                    <a:pt x="996" y="549"/>
                  </a:lnTo>
                  <a:lnTo>
                    <a:pt x="990" y="571"/>
                  </a:lnTo>
                  <a:lnTo>
                    <a:pt x="985" y="593"/>
                  </a:lnTo>
                  <a:lnTo>
                    <a:pt x="983" y="616"/>
                  </a:lnTo>
                  <a:lnTo>
                    <a:pt x="986" y="638"/>
                  </a:lnTo>
                  <a:lnTo>
                    <a:pt x="993" y="658"/>
                  </a:lnTo>
                  <a:lnTo>
                    <a:pt x="1003" y="678"/>
                  </a:lnTo>
                  <a:lnTo>
                    <a:pt x="1007" y="699"/>
                  </a:lnTo>
                  <a:lnTo>
                    <a:pt x="1004" y="721"/>
                  </a:lnTo>
                  <a:lnTo>
                    <a:pt x="999" y="729"/>
                  </a:lnTo>
                  <a:lnTo>
                    <a:pt x="991" y="734"/>
                  </a:lnTo>
                  <a:lnTo>
                    <a:pt x="982" y="735"/>
                  </a:lnTo>
                  <a:lnTo>
                    <a:pt x="972" y="734"/>
                  </a:lnTo>
                  <a:lnTo>
                    <a:pt x="961" y="732"/>
                  </a:lnTo>
                  <a:lnTo>
                    <a:pt x="951" y="730"/>
                  </a:lnTo>
                  <a:lnTo>
                    <a:pt x="939" y="729"/>
                  </a:lnTo>
                  <a:lnTo>
                    <a:pt x="929" y="730"/>
                  </a:lnTo>
                  <a:lnTo>
                    <a:pt x="944" y="748"/>
                  </a:lnTo>
                  <a:lnTo>
                    <a:pt x="957" y="766"/>
                  </a:lnTo>
                  <a:lnTo>
                    <a:pt x="971" y="785"/>
                  </a:lnTo>
                  <a:lnTo>
                    <a:pt x="983" y="804"/>
                  </a:lnTo>
                  <a:lnTo>
                    <a:pt x="995" y="823"/>
                  </a:lnTo>
                  <a:lnTo>
                    <a:pt x="1007" y="843"/>
                  </a:lnTo>
                  <a:lnTo>
                    <a:pt x="1018" y="863"/>
                  </a:lnTo>
                  <a:lnTo>
                    <a:pt x="1029" y="882"/>
                  </a:lnTo>
                  <a:lnTo>
                    <a:pt x="1040" y="902"/>
                  </a:lnTo>
                  <a:lnTo>
                    <a:pt x="1051" y="922"/>
                  </a:lnTo>
                  <a:lnTo>
                    <a:pt x="1062" y="942"/>
                  </a:lnTo>
                  <a:lnTo>
                    <a:pt x="1073" y="961"/>
                  </a:lnTo>
                  <a:lnTo>
                    <a:pt x="1085" y="982"/>
                  </a:lnTo>
                  <a:lnTo>
                    <a:pt x="1096" y="1002"/>
                  </a:lnTo>
                  <a:lnTo>
                    <a:pt x="1108" y="1021"/>
                  </a:lnTo>
                  <a:lnTo>
                    <a:pt x="1121" y="1040"/>
                  </a:lnTo>
                  <a:lnTo>
                    <a:pt x="1107" y="1053"/>
                  </a:lnTo>
                  <a:lnTo>
                    <a:pt x="1093" y="1065"/>
                  </a:lnTo>
                  <a:lnTo>
                    <a:pt x="1079" y="1079"/>
                  </a:lnTo>
                  <a:lnTo>
                    <a:pt x="1065" y="1093"/>
                  </a:lnTo>
                  <a:lnTo>
                    <a:pt x="1052" y="1107"/>
                  </a:lnTo>
                  <a:lnTo>
                    <a:pt x="1038" y="1122"/>
                  </a:lnTo>
                  <a:lnTo>
                    <a:pt x="1023" y="1135"/>
                  </a:lnTo>
                  <a:lnTo>
                    <a:pt x="1009" y="1148"/>
                  </a:lnTo>
                  <a:lnTo>
                    <a:pt x="994" y="1162"/>
                  </a:lnTo>
                  <a:lnTo>
                    <a:pt x="979" y="1174"/>
                  </a:lnTo>
                  <a:lnTo>
                    <a:pt x="965" y="1185"/>
                  </a:lnTo>
                  <a:lnTo>
                    <a:pt x="950" y="1196"/>
                  </a:lnTo>
                  <a:lnTo>
                    <a:pt x="933" y="1205"/>
                  </a:lnTo>
                  <a:lnTo>
                    <a:pt x="917" y="1214"/>
                  </a:lnTo>
                  <a:lnTo>
                    <a:pt x="900" y="1220"/>
                  </a:lnTo>
                  <a:lnTo>
                    <a:pt x="882" y="1226"/>
                  </a:lnTo>
                  <a:lnTo>
                    <a:pt x="877" y="1188"/>
                  </a:lnTo>
                  <a:lnTo>
                    <a:pt x="884" y="1154"/>
                  </a:lnTo>
                  <a:lnTo>
                    <a:pt x="898" y="1123"/>
                  </a:lnTo>
                  <a:lnTo>
                    <a:pt x="914" y="1092"/>
                  </a:lnTo>
                  <a:lnTo>
                    <a:pt x="929" y="1062"/>
                  </a:lnTo>
                  <a:lnTo>
                    <a:pt x="942" y="1030"/>
                  </a:lnTo>
                  <a:lnTo>
                    <a:pt x="949" y="997"/>
                  </a:lnTo>
                  <a:lnTo>
                    <a:pt x="943" y="961"/>
                  </a:lnTo>
                  <a:lnTo>
                    <a:pt x="937" y="927"/>
                  </a:lnTo>
                  <a:lnTo>
                    <a:pt x="933" y="892"/>
                  </a:lnTo>
                  <a:lnTo>
                    <a:pt x="931" y="857"/>
                  </a:lnTo>
                  <a:lnTo>
                    <a:pt x="925" y="822"/>
                  </a:lnTo>
                  <a:lnTo>
                    <a:pt x="913" y="859"/>
                  </a:lnTo>
                  <a:lnTo>
                    <a:pt x="908" y="899"/>
                  </a:lnTo>
                  <a:lnTo>
                    <a:pt x="907" y="939"/>
                  </a:lnTo>
                  <a:lnTo>
                    <a:pt x="907" y="979"/>
                  </a:lnTo>
                  <a:lnTo>
                    <a:pt x="905" y="995"/>
                  </a:lnTo>
                  <a:lnTo>
                    <a:pt x="900" y="1010"/>
                  </a:lnTo>
                  <a:lnTo>
                    <a:pt x="891" y="1024"/>
                  </a:lnTo>
                  <a:lnTo>
                    <a:pt x="881" y="1037"/>
                  </a:lnTo>
                  <a:lnTo>
                    <a:pt x="869" y="1049"/>
                  </a:lnTo>
                  <a:lnTo>
                    <a:pt x="857" y="1062"/>
                  </a:lnTo>
                  <a:lnTo>
                    <a:pt x="848" y="1075"/>
                  </a:lnTo>
                  <a:lnTo>
                    <a:pt x="839" y="1089"/>
                  </a:lnTo>
                  <a:lnTo>
                    <a:pt x="833" y="1103"/>
                  </a:lnTo>
                  <a:lnTo>
                    <a:pt x="826" y="1118"/>
                  </a:lnTo>
                  <a:lnTo>
                    <a:pt x="819" y="1133"/>
                  </a:lnTo>
                  <a:lnTo>
                    <a:pt x="811" y="1148"/>
                  </a:lnTo>
                  <a:lnTo>
                    <a:pt x="801" y="1161"/>
                  </a:lnTo>
                  <a:lnTo>
                    <a:pt x="789" y="1173"/>
                  </a:lnTo>
                  <a:lnTo>
                    <a:pt x="774" y="1180"/>
                  </a:lnTo>
                  <a:lnTo>
                    <a:pt x="757" y="1184"/>
                  </a:lnTo>
                  <a:lnTo>
                    <a:pt x="739" y="1186"/>
                  </a:lnTo>
                  <a:lnTo>
                    <a:pt x="722" y="1189"/>
                  </a:lnTo>
                  <a:lnTo>
                    <a:pt x="705" y="1193"/>
                  </a:lnTo>
                  <a:lnTo>
                    <a:pt x="688" y="1197"/>
                  </a:lnTo>
                  <a:lnTo>
                    <a:pt x="671" y="1201"/>
                  </a:lnTo>
                  <a:lnTo>
                    <a:pt x="656" y="1206"/>
                  </a:lnTo>
                  <a:lnTo>
                    <a:pt x="639" y="1212"/>
                  </a:lnTo>
                  <a:lnTo>
                    <a:pt x="623" y="1217"/>
                  </a:lnTo>
                  <a:lnTo>
                    <a:pt x="607" y="1223"/>
                  </a:lnTo>
                  <a:lnTo>
                    <a:pt x="591" y="1230"/>
                  </a:lnTo>
                  <a:lnTo>
                    <a:pt x="575" y="1236"/>
                  </a:lnTo>
                  <a:lnTo>
                    <a:pt x="559" y="1243"/>
                  </a:lnTo>
                  <a:lnTo>
                    <a:pt x="543" y="1249"/>
                  </a:lnTo>
                  <a:lnTo>
                    <a:pt x="527" y="1255"/>
                  </a:lnTo>
                  <a:lnTo>
                    <a:pt x="511" y="1263"/>
                  </a:lnTo>
                  <a:lnTo>
                    <a:pt x="495" y="1269"/>
                  </a:lnTo>
                  <a:lnTo>
                    <a:pt x="489" y="1270"/>
                  </a:lnTo>
                  <a:lnTo>
                    <a:pt x="484" y="1270"/>
                  </a:lnTo>
                  <a:lnTo>
                    <a:pt x="478" y="1268"/>
                  </a:lnTo>
                  <a:lnTo>
                    <a:pt x="473" y="1266"/>
                  </a:lnTo>
                  <a:lnTo>
                    <a:pt x="468" y="1262"/>
                  </a:lnTo>
                  <a:lnTo>
                    <a:pt x="462" y="1257"/>
                  </a:lnTo>
                  <a:lnTo>
                    <a:pt x="458" y="1254"/>
                  </a:lnTo>
                  <a:lnTo>
                    <a:pt x="453" y="1250"/>
                  </a:lnTo>
                  <a:lnTo>
                    <a:pt x="440" y="1239"/>
                  </a:lnTo>
                  <a:lnTo>
                    <a:pt x="427" y="1230"/>
                  </a:lnTo>
                  <a:lnTo>
                    <a:pt x="414" y="1219"/>
                  </a:lnTo>
                  <a:lnTo>
                    <a:pt x="402" y="1210"/>
                  </a:lnTo>
                  <a:lnTo>
                    <a:pt x="388" y="1199"/>
                  </a:lnTo>
                  <a:lnTo>
                    <a:pt x="375" y="1188"/>
                  </a:lnTo>
                  <a:lnTo>
                    <a:pt x="362" y="1178"/>
                  </a:lnTo>
                  <a:lnTo>
                    <a:pt x="350" y="1167"/>
                  </a:lnTo>
                  <a:lnTo>
                    <a:pt x="338" y="1157"/>
                  </a:lnTo>
                  <a:lnTo>
                    <a:pt x="325" y="1145"/>
                  </a:lnTo>
                  <a:lnTo>
                    <a:pt x="314" y="1134"/>
                  </a:lnTo>
                  <a:lnTo>
                    <a:pt x="301" y="1123"/>
                  </a:lnTo>
                  <a:lnTo>
                    <a:pt x="289" y="1111"/>
                  </a:lnTo>
                  <a:lnTo>
                    <a:pt x="279" y="1098"/>
                  </a:lnTo>
                  <a:lnTo>
                    <a:pt x="267" y="1087"/>
                  </a:lnTo>
                  <a:lnTo>
                    <a:pt x="256" y="1074"/>
                  </a:lnTo>
                  <a:lnTo>
                    <a:pt x="236" y="1045"/>
                  </a:lnTo>
                  <a:lnTo>
                    <a:pt x="219" y="1016"/>
                  </a:lnTo>
                  <a:lnTo>
                    <a:pt x="203" y="985"/>
                  </a:lnTo>
                  <a:lnTo>
                    <a:pt x="187" y="953"/>
                  </a:lnTo>
                  <a:lnTo>
                    <a:pt x="171" y="921"/>
                  </a:lnTo>
                  <a:lnTo>
                    <a:pt x="154" y="891"/>
                  </a:lnTo>
                  <a:lnTo>
                    <a:pt x="134" y="863"/>
                  </a:lnTo>
                  <a:lnTo>
                    <a:pt x="111" y="836"/>
                  </a:lnTo>
                  <a:lnTo>
                    <a:pt x="117" y="850"/>
                  </a:lnTo>
                  <a:lnTo>
                    <a:pt x="124" y="863"/>
                  </a:lnTo>
                  <a:lnTo>
                    <a:pt x="130" y="877"/>
                  </a:lnTo>
                  <a:lnTo>
                    <a:pt x="136" y="890"/>
                  </a:lnTo>
                  <a:lnTo>
                    <a:pt x="143" y="904"/>
                  </a:lnTo>
                  <a:lnTo>
                    <a:pt x="149" y="917"/>
                  </a:lnTo>
                  <a:lnTo>
                    <a:pt x="155" y="931"/>
                  </a:lnTo>
                  <a:lnTo>
                    <a:pt x="161" y="944"/>
                  </a:lnTo>
                  <a:lnTo>
                    <a:pt x="126" y="921"/>
                  </a:lnTo>
                  <a:lnTo>
                    <a:pt x="121" y="903"/>
                  </a:lnTo>
                  <a:lnTo>
                    <a:pt x="115" y="887"/>
                  </a:lnTo>
                  <a:lnTo>
                    <a:pt x="108" y="870"/>
                  </a:lnTo>
                  <a:lnTo>
                    <a:pt x="99" y="855"/>
                  </a:lnTo>
                  <a:lnTo>
                    <a:pt x="89" y="839"/>
                  </a:lnTo>
                  <a:lnTo>
                    <a:pt x="78" y="825"/>
                  </a:lnTo>
                  <a:lnTo>
                    <a:pt x="66" y="811"/>
                  </a:lnTo>
                  <a:lnTo>
                    <a:pt x="53" y="796"/>
                  </a:lnTo>
                  <a:lnTo>
                    <a:pt x="47" y="782"/>
                  </a:lnTo>
                  <a:lnTo>
                    <a:pt x="46" y="767"/>
                  </a:lnTo>
                  <a:lnTo>
                    <a:pt x="46" y="751"/>
                  </a:lnTo>
                  <a:lnTo>
                    <a:pt x="45" y="737"/>
                  </a:lnTo>
                  <a:lnTo>
                    <a:pt x="58" y="745"/>
                  </a:lnTo>
                  <a:lnTo>
                    <a:pt x="67" y="755"/>
                  </a:lnTo>
                  <a:lnTo>
                    <a:pt x="76" y="765"/>
                  </a:lnTo>
                  <a:lnTo>
                    <a:pt x="84" y="777"/>
                  </a:lnTo>
                  <a:lnTo>
                    <a:pt x="91" y="788"/>
                  </a:lnTo>
                  <a:lnTo>
                    <a:pt x="98" y="800"/>
                  </a:lnTo>
                  <a:lnTo>
                    <a:pt x="107" y="812"/>
                  </a:lnTo>
                  <a:lnTo>
                    <a:pt x="116" y="821"/>
                  </a:lnTo>
                  <a:lnTo>
                    <a:pt x="113" y="807"/>
                  </a:lnTo>
                  <a:lnTo>
                    <a:pt x="110" y="793"/>
                  </a:lnTo>
                  <a:lnTo>
                    <a:pt x="106" y="778"/>
                  </a:lnTo>
                  <a:lnTo>
                    <a:pt x="101" y="763"/>
                  </a:lnTo>
                  <a:lnTo>
                    <a:pt x="96" y="749"/>
                  </a:lnTo>
                  <a:lnTo>
                    <a:pt x="92" y="734"/>
                  </a:lnTo>
                  <a:lnTo>
                    <a:pt x="87" y="721"/>
                  </a:lnTo>
                  <a:lnTo>
                    <a:pt x="83" y="706"/>
                  </a:lnTo>
                  <a:lnTo>
                    <a:pt x="78" y="686"/>
                  </a:lnTo>
                  <a:lnTo>
                    <a:pt x="73" y="665"/>
                  </a:lnTo>
                  <a:lnTo>
                    <a:pt x="66" y="645"/>
                  </a:lnTo>
                  <a:lnTo>
                    <a:pt x="60" y="626"/>
                  </a:lnTo>
                  <a:lnTo>
                    <a:pt x="51" y="607"/>
                  </a:lnTo>
                  <a:lnTo>
                    <a:pt x="44" y="588"/>
                  </a:lnTo>
                  <a:lnTo>
                    <a:pt x="35" y="569"/>
                  </a:lnTo>
                  <a:lnTo>
                    <a:pt x="26" y="550"/>
                  </a:lnTo>
                  <a:lnTo>
                    <a:pt x="19" y="531"/>
                  </a:lnTo>
                  <a:lnTo>
                    <a:pt x="17" y="512"/>
                  </a:lnTo>
                  <a:lnTo>
                    <a:pt x="18" y="490"/>
                  </a:lnTo>
                  <a:lnTo>
                    <a:pt x="21" y="470"/>
                  </a:lnTo>
                  <a:lnTo>
                    <a:pt x="22" y="449"/>
                  </a:lnTo>
                  <a:lnTo>
                    <a:pt x="22" y="429"/>
                  </a:lnTo>
                  <a:lnTo>
                    <a:pt x="19" y="409"/>
                  </a:lnTo>
                  <a:lnTo>
                    <a:pt x="12" y="391"/>
                  </a:lnTo>
                  <a:lnTo>
                    <a:pt x="4" y="371"/>
                  </a:lnTo>
                  <a:lnTo>
                    <a:pt x="0" y="350"/>
                  </a:lnTo>
                  <a:lnTo>
                    <a:pt x="1" y="331"/>
                  </a:lnTo>
                  <a:lnTo>
                    <a:pt x="6" y="311"/>
                  </a:lnTo>
                  <a:lnTo>
                    <a:pt x="12" y="292"/>
                  </a:lnTo>
                  <a:lnTo>
                    <a:pt x="21" y="274"/>
                  </a:lnTo>
                  <a:lnTo>
                    <a:pt x="29" y="256"/>
                  </a:lnTo>
                  <a:lnTo>
                    <a:pt x="38" y="238"/>
                  </a:lnTo>
                  <a:lnTo>
                    <a:pt x="48" y="232"/>
                  </a:lnTo>
                  <a:lnTo>
                    <a:pt x="49" y="212"/>
                  </a:lnTo>
                  <a:lnTo>
                    <a:pt x="48" y="192"/>
                  </a:lnTo>
                  <a:lnTo>
                    <a:pt x="46" y="173"/>
                  </a:lnTo>
                  <a:lnTo>
                    <a:pt x="45" y="154"/>
                  </a:lnTo>
                  <a:lnTo>
                    <a:pt x="57" y="157"/>
                  </a:lnTo>
                  <a:lnTo>
                    <a:pt x="68" y="160"/>
                  </a:lnTo>
                  <a:lnTo>
                    <a:pt x="80" y="165"/>
                  </a:lnTo>
                  <a:lnTo>
                    <a:pt x="92" y="168"/>
                  </a:lnTo>
                  <a:lnTo>
                    <a:pt x="103" y="172"/>
                  </a:lnTo>
                  <a:lnTo>
                    <a:pt x="115" y="176"/>
                  </a:lnTo>
                  <a:lnTo>
                    <a:pt x="128" y="180"/>
                  </a:lnTo>
                  <a:lnTo>
                    <a:pt x="139" y="184"/>
                  </a:lnTo>
                  <a:lnTo>
                    <a:pt x="151" y="187"/>
                  </a:lnTo>
                  <a:lnTo>
                    <a:pt x="164" y="190"/>
                  </a:lnTo>
                  <a:lnTo>
                    <a:pt x="177" y="192"/>
                  </a:lnTo>
                  <a:lnTo>
                    <a:pt x="188" y="193"/>
                  </a:lnTo>
                  <a:lnTo>
                    <a:pt x="201" y="194"/>
                  </a:lnTo>
                  <a:lnTo>
                    <a:pt x="214" y="194"/>
                  </a:lnTo>
                  <a:lnTo>
                    <a:pt x="228" y="194"/>
                  </a:lnTo>
                  <a:lnTo>
                    <a:pt x="240" y="192"/>
                  </a:lnTo>
                  <a:lnTo>
                    <a:pt x="258" y="189"/>
                  </a:lnTo>
                  <a:lnTo>
                    <a:pt x="275" y="185"/>
                  </a:lnTo>
                  <a:lnTo>
                    <a:pt x="293" y="180"/>
                  </a:lnTo>
                  <a:lnTo>
                    <a:pt x="310" y="174"/>
                  </a:lnTo>
                  <a:lnTo>
                    <a:pt x="327" y="168"/>
                  </a:lnTo>
                  <a:lnTo>
                    <a:pt x="343" y="159"/>
                  </a:lnTo>
                  <a:lnTo>
                    <a:pt x="360" y="150"/>
                  </a:lnTo>
                  <a:lnTo>
                    <a:pt x="376" y="138"/>
                  </a:lnTo>
                  <a:lnTo>
                    <a:pt x="392" y="125"/>
                  </a:lnTo>
                  <a:lnTo>
                    <a:pt x="406" y="111"/>
                  </a:lnTo>
                  <a:lnTo>
                    <a:pt x="420" y="96"/>
                  </a:lnTo>
                  <a:lnTo>
                    <a:pt x="433" y="81"/>
                  </a:lnTo>
                  <a:lnTo>
                    <a:pt x="444" y="65"/>
                  </a:lnTo>
                  <a:lnTo>
                    <a:pt x="457" y="50"/>
                  </a:lnTo>
                  <a:lnTo>
                    <a:pt x="470" y="34"/>
                  </a:lnTo>
                  <a:lnTo>
                    <a:pt x="484" y="19"/>
                  </a:lnTo>
                  <a:lnTo>
                    <a:pt x="497" y="9"/>
                  </a:lnTo>
                  <a:lnTo>
                    <a:pt x="513" y="2"/>
                  </a:lnTo>
                  <a:lnTo>
                    <a:pt x="530" y="0"/>
                  </a:lnTo>
                  <a:lnTo>
                    <a:pt x="548" y="0"/>
                  </a:lnTo>
                  <a:lnTo>
                    <a:pt x="566" y="2"/>
                  </a:lnTo>
                  <a:lnTo>
                    <a:pt x="584" y="6"/>
                  </a:lnTo>
                  <a:lnTo>
                    <a:pt x="602" y="10"/>
                  </a:lnTo>
                  <a:lnTo>
                    <a:pt x="618" y="13"/>
                  </a:lnTo>
                  <a:lnTo>
                    <a:pt x="628" y="18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59160" y="2089080"/>
              <a:ext cx="166320" cy="354240"/>
            </a:xfrm>
            <a:custGeom>
              <a:avLst/>
              <a:gdLst/>
              <a:ahLst/>
              <a:rect l="l" t="t" r="r" b="b"/>
              <a:pathLst>
                <a:path w="519" h="1116">
                  <a:moveTo>
                    <a:pt x="48" y="78"/>
                  </a:moveTo>
                  <a:lnTo>
                    <a:pt x="38" y="84"/>
                  </a:lnTo>
                  <a:lnTo>
                    <a:pt x="29" y="102"/>
                  </a:lnTo>
                  <a:lnTo>
                    <a:pt x="21" y="120"/>
                  </a:lnTo>
                  <a:lnTo>
                    <a:pt x="12" y="138"/>
                  </a:lnTo>
                  <a:lnTo>
                    <a:pt x="6" y="157"/>
                  </a:lnTo>
                  <a:lnTo>
                    <a:pt x="1" y="177"/>
                  </a:lnTo>
                  <a:lnTo>
                    <a:pt x="0" y="196"/>
                  </a:lnTo>
                  <a:lnTo>
                    <a:pt x="4" y="217"/>
                  </a:lnTo>
                  <a:lnTo>
                    <a:pt x="12" y="237"/>
                  </a:lnTo>
                  <a:lnTo>
                    <a:pt x="19" y="255"/>
                  </a:lnTo>
                  <a:lnTo>
                    <a:pt x="22" y="275"/>
                  </a:lnTo>
                  <a:lnTo>
                    <a:pt x="22" y="295"/>
                  </a:lnTo>
                  <a:lnTo>
                    <a:pt x="21" y="316"/>
                  </a:lnTo>
                  <a:lnTo>
                    <a:pt x="18" y="336"/>
                  </a:lnTo>
                  <a:lnTo>
                    <a:pt x="17" y="358"/>
                  </a:lnTo>
                  <a:lnTo>
                    <a:pt x="19" y="377"/>
                  </a:lnTo>
                  <a:lnTo>
                    <a:pt x="26" y="396"/>
                  </a:lnTo>
                  <a:lnTo>
                    <a:pt x="35" y="415"/>
                  </a:lnTo>
                  <a:lnTo>
                    <a:pt x="44" y="434"/>
                  </a:lnTo>
                  <a:lnTo>
                    <a:pt x="51" y="453"/>
                  </a:lnTo>
                  <a:lnTo>
                    <a:pt x="60" y="472"/>
                  </a:lnTo>
                  <a:lnTo>
                    <a:pt x="66" y="491"/>
                  </a:lnTo>
                  <a:lnTo>
                    <a:pt x="73" y="511"/>
                  </a:lnTo>
                  <a:lnTo>
                    <a:pt x="78" y="532"/>
                  </a:lnTo>
                  <a:lnTo>
                    <a:pt x="83" y="552"/>
                  </a:lnTo>
                  <a:lnTo>
                    <a:pt x="87" y="567"/>
                  </a:lnTo>
                  <a:lnTo>
                    <a:pt x="92" y="580"/>
                  </a:lnTo>
                  <a:lnTo>
                    <a:pt x="96" y="595"/>
                  </a:lnTo>
                  <a:lnTo>
                    <a:pt x="101" y="609"/>
                  </a:lnTo>
                  <a:lnTo>
                    <a:pt x="106" y="624"/>
                  </a:lnTo>
                  <a:lnTo>
                    <a:pt x="110" y="639"/>
                  </a:lnTo>
                  <a:lnTo>
                    <a:pt x="113" y="653"/>
                  </a:lnTo>
                  <a:lnTo>
                    <a:pt x="116" y="667"/>
                  </a:lnTo>
                  <a:lnTo>
                    <a:pt x="107" y="658"/>
                  </a:lnTo>
                  <a:lnTo>
                    <a:pt x="98" y="646"/>
                  </a:lnTo>
                  <a:lnTo>
                    <a:pt x="91" y="634"/>
                  </a:lnTo>
                  <a:lnTo>
                    <a:pt x="84" y="623"/>
                  </a:lnTo>
                  <a:lnTo>
                    <a:pt x="76" y="611"/>
                  </a:lnTo>
                  <a:lnTo>
                    <a:pt x="67" y="601"/>
                  </a:lnTo>
                  <a:lnTo>
                    <a:pt x="58" y="591"/>
                  </a:lnTo>
                  <a:lnTo>
                    <a:pt x="45" y="583"/>
                  </a:lnTo>
                  <a:lnTo>
                    <a:pt x="46" y="597"/>
                  </a:lnTo>
                  <a:lnTo>
                    <a:pt x="46" y="613"/>
                  </a:lnTo>
                  <a:lnTo>
                    <a:pt x="47" y="628"/>
                  </a:lnTo>
                  <a:lnTo>
                    <a:pt x="53" y="642"/>
                  </a:lnTo>
                  <a:lnTo>
                    <a:pt x="66" y="657"/>
                  </a:lnTo>
                  <a:lnTo>
                    <a:pt x="78" y="671"/>
                  </a:lnTo>
                  <a:lnTo>
                    <a:pt x="89" y="685"/>
                  </a:lnTo>
                  <a:lnTo>
                    <a:pt x="99" y="701"/>
                  </a:lnTo>
                  <a:lnTo>
                    <a:pt x="108" y="716"/>
                  </a:lnTo>
                  <a:lnTo>
                    <a:pt x="115" y="733"/>
                  </a:lnTo>
                  <a:lnTo>
                    <a:pt x="121" y="749"/>
                  </a:lnTo>
                  <a:lnTo>
                    <a:pt x="126" y="767"/>
                  </a:lnTo>
                  <a:lnTo>
                    <a:pt x="161" y="790"/>
                  </a:lnTo>
                  <a:lnTo>
                    <a:pt x="155" y="777"/>
                  </a:lnTo>
                  <a:lnTo>
                    <a:pt x="149" y="763"/>
                  </a:lnTo>
                  <a:lnTo>
                    <a:pt x="143" y="750"/>
                  </a:lnTo>
                  <a:lnTo>
                    <a:pt x="136" y="736"/>
                  </a:lnTo>
                  <a:lnTo>
                    <a:pt x="130" y="723"/>
                  </a:lnTo>
                  <a:lnTo>
                    <a:pt x="124" y="709"/>
                  </a:lnTo>
                  <a:lnTo>
                    <a:pt x="117" y="696"/>
                  </a:lnTo>
                  <a:lnTo>
                    <a:pt x="111" y="682"/>
                  </a:lnTo>
                  <a:lnTo>
                    <a:pt x="134" y="709"/>
                  </a:lnTo>
                  <a:lnTo>
                    <a:pt x="154" y="737"/>
                  </a:lnTo>
                  <a:lnTo>
                    <a:pt x="171" y="767"/>
                  </a:lnTo>
                  <a:lnTo>
                    <a:pt x="187" y="799"/>
                  </a:lnTo>
                  <a:lnTo>
                    <a:pt x="203" y="831"/>
                  </a:lnTo>
                  <a:lnTo>
                    <a:pt x="219" y="862"/>
                  </a:lnTo>
                  <a:lnTo>
                    <a:pt x="236" y="891"/>
                  </a:lnTo>
                  <a:lnTo>
                    <a:pt x="256" y="920"/>
                  </a:lnTo>
                  <a:lnTo>
                    <a:pt x="267" y="933"/>
                  </a:lnTo>
                  <a:lnTo>
                    <a:pt x="279" y="944"/>
                  </a:lnTo>
                  <a:lnTo>
                    <a:pt x="289" y="957"/>
                  </a:lnTo>
                  <a:lnTo>
                    <a:pt x="301" y="969"/>
                  </a:lnTo>
                  <a:lnTo>
                    <a:pt x="314" y="980"/>
                  </a:lnTo>
                  <a:lnTo>
                    <a:pt x="325" y="991"/>
                  </a:lnTo>
                  <a:lnTo>
                    <a:pt x="338" y="1003"/>
                  </a:lnTo>
                  <a:lnTo>
                    <a:pt x="350" y="1013"/>
                  </a:lnTo>
                  <a:lnTo>
                    <a:pt x="362" y="1024"/>
                  </a:lnTo>
                  <a:lnTo>
                    <a:pt x="375" y="1034"/>
                  </a:lnTo>
                  <a:lnTo>
                    <a:pt x="388" y="1045"/>
                  </a:lnTo>
                  <a:lnTo>
                    <a:pt x="402" y="1056"/>
                  </a:lnTo>
                  <a:lnTo>
                    <a:pt x="414" y="1065"/>
                  </a:lnTo>
                  <a:lnTo>
                    <a:pt x="427" y="1076"/>
                  </a:lnTo>
                  <a:lnTo>
                    <a:pt x="440" y="1085"/>
                  </a:lnTo>
                  <a:lnTo>
                    <a:pt x="453" y="1096"/>
                  </a:lnTo>
                  <a:lnTo>
                    <a:pt x="458" y="1100"/>
                  </a:lnTo>
                  <a:lnTo>
                    <a:pt x="462" y="1103"/>
                  </a:lnTo>
                  <a:lnTo>
                    <a:pt x="468" y="1108"/>
                  </a:lnTo>
                  <a:lnTo>
                    <a:pt x="473" y="1112"/>
                  </a:lnTo>
                  <a:lnTo>
                    <a:pt x="478" y="1114"/>
                  </a:lnTo>
                  <a:lnTo>
                    <a:pt x="484" y="1116"/>
                  </a:lnTo>
                  <a:lnTo>
                    <a:pt x="489" y="1116"/>
                  </a:lnTo>
                  <a:lnTo>
                    <a:pt x="495" y="1115"/>
                  </a:lnTo>
                  <a:lnTo>
                    <a:pt x="501" y="1113"/>
                  </a:lnTo>
                  <a:lnTo>
                    <a:pt x="507" y="1110"/>
                  </a:lnTo>
                  <a:lnTo>
                    <a:pt x="513" y="1108"/>
                  </a:lnTo>
                  <a:lnTo>
                    <a:pt x="519" y="1106"/>
                  </a:lnTo>
                  <a:lnTo>
                    <a:pt x="513" y="1099"/>
                  </a:lnTo>
                  <a:lnTo>
                    <a:pt x="509" y="1093"/>
                  </a:lnTo>
                  <a:lnTo>
                    <a:pt x="504" y="1086"/>
                  </a:lnTo>
                  <a:lnTo>
                    <a:pt x="498" y="1080"/>
                  </a:lnTo>
                  <a:lnTo>
                    <a:pt x="494" y="1075"/>
                  </a:lnTo>
                  <a:lnTo>
                    <a:pt x="489" y="1068"/>
                  </a:lnTo>
                  <a:lnTo>
                    <a:pt x="485" y="1062"/>
                  </a:lnTo>
                  <a:lnTo>
                    <a:pt x="480" y="1056"/>
                  </a:lnTo>
                  <a:lnTo>
                    <a:pt x="463" y="1035"/>
                  </a:lnTo>
                  <a:lnTo>
                    <a:pt x="445" y="1019"/>
                  </a:lnTo>
                  <a:lnTo>
                    <a:pt x="425" y="1004"/>
                  </a:lnTo>
                  <a:lnTo>
                    <a:pt x="404" y="991"/>
                  </a:lnTo>
                  <a:lnTo>
                    <a:pt x="382" y="980"/>
                  </a:lnTo>
                  <a:lnTo>
                    <a:pt x="359" y="972"/>
                  </a:lnTo>
                  <a:lnTo>
                    <a:pt x="336" y="963"/>
                  </a:lnTo>
                  <a:lnTo>
                    <a:pt x="313" y="955"/>
                  </a:lnTo>
                  <a:lnTo>
                    <a:pt x="304" y="951"/>
                  </a:lnTo>
                  <a:lnTo>
                    <a:pt x="296" y="943"/>
                  </a:lnTo>
                  <a:lnTo>
                    <a:pt x="290" y="936"/>
                  </a:lnTo>
                  <a:lnTo>
                    <a:pt x="288" y="926"/>
                  </a:lnTo>
                  <a:lnTo>
                    <a:pt x="283" y="906"/>
                  </a:lnTo>
                  <a:lnTo>
                    <a:pt x="279" y="887"/>
                  </a:lnTo>
                  <a:lnTo>
                    <a:pt x="273" y="868"/>
                  </a:lnTo>
                  <a:lnTo>
                    <a:pt x="268" y="850"/>
                  </a:lnTo>
                  <a:lnTo>
                    <a:pt x="262" y="832"/>
                  </a:lnTo>
                  <a:lnTo>
                    <a:pt x="255" y="815"/>
                  </a:lnTo>
                  <a:lnTo>
                    <a:pt x="248" y="797"/>
                  </a:lnTo>
                  <a:lnTo>
                    <a:pt x="240" y="780"/>
                  </a:lnTo>
                  <a:lnTo>
                    <a:pt x="238" y="777"/>
                  </a:lnTo>
                  <a:lnTo>
                    <a:pt x="234" y="773"/>
                  </a:lnTo>
                  <a:lnTo>
                    <a:pt x="230" y="770"/>
                  </a:lnTo>
                  <a:lnTo>
                    <a:pt x="225" y="767"/>
                  </a:lnTo>
                  <a:lnTo>
                    <a:pt x="211" y="732"/>
                  </a:lnTo>
                  <a:lnTo>
                    <a:pt x="194" y="697"/>
                  </a:lnTo>
                  <a:lnTo>
                    <a:pt x="176" y="663"/>
                  </a:lnTo>
                  <a:lnTo>
                    <a:pt x="158" y="630"/>
                  </a:lnTo>
                  <a:lnTo>
                    <a:pt x="139" y="597"/>
                  </a:lnTo>
                  <a:lnTo>
                    <a:pt x="120" y="563"/>
                  </a:lnTo>
                  <a:lnTo>
                    <a:pt x="103" y="529"/>
                  </a:lnTo>
                  <a:lnTo>
                    <a:pt x="86" y="496"/>
                  </a:lnTo>
                  <a:lnTo>
                    <a:pt x="84" y="484"/>
                  </a:lnTo>
                  <a:lnTo>
                    <a:pt x="81" y="471"/>
                  </a:lnTo>
                  <a:lnTo>
                    <a:pt x="80" y="458"/>
                  </a:lnTo>
                  <a:lnTo>
                    <a:pt x="79" y="447"/>
                  </a:lnTo>
                  <a:lnTo>
                    <a:pt x="82" y="381"/>
                  </a:lnTo>
                  <a:lnTo>
                    <a:pt x="78" y="314"/>
                  </a:lnTo>
                  <a:lnTo>
                    <a:pt x="76" y="248"/>
                  </a:lnTo>
                  <a:lnTo>
                    <a:pt x="83" y="183"/>
                  </a:lnTo>
                  <a:lnTo>
                    <a:pt x="89" y="152"/>
                  </a:lnTo>
                  <a:lnTo>
                    <a:pt x="91" y="123"/>
                  </a:lnTo>
                  <a:lnTo>
                    <a:pt x="90" y="95"/>
                  </a:lnTo>
                  <a:lnTo>
                    <a:pt x="87" y="66"/>
                  </a:lnTo>
                  <a:lnTo>
                    <a:pt x="86" y="51"/>
                  </a:lnTo>
                  <a:lnTo>
                    <a:pt x="82" y="37"/>
                  </a:lnTo>
                  <a:lnTo>
                    <a:pt x="79" y="22"/>
                  </a:lnTo>
                  <a:lnTo>
                    <a:pt x="77" y="9"/>
                  </a:lnTo>
                  <a:lnTo>
                    <a:pt x="73" y="8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6" y="19"/>
                  </a:lnTo>
                  <a:lnTo>
                    <a:pt x="48" y="38"/>
                  </a:lnTo>
                  <a:lnTo>
                    <a:pt x="49" y="5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dd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79760" y="2141280"/>
              <a:ext cx="106200" cy="3168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333" y="31"/>
                  </a:moveTo>
                  <a:lnTo>
                    <a:pt x="313" y="29"/>
                  </a:lnTo>
                  <a:lnTo>
                    <a:pt x="292" y="27"/>
                  </a:lnTo>
                  <a:lnTo>
                    <a:pt x="272" y="25"/>
                  </a:lnTo>
                  <a:lnTo>
                    <a:pt x="252" y="25"/>
                  </a:lnTo>
                  <a:lnTo>
                    <a:pt x="232" y="27"/>
                  </a:lnTo>
                  <a:lnTo>
                    <a:pt x="213" y="31"/>
                  </a:lnTo>
                  <a:lnTo>
                    <a:pt x="195" y="38"/>
                  </a:lnTo>
                  <a:lnTo>
                    <a:pt x="178" y="48"/>
                  </a:lnTo>
                  <a:lnTo>
                    <a:pt x="168" y="55"/>
                  </a:lnTo>
                  <a:lnTo>
                    <a:pt x="159" y="62"/>
                  </a:lnTo>
                  <a:lnTo>
                    <a:pt x="148" y="67"/>
                  </a:lnTo>
                  <a:lnTo>
                    <a:pt x="138" y="74"/>
                  </a:lnTo>
                  <a:lnTo>
                    <a:pt x="128" y="79"/>
                  </a:lnTo>
                  <a:lnTo>
                    <a:pt x="117" y="83"/>
                  </a:lnTo>
                  <a:lnTo>
                    <a:pt x="105" y="88"/>
                  </a:lnTo>
                  <a:lnTo>
                    <a:pt x="95" y="92"/>
                  </a:lnTo>
                  <a:lnTo>
                    <a:pt x="83" y="95"/>
                  </a:lnTo>
                  <a:lnTo>
                    <a:pt x="71" y="97"/>
                  </a:lnTo>
                  <a:lnTo>
                    <a:pt x="60" y="98"/>
                  </a:lnTo>
                  <a:lnTo>
                    <a:pt x="48" y="99"/>
                  </a:lnTo>
                  <a:lnTo>
                    <a:pt x="36" y="99"/>
                  </a:lnTo>
                  <a:lnTo>
                    <a:pt x="25" y="98"/>
                  </a:lnTo>
                  <a:lnTo>
                    <a:pt x="12" y="96"/>
                  </a:lnTo>
                  <a:lnTo>
                    <a:pt x="0" y="93"/>
                  </a:lnTo>
                  <a:lnTo>
                    <a:pt x="16" y="89"/>
                  </a:lnTo>
                  <a:lnTo>
                    <a:pt x="31" y="83"/>
                  </a:lnTo>
                  <a:lnTo>
                    <a:pt x="46" y="77"/>
                  </a:lnTo>
                  <a:lnTo>
                    <a:pt x="61" y="69"/>
                  </a:lnTo>
                  <a:lnTo>
                    <a:pt x="76" y="61"/>
                  </a:lnTo>
                  <a:lnTo>
                    <a:pt x="91" y="52"/>
                  </a:lnTo>
                  <a:lnTo>
                    <a:pt x="104" y="43"/>
                  </a:lnTo>
                  <a:lnTo>
                    <a:pt x="119" y="35"/>
                  </a:lnTo>
                  <a:lnTo>
                    <a:pt x="134" y="26"/>
                  </a:lnTo>
                  <a:lnTo>
                    <a:pt x="149" y="19"/>
                  </a:lnTo>
                  <a:lnTo>
                    <a:pt x="164" y="11"/>
                  </a:lnTo>
                  <a:lnTo>
                    <a:pt x="180" y="6"/>
                  </a:lnTo>
                  <a:lnTo>
                    <a:pt x="196" y="2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8" y="2"/>
                  </a:lnTo>
                  <a:lnTo>
                    <a:pt x="258" y="4"/>
                  </a:lnTo>
                  <a:lnTo>
                    <a:pt x="270" y="6"/>
                  </a:lnTo>
                  <a:lnTo>
                    <a:pt x="281" y="9"/>
                  </a:lnTo>
                  <a:lnTo>
                    <a:pt x="292" y="11"/>
                  </a:lnTo>
                  <a:lnTo>
                    <a:pt x="303" y="15"/>
                  </a:lnTo>
                  <a:lnTo>
                    <a:pt x="313" y="20"/>
                  </a:lnTo>
                  <a:lnTo>
                    <a:pt x="323" y="25"/>
                  </a:lnTo>
                  <a:lnTo>
                    <a:pt x="3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7400" y="2169000"/>
              <a:ext cx="65160" cy="20160"/>
            </a:xfrm>
            <a:custGeom>
              <a:avLst/>
              <a:gdLst/>
              <a:ahLst/>
              <a:rect l="l" t="t" r="r" b="b"/>
              <a:pathLst>
                <a:path w="203" h="62">
                  <a:moveTo>
                    <a:pt x="0" y="62"/>
                  </a:moveTo>
                  <a:lnTo>
                    <a:pt x="35" y="24"/>
                  </a:lnTo>
                  <a:lnTo>
                    <a:pt x="41" y="22"/>
                  </a:lnTo>
                  <a:lnTo>
                    <a:pt x="56" y="19"/>
                  </a:lnTo>
                  <a:lnTo>
                    <a:pt x="79" y="12"/>
                  </a:lnTo>
                  <a:lnTo>
                    <a:pt x="107" y="7"/>
                  </a:lnTo>
                  <a:lnTo>
                    <a:pt x="135" y="3"/>
                  </a:lnTo>
                  <a:lnTo>
                    <a:pt x="163" y="0"/>
                  </a:lnTo>
                  <a:lnTo>
                    <a:pt x="186" y="1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2" y="8"/>
                  </a:lnTo>
                  <a:lnTo>
                    <a:pt x="200" y="11"/>
                  </a:lnTo>
                  <a:lnTo>
                    <a:pt x="197" y="15"/>
                  </a:lnTo>
                  <a:lnTo>
                    <a:pt x="192" y="19"/>
                  </a:lnTo>
                  <a:lnTo>
                    <a:pt x="186" y="23"/>
                  </a:lnTo>
                  <a:lnTo>
                    <a:pt x="178" y="28"/>
                  </a:lnTo>
                  <a:lnTo>
                    <a:pt x="168" y="34"/>
                  </a:lnTo>
                  <a:lnTo>
                    <a:pt x="157" y="39"/>
                  </a:lnTo>
                  <a:lnTo>
                    <a:pt x="143" y="43"/>
                  </a:lnTo>
                  <a:lnTo>
                    <a:pt x="126" y="48"/>
                  </a:lnTo>
                  <a:lnTo>
                    <a:pt x="107" y="53"/>
                  </a:lnTo>
                  <a:lnTo>
                    <a:pt x="84" y="56"/>
                  </a:lnTo>
                  <a:lnTo>
                    <a:pt x="59" y="59"/>
                  </a:lnTo>
                  <a:lnTo>
                    <a:pt x="31" y="6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88760" y="2166480"/>
              <a:ext cx="90720" cy="27720"/>
            </a:xfrm>
            <a:custGeom>
              <a:avLst/>
              <a:gdLst/>
              <a:ahLst/>
              <a:rect l="l" t="t" r="r" b="b"/>
              <a:pathLst>
                <a:path w="283" h="89">
                  <a:moveTo>
                    <a:pt x="283" y="4"/>
                  </a:moveTo>
                  <a:lnTo>
                    <a:pt x="275" y="14"/>
                  </a:lnTo>
                  <a:lnTo>
                    <a:pt x="265" y="21"/>
                  </a:lnTo>
                  <a:lnTo>
                    <a:pt x="255" y="28"/>
                  </a:lnTo>
                  <a:lnTo>
                    <a:pt x="244" y="33"/>
                  </a:lnTo>
                  <a:lnTo>
                    <a:pt x="232" y="36"/>
                  </a:lnTo>
                  <a:lnTo>
                    <a:pt x="221" y="39"/>
                  </a:lnTo>
                  <a:lnTo>
                    <a:pt x="209" y="41"/>
                  </a:lnTo>
                  <a:lnTo>
                    <a:pt x="197" y="43"/>
                  </a:lnTo>
                  <a:lnTo>
                    <a:pt x="216" y="23"/>
                  </a:lnTo>
                  <a:lnTo>
                    <a:pt x="211" y="20"/>
                  </a:lnTo>
                  <a:lnTo>
                    <a:pt x="205" y="19"/>
                  </a:lnTo>
                  <a:lnTo>
                    <a:pt x="198" y="20"/>
                  </a:lnTo>
                  <a:lnTo>
                    <a:pt x="192" y="20"/>
                  </a:lnTo>
                  <a:lnTo>
                    <a:pt x="190" y="28"/>
                  </a:lnTo>
                  <a:lnTo>
                    <a:pt x="189" y="35"/>
                  </a:lnTo>
                  <a:lnTo>
                    <a:pt x="187" y="41"/>
                  </a:lnTo>
                  <a:lnTo>
                    <a:pt x="181" y="48"/>
                  </a:lnTo>
                  <a:lnTo>
                    <a:pt x="160" y="56"/>
                  </a:lnTo>
                  <a:lnTo>
                    <a:pt x="167" y="56"/>
                  </a:lnTo>
                  <a:lnTo>
                    <a:pt x="174" y="56"/>
                  </a:lnTo>
                  <a:lnTo>
                    <a:pt x="181" y="56"/>
                  </a:lnTo>
                  <a:lnTo>
                    <a:pt x="189" y="56"/>
                  </a:lnTo>
                  <a:lnTo>
                    <a:pt x="195" y="55"/>
                  </a:lnTo>
                  <a:lnTo>
                    <a:pt x="203" y="55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14" y="58"/>
                  </a:lnTo>
                  <a:lnTo>
                    <a:pt x="211" y="61"/>
                  </a:lnTo>
                  <a:lnTo>
                    <a:pt x="207" y="64"/>
                  </a:lnTo>
                  <a:lnTo>
                    <a:pt x="202" y="65"/>
                  </a:lnTo>
                  <a:lnTo>
                    <a:pt x="186" y="68"/>
                  </a:lnTo>
                  <a:lnTo>
                    <a:pt x="170" y="72"/>
                  </a:lnTo>
                  <a:lnTo>
                    <a:pt x="155" y="79"/>
                  </a:lnTo>
                  <a:lnTo>
                    <a:pt x="139" y="83"/>
                  </a:lnTo>
                  <a:lnTo>
                    <a:pt x="123" y="87"/>
                  </a:lnTo>
                  <a:lnTo>
                    <a:pt x="107" y="89"/>
                  </a:lnTo>
                  <a:lnTo>
                    <a:pt x="90" y="88"/>
                  </a:lnTo>
                  <a:lnTo>
                    <a:pt x="73" y="83"/>
                  </a:lnTo>
                  <a:lnTo>
                    <a:pt x="83" y="78"/>
                  </a:lnTo>
                  <a:lnTo>
                    <a:pt x="92" y="72"/>
                  </a:lnTo>
                  <a:lnTo>
                    <a:pt x="102" y="68"/>
                  </a:lnTo>
                  <a:lnTo>
                    <a:pt x="112" y="66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5" y="59"/>
                  </a:lnTo>
                  <a:lnTo>
                    <a:pt x="156" y="58"/>
                  </a:lnTo>
                  <a:lnTo>
                    <a:pt x="148" y="58"/>
                  </a:lnTo>
                  <a:lnTo>
                    <a:pt x="140" y="57"/>
                  </a:lnTo>
                  <a:lnTo>
                    <a:pt x="133" y="56"/>
                  </a:lnTo>
                  <a:lnTo>
                    <a:pt x="125" y="54"/>
                  </a:lnTo>
                  <a:lnTo>
                    <a:pt x="119" y="50"/>
                  </a:lnTo>
                  <a:lnTo>
                    <a:pt x="113" y="45"/>
                  </a:lnTo>
                  <a:lnTo>
                    <a:pt x="108" y="38"/>
                  </a:lnTo>
                  <a:lnTo>
                    <a:pt x="104" y="29"/>
                  </a:lnTo>
                  <a:lnTo>
                    <a:pt x="90" y="34"/>
                  </a:lnTo>
                  <a:lnTo>
                    <a:pt x="77" y="44"/>
                  </a:lnTo>
                  <a:lnTo>
                    <a:pt x="67" y="55"/>
                  </a:lnTo>
                  <a:lnTo>
                    <a:pt x="55" y="67"/>
                  </a:lnTo>
                  <a:lnTo>
                    <a:pt x="44" y="78"/>
                  </a:lnTo>
                  <a:lnTo>
                    <a:pt x="32" y="85"/>
                  </a:lnTo>
                  <a:lnTo>
                    <a:pt x="17" y="88"/>
                  </a:lnTo>
                  <a:lnTo>
                    <a:pt x="0" y="85"/>
                  </a:lnTo>
                  <a:lnTo>
                    <a:pt x="7" y="79"/>
                  </a:lnTo>
                  <a:lnTo>
                    <a:pt x="15" y="71"/>
                  </a:lnTo>
                  <a:lnTo>
                    <a:pt x="21" y="64"/>
                  </a:lnTo>
                  <a:lnTo>
                    <a:pt x="27" y="56"/>
                  </a:lnTo>
                  <a:lnTo>
                    <a:pt x="34" y="50"/>
                  </a:lnTo>
                  <a:lnTo>
                    <a:pt x="41" y="44"/>
                  </a:lnTo>
                  <a:lnTo>
                    <a:pt x="49" y="37"/>
                  </a:lnTo>
                  <a:lnTo>
                    <a:pt x="58" y="33"/>
                  </a:lnTo>
                  <a:lnTo>
                    <a:pt x="71" y="28"/>
                  </a:lnTo>
                  <a:lnTo>
                    <a:pt x="85" y="23"/>
                  </a:lnTo>
                  <a:lnTo>
                    <a:pt x="98" y="19"/>
                  </a:lnTo>
                  <a:lnTo>
                    <a:pt x="111" y="16"/>
                  </a:lnTo>
                  <a:lnTo>
                    <a:pt x="125" y="12"/>
                  </a:lnTo>
                  <a:lnTo>
                    <a:pt x="139" y="10"/>
                  </a:lnTo>
                  <a:lnTo>
                    <a:pt x="153" y="6"/>
                  </a:lnTo>
                  <a:lnTo>
                    <a:pt x="167" y="4"/>
                  </a:lnTo>
                  <a:lnTo>
                    <a:pt x="180" y="2"/>
                  </a:lnTo>
                  <a:lnTo>
                    <a:pt x="195" y="1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9" y="0"/>
                  </a:lnTo>
                  <a:lnTo>
                    <a:pt x="254" y="1"/>
                  </a:lnTo>
                  <a:lnTo>
                    <a:pt x="268" y="2"/>
                  </a:lnTo>
                  <a:lnTo>
                    <a:pt x="28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54000" y="2185560"/>
              <a:ext cx="19440" cy="70920"/>
            </a:xfrm>
            <a:custGeom>
              <a:avLst/>
              <a:gdLst/>
              <a:ahLst/>
              <a:rect l="l" t="t" r="r" b="b"/>
              <a:pathLst>
                <a:path w="62" h="224">
                  <a:moveTo>
                    <a:pt x="60" y="71"/>
                  </a:moveTo>
                  <a:lnTo>
                    <a:pt x="57" y="80"/>
                  </a:lnTo>
                  <a:lnTo>
                    <a:pt x="53" y="89"/>
                  </a:lnTo>
                  <a:lnTo>
                    <a:pt x="48" y="97"/>
                  </a:lnTo>
                  <a:lnTo>
                    <a:pt x="46" y="107"/>
                  </a:lnTo>
                  <a:lnTo>
                    <a:pt x="48" y="134"/>
                  </a:lnTo>
                  <a:lnTo>
                    <a:pt x="51" y="162"/>
                  </a:lnTo>
                  <a:lnTo>
                    <a:pt x="51" y="190"/>
                  </a:lnTo>
                  <a:lnTo>
                    <a:pt x="43" y="216"/>
                  </a:lnTo>
                  <a:lnTo>
                    <a:pt x="38" y="201"/>
                  </a:lnTo>
                  <a:lnTo>
                    <a:pt x="36" y="185"/>
                  </a:lnTo>
                  <a:lnTo>
                    <a:pt x="33" y="169"/>
                  </a:lnTo>
                  <a:lnTo>
                    <a:pt x="29" y="154"/>
                  </a:lnTo>
                  <a:lnTo>
                    <a:pt x="22" y="170"/>
                  </a:lnTo>
                  <a:lnTo>
                    <a:pt x="16" y="187"/>
                  </a:lnTo>
                  <a:lnTo>
                    <a:pt x="12" y="205"/>
                  </a:lnTo>
                  <a:lnTo>
                    <a:pt x="8" y="224"/>
                  </a:lnTo>
                  <a:lnTo>
                    <a:pt x="1" y="195"/>
                  </a:lnTo>
                  <a:lnTo>
                    <a:pt x="0" y="166"/>
                  </a:lnTo>
                  <a:lnTo>
                    <a:pt x="4" y="138"/>
                  </a:lnTo>
                  <a:lnTo>
                    <a:pt x="12" y="110"/>
                  </a:lnTo>
                  <a:lnTo>
                    <a:pt x="21" y="82"/>
                  </a:lnTo>
                  <a:lnTo>
                    <a:pt x="31" y="56"/>
                  </a:lnTo>
                  <a:lnTo>
                    <a:pt x="37" y="27"/>
                  </a:lnTo>
                  <a:lnTo>
                    <a:pt x="40" y="0"/>
                  </a:lnTo>
                  <a:lnTo>
                    <a:pt x="53" y="15"/>
                  </a:lnTo>
                  <a:lnTo>
                    <a:pt x="59" y="33"/>
                  </a:lnTo>
                  <a:lnTo>
                    <a:pt x="62" y="52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89040" y="2200680"/>
              <a:ext cx="60120" cy="24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0" y="74"/>
                  </a:moveTo>
                  <a:lnTo>
                    <a:pt x="18" y="35"/>
                  </a:lnTo>
                  <a:lnTo>
                    <a:pt x="22" y="33"/>
                  </a:lnTo>
                  <a:lnTo>
                    <a:pt x="35" y="27"/>
                  </a:lnTo>
                  <a:lnTo>
                    <a:pt x="53" y="20"/>
                  </a:lnTo>
                  <a:lnTo>
                    <a:pt x="74" y="11"/>
                  </a:lnTo>
                  <a:lnTo>
                    <a:pt x="99" y="4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69" y="8"/>
                  </a:lnTo>
                  <a:lnTo>
                    <a:pt x="188" y="26"/>
                  </a:lnTo>
                  <a:lnTo>
                    <a:pt x="186" y="27"/>
                  </a:lnTo>
                  <a:lnTo>
                    <a:pt x="181" y="29"/>
                  </a:lnTo>
                  <a:lnTo>
                    <a:pt x="174" y="31"/>
                  </a:lnTo>
                  <a:lnTo>
                    <a:pt x="165" y="35"/>
                  </a:lnTo>
                  <a:lnTo>
                    <a:pt x="154" y="40"/>
                  </a:lnTo>
                  <a:lnTo>
                    <a:pt x="141" y="45"/>
                  </a:lnTo>
                  <a:lnTo>
                    <a:pt x="126" y="50"/>
                  </a:lnTo>
                  <a:lnTo>
                    <a:pt x="111" y="56"/>
                  </a:lnTo>
                  <a:lnTo>
                    <a:pt x="95" y="61"/>
                  </a:lnTo>
                  <a:lnTo>
                    <a:pt x="79" y="65"/>
                  </a:lnTo>
                  <a:lnTo>
                    <a:pt x="65" y="69"/>
                  </a:lnTo>
                  <a:lnTo>
                    <a:pt x="49" y="73"/>
                  </a:lnTo>
                  <a:lnTo>
                    <a:pt x="35" y="75"/>
                  </a:lnTo>
                  <a:lnTo>
                    <a:pt x="21" y="76"/>
                  </a:lnTo>
                  <a:lnTo>
                    <a:pt x="9" y="7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73560" y="2187000"/>
              <a:ext cx="91800" cy="75960"/>
            </a:xfrm>
            <a:custGeom>
              <a:avLst/>
              <a:gdLst/>
              <a:ahLst/>
              <a:rect l="l" t="t" r="r" b="b"/>
              <a:pathLst>
                <a:path w="288" h="243">
                  <a:moveTo>
                    <a:pt x="269" y="54"/>
                  </a:moveTo>
                  <a:lnTo>
                    <a:pt x="272" y="101"/>
                  </a:lnTo>
                  <a:lnTo>
                    <a:pt x="279" y="148"/>
                  </a:lnTo>
                  <a:lnTo>
                    <a:pt x="287" y="195"/>
                  </a:lnTo>
                  <a:lnTo>
                    <a:pt x="288" y="243"/>
                  </a:lnTo>
                  <a:lnTo>
                    <a:pt x="276" y="227"/>
                  </a:lnTo>
                  <a:lnTo>
                    <a:pt x="269" y="209"/>
                  </a:lnTo>
                  <a:lnTo>
                    <a:pt x="263" y="190"/>
                  </a:lnTo>
                  <a:lnTo>
                    <a:pt x="260" y="171"/>
                  </a:lnTo>
                  <a:lnTo>
                    <a:pt x="258" y="150"/>
                  </a:lnTo>
                  <a:lnTo>
                    <a:pt x="255" y="131"/>
                  </a:lnTo>
                  <a:lnTo>
                    <a:pt x="250" y="112"/>
                  </a:lnTo>
                  <a:lnTo>
                    <a:pt x="242" y="94"/>
                  </a:lnTo>
                  <a:lnTo>
                    <a:pt x="201" y="56"/>
                  </a:lnTo>
                  <a:lnTo>
                    <a:pt x="165" y="67"/>
                  </a:lnTo>
                  <a:lnTo>
                    <a:pt x="166" y="73"/>
                  </a:lnTo>
                  <a:lnTo>
                    <a:pt x="167" y="80"/>
                  </a:lnTo>
                  <a:lnTo>
                    <a:pt x="167" y="88"/>
                  </a:lnTo>
                  <a:lnTo>
                    <a:pt x="162" y="94"/>
                  </a:lnTo>
                  <a:lnTo>
                    <a:pt x="155" y="98"/>
                  </a:lnTo>
                  <a:lnTo>
                    <a:pt x="148" y="103"/>
                  </a:lnTo>
                  <a:lnTo>
                    <a:pt x="140" y="106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10"/>
                  </a:lnTo>
                  <a:lnTo>
                    <a:pt x="108" y="110"/>
                  </a:lnTo>
                  <a:lnTo>
                    <a:pt x="100" y="108"/>
                  </a:lnTo>
                  <a:lnTo>
                    <a:pt x="93" y="102"/>
                  </a:lnTo>
                  <a:lnTo>
                    <a:pt x="89" y="91"/>
                  </a:lnTo>
                  <a:lnTo>
                    <a:pt x="85" y="85"/>
                  </a:lnTo>
                  <a:lnTo>
                    <a:pt x="76" y="88"/>
                  </a:lnTo>
                  <a:lnTo>
                    <a:pt x="69" y="101"/>
                  </a:lnTo>
                  <a:lnTo>
                    <a:pt x="66" y="115"/>
                  </a:lnTo>
                  <a:lnTo>
                    <a:pt x="62" y="129"/>
                  </a:lnTo>
                  <a:lnTo>
                    <a:pt x="49" y="137"/>
                  </a:lnTo>
                  <a:lnTo>
                    <a:pt x="34" y="138"/>
                  </a:lnTo>
                  <a:lnTo>
                    <a:pt x="37" y="127"/>
                  </a:lnTo>
                  <a:lnTo>
                    <a:pt x="41" y="118"/>
                  </a:lnTo>
                  <a:lnTo>
                    <a:pt x="46" y="107"/>
                  </a:lnTo>
                  <a:lnTo>
                    <a:pt x="52" y="96"/>
                  </a:lnTo>
                  <a:lnTo>
                    <a:pt x="57" y="87"/>
                  </a:lnTo>
                  <a:lnTo>
                    <a:pt x="66" y="79"/>
                  </a:lnTo>
                  <a:lnTo>
                    <a:pt x="74" y="72"/>
                  </a:lnTo>
                  <a:lnTo>
                    <a:pt x="85" y="67"/>
                  </a:lnTo>
                  <a:lnTo>
                    <a:pt x="94" y="63"/>
                  </a:lnTo>
                  <a:lnTo>
                    <a:pt x="105" y="60"/>
                  </a:lnTo>
                  <a:lnTo>
                    <a:pt x="115" y="57"/>
                  </a:lnTo>
                  <a:lnTo>
                    <a:pt x="125" y="54"/>
                  </a:lnTo>
                  <a:lnTo>
                    <a:pt x="136" y="52"/>
                  </a:lnTo>
                  <a:lnTo>
                    <a:pt x="145" y="50"/>
                  </a:lnTo>
                  <a:lnTo>
                    <a:pt x="156" y="48"/>
                  </a:lnTo>
                  <a:lnTo>
                    <a:pt x="166" y="45"/>
                  </a:lnTo>
                  <a:lnTo>
                    <a:pt x="150" y="43"/>
                  </a:lnTo>
                  <a:lnTo>
                    <a:pt x="135" y="40"/>
                  </a:lnTo>
                  <a:lnTo>
                    <a:pt x="118" y="38"/>
                  </a:lnTo>
                  <a:lnTo>
                    <a:pt x="102" y="35"/>
                  </a:lnTo>
                  <a:lnTo>
                    <a:pt x="86" y="34"/>
                  </a:lnTo>
                  <a:lnTo>
                    <a:pt x="69" y="34"/>
                  </a:lnTo>
                  <a:lnTo>
                    <a:pt x="54" y="36"/>
                  </a:lnTo>
                  <a:lnTo>
                    <a:pt x="38" y="40"/>
                  </a:lnTo>
                  <a:lnTo>
                    <a:pt x="32" y="44"/>
                  </a:lnTo>
                  <a:lnTo>
                    <a:pt x="25" y="49"/>
                  </a:lnTo>
                  <a:lnTo>
                    <a:pt x="21" y="55"/>
                  </a:lnTo>
                  <a:lnTo>
                    <a:pt x="18" y="61"/>
                  </a:lnTo>
                  <a:lnTo>
                    <a:pt x="14" y="68"/>
                  </a:lnTo>
                  <a:lnTo>
                    <a:pt x="10" y="74"/>
                  </a:lnTo>
                  <a:lnTo>
                    <a:pt x="5" y="80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10" y="44"/>
                  </a:lnTo>
                  <a:lnTo>
                    <a:pt x="14" y="35"/>
                  </a:lnTo>
                  <a:lnTo>
                    <a:pt x="20" y="26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57" y="15"/>
                  </a:lnTo>
                  <a:lnTo>
                    <a:pt x="77" y="11"/>
                  </a:lnTo>
                  <a:lnTo>
                    <a:pt x="97" y="7"/>
                  </a:lnTo>
                  <a:lnTo>
                    <a:pt x="116" y="4"/>
                  </a:lnTo>
                  <a:lnTo>
                    <a:pt x="135" y="1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3" y="4"/>
                  </a:lnTo>
                  <a:lnTo>
                    <a:pt x="204" y="7"/>
                  </a:lnTo>
                  <a:lnTo>
                    <a:pt x="214" y="11"/>
                  </a:lnTo>
                  <a:lnTo>
                    <a:pt x="224" y="17"/>
                  </a:lnTo>
                  <a:lnTo>
                    <a:pt x="234" y="23"/>
                  </a:lnTo>
                  <a:lnTo>
                    <a:pt x="243" y="30"/>
                  </a:lnTo>
                  <a:lnTo>
                    <a:pt x="252" y="37"/>
                  </a:lnTo>
                  <a:lnTo>
                    <a:pt x="260" y="45"/>
                  </a:lnTo>
                  <a:lnTo>
                    <a:pt x="26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98920" y="2192040"/>
              <a:ext cx="20160" cy="9144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54" y="144"/>
                  </a:moveTo>
                  <a:lnTo>
                    <a:pt x="44" y="160"/>
                  </a:lnTo>
                  <a:lnTo>
                    <a:pt x="36" y="177"/>
                  </a:lnTo>
                  <a:lnTo>
                    <a:pt x="29" y="194"/>
                  </a:lnTo>
                  <a:lnTo>
                    <a:pt x="22" y="212"/>
                  </a:lnTo>
                  <a:lnTo>
                    <a:pt x="17" y="230"/>
                  </a:lnTo>
                  <a:lnTo>
                    <a:pt x="14" y="248"/>
                  </a:lnTo>
                  <a:lnTo>
                    <a:pt x="10" y="267"/>
                  </a:lnTo>
                  <a:lnTo>
                    <a:pt x="9" y="286"/>
                  </a:lnTo>
                  <a:lnTo>
                    <a:pt x="3" y="260"/>
                  </a:lnTo>
                  <a:lnTo>
                    <a:pt x="0" y="233"/>
                  </a:lnTo>
                  <a:lnTo>
                    <a:pt x="0" y="207"/>
                  </a:lnTo>
                  <a:lnTo>
                    <a:pt x="4" y="179"/>
                  </a:lnTo>
                  <a:lnTo>
                    <a:pt x="9" y="153"/>
                  </a:lnTo>
                  <a:lnTo>
                    <a:pt x="16" y="127"/>
                  </a:lnTo>
                  <a:lnTo>
                    <a:pt x="23" y="102"/>
                  </a:lnTo>
                  <a:lnTo>
                    <a:pt x="31" y="76"/>
                  </a:lnTo>
                  <a:lnTo>
                    <a:pt x="33" y="57"/>
                  </a:lnTo>
                  <a:lnTo>
                    <a:pt x="30" y="38"/>
                  </a:lnTo>
                  <a:lnTo>
                    <a:pt x="24" y="19"/>
                  </a:lnTo>
                  <a:lnTo>
                    <a:pt x="21" y="0"/>
                  </a:lnTo>
                  <a:lnTo>
                    <a:pt x="25" y="18"/>
                  </a:lnTo>
                  <a:lnTo>
                    <a:pt x="34" y="36"/>
                  </a:lnTo>
                  <a:lnTo>
                    <a:pt x="43" y="53"/>
                  </a:lnTo>
                  <a:lnTo>
                    <a:pt x="54" y="70"/>
                  </a:lnTo>
                  <a:lnTo>
                    <a:pt x="61" y="88"/>
                  </a:lnTo>
                  <a:lnTo>
                    <a:pt x="65" y="106"/>
                  </a:lnTo>
                  <a:lnTo>
                    <a:pt x="64" y="124"/>
                  </a:lnTo>
                  <a:lnTo>
                    <a:pt x="5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104160" y="2217240"/>
              <a:ext cx="32760" cy="129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10" y="32"/>
                  </a:lnTo>
                  <a:lnTo>
                    <a:pt x="22" y="25"/>
                  </a:lnTo>
                  <a:lnTo>
                    <a:pt x="35" y="18"/>
                  </a:lnTo>
                  <a:lnTo>
                    <a:pt x="48" y="14"/>
                  </a:lnTo>
                  <a:lnTo>
                    <a:pt x="62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3" y="0"/>
                  </a:lnTo>
                  <a:lnTo>
                    <a:pt x="94" y="12"/>
                  </a:lnTo>
                  <a:lnTo>
                    <a:pt x="84" y="22"/>
                  </a:lnTo>
                  <a:lnTo>
                    <a:pt x="73" y="29"/>
                  </a:lnTo>
                  <a:lnTo>
                    <a:pt x="59" y="34"/>
                  </a:lnTo>
                  <a:lnTo>
                    <a:pt x="44" y="39"/>
                  </a:lnTo>
                  <a:lnTo>
                    <a:pt x="29" y="41"/>
                  </a:lnTo>
                  <a:lnTo>
                    <a:pt x="1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04240" y="2245320"/>
              <a:ext cx="26640" cy="2664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78" y="23"/>
                  </a:moveTo>
                  <a:lnTo>
                    <a:pt x="82" y="27"/>
                  </a:lnTo>
                  <a:lnTo>
                    <a:pt x="85" y="33"/>
                  </a:lnTo>
                  <a:lnTo>
                    <a:pt x="83" y="41"/>
                  </a:lnTo>
                  <a:lnTo>
                    <a:pt x="81" y="47"/>
                  </a:lnTo>
                  <a:lnTo>
                    <a:pt x="77" y="52"/>
                  </a:lnTo>
                  <a:lnTo>
                    <a:pt x="73" y="59"/>
                  </a:lnTo>
                  <a:lnTo>
                    <a:pt x="68" y="63"/>
                  </a:lnTo>
                  <a:lnTo>
                    <a:pt x="62" y="68"/>
                  </a:lnTo>
                  <a:lnTo>
                    <a:pt x="57" y="73"/>
                  </a:lnTo>
                  <a:lnTo>
                    <a:pt x="52" y="76"/>
                  </a:lnTo>
                  <a:lnTo>
                    <a:pt x="45" y="80"/>
                  </a:lnTo>
                  <a:lnTo>
                    <a:pt x="40" y="83"/>
                  </a:lnTo>
                  <a:lnTo>
                    <a:pt x="38" y="69"/>
                  </a:lnTo>
                  <a:lnTo>
                    <a:pt x="41" y="55"/>
                  </a:lnTo>
                  <a:lnTo>
                    <a:pt x="44" y="40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8"/>
                  </a:lnTo>
                  <a:lnTo>
                    <a:pt x="24" y="16"/>
                  </a:lnTo>
                  <a:lnTo>
                    <a:pt x="19" y="14"/>
                  </a:lnTo>
                  <a:lnTo>
                    <a:pt x="12" y="12"/>
                  </a:lnTo>
                  <a:lnTo>
                    <a:pt x="7" y="9"/>
                  </a:lnTo>
                  <a:lnTo>
                    <a:pt x="3" y="6"/>
                  </a:lnTo>
                  <a:lnTo>
                    <a:pt x="0" y="0"/>
                  </a:lnTo>
                  <a:lnTo>
                    <a:pt x="9" y="3"/>
                  </a:lnTo>
                  <a:lnTo>
                    <a:pt x="20" y="5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1" y="11"/>
                  </a:lnTo>
                  <a:lnTo>
                    <a:pt x="60" y="14"/>
                  </a:lnTo>
                  <a:lnTo>
                    <a:pt x="70" y="18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720" y="2260440"/>
              <a:ext cx="15120" cy="115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6"/>
                  </a:moveTo>
                  <a:lnTo>
                    <a:pt x="46" y="11"/>
                  </a:lnTo>
                  <a:lnTo>
                    <a:pt x="44" y="16"/>
                  </a:lnTo>
                  <a:lnTo>
                    <a:pt x="41" y="20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5" y="26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7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8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47720" y="2261880"/>
              <a:ext cx="37080" cy="3780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20" y="53"/>
                  </a:moveTo>
                  <a:lnTo>
                    <a:pt x="23" y="55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5" y="58"/>
                  </a:lnTo>
                  <a:lnTo>
                    <a:pt x="41" y="57"/>
                  </a:lnTo>
                  <a:lnTo>
                    <a:pt x="45" y="55"/>
                  </a:lnTo>
                  <a:lnTo>
                    <a:pt x="49" y="54"/>
                  </a:lnTo>
                  <a:lnTo>
                    <a:pt x="54" y="52"/>
                  </a:lnTo>
                  <a:lnTo>
                    <a:pt x="40" y="41"/>
                  </a:lnTo>
                  <a:lnTo>
                    <a:pt x="49" y="43"/>
                  </a:lnTo>
                  <a:lnTo>
                    <a:pt x="59" y="44"/>
                  </a:lnTo>
                  <a:lnTo>
                    <a:pt x="68" y="46"/>
                  </a:lnTo>
                  <a:lnTo>
                    <a:pt x="79" y="49"/>
                  </a:lnTo>
                  <a:lnTo>
                    <a:pt x="89" y="52"/>
                  </a:lnTo>
                  <a:lnTo>
                    <a:pt x="97" y="57"/>
                  </a:lnTo>
                  <a:lnTo>
                    <a:pt x="106" y="63"/>
                  </a:lnTo>
                  <a:lnTo>
                    <a:pt x="114" y="69"/>
                  </a:lnTo>
                  <a:lnTo>
                    <a:pt x="108" y="71"/>
                  </a:lnTo>
                  <a:lnTo>
                    <a:pt x="101" y="71"/>
                  </a:lnTo>
                  <a:lnTo>
                    <a:pt x="95" y="71"/>
                  </a:lnTo>
                  <a:lnTo>
                    <a:pt x="89" y="70"/>
                  </a:lnTo>
                  <a:lnTo>
                    <a:pt x="84" y="79"/>
                  </a:lnTo>
                  <a:lnTo>
                    <a:pt x="80" y="87"/>
                  </a:lnTo>
                  <a:lnTo>
                    <a:pt x="75" y="96"/>
                  </a:lnTo>
                  <a:lnTo>
                    <a:pt x="69" y="104"/>
                  </a:lnTo>
                  <a:lnTo>
                    <a:pt x="64" y="112"/>
                  </a:lnTo>
                  <a:lnTo>
                    <a:pt x="57" y="118"/>
                  </a:lnTo>
                  <a:lnTo>
                    <a:pt x="48" y="121"/>
                  </a:lnTo>
                  <a:lnTo>
                    <a:pt x="38" y="122"/>
                  </a:lnTo>
                  <a:lnTo>
                    <a:pt x="29" y="121"/>
                  </a:lnTo>
                  <a:lnTo>
                    <a:pt x="20" y="119"/>
                  </a:lnTo>
                  <a:lnTo>
                    <a:pt x="12" y="114"/>
                  </a:lnTo>
                  <a:lnTo>
                    <a:pt x="9" y="106"/>
                  </a:lnTo>
                  <a:lnTo>
                    <a:pt x="7" y="93"/>
                  </a:lnTo>
                  <a:lnTo>
                    <a:pt x="4" y="78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5" y="22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20" y="13"/>
                  </a:lnTo>
                  <a:lnTo>
                    <a:pt x="15" y="27"/>
                  </a:lnTo>
                  <a:lnTo>
                    <a:pt x="14" y="41"/>
                  </a:lnTo>
                  <a:lnTo>
                    <a:pt x="2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88760" y="2287440"/>
              <a:ext cx="10080" cy="1620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32" y="13"/>
                  </a:moveTo>
                  <a:lnTo>
                    <a:pt x="26" y="23"/>
                  </a:lnTo>
                  <a:lnTo>
                    <a:pt x="22" y="34"/>
                  </a:lnTo>
                  <a:lnTo>
                    <a:pt x="16" y="45"/>
                  </a:lnTo>
                  <a:lnTo>
                    <a:pt x="7" y="53"/>
                  </a:lnTo>
                  <a:lnTo>
                    <a:pt x="4" y="40"/>
                  </a:lnTo>
                  <a:lnTo>
                    <a:pt x="3" y="27"/>
                  </a:lnTo>
                  <a:lnTo>
                    <a:pt x="2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159240" y="2302560"/>
              <a:ext cx="112680" cy="37800"/>
            </a:xfrm>
            <a:custGeom>
              <a:avLst/>
              <a:gdLst/>
              <a:ahLst/>
              <a:rect l="l" t="t" r="r" b="b"/>
              <a:pathLst>
                <a:path w="351" h="120">
                  <a:moveTo>
                    <a:pt x="351" y="19"/>
                  </a:moveTo>
                  <a:lnTo>
                    <a:pt x="335" y="25"/>
                  </a:lnTo>
                  <a:lnTo>
                    <a:pt x="319" y="34"/>
                  </a:lnTo>
                  <a:lnTo>
                    <a:pt x="304" y="44"/>
                  </a:lnTo>
                  <a:lnTo>
                    <a:pt x="291" y="55"/>
                  </a:lnTo>
                  <a:lnTo>
                    <a:pt x="277" y="65"/>
                  </a:lnTo>
                  <a:lnTo>
                    <a:pt x="262" y="74"/>
                  </a:lnTo>
                  <a:lnTo>
                    <a:pt x="246" y="82"/>
                  </a:lnTo>
                  <a:lnTo>
                    <a:pt x="230" y="86"/>
                  </a:lnTo>
                  <a:lnTo>
                    <a:pt x="213" y="89"/>
                  </a:lnTo>
                  <a:lnTo>
                    <a:pt x="197" y="92"/>
                  </a:lnTo>
                  <a:lnTo>
                    <a:pt x="181" y="96"/>
                  </a:lnTo>
                  <a:lnTo>
                    <a:pt x="166" y="100"/>
                  </a:lnTo>
                  <a:lnTo>
                    <a:pt x="151" y="104"/>
                  </a:lnTo>
                  <a:lnTo>
                    <a:pt x="137" y="108"/>
                  </a:lnTo>
                  <a:lnTo>
                    <a:pt x="122" y="112"/>
                  </a:lnTo>
                  <a:lnTo>
                    <a:pt x="107" y="117"/>
                  </a:lnTo>
                  <a:lnTo>
                    <a:pt x="94" y="119"/>
                  </a:lnTo>
                  <a:lnTo>
                    <a:pt x="80" y="120"/>
                  </a:lnTo>
                  <a:lnTo>
                    <a:pt x="67" y="120"/>
                  </a:lnTo>
                  <a:lnTo>
                    <a:pt x="54" y="119"/>
                  </a:lnTo>
                  <a:lnTo>
                    <a:pt x="40" y="119"/>
                  </a:lnTo>
                  <a:lnTo>
                    <a:pt x="26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0" y="96"/>
                  </a:lnTo>
                  <a:lnTo>
                    <a:pt x="14" y="89"/>
                  </a:lnTo>
                  <a:lnTo>
                    <a:pt x="20" y="82"/>
                  </a:lnTo>
                  <a:lnTo>
                    <a:pt x="25" y="74"/>
                  </a:lnTo>
                  <a:lnTo>
                    <a:pt x="29" y="68"/>
                  </a:lnTo>
                  <a:lnTo>
                    <a:pt x="35" y="60"/>
                  </a:lnTo>
                  <a:lnTo>
                    <a:pt x="46" y="58"/>
                  </a:lnTo>
                  <a:lnTo>
                    <a:pt x="59" y="55"/>
                  </a:lnTo>
                  <a:lnTo>
                    <a:pt x="71" y="51"/>
                  </a:lnTo>
                  <a:lnTo>
                    <a:pt x="82" y="45"/>
                  </a:lnTo>
                  <a:lnTo>
                    <a:pt x="93" y="40"/>
                  </a:lnTo>
                  <a:lnTo>
                    <a:pt x="105" y="34"/>
                  </a:lnTo>
                  <a:lnTo>
                    <a:pt x="116" y="29"/>
                  </a:lnTo>
                  <a:lnTo>
                    <a:pt x="128" y="22"/>
                  </a:lnTo>
                  <a:lnTo>
                    <a:pt x="140" y="17"/>
                  </a:lnTo>
                  <a:lnTo>
                    <a:pt x="151" y="12"/>
                  </a:lnTo>
                  <a:lnTo>
                    <a:pt x="163" y="7"/>
                  </a:lnTo>
                  <a:lnTo>
                    <a:pt x="176" y="3"/>
                  </a:lnTo>
                  <a:lnTo>
                    <a:pt x="189" y="1"/>
                  </a:lnTo>
                  <a:lnTo>
                    <a:pt x="202" y="0"/>
                  </a:lnTo>
                  <a:lnTo>
                    <a:pt x="216" y="1"/>
                  </a:lnTo>
                  <a:lnTo>
                    <a:pt x="230" y="3"/>
                  </a:lnTo>
                  <a:lnTo>
                    <a:pt x="245" y="7"/>
                  </a:lnTo>
                  <a:lnTo>
                    <a:pt x="260" y="10"/>
                  </a:lnTo>
                  <a:lnTo>
                    <a:pt x="275" y="14"/>
                  </a:lnTo>
                  <a:lnTo>
                    <a:pt x="290" y="17"/>
                  </a:lnTo>
                  <a:lnTo>
                    <a:pt x="304" y="19"/>
                  </a:lnTo>
                  <a:lnTo>
                    <a:pt x="319" y="20"/>
                  </a:lnTo>
                  <a:lnTo>
                    <a:pt x="335" y="20"/>
                  </a:lnTo>
                  <a:lnTo>
                    <a:pt x="3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75800" y="2310120"/>
              <a:ext cx="66600" cy="25560"/>
            </a:xfrm>
            <a:custGeom>
              <a:avLst/>
              <a:gdLst/>
              <a:ahLst/>
              <a:rect l="l" t="t" r="r" b="b"/>
              <a:pathLst>
                <a:path w="208" h="81">
                  <a:moveTo>
                    <a:pt x="196" y="7"/>
                  </a:moveTo>
                  <a:lnTo>
                    <a:pt x="198" y="11"/>
                  </a:lnTo>
                  <a:lnTo>
                    <a:pt x="200" y="15"/>
                  </a:lnTo>
                  <a:lnTo>
                    <a:pt x="204" y="19"/>
                  </a:lnTo>
                  <a:lnTo>
                    <a:pt x="208" y="22"/>
                  </a:lnTo>
                  <a:lnTo>
                    <a:pt x="195" y="27"/>
                  </a:lnTo>
                  <a:lnTo>
                    <a:pt x="183" y="32"/>
                  </a:lnTo>
                  <a:lnTo>
                    <a:pt x="171" y="36"/>
                  </a:lnTo>
                  <a:lnTo>
                    <a:pt x="158" y="41"/>
                  </a:lnTo>
                  <a:lnTo>
                    <a:pt x="145" y="45"/>
                  </a:lnTo>
                  <a:lnTo>
                    <a:pt x="132" y="49"/>
                  </a:lnTo>
                  <a:lnTo>
                    <a:pt x="120" y="53"/>
                  </a:lnTo>
                  <a:lnTo>
                    <a:pt x="107" y="57"/>
                  </a:lnTo>
                  <a:lnTo>
                    <a:pt x="94" y="61"/>
                  </a:lnTo>
                  <a:lnTo>
                    <a:pt x="81" y="65"/>
                  </a:lnTo>
                  <a:lnTo>
                    <a:pt x="69" y="68"/>
                  </a:lnTo>
                  <a:lnTo>
                    <a:pt x="55" y="71"/>
                  </a:lnTo>
                  <a:lnTo>
                    <a:pt x="42" y="73"/>
                  </a:lnTo>
                  <a:lnTo>
                    <a:pt x="28" y="77"/>
                  </a:lnTo>
                  <a:lnTo>
                    <a:pt x="16" y="79"/>
                  </a:lnTo>
                  <a:lnTo>
                    <a:pt x="2" y="81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59"/>
                  </a:lnTo>
                  <a:lnTo>
                    <a:pt x="15" y="47"/>
                  </a:lnTo>
                  <a:lnTo>
                    <a:pt x="29" y="38"/>
                  </a:lnTo>
                  <a:lnTo>
                    <a:pt x="45" y="32"/>
                  </a:lnTo>
                  <a:lnTo>
                    <a:pt x="61" y="28"/>
                  </a:lnTo>
                  <a:lnTo>
                    <a:pt x="77" y="25"/>
                  </a:lnTo>
                  <a:lnTo>
                    <a:pt x="94" y="20"/>
                  </a:lnTo>
                  <a:lnTo>
                    <a:pt x="110" y="15"/>
                  </a:lnTo>
                  <a:lnTo>
                    <a:pt x="126" y="7"/>
                  </a:lnTo>
                  <a:lnTo>
                    <a:pt x="133" y="3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60" y="0"/>
                  </a:lnTo>
                  <a:lnTo>
                    <a:pt x="170" y="1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82280" y="2333160"/>
              <a:ext cx="88200" cy="38880"/>
            </a:xfrm>
            <a:custGeom>
              <a:avLst/>
              <a:gdLst/>
              <a:ahLst/>
              <a:rect l="l" t="t" r="r" b="b"/>
              <a:pathLst>
                <a:path w="279" h="127">
                  <a:moveTo>
                    <a:pt x="158" y="119"/>
                  </a:moveTo>
                  <a:lnTo>
                    <a:pt x="139" y="123"/>
                  </a:lnTo>
                  <a:lnTo>
                    <a:pt x="118" y="126"/>
                  </a:lnTo>
                  <a:lnTo>
                    <a:pt x="97" y="127"/>
                  </a:lnTo>
                  <a:lnTo>
                    <a:pt x="76" y="126"/>
                  </a:lnTo>
                  <a:lnTo>
                    <a:pt x="56" y="122"/>
                  </a:lnTo>
                  <a:lnTo>
                    <a:pt x="38" y="116"/>
                  </a:lnTo>
                  <a:lnTo>
                    <a:pt x="20" y="107"/>
                  </a:lnTo>
                  <a:lnTo>
                    <a:pt x="4" y="95"/>
                  </a:lnTo>
                  <a:lnTo>
                    <a:pt x="0" y="85"/>
                  </a:lnTo>
                  <a:lnTo>
                    <a:pt x="16" y="77"/>
                  </a:lnTo>
                  <a:lnTo>
                    <a:pt x="33" y="70"/>
                  </a:lnTo>
                  <a:lnTo>
                    <a:pt x="51" y="65"/>
                  </a:lnTo>
                  <a:lnTo>
                    <a:pt x="69" y="62"/>
                  </a:lnTo>
                  <a:lnTo>
                    <a:pt x="87" y="59"/>
                  </a:lnTo>
                  <a:lnTo>
                    <a:pt x="105" y="56"/>
                  </a:lnTo>
                  <a:lnTo>
                    <a:pt x="124" y="55"/>
                  </a:lnTo>
                  <a:lnTo>
                    <a:pt x="142" y="53"/>
                  </a:lnTo>
                  <a:lnTo>
                    <a:pt x="161" y="51"/>
                  </a:lnTo>
                  <a:lnTo>
                    <a:pt x="179" y="49"/>
                  </a:lnTo>
                  <a:lnTo>
                    <a:pt x="197" y="45"/>
                  </a:lnTo>
                  <a:lnTo>
                    <a:pt x="214" y="39"/>
                  </a:lnTo>
                  <a:lnTo>
                    <a:pt x="231" y="33"/>
                  </a:lnTo>
                  <a:lnTo>
                    <a:pt x="248" y="25"/>
                  </a:lnTo>
                  <a:lnTo>
                    <a:pt x="264" y="14"/>
                  </a:lnTo>
                  <a:lnTo>
                    <a:pt x="279" y="0"/>
                  </a:lnTo>
                  <a:lnTo>
                    <a:pt x="271" y="20"/>
                  </a:lnTo>
                  <a:lnTo>
                    <a:pt x="261" y="38"/>
                  </a:lnTo>
                  <a:lnTo>
                    <a:pt x="248" y="56"/>
                  </a:lnTo>
                  <a:lnTo>
                    <a:pt x="232" y="73"/>
                  </a:lnTo>
                  <a:lnTo>
                    <a:pt x="215" y="88"/>
                  </a:lnTo>
                  <a:lnTo>
                    <a:pt x="197" y="101"/>
                  </a:lnTo>
                  <a:lnTo>
                    <a:pt x="177" y="112"/>
                  </a:lnTo>
                  <a:lnTo>
                    <a:pt x="15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09000" y="2376360"/>
              <a:ext cx="136800" cy="88560"/>
            </a:xfrm>
            <a:custGeom>
              <a:avLst/>
              <a:gdLst/>
              <a:ahLst/>
              <a:rect l="l" t="t" r="r" b="b"/>
              <a:pathLst>
                <a:path w="428" h="281">
                  <a:moveTo>
                    <a:pt x="428" y="4"/>
                  </a:moveTo>
                  <a:lnTo>
                    <a:pt x="414" y="37"/>
                  </a:lnTo>
                  <a:lnTo>
                    <a:pt x="404" y="71"/>
                  </a:lnTo>
                  <a:lnTo>
                    <a:pt x="398" y="105"/>
                  </a:lnTo>
                  <a:lnTo>
                    <a:pt x="393" y="140"/>
                  </a:lnTo>
                  <a:lnTo>
                    <a:pt x="389" y="176"/>
                  </a:lnTo>
                  <a:lnTo>
                    <a:pt x="385" y="211"/>
                  </a:lnTo>
                  <a:lnTo>
                    <a:pt x="380" y="246"/>
                  </a:lnTo>
                  <a:lnTo>
                    <a:pt x="374" y="281"/>
                  </a:lnTo>
                  <a:lnTo>
                    <a:pt x="350" y="280"/>
                  </a:lnTo>
                  <a:lnTo>
                    <a:pt x="326" y="279"/>
                  </a:lnTo>
                  <a:lnTo>
                    <a:pt x="302" y="277"/>
                  </a:lnTo>
                  <a:lnTo>
                    <a:pt x="280" y="274"/>
                  </a:lnTo>
                  <a:lnTo>
                    <a:pt x="257" y="271"/>
                  </a:lnTo>
                  <a:lnTo>
                    <a:pt x="233" y="267"/>
                  </a:lnTo>
                  <a:lnTo>
                    <a:pt x="211" y="264"/>
                  </a:lnTo>
                  <a:lnTo>
                    <a:pt x="188" y="261"/>
                  </a:lnTo>
                  <a:lnTo>
                    <a:pt x="164" y="258"/>
                  </a:lnTo>
                  <a:lnTo>
                    <a:pt x="142" y="255"/>
                  </a:lnTo>
                  <a:lnTo>
                    <a:pt x="119" y="252"/>
                  </a:lnTo>
                  <a:lnTo>
                    <a:pt x="95" y="251"/>
                  </a:lnTo>
                  <a:lnTo>
                    <a:pt x="72" y="250"/>
                  </a:lnTo>
                  <a:lnTo>
                    <a:pt x="49" y="251"/>
                  </a:lnTo>
                  <a:lnTo>
                    <a:pt x="24" y="252"/>
                  </a:lnTo>
                  <a:lnTo>
                    <a:pt x="0" y="256"/>
                  </a:lnTo>
                  <a:lnTo>
                    <a:pt x="17" y="243"/>
                  </a:lnTo>
                  <a:lnTo>
                    <a:pt x="35" y="231"/>
                  </a:lnTo>
                  <a:lnTo>
                    <a:pt x="54" y="221"/>
                  </a:lnTo>
                  <a:lnTo>
                    <a:pt x="73" y="211"/>
                  </a:lnTo>
                  <a:lnTo>
                    <a:pt x="93" y="203"/>
                  </a:lnTo>
                  <a:lnTo>
                    <a:pt x="113" y="195"/>
                  </a:lnTo>
                  <a:lnTo>
                    <a:pt x="134" y="188"/>
                  </a:lnTo>
                  <a:lnTo>
                    <a:pt x="154" y="179"/>
                  </a:lnTo>
                  <a:lnTo>
                    <a:pt x="174" y="172"/>
                  </a:lnTo>
                  <a:lnTo>
                    <a:pt x="193" y="163"/>
                  </a:lnTo>
                  <a:lnTo>
                    <a:pt x="212" y="154"/>
                  </a:lnTo>
                  <a:lnTo>
                    <a:pt x="231" y="143"/>
                  </a:lnTo>
                  <a:lnTo>
                    <a:pt x="248" y="132"/>
                  </a:lnTo>
                  <a:lnTo>
                    <a:pt x="265" y="118"/>
                  </a:lnTo>
                  <a:lnTo>
                    <a:pt x="281" y="103"/>
                  </a:lnTo>
                  <a:lnTo>
                    <a:pt x="295" y="85"/>
                  </a:lnTo>
                  <a:lnTo>
                    <a:pt x="305" y="73"/>
                  </a:lnTo>
                  <a:lnTo>
                    <a:pt x="314" y="62"/>
                  </a:lnTo>
                  <a:lnTo>
                    <a:pt x="325" y="51"/>
                  </a:lnTo>
                  <a:lnTo>
                    <a:pt x="335" y="40"/>
                  </a:lnTo>
                  <a:lnTo>
                    <a:pt x="346" y="30"/>
                  </a:lnTo>
                  <a:lnTo>
                    <a:pt x="358" y="19"/>
                  </a:lnTo>
                  <a:lnTo>
                    <a:pt x="368" y="10"/>
                  </a:lnTo>
                  <a:lnTo>
                    <a:pt x="380" y="0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23320" y="2476800"/>
              <a:ext cx="43560" cy="56880"/>
            </a:xfrm>
            <a:custGeom>
              <a:avLst/>
              <a:gdLst/>
              <a:ahLst/>
              <a:rect l="l" t="t" r="r" b="b"/>
              <a:pathLst>
                <a:path w="134" h="182">
                  <a:moveTo>
                    <a:pt x="134" y="0"/>
                  </a:moveTo>
                  <a:lnTo>
                    <a:pt x="127" y="22"/>
                  </a:lnTo>
                  <a:lnTo>
                    <a:pt x="118" y="45"/>
                  </a:lnTo>
                  <a:lnTo>
                    <a:pt x="111" y="66"/>
                  </a:lnTo>
                  <a:lnTo>
                    <a:pt x="103" y="88"/>
                  </a:lnTo>
                  <a:lnTo>
                    <a:pt x="97" y="110"/>
                  </a:lnTo>
                  <a:lnTo>
                    <a:pt x="92" y="134"/>
                  </a:lnTo>
                  <a:lnTo>
                    <a:pt x="87" y="157"/>
                  </a:lnTo>
                  <a:lnTo>
                    <a:pt x="85" y="182"/>
                  </a:lnTo>
                  <a:lnTo>
                    <a:pt x="75" y="161"/>
                  </a:lnTo>
                  <a:lnTo>
                    <a:pt x="62" y="142"/>
                  </a:lnTo>
                  <a:lnTo>
                    <a:pt x="49" y="123"/>
                  </a:lnTo>
                  <a:lnTo>
                    <a:pt x="35" y="104"/>
                  </a:lnTo>
                  <a:lnTo>
                    <a:pt x="24" y="84"/>
                  </a:lnTo>
                  <a:lnTo>
                    <a:pt x="13" y="64"/>
                  </a:lnTo>
                  <a:lnTo>
                    <a:pt x="4" y="43"/>
                  </a:lnTo>
                  <a:lnTo>
                    <a:pt x="0" y="20"/>
                  </a:lnTo>
                  <a:lnTo>
                    <a:pt x="16" y="16"/>
                  </a:lnTo>
                  <a:lnTo>
                    <a:pt x="32" y="14"/>
                  </a:lnTo>
                  <a:lnTo>
                    <a:pt x="49" y="13"/>
                  </a:lnTo>
                  <a:lnTo>
                    <a:pt x="66" y="12"/>
                  </a:lnTo>
                  <a:lnTo>
                    <a:pt x="83" y="11"/>
                  </a:lnTo>
                  <a:lnTo>
                    <a:pt x="101" y="10"/>
                  </a:lnTo>
                  <a:lnTo>
                    <a:pt x="117" y="5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04160" y="2207160"/>
              <a:ext cx="17640" cy="115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7" y="35"/>
                  </a:moveTo>
                  <a:lnTo>
                    <a:pt x="38" y="34"/>
                  </a:lnTo>
                  <a:lnTo>
                    <a:pt x="47" y="29"/>
                  </a:lnTo>
                  <a:lnTo>
                    <a:pt x="53" y="24"/>
                  </a:lnTo>
                  <a:lnTo>
                    <a:pt x="55" y="18"/>
                  </a:lnTo>
                  <a:lnTo>
                    <a:pt x="53" y="10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9"/>
                  </a:lnTo>
                  <a:lnTo>
                    <a:pt x="17" y="34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104160" y="2204640"/>
              <a:ext cx="17640" cy="115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29" y="35"/>
                  </a:moveTo>
                  <a:lnTo>
                    <a:pt x="41" y="32"/>
                  </a:lnTo>
                  <a:lnTo>
                    <a:pt x="49" y="28"/>
                  </a:lnTo>
                  <a:lnTo>
                    <a:pt x="55" y="21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8" y="34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119280" y="2209680"/>
              <a:ext cx="3960" cy="36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11"/>
                  </a:moveTo>
                  <a:lnTo>
                    <a:pt x="9" y="11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27280" y="2171880"/>
              <a:ext cx="18000" cy="1008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8" y="35"/>
                  </a:moveTo>
                  <a:lnTo>
                    <a:pt x="38" y="34"/>
                  </a:lnTo>
                  <a:lnTo>
                    <a:pt x="47" y="30"/>
                  </a:lnTo>
                  <a:lnTo>
                    <a:pt x="53" y="24"/>
                  </a:lnTo>
                  <a:lnTo>
                    <a:pt x="55" y="17"/>
                  </a:lnTo>
                  <a:lnTo>
                    <a:pt x="53" y="11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7" y="30"/>
                  </a:lnTo>
                  <a:lnTo>
                    <a:pt x="17" y="34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27280" y="2167560"/>
              <a:ext cx="18000" cy="1152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31" y="36"/>
                  </a:moveTo>
                  <a:lnTo>
                    <a:pt x="41" y="32"/>
                  </a:lnTo>
                  <a:lnTo>
                    <a:pt x="51" y="28"/>
                  </a:lnTo>
                  <a:lnTo>
                    <a:pt x="56" y="22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9" y="35"/>
                  </a:lnTo>
                  <a:lnTo>
                    <a:pt x="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42400" y="2174400"/>
              <a:ext cx="3600" cy="2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3440" y="2470320"/>
              <a:ext cx="70200" cy="114120"/>
            </a:xfrm>
            <a:custGeom>
              <a:avLst/>
              <a:gdLst/>
              <a:ahLst/>
              <a:rect l="l" t="t" r="r" b="b"/>
              <a:pathLst>
                <a:path w="218" h="359">
                  <a:moveTo>
                    <a:pt x="4" y="0"/>
                  </a:moveTo>
                  <a:lnTo>
                    <a:pt x="0" y="50"/>
                  </a:lnTo>
                  <a:lnTo>
                    <a:pt x="63" y="129"/>
                  </a:lnTo>
                  <a:lnTo>
                    <a:pt x="63" y="350"/>
                  </a:lnTo>
                  <a:lnTo>
                    <a:pt x="218" y="359"/>
                  </a:lnTo>
                  <a:lnTo>
                    <a:pt x="214" y="354"/>
                  </a:lnTo>
                  <a:lnTo>
                    <a:pt x="201" y="343"/>
                  </a:lnTo>
                  <a:lnTo>
                    <a:pt x="184" y="327"/>
                  </a:lnTo>
                  <a:lnTo>
                    <a:pt x="165" y="309"/>
                  </a:lnTo>
                  <a:lnTo>
                    <a:pt x="147" y="291"/>
                  </a:lnTo>
                  <a:lnTo>
                    <a:pt x="132" y="276"/>
                  </a:lnTo>
                  <a:lnTo>
                    <a:pt x="122" y="265"/>
                  </a:lnTo>
                  <a:lnTo>
                    <a:pt x="121" y="262"/>
                  </a:lnTo>
                  <a:lnTo>
                    <a:pt x="128" y="264"/>
                  </a:lnTo>
                  <a:lnTo>
                    <a:pt x="136" y="267"/>
                  </a:lnTo>
                  <a:lnTo>
                    <a:pt x="147" y="272"/>
                  </a:lnTo>
                  <a:lnTo>
                    <a:pt x="157" y="276"/>
                  </a:lnTo>
                  <a:lnTo>
                    <a:pt x="167" y="280"/>
                  </a:lnTo>
                  <a:lnTo>
                    <a:pt x="175" y="284"/>
                  </a:lnTo>
                  <a:lnTo>
                    <a:pt x="182" y="286"/>
                  </a:lnTo>
                  <a:lnTo>
                    <a:pt x="184" y="288"/>
                  </a:lnTo>
                  <a:lnTo>
                    <a:pt x="88" y="129"/>
                  </a:lnTo>
                  <a:lnTo>
                    <a:pt x="43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68160" y="2031840"/>
              <a:ext cx="127800" cy="37800"/>
            </a:xfrm>
            <a:custGeom>
              <a:avLst/>
              <a:gdLst/>
              <a:ahLst/>
              <a:rect l="l" t="t" r="r" b="b"/>
              <a:pathLst>
                <a:path w="397" h="119">
                  <a:moveTo>
                    <a:pt x="4" y="67"/>
                  </a:moveTo>
                  <a:lnTo>
                    <a:pt x="6" y="69"/>
                  </a:lnTo>
                  <a:lnTo>
                    <a:pt x="13" y="73"/>
                  </a:lnTo>
                  <a:lnTo>
                    <a:pt x="23" y="80"/>
                  </a:lnTo>
                  <a:lnTo>
                    <a:pt x="37" y="87"/>
                  </a:lnTo>
                  <a:lnTo>
                    <a:pt x="54" y="95"/>
                  </a:lnTo>
                  <a:lnTo>
                    <a:pt x="74" y="104"/>
                  </a:lnTo>
                  <a:lnTo>
                    <a:pt x="98" y="111"/>
                  </a:lnTo>
                  <a:lnTo>
                    <a:pt x="124" y="116"/>
                  </a:lnTo>
                  <a:lnTo>
                    <a:pt x="152" y="119"/>
                  </a:lnTo>
                  <a:lnTo>
                    <a:pt x="183" y="118"/>
                  </a:lnTo>
                  <a:lnTo>
                    <a:pt x="216" y="113"/>
                  </a:lnTo>
                  <a:lnTo>
                    <a:pt x="250" y="104"/>
                  </a:lnTo>
                  <a:lnTo>
                    <a:pt x="285" y="88"/>
                  </a:lnTo>
                  <a:lnTo>
                    <a:pt x="322" y="66"/>
                  </a:lnTo>
                  <a:lnTo>
                    <a:pt x="359" y="37"/>
                  </a:lnTo>
                  <a:lnTo>
                    <a:pt x="397" y="0"/>
                  </a:lnTo>
                  <a:lnTo>
                    <a:pt x="395" y="2"/>
                  </a:lnTo>
                  <a:lnTo>
                    <a:pt x="389" y="6"/>
                  </a:lnTo>
                  <a:lnTo>
                    <a:pt x="377" y="14"/>
                  </a:lnTo>
                  <a:lnTo>
                    <a:pt x="363" y="22"/>
                  </a:lnTo>
                  <a:lnTo>
                    <a:pt x="345" y="33"/>
                  </a:lnTo>
                  <a:lnTo>
                    <a:pt x="323" y="43"/>
                  </a:lnTo>
                  <a:lnTo>
                    <a:pt x="299" y="54"/>
                  </a:lnTo>
                  <a:lnTo>
                    <a:pt x="272" y="65"/>
                  </a:lnTo>
                  <a:lnTo>
                    <a:pt x="243" y="73"/>
                  </a:lnTo>
                  <a:lnTo>
                    <a:pt x="212" y="81"/>
                  </a:lnTo>
                  <a:lnTo>
                    <a:pt x="180" y="85"/>
                  </a:lnTo>
                  <a:lnTo>
                    <a:pt x="144" y="86"/>
                  </a:lnTo>
                  <a:lnTo>
                    <a:pt x="109" y="84"/>
                  </a:lnTo>
                  <a:lnTo>
                    <a:pt x="73" y="77"/>
                  </a:lnTo>
                  <a:lnTo>
                    <a:pt x="37" y="67"/>
                  </a:lnTo>
                  <a:lnTo>
                    <a:pt x="0" y="50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82560" y="2026800"/>
              <a:ext cx="88200" cy="18720"/>
            </a:xfrm>
            <a:custGeom>
              <a:avLst/>
              <a:gdLst/>
              <a:ahLst/>
              <a:rect l="l" t="t" r="r" b="b"/>
              <a:pathLst>
                <a:path w="277" h="59">
                  <a:moveTo>
                    <a:pt x="0" y="25"/>
                  </a:moveTo>
                  <a:lnTo>
                    <a:pt x="2" y="27"/>
                  </a:lnTo>
                  <a:lnTo>
                    <a:pt x="6" y="29"/>
                  </a:lnTo>
                  <a:lnTo>
                    <a:pt x="12" y="33"/>
                  </a:lnTo>
                  <a:lnTo>
                    <a:pt x="22" y="38"/>
                  </a:lnTo>
                  <a:lnTo>
                    <a:pt x="32" y="44"/>
                  </a:lnTo>
                  <a:lnTo>
                    <a:pt x="46" y="48"/>
                  </a:lnTo>
                  <a:lnTo>
                    <a:pt x="61" y="53"/>
                  </a:lnTo>
                  <a:lnTo>
                    <a:pt x="79" y="56"/>
                  </a:lnTo>
                  <a:lnTo>
                    <a:pt x="98" y="58"/>
                  </a:lnTo>
                  <a:lnTo>
                    <a:pt x="119" y="59"/>
                  </a:lnTo>
                  <a:lnTo>
                    <a:pt x="142" y="57"/>
                  </a:lnTo>
                  <a:lnTo>
                    <a:pt x="166" y="53"/>
                  </a:lnTo>
                  <a:lnTo>
                    <a:pt x="192" y="46"/>
                  </a:lnTo>
                  <a:lnTo>
                    <a:pt x="219" y="35"/>
                  </a:lnTo>
                  <a:lnTo>
                    <a:pt x="247" y="19"/>
                  </a:lnTo>
                  <a:lnTo>
                    <a:pt x="277" y="0"/>
                  </a:lnTo>
                  <a:lnTo>
                    <a:pt x="274" y="1"/>
                  </a:lnTo>
                  <a:lnTo>
                    <a:pt x="269" y="3"/>
                  </a:lnTo>
                  <a:lnTo>
                    <a:pt x="260" y="6"/>
                  </a:lnTo>
                  <a:lnTo>
                    <a:pt x="247" y="11"/>
                  </a:lnTo>
                  <a:lnTo>
                    <a:pt x="232" y="16"/>
                  </a:lnTo>
                  <a:lnTo>
                    <a:pt x="215" y="21"/>
                  </a:lnTo>
                  <a:lnTo>
                    <a:pt x="196" y="27"/>
                  </a:lnTo>
                  <a:lnTo>
                    <a:pt x="175" y="32"/>
                  </a:lnTo>
                  <a:lnTo>
                    <a:pt x="153" y="36"/>
                  </a:lnTo>
                  <a:lnTo>
                    <a:pt x="130" y="39"/>
                  </a:lnTo>
                  <a:lnTo>
                    <a:pt x="108" y="41"/>
                  </a:lnTo>
                  <a:lnTo>
                    <a:pt x="84" y="42"/>
                  </a:lnTo>
                  <a:lnTo>
                    <a:pt x="62" y="41"/>
                  </a:lnTo>
                  <a:lnTo>
                    <a:pt x="40" y="38"/>
                  </a:lnTo>
                  <a:lnTo>
                    <a:pt x="20" y="3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93520" y="2085120"/>
              <a:ext cx="52560" cy="7200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0" y="0"/>
                  </a:moveTo>
                  <a:lnTo>
                    <a:pt x="7" y="4"/>
                  </a:lnTo>
                  <a:lnTo>
                    <a:pt x="25" y="15"/>
                  </a:lnTo>
                  <a:lnTo>
                    <a:pt x="52" y="35"/>
                  </a:lnTo>
                  <a:lnTo>
                    <a:pt x="82" y="61"/>
                  </a:lnTo>
                  <a:lnTo>
                    <a:pt x="110" y="93"/>
                  </a:lnTo>
                  <a:lnTo>
                    <a:pt x="134" y="132"/>
                  </a:lnTo>
                  <a:lnTo>
                    <a:pt x="149" y="177"/>
                  </a:lnTo>
                  <a:lnTo>
                    <a:pt x="151" y="226"/>
                  </a:lnTo>
                  <a:lnTo>
                    <a:pt x="152" y="223"/>
                  </a:lnTo>
                  <a:lnTo>
                    <a:pt x="154" y="218"/>
                  </a:lnTo>
                  <a:lnTo>
                    <a:pt x="157" y="210"/>
                  </a:lnTo>
                  <a:lnTo>
                    <a:pt x="160" y="199"/>
                  </a:lnTo>
                  <a:lnTo>
                    <a:pt x="163" y="185"/>
                  </a:lnTo>
                  <a:lnTo>
                    <a:pt x="166" y="170"/>
                  </a:lnTo>
                  <a:lnTo>
                    <a:pt x="167" y="153"/>
                  </a:lnTo>
                  <a:lnTo>
                    <a:pt x="165" y="136"/>
                  </a:lnTo>
                  <a:lnTo>
                    <a:pt x="160" y="117"/>
                  </a:lnTo>
                  <a:lnTo>
                    <a:pt x="152" y="98"/>
                  </a:lnTo>
                  <a:lnTo>
                    <a:pt x="140" y="80"/>
                  </a:lnTo>
                  <a:lnTo>
                    <a:pt x="124" y="61"/>
                  </a:lnTo>
                  <a:lnTo>
                    <a:pt x="102" y="44"/>
                  </a:lnTo>
                  <a:lnTo>
                    <a:pt x="74" y="27"/>
                  </a:lnTo>
                  <a:lnTo>
                    <a:pt x="4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33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6443640" y="1125360"/>
            <a:ext cx="2521080" cy="935280"/>
          </a:xfrm>
          <a:prstGeom prst="cloudCallout">
            <a:avLst>
              <a:gd name="adj1" fmla="val -48300"/>
              <a:gd name="adj2" fmla="val 4966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 to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209680" y="4232160"/>
            <a:ext cx="838440" cy="339480"/>
            <a:chOff x="2209680" y="4232160"/>
            <a:chExt cx="838440" cy="339480"/>
          </a:xfrm>
        </p:grpSpPr>
        <p:sp>
          <p:nvSpPr>
            <p:cNvPr id="1342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963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2949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2959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21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209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09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40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42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83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27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37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85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61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806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806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99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9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99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9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00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00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00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00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2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0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26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221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17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217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289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81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268360" y="2276640"/>
            <a:ext cx="838440" cy="380880"/>
            <a:chOff x="2268360" y="2276640"/>
            <a:chExt cx="838440" cy="380880"/>
          </a:xfrm>
        </p:grpSpPr>
        <p:sp>
          <p:nvSpPr>
            <p:cNvPr id="1406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50040" y="230184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29200" y="230508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411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45791E-007 L 0.20608 0.0037 E">
                                      <p:cBhvr>
                                        <p:cTn id="1709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14894E-006 L 0.20469 9.14894E-006 E">
                                      <p:cBhvr>
                                        <p:cTn id="1711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3505320" y="2819520"/>
            <a:ext cx="1360440" cy="1599840"/>
            <a:chOff x="3505320" y="2819520"/>
            <a:chExt cx="1360440" cy="1599840"/>
          </a:xfrm>
        </p:grpSpPr>
        <p:sp>
          <p:nvSpPr>
            <p:cNvPr id="1435" name=""/>
            <p:cNvSpPr/>
            <p:nvPr/>
          </p:nvSpPr>
          <p:spPr>
            <a:xfrm flipV="1">
              <a:off x="3505320" y="3020760"/>
              <a:ext cx="385560" cy="13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4095720" y="3051360"/>
              <a:ext cx="171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633840" y="3657600"/>
              <a:ext cx="52704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3722400" y="3657600"/>
              <a:ext cx="46332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3762360" y="3284640"/>
              <a:ext cx="3589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3825720" y="3222720"/>
              <a:ext cx="3096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56080" y="2990880"/>
              <a:ext cx="11700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81280" y="2819520"/>
              <a:ext cx="11574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94240" y="2819520"/>
              <a:ext cx="12852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3594240" y="2849760"/>
              <a:ext cx="153720" cy="14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5720" y="2865600"/>
              <a:ext cx="10332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838680" y="2911680"/>
              <a:ext cx="11592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44960" y="2928960"/>
              <a:ext cx="9036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4006800" y="2928960"/>
              <a:ext cx="14148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237200" y="2973600"/>
              <a:ext cx="90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37200" y="2959200"/>
              <a:ext cx="777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443480" y="3005280"/>
              <a:ext cx="7776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4456080" y="3020760"/>
              <a:ext cx="77760" cy="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8680" y="3051360"/>
              <a:ext cx="144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18000" y="3657600"/>
              <a:ext cx="347760" cy="381240"/>
            </a:xfrm>
            <a:custGeom>
              <a:avLst/>
              <a:gdLst/>
              <a:ahLst/>
              <a:rect l="l" t="t" r="r" b="b"/>
              <a:pathLst>
                <a:path w="1498" h="1984">
                  <a:moveTo>
                    <a:pt x="932" y="0"/>
                  </a:moveTo>
                  <a:lnTo>
                    <a:pt x="0" y="1984"/>
                  </a:lnTo>
                  <a:lnTo>
                    <a:pt x="324" y="1984"/>
                  </a:lnTo>
                  <a:lnTo>
                    <a:pt x="932" y="0"/>
                  </a:lnTo>
                  <a:lnTo>
                    <a:pt x="1133" y="1984"/>
                  </a:lnTo>
                  <a:lnTo>
                    <a:pt x="1498" y="1944"/>
                  </a:lnTo>
                  <a:lnTo>
                    <a:pt x="932" y="1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4267080" y="4267080"/>
            <a:ext cx="838080" cy="288720"/>
            <a:chOff x="4267080" y="4267080"/>
            <a:chExt cx="838080" cy="288720"/>
          </a:xfrm>
        </p:grpSpPr>
        <p:sp>
          <p:nvSpPr>
            <p:cNvPr id="1458" name=""/>
            <p:cNvSpPr/>
            <p:nvPr/>
          </p:nvSpPr>
          <p:spPr>
            <a:xfrm>
              <a:off x="48981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0619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0680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2678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50184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0313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381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223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910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876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142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34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3502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88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999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024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024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852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798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3352680" y="4232160"/>
            <a:ext cx="838440" cy="339480"/>
            <a:chOff x="3352680" y="4232160"/>
            <a:chExt cx="838440" cy="339480"/>
          </a:xfrm>
        </p:grpSpPr>
        <p:sp>
          <p:nvSpPr>
            <p:cNvPr id="1514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106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092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102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64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352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52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83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85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526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570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580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28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04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949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49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42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42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42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42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43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43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43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43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55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73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69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64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60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60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32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24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578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840600" y="167652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55400" y="274320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63720" y="5089680"/>
            <a:ext cx="59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very Overhead + Possible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348080" y="2286000"/>
            <a:ext cx="817200" cy="380520"/>
            <a:chOff x="4348080" y="2286000"/>
            <a:chExt cx="817200" cy="380520"/>
          </a:xfrm>
        </p:grpSpPr>
        <p:sp>
          <p:nvSpPr>
            <p:cNvPr id="1605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68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0130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3352680" y="2286000"/>
            <a:ext cx="838440" cy="380880"/>
            <a:chOff x="3352680" y="2286000"/>
            <a:chExt cx="838440" cy="380880"/>
          </a:xfrm>
        </p:grpSpPr>
        <p:sp>
          <p:nvSpPr>
            <p:cNvPr id="1610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8343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135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615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4349880" y="2286000"/>
            <a:ext cx="817200" cy="380520"/>
            <a:chOff x="4349880" y="2286000"/>
            <a:chExt cx="817200" cy="380520"/>
          </a:xfrm>
        </p:grpSpPr>
        <p:sp>
          <p:nvSpPr>
            <p:cNvPr id="1618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486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148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9519E-006 L -1.11022E-016 -0.0592 E">
                                      <p:cBhvr>
                                        <p:cTn id="1786" dur="1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495680" y="4267080"/>
            <a:ext cx="838080" cy="288720"/>
            <a:chOff x="4495680" y="4267080"/>
            <a:chExt cx="838080" cy="288720"/>
          </a:xfrm>
        </p:grpSpPr>
        <p:sp>
          <p:nvSpPr>
            <p:cNvPr id="1625" name=""/>
            <p:cNvSpPr/>
            <p:nvPr/>
          </p:nvSpPr>
          <p:spPr>
            <a:xfrm>
              <a:off x="51267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2905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52966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964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52470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52599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7667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7509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196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162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428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820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788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174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1285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310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310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138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084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581280" y="4232160"/>
            <a:ext cx="838440" cy="339480"/>
            <a:chOff x="3581280" y="4232160"/>
            <a:chExt cx="838440" cy="339480"/>
          </a:xfrm>
        </p:grpSpPr>
        <p:sp>
          <p:nvSpPr>
            <p:cNvPr id="1681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3354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43210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3315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931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12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812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6122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144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551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990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091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1569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326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781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781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708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708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708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708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717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717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7717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7717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842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021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5985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5931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892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892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615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526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4516560" y="2286000"/>
            <a:ext cx="817200" cy="380520"/>
            <a:chOff x="4516560" y="2286000"/>
            <a:chExt cx="817200" cy="380520"/>
          </a:xfrm>
        </p:grpSpPr>
        <p:sp>
          <p:nvSpPr>
            <p:cNvPr id="1745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7152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1814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993600" y="16765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65160" y="50896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ioration of Performance (resources kept for e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will eventually stop working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2666880" y="4232160"/>
            <a:ext cx="838080" cy="339840"/>
            <a:chOff x="2666880" y="4232160"/>
            <a:chExt cx="838080" cy="339840"/>
          </a:xfrm>
        </p:grpSpPr>
        <p:sp>
          <p:nvSpPr>
            <p:cNvPr id="1752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420360" y="451476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406320" y="44481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417120" y="4470120"/>
              <a:ext cx="8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79480" y="448308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666880" y="445428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66880" y="442728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698560" y="4378320"/>
              <a:ext cx="75384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00000" y="4387680"/>
              <a:ext cx="73368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841480" y="4240080"/>
              <a:ext cx="43164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884320" y="4430520"/>
              <a:ext cx="40464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93680" y="444816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42880" y="435600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017520" y="4241520"/>
              <a:ext cx="223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263760" y="442584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055680" y="4383000"/>
              <a:ext cx="3348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55680" y="438300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55680" y="438300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57320" y="4375080"/>
              <a:ext cx="3312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57320" y="4375080"/>
              <a:ext cx="3312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57320" y="4375080"/>
              <a:ext cx="33120" cy="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57320" y="437508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69880" y="4354560"/>
              <a:ext cx="1875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87400" y="4341600"/>
              <a:ext cx="5475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84160" y="4241520"/>
              <a:ext cx="18432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79480" y="4375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74800" y="438768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74800" y="4406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47880" y="42526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838240" y="424800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5410080" y="4245120"/>
            <a:ext cx="838080" cy="339120"/>
            <a:chOff x="5410080" y="4245120"/>
            <a:chExt cx="838080" cy="339120"/>
          </a:xfrm>
        </p:grpSpPr>
        <p:sp>
          <p:nvSpPr>
            <p:cNvPr id="1814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21240" y="4527360"/>
              <a:ext cx="72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10440" y="44607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10080" y="448272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6168600" y="4495680"/>
              <a:ext cx="66600" cy="1080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162480" y="4466880"/>
              <a:ext cx="856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140160" y="4439880"/>
              <a:ext cx="1080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5461920" y="4390920"/>
              <a:ext cx="75420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481000" y="4400280"/>
              <a:ext cx="733320" cy="1728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5641560" y="4252680"/>
              <a:ext cx="432000" cy="2664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5625360" y="4443120"/>
              <a:ext cx="40500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5633640" y="4460760"/>
              <a:ext cx="38736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5660280" y="4368600"/>
              <a:ext cx="11160" cy="1695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874840" y="4254120"/>
              <a:ext cx="21960" cy="2631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5643360" y="44384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5825520" y="439560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5825520" y="4395600"/>
              <a:ext cx="3348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825520" y="4395600"/>
              <a:ext cx="33480" cy="90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6023880" y="438768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6023880" y="4387680"/>
              <a:ext cx="3348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023880" y="4387680"/>
              <a:ext cx="33480" cy="90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023880" y="4387680"/>
              <a:ext cx="33480" cy="90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457600" y="4367160"/>
              <a:ext cx="187200" cy="4248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5679720" y="4354200"/>
              <a:ext cx="547920" cy="2052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046200" y="4254120"/>
              <a:ext cx="183960" cy="950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6216480" y="4387680"/>
              <a:ext cx="1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6214680" y="44002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213240" y="441936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6021000" y="4265280"/>
              <a:ext cx="146160" cy="9360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071760" y="4260600"/>
              <a:ext cx="4680" cy="1548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324480" y="4267080"/>
            <a:ext cx="838080" cy="288720"/>
            <a:chOff x="6324480" y="4267080"/>
            <a:chExt cx="838080" cy="288720"/>
          </a:xfrm>
        </p:grpSpPr>
        <p:sp>
          <p:nvSpPr>
            <p:cNvPr id="1876" name=""/>
            <p:cNvSpPr/>
            <p:nvPr/>
          </p:nvSpPr>
          <p:spPr>
            <a:xfrm>
              <a:off x="69555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1193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71254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252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70758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70887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5955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5797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5484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450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716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108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076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462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573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598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9598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5426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5372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1752480" y="4213080"/>
            <a:ext cx="838440" cy="339480"/>
            <a:chOff x="1752480" y="4213080"/>
            <a:chExt cx="838440" cy="339480"/>
          </a:xfrm>
        </p:grpSpPr>
        <p:sp>
          <p:nvSpPr>
            <p:cNvPr id="1932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5066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24922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2502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7643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5248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5248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78344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78560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2636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9702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8036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3281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10384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34936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34936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4200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4200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4200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4200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4292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4292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292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4292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5548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77336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6976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76436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76040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76040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327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92384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838080" y="4224240"/>
            <a:ext cx="838080" cy="339840"/>
            <a:chOff x="838080" y="4224240"/>
            <a:chExt cx="838080" cy="339840"/>
          </a:xfrm>
        </p:grpSpPr>
        <p:sp>
          <p:nvSpPr>
            <p:cNvPr id="1996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1592280" y="450684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1577520" y="444024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1589040" y="446220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50680" y="447516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8080" y="444636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8080" y="441936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69760" y="4370400"/>
              <a:ext cx="75420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71560" y="4379760"/>
              <a:ext cx="7333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12680" y="4232160"/>
              <a:ext cx="43200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55520" y="4422600"/>
              <a:ext cx="40500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065240" y="444024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14440" y="434808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189080" y="4233600"/>
              <a:ext cx="2196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434960" y="441792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26880" y="437508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26880" y="437508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26880" y="437508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28520" y="436716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028520" y="4367160"/>
              <a:ext cx="33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028520" y="4367160"/>
              <a:ext cx="33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28520" y="4367160"/>
              <a:ext cx="33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441440" y="4346640"/>
              <a:ext cx="18720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58600" y="4333680"/>
              <a:ext cx="54792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55720" y="4233600"/>
              <a:ext cx="18396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50680" y="4367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46000" y="437976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46000" y="43988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19080" y="4244760"/>
              <a:ext cx="1461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09440" y="424008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6781320" y="45720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7227360" y="4213080"/>
            <a:ext cx="838440" cy="339480"/>
            <a:chOff x="7227360" y="4213080"/>
            <a:chExt cx="838440" cy="339480"/>
          </a:xfrm>
        </p:grpSpPr>
        <p:sp>
          <p:nvSpPr>
            <p:cNvPr id="2060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388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2280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227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9869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798012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795744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27956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729972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745920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4440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745128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74779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69212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746100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746100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764388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764388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764388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764388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784224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784224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784224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784224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727416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749772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786492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03484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803376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803124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78393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788940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62120" y="2252520"/>
            <a:ext cx="7314840" cy="468360"/>
            <a:chOff x="762120" y="2252520"/>
            <a:chExt cx="7314840" cy="468360"/>
          </a:xfrm>
        </p:grpSpPr>
        <p:sp>
          <p:nvSpPr>
            <p:cNvPr id="2124" name=""/>
            <p:cNvSpPr/>
            <p:nvPr/>
          </p:nvSpPr>
          <p:spPr>
            <a:xfrm>
              <a:off x="762120" y="225252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2120" y="2720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838080" y="2286000"/>
            <a:ext cx="838080" cy="380520"/>
            <a:chOff x="838080" y="2286000"/>
            <a:chExt cx="838080" cy="380520"/>
          </a:xfrm>
        </p:grpSpPr>
        <p:sp>
          <p:nvSpPr>
            <p:cNvPr id="2127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31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9964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2666880" y="2286000"/>
            <a:ext cx="838440" cy="380880"/>
            <a:chOff x="2666880" y="2286000"/>
            <a:chExt cx="838440" cy="380880"/>
          </a:xfrm>
        </p:grpSpPr>
        <p:sp>
          <p:nvSpPr>
            <p:cNvPr id="2132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148200" y="2311560"/>
              <a:ext cx="126720" cy="33012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30120"/>
                <a:gd name="textAreaBottom" fmla="*/ 326520 h 330120"/>
              </a:gdLst>
              <a:ahLst/>
              <a:rect l="textAreaLeft" t="textAreaTop" r="textAreaRight" b="textAreaBottom"/>
              <a:pathLst>
                <a:path w="21600" h="56172">
                  <a:moveTo>
                    <a:pt x="2139" y="0"/>
                  </a:moveTo>
                  <a:arcTo wR="2139" hR="2139" stAng="16200000" swAng="-5400000"/>
                  <a:lnTo>
                    <a:pt x="0" y="54033"/>
                  </a:lnTo>
                  <a:arcTo wR="2139" hR="2139" stAng="10800000" swAng="-5400000"/>
                  <a:lnTo>
                    <a:pt x="19461" y="5617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27720" y="2314440"/>
              <a:ext cx="113400" cy="32544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440"/>
                <a:gd name="textAreaBottom" fmla="*/ 322200 h 325440"/>
              </a:gdLst>
              <a:ahLst/>
              <a:rect l="textAreaLeft" t="textAreaTop" r="textAreaRight" b="textAreaBottom"/>
              <a:pathLst>
                <a:path w="21600" h="61861">
                  <a:moveTo>
                    <a:pt x="2143" y="0"/>
                  </a:moveTo>
                  <a:arcTo wR="2143" hR="2143" stAng="16200000" swAng="-5400000"/>
                  <a:lnTo>
                    <a:pt x="0" y="59718"/>
                  </a:lnTo>
                  <a:arcTo wR="2143" hR="2143" stAng="10800000" swAng="-5400000"/>
                  <a:lnTo>
                    <a:pt x="19457" y="618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1752480" y="2286000"/>
            <a:ext cx="838440" cy="380880"/>
            <a:chOff x="1752480" y="2286000"/>
            <a:chExt cx="838440" cy="380880"/>
          </a:xfrm>
        </p:grpSpPr>
        <p:sp>
          <p:nvSpPr>
            <p:cNvPr id="2137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341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8133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581280" y="2286000"/>
            <a:ext cx="838440" cy="380880"/>
            <a:chOff x="3581280" y="2286000"/>
            <a:chExt cx="838440" cy="380880"/>
          </a:xfrm>
        </p:grpSpPr>
        <p:sp>
          <p:nvSpPr>
            <p:cNvPr id="2142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629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6421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264440" y="2286000"/>
            <a:ext cx="812880" cy="380880"/>
            <a:chOff x="7264440" y="2286000"/>
            <a:chExt cx="812880" cy="380880"/>
          </a:xfrm>
        </p:grpSpPr>
        <p:sp>
          <p:nvSpPr>
            <p:cNvPr id="2147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7488000" y="2311200"/>
              <a:ext cx="122400" cy="329760"/>
            </a:xfrm>
            <a:custGeom>
              <a:avLst/>
              <a:gdLst>
                <a:gd name="textAreaLeft" fmla="*/ 3240 w 122400"/>
                <a:gd name="textAreaRight" fmla="*/ 119160 w 122400"/>
                <a:gd name="textAreaTop" fmla="*/ 3240 h 329760"/>
                <a:gd name="textAreaBottom" fmla="*/ 326520 h 329760"/>
              </a:gdLst>
              <a:ahLst/>
              <a:rect l="textAreaLeft" t="textAreaTop" r="textAreaRight" b="textAreaBottom"/>
              <a:pathLst>
                <a:path w="21600" h="58086">
                  <a:moveTo>
                    <a:pt x="2139" y="0"/>
                  </a:moveTo>
                  <a:arcTo wR="2139" hR="2139" stAng="16200000" swAng="-5400000"/>
                  <a:lnTo>
                    <a:pt x="0" y="55947"/>
                  </a:lnTo>
                  <a:arcTo wR="2139" hR="2139" stAng="10800000" swAng="-5400000"/>
                  <a:lnTo>
                    <a:pt x="19461" y="58086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7908120" y="2314440"/>
              <a:ext cx="109800" cy="325080"/>
            </a:xfrm>
            <a:custGeom>
              <a:avLst/>
              <a:gdLst>
                <a:gd name="textAreaLeft" fmla="*/ 2880 w 109800"/>
                <a:gd name="textAreaRight" fmla="*/ 106920 w 109800"/>
                <a:gd name="textAreaTop" fmla="*/ 2880 h 325080"/>
                <a:gd name="textAreaBottom" fmla="*/ 322200 h 325080"/>
              </a:gdLst>
              <a:ahLst/>
              <a:rect l="textAreaLeft" t="textAreaTop" r="textAreaRight" b="textAreaBottom"/>
              <a:pathLst>
                <a:path w="21600" h="63812">
                  <a:moveTo>
                    <a:pt x="2143" y="0"/>
                  </a:moveTo>
                  <a:arcTo wR="2143" hR="2143" stAng="16200000" swAng="-5400000"/>
                  <a:lnTo>
                    <a:pt x="0" y="61669"/>
                  </a:lnTo>
                  <a:arcTo wR="2143" hR="2143" stAng="10800000" swAng="-5400000"/>
                  <a:lnTo>
                    <a:pt x="19457" y="6381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6345360" y="2286000"/>
            <a:ext cx="817200" cy="380520"/>
            <a:chOff x="6345360" y="2286000"/>
            <a:chExt cx="817200" cy="380520"/>
          </a:xfrm>
        </p:grpSpPr>
        <p:sp>
          <p:nvSpPr>
            <p:cNvPr id="2152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440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0102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5410080" y="2286000"/>
            <a:ext cx="838080" cy="380520"/>
            <a:chOff x="5410080" y="2286000"/>
            <a:chExt cx="838080" cy="380520"/>
          </a:xfrm>
        </p:grpSpPr>
        <p:sp>
          <p:nvSpPr>
            <p:cNvPr id="2157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63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607428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2162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0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"/>
                            </p:stCondLst>
                            <p:childTnLst>
                              <p:par>
                                <p:cTn id="18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7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1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4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1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5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2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5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necessary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 condition cannot 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7696080" y="3505320"/>
            <a:ext cx="685800" cy="1523880"/>
            <a:chOff x="7696080" y="3505320"/>
            <a:chExt cx="685800" cy="1523880"/>
          </a:xfrm>
        </p:grpSpPr>
        <p:sp>
          <p:nvSpPr>
            <p:cNvPr id="2188" name=""/>
            <p:cNvSpPr/>
            <p:nvPr/>
          </p:nvSpPr>
          <p:spPr>
            <a:xfrm>
              <a:off x="7990920" y="414036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9" name=""/>
            <p:cNvGrpSpPr/>
            <p:nvPr/>
          </p:nvGrpSpPr>
          <p:grpSpPr>
            <a:xfrm>
              <a:off x="7696080" y="3505320"/>
              <a:ext cx="685800" cy="698040"/>
              <a:chOff x="7696080" y="3505320"/>
              <a:chExt cx="685800" cy="698040"/>
            </a:xfrm>
          </p:grpSpPr>
          <p:sp>
            <p:nvSpPr>
              <p:cNvPr id="2190" name=""/>
              <p:cNvSpPr/>
              <p:nvPr/>
            </p:nvSpPr>
            <p:spPr>
              <a:xfrm>
                <a:off x="7696080" y="3505320"/>
                <a:ext cx="685800" cy="698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820640" y="379044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2" name=""/>
          <p:cNvGrpSpPr/>
          <p:nvPr/>
        </p:nvGrpSpPr>
        <p:grpSpPr>
          <a:xfrm>
            <a:off x="7315200" y="3886200"/>
            <a:ext cx="609480" cy="1447560"/>
            <a:chOff x="7315200" y="3886200"/>
            <a:chExt cx="609480" cy="1447560"/>
          </a:xfrm>
        </p:grpSpPr>
        <p:sp>
          <p:nvSpPr>
            <p:cNvPr id="2193" name=""/>
            <p:cNvSpPr/>
            <p:nvPr/>
          </p:nvSpPr>
          <p:spPr>
            <a:xfrm>
              <a:off x="7576200" y="44892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7315200" y="3886200"/>
              <a:ext cx="609480" cy="723960"/>
              <a:chOff x="7315200" y="3886200"/>
              <a:chExt cx="609480" cy="723960"/>
            </a:xfrm>
          </p:grpSpPr>
          <p:sp>
            <p:nvSpPr>
              <p:cNvPr id="2195" name=""/>
              <p:cNvSpPr/>
              <p:nvPr/>
            </p:nvSpPr>
            <p:spPr>
              <a:xfrm>
                <a:off x="7315200" y="3886200"/>
                <a:ext cx="60948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453800" y="40064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5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9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3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wait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O-files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sources are non-sharable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9" name=""/>
          <p:cNvGraphicFramePr/>
          <p:nvPr/>
        </p:nvGraphicFramePr>
        <p:xfrm>
          <a:off x="6934320" y="320040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004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1" name=""/>
          <p:cNvSpPr/>
          <p:nvPr/>
        </p:nvSpPr>
        <p:spPr>
          <a:xfrm>
            <a:off x="685800" y="4038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harable R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rable 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Prin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k (Spoo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2057400" y="5105520"/>
          <a:ext cx="914400" cy="68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10552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4" name=""/>
          <p:cNvSpPr/>
          <p:nvPr/>
        </p:nvSpPr>
        <p:spPr>
          <a:xfrm>
            <a:off x="3886200" y="5105520"/>
            <a:ext cx="838080" cy="6858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038480" y="5410080"/>
            <a:ext cx="2286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419720" y="5334120"/>
            <a:ext cx="228600" cy="2286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5880" y="4343400"/>
            <a:ext cx="2667240" cy="167652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Reques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hold 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quest everything at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ease before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735440" y="316692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888080" y="3471840"/>
            <a:ext cx="5331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2971800" y="4572000"/>
            <a:ext cx="914400" cy="916560"/>
            <a:chOff x="2971800" y="4572000"/>
            <a:chExt cx="914400" cy="916560"/>
          </a:xfrm>
        </p:grpSpPr>
        <p:graphicFrame>
          <p:nvGraphicFramePr>
            <p:cNvPr id="2213" name=""/>
            <p:cNvGraphicFramePr/>
            <p:nvPr/>
          </p:nvGraphicFramePr>
          <p:xfrm>
            <a:off x="2971800" y="4572000"/>
            <a:ext cx="914400" cy="68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4572000"/>
                      <a:ext cx="91440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5" name=""/>
            <p:cNvSpPr/>
            <p:nvPr/>
          </p:nvSpPr>
          <p:spPr>
            <a:xfrm>
              <a:off x="3000600" y="5089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066680" y="3397320"/>
            <a:ext cx="990720" cy="1008360"/>
            <a:chOff x="1066680" y="3397320"/>
            <a:chExt cx="990720" cy="1008360"/>
          </a:xfrm>
        </p:grpSpPr>
        <p:grpSp>
          <p:nvGrpSpPr>
            <p:cNvPr id="2217" name=""/>
            <p:cNvGrpSpPr/>
            <p:nvPr/>
          </p:nvGrpSpPr>
          <p:grpSpPr>
            <a:xfrm>
              <a:off x="1066680" y="3397320"/>
              <a:ext cx="990720" cy="533160"/>
              <a:chOff x="1066680" y="3397320"/>
              <a:chExt cx="990720" cy="533160"/>
            </a:xfrm>
          </p:grpSpPr>
          <p:sp>
            <p:nvSpPr>
              <p:cNvPr id="2218" name=""/>
              <p:cNvSpPr/>
              <p:nvPr/>
            </p:nvSpPr>
            <p:spPr>
              <a:xfrm>
                <a:off x="1066680" y="3397320"/>
                <a:ext cx="990720" cy="5331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1184760" y="3479040"/>
                <a:ext cx="754560" cy="245880"/>
                <a:chOff x="1184760" y="3479040"/>
                <a:chExt cx="754560" cy="24588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11847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6563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>
                <a:off x="1349640" y="3766320"/>
                <a:ext cx="424440" cy="122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22184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176040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1220760" y="4006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2895480" y="3276720"/>
            <a:ext cx="1067040" cy="761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7" name=""/>
          <p:cNvCxnSpPr>
            <a:stCxn id="2218" idx="3"/>
            <a:endCxn id="2226" idx="2"/>
          </p:cNvCxnSpPr>
          <p:nvPr/>
        </p:nvCxnSpPr>
        <p:spPr>
          <a:xfrm flipV="1">
            <a:off x="2057400" y="3657240"/>
            <a:ext cx="838800" cy="7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28" name=""/>
          <p:cNvCxnSpPr>
            <a:stCxn id="2226" idx="6"/>
            <a:endCxn id="2211" idx="1"/>
          </p:cNvCxnSpPr>
          <p:nvPr/>
        </p:nvCxnSpPr>
        <p:spPr>
          <a:xfrm>
            <a:off x="3962160" y="3657240"/>
            <a:ext cx="926280" cy="54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9" name=""/>
          <p:cNvCxnSpPr>
            <a:stCxn id="2226" idx="4"/>
          </p:cNvCxnSpPr>
          <p:nvPr/>
        </p:nvCxnSpPr>
        <p:spPr>
          <a:xfrm>
            <a:off x="3428640" y="4038480"/>
            <a:ext cx="1080" cy="534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30" name=""/>
          <p:cNvSpPr/>
          <p:nvPr/>
        </p:nvSpPr>
        <p:spPr>
          <a:xfrm>
            <a:off x="5824800" y="34290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210040" y="3260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191120" y="3276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971800" y="40384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840640" y="4162320"/>
            <a:ext cx="249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064880" y="5410080"/>
            <a:ext cx="518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vation Possi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8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2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0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0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4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828800"/>
            <a:ext cx="6858000" cy="403848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590920"/>
            <a:ext cx="3809880" cy="28191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514600"/>
            <a:ext cx="2286000" cy="251460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200400"/>
            <a:ext cx="1828800" cy="1676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200400"/>
            <a:ext cx="1752840" cy="1676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181480"/>
            <a:ext cx="4343400" cy="703800"/>
          </a:xfrm>
          <a:prstGeom prst="borderCallout1">
            <a:avLst>
              <a:gd name="adj1" fmla="val 18750"/>
              <a:gd name="adj2" fmla="val -8333"/>
              <a:gd name="adj3" fmla="val -87268"/>
              <a:gd name="adj4" fmla="val -459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, RAM, Printer, Tape Unit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-file, Semaphor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4120"/>
            <a:ext cx="1676520" cy="703800"/>
          </a:xfrm>
          <a:prstGeom prst="borderCallout1">
            <a:avLst>
              <a:gd name="adj1" fmla="val 18750"/>
              <a:gd name="adj2" fmla="val -8333"/>
              <a:gd name="adj3" fmla="val -119884"/>
              <a:gd name="adj4" fmla="val 129236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-fil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1752480"/>
            <a:ext cx="2314440" cy="703800"/>
          </a:xfrm>
          <a:prstGeom prst="borderCallout1">
            <a:avLst>
              <a:gd name="adj1" fmla="val 18750"/>
              <a:gd name="adj2" fmla="val -8333"/>
              <a:gd name="adj3" fmla="val 151837"/>
              <a:gd name="adj4" fmla="val -1275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, Msg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may preempt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rom processes waiting for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 + Increase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f resource´s state can be saved + re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(registers, …), RAM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6019920" y="4419720"/>
            <a:ext cx="2666880" cy="167616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905120" y="4343400"/>
            <a:ext cx="167616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971800" y="4724280"/>
            <a:ext cx="4572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724280" y="4267080"/>
            <a:ext cx="1143000" cy="838440"/>
          </a:xfrm>
          <a:prstGeom prst="can">
            <a:avLst>
              <a:gd name="adj" fmla="val 250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029200" y="4648320"/>
            <a:ext cx="45720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95280" y="55148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 ??? Tape Unit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048120" y="4419720"/>
            <a:ext cx="2514600" cy="38088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 flipV="1">
            <a:off x="2818800" y="4952160"/>
            <a:ext cx="2514600" cy="38124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7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00"/>
                            </p:stCondLst>
                            <p:childTnLst>
                              <p:par>
                                <p:cTn id="2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2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500"/>
                            </p:stCondLst>
                            <p:childTnLst>
                              <p:par>
                                <p:cTn id="20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6" name=""/>
          <p:cNvGrpSpPr/>
          <p:nvPr/>
        </p:nvGrpSpPr>
        <p:grpSpPr>
          <a:xfrm>
            <a:off x="5029200" y="2819520"/>
            <a:ext cx="3657600" cy="3391560"/>
            <a:chOff x="5029200" y="2819520"/>
            <a:chExt cx="3657600" cy="3391560"/>
          </a:xfrm>
        </p:grpSpPr>
        <p:sp>
          <p:nvSpPr>
            <p:cNvPr id="2247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7761240" y="4300560"/>
              <a:ext cx="925560" cy="609480"/>
              <a:chOff x="7761240" y="4300560"/>
              <a:chExt cx="925560" cy="6094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761240" y="4300560"/>
                <a:ext cx="68580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250" name=""/>
              <p:cNvGraphicFramePr/>
              <p:nvPr/>
            </p:nvGraphicFramePr>
            <p:xfrm>
              <a:off x="8305920" y="4533480"/>
              <a:ext cx="38088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05920" y="4533480"/>
                        <a:ext cx="38088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5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grpSp>
            <p:nvGrpSpPr>
              <p:cNvPr id="2253" name=""/>
              <p:cNvGrpSpPr/>
              <p:nvPr/>
            </p:nvGrpSpPr>
            <p:grpSpPr>
              <a:xfrm>
                <a:off x="6858000" y="5138640"/>
                <a:ext cx="761760" cy="1072440"/>
                <a:chOff x="6858000" y="5138640"/>
                <a:chExt cx="761760" cy="107244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6858000" y="5138640"/>
                  <a:ext cx="761760" cy="60984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7013520" y="577044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6" name=""/>
              <p:cNvSpPr/>
              <p:nvPr/>
            </p:nvSpPr>
            <p:spPr>
              <a:xfrm>
                <a:off x="7162560" y="53672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57" name=""/>
            <p:cNvCxnSpPr>
              <a:stCxn id="2249" idx="3"/>
              <a:endCxn id="2254" idx="0"/>
            </p:cNvCxnSpPr>
            <p:nvPr/>
          </p:nvCxnSpPr>
          <p:spPr>
            <a:xfrm flipH="1">
              <a:off x="7238160" y="4820760"/>
              <a:ext cx="623160" cy="29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2258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5029200" y="3141720"/>
                <a:ext cx="762120" cy="1311120"/>
                <a:chOff x="5029200" y="3141720"/>
                <a:chExt cx="762120" cy="131112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029200" y="3538440"/>
                  <a:ext cx="762120" cy="9144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184720" y="314172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5334120" y="3729240"/>
                <a:ext cx="152280" cy="533160"/>
                <a:chOff x="5334120" y="3729240"/>
                <a:chExt cx="152280" cy="5331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334120" y="372924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334120" y="41101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5" name=""/>
            <p:cNvGrpSpPr/>
            <p:nvPr/>
          </p:nvGrpSpPr>
          <p:grpSpPr>
            <a:xfrm>
              <a:off x="6846840" y="3081240"/>
              <a:ext cx="762120" cy="990720"/>
              <a:chOff x="6846840" y="3081240"/>
              <a:chExt cx="762120" cy="990720"/>
            </a:xfrm>
          </p:grpSpPr>
          <p:sp>
            <p:nvSpPr>
              <p:cNvPr id="2266" name=""/>
              <p:cNvSpPr/>
              <p:nvPr/>
            </p:nvSpPr>
            <p:spPr>
              <a:xfrm>
                <a:off x="6846840" y="346212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02360" y="30812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51760" y="369072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69" name=""/>
            <p:cNvCxnSpPr>
              <a:stCxn id="2268" idx="5"/>
              <a:endCxn id="2270" idx="3"/>
            </p:cNvCxnSpPr>
            <p:nvPr/>
          </p:nvCxnSpPr>
          <p:spPr>
            <a:xfrm flipV="1">
              <a:off x="7281720" y="3339720"/>
              <a:ext cx="667440" cy="481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270" name=""/>
            <p:cNvSpPr/>
            <p:nvPr/>
          </p:nvSpPr>
          <p:spPr>
            <a:xfrm>
              <a:off x="7848720" y="28195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1" name=""/>
            <p:cNvCxnSpPr>
              <a:stCxn id="2256" idx="1"/>
              <a:endCxn id="2247" idx="5"/>
            </p:cNvCxnSpPr>
            <p:nvPr/>
          </p:nvCxnSpPr>
          <p:spPr>
            <a:xfrm flipH="1" flipV="1">
              <a:off x="6604920" y="4820760"/>
              <a:ext cx="57996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272" name=""/>
            <p:cNvCxnSpPr>
              <a:stCxn id="2264" idx="6"/>
              <a:endCxn id="2247" idx="2"/>
            </p:cNvCxnSpPr>
            <p:nvPr/>
          </p:nvCxnSpPr>
          <p:spPr>
            <a:xfrm>
              <a:off x="5486400" y="4185720"/>
              <a:ext cx="534240" cy="42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 Preempt Allocate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2732040" y="3124080"/>
            <a:ext cx="762120" cy="990720"/>
            <a:chOff x="2732040" y="3124080"/>
            <a:chExt cx="762120" cy="990720"/>
          </a:xfrm>
        </p:grpSpPr>
        <p:sp>
          <p:nvSpPr>
            <p:cNvPr id="2276" name=""/>
            <p:cNvSpPr/>
            <p:nvPr/>
          </p:nvSpPr>
          <p:spPr>
            <a:xfrm>
              <a:off x="273204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88756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03696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9" name=""/>
          <p:cNvSpPr/>
          <p:nvPr/>
        </p:nvSpPr>
        <p:spPr>
          <a:xfrm>
            <a:off x="1969920" y="43434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3646440" y="4343400"/>
            <a:ext cx="925560" cy="609480"/>
            <a:chOff x="3646440" y="4343400"/>
            <a:chExt cx="925560" cy="609480"/>
          </a:xfrm>
        </p:grpSpPr>
        <p:sp>
          <p:nvSpPr>
            <p:cNvPr id="2281" name=""/>
            <p:cNvSpPr/>
            <p:nvPr/>
          </p:nvSpPr>
          <p:spPr>
            <a:xfrm>
              <a:off x="3646440" y="43434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2" name=""/>
            <p:cNvGraphicFramePr/>
            <p:nvPr/>
          </p:nvGraphicFramePr>
          <p:xfrm>
            <a:off x="4191120" y="457632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45763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84" name=""/>
          <p:cNvGrpSpPr/>
          <p:nvPr/>
        </p:nvGrpSpPr>
        <p:grpSpPr>
          <a:xfrm>
            <a:off x="2735280" y="5153040"/>
            <a:ext cx="761760" cy="1072080"/>
            <a:chOff x="2735280" y="5153040"/>
            <a:chExt cx="761760" cy="1072080"/>
          </a:xfrm>
        </p:grpSpPr>
        <p:grpSp>
          <p:nvGrpSpPr>
            <p:cNvPr id="2285" name=""/>
            <p:cNvGrpSpPr/>
            <p:nvPr/>
          </p:nvGrpSpPr>
          <p:grpSpPr>
            <a:xfrm>
              <a:off x="2735280" y="5153040"/>
              <a:ext cx="761760" cy="1072080"/>
              <a:chOff x="2735280" y="5153040"/>
              <a:chExt cx="761760" cy="1072080"/>
            </a:xfrm>
          </p:grpSpPr>
          <p:sp>
            <p:nvSpPr>
              <p:cNvPr id="2286" name=""/>
              <p:cNvSpPr/>
              <p:nvPr/>
            </p:nvSpPr>
            <p:spPr>
              <a:xfrm>
                <a:off x="2735280" y="51530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890800" y="5784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3039840" y="53812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9" name=""/>
          <p:cNvCxnSpPr>
            <a:stCxn id="2281" idx="3"/>
            <a:endCxn id="2286" idx="0"/>
          </p:cNvCxnSpPr>
          <p:nvPr/>
        </p:nvCxnSpPr>
        <p:spPr>
          <a:xfrm flipH="1">
            <a:off x="3115440" y="486396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290" name=""/>
          <p:cNvCxnSpPr>
            <a:stCxn id="2278" idx="7"/>
            <a:endCxn id="2291" idx="3"/>
          </p:cNvCxnSpPr>
          <p:nvPr/>
        </p:nvCxnSpPr>
        <p:spPr>
          <a:xfrm flipV="1">
            <a:off x="3166920" y="3339360"/>
            <a:ext cx="667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292" name=""/>
          <p:cNvCxnSpPr>
            <a:stCxn id="2288" idx="1"/>
            <a:endCxn id="2279" idx="5"/>
          </p:cNvCxnSpPr>
          <p:nvPr/>
        </p:nvCxnSpPr>
        <p:spPr>
          <a:xfrm flipH="1" flipV="1">
            <a:off x="2555640" y="4863600"/>
            <a:ext cx="506880" cy="540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3" name=""/>
          <p:cNvSpPr/>
          <p:nvPr/>
        </p:nvSpPr>
        <p:spPr>
          <a:xfrm>
            <a:off x="2198520" y="35053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914400" y="3184560"/>
            <a:ext cx="762120" cy="1311120"/>
            <a:chOff x="914400" y="3184560"/>
            <a:chExt cx="762120" cy="1311120"/>
          </a:xfrm>
        </p:grpSpPr>
        <p:grpSp>
          <p:nvGrpSpPr>
            <p:cNvPr id="2295" name=""/>
            <p:cNvGrpSpPr/>
            <p:nvPr/>
          </p:nvGrpSpPr>
          <p:grpSpPr>
            <a:xfrm>
              <a:off x="914400" y="3184560"/>
              <a:ext cx="762120" cy="1311120"/>
              <a:chOff x="914400" y="3184560"/>
              <a:chExt cx="762120" cy="131112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4400" y="35812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69920" y="318456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1219320" y="3772080"/>
              <a:ext cx="152280" cy="533160"/>
              <a:chOff x="1219320" y="3772080"/>
              <a:chExt cx="152280" cy="533160"/>
            </a:xfrm>
          </p:grpSpPr>
          <p:sp>
            <p:nvSpPr>
              <p:cNvPr id="2299" name=""/>
              <p:cNvSpPr/>
              <p:nvPr/>
            </p:nvSpPr>
            <p:spPr>
              <a:xfrm>
                <a:off x="1219320" y="3772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19320" y="4152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1" name=""/>
          <p:cNvCxnSpPr>
            <a:stCxn id="2300" idx="5"/>
            <a:endCxn id="2279" idx="2"/>
          </p:cNvCxnSpPr>
          <p:nvPr/>
        </p:nvCxnSpPr>
        <p:spPr>
          <a:xfrm>
            <a:off x="1349280" y="4282560"/>
            <a:ext cx="621000" cy="3661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302" name=""/>
          <p:cNvGrpSpPr/>
          <p:nvPr/>
        </p:nvGrpSpPr>
        <p:grpSpPr>
          <a:xfrm>
            <a:off x="1219320" y="4419720"/>
            <a:ext cx="1222200" cy="1465560"/>
            <a:chOff x="1219320" y="4419720"/>
            <a:chExt cx="1222200" cy="1465560"/>
          </a:xfrm>
        </p:grpSpPr>
        <p:sp>
          <p:nvSpPr>
            <p:cNvPr id="2303" name=""/>
            <p:cNvSpPr/>
            <p:nvPr/>
          </p:nvSpPr>
          <p:spPr>
            <a:xfrm>
              <a:off x="1219320" y="5486400"/>
              <a:ext cx="12222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7293" y="-16672"/>
                  </a:moveTo>
                  <a:lnTo>
                    <a:pt x="22946" y="6028"/>
                  </a:lnTo>
                </a:path>
                <a:path w="21600" h="21600">
                  <a:moveTo>
                    <a:pt x="22946" y="0"/>
                  </a:moveTo>
                  <a:lnTo>
                    <a:pt x="22946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em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1219320" y="4419720"/>
              <a:ext cx="1218960" cy="946080"/>
              <a:chOff x="1219320" y="4419720"/>
              <a:chExt cx="1218960" cy="946080"/>
            </a:xfrm>
          </p:grpSpPr>
          <p:sp>
            <p:nvSpPr>
              <p:cNvPr id="2305" name=""/>
              <p:cNvSpPr/>
              <p:nvPr/>
            </p:nvSpPr>
            <p:spPr>
              <a:xfrm>
                <a:off x="1219320" y="5365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1371240" y="4419720"/>
                <a:ext cx="152280" cy="9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7" name=""/>
          <p:cNvCxnSpPr>
            <a:stCxn id="2308" idx="4"/>
            <a:endCxn id="2309" idx="1"/>
          </p:cNvCxnSpPr>
          <p:nvPr/>
        </p:nvCxnSpPr>
        <p:spPr>
          <a:xfrm>
            <a:off x="6362280" y="4910040"/>
            <a:ext cx="47700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0" name=""/>
          <p:cNvCxnSpPr>
            <a:stCxn id="2308" idx="1"/>
            <a:endCxn id="2311" idx="3"/>
          </p:cNvCxnSpPr>
          <p:nvPr/>
        </p:nvCxnSpPr>
        <p:spPr>
          <a:xfrm flipH="1" flipV="1">
            <a:off x="5809680" y="3995280"/>
            <a:ext cx="309960" cy="3945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2" name=""/>
          <p:cNvCxnSpPr>
            <a:stCxn id="2308" idx="0"/>
          </p:cNvCxnSpPr>
          <p:nvPr/>
        </p:nvCxnSpPr>
        <p:spPr>
          <a:xfrm flipV="1">
            <a:off x="6362640" y="3766680"/>
            <a:ext cx="46584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3" name=""/>
          <p:cNvCxnSpPr>
            <a:endCxn id="2308" idx="2"/>
          </p:cNvCxnSpPr>
          <p:nvPr/>
        </p:nvCxnSpPr>
        <p:spPr>
          <a:xfrm>
            <a:off x="5486400" y="4185720"/>
            <a:ext cx="534240" cy="4201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4" name=""/>
          <p:cNvCxnSpPr/>
          <p:nvPr/>
        </p:nvCxnSpPr>
        <p:spPr>
          <a:xfrm flipH="1" flipV="1">
            <a:off x="6604920" y="482076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5" name=""/>
          <p:cNvGrpSpPr/>
          <p:nvPr/>
        </p:nvGrpSpPr>
        <p:grpSpPr>
          <a:xfrm>
            <a:off x="5029200" y="3141720"/>
            <a:ext cx="762120" cy="1311120"/>
            <a:chOff x="5029200" y="3141720"/>
            <a:chExt cx="762120" cy="1311120"/>
          </a:xfrm>
        </p:grpSpPr>
        <p:grpSp>
          <p:nvGrpSpPr>
            <p:cNvPr id="2316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sp>
            <p:nvSpPr>
              <p:cNvPr id="2311" name=""/>
              <p:cNvSpPr/>
              <p:nvPr/>
            </p:nvSpPr>
            <p:spPr>
              <a:xfrm>
                <a:off x="5029200" y="353844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184720" y="3141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5334120" y="3729240"/>
              <a:ext cx="152280" cy="533160"/>
              <a:chOff x="5334120" y="3729240"/>
              <a:chExt cx="152280" cy="533160"/>
            </a:xfrm>
          </p:grpSpPr>
          <p:sp>
            <p:nvSpPr>
              <p:cNvPr id="2319" name=""/>
              <p:cNvSpPr/>
              <p:nvPr/>
            </p:nvSpPr>
            <p:spPr>
              <a:xfrm>
                <a:off x="5334120" y="3729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334120" y="4110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1" name=""/>
          <p:cNvGrpSpPr/>
          <p:nvPr/>
        </p:nvGrpSpPr>
        <p:grpSpPr>
          <a:xfrm>
            <a:off x="6858000" y="5138640"/>
            <a:ext cx="761760" cy="1072440"/>
            <a:chOff x="6858000" y="5138640"/>
            <a:chExt cx="761760" cy="1072440"/>
          </a:xfrm>
        </p:grpSpPr>
        <p:grpSp>
          <p:nvGrpSpPr>
            <p:cNvPr id="232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sp>
            <p:nvSpPr>
              <p:cNvPr id="2309" name=""/>
              <p:cNvSpPr/>
              <p:nvPr/>
            </p:nvSpPr>
            <p:spPr>
              <a:xfrm>
                <a:off x="6858000" y="513864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013520" y="57704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4" name=""/>
            <p:cNvSpPr/>
            <p:nvPr/>
          </p:nvSpPr>
          <p:spPr>
            <a:xfrm>
              <a:off x="7162560" y="53672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5" name=""/>
          <p:cNvCxnSpPr>
            <a:endCxn id="2309" idx="0"/>
          </p:cNvCxnSpPr>
          <p:nvPr/>
        </p:nvCxnSpPr>
        <p:spPr>
          <a:xfrm flipH="1">
            <a:off x="7238160" y="4820760"/>
            <a:ext cx="623160" cy="299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26" name=""/>
          <p:cNvGrpSpPr/>
          <p:nvPr/>
        </p:nvGrpSpPr>
        <p:grpSpPr>
          <a:xfrm>
            <a:off x="6858000" y="5143680"/>
            <a:ext cx="761760" cy="1072080"/>
            <a:chOff x="6858000" y="5143680"/>
            <a:chExt cx="761760" cy="1072080"/>
          </a:xfrm>
        </p:grpSpPr>
        <p:grpSp>
          <p:nvGrpSpPr>
            <p:cNvPr id="2327" name=""/>
            <p:cNvGrpSpPr/>
            <p:nvPr/>
          </p:nvGrpSpPr>
          <p:grpSpPr>
            <a:xfrm>
              <a:off x="6858000" y="5143680"/>
              <a:ext cx="761760" cy="1072080"/>
              <a:chOff x="6858000" y="5143680"/>
              <a:chExt cx="761760" cy="1072080"/>
            </a:xfrm>
          </p:grpSpPr>
          <p:sp>
            <p:nvSpPr>
              <p:cNvPr id="2328" name=""/>
              <p:cNvSpPr/>
              <p:nvPr/>
            </p:nvSpPr>
            <p:spPr>
              <a:xfrm>
                <a:off x="685800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01352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716256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761240" y="4300560"/>
            <a:ext cx="849240" cy="728280"/>
            <a:chOff x="7761240" y="4300560"/>
            <a:chExt cx="849240" cy="728280"/>
          </a:xfrm>
        </p:grpSpPr>
        <p:sp>
          <p:nvSpPr>
            <p:cNvPr id="2332" name=""/>
            <p:cNvSpPr/>
            <p:nvPr/>
          </p:nvSpPr>
          <p:spPr>
            <a:xfrm>
              <a:off x="7761240" y="4300560"/>
              <a:ext cx="685800" cy="68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53280" y="4518360"/>
              <a:ext cx="45720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34" name=""/>
          <p:cNvCxnSpPr>
            <a:stCxn id="2330" idx="6"/>
          </p:cNvCxnSpPr>
          <p:nvPr/>
        </p:nvCxnSpPr>
        <p:spPr>
          <a:xfrm flipV="1">
            <a:off x="7315200" y="4909320"/>
            <a:ext cx="789840" cy="538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1" name=""/>
          <p:cNvSpPr/>
          <p:nvPr/>
        </p:nvSpPr>
        <p:spPr>
          <a:xfrm>
            <a:off x="3733920" y="28195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61240" y="4299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19920" y="4300560"/>
            <a:ext cx="925560" cy="609480"/>
            <a:chOff x="6019920" y="4300560"/>
            <a:chExt cx="925560" cy="609480"/>
          </a:xfrm>
        </p:grpSpPr>
        <p:sp>
          <p:nvSpPr>
            <p:cNvPr id="2308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7" name=""/>
            <p:cNvGraphicFramePr/>
            <p:nvPr/>
          </p:nvGraphicFramePr>
          <p:xfrm>
            <a:off x="6564600" y="4533480"/>
            <a:ext cx="380880" cy="37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64600" y="45334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8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9" name=""/>
          <p:cNvGrpSpPr/>
          <p:nvPr/>
        </p:nvGrpSpPr>
        <p:grpSpPr>
          <a:xfrm>
            <a:off x="5043600" y="3124080"/>
            <a:ext cx="2601000" cy="3101040"/>
            <a:chOff x="5043600" y="3124080"/>
            <a:chExt cx="2601000" cy="3101040"/>
          </a:xfrm>
        </p:grpSpPr>
        <p:grpSp>
          <p:nvGrpSpPr>
            <p:cNvPr id="2340" name=""/>
            <p:cNvGrpSpPr/>
            <p:nvPr/>
          </p:nvGrpSpPr>
          <p:grpSpPr>
            <a:xfrm>
              <a:off x="5805360" y="3124080"/>
              <a:ext cx="761400" cy="990720"/>
              <a:chOff x="5805360" y="3124080"/>
              <a:chExt cx="761400" cy="990720"/>
            </a:xfrm>
          </p:grpSpPr>
          <p:sp>
            <p:nvSpPr>
              <p:cNvPr id="2341" name=""/>
              <p:cNvSpPr/>
              <p:nvPr/>
            </p:nvSpPr>
            <p:spPr>
              <a:xfrm>
                <a:off x="5805360" y="3504960"/>
                <a:ext cx="76140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960160" y="3124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109920" y="3733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5043600" y="43434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6719760" y="4343400"/>
              <a:ext cx="924840" cy="609480"/>
              <a:chOff x="6719760" y="4343400"/>
              <a:chExt cx="924840" cy="609480"/>
            </a:xfrm>
          </p:grpSpPr>
          <p:sp>
            <p:nvSpPr>
              <p:cNvPr id="2346" name=""/>
              <p:cNvSpPr/>
              <p:nvPr/>
            </p:nvSpPr>
            <p:spPr>
              <a:xfrm>
                <a:off x="6719760" y="4343400"/>
                <a:ext cx="68544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47" name=""/>
              <p:cNvGraphicFramePr/>
              <p:nvPr/>
            </p:nvGraphicFramePr>
            <p:xfrm>
              <a:off x="7264080" y="4576320"/>
              <a:ext cx="38052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64080" y="4576320"/>
                        <a:ext cx="3805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349" name=""/>
            <p:cNvGrpSpPr/>
            <p:nvPr/>
          </p:nvGrpSpPr>
          <p:grpSpPr>
            <a:xfrm>
              <a:off x="5805360" y="5153040"/>
              <a:ext cx="761400" cy="1072080"/>
              <a:chOff x="5805360" y="5153040"/>
              <a:chExt cx="761400" cy="1072080"/>
            </a:xfrm>
          </p:grpSpPr>
          <p:grpSp>
            <p:nvGrpSpPr>
              <p:cNvPr id="2350" name=""/>
              <p:cNvGrpSpPr/>
              <p:nvPr/>
            </p:nvGrpSpPr>
            <p:grpSpPr>
              <a:xfrm>
                <a:off x="5805360" y="5153040"/>
                <a:ext cx="761400" cy="1072080"/>
                <a:chOff x="5805360" y="5153040"/>
                <a:chExt cx="761400" cy="107208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5805360" y="5153040"/>
                  <a:ext cx="761400" cy="6094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960160" y="57844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3" name=""/>
              <p:cNvSpPr/>
              <p:nvPr/>
            </p:nvSpPr>
            <p:spPr>
              <a:xfrm>
                <a:off x="6109560" y="5381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4" name=""/>
            <p:cNvCxnSpPr>
              <a:stCxn id="2346" idx="3"/>
              <a:endCxn id="2351" idx="0"/>
            </p:cNvCxnSpPr>
            <p:nvPr/>
          </p:nvCxnSpPr>
          <p:spPr>
            <a:xfrm flipH="1">
              <a:off x="6186240" y="4863960"/>
              <a:ext cx="633240" cy="2707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355" name=""/>
            <p:cNvCxnSpPr>
              <a:stCxn id="2353" idx="1"/>
              <a:endCxn id="2344" idx="4"/>
            </p:cNvCxnSpPr>
            <p:nvPr/>
          </p:nvCxnSpPr>
          <p:spPr>
            <a:xfrm flipH="1" flipV="1">
              <a:off x="5385600" y="4952160"/>
              <a:ext cx="746280" cy="451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356" name=""/>
            <p:cNvCxnSpPr>
              <a:stCxn id="2343" idx="5"/>
              <a:endCxn id="2346" idx="1"/>
            </p:cNvCxnSpPr>
            <p:nvPr/>
          </p:nvCxnSpPr>
          <p:spPr>
            <a:xfrm>
              <a:off x="6240240" y="3863520"/>
              <a:ext cx="57960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Allocated to Waiting Process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1828800" y="3114720"/>
            <a:ext cx="762120" cy="990720"/>
            <a:chOff x="1828800" y="3114720"/>
            <a:chExt cx="762120" cy="990720"/>
          </a:xfrm>
        </p:grpSpPr>
        <p:sp>
          <p:nvSpPr>
            <p:cNvPr id="2360" name=""/>
            <p:cNvSpPr/>
            <p:nvPr/>
          </p:nvSpPr>
          <p:spPr>
            <a:xfrm>
              <a:off x="1828800" y="349560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984320" y="3114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33720" y="3724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1066680" y="433404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2743200" y="4334040"/>
            <a:ext cx="925560" cy="609480"/>
            <a:chOff x="2743200" y="4334040"/>
            <a:chExt cx="925560" cy="609480"/>
          </a:xfrm>
        </p:grpSpPr>
        <p:sp>
          <p:nvSpPr>
            <p:cNvPr id="2365" name=""/>
            <p:cNvSpPr/>
            <p:nvPr/>
          </p:nvSpPr>
          <p:spPr>
            <a:xfrm>
              <a:off x="2743200" y="433404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6" name=""/>
            <p:cNvGraphicFramePr/>
            <p:nvPr/>
          </p:nvGraphicFramePr>
          <p:xfrm>
            <a:off x="3287880" y="456696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7880" y="456696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68" name=""/>
          <p:cNvGrpSpPr/>
          <p:nvPr/>
        </p:nvGrpSpPr>
        <p:grpSpPr>
          <a:xfrm>
            <a:off x="1832040" y="5143680"/>
            <a:ext cx="761760" cy="1072080"/>
            <a:chOff x="1832040" y="5143680"/>
            <a:chExt cx="761760" cy="1072080"/>
          </a:xfrm>
        </p:grpSpPr>
        <p:grpSp>
          <p:nvGrpSpPr>
            <p:cNvPr id="2369" name=""/>
            <p:cNvGrpSpPr/>
            <p:nvPr/>
          </p:nvGrpSpPr>
          <p:grpSpPr>
            <a:xfrm>
              <a:off x="1832040" y="5143680"/>
              <a:ext cx="761760" cy="1072080"/>
              <a:chOff x="1832040" y="5143680"/>
              <a:chExt cx="761760" cy="1072080"/>
            </a:xfrm>
          </p:grpSpPr>
          <p:sp>
            <p:nvSpPr>
              <p:cNvPr id="2370" name=""/>
              <p:cNvSpPr/>
              <p:nvPr/>
            </p:nvSpPr>
            <p:spPr>
              <a:xfrm>
                <a:off x="183204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8756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213660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73" name=""/>
          <p:cNvCxnSpPr>
            <a:stCxn id="2365" idx="3"/>
            <a:endCxn id="2370" idx="0"/>
          </p:cNvCxnSpPr>
          <p:nvPr/>
        </p:nvCxnSpPr>
        <p:spPr>
          <a:xfrm flipH="1">
            <a:off x="2212200" y="485460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74" name=""/>
          <p:cNvCxnSpPr>
            <a:stCxn id="2362" idx="5"/>
            <a:endCxn id="2365" idx="1"/>
          </p:cNvCxnSpPr>
          <p:nvPr/>
        </p:nvCxnSpPr>
        <p:spPr>
          <a:xfrm>
            <a:off x="2263680" y="3854520"/>
            <a:ext cx="580320" cy="5688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375" name=""/>
          <p:cNvCxnSpPr>
            <a:stCxn id="2372" idx="1"/>
            <a:endCxn id="2363" idx="4"/>
          </p:cNvCxnSpPr>
          <p:nvPr/>
        </p:nvCxnSpPr>
        <p:spPr>
          <a:xfrm flipH="1" flipV="1">
            <a:off x="1409040" y="4943160"/>
            <a:ext cx="749880" cy="45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376" name=""/>
          <p:cNvSpPr/>
          <p:nvPr/>
        </p:nvSpPr>
        <p:spPr>
          <a:xfrm>
            <a:off x="1295280" y="35812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71800" y="3657600"/>
            <a:ext cx="12222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58" y="22691"/>
                </a:moveTo>
                <a:lnTo>
                  <a:pt x="-1346" y="6028"/>
                </a:lnTo>
              </a:path>
              <a:path w="21600" h="21600">
                <a:moveTo>
                  <a:pt x="-1346" y="0"/>
                </a:moveTo>
                <a:lnTo>
                  <a:pt x="-134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8" name=""/>
          <p:cNvCxnSpPr>
            <a:stCxn id="2379" idx="5"/>
          </p:cNvCxnSpPr>
          <p:nvPr/>
        </p:nvCxnSpPr>
        <p:spPr>
          <a:xfrm>
            <a:off x="6240240" y="386352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0" name=""/>
          <p:cNvCxnSpPr>
            <a:endCxn id="2381" idx="3"/>
          </p:cNvCxnSpPr>
          <p:nvPr/>
        </p:nvCxnSpPr>
        <p:spPr>
          <a:xfrm flipH="1" flipV="1">
            <a:off x="6586200" y="3809520"/>
            <a:ext cx="348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382" name=""/>
          <p:cNvGrpSpPr/>
          <p:nvPr/>
        </p:nvGrpSpPr>
        <p:grpSpPr>
          <a:xfrm>
            <a:off x="5805360" y="3124080"/>
            <a:ext cx="762120" cy="990720"/>
            <a:chOff x="5805360" y="3124080"/>
            <a:chExt cx="762120" cy="990720"/>
          </a:xfrm>
        </p:grpSpPr>
        <p:sp>
          <p:nvSpPr>
            <p:cNvPr id="2381" name=""/>
            <p:cNvSpPr/>
            <p:nvPr/>
          </p:nvSpPr>
          <p:spPr>
            <a:xfrm>
              <a:off x="580536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6088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11028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 flipH="1">
            <a:off x="5562360" y="3809880"/>
            <a:ext cx="6094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500"/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2" dur="500"/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0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4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4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9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5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se total order 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{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 :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hoic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0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391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2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393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s in ascending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many instances of 1 type: 1 singl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 Request (Tape), …, Request (Disk), …, Request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500"/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500"/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2" dur="500"/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3" dur="500"/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: releas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pe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…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isk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5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7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408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9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410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500"/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500"/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0" dur="500"/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of of “No 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“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143000" y="373392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580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its for (requested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 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…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7" dur="500"/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7" dur="500"/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500"/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6" dur="500"/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334120" y="2209680"/>
            <a:ext cx="2743200" cy="1371600"/>
          </a:xfrm>
          <a:prstGeom prst="horizontalScroll">
            <a:avLst>
              <a:gd name="adj" fmla="val 125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How” to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681120" y="1600200"/>
            <a:ext cx="6019560" cy="2438280"/>
            <a:chOff x="681120" y="1600200"/>
            <a:chExt cx="6019560" cy="2438280"/>
          </a:xfrm>
        </p:grpSpPr>
        <p:grpSp>
          <p:nvGrpSpPr>
            <p:cNvPr id="2425" name=""/>
            <p:cNvGrpSpPr/>
            <p:nvPr/>
          </p:nvGrpSpPr>
          <p:grpSpPr>
            <a:xfrm>
              <a:off x="685800" y="1604880"/>
              <a:ext cx="5105520" cy="2362320"/>
              <a:chOff x="685800" y="1604880"/>
              <a:chExt cx="5105520" cy="2362320"/>
            </a:xfrm>
          </p:grpSpPr>
          <p:sp>
            <p:nvSpPr>
              <p:cNvPr id="2426" name=""/>
              <p:cNvSpPr/>
              <p:nvPr/>
            </p:nvSpPr>
            <p:spPr>
              <a:xfrm>
                <a:off x="685800" y="2062080"/>
                <a:ext cx="510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505320" y="1604880"/>
                <a:ext cx="0" cy="23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681120" y="1600200"/>
              <a:ext cx="601956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pplicabl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ld &amp;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Preemp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rcular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ystem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343400" y="22860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266688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343400" y="304812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343400" y="190512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3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1 of 4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RD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8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6" dur="500"/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2" dur="500"/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7" dur="500"/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 rot="10836600">
            <a:off x="5181120" y="3198960"/>
            <a:ext cx="533520" cy="992160"/>
          </a:xfrm>
          <a:custGeom>
            <a:avLst/>
            <a:gdLst>
              <a:gd name="textAreaLeft" fmla="*/ 0 w 533520"/>
              <a:gd name="textAreaRight" fmla="*/ 533880 w 533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69" stAng="10800000" swAng="5400000"/>
                <a:lnTo>
                  <a:pt x="15107" y="4991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167"/>
                </a:lnTo>
                <a:lnTo>
                  <a:pt x="12427" y="7167"/>
                </a:lnTo>
                <a:arcTo wR="10251" hR="4993" stAng="16200000" swAng="-5400000"/>
                <a:lnTo>
                  <a:pt x="2176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information about requests/rel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85800" y="2895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57400" y="37339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541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073240" y="2511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6518"/>
              <a:gd name="adj4" fmla="val -1709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5800" y="47451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057400" y="4349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42287"/>
              <a:gd name="adj4" fmla="val -1918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057400" y="56865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44180"/>
              <a:gd name="adj4" fmla="val -1906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340000" y="2895480"/>
            <a:ext cx="619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36232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200400" y="3718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llocate P to 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447920" y="51055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447920" y="3200400"/>
            <a:ext cx="14475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95680" y="2819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60680" y="2057400"/>
            <a:ext cx="3573000" cy="39888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ape Unit (T) &amp; 1 Printer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500"/>
                            </p:stCondLst>
                            <p:childTnLst>
                              <p:par>
                                <p:cTn id="2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8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2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00"/>
                            </p:stCondLst>
                            <p:childTnLst>
                              <p:par>
                                <p:cTn id="2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3" dur="5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2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7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500"/>
                            </p:stCondLst>
                            <p:childTnLst>
                              <p:par>
                                <p:cTn id="25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7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1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7500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57400" y="27907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0277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460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3" name=""/>
          <p:cNvSpPr/>
          <p:nvPr/>
        </p:nvSpPr>
        <p:spPr>
          <a:xfrm>
            <a:off x="320040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465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7750080" y="4572000"/>
            <a:ext cx="936360" cy="614520"/>
            <a:chOff x="7750080" y="4572000"/>
            <a:chExt cx="936360" cy="614520"/>
          </a:xfrm>
        </p:grpSpPr>
        <p:sp>
          <p:nvSpPr>
            <p:cNvPr id="2469" name=""/>
            <p:cNvSpPr/>
            <p:nvPr/>
          </p:nvSpPr>
          <p:spPr>
            <a:xfrm>
              <a:off x="775008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0" name=""/>
            <p:cNvGraphicFramePr/>
            <p:nvPr/>
          </p:nvGraphicFramePr>
          <p:xfrm>
            <a:off x="8305560" y="48117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0556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72" name=""/>
          <p:cNvGrpSpPr/>
          <p:nvPr/>
        </p:nvGrpSpPr>
        <p:grpSpPr>
          <a:xfrm>
            <a:off x="6324480" y="3505320"/>
            <a:ext cx="762120" cy="990000"/>
            <a:chOff x="6324480" y="3505320"/>
            <a:chExt cx="762120" cy="990000"/>
          </a:xfrm>
        </p:grpSpPr>
        <p:sp>
          <p:nvSpPr>
            <p:cNvPr id="2473" name=""/>
            <p:cNvSpPr/>
            <p:nvPr/>
          </p:nvSpPr>
          <p:spPr>
            <a:xfrm>
              <a:off x="6324480" y="3885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7532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29400" y="4114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51055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6324480" y="4952880"/>
            <a:ext cx="762120" cy="990720"/>
            <a:chOff x="6324480" y="4952880"/>
            <a:chExt cx="762120" cy="990720"/>
          </a:xfrm>
        </p:grpSpPr>
        <p:sp>
          <p:nvSpPr>
            <p:cNvPr id="2478" name=""/>
            <p:cNvSpPr/>
            <p:nvPr/>
          </p:nvSpPr>
          <p:spPr>
            <a:xfrm>
              <a:off x="6324480" y="53337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7568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629400" y="5562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>
            <a:off x="62856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2" name=""/>
          <p:cNvCxnSpPr>
            <a:stCxn id="2462" idx="3"/>
            <a:endCxn id="2481" idx="7"/>
          </p:cNvCxnSpPr>
          <p:nvPr/>
        </p:nvCxnSpPr>
        <p:spPr>
          <a:xfrm flipH="1">
            <a:off x="1213560" y="4244760"/>
            <a:ext cx="1018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3" name=""/>
          <p:cNvCxnSpPr>
            <a:stCxn id="2475" idx="3"/>
            <a:endCxn id="2476" idx="7"/>
          </p:cNvCxnSpPr>
          <p:nvPr/>
        </p:nvCxnSpPr>
        <p:spPr>
          <a:xfrm flipH="1">
            <a:off x="5690880" y="4244760"/>
            <a:ext cx="96120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4" name=""/>
          <p:cNvCxnSpPr>
            <a:stCxn id="2467" idx="6"/>
            <a:endCxn id="2463" idx="3"/>
          </p:cNvCxnSpPr>
          <p:nvPr/>
        </p:nvCxnSpPr>
        <p:spPr>
          <a:xfrm flipV="1">
            <a:off x="236232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5" name=""/>
          <p:cNvCxnSpPr>
            <a:stCxn id="2481" idx="5"/>
            <a:endCxn id="2465" idx="1"/>
          </p:cNvCxnSpPr>
          <p:nvPr/>
        </p:nvCxnSpPr>
        <p:spPr>
          <a:xfrm>
            <a:off x="1214280" y="5092200"/>
            <a:ext cx="672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63" idx="1"/>
            <a:endCxn id="2460" idx="3"/>
          </p:cNvCxnSpPr>
          <p:nvPr/>
        </p:nvCxnSpPr>
        <p:spPr>
          <a:xfrm flipH="1" flipV="1">
            <a:off x="2685240" y="4190400"/>
            <a:ext cx="61524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7" name=""/>
          <p:cNvCxnSpPr>
            <a:stCxn id="2469" idx="3"/>
            <a:endCxn id="2478" idx="3"/>
          </p:cNvCxnSpPr>
          <p:nvPr/>
        </p:nvCxnSpPr>
        <p:spPr>
          <a:xfrm flipH="1">
            <a:off x="7105320" y="5092200"/>
            <a:ext cx="745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488" name=""/>
          <p:cNvGrpSpPr/>
          <p:nvPr/>
        </p:nvGrpSpPr>
        <p:grpSpPr>
          <a:xfrm>
            <a:off x="3200400" y="4572000"/>
            <a:ext cx="936360" cy="614520"/>
            <a:chOff x="3200400" y="4572000"/>
            <a:chExt cx="936360" cy="614520"/>
          </a:xfrm>
        </p:grpSpPr>
        <p:sp>
          <p:nvSpPr>
            <p:cNvPr id="2489" name=""/>
            <p:cNvSpPr/>
            <p:nvPr/>
          </p:nvSpPr>
          <p:spPr>
            <a:xfrm>
              <a:off x="320040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0" name=""/>
            <p:cNvGraphicFramePr/>
            <p:nvPr/>
          </p:nvGraphicFramePr>
          <p:xfrm>
            <a:off x="375588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588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2" name=""/>
          <p:cNvGrpSpPr/>
          <p:nvPr/>
        </p:nvGrpSpPr>
        <p:grpSpPr>
          <a:xfrm>
            <a:off x="628560" y="4572000"/>
            <a:ext cx="936360" cy="614520"/>
            <a:chOff x="628560" y="4572000"/>
            <a:chExt cx="936360" cy="614520"/>
          </a:xfrm>
        </p:grpSpPr>
        <p:sp>
          <p:nvSpPr>
            <p:cNvPr id="2493" name=""/>
            <p:cNvSpPr/>
            <p:nvPr/>
          </p:nvSpPr>
          <p:spPr>
            <a:xfrm>
              <a:off x="62856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4" name=""/>
            <p:cNvGraphicFramePr/>
            <p:nvPr/>
          </p:nvGraphicFramePr>
          <p:xfrm>
            <a:off x="1184040" y="48117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404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96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3048120" y="3429000"/>
            <a:ext cx="176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6934320" y="3200400"/>
            <a:ext cx="176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vo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2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6" name=""/>
          <p:cNvCxnSpPr>
            <a:stCxn id="2480" idx="2"/>
            <a:endCxn id="2476" idx="5"/>
          </p:cNvCxnSpPr>
          <p:nvPr/>
        </p:nvCxnSpPr>
        <p:spPr>
          <a:xfrm flipH="1" flipV="1">
            <a:off x="569088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507" name=""/>
          <p:cNvSpPr/>
          <p:nvPr/>
        </p:nvSpPr>
        <p:spPr>
          <a:xfrm>
            <a:off x="2057400" y="1577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733920" y="1566720"/>
            <a:ext cx="144756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5986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5690880" y="4952880"/>
            <a:ext cx="1395720" cy="990720"/>
            <a:chOff x="5690880" y="4952880"/>
            <a:chExt cx="1395720" cy="990720"/>
          </a:xfrm>
        </p:grpSpPr>
        <p:cxnSp>
          <p:nvCxnSpPr>
            <p:cNvPr id="2510" name=""/>
            <p:cNvCxnSpPr>
              <a:stCxn id="2480" idx="2"/>
              <a:endCxn id="2476" idx="5"/>
            </p:cNvCxnSpPr>
            <p:nvPr/>
          </p:nvCxnSpPr>
          <p:spPr>
            <a:xfrm flipH="1" flipV="1">
              <a:off x="5690880" y="5092200"/>
              <a:ext cx="93888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11" name=""/>
            <p:cNvGrpSpPr/>
            <p:nvPr/>
          </p:nvGrpSpPr>
          <p:grpSpPr>
            <a:xfrm>
              <a:off x="6324480" y="4952880"/>
              <a:ext cx="762120" cy="990720"/>
              <a:chOff x="6324480" y="4952880"/>
              <a:chExt cx="762120" cy="990720"/>
            </a:xfrm>
          </p:grpSpPr>
          <p:sp>
            <p:nvSpPr>
              <p:cNvPr id="2512" name=""/>
              <p:cNvSpPr/>
              <p:nvPr/>
            </p:nvSpPr>
            <p:spPr>
              <a:xfrm>
                <a:off x="6324480" y="53337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7568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629400" y="55623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5" name=""/>
          <p:cNvGrpSpPr/>
          <p:nvPr/>
        </p:nvGrpSpPr>
        <p:grpSpPr>
          <a:xfrm>
            <a:off x="7105320" y="4572000"/>
            <a:ext cx="1733760" cy="1066320"/>
            <a:chOff x="7105320" y="4572000"/>
            <a:chExt cx="1733760" cy="1066320"/>
          </a:xfrm>
        </p:grpSpPr>
        <p:sp>
          <p:nvSpPr>
            <p:cNvPr id="2516" name=""/>
            <p:cNvSpPr/>
            <p:nvPr/>
          </p:nvSpPr>
          <p:spPr>
            <a:xfrm>
              <a:off x="8229600" y="4724280"/>
              <a:ext cx="60948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7" name=""/>
            <p:cNvGrpSpPr/>
            <p:nvPr/>
          </p:nvGrpSpPr>
          <p:grpSpPr>
            <a:xfrm>
              <a:off x="7105320" y="4572000"/>
              <a:ext cx="1330560" cy="1066320"/>
              <a:chOff x="7105320" y="4572000"/>
              <a:chExt cx="1330560" cy="1066320"/>
            </a:xfrm>
          </p:grpSpPr>
          <p:sp>
            <p:nvSpPr>
              <p:cNvPr id="2518" name=""/>
              <p:cNvSpPr/>
              <p:nvPr/>
            </p:nvSpPr>
            <p:spPr>
              <a:xfrm>
                <a:off x="77500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9" name=""/>
              <p:cNvCxnSpPr>
                <a:stCxn id="2518" idx="3"/>
                <a:endCxn id="2478" idx="3"/>
              </p:cNvCxnSpPr>
              <p:nvPr/>
            </p:nvCxnSpPr>
            <p:spPr>
              <a:xfrm flipH="1">
                <a:off x="7105320" y="5092200"/>
                <a:ext cx="745200" cy="5464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2520" name=""/>
          <p:cNvCxnSpPr>
            <a:stCxn id="2514" idx="6"/>
            <a:endCxn id="2518" idx="3"/>
          </p:cNvCxnSpPr>
          <p:nvPr/>
        </p:nvCxnSpPr>
        <p:spPr>
          <a:xfrm flipV="1">
            <a:off x="6781680" y="5092200"/>
            <a:ext cx="106920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3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5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6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1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3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500"/>
                            </p:stCondLst>
                            <p:childTnLst>
                              <p:par>
                                <p:cTn id="2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5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5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0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5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500"/>
                            </p:stCondLst>
                            <p:childTnLst>
                              <p:par>
                                <p:cTn id="2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0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00"/>
                            </p:stCondLst>
                            <p:childTnLst>
                              <p:par>
                                <p:cTn id="2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4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3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us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identical instance(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5108400"/>
          <a:ext cx="1143000" cy="8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08400"/>
                    <a:ext cx="114300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981080" y="5105520"/>
          <a:ext cx="11430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105520"/>
                    <a:ext cx="11430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114800" y="5105520"/>
          <a:ext cx="114300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105520"/>
                    <a:ext cx="1143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505320" y="4876920"/>
            <a:ext cx="30456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after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80060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19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533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>
            <a:off x="32767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538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6094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2" name=""/>
          <p:cNvCxnSpPr>
            <a:stCxn id="2535" idx="3"/>
            <a:endCxn id="2541" idx="7"/>
          </p:cNvCxnSpPr>
          <p:nvPr/>
        </p:nvCxnSpPr>
        <p:spPr>
          <a:xfrm flipH="1">
            <a:off x="1194840" y="4244760"/>
            <a:ext cx="103716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3" name=""/>
          <p:cNvCxnSpPr>
            <a:stCxn id="2540" idx="6"/>
            <a:endCxn id="2536" idx="3"/>
          </p:cNvCxnSpPr>
          <p:nvPr/>
        </p:nvCxnSpPr>
        <p:spPr>
          <a:xfrm flipV="1">
            <a:off x="236196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4" name=""/>
          <p:cNvCxnSpPr>
            <a:stCxn id="2541" idx="5"/>
            <a:endCxn id="2538" idx="1"/>
          </p:cNvCxnSpPr>
          <p:nvPr/>
        </p:nvCxnSpPr>
        <p:spPr>
          <a:xfrm>
            <a:off x="1195560" y="5092200"/>
            <a:ext cx="691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45" name=""/>
          <p:cNvGrpSpPr/>
          <p:nvPr/>
        </p:nvGrpSpPr>
        <p:grpSpPr>
          <a:xfrm>
            <a:off x="1905120" y="4952880"/>
            <a:ext cx="1471320" cy="990720"/>
            <a:chOff x="1905120" y="4952880"/>
            <a:chExt cx="1471320" cy="990720"/>
          </a:xfrm>
        </p:grpSpPr>
        <p:cxnSp>
          <p:nvCxnSpPr>
            <p:cNvPr id="2546" name=""/>
            <p:cNvCxnSpPr>
              <a:stCxn id="2540" idx="6"/>
              <a:endCxn id="2536" idx="3"/>
            </p:cNvCxnSpPr>
            <p:nvPr/>
          </p:nvCxnSpPr>
          <p:spPr>
            <a:xfrm flipV="1">
              <a:off x="236196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47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48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1" name=""/>
          <p:cNvGrpSpPr/>
          <p:nvPr/>
        </p:nvGrpSpPr>
        <p:grpSpPr>
          <a:xfrm>
            <a:off x="609480" y="4567320"/>
            <a:ext cx="936360" cy="613800"/>
            <a:chOff x="609480" y="4567320"/>
            <a:chExt cx="936360" cy="613800"/>
          </a:xfrm>
        </p:grpSpPr>
        <p:sp>
          <p:nvSpPr>
            <p:cNvPr id="2552" name=""/>
            <p:cNvSpPr/>
            <p:nvPr/>
          </p:nvSpPr>
          <p:spPr>
            <a:xfrm>
              <a:off x="609480" y="456732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3" name=""/>
            <p:cNvGraphicFramePr/>
            <p:nvPr/>
          </p:nvGraphicFramePr>
          <p:xfrm>
            <a:off x="1164960" y="480672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4960" y="48067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55" name=""/>
          <p:cNvGrpSpPr/>
          <p:nvPr/>
        </p:nvGrpSpPr>
        <p:grpSpPr>
          <a:xfrm>
            <a:off x="609480" y="4572000"/>
            <a:ext cx="1276920" cy="1066320"/>
            <a:chOff x="609480" y="4572000"/>
            <a:chExt cx="1276920" cy="1066320"/>
          </a:xfrm>
        </p:grpSpPr>
        <p:cxnSp>
          <p:nvCxnSpPr>
            <p:cNvPr id="2556" name=""/>
            <p:cNvCxnSpPr>
              <a:stCxn id="2541" idx="5"/>
              <a:endCxn id="2548" idx="1"/>
            </p:cNvCxnSpPr>
            <p:nvPr/>
          </p:nvCxnSpPr>
          <p:spPr>
            <a:xfrm>
              <a:off x="1195560" y="5092200"/>
              <a:ext cx="69120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57" name=""/>
            <p:cNvGrpSpPr/>
            <p:nvPr/>
          </p:nvGrpSpPr>
          <p:grpSpPr>
            <a:xfrm>
              <a:off x="609480" y="4572000"/>
              <a:ext cx="1067040" cy="838080"/>
              <a:chOff x="609480" y="4572000"/>
              <a:chExt cx="1067040" cy="838080"/>
            </a:xfrm>
          </p:grpSpPr>
          <p:sp>
            <p:nvSpPr>
              <p:cNvPr id="2558" name=""/>
              <p:cNvSpPr/>
              <p:nvPr/>
            </p:nvSpPr>
            <p:spPr>
              <a:xfrm>
                <a:off x="1066680" y="480060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094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0" name=""/>
          <p:cNvCxnSpPr>
            <a:stCxn id="2550" idx="2"/>
            <a:endCxn id="2559" idx="5"/>
          </p:cNvCxnSpPr>
          <p:nvPr/>
        </p:nvCxnSpPr>
        <p:spPr>
          <a:xfrm flipH="1" flipV="1">
            <a:off x="119484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561" name=""/>
          <p:cNvGrpSpPr/>
          <p:nvPr/>
        </p:nvGrpSpPr>
        <p:grpSpPr>
          <a:xfrm>
            <a:off x="1194840" y="4952880"/>
            <a:ext cx="1472040" cy="990720"/>
            <a:chOff x="1194840" y="4952880"/>
            <a:chExt cx="1472040" cy="990720"/>
          </a:xfrm>
        </p:grpSpPr>
        <p:cxnSp>
          <p:nvCxnSpPr>
            <p:cNvPr id="2562" name=""/>
            <p:cNvCxnSpPr>
              <a:stCxn id="2550" idx="2"/>
              <a:endCxn id="2559" idx="5"/>
            </p:cNvCxnSpPr>
            <p:nvPr/>
          </p:nvCxnSpPr>
          <p:spPr>
            <a:xfrm flipH="1" flipV="1">
              <a:off x="119484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63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64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7" name=""/>
          <p:cNvCxnSpPr>
            <a:stCxn id="2536" idx="1"/>
            <a:endCxn id="2533" idx="3"/>
          </p:cNvCxnSpPr>
          <p:nvPr/>
        </p:nvCxnSpPr>
        <p:spPr>
          <a:xfrm flipH="1" flipV="1">
            <a:off x="2685600" y="4190400"/>
            <a:ext cx="69120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68" name=""/>
          <p:cNvGrpSpPr/>
          <p:nvPr/>
        </p:nvGrpSpPr>
        <p:grpSpPr>
          <a:xfrm>
            <a:off x="3276720" y="4572000"/>
            <a:ext cx="936360" cy="614520"/>
            <a:chOff x="3276720" y="4572000"/>
            <a:chExt cx="936360" cy="614520"/>
          </a:xfrm>
        </p:grpSpPr>
        <p:sp>
          <p:nvSpPr>
            <p:cNvPr id="2569" name=""/>
            <p:cNvSpPr/>
            <p:nvPr/>
          </p:nvSpPr>
          <p:spPr>
            <a:xfrm>
              <a:off x="327672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0" name=""/>
            <p:cNvGraphicFramePr/>
            <p:nvPr/>
          </p:nvGraphicFramePr>
          <p:xfrm>
            <a:off x="383220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3220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2" name=""/>
          <p:cNvGrpSpPr/>
          <p:nvPr/>
        </p:nvGrpSpPr>
        <p:grpSpPr>
          <a:xfrm>
            <a:off x="1194840" y="3505320"/>
            <a:ext cx="1472040" cy="1155600"/>
            <a:chOff x="1194840" y="3505320"/>
            <a:chExt cx="1472040" cy="1155600"/>
          </a:xfrm>
        </p:grpSpPr>
        <p:cxnSp>
          <p:nvCxnSpPr>
            <p:cNvPr id="2573" name=""/>
            <p:cNvCxnSpPr>
              <a:stCxn id="2535" idx="3"/>
              <a:endCxn id="2559" idx="7"/>
            </p:cNvCxnSpPr>
            <p:nvPr/>
          </p:nvCxnSpPr>
          <p:spPr>
            <a:xfrm flipH="1">
              <a:off x="1194840" y="4244760"/>
              <a:ext cx="1037160" cy="416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74" name=""/>
            <p:cNvGrpSpPr/>
            <p:nvPr/>
          </p:nvGrpSpPr>
          <p:grpSpPr>
            <a:xfrm>
              <a:off x="1905120" y="3505320"/>
              <a:ext cx="761760" cy="990000"/>
              <a:chOff x="1905120" y="3505320"/>
              <a:chExt cx="761760" cy="990000"/>
            </a:xfrm>
          </p:grpSpPr>
          <p:sp>
            <p:nvSpPr>
              <p:cNvPr id="2575" name=""/>
              <p:cNvSpPr/>
              <p:nvPr/>
            </p:nvSpPr>
            <p:spPr>
              <a:xfrm>
                <a:off x="1905120" y="38858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55600" y="35053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209680" y="411444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8" name=""/>
          <p:cNvGrpSpPr/>
          <p:nvPr/>
        </p:nvGrpSpPr>
        <p:grpSpPr>
          <a:xfrm>
            <a:off x="2685600" y="4190400"/>
            <a:ext cx="1657800" cy="1219680"/>
            <a:chOff x="2685600" y="4190400"/>
            <a:chExt cx="1657800" cy="1219680"/>
          </a:xfrm>
        </p:grpSpPr>
        <p:cxnSp>
          <p:nvCxnSpPr>
            <p:cNvPr id="2579" name=""/>
            <p:cNvCxnSpPr>
              <a:stCxn id="2580" idx="1"/>
              <a:endCxn id="2575" idx="3"/>
            </p:cNvCxnSpPr>
            <p:nvPr/>
          </p:nvCxnSpPr>
          <p:spPr>
            <a:xfrm flipH="1" flipV="1">
              <a:off x="2685600" y="4190400"/>
              <a:ext cx="691200" cy="470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1" name=""/>
            <p:cNvSpPr/>
            <p:nvPr/>
          </p:nvSpPr>
          <p:spPr>
            <a:xfrm>
              <a:off x="3809880" y="4800600"/>
              <a:ext cx="53352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276720" y="45720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2" name=""/>
          <p:cNvCxnSpPr>
            <a:stCxn id="2577" idx="6"/>
            <a:endCxn id="2580" idx="1"/>
          </p:cNvCxnSpPr>
          <p:nvPr/>
        </p:nvCxnSpPr>
        <p:spPr>
          <a:xfrm>
            <a:off x="2361960" y="4190760"/>
            <a:ext cx="1014840" cy="470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5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500"/>
                            </p:stCondLst>
                            <p:childTnLst>
                              <p:par>
                                <p:cTn id="2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3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3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5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0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3" fill="hold">
                            <p:stCondLst>
                              <p:cond delay="500"/>
                            </p:stCondLst>
                            <p:childTnLst>
                              <p:par>
                                <p:cTn id="2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6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5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500"/>
                            </p:stCondLst>
                            <p:childTnLst>
                              <p:par>
                                <p:cTn id="2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1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500"/>
                            </p:stCondLst>
                            <p:childTnLst>
                              <p:par>
                                <p:cTn id="2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819520" y="1523880"/>
            <a:ext cx="434340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26708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593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594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599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3" name=""/>
          <p:cNvSpPr/>
          <p:nvPr/>
        </p:nvSpPr>
        <p:spPr>
          <a:xfrm>
            <a:off x="426708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819520" y="2819520"/>
            <a:ext cx="434340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797200" y="3581280"/>
            <a:ext cx="144792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429000" y="4495680"/>
            <a:ext cx="114300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5179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2819520" y="35809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981080" y="297180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150856"/>
              <a:gd name="adj4" fmla="val 1338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819520" y="24382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5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7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18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20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26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28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0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3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7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621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0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2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2819520" y="2819520"/>
            <a:ext cx="0" cy="730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048120" y="1905120"/>
            <a:ext cx="1066680" cy="440640"/>
          </a:xfrm>
          <a:prstGeom prst="borderCallout1">
            <a:avLst>
              <a:gd name="adj1" fmla="val 18750"/>
              <a:gd name="adj2" fmla="val -8333"/>
              <a:gd name="adj3" fmla="val 201791"/>
              <a:gd name="adj4" fmla="val -19768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2819520" y="2438280"/>
            <a:ext cx="0" cy="34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26668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500"/>
                            </p:stCondLst>
                            <p:childTnLst>
                              <p:par>
                                <p:cTn id="29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500"/>
                            </p:stCondLst>
                            <p:childTnLst>
                              <p:par>
                                <p:cTn id="2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1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1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500"/>
                            </p:stCondLst>
                            <p:childTnLst>
                              <p:par>
                                <p:cTn id="2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2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1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1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500"/>
                            </p:stCondLst>
                            <p:childTnLst>
                              <p:par>
                                <p:cTn id="3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500"/>
                            </p:stCondLst>
                            <p:childTnLst>
                              <p:par>
                                <p:cTn id="3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6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2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500"/>
                            </p:stCondLst>
                            <p:childTnLst>
                              <p:par>
                                <p:cTn id="3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7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fill="hold">
                            <p:stCondLst>
                              <p:cond delay="500"/>
                            </p:stCondLst>
                            <p:childTnLst>
                              <p:par>
                                <p:cTn id="3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819520" y="1523880"/>
            <a:ext cx="144756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661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667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1" name=""/>
          <p:cNvSpPr/>
          <p:nvPr/>
        </p:nvSpPr>
        <p:spPr>
          <a:xfrm>
            <a:off x="571500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19520" y="2819520"/>
            <a:ext cx="14475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352680" y="449568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9710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419720" y="40654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1810"/>
              <a:gd name="adj4" fmla="val -8886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819520" y="3984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2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4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85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87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9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93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4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95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0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2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514600" y="56386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7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9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581280" y="3581280"/>
            <a:ext cx="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895480" y="2209680"/>
            <a:ext cx="1067040" cy="440640"/>
          </a:xfrm>
          <a:prstGeom prst="borderCallout1">
            <a:avLst>
              <a:gd name="adj1" fmla="val 18750"/>
              <a:gd name="adj2" fmla="val -8333"/>
              <a:gd name="adj3" fmla="val 301629"/>
              <a:gd name="adj4" fmla="val 13048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58128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34340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5105520" y="2971440"/>
            <a:ext cx="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733920" y="5105520"/>
            <a:ext cx="129528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7" dur="indefinite" restart="never" nodeType="tmRoot">
          <p:childTnLst>
            <p:seq>
              <p:cTn id="3138" dur="indefinite" nodeType="mainSeq">
                <p:childTnLst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500"/>
                            </p:stCondLst>
                            <p:childTnLst>
                              <p:par>
                                <p:cTn id="3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4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5" fill="hold">
                            <p:stCondLst>
                              <p:cond delay="500"/>
                            </p:stCondLst>
                            <p:childTnLst>
                              <p:par>
                                <p:cTn id="3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3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8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00"/>
                            </p:stCondLst>
                            <p:childTnLst>
                              <p:par>
                                <p:cTn id="3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7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500"/>
                            </p:stCondLst>
                            <p:childTnLst>
                              <p:par>
                                <p:cTn id="3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500"/>
                            </p:stCondLst>
                            <p:childTnLst>
                              <p:par>
                                <p:cTn id="3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1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6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500"/>
                            </p:stCondLst>
                            <p:childTnLst>
                              <p:par>
                                <p:cTn id="3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6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500"/>
                            </p:stCondLst>
                            <p:childTnLst>
                              <p:par>
                                <p:cTn id="3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1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6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2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fill="hold">
                      <p:stCondLst>
                        <p:cond delay="indefinite"/>
                      </p:stCondLst>
                      <p:childTnLst>
                        <p:par>
                          <p:cTn id="3309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6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2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1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roces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number of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 safe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ed Allocation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s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nker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2" dur="indefinite" restart="never" nodeType="tmRoot">
          <p:childTnLst>
            <p:seq>
              <p:cTn id="3343" dur="indefinite" nodeType="mainSeq">
                <p:childTnLst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8" dur="500"/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1" dur="500"/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6" dur="500"/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9" dur="500"/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4" dur="500"/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7" dur="500"/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0" dur="500"/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get up to its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deadloc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rot="1981200">
            <a:off x="6477120" y="2590560"/>
            <a:ext cx="2057400" cy="1828800"/>
          </a:xfrm>
          <a:prstGeom prst="irregularSeal2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580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equenc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h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s requests can be satisfied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 + Allocated(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 &lt;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: wait until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&lt;i) 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1" dur="indefinite" restart="never" nodeType="tmRoot">
          <p:childTnLst>
            <p:seq>
              <p:cTn id="3372" dur="indefinite" nodeType="mainSeq">
                <p:childTnLst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7" dur="500"/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2" dur="500"/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fill="hold">
                            <p:stCondLst>
                              <p:cond delay="500"/>
                            </p:stCondLst>
                            <p:childTnLst>
                              <p:par>
                                <p:cTn id="340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7" name=""/>
          <p:cNvGrpSpPr/>
          <p:nvPr/>
        </p:nvGrpSpPr>
        <p:grpSpPr>
          <a:xfrm>
            <a:off x="4648320" y="3505320"/>
            <a:ext cx="3886200" cy="1447560"/>
            <a:chOff x="4648320" y="3505320"/>
            <a:chExt cx="3886200" cy="1447560"/>
          </a:xfrm>
        </p:grpSpPr>
        <p:sp>
          <p:nvSpPr>
            <p:cNvPr id="2728" name=""/>
            <p:cNvSpPr/>
            <p:nvPr/>
          </p:nvSpPr>
          <p:spPr>
            <a:xfrm>
              <a:off x="4648320" y="3505320"/>
              <a:ext cx="3886200" cy="1447560"/>
            </a:xfrm>
            <a:custGeom>
              <a:avLst/>
              <a:gdLst/>
              <a:ahLst/>
              <a:rect l="l" t="t" r="r" b="b"/>
              <a:pathLst>
                <a:path w="2448" h="912">
                  <a:moveTo>
                    <a:pt x="0" y="912"/>
                  </a:moveTo>
                  <a:lnTo>
                    <a:pt x="2448" y="288"/>
                  </a:lnTo>
                  <a:lnTo>
                    <a:pt x="2448" y="0"/>
                  </a:lnTo>
                  <a:lnTo>
                    <a:pt x="0" y="0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95480" y="35942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4648320" y="3962520"/>
            <a:ext cx="3886200" cy="1752480"/>
            <a:chOff x="4648320" y="3962520"/>
            <a:chExt cx="3886200" cy="1752480"/>
          </a:xfrm>
        </p:grpSpPr>
        <p:sp>
          <p:nvSpPr>
            <p:cNvPr id="2731" name=""/>
            <p:cNvSpPr/>
            <p:nvPr/>
          </p:nvSpPr>
          <p:spPr>
            <a:xfrm>
              <a:off x="4648320" y="3962520"/>
              <a:ext cx="3886200" cy="1752480"/>
            </a:xfrm>
            <a:custGeom>
              <a:avLst/>
              <a:gdLst/>
              <a:ahLst/>
              <a:rect l="l" t="t" r="r" b="b"/>
              <a:pathLst>
                <a:path w="2448" h="1104">
                  <a:moveTo>
                    <a:pt x="0" y="624"/>
                  </a:moveTo>
                  <a:lnTo>
                    <a:pt x="2448" y="0"/>
                  </a:lnTo>
                  <a:lnTo>
                    <a:pt x="2448" y="1104"/>
                  </a:lnTo>
                  <a:lnTo>
                    <a:pt x="0" y="110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95a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593400" y="5257800"/>
              <a:ext cx="18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Un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dlock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876920" y="5029200"/>
            <a:ext cx="160020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8" name=""/>
          <p:cNvCxnSpPr>
            <a:stCxn id="2736" idx="6"/>
            <a:endCxn id="2737" idx="2"/>
          </p:cNvCxnSpPr>
          <p:nvPr/>
        </p:nvCxnSpPr>
        <p:spPr>
          <a:xfrm>
            <a:off x="5257440" y="4267080"/>
            <a:ext cx="68652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9" name=""/>
          <p:cNvSpPr/>
          <p:nvPr/>
        </p:nvSpPr>
        <p:spPr>
          <a:xfrm>
            <a:off x="70102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1" name=""/>
          <p:cNvCxnSpPr>
            <a:stCxn id="2739" idx="5"/>
            <a:endCxn id="2740" idx="6"/>
          </p:cNvCxnSpPr>
          <p:nvPr/>
        </p:nvCxnSpPr>
        <p:spPr>
          <a:xfrm rot="5400000">
            <a:off x="6720840" y="4610160"/>
            <a:ext cx="403920" cy="43560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2" name=""/>
          <p:cNvCxnSpPr>
            <a:stCxn id="2737" idx="6"/>
            <a:endCxn id="2739" idx="2"/>
          </p:cNvCxnSpPr>
          <p:nvPr/>
        </p:nvCxnSpPr>
        <p:spPr>
          <a:xfrm>
            <a:off x="6095880" y="4419360"/>
            <a:ext cx="915120" cy="1530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743" name=""/>
          <p:cNvGrpSpPr/>
          <p:nvPr/>
        </p:nvGrpSpPr>
        <p:grpSpPr>
          <a:xfrm>
            <a:off x="6375240" y="4267080"/>
            <a:ext cx="330480" cy="457200"/>
            <a:chOff x="6375240" y="4267080"/>
            <a:chExt cx="330480" cy="457200"/>
          </a:xfrm>
        </p:grpSpPr>
        <p:sp>
          <p:nvSpPr>
            <p:cNvPr id="2744" name=""/>
            <p:cNvSpPr/>
            <p:nvPr/>
          </p:nvSpPr>
          <p:spPr>
            <a:xfrm>
              <a:off x="6375240" y="4267080"/>
              <a:ext cx="203400" cy="45720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400800" y="441936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6" name=""/>
          <p:cNvSpPr/>
          <p:nvPr/>
        </p:nvSpPr>
        <p:spPr>
          <a:xfrm>
            <a:off x="6095880" y="53341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7" name=""/>
          <p:cNvCxnSpPr>
            <a:stCxn id="2740" idx="3"/>
            <a:endCxn id="2746" idx="0"/>
          </p:cNvCxnSpPr>
          <p:nvPr/>
        </p:nvCxnSpPr>
        <p:spPr>
          <a:xfrm rot="5400000">
            <a:off x="6247800" y="5006880"/>
            <a:ext cx="251640" cy="403920"/>
          </a:xfrm>
          <a:prstGeom prst="curvedConnector5">
            <a:avLst>
              <a:gd name="adj1" fmla="val 54297"/>
              <a:gd name="adj2" fmla="val 49955"/>
              <a:gd name="adj3" fmla="val 54297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48" name=""/>
          <p:cNvSpPr/>
          <p:nvPr/>
        </p:nvSpPr>
        <p:spPr>
          <a:xfrm>
            <a:off x="914400" y="3936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91440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n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982520" y="3657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33560" y="4952880"/>
            <a:ext cx="10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c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4008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3" name=""/>
          <p:cNvCxnSpPr>
            <a:stCxn id="2737" idx="7"/>
            <a:endCxn id="2752" idx="3"/>
          </p:cNvCxnSpPr>
          <p:nvPr/>
        </p:nvCxnSpPr>
        <p:spPr>
          <a:xfrm flipH="1" flipV="1" rot="5400000">
            <a:off x="6035400" y="3978000"/>
            <a:ext cx="426240" cy="349920"/>
          </a:xfrm>
          <a:prstGeom prst="curvedConnector5">
            <a:avLst>
              <a:gd name="adj1" fmla="val 49957"/>
              <a:gd name="adj2" fmla="val 49948"/>
              <a:gd name="adj3" fmla="val 49957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4" name=""/>
          <p:cNvSpPr/>
          <p:nvPr/>
        </p:nvSpPr>
        <p:spPr>
          <a:xfrm>
            <a:off x="7696080" y="46483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0773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3915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8580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9" name=""/>
          <p:cNvCxnSpPr>
            <a:stCxn id="2739" idx="6"/>
            <a:endCxn id="2758" idx="4"/>
          </p:cNvCxnSpPr>
          <p:nvPr/>
        </p:nvCxnSpPr>
        <p:spPr>
          <a:xfrm flipV="1">
            <a:off x="7162920" y="4114440"/>
            <a:ext cx="381600" cy="4579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60" name=""/>
          <p:cNvSpPr/>
          <p:nvPr/>
        </p:nvSpPr>
        <p:spPr>
          <a:xfrm>
            <a:off x="2209680" y="4460760"/>
            <a:ext cx="2170080" cy="398880"/>
          </a:xfrm>
          <a:prstGeom prst="borderCallout1">
            <a:avLst>
              <a:gd name="adj1" fmla="val 18750"/>
              <a:gd name="adj2" fmla="val -8333"/>
              <a:gd name="adj3" fmla="val 9467"/>
              <a:gd name="adj4" fmla="val 19502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not Alloca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8" dur="indefinite" restart="never" nodeType="tmRoot">
          <p:childTnLst>
            <p:seq>
              <p:cTn id="3409" dur="indefinite" nodeType="mainSeq">
                <p:childTnLst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4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9" dur="50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4" dur="50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4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500"/>
                            </p:stCondLst>
                            <p:childTnLst>
                              <p:par>
                                <p:cTn id="3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2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7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6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7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500"/>
                            </p:stCondLst>
                            <p:childTnLst>
                              <p:par>
                                <p:cTn id="3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7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2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7" dur="5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85800" y="4343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80988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200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43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7692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6095880" y="4648320"/>
            <a:ext cx="830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773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774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781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477120" y="34290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724280" y="25909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724280" y="35053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0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6" fill="hold">
                      <p:stCondLst>
                        <p:cond delay="indefinite"/>
                      </p:stCondLst>
                      <p:childTnLst>
                        <p:par>
                          <p:cTn id="3567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0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1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5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2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9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500"/>
                            </p:stCondLst>
                            <p:childTnLst>
                              <p:par>
                                <p:cTn id="3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0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3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4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85800" y="43275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6095880" y="46483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05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07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3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14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46720" y="25304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010280" y="34290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95720" y="342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8" dur="indefinite" restart="never" nodeType="tmRoot">
          <p:childTnLst>
            <p:seq>
              <p:cTn id="3669" dur="indefinite" nodeType="mainSeq">
                <p:childTnLst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4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9" dur="5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4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8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3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7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2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3" fill="hold">
                            <p:stCondLst>
                              <p:cond delay="500"/>
                            </p:stCondLst>
                            <p:childTnLst>
                              <p:par>
                                <p:cTn id="3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6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fill="hold">
                      <p:stCondLst>
                        <p:cond delay="indefinite"/>
                      </p:stCondLst>
                      <p:childTnLst>
                        <p:par>
                          <p:cTn id="3714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7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1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500"/>
                            </p:stCondLst>
                            <p:childTnLst>
                              <p:par>
                                <p:cTn id="37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9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827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3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90720" y="434340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5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990720" y="4876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6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317760" y="459576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62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352680" y="511668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44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800600"/>
            <a:ext cx="1676160" cy="398880"/>
          </a:xfrm>
          <a:prstGeom prst="borderCallout1">
            <a:avLst>
              <a:gd name="adj1" fmla="val -4577"/>
              <a:gd name="adj2" fmla="val 26819"/>
              <a:gd name="adj3" fmla="val 20127"/>
              <a:gd name="adj4" fmla="val 2612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99072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38280" y="5594400"/>
            <a:ext cx="1828800" cy="398880"/>
          </a:xfrm>
          <a:prstGeom prst="borderCallout1">
            <a:avLst>
              <a:gd name="adj1" fmla="val 18750"/>
              <a:gd name="adj2" fmla="val -8333"/>
              <a:gd name="adj3" fmla="val 8745"/>
              <a:gd name="adj4" fmla="val -22472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457200" y="4419720"/>
            <a:ext cx="398880" cy="1600200"/>
            <a:chOff x="457200" y="4419720"/>
            <a:chExt cx="398880" cy="1600200"/>
          </a:xfrm>
        </p:grpSpPr>
        <p:sp>
          <p:nvSpPr>
            <p:cNvPr id="2849" name=""/>
            <p:cNvSpPr/>
            <p:nvPr/>
          </p:nvSpPr>
          <p:spPr>
            <a:xfrm>
              <a:off x="83808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6200000">
              <a:off x="32616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7010280" y="434340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010280" y="48769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01028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8287920" y="4419720"/>
            <a:ext cx="398880" cy="1600200"/>
            <a:chOff x="8287920" y="4419720"/>
            <a:chExt cx="398880" cy="1600200"/>
          </a:xfrm>
        </p:grpSpPr>
        <p:sp>
          <p:nvSpPr>
            <p:cNvPr id="2855" name=""/>
            <p:cNvSpPr/>
            <p:nvPr/>
          </p:nvSpPr>
          <p:spPr>
            <a:xfrm>
              <a:off x="830592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 rot="5400000">
              <a:off x="815688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858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0" dur="indefinite" restart="never" nodeType="tmRoot">
          <p:childTnLst>
            <p:seq>
              <p:cTn id="3781" dur="indefinite" nodeType="mainSeq">
                <p:childTnLst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6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6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1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6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1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2" fill="hold">
                      <p:stCondLst>
                        <p:cond delay="indefinite"/>
                      </p:stCondLst>
                      <p:childTnLst>
                        <p:par>
                          <p:cTn id="3823" fill="hold">
                            <p:stCondLst>
                              <p:cond delay="0"/>
                            </p:stCondLst>
                            <p:childTnLst>
                              <p:par>
                                <p:cTn id="38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6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8" fill="hold">
                      <p:stCondLst>
                        <p:cond delay="indefinite"/>
                      </p:stCondLst>
                      <p:childTnLst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2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7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2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5715000" y="4495680"/>
            <a:ext cx="2057400" cy="1371600"/>
            <a:chOff x="5715000" y="4495680"/>
            <a:chExt cx="2057400" cy="1371600"/>
          </a:xfrm>
        </p:grpSpPr>
        <p:sp>
          <p:nvSpPr>
            <p:cNvPr id="2864" name=""/>
            <p:cNvSpPr/>
            <p:nvPr/>
          </p:nvSpPr>
          <p:spPr>
            <a:xfrm>
              <a:off x="5715000" y="4495680"/>
              <a:ext cx="2057400" cy="1371600"/>
            </a:xfrm>
            <a:prstGeom prst="rect">
              <a:avLst/>
            </a:prstGeom>
            <a:solidFill>
              <a:srgbClr val="ff95a7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>
              <a:off x="6095880" y="4648320"/>
              <a:ext cx="1219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02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af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2438280" y="459900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-96300"/>
              <a:gd name="adj4" fmla="val -3828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68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71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7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78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1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9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tal # available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cl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request-de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release-de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5880" y="236232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us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Reques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c0128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un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rem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L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: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09880" y="4572000"/>
            <a:ext cx="1143000" cy="45720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828800" y="3657600"/>
            <a:ext cx="1676520" cy="53352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87240" y="5348160"/>
            <a:ext cx="74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ce, resource utilization may be lo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7" dur="500"/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8" fill="hold">
                      <p:stCondLst>
                        <p:cond delay="indefinite"/>
                      </p:stCondLst>
                      <p:childTnLst>
                        <p:par>
                          <p:cTn id="3879" fill="hold">
                            <p:stCondLst>
                              <p:cond delay="0"/>
                            </p:stCondLst>
                            <p:childTnLst>
                              <p:par>
                                <p:cTn id="3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2" dur="500"/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7" dur="500"/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7" dur="500"/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2" dur="500"/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5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3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ss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can always request up to its max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793080" y="2971800"/>
            <a:ext cx="578520" cy="2743200"/>
            <a:chOff x="793080" y="2971800"/>
            <a:chExt cx="578520" cy="2743200"/>
          </a:xfrm>
        </p:grpSpPr>
        <p:sp>
          <p:nvSpPr>
            <p:cNvPr id="2890" name=""/>
            <p:cNvSpPr/>
            <p:nvPr/>
          </p:nvSpPr>
          <p:spPr>
            <a:xfrm flipV="1">
              <a:off x="1371600" y="29718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93080" y="3124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1752480" y="3505320"/>
            <a:ext cx="5334120" cy="2057400"/>
          </a:xfrm>
          <a:custGeom>
            <a:avLst/>
            <a:gdLst/>
            <a:ahLst/>
            <a:rect l="l" t="t" r="r" b="b"/>
            <a:pathLst>
              <a:path w="3408" h="1024">
                <a:moveTo>
                  <a:pt x="0" y="1024"/>
                </a:moveTo>
                <a:cubicBezTo>
                  <a:pt x="48" y="1012"/>
                  <a:pt x="96" y="1000"/>
                  <a:pt x="144" y="976"/>
                </a:cubicBezTo>
                <a:cubicBezTo>
                  <a:pt x="192" y="952"/>
                  <a:pt x="240" y="920"/>
                  <a:pt x="288" y="880"/>
                </a:cubicBezTo>
                <a:cubicBezTo>
                  <a:pt x="336" y="840"/>
                  <a:pt x="368" y="800"/>
                  <a:pt x="432" y="736"/>
                </a:cubicBezTo>
                <a:cubicBezTo>
                  <a:pt x="496" y="672"/>
                  <a:pt x="616" y="584"/>
                  <a:pt x="672" y="496"/>
                </a:cubicBezTo>
                <a:cubicBezTo>
                  <a:pt x="728" y="408"/>
                  <a:pt x="704" y="248"/>
                  <a:pt x="768" y="208"/>
                </a:cubicBezTo>
                <a:cubicBezTo>
                  <a:pt x="832" y="168"/>
                  <a:pt x="968" y="216"/>
                  <a:pt x="1056" y="256"/>
                </a:cubicBezTo>
                <a:cubicBezTo>
                  <a:pt x="1144" y="296"/>
                  <a:pt x="1200" y="464"/>
                  <a:pt x="1296" y="448"/>
                </a:cubicBezTo>
                <a:cubicBezTo>
                  <a:pt x="1392" y="432"/>
                  <a:pt x="1536" y="232"/>
                  <a:pt x="1632" y="160"/>
                </a:cubicBezTo>
                <a:cubicBezTo>
                  <a:pt x="1728" y="88"/>
                  <a:pt x="1800" y="0"/>
                  <a:pt x="1872" y="16"/>
                </a:cubicBezTo>
                <a:cubicBezTo>
                  <a:pt x="1944" y="32"/>
                  <a:pt x="1976" y="160"/>
                  <a:pt x="2064" y="256"/>
                </a:cubicBezTo>
                <a:cubicBezTo>
                  <a:pt x="2152" y="352"/>
                  <a:pt x="2264" y="512"/>
                  <a:pt x="2400" y="592"/>
                </a:cubicBezTo>
                <a:cubicBezTo>
                  <a:pt x="2536" y="672"/>
                  <a:pt x="2760" y="680"/>
                  <a:pt x="2880" y="736"/>
                </a:cubicBezTo>
                <a:cubicBezTo>
                  <a:pt x="3000" y="792"/>
                  <a:pt x="3032" y="880"/>
                  <a:pt x="3120" y="928"/>
                </a:cubicBezTo>
                <a:cubicBezTo>
                  <a:pt x="3208" y="976"/>
                  <a:pt x="3308" y="1000"/>
                  <a:pt x="3408" y="1024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371600" y="31240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271200" y="28195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209680" y="51055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357960" y="51055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371600" y="349416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371600" y="51814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1946880" y="3505320"/>
            <a:ext cx="395280" cy="1681560"/>
            <a:chOff x="1946880" y="3505320"/>
            <a:chExt cx="395280" cy="1681560"/>
          </a:xfrm>
        </p:grpSpPr>
        <p:sp>
          <p:nvSpPr>
            <p:cNvPr id="2900" name=""/>
            <p:cNvSpPr/>
            <p:nvPr/>
          </p:nvSpPr>
          <p:spPr>
            <a:xfrm flipV="1">
              <a:off x="2286000" y="3505320"/>
              <a:ext cx="0" cy="167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rot="16132800">
              <a:off x="1458360" y="43128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extra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2421360" y="3124080"/>
            <a:ext cx="390240" cy="2057040"/>
            <a:chOff x="2421360" y="3124080"/>
            <a:chExt cx="390240" cy="2057040"/>
          </a:xfrm>
        </p:grpSpPr>
        <p:sp>
          <p:nvSpPr>
            <p:cNvPr id="2903" name=""/>
            <p:cNvSpPr/>
            <p:nvPr/>
          </p:nvSpPr>
          <p:spPr>
            <a:xfrm flipV="1">
              <a:off x="274320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rot="16132800">
              <a:off x="205740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6098040" y="3124080"/>
            <a:ext cx="390240" cy="2057040"/>
            <a:chOff x="6098040" y="3124080"/>
            <a:chExt cx="390240" cy="2057040"/>
          </a:xfrm>
        </p:grpSpPr>
        <p:sp>
          <p:nvSpPr>
            <p:cNvPr id="2906" name=""/>
            <p:cNvSpPr/>
            <p:nvPr/>
          </p:nvSpPr>
          <p:spPr>
            <a:xfrm flipV="1">
              <a:off x="641988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132800">
              <a:off x="573408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1295280" y="5546880"/>
            <a:ext cx="6477120" cy="398880"/>
            <a:chOff x="1295280" y="5546880"/>
            <a:chExt cx="6477120" cy="398880"/>
          </a:xfrm>
        </p:grpSpPr>
        <p:sp>
          <p:nvSpPr>
            <p:cNvPr id="2909" name=""/>
            <p:cNvSpPr/>
            <p:nvPr/>
          </p:nvSpPr>
          <p:spPr>
            <a:xfrm>
              <a:off x="1295280" y="5562720"/>
              <a:ext cx="647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991920" y="55468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6636600" y="31845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4" dur="indefinite" restart="never" nodeType="tmRoot">
          <p:childTnLst>
            <p:seq>
              <p:cTn id="3925" dur="indefinite" nodeType="mainSeq">
                <p:childTnLst>
                  <p:par>
                    <p:cTn id="3926" fill="hold">
                      <p:stCondLst>
                        <p:cond delay="indefinite"/>
                      </p:stCondLst>
                      <p:childTnLst>
                        <p:par>
                          <p:cTn id="3927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5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0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500"/>
                            </p:stCondLst>
                            <p:childTnLst>
                              <p:par>
                                <p:cTn id="39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9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500"/>
                            </p:stCondLst>
                            <p:childTnLst>
                              <p:par>
                                <p:cTn id="39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8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3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3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8" dur="5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3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5" fill="hold">
                            <p:stCondLst>
                              <p:cond delay="500"/>
                            </p:stCondLst>
                            <p:childTnLst>
                              <p:par>
                                <p:cTn id="39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8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allocation graph + claim ed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676520" y="2666880"/>
            <a:ext cx="761760" cy="990720"/>
            <a:chOff x="1676520" y="2666880"/>
            <a:chExt cx="761760" cy="990720"/>
          </a:xfrm>
        </p:grpSpPr>
        <p:sp>
          <p:nvSpPr>
            <p:cNvPr id="2915" name=""/>
            <p:cNvSpPr/>
            <p:nvPr/>
          </p:nvSpPr>
          <p:spPr>
            <a:xfrm>
              <a:off x="1676520" y="3047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831680" y="26668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981080" y="3276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4267080" y="3048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9" name=""/>
          <p:cNvCxnSpPr>
            <a:stCxn id="2915" idx="3"/>
            <a:endCxn id="2918" idx="2"/>
          </p:cNvCxnSpPr>
          <p:nvPr/>
        </p:nvCxnSpPr>
        <p:spPr>
          <a:xfrm>
            <a:off x="2457000" y="3352320"/>
            <a:ext cx="181044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20" name=""/>
          <p:cNvGrpSpPr/>
          <p:nvPr/>
        </p:nvGrpSpPr>
        <p:grpSpPr>
          <a:xfrm>
            <a:off x="1676520" y="3668760"/>
            <a:ext cx="761760" cy="990720"/>
            <a:chOff x="1676520" y="3668760"/>
            <a:chExt cx="761760" cy="990720"/>
          </a:xfrm>
        </p:grpSpPr>
        <p:sp>
          <p:nvSpPr>
            <p:cNvPr id="2921" name=""/>
            <p:cNvSpPr/>
            <p:nvPr/>
          </p:nvSpPr>
          <p:spPr>
            <a:xfrm>
              <a:off x="1676520" y="404964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831680" y="3668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981080" y="427824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4" name=""/>
          <p:cNvSpPr/>
          <p:nvPr/>
        </p:nvSpPr>
        <p:spPr>
          <a:xfrm>
            <a:off x="4267080" y="404496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5" name=""/>
          <p:cNvCxnSpPr>
            <a:stCxn id="2921" idx="3"/>
            <a:endCxn id="2924" idx="2"/>
          </p:cNvCxnSpPr>
          <p:nvPr/>
        </p:nvCxnSpPr>
        <p:spPr>
          <a:xfrm flipV="1">
            <a:off x="2457000" y="4349160"/>
            <a:ext cx="181044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grpSp>
        <p:nvGrpSpPr>
          <p:cNvPr id="2926" name=""/>
          <p:cNvGrpSpPr/>
          <p:nvPr/>
        </p:nvGrpSpPr>
        <p:grpSpPr>
          <a:xfrm>
            <a:off x="1676520" y="4735440"/>
            <a:ext cx="761760" cy="990720"/>
            <a:chOff x="1676520" y="4735440"/>
            <a:chExt cx="761760" cy="990720"/>
          </a:xfrm>
        </p:grpSpPr>
        <p:sp>
          <p:nvSpPr>
            <p:cNvPr id="2927" name=""/>
            <p:cNvSpPr/>
            <p:nvPr/>
          </p:nvSpPr>
          <p:spPr>
            <a:xfrm>
              <a:off x="1676520" y="511632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31680" y="47354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981080" y="534492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4267080" y="51814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1" name=""/>
          <p:cNvCxnSpPr>
            <a:stCxn id="2929" idx="5"/>
            <a:endCxn id="2930" idx="2"/>
          </p:cNvCxnSpPr>
          <p:nvPr/>
        </p:nvCxnSpPr>
        <p:spPr>
          <a:xfrm>
            <a:off x="2111400" y="5474880"/>
            <a:ext cx="2156400" cy="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932" name=""/>
          <p:cNvSpPr/>
          <p:nvPr/>
        </p:nvSpPr>
        <p:spPr>
          <a:xfrm rot="5478000">
            <a:off x="4609440" y="361944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rot="5478000">
            <a:off x="4991040" y="4838400"/>
            <a:ext cx="1447560" cy="60984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 rot="16122000">
            <a:off x="6172200" y="403848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671080" y="35812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935440" y="297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815200" y="3976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92720" y="51195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095880" y="4876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820280" y="40384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3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7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1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5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4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9" dur="5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0" fill="hold">
                            <p:stCondLst>
                              <p:cond delay="500"/>
                            </p:stCondLst>
                            <p:childTnLst>
                              <p:par>
                                <p:cTn id="40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3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7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1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6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0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4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8" dur="5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500"/>
                            </p:stCondLst>
                            <p:childTnLst>
                              <p:par>
                                <p:cTn id="4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7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im edg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ll resources a process MAY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tart of a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when process has only claim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1676520" y="4648320"/>
            <a:ext cx="761760" cy="990000"/>
            <a:chOff x="1676520" y="4648320"/>
            <a:chExt cx="761760" cy="990000"/>
          </a:xfrm>
        </p:grpSpPr>
        <p:sp>
          <p:nvSpPr>
            <p:cNvPr id="2944" name=""/>
            <p:cNvSpPr/>
            <p:nvPr/>
          </p:nvSpPr>
          <p:spPr>
            <a:xfrm>
              <a:off x="1676520" y="5028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83168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81080" y="5257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7" name=""/>
          <p:cNvSpPr/>
          <p:nvPr/>
        </p:nvSpPr>
        <p:spPr>
          <a:xfrm>
            <a:off x="3429000" y="50292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8" name=""/>
          <p:cNvCxnSpPr>
            <a:stCxn id="2944" idx="3"/>
            <a:endCxn id="2947" idx="2"/>
          </p:cNvCxnSpPr>
          <p:nvPr/>
        </p:nvCxnSpPr>
        <p:spPr>
          <a:xfrm>
            <a:off x="2457000" y="5333760"/>
            <a:ext cx="97236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49" name=""/>
          <p:cNvGrpSpPr/>
          <p:nvPr/>
        </p:nvGrpSpPr>
        <p:grpSpPr>
          <a:xfrm>
            <a:off x="4952880" y="4648320"/>
            <a:ext cx="762120" cy="990000"/>
            <a:chOff x="4952880" y="4648320"/>
            <a:chExt cx="762120" cy="990000"/>
          </a:xfrm>
        </p:grpSpPr>
        <p:sp>
          <p:nvSpPr>
            <p:cNvPr id="2950" name=""/>
            <p:cNvSpPr/>
            <p:nvPr/>
          </p:nvSpPr>
          <p:spPr>
            <a:xfrm>
              <a:off x="4952880" y="5028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10840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25780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3" name=""/>
          <p:cNvGrpSpPr/>
          <p:nvPr/>
        </p:nvGrpSpPr>
        <p:grpSpPr>
          <a:xfrm>
            <a:off x="2666880" y="3429000"/>
            <a:ext cx="762120" cy="990720"/>
            <a:chOff x="2666880" y="3429000"/>
            <a:chExt cx="762120" cy="990720"/>
          </a:xfrm>
        </p:grpSpPr>
        <p:sp>
          <p:nvSpPr>
            <p:cNvPr id="2954" name=""/>
            <p:cNvSpPr/>
            <p:nvPr/>
          </p:nvSpPr>
          <p:spPr>
            <a:xfrm>
              <a:off x="266688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82240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97180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4114800" y="3429000"/>
            <a:ext cx="762120" cy="990720"/>
            <a:chOff x="4114800" y="3429000"/>
            <a:chExt cx="762120" cy="990720"/>
          </a:xfrm>
        </p:grpSpPr>
        <p:sp>
          <p:nvSpPr>
            <p:cNvPr id="2958" name=""/>
            <p:cNvSpPr/>
            <p:nvPr/>
          </p:nvSpPr>
          <p:spPr>
            <a:xfrm>
              <a:off x="411480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27032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1" name=""/>
          <p:cNvCxnSpPr>
            <a:stCxn id="2958" idx="2"/>
            <a:endCxn id="2947" idx="7"/>
          </p:cNvCxnSpPr>
          <p:nvPr/>
        </p:nvCxnSpPr>
        <p:spPr>
          <a:xfrm flipH="1">
            <a:off x="4014360" y="4438440"/>
            <a:ext cx="481680" cy="6800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62" name=""/>
          <p:cNvCxnSpPr>
            <a:stCxn id="2950" idx="1"/>
            <a:endCxn id="2947" idx="6"/>
          </p:cNvCxnSpPr>
          <p:nvPr/>
        </p:nvCxnSpPr>
        <p:spPr>
          <a:xfrm flipH="1">
            <a:off x="4114080" y="5333760"/>
            <a:ext cx="81972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4" dur="500"/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9" dur="500"/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4" dur="500"/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5" fill="hold">
                      <p:stCondLst>
                        <p:cond delay="indefinite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9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0" fill="hold">
                            <p:stCondLst>
                              <p:cond delay="500"/>
                            </p:stCondLst>
                            <p:childTnLst>
                              <p:par>
                                <p:cTn id="4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3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7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1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5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4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8" dur="5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e if 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676520" y="2514600"/>
            <a:ext cx="761760" cy="990720"/>
            <a:chOff x="1676520" y="2514600"/>
            <a:chExt cx="761760" cy="990720"/>
          </a:xfrm>
        </p:grpSpPr>
        <p:sp>
          <p:nvSpPr>
            <p:cNvPr id="2966" name=""/>
            <p:cNvSpPr/>
            <p:nvPr/>
          </p:nvSpPr>
          <p:spPr>
            <a:xfrm>
              <a:off x="1676520" y="28954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831680" y="25146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981080" y="312408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9" name=""/>
          <p:cNvSpPr/>
          <p:nvPr/>
        </p:nvSpPr>
        <p:spPr>
          <a:xfrm>
            <a:off x="4267080" y="2884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0" name=""/>
          <p:cNvGrpSpPr/>
          <p:nvPr/>
        </p:nvGrpSpPr>
        <p:grpSpPr>
          <a:xfrm>
            <a:off x="1676520" y="3581280"/>
            <a:ext cx="761760" cy="990720"/>
            <a:chOff x="1676520" y="3581280"/>
            <a:chExt cx="761760" cy="990720"/>
          </a:xfrm>
        </p:grpSpPr>
        <p:sp>
          <p:nvSpPr>
            <p:cNvPr id="2971" name=""/>
            <p:cNvSpPr/>
            <p:nvPr/>
          </p:nvSpPr>
          <p:spPr>
            <a:xfrm>
              <a:off x="1676520" y="39621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831680" y="358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1981080" y="41907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4" name=""/>
          <p:cNvSpPr/>
          <p:nvPr/>
        </p:nvSpPr>
        <p:spPr>
          <a:xfrm>
            <a:off x="4267080" y="4027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2457000" y="2822400"/>
            <a:ext cx="1810080" cy="377640"/>
            <a:chOff x="2457000" y="2822400"/>
            <a:chExt cx="1810080" cy="377640"/>
          </a:xfrm>
        </p:grpSpPr>
        <p:cxnSp>
          <p:nvCxnSpPr>
            <p:cNvPr id="2976" name=""/>
            <p:cNvCxnSpPr>
              <a:stCxn id="2966" idx="3"/>
              <a:endCxn id="2969" idx="2"/>
            </p:cNvCxnSpPr>
            <p:nvPr/>
          </p:nvCxnSpPr>
          <p:spPr>
            <a:xfrm flipV="1">
              <a:off x="2457000" y="3188520"/>
              <a:ext cx="1810440" cy="1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sp>
          <p:nvSpPr>
            <p:cNvPr id="2977" name=""/>
            <p:cNvSpPr/>
            <p:nvPr/>
          </p:nvSpPr>
          <p:spPr>
            <a:xfrm>
              <a:off x="2815200" y="28224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2111400" y="3965400"/>
            <a:ext cx="2156040" cy="368280"/>
            <a:chOff x="2111400" y="3965400"/>
            <a:chExt cx="2156040" cy="368280"/>
          </a:xfrm>
        </p:grpSpPr>
        <p:cxnSp>
          <p:nvCxnSpPr>
            <p:cNvPr id="2979" name=""/>
            <p:cNvCxnSpPr>
              <a:stCxn id="2973" idx="5"/>
              <a:endCxn id="2974" idx="2"/>
            </p:cNvCxnSpPr>
            <p:nvPr/>
          </p:nvCxnSpPr>
          <p:spPr>
            <a:xfrm>
              <a:off x="2111400" y="4320720"/>
              <a:ext cx="2156400" cy="11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980" name=""/>
            <p:cNvSpPr/>
            <p:nvPr/>
          </p:nvSpPr>
          <p:spPr>
            <a:xfrm>
              <a:off x="2592720" y="39654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1" name=""/>
          <p:cNvSpPr/>
          <p:nvPr/>
        </p:nvSpPr>
        <p:spPr>
          <a:xfrm>
            <a:off x="3124080" y="34290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677960" y="48769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ycle in grap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692000" y="548640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operations,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5" dur="5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6" fill="hold">
                            <p:stCondLst>
                              <p:cond delay="500"/>
                            </p:stCondLst>
                            <p:childTnLst>
                              <p:par>
                                <p:cTn id="4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9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3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8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500"/>
                            </p:stCondLst>
                            <p:childTnLst>
                              <p:par>
                                <p:cTn id="4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2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6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1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1752480" y="2133720"/>
            <a:ext cx="762120" cy="990000"/>
            <a:chOff x="1752480" y="2133720"/>
            <a:chExt cx="762120" cy="990000"/>
          </a:xfrm>
        </p:grpSpPr>
        <p:sp>
          <p:nvSpPr>
            <p:cNvPr id="2986" name=""/>
            <p:cNvSpPr/>
            <p:nvPr/>
          </p:nvSpPr>
          <p:spPr>
            <a:xfrm>
              <a:off x="1752480" y="25142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908000" y="2133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57400" y="274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9" name=""/>
          <p:cNvSpPr/>
          <p:nvPr/>
        </p:nvSpPr>
        <p:spPr>
          <a:xfrm>
            <a:off x="838080" y="3505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1752480" y="4191120"/>
            <a:ext cx="762120" cy="990000"/>
            <a:chOff x="1752480" y="4191120"/>
            <a:chExt cx="762120" cy="990000"/>
          </a:xfrm>
        </p:grpSpPr>
        <p:sp>
          <p:nvSpPr>
            <p:cNvPr id="2991" name=""/>
            <p:cNvSpPr/>
            <p:nvPr/>
          </p:nvSpPr>
          <p:spPr>
            <a:xfrm>
              <a:off x="1752480" y="45716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908000" y="419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57400" y="4800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4" name=""/>
          <p:cNvSpPr/>
          <p:nvPr/>
        </p:nvSpPr>
        <p:spPr>
          <a:xfrm>
            <a:off x="27432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5" name=""/>
          <p:cNvCxnSpPr>
            <a:stCxn id="2991" idx="1"/>
            <a:endCxn id="2989" idx="4"/>
          </p:cNvCxnSpPr>
          <p:nvPr/>
        </p:nvCxnSpPr>
        <p:spPr>
          <a:xfrm flipH="1" flipV="1">
            <a:off x="1180800" y="411408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6" name=""/>
          <p:cNvCxnSpPr>
            <a:stCxn id="2986" idx="3"/>
            <a:endCxn id="2994" idx="0"/>
          </p:cNvCxnSpPr>
          <p:nvPr/>
        </p:nvCxnSpPr>
        <p:spPr>
          <a:xfrm>
            <a:off x="2533320" y="2819520"/>
            <a:ext cx="55332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7" name=""/>
          <p:cNvCxnSpPr>
            <a:stCxn id="2991" idx="3"/>
            <a:endCxn id="2994" idx="4"/>
          </p:cNvCxnSpPr>
          <p:nvPr/>
        </p:nvCxnSpPr>
        <p:spPr>
          <a:xfrm flipV="1">
            <a:off x="2533320" y="4190400"/>
            <a:ext cx="55332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8" name=""/>
          <p:cNvCxnSpPr>
            <a:stCxn id="2989" idx="0"/>
            <a:endCxn id="2986" idx="1"/>
          </p:cNvCxnSpPr>
          <p:nvPr/>
        </p:nvCxnSpPr>
        <p:spPr>
          <a:xfrm flipV="1">
            <a:off x="1181160" y="2818800"/>
            <a:ext cx="55296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tailEnd len="med" type="triangle" w="med"/>
          </a:ln>
        </p:spPr>
      </p:cxnSp>
      <p:sp>
        <p:nvSpPr>
          <p:cNvPr id="2999" name=""/>
          <p:cNvSpPr/>
          <p:nvPr/>
        </p:nvSpPr>
        <p:spPr>
          <a:xfrm>
            <a:off x="1411200" y="54864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9194"/>
              <a:gd name="adj5" fmla="val -322856"/>
              <a:gd name="adj6" fmla="val -1411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3962520" y="2209680"/>
            <a:ext cx="2590200" cy="3048120"/>
            <a:chOff x="3962520" y="2209680"/>
            <a:chExt cx="2590200" cy="3048120"/>
          </a:xfrm>
        </p:grpSpPr>
        <p:grpSp>
          <p:nvGrpSpPr>
            <p:cNvPr id="3001" name=""/>
            <p:cNvGrpSpPr/>
            <p:nvPr/>
          </p:nvGrpSpPr>
          <p:grpSpPr>
            <a:xfrm>
              <a:off x="4876560" y="2209680"/>
              <a:ext cx="761760" cy="990720"/>
              <a:chOff x="4876560" y="2209680"/>
              <a:chExt cx="761760" cy="990720"/>
            </a:xfrm>
          </p:grpSpPr>
          <p:sp>
            <p:nvSpPr>
              <p:cNvPr id="3002" name=""/>
              <p:cNvSpPr/>
              <p:nvPr/>
            </p:nvSpPr>
            <p:spPr>
              <a:xfrm>
                <a:off x="4876560" y="25905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317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181120" y="28191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5" name=""/>
            <p:cNvSpPr/>
            <p:nvPr/>
          </p:nvSpPr>
          <p:spPr>
            <a:xfrm>
              <a:off x="3962520" y="3581280"/>
              <a:ext cx="68544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6" name=""/>
            <p:cNvGrpSpPr/>
            <p:nvPr/>
          </p:nvGrpSpPr>
          <p:grpSpPr>
            <a:xfrm>
              <a:off x="4876560" y="4267080"/>
              <a:ext cx="761760" cy="990720"/>
              <a:chOff x="4876560" y="4267080"/>
              <a:chExt cx="761760" cy="990720"/>
            </a:xfrm>
          </p:grpSpPr>
          <p:sp>
            <p:nvSpPr>
              <p:cNvPr id="3007" name=""/>
              <p:cNvSpPr/>
              <p:nvPr/>
            </p:nvSpPr>
            <p:spPr>
              <a:xfrm>
                <a:off x="4876560" y="46479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0317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181120" y="4876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5867280" y="36576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1" name=""/>
            <p:cNvCxnSpPr>
              <a:stCxn id="3007" idx="1"/>
              <a:endCxn id="3005" idx="4"/>
            </p:cNvCxnSpPr>
            <p:nvPr/>
          </p:nvCxnSpPr>
          <p:spPr>
            <a:xfrm flipH="1" flipV="1">
              <a:off x="4304520" y="4190760"/>
              <a:ext cx="55260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2" name=""/>
            <p:cNvCxnSpPr>
              <a:stCxn id="3002" idx="3"/>
              <a:endCxn id="3010" idx="0"/>
            </p:cNvCxnSpPr>
            <p:nvPr/>
          </p:nvCxnSpPr>
          <p:spPr>
            <a:xfrm>
              <a:off x="5657400" y="2895120"/>
              <a:ext cx="55260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3" name=""/>
            <p:cNvCxnSpPr>
              <a:stCxn id="3010" idx="4"/>
              <a:endCxn id="3007" idx="3"/>
            </p:cNvCxnSpPr>
            <p:nvPr/>
          </p:nvCxnSpPr>
          <p:spPr>
            <a:xfrm flipH="1">
              <a:off x="5657040" y="426672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014" name=""/>
            <p:cNvCxnSpPr>
              <a:stCxn id="3005" idx="0"/>
              <a:endCxn id="3002" idx="1"/>
            </p:cNvCxnSpPr>
            <p:nvPr/>
          </p:nvCxnSpPr>
          <p:spPr>
            <a:xfrm flipV="1">
              <a:off x="4304880" y="289476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3015" name=""/>
          <p:cNvCxnSpPr/>
          <p:nvPr/>
        </p:nvCxnSpPr>
        <p:spPr>
          <a:xfrm flipV="1">
            <a:off x="4304880" y="2894760"/>
            <a:ext cx="55332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016" name=""/>
          <p:cNvCxnSpPr>
            <a:stCxn id="3005" idx="7"/>
            <a:endCxn id="3004" idx="3"/>
          </p:cNvCxnSpPr>
          <p:nvPr/>
        </p:nvCxnSpPr>
        <p:spPr>
          <a:xfrm flipV="1">
            <a:off x="454788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17" name=""/>
          <p:cNvSpPr/>
          <p:nvPr/>
        </p:nvSpPr>
        <p:spPr>
          <a:xfrm>
            <a:off x="6708240" y="3124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248160" y="47242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on: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238880" y="373392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8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9" fill="hold">
                            <p:stCondLst>
                              <p:cond delay="500"/>
                            </p:stCondLst>
                            <p:childTnLst>
                              <p:par>
                                <p:cTn id="4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6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0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5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6" fill="hold">
                            <p:stCondLst>
                              <p:cond delay="500"/>
                            </p:stCondLst>
                            <p:childTnLst>
                              <p:par>
                                <p:cTn id="4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9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500"/>
                            </p:stCondLst>
                            <p:childTnLst>
                              <p:par>
                                <p:cTn id="4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9" fill="hold">
                      <p:stCondLst>
                        <p:cond delay="indefinite"/>
                      </p:stCondLst>
                      <p:childTnLst>
                        <p:par>
                          <p:cTn id="4200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3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8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3" fill="hold">
                            <p:stCondLst>
                              <p:cond delay="500"/>
                            </p:stCondLst>
                            <p:childTnLst>
                              <p:par>
                                <p:cTn id="4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6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2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2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"/>
          <p:cNvGrpSpPr/>
          <p:nvPr/>
        </p:nvGrpSpPr>
        <p:grpSpPr>
          <a:xfrm>
            <a:off x="1066680" y="2133720"/>
            <a:ext cx="2590920" cy="3047400"/>
            <a:chOff x="1066680" y="2133720"/>
            <a:chExt cx="2590920" cy="3047400"/>
          </a:xfrm>
        </p:grpSpPr>
        <p:grpSp>
          <p:nvGrpSpPr>
            <p:cNvPr id="3022" name=""/>
            <p:cNvGrpSpPr/>
            <p:nvPr/>
          </p:nvGrpSpPr>
          <p:grpSpPr>
            <a:xfrm>
              <a:off x="1981080" y="2133720"/>
              <a:ext cx="762120" cy="990000"/>
              <a:chOff x="1981080" y="2133720"/>
              <a:chExt cx="762120" cy="990000"/>
            </a:xfrm>
          </p:grpSpPr>
          <p:sp>
            <p:nvSpPr>
              <p:cNvPr id="3023" name=""/>
              <p:cNvSpPr/>
              <p:nvPr/>
            </p:nvSpPr>
            <p:spPr>
              <a:xfrm>
                <a:off x="1981080" y="2514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136600" y="2133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286000" y="274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6" name=""/>
            <p:cNvSpPr/>
            <p:nvPr/>
          </p:nvSpPr>
          <p:spPr>
            <a:xfrm>
              <a:off x="1066680" y="35053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7" name=""/>
            <p:cNvGrpSpPr/>
            <p:nvPr/>
          </p:nvGrpSpPr>
          <p:grpSpPr>
            <a:xfrm>
              <a:off x="1981080" y="4191120"/>
              <a:ext cx="762120" cy="990000"/>
              <a:chOff x="1981080" y="4191120"/>
              <a:chExt cx="762120" cy="990000"/>
            </a:xfrm>
          </p:grpSpPr>
          <p:sp>
            <p:nvSpPr>
              <p:cNvPr id="3028" name=""/>
              <p:cNvSpPr/>
              <p:nvPr/>
            </p:nvSpPr>
            <p:spPr>
              <a:xfrm>
                <a:off x="1981080" y="45716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136600" y="4191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286000" y="4800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1" name=""/>
            <p:cNvSpPr/>
            <p:nvPr/>
          </p:nvSpPr>
          <p:spPr>
            <a:xfrm>
              <a:off x="29718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2" name=""/>
            <p:cNvCxnSpPr>
              <a:stCxn id="3028" idx="1"/>
              <a:endCxn id="3026" idx="4"/>
            </p:cNvCxnSpPr>
            <p:nvPr/>
          </p:nvCxnSpPr>
          <p:spPr>
            <a:xfrm flipH="1" flipV="1">
              <a:off x="1409400" y="411408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3" name=""/>
            <p:cNvCxnSpPr>
              <a:stCxn id="3023" idx="3"/>
              <a:endCxn id="3031" idx="0"/>
            </p:cNvCxnSpPr>
            <p:nvPr/>
          </p:nvCxnSpPr>
          <p:spPr>
            <a:xfrm>
              <a:off x="2761920" y="2819520"/>
              <a:ext cx="55332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4" name=""/>
            <p:cNvCxnSpPr>
              <a:stCxn id="3028" idx="3"/>
              <a:endCxn id="3031" idx="4"/>
            </p:cNvCxnSpPr>
            <p:nvPr/>
          </p:nvCxnSpPr>
          <p:spPr>
            <a:xfrm flipV="1">
              <a:off x="2761920" y="4190400"/>
              <a:ext cx="55332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5" name=""/>
            <p:cNvCxnSpPr>
              <a:stCxn id="3026" idx="7"/>
              <a:endCxn id="3025" idx="3"/>
            </p:cNvCxnSpPr>
            <p:nvPr/>
          </p:nvCxnSpPr>
          <p:spPr>
            <a:xfrm flipV="1">
              <a:off x="1652400" y="287316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</p:grpSp>
      <p:sp>
        <p:nvSpPr>
          <p:cNvPr id="3036" name=""/>
          <p:cNvSpPr/>
          <p:nvPr/>
        </p:nvSpPr>
        <p:spPr>
          <a:xfrm>
            <a:off x="510552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3429000" y="495288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6777"/>
              <a:gd name="adj5" fmla="val -201060"/>
              <a:gd name="adj6" fmla="val -917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 txBox="1"/>
          <p:nvPr/>
        </p:nvSpPr>
        <p:spPr>
          <a:xfrm>
            <a:off x="6400800" y="4343400"/>
            <a:ext cx="1295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4343400" y="2209680"/>
            <a:ext cx="2590920" cy="3048120"/>
            <a:chOff x="4343400" y="2209680"/>
            <a:chExt cx="2590920" cy="3048120"/>
          </a:xfrm>
        </p:grpSpPr>
        <p:grpSp>
          <p:nvGrpSpPr>
            <p:cNvPr id="3040" name=""/>
            <p:cNvGrpSpPr/>
            <p:nvPr/>
          </p:nvGrpSpPr>
          <p:grpSpPr>
            <a:xfrm>
              <a:off x="5257800" y="2209680"/>
              <a:ext cx="762120" cy="990720"/>
              <a:chOff x="5257800" y="2209680"/>
              <a:chExt cx="762120" cy="990720"/>
            </a:xfrm>
          </p:grpSpPr>
          <p:sp>
            <p:nvSpPr>
              <p:cNvPr id="3041" name=""/>
              <p:cNvSpPr/>
              <p:nvPr/>
            </p:nvSpPr>
            <p:spPr>
              <a:xfrm>
                <a:off x="5257800" y="25905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4133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562720" y="28191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5" name=""/>
            <p:cNvGrpSpPr/>
            <p:nvPr/>
          </p:nvGrpSpPr>
          <p:grpSpPr>
            <a:xfrm>
              <a:off x="5257800" y="4267080"/>
              <a:ext cx="762120" cy="990720"/>
              <a:chOff x="5257800" y="4267080"/>
              <a:chExt cx="762120" cy="990720"/>
            </a:xfrm>
          </p:grpSpPr>
          <p:sp>
            <p:nvSpPr>
              <p:cNvPr id="3046" name=""/>
              <p:cNvSpPr/>
              <p:nvPr/>
            </p:nvSpPr>
            <p:spPr>
              <a:xfrm>
                <a:off x="5257800" y="46479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4133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562720" y="48765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9" name=""/>
            <p:cNvSpPr/>
            <p:nvPr/>
          </p:nvSpPr>
          <p:spPr>
            <a:xfrm>
              <a:off x="6248520" y="36576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0" name=""/>
            <p:cNvCxnSpPr>
              <a:stCxn id="3046" idx="1"/>
              <a:endCxn id="3044" idx="4"/>
            </p:cNvCxnSpPr>
            <p:nvPr/>
          </p:nvCxnSpPr>
          <p:spPr>
            <a:xfrm flipH="1" flipV="1">
              <a:off x="4686120" y="4190760"/>
              <a:ext cx="55296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1" name=""/>
            <p:cNvCxnSpPr>
              <a:stCxn id="3041" idx="3"/>
              <a:endCxn id="3049" idx="0"/>
            </p:cNvCxnSpPr>
            <p:nvPr/>
          </p:nvCxnSpPr>
          <p:spPr>
            <a:xfrm>
              <a:off x="6039000" y="289512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2" name=""/>
            <p:cNvCxnSpPr>
              <a:stCxn id="3044" idx="7"/>
              <a:endCxn id="3043" idx="3"/>
            </p:cNvCxnSpPr>
            <p:nvPr/>
          </p:nvCxnSpPr>
          <p:spPr>
            <a:xfrm flipV="1">
              <a:off x="4928760" y="294912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053" name=""/>
            <p:cNvCxnSpPr>
              <a:stCxn id="3046" idx="3"/>
              <a:endCxn id="3049" idx="4"/>
            </p:cNvCxnSpPr>
            <p:nvPr/>
          </p:nvCxnSpPr>
          <p:spPr>
            <a:xfrm flipV="1">
              <a:off x="6039000" y="4266360"/>
              <a:ext cx="55296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</p:grpSp>
      <p:cxnSp>
        <p:nvCxnSpPr>
          <p:cNvPr id="3054" name=""/>
          <p:cNvCxnSpPr>
            <a:stCxn id="3046" idx="3"/>
            <a:endCxn id="3049" idx="4"/>
          </p:cNvCxnSpPr>
          <p:nvPr/>
        </p:nvCxnSpPr>
        <p:spPr>
          <a:xfrm flipV="1">
            <a:off x="6039000" y="4266360"/>
            <a:ext cx="55296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cxnSp>
        <p:nvCxnSpPr>
          <p:cNvPr id="3055" name=""/>
          <p:cNvCxnSpPr>
            <a:stCxn id="3049" idx="3"/>
            <a:endCxn id="304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grpSp>
        <p:nvGrpSpPr>
          <p:cNvPr id="3056" name=""/>
          <p:cNvGrpSpPr/>
          <p:nvPr/>
        </p:nvGrpSpPr>
        <p:grpSpPr>
          <a:xfrm>
            <a:off x="5925960" y="4191840"/>
            <a:ext cx="464760" cy="489960"/>
            <a:chOff x="5925960" y="4191840"/>
            <a:chExt cx="464760" cy="489960"/>
          </a:xfrm>
        </p:grpSpPr>
        <p:sp>
          <p:nvSpPr>
            <p:cNvPr id="3057" name=""/>
            <p:cNvSpPr/>
            <p:nvPr/>
          </p:nvSpPr>
          <p:spPr>
            <a:xfrm rot="1672200">
              <a:off x="5990760" y="423036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rot="1672200">
              <a:off x="5984640" y="43804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4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9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0" fill="hold">
                      <p:stCondLst>
                        <p:cond delay="indefinite"/>
                      </p:stCondLst>
                      <p:childTnLst>
                        <p:par>
                          <p:cTn id="4251" fill="hold">
                            <p:stCondLst>
                              <p:cond delay="0"/>
                            </p:stCondLst>
                            <p:childTnLst>
                              <p:par>
                                <p:cTn id="4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7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8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1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6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6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0" name=""/>
          <p:cNvCxnSpPr>
            <a:stCxn id="3066" idx="1"/>
            <a:endCxn id="306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1" name=""/>
          <p:cNvCxnSpPr>
            <a:stCxn id="3061" idx="3"/>
            <a:endCxn id="306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2" name=""/>
          <p:cNvCxnSpPr>
            <a:stCxn id="3064" idx="7"/>
            <a:endCxn id="306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73" name=""/>
          <p:cNvCxnSpPr>
            <a:stCxn id="3069" idx="4"/>
            <a:endCxn id="3066" idx="3"/>
          </p:cNvCxnSpPr>
          <p:nvPr/>
        </p:nvCxnSpPr>
        <p:spPr>
          <a:xfrm flipH="1">
            <a:off x="6038640" y="4266720"/>
            <a:ext cx="55296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074" name=""/>
          <p:cNvSpPr/>
          <p:nvPr/>
        </p:nvSpPr>
        <p:spPr>
          <a:xfrm>
            <a:off x="619200" y="1854360"/>
            <a:ext cx="324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: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o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076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7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8" dur="indefinite" restart="never" nodeType="tmRoot">
          <p:childTnLst>
            <p:seq>
              <p:cTn id="4279" dur="indefinite" nodeType="mainSeq">
                <p:childTnLst>
                  <p:par>
                    <p:cTn id="4280" fill="hold">
                      <p:stCondLst>
                        <p:cond delay="0"/>
                      </p:stCondLst>
                      <p:childTnLst>
                        <p:par>
                          <p:cTn id="4281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4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8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8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0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1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2" name=""/>
          <p:cNvCxnSpPr>
            <a:stCxn id="3084" idx="7"/>
            <a:endCxn id="308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93" name=""/>
          <p:cNvCxnSpPr>
            <a:stCxn id="3089" idx="3"/>
            <a:endCxn id="308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94" name=""/>
          <p:cNvSpPr/>
          <p:nvPr/>
        </p:nvSpPr>
        <p:spPr>
          <a:xfrm>
            <a:off x="514980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2514600" y="48006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113069"/>
              <a:gd name="adj5" fmla="val -163916"/>
              <a:gd name="adj6" fmla="val 12254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10560" y="18543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Unsafe MAY lead to 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6934320" y="50292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13069"/>
              <a:gd name="adj5" fmla="val -180893"/>
              <a:gd name="adj6" fmla="val -22453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8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099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3100" name=""/>
          <p:cNvSpPr txBox="1"/>
          <p:nvPr/>
        </p:nvSpPr>
        <p:spPr>
          <a:xfrm>
            <a:off x="6629400" y="2590920"/>
            <a:ext cx="1523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102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3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05" name=""/>
          <p:cNvGrpSpPr/>
          <p:nvPr/>
        </p:nvGrpSpPr>
        <p:grpSpPr>
          <a:xfrm>
            <a:off x="4343400" y="3581280"/>
            <a:ext cx="936360" cy="614520"/>
            <a:chOff x="4343400" y="3581280"/>
            <a:chExt cx="936360" cy="614520"/>
          </a:xfrm>
        </p:grpSpPr>
        <p:sp>
          <p:nvSpPr>
            <p:cNvPr id="3106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7" name=""/>
            <p:cNvGraphicFramePr/>
            <p:nvPr/>
          </p:nvGraphicFramePr>
          <p:xfrm>
            <a:off x="4898880" y="382104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8880" y="382104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5" dur="indefinite" restart="never" nodeType="tmRoot">
          <p:childTnLst>
            <p:seq>
              <p:cTn id="4286" dur="indefinite" nodeType="mainSeq">
                <p:childTnLst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7" fill="hold">
                            <p:stCondLst>
                              <p:cond delay="500"/>
                            </p:stCondLst>
                            <p:childTnLst>
                              <p:par>
                                <p:cTn id="4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0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3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fill="hold">
                            <p:stCondLst>
                              <p:cond delay="500"/>
                            </p:stCondLst>
                            <p:childTnLst>
                              <p:par>
                                <p:cTn id="4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7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1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6" fill="hold">
                      <p:stCondLst>
                        <p:cond delay="indefinite"/>
                      </p:stCondLst>
                      <p:childTnLst>
                        <p:par>
                          <p:cTn id="4327" fill="hold">
                            <p:stCondLst>
                              <p:cond delay="0"/>
                            </p:stCondLst>
                            <p:childTnLst>
                              <p:par>
                                <p:cTn id="43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8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3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4" fill="hold">
                      <p:stCondLst>
                        <p:cond delay="indefinite"/>
                      </p:stCondLst>
                      <p:childTnLst>
                        <p:par>
                          <p:cTn id="4345" fill="hold">
                            <p:stCondLst>
                              <p:cond delay="0"/>
                            </p:stCondLst>
                            <p:childTnLst>
                              <p:par>
                                <p:cTn id="4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1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838080" y="3352680"/>
            <a:ext cx="1101960" cy="1638360"/>
            <a:chOff x="838080" y="3352680"/>
            <a:chExt cx="1101960" cy="1638360"/>
          </a:xfrm>
        </p:grpSpPr>
        <p:sp>
          <p:nvSpPr>
            <p:cNvPr id="3112" name=""/>
            <p:cNvSpPr/>
            <p:nvPr/>
          </p:nvSpPr>
          <p:spPr>
            <a:xfrm>
              <a:off x="838080" y="3352680"/>
              <a:ext cx="1101960" cy="16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38080" y="3352680"/>
              <a:ext cx="1079640" cy="1085760"/>
            </a:xfrm>
            <a:custGeom>
              <a:avLst/>
              <a:gdLst/>
              <a:ahLst/>
              <a:rect l="l" t="t" r="r" b="b"/>
              <a:pathLst>
                <a:path w="3400" h="3424">
                  <a:moveTo>
                    <a:pt x="3106" y="1579"/>
                  </a:moveTo>
                  <a:lnTo>
                    <a:pt x="3150" y="1561"/>
                  </a:lnTo>
                  <a:lnTo>
                    <a:pt x="3185" y="1540"/>
                  </a:lnTo>
                  <a:lnTo>
                    <a:pt x="3215" y="1515"/>
                  </a:lnTo>
                  <a:lnTo>
                    <a:pt x="3243" y="1488"/>
                  </a:lnTo>
                  <a:lnTo>
                    <a:pt x="3265" y="1458"/>
                  </a:lnTo>
                  <a:lnTo>
                    <a:pt x="3287" y="1428"/>
                  </a:lnTo>
                  <a:lnTo>
                    <a:pt x="3303" y="1396"/>
                  </a:lnTo>
                  <a:lnTo>
                    <a:pt x="3321" y="1365"/>
                  </a:lnTo>
                  <a:lnTo>
                    <a:pt x="3362" y="1289"/>
                  </a:lnTo>
                  <a:lnTo>
                    <a:pt x="3390" y="1209"/>
                  </a:lnTo>
                  <a:lnTo>
                    <a:pt x="3400" y="1122"/>
                  </a:lnTo>
                  <a:lnTo>
                    <a:pt x="3398" y="1032"/>
                  </a:lnTo>
                  <a:lnTo>
                    <a:pt x="3387" y="942"/>
                  </a:lnTo>
                  <a:lnTo>
                    <a:pt x="3365" y="850"/>
                  </a:lnTo>
                  <a:lnTo>
                    <a:pt x="3335" y="756"/>
                  </a:lnTo>
                  <a:lnTo>
                    <a:pt x="3303" y="669"/>
                  </a:lnTo>
                  <a:lnTo>
                    <a:pt x="3253" y="617"/>
                  </a:lnTo>
                  <a:lnTo>
                    <a:pt x="3201" y="570"/>
                  </a:lnTo>
                  <a:lnTo>
                    <a:pt x="3150" y="524"/>
                  </a:lnTo>
                  <a:lnTo>
                    <a:pt x="3095" y="480"/>
                  </a:lnTo>
                  <a:lnTo>
                    <a:pt x="3037" y="437"/>
                  </a:lnTo>
                  <a:lnTo>
                    <a:pt x="2983" y="399"/>
                  </a:lnTo>
                  <a:lnTo>
                    <a:pt x="2925" y="363"/>
                  </a:lnTo>
                  <a:lnTo>
                    <a:pt x="2866" y="327"/>
                  </a:lnTo>
                  <a:lnTo>
                    <a:pt x="2806" y="294"/>
                  </a:lnTo>
                  <a:lnTo>
                    <a:pt x="2745" y="264"/>
                  </a:lnTo>
                  <a:lnTo>
                    <a:pt x="2683" y="234"/>
                  </a:lnTo>
                  <a:lnTo>
                    <a:pt x="2620" y="207"/>
                  </a:lnTo>
                  <a:lnTo>
                    <a:pt x="2554" y="183"/>
                  </a:lnTo>
                  <a:lnTo>
                    <a:pt x="2489" y="161"/>
                  </a:lnTo>
                  <a:lnTo>
                    <a:pt x="2423" y="139"/>
                  </a:lnTo>
                  <a:lnTo>
                    <a:pt x="2357" y="119"/>
                  </a:lnTo>
                  <a:lnTo>
                    <a:pt x="2290" y="101"/>
                  </a:lnTo>
                  <a:lnTo>
                    <a:pt x="2224" y="85"/>
                  </a:lnTo>
                  <a:lnTo>
                    <a:pt x="2155" y="71"/>
                  </a:lnTo>
                  <a:lnTo>
                    <a:pt x="2085" y="57"/>
                  </a:lnTo>
                  <a:lnTo>
                    <a:pt x="2016" y="46"/>
                  </a:lnTo>
                  <a:lnTo>
                    <a:pt x="1945" y="35"/>
                  </a:lnTo>
                  <a:lnTo>
                    <a:pt x="1874" y="27"/>
                  </a:lnTo>
                  <a:lnTo>
                    <a:pt x="1805" y="19"/>
                  </a:lnTo>
                  <a:lnTo>
                    <a:pt x="1735" y="14"/>
                  </a:lnTo>
                  <a:lnTo>
                    <a:pt x="1661" y="8"/>
                  </a:lnTo>
                  <a:lnTo>
                    <a:pt x="1590" y="2"/>
                  </a:lnTo>
                  <a:lnTo>
                    <a:pt x="1519" y="0"/>
                  </a:lnTo>
                  <a:lnTo>
                    <a:pt x="1448" y="0"/>
                  </a:lnTo>
                  <a:lnTo>
                    <a:pt x="1377" y="0"/>
                  </a:lnTo>
                  <a:lnTo>
                    <a:pt x="1303" y="0"/>
                  </a:lnTo>
                  <a:lnTo>
                    <a:pt x="1233" y="0"/>
                  </a:lnTo>
                  <a:lnTo>
                    <a:pt x="1189" y="16"/>
                  </a:lnTo>
                  <a:lnTo>
                    <a:pt x="1148" y="32"/>
                  </a:lnTo>
                  <a:lnTo>
                    <a:pt x="1106" y="51"/>
                  </a:lnTo>
                  <a:lnTo>
                    <a:pt x="1068" y="71"/>
                  </a:lnTo>
                  <a:lnTo>
                    <a:pt x="1030" y="89"/>
                  </a:lnTo>
                  <a:lnTo>
                    <a:pt x="992" y="111"/>
                  </a:lnTo>
                  <a:lnTo>
                    <a:pt x="953" y="133"/>
                  </a:lnTo>
                  <a:lnTo>
                    <a:pt x="918" y="155"/>
                  </a:lnTo>
                  <a:lnTo>
                    <a:pt x="883" y="180"/>
                  </a:lnTo>
                  <a:lnTo>
                    <a:pt x="848" y="204"/>
                  </a:lnTo>
                  <a:lnTo>
                    <a:pt x="812" y="229"/>
                  </a:lnTo>
                  <a:lnTo>
                    <a:pt x="779" y="256"/>
                  </a:lnTo>
                  <a:lnTo>
                    <a:pt x="743" y="281"/>
                  </a:lnTo>
                  <a:lnTo>
                    <a:pt x="711" y="308"/>
                  </a:lnTo>
                  <a:lnTo>
                    <a:pt x="677" y="336"/>
                  </a:lnTo>
                  <a:lnTo>
                    <a:pt x="645" y="363"/>
                  </a:lnTo>
                  <a:lnTo>
                    <a:pt x="610" y="395"/>
                  </a:lnTo>
                  <a:lnTo>
                    <a:pt x="574" y="425"/>
                  </a:lnTo>
                  <a:lnTo>
                    <a:pt x="542" y="456"/>
                  </a:lnTo>
                  <a:lnTo>
                    <a:pt x="506" y="483"/>
                  </a:lnTo>
                  <a:lnTo>
                    <a:pt x="470" y="510"/>
                  </a:lnTo>
                  <a:lnTo>
                    <a:pt x="437" y="538"/>
                  </a:lnTo>
                  <a:lnTo>
                    <a:pt x="403" y="566"/>
                  </a:lnTo>
                  <a:lnTo>
                    <a:pt x="367" y="590"/>
                  </a:lnTo>
                  <a:lnTo>
                    <a:pt x="331" y="617"/>
                  </a:lnTo>
                  <a:lnTo>
                    <a:pt x="296" y="644"/>
                  </a:lnTo>
                  <a:lnTo>
                    <a:pt x="260" y="671"/>
                  </a:lnTo>
                  <a:lnTo>
                    <a:pt x="224" y="699"/>
                  </a:lnTo>
                  <a:lnTo>
                    <a:pt x="186" y="727"/>
                  </a:lnTo>
                  <a:lnTo>
                    <a:pt x="148" y="756"/>
                  </a:lnTo>
                  <a:lnTo>
                    <a:pt x="109" y="786"/>
                  </a:lnTo>
                  <a:lnTo>
                    <a:pt x="71" y="818"/>
                  </a:lnTo>
                  <a:lnTo>
                    <a:pt x="63" y="836"/>
                  </a:lnTo>
                  <a:lnTo>
                    <a:pt x="44" y="871"/>
                  </a:lnTo>
                  <a:lnTo>
                    <a:pt x="28" y="915"/>
                  </a:lnTo>
                  <a:lnTo>
                    <a:pt x="17" y="942"/>
                  </a:lnTo>
                  <a:lnTo>
                    <a:pt x="9" y="1070"/>
                  </a:lnTo>
                  <a:lnTo>
                    <a:pt x="0" y="1207"/>
                  </a:lnTo>
                  <a:lnTo>
                    <a:pt x="0" y="1346"/>
                  </a:lnTo>
                  <a:lnTo>
                    <a:pt x="17" y="1488"/>
                  </a:lnTo>
                  <a:lnTo>
                    <a:pt x="28" y="1723"/>
                  </a:lnTo>
                  <a:lnTo>
                    <a:pt x="31" y="1964"/>
                  </a:lnTo>
                  <a:lnTo>
                    <a:pt x="31" y="2206"/>
                  </a:lnTo>
                  <a:lnTo>
                    <a:pt x="36" y="2449"/>
                  </a:lnTo>
                  <a:lnTo>
                    <a:pt x="58" y="2685"/>
                  </a:lnTo>
                  <a:lnTo>
                    <a:pt x="107" y="2911"/>
                  </a:lnTo>
                  <a:lnTo>
                    <a:pt x="186" y="3124"/>
                  </a:lnTo>
                  <a:lnTo>
                    <a:pt x="309" y="3321"/>
                  </a:lnTo>
                  <a:lnTo>
                    <a:pt x="350" y="3335"/>
                  </a:lnTo>
                  <a:lnTo>
                    <a:pt x="391" y="3348"/>
                  </a:lnTo>
                  <a:lnTo>
                    <a:pt x="432" y="3364"/>
                  </a:lnTo>
                  <a:lnTo>
                    <a:pt x="473" y="3381"/>
                  </a:lnTo>
                  <a:lnTo>
                    <a:pt x="514" y="3394"/>
                  </a:lnTo>
                  <a:lnTo>
                    <a:pt x="558" y="3408"/>
                  </a:lnTo>
                  <a:lnTo>
                    <a:pt x="604" y="3418"/>
                  </a:lnTo>
                  <a:lnTo>
                    <a:pt x="656" y="3424"/>
                  </a:lnTo>
                  <a:lnTo>
                    <a:pt x="691" y="3389"/>
                  </a:lnTo>
                  <a:lnTo>
                    <a:pt x="727" y="3353"/>
                  </a:lnTo>
                  <a:lnTo>
                    <a:pt x="762" y="3321"/>
                  </a:lnTo>
                  <a:lnTo>
                    <a:pt x="798" y="3285"/>
                  </a:lnTo>
                  <a:lnTo>
                    <a:pt x="834" y="3249"/>
                  </a:lnTo>
                  <a:lnTo>
                    <a:pt x="869" y="3214"/>
                  </a:lnTo>
                  <a:lnTo>
                    <a:pt x="905" y="3182"/>
                  </a:lnTo>
                  <a:lnTo>
                    <a:pt x="940" y="3146"/>
                  </a:lnTo>
                  <a:lnTo>
                    <a:pt x="869" y="3069"/>
                  </a:lnTo>
                  <a:lnTo>
                    <a:pt x="814" y="2985"/>
                  </a:lnTo>
                  <a:lnTo>
                    <a:pt x="776" y="2892"/>
                  </a:lnTo>
                  <a:lnTo>
                    <a:pt x="752" y="2791"/>
                  </a:lnTo>
                  <a:lnTo>
                    <a:pt x="741" y="2687"/>
                  </a:lnTo>
                  <a:lnTo>
                    <a:pt x="738" y="2580"/>
                  </a:lnTo>
                  <a:lnTo>
                    <a:pt x="743" y="2471"/>
                  </a:lnTo>
                  <a:lnTo>
                    <a:pt x="754" y="2365"/>
                  </a:lnTo>
                  <a:lnTo>
                    <a:pt x="765" y="2346"/>
                  </a:lnTo>
                  <a:lnTo>
                    <a:pt x="782" y="2324"/>
                  </a:lnTo>
                  <a:lnTo>
                    <a:pt x="804" y="2304"/>
                  </a:lnTo>
                  <a:lnTo>
                    <a:pt x="834" y="2294"/>
                  </a:lnTo>
                  <a:lnTo>
                    <a:pt x="874" y="2286"/>
                  </a:lnTo>
                  <a:lnTo>
                    <a:pt x="915" y="2280"/>
                  </a:lnTo>
                  <a:lnTo>
                    <a:pt x="959" y="2278"/>
                  </a:lnTo>
                  <a:lnTo>
                    <a:pt x="1003" y="2280"/>
                  </a:lnTo>
                  <a:lnTo>
                    <a:pt x="1044" y="2286"/>
                  </a:lnTo>
                  <a:lnTo>
                    <a:pt x="1084" y="2296"/>
                  </a:lnTo>
                  <a:lnTo>
                    <a:pt x="1126" y="2310"/>
                  </a:lnTo>
                  <a:lnTo>
                    <a:pt x="1162" y="2326"/>
                  </a:lnTo>
                  <a:lnTo>
                    <a:pt x="1263" y="2548"/>
                  </a:lnTo>
                  <a:lnTo>
                    <a:pt x="1289" y="2578"/>
                  </a:lnTo>
                  <a:lnTo>
                    <a:pt x="1325" y="2602"/>
                  </a:lnTo>
                  <a:lnTo>
                    <a:pt x="1364" y="2619"/>
                  </a:lnTo>
                  <a:lnTo>
                    <a:pt x="1410" y="2630"/>
                  </a:lnTo>
                  <a:lnTo>
                    <a:pt x="1456" y="2635"/>
                  </a:lnTo>
                  <a:lnTo>
                    <a:pt x="1505" y="2635"/>
                  </a:lnTo>
                  <a:lnTo>
                    <a:pt x="1551" y="2632"/>
                  </a:lnTo>
                  <a:lnTo>
                    <a:pt x="1595" y="2627"/>
                  </a:lnTo>
                  <a:lnTo>
                    <a:pt x="1648" y="2578"/>
                  </a:lnTo>
                  <a:lnTo>
                    <a:pt x="1686" y="2515"/>
                  </a:lnTo>
                  <a:lnTo>
                    <a:pt x="1718" y="2447"/>
                  </a:lnTo>
                  <a:lnTo>
                    <a:pt x="1746" y="2370"/>
                  </a:lnTo>
                  <a:lnTo>
                    <a:pt x="1770" y="2294"/>
                  </a:lnTo>
                  <a:lnTo>
                    <a:pt x="1797" y="2220"/>
                  </a:lnTo>
                  <a:lnTo>
                    <a:pt x="1827" y="2147"/>
                  </a:lnTo>
                  <a:lnTo>
                    <a:pt x="1869" y="2081"/>
                  </a:lnTo>
                  <a:lnTo>
                    <a:pt x="1940" y="2062"/>
                  </a:lnTo>
                  <a:lnTo>
                    <a:pt x="2010" y="2037"/>
                  </a:lnTo>
                  <a:lnTo>
                    <a:pt x="2076" y="2010"/>
                  </a:lnTo>
                  <a:lnTo>
                    <a:pt x="2141" y="1982"/>
                  </a:lnTo>
                  <a:lnTo>
                    <a:pt x="2204" y="1952"/>
                  </a:lnTo>
                  <a:lnTo>
                    <a:pt x="2268" y="1920"/>
                  </a:lnTo>
                  <a:lnTo>
                    <a:pt x="2330" y="1887"/>
                  </a:lnTo>
                  <a:lnTo>
                    <a:pt x="2391" y="1855"/>
                  </a:lnTo>
                  <a:lnTo>
                    <a:pt x="2453" y="1821"/>
                  </a:lnTo>
                  <a:lnTo>
                    <a:pt x="2516" y="1791"/>
                  </a:lnTo>
                  <a:lnTo>
                    <a:pt x="2582" y="1761"/>
                  </a:lnTo>
                  <a:lnTo>
                    <a:pt x="2647" y="1734"/>
                  </a:lnTo>
                  <a:lnTo>
                    <a:pt x="2719" y="1706"/>
                  </a:lnTo>
                  <a:lnTo>
                    <a:pt x="2789" y="1684"/>
                  </a:lnTo>
                  <a:lnTo>
                    <a:pt x="2862" y="1666"/>
                  </a:lnTo>
                  <a:lnTo>
                    <a:pt x="2942" y="1649"/>
                  </a:lnTo>
                  <a:lnTo>
                    <a:pt x="2963" y="1638"/>
                  </a:lnTo>
                  <a:lnTo>
                    <a:pt x="2985" y="1627"/>
                  </a:lnTo>
                  <a:lnTo>
                    <a:pt x="3005" y="1619"/>
                  </a:lnTo>
                  <a:lnTo>
                    <a:pt x="3027" y="1611"/>
                  </a:lnTo>
                  <a:lnTo>
                    <a:pt x="3046" y="1603"/>
                  </a:lnTo>
                  <a:lnTo>
                    <a:pt x="3068" y="1595"/>
                  </a:lnTo>
                  <a:lnTo>
                    <a:pt x="3086" y="1587"/>
                  </a:lnTo>
                  <a:lnTo>
                    <a:pt x="3106" y="1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334880" y="4610160"/>
              <a:ext cx="270000" cy="237960"/>
            </a:xfrm>
            <a:custGeom>
              <a:avLst/>
              <a:gdLst/>
              <a:ahLst/>
              <a:rect l="l" t="t" r="r" b="b"/>
              <a:pathLst>
                <a:path w="852" h="751">
                  <a:moveTo>
                    <a:pt x="288" y="751"/>
                  </a:moveTo>
                  <a:lnTo>
                    <a:pt x="302" y="715"/>
                  </a:lnTo>
                  <a:lnTo>
                    <a:pt x="318" y="682"/>
                  </a:lnTo>
                  <a:lnTo>
                    <a:pt x="338" y="650"/>
                  </a:lnTo>
                  <a:lnTo>
                    <a:pt x="357" y="622"/>
                  </a:lnTo>
                  <a:lnTo>
                    <a:pt x="379" y="595"/>
                  </a:lnTo>
                  <a:lnTo>
                    <a:pt x="405" y="568"/>
                  </a:lnTo>
                  <a:lnTo>
                    <a:pt x="437" y="543"/>
                  </a:lnTo>
                  <a:lnTo>
                    <a:pt x="469" y="521"/>
                  </a:lnTo>
                  <a:lnTo>
                    <a:pt x="477" y="519"/>
                  </a:lnTo>
                  <a:lnTo>
                    <a:pt x="485" y="516"/>
                  </a:lnTo>
                  <a:lnTo>
                    <a:pt x="493" y="516"/>
                  </a:lnTo>
                  <a:lnTo>
                    <a:pt x="504" y="516"/>
                  </a:lnTo>
                  <a:lnTo>
                    <a:pt x="568" y="527"/>
                  </a:lnTo>
                  <a:lnTo>
                    <a:pt x="619" y="538"/>
                  </a:lnTo>
                  <a:lnTo>
                    <a:pt x="663" y="551"/>
                  </a:lnTo>
                  <a:lnTo>
                    <a:pt x="701" y="568"/>
                  </a:lnTo>
                  <a:lnTo>
                    <a:pt x="737" y="587"/>
                  </a:lnTo>
                  <a:lnTo>
                    <a:pt x="769" y="614"/>
                  </a:lnTo>
                  <a:lnTo>
                    <a:pt x="804" y="644"/>
                  </a:lnTo>
                  <a:lnTo>
                    <a:pt x="848" y="685"/>
                  </a:lnTo>
                  <a:lnTo>
                    <a:pt x="852" y="620"/>
                  </a:lnTo>
                  <a:lnTo>
                    <a:pt x="834" y="529"/>
                  </a:lnTo>
                  <a:lnTo>
                    <a:pt x="804" y="429"/>
                  </a:lnTo>
                  <a:lnTo>
                    <a:pt x="769" y="322"/>
                  </a:lnTo>
                  <a:lnTo>
                    <a:pt x="729" y="219"/>
                  </a:lnTo>
                  <a:lnTo>
                    <a:pt x="687" y="123"/>
                  </a:lnTo>
                  <a:lnTo>
                    <a:pt x="652" y="48"/>
                  </a:lnTo>
                  <a:lnTo>
                    <a:pt x="627" y="0"/>
                  </a:lnTo>
                  <a:lnTo>
                    <a:pt x="580" y="10"/>
                  </a:lnTo>
                  <a:lnTo>
                    <a:pt x="537" y="24"/>
                  </a:lnTo>
                  <a:lnTo>
                    <a:pt x="491" y="44"/>
                  </a:lnTo>
                  <a:lnTo>
                    <a:pt x="445" y="68"/>
                  </a:lnTo>
                  <a:lnTo>
                    <a:pt x="401" y="96"/>
                  </a:lnTo>
                  <a:lnTo>
                    <a:pt x="354" y="125"/>
                  </a:lnTo>
                  <a:lnTo>
                    <a:pt x="310" y="158"/>
                  </a:lnTo>
                  <a:lnTo>
                    <a:pt x="270" y="193"/>
                  </a:lnTo>
                  <a:lnTo>
                    <a:pt x="226" y="232"/>
                  </a:lnTo>
                  <a:lnTo>
                    <a:pt x="187" y="270"/>
                  </a:lnTo>
                  <a:lnTo>
                    <a:pt x="149" y="311"/>
                  </a:lnTo>
                  <a:lnTo>
                    <a:pt x="113" y="350"/>
                  </a:lnTo>
                  <a:lnTo>
                    <a:pt x="81" y="390"/>
                  </a:lnTo>
                  <a:lnTo>
                    <a:pt x="51" y="429"/>
                  </a:lnTo>
                  <a:lnTo>
                    <a:pt x="24" y="467"/>
                  </a:lnTo>
                  <a:lnTo>
                    <a:pt x="0" y="503"/>
                  </a:lnTo>
                  <a:lnTo>
                    <a:pt x="288" y="7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39680" y="3844800"/>
              <a:ext cx="871560" cy="930240"/>
            </a:xfrm>
            <a:custGeom>
              <a:avLst/>
              <a:gdLst/>
              <a:ahLst/>
              <a:rect l="l" t="t" r="r" b="b"/>
              <a:pathLst>
                <a:path w="2745" h="2928">
                  <a:moveTo>
                    <a:pt x="2541" y="489"/>
                  </a:moveTo>
                  <a:lnTo>
                    <a:pt x="2503" y="550"/>
                  </a:lnTo>
                  <a:lnTo>
                    <a:pt x="2493" y="612"/>
                  </a:lnTo>
                  <a:lnTo>
                    <a:pt x="2505" y="681"/>
                  </a:lnTo>
                  <a:lnTo>
                    <a:pt x="2533" y="743"/>
                  </a:lnTo>
                  <a:lnTo>
                    <a:pt x="2559" y="814"/>
                  </a:lnTo>
                  <a:lnTo>
                    <a:pt x="2590" y="880"/>
                  </a:lnTo>
                  <a:lnTo>
                    <a:pt x="2622" y="940"/>
                  </a:lnTo>
                  <a:lnTo>
                    <a:pt x="2658" y="1003"/>
                  </a:lnTo>
                  <a:lnTo>
                    <a:pt x="2688" y="1063"/>
                  </a:lnTo>
                  <a:lnTo>
                    <a:pt x="2715" y="1128"/>
                  </a:lnTo>
                  <a:lnTo>
                    <a:pt x="2734" y="1194"/>
                  </a:lnTo>
                  <a:lnTo>
                    <a:pt x="2745" y="1268"/>
                  </a:lnTo>
                  <a:lnTo>
                    <a:pt x="2745" y="1287"/>
                  </a:lnTo>
                  <a:lnTo>
                    <a:pt x="2731" y="1301"/>
                  </a:lnTo>
                  <a:lnTo>
                    <a:pt x="2710" y="1307"/>
                  </a:lnTo>
                  <a:lnTo>
                    <a:pt x="2680" y="1311"/>
                  </a:lnTo>
                  <a:lnTo>
                    <a:pt x="2646" y="1311"/>
                  </a:lnTo>
                  <a:lnTo>
                    <a:pt x="2612" y="1311"/>
                  </a:lnTo>
                  <a:lnTo>
                    <a:pt x="2579" y="1311"/>
                  </a:lnTo>
                  <a:lnTo>
                    <a:pt x="2551" y="1315"/>
                  </a:lnTo>
                  <a:lnTo>
                    <a:pt x="2541" y="1404"/>
                  </a:lnTo>
                  <a:lnTo>
                    <a:pt x="2529" y="1476"/>
                  </a:lnTo>
                  <a:lnTo>
                    <a:pt x="2521" y="1527"/>
                  </a:lnTo>
                  <a:lnTo>
                    <a:pt x="2524" y="1560"/>
                  </a:lnTo>
                  <a:lnTo>
                    <a:pt x="2524" y="1591"/>
                  </a:lnTo>
                  <a:lnTo>
                    <a:pt x="2505" y="1621"/>
                  </a:lnTo>
                  <a:lnTo>
                    <a:pt x="2485" y="1653"/>
                  </a:lnTo>
                  <a:lnTo>
                    <a:pt x="2469" y="1694"/>
                  </a:lnTo>
                  <a:lnTo>
                    <a:pt x="2483" y="1716"/>
                  </a:lnTo>
                  <a:lnTo>
                    <a:pt x="2503" y="1740"/>
                  </a:lnTo>
                  <a:lnTo>
                    <a:pt x="2519" y="1765"/>
                  </a:lnTo>
                  <a:lnTo>
                    <a:pt x="2519" y="1790"/>
                  </a:lnTo>
                  <a:lnTo>
                    <a:pt x="2505" y="1817"/>
                  </a:lnTo>
                  <a:lnTo>
                    <a:pt x="2485" y="1869"/>
                  </a:lnTo>
                  <a:lnTo>
                    <a:pt x="2477" y="1937"/>
                  </a:lnTo>
                  <a:lnTo>
                    <a:pt x="2491" y="2008"/>
                  </a:lnTo>
                  <a:lnTo>
                    <a:pt x="2507" y="2058"/>
                  </a:lnTo>
                  <a:lnTo>
                    <a:pt x="2513" y="2101"/>
                  </a:lnTo>
                  <a:lnTo>
                    <a:pt x="2507" y="2141"/>
                  </a:lnTo>
                  <a:lnTo>
                    <a:pt x="2493" y="2177"/>
                  </a:lnTo>
                  <a:lnTo>
                    <a:pt x="2472" y="2207"/>
                  </a:lnTo>
                  <a:lnTo>
                    <a:pt x="2442" y="2229"/>
                  </a:lnTo>
                  <a:lnTo>
                    <a:pt x="2404" y="2240"/>
                  </a:lnTo>
                  <a:lnTo>
                    <a:pt x="2362" y="2243"/>
                  </a:lnTo>
                  <a:lnTo>
                    <a:pt x="2311" y="2240"/>
                  </a:lnTo>
                  <a:lnTo>
                    <a:pt x="2262" y="2240"/>
                  </a:lnTo>
                  <a:lnTo>
                    <a:pt x="2213" y="2237"/>
                  </a:lnTo>
                  <a:lnTo>
                    <a:pt x="2166" y="2237"/>
                  </a:lnTo>
                  <a:lnTo>
                    <a:pt x="2122" y="2240"/>
                  </a:lnTo>
                  <a:lnTo>
                    <a:pt x="2078" y="2240"/>
                  </a:lnTo>
                  <a:lnTo>
                    <a:pt x="2035" y="2246"/>
                  </a:lnTo>
                  <a:lnTo>
                    <a:pt x="1991" y="2251"/>
                  </a:lnTo>
                  <a:lnTo>
                    <a:pt x="1951" y="2256"/>
                  </a:lnTo>
                  <a:lnTo>
                    <a:pt x="1907" y="2268"/>
                  </a:lnTo>
                  <a:lnTo>
                    <a:pt x="1863" y="2278"/>
                  </a:lnTo>
                  <a:lnTo>
                    <a:pt x="1822" y="2292"/>
                  </a:lnTo>
                  <a:lnTo>
                    <a:pt x="1778" y="2312"/>
                  </a:lnTo>
                  <a:lnTo>
                    <a:pt x="1732" y="2330"/>
                  </a:lnTo>
                  <a:lnTo>
                    <a:pt x="1685" y="2355"/>
                  </a:lnTo>
                  <a:lnTo>
                    <a:pt x="1639" y="2382"/>
                  </a:lnTo>
                  <a:lnTo>
                    <a:pt x="1587" y="2407"/>
                  </a:lnTo>
                  <a:lnTo>
                    <a:pt x="1538" y="2431"/>
                  </a:lnTo>
                  <a:lnTo>
                    <a:pt x="1486" y="2455"/>
                  </a:lnTo>
                  <a:lnTo>
                    <a:pt x="1434" y="2483"/>
                  </a:lnTo>
                  <a:lnTo>
                    <a:pt x="1385" y="2511"/>
                  </a:lnTo>
                  <a:lnTo>
                    <a:pt x="1335" y="2538"/>
                  </a:lnTo>
                  <a:lnTo>
                    <a:pt x="1287" y="2565"/>
                  </a:lnTo>
                  <a:lnTo>
                    <a:pt x="1240" y="2596"/>
                  </a:lnTo>
                  <a:lnTo>
                    <a:pt x="1196" y="2628"/>
                  </a:lnTo>
                  <a:lnTo>
                    <a:pt x="1153" y="2664"/>
                  </a:lnTo>
                  <a:lnTo>
                    <a:pt x="1112" y="2699"/>
                  </a:lnTo>
                  <a:lnTo>
                    <a:pt x="1077" y="2737"/>
                  </a:lnTo>
                  <a:lnTo>
                    <a:pt x="1043" y="2781"/>
                  </a:lnTo>
                  <a:lnTo>
                    <a:pt x="1013" y="2827"/>
                  </a:lnTo>
                  <a:lnTo>
                    <a:pt x="986" y="2876"/>
                  </a:lnTo>
                  <a:lnTo>
                    <a:pt x="964" y="2928"/>
                  </a:lnTo>
                  <a:lnTo>
                    <a:pt x="924" y="2902"/>
                  </a:lnTo>
                  <a:lnTo>
                    <a:pt x="882" y="2871"/>
                  </a:lnTo>
                  <a:lnTo>
                    <a:pt x="842" y="2838"/>
                  </a:lnTo>
                  <a:lnTo>
                    <a:pt x="803" y="2805"/>
                  </a:lnTo>
                  <a:lnTo>
                    <a:pt x="765" y="2770"/>
                  </a:lnTo>
                  <a:lnTo>
                    <a:pt x="727" y="2735"/>
                  </a:lnTo>
                  <a:lnTo>
                    <a:pt x="689" y="2696"/>
                  </a:lnTo>
                  <a:lnTo>
                    <a:pt x="650" y="2658"/>
                  </a:lnTo>
                  <a:lnTo>
                    <a:pt x="612" y="2620"/>
                  </a:lnTo>
                  <a:lnTo>
                    <a:pt x="571" y="2582"/>
                  </a:lnTo>
                  <a:lnTo>
                    <a:pt x="533" y="2541"/>
                  </a:lnTo>
                  <a:lnTo>
                    <a:pt x="495" y="2503"/>
                  </a:lnTo>
                  <a:lnTo>
                    <a:pt x="453" y="2461"/>
                  </a:lnTo>
                  <a:lnTo>
                    <a:pt x="413" y="2423"/>
                  </a:lnTo>
                  <a:lnTo>
                    <a:pt x="372" y="2388"/>
                  </a:lnTo>
                  <a:lnTo>
                    <a:pt x="328" y="2350"/>
                  </a:lnTo>
                  <a:lnTo>
                    <a:pt x="284" y="2290"/>
                  </a:lnTo>
                  <a:lnTo>
                    <a:pt x="235" y="2232"/>
                  </a:lnTo>
                  <a:lnTo>
                    <a:pt x="183" y="2175"/>
                  </a:lnTo>
                  <a:lnTo>
                    <a:pt x="131" y="2120"/>
                  </a:lnTo>
                  <a:lnTo>
                    <a:pt x="85" y="2062"/>
                  </a:lnTo>
                  <a:lnTo>
                    <a:pt x="46" y="2006"/>
                  </a:lnTo>
                  <a:lnTo>
                    <a:pt x="16" y="1945"/>
                  </a:lnTo>
                  <a:lnTo>
                    <a:pt x="0" y="1879"/>
                  </a:lnTo>
                  <a:lnTo>
                    <a:pt x="257" y="1631"/>
                  </a:lnTo>
                  <a:lnTo>
                    <a:pt x="276" y="1565"/>
                  </a:lnTo>
                  <a:lnTo>
                    <a:pt x="205" y="1489"/>
                  </a:lnTo>
                  <a:lnTo>
                    <a:pt x="153" y="1404"/>
                  </a:lnTo>
                  <a:lnTo>
                    <a:pt x="118" y="1311"/>
                  </a:lnTo>
                  <a:lnTo>
                    <a:pt x="96" y="1210"/>
                  </a:lnTo>
                  <a:lnTo>
                    <a:pt x="85" y="1107"/>
                  </a:lnTo>
                  <a:lnTo>
                    <a:pt x="85" y="997"/>
                  </a:lnTo>
                  <a:lnTo>
                    <a:pt x="90" y="888"/>
                  </a:lnTo>
                  <a:lnTo>
                    <a:pt x="104" y="782"/>
                  </a:lnTo>
                  <a:lnTo>
                    <a:pt x="115" y="763"/>
                  </a:lnTo>
                  <a:lnTo>
                    <a:pt x="131" y="741"/>
                  </a:lnTo>
                  <a:lnTo>
                    <a:pt x="153" y="721"/>
                  </a:lnTo>
                  <a:lnTo>
                    <a:pt x="183" y="711"/>
                  </a:lnTo>
                  <a:lnTo>
                    <a:pt x="225" y="703"/>
                  </a:lnTo>
                  <a:lnTo>
                    <a:pt x="265" y="697"/>
                  </a:lnTo>
                  <a:lnTo>
                    <a:pt x="309" y="695"/>
                  </a:lnTo>
                  <a:lnTo>
                    <a:pt x="352" y="697"/>
                  </a:lnTo>
                  <a:lnTo>
                    <a:pt x="394" y="703"/>
                  </a:lnTo>
                  <a:lnTo>
                    <a:pt x="435" y="713"/>
                  </a:lnTo>
                  <a:lnTo>
                    <a:pt x="475" y="727"/>
                  </a:lnTo>
                  <a:lnTo>
                    <a:pt x="511" y="743"/>
                  </a:lnTo>
                  <a:lnTo>
                    <a:pt x="612" y="965"/>
                  </a:lnTo>
                  <a:lnTo>
                    <a:pt x="640" y="995"/>
                  </a:lnTo>
                  <a:lnTo>
                    <a:pt x="675" y="1019"/>
                  </a:lnTo>
                  <a:lnTo>
                    <a:pt x="713" y="1035"/>
                  </a:lnTo>
                  <a:lnTo>
                    <a:pt x="759" y="1047"/>
                  </a:lnTo>
                  <a:lnTo>
                    <a:pt x="806" y="1052"/>
                  </a:lnTo>
                  <a:lnTo>
                    <a:pt x="855" y="1052"/>
                  </a:lnTo>
                  <a:lnTo>
                    <a:pt x="902" y="1049"/>
                  </a:lnTo>
                  <a:lnTo>
                    <a:pt x="946" y="1044"/>
                  </a:lnTo>
                  <a:lnTo>
                    <a:pt x="997" y="995"/>
                  </a:lnTo>
                  <a:lnTo>
                    <a:pt x="1035" y="932"/>
                  </a:lnTo>
                  <a:lnTo>
                    <a:pt x="1069" y="864"/>
                  </a:lnTo>
                  <a:lnTo>
                    <a:pt x="1095" y="787"/>
                  </a:lnTo>
                  <a:lnTo>
                    <a:pt x="1120" y="711"/>
                  </a:lnTo>
                  <a:lnTo>
                    <a:pt x="1148" y="637"/>
                  </a:lnTo>
                  <a:lnTo>
                    <a:pt x="1178" y="564"/>
                  </a:lnTo>
                  <a:lnTo>
                    <a:pt x="1218" y="498"/>
                  </a:lnTo>
                  <a:lnTo>
                    <a:pt x="1289" y="479"/>
                  </a:lnTo>
                  <a:lnTo>
                    <a:pt x="1361" y="455"/>
                  </a:lnTo>
                  <a:lnTo>
                    <a:pt x="1426" y="427"/>
                  </a:lnTo>
                  <a:lnTo>
                    <a:pt x="1492" y="399"/>
                  </a:lnTo>
                  <a:lnTo>
                    <a:pt x="1554" y="369"/>
                  </a:lnTo>
                  <a:lnTo>
                    <a:pt x="1617" y="336"/>
                  </a:lnTo>
                  <a:lnTo>
                    <a:pt x="1680" y="304"/>
                  </a:lnTo>
                  <a:lnTo>
                    <a:pt x="1740" y="271"/>
                  </a:lnTo>
                  <a:lnTo>
                    <a:pt x="1803" y="238"/>
                  </a:lnTo>
                  <a:lnTo>
                    <a:pt x="1866" y="208"/>
                  </a:lnTo>
                  <a:lnTo>
                    <a:pt x="1931" y="179"/>
                  </a:lnTo>
                  <a:lnTo>
                    <a:pt x="1997" y="151"/>
                  </a:lnTo>
                  <a:lnTo>
                    <a:pt x="2068" y="123"/>
                  </a:lnTo>
                  <a:lnTo>
                    <a:pt x="2139" y="101"/>
                  </a:lnTo>
                  <a:lnTo>
                    <a:pt x="2213" y="83"/>
                  </a:lnTo>
                  <a:lnTo>
                    <a:pt x="2292" y="66"/>
                  </a:lnTo>
                  <a:lnTo>
                    <a:pt x="2314" y="56"/>
                  </a:lnTo>
                  <a:lnTo>
                    <a:pt x="2336" y="44"/>
                  </a:lnTo>
                  <a:lnTo>
                    <a:pt x="2354" y="36"/>
                  </a:lnTo>
                  <a:lnTo>
                    <a:pt x="2374" y="28"/>
                  </a:lnTo>
                  <a:lnTo>
                    <a:pt x="2393" y="20"/>
                  </a:lnTo>
                  <a:lnTo>
                    <a:pt x="2412" y="14"/>
                  </a:lnTo>
                  <a:lnTo>
                    <a:pt x="2428" y="6"/>
                  </a:lnTo>
                  <a:lnTo>
                    <a:pt x="2445" y="0"/>
                  </a:lnTo>
                  <a:lnTo>
                    <a:pt x="2472" y="47"/>
                  </a:lnTo>
                  <a:lnTo>
                    <a:pt x="2499" y="113"/>
                  </a:lnTo>
                  <a:lnTo>
                    <a:pt x="2521" y="187"/>
                  </a:lnTo>
                  <a:lnTo>
                    <a:pt x="2537" y="266"/>
                  </a:lnTo>
                  <a:lnTo>
                    <a:pt x="2549" y="342"/>
                  </a:lnTo>
                  <a:lnTo>
                    <a:pt x="2554" y="407"/>
                  </a:lnTo>
                  <a:lnTo>
                    <a:pt x="2551" y="459"/>
                  </a:lnTo>
                  <a:lnTo>
                    <a:pt x="2541" y="489"/>
                  </a:lnTo>
                  <a:close/>
                </a:path>
              </a:pathLst>
            </a:custGeom>
            <a:solidFill>
              <a:srgbClr val="fac5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703520" y="4027320"/>
              <a:ext cx="101520" cy="65160"/>
            </a:xfrm>
            <a:custGeom>
              <a:avLst/>
              <a:gdLst/>
              <a:ahLst/>
              <a:rect l="l" t="t" r="r" b="b"/>
              <a:pathLst>
                <a:path w="322" h="205">
                  <a:moveTo>
                    <a:pt x="322" y="0"/>
                  </a:moveTo>
                  <a:lnTo>
                    <a:pt x="284" y="14"/>
                  </a:lnTo>
                  <a:lnTo>
                    <a:pt x="240" y="30"/>
                  </a:lnTo>
                  <a:lnTo>
                    <a:pt x="194" y="50"/>
                  </a:lnTo>
                  <a:lnTo>
                    <a:pt x="150" y="68"/>
                  </a:lnTo>
                  <a:lnTo>
                    <a:pt x="107" y="88"/>
                  </a:lnTo>
                  <a:lnTo>
                    <a:pt x="65" y="109"/>
                  </a:lnTo>
                  <a:lnTo>
                    <a:pt x="30" y="134"/>
                  </a:lnTo>
                  <a:lnTo>
                    <a:pt x="0" y="159"/>
                  </a:lnTo>
                  <a:lnTo>
                    <a:pt x="30" y="159"/>
                  </a:lnTo>
                  <a:lnTo>
                    <a:pt x="60" y="161"/>
                  </a:lnTo>
                  <a:lnTo>
                    <a:pt x="87" y="165"/>
                  </a:lnTo>
                  <a:lnTo>
                    <a:pt x="115" y="169"/>
                  </a:lnTo>
                  <a:lnTo>
                    <a:pt x="141" y="175"/>
                  </a:lnTo>
                  <a:lnTo>
                    <a:pt x="167" y="183"/>
                  </a:lnTo>
                  <a:lnTo>
                    <a:pt x="194" y="194"/>
                  </a:lnTo>
                  <a:lnTo>
                    <a:pt x="218" y="205"/>
                  </a:lnTo>
                  <a:lnTo>
                    <a:pt x="232" y="189"/>
                  </a:lnTo>
                  <a:lnTo>
                    <a:pt x="232" y="60"/>
                  </a:lnTo>
                  <a:lnTo>
                    <a:pt x="238" y="55"/>
                  </a:lnTo>
                  <a:lnTo>
                    <a:pt x="246" y="50"/>
                  </a:lnTo>
                  <a:lnTo>
                    <a:pt x="256" y="44"/>
                  </a:lnTo>
                  <a:lnTo>
                    <a:pt x="268" y="36"/>
                  </a:lnTo>
                  <a:lnTo>
                    <a:pt x="278" y="28"/>
                  </a:lnTo>
                  <a:lnTo>
                    <a:pt x="292" y="20"/>
                  </a:lnTo>
                  <a:lnTo>
                    <a:pt x="306" y="12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966600" y="4438440"/>
              <a:ext cx="460440" cy="552600"/>
            </a:xfrm>
            <a:custGeom>
              <a:avLst/>
              <a:gdLst/>
              <a:ahLst/>
              <a:rect l="l" t="t" r="r" b="b"/>
              <a:pathLst>
                <a:path w="1450" h="1742">
                  <a:moveTo>
                    <a:pt x="1450" y="1470"/>
                  </a:moveTo>
                  <a:lnTo>
                    <a:pt x="1448" y="1305"/>
                  </a:lnTo>
                  <a:lnTo>
                    <a:pt x="240" y="68"/>
                  </a:lnTo>
                  <a:lnTo>
                    <a:pt x="238" y="0"/>
                  </a:lnTo>
                  <a:lnTo>
                    <a:pt x="199" y="6"/>
                  </a:lnTo>
                  <a:lnTo>
                    <a:pt x="161" y="24"/>
                  </a:lnTo>
                  <a:lnTo>
                    <a:pt x="123" y="49"/>
                  </a:lnTo>
                  <a:lnTo>
                    <a:pt x="87" y="82"/>
                  </a:lnTo>
                  <a:lnTo>
                    <a:pt x="54" y="115"/>
                  </a:lnTo>
                  <a:lnTo>
                    <a:pt x="30" y="149"/>
                  </a:lnTo>
                  <a:lnTo>
                    <a:pt x="10" y="183"/>
                  </a:lnTo>
                  <a:lnTo>
                    <a:pt x="0" y="213"/>
                  </a:lnTo>
                  <a:lnTo>
                    <a:pt x="2" y="248"/>
                  </a:lnTo>
                  <a:lnTo>
                    <a:pt x="8" y="308"/>
                  </a:lnTo>
                  <a:lnTo>
                    <a:pt x="22" y="387"/>
                  </a:lnTo>
                  <a:lnTo>
                    <a:pt x="38" y="486"/>
                  </a:lnTo>
                  <a:lnTo>
                    <a:pt x="60" y="598"/>
                  </a:lnTo>
                  <a:lnTo>
                    <a:pt x="87" y="721"/>
                  </a:lnTo>
                  <a:lnTo>
                    <a:pt x="119" y="852"/>
                  </a:lnTo>
                  <a:lnTo>
                    <a:pt x="159" y="985"/>
                  </a:lnTo>
                  <a:lnTo>
                    <a:pt x="197" y="1117"/>
                  </a:lnTo>
                  <a:lnTo>
                    <a:pt x="242" y="1248"/>
                  </a:lnTo>
                  <a:lnTo>
                    <a:pt x="290" y="1368"/>
                  </a:lnTo>
                  <a:lnTo>
                    <a:pt x="341" y="1480"/>
                  </a:lnTo>
                  <a:lnTo>
                    <a:pt x="395" y="1575"/>
                  </a:lnTo>
                  <a:lnTo>
                    <a:pt x="453" y="1655"/>
                  </a:lnTo>
                  <a:lnTo>
                    <a:pt x="513" y="1710"/>
                  </a:lnTo>
                  <a:lnTo>
                    <a:pt x="576" y="1742"/>
                  </a:lnTo>
                  <a:lnTo>
                    <a:pt x="1226" y="1305"/>
                  </a:lnTo>
                  <a:lnTo>
                    <a:pt x="1319" y="1317"/>
                  </a:lnTo>
                  <a:lnTo>
                    <a:pt x="1450" y="14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3200400" y="3352680"/>
            <a:ext cx="1330200" cy="1846080"/>
            <a:chOff x="3200400" y="3352680"/>
            <a:chExt cx="1330200" cy="1846080"/>
          </a:xfrm>
        </p:grpSpPr>
        <p:sp>
          <p:nvSpPr>
            <p:cNvPr id="3119" name=""/>
            <p:cNvSpPr/>
            <p:nvPr/>
          </p:nvSpPr>
          <p:spPr>
            <a:xfrm>
              <a:off x="3200400" y="3352680"/>
              <a:ext cx="1330200" cy="18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062240" y="3876480"/>
              <a:ext cx="345600" cy="563400"/>
            </a:xfrm>
            <a:custGeom>
              <a:avLst/>
              <a:gdLst/>
              <a:ahLst/>
              <a:rect l="l" t="t" r="r" b="b"/>
              <a:pathLst>
                <a:path w="870" h="1418">
                  <a:moveTo>
                    <a:pt x="643" y="0"/>
                  </a:moveTo>
                  <a:lnTo>
                    <a:pt x="645" y="0"/>
                  </a:lnTo>
                  <a:lnTo>
                    <a:pt x="646" y="0"/>
                  </a:lnTo>
                  <a:lnTo>
                    <a:pt x="649" y="1"/>
                  </a:lnTo>
                  <a:lnTo>
                    <a:pt x="650" y="1"/>
                  </a:lnTo>
                  <a:lnTo>
                    <a:pt x="640" y="48"/>
                  </a:lnTo>
                  <a:lnTo>
                    <a:pt x="638" y="94"/>
                  </a:lnTo>
                  <a:lnTo>
                    <a:pt x="645" y="139"/>
                  </a:lnTo>
                  <a:lnTo>
                    <a:pt x="657" y="183"/>
                  </a:lnTo>
                  <a:lnTo>
                    <a:pt x="673" y="226"/>
                  </a:lnTo>
                  <a:lnTo>
                    <a:pt x="692" y="269"/>
                  </a:lnTo>
                  <a:lnTo>
                    <a:pt x="713" y="310"/>
                  </a:lnTo>
                  <a:lnTo>
                    <a:pt x="734" y="349"/>
                  </a:lnTo>
                  <a:lnTo>
                    <a:pt x="747" y="370"/>
                  </a:lnTo>
                  <a:lnTo>
                    <a:pt x="761" y="386"/>
                  </a:lnTo>
                  <a:lnTo>
                    <a:pt x="773" y="399"/>
                  </a:lnTo>
                  <a:lnTo>
                    <a:pt x="789" y="412"/>
                  </a:lnTo>
                  <a:lnTo>
                    <a:pt x="802" y="426"/>
                  </a:lnTo>
                  <a:lnTo>
                    <a:pt x="817" y="437"/>
                  </a:lnTo>
                  <a:lnTo>
                    <a:pt x="831" y="449"/>
                  </a:lnTo>
                  <a:lnTo>
                    <a:pt x="845" y="460"/>
                  </a:lnTo>
                  <a:lnTo>
                    <a:pt x="859" y="472"/>
                  </a:lnTo>
                  <a:lnTo>
                    <a:pt x="867" y="486"/>
                  </a:lnTo>
                  <a:lnTo>
                    <a:pt x="870" y="502"/>
                  </a:lnTo>
                  <a:lnTo>
                    <a:pt x="869" y="518"/>
                  </a:lnTo>
                  <a:lnTo>
                    <a:pt x="864" y="531"/>
                  </a:lnTo>
                  <a:lnTo>
                    <a:pt x="856" y="544"/>
                  </a:lnTo>
                  <a:lnTo>
                    <a:pt x="846" y="552"/>
                  </a:lnTo>
                  <a:lnTo>
                    <a:pt x="834" y="556"/>
                  </a:lnTo>
                  <a:lnTo>
                    <a:pt x="820" y="565"/>
                  </a:lnTo>
                  <a:lnTo>
                    <a:pt x="804" y="572"/>
                  </a:lnTo>
                  <a:lnTo>
                    <a:pt x="790" y="582"/>
                  </a:lnTo>
                  <a:lnTo>
                    <a:pt x="775" y="593"/>
                  </a:lnTo>
                  <a:lnTo>
                    <a:pt x="762" y="605"/>
                  </a:lnTo>
                  <a:lnTo>
                    <a:pt x="752" y="621"/>
                  </a:lnTo>
                  <a:lnTo>
                    <a:pt x="744" y="639"/>
                  </a:lnTo>
                  <a:lnTo>
                    <a:pt x="740" y="660"/>
                  </a:lnTo>
                  <a:lnTo>
                    <a:pt x="740" y="684"/>
                  </a:lnTo>
                  <a:lnTo>
                    <a:pt x="743" y="705"/>
                  </a:lnTo>
                  <a:lnTo>
                    <a:pt x="745" y="724"/>
                  </a:lnTo>
                  <a:lnTo>
                    <a:pt x="752" y="746"/>
                  </a:lnTo>
                  <a:lnTo>
                    <a:pt x="745" y="777"/>
                  </a:lnTo>
                  <a:lnTo>
                    <a:pt x="734" y="795"/>
                  </a:lnTo>
                  <a:lnTo>
                    <a:pt x="719" y="809"/>
                  </a:lnTo>
                  <a:lnTo>
                    <a:pt x="706" y="824"/>
                  </a:lnTo>
                  <a:lnTo>
                    <a:pt x="712" y="833"/>
                  </a:lnTo>
                  <a:lnTo>
                    <a:pt x="720" y="842"/>
                  </a:lnTo>
                  <a:lnTo>
                    <a:pt x="726" y="852"/>
                  </a:lnTo>
                  <a:lnTo>
                    <a:pt x="726" y="868"/>
                  </a:lnTo>
                  <a:lnTo>
                    <a:pt x="712" y="905"/>
                  </a:lnTo>
                  <a:lnTo>
                    <a:pt x="708" y="952"/>
                  </a:lnTo>
                  <a:lnTo>
                    <a:pt x="708" y="1001"/>
                  </a:lnTo>
                  <a:lnTo>
                    <a:pt x="712" y="1054"/>
                  </a:lnTo>
                  <a:lnTo>
                    <a:pt x="716" y="1109"/>
                  </a:lnTo>
                  <a:lnTo>
                    <a:pt x="717" y="1163"/>
                  </a:lnTo>
                  <a:lnTo>
                    <a:pt x="712" y="1214"/>
                  </a:lnTo>
                  <a:lnTo>
                    <a:pt x="699" y="1264"/>
                  </a:lnTo>
                  <a:lnTo>
                    <a:pt x="681" y="1287"/>
                  </a:lnTo>
                  <a:lnTo>
                    <a:pt x="657" y="1303"/>
                  </a:lnTo>
                  <a:lnTo>
                    <a:pt x="628" y="1315"/>
                  </a:lnTo>
                  <a:lnTo>
                    <a:pt x="597" y="1323"/>
                  </a:lnTo>
                  <a:lnTo>
                    <a:pt x="563" y="1330"/>
                  </a:lnTo>
                  <a:lnTo>
                    <a:pt x="531" y="1333"/>
                  </a:lnTo>
                  <a:lnTo>
                    <a:pt x="498" y="1336"/>
                  </a:lnTo>
                  <a:lnTo>
                    <a:pt x="468" y="1340"/>
                  </a:lnTo>
                  <a:lnTo>
                    <a:pt x="441" y="1334"/>
                  </a:lnTo>
                  <a:lnTo>
                    <a:pt x="413" y="1331"/>
                  </a:lnTo>
                  <a:lnTo>
                    <a:pt x="384" y="1330"/>
                  </a:lnTo>
                  <a:lnTo>
                    <a:pt x="354" y="1327"/>
                  </a:lnTo>
                  <a:lnTo>
                    <a:pt x="325" y="1330"/>
                  </a:lnTo>
                  <a:lnTo>
                    <a:pt x="295" y="1331"/>
                  </a:lnTo>
                  <a:lnTo>
                    <a:pt x="265" y="1334"/>
                  </a:lnTo>
                  <a:lnTo>
                    <a:pt x="234" y="1338"/>
                  </a:lnTo>
                  <a:lnTo>
                    <a:pt x="204" y="1344"/>
                  </a:lnTo>
                  <a:lnTo>
                    <a:pt x="175" y="1351"/>
                  </a:lnTo>
                  <a:lnTo>
                    <a:pt x="147" y="1359"/>
                  </a:lnTo>
                  <a:lnTo>
                    <a:pt x="119" y="1368"/>
                  </a:lnTo>
                  <a:lnTo>
                    <a:pt x="91" y="1379"/>
                  </a:lnTo>
                  <a:lnTo>
                    <a:pt x="66" y="1390"/>
                  </a:lnTo>
                  <a:lnTo>
                    <a:pt x="41" y="1404"/>
                  </a:lnTo>
                  <a:lnTo>
                    <a:pt x="18" y="1418"/>
                  </a:lnTo>
                  <a:lnTo>
                    <a:pt x="7" y="1390"/>
                  </a:lnTo>
                  <a:lnTo>
                    <a:pt x="0" y="1353"/>
                  </a:lnTo>
                  <a:lnTo>
                    <a:pt x="0" y="1310"/>
                  </a:lnTo>
                  <a:lnTo>
                    <a:pt x="7" y="1264"/>
                  </a:lnTo>
                  <a:lnTo>
                    <a:pt x="14" y="1215"/>
                  </a:lnTo>
                  <a:lnTo>
                    <a:pt x="28" y="1172"/>
                  </a:lnTo>
                  <a:lnTo>
                    <a:pt x="42" y="1128"/>
                  </a:lnTo>
                  <a:lnTo>
                    <a:pt x="59" y="1092"/>
                  </a:lnTo>
                  <a:lnTo>
                    <a:pt x="73" y="1075"/>
                  </a:lnTo>
                  <a:lnTo>
                    <a:pt x="82" y="1064"/>
                  </a:lnTo>
                  <a:lnTo>
                    <a:pt x="88" y="1055"/>
                  </a:lnTo>
                  <a:lnTo>
                    <a:pt x="94" y="1044"/>
                  </a:lnTo>
                  <a:lnTo>
                    <a:pt x="69" y="977"/>
                  </a:lnTo>
                  <a:lnTo>
                    <a:pt x="59" y="908"/>
                  </a:lnTo>
                  <a:lnTo>
                    <a:pt x="60" y="840"/>
                  </a:lnTo>
                  <a:lnTo>
                    <a:pt x="76" y="768"/>
                  </a:lnTo>
                  <a:lnTo>
                    <a:pt x="113" y="743"/>
                  </a:lnTo>
                  <a:lnTo>
                    <a:pt x="92" y="678"/>
                  </a:lnTo>
                  <a:lnTo>
                    <a:pt x="85" y="614"/>
                  </a:lnTo>
                  <a:lnTo>
                    <a:pt x="91" y="548"/>
                  </a:lnTo>
                  <a:lnTo>
                    <a:pt x="104" y="483"/>
                  </a:lnTo>
                  <a:lnTo>
                    <a:pt x="120" y="418"/>
                  </a:lnTo>
                  <a:lnTo>
                    <a:pt x="140" y="352"/>
                  </a:lnTo>
                  <a:lnTo>
                    <a:pt x="157" y="286"/>
                  </a:lnTo>
                  <a:lnTo>
                    <a:pt x="169" y="220"/>
                  </a:lnTo>
                  <a:lnTo>
                    <a:pt x="204" y="185"/>
                  </a:lnTo>
                  <a:lnTo>
                    <a:pt x="234" y="185"/>
                  </a:lnTo>
                  <a:lnTo>
                    <a:pt x="260" y="181"/>
                  </a:lnTo>
                  <a:lnTo>
                    <a:pt x="286" y="175"/>
                  </a:lnTo>
                  <a:lnTo>
                    <a:pt x="310" y="165"/>
                  </a:lnTo>
                  <a:lnTo>
                    <a:pt x="333" y="153"/>
                  </a:lnTo>
                  <a:lnTo>
                    <a:pt x="354" y="139"/>
                  </a:lnTo>
                  <a:lnTo>
                    <a:pt x="376" y="123"/>
                  </a:lnTo>
                  <a:lnTo>
                    <a:pt x="398" y="109"/>
                  </a:lnTo>
                  <a:lnTo>
                    <a:pt x="419" y="94"/>
                  </a:lnTo>
                  <a:lnTo>
                    <a:pt x="440" y="80"/>
                  </a:lnTo>
                  <a:lnTo>
                    <a:pt x="461" y="64"/>
                  </a:lnTo>
                  <a:lnTo>
                    <a:pt x="483" y="52"/>
                  </a:lnTo>
                  <a:lnTo>
                    <a:pt x="506" y="41"/>
                  </a:lnTo>
                  <a:lnTo>
                    <a:pt x="531" y="31"/>
                  </a:lnTo>
                  <a:lnTo>
                    <a:pt x="556" y="27"/>
                  </a:lnTo>
                  <a:lnTo>
                    <a:pt x="584" y="25"/>
                  </a:lnTo>
                  <a:lnTo>
                    <a:pt x="594" y="21"/>
                  </a:lnTo>
                  <a:lnTo>
                    <a:pt x="601" y="18"/>
                  </a:lnTo>
                  <a:lnTo>
                    <a:pt x="610" y="13"/>
                  </a:lnTo>
                  <a:lnTo>
                    <a:pt x="617" y="10"/>
                  </a:lnTo>
                  <a:lnTo>
                    <a:pt x="623" y="7"/>
                  </a:lnTo>
                  <a:lnTo>
                    <a:pt x="628" y="3"/>
                  </a:lnTo>
                  <a:lnTo>
                    <a:pt x="635" y="0"/>
                  </a:lnTo>
                  <a:lnTo>
                    <a:pt x="643" y="0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200400" y="3352680"/>
              <a:ext cx="1263240" cy="1582560"/>
            </a:xfrm>
            <a:custGeom>
              <a:avLst/>
              <a:gdLst/>
              <a:ahLst/>
              <a:rect l="l" t="t" r="r" b="b"/>
              <a:pathLst>
                <a:path w="3185" h="3989">
                  <a:moveTo>
                    <a:pt x="2206" y="2768"/>
                  </a:moveTo>
                  <a:lnTo>
                    <a:pt x="2190" y="2719"/>
                  </a:lnTo>
                  <a:lnTo>
                    <a:pt x="2185" y="2670"/>
                  </a:lnTo>
                  <a:lnTo>
                    <a:pt x="2189" y="2620"/>
                  </a:lnTo>
                  <a:lnTo>
                    <a:pt x="2197" y="2572"/>
                  </a:lnTo>
                  <a:lnTo>
                    <a:pt x="2209" y="2527"/>
                  </a:lnTo>
                  <a:lnTo>
                    <a:pt x="2219" y="2487"/>
                  </a:lnTo>
                  <a:lnTo>
                    <a:pt x="2228" y="2450"/>
                  </a:lnTo>
                  <a:lnTo>
                    <a:pt x="2231" y="2421"/>
                  </a:lnTo>
                  <a:lnTo>
                    <a:pt x="2258" y="2428"/>
                  </a:lnTo>
                  <a:lnTo>
                    <a:pt x="2275" y="2431"/>
                  </a:lnTo>
                  <a:lnTo>
                    <a:pt x="2284" y="2428"/>
                  </a:lnTo>
                  <a:lnTo>
                    <a:pt x="2286" y="2421"/>
                  </a:lnTo>
                  <a:lnTo>
                    <a:pt x="2284" y="2411"/>
                  </a:lnTo>
                  <a:lnTo>
                    <a:pt x="2280" y="2400"/>
                  </a:lnTo>
                  <a:lnTo>
                    <a:pt x="2273" y="2387"/>
                  </a:lnTo>
                  <a:lnTo>
                    <a:pt x="2266" y="2375"/>
                  </a:lnTo>
                  <a:lnTo>
                    <a:pt x="2241" y="2307"/>
                  </a:lnTo>
                  <a:lnTo>
                    <a:pt x="2231" y="2239"/>
                  </a:lnTo>
                  <a:lnTo>
                    <a:pt x="2234" y="2170"/>
                  </a:lnTo>
                  <a:lnTo>
                    <a:pt x="2248" y="2099"/>
                  </a:lnTo>
                  <a:lnTo>
                    <a:pt x="2284" y="2065"/>
                  </a:lnTo>
                  <a:lnTo>
                    <a:pt x="2263" y="2000"/>
                  </a:lnTo>
                  <a:lnTo>
                    <a:pt x="2258" y="1936"/>
                  </a:lnTo>
                  <a:lnTo>
                    <a:pt x="2262" y="1873"/>
                  </a:lnTo>
                  <a:lnTo>
                    <a:pt x="2275" y="1808"/>
                  </a:lnTo>
                  <a:lnTo>
                    <a:pt x="2293" y="1744"/>
                  </a:lnTo>
                  <a:lnTo>
                    <a:pt x="2312" y="1680"/>
                  </a:lnTo>
                  <a:lnTo>
                    <a:pt x="2329" y="1615"/>
                  </a:lnTo>
                  <a:lnTo>
                    <a:pt x="2342" y="1549"/>
                  </a:lnTo>
                  <a:lnTo>
                    <a:pt x="2377" y="1515"/>
                  </a:lnTo>
                  <a:lnTo>
                    <a:pt x="2406" y="1515"/>
                  </a:lnTo>
                  <a:lnTo>
                    <a:pt x="2433" y="1511"/>
                  </a:lnTo>
                  <a:lnTo>
                    <a:pt x="2458" y="1505"/>
                  </a:lnTo>
                  <a:lnTo>
                    <a:pt x="2482" y="1496"/>
                  </a:lnTo>
                  <a:lnTo>
                    <a:pt x="2506" y="1483"/>
                  </a:lnTo>
                  <a:lnTo>
                    <a:pt x="2527" y="1469"/>
                  </a:lnTo>
                  <a:lnTo>
                    <a:pt x="2548" y="1454"/>
                  </a:lnTo>
                  <a:lnTo>
                    <a:pt x="2570" y="1440"/>
                  </a:lnTo>
                  <a:lnTo>
                    <a:pt x="2591" y="1424"/>
                  </a:lnTo>
                  <a:lnTo>
                    <a:pt x="2612" y="1409"/>
                  </a:lnTo>
                  <a:lnTo>
                    <a:pt x="2635" y="1395"/>
                  </a:lnTo>
                  <a:lnTo>
                    <a:pt x="2656" y="1381"/>
                  </a:lnTo>
                  <a:lnTo>
                    <a:pt x="2678" y="1371"/>
                  </a:lnTo>
                  <a:lnTo>
                    <a:pt x="2703" y="1361"/>
                  </a:lnTo>
                  <a:lnTo>
                    <a:pt x="2729" y="1357"/>
                  </a:lnTo>
                  <a:lnTo>
                    <a:pt x="2757" y="1354"/>
                  </a:lnTo>
                  <a:lnTo>
                    <a:pt x="2769" y="1349"/>
                  </a:lnTo>
                  <a:lnTo>
                    <a:pt x="2781" y="1342"/>
                  </a:lnTo>
                  <a:lnTo>
                    <a:pt x="2794" y="1335"/>
                  </a:lnTo>
                  <a:lnTo>
                    <a:pt x="2806" y="1329"/>
                  </a:lnTo>
                  <a:lnTo>
                    <a:pt x="2820" y="1322"/>
                  </a:lnTo>
                  <a:lnTo>
                    <a:pt x="2831" y="1315"/>
                  </a:lnTo>
                  <a:lnTo>
                    <a:pt x="2844" y="1309"/>
                  </a:lnTo>
                  <a:lnTo>
                    <a:pt x="2855" y="1302"/>
                  </a:lnTo>
                  <a:lnTo>
                    <a:pt x="2870" y="1297"/>
                  </a:lnTo>
                  <a:lnTo>
                    <a:pt x="2883" y="1294"/>
                  </a:lnTo>
                  <a:lnTo>
                    <a:pt x="2898" y="1291"/>
                  </a:lnTo>
                  <a:lnTo>
                    <a:pt x="2911" y="1289"/>
                  </a:lnTo>
                  <a:lnTo>
                    <a:pt x="2925" y="1284"/>
                  </a:lnTo>
                  <a:lnTo>
                    <a:pt x="2939" y="1277"/>
                  </a:lnTo>
                  <a:lnTo>
                    <a:pt x="2953" y="1266"/>
                  </a:lnTo>
                  <a:lnTo>
                    <a:pt x="2967" y="1249"/>
                  </a:lnTo>
                  <a:lnTo>
                    <a:pt x="2977" y="1246"/>
                  </a:lnTo>
                  <a:lnTo>
                    <a:pt x="2988" y="1246"/>
                  </a:lnTo>
                  <a:lnTo>
                    <a:pt x="2995" y="1253"/>
                  </a:lnTo>
                  <a:lnTo>
                    <a:pt x="3001" y="1264"/>
                  </a:lnTo>
                  <a:lnTo>
                    <a:pt x="3012" y="1263"/>
                  </a:lnTo>
                  <a:lnTo>
                    <a:pt x="3023" y="1259"/>
                  </a:lnTo>
                  <a:lnTo>
                    <a:pt x="3033" y="1255"/>
                  </a:lnTo>
                  <a:lnTo>
                    <a:pt x="3041" y="1248"/>
                  </a:lnTo>
                  <a:lnTo>
                    <a:pt x="3051" y="1241"/>
                  </a:lnTo>
                  <a:lnTo>
                    <a:pt x="3060" y="1232"/>
                  </a:lnTo>
                  <a:lnTo>
                    <a:pt x="3068" y="1227"/>
                  </a:lnTo>
                  <a:lnTo>
                    <a:pt x="3078" y="1220"/>
                  </a:lnTo>
                  <a:lnTo>
                    <a:pt x="3092" y="1218"/>
                  </a:lnTo>
                  <a:lnTo>
                    <a:pt x="3103" y="1218"/>
                  </a:lnTo>
                  <a:lnTo>
                    <a:pt x="3113" y="1220"/>
                  </a:lnTo>
                  <a:lnTo>
                    <a:pt x="3123" y="1223"/>
                  </a:lnTo>
                  <a:lnTo>
                    <a:pt x="3132" y="1227"/>
                  </a:lnTo>
                  <a:lnTo>
                    <a:pt x="3141" y="1230"/>
                  </a:lnTo>
                  <a:lnTo>
                    <a:pt x="3151" y="1232"/>
                  </a:lnTo>
                  <a:lnTo>
                    <a:pt x="3160" y="1236"/>
                  </a:lnTo>
                  <a:lnTo>
                    <a:pt x="3159" y="1199"/>
                  </a:lnTo>
                  <a:lnTo>
                    <a:pt x="3152" y="1169"/>
                  </a:lnTo>
                  <a:lnTo>
                    <a:pt x="3144" y="1144"/>
                  </a:lnTo>
                  <a:lnTo>
                    <a:pt x="3134" y="1120"/>
                  </a:lnTo>
                  <a:lnTo>
                    <a:pt x="3128" y="1098"/>
                  </a:lnTo>
                  <a:lnTo>
                    <a:pt x="3125" y="1071"/>
                  </a:lnTo>
                  <a:lnTo>
                    <a:pt x="3131" y="1040"/>
                  </a:lnTo>
                  <a:lnTo>
                    <a:pt x="3148" y="1000"/>
                  </a:lnTo>
                  <a:lnTo>
                    <a:pt x="3167" y="969"/>
                  </a:lnTo>
                  <a:lnTo>
                    <a:pt x="3179" y="931"/>
                  </a:lnTo>
                  <a:lnTo>
                    <a:pt x="3185" y="890"/>
                  </a:lnTo>
                  <a:lnTo>
                    <a:pt x="3184" y="847"/>
                  </a:lnTo>
                  <a:lnTo>
                    <a:pt x="3174" y="804"/>
                  </a:lnTo>
                  <a:lnTo>
                    <a:pt x="3160" y="764"/>
                  </a:lnTo>
                  <a:lnTo>
                    <a:pt x="3144" y="728"/>
                  </a:lnTo>
                  <a:lnTo>
                    <a:pt x="3124" y="691"/>
                  </a:lnTo>
                  <a:lnTo>
                    <a:pt x="3103" y="659"/>
                  </a:lnTo>
                  <a:lnTo>
                    <a:pt x="3078" y="627"/>
                  </a:lnTo>
                  <a:lnTo>
                    <a:pt x="3050" y="597"/>
                  </a:lnTo>
                  <a:lnTo>
                    <a:pt x="3022" y="568"/>
                  </a:lnTo>
                  <a:lnTo>
                    <a:pt x="2991" y="541"/>
                  </a:lnTo>
                  <a:lnTo>
                    <a:pt x="2960" y="517"/>
                  </a:lnTo>
                  <a:lnTo>
                    <a:pt x="2926" y="494"/>
                  </a:lnTo>
                  <a:lnTo>
                    <a:pt x="2893" y="473"/>
                  </a:lnTo>
                  <a:lnTo>
                    <a:pt x="2859" y="450"/>
                  </a:lnTo>
                  <a:lnTo>
                    <a:pt x="2825" y="431"/>
                  </a:lnTo>
                  <a:lnTo>
                    <a:pt x="2793" y="413"/>
                  </a:lnTo>
                  <a:lnTo>
                    <a:pt x="2760" y="394"/>
                  </a:lnTo>
                  <a:lnTo>
                    <a:pt x="2753" y="387"/>
                  </a:lnTo>
                  <a:lnTo>
                    <a:pt x="2747" y="377"/>
                  </a:lnTo>
                  <a:lnTo>
                    <a:pt x="2741" y="369"/>
                  </a:lnTo>
                  <a:lnTo>
                    <a:pt x="2737" y="360"/>
                  </a:lnTo>
                  <a:lnTo>
                    <a:pt x="2725" y="351"/>
                  </a:lnTo>
                  <a:lnTo>
                    <a:pt x="2713" y="344"/>
                  </a:lnTo>
                  <a:lnTo>
                    <a:pt x="2699" y="338"/>
                  </a:lnTo>
                  <a:lnTo>
                    <a:pt x="2684" y="334"/>
                  </a:lnTo>
                  <a:lnTo>
                    <a:pt x="2667" y="331"/>
                  </a:lnTo>
                  <a:lnTo>
                    <a:pt x="2654" y="324"/>
                  </a:lnTo>
                  <a:lnTo>
                    <a:pt x="2643" y="317"/>
                  </a:lnTo>
                  <a:lnTo>
                    <a:pt x="2635" y="306"/>
                  </a:lnTo>
                  <a:lnTo>
                    <a:pt x="2677" y="281"/>
                  </a:lnTo>
                  <a:lnTo>
                    <a:pt x="2682" y="272"/>
                  </a:lnTo>
                  <a:lnTo>
                    <a:pt x="2682" y="264"/>
                  </a:lnTo>
                  <a:lnTo>
                    <a:pt x="2681" y="258"/>
                  </a:lnTo>
                  <a:lnTo>
                    <a:pt x="2677" y="251"/>
                  </a:lnTo>
                  <a:lnTo>
                    <a:pt x="2472" y="206"/>
                  </a:lnTo>
                  <a:lnTo>
                    <a:pt x="2291" y="0"/>
                  </a:lnTo>
                  <a:lnTo>
                    <a:pt x="2293" y="7"/>
                  </a:lnTo>
                  <a:lnTo>
                    <a:pt x="2300" y="23"/>
                  </a:lnTo>
                  <a:lnTo>
                    <a:pt x="2308" y="45"/>
                  </a:lnTo>
                  <a:lnTo>
                    <a:pt x="2318" y="72"/>
                  </a:lnTo>
                  <a:lnTo>
                    <a:pt x="2325" y="98"/>
                  </a:lnTo>
                  <a:lnTo>
                    <a:pt x="2334" y="121"/>
                  </a:lnTo>
                  <a:lnTo>
                    <a:pt x="2340" y="136"/>
                  </a:lnTo>
                  <a:lnTo>
                    <a:pt x="2342" y="142"/>
                  </a:lnTo>
                  <a:lnTo>
                    <a:pt x="2332" y="146"/>
                  </a:lnTo>
                  <a:lnTo>
                    <a:pt x="2319" y="143"/>
                  </a:lnTo>
                  <a:lnTo>
                    <a:pt x="2304" y="138"/>
                  </a:lnTo>
                  <a:lnTo>
                    <a:pt x="2290" y="131"/>
                  </a:lnTo>
                  <a:lnTo>
                    <a:pt x="2273" y="122"/>
                  </a:lnTo>
                  <a:lnTo>
                    <a:pt x="2258" y="114"/>
                  </a:lnTo>
                  <a:lnTo>
                    <a:pt x="2244" y="110"/>
                  </a:lnTo>
                  <a:lnTo>
                    <a:pt x="2231" y="110"/>
                  </a:lnTo>
                  <a:lnTo>
                    <a:pt x="2206" y="104"/>
                  </a:lnTo>
                  <a:lnTo>
                    <a:pt x="2179" y="100"/>
                  </a:lnTo>
                  <a:lnTo>
                    <a:pt x="2151" y="94"/>
                  </a:lnTo>
                  <a:lnTo>
                    <a:pt x="2125" y="90"/>
                  </a:lnTo>
                  <a:lnTo>
                    <a:pt x="2097" y="86"/>
                  </a:lnTo>
                  <a:lnTo>
                    <a:pt x="2069" y="82"/>
                  </a:lnTo>
                  <a:lnTo>
                    <a:pt x="2042" y="80"/>
                  </a:lnTo>
                  <a:lnTo>
                    <a:pt x="2014" y="76"/>
                  </a:lnTo>
                  <a:lnTo>
                    <a:pt x="1987" y="75"/>
                  </a:lnTo>
                  <a:lnTo>
                    <a:pt x="1961" y="75"/>
                  </a:lnTo>
                  <a:lnTo>
                    <a:pt x="1935" y="75"/>
                  </a:lnTo>
                  <a:lnTo>
                    <a:pt x="1910" y="75"/>
                  </a:lnTo>
                  <a:lnTo>
                    <a:pt x="1884" y="76"/>
                  </a:lnTo>
                  <a:lnTo>
                    <a:pt x="1861" y="79"/>
                  </a:lnTo>
                  <a:lnTo>
                    <a:pt x="1837" y="82"/>
                  </a:lnTo>
                  <a:lnTo>
                    <a:pt x="1815" y="86"/>
                  </a:lnTo>
                  <a:lnTo>
                    <a:pt x="1793" y="98"/>
                  </a:lnTo>
                  <a:lnTo>
                    <a:pt x="1771" y="108"/>
                  </a:lnTo>
                  <a:lnTo>
                    <a:pt x="1750" y="115"/>
                  </a:lnTo>
                  <a:lnTo>
                    <a:pt x="1727" y="122"/>
                  </a:lnTo>
                  <a:lnTo>
                    <a:pt x="1703" y="128"/>
                  </a:lnTo>
                  <a:lnTo>
                    <a:pt x="1677" y="132"/>
                  </a:lnTo>
                  <a:lnTo>
                    <a:pt x="1652" y="136"/>
                  </a:lnTo>
                  <a:lnTo>
                    <a:pt x="1628" y="138"/>
                  </a:lnTo>
                  <a:lnTo>
                    <a:pt x="1603" y="139"/>
                  </a:lnTo>
                  <a:lnTo>
                    <a:pt x="1577" y="141"/>
                  </a:lnTo>
                  <a:lnTo>
                    <a:pt x="1550" y="141"/>
                  </a:lnTo>
                  <a:lnTo>
                    <a:pt x="1524" y="141"/>
                  </a:lnTo>
                  <a:lnTo>
                    <a:pt x="1498" y="141"/>
                  </a:lnTo>
                  <a:lnTo>
                    <a:pt x="1471" y="141"/>
                  </a:lnTo>
                  <a:lnTo>
                    <a:pt x="1445" y="141"/>
                  </a:lnTo>
                  <a:lnTo>
                    <a:pt x="1418" y="141"/>
                  </a:lnTo>
                  <a:lnTo>
                    <a:pt x="1358" y="154"/>
                  </a:lnTo>
                  <a:lnTo>
                    <a:pt x="1298" y="173"/>
                  </a:lnTo>
                  <a:lnTo>
                    <a:pt x="1242" y="192"/>
                  </a:lnTo>
                  <a:lnTo>
                    <a:pt x="1190" y="213"/>
                  </a:lnTo>
                  <a:lnTo>
                    <a:pt x="1138" y="240"/>
                  </a:lnTo>
                  <a:lnTo>
                    <a:pt x="1089" y="266"/>
                  </a:lnTo>
                  <a:lnTo>
                    <a:pt x="1041" y="296"/>
                  </a:lnTo>
                  <a:lnTo>
                    <a:pt x="996" y="328"/>
                  </a:lnTo>
                  <a:lnTo>
                    <a:pt x="952" y="362"/>
                  </a:lnTo>
                  <a:lnTo>
                    <a:pt x="908" y="397"/>
                  </a:lnTo>
                  <a:lnTo>
                    <a:pt x="866" y="435"/>
                  </a:lnTo>
                  <a:lnTo>
                    <a:pt x="824" y="473"/>
                  </a:lnTo>
                  <a:lnTo>
                    <a:pt x="783" y="512"/>
                  </a:lnTo>
                  <a:lnTo>
                    <a:pt x="741" y="551"/>
                  </a:lnTo>
                  <a:lnTo>
                    <a:pt x="701" y="593"/>
                  </a:lnTo>
                  <a:lnTo>
                    <a:pt x="660" y="635"/>
                  </a:lnTo>
                  <a:lnTo>
                    <a:pt x="681" y="635"/>
                  </a:lnTo>
                  <a:lnTo>
                    <a:pt x="692" y="641"/>
                  </a:lnTo>
                  <a:lnTo>
                    <a:pt x="694" y="649"/>
                  </a:lnTo>
                  <a:lnTo>
                    <a:pt x="692" y="662"/>
                  </a:lnTo>
                  <a:lnTo>
                    <a:pt x="653" y="715"/>
                  </a:lnTo>
                  <a:lnTo>
                    <a:pt x="623" y="773"/>
                  </a:lnTo>
                  <a:lnTo>
                    <a:pt x="600" y="836"/>
                  </a:lnTo>
                  <a:lnTo>
                    <a:pt x="580" y="901"/>
                  </a:lnTo>
                  <a:lnTo>
                    <a:pt x="563" y="967"/>
                  </a:lnTo>
                  <a:lnTo>
                    <a:pt x="548" y="1033"/>
                  </a:lnTo>
                  <a:lnTo>
                    <a:pt x="527" y="1096"/>
                  </a:lnTo>
                  <a:lnTo>
                    <a:pt x="503" y="1154"/>
                  </a:lnTo>
                  <a:lnTo>
                    <a:pt x="496" y="1223"/>
                  </a:lnTo>
                  <a:lnTo>
                    <a:pt x="485" y="1291"/>
                  </a:lnTo>
                  <a:lnTo>
                    <a:pt x="471" y="1357"/>
                  </a:lnTo>
                  <a:lnTo>
                    <a:pt x="457" y="1421"/>
                  </a:lnTo>
                  <a:lnTo>
                    <a:pt x="439" y="1486"/>
                  </a:lnTo>
                  <a:lnTo>
                    <a:pt x="419" y="1548"/>
                  </a:lnTo>
                  <a:lnTo>
                    <a:pt x="398" y="1612"/>
                  </a:lnTo>
                  <a:lnTo>
                    <a:pt x="374" y="1678"/>
                  </a:lnTo>
                  <a:lnTo>
                    <a:pt x="380" y="1742"/>
                  </a:lnTo>
                  <a:lnTo>
                    <a:pt x="376" y="1803"/>
                  </a:lnTo>
                  <a:lnTo>
                    <a:pt x="367" y="1860"/>
                  </a:lnTo>
                  <a:lnTo>
                    <a:pt x="353" y="1915"/>
                  </a:lnTo>
                  <a:lnTo>
                    <a:pt x="333" y="1967"/>
                  </a:lnTo>
                  <a:lnTo>
                    <a:pt x="310" y="2018"/>
                  </a:lnTo>
                  <a:lnTo>
                    <a:pt x="283" y="2068"/>
                  </a:lnTo>
                  <a:lnTo>
                    <a:pt x="257" y="2117"/>
                  </a:lnTo>
                  <a:lnTo>
                    <a:pt x="227" y="2164"/>
                  </a:lnTo>
                  <a:lnTo>
                    <a:pt x="199" y="2215"/>
                  </a:lnTo>
                  <a:lnTo>
                    <a:pt x="171" y="2265"/>
                  </a:lnTo>
                  <a:lnTo>
                    <a:pt x="144" y="2318"/>
                  </a:lnTo>
                  <a:lnTo>
                    <a:pt x="123" y="2372"/>
                  </a:lnTo>
                  <a:lnTo>
                    <a:pt x="104" y="2429"/>
                  </a:lnTo>
                  <a:lnTo>
                    <a:pt x="88" y="2488"/>
                  </a:lnTo>
                  <a:lnTo>
                    <a:pt x="80" y="2551"/>
                  </a:lnTo>
                  <a:lnTo>
                    <a:pt x="85" y="2556"/>
                  </a:lnTo>
                  <a:lnTo>
                    <a:pt x="88" y="2561"/>
                  </a:lnTo>
                  <a:lnTo>
                    <a:pt x="92" y="2568"/>
                  </a:lnTo>
                  <a:lnTo>
                    <a:pt x="94" y="2572"/>
                  </a:lnTo>
                  <a:lnTo>
                    <a:pt x="88" y="2600"/>
                  </a:lnTo>
                  <a:lnTo>
                    <a:pt x="84" y="2630"/>
                  </a:lnTo>
                  <a:lnTo>
                    <a:pt x="77" y="2662"/>
                  </a:lnTo>
                  <a:lnTo>
                    <a:pt x="69" y="2693"/>
                  </a:lnTo>
                  <a:lnTo>
                    <a:pt x="54" y="2810"/>
                  </a:lnTo>
                  <a:lnTo>
                    <a:pt x="45" y="2927"/>
                  </a:lnTo>
                  <a:lnTo>
                    <a:pt x="38" y="3046"/>
                  </a:lnTo>
                  <a:lnTo>
                    <a:pt x="32" y="3163"/>
                  </a:lnTo>
                  <a:lnTo>
                    <a:pt x="29" y="3281"/>
                  </a:lnTo>
                  <a:lnTo>
                    <a:pt x="22" y="3401"/>
                  </a:lnTo>
                  <a:lnTo>
                    <a:pt x="13" y="3521"/>
                  </a:lnTo>
                  <a:lnTo>
                    <a:pt x="0" y="3640"/>
                  </a:lnTo>
                  <a:lnTo>
                    <a:pt x="0" y="3664"/>
                  </a:lnTo>
                  <a:lnTo>
                    <a:pt x="1" y="3691"/>
                  </a:lnTo>
                  <a:lnTo>
                    <a:pt x="3" y="3717"/>
                  </a:lnTo>
                  <a:lnTo>
                    <a:pt x="7" y="3744"/>
                  </a:lnTo>
                  <a:lnTo>
                    <a:pt x="13" y="3772"/>
                  </a:lnTo>
                  <a:lnTo>
                    <a:pt x="22" y="3797"/>
                  </a:lnTo>
                  <a:lnTo>
                    <a:pt x="39" y="3823"/>
                  </a:lnTo>
                  <a:lnTo>
                    <a:pt x="63" y="3848"/>
                  </a:lnTo>
                  <a:lnTo>
                    <a:pt x="73" y="3860"/>
                  </a:lnTo>
                  <a:lnTo>
                    <a:pt x="82" y="3874"/>
                  </a:lnTo>
                  <a:lnTo>
                    <a:pt x="91" y="3887"/>
                  </a:lnTo>
                  <a:lnTo>
                    <a:pt x="97" y="3902"/>
                  </a:lnTo>
                  <a:lnTo>
                    <a:pt x="104" y="3919"/>
                  </a:lnTo>
                  <a:lnTo>
                    <a:pt x="107" y="3939"/>
                  </a:lnTo>
                  <a:lnTo>
                    <a:pt x="108" y="3961"/>
                  </a:lnTo>
                  <a:lnTo>
                    <a:pt x="108" y="3988"/>
                  </a:lnTo>
                  <a:lnTo>
                    <a:pt x="113" y="3989"/>
                  </a:lnTo>
                  <a:lnTo>
                    <a:pt x="122" y="3989"/>
                  </a:lnTo>
                  <a:lnTo>
                    <a:pt x="130" y="3986"/>
                  </a:lnTo>
                  <a:lnTo>
                    <a:pt x="141" y="3981"/>
                  </a:lnTo>
                  <a:lnTo>
                    <a:pt x="151" y="3976"/>
                  </a:lnTo>
                  <a:lnTo>
                    <a:pt x="161" y="3971"/>
                  </a:lnTo>
                  <a:lnTo>
                    <a:pt x="169" y="3970"/>
                  </a:lnTo>
                  <a:lnTo>
                    <a:pt x="176" y="3970"/>
                  </a:lnTo>
                  <a:lnTo>
                    <a:pt x="293" y="3807"/>
                  </a:lnTo>
                  <a:lnTo>
                    <a:pt x="307" y="3835"/>
                  </a:lnTo>
                  <a:lnTo>
                    <a:pt x="318" y="3857"/>
                  </a:lnTo>
                  <a:lnTo>
                    <a:pt x="329" y="3877"/>
                  </a:lnTo>
                  <a:lnTo>
                    <a:pt x="341" y="3892"/>
                  </a:lnTo>
                  <a:lnTo>
                    <a:pt x="359" y="3867"/>
                  </a:lnTo>
                  <a:lnTo>
                    <a:pt x="384" y="3836"/>
                  </a:lnTo>
                  <a:lnTo>
                    <a:pt x="413" y="3800"/>
                  </a:lnTo>
                  <a:lnTo>
                    <a:pt x="445" y="3758"/>
                  </a:lnTo>
                  <a:lnTo>
                    <a:pt x="482" y="3713"/>
                  </a:lnTo>
                  <a:lnTo>
                    <a:pt x="520" y="3663"/>
                  </a:lnTo>
                  <a:lnTo>
                    <a:pt x="558" y="3613"/>
                  </a:lnTo>
                  <a:lnTo>
                    <a:pt x="597" y="3562"/>
                  </a:lnTo>
                  <a:lnTo>
                    <a:pt x="636" y="3511"/>
                  </a:lnTo>
                  <a:lnTo>
                    <a:pt x="673" y="3462"/>
                  </a:lnTo>
                  <a:lnTo>
                    <a:pt x="709" y="3413"/>
                  </a:lnTo>
                  <a:lnTo>
                    <a:pt x="741" y="3370"/>
                  </a:lnTo>
                  <a:lnTo>
                    <a:pt x="771" y="3328"/>
                  </a:lnTo>
                  <a:lnTo>
                    <a:pt x="793" y="3294"/>
                  </a:lnTo>
                  <a:lnTo>
                    <a:pt x="813" y="3266"/>
                  </a:lnTo>
                  <a:lnTo>
                    <a:pt x="824" y="3244"/>
                  </a:lnTo>
                  <a:lnTo>
                    <a:pt x="851" y="3216"/>
                  </a:lnTo>
                  <a:lnTo>
                    <a:pt x="880" y="3188"/>
                  </a:lnTo>
                  <a:lnTo>
                    <a:pt x="912" y="3163"/>
                  </a:lnTo>
                  <a:lnTo>
                    <a:pt x="945" y="3138"/>
                  </a:lnTo>
                  <a:lnTo>
                    <a:pt x="981" y="3113"/>
                  </a:lnTo>
                  <a:lnTo>
                    <a:pt x="1017" y="3092"/>
                  </a:lnTo>
                  <a:lnTo>
                    <a:pt x="1057" y="3071"/>
                  </a:lnTo>
                  <a:lnTo>
                    <a:pt x="1097" y="3050"/>
                  </a:lnTo>
                  <a:lnTo>
                    <a:pt x="1136" y="3033"/>
                  </a:lnTo>
                  <a:lnTo>
                    <a:pt x="1176" y="3015"/>
                  </a:lnTo>
                  <a:lnTo>
                    <a:pt x="1215" y="2998"/>
                  </a:lnTo>
                  <a:lnTo>
                    <a:pt x="1255" y="2983"/>
                  </a:lnTo>
                  <a:lnTo>
                    <a:pt x="1293" y="2970"/>
                  </a:lnTo>
                  <a:lnTo>
                    <a:pt x="1331" y="2959"/>
                  </a:lnTo>
                  <a:lnTo>
                    <a:pt x="1368" y="2947"/>
                  </a:lnTo>
                  <a:lnTo>
                    <a:pt x="1402" y="2937"/>
                  </a:lnTo>
                  <a:lnTo>
                    <a:pt x="1435" y="2931"/>
                  </a:lnTo>
                  <a:lnTo>
                    <a:pt x="1467" y="2924"/>
                  </a:lnTo>
                  <a:lnTo>
                    <a:pt x="1502" y="2919"/>
                  </a:lnTo>
                  <a:lnTo>
                    <a:pt x="1539" y="2914"/>
                  </a:lnTo>
                  <a:lnTo>
                    <a:pt x="1575" y="2909"/>
                  </a:lnTo>
                  <a:lnTo>
                    <a:pt x="1612" y="2906"/>
                  </a:lnTo>
                  <a:lnTo>
                    <a:pt x="1648" y="2904"/>
                  </a:lnTo>
                  <a:lnTo>
                    <a:pt x="1686" y="2903"/>
                  </a:lnTo>
                  <a:lnTo>
                    <a:pt x="1722" y="2903"/>
                  </a:lnTo>
                  <a:lnTo>
                    <a:pt x="1760" y="2904"/>
                  </a:lnTo>
                  <a:lnTo>
                    <a:pt x="1797" y="2907"/>
                  </a:lnTo>
                  <a:lnTo>
                    <a:pt x="1833" y="2913"/>
                  </a:lnTo>
                  <a:lnTo>
                    <a:pt x="1867" y="2917"/>
                  </a:lnTo>
                  <a:lnTo>
                    <a:pt x="1902" y="2925"/>
                  </a:lnTo>
                  <a:lnTo>
                    <a:pt x="1935" y="2934"/>
                  </a:lnTo>
                  <a:lnTo>
                    <a:pt x="1968" y="2945"/>
                  </a:lnTo>
                  <a:lnTo>
                    <a:pt x="1999" y="2969"/>
                  </a:lnTo>
                  <a:lnTo>
                    <a:pt x="2029" y="2994"/>
                  </a:lnTo>
                  <a:lnTo>
                    <a:pt x="2059" y="3021"/>
                  </a:lnTo>
                  <a:lnTo>
                    <a:pt x="2087" y="3049"/>
                  </a:lnTo>
                  <a:lnTo>
                    <a:pt x="2113" y="3078"/>
                  </a:lnTo>
                  <a:lnTo>
                    <a:pt x="2137" y="3110"/>
                  </a:lnTo>
                  <a:lnTo>
                    <a:pt x="2162" y="3143"/>
                  </a:lnTo>
                  <a:lnTo>
                    <a:pt x="2185" y="3176"/>
                  </a:lnTo>
                  <a:lnTo>
                    <a:pt x="2196" y="3169"/>
                  </a:lnTo>
                  <a:lnTo>
                    <a:pt x="2206" y="3163"/>
                  </a:lnTo>
                  <a:lnTo>
                    <a:pt x="2213" y="3158"/>
                  </a:lnTo>
                  <a:lnTo>
                    <a:pt x="2224" y="3154"/>
                  </a:lnTo>
                  <a:lnTo>
                    <a:pt x="2234" y="3147"/>
                  </a:lnTo>
                  <a:lnTo>
                    <a:pt x="2241" y="3138"/>
                  </a:lnTo>
                  <a:lnTo>
                    <a:pt x="2252" y="3127"/>
                  </a:lnTo>
                  <a:lnTo>
                    <a:pt x="2262" y="3110"/>
                  </a:lnTo>
                  <a:lnTo>
                    <a:pt x="2269" y="3046"/>
                  </a:lnTo>
                  <a:lnTo>
                    <a:pt x="2273" y="2993"/>
                  </a:lnTo>
                  <a:lnTo>
                    <a:pt x="2272" y="2947"/>
                  </a:lnTo>
                  <a:lnTo>
                    <a:pt x="2265" y="2907"/>
                  </a:lnTo>
                  <a:lnTo>
                    <a:pt x="2255" y="2872"/>
                  </a:lnTo>
                  <a:lnTo>
                    <a:pt x="2241" y="2838"/>
                  </a:lnTo>
                  <a:lnTo>
                    <a:pt x="2225" y="2805"/>
                  </a:lnTo>
                  <a:lnTo>
                    <a:pt x="2206" y="27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481200" y="4538520"/>
              <a:ext cx="618480" cy="660240"/>
            </a:xfrm>
            <a:custGeom>
              <a:avLst/>
              <a:gdLst/>
              <a:ahLst/>
              <a:rect l="l" t="t" r="r" b="b"/>
              <a:pathLst>
                <a:path w="1562" h="1665">
                  <a:moveTo>
                    <a:pt x="0" y="1204"/>
                  </a:moveTo>
                  <a:lnTo>
                    <a:pt x="49" y="1248"/>
                  </a:lnTo>
                  <a:lnTo>
                    <a:pt x="97" y="1287"/>
                  </a:lnTo>
                  <a:lnTo>
                    <a:pt x="146" y="1325"/>
                  </a:lnTo>
                  <a:lnTo>
                    <a:pt x="195" y="1361"/>
                  </a:lnTo>
                  <a:lnTo>
                    <a:pt x="244" y="1396"/>
                  </a:lnTo>
                  <a:lnTo>
                    <a:pt x="293" y="1427"/>
                  </a:lnTo>
                  <a:lnTo>
                    <a:pt x="341" y="1459"/>
                  </a:lnTo>
                  <a:lnTo>
                    <a:pt x="391" y="1487"/>
                  </a:lnTo>
                  <a:lnTo>
                    <a:pt x="440" y="1514"/>
                  </a:lnTo>
                  <a:lnTo>
                    <a:pt x="488" y="1536"/>
                  </a:lnTo>
                  <a:lnTo>
                    <a:pt x="537" y="1559"/>
                  </a:lnTo>
                  <a:lnTo>
                    <a:pt x="585" y="1580"/>
                  </a:lnTo>
                  <a:lnTo>
                    <a:pt x="635" y="1598"/>
                  </a:lnTo>
                  <a:lnTo>
                    <a:pt x="684" y="1614"/>
                  </a:lnTo>
                  <a:lnTo>
                    <a:pt x="732" y="1627"/>
                  </a:lnTo>
                  <a:lnTo>
                    <a:pt x="782" y="1639"/>
                  </a:lnTo>
                  <a:lnTo>
                    <a:pt x="830" y="1648"/>
                  </a:lnTo>
                  <a:lnTo>
                    <a:pt x="879" y="1655"/>
                  </a:lnTo>
                  <a:lnTo>
                    <a:pt x="928" y="1661"/>
                  </a:lnTo>
                  <a:lnTo>
                    <a:pt x="976" y="1665"/>
                  </a:lnTo>
                  <a:lnTo>
                    <a:pt x="1026" y="1665"/>
                  </a:lnTo>
                  <a:lnTo>
                    <a:pt x="1074" y="1665"/>
                  </a:lnTo>
                  <a:lnTo>
                    <a:pt x="1123" y="1661"/>
                  </a:lnTo>
                  <a:lnTo>
                    <a:pt x="1172" y="1655"/>
                  </a:lnTo>
                  <a:lnTo>
                    <a:pt x="1221" y="1648"/>
                  </a:lnTo>
                  <a:lnTo>
                    <a:pt x="1270" y="1639"/>
                  </a:lnTo>
                  <a:lnTo>
                    <a:pt x="1318" y="1627"/>
                  </a:lnTo>
                  <a:lnTo>
                    <a:pt x="1367" y="1612"/>
                  </a:lnTo>
                  <a:lnTo>
                    <a:pt x="1416" y="1595"/>
                  </a:lnTo>
                  <a:lnTo>
                    <a:pt x="1465" y="1577"/>
                  </a:lnTo>
                  <a:lnTo>
                    <a:pt x="1513" y="1556"/>
                  </a:lnTo>
                  <a:lnTo>
                    <a:pt x="1562" y="1533"/>
                  </a:lnTo>
                  <a:lnTo>
                    <a:pt x="1550" y="1455"/>
                  </a:lnTo>
                  <a:lnTo>
                    <a:pt x="1541" y="1368"/>
                  </a:lnTo>
                  <a:lnTo>
                    <a:pt x="1531" y="1273"/>
                  </a:lnTo>
                  <a:lnTo>
                    <a:pt x="1522" y="1172"/>
                  </a:lnTo>
                  <a:lnTo>
                    <a:pt x="1513" y="1064"/>
                  </a:lnTo>
                  <a:lnTo>
                    <a:pt x="1501" y="956"/>
                  </a:lnTo>
                  <a:lnTo>
                    <a:pt x="1490" y="844"/>
                  </a:lnTo>
                  <a:lnTo>
                    <a:pt x="1475" y="733"/>
                  </a:lnTo>
                  <a:lnTo>
                    <a:pt x="1456" y="624"/>
                  </a:lnTo>
                  <a:lnTo>
                    <a:pt x="1437" y="519"/>
                  </a:lnTo>
                  <a:lnTo>
                    <a:pt x="1412" y="419"/>
                  </a:lnTo>
                  <a:lnTo>
                    <a:pt x="1382" y="327"/>
                  </a:lnTo>
                  <a:lnTo>
                    <a:pt x="1347" y="243"/>
                  </a:lnTo>
                  <a:lnTo>
                    <a:pt x="1308" y="169"/>
                  </a:lnTo>
                  <a:lnTo>
                    <a:pt x="1260" y="107"/>
                  </a:lnTo>
                  <a:lnTo>
                    <a:pt x="1207" y="58"/>
                  </a:lnTo>
                  <a:lnTo>
                    <a:pt x="1171" y="44"/>
                  </a:lnTo>
                  <a:lnTo>
                    <a:pt x="1134" y="31"/>
                  </a:lnTo>
                  <a:lnTo>
                    <a:pt x="1100" y="21"/>
                  </a:lnTo>
                  <a:lnTo>
                    <a:pt x="1067" y="14"/>
                  </a:lnTo>
                  <a:lnTo>
                    <a:pt x="1034" y="9"/>
                  </a:lnTo>
                  <a:lnTo>
                    <a:pt x="1001" y="3"/>
                  </a:lnTo>
                  <a:lnTo>
                    <a:pt x="970" y="0"/>
                  </a:lnTo>
                  <a:lnTo>
                    <a:pt x="941" y="0"/>
                  </a:lnTo>
                  <a:lnTo>
                    <a:pt x="910" y="2"/>
                  </a:lnTo>
                  <a:lnTo>
                    <a:pt x="880" y="3"/>
                  </a:lnTo>
                  <a:lnTo>
                    <a:pt x="852" y="9"/>
                  </a:lnTo>
                  <a:lnTo>
                    <a:pt x="824" y="14"/>
                  </a:lnTo>
                  <a:lnTo>
                    <a:pt x="798" y="21"/>
                  </a:lnTo>
                  <a:lnTo>
                    <a:pt x="771" y="30"/>
                  </a:lnTo>
                  <a:lnTo>
                    <a:pt x="746" y="40"/>
                  </a:lnTo>
                  <a:lnTo>
                    <a:pt x="721" y="52"/>
                  </a:lnTo>
                  <a:lnTo>
                    <a:pt x="648" y="108"/>
                  </a:lnTo>
                  <a:lnTo>
                    <a:pt x="578" y="164"/>
                  </a:lnTo>
                  <a:lnTo>
                    <a:pt x="512" y="223"/>
                  </a:lnTo>
                  <a:lnTo>
                    <a:pt x="450" y="285"/>
                  </a:lnTo>
                  <a:lnTo>
                    <a:pt x="391" y="347"/>
                  </a:lnTo>
                  <a:lnTo>
                    <a:pt x="335" y="412"/>
                  </a:lnTo>
                  <a:lnTo>
                    <a:pt x="283" y="481"/>
                  </a:lnTo>
                  <a:lnTo>
                    <a:pt x="237" y="550"/>
                  </a:lnTo>
                  <a:lnTo>
                    <a:pt x="192" y="622"/>
                  </a:lnTo>
                  <a:lnTo>
                    <a:pt x="153" y="697"/>
                  </a:lnTo>
                  <a:lnTo>
                    <a:pt x="117" y="774"/>
                  </a:lnTo>
                  <a:lnTo>
                    <a:pt x="86" y="855"/>
                  </a:lnTo>
                  <a:lnTo>
                    <a:pt x="58" y="938"/>
                  </a:lnTo>
                  <a:lnTo>
                    <a:pt x="34" y="1023"/>
                  </a:lnTo>
                  <a:lnTo>
                    <a:pt x="14" y="1112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200120" y="3936600"/>
              <a:ext cx="93240" cy="68400"/>
            </a:xfrm>
            <a:custGeom>
              <a:avLst/>
              <a:gdLst/>
              <a:ahLst/>
              <a:rect l="l" t="t" r="r" b="b"/>
              <a:pathLst>
                <a:path w="234" h="173">
                  <a:moveTo>
                    <a:pt x="232" y="16"/>
                  </a:moveTo>
                  <a:lnTo>
                    <a:pt x="218" y="23"/>
                  </a:lnTo>
                  <a:lnTo>
                    <a:pt x="204" y="30"/>
                  </a:lnTo>
                  <a:lnTo>
                    <a:pt x="196" y="38"/>
                  </a:lnTo>
                  <a:lnTo>
                    <a:pt x="194" y="45"/>
                  </a:lnTo>
                  <a:lnTo>
                    <a:pt x="204" y="72"/>
                  </a:lnTo>
                  <a:lnTo>
                    <a:pt x="214" y="93"/>
                  </a:lnTo>
                  <a:lnTo>
                    <a:pt x="224" y="122"/>
                  </a:lnTo>
                  <a:lnTo>
                    <a:pt x="234" y="173"/>
                  </a:lnTo>
                  <a:lnTo>
                    <a:pt x="194" y="170"/>
                  </a:lnTo>
                  <a:lnTo>
                    <a:pt x="162" y="166"/>
                  </a:lnTo>
                  <a:lnTo>
                    <a:pt x="135" y="159"/>
                  </a:lnTo>
                  <a:lnTo>
                    <a:pt x="112" y="153"/>
                  </a:lnTo>
                  <a:lnTo>
                    <a:pt x="92" y="148"/>
                  </a:lnTo>
                  <a:lnTo>
                    <a:pt x="71" y="142"/>
                  </a:lnTo>
                  <a:lnTo>
                    <a:pt x="50" y="141"/>
                  </a:lnTo>
                  <a:lnTo>
                    <a:pt x="25" y="145"/>
                  </a:lnTo>
                  <a:lnTo>
                    <a:pt x="19" y="141"/>
                  </a:lnTo>
                  <a:lnTo>
                    <a:pt x="13" y="138"/>
                  </a:lnTo>
                  <a:lnTo>
                    <a:pt x="5" y="135"/>
                  </a:lnTo>
                  <a:lnTo>
                    <a:pt x="0" y="128"/>
                  </a:lnTo>
                  <a:lnTo>
                    <a:pt x="41" y="114"/>
                  </a:lnTo>
                  <a:lnTo>
                    <a:pt x="74" y="100"/>
                  </a:lnTo>
                  <a:lnTo>
                    <a:pt x="99" y="83"/>
                  </a:lnTo>
                  <a:lnTo>
                    <a:pt x="119" y="66"/>
                  </a:lnTo>
                  <a:lnTo>
                    <a:pt x="135" y="51"/>
                  </a:lnTo>
                  <a:lnTo>
                    <a:pt x="152" y="34"/>
                  </a:lnTo>
                  <a:lnTo>
                    <a:pt x="169" y="17"/>
                  </a:lnTo>
                  <a:lnTo>
                    <a:pt x="193" y="0"/>
                  </a:lnTo>
                  <a:lnTo>
                    <a:pt x="200" y="2"/>
                  </a:lnTo>
                  <a:lnTo>
                    <a:pt x="213" y="7"/>
                  </a:lnTo>
                  <a:lnTo>
                    <a:pt x="225" y="14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24" name=""/>
          <p:cNvGraphicFramePr/>
          <p:nvPr/>
        </p:nvGraphicFramePr>
        <p:xfrm>
          <a:off x="4800600" y="3276720"/>
          <a:ext cx="340344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76720"/>
                    <a:ext cx="340344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6" name=""/>
          <p:cNvSpPr/>
          <p:nvPr/>
        </p:nvSpPr>
        <p:spPr>
          <a:xfrm>
            <a:off x="1752480" y="2057400"/>
            <a:ext cx="1981440" cy="106668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7" name=""/>
          <p:cNvGrpSpPr/>
          <p:nvPr/>
        </p:nvGrpSpPr>
        <p:grpSpPr>
          <a:xfrm>
            <a:off x="2133720" y="2403360"/>
            <a:ext cx="1066320" cy="339840"/>
            <a:chOff x="2133720" y="2403360"/>
            <a:chExt cx="1066320" cy="339840"/>
          </a:xfrm>
        </p:grpSpPr>
        <p:sp>
          <p:nvSpPr>
            <p:cNvPr id="3128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>
              <a:off x="3093120" y="2685960"/>
              <a:ext cx="9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3074760" y="2619360"/>
              <a:ext cx="12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3088800" y="2641320"/>
              <a:ext cx="11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49560" y="2654280"/>
              <a:ext cx="84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33720" y="2625480"/>
              <a:ext cx="108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33720" y="2598480"/>
              <a:ext cx="13716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73680" y="2549520"/>
              <a:ext cx="95976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76200" y="2558880"/>
              <a:ext cx="9331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355840" y="2411280"/>
              <a:ext cx="549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410200" y="2601720"/>
              <a:ext cx="51516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422800" y="2619360"/>
              <a:ext cx="49284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67040" y="2527200"/>
              <a:ext cx="1404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580120" y="2412720"/>
              <a:ext cx="277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3320" y="2597040"/>
              <a:ext cx="97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628360" y="255420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628360" y="2554200"/>
              <a:ext cx="42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628360" y="2554200"/>
              <a:ext cx="42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376000" y="254628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376000" y="2546280"/>
              <a:ext cx="42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376000" y="2546280"/>
              <a:ext cx="42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76000" y="2546280"/>
              <a:ext cx="42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01240" y="2525760"/>
              <a:ext cx="2379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159640" y="2512800"/>
              <a:ext cx="6969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156040" y="2412720"/>
              <a:ext cx="23400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149560" y="2546280"/>
              <a:ext cx="24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143440" y="2558880"/>
              <a:ext cx="3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143440" y="2577960"/>
              <a:ext cx="3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36680" y="2423880"/>
              <a:ext cx="1857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351520" y="2419200"/>
              <a:ext cx="576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9" name=""/>
          <p:cNvSpPr/>
          <p:nvPr/>
        </p:nvSpPr>
        <p:spPr>
          <a:xfrm>
            <a:off x="4038480" y="1981080"/>
            <a:ext cx="1981440" cy="106704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0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990720" cy="561960"/>
          </a:xfrm>
          <a:prstGeom prst="rect">
            <a:avLst/>
          </a:prstGeom>
          <a:ln w="0">
            <a:noFill/>
          </a:ln>
        </p:spPr>
      </p:pic>
      <p:sp>
        <p:nvSpPr>
          <p:cNvPr id="3191" name=""/>
          <p:cNvSpPr/>
          <p:nvPr/>
        </p:nvSpPr>
        <p:spPr>
          <a:xfrm>
            <a:off x="6248520" y="1905120"/>
            <a:ext cx="1981080" cy="1066680"/>
          </a:xfrm>
          <a:prstGeom prst="cloudCallout">
            <a:avLst>
              <a:gd name="adj1" fmla="val -21074"/>
              <a:gd name="adj2" fmla="val 90773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2" name="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990720" cy="485640"/>
          </a:xfrm>
          <a:prstGeom prst="rect">
            <a:avLst/>
          </a:prstGeom>
          <a:ln w="0">
            <a:noFill/>
          </a:ln>
        </p:spPr>
      </p:pic>
      <p:sp>
        <p:nvSpPr>
          <p:cNvPr id="3193" name=""/>
          <p:cNvSpPr/>
          <p:nvPr/>
        </p:nvSpPr>
        <p:spPr>
          <a:xfrm>
            <a:off x="2133720" y="2666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343400" y="25750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68844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6" name="" descr=""/>
          <p:cNvPicPr/>
          <p:nvPr/>
        </p:nvPicPr>
        <p:blipFill>
          <a:blip r:embed="rId5"/>
          <a:stretch/>
        </p:blipFill>
        <p:spPr>
          <a:xfrm>
            <a:off x="1219320" y="4876920"/>
            <a:ext cx="3352680" cy="1245960"/>
          </a:xfrm>
          <a:prstGeom prst="rect">
            <a:avLst/>
          </a:prstGeom>
          <a:ln w="0">
            <a:noFill/>
          </a:ln>
        </p:spPr>
      </p:pic>
      <p:sp>
        <p:nvSpPr>
          <p:cNvPr id="3197" name=""/>
          <p:cNvSpPr/>
          <p:nvPr/>
        </p:nvSpPr>
        <p:spPr>
          <a:xfrm>
            <a:off x="4652280" y="55119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6" dur="indefinite" restart="never" nodeType="tmRoot">
          <p:childTnLst>
            <p:seq>
              <p:cTn id="4367" dur="indefinite" nodeType="mainSeq">
                <p:childTnLst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2" dur="5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500"/>
                            </p:stCondLst>
                            <p:childTnLst>
                              <p:par>
                                <p:cTn id="4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6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0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5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500"/>
                            </p:stCondLst>
                            <p:childTnLst>
                              <p:par>
                                <p:cTn id="4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9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4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9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8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fill="hold">
                      <p:stCondLst>
                        <p:cond delay="indefinite"/>
                      </p:stCondLst>
                      <p:childTnLst>
                        <p:par>
                          <p:cTn id="4410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3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9" fill="hold">
                      <p:stCondLst>
                        <p:cond delay="indefinite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3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lds/produces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message …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send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ceive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use message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48520" y="251460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sum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 // Maximu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e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Need = Max -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83808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// Requests of waiting pr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762120" y="5486400"/>
            <a:ext cx="7543800" cy="0"/>
          </a:xfrm>
          <a:prstGeom prst="line">
            <a:avLst/>
          </a:prstGeom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62120" y="426708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4" dur="indefinite" restart="never" nodeType="tmRoot">
          <p:childTnLst>
            <p:seq>
              <p:cTn id="4435" dur="indefinite" nodeType="mainSeq">
                <p:childTnLst>
                  <p:par>
                    <p:cTn id="4436" fill="hold">
                      <p:stCondLst>
                        <p:cond delay="indefinite"/>
                      </p:stCondLst>
                      <p:childTnLst>
                        <p:par>
                          <p:cTn id="4437" fill="hold">
                            <p:stCondLst>
                              <p:cond delay="0"/>
                            </p:stCondLst>
                            <p:childTnLst>
                              <p:par>
                                <p:cTn id="4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0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af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 false, false, …, false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Finish[i] == true ? true : fals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493600" y="1523880"/>
            <a:ext cx="30607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954040" y="4848840"/>
            <a:ext cx="71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97" y="30657"/>
                </a:moveTo>
                <a:lnTo>
                  <a:pt x="-2225" y="5936"/>
                </a:lnTo>
              </a:path>
              <a:path w="21600" h="21600">
                <a:moveTo>
                  <a:pt x="-2225" y="0"/>
                </a:moveTo>
                <a:lnTo>
                  <a:pt x="-2225" y="21600"/>
                </a:ln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7188480" y="4848840"/>
            <a:ext cx="1031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12" y="29118"/>
                </a:moveTo>
                <a:lnTo>
                  <a:pt x="-1566" y="5936"/>
                </a:lnTo>
              </a:path>
              <a:path w="21600" h="21600">
                <a:moveTo>
                  <a:pt x="-1566" y="0"/>
                </a:moveTo>
                <a:lnTo>
                  <a:pt x="-1566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2" dur="indefinite" restart="never" nodeType="tmRoot">
          <p:childTnLst>
            <p:seq>
              <p:cTn id="4453" dur="indefinite" nodeType="mainSeq">
                <p:childTnLst>
                  <p:par>
                    <p:cTn id="4454" fill="hold">
                      <p:stCondLst>
                        <p:cond delay="0"/>
                      </p:stCondLst>
                      <p:childTnLst>
                        <p:par>
                          <p:cTn id="4455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8" dur="500"/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6" dur="500"/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9" dur="500"/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4" dur="500"/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5" fill="hold">
                      <p:stCondLst>
                        <p:cond delay="indefinite"/>
                      </p:stCondLst>
                      <p:childTnLst>
                        <p:par>
                          <p:cTn id="4476" fill="hold">
                            <p:stCondLst>
                              <p:cond delay="0"/>
                            </p:stCondLst>
                            <p:childTnLst>
                              <p:par>
                                <p:cTn id="44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9" dur="500"/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2" dur="500"/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7" dur="500"/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4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1" dur="500"/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6" dur="500"/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1" dur="5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fill="hold">
                      <p:stCondLst>
                        <p:cond delay="indefinite"/>
                      </p:stCondLst>
                      <p:childTnLst>
                        <p:par>
                          <p:cTn id="4503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6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1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vailable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 {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vailable = Available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0, 0, …, 0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248520" y="3352680"/>
            <a:ext cx="1884960" cy="1067040"/>
            <a:chOff x="6248520" y="3352680"/>
            <a:chExt cx="1884960" cy="1067040"/>
          </a:xfrm>
        </p:grpSpPr>
        <p:sp>
          <p:nvSpPr>
            <p:cNvPr id="3212" name=""/>
            <p:cNvSpPr/>
            <p:nvPr/>
          </p:nvSpPr>
          <p:spPr>
            <a:xfrm>
              <a:off x="6248520" y="335268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53800" y="356400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Condi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7851600" y="4572000"/>
            <a:ext cx="1062000" cy="1066680"/>
            <a:chOff x="7851600" y="4572000"/>
            <a:chExt cx="1062000" cy="1066680"/>
          </a:xfrm>
        </p:grpSpPr>
        <p:sp>
          <p:nvSpPr>
            <p:cNvPr id="3215" name=""/>
            <p:cNvSpPr/>
            <p:nvPr/>
          </p:nvSpPr>
          <p:spPr>
            <a:xfrm>
              <a:off x="7851600" y="45720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082000" y="48610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3" dur="indefinite" restart="never" nodeType="tmRoot">
          <p:childTnLst>
            <p:seq>
              <p:cTn id="4514" dur="indefinite" nodeType="mainSeq">
                <p:childTnLst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9" fill="hold">
                            <p:stCondLst>
                              <p:cond delay="500"/>
                            </p:stCondLst>
                            <p:childTnLst>
                              <p:par>
                                <p:cTn id="4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2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7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2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"/>
          <p:cNvSpPr/>
          <p:nvPr/>
        </p:nvSpPr>
        <p:spPr>
          <a:xfrm>
            <a:off x="4549680" y="5454720"/>
            <a:ext cx="3222720" cy="48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le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 (Amoun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+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moun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5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...,0}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057400" y="4495680"/>
            <a:ext cx="19810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88" y="33526"/>
                </a:moveTo>
                <a:lnTo>
                  <a:pt x="-831" y="3456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y no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late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5867280" y="2971800"/>
            <a:ext cx="2744640" cy="1066680"/>
            <a:chOff x="5867280" y="2971800"/>
            <a:chExt cx="2744640" cy="1066680"/>
          </a:xfrm>
        </p:grpSpPr>
        <p:sp>
          <p:nvSpPr>
            <p:cNvPr id="3223" name=""/>
            <p:cNvSpPr/>
            <p:nvPr/>
          </p:nvSpPr>
          <p:spPr>
            <a:xfrm>
              <a:off x="5867280" y="29718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094800" y="3260880"/>
              <a:ext cx="25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Release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5105520" y="4156200"/>
            <a:ext cx="3047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52" y="-6018"/>
                </a:moveTo>
                <a:lnTo>
                  <a:pt x="-540" y="3456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quest it ag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3" dur="indefinite" restart="never" nodeType="tmRoot">
          <p:childTnLst>
            <p:seq>
              <p:cTn id="4534" dur="indefinite" nodeType="mainSeq">
                <p:childTnLst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5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1" fill="hold">
                      <p:stCondLst>
                        <p:cond delay="indefinite"/>
                      </p:stCondLst>
                      <p:childTnLst>
                        <p:par>
                          <p:cTn id="4552" fill="hold">
                            <p:stCondLst>
                              <p:cond delay="0"/>
                            </p:stCondLst>
                            <p:childTnLst>
                              <p:par>
                                <p:cTn id="45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5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0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708660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05280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762120" y="1523880"/>
            <a:ext cx="5867280" cy="3129120"/>
            <a:chOff x="762120" y="1523880"/>
            <a:chExt cx="5867280" cy="3129120"/>
          </a:xfrm>
        </p:grpSpPr>
        <p:sp>
          <p:nvSpPr>
            <p:cNvPr id="3233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971800" y="427212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2" name=""/>
          <p:cNvSpPr/>
          <p:nvPr/>
        </p:nvSpPr>
        <p:spPr>
          <a:xfrm>
            <a:off x="70912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025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3025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025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025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025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1" dur="indefinite" restart="never" nodeType="tmRoot">
          <p:childTnLst>
            <p:seq>
              <p:cTn id="4562" dur="indefinite" nodeType="mainSeq">
                <p:childTnLst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7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8" fill="hold">
                      <p:stCondLst>
                        <p:cond delay="indefinite"/>
                      </p:stCondLst>
                      <p:childTnLst>
                        <p:par>
                          <p:cTn id="4569" fill="hold">
                            <p:stCondLst>
                              <p:cond delay="0"/>
                            </p:stCondLst>
                            <p:childTnLst>
                              <p:par>
                                <p:cTn id="4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3" fill="hold">
                      <p:stCondLst>
                        <p:cond delay="indefinite"/>
                      </p:stCondLst>
                      <p:childTnLst>
                        <p:par>
                          <p:cTn id="4574" fill="hold">
                            <p:stCondLst>
                              <p:cond delay="0"/>
                            </p:stCondLst>
                            <p:childTnLst>
                              <p:par>
                                <p:cTn id="4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7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8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fill="hold">
                      <p:stCondLst>
                        <p:cond delay="indefinite"/>
                      </p:stCondLst>
                      <p:childTnLst>
                        <p:par>
                          <p:cTn id="4590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3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3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8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3" fill="hold">
                      <p:stCondLst>
                        <p:cond delay="indefinite"/>
                      </p:stCondLst>
                      <p:childTnLst>
                        <p:par>
                          <p:cTn id="4624" fill="hold">
                            <p:stCondLst>
                              <p:cond delay="0"/>
                            </p:stCondLst>
                            <p:childTnLst>
                              <p:par>
                                <p:cTn id="4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7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8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3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6" fill="hold">
                      <p:stCondLst>
                        <p:cond delay="indefinite"/>
                      </p:stCondLst>
                      <p:childTnLst>
                        <p:par>
                          <p:cTn id="4637" fill="hold">
                            <p:stCondLst>
                              <p:cond delay="0"/>
                            </p:stCondLst>
                            <p:childTnLst>
                              <p:par>
                                <p:cTn id="4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0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2" fill="hold">
                      <p:stCondLst>
                        <p:cond delay="indefinite"/>
                      </p:stCondLst>
                      <p:childTnLst>
                        <p:par>
                          <p:cTn id="4643" fill="hold">
                            <p:stCondLst>
                              <p:cond delay="0"/>
                            </p:stCondLst>
                            <p:childTnLst>
                              <p:par>
                                <p:cTn id="4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3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5" fill="hold">
                      <p:stCondLst>
                        <p:cond delay="indefinite"/>
                      </p:stCondLst>
                      <p:childTnLst>
                        <p:par>
                          <p:cTn id="4656" fill="hold">
                            <p:stCondLst>
                              <p:cond delay="0"/>
                            </p:stCondLst>
                            <p:childTnLst>
                              <p:par>
                                <p:cTn id="4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6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7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8" fill="hold">
                      <p:stCondLst>
                        <p:cond delay="indefinite"/>
                      </p:stCondLst>
                      <p:childTnLst>
                        <p:par>
                          <p:cTn id="4669" fill="hold">
                            <p:stCondLst>
                              <p:cond delay="0"/>
                            </p:stCondLst>
                            <p:childTnLst>
                              <p:par>
                                <p:cTn id="4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2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3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9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0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fill="hold">
                      <p:stCondLst>
                        <p:cond delay="indefinite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5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6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8" fill="hold">
                      <p:stCondLst>
                        <p:cond delay="indefinite"/>
                      </p:stCondLst>
                      <p:childTnLst>
                        <p:par>
                          <p:cTn id="4689" fill="hold">
                            <p:stCondLst>
                              <p:cond delay="0"/>
                            </p:stCondLst>
                            <p:childTnLst>
                              <p:par>
                                <p:cTn id="4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5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6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1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2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4" fill="hold">
                      <p:stCondLst>
                        <p:cond delay="indefinite"/>
                      </p:stCondLst>
                      <p:childTnLst>
                        <p:par>
                          <p:cTn id="4715" fill="hold">
                            <p:stCondLst>
                              <p:cond delay="0"/>
                            </p:stCondLst>
                            <p:childTnLst>
                              <p:par>
                                <p:cTn id="4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8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0" fill="hold">
                      <p:stCondLst>
                        <p:cond delay="indefinite"/>
                      </p:stCondLst>
                      <p:childTnLst>
                        <p:par>
                          <p:cTn id="4721" fill="hold">
                            <p:stCondLst>
                              <p:cond delay="0"/>
                            </p:stCondLst>
                            <p:childTnLst>
                              <p:par>
                                <p:cTn id="4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4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5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7" fill="hold">
                      <p:stCondLst>
                        <p:cond delay="indefinite"/>
                      </p:stCondLst>
                      <p:childTnLst>
                        <p:par>
                          <p:cTn id="4728" fill="hold">
                            <p:stCondLst>
                              <p:cond delay="0"/>
                            </p:stCondLst>
                            <p:childTnLst>
                              <p:par>
                                <p:cTn id="4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1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2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fill="hold">
                      <p:stCondLst>
                        <p:cond delay="indefinite"/>
                      </p:stCondLst>
                      <p:childTnLst>
                        <p:par>
                          <p:cTn id="4734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7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8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0" fill="hold">
                      <p:stCondLst>
                        <p:cond delay="indefinite"/>
                      </p:stCondLst>
                      <p:childTnLst>
                        <p:par>
                          <p:cTn id="4741" fill="hold">
                            <p:stCondLst>
                              <p:cond delay="0"/>
                            </p:stCondLst>
                            <p:childTnLst>
                              <p:par>
                                <p:cTn id="4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4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5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6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7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685800" y="1447920"/>
            <a:ext cx="5943600" cy="3236040"/>
            <a:chOff x="685800" y="1447920"/>
            <a:chExt cx="5943600" cy="3236040"/>
          </a:xfrm>
        </p:grpSpPr>
        <p:sp>
          <p:nvSpPr>
            <p:cNvPr id="3266" name=""/>
            <p:cNvSpPr/>
            <p:nvPr/>
          </p:nvSpPr>
          <p:spPr>
            <a:xfrm>
              <a:off x="685800" y="1447920"/>
              <a:ext cx="2362320" cy="30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048120" y="1447920"/>
              <a:ext cx="167616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76920" y="1476360"/>
              <a:ext cx="1747800" cy="27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e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4" name=""/>
            <p:cNvGrpSpPr/>
            <p:nvPr/>
          </p:nvGrpSpPr>
          <p:grpSpPr>
            <a:xfrm>
              <a:off x="2971800" y="4224240"/>
              <a:ext cx="1828800" cy="459720"/>
              <a:chOff x="2971800" y="4224240"/>
              <a:chExt cx="1828800" cy="459720"/>
            </a:xfrm>
          </p:grpSpPr>
          <p:sp>
            <p:nvSpPr>
              <p:cNvPr id="3275" name=""/>
              <p:cNvSpPr/>
              <p:nvPr/>
            </p:nvSpPr>
            <p:spPr>
              <a:xfrm>
                <a:off x="3052800" y="4224240"/>
                <a:ext cx="174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971800" y="4271760"/>
                <a:ext cx="175248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7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90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1,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08660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34876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0384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1911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8672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0055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20048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800600" y="2743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8" dur="indefinite" restart="never" nodeType="tmRoot">
          <p:childTnLst>
            <p:seq>
              <p:cTn id="4749" dur="indefinite" nodeType="mainSeq">
                <p:childTnLst>
                  <p:par>
                    <p:cTn id="4750" fill="hold">
                      <p:stCondLst>
                        <p:cond delay="indefinite"/>
                      </p:stCondLst>
                      <p:childTnLst>
                        <p:par>
                          <p:cTn id="4751" fill="hold">
                            <p:stCondLst>
                              <p:cond delay="0"/>
                            </p:stCondLst>
                            <p:childTnLst>
                              <p:par>
                                <p:cTn id="4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4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5" fill="hold">
                            <p:stCondLst>
                              <p:cond delay="500"/>
                            </p:stCondLst>
                            <p:childTnLst>
                              <p:par>
                                <p:cTn id="4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8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9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5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6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8" fill="hold">
                      <p:stCondLst>
                        <p:cond delay="indefinite"/>
                      </p:stCondLst>
                      <p:childTnLst>
                        <p:par>
                          <p:cTn id="4779" fill="hold">
                            <p:stCondLst>
                              <p:cond delay="0"/>
                            </p:stCondLst>
                            <p:childTnLst>
                              <p:par>
                                <p:cTn id="4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2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5" fill="hold">
                            <p:stCondLst>
                              <p:cond delay="500"/>
                            </p:stCondLst>
                            <p:childTnLst>
                              <p:par>
                                <p:cTn id="4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3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8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0" fill="hold">
                      <p:stCondLst>
                        <p:cond delay="indefinite"/>
                      </p:stCondLst>
                      <p:childTnLst>
                        <p:par>
                          <p:cTn id="4801" fill="hold">
                            <p:stCondLst>
                              <p:cond delay="0"/>
                            </p:stCondLst>
                            <p:childTnLst>
                              <p:par>
                                <p:cTn id="4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4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5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6" fill="hold">
                            <p:stCondLst>
                              <p:cond delay="500"/>
                            </p:stCondLst>
                            <p:childTnLst>
                              <p:par>
                                <p:cTn id="4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0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5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6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500"/>
                            </p:stCondLst>
                            <p:childTnLst>
                              <p:par>
                                <p:cTn id="4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0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1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2" fill="hold">
                      <p:stCondLst>
                        <p:cond delay="indefinite"/>
                      </p:stCondLst>
                      <p:childTnLst>
                        <p:par>
                          <p:cTn id="4823" fill="hold">
                            <p:stCondLst>
                              <p:cond delay="0"/>
                            </p:stCondLst>
                            <p:childTnLst>
                              <p:par>
                                <p:cTn id="4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6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7" fill="hold">
                      <p:stCondLst>
                        <p:cond delay="indefinite"/>
                      </p:stCondLst>
                      <p:childTnLst>
                        <p:par>
                          <p:cTn id="4828" fill="hold">
                            <p:stCondLst>
                              <p:cond delay="0"/>
                            </p:stCondLst>
                            <p:childTnLst>
                              <p:par>
                                <p:cTn id="4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1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2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8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3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6" fill="hold">
                            <p:stCondLst>
                              <p:cond delay="500"/>
                            </p:stCondLst>
                            <p:childTnLst>
                              <p:par>
                                <p:cTn id="4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9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0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5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6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1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2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4" fill="hold">
                            <p:stCondLst>
                              <p:cond delay="500"/>
                            </p:stCondLst>
                            <p:childTnLst>
                              <p:par>
                                <p:cTn id="4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7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8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3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9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0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5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1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7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8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0" fill="hold">
                            <p:stCondLst>
                              <p:cond delay="500"/>
                            </p:stCondLst>
                            <p:childTnLst>
                              <p:par>
                                <p:cTn id="4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3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5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6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8" fill="hold">
                            <p:stCondLst>
                              <p:cond delay="500"/>
                            </p:stCondLst>
                            <p:childTnLst>
                              <p:par>
                                <p:cTn id="4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1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9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0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17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286000" y="4838760"/>
            <a:ext cx="26668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6" y="1855"/>
                </a:moveTo>
                <a:lnTo>
                  <a:pt x="-617" y="3456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un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1" dur="indefinite" restart="never" nodeType="tmRoot">
          <p:childTnLst>
            <p:seq>
              <p:cTn id="4932" dur="indefinite" nodeType="mainSeq">
                <p:childTnLst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7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8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3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4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5" fill="hold">
                      <p:stCondLst>
                        <p:cond delay="indefinite"/>
                      </p:stCondLst>
                      <p:childTnLst>
                        <p:par>
                          <p:cTn id="4946" fill="hold">
                            <p:stCondLst>
                              <p:cond delay="0"/>
                            </p:stCondLst>
                            <p:childTnLst>
                              <p:par>
                                <p:cTn id="4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9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0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2" fill="hold">
                      <p:stCondLst>
                        <p:cond delay="indefinite"/>
                      </p:stCondLst>
                      <p:childTnLst>
                        <p:par>
                          <p:cTn id="4953" fill="hold">
                            <p:stCondLst>
                              <p:cond delay="0"/>
                            </p:stCondLst>
                            <p:childTnLst>
                              <p:par>
                                <p:cTn id="49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34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6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 txBox="1"/>
          <p:nvPr/>
        </p:nvSpPr>
        <p:spPr>
          <a:xfrm>
            <a:off x="4267080" y="48769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69464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4529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61476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286000" y="4724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26" y="1877"/>
                </a:moveTo>
                <a:lnTo>
                  <a:pt x="-1029" y="2422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unsaf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451480" y="23400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3610080" y="4267080"/>
            <a:ext cx="380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800600" y="23400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701120" y="38862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8" dur="indefinite" restart="never" nodeType="tmRoot">
          <p:childTnLst>
            <p:seq>
              <p:cTn id="4959" dur="indefinite" nodeType="mainSeq">
                <p:childTnLst>
                  <p:par>
                    <p:cTn id="4960" fill="hold">
                      <p:stCondLst>
                        <p:cond delay="indefinite"/>
                      </p:stCondLst>
                      <p:childTnLst>
                        <p:par>
                          <p:cTn id="4961" fill="hold">
                            <p:stCondLst>
                              <p:cond delay="0"/>
                            </p:stCondLst>
                            <p:childTnLst>
                              <p:par>
                                <p:cTn id="49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4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fill="hold">
                      <p:stCondLst>
                        <p:cond delay="indefinite"/>
                      </p:stCondLst>
                      <p:childTnLst>
                        <p:par>
                          <p:cTn id="4967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2" fill="hold">
                      <p:stCondLst>
                        <p:cond delay="indefinite"/>
                      </p:stCondLst>
                      <p:childTnLst>
                        <p:par>
                          <p:cTn id="4973" fill="hold">
                            <p:stCondLst>
                              <p:cond delay="0"/>
                            </p:stCondLst>
                            <p:childTnLst>
                              <p:par>
                                <p:cTn id="4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6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7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4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500"/>
                            </p:stCondLst>
                            <p:childTnLst>
                              <p:par>
                                <p:cTn id="49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9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0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1" fill="hold">
                      <p:stCondLst>
                        <p:cond delay="indefinite"/>
                      </p:stCondLst>
                      <p:childTnLst>
                        <p:par>
                          <p:cTn id="4992" fill="hold">
                            <p:stCondLst>
                              <p:cond delay="0"/>
                            </p:stCondLst>
                            <p:childTnLst>
                              <p:par>
                                <p:cTn id="4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5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6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1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2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3" fill="hold">
                      <p:stCondLst>
                        <p:cond delay="indefinite"/>
                      </p:stCondLst>
                      <p:childTnLst>
                        <p:par>
                          <p:cTn id="5004" fill="hold">
                            <p:stCondLst>
                              <p:cond delay="0"/>
                            </p:stCondLst>
                            <p:childTnLst>
                              <p:par>
                                <p:cTn id="5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7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8" fill="hold">
                      <p:stCondLst>
                        <p:cond delay="indefinite"/>
                      </p:stCondLst>
                      <p:childTnLst>
                        <p:par>
                          <p:cTn id="5009" fill="hold">
                            <p:stCondLst>
                              <p:cond delay="0"/>
                            </p:stCondLst>
                            <p:childTnLst>
                              <p:par>
                                <p:cTn id="5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4" fill="hold">
                      <p:stCondLst>
                        <p:cond delay="indefinite"/>
                      </p:stCondLst>
                      <p:childTnLst>
                        <p:par>
                          <p:cTn id="5015" fill="hold">
                            <p:stCondLst>
                              <p:cond delay="0"/>
                            </p:stCondLst>
                            <p:childTnLst>
                              <p:par>
                                <p:cTn id="5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8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9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0" fill="hold">
                      <p:stCondLst>
                        <p:cond delay="indefinite"/>
                      </p:stCondLst>
                      <p:childTnLst>
                        <p:par>
                          <p:cTn id="5021" fill="hold">
                            <p:stCondLst>
                              <p:cond delay="0"/>
                            </p:stCondLst>
                            <p:childTnLst>
                              <p:par>
                                <p:cTn id="5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4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5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1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4" fill="hold">
                      <p:stCondLst>
                        <p:cond delay="indefinite"/>
                      </p:stCondLst>
                      <p:childTnLst>
                        <p:par>
                          <p:cTn id="5035" fill="hold">
                            <p:stCondLst>
                              <p:cond delay="0"/>
                            </p:stCondLst>
                            <p:childTnLst>
                              <p:par>
                                <p:cTn id="5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8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9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1" fill="hold">
                      <p:stCondLst>
                        <p:cond delay="indefinite"/>
                      </p:stCondLst>
                      <p:childTnLst>
                        <p:par>
                          <p:cTn id="5042" fill="hold">
                            <p:stCondLst>
                              <p:cond delay="0"/>
                            </p:stCondLst>
                            <p:childTnLst>
                              <p:par>
                                <p:cTn id="5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5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6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8" fill="hold">
                      <p:stCondLst>
                        <p:cond delay="indefinite"/>
                      </p:stCondLst>
                      <p:childTnLst>
                        <p:par>
                          <p:cTn id="5049" fill="hold">
                            <p:stCondLst>
                              <p:cond delay="0"/>
                            </p:stCondLst>
                            <p:childTnLst>
                              <p:par>
                                <p:cTn id="5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2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3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4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5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7" fill="hold">
                      <p:stCondLst>
                        <p:cond delay="indefinite"/>
                      </p:stCondLst>
                      <p:childTnLst>
                        <p:par>
                          <p:cTn id="5058" fill="hold">
                            <p:stCondLst>
                              <p:cond delay="0"/>
                            </p:stCondLst>
                            <p:childTnLst>
                              <p:par>
                                <p:cTn id="50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1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2" fill="hold">
                      <p:stCondLst>
                        <p:cond delay="indefinite"/>
                      </p:stCondLst>
                      <p:childTnLst>
                        <p:par>
                          <p:cTn id="5063" fill="hold">
                            <p:stCondLst>
                              <p:cond delay="0"/>
                            </p:stCondLst>
                            <p:childTnLst>
                              <p:par>
                                <p:cTn id="5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6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7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8" fill="hold">
                            <p:stCondLst>
                              <p:cond delay="500"/>
                            </p:stCondLst>
                            <p:childTnLst>
                              <p:par>
                                <p:cTn id="5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1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2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3" fill="hold">
                      <p:stCondLst>
                        <p:cond delay="indefinite"/>
                      </p:stCondLst>
                      <p:childTnLst>
                        <p:par>
                          <p:cTn id="5074" fill="hold">
                            <p:stCondLst>
                              <p:cond delay="0"/>
                            </p:stCondLst>
                            <p:childTnLst>
                              <p:par>
                                <p:cTn id="5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7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8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3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4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nformation abou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per request that can be fulfilled  +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8" name=""/>
          <p:cNvGrpSpPr/>
          <p:nvPr/>
        </p:nvGrpSpPr>
        <p:grpSpPr>
          <a:xfrm>
            <a:off x="4867560" y="2057400"/>
            <a:ext cx="3057120" cy="1817640"/>
            <a:chOff x="4867560" y="2057400"/>
            <a:chExt cx="3057120" cy="1817640"/>
          </a:xfrm>
        </p:grpSpPr>
        <p:grpSp>
          <p:nvGrpSpPr>
            <p:cNvPr id="3359" name=""/>
            <p:cNvGrpSpPr/>
            <p:nvPr/>
          </p:nvGrpSpPr>
          <p:grpSpPr>
            <a:xfrm>
              <a:off x="7259400" y="2763360"/>
              <a:ext cx="487800" cy="178560"/>
              <a:chOff x="7259400" y="2763360"/>
              <a:chExt cx="487800" cy="178560"/>
            </a:xfrm>
          </p:grpSpPr>
          <p:sp>
            <p:nvSpPr>
              <p:cNvPr id="3360" name=""/>
              <p:cNvSpPr/>
              <p:nvPr/>
            </p:nvSpPr>
            <p:spPr>
              <a:xfrm>
                <a:off x="7626600" y="28202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0" y="0"/>
                    </a:moveTo>
                    <a:lnTo>
                      <a:pt x="136" y="68"/>
                    </a:lnTo>
                    <a:lnTo>
                      <a:pt x="0" y="136"/>
                    </a:lnTo>
                    <a:lnTo>
                      <a:pt x="46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lnTo>
                      <a:pt x="57" y="5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7721640" y="2837880"/>
                <a:ext cx="15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>
                <a:off x="7725240" y="2845440"/>
                <a:ext cx="13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lnTo>
                      <a:pt x="187" y="1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lnTo>
                      <a:pt x="3768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close/>
                  </a:path>
                </a:pathLst>
              </a:custGeom>
              <a:solidFill>
                <a:srgbClr val="006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lnTo>
                      <a:pt x="386" y="15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lnTo>
                      <a:pt x="0" y="6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lnTo>
                      <a:pt x="8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lnTo>
                      <a:pt x="423" y="9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lnTo>
                      <a:pt x="1038" y="5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lnTo>
                      <a:pt x="6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259760" y="2874960"/>
                <a:ext cx="518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H="1">
                <a:off x="7696080" y="2863080"/>
                <a:ext cx="47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7704000" y="2869920"/>
                <a:ext cx="399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417080" y="2825280"/>
                <a:ext cx="296280" cy="5400"/>
              </a:xfrm>
              <a:custGeom>
                <a:avLst/>
                <a:gdLst/>
                <a:ahLst/>
                <a:rect l="l" t="t" r="r" b="b"/>
                <a:pathLst>
                  <a:path w="3184" h="61">
                    <a:moveTo>
                      <a:pt x="0" y="50"/>
                    </a:moveTo>
                    <a:lnTo>
                      <a:pt x="0" y="61"/>
                    </a:lnTo>
                    <a:lnTo>
                      <a:pt x="31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407720" y="2766600"/>
                <a:ext cx="306360" cy="136440"/>
              </a:xfrm>
              <a:custGeom>
                <a:avLst/>
                <a:gdLst/>
                <a:ahLst/>
                <a:rect l="l" t="t" r="r" b="b"/>
                <a:pathLst>
                  <a:path w="3291" h="1428">
                    <a:moveTo>
                      <a:pt x="81" y="1428"/>
                    </a:moveTo>
                    <a:lnTo>
                      <a:pt x="59" y="1361"/>
                    </a:lnTo>
                    <a:lnTo>
                      <a:pt x="25" y="1226"/>
                    </a:lnTo>
                    <a:lnTo>
                      <a:pt x="0" y="1090"/>
                    </a:lnTo>
                    <a:lnTo>
                      <a:pt x="9" y="870"/>
                    </a:lnTo>
                    <a:lnTo>
                      <a:pt x="34" y="660"/>
                    </a:lnTo>
                    <a:lnTo>
                      <a:pt x="36" y="639"/>
                    </a:lnTo>
                    <a:lnTo>
                      <a:pt x="52" y="601"/>
                    </a:lnTo>
                    <a:lnTo>
                      <a:pt x="74" y="569"/>
                    </a:lnTo>
                    <a:lnTo>
                      <a:pt x="103" y="544"/>
                    </a:lnTo>
                    <a:lnTo>
                      <a:pt x="720" y="115"/>
                    </a:lnTo>
                    <a:lnTo>
                      <a:pt x="758" y="97"/>
                    </a:lnTo>
                    <a:lnTo>
                      <a:pt x="846" y="61"/>
                    </a:lnTo>
                    <a:lnTo>
                      <a:pt x="940" y="34"/>
                    </a:lnTo>
                    <a:lnTo>
                      <a:pt x="1650" y="0"/>
                    </a:lnTo>
                    <a:lnTo>
                      <a:pt x="2547" y="21"/>
                    </a:lnTo>
                    <a:lnTo>
                      <a:pt x="2640" y="80"/>
                    </a:lnTo>
                    <a:lnTo>
                      <a:pt x="3069" y="441"/>
                    </a:lnTo>
                    <a:lnTo>
                      <a:pt x="3291" y="6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389720" y="2903400"/>
                <a:ext cx="235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271280" y="2898360"/>
                <a:ext cx="27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286760" y="2843640"/>
                <a:ext cx="438480" cy="8280"/>
              </a:xfrm>
              <a:custGeom>
                <a:avLst/>
                <a:gdLst/>
                <a:ahLst/>
                <a:rect l="l" t="t" r="r" b="b"/>
                <a:pathLst>
                  <a:path w="4710" h="91">
                    <a:moveTo>
                      <a:pt x="0" y="91"/>
                    </a:moveTo>
                    <a:lnTo>
                      <a:pt x="3070" y="34"/>
                    </a:lnTo>
                    <a:lnTo>
                      <a:pt x="47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542360" y="2768040"/>
                <a:ext cx="12960" cy="135000"/>
              </a:xfrm>
              <a:custGeom>
                <a:avLst/>
                <a:gdLst/>
                <a:ahLst/>
                <a:rect l="l" t="t" r="r" b="b"/>
                <a:pathLst>
                  <a:path w="140" h="1417">
                    <a:moveTo>
                      <a:pt x="22" y="1417"/>
                    </a:moveTo>
                    <a:lnTo>
                      <a:pt x="17" y="1355"/>
                    </a:lnTo>
                    <a:lnTo>
                      <a:pt x="5" y="1178"/>
                    </a:lnTo>
                    <a:lnTo>
                      <a:pt x="0" y="997"/>
                    </a:lnTo>
                    <a:lnTo>
                      <a:pt x="7" y="817"/>
                    </a:lnTo>
                    <a:lnTo>
                      <a:pt x="25" y="639"/>
                    </a:lnTo>
                    <a:lnTo>
                      <a:pt x="34" y="639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307640" y="2850120"/>
                <a:ext cx="86040" cy="49680"/>
              </a:xfrm>
              <a:custGeom>
                <a:avLst/>
                <a:gdLst/>
                <a:ahLst/>
                <a:rect l="l" t="t" r="r" b="b"/>
                <a:pathLst>
                  <a:path w="924" h="518">
                    <a:moveTo>
                      <a:pt x="924" y="518"/>
                    </a:moveTo>
                    <a:lnTo>
                      <a:pt x="914" y="444"/>
                    </a:lnTo>
                    <a:lnTo>
                      <a:pt x="897" y="373"/>
                    </a:lnTo>
                    <a:lnTo>
                      <a:pt x="872" y="304"/>
                    </a:lnTo>
                    <a:lnTo>
                      <a:pt x="835" y="239"/>
                    </a:lnTo>
                    <a:lnTo>
                      <a:pt x="791" y="183"/>
                    </a:lnTo>
                    <a:lnTo>
                      <a:pt x="739" y="131"/>
                    </a:lnTo>
                    <a:lnTo>
                      <a:pt x="680" y="87"/>
                    </a:lnTo>
                    <a:lnTo>
                      <a:pt x="615" y="52"/>
                    </a:lnTo>
                    <a:lnTo>
                      <a:pt x="546" y="24"/>
                    </a:lnTo>
                    <a:lnTo>
                      <a:pt x="477" y="7"/>
                    </a:lnTo>
                    <a:lnTo>
                      <a:pt x="405" y="0"/>
                    </a:lnTo>
                    <a:lnTo>
                      <a:pt x="331" y="4"/>
                    </a:lnTo>
                    <a:lnTo>
                      <a:pt x="260" y="18"/>
                    </a:lnTo>
                    <a:lnTo>
                      <a:pt x="189" y="39"/>
                    </a:lnTo>
                    <a:lnTo>
                      <a:pt x="124" y="72"/>
                    </a:lnTo>
                    <a:lnTo>
                      <a:pt x="63" y="114"/>
                    </a:lnTo>
                    <a:lnTo>
                      <a:pt x="8" y="163"/>
                    </a:lnTo>
                    <a:lnTo>
                      <a:pt x="0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621200" y="2848680"/>
                <a:ext cx="78840" cy="51840"/>
              </a:xfrm>
              <a:custGeom>
                <a:avLst/>
                <a:gdLst/>
                <a:ahLst/>
                <a:rect l="l" t="t" r="r" b="b"/>
                <a:pathLst>
                  <a:path w="850" h="544">
                    <a:moveTo>
                      <a:pt x="850" y="128"/>
                    </a:moveTo>
                    <a:lnTo>
                      <a:pt x="792" y="84"/>
                    </a:lnTo>
                    <a:lnTo>
                      <a:pt x="731" y="48"/>
                    </a:lnTo>
                    <a:lnTo>
                      <a:pt x="664" y="21"/>
                    </a:lnTo>
                    <a:lnTo>
                      <a:pt x="593" y="8"/>
                    </a:lnTo>
                    <a:lnTo>
                      <a:pt x="524" y="0"/>
                    </a:lnTo>
                    <a:lnTo>
                      <a:pt x="452" y="4"/>
                    </a:lnTo>
                    <a:lnTo>
                      <a:pt x="380" y="17"/>
                    </a:lnTo>
                    <a:lnTo>
                      <a:pt x="311" y="42"/>
                    </a:lnTo>
                    <a:lnTo>
                      <a:pt x="248" y="73"/>
                    </a:lnTo>
                    <a:lnTo>
                      <a:pt x="188" y="115"/>
                    </a:lnTo>
                    <a:lnTo>
                      <a:pt x="135" y="164"/>
                    </a:lnTo>
                    <a:lnTo>
                      <a:pt x="92" y="222"/>
                    </a:lnTo>
                    <a:lnTo>
                      <a:pt x="55" y="283"/>
                    </a:lnTo>
                    <a:lnTo>
                      <a:pt x="24" y="350"/>
                    </a:lnTo>
                    <a:lnTo>
                      <a:pt x="7" y="419"/>
                    </a:lnTo>
                    <a:lnTo>
                      <a:pt x="0" y="491"/>
                    </a:lnTo>
                    <a:lnTo>
                      <a:pt x="3" y="5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627680" y="2768760"/>
                <a:ext cx="42120" cy="82080"/>
              </a:xfrm>
              <a:custGeom>
                <a:avLst/>
                <a:gdLst/>
                <a:ahLst/>
                <a:rect l="l" t="t" r="r" b="b"/>
                <a:pathLst>
                  <a:path w="454" h="858">
                    <a:moveTo>
                      <a:pt x="326" y="858"/>
                    </a:moveTo>
                    <a:lnTo>
                      <a:pt x="454" y="649"/>
                    </a:lnTo>
                    <a:lnTo>
                      <a:pt x="446" y="599"/>
                    </a:lnTo>
                    <a:lnTo>
                      <a:pt x="432" y="554"/>
                    </a:lnTo>
                    <a:lnTo>
                      <a:pt x="407" y="5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629120" y="2833560"/>
                <a:ext cx="180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629120" y="283356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93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386480" y="2872080"/>
                <a:ext cx="2419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383240" y="2868840"/>
                <a:ext cx="246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"/>
            <p:cNvGrpSpPr/>
            <p:nvPr/>
          </p:nvGrpSpPr>
          <p:grpSpPr>
            <a:xfrm>
              <a:off x="5218920" y="2741760"/>
              <a:ext cx="487800" cy="209880"/>
              <a:chOff x="5218920" y="2741760"/>
              <a:chExt cx="487800" cy="209880"/>
            </a:xfrm>
          </p:grpSpPr>
          <p:sp>
            <p:nvSpPr>
              <p:cNvPr id="3416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lnTo>
                      <a:pt x="14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lnTo>
                      <a:pt x="449" y="2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lnTo>
                      <a:pt x="24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lnTo>
                      <a:pt x="15" y="5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lnTo>
                      <a:pt x="1024" y="5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close/>
                  </a:path>
                </a:pathLst>
              </a:custGeom>
              <a:solidFill>
                <a:srgbClr val="c96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lnTo>
                      <a:pt x="5016" y="12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lnTo>
                      <a:pt x="603" y="4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H="1">
                <a:off x="5657400" y="2916360"/>
                <a:ext cx="42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H="1">
                <a:off x="5649480" y="2874960"/>
                <a:ext cx="56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>
                <a:off x="5655600" y="2889000"/>
                <a:ext cx="51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225760" y="2896920"/>
                <a:ext cx="38880" cy="6480"/>
              </a:xfrm>
              <a:custGeom>
                <a:avLst/>
                <a:gdLst/>
                <a:ahLst/>
                <a:rect l="l" t="t" r="r" b="b"/>
                <a:pathLst>
                  <a:path w="441" h="53">
                    <a:moveTo>
                      <a:pt x="0" y="0"/>
                    </a:moveTo>
                    <a:lnTo>
                      <a:pt x="130" y="2"/>
                    </a:lnTo>
                    <a:lnTo>
                      <a:pt x="262" y="17"/>
                    </a:lnTo>
                    <a:lnTo>
                      <a:pt x="390" y="38"/>
                    </a:lnTo>
                    <a:lnTo>
                      <a:pt x="441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218920" y="2879640"/>
                <a:ext cx="4968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218920" y="2862000"/>
                <a:ext cx="6300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lnTo>
                      <a:pt x="0" y="23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lnTo>
                      <a:pt x="0" y="21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236920" y="2832120"/>
                <a:ext cx="439200" cy="14400"/>
              </a:xfrm>
              <a:custGeom>
                <a:avLst/>
                <a:gdLst/>
                <a:ahLst/>
                <a:rect l="l" t="t" r="r" b="b"/>
                <a:pathLst>
                  <a:path w="4966" h="124">
                    <a:moveTo>
                      <a:pt x="4966" y="124"/>
                    </a:moveTo>
                    <a:lnTo>
                      <a:pt x="2228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238360" y="2837880"/>
                <a:ext cx="426600" cy="10440"/>
              </a:xfrm>
              <a:custGeom>
                <a:avLst/>
                <a:gdLst/>
                <a:ahLst/>
                <a:rect l="l" t="t" r="r" b="b"/>
                <a:pathLst>
                  <a:path w="4823" h="89">
                    <a:moveTo>
                      <a:pt x="4823" y="89"/>
                    </a:moveTo>
                    <a:lnTo>
                      <a:pt x="3660" y="89"/>
                    </a:lnTo>
                    <a:lnTo>
                      <a:pt x="2214" y="64"/>
                    </a:lnTo>
                    <a:lnTo>
                      <a:pt x="946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20080" y="2746080"/>
                <a:ext cx="251640" cy="164880"/>
              </a:xfrm>
              <a:custGeom>
                <a:avLst/>
                <a:gdLst/>
                <a:ahLst/>
                <a:rect l="l" t="t" r="r" b="b"/>
                <a:pathLst>
                  <a:path w="2850" h="1405">
                    <a:moveTo>
                      <a:pt x="2696" y="612"/>
                    </a:moveTo>
                    <a:lnTo>
                      <a:pt x="1926" y="115"/>
                    </a:lnTo>
                    <a:lnTo>
                      <a:pt x="1903" y="101"/>
                    </a:lnTo>
                    <a:lnTo>
                      <a:pt x="1873" y="84"/>
                    </a:lnTo>
                    <a:lnTo>
                      <a:pt x="1836" y="65"/>
                    </a:lnTo>
                    <a:lnTo>
                      <a:pt x="1775" y="51"/>
                    </a:lnTo>
                    <a:lnTo>
                      <a:pt x="1722" y="40"/>
                    </a:lnTo>
                    <a:lnTo>
                      <a:pt x="1711" y="40"/>
                    </a:lnTo>
                    <a:lnTo>
                      <a:pt x="1477" y="25"/>
                    </a:lnTo>
                    <a:lnTo>
                      <a:pt x="1036" y="6"/>
                    </a:lnTo>
                    <a:lnTo>
                      <a:pt x="597" y="0"/>
                    </a:lnTo>
                    <a:lnTo>
                      <a:pt x="574" y="0"/>
                    </a:lnTo>
                    <a:lnTo>
                      <a:pt x="528" y="0"/>
                    </a:lnTo>
                    <a:lnTo>
                      <a:pt x="488" y="9"/>
                    </a:lnTo>
                    <a:lnTo>
                      <a:pt x="450" y="29"/>
                    </a:lnTo>
                    <a:lnTo>
                      <a:pt x="418" y="54"/>
                    </a:lnTo>
                    <a:lnTo>
                      <a:pt x="410" y="62"/>
                    </a:lnTo>
                    <a:lnTo>
                      <a:pt x="0" y="596"/>
                    </a:lnTo>
                    <a:lnTo>
                      <a:pt x="9" y="741"/>
                    </a:lnTo>
                    <a:lnTo>
                      <a:pt x="11" y="774"/>
                    </a:lnTo>
                    <a:lnTo>
                      <a:pt x="19" y="816"/>
                    </a:lnTo>
                    <a:lnTo>
                      <a:pt x="42" y="852"/>
                    </a:lnTo>
                    <a:lnTo>
                      <a:pt x="72" y="886"/>
                    </a:lnTo>
                    <a:lnTo>
                      <a:pt x="108" y="908"/>
                    </a:lnTo>
                    <a:lnTo>
                      <a:pt x="150" y="919"/>
                    </a:lnTo>
                    <a:lnTo>
                      <a:pt x="215" y="959"/>
                    </a:lnTo>
                    <a:lnTo>
                      <a:pt x="273" y="1005"/>
                    </a:lnTo>
                    <a:lnTo>
                      <a:pt x="324" y="1059"/>
                    </a:lnTo>
                    <a:lnTo>
                      <a:pt x="366" y="1123"/>
                    </a:lnTo>
                    <a:lnTo>
                      <a:pt x="396" y="1190"/>
                    </a:lnTo>
                    <a:lnTo>
                      <a:pt x="418" y="1263"/>
                    </a:lnTo>
                    <a:lnTo>
                      <a:pt x="429" y="1336"/>
                    </a:lnTo>
                    <a:lnTo>
                      <a:pt x="433" y="1395"/>
                    </a:lnTo>
                    <a:lnTo>
                      <a:pt x="2850" y="14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45640" y="2864160"/>
                <a:ext cx="235080" cy="4680"/>
              </a:xfrm>
              <a:custGeom>
                <a:avLst/>
                <a:gdLst/>
                <a:ahLst/>
                <a:rect l="l" t="t" r="r" b="b"/>
                <a:pathLst>
                  <a:path w="2663" h="38">
                    <a:moveTo>
                      <a:pt x="2663" y="38"/>
                    </a:moveTo>
                    <a:lnTo>
                      <a:pt x="2432" y="38"/>
                    </a:lnTo>
                    <a:lnTo>
                      <a:pt x="101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1400" y="2874960"/>
                <a:ext cx="224640" cy="3240"/>
              </a:xfrm>
              <a:custGeom>
                <a:avLst/>
                <a:gdLst/>
                <a:ahLst/>
                <a:rect l="l" t="t" r="r" b="b"/>
                <a:pathLst>
                  <a:path w="2549" h="28">
                    <a:moveTo>
                      <a:pt x="2549" y="28"/>
                    </a:moveTo>
                    <a:lnTo>
                      <a:pt x="2368" y="28"/>
                    </a:lnTo>
                    <a:lnTo>
                      <a:pt x="936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53720" y="2817720"/>
                <a:ext cx="6840" cy="104760"/>
              </a:xfrm>
              <a:custGeom>
                <a:avLst/>
                <a:gdLst/>
                <a:ahLst/>
                <a:rect l="l" t="t" r="r" b="b"/>
                <a:pathLst>
                  <a:path w="80" h="894">
                    <a:moveTo>
                      <a:pt x="53" y="0"/>
                    </a:moveTo>
                    <a:lnTo>
                      <a:pt x="76" y="160"/>
                    </a:lnTo>
                    <a:lnTo>
                      <a:pt x="80" y="318"/>
                    </a:lnTo>
                    <a:lnTo>
                      <a:pt x="76" y="477"/>
                    </a:lnTo>
                    <a:lnTo>
                      <a:pt x="55" y="634"/>
                    </a:lnTo>
                    <a:lnTo>
                      <a:pt x="25" y="790"/>
                    </a:lnTo>
                    <a:lnTo>
                      <a:pt x="0" y="8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423400" y="2747520"/>
                <a:ext cx="12600" cy="162360"/>
              </a:xfrm>
              <a:custGeom>
                <a:avLst/>
                <a:gdLst/>
                <a:ahLst/>
                <a:rect l="l" t="t" r="r" b="b"/>
                <a:pathLst>
                  <a:path w="142" h="1383">
                    <a:moveTo>
                      <a:pt x="92" y="1383"/>
                    </a:moveTo>
                    <a:lnTo>
                      <a:pt x="94" y="1368"/>
                    </a:lnTo>
                    <a:lnTo>
                      <a:pt x="119" y="1245"/>
                    </a:lnTo>
                    <a:lnTo>
                      <a:pt x="136" y="1119"/>
                    </a:lnTo>
                    <a:lnTo>
                      <a:pt x="142" y="991"/>
                    </a:lnTo>
                    <a:lnTo>
                      <a:pt x="136" y="865"/>
                    </a:lnTo>
                    <a:lnTo>
                      <a:pt x="119" y="737"/>
                    </a:lnTo>
                    <a:lnTo>
                      <a:pt x="92" y="6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566320" y="2861280"/>
                <a:ext cx="4680" cy="468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566320" y="286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4" y="3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45360" y="2835000"/>
                <a:ext cx="187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445360" y="2835000"/>
                <a:ext cx="18720" cy="8640"/>
              </a:xfrm>
              <a:custGeom>
                <a:avLst/>
                <a:gdLst/>
                <a:ahLst/>
                <a:rect l="l" t="t" r="r" b="b"/>
                <a:pathLst>
                  <a:path w="217" h="75">
                    <a:moveTo>
                      <a:pt x="217" y="75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217" y="75"/>
                    </a:lnTo>
                    <a:lnTo>
                      <a:pt x="217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445360" y="2835000"/>
                <a:ext cx="1872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445360" y="2835000"/>
                <a:ext cx="18720" cy="5760"/>
              </a:xfrm>
              <a:custGeom>
                <a:avLst/>
                <a:gdLst/>
                <a:ahLst/>
                <a:rect l="l" t="t" r="r" b="b"/>
                <a:pathLst>
                  <a:path w="217" h="50">
                    <a:moveTo>
                      <a:pt x="217" y="50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17" y="50"/>
                    </a:lnTo>
                    <a:lnTo>
                      <a:pt x="217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29800" y="2830320"/>
                <a:ext cx="1944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29800" y="283032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16" h="76">
                    <a:moveTo>
                      <a:pt x="216" y="76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16" y="76"/>
                    </a:lnTo>
                    <a:lnTo>
                      <a:pt x="216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29800" y="2830320"/>
                <a:ext cx="1944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29800" y="2830320"/>
                <a:ext cx="19440" cy="5760"/>
              </a:xfrm>
              <a:custGeom>
                <a:avLst/>
                <a:gdLst/>
                <a:ahLst/>
                <a:rect l="l" t="t" r="r" b="b"/>
                <a:pathLst>
                  <a:path w="216" h="51">
                    <a:moveTo>
                      <a:pt x="216" y="51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216" y="51"/>
                    </a:lnTo>
                    <a:lnTo>
                      <a:pt x="216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lnTo>
                      <a:pt x="1153" y="5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lnTo>
                      <a:pt x="8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69920" y="281664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1242" h="230">
                    <a:moveTo>
                      <a:pt x="0" y="0"/>
                    </a:moveTo>
                    <a:lnTo>
                      <a:pt x="147" y="17"/>
                    </a:lnTo>
                    <a:lnTo>
                      <a:pt x="293" y="37"/>
                    </a:lnTo>
                    <a:lnTo>
                      <a:pt x="441" y="59"/>
                    </a:lnTo>
                    <a:lnTo>
                      <a:pt x="588" y="82"/>
                    </a:lnTo>
                    <a:lnTo>
                      <a:pt x="734" y="113"/>
                    </a:lnTo>
                    <a:lnTo>
                      <a:pt x="879" y="141"/>
                    </a:lnTo>
                    <a:lnTo>
                      <a:pt x="1024" y="174"/>
                    </a:lnTo>
                    <a:lnTo>
                      <a:pt x="1167" y="210"/>
                    </a:lnTo>
                    <a:lnTo>
                      <a:pt x="124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231160" y="2809080"/>
                <a:ext cx="318240" cy="13320"/>
              </a:xfrm>
              <a:custGeom>
                <a:avLst/>
                <a:gdLst/>
                <a:ahLst/>
                <a:rect l="l" t="t" r="r" b="b"/>
                <a:pathLst>
                  <a:path w="3596" h="114">
                    <a:moveTo>
                      <a:pt x="0" y="0"/>
                    </a:moveTo>
                    <a:lnTo>
                      <a:pt x="1090" y="62"/>
                    </a:lnTo>
                    <a:lnTo>
                      <a:pt x="2175" y="102"/>
                    </a:lnTo>
                    <a:lnTo>
                      <a:pt x="3353" y="114"/>
                    </a:lnTo>
                    <a:lnTo>
                      <a:pt x="3593" y="99"/>
                    </a:lnTo>
                    <a:lnTo>
                      <a:pt x="3596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229000" y="2747520"/>
                <a:ext cx="106920" cy="58680"/>
              </a:xfrm>
              <a:custGeom>
                <a:avLst/>
                <a:gdLst/>
                <a:ahLst/>
                <a:rect l="l" t="t" r="r" b="b"/>
                <a:pathLst>
                  <a:path w="1209" h="503">
                    <a:moveTo>
                      <a:pt x="1171" y="0"/>
                    </a:moveTo>
                    <a:lnTo>
                      <a:pt x="1198" y="8"/>
                    </a:lnTo>
                    <a:lnTo>
                      <a:pt x="1207" y="20"/>
                    </a:lnTo>
                    <a:lnTo>
                      <a:pt x="1209" y="37"/>
                    </a:lnTo>
                    <a:lnTo>
                      <a:pt x="1203" y="50"/>
                    </a:lnTo>
                    <a:lnTo>
                      <a:pt x="1192" y="62"/>
                    </a:lnTo>
                    <a:lnTo>
                      <a:pt x="1050" y="125"/>
                    </a:lnTo>
                    <a:lnTo>
                      <a:pt x="447" y="413"/>
                    </a:lnTo>
                    <a:lnTo>
                      <a:pt x="386" y="438"/>
                    </a:lnTo>
                    <a:lnTo>
                      <a:pt x="316" y="461"/>
                    </a:lnTo>
                    <a:lnTo>
                      <a:pt x="249" y="478"/>
                    </a:lnTo>
                    <a:lnTo>
                      <a:pt x="197" y="483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225760" y="2830320"/>
                <a:ext cx="10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23600" y="2837880"/>
                <a:ext cx="14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223600" y="284940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65720" y="2754000"/>
                <a:ext cx="84600" cy="57960"/>
              </a:xfrm>
              <a:custGeom>
                <a:avLst/>
                <a:gdLst/>
                <a:ahLst/>
                <a:rect l="l" t="t" r="r" b="b"/>
                <a:pathLst>
                  <a:path w="960" h="497">
                    <a:moveTo>
                      <a:pt x="40" y="369"/>
                    </a:moveTo>
                    <a:lnTo>
                      <a:pt x="693" y="61"/>
                    </a:lnTo>
                    <a:lnTo>
                      <a:pt x="735" y="44"/>
                    </a:lnTo>
                    <a:lnTo>
                      <a:pt x="813" y="23"/>
                    </a:lnTo>
                    <a:lnTo>
                      <a:pt x="901" y="6"/>
                    </a:lnTo>
                    <a:lnTo>
                      <a:pt x="960" y="0"/>
                    </a:lnTo>
                    <a:lnTo>
                      <a:pt x="958" y="11"/>
                    </a:lnTo>
                    <a:lnTo>
                      <a:pt x="523" y="497"/>
                    </a:lnTo>
                    <a:lnTo>
                      <a:pt x="190" y="472"/>
                    </a:lnTo>
                    <a:lnTo>
                      <a:pt x="50" y="458"/>
                    </a:lnTo>
                    <a:lnTo>
                      <a:pt x="28" y="455"/>
                    </a:lnTo>
                    <a:lnTo>
                      <a:pt x="9" y="444"/>
                    </a:lnTo>
                    <a:lnTo>
                      <a:pt x="0" y="424"/>
                    </a:lnTo>
                    <a:lnTo>
                      <a:pt x="0" y="402"/>
                    </a:lnTo>
                    <a:lnTo>
                      <a:pt x="11" y="382"/>
                    </a:lnTo>
                    <a:lnTo>
                      <a:pt x="30" y="371"/>
                    </a:lnTo>
                    <a:lnTo>
                      <a:pt x="36" y="3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18640" y="27514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39" h="81">
                    <a:moveTo>
                      <a:pt x="3" y="0"/>
                    </a:moveTo>
                    <a:lnTo>
                      <a:pt x="31" y="8"/>
                    </a:lnTo>
                    <a:lnTo>
                      <a:pt x="36" y="14"/>
                    </a:lnTo>
                    <a:lnTo>
                      <a:pt x="39" y="23"/>
                    </a:lnTo>
                    <a:lnTo>
                      <a:pt x="39" y="34"/>
                    </a:lnTo>
                    <a:lnTo>
                      <a:pt x="36" y="48"/>
                    </a:lnTo>
                    <a:lnTo>
                      <a:pt x="28" y="59"/>
                    </a:lnTo>
                    <a:lnTo>
                      <a:pt x="20" y="67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lnTo>
                      <a:pt x="70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lnTo>
                      <a:pt x="155" y="1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 rot="564000">
              <a:off x="4952880" y="2387520"/>
              <a:ext cx="2751840" cy="1271160"/>
            </a:xfrm>
            <a:custGeom>
              <a:avLst/>
              <a:gdLst/>
              <a:ahLst/>
              <a:rect l="l" t="t" r="r" b="b"/>
              <a:pathLst>
                <a:path w="1776" h="1104">
                  <a:moveTo>
                    <a:pt x="240" y="0"/>
                  </a:moveTo>
                  <a:lnTo>
                    <a:pt x="528" y="48"/>
                  </a:lnTo>
                  <a:lnTo>
                    <a:pt x="720" y="384"/>
                  </a:lnTo>
                  <a:lnTo>
                    <a:pt x="1008" y="480"/>
                  </a:lnTo>
                  <a:lnTo>
                    <a:pt x="1248" y="720"/>
                  </a:lnTo>
                  <a:lnTo>
                    <a:pt x="1536" y="816"/>
                  </a:lnTo>
                  <a:lnTo>
                    <a:pt x="1776" y="1056"/>
                  </a:lnTo>
                  <a:lnTo>
                    <a:pt x="1392" y="1104"/>
                  </a:lnTo>
                  <a:lnTo>
                    <a:pt x="1392" y="1008"/>
                  </a:lnTo>
                  <a:lnTo>
                    <a:pt x="1200" y="864"/>
                  </a:lnTo>
                  <a:lnTo>
                    <a:pt x="960" y="768"/>
                  </a:lnTo>
                  <a:lnTo>
                    <a:pt x="912" y="624"/>
                  </a:lnTo>
                  <a:lnTo>
                    <a:pt x="576" y="480"/>
                  </a:lnTo>
                  <a:lnTo>
                    <a:pt x="432" y="288"/>
                  </a:lnTo>
                  <a:lnTo>
                    <a:pt x="192" y="96"/>
                  </a:lnTo>
                  <a:lnTo>
                    <a:pt x="0" y="96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4997160" y="2057400"/>
              <a:ext cx="2927520" cy="1129320"/>
              <a:chOff x="4997160" y="2057400"/>
              <a:chExt cx="2927520" cy="1129320"/>
            </a:xfrm>
          </p:grpSpPr>
          <p:sp>
            <p:nvSpPr>
              <p:cNvPr id="3481" name=""/>
              <p:cNvSpPr/>
              <p:nvPr/>
            </p:nvSpPr>
            <p:spPr>
              <a:xfrm>
                <a:off x="4997160" y="2057400"/>
                <a:ext cx="2927520" cy="1129320"/>
              </a:xfrm>
              <a:custGeom>
                <a:avLst/>
                <a:gdLst/>
                <a:ahLst/>
                <a:rect l="l" t="t" r="r" b="b"/>
                <a:pathLst>
                  <a:path w="2127" h="626">
                    <a:moveTo>
                      <a:pt x="863" y="232"/>
                    </a:moveTo>
                    <a:lnTo>
                      <a:pt x="1263" y="232"/>
                    </a:lnTo>
                    <a:lnTo>
                      <a:pt x="1279" y="243"/>
                    </a:lnTo>
                    <a:lnTo>
                      <a:pt x="1279" y="253"/>
                    </a:lnTo>
                    <a:lnTo>
                      <a:pt x="1279" y="626"/>
                    </a:lnTo>
                    <a:lnTo>
                      <a:pt x="1518" y="626"/>
                    </a:lnTo>
                    <a:lnTo>
                      <a:pt x="1518" y="271"/>
                    </a:lnTo>
                    <a:lnTo>
                      <a:pt x="1531" y="280"/>
                    </a:lnTo>
                    <a:lnTo>
                      <a:pt x="1556" y="294"/>
                    </a:lnTo>
                    <a:lnTo>
                      <a:pt x="1600" y="320"/>
                    </a:lnTo>
                    <a:lnTo>
                      <a:pt x="1600" y="490"/>
                    </a:lnTo>
                    <a:lnTo>
                      <a:pt x="1628" y="490"/>
                    </a:lnTo>
                    <a:lnTo>
                      <a:pt x="1628" y="333"/>
                    </a:lnTo>
                    <a:lnTo>
                      <a:pt x="1671" y="354"/>
                    </a:lnTo>
                    <a:lnTo>
                      <a:pt x="1722" y="378"/>
                    </a:lnTo>
                    <a:lnTo>
                      <a:pt x="1722" y="490"/>
                    </a:lnTo>
                    <a:lnTo>
                      <a:pt x="1752" y="490"/>
                    </a:lnTo>
                    <a:lnTo>
                      <a:pt x="1752" y="391"/>
                    </a:lnTo>
                    <a:lnTo>
                      <a:pt x="1793" y="408"/>
                    </a:lnTo>
                    <a:lnTo>
                      <a:pt x="1837" y="427"/>
                    </a:lnTo>
                    <a:lnTo>
                      <a:pt x="1837" y="490"/>
                    </a:lnTo>
                    <a:lnTo>
                      <a:pt x="1867" y="490"/>
                    </a:lnTo>
                    <a:lnTo>
                      <a:pt x="1867" y="437"/>
                    </a:lnTo>
                    <a:lnTo>
                      <a:pt x="1880" y="442"/>
                    </a:lnTo>
                    <a:lnTo>
                      <a:pt x="1900" y="449"/>
                    </a:lnTo>
                    <a:lnTo>
                      <a:pt x="1926" y="457"/>
                    </a:lnTo>
                    <a:lnTo>
                      <a:pt x="1954" y="465"/>
                    </a:lnTo>
                    <a:lnTo>
                      <a:pt x="1984" y="473"/>
                    </a:lnTo>
                    <a:lnTo>
                      <a:pt x="2012" y="481"/>
                    </a:lnTo>
                    <a:lnTo>
                      <a:pt x="2038" y="486"/>
                    </a:lnTo>
                    <a:lnTo>
                      <a:pt x="2050" y="489"/>
                    </a:lnTo>
                    <a:lnTo>
                      <a:pt x="2061" y="490"/>
                    </a:lnTo>
                    <a:lnTo>
                      <a:pt x="1518" y="490"/>
                    </a:lnTo>
                    <a:lnTo>
                      <a:pt x="1518" y="509"/>
                    </a:lnTo>
                    <a:lnTo>
                      <a:pt x="2127" y="509"/>
                    </a:lnTo>
                    <a:lnTo>
                      <a:pt x="2127" y="491"/>
                    </a:lnTo>
                    <a:lnTo>
                      <a:pt x="2107" y="488"/>
                    </a:lnTo>
                    <a:lnTo>
                      <a:pt x="2086" y="484"/>
                    </a:lnTo>
                    <a:lnTo>
                      <a:pt x="2066" y="480"/>
                    </a:lnTo>
                    <a:lnTo>
                      <a:pt x="2043" y="475"/>
                    </a:lnTo>
                    <a:lnTo>
                      <a:pt x="2000" y="463"/>
                    </a:lnTo>
                    <a:lnTo>
                      <a:pt x="1954" y="450"/>
                    </a:lnTo>
                    <a:lnTo>
                      <a:pt x="1905" y="435"/>
                    </a:lnTo>
                    <a:lnTo>
                      <a:pt x="1862" y="419"/>
                    </a:lnTo>
                    <a:lnTo>
                      <a:pt x="1839" y="410"/>
                    </a:lnTo>
                    <a:lnTo>
                      <a:pt x="1816" y="401"/>
                    </a:lnTo>
                    <a:lnTo>
                      <a:pt x="1773" y="383"/>
                    </a:lnTo>
                    <a:lnTo>
                      <a:pt x="1730" y="365"/>
                    </a:lnTo>
                    <a:lnTo>
                      <a:pt x="1689" y="346"/>
                    </a:lnTo>
                    <a:lnTo>
                      <a:pt x="1651" y="327"/>
                    </a:lnTo>
                    <a:lnTo>
                      <a:pt x="1612" y="308"/>
                    </a:lnTo>
                    <a:lnTo>
                      <a:pt x="1579" y="290"/>
                    </a:lnTo>
                    <a:lnTo>
                      <a:pt x="1551" y="273"/>
                    </a:lnTo>
                    <a:lnTo>
                      <a:pt x="1526" y="257"/>
                    </a:lnTo>
                    <a:lnTo>
                      <a:pt x="1505" y="243"/>
                    </a:lnTo>
                    <a:lnTo>
                      <a:pt x="1518" y="232"/>
                    </a:lnTo>
                    <a:lnTo>
                      <a:pt x="1518" y="86"/>
                    </a:lnTo>
                    <a:lnTo>
                      <a:pt x="1500" y="70"/>
                    </a:lnTo>
                    <a:lnTo>
                      <a:pt x="1480" y="86"/>
                    </a:lnTo>
                    <a:lnTo>
                      <a:pt x="1477" y="85"/>
                    </a:lnTo>
                    <a:lnTo>
                      <a:pt x="1467" y="81"/>
                    </a:lnTo>
                    <a:lnTo>
                      <a:pt x="1454" y="74"/>
                    </a:lnTo>
                    <a:lnTo>
                      <a:pt x="1439" y="64"/>
                    </a:lnTo>
                    <a:lnTo>
                      <a:pt x="1424" y="52"/>
                    </a:lnTo>
                    <a:lnTo>
                      <a:pt x="1416" y="45"/>
                    </a:lnTo>
                    <a:lnTo>
                      <a:pt x="1411" y="37"/>
                    </a:lnTo>
                    <a:lnTo>
                      <a:pt x="1406" y="29"/>
                    </a:lnTo>
                    <a:lnTo>
                      <a:pt x="1401" y="20"/>
                    </a:lnTo>
                    <a:lnTo>
                      <a:pt x="1398" y="11"/>
                    </a:lnTo>
                    <a:lnTo>
                      <a:pt x="1398" y="0"/>
                    </a:lnTo>
                    <a:lnTo>
                      <a:pt x="1398" y="11"/>
                    </a:lnTo>
                    <a:lnTo>
                      <a:pt x="1396" y="20"/>
                    </a:lnTo>
                    <a:lnTo>
                      <a:pt x="1393" y="25"/>
                    </a:lnTo>
                    <a:lnTo>
                      <a:pt x="1391" y="29"/>
                    </a:lnTo>
                    <a:lnTo>
                      <a:pt x="1386" y="37"/>
                    </a:lnTo>
                    <a:lnTo>
                      <a:pt x="1378" y="45"/>
                    </a:lnTo>
                    <a:lnTo>
                      <a:pt x="1373" y="52"/>
                    </a:lnTo>
                    <a:lnTo>
                      <a:pt x="1358" y="64"/>
                    </a:lnTo>
                    <a:lnTo>
                      <a:pt x="1342" y="74"/>
                    </a:lnTo>
                    <a:lnTo>
                      <a:pt x="1330" y="81"/>
                    </a:lnTo>
                    <a:lnTo>
                      <a:pt x="1319" y="85"/>
                    </a:lnTo>
                    <a:lnTo>
                      <a:pt x="1317" y="86"/>
                    </a:lnTo>
                    <a:lnTo>
                      <a:pt x="1297" y="70"/>
                    </a:lnTo>
                    <a:lnTo>
                      <a:pt x="1279" y="86"/>
                    </a:lnTo>
                    <a:lnTo>
                      <a:pt x="1279" y="194"/>
                    </a:lnTo>
                    <a:lnTo>
                      <a:pt x="848" y="194"/>
                    </a:lnTo>
                    <a:lnTo>
                      <a:pt x="848" y="86"/>
                    </a:lnTo>
                    <a:lnTo>
                      <a:pt x="830" y="70"/>
                    </a:lnTo>
                    <a:lnTo>
                      <a:pt x="810" y="86"/>
                    </a:lnTo>
                    <a:lnTo>
                      <a:pt x="807" y="85"/>
                    </a:lnTo>
                    <a:lnTo>
                      <a:pt x="797" y="81"/>
                    </a:lnTo>
                    <a:lnTo>
                      <a:pt x="785" y="74"/>
                    </a:lnTo>
                    <a:lnTo>
                      <a:pt x="769" y="64"/>
                    </a:lnTo>
                    <a:lnTo>
                      <a:pt x="754" y="52"/>
                    </a:lnTo>
                    <a:lnTo>
                      <a:pt x="746" y="45"/>
                    </a:lnTo>
                    <a:lnTo>
                      <a:pt x="741" y="37"/>
                    </a:lnTo>
                    <a:lnTo>
                      <a:pt x="736" y="29"/>
                    </a:lnTo>
                    <a:lnTo>
                      <a:pt x="731" y="20"/>
                    </a:lnTo>
                    <a:lnTo>
                      <a:pt x="728" y="11"/>
                    </a:lnTo>
                    <a:lnTo>
                      <a:pt x="728" y="0"/>
                    </a:lnTo>
                    <a:lnTo>
                      <a:pt x="728" y="11"/>
                    </a:lnTo>
                    <a:lnTo>
                      <a:pt x="723" y="20"/>
                    </a:lnTo>
                    <a:lnTo>
                      <a:pt x="723" y="25"/>
                    </a:lnTo>
                    <a:lnTo>
                      <a:pt x="721" y="29"/>
                    </a:lnTo>
                    <a:lnTo>
                      <a:pt x="716" y="37"/>
                    </a:lnTo>
                    <a:lnTo>
                      <a:pt x="708" y="45"/>
                    </a:lnTo>
                    <a:lnTo>
                      <a:pt x="703" y="52"/>
                    </a:lnTo>
                    <a:lnTo>
                      <a:pt x="688" y="64"/>
                    </a:lnTo>
                    <a:lnTo>
                      <a:pt x="672" y="74"/>
                    </a:lnTo>
                    <a:lnTo>
                      <a:pt x="660" y="81"/>
                    </a:lnTo>
                    <a:lnTo>
                      <a:pt x="650" y="85"/>
                    </a:lnTo>
                    <a:lnTo>
                      <a:pt x="647" y="86"/>
                    </a:lnTo>
                    <a:lnTo>
                      <a:pt x="627" y="70"/>
                    </a:lnTo>
                    <a:lnTo>
                      <a:pt x="609" y="86"/>
                    </a:lnTo>
                    <a:lnTo>
                      <a:pt x="609" y="232"/>
                    </a:lnTo>
                    <a:lnTo>
                      <a:pt x="622" y="243"/>
                    </a:lnTo>
                    <a:lnTo>
                      <a:pt x="601" y="257"/>
                    </a:lnTo>
                    <a:lnTo>
                      <a:pt x="576" y="273"/>
                    </a:lnTo>
                    <a:lnTo>
                      <a:pt x="545" y="290"/>
                    </a:lnTo>
                    <a:lnTo>
                      <a:pt x="512" y="308"/>
                    </a:lnTo>
                    <a:lnTo>
                      <a:pt x="476" y="327"/>
                    </a:lnTo>
                    <a:lnTo>
                      <a:pt x="438" y="346"/>
                    </a:lnTo>
                    <a:lnTo>
                      <a:pt x="397" y="365"/>
                    </a:lnTo>
                    <a:lnTo>
                      <a:pt x="352" y="383"/>
                    </a:lnTo>
                    <a:lnTo>
                      <a:pt x="308" y="401"/>
                    </a:lnTo>
                    <a:lnTo>
                      <a:pt x="262" y="419"/>
                    </a:lnTo>
                    <a:lnTo>
                      <a:pt x="217" y="435"/>
                    </a:lnTo>
                    <a:lnTo>
                      <a:pt x="173" y="450"/>
                    </a:lnTo>
                    <a:lnTo>
                      <a:pt x="150" y="457"/>
                    </a:lnTo>
                    <a:lnTo>
                      <a:pt x="127" y="463"/>
                    </a:lnTo>
                    <a:lnTo>
                      <a:pt x="84" y="475"/>
                    </a:lnTo>
                    <a:lnTo>
                      <a:pt x="61" y="480"/>
                    </a:lnTo>
                    <a:lnTo>
                      <a:pt x="41" y="484"/>
                    </a:lnTo>
                    <a:lnTo>
                      <a:pt x="20" y="488"/>
                    </a:lnTo>
                    <a:lnTo>
                      <a:pt x="0" y="491"/>
                    </a:lnTo>
                    <a:lnTo>
                      <a:pt x="0" y="509"/>
                    </a:lnTo>
                    <a:lnTo>
                      <a:pt x="609" y="509"/>
                    </a:lnTo>
                    <a:lnTo>
                      <a:pt x="609" y="490"/>
                    </a:lnTo>
                    <a:lnTo>
                      <a:pt x="64" y="490"/>
                    </a:lnTo>
                    <a:lnTo>
                      <a:pt x="76" y="489"/>
                    </a:lnTo>
                    <a:lnTo>
                      <a:pt x="87" y="486"/>
                    </a:lnTo>
                    <a:lnTo>
                      <a:pt x="115" y="481"/>
                    </a:lnTo>
                    <a:lnTo>
                      <a:pt x="127" y="477"/>
                    </a:lnTo>
                    <a:lnTo>
                      <a:pt x="143" y="473"/>
                    </a:lnTo>
                    <a:lnTo>
                      <a:pt x="171" y="465"/>
                    </a:lnTo>
                    <a:lnTo>
                      <a:pt x="199" y="457"/>
                    </a:lnTo>
                    <a:lnTo>
                      <a:pt x="224" y="449"/>
                    </a:lnTo>
                    <a:lnTo>
                      <a:pt x="245" y="442"/>
                    </a:lnTo>
                    <a:lnTo>
                      <a:pt x="257" y="437"/>
                    </a:lnTo>
                    <a:lnTo>
                      <a:pt x="257" y="490"/>
                    </a:lnTo>
                    <a:lnTo>
                      <a:pt x="288" y="490"/>
                    </a:lnTo>
                    <a:lnTo>
                      <a:pt x="288" y="427"/>
                    </a:lnTo>
                    <a:lnTo>
                      <a:pt x="331" y="408"/>
                    </a:lnTo>
                    <a:lnTo>
                      <a:pt x="372" y="391"/>
                    </a:lnTo>
                    <a:lnTo>
                      <a:pt x="372" y="490"/>
                    </a:lnTo>
                    <a:lnTo>
                      <a:pt x="405" y="490"/>
                    </a:lnTo>
                    <a:lnTo>
                      <a:pt x="405" y="378"/>
                    </a:lnTo>
                    <a:lnTo>
                      <a:pt x="456" y="354"/>
                    </a:lnTo>
                    <a:lnTo>
                      <a:pt x="499" y="333"/>
                    </a:lnTo>
                    <a:lnTo>
                      <a:pt x="499" y="490"/>
                    </a:lnTo>
                    <a:lnTo>
                      <a:pt x="527" y="490"/>
                    </a:lnTo>
                    <a:lnTo>
                      <a:pt x="527" y="320"/>
                    </a:lnTo>
                    <a:lnTo>
                      <a:pt x="571" y="294"/>
                    </a:lnTo>
                    <a:lnTo>
                      <a:pt x="593" y="280"/>
                    </a:lnTo>
                    <a:lnTo>
                      <a:pt x="609" y="271"/>
                    </a:lnTo>
                    <a:lnTo>
                      <a:pt x="609" y="626"/>
                    </a:lnTo>
                    <a:lnTo>
                      <a:pt x="848" y="626"/>
                    </a:lnTo>
                    <a:lnTo>
                      <a:pt x="848" y="253"/>
                    </a:lnTo>
                    <a:lnTo>
                      <a:pt x="848" y="243"/>
                    </a:lnTo>
                    <a:lnTo>
                      <a:pt x="863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63920" y="2941200"/>
                <a:ext cx="593280" cy="32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757560" y="2495880"/>
                <a:ext cx="30816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865920" y="2208960"/>
                <a:ext cx="111600" cy="88200"/>
              </a:xfrm>
              <a:custGeom>
                <a:avLst/>
                <a:gdLst/>
                <a:ahLst/>
                <a:rect l="l" t="t" r="r" b="b"/>
                <a:pathLst>
                  <a:path w="81" h="49">
                    <a:moveTo>
                      <a:pt x="0" y="49"/>
                    </a:moveTo>
                    <a:lnTo>
                      <a:pt x="81" y="49"/>
                    </a:lnTo>
                    <a:lnTo>
                      <a:pt x="81" y="26"/>
                    </a:lnTo>
                    <a:lnTo>
                      <a:pt x="76" y="25"/>
                    </a:lnTo>
                    <a:lnTo>
                      <a:pt x="68" y="24"/>
                    </a:lnTo>
                    <a:lnTo>
                      <a:pt x="63" y="22"/>
                    </a:lnTo>
                    <a:lnTo>
                      <a:pt x="56" y="19"/>
                    </a:lnTo>
                    <a:lnTo>
                      <a:pt x="51" y="16"/>
                    </a:lnTo>
                    <a:lnTo>
                      <a:pt x="45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38" y="6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5" y="19"/>
                    </a:lnTo>
                    <a:lnTo>
                      <a:pt x="17" y="22"/>
                    </a:lnTo>
                    <a:lnTo>
                      <a:pt x="12" y="24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897960" y="2342520"/>
                <a:ext cx="4788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8306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9638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855120" y="2849400"/>
                <a:ext cx="12924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75756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75756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75756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71" y="22"/>
                    </a:moveTo>
                    <a:lnTo>
                      <a:pt x="0" y="22"/>
                    </a:lnTo>
                    <a:lnTo>
                      <a:pt x="0" y="31"/>
                    </a:lnTo>
                    <a:lnTo>
                      <a:pt x="239" y="31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75756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71" y="22"/>
                    </a:moveTo>
                    <a:lnTo>
                      <a:pt x="0" y="22"/>
                    </a:lnTo>
                    <a:lnTo>
                      <a:pt x="0" y="32"/>
                    </a:lnTo>
                    <a:lnTo>
                      <a:pt x="239" y="32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853240" y="2495880"/>
                <a:ext cx="310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943960" y="2208960"/>
                <a:ext cx="108360" cy="8820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9" y="49"/>
                    </a:moveTo>
                    <a:lnTo>
                      <a:pt x="0" y="49"/>
                    </a:lnTo>
                    <a:lnTo>
                      <a:pt x="0" y="26"/>
                    </a:lnTo>
                    <a:lnTo>
                      <a:pt x="5" y="25"/>
                    </a:lnTo>
                    <a:lnTo>
                      <a:pt x="10" y="24"/>
                    </a:lnTo>
                    <a:lnTo>
                      <a:pt x="18" y="22"/>
                    </a:lnTo>
                    <a:lnTo>
                      <a:pt x="25" y="19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38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11"/>
                    </a:lnTo>
                    <a:lnTo>
                      <a:pt x="51" y="16"/>
                    </a:lnTo>
                    <a:lnTo>
                      <a:pt x="56" y="19"/>
                    </a:lnTo>
                    <a:lnTo>
                      <a:pt x="63" y="22"/>
                    </a:lnTo>
                    <a:lnTo>
                      <a:pt x="69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975640" y="2342520"/>
                <a:ext cx="4824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4188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905440" y="2342520"/>
                <a:ext cx="5220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933160" y="2849400"/>
                <a:ext cx="12888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83524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83524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3524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83524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2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185160" y="2454480"/>
                <a:ext cx="554400" cy="1044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5630040" y="2057400"/>
              <a:ext cx="209520" cy="1035720"/>
              <a:chOff x="5630040" y="2057400"/>
              <a:chExt cx="209520" cy="1035720"/>
            </a:xfrm>
          </p:grpSpPr>
          <p:grpSp>
            <p:nvGrpSpPr>
              <p:cNvPr id="3505" name=""/>
              <p:cNvGrpSpPr/>
              <p:nvPr/>
            </p:nvGrpSpPr>
            <p:grpSpPr>
              <a:xfrm>
                <a:off x="5630040" y="2057400"/>
                <a:ext cx="209520" cy="1035720"/>
                <a:chOff x="5630040" y="2057400"/>
                <a:chExt cx="209520" cy="1035720"/>
              </a:xfrm>
            </p:grpSpPr>
            <p:grpSp>
              <p:nvGrpSpPr>
                <p:cNvPr id="3506" name=""/>
                <p:cNvGrpSpPr/>
                <p:nvPr/>
              </p:nvGrpSpPr>
              <p:grpSpPr>
                <a:xfrm>
                  <a:off x="5630040" y="2057400"/>
                  <a:ext cx="209520" cy="560880"/>
                  <a:chOff x="5630040" y="2057400"/>
                  <a:chExt cx="209520" cy="56088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>
                    <a:off x="563004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566172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566172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567108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1" name=""/>
                  <p:cNvGrpSpPr/>
                  <p:nvPr/>
                </p:nvGrpSpPr>
                <p:grpSpPr>
                  <a:xfrm>
                    <a:off x="5741280" y="2099520"/>
                    <a:ext cx="21960" cy="22320"/>
                    <a:chOff x="5741280" y="2099520"/>
                    <a:chExt cx="21960" cy="22320"/>
                  </a:xfrm>
                </p:grpSpPr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574128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3" name=""/>
                    <p:cNvSpPr/>
                    <p:nvPr/>
                  </p:nvSpPr>
                  <p:spPr>
                    <a:xfrm>
                      <a:off x="575208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14" name=""/>
                  <p:cNvSpPr/>
                  <p:nvPr/>
                </p:nvSpPr>
                <p:spPr>
                  <a:xfrm>
                    <a:off x="565776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565848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566784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7" name=""/>
                  <p:cNvGrpSpPr/>
                  <p:nvPr/>
                </p:nvGrpSpPr>
                <p:grpSpPr>
                  <a:xfrm>
                    <a:off x="5738040" y="2284920"/>
                    <a:ext cx="21960" cy="22320"/>
                    <a:chOff x="5738040" y="2284920"/>
                    <a:chExt cx="21960" cy="22320"/>
                  </a:xfrm>
                </p:grpSpPr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573804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9" name=""/>
                    <p:cNvSpPr/>
                    <p:nvPr/>
                  </p:nvSpPr>
                  <p:spPr>
                    <a:xfrm>
                      <a:off x="574920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0" name=""/>
                  <p:cNvGrpSpPr/>
                  <p:nvPr/>
                </p:nvGrpSpPr>
                <p:grpSpPr>
                  <a:xfrm>
                    <a:off x="5661720" y="2436120"/>
                    <a:ext cx="145080" cy="153000"/>
                    <a:chOff x="5661720" y="2436120"/>
                    <a:chExt cx="145080" cy="153000"/>
                  </a:xfrm>
                </p:grpSpPr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566172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5661720" y="2441520"/>
                      <a:ext cx="145080" cy="147600"/>
                      <a:chOff x="5661720" y="2441520"/>
                      <a:chExt cx="145080" cy="14760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566172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567108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25" name=""/>
                      <p:cNvGrpSpPr/>
                      <p:nvPr/>
                    </p:nvGrpSpPr>
                    <p:grpSpPr>
                      <a:xfrm>
                        <a:off x="5741280" y="2460600"/>
                        <a:ext cx="21960" cy="23040"/>
                        <a:chOff x="5741280" y="2460600"/>
                        <a:chExt cx="21960" cy="23040"/>
                      </a:xfrm>
                    </p:grpSpPr>
                    <p:sp>
                      <p:nvSpPr>
                        <p:cNvPr id="3526" name=""/>
                        <p:cNvSpPr/>
                        <p:nvPr/>
                      </p:nvSpPr>
                      <p:spPr>
                        <a:xfrm>
                          <a:off x="574128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27" name=""/>
                        <p:cNvSpPr/>
                        <p:nvPr/>
                      </p:nvSpPr>
                      <p:spPr>
                        <a:xfrm>
                          <a:off x="575208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28" name=""/>
                <p:cNvSpPr/>
                <p:nvPr/>
              </p:nvSpPr>
              <p:spPr>
                <a:xfrm>
                  <a:off x="5712120" y="2622240"/>
                  <a:ext cx="43200" cy="470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9" name=""/>
              <p:cNvSpPr/>
              <p:nvPr/>
            </p:nvSpPr>
            <p:spPr>
              <a:xfrm>
                <a:off x="5670360" y="20829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663880" y="226620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7081920" y="2057400"/>
              <a:ext cx="209520" cy="1035720"/>
              <a:chOff x="7081920" y="2057400"/>
              <a:chExt cx="209520" cy="1035720"/>
            </a:xfrm>
          </p:grpSpPr>
          <p:grpSp>
            <p:nvGrpSpPr>
              <p:cNvPr id="3532" name=""/>
              <p:cNvGrpSpPr/>
              <p:nvPr/>
            </p:nvGrpSpPr>
            <p:grpSpPr>
              <a:xfrm>
                <a:off x="7081920" y="2057400"/>
                <a:ext cx="209520" cy="1035720"/>
                <a:chOff x="7081920" y="2057400"/>
                <a:chExt cx="209520" cy="1035720"/>
              </a:xfrm>
            </p:grpSpPr>
            <p:grpSp>
              <p:nvGrpSpPr>
                <p:cNvPr id="3533" name=""/>
                <p:cNvGrpSpPr/>
                <p:nvPr/>
              </p:nvGrpSpPr>
              <p:grpSpPr>
                <a:xfrm>
                  <a:off x="7081920" y="2057400"/>
                  <a:ext cx="209520" cy="560880"/>
                  <a:chOff x="7081920" y="2057400"/>
                  <a:chExt cx="209520" cy="560880"/>
                </a:xfrm>
              </p:grpSpPr>
              <p:sp>
                <p:nvSpPr>
                  <p:cNvPr id="3534" name=""/>
                  <p:cNvSpPr/>
                  <p:nvPr/>
                </p:nvSpPr>
                <p:spPr>
                  <a:xfrm>
                    <a:off x="708192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711360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711360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712296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38" name=""/>
                  <p:cNvGrpSpPr/>
                  <p:nvPr/>
                </p:nvGrpSpPr>
                <p:grpSpPr>
                  <a:xfrm>
                    <a:off x="7193160" y="2099520"/>
                    <a:ext cx="21960" cy="22320"/>
                    <a:chOff x="7193160" y="2099520"/>
                    <a:chExt cx="21960" cy="22320"/>
                  </a:xfrm>
                </p:grpSpPr>
                <p:sp>
                  <p:nvSpPr>
                    <p:cNvPr id="3539" name=""/>
                    <p:cNvSpPr/>
                    <p:nvPr/>
                  </p:nvSpPr>
                  <p:spPr>
                    <a:xfrm>
                      <a:off x="719316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0" name=""/>
                    <p:cNvSpPr/>
                    <p:nvPr/>
                  </p:nvSpPr>
                  <p:spPr>
                    <a:xfrm>
                      <a:off x="720396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1" name=""/>
                  <p:cNvSpPr/>
                  <p:nvPr/>
                </p:nvSpPr>
                <p:spPr>
                  <a:xfrm>
                    <a:off x="710964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711036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11972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4" name=""/>
                  <p:cNvGrpSpPr/>
                  <p:nvPr/>
                </p:nvGrpSpPr>
                <p:grpSpPr>
                  <a:xfrm>
                    <a:off x="7189920" y="2284920"/>
                    <a:ext cx="21960" cy="22320"/>
                    <a:chOff x="7189920" y="2284920"/>
                    <a:chExt cx="21960" cy="22320"/>
                  </a:xfrm>
                </p:grpSpPr>
                <p:sp>
                  <p:nvSpPr>
                    <p:cNvPr id="3545" name=""/>
                    <p:cNvSpPr/>
                    <p:nvPr/>
                  </p:nvSpPr>
                  <p:spPr>
                    <a:xfrm>
                      <a:off x="718992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6" name=""/>
                    <p:cNvSpPr/>
                    <p:nvPr/>
                  </p:nvSpPr>
                  <p:spPr>
                    <a:xfrm>
                      <a:off x="720108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7" name=""/>
                  <p:cNvGrpSpPr/>
                  <p:nvPr/>
                </p:nvGrpSpPr>
                <p:grpSpPr>
                  <a:xfrm>
                    <a:off x="7113600" y="2436120"/>
                    <a:ext cx="145080" cy="153000"/>
                    <a:chOff x="7113600" y="2436120"/>
                    <a:chExt cx="145080" cy="153000"/>
                  </a:xfrm>
                </p:grpSpPr>
                <p:sp>
                  <p:nvSpPr>
                    <p:cNvPr id="3548" name=""/>
                    <p:cNvSpPr/>
                    <p:nvPr/>
                  </p:nvSpPr>
                  <p:spPr>
                    <a:xfrm>
                      <a:off x="711360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49" name=""/>
                    <p:cNvGrpSpPr/>
                    <p:nvPr/>
                  </p:nvGrpSpPr>
                  <p:grpSpPr>
                    <a:xfrm>
                      <a:off x="7113600" y="2441520"/>
                      <a:ext cx="145080" cy="147600"/>
                      <a:chOff x="7113600" y="2441520"/>
                      <a:chExt cx="145080" cy="147600"/>
                    </a:xfrm>
                  </p:grpSpPr>
                  <p:sp>
                    <p:nvSpPr>
                      <p:cNvPr id="3550" name=""/>
                      <p:cNvSpPr/>
                      <p:nvPr/>
                    </p:nvSpPr>
                    <p:spPr>
                      <a:xfrm>
                        <a:off x="711360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1" name=""/>
                      <p:cNvSpPr/>
                      <p:nvPr/>
                    </p:nvSpPr>
                    <p:spPr>
                      <a:xfrm>
                        <a:off x="712296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52" name=""/>
                      <p:cNvGrpSpPr/>
                      <p:nvPr/>
                    </p:nvGrpSpPr>
                    <p:grpSpPr>
                      <a:xfrm>
                        <a:off x="7193160" y="2460600"/>
                        <a:ext cx="21960" cy="23040"/>
                        <a:chOff x="7193160" y="2460600"/>
                        <a:chExt cx="21960" cy="23040"/>
                      </a:xfrm>
                    </p:grpSpPr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719316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4" name=""/>
                        <p:cNvSpPr/>
                        <p:nvPr/>
                      </p:nvSpPr>
                      <p:spPr>
                        <a:xfrm>
                          <a:off x="720396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55" name=""/>
                <p:cNvSpPr/>
                <p:nvPr/>
              </p:nvSpPr>
              <p:spPr>
                <a:xfrm>
                  <a:off x="7164000" y="2622240"/>
                  <a:ext cx="43200" cy="470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7124400" y="24465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20440" y="226908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5" dur="indefinite" restart="never" nodeType="tmRoot">
          <p:childTnLst>
            <p:seq>
              <p:cTn id="5086" dur="indefinite" nodeType="mainSeq">
                <p:childTnLst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1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2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7" dur="500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0" dur="500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&amp;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either prevention, nor avoid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0" name=""/>
          <p:cNvGraphicFramePr/>
          <p:nvPr/>
        </p:nvGraphicFramePr>
        <p:xfrm>
          <a:off x="4038480" y="2209680"/>
          <a:ext cx="180036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09680"/>
                    <a:ext cx="1800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2" name=""/>
          <p:cNvGraphicFramePr/>
          <p:nvPr/>
        </p:nvGraphicFramePr>
        <p:xfrm>
          <a:off x="1981080" y="4038480"/>
          <a:ext cx="2895840" cy="21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289584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4" name=""/>
          <p:cNvSpPr/>
          <p:nvPr/>
        </p:nvSpPr>
        <p:spPr>
          <a:xfrm>
            <a:off x="5109120" y="34084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194360" y="554184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5" dur="indefinite" restart="never" nodeType="tmRoot">
          <p:childTnLst>
            <p:seq>
              <p:cTn id="5116" dur="indefinite" nodeType="mainSeq">
                <p:childTnLst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1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2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3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4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5" fill="hold">
                            <p:stCondLst>
                              <p:cond delay="500"/>
                            </p:stCondLst>
                            <p:childTnLst>
                              <p:par>
                                <p:cTn id="5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500"/>
                            </p:stCondLst>
                            <p:childTnLst>
                              <p:par>
                                <p:cTn id="51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8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971800"/>
            <a:ext cx="3886200" cy="243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2767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4038480"/>
            <a:ext cx="990720" cy="533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648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3505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02240" y="2784600"/>
            <a:ext cx="3032280" cy="398880"/>
          </a:xfrm>
          <a:prstGeom prst="borderCallout1">
            <a:avLst>
              <a:gd name="adj1" fmla="val 18750"/>
              <a:gd name="adj2" fmla="val -8333"/>
              <a:gd name="adj3" fmla="val 238861"/>
              <a:gd name="adj4" fmla="val -3831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3581280"/>
            <a:ext cx="30481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vent which can only be caused by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114800"/>
            <a:ext cx="4343400" cy="965160"/>
          </a:xfrm>
          <a:custGeom>
            <a:avLst/>
            <a:gdLst/>
            <a:ahLst/>
            <a:rect l="l" t="t" r="r" b="b"/>
            <a:pathLst>
              <a:path w="2328" h="608">
                <a:moveTo>
                  <a:pt x="2160" y="0"/>
                </a:moveTo>
                <a:cubicBezTo>
                  <a:pt x="2244" y="224"/>
                  <a:pt x="2328" y="448"/>
                  <a:pt x="1968" y="528"/>
                </a:cubicBezTo>
                <a:cubicBezTo>
                  <a:pt x="1608" y="608"/>
                  <a:pt x="804" y="544"/>
                  <a:pt x="0" y="4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080" y="4876920"/>
            <a:ext cx="1715400" cy="58140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 / 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8" name=""/>
          <p:cNvGraphicFramePr/>
          <p:nvPr/>
        </p:nvGraphicFramePr>
        <p:xfrm>
          <a:off x="3124080" y="1676520"/>
          <a:ext cx="1155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1155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0" name=""/>
          <p:cNvSpPr/>
          <p:nvPr/>
        </p:nvSpPr>
        <p:spPr>
          <a:xfrm>
            <a:off x="4829040" y="29718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it-for-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68580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(s) /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801680" y="4343400"/>
            <a:ext cx="37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nker´s Algorithm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9" dur="indefinite" restart="never" nodeType="tmRoot">
          <p:childTnLst>
            <p:seq>
              <p:cTn id="5140" dur="indefinite" nodeType="mainSeq">
                <p:childTnLst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5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8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4" fill="hold">
                      <p:stCondLst>
                        <p:cond delay="indefinite"/>
                      </p:stCondLst>
                      <p:childTnLst>
                        <p:par>
                          <p:cTn id="5155" fill="hold">
                            <p:stCondLst>
                              <p:cond delay="0"/>
                            </p:stCondLst>
                            <p:childTnLst>
                              <p:par>
                                <p:cTn id="5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8" dur="500"/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1" dur="500"/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2" fill="hold">
                            <p:stCondLst>
                              <p:cond delay="500"/>
                            </p:stCondLst>
                            <p:childTnLst>
                              <p:par>
                                <p:cTn id="5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5" dur="75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6" fill="hold">
                      <p:stCondLst>
                        <p:cond delay="indefinite"/>
                      </p:stCondLst>
                      <p:childTnLst>
                        <p:par>
                          <p:cTn id="5167" fill="hold">
                            <p:stCondLst>
                              <p:cond delay="0"/>
                            </p:stCondLst>
                            <p:childTnLst>
                              <p:par>
                                <p:cTn id="5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0" dur="500"/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1" fill="hold">
                            <p:stCondLst>
                              <p:cond delay="500"/>
                            </p:stCondLst>
                            <p:childTnLst>
                              <p:par>
                                <p:cTn id="5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4" dur="75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4" name=""/>
          <p:cNvGrpSpPr/>
          <p:nvPr/>
        </p:nvGrpSpPr>
        <p:grpSpPr>
          <a:xfrm>
            <a:off x="2057400" y="1828800"/>
            <a:ext cx="762120" cy="990720"/>
            <a:chOff x="2057400" y="1828800"/>
            <a:chExt cx="762120" cy="990720"/>
          </a:xfrm>
        </p:grpSpPr>
        <p:sp>
          <p:nvSpPr>
            <p:cNvPr id="3575" name=""/>
            <p:cNvSpPr/>
            <p:nvPr/>
          </p:nvSpPr>
          <p:spPr>
            <a:xfrm>
              <a:off x="20574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2129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3623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8" name=""/>
          <p:cNvSpPr/>
          <p:nvPr/>
        </p:nvSpPr>
        <p:spPr>
          <a:xfrm>
            <a:off x="3505320" y="2200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685800" y="22003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0" name=""/>
          <p:cNvCxnSpPr>
            <a:stCxn id="3575" idx="1"/>
            <a:endCxn id="3579" idx="6"/>
          </p:cNvCxnSpPr>
          <p:nvPr/>
        </p:nvCxnSpPr>
        <p:spPr>
          <a:xfrm flipH="1" flipV="1">
            <a:off x="1371240" y="2504880"/>
            <a:ext cx="667440" cy="10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581" name=""/>
          <p:cNvCxnSpPr>
            <a:stCxn id="3578" idx="2"/>
            <a:endCxn id="3577" idx="6"/>
          </p:cNvCxnSpPr>
          <p:nvPr/>
        </p:nvCxnSpPr>
        <p:spPr>
          <a:xfrm flipH="1">
            <a:off x="2514240" y="2505240"/>
            <a:ext cx="991440" cy="100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582" name=""/>
          <p:cNvSpPr/>
          <p:nvPr/>
        </p:nvSpPr>
        <p:spPr>
          <a:xfrm>
            <a:off x="3581280" y="48769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62120" y="4876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4" name=""/>
          <p:cNvCxnSpPr>
            <a:stCxn id="3582" idx="2"/>
            <a:endCxn id="3583" idx="6"/>
          </p:cNvCxnSpPr>
          <p:nvPr/>
        </p:nvCxnSpPr>
        <p:spPr>
          <a:xfrm flipH="1">
            <a:off x="1447560" y="5181120"/>
            <a:ext cx="213408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585" name=""/>
          <p:cNvSpPr/>
          <p:nvPr/>
        </p:nvSpPr>
        <p:spPr>
          <a:xfrm>
            <a:off x="19810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574160" y="1905120"/>
            <a:ext cx="17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664520" y="4768920"/>
            <a:ext cx="15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-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9528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956720" y="4836960"/>
            <a:ext cx="342720" cy="3416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086600" y="4838760"/>
            <a:ext cx="343080" cy="34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315200" y="51814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7315200" y="45997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3" name=""/>
          <p:cNvGrpSpPr/>
          <p:nvPr/>
        </p:nvGrpSpPr>
        <p:grpSpPr>
          <a:xfrm>
            <a:off x="6629400" y="1927080"/>
            <a:ext cx="1670040" cy="1949040"/>
            <a:chOff x="6629400" y="1927080"/>
            <a:chExt cx="1670040" cy="1949040"/>
          </a:xfrm>
        </p:grpSpPr>
        <p:sp>
          <p:nvSpPr>
            <p:cNvPr id="3594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7499520" y="1927080"/>
              <a:ext cx="472320" cy="649080"/>
              <a:chOff x="7499520" y="1927080"/>
              <a:chExt cx="472320" cy="649080"/>
            </a:xfrm>
          </p:grpSpPr>
          <p:sp>
            <p:nvSpPr>
              <p:cNvPr id="3596" name=""/>
              <p:cNvSpPr/>
              <p:nvPr/>
            </p:nvSpPr>
            <p:spPr>
              <a:xfrm>
                <a:off x="7499520" y="2235240"/>
                <a:ext cx="380520" cy="34092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579440" y="19270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652160" y="2363040"/>
                <a:ext cx="75960" cy="85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99" name=""/>
            <p:cNvCxnSpPr>
              <a:stCxn id="3598" idx="5"/>
              <a:endCxn id="3600" idx="1"/>
            </p:cNvCxnSpPr>
            <p:nvPr/>
          </p:nvCxnSpPr>
          <p:spPr>
            <a:xfrm>
              <a:off x="7716600" y="2436480"/>
              <a:ext cx="291240" cy="3164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3601" name=""/>
            <p:cNvCxnSpPr>
              <a:stCxn id="3602" idx="4"/>
              <a:endCxn id="3603" idx="1"/>
            </p:cNvCxnSpPr>
            <p:nvPr/>
          </p:nvCxnSpPr>
          <p:spPr>
            <a:xfrm>
              <a:off x="7257600" y="3046320"/>
              <a:ext cx="229320" cy="29448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604" name=""/>
            <p:cNvCxnSpPr>
              <a:stCxn id="3602" idx="0"/>
              <a:endCxn id="3596" idx="1"/>
            </p:cNvCxnSpPr>
            <p:nvPr/>
          </p:nvCxnSpPr>
          <p:spPr>
            <a:xfrm flipV="1">
              <a:off x="7257960" y="2405880"/>
              <a:ext cx="226080" cy="29916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3605" name=""/>
            <p:cNvGrpSpPr/>
            <p:nvPr/>
          </p:nvGrpSpPr>
          <p:grpSpPr>
            <a:xfrm>
              <a:off x="7505640" y="3168720"/>
              <a:ext cx="438120" cy="707400"/>
              <a:chOff x="7505640" y="3168720"/>
              <a:chExt cx="438120" cy="707400"/>
            </a:xfrm>
          </p:grpSpPr>
          <p:sp>
            <p:nvSpPr>
              <p:cNvPr id="3606" name=""/>
              <p:cNvSpPr/>
              <p:nvPr/>
            </p:nvSpPr>
            <p:spPr>
              <a:xfrm>
                <a:off x="7551360" y="350532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7" name=""/>
              <p:cNvGrpSpPr/>
              <p:nvPr/>
            </p:nvGrpSpPr>
            <p:grpSpPr>
              <a:xfrm>
                <a:off x="7505640" y="3168720"/>
                <a:ext cx="381240" cy="341280"/>
                <a:chOff x="7505640" y="3168720"/>
                <a:chExt cx="381240" cy="34128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7505640" y="3168720"/>
                  <a:ext cx="381240" cy="3412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7658640" y="330480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0" name=""/>
            <p:cNvSpPr/>
            <p:nvPr/>
          </p:nvSpPr>
          <p:spPr>
            <a:xfrm>
              <a:off x="7956720" y="2703600"/>
              <a:ext cx="34272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1" name=""/>
            <p:cNvCxnSpPr>
              <a:stCxn id="3610" idx="6"/>
              <a:endCxn id="3600" idx="4"/>
            </p:cNvCxnSpPr>
            <p:nvPr/>
          </p:nvCxnSpPr>
          <p:spPr>
            <a:xfrm flipV="1">
              <a:off x="7735680" y="3044520"/>
              <a:ext cx="392760" cy="3038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3612" name=""/>
            <p:cNvGrpSpPr/>
            <p:nvPr/>
          </p:nvGrpSpPr>
          <p:grpSpPr>
            <a:xfrm>
              <a:off x="6629400" y="1940040"/>
              <a:ext cx="474840" cy="650520"/>
              <a:chOff x="6629400" y="1940040"/>
              <a:chExt cx="474840" cy="650520"/>
            </a:xfrm>
          </p:grpSpPr>
          <p:sp>
            <p:nvSpPr>
              <p:cNvPr id="3613" name=""/>
              <p:cNvSpPr/>
              <p:nvPr/>
            </p:nvSpPr>
            <p:spPr>
              <a:xfrm>
                <a:off x="6629400" y="2249280"/>
                <a:ext cx="380880" cy="3412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711840" y="194004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782400" y="2377080"/>
                <a:ext cx="76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16" name=""/>
            <p:cNvCxnSpPr>
              <a:stCxn id="3602" idx="1"/>
              <a:endCxn id="3615" idx="5"/>
            </p:cNvCxnSpPr>
            <p:nvPr/>
          </p:nvCxnSpPr>
          <p:spPr>
            <a:xfrm flipH="1" flipV="1">
              <a:off x="6848280" y="2448720"/>
              <a:ext cx="289440" cy="3056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5" dur="indefinite" restart="never" nodeType="tmRoot">
          <p:childTnLst>
            <p:seq>
              <p:cTn id="5176" dur="indefinite" nodeType="mainSeq">
                <p:childTnLst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1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2" fill="hold">
                      <p:stCondLst>
                        <p:cond delay="indefinite"/>
                      </p:stCondLst>
                      <p:childTnLst>
                        <p:par>
                          <p:cTn id="5183" fill="hold">
                            <p:stCondLst>
                              <p:cond delay="0"/>
                            </p:stCondLst>
                            <p:childTnLst>
                              <p:par>
                                <p:cTn id="5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1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2" fill="hold">
                      <p:stCondLst>
                        <p:cond delay="indefinite"/>
                      </p:stCondLst>
                      <p:childTnLst>
                        <p:par>
                          <p:cTn id="5193" fill="hold">
                            <p:stCondLst>
                              <p:cond delay="0"/>
                            </p:stCondLst>
                            <p:childTnLst>
                              <p:par>
                                <p:cTn id="5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6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7" fill="hold">
                            <p:stCondLst>
                              <p:cond delay="500"/>
                            </p:stCondLst>
                            <p:childTnLst>
                              <p:par>
                                <p:cTn id="5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0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8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2" dur="500"/>
                                        <p:tgtEl>
                                          <p:spTgt spid="3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3" fill="hold">
                      <p:stCondLst>
                        <p:cond delay="indefinite"/>
                      </p:stCondLst>
                      <p:childTnLst>
                        <p:par>
                          <p:cTn id="5214" fill="hold">
                            <p:stCondLst>
                              <p:cond delay="0"/>
                            </p:stCondLst>
                            <p:childTnLst>
                              <p:par>
                                <p:cTn id="5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7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8" fill="hold">
                      <p:stCondLst>
                        <p:cond delay="indefinite"/>
                      </p:stCondLst>
                      <p:childTnLst>
                        <p:par>
                          <p:cTn id="5219" fill="hold">
                            <p:stCondLst>
                              <p:cond delay="0"/>
                            </p:stCondLst>
                            <p:childTnLst>
                              <p:par>
                                <p:cTn id="5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6" dur="5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0" dur="5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5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6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1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2" fill="hold">
                            <p:stCondLst>
                              <p:cond delay="500"/>
                            </p:stCondLst>
                            <p:childTnLst>
                              <p:par>
                                <p:cTn id="5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6" fill="hold">
                      <p:stCondLst>
                        <p:cond delay="indefinite"/>
                      </p:stCondLst>
                      <p:childTnLst>
                        <p:par>
                          <p:cTn id="5247" fill="hold">
                            <p:stCondLst>
                              <p:cond delay="0"/>
                            </p:stCondLst>
                            <p:childTnLst>
                              <p:par>
                                <p:cTn id="5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0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5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/>
          <p:nvPr/>
        </p:nvSpPr>
        <p:spPr>
          <a:xfrm>
            <a:off x="5562720" y="3352680"/>
            <a:ext cx="2514600" cy="2590920"/>
          </a:xfrm>
          <a:prstGeom prst="ellipse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9" name=""/>
          <p:cNvGrpSpPr/>
          <p:nvPr/>
        </p:nvGrpSpPr>
        <p:grpSpPr>
          <a:xfrm>
            <a:off x="609480" y="1447920"/>
            <a:ext cx="4572000" cy="4572000"/>
            <a:chOff x="609480" y="1447920"/>
            <a:chExt cx="4572000" cy="4572000"/>
          </a:xfrm>
        </p:grpSpPr>
        <p:grpSp>
          <p:nvGrpSpPr>
            <p:cNvPr id="3620" name=""/>
            <p:cNvGrpSpPr/>
            <p:nvPr/>
          </p:nvGrpSpPr>
          <p:grpSpPr>
            <a:xfrm>
              <a:off x="838080" y="2057400"/>
              <a:ext cx="762120" cy="990720"/>
              <a:chOff x="838080" y="2057400"/>
              <a:chExt cx="762120" cy="990720"/>
            </a:xfrm>
          </p:grpSpPr>
          <p:sp>
            <p:nvSpPr>
              <p:cNvPr id="3621" name=""/>
              <p:cNvSpPr/>
              <p:nvPr/>
            </p:nvSpPr>
            <p:spPr>
              <a:xfrm>
                <a:off x="838080" y="24382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99360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43000" y="2666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4" name=""/>
            <p:cNvSpPr/>
            <p:nvPr/>
          </p:nvSpPr>
          <p:spPr>
            <a:xfrm>
              <a:off x="2286000" y="54100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13372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26" name=""/>
            <p:cNvCxnSpPr>
              <a:stCxn id="3621" idx="2"/>
              <a:endCxn id="3627" idx="0"/>
            </p:cNvCxnSpPr>
            <p:nvPr/>
          </p:nvCxnSpPr>
          <p:spPr>
            <a:xfrm flipH="1">
              <a:off x="95220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28" name=""/>
            <p:cNvCxnSpPr>
              <a:stCxn id="3625" idx="1"/>
              <a:endCxn id="3623" idx="6"/>
            </p:cNvCxnSpPr>
            <p:nvPr/>
          </p:nvCxnSpPr>
          <p:spPr>
            <a:xfrm flipH="1" flipV="1">
              <a:off x="1294920" y="2742840"/>
              <a:ext cx="938880" cy="1003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grpSp>
          <p:nvGrpSpPr>
            <p:cNvPr id="3629" name=""/>
            <p:cNvGrpSpPr/>
            <p:nvPr/>
          </p:nvGrpSpPr>
          <p:grpSpPr>
            <a:xfrm>
              <a:off x="1295280" y="4419720"/>
              <a:ext cx="762120" cy="990000"/>
              <a:chOff x="1295280" y="4419720"/>
              <a:chExt cx="762120" cy="990000"/>
            </a:xfrm>
          </p:grpSpPr>
          <p:sp>
            <p:nvSpPr>
              <p:cNvPr id="3630" name=""/>
              <p:cNvSpPr/>
              <p:nvPr/>
            </p:nvSpPr>
            <p:spPr>
              <a:xfrm>
                <a:off x="129528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45080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60020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362320" y="2057400"/>
              <a:ext cx="761760" cy="990720"/>
              <a:chOff x="2362320" y="2057400"/>
              <a:chExt cx="761760" cy="990720"/>
            </a:xfrm>
          </p:grpSpPr>
          <p:sp>
            <p:nvSpPr>
              <p:cNvPr id="3634" name=""/>
              <p:cNvSpPr/>
              <p:nvPr/>
            </p:nvSpPr>
            <p:spPr>
              <a:xfrm>
                <a:off x="23623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5174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6668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3657600" y="4419720"/>
              <a:ext cx="762120" cy="990000"/>
              <a:chOff x="3657600" y="4419720"/>
              <a:chExt cx="762120" cy="990000"/>
            </a:xfrm>
          </p:grpSpPr>
          <p:sp>
            <p:nvSpPr>
              <p:cNvPr id="3638" name=""/>
              <p:cNvSpPr/>
              <p:nvPr/>
            </p:nvSpPr>
            <p:spPr>
              <a:xfrm>
                <a:off x="365760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1312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6252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1" name=""/>
            <p:cNvGrpSpPr/>
            <p:nvPr/>
          </p:nvGrpSpPr>
          <p:grpSpPr>
            <a:xfrm>
              <a:off x="3962520" y="2057400"/>
              <a:ext cx="761760" cy="990720"/>
              <a:chOff x="3962520" y="2057400"/>
              <a:chExt cx="761760" cy="990720"/>
            </a:xfrm>
          </p:grpSpPr>
          <p:sp>
            <p:nvSpPr>
              <p:cNvPr id="3642" name=""/>
              <p:cNvSpPr/>
              <p:nvPr/>
            </p:nvSpPr>
            <p:spPr>
              <a:xfrm>
                <a:off x="39625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1176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42670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>
              <a:off x="3124080" y="14479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4956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094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7" name=""/>
            <p:cNvCxnSpPr>
              <a:stCxn id="3634" idx="2"/>
              <a:endCxn id="3625" idx="0"/>
            </p:cNvCxnSpPr>
            <p:nvPr/>
          </p:nvCxnSpPr>
          <p:spPr>
            <a:xfrm flipH="1">
              <a:off x="247608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8" name=""/>
            <p:cNvCxnSpPr>
              <a:stCxn id="3638" idx="1"/>
              <a:endCxn id="3625" idx="5"/>
            </p:cNvCxnSpPr>
            <p:nvPr/>
          </p:nvCxnSpPr>
          <p:spPr>
            <a:xfrm flipH="1" flipV="1">
              <a:off x="2718720" y="4177800"/>
              <a:ext cx="919800" cy="9280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9" name=""/>
            <p:cNvCxnSpPr>
              <a:stCxn id="3624" idx="6"/>
              <a:endCxn id="3640" idx="3"/>
            </p:cNvCxnSpPr>
            <p:nvPr/>
          </p:nvCxnSpPr>
          <p:spPr>
            <a:xfrm flipV="1">
              <a:off x="2971440" y="5158800"/>
              <a:ext cx="1013400" cy="5562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0" name=""/>
            <p:cNvCxnSpPr>
              <a:stCxn id="3642" idx="2"/>
              <a:endCxn id="3646" idx="0"/>
            </p:cNvCxnSpPr>
            <p:nvPr/>
          </p:nvCxnSpPr>
          <p:spPr>
            <a:xfrm>
              <a:off x="4343400" y="3067200"/>
              <a:ext cx="49608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1" name=""/>
            <p:cNvCxnSpPr>
              <a:stCxn id="3627" idx="4"/>
              <a:endCxn id="3632" idx="6"/>
            </p:cNvCxnSpPr>
            <p:nvPr/>
          </p:nvCxnSpPr>
          <p:spPr>
            <a:xfrm>
              <a:off x="952560" y="4266720"/>
              <a:ext cx="800640" cy="8391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2" name=""/>
            <p:cNvCxnSpPr>
              <a:stCxn id="3645" idx="3"/>
              <a:endCxn id="3636" idx="7"/>
            </p:cNvCxnSpPr>
            <p:nvPr/>
          </p:nvCxnSpPr>
          <p:spPr>
            <a:xfrm flipH="1">
              <a:off x="2796840" y="1968480"/>
              <a:ext cx="4276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3" name=""/>
            <p:cNvCxnSpPr>
              <a:stCxn id="3645" idx="5"/>
              <a:endCxn id="3644" idx="1"/>
            </p:cNvCxnSpPr>
            <p:nvPr/>
          </p:nvCxnSpPr>
          <p:spPr>
            <a:xfrm>
              <a:off x="3709800" y="1968480"/>
              <a:ext cx="57996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4" name=""/>
            <p:cNvCxnSpPr>
              <a:stCxn id="3638" idx="3"/>
              <a:endCxn id="3646" idx="4"/>
            </p:cNvCxnSpPr>
            <p:nvPr/>
          </p:nvCxnSpPr>
          <p:spPr>
            <a:xfrm flipV="1">
              <a:off x="4438440" y="4266360"/>
              <a:ext cx="400680" cy="83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5" name=""/>
            <p:cNvCxnSpPr>
              <a:stCxn id="3630" idx="2"/>
              <a:endCxn id="3624" idx="2"/>
            </p:cNvCxnSpPr>
            <p:nvPr/>
          </p:nvCxnSpPr>
          <p:spPr>
            <a:xfrm>
              <a:off x="1676160" y="5429160"/>
              <a:ext cx="610200" cy="2865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</p:grpSp>
      <p:sp>
        <p:nvSpPr>
          <p:cNvPr id="3656" name=""/>
          <p:cNvSpPr/>
          <p:nvPr/>
        </p:nvSpPr>
        <p:spPr>
          <a:xfrm>
            <a:off x="6991200" y="2514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579132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99120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815328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991200" y="502920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1" name=""/>
          <p:cNvCxnSpPr>
            <a:stCxn id="3658" idx="2"/>
            <a:endCxn id="3657" idx="6"/>
          </p:cNvCxnSpPr>
          <p:nvPr/>
        </p:nvCxnSpPr>
        <p:spPr>
          <a:xfrm flipH="1">
            <a:off x="6477120" y="4038120"/>
            <a:ext cx="51444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2" name=""/>
          <p:cNvCxnSpPr>
            <a:stCxn id="3660" idx="0"/>
            <a:endCxn id="3658" idx="4"/>
          </p:cNvCxnSpPr>
          <p:nvPr/>
        </p:nvCxnSpPr>
        <p:spPr>
          <a:xfrm flipV="1">
            <a:off x="7333920" y="4342680"/>
            <a:ext cx="1080" cy="68652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3" name=""/>
          <p:cNvCxnSpPr>
            <a:stCxn id="3657" idx="4"/>
            <a:endCxn id="3660" idx="2"/>
          </p:cNvCxnSpPr>
          <p:nvPr/>
        </p:nvCxnSpPr>
        <p:spPr>
          <a:xfrm>
            <a:off x="6133680" y="4343400"/>
            <a:ext cx="857880" cy="99144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4" name=""/>
          <p:cNvCxnSpPr>
            <a:stCxn id="3656" idx="4"/>
            <a:endCxn id="3658" idx="0"/>
          </p:cNvCxnSpPr>
          <p:nvPr/>
        </p:nvCxnSpPr>
        <p:spPr>
          <a:xfrm>
            <a:off x="7333920" y="3124080"/>
            <a:ext cx="1080" cy="6105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5" name=""/>
          <p:cNvCxnSpPr>
            <a:stCxn id="3656" idx="5"/>
            <a:endCxn id="3659" idx="1"/>
          </p:cNvCxnSpPr>
          <p:nvPr/>
        </p:nvCxnSpPr>
        <p:spPr>
          <a:xfrm>
            <a:off x="7577280" y="3035160"/>
            <a:ext cx="676800" cy="78840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6" name=""/>
          <p:cNvCxnSpPr>
            <a:stCxn id="3660" idx="7"/>
            <a:endCxn id="3659" idx="3"/>
          </p:cNvCxnSpPr>
          <p:nvPr/>
        </p:nvCxnSpPr>
        <p:spPr>
          <a:xfrm flipV="1">
            <a:off x="7577280" y="4253760"/>
            <a:ext cx="676800" cy="8643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667" name=""/>
          <p:cNvSpPr/>
          <p:nvPr/>
        </p:nvSpPr>
        <p:spPr>
          <a:xfrm>
            <a:off x="6461280" y="4254480"/>
            <a:ext cx="650880" cy="800280"/>
          </a:xfrm>
          <a:custGeom>
            <a:avLst/>
            <a:gdLst/>
            <a:ahLst/>
            <a:rect l="l" t="t" r="r" b="b"/>
            <a:pathLst>
              <a:path w="410" h="504">
                <a:moveTo>
                  <a:pt x="120" y="229"/>
                </a:moveTo>
                <a:cubicBezTo>
                  <a:pt x="96" y="197"/>
                  <a:pt x="20" y="181"/>
                  <a:pt x="10" y="152"/>
                </a:cubicBezTo>
                <a:cubicBezTo>
                  <a:pt x="0" y="123"/>
                  <a:pt x="10" y="80"/>
                  <a:pt x="58" y="56"/>
                </a:cubicBezTo>
                <a:cubicBezTo>
                  <a:pt x="106" y="32"/>
                  <a:pt x="242" y="0"/>
                  <a:pt x="298" y="8"/>
                </a:cubicBezTo>
                <a:cubicBezTo>
                  <a:pt x="354" y="16"/>
                  <a:pt x="378" y="32"/>
                  <a:pt x="394" y="104"/>
                </a:cubicBezTo>
                <a:cubicBezTo>
                  <a:pt x="410" y="176"/>
                  <a:pt x="410" y="376"/>
                  <a:pt x="394" y="440"/>
                </a:cubicBezTo>
                <a:cubicBezTo>
                  <a:pt x="378" y="504"/>
                  <a:pt x="338" y="504"/>
                  <a:pt x="298" y="488"/>
                </a:cubicBezTo>
                <a:cubicBezTo>
                  <a:pt x="258" y="472"/>
                  <a:pt x="182" y="376"/>
                  <a:pt x="154" y="344"/>
                </a:cubicBezTo>
                <a:cubicBezTo>
                  <a:pt x="126" y="312"/>
                  <a:pt x="135" y="304"/>
                  <a:pt x="130" y="293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86200" y="5589720"/>
            <a:ext cx="1676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652" y="-8609"/>
                </a:moveTo>
                <a:lnTo>
                  <a:pt x="22582" y="6028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723280" y="1523880"/>
            <a:ext cx="24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6" dur="indefinite" restart="never" nodeType="tmRoot">
          <p:childTnLst>
            <p:seq>
              <p:cTn id="5257" dur="indefinite" nodeType="mainSeq">
                <p:childTnLst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2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7" dur="500"/>
                                        <p:tgtEl>
                                          <p:spTgt spid="3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8" fill="hold">
                            <p:stCondLst>
                              <p:cond delay="500"/>
                            </p:stCondLst>
                            <p:childTnLst>
                              <p:par>
                                <p:cTn id="5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1" dur="500"/>
                                        <p:tgtEl>
                                          <p:spTgt spid="3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9" dur="500"/>
                                        <p:tgtEl>
                                          <p:spTgt spid="3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3" dur="500"/>
                                        <p:tgtEl>
                                          <p:spTgt spid="3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4" fill="hold">
                      <p:stCondLst>
                        <p:cond delay="indefinite"/>
                      </p:stCondLst>
                      <p:childTnLst>
                        <p:par>
                          <p:cTn id="5285" fill="hold">
                            <p:stCondLst>
                              <p:cond delay="0"/>
                            </p:stCondLst>
                            <p:childTnLst>
                              <p:par>
                                <p:cTn id="5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8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9" fill="hold">
                      <p:stCondLst>
                        <p:cond delay="indefinite"/>
                      </p:stCondLst>
                      <p:childTnLst>
                        <p:par>
                          <p:cTn id="5290" fill="hold">
                            <p:stCondLst>
                              <p:cond delay="0"/>
                            </p:stCondLst>
                            <p:childTnLst>
                              <p:par>
                                <p:cTn id="5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3" dur="500"/>
                                        <p:tgtEl>
                                          <p:spTgt spid="3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8" dur="5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3" dur="50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4" fill="hold">
                      <p:stCondLst>
                        <p:cond delay="indefinite"/>
                      </p:stCondLst>
                      <p:childTnLst>
                        <p:par>
                          <p:cTn id="5305" fill="hold">
                            <p:stCondLst>
                              <p:cond delay="0"/>
                            </p:stCondLst>
                            <p:childTnLst>
                              <p:par>
                                <p:cTn id="5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8" dur="50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3" dur="5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4" fill="hold">
                      <p:stCondLst>
                        <p:cond delay="indefinite"/>
                      </p:stCondLst>
                      <p:childTnLst>
                        <p:par>
                          <p:cTn id="5315" fill="hold">
                            <p:stCondLst>
                              <p:cond delay="0"/>
                            </p:stCondLst>
                            <p:childTnLst>
                              <p:par>
                                <p:cTn id="53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4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5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6" fill="hold">
                            <p:stCondLst>
                              <p:cond delay="500"/>
                            </p:stCondLst>
                            <p:childTnLst>
                              <p:par>
                                <p:cTn id="5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9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34" dur="5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// Curren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762120" y="365760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5" dur="indefinite" restart="never" nodeType="tmRoot">
          <p:childTnLst>
            <p:seq>
              <p:cTn id="5336" dur="indefinite" nodeType="mainSeq">
                <p:childTnLst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1" dur="5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5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"/>
          <p:cNvSpPr/>
          <p:nvPr/>
        </p:nvSpPr>
        <p:spPr>
          <a:xfrm>
            <a:off x="762120" y="1600200"/>
            <a:ext cx="213336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 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nish != {true, ..., true})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5105520" y="5105520"/>
            <a:ext cx="3354120" cy="398880"/>
          </a:xfrm>
          <a:prstGeom prst="borderCallout1">
            <a:avLst>
              <a:gd name="adj1" fmla="val 18750"/>
              <a:gd name="adj2" fmla="val -8333"/>
              <a:gd name="adj3" fmla="val 183587"/>
              <a:gd name="adj4" fmla="val -869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ocs for which ! Finish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5" dur="indefinite" restart="never" nodeType="tmRoot">
          <p:childTnLst>
            <p:seq>
              <p:cTn id="5346" dur="indefinite" nodeType="mainSeq">
                <p:childTnLst>
                  <p:par>
                    <p:cTn id="5347" fill="hold">
                      <p:stCondLst>
                        <p:cond delay="indefinite"/>
                      </p:stCondLst>
                      <p:childTnLst>
                        <p:par>
                          <p:cTn id="5348" fill="hold">
                            <p:stCondLst>
                              <p:cond delay="0"/>
                            </p:stCondLst>
                            <p:childTnLst>
                              <p:par>
                                <p:cTn id="5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500"/>
                            </p:stCondLst>
                            <p:childTnLst>
                              <p:par>
                                <p:cTn id="5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4" dur="500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5" fill="hold">
                      <p:stCondLst>
                        <p:cond delay="indefinite"/>
                      </p:stCondLst>
                      <p:childTnLst>
                        <p:par>
                          <p:cTn id="5356" fill="hold">
                            <p:stCondLst>
                              <p:cond delay="0"/>
                            </p:stCondLst>
                            <p:childTnLst>
                              <p:par>
                                <p:cTn id="5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9" dur="500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2" dur="500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7" dur="500"/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8" fill="hold">
                      <p:stCondLst>
                        <p:cond delay="indefinite"/>
                      </p:stCondLst>
                      <p:childTnLst>
                        <p:par>
                          <p:cTn id="5369" fill="hold">
                            <p:stCondLst>
                              <p:cond delay="0"/>
                            </p:stCondLst>
                            <p:childTnLst>
                              <p:par>
                                <p:cTn id="5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2" dur="500"/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5" dur="500"/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6" fill="hold">
                      <p:stCondLst>
                        <p:cond delay="indefinite"/>
                      </p:stCondLst>
                      <p:childTnLst>
                        <p:par>
                          <p:cTn id="5377" fill="hold">
                            <p:stCondLst>
                              <p:cond delay="0"/>
                            </p:stCondLst>
                            <p:childTnLst>
                              <p:par>
                                <p:cTn id="5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0" dur="500"/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3" dur="500"/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8" dur="500"/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9" fill="hold">
                      <p:stCondLst>
                        <p:cond delay="indefinite"/>
                      </p:stCondLst>
                      <p:childTnLst>
                        <p:par>
                          <p:cTn id="5390" fill="hold">
                            <p:stCondLst>
                              <p:cond delay="0"/>
                            </p:stCondLst>
                            <p:childTnLst>
                              <p:par>
                                <p:cTn id="5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3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18148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34784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2" name=""/>
          <p:cNvGrpSpPr/>
          <p:nvPr/>
        </p:nvGrpSpPr>
        <p:grpSpPr>
          <a:xfrm>
            <a:off x="762120" y="1523880"/>
            <a:ext cx="3962160" cy="3129120"/>
            <a:chOff x="762120" y="1523880"/>
            <a:chExt cx="3962160" cy="3129120"/>
          </a:xfrm>
        </p:grpSpPr>
        <p:grpSp>
          <p:nvGrpSpPr>
            <p:cNvPr id="3683" name=""/>
            <p:cNvGrpSpPr/>
            <p:nvPr/>
          </p:nvGrpSpPr>
          <p:grpSpPr>
            <a:xfrm>
              <a:off x="762120" y="1523880"/>
              <a:ext cx="3962160" cy="2743200"/>
              <a:chOff x="762120" y="1523880"/>
              <a:chExt cx="3962160" cy="2743200"/>
            </a:xfrm>
          </p:grpSpPr>
          <p:sp>
            <p:nvSpPr>
              <p:cNvPr id="3684" name=""/>
              <p:cNvSpPr/>
              <p:nvPr/>
            </p:nvSpPr>
            <p:spPr>
              <a:xfrm>
                <a:off x="297180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472428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26216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62120" y="2286000"/>
                <a:ext cx="39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8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63244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438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 txBox="1"/>
          <p:nvPr/>
        </p:nvSpPr>
        <p:spPr>
          <a:xfrm>
            <a:off x="6400800" y="41911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02" name=""/>
          <p:cNvSpPr/>
          <p:nvPr/>
        </p:nvSpPr>
        <p:spPr>
          <a:xfrm>
            <a:off x="51814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8412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28412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28412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128412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28412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4" dur="indefinite" restart="never" nodeType="tmRoot">
          <p:childTnLst>
            <p:seq>
              <p:cTn id="5395" dur="indefinite" nodeType="mainSeq">
                <p:childTnLst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0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1" fill="hold">
                      <p:stCondLst>
                        <p:cond delay="indefinite"/>
                      </p:stCondLst>
                      <p:childTnLst>
                        <p:par>
                          <p:cTn id="5402" fill="hold">
                            <p:stCondLst>
                              <p:cond delay="0"/>
                            </p:stCondLst>
                            <p:childTnLst>
                              <p:par>
                                <p:cTn id="5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5" dur="5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6" fill="hold">
                      <p:stCondLst>
                        <p:cond delay="indefinite"/>
                      </p:stCondLst>
                      <p:childTnLst>
                        <p:par>
                          <p:cTn id="5407" fill="hold">
                            <p:stCondLst>
                              <p:cond delay="0"/>
                            </p:stCondLst>
                            <p:childTnLst>
                              <p:par>
                                <p:cTn id="5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5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6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7" fill="hold">
                      <p:stCondLst>
                        <p:cond delay="indefinite"/>
                      </p:stCondLst>
                      <p:childTnLst>
                        <p:par>
                          <p:cTn id="5418" fill="hold">
                            <p:stCondLst>
                              <p:cond delay="0"/>
                            </p:stCondLst>
                            <p:childTnLst>
                              <p:par>
                                <p:cTn id="5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500"/>
                                        <p:tgtEl>
                                          <p:spTgt spid="3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7" fill="hold">
                      <p:stCondLst>
                        <p:cond delay="indefinite"/>
                      </p:stCondLst>
                      <p:childTnLst>
                        <p:par>
                          <p:cTn id="5428" fill="hold">
                            <p:stCondLst>
                              <p:cond delay="0"/>
                            </p:stCondLst>
                            <p:childTnLst>
                              <p:par>
                                <p:cTn id="54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1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2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3" fill="hold">
                      <p:stCondLst>
                        <p:cond delay="indefinite"/>
                      </p:stCondLst>
                      <p:childTnLst>
                        <p:par>
                          <p:cTn id="5434" fill="hold">
                            <p:stCondLst>
                              <p:cond delay="0"/>
                            </p:stCondLst>
                            <p:childTnLst>
                              <p:par>
                                <p:cTn id="5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7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8" fill="hold">
                      <p:stCondLst>
                        <p:cond delay="indefinite"/>
                      </p:stCondLst>
                      <p:childTnLst>
                        <p:par>
                          <p:cTn id="5439" fill="hold">
                            <p:stCondLst>
                              <p:cond delay="0"/>
                            </p:stCondLst>
                            <p:childTnLst>
                              <p:par>
                                <p:cTn id="5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2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3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8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0" fill="hold">
                      <p:stCondLst>
                        <p:cond delay="indefinite"/>
                      </p:stCondLst>
                      <p:childTnLst>
                        <p:par>
                          <p:cTn id="5451" fill="hold">
                            <p:stCondLst>
                              <p:cond delay="0"/>
                            </p:stCondLst>
                            <p:childTnLst>
                              <p:par>
                                <p:cTn id="5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4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1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2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500"/>
                            </p:stCondLst>
                            <p:childTnLst>
                              <p:par>
                                <p:cTn id="5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9" fill="hold">
                      <p:stCondLst>
                        <p:cond delay="indefinite"/>
                      </p:stCondLst>
                      <p:childTnLst>
                        <p:par>
                          <p:cTn id="5470" fill="hold">
                            <p:stCondLst>
                              <p:cond delay="0"/>
                            </p:stCondLst>
                            <p:childTnLst>
                              <p:par>
                                <p:cTn id="5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3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4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5" fill="hold">
                      <p:stCondLst>
                        <p:cond delay="indefinite"/>
                      </p:stCondLst>
                      <p:childTnLst>
                        <p:par>
                          <p:cTn id="5476" fill="hold">
                            <p:stCondLst>
                              <p:cond delay="0"/>
                            </p:stCondLst>
                            <p:childTnLst>
                              <p:par>
                                <p:cTn id="5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9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0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6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7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1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2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8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9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7" fill="hold">
                      <p:stCondLst>
                        <p:cond delay="indefinite"/>
                      </p:stCondLst>
                      <p:childTnLst>
                        <p:par>
                          <p:cTn id="5508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1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2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6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7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9" fill="hold">
                      <p:stCondLst>
                        <p:cond delay="indefinite"/>
                      </p:stCondLst>
                      <p:childTnLst>
                        <p:par>
                          <p:cTn id="5520" fill="hold">
                            <p:stCondLst>
                              <p:cond delay="0"/>
                            </p:stCondLst>
                            <p:childTnLst>
                              <p:par>
                                <p:cTn id="5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3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4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5" fill="hold">
                      <p:stCondLst>
                        <p:cond delay="indefinite"/>
                      </p:stCondLst>
                      <p:childTnLst>
                        <p:par>
                          <p:cTn id="5526" fill="hold">
                            <p:stCondLst>
                              <p:cond delay="0"/>
                            </p:stCondLst>
                            <p:childTnLst>
                              <p:par>
                                <p:cTn id="5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9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0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6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7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1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2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8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4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5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7" fill="hold">
                      <p:stCondLst>
                        <p:cond delay="indefinite"/>
                      </p:stCondLst>
                      <p:childTnLst>
                        <p:par>
                          <p:cTn id="5558" fill="hold">
                            <p:stCondLst>
                              <p:cond delay="0"/>
                            </p:stCondLst>
                            <p:childTnLst>
                              <p:par>
                                <p:cTn id="5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1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2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3" fill="hold">
                      <p:stCondLst>
                        <p:cond delay="indefinite"/>
                      </p:stCondLst>
                      <p:childTnLst>
                        <p:par>
                          <p:cTn id="5564" fill="hold">
                            <p:stCondLst>
                              <p:cond delay="0"/>
                            </p:stCondLst>
                            <p:childTnLst>
                              <p:par>
                                <p:cTn id="5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7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8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3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4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5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6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762120" y="2286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18148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2" name=""/>
          <p:cNvGrpSpPr/>
          <p:nvPr/>
        </p:nvGrpSpPr>
        <p:grpSpPr>
          <a:xfrm>
            <a:off x="1252440" y="4224240"/>
            <a:ext cx="1843200" cy="459720"/>
            <a:chOff x="1252440" y="4224240"/>
            <a:chExt cx="1843200" cy="459720"/>
          </a:xfrm>
        </p:grpSpPr>
        <p:sp>
          <p:nvSpPr>
            <p:cNvPr id="3723" name=""/>
            <p:cNvSpPr/>
            <p:nvPr/>
          </p:nvSpPr>
          <p:spPr>
            <a:xfrm>
              <a:off x="134784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 txBox="1"/>
          <p:nvPr/>
        </p:nvSpPr>
        <p:spPr>
          <a:xfrm>
            <a:off x="4572000" y="46483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30" name=""/>
          <p:cNvSpPr/>
          <p:nvPr/>
        </p:nvSpPr>
        <p:spPr>
          <a:xfrm>
            <a:off x="7093800" y="243828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4205160" y="3081240"/>
            <a:ext cx="381240" cy="38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019920" y="5410080"/>
            <a:ext cx="23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6586560" y="5396040"/>
            <a:ext cx="533520" cy="60948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068640" y="3114720"/>
            <a:ext cx="793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7" dur="indefinite" restart="never" nodeType="tmRoot">
          <p:childTnLst>
            <p:seq>
              <p:cTn id="5578" dur="indefinite" nodeType="mainSeq">
                <p:childTnLst>
                  <p:par>
                    <p:cTn id="5579" fill="hold">
                      <p:stCondLst>
                        <p:cond delay="indefinite"/>
                      </p:stCondLst>
                      <p:childTnLst>
                        <p:par>
                          <p:cTn id="5580" fill="hold">
                            <p:stCondLst>
                              <p:cond delay="0"/>
                            </p:stCondLst>
                            <p:childTnLst>
                              <p:par>
                                <p:cTn id="55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3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4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5" fill="hold">
                      <p:stCondLst>
                        <p:cond delay="indefinite"/>
                      </p:stCondLst>
                      <p:childTnLst>
                        <p:par>
                          <p:cTn id="5586" fill="hold">
                            <p:stCondLst>
                              <p:cond delay="0"/>
                            </p:stCondLst>
                            <p:childTnLst>
                              <p:par>
                                <p:cTn id="5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9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0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4" fill="hold">
                      <p:stCondLst>
                        <p:cond delay="indefinite"/>
                      </p:stCondLst>
                      <p:childTnLst>
                        <p:par>
                          <p:cTn id="5595" fill="hold">
                            <p:stCondLst>
                              <p:cond delay="0"/>
                            </p:stCondLst>
                            <p:childTnLst>
                              <p:par>
                                <p:cTn id="55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8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0" fill="hold">
                      <p:stCondLst>
                        <p:cond delay="indefinite"/>
                      </p:stCondLst>
                      <p:childTnLst>
                        <p:par>
                          <p:cTn id="5601" fill="hold">
                            <p:stCondLst>
                              <p:cond delay="0"/>
                            </p:stCondLst>
                            <p:childTnLst>
                              <p:par>
                                <p:cTn id="5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4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5" fill="hold">
                      <p:stCondLst>
                        <p:cond delay="indefinite"/>
                      </p:stCondLst>
                      <p:childTnLst>
                        <p:par>
                          <p:cTn id="5606" fill="hold">
                            <p:stCondLst>
                              <p:cond delay="0"/>
                            </p:stCondLst>
                            <p:childTnLst>
                              <p:par>
                                <p:cTn id="5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9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0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1" fill="hold">
                      <p:stCondLst>
                        <p:cond delay="indefinite"/>
                      </p:stCondLst>
                      <p:childTnLst>
                        <p:par>
                          <p:cTn id="5612" fill="hold">
                            <p:stCondLst>
                              <p:cond delay="0"/>
                            </p:stCondLst>
                            <p:childTnLst>
                              <p:par>
                                <p:cTn id="5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6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7" fill="hold">
                      <p:stCondLst>
                        <p:cond delay="indefinite"/>
                      </p:stCondLst>
                      <p:childTnLst>
                        <p:par>
                          <p:cTn id="5618" fill="hold">
                            <p:stCondLst>
                              <p:cond delay="0"/>
                            </p:stCondLst>
                            <p:childTnLst>
                              <p:par>
                                <p:cTn id="5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1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2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4" fill="hold">
                            <p:stCondLst>
                              <p:cond delay="500"/>
                            </p:stCondLst>
                            <p:childTnLst>
                              <p:par>
                                <p:cTn id="5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7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8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9" fill="hold">
                      <p:stCondLst>
                        <p:cond delay="indefinite"/>
                      </p:stCondLst>
                      <p:childTnLst>
                        <p:par>
                          <p:cTn id="5630" fill="hold">
                            <p:stCondLst>
                              <p:cond delay="0"/>
                            </p:stCondLst>
                            <p:childTnLst>
                              <p:par>
                                <p:cTn id="5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3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4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5" fill="hold">
                      <p:stCondLst>
                        <p:cond delay="indefinite"/>
                      </p:stCondLst>
                      <p:childTnLst>
                        <p:par>
                          <p:cTn id="5636" fill="hold">
                            <p:stCondLst>
                              <p:cond delay="0"/>
                            </p:stCondLst>
                            <p:childTnLst>
                              <p:par>
                                <p:cTn id="5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0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6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7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3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4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6" fill="hold">
                      <p:stCondLst>
                        <p:cond delay="indefinite"/>
                      </p:stCondLst>
                      <p:childTnLst>
                        <p:par>
                          <p:cTn id="5657" fill="hold">
                            <p:stCondLst>
                              <p:cond delay="0"/>
                            </p:stCondLst>
                            <p:childTnLst>
                              <p:par>
                                <p:cTn id="5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0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1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2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3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5" fill="hold">
                      <p:stCondLst>
                        <p:cond delay="indefinite"/>
                      </p:stCondLst>
                      <p:childTnLst>
                        <p:par>
                          <p:cTn id="5666" fill="hold">
                            <p:stCondLst>
                              <p:cond delay="0"/>
                            </p:stCondLst>
                            <p:childTnLst>
                              <p:par>
                                <p:cTn id="5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9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0" fill="hold">
                      <p:stCondLst>
                        <p:cond delay="indefinite"/>
                      </p:stCondLst>
                      <p:childTnLst>
                        <p:par>
                          <p:cTn id="5671" fill="hold">
                            <p:stCondLst>
                              <p:cond delay="0"/>
                            </p:stCondLst>
                            <p:childTnLst>
                              <p:par>
                                <p:cTn id="5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4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5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urrent (unfulfilled) requ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still possible in “fut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running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5" name=""/>
          <p:cNvGraphicFramePr/>
          <p:nvPr/>
        </p:nvGraphicFramePr>
        <p:xfrm>
          <a:off x="6248520" y="1981080"/>
          <a:ext cx="220968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981080"/>
                    <a:ext cx="22096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7" name=""/>
          <p:cNvSpPr/>
          <p:nvPr/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quest 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lty”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er hour,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utilization drops below 40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yc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ces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7620120" y="1976400"/>
            <a:ext cx="457200" cy="614160"/>
            <a:chOff x="7620120" y="1976400"/>
            <a:chExt cx="457200" cy="614160"/>
          </a:xfrm>
        </p:grpSpPr>
        <p:sp>
          <p:nvSpPr>
            <p:cNvPr id="3749" name=""/>
            <p:cNvSpPr/>
            <p:nvPr/>
          </p:nvSpPr>
          <p:spPr>
            <a:xfrm>
              <a:off x="7624080" y="2330280"/>
              <a:ext cx="209880" cy="257760"/>
            </a:xfrm>
            <a:custGeom>
              <a:avLst/>
              <a:gdLst/>
              <a:ahLst/>
              <a:rect l="l" t="t" r="r" b="b"/>
              <a:pathLst>
                <a:path w="731" h="830">
                  <a:moveTo>
                    <a:pt x="693" y="0"/>
                  </a:moveTo>
                  <a:lnTo>
                    <a:pt x="731" y="82"/>
                  </a:lnTo>
                  <a:lnTo>
                    <a:pt x="656" y="207"/>
                  </a:lnTo>
                  <a:lnTo>
                    <a:pt x="559" y="355"/>
                  </a:lnTo>
                  <a:lnTo>
                    <a:pt x="462" y="519"/>
                  </a:lnTo>
                  <a:lnTo>
                    <a:pt x="372" y="623"/>
                  </a:lnTo>
                  <a:lnTo>
                    <a:pt x="253" y="764"/>
                  </a:lnTo>
                  <a:lnTo>
                    <a:pt x="178" y="830"/>
                  </a:lnTo>
                  <a:lnTo>
                    <a:pt x="105" y="800"/>
                  </a:lnTo>
                  <a:lnTo>
                    <a:pt x="23" y="712"/>
                  </a:lnTo>
                  <a:lnTo>
                    <a:pt x="0" y="652"/>
                  </a:lnTo>
                  <a:lnTo>
                    <a:pt x="67" y="496"/>
                  </a:lnTo>
                  <a:lnTo>
                    <a:pt x="171" y="334"/>
                  </a:lnTo>
                  <a:lnTo>
                    <a:pt x="276" y="200"/>
                  </a:lnTo>
                  <a:lnTo>
                    <a:pt x="417" y="96"/>
                  </a:lnTo>
                  <a:lnTo>
                    <a:pt x="559" y="3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ad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824240" y="1998720"/>
              <a:ext cx="251280" cy="354600"/>
            </a:xfrm>
            <a:custGeom>
              <a:avLst/>
              <a:gdLst/>
              <a:ahLst/>
              <a:rect l="l" t="t" r="r" b="b"/>
              <a:pathLst>
                <a:path w="876" h="1139">
                  <a:moveTo>
                    <a:pt x="653" y="0"/>
                  </a:moveTo>
                  <a:lnTo>
                    <a:pt x="846" y="103"/>
                  </a:lnTo>
                  <a:lnTo>
                    <a:pt x="876" y="289"/>
                  </a:lnTo>
                  <a:lnTo>
                    <a:pt x="855" y="525"/>
                  </a:lnTo>
                  <a:lnTo>
                    <a:pt x="794" y="695"/>
                  </a:lnTo>
                  <a:lnTo>
                    <a:pt x="735" y="836"/>
                  </a:lnTo>
                  <a:lnTo>
                    <a:pt x="624" y="932"/>
                  </a:lnTo>
                  <a:lnTo>
                    <a:pt x="519" y="1014"/>
                  </a:lnTo>
                  <a:lnTo>
                    <a:pt x="371" y="1066"/>
                  </a:lnTo>
                  <a:lnTo>
                    <a:pt x="134" y="1057"/>
                  </a:lnTo>
                  <a:lnTo>
                    <a:pt x="66" y="1139"/>
                  </a:lnTo>
                  <a:lnTo>
                    <a:pt x="0" y="1057"/>
                  </a:lnTo>
                  <a:lnTo>
                    <a:pt x="75" y="962"/>
                  </a:lnTo>
                  <a:lnTo>
                    <a:pt x="289" y="932"/>
                  </a:lnTo>
                  <a:lnTo>
                    <a:pt x="468" y="828"/>
                  </a:lnTo>
                  <a:lnTo>
                    <a:pt x="580" y="695"/>
                  </a:lnTo>
                  <a:lnTo>
                    <a:pt x="676" y="518"/>
                  </a:lnTo>
                  <a:lnTo>
                    <a:pt x="705" y="362"/>
                  </a:lnTo>
                  <a:lnTo>
                    <a:pt x="712" y="185"/>
                  </a:lnTo>
                  <a:lnTo>
                    <a:pt x="676" y="73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866360" y="1982880"/>
              <a:ext cx="210960" cy="354960"/>
            </a:xfrm>
            <a:custGeom>
              <a:avLst/>
              <a:gdLst/>
              <a:ahLst/>
              <a:rect l="l" t="t" r="r" b="b"/>
              <a:pathLst>
                <a:path w="736" h="1138">
                  <a:moveTo>
                    <a:pt x="89" y="1087"/>
                  </a:moveTo>
                  <a:lnTo>
                    <a:pt x="216" y="1087"/>
                  </a:lnTo>
                  <a:lnTo>
                    <a:pt x="349" y="1035"/>
                  </a:lnTo>
                  <a:lnTo>
                    <a:pt x="446" y="969"/>
                  </a:lnTo>
                  <a:lnTo>
                    <a:pt x="544" y="872"/>
                  </a:lnTo>
                  <a:lnTo>
                    <a:pt x="617" y="747"/>
                  </a:lnTo>
                  <a:lnTo>
                    <a:pt x="662" y="613"/>
                  </a:lnTo>
                  <a:lnTo>
                    <a:pt x="692" y="488"/>
                  </a:lnTo>
                  <a:lnTo>
                    <a:pt x="699" y="370"/>
                  </a:lnTo>
                  <a:lnTo>
                    <a:pt x="692" y="267"/>
                  </a:lnTo>
                  <a:lnTo>
                    <a:pt x="685" y="185"/>
                  </a:lnTo>
                  <a:lnTo>
                    <a:pt x="633" y="141"/>
                  </a:lnTo>
                  <a:lnTo>
                    <a:pt x="565" y="97"/>
                  </a:lnTo>
                  <a:lnTo>
                    <a:pt x="535" y="90"/>
                  </a:lnTo>
                  <a:lnTo>
                    <a:pt x="490" y="38"/>
                  </a:lnTo>
                  <a:lnTo>
                    <a:pt x="499" y="0"/>
                  </a:lnTo>
                  <a:lnTo>
                    <a:pt x="551" y="38"/>
                  </a:lnTo>
                  <a:lnTo>
                    <a:pt x="713" y="156"/>
                  </a:lnTo>
                  <a:lnTo>
                    <a:pt x="736" y="236"/>
                  </a:lnTo>
                  <a:lnTo>
                    <a:pt x="736" y="347"/>
                  </a:lnTo>
                  <a:lnTo>
                    <a:pt x="736" y="458"/>
                  </a:lnTo>
                  <a:lnTo>
                    <a:pt x="729" y="584"/>
                  </a:lnTo>
                  <a:lnTo>
                    <a:pt x="692" y="688"/>
                  </a:lnTo>
                  <a:lnTo>
                    <a:pt x="662" y="783"/>
                  </a:lnTo>
                  <a:lnTo>
                    <a:pt x="617" y="865"/>
                  </a:lnTo>
                  <a:lnTo>
                    <a:pt x="565" y="931"/>
                  </a:lnTo>
                  <a:lnTo>
                    <a:pt x="506" y="997"/>
                  </a:lnTo>
                  <a:lnTo>
                    <a:pt x="417" y="1049"/>
                  </a:lnTo>
                  <a:lnTo>
                    <a:pt x="312" y="1101"/>
                  </a:lnTo>
                  <a:lnTo>
                    <a:pt x="216" y="1131"/>
                  </a:lnTo>
                  <a:lnTo>
                    <a:pt x="75" y="1138"/>
                  </a:lnTo>
                  <a:lnTo>
                    <a:pt x="0" y="1101"/>
                  </a:lnTo>
                  <a:lnTo>
                    <a:pt x="89" y="10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809480" y="1980720"/>
              <a:ext cx="223560" cy="388440"/>
            </a:xfrm>
            <a:custGeom>
              <a:avLst/>
              <a:gdLst/>
              <a:ahLst/>
              <a:rect l="l" t="t" r="r" b="b"/>
              <a:pathLst>
                <a:path w="779" h="1249">
                  <a:moveTo>
                    <a:pt x="155" y="1190"/>
                  </a:moveTo>
                  <a:lnTo>
                    <a:pt x="230" y="1094"/>
                  </a:lnTo>
                  <a:lnTo>
                    <a:pt x="230" y="1027"/>
                  </a:lnTo>
                  <a:lnTo>
                    <a:pt x="341" y="997"/>
                  </a:lnTo>
                  <a:lnTo>
                    <a:pt x="460" y="945"/>
                  </a:lnTo>
                  <a:lnTo>
                    <a:pt x="549" y="872"/>
                  </a:lnTo>
                  <a:lnTo>
                    <a:pt x="631" y="768"/>
                  </a:lnTo>
                  <a:lnTo>
                    <a:pt x="697" y="672"/>
                  </a:lnTo>
                  <a:lnTo>
                    <a:pt x="742" y="554"/>
                  </a:lnTo>
                  <a:lnTo>
                    <a:pt x="758" y="443"/>
                  </a:lnTo>
                  <a:lnTo>
                    <a:pt x="779" y="356"/>
                  </a:lnTo>
                  <a:lnTo>
                    <a:pt x="779" y="207"/>
                  </a:lnTo>
                  <a:lnTo>
                    <a:pt x="749" y="111"/>
                  </a:lnTo>
                  <a:lnTo>
                    <a:pt x="705" y="38"/>
                  </a:lnTo>
                  <a:lnTo>
                    <a:pt x="638" y="0"/>
                  </a:lnTo>
                  <a:lnTo>
                    <a:pt x="676" y="66"/>
                  </a:lnTo>
                  <a:lnTo>
                    <a:pt x="721" y="141"/>
                  </a:lnTo>
                  <a:lnTo>
                    <a:pt x="742" y="222"/>
                  </a:lnTo>
                  <a:lnTo>
                    <a:pt x="735" y="311"/>
                  </a:lnTo>
                  <a:lnTo>
                    <a:pt x="728" y="415"/>
                  </a:lnTo>
                  <a:lnTo>
                    <a:pt x="705" y="540"/>
                  </a:lnTo>
                  <a:lnTo>
                    <a:pt x="676" y="636"/>
                  </a:lnTo>
                  <a:lnTo>
                    <a:pt x="608" y="731"/>
                  </a:lnTo>
                  <a:lnTo>
                    <a:pt x="542" y="820"/>
                  </a:lnTo>
                  <a:lnTo>
                    <a:pt x="467" y="886"/>
                  </a:lnTo>
                  <a:lnTo>
                    <a:pt x="364" y="945"/>
                  </a:lnTo>
                  <a:lnTo>
                    <a:pt x="274" y="983"/>
                  </a:lnTo>
                  <a:lnTo>
                    <a:pt x="178" y="990"/>
                  </a:lnTo>
                  <a:lnTo>
                    <a:pt x="110" y="968"/>
                  </a:lnTo>
                  <a:lnTo>
                    <a:pt x="66" y="1020"/>
                  </a:lnTo>
                  <a:lnTo>
                    <a:pt x="0" y="1117"/>
                  </a:lnTo>
                  <a:lnTo>
                    <a:pt x="51" y="1168"/>
                  </a:lnTo>
                  <a:lnTo>
                    <a:pt x="141" y="1056"/>
                  </a:lnTo>
                  <a:lnTo>
                    <a:pt x="192" y="1065"/>
                  </a:lnTo>
                  <a:lnTo>
                    <a:pt x="82" y="1197"/>
                  </a:lnTo>
                  <a:lnTo>
                    <a:pt x="110" y="1249"/>
                  </a:lnTo>
                  <a:lnTo>
                    <a:pt x="155" y="1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806960" y="1976400"/>
              <a:ext cx="216000" cy="325080"/>
            </a:xfrm>
            <a:custGeom>
              <a:avLst/>
              <a:gdLst/>
              <a:ahLst/>
              <a:rect l="l" t="t" r="r" b="b"/>
              <a:pathLst>
                <a:path w="751" h="1045">
                  <a:moveTo>
                    <a:pt x="104" y="1023"/>
                  </a:moveTo>
                  <a:lnTo>
                    <a:pt x="52" y="948"/>
                  </a:lnTo>
                  <a:lnTo>
                    <a:pt x="14" y="875"/>
                  </a:lnTo>
                  <a:lnTo>
                    <a:pt x="0" y="779"/>
                  </a:lnTo>
                  <a:lnTo>
                    <a:pt x="7" y="659"/>
                  </a:lnTo>
                  <a:lnTo>
                    <a:pt x="30" y="527"/>
                  </a:lnTo>
                  <a:lnTo>
                    <a:pt x="75" y="386"/>
                  </a:lnTo>
                  <a:lnTo>
                    <a:pt x="141" y="259"/>
                  </a:lnTo>
                  <a:lnTo>
                    <a:pt x="246" y="134"/>
                  </a:lnTo>
                  <a:lnTo>
                    <a:pt x="387" y="45"/>
                  </a:lnTo>
                  <a:lnTo>
                    <a:pt x="514" y="0"/>
                  </a:lnTo>
                  <a:lnTo>
                    <a:pt x="603" y="8"/>
                  </a:lnTo>
                  <a:lnTo>
                    <a:pt x="676" y="38"/>
                  </a:lnTo>
                  <a:lnTo>
                    <a:pt x="751" y="90"/>
                  </a:lnTo>
                  <a:lnTo>
                    <a:pt x="737" y="134"/>
                  </a:lnTo>
                  <a:lnTo>
                    <a:pt x="647" y="67"/>
                  </a:lnTo>
                  <a:lnTo>
                    <a:pt x="594" y="45"/>
                  </a:lnTo>
                  <a:lnTo>
                    <a:pt x="521" y="45"/>
                  </a:lnTo>
                  <a:lnTo>
                    <a:pt x="453" y="67"/>
                  </a:lnTo>
                  <a:lnTo>
                    <a:pt x="371" y="97"/>
                  </a:lnTo>
                  <a:lnTo>
                    <a:pt x="312" y="141"/>
                  </a:lnTo>
                  <a:lnTo>
                    <a:pt x="246" y="186"/>
                  </a:lnTo>
                  <a:lnTo>
                    <a:pt x="201" y="252"/>
                  </a:lnTo>
                  <a:lnTo>
                    <a:pt x="157" y="327"/>
                  </a:lnTo>
                  <a:lnTo>
                    <a:pt x="112" y="415"/>
                  </a:lnTo>
                  <a:lnTo>
                    <a:pt x="75" y="511"/>
                  </a:lnTo>
                  <a:lnTo>
                    <a:pt x="52" y="630"/>
                  </a:lnTo>
                  <a:lnTo>
                    <a:pt x="52" y="763"/>
                  </a:lnTo>
                  <a:lnTo>
                    <a:pt x="59" y="875"/>
                  </a:lnTo>
                  <a:lnTo>
                    <a:pt x="112" y="971"/>
                  </a:lnTo>
                  <a:lnTo>
                    <a:pt x="216" y="1045"/>
                  </a:lnTo>
                  <a:lnTo>
                    <a:pt x="104" y="10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946280" y="2060280"/>
              <a:ext cx="23760" cy="85680"/>
            </a:xfrm>
            <a:custGeom>
              <a:avLst/>
              <a:gdLst/>
              <a:ahLst/>
              <a:rect l="l" t="t" r="r" b="b"/>
              <a:pathLst>
                <a:path w="85" h="275">
                  <a:moveTo>
                    <a:pt x="0" y="0"/>
                  </a:moveTo>
                  <a:lnTo>
                    <a:pt x="43" y="53"/>
                  </a:lnTo>
                  <a:lnTo>
                    <a:pt x="68" y="115"/>
                  </a:lnTo>
                  <a:lnTo>
                    <a:pt x="85" y="206"/>
                  </a:lnTo>
                  <a:lnTo>
                    <a:pt x="76" y="275"/>
                  </a:lnTo>
                  <a:lnTo>
                    <a:pt x="50" y="245"/>
                  </a:lnTo>
                  <a:lnTo>
                    <a:pt x="43" y="169"/>
                  </a:lnTo>
                  <a:lnTo>
                    <a:pt x="17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620120" y="2322720"/>
              <a:ext cx="230760" cy="267840"/>
            </a:xfrm>
            <a:custGeom>
              <a:avLst/>
              <a:gdLst/>
              <a:ahLst/>
              <a:rect l="l" t="t" r="r" b="b"/>
              <a:pathLst>
                <a:path w="803" h="860">
                  <a:moveTo>
                    <a:pt x="714" y="0"/>
                  </a:moveTo>
                  <a:lnTo>
                    <a:pt x="595" y="21"/>
                  </a:lnTo>
                  <a:lnTo>
                    <a:pt x="491" y="52"/>
                  </a:lnTo>
                  <a:lnTo>
                    <a:pt x="372" y="134"/>
                  </a:lnTo>
                  <a:lnTo>
                    <a:pt x="261" y="237"/>
                  </a:lnTo>
                  <a:lnTo>
                    <a:pt x="157" y="364"/>
                  </a:lnTo>
                  <a:lnTo>
                    <a:pt x="45" y="534"/>
                  </a:lnTo>
                  <a:lnTo>
                    <a:pt x="0" y="653"/>
                  </a:lnTo>
                  <a:lnTo>
                    <a:pt x="0" y="698"/>
                  </a:lnTo>
                  <a:lnTo>
                    <a:pt x="45" y="749"/>
                  </a:lnTo>
                  <a:lnTo>
                    <a:pt x="104" y="816"/>
                  </a:lnTo>
                  <a:lnTo>
                    <a:pt x="202" y="860"/>
                  </a:lnTo>
                  <a:lnTo>
                    <a:pt x="268" y="830"/>
                  </a:lnTo>
                  <a:lnTo>
                    <a:pt x="380" y="689"/>
                  </a:lnTo>
                  <a:lnTo>
                    <a:pt x="491" y="548"/>
                  </a:lnTo>
                  <a:lnTo>
                    <a:pt x="595" y="378"/>
                  </a:lnTo>
                  <a:lnTo>
                    <a:pt x="700" y="237"/>
                  </a:lnTo>
                  <a:lnTo>
                    <a:pt x="803" y="111"/>
                  </a:lnTo>
                  <a:lnTo>
                    <a:pt x="782" y="37"/>
                  </a:lnTo>
                  <a:lnTo>
                    <a:pt x="714" y="44"/>
                  </a:lnTo>
                  <a:lnTo>
                    <a:pt x="700" y="103"/>
                  </a:lnTo>
                  <a:lnTo>
                    <a:pt x="669" y="193"/>
                  </a:lnTo>
                  <a:lnTo>
                    <a:pt x="580" y="312"/>
                  </a:lnTo>
                  <a:lnTo>
                    <a:pt x="514" y="423"/>
                  </a:lnTo>
                  <a:lnTo>
                    <a:pt x="432" y="534"/>
                  </a:lnTo>
                  <a:lnTo>
                    <a:pt x="380" y="630"/>
                  </a:lnTo>
                  <a:lnTo>
                    <a:pt x="282" y="734"/>
                  </a:lnTo>
                  <a:lnTo>
                    <a:pt x="223" y="801"/>
                  </a:lnTo>
                  <a:lnTo>
                    <a:pt x="179" y="816"/>
                  </a:lnTo>
                  <a:lnTo>
                    <a:pt x="97" y="778"/>
                  </a:lnTo>
                  <a:lnTo>
                    <a:pt x="59" y="712"/>
                  </a:lnTo>
                  <a:lnTo>
                    <a:pt x="52" y="653"/>
                  </a:lnTo>
                  <a:lnTo>
                    <a:pt x="90" y="557"/>
                  </a:lnTo>
                  <a:lnTo>
                    <a:pt x="149" y="444"/>
                  </a:lnTo>
                  <a:lnTo>
                    <a:pt x="231" y="319"/>
                  </a:lnTo>
                  <a:lnTo>
                    <a:pt x="343" y="216"/>
                  </a:lnTo>
                  <a:lnTo>
                    <a:pt x="439" y="134"/>
                  </a:lnTo>
                  <a:lnTo>
                    <a:pt x="550" y="75"/>
                  </a:lnTo>
                  <a:lnTo>
                    <a:pt x="639" y="59"/>
                  </a:lnTo>
                  <a:lnTo>
                    <a:pt x="707" y="44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6" dur="indefinite" restart="never" nodeType="tmRoot">
          <p:childTnLst>
            <p:seq>
              <p:cTn id="5677" dur="indefinite" nodeType="mainSeq">
                <p:childTnLst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2" dur="500"/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3" fill="hold">
                            <p:stCondLst>
                              <p:cond delay="500"/>
                            </p:stCondLst>
                            <p:childTnLst>
                              <p:par>
                                <p:cTn id="5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6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2" fill="hold">
                      <p:stCondLst>
                        <p:cond delay="indefinite"/>
                      </p:stCondLst>
                      <p:childTnLst>
                        <p:par>
                          <p:cTn id="5693" fill="hold">
                            <p:stCondLst>
                              <p:cond delay="0"/>
                            </p:stCondLst>
                            <p:childTnLst>
                              <p:par>
                                <p:cTn id="5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7" fill="hold">
                      <p:stCondLst>
                        <p:cond delay="indefinite"/>
                      </p:stCondLst>
                      <p:childTnLst>
                        <p:par>
                          <p:cTn id="5698" fill="hold">
                            <p:stCondLst>
                              <p:cond delay="0"/>
                            </p:stCondLst>
                            <p:childTnLst>
                              <p:par>
                                <p:cTn id="5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1" dur="500"/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6" dur="500"/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7" fill="hold">
                      <p:stCondLst>
                        <p:cond delay="indefinite"/>
                      </p:stCondLst>
                      <p:childTnLst>
                        <p:par>
                          <p:cTn id="5708" fill="hold">
                            <p:stCondLst>
                              <p:cond delay="0"/>
                            </p:stCondLst>
                            <p:childTnLst>
                              <p:par>
                                <p:cTn id="5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2" fill="hold">
                      <p:stCondLst>
                        <p:cond delay="indefinite"/>
                      </p:stCondLst>
                      <p:childTnLst>
                        <p:par>
                          <p:cTn id="5713" fill="hold">
                            <p:stCondLst>
                              <p:cond delay="0"/>
                            </p:stCondLst>
                            <p:childTnLst>
                              <p:par>
                                <p:cTn id="5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6" dur="500"/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 System Administ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8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59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60" name="" descr=""/>
          <p:cNvPicPr/>
          <p:nvPr/>
        </p:nvPicPr>
        <p:blipFill>
          <a:blip r:embed="rId3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7" dur="indefinite" restart="never" nodeType="tmRoot">
          <p:childTnLst>
            <p:seq>
              <p:cTn id="5718" dur="indefinite" nodeType="mainSeq">
                <p:childTnLst>
                  <p:par>
                    <p:cTn id="5719" fill="hold">
                      <p:stCondLst>
                        <p:cond delay="0"/>
                      </p:stCondLst>
                      <p:childTnLst>
                        <p:par>
                          <p:cTn id="5720" fill="hold">
                            <p:stCondLst>
                              <p:cond delay="0"/>
                            </p:stCondLst>
                            <p:childTnLst>
                              <p:par>
                                <p:cTn id="5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3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4" dur="1" fill="hold">
                                    <p:stCondLst>
                                      <p:cond evt="end">
                                        <p:tn val="5721"/>
                                      </p:cond>
                                    </p:stCondLst>
                                  </p:cTn>
                                  <p:tgtEl>
                                    <p:spTgt spid="3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5" fill="hold">
                            <p:stCondLst>
                              <p:cond delay="500"/>
                            </p:stCondLst>
                            <p:childTnLst>
                              <p:par>
                                <p:cTn id="57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8" dur="500"/>
                                        <p:tgtEl>
                                          <p:spTgt spid="3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9" dur="1" fill="hold">
                                    <p:stCondLst>
                                      <p:cond evt="end">
                                        <p:tn val="5726"/>
                                      </p:cond>
                                    </p:stCondLst>
                                  </p:cTn>
                                  <p:tgtEl>
                                    <p:spTgt spid="3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3" dur="500"/>
                                        <p:tgtEl>
                                          <p:spTgt spid="3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58680" y="1523880"/>
            <a:ext cx="1413720" cy="861840"/>
            <a:chOff x="3658680" y="1523880"/>
            <a:chExt cx="1413720" cy="861840"/>
          </a:xfrm>
        </p:grpSpPr>
        <p:grpSp>
          <p:nvGrpSpPr>
            <p:cNvPr id="226" name=""/>
            <p:cNvGrpSpPr/>
            <p:nvPr/>
          </p:nvGrpSpPr>
          <p:grpSpPr>
            <a:xfrm>
              <a:off x="3803400" y="1523880"/>
              <a:ext cx="990720" cy="533520"/>
              <a:chOff x="3803400" y="1523880"/>
              <a:chExt cx="990720" cy="53352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340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3921480" y="1605600"/>
                <a:ext cx="754560" cy="246240"/>
                <a:chOff x="3921480" y="1605600"/>
                <a:chExt cx="75456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214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930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08636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5856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497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65868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23960" y="1523880"/>
            <a:ext cx="1413720" cy="861840"/>
            <a:chOff x="5223960" y="1523880"/>
            <a:chExt cx="1413720" cy="861840"/>
          </a:xfrm>
        </p:grpSpPr>
        <p:grpSp>
          <p:nvGrpSpPr>
            <p:cNvPr id="236" name=""/>
            <p:cNvGrpSpPr/>
            <p:nvPr/>
          </p:nvGrpSpPr>
          <p:grpSpPr>
            <a:xfrm>
              <a:off x="5368680" y="1523880"/>
              <a:ext cx="990720" cy="533520"/>
              <a:chOff x="5368680" y="1523880"/>
              <a:chExt cx="990720" cy="53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36868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486760" y="1605600"/>
                <a:ext cx="754560" cy="246240"/>
                <a:chOff x="5486760" y="1605600"/>
                <a:chExt cx="754560" cy="246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4867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583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565164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2384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06240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22396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89240" y="1523880"/>
            <a:ext cx="1413720" cy="861840"/>
            <a:chOff x="6789240" y="1523880"/>
            <a:chExt cx="1413720" cy="861840"/>
          </a:xfrm>
        </p:grpSpPr>
        <p:grpSp>
          <p:nvGrpSpPr>
            <p:cNvPr id="246" name=""/>
            <p:cNvGrpSpPr/>
            <p:nvPr/>
          </p:nvGrpSpPr>
          <p:grpSpPr>
            <a:xfrm>
              <a:off x="6933960" y="1523880"/>
              <a:ext cx="990720" cy="533520"/>
              <a:chOff x="6933960" y="1523880"/>
              <a:chExt cx="990720" cy="533520"/>
            </a:xfrm>
          </p:grpSpPr>
          <p:sp>
            <p:nvSpPr>
              <p:cNvPr id="247" name=""/>
              <p:cNvSpPr/>
              <p:nvPr/>
            </p:nvSpPr>
            <p:spPr>
              <a:xfrm>
                <a:off x="693396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52040" y="1605600"/>
                <a:ext cx="754560" cy="246240"/>
                <a:chOff x="7052040" y="1605600"/>
                <a:chExt cx="754560" cy="246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0520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236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721692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89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62768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78924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95280" y="2362320"/>
            <a:ext cx="5562720" cy="3352320"/>
            <a:chOff x="1295280" y="2362320"/>
            <a:chExt cx="5562720" cy="3352320"/>
          </a:xfrm>
        </p:grpSpPr>
        <p:sp>
          <p:nvSpPr>
            <p:cNvPr id="256" name=""/>
            <p:cNvSpPr/>
            <p:nvPr/>
          </p:nvSpPr>
          <p:spPr>
            <a:xfrm>
              <a:off x="1295280" y="2362320"/>
              <a:ext cx="556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987640" y="2362320"/>
              <a:ext cx="1828800" cy="3352320"/>
              <a:chOff x="2987640" y="2362320"/>
              <a:chExt cx="1828800" cy="3352320"/>
            </a:xfrm>
          </p:grpSpPr>
          <p:sp>
            <p:nvSpPr>
              <p:cNvPr id="258" name=""/>
              <p:cNvSpPr/>
              <p:nvPr/>
            </p:nvSpPr>
            <p:spPr>
              <a:xfrm>
                <a:off x="29876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64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295280" y="27432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8760" y="3124080"/>
            <a:ext cx="399960" cy="2514600"/>
            <a:chOff x="608760" y="3124080"/>
            <a:chExt cx="399960" cy="2514600"/>
          </a:xfrm>
        </p:grpSpPr>
        <p:sp>
          <p:nvSpPr>
            <p:cNvPr id="262" name=""/>
            <p:cNvSpPr/>
            <p:nvPr/>
          </p:nvSpPr>
          <p:spPr>
            <a:xfrm>
              <a:off x="930240" y="31240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5400">
              <a:off x="427680" y="42195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387440" y="3062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624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8720" y="32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68080" y="3405240"/>
            <a:ext cx="1413720" cy="861840"/>
            <a:chOff x="1468080" y="3405240"/>
            <a:chExt cx="1413720" cy="861840"/>
          </a:xfrm>
        </p:grpSpPr>
        <p:grpSp>
          <p:nvGrpSpPr>
            <p:cNvPr id="268" name=""/>
            <p:cNvGrpSpPr/>
            <p:nvPr/>
          </p:nvGrpSpPr>
          <p:grpSpPr>
            <a:xfrm>
              <a:off x="1612800" y="3405240"/>
              <a:ext cx="990720" cy="533520"/>
              <a:chOff x="1612800" y="3405240"/>
              <a:chExt cx="990720" cy="53352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2800" y="340524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730880" y="3486960"/>
                <a:ext cx="754560" cy="246240"/>
                <a:chOff x="1730880" y="3486960"/>
                <a:chExt cx="754560" cy="246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308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2024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1895760" y="377460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6796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30652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468080" y="38988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96880" y="3086280"/>
            <a:ext cx="1413720" cy="861840"/>
            <a:chOff x="3296880" y="3086280"/>
            <a:chExt cx="1413720" cy="861840"/>
          </a:xfrm>
        </p:grpSpPr>
        <p:grpSp>
          <p:nvGrpSpPr>
            <p:cNvPr id="278" name=""/>
            <p:cNvGrpSpPr/>
            <p:nvPr/>
          </p:nvGrpSpPr>
          <p:grpSpPr>
            <a:xfrm>
              <a:off x="3441600" y="3086280"/>
              <a:ext cx="990720" cy="533520"/>
              <a:chOff x="3441600" y="3086280"/>
              <a:chExt cx="990720" cy="53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3441600" y="30862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559680" y="3168000"/>
                <a:ext cx="754560" cy="246240"/>
                <a:chOff x="3559680" y="3168000"/>
                <a:chExt cx="754560" cy="246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5596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12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3724560" y="34556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9676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13532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96880" y="35798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49360" y="3557520"/>
            <a:ext cx="1413720" cy="861840"/>
            <a:chOff x="5049360" y="3557520"/>
            <a:chExt cx="1413720" cy="861840"/>
          </a:xfrm>
        </p:grpSpPr>
        <p:grpSp>
          <p:nvGrpSpPr>
            <p:cNvPr id="288" name=""/>
            <p:cNvGrpSpPr/>
            <p:nvPr/>
          </p:nvGrpSpPr>
          <p:grpSpPr>
            <a:xfrm>
              <a:off x="5194080" y="3557520"/>
              <a:ext cx="990720" cy="533520"/>
              <a:chOff x="5194080" y="3557520"/>
              <a:chExt cx="990720" cy="533520"/>
            </a:xfrm>
          </p:grpSpPr>
          <p:sp>
            <p:nvSpPr>
              <p:cNvPr id="289" name=""/>
              <p:cNvSpPr/>
              <p:nvPr/>
            </p:nvSpPr>
            <p:spPr>
              <a:xfrm>
                <a:off x="5194080" y="355752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312160" y="3639240"/>
                <a:ext cx="754560" cy="246240"/>
                <a:chOff x="5312160" y="3639240"/>
                <a:chExt cx="754560" cy="246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3121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7837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477040" y="392688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4924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88780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049360" y="405108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38744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6240" y="5119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8720" y="43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64080" y="46483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40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882800" y="5029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2800" y="5029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4191120"/>
            <a:ext cx="533520" cy="802080"/>
            <a:chOff x="7086600" y="4191120"/>
            <a:chExt cx="533520" cy="802080"/>
          </a:xfrm>
        </p:grpSpPr>
        <p:graphicFrame>
          <p:nvGraphicFramePr>
            <p:cNvPr id="308" name=""/>
            <p:cNvGraphicFramePr/>
            <p:nvPr/>
          </p:nvGraphicFramePr>
          <p:xfrm>
            <a:off x="7086600" y="4191120"/>
            <a:ext cx="53352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6600" y="41911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7099200" y="4594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12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01000" y="4495680"/>
            <a:ext cx="533520" cy="802080"/>
            <a:chOff x="8001000" y="4495680"/>
            <a:chExt cx="533520" cy="802080"/>
          </a:xfrm>
        </p:grpSpPr>
        <p:graphicFrame>
          <p:nvGraphicFramePr>
            <p:cNvPr id="316" name=""/>
            <p:cNvGraphicFramePr/>
            <p:nvPr/>
          </p:nvGraphicFramePr>
          <p:xfrm>
            <a:off x="8001000" y="4495680"/>
            <a:ext cx="533520" cy="523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01000" y="449568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8013600" y="4898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447920"/>
            <a:ext cx="1524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14479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eadlocked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219320" y="3124080"/>
            <a:ext cx="243828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676520" y="4267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209680" y="396252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2666880" y="38098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3124080" y="40384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590920" y="43434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1668600" y="4206960"/>
            <a:ext cx="421200" cy="525960"/>
            <a:chOff x="1668600" y="4206960"/>
            <a:chExt cx="421200" cy="525960"/>
          </a:xfrm>
        </p:grpSpPr>
        <p:sp>
          <p:nvSpPr>
            <p:cNvPr id="3771" name=""/>
            <p:cNvSpPr/>
            <p:nvPr/>
          </p:nvSpPr>
          <p:spPr>
            <a:xfrm rot="3390000">
              <a:off x="1753920" y="42346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rot="3390000">
              <a:off x="1696320" y="44010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2167200" y="3902400"/>
            <a:ext cx="421200" cy="525960"/>
            <a:chOff x="2167200" y="3902400"/>
            <a:chExt cx="421200" cy="525960"/>
          </a:xfrm>
        </p:grpSpPr>
        <p:sp>
          <p:nvSpPr>
            <p:cNvPr id="3774" name=""/>
            <p:cNvSpPr/>
            <p:nvPr/>
          </p:nvSpPr>
          <p:spPr>
            <a:xfrm rot="3390000">
              <a:off x="2252520" y="39301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rot="3390000">
              <a:off x="2194920" y="40964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2624400" y="3749760"/>
            <a:ext cx="421200" cy="525960"/>
            <a:chOff x="2624400" y="3749760"/>
            <a:chExt cx="421200" cy="525960"/>
          </a:xfrm>
        </p:grpSpPr>
        <p:sp>
          <p:nvSpPr>
            <p:cNvPr id="3777" name=""/>
            <p:cNvSpPr/>
            <p:nvPr/>
          </p:nvSpPr>
          <p:spPr>
            <a:xfrm rot="3390000">
              <a:off x="2709720" y="37774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rot="3390000">
              <a:off x="2652120" y="39438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2548080" y="4283280"/>
            <a:ext cx="421200" cy="525960"/>
            <a:chOff x="2548080" y="4283280"/>
            <a:chExt cx="421200" cy="525960"/>
          </a:xfrm>
        </p:grpSpPr>
        <p:sp>
          <p:nvSpPr>
            <p:cNvPr id="3780" name=""/>
            <p:cNvSpPr/>
            <p:nvPr/>
          </p:nvSpPr>
          <p:spPr>
            <a:xfrm rot="3390000">
              <a:off x="2633400" y="431100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rot="3390000">
              <a:off x="2575800" y="447732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3081600" y="3978360"/>
            <a:ext cx="421200" cy="525960"/>
            <a:chOff x="3081600" y="3978360"/>
            <a:chExt cx="421200" cy="525960"/>
          </a:xfrm>
        </p:grpSpPr>
        <p:sp>
          <p:nvSpPr>
            <p:cNvPr id="3783" name=""/>
            <p:cNvSpPr/>
            <p:nvPr/>
          </p:nvSpPr>
          <p:spPr>
            <a:xfrm rot="3390000">
              <a:off x="3166920" y="4006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3390000">
              <a:off x="3109320" y="4172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>
            <a:off x="582120" y="5240880"/>
            <a:ext cx="40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Deadlock 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Expensive (Lost Tim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5181480" y="2438280"/>
            <a:ext cx="243864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7078680" y="3369240"/>
            <a:ext cx="420840" cy="525960"/>
            <a:chOff x="7078680" y="3369240"/>
            <a:chExt cx="420840" cy="525960"/>
          </a:xfrm>
        </p:grpSpPr>
        <p:sp>
          <p:nvSpPr>
            <p:cNvPr id="3793" name=""/>
            <p:cNvSpPr/>
            <p:nvPr/>
          </p:nvSpPr>
          <p:spPr>
            <a:xfrm rot="3390000">
              <a:off x="7164000" y="3397320"/>
              <a:ext cx="249840" cy="3394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rot="3390000">
              <a:off x="7106400" y="35632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5" name=""/>
          <p:cNvSpPr/>
          <p:nvPr/>
        </p:nvSpPr>
        <p:spPr>
          <a:xfrm>
            <a:off x="7543800" y="327672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 rot="1276800">
            <a:off x="6857640" y="38862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549480" y="4705920"/>
            <a:ext cx="11437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30" y="-570"/>
                </a:moveTo>
                <a:lnTo>
                  <a:pt x="-1409" y="6400"/>
                </a:lnTo>
              </a:path>
              <a:path w="21600" h="21600">
                <a:moveTo>
                  <a:pt x="-1409" y="0"/>
                </a:moveTo>
                <a:lnTo>
                  <a:pt x="-1409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e-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0" name=""/>
          <p:cNvGrpSpPr/>
          <p:nvPr/>
        </p:nvGrpSpPr>
        <p:grpSpPr>
          <a:xfrm>
            <a:off x="6545520" y="3673800"/>
            <a:ext cx="421200" cy="525960"/>
            <a:chOff x="6545520" y="3673800"/>
            <a:chExt cx="421200" cy="525960"/>
          </a:xfrm>
        </p:grpSpPr>
        <p:sp>
          <p:nvSpPr>
            <p:cNvPr id="3801" name=""/>
            <p:cNvSpPr/>
            <p:nvPr/>
          </p:nvSpPr>
          <p:spPr>
            <a:xfrm rot="3390000">
              <a:off x="6630840" y="37015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rot="3390000">
              <a:off x="6573240" y="38678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3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718520" y="525672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Less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Overhead (victim, re-ch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0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500"/>
                            </p:stCondLst>
                            <p:childTnLst>
                              <p:par>
                                <p:cTn id="5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4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5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9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0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4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5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0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1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5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6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6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6" dur="500"/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7" fill="hold">
                      <p:stCondLst>
                        <p:cond delay="indefinite"/>
                      </p:stCondLst>
                      <p:childTnLst>
                        <p:par>
                          <p:cTn id="5798" fill="hold">
                            <p:stCondLst>
                              <p:cond delay="0"/>
                            </p:stCondLst>
                            <p:childTnLst>
                              <p:par>
                                <p:cTn id="5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2" fill="hold">
                      <p:stCondLst>
                        <p:cond delay="indefinite"/>
                      </p:stCondLst>
                      <p:childTnLst>
                        <p:par>
                          <p:cTn id="5803" fill="hold">
                            <p:stCondLst>
                              <p:cond delay="0"/>
                            </p:stCondLst>
                            <p:childTnLst>
                              <p:par>
                                <p:cTn id="5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6" dur="500"/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7" fill="hold">
                      <p:stCondLst>
                        <p:cond delay="indefinite"/>
                      </p:stCondLst>
                      <p:childTnLst>
                        <p:par>
                          <p:cTn id="5808" fill="hold">
                            <p:stCondLst>
                              <p:cond delay="0"/>
                            </p:stCondLst>
                            <p:childTnLst>
                              <p:par>
                                <p:cTn id="5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1" dur="500"/>
                                        <p:tgtEl>
                                          <p:spTgt spid="3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2" fill="hold">
                            <p:stCondLst>
                              <p:cond delay="500"/>
                            </p:stCondLst>
                            <p:childTnLst>
                              <p:par>
                                <p:cTn id="5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6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0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1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5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0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1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5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6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7" fill="hold">
                      <p:stCondLst>
                        <p:cond delay="indefinite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6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7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49" fill="hold">
                      <p:stCondLst>
                        <p:cond delay="indefinite"/>
                      </p:stCondLst>
                      <p:childTnLst>
                        <p:par>
                          <p:cTn id="5850" fill="hold">
                            <p:stCondLst>
                              <p:cond delay="0"/>
                            </p:stCondLst>
                            <p:childTnLst>
                              <p:par>
                                <p:cTn id="58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3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7" dur="5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9" fill="hold">
                      <p:stCondLst>
                        <p:cond delay="indefinite"/>
                      </p:stCondLst>
                      <p:childTnLst>
                        <p:par>
                          <p:cTn id="5860" fill="hold">
                            <p:stCondLst>
                              <p:cond delay="0"/>
                            </p:stCondLst>
                            <p:childTnLst>
                              <p:par>
                                <p:cTn id="5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4" fill="hold">
                      <p:stCondLst>
                        <p:cond delay="indefinite"/>
                      </p:stCondLst>
                      <p:childTnLst>
                        <p:par>
                          <p:cTn id="5865" fill="hold">
                            <p:stCondLst>
                              <p:cond delay="0"/>
                            </p:stCondLst>
                            <p:childTnLst>
                              <p:par>
                                <p:cTn id="5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8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9" fill="hold">
                      <p:stCondLst>
                        <p:cond delay="indefinite"/>
                      </p:stCondLst>
                      <p:childTnLst>
                        <p:par>
                          <p:cTn id="5870" fill="hold">
                            <p:stCondLst>
                              <p:cond delay="0"/>
                            </p:stCondLst>
                            <p:childTnLst>
                              <p:par>
                                <p:cTn id="5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3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4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0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1" fill="hold">
                      <p:stCondLst>
                        <p:cond delay="indefinite"/>
                      </p:stCondLst>
                      <p:childTnLst>
                        <p:par>
                          <p:cTn id="5882" fill="hold">
                            <p:stCondLst>
                              <p:cond delay="0"/>
                            </p:stCondLst>
                            <p:childTnLst>
                              <p:par>
                                <p:cTn id="5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9" fill="hold">
                      <p:stCondLst>
                        <p:cond delay="indefinite"/>
                      </p:stCondLst>
                      <p:childTnLst>
                        <p:par>
                          <p:cTn id="5890" fill="hold">
                            <p:stCondLst>
                              <p:cond delay="0"/>
                            </p:stCondLst>
                            <p:childTnLst>
                              <p:par>
                                <p:cTn id="5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3" dur="500"/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4" fill="hold">
                      <p:stCondLst>
                        <p:cond delay="indefinite"/>
                      </p:stCondLst>
                      <p:childTnLst>
                        <p:par>
                          <p:cTn id="5895" fill="hold">
                            <p:stCondLst>
                              <p:cond delay="0"/>
                            </p:stCondLst>
                            <p:childTnLst>
                              <p:par>
                                <p:cTn id="5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8" dur="500"/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cti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PU-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/ Types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/ B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s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0" name=""/>
          <p:cNvGraphicFramePr/>
          <p:nvPr/>
        </p:nvGraphicFramePr>
        <p:xfrm>
          <a:off x="5715000" y="2844720"/>
          <a:ext cx="12193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44720"/>
                    <a:ext cx="1219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2" name=""/>
          <p:cNvGrpSpPr/>
          <p:nvPr/>
        </p:nvGrpSpPr>
        <p:grpSpPr>
          <a:xfrm>
            <a:off x="6622920" y="2819520"/>
            <a:ext cx="1300320" cy="406080"/>
            <a:chOff x="6622920" y="2819520"/>
            <a:chExt cx="1300320" cy="406080"/>
          </a:xfrm>
        </p:grpSpPr>
        <p:sp>
          <p:nvSpPr>
            <p:cNvPr id="3813" name=""/>
            <p:cNvSpPr/>
            <p:nvPr/>
          </p:nvSpPr>
          <p:spPr>
            <a:xfrm>
              <a:off x="6622920" y="2835360"/>
              <a:ext cx="228600" cy="3902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0080 h 390240"/>
                <a:gd name="textAreaBottom" fmla="*/ 3801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52600" y="281952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½ 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010280" y="3454560"/>
            <a:ext cx="1067040" cy="457200"/>
            <a:chOff x="7010280" y="3454560"/>
            <a:chExt cx="1067040" cy="457200"/>
          </a:xfrm>
        </p:grpSpPr>
        <p:sp>
          <p:nvSpPr>
            <p:cNvPr id="3816" name=""/>
            <p:cNvSpPr/>
            <p:nvPr/>
          </p:nvSpPr>
          <p:spPr>
            <a:xfrm>
              <a:off x="7010280" y="34545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 txBox="1"/>
            <p:nvPr/>
          </p:nvSpPr>
          <p:spPr>
            <a:xfrm>
              <a:off x="7035840" y="34977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7162920" y="3606840"/>
            <a:ext cx="1066680" cy="457200"/>
            <a:chOff x="7162920" y="3606840"/>
            <a:chExt cx="1066680" cy="457200"/>
          </a:xfrm>
        </p:grpSpPr>
        <p:sp>
          <p:nvSpPr>
            <p:cNvPr id="3819" name=""/>
            <p:cNvSpPr/>
            <p:nvPr/>
          </p:nvSpPr>
          <p:spPr>
            <a:xfrm>
              <a:off x="7162920" y="360684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 txBox="1"/>
            <p:nvPr/>
          </p:nvSpPr>
          <p:spPr>
            <a:xfrm>
              <a:off x="7188480" y="365004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315200" y="3759120"/>
            <a:ext cx="1066680" cy="457200"/>
            <a:chOff x="7315200" y="3759120"/>
            <a:chExt cx="1066680" cy="457200"/>
          </a:xfrm>
        </p:grpSpPr>
        <p:sp>
          <p:nvSpPr>
            <p:cNvPr id="3822" name=""/>
            <p:cNvSpPr/>
            <p:nvPr/>
          </p:nvSpPr>
          <p:spPr>
            <a:xfrm>
              <a:off x="7315200" y="375912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 txBox="1"/>
            <p:nvPr/>
          </p:nvSpPr>
          <p:spPr>
            <a:xfrm>
              <a:off x="7340760" y="380232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467480" y="3911760"/>
            <a:ext cx="1067040" cy="457200"/>
            <a:chOff x="7467480" y="3911760"/>
            <a:chExt cx="1067040" cy="457200"/>
          </a:xfrm>
        </p:grpSpPr>
        <p:sp>
          <p:nvSpPr>
            <p:cNvPr id="3825" name=""/>
            <p:cNvSpPr/>
            <p:nvPr/>
          </p:nvSpPr>
          <p:spPr>
            <a:xfrm>
              <a:off x="7467480" y="39117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 txBox="1"/>
            <p:nvPr/>
          </p:nvSpPr>
          <p:spPr>
            <a:xfrm>
              <a:off x="7493040" y="39549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827" name=""/>
          <p:cNvSpPr/>
          <p:nvPr/>
        </p:nvSpPr>
        <p:spPr>
          <a:xfrm>
            <a:off x="5105520" y="3733920"/>
            <a:ext cx="1371600" cy="91440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6454800" y="4464720"/>
            <a:ext cx="23842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70" y="-2067"/>
                </a:moveTo>
                <a:lnTo>
                  <a:pt x="-690" y="6400"/>
                </a:lnTo>
              </a:path>
              <a:path w="21600" h="21600">
                <a:moveTo>
                  <a:pt x="-690" y="0"/>
                </a:moveTo>
                <a:lnTo>
                  <a:pt x="-69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: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48320" y="487692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hosen as a vic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9" dur="indefinite" restart="never" nodeType="tmRoot">
          <p:childTnLst>
            <p:seq>
              <p:cTn id="5900" dur="indefinite" nodeType="mainSeq">
                <p:childTnLst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5" dur="500"/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6" fill="hold">
                      <p:stCondLst>
                        <p:cond delay="indefinite"/>
                      </p:stCondLst>
                      <p:childTnLst>
                        <p:par>
                          <p:cTn id="5907" fill="hold">
                            <p:stCondLst>
                              <p:cond delay="0"/>
                            </p:stCondLst>
                            <p:childTnLst>
                              <p:par>
                                <p:cTn id="5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0" dur="500"/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3" dur="500"/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6" dur="500"/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9" dur="500"/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2" dur="500"/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5" dur="500"/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8" dur="500"/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1" dur="500"/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2" fill="hold">
                      <p:stCondLst>
                        <p:cond delay="indefinite"/>
                      </p:stCondLst>
                      <p:childTnLst>
                        <p:par>
                          <p:cTn id="5933" fill="hold">
                            <p:stCondLst>
                              <p:cond delay="0"/>
                            </p:stCondLst>
                            <p:childTnLst>
                              <p:par>
                                <p:cTn id="5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6" dur="500"/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7" fill="hold">
                      <p:stCondLst>
                        <p:cond delay="indefinite"/>
                      </p:stCondLst>
                      <p:childTnLst>
                        <p:par>
                          <p:cTn id="5938" fill="hold">
                            <p:stCondLst>
                              <p:cond delay="0"/>
                            </p:stCondLst>
                            <p:childTnLst>
                              <p:par>
                                <p:cTn id="5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1" dur="500"/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6" dur="500"/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7" fill="hold">
                      <p:stCondLst>
                        <p:cond delay="indefinite"/>
                      </p:stCondLst>
                      <p:childTnLst>
                        <p:par>
                          <p:cTn id="5948" fill="hold">
                            <p:stCondLst>
                              <p:cond delay="0"/>
                            </p:stCondLst>
                            <p:childTnLst>
                              <p:par>
                                <p:cTn id="5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1" dur="500"/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2" fill="hold">
                      <p:stCondLst>
                        <p:cond delay="indefinite"/>
                      </p:stCondLst>
                      <p:childTnLst>
                        <p:par>
                          <p:cTn id="5953" fill="hold">
                            <p:stCondLst>
                              <p:cond delay="0"/>
                            </p:stCondLst>
                            <p:childTnLst>
                              <p:par>
                                <p:cTn id="5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6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8" fill="hold">
                      <p:stCondLst>
                        <p:cond delay="indefinite"/>
                      </p:stCondLst>
                      <p:childTnLst>
                        <p:par>
                          <p:cTn id="5959" fill="hold">
                            <p:stCondLst>
                              <p:cond delay="0"/>
                            </p:stCondLst>
                            <p:childTnLst>
                              <p:par>
                                <p:cTn id="5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2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3" fill="hold">
                      <p:stCondLst>
                        <p:cond delay="indefinite"/>
                      </p:stCondLst>
                      <p:childTnLst>
                        <p:par>
                          <p:cTn id="5964" fill="hold">
                            <p:stCondLst>
                              <p:cond delay="0"/>
                            </p:stCondLst>
                            <p:childTnLst>
                              <p:par>
                                <p:cTn id="59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7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8" fill="hold">
                            <p:stCondLst>
                              <p:cond delay="500"/>
                            </p:stCondLst>
                            <p:childTnLst>
                              <p:par>
                                <p:cTn id="59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1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5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9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0" fill="hold">
                      <p:stCondLst>
                        <p:cond delay="indefinite"/>
                      </p:stCondLst>
                      <p:childTnLst>
                        <p:par>
                          <p:cTn id="5981" fill="hold">
                            <p:stCondLst>
                              <p:cond delay="0"/>
                            </p:stCondLst>
                            <p:childTnLst>
                              <p:par>
                                <p:cTn id="5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5" fill="hold">
                      <p:stCondLst>
                        <p:cond delay="indefinite"/>
                      </p:stCondLst>
                      <p:childTnLst>
                        <p:par>
                          <p:cTn id="5986" fill="hold">
                            <p:stCondLst>
                              <p:cond delay="0"/>
                            </p:stCondLst>
                            <p:childTnLst>
                              <p:par>
                                <p:cTn id="59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9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4" dur="500"/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9" dur="500"/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2" dur="500"/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"/>
          <p:cNvSpPr/>
          <p:nvPr/>
        </p:nvSpPr>
        <p:spPr>
          <a:xfrm>
            <a:off x="445680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4420080" y="5723640"/>
            <a:ext cx="5007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vict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heckpoi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106668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990720" y="5594400"/>
            <a:ext cx="670536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7" name=""/>
          <p:cNvGraphicFramePr/>
          <p:nvPr/>
        </p:nvGraphicFramePr>
        <p:xfrm>
          <a:off x="3429000" y="5137200"/>
          <a:ext cx="457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37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9" name=""/>
          <p:cNvGrpSpPr/>
          <p:nvPr/>
        </p:nvGrpSpPr>
        <p:grpSpPr>
          <a:xfrm>
            <a:off x="5334120" y="4571280"/>
            <a:ext cx="2060640" cy="718200"/>
            <a:chOff x="5334120" y="4571280"/>
            <a:chExt cx="2060640" cy="718200"/>
          </a:xfrm>
        </p:grpSpPr>
        <p:sp>
          <p:nvSpPr>
            <p:cNvPr id="3840" name=""/>
            <p:cNvSpPr/>
            <p:nvPr/>
          </p:nvSpPr>
          <p:spPr>
            <a:xfrm>
              <a:off x="5334120" y="4908600"/>
              <a:ext cx="20574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240"/>
                  </a:moveTo>
                  <a:lnTo>
                    <a:pt x="0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279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336640" y="45712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tarts using pr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251460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5" name=""/>
          <p:cNvGrpSpPr/>
          <p:nvPr/>
        </p:nvGrpSpPr>
        <p:grpSpPr>
          <a:xfrm>
            <a:off x="7543800" y="4572000"/>
            <a:ext cx="838080" cy="1219320"/>
            <a:chOff x="7543800" y="4572000"/>
            <a:chExt cx="838080" cy="1219320"/>
          </a:xfrm>
        </p:grpSpPr>
        <p:sp>
          <p:nvSpPr>
            <p:cNvPr id="3846" name=""/>
            <p:cNvSpPr/>
            <p:nvPr/>
          </p:nvSpPr>
          <p:spPr>
            <a:xfrm>
              <a:off x="7924680" y="5029200"/>
              <a:ext cx="75600" cy="7621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543800" y="4572000"/>
              <a:ext cx="838080" cy="609480"/>
            </a:xfrm>
            <a:prstGeom prst="hexagon">
              <a:avLst>
                <a:gd name="adj" fmla="val 34377"/>
                <a:gd name="vf" fmla="val 115470"/>
              </a:avLst>
            </a:prstGeom>
            <a:solidFill>
              <a:srgbClr val="ffffff"/>
            </a:solidFill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d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8" name=""/>
          <p:cNvSpPr/>
          <p:nvPr/>
        </p:nvSpPr>
        <p:spPr>
          <a:xfrm>
            <a:off x="253116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73992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0" name=""/>
          <p:cNvGraphicFramePr/>
          <p:nvPr/>
        </p:nvGraphicFramePr>
        <p:xfrm>
          <a:off x="8001000" y="5218200"/>
          <a:ext cx="457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218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2" name=""/>
          <p:cNvGrpSpPr/>
          <p:nvPr/>
        </p:nvGrpSpPr>
        <p:grpSpPr>
          <a:xfrm>
            <a:off x="8069400" y="5121360"/>
            <a:ext cx="421200" cy="525960"/>
            <a:chOff x="8069400" y="5121360"/>
            <a:chExt cx="421200" cy="525960"/>
          </a:xfrm>
        </p:grpSpPr>
        <p:sp>
          <p:nvSpPr>
            <p:cNvPr id="3853" name=""/>
            <p:cNvSpPr/>
            <p:nvPr/>
          </p:nvSpPr>
          <p:spPr>
            <a:xfrm rot="3390000">
              <a:off x="8154720" y="5149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3390000">
              <a:off x="8097120" y="5315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5" name=""/>
          <p:cNvSpPr/>
          <p:nvPr/>
        </p:nvSpPr>
        <p:spPr>
          <a:xfrm>
            <a:off x="650880" y="5728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361320" y="4274640"/>
            <a:ext cx="1093680" cy="642600"/>
          </a:xfrm>
          <a:prstGeom prst="borderCallout1">
            <a:avLst>
              <a:gd name="adj1" fmla="val 18750"/>
              <a:gd name="adj2" fmla="val -8333"/>
              <a:gd name="adj3" fmla="val 149268"/>
              <a:gd name="adj4" fmla="val -1588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6696000" y="5586840"/>
            <a:ext cx="4669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268600" y="5723640"/>
            <a:ext cx="1489680" cy="368280"/>
          </a:xfrm>
          <a:prstGeom prst="borderCallout1">
            <a:avLst>
              <a:gd name="adj1" fmla="val 18750"/>
              <a:gd name="adj2" fmla="val -8333"/>
              <a:gd name="adj3" fmla="val 41402"/>
              <a:gd name="adj4" fmla="val -33652"/>
            </a:avLst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453852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63520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rot="5700000">
            <a:off x="2748600" y="5480640"/>
            <a:ext cx="609480" cy="31608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6080"/>
              <a:gd name="textAreaBottom" fmla="*/ 273960 h 316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5700000">
            <a:off x="4718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rot="5700000">
            <a:off x="7004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3" dur="indefinite" restart="never" nodeType="tmRoot">
          <p:childTnLst>
            <p:seq>
              <p:cTn id="6004" dur="indefinite" nodeType="mainSeq">
                <p:childTnLst>
                  <p:par>
                    <p:cTn id="6005" fill="hold">
                      <p:stCondLst>
                        <p:cond delay="indefinite"/>
                      </p:stCondLst>
                      <p:childTnLst>
                        <p:par>
                          <p:cTn id="6006" fill="hold">
                            <p:stCondLst>
                              <p:cond delay="0"/>
                            </p:stCondLst>
                            <p:childTnLst>
                              <p:par>
                                <p:cTn id="60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09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3" dur="5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4" fill="hold">
                      <p:stCondLst>
                        <p:cond delay="indefinite"/>
                      </p:stCondLst>
                      <p:childTnLst>
                        <p:par>
                          <p:cTn id="6015" fill="hold">
                            <p:stCondLst>
                              <p:cond delay="0"/>
                            </p:stCondLst>
                            <p:childTnLst>
                              <p:par>
                                <p:cTn id="6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8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9" fill="hold">
                      <p:stCondLst>
                        <p:cond delay="indefinite"/>
                      </p:stCondLst>
                      <p:childTnLst>
                        <p:par>
                          <p:cTn id="6020" fill="hold">
                            <p:stCondLst>
                              <p:cond delay="0"/>
                            </p:stCondLst>
                            <p:childTnLst>
                              <p:par>
                                <p:cTn id="6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3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4" fill="hold">
                      <p:stCondLst>
                        <p:cond delay="indefinite"/>
                      </p:stCondLst>
                      <p:childTnLst>
                        <p:par>
                          <p:cTn id="6025" fill="hold">
                            <p:stCondLst>
                              <p:cond delay="0"/>
                            </p:stCondLst>
                            <p:childTnLst>
                              <p:par>
                                <p:cTn id="6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8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9" fill="hold">
                            <p:stCondLst>
                              <p:cond delay="500"/>
                            </p:stCondLst>
                            <p:childTnLst>
                              <p:par>
                                <p:cTn id="6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2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8" dur="500"/>
                                        <p:tgtEl>
                                          <p:spTgt spid="3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9" fill="hold">
                      <p:stCondLst>
                        <p:cond delay="indefinite"/>
                      </p:stCondLst>
                      <p:childTnLst>
                        <p:par>
                          <p:cTn id="6040" fill="hold">
                            <p:stCondLst>
                              <p:cond delay="0"/>
                            </p:stCondLst>
                            <p:childTnLst>
                              <p:par>
                                <p:cTn id="6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3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4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5" fill="hold">
                      <p:stCondLst>
                        <p:cond delay="indefinite"/>
                      </p:stCondLst>
                      <p:childTnLst>
                        <p:par>
                          <p:cTn id="6046" fill="hold">
                            <p:stCondLst>
                              <p:cond delay="0"/>
                            </p:stCondLst>
                            <p:childTnLst>
                              <p:par>
                                <p:cTn id="6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9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0" fill="hold">
                      <p:stCondLst>
                        <p:cond delay="indefinite"/>
                      </p:stCondLst>
                      <p:childTnLst>
                        <p:par>
                          <p:cTn id="6051" fill="hold">
                            <p:stCondLst>
                              <p:cond delay="0"/>
                            </p:stCondLst>
                            <p:childTnLst>
                              <p:par>
                                <p:cTn id="6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4" dur="5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5" fill="hold">
                            <p:stCondLst>
                              <p:cond delay="500"/>
                            </p:stCondLst>
                            <p:childTnLst>
                              <p:par>
                                <p:cTn id="6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8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0" fill="hold">
                      <p:stCondLst>
                        <p:cond delay="indefinite"/>
                      </p:stCondLst>
                      <p:childTnLst>
                        <p:par>
                          <p:cTn id="6061" fill="hold">
                            <p:stCondLst>
                              <p:cond delay="0"/>
                            </p:stCondLst>
                            <p:childTnLst>
                              <p:par>
                                <p:cTn id="60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4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5" fill="hold">
                      <p:stCondLst>
                        <p:cond delay="indefinite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9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0" fill="hold">
                      <p:stCondLst>
                        <p:cond delay="indefinite"/>
                      </p:stCondLst>
                      <p:childTnLst>
                        <p:par>
                          <p:cTn id="6071" fill="hold">
                            <p:stCondLst>
                              <p:cond delay="0"/>
                            </p:stCondLst>
                            <p:childTnLst>
                              <p:par>
                                <p:cTn id="6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4" dur="500"/>
                                        <p:tgtEl>
                                          <p:spTgt spid="3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5" fill="hold">
                            <p:stCondLst>
                              <p:cond delay="500"/>
                            </p:stCondLst>
                            <p:childTnLst>
                              <p:par>
                                <p:cTn id="6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8" dur="500"/>
                                        <p:tgtEl>
                                          <p:spTgt spid="3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0" fill="hold">
                      <p:stCondLst>
                        <p:cond delay="indefinite"/>
                      </p:stCondLst>
                      <p:childTnLst>
                        <p:par>
                          <p:cTn id="6081" fill="hold">
                            <p:stCondLst>
                              <p:cond delay="0"/>
                            </p:stCondLst>
                            <p:childTnLst>
                              <p:par>
                                <p:cTn id="6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4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5" fill="hold">
                      <p:stCondLst>
                        <p:cond delay="indefinite"/>
                      </p:stCondLst>
                      <p:childTnLst>
                        <p:par>
                          <p:cTn id="6086" fill="hold">
                            <p:stCondLst>
                              <p:cond delay="0"/>
                            </p:stCondLst>
                            <p:childTnLst>
                              <p:par>
                                <p:cTn id="6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9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0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2" fill="hold">
                            <p:stCondLst>
                              <p:cond delay="500"/>
                            </p:stCondLst>
                            <p:childTnLst>
                              <p:par>
                                <p:cTn id="60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5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6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8" fill="hold">
                      <p:stCondLst>
                        <p:cond delay="indefinite"/>
                      </p:stCondLst>
                      <p:childTnLst>
                        <p:par>
                          <p:cTn id="6099" fill="hold">
                            <p:stCondLst>
                              <p:cond delay="0"/>
                            </p:stCondLst>
                            <p:childTnLst>
                              <p:par>
                                <p:cTn id="6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2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4" fill="hold">
                            <p:stCondLst>
                              <p:cond delay="500"/>
                            </p:stCondLst>
                            <p:childTnLst>
                              <p:par>
                                <p:cTn id="6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14" dur="500"/>
                                        <p:tgtEl>
                                          <p:spTgt spid="3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5" fill="hold">
                      <p:stCondLst>
                        <p:cond delay="indefinite"/>
                      </p:stCondLst>
                      <p:childTnLst>
                        <p:par>
                          <p:cTn id="6116" fill="hold">
                            <p:stCondLst>
                              <p:cond delay="0"/>
                            </p:stCondLst>
                            <p:childTnLst>
                              <p:par>
                                <p:cTn id="6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9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Partitioned into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Hierarchically Or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Ordering To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Class: Most appropriate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never involves &gt; 1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1828800" y="190512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Resour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CB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828800" y="279396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828800" y="368316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828800" y="457200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nter, Tape Unit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025960" y="23684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d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029200" y="317196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al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029200" y="40100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em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029200" y="484812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anker´s Al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>
            <a:hlinkClick r:id="rId1"/>
          </p:cNvPr>
          <p:cNvSpPr/>
          <p:nvPr/>
        </p:nvSpPr>
        <p:spPr>
          <a:xfrm>
            <a:off x="7924680" y="5486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7" dur="indefinite" restart="never" nodeType="tmRoot">
          <p:childTnLst>
            <p:seq>
              <p:cTn id="6128" dur="indefinite" nodeType="mainSeq">
                <p:childTnLst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3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8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3" dur="500"/>
                                        <p:tgtEl>
                                          <p:spTgt spid="3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4" fill="hold">
                      <p:stCondLst>
                        <p:cond delay="indefinite"/>
                      </p:stCondLst>
                      <p:childTnLst>
                        <p:par>
                          <p:cTn id="6145" fill="hold">
                            <p:stCondLst>
                              <p:cond delay="0"/>
                            </p:stCondLst>
                            <p:childTnLst>
                              <p:par>
                                <p:cTn id="6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8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9" fill="hold">
                      <p:stCondLst>
                        <p:cond delay="indefinite"/>
                      </p:stCondLst>
                      <p:childTnLst>
                        <p:par>
                          <p:cTn id="6150" fill="hold">
                            <p:stCondLst>
                              <p:cond delay="0"/>
                            </p:stCondLst>
                            <p:childTnLst>
                              <p:par>
                                <p:cTn id="6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3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4" fill="hold">
                      <p:stCondLst>
                        <p:cond delay="indefinite"/>
                      </p:stCondLst>
                      <p:childTnLst>
                        <p:par>
                          <p:cTn id="6155" fill="hold">
                            <p:stCondLst>
                              <p:cond delay="0"/>
                            </p:stCondLst>
                            <p:childTnLst>
                              <p:par>
                                <p:cTn id="6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8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9" fill="hold">
                      <p:stCondLst>
                        <p:cond delay="indefinite"/>
                      </p:stCondLst>
                      <p:childTnLst>
                        <p:par>
                          <p:cTn id="6160" fill="hold">
                            <p:stCondLst>
                              <p:cond delay="0"/>
                            </p:stCondLst>
                            <p:childTnLst>
                              <p:par>
                                <p:cTn id="6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4" fill="hold">
                      <p:stCondLst>
                        <p:cond delay="indefinite"/>
                      </p:stCondLst>
                      <p:childTnLst>
                        <p:par>
                          <p:cTn id="6165" fill="hold">
                            <p:stCondLst>
                              <p:cond delay="0"/>
                            </p:stCondLst>
                            <p:childTnLst>
                              <p:par>
                                <p:cTn id="6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8" dur="500"/>
                                        <p:tgtEl>
                                          <p:spTgt spid="3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03760" y="1523880"/>
            <a:ext cx="990360" cy="533520"/>
            <a:chOff x="3803760" y="1523880"/>
            <a:chExt cx="990360" cy="533520"/>
          </a:xfrm>
        </p:grpSpPr>
        <p:sp>
          <p:nvSpPr>
            <p:cNvPr id="326" name=""/>
            <p:cNvSpPr/>
            <p:nvPr/>
          </p:nvSpPr>
          <p:spPr>
            <a:xfrm>
              <a:off x="3803760" y="15238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21840" y="1605600"/>
              <a:ext cx="753840" cy="246240"/>
              <a:chOff x="3921840" y="1605600"/>
              <a:chExt cx="753840" cy="2462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2184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9308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086720" y="18932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589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4971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34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6480" y="3352680"/>
            <a:ext cx="399960" cy="2514600"/>
            <a:chOff x="456480" y="3352680"/>
            <a:chExt cx="399960" cy="2514600"/>
          </a:xfrm>
        </p:grpSpPr>
        <p:sp>
          <p:nvSpPr>
            <p:cNvPr id="338" name=""/>
            <p:cNvSpPr/>
            <p:nvPr/>
          </p:nvSpPr>
          <p:spPr>
            <a:xfrm>
              <a:off x="77796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5400">
              <a:off x="27540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66680" y="32907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97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0348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859040" y="50292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50292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49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53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57800" y="1521000"/>
          <a:ext cx="91440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52100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51814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668600" y="3657600"/>
          <a:ext cx="914400" cy="6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8600" y="36576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" name=""/>
          <p:cNvGrpSpPr/>
          <p:nvPr/>
        </p:nvGrpSpPr>
        <p:grpSpPr>
          <a:xfrm>
            <a:off x="3551400" y="3352680"/>
            <a:ext cx="990360" cy="533520"/>
            <a:chOff x="3551400" y="3352680"/>
            <a:chExt cx="990360" cy="533520"/>
          </a:xfrm>
        </p:grpSpPr>
        <p:sp>
          <p:nvSpPr>
            <p:cNvPr id="364" name=""/>
            <p:cNvSpPr/>
            <p:nvPr/>
          </p:nvSpPr>
          <p:spPr>
            <a:xfrm>
              <a:off x="3551400" y="33526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669480" y="3434400"/>
              <a:ext cx="753840" cy="246240"/>
              <a:chOff x="3669480" y="3434400"/>
              <a:chExt cx="75384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366948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4072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834360" y="37220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065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2447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971800" y="502920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21:23:42Z</dcterms:created>
  <dc:creator>De Decker</dc:creator>
  <dc:description/>
  <dc:language>en-US</dc:language>
  <cp:lastModifiedBy>Bart De Decker</cp:lastModifiedBy>
  <dcterms:modified xsi:type="dcterms:W3CDTF">2005-11-04T10:50:23Z</dcterms:modified>
  <cp:revision>22</cp:revision>
  <dc:subject/>
  <dc:title>Overview</dc:title>
</cp:coreProperties>
</file>