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80A94A5F-039C-40B4-9691-9D6BCB7817B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7443780-6BBE-46A5-AB34-4A04AD14FD8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demand paging, deman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swa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1030680" y="2839320"/>
            <a:ext cx="2821680" cy="2684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43600" y="2590920"/>
            <a:ext cx="2438280" cy="2971800"/>
          </a:xfrm>
          <a:prstGeom prst="can">
            <a:avLst>
              <a:gd name="adj" fmla="val 1768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3048120"/>
            <a:ext cx="12193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3809880"/>
            <a:ext cx="1218960" cy="1524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0280" y="327672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5880" y="41148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9920" y="29707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wap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3000" y="5180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swa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4952880"/>
            <a:ext cx="99072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3962520"/>
            <a:ext cx="7621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36576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819520" y="4343400"/>
            <a:ext cx="3962160" cy="838080"/>
          </a:xfrm>
          <a:custGeom>
            <a:avLst/>
            <a:gdLst>
              <a:gd name="textAreaLeft" fmla="*/ 693360 w 3962160"/>
              <a:gd name="textAreaRight" fmla="*/ 2872800 w 39621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97992"/>
                <a:lnTo>
                  <a:pt x="21175" y="7143"/>
                </a:lnTo>
                <a:lnTo>
                  <a:pt x="17280" y="0"/>
                </a:lnTo>
                <a:lnTo>
                  <a:pt x="12535" y="7143"/>
                </a:lnTo>
                <a:lnTo>
                  <a:pt x="14695" y="7143"/>
                </a:lnTo>
                <a:arcTo wR="7560" hR="21600" stAng="2702008" swAng="2340557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3429000"/>
            <a:ext cx="5257800" cy="609480"/>
          </a:xfrm>
          <a:custGeom>
            <a:avLst/>
            <a:gdLst>
              <a:gd name="textAreaLeft" fmla="*/ 1022400 w 5257800"/>
              <a:gd name="textAreaRight" fmla="*/ 3685680 w 52578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03" hR="21600" stAng="10800000" swAng="5400000"/>
                <a:lnTo>
                  <a:pt x="10941" y="0"/>
                </a:lnTo>
                <a:arcTo wR="8403" hR="21600" stAng="-5400000" swAng="2864001"/>
                <a:lnTo>
                  <a:pt x="21119" y="14400"/>
                </a:lnTo>
                <a:lnTo>
                  <a:pt x="18074" y="21600"/>
                </a:lnTo>
                <a:lnTo>
                  <a:pt x="14067" y="14400"/>
                </a:lnTo>
                <a:lnTo>
                  <a:pt x="16324" y="14400"/>
                </a:lnTo>
                <a:arcTo wR="8403" hR="21600" stAng="-2535999" swAng="-2659929"/>
                <a:lnTo>
                  <a:pt x="9672" y="248"/>
                </a:lnTo>
                <a:arcTo wR="8403" hR="21600" stAng="-5604071" swAng="-5195929"/>
                <a:close/>
              </a:path>
              <a:path fill="darkenLess" w="21600" h="21600">
                <a:moveTo>
                  <a:pt x="0" y="21600"/>
                </a:moveTo>
                <a:arcTo wR="8403" hR="21600" stAng="10800000" swAng="5400000"/>
                <a:lnTo>
                  <a:pt x="8403" y="0"/>
                </a:lnTo>
                <a:arcTo wR="8403" hR="21600" stAng="-5400000" swAng="204071"/>
                <a:lnTo>
                  <a:pt x="9672" y="248"/>
                </a:lnTo>
                <a:arcTo wR="8403" hR="21600" stAng="-5604071" swAng="-5195929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hole Program Loaded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 combined with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Code,Data,Stack)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loaded as 1 Contiguous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3564000" y="2865600"/>
            <a:ext cx="1368360" cy="268452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64000" y="3584520"/>
            <a:ext cx="1368360" cy="101592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676520" y="3152880"/>
            <a:ext cx="3581280" cy="2928960"/>
            <a:chOff x="1676520" y="3152880"/>
            <a:chExt cx="3581280" cy="2928960"/>
          </a:xfrm>
        </p:grpSpPr>
        <p:sp>
          <p:nvSpPr>
            <p:cNvPr id="621" name=""/>
            <p:cNvSpPr/>
            <p:nvPr/>
          </p:nvSpPr>
          <p:spPr>
            <a:xfrm>
              <a:off x="167652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1460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385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08200" y="3755880"/>
              <a:ext cx="76680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2"/>
              <a:endCxn id="623" idx="0"/>
            </p:cNvCxnSpPr>
            <p:nvPr/>
          </p:nvCxnSpPr>
          <p:spPr>
            <a:xfrm>
              <a:off x="2991960" y="4098960"/>
              <a:ext cx="2520" cy="40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6" name=""/>
            <p:cNvCxnSpPr>
              <a:stCxn id="623" idx="3"/>
            </p:cNvCxnSpPr>
            <p:nvPr/>
          </p:nvCxnSpPr>
          <p:spPr>
            <a:xfrm>
              <a:off x="3268800" y="4808520"/>
              <a:ext cx="522720" cy="151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3605040" y="375444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27" idx="2"/>
              <a:endCxn id="629" idx="0"/>
            </p:cNvCxnSpPr>
            <p:nvPr/>
          </p:nvCxnSpPr>
          <p:spPr>
            <a:xfrm>
              <a:off x="3989160" y="4097160"/>
              <a:ext cx="1080" cy="408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0" name=""/>
            <p:cNvSpPr/>
            <p:nvPr/>
          </p:nvSpPr>
          <p:spPr>
            <a:xfrm>
              <a:off x="1676520" y="4627440"/>
              <a:ext cx="5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"/>
            <p:cNvCxnSpPr>
              <a:stCxn id="630" idx="3"/>
              <a:endCxn id="623" idx="1"/>
            </p:cNvCxnSpPr>
            <p:nvPr/>
          </p:nvCxnSpPr>
          <p:spPr>
            <a:xfrm>
              <a:off x="2224080" y="4795560"/>
              <a:ext cx="49608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2576520" y="565776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23" idx="2"/>
              <a:endCxn id="632" idx="5"/>
            </p:cNvCxnSpPr>
            <p:nvPr/>
          </p:nvCxnSpPr>
          <p:spPr>
            <a:xfrm flipH="1">
              <a:off x="2991600" y="5113080"/>
              <a:ext cx="2520" cy="78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34" name=""/>
            <p:cNvSpPr/>
            <p:nvPr/>
          </p:nvSpPr>
          <p:spPr>
            <a:xfrm>
              <a:off x="297648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564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242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29" idx="3"/>
              <a:endCxn id="636" idx="1"/>
            </p:cNvCxnSpPr>
            <p:nvPr/>
          </p:nvCxnSpPr>
          <p:spPr>
            <a:xfrm>
              <a:off x="4264200" y="4811400"/>
              <a:ext cx="460800" cy="540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9" name=""/>
            <p:cNvSpPr/>
            <p:nvPr/>
          </p:nvSpPr>
          <p:spPr>
            <a:xfrm>
              <a:off x="3733920" y="452448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5160" y="5645160"/>
              <a:ext cx="541080" cy="42372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" name=""/>
            <p:cNvCxnSpPr>
              <a:stCxn id="629" idx="2"/>
              <a:endCxn id="638" idx="5"/>
            </p:cNvCxnSpPr>
            <p:nvPr/>
          </p:nvCxnSpPr>
          <p:spPr>
            <a:xfrm>
              <a:off x="3989520" y="5116320"/>
              <a:ext cx="2160" cy="764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40" name=""/>
            <p:cNvSpPr/>
            <p:nvPr/>
          </p:nvSpPr>
          <p:spPr>
            <a:xfrm>
              <a:off x="396720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83120" y="4504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guous Alloc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244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+Trans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486400" y="3152880"/>
            <a:ext cx="3429000" cy="2971800"/>
            <a:chOff x="5486400" y="3152880"/>
            <a:chExt cx="3429000" cy="2971800"/>
          </a:xfrm>
        </p:grpSpPr>
        <p:sp>
          <p:nvSpPr>
            <p:cNvPr id="646" name=""/>
            <p:cNvSpPr/>
            <p:nvPr/>
          </p:nvSpPr>
          <p:spPr>
            <a:xfrm>
              <a:off x="548640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448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19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15200" y="374976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9" idx="2"/>
              <a:endCxn id="648" idx="0"/>
            </p:cNvCxnSpPr>
            <p:nvPr/>
          </p:nvCxnSpPr>
          <p:spPr>
            <a:xfrm flipH="1">
              <a:off x="6796800" y="4092480"/>
              <a:ext cx="2520" cy="410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48" idx="3"/>
              <a:endCxn id="652" idx="1"/>
            </p:cNvCxnSpPr>
            <p:nvPr/>
          </p:nvCxnSpPr>
          <p:spPr>
            <a:xfrm>
              <a:off x="7071840" y="4808520"/>
              <a:ext cx="521640" cy="1656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3" name=""/>
            <p:cNvSpPr/>
            <p:nvPr/>
          </p:nvSpPr>
          <p:spPr>
            <a:xfrm>
              <a:off x="7402680" y="3754440"/>
              <a:ext cx="76644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"/>
            <p:cNvCxnSpPr>
              <a:stCxn id="653" idx="2"/>
              <a:endCxn id="652" idx="0"/>
            </p:cNvCxnSpPr>
            <p:nvPr/>
          </p:nvCxnSpPr>
          <p:spPr>
            <a:xfrm flipH="1">
              <a:off x="7784280" y="4097160"/>
              <a:ext cx="2520" cy="511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"/>
            <p:cNvSpPr/>
            <p:nvPr/>
          </p:nvSpPr>
          <p:spPr>
            <a:xfrm>
              <a:off x="7593120" y="4608360"/>
              <a:ext cx="38412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4400" y="4627440"/>
              <a:ext cx="43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6" name=""/>
            <p:cNvCxnSpPr>
              <a:stCxn id="655" idx="3"/>
              <a:endCxn id="648" idx="1"/>
            </p:cNvCxnSpPr>
            <p:nvPr/>
          </p:nvCxnSpPr>
          <p:spPr>
            <a:xfrm>
              <a:off x="6033600" y="4795560"/>
              <a:ext cx="48960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7" name=""/>
            <p:cNvSpPr/>
            <p:nvPr/>
          </p:nvSpPr>
          <p:spPr>
            <a:xfrm>
              <a:off x="6381720" y="570060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48" idx="2"/>
              <a:endCxn id="657" idx="5"/>
            </p:cNvCxnSpPr>
            <p:nvPr/>
          </p:nvCxnSpPr>
          <p:spPr>
            <a:xfrm>
              <a:off x="6797160" y="5113440"/>
              <a:ext cx="1080" cy="8229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59" name=""/>
            <p:cNvSpPr/>
            <p:nvPr/>
          </p:nvSpPr>
          <p:spPr>
            <a:xfrm>
              <a:off x="6786720" y="53280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0552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18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2" name=""/>
            <p:cNvCxnSpPr>
              <a:stCxn id="652" idx="3"/>
              <a:endCxn id="661" idx="1"/>
            </p:cNvCxnSpPr>
            <p:nvPr/>
          </p:nvCxnSpPr>
          <p:spPr>
            <a:xfrm flipV="1">
              <a:off x="7977240" y="4816080"/>
              <a:ext cx="405360" cy="864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663" name=""/>
          <p:cNvGrpSpPr/>
          <p:nvPr/>
        </p:nvGrpSpPr>
        <p:grpSpPr>
          <a:xfrm>
            <a:off x="371520" y="2924280"/>
            <a:ext cx="914400" cy="2942640"/>
            <a:chOff x="371520" y="2924280"/>
            <a:chExt cx="914400" cy="2942640"/>
          </a:xfrm>
        </p:grpSpPr>
        <p:sp>
          <p:nvSpPr>
            <p:cNvPr id="664" name=""/>
            <p:cNvSpPr/>
            <p:nvPr/>
          </p:nvSpPr>
          <p:spPr>
            <a:xfrm>
              <a:off x="371520" y="2924280"/>
              <a:ext cx="538200" cy="24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812880" y="3014280"/>
              <a:ext cx="473040" cy="2852640"/>
              <a:chOff x="812880" y="3014280"/>
              <a:chExt cx="473040" cy="2852640"/>
            </a:xfrm>
          </p:grpSpPr>
          <p:sp>
            <p:nvSpPr>
              <p:cNvPr id="666" name=""/>
              <p:cNvSpPr/>
              <p:nvPr/>
            </p:nvSpPr>
            <p:spPr>
              <a:xfrm>
                <a:off x="812880" y="3014280"/>
                <a:ext cx="473040" cy="28526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12880" y="3014280"/>
                <a:ext cx="473040" cy="661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nl-BE" sz="1400" spc="-1" strike="noStrike">
                    <a:solidFill>
                      <a:srgbClr val="000000"/>
                    </a:solidFill>
                    <a:latin typeface="Tahoma"/>
                  </a:rPr>
                  <a:t>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12880" y="4262040"/>
                <a:ext cx="473040" cy="531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2880" y="5154120"/>
                <a:ext cx="473040" cy="337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4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2" dur="1" fill="hold"/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679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133720" y="4319640"/>
            <a:ext cx="2431080" cy="1623600"/>
            <a:chOff x="2133720" y="4319640"/>
            <a:chExt cx="2431080" cy="1623600"/>
          </a:xfrm>
        </p:grpSpPr>
        <p:sp>
          <p:nvSpPr>
            <p:cNvPr id="687" name=""/>
            <p:cNvSpPr/>
            <p:nvPr/>
          </p:nvSpPr>
          <p:spPr>
            <a:xfrm>
              <a:off x="3555000" y="4319640"/>
              <a:ext cx="1009800" cy="459720"/>
            </a:xfrm>
            <a:prstGeom prst="borderCallout1">
              <a:avLst>
                <a:gd name="adj1" fmla="val 18750"/>
                <a:gd name="adj2" fmla="val -8333"/>
                <a:gd name="adj3" fmla="val -159388"/>
                <a:gd name="adj4" fmla="val -137523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H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133720" y="441972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133720" y="4419360"/>
              <a:ext cx="1371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372920" y="1539360"/>
            <a:ext cx="3457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? | Process | &lt; | hole | 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Loa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ynamic Storage Al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rst (Next)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or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952880" y="3876840"/>
            <a:ext cx="1524240" cy="38088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076720" y="4439160"/>
            <a:ext cx="3733560" cy="1907640"/>
            <a:chOff x="5076720" y="4439160"/>
            <a:chExt cx="3733560" cy="1907640"/>
          </a:xfrm>
        </p:grpSpPr>
        <p:sp>
          <p:nvSpPr>
            <p:cNvPr id="693" name=""/>
            <p:cNvSpPr/>
            <p:nvPr/>
          </p:nvSpPr>
          <p:spPr>
            <a:xfrm>
              <a:off x="5076720" y="4439160"/>
              <a:ext cx="3733560" cy="18828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Size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lloc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2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 7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4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76720" y="48229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7200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6272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8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704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08360" y="4292640"/>
            <a:ext cx="1079640" cy="44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28600" y="26370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Fragmenta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02240" y="4797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nternal Fra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08360" y="3860640"/>
            <a:ext cx="1079640" cy="2890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7120" y="4627440"/>
            <a:ext cx="107964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-0.12593 E">
                                      <p:cBhvr>
                                        <p:cTn id="90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12593 L -0.11805 0.04213 E">
                                      <p:cBhvr>
                                        <p:cTn id="905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4213 L -0.11806 0.19953 E">
                                      <p:cBhvr>
                                        <p:cTn id="909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625 L -0.11805 0.11643 E">
                                      <p:cBhvr>
                                        <p:cTn id="92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49 0.11666 L -0.23871 0.11551 E">
                                      <p:cBhvr>
                                        <p:cTn id="92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| Frame | = | Page 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3880" y="2354400"/>
            <a:ext cx="2868840" cy="1434600"/>
            <a:chOff x="1523880" y="2354400"/>
            <a:chExt cx="2868840" cy="1434600"/>
          </a:xfrm>
        </p:grpSpPr>
        <p:sp>
          <p:nvSpPr>
            <p:cNvPr id="719" name=""/>
            <p:cNvSpPr/>
            <p:nvPr/>
          </p:nvSpPr>
          <p:spPr>
            <a:xfrm>
              <a:off x="152388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2388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388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2388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848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848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848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848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95920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5920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5920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5920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7344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7344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7344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344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18200" y="2346480"/>
            <a:ext cx="719280" cy="1442520"/>
            <a:chOff x="6118200" y="2346480"/>
            <a:chExt cx="719280" cy="1442520"/>
          </a:xfrm>
        </p:grpSpPr>
        <p:sp>
          <p:nvSpPr>
            <p:cNvPr id="736" name=""/>
            <p:cNvSpPr/>
            <p:nvPr/>
          </p:nvSpPr>
          <p:spPr>
            <a:xfrm>
              <a:off x="6118200" y="23464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18200" y="27036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18200" y="30654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18200" y="34290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356640" y="4277520"/>
            <a:ext cx="1243080" cy="520560"/>
          </a:xfrm>
          <a:prstGeom prst="borderCallout1">
            <a:avLst>
              <a:gd name="adj1" fmla="val 18750"/>
              <a:gd name="adj2" fmla="val -8333"/>
              <a:gd name="adj3" fmla="val -136763"/>
              <a:gd name="adj4" fmla="val -6728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0720" y="4271040"/>
            <a:ext cx="1012680" cy="520560"/>
          </a:xfrm>
          <a:prstGeom prst="borderCallout1">
            <a:avLst>
              <a:gd name="adj1" fmla="val 18750"/>
              <a:gd name="adj2" fmla="val -8333"/>
              <a:gd name="adj3" fmla="val -209740"/>
              <a:gd name="adj4" fmla="val 14210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02520" y="19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32720" y="19040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94440" y="226944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3640" y="50281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ed: 0, 1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228384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7620120" y="3209760"/>
            <a:ext cx="533160" cy="144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2286000"/>
            <a:ext cx="1905120" cy="266688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1640" y="328788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364500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00200" y="40021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1640" y="43639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886200" y="3200400"/>
            <a:ext cx="2868120" cy="1434600"/>
            <a:chOff x="3886200" y="3200400"/>
            <a:chExt cx="2868120" cy="1434600"/>
          </a:xfrm>
        </p:grpSpPr>
        <p:sp>
          <p:nvSpPr>
            <p:cNvPr id="756" name=""/>
            <p:cNvSpPr/>
            <p:nvPr/>
          </p:nvSpPr>
          <p:spPr>
            <a:xfrm>
              <a:off x="38862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862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62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862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0044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0044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044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044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2116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2116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2116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2116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354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354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354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354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966120" y="312192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35575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391788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39000" y="427356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7200" y="391464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00200" y="2438280"/>
            <a:ext cx="3505320" cy="838440"/>
          </a:xfrm>
          <a:custGeom>
            <a:avLst/>
            <a:gdLst>
              <a:gd name="textAreaLeft" fmla="*/ 604080 w 3505320"/>
              <a:gd name="textAreaRight" fmla="*/ 2587320 w 35053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47" hR="21600" stAng="10800000" swAng="5400000"/>
                <a:lnTo>
                  <a:pt x="12219" y="0"/>
                </a:lnTo>
                <a:arcTo wR="7447" hR="21600" stAng="-5400000" swAng="3264394"/>
                <a:lnTo>
                  <a:pt x="21383" y="16425"/>
                </a:lnTo>
                <a:lnTo>
                  <a:pt x="17280" y="21600"/>
                </a:lnTo>
                <a:lnTo>
                  <a:pt x="12743" y="16425"/>
                </a:lnTo>
                <a:lnTo>
                  <a:pt x="14677" y="16425"/>
                </a:lnTo>
                <a:arcTo wR="7447" hR="21600" stAng="-2135606" swAng="-2865319"/>
                <a:lnTo>
                  <a:pt x="9833" y="1139"/>
                </a:lnTo>
                <a:arcTo wR="7447" hR="21600" stAng="-5799074" swAng="-5000926"/>
                <a:close/>
              </a:path>
              <a:path fill="darkenLess" w="21600" h="21600">
                <a:moveTo>
                  <a:pt x="0" y="21600"/>
                </a:moveTo>
                <a:arcTo wR="7447" hR="21600" stAng="10800000" swAng="5400000"/>
                <a:lnTo>
                  <a:pt x="7447" y="0"/>
                </a:lnTo>
                <a:arcTo wR="7447" hR="21600" stAng="-5400000" swAng="399074"/>
                <a:lnTo>
                  <a:pt x="9833" y="1139"/>
                </a:lnTo>
                <a:arcTo wR="7447" hR="21600" stAng="-5799074" swAng="-5000926"/>
                <a:close/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35640" y="2513880"/>
            <a:ext cx="23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Table</a:t>
            </a:r>
            <a:br>
              <a:rPr sz="20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ageNb </a:t>
            </a:r>
            <a:r>
              <a:rPr b="0" lang="nl-B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Fram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0120" y="321300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20120" y="35733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20120" y="42879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20120" y="393048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0120" y="32083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80120" y="356868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0120" y="42829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80120" y="392580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85920" y="3324240"/>
            <a:ext cx="514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gical Address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1900080" y="25956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98640" y="330516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98640" y="40338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0080" y="474804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2280" y="1903320"/>
            <a:ext cx="9000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2595600"/>
            <a:ext cx="0" cy="19051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39960" y="2595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39960" y="401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41760" y="4748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4043520"/>
            <a:ext cx="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450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3429000"/>
            <a:ext cx="1800360" cy="539640"/>
          </a:xfrm>
          <a:prstGeom prst="borderCallout1">
            <a:avLst>
              <a:gd name="adj1" fmla="val 18750"/>
              <a:gd name="adj2" fmla="val -8333"/>
              <a:gd name="adj3" fmla="val 170884"/>
              <a:gd name="adj4" fmla="val -69930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 (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05520" y="4786200"/>
            <a:ext cx="28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= v div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= v mo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 PT[p] * FS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147000" y="2247120"/>
            <a:ext cx="2376720" cy="2264400"/>
            <a:chOff x="6147000" y="2247120"/>
            <a:chExt cx="2376720" cy="2264400"/>
          </a:xfrm>
        </p:grpSpPr>
        <p:sp>
          <p:nvSpPr>
            <p:cNvPr id="804" name=""/>
            <p:cNvSpPr/>
            <p:nvPr/>
          </p:nvSpPr>
          <p:spPr>
            <a:xfrm>
              <a:off x="6975720" y="286488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56600" y="2752920"/>
              <a:ext cx="60948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56600" y="33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56600" y="3665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56600" y="4025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47000" y="2247120"/>
              <a:ext cx="237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 Table</a:t>
              </a:r>
              <a:br>
                <a:rPr sz="20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ageNb </a:t>
              </a:r>
              <a:r>
                <a:rPr b="0" lang="nl-B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Fram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4775040" y="4216320"/>
            <a:ext cx="1800360" cy="540000"/>
          </a:xfrm>
          <a:prstGeom prst="borderCallout1">
            <a:avLst>
              <a:gd name="adj1" fmla="val -10476"/>
              <a:gd name="adj2" fmla="val -3049"/>
              <a:gd name="adj3" fmla="val 20229"/>
              <a:gd name="adj4" fmla="val -304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 (off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620160" y="2670840"/>
            <a:ext cx="1815840" cy="520560"/>
          </a:xfrm>
          <a:prstGeom prst="borderCallout1">
            <a:avLst>
              <a:gd name="adj1" fmla="val 18750"/>
              <a:gd name="adj2" fmla="val -8333"/>
              <a:gd name="adj3" fmla="val 104074"/>
              <a:gd name="adj4" fmla="val -18273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 (vir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76960" y="54928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S = | Frame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40440" y="551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S = 2</a:t>
            </a:r>
            <a:r>
              <a:rPr b="0" lang="nl-BE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2908440"/>
            <a:ext cx="3598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(Virtual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245124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1120" y="29844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2374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127400"/>
            <a:ext cx="15242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4127400"/>
            <a:ext cx="19814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63080" y="4370040"/>
            <a:ext cx="14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09000" y="438732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-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2603520"/>
            <a:ext cx="35816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52440" y="205668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4000" y="2349360"/>
            <a:ext cx="2519280" cy="459720"/>
            <a:chOff x="324000" y="2349360"/>
            <a:chExt cx="2519280" cy="459720"/>
          </a:xfrm>
        </p:grpSpPr>
        <p:sp>
          <p:nvSpPr>
            <p:cNvPr id="89" name=""/>
            <p:cNvSpPr/>
            <p:nvPr/>
          </p:nvSpPr>
          <p:spPr>
            <a:xfrm>
              <a:off x="324000" y="2781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880" y="234936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ad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000" y="2781360"/>
            <a:ext cx="2519280" cy="459720"/>
            <a:chOff x="324000" y="2781360"/>
            <a:chExt cx="2519280" cy="459720"/>
          </a:xfrm>
        </p:grpSpPr>
        <p:sp>
          <p:nvSpPr>
            <p:cNvPr id="92" name=""/>
            <p:cNvSpPr/>
            <p:nvPr/>
          </p:nvSpPr>
          <p:spPr>
            <a:xfrm>
              <a:off x="324000" y="3213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4840" y="278136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9960" y="4797360"/>
            <a:ext cx="3288960" cy="459720"/>
            <a:chOff x="309960" y="4797360"/>
            <a:chExt cx="3288960" cy="459720"/>
          </a:xfrm>
        </p:grpSpPr>
        <p:sp>
          <p:nvSpPr>
            <p:cNvPr id="95" name=""/>
            <p:cNvSpPr/>
            <p:nvPr/>
          </p:nvSpPr>
          <p:spPr>
            <a:xfrm>
              <a:off x="395280" y="5229360"/>
              <a:ext cx="3203640" cy="0"/>
            </a:xfrm>
            <a:prstGeom prst="line">
              <a:avLst/>
            </a:prstGeom>
            <a:ln w="57240">
              <a:solidFill>
                <a:srgbClr val="008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960" y="479736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rite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3640" y="1889280"/>
            <a:ext cx="2616120" cy="3849480"/>
            <a:chOff x="3203640" y="1889280"/>
            <a:chExt cx="2616120" cy="3849480"/>
          </a:xfrm>
        </p:grpSpPr>
        <p:grpSp>
          <p:nvGrpSpPr>
            <p:cNvPr id="98" name=""/>
            <p:cNvGrpSpPr/>
            <p:nvPr/>
          </p:nvGrpSpPr>
          <p:grpSpPr>
            <a:xfrm>
              <a:off x="3203640" y="3224160"/>
              <a:ext cx="2544840" cy="2514600"/>
              <a:chOff x="3203640" y="3224160"/>
              <a:chExt cx="2544840" cy="2514600"/>
            </a:xfrm>
          </p:grpSpPr>
          <p:sp>
            <p:nvSpPr>
              <p:cNvPr id="99" name=""/>
              <p:cNvSpPr/>
              <p:nvPr/>
            </p:nvSpPr>
            <p:spPr>
              <a:xfrm>
                <a:off x="4542120" y="3224160"/>
                <a:ext cx="317520" cy="52560"/>
              </a:xfrm>
              <a:custGeom>
                <a:avLst/>
                <a:gdLst/>
                <a:ahLst/>
                <a:rect l="l" t="t" r="r" b="b"/>
                <a:pathLst>
                  <a:path w="401" h="67">
                    <a:moveTo>
                      <a:pt x="282" y="40"/>
                    </a:moveTo>
                    <a:lnTo>
                      <a:pt x="288" y="45"/>
                    </a:lnTo>
                    <a:lnTo>
                      <a:pt x="299" y="46"/>
                    </a:lnTo>
                    <a:lnTo>
                      <a:pt x="310" y="46"/>
                    </a:lnTo>
                    <a:lnTo>
                      <a:pt x="321" y="51"/>
                    </a:lnTo>
                    <a:lnTo>
                      <a:pt x="327" y="49"/>
                    </a:lnTo>
                    <a:lnTo>
                      <a:pt x="334" y="52"/>
                    </a:lnTo>
                    <a:lnTo>
                      <a:pt x="340" y="54"/>
                    </a:lnTo>
                    <a:lnTo>
                      <a:pt x="347" y="57"/>
                    </a:lnTo>
                    <a:lnTo>
                      <a:pt x="353" y="58"/>
                    </a:lnTo>
                    <a:lnTo>
                      <a:pt x="359" y="60"/>
                    </a:lnTo>
                    <a:lnTo>
                      <a:pt x="367" y="60"/>
                    </a:lnTo>
                    <a:lnTo>
                      <a:pt x="377" y="60"/>
                    </a:lnTo>
                    <a:lnTo>
                      <a:pt x="380" y="66"/>
                    </a:lnTo>
                    <a:lnTo>
                      <a:pt x="386" y="67"/>
                    </a:lnTo>
                    <a:lnTo>
                      <a:pt x="394" y="66"/>
                    </a:lnTo>
                    <a:lnTo>
                      <a:pt x="401" y="67"/>
                    </a:lnTo>
                    <a:lnTo>
                      <a:pt x="392" y="67"/>
                    </a:lnTo>
                    <a:lnTo>
                      <a:pt x="382" y="67"/>
                    </a:lnTo>
                    <a:lnTo>
                      <a:pt x="371" y="66"/>
                    </a:lnTo>
                    <a:lnTo>
                      <a:pt x="361" y="64"/>
                    </a:lnTo>
                    <a:lnTo>
                      <a:pt x="349" y="62"/>
                    </a:lnTo>
                    <a:lnTo>
                      <a:pt x="338" y="62"/>
                    </a:lnTo>
                    <a:lnTo>
                      <a:pt x="326" y="60"/>
                    </a:lnTo>
                    <a:lnTo>
                      <a:pt x="316" y="60"/>
                    </a:lnTo>
                    <a:lnTo>
                      <a:pt x="277" y="53"/>
                    </a:lnTo>
                    <a:lnTo>
                      <a:pt x="238" y="46"/>
                    </a:lnTo>
                    <a:lnTo>
                      <a:pt x="199" y="40"/>
                    </a:lnTo>
                    <a:lnTo>
                      <a:pt x="160" y="34"/>
                    </a:lnTo>
                    <a:lnTo>
                      <a:pt x="122" y="27"/>
                    </a:lnTo>
                    <a:lnTo>
                      <a:pt x="83" y="20"/>
                    </a:lnTo>
                    <a:lnTo>
                      <a:pt x="45" y="13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73" y="3"/>
                    </a:lnTo>
                    <a:lnTo>
                      <a:pt x="109" y="7"/>
                    </a:lnTo>
                    <a:lnTo>
                      <a:pt x="144" y="14"/>
                    </a:lnTo>
                    <a:lnTo>
                      <a:pt x="178" y="20"/>
                    </a:lnTo>
                    <a:lnTo>
                      <a:pt x="212" y="27"/>
                    </a:lnTo>
                    <a:lnTo>
                      <a:pt x="246" y="33"/>
                    </a:lnTo>
                    <a:lnTo>
                      <a:pt x="28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21480" y="4167360"/>
                <a:ext cx="17640" cy="322200"/>
              </a:xfrm>
              <a:custGeom>
                <a:avLst/>
                <a:gdLst/>
                <a:ahLst/>
                <a:rect l="l" t="t" r="r" b="b"/>
                <a:pathLst>
                  <a:path w="24" h="405">
                    <a:moveTo>
                      <a:pt x="10" y="124"/>
                    </a:moveTo>
                    <a:lnTo>
                      <a:pt x="14" y="115"/>
                    </a:lnTo>
                    <a:lnTo>
                      <a:pt x="13" y="104"/>
                    </a:lnTo>
                    <a:lnTo>
                      <a:pt x="12" y="92"/>
                    </a:lnTo>
                    <a:lnTo>
                      <a:pt x="14" y="83"/>
                    </a:lnTo>
                    <a:lnTo>
                      <a:pt x="13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7" y="56"/>
                    </a:lnTo>
                    <a:lnTo>
                      <a:pt x="18" y="48"/>
                    </a:lnTo>
                    <a:lnTo>
                      <a:pt x="20" y="42"/>
                    </a:lnTo>
                    <a:lnTo>
                      <a:pt x="18" y="34"/>
                    </a:lnTo>
                    <a:lnTo>
                      <a:pt x="18" y="27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1" y="9"/>
                    </a:lnTo>
                    <a:lnTo>
                      <a:pt x="22" y="19"/>
                    </a:lnTo>
                    <a:lnTo>
                      <a:pt x="22" y="30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23" y="64"/>
                    </a:lnTo>
                    <a:lnTo>
                      <a:pt x="23" y="75"/>
                    </a:lnTo>
                    <a:lnTo>
                      <a:pt x="24" y="87"/>
                    </a:lnTo>
                    <a:lnTo>
                      <a:pt x="22" y="126"/>
                    </a:lnTo>
                    <a:lnTo>
                      <a:pt x="21" y="164"/>
                    </a:lnTo>
                    <a:lnTo>
                      <a:pt x="20" y="203"/>
                    </a:lnTo>
                    <a:lnTo>
                      <a:pt x="20" y="243"/>
                    </a:lnTo>
                    <a:lnTo>
                      <a:pt x="17" y="282"/>
                    </a:lnTo>
                    <a:lnTo>
                      <a:pt x="16" y="320"/>
                    </a:lnTo>
                    <a:lnTo>
                      <a:pt x="14" y="359"/>
                    </a:lnTo>
                    <a:lnTo>
                      <a:pt x="12" y="399"/>
                    </a:lnTo>
                    <a:lnTo>
                      <a:pt x="8" y="405"/>
                    </a:lnTo>
                    <a:lnTo>
                      <a:pt x="2" y="368"/>
                    </a:lnTo>
                    <a:lnTo>
                      <a:pt x="1" y="332"/>
                    </a:lnTo>
                    <a:lnTo>
                      <a:pt x="0" y="297"/>
                    </a:lnTo>
                    <a:lnTo>
                      <a:pt x="2" y="262"/>
                    </a:lnTo>
                    <a:lnTo>
                      <a:pt x="4" y="227"/>
                    </a:lnTo>
                    <a:lnTo>
                      <a:pt x="7" y="193"/>
                    </a:lnTo>
                    <a:lnTo>
                      <a:pt x="9" y="158"/>
                    </a:lnTo>
                    <a:lnTo>
                      <a:pt x="1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32280" y="3245040"/>
                <a:ext cx="325440" cy="44280"/>
              </a:xfrm>
              <a:custGeom>
                <a:avLst/>
                <a:gdLst/>
                <a:ahLst/>
                <a:rect l="l" t="t" r="r" b="b"/>
                <a:pathLst>
                  <a:path w="410" h="56">
                    <a:moveTo>
                      <a:pt x="410" y="0"/>
                    </a:moveTo>
                    <a:lnTo>
                      <a:pt x="359" y="8"/>
                    </a:lnTo>
                    <a:lnTo>
                      <a:pt x="309" y="17"/>
                    </a:lnTo>
                    <a:lnTo>
                      <a:pt x="258" y="26"/>
                    </a:lnTo>
                    <a:lnTo>
                      <a:pt x="207" y="34"/>
                    </a:lnTo>
                    <a:lnTo>
                      <a:pt x="156" y="40"/>
                    </a:lnTo>
                    <a:lnTo>
                      <a:pt x="104" y="46"/>
                    </a:lnTo>
                    <a:lnTo>
                      <a:pt x="51" y="51"/>
                    </a:lnTo>
                    <a:lnTo>
                      <a:pt x="0" y="56"/>
                    </a:lnTo>
                    <a:lnTo>
                      <a:pt x="48" y="46"/>
                    </a:lnTo>
                    <a:lnTo>
                      <a:pt x="99" y="37"/>
                    </a:lnTo>
                    <a:lnTo>
                      <a:pt x="149" y="29"/>
                    </a:lnTo>
                    <a:lnTo>
                      <a:pt x="201" y="22"/>
                    </a:lnTo>
                    <a:lnTo>
                      <a:pt x="253" y="14"/>
                    </a:lnTo>
                    <a:lnTo>
                      <a:pt x="304" y="8"/>
                    </a:lnTo>
                    <a:lnTo>
                      <a:pt x="356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57640" y="3245040"/>
                <a:ext cx="2490840" cy="2493720"/>
              </a:xfrm>
              <a:custGeom>
                <a:avLst/>
                <a:gdLst/>
                <a:ahLst/>
                <a:rect l="l" t="t" r="r" b="b"/>
                <a:pathLst>
                  <a:path w="3139" h="3141">
                    <a:moveTo>
                      <a:pt x="2236" y="110"/>
                    </a:moveTo>
                    <a:lnTo>
                      <a:pt x="2270" y="117"/>
                    </a:lnTo>
                    <a:lnTo>
                      <a:pt x="2306" y="126"/>
                    </a:lnTo>
                    <a:lnTo>
                      <a:pt x="2341" y="133"/>
                    </a:lnTo>
                    <a:lnTo>
                      <a:pt x="2377" y="142"/>
                    </a:lnTo>
                    <a:lnTo>
                      <a:pt x="2412" y="148"/>
                    </a:lnTo>
                    <a:lnTo>
                      <a:pt x="2449" y="156"/>
                    </a:lnTo>
                    <a:lnTo>
                      <a:pt x="2484" y="163"/>
                    </a:lnTo>
                    <a:lnTo>
                      <a:pt x="2521" y="172"/>
                    </a:lnTo>
                    <a:lnTo>
                      <a:pt x="2527" y="172"/>
                    </a:lnTo>
                    <a:lnTo>
                      <a:pt x="2537" y="172"/>
                    </a:lnTo>
                    <a:lnTo>
                      <a:pt x="2547" y="172"/>
                    </a:lnTo>
                    <a:lnTo>
                      <a:pt x="2556" y="176"/>
                    </a:lnTo>
                    <a:lnTo>
                      <a:pt x="2575" y="178"/>
                    </a:lnTo>
                    <a:lnTo>
                      <a:pt x="2594" y="184"/>
                    </a:lnTo>
                    <a:lnTo>
                      <a:pt x="2612" y="189"/>
                    </a:lnTo>
                    <a:lnTo>
                      <a:pt x="2632" y="196"/>
                    </a:lnTo>
                    <a:lnTo>
                      <a:pt x="2650" y="200"/>
                    </a:lnTo>
                    <a:lnTo>
                      <a:pt x="2669" y="204"/>
                    </a:lnTo>
                    <a:lnTo>
                      <a:pt x="2689" y="204"/>
                    </a:lnTo>
                    <a:lnTo>
                      <a:pt x="2711" y="203"/>
                    </a:lnTo>
                    <a:lnTo>
                      <a:pt x="2718" y="206"/>
                    </a:lnTo>
                    <a:lnTo>
                      <a:pt x="2729" y="207"/>
                    </a:lnTo>
                    <a:lnTo>
                      <a:pt x="2739" y="207"/>
                    </a:lnTo>
                    <a:lnTo>
                      <a:pt x="2751" y="209"/>
                    </a:lnTo>
                    <a:lnTo>
                      <a:pt x="2761" y="210"/>
                    </a:lnTo>
                    <a:lnTo>
                      <a:pt x="2768" y="214"/>
                    </a:lnTo>
                    <a:lnTo>
                      <a:pt x="2772" y="221"/>
                    </a:lnTo>
                    <a:lnTo>
                      <a:pt x="2772" y="235"/>
                    </a:lnTo>
                    <a:lnTo>
                      <a:pt x="2777" y="244"/>
                    </a:lnTo>
                    <a:lnTo>
                      <a:pt x="2787" y="249"/>
                    </a:lnTo>
                    <a:lnTo>
                      <a:pt x="2796" y="250"/>
                    </a:lnTo>
                    <a:lnTo>
                      <a:pt x="2807" y="252"/>
                    </a:lnTo>
                    <a:lnTo>
                      <a:pt x="2817" y="249"/>
                    </a:lnTo>
                    <a:lnTo>
                      <a:pt x="2828" y="247"/>
                    </a:lnTo>
                    <a:lnTo>
                      <a:pt x="2837" y="245"/>
                    </a:lnTo>
                    <a:lnTo>
                      <a:pt x="2848" y="246"/>
                    </a:lnTo>
                    <a:lnTo>
                      <a:pt x="2857" y="239"/>
                    </a:lnTo>
                    <a:lnTo>
                      <a:pt x="2866" y="237"/>
                    </a:lnTo>
                    <a:lnTo>
                      <a:pt x="2876" y="238"/>
                    </a:lnTo>
                    <a:lnTo>
                      <a:pt x="2887" y="241"/>
                    </a:lnTo>
                    <a:lnTo>
                      <a:pt x="2897" y="244"/>
                    </a:lnTo>
                    <a:lnTo>
                      <a:pt x="2907" y="247"/>
                    </a:lnTo>
                    <a:lnTo>
                      <a:pt x="2918" y="248"/>
                    </a:lnTo>
                    <a:lnTo>
                      <a:pt x="2931" y="248"/>
                    </a:lnTo>
                    <a:lnTo>
                      <a:pt x="2946" y="250"/>
                    </a:lnTo>
                    <a:lnTo>
                      <a:pt x="2962" y="257"/>
                    </a:lnTo>
                    <a:lnTo>
                      <a:pt x="2977" y="263"/>
                    </a:lnTo>
                    <a:lnTo>
                      <a:pt x="2993" y="271"/>
                    </a:lnTo>
                    <a:lnTo>
                      <a:pt x="3008" y="276"/>
                    </a:lnTo>
                    <a:lnTo>
                      <a:pt x="3026" y="281"/>
                    </a:lnTo>
                    <a:lnTo>
                      <a:pt x="3043" y="283"/>
                    </a:lnTo>
                    <a:lnTo>
                      <a:pt x="3063" y="282"/>
                    </a:lnTo>
                    <a:lnTo>
                      <a:pt x="3070" y="285"/>
                    </a:lnTo>
                    <a:lnTo>
                      <a:pt x="3076" y="288"/>
                    </a:lnTo>
                    <a:lnTo>
                      <a:pt x="3083" y="291"/>
                    </a:lnTo>
                    <a:lnTo>
                      <a:pt x="3090" y="297"/>
                    </a:lnTo>
                    <a:lnTo>
                      <a:pt x="3097" y="300"/>
                    </a:lnTo>
                    <a:lnTo>
                      <a:pt x="3103" y="305"/>
                    </a:lnTo>
                    <a:lnTo>
                      <a:pt x="3109" y="311"/>
                    </a:lnTo>
                    <a:lnTo>
                      <a:pt x="3115" y="318"/>
                    </a:lnTo>
                    <a:lnTo>
                      <a:pt x="3110" y="328"/>
                    </a:lnTo>
                    <a:lnTo>
                      <a:pt x="3110" y="339"/>
                    </a:lnTo>
                    <a:lnTo>
                      <a:pt x="3113" y="348"/>
                    </a:lnTo>
                    <a:lnTo>
                      <a:pt x="3118" y="359"/>
                    </a:lnTo>
                    <a:lnTo>
                      <a:pt x="3121" y="368"/>
                    </a:lnTo>
                    <a:lnTo>
                      <a:pt x="3123" y="376"/>
                    </a:lnTo>
                    <a:lnTo>
                      <a:pt x="3118" y="386"/>
                    </a:lnTo>
                    <a:lnTo>
                      <a:pt x="3109" y="397"/>
                    </a:lnTo>
                    <a:lnTo>
                      <a:pt x="3109" y="457"/>
                    </a:lnTo>
                    <a:lnTo>
                      <a:pt x="3106" y="517"/>
                    </a:lnTo>
                    <a:lnTo>
                      <a:pt x="3101" y="578"/>
                    </a:lnTo>
                    <a:lnTo>
                      <a:pt x="3096" y="638"/>
                    </a:lnTo>
                    <a:lnTo>
                      <a:pt x="3087" y="698"/>
                    </a:lnTo>
                    <a:lnTo>
                      <a:pt x="3079" y="758"/>
                    </a:lnTo>
                    <a:lnTo>
                      <a:pt x="3073" y="819"/>
                    </a:lnTo>
                    <a:lnTo>
                      <a:pt x="3068" y="879"/>
                    </a:lnTo>
                    <a:lnTo>
                      <a:pt x="3067" y="888"/>
                    </a:lnTo>
                    <a:lnTo>
                      <a:pt x="3068" y="899"/>
                    </a:lnTo>
                    <a:lnTo>
                      <a:pt x="3069" y="909"/>
                    </a:lnTo>
                    <a:lnTo>
                      <a:pt x="3072" y="920"/>
                    </a:lnTo>
                    <a:lnTo>
                      <a:pt x="3073" y="929"/>
                    </a:lnTo>
                    <a:lnTo>
                      <a:pt x="3073" y="940"/>
                    </a:lnTo>
                    <a:lnTo>
                      <a:pt x="3072" y="950"/>
                    </a:lnTo>
                    <a:lnTo>
                      <a:pt x="3069" y="962"/>
                    </a:lnTo>
                    <a:lnTo>
                      <a:pt x="3070" y="1006"/>
                    </a:lnTo>
                    <a:lnTo>
                      <a:pt x="3069" y="1050"/>
                    </a:lnTo>
                    <a:lnTo>
                      <a:pt x="3065" y="1094"/>
                    </a:lnTo>
                    <a:lnTo>
                      <a:pt x="3061" y="1139"/>
                    </a:lnTo>
                    <a:lnTo>
                      <a:pt x="3056" y="1183"/>
                    </a:lnTo>
                    <a:lnTo>
                      <a:pt x="3053" y="1228"/>
                    </a:lnTo>
                    <a:lnTo>
                      <a:pt x="3051" y="1272"/>
                    </a:lnTo>
                    <a:lnTo>
                      <a:pt x="3055" y="1318"/>
                    </a:lnTo>
                    <a:lnTo>
                      <a:pt x="3049" y="1393"/>
                    </a:lnTo>
                    <a:lnTo>
                      <a:pt x="3046" y="1468"/>
                    </a:lnTo>
                    <a:lnTo>
                      <a:pt x="3045" y="1544"/>
                    </a:lnTo>
                    <a:lnTo>
                      <a:pt x="3044" y="1620"/>
                    </a:lnTo>
                    <a:lnTo>
                      <a:pt x="3042" y="1694"/>
                    </a:lnTo>
                    <a:lnTo>
                      <a:pt x="3039" y="1771"/>
                    </a:lnTo>
                    <a:lnTo>
                      <a:pt x="3032" y="1847"/>
                    </a:lnTo>
                    <a:lnTo>
                      <a:pt x="3024" y="1925"/>
                    </a:lnTo>
                    <a:lnTo>
                      <a:pt x="3020" y="1967"/>
                    </a:lnTo>
                    <a:lnTo>
                      <a:pt x="3019" y="2010"/>
                    </a:lnTo>
                    <a:lnTo>
                      <a:pt x="3019" y="2052"/>
                    </a:lnTo>
                    <a:lnTo>
                      <a:pt x="3020" y="2095"/>
                    </a:lnTo>
                    <a:lnTo>
                      <a:pt x="3020" y="2136"/>
                    </a:lnTo>
                    <a:lnTo>
                      <a:pt x="3022" y="2178"/>
                    </a:lnTo>
                    <a:lnTo>
                      <a:pt x="3025" y="2220"/>
                    </a:lnTo>
                    <a:lnTo>
                      <a:pt x="3028" y="2262"/>
                    </a:lnTo>
                    <a:lnTo>
                      <a:pt x="3029" y="2275"/>
                    </a:lnTo>
                    <a:lnTo>
                      <a:pt x="3030" y="2288"/>
                    </a:lnTo>
                    <a:lnTo>
                      <a:pt x="3032" y="2301"/>
                    </a:lnTo>
                    <a:lnTo>
                      <a:pt x="3035" y="2314"/>
                    </a:lnTo>
                    <a:lnTo>
                      <a:pt x="3039" y="2325"/>
                    </a:lnTo>
                    <a:lnTo>
                      <a:pt x="3044" y="2336"/>
                    </a:lnTo>
                    <a:lnTo>
                      <a:pt x="3051" y="2347"/>
                    </a:lnTo>
                    <a:lnTo>
                      <a:pt x="3063" y="2359"/>
                    </a:lnTo>
                    <a:lnTo>
                      <a:pt x="3074" y="2358"/>
                    </a:lnTo>
                    <a:lnTo>
                      <a:pt x="3086" y="2361"/>
                    </a:lnTo>
                    <a:lnTo>
                      <a:pt x="3096" y="2365"/>
                    </a:lnTo>
                    <a:lnTo>
                      <a:pt x="3105" y="2373"/>
                    </a:lnTo>
                    <a:lnTo>
                      <a:pt x="3113" y="2379"/>
                    </a:lnTo>
                    <a:lnTo>
                      <a:pt x="3120" y="2389"/>
                    </a:lnTo>
                    <a:lnTo>
                      <a:pt x="3127" y="2399"/>
                    </a:lnTo>
                    <a:lnTo>
                      <a:pt x="3133" y="2409"/>
                    </a:lnTo>
                    <a:lnTo>
                      <a:pt x="3137" y="2419"/>
                    </a:lnTo>
                    <a:lnTo>
                      <a:pt x="3139" y="2431"/>
                    </a:lnTo>
                    <a:lnTo>
                      <a:pt x="3139" y="2444"/>
                    </a:lnTo>
                    <a:lnTo>
                      <a:pt x="3139" y="2457"/>
                    </a:lnTo>
                    <a:lnTo>
                      <a:pt x="3137" y="2469"/>
                    </a:lnTo>
                    <a:lnTo>
                      <a:pt x="3135" y="2482"/>
                    </a:lnTo>
                    <a:lnTo>
                      <a:pt x="3133" y="2495"/>
                    </a:lnTo>
                    <a:lnTo>
                      <a:pt x="3133" y="2509"/>
                    </a:lnTo>
                    <a:lnTo>
                      <a:pt x="3132" y="2515"/>
                    </a:lnTo>
                    <a:lnTo>
                      <a:pt x="3128" y="2521"/>
                    </a:lnTo>
                    <a:lnTo>
                      <a:pt x="3121" y="2528"/>
                    </a:lnTo>
                    <a:lnTo>
                      <a:pt x="3117" y="2535"/>
                    </a:lnTo>
                    <a:lnTo>
                      <a:pt x="3109" y="2537"/>
                    </a:lnTo>
                    <a:lnTo>
                      <a:pt x="3100" y="2539"/>
                    </a:lnTo>
                    <a:lnTo>
                      <a:pt x="3091" y="2540"/>
                    </a:lnTo>
                    <a:lnTo>
                      <a:pt x="3083" y="2542"/>
                    </a:lnTo>
                    <a:lnTo>
                      <a:pt x="3074" y="2543"/>
                    </a:lnTo>
                    <a:lnTo>
                      <a:pt x="3065" y="2544"/>
                    </a:lnTo>
                    <a:lnTo>
                      <a:pt x="3057" y="2545"/>
                    </a:lnTo>
                    <a:lnTo>
                      <a:pt x="3050" y="2547"/>
                    </a:lnTo>
                    <a:lnTo>
                      <a:pt x="3043" y="2552"/>
                    </a:lnTo>
                    <a:lnTo>
                      <a:pt x="3036" y="2556"/>
                    </a:lnTo>
                    <a:lnTo>
                      <a:pt x="3029" y="2559"/>
                    </a:lnTo>
                    <a:lnTo>
                      <a:pt x="3022" y="2562"/>
                    </a:lnTo>
                    <a:lnTo>
                      <a:pt x="3015" y="2566"/>
                    </a:lnTo>
                    <a:lnTo>
                      <a:pt x="3011" y="2571"/>
                    </a:lnTo>
                    <a:lnTo>
                      <a:pt x="3006" y="2576"/>
                    </a:lnTo>
                    <a:lnTo>
                      <a:pt x="3005" y="2585"/>
                    </a:lnTo>
                    <a:lnTo>
                      <a:pt x="3003" y="2600"/>
                    </a:lnTo>
                    <a:lnTo>
                      <a:pt x="3002" y="2617"/>
                    </a:lnTo>
                    <a:lnTo>
                      <a:pt x="3000" y="2634"/>
                    </a:lnTo>
                    <a:lnTo>
                      <a:pt x="2997" y="2653"/>
                    </a:lnTo>
                    <a:lnTo>
                      <a:pt x="2990" y="2668"/>
                    </a:lnTo>
                    <a:lnTo>
                      <a:pt x="2982" y="2684"/>
                    </a:lnTo>
                    <a:lnTo>
                      <a:pt x="2970" y="2696"/>
                    </a:lnTo>
                    <a:lnTo>
                      <a:pt x="2956" y="2707"/>
                    </a:lnTo>
                    <a:lnTo>
                      <a:pt x="2942" y="2697"/>
                    </a:lnTo>
                    <a:lnTo>
                      <a:pt x="2930" y="2687"/>
                    </a:lnTo>
                    <a:lnTo>
                      <a:pt x="2919" y="2675"/>
                    </a:lnTo>
                    <a:lnTo>
                      <a:pt x="2912" y="2662"/>
                    </a:lnTo>
                    <a:lnTo>
                      <a:pt x="2904" y="2647"/>
                    </a:lnTo>
                    <a:lnTo>
                      <a:pt x="2899" y="2633"/>
                    </a:lnTo>
                    <a:lnTo>
                      <a:pt x="2894" y="2618"/>
                    </a:lnTo>
                    <a:lnTo>
                      <a:pt x="2893" y="2603"/>
                    </a:lnTo>
                    <a:lnTo>
                      <a:pt x="2867" y="2598"/>
                    </a:lnTo>
                    <a:lnTo>
                      <a:pt x="2843" y="2596"/>
                    </a:lnTo>
                    <a:lnTo>
                      <a:pt x="2818" y="2592"/>
                    </a:lnTo>
                    <a:lnTo>
                      <a:pt x="2793" y="2589"/>
                    </a:lnTo>
                    <a:lnTo>
                      <a:pt x="2768" y="2583"/>
                    </a:lnTo>
                    <a:lnTo>
                      <a:pt x="2748" y="2573"/>
                    </a:lnTo>
                    <a:lnTo>
                      <a:pt x="2730" y="2559"/>
                    </a:lnTo>
                    <a:lnTo>
                      <a:pt x="2716" y="2541"/>
                    </a:lnTo>
                    <a:lnTo>
                      <a:pt x="2715" y="2534"/>
                    </a:lnTo>
                    <a:lnTo>
                      <a:pt x="2714" y="2529"/>
                    </a:lnTo>
                    <a:lnTo>
                      <a:pt x="2681" y="2538"/>
                    </a:lnTo>
                    <a:lnTo>
                      <a:pt x="2652" y="2549"/>
                    </a:lnTo>
                    <a:lnTo>
                      <a:pt x="2622" y="2565"/>
                    </a:lnTo>
                    <a:lnTo>
                      <a:pt x="2594" y="2582"/>
                    </a:lnTo>
                    <a:lnTo>
                      <a:pt x="2565" y="2598"/>
                    </a:lnTo>
                    <a:lnTo>
                      <a:pt x="2536" y="2614"/>
                    </a:lnTo>
                    <a:lnTo>
                      <a:pt x="2506" y="2627"/>
                    </a:lnTo>
                    <a:lnTo>
                      <a:pt x="2476" y="2639"/>
                    </a:lnTo>
                    <a:lnTo>
                      <a:pt x="2446" y="2650"/>
                    </a:lnTo>
                    <a:lnTo>
                      <a:pt x="2417" y="2661"/>
                    </a:lnTo>
                    <a:lnTo>
                      <a:pt x="2388" y="2673"/>
                    </a:lnTo>
                    <a:lnTo>
                      <a:pt x="2358" y="2686"/>
                    </a:lnTo>
                    <a:lnTo>
                      <a:pt x="2328" y="2698"/>
                    </a:lnTo>
                    <a:lnTo>
                      <a:pt x="2299" y="2710"/>
                    </a:lnTo>
                    <a:lnTo>
                      <a:pt x="2269" y="2722"/>
                    </a:lnTo>
                    <a:lnTo>
                      <a:pt x="2240" y="2733"/>
                    </a:lnTo>
                    <a:lnTo>
                      <a:pt x="2231" y="2739"/>
                    </a:lnTo>
                    <a:lnTo>
                      <a:pt x="2223" y="2744"/>
                    </a:lnTo>
                    <a:lnTo>
                      <a:pt x="2218" y="2745"/>
                    </a:lnTo>
                    <a:lnTo>
                      <a:pt x="2213" y="2747"/>
                    </a:lnTo>
                    <a:lnTo>
                      <a:pt x="2208" y="2747"/>
                    </a:lnTo>
                    <a:lnTo>
                      <a:pt x="2202" y="2748"/>
                    </a:lnTo>
                    <a:lnTo>
                      <a:pt x="2183" y="2757"/>
                    </a:lnTo>
                    <a:lnTo>
                      <a:pt x="2165" y="2767"/>
                    </a:lnTo>
                    <a:lnTo>
                      <a:pt x="2145" y="2776"/>
                    </a:lnTo>
                    <a:lnTo>
                      <a:pt x="2127" y="2787"/>
                    </a:lnTo>
                    <a:lnTo>
                      <a:pt x="2108" y="2797"/>
                    </a:lnTo>
                    <a:lnTo>
                      <a:pt x="2088" y="2807"/>
                    </a:lnTo>
                    <a:lnTo>
                      <a:pt x="2070" y="2816"/>
                    </a:lnTo>
                    <a:lnTo>
                      <a:pt x="2052" y="2827"/>
                    </a:lnTo>
                    <a:lnTo>
                      <a:pt x="2045" y="2830"/>
                    </a:lnTo>
                    <a:lnTo>
                      <a:pt x="2040" y="2833"/>
                    </a:lnTo>
                    <a:lnTo>
                      <a:pt x="2033" y="2837"/>
                    </a:lnTo>
                    <a:lnTo>
                      <a:pt x="2028" y="2841"/>
                    </a:lnTo>
                    <a:lnTo>
                      <a:pt x="2016" y="2847"/>
                    </a:lnTo>
                    <a:lnTo>
                      <a:pt x="2007" y="2855"/>
                    </a:lnTo>
                    <a:lnTo>
                      <a:pt x="2001" y="2872"/>
                    </a:lnTo>
                    <a:lnTo>
                      <a:pt x="1996" y="2892"/>
                    </a:lnTo>
                    <a:lnTo>
                      <a:pt x="1987" y="2909"/>
                    </a:lnTo>
                    <a:lnTo>
                      <a:pt x="1978" y="2927"/>
                    </a:lnTo>
                    <a:lnTo>
                      <a:pt x="1965" y="2942"/>
                    </a:lnTo>
                    <a:lnTo>
                      <a:pt x="1951" y="2955"/>
                    </a:lnTo>
                    <a:lnTo>
                      <a:pt x="1934" y="2965"/>
                    </a:lnTo>
                    <a:lnTo>
                      <a:pt x="1917" y="2971"/>
                    </a:lnTo>
                    <a:lnTo>
                      <a:pt x="1908" y="2977"/>
                    </a:lnTo>
                    <a:lnTo>
                      <a:pt x="1898" y="2980"/>
                    </a:lnTo>
                    <a:lnTo>
                      <a:pt x="1887" y="2982"/>
                    </a:lnTo>
                    <a:lnTo>
                      <a:pt x="1877" y="2985"/>
                    </a:lnTo>
                    <a:lnTo>
                      <a:pt x="1867" y="2986"/>
                    </a:lnTo>
                    <a:lnTo>
                      <a:pt x="1857" y="2991"/>
                    </a:lnTo>
                    <a:lnTo>
                      <a:pt x="1848" y="2998"/>
                    </a:lnTo>
                    <a:lnTo>
                      <a:pt x="1843" y="3009"/>
                    </a:lnTo>
                    <a:lnTo>
                      <a:pt x="1839" y="3026"/>
                    </a:lnTo>
                    <a:lnTo>
                      <a:pt x="1834" y="3044"/>
                    </a:lnTo>
                    <a:lnTo>
                      <a:pt x="1829" y="3060"/>
                    </a:lnTo>
                    <a:lnTo>
                      <a:pt x="1824" y="3078"/>
                    </a:lnTo>
                    <a:lnTo>
                      <a:pt x="1816" y="3094"/>
                    </a:lnTo>
                    <a:lnTo>
                      <a:pt x="1808" y="3110"/>
                    </a:lnTo>
                    <a:lnTo>
                      <a:pt x="1798" y="3125"/>
                    </a:lnTo>
                    <a:lnTo>
                      <a:pt x="1789" y="3141"/>
                    </a:lnTo>
                    <a:lnTo>
                      <a:pt x="1763" y="3130"/>
                    </a:lnTo>
                    <a:lnTo>
                      <a:pt x="1750" y="3113"/>
                    </a:lnTo>
                    <a:lnTo>
                      <a:pt x="1744" y="3091"/>
                    </a:lnTo>
                    <a:lnTo>
                      <a:pt x="1743" y="3067"/>
                    </a:lnTo>
                    <a:lnTo>
                      <a:pt x="1741" y="3040"/>
                    </a:lnTo>
                    <a:lnTo>
                      <a:pt x="1739" y="3016"/>
                    </a:lnTo>
                    <a:lnTo>
                      <a:pt x="1729" y="2995"/>
                    </a:lnTo>
                    <a:lnTo>
                      <a:pt x="1713" y="2980"/>
                    </a:lnTo>
                    <a:lnTo>
                      <a:pt x="1690" y="2969"/>
                    </a:lnTo>
                    <a:lnTo>
                      <a:pt x="1671" y="2956"/>
                    </a:lnTo>
                    <a:lnTo>
                      <a:pt x="1651" y="2940"/>
                    </a:lnTo>
                    <a:lnTo>
                      <a:pt x="1635" y="2923"/>
                    </a:lnTo>
                    <a:lnTo>
                      <a:pt x="1621" y="2902"/>
                    </a:lnTo>
                    <a:lnTo>
                      <a:pt x="1612" y="2881"/>
                    </a:lnTo>
                    <a:lnTo>
                      <a:pt x="1605" y="2857"/>
                    </a:lnTo>
                    <a:lnTo>
                      <a:pt x="1605" y="2832"/>
                    </a:lnTo>
                    <a:lnTo>
                      <a:pt x="1610" y="2822"/>
                    </a:lnTo>
                    <a:lnTo>
                      <a:pt x="1614" y="2816"/>
                    </a:lnTo>
                    <a:lnTo>
                      <a:pt x="1617" y="2813"/>
                    </a:lnTo>
                    <a:lnTo>
                      <a:pt x="1620" y="2810"/>
                    </a:lnTo>
                    <a:lnTo>
                      <a:pt x="1618" y="2802"/>
                    </a:lnTo>
                    <a:lnTo>
                      <a:pt x="1615" y="2790"/>
                    </a:lnTo>
                    <a:lnTo>
                      <a:pt x="1607" y="2770"/>
                    </a:lnTo>
                    <a:lnTo>
                      <a:pt x="1597" y="2740"/>
                    </a:lnTo>
                    <a:lnTo>
                      <a:pt x="1586" y="2734"/>
                    </a:lnTo>
                    <a:lnTo>
                      <a:pt x="1576" y="2730"/>
                    </a:lnTo>
                    <a:lnTo>
                      <a:pt x="1566" y="2725"/>
                    </a:lnTo>
                    <a:lnTo>
                      <a:pt x="1558" y="2722"/>
                    </a:lnTo>
                    <a:lnTo>
                      <a:pt x="1527" y="2707"/>
                    </a:lnTo>
                    <a:lnTo>
                      <a:pt x="1458" y="2672"/>
                    </a:lnTo>
                    <a:lnTo>
                      <a:pt x="1364" y="2626"/>
                    </a:lnTo>
                    <a:lnTo>
                      <a:pt x="1258" y="2575"/>
                    </a:lnTo>
                    <a:lnTo>
                      <a:pt x="1151" y="2525"/>
                    </a:lnTo>
                    <a:lnTo>
                      <a:pt x="1059" y="2481"/>
                    </a:lnTo>
                    <a:lnTo>
                      <a:pt x="992" y="2450"/>
                    </a:lnTo>
                    <a:lnTo>
                      <a:pt x="964" y="2442"/>
                    </a:lnTo>
                    <a:lnTo>
                      <a:pt x="934" y="2428"/>
                    </a:lnTo>
                    <a:lnTo>
                      <a:pt x="905" y="2414"/>
                    </a:lnTo>
                    <a:lnTo>
                      <a:pt x="877" y="2399"/>
                    </a:lnTo>
                    <a:lnTo>
                      <a:pt x="850" y="2385"/>
                    </a:lnTo>
                    <a:lnTo>
                      <a:pt x="821" y="2369"/>
                    </a:lnTo>
                    <a:lnTo>
                      <a:pt x="794" y="2354"/>
                    </a:lnTo>
                    <a:lnTo>
                      <a:pt x="767" y="2338"/>
                    </a:lnTo>
                    <a:lnTo>
                      <a:pt x="740" y="2322"/>
                    </a:lnTo>
                    <a:lnTo>
                      <a:pt x="723" y="2314"/>
                    </a:lnTo>
                    <a:lnTo>
                      <a:pt x="706" y="2308"/>
                    </a:lnTo>
                    <a:lnTo>
                      <a:pt x="687" y="2303"/>
                    </a:lnTo>
                    <a:lnTo>
                      <a:pt x="670" y="2299"/>
                    </a:lnTo>
                    <a:lnTo>
                      <a:pt x="652" y="2291"/>
                    </a:lnTo>
                    <a:lnTo>
                      <a:pt x="636" y="2285"/>
                    </a:lnTo>
                    <a:lnTo>
                      <a:pt x="619" y="2275"/>
                    </a:lnTo>
                    <a:lnTo>
                      <a:pt x="608" y="2262"/>
                    </a:lnTo>
                    <a:lnTo>
                      <a:pt x="583" y="2249"/>
                    </a:lnTo>
                    <a:lnTo>
                      <a:pt x="560" y="2236"/>
                    </a:lnTo>
                    <a:lnTo>
                      <a:pt x="537" y="2223"/>
                    </a:lnTo>
                    <a:lnTo>
                      <a:pt x="514" y="2212"/>
                    </a:lnTo>
                    <a:lnTo>
                      <a:pt x="489" y="2199"/>
                    </a:lnTo>
                    <a:lnTo>
                      <a:pt x="466" y="2188"/>
                    </a:lnTo>
                    <a:lnTo>
                      <a:pt x="440" y="2179"/>
                    </a:lnTo>
                    <a:lnTo>
                      <a:pt x="414" y="2175"/>
                    </a:lnTo>
                    <a:lnTo>
                      <a:pt x="405" y="2174"/>
                    </a:lnTo>
                    <a:lnTo>
                      <a:pt x="399" y="2176"/>
                    </a:lnTo>
                    <a:lnTo>
                      <a:pt x="392" y="2179"/>
                    </a:lnTo>
                    <a:lnTo>
                      <a:pt x="387" y="2186"/>
                    </a:lnTo>
                    <a:lnTo>
                      <a:pt x="387" y="2196"/>
                    </a:lnTo>
                    <a:lnTo>
                      <a:pt x="375" y="2196"/>
                    </a:lnTo>
                    <a:lnTo>
                      <a:pt x="366" y="2197"/>
                    </a:lnTo>
                    <a:lnTo>
                      <a:pt x="356" y="2201"/>
                    </a:lnTo>
                    <a:lnTo>
                      <a:pt x="349" y="2208"/>
                    </a:lnTo>
                    <a:lnTo>
                      <a:pt x="362" y="2229"/>
                    </a:lnTo>
                    <a:lnTo>
                      <a:pt x="353" y="2231"/>
                    </a:lnTo>
                    <a:lnTo>
                      <a:pt x="346" y="2234"/>
                    </a:lnTo>
                    <a:lnTo>
                      <a:pt x="340" y="2237"/>
                    </a:lnTo>
                    <a:lnTo>
                      <a:pt x="333" y="2243"/>
                    </a:lnTo>
                    <a:lnTo>
                      <a:pt x="326" y="2246"/>
                    </a:lnTo>
                    <a:lnTo>
                      <a:pt x="318" y="2249"/>
                    </a:lnTo>
                    <a:lnTo>
                      <a:pt x="311" y="2251"/>
                    </a:lnTo>
                    <a:lnTo>
                      <a:pt x="304" y="2251"/>
                    </a:lnTo>
                    <a:lnTo>
                      <a:pt x="292" y="2254"/>
                    </a:lnTo>
                    <a:lnTo>
                      <a:pt x="283" y="2256"/>
                    </a:lnTo>
                    <a:lnTo>
                      <a:pt x="272" y="2259"/>
                    </a:lnTo>
                    <a:lnTo>
                      <a:pt x="262" y="2264"/>
                    </a:lnTo>
                    <a:lnTo>
                      <a:pt x="253" y="2269"/>
                    </a:lnTo>
                    <a:lnTo>
                      <a:pt x="246" y="2276"/>
                    </a:lnTo>
                    <a:lnTo>
                      <a:pt x="240" y="2285"/>
                    </a:lnTo>
                    <a:lnTo>
                      <a:pt x="237" y="2296"/>
                    </a:lnTo>
                    <a:lnTo>
                      <a:pt x="233" y="2310"/>
                    </a:lnTo>
                    <a:lnTo>
                      <a:pt x="233" y="2327"/>
                    </a:lnTo>
                    <a:lnTo>
                      <a:pt x="233" y="2345"/>
                    </a:lnTo>
                    <a:lnTo>
                      <a:pt x="233" y="2363"/>
                    </a:lnTo>
                    <a:lnTo>
                      <a:pt x="231" y="2379"/>
                    </a:lnTo>
                    <a:lnTo>
                      <a:pt x="226" y="2397"/>
                    </a:lnTo>
                    <a:lnTo>
                      <a:pt x="216" y="2410"/>
                    </a:lnTo>
                    <a:lnTo>
                      <a:pt x="201" y="2421"/>
                    </a:lnTo>
                    <a:lnTo>
                      <a:pt x="191" y="2421"/>
                    </a:lnTo>
                    <a:lnTo>
                      <a:pt x="182" y="2421"/>
                    </a:lnTo>
                    <a:lnTo>
                      <a:pt x="172" y="2420"/>
                    </a:lnTo>
                    <a:lnTo>
                      <a:pt x="164" y="2418"/>
                    </a:lnTo>
                    <a:lnTo>
                      <a:pt x="156" y="2414"/>
                    </a:lnTo>
                    <a:lnTo>
                      <a:pt x="149" y="2410"/>
                    </a:lnTo>
                    <a:lnTo>
                      <a:pt x="144" y="2402"/>
                    </a:lnTo>
                    <a:lnTo>
                      <a:pt x="141" y="2395"/>
                    </a:lnTo>
                    <a:lnTo>
                      <a:pt x="135" y="2373"/>
                    </a:lnTo>
                    <a:lnTo>
                      <a:pt x="134" y="2353"/>
                    </a:lnTo>
                    <a:lnTo>
                      <a:pt x="133" y="2330"/>
                    </a:lnTo>
                    <a:lnTo>
                      <a:pt x="132" y="2310"/>
                    </a:lnTo>
                    <a:lnTo>
                      <a:pt x="128" y="2288"/>
                    </a:lnTo>
                    <a:lnTo>
                      <a:pt x="120" y="2271"/>
                    </a:lnTo>
                    <a:lnTo>
                      <a:pt x="107" y="2255"/>
                    </a:lnTo>
                    <a:lnTo>
                      <a:pt x="89" y="2244"/>
                    </a:lnTo>
                    <a:lnTo>
                      <a:pt x="74" y="2236"/>
                    </a:lnTo>
                    <a:lnTo>
                      <a:pt x="62" y="2227"/>
                    </a:lnTo>
                    <a:lnTo>
                      <a:pt x="49" y="2216"/>
                    </a:lnTo>
                    <a:lnTo>
                      <a:pt x="39" y="2204"/>
                    </a:lnTo>
                    <a:lnTo>
                      <a:pt x="29" y="2191"/>
                    </a:lnTo>
                    <a:lnTo>
                      <a:pt x="20" y="2178"/>
                    </a:lnTo>
                    <a:lnTo>
                      <a:pt x="10" y="2164"/>
                    </a:lnTo>
                    <a:lnTo>
                      <a:pt x="4" y="2152"/>
                    </a:lnTo>
                    <a:lnTo>
                      <a:pt x="0" y="2134"/>
                    </a:lnTo>
                    <a:lnTo>
                      <a:pt x="0" y="2117"/>
                    </a:lnTo>
                    <a:lnTo>
                      <a:pt x="1" y="2100"/>
                    </a:lnTo>
                    <a:lnTo>
                      <a:pt x="5" y="2083"/>
                    </a:lnTo>
                    <a:lnTo>
                      <a:pt x="9" y="2065"/>
                    </a:lnTo>
                    <a:lnTo>
                      <a:pt x="17" y="2049"/>
                    </a:lnTo>
                    <a:lnTo>
                      <a:pt x="23" y="2033"/>
                    </a:lnTo>
                    <a:lnTo>
                      <a:pt x="33" y="2020"/>
                    </a:lnTo>
                    <a:lnTo>
                      <a:pt x="41" y="2016"/>
                    </a:lnTo>
                    <a:lnTo>
                      <a:pt x="50" y="2013"/>
                    </a:lnTo>
                    <a:lnTo>
                      <a:pt x="59" y="2008"/>
                    </a:lnTo>
                    <a:lnTo>
                      <a:pt x="67" y="2005"/>
                    </a:lnTo>
                    <a:lnTo>
                      <a:pt x="75" y="2001"/>
                    </a:lnTo>
                    <a:lnTo>
                      <a:pt x="84" y="1995"/>
                    </a:lnTo>
                    <a:lnTo>
                      <a:pt x="90" y="1989"/>
                    </a:lnTo>
                    <a:lnTo>
                      <a:pt x="98" y="1981"/>
                    </a:lnTo>
                    <a:lnTo>
                      <a:pt x="100" y="1974"/>
                    </a:lnTo>
                    <a:lnTo>
                      <a:pt x="103" y="1967"/>
                    </a:lnTo>
                    <a:lnTo>
                      <a:pt x="105" y="1961"/>
                    </a:lnTo>
                    <a:lnTo>
                      <a:pt x="107" y="1955"/>
                    </a:lnTo>
                    <a:lnTo>
                      <a:pt x="109" y="1947"/>
                    </a:lnTo>
                    <a:lnTo>
                      <a:pt x="113" y="1942"/>
                    </a:lnTo>
                    <a:lnTo>
                      <a:pt x="117" y="1936"/>
                    </a:lnTo>
                    <a:lnTo>
                      <a:pt x="124" y="1933"/>
                    </a:lnTo>
                    <a:lnTo>
                      <a:pt x="130" y="1933"/>
                    </a:lnTo>
                    <a:lnTo>
                      <a:pt x="137" y="1933"/>
                    </a:lnTo>
                    <a:lnTo>
                      <a:pt x="144" y="1932"/>
                    </a:lnTo>
                    <a:lnTo>
                      <a:pt x="147" y="1928"/>
                    </a:lnTo>
                    <a:lnTo>
                      <a:pt x="146" y="1890"/>
                    </a:lnTo>
                    <a:lnTo>
                      <a:pt x="146" y="1852"/>
                    </a:lnTo>
                    <a:lnTo>
                      <a:pt x="144" y="1814"/>
                    </a:lnTo>
                    <a:lnTo>
                      <a:pt x="143" y="1776"/>
                    </a:lnTo>
                    <a:lnTo>
                      <a:pt x="141" y="1736"/>
                    </a:lnTo>
                    <a:lnTo>
                      <a:pt x="138" y="1696"/>
                    </a:lnTo>
                    <a:lnTo>
                      <a:pt x="135" y="1654"/>
                    </a:lnTo>
                    <a:lnTo>
                      <a:pt x="132" y="1612"/>
                    </a:lnTo>
                    <a:lnTo>
                      <a:pt x="129" y="1579"/>
                    </a:lnTo>
                    <a:lnTo>
                      <a:pt x="127" y="1545"/>
                    </a:lnTo>
                    <a:lnTo>
                      <a:pt x="123" y="1510"/>
                    </a:lnTo>
                    <a:lnTo>
                      <a:pt x="122" y="1477"/>
                    </a:lnTo>
                    <a:lnTo>
                      <a:pt x="119" y="1442"/>
                    </a:lnTo>
                    <a:lnTo>
                      <a:pt x="119" y="1411"/>
                    </a:lnTo>
                    <a:lnTo>
                      <a:pt x="118" y="1382"/>
                    </a:lnTo>
                    <a:lnTo>
                      <a:pt x="120" y="1356"/>
                    </a:lnTo>
                    <a:lnTo>
                      <a:pt x="122" y="1322"/>
                    </a:lnTo>
                    <a:lnTo>
                      <a:pt x="123" y="1290"/>
                    </a:lnTo>
                    <a:lnTo>
                      <a:pt x="123" y="1255"/>
                    </a:lnTo>
                    <a:lnTo>
                      <a:pt x="123" y="1223"/>
                    </a:lnTo>
                    <a:lnTo>
                      <a:pt x="121" y="1190"/>
                    </a:lnTo>
                    <a:lnTo>
                      <a:pt x="121" y="1156"/>
                    </a:lnTo>
                    <a:lnTo>
                      <a:pt x="120" y="1124"/>
                    </a:lnTo>
                    <a:lnTo>
                      <a:pt x="120" y="1094"/>
                    </a:lnTo>
                    <a:lnTo>
                      <a:pt x="118" y="1064"/>
                    </a:lnTo>
                    <a:lnTo>
                      <a:pt x="117" y="1034"/>
                    </a:lnTo>
                    <a:lnTo>
                      <a:pt x="115" y="1004"/>
                    </a:lnTo>
                    <a:lnTo>
                      <a:pt x="114" y="974"/>
                    </a:lnTo>
                    <a:lnTo>
                      <a:pt x="112" y="944"/>
                    </a:lnTo>
                    <a:lnTo>
                      <a:pt x="110" y="914"/>
                    </a:lnTo>
                    <a:lnTo>
                      <a:pt x="108" y="885"/>
                    </a:lnTo>
                    <a:lnTo>
                      <a:pt x="107" y="856"/>
                    </a:lnTo>
                    <a:lnTo>
                      <a:pt x="98" y="788"/>
                    </a:lnTo>
                    <a:lnTo>
                      <a:pt x="92" y="721"/>
                    </a:lnTo>
                    <a:lnTo>
                      <a:pt x="88" y="651"/>
                    </a:lnTo>
                    <a:lnTo>
                      <a:pt x="87" y="582"/>
                    </a:lnTo>
                    <a:lnTo>
                      <a:pt x="85" y="512"/>
                    </a:lnTo>
                    <a:lnTo>
                      <a:pt x="84" y="442"/>
                    </a:lnTo>
                    <a:lnTo>
                      <a:pt x="81" y="372"/>
                    </a:lnTo>
                    <a:lnTo>
                      <a:pt x="78" y="304"/>
                    </a:lnTo>
                    <a:lnTo>
                      <a:pt x="81" y="292"/>
                    </a:lnTo>
                    <a:lnTo>
                      <a:pt x="83" y="281"/>
                    </a:lnTo>
                    <a:lnTo>
                      <a:pt x="84" y="267"/>
                    </a:lnTo>
                    <a:lnTo>
                      <a:pt x="86" y="255"/>
                    </a:lnTo>
                    <a:lnTo>
                      <a:pt x="88" y="242"/>
                    </a:lnTo>
                    <a:lnTo>
                      <a:pt x="93" y="233"/>
                    </a:lnTo>
                    <a:lnTo>
                      <a:pt x="103" y="227"/>
                    </a:lnTo>
                    <a:lnTo>
                      <a:pt x="118" y="226"/>
                    </a:lnTo>
                    <a:lnTo>
                      <a:pt x="163" y="218"/>
                    </a:lnTo>
                    <a:lnTo>
                      <a:pt x="208" y="211"/>
                    </a:lnTo>
                    <a:lnTo>
                      <a:pt x="254" y="201"/>
                    </a:lnTo>
                    <a:lnTo>
                      <a:pt x="300" y="192"/>
                    </a:lnTo>
                    <a:lnTo>
                      <a:pt x="345" y="182"/>
                    </a:lnTo>
                    <a:lnTo>
                      <a:pt x="390" y="171"/>
                    </a:lnTo>
                    <a:lnTo>
                      <a:pt x="435" y="161"/>
                    </a:lnTo>
                    <a:lnTo>
                      <a:pt x="482" y="154"/>
                    </a:lnTo>
                    <a:lnTo>
                      <a:pt x="559" y="138"/>
                    </a:lnTo>
                    <a:lnTo>
                      <a:pt x="637" y="125"/>
                    </a:lnTo>
                    <a:lnTo>
                      <a:pt x="715" y="112"/>
                    </a:lnTo>
                    <a:lnTo>
                      <a:pt x="794" y="100"/>
                    </a:lnTo>
                    <a:lnTo>
                      <a:pt x="871" y="88"/>
                    </a:lnTo>
                    <a:lnTo>
                      <a:pt x="951" y="77"/>
                    </a:lnTo>
                    <a:lnTo>
                      <a:pt x="1029" y="67"/>
                    </a:lnTo>
                    <a:lnTo>
                      <a:pt x="1109" y="56"/>
                    </a:lnTo>
                    <a:lnTo>
                      <a:pt x="1155" y="49"/>
                    </a:lnTo>
                    <a:lnTo>
                      <a:pt x="1202" y="43"/>
                    </a:lnTo>
                    <a:lnTo>
                      <a:pt x="1248" y="35"/>
                    </a:lnTo>
                    <a:lnTo>
                      <a:pt x="1295" y="29"/>
                    </a:lnTo>
                    <a:lnTo>
                      <a:pt x="1340" y="21"/>
                    </a:lnTo>
                    <a:lnTo>
                      <a:pt x="1387" y="14"/>
                    </a:lnTo>
                    <a:lnTo>
                      <a:pt x="1433" y="6"/>
                    </a:lnTo>
                    <a:lnTo>
                      <a:pt x="1480" y="0"/>
                    </a:lnTo>
                    <a:lnTo>
                      <a:pt x="1574" y="13"/>
                    </a:lnTo>
                    <a:lnTo>
                      <a:pt x="1669" y="27"/>
                    </a:lnTo>
                    <a:lnTo>
                      <a:pt x="1763" y="40"/>
                    </a:lnTo>
                    <a:lnTo>
                      <a:pt x="1858" y="55"/>
                    </a:lnTo>
                    <a:lnTo>
                      <a:pt x="1952" y="68"/>
                    </a:lnTo>
                    <a:lnTo>
                      <a:pt x="2046" y="82"/>
                    </a:lnTo>
                    <a:lnTo>
                      <a:pt x="2141" y="96"/>
                    </a:lnTo>
                    <a:lnTo>
                      <a:pt x="2236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92640" y="3290760"/>
                <a:ext cx="2224080" cy="658800"/>
              </a:xfrm>
              <a:custGeom>
                <a:avLst/>
                <a:gdLst/>
                <a:ahLst/>
                <a:rect l="l" t="t" r="r" b="b"/>
                <a:pathLst>
                  <a:path w="2802" h="828">
                    <a:moveTo>
                      <a:pt x="1386" y="25"/>
                    </a:moveTo>
                    <a:lnTo>
                      <a:pt x="1379" y="45"/>
                    </a:lnTo>
                    <a:lnTo>
                      <a:pt x="1393" y="45"/>
                    </a:lnTo>
                    <a:lnTo>
                      <a:pt x="1408" y="45"/>
                    </a:lnTo>
                    <a:lnTo>
                      <a:pt x="1422" y="43"/>
                    </a:lnTo>
                    <a:lnTo>
                      <a:pt x="1438" y="43"/>
                    </a:lnTo>
                    <a:lnTo>
                      <a:pt x="1453" y="41"/>
                    </a:lnTo>
                    <a:lnTo>
                      <a:pt x="1469" y="41"/>
                    </a:lnTo>
                    <a:lnTo>
                      <a:pt x="1484" y="41"/>
                    </a:lnTo>
                    <a:lnTo>
                      <a:pt x="1499" y="45"/>
                    </a:lnTo>
                    <a:lnTo>
                      <a:pt x="1505" y="45"/>
                    </a:lnTo>
                    <a:lnTo>
                      <a:pt x="1513" y="46"/>
                    </a:lnTo>
                    <a:lnTo>
                      <a:pt x="1519" y="47"/>
                    </a:lnTo>
                    <a:lnTo>
                      <a:pt x="1527" y="49"/>
                    </a:lnTo>
                    <a:lnTo>
                      <a:pt x="1533" y="49"/>
                    </a:lnTo>
                    <a:lnTo>
                      <a:pt x="1541" y="52"/>
                    </a:lnTo>
                    <a:lnTo>
                      <a:pt x="1547" y="52"/>
                    </a:lnTo>
                    <a:lnTo>
                      <a:pt x="1555" y="54"/>
                    </a:lnTo>
                    <a:lnTo>
                      <a:pt x="1556" y="62"/>
                    </a:lnTo>
                    <a:lnTo>
                      <a:pt x="1550" y="71"/>
                    </a:lnTo>
                    <a:lnTo>
                      <a:pt x="1535" y="70"/>
                    </a:lnTo>
                    <a:lnTo>
                      <a:pt x="1522" y="70"/>
                    </a:lnTo>
                    <a:lnTo>
                      <a:pt x="1507" y="70"/>
                    </a:lnTo>
                    <a:lnTo>
                      <a:pt x="1494" y="70"/>
                    </a:lnTo>
                    <a:lnTo>
                      <a:pt x="1480" y="70"/>
                    </a:lnTo>
                    <a:lnTo>
                      <a:pt x="1466" y="71"/>
                    </a:lnTo>
                    <a:lnTo>
                      <a:pt x="1453" y="74"/>
                    </a:lnTo>
                    <a:lnTo>
                      <a:pt x="1443" y="81"/>
                    </a:lnTo>
                    <a:lnTo>
                      <a:pt x="1446" y="87"/>
                    </a:lnTo>
                    <a:lnTo>
                      <a:pt x="1444" y="95"/>
                    </a:lnTo>
                    <a:lnTo>
                      <a:pt x="1441" y="101"/>
                    </a:lnTo>
                    <a:lnTo>
                      <a:pt x="1445" y="108"/>
                    </a:lnTo>
                    <a:lnTo>
                      <a:pt x="1469" y="102"/>
                    </a:lnTo>
                    <a:lnTo>
                      <a:pt x="1493" y="98"/>
                    </a:lnTo>
                    <a:lnTo>
                      <a:pt x="1517" y="91"/>
                    </a:lnTo>
                    <a:lnTo>
                      <a:pt x="1543" y="88"/>
                    </a:lnTo>
                    <a:lnTo>
                      <a:pt x="1568" y="85"/>
                    </a:lnTo>
                    <a:lnTo>
                      <a:pt x="1593" y="84"/>
                    </a:lnTo>
                    <a:lnTo>
                      <a:pt x="1619" y="85"/>
                    </a:lnTo>
                    <a:lnTo>
                      <a:pt x="1646" y="89"/>
                    </a:lnTo>
                    <a:lnTo>
                      <a:pt x="1652" y="97"/>
                    </a:lnTo>
                    <a:lnTo>
                      <a:pt x="1658" y="101"/>
                    </a:lnTo>
                    <a:lnTo>
                      <a:pt x="1665" y="101"/>
                    </a:lnTo>
                    <a:lnTo>
                      <a:pt x="1674" y="100"/>
                    </a:lnTo>
                    <a:lnTo>
                      <a:pt x="1682" y="96"/>
                    </a:lnTo>
                    <a:lnTo>
                      <a:pt x="1690" y="92"/>
                    </a:lnTo>
                    <a:lnTo>
                      <a:pt x="1699" y="89"/>
                    </a:lnTo>
                    <a:lnTo>
                      <a:pt x="1707" y="89"/>
                    </a:lnTo>
                    <a:lnTo>
                      <a:pt x="1801" y="85"/>
                    </a:lnTo>
                    <a:lnTo>
                      <a:pt x="1804" y="86"/>
                    </a:lnTo>
                    <a:lnTo>
                      <a:pt x="1810" y="87"/>
                    </a:lnTo>
                    <a:lnTo>
                      <a:pt x="1815" y="87"/>
                    </a:lnTo>
                    <a:lnTo>
                      <a:pt x="1820" y="87"/>
                    </a:lnTo>
                    <a:lnTo>
                      <a:pt x="1824" y="87"/>
                    </a:lnTo>
                    <a:lnTo>
                      <a:pt x="1828" y="89"/>
                    </a:lnTo>
                    <a:lnTo>
                      <a:pt x="1829" y="94"/>
                    </a:lnTo>
                    <a:lnTo>
                      <a:pt x="1828" y="101"/>
                    </a:lnTo>
                    <a:lnTo>
                      <a:pt x="1813" y="101"/>
                    </a:lnTo>
                    <a:lnTo>
                      <a:pt x="1800" y="104"/>
                    </a:lnTo>
                    <a:lnTo>
                      <a:pt x="1787" y="108"/>
                    </a:lnTo>
                    <a:lnTo>
                      <a:pt x="1775" y="112"/>
                    </a:lnTo>
                    <a:lnTo>
                      <a:pt x="1762" y="115"/>
                    </a:lnTo>
                    <a:lnTo>
                      <a:pt x="1751" y="119"/>
                    </a:lnTo>
                    <a:lnTo>
                      <a:pt x="1739" y="124"/>
                    </a:lnTo>
                    <a:lnTo>
                      <a:pt x="1727" y="128"/>
                    </a:lnTo>
                    <a:lnTo>
                      <a:pt x="1715" y="129"/>
                    </a:lnTo>
                    <a:lnTo>
                      <a:pt x="1704" y="132"/>
                    </a:lnTo>
                    <a:lnTo>
                      <a:pt x="1693" y="133"/>
                    </a:lnTo>
                    <a:lnTo>
                      <a:pt x="1684" y="137"/>
                    </a:lnTo>
                    <a:lnTo>
                      <a:pt x="1673" y="139"/>
                    </a:lnTo>
                    <a:lnTo>
                      <a:pt x="1663" y="142"/>
                    </a:lnTo>
                    <a:lnTo>
                      <a:pt x="1654" y="145"/>
                    </a:lnTo>
                    <a:lnTo>
                      <a:pt x="1644" y="151"/>
                    </a:lnTo>
                    <a:lnTo>
                      <a:pt x="1648" y="157"/>
                    </a:lnTo>
                    <a:lnTo>
                      <a:pt x="1648" y="163"/>
                    </a:lnTo>
                    <a:lnTo>
                      <a:pt x="1645" y="170"/>
                    </a:lnTo>
                    <a:lnTo>
                      <a:pt x="1642" y="177"/>
                    </a:lnTo>
                    <a:lnTo>
                      <a:pt x="1630" y="180"/>
                    </a:lnTo>
                    <a:lnTo>
                      <a:pt x="1620" y="184"/>
                    </a:lnTo>
                    <a:lnTo>
                      <a:pt x="1611" y="189"/>
                    </a:lnTo>
                    <a:lnTo>
                      <a:pt x="1602" y="199"/>
                    </a:lnTo>
                    <a:lnTo>
                      <a:pt x="1608" y="199"/>
                    </a:lnTo>
                    <a:lnTo>
                      <a:pt x="1615" y="199"/>
                    </a:lnTo>
                    <a:lnTo>
                      <a:pt x="1621" y="197"/>
                    </a:lnTo>
                    <a:lnTo>
                      <a:pt x="1628" y="196"/>
                    </a:lnTo>
                    <a:lnTo>
                      <a:pt x="1634" y="194"/>
                    </a:lnTo>
                    <a:lnTo>
                      <a:pt x="1642" y="191"/>
                    </a:lnTo>
                    <a:lnTo>
                      <a:pt x="1649" y="190"/>
                    </a:lnTo>
                    <a:lnTo>
                      <a:pt x="1658" y="190"/>
                    </a:lnTo>
                    <a:lnTo>
                      <a:pt x="1673" y="186"/>
                    </a:lnTo>
                    <a:lnTo>
                      <a:pt x="1688" y="182"/>
                    </a:lnTo>
                    <a:lnTo>
                      <a:pt x="1704" y="176"/>
                    </a:lnTo>
                    <a:lnTo>
                      <a:pt x="1720" y="172"/>
                    </a:lnTo>
                    <a:lnTo>
                      <a:pt x="1735" y="167"/>
                    </a:lnTo>
                    <a:lnTo>
                      <a:pt x="1751" y="165"/>
                    </a:lnTo>
                    <a:lnTo>
                      <a:pt x="1767" y="162"/>
                    </a:lnTo>
                    <a:lnTo>
                      <a:pt x="1783" y="163"/>
                    </a:lnTo>
                    <a:lnTo>
                      <a:pt x="1792" y="165"/>
                    </a:lnTo>
                    <a:lnTo>
                      <a:pt x="1803" y="165"/>
                    </a:lnTo>
                    <a:lnTo>
                      <a:pt x="1814" y="162"/>
                    </a:lnTo>
                    <a:lnTo>
                      <a:pt x="1826" y="160"/>
                    </a:lnTo>
                    <a:lnTo>
                      <a:pt x="1836" y="157"/>
                    </a:lnTo>
                    <a:lnTo>
                      <a:pt x="1846" y="154"/>
                    </a:lnTo>
                    <a:lnTo>
                      <a:pt x="1857" y="152"/>
                    </a:lnTo>
                    <a:lnTo>
                      <a:pt x="1869" y="151"/>
                    </a:lnTo>
                    <a:lnTo>
                      <a:pt x="1888" y="145"/>
                    </a:lnTo>
                    <a:lnTo>
                      <a:pt x="1908" y="142"/>
                    </a:lnTo>
                    <a:lnTo>
                      <a:pt x="1927" y="139"/>
                    </a:lnTo>
                    <a:lnTo>
                      <a:pt x="1947" y="137"/>
                    </a:lnTo>
                    <a:lnTo>
                      <a:pt x="1967" y="133"/>
                    </a:lnTo>
                    <a:lnTo>
                      <a:pt x="1987" y="132"/>
                    </a:lnTo>
                    <a:lnTo>
                      <a:pt x="2008" y="129"/>
                    </a:lnTo>
                    <a:lnTo>
                      <a:pt x="2028" y="128"/>
                    </a:lnTo>
                    <a:lnTo>
                      <a:pt x="2031" y="133"/>
                    </a:lnTo>
                    <a:lnTo>
                      <a:pt x="2030" y="141"/>
                    </a:lnTo>
                    <a:lnTo>
                      <a:pt x="2024" y="143"/>
                    </a:lnTo>
                    <a:lnTo>
                      <a:pt x="2017" y="145"/>
                    </a:lnTo>
                    <a:lnTo>
                      <a:pt x="2011" y="147"/>
                    </a:lnTo>
                    <a:lnTo>
                      <a:pt x="2004" y="151"/>
                    </a:lnTo>
                    <a:lnTo>
                      <a:pt x="1998" y="153"/>
                    </a:lnTo>
                    <a:lnTo>
                      <a:pt x="1992" y="156"/>
                    </a:lnTo>
                    <a:lnTo>
                      <a:pt x="1985" y="158"/>
                    </a:lnTo>
                    <a:lnTo>
                      <a:pt x="1979" y="161"/>
                    </a:lnTo>
                    <a:lnTo>
                      <a:pt x="1980" y="165"/>
                    </a:lnTo>
                    <a:lnTo>
                      <a:pt x="1983" y="168"/>
                    </a:lnTo>
                    <a:lnTo>
                      <a:pt x="1992" y="167"/>
                    </a:lnTo>
                    <a:lnTo>
                      <a:pt x="1999" y="161"/>
                    </a:lnTo>
                    <a:lnTo>
                      <a:pt x="2014" y="159"/>
                    </a:lnTo>
                    <a:lnTo>
                      <a:pt x="2029" y="158"/>
                    </a:lnTo>
                    <a:lnTo>
                      <a:pt x="2045" y="156"/>
                    </a:lnTo>
                    <a:lnTo>
                      <a:pt x="2061" y="155"/>
                    </a:lnTo>
                    <a:lnTo>
                      <a:pt x="2077" y="154"/>
                    </a:lnTo>
                    <a:lnTo>
                      <a:pt x="2093" y="153"/>
                    </a:lnTo>
                    <a:lnTo>
                      <a:pt x="2109" y="153"/>
                    </a:lnTo>
                    <a:lnTo>
                      <a:pt x="2126" y="155"/>
                    </a:lnTo>
                    <a:lnTo>
                      <a:pt x="2130" y="162"/>
                    </a:lnTo>
                    <a:lnTo>
                      <a:pt x="2128" y="172"/>
                    </a:lnTo>
                    <a:lnTo>
                      <a:pt x="2116" y="173"/>
                    </a:lnTo>
                    <a:lnTo>
                      <a:pt x="2106" y="175"/>
                    </a:lnTo>
                    <a:lnTo>
                      <a:pt x="2094" y="176"/>
                    </a:lnTo>
                    <a:lnTo>
                      <a:pt x="2083" y="180"/>
                    </a:lnTo>
                    <a:lnTo>
                      <a:pt x="2071" y="183"/>
                    </a:lnTo>
                    <a:lnTo>
                      <a:pt x="2060" y="186"/>
                    </a:lnTo>
                    <a:lnTo>
                      <a:pt x="2049" y="189"/>
                    </a:lnTo>
                    <a:lnTo>
                      <a:pt x="2039" y="195"/>
                    </a:lnTo>
                    <a:lnTo>
                      <a:pt x="2042" y="200"/>
                    </a:lnTo>
                    <a:lnTo>
                      <a:pt x="2050" y="201"/>
                    </a:lnTo>
                    <a:lnTo>
                      <a:pt x="2059" y="200"/>
                    </a:lnTo>
                    <a:lnTo>
                      <a:pt x="2070" y="199"/>
                    </a:lnTo>
                    <a:lnTo>
                      <a:pt x="2080" y="197"/>
                    </a:lnTo>
                    <a:lnTo>
                      <a:pt x="2092" y="196"/>
                    </a:lnTo>
                    <a:lnTo>
                      <a:pt x="2101" y="194"/>
                    </a:lnTo>
                    <a:lnTo>
                      <a:pt x="2112" y="195"/>
                    </a:lnTo>
                    <a:lnTo>
                      <a:pt x="2122" y="198"/>
                    </a:lnTo>
                    <a:lnTo>
                      <a:pt x="2131" y="204"/>
                    </a:lnTo>
                    <a:lnTo>
                      <a:pt x="2137" y="200"/>
                    </a:lnTo>
                    <a:lnTo>
                      <a:pt x="2143" y="200"/>
                    </a:lnTo>
                    <a:lnTo>
                      <a:pt x="2150" y="200"/>
                    </a:lnTo>
                    <a:lnTo>
                      <a:pt x="2155" y="204"/>
                    </a:lnTo>
                    <a:lnTo>
                      <a:pt x="2161" y="211"/>
                    </a:lnTo>
                    <a:lnTo>
                      <a:pt x="2181" y="206"/>
                    </a:lnTo>
                    <a:lnTo>
                      <a:pt x="2202" y="202"/>
                    </a:lnTo>
                    <a:lnTo>
                      <a:pt x="2223" y="197"/>
                    </a:lnTo>
                    <a:lnTo>
                      <a:pt x="2243" y="192"/>
                    </a:lnTo>
                    <a:lnTo>
                      <a:pt x="2263" y="187"/>
                    </a:lnTo>
                    <a:lnTo>
                      <a:pt x="2284" y="185"/>
                    </a:lnTo>
                    <a:lnTo>
                      <a:pt x="2306" y="183"/>
                    </a:lnTo>
                    <a:lnTo>
                      <a:pt x="2328" y="184"/>
                    </a:lnTo>
                    <a:lnTo>
                      <a:pt x="2335" y="190"/>
                    </a:lnTo>
                    <a:lnTo>
                      <a:pt x="2327" y="196"/>
                    </a:lnTo>
                    <a:lnTo>
                      <a:pt x="2319" y="200"/>
                    </a:lnTo>
                    <a:lnTo>
                      <a:pt x="2309" y="203"/>
                    </a:lnTo>
                    <a:lnTo>
                      <a:pt x="2300" y="206"/>
                    </a:lnTo>
                    <a:lnTo>
                      <a:pt x="2291" y="209"/>
                    </a:lnTo>
                    <a:lnTo>
                      <a:pt x="2282" y="212"/>
                    </a:lnTo>
                    <a:lnTo>
                      <a:pt x="2272" y="216"/>
                    </a:lnTo>
                    <a:lnTo>
                      <a:pt x="2266" y="224"/>
                    </a:lnTo>
                    <a:lnTo>
                      <a:pt x="2277" y="226"/>
                    </a:lnTo>
                    <a:lnTo>
                      <a:pt x="2287" y="227"/>
                    </a:lnTo>
                    <a:lnTo>
                      <a:pt x="2298" y="225"/>
                    </a:lnTo>
                    <a:lnTo>
                      <a:pt x="2310" y="224"/>
                    </a:lnTo>
                    <a:lnTo>
                      <a:pt x="2321" y="220"/>
                    </a:lnTo>
                    <a:lnTo>
                      <a:pt x="2333" y="218"/>
                    </a:lnTo>
                    <a:lnTo>
                      <a:pt x="2345" y="216"/>
                    </a:lnTo>
                    <a:lnTo>
                      <a:pt x="2357" y="217"/>
                    </a:lnTo>
                    <a:lnTo>
                      <a:pt x="2369" y="215"/>
                    </a:lnTo>
                    <a:lnTo>
                      <a:pt x="2383" y="214"/>
                    </a:lnTo>
                    <a:lnTo>
                      <a:pt x="2397" y="213"/>
                    </a:lnTo>
                    <a:lnTo>
                      <a:pt x="2412" y="213"/>
                    </a:lnTo>
                    <a:lnTo>
                      <a:pt x="2426" y="213"/>
                    </a:lnTo>
                    <a:lnTo>
                      <a:pt x="2440" y="215"/>
                    </a:lnTo>
                    <a:lnTo>
                      <a:pt x="2452" y="217"/>
                    </a:lnTo>
                    <a:lnTo>
                      <a:pt x="2465" y="224"/>
                    </a:lnTo>
                    <a:lnTo>
                      <a:pt x="2468" y="222"/>
                    </a:lnTo>
                    <a:lnTo>
                      <a:pt x="2475" y="220"/>
                    </a:lnTo>
                    <a:lnTo>
                      <a:pt x="2480" y="220"/>
                    </a:lnTo>
                    <a:lnTo>
                      <a:pt x="2487" y="220"/>
                    </a:lnTo>
                    <a:lnTo>
                      <a:pt x="2492" y="220"/>
                    </a:lnTo>
                    <a:lnTo>
                      <a:pt x="2498" y="220"/>
                    </a:lnTo>
                    <a:lnTo>
                      <a:pt x="2503" y="222"/>
                    </a:lnTo>
                    <a:lnTo>
                      <a:pt x="2508" y="224"/>
                    </a:lnTo>
                    <a:lnTo>
                      <a:pt x="2502" y="230"/>
                    </a:lnTo>
                    <a:lnTo>
                      <a:pt x="2496" y="237"/>
                    </a:lnTo>
                    <a:lnTo>
                      <a:pt x="2488" y="240"/>
                    </a:lnTo>
                    <a:lnTo>
                      <a:pt x="2480" y="243"/>
                    </a:lnTo>
                    <a:lnTo>
                      <a:pt x="2470" y="244"/>
                    </a:lnTo>
                    <a:lnTo>
                      <a:pt x="2461" y="247"/>
                    </a:lnTo>
                    <a:lnTo>
                      <a:pt x="2452" y="251"/>
                    </a:lnTo>
                    <a:lnTo>
                      <a:pt x="2445" y="256"/>
                    </a:lnTo>
                    <a:lnTo>
                      <a:pt x="2425" y="260"/>
                    </a:lnTo>
                    <a:lnTo>
                      <a:pt x="2407" y="266"/>
                    </a:lnTo>
                    <a:lnTo>
                      <a:pt x="2389" y="271"/>
                    </a:lnTo>
                    <a:lnTo>
                      <a:pt x="2370" y="276"/>
                    </a:lnTo>
                    <a:lnTo>
                      <a:pt x="2351" y="281"/>
                    </a:lnTo>
                    <a:lnTo>
                      <a:pt x="2334" y="286"/>
                    </a:lnTo>
                    <a:lnTo>
                      <a:pt x="2314" y="291"/>
                    </a:lnTo>
                    <a:lnTo>
                      <a:pt x="2297" y="298"/>
                    </a:lnTo>
                    <a:lnTo>
                      <a:pt x="2279" y="300"/>
                    </a:lnTo>
                    <a:lnTo>
                      <a:pt x="2262" y="305"/>
                    </a:lnTo>
                    <a:lnTo>
                      <a:pt x="2244" y="312"/>
                    </a:lnTo>
                    <a:lnTo>
                      <a:pt x="2228" y="319"/>
                    </a:lnTo>
                    <a:lnTo>
                      <a:pt x="2211" y="327"/>
                    </a:lnTo>
                    <a:lnTo>
                      <a:pt x="2194" y="334"/>
                    </a:lnTo>
                    <a:lnTo>
                      <a:pt x="2177" y="342"/>
                    </a:lnTo>
                    <a:lnTo>
                      <a:pt x="2161" y="350"/>
                    </a:lnTo>
                    <a:lnTo>
                      <a:pt x="2166" y="353"/>
                    </a:lnTo>
                    <a:lnTo>
                      <a:pt x="2173" y="354"/>
                    </a:lnTo>
                    <a:lnTo>
                      <a:pt x="2180" y="353"/>
                    </a:lnTo>
                    <a:lnTo>
                      <a:pt x="2187" y="350"/>
                    </a:lnTo>
                    <a:lnTo>
                      <a:pt x="2241" y="336"/>
                    </a:lnTo>
                    <a:lnTo>
                      <a:pt x="2296" y="322"/>
                    </a:lnTo>
                    <a:lnTo>
                      <a:pt x="2350" y="307"/>
                    </a:lnTo>
                    <a:lnTo>
                      <a:pt x="2405" y="295"/>
                    </a:lnTo>
                    <a:lnTo>
                      <a:pt x="2460" y="282"/>
                    </a:lnTo>
                    <a:lnTo>
                      <a:pt x="2516" y="273"/>
                    </a:lnTo>
                    <a:lnTo>
                      <a:pt x="2574" y="268"/>
                    </a:lnTo>
                    <a:lnTo>
                      <a:pt x="2633" y="267"/>
                    </a:lnTo>
                    <a:lnTo>
                      <a:pt x="2635" y="272"/>
                    </a:lnTo>
                    <a:lnTo>
                      <a:pt x="2638" y="277"/>
                    </a:lnTo>
                    <a:lnTo>
                      <a:pt x="2633" y="283"/>
                    </a:lnTo>
                    <a:lnTo>
                      <a:pt x="2626" y="284"/>
                    </a:lnTo>
                    <a:lnTo>
                      <a:pt x="2620" y="284"/>
                    </a:lnTo>
                    <a:lnTo>
                      <a:pt x="2618" y="289"/>
                    </a:lnTo>
                    <a:lnTo>
                      <a:pt x="2628" y="296"/>
                    </a:lnTo>
                    <a:lnTo>
                      <a:pt x="2640" y="299"/>
                    </a:lnTo>
                    <a:lnTo>
                      <a:pt x="2653" y="299"/>
                    </a:lnTo>
                    <a:lnTo>
                      <a:pt x="2666" y="297"/>
                    </a:lnTo>
                    <a:lnTo>
                      <a:pt x="2679" y="294"/>
                    </a:lnTo>
                    <a:lnTo>
                      <a:pt x="2693" y="290"/>
                    </a:lnTo>
                    <a:lnTo>
                      <a:pt x="2706" y="287"/>
                    </a:lnTo>
                    <a:lnTo>
                      <a:pt x="2719" y="287"/>
                    </a:lnTo>
                    <a:lnTo>
                      <a:pt x="2724" y="293"/>
                    </a:lnTo>
                    <a:lnTo>
                      <a:pt x="2725" y="300"/>
                    </a:lnTo>
                    <a:lnTo>
                      <a:pt x="2718" y="303"/>
                    </a:lnTo>
                    <a:lnTo>
                      <a:pt x="2711" y="308"/>
                    </a:lnTo>
                    <a:lnTo>
                      <a:pt x="2704" y="310"/>
                    </a:lnTo>
                    <a:lnTo>
                      <a:pt x="2696" y="310"/>
                    </a:lnTo>
                    <a:lnTo>
                      <a:pt x="2685" y="314"/>
                    </a:lnTo>
                    <a:lnTo>
                      <a:pt x="2674" y="319"/>
                    </a:lnTo>
                    <a:lnTo>
                      <a:pt x="2662" y="324"/>
                    </a:lnTo>
                    <a:lnTo>
                      <a:pt x="2651" y="329"/>
                    </a:lnTo>
                    <a:lnTo>
                      <a:pt x="2639" y="333"/>
                    </a:lnTo>
                    <a:lnTo>
                      <a:pt x="2630" y="339"/>
                    </a:lnTo>
                    <a:lnTo>
                      <a:pt x="2619" y="343"/>
                    </a:lnTo>
                    <a:lnTo>
                      <a:pt x="2609" y="350"/>
                    </a:lnTo>
                    <a:lnTo>
                      <a:pt x="2632" y="354"/>
                    </a:lnTo>
                    <a:lnTo>
                      <a:pt x="2654" y="352"/>
                    </a:lnTo>
                    <a:lnTo>
                      <a:pt x="2675" y="346"/>
                    </a:lnTo>
                    <a:lnTo>
                      <a:pt x="2696" y="338"/>
                    </a:lnTo>
                    <a:lnTo>
                      <a:pt x="2717" y="328"/>
                    </a:lnTo>
                    <a:lnTo>
                      <a:pt x="2738" y="321"/>
                    </a:lnTo>
                    <a:lnTo>
                      <a:pt x="2760" y="315"/>
                    </a:lnTo>
                    <a:lnTo>
                      <a:pt x="2784" y="316"/>
                    </a:lnTo>
                    <a:lnTo>
                      <a:pt x="2793" y="316"/>
                    </a:lnTo>
                    <a:lnTo>
                      <a:pt x="2802" y="321"/>
                    </a:lnTo>
                    <a:lnTo>
                      <a:pt x="2744" y="353"/>
                    </a:lnTo>
                    <a:lnTo>
                      <a:pt x="2687" y="382"/>
                    </a:lnTo>
                    <a:lnTo>
                      <a:pt x="2628" y="410"/>
                    </a:lnTo>
                    <a:lnTo>
                      <a:pt x="2568" y="437"/>
                    </a:lnTo>
                    <a:lnTo>
                      <a:pt x="2508" y="463"/>
                    </a:lnTo>
                    <a:lnTo>
                      <a:pt x="2448" y="489"/>
                    </a:lnTo>
                    <a:lnTo>
                      <a:pt x="2389" y="517"/>
                    </a:lnTo>
                    <a:lnTo>
                      <a:pt x="2331" y="548"/>
                    </a:lnTo>
                    <a:lnTo>
                      <a:pt x="2276" y="564"/>
                    </a:lnTo>
                    <a:lnTo>
                      <a:pt x="2223" y="581"/>
                    </a:lnTo>
                    <a:lnTo>
                      <a:pt x="2171" y="599"/>
                    </a:lnTo>
                    <a:lnTo>
                      <a:pt x="2120" y="620"/>
                    </a:lnTo>
                    <a:lnTo>
                      <a:pt x="2067" y="639"/>
                    </a:lnTo>
                    <a:lnTo>
                      <a:pt x="2015" y="660"/>
                    </a:lnTo>
                    <a:lnTo>
                      <a:pt x="1965" y="682"/>
                    </a:lnTo>
                    <a:lnTo>
                      <a:pt x="1915" y="706"/>
                    </a:lnTo>
                    <a:lnTo>
                      <a:pt x="1905" y="709"/>
                    </a:lnTo>
                    <a:lnTo>
                      <a:pt x="1897" y="713"/>
                    </a:lnTo>
                    <a:lnTo>
                      <a:pt x="1887" y="719"/>
                    </a:lnTo>
                    <a:lnTo>
                      <a:pt x="1882" y="728"/>
                    </a:lnTo>
                    <a:lnTo>
                      <a:pt x="1886" y="733"/>
                    </a:lnTo>
                    <a:lnTo>
                      <a:pt x="1899" y="726"/>
                    </a:lnTo>
                    <a:lnTo>
                      <a:pt x="1912" y="721"/>
                    </a:lnTo>
                    <a:lnTo>
                      <a:pt x="1926" y="715"/>
                    </a:lnTo>
                    <a:lnTo>
                      <a:pt x="1941" y="711"/>
                    </a:lnTo>
                    <a:lnTo>
                      <a:pt x="1955" y="705"/>
                    </a:lnTo>
                    <a:lnTo>
                      <a:pt x="1969" y="699"/>
                    </a:lnTo>
                    <a:lnTo>
                      <a:pt x="1982" y="692"/>
                    </a:lnTo>
                    <a:lnTo>
                      <a:pt x="1996" y="684"/>
                    </a:lnTo>
                    <a:lnTo>
                      <a:pt x="2012" y="680"/>
                    </a:lnTo>
                    <a:lnTo>
                      <a:pt x="2028" y="676"/>
                    </a:lnTo>
                    <a:lnTo>
                      <a:pt x="2044" y="670"/>
                    </a:lnTo>
                    <a:lnTo>
                      <a:pt x="2060" y="666"/>
                    </a:lnTo>
                    <a:lnTo>
                      <a:pt x="2075" y="659"/>
                    </a:lnTo>
                    <a:lnTo>
                      <a:pt x="2092" y="653"/>
                    </a:lnTo>
                    <a:lnTo>
                      <a:pt x="2108" y="645"/>
                    </a:lnTo>
                    <a:lnTo>
                      <a:pt x="2124" y="639"/>
                    </a:lnTo>
                    <a:lnTo>
                      <a:pt x="2134" y="636"/>
                    </a:lnTo>
                    <a:lnTo>
                      <a:pt x="2143" y="632"/>
                    </a:lnTo>
                    <a:lnTo>
                      <a:pt x="2153" y="628"/>
                    </a:lnTo>
                    <a:lnTo>
                      <a:pt x="2163" y="624"/>
                    </a:lnTo>
                    <a:lnTo>
                      <a:pt x="2171" y="619"/>
                    </a:lnTo>
                    <a:lnTo>
                      <a:pt x="2180" y="616"/>
                    </a:lnTo>
                    <a:lnTo>
                      <a:pt x="2188" y="614"/>
                    </a:lnTo>
                    <a:lnTo>
                      <a:pt x="2198" y="616"/>
                    </a:lnTo>
                    <a:lnTo>
                      <a:pt x="2159" y="636"/>
                    </a:lnTo>
                    <a:lnTo>
                      <a:pt x="2121" y="656"/>
                    </a:lnTo>
                    <a:lnTo>
                      <a:pt x="2081" y="674"/>
                    </a:lnTo>
                    <a:lnTo>
                      <a:pt x="2042" y="693"/>
                    </a:lnTo>
                    <a:lnTo>
                      <a:pt x="2002" y="711"/>
                    </a:lnTo>
                    <a:lnTo>
                      <a:pt x="1962" y="730"/>
                    </a:lnTo>
                    <a:lnTo>
                      <a:pt x="1924" y="752"/>
                    </a:lnTo>
                    <a:lnTo>
                      <a:pt x="1886" y="776"/>
                    </a:lnTo>
                    <a:lnTo>
                      <a:pt x="1867" y="781"/>
                    </a:lnTo>
                    <a:lnTo>
                      <a:pt x="1847" y="788"/>
                    </a:lnTo>
                    <a:lnTo>
                      <a:pt x="1828" y="796"/>
                    </a:lnTo>
                    <a:lnTo>
                      <a:pt x="1809" y="805"/>
                    </a:lnTo>
                    <a:lnTo>
                      <a:pt x="1788" y="811"/>
                    </a:lnTo>
                    <a:lnTo>
                      <a:pt x="1769" y="818"/>
                    </a:lnTo>
                    <a:lnTo>
                      <a:pt x="1748" y="823"/>
                    </a:lnTo>
                    <a:lnTo>
                      <a:pt x="1729" y="827"/>
                    </a:lnTo>
                    <a:lnTo>
                      <a:pt x="1723" y="828"/>
                    </a:lnTo>
                    <a:lnTo>
                      <a:pt x="1718" y="826"/>
                    </a:lnTo>
                    <a:lnTo>
                      <a:pt x="1714" y="823"/>
                    </a:lnTo>
                    <a:lnTo>
                      <a:pt x="1710" y="821"/>
                    </a:lnTo>
                    <a:lnTo>
                      <a:pt x="1711" y="811"/>
                    </a:lnTo>
                    <a:lnTo>
                      <a:pt x="1718" y="805"/>
                    </a:lnTo>
                    <a:lnTo>
                      <a:pt x="1727" y="805"/>
                    </a:lnTo>
                    <a:lnTo>
                      <a:pt x="1734" y="802"/>
                    </a:lnTo>
                    <a:lnTo>
                      <a:pt x="1729" y="795"/>
                    </a:lnTo>
                    <a:lnTo>
                      <a:pt x="1721" y="794"/>
                    </a:lnTo>
                    <a:lnTo>
                      <a:pt x="1716" y="792"/>
                    </a:lnTo>
                    <a:lnTo>
                      <a:pt x="1714" y="791"/>
                    </a:lnTo>
                    <a:lnTo>
                      <a:pt x="1713" y="787"/>
                    </a:lnTo>
                    <a:lnTo>
                      <a:pt x="1716" y="782"/>
                    </a:lnTo>
                    <a:lnTo>
                      <a:pt x="1720" y="777"/>
                    </a:lnTo>
                    <a:lnTo>
                      <a:pt x="1725" y="771"/>
                    </a:lnTo>
                    <a:lnTo>
                      <a:pt x="1718" y="771"/>
                    </a:lnTo>
                    <a:lnTo>
                      <a:pt x="1712" y="771"/>
                    </a:lnTo>
                    <a:lnTo>
                      <a:pt x="1705" y="772"/>
                    </a:lnTo>
                    <a:lnTo>
                      <a:pt x="1700" y="773"/>
                    </a:lnTo>
                    <a:lnTo>
                      <a:pt x="1693" y="773"/>
                    </a:lnTo>
                    <a:lnTo>
                      <a:pt x="1688" y="776"/>
                    </a:lnTo>
                    <a:lnTo>
                      <a:pt x="1682" y="776"/>
                    </a:lnTo>
                    <a:lnTo>
                      <a:pt x="1677" y="778"/>
                    </a:lnTo>
                    <a:lnTo>
                      <a:pt x="1665" y="780"/>
                    </a:lnTo>
                    <a:lnTo>
                      <a:pt x="1655" y="782"/>
                    </a:lnTo>
                    <a:lnTo>
                      <a:pt x="1644" y="783"/>
                    </a:lnTo>
                    <a:lnTo>
                      <a:pt x="1633" y="785"/>
                    </a:lnTo>
                    <a:lnTo>
                      <a:pt x="1621" y="786"/>
                    </a:lnTo>
                    <a:lnTo>
                      <a:pt x="1610" y="787"/>
                    </a:lnTo>
                    <a:lnTo>
                      <a:pt x="1598" y="787"/>
                    </a:lnTo>
                    <a:lnTo>
                      <a:pt x="1586" y="787"/>
                    </a:lnTo>
                    <a:lnTo>
                      <a:pt x="1579" y="785"/>
                    </a:lnTo>
                    <a:lnTo>
                      <a:pt x="1574" y="783"/>
                    </a:lnTo>
                    <a:lnTo>
                      <a:pt x="1568" y="781"/>
                    </a:lnTo>
                    <a:lnTo>
                      <a:pt x="1561" y="782"/>
                    </a:lnTo>
                    <a:lnTo>
                      <a:pt x="1560" y="774"/>
                    </a:lnTo>
                    <a:lnTo>
                      <a:pt x="1563" y="771"/>
                    </a:lnTo>
                    <a:lnTo>
                      <a:pt x="1568" y="769"/>
                    </a:lnTo>
                    <a:lnTo>
                      <a:pt x="1572" y="767"/>
                    </a:lnTo>
                    <a:lnTo>
                      <a:pt x="1564" y="763"/>
                    </a:lnTo>
                    <a:lnTo>
                      <a:pt x="1558" y="761"/>
                    </a:lnTo>
                    <a:lnTo>
                      <a:pt x="1550" y="758"/>
                    </a:lnTo>
                    <a:lnTo>
                      <a:pt x="1544" y="757"/>
                    </a:lnTo>
                    <a:lnTo>
                      <a:pt x="1536" y="754"/>
                    </a:lnTo>
                    <a:lnTo>
                      <a:pt x="1530" y="752"/>
                    </a:lnTo>
                    <a:lnTo>
                      <a:pt x="1525" y="747"/>
                    </a:lnTo>
                    <a:lnTo>
                      <a:pt x="1522" y="740"/>
                    </a:lnTo>
                    <a:lnTo>
                      <a:pt x="1513" y="740"/>
                    </a:lnTo>
                    <a:lnTo>
                      <a:pt x="1504" y="742"/>
                    </a:lnTo>
                    <a:lnTo>
                      <a:pt x="1495" y="743"/>
                    </a:lnTo>
                    <a:lnTo>
                      <a:pt x="1487" y="745"/>
                    </a:lnTo>
                    <a:lnTo>
                      <a:pt x="1478" y="744"/>
                    </a:lnTo>
                    <a:lnTo>
                      <a:pt x="1472" y="743"/>
                    </a:lnTo>
                    <a:lnTo>
                      <a:pt x="1465" y="737"/>
                    </a:lnTo>
                    <a:lnTo>
                      <a:pt x="1462" y="728"/>
                    </a:lnTo>
                    <a:lnTo>
                      <a:pt x="1478" y="721"/>
                    </a:lnTo>
                    <a:lnTo>
                      <a:pt x="1498" y="714"/>
                    </a:lnTo>
                    <a:lnTo>
                      <a:pt x="1517" y="709"/>
                    </a:lnTo>
                    <a:lnTo>
                      <a:pt x="1537" y="705"/>
                    </a:lnTo>
                    <a:lnTo>
                      <a:pt x="1557" y="699"/>
                    </a:lnTo>
                    <a:lnTo>
                      <a:pt x="1577" y="695"/>
                    </a:lnTo>
                    <a:lnTo>
                      <a:pt x="1597" y="688"/>
                    </a:lnTo>
                    <a:lnTo>
                      <a:pt x="1617" y="682"/>
                    </a:lnTo>
                    <a:lnTo>
                      <a:pt x="1616" y="674"/>
                    </a:lnTo>
                    <a:lnTo>
                      <a:pt x="1611" y="668"/>
                    </a:lnTo>
                    <a:lnTo>
                      <a:pt x="1583" y="671"/>
                    </a:lnTo>
                    <a:lnTo>
                      <a:pt x="1556" y="678"/>
                    </a:lnTo>
                    <a:lnTo>
                      <a:pt x="1529" y="683"/>
                    </a:lnTo>
                    <a:lnTo>
                      <a:pt x="1502" y="688"/>
                    </a:lnTo>
                    <a:lnTo>
                      <a:pt x="1474" y="693"/>
                    </a:lnTo>
                    <a:lnTo>
                      <a:pt x="1447" y="697"/>
                    </a:lnTo>
                    <a:lnTo>
                      <a:pt x="1420" y="699"/>
                    </a:lnTo>
                    <a:lnTo>
                      <a:pt x="1393" y="699"/>
                    </a:lnTo>
                    <a:lnTo>
                      <a:pt x="1389" y="696"/>
                    </a:lnTo>
                    <a:lnTo>
                      <a:pt x="1386" y="695"/>
                    </a:lnTo>
                    <a:lnTo>
                      <a:pt x="1381" y="693"/>
                    </a:lnTo>
                    <a:lnTo>
                      <a:pt x="1381" y="688"/>
                    </a:lnTo>
                    <a:lnTo>
                      <a:pt x="1396" y="680"/>
                    </a:lnTo>
                    <a:lnTo>
                      <a:pt x="1414" y="674"/>
                    </a:lnTo>
                    <a:lnTo>
                      <a:pt x="1432" y="671"/>
                    </a:lnTo>
                    <a:lnTo>
                      <a:pt x="1450" y="668"/>
                    </a:lnTo>
                    <a:lnTo>
                      <a:pt x="1467" y="663"/>
                    </a:lnTo>
                    <a:lnTo>
                      <a:pt x="1485" y="656"/>
                    </a:lnTo>
                    <a:lnTo>
                      <a:pt x="1500" y="645"/>
                    </a:lnTo>
                    <a:lnTo>
                      <a:pt x="1514" y="632"/>
                    </a:lnTo>
                    <a:lnTo>
                      <a:pt x="1507" y="628"/>
                    </a:lnTo>
                    <a:lnTo>
                      <a:pt x="1501" y="628"/>
                    </a:lnTo>
                    <a:lnTo>
                      <a:pt x="1493" y="628"/>
                    </a:lnTo>
                    <a:lnTo>
                      <a:pt x="1487" y="632"/>
                    </a:lnTo>
                    <a:lnTo>
                      <a:pt x="1458" y="638"/>
                    </a:lnTo>
                    <a:lnTo>
                      <a:pt x="1430" y="645"/>
                    </a:lnTo>
                    <a:lnTo>
                      <a:pt x="1401" y="653"/>
                    </a:lnTo>
                    <a:lnTo>
                      <a:pt x="1373" y="662"/>
                    </a:lnTo>
                    <a:lnTo>
                      <a:pt x="1344" y="667"/>
                    </a:lnTo>
                    <a:lnTo>
                      <a:pt x="1315" y="669"/>
                    </a:lnTo>
                    <a:lnTo>
                      <a:pt x="1286" y="668"/>
                    </a:lnTo>
                    <a:lnTo>
                      <a:pt x="1258" y="662"/>
                    </a:lnTo>
                    <a:lnTo>
                      <a:pt x="1268" y="653"/>
                    </a:lnTo>
                    <a:lnTo>
                      <a:pt x="1281" y="648"/>
                    </a:lnTo>
                    <a:lnTo>
                      <a:pt x="1295" y="643"/>
                    </a:lnTo>
                    <a:lnTo>
                      <a:pt x="1309" y="641"/>
                    </a:lnTo>
                    <a:lnTo>
                      <a:pt x="1323" y="638"/>
                    </a:lnTo>
                    <a:lnTo>
                      <a:pt x="1337" y="636"/>
                    </a:lnTo>
                    <a:lnTo>
                      <a:pt x="1350" y="631"/>
                    </a:lnTo>
                    <a:lnTo>
                      <a:pt x="1364" y="628"/>
                    </a:lnTo>
                    <a:lnTo>
                      <a:pt x="1374" y="625"/>
                    </a:lnTo>
                    <a:lnTo>
                      <a:pt x="1385" y="623"/>
                    </a:lnTo>
                    <a:lnTo>
                      <a:pt x="1394" y="620"/>
                    </a:lnTo>
                    <a:lnTo>
                      <a:pt x="1402" y="612"/>
                    </a:lnTo>
                    <a:lnTo>
                      <a:pt x="1402" y="606"/>
                    </a:lnTo>
                    <a:lnTo>
                      <a:pt x="1401" y="601"/>
                    </a:lnTo>
                    <a:lnTo>
                      <a:pt x="1398" y="597"/>
                    </a:lnTo>
                    <a:lnTo>
                      <a:pt x="1394" y="596"/>
                    </a:lnTo>
                    <a:lnTo>
                      <a:pt x="1386" y="596"/>
                    </a:lnTo>
                    <a:lnTo>
                      <a:pt x="1377" y="600"/>
                    </a:lnTo>
                    <a:lnTo>
                      <a:pt x="1361" y="603"/>
                    </a:lnTo>
                    <a:lnTo>
                      <a:pt x="1347" y="607"/>
                    </a:lnTo>
                    <a:lnTo>
                      <a:pt x="1332" y="610"/>
                    </a:lnTo>
                    <a:lnTo>
                      <a:pt x="1318" y="614"/>
                    </a:lnTo>
                    <a:lnTo>
                      <a:pt x="1302" y="617"/>
                    </a:lnTo>
                    <a:lnTo>
                      <a:pt x="1288" y="621"/>
                    </a:lnTo>
                    <a:lnTo>
                      <a:pt x="1273" y="624"/>
                    </a:lnTo>
                    <a:lnTo>
                      <a:pt x="1259" y="628"/>
                    </a:lnTo>
                    <a:lnTo>
                      <a:pt x="1244" y="631"/>
                    </a:lnTo>
                    <a:lnTo>
                      <a:pt x="1229" y="635"/>
                    </a:lnTo>
                    <a:lnTo>
                      <a:pt x="1214" y="638"/>
                    </a:lnTo>
                    <a:lnTo>
                      <a:pt x="1198" y="642"/>
                    </a:lnTo>
                    <a:lnTo>
                      <a:pt x="1182" y="644"/>
                    </a:lnTo>
                    <a:lnTo>
                      <a:pt x="1168" y="644"/>
                    </a:lnTo>
                    <a:lnTo>
                      <a:pt x="1153" y="642"/>
                    </a:lnTo>
                    <a:lnTo>
                      <a:pt x="1139" y="639"/>
                    </a:lnTo>
                    <a:lnTo>
                      <a:pt x="1133" y="635"/>
                    </a:lnTo>
                    <a:lnTo>
                      <a:pt x="1127" y="635"/>
                    </a:lnTo>
                    <a:lnTo>
                      <a:pt x="1120" y="635"/>
                    </a:lnTo>
                    <a:lnTo>
                      <a:pt x="1112" y="635"/>
                    </a:lnTo>
                    <a:lnTo>
                      <a:pt x="1117" y="629"/>
                    </a:lnTo>
                    <a:lnTo>
                      <a:pt x="1124" y="626"/>
                    </a:lnTo>
                    <a:lnTo>
                      <a:pt x="1131" y="624"/>
                    </a:lnTo>
                    <a:lnTo>
                      <a:pt x="1139" y="623"/>
                    </a:lnTo>
                    <a:lnTo>
                      <a:pt x="1146" y="621"/>
                    </a:lnTo>
                    <a:lnTo>
                      <a:pt x="1153" y="619"/>
                    </a:lnTo>
                    <a:lnTo>
                      <a:pt x="1161" y="615"/>
                    </a:lnTo>
                    <a:lnTo>
                      <a:pt x="1168" y="612"/>
                    </a:lnTo>
                    <a:lnTo>
                      <a:pt x="1176" y="609"/>
                    </a:lnTo>
                    <a:lnTo>
                      <a:pt x="1186" y="608"/>
                    </a:lnTo>
                    <a:lnTo>
                      <a:pt x="1195" y="607"/>
                    </a:lnTo>
                    <a:lnTo>
                      <a:pt x="1205" y="607"/>
                    </a:lnTo>
                    <a:lnTo>
                      <a:pt x="1214" y="605"/>
                    </a:lnTo>
                    <a:lnTo>
                      <a:pt x="1223" y="603"/>
                    </a:lnTo>
                    <a:lnTo>
                      <a:pt x="1233" y="599"/>
                    </a:lnTo>
                    <a:lnTo>
                      <a:pt x="1243" y="596"/>
                    </a:lnTo>
                    <a:lnTo>
                      <a:pt x="1225" y="581"/>
                    </a:lnTo>
                    <a:lnTo>
                      <a:pt x="1208" y="575"/>
                    </a:lnTo>
                    <a:lnTo>
                      <a:pt x="1189" y="574"/>
                    </a:lnTo>
                    <a:lnTo>
                      <a:pt x="1170" y="580"/>
                    </a:lnTo>
                    <a:lnTo>
                      <a:pt x="1150" y="585"/>
                    </a:lnTo>
                    <a:lnTo>
                      <a:pt x="1130" y="592"/>
                    </a:lnTo>
                    <a:lnTo>
                      <a:pt x="1110" y="597"/>
                    </a:lnTo>
                    <a:lnTo>
                      <a:pt x="1092" y="600"/>
                    </a:lnTo>
                    <a:lnTo>
                      <a:pt x="1080" y="601"/>
                    </a:lnTo>
                    <a:lnTo>
                      <a:pt x="1068" y="603"/>
                    </a:lnTo>
                    <a:lnTo>
                      <a:pt x="1055" y="606"/>
                    </a:lnTo>
                    <a:lnTo>
                      <a:pt x="1043" y="609"/>
                    </a:lnTo>
                    <a:lnTo>
                      <a:pt x="1031" y="609"/>
                    </a:lnTo>
                    <a:lnTo>
                      <a:pt x="1020" y="608"/>
                    </a:lnTo>
                    <a:lnTo>
                      <a:pt x="1009" y="603"/>
                    </a:lnTo>
                    <a:lnTo>
                      <a:pt x="1003" y="596"/>
                    </a:lnTo>
                    <a:lnTo>
                      <a:pt x="1019" y="588"/>
                    </a:lnTo>
                    <a:lnTo>
                      <a:pt x="1037" y="582"/>
                    </a:lnTo>
                    <a:lnTo>
                      <a:pt x="1054" y="577"/>
                    </a:lnTo>
                    <a:lnTo>
                      <a:pt x="1074" y="572"/>
                    </a:lnTo>
                    <a:lnTo>
                      <a:pt x="1091" y="567"/>
                    </a:lnTo>
                    <a:lnTo>
                      <a:pt x="1109" y="561"/>
                    </a:lnTo>
                    <a:lnTo>
                      <a:pt x="1127" y="554"/>
                    </a:lnTo>
                    <a:lnTo>
                      <a:pt x="1146" y="548"/>
                    </a:lnTo>
                    <a:lnTo>
                      <a:pt x="1140" y="542"/>
                    </a:lnTo>
                    <a:lnTo>
                      <a:pt x="1134" y="540"/>
                    </a:lnTo>
                    <a:lnTo>
                      <a:pt x="1126" y="538"/>
                    </a:lnTo>
                    <a:lnTo>
                      <a:pt x="1121" y="536"/>
                    </a:lnTo>
                    <a:lnTo>
                      <a:pt x="1091" y="540"/>
                    </a:lnTo>
                    <a:lnTo>
                      <a:pt x="1062" y="546"/>
                    </a:lnTo>
                    <a:lnTo>
                      <a:pt x="1033" y="553"/>
                    </a:lnTo>
                    <a:lnTo>
                      <a:pt x="1005" y="560"/>
                    </a:lnTo>
                    <a:lnTo>
                      <a:pt x="976" y="566"/>
                    </a:lnTo>
                    <a:lnTo>
                      <a:pt x="947" y="571"/>
                    </a:lnTo>
                    <a:lnTo>
                      <a:pt x="918" y="573"/>
                    </a:lnTo>
                    <a:lnTo>
                      <a:pt x="889" y="573"/>
                    </a:lnTo>
                    <a:lnTo>
                      <a:pt x="885" y="569"/>
                    </a:lnTo>
                    <a:lnTo>
                      <a:pt x="882" y="569"/>
                    </a:lnTo>
                    <a:lnTo>
                      <a:pt x="878" y="569"/>
                    </a:lnTo>
                    <a:lnTo>
                      <a:pt x="875" y="569"/>
                    </a:lnTo>
                    <a:lnTo>
                      <a:pt x="877" y="563"/>
                    </a:lnTo>
                    <a:lnTo>
                      <a:pt x="892" y="557"/>
                    </a:lnTo>
                    <a:lnTo>
                      <a:pt x="907" y="552"/>
                    </a:lnTo>
                    <a:lnTo>
                      <a:pt x="923" y="546"/>
                    </a:lnTo>
                    <a:lnTo>
                      <a:pt x="939" y="542"/>
                    </a:lnTo>
                    <a:lnTo>
                      <a:pt x="954" y="536"/>
                    </a:lnTo>
                    <a:lnTo>
                      <a:pt x="970" y="531"/>
                    </a:lnTo>
                    <a:lnTo>
                      <a:pt x="988" y="528"/>
                    </a:lnTo>
                    <a:lnTo>
                      <a:pt x="1005" y="525"/>
                    </a:lnTo>
                    <a:lnTo>
                      <a:pt x="1011" y="520"/>
                    </a:lnTo>
                    <a:lnTo>
                      <a:pt x="992" y="510"/>
                    </a:lnTo>
                    <a:lnTo>
                      <a:pt x="974" y="508"/>
                    </a:lnTo>
                    <a:lnTo>
                      <a:pt x="954" y="509"/>
                    </a:lnTo>
                    <a:lnTo>
                      <a:pt x="936" y="514"/>
                    </a:lnTo>
                    <a:lnTo>
                      <a:pt x="915" y="520"/>
                    </a:lnTo>
                    <a:lnTo>
                      <a:pt x="895" y="526"/>
                    </a:lnTo>
                    <a:lnTo>
                      <a:pt x="875" y="529"/>
                    </a:lnTo>
                    <a:lnTo>
                      <a:pt x="854" y="531"/>
                    </a:lnTo>
                    <a:lnTo>
                      <a:pt x="841" y="535"/>
                    </a:lnTo>
                    <a:lnTo>
                      <a:pt x="829" y="536"/>
                    </a:lnTo>
                    <a:lnTo>
                      <a:pt x="816" y="535"/>
                    </a:lnTo>
                    <a:lnTo>
                      <a:pt x="805" y="532"/>
                    </a:lnTo>
                    <a:lnTo>
                      <a:pt x="792" y="529"/>
                    </a:lnTo>
                    <a:lnTo>
                      <a:pt x="780" y="526"/>
                    </a:lnTo>
                    <a:lnTo>
                      <a:pt x="767" y="522"/>
                    </a:lnTo>
                    <a:lnTo>
                      <a:pt x="756" y="520"/>
                    </a:lnTo>
                    <a:lnTo>
                      <a:pt x="751" y="514"/>
                    </a:lnTo>
                    <a:lnTo>
                      <a:pt x="746" y="510"/>
                    </a:lnTo>
                    <a:lnTo>
                      <a:pt x="741" y="509"/>
                    </a:lnTo>
                    <a:lnTo>
                      <a:pt x="736" y="513"/>
                    </a:lnTo>
                    <a:lnTo>
                      <a:pt x="726" y="511"/>
                    </a:lnTo>
                    <a:lnTo>
                      <a:pt x="716" y="510"/>
                    </a:lnTo>
                    <a:lnTo>
                      <a:pt x="707" y="509"/>
                    </a:lnTo>
                    <a:lnTo>
                      <a:pt x="698" y="508"/>
                    </a:lnTo>
                    <a:lnTo>
                      <a:pt x="688" y="506"/>
                    </a:lnTo>
                    <a:lnTo>
                      <a:pt x="680" y="504"/>
                    </a:lnTo>
                    <a:lnTo>
                      <a:pt x="670" y="502"/>
                    </a:lnTo>
                    <a:lnTo>
                      <a:pt x="661" y="502"/>
                    </a:lnTo>
                    <a:lnTo>
                      <a:pt x="674" y="496"/>
                    </a:lnTo>
                    <a:lnTo>
                      <a:pt x="687" y="490"/>
                    </a:lnTo>
                    <a:lnTo>
                      <a:pt x="700" y="485"/>
                    </a:lnTo>
                    <a:lnTo>
                      <a:pt x="714" y="481"/>
                    </a:lnTo>
                    <a:lnTo>
                      <a:pt x="727" y="477"/>
                    </a:lnTo>
                    <a:lnTo>
                      <a:pt x="740" y="472"/>
                    </a:lnTo>
                    <a:lnTo>
                      <a:pt x="754" y="469"/>
                    </a:lnTo>
                    <a:lnTo>
                      <a:pt x="769" y="466"/>
                    </a:lnTo>
                    <a:lnTo>
                      <a:pt x="781" y="457"/>
                    </a:lnTo>
                    <a:lnTo>
                      <a:pt x="778" y="453"/>
                    </a:lnTo>
                    <a:lnTo>
                      <a:pt x="763" y="456"/>
                    </a:lnTo>
                    <a:lnTo>
                      <a:pt x="749" y="459"/>
                    </a:lnTo>
                    <a:lnTo>
                      <a:pt x="734" y="463"/>
                    </a:lnTo>
                    <a:lnTo>
                      <a:pt x="721" y="466"/>
                    </a:lnTo>
                    <a:lnTo>
                      <a:pt x="706" y="467"/>
                    </a:lnTo>
                    <a:lnTo>
                      <a:pt x="692" y="469"/>
                    </a:lnTo>
                    <a:lnTo>
                      <a:pt x="677" y="469"/>
                    </a:lnTo>
                    <a:lnTo>
                      <a:pt x="664" y="469"/>
                    </a:lnTo>
                    <a:lnTo>
                      <a:pt x="661" y="459"/>
                    </a:lnTo>
                    <a:lnTo>
                      <a:pt x="659" y="455"/>
                    </a:lnTo>
                    <a:lnTo>
                      <a:pt x="654" y="453"/>
                    </a:lnTo>
                    <a:lnTo>
                      <a:pt x="649" y="454"/>
                    </a:lnTo>
                    <a:lnTo>
                      <a:pt x="642" y="454"/>
                    </a:lnTo>
                    <a:lnTo>
                      <a:pt x="636" y="456"/>
                    </a:lnTo>
                    <a:lnTo>
                      <a:pt x="629" y="458"/>
                    </a:lnTo>
                    <a:lnTo>
                      <a:pt x="624" y="459"/>
                    </a:lnTo>
                    <a:lnTo>
                      <a:pt x="608" y="463"/>
                    </a:lnTo>
                    <a:lnTo>
                      <a:pt x="592" y="468"/>
                    </a:lnTo>
                    <a:lnTo>
                      <a:pt x="574" y="472"/>
                    </a:lnTo>
                    <a:lnTo>
                      <a:pt x="558" y="477"/>
                    </a:lnTo>
                    <a:lnTo>
                      <a:pt x="541" y="479"/>
                    </a:lnTo>
                    <a:lnTo>
                      <a:pt x="524" y="479"/>
                    </a:lnTo>
                    <a:lnTo>
                      <a:pt x="508" y="475"/>
                    </a:lnTo>
                    <a:lnTo>
                      <a:pt x="494" y="469"/>
                    </a:lnTo>
                    <a:lnTo>
                      <a:pt x="509" y="463"/>
                    </a:lnTo>
                    <a:lnTo>
                      <a:pt x="524" y="456"/>
                    </a:lnTo>
                    <a:lnTo>
                      <a:pt x="540" y="450"/>
                    </a:lnTo>
                    <a:lnTo>
                      <a:pt x="556" y="443"/>
                    </a:lnTo>
                    <a:lnTo>
                      <a:pt x="571" y="437"/>
                    </a:lnTo>
                    <a:lnTo>
                      <a:pt x="587" y="431"/>
                    </a:lnTo>
                    <a:lnTo>
                      <a:pt x="603" y="426"/>
                    </a:lnTo>
                    <a:lnTo>
                      <a:pt x="621" y="422"/>
                    </a:lnTo>
                    <a:lnTo>
                      <a:pt x="625" y="417"/>
                    </a:lnTo>
                    <a:lnTo>
                      <a:pt x="626" y="413"/>
                    </a:lnTo>
                    <a:lnTo>
                      <a:pt x="627" y="407"/>
                    </a:lnTo>
                    <a:lnTo>
                      <a:pt x="632" y="403"/>
                    </a:lnTo>
                    <a:lnTo>
                      <a:pt x="624" y="402"/>
                    </a:lnTo>
                    <a:lnTo>
                      <a:pt x="614" y="402"/>
                    </a:lnTo>
                    <a:lnTo>
                      <a:pt x="603" y="403"/>
                    </a:lnTo>
                    <a:lnTo>
                      <a:pt x="596" y="408"/>
                    </a:lnTo>
                    <a:lnTo>
                      <a:pt x="575" y="413"/>
                    </a:lnTo>
                    <a:lnTo>
                      <a:pt x="556" y="418"/>
                    </a:lnTo>
                    <a:lnTo>
                      <a:pt x="537" y="424"/>
                    </a:lnTo>
                    <a:lnTo>
                      <a:pt x="517" y="429"/>
                    </a:lnTo>
                    <a:lnTo>
                      <a:pt x="497" y="433"/>
                    </a:lnTo>
                    <a:lnTo>
                      <a:pt x="476" y="438"/>
                    </a:lnTo>
                    <a:lnTo>
                      <a:pt x="457" y="442"/>
                    </a:lnTo>
                    <a:lnTo>
                      <a:pt x="438" y="449"/>
                    </a:lnTo>
                    <a:lnTo>
                      <a:pt x="428" y="444"/>
                    </a:lnTo>
                    <a:lnTo>
                      <a:pt x="419" y="441"/>
                    </a:lnTo>
                    <a:lnTo>
                      <a:pt x="410" y="439"/>
                    </a:lnTo>
                    <a:lnTo>
                      <a:pt x="401" y="437"/>
                    </a:lnTo>
                    <a:lnTo>
                      <a:pt x="411" y="432"/>
                    </a:lnTo>
                    <a:lnTo>
                      <a:pt x="422" y="428"/>
                    </a:lnTo>
                    <a:lnTo>
                      <a:pt x="432" y="424"/>
                    </a:lnTo>
                    <a:lnTo>
                      <a:pt x="443" y="421"/>
                    </a:lnTo>
                    <a:lnTo>
                      <a:pt x="453" y="415"/>
                    </a:lnTo>
                    <a:lnTo>
                      <a:pt x="463" y="411"/>
                    </a:lnTo>
                    <a:lnTo>
                      <a:pt x="474" y="407"/>
                    </a:lnTo>
                    <a:lnTo>
                      <a:pt x="486" y="403"/>
                    </a:lnTo>
                    <a:lnTo>
                      <a:pt x="486" y="397"/>
                    </a:lnTo>
                    <a:lnTo>
                      <a:pt x="484" y="393"/>
                    </a:lnTo>
                    <a:lnTo>
                      <a:pt x="465" y="397"/>
                    </a:lnTo>
                    <a:lnTo>
                      <a:pt x="445" y="403"/>
                    </a:lnTo>
                    <a:lnTo>
                      <a:pt x="426" y="410"/>
                    </a:lnTo>
                    <a:lnTo>
                      <a:pt x="408" y="417"/>
                    </a:lnTo>
                    <a:lnTo>
                      <a:pt x="388" y="421"/>
                    </a:lnTo>
                    <a:lnTo>
                      <a:pt x="369" y="423"/>
                    </a:lnTo>
                    <a:lnTo>
                      <a:pt x="349" y="418"/>
                    </a:lnTo>
                    <a:lnTo>
                      <a:pt x="332" y="410"/>
                    </a:lnTo>
                    <a:lnTo>
                      <a:pt x="324" y="412"/>
                    </a:lnTo>
                    <a:lnTo>
                      <a:pt x="317" y="413"/>
                    </a:lnTo>
                    <a:lnTo>
                      <a:pt x="311" y="412"/>
                    </a:lnTo>
                    <a:lnTo>
                      <a:pt x="304" y="410"/>
                    </a:lnTo>
                    <a:lnTo>
                      <a:pt x="298" y="407"/>
                    </a:lnTo>
                    <a:lnTo>
                      <a:pt x="291" y="403"/>
                    </a:lnTo>
                    <a:lnTo>
                      <a:pt x="285" y="400"/>
                    </a:lnTo>
                    <a:lnTo>
                      <a:pt x="278" y="399"/>
                    </a:lnTo>
                    <a:lnTo>
                      <a:pt x="298" y="393"/>
                    </a:lnTo>
                    <a:lnTo>
                      <a:pt x="317" y="386"/>
                    </a:lnTo>
                    <a:lnTo>
                      <a:pt x="336" y="380"/>
                    </a:lnTo>
                    <a:lnTo>
                      <a:pt x="356" y="373"/>
                    </a:lnTo>
                    <a:lnTo>
                      <a:pt x="374" y="365"/>
                    </a:lnTo>
                    <a:lnTo>
                      <a:pt x="394" y="357"/>
                    </a:lnTo>
                    <a:lnTo>
                      <a:pt x="412" y="347"/>
                    </a:lnTo>
                    <a:lnTo>
                      <a:pt x="430" y="339"/>
                    </a:lnTo>
                    <a:lnTo>
                      <a:pt x="434" y="337"/>
                    </a:lnTo>
                    <a:lnTo>
                      <a:pt x="426" y="325"/>
                    </a:lnTo>
                    <a:lnTo>
                      <a:pt x="417" y="321"/>
                    </a:lnTo>
                    <a:lnTo>
                      <a:pt x="408" y="321"/>
                    </a:lnTo>
                    <a:lnTo>
                      <a:pt x="398" y="324"/>
                    </a:lnTo>
                    <a:lnTo>
                      <a:pt x="387" y="328"/>
                    </a:lnTo>
                    <a:lnTo>
                      <a:pt x="377" y="332"/>
                    </a:lnTo>
                    <a:lnTo>
                      <a:pt x="368" y="336"/>
                    </a:lnTo>
                    <a:lnTo>
                      <a:pt x="358" y="337"/>
                    </a:lnTo>
                    <a:lnTo>
                      <a:pt x="339" y="340"/>
                    </a:lnTo>
                    <a:lnTo>
                      <a:pt x="319" y="346"/>
                    </a:lnTo>
                    <a:lnTo>
                      <a:pt x="300" y="352"/>
                    </a:lnTo>
                    <a:lnTo>
                      <a:pt x="282" y="357"/>
                    </a:lnTo>
                    <a:lnTo>
                      <a:pt x="262" y="360"/>
                    </a:lnTo>
                    <a:lnTo>
                      <a:pt x="243" y="365"/>
                    </a:lnTo>
                    <a:lnTo>
                      <a:pt x="225" y="366"/>
                    </a:lnTo>
                    <a:lnTo>
                      <a:pt x="206" y="366"/>
                    </a:lnTo>
                    <a:lnTo>
                      <a:pt x="188" y="356"/>
                    </a:lnTo>
                    <a:lnTo>
                      <a:pt x="202" y="350"/>
                    </a:lnTo>
                    <a:lnTo>
                      <a:pt x="218" y="343"/>
                    </a:lnTo>
                    <a:lnTo>
                      <a:pt x="234" y="337"/>
                    </a:lnTo>
                    <a:lnTo>
                      <a:pt x="251" y="330"/>
                    </a:lnTo>
                    <a:lnTo>
                      <a:pt x="268" y="324"/>
                    </a:lnTo>
                    <a:lnTo>
                      <a:pt x="286" y="318"/>
                    </a:lnTo>
                    <a:lnTo>
                      <a:pt x="302" y="312"/>
                    </a:lnTo>
                    <a:lnTo>
                      <a:pt x="320" y="307"/>
                    </a:lnTo>
                    <a:lnTo>
                      <a:pt x="318" y="301"/>
                    </a:lnTo>
                    <a:lnTo>
                      <a:pt x="315" y="298"/>
                    </a:lnTo>
                    <a:lnTo>
                      <a:pt x="311" y="294"/>
                    </a:lnTo>
                    <a:lnTo>
                      <a:pt x="307" y="289"/>
                    </a:lnTo>
                    <a:lnTo>
                      <a:pt x="286" y="294"/>
                    </a:lnTo>
                    <a:lnTo>
                      <a:pt x="265" y="299"/>
                    </a:lnTo>
                    <a:lnTo>
                      <a:pt x="244" y="304"/>
                    </a:lnTo>
                    <a:lnTo>
                      <a:pt x="223" y="310"/>
                    </a:lnTo>
                    <a:lnTo>
                      <a:pt x="202" y="314"/>
                    </a:lnTo>
                    <a:lnTo>
                      <a:pt x="180" y="319"/>
                    </a:lnTo>
                    <a:lnTo>
                      <a:pt x="159" y="323"/>
                    </a:lnTo>
                    <a:lnTo>
                      <a:pt x="138" y="327"/>
                    </a:lnTo>
                    <a:lnTo>
                      <a:pt x="129" y="324"/>
                    </a:lnTo>
                    <a:lnTo>
                      <a:pt x="119" y="322"/>
                    </a:lnTo>
                    <a:lnTo>
                      <a:pt x="108" y="318"/>
                    </a:lnTo>
                    <a:lnTo>
                      <a:pt x="99" y="316"/>
                    </a:lnTo>
                    <a:lnTo>
                      <a:pt x="120" y="307"/>
                    </a:lnTo>
                    <a:lnTo>
                      <a:pt x="143" y="298"/>
                    </a:lnTo>
                    <a:lnTo>
                      <a:pt x="165" y="289"/>
                    </a:lnTo>
                    <a:lnTo>
                      <a:pt x="188" y="283"/>
                    </a:lnTo>
                    <a:lnTo>
                      <a:pt x="210" y="274"/>
                    </a:lnTo>
                    <a:lnTo>
                      <a:pt x="232" y="269"/>
                    </a:lnTo>
                    <a:lnTo>
                      <a:pt x="255" y="263"/>
                    </a:lnTo>
                    <a:lnTo>
                      <a:pt x="278" y="260"/>
                    </a:lnTo>
                    <a:lnTo>
                      <a:pt x="282" y="257"/>
                    </a:lnTo>
                    <a:lnTo>
                      <a:pt x="285" y="255"/>
                    </a:lnTo>
                    <a:lnTo>
                      <a:pt x="287" y="251"/>
                    </a:lnTo>
                    <a:lnTo>
                      <a:pt x="287" y="246"/>
                    </a:lnTo>
                    <a:lnTo>
                      <a:pt x="285" y="244"/>
                    </a:lnTo>
                    <a:lnTo>
                      <a:pt x="270" y="246"/>
                    </a:lnTo>
                    <a:lnTo>
                      <a:pt x="255" y="250"/>
                    </a:lnTo>
                    <a:lnTo>
                      <a:pt x="240" y="253"/>
                    </a:lnTo>
                    <a:lnTo>
                      <a:pt x="225" y="258"/>
                    </a:lnTo>
                    <a:lnTo>
                      <a:pt x="210" y="260"/>
                    </a:lnTo>
                    <a:lnTo>
                      <a:pt x="196" y="261"/>
                    </a:lnTo>
                    <a:lnTo>
                      <a:pt x="180" y="260"/>
                    </a:lnTo>
                    <a:lnTo>
                      <a:pt x="168" y="256"/>
                    </a:lnTo>
                    <a:lnTo>
                      <a:pt x="145" y="256"/>
                    </a:lnTo>
                    <a:lnTo>
                      <a:pt x="126" y="259"/>
                    </a:lnTo>
                    <a:lnTo>
                      <a:pt x="106" y="263"/>
                    </a:lnTo>
                    <a:lnTo>
                      <a:pt x="87" y="270"/>
                    </a:lnTo>
                    <a:lnTo>
                      <a:pt x="66" y="274"/>
                    </a:lnTo>
                    <a:lnTo>
                      <a:pt x="47" y="279"/>
                    </a:lnTo>
                    <a:lnTo>
                      <a:pt x="27" y="282"/>
                    </a:lnTo>
                    <a:lnTo>
                      <a:pt x="6" y="283"/>
                    </a:lnTo>
                    <a:lnTo>
                      <a:pt x="1" y="275"/>
                    </a:lnTo>
                    <a:lnTo>
                      <a:pt x="4" y="267"/>
                    </a:lnTo>
                    <a:lnTo>
                      <a:pt x="9" y="263"/>
                    </a:lnTo>
                    <a:lnTo>
                      <a:pt x="17" y="261"/>
                    </a:lnTo>
                    <a:lnTo>
                      <a:pt x="23" y="260"/>
                    </a:lnTo>
                    <a:lnTo>
                      <a:pt x="32" y="259"/>
                    </a:lnTo>
                    <a:lnTo>
                      <a:pt x="38" y="256"/>
                    </a:lnTo>
                    <a:lnTo>
                      <a:pt x="46" y="254"/>
                    </a:lnTo>
                    <a:lnTo>
                      <a:pt x="52" y="251"/>
                    </a:lnTo>
                    <a:lnTo>
                      <a:pt x="58" y="246"/>
                    </a:lnTo>
                    <a:lnTo>
                      <a:pt x="49" y="242"/>
                    </a:lnTo>
                    <a:lnTo>
                      <a:pt x="42" y="242"/>
                    </a:lnTo>
                    <a:lnTo>
                      <a:pt x="33" y="243"/>
                    </a:lnTo>
                    <a:lnTo>
                      <a:pt x="24" y="245"/>
                    </a:lnTo>
                    <a:lnTo>
                      <a:pt x="16" y="245"/>
                    </a:lnTo>
                    <a:lnTo>
                      <a:pt x="9" y="246"/>
                    </a:lnTo>
                    <a:lnTo>
                      <a:pt x="3" y="243"/>
                    </a:lnTo>
                    <a:lnTo>
                      <a:pt x="0" y="238"/>
                    </a:lnTo>
                    <a:lnTo>
                      <a:pt x="23" y="220"/>
                    </a:lnTo>
                    <a:lnTo>
                      <a:pt x="50" y="208"/>
                    </a:lnTo>
                    <a:lnTo>
                      <a:pt x="76" y="197"/>
                    </a:lnTo>
                    <a:lnTo>
                      <a:pt x="104" y="190"/>
                    </a:lnTo>
                    <a:lnTo>
                      <a:pt x="132" y="184"/>
                    </a:lnTo>
                    <a:lnTo>
                      <a:pt x="161" y="180"/>
                    </a:lnTo>
                    <a:lnTo>
                      <a:pt x="190" y="175"/>
                    </a:lnTo>
                    <a:lnTo>
                      <a:pt x="219" y="172"/>
                    </a:lnTo>
                    <a:lnTo>
                      <a:pt x="226" y="162"/>
                    </a:lnTo>
                    <a:lnTo>
                      <a:pt x="235" y="156"/>
                    </a:lnTo>
                    <a:lnTo>
                      <a:pt x="245" y="152"/>
                    </a:lnTo>
                    <a:lnTo>
                      <a:pt x="256" y="149"/>
                    </a:lnTo>
                    <a:lnTo>
                      <a:pt x="265" y="146"/>
                    </a:lnTo>
                    <a:lnTo>
                      <a:pt x="275" y="145"/>
                    </a:lnTo>
                    <a:lnTo>
                      <a:pt x="285" y="143"/>
                    </a:lnTo>
                    <a:lnTo>
                      <a:pt x="296" y="141"/>
                    </a:lnTo>
                    <a:lnTo>
                      <a:pt x="357" y="126"/>
                    </a:lnTo>
                    <a:lnTo>
                      <a:pt x="419" y="114"/>
                    </a:lnTo>
                    <a:lnTo>
                      <a:pt x="482" y="103"/>
                    </a:lnTo>
                    <a:lnTo>
                      <a:pt x="546" y="96"/>
                    </a:lnTo>
                    <a:lnTo>
                      <a:pt x="610" y="88"/>
                    </a:lnTo>
                    <a:lnTo>
                      <a:pt x="674" y="83"/>
                    </a:lnTo>
                    <a:lnTo>
                      <a:pt x="739" y="76"/>
                    </a:lnTo>
                    <a:lnTo>
                      <a:pt x="805" y="71"/>
                    </a:lnTo>
                    <a:lnTo>
                      <a:pt x="822" y="66"/>
                    </a:lnTo>
                    <a:lnTo>
                      <a:pt x="839" y="60"/>
                    </a:lnTo>
                    <a:lnTo>
                      <a:pt x="856" y="55"/>
                    </a:lnTo>
                    <a:lnTo>
                      <a:pt x="875" y="50"/>
                    </a:lnTo>
                    <a:lnTo>
                      <a:pt x="892" y="45"/>
                    </a:lnTo>
                    <a:lnTo>
                      <a:pt x="910" y="42"/>
                    </a:lnTo>
                    <a:lnTo>
                      <a:pt x="929" y="39"/>
                    </a:lnTo>
                    <a:lnTo>
                      <a:pt x="949" y="38"/>
                    </a:lnTo>
                    <a:lnTo>
                      <a:pt x="990" y="33"/>
                    </a:lnTo>
                    <a:lnTo>
                      <a:pt x="1032" y="30"/>
                    </a:lnTo>
                    <a:lnTo>
                      <a:pt x="1073" y="26"/>
                    </a:lnTo>
                    <a:lnTo>
                      <a:pt x="1113" y="21"/>
                    </a:lnTo>
                    <a:lnTo>
                      <a:pt x="1154" y="16"/>
                    </a:lnTo>
                    <a:lnTo>
                      <a:pt x="1195" y="12"/>
                    </a:lnTo>
                    <a:lnTo>
                      <a:pt x="1236" y="6"/>
                    </a:lnTo>
                    <a:lnTo>
                      <a:pt x="1278" y="2"/>
                    </a:lnTo>
                    <a:lnTo>
                      <a:pt x="1291" y="3"/>
                    </a:lnTo>
                    <a:lnTo>
                      <a:pt x="1307" y="2"/>
                    </a:lnTo>
                    <a:lnTo>
                      <a:pt x="1323" y="1"/>
                    </a:lnTo>
                    <a:lnTo>
                      <a:pt x="1341" y="0"/>
                    </a:lnTo>
                    <a:lnTo>
                      <a:pt x="1356" y="0"/>
                    </a:lnTo>
                    <a:lnTo>
                      <a:pt x="1368" y="3"/>
                    </a:lnTo>
                    <a:lnTo>
                      <a:pt x="1378" y="11"/>
                    </a:lnTo>
                    <a:lnTo>
                      <a:pt x="1386" y="25"/>
                    </a:lnTo>
                    <a:close/>
                  </a:path>
                </a:pathLst>
              </a:custGeom>
              <a:solidFill>
                <a:srgbClr val="cf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24440" y="3387600"/>
                <a:ext cx="146160" cy="28800"/>
              </a:xfrm>
              <a:custGeom>
                <a:avLst/>
                <a:gdLst/>
                <a:ahLst/>
                <a:rect l="l" t="t" r="r" b="b"/>
                <a:pathLst>
                  <a:path w="184" h="37">
                    <a:moveTo>
                      <a:pt x="184" y="0"/>
                    </a:moveTo>
                    <a:lnTo>
                      <a:pt x="161" y="6"/>
                    </a:lnTo>
                    <a:lnTo>
                      <a:pt x="139" y="11"/>
                    </a:lnTo>
                    <a:lnTo>
                      <a:pt x="116" y="17"/>
                    </a:lnTo>
                    <a:lnTo>
                      <a:pt x="94" y="22"/>
                    </a:lnTo>
                    <a:lnTo>
                      <a:pt x="70" y="25"/>
                    </a:lnTo>
                    <a:lnTo>
                      <a:pt x="46" y="29"/>
                    </a:lnTo>
                    <a:lnTo>
                      <a:pt x="23" y="33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7" y="28"/>
                    </a:lnTo>
                    <a:lnTo>
                      <a:pt x="27" y="25"/>
                    </a:lnTo>
                    <a:lnTo>
                      <a:pt x="37" y="23"/>
                    </a:lnTo>
                    <a:lnTo>
                      <a:pt x="46" y="21"/>
                    </a:lnTo>
                    <a:lnTo>
                      <a:pt x="56" y="20"/>
                    </a:lnTo>
                    <a:lnTo>
                      <a:pt x="66" y="18"/>
                    </a:lnTo>
                    <a:lnTo>
                      <a:pt x="76" y="17"/>
                    </a:lnTo>
                    <a:lnTo>
                      <a:pt x="89" y="13"/>
                    </a:lnTo>
                    <a:lnTo>
                      <a:pt x="102" y="11"/>
                    </a:lnTo>
                    <a:lnTo>
                      <a:pt x="116" y="9"/>
                    </a:lnTo>
                    <a:lnTo>
                      <a:pt x="130" y="8"/>
                    </a:lnTo>
                    <a:lnTo>
                      <a:pt x="143" y="6"/>
                    </a:lnTo>
                    <a:lnTo>
                      <a:pt x="156" y="4"/>
                    </a:lnTo>
                    <a:lnTo>
                      <a:pt x="170" y="1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341784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70" y="2"/>
                    </a:moveTo>
                    <a:lnTo>
                      <a:pt x="61" y="1"/>
                    </a:lnTo>
                    <a:lnTo>
                      <a:pt x="53" y="3"/>
                    </a:lnTo>
                    <a:lnTo>
                      <a:pt x="45" y="6"/>
                    </a:lnTo>
                    <a:lnTo>
                      <a:pt x="37" y="9"/>
                    </a:lnTo>
                    <a:lnTo>
                      <a:pt x="27" y="10"/>
                    </a:lnTo>
                    <a:lnTo>
                      <a:pt x="19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5" y="4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02280" y="34513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3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94120" y="3460680"/>
                <a:ext cx="271800" cy="76320"/>
              </a:xfrm>
              <a:custGeom>
                <a:avLst/>
                <a:gdLst/>
                <a:ahLst/>
                <a:rect l="l" t="t" r="r" b="b"/>
                <a:pathLst>
                  <a:path w="342" h="97">
                    <a:moveTo>
                      <a:pt x="342" y="0"/>
                    </a:moveTo>
                    <a:lnTo>
                      <a:pt x="328" y="5"/>
                    </a:lnTo>
                    <a:lnTo>
                      <a:pt x="314" y="11"/>
                    </a:lnTo>
                    <a:lnTo>
                      <a:pt x="300" y="14"/>
                    </a:lnTo>
                    <a:lnTo>
                      <a:pt x="286" y="18"/>
                    </a:lnTo>
                    <a:lnTo>
                      <a:pt x="271" y="21"/>
                    </a:lnTo>
                    <a:lnTo>
                      <a:pt x="257" y="26"/>
                    </a:lnTo>
                    <a:lnTo>
                      <a:pt x="243" y="31"/>
                    </a:lnTo>
                    <a:lnTo>
                      <a:pt x="230" y="38"/>
                    </a:lnTo>
                    <a:lnTo>
                      <a:pt x="201" y="43"/>
                    </a:lnTo>
                    <a:lnTo>
                      <a:pt x="173" y="52"/>
                    </a:lnTo>
                    <a:lnTo>
                      <a:pt x="145" y="59"/>
                    </a:lnTo>
                    <a:lnTo>
                      <a:pt x="118" y="69"/>
                    </a:lnTo>
                    <a:lnTo>
                      <a:pt x="90" y="76"/>
                    </a:lnTo>
                    <a:lnTo>
                      <a:pt x="62" y="84"/>
                    </a:lnTo>
                    <a:lnTo>
                      <a:pt x="34" y="90"/>
                    </a:lnTo>
                    <a:lnTo>
                      <a:pt x="7" y="97"/>
                    </a:lnTo>
                    <a:lnTo>
                      <a:pt x="0" y="91"/>
                    </a:lnTo>
                    <a:lnTo>
                      <a:pt x="40" y="74"/>
                    </a:lnTo>
                    <a:lnTo>
                      <a:pt x="82" y="61"/>
                    </a:lnTo>
                    <a:lnTo>
                      <a:pt x="125" y="49"/>
                    </a:lnTo>
                    <a:lnTo>
                      <a:pt x="168" y="40"/>
                    </a:lnTo>
                    <a:lnTo>
                      <a:pt x="211" y="30"/>
                    </a:lnTo>
                    <a:lnTo>
                      <a:pt x="254" y="20"/>
                    </a:lnTo>
                    <a:lnTo>
                      <a:pt x="297" y="1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53200" y="34974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1"/>
                    </a:moveTo>
                    <a:lnTo>
                      <a:pt x="12" y="3"/>
                    </a:lnTo>
                    <a:lnTo>
                      <a:pt x="8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30800" y="3503520"/>
                <a:ext cx="115920" cy="30240"/>
              </a:xfrm>
              <a:custGeom>
                <a:avLst/>
                <a:gdLst/>
                <a:ahLst/>
                <a:rect l="l" t="t" r="r" b="b"/>
                <a:pathLst>
                  <a:path w="146" h="37">
                    <a:moveTo>
                      <a:pt x="146" y="0"/>
                    </a:moveTo>
                    <a:lnTo>
                      <a:pt x="127" y="5"/>
                    </a:lnTo>
                    <a:lnTo>
                      <a:pt x="110" y="12"/>
                    </a:lnTo>
                    <a:lnTo>
                      <a:pt x="92" y="18"/>
                    </a:lnTo>
                    <a:lnTo>
                      <a:pt x="75" y="24"/>
                    </a:lnTo>
                    <a:lnTo>
                      <a:pt x="56" y="28"/>
                    </a:lnTo>
                    <a:lnTo>
                      <a:pt x="38" y="32"/>
                    </a:lnTo>
                    <a:lnTo>
                      <a:pt x="19" y="35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6" y="29"/>
                    </a:lnTo>
                    <a:lnTo>
                      <a:pt x="26" y="26"/>
                    </a:lnTo>
                    <a:lnTo>
                      <a:pt x="36" y="22"/>
                    </a:lnTo>
                    <a:lnTo>
                      <a:pt x="46" y="19"/>
                    </a:lnTo>
                    <a:lnTo>
                      <a:pt x="55" y="18"/>
                    </a:lnTo>
                    <a:lnTo>
                      <a:pt x="65" y="16"/>
                    </a:lnTo>
                    <a:lnTo>
                      <a:pt x="76" y="15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1" y="9"/>
                    </a:lnTo>
                    <a:lnTo>
                      <a:pt x="111" y="7"/>
                    </a:lnTo>
                    <a:lnTo>
                      <a:pt x="119" y="4"/>
                    </a:lnTo>
                    <a:lnTo>
                      <a:pt x="128" y="2"/>
                    </a:lnTo>
                    <a:lnTo>
                      <a:pt x="13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5400" y="3519360"/>
                <a:ext cx="222120" cy="65160"/>
              </a:xfrm>
              <a:custGeom>
                <a:avLst/>
                <a:gdLst/>
                <a:ahLst/>
                <a:rect l="l" t="t" r="r" b="b"/>
                <a:pathLst>
                  <a:path w="280" h="83">
                    <a:moveTo>
                      <a:pt x="280" y="7"/>
                    </a:moveTo>
                    <a:lnTo>
                      <a:pt x="269" y="17"/>
                    </a:lnTo>
                    <a:lnTo>
                      <a:pt x="240" y="24"/>
                    </a:lnTo>
                    <a:lnTo>
                      <a:pt x="212" y="31"/>
                    </a:lnTo>
                    <a:lnTo>
                      <a:pt x="183" y="39"/>
                    </a:lnTo>
                    <a:lnTo>
                      <a:pt x="156" y="49"/>
                    </a:lnTo>
                    <a:lnTo>
                      <a:pt x="128" y="56"/>
                    </a:lnTo>
                    <a:lnTo>
                      <a:pt x="100" y="65"/>
                    </a:lnTo>
                    <a:lnTo>
                      <a:pt x="72" y="73"/>
                    </a:lnTo>
                    <a:lnTo>
                      <a:pt x="45" y="83"/>
                    </a:lnTo>
                    <a:lnTo>
                      <a:pt x="39" y="81"/>
                    </a:lnTo>
                    <a:lnTo>
                      <a:pt x="32" y="80"/>
                    </a:lnTo>
                    <a:lnTo>
                      <a:pt x="27" y="78"/>
                    </a:lnTo>
                    <a:lnTo>
                      <a:pt x="21" y="77"/>
                    </a:lnTo>
                    <a:lnTo>
                      <a:pt x="11" y="72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10" y="65"/>
                    </a:lnTo>
                    <a:lnTo>
                      <a:pt x="16" y="63"/>
                    </a:lnTo>
                    <a:lnTo>
                      <a:pt x="23" y="61"/>
                    </a:lnTo>
                    <a:lnTo>
                      <a:pt x="28" y="59"/>
                    </a:lnTo>
                    <a:lnTo>
                      <a:pt x="34" y="57"/>
                    </a:lnTo>
                    <a:lnTo>
                      <a:pt x="41" y="54"/>
                    </a:lnTo>
                    <a:lnTo>
                      <a:pt x="47" y="52"/>
                    </a:lnTo>
                    <a:lnTo>
                      <a:pt x="75" y="46"/>
                    </a:lnTo>
                    <a:lnTo>
                      <a:pt x="103" y="41"/>
                    </a:lnTo>
                    <a:lnTo>
                      <a:pt x="131" y="35"/>
                    </a:lnTo>
                    <a:lnTo>
                      <a:pt x="159" y="28"/>
                    </a:lnTo>
                    <a:lnTo>
                      <a:pt x="186" y="21"/>
                    </a:lnTo>
                    <a:lnTo>
                      <a:pt x="215" y="13"/>
                    </a:lnTo>
                    <a:lnTo>
                      <a:pt x="242" y="7"/>
                    </a:lnTo>
                    <a:lnTo>
                      <a:pt x="271" y="0"/>
                    </a:lnTo>
                    <a:lnTo>
                      <a:pt x="274" y="3"/>
                    </a:lnTo>
                    <a:lnTo>
                      <a:pt x="2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67280" y="3544920"/>
                <a:ext cx="219240" cy="61920"/>
              </a:xfrm>
              <a:custGeom>
                <a:avLst/>
                <a:gdLst/>
                <a:ahLst/>
                <a:rect l="l" t="t" r="r" b="b"/>
                <a:pathLst>
                  <a:path w="274" h="78">
                    <a:moveTo>
                      <a:pt x="274" y="8"/>
                    </a:moveTo>
                    <a:lnTo>
                      <a:pt x="239" y="14"/>
                    </a:lnTo>
                    <a:lnTo>
                      <a:pt x="204" y="24"/>
                    </a:lnTo>
                    <a:lnTo>
                      <a:pt x="170" y="34"/>
                    </a:lnTo>
                    <a:lnTo>
                      <a:pt x="137" y="45"/>
                    </a:lnTo>
                    <a:lnTo>
                      <a:pt x="102" y="53"/>
                    </a:lnTo>
                    <a:lnTo>
                      <a:pt x="69" y="63"/>
                    </a:lnTo>
                    <a:lnTo>
                      <a:pt x="34" y="70"/>
                    </a:lnTo>
                    <a:lnTo>
                      <a:pt x="1" y="78"/>
                    </a:lnTo>
                    <a:lnTo>
                      <a:pt x="0" y="69"/>
                    </a:lnTo>
                    <a:lnTo>
                      <a:pt x="2" y="65"/>
                    </a:lnTo>
                    <a:lnTo>
                      <a:pt x="4" y="62"/>
                    </a:lnTo>
                    <a:lnTo>
                      <a:pt x="10" y="62"/>
                    </a:lnTo>
                    <a:lnTo>
                      <a:pt x="13" y="61"/>
                    </a:lnTo>
                    <a:lnTo>
                      <a:pt x="18" y="60"/>
                    </a:lnTo>
                    <a:lnTo>
                      <a:pt x="24" y="57"/>
                    </a:lnTo>
                    <a:lnTo>
                      <a:pt x="28" y="55"/>
                    </a:lnTo>
                    <a:lnTo>
                      <a:pt x="44" y="51"/>
                    </a:lnTo>
                    <a:lnTo>
                      <a:pt x="60" y="47"/>
                    </a:lnTo>
                    <a:lnTo>
                      <a:pt x="76" y="42"/>
                    </a:lnTo>
                    <a:lnTo>
                      <a:pt x="92" y="39"/>
                    </a:lnTo>
                    <a:lnTo>
                      <a:pt x="107" y="35"/>
                    </a:lnTo>
                    <a:lnTo>
                      <a:pt x="124" y="32"/>
                    </a:lnTo>
                    <a:lnTo>
                      <a:pt x="140" y="27"/>
                    </a:lnTo>
                    <a:lnTo>
                      <a:pt x="156" y="24"/>
                    </a:lnTo>
                    <a:lnTo>
                      <a:pt x="170" y="20"/>
                    </a:lnTo>
                    <a:lnTo>
                      <a:pt x="185" y="17"/>
                    </a:lnTo>
                    <a:lnTo>
                      <a:pt x="199" y="11"/>
                    </a:lnTo>
                    <a:lnTo>
                      <a:pt x="214" y="8"/>
                    </a:lnTo>
                    <a:lnTo>
                      <a:pt x="228" y="4"/>
                    </a:lnTo>
                    <a:lnTo>
                      <a:pt x="244" y="2"/>
                    </a:lnTo>
                    <a:lnTo>
                      <a:pt x="258" y="0"/>
                    </a:lnTo>
                    <a:lnTo>
                      <a:pt x="274" y="4"/>
                    </a:lnTo>
                    <a:lnTo>
                      <a:pt x="2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99200" y="356076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124" h="51">
                    <a:moveTo>
                      <a:pt x="124" y="0"/>
                    </a:moveTo>
                    <a:lnTo>
                      <a:pt x="110" y="6"/>
                    </a:lnTo>
                    <a:lnTo>
                      <a:pt x="96" y="13"/>
                    </a:lnTo>
                    <a:lnTo>
                      <a:pt x="82" y="19"/>
                    </a:lnTo>
                    <a:lnTo>
                      <a:pt x="68" y="26"/>
                    </a:lnTo>
                    <a:lnTo>
                      <a:pt x="53" y="32"/>
                    </a:lnTo>
                    <a:lnTo>
                      <a:pt x="39" y="39"/>
                    </a:lnTo>
                    <a:lnTo>
                      <a:pt x="25" y="45"/>
                    </a:lnTo>
                    <a:lnTo>
                      <a:pt x="13" y="51"/>
                    </a:lnTo>
                    <a:lnTo>
                      <a:pt x="6" y="42"/>
                    </a:lnTo>
                    <a:lnTo>
                      <a:pt x="0" y="35"/>
                    </a:lnTo>
                    <a:lnTo>
                      <a:pt x="6" y="28"/>
                    </a:lnTo>
                    <a:lnTo>
                      <a:pt x="15" y="28"/>
                    </a:lnTo>
                    <a:lnTo>
                      <a:pt x="23" y="28"/>
                    </a:lnTo>
                    <a:lnTo>
                      <a:pt x="33" y="25"/>
                    </a:lnTo>
                    <a:lnTo>
                      <a:pt x="43" y="19"/>
                    </a:lnTo>
                    <a:lnTo>
                      <a:pt x="55" y="16"/>
                    </a:lnTo>
                    <a:lnTo>
                      <a:pt x="65" y="13"/>
                    </a:lnTo>
                    <a:lnTo>
                      <a:pt x="77" y="11"/>
                    </a:lnTo>
                    <a:lnTo>
                      <a:pt x="88" y="7"/>
                    </a:lnTo>
                    <a:lnTo>
                      <a:pt x="101" y="5"/>
                    </a:lnTo>
                    <a:lnTo>
                      <a:pt x="112" y="2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6200" y="3571920"/>
                <a:ext cx="250920" cy="71280"/>
              </a:xfrm>
              <a:custGeom>
                <a:avLst/>
                <a:gdLst/>
                <a:ahLst/>
                <a:rect l="l" t="t" r="r" b="b"/>
                <a:pathLst>
                  <a:path w="316" h="88">
                    <a:moveTo>
                      <a:pt x="316" y="0"/>
                    </a:moveTo>
                    <a:lnTo>
                      <a:pt x="293" y="10"/>
                    </a:lnTo>
                    <a:lnTo>
                      <a:pt x="272" y="17"/>
                    </a:lnTo>
                    <a:lnTo>
                      <a:pt x="248" y="24"/>
                    </a:lnTo>
                    <a:lnTo>
                      <a:pt x="225" y="30"/>
                    </a:lnTo>
                    <a:lnTo>
                      <a:pt x="200" y="34"/>
                    </a:lnTo>
                    <a:lnTo>
                      <a:pt x="176" y="40"/>
                    </a:lnTo>
                    <a:lnTo>
                      <a:pt x="153" y="46"/>
                    </a:lnTo>
                    <a:lnTo>
                      <a:pt x="130" y="56"/>
                    </a:lnTo>
                    <a:lnTo>
                      <a:pt x="113" y="60"/>
                    </a:lnTo>
                    <a:lnTo>
                      <a:pt x="97" y="64"/>
                    </a:lnTo>
                    <a:lnTo>
                      <a:pt x="80" y="69"/>
                    </a:lnTo>
                    <a:lnTo>
                      <a:pt x="64" y="73"/>
                    </a:lnTo>
                    <a:lnTo>
                      <a:pt x="48" y="76"/>
                    </a:lnTo>
                    <a:lnTo>
                      <a:pt x="32" y="81"/>
                    </a:lnTo>
                    <a:lnTo>
                      <a:pt x="16" y="84"/>
                    </a:lnTo>
                    <a:lnTo>
                      <a:pt x="0" y="88"/>
                    </a:lnTo>
                    <a:lnTo>
                      <a:pt x="34" y="74"/>
                    </a:lnTo>
                    <a:lnTo>
                      <a:pt x="71" y="61"/>
                    </a:lnTo>
                    <a:lnTo>
                      <a:pt x="107" y="50"/>
                    </a:lnTo>
                    <a:lnTo>
                      <a:pt x="146" y="41"/>
                    </a:lnTo>
                    <a:lnTo>
                      <a:pt x="184" y="31"/>
                    </a:lnTo>
                    <a:lnTo>
                      <a:pt x="222" y="21"/>
                    </a:lnTo>
                    <a:lnTo>
                      <a:pt x="260" y="12"/>
                    </a:lnTo>
                    <a:lnTo>
                      <a:pt x="299" y="2"/>
                    </a:lnTo>
                    <a:lnTo>
                      <a:pt x="307" y="0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73840" y="3570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lnTo>
                      <a:pt x="31" y="3"/>
                    </a:lnTo>
                    <a:lnTo>
                      <a:pt x="21" y="7"/>
                    </a:lnTo>
                    <a:lnTo>
                      <a:pt x="10" y="10"/>
                    </a:lnTo>
                    <a:lnTo>
                      <a:pt x="0" y="12"/>
                    </a:lnTo>
                    <a:lnTo>
                      <a:pt x="9" y="8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92640" y="3579840"/>
                <a:ext cx="1376280" cy="1004760"/>
              </a:xfrm>
              <a:custGeom>
                <a:avLst/>
                <a:gdLst/>
                <a:ahLst/>
                <a:rect l="l" t="t" r="r" b="b"/>
                <a:pathLst>
                  <a:path w="1733" h="1266">
                    <a:moveTo>
                      <a:pt x="56" y="17"/>
                    </a:moveTo>
                    <a:lnTo>
                      <a:pt x="118" y="54"/>
                    </a:lnTo>
                    <a:lnTo>
                      <a:pt x="184" y="89"/>
                    </a:lnTo>
                    <a:lnTo>
                      <a:pt x="251" y="118"/>
                    </a:lnTo>
                    <a:lnTo>
                      <a:pt x="321" y="145"/>
                    </a:lnTo>
                    <a:lnTo>
                      <a:pt x="391" y="167"/>
                    </a:lnTo>
                    <a:lnTo>
                      <a:pt x="465" y="189"/>
                    </a:lnTo>
                    <a:lnTo>
                      <a:pt x="538" y="207"/>
                    </a:lnTo>
                    <a:lnTo>
                      <a:pt x="612" y="225"/>
                    </a:lnTo>
                    <a:lnTo>
                      <a:pt x="618" y="218"/>
                    </a:lnTo>
                    <a:lnTo>
                      <a:pt x="626" y="216"/>
                    </a:lnTo>
                    <a:lnTo>
                      <a:pt x="632" y="215"/>
                    </a:lnTo>
                    <a:lnTo>
                      <a:pt x="640" y="217"/>
                    </a:lnTo>
                    <a:lnTo>
                      <a:pt x="646" y="219"/>
                    </a:lnTo>
                    <a:lnTo>
                      <a:pt x="655" y="222"/>
                    </a:lnTo>
                    <a:lnTo>
                      <a:pt x="663" y="224"/>
                    </a:lnTo>
                    <a:lnTo>
                      <a:pt x="672" y="225"/>
                    </a:lnTo>
                    <a:lnTo>
                      <a:pt x="693" y="233"/>
                    </a:lnTo>
                    <a:lnTo>
                      <a:pt x="715" y="242"/>
                    </a:lnTo>
                    <a:lnTo>
                      <a:pt x="737" y="250"/>
                    </a:lnTo>
                    <a:lnTo>
                      <a:pt x="759" y="259"/>
                    </a:lnTo>
                    <a:lnTo>
                      <a:pt x="781" y="267"/>
                    </a:lnTo>
                    <a:lnTo>
                      <a:pt x="804" y="277"/>
                    </a:lnTo>
                    <a:lnTo>
                      <a:pt x="824" y="288"/>
                    </a:lnTo>
                    <a:lnTo>
                      <a:pt x="845" y="302"/>
                    </a:lnTo>
                    <a:lnTo>
                      <a:pt x="895" y="313"/>
                    </a:lnTo>
                    <a:lnTo>
                      <a:pt x="946" y="326"/>
                    </a:lnTo>
                    <a:lnTo>
                      <a:pt x="995" y="338"/>
                    </a:lnTo>
                    <a:lnTo>
                      <a:pt x="1046" y="353"/>
                    </a:lnTo>
                    <a:lnTo>
                      <a:pt x="1094" y="366"/>
                    </a:lnTo>
                    <a:lnTo>
                      <a:pt x="1144" y="381"/>
                    </a:lnTo>
                    <a:lnTo>
                      <a:pt x="1192" y="397"/>
                    </a:lnTo>
                    <a:lnTo>
                      <a:pt x="1243" y="412"/>
                    </a:lnTo>
                    <a:lnTo>
                      <a:pt x="1254" y="416"/>
                    </a:lnTo>
                    <a:lnTo>
                      <a:pt x="1267" y="422"/>
                    </a:lnTo>
                    <a:lnTo>
                      <a:pt x="1279" y="428"/>
                    </a:lnTo>
                    <a:lnTo>
                      <a:pt x="1292" y="434"/>
                    </a:lnTo>
                    <a:lnTo>
                      <a:pt x="1305" y="438"/>
                    </a:lnTo>
                    <a:lnTo>
                      <a:pt x="1318" y="443"/>
                    </a:lnTo>
                    <a:lnTo>
                      <a:pt x="1332" y="444"/>
                    </a:lnTo>
                    <a:lnTo>
                      <a:pt x="1346" y="445"/>
                    </a:lnTo>
                    <a:lnTo>
                      <a:pt x="1350" y="441"/>
                    </a:lnTo>
                    <a:lnTo>
                      <a:pt x="1365" y="446"/>
                    </a:lnTo>
                    <a:lnTo>
                      <a:pt x="1381" y="452"/>
                    </a:lnTo>
                    <a:lnTo>
                      <a:pt x="1398" y="458"/>
                    </a:lnTo>
                    <a:lnTo>
                      <a:pt x="1415" y="464"/>
                    </a:lnTo>
                    <a:lnTo>
                      <a:pt x="1431" y="470"/>
                    </a:lnTo>
                    <a:lnTo>
                      <a:pt x="1447" y="476"/>
                    </a:lnTo>
                    <a:lnTo>
                      <a:pt x="1464" y="480"/>
                    </a:lnTo>
                    <a:lnTo>
                      <a:pt x="1483" y="486"/>
                    </a:lnTo>
                    <a:lnTo>
                      <a:pt x="1501" y="494"/>
                    </a:lnTo>
                    <a:lnTo>
                      <a:pt x="1519" y="503"/>
                    </a:lnTo>
                    <a:lnTo>
                      <a:pt x="1539" y="511"/>
                    </a:lnTo>
                    <a:lnTo>
                      <a:pt x="1558" y="518"/>
                    </a:lnTo>
                    <a:lnTo>
                      <a:pt x="1577" y="523"/>
                    </a:lnTo>
                    <a:lnTo>
                      <a:pt x="1598" y="529"/>
                    </a:lnTo>
                    <a:lnTo>
                      <a:pt x="1619" y="533"/>
                    </a:lnTo>
                    <a:lnTo>
                      <a:pt x="1642" y="537"/>
                    </a:lnTo>
                    <a:lnTo>
                      <a:pt x="1648" y="541"/>
                    </a:lnTo>
                    <a:lnTo>
                      <a:pt x="1657" y="544"/>
                    </a:lnTo>
                    <a:lnTo>
                      <a:pt x="1665" y="547"/>
                    </a:lnTo>
                    <a:lnTo>
                      <a:pt x="1674" y="552"/>
                    </a:lnTo>
                    <a:lnTo>
                      <a:pt x="1681" y="557"/>
                    </a:lnTo>
                    <a:lnTo>
                      <a:pt x="1687" y="563"/>
                    </a:lnTo>
                    <a:lnTo>
                      <a:pt x="1692" y="570"/>
                    </a:lnTo>
                    <a:lnTo>
                      <a:pt x="1698" y="579"/>
                    </a:lnTo>
                    <a:lnTo>
                      <a:pt x="1706" y="578"/>
                    </a:lnTo>
                    <a:lnTo>
                      <a:pt x="1715" y="576"/>
                    </a:lnTo>
                    <a:lnTo>
                      <a:pt x="1724" y="572"/>
                    </a:lnTo>
                    <a:lnTo>
                      <a:pt x="1733" y="566"/>
                    </a:lnTo>
                    <a:lnTo>
                      <a:pt x="1732" y="597"/>
                    </a:lnTo>
                    <a:lnTo>
                      <a:pt x="1730" y="629"/>
                    </a:lnTo>
                    <a:lnTo>
                      <a:pt x="1728" y="661"/>
                    </a:lnTo>
                    <a:lnTo>
                      <a:pt x="1726" y="693"/>
                    </a:lnTo>
                    <a:lnTo>
                      <a:pt x="1723" y="725"/>
                    </a:lnTo>
                    <a:lnTo>
                      <a:pt x="1721" y="757"/>
                    </a:lnTo>
                    <a:lnTo>
                      <a:pt x="1721" y="788"/>
                    </a:lnTo>
                    <a:lnTo>
                      <a:pt x="1725" y="820"/>
                    </a:lnTo>
                    <a:lnTo>
                      <a:pt x="1724" y="825"/>
                    </a:lnTo>
                    <a:lnTo>
                      <a:pt x="1723" y="830"/>
                    </a:lnTo>
                    <a:lnTo>
                      <a:pt x="1723" y="837"/>
                    </a:lnTo>
                    <a:lnTo>
                      <a:pt x="1723" y="844"/>
                    </a:lnTo>
                    <a:lnTo>
                      <a:pt x="1721" y="850"/>
                    </a:lnTo>
                    <a:lnTo>
                      <a:pt x="1721" y="857"/>
                    </a:lnTo>
                    <a:lnTo>
                      <a:pt x="1720" y="864"/>
                    </a:lnTo>
                    <a:lnTo>
                      <a:pt x="1720" y="872"/>
                    </a:lnTo>
                    <a:lnTo>
                      <a:pt x="1720" y="877"/>
                    </a:lnTo>
                    <a:lnTo>
                      <a:pt x="1717" y="884"/>
                    </a:lnTo>
                    <a:lnTo>
                      <a:pt x="1715" y="889"/>
                    </a:lnTo>
                    <a:lnTo>
                      <a:pt x="1718" y="896"/>
                    </a:lnTo>
                    <a:lnTo>
                      <a:pt x="1714" y="901"/>
                    </a:lnTo>
                    <a:lnTo>
                      <a:pt x="1716" y="909"/>
                    </a:lnTo>
                    <a:lnTo>
                      <a:pt x="1717" y="916"/>
                    </a:lnTo>
                    <a:lnTo>
                      <a:pt x="1714" y="925"/>
                    </a:lnTo>
                    <a:lnTo>
                      <a:pt x="1714" y="960"/>
                    </a:lnTo>
                    <a:lnTo>
                      <a:pt x="1712" y="997"/>
                    </a:lnTo>
                    <a:lnTo>
                      <a:pt x="1709" y="1033"/>
                    </a:lnTo>
                    <a:lnTo>
                      <a:pt x="1705" y="1071"/>
                    </a:lnTo>
                    <a:lnTo>
                      <a:pt x="1702" y="1108"/>
                    </a:lnTo>
                    <a:lnTo>
                      <a:pt x="1701" y="1144"/>
                    </a:lnTo>
                    <a:lnTo>
                      <a:pt x="1703" y="1179"/>
                    </a:lnTo>
                    <a:lnTo>
                      <a:pt x="1710" y="1214"/>
                    </a:lnTo>
                    <a:lnTo>
                      <a:pt x="1707" y="1242"/>
                    </a:lnTo>
                    <a:lnTo>
                      <a:pt x="1699" y="1240"/>
                    </a:lnTo>
                    <a:lnTo>
                      <a:pt x="1691" y="1241"/>
                    </a:lnTo>
                    <a:lnTo>
                      <a:pt x="1688" y="1247"/>
                    </a:lnTo>
                    <a:lnTo>
                      <a:pt x="1684" y="1255"/>
                    </a:lnTo>
                    <a:lnTo>
                      <a:pt x="1676" y="1260"/>
                    </a:lnTo>
                    <a:lnTo>
                      <a:pt x="1669" y="1266"/>
                    </a:lnTo>
                    <a:lnTo>
                      <a:pt x="1661" y="1265"/>
                    </a:lnTo>
                    <a:lnTo>
                      <a:pt x="1655" y="1265"/>
                    </a:lnTo>
                    <a:lnTo>
                      <a:pt x="1649" y="1264"/>
                    </a:lnTo>
                    <a:lnTo>
                      <a:pt x="1644" y="1263"/>
                    </a:lnTo>
                    <a:lnTo>
                      <a:pt x="1632" y="1258"/>
                    </a:lnTo>
                    <a:lnTo>
                      <a:pt x="1621" y="1257"/>
                    </a:lnTo>
                    <a:lnTo>
                      <a:pt x="1615" y="1249"/>
                    </a:lnTo>
                    <a:lnTo>
                      <a:pt x="1577" y="1238"/>
                    </a:lnTo>
                    <a:lnTo>
                      <a:pt x="1542" y="1227"/>
                    </a:lnTo>
                    <a:lnTo>
                      <a:pt x="1506" y="1214"/>
                    </a:lnTo>
                    <a:lnTo>
                      <a:pt x="1473" y="1201"/>
                    </a:lnTo>
                    <a:lnTo>
                      <a:pt x="1437" y="1186"/>
                    </a:lnTo>
                    <a:lnTo>
                      <a:pt x="1403" y="1173"/>
                    </a:lnTo>
                    <a:lnTo>
                      <a:pt x="1368" y="1160"/>
                    </a:lnTo>
                    <a:lnTo>
                      <a:pt x="1334" y="1150"/>
                    </a:lnTo>
                    <a:lnTo>
                      <a:pt x="1311" y="1137"/>
                    </a:lnTo>
                    <a:lnTo>
                      <a:pt x="1290" y="1127"/>
                    </a:lnTo>
                    <a:lnTo>
                      <a:pt x="1266" y="1119"/>
                    </a:lnTo>
                    <a:lnTo>
                      <a:pt x="1244" y="1112"/>
                    </a:lnTo>
                    <a:lnTo>
                      <a:pt x="1221" y="1102"/>
                    </a:lnTo>
                    <a:lnTo>
                      <a:pt x="1200" y="1093"/>
                    </a:lnTo>
                    <a:lnTo>
                      <a:pt x="1180" y="1080"/>
                    </a:lnTo>
                    <a:lnTo>
                      <a:pt x="1164" y="1065"/>
                    </a:lnTo>
                    <a:lnTo>
                      <a:pt x="1145" y="1054"/>
                    </a:lnTo>
                    <a:lnTo>
                      <a:pt x="1125" y="1046"/>
                    </a:lnTo>
                    <a:lnTo>
                      <a:pt x="1106" y="1039"/>
                    </a:lnTo>
                    <a:lnTo>
                      <a:pt x="1087" y="1031"/>
                    </a:lnTo>
                    <a:lnTo>
                      <a:pt x="1067" y="1023"/>
                    </a:lnTo>
                    <a:lnTo>
                      <a:pt x="1048" y="1015"/>
                    </a:lnTo>
                    <a:lnTo>
                      <a:pt x="1028" y="1004"/>
                    </a:lnTo>
                    <a:lnTo>
                      <a:pt x="1011" y="995"/>
                    </a:lnTo>
                    <a:lnTo>
                      <a:pt x="1007" y="985"/>
                    </a:lnTo>
                    <a:lnTo>
                      <a:pt x="1002" y="979"/>
                    </a:lnTo>
                    <a:lnTo>
                      <a:pt x="994" y="973"/>
                    </a:lnTo>
                    <a:lnTo>
                      <a:pt x="988" y="970"/>
                    </a:lnTo>
                    <a:lnTo>
                      <a:pt x="979" y="967"/>
                    </a:lnTo>
                    <a:lnTo>
                      <a:pt x="970" y="963"/>
                    </a:lnTo>
                    <a:lnTo>
                      <a:pt x="962" y="960"/>
                    </a:lnTo>
                    <a:lnTo>
                      <a:pt x="955" y="957"/>
                    </a:lnTo>
                    <a:lnTo>
                      <a:pt x="823" y="903"/>
                    </a:lnTo>
                    <a:lnTo>
                      <a:pt x="813" y="908"/>
                    </a:lnTo>
                    <a:lnTo>
                      <a:pt x="805" y="906"/>
                    </a:lnTo>
                    <a:lnTo>
                      <a:pt x="797" y="903"/>
                    </a:lnTo>
                    <a:lnTo>
                      <a:pt x="790" y="901"/>
                    </a:lnTo>
                    <a:lnTo>
                      <a:pt x="709" y="867"/>
                    </a:lnTo>
                    <a:lnTo>
                      <a:pt x="630" y="832"/>
                    </a:lnTo>
                    <a:lnTo>
                      <a:pt x="552" y="796"/>
                    </a:lnTo>
                    <a:lnTo>
                      <a:pt x="474" y="759"/>
                    </a:lnTo>
                    <a:lnTo>
                      <a:pt x="397" y="720"/>
                    </a:lnTo>
                    <a:lnTo>
                      <a:pt x="320" y="681"/>
                    </a:lnTo>
                    <a:lnTo>
                      <a:pt x="245" y="639"/>
                    </a:lnTo>
                    <a:lnTo>
                      <a:pt x="172" y="596"/>
                    </a:lnTo>
                    <a:lnTo>
                      <a:pt x="156" y="590"/>
                    </a:lnTo>
                    <a:lnTo>
                      <a:pt x="141" y="585"/>
                    </a:lnTo>
                    <a:lnTo>
                      <a:pt x="124" y="579"/>
                    </a:lnTo>
                    <a:lnTo>
                      <a:pt x="111" y="574"/>
                    </a:lnTo>
                    <a:lnTo>
                      <a:pt x="94" y="568"/>
                    </a:lnTo>
                    <a:lnTo>
                      <a:pt x="79" y="564"/>
                    </a:lnTo>
                    <a:lnTo>
                      <a:pt x="63" y="561"/>
                    </a:lnTo>
                    <a:lnTo>
                      <a:pt x="47" y="560"/>
                    </a:lnTo>
                    <a:lnTo>
                      <a:pt x="34" y="550"/>
                    </a:lnTo>
                    <a:lnTo>
                      <a:pt x="24" y="540"/>
                    </a:lnTo>
                    <a:lnTo>
                      <a:pt x="18" y="527"/>
                    </a:lnTo>
                    <a:lnTo>
                      <a:pt x="16" y="515"/>
                    </a:lnTo>
                    <a:lnTo>
                      <a:pt x="14" y="500"/>
                    </a:lnTo>
                    <a:lnTo>
                      <a:pt x="14" y="486"/>
                    </a:lnTo>
                    <a:lnTo>
                      <a:pt x="14" y="471"/>
                    </a:lnTo>
                    <a:lnTo>
                      <a:pt x="14" y="457"/>
                    </a:lnTo>
                    <a:lnTo>
                      <a:pt x="14" y="428"/>
                    </a:lnTo>
                    <a:lnTo>
                      <a:pt x="15" y="401"/>
                    </a:lnTo>
                    <a:lnTo>
                      <a:pt x="15" y="373"/>
                    </a:lnTo>
                    <a:lnTo>
                      <a:pt x="16" y="346"/>
                    </a:lnTo>
                    <a:lnTo>
                      <a:pt x="15" y="318"/>
                    </a:lnTo>
                    <a:lnTo>
                      <a:pt x="13" y="292"/>
                    </a:lnTo>
                    <a:lnTo>
                      <a:pt x="8" y="266"/>
                    </a:lnTo>
                    <a:lnTo>
                      <a:pt x="4" y="242"/>
                    </a:lnTo>
                    <a:lnTo>
                      <a:pt x="2" y="211"/>
                    </a:lnTo>
                    <a:lnTo>
                      <a:pt x="2" y="182"/>
                    </a:lnTo>
                    <a:lnTo>
                      <a:pt x="2" y="153"/>
                    </a:lnTo>
                    <a:lnTo>
                      <a:pt x="4" y="124"/>
                    </a:lnTo>
                    <a:lnTo>
                      <a:pt x="4" y="94"/>
                    </a:lnTo>
                    <a:lnTo>
                      <a:pt x="4" y="65"/>
                    </a:lnTo>
                    <a:lnTo>
                      <a:pt x="3" y="36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18" y="5"/>
                    </a:lnTo>
                    <a:lnTo>
                      <a:pt x="29" y="12"/>
                    </a:lnTo>
                    <a:lnTo>
                      <a:pt x="33" y="15"/>
                    </a:lnTo>
                    <a:lnTo>
                      <a:pt x="39" y="17"/>
                    </a:lnTo>
                    <a:lnTo>
                      <a:pt x="46" y="17"/>
                    </a:lnTo>
                    <a:lnTo>
                      <a:pt x="56" y="17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97520" y="35812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73" y="3"/>
                    </a:lnTo>
                    <a:lnTo>
                      <a:pt x="63" y="6"/>
                    </a:lnTo>
                    <a:lnTo>
                      <a:pt x="52" y="9"/>
                    </a:lnTo>
                    <a:lnTo>
                      <a:pt x="43" y="13"/>
                    </a:lnTo>
                    <a:lnTo>
                      <a:pt x="31" y="15"/>
                    </a:lnTo>
                    <a:lnTo>
                      <a:pt x="21" y="18"/>
                    </a:lnTo>
                    <a:lnTo>
                      <a:pt x="9" y="21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2" y="18"/>
                    </a:lnTo>
                    <a:lnTo>
                      <a:pt x="19" y="15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3" y="8"/>
                    </a:lnTo>
                    <a:lnTo>
                      <a:pt x="50" y="7"/>
                    </a:lnTo>
                    <a:lnTo>
                      <a:pt x="59" y="8"/>
                    </a:lnTo>
                    <a:lnTo>
                      <a:pt x="64" y="2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8640" y="3584520"/>
                <a:ext cx="901440" cy="1797120"/>
              </a:xfrm>
              <a:custGeom>
                <a:avLst/>
                <a:gdLst/>
                <a:ahLst/>
                <a:rect l="l" t="t" r="r" b="b"/>
                <a:pathLst>
                  <a:path w="1136" h="2262">
                    <a:moveTo>
                      <a:pt x="1124" y="265"/>
                    </a:moveTo>
                    <a:lnTo>
                      <a:pt x="1124" y="339"/>
                    </a:lnTo>
                    <a:lnTo>
                      <a:pt x="1121" y="414"/>
                    </a:lnTo>
                    <a:lnTo>
                      <a:pt x="1115" y="489"/>
                    </a:lnTo>
                    <a:lnTo>
                      <a:pt x="1109" y="566"/>
                    </a:lnTo>
                    <a:lnTo>
                      <a:pt x="1100" y="640"/>
                    </a:lnTo>
                    <a:lnTo>
                      <a:pt x="1091" y="716"/>
                    </a:lnTo>
                    <a:lnTo>
                      <a:pt x="1084" y="792"/>
                    </a:lnTo>
                    <a:lnTo>
                      <a:pt x="1079" y="868"/>
                    </a:lnTo>
                    <a:lnTo>
                      <a:pt x="1070" y="991"/>
                    </a:lnTo>
                    <a:lnTo>
                      <a:pt x="1063" y="1113"/>
                    </a:lnTo>
                    <a:lnTo>
                      <a:pt x="1058" y="1237"/>
                    </a:lnTo>
                    <a:lnTo>
                      <a:pt x="1055" y="1361"/>
                    </a:lnTo>
                    <a:lnTo>
                      <a:pt x="1048" y="1484"/>
                    </a:lnTo>
                    <a:lnTo>
                      <a:pt x="1042" y="1608"/>
                    </a:lnTo>
                    <a:lnTo>
                      <a:pt x="1031" y="1732"/>
                    </a:lnTo>
                    <a:lnTo>
                      <a:pt x="1018" y="1857"/>
                    </a:lnTo>
                    <a:lnTo>
                      <a:pt x="1010" y="1865"/>
                    </a:lnTo>
                    <a:lnTo>
                      <a:pt x="1001" y="1874"/>
                    </a:lnTo>
                    <a:lnTo>
                      <a:pt x="990" y="1877"/>
                    </a:lnTo>
                    <a:lnTo>
                      <a:pt x="980" y="1873"/>
                    </a:lnTo>
                    <a:lnTo>
                      <a:pt x="973" y="1870"/>
                    </a:lnTo>
                    <a:lnTo>
                      <a:pt x="966" y="1870"/>
                    </a:lnTo>
                    <a:lnTo>
                      <a:pt x="959" y="1870"/>
                    </a:lnTo>
                    <a:lnTo>
                      <a:pt x="952" y="1873"/>
                    </a:lnTo>
                    <a:lnTo>
                      <a:pt x="945" y="1876"/>
                    </a:lnTo>
                    <a:lnTo>
                      <a:pt x="937" y="1879"/>
                    </a:lnTo>
                    <a:lnTo>
                      <a:pt x="931" y="1882"/>
                    </a:lnTo>
                    <a:lnTo>
                      <a:pt x="925" y="1884"/>
                    </a:lnTo>
                    <a:lnTo>
                      <a:pt x="875" y="1902"/>
                    </a:lnTo>
                    <a:lnTo>
                      <a:pt x="827" y="1922"/>
                    </a:lnTo>
                    <a:lnTo>
                      <a:pt x="778" y="1943"/>
                    </a:lnTo>
                    <a:lnTo>
                      <a:pt x="730" y="1965"/>
                    </a:lnTo>
                    <a:lnTo>
                      <a:pt x="681" y="1988"/>
                    </a:lnTo>
                    <a:lnTo>
                      <a:pt x="634" y="2011"/>
                    </a:lnTo>
                    <a:lnTo>
                      <a:pt x="586" y="2034"/>
                    </a:lnTo>
                    <a:lnTo>
                      <a:pt x="538" y="2059"/>
                    </a:lnTo>
                    <a:lnTo>
                      <a:pt x="528" y="2066"/>
                    </a:lnTo>
                    <a:lnTo>
                      <a:pt x="521" y="2072"/>
                    </a:lnTo>
                    <a:lnTo>
                      <a:pt x="511" y="2078"/>
                    </a:lnTo>
                    <a:lnTo>
                      <a:pt x="504" y="2085"/>
                    </a:lnTo>
                    <a:lnTo>
                      <a:pt x="495" y="2090"/>
                    </a:lnTo>
                    <a:lnTo>
                      <a:pt x="487" y="2096"/>
                    </a:lnTo>
                    <a:lnTo>
                      <a:pt x="478" y="2099"/>
                    </a:lnTo>
                    <a:lnTo>
                      <a:pt x="469" y="2103"/>
                    </a:lnTo>
                    <a:lnTo>
                      <a:pt x="463" y="2097"/>
                    </a:lnTo>
                    <a:lnTo>
                      <a:pt x="456" y="2095"/>
                    </a:lnTo>
                    <a:lnTo>
                      <a:pt x="450" y="2096"/>
                    </a:lnTo>
                    <a:lnTo>
                      <a:pt x="443" y="2099"/>
                    </a:lnTo>
                    <a:lnTo>
                      <a:pt x="436" y="2102"/>
                    </a:lnTo>
                    <a:lnTo>
                      <a:pt x="428" y="2106"/>
                    </a:lnTo>
                    <a:lnTo>
                      <a:pt x="422" y="2110"/>
                    </a:lnTo>
                    <a:lnTo>
                      <a:pt x="416" y="2113"/>
                    </a:lnTo>
                    <a:lnTo>
                      <a:pt x="381" y="2130"/>
                    </a:lnTo>
                    <a:lnTo>
                      <a:pt x="349" y="2147"/>
                    </a:lnTo>
                    <a:lnTo>
                      <a:pt x="314" y="2164"/>
                    </a:lnTo>
                    <a:lnTo>
                      <a:pt x="282" y="2182"/>
                    </a:lnTo>
                    <a:lnTo>
                      <a:pt x="248" y="2197"/>
                    </a:lnTo>
                    <a:lnTo>
                      <a:pt x="213" y="2211"/>
                    </a:lnTo>
                    <a:lnTo>
                      <a:pt x="179" y="2224"/>
                    </a:lnTo>
                    <a:lnTo>
                      <a:pt x="145" y="2235"/>
                    </a:lnTo>
                    <a:lnTo>
                      <a:pt x="132" y="2233"/>
                    </a:lnTo>
                    <a:lnTo>
                      <a:pt x="123" y="2235"/>
                    </a:lnTo>
                    <a:lnTo>
                      <a:pt x="113" y="2239"/>
                    </a:lnTo>
                    <a:lnTo>
                      <a:pt x="105" y="2244"/>
                    </a:lnTo>
                    <a:lnTo>
                      <a:pt x="95" y="2249"/>
                    </a:lnTo>
                    <a:lnTo>
                      <a:pt x="85" y="2255"/>
                    </a:lnTo>
                    <a:lnTo>
                      <a:pt x="75" y="2259"/>
                    </a:lnTo>
                    <a:lnTo>
                      <a:pt x="67" y="2262"/>
                    </a:lnTo>
                    <a:lnTo>
                      <a:pt x="63" y="2252"/>
                    </a:lnTo>
                    <a:lnTo>
                      <a:pt x="126" y="2196"/>
                    </a:lnTo>
                    <a:lnTo>
                      <a:pt x="122" y="2190"/>
                    </a:lnTo>
                    <a:lnTo>
                      <a:pt x="118" y="2187"/>
                    </a:lnTo>
                    <a:lnTo>
                      <a:pt x="116" y="2182"/>
                    </a:lnTo>
                    <a:lnTo>
                      <a:pt x="118" y="2175"/>
                    </a:lnTo>
                    <a:lnTo>
                      <a:pt x="122" y="2171"/>
                    </a:lnTo>
                    <a:lnTo>
                      <a:pt x="126" y="2166"/>
                    </a:lnTo>
                    <a:lnTo>
                      <a:pt x="129" y="2160"/>
                    </a:lnTo>
                    <a:lnTo>
                      <a:pt x="132" y="2157"/>
                    </a:lnTo>
                    <a:lnTo>
                      <a:pt x="127" y="2153"/>
                    </a:lnTo>
                    <a:lnTo>
                      <a:pt x="123" y="2153"/>
                    </a:lnTo>
                    <a:lnTo>
                      <a:pt x="116" y="2152"/>
                    </a:lnTo>
                    <a:lnTo>
                      <a:pt x="110" y="2153"/>
                    </a:lnTo>
                    <a:lnTo>
                      <a:pt x="103" y="2152"/>
                    </a:lnTo>
                    <a:lnTo>
                      <a:pt x="100" y="2150"/>
                    </a:lnTo>
                    <a:lnTo>
                      <a:pt x="99" y="2146"/>
                    </a:lnTo>
                    <a:lnTo>
                      <a:pt x="101" y="2140"/>
                    </a:lnTo>
                    <a:lnTo>
                      <a:pt x="111" y="2134"/>
                    </a:lnTo>
                    <a:lnTo>
                      <a:pt x="121" y="2129"/>
                    </a:lnTo>
                    <a:lnTo>
                      <a:pt x="129" y="2121"/>
                    </a:lnTo>
                    <a:lnTo>
                      <a:pt x="138" y="2115"/>
                    </a:lnTo>
                    <a:lnTo>
                      <a:pt x="145" y="2106"/>
                    </a:lnTo>
                    <a:lnTo>
                      <a:pt x="154" y="2098"/>
                    </a:lnTo>
                    <a:lnTo>
                      <a:pt x="163" y="2089"/>
                    </a:lnTo>
                    <a:lnTo>
                      <a:pt x="172" y="2083"/>
                    </a:lnTo>
                    <a:lnTo>
                      <a:pt x="168" y="2081"/>
                    </a:lnTo>
                    <a:lnTo>
                      <a:pt x="153" y="2086"/>
                    </a:lnTo>
                    <a:lnTo>
                      <a:pt x="139" y="2092"/>
                    </a:lnTo>
                    <a:lnTo>
                      <a:pt x="124" y="2099"/>
                    </a:lnTo>
                    <a:lnTo>
                      <a:pt x="111" y="2106"/>
                    </a:lnTo>
                    <a:lnTo>
                      <a:pt x="96" y="2113"/>
                    </a:lnTo>
                    <a:lnTo>
                      <a:pt x="83" y="2123"/>
                    </a:lnTo>
                    <a:lnTo>
                      <a:pt x="70" y="2132"/>
                    </a:lnTo>
                    <a:lnTo>
                      <a:pt x="60" y="2146"/>
                    </a:lnTo>
                    <a:lnTo>
                      <a:pt x="50" y="2147"/>
                    </a:lnTo>
                    <a:lnTo>
                      <a:pt x="40" y="2150"/>
                    </a:lnTo>
                    <a:lnTo>
                      <a:pt x="30" y="2152"/>
                    </a:lnTo>
                    <a:lnTo>
                      <a:pt x="21" y="2148"/>
                    </a:lnTo>
                    <a:lnTo>
                      <a:pt x="21" y="2135"/>
                    </a:lnTo>
                    <a:lnTo>
                      <a:pt x="26" y="2125"/>
                    </a:lnTo>
                    <a:lnTo>
                      <a:pt x="35" y="2115"/>
                    </a:lnTo>
                    <a:lnTo>
                      <a:pt x="45" y="2107"/>
                    </a:lnTo>
                    <a:lnTo>
                      <a:pt x="56" y="2098"/>
                    </a:lnTo>
                    <a:lnTo>
                      <a:pt x="68" y="2090"/>
                    </a:lnTo>
                    <a:lnTo>
                      <a:pt x="79" y="2083"/>
                    </a:lnTo>
                    <a:lnTo>
                      <a:pt x="89" y="2076"/>
                    </a:lnTo>
                    <a:lnTo>
                      <a:pt x="96" y="2075"/>
                    </a:lnTo>
                    <a:lnTo>
                      <a:pt x="103" y="2070"/>
                    </a:lnTo>
                    <a:lnTo>
                      <a:pt x="91" y="2068"/>
                    </a:lnTo>
                    <a:lnTo>
                      <a:pt x="78" y="2069"/>
                    </a:lnTo>
                    <a:lnTo>
                      <a:pt x="66" y="2070"/>
                    </a:lnTo>
                    <a:lnTo>
                      <a:pt x="55" y="2073"/>
                    </a:lnTo>
                    <a:lnTo>
                      <a:pt x="42" y="2076"/>
                    </a:lnTo>
                    <a:lnTo>
                      <a:pt x="30" y="2079"/>
                    </a:lnTo>
                    <a:lnTo>
                      <a:pt x="18" y="2081"/>
                    </a:lnTo>
                    <a:lnTo>
                      <a:pt x="7" y="2083"/>
                    </a:lnTo>
                    <a:lnTo>
                      <a:pt x="3" y="2073"/>
                    </a:lnTo>
                    <a:lnTo>
                      <a:pt x="1" y="2063"/>
                    </a:lnTo>
                    <a:lnTo>
                      <a:pt x="0" y="2053"/>
                    </a:lnTo>
                    <a:lnTo>
                      <a:pt x="2" y="2043"/>
                    </a:lnTo>
                    <a:lnTo>
                      <a:pt x="28" y="2047"/>
                    </a:lnTo>
                    <a:lnTo>
                      <a:pt x="53" y="2043"/>
                    </a:lnTo>
                    <a:lnTo>
                      <a:pt x="75" y="2031"/>
                    </a:lnTo>
                    <a:lnTo>
                      <a:pt x="98" y="2016"/>
                    </a:lnTo>
                    <a:lnTo>
                      <a:pt x="118" y="1996"/>
                    </a:lnTo>
                    <a:lnTo>
                      <a:pt x="139" y="1976"/>
                    </a:lnTo>
                    <a:lnTo>
                      <a:pt x="159" y="1958"/>
                    </a:lnTo>
                    <a:lnTo>
                      <a:pt x="182" y="1944"/>
                    </a:lnTo>
                    <a:lnTo>
                      <a:pt x="178" y="1940"/>
                    </a:lnTo>
                    <a:lnTo>
                      <a:pt x="159" y="1951"/>
                    </a:lnTo>
                    <a:lnTo>
                      <a:pt x="142" y="1963"/>
                    </a:lnTo>
                    <a:lnTo>
                      <a:pt x="125" y="1974"/>
                    </a:lnTo>
                    <a:lnTo>
                      <a:pt x="108" y="1985"/>
                    </a:lnTo>
                    <a:lnTo>
                      <a:pt x="89" y="1995"/>
                    </a:lnTo>
                    <a:lnTo>
                      <a:pt x="72" y="2006"/>
                    </a:lnTo>
                    <a:lnTo>
                      <a:pt x="56" y="2018"/>
                    </a:lnTo>
                    <a:lnTo>
                      <a:pt x="40" y="2032"/>
                    </a:lnTo>
                    <a:lnTo>
                      <a:pt x="33" y="2033"/>
                    </a:lnTo>
                    <a:lnTo>
                      <a:pt x="30" y="2031"/>
                    </a:lnTo>
                    <a:lnTo>
                      <a:pt x="28" y="2028"/>
                    </a:lnTo>
                    <a:lnTo>
                      <a:pt x="27" y="2025"/>
                    </a:lnTo>
                    <a:lnTo>
                      <a:pt x="31" y="2017"/>
                    </a:lnTo>
                    <a:lnTo>
                      <a:pt x="38" y="2010"/>
                    </a:lnTo>
                    <a:lnTo>
                      <a:pt x="30" y="2007"/>
                    </a:lnTo>
                    <a:lnTo>
                      <a:pt x="24" y="2011"/>
                    </a:lnTo>
                    <a:lnTo>
                      <a:pt x="16" y="2013"/>
                    </a:lnTo>
                    <a:lnTo>
                      <a:pt x="11" y="2010"/>
                    </a:lnTo>
                    <a:lnTo>
                      <a:pt x="10" y="2001"/>
                    </a:lnTo>
                    <a:lnTo>
                      <a:pt x="15" y="1996"/>
                    </a:lnTo>
                    <a:lnTo>
                      <a:pt x="22" y="1989"/>
                    </a:lnTo>
                    <a:lnTo>
                      <a:pt x="29" y="1983"/>
                    </a:lnTo>
                    <a:lnTo>
                      <a:pt x="35" y="1981"/>
                    </a:lnTo>
                    <a:lnTo>
                      <a:pt x="40" y="1982"/>
                    </a:lnTo>
                    <a:lnTo>
                      <a:pt x="45" y="1984"/>
                    </a:lnTo>
                    <a:lnTo>
                      <a:pt x="51" y="1987"/>
                    </a:lnTo>
                    <a:lnTo>
                      <a:pt x="54" y="1989"/>
                    </a:lnTo>
                    <a:lnTo>
                      <a:pt x="59" y="1991"/>
                    </a:lnTo>
                    <a:lnTo>
                      <a:pt x="65" y="1991"/>
                    </a:lnTo>
                    <a:lnTo>
                      <a:pt x="72" y="1991"/>
                    </a:lnTo>
                    <a:lnTo>
                      <a:pt x="81" y="1983"/>
                    </a:lnTo>
                    <a:lnTo>
                      <a:pt x="87" y="1974"/>
                    </a:lnTo>
                    <a:lnTo>
                      <a:pt x="91" y="1963"/>
                    </a:lnTo>
                    <a:lnTo>
                      <a:pt x="87" y="1954"/>
                    </a:lnTo>
                    <a:lnTo>
                      <a:pt x="43" y="1921"/>
                    </a:lnTo>
                    <a:lnTo>
                      <a:pt x="59" y="1918"/>
                    </a:lnTo>
                    <a:lnTo>
                      <a:pt x="77" y="1915"/>
                    </a:lnTo>
                    <a:lnTo>
                      <a:pt x="93" y="1910"/>
                    </a:lnTo>
                    <a:lnTo>
                      <a:pt x="109" y="1904"/>
                    </a:lnTo>
                    <a:lnTo>
                      <a:pt x="124" y="1897"/>
                    </a:lnTo>
                    <a:lnTo>
                      <a:pt x="139" y="1889"/>
                    </a:lnTo>
                    <a:lnTo>
                      <a:pt x="153" y="1879"/>
                    </a:lnTo>
                    <a:lnTo>
                      <a:pt x="168" y="1871"/>
                    </a:lnTo>
                    <a:lnTo>
                      <a:pt x="159" y="1865"/>
                    </a:lnTo>
                    <a:lnTo>
                      <a:pt x="149" y="1865"/>
                    </a:lnTo>
                    <a:lnTo>
                      <a:pt x="139" y="1866"/>
                    </a:lnTo>
                    <a:lnTo>
                      <a:pt x="129" y="1868"/>
                    </a:lnTo>
                    <a:lnTo>
                      <a:pt x="120" y="1872"/>
                    </a:lnTo>
                    <a:lnTo>
                      <a:pt x="110" y="1875"/>
                    </a:lnTo>
                    <a:lnTo>
                      <a:pt x="102" y="1882"/>
                    </a:lnTo>
                    <a:lnTo>
                      <a:pt x="95" y="1888"/>
                    </a:lnTo>
                    <a:lnTo>
                      <a:pt x="89" y="1898"/>
                    </a:lnTo>
                    <a:lnTo>
                      <a:pt x="83" y="1896"/>
                    </a:lnTo>
                    <a:lnTo>
                      <a:pt x="81" y="1893"/>
                    </a:lnTo>
                    <a:lnTo>
                      <a:pt x="80" y="1890"/>
                    </a:lnTo>
                    <a:lnTo>
                      <a:pt x="80" y="1887"/>
                    </a:lnTo>
                    <a:lnTo>
                      <a:pt x="81" y="1878"/>
                    </a:lnTo>
                    <a:lnTo>
                      <a:pt x="81" y="1873"/>
                    </a:lnTo>
                    <a:lnTo>
                      <a:pt x="15" y="1908"/>
                    </a:lnTo>
                    <a:lnTo>
                      <a:pt x="11" y="1901"/>
                    </a:lnTo>
                    <a:lnTo>
                      <a:pt x="7" y="1900"/>
                    </a:lnTo>
                    <a:lnTo>
                      <a:pt x="7" y="1888"/>
                    </a:lnTo>
                    <a:lnTo>
                      <a:pt x="13" y="1884"/>
                    </a:lnTo>
                    <a:lnTo>
                      <a:pt x="21" y="1877"/>
                    </a:lnTo>
                    <a:lnTo>
                      <a:pt x="12" y="1875"/>
                    </a:lnTo>
                    <a:lnTo>
                      <a:pt x="8" y="1872"/>
                    </a:lnTo>
                    <a:lnTo>
                      <a:pt x="6" y="1866"/>
                    </a:lnTo>
                    <a:lnTo>
                      <a:pt x="7" y="1862"/>
                    </a:lnTo>
                    <a:lnTo>
                      <a:pt x="7" y="1855"/>
                    </a:lnTo>
                    <a:lnTo>
                      <a:pt x="9" y="1848"/>
                    </a:lnTo>
                    <a:lnTo>
                      <a:pt x="10" y="1843"/>
                    </a:lnTo>
                    <a:lnTo>
                      <a:pt x="11" y="1839"/>
                    </a:lnTo>
                    <a:lnTo>
                      <a:pt x="40" y="1841"/>
                    </a:lnTo>
                    <a:lnTo>
                      <a:pt x="67" y="1836"/>
                    </a:lnTo>
                    <a:lnTo>
                      <a:pt x="92" y="1826"/>
                    </a:lnTo>
                    <a:lnTo>
                      <a:pt x="116" y="1812"/>
                    </a:lnTo>
                    <a:lnTo>
                      <a:pt x="138" y="1794"/>
                    </a:lnTo>
                    <a:lnTo>
                      <a:pt x="160" y="1777"/>
                    </a:lnTo>
                    <a:lnTo>
                      <a:pt x="184" y="1760"/>
                    </a:lnTo>
                    <a:lnTo>
                      <a:pt x="209" y="1747"/>
                    </a:lnTo>
                    <a:lnTo>
                      <a:pt x="202" y="1744"/>
                    </a:lnTo>
                    <a:lnTo>
                      <a:pt x="197" y="1743"/>
                    </a:lnTo>
                    <a:lnTo>
                      <a:pt x="191" y="1743"/>
                    </a:lnTo>
                    <a:lnTo>
                      <a:pt x="185" y="1745"/>
                    </a:lnTo>
                    <a:lnTo>
                      <a:pt x="179" y="1746"/>
                    </a:lnTo>
                    <a:lnTo>
                      <a:pt x="173" y="1748"/>
                    </a:lnTo>
                    <a:lnTo>
                      <a:pt x="167" y="1749"/>
                    </a:lnTo>
                    <a:lnTo>
                      <a:pt x="162" y="1751"/>
                    </a:lnTo>
                    <a:lnTo>
                      <a:pt x="70" y="1812"/>
                    </a:lnTo>
                    <a:lnTo>
                      <a:pt x="69" y="1808"/>
                    </a:lnTo>
                    <a:lnTo>
                      <a:pt x="65" y="1807"/>
                    </a:lnTo>
                    <a:lnTo>
                      <a:pt x="65" y="1798"/>
                    </a:lnTo>
                    <a:lnTo>
                      <a:pt x="71" y="1789"/>
                    </a:lnTo>
                    <a:lnTo>
                      <a:pt x="80" y="1779"/>
                    </a:lnTo>
                    <a:lnTo>
                      <a:pt x="89" y="1773"/>
                    </a:lnTo>
                    <a:lnTo>
                      <a:pt x="96" y="1765"/>
                    </a:lnTo>
                    <a:lnTo>
                      <a:pt x="99" y="1760"/>
                    </a:lnTo>
                    <a:lnTo>
                      <a:pt x="95" y="1756"/>
                    </a:lnTo>
                    <a:lnTo>
                      <a:pt x="83" y="1756"/>
                    </a:lnTo>
                    <a:lnTo>
                      <a:pt x="74" y="1757"/>
                    </a:lnTo>
                    <a:lnTo>
                      <a:pt x="66" y="1758"/>
                    </a:lnTo>
                    <a:lnTo>
                      <a:pt x="57" y="1758"/>
                    </a:lnTo>
                    <a:lnTo>
                      <a:pt x="50" y="1759"/>
                    </a:lnTo>
                    <a:lnTo>
                      <a:pt x="41" y="1758"/>
                    </a:lnTo>
                    <a:lnTo>
                      <a:pt x="33" y="1758"/>
                    </a:lnTo>
                    <a:lnTo>
                      <a:pt x="25" y="1757"/>
                    </a:lnTo>
                    <a:lnTo>
                      <a:pt x="18" y="1756"/>
                    </a:lnTo>
                    <a:lnTo>
                      <a:pt x="18" y="1741"/>
                    </a:lnTo>
                    <a:lnTo>
                      <a:pt x="94" y="1720"/>
                    </a:lnTo>
                    <a:lnTo>
                      <a:pt x="155" y="1664"/>
                    </a:lnTo>
                    <a:lnTo>
                      <a:pt x="149" y="1661"/>
                    </a:lnTo>
                    <a:lnTo>
                      <a:pt x="142" y="1661"/>
                    </a:lnTo>
                    <a:lnTo>
                      <a:pt x="136" y="1661"/>
                    </a:lnTo>
                    <a:lnTo>
                      <a:pt x="130" y="1661"/>
                    </a:lnTo>
                    <a:lnTo>
                      <a:pt x="124" y="1661"/>
                    </a:lnTo>
                    <a:lnTo>
                      <a:pt x="117" y="1661"/>
                    </a:lnTo>
                    <a:lnTo>
                      <a:pt x="112" y="1661"/>
                    </a:lnTo>
                    <a:lnTo>
                      <a:pt x="108" y="1662"/>
                    </a:lnTo>
                    <a:lnTo>
                      <a:pt x="95" y="1661"/>
                    </a:lnTo>
                    <a:lnTo>
                      <a:pt x="85" y="1664"/>
                    </a:lnTo>
                    <a:lnTo>
                      <a:pt x="75" y="1670"/>
                    </a:lnTo>
                    <a:lnTo>
                      <a:pt x="66" y="1676"/>
                    </a:lnTo>
                    <a:lnTo>
                      <a:pt x="56" y="1681"/>
                    </a:lnTo>
                    <a:lnTo>
                      <a:pt x="46" y="1688"/>
                    </a:lnTo>
                    <a:lnTo>
                      <a:pt x="37" y="1692"/>
                    </a:lnTo>
                    <a:lnTo>
                      <a:pt x="27" y="1695"/>
                    </a:lnTo>
                    <a:lnTo>
                      <a:pt x="24" y="1687"/>
                    </a:lnTo>
                    <a:lnTo>
                      <a:pt x="24" y="1679"/>
                    </a:lnTo>
                    <a:lnTo>
                      <a:pt x="24" y="1672"/>
                    </a:lnTo>
                    <a:lnTo>
                      <a:pt x="27" y="1664"/>
                    </a:lnTo>
                    <a:lnTo>
                      <a:pt x="28" y="1657"/>
                    </a:lnTo>
                    <a:lnTo>
                      <a:pt x="29" y="1649"/>
                    </a:lnTo>
                    <a:lnTo>
                      <a:pt x="29" y="1642"/>
                    </a:lnTo>
                    <a:lnTo>
                      <a:pt x="27" y="1635"/>
                    </a:lnTo>
                    <a:lnTo>
                      <a:pt x="39" y="1627"/>
                    </a:lnTo>
                    <a:lnTo>
                      <a:pt x="52" y="1619"/>
                    </a:lnTo>
                    <a:lnTo>
                      <a:pt x="65" y="1612"/>
                    </a:lnTo>
                    <a:lnTo>
                      <a:pt x="78" y="1604"/>
                    </a:lnTo>
                    <a:lnTo>
                      <a:pt x="89" y="1595"/>
                    </a:lnTo>
                    <a:lnTo>
                      <a:pt x="102" y="1587"/>
                    </a:lnTo>
                    <a:lnTo>
                      <a:pt x="115" y="1578"/>
                    </a:lnTo>
                    <a:lnTo>
                      <a:pt x="128" y="1572"/>
                    </a:lnTo>
                    <a:lnTo>
                      <a:pt x="120" y="1566"/>
                    </a:lnTo>
                    <a:lnTo>
                      <a:pt x="109" y="1562"/>
                    </a:lnTo>
                    <a:lnTo>
                      <a:pt x="102" y="1561"/>
                    </a:lnTo>
                    <a:lnTo>
                      <a:pt x="96" y="1561"/>
                    </a:lnTo>
                    <a:lnTo>
                      <a:pt x="89" y="1562"/>
                    </a:lnTo>
                    <a:lnTo>
                      <a:pt x="85" y="1565"/>
                    </a:lnTo>
                    <a:lnTo>
                      <a:pt x="78" y="1570"/>
                    </a:lnTo>
                    <a:lnTo>
                      <a:pt x="70" y="1575"/>
                    </a:lnTo>
                    <a:lnTo>
                      <a:pt x="63" y="1581"/>
                    </a:lnTo>
                    <a:lnTo>
                      <a:pt x="56" y="1588"/>
                    </a:lnTo>
                    <a:lnTo>
                      <a:pt x="49" y="1592"/>
                    </a:lnTo>
                    <a:lnTo>
                      <a:pt x="41" y="1596"/>
                    </a:lnTo>
                    <a:lnTo>
                      <a:pt x="33" y="1599"/>
                    </a:lnTo>
                    <a:lnTo>
                      <a:pt x="27" y="1599"/>
                    </a:lnTo>
                    <a:lnTo>
                      <a:pt x="25" y="1590"/>
                    </a:lnTo>
                    <a:lnTo>
                      <a:pt x="30" y="1582"/>
                    </a:lnTo>
                    <a:lnTo>
                      <a:pt x="37" y="1574"/>
                    </a:lnTo>
                    <a:lnTo>
                      <a:pt x="45" y="1567"/>
                    </a:lnTo>
                    <a:lnTo>
                      <a:pt x="50" y="1561"/>
                    </a:lnTo>
                    <a:lnTo>
                      <a:pt x="52" y="1557"/>
                    </a:lnTo>
                    <a:lnTo>
                      <a:pt x="47" y="1553"/>
                    </a:lnTo>
                    <a:lnTo>
                      <a:pt x="33" y="1553"/>
                    </a:lnTo>
                    <a:lnTo>
                      <a:pt x="29" y="1548"/>
                    </a:lnTo>
                    <a:lnTo>
                      <a:pt x="29" y="1543"/>
                    </a:lnTo>
                    <a:lnTo>
                      <a:pt x="30" y="1536"/>
                    </a:lnTo>
                    <a:lnTo>
                      <a:pt x="31" y="1532"/>
                    </a:lnTo>
                    <a:lnTo>
                      <a:pt x="36" y="1528"/>
                    </a:lnTo>
                    <a:lnTo>
                      <a:pt x="42" y="1528"/>
                    </a:lnTo>
                    <a:lnTo>
                      <a:pt x="50" y="1527"/>
                    </a:lnTo>
                    <a:lnTo>
                      <a:pt x="57" y="1528"/>
                    </a:lnTo>
                    <a:lnTo>
                      <a:pt x="64" y="1528"/>
                    </a:lnTo>
                    <a:lnTo>
                      <a:pt x="71" y="1529"/>
                    </a:lnTo>
                    <a:lnTo>
                      <a:pt x="78" y="1528"/>
                    </a:lnTo>
                    <a:lnTo>
                      <a:pt x="85" y="1527"/>
                    </a:lnTo>
                    <a:lnTo>
                      <a:pt x="139" y="1478"/>
                    </a:lnTo>
                    <a:lnTo>
                      <a:pt x="135" y="1476"/>
                    </a:lnTo>
                    <a:lnTo>
                      <a:pt x="122" y="1480"/>
                    </a:lnTo>
                    <a:lnTo>
                      <a:pt x="109" y="1486"/>
                    </a:lnTo>
                    <a:lnTo>
                      <a:pt x="96" y="1490"/>
                    </a:lnTo>
                    <a:lnTo>
                      <a:pt x="83" y="1495"/>
                    </a:lnTo>
                    <a:lnTo>
                      <a:pt x="70" y="1500"/>
                    </a:lnTo>
                    <a:lnTo>
                      <a:pt x="57" y="1505"/>
                    </a:lnTo>
                    <a:lnTo>
                      <a:pt x="44" y="1510"/>
                    </a:lnTo>
                    <a:lnTo>
                      <a:pt x="31" y="1516"/>
                    </a:lnTo>
                    <a:lnTo>
                      <a:pt x="30" y="1504"/>
                    </a:lnTo>
                    <a:lnTo>
                      <a:pt x="32" y="1496"/>
                    </a:lnTo>
                    <a:lnTo>
                      <a:pt x="38" y="1489"/>
                    </a:lnTo>
                    <a:lnTo>
                      <a:pt x="46" y="1485"/>
                    </a:lnTo>
                    <a:lnTo>
                      <a:pt x="55" y="1478"/>
                    </a:lnTo>
                    <a:lnTo>
                      <a:pt x="64" y="1474"/>
                    </a:lnTo>
                    <a:lnTo>
                      <a:pt x="72" y="1467"/>
                    </a:lnTo>
                    <a:lnTo>
                      <a:pt x="79" y="1462"/>
                    </a:lnTo>
                    <a:lnTo>
                      <a:pt x="72" y="1457"/>
                    </a:lnTo>
                    <a:lnTo>
                      <a:pt x="64" y="1456"/>
                    </a:lnTo>
                    <a:lnTo>
                      <a:pt x="55" y="1454"/>
                    </a:lnTo>
                    <a:lnTo>
                      <a:pt x="46" y="1454"/>
                    </a:lnTo>
                    <a:lnTo>
                      <a:pt x="38" y="1452"/>
                    </a:lnTo>
                    <a:lnTo>
                      <a:pt x="33" y="1448"/>
                    </a:lnTo>
                    <a:lnTo>
                      <a:pt x="31" y="1439"/>
                    </a:lnTo>
                    <a:lnTo>
                      <a:pt x="36" y="1429"/>
                    </a:lnTo>
                    <a:lnTo>
                      <a:pt x="39" y="1422"/>
                    </a:lnTo>
                    <a:lnTo>
                      <a:pt x="44" y="1419"/>
                    </a:lnTo>
                    <a:lnTo>
                      <a:pt x="51" y="1417"/>
                    </a:lnTo>
                    <a:lnTo>
                      <a:pt x="58" y="1417"/>
                    </a:lnTo>
                    <a:lnTo>
                      <a:pt x="65" y="1416"/>
                    </a:lnTo>
                    <a:lnTo>
                      <a:pt x="72" y="1415"/>
                    </a:lnTo>
                    <a:lnTo>
                      <a:pt x="79" y="1414"/>
                    </a:lnTo>
                    <a:lnTo>
                      <a:pt x="87" y="1413"/>
                    </a:lnTo>
                    <a:lnTo>
                      <a:pt x="95" y="1407"/>
                    </a:lnTo>
                    <a:lnTo>
                      <a:pt x="105" y="1402"/>
                    </a:lnTo>
                    <a:lnTo>
                      <a:pt x="113" y="1396"/>
                    </a:lnTo>
                    <a:lnTo>
                      <a:pt x="123" y="1391"/>
                    </a:lnTo>
                    <a:lnTo>
                      <a:pt x="130" y="1385"/>
                    </a:lnTo>
                    <a:lnTo>
                      <a:pt x="139" y="1378"/>
                    </a:lnTo>
                    <a:lnTo>
                      <a:pt x="145" y="1371"/>
                    </a:lnTo>
                    <a:lnTo>
                      <a:pt x="153" y="1363"/>
                    </a:lnTo>
                    <a:lnTo>
                      <a:pt x="146" y="1359"/>
                    </a:lnTo>
                    <a:lnTo>
                      <a:pt x="141" y="1357"/>
                    </a:lnTo>
                    <a:lnTo>
                      <a:pt x="135" y="1354"/>
                    </a:lnTo>
                    <a:lnTo>
                      <a:pt x="129" y="1354"/>
                    </a:lnTo>
                    <a:lnTo>
                      <a:pt x="123" y="1353"/>
                    </a:lnTo>
                    <a:lnTo>
                      <a:pt x="116" y="1353"/>
                    </a:lnTo>
                    <a:lnTo>
                      <a:pt x="110" y="1352"/>
                    </a:lnTo>
                    <a:lnTo>
                      <a:pt x="103" y="1352"/>
                    </a:lnTo>
                    <a:lnTo>
                      <a:pt x="103" y="1343"/>
                    </a:lnTo>
                    <a:lnTo>
                      <a:pt x="105" y="1334"/>
                    </a:lnTo>
                    <a:lnTo>
                      <a:pt x="102" y="1324"/>
                    </a:lnTo>
                    <a:lnTo>
                      <a:pt x="99" y="1317"/>
                    </a:lnTo>
                    <a:lnTo>
                      <a:pt x="102" y="1311"/>
                    </a:lnTo>
                    <a:lnTo>
                      <a:pt x="109" y="1308"/>
                    </a:lnTo>
                    <a:lnTo>
                      <a:pt x="114" y="1305"/>
                    </a:lnTo>
                    <a:lnTo>
                      <a:pt x="121" y="1303"/>
                    </a:lnTo>
                    <a:lnTo>
                      <a:pt x="125" y="1300"/>
                    </a:lnTo>
                    <a:lnTo>
                      <a:pt x="129" y="1296"/>
                    </a:lnTo>
                    <a:lnTo>
                      <a:pt x="132" y="1292"/>
                    </a:lnTo>
                    <a:lnTo>
                      <a:pt x="132" y="1287"/>
                    </a:lnTo>
                    <a:lnTo>
                      <a:pt x="122" y="1290"/>
                    </a:lnTo>
                    <a:lnTo>
                      <a:pt x="113" y="1296"/>
                    </a:lnTo>
                    <a:lnTo>
                      <a:pt x="103" y="1300"/>
                    </a:lnTo>
                    <a:lnTo>
                      <a:pt x="94" y="1296"/>
                    </a:lnTo>
                    <a:lnTo>
                      <a:pt x="93" y="1288"/>
                    </a:lnTo>
                    <a:lnTo>
                      <a:pt x="97" y="1283"/>
                    </a:lnTo>
                    <a:lnTo>
                      <a:pt x="103" y="1278"/>
                    </a:lnTo>
                    <a:lnTo>
                      <a:pt x="110" y="1274"/>
                    </a:lnTo>
                    <a:lnTo>
                      <a:pt x="102" y="1268"/>
                    </a:lnTo>
                    <a:lnTo>
                      <a:pt x="95" y="1266"/>
                    </a:lnTo>
                    <a:lnTo>
                      <a:pt x="86" y="1266"/>
                    </a:lnTo>
                    <a:lnTo>
                      <a:pt x="78" y="1266"/>
                    </a:lnTo>
                    <a:lnTo>
                      <a:pt x="68" y="1266"/>
                    </a:lnTo>
                    <a:lnTo>
                      <a:pt x="58" y="1266"/>
                    </a:lnTo>
                    <a:lnTo>
                      <a:pt x="50" y="1264"/>
                    </a:lnTo>
                    <a:lnTo>
                      <a:pt x="43" y="1263"/>
                    </a:lnTo>
                    <a:lnTo>
                      <a:pt x="46" y="1252"/>
                    </a:lnTo>
                    <a:lnTo>
                      <a:pt x="50" y="1243"/>
                    </a:lnTo>
                    <a:lnTo>
                      <a:pt x="53" y="1233"/>
                    </a:lnTo>
                    <a:lnTo>
                      <a:pt x="56" y="1223"/>
                    </a:lnTo>
                    <a:lnTo>
                      <a:pt x="57" y="1212"/>
                    </a:lnTo>
                    <a:lnTo>
                      <a:pt x="58" y="1203"/>
                    </a:lnTo>
                    <a:lnTo>
                      <a:pt x="57" y="1193"/>
                    </a:lnTo>
                    <a:lnTo>
                      <a:pt x="56" y="1184"/>
                    </a:lnTo>
                    <a:lnTo>
                      <a:pt x="61" y="1183"/>
                    </a:lnTo>
                    <a:lnTo>
                      <a:pt x="68" y="1181"/>
                    </a:lnTo>
                    <a:lnTo>
                      <a:pt x="74" y="1178"/>
                    </a:lnTo>
                    <a:lnTo>
                      <a:pt x="81" y="1175"/>
                    </a:lnTo>
                    <a:lnTo>
                      <a:pt x="91" y="1165"/>
                    </a:lnTo>
                    <a:lnTo>
                      <a:pt x="101" y="1154"/>
                    </a:lnTo>
                    <a:lnTo>
                      <a:pt x="96" y="1148"/>
                    </a:lnTo>
                    <a:lnTo>
                      <a:pt x="92" y="1146"/>
                    </a:lnTo>
                    <a:lnTo>
                      <a:pt x="86" y="1146"/>
                    </a:lnTo>
                    <a:lnTo>
                      <a:pt x="82" y="1148"/>
                    </a:lnTo>
                    <a:lnTo>
                      <a:pt x="75" y="1149"/>
                    </a:lnTo>
                    <a:lnTo>
                      <a:pt x="70" y="1149"/>
                    </a:lnTo>
                    <a:lnTo>
                      <a:pt x="66" y="1148"/>
                    </a:lnTo>
                    <a:lnTo>
                      <a:pt x="63" y="1144"/>
                    </a:lnTo>
                    <a:lnTo>
                      <a:pt x="56" y="1132"/>
                    </a:lnTo>
                    <a:lnTo>
                      <a:pt x="57" y="1124"/>
                    </a:lnTo>
                    <a:lnTo>
                      <a:pt x="61" y="1120"/>
                    </a:lnTo>
                    <a:lnTo>
                      <a:pt x="69" y="1117"/>
                    </a:lnTo>
                    <a:lnTo>
                      <a:pt x="77" y="1112"/>
                    </a:lnTo>
                    <a:lnTo>
                      <a:pt x="85" y="1108"/>
                    </a:lnTo>
                    <a:lnTo>
                      <a:pt x="91" y="1102"/>
                    </a:lnTo>
                    <a:lnTo>
                      <a:pt x="94" y="1092"/>
                    </a:lnTo>
                    <a:lnTo>
                      <a:pt x="99" y="1084"/>
                    </a:lnTo>
                    <a:lnTo>
                      <a:pt x="106" y="1078"/>
                    </a:lnTo>
                    <a:lnTo>
                      <a:pt x="111" y="1070"/>
                    </a:lnTo>
                    <a:lnTo>
                      <a:pt x="117" y="1064"/>
                    </a:lnTo>
                    <a:lnTo>
                      <a:pt x="122" y="1055"/>
                    </a:lnTo>
                    <a:lnTo>
                      <a:pt x="127" y="1049"/>
                    </a:lnTo>
                    <a:lnTo>
                      <a:pt x="131" y="1040"/>
                    </a:lnTo>
                    <a:lnTo>
                      <a:pt x="137" y="1034"/>
                    </a:lnTo>
                    <a:lnTo>
                      <a:pt x="126" y="1028"/>
                    </a:lnTo>
                    <a:lnTo>
                      <a:pt x="115" y="1027"/>
                    </a:lnTo>
                    <a:lnTo>
                      <a:pt x="102" y="1026"/>
                    </a:lnTo>
                    <a:lnTo>
                      <a:pt x="92" y="1027"/>
                    </a:lnTo>
                    <a:lnTo>
                      <a:pt x="81" y="1026"/>
                    </a:lnTo>
                    <a:lnTo>
                      <a:pt x="73" y="1022"/>
                    </a:lnTo>
                    <a:lnTo>
                      <a:pt x="68" y="1012"/>
                    </a:lnTo>
                    <a:lnTo>
                      <a:pt x="69" y="998"/>
                    </a:lnTo>
                    <a:lnTo>
                      <a:pt x="83" y="993"/>
                    </a:lnTo>
                    <a:lnTo>
                      <a:pt x="141" y="924"/>
                    </a:lnTo>
                    <a:lnTo>
                      <a:pt x="135" y="919"/>
                    </a:lnTo>
                    <a:lnTo>
                      <a:pt x="126" y="924"/>
                    </a:lnTo>
                    <a:lnTo>
                      <a:pt x="118" y="931"/>
                    </a:lnTo>
                    <a:lnTo>
                      <a:pt x="110" y="936"/>
                    </a:lnTo>
                    <a:lnTo>
                      <a:pt x="102" y="941"/>
                    </a:lnTo>
                    <a:lnTo>
                      <a:pt x="94" y="946"/>
                    </a:lnTo>
                    <a:lnTo>
                      <a:pt x="86" y="952"/>
                    </a:lnTo>
                    <a:lnTo>
                      <a:pt x="80" y="959"/>
                    </a:lnTo>
                    <a:lnTo>
                      <a:pt x="74" y="968"/>
                    </a:lnTo>
                    <a:lnTo>
                      <a:pt x="73" y="961"/>
                    </a:lnTo>
                    <a:lnTo>
                      <a:pt x="72" y="953"/>
                    </a:lnTo>
                    <a:lnTo>
                      <a:pt x="71" y="945"/>
                    </a:lnTo>
                    <a:lnTo>
                      <a:pt x="72" y="936"/>
                    </a:lnTo>
                    <a:lnTo>
                      <a:pt x="72" y="927"/>
                    </a:lnTo>
                    <a:lnTo>
                      <a:pt x="75" y="920"/>
                    </a:lnTo>
                    <a:lnTo>
                      <a:pt x="81" y="912"/>
                    </a:lnTo>
                    <a:lnTo>
                      <a:pt x="89" y="908"/>
                    </a:lnTo>
                    <a:lnTo>
                      <a:pt x="83" y="904"/>
                    </a:lnTo>
                    <a:lnTo>
                      <a:pt x="74" y="906"/>
                    </a:lnTo>
                    <a:lnTo>
                      <a:pt x="72" y="895"/>
                    </a:lnTo>
                    <a:lnTo>
                      <a:pt x="70" y="885"/>
                    </a:lnTo>
                    <a:lnTo>
                      <a:pt x="69" y="876"/>
                    </a:lnTo>
                    <a:lnTo>
                      <a:pt x="74" y="866"/>
                    </a:lnTo>
                    <a:lnTo>
                      <a:pt x="72" y="857"/>
                    </a:lnTo>
                    <a:lnTo>
                      <a:pt x="72" y="849"/>
                    </a:lnTo>
                    <a:lnTo>
                      <a:pt x="72" y="839"/>
                    </a:lnTo>
                    <a:lnTo>
                      <a:pt x="73" y="831"/>
                    </a:lnTo>
                    <a:lnTo>
                      <a:pt x="73" y="820"/>
                    </a:lnTo>
                    <a:lnTo>
                      <a:pt x="75" y="809"/>
                    </a:lnTo>
                    <a:lnTo>
                      <a:pt x="78" y="799"/>
                    </a:lnTo>
                    <a:lnTo>
                      <a:pt x="81" y="792"/>
                    </a:lnTo>
                    <a:lnTo>
                      <a:pt x="92" y="782"/>
                    </a:lnTo>
                    <a:lnTo>
                      <a:pt x="85" y="777"/>
                    </a:lnTo>
                    <a:lnTo>
                      <a:pt x="82" y="771"/>
                    </a:lnTo>
                    <a:lnTo>
                      <a:pt x="82" y="765"/>
                    </a:lnTo>
                    <a:lnTo>
                      <a:pt x="85" y="760"/>
                    </a:lnTo>
                    <a:lnTo>
                      <a:pt x="103" y="742"/>
                    </a:lnTo>
                    <a:lnTo>
                      <a:pt x="98" y="735"/>
                    </a:lnTo>
                    <a:lnTo>
                      <a:pt x="94" y="729"/>
                    </a:lnTo>
                    <a:lnTo>
                      <a:pt x="89" y="724"/>
                    </a:lnTo>
                    <a:lnTo>
                      <a:pt x="86" y="720"/>
                    </a:lnTo>
                    <a:lnTo>
                      <a:pt x="83" y="713"/>
                    </a:lnTo>
                    <a:lnTo>
                      <a:pt x="82" y="707"/>
                    </a:lnTo>
                    <a:lnTo>
                      <a:pt x="82" y="699"/>
                    </a:lnTo>
                    <a:lnTo>
                      <a:pt x="85" y="691"/>
                    </a:lnTo>
                    <a:lnTo>
                      <a:pt x="91" y="697"/>
                    </a:lnTo>
                    <a:lnTo>
                      <a:pt x="97" y="702"/>
                    </a:lnTo>
                    <a:lnTo>
                      <a:pt x="103" y="706"/>
                    </a:lnTo>
                    <a:lnTo>
                      <a:pt x="112" y="709"/>
                    </a:lnTo>
                    <a:lnTo>
                      <a:pt x="117" y="700"/>
                    </a:lnTo>
                    <a:lnTo>
                      <a:pt x="127" y="693"/>
                    </a:lnTo>
                    <a:lnTo>
                      <a:pt x="135" y="685"/>
                    </a:lnTo>
                    <a:lnTo>
                      <a:pt x="139" y="677"/>
                    </a:lnTo>
                    <a:lnTo>
                      <a:pt x="130" y="669"/>
                    </a:lnTo>
                    <a:lnTo>
                      <a:pt x="121" y="665"/>
                    </a:lnTo>
                    <a:lnTo>
                      <a:pt x="110" y="661"/>
                    </a:lnTo>
                    <a:lnTo>
                      <a:pt x="100" y="658"/>
                    </a:lnTo>
                    <a:lnTo>
                      <a:pt x="91" y="654"/>
                    </a:lnTo>
                    <a:lnTo>
                      <a:pt x="84" y="649"/>
                    </a:lnTo>
                    <a:lnTo>
                      <a:pt x="80" y="641"/>
                    </a:lnTo>
                    <a:lnTo>
                      <a:pt x="81" y="630"/>
                    </a:lnTo>
                    <a:lnTo>
                      <a:pt x="84" y="619"/>
                    </a:lnTo>
                    <a:lnTo>
                      <a:pt x="89" y="609"/>
                    </a:lnTo>
                    <a:lnTo>
                      <a:pt x="95" y="599"/>
                    </a:lnTo>
                    <a:lnTo>
                      <a:pt x="101" y="590"/>
                    </a:lnTo>
                    <a:lnTo>
                      <a:pt x="108" y="580"/>
                    </a:lnTo>
                    <a:lnTo>
                      <a:pt x="114" y="570"/>
                    </a:lnTo>
                    <a:lnTo>
                      <a:pt x="122" y="562"/>
                    </a:lnTo>
                    <a:lnTo>
                      <a:pt x="130" y="554"/>
                    </a:lnTo>
                    <a:lnTo>
                      <a:pt x="136" y="551"/>
                    </a:lnTo>
                    <a:lnTo>
                      <a:pt x="141" y="548"/>
                    </a:lnTo>
                    <a:lnTo>
                      <a:pt x="137" y="540"/>
                    </a:lnTo>
                    <a:lnTo>
                      <a:pt x="129" y="540"/>
                    </a:lnTo>
                    <a:lnTo>
                      <a:pt x="121" y="540"/>
                    </a:lnTo>
                    <a:lnTo>
                      <a:pt x="114" y="538"/>
                    </a:lnTo>
                    <a:lnTo>
                      <a:pt x="117" y="528"/>
                    </a:lnTo>
                    <a:lnTo>
                      <a:pt x="123" y="521"/>
                    </a:lnTo>
                    <a:lnTo>
                      <a:pt x="127" y="512"/>
                    </a:lnTo>
                    <a:lnTo>
                      <a:pt x="130" y="505"/>
                    </a:lnTo>
                    <a:lnTo>
                      <a:pt x="174" y="475"/>
                    </a:lnTo>
                    <a:lnTo>
                      <a:pt x="219" y="450"/>
                    </a:lnTo>
                    <a:lnTo>
                      <a:pt x="264" y="424"/>
                    </a:lnTo>
                    <a:lnTo>
                      <a:pt x="309" y="400"/>
                    </a:lnTo>
                    <a:lnTo>
                      <a:pt x="354" y="377"/>
                    </a:lnTo>
                    <a:lnTo>
                      <a:pt x="400" y="354"/>
                    </a:lnTo>
                    <a:lnTo>
                      <a:pt x="446" y="331"/>
                    </a:lnTo>
                    <a:lnTo>
                      <a:pt x="492" y="309"/>
                    </a:lnTo>
                    <a:lnTo>
                      <a:pt x="496" y="312"/>
                    </a:lnTo>
                    <a:lnTo>
                      <a:pt x="496" y="306"/>
                    </a:lnTo>
                    <a:lnTo>
                      <a:pt x="498" y="303"/>
                    </a:lnTo>
                    <a:lnTo>
                      <a:pt x="501" y="302"/>
                    </a:lnTo>
                    <a:lnTo>
                      <a:pt x="504" y="303"/>
                    </a:lnTo>
                    <a:lnTo>
                      <a:pt x="510" y="303"/>
                    </a:lnTo>
                    <a:lnTo>
                      <a:pt x="518" y="302"/>
                    </a:lnTo>
                    <a:lnTo>
                      <a:pt x="523" y="297"/>
                    </a:lnTo>
                    <a:lnTo>
                      <a:pt x="530" y="294"/>
                    </a:lnTo>
                    <a:lnTo>
                      <a:pt x="537" y="290"/>
                    </a:lnTo>
                    <a:lnTo>
                      <a:pt x="547" y="287"/>
                    </a:lnTo>
                    <a:lnTo>
                      <a:pt x="555" y="283"/>
                    </a:lnTo>
                    <a:lnTo>
                      <a:pt x="564" y="280"/>
                    </a:lnTo>
                    <a:lnTo>
                      <a:pt x="573" y="275"/>
                    </a:lnTo>
                    <a:lnTo>
                      <a:pt x="581" y="271"/>
                    </a:lnTo>
                    <a:lnTo>
                      <a:pt x="586" y="275"/>
                    </a:lnTo>
                    <a:lnTo>
                      <a:pt x="589" y="270"/>
                    </a:lnTo>
                    <a:lnTo>
                      <a:pt x="594" y="269"/>
                    </a:lnTo>
                    <a:lnTo>
                      <a:pt x="600" y="268"/>
                    </a:lnTo>
                    <a:lnTo>
                      <a:pt x="606" y="265"/>
                    </a:lnTo>
                    <a:lnTo>
                      <a:pt x="846" y="150"/>
                    </a:lnTo>
                    <a:lnTo>
                      <a:pt x="865" y="136"/>
                    </a:lnTo>
                    <a:lnTo>
                      <a:pt x="887" y="123"/>
                    </a:lnTo>
                    <a:lnTo>
                      <a:pt x="907" y="111"/>
                    </a:lnTo>
                    <a:lnTo>
                      <a:pt x="930" y="100"/>
                    </a:lnTo>
                    <a:lnTo>
                      <a:pt x="951" y="88"/>
                    </a:lnTo>
                    <a:lnTo>
                      <a:pt x="973" y="77"/>
                    </a:lnTo>
                    <a:lnTo>
                      <a:pt x="994" y="67"/>
                    </a:lnTo>
                    <a:lnTo>
                      <a:pt x="1016" y="56"/>
                    </a:lnTo>
                    <a:lnTo>
                      <a:pt x="1030" y="47"/>
                    </a:lnTo>
                    <a:lnTo>
                      <a:pt x="1045" y="40"/>
                    </a:lnTo>
                    <a:lnTo>
                      <a:pt x="1060" y="33"/>
                    </a:lnTo>
                    <a:lnTo>
                      <a:pt x="1076" y="28"/>
                    </a:lnTo>
                    <a:lnTo>
                      <a:pt x="1091" y="22"/>
                    </a:lnTo>
                    <a:lnTo>
                      <a:pt x="1106" y="15"/>
                    </a:lnTo>
                    <a:lnTo>
                      <a:pt x="1120" y="8"/>
                    </a:lnTo>
                    <a:lnTo>
                      <a:pt x="1135" y="0"/>
                    </a:lnTo>
                    <a:lnTo>
                      <a:pt x="1136" y="32"/>
                    </a:lnTo>
                    <a:lnTo>
                      <a:pt x="1134" y="65"/>
                    </a:lnTo>
                    <a:lnTo>
                      <a:pt x="1129" y="98"/>
                    </a:lnTo>
                    <a:lnTo>
                      <a:pt x="1125" y="132"/>
                    </a:lnTo>
                    <a:lnTo>
                      <a:pt x="1119" y="165"/>
                    </a:lnTo>
                    <a:lnTo>
                      <a:pt x="1117" y="198"/>
                    </a:lnTo>
                    <a:lnTo>
                      <a:pt x="1117" y="231"/>
                    </a:lnTo>
                    <a:lnTo>
                      <a:pt x="1124" y="265"/>
                    </a:lnTo>
                    <a:close/>
                  </a:path>
                </a:pathLst>
              </a:custGeom>
              <a:solidFill>
                <a:srgbClr val="b5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80120" y="359424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260" h="76">
                    <a:moveTo>
                      <a:pt x="260" y="6"/>
                    </a:moveTo>
                    <a:lnTo>
                      <a:pt x="235" y="13"/>
                    </a:lnTo>
                    <a:lnTo>
                      <a:pt x="212" y="19"/>
                    </a:lnTo>
                    <a:lnTo>
                      <a:pt x="187" y="26"/>
                    </a:lnTo>
                    <a:lnTo>
                      <a:pt x="163" y="33"/>
                    </a:lnTo>
                    <a:lnTo>
                      <a:pt x="137" y="38"/>
                    </a:lnTo>
                    <a:lnTo>
                      <a:pt x="113" y="45"/>
                    </a:lnTo>
                    <a:lnTo>
                      <a:pt x="88" y="51"/>
                    </a:lnTo>
                    <a:lnTo>
                      <a:pt x="64" y="58"/>
                    </a:lnTo>
                    <a:lnTo>
                      <a:pt x="56" y="60"/>
                    </a:lnTo>
                    <a:lnTo>
                      <a:pt x="48" y="62"/>
                    </a:lnTo>
                    <a:lnTo>
                      <a:pt x="40" y="64"/>
                    </a:lnTo>
                    <a:lnTo>
                      <a:pt x="32" y="66"/>
                    </a:lnTo>
                    <a:lnTo>
                      <a:pt x="23" y="69"/>
                    </a:lnTo>
                    <a:lnTo>
                      <a:pt x="16" y="71"/>
                    </a:lnTo>
                    <a:lnTo>
                      <a:pt x="7" y="73"/>
                    </a:lnTo>
                    <a:lnTo>
                      <a:pt x="0" y="76"/>
                    </a:lnTo>
                    <a:lnTo>
                      <a:pt x="13" y="70"/>
                    </a:lnTo>
                    <a:lnTo>
                      <a:pt x="26" y="64"/>
                    </a:lnTo>
                    <a:lnTo>
                      <a:pt x="38" y="59"/>
                    </a:lnTo>
                    <a:lnTo>
                      <a:pt x="51" y="55"/>
                    </a:lnTo>
                    <a:lnTo>
                      <a:pt x="64" y="49"/>
                    </a:lnTo>
                    <a:lnTo>
                      <a:pt x="77" y="44"/>
                    </a:lnTo>
                    <a:lnTo>
                      <a:pt x="90" y="38"/>
                    </a:lnTo>
                    <a:lnTo>
                      <a:pt x="103" y="33"/>
                    </a:lnTo>
                    <a:lnTo>
                      <a:pt x="119" y="28"/>
                    </a:lnTo>
                    <a:lnTo>
                      <a:pt x="137" y="23"/>
                    </a:lnTo>
                    <a:lnTo>
                      <a:pt x="155" y="19"/>
                    </a:lnTo>
                    <a:lnTo>
                      <a:pt x="173" y="16"/>
                    </a:lnTo>
                    <a:lnTo>
                      <a:pt x="190" y="12"/>
                    </a:lnTo>
                    <a:lnTo>
                      <a:pt x="208" y="8"/>
                    </a:lnTo>
                    <a:lnTo>
                      <a:pt x="226" y="4"/>
                    </a:lnTo>
                    <a:lnTo>
                      <a:pt x="244" y="0"/>
                    </a:lnTo>
                    <a:lnTo>
                      <a:pt x="252" y="2"/>
                    </a:lnTo>
                    <a:lnTo>
                      <a:pt x="2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10080" y="361332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232" h="78">
                    <a:moveTo>
                      <a:pt x="232" y="11"/>
                    </a:moveTo>
                    <a:lnTo>
                      <a:pt x="203" y="20"/>
                    </a:lnTo>
                    <a:lnTo>
                      <a:pt x="174" y="29"/>
                    </a:lnTo>
                    <a:lnTo>
                      <a:pt x="144" y="38"/>
                    </a:lnTo>
                    <a:lnTo>
                      <a:pt x="117" y="48"/>
                    </a:lnTo>
                    <a:lnTo>
                      <a:pt x="87" y="55"/>
                    </a:lnTo>
                    <a:lnTo>
                      <a:pt x="58" y="64"/>
                    </a:lnTo>
                    <a:lnTo>
                      <a:pt x="29" y="70"/>
                    </a:lnTo>
                    <a:lnTo>
                      <a:pt x="0" y="78"/>
                    </a:lnTo>
                    <a:lnTo>
                      <a:pt x="20" y="66"/>
                    </a:lnTo>
                    <a:lnTo>
                      <a:pt x="41" y="56"/>
                    </a:lnTo>
                    <a:lnTo>
                      <a:pt x="64" y="48"/>
                    </a:lnTo>
                    <a:lnTo>
                      <a:pt x="86" y="39"/>
                    </a:lnTo>
                    <a:lnTo>
                      <a:pt x="108" y="29"/>
                    </a:lnTo>
                    <a:lnTo>
                      <a:pt x="131" y="21"/>
                    </a:lnTo>
                    <a:lnTo>
                      <a:pt x="153" y="12"/>
                    </a:lnTo>
                    <a:lnTo>
                      <a:pt x="176" y="4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6" y="2"/>
                    </a:lnTo>
                    <a:lnTo>
                      <a:pt x="204" y="5"/>
                    </a:lnTo>
                    <a:lnTo>
                      <a:pt x="210" y="7"/>
                    </a:lnTo>
                    <a:lnTo>
                      <a:pt x="217" y="9"/>
                    </a:lnTo>
                    <a:lnTo>
                      <a:pt x="223" y="10"/>
                    </a:lnTo>
                    <a:lnTo>
                      <a:pt x="2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58040" y="3618000"/>
                <a:ext cx="285480" cy="104760"/>
              </a:xfrm>
              <a:custGeom>
                <a:avLst/>
                <a:gdLst/>
                <a:ahLst/>
                <a:rect l="l" t="t" r="r" b="b"/>
                <a:pathLst>
                  <a:path w="360" h="130">
                    <a:moveTo>
                      <a:pt x="360" y="3"/>
                    </a:moveTo>
                    <a:lnTo>
                      <a:pt x="355" y="7"/>
                    </a:lnTo>
                    <a:lnTo>
                      <a:pt x="350" y="12"/>
                    </a:lnTo>
                    <a:lnTo>
                      <a:pt x="348" y="17"/>
                    </a:lnTo>
                    <a:lnTo>
                      <a:pt x="350" y="25"/>
                    </a:lnTo>
                    <a:lnTo>
                      <a:pt x="319" y="34"/>
                    </a:lnTo>
                    <a:lnTo>
                      <a:pt x="289" y="44"/>
                    </a:lnTo>
                    <a:lnTo>
                      <a:pt x="258" y="53"/>
                    </a:lnTo>
                    <a:lnTo>
                      <a:pt x="228" y="62"/>
                    </a:lnTo>
                    <a:lnTo>
                      <a:pt x="196" y="70"/>
                    </a:lnTo>
                    <a:lnTo>
                      <a:pt x="165" y="80"/>
                    </a:lnTo>
                    <a:lnTo>
                      <a:pt x="134" y="87"/>
                    </a:lnTo>
                    <a:lnTo>
                      <a:pt x="104" y="97"/>
                    </a:lnTo>
                    <a:lnTo>
                      <a:pt x="91" y="100"/>
                    </a:lnTo>
                    <a:lnTo>
                      <a:pt x="79" y="104"/>
                    </a:lnTo>
                    <a:lnTo>
                      <a:pt x="66" y="109"/>
                    </a:lnTo>
                    <a:lnTo>
                      <a:pt x="54" y="113"/>
                    </a:lnTo>
                    <a:lnTo>
                      <a:pt x="41" y="116"/>
                    </a:lnTo>
                    <a:lnTo>
                      <a:pt x="30" y="119"/>
                    </a:lnTo>
                    <a:lnTo>
                      <a:pt x="18" y="124"/>
                    </a:lnTo>
                    <a:lnTo>
                      <a:pt x="7" y="130"/>
                    </a:lnTo>
                    <a:lnTo>
                      <a:pt x="0" y="130"/>
                    </a:lnTo>
                    <a:lnTo>
                      <a:pt x="0" y="128"/>
                    </a:lnTo>
                    <a:lnTo>
                      <a:pt x="39" y="106"/>
                    </a:lnTo>
                    <a:lnTo>
                      <a:pt x="80" y="88"/>
                    </a:lnTo>
                    <a:lnTo>
                      <a:pt x="122" y="72"/>
                    </a:lnTo>
                    <a:lnTo>
                      <a:pt x="164" y="58"/>
                    </a:lnTo>
                    <a:lnTo>
                      <a:pt x="206" y="44"/>
                    </a:lnTo>
                    <a:lnTo>
                      <a:pt x="250" y="31"/>
                    </a:lnTo>
                    <a:lnTo>
                      <a:pt x="293" y="19"/>
                    </a:lnTo>
                    <a:lnTo>
                      <a:pt x="337" y="7"/>
                    </a:lnTo>
                    <a:lnTo>
                      <a:pt x="341" y="1"/>
                    </a:lnTo>
                    <a:lnTo>
                      <a:pt x="347" y="0"/>
                    </a:lnTo>
                    <a:lnTo>
                      <a:pt x="353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9320" y="362412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103" h="38">
                    <a:moveTo>
                      <a:pt x="103" y="0"/>
                    </a:moveTo>
                    <a:lnTo>
                      <a:pt x="91" y="5"/>
                    </a:lnTo>
                    <a:lnTo>
                      <a:pt x="79" y="10"/>
                    </a:lnTo>
                    <a:lnTo>
                      <a:pt x="68" y="14"/>
                    </a:lnTo>
                    <a:lnTo>
                      <a:pt x="56" y="19"/>
                    </a:lnTo>
                    <a:lnTo>
                      <a:pt x="43" y="22"/>
                    </a:lnTo>
                    <a:lnTo>
                      <a:pt x="31" y="26"/>
                    </a:lnTo>
                    <a:lnTo>
                      <a:pt x="18" y="32"/>
                    </a:lnTo>
                    <a:lnTo>
                      <a:pt x="8" y="38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30"/>
                    </a:lnTo>
                    <a:lnTo>
                      <a:pt x="31" y="24"/>
                    </a:lnTo>
                    <a:lnTo>
                      <a:pt x="42" y="20"/>
                    </a:lnTo>
                    <a:lnTo>
                      <a:pt x="52" y="14"/>
                    </a:lnTo>
                    <a:lnTo>
                      <a:pt x="62" y="11"/>
                    </a:lnTo>
                    <a:lnTo>
                      <a:pt x="74" y="8"/>
                    </a:lnTo>
                    <a:lnTo>
                      <a:pt x="87" y="7"/>
                    </a:lnTo>
                    <a:lnTo>
                      <a:pt x="93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29360" y="3667320"/>
                <a:ext cx="112680" cy="48960"/>
              </a:xfrm>
              <a:custGeom>
                <a:avLst/>
                <a:gdLst/>
                <a:ahLst/>
                <a:rect l="l" t="t" r="r" b="b"/>
                <a:pathLst>
                  <a:path w="141" h="62">
                    <a:moveTo>
                      <a:pt x="141" y="0"/>
                    </a:moveTo>
                    <a:lnTo>
                      <a:pt x="127" y="5"/>
                    </a:lnTo>
                    <a:lnTo>
                      <a:pt x="114" y="11"/>
                    </a:lnTo>
                    <a:lnTo>
                      <a:pt x="101" y="17"/>
                    </a:lnTo>
                    <a:lnTo>
                      <a:pt x="88" y="25"/>
                    </a:lnTo>
                    <a:lnTo>
                      <a:pt x="74" y="31"/>
                    </a:lnTo>
                    <a:lnTo>
                      <a:pt x="62" y="40"/>
                    </a:lnTo>
                    <a:lnTo>
                      <a:pt x="49" y="48"/>
                    </a:lnTo>
                    <a:lnTo>
                      <a:pt x="36" y="56"/>
                    </a:lnTo>
                    <a:lnTo>
                      <a:pt x="26" y="57"/>
                    </a:lnTo>
                    <a:lnTo>
                      <a:pt x="17" y="61"/>
                    </a:lnTo>
                    <a:lnTo>
                      <a:pt x="8" y="62"/>
                    </a:lnTo>
                    <a:lnTo>
                      <a:pt x="0" y="58"/>
                    </a:lnTo>
                    <a:lnTo>
                      <a:pt x="7" y="53"/>
                    </a:lnTo>
                    <a:lnTo>
                      <a:pt x="17" y="49"/>
                    </a:lnTo>
                    <a:lnTo>
                      <a:pt x="27" y="44"/>
                    </a:lnTo>
                    <a:lnTo>
                      <a:pt x="38" y="40"/>
                    </a:lnTo>
                    <a:lnTo>
                      <a:pt x="45" y="29"/>
                    </a:lnTo>
                    <a:lnTo>
                      <a:pt x="55" y="23"/>
                    </a:lnTo>
                    <a:lnTo>
                      <a:pt x="66" y="17"/>
                    </a:lnTo>
                    <a:lnTo>
                      <a:pt x="79" y="15"/>
                    </a:lnTo>
                    <a:lnTo>
                      <a:pt x="91" y="12"/>
                    </a:lnTo>
                    <a:lnTo>
                      <a:pt x="102" y="11"/>
                    </a:lnTo>
                    <a:lnTo>
                      <a:pt x="114" y="9"/>
                    </a:lnTo>
                    <a:lnTo>
                      <a:pt x="127" y="7"/>
                    </a:lnTo>
                    <a:lnTo>
                      <a:pt x="133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367200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88" y="0"/>
                    </a:moveTo>
                    <a:lnTo>
                      <a:pt x="81" y="10"/>
                    </a:lnTo>
                    <a:lnTo>
                      <a:pt x="72" y="18"/>
                    </a:lnTo>
                    <a:lnTo>
                      <a:pt x="62" y="22"/>
                    </a:lnTo>
                    <a:lnTo>
                      <a:pt x="51" y="27"/>
                    </a:lnTo>
                    <a:lnTo>
                      <a:pt x="37" y="28"/>
                    </a:lnTo>
                    <a:lnTo>
                      <a:pt x="24" y="30"/>
                    </a:lnTo>
                    <a:lnTo>
                      <a:pt x="11" y="31"/>
                    </a:lnTo>
                    <a:lnTo>
                      <a:pt x="0" y="35"/>
                    </a:lnTo>
                    <a:lnTo>
                      <a:pt x="11" y="30"/>
                    </a:lnTo>
                    <a:lnTo>
                      <a:pt x="22" y="26"/>
                    </a:lnTo>
                    <a:lnTo>
                      <a:pt x="32" y="20"/>
                    </a:lnTo>
                    <a:lnTo>
                      <a:pt x="44" y="16"/>
                    </a:lnTo>
                    <a:lnTo>
                      <a:pt x="54" y="9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10520" y="367200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85" y="22"/>
                    </a:moveTo>
                    <a:lnTo>
                      <a:pt x="75" y="27"/>
                    </a:lnTo>
                    <a:lnTo>
                      <a:pt x="65" y="32"/>
                    </a:lnTo>
                    <a:lnTo>
                      <a:pt x="55" y="36"/>
                    </a:lnTo>
                    <a:lnTo>
                      <a:pt x="46" y="41"/>
                    </a:lnTo>
                    <a:lnTo>
                      <a:pt x="35" y="44"/>
                    </a:lnTo>
                    <a:lnTo>
                      <a:pt x="25" y="48"/>
                    </a:lnTo>
                    <a:lnTo>
                      <a:pt x="15" y="51"/>
                    </a:lnTo>
                    <a:lnTo>
                      <a:pt x="7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0" y="33"/>
                    </a:lnTo>
                    <a:lnTo>
                      <a:pt x="22" y="28"/>
                    </a:lnTo>
                    <a:lnTo>
                      <a:pt x="34" y="23"/>
                    </a:lnTo>
                    <a:lnTo>
                      <a:pt x="47" y="20"/>
                    </a:lnTo>
                    <a:lnTo>
                      <a:pt x="58" y="16"/>
                    </a:lnTo>
                    <a:lnTo>
                      <a:pt x="70" y="12"/>
                    </a:lnTo>
                    <a:lnTo>
                      <a:pt x="82" y="5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1" y="10"/>
                    </a:lnTo>
                    <a:lnTo>
                      <a:pt x="88" y="16"/>
                    </a:lnTo>
                    <a:lnTo>
                      <a:pt x="8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7840" y="3678120"/>
                <a:ext cx="117360" cy="38160"/>
              </a:xfrm>
              <a:custGeom>
                <a:avLst/>
                <a:gdLst/>
                <a:ahLst/>
                <a:rect l="l" t="t" r="r" b="b"/>
                <a:pathLst>
                  <a:path w="148" h="50">
                    <a:moveTo>
                      <a:pt x="137" y="10"/>
                    </a:moveTo>
                    <a:lnTo>
                      <a:pt x="120" y="14"/>
                    </a:lnTo>
                    <a:lnTo>
                      <a:pt x="103" y="20"/>
                    </a:lnTo>
                    <a:lnTo>
                      <a:pt x="85" y="24"/>
                    </a:lnTo>
                    <a:lnTo>
                      <a:pt x="68" y="29"/>
                    </a:lnTo>
                    <a:lnTo>
                      <a:pt x="51" y="34"/>
                    </a:lnTo>
                    <a:lnTo>
                      <a:pt x="34" y="39"/>
                    </a:lnTo>
                    <a:lnTo>
                      <a:pt x="16" y="44"/>
                    </a:lnTo>
                    <a:lnTo>
                      <a:pt x="0" y="50"/>
                    </a:lnTo>
                    <a:lnTo>
                      <a:pt x="16" y="43"/>
                    </a:lnTo>
                    <a:lnTo>
                      <a:pt x="33" y="37"/>
                    </a:lnTo>
                    <a:lnTo>
                      <a:pt x="49" y="30"/>
                    </a:lnTo>
                    <a:lnTo>
                      <a:pt x="65" y="25"/>
                    </a:lnTo>
                    <a:lnTo>
                      <a:pt x="81" y="18"/>
                    </a:lnTo>
                    <a:lnTo>
                      <a:pt x="97" y="12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8" y="0"/>
                    </a:lnTo>
                    <a:lnTo>
                      <a:pt x="1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8800" y="3693960"/>
                <a:ext cx="133200" cy="47880"/>
              </a:xfrm>
              <a:custGeom>
                <a:avLst/>
                <a:gdLst/>
                <a:ahLst/>
                <a:rect l="l" t="t" r="r" b="b"/>
                <a:pathLst>
                  <a:path w="168" h="60">
                    <a:moveTo>
                      <a:pt x="168" y="2"/>
                    </a:moveTo>
                    <a:lnTo>
                      <a:pt x="154" y="4"/>
                    </a:lnTo>
                    <a:lnTo>
                      <a:pt x="142" y="7"/>
                    </a:lnTo>
                    <a:lnTo>
                      <a:pt x="129" y="11"/>
                    </a:lnTo>
                    <a:lnTo>
                      <a:pt x="118" y="17"/>
                    </a:lnTo>
                    <a:lnTo>
                      <a:pt x="106" y="22"/>
                    </a:lnTo>
                    <a:lnTo>
                      <a:pt x="95" y="28"/>
                    </a:lnTo>
                    <a:lnTo>
                      <a:pt x="83" y="31"/>
                    </a:lnTo>
                    <a:lnTo>
                      <a:pt x="71" y="35"/>
                    </a:lnTo>
                    <a:lnTo>
                      <a:pt x="61" y="36"/>
                    </a:lnTo>
                    <a:lnTo>
                      <a:pt x="54" y="39"/>
                    </a:lnTo>
                    <a:lnTo>
                      <a:pt x="45" y="43"/>
                    </a:lnTo>
                    <a:lnTo>
                      <a:pt x="39" y="46"/>
                    </a:lnTo>
                    <a:lnTo>
                      <a:pt x="30" y="49"/>
                    </a:lnTo>
                    <a:lnTo>
                      <a:pt x="23" y="53"/>
                    </a:lnTo>
                    <a:lnTo>
                      <a:pt x="14" y="57"/>
                    </a:lnTo>
                    <a:lnTo>
                      <a:pt x="6" y="60"/>
                    </a:lnTo>
                    <a:lnTo>
                      <a:pt x="2" y="54"/>
                    </a:lnTo>
                    <a:lnTo>
                      <a:pt x="0" y="49"/>
                    </a:lnTo>
                    <a:lnTo>
                      <a:pt x="20" y="43"/>
                    </a:lnTo>
                    <a:lnTo>
                      <a:pt x="41" y="36"/>
                    </a:lnTo>
                    <a:lnTo>
                      <a:pt x="61" y="30"/>
                    </a:lnTo>
                    <a:lnTo>
                      <a:pt x="82" y="24"/>
                    </a:lnTo>
                    <a:lnTo>
                      <a:pt x="102" y="18"/>
                    </a:lnTo>
                    <a:lnTo>
                      <a:pt x="123" y="11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35560" y="3699000"/>
                <a:ext cx="98640" cy="3960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122" y="0"/>
                    </a:moveTo>
                    <a:lnTo>
                      <a:pt x="116" y="3"/>
                    </a:lnTo>
                    <a:lnTo>
                      <a:pt x="109" y="8"/>
                    </a:lnTo>
                    <a:lnTo>
                      <a:pt x="102" y="12"/>
                    </a:lnTo>
                    <a:lnTo>
                      <a:pt x="95" y="17"/>
                    </a:lnTo>
                    <a:lnTo>
                      <a:pt x="89" y="22"/>
                    </a:lnTo>
                    <a:lnTo>
                      <a:pt x="84" y="28"/>
                    </a:lnTo>
                    <a:lnTo>
                      <a:pt x="79" y="35"/>
                    </a:lnTo>
                    <a:lnTo>
                      <a:pt x="78" y="43"/>
                    </a:lnTo>
                    <a:lnTo>
                      <a:pt x="67" y="45"/>
                    </a:lnTo>
                    <a:lnTo>
                      <a:pt x="57" y="47"/>
                    </a:lnTo>
                    <a:lnTo>
                      <a:pt x="46" y="48"/>
                    </a:lnTo>
                    <a:lnTo>
                      <a:pt x="36" y="50"/>
                    </a:lnTo>
                    <a:lnTo>
                      <a:pt x="27" y="48"/>
                    </a:lnTo>
                    <a:lnTo>
                      <a:pt x="17" y="46"/>
                    </a:lnTo>
                    <a:lnTo>
                      <a:pt x="7" y="41"/>
                    </a:lnTo>
                    <a:lnTo>
                      <a:pt x="0" y="35"/>
                    </a:lnTo>
                    <a:lnTo>
                      <a:pt x="13" y="28"/>
                    </a:lnTo>
                    <a:lnTo>
                      <a:pt x="28" y="25"/>
                    </a:lnTo>
                    <a:lnTo>
                      <a:pt x="41" y="23"/>
                    </a:lnTo>
                    <a:lnTo>
                      <a:pt x="56" y="22"/>
                    </a:lnTo>
                    <a:lnTo>
                      <a:pt x="70" y="18"/>
                    </a:lnTo>
                    <a:lnTo>
                      <a:pt x="84" y="15"/>
                    </a:lnTo>
                    <a:lnTo>
                      <a:pt x="98" y="9"/>
                    </a:lnTo>
                    <a:lnTo>
                      <a:pt x="112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75360" y="3703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0"/>
                    </a:moveTo>
                    <a:lnTo>
                      <a:pt x="20" y="1"/>
                    </a:lnTo>
                    <a:lnTo>
                      <a:pt x="15" y="6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9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50160" y="37130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0"/>
                    </a:moveTo>
                    <a:lnTo>
                      <a:pt x="18" y="3"/>
                    </a:lnTo>
                    <a:lnTo>
                      <a:pt x="12" y="6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6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33960" y="37242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1"/>
                    </a:moveTo>
                    <a:lnTo>
                      <a:pt x="6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5560" y="3751200"/>
                <a:ext cx="123840" cy="60480"/>
              </a:xfrm>
              <a:custGeom>
                <a:avLst/>
                <a:gdLst/>
                <a:ahLst/>
                <a:rect l="l" t="t" r="r" b="b"/>
                <a:pathLst>
                  <a:path w="155" h="76">
                    <a:moveTo>
                      <a:pt x="155" y="4"/>
                    </a:moveTo>
                    <a:lnTo>
                      <a:pt x="153" y="17"/>
                    </a:lnTo>
                    <a:lnTo>
                      <a:pt x="133" y="23"/>
                    </a:lnTo>
                    <a:lnTo>
                      <a:pt x="114" y="31"/>
                    </a:lnTo>
                    <a:lnTo>
                      <a:pt x="95" y="38"/>
                    </a:lnTo>
                    <a:lnTo>
                      <a:pt x="76" y="46"/>
                    </a:lnTo>
                    <a:lnTo>
                      <a:pt x="57" y="52"/>
                    </a:lnTo>
                    <a:lnTo>
                      <a:pt x="38" y="60"/>
                    </a:lnTo>
                    <a:lnTo>
                      <a:pt x="18" y="67"/>
                    </a:lnTo>
                    <a:lnTo>
                      <a:pt x="0" y="76"/>
                    </a:lnTo>
                    <a:lnTo>
                      <a:pt x="17" y="65"/>
                    </a:lnTo>
                    <a:lnTo>
                      <a:pt x="35" y="56"/>
                    </a:lnTo>
                    <a:lnTo>
                      <a:pt x="54" y="46"/>
                    </a:lnTo>
                    <a:lnTo>
                      <a:pt x="73" y="36"/>
                    </a:lnTo>
                    <a:lnTo>
                      <a:pt x="92" y="27"/>
                    </a:lnTo>
                    <a:lnTo>
                      <a:pt x="112" y="17"/>
                    </a:lnTo>
                    <a:lnTo>
                      <a:pt x="131" y="7"/>
                    </a:lnTo>
                    <a:lnTo>
                      <a:pt x="151" y="0"/>
                    </a:lnTo>
                    <a:lnTo>
                      <a:pt x="1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18440" y="375120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6" y="27"/>
                    </a:moveTo>
                    <a:lnTo>
                      <a:pt x="49" y="28"/>
                    </a:lnTo>
                    <a:lnTo>
                      <a:pt x="41" y="29"/>
                    </a:lnTo>
                    <a:lnTo>
                      <a:pt x="33" y="29"/>
                    </a:lnTo>
                    <a:lnTo>
                      <a:pt x="27" y="30"/>
                    </a:lnTo>
                    <a:lnTo>
                      <a:pt x="19" y="30"/>
                    </a:lnTo>
                    <a:lnTo>
                      <a:pt x="12" y="30"/>
                    </a:lnTo>
                    <a:lnTo>
                      <a:pt x="5" y="30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3" y="21"/>
                    </a:lnTo>
                    <a:lnTo>
                      <a:pt x="21" y="18"/>
                    </a:lnTo>
                    <a:lnTo>
                      <a:pt x="28" y="16"/>
                    </a:lnTo>
                    <a:lnTo>
                      <a:pt x="35" y="13"/>
                    </a:lnTo>
                    <a:lnTo>
                      <a:pt x="41" y="9"/>
                    </a:lnTo>
                    <a:lnTo>
                      <a:pt x="47" y="5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7" y="12"/>
                    </a:lnTo>
                    <a:lnTo>
                      <a:pt x="56" y="19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8400" y="375588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98" h="38">
                    <a:moveTo>
                      <a:pt x="98" y="4"/>
                    </a:moveTo>
                    <a:lnTo>
                      <a:pt x="90" y="2"/>
                    </a:lnTo>
                    <a:lnTo>
                      <a:pt x="83" y="7"/>
                    </a:lnTo>
                    <a:lnTo>
                      <a:pt x="76" y="10"/>
                    </a:lnTo>
                    <a:lnTo>
                      <a:pt x="69" y="11"/>
                    </a:lnTo>
                    <a:lnTo>
                      <a:pt x="62" y="15"/>
                    </a:lnTo>
                    <a:lnTo>
                      <a:pt x="54" y="20"/>
                    </a:lnTo>
                    <a:lnTo>
                      <a:pt x="46" y="23"/>
                    </a:lnTo>
                    <a:lnTo>
                      <a:pt x="37" y="27"/>
                    </a:lnTo>
                    <a:lnTo>
                      <a:pt x="27" y="29"/>
                    </a:lnTo>
                    <a:lnTo>
                      <a:pt x="19" y="31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0" y="31"/>
                    </a:lnTo>
                    <a:lnTo>
                      <a:pt x="22" y="26"/>
                    </a:lnTo>
                    <a:lnTo>
                      <a:pt x="34" y="22"/>
                    </a:lnTo>
                    <a:lnTo>
                      <a:pt x="47" y="18"/>
                    </a:lnTo>
                    <a:lnTo>
                      <a:pt x="59" y="14"/>
                    </a:lnTo>
                    <a:lnTo>
                      <a:pt x="71" y="11"/>
                    </a:lnTo>
                    <a:lnTo>
                      <a:pt x="83" y="6"/>
                    </a:lnTo>
                    <a:lnTo>
                      <a:pt x="96" y="0"/>
                    </a:lnTo>
                    <a:lnTo>
                      <a:pt x="9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13320" y="381960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153" h="56">
                    <a:moveTo>
                      <a:pt x="153" y="56"/>
                    </a:moveTo>
                    <a:lnTo>
                      <a:pt x="132" y="50"/>
                    </a:lnTo>
                    <a:lnTo>
                      <a:pt x="112" y="45"/>
                    </a:lnTo>
                    <a:lnTo>
                      <a:pt x="93" y="39"/>
                    </a:lnTo>
                    <a:lnTo>
                      <a:pt x="75" y="32"/>
                    </a:lnTo>
                    <a:lnTo>
                      <a:pt x="55" y="24"/>
                    </a:lnTo>
                    <a:lnTo>
                      <a:pt x="37" y="16"/>
                    </a:lnTo>
                    <a:lnTo>
                      <a:pt x="19" y="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22" y="4"/>
                    </a:lnTo>
                    <a:lnTo>
                      <a:pt x="41" y="11"/>
                    </a:lnTo>
                    <a:lnTo>
                      <a:pt x="59" y="17"/>
                    </a:lnTo>
                    <a:lnTo>
                      <a:pt x="79" y="25"/>
                    </a:lnTo>
                    <a:lnTo>
                      <a:pt x="97" y="31"/>
                    </a:lnTo>
                    <a:lnTo>
                      <a:pt x="115" y="40"/>
                    </a:lnTo>
                    <a:lnTo>
                      <a:pt x="134" y="47"/>
                    </a:lnTo>
                    <a:lnTo>
                      <a:pt x="15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88040" y="383076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79" h="32">
                    <a:moveTo>
                      <a:pt x="79" y="30"/>
                    </a:moveTo>
                    <a:lnTo>
                      <a:pt x="68" y="28"/>
                    </a:lnTo>
                    <a:lnTo>
                      <a:pt x="58" y="29"/>
                    </a:lnTo>
                    <a:lnTo>
                      <a:pt x="49" y="30"/>
                    </a:lnTo>
                    <a:lnTo>
                      <a:pt x="40" y="32"/>
                    </a:lnTo>
                    <a:lnTo>
                      <a:pt x="30" y="32"/>
                    </a:lnTo>
                    <a:lnTo>
                      <a:pt x="21" y="32"/>
                    </a:lnTo>
                    <a:lnTo>
                      <a:pt x="12" y="30"/>
                    </a:lnTo>
                    <a:lnTo>
                      <a:pt x="6" y="27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2" y="3"/>
                    </a:lnTo>
                    <a:lnTo>
                      <a:pt x="22" y="6"/>
                    </a:lnTo>
                    <a:lnTo>
                      <a:pt x="30" y="11"/>
                    </a:lnTo>
                    <a:lnTo>
                      <a:pt x="40" y="15"/>
                    </a:lnTo>
                    <a:lnTo>
                      <a:pt x="50" y="18"/>
                    </a:lnTo>
                    <a:lnTo>
                      <a:pt x="59" y="21"/>
                    </a:lnTo>
                    <a:lnTo>
                      <a:pt x="69" y="26"/>
                    </a:lnTo>
                    <a:lnTo>
                      <a:pt x="7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72160" y="3841920"/>
                <a:ext cx="228600" cy="74520"/>
              </a:xfrm>
              <a:custGeom>
                <a:avLst/>
                <a:gdLst/>
                <a:ahLst/>
                <a:rect l="l" t="t" r="r" b="b"/>
                <a:pathLst>
                  <a:path w="290" h="94">
                    <a:moveTo>
                      <a:pt x="106" y="33"/>
                    </a:moveTo>
                    <a:lnTo>
                      <a:pt x="125" y="40"/>
                    </a:lnTo>
                    <a:lnTo>
                      <a:pt x="146" y="46"/>
                    </a:lnTo>
                    <a:lnTo>
                      <a:pt x="166" y="54"/>
                    </a:lnTo>
                    <a:lnTo>
                      <a:pt x="188" y="61"/>
                    </a:lnTo>
                    <a:lnTo>
                      <a:pt x="208" y="69"/>
                    </a:lnTo>
                    <a:lnTo>
                      <a:pt x="230" y="76"/>
                    </a:lnTo>
                    <a:lnTo>
                      <a:pt x="250" y="84"/>
                    </a:lnTo>
                    <a:lnTo>
                      <a:pt x="272" y="92"/>
                    </a:lnTo>
                    <a:lnTo>
                      <a:pt x="281" y="91"/>
                    </a:lnTo>
                    <a:lnTo>
                      <a:pt x="290" y="94"/>
                    </a:lnTo>
                    <a:lnTo>
                      <a:pt x="258" y="89"/>
                    </a:lnTo>
                    <a:lnTo>
                      <a:pt x="227" y="83"/>
                    </a:lnTo>
                    <a:lnTo>
                      <a:pt x="197" y="75"/>
                    </a:lnTo>
                    <a:lnTo>
                      <a:pt x="168" y="68"/>
                    </a:lnTo>
                    <a:lnTo>
                      <a:pt x="139" y="58"/>
                    </a:lnTo>
                    <a:lnTo>
                      <a:pt x="110" y="49"/>
                    </a:lnTo>
                    <a:lnTo>
                      <a:pt x="81" y="40"/>
                    </a:lnTo>
                    <a:lnTo>
                      <a:pt x="52" y="3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7"/>
                    </a:lnTo>
                    <a:lnTo>
                      <a:pt x="39" y="10"/>
                    </a:lnTo>
                    <a:lnTo>
                      <a:pt x="53" y="15"/>
                    </a:lnTo>
                    <a:lnTo>
                      <a:pt x="66" y="18"/>
                    </a:lnTo>
                    <a:lnTo>
                      <a:pt x="79" y="22"/>
                    </a:lnTo>
                    <a:lnTo>
                      <a:pt x="92" y="27"/>
                    </a:lnTo>
                    <a:lnTo>
                      <a:pt x="10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4720" y="384192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36" y="0"/>
                    </a:moveTo>
                    <a:lnTo>
                      <a:pt x="29" y="6"/>
                    </a:lnTo>
                    <a:lnTo>
                      <a:pt x="21" y="10"/>
                    </a:lnTo>
                    <a:lnTo>
                      <a:pt x="9" y="12"/>
                    </a:lnTo>
                    <a:lnTo>
                      <a:pt x="0" y="16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11960" y="3843360"/>
                <a:ext cx="156960" cy="36360"/>
              </a:xfrm>
              <a:custGeom>
                <a:avLst/>
                <a:gdLst/>
                <a:ahLst/>
                <a:rect l="l" t="t" r="r" b="b"/>
                <a:pathLst>
                  <a:path w="197" h="45">
                    <a:moveTo>
                      <a:pt x="197" y="32"/>
                    </a:moveTo>
                    <a:lnTo>
                      <a:pt x="175" y="38"/>
                    </a:lnTo>
                    <a:lnTo>
                      <a:pt x="153" y="41"/>
                    </a:lnTo>
                    <a:lnTo>
                      <a:pt x="132" y="41"/>
                    </a:lnTo>
                    <a:lnTo>
                      <a:pt x="110" y="42"/>
                    </a:lnTo>
                    <a:lnTo>
                      <a:pt x="89" y="41"/>
                    </a:lnTo>
                    <a:lnTo>
                      <a:pt x="67" y="40"/>
                    </a:lnTo>
                    <a:lnTo>
                      <a:pt x="44" y="40"/>
                    </a:lnTo>
                    <a:lnTo>
                      <a:pt x="23" y="42"/>
                    </a:lnTo>
                    <a:lnTo>
                      <a:pt x="18" y="44"/>
                    </a:lnTo>
                    <a:lnTo>
                      <a:pt x="12" y="45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1" y="37"/>
                    </a:lnTo>
                    <a:lnTo>
                      <a:pt x="42" y="33"/>
                    </a:lnTo>
                    <a:lnTo>
                      <a:pt x="64" y="29"/>
                    </a:lnTo>
                    <a:lnTo>
                      <a:pt x="86" y="27"/>
                    </a:lnTo>
                    <a:lnTo>
                      <a:pt x="108" y="23"/>
                    </a:lnTo>
                    <a:lnTo>
                      <a:pt x="129" y="18"/>
                    </a:lnTo>
                    <a:lnTo>
                      <a:pt x="150" y="12"/>
                    </a:lnTo>
                    <a:lnTo>
                      <a:pt x="170" y="3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87" y="3"/>
                    </a:lnTo>
                    <a:lnTo>
                      <a:pt x="189" y="10"/>
                    </a:lnTo>
                    <a:lnTo>
                      <a:pt x="190" y="15"/>
                    </a:lnTo>
                    <a:lnTo>
                      <a:pt x="191" y="21"/>
                    </a:lnTo>
                    <a:lnTo>
                      <a:pt x="193" y="27"/>
                    </a:lnTo>
                    <a:lnTo>
                      <a:pt x="19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39000" y="385452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2" y="42"/>
                    </a:moveTo>
                    <a:lnTo>
                      <a:pt x="0" y="40"/>
                    </a:lnTo>
                    <a:lnTo>
                      <a:pt x="8" y="32"/>
                    </a:lnTo>
                    <a:lnTo>
                      <a:pt x="18" y="26"/>
                    </a:lnTo>
                    <a:lnTo>
                      <a:pt x="27" y="20"/>
                    </a:lnTo>
                    <a:lnTo>
                      <a:pt x="37" y="16"/>
                    </a:lnTo>
                    <a:lnTo>
                      <a:pt x="47" y="12"/>
                    </a:lnTo>
                    <a:lnTo>
                      <a:pt x="56" y="7"/>
                    </a:lnTo>
                    <a:lnTo>
                      <a:pt x="66" y="3"/>
                    </a:lnTo>
                    <a:lnTo>
                      <a:pt x="77" y="0"/>
                    </a:lnTo>
                    <a:lnTo>
                      <a:pt x="72" y="10"/>
                    </a:lnTo>
                    <a:lnTo>
                      <a:pt x="66" y="17"/>
                    </a:lnTo>
                    <a:lnTo>
                      <a:pt x="56" y="22"/>
                    </a:lnTo>
                    <a:lnTo>
                      <a:pt x="47" y="28"/>
                    </a:lnTo>
                    <a:lnTo>
                      <a:pt x="35" y="31"/>
                    </a:lnTo>
                    <a:lnTo>
                      <a:pt x="23" y="34"/>
                    </a:lnTo>
                    <a:lnTo>
                      <a:pt x="11" y="38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9960" y="3884760"/>
                <a:ext cx="122040" cy="23760"/>
              </a:xfrm>
              <a:custGeom>
                <a:avLst/>
                <a:gdLst/>
                <a:ahLst/>
                <a:rect l="l" t="t" r="r" b="b"/>
                <a:pathLst>
                  <a:path w="153" h="30">
                    <a:moveTo>
                      <a:pt x="153" y="7"/>
                    </a:moveTo>
                    <a:lnTo>
                      <a:pt x="151" y="13"/>
                    </a:lnTo>
                    <a:lnTo>
                      <a:pt x="147" y="18"/>
                    </a:lnTo>
                    <a:lnTo>
                      <a:pt x="143" y="22"/>
                    </a:lnTo>
                    <a:lnTo>
                      <a:pt x="144" y="30"/>
                    </a:lnTo>
                    <a:lnTo>
                      <a:pt x="133" y="28"/>
                    </a:lnTo>
                    <a:lnTo>
                      <a:pt x="124" y="25"/>
                    </a:lnTo>
                    <a:lnTo>
                      <a:pt x="115" y="21"/>
                    </a:lnTo>
                    <a:lnTo>
                      <a:pt x="106" y="18"/>
                    </a:lnTo>
                    <a:lnTo>
                      <a:pt x="97" y="14"/>
                    </a:lnTo>
                    <a:lnTo>
                      <a:pt x="88" y="10"/>
                    </a:lnTo>
                    <a:lnTo>
                      <a:pt x="78" y="7"/>
                    </a:lnTo>
                    <a:lnTo>
                      <a:pt x="70" y="7"/>
                    </a:lnTo>
                    <a:lnTo>
                      <a:pt x="62" y="14"/>
                    </a:lnTo>
                    <a:lnTo>
                      <a:pt x="61" y="23"/>
                    </a:lnTo>
                    <a:lnTo>
                      <a:pt x="51" y="22"/>
                    </a:lnTo>
                    <a:lnTo>
                      <a:pt x="44" y="21"/>
                    </a:lnTo>
                    <a:lnTo>
                      <a:pt x="36" y="19"/>
                    </a:lnTo>
                    <a:lnTo>
                      <a:pt x="29" y="17"/>
                    </a:lnTo>
                    <a:lnTo>
                      <a:pt x="21" y="14"/>
                    </a:lnTo>
                    <a:lnTo>
                      <a:pt x="14" y="11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18" y="2"/>
                    </a:lnTo>
                    <a:lnTo>
                      <a:pt x="36" y="1"/>
                    </a:lnTo>
                    <a:lnTo>
                      <a:pt x="55" y="0"/>
                    </a:lnTo>
                    <a:lnTo>
                      <a:pt x="74" y="1"/>
                    </a:lnTo>
                    <a:lnTo>
                      <a:pt x="92" y="2"/>
                    </a:lnTo>
                    <a:lnTo>
                      <a:pt x="112" y="4"/>
                    </a:lnTo>
                    <a:lnTo>
                      <a:pt x="131" y="6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56280" y="390852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0"/>
                    </a:moveTo>
                    <a:lnTo>
                      <a:pt x="55" y="3"/>
                    </a:lnTo>
                    <a:lnTo>
                      <a:pt x="48" y="8"/>
                    </a:lnTo>
                    <a:lnTo>
                      <a:pt x="40" y="14"/>
                    </a:lnTo>
                    <a:lnTo>
                      <a:pt x="33" y="19"/>
                    </a:lnTo>
                    <a:lnTo>
                      <a:pt x="25" y="23"/>
                    </a:lnTo>
                    <a:lnTo>
                      <a:pt x="18" y="28"/>
                    </a:lnTo>
                    <a:lnTo>
                      <a:pt x="10" y="32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5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8" y="5"/>
                    </a:lnTo>
                    <a:lnTo>
                      <a:pt x="35" y="2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49960" y="39290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9"/>
                    </a:moveTo>
                    <a:lnTo>
                      <a:pt x="1" y="19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78400" y="3971880"/>
                <a:ext cx="108000" cy="4608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16" y="11"/>
                    </a:moveTo>
                    <a:lnTo>
                      <a:pt x="117" y="16"/>
                    </a:lnTo>
                    <a:lnTo>
                      <a:pt x="120" y="23"/>
                    </a:lnTo>
                    <a:lnTo>
                      <a:pt x="122" y="28"/>
                    </a:lnTo>
                    <a:lnTo>
                      <a:pt x="125" y="35"/>
                    </a:lnTo>
                    <a:lnTo>
                      <a:pt x="130" y="46"/>
                    </a:lnTo>
                    <a:lnTo>
                      <a:pt x="137" y="57"/>
                    </a:lnTo>
                    <a:lnTo>
                      <a:pt x="119" y="52"/>
                    </a:lnTo>
                    <a:lnTo>
                      <a:pt x="101" y="47"/>
                    </a:lnTo>
                    <a:lnTo>
                      <a:pt x="83" y="41"/>
                    </a:lnTo>
                    <a:lnTo>
                      <a:pt x="66" y="36"/>
                    </a:lnTo>
                    <a:lnTo>
                      <a:pt x="49" y="28"/>
                    </a:lnTo>
                    <a:lnTo>
                      <a:pt x="31" y="22"/>
                    </a:lnTo>
                    <a:lnTo>
                      <a:pt x="15" y="12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6" y="0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5"/>
                    </a:lnTo>
                    <a:lnTo>
                      <a:pt x="102" y="8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11880" y="3987720"/>
                <a:ext cx="106200" cy="50760"/>
              </a:xfrm>
              <a:custGeom>
                <a:avLst/>
                <a:gdLst/>
                <a:ahLst/>
                <a:rect l="l" t="t" r="r" b="b"/>
                <a:pathLst>
                  <a:path w="135" h="64">
                    <a:moveTo>
                      <a:pt x="85" y="27"/>
                    </a:moveTo>
                    <a:lnTo>
                      <a:pt x="91" y="31"/>
                    </a:lnTo>
                    <a:lnTo>
                      <a:pt x="97" y="35"/>
                    </a:lnTo>
                    <a:lnTo>
                      <a:pt x="104" y="38"/>
                    </a:lnTo>
                    <a:lnTo>
                      <a:pt x="110" y="44"/>
                    </a:lnTo>
                    <a:lnTo>
                      <a:pt x="116" y="47"/>
                    </a:lnTo>
                    <a:lnTo>
                      <a:pt x="122" y="52"/>
                    </a:lnTo>
                    <a:lnTo>
                      <a:pt x="129" y="58"/>
                    </a:lnTo>
                    <a:lnTo>
                      <a:pt x="135" y="64"/>
                    </a:lnTo>
                    <a:lnTo>
                      <a:pt x="127" y="64"/>
                    </a:lnTo>
                    <a:lnTo>
                      <a:pt x="121" y="64"/>
                    </a:lnTo>
                    <a:lnTo>
                      <a:pt x="115" y="63"/>
                    </a:lnTo>
                    <a:lnTo>
                      <a:pt x="109" y="61"/>
                    </a:lnTo>
                    <a:lnTo>
                      <a:pt x="103" y="57"/>
                    </a:lnTo>
                    <a:lnTo>
                      <a:pt x="96" y="52"/>
                    </a:lnTo>
                    <a:lnTo>
                      <a:pt x="91" y="47"/>
                    </a:lnTo>
                    <a:lnTo>
                      <a:pt x="87" y="43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3" y="12"/>
                    </a:lnTo>
                    <a:lnTo>
                      <a:pt x="53" y="15"/>
                    </a:lnTo>
                    <a:lnTo>
                      <a:pt x="64" y="19"/>
                    </a:lnTo>
                    <a:lnTo>
                      <a:pt x="74" y="22"/>
                    </a:lnTo>
                    <a:lnTo>
                      <a:pt x="8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1400" y="39956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7" y="40"/>
                    </a:lnTo>
                    <a:lnTo>
                      <a:pt x="14" y="34"/>
                    </a:lnTo>
                    <a:lnTo>
                      <a:pt x="23" y="28"/>
                    </a:lnTo>
                    <a:lnTo>
                      <a:pt x="31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7" y="6"/>
                    </a:lnTo>
                    <a:lnTo>
                      <a:pt x="66" y="0"/>
                    </a:lnTo>
                    <a:lnTo>
                      <a:pt x="58" y="7"/>
                    </a:lnTo>
                    <a:lnTo>
                      <a:pt x="51" y="16"/>
                    </a:lnTo>
                    <a:lnTo>
                      <a:pt x="43" y="23"/>
                    </a:lnTo>
                    <a:lnTo>
                      <a:pt x="37" y="32"/>
                    </a:lnTo>
                    <a:lnTo>
                      <a:pt x="28" y="37"/>
                    </a:lnTo>
                    <a:lnTo>
                      <a:pt x="20" y="43"/>
                    </a:lnTo>
                    <a:lnTo>
                      <a:pt x="10" y="47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15080" y="400680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70" y="0"/>
                    </a:moveTo>
                    <a:lnTo>
                      <a:pt x="61" y="6"/>
                    </a:lnTo>
                    <a:lnTo>
                      <a:pt x="53" y="12"/>
                    </a:lnTo>
                    <a:lnTo>
                      <a:pt x="44" y="19"/>
                    </a:lnTo>
                    <a:lnTo>
                      <a:pt x="37" y="25"/>
                    </a:lnTo>
                    <a:lnTo>
                      <a:pt x="28" y="31"/>
                    </a:lnTo>
                    <a:lnTo>
                      <a:pt x="20" y="37"/>
                    </a:lnTo>
                    <a:lnTo>
                      <a:pt x="11" y="41"/>
                    </a:lnTo>
                    <a:lnTo>
                      <a:pt x="4" y="46"/>
                    </a:lnTo>
                    <a:lnTo>
                      <a:pt x="0" y="42"/>
                    </a:lnTo>
                    <a:lnTo>
                      <a:pt x="6" y="32"/>
                    </a:lnTo>
                    <a:lnTo>
                      <a:pt x="13" y="25"/>
                    </a:lnTo>
                    <a:lnTo>
                      <a:pt x="21" y="19"/>
                    </a:lnTo>
                    <a:lnTo>
                      <a:pt x="30" y="14"/>
                    </a:lnTo>
                    <a:lnTo>
                      <a:pt x="40" y="10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03800" y="400860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91" y="37"/>
                    </a:moveTo>
                    <a:lnTo>
                      <a:pt x="76" y="34"/>
                    </a:lnTo>
                    <a:lnTo>
                      <a:pt x="61" y="34"/>
                    </a:lnTo>
                    <a:lnTo>
                      <a:pt x="44" y="35"/>
                    </a:lnTo>
                    <a:lnTo>
                      <a:pt x="29" y="36"/>
                    </a:lnTo>
                    <a:lnTo>
                      <a:pt x="14" y="33"/>
                    </a:lnTo>
                    <a:lnTo>
                      <a:pt x="5" y="28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15" y="3"/>
                    </a:lnTo>
                    <a:lnTo>
                      <a:pt x="28" y="5"/>
                    </a:lnTo>
                    <a:lnTo>
                      <a:pt x="41" y="6"/>
                    </a:lnTo>
                    <a:lnTo>
                      <a:pt x="55" y="8"/>
                    </a:lnTo>
                    <a:lnTo>
                      <a:pt x="67" y="10"/>
                    </a:lnTo>
                    <a:lnTo>
                      <a:pt x="77" y="16"/>
                    </a:lnTo>
                    <a:lnTo>
                      <a:pt x="86" y="24"/>
                    </a:lnTo>
                    <a:lnTo>
                      <a:pt x="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29080" y="40179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71" y="37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30" y="7"/>
                    </a:lnTo>
                    <a:lnTo>
                      <a:pt x="40" y="12"/>
                    </a:lnTo>
                    <a:lnTo>
                      <a:pt x="47" y="16"/>
                    </a:lnTo>
                    <a:lnTo>
                      <a:pt x="56" y="23"/>
                    </a:lnTo>
                    <a:lnTo>
                      <a:pt x="63" y="29"/>
                    </a:lnTo>
                    <a:lnTo>
                      <a:pt x="7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6680" y="4033800"/>
                <a:ext cx="74520" cy="28800"/>
              </a:xfrm>
              <a:custGeom>
                <a:avLst/>
                <a:gdLst/>
                <a:ahLst/>
                <a:rect l="l" t="t" r="r" b="b"/>
                <a:pathLst>
                  <a:path w="95" h="35">
                    <a:moveTo>
                      <a:pt x="92" y="2"/>
                    </a:moveTo>
                    <a:lnTo>
                      <a:pt x="95" y="6"/>
                    </a:lnTo>
                    <a:lnTo>
                      <a:pt x="85" y="18"/>
                    </a:lnTo>
                    <a:lnTo>
                      <a:pt x="76" y="26"/>
                    </a:lnTo>
                    <a:lnTo>
                      <a:pt x="64" y="30"/>
                    </a:lnTo>
                    <a:lnTo>
                      <a:pt x="52" y="32"/>
                    </a:lnTo>
                    <a:lnTo>
                      <a:pt x="39" y="31"/>
                    </a:lnTo>
                    <a:lnTo>
                      <a:pt x="26" y="31"/>
                    </a:lnTo>
                    <a:lnTo>
                      <a:pt x="13" y="31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10" y="27"/>
                    </a:lnTo>
                    <a:lnTo>
                      <a:pt x="20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1" y="1"/>
                    </a:lnTo>
                    <a:lnTo>
                      <a:pt x="62" y="0"/>
                    </a:lnTo>
                    <a:lnTo>
                      <a:pt x="72" y="1"/>
                    </a:lnTo>
                    <a:lnTo>
                      <a:pt x="85" y="8"/>
                    </a:lnTo>
                    <a:lnTo>
                      <a:pt x="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46800" y="403704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39" y="12"/>
                    </a:moveTo>
                    <a:lnTo>
                      <a:pt x="33" y="14"/>
                    </a:lnTo>
                    <a:lnTo>
                      <a:pt x="24" y="15"/>
                    </a:lnTo>
                    <a:lnTo>
                      <a:pt x="14" y="14"/>
                    </a:lnTo>
                    <a:lnTo>
                      <a:pt x="7" y="12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20" y="3"/>
                    </a:lnTo>
                    <a:lnTo>
                      <a:pt x="28" y="9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02000" y="4056120"/>
                <a:ext cx="1332000" cy="971640"/>
              </a:xfrm>
              <a:custGeom>
                <a:avLst/>
                <a:gdLst/>
                <a:ahLst/>
                <a:rect l="l" t="t" r="r" b="b"/>
                <a:pathLst>
                  <a:path w="1676" h="1223">
                    <a:moveTo>
                      <a:pt x="323" y="153"/>
                    </a:moveTo>
                    <a:lnTo>
                      <a:pt x="334" y="179"/>
                    </a:lnTo>
                    <a:lnTo>
                      <a:pt x="350" y="166"/>
                    </a:lnTo>
                    <a:lnTo>
                      <a:pt x="373" y="177"/>
                    </a:lnTo>
                    <a:lnTo>
                      <a:pt x="396" y="188"/>
                    </a:lnTo>
                    <a:lnTo>
                      <a:pt x="419" y="198"/>
                    </a:lnTo>
                    <a:lnTo>
                      <a:pt x="443" y="207"/>
                    </a:lnTo>
                    <a:lnTo>
                      <a:pt x="467" y="216"/>
                    </a:lnTo>
                    <a:lnTo>
                      <a:pt x="490" y="226"/>
                    </a:lnTo>
                    <a:lnTo>
                      <a:pt x="513" y="235"/>
                    </a:lnTo>
                    <a:lnTo>
                      <a:pt x="537" y="247"/>
                    </a:lnTo>
                    <a:lnTo>
                      <a:pt x="535" y="253"/>
                    </a:lnTo>
                    <a:lnTo>
                      <a:pt x="535" y="259"/>
                    </a:lnTo>
                    <a:lnTo>
                      <a:pt x="535" y="264"/>
                    </a:lnTo>
                    <a:lnTo>
                      <a:pt x="537" y="271"/>
                    </a:lnTo>
                    <a:lnTo>
                      <a:pt x="537" y="275"/>
                    </a:lnTo>
                    <a:lnTo>
                      <a:pt x="541" y="281"/>
                    </a:lnTo>
                    <a:lnTo>
                      <a:pt x="544" y="283"/>
                    </a:lnTo>
                    <a:lnTo>
                      <a:pt x="552" y="285"/>
                    </a:lnTo>
                    <a:lnTo>
                      <a:pt x="560" y="285"/>
                    </a:lnTo>
                    <a:lnTo>
                      <a:pt x="566" y="280"/>
                    </a:lnTo>
                    <a:lnTo>
                      <a:pt x="570" y="272"/>
                    </a:lnTo>
                    <a:lnTo>
                      <a:pt x="576" y="269"/>
                    </a:lnTo>
                    <a:lnTo>
                      <a:pt x="600" y="281"/>
                    </a:lnTo>
                    <a:lnTo>
                      <a:pt x="626" y="292"/>
                    </a:lnTo>
                    <a:lnTo>
                      <a:pt x="651" y="304"/>
                    </a:lnTo>
                    <a:lnTo>
                      <a:pt x="676" y="317"/>
                    </a:lnTo>
                    <a:lnTo>
                      <a:pt x="701" y="329"/>
                    </a:lnTo>
                    <a:lnTo>
                      <a:pt x="726" y="342"/>
                    </a:lnTo>
                    <a:lnTo>
                      <a:pt x="750" y="356"/>
                    </a:lnTo>
                    <a:lnTo>
                      <a:pt x="774" y="372"/>
                    </a:lnTo>
                    <a:lnTo>
                      <a:pt x="796" y="379"/>
                    </a:lnTo>
                    <a:lnTo>
                      <a:pt x="817" y="385"/>
                    </a:lnTo>
                    <a:lnTo>
                      <a:pt x="839" y="391"/>
                    </a:lnTo>
                    <a:lnTo>
                      <a:pt x="860" y="399"/>
                    </a:lnTo>
                    <a:lnTo>
                      <a:pt x="882" y="405"/>
                    </a:lnTo>
                    <a:lnTo>
                      <a:pt x="904" y="413"/>
                    </a:lnTo>
                    <a:lnTo>
                      <a:pt x="925" y="420"/>
                    </a:lnTo>
                    <a:lnTo>
                      <a:pt x="947" y="428"/>
                    </a:lnTo>
                    <a:lnTo>
                      <a:pt x="969" y="451"/>
                    </a:lnTo>
                    <a:lnTo>
                      <a:pt x="1011" y="470"/>
                    </a:lnTo>
                    <a:lnTo>
                      <a:pt x="1053" y="489"/>
                    </a:lnTo>
                    <a:lnTo>
                      <a:pt x="1095" y="509"/>
                    </a:lnTo>
                    <a:lnTo>
                      <a:pt x="1138" y="528"/>
                    </a:lnTo>
                    <a:lnTo>
                      <a:pt x="1180" y="546"/>
                    </a:lnTo>
                    <a:lnTo>
                      <a:pt x="1223" y="565"/>
                    </a:lnTo>
                    <a:lnTo>
                      <a:pt x="1266" y="582"/>
                    </a:lnTo>
                    <a:lnTo>
                      <a:pt x="1310" y="599"/>
                    </a:lnTo>
                    <a:lnTo>
                      <a:pt x="1453" y="673"/>
                    </a:lnTo>
                    <a:lnTo>
                      <a:pt x="1475" y="679"/>
                    </a:lnTo>
                    <a:lnTo>
                      <a:pt x="1498" y="687"/>
                    </a:lnTo>
                    <a:lnTo>
                      <a:pt x="1519" y="696"/>
                    </a:lnTo>
                    <a:lnTo>
                      <a:pt x="1541" y="707"/>
                    </a:lnTo>
                    <a:lnTo>
                      <a:pt x="1561" y="716"/>
                    </a:lnTo>
                    <a:lnTo>
                      <a:pt x="1581" y="728"/>
                    </a:lnTo>
                    <a:lnTo>
                      <a:pt x="1602" y="740"/>
                    </a:lnTo>
                    <a:lnTo>
                      <a:pt x="1622" y="752"/>
                    </a:lnTo>
                    <a:lnTo>
                      <a:pt x="1629" y="754"/>
                    </a:lnTo>
                    <a:lnTo>
                      <a:pt x="1635" y="757"/>
                    </a:lnTo>
                    <a:lnTo>
                      <a:pt x="1642" y="760"/>
                    </a:lnTo>
                    <a:lnTo>
                      <a:pt x="1649" y="765"/>
                    </a:lnTo>
                    <a:lnTo>
                      <a:pt x="1655" y="768"/>
                    </a:lnTo>
                    <a:lnTo>
                      <a:pt x="1660" y="772"/>
                    </a:lnTo>
                    <a:lnTo>
                      <a:pt x="1664" y="778"/>
                    </a:lnTo>
                    <a:lnTo>
                      <a:pt x="1669" y="785"/>
                    </a:lnTo>
                    <a:lnTo>
                      <a:pt x="1664" y="795"/>
                    </a:lnTo>
                    <a:lnTo>
                      <a:pt x="1663" y="806"/>
                    </a:lnTo>
                    <a:lnTo>
                      <a:pt x="1663" y="809"/>
                    </a:lnTo>
                    <a:lnTo>
                      <a:pt x="1665" y="813"/>
                    </a:lnTo>
                    <a:lnTo>
                      <a:pt x="1669" y="816"/>
                    </a:lnTo>
                    <a:lnTo>
                      <a:pt x="1676" y="819"/>
                    </a:lnTo>
                    <a:lnTo>
                      <a:pt x="1666" y="1186"/>
                    </a:lnTo>
                    <a:lnTo>
                      <a:pt x="1670" y="1193"/>
                    </a:lnTo>
                    <a:lnTo>
                      <a:pt x="1673" y="1200"/>
                    </a:lnTo>
                    <a:lnTo>
                      <a:pt x="1674" y="1208"/>
                    </a:lnTo>
                    <a:lnTo>
                      <a:pt x="1674" y="1218"/>
                    </a:lnTo>
                    <a:lnTo>
                      <a:pt x="1668" y="1222"/>
                    </a:lnTo>
                    <a:lnTo>
                      <a:pt x="1662" y="1223"/>
                    </a:lnTo>
                    <a:lnTo>
                      <a:pt x="1656" y="1221"/>
                    </a:lnTo>
                    <a:lnTo>
                      <a:pt x="1649" y="1222"/>
                    </a:lnTo>
                    <a:lnTo>
                      <a:pt x="1644" y="1215"/>
                    </a:lnTo>
                    <a:lnTo>
                      <a:pt x="1636" y="1213"/>
                    </a:lnTo>
                    <a:lnTo>
                      <a:pt x="1627" y="1213"/>
                    </a:lnTo>
                    <a:lnTo>
                      <a:pt x="1620" y="1211"/>
                    </a:lnTo>
                    <a:lnTo>
                      <a:pt x="1601" y="1195"/>
                    </a:lnTo>
                    <a:lnTo>
                      <a:pt x="1583" y="1182"/>
                    </a:lnTo>
                    <a:lnTo>
                      <a:pt x="1563" y="1169"/>
                    </a:lnTo>
                    <a:lnTo>
                      <a:pt x="1545" y="1157"/>
                    </a:lnTo>
                    <a:lnTo>
                      <a:pt x="1524" y="1146"/>
                    </a:lnTo>
                    <a:lnTo>
                      <a:pt x="1505" y="1135"/>
                    </a:lnTo>
                    <a:lnTo>
                      <a:pt x="1485" y="1124"/>
                    </a:lnTo>
                    <a:lnTo>
                      <a:pt x="1465" y="1114"/>
                    </a:lnTo>
                    <a:lnTo>
                      <a:pt x="1449" y="1111"/>
                    </a:lnTo>
                    <a:lnTo>
                      <a:pt x="1435" y="1108"/>
                    </a:lnTo>
                    <a:lnTo>
                      <a:pt x="1422" y="1103"/>
                    </a:lnTo>
                    <a:lnTo>
                      <a:pt x="1409" y="1098"/>
                    </a:lnTo>
                    <a:lnTo>
                      <a:pt x="1395" y="1092"/>
                    </a:lnTo>
                    <a:lnTo>
                      <a:pt x="1382" y="1087"/>
                    </a:lnTo>
                    <a:lnTo>
                      <a:pt x="1368" y="1083"/>
                    </a:lnTo>
                    <a:lnTo>
                      <a:pt x="1355" y="1081"/>
                    </a:lnTo>
                    <a:lnTo>
                      <a:pt x="1303" y="1054"/>
                    </a:lnTo>
                    <a:lnTo>
                      <a:pt x="1251" y="1028"/>
                    </a:lnTo>
                    <a:lnTo>
                      <a:pt x="1198" y="1005"/>
                    </a:lnTo>
                    <a:lnTo>
                      <a:pt x="1146" y="982"/>
                    </a:lnTo>
                    <a:lnTo>
                      <a:pt x="1091" y="959"/>
                    </a:lnTo>
                    <a:lnTo>
                      <a:pt x="1037" y="938"/>
                    </a:lnTo>
                    <a:lnTo>
                      <a:pt x="983" y="915"/>
                    </a:lnTo>
                    <a:lnTo>
                      <a:pt x="929" y="895"/>
                    </a:lnTo>
                    <a:lnTo>
                      <a:pt x="899" y="882"/>
                    </a:lnTo>
                    <a:lnTo>
                      <a:pt x="871" y="870"/>
                    </a:lnTo>
                    <a:lnTo>
                      <a:pt x="842" y="856"/>
                    </a:lnTo>
                    <a:lnTo>
                      <a:pt x="815" y="843"/>
                    </a:lnTo>
                    <a:lnTo>
                      <a:pt x="786" y="829"/>
                    </a:lnTo>
                    <a:lnTo>
                      <a:pt x="757" y="816"/>
                    </a:lnTo>
                    <a:lnTo>
                      <a:pt x="727" y="805"/>
                    </a:lnTo>
                    <a:lnTo>
                      <a:pt x="698" y="796"/>
                    </a:lnTo>
                    <a:lnTo>
                      <a:pt x="652" y="772"/>
                    </a:lnTo>
                    <a:lnTo>
                      <a:pt x="605" y="750"/>
                    </a:lnTo>
                    <a:lnTo>
                      <a:pt x="559" y="728"/>
                    </a:lnTo>
                    <a:lnTo>
                      <a:pt x="513" y="707"/>
                    </a:lnTo>
                    <a:lnTo>
                      <a:pt x="466" y="685"/>
                    </a:lnTo>
                    <a:lnTo>
                      <a:pt x="419" y="664"/>
                    </a:lnTo>
                    <a:lnTo>
                      <a:pt x="372" y="642"/>
                    </a:lnTo>
                    <a:lnTo>
                      <a:pt x="326" y="622"/>
                    </a:lnTo>
                    <a:lnTo>
                      <a:pt x="300" y="608"/>
                    </a:lnTo>
                    <a:lnTo>
                      <a:pt x="275" y="594"/>
                    </a:lnTo>
                    <a:lnTo>
                      <a:pt x="251" y="578"/>
                    </a:lnTo>
                    <a:lnTo>
                      <a:pt x="229" y="562"/>
                    </a:lnTo>
                    <a:lnTo>
                      <a:pt x="205" y="546"/>
                    </a:lnTo>
                    <a:lnTo>
                      <a:pt x="181" y="531"/>
                    </a:lnTo>
                    <a:lnTo>
                      <a:pt x="157" y="517"/>
                    </a:lnTo>
                    <a:lnTo>
                      <a:pt x="132" y="507"/>
                    </a:lnTo>
                    <a:lnTo>
                      <a:pt x="49" y="455"/>
                    </a:lnTo>
                    <a:lnTo>
                      <a:pt x="49" y="451"/>
                    </a:lnTo>
                    <a:lnTo>
                      <a:pt x="49" y="446"/>
                    </a:lnTo>
                    <a:lnTo>
                      <a:pt x="49" y="442"/>
                    </a:lnTo>
                    <a:lnTo>
                      <a:pt x="53" y="440"/>
                    </a:lnTo>
                    <a:lnTo>
                      <a:pt x="64" y="442"/>
                    </a:lnTo>
                    <a:lnTo>
                      <a:pt x="76" y="445"/>
                    </a:lnTo>
                    <a:lnTo>
                      <a:pt x="87" y="450"/>
                    </a:lnTo>
                    <a:lnTo>
                      <a:pt x="99" y="454"/>
                    </a:lnTo>
                    <a:lnTo>
                      <a:pt x="109" y="458"/>
                    </a:lnTo>
                    <a:lnTo>
                      <a:pt x="120" y="462"/>
                    </a:lnTo>
                    <a:lnTo>
                      <a:pt x="131" y="467"/>
                    </a:lnTo>
                    <a:lnTo>
                      <a:pt x="144" y="471"/>
                    </a:lnTo>
                    <a:lnTo>
                      <a:pt x="148" y="467"/>
                    </a:lnTo>
                    <a:lnTo>
                      <a:pt x="129" y="454"/>
                    </a:lnTo>
                    <a:lnTo>
                      <a:pt x="110" y="445"/>
                    </a:lnTo>
                    <a:lnTo>
                      <a:pt x="91" y="436"/>
                    </a:lnTo>
                    <a:lnTo>
                      <a:pt x="72" y="427"/>
                    </a:lnTo>
                    <a:lnTo>
                      <a:pt x="52" y="416"/>
                    </a:lnTo>
                    <a:lnTo>
                      <a:pt x="35" y="405"/>
                    </a:lnTo>
                    <a:lnTo>
                      <a:pt x="19" y="391"/>
                    </a:lnTo>
                    <a:lnTo>
                      <a:pt x="7" y="374"/>
                    </a:lnTo>
                    <a:lnTo>
                      <a:pt x="11" y="372"/>
                    </a:lnTo>
                    <a:lnTo>
                      <a:pt x="8" y="327"/>
                    </a:lnTo>
                    <a:lnTo>
                      <a:pt x="6" y="282"/>
                    </a:lnTo>
                    <a:lnTo>
                      <a:pt x="5" y="237"/>
                    </a:lnTo>
                    <a:lnTo>
                      <a:pt x="5" y="192"/>
                    </a:lnTo>
                    <a:lnTo>
                      <a:pt x="4" y="147"/>
                    </a:lnTo>
                    <a:lnTo>
                      <a:pt x="4" y="103"/>
                    </a:lnTo>
                    <a:lnTo>
                      <a:pt x="2" y="59"/>
                    </a:lnTo>
                    <a:lnTo>
                      <a:pt x="0" y="16"/>
                    </a:lnTo>
                    <a:lnTo>
                      <a:pt x="5" y="0"/>
                    </a:lnTo>
                    <a:lnTo>
                      <a:pt x="43" y="21"/>
                    </a:lnTo>
                    <a:lnTo>
                      <a:pt x="82" y="42"/>
                    </a:lnTo>
                    <a:lnTo>
                      <a:pt x="122" y="59"/>
                    </a:lnTo>
                    <a:lnTo>
                      <a:pt x="163" y="77"/>
                    </a:lnTo>
                    <a:lnTo>
                      <a:pt x="204" y="93"/>
                    </a:lnTo>
                    <a:lnTo>
                      <a:pt x="245" y="111"/>
                    </a:lnTo>
                    <a:lnTo>
                      <a:pt x="284" y="130"/>
                    </a:lnTo>
                    <a:lnTo>
                      <a:pt x="323" y="15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2240" y="4056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31" y="10"/>
                    </a:lnTo>
                    <a:lnTo>
                      <a:pt x="22" y="20"/>
                    </a:lnTo>
                    <a:lnTo>
                      <a:pt x="11" y="29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1" y="13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00440" y="40672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44" y="28"/>
                    </a:lnTo>
                    <a:lnTo>
                      <a:pt x="38" y="26"/>
                    </a:lnTo>
                    <a:lnTo>
                      <a:pt x="31" y="22"/>
                    </a:lnTo>
                    <a:lnTo>
                      <a:pt x="25" y="20"/>
                    </a:lnTo>
                    <a:lnTo>
                      <a:pt x="18" y="16"/>
                    </a:lnTo>
                    <a:lnTo>
                      <a:pt x="12" y="1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1" y="20"/>
                    </a:lnTo>
                    <a:lnTo>
                      <a:pt x="47" y="25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72200" y="40672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123" h="22">
                    <a:moveTo>
                      <a:pt x="123" y="22"/>
                    </a:moveTo>
                    <a:lnTo>
                      <a:pt x="104" y="22"/>
                    </a:lnTo>
                    <a:lnTo>
                      <a:pt x="87" y="22"/>
                    </a:lnTo>
                    <a:lnTo>
                      <a:pt x="71" y="20"/>
                    </a:lnTo>
                    <a:lnTo>
                      <a:pt x="55" y="19"/>
                    </a:lnTo>
                    <a:lnTo>
                      <a:pt x="39" y="15"/>
                    </a:lnTo>
                    <a:lnTo>
                      <a:pt x="25" y="12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31" y="2"/>
                    </a:lnTo>
                    <a:lnTo>
                      <a:pt x="47" y="2"/>
                    </a:lnTo>
                    <a:lnTo>
                      <a:pt x="65" y="3"/>
                    </a:lnTo>
                    <a:lnTo>
                      <a:pt x="80" y="3"/>
                    </a:lnTo>
                    <a:lnTo>
                      <a:pt x="95" y="7"/>
                    </a:lnTo>
                    <a:lnTo>
                      <a:pt x="109" y="13"/>
                    </a:lnTo>
                    <a:lnTo>
                      <a:pt x="12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32440" y="40687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6"/>
                    </a:moveTo>
                    <a:lnTo>
                      <a:pt x="8" y="0"/>
                    </a:lnTo>
                    <a:lnTo>
                      <a:pt x="1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5360" y="407196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3" y="2"/>
                    </a:moveTo>
                    <a:lnTo>
                      <a:pt x="47" y="7"/>
                    </a:lnTo>
                    <a:lnTo>
                      <a:pt x="42" y="12"/>
                    </a:lnTo>
                    <a:lnTo>
                      <a:pt x="35" y="16"/>
                    </a:lnTo>
                    <a:lnTo>
                      <a:pt x="29" y="21"/>
                    </a:lnTo>
                    <a:lnTo>
                      <a:pt x="21" y="23"/>
                    </a:lnTo>
                    <a:lnTo>
                      <a:pt x="14" y="26"/>
                    </a:lnTo>
                    <a:lnTo>
                      <a:pt x="6" y="27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9" y="18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4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07240" y="4098960"/>
                <a:ext cx="88920" cy="3348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9"/>
                    </a:moveTo>
                    <a:lnTo>
                      <a:pt x="98" y="16"/>
                    </a:lnTo>
                    <a:lnTo>
                      <a:pt x="85" y="23"/>
                    </a:lnTo>
                    <a:lnTo>
                      <a:pt x="71" y="30"/>
                    </a:lnTo>
                    <a:lnTo>
                      <a:pt x="58" y="36"/>
                    </a:lnTo>
                    <a:lnTo>
                      <a:pt x="43" y="39"/>
                    </a:lnTo>
                    <a:lnTo>
                      <a:pt x="29" y="42"/>
                    </a:lnTo>
                    <a:lnTo>
                      <a:pt x="14" y="39"/>
                    </a:lnTo>
                    <a:lnTo>
                      <a:pt x="0" y="34"/>
                    </a:lnTo>
                    <a:lnTo>
                      <a:pt x="8" y="25"/>
                    </a:lnTo>
                    <a:lnTo>
                      <a:pt x="19" y="19"/>
                    </a:lnTo>
                    <a:lnTo>
                      <a:pt x="30" y="14"/>
                    </a:lnTo>
                    <a:lnTo>
                      <a:pt x="43" y="10"/>
                    </a:lnTo>
                    <a:lnTo>
                      <a:pt x="54" y="6"/>
                    </a:lnTo>
                    <a:lnTo>
                      <a:pt x="67" y="4"/>
                    </a:lnTo>
                    <a:lnTo>
                      <a:pt x="80" y="1"/>
                    </a:lnTo>
                    <a:lnTo>
                      <a:pt x="93" y="0"/>
                    </a:lnTo>
                    <a:lnTo>
                      <a:pt x="112" y="4"/>
                    </a:lnTo>
                    <a:lnTo>
                      <a:pt x="1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7480" y="4102200"/>
                <a:ext cx="85680" cy="71280"/>
              </a:xfrm>
              <a:custGeom>
                <a:avLst/>
                <a:gdLst/>
                <a:ahLst/>
                <a:rect l="l" t="t" r="r" b="b"/>
                <a:pathLst>
                  <a:path w="110" h="88">
                    <a:moveTo>
                      <a:pt x="110" y="0"/>
                    </a:moveTo>
                    <a:lnTo>
                      <a:pt x="103" y="7"/>
                    </a:lnTo>
                    <a:lnTo>
                      <a:pt x="98" y="17"/>
                    </a:lnTo>
                    <a:lnTo>
                      <a:pt x="92" y="25"/>
                    </a:lnTo>
                    <a:lnTo>
                      <a:pt x="87" y="34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81" y="55"/>
                    </a:lnTo>
                    <a:lnTo>
                      <a:pt x="81" y="63"/>
                    </a:lnTo>
                    <a:lnTo>
                      <a:pt x="79" y="69"/>
                    </a:lnTo>
                    <a:lnTo>
                      <a:pt x="75" y="75"/>
                    </a:lnTo>
                    <a:lnTo>
                      <a:pt x="70" y="80"/>
                    </a:lnTo>
                    <a:lnTo>
                      <a:pt x="62" y="82"/>
                    </a:lnTo>
                    <a:lnTo>
                      <a:pt x="54" y="86"/>
                    </a:lnTo>
                    <a:lnTo>
                      <a:pt x="46" y="88"/>
                    </a:lnTo>
                    <a:lnTo>
                      <a:pt x="39" y="86"/>
                    </a:lnTo>
                    <a:lnTo>
                      <a:pt x="31" y="83"/>
                    </a:lnTo>
                    <a:lnTo>
                      <a:pt x="23" y="77"/>
                    </a:lnTo>
                    <a:lnTo>
                      <a:pt x="15" y="72"/>
                    </a:lnTo>
                    <a:lnTo>
                      <a:pt x="8" y="68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55"/>
                    </a:lnTo>
                    <a:lnTo>
                      <a:pt x="18" y="47"/>
                    </a:lnTo>
                    <a:lnTo>
                      <a:pt x="24" y="41"/>
                    </a:lnTo>
                    <a:lnTo>
                      <a:pt x="22" y="25"/>
                    </a:lnTo>
                    <a:lnTo>
                      <a:pt x="32" y="25"/>
                    </a:lnTo>
                    <a:lnTo>
                      <a:pt x="43" y="25"/>
                    </a:lnTo>
                    <a:lnTo>
                      <a:pt x="53" y="23"/>
                    </a:lnTo>
                    <a:lnTo>
                      <a:pt x="64" y="20"/>
                    </a:lnTo>
                    <a:lnTo>
                      <a:pt x="73" y="16"/>
                    </a:lnTo>
                    <a:lnTo>
                      <a:pt x="83" y="12"/>
                    </a:lnTo>
                    <a:lnTo>
                      <a:pt x="93" y="5"/>
                    </a:lnTo>
                    <a:lnTo>
                      <a:pt x="102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42040" y="41245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24400" y="4127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4"/>
                    </a:moveTo>
                    <a:lnTo>
                      <a:pt x="7" y="10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62720" y="413064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32" h="110">
                    <a:moveTo>
                      <a:pt x="32" y="87"/>
                    </a:moveTo>
                    <a:lnTo>
                      <a:pt x="27" y="94"/>
                    </a:lnTo>
                    <a:lnTo>
                      <a:pt x="21" y="101"/>
                    </a:lnTo>
                    <a:lnTo>
                      <a:pt x="14" y="107"/>
                    </a:lnTo>
                    <a:lnTo>
                      <a:pt x="5" y="110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21" y="8"/>
                    </a:lnTo>
                    <a:lnTo>
                      <a:pt x="32" y="11"/>
                    </a:lnTo>
                    <a:lnTo>
                      <a:pt x="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92520" y="3875040"/>
                <a:ext cx="743040" cy="381240"/>
              </a:xfrm>
              <a:custGeom>
                <a:avLst/>
                <a:gdLst/>
                <a:ahLst/>
                <a:rect l="l" t="t" r="r" b="b"/>
                <a:pathLst>
                  <a:path w="938" h="481">
                    <a:moveTo>
                      <a:pt x="403" y="59"/>
                    </a:moveTo>
                    <a:lnTo>
                      <a:pt x="411" y="63"/>
                    </a:lnTo>
                    <a:lnTo>
                      <a:pt x="423" y="65"/>
                    </a:lnTo>
                    <a:lnTo>
                      <a:pt x="435" y="64"/>
                    </a:lnTo>
                    <a:lnTo>
                      <a:pt x="448" y="63"/>
                    </a:lnTo>
                    <a:lnTo>
                      <a:pt x="459" y="62"/>
                    </a:lnTo>
                    <a:lnTo>
                      <a:pt x="470" y="64"/>
                    </a:lnTo>
                    <a:lnTo>
                      <a:pt x="478" y="71"/>
                    </a:lnTo>
                    <a:lnTo>
                      <a:pt x="487" y="84"/>
                    </a:lnTo>
                    <a:lnTo>
                      <a:pt x="502" y="83"/>
                    </a:lnTo>
                    <a:lnTo>
                      <a:pt x="516" y="89"/>
                    </a:lnTo>
                    <a:lnTo>
                      <a:pt x="528" y="98"/>
                    </a:lnTo>
                    <a:lnTo>
                      <a:pt x="541" y="108"/>
                    </a:lnTo>
                    <a:lnTo>
                      <a:pt x="551" y="116"/>
                    </a:lnTo>
                    <a:lnTo>
                      <a:pt x="565" y="121"/>
                    </a:lnTo>
                    <a:lnTo>
                      <a:pt x="580" y="120"/>
                    </a:lnTo>
                    <a:lnTo>
                      <a:pt x="599" y="113"/>
                    </a:lnTo>
                    <a:lnTo>
                      <a:pt x="615" y="117"/>
                    </a:lnTo>
                    <a:lnTo>
                      <a:pt x="633" y="123"/>
                    </a:lnTo>
                    <a:lnTo>
                      <a:pt x="650" y="130"/>
                    </a:lnTo>
                    <a:lnTo>
                      <a:pt x="668" y="140"/>
                    </a:lnTo>
                    <a:lnTo>
                      <a:pt x="683" y="150"/>
                    </a:lnTo>
                    <a:lnTo>
                      <a:pt x="694" y="164"/>
                    </a:lnTo>
                    <a:lnTo>
                      <a:pt x="703" y="181"/>
                    </a:lnTo>
                    <a:lnTo>
                      <a:pt x="708" y="202"/>
                    </a:lnTo>
                    <a:lnTo>
                      <a:pt x="710" y="208"/>
                    </a:lnTo>
                    <a:lnTo>
                      <a:pt x="708" y="215"/>
                    </a:lnTo>
                    <a:lnTo>
                      <a:pt x="705" y="219"/>
                    </a:lnTo>
                    <a:lnTo>
                      <a:pt x="701" y="225"/>
                    </a:lnTo>
                    <a:lnTo>
                      <a:pt x="696" y="228"/>
                    </a:lnTo>
                    <a:lnTo>
                      <a:pt x="691" y="233"/>
                    </a:lnTo>
                    <a:lnTo>
                      <a:pt x="688" y="237"/>
                    </a:lnTo>
                    <a:lnTo>
                      <a:pt x="688" y="245"/>
                    </a:lnTo>
                    <a:lnTo>
                      <a:pt x="691" y="250"/>
                    </a:lnTo>
                    <a:lnTo>
                      <a:pt x="696" y="258"/>
                    </a:lnTo>
                    <a:lnTo>
                      <a:pt x="698" y="264"/>
                    </a:lnTo>
                    <a:lnTo>
                      <a:pt x="700" y="273"/>
                    </a:lnTo>
                    <a:lnTo>
                      <a:pt x="702" y="279"/>
                    </a:lnTo>
                    <a:lnTo>
                      <a:pt x="705" y="287"/>
                    </a:lnTo>
                    <a:lnTo>
                      <a:pt x="710" y="293"/>
                    </a:lnTo>
                    <a:lnTo>
                      <a:pt x="717" y="299"/>
                    </a:lnTo>
                    <a:lnTo>
                      <a:pt x="742" y="301"/>
                    </a:lnTo>
                    <a:lnTo>
                      <a:pt x="767" y="304"/>
                    </a:lnTo>
                    <a:lnTo>
                      <a:pt x="791" y="307"/>
                    </a:lnTo>
                    <a:lnTo>
                      <a:pt x="817" y="313"/>
                    </a:lnTo>
                    <a:lnTo>
                      <a:pt x="840" y="319"/>
                    </a:lnTo>
                    <a:lnTo>
                      <a:pt x="863" y="328"/>
                    </a:lnTo>
                    <a:lnTo>
                      <a:pt x="886" y="339"/>
                    </a:lnTo>
                    <a:lnTo>
                      <a:pt x="908" y="353"/>
                    </a:lnTo>
                    <a:lnTo>
                      <a:pt x="916" y="363"/>
                    </a:lnTo>
                    <a:lnTo>
                      <a:pt x="924" y="376"/>
                    </a:lnTo>
                    <a:lnTo>
                      <a:pt x="929" y="389"/>
                    </a:lnTo>
                    <a:lnTo>
                      <a:pt x="934" y="404"/>
                    </a:lnTo>
                    <a:lnTo>
                      <a:pt x="937" y="417"/>
                    </a:lnTo>
                    <a:lnTo>
                      <a:pt x="938" y="433"/>
                    </a:lnTo>
                    <a:lnTo>
                      <a:pt x="937" y="449"/>
                    </a:lnTo>
                    <a:lnTo>
                      <a:pt x="936" y="467"/>
                    </a:lnTo>
                    <a:lnTo>
                      <a:pt x="929" y="470"/>
                    </a:lnTo>
                    <a:lnTo>
                      <a:pt x="923" y="473"/>
                    </a:lnTo>
                    <a:lnTo>
                      <a:pt x="915" y="474"/>
                    </a:lnTo>
                    <a:lnTo>
                      <a:pt x="909" y="476"/>
                    </a:lnTo>
                    <a:lnTo>
                      <a:pt x="901" y="476"/>
                    </a:lnTo>
                    <a:lnTo>
                      <a:pt x="895" y="476"/>
                    </a:lnTo>
                    <a:lnTo>
                      <a:pt x="888" y="476"/>
                    </a:lnTo>
                    <a:lnTo>
                      <a:pt x="884" y="476"/>
                    </a:lnTo>
                    <a:lnTo>
                      <a:pt x="881" y="477"/>
                    </a:lnTo>
                    <a:lnTo>
                      <a:pt x="878" y="481"/>
                    </a:lnTo>
                    <a:lnTo>
                      <a:pt x="873" y="476"/>
                    </a:lnTo>
                    <a:lnTo>
                      <a:pt x="868" y="476"/>
                    </a:lnTo>
                    <a:lnTo>
                      <a:pt x="860" y="476"/>
                    </a:lnTo>
                    <a:lnTo>
                      <a:pt x="853" y="476"/>
                    </a:lnTo>
                    <a:lnTo>
                      <a:pt x="844" y="475"/>
                    </a:lnTo>
                    <a:lnTo>
                      <a:pt x="839" y="474"/>
                    </a:lnTo>
                    <a:lnTo>
                      <a:pt x="819" y="468"/>
                    </a:lnTo>
                    <a:lnTo>
                      <a:pt x="802" y="462"/>
                    </a:lnTo>
                    <a:lnTo>
                      <a:pt x="785" y="454"/>
                    </a:lnTo>
                    <a:lnTo>
                      <a:pt x="769" y="446"/>
                    </a:lnTo>
                    <a:lnTo>
                      <a:pt x="752" y="436"/>
                    </a:lnTo>
                    <a:lnTo>
                      <a:pt x="735" y="428"/>
                    </a:lnTo>
                    <a:lnTo>
                      <a:pt x="718" y="420"/>
                    </a:lnTo>
                    <a:lnTo>
                      <a:pt x="702" y="415"/>
                    </a:lnTo>
                    <a:lnTo>
                      <a:pt x="698" y="407"/>
                    </a:lnTo>
                    <a:lnTo>
                      <a:pt x="693" y="403"/>
                    </a:lnTo>
                    <a:lnTo>
                      <a:pt x="688" y="399"/>
                    </a:lnTo>
                    <a:lnTo>
                      <a:pt x="683" y="398"/>
                    </a:lnTo>
                    <a:lnTo>
                      <a:pt x="675" y="397"/>
                    </a:lnTo>
                    <a:lnTo>
                      <a:pt x="669" y="397"/>
                    </a:lnTo>
                    <a:lnTo>
                      <a:pt x="662" y="398"/>
                    </a:lnTo>
                    <a:lnTo>
                      <a:pt x="657" y="400"/>
                    </a:lnTo>
                    <a:lnTo>
                      <a:pt x="640" y="407"/>
                    </a:lnTo>
                    <a:lnTo>
                      <a:pt x="623" y="418"/>
                    </a:lnTo>
                    <a:lnTo>
                      <a:pt x="607" y="429"/>
                    </a:lnTo>
                    <a:lnTo>
                      <a:pt x="592" y="440"/>
                    </a:lnTo>
                    <a:lnTo>
                      <a:pt x="575" y="447"/>
                    </a:lnTo>
                    <a:lnTo>
                      <a:pt x="559" y="453"/>
                    </a:lnTo>
                    <a:lnTo>
                      <a:pt x="541" y="453"/>
                    </a:lnTo>
                    <a:lnTo>
                      <a:pt x="522" y="447"/>
                    </a:lnTo>
                    <a:lnTo>
                      <a:pt x="512" y="440"/>
                    </a:lnTo>
                    <a:lnTo>
                      <a:pt x="502" y="433"/>
                    </a:lnTo>
                    <a:lnTo>
                      <a:pt x="492" y="427"/>
                    </a:lnTo>
                    <a:lnTo>
                      <a:pt x="484" y="421"/>
                    </a:lnTo>
                    <a:lnTo>
                      <a:pt x="474" y="415"/>
                    </a:lnTo>
                    <a:lnTo>
                      <a:pt x="466" y="408"/>
                    </a:lnTo>
                    <a:lnTo>
                      <a:pt x="459" y="400"/>
                    </a:lnTo>
                    <a:lnTo>
                      <a:pt x="452" y="392"/>
                    </a:lnTo>
                    <a:lnTo>
                      <a:pt x="439" y="390"/>
                    </a:lnTo>
                    <a:lnTo>
                      <a:pt x="428" y="390"/>
                    </a:lnTo>
                    <a:lnTo>
                      <a:pt x="414" y="390"/>
                    </a:lnTo>
                    <a:lnTo>
                      <a:pt x="401" y="391"/>
                    </a:lnTo>
                    <a:lnTo>
                      <a:pt x="387" y="390"/>
                    </a:lnTo>
                    <a:lnTo>
                      <a:pt x="374" y="389"/>
                    </a:lnTo>
                    <a:lnTo>
                      <a:pt x="361" y="386"/>
                    </a:lnTo>
                    <a:lnTo>
                      <a:pt x="351" y="382"/>
                    </a:lnTo>
                    <a:lnTo>
                      <a:pt x="337" y="371"/>
                    </a:lnTo>
                    <a:lnTo>
                      <a:pt x="324" y="361"/>
                    </a:lnTo>
                    <a:lnTo>
                      <a:pt x="312" y="351"/>
                    </a:lnTo>
                    <a:lnTo>
                      <a:pt x="302" y="342"/>
                    </a:lnTo>
                    <a:lnTo>
                      <a:pt x="290" y="330"/>
                    </a:lnTo>
                    <a:lnTo>
                      <a:pt x="279" y="319"/>
                    </a:lnTo>
                    <a:lnTo>
                      <a:pt x="269" y="306"/>
                    </a:lnTo>
                    <a:lnTo>
                      <a:pt x="260" y="294"/>
                    </a:lnTo>
                    <a:lnTo>
                      <a:pt x="250" y="290"/>
                    </a:lnTo>
                    <a:lnTo>
                      <a:pt x="241" y="289"/>
                    </a:lnTo>
                    <a:lnTo>
                      <a:pt x="232" y="288"/>
                    </a:lnTo>
                    <a:lnTo>
                      <a:pt x="223" y="288"/>
                    </a:lnTo>
                    <a:lnTo>
                      <a:pt x="212" y="288"/>
                    </a:lnTo>
                    <a:lnTo>
                      <a:pt x="202" y="289"/>
                    </a:lnTo>
                    <a:lnTo>
                      <a:pt x="192" y="290"/>
                    </a:lnTo>
                    <a:lnTo>
                      <a:pt x="183" y="292"/>
                    </a:lnTo>
                    <a:lnTo>
                      <a:pt x="171" y="285"/>
                    </a:lnTo>
                    <a:lnTo>
                      <a:pt x="160" y="277"/>
                    </a:lnTo>
                    <a:lnTo>
                      <a:pt x="148" y="268"/>
                    </a:lnTo>
                    <a:lnTo>
                      <a:pt x="137" y="259"/>
                    </a:lnTo>
                    <a:lnTo>
                      <a:pt x="126" y="248"/>
                    </a:lnTo>
                    <a:lnTo>
                      <a:pt x="119" y="236"/>
                    </a:lnTo>
                    <a:lnTo>
                      <a:pt x="116" y="222"/>
                    </a:lnTo>
                    <a:lnTo>
                      <a:pt x="117" y="208"/>
                    </a:lnTo>
                    <a:lnTo>
                      <a:pt x="108" y="202"/>
                    </a:lnTo>
                    <a:lnTo>
                      <a:pt x="100" y="197"/>
                    </a:lnTo>
                    <a:lnTo>
                      <a:pt x="94" y="189"/>
                    </a:lnTo>
                    <a:lnTo>
                      <a:pt x="89" y="183"/>
                    </a:lnTo>
                    <a:lnTo>
                      <a:pt x="81" y="175"/>
                    </a:lnTo>
                    <a:lnTo>
                      <a:pt x="74" y="172"/>
                    </a:lnTo>
                    <a:lnTo>
                      <a:pt x="63" y="170"/>
                    </a:lnTo>
                    <a:lnTo>
                      <a:pt x="53" y="173"/>
                    </a:lnTo>
                    <a:lnTo>
                      <a:pt x="43" y="156"/>
                    </a:lnTo>
                    <a:lnTo>
                      <a:pt x="35" y="140"/>
                    </a:lnTo>
                    <a:lnTo>
                      <a:pt x="24" y="122"/>
                    </a:lnTo>
                    <a:lnTo>
                      <a:pt x="15" y="106"/>
                    </a:lnTo>
                    <a:lnTo>
                      <a:pt x="7" y="88"/>
                    </a:lnTo>
                    <a:lnTo>
                      <a:pt x="3" y="71"/>
                    </a:lnTo>
                    <a:lnTo>
                      <a:pt x="0" y="51"/>
                    </a:lnTo>
                    <a:lnTo>
                      <a:pt x="4" y="32"/>
                    </a:lnTo>
                    <a:lnTo>
                      <a:pt x="11" y="29"/>
                    </a:lnTo>
                    <a:lnTo>
                      <a:pt x="20" y="31"/>
                    </a:lnTo>
                    <a:lnTo>
                      <a:pt x="23" y="32"/>
                    </a:lnTo>
                    <a:lnTo>
                      <a:pt x="28" y="33"/>
                    </a:lnTo>
                    <a:lnTo>
                      <a:pt x="34" y="32"/>
                    </a:lnTo>
                    <a:lnTo>
                      <a:pt x="40" y="32"/>
                    </a:lnTo>
                    <a:lnTo>
                      <a:pt x="64" y="23"/>
                    </a:lnTo>
                    <a:lnTo>
                      <a:pt x="88" y="21"/>
                    </a:lnTo>
                    <a:lnTo>
                      <a:pt x="111" y="20"/>
                    </a:lnTo>
                    <a:lnTo>
                      <a:pt x="136" y="22"/>
                    </a:lnTo>
                    <a:lnTo>
                      <a:pt x="159" y="22"/>
                    </a:lnTo>
                    <a:lnTo>
                      <a:pt x="183" y="20"/>
                    </a:lnTo>
                    <a:lnTo>
                      <a:pt x="206" y="14"/>
                    </a:lnTo>
                    <a:lnTo>
                      <a:pt x="231" y="3"/>
                    </a:lnTo>
                    <a:lnTo>
                      <a:pt x="248" y="0"/>
                    </a:lnTo>
                    <a:lnTo>
                      <a:pt x="266" y="1"/>
                    </a:lnTo>
                    <a:lnTo>
                      <a:pt x="282" y="4"/>
                    </a:lnTo>
                    <a:lnTo>
                      <a:pt x="298" y="12"/>
                    </a:lnTo>
                    <a:lnTo>
                      <a:pt x="312" y="19"/>
                    </a:lnTo>
                    <a:lnTo>
                      <a:pt x="326" y="30"/>
                    </a:lnTo>
                    <a:lnTo>
                      <a:pt x="339" y="42"/>
                    </a:lnTo>
                    <a:lnTo>
                      <a:pt x="352" y="57"/>
                    </a:lnTo>
                    <a:lnTo>
                      <a:pt x="40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3080" y="3898800"/>
                <a:ext cx="74520" cy="7164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93" y="43"/>
                    </a:moveTo>
                    <a:lnTo>
                      <a:pt x="92" y="49"/>
                    </a:lnTo>
                    <a:lnTo>
                      <a:pt x="91" y="56"/>
                    </a:lnTo>
                    <a:lnTo>
                      <a:pt x="89" y="62"/>
                    </a:lnTo>
                    <a:lnTo>
                      <a:pt x="87" y="69"/>
                    </a:lnTo>
                    <a:lnTo>
                      <a:pt x="83" y="74"/>
                    </a:lnTo>
                    <a:lnTo>
                      <a:pt x="78" y="79"/>
                    </a:lnTo>
                    <a:lnTo>
                      <a:pt x="73" y="84"/>
                    </a:lnTo>
                    <a:lnTo>
                      <a:pt x="68" y="88"/>
                    </a:lnTo>
                    <a:lnTo>
                      <a:pt x="58" y="88"/>
                    </a:lnTo>
                    <a:lnTo>
                      <a:pt x="50" y="88"/>
                    </a:lnTo>
                    <a:lnTo>
                      <a:pt x="43" y="87"/>
                    </a:lnTo>
                    <a:lnTo>
                      <a:pt x="36" y="85"/>
                    </a:lnTo>
                    <a:lnTo>
                      <a:pt x="30" y="81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3" y="68"/>
                    </a:lnTo>
                    <a:lnTo>
                      <a:pt x="5" y="61"/>
                    </a:lnTo>
                    <a:lnTo>
                      <a:pt x="3" y="53"/>
                    </a:lnTo>
                    <a:lnTo>
                      <a:pt x="1" y="42"/>
                    </a:lnTo>
                    <a:lnTo>
                      <a:pt x="0" y="32"/>
                    </a:lnTo>
                    <a:lnTo>
                      <a:pt x="3" y="22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11"/>
                    </a:lnTo>
                    <a:lnTo>
                      <a:pt x="72" y="16"/>
                    </a:lnTo>
                    <a:lnTo>
                      <a:pt x="80" y="25"/>
                    </a:lnTo>
                    <a:lnTo>
                      <a:pt x="87" y="33"/>
                    </a:lnTo>
                    <a:lnTo>
                      <a:pt x="93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51560" y="3924360"/>
                <a:ext cx="107640" cy="81000"/>
              </a:xfrm>
              <a:custGeom>
                <a:avLst/>
                <a:gdLst/>
                <a:ahLst/>
                <a:rect l="l" t="t" r="r" b="b"/>
                <a:pathLst>
                  <a:path w="134" h="101">
                    <a:moveTo>
                      <a:pt x="134" y="57"/>
                    </a:moveTo>
                    <a:lnTo>
                      <a:pt x="134" y="62"/>
                    </a:lnTo>
                    <a:lnTo>
                      <a:pt x="132" y="68"/>
                    </a:lnTo>
                    <a:lnTo>
                      <a:pt x="127" y="72"/>
                    </a:lnTo>
                    <a:lnTo>
                      <a:pt x="123" y="78"/>
                    </a:lnTo>
                    <a:lnTo>
                      <a:pt x="118" y="82"/>
                    </a:lnTo>
                    <a:lnTo>
                      <a:pt x="117" y="86"/>
                    </a:lnTo>
                    <a:lnTo>
                      <a:pt x="117" y="92"/>
                    </a:lnTo>
                    <a:lnTo>
                      <a:pt x="123" y="98"/>
                    </a:lnTo>
                    <a:lnTo>
                      <a:pt x="114" y="101"/>
                    </a:lnTo>
                    <a:lnTo>
                      <a:pt x="107" y="100"/>
                    </a:lnTo>
                    <a:lnTo>
                      <a:pt x="101" y="95"/>
                    </a:lnTo>
                    <a:lnTo>
                      <a:pt x="98" y="89"/>
                    </a:lnTo>
                    <a:lnTo>
                      <a:pt x="92" y="82"/>
                    </a:lnTo>
                    <a:lnTo>
                      <a:pt x="87" y="76"/>
                    </a:lnTo>
                    <a:lnTo>
                      <a:pt x="79" y="72"/>
                    </a:lnTo>
                    <a:lnTo>
                      <a:pt x="72" y="73"/>
                    </a:lnTo>
                    <a:lnTo>
                      <a:pt x="62" y="66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2" y="50"/>
                    </a:lnTo>
                    <a:lnTo>
                      <a:pt x="22" y="43"/>
                    </a:lnTo>
                    <a:lnTo>
                      <a:pt x="13" y="37"/>
                    </a:lnTo>
                    <a:lnTo>
                      <a:pt x="5" y="29"/>
                    </a:lnTo>
                    <a:lnTo>
                      <a:pt x="0" y="22"/>
                    </a:lnTo>
                    <a:lnTo>
                      <a:pt x="8" y="19"/>
                    </a:lnTo>
                    <a:lnTo>
                      <a:pt x="17" y="22"/>
                    </a:lnTo>
                    <a:lnTo>
                      <a:pt x="24" y="25"/>
                    </a:lnTo>
                    <a:lnTo>
                      <a:pt x="33" y="28"/>
                    </a:lnTo>
                    <a:lnTo>
                      <a:pt x="35" y="19"/>
                    </a:lnTo>
                    <a:lnTo>
                      <a:pt x="40" y="13"/>
                    </a:lnTo>
                    <a:lnTo>
                      <a:pt x="45" y="7"/>
                    </a:lnTo>
                    <a:lnTo>
                      <a:pt x="51" y="3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2" y="1"/>
                    </a:lnTo>
                    <a:lnTo>
                      <a:pt x="80" y="5"/>
                    </a:lnTo>
                    <a:lnTo>
                      <a:pt x="87" y="9"/>
                    </a:lnTo>
                    <a:lnTo>
                      <a:pt x="93" y="15"/>
                    </a:lnTo>
                    <a:lnTo>
                      <a:pt x="101" y="21"/>
                    </a:lnTo>
                    <a:lnTo>
                      <a:pt x="108" y="28"/>
                    </a:lnTo>
                    <a:lnTo>
                      <a:pt x="115" y="35"/>
                    </a:lnTo>
                    <a:lnTo>
                      <a:pt x="121" y="41"/>
                    </a:lnTo>
                    <a:lnTo>
                      <a:pt x="128" y="48"/>
                    </a:lnTo>
                    <a:lnTo>
                      <a:pt x="134" y="5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18240" y="3987720"/>
                <a:ext cx="199800" cy="182520"/>
              </a:xfrm>
              <a:custGeom>
                <a:avLst/>
                <a:gdLst/>
                <a:ahLst/>
                <a:rect l="l" t="t" r="r" b="b"/>
                <a:pathLst>
                  <a:path w="252" h="230">
                    <a:moveTo>
                      <a:pt x="226" y="53"/>
                    </a:moveTo>
                    <a:lnTo>
                      <a:pt x="235" y="64"/>
                    </a:lnTo>
                    <a:lnTo>
                      <a:pt x="242" y="78"/>
                    </a:lnTo>
                    <a:lnTo>
                      <a:pt x="245" y="92"/>
                    </a:lnTo>
                    <a:lnTo>
                      <a:pt x="248" y="108"/>
                    </a:lnTo>
                    <a:lnTo>
                      <a:pt x="248" y="123"/>
                    </a:lnTo>
                    <a:lnTo>
                      <a:pt x="249" y="140"/>
                    </a:lnTo>
                    <a:lnTo>
                      <a:pt x="250" y="155"/>
                    </a:lnTo>
                    <a:lnTo>
                      <a:pt x="252" y="170"/>
                    </a:lnTo>
                    <a:lnTo>
                      <a:pt x="251" y="178"/>
                    </a:lnTo>
                    <a:lnTo>
                      <a:pt x="249" y="186"/>
                    </a:lnTo>
                    <a:lnTo>
                      <a:pt x="244" y="192"/>
                    </a:lnTo>
                    <a:lnTo>
                      <a:pt x="239" y="199"/>
                    </a:lnTo>
                    <a:lnTo>
                      <a:pt x="233" y="203"/>
                    </a:lnTo>
                    <a:lnTo>
                      <a:pt x="226" y="208"/>
                    </a:lnTo>
                    <a:lnTo>
                      <a:pt x="219" y="213"/>
                    </a:lnTo>
                    <a:lnTo>
                      <a:pt x="214" y="219"/>
                    </a:lnTo>
                    <a:lnTo>
                      <a:pt x="194" y="222"/>
                    </a:lnTo>
                    <a:lnTo>
                      <a:pt x="176" y="226"/>
                    </a:lnTo>
                    <a:lnTo>
                      <a:pt x="155" y="228"/>
                    </a:lnTo>
                    <a:lnTo>
                      <a:pt x="136" y="230"/>
                    </a:lnTo>
                    <a:lnTo>
                      <a:pt x="117" y="229"/>
                    </a:lnTo>
                    <a:lnTo>
                      <a:pt x="98" y="226"/>
                    </a:lnTo>
                    <a:lnTo>
                      <a:pt x="80" y="220"/>
                    </a:lnTo>
                    <a:lnTo>
                      <a:pt x="65" y="213"/>
                    </a:lnTo>
                    <a:lnTo>
                      <a:pt x="48" y="195"/>
                    </a:lnTo>
                    <a:lnTo>
                      <a:pt x="33" y="178"/>
                    </a:lnTo>
                    <a:lnTo>
                      <a:pt x="20" y="159"/>
                    </a:lnTo>
                    <a:lnTo>
                      <a:pt x="10" y="140"/>
                    </a:lnTo>
                    <a:lnTo>
                      <a:pt x="3" y="118"/>
                    </a:lnTo>
                    <a:lnTo>
                      <a:pt x="0" y="95"/>
                    </a:lnTo>
                    <a:lnTo>
                      <a:pt x="4" y="72"/>
                    </a:lnTo>
                    <a:lnTo>
                      <a:pt x="13" y="47"/>
                    </a:lnTo>
                    <a:lnTo>
                      <a:pt x="19" y="36"/>
                    </a:lnTo>
                    <a:lnTo>
                      <a:pt x="26" y="28"/>
                    </a:lnTo>
                    <a:lnTo>
                      <a:pt x="35" y="20"/>
                    </a:lnTo>
                    <a:lnTo>
                      <a:pt x="45" y="15"/>
                    </a:lnTo>
                    <a:lnTo>
                      <a:pt x="54" y="8"/>
                    </a:lnTo>
                    <a:lnTo>
                      <a:pt x="65" y="4"/>
                    </a:lnTo>
                    <a:lnTo>
                      <a:pt x="76" y="1"/>
                    </a:lnTo>
                    <a:lnTo>
                      <a:pt x="88" y="0"/>
                    </a:lnTo>
                    <a:lnTo>
                      <a:pt x="106" y="0"/>
                    </a:lnTo>
                    <a:lnTo>
                      <a:pt x="125" y="3"/>
                    </a:lnTo>
                    <a:lnTo>
                      <a:pt x="143" y="7"/>
                    </a:lnTo>
                    <a:lnTo>
                      <a:pt x="161" y="15"/>
                    </a:lnTo>
                    <a:lnTo>
                      <a:pt x="177" y="22"/>
                    </a:lnTo>
                    <a:lnTo>
                      <a:pt x="193" y="32"/>
                    </a:lnTo>
                    <a:lnTo>
                      <a:pt x="209" y="42"/>
                    </a:lnTo>
                    <a:lnTo>
                      <a:pt x="226" y="53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8040" y="400860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114" h="143">
                    <a:moveTo>
                      <a:pt x="42" y="0"/>
                    </a:moveTo>
                    <a:lnTo>
                      <a:pt x="52" y="2"/>
                    </a:lnTo>
                    <a:lnTo>
                      <a:pt x="62" y="6"/>
                    </a:lnTo>
                    <a:lnTo>
                      <a:pt x="71" y="10"/>
                    </a:lnTo>
                    <a:lnTo>
                      <a:pt x="81" y="17"/>
                    </a:lnTo>
                    <a:lnTo>
                      <a:pt x="89" y="23"/>
                    </a:lnTo>
                    <a:lnTo>
                      <a:pt x="97" y="30"/>
                    </a:lnTo>
                    <a:lnTo>
                      <a:pt x="106" y="37"/>
                    </a:lnTo>
                    <a:lnTo>
                      <a:pt x="114" y="47"/>
                    </a:lnTo>
                    <a:lnTo>
                      <a:pt x="110" y="58"/>
                    </a:lnTo>
                    <a:lnTo>
                      <a:pt x="107" y="68"/>
                    </a:lnTo>
                    <a:lnTo>
                      <a:pt x="100" y="77"/>
                    </a:lnTo>
                    <a:lnTo>
                      <a:pt x="92" y="87"/>
                    </a:lnTo>
                    <a:lnTo>
                      <a:pt x="94" y="91"/>
                    </a:lnTo>
                    <a:lnTo>
                      <a:pt x="98" y="97"/>
                    </a:lnTo>
                    <a:lnTo>
                      <a:pt x="101" y="103"/>
                    </a:lnTo>
                    <a:lnTo>
                      <a:pt x="105" y="109"/>
                    </a:lnTo>
                    <a:lnTo>
                      <a:pt x="104" y="118"/>
                    </a:lnTo>
                    <a:lnTo>
                      <a:pt x="100" y="128"/>
                    </a:lnTo>
                    <a:lnTo>
                      <a:pt x="95" y="135"/>
                    </a:lnTo>
                    <a:lnTo>
                      <a:pt x="87" y="143"/>
                    </a:lnTo>
                    <a:lnTo>
                      <a:pt x="75" y="141"/>
                    </a:lnTo>
                    <a:lnTo>
                      <a:pt x="65" y="135"/>
                    </a:lnTo>
                    <a:lnTo>
                      <a:pt x="58" y="127"/>
                    </a:lnTo>
                    <a:lnTo>
                      <a:pt x="55" y="118"/>
                    </a:lnTo>
                    <a:lnTo>
                      <a:pt x="51" y="106"/>
                    </a:lnTo>
                    <a:lnTo>
                      <a:pt x="48" y="95"/>
                    </a:lnTo>
                    <a:lnTo>
                      <a:pt x="43" y="85"/>
                    </a:lnTo>
                    <a:lnTo>
                      <a:pt x="40" y="76"/>
                    </a:lnTo>
                    <a:lnTo>
                      <a:pt x="33" y="66"/>
                    </a:lnTo>
                    <a:lnTo>
                      <a:pt x="26" y="59"/>
                    </a:lnTo>
                    <a:lnTo>
                      <a:pt x="20" y="50"/>
                    </a:lnTo>
                    <a:lnTo>
                      <a:pt x="13" y="43"/>
                    </a:lnTo>
                    <a:lnTo>
                      <a:pt x="7" y="33"/>
                    </a:lnTo>
                    <a:lnTo>
                      <a:pt x="4" y="2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14920" y="402444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111" h="77">
                    <a:moveTo>
                      <a:pt x="111" y="30"/>
                    </a:moveTo>
                    <a:lnTo>
                      <a:pt x="107" y="38"/>
                    </a:lnTo>
                    <a:lnTo>
                      <a:pt x="103" y="46"/>
                    </a:lnTo>
                    <a:lnTo>
                      <a:pt x="96" y="52"/>
                    </a:lnTo>
                    <a:lnTo>
                      <a:pt x="89" y="55"/>
                    </a:lnTo>
                    <a:lnTo>
                      <a:pt x="82" y="54"/>
                    </a:lnTo>
                    <a:lnTo>
                      <a:pt x="77" y="53"/>
                    </a:lnTo>
                    <a:lnTo>
                      <a:pt x="70" y="53"/>
                    </a:lnTo>
                    <a:lnTo>
                      <a:pt x="65" y="57"/>
                    </a:lnTo>
                    <a:lnTo>
                      <a:pt x="64" y="62"/>
                    </a:lnTo>
                    <a:lnTo>
                      <a:pt x="66" y="67"/>
                    </a:lnTo>
                    <a:lnTo>
                      <a:pt x="67" y="71"/>
                    </a:lnTo>
                    <a:lnTo>
                      <a:pt x="67" y="77"/>
                    </a:lnTo>
                    <a:lnTo>
                      <a:pt x="58" y="72"/>
                    </a:lnTo>
                    <a:lnTo>
                      <a:pt x="52" y="68"/>
                    </a:lnTo>
                    <a:lnTo>
                      <a:pt x="46" y="62"/>
                    </a:lnTo>
                    <a:lnTo>
                      <a:pt x="40" y="57"/>
                    </a:lnTo>
                    <a:lnTo>
                      <a:pt x="33" y="52"/>
                    </a:lnTo>
                    <a:lnTo>
                      <a:pt x="26" y="48"/>
                    </a:lnTo>
                    <a:lnTo>
                      <a:pt x="18" y="45"/>
                    </a:lnTo>
                    <a:lnTo>
                      <a:pt x="10" y="45"/>
                    </a:lnTo>
                    <a:lnTo>
                      <a:pt x="2" y="39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5" y="10"/>
                    </a:lnTo>
                    <a:lnTo>
                      <a:pt x="96" y="14"/>
                    </a:lnTo>
                    <a:lnTo>
                      <a:pt x="100" y="16"/>
                    </a:lnTo>
                    <a:lnTo>
                      <a:pt x="105" y="19"/>
                    </a:lnTo>
                    <a:lnTo>
                      <a:pt x="108" y="24"/>
                    </a:lnTo>
                    <a:lnTo>
                      <a:pt x="111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86280" y="4029120"/>
                <a:ext cx="63720" cy="104760"/>
              </a:xfrm>
              <a:custGeom>
                <a:avLst/>
                <a:gdLst/>
                <a:ahLst/>
                <a:rect l="l" t="t" r="r" b="b"/>
                <a:pathLst>
                  <a:path w="79" h="134">
                    <a:moveTo>
                      <a:pt x="76" y="25"/>
                    </a:moveTo>
                    <a:lnTo>
                      <a:pt x="78" y="33"/>
                    </a:lnTo>
                    <a:lnTo>
                      <a:pt x="79" y="41"/>
                    </a:lnTo>
                    <a:lnTo>
                      <a:pt x="78" y="50"/>
                    </a:lnTo>
                    <a:lnTo>
                      <a:pt x="78" y="58"/>
                    </a:lnTo>
                    <a:lnTo>
                      <a:pt x="70" y="64"/>
                    </a:lnTo>
                    <a:lnTo>
                      <a:pt x="63" y="70"/>
                    </a:lnTo>
                    <a:lnTo>
                      <a:pt x="57" y="77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6" y="99"/>
                    </a:lnTo>
                    <a:lnTo>
                      <a:pt x="46" y="107"/>
                    </a:lnTo>
                    <a:lnTo>
                      <a:pt x="49" y="117"/>
                    </a:lnTo>
                    <a:lnTo>
                      <a:pt x="56" y="128"/>
                    </a:lnTo>
                    <a:lnTo>
                      <a:pt x="46" y="134"/>
                    </a:lnTo>
                    <a:lnTo>
                      <a:pt x="37" y="134"/>
                    </a:lnTo>
                    <a:lnTo>
                      <a:pt x="28" y="131"/>
                    </a:lnTo>
                    <a:lnTo>
                      <a:pt x="18" y="128"/>
                    </a:lnTo>
                    <a:lnTo>
                      <a:pt x="11" y="124"/>
                    </a:lnTo>
                    <a:lnTo>
                      <a:pt x="5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4" y="110"/>
                    </a:lnTo>
                    <a:lnTo>
                      <a:pt x="8" y="105"/>
                    </a:lnTo>
                    <a:lnTo>
                      <a:pt x="11" y="98"/>
                    </a:lnTo>
                    <a:lnTo>
                      <a:pt x="16" y="93"/>
                    </a:lnTo>
                    <a:lnTo>
                      <a:pt x="17" y="86"/>
                    </a:lnTo>
                    <a:lnTo>
                      <a:pt x="19" y="80"/>
                    </a:lnTo>
                    <a:lnTo>
                      <a:pt x="19" y="73"/>
                    </a:lnTo>
                    <a:lnTo>
                      <a:pt x="20" y="67"/>
                    </a:lnTo>
                    <a:lnTo>
                      <a:pt x="14" y="60"/>
                    </a:lnTo>
                    <a:lnTo>
                      <a:pt x="14" y="52"/>
                    </a:lnTo>
                    <a:lnTo>
                      <a:pt x="13" y="44"/>
                    </a:lnTo>
                    <a:lnTo>
                      <a:pt x="7" y="40"/>
                    </a:lnTo>
                    <a:lnTo>
                      <a:pt x="7" y="33"/>
                    </a:lnTo>
                    <a:lnTo>
                      <a:pt x="8" y="26"/>
                    </a:lnTo>
                    <a:lnTo>
                      <a:pt x="8" y="19"/>
                    </a:lnTo>
                    <a:lnTo>
                      <a:pt x="10" y="13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1"/>
                    </a:lnTo>
                    <a:lnTo>
                      <a:pt x="48" y="2"/>
                    </a:lnTo>
                    <a:lnTo>
                      <a:pt x="56" y="6"/>
                    </a:lnTo>
                    <a:lnTo>
                      <a:pt x="61" y="8"/>
                    </a:lnTo>
                    <a:lnTo>
                      <a:pt x="67" y="12"/>
                    </a:lnTo>
                    <a:lnTo>
                      <a:pt x="72" y="18"/>
                    </a:lnTo>
                    <a:lnTo>
                      <a:pt x="7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16680" y="4108320"/>
                <a:ext cx="209520" cy="130320"/>
              </a:xfrm>
              <a:custGeom>
                <a:avLst/>
                <a:gdLst/>
                <a:ahLst/>
                <a:rect l="l" t="t" r="r" b="b"/>
                <a:pathLst>
                  <a:path w="264" h="164">
                    <a:moveTo>
                      <a:pt x="56" y="34"/>
                    </a:moveTo>
                    <a:lnTo>
                      <a:pt x="75" y="42"/>
                    </a:lnTo>
                    <a:lnTo>
                      <a:pt x="98" y="47"/>
                    </a:lnTo>
                    <a:lnTo>
                      <a:pt x="122" y="47"/>
                    </a:lnTo>
                    <a:lnTo>
                      <a:pt x="148" y="47"/>
                    </a:lnTo>
                    <a:lnTo>
                      <a:pt x="170" y="46"/>
                    </a:lnTo>
                    <a:lnTo>
                      <a:pt x="193" y="51"/>
                    </a:lnTo>
                    <a:lnTo>
                      <a:pt x="211" y="61"/>
                    </a:lnTo>
                    <a:lnTo>
                      <a:pt x="227" y="81"/>
                    </a:lnTo>
                    <a:lnTo>
                      <a:pt x="237" y="83"/>
                    </a:lnTo>
                    <a:lnTo>
                      <a:pt x="248" y="90"/>
                    </a:lnTo>
                    <a:lnTo>
                      <a:pt x="256" y="96"/>
                    </a:lnTo>
                    <a:lnTo>
                      <a:pt x="263" y="106"/>
                    </a:lnTo>
                    <a:lnTo>
                      <a:pt x="264" y="112"/>
                    </a:lnTo>
                    <a:lnTo>
                      <a:pt x="264" y="119"/>
                    </a:lnTo>
                    <a:lnTo>
                      <a:pt x="263" y="125"/>
                    </a:lnTo>
                    <a:lnTo>
                      <a:pt x="263" y="132"/>
                    </a:lnTo>
                    <a:lnTo>
                      <a:pt x="259" y="137"/>
                    </a:lnTo>
                    <a:lnTo>
                      <a:pt x="257" y="144"/>
                    </a:lnTo>
                    <a:lnTo>
                      <a:pt x="254" y="149"/>
                    </a:lnTo>
                    <a:lnTo>
                      <a:pt x="252" y="155"/>
                    </a:lnTo>
                    <a:lnTo>
                      <a:pt x="245" y="159"/>
                    </a:lnTo>
                    <a:lnTo>
                      <a:pt x="239" y="162"/>
                    </a:lnTo>
                    <a:lnTo>
                      <a:pt x="231" y="163"/>
                    </a:lnTo>
                    <a:lnTo>
                      <a:pt x="225" y="164"/>
                    </a:lnTo>
                    <a:lnTo>
                      <a:pt x="217" y="160"/>
                    </a:lnTo>
                    <a:lnTo>
                      <a:pt x="213" y="154"/>
                    </a:lnTo>
                    <a:lnTo>
                      <a:pt x="212" y="148"/>
                    </a:lnTo>
                    <a:lnTo>
                      <a:pt x="213" y="142"/>
                    </a:lnTo>
                    <a:lnTo>
                      <a:pt x="212" y="136"/>
                    </a:lnTo>
                    <a:lnTo>
                      <a:pt x="212" y="130"/>
                    </a:lnTo>
                    <a:lnTo>
                      <a:pt x="209" y="125"/>
                    </a:lnTo>
                    <a:lnTo>
                      <a:pt x="205" y="123"/>
                    </a:lnTo>
                    <a:lnTo>
                      <a:pt x="200" y="132"/>
                    </a:lnTo>
                    <a:lnTo>
                      <a:pt x="195" y="140"/>
                    </a:lnTo>
                    <a:lnTo>
                      <a:pt x="187" y="147"/>
                    </a:lnTo>
                    <a:lnTo>
                      <a:pt x="180" y="153"/>
                    </a:lnTo>
                    <a:lnTo>
                      <a:pt x="152" y="142"/>
                    </a:lnTo>
                    <a:lnTo>
                      <a:pt x="125" y="132"/>
                    </a:lnTo>
                    <a:lnTo>
                      <a:pt x="99" y="118"/>
                    </a:lnTo>
                    <a:lnTo>
                      <a:pt x="74" y="102"/>
                    </a:lnTo>
                    <a:lnTo>
                      <a:pt x="51" y="82"/>
                    </a:lnTo>
                    <a:lnTo>
                      <a:pt x="30" y="62"/>
                    </a:lnTo>
                    <a:lnTo>
                      <a:pt x="13" y="37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8" y="4"/>
                    </a:lnTo>
                    <a:lnTo>
                      <a:pt x="25" y="7"/>
                    </a:lnTo>
                    <a:lnTo>
                      <a:pt x="31" y="12"/>
                    </a:lnTo>
                    <a:lnTo>
                      <a:pt x="37" y="18"/>
                    </a:lnTo>
                    <a:lnTo>
                      <a:pt x="42" y="23"/>
                    </a:lnTo>
                    <a:lnTo>
                      <a:pt x="49" y="28"/>
                    </a:lnTo>
                    <a:lnTo>
                      <a:pt x="56" y="3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89600" y="41418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9" y="23"/>
                    </a:moveTo>
                    <a:lnTo>
                      <a:pt x="137" y="34"/>
                    </a:lnTo>
                    <a:lnTo>
                      <a:pt x="132" y="43"/>
                    </a:lnTo>
                    <a:lnTo>
                      <a:pt x="126" y="52"/>
                    </a:lnTo>
                    <a:lnTo>
                      <a:pt x="117" y="60"/>
                    </a:lnTo>
                    <a:lnTo>
                      <a:pt x="106" y="65"/>
                    </a:lnTo>
                    <a:lnTo>
                      <a:pt x="97" y="71"/>
                    </a:lnTo>
                    <a:lnTo>
                      <a:pt x="87" y="76"/>
                    </a:lnTo>
                    <a:lnTo>
                      <a:pt x="78" y="81"/>
                    </a:lnTo>
                    <a:lnTo>
                      <a:pt x="67" y="79"/>
                    </a:lnTo>
                    <a:lnTo>
                      <a:pt x="55" y="78"/>
                    </a:lnTo>
                    <a:lnTo>
                      <a:pt x="43" y="77"/>
                    </a:lnTo>
                    <a:lnTo>
                      <a:pt x="32" y="76"/>
                    </a:lnTo>
                    <a:lnTo>
                      <a:pt x="21" y="72"/>
                    </a:lnTo>
                    <a:lnTo>
                      <a:pt x="13" y="69"/>
                    </a:lnTo>
                    <a:lnTo>
                      <a:pt x="4" y="63"/>
                    </a:lnTo>
                    <a:lnTo>
                      <a:pt x="0" y="56"/>
                    </a:lnTo>
                    <a:lnTo>
                      <a:pt x="6" y="51"/>
                    </a:lnTo>
                    <a:lnTo>
                      <a:pt x="14" y="46"/>
                    </a:lnTo>
                    <a:lnTo>
                      <a:pt x="11" y="38"/>
                    </a:lnTo>
                    <a:lnTo>
                      <a:pt x="12" y="33"/>
                    </a:lnTo>
                    <a:lnTo>
                      <a:pt x="21" y="28"/>
                    </a:lnTo>
                    <a:lnTo>
                      <a:pt x="32" y="23"/>
                    </a:lnTo>
                    <a:lnTo>
                      <a:pt x="42" y="17"/>
                    </a:lnTo>
                    <a:lnTo>
                      <a:pt x="53" y="10"/>
                    </a:lnTo>
                    <a:lnTo>
                      <a:pt x="62" y="4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7" y="6"/>
                    </a:lnTo>
                    <a:lnTo>
                      <a:pt x="103" y="5"/>
                    </a:lnTo>
                    <a:lnTo>
                      <a:pt x="110" y="5"/>
                    </a:lnTo>
                    <a:lnTo>
                      <a:pt x="116" y="5"/>
                    </a:lnTo>
                    <a:lnTo>
                      <a:pt x="123" y="6"/>
                    </a:lnTo>
                    <a:lnTo>
                      <a:pt x="127" y="7"/>
                    </a:lnTo>
                    <a:lnTo>
                      <a:pt x="132" y="11"/>
                    </a:lnTo>
                    <a:lnTo>
                      <a:pt x="135" y="15"/>
                    </a:lnTo>
                    <a:lnTo>
                      <a:pt x="139" y="2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62640" y="4338720"/>
                <a:ext cx="711000" cy="365040"/>
              </a:xfrm>
              <a:custGeom>
                <a:avLst/>
                <a:gdLst/>
                <a:ahLst/>
                <a:rect l="l" t="t" r="r" b="b"/>
                <a:pathLst>
                  <a:path w="895" h="459">
                    <a:moveTo>
                      <a:pt x="386" y="56"/>
                    </a:moveTo>
                    <a:lnTo>
                      <a:pt x="395" y="60"/>
                    </a:lnTo>
                    <a:lnTo>
                      <a:pt x="405" y="62"/>
                    </a:lnTo>
                    <a:lnTo>
                      <a:pt x="416" y="61"/>
                    </a:lnTo>
                    <a:lnTo>
                      <a:pt x="428" y="60"/>
                    </a:lnTo>
                    <a:lnTo>
                      <a:pt x="438" y="59"/>
                    </a:lnTo>
                    <a:lnTo>
                      <a:pt x="448" y="61"/>
                    </a:lnTo>
                    <a:lnTo>
                      <a:pt x="457" y="67"/>
                    </a:lnTo>
                    <a:lnTo>
                      <a:pt x="465" y="78"/>
                    </a:lnTo>
                    <a:lnTo>
                      <a:pt x="480" y="77"/>
                    </a:lnTo>
                    <a:lnTo>
                      <a:pt x="493" y="84"/>
                    </a:lnTo>
                    <a:lnTo>
                      <a:pt x="504" y="92"/>
                    </a:lnTo>
                    <a:lnTo>
                      <a:pt x="516" y="103"/>
                    </a:lnTo>
                    <a:lnTo>
                      <a:pt x="527" y="111"/>
                    </a:lnTo>
                    <a:lnTo>
                      <a:pt x="540" y="116"/>
                    </a:lnTo>
                    <a:lnTo>
                      <a:pt x="554" y="115"/>
                    </a:lnTo>
                    <a:lnTo>
                      <a:pt x="572" y="107"/>
                    </a:lnTo>
                    <a:lnTo>
                      <a:pt x="588" y="112"/>
                    </a:lnTo>
                    <a:lnTo>
                      <a:pt x="606" y="118"/>
                    </a:lnTo>
                    <a:lnTo>
                      <a:pt x="622" y="125"/>
                    </a:lnTo>
                    <a:lnTo>
                      <a:pt x="639" y="134"/>
                    </a:lnTo>
                    <a:lnTo>
                      <a:pt x="652" y="144"/>
                    </a:lnTo>
                    <a:lnTo>
                      <a:pt x="664" y="158"/>
                    </a:lnTo>
                    <a:lnTo>
                      <a:pt x="671" y="173"/>
                    </a:lnTo>
                    <a:lnTo>
                      <a:pt x="676" y="192"/>
                    </a:lnTo>
                    <a:lnTo>
                      <a:pt x="677" y="198"/>
                    </a:lnTo>
                    <a:lnTo>
                      <a:pt x="676" y="204"/>
                    </a:lnTo>
                    <a:lnTo>
                      <a:pt x="671" y="209"/>
                    </a:lnTo>
                    <a:lnTo>
                      <a:pt x="668" y="214"/>
                    </a:lnTo>
                    <a:lnTo>
                      <a:pt x="663" y="218"/>
                    </a:lnTo>
                    <a:lnTo>
                      <a:pt x="658" y="223"/>
                    </a:lnTo>
                    <a:lnTo>
                      <a:pt x="655" y="228"/>
                    </a:lnTo>
                    <a:lnTo>
                      <a:pt x="656" y="234"/>
                    </a:lnTo>
                    <a:lnTo>
                      <a:pt x="660" y="240"/>
                    </a:lnTo>
                    <a:lnTo>
                      <a:pt x="665" y="246"/>
                    </a:lnTo>
                    <a:lnTo>
                      <a:pt x="667" y="253"/>
                    </a:lnTo>
                    <a:lnTo>
                      <a:pt x="669" y="261"/>
                    </a:lnTo>
                    <a:lnTo>
                      <a:pt x="670" y="268"/>
                    </a:lnTo>
                    <a:lnTo>
                      <a:pt x="673" y="275"/>
                    </a:lnTo>
                    <a:lnTo>
                      <a:pt x="678" y="281"/>
                    </a:lnTo>
                    <a:lnTo>
                      <a:pt x="685" y="286"/>
                    </a:lnTo>
                    <a:lnTo>
                      <a:pt x="709" y="287"/>
                    </a:lnTo>
                    <a:lnTo>
                      <a:pt x="733" y="290"/>
                    </a:lnTo>
                    <a:lnTo>
                      <a:pt x="756" y="292"/>
                    </a:lnTo>
                    <a:lnTo>
                      <a:pt x="780" y="298"/>
                    </a:lnTo>
                    <a:lnTo>
                      <a:pt x="801" y="303"/>
                    </a:lnTo>
                    <a:lnTo>
                      <a:pt x="824" y="312"/>
                    </a:lnTo>
                    <a:lnTo>
                      <a:pt x="844" y="322"/>
                    </a:lnTo>
                    <a:lnTo>
                      <a:pt x="865" y="335"/>
                    </a:lnTo>
                    <a:lnTo>
                      <a:pt x="874" y="346"/>
                    </a:lnTo>
                    <a:lnTo>
                      <a:pt x="881" y="359"/>
                    </a:lnTo>
                    <a:lnTo>
                      <a:pt x="886" y="372"/>
                    </a:lnTo>
                    <a:lnTo>
                      <a:pt x="892" y="386"/>
                    </a:lnTo>
                    <a:lnTo>
                      <a:pt x="894" y="399"/>
                    </a:lnTo>
                    <a:lnTo>
                      <a:pt x="895" y="414"/>
                    </a:lnTo>
                    <a:lnTo>
                      <a:pt x="894" y="430"/>
                    </a:lnTo>
                    <a:lnTo>
                      <a:pt x="892" y="446"/>
                    </a:lnTo>
                    <a:lnTo>
                      <a:pt x="885" y="450"/>
                    </a:lnTo>
                    <a:lnTo>
                      <a:pt x="880" y="453"/>
                    </a:lnTo>
                    <a:lnTo>
                      <a:pt x="874" y="454"/>
                    </a:lnTo>
                    <a:lnTo>
                      <a:pt x="868" y="455"/>
                    </a:lnTo>
                    <a:lnTo>
                      <a:pt x="862" y="455"/>
                    </a:lnTo>
                    <a:lnTo>
                      <a:pt x="855" y="455"/>
                    </a:lnTo>
                    <a:lnTo>
                      <a:pt x="849" y="455"/>
                    </a:lnTo>
                    <a:lnTo>
                      <a:pt x="844" y="455"/>
                    </a:lnTo>
                    <a:lnTo>
                      <a:pt x="840" y="456"/>
                    </a:lnTo>
                    <a:lnTo>
                      <a:pt x="838" y="459"/>
                    </a:lnTo>
                    <a:lnTo>
                      <a:pt x="834" y="456"/>
                    </a:lnTo>
                    <a:lnTo>
                      <a:pt x="828" y="455"/>
                    </a:lnTo>
                    <a:lnTo>
                      <a:pt x="823" y="455"/>
                    </a:lnTo>
                    <a:lnTo>
                      <a:pt x="815" y="456"/>
                    </a:lnTo>
                    <a:lnTo>
                      <a:pt x="807" y="455"/>
                    </a:lnTo>
                    <a:lnTo>
                      <a:pt x="801" y="453"/>
                    </a:lnTo>
                    <a:lnTo>
                      <a:pt x="783" y="446"/>
                    </a:lnTo>
                    <a:lnTo>
                      <a:pt x="767" y="441"/>
                    </a:lnTo>
                    <a:lnTo>
                      <a:pt x="751" y="432"/>
                    </a:lnTo>
                    <a:lnTo>
                      <a:pt x="735" y="425"/>
                    </a:lnTo>
                    <a:lnTo>
                      <a:pt x="719" y="416"/>
                    </a:lnTo>
                    <a:lnTo>
                      <a:pt x="703" y="408"/>
                    </a:lnTo>
                    <a:lnTo>
                      <a:pt x="687" y="400"/>
                    </a:lnTo>
                    <a:lnTo>
                      <a:pt x="671" y="395"/>
                    </a:lnTo>
                    <a:lnTo>
                      <a:pt x="667" y="388"/>
                    </a:lnTo>
                    <a:lnTo>
                      <a:pt x="663" y="384"/>
                    </a:lnTo>
                    <a:lnTo>
                      <a:pt x="657" y="381"/>
                    </a:lnTo>
                    <a:lnTo>
                      <a:pt x="652" y="380"/>
                    </a:lnTo>
                    <a:lnTo>
                      <a:pt x="645" y="379"/>
                    </a:lnTo>
                    <a:lnTo>
                      <a:pt x="639" y="380"/>
                    </a:lnTo>
                    <a:lnTo>
                      <a:pt x="632" y="380"/>
                    </a:lnTo>
                    <a:lnTo>
                      <a:pt x="627" y="383"/>
                    </a:lnTo>
                    <a:lnTo>
                      <a:pt x="611" y="388"/>
                    </a:lnTo>
                    <a:lnTo>
                      <a:pt x="596" y="398"/>
                    </a:lnTo>
                    <a:lnTo>
                      <a:pt x="580" y="409"/>
                    </a:lnTo>
                    <a:lnTo>
                      <a:pt x="566" y="419"/>
                    </a:lnTo>
                    <a:lnTo>
                      <a:pt x="550" y="427"/>
                    </a:lnTo>
                    <a:lnTo>
                      <a:pt x="533" y="432"/>
                    </a:lnTo>
                    <a:lnTo>
                      <a:pt x="515" y="432"/>
                    </a:lnTo>
                    <a:lnTo>
                      <a:pt x="497" y="428"/>
                    </a:lnTo>
                    <a:lnTo>
                      <a:pt x="487" y="422"/>
                    </a:lnTo>
                    <a:lnTo>
                      <a:pt x="478" y="415"/>
                    </a:lnTo>
                    <a:lnTo>
                      <a:pt x="469" y="410"/>
                    </a:lnTo>
                    <a:lnTo>
                      <a:pt x="461" y="404"/>
                    </a:lnTo>
                    <a:lnTo>
                      <a:pt x="453" y="397"/>
                    </a:lnTo>
                    <a:lnTo>
                      <a:pt x="445" y="390"/>
                    </a:lnTo>
                    <a:lnTo>
                      <a:pt x="438" y="382"/>
                    </a:lnTo>
                    <a:lnTo>
                      <a:pt x="431" y="374"/>
                    </a:lnTo>
                    <a:lnTo>
                      <a:pt x="418" y="372"/>
                    </a:lnTo>
                    <a:lnTo>
                      <a:pt x="406" y="372"/>
                    </a:lnTo>
                    <a:lnTo>
                      <a:pt x="394" y="372"/>
                    </a:lnTo>
                    <a:lnTo>
                      <a:pt x="382" y="373"/>
                    </a:lnTo>
                    <a:lnTo>
                      <a:pt x="369" y="372"/>
                    </a:lnTo>
                    <a:lnTo>
                      <a:pt x="356" y="371"/>
                    </a:lnTo>
                    <a:lnTo>
                      <a:pt x="344" y="368"/>
                    </a:lnTo>
                    <a:lnTo>
                      <a:pt x="334" y="365"/>
                    </a:lnTo>
                    <a:lnTo>
                      <a:pt x="321" y="355"/>
                    </a:lnTo>
                    <a:lnTo>
                      <a:pt x="310" y="345"/>
                    </a:lnTo>
                    <a:lnTo>
                      <a:pt x="298" y="335"/>
                    </a:lnTo>
                    <a:lnTo>
                      <a:pt x="288" y="327"/>
                    </a:lnTo>
                    <a:lnTo>
                      <a:pt x="277" y="316"/>
                    </a:lnTo>
                    <a:lnTo>
                      <a:pt x="268" y="305"/>
                    </a:lnTo>
                    <a:lnTo>
                      <a:pt x="258" y="294"/>
                    </a:lnTo>
                    <a:lnTo>
                      <a:pt x="249" y="282"/>
                    </a:lnTo>
                    <a:lnTo>
                      <a:pt x="240" y="277"/>
                    </a:lnTo>
                    <a:lnTo>
                      <a:pt x="231" y="275"/>
                    </a:lnTo>
                    <a:lnTo>
                      <a:pt x="221" y="274"/>
                    </a:lnTo>
                    <a:lnTo>
                      <a:pt x="213" y="274"/>
                    </a:lnTo>
                    <a:lnTo>
                      <a:pt x="202" y="274"/>
                    </a:lnTo>
                    <a:lnTo>
                      <a:pt x="192" y="276"/>
                    </a:lnTo>
                    <a:lnTo>
                      <a:pt x="183" y="277"/>
                    </a:lnTo>
                    <a:lnTo>
                      <a:pt x="175" y="280"/>
                    </a:lnTo>
                    <a:lnTo>
                      <a:pt x="164" y="272"/>
                    </a:lnTo>
                    <a:lnTo>
                      <a:pt x="153" y="264"/>
                    </a:lnTo>
                    <a:lnTo>
                      <a:pt x="141" y="256"/>
                    </a:lnTo>
                    <a:lnTo>
                      <a:pt x="131" y="247"/>
                    </a:lnTo>
                    <a:lnTo>
                      <a:pt x="120" y="237"/>
                    </a:lnTo>
                    <a:lnTo>
                      <a:pt x="114" y="226"/>
                    </a:lnTo>
                    <a:lnTo>
                      <a:pt x="109" y="212"/>
                    </a:lnTo>
                    <a:lnTo>
                      <a:pt x="111" y="199"/>
                    </a:lnTo>
                    <a:lnTo>
                      <a:pt x="103" y="192"/>
                    </a:lnTo>
                    <a:lnTo>
                      <a:pt x="97" y="187"/>
                    </a:lnTo>
                    <a:lnTo>
                      <a:pt x="90" y="180"/>
                    </a:lnTo>
                    <a:lnTo>
                      <a:pt x="85" y="174"/>
                    </a:lnTo>
                    <a:lnTo>
                      <a:pt x="77" y="168"/>
                    </a:lnTo>
                    <a:lnTo>
                      <a:pt x="70" y="164"/>
                    </a:lnTo>
                    <a:lnTo>
                      <a:pt x="60" y="162"/>
                    </a:lnTo>
                    <a:lnTo>
                      <a:pt x="50" y="166"/>
                    </a:lnTo>
                    <a:lnTo>
                      <a:pt x="41" y="149"/>
                    </a:lnTo>
                    <a:lnTo>
                      <a:pt x="32" y="133"/>
                    </a:lnTo>
                    <a:lnTo>
                      <a:pt x="23" y="117"/>
                    </a:lnTo>
                    <a:lnTo>
                      <a:pt x="15" y="101"/>
                    </a:lnTo>
                    <a:lnTo>
                      <a:pt x="6" y="84"/>
                    </a:lnTo>
                    <a:lnTo>
                      <a:pt x="2" y="68"/>
                    </a:lnTo>
                    <a:lnTo>
                      <a:pt x="0" y="49"/>
                    </a:lnTo>
                    <a:lnTo>
                      <a:pt x="3" y="31"/>
                    </a:lnTo>
                    <a:lnTo>
                      <a:pt x="10" y="28"/>
                    </a:lnTo>
                    <a:lnTo>
                      <a:pt x="19" y="29"/>
                    </a:lnTo>
                    <a:lnTo>
                      <a:pt x="28" y="31"/>
                    </a:lnTo>
                    <a:lnTo>
                      <a:pt x="38" y="31"/>
                    </a:lnTo>
                    <a:lnTo>
                      <a:pt x="61" y="22"/>
                    </a:lnTo>
                    <a:lnTo>
                      <a:pt x="84" y="20"/>
                    </a:lnTo>
                    <a:lnTo>
                      <a:pt x="106" y="19"/>
                    </a:lnTo>
                    <a:lnTo>
                      <a:pt x="130" y="21"/>
                    </a:lnTo>
                    <a:lnTo>
                      <a:pt x="153" y="21"/>
                    </a:lnTo>
                    <a:lnTo>
                      <a:pt x="175" y="19"/>
                    </a:lnTo>
                    <a:lnTo>
                      <a:pt x="198" y="13"/>
                    </a:lnTo>
                    <a:lnTo>
                      <a:pt x="220" y="2"/>
                    </a:lnTo>
                    <a:lnTo>
                      <a:pt x="236" y="0"/>
                    </a:lnTo>
                    <a:lnTo>
                      <a:pt x="254" y="1"/>
                    </a:lnTo>
                    <a:lnTo>
                      <a:pt x="269" y="4"/>
                    </a:lnTo>
                    <a:lnTo>
                      <a:pt x="285" y="11"/>
                    </a:lnTo>
                    <a:lnTo>
                      <a:pt x="299" y="18"/>
                    </a:lnTo>
                    <a:lnTo>
                      <a:pt x="313" y="29"/>
                    </a:lnTo>
                    <a:lnTo>
                      <a:pt x="325" y="40"/>
                    </a:lnTo>
                    <a:lnTo>
                      <a:pt x="338" y="54"/>
                    </a:lnTo>
                    <a:lnTo>
                      <a:pt x="38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16360" y="436248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90" y="41"/>
                    </a:moveTo>
                    <a:lnTo>
                      <a:pt x="89" y="46"/>
                    </a:lnTo>
                    <a:lnTo>
                      <a:pt x="89" y="53"/>
                    </a:lnTo>
                    <a:lnTo>
                      <a:pt x="87" y="58"/>
                    </a:lnTo>
                    <a:lnTo>
                      <a:pt x="84" y="65"/>
                    </a:lnTo>
                    <a:lnTo>
                      <a:pt x="80" y="70"/>
                    </a:lnTo>
                    <a:lnTo>
                      <a:pt x="77" y="75"/>
                    </a:lnTo>
                    <a:lnTo>
                      <a:pt x="71" y="80"/>
                    </a:lnTo>
                    <a:lnTo>
                      <a:pt x="66" y="84"/>
                    </a:lnTo>
                    <a:lnTo>
                      <a:pt x="57" y="84"/>
                    </a:lnTo>
                    <a:lnTo>
                      <a:pt x="50" y="84"/>
                    </a:lnTo>
                    <a:lnTo>
                      <a:pt x="43" y="83"/>
                    </a:lnTo>
                    <a:lnTo>
                      <a:pt x="37" y="81"/>
                    </a:lnTo>
                    <a:lnTo>
                      <a:pt x="31" y="77"/>
                    </a:lnTo>
                    <a:lnTo>
                      <a:pt x="24" y="74"/>
                    </a:lnTo>
                    <a:lnTo>
                      <a:pt x="19" y="70"/>
                    </a:lnTo>
                    <a:lnTo>
                      <a:pt x="14" y="66"/>
                    </a:lnTo>
                    <a:lnTo>
                      <a:pt x="7" y="58"/>
                    </a:lnTo>
                    <a:lnTo>
                      <a:pt x="4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5" y="21"/>
                    </a:lnTo>
                    <a:lnTo>
                      <a:pt x="10" y="13"/>
                    </a:lnTo>
                    <a:lnTo>
                      <a:pt x="15" y="5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62" y="11"/>
                    </a:lnTo>
                    <a:lnTo>
                      <a:pt x="69" y="16"/>
                    </a:lnTo>
                    <a:lnTo>
                      <a:pt x="77" y="24"/>
                    </a:lnTo>
                    <a:lnTo>
                      <a:pt x="83" y="31"/>
                    </a:lnTo>
                    <a:lnTo>
                      <a:pt x="90" y="4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9520" y="4384800"/>
                <a:ext cx="101880" cy="7596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127" y="56"/>
                    </a:moveTo>
                    <a:lnTo>
                      <a:pt x="124" y="66"/>
                    </a:lnTo>
                    <a:lnTo>
                      <a:pt x="116" y="74"/>
                    </a:lnTo>
                    <a:lnTo>
                      <a:pt x="112" y="78"/>
                    </a:lnTo>
                    <a:lnTo>
                      <a:pt x="111" y="83"/>
                    </a:lnTo>
                    <a:lnTo>
                      <a:pt x="112" y="87"/>
                    </a:lnTo>
                    <a:lnTo>
                      <a:pt x="118" y="94"/>
                    </a:lnTo>
                    <a:lnTo>
                      <a:pt x="109" y="96"/>
                    </a:lnTo>
                    <a:lnTo>
                      <a:pt x="102" y="95"/>
                    </a:lnTo>
                    <a:lnTo>
                      <a:pt x="97" y="90"/>
                    </a:lnTo>
                    <a:lnTo>
                      <a:pt x="94" y="86"/>
                    </a:lnTo>
                    <a:lnTo>
                      <a:pt x="88" y="78"/>
                    </a:lnTo>
                    <a:lnTo>
                      <a:pt x="83" y="74"/>
                    </a:lnTo>
                    <a:lnTo>
                      <a:pt x="76" y="71"/>
                    </a:lnTo>
                    <a:lnTo>
                      <a:pt x="69" y="72"/>
                    </a:lnTo>
                    <a:lnTo>
                      <a:pt x="59" y="64"/>
                    </a:lnTo>
                    <a:lnTo>
                      <a:pt x="49" y="58"/>
                    </a:lnTo>
                    <a:lnTo>
                      <a:pt x="40" y="53"/>
                    </a:lnTo>
                    <a:lnTo>
                      <a:pt x="30" y="48"/>
                    </a:lnTo>
                    <a:lnTo>
                      <a:pt x="20" y="42"/>
                    </a:lnTo>
                    <a:lnTo>
                      <a:pt x="12" y="35"/>
                    </a:lnTo>
                    <a:lnTo>
                      <a:pt x="5" y="28"/>
                    </a:lnTo>
                    <a:lnTo>
                      <a:pt x="0" y="20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24" y="24"/>
                    </a:lnTo>
                    <a:lnTo>
                      <a:pt x="31" y="27"/>
                    </a:lnTo>
                    <a:lnTo>
                      <a:pt x="33" y="19"/>
                    </a:lnTo>
                    <a:lnTo>
                      <a:pt x="38" y="13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7" y="4"/>
                    </a:lnTo>
                    <a:lnTo>
                      <a:pt x="83" y="9"/>
                    </a:lnTo>
                    <a:lnTo>
                      <a:pt x="89" y="14"/>
                    </a:lnTo>
                    <a:lnTo>
                      <a:pt x="96" y="20"/>
                    </a:lnTo>
                    <a:lnTo>
                      <a:pt x="103" y="27"/>
                    </a:lnTo>
                    <a:lnTo>
                      <a:pt x="109" y="33"/>
                    </a:lnTo>
                    <a:lnTo>
                      <a:pt x="115" y="40"/>
                    </a:lnTo>
                    <a:lnTo>
                      <a:pt x="120" y="47"/>
                    </a:lnTo>
                    <a:lnTo>
                      <a:pt x="127" y="5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76840" y="4446720"/>
                <a:ext cx="193680" cy="174600"/>
              </a:xfrm>
              <a:custGeom>
                <a:avLst/>
                <a:gdLst/>
                <a:ahLst/>
                <a:rect l="l" t="t" r="r" b="b"/>
                <a:pathLst>
                  <a:path w="243" h="221">
                    <a:moveTo>
                      <a:pt x="216" y="51"/>
                    </a:moveTo>
                    <a:lnTo>
                      <a:pt x="225" y="62"/>
                    </a:lnTo>
                    <a:lnTo>
                      <a:pt x="231" y="75"/>
                    </a:lnTo>
                    <a:lnTo>
                      <a:pt x="234" y="89"/>
                    </a:lnTo>
                    <a:lnTo>
                      <a:pt x="238" y="104"/>
                    </a:lnTo>
                    <a:lnTo>
                      <a:pt x="239" y="119"/>
                    </a:lnTo>
                    <a:lnTo>
                      <a:pt x="240" y="134"/>
                    </a:lnTo>
                    <a:lnTo>
                      <a:pt x="240" y="148"/>
                    </a:lnTo>
                    <a:lnTo>
                      <a:pt x="243" y="163"/>
                    </a:lnTo>
                    <a:lnTo>
                      <a:pt x="241" y="170"/>
                    </a:lnTo>
                    <a:lnTo>
                      <a:pt x="239" y="178"/>
                    </a:lnTo>
                    <a:lnTo>
                      <a:pt x="233" y="183"/>
                    </a:lnTo>
                    <a:lnTo>
                      <a:pt x="229" y="190"/>
                    </a:lnTo>
                    <a:lnTo>
                      <a:pt x="223" y="194"/>
                    </a:lnTo>
                    <a:lnTo>
                      <a:pt x="216" y="199"/>
                    </a:lnTo>
                    <a:lnTo>
                      <a:pt x="210" y="204"/>
                    </a:lnTo>
                    <a:lnTo>
                      <a:pt x="203" y="210"/>
                    </a:lnTo>
                    <a:lnTo>
                      <a:pt x="185" y="213"/>
                    </a:lnTo>
                    <a:lnTo>
                      <a:pt x="167" y="218"/>
                    </a:lnTo>
                    <a:lnTo>
                      <a:pt x="148" y="220"/>
                    </a:lnTo>
                    <a:lnTo>
                      <a:pt x="130" y="221"/>
                    </a:lnTo>
                    <a:lnTo>
                      <a:pt x="112" y="220"/>
                    </a:lnTo>
                    <a:lnTo>
                      <a:pt x="95" y="217"/>
                    </a:lnTo>
                    <a:lnTo>
                      <a:pt x="78" y="211"/>
                    </a:lnTo>
                    <a:lnTo>
                      <a:pt x="63" y="205"/>
                    </a:lnTo>
                    <a:lnTo>
                      <a:pt x="46" y="188"/>
                    </a:lnTo>
                    <a:lnTo>
                      <a:pt x="31" y="170"/>
                    </a:lnTo>
                    <a:lnTo>
                      <a:pt x="18" y="152"/>
                    </a:lnTo>
                    <a:lnTo>
                      <a:pt x="9" y="134"/>
                    </a:lnTo>
                    <a:lnTo>
                      <a:pt x="2" y="112"/>
                    </a:lnTo>
                    <a:lnTo>
                      <a:pt x="0" y="91"/>
                    </a:lnTo>
                    <a:lnTo>
                      <a:pt x="3" y="68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3" y="15"/>
                    </a:lnTo>
                    <a:lnTo>
                      <a:pt x="53" y="9"/>
                    </a:lnTo>
                    <a:lnTo>
                      <a:pt x="62" y="6"/>
                    </a:lnTo>
                    <a:lnTo>
                      <a:pt x="73" y="3"/>
                    </a:lnTo>
                    <a:lnTo>
                      <a:pt x="84" y="1"/>
                    </a:lnTo>
                    <a:lnTo>
                      <a:pt x="102" y="0"/>
                    </a:lnTo>
                    <a:lnTo>
                      <a:pt x="120" y="4"/>
                    </a:lnTo>
                    <a:lnTo>
                      <a:pt x="137" y="8"/>
                    </a:lnTo>
                    <a:lnTo>
                      <a:pt x="154" y="14"/>
                    </a:lnTo>
                    <a:lnTo>
                      <a:pt x="169" y="21"/>
                    </a:lnTo>
                    <a:lnTo>
                      <a:pt x="185" y="31"/>
                    </a:lnTo>
                    <a:lnTo>
                      <a:pt x="200" y="40"/>
                    </a:lnTo>
                    <a:lnTo>
                      <a:pt x="216" y="51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70520" y="4465800"/>
                <a:ext cx="85680" cy="109440"/>
              </a:xfrm>
              <a:custGeom>
                <a:avLst/>
                <a:gdLst/>
                <a:ahLst/>
                <a:rect l="l" t="t" r="r" b="b"/>
                <a:pathLst>
                  <a:path w="109" h="138">
                    <a:moveTo>
                      <a:pt x="38" y="1"/>
                    </a:moveTo>
                    <a:lnTo>
                      <a:pt x="47" y="3"/>
                    </a:lnTo>
                    <a:lnTo>
                      <a:pt x="57" y="8"/>
                    </a:lnTo>
                    <a:lnTo>
                      <a:pt x="66" y="12"/>
                    </a:lnTo>
                    <a:lnTo>
                      <a:pt x="75" y="18"/>
                    </a:lnTo>
                    <a:lnTo>
                      <a:pt x="83" y="24"/>
                    </a:lnTo>
                    <a:lnTo>
                      <a:pt x="91" y="30"/>
                    </a:lnTo>
                    <a:lnTo>
                      <a:pt x="100" y="38"/>
                    </a:lnTo>
                    <a:lnTo>
                      <a:pt x="109" y="45"/>
                    </a:lnTo>
                    <a:lnTo>
                      <a:pt x="104" y="55"/>
                    </a:lnTo>
                    <a:lnTo>
                      <a:pt x="101" y="66"/>
                    </a:lnTo>
                    <a:lnTo>
                      <a:pt x="96" y="74"/>
                    </a:lnTo>
                    <a:lnTo>
                      <a:pt x="87" y="84"/>
                    </a:lnTo>
                    <a:lnTo>
                      <a:pt x="88" y="89"/>
                    </a:lnTo>
                    <a:lnTo>
                      <a:pt x="93" y="95"/>
                    </a:lnTo>
                    <a:lnTo>
                      <a:pt x="96" y="99"/>
                    </a:lnTo>
                    <a:lnTo>
                      <a:pt x="98" y="107"/>
                    </a:lnTo>
                    <a:lnTo>
                      <a:pt x="97" y="115"/>
                    </a:lnTo>
                    <a:lnTo>
                      <a:pt x="94" y="124"/>
                    </a:lnTo>
                    <a:lnTo>
                      <a:pt x="89" y="130"/>
                    </a:lnTo>
                    <a:lnTo>
                      <a:pt x="84" y="138"/>
                    </a:lnTo>
                    <a:lnTo>
                      <a:pt x="71" y="136"/>
                    </a:lnTo>
                    <a:lnTo>
                      <a:pt x="62" y="130"/>
                    </a:lnTo>
                    <a:lnTo>
                      <a:pt x="55" y="122"/>
                    </a:lnTo>
                    <a:lnTo>
                      <a:pt x="52" y="113"/>
                    </a:lnTo>
                    <a:lnTo>
                      <a:pt x="47" y="102"/>
                    </a:lnTo>
                    <a:lnTo>
                      <a:pt x="44" y="92"/>
                    </a:lnTo>
                    <a:lnTo>
                      <a:pt x="40" y="82"/>
                    </a:lnTo>
                    <a:lnTo>
                      <a:pt x="36" y="74"/>
                    </a:lnTo>
                    <a:lnTo>
                      <a:pt x="29" y="66"/>
                    </a:lnTo>
                    <a:lnTo>
                      <a:pt x="24" y="57"/>
                    </a:lnTo>
                    <a:lnTo>
                      <a:pt x="17" y="49"/>
                    </a:lnTo>
                    <a:lnTo>
                      <a:pt x="12" y="41"/>
                    </a:lnTo>
                    <a:lnTo>
                      <a:pt x="5" y="32"/>
                    </a:lnTo>
                    <a:lnTo>
                      <a:pt x="3" y="24"/>
                    </a:lnTo>
                    <a:lnTo>
                      <a:pt x="0" y="14"/>
                    </a:lnTo>
                    <a:lnTo>
                      <a:pt x="1" y="6"/>
                    </a:lnTo>
                    <a:lnTo>
                      <a:pt x="4" y="1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6"/>
                    </a:lnTo>
                    <a:lnTo>
                      <a:pt x="26" y="8"/>
                    </a:lnTo>
                    <a:lnTo>
                      <a:pt x="30" y="7"/>
                    </a:lnTo>
                    <a:lnTo>
                      <a:pt x="33" y="2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16440" y="44798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12" y="6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81440" y="4481640"/>
                <a:ext cx="82800" cy="58680"/>
              </a:xfrm>
              <a:custGeom>
                <a:avLst/>
                <a:gdLst/>
                <a:ahLst/>
                <a:rect l="l" t="t" r="r" b="b"/>
                <a:pathLst>
                  <a:path w="105" h="75">
                    <a:moveTo>
                      <a:pt x="105" y="29"/>
                    </a:moveTo>
                    <a:lnTo>
                      <a:pt x="101" y="36"/>
                    </a:lnTo>
                    <a:lnTo>
                      <a:pt x="97" y="44"/>
                    </a:lnTo>
                    <a:lnTo>
                      <a:pt x="91" y="49"/>
                    </a:lnTo>
                    <a:lnTo>
                      <a:pt x="83" y="52"/>
                    </a:lnTo>
                    <a:lnTo>
                      <a:pt x="77" y="51"/>
                    </a:lnTo>
                    <a:lnTo>
                      <a:pt x="71" y="50"/>
                    </a:lnTo>
                    <a:lnTo>
                      <a:pt x="66" y="50"/>
                    </a:lnTo>
                    <a:lnTo>
                      <a:pt x="61" y="54"/>
                    </a:lnTo>
                    <a:lnTo>
                      <a:pt x="59" y="59"/>
                    </a:lnTo>
                    <a:lnTo>
                      <a:pt x="62" y="64"/>
                    </a:lnTo>
                    <a:lnTo>
                      <a:pt x="64" y="68"/>
                    </a:lnTo>
                    <a:lnTo>
                      <a:pt x="63" y="75"/>
                    </a:lnTo>
                    <a:lnTo>
                      <a:pt x="55" y="69"/>
                    </a:lnTo>
                    <a:lnTo>
                      <a:pt x="49" y="64"/>
                    </a:lnTo>
                    <a:lnTo>
                      <a:pt x="42" y="59"/>
                    </a:lnTo>
                    <a:lnTo>
                      <a:pt x="37" y="53"/>
                    </a:lnTo>
                    <a:lnTo>
                      <a:pt x="29" y="48"/>
                    </a:lnTo>
                    <a:lnTo>
                      <a:pt x="23" y="45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1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5" y="2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2" y="2"/>
                    </a:lnTo>
                    <a:lnTo>
                      <a:pt x="71" y="4"/>
                    </a:lnTo>
                    <a:lnTo>
                      <a:pt x="80" y="8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8"/>
                    </a:lnTo>
                    <a:lnTo>
                      <a:pt x="101" y="22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43440" y="448488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76" h="127">
                    <a:moveTo>
                      <a:pt x="73" y="25"/>
                    </a:moveTo>
                    <a:lnTo>
                      <a:pt x="75" y="31"/>
                    </a:lnTo>
                    <a:lnTo>
                      <a:pt x="76" y="40"/>
                    </a:lnTo>
                    <a:lnTo>
                      <a:pt x="75" y="47"/>
                    </a:lnTo>
                    <a:lnTo>
                      <a:pt x="75" y="56"/>
                    </a:lnTo>
                    <a:lnTo>
                      <a:pt x="68" y="61"/>
                    </a:lnTo>
                    <a:lnTo>
                      <a:pt x="61" y="67"/>
                    </a:lnTo>
                    <a:lnTo>
                      <a:pt x="56" y="73"/>
                    </a:lnTo>
                    <a:lnTo>
                      <a:pt x="51" y="80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5" y="101"/>
                    </a:lnTo>
                    <a:lnTo>
                      <a:pt x="48" y="110"/>
                    </a:lnTo>
                    <a:lnTo>
                      <a:pt x="55" y="122"/>
                    </a:lnTo>
                    <a:lnTo>
                      <a:pt x="45" y="127"/>
                    </a:lnTo>
                    <a:lnTo>
                      <a:pt x="36" y="127"/>
                    </a:lnTo>
                    <a:lnTo>
                      <a:pt x="27" y="125"/>
                    </a:lnTo>
                    <a:lnTo>
                      <a:pt x="19" y="122"/>
                    </a:lnTo>
                    <a:lnTo>
                      <a:pt x="13" y="119"/>
                    </a:lnTo>
                    <a:lnTo>
                      <a:pt x="6" y="119"/>
                    </a:lnTo>
                    <a:lnTo>
                      <a:pt x="3" y="118"/>
                    </a:lnTo>
                    <a:lnTo>
                      <a:pt x="1" y="117"/>
                    </a:lnTo>
                    <a:lnTo>
                      <a:pt x="0" y="114"/>
                    </a:lnTo>
                    <a:lnTo>
                      <a:pt x="1" y="110"/>
                    </a:lnTo>
                    <a:lnTo>
                      <a:pt x="9" y="99"/>
                    </a:lnTo>
                    <a:lnTo>
                      <a:pt x="16" y="89"/>
                    </a:lnTo>
                    <a:lnTo>
                      <a:pt x="17" y="82"/>
                    </a:lnTo>
                    <a:lnTo>
                      <a:pt x="19" y="75"/>
                    </a:lnTo>
                    <a:lnTo>
                      <a:pt x="19" y="69"/>
                    </a:lnTo>
                    <a:lnTo>
                      <a:pt x="19" y="62"/>
                    </a:lnTo>
                    <a:lnTo>
                      <a:pt x="14" y="57"/>
                    </a:lnTo>
                    <a:lnTo>
                      <a:pt x="15" y="49"/>
                    </a:lnTo>
                    <a:lnTo>
                      <a:pt x="14" y="42"/>
                    </a:lnTo>
                    <a:lnTo>
                      <a:pt x="8" y="37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8" y="18"/>
                    </a:lnTo>
                    <a:lnTo>
                      <a:pt x="11" y="13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7" y="2"/>
                    </a:lnTo>
                    <a:lnTo>
                      <a:pt x="55" y="5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4120" y="4562640"/>
                <a:ext cx="200160" cy="122040"/>
              </a:xfrm>
              <a:custGeom>
                <a:avLst/>
                <a:gdLst/>
                <a:ahLst/>
                <a:rect l="l" t="t" r="r" b="b"/>
                <a:pathLst>
                  <a:path w="252" h="155">
                    <a:moveTo>
                      <a:pt x="52" y="32"/>
                    </a:moveTo>
                    <a:lnTo>
                      <a:pt x="70" y="40"/>
                    </a:lnTo>
                    <a:lnTo>
                      <a:pt x="93" y="44"/>
                    </a:lnTo>
                    <a:lnTo>
                      <a:pt x="117" y="43"/>
                    </a:lnTo>
                    <a:lnTo>
                      <a:pt x="141" y="43"/>
                    </a:lnTo>
                    <a:lnTo>
                      <a:pt x="163" y="43"/>
                    </a:lnTo>
                    <a:lnTo>
                      <a:pt x="185" y="47"/>
                    </a:lnTo>
                    <a:lnTo>
                      <a:pt x="203" y="57"/>
                    </a:lnTo>
                    <a:lnTo>
                      <a:pt x="218" y="76"/>
                    </a:lnTo>
                    <a:lnTo>
                      <a:pt x="227" y="78"/>
                    </a:lnTo>
                    <a:lnTo>
                      <a:pt x="237" y="84"/>
                    </a:lnTo>
                    <a:lnTo>
                      <a:pt x="245" y="91"/>
                    </a:lnTo>
                    <a:lnTo>
                      <a:pt x="251" y="101"/>
                    </a:lnTo>
                    <a:lnTo>
                      <a:pt x="252" y="106"/>
                    </a:lnTo>
                    <a:lnTo>
                      <a:pt x="252" y="113"/>
                    </a:lnTo>
                    <a:lnTo>
                      <a:pt x="251" y="118"/>
                    </a:lnTo>
                    <a:lnTo>
                      <a:pt x="251" y="124"/>
                    </a:lnTo>
                    <a:lnTo>
                      <a:pt x="248" y="130"/>
                    </a:lnTo>
                    <a:lnTo>
                      <a:pt x="246" y="136"/>
                    </a:lnTo>
                    <a:lnTo>
                      <a:pt x="243" y="142"/>
                    </a:lnTo>
                    <a:lnTo>
                      <a:pt x="240" y="148"/>
                    </a:lnTo>
                    <a:lnTo>
                      <a:pt x="234" y="151"/>
                    </a:lnTo>
                    <a:lnTo>
                      <a:pt x="227" y="155"/>
                    </a:lnTo>
                    <a:lnTo>
                      <a:pt x="220" y="155"/>
                    </a:lnTo>
                    <a:lnTo>
                      <a:pt x="213" y="155"/>
                    </a:lnTo>
                    <a:lnTo>
                      <a:pt x="207" y="150"/>
                    </a:lnTo>
                    <a:lnTo>
                      <a:pt x="204" y="146"/>
                    </a:lnTo>
                    <a:lnTo>
                      <a:pt x="203" y="140"/>
                    </a:lnTo>
                    <a:lnTo>
                      <a:pt x="203" y="134"/>
                    </a:lnTo>
                    <a:lnTo>
                      <a:pt x="202" y="128"/>
                    </a:lnTo>
                    <a:lnTo>
                      <a:pt x="202" y="123"/>
                    </a:lnTo>
                    <a:lnTo>
                      <a:pt x="199" y="119"/>
                    </a:lnTo>
                    <a:lnTo>
                      <a:pt x="195" y="117"/>
                    </a:lnTo>
                    <a:lnTo>
                      <a:pt x="191" y="124"/>
                    </a:lnTo>
                    <a:lnTo>
                      <a:pt x="185" y="133"/>
                    </a:lnTo>
                    <a:lnTo>
                      <a:pt x="178" y="140"/>
                    </a:lnTo>
                    <a:lnTo>
                      <a:pt x="170" y="146"/>
                    </a:lnTo>
                    <a:lnTo>
                      <a:pt x="144" y="135"/>
                    </a:lnTo>
                    <a:lnTo>
                      <a:pt x="119" y="124"/>
                    </a:lnTo>
                    <a:lnTo>
                      <a:pt x="93" y="111"/>
                    </a:lnTo>
                    <a:lnTo>
                      <a:pt x="70" y="97"/>
                    </a:lnTo>
                    <a:lnTo>
                      <a:pt x="48" y="77"/>
                    </a:lnTo>
                    <a:lnTo>
                      <a:pt x="28" y="58"/>
                    </a:lnTo>
                    <a:lnTo>
                      <a:pt x="12" y="3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4" y="17"/>
                    </a:lnTo>
                    <a:lnTo>
                      <a:pt x="40" y="22"/>
                    </a:lnTo>
                    <a:lnTo>
                      <a:pt x="46" y="27"/>
                    </a:lnTo>
                    <a:lnTo>
                      <a:pt x="52" y="3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2080" y="4592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132" y="21"/>
                    </a:moveTo>
                    <a:lnTo>
                      <a:pt x="130" y="32"/>
                    </a:lnTo>
                    <a:lnTo>
                      <a:pt x="127" y="41"/>
                    </a:lnTo>
                    <a:lnTo>
                      <a:pt x="119" y="50"/>
                    </a:lnTo>
                    <a:lnTo>
                      <a:pt x="112" y="59"/>
                    </a:lnTo>
                    <a:lnTo>
                      <a:pt x="102" y="64"/>
                    </a:lnTo>
                    <a:lnTo>
                      <a:pt x="92" y="69"/>
                    </a:lnTo>
                    <a:lnTo>
                      <a:pt x="82" y="74"/>
                    </a:lnTo>
                    <a:lnTo>
                      <a:pt x="74" y="79"/>
                    </a:lnTo>
                    <a:lnTo>
                      <a:pt x="62" y="77"/>
                    </a:lnTo>
                    <a:lnTo>
                      <a:pt x="52" y="76"/>
                    </a:lnTo>
                    <a:lnTo>
                      <a:pt x="40" y="75"/>
                    </a:lnTo>
                    <a:lnTo>
                      <a:pt x="31" y="74"/>
                    </a:lnTo>
                    <a:lnTo>
                      <a:pt x="21" y="70"/>
                    </a:lnTo>
                    <a:lnTo>
                      <a:pt x="13" y="67"/>
                    </a:lnTo>
                    <a:lnTo>
                      <a:pt x="5" y="61"/>
                    </a:lnTo>
                    <a:lnTo>
                      <a:pt x="0" y="54"/>
                    </a:lnTo>
                    <a:lnTo>
                      <a:pt x="7" y="49"/>
                    </a:lnTo>
                    <a:lnTo>
                      <a:pt x="15" y="45"/>
                    </a:lnTo>
                    <a:lnTo>
                      <a:pt x="11" y="38"/>
                    </a:lnTo>
                    <a:lnTo>
                      <a:pt x="13" y="32"/>
                    </a:lnTo>
                    <a:lnTo>
                      <a:pt x="22" y="27"/>
                    </a:lnTo>
                    <a:lnTo>
                      <a:pt x="32" y="22"/>
                    </a:lnTo>
                    <a:lnTo>
                      <a:pt x="42" y="15"/>
                    </a:lnTo>
                    <a:lnTo>
                      <a:pt x="51" y="9"/>
                    </a:lnTo>
                    <a:lnTo>
                      <a:pt x="61" y="3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93" y="7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1" y="7"/>
                    </a:lnTo>
                    <a:lnTo>
                      <a:pt x="127" y="10"/>
                    </a:lnTo>
                    <a:lnTo>
                      <a:pt x="129" y="13"/>
                    </a:lnTo>
                    <a:lnTo>
                      <a:pt x="132" y="2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3240" y="41562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9" y="11"/>
                    </a:moveTo>
                    <a:lnTo>
                      <a:pt x="43" y="15"/>
                    </a:lnTo>
                    <a:lnTo>
                      <a:pt x="36" y="17"/>
                    </a:lnTo>
                    <a:lnTo>
                      <a:pt x="30" y="16"/>
                    </a:lnTo>
                    <a:lnTo>
                      <a:pt x="23" y="16"/>
                    </a:lnTo>
                    <a:lnTo>
                      <a:pt x="17" y="14"/>
                    </a:lnTo>
                    <a:lnTo>
                      <a:pt x="12" y="1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3" y="5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7" y="7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2280" y="418320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4" y="33"/>
                    </a:moveTo>
                    <a:lnTo>
                      <a:pt x="46" y="32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7" y="24"/>
                    </a:lnTo>
                    <a:lnTo>
                      <a:pt x="20" y="18"/>
                    </a:lnTo>
                    <a:lnTo>
                      <a:pt x="14" y="13"/>
                    </a:lnTo>
                    <a:lnTo>
                      <a:pt x="7" y="9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20" y="8"/>
                    </a:lnTo>
                    <a:lnTo>
                      <a:pt x="29" y="11"/>
                    </a:lnTo>
                    <a:lnTo>
                      <a:pt x="35" y="14"/>
                    </a:lnTo>
                    <a:lnTo>
                      <a:pt x="43" y="19"/>
                    </a:lnTo>
                    <a:lnTo>
                      <a:pt x="48" y="26"/>
                    </a:ln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25840" y="4191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2"/>
                    </a:moveTo>
                    <a:lnTo>
                      <a:pt x="9" y="17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7160" y="4195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1"/>
                    </a:moveTo>
                    <a:lnTo>
                      <a:pt x="8" y="7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97440" y="422424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42" y="0"/>
                    </a:moveTo>
                    <a:lnTo>
                      <a:pt x="33" y="5"/>
                    </a:lnTo>
                    <a:lnTo>
                      <a:pt x="23" y="8"/>
                    </a:lnTo>
                    <a:lnTo>
                      <a:pt x="17" y="8"/>
                    </a:lnTo>
                    <a:lnTo>
                      <a:pt x="12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23" y="5"/>
                    </a:lnTo>
                    <a:lnTo>
                      <a:pt x="32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8680" y="42274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6" y="1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8" y="6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49920" y="4253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30" y="7"/>
                    </a:moveTo>
                    <a:lnTo>
                      <a:pt x="22" y="11"/>
                    </a:lnTo>
                    <a:lnTo>
                      <a:pt x="15" y="16"/>
                    </a:lnTo>
                    <a:lnTo>
                      <a:pt x="7" y="21"/>
                    </a:lnTo>
                    <a:lnTo>
                      <a:pt x="0" y="25"/>
                    </a:lnTo>
                    <a:lnTo>
                      <a:pt x="22" y="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15080" y="42670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6"/>
                    </a:moveTo>
                    <a:lnTo>
                      <a:pt x="45" y="10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27" y="25"/>
                    </a:lnTo>
                    <a:lnTo>
                      <a:pt x="20" y="28"/>
                    </a:lnTo>
                    <a:lnTo>
                      <a:pt x="13" y="31"/>
                    </a:lnTo>
                    <a:lnTo>
                      <a:pt x="7" y="32"/>
                    </a:lnTo>
                    <a:lnTo>
                      <a:pt x="0" y="32"/>
                    </a:lnTo>
                    <a:lnTo>
                      <a:pt x="5" y="26"/>
                    </a:lnTo>
                    <a:lnTo>
                      <a:pt x="11" y="21"/>
                    </a:lnTo>
                    <a:lnTo>
                      <a:pt x="18" y="14"/>
                    </a:lnTo>
                    <a:lnTo>
                      <a:pt x="24" y="7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10120" y="42703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2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7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38800" y="431496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18" h="97">
                    <a:moveTo>
                      <a:pt x="10" y="32"/>
                    </a:moveTo>
                    <a:lnTo>
                      <a:pt x="9" y="40"/>
                    </a:lnTo>
                    <a:lnTo>
                      <a:pt x="10" y="47"/>
                    </a:lnTo>
                    <a:lnTo>
                      <a:pt x="13" y="55"/>
                    </a:lnTo>
                    <a:lnTo>
                      <a:pt x="15" y="62"/>
                    </a:lnTo>
                    <a:lnTo>
                      <a:pt x="16" y="69"/>
                    </a:lnTo>
                    <a:lnTo>
                      <a:pt x="18" y="77"/>
                    </a:lnTo>
                    <a:lnTo>
                      <a:pt x="17" y="86"/>
                    </a:lnTo>
                    <a:lnTo>
                      <a:pt x="16" y="97"/>
                    </a:lnTo>
                    <a:lnTo>
                      <a:pt x="6" y="91"/>
                    </a:lnTo>
                    <a:lnTo>
                      <a:pt x="2" y="84"/>
                    </a:lnTo>
                    <a:lnTo>
                      <a:pt x="0" y="74"/>
                    </a:lnTo>
                    <a:lnTo>
                      <a:pt x="1" y="65"/>
                    </a:lnTo>
                    <a:lnTo>
                      <a:pt x="2" y="54"/>
                    </a:lnTo>
                    <a:lnTo>
                      <a:pt x="4" y="44"/>
                    </a:lnTo>
                    <a:lnTo>
                      <a:pt x="3" y="34"/>
                    </a:lnTo>
                    <a:lnTo>
                      <a:pt x="2" y="2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8" y="13"/>
                    </a:lnTo>
                    <a:lnTo>
                      <a:pt x="7" y="2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0540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2"/>
                    </a:moveTo>
                    <a:lnTo>
                      <a:pt x="13" y="6"/>
                    </a:lnTo>
                    <a:lnTo>
                      <a:pt x="8" y="9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71920" y="433872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23" h="102">
                    <a:moveTo>
                      <a:pt x="17" y="49"/>
                    </a:moveTo>
                    <a:lnTo>
                      <a:pt x="17" y="56"/>
                    </a:lnTo>
                    <a:lnTo>
                      <a:pt x="18" y="62"/>
                    </a:lnTo>
                    <a:lnTo>
                      <a:pt x="19" y="69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21" y="88"/>
                    </a:lnTo>
                    <a:lnTo>
                      <a:pt x="22" y="95"/>
                    </a:lnTo>
                    <a:lnTo>
                      <a:pt x="23" y="102"/>
                    </a:lnTo>
                    <a:lnTo>
                      <a:pt x="16" y="99"/>
                    </a:lnTo>
                    <a:lnTo>
                      <a:pt x="12" y="96"/>
                    </a:lnTo>
                    <a:lnTo>
                      <a:pt x="9" y="89"/>
                    </a:lnTo>
                    <a:lnTo>
                      <a:pt x="9" y="84"/>
                    </a:lnTo>
                    <a:lnTo>
                      <a:pt x="8" y="75"/>
                    </a:lnTo>
                    <a:lnTo>
                      <a:pt x="8" y="69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6" y="48"/>
                    </a:lnTo>
                    <a:lnTo>
                      <a:pt x="5" y="42"/>
                    </a:lnTo>
                    <a:lnTo>
                      <a:pt x="4" y="34"/>
                    </a:lnTo>
                    <a:lnTo>
                      <a:pt x="4" y="28"/>
                    </a:lnTo>
                    <a:lnTo>
                      <a:pt x="3" y="20"/>
                    </a:lnTo>
                    <a:lnTo>
                      <a:pt x="2" y="14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6"/>
                    </a:lnTo>
                    <a:lnTo>
                      <a:pt x="14" y="12"/>
                    </a:lnTo>
                    <a:lnTo>
                      <a:pt x="15" y="19"/>
                    </a:lnTo>
                    <a:lnTo>
                      <a:pt x="15" y="27"/>
                    </a:lnTo>
                    <a:lnTo>
                      <a:pt x="15" y="34"/>
                    </a:lnTo>
                    <a:lnTo>
                      <a:pt x="15" y="42"/>
                    </a:lnTo>
                    <a:lnTo>
                      <a:pt x="1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70440" y="435456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0">
                    <a:moveTo>
                      <a:pt x="91" y="0"/>
                    </a:moveTo>
                    <a:lnTo>
                      <a:pt x="81" y="11"/>
                    </a:lnTo>
                    <a:lnTo>
                      <a:pt x="71" y="20"/>
                    </a:lnTo>
                    <a:lnTo>
                      <a:pt x="61" y="24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25" y="29"/>
                    </a:lnTo>
                    <a:lnTo>
                      <a:pt x="12" y="29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1" y="24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7" y="7"/>
                    </a:lnTo>
                    <a:lnTo>
                      <a:pt x="78" y="3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22800" y="4373640"/>
                <a:ext cx="111240" cy="460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41" y="56"/>
                    </a:moveTo>
                    <a:lnTo>
                      <a:pt x="141" y="58"/>
                    </a:lnTo>
                    <a:lnTo>
                      <a:pt x="121" y="51"/>
                    </a:lnTo>
                    <a:lnTo>
                      <a:pt x="103" y="45"/>
                    </a:lnTo>
                    <a:lnTo>
                      <a:pt x="84" y="39"/>
                    </a:lnTo>
                    <a:lnTo>
                      <a:pt x="65" y="33"/>
                    </a:lnTo>
                    <a:lnTo>
                      <a:pt x="46" y="26"/>
                    </a:lnTo>
                    <a:lnTo>
                      <a:pt x="29" y="19"/>
                    </a:lnTo>
                    <a:lnTo>
                      <a:pt x="13" y="10"/>
                    </a:lnTo>
                    <a:lnTo>
                      <a:pt x="0" y="0"/>
                    </a:lnTo>
                    <a:lnTo>
                      <a:pt x="17" y="4"/>
                    </a:lnTo>
                    <a:lnTo>
                      <a:pt x="35" y="11"/>
                    </a:lnTo>
                    <a:lnTo>
                      <a:pt x="52" y="17"/>
                    </a:lnTo>
                    <a:lnTo>
                      <a:pt x="71" y="24"/>
                    </a:lnTo>
                    <a:lnTo>
                      <a:pt x="88" y="30"/>
                    </a:lnTo>
                    <a:lnTo>
                      <a:pt x="105" y="39"/>
                    </a:lnTo>
                    <a:lnTo>
                      <a:pt x="122" y="46"/>
                    </a:lnTo>
                    <a:lnTo>
                      <a:pt x="14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5480" y="440208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0" y="37"/>
                    </a:moveTo>
                    <a:lnTo>
                      <a:pt x="11" y="30"/>
                    </a:lnTo>
                    <a:lnTo>
                      <a:pt x="7" y="21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9"/>
                    </a:lnTo>
                    <a:lnTo>
                      <a:pt x="21" y="15"/>
                    </a:lnTo>
                    <a:lnTo>
                      <a:pt x="22" y="22"/>
                    </a:lnTo>
                    <a:lnTo>
                      <a:pt x="21" y="29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5160" y="4410000"/>
                <a:ext cx="100080" cy="5400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125" y="54"/>
                    </a:moveTo>
                    <a:lnTo>
                      <a:pt x="123" y="60"/>
                    </a:lnTo>
                    <a:lnTo>
                      <a:pt x="116" y="66"/>
                    </a:lnTo>
                    <a:lnTo>
                      <a:pt x="102" y="69"/>
                    </a:lnTo>
                    <a:lnTo>
                      <a:pt x="93" y="68"/>
                    </a:lnTo>
                    <a:lnTo>
                      <a:pt x="83" y="63"/>
                    </a:lnTo>
                    <a:lnTo>
                      <a:pt x="77" y="57"/>
                    </a:lnTo>
                    <a:lnTo>
                      <a:pt x="68" y="50"/>
                    </a:lnTo>
                    <a:lnTo>
                      <a:pt x="59" y="45"/>
                    </a:lnTo>
                    <a:lnTo>
                      <a:pt x="50" y="42"/>
                    </a:lnTo>
                    <a:lnTo>
                      <a:pt x="40" y="43"/>
                    </a:lnTo>
                    <a:lnTo>
                      <a:pt x="0" y="29"/>
                    </a:lnTo>
                    <a:lnTo>
                      <a:pt x="10" y="25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9" y="21"/>
                    </a:lnTo>
                    <a:lnTo>
                      <a:pt x="89" y="29"/>
                    </a:lnTo>
                    <a:lnTo>
                      <a:pt x="100" y="39"/>
                    </a:lnTo>
                    <a:lnTo>
                      <a:pt x="111" y="47"/>
                    </a:lnTo>
                    <a:lnTo>
                      <a:pt x="12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3680" y="440856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108" h="73">
                    <a:moveTo>
                      <a:pt x="108" y="3"/>
                    </a:moveTo>
                    <a:lnTo>
                      <a:pt x="93" y="11"/>
                    </a:lnTo>
                    <a:lnTo>
                      <a:pt x="80" y="22"/>
                    </a:lnTo>
                    <a:lnTo>
                      <a:pt x="67" y="33"/>
                    </a:lnTo>
                    <a:lnTo>
                      <a:pt x="56" y="45"/>
                    </a:lnTo>
                    <a:lnTo>
                      <a:pt x="43" y="56"/>
                    </a:lnTo>
                    <a:lnTo>
                      <a:pt x="30" y="66"/>
                    </a:lnTo>
                    <a:lnTo>
                      <a:pt x="15" y="71"/>
                    </a:lnTo>
                    <a:lnTo>
                      <a:pt x="0" y="73"/>
                    </a:lnTo>
                    <a:lnTo>
                      <a:pt x="1" y="67"/>
                    </a:lnTo>
                    <a:lnTo>
                      <a:pt x="13" y="57"/>
                    </a:lnTo>
                    <a:lnTo>
                      <a:pt x="25" y="46"/>
                    </a:lnTo>
                    <a:lnTo>
                      <a:pt x="37" y="33"/>
                    </a:lnTo>
                    <a:lnTo>
                      <a:pt x="49" y="22"/>
                    </a:lnTo>
                    <a:lnTo>
                      <a:pt x="61" y="11"/>
                    </a:lnTo>
                    <a:lnTo>
                      <a:pt x="75" y="3"/>
                    </a:lnTo>
                    <a:lnTo>
                      <a:pt x="90" y="0"/>
                    </a:lnTo>
                    <a:lnTo>
                      <a:pt x="10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81680" y="44146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92" h="56">
                    <a:moveTo>
                      <a:pt x="65" y="47"/>
                    </a:moveTo>
                    <a:lnTo>
                      <a:pt x="56" y="47"/>
                    </a:lnTo>
                    <a:lnTo>
                      <a:pt x="49" y="48"/>
                    </a:lnTo>
                    <a:lnTo>
                      <a:pt x="41" y="49"/>
                    </a:lnTo>
                    <a:lnTo>
                      <a:pt x="34" y="51"/>
                    </a:lnTo>
                    <a:lnTo>
                      <a:pt x="25" y="51"/>
                    </a:lnTo>
                    <a:lnTo>
                      <a:pt x="16" y="53"/>
                    </a:lnTo>
                    <a:lnTo>
                      <a:pt x="8" y="53"/>
                    </a:lnTo>
                    <a:lnTo>
                      <a:pt x="0" y="56"/>
                    </a:lnTo>
                    <a:lnTo>
                      <a:pt x="10" y="47"/>
                    </a:lnTo>
                    <a:lnTo>
                      <a:pt x="22" y="40"/>
                    </a:lnTo>
                    <a:lnTo>
                      <a:pt x="33" y="32"/>
                    </a:lnTo>
                    <a:lnTo>
                      <a:pt x="44" y="25"/>
                    </a:lnTo>
                    <a:lnTo>
                      <a:pt x="55" y="18"/>
                    </a:lnTo>
                    <a:lnTo>
                      <a:pt x="68" y="10"/>
                    </a:lnTo>
                    <a:lnTo>
                      <a:pt x="79" y="4"/>
                    </a:lnTo>
                    <a:lnTo>
                      <a:pt x="92" y="0"/>
                    </a:lnTo>
                    <a:lnTo>
                      <a:pt x="6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3920" y="441972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31" y="10"/>
                    </a:moveTo>
                    <a:lnTo>
                      <a:pt x="30" y="16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16" y="34"/>
                    </a:lnTo>
                    <a:lnTo>
                      <a:pt x="8" y="30"/>
                    </a:lnTo>
                    <a:lnTo>
                      <a:pt x="0" y="26"/>
                    </a:lnTo>
                    <a:lnTo>
                      <a:pt x="14" y="0"/>
                    </a:lnTo>
                    <a:lnTo>
                      <a:pt x="23" y="3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40240" y="44258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2" y="29"/>
                    </a:moveTo>
                    <a:lnTo>
                      <a:pt x="16" y="24"/>
                    </a:lnTo>
                    <a:lnTo>
                      <a:pt x="10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2" y="5"/>
                    </a:lnTo>
                    <a:lnTo>
                      <a:pt x="19" y="10"/>
                    </a:lnTo>
                    <a:lnTo>
                      <a:pt x="21" y="12"/>
                    </a:lnTo>
                    <a:lnTo>
                      <a:pt x="24" y="17"/>
                    </a:lnTo>
                    <a:lnTo>
                      <a:pt x="22" y="21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87760" y="44546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21"/>
                    </a:moveTo>
                    <a:lnTo>
                      <a:pt x="9" y="16"/>
                    </a:lnTo>
                    <a:lnTo>
                      <a:pt x="3" y="1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12" y="8"/>
                    </a:lnTo>
                    <a:lnTo>
                      <a:pt x="14" y="13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0800" y="4459320"/>
                <a:ext cx="101520" cy="55440"/>
              </a:xfrm>
              <a:custGeom>
                <a:avLst/>
                <a:gdLst/>
                <a:ahLst/>
                <a:rect l="l" t="t" r="r" b="b"/>
                <a:pathLst>
                  <a:path w="128" h="69">
                    <a:moveTo>
                      <a:pt x="89" y="47"/>
                    </a:moveTo>
                    <a:lnTo>
                      <a:pt x="94" y="50"/>
                    </a:lnTo>
                    <a:lnTo>
                      <a:pt x="100" y="52"/>
                    </a:lnTo>
                    <a:lnTo>
                      <a:pt x="107" y="51"/>
                    </a:lnTo>
                    <a:lnTo>
                      <a:pt x="114" y="51"/>
                    </a:lnTo>
                    <a:lnTo>
                      <a:pt x="120" y="51"/>
                    </a:lnTo>
                    <a:lnTo>
                      <a:pt x="125" y="53"/>
                    </a:lnTo>
                    <a:lnTo>
                      <a:pt x="127" y="59"/>
                    </a:lnTo>
                    <a:lnTo>
                      <a:pt x="128" y="69"/>
                    </a:lnTo>
                    <a:lnTo>
                      <a:pt x="118" y="65"/>
                    </a:lnTo>
                    <a:lnTo>
                      <a:pt x="107" y="64"/>
                    </a:lnTo>
                    <a:lnTo>
                      <a:pt x="95" y="63"/>
                    </a:lnTo>
                    <a:lnTo>
                      <a:pt x="84" y="64"/>
                    </a:lnTo>
                    <a:lnTo>
                      <a:pt x="72" y="62"/>
                    </a:lnTo>
                    <a:lnTo>
                      <a:pt x="62" y="60"/>
                    </a:lnTo>
                    <a:lnTo>
                      <a:pt x="52" y="54"/>
                    </a:lnTo>
                    <a:lnTo>
                      <a:pt x="46" y="47"/>
                    </a:lnTo>
                    <a:lnTo>
                      <a:pt x="0" y="32"/>
                    </a:lnTo>
                    <a:lnTo>
                      <a:pt x="17" y="0"/>
                    </a:lnTo>
                    <a:lnTo>
                      <a:pt x="25" y="3"/>
                    </a:lnTo>
                    <a:lnTo>
                      <a:pt x="36" y="7"/>
                    </a:lnTo>
                    <a:lnTo>
                      <a:pt x="46" y="11"/>
                    </a:lnTo>
                    <a:lnTo>
                      <a:pt x="56" y="17"/>
                    </a:lnTo>
                    <a:lnTo>
                      <a:pt x="65" y="22"/>
                    </a:lnTo>
                    <a:lnTo>
                      <a:pt x="74" y="29"/>
                    </a:lnTo>
                    <a:lnTo>
                      <a:pt x="81" y="36"/>
                    </a:lnTo>
                    <a:lnTo>
                      <a:pt x="8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14960" y="4465800"/>
                <a:ext cx="1307880" cy="919080"/>
              </a:xfrm>
              <a:custGeom>
                <a:avLst/>
                <a:gdLst/>
                <a:ahLst/>
                <a:rect l="l" t="t" r="r" b="b"/>
                <a:pathLst>
                  <a:path w="1646" h="1159">
                    <a:moveTo>
                      <a:pt x="89" y="83"/>
                    </a:moveTo>
                    <a:lnTo>
                      <a:pt x="91" y="93"/>
                    </a:lnTo>
                    <a:lnTo>
                      <a:pt x="94" y="105"/>
                    </a:lnTo>
                    <a:lnTo>
                      <a:pt x="95" y="117"/>
                    </a:lnTo>
                    <a:lnTo>
                      <a:pt x="98" y="130"/>
                    </a:lnTo>
                    <a:lnTo>
                      <a:pt x="100" y="142"/>
                    </a:lnTo>
                    <a:lnTo>
                      <a:pt x="103" y="154"/>
                    </a:lnTo>
                    <a:lnTo>
                      <a:pt x="106" y="165"/>
                    </a:lnTo>
                    <a:lnTo>
                      <a:pt x="114" y="176"/>
                    </a:lnTo>
                    <a:lnTo>
                      <a:pt x="123" y="73"/>
                    </a:lnTo>
                    <a:lnTo>
                      <a:pt x="140" y="73"/>
                    </a:lnTo>
                    <a:lnTo>
                      <a:pt x="149" y="80"/>
                    </a:lnTo>
                    <a:lnTo>
                      <a:pt x="153" y="89"/>
                    </a:lnTo>
                    <a:lnTo>
                      <a:pt x="153" y="102"/>
                    </a:lnTo>
                    <a:lnTo>
                      <a:pt x="149" y="115"/>
                    </a:lnTo>
                    <a:lnTo>
                      <a:pt x="147" y="130"/>
                    </a:lnTo>
                    <a:lnTo>
                      <a:pt x="146" y="143"/>
                    </a:lnTo>
                    <a:lnTo>
                      <a:pt x="150" y="155"/>
                    </a:lnTo>
                    <a:lnTo>
                      <a:pt x="157" y="154"/>
                    </a:lnTo>
                    <a:lnTo>
                      <a:pt x="163" y="156"/>
                    </a:lnTo>
                    <a:lnTo>
                      <a:pt x="170" y="158"/>
                    </a:lnTo>
                    <a:lnTo>
                      <a:pt x="176" y="161"/>
                    </a:lnTo>
                    <a:lnTo>
                      <a:pt x="182" y="164"/>
                    </a:lnTo>
                    <a:lnTo>
                      <a:pt x="188" y="165"/>
                    </a:lnTo>
                    <a:lnTo>
                      <a:pt x="194" y="164"/>
                    </a:lnTo>
                    <a:lnTo>
                      <a:pt x="202" y="159"/>
                    </a:lnTo>
                    <a:lnTo>
                      <a:pt x="199" y="153"/>
                    </a:lnTo>
                    <a:lnTo>
                      <a:pt x="198" y="146"/>
                    </a:lnTo>
                    <a:lnTo>
                      <a:pt x="198" y="140"/>
                    </a:lnTo>
                    <a:lnTo>
                      <a:pt x="198" y="133"/>
                    </a:lnTo>
                    <a:lnTo>
                      <a:pt x="198" y="126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8" y="105"/>
                    </a:lnTo>
                    <a:lnTo>
                      <a:pt x="212" y="111"/>
                    </a:lnTo>
                    <a:lnTo>
                      <a:pt x="226" y="119"/>
                    </a:lnTo>
                    <a:lnTo>
                      <a:pt x="239" y="127"/>
                    </a:lnTo>
                    <a:lnTo>
                      <a:pt x="253" y="137"/>
                    </a:lnTo>
                    <a:lnTo>
                      <a:pt x="266" y="145"/>
                    </a:lnTo>
                    <a:lnTo>
                      <a:pt x="278" y="155"/>
                    </a:lnTo>
                    <a:lnTo>
                      <a:pt x="292" y="163"/>
                    </a:lnTo>
                    <a:lnTo>
                      <a:pt x="307" y="170"/>
                    </a:lnTo>
                    <a:lnTo>
                      <a:pt x="313" y="178"/>
                    </a:lnTo>
                    <a:lnTo>
                      <a:pt x="320" y="182"/>
                    </a:lnTo>
                    <a:lnTo>
                      <a:pt x="325" y="179"/>
                    </a:lnTo>
                    <a:lnTo>
                      <a:pt x="386" y="216"/>
                    </a:lnTo>
                    <a:lnTo>
                      <a:pt x="451" y="247"/>
                    </a:lnTo>
                    <a:lnTo>
                      <a:pt x="517" y="274"/>
                    </a:lnTo>
                    <a:lnTo>
                      <a:pt x="586" y="301"/>
                    </a:lnTo>
                    <a:lnTo>
                      <a:pt x="653" y="327"/>
                    </a:lnTo>
                    <a:lnTo>
                      <a:pt x="720" y="358"/>
                    </a:lnTo>
                    <a:lnTo>
                      <a:pt x="782" y="395"/>
                    </a:lnTo>
                    <a:lnTo>
                      <a:pt x="841" y="441"/>
                    </a:lnTo>
                    <a:lnTo>
                      <a:pt x="883" y="453"/>
                    </a:lnTo>
                    <a:lnTo>
                      <a:pt x="924" y="468"/>
                    </a:lnTo>
                    <a:lnTo>
                      <a:pt x="964" y="486"/>
                    </a:lnTo>
                    <a:lnTo>
                      <a:pt x="1004" y="507"/>
                    </a:lnTo>
                    <a:lnTo>
                      <a:pt x="1042" y="526"/>
                    </a:lnTo>
                    <a:lnTo>
                      <a:pt x="1081" y="547"/>
                    </a:lnTo>
                    <a:lnTo>
                      <a:pt x="1120" y="566"/>
                    </a:lnTo>
                    <a:lnTo>
                      <a:pt x="1162" y="583"/>
                    </a:lnTo>
                    <a:lnTo>
                      <a:pt x="1166" y="590"/>
                    </a:lnTo>
                    <a:lnTo>
                      <a:pt x="1174" y="591"/>
                    </a:lnTo>
                    <a:lnTo>
                      <a:pt x="1181" y="591"/>
                    </a:lnTo>
                    <a:lnTo>
                      <a:pt x="1189" y="594"/>
                    </a:lnTo>
                    <a:lnTo>
                      <a:pt x="1217" y="607"/>
                    </a:lnTo>
                    <a:lnTo>
                      <a:pt x="1247" y="621"/>
                    </a:lnTo>
                    <a:lnTo>
                      <a:pt x="1277" y="632"/>
                    </a:lnTo>
                    <a:lnTo>
                      <a:pt x="1308" y="643"/>
                    </a:lnTo>
                    <a:lnTo>
                      <a:pt x="1338" y="653"/>
                    </a:lnTo>
                    <a:lnTo>
                      <a:pt x="1370" y="664"/>
                    </a:lnTo>
                    <a:lnTo>
                      <a:pt x="1400" y="674"/>
                    </a:lnTo>
                    <a:lnTo>
                      <a:pt x="1431" y="686"/>
                    </a:lnTo>
                    <a:lnTo>
                      <a:pt x="1433" y="696"/>
                    </a:lnTo>
                    <a:lnTo>
                      <a:pt x="1438" y="704"/>
                    </a:lnTo>
                    <a:lnTo>
                      <a:pt x="1446" y="707"/>
                    </a:lnTo>
                    <a:lnTo>
                      <a:pt x="1456" y="711"/>
                    </a:lnTo>
                    <a:lnTo>
                      <a:pt x="1465" y="712"/>
                    </a:lnTo>
                    <a:lnTo>
                      <a:pt x="1475" y="713"/>
                    </a:lnTo>
                    <a:lnTo>
                      <a:pt x="1484" y="715"/>
                    </a:lnTo>
                    <a:lnTo>
                      <a:pt x="1493" y="720"/>
                    </a:lnTo>
                    <a:lnTo>
                      <a:pt x="1508" y="725"/>
                    </a:lnTo>
                    <a:lnTo>
                      <a:pt x="1523" y="732"/>
                    </a:lnTo>
                    <a:lnTo>
                      <a:pt x="1539" y="738"/>
                    </a:lnTo>
                    <a:lnTo>
                      <a:pt x="1554" y="746"/>
                    </a:lnTo>
                    <a:lnTo>
                      <a:pt x="1568" y="753"/>
                    </a:lnTo>
                    <a:lnTo>
                      <a:pt x="1583" y="761"/>
                    </a:lnTo>
                    <a:lnTo>
                      <a:pt x="1597" y="768"/>
                    </a:lnTo>
                    <a:lnTo>
                      <a:pt x="1613" y="776"/>
                    </a:lnTo>
                    <a:lnTo>
                      <a:pt x="1616" y="781"/>
                    </a:lnTo>
                    <a:lnTo>
                      <a:pt x="1617" y="789"/>
                    </a:lnTo>
                    <a:lnTo>
                      <a:pt x="1617" y="796"/>
                    </a:lnTo>
                    <a:lnTo>
                      <a:pt x="1617" y="805"/>
                    </a:lnTo>
                    <a:lnTo>
                      <a:pt x="1617" y="810"/>
                    </a:lnTo>
                    <a:lnTo>
                      <a:pt x="1620" y="816"/>
                    </a:lnTo>
                    <a:lnTo>
                      <a:pt x="1627" y="817"/>
                    </a:lnTo>
                    <a:lnTo>
                      <a:pt x="1640" y="816"/>
                    </a:lnTo>
                    <a:lnTo>
                      <a:pt x="1642" y="819"/>
                    </a:lnTo>
                    <a:lnTo>
                      <a:pt x="1641" y="824"/>
                    </a:lnTo>
                    <a:lnTo>
                      <a:pt x="1638" y="829"/>
                    </a:lnTo>
                    <a:lnTo>
                      <a:pt x="1638" y="836"/>
                    </a:lnTo>
                    <a:lnTo>
                      <a:pt x="1640" y="849"/>
                    </a:lnTo>
                    <a:lnTo>
                      <a:pt x="1640" y="863"/>
                    </a:lnTo>
                    <a:lnTo>
                      <a:pt x="1636" y="876"/>
                    </a:lnTo>
                    <a:lnTo>
                      <a:pt x="1634" y="890"/>
                    </a:lnTo>
                    <a:lnTo>
                      <a:pt x="1630" y="903"/>
                    </a:lnTo>
                    <a:lnTo>
                      <a:pt x="1628" y="917"/>
                    </a:lnTo>
                    <a:lnTo>
                      <a:pt x="1628" y="930"/>
                    </a:lnTo>
                    <a:lnTo>
                      <a:pt x="1631" y="946"/>
                    </a:lnTo>
                    <a:lnTo>
                      <a:pt x="1627" y="956"/>
                    </a:lnTo>
                    <a:lnTo>
                      <a:pt x="1626" y="969"/>
                    </a:lnTo>
                    <a:lnTo>
                      <a:pt x="1625" y="982"/>
                    </a:lnTo>
                    <a:lnTo>
                      <a:pt x="1624" y="995"/>
                    </a:lnTo>
                    <a:lnTo>
                      <a:pt x="1621" y="1007"/>
                    </a:lnTo>
                    <a:lnTo>
                      <a:pt x="1620" y="1020"/>
                    </a:lnTo>
                    <a:lnTo>
                      <a:pt x="1616" y="1032"/>
                    </a:lnTo>
                    <a:lnTo>
                      <a:pt x="1613" y="1045"/>
                    </a:lnTo>
                    <a:lnTo>
                      <a:pt x="1614" y="1054"/>
                    </a:lnTo>
                    <a:lnTo>
                      <a:pt x="1619" y="1065"/>
                    </a:lnTo>
                    <a:lnTo>
                      <a:pt x="1627" y="1074"/>
                    </a:lnTo>
                    <a:lnTo>
                      <a:pt x="1635" y="1083"/>
                    </a:lnTo>
                    <a:lnTo>
                      <a:pt x="1642" y="1092"/>
                    </a:lnTo>
                    <a:lnTo>
                      <a:pt x="1646" y="1102"/>
                    </a:lnTo>
                    <a:lnTo>
                      <a:pt x="1645" y="1111"/>
                    </a:lnTo>
                    <a:lnTo>
                      <a:pt x="1638" y="1125"/>
                    </a:lnTo>
                    <a:lnTo>
                      <a:pt x="1629" y="1132"/>
                    </a:lnTo>
                    <a:lnTo>
                      <a:pt x="1621" y="1135"/>
                    </a:lnTo>
                    <a:lnTo>
                      <a:pt x="1612" y="1133"/>
                    </a:lnTo>
                    <a:lnTo>
                      <a:pt x="1603" y="1132"/>
                    </a:lnTo>
                    <a:lnTo>
                      <a:pt x="1593" y="1130"/>
                    </a:lnTo>
                    <a:lnTo>
                      <a:pt x="1586" y="1132"/>
                    </a:lnTo>
                    <a:lnTo>
                      <a:pt x="1581" y="1137"/>
                    </a:lnTo>
                    <a:lnTo>
                      <a:pt x="1579" y="1150"/>
                    </a:lnTo>
                    <a:lnTo>
                      <a:pt x="1569" y="1155"/>
                    </a:lnTo>
                    <a:lnTo>
                      <a:pt x="1559" y="1159"/>
                    </a:lnTo>
                    <a:lnTo>
                      <a:pt x="1549" y="1159"/>
                    </a:lnTo>
                    <a:lnTo>
                      <a:pt x="1540" y="1159"/>
                    </a:lnTo>
                    <a:lnTo>
                      <a:pt x="1528" y="1157"/>
                    </a:lnTo>
                    <a:lnTo>
                      <a:pt x="1518" y="1157"/>
                    </a:lnTo>
                    <a:lnTo>
                      <a:pt x="1506" y="1155"/>
                    </a:lnTo>
                    <a:lnTo>
                      <a:pt x="1497" y="1159"/>
                    </a:lnTo>
                    <a:lnTo>
                      <a:pt x="1473" y="1147"/>
                    </a:lnTo>
                    <a:lnTo>
                      <a:pt x="1450" y="1136"/>
                    </a:lnTo>
                    <a:lnTo>
                      <a:pt x="1428" y="1124"/>
                    </a:lnTo>
                    <a:lnTo>
                      <a:pt x="1406" y="1112"/>
                    </a:lnTo>
                    <a:lnTo>
                      <a:pt x="1383" y="1101"/>
                    </a:lnTo>
                    <a:lnTo>
                      <a:pt x="1360" y="1091"/>
                    </a:lnTo>
                    <a:lnTo>
                      <a:pt x="1336" y="1081"/>
                    </a:lnTo>
                    <a:lnTo>
                      <a:pt x="1313" y="1076"/>
                    </a:lnTo>
                    <a:lnTo>
                      <a:pt x="1253" y="1050"/>
                    </a:lnTo>
                    <a:lnTo>
                      <a:pt x="1197" y="1022"/>
                    </a:lnTo>
                    <a:lnTo>
                      <a:pt x="1140" y="992"/>
                    </a:lnTo>
                    <a:lnTo>
                      <a:pt x="1086" y="962"/>
                    </a:lnTo>
                    <a:lnTo>
                      <a:pt x="1030" y="930"/>
                    </a:lnTo>
                    <a:lnTo>
                      <a:pt x="974" y="900"/>
                    </a:lnTo>
                    <a:lnTo>
                      <a:pt x="915" y="873"/>
                    </a:lnTo>
                    <a:lnTo>
                      <a:pt x="858" y="848"/>
                    </a:lnTo>
                    <a:lnTo>
                      <a:pt x="801" y="820"/>
                    </a:lnTo>
                    <a:lnTo>
                      <a:pt x="747" y="792"/>
                    </a:lnTo>
                    <a:lnTo>
                      <a:pt x="692" y="761"/>
                    </a:lnTo>
                    <a:lnTo>
                      <a:pt x="638" y="731"/>
                    </a:lnTo>
                    <a:lnTo>
                      <a:pt x="583" y="700"/>
                    </a:lnTo>
                    <a:lnTo>
                      <a:pt x="528" y="672"/>
                    </a:lnTo>
                    <a:lnTo>
                      <a:pt x="471" y="648"/>
                    </a:lnTo>
                    <a:lnTo>
                      <a:pt x="413" y="627"/>
                    </a:lnTo>
                    <a:lnTo>
                      <a:pt x="370" y="604"/>
                    </a:lnTo>
                    <a:lnTo>
                      <a:pt x="327" y="581"/>
                    </a:lnTo>
                    <a:lnTo>
                      <a:pt x="284" y="559"/>
                    </a:lnTo>
                    <a:lnTo>
                      <a:pt x="241" y="538"/>
                    </a:lnTo>
                    <a:lnTo>
                      <a:pt x="198" y="516"/>
                    </a:lnTo>
                    <a:lnTo>
                      <a:pt x="155" y="495"/>
                    </a:lnTo>
                    <a:lnTo>
                      <a:pt x="112" y="473"/>
                    </a:lnTo>
                    <a:lnTo>
                      <a:pt x="70" y="453"/>
                    </a:lnTo>
                    <a:lnTo>
                      <a:pt x="59" y="452"/>
                    </a:lnTo>
                    <a:lnTo>
                      <a:pt x="50" y="451"/>
                    </a:lnTo>
                    <a:lnTo>
                      <a:pt x="42" y="448"/>
                    </a:lnTo>
                    <a:lnTo>
                      <a:pt x="34" y="444"/>
                    </a:lnTo>
                    <a:lnTo>
                      <a:pt x="27" y="439"/>
                    </a:lnTo>
                    <a:lnTo>
                      <a:pt x="19" y="435"/>
                    </a:lnTo>
                    <a:lnTo>
                      <a:pt x="13" y="429"/>
                    </a:lnTo>
                    <a:lnTo>
                      <a:pt x="6" y="424"/>
                    </a:lnTo>
                    <a:lnTo>
                      <a:pt x="10" y="421"/>
                    </a:lnTo>
                    <a:lnTo>
                      <a:pt x="16" y="417"/>
                    </a:lnTo>
                    <a:lnTo>
                      <a:pt x="20" y="412"/>
                    </a:lnTo>
                    <a:lnTo>
                      <a:pt x="27" y="408"/>
                    </a:lnTo>
                    <a:lnTo>
                      <a:pt x="24" y="399"/>
                    </a:lnTo>
                    <a:lnTo>
                      <a:pt x="30" y="393"/>
                    </a:lnTo>
                    <a:lnTo>
                      <a:pt x="36" y="387"/>
                    </a:lnTo>
                    <a:lnTo>
                      <a:pt x="41" y="381"/>
                    </a:lnTo>
                    <a:lnTo>
                      <a:pt x="36" y="368"/>
                    </a:lnTo>
                    <a:lnTo>
                      <a:pt x="34" y="356"/>
                    </a:lnTo>
                    <a:lnTo>
                      <a:pt x="32" y="343"/>
                    </a:lnTo>
                    <a:lnTo>
                      <a:pt x="31" y="331"/>
                    </a:lnTo>
                    <a:lnTo>
                      <a:pt x="29" y="318"/>
                    </a:lnTo>
                    <a:lnTo>
                      <a:pt x="28" y="306"/>
                    </a:lnTo>
                    <a:lnTo>
                      <a:pt x="24" y="294"/>
                    </a:lnTo>
                    <a:lnTo>
                      <a:pt x="22" y="282"/>
                    </a:lnTo>
                    <a:lnTo>
                      <a:pt x="22" y="273"/>
                    </a:lnTo>
                    <a:lnTo>
                      <a:pt x="26" y="266"/>
                    </a:lnTo>
                    <a:lnTo>
                      <a:pt x="28" y="257"/>
                    </a:lnTo>
                    <a:lnTo>
                      <a:pt x="30" y="250"/>
                    </a:lnTo>
                    <a:lnTo>
                      <a:pt x="31" y="241"/>
                    </a:lnTo>
                    <a:lnTo>
                      <a:pt x="31" y="235"/>
                    </a:lnTo>
                    <a:lnTo>
                      <a:pt x="28" y="227"/>
                    </a:lnTo>
                    <a:lnTo>
                      <a:pt x="22" y="222"/>
                    </a:lnTo>
                    <a:lnTo>
                      <a:pt x="19" y="223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1" y="238"/>
                    </a:lnTo>
                    <a:lnTo>
                      <a:pt x="20" y="244"/>
                    </a:lnTo>
                    <a:lnTo>
                      <a:pt x="20" y="253"/>
                    </a:lnTo>
                    <a:lnTo>
                      <a:pt x="16" y="237"/>
                    </a:lnTo>
                    <a:lnTo>
                      <a:pt x="16" y="222"/>
                    </a:lnTo>
                    <a:lnTo>
                      <a:pt x="17" y="206"/>
                    </a:lnTo>
                    <a:lnTo>
                      <a:pt x="20" y="190"/>
                    </a:lnTo>
                    <a:lnTo>
                      <a:pt x="21" y="174"/>
                    </a:lnTo>
                    <a:lnTo>
                      <a:pt x="23" y="158"/>
                    </a:lnTo>
                    <a:lnTo>
                      <a:pt x="23" y="142"/>
                    </a:lnTo>
                    <a:lnTo>
                      <a:pt x="20" y="128"/>
                    </a:lnTo>
                    <a:lnTo>
                      <a:pt x="12" y="129"/>
                    </a:lnTo>
                    <a:lnTo>
                      <a:pt x="10" y="135"/>
                    </a:lnTo>
                    <a:lnTo>
                      <a:pt x="8" y="150"/>
                    </a:lnTo>
                    <a:lnTo>
                      <a:pt x="7" y="129"/>
                    </a:lnTo>
                    <a:lnTo>
                      <a:pt x="7" y="110"/>
                    </a:lnTo>
                    <a:lnTo>
                      <a:pt x="5" y="90"/>
                    </a:lnTo>
                    <a:lnTo>
                      <a:pt x="3" y="72"/>
                    </a:lnTo>
                    <a:lnTo>
                      <a:pt x="1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14" y="8"/>
                    </a:lnTo>
                    <a:lnTo>
                      <a:pt x="29" y="15"/>
                    </a:lnTo>
                    <a:lnTo>
                      <a:pt x="43" y="23"/>
                    </a:lnTo>
                    <a:lnTo>
                      <a:pt x="58" y="32"/>
                    </a:lnTo>
                    <a:lnTo>
                      <a:pt x="70" y="41"/>
                    </a:lnTo>
                    <a:lnTo>
                      <a:pt x="79" y="53"/>
                    </a:lnTo>
                    <a:lnTo>
                      <a:pt x="86" y="66"/>
                    </a:lnTo>
                    <a:lnTo>
                      <a:pt x="89" y="8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16560" y="4470480"/>
                <a:ext cx="117360" cy="6804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87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34" y="21"/>
                    </a:lnTo>
                    <a:lnTo>
                      <a:pt x="53" y="31"/>
                    </a:lnTo>
                    <a:lnTo>
                      <a:pt x="73" y="41"/>
                    </a:lnTo>
                    <a:lnTo>
                      <a:pt x="91" y="51"/>
                    </a:lnTo>
                    <a:lnTo>
                      <a:pt x="109" y="62"/>
                    </a:lnTo>
                    <a:lnTo>
                      <a:pt x="128" y="73"/>
                    </a:lnTo>
                    <a:lnTo>
                      <a:pt x="14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80160" y="4495680"/>
                <a:ext cx="90360" cy="2880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4" y="1"/>
                    </a:moveTo>
                    <a:lnTo>
                      <a:pt x="105" y="4"/>
                    </a:lnTo>
                    <a:lnTo>
                      <a:pt x="96" y="9"/>
                    </a:lnTo>
                    <a:lnTo>
                      <a:pt x="87" y="16"/>
                    </a:lnTo>
                    <a:lnTo>
                      <a:pt x="80" y="22"/>
                    </a:lnTo>
                    <a:lnTo>
                      <a:pt x="71" y="27"/>
                    </a:lnTo>
                    <a:lnTo>
                      <a:pt x="63" y="31"/>
                    </a:lnTo>
                    <a:lnTo>
                      <a:pt x="53" y="31"/>
                    </a:lnTo>
                    <a:lnTo>
                      <a:pt x="44" y="30"/>
                    </a:lnTo>
                    <a:lnTo>
                      <a:pt x="34" y="32"/>
                    </a:lnTo>
                    <a:lnTo>
                      <a:pt x="23" y="35"/>
                    </a:lnTo>
                    <a:lnTo>
                      <a:pt x="11" y="36"/>
                    </a:lnTo>
                    <a:lnTo>
                      <a:pt x="0" y="34"/>
                    </a:lnTo>
                    <a:lnTo>
                      <a:pt x="10" y="26"/>
                    </a:lnTo>
                    <a:lnTo>
                      <a:pt x="22" y="19"/>
                    </a:lnTo>
                    <a:lnTo>
                      <a:pt x="32" y="13"/>
                    </a:lnTo>
                    <a:lnTo>
                      <a:pt x="45" y="8"/>
                    </a:lnTo>
                    <a:lnTo>
                      <a:pt x="57" y="4"/>
                    </a:lnTo>
                    <a:lnTo>
                      <a:pt x="69" y="1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32640" y="454968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63" y="5"/>
                    </a:moveTo>
                    <a:lnTo>
                      <a:pt x="57" y="12"/>
                    </a:lnTo>
                    <a:lnTo>
                      <a:pt x="51" y="18"/>
                    </a:lnTo>
                    <a:lnTo>
                      <a:pt x="42" y="21"/>
                    </a:lnTo>
                    <a:lnTo>
                      <a:pt x="34" y="24"/>
                    </a:lnTo>
                    <a:lnTo>
                      <a:pt x="25" y="24"/>
                    </a:lnTo>
                    <a:lnTo>
                      <a:pt x="15" y="24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3" y="14"/>
                    </a:lnTo>
                    <a:lnTo>
                      <a:pt x="10" y="6"/>
                    </a:lnTo>
                    <a:lnTo>
                      <a:pt x="16" y="2"/>
                    </a:lnTo>
                    <a:lnTo>
                      <a:pt x="26" y="1"/>
                    </a:lnTo>
                    <a:lnTo>
                      <a:pt x="34" y="0"/>
                    </a:lnTo>
                    <a:lnTo>
                      <a:pt x="44" y="2"/>
                    </a:lnTo>
                    <a:lnTo>
                      <a:pt x="54" y="3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76880" y="4592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25" y="94"/>
                    </a:moveTo>
                    <a:lnTo>
                      <a:pt x="16" y="110"/>
                    </a:lnTo>
                    <a:lnTo>
                      <a:pt x="12" y="97"/>
                    </a:lnTo>
                    <a:lnTo>
                      <a:pt x="10" y="84"/>
                    </a:lnTo>
                    <a:lnTo>
                      <a:pt x="8" y="70"/>
                    </a:lnTo>
                    <a:lnTo>
                      <a:pt x="7" y="57"/>
                    </a:lnTo>
                    <a:lnTo>
                      <a:pt x="4" y="42"/>
                    </a:lnTo>
                    <a:lnTo>
                      <a:pt x="3" y="28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6" y="22"/>
                    </a:lnTo>
                    <a:lnTo>
                      <a:pt x="9" y="34"/>
                    </a:lnTo>
                    <a:lnTo>
                      <a:pt x="12" y="46"/>
                    </a:lnTo>
                    <a:lnTo>
                      <a:pt x="15" y="57"/>
                    </a:lnTo>
                    <a:lnTo>
                      <a:pt x="18" y="69"/>
                    </a:lnTo>
                    <a:lnTo>
                      <a:pt x="22" y="81"/>
                    </a:lnTo>
                    <a:lnTo>
                      <a:pt x="25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7160" y="4595760"/>
                <a:ext cx="63360" cy="3672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24" y="45"/>
                    </a:moveTo>
                    <a:lnTo>
                      <a:pt x="18" y="41"/>
                    </a:lnTo>
                    <a:lnTo>
                      <a:pt x="12" y="43"/>
                    </a:lnTo>
                    <a:lnTo>
                      <a:pt x="5" y="45"/>
                    </a:lnTo>
                    <a:lnTo>
                      <a:pt x="0" y="43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5" y="12"/>
                    </a:lnTo>
                    <a:lnTo>
                      <a:pt x="59" y="18"/>
                    </a:lnTo>
                    <a:lnTo>
                      <a:pt x="52" y="26"/>
                    </a:lnTo>
                    <a:lnTo>
                      <a:pt x="45" y="31"/>
                    </a:lnTo>
                    <a:lnTo>
                      <a:pt x="38" y="36"/>
                    </a:lnTo>
                    <a:lnTo>
                      <a:pt x="31" y="41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43600" y="46054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44" y="0"/>
                    </a:moveTo>
                    <a:lnTo>
                      <a:pt x="34" y="9"/>
                    </a:lnTo>
                    <a:lnTo>
                      <a:pt x="23" y="18"/>
                    </a:lnTo>
                    <a:lnTo>
                      <a:pt x="17" y="21"/>
                    </a:lnTo>
                    <a:lnTo>
                      <a:pt x="12" y="25"/>
                    </a:lnTo>
                    <a:lnTo>
                      <a:pt x="5" y="27"/>
                    </a:lnTo>
                    <a:lnTo>
                      <a:pt x="0" y="30"/>
                    </a:lnTo>
                    <a:lnTo>
                      <a:pt x="6" y="19"/>
                    </a:lnTo>
                    <a:lnTo>
                      <a:pt x="17" y="10"/>
                    </a:lnTo>
                    <a:lnTo>
                      <a:pt x="23" y="7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21280" y="4662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0"/>
                    </a:moveTo>
                    <a:lnTo>
                      <a:pt x="53" y="7"/>
                    </a:lnTo>
                    <a:lnTo>
                      <a:pt x="50" y="16"/>
                    </a:lnTo>
                    <a:lnTo>
                      <a:pt x="46" y="23"/>
                    </a:lnTo>
                    <a:lnTo>
                      <a:pt x="43" y="31"/>
                    </a:lnTo>
                    <a:lnTo>
                      <a:pt x="38" y="36"/>
                    </a:lnTo>
                    <a:lnTo>
                      <a:pt x="31" y="43"/>
                    </a:lnTo>
                    <a:lnTo>
                      <a:pt x="24" y="48"/>
                    </a:lnTo>
                    <a:lnTo>
                      <a:pt x="17" y="53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3"/>
                    </a:lnTo>
                    <a:lnTo>
                      <a:pt x="18" y="18"/>
                    </a:lnTo>
                    <a:lnTo>
                      <a:pt x="27" y="11"/>
                    </a:lnTo>
                    <a:lnTo>
                      <a:pt x="36" y="8"/>
                    </a:lnTo>
                    <a:lnTo>
                      <a:pt x="45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80200" y="467532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27"/>
                    </a:moveTo>
                    <a:lnTo>
                      <a:pt x="0" y="22"/>
                    </a:lnTo>
                    <a:lnTo>
                      <a:pt x="2" y="17"/>
                    </a:lnTo>
                    <a:lnTo>
                      <a:pt x="3" y="8"/>
                    </a:lnTo>
                    <a:lnTo>
                      <a:pt x="4" y="0"/>
                    </a:lnTo>
                    <a:lnTo>
                      <a:pt x="3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8080" y="467856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4" y="18"/>
                    </a:moveTo>
                    <a:lnTo>
                      <a:pt x="22" y="24"/>
                    </a:lnTo>
                    <a:lnTo>
                      <a:pt x="19" y="30"/>
                    </a:lnTo>
                    <a:lnTo>
                      <a:pt x="15" y="34"/>
                    </a:lnTo>
                    <a:lnTo>
                      <a:pt x="11" y="39"/>
                    </a:lnTo>
                    <a:lnTo>
                      <a:pt x="5" y="42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1" y="58"/>
                    </a:lnTo>
                    <a:lnTo>
                      <a:pt x="5" y="0"/>
                    </a:lnTo>
                    <a:lnTo>
                      <a:pt x="11" y="1"/>
                    </a:lnTo>
                    <a:lnTo>
                      <a:pt x="17" y="5"/>
                    </a:lnTo>
                    <a:lnTo>
                      <a:pt x="21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1160" y="4705200"/>
                <a:ext cx="5040" cy="25560"/>
              </a:xfrm>
              <a:custGeom>
                <a:avLst/>
                <a:gdLst/>
                <a:ahLst/>
                <a:rect l="l" t="t" r="r" b="b"/>
                <a:pathLst>
                  <a:path w="8" h="34">
                    <a:moveTo>
                      <a:pt x="4" y="34"/>
                    </a:moveTo>
                    <a:lnTo>
                      <a:pt x="0" y="24"/>
                    </a:lnTo>
                    <a:lnTo>
                      <a:pt x="0" y="15"/>
                    </a:lnTo>
                    <a:lnTo>
                      <a:pt x="1" y="7"/>
                    </a:lnTo>
                    <a:lnTo>
                      <a:pt x="6" y="0"/>
                    </a:lnTo>
                    <a:lnTo>
                      <a:pt x="8" y="7"/>
                    </a:lnTo>
                    <a:lnTo>
                      <a:pt x="8" y="15"/>
                    </a:lnTo>
                    <a:lnTo>
                      <a:pt x="7" y="24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59520" y="47070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94560" y="47386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110" h="74">
                    <a:moveTo>
                      <a:pt x="110" y="13"/>
                    </a:moveTo>
                    <a:lnTo>
                      <a:pt x="106" y="22"/>
                    </a:lnTo>
                    <a:lnTo>
                      <a:pt x="101" y="31"/>
                    </a:lnTo>
                    <a:lnTo>
                      <a:pt x="93" y="37"/>
                    </a:lnTo>
                    <a:lnTo>
                      <a:pt x="86" y="44"/>
                    </a:lnTo>
                    <a:lnTo>
                      <a:pt x="76" y="50"/>
                    </a:lnTo>
                    <a:lnTo>
                      <a:pt x="66" y="55"/>
                    </a:lnTo>
                    <a:lnTo>
                      <a:pt x="58" y="62"/>
                    </a:lnTo>
                    <a:lnTo>
                      <a:pt x="51" y="69"/>
                    </a:lnTo>
                    <a:lnTo>
                      <a:pt x="44" y="70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1" y="72"/>
                    </a:lnTo>
                    <a:lnTo>
                      <a:pt x="5" y="72"/>
                    </a:lnTo>
                    <a:lnTo>
                      <a:pt x="0" y="74"/>
                    </a:lnTo>
                    <a:lnTo>
                      <a:pt x="11" y="63"/>
                    </a:lnTo>
                    <a:lnTo>
                      <a:pt x="24" y="51"/>
                    </a:lnTo>
                    <a:lnTo>
                      <a:pt x="35" y="37"/>
                    </a:lnTo>
                    <a:lnTo>
                      <a:pt x="48" y="25"/>
                    </a:lnTo>
                    <a:lnTo>
                      <a:pt x="59" y="13"/>
                    </a:lnTo>
                    <a:lnTo>
                      <a:pt x="73" y="6"/>
                    </a:lnTo>
                    <a:lnTo>
                      <a:pt x="88" y="0"/>
                    </a:lnTo>
                    <a:lnTo>
                      <a:pt x="106" y="3"/>
                    </a:lnTo>
                    <a:lnTo>
                      <a:pt x="1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1960" y="47498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36" y="12"/>
                    </a:moveTo>
                    <a:lnTo>
                      <a:pt x="35" y="18"/>
                    </a:lnTo>
                    <a:lnTo>
                      <a:pt x="34" y="23"/>
                    </a:lnTo>
                    <a:lnTo>
                      <a:pt x="33" y="28"/>
                    </a:lnTo>
                    <a:lnTo>
                      <a:pt x="31" y="35"/>
                    </a:lnTo>
                    <a:lnTo>
                      <a:pt x="28" y="44"/>
                    </a:lnTo>
                    <a:lnTo>
                      <a:pt x="25" y="56"/>
                    </a:lnTo>
                    <a:lnTo>
                      <a:pt x="16" y="56"/>
                    </a:lnTo>
                    <a:lnTo>
                      <a:pt x="11" y="54"/>
                    </a:lnTo>
                    <a:lnTo>
                      <a:pt x="6" y="49"/>
                    </a:lnTo>
                    <a:lnTo>
                      <a:pt x="0" y="45"/>
                    </a:lnTo>
                    <a:lnTo>
                      <a:pt x="9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6920" y="47545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6"/>
                    </a:moveTo>
                    <a:lnTo>
                      <a:pt x="17" y="18"/>
                    </a:lnTo>
                    <a:lnTo>
                      <a:pt x="12" y="20"/>
                    </a:lnTo>
                    <a:lnTo>
                      <a:pt x="6" y="22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3" y="7"/>
                    </a:lnTo>
                    <a:lnTo>
                      <a:pt x="22" y="12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10360" y="47941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3"/>
                    </a:moveTo>
                    <a:lnTo>
                      <a:pt x="18" y="27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5" y="0"/>
                    </a:lnTo>
                    <a:lnTo>
                      <a:pt x="11" y="3"/>
                    </a:lnTo>
                    <a:lnTo>
                      <a:pt x="14" y="10"/>
                    </a:lnTo>
                    <a:lnTo>
                      <a:pt x="15" y="16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7200" y="4822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7" y="0"/>
                    </a:moveTo>
                    <a:lnTo>
                      <a:pt x="18" y="5"/>
                    </a:lnTo>
                    <a:lnTo>
                      <a:pt x="16" y="11"/>
                    </a:lnTo>
                    <a:lnTo>
                      <a:pt x="14" y="15"/>
                    </a:lnTo>
                    <a:lnTo>
                      <a:pt x="12" y="21"/>
                    </a:lnTo>
                    <a:lnTo>
                      <a:pt x="8" y="18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5080" y="483084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91" h="49">
                    <a:moveTo>
                      <a:pt x="91" y="2"/>
                    </a:moveTo>
                    <a:lnTo>
                      <a:pt x="79" y="9"/>
                    </a:lnTo>
                    <a:lnTo>
                      <a:pt x="69" y="18"/>
                    </a:lnTo>
                    <a:lnTo>
                      <a:pt x="58" y="26"/>
                    </a:lnTo>
                    <a:lnTo>
                      <a:pt x="49" y="36"/>
                    </a:lnTo>
                    <a:lnTo>
                      <a:pt x="37" y="42"/>
                    </a:lnTo>
                    <a:lnTo>
                      <a:pt x="26" y="47"/>
                    </a:lnTo>
                    <a:lnTo>
                      <a:pt x="13" y="49"/>
                    </a:lnTo>
                    <a:lnTo>
                      <a:pt x="0" y="49"/>
                    </a:lnTo>
                    <a:lnTo>
                      <a:pt x="10" y="38"/>
                    </a:lnTo>
                    <a:lnTo>
                      <a:pt x="21" y="32"/>
                    </a:lnTo>
                    <a:lnTo>
                      <a:pt x="32" y="25"/>
                    </a:lnTo>
                    <a:lnTo>
                      <a:pt x="43" y="21"/>
                    </a:lnTo>
                    <a:lnTo>
                      <a:pt x="54" y="15"/>
                    </a:lnTo>
                    <a:lnTo>
                      <a:pt x="66" y="10"/>
                    </a:lnTo>
                    <a:lnTo>
                      <a:pt x="77" y="5"/>
                    </a:lnTo>
                    <a:lnTo>
                      <a:pt x="89" y="0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2560" y="48402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4" y="12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14880" y="4854600"/>
                <a:ext cx="206280" cy="133200"/>
              </a:xfrm>
              <a:custGeom>
                <a:avLst/>
                <a:gdLst/>
                <a:ahLst/>
                <a:rect l="l" t="t" r="r" b="b"/>
                <a:pathLst>
                  <a:path w="259" h="169">
                    <a:moveTo>
                      <a:pt x="95" y="33"/>
                    </a:moveTo>
                    <a:lnTo>
                      <a:pt x="99" y="29"/>
                    </a:lnTo>
                    <a:lnTo>
                      <a:pt x="103" y="31"/>
                    </a:lnTo>
                    <a:lnTo>
                      <a:pt x="107" y="32"/>
                    </a:lnTo>
                    <a:lnTo>
                      <a:pt x="113" y="33"/>
                    </a:lnTo>
                    <a:lnTo>
                      <a:pt x="116" y="44"/>
                    </a:lnTo>
                    <a:lnTo>
                      <a:pt x="122" y="51"/>
                    </a:lnTo>
                    <a:lnTo>
                      <a:pt x="131" y="57"/>
                    </a:lnTo>
                    <a:lnTo>
                      <a:pt x="142" y="61"/>
                    </a:lnTo>
                    <a:lnTo>
                      <a:pt x="152" y="64"/>
                    </a:lnTo>
                    <a:lnTo>
                      <a:pt x="162" y="68"/>
                    </a:lnTo>
                    <a:lnTo>
                      <a:pt x="172" y="73"/>
                    </a:lnTo>
                    <a:lnTo>
                      <a:pt x="182" y="80"/>
                    </a:lnTo>
                    <a:lnTo>
                      <a:pt x="185" y="82"/>
                    </a:lnTo>
                    <a:lnTo>
                      <a:pt x="190" y="85"/>
                    </a:lnTo>
                    <a:lnTo>
                      <a:pt x="197" y="86"/>
                    </a:lnTo>
                    <a:lnTo>
                      <a:pt x="203" y="88"/>
                    </a:lnTo>
                    <a:lnTo>
                      <a:pt x="209" y="89"/>
                    </a:lnTo>
                    <a:lnTo>
                      <a:pt x="213" y="92"/>
                    </a:lnTo>
                    <a:lnTo>
                      <a:pt x="215" y="98"/>
                    </a:lnTo>
                    <a:lnTo>
                      <a:pt x="215" y="107"/>
                    </a:lnTo>
                    <a:lnTo>
                      <a:pt x="220" y="110"/>
                    </a:lnTo>
                    <a:lnTo>
                      <a:pt x="229" y="114"/>
                    </a:lnTo>
                    <a:lnTo>
                      <a:pt x="238" y="116"/>
                    </a:lnTo>
                    <a:lnTo>
                      <a:pt x="246" y="119"/>
                    </a:lnTo>
                    <a:lnTo>
                      <a:pt x="253" y="122"/>
                    </a:lnTo>
                    <a:lnTo>
                      <a:pt x="258" y="129"/>
                    </a:lnTo>
                    <a:lnTo>
                      <a:pt x="259" y="136"/>
                    </a:lnTo>
                    <a:lnTo>
                      <a:pt x="258" y="148"/>
                    </a:lnTo>
                    <a:lnTo>
                      <a:pt x="247" y="157"/>
                    </a:lnTo>
                    <a:lnTo>
                      <a:pt x="237" y="163"/>
                    </a:lnTo>
                    <a:lnTo>
                      <a:pt x="224" y="165"/>
                    </a:lnTo>
                    <a:lnTo>
                      <a:pt x="212" y="166"/>
                    </a:lnTo>
                    <a:lnTo>
                      <a:pt x="198" y="164"/>
                    </a:lnTo>
                    <a:lnTo>
                      <a:pt x="185" y="164"/>
                    </a:lnTo>
                    <a:lnTo>
                      <a:pt x="172" y="164"/>
                    </a:lnTo>
                    <a:lnTo>
                      <a:pt x="161" y="169"/>
                    </a:lnTo>
                    <a:lnTo>
                      <a:pt x="142" y="166"/>
                    </a:lnTo>
                    <a:lnTo>
                      <a:pt x="124" y="165"/>
                    </a:lnTo>
                    <a:lnTo>
                      <a:pt x="105" y="163"/>
                    </a:lnTo>
                    <a:lnTo>
                      <a:pt x="87" y="161"/>
                    </a:lnTo>
                    <a:lnTo>
                      <a:pt x="69" y="155"/>
                    </a:lnTo>
                    <a:lnTo>
                      <a:pt x="54" y="147"/>
                    </a:lnTo>
                    <a:lnTo>
                      <a:pt x="40" y="136"/>
                    </a:lnTo>
                    <a:lnTo>
                      <a:pt x="29" y="121"/>
                    </a:lnTo>
                    <a:lnTo>
                      <a:pt x="19" y="114"/>
                    </a:lnTo>
                    <a:lnTo>
                      <a:pt x="13" y="107"/>
                    </a:lnTo>
                    <a:lnTo>
                      <a:pt x="6" y="100"/>
                    </a:lnTo>
                    <a:lnTo>
                      <a:pt x="3" y="91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1" y="60"/>
                    </a:lnTo>
                    <a:lnTo>
                      <a:pt x="4" y="49"/>
                    </a:lnTo>
                    <a:lnTo>
                      <a:pt x="7" y="41"/>
                    </a:lnTo>
                    <a:lnTo>
                      <a:pt x="12" y="33"/>
                    </a:lnTo>
                    <a:lnTo>
                      <a:pt x="17" y="24"/>
                    </a:lnTo>
                    <a:lnTo>
                      <a:pt x="25" y="18"/>
                    </a:lnTo>
                    <a:lnTo>
                      <a:pt x="31" y="10"/>
                    </a:lnTo>
                    <a:lnTo>
                      <a:pt x="39" y="5"/>
                    </a:lnTo>
                    <a:lnTo>
                      <a:pt x="47" y="1"/>
                    </a:lnTo>
                    <a:lnTo>
                      <a:pt x="58" y="0"/>
                    </a:lnTo>
                    <a:lnTo>
                      <a:pt x="68" y="5"/>
                    </a:lnTo>
                    <a:lnTo>
                      <a:pt x="77" y="14"/>
                    </a:lnTo>
                    <a:lnTo>
                      <a:pt x="85" y="23"/>
                    </a:lnTo>
                    <a:lnTo>
                      <a:pt x="95" y="3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03640" y="488160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84" h="181">
                    <a:moveTo>
                      <a:pt x="84" y="181"/>
                    </a:moveTo>
                    <a:lnTo>
                      <a:pt x="64" y="172"/>
                    </a:lnTo>
                    <a:lnTo>
                      <a:pt x="49" y="161"/>
                    </a:lnTo>
                    <a:lnTo>
                      <a:pt x="38" y="146"/>
                    </a:lnTo>
                    <a:lnTo>
                      <a:pt x="29" y="131"/>
                    </a:lnTo>
                    <a:lnTo>
                      <a:pt x="21" y="113"/>
                    </a:lnTo>
                    <a:lnTo>
                      <a:pt x="15" y="95"/>
                    </a:lnTo>
                    <a:lnTo>
                      <a:pt x="9" y="76"/>
                    </a:lnTo>
                    <a:lnTo>
                      <a:pt x="3" y="60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2" y="31"/>
                    </a:lnTo>
                    <a:lnTo>
                      <a:pt x="4" y="24"/>
                    </a:lnTo>
                    <a:lnTo>
                      <a:pt x="6" y="16"/>
                    </a:lnTo>
                    <a:lnTo>
                      <a:pt x="6" y="8"/>
                    </a:lnTo>
                    <a:lnTo>
                      <a:pt x="7" y="0"/>
                    </a:lnTo>
                    <a:lnTo>
                      <a:pt x="7" y="25"/>
                    </a:lnTo>
                    <a:lnTo>
                      <a:pt x="11" y="50"/>
                    </a:lnTo>
                    <a:lnTo>
                      <a:pt x="17" y="73"/>
                    </a:lnTo>
                    <a:lnTo>
                      <a:pt x="27" y="97"/>
                    </a:lnTo>
                    <a:lnTo>
                      <a:pt x="38" y="118"/>
                    </a:lnTo>
                    <a:lnTo>
                      <a:pt x="52" y="141"/>
                    </a:lnTo>
                    <a:lnTo>
                      <a:pt x="67" y="160"/>
                    </a:lnTo>
                    <a:lnTo>
                      <a:pt x="84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64400" y="4889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87" h="55">
                    <a:moveTo>
                      <a:pt x="87" y="28"/>
                    </a:moveTo>
                    <a:lnTo>
                      <a:pt x="82" y="36"/>
                    </a:lnTo>
                    <a:lnTo>
                      <a:pt x="73" y="44"/>
                    </a:lnTo>
                    <a:lnTo>
                      <a:pt x="62" y="49"/>
                    </a:lnTo>
                    <a:lnTo>
                      <a:pt x="51" y="55"/>
                    </a:lnTo>
                    <a:lnTo>
                      <a:pt x="44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5" y="55"/>
                    </a:lnTo>
                    <a:lnTo>
                      <a:pt x="18" y="55"/>
                    </a:lnTo>
                    <a:lnTo>
                      <a:pt x="12" y="55"/>
                    </a:lnTo>
                    <a:lnTo>
                      <a:pt x="5" y="55"/>
                    </a:lnTo>
                    <a:lnTo>
                      <a:pt x="0" y="55"/>
                    </a:lnTo>
                    <a:lnTo>
                      <a:pt x="71" y="3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2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5" y="22"/>
                    </a:lnTo>
                    <a:lnTo>
                      <a:pt x="8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8360" y="4917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"/>
                    </a:moveTo>
                    <a:lnTo>
                      <a:pt x="8" y="8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26240" y="4954680"/>
                <a:ext cx="160200" cy="81000"/>
              </a:xfrm>
              <a:custGeom>
                <a:avLst/>
                <a:gdLst/>
                <a:ahLst/>
                <a:rect l="l" t="t" r="r" b="b"/>
                <a:pathLst>
                  <a:path w="203" h="102">
                    <a:moveTo>
                      <a:pt x="203" y="5"/>
                    </a:moveTo>
                    <a:lnTo>
                      <a:pt x="177" y="19"/>
                    </a:lnTo>
                    <a:lnTo>
                      <a:pt x="153" y="35"/>
                    </a:lnTo>
                    <a:lnTo>
                      <a:pt x="129" y="50"/>
                    </a:lnTo>
                    <a:lnTo>
                      <a:pt x="106" y="66"/>
                    </a:lnTo>
                    <a:lnTo>
                      <a:pt x="80" y="79"/>
                    </a:lnTo>
                    <a:lnTo>
                      <a:pt x="55" y="91"/>
                    </a:lnTo>
                    <a:lnTo>
                      <a:pt x="28" y="99"/>
                    </a:lnTo>
                    <a:lnTo>
                      <a:pt x="0" y="102"/>
                    </a:lnTo>
                    <a:lnTo>
                      <a:pt x="23" y="82"/>
                    </a:lnTo>
                    <a:lnTo>
                      <a:pt x="45" y="63"/>
                    </a:lnTo>
                    <a:lnTo>
                      <a:pt x="67" y="44"/>
                    </a:lnTo>
                    <a:lnTo>
                      <a:pt x="91" y="26"/>
                    </a:lnTo>
                    <a:lnTo>
                      <a:pt x="114" y="11"/>
                    </a:lnTo>
                    <a:lnTo>
                      <a:pt x="141" y="3"/>
                    </a:lnTo>
                    <a:lnTo>
                      <a:pt x="170" y="0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30960" y="4970520"/>
                <a:ext cx="122400" cy="108000"/>
              </a:xfrm>
              <a:custGeom>
                <a:avLst/>
                <a:gdLst/>
                <a:ahLst/>
                <a:rect l="l" t="t" r="r" b="b"/>
                <a:pathLst>
                  <a:path w="153" h="137">
                    <a:moveTo>
                      <a:pt x="137" y="76"/>
                    </a:moveTo>
                    <a:lnTo>
                      <a:pt x="143" y="75"/>
                    </a:lnTo>
                    <a:lnTo>
                      <a:pt x="151" y="73"/>
                    </a:lnTo>
                    <a:lnTo>
                      <a:pt x="152" y="80"/>
                    </a:lnTo>
                    <a:lnTo>
                      <a:pt x="153" y="89"/>
                    </a:lnTo>
                    <a:lnTo>
                      <a:pt x="139" y="84"/>
                    </a:lnTo>
                    <a:lnTo>
                      <a:pt x="125" y="84"/>
                    </a:lnTo>
                    <a:lnTo>
                      <a:pt x="112" y="86"/>
                    </a:lnTo>
                    <a:lnTo>
                      <a:pt x="99" y="91"/>
                    </a:lnTo>
                    <a:lnTo>
                      <a:pt x="85" y="97"/>
                    </a:lnTo>
                    <a:lnTo>
                      <a:pt x="72" y="102"/>
                    </a:lnTo>
                    <a:lnTo>
                      <a:pt x="58" y="106"/>
                    </a:lnTo>
                    <a:lnTo>
                      <a:pt x="46" y="110"/>
                    </a:lnTo>
                    <a:lnTo>
                      <a:pt x="36" y="116"/>
                    </a:lnTo>
                    <a:lnTo>
                      <a:pt x="29" y="124"/>
                    </a:lnTo>
                    <a:lnTo>
                      <a:pt x="21" y="130"/>
                    </a:lnTo>
                    <a:lnTo>
                      <a:pt x="13" y="137"/>
                    </a:lnTo>
                    <a:lnTo>
                      <a:pt x="0" y="126"/>
                    </a:lnTo>
                    <a:lnTo>
                      <a:pt x="9" y="121"/>
                    </a:lnTo>
                    <a:lnTo>
                      <a:pt x="18" y="116"/>
                    </a:lnTo>
                    <a:lnTo>
                      <a:pt x="25" y="110"/>
                    </a:lnTo>
                    <a:lnTo>
                      <a:pt x="33" y="103"/>
                    </a:lnTo>
                    <a:lnTo>
                      <a:pt x="39" y="97"/>
                    </a:lnTo>
                    <a:lnTo>
                      <a:pt x="48" y="90"/>
                    </a:lnTo>
                    <a:lnTo>
                      <a:pt x="55" y="86"/>
                    </a:lnTo>
                    <a:lnTo>
                      <a:pt x="66" y="85"/>
                    </a:lnTo>
                    <a:lnTo>
                      <a:pt x="74" y="77"/>
                    </a:lnTo>
                    <a:lnTo>
                      <a:pt x="80" y="70"/>
                    </a:lnTo>
                    <a:lnTo>
                      <a:pt x="83" y="60"/>
                    </a:lnTo>
                    <a:lnTo>
                      <a:pt x="88" y="52"/>
                    </a:lnTo>
                    <a:lnTo>
                      <a:pt x="91" y="42"/>
                    </a:lnTo>
                    <a:lnTo>
                      <a:pt x="95" y="33"/>
                    </a:lnTo>
                    <a:lnTo>
                      <a:pt x="102" y="25"/>
                    </a:lnTo>
                    <a:lnTo>
                      <a:pt x="112" y="19"/>
                    </a:lnTo>
                    <a:lnTo>
                      <a:pt x="117" y="0"/>
                    </a:lnTo>
                    <a:lnTo>
                      <a:pt x="117" y="9"/>
                    </a:lnTo>
                    <a:lnTo>
                      <a:pt x="117" y="19"/>
                    </a:lnTo>
                    <a:lnTo>
                      <a:pt x="117" y="31"/>
                    </a:lnTo>
                    <a:lnTo>
                      <a:pt x="117" y="43"/>
                    </a:lnTo>
                    <a:lnTo>
                      <a:pt x="117" y="53"/>
                    </a:lnTo>
                    <a:lnTo>
                      <a:pt x="121" y="62"/>
                    </a:lnTo>
                    <a:lnTo>
                      <a:pt x="126" y="70"/>
                    </a:lnTo>
                    <a:lnTo>
                      <a:pt x="13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67440" y="5049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"/>
                    </a:moveTo>
                    <a:lnTo>
                      <a:pt x="16" y="6"/>
                    </a:lnTo>
                    <a:lnTo>
                      <a:pt x="11" y="11"/>
                    </a:lnTo>
                    <a:lnTo>
                      <a:pt x="5" y="13"/>
                    </a:lnTo>
                    <a:lnTo>
                      <a:pt x="0" y="16"/>
                    </a:lnTo>
                    <a:lnTo>
                      <a:pt x="15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12080" y="5059440"/>
                <a:ext cx="164880" cy="92160"/>
              </a:xfrm>
              <a:custGeom>
                <a:avLst/>
                <a:gdLst/>
                <a:ahLst/>
                <a:rect l="l" t="t" r="r" b="b"/>
                <a:pathLst>
                  <a:path w="208" h="116">
                    <a:moveTo>
                      <a:pt x="208" y="0"/>
                    </a:moveTo>
                    <a:lnTo>
                      <a:pt x="194" y="14"/>
                    </a:lnTo>
                    <a:lnTo>
                      <a:pt x="180" y="28"/>
                    </a:lnTo>
                    <a:lnTo>
                      <a:pt x="165" y="41"/>
                    </a:lnTo>
                    <a:lnTo>
                      <a:pt x="149" y="54"/>
                    </a:lnTo>
                    <a:lnTo>
                      <a:pt x="131" y="64"/>
                    </a:lnTo>
                    <a:lnTo>
                      <a:pt x="115" y="76"/>
                    </a:lnTo>
                    <a:lnTo>
                      <a:pt x="97" y="86"/>
                    </a:lnTo>
                    <a:lnTo>
                      <a:pt x="81" y="97"/>
                    </a:lnTo>
                    <a:lnTo>
                      <a:pt x="69" y="98"/>
                    </a:lnTo>
                    <a:lnTo>
                      <a:pt x="58" y="102"/>
                    </a:lnTo>
                    <a:lnTo>
                      <a:pt x="46" y="107"/>
                    </a:lnTo>
                    <a:lnTo>
                      <a:pt x="35" y="114"/>
                    </a:lnTo>
                    <a:lnTo>
                      <a:pt x="24" y="116"/>
                    </a:lnTo>
                    <a:lnTo>
                      <a:pt x="14" y="115"/>
                    </a:lnTo>
                    <a:lnTo>
                      <a:pt x="5" y="108"/>
                    </a:lnTo>
                    <a:lnTo>
                      <a:pt x="0" y="97"/>
                    </a:lnTo>
                    <a:lnTo>
                      <a:pt x="19" y="86"/>
                    </a:lnTo>
                    <a:lnTo>
                      <a:pt x="40" y="76"/>
                    </a:lnTo>
                    <a:lnTo>
                      <a:pt x="59" y="64"/>
                    </a:lnTo>
                    <a:lnTo>
                      <a:pt x="78" y="54"/>
                    </a:lnTo>
                    <a:lnTo>
                      <a:pt x="98" y="42"/>
                    </a:lnTo>
                    <a:lnTo>
                      <a:pt x="117" y="33"/>
                    </a:lnTo>
                    <a:lnTo>
                      <a:pt x="137" y="25"/>
                    </a:lnTo>
                    <a:lnTo>
                      <a:pt x="159" y="20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6" y="13"/>
                    </a:lnTo>
                    <a:lnTo>
                      <a:pt x="183" y="11"/>
                    </a:lnTo>
                    <a:lnTo>
                      <a:pt x="188" y="7"/>
                    </a:lnTo>
                    <a:lnTo>
                      <a:pt x="195" y="5"/>
                    </a:lnTo>
                    <a:lnTo>
                      <a:pt x="201" y="2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86440" y="507060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87" y="0"/>
                    </a:moveTo>
                    <a:lnTo>
                      <a:pt x="76" y="6"/>
                    </a:lnTo>
                    <a:lnTo>
                      <a:pt x="66" y="14"/>
                    </a:lnTo>
                    <a:lnTo>
                      <a:pt x="56" y="20"/>
                    </a:lnTo>
                    <a:lnTo>
                      <a:pt x="45" y="28"/>
                    </a:lnTo>
                    <a:lnTo>
                      <a:pt x="33" y="34"/>
                    </a:lnTo>
                    <a:lnTo>
                      <a:pt x="21" y="42"/>
                    </a:lnTo>
                    <a:lnTo>
                      <a:pt x="9" y="48"/>
                    </a:lnTo>
                    <a:lnTo>
                      <a:pt x="0" y="56"/>
                    </a:lnTo>
                    <a:lnTo>
                      <a:pt x="8" y="47"/>
                    </a:lnTo>
                    <a:lnTo>
                      <a:pt x="17" y="41"/>
                    </a:lnTo>
                    <a:lnTo>
                      <a:pt x="27" y="33"/>
                    </a:lnTo>
                    <a:lnTo>
                      <a:pt x="36" y="27"/>
                    </a:lnTo>
                    <a:lnTo>
                      <a:pt x="46" y="19"/>
                    </a:lnTo>
                    <a:lnTo>
                      <a:pt x="57" y="13"/>
                    </a:lnTo>
                    <a:lnTo>
                      <a:pt x="66" y="6"/>
                    </a:lnTo>
                    <a:lnTo>
                      <a:pt x="7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76920" y="5091120"/>
                <a:ext cx="692280" cy="336600"/>
              </a:xfrm>
              <a:custGeom>
                <a:avLst/>
                <a:gdLst/>
                <a:ahLst/>
                <a:rect l="l" t="t" r="r" b="b"/>
                <a:pathLst>
                  <a:path w="872" h="423">
                    <a:moveTo>
                      <a:pt x="872" y="14"/>
                    </a:moveTo>
                    <a:lnTo>
                      <a:pt x="871" y="19"/>
                    </a:lnTo>
                    <a:lnTo>
                      <a:pt x="871" y="24"/>
                    </a:lnTo>
                    <a:lnTo>
                      <a:pt x="868" y="30"/>
                    </a:lnTo>
                    <a:lnTo>
                      <a:pt x="867" y="36"/>
                    </a:lnTo>
                    <a:lnTo>
                      <a:pt x="860" y="46"/>
                    </a:lnTo>
                    <a:lnTo>
                      <a:pt x="853" y="53"/>
                    </a:lnTo>
                    <a:lnTo>
                      <a:pt x="847" y="50"/>
                    </a:lnTo>
                    <a:lnTo>
                      <a:pt x="840" y="47"/>
                    </a:lnTo>
                    <a:lnTo>
                      <a:pt x="833" y="44"/>
                    </a:lnTo>
                    <a:lnTo>
                      <a:pt x="825" y="44"/>
                    </a:lnTo>
                    <a:lnTo>
                      <a:pt x="817" y="43"/>
                    </a:lnTo>
                    <a:lnTo>
                      <a:pt x="810" y="44"/>
                    </a:lnTo>
                    <a:lnTo>
                      <a:pt x="802" y="47"/>
                    </a:lnTo>
                    <a:lnTo>
                      <a:pt x="795" y="51"/>
                    </a:lnTo>
                    <a:lnTo>
                      <a:pt x="789" y="51"/>
                    </a:lnTo>
                    <a:lnTo>
                      <a:pt x="783" y="54"/>
                    </a:lnTo>
                    <a:lnTo>
                      <a:pt x="779" y="58"/>
                    </a:lnTo>
                    <a:lnTo>
                      <a:pt x="776" y="63"/>
                    </a:lnTo>
                    <a:lnTo>
                      <a:pt x="768" y="73"/>
                    </a:lnTo>
                    <a:lnTo>
                      <a:pt x="764" y="84"/>
                    </a:lnTo>
                    <a:lnTo>
                      <a:pt x="733" y="100"/>
                    </a:lnTo>
                    <a:lnTo>
                      <a:pt x="702" y="116"/>
                    </a:lnTo>
                    <a:lnTo>
                      <a:pt x="670" y="131"/>
                    </a:lnTo>
                    <a:lnTo>
                      <a:pt x="639" y="147"/>
                    </a:lnTo>
                    <a:lnTo>
                      <a:pt x="607" y="162"/>
                    </a:lnTo>
                    <a:lnTo>
                      <a:pt x="576" y="177"/>
                    </a:lnTo>
                    <a:lnTo>
                      <a:pt x="543" y="193"/>
                    </a:lnTo>
                    <a:lnTo>
                      <a:pt x="512" y="210"/>
                    </a:lnTo>
                    <a:lnTo>
                      <a:pt x="506" y="212"/>
                    </a:lnTo>
                    <a:lnTo>
                      <a:pt x="500" y="214"/>
                    </a:lnTo>
                    <a:lnTo>
                      <a:pt x="494" y="216"/>
                    </a:lnTo>
                    <a:lnTo>
                      <a:pt x="489" y="219"/>
                    </a:lnTo>
                    <a:lnTo>
                      <a:pt x="482" y="221"/>
                    </a:lnTo>
                    <a:lnTo>
                      <a:pt x="477" y="223"/>
                    </a:lnTo>
                    <a:lnTo>
                      <a:pt x="470" y="226"/>
                    </a:lnTo>
                    <a:lnTo>
                      <a:pt x="465" y="229"/>
                    </a:lnTo>
                    <a:lnTo>
                      <a:pt x="101" y="408"/>
                    </a:lnTo>
                    <a:lnTo>
                      <a:pt x="89" y="412"/>
                    </a:lnTo>
                    <a:lnTo>
                      <a:pt x="79" y="416"/>
                    </a:lnTo>
                    <a:lnTo>
                      <a:pt x="67" y="418"/>
                    </a:lnTo>
                    <a:lnTo>
                      <a:pt x="56" y="420"/>
                    </a:lnTo>
                    <a:lnTo>
                      <a:pt x="43" y="421"/>
                    </a:lnTo>
                    <a:lnTo>
                      <a:pt x="31" y="422"/>
                    </a:lnTo>
                    <a:lnTo>
                      <a:pt x="19" y="422"/>
                    </a:lnTo>
                    <a:lnTo>
                      <a:pt x="7" y="423"/>
                    </a:lnTo>
                    <a:lnTo>
                      <a:pt x="3" y="419"/>
                    </a:lnTo>
                    <a:lnTo>
                      <a:pt x="1" y="415"/>
                    </a:lnTo>
                    <a:lnTo>
                      <a:pt x="0" y="409"/>
                    </a:lnTo>
                    <a:lnTo>
                      <a:pt x="1" y="404"/>
                    </a:lnTo>
                    <a:lnTo>
                      <a:pt x="5" y="401"/>
                    </a:lnTo>
                    <a:lnTo>
                      <a:pt x="11" y="401"/>
                    </a:lnTo>
                    <a:lnTo>
                      <a:pt x="16" y="401"/>
                    </a:lnTo>
                    <a:lnTo>
                      <a:pt x="20" y="404"/>
                    </a:lnTo>
                    <a:lnTo>
                      <a:pt x="55" y="390"/>
                    </a:lnTo>
                    <a:lnTo>
                      <a:pt x="89" y="376"/>
                    </a:lnTo>
                    <a:lnTo>
                      <a:pt x="124" y="362"/>
                    </a:lnTo>
                    <a:lnTo>
                      <a:pt x="159" y="348"/>
                    </a:lnTo>
                    <a:lnTo>
                      <a:pt x="193" y="332"/>
                    </a:lnTo>
                    <a:lnTo>
                      <a:pt x="227" y="318"/>
                    </a:lnTo>
                    <a:lnTo>
                      <a:pt x="261" y="304"/>
                    </a:lnTo>
                    <a:lnTo>
                      <a:pt x="297" y="292"/>
                    </a:lnTo>
                    <a:lnTo>
                      <a:pt x="325" y="276"/>
                    </a:lnTo>
                    <a:lnTo>
                      <a:pt x="354" y="261"/>
                    </a:lnTo>
                    <a:lnTo>
                      <a:pt x="383" y="247"/>
                    </a:lnTo>
                    <a:lnTo>
                      <a:pt x="412" y="234"/>
                    </a:lnTo>
                    <a:lnTo>
                      <a:pt x="440" y="219"/>
                    </a:lnTo>
                    <a:lnTo>
                      <a:pt x="468" y="205"/>
                    </a:lnTo>
                    <a:lnTo>
                      <a:pt x="496" y="189"/>
                    </a:lnTo>
                    <a:lnTo>
                      <a:pt x="525" y="173"/>
                    </a:lnTo>
                    <a:lnTo>
                      <a:pt x="532" y="170"/>
                    </a:lnTo>
                    <a:lnTo>
                      <a:pt x="539" y="167"/>
                    </a:lnTo>
                    <a:lnTo>
                      <a:pt x="546" y="164"/>
                    </a:lnTo>
                    <a:lnTo>
                      <a:pt x="553" y="161"/>
                    </a:lnTo>
                    <a:lnTo>
                      <a:pt x="560" y="157"/>
                    </a:lnTo>
                    <a:lnTo>
                      <a:pt x="566" y="153"/>
                    </a:lnTo>
                    <a:lnTo>
                      <a:pt x="572" y="149"/>
                    </a:lnTo>
                    <a:lnTo>
                      <a:pt x="580" y="146"/>
                    </a:lnTo>
                    <a:lnTo>
                      <a:pt x="608" y="132"/>
                    </a:lnTo>
                    <a:lnTo>
                      <a:pt x="637" y="118"/>
                    </a:lnTo>
                    <a:lnTo>
                      <a:pt x="666" y="103"/>
                    </a:lnTo>
                    <a:lnTo>
                      <a:pt x="695" y="88"/>
                    </a:lnTo>
                    <a:lnTo>
                      <a:pt x="723" y="72"/>
                    </a:lnTo>
                    <a:lnTo>
                      <a:pt x="751" y="58"/>
                    </a:lnTo>
                    <a:lnTo>
                      <a:pt x="780" y="45"/>
                    </a:lnTo>
                    <a:lnTo>
                      <a:pt x="810" y="34"/>
                    </a:lnTo>
                    <a:lnTo>
                      <a:pt x="816" y="24"/>
                    </a:lnTo>
                    <a:lnTo>
                      <a:pt x="820" y="15"/>
                    </a:lnTo>
                    <a:lnTo>
                      <a:pt x="821" y="9"/>
                    </a:lnTo>
                    <a:lnTo>
                      <a:pt x="823" y="6"/>
                    </a:lnTo>
                    <a:lnTo>
                      <a:pt x="826" y="2"/>
                    </a:lnTo>
                    <a:lnTo>
                      <a:pt x="833" y="1"/>
                    </a:lnTo>
                    <a:lnTo>
                      <a:pt x="838" y="0"/>
                    </a:lnTo>
                    <a:lnTo>
                      <a:pt x="844" y="0"/>
                    </a:lnTo>
                    <a:lnTo>
                      <a:pt x="849" y="0"/>
                    </a:lnTo>
                    <a:lnTo>
                      <a:pt x="855" y="1"/>
                    </a:lnTo>
                    <a:lnTo>
                      <a:pt x="860" y="1"/>
                    </a:lnTo>
                    <a:lnTo>
                      <a:pt x="865" y="4"/>
                    </a:lnTo>
                    <a:lnTo>
                      <a:pt x="868" y="7"/>
                    </a:lnTo>
                    <a:lnTo>
                      <a:pt x="872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67360" y="5111640"/>
                <a:ext cx="68400" cy="3492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40"/>
                    </a:moveTo>
                    <a:lnTo>
                      <a:pt x="87" y="43"/>
                    </a:lnTo>
                    <a:lnTo>
                      <a:pt x="74" y="38"/>
                    </a:lnTo>
                    <a:lnTo>
                      <a:pt x="63" y="34"/>
                    </a:lnTo>
                    <a:lnTo>
                      <a:pt x="52" y="29"/>
                    </a:lnTo>
                    <a:lnTo>
                      <a:pt x="42" y="23"/>
                    </a:lnTo>
                    <a:lnTo>
                      <a:pt x="31" y="17"/>
                    </a:lnTo>
                    <a:lnTo>
                      <a:pt x="20" y="1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22" y="6"/>
                    </a:lnTo>
                    <a:lnTo>
                      <a:pt x="33" y="11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4" y="30"/>
                    </a:lnTo>
                    <a:lnTo>
                      <a:pt x="74" y="35"/>
                    </a:lnTo>
                    <a:lnTo>
                      <a:pt x="8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3520" y="5143680"/>
                <a:ext cx="231480" cy="123840"/>
              </a:xfrm>
              <a:custGeom>
                <a:avLst/>
                <a:gdLst/>
                <a:ahLst/>
                <a:rect l="l" t="t" r="r" b="b"/>
                <a:pathLst>
                  <a:path w="293" h="156">
                    <a:moveTo>
                      <a:pt x="255" y="14"/>
                    </a:moveTo>
                    <a:lnTo>
                      <a:pt x="254" y="24"/>
                    </a:lnTo>
                    <a:lnTo>
                      <a:pt x="257" y="32"/>
                    </a:lnTo>
                    <a:lnTo>
                      <a:pt x="264" y="36"/>
                    </a:lnTo>
                    <a:lnTo>
                      <a:pt x="272" y="40"/>
                    </a:lnTo>
                    <a:lnTo>
                      <a:pt x="280" y="42"/>
                    </a:lnTo>
                    <a:lnTo>
                      <a:pt x="286" y="47"/>
                    </a:lnTo>
                    <a:lnTo>
                      <a:pt x="291" y="53"/>
                    </a:lnTo>
                    <a:lnTo>
                      <a:pt x="292" y="64"/>
                    </a:lnTo>
                    <a:lnTo>
                      <a:pt x="293" y="72"/>
                    </a:lnTo>
                    <a:lnTo>
                      <a:pt x="293" y="80"/>
                    </a:lnTo>
                    <a:lnTo>
                      <a:pt x="288" y="86"/>
                    </a:lnTo>
                    <a:lnTo>
                      <a:pt x="284" y="93"/>
                    </a:lnTo>
                    <a:lnTo>
                      <a:pt x="278" y="97"/>
                    </a:lnTo>
                    <a:lnTo>
                      <a:pt x="271" y="103"/>
                    </a:lnTo>
                    <a:lnTo>
                      <a:pt x="265" y="108"/>
                    </a:lnTo>
                    <a:lnTo>
                      <a:pt x="259" y="113"/>
                    </a:lnTo>
                    <a:lnTo>
                      <a:pt x="252" y="114"/>
                    </a:lnTo>
                    <a:lnTo>
                      <a:pt x="245" y="112"/>
                    </a:lnTo>
                    <a:lnTo>
                      <a:pt x="239" y="108"/>
                    </a:lnTo>
                    <a:lnTo>
                      <a:pt x="232" y="107"/>
                    </a:lnTo>
                    <a:lnTo>
                      <a:pt x="216" y="114"/>
                    </a:lnTo>
                    <a:lnTo>
                      <a:pt x="202" y="123"/>
                    </a:lnTo>
                    <a:lnTo>
                      <a:pt x="186" y="130"/>
                    </a:lnTo>
                    <a:lnTo>
                      <a:pt x="172" y="138"/>
                    </a:lnTo>
                    <a:lnTo>
                      <a:pt x="156" y="143"/>
                    </a:lnTo>
                    <a:lnTo>
                      <a:pt x="140" y="149"/>
                    </a:lnTo>
                    <a:lnTo>
                      <a:pt x="123" y="151"/>
                    </a:lnTo>
                    <a:lnTo>
                      <a:pt x="107" y="154"/>
                    </a:lnTo>
                    <a:lnTo>
                      <a:pt x="93" y="155"/>
                    </a:lnTo>
                    <a:lnTo>
                      <a:pt x="79" y="156"/>
                    </a:lnTo>
                    <a:lnTo>
                      <a:pt x="65" y="155"/>
                    </a:lnTo>
                    <a:lnTo>
                      <a:pt x="52" y="155"/>
                    </a:lnTo>
                    <a:lnTo>
                      <a:pt x="38" y="153"/>
                    </a:lnTo>
                    <a:lnTo>
                      <a:pt x="25" y="151"/>
                    </a:lnTo>
                    <a:lnTo>
                      <a:pt x="12" y="149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5" y="137"/>
                    </a:lnTo>
                    <a:lnTo>
                      <a:pt x="9" y="132"/>
                    </a:lnTo>
                    <a:lnTo>
                      <a:pt x="8" y="125"/>
                    </a:lnTo>
                    <a:lnTo>
                      <a:pt x="8" y="120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10" y="110"/>
                    </a:lnTo>
                    <a:lnTo>
                      <a:pt x="19" y="113"/>
                    </a:lnTo>
                    <a:lnTo>
                      <a:pt x="34" y="104"/>
                    </a:lnTo>
                    <a:lnTo>
                      <a:pt x="52" y="100"/>
                    </a:lnTo>
                    <a:lnTo>
                      <a:pt x="70" y="99"/>
                    </a:lnTo>
                    <a:lnTo>
                      <a:pt x="89" y="100"/>
                    </a:lnTo>
                    <a:lnTo>
                      <a:pt x="107" y="99"/>
                    </a:lnTo>
                    <a:lnTo>
                      <a:pt x="125" y="97"/>
                    </a:lnTo>
                    <a:lnTo>
                      <a:pt x="141" y="90"/>
                    </a:lnTo>
                    <a:lnTo>
                      <a:pt x="156" y="76"/>
                    </a:lnTo>
                    <a:lnTo>
                      <a:pt x="164" y="65"/>
                    </a:lnTo>
                    <a:lnTo>
                      <a:pt x="171" y="55"/>
                    </a:lnTo>
                    <a:lnTo>
                      <a:pt x="178" y="43"/>
                    </a:lnTo>
                    <a:lnTo>
                      <a:pt x="184" y="33"/>
                    </a:lnTo>
                    <a:lnTo>
                      <a:pt x="190" y="22"/>
                    </a:lnTo>
                    <a:lnTo>
                      <a:pt x="200" y="13"/>
                    </a:lnTo>
                    <a:lnTo>
                      <a:pt x="210" y="6"/>
                    </a:lnTo>
                    <a:lnTo>
                      <a:pt x="224" y="1"/>
                    </a:lnTo>
                    <a:lnTo>
                      <a:pt x="234" y="0"/>
                    </a:lnTo>
                    <a:lnTo>
                      <a:pt x="242" y="1"/>
                    </a:lnTo>
                    <a:lnTo>
                      <a:pt x="249" y="6"/>
                    </a:lnTo>
                    <a:lnTo>
                      <a:pt x="255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1400" y="515448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137" h="82">
                    <a:moveTo>
                      <a:pt x="137" y="0"/>
                    </a:moveTo>
                    <a:lnTo>
                      <a:pt x="129" y="8"/>
                    </a:lnTo>
                    <a:lnTo>
                      <a:pt x="121" y="15"/>
                    </a:lnTo>
                    <a:lnTo>
                      <a:pt x="111" y="21"/>
                    </a:lnTo>
                    <a:lnTo>
                      <a:pt x="102" y="27"/>
                    </a:lnTo>
                    <a:lnTo>
                      <a:pt x="92" y="31"/>
                    </a:lnTo>
                    <a:lnTo>
                      <a:pt x="81" y="38"/>
                    </a:lnTo>
                    <a:lnTo>
                      <a:pt x="71" y="43"/>
                    </a:lnTo>
                    <a:lnTo>
                      <a:pt x="63" y="50"/>
                    </a:lnTo>
                    <a:lnTo>
                      <a:pt x="54" y="53"/>
                    </a:lnTo>
                    <a:lnTo>
                      <a:pt x="46" y="56"/>
                    </a:lnTo>
                    <a:lnTo>
                      <a:pt x="39" y="59"/>
                    </a:lnTo>
                    <a:lnTo>
                      <a:pt x="31" y="64"/>
                    </a:lnTo>
                    <a:lnTo>
                      <a:pt x="24" y="67"/>
                    </a:lnTo>
                    <a:lnTo>
                      <a:pt x="16" y="71"/>
                    </a:lnTo>
                    <a:lnTo>
                      <a:pt x="10" y="76"/>
                    </a:lnTo>
                    <a:lnTo>
                      <a:pt x="4" y="82"/>
                    </a:lnTo>
                    <a:lnTo>
                      <a:pt x="0" y="80"/>
                    </a:lnTo>
                    <a:lnTo>
                      <a:pt x="16" y="69"/>
                    </a:lnTo>
                    <a:lnTo>
                      <a:pt x="32" y="58"/>
                    </a:lnTo>
                    <a:lnTo>
                      <a:pt x="49" y="47"/>
                    </a:lnTo>
                    <a:lnTo>
                      <a:pt x="66" y="35"/>
                    </a:lnTo>
                    <a:lnTo>
                      <a:pt x="82" y="22"/>
                    </a:lnTo>
                    <a:lnTo>
                      <a:pt x="99" y="12"/>
                    </a:lnTo>
                    <a:lnTo>
                      <a:pt x="117" y="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8200" y="51577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"/>
                    </a:moveTo>
                    <a:lnTo>
                      <a:pt x="12" y="2"/>
                    </a:lnTo>
                    <a:lnTo>
                      <a:pt x="9" y="8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95920" y="5218200"/>
                <a:ext cx="204840" cy="106200"/>
              </a:xfrm>
              <a:custGeom>
                <a:avLst/>
                <a:gdLst/>
                <a:ahLst/>
                <a:rect l="l" t="t" r="r" b="b"/>
                <a:pathLst>
                  <a:path w="258" h="134">
                    <a:moveTo>
                      <a:pt x="258" y="134"/>
                    </a:moveTo>
                    <a:lnTo>
                      <a:pt x="245" y="130"/>
                    </a:lnTo>
                    <a:lnTo>
                      <a:pt x="233" y="128"/>
                    </a:lnTo>
                    <a:lnTo>
                      <a:pt x="219" y="126"/>
                    </a:lnTo>
                    <a:lnTo>
                      <a:pt x="206" y="125"/>
                    </a:lnTo>
                    <a:lnTo>
                      <a:pt x="193" y="120"/>
                    </a:lnTo>
                    <a:lnTo>
                      <a:pt x="185" y="115"/>
                    </a:lnTo>
                    <a:lnTo>
                      <a:pt x="177" y="104"/>
                    </a:lnTo>
                    <a:lnTo>
                      <a:pt x="175" y="91"/>
                    </a:lnTo>
                    <a:lnTo>
                      <a:pt x="153" y="84"/>
                    </a:lnTo>
                    <a:lnTo>
                      <a:pt x="134" y="74"/>
                    </a:lnTo>
                    <a:lnTo>
                      <a:pt x="116" y="62"/>
                    </a:lnTo>
                    <a:lnTo>
                      <a:pt x="99" y="52"/>
                    </a:lnTo>
                    <a:lnTo>
                      <a:pt x="80" y="39"/>
                    </a:lnTo>
                    <a:lnTo>
                      <a:pt x="62" y="28"/>
                    </a:lnTo>
                    <a:lnTo>
                      <a:pt x="42" y="18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35" y="10"/>
                    </a:lnTo>
                    <a:lnTo>
                      <a:pt x="70" y="24"/>
                    </a:lnTo>
                    <a:lnTo>
                      <a:pt x="101" y="40"/>
                    </a:lnTo>
                    <a:lnTo>
                      <a:pt x="133" y="59"/>
                    </a:lnTo>
                    <a:lnTo>
                      <a:pt x="163" y="77"/>
                    </a:lnTo>
                    <a:lnTo>
                      <a:pt x="194" y="98"/>
                    </a:lnTo>
                    <a:lnTo>
                      <a:pt x="226" y="116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26240" y="5291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04040" y="532764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138" h="155">
                    <a:moveTo>
                      <a:pt x="16" y="0"/>
                    </a:moveTo>
                    <a:lnTo>
                      <a:pt x="16" y="20"/>
                    </a:lnTo>
                    <a:lnTo>
                      <a:pt x="22" y="42"/>
                    </a:lnTo>
                    <a:lnTo>
                      <a:pt x="31" y="62"/>
                    </a:lnTo>
                    <a:lnTo>
                      <a:pt x="43" y="81"/>
                    </a:lnTo>
                    <a:lnTo>
                      <a:pt x="56" y="98"/>
                    </a:lnTo>
                    <a:lnTo>
                      <a:pt x="73" y="114"/>
                    </a:lnTo>
                    <a:lnTo>
                      <a:pt x="91" y="127"/>
                    </a:lnTo>
                    <a:lnTo>
                      <a:pt x="111" y="136"/>
                    </a:lnTo>
                    <a:lnTo>
                      <a:pt x="118" y="136"/>
                    </a:lnTo>
                    <a:lnTo>
                      <a:pt x="126" y="133"/>
                    </a:lnTo>
                    <a:lnTo>
                      <a:pt x="131" y="132"/>
                    </a:lnTo>
                    <a:lnTo>
                      <a:pt x="138" y="136"/>
                    </a:lnTo>
                    <a:lnTo>
                      <a:pt x="131" y="141"/>
                    </a:lnTo>
                    <a:lnTo>
                      <a:pt x="125" y="146"/>
                    </a:lnTo>
                    <a:lnTo>
                      <a:pt x="118" y="149"/>
                    </a:lnTo>
                    <a:lnTo>
                      <a:pt x="112" y="152"/>
                    </a:lnTo>
                    <a:lnTo>
                      <a:pt x="104" y="154"/>
                    </a:lnTo>
                    <a:lnTo>
                      <a:pt x="98" y="155"/>
                    </a:lnTo>
                    <a:lnTo>
                      <a:pt x="90" y="154"/>
                    </a:lnTo>
                    <a:lnTo>
                      <a:pt x="84" y="152"/>
                    </a:lnTo>
                    <a:lnTo>
                      <a:pt x="74" y="140"/>
                    </a:lnTo>
                    <a:lnTo>
                      <a:pt x="67" y="128"/>
                    </a:lnTo>
                    <a:lnTo>
                      <a:pt x="57" y="116"/>
                    </a:lnTo>
                    <a:lnTo>
                      <a:pt x="49" y="104"/>
                    </a:lnTo>
                    <a:lnTo>
                      <a:pt x="40" y="91"/>
                    </a:lnTo>
                    <a:lnTo>
                      <a:pt x="30" y="79"/>
                    </a:lnTo>
                    <a:lnTo>
                      <a:pt x="20" y="66"/>
                    </a:lnTo>
                    <a:lnTo>
                      <a:pt x="12" y="56"/>
                    </a:lnTo>
                    <a:lnTo>
                      <a:pt x="7" y="49"/>
                    </a:lnTo>
                    <a:lnTo>
                      <a:pt x="5" y="43"/>
                    </a:lnTo>
                    <a:lnTo>
                      <a:pt x="4" y="35"/>
                    </a:lnTo>
                    <a:lnTo>
                      <a:pt x="4" y="29"/>
                    </a:lnTo>
                    <a:lnTo>
                      <a:pt x="3" y="20"/>
                    </a:lnTo>
                    <a:lnTo>
                      <a:pt x="2" y="13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87840" y="5470560"/>
                <a:ext cx="250920" cy="117360"/>
              </a:xfrm>
              <a:custGeom>
                <a:avLst/>
                <a:gdLst/>
                <a:ahLst/>
                <a:rect l="l" t="t" r="r" b="b"/>
                <a:pathLst>
                  <a:path w="317" h="149">
                    <a:moveTo>
                      <a:pt x="170" y="40"/>
                    </a:moveTo>
                    <a:lnTo>
                      <a:pt x="174" y="37"/>
                    </a:lnTo>
                    <a:lnTo>
                      <a:pt x="181" y="34"/>
                    </a:lnTo>
                    <a:lnTo>
                      <a:pt x="186" y="30"/>
                    </a:lnTo>
                    <a:lnTo>
                      <a:pt x="193" y="30"/>
                    </a:lnTo>
                    <a:lnTo>
                      <a:pt x="199" y="28"/>
                    </a:lnTo>
                    <a:lnTo>
                      <a:pt x="206" y="29"/>
                    </a:lnTo>
                    <a:lnTo>
                      <a:pt x="212" y="30"/>
                    </a:lnTo>
                    <a:lnTo>
                      <a:pt x="220" y="34"/>
                    </a:lnTo>
                    <a:lnTo>
                      <a:pt x="227" y="40"/>
                    </a:lnTo>
                    <a:lnTo>
                      <a:pt x="237" y="44"/>
                    </a:lnTo>
                    <a:lnTo>
                      <a:pt x="248" y="44"/>
                    </a:lnTo>
                    <a:lnTo>
                      <a:pt x="261" y="43"/>
                    </a:lnTo>
                    <a:lnTo>
                      <a:pt x="272" y="39"/>
                    </a:lnTo>
                    <a:lnTo>
                      <a:pt x="284" y="36"/>
                    </a:lnTo>
                    <a:lnTo>
                      <a:pt x="295" y="32"/>
                    </a:lnTo>
                    <a:lnTo>
                      <a:pt x="307" y="29"/>
                    </a:lnTo>
                    <a:lnTo>
                      <a:pt x="309" y="34"/>
                    </a:lnTo>
                    <a:lnTo>
                      <a:pt x="303" y="38"/>
                    </a:lnTo>
                    <a:lnTo>
                      <a:pt x="296" y="43"/>
                    </a:lnTo>
                    <a:lnTo>
                      <a:pt x="290" y="50"/>
                    </a:lnTo>
                    <a:lnTo>
                      <a:pt x="290" y="61"/>
                    </a:lnTo>
                    <a:lnTo>
                      <a:pt x="295" y="66"/>
                    </a:lnTo>
                    <a:lnTo>
                      <a:pt x="303" y="66"/>
                    </a:lnTo>
                    <a:lnTo>
                      <a:pt x="309" y="62"/>
                    </a:lnTo>
                    <a:lnTo>
                      <a:pt x="317" y="61"/>
                    </a:lnTo>
                    <a:lnTo>
                      <a:pt x="308" y="66"/>
                    </a:lnTo>
                    <a:lnTo>
                      <a:pt x="299" y="72"/>
                    </a:lnTo>
                    <a:lnTo>
                      <a:pt x="290" y="77"/>
                    </a:lnTo>
                    <a:lnTo>
                      <a:pt x="281" y="82"/>
                    </a:lnTo>
                    <a:lnTo>
                      <a:pt x="271" y="85"/>
                    </a:lnTo>
                    <a:lnTo>
                      <a:pt x="262" y="91"/>
                    </a:lnTo>
                    <a:lnTo>
                      <a:pt x="252" y="97"/>
                    </a:lnTo>
                    <a:lnTo>
                      <a:pt x="244" y="106"/>
                    </a:lnTo>
                    <a:lnTo>
                      <a:pt x="246" y="114"/>
                    </a:lnTo>
                    <a:lnTo>
                      <a:pt x="247" y="122"/>
                    </a:lnTo>
                    <a:lnTo>
                      <a:pt x="246" y="129"/>
                    </a:lnTo>
                    <a:lnTo>
                      <a:pt x="242" y="139"/>
                    </a:lnTo>
                    <a:lnTo>
                      <a:pt x="229" y="146"/>
                    </a:lnTo>
                    <a:lnTo>
                      <a:pt x="218" y="149"/>
                    </a:lnTo>
                    <a:lnTo>
                      <a:pt x="206" y="149"/>
                    </a:lnTo>
                    <a:lnTo>
                      <a:pt x="195" y="147"/>
                    </a:lnTo>
                    <a:lnTo>
                      <a:pt x="182" y="143"/>
                    </a:lnTo>
                    <a:lnTo>
                      <a:pt x="170" y="141"/>
                    </a:lnTo>
                    <a:lnTo>
                      <a:pt x="157" y="140"/>
                    </a:lnTo>
                    <a:lnTo>
                      <a:pt x="145" y="143"/>
                    </a:lnTo>
                    <a:lnTo>
                      <a:pt x="122" y="143"/>
                    </a:lnTo>
                    <a:lnTo>
                      <a:pt x="100" y="140"/>
                    </a:lnTo>
                    <a:lnTo>
                      <a:pt x="80" y="133"/>
                    </a:lnTo>
                    <a:lnTo>
                      <a:pt x="61" y="124"/>
                    </a:lnTo>
                    <a:lnTo>
                      <a:pt x="43" y="111"/>
                    </a:lnTo>
                    <a:lnTo>
                      <a:pt x="28" y="98"/>
                    </a:lnTo>
                    <a:lnTo>
                      <a:pt x="13" y="8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1" y="48"/>
                    </a:lnTo>
                    <a:lnTo>
                      <a:pt x="3" y="42"/>
                    </a:lnTo>
                    <a:lnTo>
                      <a:pt x="8" y="33"/>
                    </a:lnTo>
                    <a:lnTo>
                      <a:pt x="17" y="27"/>
                    </a:lnTo>
                    <a:lnTo>
                      <a:pt x="20" y="20"/>
                    </a:lnTo>
                    <a:lnTo>
                      <a:pt x="15" y="13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8" y="0"/>
                    </a:lnTo>
                    <a:lnTo>
                      <a:pt x="36" y="7"/>
                    </a:lnTo>
                    <a:lnTo>
                      <a:pt x="54" y="13"/>
                    </a:lnTo>
                    <a:lnTo>
                      <a:pt x="71" y="20"/>
                    </a:lnTo>
                    <a:lnTo>
                      <a:pt x="91" y="26"/>
                    </a:lnTo>
                    <a:lnTo>
                      <a:pt x="110" y="30"/>
                    </a:lnTo>
                    <a:lnTo>
                      <a:pt x="129" y="35"/>
                    </a:lnTo>
                    <a:lnTo>
                      <a:pt x="149" y="38"/>
                    </a:lnTo>
                    <a:lnTo>
                      <a:pt x="170" y="4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56240" y="55371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93" h="13">
                    <a:moveTo>
                      <a:pt x="93" y="1"/>
                    </a:moveTo>
                    <a:lnTo>
                      <a:pt x="81" y="6"/>
                    </a:lnTo>
                    <a:lnTo>
                      <a:pt x="70" y="10"/>
                    </a:lnTo>
                    <a:lnTo>
                      <a:pt x="57" y="12"/>
                    </a:lnTo>
                    <a:lnTo>
                      <a:pt x="44" y="13"/>
                    </a:lnTo>
                    <a:lnTo>
                      <a:pt x="32" y="12"/>
                    </a:lnTo>
                    <a:lnTo>
                      <a:pt x="19" y="10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10" y="3"/>
                    </a:lnTo>
                    <a:lnTo>
                      <a:pt x="22" y="5"/>
                    </a:lnTo>
                    <a:lnTo>
                      <a:pt x="33" y="3"/>
                    </a:lnTo>
                    <a:lnTo>
                      <a:pt x="44" y="3"/>
                    </a:lnTo>
                    <a:lnTo>
                      <a:pt x="56" y="1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69120" y="5643720"/>
                <a:ext cx="36360" cy="8892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37" y="41"/>
                    </a:moveTo>
                    <a:lnTo>
                      <a:pt x="37" y="48"/>
                    </a:lnTo>
                    <a:lnTo>
                      <a:pt x="38" y="57"/>
                    </a:lnTo>
                    <a:lnTo>
                      <a:pt x="38" y="65"/>
                    </a:lnTo>
                    <a:lnTo>
                      <a:pt x="39" y="75"/>
                    </a:lnTo>
                    <a:lnTo>
                      <a:pt x="39" y="84"/>
                    </a:lnTo>
                    <a:lnTo>
                      <a:pt x="40" y="92"/>
                    </a:lnTo>
                    <a:lnTo>
                      <a:pt x="42" y="101"/>
                    </a:lnTo>
                    <a:lnTo>
                      <a:pt x="45" y="111"/>
                    </a:lnTo>
                    <a:lnTo>
                      <a:pt x="33" y="99"/>
                    </a:lnTo>
                    <a:lnTo>
                      <a:pt x="29" y="85"/>
                    </a:lnTo>
                    <a:lnTo>
                      <a:pt x="28" y="69"/>
                    </a:lnTo>
                    <a:lnTo>
                      <a:pt x="30" y="54"/>
                    </a:lnTo>
                    <a:lnTo>
                      <a:pt x="30" y="37"/>
                    </a:lnTo>
                    <a:lnTo>
                      <a:pt x="26" y="24"/>
                    </a:lnTo>
                    <a:lnTo>
                      <a:pt x="17" y="14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10" y="3"/>
                    </a:lnTo>
                    <a:lnTo>
                      <a:pt x="17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5" y="18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4" y="34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60840" y="4748400"/>
                <a:ext cx="652680" cy="336240"/>
              </a:xfrm>
              <a:custGeom>
                <a:avLst/>
                <a:gdLst/>
                <a:ahLst/>
                <a:rect l="l" t="t" r="r" b="b"/>
                <a:pathLst>
                  <a:path w="822" h="423">
                    <a:moveTo>
                      <a:pt x="353" y="53"/>
                    </a:moveTo>
                    <a:lnTo>
                      <a:pt x="361" y="56"/>
                    </a:lnTo>
                    <a:lnTo>
                      <a:pt x="371" y="57"/>
                    </a:lnTo>
                    <a:lnTo>
                      <a:pt x="382" y="56"/>
                    </a:lnTo>
                    <a:lnTo>
                      <a:pt x="393" y="55"/>
                    </a:lnTo>
                    <a:lnTo>
                      <a:pt x="403" y="54"/>
                    </a:lnTo>
                    <a:lnTo>
                      <a:pt x="413" y="56"/>
                    </a:lnTo>
                    <a:lnTo>
                      <a:pt x="420" y="62"/>
                    </a:lnTo>
                    <a:lnTo>
                      <a:pt x="427" y="73"/>
                    </a:lnTo>
                    <a:lnTo>
                      <a:pt x="440" y="72"/>
                    </a:lnTo>
                    <a:lnTo>
                      <a:pt x="453" y="78"/>
                    </a:lnTo>
                    <a:lnTo>
                      <a:pt x="462" y="85"/>
                    </a:lnTo>
                    <a:lnTo>
                      <a:pt x="473" y="95"/>
                    </a:lnTo>
                    <a:lnTo>
                      <a:pt x="483" y="101"/>
                    </a:lnTo>
                    <a:lnTo>
                      <a:pt x="495" y="106"/>
                    </a:lnTo>
                    <a:lnTo>
                      <a:pt x="507" y="105"/>
                    </a:lnTo>
                    <a:lnTo>
                      <a:pt x="524" y="98"/>
                    </a:lnTo>
                    <a:lnTo>
                      <a:pt x="539" y="102"/>
                    </a:lnTo>
                    <a:lnTo>
                      <a:pt x="555" y="108"/>
                    </a:lnTo>
                    <a:lnTo>
                      <a:pt x="570" y="114"/>
                    </a:lnTo>
                    <a:lnTo>
                      <a:pt x="586" y="123"/>
                    </a:lnTo>
                    <a:lnTo>
                      <a:pt x="599" y="131"/>
                    </a:lnTo>
                    <a:lnTo>
                      <a:pt x="610" y="144"/>
                    </a:lnTo>
                    <a:lnTo>
                      <a:pt x="617" y="158"/>
                    </a:lnTo>
                    <a:lnTo>
                      <a:pt x="622" y="177"/>
                    </a:lnTo>
                    <a:lnTo>
                      <a:pt x="622" y="182"/>
                    </a:lnTo>
                    <a:lnTo>
                      <a:pt x="620" y="188"/>
                    </a:lnTo>
                    <a:lnTo>
                      <a:pt x="617" y="193"/>
                    </a:lnTo>
                    <a:lnTo>
                      <a:pt x="614" y="197"/>
                    </a:lnTo>
                    <a:lnTo>
                      <a:pt x="609" y="200"/>
                    </a:lnTo>
                    <a:lnTo>
                      <a:pt x="604" y="205"/>
                    </a:lnTo>
                    <a:lnTo>
                      <a:pt x="601" y="210"/>
                    </a:lnTo>
                    <a:lnTo>
                      <a:pt x="602" y="216"/>
                    </a:lnTo>
                    <a:lnTo>
                      <a:pt x="606" y="221"/>
                    </a:lnTo>
                    <a:lnTo>
                      <a:pt x="611" y="226"/>
                    </a:lnTo>
                    <a:lnTo>
                      <a:pt x="613" y="233"/>
                    </a:lnTo>
                    <a:lnTo>
                      <a:pt x="615" y="240"/>
                    </a:lnTo>
                    <a:lnTo>
                      <a:pt x="616" y="246"/>
                    </a:lnTo>
                    <a:lnTo>
                      <a:pt x="618" y="252"/>
                    </a:lnTo>
                    <a:lnTo>
                      <a:pt x="622" y="257"/>
                    </a:lnTo>
                    <a:lnTo>
                      <a:pt x="629" y="262"/>
                    </a:lnTo>
                    <a:lnTo>
                      <a:pt x="651" y="263"/>
                    </a:lnTo>
                    <a:lnTo>
                      <a:pt x="673" y="266"/>
                    </a:lnTo>
                    <a:lnTo>
                      <a:pt x="695" y="269"/>
                    </a:lnTo>
                    <a:lnTo>
                      <a:pt x="717" y="273"/>
                    </a:lnTo>
                    <a:lnTo>
                      <a:pt x="737" y="279"/>
                    </a:lnTo>
                    <a:lnTo>
                      <a:pt x="757" y="286"/>
                    </a:lnTo>
                    <a:lnTo>
                      <a:pt x="777" y="296"/>
                    </a:lnTo>
                    <a:lnTo>
                      <a:pt x="795" y="309"/>
                    </a:lnTo>
                    <a:lnTo>
                      <a:pt x="801" y="319"/>
                    </a:lnTo>
                    <a:lnTo>
                      <a:pt x="809" y="329"/>
                    </a:lnTo>
                    <a:lnTo>
                      <a:pt x="814" y="341"/>
                    </a:lnTo>
                    <a:lnTo>
                      <a:pt x="818" y="354"/>
                    </a:lnTo>
                    <a:lnTo>
                      <a:pt x="821" y="366"/>
                    </a:lnTo>
                    <a:lnTo>
                      <a:pt x="822" y="380"/>
                    </a:lnTo>
                    <a:lnTo>
                      <a:pt x="821" y="394"/>
                    </a:lnTo>
                    <a:lnTo>
                      <a:pt x="820" y="410"/>
                    </a:lnTo>
                    <a:lnTo>
                      <a:pt x="814" y="413"/>
                    </a:lnTo>
                    <a:lnTo>
                      <a:pt x="809" y="417"/>
                    </a:lnTo>
                    <a:lnTo>
                      <a:pt x="802" y="418"/>
                    </a:lnTo>
                    <a:lnTo>
                      <a:pt x="797" y="419"/>
                    </a:lnTo>
                    <a:lnTo>
                      <a:pt x="785" y="419"/>
                    </a:lnTo>
                    <a:lnTo>
                      <a:pt x="777" y="419"/>
                    </a:lnTo>
                    <a:lnTo>
                      <a:pt x="772" y="420"/>
                    </a:lnTo>
                    <a:lnTo>
                      <a:pt x="770" y="423"/>
                    </a:lnTo>
                    <a:lnTo>
                      <a:pt x="765" y="419"/>
                    </a:lnTo>
                    <a:lnTo>
                      <a:pt x="760" y="419"/>
                    </a:lnTo>
                    <a:lnTo>
                      <a:pt x="755" y="419"/>
                    </a:lnTo>
                    <a:lnTo>
                      <a:pt x="747" y="419"/>
                    </a:lnTo>
                    <a:lnTo>
                      <a:pt x="740" y="418"/>
                    </a:lnTo>
                    <a:lnTo>
                      <a:pt x="735" y="417"/>
                    </a:lnTo>
                    <a:lnTo>
                      <a:pt x="718" y="411"/>
                    </a:lnTo>
                    <a:lnTo>
                      <a:pt x="703" y="406"/>
                    </a:lnTo>
                    <a:lnTo>
                      <a:pt x="688" y="398"/>
                    </a:lnTo>
                    <a:lnTo>
                      <a:pt x="674" y="392"/>
                    </a:lnTo>
                    <a:lnTo>
                      <a:pt x="660" y="383"/>
                    </a:lnTo>
                    <a:lnTo>
                      <a:pt x="646" y="377"/>
                    </a:lnTo>
                    <a:lnTo>
                      <a:pt x="631" y="370"/>
                    </a:lnTo>
                    <a:lnTo>
                      <a:pt x="617" y="365"/>
                    </a:lnTo>
                    <a:lnTo>
                      <a:pt x="613" y="358"/>
                    </a:lnTo>
                    <a:lnTo>
                      <a:pt x="609" y="354"/>
                    </a:lnTo>
                    <a:lnTo>
                      <a:pt x="603" y="351"/>
                    </a:lnTo>
                    <a:lnTo>
                      <a:pt x="598" y="350"/>
                    </a:lnTo>
                    <a:lnTo>
                      <a:pt x="586" y="350"/>
                    </a:lnTo>
                    <a:lnTo>
                      <a:pt x="575" y="353"/>
                    </a:lnTo>
                    <a:lnTo>
                      <a:pt x="560" y="358"/>
                    </a:lnTo>
                    <a:lnTo>
                      <a:pt x="546" y="367"/>
                    </a:lnTo>
                    <a:lnTo>
                      <a:pt x="532" y="377"/>
                    </a:lnTo>
                    <a:lnTo>
                      <a:pt x="519" y="386"/>
                    </a:lnTo>
                    <a:lnTo>
                      <a:pt x="504" y="393"/>
                    </a:lnTo>
                    <a:lnTo>
                      <a:pt x="490" y="398"/>
                    </a:lnTo>
                    <a:lnTo>
                      <a:pt x="474" y="398"/>
                    </a:lnTo>
                    <a:lnTo>
                      <a:pt x="458" y="394"/>
                    </a:lnTo>
                    <a:lnTo>
                      <a:pt x="448" y="388"/>
                    </a:lnTo>
                    <a:lnTo>
                      <a:pt x="440" y="382"/>
                    </a:lnTo>
                    <a:lnTo>
                      <a:pt x="431" y="376"/>
                    </a:lnTo>
                    <a:lnTo>
                      <a:pt x="425" y="371"/>
                    </a:lnTo>
                    <a:lnTo>
                      <a:pt x="416" y="365"/>
                    </a:lnTo>
                    <a:lnTo>
                      <a:pt x="410" y="358"/>
                    </a:lnTo>
                    <a:lnTo>
                      <a:pt x="402" y="351"/>
                    </a:lnTo>
                    <a:lnTo>
                      <a:pt x="396" y="344"/>
                    </a:lnTo>
                    <a:lnTo>
                      <a:pt x="385" y="342"/>
                    </a:lnTo>
                    <a:lnTo>
                      <a:pt x="374" y="342"/>
                    </a:lnTo>
                    <a:lnTo>
                      <a:pt x="362" y="342"/>
                    </a:lnTo>
                    <a:lnTo>
                      <a:pt x="350" y="343"/>
                    </a:lnTo>
                    <a:lnTo>
                      <a:pt x="337" y="342"/>
                    </a:lnTo>
                    <a:lnTo>
                      <a:pt x="327" y="341"/>
                    </a:lnTo>
                    <a:lnTo>
                      <a:pt x="316" y="338"/>
                    </a:lnTo>
                    <a:lnTo>
                      <a:pt x="307" y="334"/>
                    </a:lnTo>
                    <a:lnTo>
                      <a:pt x="294" y="325"/>
                    </a:lnTo>
                    <a:lnTo>
                      <a:pt x="284" y="317"/>
                    </a:lnTo>
                    <a:lnTo>
                      <a:pt x="274" y="308"/>
                    </a:lnTo>
                    <a:lnTo>
                      <a:pt x="264" y="300"/>
                    </a:lnTo>
                    <a:lnTo>
                      <a:pt x="255" y="291"/>
                    </a:lnTo>
                    <a:lnTo>
                      <a:pt x="245" y="281"/>
                    </a:lnTo>
                    <a:lnTo>
                      <a:pt x="236" y="270"/>
                    </a:lnTo>
                    <a:lnTo>
                      <a:pt x="229" y="259"/>
                    </a:lnTo>
                    <a:lnTo>
                      <a:pt x="220" y="255"/>
                    </a:lnTo>
                    <a:lnTo>
                      <a:pt x="212" y="253"/>
                    </a:lnTo>
                    <a:lnTo>
                      <a:pt x="203" y="252"/>
                    </a:lnTo>
                    <a:lnTo>
                      <a:pt x="194" y="252"/>
                    </a:lnTo>
                    <a:lnTo>
                      <a:pt x="185" y="252"/>
                    </a:lnTo>
                    <a:lnTo>
                      <a:pt x="176" y="253"/>
                    </a:lnTo>
                    <a:lnTo>
                      <a:pt x="166" y="253"/>
                    </a:lnTo>
                    <a:lnTo>
                      <a:pt x="160" y="255"/>
                    </a:lnTo>
                    <a:lnTo>
                      <a:pt x="149" y="249"/>
                    </a:lnTo>
                    <a:lnTo>
                      <a:pt x="139" y="242"/>
                    </a:lnTo>
                    <a:lnTo>
                      <a:pt x="129" y="235"/>
                    </a:lnTo>
                    <a:lnTo>
                      <a:pt x="119" y="228"/>
                    </a:lnTo>
                    <a:lnTo>
                      <a:pt x="109" y="218"/>
                    </a:lnTo>
                    <a:lnTo>
                      <a:pt x="104" y="208"/>
                    </a:lnTo>
                    <a:lnTo>
                      <a:pt x="101" y="196"/>
                    </a:lnTo>
                    <a:lnTo>
                      <a:pt x="102" y="183"/>
                    </a:lnTo>
                    <a:lnTo>
                      <a:pt x="94" y="177"/>
                    </a:lnTo>
                    <a:lnTo>
                      <a:pt x="88" y="171"/>
                    </a:lnTo>
                    <a:lnTo>
                      <a:pt x="82" y="165"/>
                    </a:lnTo>
                    <a:lnTo>
                      <a:pt x="77" y="159"/>
                    </a:lnTo>
                    <a:lnTo>
                      <a:pt x="70" y="153"/>
                    </a:lnTo>
                    <a:lnTo>
                      <a:pt x="63" y="151"/>
                    </a:lnTo>
                    <a:lnTo>
                      <a:pt x="54" y="150"/>
                    </a:lnTo>
                    <a:lnTo>
                      <a:pt x="46" y="152"/>
                    </a:lnTo>
                    <a:lnTo>
                      <a:pt x="37" y="137"/>
                    </a:lnTo>
                    <a:lnTo>
                      <a:pt x="30" y="123"/>
                    </a:lnTo>
                    <a:lnTo>
                      <a:pt x="20" y="108"/>
                    </a:lnTo>
                    <a:lnTo>
                      <a:pt x="14" y="94"/>
                    </a:lnTo>
                    <a:lnTo>
                      <a:pt x="6" y="79"/>
                    </a:lnTo>
                    <a:lnTo>
                      <a:pt x="2" y="64"/>
                    </a:lnTo>
                    <a:lnTo>
                      <a:pt x="0" y="46"/>
                    </a:lnTo>
                    <a:lnTo>
                      <a:pt x="3" y="30"/>
                    </a:lnTo>
                    <a:lnTo>
                      <a:pt x="9" y="26"/>
                    </a:lnTo>
                    <a:lnTo>
                      <a:pt x="17" y="27"/>
                    </a:lnTo>
                    <a:lnTo>
                      <a:pt x="24" y="30"/>
                    </a:lnTo>
                    <a:lnTo>
                      <a:pt x="34" y="30"/>
                    </a:lnTo>
                    <a:lnTo>
                      <a:pt x="56" y="22"/>
                    </a:lnTo>
                    <a:lnTo>
                      <a:pt x="77" y="19"/>
                    </a:lnTo>
                    <a:lnTo>
                      <a:pt x="99" y="17"/>
                    </a:lnTo>
                    <a:lnTo>
                      <a:pt x="120" y="20"/>
                    </a:lnTo>
                    <a:lnTo>
                      <a:pt x="141" y="20"/>
                    </a:lnTo>
                    <a:lnTo>
                      <a:pt x="161" y="19"/>
                    </a:lnTo>
                    <a:lnTo>
                      <a:pt x="181" y="13"/>
                    </a:lnTo>
                    <a:lnTo>
                      <a:pt x="202" y="3"/>
                    </a:lnTo>
                    <a:lnTo>
                      <a:pt x="217" y="0"/>
                    </a:lnTo>
                    <a:lnTo>
                      <a:pt x="233" y="1"/>
                    </a:lnTo>
                    <a:lnTo>
                      <a:pt x="247" y="3"/>
                    </a:lnTo>
                    <a:lnTo>
                      <a:pt x="262" y="10"/>
                    </a:lnTo>
                    <a:lnTo>
                      <a:pt x="274" y="16"/>
                    </a:lnTo>
                    <a:lnTo>
                      <a:pt x="287" y="26"/>
                    </a:lnTo>
                    <a:lnTo>
                      <a:pt x="298" y="36"/>
                    </a:lnTo>
                    <a:lnTo>
                      <a:pt x="309" y="49"/>
                    </a:lnTo>
                    <a:lnTo>
                      <a:pt x="3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2320" y="477216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81" y="36"/>
                    </a:moveTo>
                    <a:lnTo>
                      <a:pt x="80" y="41"/>
                    </a:lnTo>
                    <a:lnTo>
                      <a:pt x="80" y="48"/>
                    </a:lnTo>
                    <a:lnTo>
                      <a:pt x="78" y="53"/>
                    </a:lnTo>
                    <a:lnTo>
                      <a:pt x="77" y="58"/>
                    </a:lnTo>
                    <a:lnTo>
                      <a:pt x="70" y="67"/>
                    </a:lnTo>
                    <a:lnTo>
                      <a:pt x="60" y="76"/>
                    </a:lnTo>
                    <a:lnTo>
                      <a:pt x="52" y="76"/>
                    </a:lnTo>
                    <a:lnTo>
                      <a:pt x="45" y="76"/>
                    </a:lnTo>
                    <a:lnTo>
                      <a:pt x="39" y="74"/>
                    </a:lnTo>
                    <a:lnTo>
                      <a:pt x="32" y="73"/>
                    </a:lnTo>
                    <a:lnTo>
                      <a:pt x="22" y="68"/>
                    </a:lnTo>
                    <a:lnTo>
                      <a:pt x="13" y="59"/>
                    </a:lnTo>
                    <a:lnTo>
                      <a:pt x="6" y="53"/>
                    </a:lnTo>
                    <a:lnTo>
                      <a:pt x="2" y="44"/>
                    </a:lnTo>
                    <a:lnTo>
                      <a:pt x="1" y="35"/>
                    </a:lnTo>
                    <a:lnTo>
                      <a:pt x="0" y="26"/>
                    </a:lnTo>
                    <a:lnTo>
                      <a:pt x="3" y="17"/>
                    </a:lnTo>
                    <a:lnTo>
                      <a:pt x="8" y="11"/>
                    </a:lnTo>
                    <a:lnTo>
                      <a:pt x="14" y="5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40" y="1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70" y="20"/>
                    </a:lnTo>
                    <a:lnTo>
                      <a:pt x="76" y="26"/>
                    </a:lnTo>
                    <a:lnTo>
                      <a:pt x="81" y="3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14840" y="479268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116" y="50"/>
                    </a:moveTo>
                    <a:lnTo>
                      <a:pt x="113" y="58"/>
                    </a:lnTo>
                    <a:lnTo>
                      <a:pt x="107" y="67"/>
                    </a:lnTo>
                    <a:lnTo>
                      <a:pt x="103" y="71"/>
                    </a:lnTo>
                    <a:lnTo>
                      <a:pt x="102" y="75"/>
                    </a:lnTo>
                    <a:lnTo>
                      <a:pt x="103" y="80"/>
                    </a:lnTo>
                    <a:lnTo>
                      <a:pt x="108" y="85"/>
                    </a:lnTo>
                    <a:lnTo>
                      <a:pt x="98" y="87"/>
                    </a:lnTo>
                    <a:lnTo>
                      <a:pt x="93" y="86"/>
                    </a:lnTo>
                    <a:lnTo>
                      <a:pt x="88" y="82"/>
                    </a:lnTo>
                    <a:lnTo>
                      <a:pt x="84" y="78"/>
                    </a:lnTo>
                    <a:lnTo>
                      <a:pt x="79" y="71"/>
                    </a:lnTo>
                    <a:lnTo>
                      <a:pt x="75" y="66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3" y="57"/>
                    </a:lnTo>
                    <a:lnTo>
                      <a:pt x="46" y="52"/>
                    </a:lnTo>
                    <a:lnTo>
                      <a:pt x="37" y="47"/>
                    </a:lnTo>
                    <a:lnTo>
                      <a:pt x="28" y="43"/>
                    </a:lnTo>
                    <a:lnTo>
                      <a:pt x="19" y="38"/>
                    </a:lnTo>
                    <a:lnTo>
                      <a:pt x="11" y="32"/>
                    </a:lnTo>
                    <a:lnTo>
                      <a:pt x="5" y="25"/>
                    </a:lnTo>
                    <a:lnTo>
                      <a:pt x="0" y="18"/>
                    </a:lnTo>
                    <a:lnTo>
                      <a:pt x="7" y="17"/>
                    </a:lnTo>
                    <a:lnTo>
                      <a:pt x="13" y="19"/>
                    </a:lnTo>
                    <a:lnTo>
                      <a:pt x="20" y="22"/>
                    </a:lnTo>
                    <a:lnTo>
                      <a:pt x="27" y="25"/>
                    </a:lnTo>
                    <a:lnTo>
                      <a:pt x="29" y="17"/>
                    </a:lnTo>
                    <a:lnTo>
                      <a:pt x="34" y="12"/>
                    </a:lnTo>
                    <a:lnTo>
                      <a:pt x="38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2" y="13"/>
                    </a:lnTo>
                    <a:lnTo>
                      <a:pt x="89" y="17"/>
                    </a:lnTo>
                    <a:lnTo>
                      <a:pt x="95" y="24"/>
                    </a:lnTo>
                    <a:lnTo>
                      <a:pt x="100" y="29"/>
                    </a:lnTo>
                    <a:lnTo>
                      <a:pt x="106" y="36"/>
                    </a:lnTo>
                    <a:lnTo>
                      <a:pt x="110" y="42"/>
                    </a:lnTo>
                    <a:lnTo>
                      <a:pt x="116" y="5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59200" y="4846680"/>
                <a:ext cx="174600" cy="162000"/>
              </a:xfrm>
              <a:custGeom>
                <a:avLst/>
                <a:gdLst/>
                <a:ahLst/>
                <a:rect l="l" t="t" r="r" b="b"/>
                <a:pathLst>
                  <a:path w="221" h="203">
                    <a:moveTo>
                      <a:pt x="198" y="46"/>
                    </a:moveTo>
                    <a:lnTo>
                      <a:pt x="206" y="56"/>
                    </a:lnTo>
                    <a:lnTo>
                      <a:pt x="212" y="69"/>
                    </a:lnTo>
                    <a:lnTo>
                      <a:pt x="215" y="82"/>
                    </a:lnTo>
                    <a:lnTo>
                      <a:pt x="218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37"/>
                    </a:lnTo>
                    <a:lnTo>
                      <a:pt x="221" y="149"/>
                    </a:lnTo>
                    <a:lnTo>
                      <a:pt x="220" y="156"/>
                    </a:lnTo>
                    <a:lnTo>
                      <a:pt x="218" y="163"/>
                    </a:lnTo>
                    <a:lnTo>
                      <a:pt x="213" y="169"/>
                    </a:lnTo>
                    <a:lnTo>
                      <a:pt x="210" y="174"/>
                    </a:lnTo>
                    <a:lnTo>
                      <a:pt x="204" y="179"/>
                    </a:lnTo>
                    <a:lnTo>
                      <a:pt x="198" y="183"/>
                    </a:lnTo>
                    <a:lnTo>
                      <a:pt x="192" y="187"/>
                    </a:lnTo>
                    <a:lnTo>
                      <a:pt x="186" y="194"/>
                    </a:lnTo>
                    <a:lnTo>
                      <a:pt x="169" y="196"/>
                    </a:lnTo>
                    <a:lnTo>
                      <a:pt x="152" y="199"/>
                    </a:lnTo>
                    <a:lnTo>
                      <a:pt x="135" y="201"/>
                    </a:lnTo>
                    <a:lnTo>
                      <a:pt x="119" y="203"/>
                    </a:lnTo>
                    <a:lnTo>
                      <a:pt x="101" y="202"/>
                    </a:lnTo>
                    <a:lnTo>
                      <a:pt x="85" y="199"/>
                    </a:lnTo>
                    <a:lnTo>
                      <a:pt x="69" y="194"/>
                    </a:lnTo>
                    <a:lnTo>
                      <a:pt x="56" y="187"/>
                    </a:lnTo>
                    <a:lnTo>
                      <a:pt x="41" y="171"/>
                    </a:lnTo>
                    <a:lnTo>
                      <a:pt x="28" y="156"/>
                    </a:lnTo>
                    <a:lnTo>
                      <a:pt x="16" y="139"/>
                    </a:lnTo>
                    <a:lnTo>
                      <a:pt x="8" y="122"/>
                    </a:lnTo>
                    <a:lnTo>
                      <a:pt x="1" y="102"/>
                    </a:lnTo>
                    <a:lnTo>
                      <a:pt x="0" y="84"/>
                    </a:lnTo>
                    <a:lnTo>
                      <a:pt x="2" y="63"/>
                    </a:lnTo>
                    <a:lnTo>
                      <a:pt x="12" y="43"/>
                    </a:lnTo>
                    <a:lnTo>
                      <a:pt x="16" y="33"/>
                    </a:lnTo>
                    <a:lnTo>
                      <a:pt x="24" y="26"/>
                    </a:lnTo>
                    <a:lnTo>
                      <a:pt x="30" y="18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7" y="5"/>
                    </a:lnTo>
                    <a:lnTo>
                      <a:pt x="67" y="2"/>
                    </a:lnTo>
                    <a:lnTo>
                      <a:pt x="77" y="1"/>
                    </a:lnTo>
                    <a:lnTo>
                      <a:pt x="93" y="0"/>
                    </a:lnTo>
                    <a:lnTo>
                      <a:pt x="110" y="3"/>
                    </a:lnTo>
                    <a:lnTo>
                      <a:pt x="125" y="6"/>
                    </a:lnTo>
                    <a:lnTo>
                      <a:pt x="141" y="13"/>
                    </a:lnTo>
                    <a:lnTo>
                      <a:pt x="155" y="19"/>
                    </a:lnTo>
                    <a:lnTo>
                      <a:pt x="169" y="28"/>
                    </a:lnTo>
                    <a:lnTo>
                      <a:pt x="183" y="37"/>
                    </a:lnTo>
                    <a:lnTo>
                      <a:pt x="198" y="46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33800" y="4865760"/>
                <a:ext cx="81000" cy="100080"/>
              </a:xfrm>
              <a:custGeom>
                <a:avLst/>
                <a:gdLst/>
                <a:ahLst/>
                <a:rect l="l" t="t" r="r" b="b"/>
                <a:pathLst>
                  <a:path w="102" h="125">
                    <a:moveTo>
                      <a:pt x="35" y="0"/>
                    </a:moveTo>
                    <a:lnTo>
                      <a:pt x="44" y="2"/>
                    </a:lnTo>
                    <a:lnTo>
                      <a:pt x="54" y="6"/>
                    </a:lnTo>
                    <a:lnTo>
                      <a:pt x="61" y="9"/>
                    </a:lnTo>
                    <a:lnTo>
                      <a:pt x="70" y="16"/>
                    </a:lnTo>
                    <a:lnTo>
                      <a:pt x="77" y="20"/>
                    </a:lnTo>
                    <a:lnTo>
                      <a:pt x="86" y="27"/>
                    </a:lnTo>
                    <a:lnTo>
                      <a:pt x="93" y="34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5" y="60"/>
                    </a:lnTo>
                    <a:lnTo>
                      <a:pt x="89" y="68"/>
                    </a:lnTo>
                    <a:lnTo>
                      <a:pt x="81" y="76"/>
                    </a:lnTo>
                    <a:lnTo>
                      <a:pt x="83" y="81"/>
                    </a:lnTo>
                    <a:lnTo>
                      <a:pt x="86" y="87"/>
                    </a:lnTo>
                    <a:lnTo>
                      <a:pt x="89" y="91"/>
                    </a:lnTo>
                    <a:lnTo>
                      <a:pt x="91" y="98"/>
                    </a:lnTo>
                    <a:lnTo>
                      <a:pt x="90" y="105"/>
                    </a:lnTo>
                    <a:lnTo>
                      <a:pt x="88" y="114"/>
                    </a:lnTo>
                    <a:lnTo>
                      <a:pt x="84" y="119"/>
                    </a:lnTo>
                    <a:lnTo>
                      <a:pt x="77" y="125"/>
                    </a:lnTo>
                    <a:lnTo>
                      <a:pt x="65" y="123"/>
                    </a:lnTo>
                    <a:lnTo>
                      <a:pt x="58" y="119"/>
                    </a:lnTo>
                    <a:lnTo>
                      <a:pt x="53" y="111"/>
                    </a:lnTo>
                    <a:lnTo>
                      <a:pt x="49" y="103"/>
                    </a:lnTo>
                    <a:lnTo>
                      <a:pt x="46" y="93"/>
                    </a:lnTo>
                    <a:lnTo>
                      <a:pt x="43" y="84"/>
                    </a:lnTo>
                    <a:lnTo>
                      <a:pt x="39" y="75"/>
                    </a:lnTo>
                    <a:lnTo>
                      <a:pt x="35" y="68"/>
                    </a:lnTo>
                    <a:lnTo>
                      <a:pt x="29" y="60"/>
                    </a:lnTo>
                    <a:lnTo>
                      <a:pt x="24" y="52"/>
                    </a:lnTo>
                    <a:lnTo>
                      <a:pt x="17" y="45"/>
                    </a:lnTo>
                    <a:lnTo>
                      <a:pt x="12" y="37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4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487836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6" y="29"/>
                    </a:moveTo>
                    <a:lnTo>
                      <a:pt x="93" y="34"/>
                    </a:lnTo>
                    <a:lnTo>
                      <a:pt x="90" y="41"/>
                    </a:lnTo>
                    <a:lnTo>
                      <a:pt x="84" y="45"/>
                    </a:lnTo>
                    <a:lnTo>
                      <a:pt x="78" y="47"/>
                    </a:lnTo>
                    <a:lnTo>
                      <a:pt x="67" y="47"/>
                    </a:lnTo>
                    <a:lnTo>
                      <a:pt x="57" y="51"/>
                    </a:lnTo>
                    <a:lnTo>
                      <a:pt x="56" y="55"/>
                    </a:lnTo>
                    <a:lnTo>
                      <a:pt x="58" y="58"/>
                    </a:lnTo>
                    <a:lnTo>
                      <a:pt x="60" y="61"/>
                    </a:lnTo>
                    <a:lnTo>
                      <a:pt x="59" y="68"/>
                    </a:lnTo>
                    <a:lnTo>
                      <a:pt x="52" y="63"/>
                    </a:lnTo>
                    <a:lnTo>
                      <a:pt x="45" y="59"/>
                    </a:lnTo>
                    <a:lnTo>
                      <a:pt x="40" y="54"/>
                    </a:lnTo>
                    <a:lnTo>
                      <a:pt x="35" y="49"/>
                    </a:lnTo>
                    <a:lnTo>
                      <a:pt x="28" y="44"/>
                    </a:lnTo>
                    <a:lnTo>
                      <a:pt x="22" y="41"/>
                    </a:lnTo>
                    <a:lnTo>
                      <a:pt x="14" y="39"/>
                    </a:lnTo>
                    <a:lnTo>
                      <a:pt x="8" y="39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7" y="1"/>
                    </a:lnTo>
                    <a:lnTo>
                      <a:pt x="66" y="3"/>
                    </a:lnTo>
                    <a:lnTo>
                      <a:pt x="73" y="7"/>
                    </a:lnTo>
                    <a:lnTo>
                      <a:pt x="83" y="13"/>
                    </a:lnTo>
                    <a:lnTo>
                      <a:pt x="86" y="15"/>
                    </a:lnTo>
                    <a:lnTo>
                      <a:pt x="91" y="18"/>
                    </a:lnTo>
                    <a:lnTo>
                      <a:pt x="93" y="22"/>
                    </a:lnTo>
                    <a:lnTo>
                      <a:pt x="96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18240" y="4881600"/>
                <a:ext cx="55440" cy="93600"/>
              </a:xfrm>
              <a:custGeom>
                <a:avLst/>
                <a:gdLst/>
                <a:ahLst/>
                <a:rect l="l" t="t" r="r" b="b"/>
                <a:pathLst>
                  <a:path w="70" h="118">
                    <a:moveTo>
                      <a:pt x="66" y="26"/>
                    </a:moveTo>
                    <a:lnTo>
                      <a:pt x="68" y="30"/>
                    </a:lnTo>
                    <a:lnTo>
                      <a:pt x="70" y="38"/>
                    </a:lnTo>
                    <a:lnTo>
                      <a:pt x="68" y="45"/>
                    </a:lnTo>
                    <a:lnTo>
                      <a:pt x="68" y="54"/>
                    </a:lnTo>
                    <a:lnTo>
                      <a:pt x="62" y="58"/>
                    </a:lnTo>
                    <a:lnTo>
                      <a:pt x="57" y="64"/>
                    </a:lnTo>
                    <a:lnTo>
                      <a:pt x="51" y="69"/>
                    </a:lnTo>
                    <a:lnTo>
                      <a:pt x="48" y="75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40" y="96"/>
                    </a:lnTo>
                    <a:lnTo>
                      <a:pt x="44" y="104"/>
                    </a:lnTo>
                    <a:lnTo>
                      <a:pt x="50" y="114"/>
                    </a:lnTo>
                    <a:lnTo>
                      <a:pt x="42" y="118"/>
                    </a:lnTo>
                    <a:lnTo>
                      <a:pt x="33" y="118"/>
                    </a:lnTo>
                    <a:lnTo>
                      <a:pt x="24" y="116"/>
                    </a:lnTo>
                    <a:lnTo>
                      <a:pt x="17" y="114"/>
                    </a:lnTo>
                    <a:lnTo>
                      <a:pt x="11" y="111"/>
                    </a:lnTo>
                    <a:lnTo>
                      <a:pt x="5" y="111"/>
                    </a:lnTo>
                    <a:lnTo>
                      <a:pt x="0" y="109"/>
                    </a:lnTo>
                    <a:lnTo>
                      <a:pt x="1" y="104"/>
                    </a:lnTo>
                    <a:lnTo>
                      <a:pt x="8" y="94"/>
                    </a:lnTo>
                    <a:lnTo>
                      <a:pt x="15" y="83"/>
                    </a:lnTo>
                    <a:lnTo>
                      <a:pt x="16" y="76"/>
                    </a:lnTo>
                    <a:lnTo>
                      <a:pt x="18" y="71"/>
                    </a:lnTo>
                    <a:lnTo>
                      <a:pt x="18" y="65"/>
                    </a:lnTo>
                    <a:lnTo>
                      <a:pt x="19" y="58"/>
                    </a:lnTo>
                    <a:lnTo>
                      <a:pt x="14" y="53"/>
                    </a:lnTo>
                    <a:lnTo>
                      <a:pt x="14" y="46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9" y="30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0" y="14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2"/>
                    </a:lnTo>
                    <a:lnTo>
                      <a:pt x="50" y="5"/>
                    </a:lnTo>
                    <a:lnTo>
                      <a:pt x="54" y="8"/>
                    </a:lnTo>
                    <a:lnTo>
                      <a:pt x="60" y="12"/>
                    </a:lnTo>
                    <a:lnTo>
                      <a:pt x="63" y="18"/>
                    </a:lnTo>
                    <a:lnTo>
                      <a:pt x="6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1280" y="4954680"/>
                <a:ext cx="182520" cy="11268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48" y="30"/>
                    </a:moveTo>
                    <a:lnTo>
                      <a:pt x="64" y="37"/>
                    </a:lnTo>
                    <a:lnTo>
                      <a:pt x="85" y="40"/>
                    </a:lnTo>
                    <a:lnTo>
                      <a:pt x="105" y="40"/>
                    </a:lnTo>
                    <a:lnTo>
                      <a:pt x="128" y="40"/>
                    </a:lnTo>
                    <a:lnTo>
                      <a:pt x="149" y="39"/>
                    </a:lnTo>
                    <a:lnTo>
                      <a:pt x="169" y="44"/>
                    </a:lnTo>
                    <a:lnTo>
                      <a:pt x="185" y="52"/>
                    </a:lnTo>
                    <a:lnTo>
                      <a:pt x="199" y="70"/>
                    </a:lnTo>
                    <a:lnTo>
                      <a:pt x="207" y="71"/>
                    </a:lnTo>
                    <a:lnTo>
                      <a:pt x="217" y="77"/>
                    </a:lnTo>
                    <a:lnTo>
                      <a:pt x="223" y="84"/>
                    </a:lnTo>
                    <a:lnTo>
                      <a:pt x="230" y="94"/>
                    </a:lnTo>
                    <a:lnTo>
                      <a:pt x="231" y="104"/>
                    </a:lnTo>
                    <a:lnTo>
                      <a:pt x="230" y="116"/>
                    </a:lnTo>
                    <a:lnTo>
                      <a:pt x="226" y="126"/>
                    </a:lnTo>
                    <a:lnTo>
                      <a:pt x="221" y="137"/>
                    </a:lnTo>
                    <a:lnTo>
                      <a:pt x="215" y="140"/>
                    </a:lnTo>
                    <a:lnTo>
                      <a:pt x="209" y="142"/>
                    </a:lnTo>
                    <a:lnTo>
                      <a:pt x="203" y="142"/>
                    </a:lnTo>
                    <a:lnTo>
                      <a:pt x="197" y="144"/>
                    </a:lnTo>
                    <a:lnTo>
                      <a:pt x="190" y="139"/>
                    </a:lnTo>
                    <a:lnTo>
                      <a:pt x="187" y="135"/>
                    </a:lnTo>
                    <a:lnTo>
                      <a:pt x="186" y="130"/>
                    </a:lnTo>
                    <a:lnTo>
                      <a:pt x="187" y="124"/>
                    </a:lnTo>
                    <a:lnTo>
                      <a:pt x="186" y="113"/>
                    </a:lnTo>
                    <a:lnTo>
                      <a:pt x="180" y="108"/>
                    </a:lnTo>
                    <a:lnTo>
                      <a:pt x="176" y="116"/>
                    </a:lnTo>
                    <a:lnTo>
                      <a:pt x="171" y="123"/>
                    </a:lnTo>
                    <a:lnTo>
                      <a:pt x="163" y="130"/>
                    </a:lnTo>
                    <a:lnTo>
                      <a:pt x="157" y="135"/>
                    </a:lnTo>
                    <a:lnTo>
                      <a:pt x="132" y="125"/>
                    </a:lnTo>
                    <a:lnTo>
                      <a:pt x="108" y="115"/>
                    </a:lnTo>
                    <a:lnTo>
                      <a:pt x="86" y="102"/>
                    </a:lnTo>
                    <a:lnTo>
                      <a:pt x="64" y="89"/>
                    </a:lnTo>
                    <a:lnTo>
                      <a:pt x="44" y="71"/>
                    </a:lnTo>
                    <a:lnTo>
                      <a:pt x="25" y="53"/>
                    </a:lnTo>
                    <a:lnTo>
                      <a:pt x="10" y="32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6" y="3"/>
                    </a:lnTo>
                    <a:lnTo>
                      <a:pt x="21" y="6"/>
                    </a:lnTo>
                    <a:lnTo>
                      <a:pt x="26" y="10"/>
                    </a:lnTo>
                    <a:lnTo>
                      <a:pt x="37" y="2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10040" y="498168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121" h="72">
                    <a:moveTo>
                      <a:pt x="121" y="20"/>
                    </a:moveTo>
                    <a:lnTo>
                      <a:pt x="119" y="29"/>
                    </a:lnTo>
                    <a:lnTo>
                      <a:pt x="116" y="39"/>
                    </a:lnTo>
                    <a:lnTo>
                      <a:pt x="109" y="45"/>
                    </a:lnTo>
                    <a:lnTo>
                      <a:pt x="102" y="53"/>
                    </a:lnTo>
                    <a:lnTo>
                      <a:pt x="92" y="57"/>
                    </a:lnTo>
                    <a:lnTo>
                      <a:pt x="84" y="62"/>
                    </a:lnTo>
                    <a:lnTo>
                      <a:pt x="75" y="67"/>
                    </a:lnTo>
                    <a:lnTo>
                      <a:pt x="67" y="72"/>
                    </a:lnTo>
                    <a:lnTo>
                      <a:pt x="58" y="70"/>
                    </a:lnTo>
                    <a:lnTo>
                      <a:pt x="48" y="69"/>
                    </a:lnTo>
                    <a:lnTo>
                      <a:pt x="38" y="68"/>
                    </a:lnTo>
                    <a:lnTo>
                      <a:pt x="29" y="67"/>
                    </a:lnTo>
                    <a:lnTo>
                      <a:pt x="19" y="63"/>
                    </a:lnTo>
                    <a:lnTo>
                      <a:pt x="12" y="60"/>
                    </a:lnTo>
                    <a:lnTo>
                      <a:pt x="4" y="55"/>
                    </a:lnTo>
                    <a:lnTo>
                      <a:pt x="0" y="49"/>
                    </a:lnTo>
                    <a:lnTo>
                      <a:pt x="6" y="44"/>
                    </a:lnTo>
                    <a:lnTo>
                      <a:pt x="14" y="39"/>
                    </a:lnTo>
                    <a:lnTo>
                      <a:pt x="10" y="33"/>
                    </a:lnTo>
                    <a:lnTo>
                      <a:pt x="9" y="29"/>
                    </a:lnTo>
                    <a:lnTo>
                      <a:pt x="18" y="26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6" y="9"/>
                    </a:lnTo>
                    <a:lnTo>
                      <a:pt x="55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4" y="4"/>
                    </a:lnTo>
                    <a:lnTo>
                      <a:pt x="89" y="4"/>
                    </a:lnTo>
                    <a:lnTo>
                      <a:pt x="95" y="4"/>
                    </a:lnTo>
                    <a:lnTo>
                      <a:pt x="101" y="4"/>
                    </a:lnTo>
                    <a:lnTo>
                      <a:pt x="107" y="5"/>
                    </a:lnTo>
                    <a:lnTo>
                      <a:pt x="112" y="6"/>
                    </a:lnTo>
                    <a:lnTo>
                      <a:pt x="116" y="10"/>
                    </a:lnTo>
                    <a:lnTo>
                      <a:pt x="118" y="13"/>
                    </a:lnTo>
                    <a:lnTo>
                      <a:pt x="121" y="2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613400" y="1889280"/>
              <a:ext cx="317520" cy="52200"/>
            </a:xfrm>
            <a:custGeom>
              <a:avLst/>
              <a:gdLst/>
              <a:ahLst/>
              <a:rect l="l" t="t" r="r" b="b"/>
              <a:pathLst>
                <a:path w="401" h="67">
                  <a:moveTo>
                    <a:pt x="282" y="40"/>
                  </a:moveTo>
                  <a:lnTo>
                    <a:pt x="288" y="45"/>
                  </a:lnTo>
                  <a:lnTo>
                    <a:pt x="299" y="46"/>
                  </a:lnTo>
                  <a:lnTo>
                    <a:pt x="310" y="46"/>
                  </a:lnTo>
                  <a:lnTo>
                    <a:pt x="321" y="51"/>
                  </a:lnTo>
                  <a:lnTo>
                    <a:pt x="327" y="49"/>
                  </a:lnTo>
                  <a:lnTo>
                    <a:pt x="334" y="52"/>
                  </a:lnTo>
                  <a:lnTo>
                    <a:pt x="340" y="54"/>
                  </a:lnTo>
                  <a:lnTo>
                    <a:pt x="347" y="57"/>
                  </a:lnTo>
                  <a:lnTo>
                    <a:pt x="353" y="58"/>
                  </a:lnTo>
                  <a:lnTo>
                    <a:pt x="359" y="60"/>
                  </a:lnTo>
                  <a:lnTo>
                    <a:pt x="367" y="60"/>
                  </a:lnTo>
                  <a:lnTo>
                    <a:pt x="377" y="60"/>
                  </a:lnTo>
                  <a:lnTo>
                    <a:pt x="380" y="66"/>
                  </a:lnTo>
                  <a:lnTo>
                    <a:pt x="386" y="67"/>
                  </a:lnTo>
                  <a:lnTo>
                    <a:pt x="394" y="66"/>
                  </a:lnTo>
                  <a:lnTo>
                    <a:pt x="401" y="67"/>
                  </a:lnTo>
                  <a:lnTo>
                    <a:pt x="392" y="67"/>
                  </a:lnTo>
                  <a:lnTo>
                    <a:pt x="382" y="67"/>
                  </a:lnTo>
                  <a:lnTo>
                    <a:pt x="371" y="66"/>
                  </a:lnTo>
                  <a:lnTo>
                    <a:pt x="361" y="64"/>
                  </a:lnTo>
                  <a:lnTo>
                    <a:pt x="349" y="62"/>
                  </a:lnTo>
                  <a:lnTo>
                    <a:pt x="338" y="62"/>
                  </a:lnTo>
                  <a:lnTo>
                    <a:pt x="326" y="60"/>
                  </a:lnTo>
                  <a:lnTo>
                    <a:pt x="316" y="60"/>
                  </a:lnTo>
                  <a:lnTo>
                    <a:pt x="277" y="53"/>
                  </a:lnTo>
                  <a:lnTo>
                    <a:pt x="238" y="46"/>
                  </a:lnTo>
                  <a:lnTo>
                    <a:pt x="199" y="40"/>
                  </a:lnTo>
                  <a:lnTo>
                    <a:pt x="160" y="34"/>
                  </a:lnTo>
                  <a:lnTo>
                    <a:pt x="122" y="27"/>
                  </a:lnTo>
                  <a:lnTo>
                    <a:pt x="83" y="20"/>
                  </a:lnTo>
                  <a:lnTo>
                    <a:pt x="45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3"/>
                  </a:lnTo>
                  <a:lnTo>
                    <a:pt x="109" y="7"/>
                  </a:lnTo>
                  <a:lnTo>
                    <a:pt x="144" y="14"/>
                  </a:lnTo>
                  <a:lnTo>
                    <a:pt x="178" y="20"/>
                  </a:lnTo>
                  <a:lnTo>
                    <a:pt x="212" y="27"/>
                  </a:lnTo>
                  <a:lnTo>
                    <a:pt x="246" y="33"/>
                  </a:lnTo>
                  <a:lnTo>
                    <a:pt x="28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2760" y="2832120"/>
              <a:ext cx="17640" cy="322200"/>
            </a:xfrm>
            <a:custGeom>
              <a:avLst/>
              <a:gdLst/>
              <a:ahLst/>
              <a:rect l="l" t="t" r="r" b="b"/>
              <a:pathLst>
                <a:path w="24" h="405">
                  <a:moveTo>
                    <a:pt x="10" y="124"/>
                  </a:moveTo>
                  <a:lnTo>
                    <a:pt x="14" y="115"/>
                  </a:lnTo>
                  <a:lnTo>
                    <a:pt x="13" y="104"/>
                  </a:lnTo>
                  <a:lnTo>
                    <a:pt x="12" y="92"/>
                  </a:lnTo>
                  <a:lnTo>
                    <a:pt x="14" y="83"/>
                  </a:lnTo>
                  <a:lnTo>
                    <a:pt x="13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7" y="56"/>
                  </a:lnTo>
                  <a:lnTo>
                    <a:pt x="18" y="48"/>
                  </a:lnTo>
                  <a:lnTo>
                    <a:pt x="20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23" y="42"/>
                  </a:lnTo>
                  <a:lnTo>
                    <a:pt x="23" y="52"/>
                  </a:lnTo>
                  <a:lnTo>
                    <a:pt x="23" y="64"/>
                  </a:lnTo>
                  <a:lnTo>
                    <a:pt x="23" y="75"/>
                  </a:lnTo>
                  <a:lnTo>
                    <a:pt x="24" y="87"/>
                  </a:lnTo>
                  <a:lnTo>
                    <a:pt x="22" y="126"/>
                  </a:lnTo>
                  <a:lnTo>
                    <a:pt x="21" y="164"/>
                  </a:lnTo>
                  <a:lnTo>
                    <a:pt x="20" y="203"/>
                  </a:lnTo>
                  <a:lnTo>
                    <a:pt x="20" y="243"/>
                  </a:lnTo>
                  <a:lnTo>
                    <a:pt x="17" y="282"/>
                  </a:lnTo>
                  <a:lnTo>
                    <a:pt x="16" y="320"/>
                  </a:lnTo>
                  <a:lnTo>
                    <a:pt x="14" y="359"/>
                  </a:lnTo>
                  <a:lnTo>
                    <a:pt x="12" y="399"/>
                  </a:lnTo>
                  <a:lnTo>
                    <a:pt x="8" y="405"/>
                  </a:lnTo>
                  <a:lnTo>
                    <a:pt x="2" y="368"/>
                  </a:lnTo>
                  <a:lnTo>
                    <a:pt x="1" y="332"/>
                  </a:lnTo>
                  <a:lnTo>
                    <a:pt x="0" y="297"/>
                  </a:lnTo>
                  <a:lnTo>
                    <a:pt x="2" y="262"/>
                  </a:lnTo>
                  <a:lnTo>
                    <a:pt x="4" y="227"/>
                  </a:lnTo>
                  <a:lnTo>
                    <a:pt x="7" y="193"/>
                  </a:lnTo>
                  <a:lnTo>
                    <a:pt x="9" y="158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920" y="1909800"/>
              <a:ext cx="325440" cy="44280"/>
            </a:xfrm>
            <a:custGeom>
              <a:avLst/>
              <a:gdLst/>
              <a:ahLst/>
              <a:rect l="l" t="t" r="r" b="b"/>
              <a:pathLst>
                <a:path w="410" h="56">
                  <a:moveTo>
                    <a:pt x="410" y="0"/>
                  </a:moveTo>
                  <a:lnTo>
                    <a:pt x="359" y="8"/>
                  </a:lnTo>
                  <a:lnTo>
                    <a:pt x="309" y="17"/>
                  </a:lnTo>
                  <a:lnTo>
                    <a:pt x="258" y="26"/>
                  </a:lnTo>
                  <a:lnTo>
                    <a:pt x="207" y="34"/>
                  </a:lnTo>
                  <a:lnTo>
                    <a:pt x="156" y="40"/>
                  </a:lnTo>
                  <a:lnTo>
                    <a:pt x="104" y="46"/>
                  </a:lnTo>
                  <a:lnTo>
                    <a:pt x="51" y="51"/>
                  </a:lnTo>
                  <a:lnTo>
                    <a:pt x="0" y="56"/>
                  </a:lnTo>
                  <a:lnTo>
                    <a:pt x="48" y="46"/>
                  </a:lnTo>
                  <a:lnTo>
                    <a:pt x="99" y="37"/>
                  </a:lnTo>
                  <a:lnTo>
                    <a:pt x="149" y="29"/>
                  </a:lnTo>
                  <a:lnTo>
                    <a:pt x="201" y="22"/>
                  </a:lnTo>
                  <a:lnTo>
                    <a:pt x="253" y="14"/>
                  </a:lnTo>
                  <a:lnTo>
                    <a:pt x="304" y="8"/>
                  </a:lnTo>
                  <a:lnTo>
                    <a:pt x="356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9280" y="1909800"/>
              <a:ext cx="2490480" cy="2494080"/>
            </a:xfrm>
            <a:custGeom>
              <a:avLst/>
              <a:gdLst/>
              <a:ahLst/>
              <a:rect l="l" t="t" r="r" b="b"/>
              <a:pathLst>
                <a:path w="3139" h="3141">
                  <a:moveTo>
                    <a:pt x="2236" y="110"/>
                  </a:moveTo>
                  <a:lnTo>
                    <a:pt x="2270" y="117"/>
                  </a:lnTo>
                  <a:lnTo>
                    <a:pt x="2306" y="126"/>
                  </a:lnTo>
                  <a:lnTo>
                    <a:pt x="2341" y="133"/>
                  </a:lnTo>
                  <a:lnTo>
                    <a:pt x="2377" y="142"/>
                  </a:lnTo>
                  <a:lnTo>
                    <a:pt x="2412" y="148"/>
                  </a:lnTo>
                  <a:lnTo>
                    <a:pt x="2449" y="156"/>
                  </a:lnTo>
                  <a:lnTo>
                    <a:pt x="2484" y="163"/>
                  </a:lnTo>
                  <a:lnTo>
                    <a:pt x="2521" y="172"/>
                  </a:lnTo>
                  <a:lnTo>
                    <a:pt x="2527" y="172"/>
                  </a:lnTo>
                  <a:lnTo>
                    <a:pt x="2537" y="172"/>
                  </a:lnTo>
                  <a:lnTo>
                    <a:pt x="2547" y="172"/>
                  </a:lnTo>
                  <a:lnTo>
                    <a:pt x="2556" y="176"/>
                  </a:lnTo>
                  <a:lnTo>
                    <a:pt x="2575" y="178"/>
                  </a:lnTo>
                  <a:lnTo>
                    <a:pt x="2594" y="184"/>
                  </a:lnTo>
                  <a:lnTo>
                    <a:pt x="2612" y="189"/>
                  </a:lnTo>
                  <a:lnTo>
                    <a:pt x="2632" y="196"/>
                  </a:lnTo>
                  <a:lnTo>
                    <a:pt x="2650" y="200"/>
                  </a:lnTo>
                  <a:lnTo>
                    <a:pt x="2669" y="204"/>
                  </a:lnTo>
                  <a:lnTo>
                    <a:pt x="2689" y="204"/>
                  </a:lnTo>
                  <a:lnTo>
                    <a:pt x="2711" y="203"/>
                  </a:lnTo>
                  <a:lnTo>
                    <a:pt x="2718" y="206"/>
                  </a:lnTo>
                  <a:lnTo>
                    <a:pt x="2729" y="207"/>
                  </a:lnTo>
                  <a:lnTo>
                    <a:pt x="2739" y="207"/>
                  </a:lnTo>
                  <a:lnTo>
                    <a:pt x="2751" y="209"/>
                  </a:lnTo>
                  <a:lnTo>
                    <a:pt x="2761" y="210"/>
                  </a:lnTo>
                  <a:lnTo>
                    <a:pt x="2768" y="214"/>
                  </a:lnTo>
                  <a:lnTo>
                    <a:pt x="2772" y="221"/>
                  </a:lnTo>
                  <a:lnTo>
                    <a:pt x="2772" y="235"/>
                  </a:lnTo>
                  <a:lnTo>
                    <a:pt x="2777" y="244"/>
                  </a:lnTo>
                  <a:lnTo>
                    <a:pt x="2787" y="249"/>
                  </a:lnTo>
                  <a:lnTo>
                    <a:pt x="2796" y="250"/>
                  </a:lnTo>
                  <a:lnTo>
                    <a:pt x="2807" y="252"/>
                  </a:lnTo>
                  <a:lnTo>
                    <a:pt x="2817" y="249"/>
                  </a:lnTo>
                  <a:lnTo>
                    <a:pt x="2828" y="247"/>
                  </a:lnTo>
                  <a:lnTo>
                    <a:pt x="2837" y="245"/>
                  </a:lnTo>
                  <a:lnTo>
                    <a:pt x="2848" y="246"/>
                  </a:lnTo>
                  <a:lnTo>
                    <a:pt x="2857" y="239"/>
                  </a:lnTo>
                  <a:lnTo>
                    <a:pt x="2866" y="237"/>
                  </a:lnTo>
                  <a:lnTo>
                    <a:pt x="2876" y="238"/>
                  </a:lnTo>
                  <a:lnTo>
                    <a:pt x="2887" y="241"/>
                  </a:lnTo>
                  <a:lnTo>
                    <a:pt x="2897" y="244"/>
                  </a:lnTo>
                  <a:lnTo>
                    <a:pt x="2907" y="247"/>
                  </a:lnTo>
                  <a:lnTo>
                    <a:pt x="2918" y="248"/>
                  </a:lnTo>
                  <a:lnTo>
                    <a:pt x="2931" y="248"/>
                  </a:lnTo>
                  <a:lnTo>
                    <a:pt x="2946" y="250"/>
                  </a:lnTo>
                  <a:lnTo>
                    <a:pt x="2962" y="257"/>
                  </a:lnTo>
                  <a:lnTo>
                    <a:pt x="2977" y="263"/>
                  </a:lnTo>
                  <a:lnTo>
                    <a:pt x="2993" y="271"/>
                  </a:lnTo>
                  <a:lnTo>
                    <a:pt x="3008" y="276"/>
                  </a:lnTo>
                  <a:lnTo>
                    <a:pt x="3026" y="281"/>
                  </a:lnTo>
                  <a:lnTo>
                    <a:pt x="3043" y="283"/>
                  </a:lnTo>
                  <a:lnTo>
                    <a:pt x="3063" y="282"/>
                  </a:lnTo>
                  <a:lnTo>
                    <a:pt x="3070" y="285"/>
                  </a:lnTo>
                  <a:lnTo>
                    <a:pt x="3076" y="288"/>
                  </a:lnTo>
                  <a:lnTo>
                    <a:pt x="3083" y="291"/>
                  </a:lnTo>
                  <a:lnTo>
                    <a:pt x="3090" y="297"/>
                  </a:lnTo>
                  <a:lnTo>
                    <a:pt x="3097" y="300"/>
                  </a:lnTo>
                  <a:lnTo>
                    <a:pt x="3103" y="305"/>
                  </a:lnTo>
                  <a:lnTo>
                    <a:pt x="3109" y="311"/>
                  </a:lnTo>
                  <a:lnTo>
                    <a:pt x="3115" y="318"/>
                  </a:lnTo>
                  <a:lnTo>
                    <a:pt x="3110" y="328"/>
                  </a:lnTo>
                  <a:lnTo>
                    <a:pt x="3110" y="339"/>
                  </a:lnTo>
                  <a:lnTo>
                    <a:pt x="3113" y="348"/>
                  </a:lnTo>
                  <a:lnTo>
                    <a:pt x="3118" y="359"/>
                  </a:lnTo>
                  <a:lnTo>
                    <a:pt x="3121" y="368"/>
                  </a:lnTo>
                  <a:lnTo>
                    <a:pt x="3123" y="376"/>
                  </a:lnTo>
                  <a:lnTo>
                    <a:pt x="3118" y="386"/>
                  </a:lnTo>
                  <a:lnTo>
                    <a:pt x="3109" y="397"/>
                  </a:lnTo>
                  <a:lnTo>
                    <a:pt x="3109" y="457"/>
                  </a:lnTo>
                  <a:lnTo>
                    <a:pt x="3106" y="517"/>
                  </a:lnTo>
                  <a:lnTo>
                    <a:pt x="3101" y="578"/>
                  </a:lnTo>
                  <a:lnTo>
                    <a:pt x="3096" y="638"/>
                  </a:lnTo>
                  <a:lnTo>
                    <a:pt x="3087" y="698"/>
                  </a:lnTo>
                  <a:lnTo>
                    <a:pt x="3079" y="758"/>
                  </a:lnTo>
                  <a:lnTo>
                    <a:pt x="3073" y="819"/>
                  </a:lnTo>
                  <a:lnTo>
                    <a:pt x="3068" y="879"/>
                  </a:lnTo>
                  <a:lnTo>
                    <a:pt x="3067" y="888"/>
                  </a:lnTo>
                  <a:lnTo>
                    <a:pt x="3068" y="899"/>
                  </a:lnTo>
                  <a:lnTo>
                    <a:pt x="3069" y="909"/>
                  </a:lnTo>
                  <a:lnTo>
                    <a:pt x="3072" y="920"/>
                  </a:lnTo>
                  <a:lnTo>
                    <a:pt x="3073" y="929"/>
                  </a:lnTo>
                  <a:lnTo>
                    <a:pt x="3073" y="940"/>
                  </a:lnTo>
                  <a:lnTo>
                    <a:pt x="3072" y="950"/>
                  </a:lnTo>
                  <a:lnTo>
                    <a:pt x="3069" y="962"/>
                  </a:lnTo>
                  <a:lnTo>
                    <a:pt x="3070" y="1006"/>
                  </a:lnTo>
                  <a:lnTo>
                    <a:pt x="3069" y="1050"/>
                  </a:lnTo>
                  <a:lnTo>
                    <a:pt x="3065" y="1094"/>
                  </a:lnTo>
                  <a:lnTo>
                    <a:pt x="3061" y="1139"/>
                  </a:lnTo>
                  <a:lnTo>
                    <a:pt x="3056" y="1183"/>
                  </a:lnTo>
                  <a:lnTo>
                    <a:pt x="3053" y="1228"/>
                  </a:lnTo>
                  <a:lnTo>
                    <a:pt x="3051" y="1272"/>
                  </a:lnTo>
                  <a:lnTo>
                    <a:pt x="3055" y="1318"/>
                  </a:lnTo>
                  <a:lnTo>
                    <a:pt x="3049" y="1393"/>
                  </a:lnTo>
                  <a:lnTo>
                    <a:pt x="3046" y="1468"/>
                  </a:lnTo>
                  <a:lnTo>
                    <a:pt x="3045" y="1544"/>
                  </a:lnTo>
                  <a:lnTo>
                    <a:pt x="3044" y="1620"/>
                  </a:lnTo>
                  <a:lnTo>
                    <a:pt x="3042" y="1694"/>
                  </a:lnTo>
                  <a:lnTo>
                    <a:pt x="3039" y="1771"/>
                  </a:lnTo>
                  <a:lnTo>
                    <a:pt x="3032" y="1847"/>
                  </a:lnTo>
                  <a:lnTo>
                    <a:pt x="3024" y="1925"/>
                  </a:lnTo>
                  <a:lnTo>
                    <a:pt x="3020" y="1967"/>
                  </a:lnTo>
                  <a:lnTo>
                    <a:pt x="3019" y="2010"/>
                  </a:lnTo>
                  <a:lnTo>
                    <a:pt x="3019" y="2052"/>
                  </a:lnTo>
                  <a:lnTo>
                    <a:pt x="3020" y="2095"/>
                  </a:lnTo>
                  <a:lnTo>
                    <a:pt x="3020" y="2136"/>
                  </a:lnTo>
                  <a:lnTo>
                    <a:pt x="3022" y="2178"/>
                  </a:lnTo>
                  <a:lnTo>
                    <a:pt x="3025" y="2220"/>
                  </a:lnTo>
                  <a:lnTo>
                    <a:pt x="3028" y="2262"/>
                  </a:lnTo>
                  <a:lnTo>
                    <a:pt x="3029" y="2275"/>
                  </a:lnTo>
                  <a:lnTo>
                    <a:pt x="3030" y="2288"/>
                  </a:lnTo>
                  <a:lnTo>
                    <a:pt x="3032" y="2301"/>
                  </a:lnTo>
                  <a:lnTo>
                    <a:pt x="3035" y="2314"/>
                  </a:lnTo>
                  <a:lnTo>
                    <a:pt x="3039" y="2325"/>
                  </a:lnTo>
                  <a:lnTo>
                    <a:pt x="3044" y="2336"/>
                  </a:lnTo>
                  <a:lnTo>
                    <a:pt x="3051" y="2347"/>
                  </a:lnTo>
                  <a:lnTo>
                    <a:pt x="3063" y="2359"/>
                  </a:lnTo>
                  <a:lnTo>
                    <a:pt x="3074" y="2358"/>
                  </a:lnTo>
                  <a:lnTo>
                    <a:pt x="3086" y="2361"/>
                  </a:lnTo>
                  <a:lnTo>
                    <a:pt x="3096" y="2365"/>
                  </a:lnTo>
                  <a:lnTo>
                    <a:pt x="3105" y="2373"/>
                  </a:lnTo>
                  <a:lnTo>
                    <a:pt x="3113" y="2379"/>
                  </a:lnTo>
                  <a:lnTo>
                    <a:pt x="3120" y="2389"/>
                  </a:lnTo>
                  <a:lnTo>
                    <a:pt x="3127" y="2399"/>
                  </a:lnTo>
                  <a:lnTo>
                    <a:pt x="3133" y="2409"/>
                  </a:lnTo>
                  <a:lnTo>
                    <a:pt x="3137" y="2419"/>
                  </a:lnTo>
                  <a:lnTo>
                    <a:pt x="3139" y="2431"/>
                  </a:lnTo>
                  <a:lnTo>
                    <a:pt x="3139" y="2444"/>
                  </a:lnTo>
                  <a:lnTo>
                    <a:pt x="3139" y="2457"/>
                  </a:lnTo>
                  <a:lnTo>
                    <a:pt x="3137" y="2469"/>
                  </a:lnTo>
                  <a:lnTo>
                    <a:pt x="3135" y="2482"/>
                  </a:lnTo>
                  <a:lnTo>
                    <a:pt x="3133" y="2495"/>
                  </a:lnTo>
                  <a:lnTo>
                    <a:pt x="3133" y="2509"/>
                  </a:lnTo>
                  <a:lnTo>
                    <a:pt x="3132" y="2515"/>
                  </a:lnTo>
                  <a:lnTo>
                    <a:pt x="3128" y="2521"/>
                  </a:lnTo>
                  <a:lnTo>
                    <a:pt x="3121" y="2528"/>
                  </a:lnTo>
                  <a:lnTo>
                    <a:pt x="3117" y="2535"/>
                  </a:lnTo>
                  <a:lnTo>
                    <a:pt x="3109" y="2537"/>
                  </a:lnTo>
                  <a:lnTo>
                    <a:pt x="3100" y="2539"/>
                  </a:lnTo>
                  <a:lnTo>
                    <a:pt x="3091" y="2540"/>
                  </a:lnTo>
                  <a:lnTo>
                    <a:pt x="3083" y="2542"/>
                  </a:lnTo>
                  <a:lnTo>
                    <a:pt x="3074" y="2543"/>
                  </a:lnTo>
                  <a:lnTo>
                    <a:pt x="3065" y="2544"/>
                  </a:lnTo>
                  <a:lnTo>
                    <a:pt x="3057" y="2545"/>
                  </a:lnTo>
                  <a:lnTo>
                    <a:pt x="3050" y="2547"/>
                  </a:lnTo>
                  <a:lnTo>
                    <a:pt x="3043" y="2552"/>
                  </a:lnTo>
                  <a:lnTo>
                    <a:pt x="3036" y="2556"/>
                  </a:lnTo>
                  <a:lnTo>
                    <a:pt x="3029" y="2559"/>
                  </a:lnTo>
                  <a:lnTo>
                    <a:pt x="3022" y="2562"/>
                  </a:lnTo>
                  <a:lnTo>
                    <a:pt x="3015" y="2566"/>
                  </a:lnTo>
                  <a:lnTo>
                    <a:pt x="3011" y="2571"/>
                  </a:lnTo>
                  <a:lnTo>
                    <a:pt x="3006" y="2576"/>
                  </a:lnTo>
                  <a:lnTo>
                    <a:pt x="3005" y="2585"/>
                  </a:lnTo>
                  <a:lnTo>
                    <a:pt x="3003" y="2600"/>
                  </a:lnTo>
                  <a:lnTo>
                    <a:pt x="3002" y="2617"/>
                  </a:lnTo>
                  <a:lnTo>
                    <a:pt x="3000" y="2634"/>
                  </a:lnTo>
                  <a:lnTo>
                    <a:pt x="2997" y="2653"/>
                  </a:lnTo>
                  <a:lnTo>
                    <a:pt x="2990" y="2668"/>
                  </a:lnTo>
                  <a:lnTo>
                    <a:pt x="2982" y="2684"/>
                  </a:lnTo>
                  <a:lnTo>
                    <a:pt x="2970" y="2696"/>
                  </a:lnTo>
                  <a:lnTo>
                    <a:pt x="2956" y="2707"/>
                  </a:lnTo>
                  <a:lnTo>
                    <a:pt x="2942" y="2697"/>
                  </a:lnTo>
                  <a:lnTo>
                    <a:pt x="2930" y="2687"/>
                  </a:lnTo>
                  <a:lnTo>
                    <a:pt x="2919" y="2675"/>
                  </a:lnTo>
                  <a:lnTo>
                    <a:pt x="2912" y="2662"/>
                  </a:lnTo>
                  <a:lnTo>
                    <a:pt x="2904" y="2647"/>
                  </a:lnTo>
                  <a:lnTo>
                    <a:pt x="2899" y="2633"/>
                  </a:lnTo>
                  <a:lnTo>
                    <a:pt x="2894" y="2618"/>
                  </a:lnTo>
                  <a:lnTo>
                    <a:pt x="2893" y="2603"/>
                  </a:lnTo>
                  <a:lnTo>
                    <a:pt x="2867" y="2598"/>
                  </a:lnTo>
                  <a:lnTo>
                    <a:pt x="2843" y="2596"/>
                  </a:lnTo>
                  <a:lnTo>
                    <a:pt x="2818" y="2592"/>
                  </a:lnTo>
                  <a:lnTo>
                    <a:pt x="2793" y="2589"/>
                  </a:lnTo>
                  <a:lnTo>
                    <a:pt x="2768" y="2583"/>
                  </a:lnTo>
                  <a:lnTo>
                    <a:pt x="2748" y="2573"/>
                  </a:lnTo>
                  <a:lnTo>
                    <a:pt x="2730" y="2559"/>
                  </a:lnTo>
                  <a:lnTo>
                    <a:pt x="2716" y="2541"/>
                  </a:lnTo>
                  <a:lnTo>
                    <a:pt x="2715" y="2534"/>
                  </a:lnTo>
                  <a:lnTo>
                    <a:pt x="2714" y="2529"/>
                  </a:lnTo>
                  <a:lnTo>
                    <a:pt x="2681" y="2538"/>
                  </a:lnTo>
                  <a:lnTo>
                    <a:pt x="2652" y="2549"/>
                  </a:lnTo>
                  <a:lnTo>
                    <a:pt x="2622" y="2565"/>
                  </a:lnTo>
                  <a:lnTo>
                    <a:pt x="2594" y="2582"/>
                  </a:lnTo>
                  <a:lnTo>
                    <a:pt x="2565" y="2598"/>
                  </a:lnTo>
                  <a:lnTo>
                    <a:pt x="2536" y="2614"/>
                  </a:lnTo>
                  <a:lnTo>
                    <a:pt x="2506" y="2627"/>
                  </a:lnTo>
                  <a:lnTo>
                    <a:pt x="2476" y="2639"/>
                  </a:lnTo>
                  <a:lnTo>
                    <a:pt x="2446" y="2650"/>
                  </a:lnTo>
                  <a:lnTo>
                    <a:pt x="2417" y="2661"/>
                  </a:lnTo>
                  <a:lnTo>
                    <a:pt x="2388" y="2673"/>
                  </a:lnTo>
                  <a:lnTo>
                    <a:pt x="2358" y="2686"/>
                  </a:lnTo>
                  <a:lnTo>
                    <a:pt x="2328" y="2698"/>
                  </a:lnTo>
                  <a:lnTo>
                    <a:pt x="2299" y="2710"/>
                  </a:lnTo>
                  <a:lnTo>
                    <a:pt x="2269" y="2722"/>
                  </a:lnTo>
                  <a:lnTo>
                    <a:pt x="2240" y="2733"/>
                  </a:lnTo>
                  <a:lnTo>
                    <a:pt x="2231" y="2739"/>
                  </a:lnTo>
                  <a:lnTo>
                    <a:pt x="2223" y="2744"/>
                  </a:lnTo>
                  <a:lnTo>
                    <a:pt x="2218" y="2745"/>
                  </a:lnTo>
                  <a:lnTo>
                    <a:pt x="2213" y="2747"/>
                  </a:lnTo>
                  <a:lnTo>
                    <a:pt x="2208" y="2747"/>
                  </a:lnTo>
                  <a:lnTo>
                    <a:pt x="2202" y="2748"/>
                  </a:lnTo>
                  <a:lnTo>
                    <a:pt x="2183" y="2757"/>
                  </a:lnTo>
                  <a:lnTo>
                    <a:pt x="2165" y="2767"/>
                  </a:lnTo>
                  <a:lnTo>
                    <a:pt x="2145" y="2776"/>
                  </a:lnTo>
                  <a:lnTo>
                    <a:pt x="2127" y="2787"/>
                  </a:lnTo>
                  <a:lnTo>
                    <a:pt x="2108" y="2797"/>
                  </a:lnTo>
                  <a:lnTo>
                    <a:pt x="2088" y="2807"/>
                  </a:lnTo>
                  <a:lnTo>
                    <a:pt x="2070" y="2816"/>
                  </a:lnTo>
                  <a:lnTo>
                    <a:pt x="2052" y="2827"/>
                  </a:lnTo>
                  <a:lnTo>
                    <a:pt x="2045" y="2830"/>
                  </a:lnTo>
                  <a:lnTo>
                    <a:pt x="2040" y="2833"/>
                  </a:lnTo>
                  <a:lnTo>
                    <a:pt x="2033" y="2837"/>
                  </a:lnTo>
                  <a:lnTo>
                    <a:pt x="2028" y="2841"/>
                  </a:lnTo>
                  <a:lnTo>
                    <a:pt x="2016" y="2847"/>
                  </a:lnTo>
                  <a:lnTo>
                    <a:pt x="2007" y="2855"/>
                  </a:lnTo>
                  <a:lnTo>
                    <a:pt x="2001" y="2872"/>
                  </a:lnTo>
                  <a:lnTo>
                    <a:pt x="1996" y="2892"/>
                  </a:lnTo>
                  <a:lnTo>
                    <a:pt x="1987" y="2909"/>
                  </a:lnTo>
                  <a:lnTo>
                    <a:pt x="1978" y="2927"/>
                  </a:lnTo>
                  <a:lnTo>
                    <a:pt x="1965" y="2942"/>
                  </a:lnTo>
                  <a:lnTo>
                    <a:pt x="1951" y="2955"/>
                  </a:lnTo>
                  <a:lnTo>
                    <a:pt x="1934" y="2965"/>
                  </a:lnTo>
                  <a:lnTo>
                    <a:pt x="1917" y="2971"/>
                  </a:lnTo>
                  <a:lnTo>
                    <a:pt x="1908" y="2977"/>
                  </a:lnTo>
                  <a:lnTo>
                    <a:pt x="1898" y="2980"/>
                  </a:lnTo>
                  <a:lnTo>
                    <a:pt x="1887" y="2982"/>
                  </a:lnTo>
                  <a:lnTo>
                    <a:pt x="1877" y="2985"/>
                  </a:lnTo>
                  <a:lnTo>
                    <a:pt x="1867" y="2986"/>
                  </a:lnTo>
                  <a:lnTo>
                    <a:pt x="1857" y="2991"/>
                  </a:lnTo>
                  <a:lnTo>
                    <a:pt x="1848" y="2998"/>
                  </a:lnTo>
                  <a:lnTo>
                    <a:pt x="1843" y="3009"/>
                  </a:lnTo>
                  <a:lnTo>
                    <a:pt x="1839" y="3026"/>
                  </a:lnTo>
                  <a:lnTo>
                    <a:pt x="1834" y="3044"/>
                  </a:lnTo>
                  <a:lnTo>
                    <a:pt x="1829" y="3060"/>
                  </a:lnTo>
                  <a:lnTo>
                    <a:pt x="1824" y="3078"/>
                  </a:lnTo>
                  <a:lnTo>
                    <a:pt x="1816" y="3094"/>
                  </a:lnTo>
                  <a:lnTo>
                    <a:pt x="1808" y="3110"/>
                  </a:lnTo>
                  <a:lnTo>
                    <a:pt x="1798" y="3125"/>
                  </a:lnTo>
                  <a:lnTo>
                    <a:pt x="1789" y="3141"/>
                  </a:lnTo>
                  <a:lnTo>
                    <a:pt x="1763" y="3130"/>
                  </a:lnTo>
                  <a:lnTo>
                    <a:pt x="1750" y="3113"/>
                  </a:lnTo>
                  <a:lnTo>
                    <a:pt x="1744" y="3091"/>
                  </a:lnTo>
                  <a:lnTo>
                    <a:pt x="1743" y="3067"/>
                  </a:lnTo>
                  <a:lnTo>
                    <a:pt x="1741" y="3040"/>
                  </a:lnTo>
                  <a:lnTo>
                    <a:pt x="1739" y="3016"/>
                  </a:lnTo>
                  <a:lnTo>
                    <a:pt x="1729" y="2995"/>
                  </a:lnTo>
                  <a:lnTo>
                    <a:pt x="1713" y="2980"/>
                  </a:lnTo>
                  <a:lnTo>
                    <a:pt x="1690" y="2969"/>
                  </a:lnTo>
                  <a:lnTo>
                    <a:pt x="1671" y="2956"/>
                  </a:lnTo>
                  <a:lnTo>
                    <a:pt x="1651" y="2940"/>
                  </a:lnTo>
                  <a:lnTo>
                    <a:pt x="1635" y="2923"/>
                  </a:lnTo>
                  <a:lnTo>
                    <a:pt x="1621" y="2902"/>
                  </a:lnTo>
                  <a:lnTo>
                    <a:pt x="1612" y="2881"/>
                  </a:lnTo>
                  <a:lnTo>
                    <a:pt x="1605" y="2857"/>
                  </a:lnTo>
                  <a:lnTo>
                    <a:pt x="1605" y="2832"/>
                  </a:lnTo>
                  <a:lnTo>
                    <a:pt x="1610" y="2822"/>
                  </a:lnTo>
                  <a:lnTo>
                    <a:pt x="1614" y="2816"/>
                  </a:lnTo>
                  <a:lnTo>
                    <a:pt x="1617" y="2813"/>
                  </a:lnTo>
                  <a:lnTo>
                    <a:pt x="1620" y="2810"/>
                  </a:lnTo>
                  <a:lnTo>
                    <a:pt x="1618" y="2802"/>
                  </a:lnTo>
                  <a:lnTo>
                    <a:pt x="1615" y="2790"/>
                  </a:lnTo>
                  <a:lnTo>
                    <a:pt x="1607" y="2770"/>
                  </a:lnTo>
                  <a:lnTo>
                    <a:pt x="1597" y="2740"/>
                  </a:lnTo>
                  <a:lnTo>
                    <a:pt x="1586" y="2734"/>
                  </a:lnTo>
                  <a:lnTo>
                    <a:pt x="1576" y="2730"/>
                  </a:lnTo>
                  <a:lnTo>
                    <a:pt x="1566" y="2725"/>
                  </a:lnTo>
                  <a:lnTo>
                    <a:pt x="1558" y="2722"/>
                  </a:lnTo>
                  <a:lnTo>
                    <a:pt x="1527" y="2707"/>
                  </a:lnTo>
                  <a:lnTo>
                    <a:pt x="1458" y="2672"/>
                  </a:lnTo>
                  <a:lnTo>
                    <a:pt x="1364" y="2626"/>
                  </a:lnTo>
                  <a:lnTo>
                    <a:pt x="1258" y="2575"/>
                  </a:lnTo>
                  <a:lnTo>
                    <a:pt x="1151" y="2525"/>
                  </a:lnTo>
                  <a:lnTo>
                    <a:pt x="1059" y="2481"/>
                  </a:lnTo>
                  <a:lnTo>
                    <a:pt x="992" y="2450"/>
                  </a:lnTo>
                  <a:lnTo>
                    <a:pt x="964" y="2442"/>
                  </a:lnTo>
                  <a:lnTo>
                    <a:pt x="934" y="2428"/>
                  </a:lnTo>
                  <a:lnTo>
                    <a:pt x="905" y="2414"/>
                  </a:lnTo>
                  <a:lnTo>
                    <a:pt x="877" y="2399"/>
                  </a:lnTo>
                  <a:lnTo>
                    <a:pt x="850" y="2385"/>
                  </a:lnTo>
                  <a:lnTo>
                    <a:pt x="821" y="2369"/>
                  </a:lnTo>
                  <a:lnTo>
                    <a:pt x="794" y="2354"/>
                  </a:lnTo>
                  <a:lnTo>
                    <a:pt x="767" y="2338"/>
                  </a:lnTo>
                  <a:lnTo>
                    <a:pt x="740" y="2322"/>
                  </a:lnTo>
                  <a:lnTo>
                    <a:pt x="723" y="2314"/>
                  </a:lnTo>
                  <a:lnTo>
                    <a:pt x="706" y="2308"/>
                  </a:lnTo>
                  <a:lnTo>
                    <a:pt x="687" y="2303"/>
                  </a:lnTo>
                  <a:lnTo>
                    <a:pt x="670" y="2299"/>
                  </a:lnTo>
                  <a:lnTo>
                    <a:pt x="652" y="2291"/>
                  </a:lnTo>
                  <a:lnTo>
                    <a:pt x="636" y="2285"/>
                  </a:lnTo>
                  <a:lnTo>
                    <a:pt x="619" y="2275"/>
                  </a:lnTo>
                  <a:lnTo>
                    <a:pt x="608" y="2262"/>
                  </a:lnTo>
                  <a:lnTo>
                    <a:pt x="583" y="2249"/>
                  </a:lnTo>
                  <a:lnTo>
                    <a:pt x="560" y="2236"/>
                  </a:lnTo>
                  <a:lnTo>
                    <a:pt x="537" y="2223"/>
                  </a:lnTo>
                  <a:lnTo>
                    <a:pt x="514" y="2212"/>
                  </a:lnTo>
                  <a:lnTo>
                    <a:pt x="489" y="2199"/>
                  </a:lnTo>
                  <a:lnTo>
                    <a:pt x="466" y="2188"/>
                  </a:lnTo>
                  <a:lnTo>
                    <a:pt x="440" y="2179"/>
                  </a:lnTo>
                  <a:lnTo>
                    <a:pt x="414" y="2175"/>
                  </a:lnTo>
                  <a:lnTo>
                    <a:pt x="405" y="2174"/>
                  </a:lnTo>
                  <a:lnTo>
                    <a:pt x="399" y="2176"/>
                  </a:lnTo>
                  <a:lnTo>
                    <a:pt x="392" y="2179"/>
                  </a:lnTo>
                  <a:lnTo>
                    <a:pt x="387" y="2186"/>
                  </a:lnTo>
                  <a:lnTo>
                    <a:pt x="387" y="2196"/>
                  </a:lnTo>
                  <a:lnTo>
                    <a:pt x="375" y="2196"/>
                  </a:lnTo>
                  <a:lnTo>
                    <a:pt x="366" y="2197"/>
                  </a:lnTo>
                  <a:lnTo>
                    <a:pt x="356" y="2201"/>
                  </a:lnTo>
                  <a:lnTo>
                    <a:pt x="349" y="2208"/>
                  </a:lnTo>
                  <a:lnTo>
                    <a:pt x="362" y="2229"/>
                  </a:lnTo>
                  <a:lnTo>
                    <a:pt x="353" y="2231"/>
                  </a:lnTo>
                  <a:lnTo>
                    <a:pt x="346" y="2234"/>
                  </a:lnTo>
                  <a:lnTo>
                    <a:pt x="340" y="2237"/>
                  </a:lnTo>
                  <a:lnTo>
                    <a:pt x="333" y="2243"/>
                  </a:lnTo>
                  <a:lnTo>
                    <a:pt x="326" y="2246"/>
                  </a:lnTo>
                  <a:lnTo>
                    <a:pt x="318" y="2249"/>
                  </a:lnTo>
                  <a:lnTo>
                    <a:pt x="311" y="2251"/>
                  </a:lnTo>
                  <a:lnTo>
                    <a:pt x="304" y="2251"/>
                  </a:lnTo>
                  <a:lnTo>
                    <a:pt x="292" y="2254"/>
                  </a:lnTo>
                  <a:lnTo>
                    <a:pt x="283" y="2256"/>
                  </a:lnTo>
                  <a:lnTo>
                    <a:pt x="272" y="2259"/>
                  </a:lnTo>
                  <a:lnTo>
                    <a:pt x="262" y="2264"/>
                  </a:lnTo>
                  <a:lnTo>
                    <a:pt x="253" y="2269"/>
                  </a:lnTo>
                  <a:lnTo>
                    <a:pt x="246" y="2276"/>
                  </a:lnTo>
                  <a:lnTo>
                    <a:pt x="240" y="2285"/>
                  </a:lnTo>
                  <a:lnTo>
                    <a:pt x="237" y="2296"/>
                  </a:lnTo>
                  <a:lnTo>
                    <a:pt x="233" y="2310"/>
                  </a:lnTo>
                  <a:lnTo>
                    <a:pt x="233" y="2327"/>
                  </a:lnTo>
                  <a:lnTo>
                    <a:pt x="233" y="2345"/>
                  </a:lnTo>
                  <a:lnTo>
                    <a:pt x="233" y="2363"/>
                  </a:lnTo>
                  <a:lnTo>
                    <a:pt x="231" y="2379"/>
                  </a:lnTo>
                  <a:lnTo>
                    <a:pt x="226" y="2397"/>
                  </a:lnTo>
                  <a:lnTo>
                    <a:pt x="216" y="2410"/>
                  </a:lnTo>
                  <a:lnTo>
                    <a:pt x="201" y="2421"/>
                  </a:lnTo>
                  <a:lnTo>
                    <a:pt x="191" y="2421"/>
                  </a:lnTo>
                  <a:lnTo>
                    <a:pt x="182" y="2421"/>
                  </a:lnTo>
                  <a:lnTo>
                    <a:pt x="172" y="2420"/>
                  </a:lnTo>
                  <a:lnTo>
                    <a:pt x="164" y="2418"/>
                  </a:lnTo>
                  <a:lnTo>
                    <a:pt x="156" y="2414"/>
                  </a:lnTo>
                  <a:lnTo>
                    <a:pt x="149" y="2410"/>
                  </a:lnTo>
                  <a:lnTo>
                    <a:pt x="144" y="2402"/>
                  </a:lnTo>
                  <a:lnTo>
                    <a:pt x="141" y="2395"/>
                  </a:lnTo>
                  <a:lnTo>
                    <a:pt x="135" y="2373"/>
                  </a:lnTo>
                  <a:lnTo>
                    <a:pt x="134" y="2353"/>
                  </a:lnTo>
                  <a:lnTo>
                    <a:pt x="133" y="2330"/>
                  </a:lnTo>
                  <a:lnTo>
                    <a:pt x="132" y="2310"/>
                  </a:lnTo>
                  <a:lnTo>
                    <a:pt x="128" y="2288"/>
                  </a:lnTo>
                  <a:lnTo>
                    <a:pt x="120" y="2271"/>
                  </a:lnTo>
                  <a:lnTo>
                    <a:pt x="107" y="2255"/>
                  </a:lnTo>
                  <a:lnTo>
                    <a:pt x="89" y="2244"/>
                  </a:lnTo>
                  <a:lnTo>
                    <a:pt x="74" y="2236"/>
                  </a:lnTo>
                  <a:lnTo>
                    <a:pt x="62" y="2227"/>
                  </a:lnTo>
                  <a:lnTo>
                    <a:pt x="49" y="2216"/>
                  </a:lnTo>
                  <a:lnTo>
                    <a:pt x="39" y="2204"/>
                  </a:lnTo>
                  <a:lnTo>
                    <a:pt x="29" y="2191"/>
                  </a:lnTo>
                  <a:lnTo>
                    <a:pt x="20" y="2178"/>
                  </a:lnTo>
                  <a:lnTo>
                    <a:pt x="10" y="2164"/>
                  </a:lnTo>
                  <a:lnTo>
                    <a:pt x="4" y="2152"/>
                  </a:lnTo>
                  <a:lnTo>
                    <a:pt x="0" y="2134"/>
                  </a:lnTo>
                  <a:lnTo>
                    <a:pt x="0" y="2117"/>
                  </a:lnTo>
                  <a:lnTo>
                    <a:pt x="1" y="2100"/>
                  </a:lnTo>
                  <a:lnTo>
                    <a:pt x="5" y="2083"/>
                  </a:lnTo>
                  <a:lnTo>
                    <a:pt x="9" y="2065"/>
                  </a:lnTo>
                  <a:lnTo>
                    <a:pt x="17" y="2049"/>
                  </a:lnTo>
                  <a:lnTo>
                    <a:pt x="23" y="2033"/>
                  </a:lnTo>
                  <a:lnTo>
                    <a:pt x="33" y="2020"/>
                  </a:lnTo>
                  <a:lnTo>
                    <a:pt x="41" y="2016"/>
                  </a:lnTo>
                  <a:lnTo>
                    <a:pt x="50" y="2013"/>
                  </a:lnTo>
                  <a:lnTo>
                    <a:pt x="59" y="2008"/>
                  </a:lnTo>
                  <a:lnTo>
                    <a:pt x="67" y="2005"/>
                  </a:lnTo>
                  <a:lnTo>
                    <a:pt x="75" y="2001"/>
                  </a:lnTo>
                  <a:lnTo>
                    <a:pt x="84" y="1995"/>
                  </a:lnTo>
                  <a:lnTo>
                    <a:pt x="90" y="1989"/>
                  </a:lnTo>
                  <a:lnTo>
                    <a:pt x="98" y="1981"/>
                  </a:lnTo>
                  <a:lnTo>
                    <a:pt x="100" y="1974"/>
                  </a:lnTo>
                  <a:lnTo>
                    <a:pt x="103" y="1967"/>
                  </a:lnTo>
                  <a:lnTo>
                    <a:pt x="105" y="1961"/>
                  </a:lnTo>
                  <a:lnTo>
                    <a:pt x="107" y="1955"/>
                  </a:lnTo>
                  <a:lnTo>
                    <a:pt x="109" y="1947"/>
                  </a:lnTo>
                  <a:lnTo>
                    <a:pt x="113" y="1942"/>
                  </a:lnTo>
                  <a:lnTo>
                    <a:pt x="117" y="1936"/>
                  </a:lnTo>
                  <a:lnTo>
                    <a:pt x="124" y="1933"/>
                  </a:lnTo>
                  <a:lnTo>
                    <a:pt x="130" y="1933"/>
                  </a:lnTo>
                  <a:lnTo>
                    <a:pt x="137" y="1933"/>
                  </a:lnTo>
                  <a:lnTo>
                    <a:pt x="144" y="1932"/>
                  </a:lnTo>
                  <a:lnTo>
                    <a:pt x="147" y="1928"/>
                  </a:lnTo>
                  <a:lnTo>
                    <a:pt x="146" y="1890"/>
                  </a:lnTo>
                  <a:lnTo>
                    <a:pt x="146" y="1852"/>
                  </a:lnTo>
                  <a:lnTo>
                    <a:pt x="144" y="1814"/>
                  </a:lnTo>
                  <a:lnTo>
                    <a:pt x="143" y="1776"/>
                  </a:lnTo>
                  <a:lnTo>
                    <a:pt x="141" y="1736"/>
                  </a:lnTo>
                  <a:lnTo>
                    <a:pt x="138" y="1696"/>
                  </a:lnTo>
                  <a:lnTo>
                    <a:pt x="135" y="1654"/>
                  </a:lnTo>
                  <a:lnTo>
                    <a:pt x="132" y="1612"/>
                  </a:lnTo>
                  <a:lnTo>
                    <a:pt x="129" y="1579"/>
                  </a:lnTo>
                  <a:lnTo>
                    <a:pt x="127" y="1545"/>
                  </a:lnTo>
                  <a:lnTo>
                    <a:pt x="123" y="1510"/>
                  </a:lnTo>
                  <a:lnTo>
                    <a:pt x="122" y="1477"/>
                  </a:lnTo>
                  <a:lnTo>
                    <a:pt x="119" y="1442"/>
                  </a:lnTo>
                  <a:lnTo>
                    <a:pt x="119" y="1411"/>
                  </a:lnTo>
                  <a:lnTo>
                    <a:pt x="118" y="1382"/>
                  </a:lnTo>
                  <a:lnTo>
                    <a:pt x="120" y="1356"/>
                  </a:lnTo>
                  <a:lnTo>
                    <a:pt x="122" y="1322"/>
                  </a:lnTo>
                  <a:lnTo>
                    <a:pt x="123" y="1290"/>
                  </a:lnTo>
                  <a:lnTo>
                    <a:pt x="123" y="1255"/>
                  </a:lnTo>
                  <a:lnTo>
                    <a:pt x="123" y="1223"/>
                  </a:lnTo>
                  <a:lnTo>
                    <a:pt x="121" y="1190"/>
                  </a:lnTo>
                  <a:lnTo>
                    <a:pt x="121" y="1156"/>
                  </a:lnTo>
                  <a:lnTo>
                    <a:pt x="120" y="1124"/>
                  </a:lnTo>
                  <a:lnTo>
                    <a:pt x="120" y="1094"/>
                  </a:lnTo>
                  <a:lnTo>
                    <a:pt x="118" y="1064"/>
                  </a:lnTo>
                  <a:lnTo>
                    <a:pt x="117" y="1034"/>
                  </a:lnTo>
                  <a:lnTo>
                    <a:pt x="115" y="1004"/>
                  </a:lnTo>
                  <a:lnTo>
                    <a:pt x="114" y="974"/>
                  </a:lnTo>
                  <a:lnTo>
                    <a:pt x="112" y="944"/>
                  </a:lnTo>
                  <a:lnTo>
                    <a:pt x="110" y="914"/>
                  </a:lnTo>
                  <a:lnTo>
                    <a:pt x="108" y="885"/>
                  </a:lnTo>
                  <a:lnTo>
                    <a:pt x="107" y="856"/>
                  </a:lnTo>
                  <a:lnTo>
                    <a:pt x="98" y="788"/>
                  </a:lnTo>
                  <a:lnTo>
                    <a:pt x="92" y="721"/>
                  </a:lnTo>
                  <a:lnTo>
                    <a:pt x="88" y="651"/>
                  </a:lnTo>
                  <a:lnTo>
                    <a:pt x="87" y="582"/>
                  </a:lnTo>
                  <a:lnTo>
                    <a:pt x="85" y="512"/>
                  </a:lnTo>
                  <a:lnTo>
                    <a:pt x="84" y="442"/>
                  </a:lnTo>
                  <a:lnTo>
                    <a:pt x="81" y="372"/>
                  </a:lnTo>
                  <a:lnTo>
                    <a:pt x="78" y="304"/>
                  </a:lnTo>
                  <a:lnTo>
                    <a:pt x="81" y="292"/>
                  </a:lnTo>
                  <a:lnTo>
                    <a:pt x="83" y="281"/>
                  </a:lnTo>
                  <a:lnTo>
                    <a:pt x="84" y="267"/>
                  </a:lnTo>
                  <a:lnTo>
                    <a:pt x="86" y="255"/>
                  </a:lnTo>
                  <a:lnTo>
                    <a:pt x="88" y="242"/>
                  </a:lnTo>
                  <a:lnTo>
                    <a:pt x="93" y="233"/>
                  </a:lnTo>
                  <a:lnTo>
                    <a:pt x="103" y="227"/>
                  </a:lnTo>
                  <a:lnTo>
                    <a:pt x="118" y="226"/>
                  </a:lnTo>
                  <a:lnTo>
                    <a:pt x="163" y="218"/>
                  </a:lnTo>
                  <a:lnTo>
                    <a:pt x="208" y="211"/>
                  </a:lnTo>
                  <a:lnTo>
                    <a:pt x="254" y="201"/>
                  </a:lnTo>
                  <a:lnTo>
                    <a:pt x="300" y="192"/>
                  </a:lnTo>
                  <a:lnTo>
                    <a:pt x="345" y="182"/>
                  </a:lnTo>
                  <a:lnTo>
                    <a:pt x="390" y="171"/>
                  </a:lnTo>
                  <a:lnTo>
                    <a:pt x="435" y="161"/>
                  </a:lnTo>
                  <a:lnTo>
                    <a:pt x="482" y="154"/>
                  </a:lnTo>
                  <a:lnTo>
                    <a:pt x="559" y="138"/>
                  </a:lnTo>
                  <a:lnTo>
                    <a:pt x="637" y="125"/>
                  </a:lnTo>
                  <a:lnTo>
                    <a:pt x="715" y="112"/>
                  </a:lnTo>
                  <a:lnTo>
                    <a:pt x="794" y="100"/>
                  </a:lnTo>
                  <a:lnTo>
                    <a:pt x="871" y="88"/>
                  </a:lnTo>
                  <a:lnTo>
                    <a:pt x="951" y="77"/>
                  </a:lnTo>
                  <a:lnTo>
                    <a:pt x="1029" y="67"/>
                  </a:lnTo>
                  <a:lnTo>
                    <a:pt x="1109" y="56"/>
                  </a:lnTo>
                  <a:lnTo>
                    <a:pt x="1155" y="49"/>
                  </a:lnTo>
                  <a:lnTo>
                    <a:pt x="1202" y="43"/>
                  </a:lnTo>
                  <a:lnTo>
                    <a:pt x="1248" y="35"/>
                  </a:lnTo>
                  <a:lnTo>
                    <a:pt x="1295" y="29"/>
                  </a:lnTo>
                  <a:lnTo>
                    <a:pt x="1340" y="21"/>
                  </a:lnTo>
                  <a:lnTo>
                    <a:pt x="1387" y="14"/>
                  </a:lnTo>
                  <a:lnTo>
                    <a:pt x="1433" y="6"/>
                  </a:lnTo>
                  <a:lnTo>
                    <a:pt x="1480" y="0"/>
                  </a:lnTo>
                  <a:lnTo>
                    <a:pt x="1574" y="13"/>
                  </a:lnTo>
                  <a:lnTo>
                    <a:pt x="1669" y="27"/>
                  </a:lnTo>
                  <a:lnTo>
                    <a:pt x="1763" y="40"/>
                  </a:lnTo>
                  <a:lnTo>
                    <a:pt x="1858" y="55"/>
                  </a:lnTo>
                  <a:lnTo>
                    <a:pt x="1952" y="68"/>
                  </a:lnTo>
                  <a:lnTo>
                    <a:pt x="2046" y="82"/>
                  </a:lnTo>
                  <a:lnTo>
                    <a:pt x="2141" y="96"/>
                  </a:lnTo>
                  <a:lnTo>
                    <a:pt x="223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63920" y="1955880"/>
              <a:ext cx="2224080" cy="658800"/>
            </a:xfrm>
            <a:custGeom>
              <a:avLst/>
              <a:gdLst/>
              <a:ahLst/>
              <a:rect l="l" t="t" r="r" b="b"/>
              <a:pathLst>
                <a:path w="2802" h="828">
                  <a:moveTo>
                    <a:pt x="1386" y="25"/>
                  </a:moveTo>
                  <a:lnTo>
                    <a:pt x="1379" y="45"/>
                  </a:lnTo>
                  <a:lnTo>
                    <a:pt x="1393" y="45"/>
                  </a:lnTo>
                  <a:lnTo>
                    <a:pt x="1408" y="45"/>
                  </a:lnTo>
                  <a:lnTo>
                    <a:pt x="1422" y="43"/>
                  </a:lnTo>
                  <a:lnTo>
                    <a:pt x="1438" y="43"/>
                  </a:lnTo>
                  <a:lnTo>
                    <a:pt x="1453" y="41"/>
                  </a:lnTo>
                  <a:lnTo>
                    <a:pt x="1469" y="41"/>
                  </a:lnTo>
                  <a:lnTo>
                    <a:pt x="1484" y="41"/>
                  </a:lnTo>
                  <a:lnTo>
                    <a:pt x="1499" y="45"/>
                  </a:lnTo>
                  <a:lnTo>
                    <a:pt x="1505" y="45"/>
                  </a:lnTo>
                  <a:lnTo>
                    <a:pt x="1513" y="46"/>
                  </a:lnTo>
                  <a:lnTo>
                    <a:pt x="1519" y="47"/>
                  </a:lnTo>
                  <a:lnTo>
                    <a:pt x="1527" y="49"/>
                  </a:lnTo>
                  <a:lnTo>
                    <a:pt x="1533" y="49"/>
                  </a:lnTo>
                  <a:lnTo>
                    <a:pt x="1541" y="52"/>
                  </a:lnTo>
                  <a:lnTo>
                    <a:pt x="1547" y="52"/>
                  </a:lnTo>
                  <a:lnTo>
                    <a:pt x="1555" y="54"/>
                  </a:lnTo>
                  <a:lnTo>
                    <a:pt x="1556" y="62"/>
                  </a:lnTo>
                  <a:lnTo>
                    <a:pt x="1550" y="71"/>
                  </a:lnTo>
                  <a:lnTo>
                    <a:pt x="1535" y="70"/>
                  </a:lnTo>
                  <a:lnTo>
                    <a:pt x="1522" y="70"/>
                  </a:lnTo>
                  <a:lnTo>
                    <a:pt x="1507" y="70"/>
                  </a:lnTo>
                  <a:lnTo>
                    <a:pt x="1494" y="70"/>
                  </a:lnTo>
                  <a:lnTo>
                    <a:pt x="1480" y="70"/>
                  </a:lnTo>
                  <a:lnTo>
                    <a:pt x="1466" y="71"/>
                  </a:lnTo>
                  <a:lnTo>
                    <a:pt x="1453" y="74"/>
                  </a:lnTo>
                  <a:lnTo>
                    <a:pt x="1443" y="81"/>
                  </a:lnTo>
                  <a:lnTo>
                    <a:pt x="1446" y="87"/>
                  </a:lnTo>
                  <a:lnTo>
                    <a:pt x="1444" y="95"/>
                  </a:lnTo>
                  <a:lnTo>
                    <a:pt x="1441" y="101"/>
                  </a:lnTo>
                  <a:lnTo>
                    <a:pt x="1445" y="108"/>
                  </a:lnTo>
                  <a:lnTo>
                    <a:pt x="1469" y="102"/>
                  </a:lnTo>
                  <a:lnTo>
                    <a:pt x="1493" y="98"/>
                  </a:lnTo>
                  <a:lnTo>
                    <a:pt x="1517" y="91"/>
                  </a:lnTo>
                  <a:lnTo>
                    <a:pt x="1543" y="88"/>
                  </a:lnTo>
                  <a:lnTo>
                    <a:pt x="1568" y="85"/>
                  </a:lnTo>
                  <a:lnTo>
                    <a:pt x="1593" y="84"/>
                  </a:lnTo>
                  <a:lnTo>
                    <a:pt x="1619" y="85"/>
                  </a:lnTo>
                  <a:lnTo>
                    <a:pt x="1646" y="89"/>
                  </a:lnTo>
                  <a:lnTo>
                    <a:pt x="1652" y="97"/>
                  </a:lnTo>
                  <a:lnTo>
                    <a:pt x="1658" y="101"/>
                  </a:lnTo>
                  <a:lnTo>
                    <a:pt x="1665" y="101"/>
                  </a:lnTo>
                  <a:lnTo>
                    <a:pt x="1674" y="100"/>
                  </a:lnTo>
                  <a:lnTo>
                    <a:pt x="1682" y="96"/>
                  </a:lnTo>
                  <a:lnTo>
                    <a:pt x="1690" y="92"/>
                  </a:lnTo>
                  <a:lnTo>
                    <a:pt x="1699" y="89"/>
                  </a:lnTo>
                  <a:lnTo>
                    <a:pt x="1707" y="89"/>
                  </a:lnTo>
                  <a:lnTo>
                    <a:pt x="1801" y="85"/>
                  </a:lnTo>
                  <a:lnTo>
                    <a:pt x="1804" y="86"/>
                  </a:lnTo>
                  <a:lnTo>
                    <a:pt x="1810" y="87"/>
                  </a:lnTo>
                  <a:lnTo>
                    <a:pt x="1815" y="87"/>
                  </a:lnTo>
                  <a:lnTo>
                    <a:pt x="1820" y="87"/>
                  </a:lnTo>
                  <a:lnTo>
                    <a:pt x="1824" y="87"/>
                  </a:lnTo>
                  <a:lnTo>
                    <a:pt x="1828" y="89"/>
                  </a:lnTo>
                  <a:lnTo>
                    <a:pt x="1829" y="94"/>
                  </a:lnTo>
                  <a:lnTo>
                    <a:pt x="1828" y="101"/>
                  </a:lnTo>
                  <a:lnTo>
                    <a:pt x="1813" y="101"/>
                  </a:lnTo>
                  <a:lnTo>
                    <a:pt x="1800" y="104"/>
                  </a:lnTo>
                  <a:lnTo>
                    <a:pt x="1787" y="108"/>
                  </a:lnTo>
                  <a:lnTo>
                    <a:pt x="1775" y="112"/>
                  </a:lnTo>
                  <a:lnTo>
                    <a:pt x="1762" y="115"/>
                  </a:lnTo>
                  <a:lnTo>
                    <a:pt x="1751" y="119"/>
                  </a:lnTo>
                  <a:lnTo>
                    <a:pt x="1739" y="124"/>
                  </a:lnTo>
                  <a:lnTo>
                    <a:pt x="1727" y="128"/>
                  </a:lnTo>
                  <a:lnTo>
                    <a:pt x="1715" y="129"/>
                  </a:lnTo>
                  <a:lnTo>
                    <a:pt x="1704" y="132"/>
                  </a:lnTo>
                  <a:lnTo>
                    <a:pt x="1693" y="133"/>
                  </a:lnTo>
                  <a:lnTo>
                    <a:pt x="1684" y="137"/>
                  </a:lnTo>
                  <a:lnTo>
                    <a:pt x="1673" y="139"/>
                  </a:lnTo>
                  <a:lnTo>
                    <a:pt x="1663" y="142"/>
                  </a:lnTo>
                  <a:lnTo>
                    <a:pt x="1654" y="145"/>
                  </a:lnTo>
                  <a:lnTo>
                    <a:pt x="1644" y="151"/>
                  </a:lnTo>
                  <a:lnTo>
                    <a:pt x="1648" y="157"/>
                  </a:lnTo>
                  <a:lnTo>
                    <a:pt x="1648" y="163"/>
                  </a:lnTo>
                  <a:lnTo>
                    <a:pt x="1645" y="170"/>
                  </a:lnTo>
                  <a:lnTo>
                    <a:pt x="1642" y="177"/>
                  </a:lnTo>
                  <a:lnTo>
                    <a:pt x="1630" y="180"/>
                  </a:lnTo>
                  <a:lnTo>
                    <a:pt x="1620" y="184"/>
                  </a:lnTo>
                  <a:lnTo>
                    <a:pt x="1611" y="189"/>
                  </a:lnTo>
                  <a:lnTo>
                    <a:pt x="1602" y="199"/>
                  </a:lnTo>
                  <a:lnTo>
                    <a:pt x="1608" y="199"/>
                  </a:lnTo>
                  <a:lnTo>
                    <a:pt x="1615" y="199"/>
                  </a:lnTo>
                  <a:lnTo>
                    <a:pt x="1621" y="197"/>
                  </a:lnTo>
                  <a:lnTo>
                    <a:pt x="1628" y="196"/>
                  </a:lnTo>
                  <a:lnTo>
                    <a:pt x="1634" y="194"/>
                  </a:lnTo>
                  <a:lnTo>
                    <a:pt x="1642" y="191"/>
                  </a:lnTo>
                  <a:lnTo>
                    <a:pt x="1649" y="190"/>
                  </a:lnTo>
                  <a:lnTo>
                    <a:pt x="1658" y="190"/>
                  </a:lnTo>
                  <a:lnTo>
                    <a:pt x="1673" y="186"/>
                  </a:lnTo>
                  <a:lnTo>
                    <a:pt x="1688" y="182"/>
                  </a:lnTo>
                  <a:lnTo>
                    <a:pt x="1704" y="176"/>
                  </a:lnTo>
                  <a:lnTo>
                    <a:pt x="1720" y="172"/>
                  </a:lnTo>
                  <a:lnTo>
                    <a:pt x="1735" y="167"/>
                  </a:lnTo>
                  <a:lnTo>
                    <a:pt x="1751" y="165"/>
                  </a:lnTo>
                  <a:lnTo>
                    <a:pt x="1767" y="162"/>
                  </a:lnTo>
                  <a:lnTo>
                    <a:pt x="1783" y="163"/>
                  </a:lnTo>
                  <a:lnTo>
                    <a:pt x="1792" y="165"/>
                  </a:lnTo>
                  <a:lnTo>
                    <a:pt x="1803" y="165"/>
                  </a:lnTo>
                  <a:lnTo>
                    <a:pt x="1814" y="162"/>
                  </a:lnTo>
                  <a:lnTo>
                    <a:pt x="1826" y="160"/>
                  </a:lnTo>
                  <a:lnTo>
                    <a:pt x="1836" y="157"/>
                  </a:lnTo>
                  <a:lnTo>
                    <a:pt x="1846" y="154"/>
                  </a:lnTo>
                  <a:lnTo>
                    <a:pt x="1857" y="152"/>
                  </a:lnTo>
                  <a:lnTo>
                    <a:pt x="1869" y="151"/>
                  </a:lnTo>
                  <a:lnTo>
                    <a:pt x="1888" y="145"/>
                  </a:lnTo>
                  <a:lnTo>
                    <a:pt x="1908" y="142"/>
                  </a:lnTo>
                  <a:lnTo>
                    <a:pt x="1927" y="139"/>
                  </a:lnTo>
                  <a:lnTo>
                    <a:pt x="1947" y="137"/>
                  </a:lnTo>
                  <a:lnTo>
                    <a:pt x="1967" y="133"/>
                  </a:lnTo>
                  <a:lnTo>
                    <a:pt x="1987" y="132"/>
                  </a:lnTo>
                  <a:lnTo>
                    <a:pt x="2008" y="129"/>
                  </a:lnTo>
                  <a:lnTo>
                    <a:pt x="2028" y="128"/>
                  </a:lnTo>
                  <a:lnTo>
                    <a:pt x="2031" y="133"/>
                  </a:lnTo>
                  <a:lnTo>
                    <a:pt x="2030" y="141"/>
                  </a:lnTo>
                  <a:lnTo>
                    <a:pt x="2024" y="143"/>
                  </a:lnTo>
                  <a:lnTo>
                    <a:pt x="2017" y="145"/>
                  </a:lnTo>
                  <a:lnTo>
                    <a:pt x="2011" y="147"/>
                  </a:lnTo>
                  <a:lnTo>
                    <a:pt x="2004" y="151"/>
                  </a:lnTo>
                  <a:lnTo>
                    <a:pt x="1998" y="153"/>
                  </a:lnTo>
                  <a:lnTo>
                    <a:pt x="1992" y="156"/>
                  </a:lnTo>
                  <a:lnTo>
                    <a:pt x="1985" y="158"/>
                  </a:lnTo>
                  <a:lnTo>
                    <a:pt x="1979" y="161"/>
                  </a:lnTo>
                  <a:lnTo>
                    <a:pt x="1980" y="165"/>
                  </a:lnTo>
                  <a:lnTo>
                    <a:pt x="1983" y="168"/>
                  </a:lnTo>
                  <a:lnTo>
                    <a:pt x="1992" y="167"/>
                  </a:lnTo>
                  <a:lnTo>
                    <a:pt x="1999" y="161"/>
                  </a:lnTo>
                  <a:lnTo>
                    <a:pt x="2014" y="159"/>
                  </a:lnTo>
                  <a:lnTo>
                    <a:pt x="2029" y="158"/>
                  </a:lnTo>
                  <a:lnTo>
                    <a:pt x="2045" y="156"/>
                  </a:lnTo>
                  <a:lnTo>
                    <a:pt x="2061" y="155"/>
                  </a:lnTo>
                  <a:lnTo>
                    <a:pt x="2077" y="154"/>
                  </a:lnTo>
                  <a:lnTo>
                    <a:pt x="2093" y="153"/>
                  </a:lnTo>
                  <a:lnTo>
                    <a:pt x="2109" y="153"/>
                  </a:lnTo>
                  <a:lnTo>
                    <a:pt x="2126" y="155"/>
                  </a:lnTo>
                  <a:lnTo>
                    <a:pt x="2130" y="162"/>
                  </a:lnTo>
                  <a:lnTo>
                    <a:pt x="2128" y="172"/>
                  </a:lnTo>
                  <a:lnTo>
                    <a:pt x="2116" y="173"/>
                  </a:lnTo>
                  <a:lnTo>
                    <a:pt x="2106" y="175"/>
                  </a:lnTo>
                  <a:lnTo>
                    <a:pt x="2094" y="176"/>
                  </a:lnTo>
                  <a:lnTo>
                    <a:pt x="2083" y="180"/>
                  </a:lnTo>
                  <a:lnTo>
                    <a:pt x="2071" y="183"/>
                  </a:lnTo>
                  <a:lnTo>
                    <a:pt x="2060" y="186"/>
                  </a:lnTo>
                  <a:lnTo>
                    <a:pt x="2049" y="189"/>
                  </a:lnTo>
                  <a:lnTo>
                    <a:pt x="2039" y="195"/>
                  </a:lnTo>
                  <a:lnTo>
                    <a:pt x="2042" y="200"/>
                  </a:lnTo>
                  <a:lnTo>
                    <a:pt x="2050" y="201"/>
                  </a:lnTo>
                  <a:lnTo>
                    <a:pt x="2059" y="200"/>
                  </a:lnTo>
                  <a:lnTo>
                    <a:pt x="2070" y="199"/>
                  </a:lnTo>
                  <a:lnTo>
                    <a:pt x="2080" y="197"/>
                  </a:lnTo>
                  <a:lnTo>
                    <a:pt x="2092" y="196"/>
                  </a:lnTo>
                  <a:lnTo>
                    <a:pt x="2101" y="194"/>
                  </a:lnTo>
                  <a:lnTo>
                    <a:pt x="2112" y="195"/>
                  </a:lnTo>
                  <a:lnTo>
                    <a:pt x="2122" y="198"/>
                  </a:lnTo>
                  <a:lnTo>
                    <a:pt x="2131" y="204"/>
                  </a:lnTo>
                  <a:lnTo>
                    <a:pt x="2137" y="200"/>
                  </a:lnTo>
                  <a:lnTo>
                    <a:pt x="2143" y="200"/>
                  </a:lnTo>
                  <a:lnTo>
                    <a:pt x="2150" y="200"/>
                  </a:lnTo>
                  <a:lnTo>
                    <a:pt x="2155" y="204"/>
                  </a:lnTo>
                  <a:lnTo>
                    <a:pt x="2161" y="211"/>
                  </a:lnTo>
                  <a:lnTo>
                    <a:pt x="2181" y="206"/>
                  </a:lnTo>
                  <a:lnTo>
                    <a:pt x="2202" y="202"/>
                  </a:lnTo>
                  <a:lnTo>
                    <a:pt x="2223" y="197"/>
                  </a:lnTo>
                  <a:lnTo>
                    <a:pt x="2243" y="192"/>
                  </a:lnTo>
                  <a:lnTo>
                    <a:pt x="2263" y="187"/>
                  </a:lnTo>
                  <a:lnTo>
                    <a:pt x="2284" y="185"/>
                  </a:lnTo>
                  <a:lnTo>
                    <a:pt x="2306" y="183"/>
                  </a:lnTo>
                  <a:lnTo>
                    <a:pt x="2328" y="184"/>
                  </a:lnTo>
                  <a:lnTo>
                    <a:pt x="2335" y="190"/>
                  </a:lnTo>
                  <a:lnTo>
                    <a:pt x="2327" y="196"/>
                  </a:lnTo>
                  <a:lnTo>
                    <a:pt x="2319" y="200"/>
                  </a:lnTo>
                  <a:lnTo>
                    <a:pt x="2309" y="203"/>
                  </a:lnTo>
                  <a:lnTo>
                    <a:pt x="2300" y="206"/>
                  </a:lnTo>
                  <a:lnTo>
                    <a:pt x="2291" y="209"/>
                  </a:lnTo>
                  <a:lnTo>
                    <a:pt x="2282" y="212"/>
                  </a:lnTo>
                  <a:lnTo>
                    <a:pt x="2272" y="216"/>
                  </a:lnTo>
                  <a:lnTo>
                    <a:pt x="2266" y="224"/>
                  </a:lnTo>
                  <a:lnTo>
                    <a:pt x="2277" y="226"/>
                  </a:lnTo>
                  <a:lnTo>
                    <a:pt x="2287" y="227"/>
                  </a:lnTo>
                  <a:lnTo>
                    <a:pt x="2298" y="225"/>
                  </a:lnTo>
                  <a:lnTo>
                    <a:pt x="2310" y="224"/>
                  </a:lnTo>
                  <a:lnTo>
                    <a:pt x="2321" y="220"/>
                  </a:lnTo>
                  <a:lnTo>
                    <a:pt x="2333" y="218"/>
                  </a:lnTo>
                  <a:lnTo>
                    <a:pt x="2345" y="216"/>
                  </a:lnTo>
                  <a:lnTo>
                    <a:pt x="2357" y="217"/>
                  </a:lnTo>
                  <a:lnTo>
                    <a:pt x="2369" y="215"/>
                  </a:lnTo>
                  <a:lnTo>
                    <a:pt x="2383" y="214"/>
                  </a:lnTo>
                  <a:lnTo>
                    <a:pt x="2397" y="213"/>
                  </a:lnTo>
                  <a:lnTo>
                    <a:pt x="2412" y="213"/>
                  </a:lnTo>
                  <a:lnTo>
                    <a:pt x="2426" y="213"/>
                  </a:lnTo>
                  <a:lnTo>
                    <a:pt x="2440" y="215"/>
                  </a:lnTo>
                  <a:lnTo>
                    <a:pt x="2452" y="217"/>
                  </a:lnTo>
                  <a:lnTo>
                    <a:pt x="2465" y="224"/>
                  </a:lnTo>
                  <a:lnTo>
                    <a:pt x="2468" y="222"/>
                  </a:lnTo>
                  <a:lnTo>
                    <a:pt x="2475" y="220"/>
                  </a:lnTo>
                  <a:lnTo>
                    <a:pt x="2480" y="220"/>
                  </a:lnTo>
                  <a:lnTo>
                    <a:pt x="2487" y="220"/>
                  </a:lnTo>
                  <a:lnTo>
                    <a:pt x="2492" y="220"/>
                  </a:lnTo>
                  <a:lnTo>
                    <a:pt x="2498" y="220"/>
                  </a:lnTo>
                  <a:lnTo>
                    <a:pt x="2503" y="222"/>
                  </a:lnTo>
                  <a:lnTo>
                    <a:pt x="2508" y="224"/>
                  </a:lnTo>
                  <a:lnTo>
                    <a:pt x="2502" y="230"/>
                  </a:lnTo>
                  <a:lnTo>
                    <a:pt x="2496" y="237"/>
                  </a:lnTo>
                  <a:lnTo>
                    <a:pt x="2488" y="240"/>
                  </a:lnTo>
                  <a:lnTo>
                    <a:pt x="2480" y="243"/>
                  </a:lnTo>
                  <a:lnTo>
                    <a:pt x="2470" y="244"/>
                  </a:lnTo>
                  <a:lnTo>
                    <a:pt x="2461" y="247"/>
                  </a:lnTo>
                  <a:lnTo>
                    <a:pt x="2452" y="251"/>
                  </a:lnTo>
                  <a:lnTo>
                    <a:pt x="2445" y="256"/>
                  </a:lnTo>
                  <a:lnTo>
                    <a:pt x="2425" y="260"/>
                  </a:lnTo>
                  <a:lnTo>
                    <a:pt x="2407" y="266"/>
                  </a:lnTo>
                  <a:lnTo>
                    <a:pt x="2389" y="271"/>
                  </a:lnTo>
                  <a:lnTo>
                    <a:pt x="2370" y="276"/>
                  </a:lnTo>
                  <a:lnTo>
                    <a:pt x="2351" y="281"/>
                  </a:lnTo>
                  <a:lnTo>
                    <a:pt x="2334" y="286"/>
                  </a:lnTo>
                  <a:lnTo>
                    <a:pt x="2314" y="291"/>
                  </a:lnTo>
                  <a:lnTo>
                    <a:pt x="2297" y="298"/>
                  </a:lnTo>
                  <a:lnTo>
                    <a:pt x="2279" y="300"/>
                  </a:lnTo>
                  <a:lnTo>
                    <a:pt x="2262" y="305"/>
                  </a:lnTo>
                  <a:lnTo>
                    <a:pt x="2244" y="312"/>
                  </a:lnTo>
                  <a:lnTo>
                    <a:pt x="2228" y="319"/>
                  </a:lnTo>
                  <a:lnTo>
                    <a:pt x="2211" y="327"/>
                  </a:lnTo>
                  <a:lnTo>
                    <a:pt x="2194" y="334"/>
                  </a:lnTo>
                  <a:lnTo>
                    <a:pt x="2177" y="342"/>
                  </a:lnTo>
                  <a:lnTo>
                    <a:pt x="2161" y="350"/>
                  </a:lnTo>
                  <a:lnTo>
                    <a:pt x="2166" y="353"/>
                  </a:lnTo>
                  <a:lnTo>
                    <a:pt x="2173" y="354"/>
                  </a:lnTo>
                  <a:lnTo>
                    <a:pt x="2180" y="353"/>
                  </a:lnTo>
                  <a:lnTo>
                    <a:pt x="2187" y="350"/>
                  </a:lnTo>
                  <a:lnTo>
                    <a:pt x="2241" y="336"/>
                  </a:lnTo>
                  <a:lnTo>
                    <a:pt x="2296" y="322"/>
                  </a:lnTo>
                  <a:lnTo>
                    <a:pt x="2350" y="307"/>
                  </a:lnTo>
                  <a:lnTo>
                    <a:pt x="2405" y="295"/>
                  </a:lnTo>
                  <a:lnTo>
                    <a:pt x="2460" y="282"/>
                  </a:lnTo>
                  <a:lnTo>
                    <a:pt x="2516" y="273"/>
                  </a:lnTo>
                  <a:lnTo>
                    <a:pt x="2574" y="268"/>
                  </a:lnTo>
                  <a:lnTo>
                    <a:pt x="2633" y="267"/>
                  </a:lnTo>
                  <a:lnTo>
                    <a:pt x="2635" y="272"/>
                  </a:lnTo>
                  <a:lnTo>
                    <a:pt x="2638" y="277"/>
                  </a:lnTo>
                  <a:lnTo>
                    <a:pt x="2633" y="283"/>
                  </a:lnTo>
                  <a:lnTo>
                    <a:pt x="2626" y="284"/>
                  </a:lnTo>
                  <a:lnTo>
                    <a:pt x="2620" y="284"/>
                  </a:lnTo>
                  <a:lnTo>
                    <a:pt x="2618" y="289"/>
                  </a:lnTo>
                  <a:lnTo>
                    <a:pt x="2628" y="296"/>
                  </a:lnTo>
                  <a:lnTo>
                    <a:pt x="2640" y="299"/>
                  </a:lnTo>
                  <a:lnTo>
                    <a:pt x="2653" y="299"/>
                  </a:lnTo>
                  <a:lnTo>
                    <a:pt x="2666" y="297"/>
                  </a:lnTo>
                  <a:lnTo>
                    <a:pt x="2679" y="294"/>
                  </a:lnTo>
                  <a:lnTo>
                    <a:pt x="2693" y="290"/>
                  </a:lnTo>
                  <a:lnTo>
                    <a:pt x="2706" y="287"/>
                  </a:lnTo>
                  <a:lnTo>
                    <a:pt x="2719" y="287"/>
                  </a:lnTo>
                  <a:lnTo>
                    <a:pt x="2724" y="293"/>
                  </a:lnTo>
                  <a:lnTo>
                    <a:pt x="2725" y="300"/>
                  </a:lnTo>
                  <a:lnTo>
                    <a:pt x="2718" y="303"/>
                  </a:lnTo>
                  <a:lnTo>
                    <a:pt x="2711" y="308"/>
                  </a:lnTo>
                  <a:lnTo>
                    <a:pt x="2704" y="310"/>
                  </a:lnTo>
                  <a:lnTo>
                    <a:pt x="2696" y="310"/>
                  </a:lnTo>
                  <a:lnTo>
                    <a:pt x="2685" y="314"/>
                  </a:lnTo>
                  <a:lnTo>
                    <a:pt x="2674" y="319"/>
                  </a:lnTo>
                  <a:lnTo>
                    <a:pt x="2662" y="324"/>
                  </a:lnTo>
                  <a:lnTo>
                    <a:pt x="2651" y="329"/>
                  </a:lnTo>
                  <a:lnTo>
                    <a:pt x="2639" y="333"/>
                  </a:lnTo>
                  <a:lnTo>
                    <a:pt x="2630" y="339"/>
                  </a:lnTo>
                  <a:lnTo>
                    <a:pt x="2619" y="343"/>
                  </a:lnTo>
                  <a:lnTo>
                    <a:pt x="2609" y="350"/>
                  </a:lnTo>
                  <a:lnTo>
                    <a:pt x="2632" y="354"/>
                  </a:lnTo>
                  <a:lnTo>
                    <a:pt x="2654" y="352"/>
                  </a:lnTo>
                  <a:lnTo>
                    <a:pt x="2675" y="346"/>
                  </a:lnTo>
                  <a:lnTo>
                    <a:pt x="2696" y="338"/>
                  </a:lnTo>
                  <a:lnTo>
                    <a:pt x="2717" y="328"/>
                  </a:lnTo>
                  <a:lnTo>
                    <a:pt x="2738" y="321"/>
                  </a:lnTo>
                  <a:lnTo>
                    <a:pt x="2760" y="315"/>
                  </a:lnTo>
                  <a:lnTo>
                    <a:pt x="2784" y="316"/>
                  </a:lnTo>
                  <a:lnTo>
                    <a:pt x="2793" y="316"/>
                  </a:lnTo>
                  <a:lnTo>
                    <a:pt x="2802" y="321"/>
                  </a:lnTo>
                  <a:lnTo>
                    <a:pt x="2744" y="353"/>
                  </a:lnTo>
                  <a:lnTo>
                    <a:pt x="2687" y="382"/>
                  </a:lnTo>
                  <a:lnTo>
                    <a:pt x="2628" y="410"/>
                  </a:lnTo>
                  <a:lnTo>
                    <a:pt x="2568" y="437"/>
                  </a:lnTo>
                  <a:lnTo>
                    <a:pt x="2508" y="463"/>
                  </a:lnTo>
                  <a:lnTo>
                    <a:pt x="2448" y="489"/>
                  </a:lnTo>
                  <a:lnTo>
                    <a:pt x="2389" y="517"/>
                  </a:lnTo>
                  <a:lnTo>
                    <a:pt x="2331" y="548"/>
                  </a:lnTo>
                  <a:lnTo>
                    <a:pt x="2276" y="564"/>
                  </a:lnTo>
                  <a:lnTo>
                    <a:pt x="2223" y="581"/>
                  </a:lnTo>
                  <a:lnTo>
                    <a:pt x="2171" y="599"/>
                  </a:lnTo>
                  <a:lnTo>
                    <a:pt x="2120" y="620"/>
                  </a:lnTo>
                  <a:lnTo>
                    <a:pt x="2067" y="639"/>
                  </a:lnTo>
                  <a:lnTo>
                    <a:pt x="2015" y="660"/>
                  </a:lnTo>
                  <a:lnTo>
                    <a:pt x="1965" y="682"/>
                  </a:lnTo>
                  <a:lnTo>
                    <a:pt x="1915" y="706"/>
                  </a:lnTo>
                  <a:lnTo>
                    <a:pt x="1905" y="709"/>
                  </a:lnTo>
                  <a:lnTo>
                    <a:pt x="1897" y="713"/>
                  </a:lnTo>
                  <a:lnTo>
                    <a:pt x="1887" y="719"/>
                  </a:lnTo>
                  <a:lnTo>
                    <a:pt x="1882" y="728"/>
                  </a:lnTo>
                  <a:lnTo>
                    <a:pt x="1886" y="733"/>
                  </a:lnTo>
                  <a:lnTo>
                    <a:pt x="1899" y="726"/>
                  </a:lnTo>
                  <a:lnTo>
                    <a:pt x="1912" y="721"/>
                  </a:lnTo>
                  <a:lnTo>
                    <a:pt x="1926" y="715"/>
                  </a:lnTo>
                  <a:lnTo>
                    <a:pt x="1941" y="711"/>
                  </a:lnTo>
                  <a:lnTo>
                    <a:pt x="1955" y="705"/>
                  </a:lnTo>
                  <a:lnTo>
                    <a:pt x="1969" y="699"/>
                  </a:lnTo>
                  <a:lnTo>
                    <a:pt x="1982" y="692"/>
                  </a:lnTo>
                  <a:lnTo>
                    <a:pt x="1996" y="684"/>
                  </a:lnTo>
                  <a:lnTo>
                    <a:pt x="2012" y="680"/>
                  </a:lnTo>
                  <a:lnTo>
                    <a:pt x="2028" y="676"/>
                  </a:lnTo>
                  <a:lnTo>
                    <a:pt x="2044" y="670"/>
                  </a:lnTo>
                  <a:lnTo>
                    <a:pt x="2060" y="666"/>
                  </a:lnTo>
                  <a:lnTo>
                    <a:pt x="2075" y="659"/>
                  </a:lnTo>
                  <a:lnTo>
                    <a:pt x="2092" y="653"/>
                  </a:lnTo>
                  <a:lnTo>
                    <a:pt x="2108" y="645"/>
                  </a:lnTo>
                  <a:lnTo>
                    <a:pt x="2124" y="639"/>
                  </a:lnTo>
                  <a:lnTo>
                    <a:pt x="2134" y="636"/>
                  </a:lnTo>
                  <a:lnTo>
                    <a:pt x="2143" y="632"/>
                  </a:lnTo>
                  <a:lnTo>
                    <a:pt x="2153" y="628"/>
                  </a:lnTo>
                  <a:lnTo>
                    <a:pt x="2163" y="624"/>
                  </a:lnTo>
                  <a:lnTo>
                    <a:pt x="2171" y="619"/>
                  </a:lnTo>
                  <a:lnTo>
                    <a:pt x="2180" y="616"/>
                  </a:lnTo>
                  <a:lnTo>
                    <a:pt x="2188" y="614"/>
                  </a:lnTo>
                  <a:lnTo>
                    <a:pt x="2198" y="616"/>
                  </a:lnTo>
                  <a:lnTo>
                    <a:pt x="2159" y="636"/>
                  </a:lnTo>
                  <a:lnTo>
                    <a:pt x="2121" y="656"/>
                  </a:lnTo>
                  <a:lnTo>
                    <a:pt x="2081" y="674"/>
                  </a:lnTo>
                  <a:lnTo>
                    <a:pt x="2042" y="693"/>
                  </a:lnTo>
                  <a:lnTo>
                    <a:pt x="2002" y="711"/>
                  </a:lnTo>
                  <a:lnTo>
                    <a:pt x="1962" y="730"/>
                  </a:lnTo>
                  <a:lnTo>
                    <a:pt x="1924" y="752"/>
                  </a:lnTo>
                  <a:lnTo>
                    <a:pt x="1886" y="776"/>
                  </a:lnTo>
                  <a:lnTo>
                    <a:pt x="1867" y="781"/>
                  </a:lnTo>
                  <a:lnTo>
                    <a:pt x="1847" y="788"/>
                  </a:lnTo>
                  <a:lnTo>
                    <a:pt x="1828" y="796"/>
                  </a:lnTo>
                  <a:lnTo>
                    <a:pt x="1809" y="805"/>
                  </a:lnTo>
                  <a:lnTo>
                    <a:pt x="1788" y="811"/>
                  </a:lnTo>
                  <a:lnTo>
                    <a:pt x="1769" y="818"/>
                  </a:lnTo>
                  <a:lnTo>
                    <a:pt x="1748" y="823"/>
                  </a:lnTo>
                  <a:lnTo>
                    <a:pt x="1729" y="827"/>
                  </a:lnTo>
                  <a:lnTo>
                    <a:pt x="1723" y="828"/>
                  </a:lnTo>
                  <a:lnTo>
                    <a:pt x="1718" y="826"/>
                  </a:lnTo>
                  <a:lnTo>
                    <a:pt x="1714" y="823"/>
                  </a:lnTo>
                  <a:lnTo>
                    <a:pt x="1710" y="821"/>
                  </a:lnTo>
                  <a:lnTo>
                    <a:pt x="1711" y="811"/>
                  </a:lnTo>
                  <a:lnTo>
                    <a:pt x="1718" y="805"/>
                  </a:lnTo>
                  <a:lnTo>
                    <a:pt x="1727" y="805"/>
                  </a:lnTo>
                  <a:lnTo>
                    <a:pt x="1734" y="802"/>
                  </a:lnTo>
                  <a:lnTo>
                    <a:pt x="1729" y="795"/>
                  </a:lnTo>
                  <a:lnTo>
                    <a:pt x="1721" y="794"/>
                  </a:lnTo>
                  <a:lnTo>
                    <a:pt x="1716" y="792"/>
                  </a:lnTo>
                  <a:lnTo>
                    <a:pt x="1714" y="791"/>
                  </a:lnTo>
                  <a:lnTo>
                    <a:pt x="1713" y="787"/>
                  </a:lnTo>
                  <a:lnTo>
                    <a:pt x="1716" y="782"/>
                  </a:lnTo>
                  <a:lnTo>
                    <a:pt x="1720" y="777"/>
                  </a:lnTo>
                  <a:lnTo>
                    <a:pt x="1725" y="771"/>
                  </a:lnTo>
                  <a:lnTo>
                    <a:pt x="1718" y="771"/>
                  </a:lnTo>
                  <a:lnTo>
                    <a:pt x="1712" y="771"/>
                  </a:lnTo>
                  <a:lnTo>
                    <a:pt x="1705" y="772"/>
                  </a:lnTo>
                  <a:lnTo>
                    <a:pt x="1700" y="773"/>
                  </a:lnTo>
                  <a:lnTo>
                    <a:pt x="1693" y="773"/>
                  </a:lnTo>
                  <a:lnTo>
                    <a:pt x="1688" y="776"/>
                  </a:lnTo>
                  <a:lnTo>
                    <a:pt x="1682" y="776"/>
                  </a:lnTo>
                  <a:lnTo>
                    <a:pt x="1677" y="778"/>
                  </a:lnTo>
                  <a:lnTo>
                    <a:pt x="1665" y="780"/>
                  </a:lnTo>
                  <a:lnTo>
                    <a:pt x="1655" y="782"/>
                  </a:lnTo>
                  <a:lnTo>
                    <a:pt x="1644" y="783"/>
                  </a:lnTo>
                  <a:lnTo>
                    <a:pt x="1633" y="785"/>
                  </a:lnTo>
                  <a:lnTo>
                    <a:pt x="1621" y="786"/>
                  </a:lnTo>
                  <a:lnTo>
                    <a:pt x="1610" y="787"/>
                  </a:lnTo>
                  <a:lnTo>
                    <a:pt x="1598" y="787"/>
                  </a:lnTo>
                  <a:lnTo>
                    <a:pt x="1586" y="787"/>
                  </a:lnTo>
                  <a:lnTo>
                    <a:pt x="1579" y="785"/>
                  </a:lnTo>
                  <a:lnTo>
                    <a:pt x="1574" y="783"/>
                  </a:lnTo>
                  <a:lnTo>
                    <a:pt x="1568" y="781"/>
                  </a:lnTo>
                  <a:lnTo>
                    <a:pt x="1561" y="782"/>
                  </a:lnTo>
                  <a:lnTo>
                    <a:pt x="1560" y="774"/>
                  </a:lnTo>
                  <a:lnTo>
                    <a:pt x="1563" y="771"/>
                  </a:lnTo>
                  <a:lnTo>
                    <a:pt x="1568" y="769"/>
                  </a:lnTo>
                  <a:lnTo>
                    <a:pt x="1572" y="767"/>
                  </a:lnTo>
                  <a:lnTo>
                    <a:pt x="1564" y="763"/>
                  </a:lnTo>
                  <a:lnTo>
                    <a:pt x="1558" y="761"/>
                  </a:lnTo>
                  <a:lnTo>
                    <a:pt x="1550" y="758"/>
                  </a:lnTo>
                  <a:lnTo>
                    <a:pt x="1544" y="757"/>
                  </a:lnTo>
                  <a:lnTo>
                    <a:pt x="1536" y="754"/>
                  </a:lnTo>
                  <a:lnTo>
                    <a:pt x="1530" y="752"/>
                  </a:lnTo>
                  <a:lnTo>
                    <a:pt x="1525" y="747"/>
                  </a:lnTo>
                  <a:lnTo>
                    <a:pt x="1522" y="740"/>
                  </a:lnTo>
                  <a:lnTo>
                    <a:pt x="1513" y="740"/>
                  </a:lnTo>
                  <a:lnTo>
                    <a:pt x="1504" y="742"/>
                  </a:lnTo>
                  <a:lnTo>
                    <a:pt x="1495" y="743"/>
                  </a:lnTo>
                  <a:lnTo>
                    <a:pt x="1487" y="745"/>
                  </a:lnTo>
                  <a:lnTo>
                    <a:pt x="1478" y="744"/>
                  </a:lnTo>
                  <a:lnTo>
                    <a:pt x="1472" y="743"/>
                  </a:lnTo>
                  <a:lnTo>
                    <a:pt x="1465" y="737"/>
                  </a:lnTo>
                  <a:lnTo>
                    <a:pt x="1462" y="728"/>
                  </a:lnTo>
                  <a:lnTo>
                    <a:pt x="1478" y="721"/>
                  </a:lnTo>
                  <a:lnTo>
                    <a:pt x="1498" y="714"/>
                  </a:lnTo>
                  <a:lnTo>
                    <a:pt x="1517" y="709"/>
                  </a:lnTo>
                  <a:lnTo>
                    <a:pt x="1537" y="705"/>
                  </a:lnTo>
                  <a:lnTo>
                    <a:pt x="1557" y="699"/>
                  </a:lnTo>
                  <a:lnTo>
                    <a:pt x="1577" y="695"/>
                  </a:lnTo>
                  <a:lnTo>
                    <a:pt x="1597" y="688"/>
                  </a:lnTo>
                  <a:lnTo>
                    <a:pt x="1617" y="682"/>
                  </a:lnTo>
                  <a:lnTo>
                    <a:pt x="1616" y="674"/>
                  </a:lnTo>
                  <a:lnTo>
                    <a:pt x="1611" y="668"/>
                  </a:lnTo>
                  <a:lnTo>
                    <a:pt x="1583" y="671"/>
                  </a:lnTo>
                  <a:lnTo>
                    <a:pt x="1556" y="678"/>
                  </a:lnTo>
                  <a:lnTo>
                    <a:pt x="1529" y="683"/>
                  </a:lnTo>
                  <a:lnTo>
                    <a:pt x="1502" y="688"/>
                  </a:lnTo>
                  <a:lnTo>
                    <a:pt x="1474" y="693"/>
                  </a:lnTo>
                  <a:lnTo>
                    <a:pt x="1447" y="697"/>
                  </a:lnTo>
                  <a:lnTo>
                    <a:pt x="1420" y="699"/>
                  </a:lnTo>
                  <a:lnTo>
                    <a:pt x="1393" y="699"/>
                  </a:lnTo>
                  <a:lnTo>
                    <a:pt x="1389" y="696"/>
                  </a:lnTo>
                  <a:lnTo>
                    <a:pt x="1386" y="695"/>
                  </a:lnTo>
                  <a:lnTo>
                    <a:pt x="1381" y="693"/>
                  </a:lnTo>
                  <a:lnTo>
                    <a:pt x="1381" y="688"/>
                  </a:lnTo>
                  <a:lnTo>
                    <a:pt x="1396" y="680"/>
                  </a:lnTo>
                  <a:lnTo>
                    <a:pt x="1414" y="674"/>
                  </a:lnTo>
                  <a:lnTo>
                    <a:pt x="1432" y="671"/>
                  </a:lnTo>
                  <a:lnTo>
                    <a:pt x="1450" y="668"/>
                  </a:lnTo>
                  <a:lnTo>
                    <a:pt x="1467" y="663"/>
                  </a:lnTo>
                  <a:lnTo>
                    <a:pt x="1485" y="656"/>
                  </a:lnTo>
                  <a:lnTo>
                    <a:pt x="1500" y="645"/>
                  </a:lnTo>
                  <a:lnTo>
                    <a:pt x="1514" y="632"/>
                  </a:lnTo>
                  <a:lnTo>
                    <a:pt x="1507" y="628"/>
                  </a:lnTo>
                  <a:lnTo>
                    <a:pt x="1501" y="628"/>
                  </a:lnTo>
                  <a:lnTo>
                    <a:pt x="1493" y="628"/>
                  </a:lnTo>
                  <a:lnTo>
                    <a:pt x="1487" y="632"/>
                  </a:lnTo>
                  <a:lnTo>
                    <a:pt x="1458" y="638"/>
                  </a:lnTo>
                  <a:lnTo>
                    <a:pt x="1430" y="645"/>
                  </a:lnTo>
                  <a:lnTo>
                    <a:pt x="1401" y="653"/>
                  </a:lnTo>
                  <a:lnTo>
                    <a:pt x="1373" y="662"/>
                  </a:lnTo>
                  <a:lnTo>
                    <a:pt x="1344" y="667"/>
                  </a:lnTo>
                  <a:lnTo>
                    <a:pt x="1315" y="669"/>
                  </a:lnTo>
                  <a:lnTo>
                    <a:pt x="1286" y="668"/>
                  </a:lnTo>
                  <a:lnTo>
                    <a:pt x="1258" y="662"/>
                  </a:lnTo>
                  <a:lnTo>
                    <a:pt x="1268" y="653"/>
                  </a:lnTo>
                  <a:lnTo>
                    <a:pt x="1281" y="648"/>
                  </a:lnTo>
                  <a:lnTo>
                    <a:pt x="1295" y="643"/>
                  </a:lnTo>
                  <a:lnTo>
                    <a:pt x="1309" y="641"/>
                  </a:lnTo>
                  <a:lnTo>
                    <a:pt x="1323" y="638"/>
                  </a:lnTo>
                  <a:lnTo>
                    <a:pt x="1337" y="636"/>
                  </a:lnTo>
                  <a:lnTo>
                    <a:pt x="1350" y="631"/>
                  </a:lnTo>
                  <a:lnTo>
                    <a:pt x="1364" y="628"/>
                  </a:lnTo>
                  <a:lnTo>
                    <a:pt x="1374" y="625"/>
                  </a:lnTo>
                  <a:lnTo>
                    <a:pt x="1385" y="623"/>
                  </a:lnTo>
                  <a:lnTo>
                    <a:pt x="1394" y="620"/>
                  </a:lnTo>
                  <a:lnTo>
                    <a:pt x="1402" y="612"/>
                  </a:lnTo>
                  <a:lnTo>
                    <a:pt x="1402" y="606"/>
                  </a:lnTo>
                  <a:lnTo>
                    <a:pt x="1401" y="601"/>
                  </a:lnTo>
                  <a:lnTo>
                    <a:pt x="1398" y="597"/>
                  </a:lnTo>
                  <a:lnTo>
                    <a:pt x="1394" y="596"/>
                  </a:lnTo>
                  <a:lnTo>
                    <a:pt x="1386" y="596"/>
                  </a:lnTo>
                  <a:lnTo>
                    <a:pt x="1377" y="600"/>
                  </a:lnTo>
                  <a:lnTo>
                    <a:pt x="1361" y="603"/>
                  </a:lnTo>
                  <a:lnTo>
                    <a:pt x="1347" y="607"/>
                  </a:lnTo>
                  <a:lnTo>
                    <a:pt x="1332" y="610"/>
                  </a:lnTo>
                  <a:lnTo>
                    <a:pt x="1318" y="614"/>
                  </a:lnTo>
                  <a:lnTo>
                    <a:pt x="1302" y="617"/>
                  </a:lnTo>
                  <a:lnTo>
                    <a:pt x="1288" y="621"/>
                  </a:lnTo>
                  <a:lnTo>
                    <a:pt x="1273" y="624"/>
                  </a:lnTo>
                  <a:lnTo>
                    <a:pt x="1259" y="628"/>
                  </a:lnTo>
                  <a:lnTo>
                    <a:pt x="1244" y="631"/>
                  </a:lnTo>
                  <a:lnTo>
                    <a:pt x="1229" y="635"/>
                  </a:lnTo>
                  <a:lnTo>
                    <a:pt x="1214" y="638"/>
                  </a:lnTo>
                  <a:lnTo>
                    <a:pt x="1198" y="642"/>
                  </a:lnTo>
                  <a:lnTo>
                    <a:pt x="1182" y="644"/>
                  </a:lnTo>
                  <a:lnTo>
                    <a:pt x="1168" y="644"/>
                  </a:lnTo>
                  <a:lnTo>
                    <a:pt x="1153" y="642"/>
                  </a:lnTo>
                  <a:lnTo>
                    <a:pt x="1139" y="639"/>
                  </a:lnTo>
                  <a:lnTo>
                    <a:pt x="1133" y="635"/>
                  </a:lnTo>
                  <a:lnTo>
                    <a:pt x="1127" y="635"/>
                  </a:lnTo>
                  <a:lnTo>
                    <a:pt x="1120" y="635"/>
                  </a:lnTo>
                  <a:lnTo>
                    <a:pt x="1112" y="635"/>
                  </a:lnTo>
                  <a:lnTo>
                    <a:pt x="1117" y="629"/>
                  </a:lnTo>
                  <a:lnTo>
                    <a:pt x="1124" y="626"/>
                  </a:lnTo>
                  <a:lnTo>
                    <a:pt x="1131" y="624"/>
                  </a:lnTo>
                  <a:lnTo>
                    <a:pt x="1139" y="623"/>
                  </a:lnTo>
                  <a:lnTo>
                    <a:pt x="1146" y="621"/>
                  </a:lnTo>
                  <a:lnTo>
                    <a:pt x="1153" y="619"/>
                  </a:lnTo>
                  <a:lnTo>
                    <a:pt x="1161" y="615"/>
                  </a:lnTo>
                  <a:lnTo>
                    <a:pt x="1168" y="612"/>
                  </a:lnTo>
                  <a:lnTo>
                    <a:pt x="1176" y="609"/>
                  </a:lnTo>
                  <a:lnTo>
                    <a:pt x="1186" y="608"/>
                  </a:lnTo>
                  <a:lnTo>
                    <a:pt x="1195" y="607"/>
                  </a:lnTo>
                  <a:lnTo>
                    <a:pt x="1205" y="607"/>
                  </a:lnTo>
                  <a:lnTo>
                    <a:pt x="1214" y="605"/>
                  </a:lnTo>
                  <a:lnTo>
                    <a:pt x="1223" y="603"/>
                  </a:lnTo>
                  <a:lnTo>
                    <a:pt x="1233" y="599"/>
                  </a:lnTo>
                  <a:lnTo>
                    <a:pt x="1243" y="596"/>
                  </a:lnTo>
                  <a:lnTo>
                    <a:pt x="1225" y="581"/>
                  </a:lnTo>
                  <a:lnTo>
                    <a:pt x="1208" y="575"/>
                  </a:lnTo>
                  <a:lnTo>
                    <a:pt x="1189" y="574"/>
                  </a:lnTo>
                  <a:lnTo>
                    <a:pt x="1170" y="580"/>
                  </a:lnTo>
                  <a:lnTo>
                    <a:pt x="1150" y="585"/>
                  </a:lnTo>
                  <a:lnTo>
                    <a:pt x="1130" y="592"/>
                  </a:lnTo>
                  <a:lnTo>
                    <a:pt x="1110" y="597"/>
                  </a:lnTo>
                  <a:lnTo>
                    <a:pt x="1092" y="600"/>
                  </a:lnTo>
                  <a:lnTo>
                    <a:pt x="1080" y="601"/>
                  </a:lnTo>
                  <a:lnTo>
                    <a:pt x="1068" y="603"/>
                  </a:lnTo>
                  <a:lnTo>
                    <a:pt x="1055" y="606"/>
                  </a:lnTo>
                  <a:lnTo>
                    <a:pt x="1043" y="609"/>
                  </a:lnTo>
                  <a:lnTo>
                    <a:pt x="1031" y="609"/>
                  </a:lnTo>
                  <a:lnTo>
                    <a:pt x="1020" y="608"/>
                  </a:lnTo>
                  <a:lnTo>
                    <a:pt x="1009" y="603"/>
                  </a:lnTo>
                  <a:lnTo>
                    <a:pt x="1003" y="596"/>
                  </a:lnTo>
                  <a:lnTo>
                    <a:pt x="1019" y="588"/>
                  </a:lnTo>
                  <a:lnTo>
                    <a:pt x="1037" y="582"/>
                  </a:lnTo>
                  <a:lnTo>
                    <a:pt x="1054" y="577"/>
                  </a:lnTo>
                  <a:lnTo>
                    <a:pt x="1074" y="572"/>
                  </a:lnTo>
                  <a:lnTo>
                    <a:pt x="1091" y="567"/>
                  </a:lnTo>
                  <a:lnTo>
                    <a:pt x="1109" y="561"/>
                  </a:lnTo>
                  <a:lnTo>
                    <a:pt x="1127" y="554"/>
                  </a:lnTo>
                  <a:lnTo>
                    <a:pt x="1146" y="548"/>
                  </a:lnTo>
                  <a:lnTo>
                    <a:pt x="1140" y="542"/>
                  </a:lnTo>
                  <a:lnTo>
                    <a:pt x="1134" y="540"/>
                  </a:lnTo>
                  <a:lnTo>
                    <a:pt x="1126" y="538"/>
                  </a:lnTo>
                  <a:lnTo>
                    <a:pt x="1121" y="536"/>
                  </a:lnTo>
                  <a:lnTo>
                    <a:pt x="1091" y="540"/>
                  </a:lnTo>
                  <a:lnTo>
                    <a:pt x="1062" y="546"/>
                  </a:lnTo>
                  <a:lnTo>
                    <a:pt x="1033" y="553"/>
                  </a:lnTo>
                  <a:lnTo>
                    <a:pt x="1005" y="560"/>
                  </a:lnTo>
                  <a:lnTo>
                    <a:pt x="976" y="566"/>
                  </a:lnTo>
                  <a:lnTo>
                    <a:pt x="947" y="571"/>
                  </a:lnTo>
                  <a:lnTo>
                    <a:pt x="918" y="573"/>
                  </a:lnTo>
                  <a:lnTo>
                    <a:pt x="889" y="573"/>
                  </a:lnTo>
                  <a:lnTo>
                    <a:pt x="885" y="569"/>
                  </a:lnTo>
                  <a:lnTo>
                    <a:pt x="882" y="569"/>
                  </a:lnTo>
                  <a:lnTo>
                    <a:pt x="878" y="569"/>
                  </a:lnTo>
                  <a:lnTo>
                    <a:pt x="875" y="569"/>
                  </a:lnTo>
                  <a:lnTo>
                    <a:pt x="877" y="563"/>
                  </a:lnTo>
                  <a:lnTo>
                    <a:pt x="892" y="557"/>
                  </a:lnTo>
                  <a:lnTo>
                    <a:pt x="907" y="552"/>
                  </a:lnTo>
                  <a:lnTo>
                    <a:pt x="923" y="546"/>
                  </a:lnTo>
                  <a:lnTo>
                    <a:pt x="939" y="542"/>
                  </a:lnTo>
                  <a:lnTo>
                    <a:pt x="954" y="536"/>
                  </a:lnTo>
                  <a:lnTo>
                    <a:pt x="970" y="531"/>
                  </a:lnTo>
                  <a:lnTo>
                    <a:pt x="988" y="528"/>
                  </a:lnTo>
                  <a:lnTo>
                    <a:pt x="1005" y="525"/>
                  </a:lnTo>
                  <a:lnTo>
                    <a:pt x="1011" y="520"/>
                  </a:lnTo>
                  <a:lnTo>
                    <a:pt x="992" y="510"/>
                  </a:lnTo>
                  <a:lnTo>
                    <a:pt x="974" y="508"/>
                  </a:lnTo>
                  <a:lnTo>
                    <a:pt x="954" y="509"/>
                  </a:lnTo>
                  <a:lnTo>
                    <a:pt x="936" y="514"/>
                  </a:lnTo>
                  <a:lnTo>
                    <a:pt x="915" y="520"/>
                  </a:lnTo>
                  <a:lnTo>
                    <a:pt x="895" y="526"/>
                  </a:lnTo>
                  <a:lnTo>
                    <a:pt x="875" y="529"/>
                  </a:lnTo>
                  <a:lnTo>
                    <a:pt x="854" y="531"/>
                  </a:lnTo>
                  <a:lnTo>
                    <a:pt x="841" y="535"/>
                  </a:lnTo>
                  <a:lnTo>
                    <a:pt x="829" y="536"/>
                  </a:lnTo>
                  <a:lnTo>
                    <a:pt x="816" y="535"/>
                  </a:lnTo>
                  <a:lnTo>
                    <a:pt x="805" y="532"/>
                  </a:lnTo>
                  <a:lnTo>
                    <a:pt x="792" y="529"/>
                  </a:lnTo>
                  <a:lnTo>
                    <a:pt x="780" y="526"/>
                  </a:lnTo>
                  <a:lnTo>
                    <a:pt x="767" y="522"/>
                  </a:lnTo>
                  <a:lnTo>
                    <a:pt x="756" y="520"/>
                  </a:lnTo>
                  <a:lnTo>
                    <a:pt x="751" y="514"/>
                  </a:lnTo>
                  <a:lnTo>
                    <a:pt x="746" y="510"/>
                  </a:lnTo>
                  <a:lnTo>
                    <a:pt x="741" y="509"/>
                  </a:lnTo>
                  <a:lnTo>
                    <a:pt x="736" y="513"/>
                  </a:lnTo>
                  <a:lnTo>
                    <a:pt x="726" y="511"/>
                  </a:lnTo>
                  <a:lnTo>
                    <a:pt x="716" y="510"/>
                  </a:lnTo>
                  <a:lnTo>
                    <a:pt x="707" y="509"/>
                  </a:lnTo>
                  <a:lnTo>
                    <a:pt x="698" y="508"/>
                  </a:lnTo>
                  <a:lnTo>
                    <a:pt x="688" y="506"/>
                  </a:lnTo>
                  <a:lnTo>
                    <a:pt x="680" y="504"/>
                  </a:lnTo>
                  <a:lnTo>
                    <a:pt x="670" y="502"/>
                  </a:lnTo>
                  <a:lnTo>
                    <a:pt x="661" y="502"/>
                  </a:lnTo>
                  <a:lnTo>
                    <a:pt x="674" y="496"/>
                  </a:lnTo>
                  <a:lnTo>
                    <a:pt x="687" y="490"/>
                  </a:lnTo>
                  <a:lnTo>
                    <a:pt x="700" y="485"/>
                  </a:lnTo>
                  <a:lnTo>
                    <a:pt x="714" y="481"/>
                  </a:lnTo>
                  <a:lnTo>
                    <a:pt x="727" y="477"/>
                  </a:lnTo>
                  <a:lnTo>
                    <a:pt x="740" y="472"/>
                  </a:lnTo>
                  <a:lnTo>
                    <a:pt x="754" y="469"/>
                  </a:lnTo>
                  <a:lnTo>
                    <a:pt x="769" y="466"/>
                  </a:lnTo>
                  <a:lnTo>
                    <a:pt x="781" y="457"/>
                  </a:lnTo>
                  <a:lnTo>
                    <a:pt x="778" y="453"/>
                  </a:lnTo>
                  <a:lnTo>
                    <a:pt x="763" y="456"/>
                  </a:lnTo>
                  <a:lnTo>
                    <a:pt x="749" y="459"/>
                  </a:lnTo>
                  <a:lnTo>
                    <a:pt x="734" y="463"/>
                  </a:lnTo>
                  <a:lnTo>
                    <a:pt x="721" y="466"/>
                  </a:lnTo>
                  <a:lnTo>
                    <a:pt x="706" y="467"/>
                  </a:lnTo>
                  <a:lnTo>
                    <a:pt x="692" y="469"/>
                  </a:lnTo>
                  <a:lnTo>
                    <a:pt x="677" y="469"/>
                  </a:lnTo>
                  <a:lnTo>
                    <a:pt x="664" y="469"/>
                  </a:lnTo>
                  <a:lnTo>
                    <a:pt x="661" y="459"/>
                  </a:lnTo>
                  <a:lnTo>
                    <a:pt x="659" y="455"/>
                  </a:lnTo>
                  <a:lnTo>
                    <a:pt x="654" y="453"/>
                  </a:lnTo>
                  <a:lnTo>
                    <a:pt x="649" y="454"/>
                  </a:lnTo>
                  <a:lnTo>
                    <a:pt x="642" y="454"/>
                  </a:lnTo>
                  <a:lnTo>
                    <a:pt x="636" y="456"/>
                  </a:lnTo>
                  <a:lnTo>
                    <a:pt x="629" y="458"/>
                  </a:lnTo>
                  <a:lnTo>
                    <a:pt x="624" y="459"/>
                  </a:lnTo>
                  <a:lnTo>
                    <a:pt x="608" y="463"/>
                  </a:lnTo>
                  <a:lnTo>
                    <a:pt x="592" y="468"/>
                  </a:lnTo>
                  <a:lnTo>
                    <a:pt x="574" y="472"/>
                  </a:lnTo>
                  <a:lnTo>
                    <a:pt x="558" y="477"/>
                  </a:lnTo>
                  <a:lnTo>
                    <a:pt x="541" y="479"/>
                  </a:lnTo>
                  <a:lnTo>
                    <a:pt x="524" y="479"/>
                  </a:lnTo>
                  <a:lnTo>
                    <a:pt x="508" y="475"/>
                  </a:lnTo>
                  <a:lnTo>
                    <a:pt x="494" y="469"/>
                  </a:lnTo>
                  <a:lnTo>
                    <a:pt x="509" y="463"/>
                  </a:lnTo>
                  <a:lnTo>
                    <a:pt x="524" y="456"/>
                  </a:lnTo>
                  <a:lnTo>
                    <a:pt x="540" y="450"/>
                  </a:lnTo>
                  <a:lnTo>
                    <a:pt x="556" y="443"/>
                  </a:lnTo>
                  <a:lnTo>
                    <a:pt x="571" y="437"/>
                  </a:lnTo>
                  <a:lnTo>
                    <a:pt x="587" y="431"/>
                  </a:lnTo>
                  <a:lnTo>
                    <a:pt x="603" y="426"/>
                  </a:lnTo>
                  <a:lnTo>
                    <a:pt x="621" y="422"/>
                  </a:lnTo>
                  <a:lnTo>
                    <a:pt x="625" y="417"/>
                  </a:lnTo>
                  <a:lnTo>
                    <a:pt x="626" y="413"/>
                  </a:lnTo>
                  <a:lnTo>
                    <a:pt x="627" y="407"/>
                  </a:lnTo>
                  <a:lnTo>
                    <a:pt x="632" y="403"/>
                  </a:lnTo>
                  <a:lnTo>
                    <a:pt x="624" y="402"/>
                  </a:lnTo>
                  <a:lnTo>
                    <a:pt x="614" y="402"/>
                  </a:lnTo>
                  <a:lnTo>
                    <a:pt x="603" y="403"/>
                  </a:lnTo>
                  <a:lnTo>
                    <a:pt x="596" y="408"/>
                  </a:lnTo>
                  <a:lnTo>
                    <a:pt x="575" y="413"/>
                  </a:lnTo>
                  <a:lnTo>
                    <a:pt x="556" y="418"/>
                  </a:lnTo>
                  <a:lnTo>
                    <a:pt x="537" y="424"/>
                  </a:lnTo>
                  <a:lnTo>
                    <a:pt x="517" y="429"/>
                  </a:lnTo>
                  <a:lnTo>
                    <a:pt x="497" y="433"/>
                  </a:lnTo>
                  <a:lnTo>
                    <a:pt x="476" y="438"/>
                  </a:lnTo>
                  <a:lnTo>
                    <a:pt x="457" y="442"/>
                  </a:lnTo>
                  <a:lnTo>
                    <a:pt x="438" y="449"/>
                  </a:lnTo>
                  <a:lnTo>
                    <a:pt x="428" y="444"/>
                  </a:lnTo>
                  <a:lnTo>
                    <a:pt x="419" y="441"/>
                  </a:lnTo>
                  <a:lnTo>
                    <a:pt x="410" y="439"/>
                  </a:lnTo>
                  <a:lnTo>
                    <a:pt x="401" y="437"/>
                  </a:lnTo>
                  <a:lnTo>
                    <a:pt x="411" y="432"/>
                  </a:lnTo>
                  <a:lnTo>
                    <a:pt x="422" y="428"/>
                  </a:lnTo>
                  <a:lnTo>
                    <a:pt x="432" y="424"/>
                  </a:lnTo>
                  <a:lnTo>
                    <a:pt x="443" y="421"/>
                  </a:lnTo>
                  <a:lnTo>
                    <a:pt x="453" y="415"/>
                  </a:lnTo>
                  <a:lnTo>
                    <a:pt x="463" y="411"/>
                  </a:lnTo>
                  <a:lnTo>
                    <a:pt x="474" y="407"/>
                  </a:lnTo>
                  <a:lnTo>
                    <a:pt x="486" y="403"/>
                  </a:lnTo>
                  <a:lnTo>
                    <a:pt x="486" y="397"/>
                  </a:lnTo>
                  <a:lnTo>
                    <a:pt x="484" y="393"/>
                  </a:lnTo>
                  <a:lnTo>
                    <a:pt x="465" y="397"/>
                  </a:lnTo>
                  <a:lnTo>
                    <a:pt x="445" y="403"/>
                  </a:lnTo>
                  <a:lnTo>
                    <a:pt x="426" y="410"/>
                  </a:lnTo>
                  <a:lnTo>
                    <a:pt x="408" y="417"/>
                  </a:lnTo>
                  <a:lnTo>
                    <a:pt x="388" y="421"/>
                  </a:lnTo>
                  <a:lnTo>
                    <a:pt x="369" y="423"/>
                  </a:lnTo>
                  <a:lnTo>
                    <a:pt x="349" y="418"/>
                  </a:lnTo>
                  <a:lnTo>
                    <a:pt x="332" y="410"/>
                  </a:lnTo>
                  <a:lnTo>
                    <a:pt x="324" y="412"/>
                  </a:lnTo>
                  <a:lnTo>
                    <a:pt x="317" y="413"/>
                  </a:lnTo>
                  <a:lnTo>
                    <a:pt x="311" y="412"/>
                  </a:lnTo>
                  <a:lnTo>
                    <a:pt x="304" y="410"/>
                  </a:lnTo>
                  <a:lnTo>
                    <a:pt x="298" y="407"/>
                  </a:lnTo>
                  <a:lnTo>
                    <a:pt x="291" y="403"/>
                  </a:lnTo>
                  <a:lnTo>
                    <a:pt x="285" y="400"/>
                  </a:lnTo>
                  <a:lnTo>
                    <a:pt x="278" y="399"/>
                  </a:lnTo>
                  <a:lnTo>
                    <a:pt x="298" y="393"/>
                  </a:lnTo>
                  <a:lnTo>
                    <a:pt x="317" y="386"/>
                  </a:lnTo>
                  <a:lnTo>
                    <a:pt x="336" y="380"/>
                  </a:lnTo>
                  <a:lnTo>
                    <a:pt x="356" y="373"/>
                  </a:lnTo>
                  <a:lnTo>
                    <a:pt x="374" y="365"/>
                  </a:lnTo>
                  <a:lnTo>
                    <a:pt x="394" y="357"/>
                  </a:lnTo>
                  <a:lnTo>
                    <a:pt x="412" y="347"/>
                  </a:lnTo>
                  <a:lnTo>
                    <a:pt x="430" y="339"/>
                  </a:lnTo>
                  <a:lnTo>
                    <a:pt x="434" y="337"/>
                  </a:lnTo>
                  <a:lnTo>
                    <a:pt x="426" y="325"/>
                  </a:lnTo>
                  <a:lnTo>
                    <a:pt x="417" y="321"/>
                  </a:lnTo>
                  <a:lnTo>
                    <a:pt x="408" y="321"/>
                  </a:lnTo>
                  <a:lnTo>
                    <a:pt x="398" y="324"/>
                  </a:lnTo>
                  <a:lnTo>
                    <a:pt x="387" y="328"/>
                  </a:lnTo>
                  <a:lnTo>
                    <a:pt x="377" y="332"/>
                  </a:lnTo>
                  <a:lnTo>
                    <a:pt x="368" y="336"/>
                  </a:lnTo>
                  <a:lnTo>
                    <a:pt x="358" y="337"/>
                  </a:lnTo>
                  <a:lnTo>
                    <a:pt x="339" y="340"/>
                  </a:lnTo>
                  <a:lnTo>
                    <a:pt x="319" y="346"/>
                  </a:lnTo>
                  <a:lnTo>
                    <a:pt x="300" y="352"/>
                  </a:lnTo>
                  <a:lnTo>
                    <a:pt x="282" y="357"/>
                  </a:lnTo>
                  <a:lnTo>
                    <a:pt x="262" y="360"/>
                  </a:lnTo>
                  <a:lnTo>
                    <a:pt x="243" y="365"/>
                  </a:lnTo>
                  <a:lnTo>
                    <a:pt x="225" y="366"/>
                  </a:lnTo>
                  <a:lnTo>
                    <a:pt x="206" y="366"/>
                  </a:lnTo>
                  <a:lnTo>
                    <a:pt x="188" y="356"/>
                  </a:lnTo>
                  <a:lnTo>
                    <a:pt x="202" y="350"/>
                  </a:lnTo>
                  <a:lnTo>
                    <a:pt x="218" y="343"/>
                  </a:lnTo>
                  <a:lnTo>
                    <a:pt x="234" y="337"/>
                  </a:lnTo>
                  <a:lnTo>
                    <a:pt x="251" y="330"/>
                  </a:lnTo>
                  <a:lnTo>
                    <a:pt x="268" y="324"/>
                  </a:lnTo>
                  <a:lnTo>
                    <a:pt x="286" y="318"/>
                  </a:lnTo>
                  <a:lnTo>
                    <a:pt x="302" y="312"/>
                  </a:lnTo>
                  <a:lnTo>
                    <a:pt x="320" y="307"/>
                  </a:lnTo>
                  <a:lnTo>
                    <a:pt x="318" y="301"/>
                  </a:lnTo>
                  <a:lnTo>
                    <a:pt x="315" y="298"/>
                  </a:lnTo>
                  <a:lnTo>
                    <a:pt x="311" y="294"/>
                  </a:lnTo>
                  <a:lnTo>
                    <a:pt x="307" y="289"/>
                  </a:lnTo>
                  <a:lnTo>
                    <a:pt x="286" y="294"/>
                  </a:lnTo>
                  <a:lnTo>
                    <a:pt x="265" y="299"/>
                  </a:lnTo>
                  <a:lnTo>
                    <a:pt x="244" y="304"/>
                  </a:lnTo>
                  <a:lnTo>
                    <a:pt x="223" y="310"/>
                  </a:lnTo>
                  <a:lnTo>
                    <a:pt x="202" y="314"/>
                  </a:lnTo>
                  <a:lnTo>
                    <a:pt x="180" y="319"/>
                  </a:lnTo>
                  <a:lnTo>
                    <a:pt x="159" y="323"/>
                  </a:lnTo>
                  <a:lnTo>
                    <a:pt x="138" y="327"/>
                  </a:lnTo>
                  <a:lnTo>
                    <a:pt x="129" y="324"/>
                  </a:lnTo>
                  <a:lnTo>
                    <a:pt x="119" y="322"/>
                  </a:lnTo>
                  <a:lnTo>
                    <a:pt x="108" y="318"/>
                  </a:lnTo>
                  <a:lnTo>
                    <a:pt x="99" y="316"/>
                  </a:lnTo>
                  <a:lnTo>
                    <a:pt x="120" y="307"/>
                  </a:lnTo>
                  <a:lnTo>
                    <a:pt x="143" y="298"/>
                  </a:lnTo>
                  <a:lnTo>
                    <a:pt x="165" y="289"/>
                  </a:lnTo>
                  <a:lnTo>
                    <a:pt x="188" y="283"/>
                  </a:lnTo>
                  <a:lnTo>
                    <a:pt x="210" y="274"/>
                  </a:lnTo>
                  <a:lnTo>
                    <a:pt x="232" y="269"/>
                  </a:lnTo>
                  <a:lnTo>
                    <a:pt x="255" y="263"/>
                  </a:lnTo>
                  <a:lnTo>
                    <a:pt x="278" y="260"/>
                  </a:lnTo>
                  <a:lnTo>
                    <a:pt x="282" y="257"/>
                  </a:lnTo>
                  <a:lnTo>
                    <a:pt x="285" y="255"/>
                  </a:lnTo>
                  <a:lnTo>
                    <a:pt x="287" y="251"/>
                  </a:lnTo>
                  <a:lnTo>
                    <a:pt x="287" y="246"/>
                  </a:lnTo>
                  <a:lnTo>
                    <a:pt x="285" y="244"/>
                  </a:lnTo>
                  <a:lnTo>
                    <a:pt x="270" y="246"/>
                  </a:lnTo>
                  <a:lnTo>
                    <a:pt x="255" y="250"/>
                  </a:lnTo>
                  <a:lnTo>
                    <a:pt x="240" y="253"/>
                  </a:lnTo>
                  <a:lnTo>
                    <a:pt x="225" y="258"/>
                  </a:lnTo>
                  <a:lnTo>
                    <a:pt x="210" y="260"/>
                  </a:lnTo>
                  <a:lnTo>
                    <a:pt x="196" y="261"/>
                  </a:lnTo>
                  <a:lnTo>
                    <a:pt x="180" y="260"/>
                  </a:lnTo>
                  <a:lnTo>
                    <a:pt x="168" y="256"/>
                  </a:lnTo>
                  <a:lnTo>
                    <a:pt x="145" y="256"/>
                  </a:lnTo>
                  <a:lnTo>
                    <a:pt x="126" y="259"/>
                  </a:lnTo>
                  <a:lnTo>
                    <a:pt x="106" y="263"/>
                  </a:lnTo>
                  <a:lnTo>
                    <a:pt x="87" y="270"/>
                  </a:lnTo>
                  <a:lnTo>
                    <a:pt x="66" y="274"/>
                  </a:lnTo>
                  <a:lnTo>
                    <a:pt x="47" y="279"/>
                  </a:lnTo>
                  <a:lnTo>
                    <a:pt x="27" y="282"/>
                  </a:lnTo>
                  <a:lnTo>
                    <a:pt x="6" y="283"/>
                  </a:lnTo>
                  <a:lnTo>
                    <a:pt x="1" y="275"/>
                  </a:lnTo>
                  <a:lnTo>
                    <a:pt x="4" y="267"/>
                  </a:lnTo>
                  <a:lnTo>
                    <a:pt x="9" y="263"/>
                  </a:lnTo>
                  <a:lnTo>
                    <a:pt x="17" y="261"/>
                  </a:lnTo>
                  <a:lnTo>
                    <a:pt x="23" y="260"/>
                  </a:lnTo>
                  <a:lnTo>
                    <a:pt x="32" y="259"/>
                  </a:lnTo>
                  <a:lnTo>
                    <a:pt x="38" y="256"/>
                  </a:lnTo>
                  <a:lnTo>
                    <a:pt x="46" y="254"/>
                  </a:lnTo>
                  <a:lnTo>
                    <a:pt x="52" y="251"/>
                  </a:lnTo>
                  <a:lnTo>
                    <a:pt x="58" y="246"/>
                  </a:lnTo>
                  <a:lnTo>
                    <a:pt x="49" y="242"/>
                  </a:lnTo>
                  <a:lnTo>
                    <a:pt x="42" y="242"/>
                  </a:lnTo>
                  <a:lnTo>
                    <a:pt x="33" y="243"/>
                  </a:lnTo>
                  <a:lnTo>
                    <a:pt x="24" y="245"/>
                  </a:lnTo>
                  <a:lnTo>
                    <a:pt x="16" y="245"/>
                  </a:lnTo>
                  <a:lnTo>
                    <a:pt x="9" y="246"/>
                  </a:lnTo>
                  <a:lnTo>
                    <a:pt x="3" y="243"/>
                  </a:lnTo>
                  <a:lnTo>
                    <a:pt x="0" y="238"/>
                  </a:lnTo>
                  <a:lnTo>
                    <a:pt x="23" y="220"/>
                  </a:lnTo>
                  <a:lnTo>
                    <a:pt x="50" y="208"/>
                  </a:lnTo>
                  <a:lnTo>
                    <a:pt x="76" y="197"/>
                  </a:lnTo>
                  <a:lnTo>
                    <a:pt x="104" y="190"/>
                  </a:lnTo>
                  <a:lnTo>
                    <a:pt x="132" y="184"/>
                  </a:lnTo>
                  <a:lnTo>
                    <a:pt x="161" y="180"/>
                  </a:lnTo>
                  <a:lnTo>
                    <a:pt x="190" y="175"/>
                  </a:lnTo>
                  <a:lnTo>
                    <a:pt x="219" y="172"/>
                  </a:lnTo>
                  <a:lnTo>
                    <a:pt x="226" y="162"/>
                  </a:lnTo>
                  <a:lnTo>
                    <a:pt x="235" y="156"/>
                  </a:lnTo>
                  <a:lnTo>
                    <a:pt x="245" y="152"/>
                  </a:lnTo>
                  <a:lnTo>
                    <a:pt x="256" y="149"/>
                  </a:lnTo>
                  <a:lnTo>
                    <a:pt x="265" y="146"/>
                  </a:lnTo>
                  <a:lnTo>
                    <a:pt x="275" y="145"/>
                  </a:lnTo>
                  <a:lnTo>
                    <a:pt x="285" y="143"/>
                  </a:lnTo>
                  <a:lnTo>
                    <a:pt x="296" y="141"/>
                  </a:lnTo>
                  <a:lnTo>
                    <a:pt x="357" y="126"/>
                  </a:lnTo>
                  <a:lnTo>
                    <a:pt x="419" y="114"/>
                  </a:lnTo>
                  <a:lnTo>
                    <a:pt x="482" y="103"/>
                  </a:lnTo>
                  <a:lnTo>
                    <a:pt x="546" y="96"/>
                  </a:lnTo>
                  <a:lnTo>
                    <a:pt x="610" y="88"/>
                  </a:lnTo>
                  <a:lnTo>
                    <a:pt x="674" y="83"/>
                  </a:lnTo>
                  <a:lnTo>
                    <a:pt x="739" y="76"/>
                  </a:lnTo>
                  <a:lnTo>
                    <a:pt x="805" y="71"/>
                  </a:lnTo>
                  <a:lnTo>
                    <a:pt x="822" y="66"/>
                  </a:lnTo>
                  <a:lnTo>
                    <a:pt x="839" y="60"/>
                  </a:lnTo>
                  <a:lnTo>
                    <a:pt x="856" y="55"/>
                  </a:lnTo>
                  <a:lnTo>
                    <a:pt x="875" y="50"/>
                  </a:lnTo>
                  <a:lnTo>
                    <a:pt x="892" y="45"/>
                  </a:lnTo>
                  <a:lnTo>
                    <a:pt x="910" y="42"/>
                  </a:lnTo>
                  <a:lnTo>
                    <a:pt x="929" y="39"/>
                  </a:lnTo>
                  <a:lnTo>
                    <a:pt x="949" y="38"/>
                  </a:lnTo>
                  <a:lnTo>
                    <a:pt x="990" y="33"/>
                  </a:lnTo>
                  <a:lnTo>
                    <a:pt x="1032" y="30"/>
                  </a:lnTo>
                  <a:lnTo>
                    <a:pt x="1073" y="26"/>
                  </a:lnTo>
                  <a:lnTo>
                    <a:pt x="1113" y="21"/>
                  </a:lnTo>
                  <a:lnTo>
                    <a:pt x="1154" y="16"/>
                  </a:lnTo>
                  <a:lnTo>
                    <a:pt x="1195" y="12"/>
                  </a:lnTo>
                  <a:lnTo>
                    <a:pt x="1236" y="6"/>
                  </a:lnTo>
                  <a:lnTo>
                    <a:pt x="1278" y="2"/>
                  </a:lnTo>
                  <a:lnTo>
                    <a:pt x="1291" y="3"/>
                  </a:lnTo>
                  <a:lnTo>
                    <a:pt x="1307" y="2"/>
                  </a:lnTo>
                  <a:lnTo>
                    <a:pt x="1323" y="1"/>
                  </a:lnTo>
                  <a:lnTo>
                    <a:pt x="1341" y="0"/>
                  </a:lnTo>
                  <a:lnTo>
                    <a:pt x="1356" y="0"/>
                  </a:lnTo>
                  <a:lnTo>
                    <a:pt x="1368" y="3"/>
                  </a:lnTo>
                  <a:lnTo>
                    <a:pt x="1378" y="11"/>
                  </a:lnTo>
                  <a:lnTo>
                    <a:pt x="1386" y="25"/>
                  </a:lnTo>
                  <a:close/>
                </a:path>
              </a:pathLst>
            </a:custGeom>
            <a:solidFill>
              <a:srgbClr val="c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95720" y="2052720"/>
              <a:ext cx="146160" cy="284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0"/>
                  </a:moveTo>
                  <a:lnTo>
                    <a:pt x="161" y="6"/>
                  </a:lnTo>
                  <a:lnTo>
                    <a:pt x="139" y="11"/>
                  </a:lnTo>
                  <a:lnTo>
                    <a:pt x="116" y="17"/>
                  </a:lnTo>
                  <a:lnTo>
                    <a:pt x="94" y="22"/>
                  </a:lnTo>
                  <a:lnTo>
                    <a:pt x="70" y="25"/>
                  </a:lnTo>
                  <a:lnTo>
                    <a:pt x="46" y="29"/>
                  </a:lnTo>
                  <a:lnTo>
                    <a:pt x="23" y="33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7" y="28"/>
                  </a:lnTo>
                  <a:lnTo>
                    <a:pt x="27" y="25"/>
                  </a:lnTo>
                  <a:lnTo>
                    <a:pt x="37" y="23"/>
                  </a:lnTo>
                  <a:lnTo>
                    <a:pt x="46" y="21"/>
                  </a:lnTo>
                  <a:lnTo>
                    <a:pt x="56" y="20"/>
                  </a:lnTo>
                  <a:lnTo>
                    <a:pt x="66" y="18"/>
                  </a:lnTo>
                  <a:lnTo>
                    <a:pt x="76" y="17"/>
                  </a:lnTo>
                  <a:lnTo>
                    <a:pt x="89" y="13"/>
                  </a:lnTo>
                  <a:lnTo>
                    <a:pt x="102" y="11"/>
                  </a:lnTo>
                  <a:lnTo>
                    <a:pt x="116" y="9"/>
                  </a:lnTo>
                  <a:lnTo>
                    <a:pt x="130" y="8"/>
                  </a:lnTo>
                  <a:lnTo>
                    <a:pt x="143" y="6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3800" y="2082960"/>
              <a:ext cx="55800" cy="1080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0" y="2"/>
                  </a:move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7" y="9"/>
                  </a:lnTo>
                  <a:lnTo>
                    <a:pt x="27" y="10"/>
                  </a:lnTo>
                  <a:lnTo>
                    <a:pt x="19" y="12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4" y="3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73560" y="2116080"/>
              <a:ext cx="972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5760" y="2125800"/>
              <a:ext cx="271440" cy="75960"/>
            </a:xfrm>
            <a:custGeom>
              <a:avLst/>
              <a:gdLst/>
              <a:ahLst/>
              <a:rect l="l" t="t" r="r" b="b"/>
              <a:pathLst>
                <a:path w="342" h="97">
                  <a:moveTo>
                    <a:pt x="342" y="0"/>
                  </a:moveTo>
                  <a:lnTo>
                    <a:pt x="328" y="5"/>
                  </a:lnTo>
                  <a:lnTo>
                    <a:pt x="314" y="11"/>
                  </a:lnTo>
                  <a:lnTo>
                    <a:pt x="300" y="14"/>
                  </a:lnTo>
                  <a:lnTo>
                    <a:pt x="286" y="18"/>
                  </a:lnTo>
                  <a:lnTo>
                    <a:pt x="271" y="21"/>
                  </a:lnTo>
                  <a:lnTo>
                    <a:pt x="257" y="26"/>
                  </a:lnTo>
                  <a:lnTo>
                    <a:pt x="243" y="31"/>
                  </a:lnTo>
                  <a:lnTo>
                    <a:pt x="230" y="38"/>
                  </a:lnTo>
                  <a:lnTo>
                    <a:pt x="201" y="43"/>
                  </a:lnTo>
                  <a:lnTo>
                    <a:pt x="173" y="52"/>
                  </a:lnTo>
                  <a:lnTo>
                    <a:pt x="145" y="59"/>
                  </a:lnTo>
                  <a:lnTo>
                    <a:pt x="118" y="69"/>
                  </a:lnTo>
                  <a:lnTo>
                    <a:pt x="90" y="76"/>
                  </a:lnTo>
                  <a:lnTo>
                    <a:pt x="62" y="84"/>
                  </a:lnTo>
                  <a:lnTo>
                    <a:pt x="34" y="90"/>
                  </a:lnTo>
                  <a:lnTo>
                    <a:pt x="7" y="97"/>
                  </a:lnTo>
                  <a:lnTo>
                    <a:pt x="0" y="91"/>
                  </a:lnTo>
                  <a:lnTo>
                    <a:pt x="40" y="74"/>
                  </a:lnTo>
                  <a:lnTo>
                    <a:pt x="82" y="61"/>
                  </a:lnTo>
                  <a:lnTo>
                    <a:pt x="125" y="49"/>
                  </a:lnTo>
                  <a:lnTo>
                    <a:pt x="168" y="40"/>
                  </a:lnTo>
                  <a:lnTo>
                    <a:pt x="211" y="30"/>
                  </a:lnTo>
                  <a:lnTo>
                    <a:pt x="254" y="20"/>
                  </a:lnTo>
                  <a:lnTo>
                    <a:pt x="297" y="1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4480" y="2162160"/>
              <a:ext cx="12600" cy="468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1"/>
                  </a:moveTo>
                  <a:lnTo>
                    <a:pt x="12" y="3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7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02440" y="2168640"/>
              <a:ext cx="115560" cy="302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146" y="0"/>
                  </a:moveTo>
                  <a:lnTo>
                    <a:pt x="127" y="5"/>
                  </a:lnTo>
                  <a:lnTo>
                    <a:pt x="110" y="12"/>
                  </a:lnTo>
                  <a:lnTo>
                    <a:pt x="92" y="18"/>
                  </a:lnTo>
                  <a:lnTo>
                    <a:pt x="75" y="24"/>
                  </a:lnTo>
                  <a:lnTo>
                    <a:pt x="56" y="28"/>
                  </a:lnTo>
                  <a:lnTo>
                    <a:pt x="38" y="32"/>
                  </a:lnTo>
                  <a:lnTo>
                    <a:pt x="19" y="35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6" y="29"/>
                  </a:lnTo>
                  <a:lnTo>
                    <a:pt x="26" y="26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5" y="18"/>
                  </a:lnTo>
                  <a:lnTo>
                    <a:pt x="65" y="16"/>
                  </a:lnTo>
                  <a:lnTo>
                    <a:pt x="76" y="15"/>
                  </a:lnTo>
                  <a:lnTo>
                    <a:pt x="84" y="13"/>
                  </a:lnTo>
                  <a:lnTo>
                    <a:pt x="93" y="12"/>
                  </a:lnTo>
                  <a:lnTo>
                    <a:pt x="101" y="9"/>
                  </a:lnTo>
                  <a:lnTo>
                    <a:pt x="111" y="7"/>
                  </a:lnTo>
                  <a:lnTo>
                    <a:pt x="119" y="4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6680" y="218448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3">
                  <a:moveTo>
                    <a:pt x="280" y="7"/>
                  </a:moveTo>
                  <a:lnTo>
                    <a:pt x="269" y="17"/>
                  </a:lnTo>
                  <a:lnTo>
                    <a:pt x="240" y="24"/>
                  </a:lnTo>
                  <a:lnTo>
                    <a:pt x="212" y="31"/>
                  </a:lnTo>
                  <a:lnTo>
                    <a:pt x="183" y="39"/>
                  </a:lnTo>
                  <a:lnTo>
                    <a:pt x="156" y="49"/>
                  </a:lnTo>
                  <a:lnTo>
                    <a:pt x="128" y="56"/>
                  </a:lnTo>
                  <a:lnTo>
                    <a:pt x="100" y="65"/>
                  </a:lnTo>
                  <a:lnTo>
                    <a:pt x="72" y="73"/>
                  </a:lnTo>
                  <a:lnTo>
                    <a:pt x="45" y="83"/>
                  </a:lnTo>
                  <a:lnTo>
                    <a:pt x="39" y="81"/>
                  </a:lnTo>
                  <a:lnTo>
                    <a:pt x="32" y="80"/>
                  </a:lnTo>
                  <a:lnTo>
                    <a:pt x="27" y="78"/>
                  </a:lnTo>
                  <a:lnTo>
                    <a:pt x="21" y="77"/>
                  </a:lnTo>
                  <a:lnTo>
                    <a:pt x="11" y="72"/>
                  </a:lnTo>
                  <a:lnTo>
                    <a:pt x="0" y="69"/>
                  </a:lnTo>
                  <a:lnTo>
                    <a:pt x="4" y="67"/>
                  </a:lnTo>
                  <a:lnTo>
                    <a:pt x="10" y="65"/>
                  </a:lnTo>
                  <a:lnTo>
                    <a:pt x="16" y="63"/>
                  </a:lnTo>
                  <a:lnTo>
                    <a:pt x="23" y="61"/>
                  </a:lnTo>
                  <a:lnTo>
                    <a:pt x="28" y="59"/>
                  </a:lnTo>
                  <a:lnTo>
                    <a:pt x="34" y="57"/>
                  </a:lnTo>
                  <a:lnTo>
                    <a:pt x="41" y="54"/>
                  </a:lnTo>
                  <a:lnTo>
                    <a:pt x="47" y="52"/>
                  </a:lnTo>
                  <a:lnTo>
                    <a:pt x="75" y="46"/>
                  </a:lnTo>
                  <a:lnTo>
                    <a:pt x="103" y="41"/>
                  </a:lnTo>
                  <a:lnTo>
                    <a:pt x="131" y="35"/>
                  </a:lnTo>
                  <a:lnTo>
                    <a:pt x="159" y="28"/>
                  </a:lnTo>
                  <a:lnTo>
                    <a:pt x="186" y="21"/>
                  </a:lnTo>
                  <a:lnTo>
                    <a:pt x="215" y="13"/>
                  </a:lnTo>
                  <a:lnTo>
                    <a:pt x="242" y="7"/>
                  </a:lnTo>
                  <a:lnTo>
                    <a:pt x="271" y="0"/>
                  </a:lnTo>
                  <a:lnTo>
                    <a:pt x="274" y="3"/>
                  </a:lnTo>
                  <a:lnTo>
                    <a:pt x="28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8920" y="2209680"/>
              <a:ext cx="218880" cy="61920"/>
            </a:xfrm>
            <a:custGeom>
              <a:avLst/>
              <a:gdLst/>
              <a:ahLst/>
              <a:rect l="l" t="t" r="r" b="b"/>
              <a:pathLst>
                <a:path w="274" h="78">
                  <a:moveTo>
                    <a:pt x="274" y="8"/>
                  </a:moveTo>
                  <a:lnTo>
                    <a:pt x="239" y="14"/>
                  </a:lnTo>
                  <a:lnTo>
                    <a:pt x="204" y="24"/>
                  </a:lnTo>
                  <a:lnTo>
                    <a:pt x="170" y="34"/>
                  </a:lnTo>
                  <a:lnTo>
                    <a:pt x="137" y="45"/>
                  </a:lnTo>
                  <a:lnTo>
                    <a:pt x="102" y="53"/>
                  </a:lnTo>
                  <a:lnTo>
                    <a:pt x="69" y="63"/>
                  </a:lnTo>
                  <a:lnTo>
                    <a:pt x="34" y="70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2"/>
                  </a:lnTo>
                  <a:lnTo>
                    <a:pt x="10" y="62"/>
                  </a:lnTo>
                  <a:lnTo>
                    <a:pt x="13" y="61"/>
                  </a:lnTo>
                  <a:lnTo>
                    <a:pt x="18" y="60"/>
                  </a:lnTo>
                  <a:lnTo>
                    <a:pt x="24" y="57"/>
                  </a:lnTo>
                  <a:lnTo>
                    <a:pt x="28" y="55"/>
                  </a:lnTo>
                  <a:lnTo>
                    <a:pt x="44" y="51"/>
                  </a:lnTo>
                  <a:lnTo>
                    <a:pt x="60" y="47"/>
                  </a:lnTo>
                  <a:lnTo>
                    <a:pt x="76" y="42"/>
                  </a:lnTo>
                  <a:lnTo>
                    <a:pt x="92" y="39"/>
                  </a:lnTo>
                  <a:lnTo>
                    <a:pt x="107" y="35"/>
                  </a:lnTo>
                  <a:lnTo>
                    <a:pt x="124" y="32"/>
                  </a:lnTo>
                  <a:lnTo>
                    <a:pt x="140" y="27"/>
                  </a:lnTo>
                  <a:lnTo>
                    <a:pt x="156" y="24"/>
                  </a:lnTo>
                  <a:lnTo>
                    <a:pt x="170" y="20"/>
                  </a:lnTo>
                  <a:lnTo>
                    <a:pt x="185" y="17"/>
                  </a:lnTo>
                  <a:lnTo>
                    <a:pt x="199" y="11"/>
                  </a:lnTo>
                  <a:lnTo>
                    <a:pt x="214" y="8"/>
                  </a:lnTo>
                  <a:lnTo>
                    <a:pt x="228" y="4"/>
                  </a:lnTo>
                  <a:lnTo>
                    <a:pt x="244" y="2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0480" y="222552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1">
                  <a:moveTo>
                    <a:pt x="124" y="0"/>
                  </a:moveTo>
                  <a:lnTo>
                    <a:pt x="110" y="6"/>
                  </a:lnTo>
                  <a:lnTo>
                    <a:pt x="96" y="13"/>
                  </a:lnTo>
                  <a:lnTo>
                    <a:pt x="82" y="19"/>
                  </a:lnTo>
                  <a:lnTo>
                    <a:pt x="68" y="26"/>
                  </a:lnTo>
                  <a:lnTo>
                    <a:pt x="53" y="32"/>
                  </a:lnTo>
                  <a:lnTo>
                    <a:pt x="39" y="39"/>
                  </a:lnTo>
                  <a:lnTo>
                    <a:pt x="25" y="45"/>
                  </a:lnTo>
                  <a:lnTo>
                    <a:pt x="13" y="51"/>
                  </a:lnTo>
                  <a:lnTo>
                    <a:pt x="6" y="42"/>
                  </a:lnTo>
                  <a:lnTo>
                    <a:pt x="0" y="35"/>
                  </a:lnTo>
                  <a:lnTo>
                    <a:pt x="6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3" y="25"/>
                  </a:lnTo>
                  <a:lnTo>
                    <a:pt x="43" y="19"/>
                  </a:lnTo>
                  <a:lnTo>
                    <a:pt x="55" y="16"/>
                  </a:lnTo>
                  <a:lnTo>
                    <a:pt x="65" y="13"/>
                  </a:lnTo>
                  <a:lnTo>
                    <a:pt x="77" y="11"/>
                  </a:lnTo>
                  <a:lnTo>
                    <a:pt x="88" y="7"/>
                  </a:lnTo>
                  <a:lnTo>
                    <a:pt x="101" y="5"/>
                  </a:lnTo>
                  <a:lnTo>
                    <a:pt x="112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27480" y="2236680"/>
              <a:ext cx="250920" cy="71640"/>
            </a:xfrm>
            <a:custGeom>
              <a:avLst/>
              <a:gdLst/>
              <a:ahLst/>
              <a:rect l="l" t="t" r="r" b="b"/>
              <a:pathLst>
                <a:path w="316" h="88">
                  <a:moveTo>
                    <a:pt x="316" y="0"/>
                  </a:moveTo>
                  <a:lnTo>
                    <a:pt x="293" y="10"/>
                  </a:lnTo>
                  <a:lnTo>
                    <a:pt x="272" y="17"/>
                  </a:lnTo>
                  <a:lnTo>
                    <a:pt x="248" y="24"/>
                  </a:lnTo>
                  <a:lnTo>
                    <a:pt x="225" y="30"/>
                  </a:lnTo>
                  <a:lnTo>
                    <a:pt x="200" y="34"/>
                  </a:lnTo>
                  <a:lnTo>
                    <a:pt x="176" y="40"/>
                  </a:lnTo>
                  <a:lnTo>
                    <a:pt x="153" y="46"/>
                  </a:lnTo>
                  <a:lnTo>
                    <a:pt x="130" y="56"/>
                  </a:lnTo>
                  <a:lnTo>
                    <a:pt x="113" y="60"/>
                  </a:lnTo>
                  <a:lnTo>
                    <a:pt x="97" y="64"/>
                  </a:lnTo>
                  <a:lnTo>
                    <a:pt x="80" y="69"/>
                  </a:lnTo>
                  <a:lnTo>
                    <a:pt x="64" y="73"/>
                  </a:lnTo>
                  <a:lnTo>
                    <a:pt x="48" y="76"/>
                  </a:lnTo>
                  <a:lnTo>
                    <a:pt x="32" y="81"/>
                  </a:lnTo>
                  <a:lnTo>
                    <a:pt x="16" y="84"/>
                  </a:lnTo>
                  <a:lnTo>
                    <a:pt x="0" y="88"/>
                  </a:lnTo>
                  <a:lnTo>
                    <a:pt x="34" y="74"/>
                  </a:lnTo>
                  <a:lnTo>
                    <a:pt x="71" y="61"/>
                  </a:lnTo>
                  <a:lnTo>
                    <a:pt x="107" y="50"/>
                  </a:lnTo>
                  <a:lnTo>
                    <a:pt x="146" y="41"/>
                  </a:lnTo>
                  <a:lnTo>
                    <a:pt x="184" y="31"/>
                  </a:lnTo>
                  <a:lnTo>
                    <a:pt x="222" y="21"/>
                  </a:lnTo>
                  <a:lnTo>
                    <a:pt x="260" y="12"/>
                  </a:lnTo>
                  <a:lnTo>
                    <a:pt x="299" y="2"/>
                  </a:lnTo>
                  <a:lnTo>
                    <a:pt x="307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5120" y="2235240"/>
              <a:ext cx="31680" cy="936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2"/>
                  </a:moveTo>
                  <a:lnTo>
                    <a:pt x="31" y="3"/>
                  </a:lnTo>
                  <a:lnTo>
                    <a:pt x="21" y="7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9" y="8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63920" y="2244600"/>
              <a:ext cx="1376640" cy="1005120"/>
            </a:xfrm>
            <a:custGeom>
              <a:avLst/>
              <a:gdLst/>
              <a:ahLst/>
              <a:rect l="l" t="t" r="r" b="b"/>
              <a:pathLst>
                <a:path w="1733" h="1266">
                  <a:moveTo>
                    <a:pt x="56" y="17"/>
                  </a:moveTo>
                  <a:lnTo>
                    <a:pt x="118" y="54"/>
                  </a:lnTo>
                  <a:lnTo>
                    <a:pt x="184" y="89"/>
                  </a:lnTo>
                  <a:lnTo>
                    <a:pt x="251" y="118"/>
                  </a:lnTo>
                  <a:lnTo>
                    <a:pt x="321" y="145"/>
                  </a:lnTo>
                  <a:lnTo>
                    <a:pt x="391" y="167"/>
                  </a:lnTo>
                  <a:lnTo>
                    <a:pt x="465" y="189"/>
                  </a:lnTo>
                  <a:lnTo>
                    <a:pt x="538" y="207"/>
                  </a:lnTo>
                  <a:lnTo>
                    <a:pt x="612" y="225"/>
                  </a:lnTo>
                  <a:lnTo>
                    <a:pt x="618" y="218"/>
                  </a:lnTo>
                  <a:lnTo>
                    <a:pt x="626" y="216"/>
                  </a:lnTo>
                  <a:lnTo>
                    <a:pt x="632" y="215"/>
                  </a:lnTo>
                  <a:lnTo>
                    <a:pt x="640" y="217"/>
                  </a:lnTo>
                  <a:lnTo>
                    <a:pt x="646" y="219"/>
                  </a:lnTo>
                  <a:lnTo>
                    <a:pt x="655" y="222"/>
                  </a:lnTo>
                  <a:lnTo>
                    <a:pt x="663" y="224"/>
                  </a:lnTo>
                  <a:lnTo>
                    <a:pt x="672" y="225"/>
                  </a:lnTo>
                  <a:lnTo>
                    <a:pt x="693" y="233"/>
                  </a:lnTo>
                  <a:lnTo>
                    <a:pt x="715" y="242"/>
                  </a:lnTo>
                  <a:lnTo>
                    <a:pt x="737" y="250"/>
                  </a:lnTo>
                  <a:lnTo>
                    <a:pt x="759" y="259"/>
                  </a:lnTo>
                  <a:lnTo>
                    <a:pt x="781" y="267"/>
                  </a:lnTo>
                  <a:lnTo>
                    <a:pt x="804" y="277"/>
                  </a:lnTo>
                  <a:lnTo>
                    <a:pt x="824" y="288"/>
                  </a:lnTo>
                  <a:lnTo>
                    <a:pt x="845" y="302"/>
                  </a:lnTo>
                  <a:lnTo>
                    <a:pt x="895" y="313"/>
                  </a:lnTo>
                  <a:lnTo>
                    <a:pt x="946" y="326"/>
                  </a:lnTo>
                  <a:lnTo>
                    <a:pt x="995" y="338"/>
                  </a:lnTo>
                  <a:lnTo>
                    <a:pt x="1046" y="353"/>
                  </a:lnTo>
                  <a:lnTo>
                    <a:pt x="1094" y="366"/>
                  </a:lnTo>
                  <a:lnTo>
                    <a:pt x="1144" y="381"/>
                  </a:lnTo>
                  <a:lnTo>
                    <a:pt x="1192" y="397"/>
                  </a:lnTo>
                  <a:lnTo>
                    <a:pt x="1243" y="412"/>
                  </a:lnTo>
                  <a:lnTo>
                    <a:pt x="1254" y="416"/>
                  </a:lnTo>
                  <a:lnTo>
                    <a:pt x="1267" y="422"/>
                  </a:lnTo>
                  <a:lnTo>
                    <a:pt x="1279" y="428"/>
                  </a:lnTo>
                  <a:lnTo>
                    <a:pt x="1292" y="434"/>
                  </a:lnTo>
                  <a:lnTo>
                    <a:pt x="1305" y="438"/>
                  </a:lnTo>
                  <a:lnTo>
                    <a:pt x="1318" y="443"/>
                  </a:lnTo>
                  <a:lnTo>
                    <a:pt x="1332" y="444"/>
                  </a:lnTo>
                  <a:lnTo>
                    <a:pt x="1346" y="445"/>
                  </a:lnTo>
                  <a:lnTo>
                    <a:pt x="1350" y="441"/>
                  </a:lnTo>
                  <a:lnTo>
                    <a:pt x="1365" y="446"/>
                  </a:lnTo>
                  <a:lnTo>
                    <a:pt x="1381" y="452"/>
                  </a:lnTo>
                  <a:lnTo>
                    <a:pt x="1398" y="458"/>
                  </a:lnTo>
                  <a:lnTo>
                    <a:pt x="1415" y="464"/>
                  </a:lnTo>
                  <a:lnTo>
                    <a:pt x="1431" y="470"/>
                  </a:lnTo>
                  <a:lnTo>
                    <a:pt x="1447" y="476"/>
                  </a:lnTo>
                  <a:lnTo>
                    <a:pt x="1464" y="480"/>
                  </a:lnTo>
                  <a:lnTo>
                    <a:pt x="1483" y="486"/>
                  </a:lnTo>
                  <a:lnTo>
                    <a:pt x="1501" y="494"/>
                  </a:lnTo>
                  <a:lnTo>
                    <a:pt x="1519" y="503"/>
                  </a:lnTo>
                  <a:lnTo>
                    <a:pt x="1539" y="511"/>
                  </a:lnTo>
                  <a:lnTo>
                    <a:pt x="1558" y="518"/>
                  </a:lnTo>
                  <a:lnTo>
                    <a:pt x="1577" y="523"/>
                  </a:lnTo>
                  <a:lnTo>
                    <a:pt x="1598" y="529"/>
                  </a:lnTo>
                  <a:lnTo>
                    <a:pt x="1619" y="533"/>
                  </a:lnTo>
                  <a:lnTo>
                    <a:pt x="1642" y="537"/>
                  </a:lnTo>
                  <a:lnTo>
                    <a:pt x="1648" y="541"/>
                  </a:lnTo>
                  <a:lnTo>
                    <a:pt x="1657" y="544"/>
                  </a:lnTo>
                  <a:lnTo>
                    <a:pt x="1665" y="547"/>
                  </a:lnTo>
                  <a:lnTo>
                    <a:pt x="1674" y="552"/>
                  </a:lnTo>
                  <a:lnTo>
                    <a:pt x="1681" y="557"/>
                  </a:lnTo>
                  <a:lnTo>
                    <a:pt x="1687" y="563"/>
                  </a:lnTo>
                  <a:lnTo>
                    <a:pt x="1692" y="570"/>
                  </a:lnTo>
                  <a:lnTo>
                    <a:pt x="1698" y="579"/>
                  </a:lnTo>
                  <a:lnTo>
                    <a:pt x="1706" y="578"/>
                  </a:lnTo>
                  <a:lnTo>
                    <a:pt x="1715" y="576"/>
                  </a:lnTo>
                  <a:lnTo>
                    <a:pt x="1724" y="572"/>
                  </a:lnTo>
                  <a:lnTo>
                    <a:pt x="1733" y="566"/>
                  </a:lnTo>
                  <a:lnTo>
                    <a:pt x="1732" y="597"/>
                  </a:lnTo>
                  <a:lnTo>
                    <a:pt x="1730" y="629"/>
                  </a:lnTo>
                  <a:lnTo>
                    <a:pt x="1728" y="661"/>
                  </a:lnTo>
                  <a:lnTo>
                    <a:pt x="1726" y="693"/>
                  </a:lnTo>
                  <a:lnTo>
                    <a:pt x="1723" y="725"/>
                  </a:lnTo>
                  <a:lnTo>
                    <a:pt x="1721" y="757"/>
                  </a:lnTo>
                  <a:lnTo>
                    <a:pt x="1721" y="788"/>
                  </a:lnTo>
                  <a:lnTo>
                    <a:pt x="1725" y="820"/>
                  </a:lnTo>
                  <a:lnTo>
                    <a:pt x="1724" y="825"/>
                  </a:lnTo>
                  <a:lnTo>
                    <a:pt x="1723" y="830"/>
                  </a:lnTo>
                  <a:lnTo>
                    <a:pt x="1723" y="837"/>
                  </a:lnTo>
                  <a:lnTo>
                    <a:pt x="1723" y="844"/>
                  </a:lnTo>
                  <a:lnTo>
                    <a:pt x="1721" y="850"/>
                  </a:lnTo>
                  <a:lnTo>
                    <a:pt x="1721" y="857"/>
                  </a:lnTo>
                  <a:lnTo>
                    <a:pt x="1720" y="864"/>
                  </a:lnTo>
                  <a:lnTo>
                    <a:pt x="1720" y="872"/>
                  </a:lnTo>
                  <a:lnTo>
                    <a:pt x="1720" y="877"/>
                  </a:lnTo>
                  <a:lnTo>
                    <a:pt x="1717" y="884"/>
                  </a:lnTo>
                  <a:lnTo>
                    <a:pt x="1715" y="889"/>
                  </a:lnTo>
                  <a:lnTo>
                    <a:pt x="1718" y="896"/>
                  </a:lnTo>
                  <a:lnTo>
                    <a:pt x="1714" y="901"/>
                  </a:lnTo>
                  <a:lnTo>
                    <a:pt x="1716" y="909"/>
                  </a:lnTo>
                  <a:lnTo>
                    <a:pt x="1717" y="916"/>
                  </a:lnTo>
                  <a:lnTo>
                    <a:pt x="1714" y="925"/>
                  </a:lnTo>
                  <a:lnTo>
                    <a:pt x="1714" y="960"/>
                  </a:lnTo>
                  <a:lnTo>
                    <a:pt x="1712" y="997"/>
                  </a:lnTo>
                  <a:lnTo>
                    <a:pt x="1709" y="1033"/>
                  </a:lnTo>
                  <a:lnTo>
                    <a:pt x="1705" y="1071"/>
                  </a:lnTo>
                  <a:lnTo>
                    <a:pt x="1702" y="1108"/>
                  </a:lnTo>
                  <a:lnTo>
                    <a:pt x="1701" y="1144"/>
                  </a:lnTo>
                  <a:lnTo>
                    <a:pt x="1703" y="1179"/>
                  </a:lnTo>
                  <a:lnTo>
                    <a:pt x="1710" y="1214"/>
                  </a:lnTo>
                  <a:lnTo>
                    <a:pt x="1707" y="1242"/>
                  </a:lnTo>
                  <a:lnTo>
                    <a:pt x="1699" y="1240"/>
                  </a:lnTo>
                  <a:lnTo>
                    <a:pt x="1691" y="1241"/>
                  </a:lnTo>
                  <a:lnTo>
                    <a:pt x="1688" y="1247"/>
                  </a:lnTo>
                  <a:lnTo>
                    <a:pt x="1684" y="1255"/>
                  </a:lnTo>
                  <a:lnTo>
                    <a:pt x="1676" y="1260"/>
                  </a:lnTo>
                  <a:lnTo>
                    <a:pt x="1669" y="1266"/>
                  </a:lnTo>
                  <a:lnTo>
                    <a:pt x="1661" y="1265"/>
                  </a:lnTo>
                  <a:lnTo>
                    <a:pt x="1655" y="1265"/>
                  </a:lnTo>
                  <a:lnTo>
                    <a:pt x="1649" y="1264"/>
                  </a:lnTo>
                  <a:lnTo>
                    <a:pt x="1644" y="1263"/>
                  </a:lnTo>
                  <a:lnTo>
                    <a:pt x="1632" y="1258"/>
                  </a:lnTo>
                  <a:lnTo>
                    <a:pt x="1621" y="1257"/>
                  </a:lnTo>
                  <a:lnTo>
                    <a:pt x="1615" y="1249"/>
                  </a:lnTo>
                  <a:lnTo>
                    <a:pt x="1577" y="1238"/>
                  </a:lnTo>
                  <a:lnTo>
                    <a:pt x="1542" y="1227"/>
                  </a:lnTo>
                  <a:lnTo>
                    <a:pt x="1506" y="1214"/>
                  </a:lnTo>
                  <a:lnTo>
                    <a:pt x="1473" y="1201"/>
                  </a:lnTo>
                  <a:lnTo>
                    <a:pt x="1437" y="1186"/>
                  </a:lnTo>
                  <a:lnTo>
                    <a:pt x="1403" y="1173"/>
                  </a:lnTo>
                  <a:lnTo>
                    <a:pt x="1368" y="1160"/>
                  </a:lnTo>
                  <a:lnTo>
                    <a:pt x="1334" y="1150"/>
                  </a:lnTo>
                  <a:lnTo>
                    <a:pt x="1311" y="1137"/>
                  </a:lnTo>
                  <a:lnTo>
                    <a:pt x="1290" y="1127"/>
                  </a:lnTo>
                  <a:lnTo>
                    <a:pt x="1266" y="1119"/>
                  </a:lnTo>
                  <a:lnTo>
                    <a:pt x="1244" y="1112"/>
                  </a:lnTo>
                  <a:lnTo>
                    <a:pt x="1221" y="1102"/>
                  </a:lnTo>
                  <a:lnTo>
                    <a:pt x="1200" y="1093"/>
                  </a:lnTo>
                  <a:lnTo>
                    <a:pt x="1180" y="1080"/>
                  </a:lnTo>
                  <a:lnTo>
                    <a:pt x="1164" y="1065"/>
                  </a:lnTo>
                  <a:lnTo>
                    <a:pt x="1145" y="1054"/>
                  </a:lnTo>
                  <a:lnTo>
                    <a:pt x="1125" y="1046"/>
                  </a:lnTo>
                  <a:lnTo>
                    <a:pt x="1106" y="1039"/>
                  </a:lnTo>
                  <a:lnTo>
                    <a:pt x="1087" y="1031"/>
                  </a:lnTo>
                  <a:lnTo>
                    <a:pt x="1067" y="1023"/>
                  </a:lnTo>
                  <a:lnTo>
                    <a:pt x="1048" y="1015"/>
                  </a:lnTo>
                  <a:lnTo>
                    <a:pt x="1028" y="1004"/>
                  </a:lnTo>
                  <a:lnTo>
                    <a:pt x="1011" y="995"/>
                  </a:lnTo>
                  <a:lnTo>
                    <a:pt x="1007" y="985"/>
                  </a:lnTo>
                  <a:lnTo>
                    <a:pt x="1002" y="979"/>
                  </a:lnTo>
                  <a:lnTo>
                    <a:pt x="994" y="973"/>
                  </a:lnTo>
                  <a:lnTo>
                    <a:pt x="988" y="970"/>
                  </a:lnTo>
                  <a:lnTo>
                    <a:pt x="979" y="967"/>
                  </a:lnTo>
                  <a:lnTo>
                    <a:pt x="970" y="963"/>
                  </a:lnTo>
                  <a:lnTo>
                    <a:pt x="962" y="960"/>
                  </a:lnTo>
                  <a:lnTo>
                    <a:pt x="955" y="957"/>
                  </a:lnTo>
                  <a:lnTo>
                    <a:pt x="823" y="903"/>
                  </a:lnTo>
                  <a:lnTo>
                    <a:pt x="813" y="908"/>
                  </a:lnTo>
                  <a:lnTo>
                    <a:pt x="805" y="906"/>
                  </a:lnTo>
                  <a:lnTo>
                    <a:pt x="797" y="903"/>
                  </a:lnTo>
                  <a:lnTo>
                    <a:pt x="790" y="901"/>
                  </a:lnTo>
                  <a:lnTo>
                    <a:pt x="709" y="867"/>
                  </a:lnTo>
                  <a:lnTo>
                    <a:pt x="630" y="832"/>
                  </a:lnTo>
                  <a:lnTo>
                    <a:pt x="552" y="796"/>
                  </a:lnTo>
                  <a:lnTo>
                    <a:pt x="474" y="759"/>
                  </a:lnTo>
                  <a:lnTo>
                    <a:pt x="397" y="720"/>
                  </a:lnTo>
                  <a:lnTo>
                    <a:pt x="320" y="681"/>
                  </a:lnTo>
                  <a:lnTo>
                    <a:pt x="245" y="639"/>
                  </a:lnTo>
                  <a:lnTo>
                    <a:pt x="172" y="596"/>
                  </a:lnTo>
                  <a:lnTo>
                    <a:pt x="156" y="590"/>
                  </a:lnTo>
                  <a:lnTo>
                    <a:pt x="141" y="585"/>
                  </a:lnTo>
                  <a:lnTo>
                    <a:pt x="124" y="579"/>
                  </a:lnTo>
                  <a:lnTo>
                    <a:pt x="111" y="574"/>
                  </a:lnTo>
                  <a:lnTo>
                    <a:pt x="94" y="568"/>
                  </a:lnTo>
                  <a:lnTo>
                    <a:pt x="79" y="564"/>
                  </a:lnTo>
                  <a:lnTo>
                    <a:pt x="63" y="561"/>
                  </a:lnTo>
                  <a:lnTo>
                    <a:pt x="47" y="560"/>
                  </a:lnTo>
                  <a:lnTo>
                    <a:pt x="34" y="550"/>
                  </a:lnTo>
                  <a:lnTo>
                    <a:pt x="24" y="540"/>
                  </a:lnTo>
                  <a:lnTo>
                    <a:pt x="18" y="527"/>
                  </a:lnTo>
                  <a:lnTo>
                    <a:pt x="16" y="515"/>
                  </a:lnTo>
                  <a:lnTo>
                    <a:pt x="14" y="500"/>
                  </a:lnTo>
                  <a:lnTo>
                    <a:pt x="14" y="486"/>
                  </a:lnTo>
                  <a:lnTo>
                    <a:pt x="14" y="471"/>
                  </a:lnTo>
                  <a:lnTo>
                    <a:pt x="14" y="457"/>
                  </a:lnTo>
                  <a:lnTo>
                    <a:pt x="14" y="428"/>
                  </a:lnTo>
                  <a:lnTo>
                    <a:pt x="15" y="401"/>
                  </a:lnTo>
                  <a:lnTo>
                    <a:pt x="15" y="373"/>
                  </a:lnTo>
                  <a:lnTo>
                    <a:pt x="16" y="346"/>
                  </a:lnTo>
                  <a:lnTo>
                    <a:pt x="15" y="318"/>
                  </a:lnTo>
                  <a:lnTo>
                    <a:pt x="13" y="292"/>
                  </a:lnTo>
                  <a:lnTo>
                    <a:pt x="8" y="266"/>
                  </a:lnTo>
                  <a:lnTo>
                    <a:pt x="4" y="242"/>
                  </a:lnTo>
                  <a:lnTo>
                    <a:pt x="2" y="211"/>
                  </a:lnTo>
                  <a:lnTo>
                    <a:pt x="2" y="182"/>
                  </a:lnTo>
                  <a:lnTo>
                    <a:pt x="2" y="153"/>
                  </a:lnTo>
                  <a:lnTo>
                    <a:pt x="4" y="124"/>
                  </a:lnTo>
                  <a:lnTo>
                    <a:pt x="4" y="94"/>
                  </a:lnTo>
                  <a:lnTo>
                    <a:pt x="4" y="65"/>
                  </a:lnTo>
                  <a:lnTo>
                    <a:pt x="3" y="3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8" y="5"/>
                  </a:lnTo>
                  <a:lnTo>
                    <a:pt x="29" y="12"/>
                  </a:lnTo>
                  <a:lnTo>
                    <a:pt x="33" y="15"/>
                  </a:lnTo>
                  <a:lnTo>
                    <a:pt x="39" y="17"/>
                  </a:lnTo>
                  <a:lnTo>
                    <a:pt x="46" y="17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69160" y="2246400"/>
              <a:ext cx="66600" cy="205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0"/>
                  </a:moveTo>
                  <a:lnTo>
                    <a:pt x="73" y="3"/>
                  </a:lnTo>
                  <a:lnTo>
                    <a:pt x="63" y="6"/>
                  </a:lnTo>
                  <a:lnTo>
                    <a:pt x="52" y="9"/>
                  </a:lnTo>
                  <a:lnTo>
                    <a:pt x="43" y="13"/>
                  </a:lnTo>
                  <a:lnTo>
                    <a:pt x="31" y="15"/>
                  </a:lnTo>
                  <a:lnTo>
                    <a:pt x="21" y="18"/>
                  </a:lnTo>
                  <a:lnTo>
                    <a:pt x="9" y="21"/>
                  </a:lnTo>
                  <a:lnTo>
                    <a:pt x="0" y="24"/>
                  </a:lnTo>
                  <a:lnTo>
                    <a:pt x="5" y="21"/>
                  </a:lnTo>
                  <a:lnTo>
                    <a:pt x="12" y="18"/>
                  </a:lnTo>
                  <a:lnTo>
                    <a:pt x="19" y="15"/>
                  </a:lnTo>
                  <a:lnTo>
                    <a:pt x="28" y="13"/>
                  </a:lnTo>
                  <a:lnTo>
                    <a:pt x="34" y="9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49920" y="2249640"/>
              <a:ext cx="901800" cy="1796760"/>
            </a:xfrm>
            <a:custGeom>
              <a:avLst/>
              <a:gdLst/>
              <a:ahLst/>
              <a:rect l="l" t="t" r="r" b="b"/>
              <a:pathLst>
                <a:path w="1136" h="2262">
                  <a:moveTo>
                    <a:pt x="1124" y="265"/>
                  </a:moveTo>
                  <a:lnTo>
                    <a:pt x="1124" y="339"/>
                  </a:lnTo>
                  <a:lnTo>
                    <a:pt x="1121" y="414"/>
                  </a:lnTo>
                  <a:lnTo>
                    <a:pt x="1115" y="489"/>
                  </a:lnTo>
                  <a:lnTo>
                    <a:pt x="1109" y="566"/>
                  </a:lnTo>
                  <a:lnTo>
                    <a:pt x="1100" y="640"/>
                  </a:lnTo>
                  <a:lnTo>
                    <a:pt x="1091" y="716"/>
                  </a:lnTo>
                  <a:lnTo>
                    <a:pt x="1084" y="792"/>
                  </a:lnTo>
                  <a:lnTo>
                    <a:pt x="1079" y="868"/>
                  </a:lnTo>
                  <a:lnTo>
                    <a:pt x="1070" y="991"/>
                  </a:lnTo>
                  <a:lnTo>
                    <a:pt x="1063" y="1113"/>
                  </a:lnTo>
                  <a:lnTo>
                    <a:pt x="1058" y="1237"/>
                  </a:lnTo>
                  <a:lnTo>
                    <a:pt x="1055" y="1361"/>
                  </a:lnTo>
                  <a:lnTo>
                    <a:pt x="1048" y="1484"/>
                  </a:lnTo>
                  <a:lnTo>
                    <a:pt x="1042" y="1608"/>
                  </a:lnTo>
                  <a:lnTo>
                    <a:pt x="1031" y="1732"/>
                  </a:lnTo>
                  <a:lnTo>
                    <a:pt x="1018" y="1857"/>
                  </a:lnTo>
                  <a:lnTo>
                    <a:pt x="1010" y="1865"/>
                  </a:lnTo>
                  <a:lnTo>
                    <a:pt x="1001" y="1874"/>
                  </a:lnTo>
                  <a:lnTo>
                    <a:pt x="990" y="1877"/>
                  </a:lnTo>
                  <a:lnTo>
                    <a:pt x="980" y="1873"/>
                  </a:lnTo>
                  <a:lnTo>
                    <a:pt x="973" y="1870"/>
                  </a:lnTo>
                  <a:lnTo>
                    <a:pt x="966" y="1870"/>
                  </a:lnTo>
                  <a:lnTo>
                    <a:pt x="959" y="1870"/>
                  </a:lnTo>
                  <a:lnTo>
                    <a:pt x="952" y="1873"/>
                  </a:lnTo>
                  <a:lnTo>
                    <a:pt x="945" y="1876"/>
                  </a:lnTo>
                  <a:lnTo>
                    <a:pt x="937" y="1879"/>
                  </a:lnTo>
                  <a:lnTo>
                    <a:pt x="931" y="1882"/>
                  </a:lnTo>
                  <a:lnTo>
                    <a:pt x="925" y="1884"/>
                  </a:lnTo>
                  <a:lnTo>
                    <a:pt x="875" y="1902"/>
                  </a:lnTo>
                  <a:lnTo>
                    <a:pt x="827" y="1922"/>
                  </a:lnTo>
                  <a:lnTo>
                    <a:pt x="778" y="1943"/>
                  </a:lnTo>
                  <a:lnTo>
                    <a:pt x="730" y="1965"/>
                  </a:lnTo>
                  <a:lnTo>
                    <a:pt x="681" y="1988"/>
                  </a:lnTo>
                  <a:lnTo>
                    <a:pt x="634" y="2011"/>
                  </a:lnTo>
                  <a:lnTo>
                    <a:pt x="586" y="2034"/>
                  </a:lnTo>
                  <a:lnTo>
                    <a:pt x="538" y="2059"/>
                  </a:lnTo>
                  <a:lnTo>
                    <a:pt x="528" y="2066"/>
                  </a:lnTo>
                  <a:lnTo>
                    <a:pt x="521" y="2072"/>
                  </a:lnTo>
                  <a:lnTo>
                    <a:pt x="511" y="2078"/>
                  </a:lnTo>
                  <a:lnTo>
                    <a:pt x="504" y="2085"/>
                  </a:lnTo>
                  <a:lnTo>
                    <a:pt x="495" y="2090"/>
                  </a:lnTo>
                  <a:lnTo>
                    <a:pt x="487" y="2096"/>
                  </a:lnTo>
                  <a:lnTo>
                    <a:pt x="478" y="2099"/>
                  </a:lnTo>
                  <a:lnTo>
                    <a:pt x="469" y="2103"/>
                  </a:lnTo>
                  <a:lnTo>
                    <a:pt x="463" y="2097"/>
                  </a:lnTo>
                  <a:lnTo>
                    <a:pt x="456" y="2095"/>
                  </a:lnTo>
                  <a:lnTo>
                    <a:pt x="450" y="2096"/>
                  </a:lnTo>
                  <a:lnTo>
                    <a:pt x="443" y="2099"/>
                  </a:lnTo>
                  <a:lnTo>
                    <a:pt x="436" y="2102"/>
                  </a:lnTo>
                  <a:lnTo>
                    <a:pt x="428" y="2106"/>
                  </a:lnTo>
                  <a:lnTo>
                    <a:pt x="422" y="2110"/>
                  </a:lnTo>
                  <a:lnTo>
                    <a:pt x="416" y="2113"/>
                  </a:lnTo>
                  <a:lnTo>
                    <a:pt x="381" y="2130"/>
                  </a:lnTo>
                  <a:lnTo>
                    <a:pt x="349" y="2147"/>
                  </a:lnTo>
                  <a:lnTo>
                    <a:pt x="314" y="2164"/>
                  </a:lnTo>
                  <a:lnTo>
                    <a:pt x="282" y="2182"/>
                  </a:lnTo>
                  <a:lnTo>
                    <a:pt x="248" y="2197"/>
                  </a:lnTo>
                  <a:lnTo>
                    <a:pt x="213" y="2211"/>
                  </a:lnTo>
                  <a:lnTo>
                    <a:pt x="179" y="2224"/>
                  </a:lnTo>
                  <a:lnTo>
                    <a:pt x="145" y="2235"/>
                  </a:lnTo>
                  <a:lnTo>
                    <a:pt x="132" y="2233"/>
                  </a:lnTo>
                  <a:lnTo>
                    <a:pt x="123" y="2235"/>
                  </a:lnTo>
                  <a:lnTo>
                    <a:pt x="113" y="2239"/>
                  </a:lnTo>
                  <a:lnTo>
                    <a:pt x="105" y="2244"/>
                  </a:lnTo>
                  <a:lnTo>
                    <a:pt x="95" y="2249"/>
                  </a:lnTo>
                  <a:lnTo>
                    <a:pt x="85" y="2255"/>
                  </a:lnTo>
                  <a:lnTo>
                    <a:pt x="75" y="2259"/>
                  </a:lnTo>
                  <a:lnTo>
                    <a:pt x="67" y="2262"/>
                  </a:lnTo>
                  <a:lnTo>
                    <a:pt x="63" y="2252"/>
                  </a:lnTo>
                  <a:lnTo>
                    <a:pt x="126" y="2196"/>
                  </a:lnTo>
                  <a:lnTo>
                    <a:pt x="122" y="2190"/>
                  </a:lnTo>
                  <a:lnTo>
                    <a:pt x="118" y="2187"/>
                  </a:lnTo>
                  <a:lnTo>
                    <a:pt x="116" y="2182"/>
                  </a:lnTo>
                  <a:lnTo>
                    <a:pt x="118" y="2175"/>
                  </a:lnTo>
                  <a:lnTo>
                    <a:pt x="122" y="2171"/>
                  </a:lnTo>
                  <a:lnTo>
                    <a:pt x="126" y="2166"/>
                  </a:lnTo>
                  <a:lnTo>
                    <a:pt x="129" y="2160"/>
                  </a:lnTo>
                  <a:lnTo>
                    <a:pt x="132" y="2157"/>
                  </a:lnTo>
                  <a:lnTo>
                    <a:pt x="127" y="2153"/>
                  </a:lnTo>
                  <a:lnTo>
                    <a:pt x="123" y="2153"/>
                  </a:lnTo>
                  <a:lnTo>
                    <a:pt x="116" y="2152"/>
                  </a:lnTo>
                  <a:lnTo>
                    <a:pt x="110" y="2153"/>
                  </a:lnTo>
                  <a:lnTo>
                    <a:pt x="103" y="2152"/>
                  </a:lnTo>
                  <a:lnTo>
                    <a:pt x="100" y="2150"/>
                  </a:lnTo>
                  <a:lnTo>
                    <a:pt x="99" y="2146"/>
                  </a:lnTo>
                  <a:lnTo>
                    <a:pt x="101" y="2140"/>
                  </a:lnTo>
                  <a:lnTo>
                    <a:pt x="111" y="2134"/>
                  </a:lnTo>
                  <a:lnTo>
                    <a:pt x="121" y="2129"/>
                  </a:lnTo>
                  <a:lnTo>
                    <a:pt x="129" y="2121"/>
                  </a:lnTo>
                  <a:lnTo>
                    <a:pt x="138" y="2115"/>
                  </a:lnTo>
                  <a:lnTo>
                    <a:pt x="145" y="2106"/>
                  </a:lnTo>
                  <a:lnTo>
                    <a:pt x="154" y="2098"/>
                  </a:lnTo>
                  <a:lnTo>
                    <a:pt x="163" y="2089"/>
                  </a:lnTo>
                  <a:lnTo>
                    <a:pt x="172" y="2083"/>
                  </a:lnTo>
                  <a:lnTo>
                    <a:pt x="168" y="2081"/>
                  </a:lnTo>
                  <a:lnTo>
                    <a:pt x="153" y="2086"/>
                  </a:lnTo>
                  <a:lnTo>
                    <a:pt x="139" y="2092"/>
                  </a:lnTo>
                  <a:lnTo>
                    <a:pt x="124" y="2099"/>
                  </a:lnTo>
                  <a:lnTo>
                    <a:pt x="111" y="2106"/>
                  </a:lnTo>
                  <a:lnTo>
                    <a:pt x="96" y="2113"/>
                  </a:lnTo>
                  <a:lnTo>
                    <a:pt x="83" y="2123"/>
                  </a:lnTo>
                  <a:lnTo>
                    <a:pt x="70" y="2132"/>
                  </a:lnTo>
                  <a:lnTo>
                    <a:pt x="60" y="2146"/>
                  </a:lnTo>
                  <a:lnTo>
                    <a:pt x="50" y="2147"/>
                  </a:lnTo>
                  <a:lnTo>
                    <a:pt x="40" y="2150"/>
                  </a:lnTo>
                  <a:lnTo>
                    <a:pt x="30" y="2152"/>
                  </a:lnTo>
                  <a:lnTo>
                    <a:pt x="21" y="2148"/>
                  </a:lnTo>
                  <a:lnTo>
                    <a:pt x="21" y="2135"/>
                  </a:lnTo>
                  <a:lnTo>
                    <a:pt x="26" y="2125"/>
                  </a:lnTo>
                  <a:lnTo>
                    <a:pt x="35" y="2115"/>
                  </a:lnTo>
                  <a:lnTo>
                    <a:pt x="45" y="2107"/>
                  </a:lnTo>
                  <a:lnTo>
                    <a:pt x="56" y="2098"/>
                  </a:lnTo>
                  <a:lnTo>
                    <a:pt x="68" y="2090"/>
                  </a:lnTo>
                  <a:lnTo>
                    <a:pt x="79" y="2083"/>
                  </a:lnTo>
                  <a:lnTo>
                    <a:pt x="89" y="2076"/>
                  </a:lnTo>
                  <a:lnTo>
                    <a:pt x="96" y="2075"/>
                  </a:lnTo>
                  <a:lnTo>
                    <a:pt x="103" y="2070"/>
                  </a:lnTo>
                  <a:lnTo>
                    <a:pt x="91" y="2068"/>
                  </a:lnTo>
                  <a:lnTo>
                    <a:pt x="78" y="2069"/>
                  </a:lnTo>
                  <a:lnTo>
                    <a:pt x="66" y="2070"/>
                  </a:lnTo>
                  <a:lnTo>
                    <a:pt x="55" y="2073"/>
                  </a:lnTo>
                  <a:lnTo>
                    <a:pt x="42" y="2076"/>
                  </a:lnTo>
                  <a:lnTo>
                    <a:pt x="30" y="2079"/>
                  </a:lnTo>
                  <a:lnTo>
                    <a:pt x="18" y="2081"/>
                  </a:lnTo>
                  <a:lnTo>
                    <a:pt x="7" y="2083"/>
                  </a:lnTo>
                  <a:lnTo>
                    <a:pt x="3" y="2073"/>
                  </a:lnTo>
                  <a:lnTo>
                    <a:pt x="1" y="2063"/>
                  </a:lnTo>
                  <a:lnTo>
                    <a:pt x="0" y="2053"/>
                  </a:lnTo>
                  <a:lnTo>
                    <a:pt x="2" y="2043"/>
                  </a:lnTo>
                  <a:lnTo>
                    <a:pt x="28" y="2047"/>
                  </a:lnTo>
                  <a:lnTo>
                    <a:pt x="53" y="2043"/>
                  </a:lnTo>
                  <a:lnTo>
                    <a:pt x="75" y="2031"/>
                  </a:lnTo>
                  <a:lnTo>
                    <a:pt x="98" y="2016"/>
                  </a:lnTo>
                  <a:lnTo>
                    <a:pt x="118" y="1996"/>
                  </a:lnTo>
                  <a:lnTo>
                    <a:pt x="139" y="1976"/>
                  </a:lnTo>
                  <a:lnTo>
                    <a:pt x="159" y="1958"/>
                  </a:lnTo>
                  <a:lnTo>
                    <a:pt x="182" y="1944"/>
                  </a:lnTo>
                  <a:lnTo>
                    <a:pt x="178" y="1940"/>
                  </a:lnTo>
                  <a:lnTo>
                    <a:pt x="159" y="1951"/>
                  </a:lnTo>
                  <a:lnTo>
                    <a:pt x="142" y="1963"/>
                  </a:lnTo>
                  <a:lnTo>
                    <a:pt x="125" y="1974"/>
                  </a:lnTo>
                  <a:lnTo>
                    <a:pt x="108" y="1985"/>
                  </a:lnTo>
                  <a:lnTo>
                    <a:pt x="89" y="1995"/>
                  </a:lnTo>
                  <a:lnTo>
                    <a:pt x="72" y="2006"/>
                  </a:lnTo>
                  <a:lnTo>
                    <a:pt x="56" y="2018"/>
                  </a:lnTo>
                  <a:lnTo>
                    <a:pt x="40" y="2032"/>
                  </a:lnTo>
                  <a:lnTo>
                    <a:pt x="33" y="2033"/>
                  </a:lnTo>
                  <a:lnTo>
                    <a:pt x="30" y="2031"/>
                  </a:lnTo>
                  <a:lnTo>
                    <a:pt x="28" y="2028"/>
                  </a:lnTo>
                  <a:lnTo>
                    <a:pt x="27" y="2025"/>
                  </a:lnTo>
                  <a:lnTo>
                    <a:pt x="31" y="2017"/>
                  </a:lnTo>
                  <a:lnTo>
                    <a:pt x="38" y="2010"/>
                  </a:lnTo>
                  <a:lnTo>
                    <a:pt x="30" y="2007"/>
                  </a:lnTo>
                  <a:lnTo>
                    <a:pt x="24" y="2011"/>
                  </a:lnTo>
                  <a:lnTo>
                    <a:pt x="16" y="2013"/>
                  </a:lnTo>
                  <a:lnTo>
                    <a:pt x="11" y="2010"/>
                  </a:lnTo>
                  <a:lnTo>
                    <a:pt x="10" y="2001"/>
                  </a:lnTo>
                  <a:lnTo>
                    <a:pt x="15" y="1996"/>
                  </a:lnTo>
                  <a:lnTo>
                    <a:pt x="22" y="1989"/>
                  </a:lnTo>
                  <a:lnTo>
                    <a:pt x="29" y="1983"/>
                  </a:lnTo>
                  <a:lnTo>
                    <a:pt x="35" y="1981"/>
                  </a:lnTo>
                  <a:lnTo>
                    <a:pt x="40" y="1982"/>
                  </a:lnTo>
                  <a:lnTo>
                    <a:pt x="45" y="1984"/>
                  </a:lnTo>
                  <a:lnTo>
                    <a:pt x="51" y="1987"/>
                  </a:lnTo>
                  <a:lnTo>
                    <a:pt x="54" y="1989"/>
                  </a:lnTo>
                  <a:lnTo>
                    <a:pt x="59" y="1991"/>
                  </a:lnTo>
                  <a:lnTo>
                    <a:pt x="65" y="1991"/>
                  </a:lnTo>
                  <a:lnTo>
                    <a:pt x="72" y="1991"/>
                  </a:lnTo>
                  <a:lnTo>
                    <a:pt x="81" y="1983"/>
                  </a:lnTo>
                  <a:lnTo>
                    <a:pt x="87" y="1974"/>
                  </a:lnTo>
                  <a:lnTo>
                    <a:pt x="91" y="1963"/>
                  </a:lnTo>
                  <a:lnTo>
                    <a:pt x="87" y="1954"/>
                  </a:lnTo>
                  <a:lnTo>
                    <a:pt x="43" y="1921"/>
                  </a:lnTo>
                  <a:lnTo>
                    <a:pt x="59" y="1918"/>
                  </a:lnTo>
                  <a:lnTo>
                    <a:pt x="77" y="1915"/>
                  </a:lnTo>
                  <a:lnTo>
                    <a:pt x="93" y="1910"/>
                  </a:lnTo>
                  <a:lnTo>
                    <a:pt x="109" y="1904"/>
                  </a:lnTo>
                  <a:lnTo>
                    <a:pt x="124" y="1897"/>
                  </a:lnTo>
                  <a:lnTo>
                    <a:pt x="139" y="1889"/>
                  </a:lnTo>
                  <a:lnTo>
                    <a:pt x="153" y="1879"/>
                  </a:lnTo>
                  <a:lnTo>
                    <a:pt x="168" y="1871"/>
                  </a:lnTo>
                  <a:lnTo>
                    <a:pt x="159" y="1865"/>
                  </a:lnTo>
                  <a:lnTo>
                    <a:pt x="149" y="1865"/>
                  </a:lnTo>
                  <a:lnTo>
                    <a:pt x="139" y="1866"/>
                  </a:lnTo>
                  <a:lnTo>
                    <a:pt x="129" y="1868"/>
                  </a:lnTo>
                  <a:lnTo>
                    <a:pt x="120" y="1872"/>
                  </a:lnTo>
                  <a:lnTo>
                    <a:pt x="110" y="1875"/>
                  </a:lnTo>
                  <a:lnTo>
                    <a:pt x="102" y="1882"/>
                  </a:lnTo>
                  <a:lnTo>
                    <a:pt x="95" y="1888"/>
                  </a:lnTo>
                  <a:lnTo>
                    <a:pt x="89" y="1898"/>
                  </a:lnTo>
                  <a:lnTo>
                    <a:pt x="83" y="1896"/>
                  </a:lnTo>
                  <a:lnTo>
                    <a:pt x="81" y="1893"/>
                  </a:lnTo>
                  <a:lnTo>
                    <a:pt x="80" y="1890"/>
                  </a:lnTo>
                  <a:lnTo>
                    <a:pt x="80" y="1887"/>
                  </a:lnTo>
                  <a:lnTo>
                    <a:pt x="81" y="1878"/>
                  </a:lnTo>
                  <a:lnTo>
                    <a:pt x="81" y="1873"/>
                  </a:lnTo>
                  <a:lnTo>
                    <a:pt x="15" y="1908"/>
                  </a:lnTo>
                  <a:lnTo>
                    <a:pt x="11" y="1901"/>
                  </a:lnTo>
                  <a:lnTo>
                    <a:pt x="7" y="1900"/>
                  </a:lnTo>
                  <a:lnTo>
                    <a:pt x="7" y="1888"/>
                  </a:lnTo>
                  <a:lnTo>
                    <a:pt x="13" y="1884"/>
                  </a:lnTo>
                  <a:lnTo>
                    <a:pt x="21" y="1877"/>
                  </a:lnTo>
                  <a:lnTo>
                    <a:pt x="12" y="1875"/>
                  </a:lnTo>
                  <a:lnTo>
                    <a:pt x="8" y="1872"/>
                  </a:lnTo>
                  <a:lnTo>
                    <a:pt x="6" y="1866"/>
                  </a:lnTo>
                  <a:lnTo>
                    <a:pt x="7" y="1862"/>
                  </a:lnTo>
                  <a:lnTo>
                    <a:pt x="7" y="1855"/>
                  </a:lnTo>
                  <a:lnTo>
                    <a:pt x="9" y="1848"/>
                  </a:lnTo>
                  <a:lnTo>
                    <a:pt x="10" y="1843"/>
                  </a:lnTo>
                  <a:lnTo>
                    <a:pt x="11" y="1839"/>
                  </a:lnTo>
                  <a:lnTo>
                    <a:pt x="40" y="1841"/>
                  </a:lnTo>
                  <a:lnTo>
                    <a:pt x="67" y="1836"/>
                  </a:lnTo>
                  <a:lnTo>
                    <a:pt x="92" y="1826"/>
                  </a:lnTo>
                  <a:lnTo>
                    <a:pt x="116" y="1812"/>
                  </a:lnTo>
                  <a:lnTo>
                    <a:pt x="138" y="1794"/>
                  </a:lnTo>
                  <a:lnTo>
                    <a:pt x="160" y="1777"/>
                  </a:lnTo>
                  <a:lnTo>
                    <a:pt x="184" y="1760"/>
                  </a:lnTo>
                  <a:lnTo>
                    <a:pt x="209" y="1747"/>
                  </a:lnTo>
                  <a:lnTo>
                    <a:pt x="202" y="1744"/>
                  </a:lnTo>
                  <a:lnTo>
                    <a:pt x="197" y="1743"/>
                  </a:lnTo>
                  <a:lnTo>
                    <a:pt x="191" y="1743"/>
                  </a:lnTo>
                  <a:lnTo>
                    <a:pt x="185" y="1745"/>
                  </a:lnTo>
                  <a:lnTo>
                    <a:pt x="179" y="1746"/>
                  </a:lnTo>
                  <a:lnTo>
                    <a:pt x="173" y="1748"/>
                  </a:lnTo>
                  <a:lnTo>
                    <a:pt x="167" y="1749"/>
                  </a:lnTo>
                  <a:lnTo>
                    <a:pt x="162" y="1751"/>
                  </a:lnTo>
                  <a:lnTo>
                    <a:pt x="70" y="1812"/>
                  </a:lnTo>
                  <a:lnTo>
                    <a:pt x="69" y="1808"/>
                  </a:lnTo>
                  <a:lnTo>
                    <a:pt x="65" y="1807"/>
                  </a:lnTo>
                  <a:lnTo>
                    <a:pt x="65" y="1798"/>
                  </a:lnTo>
                  <a:lnTo>
                    <a:pt x="71" y="1789"/>
                  </a:lnTo>
                  <a:lnTo>
                    <a:pt x="80" y="1779"/>
                  </a:lnTo>
                  <a:lnTo>
                    <a:pt x="89" y="1773"/>
                  </a:lnTo>
                  <a:lnTo>
                    <a:pt x="96" y="1765"/>
                  </a:lnTo>
                  <a:lnTo>
                    <a:pt x="99" y="1760"/>
                  </a:lnTo>
                  <a:lnTo>
                    <a:pt x="95" y="1756"/>
                  </a:lnTo>
                  <a:lnTo>
                    <a:pt x="83" y="1756"/>
                  </a:lnTo>
                  <a:lnTo>
                    <a:pt x="74" y="1757"/>
                  </a:lnTo>
                  <a:lnTo>
                    <a:pt x="66" y="1758"/>
                  </a:lnTo>
                  <a:lnTo>
                    <a:pt x="57" y="1758"/>
                  </a:lnTo>
                  <a:lnTo>
                    <a:pt x="50" y="1759"/>
                  </a:lnTo>
                  <a:lnTo>
                    <a:pt x="41" y="1758"/>
                  </a:lnTo>
                  <a:lnTo>
                    <a:pt x="33" y="1758"/>
                  </a:lnTo>
                  <a:lnTo>
                    <a:pt x="25" y="1757"/>
                  </a:lnTo>
                  <a:lnTo>
                    <a:pt x="18" y="1756"/>
                  </a:lnTo>
                  <a:lnTo>
                    <a:pt x="18" y="1741"/>
                  </a:lnTo>
                  <a:lnTo>
                    <a:pt x="94" y="1720"/>
                  </a:lnTo>
                  <a:lnTo>
                    <a:pt x="155" y="1664"/>
                  </a:lnTo>
                  <a:lnTo>
                    <a:pt x="149" y="1661"/>
                  </a:lnTo>
                  <a:lnTo>
                    <a:pt x="142" y="1661"/>
                  </a:lnTo>
                  <a:lnTo>
                    <a:pt x="136" y="1661"/>
                  </a:lnTo>
                  <a:lnTo>
                    <a:pt x="130" y="1661"/>
                  </a:lnTo>
                  <a:lnTo>
                    <a:pt x="124" y="1661"/>
                  </a:lnTo>
                  <a:lnTo>
                    <a:pt x="117" y="1661"/>
                  </a:lnTo>
                  <a:lnTo>
                    <a:pt x="112" y="1661"/>
                  </a:lnTo>
                  <a:lnTo>
                    <a:pt x="108" y="1662"/>
                  </a:lnTo>
                  <a:lnTo>
                    <a:pt x="95" y="1661"/>
                  </a:lnTo>
                  <a:lnTo>
                    <a:pt x="85" y="1664"/>
                  </a:lnTo>
                  <a:lnTo>
                    <a:pt x="75" y="1670"/>
                  </a:lnTo>
                  <a:lnTo>
                    <a:pt x="66" y="1676"/>
                  </a:lnTo>
                  <a:lnTo>
                    <a:pt x="56" y="1681"/>
                  </a:lnTo>
                  <a:lnTo>
                    <a:pt x="46" y="1688"/>
                  </a:lnTo>
                  <a:lnTo>
                    <a:pt x="37" y="1692"/>
                  </a:lnTo>
                  <a:lnTo>
                    <a:pt x="27" y="1695"/>
                  </a:lnTo>
                  <a:lnTo>
                    <a:pt x="24" y="1687"/>
                  </a:lnTo>
                  <a:lnTo>
                    <a:pt x="24" y="1679"/>
                  </a:lnTo>
                  <a:lnTo>
                    <a:pt x="24" y="1672"/>
                  </a:lnTo>
                  <a:lnTo>
                    <a:pt x="27" y="1664"/>
                  </a:lnTo>
                  <a:lnTo>
                    <a:pt x="28" y="1657"/>
                  </a:lnTo>
                  <a:lnTo>
                    <a:pt x="29" y="1649"/>
                  </a:lnTo>
                  <a:lnTo>
                    <a:pt x="29" y="1642"/>
                  </a:lnTo>
                  <a:lnTo>
                    <a:pt x="27" y="1635"/>
                  </a:lnTo>
                  <a:lnTo>
                    <a:pt x="39" y="1627"/>
                  </a:lnTo>
                  <a:lnTo>
                    <a:pt x="52" y="1619"/>
                  </a:lnTo>
                  <a:lnTo>
                    <a:pt x="65" y="1612"/>
                  </a:lnTo>
                  <a:lnTo>
                    <a:pt x="78" y="1604"/>
                  </a:lnTo>
                  <a:lnTo>
                    <a:pt x="89" y="1595"/>
                  </a:lnTo>
                  <a:lnTo>
                    <a:pt x="102" y="1587"/>
                  </a:lnTo>
                  <a:lnTo>
                    <a:pt x="115" y="1578"/>
                  </a:lnTo>
                  <a:lnTo>
                    <a:pt x="128" y="1572"/>
                  </a:lnTo>
                  <a:lnTo>
                    <a:pt x="120" y="1566"/>
                  </a:lnTo>
                  <a:lnTo>
                    <a:pt x="109" y="1562"/>
                  </a:lnTo>
                  <a:lnTo>
                    <a:pt x="102" y="1561"/>
                  </a:lnTo>
                  <a:lnTo>
                    <a:pt x="96" y="1561"/>
                  </a:lnTo>
                  <a:lnTo>
                    <a:pt x="89" y="1562"/>
                  </a:lnTo>
                  <a:lnTo>
                    <a:pt x="85" y="1565"/>
                  </a:lnTo>
                  <a:lnTo>
                    <a:pt x="78" y="1570"/>
                  </a:lnTo>
                  <a:lnTo>
                    <a:pt x="70" y="1575"/>
                  </a:lnTo>
                  <a:lnTo>
                    <a:pt x="63" y="1581"/>
                  </a:lnTo>
                  <a:lnTo>
                    <a:pt x="56" y="1588"/>
                  </a:lnTo>
                  <a:lnTo>
                    <a:pt x="49" y="1592"/>
                  </a:lnTo>
                  <a:lnTo>
                    <a:pt x="41" y="1596"/>
                  </a:lnTo>
                  <a:lnTo>
                    <a:pt x="33" y="1599"/>
                  </a:lnTo>
                  <a:lnTo>
                    <a:pt x="27" y="1599"/>
                  </a:lnTo>
                  <a:lnTo>
                    <a:pt x="25" y="1590"/>
                  </a:lnTo>
                  <a:lnTo>
                    <a:pt x="30" y="1582"/>
                  </a:lnTo>
                  <a:lnTo>
                    <a:pt x="37" y="1574"/>
                  </a:lnTo>
                  <a:lnTo>
                    <a:pt x="45" y="1567"/>
                  </a:lnTo>
                  <a:lnTo>
                    <a:pt x="50" y="1561"/>
                  </a:lnTo>
                  <a:lnTo>
                    <a:pt x="52" y="1557"/>
                  </a:lnTo>
                  <a:lnTo>
                    <a:pt x="47" y="1553"/>
                  </a:lnTo>
                  <a:lnTo>
                    <a:pt x="33" y="1553"/>
                  </a:lnTo>
                  <a:lnTo>
                    <a:pt x="29" y="1548"/>
                  </a:lnTo>
                  <a:lnTo>
                    <a:pt x="29" y="1543"/>
                  </a:lnTo>
                  <a:lnTo>
                    <a:pt x="30" y="1536"/>
                  </a:lnTo>
                  <a:lnTo>
                    <a:pt x="31" y="1532"/>
                  </a:lnTo>
                  <a:lnTo>
                    <a:pt x="36" y="1528"/>
                  </a:lnTo>
                  <a:lnTo>
                    <a:pt x="42" y="1528"/>
                  </a:lnTo>
                  <a:lnTo>
                    <a:pt x="50" y="1527"/>
                  </a:lnTo>
                  <a:lnTo>
                    <a:pt x="57" y="1528"/>
                  </a:lnTo>
                  <a:lnTo>
                    <a:pt x="64" y="1528"/>
                  </a:lnTo>
                  <a:lnTo>
                    <a:pt x="71" y="1529"/>
                  </a:lnTo>
                  <a:lnTo>
                    <a:pt x="78" y="1528"/>
                  </a:lnTo>
                  <a:lnTo>
                    <a:pt x="85" y="1527"/>
                  </a:lnTo>
                  <a:lnTo>
                    <a:pt x="139" y="1478"/>
                  </a:lnTo>
                  <a:lnTo>
                    <a:pt x="135" y="1476"/>
                  </a:lnTo>
                  <a:lnTo>
                    <a:pt x="122" y="1480"/>
                  </a:lnTo>
                  <a:lnTo>
                    <a:pt x="109" y="1486"/>
                  </a:lnTo>
                  <a:lnTo>
                    <a:pt x="96" y="1490"/>
                  </a:lnTo>
                  <a:lnTo>
                    <a:pt x="83" y="1495"/>
                  </a:lnTo>
                  <a:lnTo>
                    <a:pt x="70" y="1500"/>
                  </a:lnTo>
                  <a:lnTo>
                    <a:pt x="57" y="1505"/>
                  </a:lnTo>
                  <a:lnTo>
                    <a:pt x="44" y="1510"/>
                  </a:lnTo>
                  <a:lnTo>
                    <a:pt x="31" y="1516"/>
                  </a:lnTo>
                  <a:lnTo>
                    <a:pt x="30" y="1504"/>
                  </a:lnTo>
                  <a:lnTo>
                    <a:pt x="32" y="1496"/>
                  </a:lnTo>
                  <a:lnTo>
                    <a:pt x="38" y="1489"/>
                  </a:lnTo>
                  <a:lnTo>
                    <a:pt x="46" y="1485"/>
                  </a:lnTo>
                  <a:lnTo>
                    <a:pt x="55" y="1478"/>
                  </a:lnTo>
                  <a:lnTo>
                    <a:pt x="64" y="1474"/>
                  </a:lnTo>
                  <a:lnTo>
                    <a:pt x="72" y="1467"/>
                  </a:lnTo>
                  <a:lnTo>
                    <a:pt x="79" y="1462"/>
                  </a:lnTo>
                  <a:lnTo>
                    <a:pt x="72" y="1457"/>
                  </a:lnTo>
                  <a:lnTo>
                    <a:pt x="64" y="1456"/>
                  </a:lnTo>
                  <a:lnTo>
                    <a:pt x="55" y="1454"/>
                  </a:lnTo>
                  <a:lnTo>
                    <a:pt x="46" y="1454"/>
                  </a:lnTo>
                  <a:lnTo>
                    <a:pt x="38" y="1452"/>
                  </a:lnTo>
                  <a:lnTo>
                    <a:pt x="33" y="1448"/>
                  </a:lnTo>
                  <a:lnTo>
                    <a:pt x="31" y="1439"/>
                  </a:lnTo>
                  <a:lnTo>
                    <a:pt x="36" y="1429"/>
                  </a:lnTo>
                  <a:lnTo>
                    <a:pt x="39" y="1422"/>
                  </a:lnTo>
                  <a:lnTo>
                    <a:pt x="44" y="1419"/>
                  </a:lnTo>
                  <a:lnTo>
                    <a:pt x="51" y="1417"/>
                  </a:lnTo>
                  <a:lnTo>
                    <a:pt x="58" y="1417"/>
                  </a:lnTo>
                  <a:lnTo>
                    <a:pt x="65" y="1416"/>
                  </a:lnTo>
                  <a:lnTo>
                    <a:pt x="72" y="1415"/>
                  </a:lnTo>
                  <a:lnTo>
                    <a:pt x="79" y="1414"/>
                  </a:lnTo>
                  <a:lnTo>
                    <a:pt x="87" y="1413"/>
                  </a:lnTo>
                  <a:lnTo>
                    <a:pt x="95" y="1407"/>
                  </a:lnTo>
                  <a:lnTo>
                    <a:pt x="105" y="1402"/>
                  </a:lnTo>
                  <a:lnTo>
                    <a:pt x="113" y="1396"/>
                  </a:lnTo>
                  <a:lnTo>
                    <a:pt x="123" y="1391"/>
                  </a:lnTo>
                  <a:lnTo>
                    <a:pt x="130" y="1385"/>
                  </a:lnTo>
                  <a:lnTo>
                    <a:pt x="139" y="1378"/>
                  </a:lnTo>
                  <a:lnTo>
                    <a:pt x="145" y="1371"/>
                  </a:lnTo>
                  <a:lnTo>
                    <a:pt x="153" y="1363"/>
                  </a:lnTo>
                  <a:lnTo>
                    <a:pt x="146" y="1359"/>
                  </a:lnTo>
                  <a:lnTo>
                    <a:pt x="141" y="1357"/>
                  </a:lnTo>
                  <a:lnTo>
                    <a:pt x="135" y="1354"/>
                  </a:lnTo>
                  <a:lnTo>
                    <a:pt x="129" y="1354"/>
                  </a:lnTo>
                  <a:lnTo>
                    <a:pt x="123" y="1353"/>
                  </a:lnTo>
                  <a:lnTo>
                    <a:pt x="116" y="1353"/>
                  </a:lnTo>
                  <a:lnTo>
                    <a:pt x="110" y="1352"/>
                  </a:lnTo>
                  <a:lnTo>
                    <a:pt x="103" y="1352"/>
                  </a:lnTo>
                  <a:lnTo>
                    <a:pt x="103" y="1343"/>
                  </a:lnTo>
                  <a:lnTo>
                    <a:pt x="105" y="1334"/>
                  </a:lnTo>
                  <a:lnTo>
                    <a:pt x="102" y="1324"/>
                  </a:lnTo>
                  <a:lnTo>
                    <a:pt x="99" y="1317"/>
                  </a:lnTo>
                  <a:lnTo>
                    <a:pt x="102" y="1311"/>
                  </a:lnTo>
                  <a:lnTo>
                    <a:pt x="109" y="1308"/>
                  </a:lnTo>
                  <a:lnTo>
                    <a:pt x="114" y="1305"/>
                  </a:lnTo>
                  <a:lnTo>
                    <a:pt x="121" y="1303"/>
                  </a:lnTo>
                  <a:lnTo>
                    <a:pt x="125" y="1300"/>
                  </a:lnTo>
                  <a:lnTo>
                    <a:pt x="129" y="1296"/>
                  </a:lnTo>
                  <a:lnTo>
                    <a:pt x="132" y="1292"/>
                  </a:lnTo>
                  <a:lnTo>
                    <a:pt x="132" y="1287"/>
                  </a:lnTo>
                  <a:lnTo>
                    <a:pt x="122" y="1290"/>
                  </a:lnTo>
                  <a:lnTo>
                    <a:pt x="113" y="1296"/>
                  </a:lnTo>
                  <a:lnTo>
                    <a:pt x="103" y="1300"/>
                  </a:lnTo>
                  <a:lnTo>
                    <a:pt x="94" y="1296"/>
                  </a:lnTo>
                  <a:lnTo>
                    <a:pt x="93" y="1288"/>
                  </a:lnTo>
                  <a:lnTo>
                    <a:pt x="97" y="1283"/>
                  </a:lnTo>
                  <a:lnTo>
                    <a:pt x="103" y="1278"/>
                  </a:lnTo>
                  <a:lnTo>
                    <a:pt x="110" y="1274"/>
                  </a:lnTo>
                  <a:lnTo>
                    <a:pt x="102" y="1268"/>
                  </a:lnTo>
                  <a:lnTo>
                    <a:pt x="95" y="1266"/>
                  </a:lnTo>
                  <a:lnTo>
                    <a:pt x="86" y="1266"/>
                  </a:lnTo>
                  <a:lnTo>
                    <a:pt x="78" y="1266"/>
                  </a:lnTo>
                  <a:lnTo>
                    <a:pt x="68" y="1266"/>
                  </a:lnTo>
                  <a:lnTo>
                    <a:pt x="58" y="1266"/>
                  </a:lnTo>
                  <a:lnTo>
                    <a:pt x="50" y="1264"/>
                  </a:lnTo>
                  <a:lnTo>
                    <a:pt x="43" y="1263"/>
                  </a:lnTo>
                  <a:lnTo>
                    <a:pt x="46" y="1252"/>
                  </a:lnTo>
                  <a:lnTo>
                    <a:pt x="50" y="1243"/>
                  </a:lnTo>
                  <a:lnTo>
                    <a:pt x="53" y="1233"/>
                  </a:lnTo>
                  <a:lnTo>
                    <a:pt x="56" y="1223"/>
                  </a:lnTo>
                  <a:lnTo>
                    <a:pt x="57" y="1212"/>
                  </a:lnTo>
                  <a:lnTo>
                    <a:pt x="58" y="1203"/>
                  </a:lnTo>
                  <a:lnTo>
                    <a:pt x="57" y="1193"/>
                  </a:lnTo>
                  <a:lnTo>
                    <a:pt x="56" y="1184"/>
                  </a:lnTo>
                  <a:lnTo>
                    <a:pt x="61" y="1183"/>
                  </a:lnTo>
                  <a:lnTo>
                    <a:pt x="68" y="1181"/>
                  </a:lnTo>
                  <a:lnTo>
                    <a:pt x="74" y="1178"/>
                  </a:lnTo>
                  <a:lnTo>
                    <a:pt x="81" y="1175"/>
                  </a:lnTo>
                  <a:lnTo>
                    <a:pt x="91" y="1165"/>
                  </a:lnTo>
                  <a:lnTo>
                    <a:pt x="101" y="1154"/>
                  </a:lnTo>
                  <a:lnTo>
                    <a:pt x="96" y="1148"/>
                  </a:lnTo>
                  <a:lnTo>
                    <a:pt x="92" y="1146"/>
                  </a:lnTo>
                  <a:lnTo>
                    <a:pt x="86" y="1146"/>
                  </a:lnTo>
                  <a:lnTo>
                    <a:pt x="82" y="1148"/>
                  </a:lnTo>
                  <a:lnTo>
                    <a:pt x="75" y="1149"/>
                  </a:lnTo>
                  <a:lnTo>
                    <a:pt x="70" y="1149"/>
                  </a:lnTo>
                  <a:lnTo>
                    <a:pt x="66" y="1148"/>
                  </a:lnTo>
                  <a:lnTo>
                    <a:pt x="63" y="1144"/>
                  </a:lnTo>
                  <a:lnTo>
                    <a:pt x="56" y="1132"/>
                  </a:lnTo>
                  <a:lnTo>
                    <a:pt x="57" y="1124"/>
                  </a:lnTo>
                  <a:lnTo>
                    <a:pt x="61" y="1120"/>
                  </a:lnTo>
                  <a:lnTo>
                    <a:pt x="69" y="1117"/>
                  </a:lnTo>
                  <a:lnTo>
                    <a:pt x="77" y="1112"/>
                  </a:lnTo>
                  <a:lnTo>
                    <a:pt x="85" y="1108"/>
                  </a:lnTo>
                  <a:lnTo>
                    <a:pt x="91" y="1102"/>
                  </a:lnTo>
                  <a:lnTo>
                    <a:pt x="94" y="1092"/>
                  </a:lnTo>
                  <a:lnTo>
                    <a:pt x="99" y="1084"/>
                  </a:lnTo>
                  <a:lnTo>
                    <a:pt x="106" y="1078"/>
                  </a:lnTo>
                  <a:lnTo>
                    <a:pt x="111" y="1070"/>
                  </a:lnTo>
                  <a:lnTo>
                    <a:pt x="117" y="1064"/>
                  </a:lnTo>
                  <a:lnTo>
                    <a:pt x="122" y="1055"/>
                  </a:lnTo>
                  <a:lnTo>
                    <a:pt x="127" y="1049"/>
                  </a:lnTo>
                  <a:lnTo>
                    <a:pt x="131" y="1040"/>
                  </a:lnTo>
                  <a:lnTo>
                    <a:pt x="137" y="1034"/>
                  </a:lnTo>
                  <a:lnTo>
                    <a:pt x="126" y="1028"/>
                  </a:lnTo>
                  <a:lnTo>
                    <a:pt x="115" y="1027"/>
                  </a:lnTo>
                  <a:lnTo>
                    <a:pt x="102" y="1026"/>
                  </a:lnTo>
                  <a:lnTo>
                    <a:pt x="92" y="1027"/>
                  </a:lnTo>
                  <a:lnTo>
                    <a:pt x="81" y="1026"/>
                  </a:lnTo>
                  <a:lnTo>
                    <a:pt x="73" y="1022"/>
                  </a:lnTo>
                  <a:lnTo>
                    <a:pt x="68" y="1012"/>
                  </a:lnTo>
                  <a:lnTo>
                    <a:pt x="69" y="998"/>
                  </a:lnTo>
                  <a:lnTo>
                    <a:pt x="83" y="993"/>
                  </a:lnTo>
                  <a:lnTo>
                    <a:pt x="141" y="924"/>
                  </a:lnTo>
                  <a:lnTo>
                    <a:pt x="135" y="919"/>
                  </a:lnTo>
                  <a:lnTo>
                    <a:pt x="126" y="924"/>
                  </a:lnTo>
                  <a:lnTo>
                    <a:pt x="118" y="931"/>
                  </a:lnTo>
                  <a:lnTo>
                    <a:pt x="110" y="936"/>
                  </a:lnTo>
                  <a:lnTo>
                    <a:pt x="102" y="941"/>
                  </a:lnTo>
                  <a:lnTo>
                    <a:pt x="94" y="946"/>
                  </a:lnTo>
                  <a:lnTo>
                    <a:pt x="86" y="952"/>
                  </a:lnTo>
                  <a:lnTo>
                    <a:pt x="80" y="959"/>
                  </a:lnTo>
                  <a:lnTo>
                    <a:pt x="74" y="968"/>
                  </a:lnTo>
                  <a:lnTo>
                    <a:pt x="73" y="961"/>
                  </a:lnTo>
                  <a:lnTo>
                    <a:pt x="72" y="953"/>
                  </a:lnTo>
                  <a:lnTo>
                    <a:pt x="71" y="945"/>
                  </a:lnTo>
                  <a:lnTo>
                    <a:pt x="72" y="936"/>
                  </a:lnTo>
                  <a:lnTo>
                    <a:pt x="72" y="927"/>
                  </a:lnTo>
                  <a:lnTo>
                    <a:pt x="75" y="920"/>
                  </a:lnTo>
                  <a:lnTo>
                    <a:pt x="81" y="912"/>
                  </a:lnTo>
                  <a:lnTo>
                    <a:pt x="89" y="908"/>
                  </a:lnTo>
                  <a:lnTo>
                    <a:pt x="83" y="904"/>
                  </a:lnTo>
                  <a:lnTo>
                    <a:pt x="74" y="906"/>
                  </a:lnTo>
                  <a:lnTo>
                    <a:pt x="72" y="895"/>
                  </a:lnTo>
                  <a:lnTo>
                    <a:pt x="70" y="885"/>
                  </a:lnTo>
                  <a:lnTo>
                    <a:pt x="69" y="876"/>
                  </a:lnTo>
                  <a:lnTo>
                    <a:pt x="74" y="866"/>
                  </a:lnTo>
                  <a:lnTo>
                    <a:pt x="72" y="857"/>
                  </a:lnTo>
                  <a:lnTo>
                    <a:pt x="72" y="849"/>
                  </a:lnTo>
                  <a:lnTo>
                    <a:pt x="72" y="839"/>
                  </a:lnTo>
                  <a:lnTo>
                    <a:pt x="73" y="831"/>
                  </a:lnTo>
                  <a:lnTo>
                    <a:pt x="73" y="820"/>
                  </a:lnTo>
                  <a:lnTo>
                    <a:pt x="75" y="809"/>
                  </a:lnTo>
                  <a:lnTo>
                    <a:pt x="78" y="799"/>
                  </a:lnTo>
                  <a:lnTo>
                    <a:pt x="81" y="792"/>
                  </a:lnTo>
                  <a:lnTo>
                    <a:pt x="92" y="782"/>
                  </a:lnTo>
                  <a:lnTo>
                    <a:pt x="85" y="777"/>
                  </a:lnTo>
                  <a:lnTo>
                    <a:pt x="82" y="771"/>
                  </a:lnTo>
                  <a:lnTo>
                    <a:pt x="82" y="765"/>
                  </a:lnTo>
                  <a:lnTo>
                    <a:pt x="85" y="760"/>
                  </a:lnTo>
                  <a:lnTo>
                    <a:pt x="103" y="742"/>
                  </a:lnTo>
                  <a:lnTo>
                    <a:pt x="98" y="735"/>
                  </a:lnTo>
                  <a:lnTo>
                    <a:pt x="94" y="729"/>
                  </a:lnTo>
                  <a:lnTo>
                    <a:pt x="89" y="724"/>
                  </a:lnTo>
                  <a:lnTo>
                    <a:pt x="86" y="720"/>
                  </a:lnTo>
                  <a:lnTo>
                    <a:pt x="83" y="713"/>
                  </a:lnTo>
                  <a:lnTo>
                    <a:pt x="82" y="707"/>
                  </a:lnTo>
                  <a:lnTo>
                    <a:pt x="82" y="699"/>
                  </a:lnTo>
                  <a:lnTo>
                    <a:pt x="85" y="691"/>
                  </a:lnTo>
                  <a:lnTo>
                    <a:pt x="91" y="697"/>
                  </a:lnTo>
                  <a:lnTo>
                    <a:pt x="97" y="702"/>
                  </a:lnTo>
                  <a:lnTo>
                    <a:pt x="103" y="706"/>
                  </a:lnTo>
                  <a:lnTo>
                    <a:pt x="112" y="709"/>
                  </a:lnTo>
                  <a:lnTo>
                    <a:pt x="117" y="700"/>
                  </a:lnTo>
                  <a:lnTo>
                    <a:pt x="127" y="693"/>
                  </a:lnTo>
                  <a:lnTo>
                    <a:pt x="135" y="685"/>
                  </a:lnTo>
                  <a:lnTo>
                    <a:pt x="139" y="677"/>
                  </a:lnTo>
                  <a:lnTo>
                    <a:pt x="130" y="669"/>
                  </a:lnTo>
                  <a:lnTo>
                    <a:pt x="121" y="665"/>
                  </a:lnTo>
                  <a:lnTo>
                    <a:pt x="110" y="661"/>
                  </a:lnTo>
                  <a:lnTo>
                    <a:pt x="100" y="658"/>
                  </a:lnTo>
                  <a:lnTo>
                    <a:pt x="91" y="654"/>
                  </a:lnTo>
                  <a:lnTo>
                    <a:pt x="84" y="649"/>
                  </a:lnTo>
                  <a:lnTo>
                    <a:pt x="80" y="641"/>
                  </a:lnTo>
                  <a:lnTo>
                    <a:pt x="81" y="630"/>
                  </a:lnTo>
                  <a:lnTo>
                    <a:pt x="84" y="619"/>
                  </a:lnTo>
                  <a:lnTo>
                    <a:pt x="89" y="609"/>
                  </a:lnTo>
                  <a:lnTo>
                    <a:pt x="95" y="599"/>
                  </a:lnTo>
                  <a:lnTo>
                    <a:pt x="101" y="590"/>
                  </a:lnTo>
                  <a:lnTo>
                    <a:pt x="108" y="580"/>
                  </a:lnTo>
                  <a:lnTo>
                    <a:pt x="114" y="570"/>
                  </a:lnTo>
                  <a:lnTo>
                    <a:pt x="122" y="562"/>
                  </a:lnTo>
                  <a:lnTo>
                    <a:pt x="130" y="554"/>
                  </a:lnTo>
                  <a:lnTo>
                    <a:pt x="136" y="551"/>
                  </a:lnTo>
                  <a:lnTo>
                    <a:pt x="141" y="548"/>
                  </a:lnTo>
                  <a:lnTo>
                    <a:pt x="137" y="540"/>
                  </a:lnTo>
                  <a:lnTo>
                    <a:pt x="129" y="540"/>
                  </a:lnTo>
                  <a:lnTo>
                    <a:pt x="121" y="540"/>
                  </a:lnTo>
                  <a:lnTo>
                    <a:pt x="114" y="538"/>
                  </a:lnTo>
                  <a:lnTo>
                    <a:pt x="117" y="528"/>
                  </a:lnTo>
                  <a:lnTo>
                    <a:pt x="123" y="521"/>
                  </a:lnTo>
                  <a:lnTo>
                    <a:pt x="127" y="512"/>
                  </a:lnTo>
                  <a:lnTo>
                    <a:pt x="130" y="505"/>
                  </a:lnTo>
                  <a:lnTo>
                    <a:pt x="174" y="475"/>
                  </a:lnTo>
                  <a:lnTo>
                    <a:pt x="219" y="450"/>
                  </a:lnTo>
                  <a:lnTo>
                    <a:pt x="264" y="424"/>
                  </a:lnTo>
                  <a:lnTo>
                    <a:pt x="309" y="400"/>
                  </a:lnTo>
                  <a:lnTo>
                    <a:pt x="354" y="377"/>
                  </a:lnTo>
                  <a:lnTo>
                    <a:pt x="400" y="354"/>
                  </a:lnTo>
                  <a:lnTo>
                    <a:pt x="446" y="331"/>
                  </a:lnTo>
                  <a:lnTo>
                    <a:pt x="492" y="309"/>
                  </a:lnTo>
                  <a:lnTo>
                    <a:pt x="496" y="312"/>
                  </a:lnTo>
                  <a:lnTo>
                    <a:pt x="496" y="306"/>
                  </a:lnTo>
                  <a:lnTo>
                    <a:pt x="498" y="303"/>
                  </a:lnTo>
                  <a:lnTo>
                    <a:pt x="501" y="302"/>
                  </a:lnTo>
                  <a:lnTo>
                    <a:pt x="504" y="303"/>
                  </a:lnTo>
                  <a:lnTo>
                    <a:pt x="510" y="303"/>
                  </a:lnTo>
                  <a:lnTo>
                    <a:pt x="518" y="302"/>
                  </a:lnTo>
                  <a:lnTo>
                    <a:pt x="523" y="297"/>
                  </a:lnTo>
                  <a:lnTo>
                    <a:pt x="530" y="294"/>
                  </a:lnTo>
                  <a:lnTo>
                    <a:pt x="537" y="290"/>
                  </a:lnTo>
                  <a:lnTo>
                    <a:pt x="547" y="287"/>
                  </a:lnTo>
                  <a:lnTo>
                    <a:pt x="555" y="283"/>
                  </a:lnTo>
                  <a:lnTo>
                    <a:pt x="564" y="280"/>
                  </a:lnTo>
                  <a:lnTo>
                    <a:pt x="573" y="275"/>
                  </a:lnTo>
                  <a:lnTo>
                    <a:pt x="581" y="271"/>
                  </a:lnTo>
                  <a:lnTo>
                    <a:pt x="586" y="275"/>
                  </a:lnTo>
                  <a:lnTo>
                    <a:pt x="589" y="270"/>
                  </a:lnTo>
                  <a:lnTo>
                    <a:pt x="594" y="269"/>
                  </a:lnTo>
                  <a:lnTo>
                    <a:pt x="600" y="268"/>
                  </a:lnTo>
                  <a:lnTo>
                    <a:pt x="606" y="265"/>
                  </a:lnTo>
                  <a:lnTo>
                    <a:pt x="846" y="150"/>
                  </a:lnTo>
                  <a:lnTo>
                    <a:pt x="865" y="136"/>
                  </a:lnTo>
                  <a:lnTo>
                    <a:pt x="887" y="123"/>
                  </a:lnTo>
                  <a:lnTo>
                    <a:pt x="907" y="111"/>
                  </a:lnTo>
                  <a:lnTo>
                    <a:pt x="930" y="100"/>
                  </a:lnTo>
                  <a:lnTo>
                    <a:pt x="951" y="88"/>
                  </a:lnTo>
                  <a:lnTo>
                    <a:pt x="973" y="77"/>
                  </a:lnTo>
                  <a:lnTo>
                    <a:pt x="994" y="67"/>
                  </a:lnTo>
                  <a:lnTo>
                    <a:pt x="1016" y="56"/>
                  </a:lnTo>
                  <a:lnTo>
                    <a:pt x="1030" y="47"/>
                  </a:lnTo>
                  <a:lnTo>
                    <a:pt x="1045" y="40"/>
                  </a:lnTo>
                  <a:lnTo>
                    <a:pt x="1060" y="33"/>
                  </a:lnTo>
                  <a:lnTo>
                    <a:pt x="1076" y="28"/>
                  </a:lnTo>
                  <a:lnTo>
                    <a:pt x="1091" y="22"/>
                  </a:lnTo>
                  <a:lnTo>
                    <a:pt x="1106" y="15"/>
                  </a:lnTo>
                  <a:lnTo>
                    <a:pt x="1120" y="8"/>
                  </a:lnTo>
                  <a:lnTo>
                    <a:pt x="1135" y="0"/>
                  </a:lnTo>
                  <a:lnTo>
                    <a:pt x="1136" y="32"/>
                  </a:lnTo>
                  <a:lnTo>
                    <a:pt x="1134" y="65"/>
                  </a:lnTo>
                  <a:lnTo>
                    <a:pt x="1129" y="98"/>
                  </a:lnTo>
                  <a:lnTo>
                    <a:pt x="1125" y="132"/>
                  </a:lnTo>
                  <a:lnTo>
                    <a:pt x="1119" y="165"/>
                  </a:lnTo>
                  <a:lnTo>
                    <a:pt x="1117" y="198"/>
                  </a:lnTo>
                  <a:lnTo>
                    <a:pt x="1117" y="231"/>
                  </a:lnTo>
                  <a:lnTo>
                    <a:pt x="1124" y="265"/>
                  </a:lnTo>
                  <a:close/>
                </a:path>
              </a:pathLst>
            </a:custGeom>
            <a:solidFill>
              <a:srgbClr val="b5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51400" y="2259000"/>
              <a:ext cx="208080" cy="60480"/>
            </a:xfrm>
            <a:custGeom>
              <a:avLst/>
              <a:gdLst/>
              <a:ahLst/>
              <a:rect l="l" t="t" r="r" b="b"/>
              <a:pathLst>
                <a:path w="260" h="76">
                  <a:moveTo>
                    <a:pt x="260" y="6"/>
                  </a:moveTo>
                  <a:lnTo>
                    <a:pt x="235" y="13"/>
                  </a:lnTo>
                  <a:lnTo>
                    <a:pt x="212" y="19"/>
                  </a:lnTo>
                  <a:lnTo>
                    <a:pt x="187" y="26"/>
                  </a:lnTo>
                  <a:lnTo>
                    <a:pt x="163" y="33"/>
                  </a:lnTo>
                  <a:lnTo>
                    <a:pt x="137" y="38"/>
                  </a:lnTo>
                  <a:lnTo>
                    <a:pt x="113" y="45"/>
                  </a:lnTo>
                  <a:lnTo>
                    <a:pt x="88" y="51"/>
                  </a:lnTo>
                  <a:lnTo>
                    <a:pt x="64" y="58"/>
                  </a:lnTo>
                  <a:lnTo>
                    <a:pt x="56" y="60"/>
                  </a:lnTo>
                  <a:lnTo>
                    <a:pt x="48" y="62"/>
                  </a:lnTo>
                  <a:lnTo>
                    <a:pt x="40" y="64"/>
                  </a:lnTo>
                  <a:lnTo>
                    <a:pt x="32" y="66"/>
                  </a:lnTo>
                  <a:lnTo>
                    <a:pt x="23" y="69"/>
                  </a:lnTo>
                  <a:lnTo>
                    <a:pt x="16" y="71"/>
                  </a:lnTo>
                  <a:lnTo>
                    <a:pt x="7" y="73"/>
                  </a:lnTo>
                  <a:lnTo>
                    <a:pt x="0" y="76"/>
                  </a:lnTo>
                  <a:lnTo>
                    <a:pt x="13" y="70"/>
                  </a:lnTo>
                  <a:lnTo>
                    <a:pt x="26" y="64"/>
                  </a:lnTo>
                  <a:lnTo>
                    <a:pt x="38" y="59"/>
                  </a:lnTo>
                  <a:lnTo>
                    <a:pt x="51" y="55"/>
                  </a:lnTo>
                  <a:lnTo>
                    <a:pt x="64" y="49"/>
                  </a:lnTo>
                  <a:lnTo>
                    <a:pt x="77" y="44"/>
                  </a:lnTo>
                  <a:lnTo>
                    <a:pt x="90" y="38"/>
                  </a:lnTo>
                  <a:lnTo>
                    <a:pt x="103" y="33"/>
                  </a:lnTo>
                  <a:lnTo>
                    <a:pt x="119" y="28"/>
                  </a:lnTo>
                  <a:lnTo>
                    <a:pt x="137" y="23"/>
                  </a:lnTo>
                  <a:lnTo>
                    <a:pt x="155" y="19"/>
                  </a:lnTo>
                  <a:lnTo>
                    <a:pt x="173" y="16"/>
                  </a:lnTo>
                  <a:lnTo>
                    <a:pt x="190" y="12"/>
                  </a:lnTo>
                  <a:lnTo>
                    <a:pt x="208" y="8"/>
                  </a:lnTo>
                  <a:lnTo>
                    <a:pt x="226" y="4"/>
                  </a:lnTo>
                  <a:lnTo>
                    <a:pt x="244" y="0"/>
                  </a:lnTo>
                  <a:lnTo>
                    <a:pt x="252" y="2"/>
                  </a:lnTo>
                  <a:lnTo>
                    <a:pt x="2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81720" y="2278080"/>
              <a:ext cx="183960" cy="60480"/>
            </a:xfrm>
            <a:custGeom>
              <a:avLst/>
              <a:gdLst/>
              <a:ahLst/>
              <a:rect l="l" t="t" r="r" b="b"/>
              <a:pathLst>
                <a:path w="232" h="78">
                  <a:moveTo>
                    <a:pt x="232" y="11"/>
                  </a:moveTo>
                  <a:lnTo>
                    <a:pt x="203" y="20"/>
                  </a:lnTo>
                  <a:lnTo>
                    <a:pt x="174" y="29"/>
                  </a:lnTo>
                  <a:lnTo>
                    <a:pt x="144" y="38"/>
                  </a:lnTo>
                  <a:lnTo>
                    <a:pt x="117" y="48"/>
                  </a:lnTo>
                  <a:lnTo>
                    <a:pt x="87" y="55"/>
                  </a:lnTo>
                  <a:lnTo>
                    <a:pt x="58" y="64"/>
                  </a:lnTo>
                  <a:lnTo>
                    <a:pt x="29" y="70"/>
                  </a:lnTo>
                  <a:lnTo>
                    <a:pt x="0" y="78"/>
                  </a:lnTo>
                  <a:lnTo>
                    <a:pt x="20" y="66"/>
                  </a:lnTo>
                  <a:lnTo>
                    <a:pt x="41" y="56"/>
                  </a:lnTo>
                  <a:lnTo>
                    <a:pt x="64" y="48"/>
                  </a:lnTo>
                  <a:lnTo>
                    <a:pt x="86" y="39"/>
                  </a:lnTo>
                  <a:lnTo>
                    <a:pt x="108" y="29"/>
                  </a:lnTo>
                  <a:lnTo>
                    <a:pt x="131" y="21"/>
                  </a:lnTo>
                  <a:lnTo>
                    <a:pt x="153" y="12"/>
                  </a:lnTo>
                  <a:lnTo>
                    <a:pt x="176" y="4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6" y="2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7" y="9"/>
                  </a:lnTo>
                  <a:lnTo>
                    <a:pt x="223" y="10"/>
                  </a:lnTo>
                  <a:lnTo>
                    <a:pt x="2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9320" y="2282760"/>
              <a:ext cx="285840" cy="104760"/>
            </a:xfrm>
            <a:custGeom>
              <a:avLst/>
              <a:gdLst/>
              <a:ahLst/>
              <a:rect l="l" t="t" r="r" b="b"/>
              <a:pathLst>
                <a:path w="360" h="130">
                  <a:moveTo>
                    <a:pt x="360" y="3"/>
                  </a:moveTo>
                  <a:lnTo>
                    <a:pt x="355" y="7"/>
                  </a:lnTo>
                  <a:lnTo>
                    <a:pt x="350" y="12"/>
                  </a:lnTo>
                  <a:lnTo>
                    <a:pt x="348" y="17"/>
                  </a:lnTo>
                  <a:lnTo>
                    <a:pt x="350" y="25"/>
                  </a:lnTo>
                  <a:lnTo>
                    <a:pt x="319" y="34"/>
                  </a:lnTo>
                  <a:lnTo>
                    <a:pt x="289" y="44"/>
                  </a:lnTo>
                  <a:lnTo>
                    <a:pt x="258" y="53"/>
                  </a:lnTo>
                  <a:lnTo>
                    <a:pt x="228" y="62"/>
                  </a:lnTo>
                  <a:lnTo>
                    <a:pt x="196" y="70"/>
                  </a:lnTo>
                  <a:lnTo>
                    <a:pt x="165" y="80"/>
                  </a:lnTo>
                  <a:lnTo>
                    <a:pt x="134" y="87"/>
                  </a:lnTo>
                  <a:lnTo>
                    <a:pt x="104" y="97"/>
                  </a:lnTo>
                  <a:lnTo>
                    <a:pt x="91" y="100"/>
                  </a:lnTo>
                  <a:lnTo>
                    <a:pt x="79" y="104"/>
                  </a:lnTo>
                  <a:lnTo>
                    <a:pt x="66" y="109"/>
                  </a:lnTo>
                  <a:lnTo>
                    <a:pt x="54" y="113"/>
                  </a:lnTo>
                  <a:lnTo>
                    <a:pt x="41" y="116"/>
                  </a:lnTo>
                  <a:lnTo>
                    <a:pt x="30" y="119"/>
                  </a:lnTo>
                  <a:lnTo>
                    <a:pt x="18" y="124"/>
                  </a:lnTo>
                  <a:lnTo>
                    <a:pt x="7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39" y="106"/>
                  </a:lnTo>
                  <a:lnTo>
                    <a:pt x="80" y="88"/>
                  </a:lnTo>
                  <a:lnTo>
                    <a:pt x="122" y="72"/>
                  </a:lnTo>
                  <a:lnTo>
                    <a:pt x="164" y="58"/>
                  </a:lnTo>
                  <a:lnTo>
                    <a:pt x="206" y="44"/>
                  </a:lnTo>
                  <a:lnTo>
                    <a:pt x="250" y="31"/>
                  </a:lnTo>
                  <a:lnTo>
                    <a:pt x="293" y="19"/>
                  </a:lnTo>
                  <a:lnTo>
                    <a:pt x="337" y="7"/>
                  </a:lnTo>
                  <a:lnTo>
                    <a:pt x="341" y="1"/>
                  </a:lnTo>
                  <a:lnTo>
                    <a:pt x="347" y="0"/>
                  </a:lnTo>
                  <a:lnTo>
                    <a:pt x="353" y="0"/>
                  </a:lnTo>
                  <a:lnTo>
                    <a:pt x="36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2289240"/>
              <a:ext cx="82800" cy="3024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103" y="0"/>
                  </a:moveTo>
                  <a:lnTo>
                    <a:pt x="91" y="5"/>
                  </a:lnTo>
                  <a:lnTo>
                    <a:pt x="79" y="10"/>
                  </a:lnTo>
                  <a:lnTo>
                    <a:pt x="68" y="14"/>
                  </a:lnTo>
                  <a:lnTo>
                    <a:pt x="56" y="19"/>
                  </a:lnTo>
                  <a:lnTo>
                    <a:pt x="43" y="22"/>
                  </a:lnTo>
                  <a:lnTo>
                    <a:pt x="31" y="26"/>
                  </a:lnTo>
                  <a:lnTo>
                    <a:pt x="18" y="32"/>
                  </a:lnTo>
                  <a:lnTo>
                    <a:pt x="8" y="38"/>
                  </a:lnTo>
                  <a:lnTo>
                    <a:pt x="0" y="38"/>
                  </a:lnTo>
                  <a:lnTo>
                    <a:pt x="11" y="34"/>
                  </a:lnTo>
                  <a:lnTo>
                    <a:pt x="21" y="30"/>
                  </a:lnTo>
                  <a:lnTo>
                    <a:pt x="31" y="24"/>
                  </a:lnTo>
                  <a:lnTo>
                    <a:pt x="42" y="20"/>
                  </a:lnTo>
                  <a:lnTo>
                    <a:pt x="52" y="14"/>
                  </a:lnTo>
                  <a:lnTo>
                    <a:pt x="62" y="11"/>
                  </a:lnTo>
                  <a:lnTo>
                    <a:pt x="74" y="8"/>
                  </a:lnTo>
                  <a:lnTo>
                    <a:pt x="87" y="7"/>
                  </a:lnTo>
                  <a:lnTo>
                    <a:pt x="9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2332080"/>
              <a:ext cx="112680" cy="49320"/>
            </a:xfrm>
            <a:custGeom>
              <a:avLst/>
              <a:gdLst/>
              <a:ahLst/>
              <a:rect l="l" t="t" r="r" b="b"/>
              <a:pathLst>
                <a:path w="141" h="62">
                  <a:moveTo>
                    <a:pt x="141" y="0"/>
                  </a:moveTo>
                  <a:lnTo>
                    <a:pt x="127" y="5"/>
                  </a:lnTo>
                  <a:lnTo>
                    <a:pt x="114" y="11"/>
                  </a:lnTo>
                  <a:lnTo>
                    <a:pt x="101" y="17"/>
                  </a:lnTo>
                  <a:lnTo>
                    <a:pt x="88" y="25"/>
                  </a:lnTo>
                  <a:lnTo>
                    <a:pt x="74" y="31"/>
                  </a:lnTo>
                  <a:lnTo>
                    <a:pt x="62" y="40"/>
                  </a:lnTo>
                  <a:lnTo>
                    <a:pt x="49" y="48"/>
                  </a:lnTo>
                  <a:lnTo>
                    <a:pt x="36" y="56"/>
                  </a:lnTo>
                  <a:lnTo>
                    <a:pt x="26" y="57"/>
                  </a:lnTo>
                  <a:lnTo>
                    <a:pt x="17" y="61"/>
                  </a:lnTo>
                  <a:lnTo>
                    <a:pt x="8" y="62"/>
                  </a:lnTo>
                  <a:lnTo>
                    <a:pt x="0" y="58"/>
                  </a:lnTo>
                  <a:lnTo>
                    <a:pt x="7" y="53"/>
                  </a:lnTo>
                  <a:lnTo>
                    <a:pt x="17" y="49"/>
                  </a:lnTo>
                  <a:lnTo>
                    <a:pt x="27" y="44"/>
                  </a:lnTo>
                  <a:lnTo>
                    <a:pt x="38" y="40"/>
                  </a:lnTo>
                  <a:lnTo>
                    <a:pt x="45" y="29"/>
                  </a:lnTo>
                  <a:lnTo>
                    <a:pt x="55" y="23"/>
                  </a:lnTo>
                  <a:lnTo>
                    <a:pt x="66" y="17"/>
                  </a:lnTo>
                  <a:lnTo>
                    <a:pt x="79" y="15"/>
                  </a:lnTo>
                  <a:lnTo>
                    <a:pt x="91" y="12"/>
                  </a:lnTo>
                  <a:lnTo>
                    <a:pt x="102" y="11"/>
                  </a:lnTo>
                  <a:lnTo>
                    <a:pt x="114" y="9"/>
                  </a:lnTo>
                  <a:lnTo>
                    <a:pt x="127" y="7"/>
                  </a:lnTo>
                  <a:lnTo>
                    <a:pt x="133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440" y="2336760"/>
              <a:ext cx="69840" cy="2880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8" y="0"/>
                  </a:moveTo>
                  <a:lnTo>
                    <a:pt x="81" y="10"/>
                  </a:lnTo>
                  <a:lnTo>
                    <a:pt x="72" y="18"/>
                  </a:lnTo>
                  <a:lnTo>
                    <a:pt x="62" y="22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30"/>
                  </a:lnTo>
                  <a:lnTo>
                    <a:pt x="11" y="31"/>
                  </a:lnTo>
                  <a:lnTo>
                    <a:pt x="0" y="35"/>
                  </a:lnTo>
                  <a:lnTo>
                    <a:pt x="11" y="30"/>
                  </a:lnTo>
                  <a:lnTo>
                    <a:pt x="22" y="26"/>
                  </a:lnTo>
                  <a:lnTo>
                    <a:pt x="32" y="20"/>
                  </a:lnTo>
                  <a:lnTo>
                    <a:pt x="44" y="16"/>
                  </a:lnTo>
                  <a:lnTo>
                    <a:pt x="54" y="9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1800" y="2336760"/>
              <a:ext cx="73080" cy="446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85" y="22"/>
                  </a:moveTo>
                  <a:lnTo>
                    <a:pt x="75" y="27"/>
                  </a:lnTo>
                  <a:lnTo>
                    <a:pt x="65" y="32"/>
                  </a:lnTo>
                  <a:lnTo>
                    <a:pt x="55" y="36"/>
                  </a:lnTo>
                  <a:lnTo>
                    <a:pt x="46" y="41"/>
                  </a:lnTo>
                  <a:lnTo>
                    <a:pt x="35" y="44"/>
                  </a:lnTo>
                  <a:lnTo>
                    <a:pt x="25" y="48"/>
                  </a:lnTo>
                  <a:lnTo>
                    <a:pt x="15" y="51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0" y="33"/>
                  </a:lnTo>
                  <a:lnTo>
                    <a:pt x="22" y="28"/>
                  </a:lnTo>
                  <a:lnTo>
                    <a:pt x="34" y="23"/>
                  </a:lnTo>
                  <a:lnTo>
                    <a:pt x="47" y="20"/>
                  </a:lnTo>
                  <a:lnTo>
                    <a:pt x="58" y="16"/>
                  </a:lnTo>
                  <a:lnTo>
                    <a:pt x="70" y="12"/>
                  </a:lnTo>
                  <a:lnTo>
                    <a:pt x="82" y="5"/>
                  </a:lnTo>
                  <a:lnTo>
                    <a:pt x="94" y="0"/>
                  </a:lnTo>
                  <a:lnTo>
                    <a:pt x="93" y="4"/>
                  </a:lnTo>
                  <a:lnTo>
                    <a:pt x="91" y="10"/>
                  </a:lnTo>
                  <a:lnTo>
                    <a:pt x="88" y="16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29480" y="2343240"/>
              <a:ext cx="117360" cy="38160"/>
            </a:xfrm>
            <a:custGeom>
              <a:avLst/>
              <a:gdLst/>
              <a:ahLst/>
              <a:rect l="l" t="t" r="r" b="b"/>
              <a:pathLst>
                <a:path w="148" h="50">
                  <a:moveTo>
                    <a:pt x="137" y="10"/>
                  </a:moveTo>
                  <a:lnTo>
                    <a:pt x="120" y="14"/>
                  </a:lnTo>
                  <a:lnTo>
                    <a:pt x="103" y="20"/>
                  </a:lnTo>
                  <a:lnTo>
                    <a:pt x="85" y="24"/>
                  </a:lnTo>
                  <a:lnTo>
                    <a:pt x="68" y="29"/>
                  </a:lnTo>
                  <a:lnTo>
                    <a:pt x="51" y="34"/>
                  </a:lnTo>
                  <a:lnTo>
                    <a:pt x="34" y="39"/>
                  </a:lnTo>
                  <a:lnTo>
                    <a:pt x="16" y="44"/>
                  </a:lnTo>
                  <a:lnTo>
                    <a:pt x="0" y="50"/>
                  </a:lnTo>
                  <a:lnTo>
                    <a:pt x="16" y="43"/>
                  </a:lnTo>
                  <a:lnTo>
                    <a:pt x="33" y="37"/>
                  </a:lnTo>
                  <a:lnTo>
                    <a:pt x="49" y="30"/>
                  </a:lnTo>
                  <a:lnTo>
                    <a:pt x="65" y="25"/>
                  </a:lnTo>
                  <a:lnTo>
                    <a:pt x="81" y="18"/>
                  </a:lnTo>
                  <a:lnTo>
                    <a:pt x="97" y="12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80080" y="2359080"/>
              <a:ext cx="133200" cy="4752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168" y="2"/>
                  </a:moveTo>
                  <a:lnTo>
                    <a:pt x="154" y="4"/>
                  </a:lnTo>
                  <a:lnTo>
                    <a:pt x="142" y="7"/>
                  </a:lnTo>
                  <a:lnTo>
                    <a:pt x="129" y="11"/>
                  </a:lnTo>
                  <a:lnTo>
                    <a:pt x="118" y="17"/>
                  </a:lnTo>
                  <a:lnTo>
                    <a:pt x="106" y="22"/>
                  </a:lnTo>
                  <a:lnTo>
                    <a:pt x="95" y="28"/>
                  </a:lnTo>
                  <a:lnTo>
                    <a:pt x="83" y="31"/>
                  </a:lnTo>
                  <a:lnTo>
                    <a:pt x="71" y="35"/>
                  </a:lnTo>
                  <a:lnTo>
                    <a:pt x="61" y="36"/>
                  </a:lnTo>
                  <a:lnTo>
                    <a:pt x="54" y="39"/>
                  </a:lnTo>
                  <a:lnTo>
                    <a:pt x="45" y="43"/>
                  </a:lnTo>
                  <a:lnTo>
                    <a:pt x="39" y="46"/>
                  </a:lnTo>
                  <a:lnTo>
                    <a:pt x="30" y="49"/>
                  </a:lnTo>
                  <a:lnTo>
                    <a:pt x="23" y="53"/>
                  </a:lnTo>
                  <a:lnTo>
                    <a:pt x="14" y="57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0" y="43"/>
                  </a:lnTo>
                  <a:lnTo>
                    <a:pt x="41" y="36"/>
                  </a:lnTo>
                  <a:lnTo>
                    <a:pt x="61" y="30"/>
                  </a:lnTo>
                  <a:lnTo>
                    <a:pt x="82" y="24"/>
                  </a:lnTo>
                  <a:lnTo>
                    <a:pt x="102" y="18"/>
                  </a:lnTo>
                  <a:lnTo>
                    <a:pt x="123" y="11"/>
                  </a:lnTo>
                  <a:lnTo>
                    <a:pt x="143" y="5"/>
                  </a:lnTo>
                  <a:lnTo>
                    <a:pt x="164" y="0"/>
                  </a:lnTo>
                  <a:lnTo>
                    <a:pt x="1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7200" y="2363760"/>
              <a:ext cx="98280" cy="3960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122" y="0"/>
                  </a:moveTo>
                  <a:lnTo>
                    <a:pt x="116" y="3"/>
                  </a:lnTo>
                  <a:lnTo>
                    <a:pt x="109" y="8"/>
                  </a:lnTo>
                  <a:lnTo>
                    <a:pt x="102" y="12"/>
                  </a:lnTo>
                  <a:lnTo>
                    <a:pt x="95" y="17"/>
                  </a:lnTo>
                  <a:lnTo>
                    <a:pt x="89" y="22"/>
                  </a:lnTo>
                  <a:lnTo>
                    <a:pt x="84" y="28"/>
                  </a:lnTo>
                  <a:lnTo>
                    <a:pt x="79" y="35"/>
                  </a:lnTo>
                  <a:lnTo>
                    <a:pt x="78" y="43"/>
                  </a:lnTo>
                  <a:lnTo>
                    <a:pt x="67" y="45"/>
                  </a:lnTo>
                  <a:lnTo>
                    <a:pt x="57" y="47"/>
                  </a:lnTo>
                  <a:lnTo>
                    <a:pt x="46" y="48"/>
                  </a:lnTo>
                  <a:lnTo>
                    <a:pt x="36" y="50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7" y="41"/>
                  </a:lnTo>
                  <a:lnTo>
                    <a:pt x="0" y="35"/>
                  </a:lnTo>
                  <a:lnTo>
                    <a:pt x="13" y="28"/>
                  </a:lnTo>
                  <a:lnTo>
                    <a:pt x="28" y="25"/>
                  </a:lnTo>
                  <a:lnTo>
                    <a:pt x="41" y="23"/>
                  </a:lnTo>
                  <a:lnTo>
                    <a:pt x="56" y="22"/>
                  </a:lnTo>
                  <a:lnTo>
                    <a:pt x="70" y="18"/>
                  </a:lnTo>
                  <a:lnTo>
                    <a:pt x="84" y="15"/>
                  </a:lnTo>
                  <a:lnTo>
                    <a:pt x="98" y="9"/>
                  </a:lnTo>
                  <a:lnTo>
                    <a:pt x="11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7000" y="2368440"/>
              <a:ext cx="20520" cy="79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20" y="1"/>
                  </a:lnTo>
                  <a:lnTo>
                    <a:pt x="15" y="6"/>
                  </a:lnTo>
                  <a:lnTo>
                    <a:pt x="7" y="9"/>
                  </a:lnTo>
                  <a:lnTo>
                    <a:pt x="0" y="9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1440" y="237816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18" y="3"/>
                  </a:lnTo>
                  <a:lnTo>
                    <a:pt x="12" y="6"/>
                  </a:lnTo>
                  <a:lnTo>
                    <a:pt x="6" y="9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05600" y="2389320"/>
              <a:ext cx="9360" cy="32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1"/>
                  </a:moveTo>
                  <a:lnTo>
                    <a:pt x="6" y="4"/>
                  </a:lnTo>
                  <a:lnTo>
                    <a:pt x="0" y="3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7200" y="2416320"/>
              <a:ext cx="123840" cy="60120"/>
            </a:xfrm>
            <a:custGeom>
              <a:avLst/>
              <a:gdLst/>
              <a:ahLst/>
              <a:rect l="l" t="t" r="r" b="b"/>
              <a:pathLst>
                <a:path w="155" h="76">
                  <a:moveTo>
                    <a:pt x="155" y="4"/>
                  </a:moveTo>
                  <a:lnTo>
                    <a:pt x="153" y="17"/>
                  </a:lnTo>
                  <a:lnTo>
                    <a:pt x="133" y="23"/>
                  </a:lnTo>
                  <a:lnTo>
                    <a:pt x="114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7" y="52"/>
                  </a:lnTo>
                  <a:lnTo>
                    <a:pt x="38" y="60"/>
                  </a:lnTo>
                  <a:lnTo>
                    <a:pt x="18" y="67"/>
                  </a:lnTo>
                  <a:lnTo>
                    <a:pt x="0" y="76"/>
                  </a:lnTo>
                  <a:lnTo>
                    <a:pt x="17" y="65"/>
                  </a:lnTo>
                  <a:lnTo>
                    <a:pt x="35" y="56"/>
                  </a:lnTo>
                  <a:lnTo>
                    <a:pt x="54" y="46"/>
                  </a:lnTo>
                  <a:lnTo>
                    <a:pt x="73" y="36"/>
                  </a:lnTo>
                  <a:lnTo>
                    <a:pt x="92" y="27"/>
                  </a:lnTo>
                  <a:lnTo>
                    <a:pt x="112" y="17"/>
                  </a:lnTo>
                  <a:lnTo>
                    <a:pt x="131" y="7"/>
                  </a:lnTo>
                  <a:lnTo>
                    <a:pt x="151" y="0"/>
                  </a:lnTo>
                  <a:lnTo>
                    <a:pt x="1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89720" y="2416320"/>
              <a:ext cx="4608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27"/>
                  </a:moveTo>
                  <a:lnTo>
                    <a:pt x="49" y="28"/>
                  </a:lnTo>
                  <a:lnTo>
                    <a:pt x="41" y="29"/>
                  </a:lnTo>
                  <a:lnTo>
                    <a:pt x="33" y="29"/>
                  </a:lnTo>
                  <a:lnTo>
                    <a:pt x="27" y="30"/>
                  </a:lnTo>
                  <a:lnTo>
                    <a:pt x="19" y="30"/>
                  </a:lnTo>
                  <a:lnTo>
                    <a:pt x="12" y="30"/>
                  </a:lnTo>
                  <a:lnTo>
                    <a:pt x="5" y="3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21" y="18"/>
                  </a:lnTo>
                  <a:lnTo>
                    <a:pt x="28" y="16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7" y="5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7" y="12"/>
                  </a:lnTo>
                  <a:lnTo>
                    <a:pt x="56" y="19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9680" y="2421000"/>
              <a:ext cx="77760" cy="3024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8" y="4"/>
                  </a:moveTo>
                  <a:lnTo>
                    <a:pt x="90" y="2"/>
                  </a:lnTo>
                  <a:lnTo>
                    <a:pt x="83" y="7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2" y="15"/>
                  </a:lnTo>
                  <a:lnTo>
                    <a:pt x="54" y="20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27" y="29"/>
                  </a:lnTo>
                  <a:lnTo>
                    <a:pt x="19" y="31"/>
                  </a:lnTo>
                  <a:lnTo>
                    <a:pt x="9" y="35"/>
                  </a:lnTo>
                  <a:lnTo>
                    <a:pt x="0" y="38"/>
                  </a:lnTo>
                  <a:lnTo>
                    <a:pt x="10" y="31"/>
                  </a:lnTo>
                  <a:lnTo>
                    <a:pt x="22" y="26"/>
                  </a:lnTo>
                  <a:lnTo>
                    <a:pt x="34" y="22"/>
                  </a:lnTo>
                  <a:lnTo>
                    <a:pt x="47" y="18"/>
                  </a:lnTo>
                  <a:lnTo>
                    <a:pt x="59" y="14"/>
                  </a:lnTo>
                  <a:lnTo>
                    <a:pt x="71" y="11"/>
                  </a:lnTo>
                  <a:lnTo>
                    <a:pt x="83" y="6"/>
                  </a:lnTo>
                  <a:lnTo>
                    <a:pt x="96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84600" y="2484360"/>
              <a:ext cx="120600" cy="4464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53" y="56"/>
                  </a:moveTo>
                  <a:lnTo>
                    <a:pt x="132" y="50"/>
                  </a:lnTo>
                  <a:lnTo>
                    <a:pt x="112" y="45"/>
                  </a:lnTo>
                  <a:lnTo>
                    <a:pt x="93" y="39"/>
                  </a:lnTo>
                  <a:lnTo>
                    <a:pt x="75" y="32"/>
                  </a:lnTo>
                  <a:lnTo>
                    <a:pt x="55" y="24"/>
                  </a:lnTo>
                  <a:lnTo>
                    <a:pt x="37" y="1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1" y="11"/>
                  </a:lnTo>
                  <a:lnTo>
                    <a:pt x="59" y="17"/>
                  </a:lnTo>
                  <a:lnTo>
                    <a:pt x="79" y="25"/>
                  </a:lnTo>
                  <a:lnTo>
                    <a:pt x="97" y="31"/>
                  </a:lnTo>
                  <a:lnTo>
                    <a:pt x="115" y="40"/>
                  </a:lnTo>
                  <a:lnTo>
                    <a:pt x="134" y="47"/>
                  </a:lnTo>
                  <a:lnTo>
                    <a:pt x="15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59320" y="2495520"/>
              <a:ext cx="61920" cy="255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79" y="30"/>
                  </a:moveTo>
                  <a:lnTo>
                    <a:pt x="68" y="28"/>
                  </a:lnTo>
                  <a:lnTo>
                    <a:pt x="58" y="29"/>
                  </a:lnTo>
                  <a:lnTo>
                    <a:pt x="49" y="30"/>
                  </a:lnTo>
                  <a:lnTo>
                    <a:pt x="40" y="32"/>
                  </a:lnTo>
                  <a:lnTo>
                    <a:pt x="30" y="32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6" y="27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0" y="5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6"/>
                  </a:lnTo>
                  <a:lnTo>
                    <a:pt x="30" y="11"/>
                  </a:lnTo>
                  <a:lnTo>
                    <a:pt x="40" y="15"/>
                  </a:lnTo>
                  <a:lnTo>
                    <a:pt x="50" y="18"/>
                  </a:lnTo>
                  <a:lnTo>
                    <a:pt x="59" y="21"/>
                  </a:lnTo>
                  <a:lnTo>
                    <a:pt x="69" y="26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2506680"/>
              <a:ext cx="228600" cy="74520"/>
            </a:xfrm>
            <a:custGeom>
              <a:avLst/>
              <a:gdLst/>
              <a:ahLst/>
              <a:rect l="l" t="t" r="r" b="b"/>
              <a:pathLst>
                <a:path w="290" h="94">
                  <a:moveTo>
                    <a:pt x="106" y="33"/>
                  </a:moveTo>
                  <a:lnTo>
                    <a:pt x="125" y="40"/>
                  </a:lnTo>
                  <a:lnTo>
                    <a:pt x="146" y="46"/>
                  </a:lnTo>
                  <a:lnTo>
                    <a:pt x="166" y="54"/>
                  </a:lnTo>
                  <a:lnTo>
                    <a:pt x="188" y="61"/>
                  </a:lnTo>
                  <a:lnTo>
                    <a:pt x="208" y="69"/>
                  </a:lnTo>
                  <a:lnTo>
                    <a:pt x="230" y="76"/>
                  </a:lnTo>
                  <a:lnTo>
                    <a:pt x="250" y="84"/>
                  </a:lnTo>
                  <a:lnTo>
                    <a:pt x="272" y="92"/>
                  </a:lnTo>
                  <a:lnTo>
                    <a:pt x="281" y="91"/>
                  </a:lnTo>
                  <a:lnTo>
                    <a:pt x="290" y="94"/>
                  </a:lnTo>
                  <a:lnTo>
                    <a:pt x="258" y="89"/>
                  </a:lnTo>
                  <a:lnTo>
                    <a:pt x="227" y="83"/>
                  </a:lnTo>
                  <a:lnTo>
                    <a:pt x="197" y="75"/>
                  </a:lnTo>
                  <a:lnTo>
                    <a:pt x="168" y="68"/>
                  </a:lnTo>
                  <a:lnTo>
                    <a:pt x="139" y="58"/>
                  </a:lnTo>
                  <a:lnTo>
                    <a:pt x="110" y="49"/>
                  </a:lnTo>
                  <a:lnTo>
                    <a:pt x="81" y="40"/>
                  </a:lnTo>
                  <a:lnTo>
                    <a:pt x="52" y="33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6" y="7"/>
                  </a:lnTo>
                  <a:lnTo>
                    <a:pt x="39" y="10"/>
                  </a:lnTo>
                  <a:lnTo>
                    <a:pt x="53" y="15"/>
                  </a:lnTo>
                  <a:lnTo>
                    <a:pt x="66" y="18"/>
                  </a:lnTo>
                  <a:lnTo>
                    <a:pt x="79" y="22"/>
                  </a:lnTo>
                  <a:lnTo>
                    <a:pt x="92" y="27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96000" y="250668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0"/>
                  </a:moveTo>
                  <a:lnTo>
                    <a:pt x="29" y="6"/>
                  </a:lnTo>
                  <a:lnTo>
                    <a:pt x="21" y="10"/>
                  </a:lnTo>
                  <a:lnTo>
                    <a:pt x="9" y="12"/>
                  </a:lnTo>
                  <a:lnTo>
                    <a:pt x="0" y="16"/>
                  </a:lnTo>
                  <a:lnTo>
                    <a:pt x="9" y="9"/>
                  </a:lnTo>
                  <a:lnTo>
                    <a:pt x="19" y="7"/>
                  </a:lnTo>
                  <a:lnTo>
                    <a:pt x="27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3240" y="2508120"/>
              <a:ext cx="157320" cy="3672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32"/>
                  </a:moveTo>
                  <a:lnTo>
                    <a:pt x="175" y="38"/>
                  </a:lnTo>
                  <a:lnTo>
                    <a:pt x="153" y="41"/>
                  </a:lnTo>
                  <a:lnTo>
                    <a:pt x="132" y="41"/>
                  </a:lnTo>
                  <a:lnTo>
                    <a:pt x="110" y="42"/>
                  </a:lnTo>
                  <a:lnTo>
                    <a:pt x="89" y="41"/>
                  </a:lnTo>
                  <a:lnTo>
                    <a:pt x="67" y="40"/>
                  </a:lnTo>
                  <a:lnTo>
                    <a:pt x="44" y="40"/>
                  </a:lnTo>
                  <a:lnTo>
                    <a:pt x="23" y="42"/>
                  </a:lnTo>
                  <a:lnTo>
                    <a:pt x="18" y="44"/>
                  </a:lnTo>
                  <a:lnTo>
                    <a:pt x="12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21" y="37"/>
                  </a:lnTo>
                  <a:lnTo>
                    <a:pt x="42" y="33"/>
                  </a:lnTo>
                  <a:lnTo>
                    <a:pt x="64" y="29"/>
                  </a:lnTo>
                  <a:lnTo>
                    <a:pt x="86" y="27"/>
                  </a:lnTo>
                  <a:lnTo>
                    <a:pt x="108" y="23"/>
                  </a:lnTo>
                  <a:lnTo>
                    <a:pt x="129" y="18"/>
                  </a:lnTo>
                  <a:lnTo>
                    <a:pt x="150" y="12"/>
                  </a:lnTo>
                  <a:lnTo>
                    <a:pt x="170" y="3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87" y="3"/>
                  </a:lnTo>
                  <a:lnTo>
                    <a:pt x="189" y="10"/>
                  </a:lnTo>
                  <a:lnTo>
                    <a:pt x="190" y="15"/>
                  </a:lnTo>
                  <a:lnTo>
                    <a:pt x="191" y="21"/>
                  </a:lnTo>
                  <a:lnTo>
                    <a:pt x="193" y="27"/>
                  </a:lnTo>
                  <a:lnTo>
                    <a:pt x="19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0280" y="2519280"/>
              <a:ext cx="60480" cy="33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2" y="42"/>
                  </a:moveTo>
                  <a:lnTo>
                    <a:pt x="0" y="40"/>
                  </a:lnTo>
                  <a:lnTo>
                    <a:pt x="8" y="32"/>
                  </a:lnTo>
                  <a:lnTo>
                    <a:pt x="18" y="26"/>
                  </a:lnTo>
                  <a:lnTo>
                    <a:pt x="27" y="20"/>
                  </a:lnTo>
                  <a:lnTo>
                    <a:pt x="37" y="16"/>
                  </a:lnTo>
                  <a:lnTo>
                    <a:pt x="47" y="12"/>
                  </a:lnTo>
                  <a:lnTo>
                    <a:pt x="56" y="7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66" y="17"/>
                  </a:lnTo>
                  <a:lnTo>
                    <a:pt x="56" y="22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23" y="34"/>
                  </a:lnTo>
                  <a:lnTo>
                    <a:pt x="11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21240" y="2549520"/>
              <a:ext cx="122400" cy="23760"/>
            </a:xfrm>
            <a:custGeom>
              <a:avLst/>
              <a:gdLst/>
              <a:ahLst/>
              <a:rect l="l" t="t" r="r" b="b"/>
              <a:pathLst>
                <a:path w="153" h="30">
                  <a:moveTo>
                    <a:pt x="153" y="7"/>
                  </a:moveTo>
                  <a:lnTo>
                    <a:pt x="151" y="13"/>
                  </a:lnTo>
                  <a:lnTo>
                    <a:pt x="147" y="18"/>
                  </a:lnTo>
                  <a:lnTo>
                    <a:pt x="143" y="22"/>
                  </a:lnTo>
                  <a:lnTo>
                    <a:pt x="144" y="30"/>
                  </a:lnTo>
                  <a:lnTo>
                    <a:pt x="133" y="28"/>
                  </a:lnTo>
                  <a:lnTo>
                    <a:pt x="124" y="25"/>
                  </a:lnTo>
                  <a:lnTo>
                    <a:pt x="115" y="21"/>
                  </a:lnTo>
                  <a:lnTo>
                    <a:pt x="106" y="18"/>
                  </a:lnTo>
                  <a:lnTo>
                    <a:pt x="97" y="14"/>
                  </a:lnTo>
                  <a:lnTo>
                    <a:pt x="88" y="10"/>
                  </a:lnTo>
                  <a:lnTo>
                    <a:pt x="78" y="7"/>
                  </a:lnTo>
                  <a:lnTo>
                    <a:pt x="70" y="7"/>
                  </a:lnTo>
                  <a:lnTo>
                    <a:pt x="62" y="1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4" y="21"/>
                  </a:lnTo>
                  <a:lnTo>
                    <a:pt x="36" y="19"/>
                  </a:lnTo>
                  <a:lnTo>
                    <a:pt x="29" y="17"/>
                  </a:lnTo>
                  <a:lnTo>
                    <a:pt x="21" y="14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7"/>
                  </a:lnTo>
                  <a:lnTo>
                    <a:pt x="18" y="2"/>
                  </a:lnTo>
                  <a:lnTo>
                    <a:pt x="36" y="1"/>
                  </a:lnTo>
                  <a:lnTo>
                    <a:pt x="55" y="0"/>
                  </a:lnTo>
                  <a:lnTo>
                    <a:pt x="74" y="1"/>
                  </a:lnTo>
                  <a:lnTo>
                    <a:pt x="92" y="2"/>
                  </a:lnTo>
                  <a:lnTo>
                    <a:pt x="112" y="4"/>
                  </a:lnTo>
                  <a:lnTo>
                    <a:pt x="131" y="6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920" y="2573280"/>
              <a:ext cx="50760" cy="302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0"/>
                  </a:moveTo>
                  <a:lnTo>
                    <a:pt x="55" y="3"/>
                  </a:lnTo>
                  <a:lnTo>
                    <a:pt x="48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18" y="28"/>
                  </a:lnTo>
                  <a:lnTo>
                    <a:pt x="10" y="32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5" y="18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21240" y="2594160"/>
              <a:ext cx="22320" cy="140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9"/>
                  </a:moveTo>
                  <a:lnTo>
                    <a:pt x="1" y="19"/>
                  </a:lnTo>
                  <a:lnTo>
                    <a:pt x="0" y="0"/>
                  </a:lnTo>
                  <a:lnTo>
                    <a:pt x="5" y="3"/>
                  </a:lnTo>
                  <a:lnTo>
                    <a:pt x="14" y="3"/>
                  </a:lnTo>
                  <a:lnTo>
                    <a:pt x="21" y="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49680" y="2637000"/>
              <a:ext cx="108000" cy="4572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116" y="11"/>
                  </a:moveTo>
                  <a:lnTo>
                    <a:pt x="117" y="16"/>
                  </a:lnTo>
                  <a:lnTo>
                    <a:pt x="120" y="23"/>
                  </a:lnTo>
                  <a:lnTo>
                    <a:pt x="122" y="28"/>
                  </a:lnTo>
                  <a:lnTo>
                    <a:pt x="125" y="35"/>
                  </a:lnTo>
                  <a:lnTo>
                    <a:pt x="130" y="46"/>
                  </a:lnTo>
                  <a:lnTo>
                    <a:pt x="137" y="57"/>
                  </a:lnTo>
                  <a:lnTo>
                    <a:pt x="119" y="52"/>
                  </a:lnTo>
                  <a:lnTo>
                    <a:pt x="101" y="47"/>
                  </a:lnTo>
                  <a:lnTo>
                    <a:pt x="83" y="41"/>
                  </a:lnTo>
                  <a:lnTo>
                    <a:pt x="66" y="36"/>
                  </a:lnTo>
                  <a:lnTo>
                    <a:pt x="49" y="28"/>
                  </a:lnTo>
                  <a:lnTo>
                    <a:pt x="31" y="22"/>
                  </a:lnTo>
                  <a:lnTo>
                    <a:pt x="15" y="12"/>
                  </a:lnTo>
                  <a:lnTo>
                    <a:pt x="0" y="4"/>
                  </a:lnTo>
                  <a:lnTo>
                    <a:pt x="4" y="1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2" y="2"/>
                  </a:lnTo>
                  <a:lnTo>
                    <a:pt x="74" y="2"/>
                  </a:lnTo>
                  <a:lnTo>
                    <a:pt x="88" y="5"/>
                  </a:lnTo>
                  <a:lnTo>
                    <a:pt x="102" y="8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83160" y="2652840"/>
              <a:ext cx="106560" cy="5076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85" y="27"/>
                  </a:moveTo>
                  <a:lnTo>
                    <a:pt x="91" y="31"/>
                  </a:lnTo>
                  <a:lnTo>
                    <a:pt x="97" y="35"/>
                  </a:lnTo>
                  <a:lnTo>
                    <a:pt x="104" y="38"/>
                  </a:lnTo>
                  <a:lnTo>
                    <a:pt x="110" y="44"/>
                  </a:lnTo>
                  <a:lnTo>
                    <a:pt x="116" y="47"/>
                  </a:lnTo>
                  <a:lnTo>
                    <a:pt x="122" y="52"/>
                  </a:lnTo>
                  <a:lnTo>
                    <a:pt x="129" y="58"/>
                  </a:lnTo>
                  <a:lnTo>
                    <a:pt x="135" y="64"/>
                  </a:lnTo>
                  <a:lnTo>
                    <a:pt x="127" y="64"/>
                  </a:lnTo>
                  <a:lnTo>
                    <a:pt x="121" y="64"/>
                  </a:lnTo>
                  <a:lnTo>
                    <a:pt x="115" y="63"/>
                  </a:lnTo>
                  <a:lnTo>
                    <a:pt x="109" y="61"/>
                  </a:lnTo>
                  <a:lnTo>
                    <a:pt x="103" y="57"/>
                  </a:lnTo>
                  <a:lnTo>
                    <a:pt x="96" y="52"/>
                  </a:lnTo>
                  <a:lnTo>
                    <a:pt x="91" y="47"/>
                  </a:lnTo>
                  <a:lnTo>
                    <a:pt x="87" y="43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4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15"/>
                  </a:lnTo>
                  <a:lnTo>
                    <a:pt x="64" y="19"/>
                  </a:lnTo>
                  <a:lnTo>
                    <a:pt x="74" y="22"/>
                  </a:lnTo>
                  <a:lnTo>
                    <a:pt x="8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2680" y="2660760"/>
              <a:ext cx="52560" cy="381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48"/>
                  </a:moveTo>
                  <a:lnTo>
                    <a:pt x="7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31" y="23"/>
                  </a:lnTo>
                  <a:lnTo>
                    <a:pt x="40" y="17"/>
                  </a:lnTo>
                  <a:lnTo>
                    <a:pt x="49" y="11"/>
                  </a:lnTo>
                  <a:lnTo>
                    <a:pt x="57" y="6"/>
                  </a:lnTo>
                  <a:lnTo>
                    <a:pt x="66" y="0"/>
                  </a:lnTo>
                  <a:lnTo>
                    <a:pt x="58" y="7"/>
                  </a:lnTo>
                  <a:lnTo>
                    <a:pt x="51" y="16"/>
                  </a:lnTo>
                  <a:lnTo>
                    <a:pt x="43" y="23"/>
                  </a:lnTo>
                  <a:lnTo>
                    <a:pt x="37" y="32"/>
                  </a:lnTo>
                  <a:lnTo>
                    <a:pt x="28" y="37"/>
                  </a:lnTo>
                  <a:lnTo>
                    <a:pt x="20" y="43"/>
                  </a:lnTo>
                  <a:lnTo>
                    <a:pt x="10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86360" y="2671920"/>
              <a:ext cx="55800" cy="3636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70" y="0"/>
                  </a:moveTo>
                  <a:lnTo>
                    <a:pt x="61" y="6"/>
                  </a:lnTo>
                  <a:lnTo>
                    <a:pt x="53" y="12"/>
                  </a:lnTo>
                  <a:lnTo>
                    <a:pt x="44" y="19"/>
                  </a:lnTo>
                  <a:lnTo>
                    <a:pt x="37" y="25"/>
                  </a:lnTo>
                  <a:lnTo>
                    <a:pt x="28" y="31"/>
                  </a:lnTo>
                  <a:lnTo>
                    <a:pt x="20" y="37"/>
                  </a:lnTo>
                  <a:lnTo>
                    <a:pt x="11" y="41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6" y="32"/>
                  </a:lnTo>
                  <a:lnTo>
                    <a:pt x="13" y="25"/>
                  </a:lnTo>
                  <a:lnTo>
                    <a:pt x="21" y="19"/>
                  </a:lnTo>
                  <a:lnTo>
                    <a:pt x="30" y="14"/>
                  </a:lnTo>
                  <a:lnTo>
                    <a:pt x="40" y="10"/>
                  </a:lnTo>
                  <a:lnTo>
                    <a:pt x="50" y="7"/>
                  </a:lnTo>
                  <a:lnTo>
                    <a:pt x="59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2673360"/>
              <a:ext cx="72720" cy="302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1" y="37"/>
                  </a:moveTo>
                  <a:lnTo>
                    <a:pt x="76" y="34"/>
                  </a:lnTo>
                  <a:lnTo>
                    <a:pt x="61" y="34"/>
                  </a:lnTo>
                  <a:lnTo>
                    <a:pt x="44" y="35"/>
                  </a:lnTo>
                  <a:lnTo>
                    <a:pt x="29" y="36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5" y="3"/>
                  </a:lnTo>
                  <a:lnTo>
                    <a:pt x="28" y="5"/>
                  </a:lnTo>
                  <a:lnTo>
                    <a:pt x="41" y="6"/>
                  </a:lnTo>
                  <a:lnTo>
                    <a:pt x="55" y="8"/>
                  </a:lnTo>
                  <a:lnTo>
                    <a:pt x="67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00720" y="2682720"/>
              <a:ext cx="56880" cy="2880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37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30" y="7"/>
                  </a:lnTo>
                  <a:lnTo>
                    <a:pt x="40" y="12"/>
                  </a:lnTo>
                  <a:lnTo>
                    <a:pt x="47" y="16"/>
                  </a:lnTo>
                  <a:lnTo>
                    <a:pt x="56" y="23"/>
                  </a:lnTo>
                  <a:lnTo>
                    <a:pt x="63" y="29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7960" y="2698920"/>
              <a:ext cx="74880" cy="2844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92" y="2"/>
                  </a:moveTo>
                  <a:lnTo>
                    <a:pt x="95" y="6"/>
                  </a:lnTo>
                  <a:lnTo>
                    <a:pt x="85" y="18"/>
                  </a:lnTo>
                  <a:lnTo>
                    <a:pt x="76" y="26"/>
                  </a:lnTo>
                  <a:lnTo>
                    <a:pt x="64" y="30"/>
                  </a:lnTo>
                  <a:lnTo>
                    <a:pt x="52" y="32"/>
                  </a:lnTo>
                  <a:lnTo>
                    <a:pt x="39" y="31"/>
                  </a:lnTo>
                  <a:lnTo>
                    <a:pt x="26" y="31"/>
                  </a:lnTo>
                  <a:lnTo>
                    <a:pt x="13" y="31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10" y="27"/>
                  </a:lnTo>
                  <a:lnTo>
                    <a:pt x="20" y="19"/>
                  </a:lnTo>
                  <a:lnTo>
                    <a:pt x="30" y="12"/>
                  </a:lnTo>
                  <a:lnTo>
                    <a:pt x="41" y="6"/>
                  </a:lnTo>
                  <a:lnTo>
                    <a:pt x="51" y="1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5" y="8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8080" y="2701800"/>
              <a:ext cx="31680" cy="129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39" y="12"/>
                  </a:moveTo>
                  <a:lnTo>
                    <a:pt x="33" y="14"/>
                  </a:lnTo>
                  <a:lnTo>
                    <a:pt x="24" y="15"/>
                  </a:lnTo>
                  <a:lnTo>
                    <a:pt x="14" y="14"/>
                  </a:lnTo>
                  <a:lnTo>
                    <a:pt x="7" y="12"/>
                  </a:lnTo>
                  <a:lnTo>
                    <a:pt x="0" y="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8" y="9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73640" y="2720880"/>
              <a:ext cx="1332000" cy="971640"/>
            </a:xfrm>
            <a:custGeom>
              <a:avLst/>
              <a:gdLst/>
              <a:ahLst/>
              <a:rect l="l" t="t" r="r" b="b"/>
              <a:pathLst>
                <a:path w="1676" h="1223">
                  <a:moveTo>
                    <a:pt x="323" y="153"/>
                  </a:moveTo>
                  <a:lnTo>
                    <a:pt x="334" y="179"/>
                  </a:lnTo>
                  <a:lnTo>
                    <a:pt x="350" y="166"/>
                  </a:lnTo>
                  <a:lnTo>
                    <a:pt x="373" y="177"/>
                  </a:lnTo>
                  <a:lnTo>
                    <a:pt x="396" y="188"/>
                  </a:lnTo>
                  <a:lnTo>
                    <a:pt x="419" y="198"/>
                  </a:lnTo>
                  <a:lnTo>
                    <a:pt x="443" y="207"/>
                  </a:lnTo>
                  <a:lnTo>
                    <a:pt x="467" y="216"/>
                  </a:lnTo>
                  <a:lnTo>
                    <a:pt x="490" y="226"/>
                  </a:lnTo>
                  <a:lnTo>
                    <a:pt x="513" y="235"/>
                  </a:lnTo>
                  <a:lnTo>
                    <a:pt x="537" y="247"/>
                  </a:lnTo>
                  <a:lnTo>
                    <a:pt x="535" y="253"/>
                  </a:lnTo>
                  <a:lnTo>
                    <a:pt x="535" y="259"/>
                  </a:lnTo>
                  <a:lnTo>
                    <a:pt x="535" y="264"/>
                  </a:lnTo>
                  <a:lnTo>
                    <a:pt x="537" y="271"/>
                  </a:lnTo>
                  <a:lnTo>
                    <a:pt x="537" y="275"/>
                  </a:lnTo>
                  <a:lnTo>
                    <a:pt x="541" y="281"/>
                  </a:lnTo>
                  <a:lnTo>
                    <a:pt x="544" y="283"/>
                  </a:lnTo>
                  <a:lnTo>
                    <a:pt x="552" y="285"/>
                  </a:lnTo>
                  <a:lnTo>
                    <a:pt x="560" y="285"/>
                  </a:lnTo>
                  <a:lnTo>
                    <a:pt x="566" y="280"/>
                  </a:lnTo>
                  <a:lnTo>
                    <a:pt x="570" y="272"/>
                  </a:lnTo>
                  <a:lnTo>
                    <a:pt x="576" y="269"/>
                  </a:lnTo>
                  <a:lnTo>
                    <a:pt x="600" y="281"/>
                  </a:lnTo>
                  <a:lnTo>
                    <a:pt x="626" y="292"/>
                  </a:lnTo>
                  <a:lnTo>
                    <a:pt x="651" y="304"/>
                  </a:lnTo>
                  <a:lnTo>
                    <a:pt x="676" y="317"/>
                  </a:lnTo>
                  <a:lnTo>
                    <a:pt x="701" y="329"/>
                  </a:lnTo>
                  <a:lnTo>
                    <a:pt x="726" y="342"/>
                  </a:lnTo>
                  <a:lnTo>
                    <a:pt x="750" y="356"/>
                  </a:lnTo>
                  <a:lnTo>
                    <a:pt x="774" y="372"/>
                  </a:lnTo>
                  <a:lnTo>
                    <a:pt x="796" y="379"/>
                  </a:lnTo>
                  <a:lnTo>
                    <a:pt x="817" y="385"/>
                  </a:lnTo>
                  <a:lnTo>
                    <a:pt x="839" y="391"/>
                  </a:lnTo>
                  <a:lnTo>
                    <a:pt x="860" y="399"/>
                  </a:lnTo>
                  <a:lnTo>
                    <a:pt x="882" y="405"/>
                  </a:lnTo>
                  <a:lnTo>
                    <a:pt x="904" y="413"/>
                  </a:lnTo>
                  <a:lnTo>
                    <a:pt x="925" y="420"/>
                  </a:lnTo>
                  <a:lnTo>
                    <a:pt x="947" y="428"/>
                  </a:lnTo>
                  <a:lnTo>
                    <a:pt x="969" y="451"/>
                  </a:lnTo>
                  <a:lnTo>
                    <a:pt x="1011" y="470"/>
                  </a:lnTo>
                  <a:lnTo>
                    <a:pt x="1053" y="489"/>
                  </a:lnTo>
                  <a:lnTo>
                    <a:pt x="1095" y="509"/>
                  </a:lnTo>
                  <a:lnTo>
                    <a:pt x="1138" y="528"/>
                  </a:lnTo>
                  <a:lnTo>
                    <a:pt x="1180" y="546"/>
                  </a:lnTo>
                  <a:lnTo>
                    <a:pt x="1223" y="565"/>
                  </a:lnTo>
                  <a:lnTo>
                    <a:pt x="1266" y="582"/>
                  </a:lnTo>
                  <a:lnTo>
                    <a:pt x="1310" y="599"/>
                  </a:lnTo>
                  <a:lnTo>
                    <a:pt x="1453" y="673"/>
                  </a:lnTo>
                  <a:lnTo>
                    <a:pt x="1475" y="679"/>
                  </a:lnTo>
                  <a:lnTo>
                    <a:pt x="1498" y="687"/>
                  </a:lnTo>
                  <a:lnTo>
                    <a:pt x="1519" y="696"/>
                  </a:lnTo>
                  <a:lnTo>
                    <a:pt x="1541" y="707"/>
                  </a:lnTo>
                  <a:lnTo>
                    <a:pt x="1561" y="716"/>
                  </a:lnTo>
                  <a:lnTo>
                    <a:pt x="1581" y="728"/>
                  </a:lnTo>
                  <a:lnTo>
                    <a:pt x="1602" y="740"/>
                  </a:lnTo>
                  <a:lnTo>
                    <a:pt x="1622" y="752"/>
                  </a:lnTo>
                  <a:lnTo>
                    <a:pt x="1629" y="754"/>
                  </a:lnTo>
                  <a:lnTo>
                    <a:pt x="1635" y="757"/>
                  </a:lnTo>
                  <a:lnTo>
                    <a:pt x="1642" y="760"/>
                  </a:lnTo>
                  <a:lnTo>
                    <a:pt x="1649" y="765"/>
                  </a:lnTo>
                  <a:lnTo>
                    <a:pt x="1655" y="768"/>
                  </a:lnTo>
                  <a:lnTo>
                    <a:pt x="1660" y="772"/>
                  </a:lnTo>
                  <a:lnTo>
                    <a:pt x="1664" y="778"/>
                  </a:lnTo>
                  <a:lnTo>
                    <a:pt x="1669" y="785"/>
                  </a:lnTo>
                  <a:lnTo>
                    <a:pt x="1664" y="795"/>
                  </a:lnTo>
                  <a:lnTo>
                    <a:pt x="1663" y="806"/>
                  </a:lnTo>
                  <a:lnTo>
                    <a:pt x="1663" y="809"/>
                  </a:lnTo>
                  <a:lnTo>
                    <a:pt x="1665" y="813"/>
                  </a:lnTo>
                  <a:lnTo>
                    <a:pt x="1669" y="816"/>
                  </a:lnTo>
                  <a:lnTo>
                    <a:pt x="1676" y="819"/>
                  </a:lnTo>
                  <a:lnTo>
                    <a:pt x="1666" y="1186"/>
                  </a:lnTo>
                  <a:lnTo>
                    <a:pt x="1670" y="1193"/>
                  </a:lnTo>
                  <a:lnTo>
                    <a:pt x="1673" y="1200"/>
                  </a:lnTo>
                  <a:lnTo>
                    <a:pt x="1674" y="1208"/>
                  </a:lnTo>
                  <a:lnTo>
                    <a:pt x="1674" y="1218"/>
                  </a:lnTo>
                  <a:lnTo>
                    <a:pt x="1668" y="1222"/>
                  </a:lnTo>
                  <a:lnTo>
                    <a:pt x="1662" y="1223"/>
                  </a:lnTo>
                  <a:lnTo>
                    <a:pt x="1656" y="1221"/>
                  </a:lnTo>
                  <a:lnTo>
                    <a:pt x="1649" y="1222"/>
                  </a:lnTo>
                  <a:lnTo>
                    <a:pt x="1644" y="1215"/>
                  </a:lnTo>
                  <a:lnTo>
                    <a:pt x="1636" y="1213"/>
                  </a:lnTo>
                  <a:lnTo>
                    <a:pt x="1627" y="1213"/>
                  </a:lnTo>
                  <a:lnTo>
                    <a:pt x="1620" y="1211"/>
                  </a:lnTo>
                  <a:lnTo>
                    <a:pt x="1601" y="1195"/>
                  </a:lnTo>
                  <a:lnTo>
                    <a:pt x="1583" y="1182"/>
                  </a:lnTo>
                  <a:lnTo>
                    <a:pt x="1563" y="1169"/>
                  </a:lnTo>
                  <a:lnTo>
                    <a:pt x="1545" y="1157"/>
                  </a:lnTo>
                  <a:lnTo>
                    <a:pt x="1524" y="1146"/>
                  </a:lnTo>
                  <a:lnTo>
                    <a:pt x="1505" y="1135"/>
                  </a:lnTo>
                  <a:lnTo>
                    <a:pt x="1485" y="1124"/>
                  </a:lnTo>
                  <a:lnTo>
                    <a:pt x="1465" y="1114"/>
                  </a:lnTo>
                  <a:lnTo>
                    <a:pt x="1449" y="1111"/>
                  </a:lnTo>
                  <a:lnTo>
                    <a:pt x="1435" y="1108"/>
                  </a:lnTo>
                  <a:lnTo>
                    <a:pt x="1422" y="1103"/>
                  </a:lnTo>
                  <a:lnTo>
                    <a:pt x="1409" y="1098"/>
                  </a:lnTo>
                  <a:lnTo>
                    <a:pt x="1395" y="1092"/>
                  </a:lnTo>
                  <a:lnTo>
                    <a:pt x="1382" y="1087"/>
                  </a:lnTo>
                  <a:lnTo>
                    <a:pt x="1368" y="1083"/>
                  </a:lnTo>
                  <a:lnTo>
                    <a:pt x="1355" y="1081"/>
                  </a:lnTo>
                  <a:lnTo>
                    <a:pt x="1303" y="1054"/>
                  </a:lnTo>
                  <a:lnTo>
                    <a:pt x="1251" y="1028"/>
                  </a:lnTo>
                  <a:lnTo>
                    <a:pt x="1198" y="1005"/>
                  </a:lnTo>
                  <a:lnTo>
                    <a:pt x="1146" y="982"/>
                  </a:lnTo>
                  <a:lnTo>
                    <a:pt x="1091" y="959"/>
                  </a:lnTo>
                  <a:lnTo>
                    <a:pt x="1037" y="938"/>
                  </a:lnTo>
                  <a:lnTo>
                    <a:pt x="983" y="915"/>
                  </a:lnTo>
                  <a:lnTo>
                    <a:pt x="929" y="895"/>
                  </a:lnTo>
                  <a:lnTo>
                    <a:pt x="899" y="882"/>
                  </a:lnTo>
                  <a:lnTo>
                    <a:pt x="871" y="870"/>
                  </a:lnTo>
                  <a:lnTo>
                    <a:pt x="842" y="856"/>
                  </a:lnTo>
                  <a:lnTo>
                    <a:pt x="815" y="843"/>
                  </a:lnTo>
                  <a:lnTo>
                    <a:pt x="786" y="829"/>
                  </a:lnTo>
                  <a:lnTo>
                    <a:pt x="757" y="816"/>
                  </a:lnTo>
                  <a:lnTo>
                    <a:pt x="727" y="805"/>
                  </a:lnTo>
                  <a:lnTo>
                    <a:pt x="698" y="796"/>
                  </a:lnTo>
                  <a:lnTo>
                    <a:pt x="652" y="772"/>
                  </a:lnTo>
                  <a:lnTo>
                    <a:pt x="605" y="750"/>
                  </a:lnTo>
                  <a:lnTo>
                    <a:pt x="559" y="728"/>
                  </a:lnTo>
                  <a:lnTo>
                    <a:pt x="513" y="707"/>
                  </a:lnTo>
                  <a:lnTo>
                    <a:pt x="466" y="685"/>
                  </a:lnTo>
                  <a:lnTo>
                    <a:pt x="419" y="664"/>
                  </a:lnTo>
                  <a:lnTo>
                    <a:pt x="372" y="642"/>
                  </a:lnTo>
                  <a:lnTo>
                    <a:pt x="326" y="622"/>
                  </a:lnTo>
                  <a:lnTo>
                    <a:pt x="300" y="608"/>
                  </a:lnTo>
                  <a:lnTo>
                    <a:pt x="275" y="594"/>
                  </a:lnTo>
                  <a:lnTo>
                    <a:pt x="251" y="578"/>
                  </a:lnTo>
                  <a:lnTo>
                    <a:pt x="229" y="562"/>
                  </a:lnTo>
                  <a:lnTo>
                    <a:pt x="205" y="546"/>
                  </a:lnTo>
                  <a:lnTo>
                    <a:pt x="181" y="531"/>
                  </a:lnTo>
                  <a:lnTo>
                    <a:pt x="157" y="517"/>
                  </a:lnTo>
                  <a:lnTo>
                    <a:pt x="132" y="507"/>
                  </a:lnTo>
                  <a:lnTo>
                    <a:pt x="49" y="455"/>
                  </a:lnTo>
                  <a:lnTo>
                    <a:pt x="49" y="451"/>
                  </a:lnTo>
                  <a:lnTo>
                    <a:pt x="49" y="446"/>
                  </a:lnTo>
                  <a:lnTo>
                    <a:pt x="49" y="442"/>
                  </a:lnTo>
                  <a:lnTo>
                    <a:pt x="53" y="440"/>
                  </a:lnTo>
                  <a:lnTo>
                    <a:pt x="64" y="442"/>
                  </a:lnTo>
                  <a:lnTo>
                    <a:pt x="76" y="445"/>
                  </a:lnTo>
                  <a:lnTo>
                    <a:pt x="87" y="450"/>
                  </a:lnTo>
                  <a:lnTo>
                    <a:pt x="99" y="454"/>
                  </a:lnTo>
                  <a:lnTo>
                    <a:pt x="109" y="458"/>
                  </a:lnTo>
                  <a:lnTo>
                    <a:pt x="120" y="462"/>
                  </a:lnTo>
                  <a:lnTo>
                    <a:pt x="131" y="467"/>
                  </a:lnTo>
                  <a:lnTo>
                    <a:pt x="144" y="471"/>
                  </a:lnTo>
                  <a:lnTo>
                    <a:pt x="148" y="467"/>
                  </a:lnTo>
                  <a:lnTo>
                    <a:pt x="129" y="454"/>
                  </a:lnTo>
                  <a:lnTo>
                    <a:pt x="110" y="445"/>
                  </a:lnTo>
                  <a:lnTo>
                    <a:pt x="91" y="436"/>
                  </a:lnTo>
                  <a:lnTo>
                    <a:pt x="72" y="427"/>
                  </a:lnTo>
                  <a:lnTo>
                    <a:pt x="52" y="416"/>
                  </a:lnTo>
                  <a:lnTo>
                    <a:pt x="35" y="405"/>
                  </a:lnTo>
                  <a:lnTo>
                    <a:pt x="19" y="391"/>
                  </a:lnTo>
                  <a:lnTo>
                    <a:pt x="7" y="374"/>
                  </a:lnTo>
                  <a:lnTo>
                    <a:pt x="11" y="372"/>
                  </a:lnTo>
                  <a:lnTo>
                    <a:pt x="8" y="327"/>
                  </a:lnTo>
                  <a:lnTo>
                    <a:pt x="6" y="282"/>
                  </a:lnTo>
                  <a:lnTo>
                    <a:pt x="5" y="237"/>
                  </a:lnTo>
                  <a:lnTo>
                    <a:pt x="5" y="192"/>
                  </a:lnTo>
                  <a:lnTo>
                    <a:pt x="4" y="147"/>
                  </a:lnTo>
                  <a:lnTo>
                    <a:pt x="4" y="103"/>
                  </a:lnTo>
                  <a:lnTo>
                    <a:pt x="2" y="59"/>
                  </a:lnTo>
                  <a:lnTo>
                    <a:pt x="0" y="16"/>
                  </a:lnTo>
                  <a:lnTo>
                    <a:pt x="5" y="0"/>
                  </a:lnTo>
                  <a:lnTo>
                    <a:pt x="43" y="21"/>
                  </a:lnTo>
                  <a:lnTo>
                    <a:pt x="82" y="42"/>
                  </a:lnTo>
                  <a:lnTo>
                    <a:pt x="122" y="59"/>
                  </a:lnTo>
                  <a:lnTo>
                    <a:pt x="163" y="77"/>
                  </a:lnTo>
                  <a:lnTo>
                    <a:pt x="204" y="93"/>
                  </a:lnTo>
                  <a:lnTo>
                    <a:pt x="245" y="111"/>
                  </a:lnTo>
                  <a:lnTo>
                    <a:pt x="284" y="130"/>
                  </a:lnTo>
                  <a:lnTo>
                    <a:pt x="323" y="15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43520" y="2720880"/>
              <a:ext cx="30240" cy="30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31" y="10"/>
                  </a:lnTo>
                  <a:lnTo>
                    <a:pt x="22" y="20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72080" y="2732040"/>
              <a:ext cx="42840" cy="2376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29"/>
                  </a:moveTo>
                  <a:lnTo>
                    <a:pt x="44" y="28"/>
                  </a:lnTo>
                  <a:lnTo>
                    <a:pt x="38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8" y="16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5" y="16"/>
                  </a:lnTo>
                  <a:lnTo>
                    <a:pt x="41" y="20"/>
                  </a:lnTo>
                  <a:lnTo>
                    <a:pt x="47" y="25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3480" y="2732040"/>
              <a:ext cx="96840" cy="19080"/>
            </a:xfrm>
            <a:custGeom>
              <a:avLst/>
              <a:gdLst/>
              <a:ahLst/>
              <a:rect l="l" t="t" r="r" b="b"/>
              <a:pathLst>
                <a:path w="123" h="22">
                  <a:moveTo>
                    <a:pt x="123" y="22"/>
                  </a:moveTo>
                  <a:lnTo>
                    <a:pt x="104" y="22"/>
                  </a:lnTo>
                  <a:lnTo>
                    <a:pt x="87" y="22"/>
                  </a:lnTo>
                  <a:lnTo>
                    <a:pt x="71" y="20"/>
                  </a:lnTo>
                  <a:lnTo>
                    <a:pt x="55" y="19"/>
                  </a:lnTo>
                  <a:lnTo>
                    <a:pt x="39" y="15"/>
                  </a:lnTo>
                  <a:lnTo>
                    <a:pt x="25" y="12"/>
                  </a:lnTo>
                  <a:lnTo>
                    <a:pt x="12" y="5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5" y="3"/>
                  </a:lnTo>
                  <a:lnTo>
                    <a:pt x="80" y="3"/>
                  </a:lnTo>
                  <a:lnTo>
                    <a:pt x="95" y="7"/>
                  </a:lnTo>
                  <a:lnTo>
                    <a:pt x="109" y="13"/>
                  </a:lnTo>
                  <a:lnTo>
                    <a:pt x="1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4080" y="2733840"/>
              <a:ext cx="9360" cy="61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7000" y="273672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53" y="2"/>
                  </a:moveTo>
                  <a:lnTo>
                    <a:pt x="47" y="7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1" y="23"/>
                  </a:lnTo>
                  <a:lnTo>
                    <a:pt x="14" y="26"/>
                  </a:lnTo>
                  <a:lnTo>
                    <a:pt x="6" y="27"/>
                  </a:lnTo>
                  <a:lnTo>
                    <a:pt x="0" y="29"/>
                  </a:lnTo>
                  <a:lnTo>
                    <a:pt x="4" y="24"/>
                  </a:lnTo>
                  <a:lnTo>
                    <a:pt x="9" y="18"/>
                  </a:lnTo>
                  <a:lnTo>
                    <a:pt x="16" y="12"/>
                  </a:lnTo>
                  <a:lnTo>
                    <a:pt x="23" y="8"/>
                  </a:lnTo>
                  <a:lnTo>
                    <a:pt x="30" y="3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8520" y="2763720"/>
              <a:ext cx="88920" cy="3348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112" y="9"/>
                  </a:moveTo>
                  <a:lnTo>
                    <a:pt x="98" y="16"/>
                  </a:lnTo>
                  <a:lnTo>
                    <a:pt x="85" y="23"/>
                  </a:lnTo>
                  <a:lnTo>
                    <a:pt x="71" y="30"/>
                  </a:lnTo>
                  <a:lnTo>
                    <a:pt x="58" y="36"/>
                  </a:lnTo>
                  <a:lnTo>
                    <a:pt x="43" y="39"/>
                  </a:lnTo>
                  <a:lnTo>
                    <a:pt x="29" y="42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8" y="25"/>
                  </a:lnTo>
                  <a:lnTo>
                    <a:pt x="19" y="19"/>
                  </a:lnTo>
                  <a:lnTo>
                    <a:pt x="30" y="14"/>
                  </a:lnTo>
                  <a:lnTo>
                    <a:pt x="43" y="10"/>
                  </a:lnTo>
                  <a:lnTo>
                    <a:pt x="54" y="6"/>
                  </a:lnTo>
                  <a:lnTo>
                    <a:pt x="67" y="4"/>
                  </a:lnTo>
                  <a:lnTo>
                    <a:pt x="80" y="1"/>
                  </a:lnTo>
                  <a:lnTo>
                    <a:pt x="93" y="0"/>
                  </a:lnTo>
                  <a:lnTo>
                    <a:pt x="112" y="4"/>
                  </a:lnTo>
                  <a:lnTo>
                    <a:pt x="1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9120" y="2766960"/>
              <a:ext cx="85680" cy="716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10" y="0"/>
                  </a:moveTo>
                  <a:lnTo>
                    <a:pt x="103" y="7"/>
                  </a:lnTo>
                  <a:lnTo>
                    <a:pt x="98" y="17"/>
                  </a:lnTo>
                  <a:lnTo>
                    <a:pt x="92" y="25"/>
                  </a:lnTo>
                  <a:lnTo>
                    <a:pt x="87" y="34"/>
                  </a:lnTo>
                  <a:lnTo>
                    <a:pt x="83" y="40"/>
                  </a:lnTo>
                  <a:lnTo>
                    <a:pt x="82" y="47"/>
                  </a:lnTo>
                  <a:lnTo>
                    <a:pt x="81" y="55"/>
                  </a:lnTo>
                  <a:lnTo>
                    <a:pt x="81" y="63"/>
                  </a:lnTo>
                  <a:lnTo>
                    <a:pt x="79" y="69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2" y="82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9" y="86"/>
                  </a:lnTo>
                  <a:lnTo>
                    <a:pt x="31" y="83"/>
                  </a:lnTo>
                  <a:lnTo>
                    <a:pt x="23" y="77"/>
                  </a:lnTo>
                  <a:lnTo>
                    <a:pt x="15" y="72"/>
                  </a:lnTo>
                  <a:lnTo>
                    <a:pt x="8" y="68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55"/>
                  </a:lnTo>
                  <a:lnTo>
                    <a:pt x="18" y="47"/>
                  </a:lnTo>
                  <a:lnTo>
                    <a:pt x="24" y="41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43" y="25"/>
                  </a:lnTo>
                  <a:lnTo>
                    <a:pt x="53" y="23"/>
                  </a:lnTo>
                  <a:lnTo>
                    <a:pt x="64" y="20"/>
                  </a:lnTo>
                  <a:lnTo>
                    <a:pt x="73" y="16"/>
                  </a:lnTo>
                  <a:lnTo>
                    <a:pt x="83" y="12"/>
                  </a:lnTo>
                  <a:lnTo>
                    <a:pt x="93" y="5"/>
                  </a:lnTo>
                  <a:lnTo>
                    <a:pt x="10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13320" y="2789280"/>
              <a:ext cx="1296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8" y="9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95680" y="2792520"/>
              <a:ext cx="5040" cy="19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lnTo>
                    <a:pt x="7" y="10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5" y="25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4000" y="2795760"/>
              <a:ext cx="27000" cy="87120"/>
            </a:xfrm>
            <a:custGeom>
              <a:avLst/>
              <a:gdLst/>
              <a:ahLst/>
              <a:rect l="l" t="t" r="r" b="b"/>
              <a:pathLst>
                <a:path w="32" h="110">
                  <a:moveTo>
                    <a:pt x="32" y="87"/>
                  </a:moveTo>
                  <a:lnTo>
                    <a:pt x="27" y="94"/>
                  </a:lnTo>
                  <a:lnTo>
                    <a:pt x="21" y="101"/>
                  </a:lnTo>
                  <a:lnTo>
                    <a:pt x="14" y="107"/>
                  </a:lnTo>
                  <a:lnTo>
                    <a:pt x="5" y="110"/>
                  </a:lnTo>
                  <a:lnTo>
                    <a:pt x="0" y="11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3"/>
                  </a:lnTo>
                  <a:lnTo>
                    <a:pt x="21" y="8"/>
                  </a:lnTo>
                  <a:lnTo>
                    <a:pt x="32" y="11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64160" y="2540160"/>
              <a:ext cx="743040" cy="380880"/>
            </a:xfrm>
            <a:custGeom>
              <a:avLst/>
              <a:gdLst/>
              <a:ahLst/>
              <a:rect l="l" t="t" r="r" b="b"/>
              <a:pathLst>
                <a:path w="938" h="481">
                  <a:moveTo>
                    <a:pt x="403" y="59"/>
                  </a:moveTo>
                  <a:lnTo>
                    <a:pt x="411" y="63"/>
                  </a:lnTo>
                  <a:lnTo>
                    <a:pt x="423" y="65"/>
                  </a:lnTo>
                  <a:lnTo>
                    <a:pt x="435" y="64"/>
                  </a:lnTo>
                  <a:lnTo>
                    <a:pt x="448" y="63"/>
                  </a:lnTo>
                  <a:lnTo>
                    <a:pt x="459" y="62"/>
                  </a:lnTo>
                  <a:lnTo>
                    <a:pt x="470" y="64"/>
                  </a:lnTo>
                  <a:lnTo>
                    <a:pt x="478" y="71"/>
                  </a:lnTo>
                  <a:lnTo>
                    <a:pt x="487" y="84"/>
                  </a:lnTo>
                  <a:lnTo>
                    <a:pt x="502" y="83"/>
                  </a:lnTo>
                  <a:lnTo>
                    <a:pt x="516" y="89"/>
                  </a:lnTo>
                  <a:lnTo>
                    <a:pt x="528" y="98"/>
                  </a:lnTo>
                  <a:lnTo>
                    <a:pt x="541" y="108"/>
                  </a:lnTo>
                  <a:lnTo>
                    <a:pt x="551" y="116"/>
                  </a:lnTo>
                  <a:lnTo>
                    <a:pt x="565" y="121"/>
                  </a:lnTo>
                  <a:lnTo>
                    <a:pt x="580" y="120"/>
                  </a:lnTo>
                  <a:lnTo>
                    <a:pt x="599" y="113"/>
                  </a:lnTo>
                  <a:lnTo>
                    <a:pt x="615" y="117"/>
                  </a:lnTo>
                  <a:lnTo>
                    <a:pt x="633" y="123"/>
                  </a:lnTo>
                  <a:lnTo>
                    <a:pt x="650" y="130"/>
                  </a:lnTo>
                  <a:lnTo>
                    <a:pt x="668" y="140"/>
                  </a:lnTo>
                  <a:lnTo>
                    <a:pt x="683" y="150"/>
                  </a:lnTo>
                  <a:lnTo>
                    <a:pt x="694" y="164"/>
                  </a:lnTo>
                  <a:lnTo>
                    <a:pt x="703" y="181"/>
                  </a:lnTo>
                  <a:lnTo>
                    <a:pt x="708" y="202"/>
                  </a:lnTo>
                  <a:lnTo>
                    <a:pt x="710" y="208"/>
                  </a:lnTo>
                  <a:lnTo>
                    <a:pt x="708" y="215"/>
                  </a:lnTo>
                  <a:lnTo>
                    <a:pt x="705" y="219"/>
                  </a:lnTo>
                  <a:lnTo>
                    <a:pt x="701" y="225"/>
                  </a:lnTo>
                  <a:lnTo>
                    <a:pt x="696" y="228"/>
                  </a:lnTo>
                  <a:lnTo>
                    <a:pt x="691" y="233"/>
                  </a:lnTo>
                  <a:lnTo>
                    <a:pt x="688" y="237"/>
                  </a:lnTo>
                  <a:lnTo>
                    <a:pt x="688" y="245"/>
                  </a:lnTo>
                  <a:lnTo>
                    <a:pt x="691" y="250"/>
                  </a:lnTo>
                  <a:lnTo>
                    <a:pt x="696" y="258"/>
                  </a:lnTo>
                  <a:lnTo>
                    <a:pt x="698" y="264"/>
                  </a:lnTo>
                  <a:lnTo>
                    <a:pt x="700" y="273"/>
                  </a:lnTo>
                  <a:lnTo>
                    <a:pt x="702" y="279"/>
                  </a:lnTo>
                  <a:lnTo>
                    <a:pt x="705" y="287"/>
                  </a:lnTo>
                  <a:lnTo>
                    <a:pt x="710" y="293"/>
                  </a:lnTo>
                  <a:lnTo>
                    <a:pt x="717" y="299"/>
                  </a:lnTo>
                  <a:lnTo>
                    <a:pt x="742" y="301"/>
                  </a:lnTo>
                  <a:lnTo>
                    <a:pt x="767" y="304"/>
                  </a:lnTo>
                  <a:lnTo>
                    <a:pt x="791" y="307"/>
                  </a:lnTo>
                  <a:lnTo>
                    <a:pt x="817" y="313"/>
                  </a:lnTo>
                  <a:lnTo>
                    <a:pt x="840" y="319"/>
                  </a:lnTo>
                  <a:lnTo>
                    <a:pt x="863" y="328"/>
                  </a:lnTo>
                  <a:lnTo>
                    <a:pt x="886" y="339"/>
                  </a:lnTo>
                  <a:lnTo>
                    <a:pt x="908" y="353"/>
                  </a:lnTo>
                  <a:lnTo>
                    <a:pt x="916" y="363"/>
                  </a:lnTo>
                  <a:lnTo>
                    <a:pt x="924" y="376"/>
                  </a:lnTo>
                  <a:lnTo>
                    <a:pt x="929" y="389"/>
                  </a:lnTo>
                  <a:lnTo>
                    <a:pt x="934" y="404"/>
                  </a:lnTo>
                  <a:lnTo>
                    <a:pt x="937" y="417"/>
                  </a:lnTo>
                  <a:lnTo>
                    <a:pt x="938" y="433"/>
                  </a:lnTo>
                  <a:lnTo>
                    <a:pt x="937" y="449"/>
                  </a:lnTo>
                  <a:lnTo>
                    <a:pt x="936" y="467"/>
                  </a:lnTo>
                  <a:lnTo>
                    <a:pt x="929" y="470"/>
                  </a:lnTo>
                  <a:lnTo>
                    <a:pt x="923" y="473"/>
                  </a:lnTo>
                  <a:lnTo>
                    <a:pt x="915" y="474"/>
                  </a:lnTo>
                  <a:lnTo>
                    <a:pt x="909" y="476"/>
                  </a:lnTo>
                  <a:lnTo>
                    <a:pt x="901" y="476"/>
                  </a:lnTo>
                  <a:lnTo>
                    <a:pt x="895" y="476"/>
                  </a:lnTo>
                  <a:lnTo>
                    <a:pt x="888" y="476"/>
                  </a:lnTo>
                  <a:lnTo>
                    <a:pt x="884" y="476"/>
                  </a:lnTo>
                  <a:lnTo>
                    <a:pt x="881" y="477"/>
                  </a:lnTo>
                  <a:lnTo>
                    <a:pt x="878" y="481"/>
                  </a:lnTo>
                  <a:lnTo>
                    <a:pt x="873" y="476"/>
                  </a:lnTo>
                  <a:lnTo>
                    <a:pt x="868" y="476"/>
                  </a:lnTo>
                  <a:lnTo>
                    <a:pt x="860" y="476"/>
                  </a:lnTo>
                  <a:lnTo>
                    <a:pt x="853" y="476"/>
                  </a:lnTo>
                  <a:lnTo>
                    <a:pt x="844" y="475"/>
                  </a:lnTo>
                  <a:lnTo>
                    <a:pt x="839" y="474"/>
                  </a:lnTo>
                  <a:lnTo>
                    <a:pt x="819" y="468"/>
                  </a:lnTo>
                  <a:lnTo>
                    <a:pt x="802" y="462"/>
                  </a:lnTo>
                  <a:lnTo>
                    <a:pt x="785" y="454"/>
                  </a:lnTo>
                  <a:lnTo>
                    <a:pt x="769" y="446"/>
                  </a:lnTo>
                  <a:lnTo>
                    <a:pt x="752" y="436"/>
                  </a:lnTo>
                  <a:lnTo>
                    <a:pt x="735" y="428"/>
                  </a:lnTo>
                  <a:lnTo>
                    <a:pt x="718" y="420"/>
                  </a:lnTo>
                  <a:lnTo>
                    <a:pt x="702" y="415"/>
                  </a:lnTo>
                  <a:lnTo>
                    <a:pt x="698" y="407"/>
                  </a:lnTo>
                  <a:lnTo>
                    <a:pt x="693" y="403"/>
                  </a:lnTo>
                  <a:lnTo>
                    <a:pt x="688" y="399"/>
                  </a:lnTo>
                  <a:lnTo>
                    <a:pt x="683" y="398"/>
                  </a:lnTo>
                  <a:lnTo>
                    <a:pt x="675" y="397"/>
                  </a:lnTo>
                  <a:lnTo>
                    <a:pt x="669" y="397"/>
                  </a:lnTo>
                  <a:lnTo>
                    <a:pt x="662" y="398"/>
                  </a:lnTo>
                  <a:lnTo>
                    <a:pt x="657" y="400"/>
                  </a:lnTo>
                  <a:lnTo>
                    <a:pt x="640" y="407"/>
                  </a:lnTo>
                  <a:lnTo>
                    <a:pt x="623" y="418"/>
                  </a:lnTo>
                  <a:lnTo>
                    <a:pt x="607" y="429"/>
                  </a:lnTo>
                  <a:lnTo>
                    <a:pt x="592" y="440"/>
                  </a:lnTo>
                  <a:lnTo>
                    <a:pt x="575" y="447"/>
                  </a:lnTo>
                  <a:lnTo>
                    <a:pt x="559" y="453"/>
                  </a:lnTo>
                  <a:lnTo>
                    <a:pt x="541" y="453"/>
                  </a:lnTo>
                  <a:lnTo>
                    <a:pt x="522" y="447"/>
                  </a:lnTo>
                  <a:lnTo>
                    <a:pt x="512" y="440"/>
                  </a:lnTo>
                  <a:lnTo>
                    <a:pt x="502" y="433"/>
                  </a:lnTo>
                  <a:lnTo>
                    <a:pt x="492" y="427"/>
                  </a:lnTo>
                  <a:lnTo>
                    <a:pt x="484" y="421"/>
                  </a:lnTo>
                  <a:lnTo>
                    <a:pt x="474" y="415"/>
                  </a:lnTo>
                  <a:lnTo>
                    <a:pt x="466" y="408"/>
                  </a:lnTo>
                  <a:lnTo>
                    <a:pt x="459" y="400"/>
                  </a:lnTo>
                  <a:lnTo>
                    <a:pt x="452" y="392"/>
                  </a:lnTo>
                  <a:lnTo>
                    <a:pt x="439" y="390"/>
                  </a:lnTo>
                  <a:lnTo>
                    <a:pt x="428" y="390"/>
                  </a:lnTo>
                  <a:lnTo>
                    <a:pt x="414" y="390"/>
                  </a:lnTo>
                  <a:lnTo>
                    <a:pt x="401" y="391"/>
                  </a:lnTo>
                  <a:lnTo>
                    <a:pt x="387" y="390"/>
                  </a:lnTo>
                  <a:lnTo>
                    <a:pt x="374" y="389"/>
                  </a:lnTo>
                  <a:lnTo>
                    <a:pt x="361" y="386"/>
                  </a:lnTo>
                  <a:lnTo>
                    <a:pt x="351" y="382"/>
                  </a:lnTo>
                  <a:lnTo>
                    <a:pt x="337" y="371"/>
                  </a:lnTo>
                  <a:lnTo>
                    <a:pt x="324" y="361"/>
                  </a:lnTo>
                  <a:lnTo>
                    <a:pt x="312" y="351"/>
                  </a:lnTo>
                  <a:lnTo>
                    <a:pt x="302" y="342"/>
                  </a:lnTo>
                  <a:lnTo>
                    <a:pt x="290" y="330"/>
                  </a:lnTo>
                  <a:lnTo>
                    <a:pt x="279" y="319"/>
                  </a:lnTo>
                  <a:lnTo>
                    <a:pt x="269" y="306"/>
                  </a:lnTo>
                  <a:lnTo>
                    <a:pt x="260" y="294"/>
                  </a:lnTo>
                  <a:lnTo>
                    <a:pt x="250" y="290"/>
                  </a:lnTo>
                  <a:lnTo>
                    <a:pt x="241" y="289"/>
                  </a:lnTo>
                  <a:lnTo>
                    <a:pt x="232" y="288"/>
                  </a:lnTo>
                  <a:lnTo>
                    <a:pt x="223" y="288"/>
                  </a:lnTo>
                  <a:lnTo>
                    <a:pt x="212" y="288"/>
                  </a:lnTo>
                  <a:lnTo>
                    <a:pt x="202" y="289"/>
                  </a:lnTo>
                  <a:lnTo>
                    <a:pt x="192" y="290"/>
                  </a:lnTo>
                  <a:lnTo>
                    <a:pt x="183" y="292"/>
                  </a:lnTo>
                  <a:lnTo>
                    <a:pt x="171" y="285"/>
                  </a:lnTo>
                  <a:lnTo>
                    <a:pt x="160" y="277"/>
                  </a:lnTo>
                  <a:lnTo>
                    <a:pt x="148" y="268"/>
                  </a:lnTo>
                  <a:lnTo>
                    <a:pt x="137" y="259"/>
                  </a:lnTo>
                  <a:lnTo>
                    <a:pt x="126" y="248"/>
                  </a:lnTo>
                  <a:lnTo>
                    <a:pt x="119" y="236"/>
                  </a:lnTo>
                  <a:lnTo>
                    <a:pt x="116" y="222"/>
                  </a:lnTo>
                  <a:lnTo>
                    <a:pt x="117" y="208"/>
                  </a:lnTo>
                  <a:lnTo>
                    <a:pt x="108" y="202"/>
                  </a:lnTo>
                  <a:lnTo>
                    <a:pt x="100" y="197"/>
                  </a:lnTo>
                  <a:lnTo>
                    <a:pt x="94" y="189"/>
                  </a:lnTo>
                  <a:lnTo>
                    <a:pt x="89" y="183"/>
                  </a:lnTo>
                  <a:lnTo>
                    <a:pt x="81" y="175"/>
                  </a:lnTo>
                  <a:lnTo>
                    <a:pt x="74" y="172"/>
                  </a:lnTo>
                  <a:lnTo>
                    <a:pt x="63" y="170"/>
                  </a:lnTo>
                  <a:lnTo>
                    <a:pt x="53" y="173"/>
                  </a:lnTo>
                  <a:lnTo>
                    <a:pt x="43" y="156"/>
                  </a:lnTo>
                  <a:lnTo>
                    <a:pt x="35" y="140"/>
                  </a:lnTo>
                  <a:lnTo>
                    <a:pt x="24" y="122"/>
                  </a:lnTo>
                  <a:lnTo>
                    <a:pt x="15" y="106"/>
                  </a:lnTo>
                  <a:lnTo>
                    <a:pt x="7" y="88"/>
                  </a:lnTo>
                  <a:lnTo>
                    <a:pt x="3" y="71"/>
                  </a:lnTo>
                  <a:lnTo>
                    <a:pt x="0" y="51"/>
                  </a:lnTo>
                  <a:lnTo>
                    <a:pt x="4" y="32"/>
                  </a:lnTo>
                  <a:lnTo>
                    <a:pt x="11" y="29"/>
                  </a:lnTo>
                  <a:lnTo>
                    <a:pt x="20" y="31"/>
                  </a:lnTo>
                  <a:lnTo>
                    <a:pt x="23" y="32"/>
                  </a:lnTo>
                  <a:lnTo>
                    <a:pt x="28" y="33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64" y="23"/>
                  </a:lnTo>
                  <a:lnTo>
                    <a:pt x="88" y="21"/>
                  </a:lnTo>
                  <a:lnTo>
                    <a:pt x="111" y="20"/>
                  </a:lnTo>
                  <a:lnTo>
                    <a:pt x="136" y="22"/>
                  </a:lnTo>
                  <a:lnTo>
                    <a:pt x="159" y="22"/>
                  </a:lnTo>
                  <a:lnTo>
                    <a:pt x="183" y="20"/>
                  </a:lnTo>
                  <a:lnTo>
                    <a:pt x="206" y="14"/>
                  </a:lnTo>
                  <a:lnTo>
                    <a:pt x="231" y="3"/>
                  </a:lnTo>
                  <a:lnTo>
                    <a:pt x="248" y="0"/>
                  </a:lnTo>
                  <a:lnTo>
                    <a:pt x="266" y="1"/>
                  </a:lnTo>
                  <a:lnTo>
                    <a:pt x="282" y="4"/>
                  </a:lnTo>
                  <a:lnTo>
                    <a:pt x="298" y="12"/>
                  </a:lnTo>
                  <a:lnTo>
                    <a:pt x="312" y="19"/>
                  </a:lnTo>
                  <a:lnTo>
                    <a:pt x="326" y="30"/>
                  </a:lnTo>
                  <a:lnTo>
                    <a:pt x="339" y="42"/>
                  </a:lnTo>
                  <a:lnTo>
                    <a:pt x="352" y="57"/>
                  </a:lnTo>
                  <a:lnTo>
                    <a:pt x="40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2563920"/>
              <a:ext cx="74520" cy="712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3"/>
                  </a:moveTo>
                  <a:lnTo>
                    <a:pt x="92" y="49"/>
                  </a:lnTo>
                  <a:lnTo>
                    <a:pt x="91" y="56"/>
                  </a:lnTo>
                  <a:lnTo>
                    <a:pt x="89" y="62"/>
                  </a:lnTo>
                  <a:lnTo>
                    <a:pt x="87" y="69"/>
                  </a:lnTo>
                  <a:lnTo>
                    <a:pt x="83" y="74"/>
                  </a:lnTo>
                  <a:lnTo>
                    <a:pt x="78" y="79"/>
                  </a:lnTo>
                  <a:lnTo>
                    <a:pt x="73" y="84"/>
                  </a:lnTo>
                  <a:lnTo>
                    <a:pt x="68" y="88"/>
                  </a:lnTo>
                  <a:lnTo>
                    <a:pt x="58" y="88"/>
                  </a:lnTo>
                  <a:lnTo>
                    <a:pt x="50" y="88"/>
                  </a:lnTo>
                  <a:lnTo>
                    <a:pt x="43" y="87"/>
                  </a:lnTo>
                  <a:lnTo>
                    <a:pt x="36" y="85"/>
                  </a:lnTo>
                  <a:lnTo>
                    <a:pt x="30" y="81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5" y="61"/>
                  </a:lnTo>
                  <a:lnTo>
                    <a:pt x="3" y="53"/>
                  </a:lnTo>
                  <a:lnTo>
                    <a:pt x="1" y="42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4" y="11"/>
                  </a:lnTo>
                  <a:lnTo>
                    <a:pt x="72" y="16"/>
                  </a:lnTo>
                  <a:lnTo>
                    <a:pt x="80" y="25"/>
                  </a:lnTo>
                  <a:lnTo>
                    <a:pt x="87" y="33"/>
                  </a:lnTo>
                  <a:lnTo>
                    <a:pt x="93" y="4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2840" y="2589120"/>
              <a:ext cx="108000" cy="8100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4" y="57"/>
                  </a:moveTo>
                  <a:lnTo>
                    <a:pt x="134" y="62"/>
                  </a:lnTo>
                  <a:lnTo>
                    <a:pt x="132" y="68"/>
                  </a:lnTo>
                  <a:lnTo>
                    <a:pt x="127" y="72"/>
                  </a:lnTo>
                  <a:lnTo>
                    <a:pt x="123" y="78"/>
                  </a:lnTo>
                  <a:lnTo>
                    <a:pt x="118" y="82"/>
                  </a:lnTo>
                  <a:lnTo>
                    <a:pt x="117" y="86"/>
                  </a:lnTo>
                  <a:lnTo>
                    <a:pt x="117" y="92"/>
                  </a:lnTo>
                  <a:lnTo>
                    <a:pt x="123" y="98"/>
                  </a:lnTo>
                  <a:lnTo>
                    <a:pt x="114" y="101"/>
                  </a:lnTo>
                  <a:lnTo>
                    <a:pt x="107" y="100"/>
                  </a:lnTo>
                  <a:lnTo>
                    <a:pt x="101" y="95"/>
                  </a:lnTo>
                  <a:lnTo>
                    <a:pt x="98" y="89"/>
                  </a:lnTo>
                  <a:lnTo>
                    <a:pt x="92" y="82"/>
                  </a:lnTo>
                  <a:lnTo>
                    <a:pt x="87" y="76"/>
                  </a:lnTo>
                  <a:lnTo>
                    <a:pt x="79" y="72"/>
                  </a:lnTo>
                  <a:lnTo>
                    <a:pt x="72" y="73"/>
                  </a:lnTo>
                  <a:lnTo>
                    <a:pt x="62" y="66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2" y="50"/>
                  </a:lnTo>
                  <a:lnTo>
                    <a:pt x="22" y="43"/>
                  </a:lnTo>
                  <a:lnTo>
                    <a:pt x="13" y="37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4" y="25"/>
                  </a:lnTo>
                  <a:lnTo>
                    <a:pt x="33" y="28"/>
                  </a:lnTo>
                  <a:lnTo>
                    <a:pt x="35" y="19"/>
                  </a:lnTo>
                  <a:lnTo>
                    <a:pt x="40" y="13"/>
                  </a:lnTo>
                  <a:lnTo>
                    <a:pt x="45" y="7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5"/>
                  </a:lnTo>
                  <a:lnTo>
                    <a:pt x="87" y="9"/>
                  </a:lnTo>
                  <a:lnTo>
                    <a:pt x="93" y="15"/>
                  </a:lnTo>
                  <a:lnTo>
                    <a:pt x="101" y="21"/>
                  </a:lnTo>
                  <a:lnTo>
                    <a:pt x="108" y="28"/>
                  </a:lnTo>
                  <a:lnTo>
                    <a:pt x="115" y="35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34" y="5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9520" y="2652840"/>
              <a:ext cx="200160" cy="182520"/>
            </a:xfrm>
            <a:custGeom>
              <a:avLst/>
              <a:gdLst/>
              <a:ahLst/>
              <a:rect l="l" t="t" r="r" b="b"/>
              <a:pathLst>
                <a:path w="252" h="230">
                  <a:moveTo>
                    <a:pt x="226" y="53"/>
                  </a:moveTo>
                  <a:lnTo>
                    <a:pt x="235" y="64"/>
                  </a:lnTo>
                  <a:lnTo>
                    <a:pt x="242" y="78"/>
                  </a:lnTo>
                  <a:lnTo>
                    <a:pt x="245" y="92"/>
                  </a:lnTo>
                  <a:lnTo>
                    <a:pt x="248" y="108"/>
                  </a:lnTo>
                  <a:lnTo>
                    <a:pt x="248" y="123"/>
                  </a:lnTo>
                  <a:lnTo>
                    <a:pt x="249" y="140"/>
                  </a:lnTo>
                  <a:lnTo>
                    <a:pt x="250" y="155"/>
                  </a:lnTo>
                  <a:lnTo>
                    <a:pt x="252" y="170"/>
                  </a:lnTo>
                  <a:lnTo>
                    <a:pt x="251" y="178"/>
                  </a:lnTo>
                  <a:lnTo>
                    <a:pt x="249" y="186"/>
                  </a:lnTo>
                  <a:lnTo>
                    <a:pt x="244" y="192"/>
                  </a:lnTo>
                  <a:lnTo>
                    <a:pt x="239" y="199"/>
                  </a:lnTo>
                  <a:lnTo>
                    <a:pt x="233" y="203"/>
                  </a:lnTo>
                  <a:lnTo>
                    <a:pt x="226" y="208"/>
                  </a:lnTo>
                  <a:lnTo>
                    <a:pt x="219" y="213"/>
                  </a:lnTo>
                  <a:lnTo>
                    <a:pt x="214" y="219"/>
                  </a:lnTo>
                  <a:lnTo>
                    <a:pt x="194" y="222"/>
                  </a:lnTo>
                  <a:lnTo>
                    <a:pt x="176" y="226"/>
                  </a:lnTo>
                  <a:lnTo>
                    <a:pt x="155" y="228"/>
                  </a:lnTo>
                  <a:lnTo>
                    <a:pt x="136" y="230"/>
                  </a:lnTo>
                  <a:lnTo>
                    <a:pt x="117" y="229"/>
                  </a:lnTo>
                  <a:lnTo>
                    <a:pt x="98" y="226"/>
                  </a:lnTo>
                  <a:lnTo>
                    <a:pt x="80" y="220"/>
                  </a:lnTo>
                  <a:lnTo>
                    <a:pt x="65" y="213"/>
                  </a:lnTo>
                  <a:lnTo>
                    <a:pt x="48" y="195"/>
                  </a:lnTo>
                  <a:lnTo>
                    <a:pt x="33" y="178"/>
                  </a:lnTo>
                  <a:lnTo>
                    <a:pt x="20" y="159"/>
                  </a:lnTo>
                  <a:lnTo>
                    <a:pt x="10" y="140"/>
                  </a:lnTo>
                  <a:lnTo>
                    <a:pt x="3" y="118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3" y="47"/>
                  </a:lnTo>
                  <a:lnTo>
                    <a:pt x="19" y="36"/>
                  </a:lnTo>
                  <a:lnTo>
                    <a:pt x="26" y="28"/>
                  </a:lnTo>
                  <a:lnTo>
                    <a:pt x="35" y="20"/>
                  </a:lnTo>
                  <a:lnTo>
                    <a:pt x="45" y="15"/>
                  </a:lnTo>
                  <a:lnTo>
                    <a:pt x="54" y="8"/>
                  </a:lnTo>
                  <a:lnTo>
                    <a:pt x="65" y="4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5" y="3"/>
                  </a:lnTo>
                  <a:lnTo>
                    <a:pt x="143" y="7"/>
                  </a:lnTo>
                  <a:lnTo>
                    <a:pt x="161" y="15"/>
                  </a:lnTo>
                  <a:lnTo>
                    <a:pt x="177" y="22"/>
                  </a:lnTo>
                  <a:lnTo>
                    <a:pt x="193" y="32"/>
                  </a:lnTo>
                  <a:lnTo>
                    <a:pt x="209" y="42"/>
                  </a:lnTo>
                  <a:lnTo>
                    <a:pt x="226" y="53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9680" y="2673360"/>
              <a:ext cx="90360" cy="114480"/>
            </a:xfrm>
            <a:custGeom>
              <a:avLst/>
              <a:gdLst/>
              <a:ahLst/>
              <a:rect l="l" t="t" r="r" b="b"/>
              <a:pathLst>
                <a:path w="114" h="143">
                  <a:moveTo>
                    <a:pt x="42" y="0"/>
                  </a:moveTo>
                  <a:lnTo>
                    <a:pt x="52" y="2"/>
                  </a:lnTo>
                  <a:lnTo>
                    <a:pt x="62" y="6"/>
                  </a:lnTo>
                  <a:lnTo>
                    <a:pt x="71" y="10"/>
                  </a:lnTo>
                  <a:lnTo>
                    <a:pt x="81" y="17"/>
                  </a:lnTo>
                  <a:lnTo>
                    <a:pt x="89" y="23"/>
                  </a:lnTo>
                  <a:lnTo>
                    <a:pt x="97" y="30"/>
                  </a:lnTo>
                  <a:lnTo>
                    <a:pt x="106" y="37"/>
                  </a:lnTo>
                  <a:lnTo>
                    <a:pt x="114" y="47"/>
                  </a:lnTo>
                  <a:lnTo>
                    <a:pt x="110" y="58"/>
                  </a:lnTo>
                  <a:lnTo>
                    <a:pt x="107" y="68"/>
                  </a:lnTo>
                  <a:lnTo>
                    <a:pt x="100" y="77"/>
                  </a:lnTo>
                  <a:lnTo>
                    <a:pt x="92" y="87"/>
                  </a:lnTo>
                  <a:lnTo>
                    <a:pt x="94" y="91"/>
                  </a:lnTo>
                  <a:lnTo>
                    <a:pt x="98" y="97"/>
                  </a:lnTo>
                  <a:lnTo>
                    <a:pt x="101" y="103"/>
                  </a:lnTo>
                  <a:lnTo>
                    <a:pt x="105" y="109"/>
                  </a:lnTo>
                  <a:lnTo>
                    <a:pt x="104" y="118"/>
                  </a:lnTo>
                  <a:lnTo>
                    <a:pt x="100" y="128"/>
                  </a:lnTo>
                  <a:lnTo>
                    <a:pt x="95" y="135"/>
                  </a:lnTo>
                  <a:lnTo>
                    <a:pt x="87" y="143"/>
                  </a:lnTo>
                  <a:lnTo>
                    <a:pt x="75" y="141"/>
                  </a:lnTo>
                  <a:lnTo>
                    <a:pt x="65" y="135"/>
                  </a:lnTo>
                  <a:lnTo>
                    <a:pt x="58" y="127"/>
                  </a:lnTo>
                  <a:lnTo>
                    <a:pt x="55" y="118"/>
                  </a:lnTo>
                  <a:lnTo>
                    <a:pt x="51" y="106"/>
                  </a:lnTo>
                  <a:lnTo>
                    <a:pt x="48" y="95"/>
                  </a:lnTo>
                  <a:lnTo>
                    <a:pt x="43" y="85"/>
                  </a:lnTo>
                  <a:lnTo>
                    <a:pt x="40" y="76"/>
                  </a:lnTo>
                  <a:lnTo>
                    <a:pt x="33" y="66"/>
                  </a:lnTo>
                  <a:lnTo>
                    <a:pt x="26" y="59"/>
                  </a:lnTo>
                  <a:lnTo>
                    <a:pt x="20" y="50"/>
                  </a:lnTo>
                  <a:lnTo>
                    <a:pt x="13" y="43"/>
                  </a:lnTo>
                  <a:lnTo>
                    <a:pt x="7" y="33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6" y="1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689200"/>
              <a:ext cx="88920" cy="6192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11" y="30"/>
                  </a:moveTo>
                  <a:lnTo>
                    <a:pt x="107" y="38"/>
                  </a:lnTo>
                  <a:lnTo>
                    <a:pt x="103" y="46"/>
                  </a:lnTo>
                  <a:lnTo>
                    <a:pt x="96" y="52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7" y="53"/>
                  </a:lnTo>
                  <a:lnTo>
                    <a:pt x="70" y="53"/>
                  </a:lnTo>
                  <a:lnTo>
                    <a:pt x="65" y="57"/>
                  </a:lnTo>
                  <a:lnTo>
                    <a:pt x="64" y="62"/>
                  </a:lnTo>
                  <a:lnTo>
                    <a:pt x="66" y="67"/>
                  </a:lnTo>
                  <a:lnTo>
                    <a:pt x="67" y="71"/>
                  </a:lnTo>
                  <a:lnTo>
                    <a:pt x="67" y="77"/>
                  </a:lnTo>
                  <a:lnTo>
                    <a:pt x="58" y="72"/>
                  </a:lnTo>
                  <a:lnTo>
                    <a:pt x="52" y="68"/>
                  </a:lnTo>
                  <a:lnTo>
                    <a:pt x="46" y="62"/>
                  </a:lnTo>
                  <a:lnTo>
                    <a:pt x="40" y="57"/>
                  </a:lnTo>
                  <a:lnTo>
                    <a:pt x="33" y="52"/>
                  </a:lnTo>
                  <a:lnTo>
                    <a:pt x="26" y="48"/>
                  </a:lnTo>
                  <a:lnTo>
                    <a:pt x="18" y="45"/>
                  </a:lnTo>
                  <a:lnTo>
                    <a:pt x="10" y="45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5" y="19"/>
                  </a:lnTo>
                  <a:lnTo>
                    <a:pt x="108" y="24"/>
                  </a:lnTo>
                  <a:lnTo>
                    <a:pt x="111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57920" y="2693880"/>
              <a:ext cx="63360" cy="104760"/>
            </a:xfrm>
            <a:custGeom>
              <a:avLst/>
              <a:gdLst/>
              <a:ahLst/>
              <a:rect l="l" t="t" r="r" b="b"/>
              <a:pathLst>
                <a:path w="79" h="134">
                  <a:moveTo>
                    <a:pt x="76" y="25"/>
                  </a:moveTo>
                  <a:lnTo>
                    <a:pt x="78" y="33"/>
                  </a:lnTo>
                  <a:lnTo>
                    <a:pt x="79" y="41"/>
                  </a:lnTo>
                  <a:lnTo>
                    <a:pt x="78" y="50"/>
                  </a:lnTo>
                  <a:lnTo>
                    <a:pt x="78" y="58"/>
                  </a:lnTo>
                  <a:lnTo>
                    <a:pt x="70" y="64"/>
                  </a:lnTo>
                  <a:lnTo>
                    <a:pt x="63" y="70"/>
                  </a:lnTo>
                  <a:lnTo>
                    <a:pt x="57" y="77"/>
                  </a:lnTo>
                  <a:lnTo>
                    <a:pt x="52" y="84"/>
                  </a:lnTo>
                  <a:lnTo>
                    <a:pt x="48" y="91"/>
                  </a:lnTo>
                  <a:lnTo>
                    <a:pt x="46" y="99"/>
                  </a:lnTo>
                  <a:lnTo>
                    <a:pt x="46" y="107"/>
                  </a:lnTo>
                  <a:lnTo>
                    <a:pt x="49" y="117"/>
                  </a:lnTo>
                  <a:lnTo>
                    <a:pt x="56" y="128"/>
                  </a:lnTo>
                  <a:lnTo>
                    <a:pt x="46" y="134"/>
                  </a:lnTo>
                  <a:lnTo>
                    <a:pt x="37" y="134"/>
                  </a:lnTo>
                  <a:lnTo>
                    <a:pt x="28" y="131"/>
                  </a:lnTo>
                  <a:lnTo>
                    <a:pt x="18" y="128"/>
                  </a:lnTo>
                  <a:lnTo>
                    <a:pt x="11" y="124"/>
                  </a:lnTo>
                  <a:lnTo>
                    <a:pt x="5" y="124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4" y="110"/>
                  </a:lnTo>
                  <a:lnTo>
                    <a:pt x="8" y="105"/>
                  </a:lnTo>
                  <a:lnTo>
                    <a:pt x="11" y="98"/>
                  </a:lnTo>
                  <a:lnTo>
                    <a:pt x="16" y="93"/>
                  </a:lnTo>
                  <a:lnTo>
                    <a:pt x="17" y="86"/>
                  </a:lnTo>
                  <a:lnTo>
                    <a:pt x="19" y="80"/>
                  </a:lnTo>
                  <a:lnTo>
                    <a:pt x="19" y="73"/>
                  </a:lnTo>
                  <a:lnTo>
                    <a:pt x="20" y="67"/>
                  </a:lnTo>
                  <a:lnTo>
                    <a:pt x="14" y="60"/>
                  </a:lnTo>
                  <a:lnTo>
                    <a:pt x="14" y="52"/>
                  </a:lnTo>
                  <a:lnTo>
                    <a:pt x="13" y="44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8" y="26"/>
                  </a:lnTo>
                  <a:lnTo>
                    <a:pt x="8" y="19"/>
                  </a:lnTo>
                  <a:lnTo>
                    <a:pt x="10" y="13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6" y="6"/>
                  </a:lnTo>
                  <a:lnTo>
                    <a:pt x="61" y="8"/>
                  </a:lnTo>
                  <a:lnTo>
                    <a:pt x="67" y="12"/>
                  </a:lnTo>
                  <a:lnTo>
                    <a:pt x="72" y="18"/>
                  </a:lnTo>
                  <a:lnTo>
                    <a:pt x="7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87960" y="2773440"/>
              <a:ext cx="209520" cy="1299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56" y="34"/>
                  </a:moveTo>
                  <a:lnTo>
                    <a:pt x="75" y="42"/>
                  </a:lnTo>
                  <a:lnTo>
                    <a:pt x="98" y="47"/>
                  </a:lnTo>
                  <a:lnTo>
                    <a:pt x="122" y="47"/>
                  </a:lnTo>
                  <a:lnTo>
                    <a:pt x="148" y="47"/>
                  </a:lnTo>
                  <a:lnTo>
                    <a:pt x="170" y="46"/>
                  </a:lnTo>
                  <a:lnTo>
                    <a:pt x="193" y="51"/>
                  </a:lnTo>
                  <a:lnTo>
                    <a:pt x="211" y="61"/>
                  </a:lnTo>
                  <a:lnTo>
                    <a:pt x="227" y="81"/>
                  </a:lnTo>
                  <a:lnTo>
                    <a:pt x="237" y="83"/>
                  </a:lnTo>
                  <a:lnTo>
                    <a:pt x="248" y="90"/>
                  </a:lnTo>
                  <a:lnTo>
                    <a:pt x="256" y="96"/>
                  </a:lnTo>
                  <a:lnTo>
                    <a:pt x="263" y="106"/>
                  </a:lnTo>
                  <a:lnTo>
                    <a:pt x="264" y="112"/>
                  </a:lnTo>
                  <a:lnTo>
                    <a:pt x="264" y="119"/>
                  </a:lnTo>
                  <a:lnTo>
                    <a:pt x="263" y="125"/>
                  </a:lnTo>
                  <a:lnTo>
                    <a:pt x="263" y="132"/>
                  </a:lnTo>
                  <a:lnTo>
                    <a:pt x="259" y="137"/>
                  </a:lnTo>
                  <a:lnTo>
                    <a:pt x="257" y="144"/>
                  </a:lnTo>
                  <a:lnTo>
                    <a:pt x="254" y="149"/>
                  </a:lnTo>
                  <a:lnTo>
                    <a:pt x="252" y="155"/>
                  </a:lnTo>
                  <a:lnTo>
                    <a:pt x="245" y="159"/>
                  </a:lnTo>
                  <a:lnTo>
                    <a:pt x="239" y="162"/>
                  </a:lnTo>
                  <a:lnTo>
                    <a:pt x="231" y="163"/>
                  </a:lnTo>
                  <a:lnTo>
                    <a:pt x="225" y="164"/>
                  </a:lnTo>
                  <a:lnTo>
                    <a:pt x="217" y="160"/>
                  </a:lnTo>
                  <a:lnTo>
                    <a:pt x="213" y="154"/>
                  </a:lnTo>
                  <a:lnTo>
                    <a:pt x="212" y="148"/>
                  </a:lnTo>
                  <a:lnTo>
                    <a:pt x="213" y="142"/>
                  </a:lnTo>
                  <a:lnTo>
                    <a:pt x="212" y="136"/>
                  </a:lnTo>
                  <a:lnTo>
                    <a:pt x="212" y="130"/>
                  </a:lnTo>
                  <a:lnTo>
                    <a:pt x="209" y="125"/>
                  </a:lnTo>
                  <a:lnTo>
                    <a:pt x="205" y="123"/>
                  </a:lnTo>
                  <a:lnTo>
                    <a:pt x="200" y="132"/>
                  </a:lnTo>
                  <a:lnTo>
                    <a:pt x="195" y="140"/>
                  </a:lnTo>
                  <a:lnTo>
                    <a:pt x="187" y="147"/>
                  </a:lnTo>
                  <a:lnTo>
                    <a:pt x="180" y="153"/>
                  </a:lnTo>
                  <a:lnTo>
                    <a:pt x="152" y="142"/>
                  </a:lnTo>
                  <a:lnTo>
                    <a:pt x="125" y="132"/>
                  </a:lnTo>
                  <a:lnTo>
                    <a:pt x="99" y="118"/>
                  </a:lnTo>
                  <a:lnTo>
                    <a:pt x="74" y="102"/>
                  </a:lnTo>
                  <a:lnTo>
                    <a:pt x="51" y="82"/>
                  </a:lnTo>
                  <a:lnTo>
                    <a:pt x="30" y="62"/>
                  </a:lnTo>
                  <a:lnTo>
                    <a:pt x="13" y="3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5" y="7"/>
                  </a:lnTo>
                  <a:lnTo>
                    <a:pt x="31" y="12"/>
                  </a:lnTo>
                  <a:lnTo>
                    <a:pt x="37" y="18"/>
                  </a:lnTo>
                  <a:lnTo>
                    <a:pt x="42" y="23"/>
                  </a:lnTo>
                  <a:lnTo>
                    <a:pt x="49" y="28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60880" y="2806560"/>
              <a:ext cx="111240" cy="65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9" y="23"/>
                  </a:moveTo>
                  <a:lnTo>
                    <a:pt x="137" y="34"/>
                  </a:lnTo>
                  <a:lnTo>
                    <a:pt x="132" y="43"/>
                  </a:lnTo>
                  <a:lnTo>
                    <a:pt x="126" y="52"/>
                  </a:lnTo>
                  <a:lnTo>
                    <a:pt x="117" y="60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78" y="81"/>
                  </a:lnTo>
                  <a:lnTo>
                    <a:pt x="67" y="79"/>
                  </a:lnTo>
                  <a:lnTo>
                    <a:pt x="55" y="78"/>
                  </a:lnTo>
                  <a:lnTo>
                    <a:pt x="43" y="77"/>
                  </a:lnTo>
                  <a:lnTo>
                    <a:pt x="32" y="76"/>
                  </a:lnTo>
                  <a:lnTo>
                    <a:pt x="21" y="72"/>
                  </a:lnTo>
                  <a:lnTo>
                    <a:pt x="13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6" y="51"/>
                  </a:lnTo>
                  <a:lnTo>
                    <a:pt x="14" y="46"/>
                  </a:lnTo>
                  <a:lnTo>
                    <a:pt x="11" y="38"/>
                  </a:lnTo>
                  <a:lnTo>
                    <a:pt x="12" y="33"/>
                  </a:lnTo>
                  <a:lnTo>
                    <a:pt x="21" y="28"/>
                  </a:lnTo>
                  <a:lnTo>
                    <a:pt x="32" y="23"/>
                  </a:lnTo>
                  <a:lnTo>
                    <a:pt x="42" y="17"/>
                  </a:lnTo>
                  <a:lnTo>
                    <a:pt x="53" y="10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7" y="6"/>
                  </a:lnTo>
                  <a:lnTo>
                    <a:pt x="103" y="5"/>
                  </a:lnTo>
                  <a:lnTo>
                    <a:pt x="110" y="5"/>
                  </a:lnTo>
                  <a:lnTo>
                    <a:pt x="116" y="5"/>
                  </a:lnTo>
                  <a:lnTo>
                    <a:pt x="123" y="6"/>
                  </a:lnTo>
                  <a:lnTo>
                    <a:pt x="127" y="7"/>
                  </a:lnTo>
                  <a:lnTo>
                    <a:pt x="132" y="11"/>
                  </a:lnTo>
                  <a:lnTo>
                    <a:pt x="135" y="15"/>
                  </a:lnTo>
                  <a:lnTo>
                    <a:pt x="139" y="2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003480"/>
              <a:ext cx="711360" cy="365040"/>
            </a:xfrm>
            <a:custGeom>
              <a:avLst/>
              <a:gdLst/>
              <a:ahLst/>
              <a:rect l="l" t="t" r="r" b="b"/>
              <a:pathLst>
                <a:path w="895" h="459">
                  <a:moveTo>
                    <a:pt x="386" y="56"/>
                  </a:moveTo>
                  <a:lnTo>
                    <a:pt x="395" y="60"/>
                  </a:lnTo>
                  <a:lnTo>
                    <a:pt x="405" y="62"/>
                  </a:lnTo>
                  <a:lnTo>
                    <a:pt x="416" y="61"/>
                  </a:lnTo>
                  <a:lnTo>
                    <a:pt x="428" y="60"/>
                  </a:lnTo>
                  <a:lnTo>
                    <a:pt x="438" y="59"/>
                  </a:lnTo>
                  <a:lnTo>
                    <a:pt x="448" y="61"/>
                  </a:lnTo>
                  <a:lnTo>
                    <a:pt x="457" y="67"/>
                  </a:lnTo>
                  <a:lnTo>
                    <a:pt x="465" y="78"/>
                  </a:lnTo>
                  <a:lnTo>
                    <a:pt x="480" y="77"/>
                  </a:lnTo>
                  <a:lnTo>
                    <a:pt x="493" y="84"/>
                  </a:lnTo>
                  <a:lnTo>
                    <a:pt x="504" y="92"/>
                  </a:lnTo>
                  <a:lnTo>
                    <a:pt x="516" y="103"/>
                  </a:lnTo>
                  <a:lnTo>
                    <a:pt x="527" y="111"/>
                  </a:lnTo>
                  <a:lnTo>
                    <a:pt x="540" y="116"/>
                  </a:lnTo>
                  <a:lnTo>
                    <a:pt x="554" y="115"/>
                  </a:lnTo>
                  <a:lnTo>
                    <a:pt x="572" y="107"/>
                  </a:lnTo>
                  <a:lnTo>
                    <a:pt x="588" y="112"/>
                  </a:lnTo>
                  <a:lnTo>
                    <a:pt x="606" y="118"/>
                  </a:lnTo>
                  <a:lnTo>
                    <a:pt x="622" y="125"/>
                  </a:lnTo>
                  <a:lnTo>
                    <a:pt x="639" y="134"/>
                  </a:lnTo>
                  <a:lnTo>
                    <a:pt x="652" y="144"/>
                  </a:lnTo>
                  <a:lnTo>
                    <a:pt x="664" y="158"/>
                  </a:lnTo>
                  <a:lnTo>
                    <a:pt x="671" y="173"/>
                  </a:lnTo>
                  <a:lnTo>
                    <a:pt x="676" y="192"/>
                  </a:lnTo>
                  <a:lnTo>
                    <a:pt x="677" y="198"/>
                  </a:lnTo>
                  <a:lnTo>
                    <a:pt x="676" y="204"/>
                  </a:lnTo>
                  <a:lnTo>
                    <a:pt x="671" y="209"/>
                  </a:lnTo>
                  <a:lnTo>
                    <a:pt x="668" y="214"/>
                  </a:lnTo>
                  <a:lnTo>
                    <a:pt x="663" y="218"/>
                  </a:lnTo>
                  <a:lnTo>
                    <a:pt x="658" y="223"/>
                  </a:lnTo>
                  <a:lnTo>
                    <a:pt x="655" y="228"/>
                  </a:lnTo>
                  <a:lnTo>
                    <a:pt x="656" y="234"/>
                  </a:lnTo>
                  <a:lnTo>
                    <a:pt x="660" y="240"/>
                  </a:lnTo>
                  <a:lnTo>
                    <a:pt x="665" y="246"/>
                  </a:lnTo>
                  <a:lnTo>
                    <a:pt x="667" y="253"/>
                  </a:lnTo>
                  <a:lnTo>
                    <a:pt x="669" y="261"/>
                  </a:lnTo>
                  <a:lnTo>
                    <a:pt x="670" y="268"/>
                  </a:lnTo>
                  <a:lnTo>
                    <a:pt x="673" y="275"/>
                  </a:lnTo>
                  <a:lnTo>
                    <a:pt x="678" y="281"/>
                  </a:lnTo>
                  <a:lnTo>
                    <a:pt x="685" y="286"/>
                  </a:lnTo>
                  <a:lnTo>
                    <a:pt x="709" y="287"/>
                  </a:lnTo>
                  <a:lnTo>
                    <a:pt x="733" y="290"/>
                  </a:lnTo>
                  <a:lnTo>
                    <a:pt x="756" y="292"/>
                  </a:lnTo>
                  <a:lnTo>
                    <a:pt x="780" y="298"/>
                  </a:lnTo>
                  <a:lnTo>
                    <a:pt x="801" y="303"/>
                  </a:lnTo>
                  <a:lnTo>
                    <a:pt x="824" y="312"/>
                  </a:lnTo>
                  <a:lnTo>
                    <a:pt x="844" y="322"/>
                  </a:lnTo>
                  <a:lnTo>
                    <a:pt x="865" y="335"/>
                  </a:lnTo>
                  <a:lnTo>
                    <a:pt x="874" y="346"/>
                  </a:lnTo>
                  <a:lnTo>
                    <a:pt x="881" y="359"/>
                  </a:lnTo>
                  <a:lnTo>
                    <a:pt x="886" y="372"/>
                  </a:lnTo>
                  <a:lnTo>
                    <a:pt x="892" y="386"/>
                  </a:lnTo>
                  <a:lnTo>
                    <a:pt x="894" y="399"/>
                  </a:lnTo>
                  <a:lnTo>
                    <a:pt x="895" y="414"/>
                  </a:lnTo>
                  <a:lnTo>
                    <a:pt x="894" y="430"/>
                  </a:lnTo>
                  <a:lnTo>
                    <a:pt x="892" y="446"/>
                  </a:lnTo>
                  <a:lnTo>
                    <a:pt x="885" y="450"/>
                  </a:lnTo>
                  <a:lnTo>
                    <a:pt x="880" y="453"/>
                  </a:lnTo>
                  <a:lnTo>
                    <a:pt x="874" y="454"/>
                  </a:lnTo>
                  <a:lnTo>
                    <a:pt x="868" y="455"/>
                  </a:lnTo>
                  <a:lnTo>
                    <a:pt x="862" y="455"/>
                  </a:lnTo>
                  <a:lnTo>
                    <a:pt x="855" y="455"/>
                  </a:lnTo>
                  <a:lnTo>
                    <a:pt x="849" y="455"/>
                  </a:lnTo>
                  <a:lnTo>
                    <a:pt x="844" y="455"/>
                  </a:lnTo>
                  <a:lnTo>
                    <a:pt x="840" y="456"/>
                  </a:lnTo>
                  <a:lnTo>
                    <a:pt x="838" y="459"/>
                  </a:lnTo>
                  <a:lnTo>
                    <a:pt x="834" y="456"/>
                  </a:lnTo>
                  <a:lnTo>
                    <a:pt x="828" y="455"/>
                  </a:lnTo>
                  <a:lnTo>
                    <a:pt x="823" y="455"/>
                  </a:lnTo>
                  <a:lnTo>
                    <a:pt x="815" y="456"/>
                  </a:lnTo>
                  <a:lnTo>
                    <a:pt x="807" y="455"/>
                  </a:lnTo>
                  <a:lnTo>
                    <a:pt x="801" y="453"/>
                  </a:lnTo>
                  <a:lnTo>
                    <a:pt x="783" y="446"/>
                  </a:lnTo>
                  <a:lnTo>
                    <a:pt x="767" y="441"/>
                  </a:lnTo>
                  <a:lnTo>
                    <a:pt x="751" y="432"/>
                  </a:lnTo>
                  <a:lnTo>
                    <a:pt x="735" y="425"/>
                  </a:lnTo>
                  <a:lnTo>
                    <a:pt x="719" y="416"/>
                  </a:lnTo>
                  <a:lnTo>
                    <a:pt x="703" y="408"/>
                  </a:lnTo>
                  <a:lnTo>
                    <a:pt x="687" y="400"/>
                  </a:lnTo>
                  <a:lnTo>
                    <a:pt x="671" y="395"/>
                  </a:lnTo>
                  <a:lnTo>
                    <a:pt x="667" y="388"/>
                  </a:lnTo>
                  <a:lnTo>
                    <a:pt x="663" y="384"/>
                  </a:lnTo>
                  <a:lnTo>
                    <a:pt x="657" y="381"/>
                  </a:lnTo>
                  <a:lnTo>
                    <a:pt x="652" y="380"/>
                  </a:lnTo>
                  <a:lnTo>
                    <a:pt x="645" y="379"/>
                  </a:lnTo>
                  <a:lnTo>
                    <a:pt x="639" y="380"/>
                  </a:lnTo>
                  <a:lnTo>
                    <a:pt x="632" y="380"/>
                  </a:lnTo>
                  <a:lnTo>
                    <a:pt x="627" y="383"/>
                  </a:lnTo>
                  <a:lnTo>
                    <a:pt x="611" y="388"/>
                  </a:lnTo>
                  <a:lnTo>
                    <a:pt x="596" y="398"/>
                  </a:lnTo>
                  <a:lnTo>
                    <a:pt x="580" y="409"/>
                  </a:lnTo>
                  <a:lnTo>
                    <a:pt x="566" y="419"/>
                  </a:lnTo>
                  <a:lnTo>
                    <a:pt x="550" y="427"/>
                  </a:lnTo>
                  <a:lnTo>
                    <a:pt x="533" y="432"/>
                  </a:lnTo>
                  <a:lnTo>
                    <a:pt x="515" y="432"/>
                  </a:lnTo>
                  <a:lnTo>
                    <a:pt x="497" y="428"/>
                  </a:lnTo>
                  <a:lnTo>
                    <a:pt x="487" y="422"/>
                  </a:lnTo>
                  <a:lnTo>
                    <a:pt x="478" y="415"/>
                  </a:lnTo>
                  <a:lnTo>
                    <a:pt x="469" y="410"/>
                  </a:lnTo>
                  <a:lnTo>
                    <a:pt x="461" y="404"/>
                  </a:lnTo>
                  <a:lnTo>
                    <a:pt x="453" y="397"/>
                  </a:lnTo>
                  <a:lnTo>
                    <a:pt x="445" y="390"/>
                  </a:lnTo>
                  <a:lnTo>
                    <a:pt x="438" y="382"/>
                  </a:lnTo>
                  <a:lnTo>
                    <a:pt x="431" y="374"/>
                  </a:lnTo>
                  <a:lnTo>
                    <a:pt x="418" y="372"/>
                  </a:lnTo>
                  <a:lnTo>
                    <a:pt x="406" y="372"/>
                  </a:lnTo>
                  <a:lnTo>
                    <a:pt x="394" y="372"/>
                  </a:lnTo>
                  <a:lnTo>
                    <a:pt x="382" y="373"/>
                  </a:lnTo>
                  <a:lnTo>
                    <a:pt x="369" y="372"/>
                  </a:lnTo>
                  <a:lnTo>
                    <a:pt x="356" y="371"/>
                  </a:lnTo>
                  <a:lnTo>
                    <a:pt x="344" y="368"/>
                  </a:lnTo>
                  <a:lnTo>
                    <a:pt x="334" y="365"/>
                  </a:lnTo>
                  <a:lnTo>
                    <a:pt x="321" y="355"/>
                  </a:lnTo>
                  <a:lnTo>
                    <a:pt x="310" y="345"/>
                  </a:lnTo>
                  <a:lnTo>
                    <a:pt x="298" y="335"/>
                  </a:lnTo>
                  <a:lnTo>
                    <a:pt x="288" y="327"/>
                  </a:lnTo>
                  <a:lnTo>
                    <a:pt x="277" y="316"/>
                  </a:lnTo>
                  <a:lnTo>
                    <a:pt x="268" y="305"/>
                  </a:lnTo>
                  <a:lnTo>
                    <a:pt x="258" y="294"/>
                  </a:lnTo>
                  <a:lnTo>
                    <a:pt x="249" y="282"/>
                  </a:lnTo>
                  <a:lnTo>
                    <a:pt x="240" y="277"/>
                  </a:lnTo>
                  <a:lnTo>
                    <a:pt x="231" y="275"/>
                  </a:lnTo>
                  <a:lnTo>
                    <a:pt x="221" y="274"/>
                  </a:lnTo>
                  <a:lnTo>
                    <a:pt x="213" y="274"/>
                  </a:lnTo>
                  <a:lnTo>
                    <a:pt x="202" y="274"/>
                  </a:lnTo>
                  <a:lnTo>
                    <a:pt x="192" y="276"/>
                  </a:lnTo>
                  <a:lnTo>
                    <a:pt x="183" y="277"/>
                  </a:lnTo>
                  <a:lnTo>
                    <a:pt x="175" y="280"/>
                  </a:lnTo>
                  <a:lnTo>
                    <a:pt x="164" y="272"/>
                  </a:lnTo>
                  <a:lnTo>
                    <a:pt x="153" y="264"/>
                  </a:lnTo>
                  <a:lnTo>
                    <a:pt x="141" y="256"/>
                  </a:lnTo>
                  <a:lnTo>
                    <a:pt x="131" y="247"/>
                  </a:lnTo>
                  <a:lnTo>
                    <a:pt x="120" y="237"/>
                  </a:lnTo>
                  <a:lnTo>
                    <a:pt x="114" y="226"/>
                  </a:lnTo>
                  <a:lnTo>
                    <a:pt x="109" y="212"/>
                  </a:lnTo>
                  <a:lnTo>
                    <a:pt x="111" y="199"/>
                  </a:lnTo>
                  <a:lnTo>
                    <a:pt x="103" y="192"/>
                  </a:lnTo>
                  <a:lnTo>
                    <a:pt x="97" y="187"/>
                  </a:lnTo>
                  <a:lnTo>
                    <a:pt x="90" y="180"/>
                  </a:lnTo>
                  <a:lnTo>
                    <a:pt x="85" y="174"/>
                  </a:lnTo>
                  <a:lnTo>
                    <a:pt x="77" y="168"/>
                  </a:lnTo>
                  <a:lnTo>
                    <a:pt x="70" y="164"/>
                  </a:lnTo>
                  <a:lnTo>
                    <a:pt x="60" y="162"/>
                  </a:lnTo>
                  <a:lnTo>
                    <a:pt x="50" y="166"/>
                  </a:lnTo>
                  <a:lnTo>
                    <a:pt x="41" y="149"/>
                  </a:lnTo>
                  <a:lnTo>
                    <a:pt x="32" y="133"/>
                  </a:lnTo>
                  <a:lnTo>
                    <a:pt x="23" y="117"/>
                  </a:lnTo>
                  <a:lnTo>
                    <a:pt x="15" y="101"/>
                  </a:lnTo>
                  <a:lnTo>
                    <a:pt x="6" y="84"/>
                  </a:lnTo>
                  <a:lnTo>
                    <a:pt x="2" y="68"/>
                  </a:lnTo>
                  <a:lnTo>
                    <a:pt x="0" y="49"/>
                  </a:lnTo>
                  <a:lnTo>
                    <a:pt x="3" y="31"/>
                  </a:lnTo>
                  <a:lnTo>
                    <a:pt x="10" y="28"/>
                  </a:lnTo>
                  <a:lnTo>
                    <a:pt x="19" y="29"/>
                  </a:lnTo>
                  <a:lnTo>
                    <a:pt x="28" y="31"/>
                  </a:lnTo>
                  <a:lnTo>
                    <a:pt x="38" y="31"/>
                  </a:lnTo>
                  <a:lnTo>
                    <a:pt x="61" y="22"/>
                  </a:lnTo>
                  <a:lnTo>
                    <a:pt x="84" y="20"/>
                  </a:lnTo>
                  <a:lnTo>
                    <a:pt x="106" y="19"/>
                  </a:lnTo>
                  <a:lnTo>
                    <a:pt x="130" y="21"/>
                  </a:lnTo>
                  <a:lnTo>
                    <a:pt x="153" y="21"/>
                  </a:lnTo>
                  <a:lnTo>
                    <a:pt x="175" y="19"/>
                  </a:lnTo>
                  <a:lnTo>
                    <a:pt x="198" y="13"/>
                  </a:lnTo>
                  <a:lnTo>
                    <a:pt x="220" y="2"/>
                  </a:lnTo>
                  <a:lnTo>
                    <a:pt x="236" y="0"/>
                  </a:lnTo>
                  <a:lnTo>
                    <a:pt x="254" y="1"/>
                  </a:lnTo>
                  <a:lnTo>
                    <a:pt x="269" y="4"/>
                  </a:lnTo>
                  <a:lnTo>
                    <a:pt x="285" y="11"/>
                  </a:lnTo>
                  <a:lnTo>
                    <a:pt x="299" y="18"/>
                  </a:lnTo>
                  <a:lnTo>
                    <a:pt x="313" y="29"/>
                  </a:lnTo>
                  <a:lnTo>
                    <a:pt x="325" y="40"/>
                  </a:lnTo>
                  <a:lnTo>
                    <a:pt x="338" y="54"/>
                  </a:lnTo>
                  <a:lnTo>
                    <a:pt x="38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88000" y="3027240"/>
              <a:ext cx="69840" cy="669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90" y="41"/>
                  </a:moveTo>
                  <a:lnTo>
                    <a:pt x="89" y="46"/>
                  </a:lnTo>
                  <a:lnTo>
                    <a:pt x="89" y="53"/>
                  </a:lnTo>
                  <a:lnTo>
                    <a:pt x="87" y="58"/>
                  </a:lnTo>
                  <a:lnTo>
                    <a:pt x="84" y="65"/>
                  </a:lnTo>
                  <a:lnTo>
                    <a:pt x="80" y="70"/>
                  </a:lnTo>
                  <a:lnTo>
                    <a:pt x="77" y="75"/>
                  </a:lnTo>
                  <a:lnTo>
                    <a:pt x="71" y="80"/>
                  </a:lnTo>
                  <a:lnTo>
                    <a:pt x="66" y="84"/>
                  </a:lnTo>
                  <a:lnTo>
                    <a:pt x="57" y="84"/>
                  </a:lnTo>
                  <a:lnTo>
                    <a:pt x="50" y="84"/>
                  </a:lnTo>
                  <a:lnTo>
                    <a:pt x="43" y="83"/>
                  </a:lnTo>
                  <a:lnTo>
                    <a:pt x="37" y="81"/>
                  </a:lnTo>
                  <a:lnTo>
                    <a:pt x="31" y="77"/>
                  </a:lnTo>
                  <a:lnTo>
                    <a:pt x="24" y="74"/>
                  </a:lnTo>
                  <a:lnTo>
                    <a:pt x="19" y="70"/>
                  </a:lnTo>
                  <a:lnTo>
                    <a:pt x="14" y="66"/>
                  </a:lnTo>
                  <a:lnTo>
                    <a:pt x="7" y="58"/>
                  </a:lnTo>
                  <a:lnTo>
                    <a:pt x="4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5" y="21"/>
                  </a:lnTo>
                  <a:lnTo>
                    <a:pt x="10" y="13"/>
                  </a:lnTo>
                  <a:lnTo>
                    <a:pt x="15" y="5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62" y="11"/>
                  </a:lnTo>
                  <a:lnTo>
                    <a:pt x="69" y="16"/>
                  </a:lnTo>
                  <a:lnTo>
                    <a:pt x="77" y="24"/>
                  </a:lnTo>
                  <a:lnTo>
                    <a:pt x="83" y="31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91160" y="3049560"/>
              <a:ext cx="101520" cy="76320"/>
            </a:xfrm>
            <a:custGeom>
              <a:avLst/>
              <a:gdLst/>
              <a:ahLst/>
              <a:rect l="l" t="t" r="r" b="b"/>
              <a:pathLst>
                <a:path w="127" h="96">
                  <a:moveTo>
                    <a:pt x="127" y="56"/>
                  </a:moveTo>
                  <a:lnTo>
                    <a:pt x="124" y="66"/>
                  </a:lnTo>
                  <a:lnTo>
                    <a:pt x="116" y="74"/>
                  </a:lnTo>
                  <a:lnTo>
                    <a:pt x="112" y="78"/>
                  </a:lnTo>
                  <a:lnTo>
                    <a:pt x="111" y="83"/>
                  </a:lnTo>
                  <a:lnTo>
                    <a:pt x="112" y="87"/>
                  </a:lnTo>
                  <a:lnTo>
                    <a:pt x="118" y="94"/>
                  </a:lnTo>
                  <a:lnTo>
                    <a:pt x="109" y="96"/>
                  </a:lnTo>
                  <a:lnTo>
                    <a:pt x="102" y="95"/>
                  </a:lnTo>
                  <a:lnTo>
                    <a:pt x="97" y="90"/>
                  </a:lnTo>
                  <a:lnTo>
                    <a:pt x="94" y="86"/>
                  </a:lnTo>
                  <a:lnTo>
                    <a:pt x="88" y="78"/>
                  </a:lnTo>
                  <a:lnTo>
                    <a:pt x="83" y="74"/>
                  </a:lnTo>
                  <a:lnTo>
                    <a:pt x="76" y="71"/>
                  </a:lnTo>
                  <a:lnTo>
                    <a:pt x="69" y="72"/>
                  </a:lnTo>
                  <a:lnTo>
                    <a:pt x="59" y="64"/>
                  </a:lnTo>
                  <a:lnTo>
                    <a:pt x="49" y="58"/>
                  </a:lnTo>
                  <a:lnTo>
                    <a:pt x="40" y="53"/>
                  </a:lnTo>
                  <a:lnTo>
                    <a:pt x="30" y="48"/>
                  </a:lnTo>
                  <a:lnTo>
                    <a:pt x="20" y="42"/>
                  </a:lnTo>
                  <a:lnTo>
                    <a:pt x="12" y="35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9" y="19"/>
                  </a:lnTo>
                  <a:lnTo>
                    <a:pt x="16" y="21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3" y="19"/>
                  </a:lnTo>
                  <a:lnTo>
                    <a:pt x="38" y="13"/>
                  </a:lnTo>
                  <a:lnTo>
                    <a:pt x="42" y="7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7" y="4"/>
                  </a:lnTo>
                  <a:lnTo>
                    <a:pt x="83" y="9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3" y="27"/>
                  </a:lnTo>
                  <a:lnTo>
                    <a:pt x="109" y="33"/>
                  </a:lnTo>
                  <a:lnTo>
                    <a:pt x="115" y="40"/>
                  </a:lnTo>
                  <a:lnTo>
                    <a:pt x="120" y="47"/>
                  </a:lnTo>
                  <a:lnTo>
                    <a:pt x="127" y="5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8120" y="3111480"/>
              <a:ext cx="193680" cy="174600"/>
            </a:xfrm>
            <a:custGeom>
              <a:avLst/>
              <a:gdLst/>
              <a:ahLst/>
              <a:rect l="l" t="t" r="r" b="b"/>
              <a:pathLst>
                <a:path w="243" h="221">
                  <a:moveTo>
                    <a:pt x="216" y="51"/>
                  </a:moveTo>
                  <a:lnTo>
                    <a:pt x="225" y="62"/>
                  </a:lnTo>
                  <a:lnTo>
                    <a:pt x="231" y="75"/>
                  </a:lnTo>
                  <a:lnTo>
                    <a:pt x="234" y="89"/>
                  </a:lnTo>
                  <a:lnTo>
                    <a:pt x="238" y="104"/>
                  </a:lnTo>
                  <a:lnTo>
                    <a:pt x="239" y="119"/>
                  </a:lnTo>
                  <a:lnTo>
                    <a:pt x="240" y="134"/>
                  </a:lnTo>
                  <a:lnTo>
                    <a:pt x="240" y="148"/>
                  </a:lnTo>
                  <a:lnTo>
                    <a:pt x="243" y="163"/>
                  </a:lnTo>
                  <a:lnTo>
                    <a:pt x="241" y="170"/>
                  </a:lnTo>
                  <a:lnTo>
                    <a:pt x="239" y="178"/>
                  </a:lnTo>
                  <a:lnTo>
                    <a:pt x="233" y="183"/>
                  </a:lnTo>
                  <a:lnTo>
                    <a:pt x="229" y="190"/>
                  </a:lnTo>
                  <a:lnTo>
                    <a:pt x="223" y="194"/>
                  </a:lnTo>
                  <a:lnTo>
                    <a:pt x="216" y="199"/>
                  </a:lnTo>
                  <a:lnTo>
                    <a:pt x="210" y="204"/>
                  </a:lnTo>
                  <a:lnTo>
                    <a:pt x="203" y="210"/>
                  </a:lnTo>
                  <a:lnTo>
                    <a:pt x="185" y="213"/>
                  </a:lnTo>
                  <a:lnTo>
                    <a:pt x="167" y="218"/>
                  </a:lnTo>
                  <a:lnTo>
                    <a:pt x="148" y="220"/>
                  </a:lnTo>
                  <a:lnTo>
                    <a:pt x="130" y="221"/>
                  </a:lnTo>
                  <a:lnTo>
                    <a:pt x="112" y="220"/>
                  </a:lnTo>
                  <a:lnTo>
                    <a:pt x="95" y="217"/>
                  </a:lnTo>
                  <a:lnTo>
                    <a:pt x="78" y="211"/>
                  </a:lnTo>
                  <a:lnTo>
                    <a:pt x="63" y="205"/>
                  </a:lnTo>
                  <a:lnTo>
                    <a:pt x="46" y="188"/>
                  </a:lnTo>
                  <a:lnTo>
                    <a:pt x="31" y="170"/>
                  </a:lnTo>
                  <a:lnTo>
                    <a:pt x="18" y="152"/>
                  </a:lnTo>
                  <a:lnTo>
                    <a:pt x="9" y="134"/>
                  </a:lnTo>
                  <a:lnTo>
                    <a:pt x="2" y="112"/>
                  </a:lnTo>
                  <a:lnTo>
                    <a:pt x="0" y="91"/>
                  </a:lnTo>
                  <a:lnTo>
                    <a:pt x="3" y="68"/>
                  </a:lnTo>
                  <a:lnTo>
                    <a:pt x="13" y="46"/>
                  </a:lnTo>
                  <a:lnTo>
                    <a:pt x="18" y="36"/>
                  </a:lnTo>
                  <a:lnTo>
                    <a:pt x="26" y="27"/>
                  </a:lnTo>
                  <a:lnTo>
                    <a:pt x="33" y="21"/>
                  </a:lnTo>
                  <a:lnTo>
                    <a:pt x="43" y="15"/>
                  </a:lnTo>
                  <a:lnTo>
                    <a:pt x="53" y="9"/>
                  </a:lnTo>
                  <a:lnTo>
                    <a:pt x="62" y="6"/>
                  </a:lnTo>
                  <a:lnTo>
                    <a:pt x="73" y="3"/>
                  </a:lnTo>
                  <a:lnTo>
                    <a:pt x="84" y="1"/>
                  </a:lnTo>
                  <a:lnTo>
                    <a:pt x="102" y="0"/>
                  </a:lnTo>
                  <a:lnTo>
                    <a:pt x="120" y="4"/>
                  </a:lnTo>
                  <a:lnTo>
                    <a:pt x="137" y="8"/>
                  </a:lnTo>
                  <a:lnTo>
                    <a:pt x="154" y="14"/>
                  </a:lnTo>
                  <a:lnTo>
                    <a:pt x="169" y="21"/>
                  </a:lnTo>
                  <a:lnTo>
                    <a:pt x="185" y="31"/>
                  </a:lnTo>
                  <a:lnTo>
                    <a:pt x="200" y="40"/>
                  </a:lnTo>
                  <a:lnTo>
                    <a:pt x="216" y="51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1800" y="3130560"/>
              <a:ext cx="85680" cy="109440"/>
            </a:xfrm>
            <a:custGeom>
              <a:avLst/>
              <a:gdLst/>
              <a:ahLst/>
              <a:rect l="l" t="t" r="r" b="b"/>
              <a:pathLst>
                <a:path w="109" h="138">
                  <a:moveTo>
                    <a:pt x="38" y="1"/>
                  </a:moveTo>
                  <a:lnTo>
                    <a:pt x="47" y="3"/>
                  </a:lnTo>
                  <a:lnTo>
                    <a:pt x="57" y="8"/>
                  </a:lnTo>
                  <a:lnTo>
                    <a:pt x="66" y="12"/>
                  </a:lnTo>
                  <a:lnTo>
                    <a:pt x="75" y="18"/>
                  </a:lnTo>
                  <a:lnTo>
                    <a:pt x="83" y="24"/>
                  </a:lnTo>
                  <a:lnTo>
                    <a:pt x="91" y="30"/>
                  </a:lnTo>
                  <a:lnTo>
                    <a:pt x="100" y="38"/>
                  </a:lnTo>
                  <a:lnTo>
                    <a:pt x="109" y="45"/>
                  </a:lnTo>
                  <a:lnTo>
                    <a:pt x="104" y="55"/>
                  </a:lnTo>
                  <a:lnTo>
                    <a:pt x="101" y="66"/>
                  </a:lnTo>
                  <a:lnTo>
                    <a:pt x="96" y="74"/>
                  </a:lnTo>
                  <a:lnTo>
                    <a:pt x="87" y="84"/>
                  </a:lnTo>
                  <a:lnTo>
                    <a:pt x="88" y="89"/>
                  </a:lnTo>
                  <a:lnTo>
                    <a:pt x="93" y="95"/>
                  </a:lnTo>
                  <a:lnTo>
                    <a:pt x="96" y="99"/>
                  </a:lnTo>
                  <a:lnTo>
                    <a:pt x="98" y="107"/>
                  </a:lnTo>
                  <a:lnTo>
                    <a:pt x="97" y="115"/>
                  </a:lnTo>
                  <a:lnTo>
                    <a:pt x="94" y="124"/>
                  </a:lnTo>
                  <a:lnTo>
                    <a:pt x="89" y="130"/>
                  </a:lnTo>
                  <a:lnTo>
                    <a:pt x="84" y="138"/>
                  </a:lnTo>
                  <a:lnTo>
                    <a:pt x="71" y="136"/>
                  </a:lnTo>
                  <a:lnTo>
                    <a:pt x="62" y="130"/>
                  </a:lnTo>
                  <a:lnTo>
                    <a:pt x="55" y="122"/>
                  </a:lnTo>
                  <a:lnTo>
                    <a:pt x="52" y="113"/>
                  </a:lnTo>
                  <a:lnTo>
                    <a:pt x="47" y="102"/>
                  </a:lnTo>
                  <a:lnTo>
                    <a:pt x="44" y="92"/>
                  </a:lnTo>
                  <a:lnTo>
                    <a:pt x="40" y="82"/>
                  </a:lnTo>
                  <a:lnTo>
                    <a:pt x="36" y="74"/>
                  </a:lnTo>
                  <a:lnTo>
                    <a:pt x="29" y="66"/>
                  </a:lnTo>
                  <a:lnTo>
                    <a:pt x="24" y="57"/>
                  </a:lnTo>
                  <a:lnTo>
                    <a:pt x="17" y="49"/>
                  </a:lnTo>
                  <a:lnTo>
                    <a:pt x="12" y="41"/>
                  </a:lnTo>
                  <a:lnTo>
                    <a:pt x="5" y="32"/>
                  </a:lnTo>
                  <a:lnTo>
                    <a:pt x="3" y="24"/>
                  </a:lnTo>
                  <a:lnTo>
                    <a:pt x="0" y="14"/>
                  </a:lnTo>
                  <a:lnTo>
                    <a:pt x="1" y="6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2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88080" y="3144960"/>
              <a:ext cx="10800" cy="6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2" y="6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3080" y="3146400"/>
              <a:ext cx="82440" cy="5868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5" y="29"/>
                  </a:moveTo>
                  <a:lnTo>
                    <a:pt x="101" y="36"/>
                  </a:lnTo>
                  <a:lnTo>
                    <a:pt x="97" y="44"/>
                  </a:lnTo>
                  <a:lnTo>
                    <a:pt x="91" y="49"/>
                  </a:lnTo>
                  <a:lnTo>
                    <a:pt x="83" y="52"/>
                  </a:lnTo>
                  <a:lnTo>
                    <a:pt x="77" y="51"/>
                  </a:lnTo>
                  <a:lnTo>
                    <a:pt x="71" y="50"/>
                  </a:lnTo>
                  <a:lnTo>
                    <a:pt x="66" y="50"/>
                  </a:lnTo>
                  <a:lnTo>
                    <a:pt x="61" y="54"/>
                  </a:lnTo>
                  <a:lnTo>
                    <a:pt x="59" y="59"/>
                  </a:lnTo>
                  <a:lnTo>
                    <a:pt x="62" y="64"/>
                  </a:lnTo>
                  <a:lnTo>
                    <a:pt x="64" y="68"/>
                  </a:lnTo>
                  <a:lnTo>
                    <a:pt x="63" y="75"/>
                  </a:lnTo>
                  <a:lnTo>
                    <a:pt x="55" y="69"/>
                  </a:lnTo>
                  <a:lnTo>
                    <a:pt x="49" y="64"/>
                  </a:lnTo>
                  <a:lnTo>
                    <a:pt x="42" y="59"/>
                  </a:lnTo>
                  <a:lnTo>
                    <a:pt x="37" y="53"/>
                  </a:lnTo>
                  <a:lnTo>
                    <a:pt x="29" y="48"/>
                  </a:lnTo>
                  <a:lnTo>
                    <a:pt x="23" y="45"/>
                  </a:lnTo>
                  <a:lnTo>
                    <a:pt x="15" y="41"/>
                  </a:lnTo>
                  <a:lnTo>
                    <a:pt x="9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3" y="1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91" y="12"/>
                  </a:lnTo>
                  <a:lnTo>
                    <a:pt x="95" y="15"/>
                  </a:lnTo>
                  <a:lnTo>
                    <a:pt x="99" y="18"/>
                  </a:lnTo>
                  <a:lnTo>
                    <a:pt x="101" y="22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5080" y="3149640"/>
              <a:ext cx="60120" cy="10008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3" y="25"/>
                  </a:moveTo>
                  <a:lnTo>
                    <a:pt x="75" y="31"/>
                  </a:lnTo>
                  <a:lnTo>
                    <a:pt x="76" y="40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68" y="61"/>
                  </a:lnTo>
                  <a:lnTo>
                    <a:pt x="61" y="67"/>
                  </a:lnTo>
                  <a:lnTo>
                    <a:pt x="56" y="73"/>
                  </a:lnTo>
                  <a:lnTo>
                    <a:pt x="51" y="80"/>
                  </a:lnTo>
                  <a:lnTo>
                    <a:pt x="47" y="87"/>
                  </a:lnTo>
                  <a:lnTo>
                    <a:pt x="45" y="93"/>
                  </a:lnTo>
                  <a:lnTo>
                    <a:pt x="45" y="101"/>
                  </a:lnTo>
                  <a:lnTo>
                    <a:pt x="48" y="110"/>
                  </a:lnTo>
                  <a:lnTo>
                    <a:pt x="55" y="122"/>
                  </a:lnTo>
                  <a:lnTo>
                    <a:pt x="45" y="127"/>
                  </a:lnTo>
                  <a:lnTo>
                    <a:pt x="36" y="127"/>
                  </a:lnTo>
                  <a:lnTo>
                    <a:pt x="27" y="125"/>
                  </a:lnTo>
                  <a:lnTo>
                    <a:pt x="19" y="122"/>
                  </a:lnTo>
                  <a:lnTo>
                    <a:pt x="13" y="119"/>
                  </a:lnTo>
                  <a:lnTo>
                    <a:pt x="6" y="119"/>
                  </a:lnTo>
                  <a:lnTo>
                    <a:pt x="3" y="118"/>
                  </a:lnTo>
                  <a:lnTo>
                    <a:pt x="1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9" y="99"/>
                  </a:lnTo>
                  <a:lnTo>
                    <a:pt x="16" y="89"/>
                  </a:lnTo>
                  <a:lnTo>
                    <a:pt x="17" y="82"/>
                  </a:lnTo>
                  <a:lnTo>
                    <a:pt x="19" y="75"/>
                  </a:lnTo>
                  <a:lnTo>
                    <a:pt x="19" y="69"/>
                  </a:lnTo>
                  <a:lnTo>
                    <a:pt x="19" y="62"/>
                  </a:lnTo>
                  <a:lnTo>
                    <a:pt x="14" y="57"/>
                  </a:lnTo>
                  <a:lnTo>
                    <a:pt x="15" y="49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8" y="31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11" y="13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9" y="17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35760" y="3227400"/>
              <a:ext cx="199800" cy="122400"/>
            </a:xfrm>
            <a:custGeom>
              <a:avLst/>
              <a:gdLst/>
              <a:ahLst/>
              <a:rect l="l" t="t" r="r" b="b"/>
              <a:pathLst>
                <a:path w="252" h="155">
                  <a:moveTo>
                    <a:pt x="52" y="32"/>
                  </a:moveTo>
                  <a:lnTo>
                    <a:pt x="70" y="40"/>
                  </a:lnTo>
                  <a:lnTo>
                    <a:pt x="93" y="44"/>
                  </a:lnTo>
                  <a:lnTo>
                    <a:pt x="117" y="43"/>
                  </a:lnTo>
                  <a:lnTo>
                    <a:pt x="141" y="43"/>
                  </a:lnTo>
                  <a:lnTo>
                    <a:pt x="163" y="43"/>
                  </a:lnTo>
                  <a:lnTo>
                    <a:pt x="185" y="47"/>
                  </a:lnTo>
                  <a:lnTo>
                    <a:pt x="203" y="57"/>
                  </a:lnTo>
                  <a:lnTo>
                    <a:pt x="218" y="76"/>
                  </a:lnTo>
                  <a:lnTo>
                    <a:pt x="227" y="78"/>
                  </a:lnTo>
                  <a:lnTo>
                    <a:pt x="237" y="84"/>
                  </a:lnTo>
                  <a:lnTo>
                    <a:pt x="245" y="91"/>
                  </a:lnTo>
                  <a:lnTo>
                    <a:pt x="251" y="101"/>
                  </a:lnTo>
                  <a:lnTo>
                    <a:pt x="252" y="106"/>
                  </a:lnTo>
                  <a:lnTo>
                    <a:pt x="252" y="113"/>
                  </a:lnTo>
                  <a:lnTo>
                    <a:pt x="251" y="118"/>
                  </a:lnTo>
                  <a:lnTo>
                    <a:pt x="251" y="124"/>
                  </a:lnTo>
                  <a:lnTo>
                    <a:pt x="248" y="130"/>
                  </a:lnTo>
                  <a:lnTo>
                    <a:pt x="246" y="136"/>
                  </a:lnTo>
                  <a:lnTo>
                    <a:pt x="243" y="142"/>
                  </a:lnTo>
                  <a:lnTo>
                    <a:pt x="240" y="148"/>
                  </a:lnTo>
                  <a:lnTo>
                    <a:pt x="234" y="151"/>
                  </a:lnTo>
                  <a:lnTo>
                    <a:pt x="227" y="155"/>
                  </a:lnTo>
                  <a:lnTo>
                    <a:pt x="220" y="155"/>
                  </a:lnTo>
                  <a:lnTo>
                    <a:pt x="213" y="155"/>
                  </a:lnTo>
                  <a:lnTo>
                    <a:pt x="207" y="150"/>
                  </a:lnTo>
                  <a:lnTo>
                    <a:pt x="204" y="146"/>
                  </a:lnTo>
                  <a:lnTo>
                    <a:pt x="203" y="140"/>
                  </a:lnTo>
                  <a:lnTo>
                    <a:pt x="203" y="134"/>
                  </a:lnTo>
                  <a:lnTo>
                    <a:pt x="202" y="128"/>
                  </a:lnTo>
                  <a:lnTo>
                    <a:pt x="202" y="123"/>
                  </a:lnTo>
                  <a:lnTo>
                    <a:pt x="199" y="119"/>
                  </a:lnTo>
                  <a:lnTo>
                    <a:pt x="195" y="117"/>
                  </a:lnTo>
                  <a:lnTo>
                    <a:pt x="191" y="124"/>
                  </a:lnTo>
                  <a:lnTo>
                    <a:pt x="185" y="133"/>
                  </a:lnTo>
                  <a:lnTo>
                    <a:pt x="178" y="140"/>
                  </a:lnTo>
                  <a:lnTo>
                    <a:pt x="170" y="146"/>
                  </a:lnTo>
                  <a:lnTo>
                    <a:pt x="144" y="135"/>
                  </a:lnTo>
                  <a:lnTo>
                    <a:pt x="119" y="124"/>
                  </a:lnTo>
                  <a:lnTo>
                    <a:pt x="93" y="111"/>
                  </a:lnTo>
                  <a:lnTo>
                    <a:pt x="70" y="97"/>
                  </a:lnTo>
                  <a:lnTo>
                    <a:pt x="48" y="77"/>
                  </a:lnTo>
                  <a:lnTo>
                    <a:pt x="28" y="58"/>
                  </a:lnTo>
                  <a:lnTo>
                    <a:pt x="12" y="35"/>
                  </a:lnTo>
                  <a:lnTo>
                    <a:pt x="0" y="9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3" y="6"/>
                  </a:lnTo>
                  <a:lnTo>
                    <a:pt x="29" y="12"/>
                  </a:lnTo>
                  <a:lnTo>
                    <a:pt x="34" y="17"/>
                  </a:lnTo>
                  <a:lnTo>
                    <a:pt x="40" y="22"/>
                  </a:lnTo>
                  <a:lnTo>
                    <a:pt x="46" y="27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360" y="3257640"/>
              <a:ext cx="104760" cy="6192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32" y="21"/>
                  </a:moveTo>
                  <a:lnTo>
                    <a:pt x="130" y="32"/>
                  </a:lnTo>
                  <a:lnTo>
                    <a:pt x="127" y="41"/>
                  </a:lnTo>
                  <a:lnTo>
                    <a:pt x="119" y="50"/>
                  </a:lnTo>
                  <a:lnTo>
                    <a:pt x="112" y="59"/>
                  </a:lnTo>
                  <a:lnTo>
                    <a:pt x="102" y="64"/>
                  </a:lnTo>
                  <a:lnTo>
                    <a:pt x="92" y="69"/>
                  </a:lnTo>
                  <a:lnTo>
                    <a:pt x="82" y="74"/>
                  </a:lnTo>
                  <a:lnTo>
                    <a:pt x="74" y="79"/>
                  </a:lnTo>
                  <a:lnTo>
                    <a:pt x="62" y="77"/>
                  </a:lnTo>
                  <a:lnTo>
                    <a:pt x="52" y="76"/>
                  </a:lnTo>
                  <a:lnTo>
                    <a:pt x="40" y="75"/>
                  </a:lnTo>
                  <a:lnTo>
                    <a:pt x="31" y="74"/>
                  </a:lnTo>
                  <a:lnTo>
                    <a:pt x="21" y="70"/>
                  </a:lnTo>
                  <a:lnTo>
                    <a:pt x="13" y="67"/>
                  </a:lnTo>
                  <a:lnTo>
                    <a:pt x="5" y="61"/>
                  </a:lnTo>
                  <a:lnTo>
                    <a:pt x="0" y="54"/>
                  </a:lnTo>
                  <a:lnTo>
                    <a:pt x="7" y="49"/>
                  </a:lnTo>
                  <a:lnTo>
                    <a:pt x="15" y="45"/>
                  </a:lnTo>
                  <a:lnTo>
                    <a:pt x="11" y="38"/>
                  </a:lnTo>
                  <a:lnTo>
                    <a:pt x="13" y="32"/>
                  </a:lnTo>
                  <a:lnTo>
                    <a:pt x="22" y="27"/>
                  </a:lnTo>
                  <a:lnTo>
                    <a:pt x="32" y="22"/>
                  </a:lnTo>
                  <a:lnTo>
                    <a:pt x="42" y="15"/>
                  </a:lnTo>
                  <a:lnTo>
                    <a:pt x="51" y="9"/>
                  </a:lnTo>
                  <a:lnTo>
                    <a:pt x="61" y="3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3" y="7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10" y="6"/>
                  </a:lnTo>
                  <a:lnTo>
                    <a:pt x="117" y="7"/>
                  </a:lnTo>
                  <a:lnTo>
                    <a:pt x="121" y="7"/>
                  </a:lnTo>
                  <a:lnTo>
                    <a:pt x="127" y="10"/>
                  </a:lnTo>
                  <a:lnTo>
                    <a:pt x="129" y="13"/>
                  </a:lnTo>
                  <a:lnTo>
                    <a:pt x="132" y="2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4520" y="2820960"/>
              <a:ext cx="39600" cy="126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9" y="11"/>
                  </a:moveTo>
                  <a:lnTo>
                    <a:pt x="43" y="15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23" y="16"/>
                  </a:lnTo>
                  <a:lnTo>
                    <a:pt x="17" y="14"/>
                  </a:lnTo>
                  <a:lnTo>
                    <a:pt x="12" y="13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3560" y="2847960"/>
              <a:ext cx="42840" cy="2700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3"/>
                  </a:moveTo>
                  <a:lnTo>
                    <a:pt x="46" y="32"/>
                  </a:lnTo>
                  <a:lnTo>
                    <a:pt x="40" y="31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4" y="13"/>
                  </a:lnTo>
                  <a:lnTo>
                    <a:pt x="7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3" y="19"/>
                  </a:lnTo>
                  <a:lnTo>
                    <a:pt x="48" y="26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97480" y="2855880"/>
              <a:ext cx="7920" cy="12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2"/>
                  </a:moveTo>
                  <a:lnTo>
                    <a:pt x="9" y="17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78440" y="286056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9080" y="2889360"/>
              <a:ext cx="33120" cy="79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42" y="0"/>
                  </a:moveTo>
                  <a:lnTo>
                    <a:pt x="33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5" y="7"/>
                  </a:lnTo>
                  <a:lnTo>
                    <a:pt x="23" y="5"/>
                  </a:lnTo>
                  <a:lnTo>
                    <a:pt x="32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0320" y="2892600"/>
              <a:ext cx="4680" cy="108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8" y="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21560" y="291780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7"/>
                  </a:moveTo>
                  <a:lnTo>
                    <a:pt x="22" y="11"/>
                  </a:lnTo>
                  <a:lnTo>
                    <a:pt x="15" y="16"/>
                  </a:lnTo>
                  <a:lnTo>
                    <a:pt x="7" y="21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86360" y="2932200"/>
              <a:ext cx="39960" cy="252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6"/>
                  </a:moveTo>
                  <a:lnTo>
                    <a:pt x="45" y="10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7" y="25"/>
                  </a:lnTo>
                  <a:lnTo>
                    <a:pt x="20" y="28"/>
                  </a:lnTo>
                  <a:lnTo>
                    <a:pt x="13" y="31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5" y="26"/>
                  </a:lnTo>
                  <a:lnTo>
                    <a:pt x="11" y="21"/>
                  </a:lnTo>
                  <a:lnTo>
                    <a:pt x="18" y="14"/>
                  </a:lnTo>
                  <a:lnTo>
                    <a:pt x="24" y="7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81760" y="2935440"/>
              <a:ext cx="14400" cy="46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0"/>
                  </a:moveTo>
                  <a:lnTo>
                    <a:pt x="12" y="1"/>
                  </a:lnTo>
                  <a:lnTo>
                    <a:pt x="9" y="4"/>
                  </a:lnTo>
                  <a:lnTo>
                    <a:pt x="4" y="5"/>
                  </a:lnTo>
                  <a:lnTo>
                    <a:pt x="0" y="5"/>
                  </a:lnTo>
                  <a:lnTo>
                    <a:pt x="7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10080" y="2979720"/>
              <a:ext cx="14400" cy="76320"/>
            </a:xfrm>
            <a:custGeom>
              <a:avLst/>
              <a:gdLst/>
              <a:ahLst/>
              <a:rect l="l" t="t" r="r" b="b"/>
              <a:pathLst>
                <a:path w="18" h="97">
                  <a:moveTo>
                    <a:pt x="10" y="32"/>
                  </a:moveTo>
                  <a:lnTo>
                    <a:pt x="9" y="40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7"/>
                  </a:lnTo>
                  <a:lnTo>
                    <a:pt x="17" y="86"/>
                  </a:lnTo>
                  <a:lnTo>
                    <a:pt x="16" y="97"/>
                  </a:lnTo>
                  <a:lnTo>
                    <a:pt x="6" y="91"/>
                  </a:lnTo>
                  <a:lnTo>
                    <a:pt x="2" y="84"/>
                  </a:lnTo>
                  <a:lnTo>
                    <a:pt x="0" y="74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3" y="34"/>
                  </a:lnTo>
                  <a:lnTo>
                    <a:pt x="2" y="26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13"/>
                  </a:lnTo>
                  <a:lnTo>
                    <a:pt x="7" y="2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7040" y="2995560"/>
              <a:ext cx="10800" cy="9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2"/>
                  </a:moveTo>
                  <a:lnTo>
                    <a:pt x="13" y="6"/>
                  </a:lnTo>
                  <a:lnTo>
                    <a:pt x="8" y="9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43560" y="3003480"/>
              <a:ext cx="19080" cy="81000"/>
            </a:xfrm>
            <a:custGeom>
              <a:avLst/>
              <a:gdLst/>
              <a:ahLst/>
              <a:rect l="l" t="t" r="r" b="b"/>
              <a:pathLst>
                <a:path w="23" h="102">
                  <a:moveTo>
                    <a:pt x="17" y="49"/>
                  </a:moveTo>
                  <a:lnTo>
                    <a:pt x="17" y="56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20" y="75"/>
                  </a:lnTo>
                  <a:lnTo>
                    <a:pt x="20" y="82"/>
                  </a:lnTo>
                  <a:lnTo>
                    <a:pt x="21" y="88"/>
                  </a:lnTo>
                  <a:lnTo>
                    <a:pt x="22" y="95"/>
                  </a:lnTo>
                  <a:lnTo>
                    <a:pt x="23" y="102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8" y="75"/>
                  </a:lnTo>
                  <a:lnTo>
                    <a:pt x="8" y="69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6" y="48"/>
                  </a:lnTo>
                  <a:lnTo>
                    <a:pt x="5" y="42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6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6"/>
                  </a:lnTo>
                  <a:lnTo>
                    <a:pt x="14" y="12"/>
                  </a:lnTo>
                  <a:lnTo>
                    <a:pt x="15" y="19"/>
                  </a:lnTo>
                  <a:lnTo>
                    <a:pt x="15" y="27"/>
                  </a:lnTo>
                  <a:lnTo>
                    <a:pt x="15" y="34"/>
                  </a:lnTo>
                  <a:lnTo>
                    <a:pt x="15" y="42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2080" y="301932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91" y="0"/>
                  </a:moveTo>
                  <a:lnTo>
                    <a:pt x="81" y="11"/>
                  </a:lnTo>
                  <a:lnTo>
                    <a:pt x="71" y="20"/>
                  </a:lnTo>
                  <a:lnTo>
                    <a:pt x="61" y="24"/>
                  </a:lnTo>
                  <a:lnTo>
                    <a:pt x="50" y="28"/>
                  </a:lnTo>
                  <a:lnTo>
                    <a:pt x="37" y="28"/>
                  </a:lnTo>
                  <a:lnTo>
                    <a:pt x="25" y="29"/>
                  </a:lnTo>
                  <a:lnTo>
                    <a:pt x="12" y="29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1" y="24"/>
                  </a:lnTo>
                  <a:lnTo>
                    <a:pt x="23" y="21"/>
                  </a:lnTo>
                  <a:lnTo>
                    <a:pt x="34" y="17"/>
                  </a:lnTo>
                  <a:lnTo>
                    <a:pt x="46" y="14"/>
                  </a:lnTo>
                  <a:lnTo>
                    <a:pt x="55" y="10"/>
                  </a:lnTo>
                  <a:lnTo>
                    <a:pt x="67" y="7"/>
                  </a:lnTo>
                  <a:lnTo>
                    <a:pt x="78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4440" y="3038400"/>
              <a:ext cx="110880" cy="460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141" y="56"/>
                  </a:moveTo>
                  <a:lnTo>
                    <a:pt x="141" y="58"/>
                  </a:lnTo>
                  <a:lnTo>
                    <a:pt x="121" y="51"/>
                  </a:lnTo>
                  <a:lnTo>
                    <a:pt x="103" y="45"/>
                  </a:lnTo>
                  <a:lnTo>
                    <a:pt x="84" y="39"/>
                  </a:lnTo>
                  <a:lnTo>
                    <a:pt x="65" y="33"/>
                  </a:lnTo>
                  <a:lnTo>
                    <a:pt x="46" y="26"/>
                  </a:lnTo>
                  <a:lnTo>
                    <a:pt x="29" y="19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11"/>
                  </a:lnTo>
                  <a:lnTo>
                    <a:pt x="52" y="17"/>
                  </a:lnTo>
                  <a:lnTo>
                    <a:pt x="71" y="24"/>
                  </a:lnTo>
                  <a:lnTo>
                    <a:pt x="88" y="30"/>
                  </a:lnTo>
                  <a:lnTo>
                    <a:pt x="105" y="39"/>
                  </a:lnTo>
                  <a:lnTo>
                    <a:pt x="122" y="46"/>
                  </a:lnTo>
                  <a:lnTo>
                    <a:pt x="14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76760" y="3067200"/>
              <a:ext cx="19080" cy="29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37"/>
                  </a:moveTo>
                  <a:lnTo>
                    <a:pt x="11" y="30"/>
                  </a:lnTo>
                  <a:lnTo>
                    <a:pt x="7" y="2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22" y="22"/>
                  </a:lnTo>
                  <a:lnTo>
                    <a:pt x="21" y="29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46800" y="3075120"/>
              <a:ext cx="100080" cy="5400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25" y="54"/>
                  </a:moveTo>
                  <a:lnTo>
                    <a:pt x="123" y="60"/>
                  </a:lnTo>
                  <a:lnTo>
                    <a:pt x="116" y="66"/>
                  </a:lnTo>
                  <a:lnTo>
                    <a:pt x="102" y="69"/>
                  </a:lnTo>
                  <a:lnTo>
                    <a:pt x="93" y="68"/>
                  </a:lnTo>
                  <a:lnTo>
                    <a:pt x="83" y="63"/>
                  </a:lnTo>
                  <a:lnTo>
                    <a:pt x="77" y="57"/>
                  </a:lnTo>
                  <a:lnTo>
                    <a:pt x="68" y="50"/>
                  </a:lnTo>
                  <a:lnTo>
                    <a:pt x="59" y="45"/>
                  </a:lnTo>
                  <a:lnTo>
                    <a:pt x="50" y="42"/>
                  </a:lnTo>
                  <a:lnTo>
                    <a:pt x="40" y="43"/>
                  </a:lnTo>
                  <a:lnTo>
                    <a:pt x="0" y="29"/>
                  </a:lnTo>
                  <a:lnTo>
                    <a:pt x="10" y="25"/>
                  </a:lnTo>
                  <a:lnTo>
                    <a:pt x="20" y="18"/>
                  </a:lnTo>
                  <a:lnTo>
                    <a:pt x="26" y="1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6" y="6"/>
                  </a:lnTo>
                  <a:lnTo>
                    <a:pt x="67" y="11"/>
                  </a:lnTo>
                  <a:lnTo>
                    <a:pt x="79" y="21"/>
                  </a:lnTo>
                  <a:lnTo>
                    <a:pt x="89" y="29"/>
                  </a:lnTo>
                  <a:lnTo>
                    <a:pt x="100" y="39"/>
                  </a:lnTo>
                  <a:lnTo>
                    <a:pt x="111" y="47"/>
                  </a:lnTo>
                  <a:lnTo>
                    <a:pt x="1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45320" y="3073320"/>
              <a:ext cx="85680" cy="58680"/>
            </a:xfrm>
            <a:custGeom>
              <a:avLst/>
              <a:gdLst/>
              <a:ahLst/>
              <a:rect l="l" t="t" r="r" b="b"/>
              <a:pathLst>
                <a:path w="108" h="73">
                  <a:moveTo>
                    <a:pt x="108" y="3"/>
                  </a:moveTo>
                  <a:lnTo>
                    <a:pt x="93" y="11"/>
                  </a:lnTo>
                  <a:lnTo>
                    <a:pt x="80" y="22"/>
                  </a:lnTo>
                  <a:lnTo>
                    <a:pt x="67" y="33"/>
                  </a:lnTo>
                  <a:lnTo>
                    <a:pt x="56" y="45"/>
                  </a:lnTo>
                  <a:lnTo>
                    <a:pt x="43" y="56"/>
                  </a:lnTo>
                  <a:lnTo>
                    <a:pt x="30" y="66"/>
                  </a:lnTo>
                  <a:lnTo>
                    <a:pt x="15" y="71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13" y="57"/>
                  </a:lnTo>
                  <a:lnTo>
                    <a:pt x="25" y="46"/>
                  </a:lnTo>
                  <a:lnTo>
                    <a:pt x="37" y="33"/>
                  </a:lnTo>
                  <a:lnTo>
                    <a:pt x="49" y="22"/>
                  </a:lnTo>
                  <a:lnTo>
                    <a:pt x="61" y="11"/>
                  </a:lnTo>
                  <a:lnTo>
                    <a:pt x="75" y="3"/>
                  </a:lnTo>
                  <a:lnTo>
                    <a:pt x="90" y="0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53320" y="3079800"/>
              <a:ext cx="71280" cy="4428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65" y="47"/>
                  </a:moveTo>
                  <a:lnTo>
                    <a:pt x="56" y="47"/>
                  </a:lnTo>
                  <a:lnTo>
                    <a:pt x="49" y="48"/>
                  </a:lnTo>
                  <a:lnTo>
                    <a:pt x="41" y="49"/>
                  </a:lnTo>
                  <a:lnTo>
                    <a:pt x="34" y="51"/>
                  </a:lnTo>
                  <a:lnTo>
                    <a:pt x="25" y="51"/>
                  </a:lnTo>
                  <a:lnTo>
                    <a:pt x="16" y="53"/>
                  </a:lnTo>
                  <a:lnTo>
                    <a:pt x="8" y="53"/>
                  </a:lnTo>
                  <a:lnTo>
                    <a:pt x="0" y="56"/>
                  </a:lnTo>
                  <a:lnTo>
                    <a:pt x="10" y="47"/>
                  </a:lnTo>
                  <a:lnTo>
                    <a:pt x="22" y="40"/>
                  </a:lnTo>
                  <a:lnTo>
                    <a:pt x="33" y="32"/>
                  </a:lnTo>
                  <a:lnTo>
                    <a:pt x="44" y="25"/>
                  </a:lnTo>
                  <a:lnTo>
                    <a:pt x="55" y="18"/>
                  </a:lnTo>
                  <a:lnTo>
                    <a:pt x="68" y="10"/>
                  </a:lnTo>
                  <a:lnTo>
                    <a:pt x="79" y="4"/>
                  </a:lnTo>
                  <a:lnTo>
                    <a:pt x="92" y="0"/>
                  </a:lnTo>
                  <a:lnTo>
                    <a:pt x="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5560" y="3084480"/>
              <a:ext cx="23760" cy="27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0"/>
                  </a:moveTo>
                  <a:lnTo>
                    <a:pt x="30" y="16"/>
                  </a:lnTo>
                  <a:lnTo>
                    <a:pt x="27" y="24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8" y="30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1880" y="3090960"/>
              <a:ext cx="18720" cy="22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9"/>
                  </a:moveTo>
                  <a:lnTo>
                    <a:pt x="16" y="24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5"/>
                  </a:lnTo>
                  <a:lnTo>
                    <a:pt x="19" y="10"/>
                  </a:lnTo>
                  <a:lnTo>
                    <a:pt x="21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9400" y="3119400"/>
              <a:ext cx="1260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lnTo>
                    <a:pt x="9" y="16"/>
                  </a:lnTo>
                  <a:lnTo>
                    <a:pt x="3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2" y="8"/>
                  </a:lnTo>
                  <a:lnTo>
                    <a:pt x="14" y="13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2080" y="3124080"/>
              <a:ext cx="101520" cy="55800"/>
            </a:xfrm>
            <a:custGeom>
              <a:avLst/>
              <a:gdLst/>
              <a:ahLst/>
              <a:rect l="l" t="t" r="r" b="b"/>
              <a:pathLst>
                <a:path w="128" h="69">
                  <a:moveTo>
                    <a:pt x="89" y="47"/>
                  </a:moveTo>
                  <a:lnTo>
                    <a:pt x="94" y="50"/>
                  </a:lnTo>
                  <a:lnTo>
                    <a:pt x="100" y="52"/>
                  </a:lnTo>
                  <a:lnTo>
                    <a:pt x="107" y="51"/>
                  </a:lnTo>
                  <a:lnTo>
                    <a:pt x="114" y="51"/>
                  </a:lnTo>
                  <a:lnTo>
                    <a:pt x="120" y="51"/>
                  </a:lnTo>
                  <a:lnTo>
                    <a:pt x="125" y="53"/>
                  </a:lnTo>
                  <a:lnTo>
                    <a:pt x="127" y="59"/>
                  </a:lnTo>
                  <a:lnTo>
                    <a:pt x="128" y="69"/>
                  </a:lnTo>
                  <a:lnTo>
                    <a:pt x="118" y="65"/>
                  </a:lnTo>
                  <a:lnTo>
                    <a:pt x="107" y="64"/>
                  </a:lnTo>
                  <a:lnTo>
                    <a:pt x="95" y="63"/>
                  </a:lnTo>
                  <a:lnTo>
                    <a:pt x="84" y="64"/>
                  </a:lnTo>
                  <a:lnTo>
                    <a:pt x="72" y="62"/>
                  </a:lnTo>
                  <a:lnTo>
                    <a:pt x="62" y="60"/>
                  </a:lnTo>
                  <a:lnTo>
                    <a:pt x="52" y="54"/>
                  </a:lnTo>
                  <a:lnTo>
                    <a:pt x="46" y="47"/>
                  </a:lnTo>
                  <a:lnTo>
                    <a:pt x="0" y="32"/>
                  </a:lnTo>
                  <a:lnTo>
                    <a:pt x="17" y="0"/>
                  </a:lnTo>
                  <a:lnTo>
                    <a:pt x="25" y="3"/>
                  </a:lnTo>
                  <a:lnTo>
                    <a:pt x="36" y="7"/>
                  </a:lnTo>
                  <a:lnTo>
                    <a:pt x="46" y="11"/>
                  </a:lnTo>
                  <a:lnTo>
                    <a:pt x="56" y="17"/>
                  </a:lnTo>
                  <a:lnTo>
                    <a:pt x="65" y="22"/>
                  </a:lnTo>
                  <a:lnTo>
                    <a:pt x="74" y="29"/>
                  </a:lnTo>
                  <a:lnTo>
                    <a:pt x="81" y="36"/>
                  </a:lnTo>
                  <a:lnTo>
                    <a:pt x="8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86240" y="3130560"/>
              <a:ext cx="1308240" cy="919080"/>
            </a:xfrm>
            <a:custGeom>
              <a:avLst/>
              <a:gdLst/>
              <a:ahLst/>
              <a:rect l="l" t="t" r="r" b="b"/>
              <a:pathLst>
                <a:path w="1646" h="1159">
                  <a:moveTo>
                    <a:pt x="89" y="83"/>
                  </a:moveTo>
                  <a:lnTo>
                    <a:pt x="91" y="93"/>
                  </a:lnTo>
                  <a:lnTo>
                    <a:pt x="94" y="105"/>
                  </a:lnTo>
                  <a:lnTo>
                    <a:pt x="95" y="117"/>
                  </a:lnTo>
                  <a:lnTo>
                    <a:pt x="98" y="130"/>
                  </a:lnTo>
                  <a:lnTo>
                    <a:pt x="100" y="142"/>
                  </a:lnTo>
                  <a:lnTo>
                    <a:pt x="103" y="154"/>
                  </a:lnTo>
                  <a:lnTo>
                    <a:pt x="106" y="165"/>
                  </a:lnTo>
                  <a:lnTo>
                    <a:pt x="114" y="176"/>
                  </a:lnTo>
                  <a:lnTo>
                    <a:pt x="123" y="73"/>
                  </a:lnTo>
                  <a:lnTo>
                    <a:pt x="140" y="73"/>
                  </a:lnTo>
                  <a:lnTo>
                    <a:pt x="149" y="80"/>
                  </a:lnTo>
                  <a:lnTo>
                    <a:pt x="153" y="89"/>
                  </a:lnTo>
                  <a:lnTo>
                    <a:pt x="153" y="102"/>
                  </a:lnTo>
                  <a:lnTo>
                    <a:pt x="149" y="115"/>
                  </a:lnTo>
                  <a:lnTo>
                    <a:pt x="147" y="130"/>
                  </a:lnTo>
                  <a:lnTo>
                    <a:pt x="146" y="143"/>
                  </a:lnTo>
                  <a:lnTo>
                    <a:pt x="150" y="155"/>
                  </a:lnTo>
                  <a:lnTo>
                    <a:pt x="157" y="154"/>
                  </a:lnTo>
                  <a:lnTo>
                    <a:pt x="163" y="156"/>
                  </a:lnTo>
                  <a:lnTo>
                    <a:pt x="170" y="158"/>
                  </a:lnTo>
                  <a:lnTo>
                    <a:pt x="176" y="161"/>
                  </a:lnTo>
                  <a:lnTo>
                    <a:pt x="182" y="164"/>
                  </a:lnTo>
                  <a:lnTo>
                    <a:pt x="188" y="165"/>
                  </a:lnTo>
                  <a:lnTo>
                    <a:pt x="194" y="164"/>
                  </a:lnTo>
                  <a:lnTo>
                    <a:pt x="202" y="159"/>
                  </a:lnTo>
                  <a:lnTo>
                    <a:pt x="199" y="153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8" y="133"/>
                  </a:lnTo>
                  <a:lnTo>
                    <a:pt x="198" y="126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5"/>
                  </a:lnTo>
                  <a:lnTo>
                    <a:pt x="212" y="111"/>
                  </a:lnTo>
                  <a:lnTo>
                    <a:pt x="226" y="119"/>
                  </a:lnTo>
                  <a:lnTo>
                    <a:pt x="239" y="127"/>
                  </a:lnTo>
                  <a:lnTo>
                    <a:pt x="253" y="137"/>
                  </a:lnTo>
                  <a:lnTo>
                    <a:pt x="266" y="145"/>
                  </a:lnTo>
                  <a:lnTo>
                    <a:pt x="278" y="155"/>
                  </a:lnTo>
                  <a:lnTo>
                    <a:pt x="292" y="163"/>
                  </a:lnTo>
                  <a:lnTo>
                    <a:pt x="307" y="170"/>
                  </a:lnTo>
                  <a:lnTo>
                    <a:pt x="313" y="178"/>
                  </a:lnTo>
                  <a:lnTo>
                    <a:pt x="320" y="182"/>
                  </a:lnTo>
                  <a:lnTo>
                    <a:pt x="325" y="179"/>
                  </a:lnTo>
                  <a:lnTo>
                    <a:pt x="386" y="216"/>
                  </a:lnTo>
                  <a:lnTo>
                    <a:pt x="451" y="247"/>
                  </a:lnTo>
                  <a:lnTo>
                    <a:pt x="517" y="274"/>
                  </a:lnTo>
                  <a:lnTo>
                    <a:pt x="586" y="301"/>
                  </a:lnTo>
                  <a:lnTo>
                    <a:pt x="653" y="327"/>
                  </a:lnTo>
                  <a:lnTo>
                    <a:pt x="720" y="358"/>
                  </a:lnTo>
                  <a:lnTo>
                    <a:pt x="782" y="395"/>
                  </a:lnTo>
                  <a:lnTo>
                    <a:pt x="841" y="441"/>
                  </a:lnTo>
                  <a:lnTo>
                    <a:pt x="883" y="453"/>
                  </a:lnTo>
                  <a:lnTo>
                    <a:pt x="924" y="468"/>
                  </a:lnTo>
                  <a:lnTo>
                    <a:pt x="964" y="486"/>
                  </a:lnTo>
                  <a:lnTo>
                    <a:pt x="1004" y="507"/>
                  </a:lnTo>
                  <a:lnTo>
                    <a:pt x="1042" y="526"/>
                  </a:lnTo>
                  <a:lnTo>
                    <a:pt x="1081" y="547"/>
                  </a:lnTo>
                  <a:lnTo>
                    <a:pt x="1120" y="566"/>
                  </a:lnTo>
                  <a:lnTo>
                    <a:pt x="1162" y="583"/>
                  </a:lnTo>
                  <a:lnTo>
                    <a:pt x="1166" y="590"/>
                  </a:lnTo>
                  <a:lnTo>
                    <a:pt x="1174" y="591"/>
                  </a:lnTo>
                  <a:lnTo>
                    <a:pt x="1181" y="591"/>
                  </a:lnTo>
                  <a:lnTo>
                    <a:pt x="1189" y="594"/>
                  </a:lnTo>
                  <a:lnTo>
                    <a:pt x="1217" y="607"/>
                  </a:lnTo>
                  <a:lnTo>
                    <a:pt x="1247" y="621"/>
                  </a:lnTo>
                  <a:lnTo>
                    <a:pt x="1277" y="632"/>
                  </a:lnTo>
                  <a:lnTo>
                    <a:pt x="1308" y="643"/>
                  </a:lnTo>
                  <a:lnTo>
                    <a:pt x="1338" y="653"/>
                  </a:lnTo>
                  <a:lnTo>
                    <a:pt x="1370" y="664"/>
                  </a:lnTo>
                  <a:lnTo>
                    <a:pt x="1400" y="674"/>
                  </a:lnTo>
                  <a:lnTo>
                    <a:pt x="1431" y="686"/>
                  </a:lnTo>
                  <a:lnTo>
                    <a:pt x="1433" y="696"/>
                  </a:lnTo>
                  <a:lnTo>
                    <a:pt x="1438" y="704"/>
                  </a:lnTo>
                  <a:lnTo>
                    <a:pt x="1446" y="707"/>
                  </a:lnTo>
                  <a:lnTo>
                    <a:pt x="1456" y="711"/>
                  </a:lnTo>
                  <a:lnTo>
                    <a:pt x="1465" y="712"/>
                  </a:lnTo>
                  <a:lnTo>
                    <a:pt x="1475" y="713"/>
                  </a:lnTo>
                  <a:lnTo>
                    <a:pt x="1484" y="715"/>
                  </a:lnTo>
                  <a:lnTo>
                    <a:pt x="1493" y="720"/>
                  </a:lnTo>
                  <a:lnTo>
                    <a:pt x="1508" y="725"/>
                  </a:lnTo>
                  <a:lnTo>
                    <a:pt x="1523" y="732"/>
                  </a:lnTo>
                  <a:lnTo>
                    <a:pt x="1539" y="738"/>
                  </a:lnTo>
                  <a:lnTo>
                    <a:pt x="1554" y="746"/>
                  </a:lnTo>
                  <a:lnTo>
                    <a:pt x="1568" y="753"/>
                  </a:lnTo>
                  <a:lnTo>
                    <a:pt x="1583" y="761"/>
                  </a:lnTo>
                  <a:lnTo>
                    <a:pt x="1597" y="768"/>
                  </a:lnTo>
                  <a:lnTo>
                    <a:pt x="1613" y="776"/>
                  </a:lnTo>
                  <a:lnTo>
                    <a:pt x="1616" y="781"/>
                  </a:lnTo>
                  <a:lnTo>
                    <a:pt x="1617" y="789"/>
                  </a:lnTo>
                  <a:lnTo>
                    <a:pt x="1617" y="796"/>
                  </a:lnTo>
                  <a:lnTo>
                    <a:pt x="1617" y="805"/>
                  </a:lnTo>
                  <a:lnTo>
                    <a:pt x="1617" y="810"/>
                  </a:lnTo>
                  <a:lnTo>
                    <a:pt x="1620" y="816"/>
                  </a:lnTo>
                  <a:lnTo>
                    <a:pt x="1627" y="817"/>
                  </a:lnTo>
                  <a:lnTo>
                    <a:pt x="1640" y="816"/>
                  </a:lnTo>
                  <a:lnTo>
                    <a:pt x="1642" y="819"/>
                  </a:lnTo>
                  <a:lnTo>
                    <a:pt x="1641" y="824"/>
                  </a:lnTo>
                  <a:lnTo>
                    <a:pt x="1638" y="829"/>
                  </a:lnTo>
                  <a:lnTo>
                    <a:pt x="1638" y="836"/>
                  </a:lnTo>
                  <a:lnTo>
                    <a:pt x="1640" y="849"/>
                  </a:lnTo>
                  <a:lnTo>
                    <a:pt x="1640" y="863"/>
                  </a:lnTo>
                  <a:lnTo>
                    <a:pt x="1636" y="876"/>
                  </a:lnTo>
                  <a:lnTo>
                    <a:pt x="1634" y="890"/>
                  </a:lnTo>
                  <a:lnTo>
                    <a:pt x="1630" y="903"/>
                  </a:lnTo>
                  <a:lnTo>
                    <a:pt x="1628" y="917"/>
                  </a:lnTo>
                  <a:lnTo>
                    <a:pt x="1628" y="930"/>
                  </a:lnTo>
                  <a:lnTo>
                    <a:pt x="1631" y="946"/>
                  </a:lnTo>
                  <a:lnTo>
                    <a:pt x="1627" y="956"/>
                  </a:lnTo>
                  <a:lnTo>
                    <a:pt x="1626" y="969"/>
                  </a:lnTo>
                  <a:lnTo>
                    <a:pt x="1625" y="982"/>
                  </a:lnTo>
                  <a:lnTo>
                    <a:pt x="1624" y="995"/>
                  </a:lnTo>
                  <a:lnTo>
                    <a:pt x="1621" y="1007"/>
                  </a:lnTo>
                  <a:lnTo>
                    <a:pt x="1620" y="1020"/>
                  </a:lnTo>
                  <a:lnTo>
                    <a:pt x="1616" y="1032"/>
                  </a:lnTo>
                  <a:lnTo>
                    <a:pt x="1613" y="1045"/>
                  </a:lnTo>
                  <a:lnTo>
                    <a:pt x="1614" y="1054"/>
                  </a:lnTo>
                  <a:lnTo>
                    <a:pt x="1619" y="1065"/>
                  </a:lnTo>
                  <a:lnTo>
                    <a:pt x="1627" y="1074"/>
                  </a:lnTo>
                  <a:lnTo>
                    <a:pt x="1635" y="1083"/>
                  </a:lnTo>
                  <a:lnTo>
                    <a:pt x="1642" y="1092"/>
                  </a:lnTo>
                  <a:lnTo>
                    <a:pt x="1646" y="1102"/>
                  </a:lnTo>
                  <a:lnTo>
                    <a:pt x="1645" y="1111"/>
                  </a:lnTo>
                  <a:lnTo>
                    <a:pt x="1638" y="1125"/>
                  </a:lnTo>
                  <a:lnTo>
                    <a:pt x="1629" y="1132"/>
                  </a:lnTo>
                  <a:lnTo>
                    <a:pt x="1621" y="1135"/>
                  </a:lnTo>
                  <a:lnTo>
                    <a:pt x="1612" y="1133"/>
                  </a:lnTo>
                  <a:lnTo>
                    <a:pt x="1603" y="1132"/>
                  </a:lnTo>
                  <a:lnTo>
                    <a:pt x="1593" y="1130"/>
                  </a:lnTo>
                  <a:lnTo>
                    <a:pt x="1586" y="1132"/>
                  </a:lnTo>
                  <a:lnTo>
                    <a:pt x="1581" y="1137"/>
                  </a:lnTo>
                  <a:lnTo>
                    <a:pt x="1579" y="1150"/>
                  </a:lnTo>
                  <a:lnTo>
                    <a:pt x="1569" y="1155"/>
                  </a:lnTo>
                  <a:lnTo>
                    <a:pt x="1559" y="1159"/>
                  </a:lnTo>
                  <a:lnTo>
                    <a:pt x="1549" y="1159"/>
                  </a:lnTo>
                  <a:lnTo>
                    <a:pt x="1540" y="1159"/>
                  </a:lnTo>
                  <a:lnTo>
                    <a:pt x="1528" y="1157"/>
                  </a:lnTo>
                  <a:lnTo>
                    <a:pt x="1518" y="1157"/>
                  </a:lnTo>
                  <a:lnTo>
                    <a:pt x="1506" y="1155"/>
                  </a:lnTo>
                  <a:lnTo>
                    <a:pt x="1497" y="1159"/>
                  </a:lnTo>
                  <a:lnTo>
                    <a:pt x="1473" y="1147"/>
                  </a:lnTo>
                  <a:lnTo>
                    <a:pt x="1450" y="1136"/>
                  </a:lnTo>
                  <a:lnTo>
                    <a:pt x="1428" y="1124"/>
                  </a:lnTo>
                  <a:lnTo>
                    <a:pt x="1406" y="1112"/>
                  </a:lnTo>
                  <a:lnTo>
                    <a:pt x="1383" y="1101"/>
                  </a:lnTo>
                  <a:lnTo>
                    <a:pt x="1360" y="1091"/>
                  </a:lnTo>
                  <a:lnTo>
                    <a:pt x="1336" y="1081"/>
                  </a:lnTo>
                  <a:lnTo>
                    <a:pt x="1313" y="1076"/>
                  </a:lnTo>
                  <a:lnTo>
                    <a:pt x="1253" y="1050"/>
                  </a:lnTo>
                  <a:lnTo>
                    <a:pt x="1197" y="1022"/>
                  </a:lnTo>
                  <a:lnTo>
                    <a:pt x="1140" y="992"/>
                  </a:lnTo>
                  <a:lnTo>
                    <a:pt x="1086" y="962"/>
                  </a:lnTo>
                  <a:lnTo>
                    <a:pt x="1030" y="930"/>
                  </a:lnTo>
                  <a:lnTo>
                    <a:pt x="974" y="900"/>
                  </a:lnTo>
                  <a:lnTo>
                    <a:pt x="915" y="873"/>
                  </a:lnTo>
                  <a:lnTo>
                    <a:pt x="858" y="848"/>
                  </a:lnTo>
                  <a:lnTo>
                    <a:pt x="801" y="820"/>
                  </a:lnTo>
                  <a:lnTo>
                    <a:pt x="747" y="792"/>
                  </a:lnTo>
                  <a:lnTo>
                    <a:pt x="692" y="761"/>
                  </a:lnTo>
                  <a:lnTo>
                    <a:pt x="638" y="731"/>
                  </a:lnTo>
                  <a:lnTo>
                    <a:pt x="583" y="700"/>
                  </a:lnTo>
                  <a:lnTo>
                    <a:pt x="528" y="672"/>
                  </a:lnTo>
                  <a:lnTo>
                    <a:pt x="471" y="648"/>
                  </a:lnTo>
                  <a:lnTo>
                    <a:pt x="413" y="627"/>
                  </a:lnTo>
                  <a:lnTo>
                    <a:pt x="370" y="604"/>
                  </a:lnTo>
                  <a:lnTo>
                    <a:pt x="327" y="581"/>
                  </a:lnTo>
                  <a:lnTo>
                    <a:pt x="284" y="559"/>
                  </a:lnTo>
                  <a:lnTo>
                    <a:pt x="241" y="538"/>
                  </a:lnTo>
                  <a:lnTo>
                    <a:pt x="198" y="516"/>
                  </a:lnTo>
                  <a:lnTo>
                    <a:pt x="155" y="495"/>
                  </a:lnTo>
                  <a:lnTo>
                    <a:pt x="112" y="473"/>
                  </a:lnTo>
                  <a:lnTo>
                    <a:pt x="70" y="453"/>
                  </a:lnTo>
                  <a:lnTo>
                    <a:pt x="59" y="452"/>
                  </a:lnTo>
                  <a:lnTo>
                    <a:pt x="50" y="451"/>
                  </a:lnTo>
                  <a:lnTo>
                    <a:pt x="42" y="448"/>
                  </a:lnTo>
                  <a:lnTo>
                    <a:pt x="34" y="444"/>
                  </a:lnTo>
                  <a:lnTo>
                    <a:pt x="27" y="439"/>
                  </a:lnTo>
                  <a:lnTo>
                    <a:pt x="19" y="435"/>
                  </a:lnTo>
                  <a:lnTo>
                    <a:pt x="13" y="429"/>
                  </a:lnTo>
                  <a:lnTo>
                    <a:pt x="6" y="424"/>
                  </a:lnTo>
                  <a:lnTo>
                    <a:pt x="10" y="421"/>
                  </a:lnTo>
                  <a:lnTo>
                    <a:pt x="16" y="417"/>
                  </a:lnTo>
                  <a:lnTo>
                    <a:pt x="20" y="412"/>
                  </a:lnTo>
                  <a:lnTo>
                    <a:pt x="27" y="408"/>
                  </a:lnTo>
                  <a:lnTo>
                    <a:pt x="24" y="399"/>
                  </a:lnTo>
                  <a:lnTo>
                    <a:pt x="30" y="393"/>
                  </a:lnTo>
                  <a:lnTo>
                    <a:pt x="36" y="387"/>
                  </a:lnTo>
                  <a:lnTo>
                    <a:pt x="41" y="381"/>
                  </a:lnTo>
                  <a:lnTo>
                    <a:pt x="36" y="368"/>
                  </a:lnTo>
                  <a:lnTo>
                    <a:pt x="34" y="356"/>
                  </a:lnTo>
                  <a:lnTo>
                    <a:pt x="32" y="343"/>
                  </a:lnTo>
                  <a:lnTo>
                    <a:pt x="31" y="331"/>
                  </a:lnTo>
                  <a:lnTo>
                    <a:pt x="29" y="318"/>
                  </a:lnTo>
                  <a:lnTo>
                    <a:pt x="28" y="306"/>
                  </a:lnTo>
                  <a:lnTo>
                    <a:pt x="24" y="294"/>
                  </a:lnTo>
                  <a:lnTo>
                    <a:pt x="22" y="282"/>
                  </a:lnTo>
                  <a:lnTo>
                    <a:pt x="22" y="273"/>
                  </a:lnTo>
                  <a:lnTo>
                    <a:pt x="26" y="266"/>
                  </a:lnTo>
                  <a:lnTo>
                    <a:pt x="28" y="257"/>
                  </a:lnTo>
                  <a:lnTo>
                    <a:pt x="30" y="250"/>
                  </a:lnTo>
                  <a:lnTo>
                    <a:pt x="31" y="241"/>
                  </a:lnTo>
                  <a:lnTo>
                    <a:pt x="31" y="235"/>
                  </a:lnTo>
                  <a:lnTo>
                    <a:pt x="28" y="227"/>
                  </a:lnTo>
                  <a:lnTo>
                    <a:pt x="22" y="222"/>
                  </a:lnTo>
                  <a:lnTo>
                    <a:pt x="19" y="223"/>
                  </a:lnTo>
                  <a:lnTo>
                    <a:pt x="16" y="226"/>
                  </a:lnTo>
                  <a:lnTo>
                    <a:pt x="19" y="230"/>
                  </a:lnTo>
                  <a:lnTo>
                    <a:pt x="21" y="238"/>
                  </a:lnTo>
                  <a:lnTo>
                    <a:pt x="20" y="244"/>
                  </a:lnTo>
                  <a:lnTo>
                    <a:pt x="20" y="253"/>
                  </a:lnTo>
                  <a:lnTo>
                    <a:pt x="16" y="237"/>
                  </a:lnTo>
                  <a:lnTo>
                    <a:pt x="16" y="222"/>
                  </a:lnTo>
                  <a:lnTo>
                    <a:pt x="17" y="206"/>
                  </a:lnTo>
                  <a:lnTo>
                    <a:pt x="20" y="190"/>
                  </a:lnTo>
                  <a:lnTo>
                    <a:pt x="21" y="174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0" y="128"/>
                  </a:lnTo>
                  <a:lnTo>
                    <a:pt x="12" y="129"/>
                  </a:lnTo>
                  <a:lnTo>
                    <a:pt x="10" y="135"/>
                  </a:lnTo>
                  <a:lnTo>
                    <a:pt x="8" y="150"/>
                  </a:lnTo>
                  <a:lnTo>
                    <a:pt x="7" y="129"/>
                  </a:lnTo>
                  <a:lnTo>
                    <a:pt x="7" y="110"/>
                  </a:lnTo>
                  <a:lnTo>
                    <a:pt x="5" y="90"/>
                  </a:lnTo>
                  <a:lnTo>
                    <a:pt x="3" y="72"/>
                  </a:lnTo>
                  <a:lnTo>
                    <a:pt x="1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4" y="8"/>
                  </a:lnTo>
                  <a:lnTo>
                    <a:pt x="29" y="15"/>
                  </a:lnTo>
                  <a:lnTo>
                    <a:pt x="43" y="23"/>
                  </a:lnTo>
                  <a:lnTo>
                    <a:pt x="58" y="32"/>
                  </a:lnTo>
                  <a:lnTo>
                    <a:pt x="70" y="41"/>
                  </a:lnTo>
                  <a:lnTo>
                    <a:pt x="79" y="53"/>
                  </a:lnTo>
                  <a:lnTo>
                    <a:pt x="86" y="66"/>
                  </a:lnTo>
                  <a:lnTo>
                    <a:pt x="89" y="8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7840" y="3135240"/>
              <a:ext cx="117360" cy="6840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147" y="87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34" y="21"/>
                  </a:lnTo>
                  <a:lnTo>
                    <a:pt x="53" y="31"/>
                  </a:lnTo>
                  <a:lnTo>
                    <a:pt x="73" y="41"/>
                  </a:lnTo>
                  <a:lnTo>
                    <a:pt x="91" y="51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1440" y="3160800"/>
              <a:ext cx="90720" cy="2844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114" y="1"/>
                  </a:moveTo>
                  <a:lnTo>
                    <a:pt x="105" y="4"/>
                  </a:lnTo>
                  <a:lnTo>
                    <a:pt x="96" y="9"/>
                  </a:lnTo>
                  <a:lnTo>
                    <a:pt x="87" y="16"/>
                  </a:lnTo>
                  <a:lnTo>
                    <a:pt x="80" y="22"/>
                  </a:lnTo>
                  <a:lnTo>
                    <a:pt x="71" y="27"/>
                  </a:lnTo>
                  <a:lnTo>
                    <a:pt x="63" y="31"/>
                  </a:lnTo>
                  <a:lnTo>
                    <a:pt x="53" y="31"/>
                  </a:lnTo>
                  <a:lnTo>
                    <a:pt x="44" y="30"/>
                  </a:lnTo>
                  <a:lnTo>
                    <a:pt x="34" y="32"/>
                  </a:lnTo>
                  <a:lnTo>
                    <a:pt x="23" y="35"/>
                  </a:lnTo>
                  <a:lnTo>
                    <a:pt x="11" y="36"/>
                  </a:lnTo>
                  <a:lnTo>
                    <a:pt x="0" y="34"/>
                  </a:lnTo>
                  <a:lnTo>
                    <a:pt x="10" y="26"/>
                  </a:lnTo>
                  <a:lnTo>
                    <a:pt x="22" y="19"/>
                  </a:lnTo>
                  <a:lnTo>
                    <a:pt x="32" y="13"/>
                  </a:lnTo>
                  <a:lnTo>
                    <a:pt x="45" y="8"/>
                  </a:lnTo>
                  <a:lnTo>
                    <a:pt x="57" y="4"/>
                  </a:lnTo>
                  <a:lnTo>
                    <a:pt x="69" y="1"/>
                  </a:lnTo>
                  <a:lnTo>
                    <a:pt x="82" y="0"/>
                  </a:lnTo>
                  <a:lnTo>
                    <a:pt x="96" y="1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03920" y="321480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5"/>
                  </a:moveTo>
                  <a:lnTo>
                    <a:pt x="57" y="12"/>
                  </a:lnTo>
                  <a:lnTo>
                    <a:pt x="51" y="18"/>
                  </a:lnTo>
                  <a:lnTo>
                    <a:pt x="42" y="21"/>
                  </a:lnTo>
                  <a:lnTo>
                    <a:pt x="34" y="24"/>
                  </a:lnTo>
                  <a:lnTo>
                    <a:pt x="25" y="24"/>
                  </a:lnTo>
                  <a:lnTo>
                    <a:pt x="15" y="24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4" y="2"/>
                  </a:lnTo>
                  <a:lnTo>
                    <a:pt x="54" y="3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8160" y="3257640"/>
              <a:ext cx="19080" cy="8712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25" y="94"/>
                  </a:moveTo>
                  <a:lnTo>
                    <a:pt x="16" y="110"/>
                  </a:lnTo>
                  <a:lnTo>
                    <a:pt x="12" y="97"/>
                  </a:lnTo>
                  <a:lnTo>
                    <a:pt x="10" y="84"/>
                  </a:lnTo>
                  <a:lnTo>
                    <a:pt x="8" y="70"/>
                  </a:lnTo>
                  <a:lnTo>
                    <a:pt x="7" y="57"/>
                  </a:lnTo>
                  <a:lnTo>
                    <a:pt x="4" y="42"/>
                  </a:lnTo>
                  <a:lnTo>
                    <a:pt x="3" y="28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" y="10"/>
                  </a:lnTo>
                  <a:lnTo>
                    <a:pt x="6" y="22"/>
                  </a:lnTo>
                  <a:lnTo>
                    <a:pt x="9" y="34"/>
                  </a:lnTo>
                  <a:lnTo>
                    <a:pt x="12" y="46"/>
                  </a:lnTo>
                  <a:lnTo>
                    <a:pt x="15" y="57"/>
                  </a:lnTo>
                  <a:lnTo>
                    <a:pt x="18" y="69"/>
                  </a:lnTo>
                  <a:lnTo>
                    <a:pt x="22" y="81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78440" y="3260880"/>
              <a:ext cx="63720" cy="3636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24" y="45"/>
                  </a:moveTo>
                  <a:lnTo>
                    <a:pt x="18" y="41"/>
                  </a:lnTo>
                  <a:lnTo>
                    <a:pt x="12" y="43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78" y="0"/>
                  </a:lnTo>
                  <a:lnTo>
                    <a:pt x="72" y="5"/>
                  </a:lnTo>
                  <a:lnTo>
                    <a:pt x="65" y="12"/>
                  </a:lnTo>
                  <a:lnTo>
                    <a:pt x="59" y="18"/>
                  </a:lnTo>
                  <a:lnTo>
                    <a:pt x="52" y="26"/>
                  </a:lnTo>
                  <a:lnTo>
                    <a:pt x="45" y="31"/>
                  </a:lnTo>
                  <a:lnTo>
                    <a:pt x="38" y="36"/>
                  </a:lnTo>
                  <a:lnTo>
                    <a:pt x="31" y="41"/>
                  </a:lnTo>
                  <a:lnTo>
                    <a:pt x="2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5240" y="327024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0"/>
                  </a:moveTo>
                  <a:lnTo>
                    <a:pt x="34" y="9"/>
                  </a:lnTo>
                  <a:lnTo>
                    <a:pt x="23" y="18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5" y="27"/>
                  </a:lnTo>
                  <a:lnTo>
                    <a:pt x="0" y="30"/>
                  </a:lnTo>
                  <a:lnTo>
                    <a:pt x="6" y="19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2920" y="33274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0"/>
                  </a:moveTo>
                  <a:lnTo>
                    <a:pt x="53" y="7"/>
                  </a:lnTo>
                  <a:lnTo>
                    <a:pt x="50" y="16"/>
                  </a:lnTo>
                  <a:lnTo>
                    <a:pt x="46" y="23"/>
                  </a:lnTo>
                  <a:lnTo>
                    <a:pt x="43" y="31"/>
                  </a:lnTo>
                  <a:lnTo>
                    <a:pt x="38" y="36"/>
                  </a:lnTo>
                  <a:lnTo>
                    <a:pt x="31" y="43"/>
                  </a:lnTo>
                  <a:lnTo>
                    <a:pt x="24" y="48"/>
                  </a:lnTo>
                  <a:lnTo>
                    <a:pt x="17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31"/>
                  </a:lnTo>
                  <a:lnTo>
                    <a:pt x="8" y="23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1480" y="3340080"/>
              <a:ext cx="6480" cy="2052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27"/>
                  </a:moveTo>
                  <a:lnTo>
                    <a:pt x="0" y="22"/>
                  </a:lnTo>
                  <a:lnTo>
                    <a:pt x="2" y="17"/>
                  </a:lnTo>
                  <a:lnTo>
                    <a:pt x="3" y="8"/>
                  </a:lnTo>
                  <a:lnTo>
                    <a:pt x="4" y="0"/>
                  </a:lnTo>
                  <a:lnTo>
                    <a:pt x="3" y="6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89720" y="3343320"/>
              <a:ext cx="19080" cy="4608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18"/>
                  </a:moveTo>
                  <a:lnTo>
                    <a:pt x="22" y="24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5" y="42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7" y="5"/>
                  </a:lnTo>
                  <a:lnTo>
                    <a:pt x="21" y="12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2800" y="3370320"/>
              <a:ext cx="4680" cy="252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4" y="34"/>
                  </a:move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6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7" y="2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30800" y="3371760"/>
              <a:ext cx="504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3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5"/>
                  </a:lnTo>
                  <a:lnTo>
                    <a:pt x="8" y="9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5840" y="3403440"/>
              <a:ext cx="88920" cy="590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110" y="13"/>
                  </a:moveTo>
                  <a:lnTo>
                    <a:pt x="106" y="22"/>
                  </a:lnTo>
                  <a:lnTo>
                    <a:pt x="101" y="31"/>
                  </a:lnTo>
                  <a:lnTo>
                    <a:pt x="93" y="37"/>
                  </a:lnTo>
                  <a:lnTo>
                    <a:pt x="86" y="44"/>
                  </a:lnTo>
                  <a:lnTo>
                    <a:pt x="76" y="50"/>
                  </a:lnTo>
                  <a:lnTo>
                    <a:pt x="66" y="55"/>
                  </a:lnTo>
                  <a:lnTo>
                    <a:pt x="58" y="62"/>
                  </a:lnTo>
                  <a:lnTo>
                    <a:pt x="51" y="69"/>
                  </a:lnTo>
                  <a:lnTo>
                    <a:pt x="44" y="70"/>
                  </a:lnTo>
                  <a:lnTo>
                    <a:pt x="37" y="71"/>
                  </a:lnTo>
                  <a:lnTo>
                    <a:pt x="31" y="71"/>
                  </a:lnTo>
                  <a:lnTo>
                    <a:pt x="24" y="72"/>
                  </a:lnTo>
                  <a:lnTo>
                    <a:pt x="18" y="72"/>
                  </a:lnTo>
                  <a:lnTo>
                    <a:pt x="11" y="72"/>
                  </a:lnTo>
                  <a:lnTo>
                    <a:pt x="5" y="72"/>
                  </a:lnTo>
                  <a:lnTo>
                    <a:pt x="0" y="74"/>
                  </a:lnTo>
                  <a:lnTo>
                    <a:pt x="11" y="63"/>
                  </a:lnTo>
                  <a:lnTo>
                    <a:pt x="24" y="51"/>
                  </a:lnTo>
                  <a:lnTo>
                    <a:pt x="35" y="37"/>
                  </a:lnTo>
                  <a:lnTo>
                    <a:pt x="48" y="25"/>
                  </a:lnTo>
                  <a:lnTo>
                    <a:pt x="59" y="13"/>
                  </a:lnTo>
                  <a:lnTo>
                    <a:pt x="73" y="6"/>
                  </a:lnTo>
                  <a:lnTo>
                    <a:pt x="88" y="0"/>
                  </a:lnTo>
                  <a:lnTo>
                    <a:pt x="106" y="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3240" y="3414600"/>
              <a:ext cx="27000" cy="4464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6" y="12"/>
                  </a:moveTo>
                  <a:lnTo>
                    <a:pt x="35" y="18"/>
                  </a:lnTo>
                  <a:lnTo>
                    <a:pt x="34" y="23"/>
                  </a:lnTo>
                  <a:lnTo>
                    <a:pt x="33" y="28"/>
                  </a:lnTo>
                  <a:lnTo>
                    <a:pt x="31" y="35"/>
                  </a:lnTo>
                  <a:lnTo>
                    <a:pt x="28" y="44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0" y="45"/>
                  </a:lnTo>
                  <a:lnTo>
                    <a:pt x="9" y="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8200" y="3419640"/>
              <a:ext cx="17640" cy="190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6"/>
                  </a:moveTo>
                  <a:lnTo>
                    <a:pt x="17" y="18"/>
                  </a:lnTo>
                  <a:lnTo>
                    <a:pt x="12" y="20"/>
                  </a:lnTo>
                  <a:lnTo>
                    <a:pt x="6" y="22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7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3" y="7"/>
                  </a:lnTo>
                  <a:lnTo>
                    <a:pt x="22" y="12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81640" y="3459240"/>
              <a:ext cx="12600" cy="205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3"/>
                  </a:moveTo>
                  <a:lnTo>
                    <a:pt x="18" y="27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4" y="10"/>
                  </a:lnTo>
                  <a:lnTo>
                    <a:pt x="15" y="16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8840" y="3487680"/>
              <a:ext cx="14040" cy="176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0"/>
                  </a:moveTo>
                  <a:lnTo>
                    <a:pt x="18" y="5"/>
                  </a:lnTo>
                  <a:lnTo>
                    <a:pt x="16" y="11"/>
                  </a:lnTo>
                  <a:lnTo>
                    <a:pt x="14" y="15"/>
                  </a:lnTo>
                  <a:lnTo>
                    <a:pt x="12" y="21"/>
                  </a:lnTo>
                  <a:lnTo>
                    <a:pt x="8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5" y="7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6360" y="3495600"/>
              <a:ext cx="71640" cy="399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91" y="2"/>
                  </a:moveTo>
                  <a:lnTo>
                    <a:pt x="79" y="9"/>
                  </a:lnTo>
                  <a:lnTo>
                    <a:pt x="69" y="18"/>
                  </a:lnTo>
                  <a:lnTo>
                    <a:pt x="58" y="26"/>
                  </a:lnTo>
                  <a:lnTo>
                    <a:pt x="49" y="36"/>
                  </a:lnTo>
                  <a:lnTo>
                    <a:pt x="37" y="42"/>
                  </a:lnTo>
                  <a:lnTo>
                    <a:pt x="26" y="47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0" y="38"/>
                  </a:lnTo>
                  <a:lnTo>
                    <a:pt x="21" y="32"/>
                  </a:lnTo>
                  <a:lnTo>
                    <a:pt x="32" y="25"/>
                  </a:lnTo>
                  <a:lnTo>
                    <a:pt x="43" y="21"/>
                  </a:lnTo>
                  <a:lnTo>
                    <a:pt x="54" y="15"/>
                  </a:lnTo>
                  <a:lnTo>
                    <a:pt x="66" y="10"/>
                  </a:lnTo>
                  <a:lnTo>
                    <a:pt x="77" y="5"/>
                  </a:lnTo>
                  <a:lnTo>
                    <a:pt x="89" y="0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34200" y="350532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2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75280" y="3546360"/>
              <a:ext cx="66600" cy="142920"/>
            </a:xfrm>
            <a:custGeom>
              <a:avLst/>
              <a:gdLst/>
              <a:ahLst/>
              <a:rect l="l" t="t" r="r" b="b"/>
              <a:pathLst>
                <a:path w="84" h="181">
                  <a:moveTo>
                    <a:pt x="84" y="181"/>
                  </a:moveTo>
                  <a:lnTo>
                    <a:pt x="64" y="172"/>
                  </a:lnTo>
                  <a:lnTo>
                    <a:pt x="49" y="161"/>
                  </a:lnTo>
                  <a:lnTo>
                    <a:pt x="38" y="146"/>
                  </a:lnTo>
                  <a:lnTo>
                    <a:pt x="29" y="131"/>
                  </a:lnTo>
                  <a:lnTo>
                    <a:pt x="21" y="113"/>
                  </a:lnTo>
                  <a:lnTo>
                    <a:pt x="15" y="95"/>
                  </a:lnTo>
                  <a:lnTo>
                    <a:pt x="9" y="76"/>
                  </a:lnTo>
                  <a:lnTo>
                    <a:pt x="3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6" y="16"/>
                  </a:lnTo>
                  <a:lnTo>
                    <a:pt x="6" y="8"/>
                  </a:lnTo>
                  <a:lnTo>
                    <a:pt x="7" y="0"/>
                  </a:lnTo>
                  <a:lnTo>
                    <a:pt x="7" y="25"/>
                  </a:lnTo>
                  <a:lnTo>
                    <a:pt x="11" y="50"/>
                  </a:lnTo>
                  <a:lnTo>
                    <a:pt x="17" y="73"/>
                  </a:lnTo>
                  <a:lnTo>
                    <a:pt x="27" y="97"/>
                  </a:lnTo>
                  <a:lnTo>
                    <a:pt x="38" y="118"/>
                  </a:lnTo>
                  <a:lnTo>
                    <a:pt x="52" y="141"/>
                  </a:lnTo>
                  <a:lnTo>
                    <a:pt x="67" y="160"/>
                  </a:lnTo>
                  <a:lnTo>
                    <a:pt x="84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5680" y="3554280"/>
              <a:ext cx="69840" cy="4284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28"/>
                  </a:moveTo>
                  <a:lnTo>
                    <a:pt x="82" y="36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51" y="55"/>
                  </a:lnTo>
                  <a:lnTo>
                    <a:pt x="44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12" y="55"/>
                  </a:lnTo>
                  <a:lnTo>
                    <a:pt x="5" y="55"/>
                  </a:lnTo>
                  <a:lnTo>
                    <a:pt x="0" y="55"/>
                  </a:lnTo>
                  <a:lnTo>
                    <a:pt x="71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5" y="22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20000" y="3583080"/>
              <a:ext cx="61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"/>
                  </a:moveTo>
                  <a:lnTo>
                    <a:pt x="8" y="8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" y="3"/>
                  </a:lnTo>
                  <a:lnTo>
                    <a:pt x="3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97520" y="3619440"/>
              <a:ext cx="160560" cy="81000"/>
            </a:xfrm>
            <a:custGeom>
              <a:avLst/>
              <a:gdLst/>
              <a:ahLst/>
              <a:rect l="l" t="t" r="r" b="b"/>
              <a:pathLst>
                <a:path w="203" h="102">
                  <a:moveTo>
                    <a:pt x="203" y="5"/>
                  </a:moveTo>
                  <a:lnTo>
                    <a:pt x="177" y="19"/>
                  </a:lnTo>
                  <a:lnTo>
                    <a:pt x="153" y="35"/>
                  </a:lnTo>
                  <a:lnTo>
                    <a:pt x="129" y="50"/>
                  </a:lnTo>
                  <a:lnTo>
                    <a:pt x="106" y="66"/>
                  </a:lnTo>
                  <a:lnTo>
                    <a:pt x="80" y="79"/>
                  </a:lnTo>
                  <a:lnTo>
                    <a:pt x="55" y="91"/>
                  </a:lnTo>
                  <a:lnTo>
                    <a:pt x="28" y="99"/>
                  </a:lnTo>
                  <a:lnTo>
                    <a:pt x="0" y="102"/>
                  </a:lnTo>
                  <a:lnTo>
                    <a:pt x="23" y="82"/>
                  </a:lnTo>
                  <a:lnTo>
                    <a:pt x="45" y="63"/>
                  </a:lnTo>
                  <a:lnTo>
                    <a:pt x="67" y="44"/>
                  </a:lnTo>
                  <a:lnTo>
                    <a:pt x="91" y="26"/>
                  </a:lnTo>
                  <a:lnTo>
                    <a:pt x="114" y="11"/>
                  </a:lnTo>
                  <a:lnTo>
                    <a:pt x="141" y="3"/>
                  </a:lnTo>
                  <a:lnTo>
                    <a:pt x="170" y="0"/>
                  </a:lnTo>
                  <a:lnTo>
                    <a:pt x="20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2240" y="3635280"/>
              <a:ext cx="122400" cy="10800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137" y="76"/>
                  </a:moveTo>
                  <a:lnTo>
                    <a:pt x="143" y="75"/>
                  </a:lnTo>
                  <a:lnTo>
                    <a:pt x="151" y="73"/>
                  </a:lnTo>
                  <a:lnTo>
                    <a:pt x="152" y="80"/>
                  </a:lnTo>
                  <a:lnTo>
                    <a:pt x="153" y="89"/>
                  </a:lnTo>
                  <a:lnTo>
                    <a:pt x="139" y="84"/>
                  </a:lnTo>
                  <a:lnTo>
                    <a:pt x="125" y="84"/>
                  </a:lnTo>
                  <a:lnTo>
                    <a:pt x="112" y="86"/>
                  </a:lnTo>
                  <a:lnTo>
                    <a:pt x="99" y="91"/>
                  </a:lnTo>
                  <a:lnTo>
                    <a:pt x="85" y="97"/>
                  </a:lnTo>
                  <a:lnTo>
                    <a:pt x="72" y="102"/>
                  </a:lnTo>
                  <a:lnTo>
                    <a:pt x="58" y="106"/>
                  </a:lnTo>
                  <a:lnTo>
                    <a:pt x="46" y="110"/>
                  </a:lnTo>
                  <a:lnTo>
                    <a:pt x="36" y="116"/>
                  </a:lnTo>
                  <a:lnTo>
                    <a:pt x="29" y="124"/>
                  </a:lnTo>
                  <a:lnTo>
                    <a:pt x="21" y="130"/>
                  </a:lnTo>
                  <a:lnTo>
                    <a:pt x="13" y="137"/>
                  </a:lnTo>
                  <a:lnTo>
                    <a:pt x="0" y="126"/>
                  </a:lnTo>
                  <a:lnTo>
                    <a:pt x="9" y="121"/>
                  </a:lnTo>
                  <a:lnTo>
                    <a:pt x="18" y="116"/>
                  </a:lnTo>
                  <a:lnTo>
                    <a:pt x="25" y="110"/>
                  </a:lnTo>
                  <a:lnTo>
                    <a:pt x="33" y="103"/>
                  </a:lnTo>
                  <a:lnTo>
                    <a:pt x="39" y="97"/>
                  </a:lnTo>
                  <a:lnTo>
                    <a:pt x="48" y="90"/>
                  </a:lnTo>
                  <a:lnTo>
                    <a:pt x="55" y="86"/>
                  </a:lnTo>
                  <a:lnTo>
                    <a:pt x="66" y="85"/>
                  </a:lnTo>
                  <a:lnTo>
                    <a:pt x="74" y="77"/>
                  </a:lnTo>
                  <a:lnTo>
                    <a:pt x="80" y="70"/>
                  </a:lnTo>
                  <a:lnTo>
                    <a:pt x="83" y="60"/>
                  </a:lnTo>
                  <a:lnTo>
                    <a:pt x="88" y="52"/>
                  </a:lnTo>
                  <a:lnTo>
                    <a:pt x="91" y="42"/>
                  </a:lnTo>
                  <a:lnTo>
                    <a:pt x="95" y="33"/>
                  </a:lnTo>
                  <a:lnTo>
                    <a:pt x="102" y="25"/>
                  </a:lnTo>
                  <a:lnTo>
                    <a:pt x="112" y="19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117" y="19"/>
                  </a:lnTo>
                  <a:lnTo>
                    <a:pt x="117" y="31"/>
                  </a:lnTo>
                  <a:lnTo>
                    <a:pt x="117" y="43"/>
                  </a:lnTo>
                  <a:lnTo>
                    <a:pt x="117" y="53"/>
                  </a:lnTo>
                  <a:lnTo>
                    <a:pt x="121" y="62"/>
                  </a:lnTo>
                  <a:lnTo>
                    <a:pt x="126" y="70"/>
                  </a:lnTo>
                  <a:lnTo>
                    <a:pt x="13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720" y="3714840"/>
              <a:ext cx="16200" cy="126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"/>
                  </a:moveTo>
                  <a:lnTo>
                    <a:pt x="16" y="6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3360" y="372420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6">
                  <a:moveTo>
                    <a:pt x="208" y="0"/>
                  </a:moveTo>
                  <a:lnTo>
                    <a:pt x="194" y="14"/>
                  </a:lnTo>
                  <a:lnTo>
                    <a:pt x="180" y="28"/>
                  </a:lnTo>
                  <a:lnTo>
                    <a:pt x="165" y="41"/>
                  </a:lnTo>
                  <a:lnTo>
                    <a:pt x="149" y="54"/>
                  </a:lnTo>
                  <a:lnTo>
                    <a:pt x="131" y="64"/>
                  </a:lnTo>
                  <a:lnTo>
                    <a:pt x="115" y="76"/>
                  </a:lnTo>
                  <a:lnTo>
                    <a:pt x="97" y="86"/>
                  </a:lnTo>
                  <a:lnTo>
                    <a:pt x="81" y="97"/>
                  </a:lnTo>
                  <a:lnTo>
                    <a:pt x="69" y="98"/>
                  </a:lnTo>
                  <a:lnTo>
                    <a:pt x="58" y="102"/>
                  </a:lnTo>
                  <a:lnTo>
                    <a:pt x="46" y="107"/>
                  </a:lnTo>
                  <a:lnTo>
                    <a:pt x="35" y="114"/>
                  </a:lnTo>
                  <a:lnTo>
                    <a:pt x="24" y="116"/>
                  </a:lnTo>
                  <a:lnTo>
                    <a:pt x="14" y="115"/>
                  </a:lnTo>
                  <a:lnTo>
                    <a:pt x="5" y="108"/>
                  </a:lnTo>
                  <a:lnTo>
                    <a:pt x="0" y="97"/>
                  </a:lnTo>
                  <a:lnTo>
                    <a:pt x="19" y="86"/>
                  </a:lnTo>
                  <a:lnTo>
                    <a:pt x="40" y="76"/>
                  </a:lnTo>
                  <a:lnTo>
                    <a:pt x="59" y="64"/>
                  </a:lnTo>
                  <a:lnTo>
                    <a:pt x="78" y="54"/>
                  </a:lnTo>
                  <a:lnTo>
                    <a:pt x="98" y="42"/>
                  </a:lnTo>
                  <a:lnTo>
                    <a:pt x="117" y="33"/>
                  </a:lnTo>
                  <a:lnTo>
                    <a:pt x="137" y="25"/>
                  </a:lnTo>
                  <a:lnTo>
                    <a:pt x="159" y="20"/>
                  </a:lnTo>
                  <a:lnTo>
                    <a:pt x="165" y="17"/>
                  </a:lnTo>
                  <a:lnTo>
                    <a:pt x="171" y="15"/>
                  </a:lnTo>
                  <a:lnTo>
                    <a:pt x="176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5" y="5"/>
                  </a:lnTo>
                  <a:lnTo>
                    <a:pt x="20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58080" y="3735360"/>
              <a:ext cx="68040" cy="4464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87" y="0"/>
                  </a:moveTo>
                  <a:lnTo>
                    <a:pt x="76" y="6"/>
                  </a:lnTo>
                  <a:lnTo>
                    <a:pt x="66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3" y="34"/>
                  </a:lnTo>
                  <a:lnTo>
                    <a:pt x="21" y="42"/>
                  </a:lnTo>
                  <a:lnTo>
                    <a:pt x="9" y="48"/>
                  </a:lnTo>
                  <a:lnTo>
                    <a:pt x="0" y="56"/>
                  </a:lnTo>
                  <a:lnTo>
                    <a:pt x="8" y="47"/>
                  </a:lnTo>
                  <a:lnTo>
                    <a:pt x="17" y="41"/>
                  </a:lnTo>
                  <a:lnTo>
                    <a:pt x="27" y="33"/>
                  </a:lnTo>
                  <a:lnTo>
                    <a:pt x="36" y="27"/>
                  </a:lnTo>
                  <a:lnTo>
                    <a:pt x="46" y="19"/>
                  </a:lnTo>
                  <a:lnTo>
                    <a:pt x="57" y="13"/>
                  </a:lnTo>
                  <a:lnTo>
                    <a:pt x="66" y="6"/>
                  </a:lnTo>
                  <a:lnTo>
                    <a:pt x="7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8200" y="3755880"/>
              <a:ext cx="692280" cy="336600"/>
            </a:xfrm>
            <a:custGeom>
              <a:avLst/>
              <a:gdLst/>
              <a:ahLst/>
              <a:rect l="l" t="t" r="r" b="b"/>
              <a:pathLst>
                <a:path w="872" h="423">
                  <a:moveTo>
                    <a:pt x="872" y="14"/>
                  </a:moveTo>
                  <a:lnTo>
                    <a:pt x="871" y="19"/>
                  </a:lnTo>
                  <a:lnTo>
                    <a:pt x="871" y="24"/>
                  </a:lnTo>
                  <a:lnTo>
                    <a:pt x="868" y="30"/>
                  </a:lnTo>
                  <a:lnTo>
                    <a:pt x="867" y="36"/>
                  </a:lnTo>
                  <a:lnTo>
                    <a:pt x="860" y="46"/>
                  </a:lnTo>
                  <a:lnTo>
                    <a:pt x="853" y="53"/>
                  </a:lnTo>
                  <a:lnTo>
                    <a:pt x="847" y="50"/>
                  </a:lnTo>
                  <a:lnTo>
                    <a:pt x="840" y="47"/>
                  </a:lnTo>
                  <a:lnTo>
                    <a:pt x="833" y="44"/>
                  </a:lnTo>
                  <a:lnTo>
                    <a:pt x="825" y="44"/>
                  </a:lnTo>
                  <a:lnTo>
                    <a:pt x="817" y="43"/>
                  </a:lnTo>
                  <a:lnTo>
                    <a:pt x="810" y="44"/>
                  </a:lnTo>
                  <a:lnTo>
                    <a:pt x="802" y="47"/>
                  </a:lnTo>
                  <a:lnTo>
                    <a:pt x="795" y="51"/>
                  </a:lnTo>
                  <a:lnTo>
                    <a:pt x="789" y="51"/>
                  </a:lnTo>
                  <a:lnTo>
                    <a:pt x="783" y="54"/>
                  </a:lnTo>
                  <a:lnTo>
                    <a:pt x="779" y="58"/>
                  </a:lnTo>
                  <a:lnTo>
                    <a:pt x="776" y="63"/>
                  </a:lnTo>
                  <a:lnTo>
                    <a:pt x="768" y="73"/>
                  </a:lnTo>
                  <a:lnTo>
                    <a:pt x="764" y="84"/>
                  </a:lnTo>
                  <a:lnTo>
                    <a:pt x="733" y="100"/>
                  </a:lnTo>
                  <a:lnTo>
                    <a:pt x="702" y="116"/>
                  </a:lnTo>
                  <a:lnTo>
                    <a:pt x="670" y="131"/>
                  </a:lnTo>
                  <a:lnTo>
                    <a:pt x="639" y="147"/>
                  </a:lnTo>
                  <a:lnTo>
                    <a:pt x="607" y="162"/>
                  </a:lnTo>
                  <a:lnTo>
                    <a:pt x="576" y="177"/>
                  </a:lnTo>
                  <a:lnTo>
                    <a:pt x="543" y="193"/>
                  </a:lnTo>
                  <a:lnTo>
                    <a:pt x="512" y="210"/>
                  </a:lnTo>
                  <a:lnTo>
                    <a:pt x="506" y="212"/>
                  </a:lnTo>
                  <a:lnTo>
                    <a:pt x="500" y="214"/>
                  </a:lnTo>
                  <a:lnTo>
                    <a:pt x="494" y="216"/>
                  </a:lnTo>
                  <a:lnTo>
                    <a:pt x="489" y="219"/>
                  </a:lnTo>
                  <a:lnTo>
                    <a:pt x="482" y="221"/>
                  </a:lnTo>
                  <a:lnTo>
                    <a:pt x="477" y="223"/>
                  </a:lnTo>
                  <a:lnTo>
                    <a:pt x="470" y="226"/>
                  </a:lnTo>
                  <a:lnTo>
                    <a:pt x="465" y="229"/>
                  </a:lnTo>
                  <a:lnTo>
                    <a:pt x="101" y="408"/>
                  </a:lnTo>
                  <a:lnTo>
                    <a:pt x="89" y="412"/>
                  </a:lnTo>
                  <a:lnTo>
                    <a:pt x="79" y="416"/>
                  </a:lnTo>
                  <a:lnTo>
                    <a:pt x="67" y="418"/>
                  </a:lnTo>
                  <a:lnTo>
                    <a:pt x="56" y="420"/>
                  </a:lnTo>
                  <a:lnTo>
                    <a:pt x="43" y="421"/>
                  </a:lnTo>
                  <a:lnTo>
                    <a:pt x="31" y="422"/>
                  </a:lnTo>
                  <a:lnTo>
                    <a:pt x="19" y="422"/>
                  </a:lnTo>
                  <a:lnTo>
                    <a:pt x="7" y="423"/>
                  </a:lnTo>
                  <a:lnTo>
                    <a:pt x="3" y="419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1" y="404"/>
                  </a:lnTo>
                  <a:lnTo>
                    <a:pt x="5" y="401"/>
                  </a:lnTo>
                  <a:lnTo>
                    <a:pt x="11" y="401"/>
                  </a:lnTo>
                  <a:lnTo>
                    <a:pt x="16" y="401"/>
                  </a:lnTo>
                  <a:lnTo>
                    <a:pt x="20" y="404"/>
                  </a:lnTo>
                  <a:lnTo>
                    <a:pt x="55" y="390"/>
                  </a:lnTo>
                  <a:lnTo>
                    <a:pt x="89" y="376"/>
                  </a:lnTo>
                  <a:lnTo>
                    <a:pt x="124" y="362"/>
                  </a:lnTo>
                  <a:lnTo>
                    <a:pt x="159" y="348"/>
                  </a:lnTo>
                  <a:lnTo>
                    <a:pt x="193" y="332"/>
                  </a:lnTo>
                  <a:lnTo>
                    <a:pt x="227" y="318"/>
                  </a:lnTo>
                  <a:lnTo>
                    <a:pt x="261" y="304"/>
                  </a:lnTo>
                  <a:lnTo>
                    <a:pt x="297" y="292"/>
                  </a:lnTo>
                  <a:lnTo>
                    <a:pt x="325" y="276"/>
                  </a:lnTo>
                  <a:lnTo>
                    <a:pt x="354" y="261"/>
                  </a:lnTo>
                  <a:lnTo>
                    <a:pt x="383" y="247"/>
                  </a:lnTo>
                  <a:lnTo>
                    <a:pt x="412" y="234"/>
                  </a:lnTo>
                  <a:lnTo>
                    <a:pt x="440" y="219"/>
                  </a:lnTo>
                  <a:lnTo>
                    <a:pt x="468" y="205"/>
                  </a:lnTo>
                  <a:lnTo>
                    <a:pt x="496" y="189"/>
                  </a:lnTo>
                  <a:lnTo>
                    <a:pt x="525" y="173"/>
                  </a:lnTo>
                  <a:lnTo>
                    <a:pt x="532" y="170"/>
                  </a:lnTo>
                  <a:lnTo>
                    <a:pt x="539" y="167"/>
                  </a:lnTo>
                  <a:lnTo>
                    <a:pt x="546" y="164"/>
                  </a:lnTo>
                  <a:lnTo>
                    <a:pt x="553" y="161"/>
                  </a:lnTo>
                  <a:lnTo>
                    <a:pt x="560" y="157"/>
                  </a:lnTo>
                  <a:lnTo>
                    <a:pt x="566" y="153"/>
                  </a:lnTo>
                  <a:lnTo>
                    <a:pt x="572" y="149"/>
                  </a:lnTo>
                  <a:lnTo>
                    <a:pt x="580" y="146"/>
                  </a:lnTo>
                  <a:lnTo>
                    <a:pt x="608" y="132"/>
                  </a:lnTo>
                  <a:lnTo>
                    <a:pt x="637" y="118"/>
                  </a:lnTo>
                  <a:lnTo>
                    <a:pt x="666" y="103"/>
                  </a:lnTo>
                  <a:lnTo>
                    <a:pt x="695" y="88"/>
                  </a:lnTo>
                  <a:lnTo>
                    <a:pt x="723" y="72"/>
                  </a:lnTo>
                  <a:lnTo>
                    <a:pt x="751" y="58"/>
                  </a:lnTo>
                  <a:lnTo>
                    <a:pt x="780" y="45"/>
                  </a:lnTo>
                  <a:lnTo>
                    <a:pt x="810" y="34"/>
                  </a:lnTo>
                  <a:lnTo>
                    <a:pt x="816" y="24"/>
                  </a:lnTo>
                  <a:lnTo>
                    <a:pt x="820" y="15"/>
                  </a:lnTo>
                  <a:lnTo>
                    <a:pt x="821" y="9"/>
                  </a:lnTo>
                  <a:lnTo>
                    <a:pt x="823" y="6"/>
                  </a:lnTo>
                  <a:lnTo>
                    <a:pt x="826" y="2"/>
                  </a:lnTo>
                  <a:lnTo>
                    <a:pt x="833" y="1"/>
                  </a:lnTo>
                  <a:lnTo>
                    <a:pt x="838" y="0"/>
                  </a:lnTo>
                  <a:lnTo>
                    <a:pt x="844" y="0"/>
                  </a:lnTo>
                  <a:lnTo>
                    <a:pt x="849" y="0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4"/>
                  </a:lnTo>
                  <a:lnTo>
                    <a:pt x="868" y="7"/>
                  </a:lnTo>
                  <a:lnTo>
                    <a:pt x="872" y="1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38640" y="3776760"/>
              <a:ext cx="68400" cy="3492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87" y="40"/>
                  </a:moveTo>
                  <a:lnTo>
                    <a:pt x="87" y="43"/>
                  </a:lnTo>
                  <a:lnTo>
                    <a:pt x="74" y="38"/>
                  </a:lnTo>
                  <a:lnTo>
                    <a:pt x="63" y="34"/>
                  </a:lnTo>
                  <a:lnTo>
                    <a:pt x="52" y="29"/>
                  </a:lnTo>
                  <a:lnTo>
                    <a:pt x="42" y="23"/>
                  </a:lnTo>
                  <a:lnTo>
                    <a:pt x="31" y="17"/>
                  </a:lnTo>
                  <a:lnTo>
                    <a:pt x="20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2" y="6"/>
                  </a:lnTo>
                  <a:lnTo>
                    <a:pt x="33" y="11"/>
                  </a:lnTo>
                  <a:lnTo>
                    <a:pt x="44" y="18"/>
                  </a:lnTo>
                  <a:lnTo>
                    <a:pt x="54" y="23"/>
                  </a:lnTo>
                  <a:lnTo>
                    <a:pt x="64" y="30"/>
                  </a:lnTo>
                  <a:lnTo>
                    <a:pt x="74" y="35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2680" y="3819600"/>
              <a:ext cx="108000" cy="6516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137" y="0"/>
                  </a:moveTo>
                  <a:lnTo>
                    <a:pt x="129" y="8"/>
                  </a:lnTo>
                  <a:lnTo>
                    <a:pt x="121" y="15"/>
                  </a:lnTo>
                  <a:lnTo>
                    <a:pt x="111" y="21"/>
                  </a:lnTo>
                  <a:lnTo>
                    <a:pt x="102" y="27"/>
                  </a:lnTo>
                  <a:lnTo>
                    <a:pt x="92" y="31"/>
                  </a:lnTo>
                  <a:lnTo>
                    <a:pt x="81" y="38"/>
                  </a:lnTo>
                  <a:lnTo>
                    <a:pt x="71" y="43"/>
                  </a:lnTo>
                  <a:lnTo>
                    <a:pt x="63" y="50"/>
                  </a:lnTo>
                  <a:lnTo>
                    <a:pt x="54" y="53"/>
                  </a:lnTo>
                  <a:lnTo>
                    <a:pt x="46" y="56"/>
                  </a:lnTo>
                  <a:lnTo>
                    <a:pt x="39" y="59"/>
                  </a:lnTo>
                  <a:lnTo>
                    <a:pt x="31" y="64"/>
                  </a:lnTo>
                  <a:lnTo>
                    <a:pt x="24" y="67"/>
                  </a:lnTo>
                  <a:lnTo>
                    <a:pt x="16" y="71"/>
                  </a:lnTo>
                  <a:lnTo>
                    <a:pt x="10" y="76"/>
                  </a:lnTo>
                  <a:lnTo>
                    <a:pt x="4" y="82"/>
                  </a:lnTo>
                  <a:lnTo>
                    <a:pt x="0" y="80"/>
                  </a:lnTo>
                  <a:lnTo>
                    <a:pt x="16" y="69"/>
                  </a:lnTo>
                  <a:lnTo>
                    <a:pt x="32" y="58"/>
                  </a:lnTo>
                  <a:lnTo>
                    <a:pt x="49" y="47"/>
                  </a:lnTo>
                  <a:lnTo>
                    <a:pt x="66" y="35"/>
                  </a:lnTo>
                  <a:lnTo>
                    <a:pt x="82" y="22"/>
                  </a:lnTo>
                  <a:lnTo>
                    <a:pt x="99" y="12"/>
                  </a:lnTo>
                  <a:lnTo>
                    <a:pt x="117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9840" y="3822840"/>
              <a:ext cx="1260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"/>
                  </a:moveTo>
                  <a:lnTo>
                    <a:pt x="12" y="2"/>
                  </a:lnTo>
                  <a:lnTo>
                    <a:pt x="9" y="8"/>
                  </a:lnTo>
                  <a:lnTo>
                    <a:pt x="5" y="11"/>
                  </a:lnTo>
                  <a:lnTo>
                    <a:pt x="0" y="9"/>
                  </a:lnTo>
                  <a:lnTo>
                    <a:pt x="4" y="7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7200" y="3882960"/>
              <a:ext cx="204840" cy="106560"/>
            </a:xfrm>
            <a:custGeom>
              <a:avLst/>
              <a:gdLst/>
              <a:ahLst/>
              <a:rect l="l" t="t" r="r" b="b"/>
              <a:pathLst>
                <a:path w="258" h="134">
                  <a:moveTo>
                    <a:pt x="258" y="134"/>
                  </a:moveTo>
                  <a:lnTo>
                    <a:pt x="245" y="130"/>
                  </a:lnTo>
                  <a:lnTo>
                    <a:pt x="233" y="128"/>
                  </a:lnTo>
                  <a:lnTo>
                    <a:pt x="219" y="126"/>
                  </a:lnTo>
                  <a:lnTo>
                    <a:pt x="206" y="125"/>
                  </a:lnTo>
                  <a:lnTo>
                    <a:pt x="193" y="120"/>
                  </a:lnTo>
                  <a:lnTo>
                    <a:pt x="185" y="115"/>
                  </a:lnTo>
                  <a:lnTo>
                    <a:pt x="177" y="104"/>
                  </a:lnTo>
                  <a:lnTo>
                    <a:pt x="175" y="91"/>
                  </a:lnTo>
                  <a:lnTo>
                    <a:pt x="153" y="84"/>
                  </a:lnTo>
                  <a:lnTo>
                    <a:pt x="134" y="74"/>
                  </a:lnTo>
                  <a:lnTo>
                    <a:pt x="116" y="62"/>
                  </a:lnTo>
                  <a:lnTo>
                    <a:pt x="99" y="52"/>
                  </a:lnTo>
                  <a:lnTo>
                    <a:pt x="80" y="39"/>
                  </a:lnTo>
                  <a:lnTo>
                    <a:pt x="62" y="28"/>
                  </a:lnTo>
                  <a:lnTo>
                    <a:pt x="42" y="18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35" y="10"/>
                  </a:lnTo>
                  <a:lnTo>
                    <a:pt x="70" y="24"/>
                  </a:lnTo>
                  <a:lnTo>
                    <a:pt x="101" y="40"/>
                  </a:lnTo>
                  <a:lnTo>
                    <a:pt x="133" y="59"/>
                  </a:lnTo>
                  <a:lnTo>
                    <a:pt x="163" y="77"/>
                  </a:lnTo>
                  <a:lnTo>
                    <a:pt x="194" y="98"/>
                  </a:lnTo>
                  <a:lnTo>
                    <a:pt x="226" y="116"/>
                  </a:lnTo>
                  <a:lnTo>
                    <a:pt x="25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7520" y="3956040"/>
              <a:ext cx="7920" cy="64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9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5320" y="3992760"/>
              <a:ext cx="109800" cy="123480"/>
            </a:xfrm>
            <a:custGeom>
              <a:avLst/>
              <a:gdLst/>
              <a:ahLst/>
              <a:rect l="l" t="t" r="r" b="b"/>
              <a:pathLst>
                <a:path w="138" h="155">
                  <a:moveTo>
                    <a:pt x="16" y="0"/>
                  </a:moveTo>
                  <a:lnTo>
                    <a:pt x="16" y="20"/>
                  </a:lnTo>
                  <a:lnTo>
                    <a:pt x="22" y="42"/>
                  </a:lnTo>
                  <a:lnTo>
                    <a:pt x="31" y="62"/>
                  </a:lnTo>
                  <a:lnTo>
                    <a:pt x="43" y="81"/>
                  </a:lnTo>
                  <a:lnTo>
                    <a:pt x="56" y="98"/>
                  </a:lnTo>
                  <a:lnTo>
                    <a:pt x="73" y="114"/>
                  </a:lnTo>
                  <a:lnTo>
                    <a:pt x="91" y="127"/>
                  </a:lnTo>
                  <a:lnTo>
                    <a:pt x="111" y="136"/>
                  </a:lnTo>
                  <a:lnTo>
                    <a:pt x="118" y="136"/>
                  </a:lnTo>
                  <a:lnTo>
                    <a:pt x="126" y="133"/>
                  </a:lnTo>
                  <a:lnTo>
                    <a:pt x="131" y="132"/>
                  </a:lnTo>
                  <a:lnTo>
                    <a:pt x="138" y="136"/>
                  </a:lnTo>
                  <a:lnTo>
                    <a:pt x="131" y="141"/>
                  </a:lnTo>
                  <a:lnTo>
                    <a:pt x="125" y="146"/>
                  </a:lnTo>
                  <a:lnTo>
                    <a:pt x="118" y="149"/>
                  </a:lnTo>
                  <a:lnTo>
                    <a:pt x="112" y="152"/>
                  </a:lnTo>
                  <a:lnTo>
                    <a:pt x="104" y="154"/>
                  </a:lnTo>
                  <a:lnTo>
                    <a:pt x="98" y="155"/>
                  </a:lnTo>
                  <a:lnTo>
                    <a:pt x="90" y="154"/>
                  </a:lnTo>
                  <a:lnTo>
                    <a:pt x="84" y="152"/>
                  </a:lnTo>
                  <a:lnTo>
                    <a:pt x="74" y="140"/>
                  </a:lnTo>
                  <a:lnTo>
                    <a:pt x="67" y="128"/>
                  </a:lnTo>
                  <a:lnTo>
                    <a:pt x="57" y="116"/>
                  </a:lnTo>
                  <a:lnTo>
                    <a:pt x="49" y="104"/>
                  </a:lnTo>
                  <a:lnTo>
                    <a:pt x="40" y="91"/>
                  </a:lnTo>
                  <a:lnTo>
                    <a:pt x="30" y="79"/>
                  </a:lnTo>
                  <a:lnTo>
                    <a:pt x="20" y="66"/>
                  </a:lnTo>
                  <a:lnTo>
                    <a:pt x="12" y="56"/>
                  </a:lnTo>
                  <a:lnTo>
                    <a:pt x="7" y="49"/>
                  </a:lnTo>
                  <a:lnTo>
                    <a:pt x="5" y="43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3" y="20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7880" y="4202280"/>
              <a:ext cx="72720" cy="10800"/>
            </a:xfrm>
            <a:custGeom>
              <a:avLst/>
              <a:gdLst/>
              <a:ahLst/>
              <a:rect l="l" t="t" r="r" b="b"/>
              <a:pathLst>
                <a:path w="93" h="13">
                  <a:moveTo>
                    <a:pt x="93" y="1"/>
                  </a:moveTo>
                  <a:lnTo>
                    <a:pt x="81" y="6"/>
                  </a:lnTo>
                  <a:lnTo>
                    <a:pt x="70" y="10"/>
                  </a:lnTo>
                  <a:lnTo>
                    <a:pt x="57" y="12"/>
                  </a:lnTo>
                  <a:lnTo>
                    <a:pt x="44" y="13"/>
                  </a:lnTo>
                  <a:lnTo>
                    <a:pt x="32" y="12"/>
                  </a:lnTo>
                  <a:lnTo>
                    <a:pt x="19" y="10"/>
                  </a:lnTo>
                  <a:lnTo>
                    <a:pt x="8" y="6"/>
                  </a:lnTo>
                  <a:lnTo>
                    <a:pt x="0" y="1"/>
                  </a:lnTo>
                  <a:lnTo>
                    <a:pt x="10" y="3"/>
                  </a:lnTo>
                  <a:lnTo>
                    <a:pt x="22" y="5"/>
                  </a:lnTo>
                  <a:lnTo>
                    <a:pt x="33" y="3"/>
                  </a:lnTo>
                  <a:lnTo>
                    <a:pt x="44" y="3"/>
                  </a:lnTo>
                  <a:lnTo>
                    <a:pt x="56" y="1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0400" y="4308480"/>
              <a:ext cx="36360" cy="8892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37" y="41"/>
                  </a:moveTo>
                  <a:lnTo>
                    <a:pt x="37" y="48"/>
                  </a:lnTo>
                  <a:lnTo>
                    <a:pt x="38" y="57"/>
                  </a:lnTo>
                  <a:lnTo>
                    <a:pt x="38" y="65"/>
                  </a:lnTo>
                  <a:lnTo>
                    <a:pt x="39" y="75"/>
                  </a:lnTo>
                  <a:lnTo>
                    <a:pt x="39" y="84"/>
                  </a:lnTo>
                  <a:lnTo>
                    <a:pt x="40" y="92"/>
                  </a:lnTo>
                  <a:lnTo>
                    <a:pt x="42" y="101"/>
                  </a:lnTo>
                  <a:lnTo>
                    <a:pt x="45" y="111"/>
                  </a:lnTo>
                  <a:lnTo>
                    <a:pt x="33" y="99"/>
                  </a:lnTo>
                  <a:lnTo>
                    <a:pt x="29" y="85"/>
                  </a:lnTo>
                  <a:lnTo>
                    <a:pt x="28" y="69"/>
                  </a:lnTo>
                  <a:lnTo>
                    <a:pt x="30" y="54"/>
                  </a:lnTo>
                  <a:lnTo>
                    <a:pt x="30" y="37"/>
                  </a:lnTo>
                  <a:lnTo>
                    <a:pt x="26" y="24"/>
                  </a:lnTo>
                  <a:lnTo>
                    <a:pt x="17" y="14"/>
                  </a:lnTo>
                  <a:lnTo>
                    <a:pt x="0" y="9"/>
                  </a:lnTo>
                  <a:lnTo>
                    <a:pt x="4" y="7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2480" y="3413160"/>
              <a:ext cx="652320" cy="336600"/>
            </a:xfrm>
            <a:custGeom>
              <a:avLst/>
              <a:gdLst/>
              <a:ahLst/>
              <a:rect l="l" t="t" r="r" b="b"/>
              <a:pathLst>
                <a:path w="822" h="423">
                  <a:moveTo>
                    <a:pt x="353" y="53"/>
                  </a:moveTo>
                  <a:lnTo>
                    <a:pt x="361" y="56"/>
                  </a:lnTo>
                  <a:lnTo>
                    <a:pt x="371" y="57"/>
                  </a:lnTo>
                  <a:lnTo>
                    <a:pt x="382" y="56"/>
                  </a:lnTo>
                  <a:lnTo>
                    <a:pt x="393" y="55"/>
                  </a:lnTo>
                  <a:lnTo>
                    <a:pt x="403" y="54"/>
                  </a:lnTo>
                  <a:lnTo>
                    <a:pt x="413" y="56"/>
                  </a:lnTo>
                  <a:lnTo>
                    <a:pt x="420" y="62"/>
                  </a:lnTo>
                  <a:lnTo>
                    <a:pt x="427" y="73"/>
                  </a:lnTo>
                  <a:lnTo>
                    <a:pt x="440" y="72"/>
                  </a:lnTo>
                  <a:lnTo>
                    <a:pt x="453" y="78"/>
                  </a:lnTo>
                  <a:lnTo>
                    <a:pt x="462" y="85"/>
                  </a:lnTo>
                  <a:lnTo>
                    <a:pt x="473" y="95"/>
                  </a:lnTo>
                  <a:lnTo>
                    <a:pt x="483" y="101"/>
                  </a:lnTo>
                  <a:lnTo>
                    <a:pt x="495" y="106"/>
                  </a:lnTo>
                  <a:lnTo>
                    <a:pt x="507" y="105"/>
                  </a:lnTo>
                  <a:lnTo>
                    <a:pt x="524" y="98"/>
                  </a:lnTo>
                  <a:lnTo>
                    <a:pt x="539" y="102"/>
                  </a:lnTo>
                  <a:lnTo>
                    <a:pt x="555" y="108"/>
                  </a:lnTo>
                  <a:lnTo>
                    <a:pt x="570" y="114"/>
                  </a:lnTo>
                  <a:lnTo>
                    <a:pt x="586" y="123"/>
                  </a:lnTo>
                  <a:lnTo>
                    <a:pt x="599" y="131"/>
                  </a:lnTo>
                  <a:lnTo>
                    <a:pt x="610" y="144"/>
                  </a:lnTo>
                  <a:lnTo>
                    <a:pt x="617" y="158"/>
                  </a:lnTo>
                  <a:lnTo>
                    <a:pt x="622" y="177"/>
                  </a:lnTo>
                  <a:lnTo>
                    <a:pt x="622" y="182"/>
                  </a:lnTo>
                  <a:lnTo>
                    <a:pt x="620" y="188"/>
                  </a:lnTo>
                  <a:lnTo>
                    <a:pt x="617" y="193"/>
                  </a:lnTo>
                  <a:lnTo>
                    <a:pt x="614" y="197"/>
                  </a:lnTo>
                  <a:lnTo>
                    <a:pt x="609" y="200"/>
                  </a:lnTo>
                  <a:lnTo>
                    <a:pt x="604" y="205"/>
                  </a:lnTo>
                  <a:lnTo>
                    <a:pt x="601" y="210"/>
                  </a:lnTo>
                  <a:lnTo>
                    <a:pt x="602" y="216"/>
                  </a:lnTo>
                  <a:lnTo>
                    <a:pt x="606" y="221"/>
                  </a:lnTo>
                  <a:lnTo>
                    <a:pt x="611" y="226"/>
                  </a:lnTo>
                  <a:lnTo>
                    <a:pt x="613" y="233"/>
                  </a:lnTo>
                  <a:lnTo>
                    <a:pt x="615" y="240"/>
                  </a:lnTo>
                  <a:lnTo>
                    <a:pt x="616" y="246"/>
                  </a:lnTo>
                  <a:lnTo>
                    <a:pt x="618" y="252"/>
                  </a:lnTo>
                  <a:lnTo>
                    <a:pt x="622" y="257"/>
                  </a:lnTo>
                  <a:lnTo>
                    <a:pt x="629" y="262"/>
                  </a:lnTo>
                  <a:lnTo>
                    <a:pt x="651" y="263"/>
                  </a:lnTo>
                  <a:lnTo>
                    <a:pt x="673" y="266"/>
                  </a:lnTo>
                  <a:lnTo>
                    <a:pt x="695" y="269"/>
                  </a:lnTo>
                  <a:lnTo>
                    <a:pt x="717" y="273"/>
                  </a:lnTo>
                  <a:lnTo>
                    <a:pt x="737" y="279"/>
                  </a:lnTo>
                  <a:lnTo>
                    <a:pt x="757" y="286"/>
                  </a:lnTo>
                  <a:lnTo>
                    <a:pt x="777" y="296"/>
                  </a:lnTo>
                  <a:lnTo>
                    <a:pt x="795" y="309"/>
                  </a:lnTo>
                  <a:lnTo>
                    <a:pt x="801" y="319"/>
                  </a:lnTo>
                  <a:lnTo>
                    <a:pt x="809" y="329"/>
                  </a:lnTo>
                  <a:lnTo>
                    <a:pt x="814" y="341"/>
                  </a:lnTo>
                  <a:lnTo>
                    <a:pt x="818" y="354"/>
                  </a:lnTo>
                  <a:lnTo>
                    <a:pt x="821" y="366"/>
                  </a:lnTo>
                  <a:lnTo>
                    <a:pt x="822" y="380"/>
                  </a:lnTo>
                  <a:lnTo>
                    <a:pt x="821" y="394"/>
                  </a:lnTo>
                  <a:lnTo>
                    <a:pt x="820" y="410"/>
                  </a:lnTo>
                  <a:lnTo>
                    <a:pt x="814" y="413"/>
                  </a:lnTo>
                  <a:lnTo>
                    <a:pt x="809" y="417"/>
                  </a:lnTo>
                  <a:lnTo>
                    <a:pt x="802" y="418"/>
                  </a:lnTo>
                  <a:lnTo>
                    <a:pt x="797" y="419"/>
                  </a:lnTo>
                  <a:lnTo>
                    <a:pt x="785" y="419"/>
                  </a:lnTo>
                  <a:lnTo>
                    <a:pt x="777" y="419"/>
                  </a:lnTo>
                  <a:lnTo>
                    <a:pt x="772" y="420"/>
                  </a:lnTo>
                  <a:lnTo>
                    <a:pt x="770" y="423"/>
                  </a:lnTo>
                  <a:lnTo>
                    <a:pt x="765" y="419"/>
                  </a:lnTo>
                  <a:lnTo>
                    <a:pt x="760" y="419"/>
                  </a:lnTo>
                  <a:lnTo>
                    <a:pt x="755" y="419"/>
                  </a:lnTo>
                  <a:lnTo>
                    <a:pt x="747" y="419"/>
                  </a:lnTo>
                  <a:lnTo>
                    <a:pt x="740" y="418"/>
                  </a:lnTo>
                  <a:lnTo>
                    <a:pt x="735" y="417"/>
                  </a:lnTo>
                  <a:lnTo>
                    <a:pt x="718" y="411"/>
                  </a:lnTo>
                  <a:lnTo>
                    <a:pt x="703" y="406"/>
                  </a:lnTo>
                  <a:lnTo>
                    <a:pt x="688" y="398"/>
                  </a:lnTo>
                  <a:lnTo>
                    <a:pt x="674" y="392"/>
                  </a:lnTo>
                  <a:lnTo>
                    <a:pt x="660" y="383"/>
                  </a:lnTo>
                  <a:lnTo>
                    <a:pt x="646" y="377"/>
                  </a:lnTo>
                  <a:lnTo>
                    <a:pt x="631" y="370"/>
                  </a:lnTo>
                  <a:lnTo>
                    <a:pt x="617" y="365"/>
                  </a:lnTo>
                  <a:lnTo>
                    <a:pt x="613" y="358"/>
                  </a:lnTo>
                  <a:lnTo>
                    <a:pt x="609" y="354"/>
                  </a:lnTo>
                  <a:lnTo>
                    <a:pt x="603" y="351"/>
                  </a:lnTo>
                  <a:lnTo>
                    <a:pt x="598" y="350"/>
                  </a:lnTo>
                  <a:lnTo>
                    <a:pt x="586" y="350"/>
                  </a:lnTo>
                  <a:lnTo>
                    <a:pt x="575" y="353"/>
                  </a:lnTo>
                  <a:lnTo>
                    <a:pt x="560" y="358"/>
                  </a:lnTo>
                  <a:lnTo>
                    <a:pt x="546" y="367"/>
                  </a:lnTo>
                  <a:lnTo>
                    <a:pt x="532" y="377"/>
                  </a:lnTo>
                  <a:lnTo>
                    <a:pt x="519" y="386"/>
                  </a:lnTo>
                  <a:lnTo>
                    <a:pt x="504" y="393"/>
                  </a:lnTo>
                  <a:lnTo>
                    <a:pt x="490" y="398"/>
                  </a:lnTo>
                  <a:lnTo>
                    <a:pt x="474" y="398"/>
                  </a:lnTo>
                  <a:lnTo>
                    <a:pt x="458" y="394"/>
                  </a:lnTo>
                  <a:lnTo>
                    <a:pt x="448" y="388"/>
                  </a:lnTo>
                  <a:lnTo>
                    <a:pt x="440" y="382"/>
                  </a:lnTo>
                  <a:lnTo>
                    <a:pt x="431" y="376"/>
                  </a:lnTo>
                  <a:lnTo>
                    <a:pt x="425" y="371"/>
                  </a:lnTo>
                  <a:lnTo>
                    <a:pt x="416" y="365"/>
                  </a:lnTo>
                  <a:lnTo>
                    <a:pt x="410" y="358"/>
                  </a:lnTo>
                  <a:lnTo>
                    <a:pt x="402" y="351"/>
                  </a:lnTo>
                  <a:lnTo>
                    <a:pt x="396" y="344"/>
                  </a:lnTo>
                  <a:lnTo>
                    <a:pt x="385" y="342"/>
                  </a:lnTo>
                  <a:lnTo>
                    <a:pt x="374" y="342"/>
                  </a:lnTo>
                  <a:lnTo>
                    <a:pt x="362" y="342"/>
                  </a:lnTo>
                  <a:lnTo>
                    <a:pt x="350" y="343"/>
                  </a:lnTo>
                  <a:lnTo>
                    <a:pt x="337" y="342"/>
                  </a:lnTo>
                  <a:lnTo>
                    <a:pt x="327" y="341"/>
                  </a:lnTo>
                  <a:lnTo>
                    <a:pt x="316" y="338"/>
                  </a:lnTo>
                  <a:lnTo>
                    <a:pt x="307" y="334"/>
                  </a:lnTo>
                  <a:lnTo>
                    <a:pt x="294" y="325"/>
                  </a:lnTo>
                  <a:lnTo>
                    <a:pt x="284" y="317"/>
                  </a:lnTo>
                  <a:lnTo>
                    <a:pt x="274" y="308"/>
                  </a:lnTo>
                  <a:lnTo>
                    <a:pt x="264" y="300"/>
                  </a:lnTo>
                  <a:lnTo>
                    <a:pt x="255" y="291"/>
                  </a:lnTo>
                  <a:lnTo>
                    <a:pt x="245" y="281"/>
                  </a:lnTo>
                  <a:lnTo>
                    <a:pt x="236" y="270"/>
                  </a:lnTo>
                  <a:lnTo>
                    <a:pt x="229" y="259"/>
                  </a:lnTo>
                  <a:lnTo>
                    <a:pt x="220" y="255"/>
                  </a:lnTo>
                  <a:lnTo>
                    <a:pt x="212" y="253"/>
                  </a:lnTo>
                  <a:lnTo>
                    <a:pt x="203" y="252"/>
                  </a:lnTo>
                  <a:lnTo>
                    <a:pt x="194" y="252"/>
                  </a:lnTo>
                  <a:lnTo>
                    <a:pt x="185" y="252"/>
                  </a:lnTo>
                  <a:lnTo>
                    <a:pt x="176" y="253"/>
                  </a:lnTo>
                  <a:lnTo>
                    <a:pt x="166" y="253"/>
                  </a:lnTo>
                  <a:lnTo>
                    <a:pt x="160" y="255"/>
                  </a:lnTo>
                  <a:lnTo>
                    <a:pt x="149" y="249"/>
                  </a:lnTo>
                  <a:lnTo>
                    <a:pt x="139" y="242"/>
                  </a:lnTo>
                  <a:lnTo>
                    <a:pt x="129" y="235"/>
                  </a:lnTo>
                  <a:lnTo>
                    <a:pt x="119" y="228"/>
                  </a:lnTo>
                  <a:lnTo>
                    <a:pt x="109" y="218"/>
                  </a:lnTo>
                  <a:lnTo>
                    <a:pt x="104" y="208"/>
                  </a:lnTo>
                  <a:lnTo>
                    <a:pt x="101" y="196"/>
                  </a:lnTo>
                  <a:lnTo>
                    <a:pt x="102" y="183"/>
                  </a:lnTo>
                  <a:lnTo>
                    <a:pt x="94" y="177"/>
                  </a:lnTo>
                  <a:lnTo>
                    <a:pt x="88" y="171"/>
                  </a:lnTo>
                  <a:lnTo>
                    <a:pt x="82" y="165"/>
                  </a:lnTo>
                  <a:lnTo>
                    <a:pt x="77" y="159"/>
                  </a:lnTo>
                  <a:lnTo>
                    <a:pt x="70" y="153"/>
                  </a:lnTo>
                  <a:lnTo>
                    <a:pt x="63" y="151"/>
                  </a:lnTo>
                  <a:lnTo>
                    <a:pt x="54" y="150"/>
                  </a:lnTo>
                  <a:lnTo>
                    <a:pt x="46" y="152"/>
                  </a:lnTo>
                  <a:lnTo>
                    <a:pt x="37" y="137"/>
                  </a:lnTo>
                  <a:lnTo>
                    <a:pt x="30" y="123"/>
                  </a:lnTo>
                  <a:lnTo>
                    <a:pt x="20" y="108"/>
                  </a:lnTo>
                  <a:lnTo>
                    <a:pt x="14" y="94"/>
                  </a:lnTo>
                  <a:lnTo>
                    <a:pt x="6" y="79"/>
                  </a:lnTo>
                  <a:lnTo>
                    <a:pt x="2" y="64"/>
                  </a:lnTo>
                  <a:lnTo>
                    <a:pt x="0" y="46"/>
                  </a:lnTo>
                  <a:lnTo>
                    <a:pt x="3" y="30"/>
                  </a:lnTo>
                  <a:lnTo>
                    <a:pt x="9" y="26"/>
                  </a:lnTo>
                  <a:lnTo>
                    <a:pt x="17" y="27"/>
                  </a:lnTo>
                  <a:lnTo>
                    <a:pt x="24" y="30"/>
                  </a:lnTo>
                  <a:lnTo>
                    <a:pt x="34" y="30"/>
                  </a:lnTo>
                  <a:lnTo>
                    <a:pt x="56" y="22"/>
                  </a:lnTo>
                  <a:lnTo>
                    <a:pt x="77" y="19"/>
                  </a:lnTo>
                  <a:lnTo>
                    <a:pt x="99" y="17"/>
                  </a:lnTo>
                  <a:lnTo>
                    <a:pt x="120" y="20"/>
                  </a:lnTo>
                  <a:lnTo>
                    <a:pt x="141" y="20"/>
                  </a:lnTo>
                  <a:lnTo>
                    <a:pt x="161" y="19"/>
                  </a:lnTo>
                  <a:lnTo>
                    <a:pt x="181" y="13"/>
                  </a:lnTo>
                  <a:lnTo>
                    <a:pt x="202" y="3"/>
                  </a:lnTo>
                  <a:lnTo>
                    <a:pt x="217" y="0"/>
                  </a:lnTo>
                  <a:lnTo>
                    <a:pt x="233" y="1"/>
                  </a:lnTo>
                  <a:lnTo>
                    <a:pt x="247" y="3"/>
                  </a:lnTo>
                  <a:lnTo>
                    <a:pt x="262" y="10"/>
                  </a:lnTo>
                  <a:lnTo>
                    <a:pt x="274" y="16"/>
                  </a:lnTo>
                  <a:lnTo>
                    <a:pt x="287" y="26"/>
                  </a:lnTo>
                  <a:lnTo>
                    <a:pt x="298" y="36"/>
                  </a:lnTo>
                  <a:lnTo>
                    <a:pt x="309" y="49"/>
                  </a:lnTo>
                  <a:lnTo>
                    <a:pt x="3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3600" y="3436920"/>
              <a:ext cx="63720" cy="5868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81" y="36"/>
                  </a:moveTo>
                  <a:lnTo>
                    <a:pt x="80" y="41"/>
                  </a:lnTo>
                  <a:lnTo>
                    <a:pt x="80" y="48"/>
                  </a:lnTo>
                  <a:lnTo>
                    <a:pt x="78" y="53"/>
                  </a:lnTo>
                  <a:lnTo>
                    <a:pt x="77" y="58"/>
                  </a:lnTo>
                  <a:lnTo>
                    <a:pt x="70" y="6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5" y="76"/>
                  </a:lnTo>
                  <a:lnTo>
                    <a:pt x="39" y="74"/>
                  </a:lnTo>
                  <a:lnTo>
                    <a:pt x="32" y="73"/>
                  </a:lnTo>
                  <a:lnTo>
                    <a:pt x="22" y="68"/>
                  </a:lnTo>
                  <a:lnTo>
                    <a:pt x="13" y="59"/>
                  </a:lnTo>
                  <a:lnTo>
                    <a:pt x="6" y="53"/>
                  </a:lnTo>
                  <a:lnTo>
                    <a:pt x="2" y="44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8" y="11"/>
                  </a:lnTo>
                  <a:lnTo>
                    <a:pt x="14" y="5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0" y="20"/>
                  </a:lnTo>
                  <a:lnTo>
                    <a:pt x="76" y="2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6480" y="3457440"/>
              <a:ext cx="90360" cy="6840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0"/>
                  </a:moveTo>
                  <a:lnTo>
                    <a:pt x="113" y="58"/>
                  </a:lnTo>
                  <a:lnTo>
                    <a:pt x="107" y="67"/>
                  </a:lnTo>
                  <a:lnTo>
                    <a:pt x="103" y="71"/>
                  </a:lnTo>
                  <a:lnTo>
                    <a:pt x="102" y="75"/>
                  </a:lnTo>
                  <a:lnTo>
                    <a:pt x="103" y="80"/>
                  </a:lnTo>
                  <a:lnTo>
                    <a:pt x="108" y="85"/>
                  </a:lnTo>
                  <a:lnTo>
                    <a:pt x="98" y="87"/>
                  </a:lnTo>
                  <a:lnTo>
                    <a:pt x="93" y="86"/>
                  </a:lnTo>
                  <a:lnTo>
                    <a:pt x="88" y="82"/>
                  </a:lnTo>
                  <a:lnTo>
                    <a:pt x="84" y="78"/>
                  </a:lnTo>
                  <a:lnTo>
                    <a:pt x="79" y="71"/>
                  </a:lnTo>
                  <a:lnTo>
                    <a:pt x="75" y="66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3" y="57"/>
                  </a:lnTo>
                  <a:lnTo>
                    <a:pt x="46" y="52"/>
                  </a:lnTo>
                  <a:lnTo>
                    <a:pt x="37" y="47"/>
                  </a:lnTo>
                  <a:lnTo>
                    <a:pt x="28" y="43"/>
                  </a:lnTo>
                  <a:lnTo>
                    <a:pt x="19" y="38"/>
                  </a:lnTo>
                  <a:lnTo>
                    <a:pt x="11" y="32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7" y="17"/>
                  </a:lnTo>
                  <a:lnTo>
                    <a:pt x="13" y="19"/>
                  </a:lnTo>
                  <a:lnTo>
                    <a:pt x="20" y="22"/>
                  </a:lnTo>
                  <a:lnTo>
                    <a:pt x="27" y="25"/>
                  </a:lnTo>
                  <a:lnTo>
                    <a:pt x="29" y="17"/>
                  </a:lnTo>
                  <a:lnTo>
                    <a:pt x="34" y="12"/>
                  </a:lnTo>
                  <a:lnTo>
                    <a:pt x="38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4"/>
                  </a:lnTo>
                  <a:lnTo>
                    <a:pt x="76" y="8"/>
                  </a:lnTo>
                  <a:lnTo>
                    <a:pt x="82" y="13"/>
                  </a:lnTo>
                  <a:lnTo>
                    <a:pt x="89" y="17"/>
                  </a:lnTo>
                  <a:lnTo>
                    <a:pt x="95" y="24"/>
                  </a:lnTo>
                  <a:lnTo>
                    <a:pt x="100" y="29"/>
                  </a:lnTo>
                  <a:lnTo>
                    <a:pt x="106" y="36"/>
                  </a:lnTo>
                  <a:lnTo>
                    <a:pt x="110" y="42"/>
                  </a:lnTo>
                  <a:lnTo>
                    <a:pt x="116" y="5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0840" y="3511440"/>
              <a:ext cx="174600" cy="162000"/>
            </a:xfrm>
            <a:custGeom>
              <a:avLst/>
              <a:gdLst/>
              <a:ahLst/>
              <a:rect l="l" t="t" r="r" b="b"/>
              <a:pathLst>
                <a:path w="221" h="203">
                  <a:moveTo>
                    <a:pt x="198" y="46"/>
                  </a:moveTo>
                  <a:lnTo>
                    <a:pt x="206" y="56"/>
                  </a:lnTo>
                  <a:lnTo>
                    <a:pt x="212" y="69"/>
                  </a:lnTo>
                  <a:lnTo>
                    <a:pt x="215" y="82"/>
                  </a:lnTo>
                  <a:lnTo>
                    <a:pt x="218" y="96"/>
                  </a:lnTo>
                  <a:lnTo>
                    <a:pt x="218" y="110"/>
                  </a:lnTo>
                  <a:lnTo>
                    <a:pt x="219" y="124"/>
                  </a:lnTo>
                  <a:lnTo>
                    <a:pt x="219" y="137"/>
                  </a:lnTo>
                  <a:lnTo>
                    <a:pt x="221" y="149"/>
                  </a:lnTo>
                  <a:lnTo>
                    <a:pt x="220" y="156"/>
                  </a:lnTo>
                  <a:lnTo>
                    <a:pt x="218" y="163"/>
                  </a:lnTo>
                  <a:lnTo>
                    <a:pt x="213" y="169"/>
                  </a:lnTo>
                  <a:lnTo>
                    <a:pt x="210" y="174"/>
                  </a:lnTo>
                  <a:lnTo>
                    <a:pt x="204" y="179"/>
                  </a:lnTo>
                  <a:lnTo>
                    <a:pt x="198" y="183"/>
                  </a:lnTo>
                  <a:lnTo>
                    <a:pt x="192" y="187"/>
                  </a:lnTo>
                  <a:lnTo>
                    <a:pt x="186" y="194"/>
                  </a:lnTo>
                  <a:lnTo>
                    <a:pt x="169" y="196"/>
                  </a:lnTo>
                  <a:lnTo>
                    <a:pt x="152" y="199"/>
                  </a:lnTo>
                  <a:lnTo>
                    <a:pt x="135" y="201"/>
                  </a:lnTo>
                  <a:lnTo>
                    <a:pt x="119" y="203"/>
                  </a:lnTo>
                  <a:lnTo>
                    <a:pt x="101" y="202"/>
                  </a:lnTo>
                  <a:lnTo>
                    <a:pt x="85" y="199"/>
                  </a:lnTo>
                  <a:lnTo>
                    <a:pt x="69" y="194"/>
                  </a:lnTo>
                  <a:lnTo>
                    <a:pt x="56" y="187"/>
                  </a:lnTo>
                  <a:lnTo>
                    <a:pt x="41" y="171"/>
                  </a:lnTo>
                  <a:lnTo>
                    <a:pt x="28" y="156"/>
                  </a:lnTo>
                  <a:lnTo>
                    <a:pt x="16" y="139"/>
                  </a:lnTo>
                  <a:lnTo>
                    <a:pt x="8" y="122"/>
                  </a:lnTo>
                  <a:lnTo>
                    <a:pt x="1" y="102"/>
                  </a:lnTo>
                  <a:lnTo>
                    <a:pt x="0" y="84"/>
                  </a:lnTo>
                  <a:lnTo>
                    <a:pt x="2" y="63"/>
                  </a:lnTo>
                  <a:lnTo>
                    <a:pt x="12" y="43"/>
                  </a:lnTo>
                  <a:lnTo>
                    <a:pt x="16" y="33"/>
                  </a:lnTo>
                  <a:lnTo>
                    <a:pt x="24" y="26"/>
                  </a:lnTo>
                  <a:lnTo>
                    <a:pt x="30" y="18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7" y="5"/>
                  </a:lnTo>
                  <a:lnTo>
                    <a:pt x="67" y="2"/>
                  </a:lnTo>
                  <a:lnTo>
                    <a:pt x="77" y="1"/>
                  </a:lnTo>
                  <a:lnTo>
                    <a:pt x="93" y="0"/>
                  </a:lnTo>
                  <a:lnTo>
                    <a:pt x="110" y="3"/>
                  </a:lnTo>
                  <a:lnTo>
                    <a:pt x="125" y="6"/>
                  </a:lnTo>
                  <a:lnTo>
                    <a:pt x="141" y="13"/>
                  </a:lnTo>
                  <a:lnTo>
                    <a:pt x="155" y="19"/>
                  </a:lnTo>
                  <a:lnTo>
                    <a:pt x="169" y="28"/>
                  </a:lnTo>
                  <a:lnTo>
                    <a:pt x="183" y="37"/>
                  </a:lnTo>
                  <a:lnTo>
                    <a:pt x="198" y="46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5440" y="3530520"/>
              <a:ext cx="81000" cy="10008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35" y="0"/>
                  </a:moveTo>
                  <a:lnTo>
                    <a:pt x="44" y="2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70" y="16"/>
                  </a:lnTo>
                  <a:lnTo>
                    <a:pt x="77" y="20"/>
                  </a:lnTo>
                  <a:lnTo>
                    <a:pt x="86" y="27"/>
                  </a:lnTo>
                  <a:lnTo>
                    <a:pt x="93" y="34"/>
                  </a:lnTo>
                  <a:lnTo>
                    <a:pt x="102" y="42"/>
                  </a:lnTo>
                  <a:lnTo>
                    <a:pt x="98" y="50"/>
                  </a:lnTo>
                  <a:lnTo>
                    <a:pt x="95" y="60"/>
                  </a:lnTo>
                  <a:lnTo>
                    <a:pt x="89" y="68"/>
                  </a:lnTo>
                  <a:lnTo>
                    <a:pt x="81" y="76"/>
                  </a:lnTo>
                  <a:lnTo>
                    <a:pt x="83" y="81"/>
                  </a:lnTo>
                  <a:lnTo>
                    <a:pt x="86" y="87"/>
                  </a:lnTo>
                  <a:lnTo>
                    <a:pt x="89" y="91"/>
                  </a:lnTo>
                  <a:lnTo>
                    <a:pt x="91" y="98"/>
                  </a:lnTo>
                  <a:lnTo>
                    <a:pt x="90" y="105"/>
                  </a:lnTo>
                  <a:lnTo>
                    <a:pt x="88" y="114"/>
                  </a:lnTo>
                  <a:lnTo>
                    <a:pt x="84" y="119"/>
                  </a:lnTo>
                  <a:lnTo>
                    <a:pt x="77" y="125"/>
                  </a:lnTo>
                  <a:lnTo>
                    <a:pt x="65" y="123"/>
                  </a:lnTo>
                  <a:lnTo>
                    <a:pt x="58" y="119"/>
                  </a:lnTo>
                  <a:lnTo>
                    <a:pt x="53" y="111"/>
                  </a:lnTo>
                  <a:lnTo>
                    <a:pt x="49" y="103"/>
                  </a:lnTo>
                  <a:lnTo>
                    <a:pt x="46" y="93"/>
                  </a:lnTo>
                  <a:lnTo>
                    <a:pt x="43" y="84"/>
                  </a:lnTo>
                  <a:lnTo>
                    <a:pt x="39" y="75"/>
                  </a:lnTo>
                  <a:lnTo>
                    <a:pt x="35" y="68"/>
                  </a:lnTo>
                  <a:lnTo>
                    <a:pt x="29" y="60"/>
                  </a:lnTo>
                  <a:lnTo>
                    <a:pt x="24" y="52"/>
                  </a:lnTo>
                  <a:lnTo>
                    <a:pt x="17" y="45"/>
                  </a:lnTo>
                  <a:lnTo>
                    <a:pt x="12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4"/>
                  </a:lnTo>
                  <a:lnTo>
                    <a:pt x="25" y="6"/>
                  </a:lnTo>
                  <a:lnTo>
                    <a:pt x="28" y="5"/>
                  </a:lnTo>
                  <a:lnTo>
                    <a:pt x="31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40480" y="3543480"/>
              <a:ext cx="75960" cy="5364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96" y="29"/>
                  </a:moveTo>
                  <a:lnTo>
                    <a:pt x="93" y="34"/>
                  </a:lnTo>
                  <a:lnTo>
                    <a:pt x="90" y="41"/>
                  </a:lnTo>
                  <a:lnTo>
                    <a:pt x="84" y="45"/>
                  </a:lnTo>
                  <a:lnTo>
                    <a:pt x="78" y="47"/>
                  </a:lnTo>
                  <a:lnTo>
                    <a:pt x="67" y="47"/>
                  </a:lnTo>
                  <a:lnTo>
                    <a:pt x="57" y="51"/>
                  </a:lnTo>
                  <a:lnTo>
                    <a:pt x="56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59" y="68"/>
                  </a:lnTo>
                  <a:lnTo>
                    <a:pt x="52" y="63"/>
                  </a:lnTo>
                  <a:lnTo>
                    <a:pt x="45" y="59"/>
                  </a:lnTo>
                  <a:lnTo>
                    <a:pt x="40" y="54"/>
                  </a:lnTo>
                  <a:lnTo>
                    <a:pt x="35" y="49"/>
                  </a:lnTo>
                  <a:lnTo>
                    <a:pt x="28" y="44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8" y="39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83" y="13"/>
                  </a:lnTo>
                  <a:lnTo>
                    <a:pt x="86" y="15"/>
                  </a:lnTo>
                  <a:lnTo>
                    <a:pt x="91" y="18"/>
                  </a:lnTo>
                  <a:lnTo>
                    <a:pt x="93" y="22"/>
                  </a:lnTo>
                  <a:lnTo>
                    <a:pt x="96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9520" y="3546360"/>
              <a:ext cx="55440" cy="9396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66" y="26"/>
                  </a:moveTo>
                  <a:lnTo>
                    <a:pt x="68" y="30"/>
                  </a:lnTo>
                  <a:lnTo>
                    <a:pt x="70" y="38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62" y="58"/>
                  </a:lnTo>
                  <a:lnTo>
                    <a:pt x="57" y="64"/>
                  </a:lnTo>
                  <a:lnTo>
                    <a:pt x="51" y="69"/>
                  </a:lnTo>
                  <a:lnTo>
                    <a:pt x="48" y="75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40" y="96"/>
                  </a:lnTo>
                  <a:lnTo>
                    <a:pt x="44" y="104"/>
                  </a:lnTo>
                  <a:lnTo>
                    <a:pt x="50" y="114"/>
                  </a:lnTo>
                  <a:lnTo>
                    <a:pt x="42" y="118"/>
                  </a:lnTo>
                  <a:lnTo>
                    <a:pt x="33" y="118"/>
                  </a:lnTo>
                  <a:lnTo>
                    <a:pt x="24" y="116"/>
                  </a:lnTo>
                  <a:lnTo>
                    <a:pt x="17" y="114"/>
                  </a:lnTo>
                  <a:lnTo>
                    <a:pt x="11" y="111"/>
                  </a:lnTo>
                  <a:lnTo>
                    <a:pt x="5" y="111"/>
                  </a:lnTo>
                  <a:lnTo>
                    <a:pt x="0" y="109"/>
                  </a:lnTo>
                  <a:lnTo>
                    <a:pt x="1" y="104"/>
                  </a:lnTo>
                  <a:lnTo>
                    <a:pt x="8" y="94"/>
                  </a:lnTo>
                  <a:lnTo>
                    <a:pt x="15" y="83"/>
                  </a:lnTo>
                  <a:lnTo>
                    <a:pt x="16" y="76"/>
                  </a:lnTo>
                  <a:lnTo>
                    <a:pt x="18" y="71"/>
                  </a:lnTo>
                  <a:lnTo>
                    <a:pt x="18" y="65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14" y="46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9" y="18"/>
                  </a:lnTo>
                  <a:lnTo>
                    <a:pt x="10" y="14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60" y="12"/>
                  </a:lnTo>
                  <a:lnTo>
                    <a:pt x="63" y="18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2560" y="3619440"/>
              <a:ext cx="182880" cy="112680"/>
            </a:xfrm>
            <a:custGeom>
              <a:avLst/>
              <a:gdLst/>
              <a:ahLst/>
              <a:rect l="l" t="t" r="r" b="b"/>
              <a:pathLst>
                <a:path w="231" h="144">
                  <a:moveTo>
                    <a:pt x="48" y="30"/>
                  </a:moveTo>
                  <a:lnTo>
                    <a:pt x="64" y="37"/>
                  </a:lnTo>
                  <a:lnTo>
                    <a:pt x="85" y="40"/>
                  </a:lnTo>
                  <a:lnTo>
                    <a:pt x="105" y="40"/>
                  </a:lnTo>
                  <a:lnTo>
                    <a:pt x="128" y="40"/>
                  </a:lnTo>
                  <a:lnTo>
                    <a:pt x="149" y="39"/>
                  </a:lnTo>
                  <a:lnTo>
                    <a:pt x="169" y="44"/>
                  </a:lnTo>
                  <a:lnTo>
                    <a:pt x="185" y="52"/>
                  </a:lnTo>
                  <a:lnTo>
                    <a:pt x="199" y="70"/>
                  </a:lnTo>
                  <a:lnTo>
                    <a:pt x="207" y="71"/>
                  </a:lnTo>
                  <a:lnTo>
                    <a:pt x="217" y="77"/>
                  </a:lnTo>
                  <a:lnTo>
                    <a:pt x="223" y="84"/>
                  </a:lnTo>
                  <a:lnTo>
                    <a:pt x="230" y="94"/>
                  </a:lnTo>
                  <a:lnTo>
                    <a:pt x="231" y="104"/>
                  </a:lnTo>
                  <a:lnTo>
                    <a:pt x="230" y="116"/>
                  </a:lnTo>
                  <a:lnTo>
                    <a:pt x="226" y="126"/>
                  </a:lnTo>
                  <a:lnTo>
                    <a:pt x="221" y="137"/>
                  </a:lnTo>
                  <a:lnTo>
                    <a:pt x="215" y="140"/>
                  </a:lnTo>
                  <a:lnTo>
                    <a:pt x="209" y="142"/>
                  </a:lnTo>
                  <a:lnTo>
                    <a:pt x="203" y="142"/>
                  </a:lnTo>
                  <a:lnTo>
                    <a:pt x="197" y="144"/>
                  </a:lnTo>
                  <a:lnTo>
                    <a:pt x="190" y="139"/>
                  </a:lnTo>
                  <a:lnTo>
                    <a:pt x="187" y="135"/>
                  </a:lnTo>
                  <a:lnTo>
                    <a:pt x="186" y="130"/>
                  </a:lnTo>
                  <a:lnTo>
                    <a:pt x="187" y="124"/>
                  </a:lnTo>
                  <a:lnTo>
                    <a:pt x="186" y="113"/>
                  </a:lnTo>
                  <a:lnTo>
                    <a:pt x="180" y="108"/>
                  </a:lnTo>
                  <a:lnTo>
                    <a:pt x="176" y="116"/>
                  </a:lnTo>
                  <a:lnTo>
                    <a:pt x="171" y="123"/>
                  </a:lnTo>
                  <a:lnTo>
                    <a:pt x="163" y="130"/>
                  </a:lnTo>
                  <a:lnTo>
                    <a:pt x="157" y="135"/>
                  </a:lnTo>
                  <a:lnTo>
                    <a:pt x="132" y="125"/>
                  </a:lnTo>
                  <a:lnTo>
                    <a:pt x="108" y="115"/>
                  </a:lnTo>
                  <a:lnTo>
                    <a:pt x="86" y="102"/>
                  </a:lnTo>
                  <a:lnTo>
                    <a:pt x="64" y="89"/>
                  </a:lnTo>
                  <a:lnTo>
                    <a:pt x="44" y="71"/>
                  </a:lnTo>
                  <a:lnTo>
                    <a:pt x="25" y="53"/>
                  </a:lnTo>
                  <a:lnTo>
                    <a:pt x="10" y="32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6" y="3"/>
                  </a:lnTo>
                  <a:lnTo>
                    <a:pt x="21" y="6"/>
                  </a:lnTo>
                  <a:lnTo>
                    <a:pt x="26" y="10"/>
                  </a:lnTo>
                  <a:lnTo>
                    <a:pt x="37" y="2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1680" y="3646440"/>
              <a:ext cx="96840" cy="586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121" y="20"/>
                  </a:moveTo>
                  <a:lnTo>
                    <a:pt x="119" y="29"/>
                  </a:lnTo>
                  <a:lnTo>
                    <a:pt x="116" y="39"/>
                  </a:lnTo>
                  <a:lnTo>
                    <a:pt x="109" y="45"/>
                  </a:lnTo>
                  <a:lnTo>
                    <a:pt x="102" y="53"/>
                  </a:lnTo>
                  <a:lnTo>
                    <a:pt x="92" y="57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67" y="72"/>
                  </a:lnTo>
                  <a:lnTo>
                    <a:pt x="58" y="70"/>
                  </a:lnTo>
                  <a:lnTo>
                    <a:pt x="48" y="69"/>
                  </a:lnTo>
                  <a:lnTo>
                    <a:pt x="38" y="68"/>
                  </a:lnTo>
                  <a:lnTo>
                    <a:pt x="29" y="67"/>
                  </a:lnTo>
                  <a:lnTo>
                    <a:pt x="19" y="63"/>
                  </a:lnTo>
                  <a:lnTo>
                    <a:pt x="12" y="60"/>
                  </a:lnTo>
                  <a:lnTo>
                    <a:pt x="4" y="55"/>
                  </a:lnTo>
                  <a:lnTo>
                    <a:pt x="0" y="49"/>
                  </a:lnTo>
                  <a:lnTo>
                    <a:pt x="6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9" y="29"/>
                  </a:lnTo>
                  <a:lnTo>
                    <a:pt x="18" y="26"/>
                  </a:lnTo>
                  <a:lnTo>
                    <a:pt x="28" y="20"/>
                  </a:lnTo>
                  <a:lnTo>
                    <a:pt x="36" y="14"/>
                  </a:lnTo>
                  <a:lnTo>
                    <a:pt x="46" y="9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7" y="5"/>
                  </a:lnTo>
                  <a:lnTo>
                    <a:pt x="112" y="6"/>
                  </a:lnTo>
                  <a:lnTo>
                    <a:pt x="116" y="10"/>
                  </a:lnTo>
                  <a:lnTo>
                    <a:pt x="118" y="13"/>
                  </a:lnTo>
                  <a:lnTo>
                    <a:pt x="121" y="2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1197600">
            <a:off x="2877120" y="2513520"/>
            <a:ext cx="2634480" cy="524880"/>
          </a:xfrm>
          <a:custGeom>
            <a:avLst/>
            <a:gdLst>
              <a:gd name="textAreaLeft" fmla="*/ 658440 w 2634480"/>
              <a:gd name="textAreaRight" fmla="*/ 1976040 w 2634480"/>
              <a:gd name="textAreaTop" fmla="*/ 65520 h 524880"/>
              <a:gd name="textAreaBottom" fmla="*/ 525240 h 52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1989000"/>
            <a:ext cx="1434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33" y="24638"/>
                </a:moveTo>
                <a:lnTo>
                  <a:pt x="-1147" y="4000"/>
                </a:lnTo>
              </a:path>
              <a:path w="21600" h="21600">
                <a:moveTo>
                  <a:pt x="-1147" y="0"/>
                </a:moveTo>
                <a:lnTo>
                  <a:pt x="-1147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55640" y="2743200"/>
            <a:ext cx="1403640" cy="3238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| Process | &lt; MAX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Suppose MAX = 6,  | Process |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4240800" y="2705760"/>
            <a:ext cx="2975760" cy="52056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23615"/>
              <a:gd name="adj5" fmla="val 127574"/>
              <a:gd name="adj6" fmla="val -42782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 / Invalid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57440" y="328608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00360" y="32860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657440" y="27432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274320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5640" y="3824280"/>
            <a:ext cx="107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98920" y="38242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55640" y="4361040"/>
            <a:ext cx="107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98920" y="436104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57440" y="49006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00360" y="49006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57440" y="54388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00360" y="54388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042920" y="2819520"/>
            <a:ext cx="539640" cy="3124080"/>
            <a:chOff x="1042920" y="2819520"/>
            <a:chExt cx="539640" cy="3124080"/>
          </a:xfrm>
        </p:grpSpPr>
        <p:sp>
          <p:nvSpPr>
            <p:cNvPr id="843" name=""/>
            <p:cNvSpPr/>
            <p:nvPr/>
          </p:nvSpPr>
          <p:spPr>
            <a:xfrm>
              <a:off x="1042920" y="2819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2920" y="33577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42920" y="443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2920" y="38955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42920" y="497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42920" y="5583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5940360" y="487188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40360" y="432900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8920" y="541008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292720" y="4440240"/>
            <a:ext cx="539640" cy="1436760"/>
            <a:chOff x="5292720" y="4440240"/>
            <a:chExt cx="539640" cy="1436760"/>
          </a:xfrm>
        </p:grpSpPr>
        <p:sp>
          <p:nvSpPr>
            <p:cNvPr id="853" name=""/>
            <p:cNvSpPr/>
            <p:nvPr/>
          </p:nvSpPr>
          <p:spPr>
            <a:xfrm>
              <a:off x="5292720" y="4440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92720" y="49784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92720" y="55166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651640" y="619272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41840" y="3357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4360" y="4365720"/>
            <a:ext cx="0" cy="158436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7950600" y="3429000"/>
            <a:ext cx="988560" cy="956160"/>
            <a:chOff x="7950600" y="3429000"/>
            <a:chExt cx="988560" cy="956160"/>
          </a:xfrm>
        </p:grpSpPr>
        <p:sp>
          <p:nvSpPr>
            <p:cNvPr id="860" name=""/>
            <p:cNvSpPr/>
            <p:nvPr/>
          </p:nvSpPr>
          <p:spPr>
            <a:xfrm>
              <a:off x="7950600" y="34290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56720" y="3864600"/>
              <a:ext cx="982440" cy="520560"/>
            </a:xfrm>
            <a:prstGeom prst="borderCallout2">
              <a:avLst>
                <a:gd name="adj1" fmla="val 18750"/>
                <a:gd name="adj2" fmla="val -8333"/>
                <a:gd name="adj3" fmla="val 21620"/>
                <a:gd name="adj4" fmla="val -43458"/>
                <a:gd name="adj5" fmla="val 235240"/>
                <a:gd name="adj6" fmla="val -80106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 txBox="1"/>
          <p:nvPr/>
        </p:nvSpPr>
        <p:spPr>
          <a:xfrm>
            <a:off x="3276720" y="3840120"/>
            <a:ext cx="2808000" cy="210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ere stor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3" name=""/>
          <p:cNvCxnSpPr/>
          <p:nvPr/>
        </p:nvCxnSpPr>
        <p:spPr>
          <a:xfrm flipV="1">
            <a:off x="6800760" y="4158720"/>
            <a:ext cx="55152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4" name=""/>
          <p:cNvGrpSpPr/>
          <p:nvPr/>
        </p:nvGrpSpPr>
        <p:grpSpPr>
          <a:xfrm>
            <a:off x="3048120" y="3505320"/>
            <a:ext cx="5410080" cy="2514600"/>
            <a:chOff x="3048120" y="3505320"/>
            <a:chExt cx="5410080" cy="2514600"/>
          </a:xfrm>
        </p:grpSpPr>
        <p:sp>
          <p:nvSpPr>
            <p:cNvPr id="865" name=""/>
            <p:cNvSpPr/>
            <p:nvPr/>
          </p:nvSpPr>
          <p:spPr>
            <a:xfrm>
              <a:off x="4795920" y="5181480"/>
              <a:ext cx="248760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048120" y="3505320"/>
              <a:ext cx="5410080" cy="2514600"/>
              <a:chOff x="3048120" y="3505320"/>
              <a:chExt cx="5410080" cy="2514600"/>
            </a:xfrm>
          </p:grpSpPr>
          <p:sp>
            <p:nvSpPr>
              <p:cNvPr id="867" name=""/>
              <p:cNvSpPr/>
              <p:nvPr/>
            </p:nvSpPr>
            <p:spPr>
              <a:xfrm>
                <a:off x="7315200" y="3505320"/>
                <a:ext cx="1143000" cy="2514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48120" y="4191120"/>
                <a:ext cx="1747800" cy="1828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92720" y="5213520"/>
                <a:ext cx="3227400" cy="806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822320" y="2154240"/>
            <a:ext cx="2119320" cy="360360"/>
            <a:chOff x="1822320" y="2154240"/>
            <a:chExt cx="2119320" cy="360360"/>
          </a:xfrm>
        </p:grpSpPr>
        <p:sp>
          <p:nvSpPr>
            <p:cNvPr id="872" name=""/>
            <p:cNvSpPr/>
            <p:nvPr/>
          </p:nvSpPr>
          <p:spPr>
            <a:xfrm>
              <a:off x="1822320" y="215424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41640" y="215424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stCxn id="872" idx="2"/>
            <a:endCxn id="877" idx="0"/>
          </p:cNvCxnSpPr>
          <p:nvPr/>
        </p:nvCxnSpPr>
        <p:spPr>
          <a:xfrm>
            <a:off x="2452320" y="2514240"/>
            <a:ext cx="5400" cy="201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7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1" name=""/>
          <p:cNvCxnSpPr>
            <a:stCxn id="873" idx="2"/>
            <a:endCxn id="880" idx="0"/>
          </p:cNvCxnSpPr>
          <p:nvPr/>
        </p:nvCxnSpPr>
        <p:spPr>
          <a:xfrm flipH="1" rot="16200000">
            <a:off x="4246200" y="1759320"/>
            <a:ext cx="1469160" cy="2979000"/>
          </a:xfrm>
          <a:prstGeom prst="bentConnector3">
            <a:avLst>
              <a:gd name="adj1" fmla="val 1794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2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883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884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887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893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stCxn id="877" idx="3"/>
            <a:endCxn id="887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756180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88" idx="1"/>
            <a:endCxn id="87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49699"/>
              <a:gd name="adj2" fmla="val 3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8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81680" y="380988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10080" y="48805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46" y="-12236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90720" y="533772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099" y="-6582"/>
                </a:moveTo>
                <a:lnTo>
                  <a:pt x="22629" y="3471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81600" y="4614840"/>
            <a:ext cx="430200" cy="453960"/>
          </a:xfrm>
          <a:prstGeom prst="ellipse">
            <a:avLst/>
          </a:prstGeom>
          <a:noFill/>
          <a:ln cap="rnd" w="7632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315200" y="3505320"/>
            <a:ext cx="11430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048120" y="4158360"/>
            <a:ext cx="4571640" cy="1861200"/>
            <a:chOff x="3048120" y="4158360"/>
            <a:chExt cx="4571640" cy="1861200"/>
          </a:xfrm>
        </p:grpSpPr>
        <p:sp>
          <p:nvSpPr>
            <p:cNvPr id="905" name=""/>
            <p:cNvSpPr/>
            <p:nvPr/>
          </p:nvSpPr>
          <p:spPr>
            <a:xfrm>
              <a:off x="3048120" y="4190760"/>
              <a:ext cx="1748160" cy="182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6" name=""/>
            <p:cNvCxnSpPr>
              <a:stCxn id="907" idx="3"/>
              <a:endCxn id="908" idx="1"/>
            </p:cNvCxnSpPr>
            <p:nvPr/>
          </p:nvCxnSpPr>
          <p:spPr>
            <a:xfrm flipV="1">
              <a:off x="6800040" y="4158360"/>
              <a:ext cx="551160" cy="5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9" name=""/>
            <p:cNvSpPr/>
            <p:nvPr/>
          </p:nvSpPr>
          <p:spPr>
            <a:xfrm>
              <a:off x="4796280" y="5181480"/>
              <a:ext cx="248724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92720" y="5213160"/>
              <a:ext cx="3227040" cy="80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1822320" y="19051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1640" y="190512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6" name=""/>
          <p:cNvCxnSpPr>
            <a:stCxn id="912" idx="2"/>
            <a:endCxn id="917" idx="0"/>
          </p:cNvCxnSpPr>
          <p:nvPr/>
        </p:nvCxnSpPr>
        <p:spPr>
          <a:xfrm>
            <a:off x="2452320" y="2265120"/>
            <a:ext cx="5400" cy="225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15" idx="3"/>
            <a:endCxn id="91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913" idx="2"/>
            <a:endCxn id="907" idx="0"/>
          </p:cNvCxnSpPr>
          <p:nvPr/>
        </p:nvCxnSpPr>
        <p:spPr>
          <a:xfrm flipH="1" rot="16200000">
            <a:off x="4121640" y="1634760"/>
            <a:ext cx="1718280" cy="2979000"/>
          </a:xfrm>
          <a:prstGeom prst="bentConnector3">
            <a:avLst>
              <a:gd name="adj1" fmla="val 168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21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922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923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926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929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932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34" name=""/>
          <p:cNvCxnSpPr>
            <a:stCxn id="917" idx="3"/>
            <a:endCxn id="926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756324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122640" y="2895480"/>
            <a:ext cx="1982880" cy="1062000"/>
            <a:chOff x="3122640" y="2895480"/>
            <a:chExt cx="1982880" cy="1062000"/>
          </a:xfrm>
        </p:grpSpPr>
        <p:sp>
          <p:nvSpPr>
            <p:cNvPr id="936" name=""/>
            <p:cNvSpPr/>
            <p:nvPr/>
          </p:nvSpPr>
          <p:spPr>
            <a:xfrm>
              <a:off x="4384800" y="3597120"/>
              <a:ext cx="71928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6600" y="28954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22640" y="2895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22640" y="3246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22640" y="359712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6600" y="32446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451600" y="2514240"/>
            <a:ext cx="670320" cy="1264320"/>
            <a:chOff x="2451600" y="2514240"/>
            <a:chExt cx="670320" cy="1264320"/>
          </a:xfrm>
        </p:grpSpPr>
        <p:cxnSp>
          <p:nvCxnSpPr>
            <p:cNvPr id="943" name=""/>
            <p:cNvCxnSpPr>
              <a:stCxn id="912" idx="2"/>
              <a:endCxn id="938" idx="1"/>
            </p:cNvCxnSpPr>
            <p:nvPr/>
          </p:nvCxnSpPr>
          <p:spPr>
            <a:xfrm flipH="1" rot="16200000">
              <a:off x="2505600" y="2460240"/>
              <a:ext cx="562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12" idx="2"/>
              <a:endCxn id="939" idx="1"/>
            </p:cNvCxnSpPr>
            <p:nvPr/>
          </p:nvCxnSpPr>
          <p:spPr>
            <a:xfrm flipH="1" rot="16200000">
              <a:off x="2330280" y="2635920"/>
              <a:ext cx="913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12" idx="2"/>
              <a:endCxn id="940" idx="1"/>
            </p:cNvCxnSpPr>
            <p:nvPr/>
          </p:nvCxnSpPr>
          <p:spPr>
            <a:xfrm flipH="1" rot="16200000">
              <a:off x="2154960" y="2811240"/>
              <a:ext cx="126432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cxnSp>
        <p:nvCxnSpPr>
          <p:cNvPr id="946" name=""/>
          <p:cNvCxnSpPr>
            <a:stCxn id="941" idx="3"/>
            <a:endCxn id="919" idx="0"/>
          </p:cNvCxnSpPr>
          <p:nvPr/>
        </p:nvCxnSpPr>
        <p:spPr>
          <a:xfrm>
            <a:off x="5105160" y="3425760"/>
            <a:ext cx="556200" cy="55800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947" name=""/>
          <p:cNvCxnSpPr>
            <a:stCxn id="941" idx="2"/>
          </p:cNvCxnSpPr>
          <p:nvPr/>
        </p:nvCxnSpPr>
        <p:spPr>
          <a:xfrm flipH="1" rot="16200000">
            <a:off x="4366080" y="3984840"/>
            <a:ext cx="1196280" cy="435600"/>
          </a:xfrm>
          <a:prstGeom prst="bentConnector3">
            <a:avLst>
              <a:gd name="adj1" fmla="val 49909"/>
            </a:avLst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6192720" y="167364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209351"/>
              <a:gd name="adj4" fmla="val -73004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27" idx="1"/>
            <a:endCxn id="91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3711"/>
              <a:gd name="adj2" fmla="val 63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0" name=""/>
          <p:cNvSpPr/>
          <p:nvPr/>
        </p:nvSpPr>
        <p:spPr>
          <a:xfrm>
            <a:off x="6563160" y="243540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sociative mem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allel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"/>
          <p:cNvCxnSpPr>
            <a:stCxn id="912" idx="2"/>
            <a:endCxn id="939" idx="0"/>
          </p:cNvCxnSpPr>
          <p:nvPr/>
        </p:nvCxnSpPr>
        <p:spPr>
          <a:xfrm flipH="1" rot="16200000">
            <a:off x="2612160" y="2105280"/>
            <a:ext cx="981720" cy="1301040"/>
          </a:xfrm>
          <a:prstGeom prst="bentConnector3">
            <a:avLst>
              <a:gd name="adj1" fmla="val 44167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ternal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ternal: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?FS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ence,  F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ed Memory for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116880" y="209376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94360" y="262260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VG = ½ Page   (Last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48000" y="3141720"/>
            <a:ext cx="38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nternal Fragm.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br>
              <a:rPr sz="2800"/>
            </a:b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| Page Table |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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3610080" y="3486240"/>
            <a:ext cx="2482920" cy="2685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 bit / page:  RW vs 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re bits:  R, W,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hecked by MMU during address tran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614760" y="4557600"/>
            <a:ext cx="1403280" cy="539640"/>
            <a:chOff x="3614760" y="4557600"/>
            <a:chExt cx="1403280" cy="539640"/>
          </a:xfrm>
        </p:grpSpPr>
        <p:sp>
          <p:nvSpPr>
            <p:cNvPr id="961" name=""/>
            <p:cNvSpPr/>
            <p:nvPr/>
          </p:nvSpPr>
          <p:spPr>
            <a:xfrm>
              <a:off x="3614760" y="4557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57680" y="45576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614760" y="4014720"/>
            <a:ext cx="1403280" cy="539640"/>
            <a:chOff x="3614760" y="4014720"/>
            <a:chExt cx="1403280" cy="539640"/>
          </a:xfrm>
        </p:grpSpPr>
        <p:sp>
          <p:nvSpPr>
            <p:cNvPr id="964" name=""/>
            <p:cNvSpPr/>
            <p:nvPr/>
          </p:nvSpPr>
          <p:spPr>
            <a:xfrm>
              <a:off x="3614760" y="4014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57680" y="401472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613320" y="5095800"/>
            <a:ext cx="1403280" cy="539640"/>
            <a:chOff x="3613320" y="5095800"/>
            <a:chExt cx="1403280" cy="539640"/>
          </a:xfrm>
        </p:grpSpPr>
        <p:sp>
          <p:nvSpPr>
            <p:cNvPr id="967" name=""/>
            <p:cNvSpPr/>
            <p:nvPr/>
          </p:nvSpPr>
          <p:spPr>
            <a:xfrm>
              <a:off x="3613320" y="50958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56240" y="50958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613320" y="5632560"/>
            <a:ext cx="1403280" cy="539640"/>
            <a:chOff x="3613320" y="5632560"/>
            <a:chExt cx="1403280" cy="539640"/>
          </a:xfrm>
        </p:grpSpPr>
        <p:sp>
          <p:nvSpPr>
            <p:cNvPr id="970" name=""/>
            <p:cNvSpPr/>
            <p:nvPr/>
          </p:nvSpPr>
          <p:spPr>
            <a:xfrm>
              <a:off x="3613320" y="563256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56240" y="5632560"/>
              <a:ext cx="36036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016600" y="401472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16600" y="45561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16600" y="50976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16600" y="563076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14760" y="3481560"/>
            <a:ext cx="1403280" cy="539640"/>
            <a:chOff x="3614760" y="3481560"/>
            <a:chExt cx="1403280" cy="539640"/>
          </a:xfrm>
        </p:grpSpPr>
        <p:sp>
          <p:nvSpPr>
            <p:cNvPr id="977" name=""/>
            <p:cNvSpPr/>
            <p:nvPr/>
          </p:nvSpPr>
          <p:spPr>
            <a:xfrm>
              <a:off x="3614760" y="34815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57680" y="348156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016600" y="34815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07360" y="3280680"/>
            <a:ext cx="2001960" cy="947160"/>
          </a:xfrm>
          <a:prstGeom prst="borderCallout2">
            <a:avLst>
              <a:gd name="adj1" fmla="val 18750"/>
              <a:gd name="adj2" fmla="val -8333"/>
              <a:gd name="adj3" fmla="val 28125"/>
              <a:gd name="adj4" fmla="val -16361"/>
              <a:gd name="adj5" fmla="val 136736"/>
              <a:gd name="adj6" fmla="val -24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873000" y="3343680"/>
            <a:ext cx="1793880" cy="2552040"/>
            <a:chOff x="873000" y="3343680"/>
            <a:chExt cx="1793880" cy="2552040"/>
          </a:xfrm>
        </p:grpSpPr>
        <p:sp>
          <p:nvSpPr>
            <p:cNvPr id="982" name=""/>
            <p:cNvSpPr/>
            <p:nvPr/>
          </p:nvSpPr>
          <p:spPr>
            <a:xfrm>
              <a:off x="1587240" y="37209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85800" y="42606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87240" y="4800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87240" y="534168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3000" y="3343680"/>
              <a:ext cx="77796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041640" y="3581280"/>
            <a:ext cx="539640" cy="2514600"/>
            <a:chOff x="3041640" y="3581280"/>
            <a:chExt cx="539640" cy="2514600"/>
          </a:xfrm>
        </p:grpSpPr>
        <p:sp>
          <p:nvSpPr>
            <p:cNvPr id="988" name=""/>
            <p:cNvSpPr/>
            <p:nvPr/>
          </p:nvSpPr>
          <p:spPr>
            <a:xfrm>
              <a:off x="3041640" y="3581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41640" y="41194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41640" y="5195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1640" y="46576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41640" y="5735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: Page Table Structure (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 (Multi-Level)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Multi-Level Paging (1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997880" y="1433520"/>
            <a:ext cx="2711880" cy="4422600"/>
            <a:chOff x="4997880" y="1433520"/>
            <a:chExt cx="2711880" cy="4422600"/>
          </a:xfrm>
        </p:grpSpPr>
        <p:sp>
          <p:nvSpPr>
            <p:cNvPr id="997" name=""/>
            <p:cNvSpPr/>
            <p:nvPr/>
          </p:nvSpPr>
          <p:spPr>
            <a:xfrm>
              <a:off x="5386320" y="15764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1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86320" y="242568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86320" y="3289320"/>
              <a:ext cx="99072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86320" y="41450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86320" y="500220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80280" y="1576440"/>
              <a:ext cx="99036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8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80280" y="2425680"/>
              <a:ext cx="99036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0280" y="328932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0280" y="4145040"/>
              <a:ext cx="99036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380280" y="500220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97880" y="143352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59840" y="144288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60040" y="3002040"/>
            <a:ext cx="1143720" cy="1322640"/>
            <a:chOff x="860040" y="3002040"/>
            <a:chExt cx="1143720" cy="1322640"/>
          </a:xfrm>
        </p:grpSpPr>
        <p:sp>
          <p:nvSpPr>
            <p:cNvPr id="1010" name=""/>
            <p:cNvSpPr/>
            <p:nvPr/>
          </p:nvSpPr>
          <p:spPr>
            <a:xfrm>
              <a:off x="988920" y="3002040"/>
              <a:ext cx="99072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0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60040" y="392580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T of 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411280" y="1773360"/>
            <a:ext cx="1297080" cy="4304520"/>
            <a:chOff x="2411280" y="1773360"/>
            <a:chExt cx="1297080" cy="4304520"/>
          </a:xfrm>
        </p:grpSpPr>
        <p:grpSp>
          <p:nvGrpSpPr>
            <p:cNvPr id="1013" name=""/>
            <p:cNvGrpSpPr/>
            <p:nvPr/>
          </p:nvGrpSpPr>
          <p:grpSpPr>
            <a:xfrm>
              <a:off x="2411280" y="1773360"/>
              <a:ext cx="1297080" cy="3816360"/>
              <a:chOff x="2411280" y="1773360"/>
              <a:chExt cx="1297080" cy="3816360"/>
            </a:xfrm>
          </p:grpSpPr>
          <p:sp>
            <p:nvSpPr>
              <p:cNvPr id="1014" name=""/>
              <p:cNvSpPr/>
              <p:nvPr/>
            </p:nvSpPr>
            <p:spPr>
              <a:xfrm>
                <a:off x="2411280" y="1773360"/>
                <a:ext cx="1297080" cy="38163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579760" y="182880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579760" y="32227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4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79760" y="46339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8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795400" y="56181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349280" y="1958760"/>
            <a:ext cx="1276560" cy="2787840"/>
            <a:chOff x="1349280" y="1958760"/>
            <a:chExt cx="1276560" cy="2787840"/>
          </a:xfrm>
        </p:grpSpPr>
        <p:sp>
          <p:nvSpPr>
            <p:cNvPr id="1020" name=""/>
            <p:cNvSpPr/>
            <p:nvPr/>
          </p:nvSpPr>
          <p:spPr>
            <a:xfrm flipV="1">
              <a:off x="1363680" y="1958760"/>
              <a:ext cx="1262160" cy="117612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49280" y="3429000"/>
              <a:ext cx="1190880" cy="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79520" y="3700440"/>
              <a:ext cx="1203480" cy="104616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946240" y="1901880"/>
            <a:ext cx="3411720" cy="3192480"/>
            <a:chOff x="2946240" y="1901880"/>
            <a:chExt cx="3411720" cy="3192480"/>
          </a:xfrm>
        </p:grpSpPr>
        <p:sp>
          <p:nvSpPr>
            <p:cNvPr id="1024" name=""/>
            <p:cNvSpPr/>
            <p:nvPr/>
          </p:nvSpPr>
          <p:spPr>
            <a:xfrm>
              <a:off x="2946240" y="1901880"/>
              <a:ext cx="2381400" cy="60948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05280" y="3429000"/>
              <a:ext cx="2365200" cy="166536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3019320" y="4339800"/>
              <a:ext cx="3338640" cy="39204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740720" y="2090880"/>
            <a:ext cx="1160280" cy="27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76" y="57059"/>
                </a:moveTo>
                <a:lnTo>
                  <a:pt x="-1418" y="8990"/>
                </a:lnTo>
              </a:path>
              <a:path w="21600" h="21600">
                <a:moveTo>
                  <a:pt x="-1418" y="0"/>
                </a:moveTo>
                <a:lnTo>
                  <a:pt x="-1418" y="21600"/>
                </a:lnTo>
              </a:path>
            </a:pathLst>
          </a:custGeom>
          <a:noFill/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 of 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Hashed Page Tables (1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>
            <a:off x="779400" y="32367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81080" y="24382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309680" y="4267080"/>
            <a:ext cx="1295280" cy="91440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73" stAng="10800000" swAng="5400000"/>
                <a:lnTo>
                  <a:pt x="16252" y="4987"/>
                </a:lnTo>
                <a:lnTo>
                  <a:pt x="16252" y="0"/>
                </a:lnTo>
                <a:lnTo>
                  <a:pt x="21600" y="6079"/>
                </a:lnTo>
                <a:lnTo>
                  <a:pt x="16252" y="12158"/>
                </a:lnTo>
                <a:lnTo>
                  <a:pt x="16252" y="7171"/>
                </a:lnTo>
                <a:lnTo>
                  <a:pt x="12427" y="7171"/>
                </a:lnTo>
                <a:arcTo wR="10243" hR="4989" stAng="16200000" swAng="-5400000"/>
                <a:lnTo>
                  <a:pt x="2184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329600" y="1974960"/>
            <a:ext cx="1218600" cy="387360"/>
            <a:chOff x="7329600" y="1974960"/>
            <a:chExt cx="1218600" cy="387360"/>
          </a:xfrm>
        </p:grpSpPr>
        <p:sp>
          <p:nvSpPr>
            <p:cNvPr id="1033" name=""/>
            <p:cNvSpPr/>
            <p:nvPr/>
          </p:nvSpPr>
          <p:spPr>
            <a:xfrm>
              <a:off x="7329600" y="197496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00920" y="1974960"/>
              <a:ext cx="6472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3519360" y="4800600"/>
            <a:ext cx="2362320" cy="387360"/>
            <a:chOff x="3519360" y="4800600"/>
            <a:chExt cx="2362320" cy="387360"/>
          </a:xfrm>
        </p:grpSpPr>
        <p:sp>
          <p:nvSpPr>
            <p:cNvPr id="1036" name=""/>
            <p:cNvSpPr/>
            <p:nvPr/>
          </p:nvSpPr>
          <p:spPr>
            <a:xfrm>
              <a:off x="3519360" y="4800600"/>
              <a:ext cx="11797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02320" y="4800600"/>
              <a:ext cx="5698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72200" y="4800600"/>
              <a:ext cx="6094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186600" y="4794120"/>
            <a:ext cx="2361600" cy="387360"/>
            <a:chOff x="6186600" y="4794120"/>
            <a:chExt cx="2361600" cy="387360"/>
          </a:xfrm>
        </p:grpSpPr>
        <p:sp>
          <p:nvSpPr>
            <p:cNvPr id="1040" name=""/>
            <p:cNvSpPr/>
            <p:nvPr/>
          </p:nvSpPr>
          <p:spPr>
            <a:xfrm>
              <a:off x="6186600" y="4794120"/>
              <a:ext cx="117936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69200" y="479412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39080" y="4794120"/>
              <a:ext cx="6091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57294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1" idx="0"/>
            <a:endCxn id="1033" idx="2"/>
          </p:cNvCxnSpPr>
          <p:nvPr/>
        </p:nvCxnSpPr>
        <p:spPr>
          <a:xfrm flipH="1" flipV="1">
            <a:off x="7614360" y="2361600"/>
            <a:ext cx="40680" cy="243252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045" name=""/>
          <p:cNvCxnSpPr>
            <a:stCxn id="1046" idx="0"/>
            <a:endCxn id="1034" idx="0"/>
          </p:cNvCxnSpPr>
          <p:nvPr/>
        </p:nvCxnSpPr>
        <p:spPr>
          <a:xfrm flipH="1" rot="16200000">
            <a:off x="5168880" y="-1079640"/>
            <a:ext cx="2160" cy="6111000"/>
          </a:xfrm>
          <a:prstGeom prst="bentConnector3">
            <a:avLst>
              <a:gd name="adj1" fmla="val -28000000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8325000" y="498636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548560" y="2162160"/>
            <a:ext cx="4716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1360" y="2197080"/>
            <a:ext cx="4572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22640" y="5748480"/>
            <a:ext cx="1379520" cy="3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46" y="-45154"/>
                </a:moveTo>
                <a:lnTo>
                  <a:pt x="-1193" y="7406"/>
                </a:lnTo>
              </a:path>
              <a:path w="21600" h="21600">
                <a:moveTo>
                  <a:pt x="-1193" y="0"/>
                </a:moveTo>
                <a:lnTo>
                  <a:pt x="-1193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pag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76800" y="5394240"/>
            <a:ext cx="160488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51" y="-21707"/>
                </a:moveTo>
                <a:lnTo>
                  <a:pt x="-1026" y="7699"/>
                </a:lnTo>
              </a:path>
              <a:path w="21600" h="21600">
                <a:moveTo>
                  <a:pt x="-1026" y="0"/>
                </a:moveTo>
                <a:lnTo>
                  <a:pt x="-1026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fram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73880" y="46879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2960" y="47671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3360" y="1968480"/>
            <a:ext cx="183204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535120" y="2631960"/>
            <a:ext cx="729360" cy="3387960"/>
            <a:chOff x="2535120" y="2631960"/>
            <a:chExt cx="729360" cy="3387960"/>
          </a:xfrm>
        </p:grpSpPr>
        <p:sp>
          <p:nvSpPr>
            <p:cNvPr id="1056" name=""/>
            <p:cNvSpPr/>
            <p:nvPr/>
          </p:nvSpPr>
          <p:spPr>
            <a:xfrm>
              <a:off x="2605320" y="3276720"/>
              <a:ext cx="609480" cy="2743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35120" y="2631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09480" y="1974960"/>
            <a:ext cx="1828800" cy="387360"/>
            <a:chOff x="609480" y="1974960"/>
            <a:chExt cx="1828800" cy="387360"/>
          </a:xfrm>
        </p:grpSpPr>
        <p:sp>
          <p:nvSpPr>
            <p:cNvPr id="1059" name=""/>
            <p:cNvSpPr/>
            <p:nvPr/>
          </p:nvSpPr>
          <p:spPr>
            <a:xfrm>
              <a:off x="609480" y="1974960"/>
              <a:ext cx="11797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89920" y="1974960"/>
              <a:ext cx="6483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2604960" y="4794120"/>
            <a:ext cx="6098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862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828800" y="251460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266688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verted Page Table /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ntry for each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>
            <a:off x="1523880" y="2819520"/>
            <a:ext cx="1371600" cy="281916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061160"/>
            <a:ext cx="76212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09480" y="3890880"/>
            <a:ext cx="914400" cy="459720"/>
            <a:chOff x="609480" y="3890880"/>
            <a:chExt cx="914400" cy="459720"/>
          </a:xfrm>
        </p:grpSpPr>
        <p:sp>
          <p:nvSpPr>
            <p:cNvPr id="1070" name=""/>
            <p:cNvSpPr/>
            <p:nvPr/>
          </p:nvSpPr>
          <p:spPr>
            <a:xfrm>
              <a:off x="609480" y="4343040"/>
              <a:ext cx="9144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78320" y="38908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5715000" y="3429000"/>
            <a:ext cx="2133720" cy="182880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4061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05720" y="4061160"/>
            <a:ext cx="99036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848360" y="3429000"/>
            <a:ext cx="990360" cy="914400"/>
            <a:chOff x="7848360" y="3429000"/>
            <a:chExt cx="990360" cy="914400"/>
          </a:xfrm>
        </p:grpSpPr>
        <p:sp>
          <p:nvSpPr>
            <p:cNvPr id="1076" name=""/>
            <p:cNvSpPr/>
            <p:nvPr/>
          </p:nvSpPr>
          <p:spPr>
            <a:xfrm flipH="1">
              <a:off x="7848360" y="43434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153280" y="34290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1880" y="3751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405080" y="5634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005520" y="5257800"/>
            <a:ext cx="16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vert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3920" y="3437280"/>
            <a:ext cx="83808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3735360" y="2675160"/>
            <a:ext cx="1671480" cy="459720"/>
            <a:chOff x="3735360" y="2675160"/>
            <a:chExt cx="1671480" cy="459720"/>
          </a:xfrm>
        </p:grpSpPr>
        <p:sp>
          <p:nvSpPr>
            <p:cNvPr id="1083" name=""/>
            <p:cNvSpPr/>
            <p:nvPr/>
          </p:nvSpPr>
          <p:spPr>
            <a:xfrm>
              <a:off x="3735360" y="267516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21040" y="267516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500"/>
                            </p:stCondLst>
                            <p:childTnLst>
                              <p:par>
                                <p:cTn id="17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1901880" y="2070000"/>
            <a:ext cx="1681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3168720" y="3886200"/>
            <a:ext cx="2133360" cy="1828800"/>
            <a:chOff x="3168720" y="3886200"/>
            <a:chExt cx="2133360" cy="1828800"/>
          </a:xfrm>
        </p:grpSpPr>
        <p:sp>
          <p:nvSpPr>
            <p:cNvPr id="1088" name=""/>
            <p:cNvSpPr/>
            <p:nvPr/>
          </p:nvSpPr>
          <p:spPr>
            <a:xfrm>
              <a:off x="3168720" y="3886200"/>
              <a:ext cx="2133360" cy="1828800"/>
            </a:xfrm>
            <a:prstGeom prst="rect">
              <a:avLst/>
            </a:prstGeom>
            <a:solidFill>
              <a:srgbClr val="919191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21000" y="4518360"/>
              <a:ext cx="837720" cy="459720"/>
            </a:xfrm>
            <a:prstGeom prst="rect">
              <a:avLst/>
            </a:prstGeom>
            <a:solidFill>
              <a:srgbClr val="aff2aa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59080" y="4518360"/>
              <a:ext cx="99036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257440" y="3886200"/>
            <a:ext cx="990360" cy="914400"/>
            <a:chOff x="5257440" y="3886200"/>
            <a:chExt cx="990360" cy="914400"/>
          </a:xfrm>
        </p:grpSpPr>
        <p:sp>
          <p:nvSpPr>
            <p:cNvPr id="1092" name=""/>
            <p:cNvSpPr/>
            <p:nvPr/>
          </p:nvSpPr>
          <p:spPr>
            <a:xfrm flipH="1">
              <a:off x="5257440" y="48006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62360" y="38862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90960" y="4208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10666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06560" y="2065680"/>
            <a:ext cx="1671480" cy="459720"/>
            <a:chOff x="1906560" y="2065680"/>
            <a:chExt cx="1671480" cy="459720"/>
          </a:xfrm>
        </p:grpSpPr>
        <p:sp>
          <p:nvSpPr>
            <p:cNvPr id="1097" name=""/>
            <p:cNvSpPr/>
            <p:nvPr/>
          </p:nvSpPr>
          <p:spPr>
            <a:xfrm>
              <a:off x="19065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922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 rot="16200000">
            <a:off x="17920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785960" y="3657600"/>
            <a:ext cx="1371600" cy="14479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4574" y="3150"/>
                </a:lnTo>
                <a:lnTo>
                  <a:pt x="14574" y="0"/>
                </a:lnTo>
                <a:lnTo>
                  <a:pt x="21600" y="6079"/>
                </a:lnTo>
                <a:lnTo>
                  <a:pt x="14574" y="12158"/>
                </a:lnTo>
                <a:lnTo>
                  <a:pt x="14574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803600" y="402444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5867280" y="2142000"/>
            <a:ext cx="1447920" cy="459720"/>
            <a:chOff x="5867280" y="2142000"/>
            <a:chExt cx="1447920" cy="459720"/>
          </a:xfrm>
        </p:grpSpPr>
        <p:sp>
          <p:nvSpPr>
            <p:cNvPr id="1103" name=""/>
            <p:cNvSpPr/>
            <p:nvPr/>
          </p:nvSpPr>
          <p:spPr>
            <a:xfrm>
              <a:off x="586728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62940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5" name=""/>
          <p:cNvCxnSpPr>
            <a:stCxn id="1092" idx="0"/>
            <a:endCxn id="1103" idx="2"/>
          </p:cNvCxnSpPr>
          <p:nvPr/>
        </p:nvCxnSpPr>
        <p:spPr>
          <a:xfrm flipV="1">
            <a:off x="6248160" y="2619000"/>
            <a:ext cx="1080" cy="216288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06" name=""/>
          <p:cNvCxnSpPr>
            <a:stCxn id="1098" idx="0"/>
            <a:endCxn id="1104" idx="0"/>
          </p:cNvCxnSpPr>
          <p:nvPr/>
        </p:nvCxnSpPr>
        <p:spPr>
          <a:xfrm flipH="1" rot="16200000">
            <a:off x="5065560" y="216360"/>
            <a:ext cx="76680" cy="3737880"/>
          </a:xfrm>
          <a:prstGeom prst="bentConnector3">
            <a:avLst>
              <a:gd name="adj1" fmla="val -591509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07" name=""/>
          <p:cNvSpPr/>
          <p:nvPr/>
        </p:nvSpPr>
        <p:spPr>
          <a:xfrm>
            <a:off x="731520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16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2480" y="4572000"/>
            <a:ext cx="23266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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emory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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arch time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995640" y="2421000"/>
            <a:ext cx="289080" cy="3168720"/>
            <a:chOff x="3995640" y="2421000"/>
            <a:chExt cx="289080" cy="3168720"/>
          </a:xfrm>
        </p:grpSpPr>
        <p:sp>
          <p:nvSpPr>
            <p:cNvPr id="403" name=""/>
            <p:cNvSpPr/>
            <p:nvPr/>
          </p:nvSpPr>
          <p:spPr>
            <a:xfrm>
              <a:off x="3995640" y="501336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95640" y="55180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5640" y="35002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95640" y="242100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1916280"/>
            <a:ext cx="1800360" cy="26845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1700280"/>
            <a:ext cx="1800000" cy="32407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0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3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115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2708280"/>
            <a:ext cx="1152720" cy="79056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70560" y="1700280"/>
            <a:ext cx="1724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33" y="2598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2567520"/>
            <a:ext cx="1368360" cy="266940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80360" y="2708280"/>
            <a:ext cx="13683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11960" y="5156280"/>
            <a:ext cx="1866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18" y="-89325"/>
                </a:moveTo>
                <a:lnTo>
                  <a:pt x="-882" y="4000"/>
                </a:lnTo>
              </a:path>
              <a:path w="21600" h="21600">
                <a:moveTo>
                  <a:pt x="-882" y="0"/>
                </a:moveTo>
                <a:lnTo>
                  <a:pt x="-882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ahoma"/>
              </a:rPr>
              <a:t>Re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2563920"/>
            <a:ext cx="1130040" cy="8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48" y="7649"/>
                </a:moveTo>
                <a:lnTo>
                  <a:pt x="23056" y="2854"/>
                </a:lnTo>
              </a:path>
              <a:path w="21600" h="21600">
                <a:moveTo>
                  <a:pt x="23056" y="0"/>
                </a:moveTo>
                <a:lnTo>
                  <a:pt x="23056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1268280"/>
            <a:ext cx="1724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75" y="4533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24320" y="2457000"/>
            <a:ext cx="2442960" cy="3579480"/>
            <a:chOff x="3424320" y="2457000"/>
            <a:chExt cx="2442960" cy="3579480"/>
          </a:xfrm>
        </p:grpSpPr>
        <p:sp>
          <p:nvSpPr>
            <p:cNvPr id="418" name=""/>
            <p:cNvSpPr/>
            <p:nvPr/>
          </p:nvSpPr>
          <p:spPr>
            <a:xfrm>
              <a:off x="4067280" y="4869000"/>
              <a:ext cx="1800000" cy="11674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 +#LOAD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 +#LOAD#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424320" y="2457000"/>
              <a:ext cx="572400" cy="3097440"/>
              <a:chOff x="3424320" y="2457000"/>
              <a:chExt cx="572400" cy="3097440"/>
            </a:xfrm>
          </p:grpSpPr>
          <p:cxnSp>
            <p:nvCxnSpPr>
              <p:cNvPr id="420" name=""/>
              <p:cNvCxnSpPr>
                <a:stCxn id="404" idx="1"/>
                <a:endCxn id="405" idx="1"/>
              </p:cNvCxnSpPr>
              <p:nvPr/>
            </p:nvCxnSpPr>
            <p:spPr>
              <a:xfrm flipH="1" rot="10800000">
                <a:off x="3994560" y="3536280"/>
                <a:ext cx="2520" cy="2018160"/>
              </a:xfrm>
              <a:prstGeom prst="bentConnector3">
                <a:avLst>
                  <a:gd name="adj1" fmla="val -26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  <p:cxnSp>
            <p:nvCxnSpPr>
              <p:cNvPr id="421" name=""/>
              <p:cNvCxnSpPr>
                <a:stCxn id="403" idx="1"/>
                <a:endCxn id="406" idx="1"/>
              </p:cNvCxnSpPr>
              <p:nvPr/>
            </p:nvCxnSpPr>
            <p:spPr>
              <a:xfrm flipH="1" rot="10800000">
                <a:off x="3994560" y="2456640"/>
                <a:ext cx="2520" cy="2592720"/>
              </a:xfrm>
              <a:prstGeom prst="bentConnector3">
                <a:avLst>
                  <a:gd name="adj1" fmla="val -14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2" name=""/>
          <p:cNvGrpSpPr/>
          <p:nvPr/>
        </p:nvGrpSpPr>
        <p:grpSpPr>
          <a:xfrm>
            <a:off x="8101080" y="4076640"/>
            <a:ext cx="503280" cy="289080"/>
            <a:chOff x="8101080" y="4076640"/>
            <a:chExt cx="503280" cy="289080"/>
          </a:xfrm>
        </p:grpSpPr>
        <p:sp>
          <p:nvSpPr>
            <p:cNvPr id="423" name=""/>
            <p:cNvSpPr/>
            <p:nvPr/>
          </p:nvSpPr>
          <p:spPr>
            <a:xfrm>
              <a:off x="8316720" y="4076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01080" y="4221360"/>
              <a:ext cx="215640" cy="7272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8360" y="4292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8889 E">
                                      <p:cBhvr>
                                        <p:cTn id="107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235160" y="2060640"/>
            <a:ext cx="16524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3505320" y="3194280"/>
            <a:ext cx="2306520" cy="28717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5810040" y="3886200"/>
            <a:ext cx="990360" cy="762120"/>
            <a:chOff x="5810040" y="3886200"/>
            <a:chExt cx="990360" cy="762120"/>
          </a:xfrm>
        </p:grpSpPr>
        <p:sp>
          <p:nvSpPr>
            <p:cNvPr id="1114" name=""/>
            <p:cNvSpPr/>
            <p:nvPr/>
          </p:nvSpPr>
          <p:spPr>
            <a:xfrm flipH="1">
              <a:off x="5810040" y="464832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14960" y="38862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43560" y="415440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808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220760" y="2065680"/>
            <a:ext cx="1671480" cy="459720"/>
            <a:chOff x="1220760" y="2065680"/>
            <a:chExt cx="1671480" cy="459720"/>
          </a:xfrm>
        </p:grpSpPr>
        <p:sp>
          <p:nvSpPr>
            <p:cNvPr id="1119" name=""/>
            <p:cNvSpPr/>
            <p:nvPr/>
          </p:nvSpPr>
          <p:spPr>
            <a:xfrm>
              <a:off x="12207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064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rot="16200000">
            <a:off x="11062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219320" y="457128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26" stAng="10800000" swAng="5400000"/>
                <a:lnTo>
                  <a:pt x="14499" y="5234"/>
                </a:lnTo>
                <a:lnTo>
                  <a:pt x="14499" y="0"/>
                </a:lnTo>
                <a:lnTo>
                  <a:pt x="21600" y="6079"/>
                </a:lnTo>
                <a:lnTo>
                  <a:pt x="14499" y="12158"/>
                </a:lnTo>
                <a:lnTo>
                  <a:pt x="14499" y="6924"/>
                </a:lnTo>
                <a:lnTo>
                  <a:pt x="12427" y="6924"/>
                </a:lnTo>
                <a:arcTo wR="10737" hR="5236" stAng="16200000" swAng="-5400000"/>
                <a:lnTo>
                  <a:pt x="1690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91240" y="2142000"/>
            <a:ext cx="1447920" cy="459720"/>
            <a:chOff x="6591240" y="2142000"/>
            <a:chExt cx="1447920" cy="459720"/>
          </a:xfrm>
        </p:grpSpPr>
        <p:sp>
          <p:nvSpPr>
            <p:cNvPr id="1124" name=""/>
            <p:cNvSpPr/>
            <p:nvPr/>
          </p:nvSpPr>
          <p:spPr>
            <a:xfrm>
              <a:off x="659124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5336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26" name=""/>
          <p:cNvCxnSpPr>
            <a:stCxn id="1114" idx="0"/>
            <a:endCxn id="1124" idx="2"/>
          </p:cNvCxnSpPr>
          <p:nvPr/>
        </p:nvCxnSpPr>
        <p:spPr>
          <a:xfrm flipV="1">
            <a:off x="6800400" y="2618640"/>
            <a:ext cx="172440" cy="201060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27" name=""/>
          <p:cNvCxnSpPr>
            <a:stCxn id="1120" idx="0"/>
            <a:endCxn id="1125" idx="0"/>
          </p:cNvCxnSpPr>
          <p:nvPr/>
        </p:nvCxnSpPr>
        <p:spPr>
          <a:xfrm flipH="1" rot="16200000">
            <a:off x="5084640" y="-488520"/>
            <a:ext cx="76680" cy="5147280"/>
          </a:xfrm>
          <a:prstGeom prst="bentConnector3">
            <a:avLst>
              <a:gd name="adj1" fmla="val -706132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28" name=""/>
          <p:cNvSpPr/>
          <p:nvPr/>
        </p:nvSpPr>
        <p:spPr>
          <a:xfrm>
            <a:off x="685800" y="36939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fe7c92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81280" y="5334120"/>
            <a:ext cx="8380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3357720" y="4743360"/>
            <a:ext cx="2446560" cy="819360"/>
            <a:chOff x="3357720" y="4743360"/>
            <a:chExt cx="2446560" cy="819360"/>
          </a:xfrm>
        </p:grpSpPr>
        <p:grpSp>
          <p:nvGrpSpPr>
            <p:cNvPr id="1131" name=""/>
            <p:cNvGrpSpPr/>
            <p:nvPr/>
          </p:nvGrpSpPr>
          <p:grpSpPr>
            <a:xfrm>
              <a:off x="3520800" y="5086440"/>
              <a:ext cx="2283480" cy="476280"/>
              <a:chOff x="3520800" y="5086440"/>
              <a:chExt cx="2283480" cy="47628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3976200" y="5094720"/>
                <a:ext cx="1828080" cy="459720"/>
                <a:chOff x="3976200" y="5094720"/>
                <a:chExt cx="1828080" cy="4597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976200" y="5094720"/>
                  <a:ext cx="83772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813920" y="5094720"/>
                  <a:ext cx="99036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3520800" y="5086440"/>
                <a:ext cx="456840" cy="47628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357720" y="4743360"/>
              <a:ext cx="228240" cy="6667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333600" y="3952800"/>
            <a:ext cx="2471760" cy="871560"/>
            <a:chOff x="3333600" y="3952800"/>
            <a:chExt cx="2471760" cy="871560"/>
          </a:xfrm>
        </p:grpSpPr>
        <p:grpSp>
          <p:nvGrpSpPr>
            <p:cNvPr id="1138" name=""/>
            <p:cNvGrpSpPr/>
            <p:nvPr/>
          </p:nvGrpSpPr>
          <p:grpSpPr>
            <a:xfrm>
              <a:off x="3525840" y="4343400"/>
              <a:ext cx="2279520" cy="480960"/>
              <a:chOff x="3525840" y="4343400"/>
              <a:chExt cx="2279520" cy="48096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3976560" y="4351680"/>
                <a:ext cx="1828800" cy="459720"/>
                <a:chOff x="3976560" y="4351680"/>
                <a:chExt cx="1828800" cy="459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976560" y="4351680"/>
                  <a:ext cx="83808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814640" y="4351680"/>
                  <a:ext cx="99072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3525840" y="4343400"/>
                <a:ext cx="457200" cy="48096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333600" y="3952800"/>
              <a:ext cx="228600" cy="7621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045160" y="3716280"/>
            <a:ext cx="1301040" cy="2192400"/>
            <a:chOff x="2045160" y="3716280"/>
            <a:chExt cx="1301040" cy="2192400"/>
          </a:xfrm>
        </p:grpSpPr>
        <p:sp>
          <p:nvSpPr>
            <p:cNvPr id="1145" name=""/>
            <p:cNvSpPr/>
            <p:nvPr/>
          </p:nvSpPr>
          <p:spPr>
            <a:xfrm>
              <a:off x="2357280" y="4043520"/>
              <a:ext cx="462240" cy="1865160"/>
            </a:xfrm>
            <a:prstGeom prst="rect">
              <a:avLst/>
            </a:prstGeom>
            <a:solidFill>
              <a:srgbClr val="fe7c92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62320" y="5105520"/>
              <a:ext cx="457200" cy="457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45160" y="371628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815328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0" name=""/>
          <p:cNvSpPr/>
          <p:nvPr/>
        </p:nvSpPr>
        <p:spPr>
          <a:xfrm>
            <a:off x="6858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021200" y="49719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33800" y="4276800"/>
            <a:ext cx="752400" cy="66816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19760" y="42465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00"/>
                            </p:stCondLst>
                            <p:childTnLst>
                              <p:par>
                                <p:cTn id="1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3657600" y="4952880"/>
            <a:ext cx="1481040" cy="38124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38120" y="4957920"/>
            <a:ext cx="1481400" cy="3808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57600" y="4519440"/>
            <a:ext cx="148104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338120" y="4519440"/>
            <a:ext cx="148140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: Shared Pages (1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haring: reentran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2 x same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276720" y="3607920"/>
            <a:ext cx="1863720" cy="3385800"/>
            <a:chOff x="3276720" y="3607920"/>
            <a:chExt cx="1863720" cy="3385800"/>
          </a:xfrm>
        </p:grpSpPr>
        <p:sp>
          <p:nvSpPr>
            <p:cNvPr id="1161" name=""/>
            <p:cNvSpPr/>
            <p:nvPr/>
          </p:nvSpPr>
          <p:spPr>
            <a:xfrm>
              <a:off x="3276720" y="453636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57600" y="4525200"/>
              <a:ext cx="60948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4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57600" y="4975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7600" y="5337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57600" y="5697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62400" y="360792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2400" y="49719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62400" y="533412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2400" y="569448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955800" y="3612600"/>
            <a:ext cx="1863720" cy="3385800"/>
            <a:chOff x="955800" y="3612600"/>
            <a:chExt cx="1863720" cy="3385800"/>
          </a:xfrm>
        </p:grpSpPr>
        <p:sp>
          <p:nvSpPr>
            <p:cNvPr id="1171" name=""/>
            <p:cNvSpPr/>
            <p:nvPr/>
          </p:nvSpPr>
          <p:spPr>
            <a:xfrm>
              <a:off x="955800" y="454140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36680" y="4530240"/>
              <a:ext cx="60984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5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36680" y="4979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36680" y="5342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36680" y="5702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941480" y="361260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41480" y="497664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41480" y="533880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941480" y="56991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001160" y="2579760"/>
            <a:ext cx="1840680" cy="1836720"/>
            <a:chOff x="1001160" y="2579760"/>
            <a:chExt cx="1840680" cy="1836720"/>
          </a:xfrm>
        </p:grpSpPr>
        <p:grpSp>
          <p:nvGrpSpPr>
            <p:cNvPr id="1181" name=""/>
            <p:cNvGrpSpPr/>
            <p:nvPr/>
          </p:nvGrpSpPr>
          <p:grpSpPr>
            <a:xfrm>
              <a:off x="1001160" y="2579760"/>
              <a:ext cx="1234080" cy="1836720"/>
              <a:chOff x="1001160" y="2579760"/>
              <a:chExt cx="1234080" cy="1836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1290600" y="2579760"/>
                <a:ext cx="944640" cy="458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89160" y="3038400"/>
                <a:ext cx="944280" cy="45900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290600" y="3497400"/>
                <a:ext cx="944640" cy="458640"/>
              </a:xfrm>
              <a:prstGeom prst="rect">
                <a:avLst/>
              </a:prstGeom>
              <a:solidFill>
                <a:srgbClr val="fe7c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Data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290600" y="3957480"/>
                <a:ext cx="944640" cy="45900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01160" y="2666880"/>
                <a:ext cx="326880" cy="16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 rot="16237200">
              <a:off x="1969200" y="3312360"/>
              <a:ext cx="13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3271320" y="2577960"/>
            <a:ext cx="1840680" cy="1836720"/>
            <a:chOff x="3271320" y="2577960"/>
            <a:chExt cx="1840680" cy="1836720"/>
          </a:xfrm>
        </p:grpSpPr>
        <p:sp>
          <p:nvSpPr>
            <p:cNvPr id="1189" name=""/>
            <p:cNvSpPr/>
            <p:nvPr/>
          </p:nvSpPr>
          <p:spPr>
            <a:xfrm>
              <a:off x="3560760" y="2577960"/>
              <a:ext cx="944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59320" y="3036960"/>
              <a:ext cx="944280" cy="45864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60760" y="3495600"/>
              <a:ext cx="94464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60760" y="39560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71320" y="2665080"/>
              <a:ext cx="326880" cy="16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6237200">
              <a:off x="4237920" y="33109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7360560" y="1981080"/>
            <a:ext cx="1249920" cy="4141800"/>
            <a:chOff x="7360560" y="1981080"/>
            <a:chExt cx="1249920" cy="4141800"/>
          </a:xfrm>
        </p:grpSpPr>
        <p:sp>
          <p:nvSpPr>
            <p:cNvPr id="1196" name=""/>
            <p:cNvSpPr/>
            <p:nvPr/>
          </p:nvSpPr>
          <p:spPr>
            <a:xfrm>
              <a:off x="7664400" y="4724280"/>
              <a:ext cx="944280" cy="459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64400" y="2895480"/>
              <a:ext cx="94428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664400" y="3809880"/>
              <a:ext cx="94428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65840" y="33512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60560" y="2014560"/>
              <a:ext cx="326880" cy="41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664400" y="4267080"/>
              <a:ext cx="944280" cy="459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64400" y="5181480"/>
              <a:ext cx="944280" cy="459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64400" y="56386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64400" y="24382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64400" y="19810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486400" y="3432600"/>
            <a:ext cx="2362320" cy="1520280"/>
            <a:chOff x="5486400" y="3432600"/>
            <a:chExt cx="2362320" cy="1520280"/>
          </a:xfrm>
        </p:grpSpPr>
        <p:sp>
          <p:nvSpPr>
            <p:cNvPr id="1207" name=""/>
            <p:cNvSpPr/>
            <p:nvPr/>
          </p:nvSpPr>
          <p:spPr>
            <a:xfrm>
              <a:off x="5486400" y="3432600"/>
              <a:ext cx="143676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680" y="-7697"/>
                  </a:moveTo>
                  <a:lnTo>
                    <a:pt x="22746" y="3471"/>
                  </a:lnTo>
                </a:path>
                <a:path w="21600" h="21600">
                  <a:moveTo>
                    <a:pt x="22746" y="0"/>
                  </a:moveTo>
                  <a:lnTo>
                    <a:pt x="22746" y="21600"/>
                  </a:lnTo>
                </a:path>
              </a:pathLst>
            </a:custGeom>
            <a:solidFill>
              <a:srgbClr val="fafd00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010280" y="3809880"/>
              <a:ext cx="8384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257800" y="441972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38680" y="4191120"/>
            <a:ext cx="838440" cy="761760"/>
          </a:xfrm>
          <a:custGeom>
            <a:avLst/>
            <a:gdLst>
              <a:gd name="textAreaLeft" fmla="*/ 279360 w 838440"/>
              <a:gd name="textAreaRight" fmla="*/ 718200 w 83844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500"/>
                            </p:stCondLst>
                            <p:childTnLst>
                              <p:par>
                                <p:cTn id="2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86000" y="297180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080" y="426708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57200" y="2666880"/>
            <a:ext cx="3733920" cy="2819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7240" y="2328840"/>
            <a:ext cx="1546200" cy="1069560"/>
          </a:xfr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:</a:t>
            </a:r>
            <a:br>
              <a:rPr sz="24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Nam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600" y="4267080"/>
            <a:ext cx="236232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rd instructi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76720" y="5410080"/>
            <a:ext cx="236196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5t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410080" y="3935160"/>
            <a:ext cx="2966760" cy="1703520"/>
            <a:chOff x="5410080" y="3935160"/>
            <a:chExt cx="2966760" cy="1703520"/>
          </a:xfrm>
        </p:grpSpPr>
        <p:sp>
          <p:nvSpPr>
            <p:cNvPr id="1221" name=""/>
            <p:cNvSpPr/>
            <p:nvPr/>
          </p:nvSpPr>
          <p:spPr>
            <a:xfrm>
              <a:off x="6331320" y="3935160"/>
              <a:ext cx="2045520" cy="1435320"/>
            </a:xfr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ddresses: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lative to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beginning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of seg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410080" y="5181480"/>
              <a:ext cx="847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500"/>
                            </p:stCondLst>
                            <p:childTnLst>
                              <p:par>
                                <p:cTn id="2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, 0, 1, 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ative to start of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3200400" y="3886200"/>
            <a:ext cx="1308240" cy="13716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24280" y="3886200"/>
            <a:ext cx="0" cy="9144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09880" y="388620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95680" y="480060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1320" y="40377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31960" y="548568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= (s,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6813720" y="3513240"/>
            <a:ext cx="1800000" cy="1079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"/>
          <p:cNvSpPr/>
          <p:nvPr/>
        </p:nvSpPr>
        <p:spPr>
          <a:xfrm>
            <a:off x="914400" y="1523880"/>
            <a:ext cx="2895480" cy="411480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49360" y="326376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81080" y="443376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857840" y="1523880"/>
            <a:ext cx="1079280" cy="44960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7840" y="3200400"/>
            <a:ext cx="10792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57840" y="4952880"/>
            <a:ext cx="107928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57840" y="190512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57840" y="2590920"/>
            <a:ext cx="10792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857840" y="4462560"/>
            <a:ext cx="1079280" cy="49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57840" y="1523880"/>
            <a:ext cx="10792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74120" y="1214640"/>
            <a:ext cx="7477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7616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95480" y="50281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124080" y="396144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10480" y="35114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710480" y="35132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10480" y="38750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710480" y="3876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458760" y="3504240"/>
            <a:ext cx="341280" cy="1068840"/>
            <a:chOff x="6458760" y="3504240"/>
            <a:chExt cx="341280" cy="1068840"/>
          </a:xfrm>
        </p:grpSpPr>
        <p:sp>
          <p:nvSpPr>
            <p:cNvPr id="1255" name=""/>
            <p:cNvSpPr/>
            <p:nvPr/>
          </p:nvSpPr>
          <p:spPr>
            <a:xfrm>
              <a:off x="6479280" y="3504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8760" y="3869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458760" y="417420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5978160" y="304704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Se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10480" y="3054240"/>
            <a:ext cx="9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862760" y="305280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6200000">
            <a:off x="571680" y="3695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6200000">
            <a:off x="2095560" y="384804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1562040" y="4838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6522480" y="1290600"/>
            <a:ext cx="1872360" cy="4978440"/>
            <a:chOff x="6522480" y="1290600"/>
            <a:chExt cx="1872360" cy="4978440"/>
          </a:xfrm>
        </p:grpSpPr>
        <p:sp>
          <p:nvSpPr>
            <p:cNvPr id="1266" name=""/>
            <p:cNvSpPr/>
            <p:nvPr/>
          </p:nvSpPr>
          <p:spPr>
            <a:xfrm>
              <a:off x="7315200" y="1600200"/>
              <a:ext cx="1079640" cy="4495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15200" y="3276720"/>
              <a:ext cx="1079640" cy="107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q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15200" y="5029200"/>
              <a:ext cx="1079640" cy="90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15200" y="1981080"/>
              <a:ext cx="1079640" cy="71928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15200" y="2666880"/>
              <a:ext cx="10796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15200" y="4538520"/>
              <a:ext cx="1079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15200" y="1600200"/>
              <a:ext cx="107964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22480" y="1290600"/>
              <a:ext cx="76608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6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3615840" y="1531080"/>
            <a:ext cx="2784960" cy="1551960"/>
            <a:chOff x="3615840" y="1531080"/>
            <a:chExt cx="2784960" cy="1551960"/>
          </a:xfrm>
        </p:grpSpPr>
        <p:sp>
          <p:nvSpPr>
            <p:cNvPr id="1275" name=""/>
            <p:cNvSpPr/>
            <p:nvPr/>
          </p:nvSpPr>
          <p:spPr>
            <a:xfrm>
              <a:off x="4116960" y="1988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48160" y="199548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48160" y="1994040"/>
              <a:ext cx="90036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48160" y="2362320"/>
              <a:ext cx="90000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48160" y="236052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48160" y="27194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48160" y="27226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96440" y="2353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6440" y="2658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15840" y="15310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48160" y="15382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00800" y="153684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533520" y="200664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49440" y="1676520"/>
            <a:ext cx="107964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922480" y="3200400"/>
            <a:ext cx="1079640" cy="90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3400" y="3581280"/>
            <a:ext cx="2362320" cy="609840"/>
          </a:xfrm>
          <a:prstGeom prst="wedgeRoundRectCallout">
            <a:avLst>
              <a:gd name="adj1" fmla="val -108939"/>
              <a:gd name="adj2" fmla="val -225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UMP  (2,3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3124080"/>
            <a:ext cx="2438280" cy="762120"/>
          </a:xfrm>
          <a:prstGeom prst="wedgeRoundRectCallout">
            <a:avLst>
              <a:gd name="adj1" fmla="val -18097"/>
              <a:gd name="adj2" fmla="val -1191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ORE R3,(1,123)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 R4,(1,4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230120" y="2513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8424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14520" y="24372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18280" y="50886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123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123 &lt; 4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2100 + 123 = 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18280" y="42660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2,340)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340 &lt; 5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1000 + 340 = 1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05120" y="22860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0" y="38862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81680" y="52578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38280" y="34290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5715000"/>
            <a:ext cx="762120" cy="53352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55720" y="58507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455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455 &lt; 450 =&gt; N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500"/>
                            </p:stCondLst>
                            <p:childTnLst>
                              <p:par>
                                <p:cTn id="23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2971800" y="3429000"/>
            <a:ext cx="5791320" cy="2590920"/>
            <a:chOff x="2971800" y="3429000"/>
            <a:chExt cx="5791320" cy="2590920"/>
          </a:xfrm>
        </p:grpSpPr>
        <p:sp>
          <p:nvSpPr>
            <p:cNvPr id="1304" name=""/>
            <p:cNvSpPr/>
            <p:nvPr/>
          </p:nvSpPr>
          <p:spPr>
            <a:xfrm>
              <a:off x="2971800" y="4267080"/>
              <a:ext cx="5791320" cy="175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3800" y="3429000"/>
              <a:ext cx="1219320" cy="2590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38880" y="4290840"/>
              <a:ext cx="762120" cy="1676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"/>
          <p:cNvCxnSpPr>
            <a:stCxn id="1308" idx="2"/>
            <a:endCxn id="1312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310" idx="3"/>
            <a:endCxn id="1314" idx="1"/>
          </p:cNvCxnSpPr>
          <p:nvPr/>
        </p:nvCxnSpPr>
        <p:spPr>
          <a:xfrm flipV="1">
            <a:off x="1636200" y="5249520"/>
            <a:ext cx="38988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2565000" y="5249880"/>
            <a:ext cx="7880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4" name=""/>
          <p:cNvSpPr/>
          <p:nvPr/>
        </p:nvSpPr>
        <p:spPr>
          <a:xfrm>
            <a:off x="202572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7" name=""/>
          <p:cNvCxnSpPr>
            <a:stCxn id="1312" idx="2"/>
            <a:endCxn id="1314" idx="0"/>
          </p:cNvCxnSpPr>
          <p:nvPr/>
        </p:nvCxnSpPr>
        <p:spPr>
          <a:xfrm>
            <a:off x="2295000" y="3099960"/>
            <a:ext cx="108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9" name=""/>
          <p:cNvCxnSpPr>
            <a:stCxn id="1318" idx="3"/>
            <a:endCxn id="1312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20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21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22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9" name=""/>
          <p:cNvCxnSpPr>
            <a:stCxn id="1324" idx="3"/>
            <a:endCxn id="1330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0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1" name=""/>
          <p:cNvCxnSpPr>
            <a:stCxn id="1309" idx="2"/>
            <a:endCxn id="1330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2" name=""/>
          <p:cNvSpPr/>
          <p:nvPr/>
        </p:nvSpPr>
        <p:spPr>
          <a:xfrm>
            <a:off x="6811920" y="222732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3" name=""/>
          <p:cNvCxnSpPr>
            <a:stCxn id="1330" idx="3"/>
            <a:endCxn id="1332" idx="1"/>
          </p:cNvCxnSpPr>
          <p:nvPr/>
        </p:nvCxnSpPr>
        <p:spPr>
          <a:xfrm>
            <a:off x="6502320" y="2494080"/>
            <a:ext cx="310320" cy="360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4" name=""/>
          <p:cNvCxnSpPr>
            <a:stCxn id="1325" idx="0"/>
            <a:endCxn id="1332" idx="2"/>
          </p:cNvCxnSpPr>
          <p:nvPr/>
        </p:nvCxnSpPr>
        <p:spPr>
          <a:xfrm flipH="1" flipV="1" rot="5400000">
            <a:off x="4112280" y="2457720"/>
            <a:ext cx="2661480" cy="3278880"/>
          </a:xfrm>
          <a:prstGeom prst="bentConnector3">
            <a:avLst>
              <a:gd name="adj1" fmla="val -1747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stCxn id="1332" idx="3"/>
            <a:endCxn id="1335" idx="1"/>
          </p:cNvCxnSpPr>
          <p:nvPr/>
        </p:nvCxnSpPr>
        <p:spPr>
          <a:xfrm>
            <a:off x="7351200" y="2496600"/>
            <a:ext cx="30564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7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38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41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916040" y="3458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35" idx="2"/>
            <a:endCxn id="1343" idx="0"/>
          </p:cNvCxnSpPr>
          <p:nvPr/>
        </p:nvCxnSpPr>
        <p:spPr>
          <a:xfrm flipH="1">
            <a:off x="8281440" y="2679480"/>
            <a:ext cx="5400" cy="780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5" name=""/>
          <p:cNvSpPr/>
          <p:nvPr/>
        </p:nvSpPr>
        <p:spPr>
          <a:xfrm>
            <a:off x="2438280" y="48769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24680" y="28195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10080" y="32803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489" y="-5853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48120" y="3356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77" y="47993"/>
                </a:moveTo>
                <a:lnTo>
                  <a:pt x="-1029" y="3471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9" dur="indefinite" restart="never" nodeType="tmRoot">
          <p:childTnLst>
            <p:seq>
              <p:cTn id="2370" dur="indefinite" nodeType="mainSeq">
                <p:childTnLst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3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500"/>
                            </p:stCondLst>
                            <p:childTnLst>
                              <p:par>
                                <p:cTn id="2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500"/>
                            </p:stCondLst>
                            <p:childTnLst>
                              <p:par>
                                <p:cTn id="2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5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500"/>
                            </p:stCondLst>
                            <p:childTnLst>
                              <p:par>
                                <p:cTn id="24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50" idx="2"/>
            <a:endCxn id="1354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5" name=""/>
          <p:cNvCxnSpPr>
            <a:stCxn id="1352" idx="3"/>
            <a:endCxn id="1356" idx="1"/>
          </p:cNvCxnSpPr>
          <p:nvPr/>
        </p:nvCxnSpPr>
        <p:spPr>
          <a:xfrm flipV="1">
            <a:off x="1636200" y="5249520"/>
            <a:ext cx="3978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56" idx="3"/>
            <a:endCxn id="1358" idx="1"/>
          </p:cNvCxnSpPr>
          <p:nvPr/>
        </p:nvCxnSpPr>
        <p:spPr>
          <a:xfrm>
            <a:off x="2572920" y="5249880"/>
            <a:ext cx="780120" cy="216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6" name=""/>
          <p:cNvSpPr/>
          <p:nvPr/>
        </p:nvSpPr>
        <p:spPr>
          <a:xfrm>
            <a:off x="203364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stCxn id="1354" idx="2"/>
            <a:endCxn id="1356" idx="0"/>
          </p:cNvCxnSpPr>
          <p:nvPr/>
        </p:nvCxnSpPr>
        <p:spPr>
          <a:xfrm>
            <a:off x="2295000" y="3099960"/>
            <a:ext cx="900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1" name=""/>
          <p:cNvCxnSpPr>
            <a:stCxn id="1360" idx="3"/>
            <a:endCxn id="1354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62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63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1" name=""/>
          <p:cNvCxnSpPr>
            <a:stCxn id="1366" idx="3"/>
            <a:endCxn id="1372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2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3" name=""/>
          <p:cNvCxnSpPr>
            <a:stCxn id="1351" idx="2"/>
            <a:endCxn id="1372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4" name=""/>
          <p:cNvSpPr/>
          <p:nvPr/>
        </p:nvSpPr>
        <p:spPr>
          <a:xfrm>
            <a:off x="6811920" y="22320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72" idx="3"/>
            <a:endCxn id="1374" idx="1"/>
          </p:cNvCxnSpPr>
          <p:nvPr/>
        </p:nvCxnSpPr>
        <p:spPr>
          <a:xfrm>
            <a:off x="6502320" y="2494080"/>
            <a:ext cx="310320" cy="864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6" name=""/>
          <p:cNvCxnSpPr>
            <a:stCxn id="1367" idx="0"/>
            <a:endCxn id="1374" idx="2"/>
          </p:cNvCxnSpPr>
          <p:nvPr/>
        </p:nvCxnSpPr>
        <p:spPr>
          <a:xfrm flipH="1" flipV="1" rot="5400000">
            <a:off x="4114440" y="2460240"/>
            <a:ext cx="2656800" cy="3278880"/>
          </a:xfrm>
          <a:prstGeom prst="bentConnector3">
            <a:avLst>
              <a:gd name="adj1" fmla="val -193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8" name=""/>
          <p:cNvCxnSpPr>
            <a:stCxn id="1374" idx="3"/>
            <a:endCxn id="1377" idx="1"/>
          </p:cNvCxnSpPr>
          <p:nvPr/>
        </p:nvCxnSpPr>
        <p:spPr>
          <a:xfrm flipV="1">
            <a:off x="7351200" y="2499480"/>
            <a:ext cx="30564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9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80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83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2294280" y="3099960"/>
            <a:ext cx="463680" cy="886320"/>
            <a:chOff x="2294280" y="3099960"/>
            <a:chExt cx="463680" cy="886320"/>
          </a:xfrm>
        </p:grpSpPr>
        <p:cxnSp>
          <p:nvCxnSpPr>
            <p:cNvPr id="1386" name=""/>
            <p:cNvCxnSpPr>
              <a:stCxn id="1354" idx="2"/>
              <a:endCxn id="1387" idx="1"/>
            </p:cNvCxnSpPr>
            <p:nvPr/>
          </p:nvCxnSpPr>
          <p:spPr>
            <a:xfrm flipH="1" rot="16200000">
              <a:off x="2443680" y="2950920"/>
              <a:ext cx="162720" cy="4611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88" name=""/>
            <p:cNvCxnSpPr>
              <a:stCxn id="1354" idx="2"/>
              <a:endCxn id="1389" idx="1"/>
            </p:cNvCxnSpPr>
            <p:nvPr/>
          </p:nvCxnSpPr>
          <p:spPr>
            <a:xfrm flipH="1" rot="16200000">
              <a:off x="2264760" y="3130200"/>
              <a:ext cx="52416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54" idx="2"/>
              <a:endCxn id="1391" idx="1"/>
            </p:cNvCxnSpPr>
            <p:nvPr/>
          </p:nvCxnSpPr>
          <p:spPr>
            <a:xfrm flipH="1" rot="16200000">
              <a:off x="2083320" y="3311640"/>
              <a:ext cx="88668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1392" name=""/>
          <p:cNvGrpSpPr/>
          <p:nvPr/>
        </p:nvGrpSpPr>
        <p:grpSpPr>
          <a:xfrm>
            <a:off x="2755800" y="3076560"/>
            <a:ext cx="3058920" cy="1089000"/>
            <a:chOff x="2755800" y="3076560"/>
            <a:chExt cx="3058920" cy="1089000"/>
          </a:xfrm>
        </p:grpSpPr>
        <p:grpSp>
          <p:nvGrpSpPr>
            <p:cNvPr id="1393" name=""/>
            <p:cNvGrpSpPr/>
            <p:nvPr/>
          </p:nvGrpSpPr>
          <p:grpSpPr>
            <a:xfrm>
              <a:off x="4014720" y="3076560"/>
              <a:ext cx="1800000" cy="1089000"/>
              <a:chOff x="4014720" y="3076560"/>
              <a:chExt cx="1800000" cy="1089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4014720" y="30780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14720" y="30765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014720" y="344484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14720" y="34434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014720" y="38019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914720" y="38052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2757240" y="34434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55800" y="30816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57240" y="38052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400800" y="518508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-166254"/>
              <a:gd name="adj4" fmla="val -3340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1" name=""/>
          <p:cNvCxnSpPr>
            <a:stCxn id="1397" idx="3"/>
            <a:endCxn id="1372" idx="2"/>
          </p:cNvCxnSpPr>
          <p:nvPr/>
        </p:nvCxnSpPr>
        <p:spPr>
          <a:xfrm flipV="1">
            <a:off x="5815080" y="2871360"/>
            <a:ext cx="310320" cy="753120"/>
          </a:xfrm>
          <a:prstGeom prst="bentConnector2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8" idx="0"/>
            <a:endCxn id="1374" idx="2"/>
          </p:cNvCxnSpPr>
          <p:nvPr/>
        </p:nvCxnSpPr>
        <p:spPr>
          <a:xfrm flipH="1" flipV="1" rot="5400000">
            <a:off x="5258160" y="1978200"/>
            <a:ext cx="1031040" cy="2616840"/>
          </a:xfrm>
          <a:prstGeom prst="bentConnector3">
            <a:avLst>
              <a:gd name="adj1" fmla="val -50227"/>
            </a:avLst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1403" name=""/>
          <p:cNvGrpSpPr/>
          <p:nvPr/>
        </p:nvGrpSpPr>
        <p:grpSpPr>
          <a:xfrm>
            <a:off x="5334120" y="4190760"/>
            <a:ext cx="174240" cy="1759320"/>
            <a:chOff x="5334120" y="4190760"/>
            <a:chExt cx="174240" cy="1759320"/>
          </a:xfrm>
        </p:grpSpPr>
        <p:sp>
          <p:nvSpPr>
            <p:cNvPr id="1404" name=""/>
            <p:cNvSpPr/>
            <p:nvPr/>
          </p:nvSpPr>
          <p:spPr>
            <a:xfrm flipV="1">
              <a:off x="5508360" y="4190760"/>
              <a:ext cx="0" cy="102564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334120" y="4191120"/>
              <a:ext cx="0" cy="175896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Protection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s: Semantically defined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ra Protection Bits in 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/RW or R/W/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3492360" y="3933720"/>
            <a:ext cx="1952640" cy="1470240"/>
            <a:chOff x="3492360" y="3933720"/>
            <a:chExt cx="1952640" cy="1470240"/>
          </a:xfrm>
        </p:grpSpPr>
        <p:grpSp>
          <p:nvGrpSpPr>
            <p:cNvPr id="1409" name=""/>
            <p:cNvGrpSpPr/>
            <p:nvPr/>
          </p:nvGrpSpPr>
          <p:grpSpPr>
            <a:xfrm>
              <a:off x="3554280" y="4314960"/>
              <a:ext cx="1800000" cy="1089000"/>
              <a:chOff x="3554280" y="4314960"/>
              <a:chExt cx="1800000" cy="1089000"/>
            </a:xfrm>
          </p:grpSpPr>
          <p:sp>
            <p:nvSpPr>
              <p:cNvPr id="1410" name=""/>
              <p:cNvSpPr/>
              <p:nvPr/>
            </p:nvSpPr>
            <p:spPr>
              <a:xfrm>
                <a:off x="3554280" y="43164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454280" y="4314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54280" y="468324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54280" y="46818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54280" y="50403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54280" y="5043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3492360" y="393552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4500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457360" y="3933720"/>
            <a:ext cx="1106280" cy="1465200"/>
            <a:chOff x="2457360" y="3933720"/>
            <a:chExt cx="1106280" cy="1465200"/>
          </a:xfrm>
        </p:grpSpPr>
        <p:sp>
          <p:nvSpPr>
            <p:cNvPr id="1419" name=""/>
            <p:cNvSpPr/>
            <p:nvPr/>
          </p:nvSpPr>
          <p:spPr>
            <a:xfrm>
              <a:off x="2663640" y="431460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63640" y="468144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63640" y="503856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45736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8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8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819520" y="4330800"/>
            <a:ext cx="180000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32120" y="1989000"/>
            <a:ext cx="1800360" cy="1440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7836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Shar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>
            <a:off x="6858000" y="2209680"/>
            <a:ext cx="107964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0" y="4419720"/>
            <a:ext cx="1079640" cy="10666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67560" y="297180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106240" y="106812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33560" y="19828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733920" y="198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33560" y="2349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234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833560" y="2706840"/>
            <a:ext cx="90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33920" y="270972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01240" y="1518480"/>
            <a:ext cx="2784960" cy="398880"/>
            <a:chOff x="2001240" y="1518480"/>
            <a:chExt cx="2784960" cy="398880"/>
          </a:xfrm>
        </p:grpSpPr>
        <p:sp>
          <p:nvSpPr>
            <p:cNvPr id="1439" name=""/>
            <p:cNvSpPr/>
            <p:nvPr/>
          </p:nvSpPr>
          <p:spPr>
            <a:xfrm>
              <a:off x="2001240" y="15184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33560" y="15256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86200" y="15238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5775480" y="4343400"/>
            <a:ext cx="1079280" cy="6094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819520" y="4322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719520" y="432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19520" y="468936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719520" y="468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819520" y="504684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19520" y="504972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987200" y="3858120"/>
            <a:ext cx="2784960" cy="398880"/>
            <a:chOff x="1987200" y="3858120"/>
            <a:chExt cx="2784960" cy="398880"/>
          </a:xfrm>
        </p:grpSpPr>
        <p:sp>
          <p:nvSpPr>
            <p:cNvPr id="1450" name=""/>
            <p:cNvSpPr/>
            <p:nvPr/>
          </p:nvSpPr>
          <p:spPr>
            <a:xfrm>
              <a:off x="1987200" y="385812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19520" y="38656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71800" y="3863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" name=""/>
          <p:cNvSpPr/>
          <p:nvPr/>
        </p:nvSpPr>
        <p:spPr>
          <a:xfrm>
            <a:off x="2832120" y="3073320"/>
            <a:ext cx="90000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732120" y="3076560"/>
            <a:ext cx="90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2464560" y="1975680"/>
            <a:ext cx="358920" cy="1435320"/>
            <a:chOff x="2464560" y="1975680"/>
            <a:chExt cx="358920" cy="1435320"/>
          </a:xfrm>
        </p:grpSpPr>
        <p:sp>
          <p:nvSpPr>
            <p:cNvPr id="1456" name=""/>
            <p:cNvSpPr/>
            <p:nvPr/>
          </p:nvSpPr>
          <p:spPr>
            <a:xfrm>
              <a:off x="2502720" y="1975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481840" y="234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81840" y="264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64560" y="3012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2816280" y="541188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716280" y="541512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2448720" y="4315320"/>
            <a:ext cx="360360" cy="1434240"/>
            <a:chOff x="2448720" y="4315320"/>
            <a:chExt cx="360360" cy="1434240"/>
          </a:xfrm>
        </p:grpSpPr>
        <p:sp>
          <p:nvSpPr>
            <p:cNvPr id="1463" name=""/>
            <p:cNvSpPr/>
            <p:nvPr/>
          </p:nvSpPr>
          <p:spPr>
            <a:xfrm>
              <a:off x="2488320" y="4315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7800" y="468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67800" y="498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48720" y="5350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7938360" y="104760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783400" y="5181480"/>
            <a:ext cx="1079280" cy="45720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0" y="3657600"/>
            <a:ext cx="1079640" cy="45720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51720" y="1744560"/>
            <a:ext cx="1870920" cy="1989360"/>
            <a:chOff x="351720" y="1744560"/>
            <a:chExt cx="1870920" cy="1989360"/>
          </a:xfrm>
        </p:grpSpPr>
        <p:sp>
          <p:nvSpPr>
            <p:cNvPr id="1471" name=""/>
            <p:cNvSpPr/>
            <p:nvPr/>
          </p:nvSpPr>
          <p:spPr>
            <a:xfrm>
              <a:off x="380880" y="2743200"/>
              <a:ext cx="1079640" cy="6094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90720" y="3276720"/>
              <a:ext cx="1079280" cy="45720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43000" y="2133720"/>
              <a:ext cx="1079640" cy="855000"/>
              <a:chOff x="1143000" y="2133720"/>
              <a:chExt cx="1079640" cy="85500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43000" y="2133720"/>
                <a:ext cx="107964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883880" y="2589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351720" y="299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99640" y="3251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457200" y="1744560"/>
              <a:ext cx="1079640" cy="770760"/>
              <a:chOff x="457200" y="1744560"/>
              <a:chExt cx="1079640" cy="770760"/>
            </a:xfrm>
          </p:grpSpPr>
          <p:sp>
            <p:nvSpPr>
              <p:cNvPr id="1479" name=""/>
              <p:cNvSpPr/>
              <p:nvPr/>
            </p:nvSpPr>
            <p:spPr>
              <a:xfrm>
                <a:off x="457200" y="1744560"/>
                <a:ext cx="107964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199520" y="21164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1" name=""/>
          <p:cNvGrpSpPr/>
          <p:nvPr/>
        </p:nvGrpSpPr>
        <p:grpSpPr>
          <a:xfrm>
            <a:off x="449280" y="3954600"/>
            <a:ext cx="2065320" cy="2141280"/>
            <a:chOff x="449280" y="3954600"/>
            <a:chExt cx="2065320" cy="2141280"/>
          </a:xfrm>
        </p:grpSpPr>
        <p:sp>
          <p:nvSpPr>
            <p:cNvPr id="1482" name=""/>
            <p:cNvSpPr/>
            <p:nvPr/>
          </p:nvSpPr>
          <p:spPr>
            <a:xfrm>
              <a:off x="449280" y="4952880"/>
              <a:ext cx="1079640" cy="1143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34960" y="5562720"/>
              <a:ext cx="1079640" cy="457200"/>
            </a:xfrm>
            <a:prstGeom prst="rec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1219320" y="4343400"/>
              <a:ext cx="1079280" cy="855000"/>
              <a:chOff x="1219320" y="4343400"/>
              <a:chExt cx="1079280" cy="855000"/>
            </a:xfrm>
          </p:grpSpPr>
          <p:sp>
            <p:nvSpPr>
              <p:cNvPr id="1485" name=""/>
              <p:cNvSpPr/>
              <p:nvPr/>
            </p:nvSpPr>
            <p:spPr>
              <a:xfrm>
                <a:off x="1219320" y="4343400"/>
                <a:ext cx="107928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59480" y="4799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56480" y="563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75960" y="5461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533520" y="3954600"/>
              <a:ext cx="1079280" cy="770760"/>
              <a:chOff x="533520" y="3954600"/>
              <a:chExt cx="1079280" cy="770760"/>
            </a:xfrm>
          </p:grpSpPr>
          <p:sp>
            <p:nvSpPr>
              <p:cNvPr id="1490" name=""/>
              <p:cNvSpPr/>
              <p:nvPr/>
            </p:nvSpPr>
            <p:spPr>
              <a:xfrm>
                <a:off x="533520" y="3954600"/>
                <a:ext cx="107928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275480" y="43264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4619160" y="2103840"/>
            <a:ext cx="1930680" cy="2764800"/>
            <a:chOff x="4619160" y="2103840"/>
            <a:chExt cx="1930680" cy="2764800"/>
          </a:xfrm>
        </p:grpSpPr>
        <p:sp>
          <p:nvSpPr>
            <p:cNvPr id="1493" name=""/>
            <p:cNvSpPr/>
            <p:nvPr/>
          </p:nvSpPr>
          <p:spPr>
            <a:xfrm>
              <a:off x="5177520" y="2103840"/>
              <a:ext cx="137232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177" y="2948"/>
                  </a:moveTo>
                  <a:lnTo>
                    <a:pt x="-1146" y="3337"/>
                  </a:lnTo>
                </a:path>
                <a:path w="21600" h="21600">
                  <a:moveTo>
                    <a:pt x="-1146" y="0"/>
                  </a:moveTo>
                  <a:lnTo>
                    <a:pt x="-1146" y="21600"/>
                  </a:lnTo>
                </a:path>
              </a:pathLst>
            </a:custGeom>
            <a:solidFill>
              <a:srgbClr val="ff99cc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4" name=""/>
            <p:cNvCxnSpPr>
              <a:stCxn id="1444" idx="3"/>
              <a:endCxn id="1493" idx="0"/>
            </p:cNvCxnSpPr>
            <p:nvPr/>
          </p:nvCxnSpPr>
          <p:spPr>
            <a:xfrm flipV="1">
              <a:off x="4619160" y="2455560"/>
              <a:ext cx="506880" cy="2046960"/>
            </a:xfrm>
            <a:prstGeom prst="bentConnector3">
              <a:avLst>
                <a:gd name="adj1" fmla="val 5174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5" name=""/>
            <p:cNvCxnSpPr>
              <a:stCxn id="1446" idx="3"/>
            </p:cNvCxnSpPr>
            <p:nvPr/>
          </p:nvCxnSpPr>
          <p:spPr>
            <a:xfrm flipV="1">
              <a:off x="4619160" y="2533320"/>
              <a:ext cx="258120" cy="2335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35" idx="3"/>
              <a:endCxn id="1493" idx="1"/>
            </p:cNvCxnSpPr>
            <p:nvPr/>
          </p:nvCxnSpPr>
          <p:spPr>
            <a:xfrm flipV="1">
              <a:off x="4633560" y="2455200"/>
              <a:ext cx="492840" cy="73800"/>
            </a:xfrm>
            <a:prstGeom prst="bentConnector3">
              <a:avLst>
                <a:gd name="adj1" fmla="val 519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7" name=""/>
          <p:cNvSpPr txBox="1"/>
          <p:nvPr/>
        </p:nvSpPr>
        <p:spPr>
          <a:xfrm>
            <a:off x="4211640" y="2997360"/>
            <a:ext cx="463536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hare Indiv. Segment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4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1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500"/>
                            </p:stCondLst>
                            <p:childTnLst>
                              <p:par>
                                <p:cTn id="2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500"/>
                            </p:stCondLst>
                            <p:childTnLst>
                              <p:par>
                                <p:cTn id="2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3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500"/>
                            </p:stCondLst>
                            <p:childTnLst>
                              <p:par>
                                <p:cTn id="2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500"/>
                            </p:stCondLst>
                            <p:childTnLst>
                              <p:par>
                                <p:cTn id="2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694680" y="1251720"/>
            <a:ext cx="4988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ress: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262160" y="4343400"/>
            <a:ext cx="1752480" cy="4572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860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. / 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081080" y="2895480"/>
            <a:ext cx="1942920" cy="609840"/>
            <a:chOff x="1081080" y="2895480"/>
            <a:chExt cx="1942920" cy="609840"/>
          </a:xfrm>
        </p:grpSpPr>
        <p:sp>
          <p:nvSpPr>
            <p:cNvPr id="431" name=""/>
            <p:cNvSpPr/>
            <p:nvPr/>
          </p:nvSpPr>
          <p:spPr>
            <a:xfrm>
              <a:off x="1081080" y="289548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5680" y="297180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9920" y="304812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81160" y="1447920"/>
            <a:ext cx="1752480" cy="609120"/>
            <a:chOff x="1181160" y="1447920"/>
            <a:chExt cx="1752480" cy="609120"/>
          </a:xfrm>
        </p:grpSpPr>
        <p:sp>
          <p:nvSpPr>
            <p:cNvPr id="435" name=""/>
            <p:cNvSpPr/>
            <p:nvPr/>
          </p:nvSpPr>
          <p:spPr>
            <a:xfrm>
              <a:off x="1181160" y="144792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57480" y="152388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33440" y="160020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373392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0292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638680"/>
            <a:ext cx="1828800" cy="457200"/>
          </a:xfrm>
          <a:prstGeom prst="flowChartProcess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-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2"/>
            <a:endCxn id="429" idx="0"/>
          </p:cNvCxnSpPr>
          <p:nvPr/>
        </p:nvCxnSpPr>
        <p:spPr>
          <a:xfrm>
            <a:off x="2133360" y="205704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2" name=""/>
          <p:cNvCxnSpPr>
            <a:stCxn id="429" idx="2"/>
            <a:endCxn id="433" idx="0"/>
          </p:cNvCxnSpPr>
          <p:nvPr/>
        </p:nvCxnSpPr>
        <p:spPr>
          <a:xfrm>
            <a:off x="2133720" y="2666520"/>
            <a:ext cx="3600" cy="3819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3" name=""/>
          <p:cNvCxnSpPr>
            <a:stCxn id="433" idx="2"/>
            <a:endCxn id="438" idx="0"/>
          </p:cNvCxnSpPr>
          <p:nvPr/>
        </p:nvCxnSpPr>
        <p:spPr>
          <a:xfrm flipH="1">
            <a:off x="2133360" y="3504960"/>
            <a:ext cx="36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4" name=""/>
          <p:cNvCxnSpPr>
            <a:stCxn id="438" idx="2"/>
            <a:endCxn id="428" idx="0"/>
          </p:cNvCxnSpPr>
          <p:nvPr/>
        </p:nvCxnSpPr>
        <p:spPr>
          <a:xfrm>
            <a:off x="2133360" y="41144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5" name=""/>
          <p:cNvCxnSpPr>
            <a:stCxn id="428" idx="2"/>
            <a:endCxn id="439" idx="0"/>
          </p:cNvCxnSpPr>
          <p:nvPr/>
        </p:nvCxnSpPr>
        <p:spPr>
          <a:xfrm flipH="1">
            <a:off x="2133000" y="48002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6" name=""/>
          <p:cNvCxnSpPr>
            <a:stCxn id="439" idx="2"/>
            <a:endCxn id="440" idx="0"/>
          </p:cNvCxnSpPr>
          <p:nvPr/>
        </p:nvCxnSpPr>
        <p:spPr>
          <a:xfrm>
            <a:off x="2133360" y="540972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7" name=""/>
          <p:cNvCxnSpPr>
            <a:stCxn id="448" idx="1"/>
            <a:endCxn id="438" idx="3"/>
          </p:cNvCxnSpPr>
          <p:nvPr/>
        </p:nvCxnSpPr>
        <p:spPr>
          <a:xfrm flipH="1">
            <a:off x="3200040" y="3123720"/>
            <a:ext cx="267120" cy="8010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49" name=""/>
          <p:cNvGrpSpPr/>
          <p:nvPr/>
        </p:nvGrpSpPr>
        <p:grpSpPr>
          <a:xfrm>
            <a:off x="3467160" y="2743200"/>
            <a:ext cx="1295280" cy="914400"/>
            <a:chOff x="3467160" y="2743200"/>
            <a:chExt cx="1295280" cy="914400"/>
          </a:xfrm>
        </p:grpSpPr>
        <p:sp>
          <p:nvSpPr>
            <p:cNvPr id="448" name=""/>
            <p:cNvSpPr/>
            <p:nvPr/>
          </p:nvSpPr>
          <p:spPr>
            <a:xfrm>
              <a:off x="3467160" y="274320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281952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3480" y="289548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467160" y="4038480"/>
            <a:ext cx="1295280" cy="914400"/>
            <a:chOff x="3467160" y="4038480"/>
            <a:chExt cx="1295280" cy="914400"/>
          </a:xfrm>
        </p:grpSpPr>
        <p:sp>
          <p:nvSpPr>
            <p:cNvPr id="453" name=""/>
            <p:cNvSpPr/>
            <p:nvPr/>
          </p:nvSpPr>
          <p:spPr>
            <a:xfrm>
              <a:off x="3467160" y="4038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05320" y="4114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43480" y="4190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467160" y="5181480"/>
            <a:ext cx="1295280" cy="914400"/>
            <a:chOff x="3467160" y="5181480"/>
            <a:chExt cx="1295280" cy="914400"/>
          </a:xfrm>
        </p:grpSpPr>
        <p:sp>
          <p:nvSpPr>
            <p:cNvPr id="457" name=""/>
            <p:cNvSpPr/>
            <p:nvPr/>
          </p:nvSpPr>
          <p:spPr>
            <a:xfrm>
              <a:off x="3467160" y="5181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5257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5333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yn.link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0" name=""/>
          <p:cNvCxnSpPr>
            <a:stCxn id="453" idx="1"/>
            <a:endCxn id="439" idx="3"/>
          </p:cNvCxnSpPr>
          <p:nvPr/>
        </p:nvCxnSpPr>
        <p:spPr>
          <a:xfrm flipH="1">
            <a:off x="3200040" y="4419720"/>
            <a:ext cx="267120" cy="8006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57" idx="1"/>
            <a:endCxn id="440" idx="3"/>
          </p:cNvCxnSpPr>
          <p:nvPr/>
        </p:nvCxnSpPr>
        <p:spPr>
          <a:xfrm flipH="1">
            <a:off x="3047760" y="5562720"/>
            <a:ext cx="419760" cy="3052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62" name=""/>
          <p:cNvGrpSpPr/>
          <p:nvPr/>
        </p:nvGrpSpPr>
        <p:grpSpPr>
          <a:xfrm>
            <a:off x="4191120" y="2133720"/>
            <a:ext cx="1066680" cy="761760"/>
            <a:chOff x="4191120" y="2133720"/>
            <a:chExt cx="1066680" cy="761760"/>
          </a:xfrm>
        </p:grpSpPr>
        <p:sp>
          <p:nvSpPr>
            <p:cNvPr id="463" name=""/>
            <p:cNvSpPr/>
            <p:nvPr/>
          </p:nvSpPr>
          <p:spPr>
            <a:xfrm>
              <a:off x="4191120" y="2133720"/>
              <a:ext cx="1066680" cy="761760"/>
            </a:xfrm>
            <a:prstGeom prst="wedgeRectCallout">
              <a:avLst>
                <a:gd name="adj1" fmla="val -54018"/>
                <a:gd name="adj2" fmla="val 83958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43400" y="2209680"/>
              <a:ext cx="837360" cy="685080"/>
              <a:chOff x="4343400" y="2209680"/>
              <a:chExt cx="837360" cy="6850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43400" y="220968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19000" y="22852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95320" y="2361600"/>
                <a:ext cx="53316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1640" y="243792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7600" y="25138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H="1">
            <a:off x="5943600" y="2057400"/>
            <a:ext cx="99072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342900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464832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162920" y="1980000"/>
            <a:ext cx="916920" cy="915480"/>
            <a:chOff x="7162920" y="1980000"/>
            <a:chExt cx="916920" cy="915480"/>
          </a:xfrm>
        </p:grpSpPr>
        <p:sp>
          <p:nvSpPr>
            <p:cNvPr id="474" name=""/>
            <p:cNvSpPr/>
            <p:nvPr/>
          </p:nvSpPr>
          <p:spPr>
            <a:xfrm>
              <a:off x="7162920" y="2057400"/>
              <a:ext cx="91440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2360" y="19800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95880" y="3275640"/>
            <a:ext cx="1752840" cy="915480"/>
            <a:chOff x="6095880" y="3275640"/>
            <a:chExt cx="1752840" cy="915480"/>
          </a:xfrm>
        </p:grpSpPr>
        <p:sp>
          <p:nvSpPr>
            <p:cNvPr id="477" name=""/>
            <p:cNvSpPr/>
            <p:nvPr/>
          </p:nvSpPr>
          <p:spPr>
            <a:xfrm>
              <a:off x="6095880" y="3352680"/>
              <a:ext cx="1752840" cy="8384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91760" y="3275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095880" y="4494600"/>
            <a:ext cx="1752840" cy="915480"/>
            <a:chOff x="6095880" y="4494600"/>
            <a:chExt cx="1752840" cy="915480"/>
          </a:xfrm>
        </p:grpSpPr>
        <p:sp>
          <p:nvSpPr>
            <p:cNvPr id="480" name=""/>
            <p:cNvSpPr/>
            <p:nvPr/>
          </p:nvSpPr>
          <p:spPr>
            <a:xfrm>
              <a:off x="6095880" y="4572000"/>
              <a:ext cx="175284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1760" y="4494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867280" y="5637600"/>
            <a:ext cx="1981440" cy="459720"/>
            <a:chOff x="5867280" y="5637600"/>
            <a:chExt cx="1981440" cy="459720"/>
          </a:xfrm>
        </p:grpSpPr>
        <p:sp>
          <p:nvSpPr>
            <p:cNvPr id="483" name=""/>
            <p:cNvSpPr/>
            <p:nvPr/>
          </p:nvSpPr>
          <p:spPr>
            <a:xfrm>
              <a:off x="5867280" y="5867280"/>
              <a:ext cx="198144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cubicBezTo>
                    <a:pt x="168" y="72"/>
                    <a:pt x="336" y="144"/>
                    <a:pt x="480" y="144"/>
                  </a:cubicBezTo>
                  <a:cubicBezTo>
                    <a:pt x="624" y="144"/>
                    <a:pt x="744" y="72"/>
                    <a:pt x="864" y="0"/>
                  </a:cubicBezTo>
                </a:path>
              </a:pathLst>
            </a:custGeom>
            <a:noFill/>
            <a:ln w="5724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9120" y="5637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s Variable Lengt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Sev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pends on Avg. Segment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4572000" y="5257800"/>
            <a:ext cx="725400" cy="60480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4952880" y="54864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4"/>
          <a:stretch/>
        </p:blipFill>
        <p:spPr>
          <a:xfrm>
            <a:off x="5562720" y="5410080"/>
            <a:ext cx="725400" cy="6048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1523880" y="5029200"/>
            <a:ext cx="2938320" cy="1036440"/>
            <a:chOff x="1523880" y="5029200"/>
            <a:chExt cx="2938320" cy="1036440"/>
          </a:xfrm>
        </p:grpSpPr>
        <p:sp>
          <p:nvSpPr>
            <p:cNvPr id="1505" name=""/>
            <p:cNvSpPr/>
            <p:nvPr/>
          </p:nvSpPr>
          <p:spPr>
            <a:xfrm>
              <a:off x="2404800" y="5399640"/>
              <a:ext cx="898560" cy="468720"/>
            </a:xfrm>
            <a:custGeom>
              <a:avLst/>
              <a:gdLst/>
              <a:ahLst/>
              <a:rect l="l" t="t" r="r" b="b"/>
              <a:pathLst>
                <a:path w="1015" h="503">
                  <a:moveTo>
                    <a:pt x="7" y="21"/>
                  </a:moveTo>
                  <a:lnTo>
                    <a:pt x="1007" y="0"/>
                  </a:lnTo>
                  <a:lnTo>
                    <a:pt x="1012" y="126"/>
                  </a:lnTo>
                  <a:lnTo>
                    <a:pt x="1015" y="252"/>
                  </a:lnTo>
                  <a:lnTo>
                    <a:pt x="1015" y="375"/>
                  </a:lnTo>
                  <a:lnTo>
                    <a:pt x="1007" y="503"/>
                  </a:lnTo>
                  <a:lnTo>
                    <a:pt x="7" y="503"/>
                  </a:lnTo>
                  <a:lnTo>
                    <a:pt x="1" y="381"/>
                  </a:lnTo>
                  <a:lnTo>
                    <a:pt x="0" y="263"/>
                  </a:lnTo>
                  <a:lnTo>
                    <a:pt x="1" y="142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96160" y="5399640"/>
              <a:ext cx="1072080" cy="468720"/>
            </a:xfrm>
            <a:custGeom>
              <a:avLst/>
              <a:gdLst/>
              <a:ahLst/>
              <a:rect l="l" t="t" r="r" b="b"/>
              <a:pathLst>
                <a:path w="1211" h="503">
                  <a:moveTo>
                    <a:pt x="1211" y="6"/>
                  </a:moveTo>
                  <a:lnTo>
                    <a:pt x="0" y="0"/>
                  </a:lnTo>
                  <a:lnTo>
                    <a:pt x="5" y="126"/>
                  </a:lnTo>
                  <a:lnTo>
                    <a:pt x="8" y="252"/>
                  </a:lnTo>
                  <a:lnTo>
                    <a:pt x="8" y="375"/>
                  </a:lnTo>
                  <a:lnTo>
                    <a:pt x="0" y="503"/>
                  </a:lnTo>
                  <a:lnTo>
                    <a:pt x="1165" y="269"/>
                  </a:lnTo>
                  <a:lnTo>
                    <a:pt x="1164" y="197"/>
                  </a:lnTo>
                  <a:lnTo>
                    <a:pt x="1168" y="126"/>
                  </a:lnTo>
                  <a:lnTo>
                    <a:pt x="1182" y="59"/>
                  </a:lnTo>
                  <a:lnTo>
                    <a:pt x="1211" y="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85720" y="5072040"/>
              <a:ext cx="1116360" cy="332640"/>
            </a:xfrm>
            <a:custGeom>
              <a:avLst/>
              <a:gdLst/>
              <a:ahLst/>
              <a:rect l="l" t="t" r="r" b="b"/>
              <a:pathLst>
                <a:path w="1260" h="359">
                  <a:moveTo>
                    <a:pt x="1224" y="359"/>
                  </a:moveTo>
                  <a:lnTo>
                    <a:pt x="13" y="353"/>
                  </a:lnTo>
                  <a:lnTo>
                    <a:pt x="9" y="262"/>
                  </a:lnTo>
                  <a:lnTo>
                    <a:pt x="7" y="169"/>
                  </a:lnTo>
                  <a:lnTo>
                    <a:pt x="4" y="81"/>
                  </a:lnTo>
                  <a:lnTo>
                    <a:pt x="0" y="0"/>
                  </a:lnTo>
                  <a:lnTo>
                    <a:pt x="563" y="5"/>
                  </a:lnTo>
                  <a:lnTo>
                    <a:pt x="1117" y="305"/>
                  </a:lnTo>
                  <a:lnTo>
                    <a:pt x="1260" y="322"/>
                  </a:lnTo>
                  <a:lnTo>
                    <a:pt x="1253" y="331"/>
                  </a:lnTo>
                  <a:lnTo>
                    <a:pt x="1244" y="339"/>
                  </a:lnTo>
                  <a:lnTo>
                    <a:pt x="1233" y="350"/>
                  </a:lnTo>
                  <a:lnTo>
                    <a:pt x="1224" y="359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62640" y="5029200"/>
              <a:ext cx="1020600" cy="46800"/>
            </a:xfrm>
            <a:custGeom>
              <a:avLst/>
              <a:gdLst/>
              <a:ahLst/>
              <a:rect l="l" t="t" r="r" b="b"/>
              <a:pathLst>
                <a:path w="1152" h="50">
                  <a:moveTo>
                    <a:pt x="0" y="35"/>
                  </a:moveTo>
                  <a:lnTo>
                    <a:pt x="89" y="50"/>
                  </a:lnTo>
                  <a:lnTo>
                    <a:pt x="589" y="45"/>
                  </a:lnTo>
                  <a:lnTo>
                    <a:pt x="1152" y="50"/>
                  </a:lnTo>
                  <a:lnTo>
                    <a:pt x="1133" y="43"/>
                  </a:lnTo>
                  <a:lnTo>
                    <a:pt x="1115" y="38"/>
                  </a:lnTo>
                  <a:lnTo>
                    <a:pt x="1098" y="31"/>
                  </a:lnTo>
                  <a:lnTo>
                    <a:pt x="1079" y="25"/>
                  </a:lnTo>
                  <a:lnTo>
                    <a:pt x="1061" y="21"/>
                  </a:lnTo>
                  <a:lnTo>
                    <a:pt x="1043" y="18"/>
                  </a:lnTo>
                  <a:lnTo>
                    <a:pt x="1023" y="14"/>
                  </a:lnTo>
                  <a:lnTo>
                    <a:pt x="1005" y="11"/>
                  </a:lnTo>
                  <a:lnTo>
                    <a:pt x="985" y="9"/>
                  </a:lnTo>
                  <a:lnTo>
                    <a:pt x="967" y="7"/>
                  </a:lnTo>
                  <a:lnTo>
                    <a:pt x="947" y="6"/>
                  </a:lnTo>
                  <a:lnTo>
                    <a:pt x="929" y="3"/>
                  </a:lnTo>
                  <a:lnTo>
                    <a:pt x="909" y="3"/>
                  </a:lnTo>
                  <a:lnTo>
                    <a:pt x="889" y="1"/>
                  </a:lnTo>
                  <a:lnTo>
                    <a:pt x="872" y="1"/>
                  </a:lnTo>
                  <a:lnTo>
                    <a:pt x="852" y="1"/>
                  </a:lnTo>
                  <a:lnTo>
                    <a:pt x="516" y="0"/>
                  </a:lnTo>
                  <a:lnTo>
                    <a:pt x="482" y="0"/>
                  </a:lnTo>
                  <a:lnTo>
                    <a:pt x="447" y="0"/>
                  </a:lnTo>
                  <a:lnTo>
                    <a:pt x="409" y="1"/>
                  </a:lnTo>
                  <a:lnTo>
                    <a:pt x="370" y="1"/>
                  </a:lnTo>
                  <a:lnTo>
                    <a:pt x="330" y="1"/>
                  </a:lnTo>
                  <a:lnTo>
                    <a:pt x="291" y="1"/>
                  </a:lnTo>
                  <a:lnTo>
                    <a:pt x="253" y="3"/>
                  </a:lnTo>
                  <a:lnTo>
                    <a:pt x="215" y="6"/>
                  </a:lnTo>
                  <a:lnTo>
                    <a:pt x="178" y="7"/>
                  </a:lnTo>
                  <a:lnTo>
                    <a:pt x="143" y="9"/>
                  </a:lnTo>
                  <a:lnTo>
                    <a:pt x="110" y="12"/>
                  </a:lnTo>
                  <a:lnTo>
                    <a:pt x="81" y="17"/>
                  </a:lnTo>
                  <a:lnTo>
                    <a:pt x="54" y="20"/>
                  </a:lnTo>
                  <a:lnTo>
                    <a:pt x="30" y="23"/>
                  </a:lnTo>
                  <a:lnTo>
                    <a:pt x="13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27560" y="5369400"/>
              <a:ext cx="84600" cy="280800"/>
            </a:xfrm>
            <a:custGeom>
              <a:avLst/>
              <a:gdLst/>
              <a:ahLst/>
              <a:rect l="l" t="t" r="r" b="b"/>
              <a:pathLst>
                <a:path w="95" h="300">
                  <a:moveTo>
                    <a:pt x="50" y="32"/>
                  </a:moveTo>
                  <a:lnTo>
                    <a:pt x="83" y="0"/>
                  </a:lnTo>
                  <a:lnTo>
                    <a:pt x="94" y="54"/>
                  </a:lnTo>
                  <a:lnTo>
                    <a:pt x="95" y="133"/>
                  </a:lnTo>
                  <a:lnTo>
                    <a:pt x="92" y="220"/>
                  </a:lnTo>
                  <a:lnTo>
                    <a:pt x="89" y="300"/>
                  </a:lnTo>
                  <a:lnTo>
                    <a:pt x="1" y="300"/>
                  </a:lnTo>
                  <a:lnTo>
                    <a:pt x="1" y="265"/>
                  </a:lnTo>
                  <a:lnTo>
                    <a:pt x="0" y="228"/>
                  </a:lnTo>
                  <a:lnTo>
                    <a:pt x="1" y="192"/>
                  </a:lnTo>
                  <a:lnTo>
                    <a:pt x="4" y="157"/>
                  </a:lnTo>
                  <a:lnTo>
                    <a:pt x="9" y="122"/>
                  </a:lnTo>
                  <a:lnTo>
                    <a:pt x="18" y="88"/>
                  </a:lnTo>
                  <a:lnTo>
                    <a:pt x="32" y="59"/>
                  </a:lnTo>
                  <a:lnTo>
                    <a:pt x="50" y="3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580760" y="5418000"/>
              <a:ext cx="829080" cy="450000"/>
            </a:xfrm>
            <a:custGeom>
              <a:avLst/>
              <a:gdLst/>
              <a:ahLst/>
              <a:rect l="l" t="t" r="r" b="b"/>
              <a:pathLst>
                <a:path w="937" h="482">
                  <a:moveTo>
                    <a:pt x="937" y="0"/>
                  </a:moveTo>
                  <a:lnTo>
                    <a:pt x="885" y="2"/>
                  </a:lnTo>
                  <a:lnTo>
                    <a:pt x="833" y="5"/>
                  </a:lnTo>
                  <a:lnTo>
                    <a:pt x="779" y="10"/>
                  </a:lnTo>
                  <a:lnTo>
                    <a:pt x="725" y="13"/>
                  </a:lnTo>
                  <a:lnTo>
                    <a:pt x="671" y="16"/>
                  </a:lnTo>
                  <a:lnTo>
                    <a:pt x="619" y="22"/>
                  </a:lnTo>
                  <a:lnTo>
                    <a:pt x="567" y="27"/>
                  </a:lnTo>
                  <a:lnTo>
                    <a:pt x="514" y="33"/>
                  </a:lnTo>
                  <a:lnTo>
                    <a:pt x="463" y="39"/>
                  </a:lnTo>
                  <a:lnTo>
                    <a:pt x="413" y="47"/>
                  </a:lnTo>
                  <a:lnTo>
                    <a:pt x="365" y="56"/>
                  </a:lnTo>
                  <a:lnTo>
                    <a:pt x="316" y="67"/>
                  </a:lnTo>
                  <a:lnTo>
                    <a:pt x="270" y="77"/>
                  </a:lnTo>
                  <a:lnTo>
                    <a:pt x="225" y="90"/>
                  </a:lnTo>
                  <a:lnTo>
                    <a:pt x="182" y="105"/>
                  </a:lnTo>
                  <a:lnTo>
                    <a:pt x="140" y="119"/>
                  </a:lnTo>
                  <a:lnTo>
                    <a:pt x="0" y="202"/>
                  </a:lnTo>
                  <a:lnTo>
                    <a:pt x="0" y="234"/>
                  </a:lnTo>
                  <a:lnTo>
                    <a:pt x="370" y="234"/>
                  </a:lnTo>
                  <a:lnTo>
                    <a:pt x="937" y="482"/>
                  </a:lnTo>
                  <a:lnTo>
                    <a:pt x="931" y="360"/>
                  </a:lnTo>
                  <a:lnTo>
                    <a:pt x="930" y="242"/>
                  </a:lnTo>
                  <a:lnTo>
                    <a:pt x="931" y="121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580760" y="5369400"/>
              <a:ext cx="829080" cy="236160"/>
            </a:xfrm>
            <a:custGeom>
              <a:avLst/>
              <a:gdLst/>
              <a:ahLst/>
              <a:rect l="l" t="t" r="r" b="b"/>
              <a:pathLst>
                <a:path w="937" h="254">
                  <a:moveTo>
                    <a:pt x="937" y="52"/>
                  </a:moveTo>
                  <a:lnTo>
                    <a:pt x="885" y="54"/>
                  </a:lnTo>
                  <a:lnTo>
                    <a:pt x="833" y="57"/>
                  </a:lnTo>
                  <a:lnTo>
                    <a:pt x="779" y="62"/>
                  </a:lnTo>
                  <a:lnTo>
                    <a:pt x="725" y="65"/>
                  </a:lnTo>
                  <a:lnTo>
                    <a:pt x="671" y="68"/>
                  </a:lnTo>
                  <a:lnTo>
                    <a:pt x="619" y="74"/>
                  </a:lnTo>
                  <a:lnTo>
                    <a:pt x="567" y="79"/>
                  </a:lnTo>
                  <a:lnTo>
                    <a:pt x="514" y="85"/>
                  </a:lnTo>
                  <a:lnTo>
                    <a:pt x="463" y="91"/>
                  </a:lnTo>
                  <a:lnTo>
                    <a:pt x="413" y="99"/>
                  </a:lnTo>
                  <a:lnTo>
                    <a:pt x="365" y="108"/>
                  </a:lnTo>
                  <a:lnTo>
                    <a:pt x="316" y="119"/>
                  </a:lnTo>
                  <a:lnTo>
                    <a:pt x="270" y="129"/>
                  </a:lnTo>
                  <a:lnTo>
                    <a:pt x="225" y="142"/>
                  </a:lnTo>
                  <a:lnTo>
                    <a:pt x="182" y="157"/>
                  </a:lnTo>
                  <a:lnTo>
                    <a:pt x="140" y="171"/>
                  </a:lnTo>
                  <a:lnTo>
                    <a:pt x="0" y="254"/>
                  </a:lnTo>
                  <a:lnTo>
                    <a:pt x="11" y="239"/>
                  </a:lnTo>
                  <a:lnTo>
                    <a:pt x="25" y="225"/>
                  </a:lnTo>
                  <a:lnTo>
                    <a:pt x="36" y="211"/>
                  </a:lnTo>
                  <a:lnTo>
                    <a:pt x="48" y="194"/>
                  </a:lnTo>
                  <a:lnTo>
                    <a:pt x="62" y="180"/>
                  </a:lnTo>
                  <a:lnTo>
                    <a:pt x="74" y="168"/>
                  </a:lnTo>
                  <a:lnTo>
                    <a:pt x="90" y="157"/>
                  </a:lnTo>
                  <a:lnTo>
                    <a:pt x="104" y="149"/>
                  </a:lnTo>
                  <a:lnTo>
                    <a:pt x="148" y="131"/>
                  </a:lnTo>
                  <a:lnTo>
                    <a:pt x="191" y="115"/>
                  </a:lnTo>
                  <a:lnTo>
                    <a:pt x="234" y="100"/>
                  </a:lnTo>
                  <a:lnTo>
                    <a:pt x="277" y="86"/>
                  </a:lnTo>
                  <a:lnTo>
                    <a:pt x="321" y="76"/>
                  </a:lnTo>
                  <a:lnTo>
                    <a:pt x="365" y="65"/>
                  </a:lnTo>
                  <a:lnTo>
                    <a:pt x="408" y="54"/>
                  </a:lnTo>
                  <a:lnTo>
                    <a:pt x="453" y="45"/>
                  </a:lnTo>
                  <a:lnTo>
                    <a:pt x="499" y="37"/>
                  </a:lnTo>
                  <a:lnTo>
                    <a:pt x="543" y="31"/>
                  </a:lnTo>
                  <a:lnTo>
                    <a:pt x="588" y="25"/>
                  </a:lnTo>
                  <a:lnTo>
                    <a:pt x="634" y="20"/>
                  </a:lnTo>
                  <a:lnTo>
                    <a:pt x="680" y="14"/>
                  </a:lnTo>
                  <a:lnTo>
                    <a:pt x="730" y="9"/>
                  </a:lnTo>
                  <a:lnTo>
                    <a:pt x="779" y="3"/>
                  </a:lnTo>
                  <a:lnTo>
                    <a:pt x="827" y="0"/>
                  </a:lnTo>
                  <a:lnTo>
                    <a:pt x="937" y="5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523880" y="5542560"/>
              <a:ext cx="2938320" cy="351720"/>
            </a:xfrm>
            <a:custGeom>
              <a:avLst/>
              <a:gdLst/>
              <a:ahLst/>
              <a:rect l="l" t="t" r="r" b="b"/>
              <a:pathLst>
                <a:path w="3317" h="378">
                  <a:moveTo>
                    <a:pt x="63" y="81"/>
                  </a:moveTo>
                  <a:lnTo>
                    <a:pt x="434" y="81"/>
                  </a:lnTo>
                  <a:lnTo>
                    <a:pt x="454" y="69"/>
                  </a:lnTo>
                  <a:lnTo>
                    <a:pt x="474" y="56"/>
                  </a:lnTo>
                  <a:lnTo>
                    <a:pt x="497" y="41"/>
                  </a:lnTo>
                  <a:lnTo>
                    <a:pt x="520" y="29"/>
                  </a:lnTo>
                  <a:lnTo>
                    <a:pt x="544" y="18"/>
                  </a:lnTo>
                  <a:lnTo>
                    <a:pt x="569" y="9"/>
                  </a:lnTo>
                  <a:lnTo>
                    <a:pt x="595" y="3"/>
                  </a:lnTo>
                  <a:lnTo>
                    <a:pt x="620" y="0"/>
                  </a:lnTo>
                  <a:lnTo>
                    <a:pt x="661" y="3"/>
                  </a:lnTo>
                  <a:lnTo>
                    <a:pt x="700" y="7"/>
                  </a:lnTo>
                  <a:lnTo>
                    <a:pt x="732" y="15"/>
                  </a:lnTo>
                  <a:lnTo>
                    <a:pt x="761" y="26"/>
                  </a:lnTo>
                  <a:lnTo>
                    <a:pt x="786" y="38"/>
                  </a:lnTo>
                  <a:lnTo>
                    <a:pt x="808" y="52"/>
                  </a:lnTo>
                  <a:lnTo>
                    <a:pt x="828" y="69"/>
                  </a:lnTo>
                  <a:lnTo>
                    <a:pt x="844" y="86"/>
                  </a:lnTo>
                  <a:lnTo>
                    <a:pt x="857" y="104"/>
                  </a:lnTo>
                  <a:lnTo>
                    <a:pt x="869" y="123"/>
                  </a:lnTo>
                  <a:lnTo>
                    <a:pt x="878" y="141"/>
                  </a:lnTo>
                  <a:lnTo>
                    <a:pt x="889" y="158"/>
                  </a:lnTo>
                  <a:lnTo>
                    <a:pt x="897" y="175"/>
                  </a:lnTo>
                  <a:lnTo>
                    <a:pt x="903" y="191"/>
                  </a:lnTo>
                  <a:lnTo>
                    <a:pt x="912" y="206"/>
                  </a:lnTo>
                  <a:lnTo>
                    <a:pt x="920" y="218"/>
                  </a:lnTo>
                  <a:lnTo>
                    <a:pt x="2375" y="218"/>
                  </a:lnTo>
                  <a:lnTo>
                    <a:pt x="2384" y="195"/>
                  </a:lnTo>
                  <a:lnTo>
                    <a:pt x="2402" y="167"/>
                  </a:lnTo>
                  <a:lnTo>
                    <a:pt x="2426" y="143"/>
                  </a:lnTo>
                  <a:lnTo>
                    <a:pt x="2455" y="117"/>
                  </a:lnTo>
                  <a:lnTo>
                    <a:pt x="2489" y="95"/>
                  </a:lnTo>
                  <a:lnTo>
                    <a:pt x="2523" y="80"/>
                  </a:lnTo>
                  <a:lnTo>
                    <a:pt x="2560" y="67"/>
                  </a:lnTo>
                  <a:lnTo>
                    <a:pt x="2594" y="63"/>
                  </a:lnTo>
                  <a:lnTo>
                    <a:pt x="2619" y="65"/>
                  </a:lnTo>
                  <a:lnTo>
                    <a:pt x="2643" y="67"/>
                  </a:lnTo>
                  <a:lnTo>
                    <a:pt x="2664" y="72"/>
                  </a:lnTo>
                  <a:lnTo>
                    <a:pt x="2684" y="80"/>
                  </a:lnTo>
                  <a:lnTo>
                    <a:pt x="2704" y="84"/>
                  </a:lnTo>
                  <a:lnTo>
                    <a:pt x="2722" y="92"/>
                  </a:lnTo>
                  <a:lnTo>
                    <a:pt x="2742" y="100"/>
                  </a:lnTo>
                  <a:lnTo>
                    <a:pt x="2762" y="106"/>
                  </a:lnTo>
                  <a:lnTo>
                    <a:pt x="3260" y="106"/>
                  </a:lnTo>
                  <a:lnTo>
                    <a:pt x="3317" y="163"/>
                  </a:lnTo>
                  <a:lnTo>
                    <a:pt x="3317" y="255"/>
                  </a:lnTo>
                  <a:lnTo>
                    <a:pt x="3260" y="312"/>
                  </a:lnTo>
                  <a:lnTo>
                    <a:pt x="2886" y="312"/>
                  </a:lnTo>
                  <a:lnTo>
                    <a:pt x="2886" y="378"/>
                  </a:lnTo>
                  <a:lnTo>
                    <a:pt x="926" y="378"/>
                  </a:lnTo>
                  <a:lnTo>
                    <a:pt x="846" y="333"/>
                  </a:lnTo>
                  <a:lnTo>
                    <a:pt x="370" y="333"/>
                  </a:lnTo>
                  <a:lnTo>
                    <a:pt x="370" y="230"/>
                  </a:lnTo>
                  <a:lnTo>
                    <a:pt x="21" y="230"/>
                  </a:lnTo>
                  <a:lnTo>
                    <a:pt x="12" y="227"/>
                  </a:lnTo>
                  <a:lnTo>
                    <a:pt x="6" y="218"/>
                  </a:lnTo>
                  <a:lnTo>
                    <a:pt x="1" y="207"/>
                  </a:lnTo>
                  <a:lnTo>
                    <a:pt x="0" y="196"/>
                  </a:lnTo>
                  <a:lnTo>
                    <a:pt x="0" y="123"/>
                  </a:lnTo>
                  <a:lnTo>
                    <a:pt x="1" y="115"/>
                  </a:lnTo>
                  <a:lnTo>
                    <a:pt x="7" y="109"/>
                  </a:lnTo>
                  <a:lnTo>
                    <a:pt x="14" y="101"/>
                  </a:lnTo>
                  <a:lnTo>
                    <a:pt x="26" y="94"/>
                  </a:lnTo>
                  <a:lnTo>
                    <a:pt x="36" y="89"/>
                  </a:lnTo>
                  <a:lnTo>
                    <a:pt x="45" y="84"/>
                  </a:lnTo>
                  <a:lnTo>
                    <a:pt x="55" y="83"/>
                  </a:lnTo>
                  <a:lnTo>
                    <a:pt x="63" y="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88532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0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5" y="283"/>
                  </a:lnTo>
                  <a:lnTo>
                    <a:pt x="0" y="236"/>
                  </a:lnTo>
                  <a:lnTo>
                    <a:pt x="5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0" y="5"/>
                  </a:lnTo>
                  <a:lnTo>
                    <a:pt x="237" y="0"/>
                  </a:lnTo>
                  <a:lnTo>
                    <a:pt x="284" y="5"/>
                  </a:lnTo>
                  <a:lnTo>
                    <a:pt x="330" y="19"/>
                  </a:lnTo>
                  <a:lnTo>
                    <a:pt x="368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8" y="432"/>
                  </a:lnTo>
                  <a:lnTo>
                    <a:pt x="330" y="454"/>
                  </a:lnTo>
                  <a:lnTo>
                    <a:pt x="284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63996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1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6" y="283"/>
                  </a:lnTo>
                  <a:lnTo>
                    <a:pt x="0" y="236"/>
                  </a:lnTo>
                  <a:lnTo>
                    <a:pt x="6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1" y="5"/>
                  </a:lnTo>
                  <a:lnTo>
                    <a:pt x="237" y="0"/>
                  </a:lnTo>
                  <a:lnTo>
                    <a:pt x="285" y="5"/>
                  </a:lnTo>
                  <a:lnTo>
                    <a:pt x="329" y="19"/>
                  </a:lnTo>
                  <a:lnTo>
                    <a:pt x="369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9" y="432"/>
                  </a:lnTo>
                  <a:lnTo>
                    <a:pt x="329" y="454"/>
                  </a:lnTo>
                  <a:lnTo>
                    <a:pt x="285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958040" y="5702760"/>
              <a:ext cx="272880" cy="284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6" y="278"/>
                  </a:lnTo>
                  <a:lnTo>
                    <a:pt x="45" y="260"/>
                  </a:lnTo>
                  <a:lnTo>
                    <a:pt x="26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6" y="66"/>
                  </a:lnTo>
                  <a:lnTo>
                    <a:pt x="45" y="44"/>
                  </a:lnTo>
                  <a:lnTo>
                    <a:pt x="66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3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4" y="92"/>
                  </a:lnTo>
                  <a:lnTo>
                    <a:pt x="303" y="121"/>
                  </a:lnTo>
                  <a:lnTo>
                    <a:pt x="306" y="152"/>
                  </a:lnTo>
                  <a:lnTo>
                    <a:pt x="303" y="183"/>
                  </a:lnTo>
                  <a:lnTo>
                    <a:pt x="294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3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12320" y="5702760"/>
              <a:ext cx="271080" cy="284040"/>
            </a:xfrm>
            <a:custGeom>
              <a:avLst/>
              <a:gdLst/>
              <a:ahLst/>
              <a:rect l="l" t="t" r="r" b="b"/>
              <a:pathLst>
                <a:path w="307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7" y="278"/>
                  </a:lnTo>
                  <a:lnTo>
                    <a:pt x="46" y="260"/>
                  </a:lnTo>
                  <a:lnTo>
                    <a:pt x="27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7" y="66"/>
                  </a:lnTo>
                  <a:lnTo>
                    <a:pt x="46" y="44"/>
                  </a:lnTo>
                  <a:lnTo>
                    <a:pt x="67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4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5" y="92"/>
                  </a:lnTo>
                  <a:lnTo>
                    <a:pt x="303" y="121"/>
                  </a:lnTo>
                  <a:lnTo>
                    <a:pt x="307" y="152"/>
                  </a:lnTo>
                  <a:lnTo>
                    <a:pt x="303" y="183"/>
                  </a:lnTo>
                  <a:lnTo>
                    <a:pt x="295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4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80760" y="5533200"/>
              <a:ext cx="162720" cy="72360"/>
            </a:xfrm>
            <a:custGeom>
              <a:avLst/>
              <a:gdLst/>
              <a:ahLst/>
              <a:rect l="l" t="t" r="r" b="b"/>
              <a:pathLst>
                <a:path w="185" h="80">
                  <a:moveTo>
                    <a:pt x="15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85" y="0"/>
                  </a:lnTo>
                  <a:lnTo>
                    <a:pt x="15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80760" y="5533200"/>
              <a:ext cx="100800" cy="72360"/>
            </a:xfrm>
            <a:custGeom>
              <a:avLst/>
              <a:gdLst/>
              <a:ahLst/>
              <a:rect l="l" t="t" r="r" b="b"/>
              <a:pathLst>
                <a:path w="114" h="80">
                  <a:moveTo>
                    <a:pt x="7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14" y="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78800" y="5685840"/>
              <a:ext cx="1378800" cy="76320"/>
            </a:xfrm>
            <a:custGeom>
              <a:avLst/>
              <a:gdLst/>
              <a:ahLst/>
              <a:rect l="l" t="t" r="r" b="b"/>
              <a:pathLst>
                <a:path w="1555" h="81">
                  <a:moveTo>
                    <a:pt x="1555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1555" y="0"/>
                  </a:lnTo>
                  <a:lnTo>
                    <a:pt x="1555" y="81"/>
                  </a:lnTo>
                  <a:lnTo>
                    <a:pt x="1555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09840" y="5069880"/>
              <a:ext cx="885960" cy="347760"/>
            </a:xfrm>
            <a:custGeom>
              <a:avLst/>
              <a:gdLst/>
              <a:ahLst/>
              <a:rect l="l" t="t" r="r" b="b"/>
              <a:pathLst>
                <a:path w="1000" h="376">
                  <a:moveTo>
                    <a:pt x="0" y="376"/>
                  </a:moveTo>
                  <a:lnTo>
                    <a:pt x="1000" y="355"/>
                  </a:lnTo>
                  <a:lnTo>
                    <a:pt x="999" y="292"/>
                  </a:lnTo>
                  <a:lnTo>
                    <a:pt x="994" y="198"/>
                  </a:lnTo>
                  <a:lnTo>
                    <a:pt x="991" y="94"/>
                  </a:lnTo>
                  <a:lnTo>
                    <a:pt x="987" y="0"/>
                  </a:lnTo>
                  <a:lnTo>
                    <a:pt x="488" y="7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87960" y="5086800"/>
              <a:ext cx="771120" cy="314280"/>
            </a:xfrm>
            <a:custGeom>
              <a:avLst/>
              <a:gdLst/>
              <a:ahLst/>
              <a:rect l="l" t="t" r="r" b="b"/>
              <a:pathLst>
                <a:path w="872" h="338">
                  <a:moveTo>
                    <a:pt x="0" y="338"/>
                  </a:moveTo>
                  <a:lnTo>
                    <a:pt x="872" y="318"/>
                  </a:lnTo>
                  <a:lnTo>
                    <a:pt x="861" y="0"/>
                  </a:lnTo>
                  <a:lnTo>
                    <a:pt x="432" y="5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87960" y="5209560"/>
              <a:ext cx="771120" cy="191520"/>
            </a:xfrm>
            <a:custGeom>
              <a:avLst/>
              <a:gdLst/>
              <a:ahLst/>
              <a:rect l="l" t="t" r="r" b="b"/>
              <a:pathLst>
                <a:path w="872" h="207">
                  <a:moveTo>
                    <a:pt x="0" y="207"/>
                  </a:moveTo>
                  <a:lnTo>
                    <a:pt x="872" y="187"/>
                  </a:lnTo>
                  <a:lnTo>
                    <a:pt x="866" y="0"/>
                  </a:lnTo>
                  <a:lnTo>
                    <a:pt x="850" y="4"/>
                  </a:lnTo>
                  <a:lnTo>
                    <a:pt x="837" y="15"/>
                  </a:lnTo>
                  <a:lnTo>
                    <a:pt x="826" y="29"/>
                  </a:lnTo>
                  <a:lnTo>
                    <a:pt x="817" y="45"/>
                  </a:lnTo>
                  <a:lnTo>
                    <a:pt x="809" y="61"/>
                  </a:lnTo>
                  <a:lnTo>
                    <a:pt x="797" y="76"/>
                  </a:lnTo>
                  <a:lnTo>
                    <a:pt x="784" y="87"/>
                  </a:lnTo>
                  <a:lnTo>
                    <a:pt x="769" y="90"/>
                  </a:lnTo>
                  <a:lnTo>
                    <a:pt x="749" y="89"/>
                  </a:lnTo>
                  <a:lnTo>
                    <a:pt x="724" y="87"/>
                  </a:lnTo>
                  <a:lnTo>
                    <a:pt x="700" y="83"/>
                  </a:lnTo>
                  <a:lnTo>
                    <a:pt x="675" y="79"/>
                  </a:lnTo>
                  <a:lnTo>
                    <a:pt x="649" y="76"/>
                  </a:lnTo>
                  <a:lnTo>
                    <a:pt x="624" y="72"/>
                  </a:lnTo>
                  <a:lnTo>
                    <a:pt x="600" y="70"/>
                  </a:lnTo>
                  <a:lnTo>
                    <a:pt x="580" y="70"/>
                  </a:lnTo>
                  <a:lnTo>
                    <a:pt x="535" y="74"/>
                  </a:lnTo>
                  <a:lnTo>
                    <a:pt x="497" y="81"/>
                  </a:lnTo>
                  <a:lnTo>
                    <a:pt x="466" y="89"/>
                  </a:lnTo>
                  <a:lnTo>
                    <a:pt x="441" y="95"/>
                  </a:lnTo>
                  <a:lnTo>
                    <a:pt x="418" y="101"/>
                  </a:lnTo>
                  <a:lnTo>
                    <a:pt x="394" y="104"/>
                  </a:lnTo>
                  <a:lnTo>
                    <a:pt x="372" y="103"/>
                  </a:lnTo>
                  <a:lnTo>
                    <a:pt x="346" y="95"/>
                  </a:lnTo>
                  <a:lnTo>
                    <a:pt x="329" y="87"/>
                  </a:lnTo>
                  <a:lnTo>
                    <a:pt x="318" y="76"/>
                  </a:lnTo>
                  <a:lnTo>
                    <a:pt x="309" y="61"/>
                  </a:lnTo>
                  <a:lnTo>
                    <a:pt x="301" y="45"/>
                  </a:lnTo>
                  <a:lnTo>
                    <a:pt x="295" y="30"/>
                  </a:lnTo>
                  <a:lnTo>
                    <a:pt x="286" y="18"/>
                  </a:lnTo>
                  <a:lnTo>
                    <a:pt x="273" y="11"/>
                  </a:lnTo>
                  <a:lnTo>
                    <a:pt x="257" y="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87960" y="5317560"/>
              <a:ext cx="134280" cy="8352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92"/>
                  </a:moveTo>
                  <a:lnTo>
                    <a:pt x="152" y="86"/>
                  </a:lnTo>
                  <a:lnTo>
                    <a:pt x="116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83360" y="5287680"/>
              <a:ext cx="87120" cy="11160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3" y="82"/>
                  </a:moveTo>
                  <a:lnTo>
                    <a:pt x="9" y="94"/>
                  </a:lnTo>
                  <a:lnTo>
                    <a:pt x="15" y="103"/>
                  </a:lnTo>
                  <a:lnTo>
                    <a:pt x="23" y="111"/>
                  </a:lnTo>
                  <a:lnTo>
                    <a:pt x="32" y="116"/>
                  </a:lnTo>
                  <a:lnTo>
                    <a:pt x="44" y="120"/>
                  </a:lnTo>
                  <a:lnTo>
                    <a:pt x="60" y="121"/>
                  </a:lnTo>
                  <a:lnTo>
                    <a:pt x="75" y="121"/>
                  </a:lnTo>
                  <a:lnTo>
                    <a:pt x="97" y="121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29" y="9"/>
                  </a:lnTo>
                  <a:lnTo>
                    <a:pt x="20" y="19"/>
                  </a:lnTo>
                  <a:lnTo>
                    <a:pt x="10" y="28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8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33600" y="5086800"/>
              <a:ext cx="407160" cy="299520"/>
            </a:xfrm>
            <a:custGeom>
              <a:avLst/>
              <a:gdLst/>
              <a:ahLst/>
              <a:rect l="l" t="t" r="r" b="b"/>
              <a:pathLst>
                <a:path w="459" h="320">
                  <a:moveTo>
                    <a:pt x="414" y="320"/>
                  </a:moveTo>
                  <a:lnTo>
                    <a:pt x="6" y="318"/>
                  </a:lnTo>
                  <a:lnTo>
                    <a:pt x="1" y="133"/>
                  </a:lnTo>
                  <a:lnTo>
                    <a:pt x="0" y="0"/>
                  </a:lnTo>
                  <a:lnTo>
                    <a:pt x="169" y="1"/>
                  </a:lnTo>
                  <a:lnTo>
                    <a:pt x="191" y="5"/>
                  </a:lnTo>
                  <a:lnTo>
                    <a:pt x="214" y="14"/>
                  </a:lnTo>
                  <a:lnTo>
                    <a:pt x="237" y="29"/>
                  </a:lnTo>
                  <a:lnTo>
                    <a:pt x="258" y="45"/>
                  </a:lnTo>
                  <a:lnTo>
                    <a:pt x="278" y="66"/>
                  </a:lnTo>
                  <a:lnTo>
                    <a:pt x="300" y="88"/>
                  </a:lnTo>
                  <a:lnTo>
                    <a:pt x="321" y="109"/>
                  </a:lnTo>
                  <a:lnTo>
                    <a:pt x="341" y="131"/>
                  </a:lnTo>
                  <a:lnTo>
                    <a:pt x="434" y="226"/>
                  </a:lnTo>
                  <a:lnTo>
                    <a:pt x="449" y="246"/>
                  </a:lnTo>
                  <a:lnTo>
                    <a:pt x="457" y="264"/>
                  </a:lnTo>
                  <a:lnTo>
                    <a:pt x="459" y="281"/>
                  </a:lnTo>
                  <a:lnTo>
                    <a:pt x="457" y="293"/>
                  </a:lnTo>
                  <a:lnTo>
                    <a:pt x="448" y="304"/>
                  </a:lnTo>
                  <a:lnTo>
                    <a:pt x="439" y="313"/>
                  </a:lnTo>
                  <a:lnTo>
                    <a:pt x="426" y="318"/>
                  </a:lnTo>
                  <a:lnTo>
                    <a:pt x="414" y="32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312640" y="5064480"/>
              <a:ext cx="529560" cy="354960"/>
            </a:xfrm>
            <a:custGeom>
              <a:avLst/>
              <a:gdLst/>
              <a:ahLst/>
              <a:rect l="l" t="t" r="r" b="b"/>
              <a:pathLst>
                <a:path w="598" h="383">
                  <a:moveTo>
                    <a:pt x="109" y="383"/>
                  </a:moveTo>
                  <a:lnTo>
                    <a:pt x="0" y="331"/>
                  </a:lnTo>
                  <a:lnTo>
                    <a:pt x="510" y="0"/>
                  </a:lnTo>
                  <a:lnTo>
                    <a:pt x="598" y="12"/>
                  </a:lnTo>
                  <a:lnTo>
                    <a:pt x="109" y="383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56920" y="5064480"/>
              <a:ext cx="455040" cy="334800"/>
            </a:xfrm>
            <a:custGeom>
              <a:avLst/>
              <a:gdLst/>
              <a:ahLst/>
              <a:rect l="l" t="t" r="r" b="b"/>
              <a:pathLst>
                <a:path w="515" h="360">
                  <a:moveTo>
                    <a:pt x="50" y="360"/>
                  </a:moveTo>
                  <a:lnTo>
                    <a:pt x="0" y="332"/>
                  </a:lnTo>
                  <a:lnTo>
                    <a:pt x="477" y="0"/>
                  </a:lnTo>
                  <a:lnTo>
                    <a:pt x="515" y="7"/>
                  </a:lnTo>
                  <a:lnTo>
                    <a:pt x="50" y="3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33600" y="5209560"/>
              <a:ext cx="407160" cy="176760"/>
            </a:xfrm>
            <a:custGeom>
              <a:avLst/>
              <a:gdLst/>
              <a:ahLst/>
              <a:rect l="l" t="t" r="r" b="b"/>
              <a:pathLst>
                <a:path w="458" h="189">
                  <a:moveTo>
                    <a:pt x="413" y="189"/>
                  </a:moveTo>
                  <a:lnTo>
                    <a:pt x="5" y="187"/>
                  </a:lnTo>
                  <a:lnTo>
                    <a:pt x="0" y="2"/>
                  </a:lnTo>
                  <a:lnTo>
                    <a:pt x="10" y="6"/>
                  </a:lnTo>
                  <a:lnTo>
                    <a:pt x="19" y="16"/>
                  </a:lnTo>
                  <a:lnTo>
                    <a:pt x="25" y="30"/>
                  </a:lnTo>
                  <a:lnTo>
                    <a:pt x="33" y="45"/>
                  </a:lnTo>
                  <a:lnTo>
                    <a:pt x="40" y="61"/>
                  </a:lnTo>
                  <a:lnTo>
                    <a:pt x="47" y="76"/>
                  </a:lnTo>
                  <a:lnTo>
                    <a:pt x="56" y="87"/>
                  </a:lnTo>
                  <a:lnTo>
                    <a:pt x="65" y="90"/>
                  </a:lnTo>
                  <a:lnTo>
                    <a:pt x="76" y="89"/>
                  </a:lnTo>
                  <a:lnTo>
                    <a:pt x="88" y="87"/>
                  </a:lnTo>
                  <a:lnTo>
                    <a:pt x="102" y="83"/>
                  </a:lnTo>
                  <a:lnTo>
                    <a:pt x="114" y="79"/>
                  </a:lnTo>
                  <a:lnTo>
                    <a:pt x="127" y="76"/>
                  </a:lnTo>
                  <a:lnTo>
                    <a:pt x="139" y="72"/>
                  </a:lnTo>
                  <a:lnTo>
                    <a:pt x="150" y="70"/>
                  </a:lnTo>
                  <a:lnTo>
                    <a:pt x="161" y="70"/>
                  </a:lnTo>
                  <a:lnTo>
                    <a:pt x="185" y="74"/>
                  </a:lnTo>
                  <a:lnTo>
                    <a:pt x="202" y="81"/>
                  </a:lnTo>
                  <a:lnTo>
                    <a:pt x="219" y="89"/>
                  </a:lnTo>
                  <a:lnTo>
                    <a:pt x="231" y="95"/>
                  </a:lnTo>
                  <a:lnTo>
                    <a:pt x="244" y="101"/>
                  </a:lnTo>
                  <a:lnTo>
                    <a:pt x="256" y="104"/>
                  </a:lnTo>
                  <a:lnTo>
                    <a:pt x="268" y="103"/>
                  </a:lnTo>
                  <a:lnTo>
                    <a:pt x="281" y="95"/>
                  </a:lnTo>
                  <a:lnTo>
                    <a:pt x="290" y="87"/>
                  </a:lnTo>
                  <a:lnTo>
                    <a:pt x="296" y="74"/>
                  </a:lnTo>
                  <a:lnTo>
                    <a:pt x="302" y="58"/>
                  </a:lnTo>
                  <a:lnTo>
                    <a:pt x="310" y="41"/>
                  </a:lnTo>
                  <a:lnTo>
                    <a:pt x="316" y="26"/>
                  </a:lnTo>
                  <a:lnTo>
                    <a:pt x="324" y="13"/>
                  </a:lnTo>
                  <a:lnTo>
                    <a:pt x="331" y="4"/>
                  </a:lnTo>
                  <a:lnTo>
                    <a:pt x="340" y="0"/>
                  </a:lnTo>
                  <a:lnTo>
                    <a:pt x="433" y="95"/>
                  </a:lnTo>
                  <a:lnTo>
                    <a:pt x="448" y="115"/>
                  </a:lnTo>
                  <a:lnTo>
                    <a:pt x="456" y="133"/>
                  </a:lnTo>
                  <a:lnTo>
                    <a:pt x="458" y="150"/>
                  </a:lnTo>
                  <a:lnTo>
                    <a:pt x="456" y="162"/>
                  </a:lnTo>
                  <a:lnTo>
                    <a:pt x="447" y="173"/>
                  </a:lnTo>
                  <a:lnTo>
                    <a:pt x="438" y="182"/>
                  </a:lnTo>
                  <a:lnTo>
                    <a:pt x="425" y="187"/>
                  </a:lnTo>
                  <a:lnTo>
                    <a:pt x="413" y="18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02840" y="5432760"/>
              <a:ext cx="120240" cy="57600"/>
            </a:xfrm>
            <a:prstGeom prst="rect">
              <a:avLst/>
            </a:prstGeom>
            <a:solidFill>
              <a:srgbClr val="ffff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80640" y="5114520"/>
              <a:ext cx="394920" cy="254520"/>
            </a:xfrm>
            <a:custGeom>
              <a:avLst/>
              <a:gdLst/>
              <a:ahLst/>
              <a:rect l="l" t="t" r="r" b="b"/>
              <a:pathLst>
                <a:path w="446" h="275">
                  <a:moveTo>
                    <a:pt x="0" y="0"/>
                  </a:moveTo>
                  <a:lnTo>
                    <a:pt x="36" y="0"/>
                  </a:lnTo>
                  <a:lnTo>
                    <a:pt x="45" y="3"/>
                  </a:lnTo>
                  <a:lnTo>
                    <a:pt x="57" y="9"/>
                  </a:lnTo>
                  <a:lnTo>
                    <a:pt x="74" y="17"/>
                  </a:lnTo>
                  <a:lnTo>
                    <a:pt x="94" y="28"/>
                  </a:lnTo>
                  <a:lnTo>
                    <a:pt x="117" y="43"/>
                  </a:lnTo>
                  <a:lnTo>
                    <a:pt x="142" y="57"/>
                  </a:lnTo>
                  <a:lnTo>
                    <a:pt x="171" y="75"/>
                  </a:lnTo>
                  <a:lnTo>
                    <a:pt x="200" y="91"/>
                  </a:lnTo>
                  <a:lnTo>
                    <a:pt x="231" y="111"/>
                  </a:lnTo>
                  <a:lnTo>
                    <a:pt x="262" y="131"/>
                  </a:lnTo>
                  <a:lnTo>
                    <a:pt x="294" y="149"/>
                  </a:lnTo>
                  <a:lnTo>
                    <a:pt x="325" y="169"/>
                  </a:lnTo>
                  <a:lnTo>
                    <a:pt x="356" y="189"/>
                  </a:lnTo>
                  <a:lnTo>
                    <a:pt x="387" y="206"/>
                  </a:lnTo>
                  <a:lnTo>
                    <a:pt x="414" y="223"/>
                  </a:lnTo>
                  <a:lnTo>
                    <a:pt x="441" y="239"/>
                  </a:lnTo>
                  <a:lnTo>
                    <a:pt x="446" y="246"/>
                  </a:lnTo>
                  <a:lnTo>
                    <a:pt x="446" y="258"/>
                  </a:lnTo>
                  <a:lnTo>
                    <a:pt x="442" y="269"/>
                  </a:lnTo>
                  <a:lnTo>
                    <a:pt x="436" y="275"/>
                  </a:lnTo>
                  <a:lnTo>
                    <a:pt x="347" y="275"/>
                  </a:lnTo>
                  <a:lnTo>
                    <a:pt x="339" y="275"/>
                  </a:lnTo>
                  <a:lnTo>
                    <a:pt x="331" y="274"/>
                  </a:lnTo>
                  <a:lnTo>
                    <a:pt x="323" y="269"/>
                  </a:lnTo>
                  <a:lnTo>
                    <a:pt x="314" y="268"/>
                  </a:lnTo>
                  <a:lnTo>
                    <a:pt x="307" y="264"/>
                  </a:lnTo>
                  <a:lnTo>
                    <a:pt x="298" y="260"/>
                  </a:lnTo>
                  <a:lnTo>
                    <a:pt x="291" y="257"/>
                  </a:lnTo>
                  <a:lnTo>
                    <a:pt x="282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60200" y="5077440"/>
              <a:ext cx="515880" cy="288000"/>
            </a:xfrm>
            <a:custGeom>
              <a:avLst/>
              <a:gdLst/>
              <a:ahLst/>
              <a:rect l="l" t="t" r="r" b="b"/>
              <a:pathLst>
                <a:path w="583" h="309">
                  <a:moveTo>
                    <a:pt x="18" y="34"/>
                  </a:moveTo>
                  <a:lnTo>
                    <a:pt x="0" y="1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52" y="11"/>
                  </a:lnTo>
                  <a:lnTo>
                    <a:pt x="76" y="23"/>
                  </a:lnTo>
                  <a:lnTo>
                    <a:pt x="104" y="37"/>
                  </a:lnTo>
                  <a:lnTo>
                    <a:pt x="138" y="54"/>
                  </a:lnTo>
                  <a:lnTo>
                    <a:pt x="174" y="74"/>
                  </a:lnTo>
                  <a:lnTo>
                    <a:pt x="213" y="95"/>
                  </a:lnTo>
                  <a:lnTo>
                    <a:pt x="255" y="117"/>
                  </a:lnTo>
                  <a:lnTo>
                    <a:pt x="298" y="140"/>
                  </a:lnTo>
                  <a:lnTo>
                    <a:pt x="340" y="163"/>
                  </a:lnTo>
                  <a:lnTo>
                    <a:pt x="383" y="187"/>
                  </a:lnTo>
                  <a:lnTo>
                    <a:pt x="424" y="211"/>
                  </a:lnTo>
                  <a:lnTo>
                    <a:pt x="463" y="232"/>
                  </a:lnTo>
                  <a:lnTo>
                    <a:pt x="499" y="252"/>
                  </a:lnTo>
                  <a:lnTo>
                    <a:pt x="532" y="269"/>
                  </a:lnTo>
                  <a:lnTo>
                    <a:pt x="561" y="284"/>
                  </a:lnTo>
                  <a:lnTo>
                    <a:pt x="577" y="294"/>
                  </a:lnTo>
                  <a:lnTo>
                    <a:pt x="583" y="303"/>
                  </a:lnTo>
                  <a:lnTo>
                    <a:pt x="575" y="308"/>
                  </a:lnTo>
                  <a:lnTo>
                    <a:pt x="553" y="309"/>
                  </a:lnTo>
                  <a:lnTo>
                    <a:pt x="510" y="309"/>
                  </a:lnTo>
                  <a:lnTo>
                    <a:pt x="501" y="309"/>
                  </a:lnTo>
                  <a:lnTo>
                    <a:pt x="494" y="308"/>
                  </a:lnTo>
                  <a:lnTo>
                    <a:pt x="484" y="306"/>
                  </a:lnTo>
                  <a:lnTo>
                    <a:pt x="475" y="304"/>
                  </a:lnTo>
                  <a:lnTo>
                    <a:pt x="466" y="300"/>
                  </a:lnTo>
                  <a:lnTo>
                    <a:pt x="459" y="297"/>
                  </a:lnTo>
                  <a:lnTo>
                    <a:pt x="450" y="294"/>
                  </a:lnTo>
                  <a:lnTo>
                    <a:pt x="443" y="289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787200" y="5214960"/>
              <a:ext cx="288360" cy="15408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0"/>
                  </a:moveTo>
                  <a:lnTo>
                    <a:pt x="140" y="18"/>
                  </a:lnTo>
                  <a:lnTo>
                    <a:pt x="322" y="131"/>
                  </a:lnTo>
                  <a:lnTo>
                    <a:pt x="327" y="138"/>
                  </a:lnTo>
                  <a:lnTo>
                    <a:pt x="327" y="150"/>
                  </a:lnTo>
                  <a:lnTo>
                    <a:pt x="323" y="161"/>
                  </a:lnTo>
                  <a:lnTo>
                    <a:pt x="317" y="167"/>
                  </a:lnTo>
                  <a:lnTo>
                    <a:pt x="228" y="167"/>
                  </a:lnTo>
                  <a:lnTo>
                    <a:pt x="220" y="167"/>
                  </a:lnTo>
                  <a:lnTo>
                    <a:pt x="212" y="166"/>
                  </a:lnTo>
                  <a:lnTo>
                    <a:pt x="204" y="161"/>
                  </a:lnTo>
                  <a:lnTo>
                    <a:pt x="195" y="160"/>
                  </a:lnTo>
                  <a:lnTo>
                    <a:pt x="188" y="156"/>
                  </a:lnTo>
                  <a:lnTo>
                    <a:pt x="179" y="152"/>
                  </a:lnTo>
                  <a:lnTo>
                    <a:pt x="172" y="149"/>
                  </a:lnTo>
                  <a:lnTo>
                    <a:pt x="163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39000" y="5496120"/>
              <a:ext cx="175320" cy="14724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197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97" y="0"/>
                  </a:lnTo>
                  <a:lnTo>
                    <a:pt x="197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39000" y="5496120"/>
              <a:ext cx="146880" cy="14724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166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66" y="0"/>
                  </a:lnTo>
                  <a:lnTo>
                    <a:pt x="166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39000" y="5546160"/>
              <a:ext cx="175320" cy="96840"/>
            </a:xfrm>
            <a:custGeom>
              <a:avLst/>
              <a:gdLst/>
              <a:ahLst/>
              <a:rect l="l" t="t" r="r" b="b"/>
              <a:pathLst>
                <a:path w="197" h="105">
                  <a:moveTo>
                    <a:pt x="197" y="105"/>
                  </a:moveTo>
                  <a:lnTo>
                    <a:pt x="0" y="105"/>
                  </a:lnTo>
                  <a:lnTo>
                    <a:pt x="3" y="76"/>
                  </a:lnTo>
                  <a:lnTo>
                    <a:pt x="8" y="42"/>
                  </a:lnTo>
                  <a:lnTo>
                    <a:pt x="16" y="13"/>
                  </a:lnTo>
                  <a:lnTo>
                    <a:pt x="23" y="0"/>
                  </a:lnTo>
                  <a:lnTo>
                    <a:pt x="197" y="5"/>
                  </a:lnTo>
                  <a:lnTo>
                    <a:pt x="197" y="1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46920" y="5753160"/>
              <a:ext cx="316800" cy="133560"/>
            </a:xfrm>
            <a:custGeom>
              <a:avLst/>
              <a:gdLst/>
              <a:ahLst/>
              <a:rect l="l" t="t" r="r" b="b"/>
              <a:pathLst>
                <a:path w="358" h="143">
                  <a:moveTo>
                    <a:pt x="358" y="0"/>
                  </a:moveTo>
                  <a:lnTo>
                    <a:pt x="0" y="0"/>
                  </a:lnTo>
                  <a:lnTo>
                    <a:pt x="14" y="17"/>
                  </a:lnTo>
                  <a:lnTo>
                    <a:pt x="22" y="40"/>
                  </a:lnTo>
                  <a:lnTo>
                    <a:pt x="27" y="63"/>
                  </a:lnTo>
                  <a:lnTo>
                    <a:pt x="34" y="86"/>
                  </a:lnTo>
                  <a:lnTo>
                    <a:pt x="43" y="108"/>
                  </a:lnTo>
                  <a:lnTo>
                    <a:pt x="62" y="128"/>
                  </a:lnTo>
                  <a:lnTo>
                    <a:pt x="88" y="139"/>
                  </a:lnTo>
                  <a:lnTo>
                    <a:pt x="130" y="143"/>
                  </a:lnTo>
                  <a:lnTo>
                    <a:pt x="358" y="14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85320" y="5510880"/>
              <a:ext cx="464040" cy="174960"/>
            </a:xfrm>
            <a:custGeom>
              <a:avLst/>
              <a:gdLst/>
              <a:ahLst/>
              <a:rect l="l" t="t" r="r" b="b"/>
              <a:pathLst>
                <a:path w="522" h="189">
                  <a:moveTo>
                    <a:pt x="0" y="114"/>
                  </a:moveTo>
                  <a:lnTo>
                    <a:pt x="20" y="88"/>
                  </a:lnTo>
                  <a:lnTo>
                    <a:pt x="44" y="66"/>
                  </a:lnTo>
                  <a:lnTo>
                    <a:pt x="71" y="46"/>
                  </a:lnTo>
                  <a:lnTo>
                    <a:pt x="102" y="31"/>
                  </a:lnTo>
                  <a:lnTo>
                    <a:pt x="134" y="18"/>
                  </a:lnTo>
                  <a:lnTo>
                    <a:pt x="168" y="7"/>
                  </a:lnTo>
                  <a:lnTo>
                    <a:pt x="207" y="2"/>
                  </a:lnTo>
                  <a:lnTo>
                    <a:pt x="244" y="0"/>
                  </a:lnTo>
                  <a:lnTo>
                    <a:pt x="295" y="3"/>
                  </a:lnTo>
                  <a:lnTo>
                    <a:pt x="342" y="14"/>
                  </a:lnTo>
                  <a:lnTo>
                    <a:pt x="385" y="31"/>
                  </a:lnTo>
                  <a:lnTo>
                    <a:pt x="425" y="54"/>
                  </a:lnTo>
                  <a:lnTo>
                    <a:pt x="459" y="81"/>
                  </a:lnTo>
                  <a:lnTo>
                    <a:pt x="487" y="114"/>
                  </a:lnTo>
                  <a:lnTo>
                    <a:pt x="508" y="149"/>
                  </a:lnTo>
                  <a:lnTo>
                    <a:pt x="522" y="1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25560" y="5557680"/>
              <a:ext cx="404280" cy="131760"/>
            </a:xfrm>
            <a:custGeom>
              <a:avLst/>
              <a:gdLst/>
              <a:ahLst/>
              <a:rect l="l" t="t" r="r" b="b"/>
              <a:pathLst>
                <a:path w="455" h="141">
                  <a:moveTo>
                    <a:pt x="455" y="93"/>
                  </a:moveTo>
                  <a:lnTo>
                    <a:pt x="437" y="75"/>
                  </a:lnTo>
                  <a:lnTo>
                    <a:pt x="415" y="57"/>
                  </a:lnTo>
                  <a:lnTo>
                    <a:pt x="392" y="41"/>
                  </a:lnTo>
                  <a:lnTo>
                    <a:pt x="364" y="26"/>
                  </a:lnTo>
                  <a:lnTo>
                    <a:pt x="337" y="15"/>
                  </a:lnTo>
                  <a:lnTo>
                    <a:pt x="306" y="6"/>
                  </a:lnTo>
                  <a:lnTo>
                    <a:pt x="274" y="1"/>
                  </a:lnTo>
                  <a:lnTo>
                    <a:pt x="241" y="0"/>
                  </a:lnTo>
                  <a:lnTo>
                    <a:pt x="198" y="3"/>
                  </a:lnTo>
                  <a:lnTo>
                    <a:pt x="157" y="10"/>
                  </a:lnTo>
                  <a:lnTo>
                    <a:pt x="118" y="23"/>
                  </a:lnTo>
                  <a:lnTo>
                    <a:pt x="84" y="41"/>
                  </a:lnTo>
                  <a:lnTo>
                    <a:pt x="55" y="61"/>
                  </a:lnTo>
                  <a:lnTo>
                    <a:pt x="30" y="86"/>
                  </a:lnTo>
                  <a:lnTo>
                    <a:pt x="12" y="113"/>
                  </a:lnTo>
                  <a:lnTo>
                    <a:pt x="0" y="1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72680" y="5803200"/>
              <a:ext cx="368280" cy="104040"/>
            </a:xfrm>
            <a:custGeom>
              <a:avLst/>
              <a:gdLst/>
              <a:ahLst/>
              <a:rect l="l" t="t" r="r" b="b"/>
              <a:pathLst>
                <a:path w="417" h="111">
                  <a:moveTo>
                    <a:pt x="0" y="0"/>
                  </a:moveTo>
                  <a:lnTo>
                    <a:pt x="417" y="0"/>
                  </a:lnTo>
                  <a:lnTo>
                    <a:pt x="364" y="57"/>
                  </a:lnTo>
                  <a:lnTo>
                    <a:pt x="357" y="74"/>
                  </a:lnTo>
                  <a:lnTo>
                    <a:pt x="349" y="92"/>
                  </a:lnTo>
                  <a:lnTo>
                    <a:pt x="343" y="106"/>
                  </a:lnTo>
                  <a:lnTo>
                    <a:pt x="329" y="111"/>
                  </a:lnTo>
                  <a:lnTo>
                    <a:pt x="35" y="111"/>
                  </a:lnTo>
                  <a:lnTo>
                    <a:pt x="15" y="99"/>
                  </a:lnTo>
                  <a:lnTo>
                    <a:pt x="9" y="71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332080" y="5060520"/>
              <a:ext cx="480240" cy="338760"/>
            </a:xfrm>
            <a:custGeom>
              <a:avLst/>
              <a:gdLst/>
              <a:ahLst/>
              <a:rect l="l" t="t" r="r" b="b"/>
              <a:pathLst>
                <a:path w="543" h="364">
                  <a:moveTo>
                    <a:pt x="78" y="364"/>
                  </a:moveTo>
                  <a:lnTo>
                    <a:pt x="0" y="322"/>
                  </a:lnTo>
                  <a:lnTo>
                    <a:pt x="489" y="0"/>
                  </a:lnTo>
                  <a:lnTo>
                    <a:pt x="543" y="11"/>
                  </a:lnTo>
                  <a:lnTo>
                    <a:pt x="78" y="364"/>
                  </a:lnTo>
                  <a:lnTo>
                    <a:pt x="78" y="36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 flipH="1">
            <a:off x="4114800" y="4952880"/>
            <a:ext cx="1295280" cy="3049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500"/>
                            </p:stCondLst>
                            <p:childTnLst>
                              <p:par>
                                <p:cTn id="27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with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/Limited 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External Fragmentat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S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P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3" dur="indefinite" restart="never" nodeType="tmRoot">
          <p:childTnLst>
            <p:seq>
              <p:cTn id="2794" dur="indefinite" nodeType="mainSeq">
                <p:childTnLst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9" dur="5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4" dur="5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4" dur="5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9" dur="5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4" dur="5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9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4" dur="500"/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9" dur="500"/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4" dur="500"/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3476520" y="1515960"/>
            <a:ext cx="2119320" cy="720720"/>
            <a:chOff x="3476520" y="1515960"/>
            <a:chExt cx="2119320" cy="720720"/>
          </a:xfrm>
        </p:grpSpPr>
        <p:sp>
          <p:nvSpPr>
            <p:cNvPr id="1547" name=""/>
            <p:cNvSpPr/>
            <p:nvPr/>
          </p:nvSpPr>
          <p:spPr>
            <a:xfrm>
              <a:off x="3476520" y="187632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95840" y="187632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3480" y="151596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496800" y="3603600"/>
            <a:ext cx="837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Eas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Internal fragmentation: ± ½ page/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078600" y="3865680"/>
            <a:ext cx="720720" cy="1077840"/>
            <a:chOff x="6078600" y="3865680"/>
            <a:chExt cx="720720" cy="1077840"/>
          </a:xfrm>
        </p:grpSpPr>
        <p:sp>
          <p:nvSpPr>
            <p:cNvPr id="1552" name=""/>
            <p:cNvSpPr/>
            <p:nvPr/>
          </p:nvSpPr>
          <p:spPr>
            <a:xfrm>
              <a:off x="6080040" y="386568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80040" y="422424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78600" y="4584600"/>
              <a:ext cx="718920" cy="144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80040" y="4727520"/>
              <a:ext cx="71928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916680" y="3865680"/>
            <a:ext cx="720720" cy="725040"/>
            <a:chOff x="6916680" y="3865680"/>
            <a:chExt cx="720720" cy="725040"/>
          </a:xfrm>
        </p:grpSpPr>
        <p:sp>
          <p:nvSpPr>
            <p:cNvPr id="1557" name=""/>
            <p:cNvSpPr/>
            <p:nvPr/>
          </p:nvSpPr>
          <p:spPr>
            <a:xfrm>
              <a:off x="6918120" y="38656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16680" y="4446360"/>
              <a:ext cx="71892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18120" y="4227480"/>
              <a:ext cx="719280" cy="2152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754760" y="3865680"/>
            <a:ext cx="720720" cy="1447200"/>
            <a:chOff x="7754760" y="3865680"/>
            <a:chExt cx="720720" cy="1447200"/>
          </a:xfrm>
        </p:grpSpPr>
        <p:sp>
          <p:nvSpPr>
            <p:cNvPr id="1561" name=""/>
            <p:cNvSpPr/>
            <p:nvPr/>
          </p:nvSpPr>
          <p:spPr>
            <a:xfrm>
              <a:off x="7756200" y="4587480"/>
              <a:ext cx="71928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5168520"/>
              <a:ext cx="71892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56200" y="4949640"/>
              <a:ext cx="719280" cy="21528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54760" y="422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54760" y="386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6070680" y="3865680"/>
            <a:ext cx="71892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65920" y="3865680"/>
            <a:ext cx="7192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908760" y="3865680"/>
            <a:ext cx="71928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9" name=""/>
          <p:cNvCxnSpPr>
            <a:stCxn id="1548" idx="2"/>
            <a:endCxn id="1570" idx="0"/>
          </p:cNvCxnSpPr>
          <p:nvPr/>
        </p:nvCxnSpPr>
        <p:spPr>
          <a:xfrm flipH="1" rot="16200000">
            <a:off x="5782320" y="1599840"/>
            <a:ext cx="665640" cy="1939320"/>
          </a:xfrm>
          <a:prstGeom prst="bentConnector3">
            <a:avLst>
              <a:gd name="adj1" fmla="val 49891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grpSp>
        <p:nvGrpSpPr>
          <p:cNvPr id="1571" name=""/>
          <p:cNvGrpSpPr/>
          <p:nvPr/>
        </p:nvGrpSpPr>
        <p:grpSpPr>
          <a:xfrm>
            <a:off x="6507720" y="2901960"/>
            <a:ext cx="1154520" cy="649440"/>
            <a:chOff x="6507720" y="2901960"/>
            <a:chExt cx="1154520" cy="649440"/>
          </a:xfrm>
        </p:grpSpPr>
        <p:grpSp>
          <p:nvGrpSpPr>
            <p:cNvPr id="1572" name=""/>
            <p:cNvGrpSpPr/>
            <p:nvPr/>
          </p:nvGrpSpPr>
          <p:grpSpPr>
            <a:xfrm>
              <a:off x="6629400" y="3191040"/>
              <a:ext cx="884160" cy="360360"/>
              <a:chOff x="6629400" y="3191040"/>
              <a:chExt cx="884160" cy="360360"/>
            </a:xfrm>
          </p:grpSpPr>
          <p:sp>
            <p:nvSpPr>
              <p:cNvPr id="1573" name=""/>
              <p:cNvSpPr/>
              <p:nvPr/>
            </p:nvSpPr>
            <p:spPr>
              <a:xfrm>
                <a:off x="6629400" y="319104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10280" y="319104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6507720" y="29019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560520" y="567216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| Page | = | Frame | = 1k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1480" y="2408400"/>
            <a:ext cx="837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 = 1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egment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64k (36-bit)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1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00"/>
                            </p:stCondLst>
                            <p:childTnLst>
                              <p:par>
                                <p:cTn id="2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4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7" name=""/>
          <p:cNvGrpSpPr/>
          <p:nvPr/>
        </p:nvGrpSpPr>
        <p:grpSpPr>
          <a:xfrm>
            <a:off x="2600280" y="3965400"/>
            <a:ext cx="4687920" cy="2131920"/>
            <a:chOff x="2600280" y="3965400"/>
            <a:chExt cx="4687920" cy="2131920"/>
          </a:xfrm>
        </p:grpSpPr>
        <p:grpSp>
          <p:nvGrpSpPr>
            <p:cNvPr id="1578" name=""/>
            <p:cNvGrpSpPr/>
            <p:nvPr/>
          </p:nvGrpSpPr>
          <p:grpSpPr>
            <a:xfrm>
              <a:off x="2600280" y="3965400"/>
              <a:ext cx="4687920" cy="2051280"/>
              <a:chOff x="2600280" y="3965400"/>
              <a:chExt cx="4687920" cy="2051280"/>
            </a:xfrm>
          </p:grpSpPr>
          <p:sp>
            <p:nvSpPr>
              <p:cNvPr id="1579" name=""/>
              <p:cNvSpPr/>
              <p:nvPr/>
            </p:nvSpPr>
            <p:spPr>
              <a:xfrm>
                <a:off x="4299120" y="5183640"/>
                <a:ext cx="2989080" cy="8308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24480" y="4092840"/>
                <a:ext cx="957240" cy="14716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00280" y="3965400"/>
                <a:ext cx="2903760" cy="20512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5770080" y="569844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492200" y="1339920"/>
            <a:ext cx="2119320" cy="674640"/>
            <a:chOff x="1492200" y="1339920"/>
            <a:chExt cx="2119320" cy="674640"/>
          </a:xfrm>
        </p:grpSpPr>
        <p:sp>
          <p:nvSpPr>
            <p:cNvPr id="1585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595880" y="133992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411120" y="453060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5" idx="2"/>
            <a:endCxn id="1590" idx="0"/>
          </p:cNvCxnSpPr>
          <p:nvPr/>
        </p:nvCxnSpPr>
        <p:spPr>
          <a:xfrm>
            <a:off x="2122200" y="2014200"/>
            <a:ext cx="108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1" name=""/>
          <p:cNvCxnSpPr>
            <a:stCxn id="1588" idx="3"/>
            <a:endCxn id="1592" idx="1"/>
          </p:cNvCxnSpPr>
          <p:nvPr/>
        </p:nvCxnSpPr>
        <p:spPr>
          <a:xfrm>
            <a:off x="1501560" y="4660920"/>
            <a:ext cx="4165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3" name=""/>
          <p:cNvCxnSpPr>
            <a:stCxn id="1592" idx="3"/>
            <a:endCxn id="1594" idx="1"/>
          </p:cNvCxnSpPr>
          <p:nvPr/>
        </p:nvCxnSpPr>
        <p:spPr>
          <a:xfrm flipV="1">
            <a:off x="2325240" y="4662000"/>
            <a:ext cx="848520" cy="5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1917720" y="447372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849320" y="243216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5" name=""/>
          <p:cNvCxnSpPr>
            <a:stCxn id="1590" idx="2"/>
            <a:endCxn id="1592" idx="0"/>
          </p:cNvCxnSpPr>
          <p:nvPr/>
        </p:nvCxnSpPr>
        <p:spPr>
          <a:xfrm>
            <a:off x="2122200" y="2968200"/>
            <a:ext cx="1080" cy="1505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"/>
          <p:cNvSpPr/>
          <p:nvPr/>
        </p:nvSpPr>
        <p:spPr>
          <a:xfrm>
            <a:off x="317520" y="2567160"/>
            <a:ext cx="109044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7" name=""/>
          <p:cNvCxnSpPr>
            <a:stCxn id="1596" idx="3"/>
            <a:endCxn id="1590" idx="1"/>
          </p:cNvCxnSpPr>
          <p:nvPr/>
        </p:nvCxnSpPr>
        <p:spPr>
          <a:xfrm flipV="1">
            <a:off x="1407600" y="2690280"/>
            <a:ext cx="4230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98" name=""/>
          <p:cNvGrpSpPr/>
          <p:nvPr/>
        </p:nvGrpSpPr>
        <p:grpSpPr>
          <a:xfrm>
            <a:off x="2302560" y="2496960"/>
            <a:ext cx="734400" cy="533160"/>
            <a:chOff x="2302560" y="2496960"/>
            <a:chExt cx="734400" cy="533160"/>
          </a:xfrm>
        </p:grpSpPr>
        <p:sp>
          <p:nvSpPr>
            <p:cNvPr id="1599" name=""/>
            <p:cNvSpPr/>
            <p:nvPr/>
          </p:nvSpPr>
          <p:spPr>
            <a:xfrm>
              <a:off x="2427480" y="249696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2560" y="265500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2325600" y="4091040"/>
            <a:ext cx="862560" cy="1452600"/>
            <a:chOff x="2325600" y="4091040"/>
            <a:chExt cx="862560" cy="1452600"/>
          </a:xfrm>
        </p:grpSpPr>
        <p:grpSp>
          <p:nvGrpSpPr>
            <p:cNvPr id="1602" name=""/>
            <p:cNvGrpSpPr/>
            <p:nvPr/>
          </p:nvGrpSpPr>
          <p:grpSpPr>
            <a:xfrm>
              <a:off x="2693520" y="4091040"/>
              <a:ext cx="494640" cy="1452600"/>
              <a:chOff x="2693520" y="4091040"/>
              <a:chExt cx="494640" cy="1452600"/>
            </a:xfrm>
          </p:grpSpPr>
          <p:sp>
            <p:nvSpPr>
              <p:cNvPr id="1603" name=""/>
              <p:cNvSpPr/>
              <p:nvPr/>
            </p:nvSpPr>
            <p:spPr>
              <a:xfrm>
                <a:off x="2710080" y="4091040"/>
                <a:ext cx="463320" cy="145260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693520" y="4432680"/>
                <a:ext cx="494640" cy="45972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5" name=""/>
            <p:cNvCxnSpPr>
              <a:stCxn id="1592" idx="3"/>
              <a:endCxn id="1604" idx="1"/>
            </p:cNvCxnSpPr>
            <p:nvPr/>
          </p:nvCxnSpPr>
          <p:spPr>
            <a:xfrm flipV="1">
              <a:off x="2325600" y="4662000"/>
              <a:ext cx="386640" cy="5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606" name=""/>
          <p:cNvCxnSpPr>
            <a:stCxn id="1586" idx="2"/>
            <a:endCxn id="1607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08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09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2" name=""/>
          <p:cNvCxnSpPr>
            <a:stCxn id="1613" idx="3"/>
            <a:endCxn id="1614" idx="1"/>
          </p:cNvCxnSpPr>
          <p:nvPr/>
        </p:nvCxnSpPr>
        <p:spPr>
          <a:xfrm flipV="1">
            <a:off x="5208120" y="4652280"/>
            <a:ext cx="42300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4" name=""/>
          <p:cNvSpPr/>
          <p:nvPr/>
        </p:nvSpPr>
        <p:spPr>
          <a:xfrm>
            <a:off x="5630760" y="445932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5" name=""/>
          <p:cNvCxnSpPr>
            <a:stCxn id="1610" idx="2"/>
            <a:endCxn id="1614" idx="0"/>
          </p:cNvCxnSpPr>
          <p:nvPr/>
        </p:nvCxnSpPr>
        <p:spPr>
          <a:xfrm flipH="1">
            <a:off x="5834880" y="3457080"/>
            <a:ext cx="5400" cy="100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6" name=""/>
          <p:cNvCxnSpPr>
            <a:stCxn id="1614" idx="3"/>
            <a:endCxn id="1617" idx="1"/>
          </p:cNvCxnSpPr>
          <p:nvPr/>
        </p:nvCxnSpPr>
        <p:spPr>
          <a:xfrm>
            <a:off x="6039000" y="4653000"/>
            <a:ext cx="435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8" name=""/>
          <p:cNvSpPr/>
          <p:nvPr/>
        </p:nvSpPr>
        <p:spPr>
          <a:xfrm>
            <a:off x="8405640" y="56991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83480" y="56991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0" name=""/>
          <p:cNvCxnSpPr>
            <a:stCxn id="1617" idx="3"/>
            <a:endCxn id="1619" idx="0"/>
          </p:cNvCxnSpPr>
          <p:nvPr/>
        </p:nvCxnSpPr>
        <p:spPr>
          <a:xfrm>
            <a:off x="7199280" y="4654440"/>
            <a:ext cx="853200" cy="1045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1" name=""/>
          <p:cNvCxnSpPr>
            <a:stCxn id="1611" idx="2"/>
            <a:endCxn id="1618" idx="0"/>
          </p:cNvCxnSpPr>
          <p:nvPr/>
        </p:nvCxnSpPr>
        <p:spPr>
          <a:xfrm flipH="1" rot="16200000">
            <a:off x="6351480" y="3391920"/>
            <a:ext cx="2242440" cy="2372400"/>
          </a:xfrm>
          <a:prstGeom prst="bentConnector3">
            <a:avLst>
              <a:gd name="adj1" fmla="val 16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3" name=""/>
          <p:cNvCxnSpPr>
            <a:stCxn id="1586" idx="2"/>
            <a:endCxn id="1622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4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25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3173400" y="4091040"/>
            <a:ext cx="2040120" cy="1791000"/>
            <a:chOff x="3173400" y="4091040"/>
            <a:chExt cx="2040120" cy="1791000"/>
          </a:xfrm>
        </p:grpSpPr>
        <p:grpSp>
          <p:nvGrpSpPr>
            <p:cNvPr id="1628" name=""/>
            <p:cNvGrpSpPr/>
            <p:nvPr/>
          </p:nvGrpSpPr>
          <p:grpSpPr>
            <a:xfrm>
              <a:off x="3173400" y="4091040"/>
              <a:ext cx="2040120" cy="1452240"/>
              <a:chOff x="3173400" y="4091040"/>
              <a:chExt cx="2040120" cy="1452240"/>
            </a:xfrm>
          </p:grpSpPr>
          <p:sp>
            <p:nvSpPr>
              <p:cNvPr id="1629" name=""/>
              <p:cNvSpPr/>
              <p:nvPr/>
            </p:nvSpPr>
            <p:spPr>
              <a:xfrm>
                <a:off x="3173400" y="4091040"/>
                <a:ext cx="2040120" cy="145224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73400" y="4430520"/>
                <a:ext cx="90324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073400" y="4432320"/>
                <a:ext cx="113508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ase 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3279600" y="55137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gmen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6175440" y="4154400"/>
            <a:ext cx="1322280" cy="1343880"/>
            <a:chOff x="6175440" y="4154400"/>
            <a:chExt cx="1322280" cy="1343880"/>
          </a:xfrm>
        </p:grpSpPr>
        <p:grpSp>
          <p:nvGrpSpPr>
            <p:cNvPr id="1632" name=""/>
            <p:cNvGrpSpPr/>
            <p:nvPr/>
          </p:nvGrpSpPr>
          <p:grpSpPr>
            <a:xfrm>
              <a:off x="6468840" y="4154400"/>
              <a:ext cx="734760" cy="1046160"/>
              <a:chOff x="6468840" y="4154400"/>
              <a:chExt cx="734760" cy="104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6468840" y="415440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73520" y="447336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6175440" y="51609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 flipH="1">
            <a:off x="7265520" y="58752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09760" y="442908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018120" y="443376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170840" y="5665680"/>
            <a:ext cx="50148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0" name=""/>
          <p:cNvCxnSpPr>
            <a:stCxn id="1594" idx="0"/>
            <a:endCxn id="1622" idx="2"/>
          </p:cNvCxnSpPr>
          <p:nvPr/>
        </p:nvCxnSpPr>
        <p:spPr>
          <a:xfrm flipH="1" flipV="1" rot="5400000">
            <a:off x="3431520" y="3641400"/>
            <a:ext cx="983520" cy="595800"/>
          </a:xfrm>
          <a:prstGeom prst="bentConnector3">
            <a:avLst>
              <a:gd name="adj1" fmla="val 5086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500"/>
                            </p:stCondLst>
                            <p:childTnLst>
                              <p:par>
                                <p:cTn id="2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500"/>
                            </p:stCondLst>
                            <p:childTnLst>
                              <p:par>
                                <p:cTn id="2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2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7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2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568440" y="179388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Nb = 1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egm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4932360" y="3687840"/>
            <a:ext cx="1258920" cy="706320"/>
            <a:chOff x="4932360" y="3687840"/>
            <a:chExt cx="1258920" cy="706320"/>
          </a:xfrm>
        </p:grpSpPr>
        <p:sp>
          <p:nvSpPr>
            <p:cNvPr id="1644" name=""/>
            <p:cNvSpPr/>
            <p:nvPr/>
          </p:nvSpPr>
          <p:spPr>
            <a:xfrm>
              <a:off x="4932360" y="40338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112360" y="36878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6021000" y="5087880"/>
            <a:ext cx="1332720" cy="692280"/>
            <a:chOff x="6021000" y="5087880"/>
            <a:chExt cx="1332720" cy="692280"/>
          </a:xfrm>
        </p:grpSpPr>
        <p:sp>
          <p:nvSpPr>
            <p:cNvPr id="1647" name=""/>
            <p:cNvSpPr/>
            <p:nvPr/>
          </p:nvSpPr>
          <p:spPr>
            <a:xfrm>
              <a:off x="6056280" y="5419800"/>
              <a:ext cx="542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00960" y="5419800"/>
              <a:ext cx="687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21000" y="50878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  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0" name=""/>
          <p:cNvCxnSpPr>
            <a:stCxn id="1644" idx="2"/>
            <a:endCxn id="1649" idx="0"/>
          </p:cNvCxnSpPr>
          <p:nvPr/>
        </p:nvCxnSpPr>
        <p:spPr>
          <a:xfrm flipH="1" rot="16200000">
            <a:off x="5778360" y="4177800"/>
            <a:ext cx="694440" cy="1126080"/>
          </a:xfrm>
          <a:prstGeom prst="bentConnector3">
            <a:avLst>
              <a:gd name="adj1" fmla="val 49844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651" name=""/>
          <p:cNvSpPr/>
          <p:nvPr/>
        </p:nvSpPr>
        <p:spPr>
          <a:xfrm>
            <a:off x="561960" y="5400720"/>
            <a:ext cx="43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PT(ST)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= 256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76360" y="4129200"/>
            <a:ext cx="60195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ST</a:t>
            </a:r>
            <a:r>
              <a:rPr b="0" lang="en-GB" sz="2400" spc="-1" strike="noStrike" baseline="-25000">
                <a:solidFill>
                  <a:srgbClr val="00279f"/>
                </a:solidFill>
                <a:latin typeface="Tahoma"/>
              </a:rPr>
              <a:t>entry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| = 1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Frame contains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10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6360" y="29718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gth S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2" dur="indefinite" restart="never" nodeType="tmRoot">
          <p:childTnLst>
            <p:seq>
              <p:cTn id="3083" dur="indefinite" nodeType="mainSeq">
                <p:childTnLst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3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8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871560" y="1936800"/>
            <a:ext cx="8012160" cy="4291560"/>
            <a:chOff x="871560" y="1936800"/>
            <a:chExt cx="8012160" cy="4291560"/>
          </a:xfrm>
        </p:grpSpPr>
        <p:sp>
          <p:nvSpPr>
            <p:cNvPr id="1656" name=""/>
            <p:cNvSpPr/>
            <p:nvPr/>
          </p:nvSpPr>
          <p:spPr>
            <a:xfrm>
              <a:off x="8564400" y="1936800"/>
              <a:ext cx="319320" cy="42019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09800" y="5872320"/>
              <a:ext cx="298908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71560" y="4605480"/>
              <a:ext cx="95724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54560" y="5880240"/>
              <a:ext cx="298944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67760" y="4613400"/>
              <a:ext cx="124776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87920" y="4602240"/>
              <a:ext cx="2743200" cy="1542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529720" y="58294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1492200" y="1336680"/>
            <a:ext cx="2119320" cy="677880"/>
            <a:chOff x="1492200" y="1336680"/>
            <a:chExt cx="2119320" cy="677880"/>
          </a:xfrm>
        </p:grpSpPr>
        <p:sp>
          <p:nvSpPr>
            <p:cNvPr id="1664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18920" y="13366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298440" y="334152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295280" y="391968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225440" y="264960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85840" y="2200320"/>
            <a:ext cx="10904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1641960" y="2714760"/>
            <a:ext cx="537840" cy="460800"/>
            <a:chOff x="1641960" y="2714760"/>
            <a:chExt cx="537840" cy="460800"/>
          </a:xfrm>
        </p:grpSpPr>
        <p:sp>
          <p:nvSpPr>
            <p:cNvPr id="1672" name=""/>
            <p:cNvSpPr/>
            <p:nvPr/>
          </p:nvSpPr>
          <p:spPr>
            <a:xfrm>
              <a:off x="1826280" y="2714760"/>
              <a:ext cx="353520" cy="4316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41960" y="280728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74" name=""/>
          <p:cNvCxnSpPr>
            <a:stCxn id="1665" idx="2"/>
            <a:endCxn id="1675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76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77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78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0" name=""/>
          <p:cNvCxnSpPr>
            <a:stCxn id="1681" idx="3"/>
            <a:endCxn id="1682" idx="1"/>
          </p:cNvCxnSpPr>
          <p:nvPr/>
        </p:nvCxnSpPr>
        <p:spPr>
          <a:xfrm flipV="1">
            <a:off x="6276600" y="5562000"/>
            <a:ext cx="43884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2" name=""/>
          <p:cNvSpPr/>
          <p:nvPr/>
        </p:nvSpPr>
        <p:spPr>
          <a:xfrm>
            <a:off x="6715080" y="536904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3" name=""/>
          <p:cNvCxnSpPr>
            <a:stCxn id="1682" idx="3"/>
            <a:endCxn id="1684" idx="1"/>
          </p:cNvCxnSpPr>
          <p:nvPr/>
        </p:nvCxnSpPr>
        <p:spPr>
          <a:xfrm flipV="1">
            <a:off x="7122960" y="5555880"/>
            <a:ext cx="3945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5" name=""/>
          <p:cNvSpPr/>
          <p:nvPr/>
        </p:nvSpPr>
        <p:spPr>
          <a:xfrm>
            <a:off x="7759800" y="24177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37280" y="24177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7" name=""/>
          <p:cNvCxnSpPr>
            <a:stCxn id="1684" idx="3"/>
            <a:endCxn id="1686" idx="2"/>
          </p:cNvCxnSpPr>
          <p:nvPr/>
        </p:nvCxnSpPr>
        <p:spPr>
          <a:xfrm flipH="1" flipV="1">
            <a:off x="7405200" y="2777400"/>
            <a:ext cx="837360" cy="2778840"/>
          </a:xfrm>
          <a:prstGeom prst="bentConnector4">
            <a:avLst>
              <a:gd name="adj1" fmla="val -27311"/>
              <a:gd name="adj2" fmla="val 532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8" name=""/>
          <p:cNvCxnSpPr>
            <a:stCxn id="1679" idx="2"/>
            <a:endCxn id="1685" idx="0"/>
          </p:cNvCxnSpPr>
          <p:nvPr/>
        </p:nvCxnSpPr>
        <p:spPr>
          <a:xfrm flipH="1" flipV="1" rot="5400000">
            <a:off x="6628320" y="2074320"/>
            <a:ext cx="1040400" cy="1726200"/>
          </a:xfrm>
          <a:prstGeom prst="bentConnector5">
            <a:avLst>
              <a:gd name="adj1" fmla="val -21979"/>
              <a:gd name="adj2" fmla="val 31810"/>
              <a:gd name="adj3" fmla="val 14454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9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0" name=""/>
          <p:cNvCxnSpPr>
            <a:stCxn id="1665" idx="2"/>
            <a:endCxn id="1689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91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92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7218360" y="4827600"/>
            <a:ext cx="1322280" cy="1343880"/>
            <a:chOff x="7218360" y="4827600"/>
            <a:chExt cx="1322280" cy="1343880"/>
          </a:xfrm>
        </p:grpSpPr>
        <p:sp>
          <p:nvSpPr>
            <p:cNvPr id="1695" name=""/>
            <p:cNvSpPr/>
            <p:nvPr/>
          </p:nvSpPr>
          <p:spPr>
            <a:xfrm>
              <a:off x="7512120" y="4827600"/>
              <a:ext cx="734760" cy="104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16800" y="5375160"/>
              <a:ext cx="7254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18360" y="58341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8282160" y="25938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63680" y="493236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04240" y="531324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288280" y="2384280"/>
            <a:ext cx="5018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2" name=""/>
          <p:cNvCxnSpPr>
            <a:stCxn id="1703" idx="0"/>
            <a:endCxn id="1689" idx="2"/>
          </p:cNvCxnSpPr>
          <p:nvPr/>
        </p:nvCxnSpPr>
        <p:spPr>
          <a:xfrm flipV="1" rot="16200000">
            <a:off x="3598200" y="4069440"/>
            <a:ext cx="1902600" cy="658080"/>
          </a:xfrm>
          <a:prstGeom prst="bentConnector3">
            <a:avLst>
              <a:gd name="adj1" fmla="val 5049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4" name=""/>
          <p:cNvCxnSpPr>
            <a:stCxn id="1670" idx="2"/>
            <a:endCxn id="1669" idx="1"/>
          </p:cNvCxnSpPr>
          <p:nvPr/>
        </p:nvCxnSpPr>
        <p:spPr>
          <a:xfrm flipH="1" rot="16200000">
            <a:off x="794520" y="2496240"/>
            <a:ext cx="450000" cy="3751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5" name=""/>
          <p:cNvCxnSpPr>
            <a:stCxn id="1664" idx="2"/>
            <a:endCxn id="1706" idx="0"/>
          </p:cNvCxnSpPr>
          <p:nvPr/>
        </p:nvCxnSpPr>
        <p:spPr>
          <a:xfrm flipH="1" rot="16200000">
            <a:off x="2198520" y="1937520"/>
            <a:ext cx="650160" cy="80388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7" name=""/>
          <p:cNvCxnSpPr>
            <a:stCxn id="1664" idx="2"/>
            <a:endCxn id="1669" idx="0"/>
          </p:cNvCxnSpPr>
          <p:nvPr/>
        </p:nvCxnSpPr>
        <p:spPr>
          <a:xfrm rot="5400000">
            <a:off x="1501920" y="2010240"/>
            <a:ext cx="616680" cy="624600"/>
          </a:xfrm>
          <a:prstGeom prst="bentConnector3">
            <a:avLst>
              <a:gd name="adj1" fmla="val 515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8" name=""/>
          <p:cNvCxnSpPr>
            <a:stCxn id="1667" idx="2"/>
            <a:endCxn id="1668" idx="1"/>
          </p:cNvCxnSpPr>
          <p:nvPr/>
        </p:nvCxnSpPr>
        <p:spPr>
          <a:xfrm flipH="1" rot="16200000">
            <a:off x="813240" y="3630960"/>
            <a:ext cx="513720" cy="451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9" name=""/>
          <p:cNvCxnSpPr>
            <a:stCxn id="1710" idx="2"/>
            <a:endCxn id="1668" idx="0"/>
          </p:cNvCxnSpPr>
          <p:nvPr/>
        </p:nvCxnSpPr>
        <p:spPr>
          <a:xfrm rot="5400000">
            <a:off x="1755720" y="3066120"/>
            <a:ext cx="597600" cy="1110600"/>
          </a:xfrm>
          <a:prstGeom prst="bentConnector3">
            <a:avLst>
              <a:gd name="adj1" fmla="val 49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11" name=""/>
          <p:cNvGrpSpPr/>
          <p:nvPr/>
        </p:nvGrpSpPr>
        <p:grpSpPr>
          <a:xfrm>
            <a:off x="911880" y="4687920"/>
            <a:ext cx="814680" cy="1343880"/>
            <a:chOff x="911880" y="4687920"/>
            <a:chExt cx="814680" cy="1343880"/>
          </a:xfrm>
        </p:grpSpPr>
        <p:grpSp>
          <p:nvGrpSpPr>
            <p:cNvPr id="1712" name=""/>
            <p:cNvGrpSpPr/>
            <p:nvPr/>
          </p:nvGrpSpPr>
          <p:grpSpPr>
            <a:xfrm>
              <a:off x="950760" y="4687920"/>
              <a:ext cx="734760" cy="1046160"/>
              <a:chOff x="950760" y="4687920"/>
              <a:chExt cx="734760" cy="104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950760" y="468792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5440" y="500688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911880" y="56944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1916280" y="5402160"/>
            <a:ext cx="7254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643120" y="5402160"/>
            <a:ext cx="63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8" name=""/>
          <p:cNvCxnSpPr>
            <a:stCxn id="1717" idx="3"/>
            <a:endCxn id="1719" idx="1"/>
          </p:cNvCxnSpPr>
          <p:nvPr/>
        </p:nvCxnSpPr>
        <p:spPr>
          <a:xfrm>
            <a:off x="3273120" y="5582880"/>
            <a:ext cx="7959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0" name=""/>
          <p:cNvCxnSpPr>
            <a:stCxn id="1714" idx="3"/>
            <a:endCxn id="1716" idx="0"/>
          </p:cNvCxnSpPr>
          <p:nvPr/>
        </p:nvCxnSpPr>
        <p:spPr>
          <a:xfrm>
            <a:off x="1681200" y="5187600"/>
            <a:ext cx="598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1" name=""/>
          <p:cNvCxnSpPr>
            <a:stCxn id="1722" idx="2"/>
            <a:endCxn id="1717" idx="0"/>
          </p:cNvCxnSpPr>
          <p:nvPr/>
        </p:nvCxnSpPr>
        <p:spPr>
          <a:xfrm rot="5400000">
            <a:off x="2059200" y="4222080"/>
            <a:ext cx="2080080" cy="281520"/>
          </a:xfrm>
          <a:prstGeom prst="bentConnector3">
            <a:avLst>
              <a:gd name="adj1" fmla="val 499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3" name=""/>
          <p:cNvCxnSpPr>
            <a:stCxn id="1678" idx="2"/>
            <a:endCxn id="1682" idx="0"/>
          </p:cNvCxnSpPr>
          <p:nvPr/>
        </p:nvCxnSpPr>
        <p:spPr>
          <a:xfrm flipH="1" rot="16200000">
            <a:off x="5423400" y="3873240"/>
            <a:ext cx="1912320" cy="1080360"/>
          </a:xfrm>
          <a:prstGeom prst="bentConnector3">
            <a:avLst>
              <a:gd name="adj1" fmla="val 499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24" name=""/>
          <p:cNvGrpSpPr/>
          <p:nvPr/>
        </p:nvGrpSpPr>
        <p:grpSpPr>
          <a:xfrm>
            <a:off x="4068720" y="4649760"/>
            <a:ext cx="2212920" cy="1384200"/>
            <a:chOff x="4068720" y="4649760"/>
            <a:chExt cx="2212920" cy="1384200"/>
          </a:xfrm>
        </p:grpSpPr>
        <p:sp>
          <p:nvSpPr>
            <p:cNvPr id="1725" name=""/>
            <p:cNvSpPr/>
            <p:nvPr/>
          </p:nvSpPr>
          <p:spPr>
            <a:xfrm>
              <a:off x="4068720" y="4944960"/>
              <a:ext cx="2212920" cy="10890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068720" y="5362560"/>
              <a:ext cx="412920" cy="449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78400" y="5349960"/>
              <a:ext cx="79848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73640" y="5349960"/>
              <a:ext cx="100332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se 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05880" y="4649760"/>
              <a:ext cx="105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ge of 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27" name=""/>
          <p:cNvCxnSpPr>
            <a:stCxn id="1668" idx="2"/>
            <a:endCxn id="1714" idx="1"/>
          </p:cNvCxnSpPr>
          <p:nvPr/>
        </p:nvCxnSpPr>
        <p:spPr>
          <a:xfrm rot="5400000">
            <a:off x="786960" y="4475160"/>
            <a:ext cx="881640" cy="545040"/>
          </a:xfrm>
          <a:prstGeom prst="bentConnector4">
            <a:avLst>
              <a:gd name="adj1" fmla="val 39624"/>
              <a:gd name="adj2" fmla="val 141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8" name=""/>
          <p:cNvSpPr/>
          <p:nvPr/>
        </p:nvSpPr>
        <p:spPr>
          <a:xfrm>
            <a:off x="3475080" y="5346720"/>
            <a:ext cx="471600" cy="43956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2293920" y="2664000"/>
            <a:ext cx="1260000" cy="658800"/>
            <a:chOff x="2293920" y="2664000"/>
            <a:chExt cx="1260000" cy="658800"/>
          </a:xfrm>
        </p:grpSpPr>
        <p:grpSp>
          <p:nvGrpSpPr>
            <p:cNvPr id="1730" name=""/>
            <p:cNvGrpSpPr/>
            <p:nvPr/>
          </p:nvGrpSpPr>
          <p:grpSpPr>
            <a:xfrm>
              <a:off x="2293920" y="2962440"/>
              <a:ext cx="1260000" cy="360360"/>
              <a:chOff x="2293920" y="2962440"/>
              <a:chExt cx="1260000" cy="360360"/>
            </a:xfrm>
          </p:grpSpPr>
          <p:sp>
            <p:nvSpPr>
              <p:cNvPr id="1710" name=""/>
              <p:cNvSpPr/>
              <p:nvPr/>
            </p:nvSpPr>
            <p:spPr>
              <a:xfrm>
                <a:off x="229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2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2348280" y="2664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3" dur="indefinite" restart="never" nodeType="tmRoot">
          <p:childTnLst>
            <p:seq>
              <p:cTn id="3124" dur="indefinite" nodeType="mainSeq">
                <p:childTnLst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3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500"/>
                            </p:stCondLst>
                            <p:childTnLst>
                              <p:par>
                                <p:cTn id="3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500"/>
                            </p:stCondLst>
                            <p:childTnLst>
                              <p:par>
                                <p:cTn id="3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0" fill="hold">
                            <p:stCondLst>
                              <p:cond delay="500"/>
                            </p:stCondLst>
                            <p:childTnLst>
                              <p:par>
                                <p:cTn id="3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7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5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500"/>
                            </p:stCondLst>
                            <p:childTnLst>
                              <p:par>
                                <p:cTn id="3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3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7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4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500"/>
                            </p:stCondLst>
                            <p:childTnLst>
                              <p:par>
                                <p:cTn id="3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8" fill="hold">
                            <p:stCondLst>
                              <p:cond delay="500"/>
                            </p:stCondLst>
                            <p:childTnLst>
                              <p:par>
                                <p:cTn id="3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9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500"/>
                            </p:stCondLst>
                            <p:childTnLst>
                              <p:par>
                                <p:cTn id="3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el 80386, 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MU: Segmentation +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 / off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685800" y="2057400"/>
            <a:ext cx="7958160" cy="3505320"/>
            <a:chOff x="685800" y="2057400"/>
            <a:chExt cx="7958160" cy="3505320"/>
          </a:xfrm>
        </p:grpSpPr>
        <p:grpSp>
          <p:nvGrpSpPr>
            <p:cNvPr id="1734" name=""/>
            <p:cNvGrpSpPr/>
            <p:nvPr/>
          </p:nvGrpSpPr>
          <p:grpSpPr>
            <a:xfrm>
              <a:off x="1100160" y="2743200"/>
              <a:ext cx="7543800" cy="2438280"/>
              <a:chOff x="1100160" y="2743200"/>
              <a:chExt cx="7543800" cy="2438280"/>
            </a:xfrm>
          </p:grpSpPr>
          <p:sp>
            <p:nvSpPr>
              <p:cNvPr id="1735" name=""/>
              <p:cNvSpPr/>
              <p:nvPr/>
            </p:nvSpPr>
            <p:spPr>
              <a:xfrm>
                <a:off x="1100160" y="345672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5384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0530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100160" y="422964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85800" y="2057400"/>
              <a:ext cx="79246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egmentation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Segmentation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3666600" y="35002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004800" y="3500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794200" y="4259160"/>
            <a:ext cx="30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492720" y="4245120"/>
            <a:ext cx="257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 o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le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3" dur="indefinite" restart="never" nodeType="tmRoot">
          <p:childTnLst>
            <p:seq>
              <p:cTn id="3314" dur="indefinite" nodeType="mainSeq">
                <p:childTnLst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4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3" fill="hold">
                      <p:stCondLst>
                        <p:cond delay="indefinite"/>
                      </p:stCondLst>
                      <p:childTnLst>
                        <p:par>
                          <p:cTn id="3344" fill="hold">
                            <p:stCondLst>
                              <p:cond delay="0"/>
                            </p:stCondLst>
                            <p:childTnLst>
                              <p:par>
                                <p:cTn id="3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7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"/>
          <p:cNvSpPr/>
          <p:nvPr/>
        </p:nvSpPr>
        <p:spPr>
          <a:xfrm>
            <a:off x="988920" y="2262240"/>
            <a:ext cx="2611440" cy="353520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12880" y="3429000"/>
            <a:ext cx="682560" cy="939960"/>
          </a:xfrm>
          <a:prstGeom prst="rect">
            <a:avLst/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865160" y="3581280"/>
            <a:ext cx="682920" cy="114300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048040" y="3703680"/>
            <a:ext cx="682560" cy="66348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00320" y="3855960"/>
            <a:ext cx="682560" cy="85248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425760" y="2590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16k)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173480" y="3733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600360" y="507672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address space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64T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number = 14 bits,   offset =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9" dur="indefinite" restart="never" nodeType="tmRoot">
          <p:childTnLst>
            <p:seq>
              <p:cTn id="3350" dur="indefinite" nodeType="mainSeq">
                <p:childTnLst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4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638280" y="2235240"/>
            <a:ext cx="2155680" cy="2665440"/>
            <a:chOff x="638280" y="2235240"/>
            <a:chExt cx="2155680" cy="2665440"/>
          </a:xfrm>
        </p:grpSpPr>
        <p:sp>
          <p:nvSpPr>
            <p:cNvPr id="1756" name=""/>
            <p:cNvSpPr/>
            <p:nvPr/>
          </p:nvSpPr>
          <p:spPr>
            <a:xfrm>
              <a:off x="63828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3828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1936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71936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828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3828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1936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1936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3276720" y="380988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k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276720" y="274320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AM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76720" y="19051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dd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9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0" fill="hold">
                            <p:stCondLst>
                              <p:cond delay="500"/>
                            </p:stCondLst>
                            <p:childTnLst>
                              <p:par>
                                <p:cTn id="3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1598760" y="1676520"/>
            <a:ext cx="5259240" cy="374004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1676520" y="2274480"/>
            <a:ext cx="2495520" cy="2491920"/>
            <a:chOff x="1676520" y="2274480"/>
            <a:chExt cx="2495520" cy="2491920"/>
          </a:xfrm>
        </p:grpSpPr>
        <p:sp>
          <p:nvSpPr>
            <p:cNvPr id="1770" name=""/>
            <p:cNvSpPr/>
            <p:nvPr/>
          </p:nvSpPr>
          <p:spPr>
            <a:xfrm>
              <a:off x="1676520" y="22744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322360" y="2666880"/>
              <a:ext cx="682920" cy="939960"/>
            </a:xfrm>
            <a:prstGeom prst="rect">
              <a:avLst/>
            </a:prstGeom>
            <a:solidFill>
              <a:srgbClr val="00279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75000" y="2819520"/>
              <a:ext cx="682560" cy="114300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57520" y="2941560"/>
              <a:ext cx="682560" cy="663480"/>
            </a:xfrm>
            <a:prstGeom prst="rect">
              <a:avLst/>
            </a:prstGeom>
            <a:solidFill>
              <a:srgbClr val="fafd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09800" y="3094200"/>
              <a:ext cx="682560" cy="852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4191120" y="2326680"/>
            <a:ext cx="2495520" cy="2491920"/>
            <a:chOff x="4191120" y="2326680"/>
            <a:chExt cx="2495520" cy="2491920"/>
          </a:xfrm>
        </p:grpSpPr>
        <p:sp>
          <p:nvSpPr>
            <p:cNvPr id="1776" name=""/>
            <p:cNvSpPr/>
            <p:nvPr/>
          </p:nvSpPr>
          <p:spPr>
            <a:xfrm>
              <a:off x="4191120" y="23266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98960" y="2786040"/>
              <a:ext cx="649440" cy="79524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51600" y="2970360"/>
              <a:ext cx="649080" cy="96660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334120" y="3017880"/>
              <a:ext cx="649080" cy="56196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86400" y="3200400"/>
              <a:ext cx="649440" cy="720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4724280" y="182880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990720" y="1828800"/>
            <a:ext cx="27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85800" y="54705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DT (Loc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724280" y="548640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DT (Glob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8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3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mbolic addres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ocatabl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1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compile time   (compiler, link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MS-DOS  (*.COM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2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oad time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stat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ywhere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3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execution time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dynam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n be moved during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1600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50"/>
                </a:lnTo>
                <a:cubicBezTo>
                  <a:pt x="10800" y="4950"/>
                  <a:pt x="16200" y="5850"/>
                  <a:pt x="21600" y="5850"/>
                </a:cubicBezTo>
                <a:cubicBezTo>
                  <a:pt x="16200" y="5850"/>
                  <a:pt x="10800" y="6750"/>
                  <a:pt x="10800" y="76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2000" y="5084640"/>
            <a:ext cx="1371600" cy="1067040"/>
          </a:xfrm>
          <a:prstGeom prst="star5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"/>
          <p:cNvSpPr/>
          <p:nvPr/>
        </p:nvSpPr>
        <p:spPr>
          <a:xfrm>
            <a:off x="838080" y="19810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2873520"/>
            <a:ext cx="1406520" cy="101268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8080" y="42670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46520" y="1752480"/>
            <a:ext cx="1406520" cy="4114800"/>
          </a:xfrm>
          <a:prstGeom prst="rect">
            <a:avLst/>
          </a:prstGeom>
          <a:solidFill>
            <a:srgbClr val="91919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79840" y="54817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81640" y="3600360"/>
            <a:ext cx="37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 Spa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G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746520" y="26668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746520" y="4495680"/>
            <a:ext cx="1406520" cy="101304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746520" y="35812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6668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8672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6858000" y="1752480"/>
            <a:ext cx="1406520" cy="4114800"/>
            <a:chOff x="6858000" y="1752480"/>
            <a:chExt cx="1406520" cy="4114800"/>
          </a:xfrm>
        </p:grpSpPr>
        <p:sp>
          <p:nvSpPr>
            <p:cNvPr id="1798" name=""/>
            <p:cNvSpPr/>
            <p:nvPr/>
          </p:nvSpPr>
          <p:spPr>
            <a:xfrm>
              <a:off x="6858000" y="1752480"/>
              <a:ext cx="1406520" cy="41148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58000" y="2666880"/>
              <a:ext cx="1406520" cy="555480"/>
            </a:xfrm>
            <a:prstGeom prst="rect">
              <a:avLst/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858000" y="4495680"/>
              <a:ext cx="1406520" cy="101268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3581280"/>
              <a:ext cx="1406520" cy="83808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6858000" y="1752480"/>
            <a:ext cx="1399680" cy="4114800"/>
            <a:chOff x="6858000" y="1752480"/>
            <a:chExt cx="1399680" cy="4114800"/>
          </a:xfrm>
        </p:grpSpPr>
        <p:sp>
          <p:nvSpPr>
            <p:cNvPr id="1803" name=""/>
            <p:cNvSpPr/>
            <p:nvPr/>
          </p:nvSpPr>
          <p:spPr>
            <a:xfrm>
              <a:off x="6858000" y="1752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58000" y="2209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858000" y="2666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58000" y="3124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58000" y="35812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858000" y="4038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58000" y="4495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58000" y="4952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858000" y="5410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7" dur="indefinite" restart="never" nodeType="tmRoot">
          <p:childTnLst>
            <p:seq>
              <p:cTn id="3448" dur="indefinite" nodeType="mainSeq">
                <p:childTnLst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500"/>
                            </p:stCondLst>
                            <p:childTnLst>
                              <p:par>
                                <p:cTn id="3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7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1677600" y="160020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Address = (Selector, Off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1371600" y="2476440"/>
            <a:ext cx="4884840" cy="952200"/>
            <a:chOff x="1371600" y="2476440"/>
            <a:chExt cx="4884840" cy="952200"/>
          </a:xfrm>
        </p:grpSpPr>
        <p:sp>
          <p:nvSpPr>
            <p:cNvPr id="1815" name=""/>
            <p:cNvSpPr/>
            <p:nvPr/>
          </p:nvSpPr>
          <p:spPr>
            <a:xfrm>
              <a:off x="5272200" y="2873160"/>
              <a:ext cx="380880" cy="555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53080" y="2873160"/>
              <a:ext cx="603360" cy="5554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371600" y="2873160"/>
              <a:ext cx="3921120" cy="5554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087720" y="2476440"/>
              <a:ext cx="30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 bits                  1b.  2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9" name=""/>
          <p:cNvSpPr/>
          <p:nvPr/>
        </p:nvSpPr>
        <p:spPr>
          <a:xfrm flipH="1">
            <a:off x="4495680" y="2057400"/>
            <a:ext cx="45720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24080" y="3733920"/>
            <a:ext cx="205740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83" y="-37050"/>
                </a:moveTo>
                <a:lnTo>
                  <a:pt x="22400" y="108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T or G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133720" y="4114800"/>
            <a:ext cx="33526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68" y="-75450"/>
                </a:moveTo>
                <a:lnTo>
                  <a:pt x="22091" y="108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ested privileg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172200" y="1981080"/>
            <a:ext cx="106668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741720" y="24987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/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16400" y="4572000"/>
            <a:ext cx="770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nstruction: Select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gment Regist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16-bit)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egment regis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, DS, SS, ES, FS,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429000" y="5715000"/>
            <a:ext cx="19810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8" y="-20250"/>
                </a:moveTo>
                <a:lnTo>
                  <a:pt x="-831" y="10800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ahoma"/>
              </a:rPr>
              <a:t>contains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1" dur="indefinite" restart="never" nodeType="tmRoot">
          <p:childTnLst>
            <p:seq>
              <p:cTn id="3512" dur="indefinite" nodeType="mainSeq">
                <p:childTnLst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5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8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"/>
          <p:cNvSpPr/>
          <p:nvPr/>
        </p:nvSpPr>
        <p:spPr>
          <a:xfrm>
            <a:off x="857520" y="14479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64-bit) microprogram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1371600" y="2286000"/>
            <a:ext cx="6018120" cy="380880"/>
            <a:chOff x="1371600" y="2286000"/>
            <a:chExt cx="6018120" cy="380880"/>
          </a:xfrm>
        </p:grpSpPr>
        <p:sp>
          <p:nvSpPr>
            <p:cNvPr id="1829" name=""/>
            <p:cNvSpPr/>
            <p:nvPr/>
          </p:nvSpPr>
          <p:spPr>
            <a:xfrm>
              <a:off x="1371600" y="2286000"/>
              <a:ext cx="11430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19520" y="2286000"/>
              <a:ext cx="45702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1601640" y="2819520"/>
            <a:ext cx="6018120" cy="380880"/>
            <a:chOff x="1601640" y="2819520"/>
            <a:chExt cx="6018120" cy="380880"/>
          </a:xfrm>
        </p:grpSpPr>
        <p:sp>
          <p:nvSpPr>
            <p:cNvPr id="1832" name=""/>
            <p:cNvSpPr/>
            <p:nvPr/>
          </p:nvSpPr>
          <p:spPr>
            <a:xfrm>
              <a:off x="1601640" y="2819520"/>
              <a:ext cx="11430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49560" y="2819520"/>
              <a:ext cx="45702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2642040" y="289548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22920" y="3429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914400" y="28954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34640" y="342900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T/GD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619400" y="2895480"/>
            <a:ext cx="609480" cy="60984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38080" y="419112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G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4k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800600" y="419112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age Table| = 1M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T entry| =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4191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6708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5410080" y="5105520"/>
            <a:ext cx="26481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Level Pag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9" dur="indefinite" restart="never" nodeType="tmRoot">
          <p:childTnLst>
            <p:seq>
              <p:cTn id="3560" dur="indefinite" nodeType="mainSeq">
                <p:childTnLst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500"/>
                            </p:stCondLst>
                            <p:childTnLst>
                              <p:par>
                                <p:cTn id="3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3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2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500"/>
                            </p:stCondLst>
                            <p:childTnLst>
                              <p:par>
                                <p:cTn id="3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6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4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9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4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5" fill="hold">
                            <p:stCondLst>
                              <p:cond delay="500"/>
                            </p:stCondLst>
                            <p:childTnLst>
                              <p:par>
                                <p:cTn id="36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8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80880" y="1828800"/>
            <a:ext cx="3046320" cy="399960"/>
            <a:chOff x="380880" y="1828800"/>
            <a:chExt cx="3046320" cy="399960"/>
          </a:xfrm>
        </p:grpSpPr>
        <p:sp>
          <p:nvSpPr>
            <p:cNvPr id="1846" name=""/>
            <p:cNvSpPr/>
            <p:nvPr/>
          </p:nvSpPr>
          <p:spPr>
            <a:xfrm>
              <a:off x="2813040" y="1828800"/>
              <a:ext cx="237960" cy="39996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051000" y="1828800"/>
              <a:ext cx="376200" cy="3999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0880" y="1828800"/>
              <a:ext cx="244476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r 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3429000" y="2590920"/>
            <a:ext cx="3124080" cy="1676160"/>
            <a:chOff x="3429000" y="2590920"/>
            <a:chExt cx="3124080" cy="1676160"/>
          </a:xfrm>
        </p:grpSpPr>
        <p:sp>
          <p:nvSpPr>
            <p:cNvPr id="1850" name=""/>
            <p:cNvSpPr/>
            <p:nvPr/>
          </p:nvSpPr>
          <p:spPr>
            <a:xfrm>
              <a:off x="3429000" y="259092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G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3657600" y="3200400"/>
              <a:ext cx="2819160" cy="382320"/>
              <a:chOff x="3657600" y="3200400"/>
              <a:chExt cx="2819160" cy="382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4876560" y="320040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657600" y="320184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"/>
          <p:cNvGrpSpPr/>
          <p:nvPr/>
        </p:nvGrpSpPr>
        <p:grpSpPr>
          <a:xfrm>
            <a:off x="3124080" y="3124080"/>
            <a:ext cx="3124080" cy="1676160"/>
            <a:chOff x="3124080" y="3124080"/>
            <a:chExt cx="3124080" cy="1676160"/>
          </a:xfrm>
        </p:grpSpPr>
        <p:sp>
          <p:nvSpPr>
            <p:cNvPr id="1855" name=""/>
            <p:cNvSpPr/>
            <p:nvPr/>
          </p:nvSpPr>
          <p:spPr>
            <a:xfrm>
              <a:off x="3124080" y="312408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L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3352680" y="3733560"/>
              <a:ext cx="2819160" cy="382320"/>
              <a:chOff x="3352680" y="3733560"/>
              <a:chExt cx="2819160" cy="382320"/>
            </a:xfrm>
          </p:grpSpPr>
          <p:sp>
            <p:nvSpPr>
              <p:cNvPr id="1857" name=""/>
              <p:cNvSpPr/>
              <p:nvPr/>
            </p:nvSpPr>
            <p:spPr>
              <a:xfrm>
                <a:off x="4571640" y="373356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352680" y="373500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9" name=""/>
          <p:cNvSpPr/>
          <p:nvPr/>
        </p:nvSpPr>
        <p:spPr>
          <a:xfrm>
            <a:off x="2971800" y="2133720"/>
            <a:ext cx="228600" cy="45720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0" name=""/>
          <p:cNvCxnSpPr>
            <a:stCxn id="1848" idx="2"/>
            <a:endCxn id="1855" idx="1"/>
          </p:cNvCxnSpPr>
          <p:nvPr/>
        </p:nvCxnSpPr>
        <p:spPr>
          <a:xfrm flipH="1" rot="16200000">
            <a:off x="1496880" y="2334960"/>
            <a:ext cx="1734480" cy="152136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568080" y="3886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. 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181480" y="1828800"/>
            <a:ext cx="2667240" cy="39996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set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13720" y="3063960"/>
            <a:ext cx="54432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266600" y="3048120"/>
            <a:ext cx="734400" cy="533160"/>
            <a:chOff x="7266600" y="3048120"/>
            <a:chExt cx="734400" cy="533160"/>
          </a:xfrm>
        </p:grpSpPr>
        <p:sp>
          <p:nvSpPr>
            <p:cNvPr id="1865" name=""/>
            <p:cNvSpPr/>
            <p:nvPr/>
          </p:nvSpPr>
          <p:spPr>
            <a:xfrm>
              <a:off x="7391520" y="304812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66600" y="320616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7" name=""/>
          <p:cNvCxnSpPr>
            <a:stCxn id="1858" idx="0"/>
            <a:endCxn id="1863" idx="1"/>
          </p:cNvCxnSpPr>
          <p:nvPr/>
        </p:nvCxnSpPr>
        <p:spPr>
          <a:xfrm flipH="1" flipV="1" rot="5400000">
            <a:off x="5171760" y="2112480"/>
            <a:ext cx="413280" cy="2832840"/>
          </a:xfrm>
          <a:prstGeom prst="bentConnector2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868" name=""/>
          <p:cNvCxnSpPr>
            <a:stCxn id="1862" idx="2"/>
            <a:endCxn id="1863" idx="0"/>
          </p:cNvCxnSpPr>
          <p:nvPr/>
        </p:nvCxnSpPr>
        <p:spPr>
          <a:xfrm flipH="1" rot="16200000">
            <a:off x="6391800" y="2350800"/>
            <a:ext cx="816840" cy="572040"/>
          </a:xfrm>
          <a:prstGeom prst="bentConnector3">
            <a:avLst>
              <a:gd name="adj1" fmla="val 35008"/>
            </a:avLst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1869" name=""/>
          <p:cNvSpPr/>
          <p:nvPr/>
        </p:nvSpPr>
        <p:spPr>
          <a:xfrm>
            <a:off x="6715080" y="4952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0" name=""/>
          <p:cNvCxnSpPr>
            <a:stCxn id="1857" idx="2"/>
            <a:endCxn id="1869" idx="1"/>
          </p:cNvCxnSpPr>
          <p:nvPr/>
        </p:nvCxnSpPr>
        <p:spPr>
          <a:xfrm flipH="1" rot="16200000">
            <a:off x="5527800" y="3958920"/>
            <a:ext cx="1032480" cy="1343520"/>
          </a:xfrm>
          <a:prstGeom prst="bentConnector2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71" name=""/>
          <p:cNvCxnSpPr>
            <a:stCxn id="1862" idx="3"/>
            <a:endCxn id="1869" idx="3"/>
          </p:cNvCxnSpPr>
          <p:nvPr/>
        </p:nvCxnSpPr>
        <p:spPr>
          <a:xfrm flipH="1">
            <a:off x="7122600" y="2028960"/>
            <a:ext cx="726480" cy="3118320"/>
          </a:xfrm>
          <a:prstGeom prst="bentConnector3">
            <a:avLst>
              <a:gd name="adj1" fmla="val -109370"/>
            </a:avLst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5591160" y="5695920"/>
            <a:ext cx="2666880" cy="39996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3" name=""/>
          <p:cNvCxnSpPr>
            <a:stCxn id="1869" idx="2"/>
            <a:endCxn id="1872" idx="0"/>
          </p:cNvCxnSpPr>
          <p:nvPr/>
        </p:nvCxnSpPr>
        <p:spPr>
          <a:xfrm>
            <a:off x="6919560" y="5340240"/>
            <a:ext cx="5400" cy="3564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2133720" y="2526480"/>
            <a:ext cx="1295280" cy="368280"/>
            <a:chOff x="2133720" y="2526480"/>
            <a:chExt cx="1295280" cy="368280"/>
          </a:xfrm>
        </p:grpSpPr>
        <p:sp>
          <p:nvSpPr>
            <p:cNvPr id="1875" name=""/>
            <p:cNvSpPr/>
            <p:nvPr/>
          </p:nvSpPr>
          <p:spPr>
            <a:xfrm>
              <a:off x="2133720" y="2526480"/>
              <a:ext cx="99036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G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48120" y="274320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1828800" y="3060000"/>
            <a:ext cx="1295280" cy="368280"/>
            <a:chOff x="1828800" y="3060000"/>
            <a:chExt cx="1295280" cy="368280"/>
          </a:xfrm>
        </p:grpSpPr>
        <p:sp>
          <p:nvSpPr>
            <p:cNvPr id="1878" name=""/>
            <p:cNvSpPr/>
            <p:nvPr/>
          </p:nvSpPr>
          <p:spPr>
            <a:xfrm>
              <a:off x="1828800" y="3060000"/>
              <a:ext cx="99072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L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43200" y="327672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4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8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2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6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500"/>
                            </p:stCondLst>
                            <p:childTnLst>
                              <p:par>
                                <p:cTn id="3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5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9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8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2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7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1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1066680" y="1752480"/>
            <a:ext cx="2667240" cy="40032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1066680" y="2362320"/>
            <a:ext cx="2667240" cy="747720"/>
            <a:chOff x="1066680" y="2362320"/>
            <a:chExt cx="2667240" cy="747720"/>
          </a:xfrm>
        </p:grpSpPr>
        <p:sp>
          <p:nvSpPr>
            <p:cNvPr id="1883" name=""/>
            <p:cNvSpPr/>
            <p:nvPr/>
          </p:nvSpPr>
          <p:spPr>
            <a:xfrm>
              <a:off x="1066680" y="2710080"/>
              <a:ext cx="878040" cy="3999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38240" y="2710080"/>
              <a:ext cx="878040" cy="39996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14480" y="2710080"/>
              <a:ext cx="91944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087560" y="23623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 bits  10 bits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2209680" y="22096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00279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28800" y="3809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3805200"/>
            <a:ext cx="9619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0" name=""/>
          <p:cNvCxnSpPr>
            <a:stCxn id="1889" idx="3"/>
            <a:endCxn id="1888" idx="1"/>
          </p:cNvCxnSpPr>
          <p:nvPr/>
        </p:nvCxnSpPr>
        <p:spPr>
          <a:xfrm flipV="1">
            <a:off x="1190160" y="4002840"/>
            <a:ext cx="639000" cy="25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91" name=""/>
          <p:cNvCxnSpPr>
            <a:stCxn id="1883" idx="2"/>
            <a:endCxn id="1888" idx="0"/>
          </p:cNvCxnSpPr>
          <p:nvPr/>
        </p:nvCxnSpPr>
        <p:spPr>
          <a:xfrm flipH="1" rot="16200000">
            <a:off x="1420200" y="3196080"/>
            <a:ext cx="700200" cy="527760"/>
          </a:xfrm>
          <a:prstGeom prst="bentConnector3">
            <a:avLst>
              <a:gd name="adj1" fmla="val 49897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2" name=""/>
          <p:cNvGrpSpPr/>
          <p:nvPr/>
        </p:nvGrpSpPr>
        <p:grpSpPr>
          <a:xfrm>
            <a:off x="2743200" y="3567240"/>
            <a:ext cx="1913400" cy="1690560"/>
            <a:chOff x="2743200" y="3567240"/>
            <a:chExt cx="1913400" cy="1690560"/>
          </a:xfrm>
        </p:grpSpPr>
        <p:sp>
          <p:nvSpPr>
            <p:cNvPr id="1893" name=""/>
            <p:cNvSpPr/>
            <p:nvPr/>
          </p:nvSpPr>
          <p:spPr>
            <a:xfrm>
              <a:off x="2743200" y="3886200"/>
              <a:ext cx="190512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direc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3200" y="4114800"/>
              <a:ext cx="1904760" cy="399960"/>
              <a:chOff x="2743200" y="4114800"/>
              <a:chExt cx="1904760" cy="399960"/>
            </a:xfrm>
          </p:grpSpPr>
          <p:sp>
            <p:nvSpPr>
              <p:cNvPr id="1895" name=""/>
              <p:cNvSpPr/>
              <p:nvPr/>
            </p:nvSpPr>
            <p:spPr>
              <a:xfrm>
                <a:off x="2743200" y="411480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190760" y="411480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2811600" y="356724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98" name=""/>
          <p:cNvCxnSpPr>
            <a:stCxn id="1888" idx="3"/>
            <a:endCxn id="1895" idx="1"/>
          </p:cNvCxnSpPr>
          <p:nvPr/>
        </p:nvCxnSpPr>
        <p:spPr>
          <a:xfrm>
            <a:off x="2236320" y="4003200"/>
            <a:ext cx="506880" cy="31176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9" name=""/>
          <p:cNvGrpSpPr/>
          <p:nvPr/>
        </p:nvGrpSpPr>
        <p:grpSpPr>
          <a:xfrm>
            <a:off x="6019920" y="4343400"/>
            <a:ext cx="1912680" cy="1690560"/>
            <a:chOff x="6019920" y="4343400"/>
            <a:chExt cx="1912680" cy="1690560"/>
          </a:xfrm>
        </p:grpSpPr>
        <p:sp>
          <p:nvSpPr>
            <p:cNvPr id="1900" name=""/>
            <p:cNvSpPr/>
            <p:nvPr/>
          </p:nvSpPr>
          <p:spPr>
            <a:xfrm>
              <a:off x="6019920" y="4662360"/>
              <a:ext cx="190476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6019920" y="4890960"/>
              <a:ext cx="1904760" cy="399960"/>
              <a:chOff x="6019920" y="4890960"/>
              <a:chExt cx="1904760" cy="399960"/>
            </a:xfrm>
          </p:grpSpPr>
          <p:sp>
            <p:nvSpPr>
              <p:cNvPr id="1902" name=""/>
              <p:cNvSpPr/>
              <p:nvPr/>
            </p:nvSpPr>
            <p:spPr>
              <a:xfrm>
                <a:off x="6019920" y="489096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467480" y="489096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6087600" y="4343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5105520" y="44956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6" name=""/>
          <p:cNvCxnSpPr>
            <a:stCxn id="1884" idx="2"/>
            <a:endCxn id="1905" idx="0"/>
          </p:cNvCxnSpPr>
          <p:nvPr/>
        </p:nvCxnSpPr>
        <p:spPr>
          <a:xfrm flipH="1" rot="16200000">
            <a:off x="3150720" y="2336040"/>
            <a:ext cx="1386000" cy="2932920"/>
          </a:xfrm>
          <a:prstGeom prst="bentConnector3">
            <a:avLst>
              <a:gd name="adj1" fmla="val 34242"/>
            </a:avLst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7" name=""/>
          <p:cNvCxnSpPr>
            <a:stCxn id="1895" idx="2"/>
            <a:endCxn id="1905" idx="1"/>
          </p:cNvCxnSpPr>
          <p:nvPr/>
        </p:nvCxnSpPr>
        <p:spPr>
          <a:xfrm flipH="1" rot="16200000">
            <a:off x="4077360" y="3660840"/>
            <a:ext cx="175320" cy="1882080"/>
          </a:xfrm>
          <a:prstGeom prst="bentConnector2">
            <a:avLst/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8" name=""/>
          <p:cNvCxnSpPr>
            <a:stCxn id="1905" idx="3"/>
            <a:endCxn id="1902" idx="1"/>
          </p:cNvCxnSpPr>
          <p:nvPr/>
        </p:nvCxnSpPr>
        <p:spPr>
          <a:xfrm>
            <a:off x="5513040" y="4689360"/>
            <a:ext cx="506880" cy="40248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909" name=""/>
          <p:cNvSpPr/>
          <p:nvPr/>
        </p:nvSpPr>
        <p:spPr>
          <a:xfrm>
            <a:off x="6634080" y="3662280"/>
            <a:ext cx="9907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0120" y="3657600"/>
            <a:ext cx="919080" cy="399960"/>
          </a:xfrm>
          <a:prstGeom prst="rect">
            <a:avLst/>
          </a:prstGeom>
          <a:solidFill>
            <a:srgbClr val="aff2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885" idx="2"/>
            <a:endCxn id="1910" idx="0"/>
          </p:cNvCxnSpPr>
          <p:nvPr/>
        </p:nvCxnSpPr>
        <p:spPr>
          <a:xfrm flipH="1" rot="16200000">
            <a:off x="5403600" y="980640"/>
            <a:ext cx="548280" cy="4806000"/>
          </a:xfrm>
          <a:prstGeom prst="bentConnector3">
            <a:avLst>
              <a:gd name="adj1" fmla="val 4980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2" idx="3"/>
            <a:endCxn id="1909" idx="2"/>
          </p:cNvCxnSpPr>
          <p:nvPr/>
        </p:nvCxnSpPr>
        <p:spPr>
          <a:xfrm flipV="1">
            <a:off x="6981840" y="4061880"/>
            <a:ext cx="148320" cy="1029600"/>
          </a:xfrm>
          <a:prstGeom prst="bentConnector2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913" name=""/>
          <p:cNvGrpSpPr/>
          <p:nvPr/>
        </p:nvGrpSpPr>
        <p:grpSpPr>
          <a:xfrm>
            <a:off x="380880" y="5257800"/>
            <a:ext cx="3124440" cy="762120"/>
            <a:chOff x="380880" y="5257800"/>
            <a:chExt cx="3124440" cy="762120"/>
          </a:xfrm>
        </p:grpSpPr>
        <p:sp>
          <p:nvSpPr>
            <p:cNvPr id="1914" name=""/>
            <p:cNvSpPr/>
            <p:nvPr/>
          </p:nvSpPr>
          <p:spPr>
            <a:xfrm>
              <a:off x="380880" y="5257800"/>
              <a:ext cx="3124440" cy="762120"/>
            </a:xfrm>
            <a:prstGeom prst="cloudCallout">
              <a:avLst>
                <a:gd name="adj1" fmla="val 2898"/>
                <a:gd name="adj2" fmla="val -197291"/>
              </a:avLst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38080" y="54100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89200" y="5410080"/>
              <a:ext cx="877680" cy="40032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666880" y="54100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4952880" y="2057400"/>
            <a:ext cx="3124440" cy="762120"/>
            <a:chOff x="4952880" y="2057400"/>
            <a:chExt cx="3124440" cy="762120"/>
          </a:xfrm>
        </p:grpSpPr>
        <p:sp>
          <p:nvSpPr>
            <p:cNvPr id="1919" name=""/>
            <p:cNvSpPr/>
            <p:nvPr/>
          </p:nvSpPr>
          <p:spPr>
            <a:xfrm>
              <a:off x="4952880" y="2057400"/>
              <a:ext cx="3124440" cy="762120"/>
            </a:xfrm>
            <a:prstGeom prst="cloudCallout">
              <a:avLst>
                <a:gd name="adj1" fmla="val -32671"/>
                <a:gd name="adj2" fmla="val 270833"/>
              </a:avLst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10080" y="22096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61200" y="2209680"/>
              <a:ext cx="877680" cy="40032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238880" y="22096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8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3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500"/>
                            </p:stCondLst>
                            <p:childTnLst>
                              <p:par>
                                <p:cTn id="3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6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500"/>
                            </p:stCondLst>
                            <p:childTnLst>
                              <p:par>
                                <p:cTn id="3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6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9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fill="hold">
                      <p:stCondLst>
                        <p:cond delay="indefinite"/>
                      </p:stCondLst>
                      <p:childTnLst>
                        <p:par>
                          <p:cTn id="3791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752480" y="2057400"/>
            <a:ext cx="1067040" cy="3657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 dynamic re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1905120"/>
            <a:ext cx="8384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2057400"/>
            <a:ext cx="1067040" cy="1015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1067040" cy="752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4800600"/>
            <a:ext cx="1067040" cy="4597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70360" y="3682800"/>
            <a:ext cx="459720" cy="763920"/>
            <a:chOff x="2970360" y="3682800"/>
            <a:chExt cx="459720" cy="763920"/>
          </a:xfrm>
        </p:grpSpPr>
        <p:sp>
          <p:nvSpPr>
            <p:cNvPr id="496" name=""/>
            <p:cNvSpPr/>
            <p:nvPr/>
          </p:nvSpPr>
          <p:spPr>
            <a:xfrm>
              <a:off x="2972160" y="3684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00000">
              <a:off x="2819160" y="3834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505320" y="1828800"/>
            <a:ext cx="4074840" cy="271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84680" y="2133720"/>
            <a:ext cx="2743200" cy="2253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862760" y="456732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95720" y="354816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21120" y="2577960"/>
            <a:ext cx="1079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2"/>
            <a:endCxn id="501" idx="0"/>
          </p:cNvCxnSpPr>
          <p:nvPr/>
        </p:nvCxnSpPr>
        <p:spPr>
          <a:xfrm flipH="1">
            <a:off x="5355720" y="3009960"/>
            <a:ext cx="576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3"/>
            <a:endCxn id="505" idx="1"/>
          </p:cNvCxnSpPr>
          <p:nvPr/>
        </p:nvCxnSpPr>
        <p:spPr>
          <a:xfrm>
            <a:off x="5734080" y="3908160"/>
            <a:ext cx="737280" cy="1980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192720" y="2584440"/>
            <a:ext cx="10796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6" idx="2"/>
            <a:endCxn id="505" idx="0"/>
          </p:cNvCxnSpPr>
          <p:nvPr/>
        </p:nvCxnSpPr>
        <p:spPr>
          <a:xfrm>
            <a:off x="6732720" y="3016080"/>
            <a:ext cx="8640" cy="64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 rot="16200000">
            <a:off x="7644600" y="32421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0640" y="36576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5" idx="3"/>
            <a:endCxn id="510" idx="0"/>
          </p:cNvCxnSpPr>
          <p:nvPr/>
        </p:nvCxnSpPr>
        <p:spPr>
          <a:xfrm flipV="1">
            <a:off x="7009920" y="3923640"/>
            <a:ext cx="1220040" cy="396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511" name=""/>
          <p:cNvGrpSpPr/>
          <p:nvPr/>
        </p:nvGrpSpPr>
        <p:grpSpPr>
          <a:xfrm>
            <a:off x="8229600" y="2438280"/>
            <a:ext cx="0" cy="2028960"/>
            <a:chOff x="8229600" y="2438280"/>
            <a:chExt cx="0" cy="2028960"/>
          </a:xfrm>
        </p:grpSpPr>
        <p:sp>
          <p:nvSpPr>
            <p:cNvPr id="512" name=""/>
            <p:cNvSpPr/>
            <p:nvPr/>
          </p:nvSpPr>
          <p:spPr>
            <a:xfrm>
              <a:off x="8229600" y="2438280"/>
              <a:ext cx="0" cy="14479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29600" y="385776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657600" y="367020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4" idx="3"/>
            <a:endCxn id="501" idx="1"/>
          </p:cNvCxnSpPr>
          <p:nvPr/>
        </p:nvCxnSpPr>
        <p:spPr>
          <a:xfrm>
            <a:off x="4274640" y="3898440"/>
            <a:ext cx="702360" cy="1044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1981080" y="3124080"/>
            <a:ext cx="1905120" cy="381240"/>
          </a:xfrm>
          <a:prstGeom prst="wedgeRoundRectCallout">
            <a:avLst>
              <a:gd name="adj1" fmla="val -24333"/>
              <a:gd name="adj2" fmla="val 142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04920" y="1447920"/>
            <a:ext cx="1828800" cy="1815480"/>
            <a:chOff x="304920" y="1447920"/>
            <a:chExt cx="1828800" cy="1815480"/>
          </a:xfrm>
        </p:grpSpPr>
        <p:sp>
          <p:nvSpPr>
            <p:cNvPr id="518" name=""/>
            <p:cNvSpPr/>
            <p:nvPr/>
          </p:nvSpPr>
          <p:spPr>
            <a:xfrm>
              <a:off x="304920" y="1447920"/>
              <a:ext cx="1828800" cy="1676160"/>
            </a:xfrm>
            <a:prstGeom prst="cloudCallout">
              <a:avLst>
                <a:gd name="adj1" fmla="val 42361"/>
                <a:gd name="adj2" fmla="val 9365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33520" y="1600200"/>
              <a:ext cx="1066320" cy="1663200"/>
              <a:chOff x="533520" y="1600200"/>
              <a:chExt cx="1066320" cy="1663200"/>
            </a:xfrm>
          </p:grpSpPr>
          <p:sp>
            <p:nvSpPr>
              <p:cNvPr id="520" name=""/>
              <p:cNvSpPr/>
              <p:nvPr/>
            </p:nvSpPr>
            <p:spPr>
              <a:xfrm>
                <a:off x="1031400" y="1739160"/>
                <a:ext cx="568440" cy="118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520" y="1600200"/>
                <a:ext cx="568440" cy="16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31400" y="1739160"/>
                <a:ext cx="568440" cy="587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97600" y="3885120"/>
            <a:ext cx="1230840" cy="459720"/>
            <a:chOff x="597600" y="3885120"/>
            <a:chExt cx="1230840" cy="459720"/>
          </a:xfrm>
        </p:grpSpPr>
        <p:sp>
          <p:nvSpPr>
            <p:cNvPr id="524" name=""/>
            <p:cNvSpPr/>
            <p:nvPr/>
          </p:nvSpPr>
          <p:spPr>
            <a:xfrm flipH="1">
              <a:off x="121860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7600" y="3885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5029200"/>
            <a:ext cx="761760" cy="533520"/>
          </a:xfrm>
          <a:prstGeom prst="lightningBol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2040" y="5255280"/>
            <a:ext cx="16545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375" y="-2673"/>
                </a:moveTo>
                <a:lnTo>
                  <a:pt x="20107" y="-2529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Unauthorized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01" idx="2"/>
            <a:endCxn id="527" idx="0"/>
          </p:cNvCxnSpPr>
          <p:nvPr/>
        </p:nvCxnSpPr>
        <p:spPr>
          <a:xfrm>
            <a:off x="5355720" y="4286160"/>
            <a:ext cx="102600" cy="889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5334120" y="4555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3564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-2160" y="1904040"/>
            <a:ext cx="1144800" cy="459720"/>
            <a:chOff x="-2160" y="1904040"/>
            <a:chExt cx="1144800" cy="459720"/>
          </a:xfrm>
        </p:grpSpPr>
        <p:sp>
          <p:nvSpPr>
            <p:cNvPr id="532" name=""/>
            <p:cNvSpPr/>
            <p:nvPr/>
          </p:nvSpPr>
          <p:spPr>
            <a:xfrm flipH="1">
              <a:off x="532800" y="198144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2160" y="19040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178680" y="1341360"/>
            <a:ext cx="1130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589" y="47531"/>
                </a:moveTo>
                <a:lnTo>
                  <a:pt x="-1456" y="4000"/>
                </a:lnTo>
              </a:path>
              <a:path w="21600" h="21600">
                <a:moveTo>
                  <a:pt x="-1456" y="0"/>
                </a:moveTo>
                <a:lnTo>
                  <a:pt x="-145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89960" y="13413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38" y="4888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oa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load what is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133720"/>
            <a:ext cx="2514600" cy="2057400"/>
          </a:xfrm>
          <a:prstGeom prst="can">
            <a:avLst>
              <a:gd name="adj" fmla="val 25000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880" y="277848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343960"/>
            <a:ext cx="2293920" cy="2684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584160" y="2793240"/>
            <a:ext cx="1101240" cy="1015920"/>
            <a:chOff x="3584160" y="2793240"/>
            <a:chExt cx="1101240" cy="1015920"/>
          </a:xfrm>
        </p:grpSpPr>
        <p:sp>
          <p:nvSpPr>
            <p:cNvPr id="542" name=""/>
            <p:cNvSpPr/>
            <p:nvPr/>
          </p:nvSpPr>
          <p:spPr>
            <a:xfrm>
              <a:off x="3584160" y="279324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7880" y="3382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870160" y="2743920"/>
            <a:ext cx="1101240" cy="1015920"/>
            <a:chOff x="5870160" y="2743920"/>
            <a:chExt cx="1101240" cy="1015920"/>
          </a:xfrm>
        </p:grpSpPr>
        <p:sp>
          <p:nvSpPr>
            <p:cNvPr id="545" name=""/>
            <p:cNvSpPr/>
            <p:nvPr/>
          </p:nvSpPr>
          <p:spPr>
            <a:xfrm>
              <a:off x="5870160" y="274392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33880" y="33339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962520" y="2009880"/>
            <a:ext cx="2590560" cy="73332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38880" y="3510360"/>
            <a:ext cx="916920" cy="569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960" y="376884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990600">
            <a:off x="2994120" y="2518920"/>
            <a:ext cx="3822480" cy="1033560"/>
          </a:xfrm>
          <a:custGeom>
            <a:avLst/>
            <a:gdLst>
              <a:gd name="textAreaLeft" fmla="*/ 779760 w 3822480"/>
              <a:gd name="textAreaRight" fmla="*/ 2660400 w 3822480"/>
              <a:gd name="textAreaTop" fmla="*/ 138240 h 1033560"/>
              <a:gd name="textAreaBottom" fmla="*/ 895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4" hR="21600" stAng="10800000" swAng="5400000"/>
                <a:lnTo>
                  <a:pt x="10626" y="0"/>
                </a:lnTo>
                <a:arcTo wR="8814" hR="21600" stAng="-5400000" swAng="2945593"/>
                <a:lnTo>
                  <a:pt x="21096" y="14400"/>
                </a:lnTo>
                <a:lnTo>
                  <a:pt x="18534" y="21600"/>
                </a:lnTo>
                <a:lnTo>
                  <a:pt x="14964" y="14400"/>
                </a:lnTo>
                <a:lnTo>
                  <a:pt x="17124" y="14400"/>
                </a:lnTo>
                <a:arcTo wR="8814" hR="21600" stAng="-2454407" swAng="-2800717"/>
                <a:lnTo>
                  <a:pt x="9720" y="114"/>
                </a:lnTo>
                <a:arcTo wR="8814" hR="21600" stAng="-5544876" swAng="-5255124"/>
                <a:close/>
              </a:path>
              <a:path fill="darkenLess" w="21600" h="21600">
                <a:moveTo>
                  <a:pt x="0" y="21600"/>
                </a:moveTo>
                <a:arcTo wR="8814" hR="21600" stAng="10800000" swAng="5400000"/>
                <a:lnTo>
                  <a:pt x="8814" y="0"/>
                </a:lnTo>
                <a:arcTo wR="8814" hR="21600" stAng="-5400000" swAng="144876"/>
                <a:lnTo>
                  <a:pt x="9720" y="114"/>
                </a:lnTo>
                <a:arcTo wR="8814" hR="21600" stAng="-5544876" swAng="-5255124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1000" y="2755800"/>
            <a:ext cx="1017360" cy="2016360"/>
          </a:xfrm>
          <a:prstGeom prst="rect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1628640"/>
            <a:ext cx="1655640" cy="1079640"/>
          </a:xfrm>
          <a:prstGeom prst="wedgeRoundRectCallout">
            <a:avLst>
              <a:gd name="adj1" fmla="val -52398"/>
              <a:gd name="adj2" fmla="val 80587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rt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51640" y="2997360"/>
            <a:ext cx="1441440" cy="718920"/>
          </a:xfrm>
          <a:prstGeom prst="wedgeRoundRectCallout">
            <a:avLst>
              <a:gd name="adj1" fmla="val -87773"/>
              <a:gd name="adj2" fmla="val -151324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6730560" y="3070440"/>
            <a:ext cx="576360" cy="718920"/>
          </a:xfrm>
          <a:prstGeom prst="uturnArrow">
            <a:avLst/>
          </a:prstGeom>
          <a:solidFill>
            <a:srgbClr val="fc0128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in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504800"/>
            <a:ext cx="8001000" cy="3240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0574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3880" y="30481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33920" y="19051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084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29718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29718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5146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94280" y="20574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0574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2146320"/>
            <a:ext cx="1981440" cy="596880"/>
          </a:xfrm>
          <a:custGeom>
            <a:avLst/>
            <a:gdLst/>
            <a:ahLst/>
            <a:rect l="l" t="t" r="r" b="b"/>
            <a:pathLst>
              <a:path w="1536" h="376">
                <a:moveTo>
                  <a:pt x="0" y="136"/>
                </a:moveTo>
                <a:cubicBezTo>
                  <a:pt x="376" y="68"/>
                  <a:pt x="752" y="0"/>
                  <a:pt x="1008" y="40"/>
                </a:cubicBezTo>
                <a:cubicBezTo>
                  <a:pt x="1264" y="80"/>
                  <a:pt x="1400" y="228"/>
                  <a:pt x="1536" y="3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1800" y="2629080"/>
            <a:ext cx="1447920" cy="79992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23623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23080" y="29718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77120" y="34290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15200" y="34290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29718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088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25146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1600" y="137484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48120"/>
              <a:gd name="adj4" fmla="val -3856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84280" y="189900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81217"/>
              <a:gd name="adj4" fmla="val -27041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657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124080"/>
            <a:ext cx="1904760" cy="80028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50960" y="411804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8361"/>
              <a:gd name="adj5" fmla="val -185601"/>
              <a:gd name="adj6" fmla="val -12175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1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96440" y="152748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18245"/>
              <a:gd name="adj5" fmla="val 272768"/>
              <a:gd name="adj6" fmla="val 132402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2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149720"/>
            <a:ext cx="1656000" cy="1079640"/>
          </a:xfrm>
          <a:prstGeom prst="wedgeRoundRectCallout">
            <a:avLst>
              <a:gd name="adj1" fmla="val 35041"/>
              <a:gd name="adj2" fmla="val -182939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71640" y="5445000"/>
            <a:ext cx="3095640" cy="719280"/>
          </a:xfrm>
          <a:prstGeom prst="wedgeRoundRectCallout">
            <a:avLst>
              <a:gd name="adj1" fmla="val -72254"/>
              <a:gd name="adj2" fmla="val -139402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NO: SVC link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372360" y="1557360"/>
            <a:ext cx="2232000" cy="4191120"/>
          </a:xfrm>
          <a:prstGeom prst="rect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  (550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over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421320" y="337176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1701720"/>
            <a:ext cx="2133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3920" y="2421000"/>
            <a:ext cx="213372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1320" y="1563840"/>
            <a:ext cx="2133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21320" y="2279520"/>
            <a:ext cx="213372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21320" y="5351400"/>
            <a:ext cx="213372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L-Drv 4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23120" y="3357720"/>
            <a:ext cx="21333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54280" y="4005360"/>
            <a:ext cx="213372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640" y="350028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356000" y="1700280"/>
          <a:ext cx="127332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700280"/>
                    <a:ext cx="127332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 flipV="1">
            <a:off x="8317080" y="4723560"/>
            <a:ext cx="502920" cy="793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11280" y="3573360"/>
            <a:ext cx="647640" cy="2017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09T18:09:33Z</dcterms:modified>
  <cp:revision>304</cp:revision>
  <dc:subject>Lecture 3</dc:subject>
  <dc:title>IT - Module B1</dc:title>
</cp:coreProperties>
</file>