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3E0132E9-A4E9-4B58-A5C3-81CF7E25E5D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8120" y="295200"/>
            <a:ext cx="1544400" cy="1296360"/>
            <a:chOff x="78120" y="295200"/>
            <a:chExt cx="1544400" cy="1296360"/>
          </a:xfrm>
        </p:grpSpPr>
        <p:sp>
          <p:nvSpPr>
            <p:cNvPr id="5" name=""/>
            <p:cNvSpPr/>
            <p:nvPr/>
          </p:nvSpPr>
          <p:spPr>
            <a:xfrm>
              <a:off x="311040" y="504720"/>
              <a:ext cx="1067040" cy="914400"/>
            </a:xfrm>
            <a:prstGeom prst="ellipse">
              <a:avLst/>
            </a:prstGeom>
            <a:solidFill>
              <a:srgbClr val="69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8120" y="295200"/>
              <a:ext cx="1544400" cy="12963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ahoma"/>
                </a:rPr>
                <a:t>O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B8A8263E-4345-4D7E-940A-8C20F57720B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04240" y="131760"/>
            <a:ext cx="2537640" cy="2028600"/>
            <a:chOff x="804240" y="131760"/>
            <a:chExt cx="2537640" cy="2028600"/>
          </a:xfrm>
        </p:grpSpPr>
        <p:sp>
          <p:nvSpPr>
            <p:cNvPr id="47" name=""/>
            <p:cNvSpPr/>
            <p:nvPr/>
          </p:nvSpPr>
          <p:spPr>
            <a:xfrm>
              <a:off x="1255680" y="376920"/>
              <a:ext cx="1605600" cy="1598760"/>
            </a:xfrm>
            <a:prstGeom prst="ellipse">
              <a:avLst/>
            </a:prstGeom>
            <a:solidFill>
              <a:srgbClr val="69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04240" y="131760"/>
              <a:ext cx="2537640" cy="2028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7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file:///04_filesystem.ppt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Tahoma"/>
              </a:rPr>
              <a:t>Memory Managemen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3200" spc="-1" strike="noStrike">
                <a:solidFill>
                  <a:srgbClr val="000000"/>
                </a:solidFill>
                <a:latin typeface="Tahoma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000000"/>
                </a:solidFill>
                <a:latin typeface="Tahoma"/>
              </a:rPr>
              <a:t>address binding, general techniques, dynamic relocation H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3200" spc="-1" strike="noStrike">
                <a:solidFill>
                  <a:srgbClr val="000000"/>
                </a:solidFill>
                <a:latin typeface="Tahoma"/>
              </a:rPr>
              <a:t>Memory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000000"/>
                </a:solidFill>
                <a:latin typeface="Tahoma"/>
              </a:rPr>
              <a:t>partitions, paging, segmentation, paged seg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79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279f"/>
                </a:solidFill>
                <a:latin typeface="Tahoma"/>
              </a:rPr>
              <a:t>Virtual Memory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279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279f"/>
                </a:solidFill>
                <a:latin typeface="Tahoma"/>
              </a:rPr>
              <a:t>demand pa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279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279f"/>
                </a:solidFill>
                <a:latin typeface="Tahoma"/>
              </a:rPr>
              <a:t>thras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emand Pag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Access Page 4 … Page Fault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>
            <a:off x="1301760" y="251784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301760" y="287964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01760" y="324180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301760" y="360360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01760" y="396540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01760" y="216072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610160" y="2490840"/>
            <a:ext cx="90000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610160" y="2852640"/>
            <a:ext cx="900000" cy="360360"/>
          </a:xfrm>
          <a:prstGeom prst="rect">
            <a:avLst/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10160" y="2133720"/>
            <a:ext cx="900000" cy="360360"/>
          </a:xfrm>
          <a:prstGeom prst="rect">
            <a:avLst/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610160" y="3919680"/>
            <a:ext cx="900000" cy="360360"/>
          </a:xfrm>
          <a:prstGeom prst="rect">
            <a:avLst/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610160" y="4273560"/>
            <a:ext cx="90000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610160" y="3571920"/>
            <a:ext cx="90000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608360" y="3209760"/>
            <a:ext cx="900360" cy="360360"/>
          </a:xfrm>
          <a:prstGeom prst="rect">
            <a:avLst/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08360" y="4633920"/>
            <a:ext cx="900360" cy="360360"/>
          </a:xfrm>
          <a:prstGeom prst="rect">
            <a:avLst/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30080" y="2175480"/>
            <a:ext cx="307080" cy="28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608360" y="2495520"/>
            <a:ext cx="90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608360" y="3573360"/>
            <a:ext cx="90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08360" y="4276800"/>
            <a:ext cx="90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24480" y="2262240"/>
            <a:ext cx="2362320" cy="2743200"/>
          </a:xfrm>
          <a:prstGeom prst="can">
            <a:avLst>
              <a:gd name="adj" fmla="val 19814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629400" y="290988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15160" y="3405240"/>
            <a:ext cx="90036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63384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2901960" y="2154240"/>
            <a:ext cx="903240" cy="2911320"/>
            <a:chOff x="2901960" y="2154240"/>
            <a:chExt cx="903240" cy="2911320"/>
          </a:xfrm>
        </p:grpSpPr>
        <p:sp>
          <p:nvSpPr>
            <p:cNvPr id="328" name=""/>
            <p:cNvSpPr/>
            <p:nvPr/>
          </p:nvSpPr>
          <p:spPr>
            <a:xfrm>
              <a:off x="2911680" y="250812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901960" y="215424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443400" y="215424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901960" y="251928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43400" y="251928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901960" y="288432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43400" y="288432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901960" y="324972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443400" y="324972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03760" y="3614760"/>
              <a:ext cx="5396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44840" y="361476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901960" y="397512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443400" y="397512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03760" y="4340160"/>
              <a:ext cx="5396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444840" y="434016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901960" y="470520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443400" y="470520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2906640" y="2152800"/>
            <a:ext cx="54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448080" y="2152800"/>
            <a:ext cx="36036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906640" y="2517840"/>
            <a:ext cx="54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448080" y="2517840"/>
            <a:ext cx="36036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906640" y="2882880"/>
            <a:ext cx="54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448080" y="2882880"/>
            <a:ext cx="36036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448080" y="3247920"/>
            <a:ext cx="36036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449520" y="3613320"/>
            <a:ext cx="36036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448080" y="3973680"/>
            <a:ext cx="36036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49520" y="4338720"/>
            <a:ext cx="360360" cy="360360"/>
          </a:xfrm>
          <a:prstGeom prst="rect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448080" y="4703760"/>
            <a:ext cx="360360" cy="360360"/>
          </a:xfrm>
          <a:prstGeom prst="rect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631240" y="2132640"/>
            <a:ext cx="469080" cy="2950200"/>
            <a:chOff x="2631240" y="2132640"/>
            <a:chExt cx="469080" cy="2950200"/>
          </a:xfrm>
        </p:grpSpPr>
        <p:sp>
          <p:nvSpPr>
            <p:cNvPr id="357" name=""/>
            <p:cNvSpPr/>
            <p:nvPr/>
          </p:nvSpPr>
          <p:spPr>
            <a:xfrm>
              <a:off x="2916000" y="25066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631240" y="213264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31240" y="249768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631240" y="286308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631240" y="322812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40600" y="359316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631240" y="395352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640600" y="431856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639160" y="468396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715000" y="3048120"/>
            <a:ext cx="838080" cy="620640"/>
            <a:chOff x="5715000" y="3048120"/>
            <a:chExt cx="838080" cy="620640"/>
          </a:xfrm>
        </p:grpSpPr>
        <p:sp>
          <p:nvSpPr>
            <p:cNvPr id="367" name=""/>
            <p:cNvSpPr/>
            <p:nvPr/>
          </p:nvSpPr>
          <p:spPr>
            <a:xfrm>
              <a:off x="5715000" y="3048120"/>
              <a:ext cx="838080" cy="228600"/>
            </a:xfrm>
            <a:prstGeom prst="leftArrow">
              <a:avLst>
                <a:gd name="adj1" fmla="val 50000"/>
                <a:gd name="adj2" fmla="val 91654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943600" y="320040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3352680" y="3276720"/>
            <a:ext cx="967680" cy="914400"/>
            <a:chOff x="3352680" y="3276720"/>
            <a:chExt cx="967680" cy="914400"/>
          </a:xfrm>
        </p:grpSpPr>
        <p:grpSp>
          <p:nvGrpSpPr>
            <p:cNvPr id="370" name=""/>
            <p:cNvGrpSpPr/>
            <p:nvPr/>
          </p:nvGrpSpPr>
          <p:grpSpPr>
            <a:xfrm>
              <a:off x="3352680" y="3581640"/>
              <a:ext cx="967680" cy="609480"/>
              <a:chOff x="3352680" y="3581640"/>
              <a:chExt cx="967680" cy="609480"/>
            </a:xfrm>
          </p:grpSpPr>
          <p:sp>
            <p:nvSpPr>
              <p:cNvPr id="371" name=""/>
              <p:cNvSpPr/>
              <p:nvPr/>
            </p:nvSpPr>
            <p:spPr>
              <a:xfrm>
                <a:off x="3352680" y="3581640"/>
                <a:ext cx="676080" cy="609480"/>
              </a:xfrm>
              <a:prstGeom prst="lightningBolt">
                <a:avLst/>
              </a:prstGeom>
              <a:solidFill>
                <a:srgbClr val="618ff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853080" y="3656880"/>
                <a:ext cx="46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P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3657240" y="327672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2286000" y="3276720"/>
            <a:ext cx="1143000" cy="609480"/>
            <a:chOff x="2286000" y="3276720"/>
            <a:chExt cx="1143000" cy="609480"/>
          </a:xfrm>
        </p:grpSpPr>
        <p:sp>
          <p:nvSpPr>
            <p:cNvPr id="375" name=""/>
            <p:cNvSpPr/>
            <p:nvPr/>
          </p:nvSpPr>
          <p:spPr>
            <a:xfrm>
              <a:off x="2286000" y="3657600"/>
              <a:ext cx="1143000" cy="228600"/>
            </a:xfrm>
            <a:prstGeom prst="rightArrow">
              <a:avLst>
                <a:gd name="adj1" fmla="val 50000"/>
                <a:gd name="adj2" fmla="val 125000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286000" y="327672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5161680" y="2589840"/>
            <a:ext cx="825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17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45680" y="5134680"/>
            <a:ext cx="23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ind Free Fram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2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emand Pag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Find Free Frame … NON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"/>
          <p:cNvSpPr/>
          <p:nvPr/>
        </p:nvSpPr>
        <p:spPr>
          <a:xfrm>
            <a:off x="1301760" y="251784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301760" y="287964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301760" y="324180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301760" y="360360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301760" y="396540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301760" y="216072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610160" y="2490840"/>
            <a:ext cx="90000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610160" y="2852640"/>
            <a:ext cx="900000" cy="360360"/>
          </a:xfrm>
          <a:prstGeom prst="rect">
            <a:avLst/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610160" y="2133720"/>
            <a:ext cx="900000" cy="360360"/>
          </a:xfrm>
          <a:prstGeom prst="rect">
            <a:avLst/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10160" y="3919680"/>
            <a:ext cx="900000" cy="360360"/>
          </a:xfrm>
          <a:prstGeom prst="rect">
            <a:avLst/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610160" y="4273560"/>
            <a:ext cx="90000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610160" y="3571920"/>
            <a:ext cx="90000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608360" y="3209760"/>
            <a:ext cx="900360" cy="360360"/>
          </a:xfrm>
          <a:prstGeom prst="rect">
            <a:avLst/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08360" y="4633920"/>
            <a:ext cx="900360" cy="360360"/>
          </a:xfrm>
          <a:prstGeom prst="rect">
            <a:avLst/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30080" y="2175480"/>
            <a:ext cx="307080" cy="28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608360" y="2495520"/>
            <a:ext cx="90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608360" y="3573360"/>
            <a:ext cx="90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608360" y="4276800"/>
            <a:ext cx="90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324480" y="2262240"/>
            <a:ext cx="2362320" cy="2743200"/>
          </a:xfrm>
          <a:prstGeom prst="can">
            <a:avLst>
              <a:gd name="adj" fmla="val 19814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29400" y="290988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715160" y="3405240"/>
            <a:ext cx="90036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629400" y="363384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901960" y="2154240"/>
            <a:ext cx="903240" cy="2911320"/>
            <a:chOff x="2901960" y="2154240"/>
            <a:chExt cx="903240" cy="2911320"/>
          </a:xfrm>
        </p:grpSpPr>
        <p:sp>
          <p:nvSpPr>
            <p:cNvPr id="404" name=""/>
            <p:cNvSpPr/>
            <p:nvPr/>
          </p:nvSpPr>
          <p:spPr>
            <a:xfrm>
              <a:off x="2911680" y="250812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901960" y="215424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443400" y="215424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901960" y="251928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443400" y="251928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901960" y="288432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443400" y="288432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901960" y="324972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443400" y="324972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903760" y="3614760"/>
              <a:ext cx="5396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444840" y="361476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901960" y="397512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43400" y="397512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903760" y="4340160"/>
              <a:ext cx="5396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444840" y="434016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901960" y="470520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443400" y="470520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2906640" y="2152800"/>
            <a:ext cx="54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48080" y="2152800"/>
            <a:ext cx="36036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906640" y="2517840"/>
            <a:ext cx="54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48080" y="2517840"/>
            <a:ext cx="36036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906640" y="2882880"/>
            <a:ext cx="54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448080" y="2882880"/>
            <a:ext cx="36036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448080" y="3247920"/>
            <a:ext cx="36036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449520" y="3613320"/>
            <a:ext cx="36036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448080" y="3973680"/>
            <a:ext cx="36036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449520" y="4338720"/>
            <a:ext cx="360360" cy="360360"/>
          </a:xfrm>
          <a:prstGeom prst="rect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448080" y="4703760"/>
            <a:ext cx="360360" cy="360360"/>
          </a:xfrm>
          <a:prstGeom prst="rect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2631240" y="2132640"/>
            <a:ext cx="469080" cy="2950200"/>
            <a:chOff x="2631240" y="2132640"/>
            <a:chExt cx="469080" cy="2950200"/>
          </a:xfrm>
        </p:grpSpPr>
        <p:sp>
          <p:nvSpPr>
            <p:cNvPr id="433" name=""/>
            <p:cNvSpPr/>
            <p:nvPr/>
          </p:nvSpPr>
          <p:spPr>
            <a:xfrm>
              <a:off x="2916000" y="25066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631240" y="213264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631240" y="249768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631240" y="286308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631240" y="322812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40600" y="359316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631240" y="395352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640600" y="431856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39160" y="468396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608360" y="2496960"/>
            <a:ext cx="900360" cy="360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905200" y="3614760"/>
            <a:ext cx="53964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446640" y="3614760"/>
            <a:ext cx="36036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3276720" y="3885840"/>
            <a:ext cx="849240" cy="697320"/>
            <a:chOff x="3276720" y="3885840"/>
            <a:chExt cx="849240" cy="697320"/>
          </a:xfrm>
        </p:grpSpPr>
        <p:sp>
          <p:nvSpPr>
            <p:cNvPr id="446" name=""/>
            <p:cNvSpPr/>
            <p:nvPr/>
          </p:nvSpPr>
          <p:spPr>
            <a:xfrm rot="16200000">
              <a:off x="3250440" y="3912120"/>
              <a:ext cx="569880" cy="517320"/>
            </a:xfrm>
            <a:custGeom>
              <a:avLst/>
              <a:gdLst>
                <a:gd name="textAreaLeft" fmla="*/ 0 w 569880"/>
                <a:gd name="textAreaRight" fmla="*/ 570240 w 5698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657600" y="411480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4267080" y="5256720"/>
            <a:ext cx="2661120" cy="703800"/>
            <a:chOff x="4267080" y="5256720"/>
            <a:chExt cx="2661120" cy="703800"/>
          </a:xfrm>
        </p:grpSpPr>
        <p:sp>
          <p:nvSpPr>
            <p:cNvPr id="449" name=""/>
            <p:cNvSpPr/>
            <p:nvPr/>
          </p:nvSpPr>
          <p:spPr>
            <a:xfrm>
              <a:off x="4267080" y="5562720"/>
              <a:ext cx="914400" cy="228600"/>
            </a:xfrm>
            <a:prstGeom prst="leftArrow">
              <a:avLst>
                <a:gd name="adj1" fmla="val 50000"/>
                <a:gd name="adj2" fmla="val 100000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029200" y="541008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438520" y="5256720"/>
              <a:ext cx="1489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Restart </a:t>
              </a:r>
              <a:br>
                <a:rPr sz="2000"/>
              </a:b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Instru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3276720" y="2895120"/>
            <a:ext cx="849240" cy="697320"/>
            <a:chOff x="3276720" y="2895120"/>
            <a:chExt cx="849240" cy="697320"/>
          </a:xfrm>
        </p:grpSpPr>
        <p:sp>
          <p:nvSpPr>
            <p:cNvPr id="453" name=""/>
            <p:cNvSpPr/>
            <p:nvPr/>
          </p:nvSpPr>
          <p:spPr>
            <a:xfrm rot="16200000">
              <a:off x="3250440" y="2921400"/>
              <a:ext cx="569880" cy="517320"/>
            </a:xfrm>
            <a:custGeom>
              <a:avLst/>
              <a:gdLst>
                <a:gd name="textAreaLeft" fmla="*/ 0 w 569880"/>
                <a:gd name="textAreaRight" fmla="*/ 570240 w 5698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657600" y="312408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2903400" y="2514600"/>
            <a:ext cx="540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444840" y="2514600"/>
            <a:ext cx="36036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696080" y="2819520"/>
            <a:ext cx="90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4401720" y="2747880"/>
            <a:ext cx="3617280" cy="1514520"/>
            <a:chOff x="4401720" y="2747880"/>
            <a:chExt cx="3617280" cy="1514520"/>
          </a:xfrm>
        </p:grpSpPr>
        <p:sp>
          <p:nvSpPr>
            <p:cNvPr id="459" name=""/>
            <p:cNvSpPr/>
            <p:nvPr/>
          </p:nvSpPr>
          <p:spPr>
            <a:xfrm flipH="1" rot="898800">
              <a:off x="4419360" y="3200040"/>
              <a:ext cx="3581280" cy="609480"/>
            </a:xfrm>
            <a:custGeom>
              <a:avLst/>
              <a:gdLst>
                <a:gd name="textAreaLeft" fmla="*/ 626760 w 3581280"/>
                <a:gd name="textAreaRight" fmla="*/ 2596680 w 358128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858000" y="350532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4613400" y="2496960"/>
            <a:ext cx="900000" cy="36072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4724280" y="1752480"/>
            <a:ext cx="3581640" cy="990000"/>
            <a:chOff x="4724280" y="1752480"/>
            <a:chExt cx="3581640" cy="990000"/>
          </a:xfrm>
        </p:grpSpPr>
        <p:sp>
          <p:nvSpPr>
            <p:cNvPr id="463" name=""/>
            <p:cNvSpPr/>
            <p:nvPr/>
          </p:nvSpPr>
          <p:spPr>
            <a:xfrm flipV="1">
              <a:off x="4724280" y="2132280"/>
              <a:ext cx="3581640" cy="609480"/>
            </a:xfrm>
            <a:custGeom>
              <a:avLst/>
              <a:gdLst>
                <a:gd name="textAreaLeft" fmla="*/ 626760 w 3581640"/>
                <a:gd name="textAreaRight" fmla="*/ 2596680 w 358164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553080" y="175248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5410080" y="2261160"/>
            <a:ext cx="1052280" cy="874080"/>
            <a:chOff x="5410080" y="2261160"/>
            <a:chExt cx="1052280" cy="874080"/>
          </a:xfrm>
        </p:grpSpPr>
        <p:sp>
          <p:nvSpPr>
            <p:cNvPr id="466" name=""/>
            <p:cNvSpPr/>
            <p:nvPr/>
          </p:nvSpPr>
          <p:spPr>
            <a:xfrm>
              <a:off x="5547240" y="2261160"/>
              <a:ext cx="91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Victi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410080" y="2514600"/>
              <a:ext cx="914400" cy="228600"/>
            </a:xfrm>
            <a:prstGeom prst="leftArrow">
              <a:avLst>
                <a:gd name="adj1" fmla="val 50000"/>
                <a:gd name="adj2" fmla="val 100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715000" y="266688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>
            <a:hlinkClick r:id="rId2" action="ppaction://hlinksldjump"/>
          </p:cNvPr>
          <p:cNvSpPr/>
          <p:nvPr/>
        </p:nvSpPr>
        <p:spPr>
          <a:xfrm>
            <a:off x="395280" y="5373720"/>
            <a:ext cx="649440" cy="576360"/>
          </a:xfrm>
          <a:custGeom>
            <a:avLst/>
            <a:gdLst>
              <a:gd name="textAreaLeft" fmla="*/ 37080 w 649440"/>
              <a:gd name="textAreaRight" fmla="*/ 612360 w 6494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337" h="21600">
                <a:moveTo>
                  <a:pt x="0" y="0"/>
                </a:moveTo>
                <a:lnTo>
                  <a:pt x="24337" y="0"/>
                </a:lnTo>
                <a:lnTo>
                  <a:pt x="24337" y="21600"/>
                </a:lnTo>
                <a:lnTo>
                  <a:pt x="0" y="21600"/>
                </a:lnTo>
                <a:close/>
              </a:path>
              <a:path fill="lightenLess" w="24337" h="21600">
                <a:moveTo>
                  <a:pt x="0" y="0"/>
                </a:moveTo>
                <a:lnTo>
                  <a:pt x="24337" y="0"/>
                </a:lnTo>
                <a:lnTo>
                  <a:pt x="22937" y="1400"/>
                </a:lnTo>
                <a:lnTo>
                  <a:pt x="1400" y="1400"/>
                </a:lnTo>
                <a:close/>
              </a:path>
              <a:path fill="darken" w="24337" h="21600">
                <a:moveTo>
                  <a:pt x="24337" y="0"/>
                </a:moveTo>
                <a:lnTo>
                  <a:pt x="24337" y="21600"/>
                </a:lnTo>
                <a:lnTo>
                  <a:pt x="22937" y="20200"/>
                </a:lnTo>
                <a:lnTo>
                  <a:pt x="22937" y="1400"/>
                </a:lnTo>
                <a:close/>
              </a:path>
              <a:path fill="darkenLess" w="24337" h="21600">
                <a:moveTo>
                  <a:pt x="243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37" y="20200"/>
                </a:lnTo>
                <a:close/>
              </a:path>
              <a:path fill="lighten" w="243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37" h="21600">
                <a:moveTo>
                  <a:pt x="15667" y="10800"/>
                </a:moveTo>
                <a:lnTo>
                  <a:pt x="5162" y="17806"/>
                </a:lnTo>
                <a:lnTo>
                  <a:pt x="5162" y="3794"/>
                </a:lnTo>
                <a:close/>
              </a:path>
              <a:path fill="darken" w="24337" h="21600">
                <a:moveTo>
                  <a:pt x="17513" y="3794"/>
                </a:moveTo>
                <a:lnTo>
                  <a:pt x="17513" y="17806"/>
                </a:lnTo>
                <a:lnTo>
                  <a:pt x="19175" y="17806"/>
                </a:lnTo>
                <a:lnTo>
                  <a:pt x="19175" y="3794"/>
                </a:lnTo>
                <a:close/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500"/>
                            </p:stCondLst>
                            <p:childTnLst>
                              <p:par>
                                <p:cTn id="65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6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8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7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0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emand Pag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"/>
          <p:cNvSpPr/>
          <p:nvPr/>
        </p:nvSpPr>
        <p:spPr>
          <a:xfrm>
            <a:off x="1281240" y="1523880"/>
            <a:ext cx="7377120" cy="395928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90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ind Free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Non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279f"/>
                </a:solidFill>
                <a:latin typeface="Tahoma"/>
              </a:rPr>
              <a:t>Find Vict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odify PT-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fc0128"/>
                </a:solidFill>
                <a:latin typeface="Tahoma"/>
              </a:rPr>
              <a:t>Write Page to Swap Space</a:t>
            </a:r>
            <a:r>
              <a:rPr b="0" lang="nl-BE" sz="2400" spc="-1" strike="noStrike">
                <a:solidFill>
                  <a:srgbClr val="fc0128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ae00"/>
                </a:solidFill>
                <a:latin typeface="Tahoma"/>
              </a:rPr>
              <a:t>Read Page in Free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odify PT-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ESTORE STATE  (s.t. instruction = restar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533520" y="1447920"/>
            <a:ext cx="794520" cy="1083600"/>
            <a:chOff x="533520" y="1447920"/>
            <a:chExt cx="794520" cy="1083600"/>
          </a:xfrm>
        </p:grpSpPr>
        <p:sp>
          <p:nvSpPr>
            <p:cNvPr id="473" name=""/>
            <p:cNvSpPr/>
            <p:nvPr/>
          </p:nvSpPr>
          <p:spPr>
            <a:xfrm>
              <a:off x="533520" y="1447920"/>
              <a:ext cx="676080" cy="60948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60760" y="2132640"/>
              <a:ext cx="46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4546440" y="5532480"/>
            <a:ext cx="35308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82" y="-58219"/>
                </a:moveTo>
                <a:lnTo>
                  <a:pt x="-466" y="4000"/>
                </a:lnTo>
              </a:path>
              <a:path w="21600" h="21600">
                <a:moveTo>
                  <a:pt x="-466" y="0"/>
                </a:moveTo>
                <a:lnTo>
                  <a:pt x="-466" y="21600"/>
                </a:lnTo>
              </a:path>
            </a:pathLst>
          </a:custGeom>
          <a:noFill/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Avoid if not modified</a:t>
            </a:r>
            <a:br>
              <a:rPr sz="2000"/>
            </a:b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(modify/dirty bit) or 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rot="1844400">
            <a:off x="4914720" y="1514160"/>
            <a:ext cx="3768840" cy="2657160"/>
          </a:xfrm>
          <a:prstGeom prst="irregularSeal1">
            <a:avLst/>
          </a:prstGeom>
          <a:solidFill>
            <a:srgbClr val="fafd00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500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500"/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500"/>
                                        <p:tgtEl>
                                          <p:spTgt spid="4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500"/>
                                        <p:tgtEl>
                                          <p:spTgt spid="4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500"/>
                                        <p:tgtEl>
                                          <p:spTgt spid="4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4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erformance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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#PF low: Good Replacement algorith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ol of free fra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of modified fra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py-on-write (FOR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mory-mapped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8" dur="500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3" dur="5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8" dur="500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3" dur="500"/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8" dur="500"/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ool of free fram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381960" y="1992240"/>
            <a:ext cx="1180080" cy="2890080"/>
            <a:chOff x="381960" y="1992240"/>
            <a:chExt cx="1180080" cy="2890080"/>
          </a:xfrm>
        </p:grpSpPr>
        <p:sp>
          <p:nvSpPr>
            <p:cNvPr id="481" name=""/>
            <p:cNvSpPr/>
            <p:nvPr/>
          </p:nvSpPr>
          <p:spPr>
            <a:xfrm>
              <a:off x="662040" y="234936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62040" y="2711160"/>
              <a:ext cx="900000" cy="36036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62040" y="1992240"/>
              <a:ext cx="900000" cy="36036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62040" y="3778200"/>
              <a:ext cx="900000" cy="36036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62040" y="413208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62040" y="343044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60240" y="3068640"/>
              <a:ext cx="900000" cy="36036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60240" y="4492440"/>
              <a:ext cx="900000" cy="36036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81960" y="2034000"/>
              <a:ext cx="307080" cy="284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60240" y="2354040"/>
              <a:ext cx="90000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60240" y="3431880"/>
              <a:ext cx="90000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60240" y="4135320"/>
              <a:ext cx="90000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2590920" y="2057400"/>
            <a:ext cx="1218960" cy="2743200"/>
            <a:chOff x="2590920" y="2057400"/>
            <a:chExt cx="1218960" cy="2743200"/>
          </a:xfrm>
        </p:grpSpPr>
        <p:sp>
          <p:nvSpPr>
            <p:cNvPr id="494" name=""/>
            <p:cNvSpPr/>
            <p:nvPr/>
          </p:nvSpPr>
          <p:spPr>
            <a:xfrm>
              <a:off x="2590920" y="2057400"/>
              <a:ext cx="1218960" cy="2743200"/>
            </a:xfrm>
            <a:prstGeom prst="can">
              <a:avLst>
                <a:gd name="adj" fmla="val 19814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43200" y="324792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743200" y="419112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743200" y="373392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662040" y="2354400"/>
            <a:ext cx="900000" cy="36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62040" y="236232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748440" y="1523880"/>
            <a:ext cx="3608640" cy="1708920"/>
            <a:chOff x="748440" y="1523880"/>
            <a:chExt cx="3608640" cy="1708920"/>
          </a:xfrm>
        </p:grpSpPr>
        <p:sp>
          <p:nvSpPr>
            <p:cNvPr id="501" name=""/>
            <p:cNvSpPr/>
            <p:nvPr/>
          </p:nvSpPr>
          <p:spPr>
            <a:xfrm flipV="1" rot="976800">
              <a:off x="761760" y="2133360"/>
              <a:ext cx="3581280" cy="609480"/>
            </a:xfrm>
            <a:custGeom>
              <a:avLst/>
              <a:gdLst>
                <a:gd name="textAreaLeft" fmla="*/ 626760 w 3581280"/>
                <a:gd name="textAreaRight" fmla="*/ 2596680 w 358128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133720" y="152388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28080" y="2366640"/>
            <a:ext cx="3524400" cy="2505240"/>
            <a:chOff x="28080" y="2366640"/>
            <a:chExt cx="3524400" cy="2505240"/>
          </a:xfrm>
        </p:grpSpPr>
        <p:sp>
          <p:nvSpPr>
            <p:cNvPr id="504" name=""/>
            <p:cNvSpPr/>
            <p:nvPr/>
          </p:nvSpPr>
          <p:spPr>
            <a:xfrm flipH="1" rot="1786200">
              <a:off x="0" y="3200040"/>
              <a:ext cx="3581280" cy="837720"/>
            </a:xfrm>
            <a:custGeom>
              <a:avLst/>
              <a:gdLst>
                <a:gd name="textAreaLeft" fmla="*/ 626760 w 3581280"/>
                <a:gd name="textAreaRight" fmla="*/ 2596680 w 3581280"/>
                <a:gd name="textAreaTop" fmla="*/ 111960 h 837720"/>
                <a:gd name="textAreaBottom" fmla="*/ 725760 h 83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79200">
              <a:off x="1904760" y="365724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4725360" y="1992240"/>
            <a:ext cx="1180080" cy="2890440"/>
            <a:chOff x="4725360" y="1992240"/>
            <a:chExt cx="1180080" cy="2890440"/>
          </a:xfrm>
        </p:grpSpPr>
        <p:sp>
          <p:nvSpPr>
            <p:cNvPr id="507" name=""/>
            <p:cNvSpPr/>
            <p:nvPr/>
          </p:nvSpPr>
          <p:spPr>
            <a:xfrm>
              <a:off x="5005440" y="234936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005440" y="2711520"/>
              <a:ext cx="900000" cy="36036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005440" y="1992240"/>
              <a:ext cx="900000" cy="36036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005440" y="3778200"/>
              <a:ext cx="900000" cy="36036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005440" y="413244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005440" y="343044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03640" y="3068640"/>
              <a:ext cx="900360" cy="36036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fr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003640" y="4492800"/>
              <a:ext cx="900360" cy="36036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fr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725360" y="2034360"/>
              <a:ext cx="307080" cy="284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003640" y="2354400"/>
              <a:ext cx="90036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03640" y="3432240"/>
              <a:ext cx="90036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003640" y="4135320"/>
              <a:ext cx="90036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6934320" y="2057400"/>
            <a:ext cx="1218960" cy="2743200"/>
            <a:chOff x="6934320" y="2057400"/>
            <a:chExt cx="1218960" cy="2743200"/>
          </a:xfrm>
        </p:grpSpPr>
        <p:sp>
          <p:nvSpPr>
            <p:cNvPr id="520" name=""/>
            <p:cNvSpPr/>
            <p:nvPr/>
          </p:nvSpPr>
          <p:spPr>
            <a:xfrm>
              <a:off x="6934320" y="2057400"/>
              <a:ext cx="1218960" cy="2743200"/>
            </a:xfrm>
            <a:prstGeom prst="can">
              <a:avLst>
                <a:gd name="adj" fmla="val 19814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086600" y="324792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086600" y="419112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086600" y="373392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5000760" y="2354400"/>
            <a:ext cx="900000" cy="360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000760" y="306216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5091840" y="1523880"/>
            <a:ext cx="3608640" cy="1708920"/>
            <a:chOff x="5091840" y="1523880"/>
            <a:chExt cx="3608640" cy="1708920"/>
          </a:xfrm>
        </p:grpSpPr>
        <p:sp>
          <p:nvSpPr>
            <p:cNvPr id="527" name=""/>
            <p:cNvSpPr/>
            <p:nvPr/>
          </p:nvSpPr>
          <p:spPr>
            <a:xfrm flipV="1" rot="976800">
              <a:off x="5105160" y="2133360"/>
              <a:ext cx="3581280" cy="609480"/>
            </a:xfrm>
            <a:custGeom>
              <a:avLst/>
              <a:gdLst>
                <a:gd name="textAreaLeft" fmla="*/ 626760 w 3581280"/>
                <a:gd name="textAreaRight" fmla="*/ 2596680 w 358128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477120" y="152388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5000760" y="2355840"/>
            <a:ext cx="90000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1840" y="4876920"/>
            <a:ext cx="39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ithout pool of free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879080" y="4876920"/>
            <a:ext cx="34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ith pool of free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4374360" y="3081600"/>
            <a:ext cx="3671640" cy="1825560"/>
            <a:chOff x="4374360" y="3081600"/>
            <a:chExt cx="3671640" cy="1825560"/>
          </a:xfrm>
        </p:grpSpPr>
        <p:sp>
          <p:nvSpPr>
            <p:cNvPr id="533" name=""/>
            <p:cNvSpPr/>
            <p:nvPr/>
          </p:nvSpPr>
          <p:spPr>
            <a:xfrm flipH="1" rot="995400">
              <a:off x="4419000" y="3575160"/>
              <a:ext cx="3581280" cy="838080"/>
            </a:xfrm>
            <a:custGeom>
              <a:avLst/>
              <a:gdLst>
                <a:gd name="textAreaLeft" fmla="*/ 626760 w 3581280"/>
                <a:gd name="textAreaRight" fmla="*/ 2596680 w 3581280"/>
                <a:gd name="textAreaTop" fmla="*/ 112320 h 838080"/>
                <a:gd name="textAreaBottom" fmla="*/ 7257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9600">
              <a:off x="6248520" y="3879360"/>
              <a:ext cx="468360" cy="46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2971800" y="1363320"/>
            <a:ext cx="1012680" cy="1269360"/>
          </a:xfrm>
          <a:prstGeom prst="lightningBolt">
            <a:avLst/>
          </a:prstGeom>
          <a:solidFill>
            <a:srgbClr val="fe7c92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543800" y="1418760"/>
            <a:ext cx="1012680" cy="1269360"/>
          </a:xfrm>
          <a:prstGeom prst="lightningBolt">
            <a:avLst/>
          </a:prstGeom>
          <a:solidFill>
            <a:srgbClr val="fe7c92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743200" y="274320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086600" y="274320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050920" y="5516640"/>
            <a:ext cx="0" cy="433440"/>
          </a:xfrm>
          <a:prstGeom prst="line">
            <a:avLst/>
          </a:prstGeom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395280" y="5157720"/>
            <a:ext cx="1655640" cy="459720"/>
            <a:chOff x="395280" y="5157720"/>
            <a:chExt cx="1655640" cy="459720"/>
          </a:xfrm>
        </p:grpSpPr>
        <p:sp>
          <p:nvSpPr>
            <p:cNvPr id="541" name=""/>
            <p:cNvSpPr/>
            <p:nvPr/>
          </p:nvSpPr>
          <p:spPr>
            <a:xfrm>
              <a:off x="395280" y="5589720"/>
              <a:ext cx="1655640" cy="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83200" y="5157720"/>
              <a:ext cx="9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ahoma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2050920" y="5492880"/>
            <a:ext cx="1728720" cy="459720"/>
            <a:chOff x="2050920" y="5492880"/>
            <a:chExt cx="1728720" cy="459720"/>
          </a:xfrm>
        </p:grpSpPr>
        <p:sp>
          <p:nvSpPr>
            <p:cNvPr id="544" name=""/>
            <p:cNvSpPr/>
            <p:nvPr/>
          </p:nvSpPr>
          <p:spPr>
            <a:xfrm>
              <a:off x="2050920" y="5950080"/>
              <a:ext cx="1728720" cy="0"/>
            </a:xfrm>
            <a:prstGeom prst="line">
              <a:avLst/>
            </a:prstGeom>
            <a:ln w="38160">
              <a:solidFill>
                <a:srgbClr val="b3b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347200" y="5492880"/>
              <a:ext cx="83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3b900"/>
                  </a:solidFill>
                  <a:latin typeface="Tahoma"/>
                </a:rPr>
                <a:t>re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6588000" y="5157720"/>
            <a:ext cx="1656000" cy="459720"/>
            <a:chOff x="6588000" y="5157720"/>
            <a:chExt cx="1656000" cy="459720"/>
          </a:xfrm>
        </p:grpSpPr>
        <p:sp>
          <p:nvSpPr>
            <p:cNvPr id="547" name=""/>
            <p:cNvSpPr/>
            <p:nvPr/>
          </p:nvSpPr>
          <p:spPr>
            <a:xfrm>
              <a:off x="6588000" y="5589720"/>
              <a:ext cx="1656000" cy="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776640" y="5157720"/>
              <a:ext cx="9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ahoma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6588000" y="5516640"/>
            <a:ext cx="0" cy="433440"/>
          </a:xfrm>
          <a:prstGeom prst="line">
            <a:avLst/>
          </a:prstGeom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4859280" y="5492880"/>
            <a:ext cx="1728720" cy="459720"/>
            <a:chOff x="4859280" y="5492880"/>
            <a:chExt cx="1728720" cy="459720"/>
          </a:xfrm>
        </p:grpSpPr>
        <p:sp>
          <p:nvSpPr>
            <p:cNvPr id="551" name=""/>
            <p:cNvSpPr/>
            <p:nvPr/>
          </p:nvSpPr>
          <p:spPr>
            <a:xfrm>
              <a:off x="4859280" y="5950080"/>
              <a:ext cx="1728720" cy="0"/>
            </a:xfrm>
            <a:prstGeom prst="line">
              <a:avLst/>
            </a:prstGeom>
            <a:ln w="38160">
              <a:solidFill>
                <a:srgbClr val="b3b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155560" y="5492880"/>
              <a:ext cx="83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3b900"/>
                  </a:solidFill>
                  <a:latin typeface="Tahoma"/>
                </a:rPr>
                <a:t>re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3780000" y="5516640"/>
            <a:ext cx="0" cy="433440"/>
          </a:xfrm>
          <a:prstGeom prst="line">
            <a:avLst/>
          </a:prstGeom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3713760" y="5229360"/>
            <a:ext cx="1218600" cy="459720"/>
            <a:chOff x="3713760" y="5229360"/>
            <a:chExt cx="1218600" cy="459720"/>
          </a:xfrm>
        </p:grpSpPr>
        <p:sp>
          <p:nvSpPr>
            <p:cNvPr id="555" name=""/>
            <p:cNvSpPr/>
            <p:nvPr/>
          </p:nvSpPr>
          <p:spPr>
            <a:xfrm>
              <a:off x="3780000" y="5661000"/>
              <a:ext cx="1152360" cy="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713760" y="5229360"/>
              <a:ext cx="114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0128"/>
                  </a:solidFill>
                  <a:latin typeface="Tahoma"/>
                </a:rPr>
                <a:t>resta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6516720" y="5516640"/>
            <a:ext cx="1727280" cy="459720"/>
            <a:chOff x="6516720" y="5516640"/>
            <a:chExt cx="1727280" cy="459720"/>
          </a:xfrm>
        </p:grpSpPr>
        <p:sp>
          <p:nvSpPr>
            <p:cNvPr id="558" name=""/>
            <p:cNvSpPr/>
            <p:nvPr/>
          </p:nvSpPr>
          <p:spPr>
            <a:xfrm>
              <a:off x="6583320" y="5925960"/>
              <a:ext cx="1660680" cy="2412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516720" y="551664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0128"/>
                  </a:solidFill>
                  <a:latin typeface="Tahoma"/>
                </a:rPr>
                <a:t>resta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500"/>
                            </p:stCondLst>
                            <p:childTnLst>
                              <p:par>
                                <p:cTn id="8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1000"/>
                            </p:stCondLst>
                            <p:childTnLst>
                              <p:par>
                                <p:cTn id="8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1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500"/>
                            </p:stCondLst>
                            <p:childTnLst>
                              <p:par>
                                <p:cTn id="9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500"/>
                            </p:stCondLst>
                            <p:childTnLst>
                              <p:par>
                                <p:cTn id="9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500"/>
                            </p:stCondLst>
                            <p:childTnLst>
                              <p:par>
                                <p:cTn id="9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500"/>
                            </p:stCondLst>
                            <p:childTnLst>
                              <p:par>
                                <p:cTn id="93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3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00"/>
                            </p:stCondLst>
                            <p:childTnLst>
                              <p:par>
                                <p:cTn id="9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ool of free fram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4725360" y="1992240"/>
            <a:ext cx="1180080" cy="2890440"/>
            <a:chOff x="4725360" y="1992240"/>
            <a:chExt cx="1180080" cy="2890440"/>
          </a:xfrm>
        </p:grpSpPr>
        <p:sp>
          <p:nvSpPr>
            <p:cNvPr id="562" name=""/>
            <p:cNvSpPr/>
            <p:nvPr/>
          </p:nvSpPr>
          <p:spPr>
            <a:xfrm>
              <a:off x="5005440" y="234936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005440" y="2711520"/>
              <a:ext cx="900000" cy="36036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005440" y="1992240"/>
              <a:ext cx="900000" cy="36036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05440" y="3778200"/>
              <a:ext cx="900000" cy="36036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005440" y="413244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005440" y="343044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003640" y="3068640"/>
              <a:ext cx="900360" cy="36036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fr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003640" y="4492800"/>
              <a:ext cx="900360" cy="36036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fr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25360" y="2034360"/>
              <a:ext cx="307080" cy="284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03640" y="2354400"/>
              <a:ext cx="90036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003640" y="3432240"/>
              <a:ext cx="90036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003640" y="4135320"/>
              <a:ext cx="90036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6934320" y="2057400"/>
            <a:ext cx="1218960" cy="2743200"/>
            <a:chOff x="6934320" y="2057400"/>
            <a:chExt cx="1218960" cy="2743200"/>
          </a:xfrm>
        </p:grpSpPr>
        <p:sp>
          <p:nvSpPr>
            <p:cNvPr id="575" name=""/>
            <p:cNvSpPr/>
            <p:nvPr/>
          </p:nvSpPr>
          <p:spPr>
            <a:xfrm>
              <a:off x="6934320" y="2057400"/>
              <a:ext cx="1218960" cy="2743200"/>
            </a:xfrm>
            <a:prstGeom prst="can">
              <a:avLst>
                <a:gd name="adj" fmla="val 19814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086600" y="324792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086600" y="419112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086600" y="373392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5000760" y="2354400"/>
            <a:ext cx="900000" cy="36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000760" y="306216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5091840" y="1523880"/>
            <a:ext cx="3608640" cy="1708920"/>
            <a:chOff x="5091840" y="1523880"/>
            <a:chExt cx="3608640" cy="1708920"/>
          </a:xfrm>
        </p:grpSpPr>
        <p:sp>
          <p:nvSpPr>
            <p:cNvPr id="582" name=""/>
            <p:cNvSpPr/>
            <p:nvPr/>
          </p:nvSpPr>
          <p:spPr>
            <a:xfrm flipV="1" rot="976800">
              <a:off x="5105160" y="2133360"/>
              <a:ext cx="3581280" cy="609480"/>
            </a:xfrm>
            <a:custGeom>
              <a:avLst/>
              <a:gdLst>
                <a:gd name="textAreaLeft" fmla="*/ 626760 w 3581280"/>
                <a:gd name="textAreaRight" fmla="*/ 2596680 w 358128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477120" y="152388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5000760" y="2355840"/>
            <a:ext cx="90000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879080" y="4876920"/>
            <a:ext cx="34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ith pool of free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4374360" y="3081600"/>
            <a:ext cx="3671640" cy="1825560"/>
            <a:chOff x="4374360" y="3081600"/>
            <a:chExt cx="3671640" cy="1825560"/>
          </a:xfrm>
        </p:grpSpPr>
        <p:sp>
          <p:nvSpPr>
            <p:cNvPr id="587" name=""/>
            <p:cNvSpPr/>
            <p:nvPr/>
          </p:nvSpPr>
          <p:spPr>
            <a:xfrm flipH="1" rot="995400">
              <a:off x="4419000" y="3575160"/>
              <a:ext cx="3581280" cy="838080"/>
            </a:xfrm>
            <a:custGeom>
              <a:avLst/>
              <a:gdLst>
                <a:gd name="textAreaLeft" fmla="*/ 626760 w 3581280"/>
                <a:gd name="textAreaRight" fmla="*/ 2596680 w 3581280"/>
                <a:gd name="textAreaTop" fmla="*/ 112320 h 838080"/>
                <a:gd name="textAreaBottom" fmla="*/ 7257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9600">
              <a:off x="6248520" y="3879360"/>
              <a:ext cx="468360" cy="46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7543800" y="1418760"/>
            <a:ext cx="1012680" cy="1269360"/>
          </a:xfrm>
          <a:prstGeom prst="lightningBolt">
            <a:avLst/>
          </a:prstGeom>
          <a:solidFill>
            <a:srgbClr val="fe7c92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086600" y="274320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6588000" y="5157720"/>
            <a:ext cx="1656000" cy="459720"/>
            <a:chOff x="6588000" y="5157720"/>
            <a:chExt cx="1656000" cy="459720"/>
          </a:xfrm>
        </p:grpSpPr>
        <p:sp>
          <p:nvSpPr>
            <p:cNvPr id="592" name=""/>
            <p:cNvSpPr/>
            <p:nvPr/>
          </p:nvSpPr>
          <p:spPr>
            <a:xfrm>
              <a:off x="6588000" y="5589720"/>
              <a:ext cx="1656000" cy="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776640" y="5157720"/>
              <a:ext cx="9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ahoma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4" name=""/>
          <p:cNvSpPr/>
          <p:nvPr/>
        </p:nvSpPr>
        <p:spPr>
          <a:xfrm>
            <a:off x="6588000" y="5516640"/>
            <a:ext cx="0" cy="433440"/>
          </a:xfrm>
          <a:prstGeom prst="line">
            <a:avLst/>
          </a:prstGeom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4859280" y="5492880"/>
            <a:ext cx="1728720" cy="459720"/>
            <a:chOff x="4859280" y="5492880"/>
            <a:chExt cx="1728720" cy="459720"/>
          </a:xfrm>
        </p:grpSpPr>
        <p:sp>
          <p:nvSpPr>
            <p:cNvPr id="596" name=""/>
            <p:cNvSpPr/>
            <p:nvPr/>
          </p:nvSpPr>
          <p:spPr>
            <a:xfrm>
              <a:off x="4859280" y="5950080"/>
              <a:ext cx="1728720" cy="0"/>
            </a:xfrm>
            <a:prstGeom prst="line">
              <a:avLst/>
            </a:prstGeom>
            <a:ln w="38160">
              <a:solidFill>
                <a:srgbClr val="b3b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55560" y="5492880"/>
              <a:ext cx="83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3b900"/>
                  </a:solidFill>
                  <a:latin typeface="Tahoma"/>
                </a:rPr>
                <a:t>re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6516720" y="5516640"/>
            <a:ext cx="1727280" cy="459720"/>
            <a:chOff x="6516720" y="5516640"/>
            <a:chExt cx="1727280" cy="459720"/>
          </a:xfrm>
        </p:grpSpPr>
        <p:sp>
          <p:nvSpPr>
            <p:cNvPr id="599" name=""/>
            <p:cNvSpPr/>
            <p:nvPr/>
          </p:nvSpPr>
          <p:spPr>
            <a:xfrm>
              <a:off x="6583320" y="5925960"/>
              <a:ext cx="1660680" cy="2412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516720" y="551664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0128"/>
                  </a:solidFill>
                  <a:latin typeface="Tahoma"/>
                </a:rPr>
                <a:t>resta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610560" y="1968480"/>
            <a:ext cx="1180080" cy="2890440"/>
            <a:chOff x="610560" y="1968480"/>
            <a:chExt cx="1180080" cy="2890440"/>
          </a:xfrm>
        </p:grpSpPr>
        <p:sp>
          <p:nvSpPr>
            <p:cNvPr id="602" name=""/>
            <p:cNvSpPr/>
            <p:nvPr/>
          </p:nvSpPr>
          <p:spPr>
            <a:xfrm>
              <a:off x="890640" y="232560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90640" y="2687760"/>
              <a:ext cx="900000" cy="36036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90640" y="1968480"/>
              <a:ext cx="900000" cy="36036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90640" y="3754440"/>
              <a:ext cx="900000" cy="36036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90640" y="410868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90640" y="340668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88840" y="3044880"/>
              <a:ext cx="900360" cy="36036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fr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88840" y="4469040"/>
              <a:ext cx="900360" cy="36036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fr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10560" y="2010600"/>
              <a:ext cx="307080" cy="284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88840" y="2330640"/>
              <a:ext cx="90036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88840" y="3408480"/>
              <a:ext cx="90036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88840" y="4111560"/>
              <a:ext cx="90036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2819520" y="2033640"/>
            <a:ext cx="1218960" cy="2743200"/>
            <a:chOff x="2819520" y="2033640"/>
            <a:chExt cx="1218960" cy="2743200"/>
          </a:xfrm>
        </p:grpSpPr>
        <p:sp>
          <p:nvSpPr>
            <p:cNvPr id="615" name=""/>
            <p:cNvSpPr/>
            <p:nvPr/>
          </p:nvSpPr>
          <p:spPr>
            <a:xfrm>
              <a:off x="2819520" y="2033640"/>
              <a:ext cx="1218960" cy="2743200"/>
            </a:xfrm>
            <a:prstGeom prst="can">
              <a:avLst>
                <a:gd name="adj" fmla="val 19814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971800" y="322416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971800" y="416736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971800" y="371016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885960" y="2330280"/>
            <a:ext cx="900000" cy="360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885960" y="303840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977040" y="1500120"/>
            <a:ext cx="3608640" cy="1708920"/>
            <a:chOff x="977040" y="1500120"/>
            <a:chExt cx="3608640" cy="1708920"/>
          </a:xfrm>
        </p:grpSpPr>
        <p:sp>
          <p:nvSpPr>
            <p:cNvPr id="622" name=""/>
            <p:cNvSpPr/>
            <p:nvPr/>
          </p:nvSpPr>
          <p:spPr>
            <a:xfrm flipV="1" rot="976800">
              <a:off x="990360" y="2109600"/>
              <a:ext cx="3581280" cy="609480"/>
            </a:xfrm>
            <a:custGeom>
              <a:avLst/>
              <a:gdLst>
                <a:gd name="textAreaLeft" fmla="*/ 626760 w 3581280"/>
                <a:gd name="textAreaRight" fmla="*/ 2596680 w 358128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362320" y="150012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885960" y="2332080"/>
            <a:ext cx="90000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40720" y="4853160"/>
            <a:ext cx="39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ool + Remember Cont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rot="9600">
            <a:off x="1908000" y="3212640"/>
            <a:ext cx="468360" cy="46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429000" y="1395000"/>
            <a:ext cx="1012680" cy="1269360"/>
          </a:xfrm>
          <a:prstGeom prst="lightningBolt">
            <a:avLst/>
          </a:prstGeom>
          <a:solidFill>
            <a:srgbClr val="fe7c92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971800" y="271944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684360" y="5133960"/>
            <a:ext cx="1655640" cy="459720"/>
            <a:chOff x="684360" y="5133960"/>
            <a:chExt cx="1655640" cy="459720"/>
          </a:xfrm>
        </p:grpSpPr>
        <p:sp>
          <p:nvSpPr>
            <p:cNvPr id="630" name=""/>
            <p:cNvSpPr/>
            <p:nvPr/>
          </p:nvSpPr>
          <p:spPr>
            <a:xfrm>
              <a:off x="684360" y="5565960"/>
              <a:ext cx="1655640" cy="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72280" y="5133960"/>
              <a:ext cx="9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ahoma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682560" y="5492880"/>
            <a:ext cx="0" cy="433080"/>
          </a:xfrm>
          <a:prstGeom prst="line">
            <a:avLst/>
          </a:prstGeom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611280" y="5492880"/>
            <a:ext cx="1727280" cy="459720"/>
            <a:chOff x="611280" y="5492880"/>
            <a:chExt cx="1727280" cy="459720"/>
          </a:xfrm>
        </p:grpSpPr>
        <p:sp>
          <p:nvSpPr>
            <p:cNvPr id="634" name=""/>
            <p:cNvSpPr/>
            <p:nvPr/>
          </p:nvSpPr>
          <p:spPr>
            <a:xfrm>
              <a:off x="677880" y="5902200"/>
              <a:ext cx="1660680" cy="2412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11280" y="54928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0128"/>
                  </a:solidFill>
                  <a:latin typeface="Tahoma"/>
                </a:rPr>
                <a:t>resta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1763640" y="2205000"/>
            <a:ext cx="1368360" cy="936720"/>
          </a:xfrm>
          <a:prstGeom prst="cloudCallout">
            <a:avLst>
              <a:gd name="adj1" fmla="val -54175"/>
              <a:gd name="adj2" fmla="val 57458"/>
            </a:avLst>
          </a:prstGeom>
          <a:solidFill>
            <a:srgbClr val="fafd00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763640" y="3645000"/>
            <a:ext cx="1368360" cy="936360"/>
          </a:xfrm>
          <a:prstGeom prst="cloudCallout">
            <a:avLst>
              <a:gd name="adj1" fmla="val -54175"/>
              <a:gd name="adj2" fmla="val 57458"/>
            </a:avLst>
          </a:prstGeom>
          <a:solidFill>
            <a:srgbClr val="fafd00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763640" y="1341360"/>
            <a:ext cx="1368360" cy="936720"/>
          </a:xfrm>
          <a:prstGeom prst="cloudCallout">
            <a:avLst>
              <a:gd name="adj1" fmla="val -54175"/>
              <a:gd name="adj2" fmla="val 57458"/>
            </a:avLst>
          </a:prstGeom>
          <a:solidFill>
            <a:srgbClr val="fafd00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0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500"/>
                            </p:stCondLst>
                            <p:childTnLst>
                              <p:par>
                                <p:cTn id="9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500"/>
                            </p:stCondLst>
                            <p:childTnLst>
                              <p:par>
                                <p:cTn id="10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22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500"/>
                            </p:stCondLst>
                            <p:childTnLst>
                              <p:par>
                                <p:cTn id="10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ist of modified fram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ging device id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rite page to dis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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ability (victim = clean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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emand Pag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age Replace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Essential for Virtual Memory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| Process | &gt; | Memory |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ever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I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PT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R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pproximations of LR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ounting Algorithms MFU, LF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5105520" y="3505320"/>
            <a:ext cx="2666880" cy="990360"/>
          </a:xfrm>
          <a:custGeom>
            <a:avLst/>
            <a:gdLst>
              <a:gd name="textAreaLeft" fmla="*/ 666720 w 2666880"/>
              <a:gd name="textAreaRight" fmla="*/ 2000160 w 2666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Low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F-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0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5" dur="500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0" dur="500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5" dur="500"/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8" dur="500"/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1" dur="500"/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4" dur="500"/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7" dur="500"/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0" dur="500"/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age Replace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eference St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| Frame | = 1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279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279f"/>
                </a:solidFill>
                <a:uFillTx/>
                <a:latin typeface="Tahoma"/>
              </a:rPr>
              <a:t>7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03 </a:t>
            </a:r>
            <a:r>
              <a:rPr b="0" lang="nl-BE" sz="2400" spc="-1" strike="noStrike" u="sng">
                <a:solidFill>
                  <a:srgbClr val="00279f"/>
                </a:solidFill>
                <a:uFillTx/>
                <a:latin typeface="Tahoma"/>
              </a:rPr>
              <a:t>0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00 </a:t>
            </a:r>
            <a:r>
              <a:rPr b="0" lang="nl-BE" sz="2400" spc="-1" strike="noStrike" u="sng">
                <a:solidFill>
                  <a:srgbClr val="00279f"/>
                </a:solidFill>
                <a:uFillTx/>
                <a:latin typeface="Tahoma"/>
              </a:rPr>
              <a:t>1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33 </a:t>
            </a:r>
            <a:r>
              <a:rPr b="0" lang="nl-BE" sz="2400" spc="-1" strike="noStrike" u="sng">
                <a:solidFill>
                  <a:srgbClr val="00279f"/>
                </a:solidFill>
                <a:uFillTx/>
                <a:latin typeface="Tahoma"/>
              </a:rPr>
              <a:t>1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34 </a:t>
            </a:r>
            <a:r>
              <a:rPr b="0" lang="nl-BE" sz="2400" spc="-1" strike="noStrike" u="sng">
                <a:solidFill>
                  <a:srgbClr val="00279f"/>
                </a:solidFill>
                <a:uFillTx/>
                <a:latin typeface="Tahoma"/>
              </a:rPr>
              <a:t>2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34 </a:t>
            </a:r>
            <a:r>
              <a:rPr b="0" lang="nl-BE" sz="2400" spc="-1" strike="noStrike" u="sng">
                <a:solidFill>
                  <a:srgbClr val="00279f"/>
                </a:solidFill>
                <a:uFillTx/>
                <a:latin typeface="Tahoma"/>
              </a:rPr>
              <a:t>0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02 </a:t>
            </a:r>
            <a:r>
              <a:rPr b="0" lang="nl-BE" sz="2400" spc="-1" strike="noStrike" u="sng">
                <a:solidFill>
                  <a:srgbClr val="00279f"/>
                </a:solidFill>
                <a:uFillTx/>
                <a:latin typeface="Tahoma"/>
              </a:rPr>
              <a:t>3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87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impl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nly page nu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7 0 </a:t>
            </a:r>
            <a:r>
              <a:rPr b="0" lang="nl-BE" sz="2400" spc="-1" strike="noStrike" u="sng">
                <a:solidFill>
                  <a:srgbClr val="00279f"/>
                </a:solidFill>
                <a:uFillTx/>
                <a:latin typeface="Tahoma"/>
              </a:rPr>
              <a:t>1 1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2 0 3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 p </a:t>
            </a:r>
            <a:r>
              <a:rPr b="0" lang="nl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7 0 1 2 0 3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5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8" dur="50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1" dur="500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6" dur="500"/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9" dur="500"/>
                                        <p:tgtEl>
                                          <p:spTgt spid="6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2" dur="500"/>
                                        <p:tgtEl>
                                          <p:spTgt spid="6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7" dur="500"/>
                                        <p:tgtEl>
                                          <p:spTgt spid="6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0" dur="500"/>
                                        <p:tgtEl>
                                          <p:spTgt spid="6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age Replace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ure Demand Pa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Never bring page in Memory until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Number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1736640" y="320040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584360" y="6019920"/>
            <a:ext cx="5943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377320" y="5569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#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1143720" y="3429000"/>
            <a:ext cx="606960" cy="23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# Page Fa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736640" y="5181480"/>
            <a:ext cx="5562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65240" y="3505320"/>
            <a:ext cx="4206960" cy="1676160"/>
          </a:xfrm>
          <a:custGeom>
            <a:avLst/>
            <a:gdLst/>
            <a:ahLst/>
            <a:rect l="l" t="t" r="r" b="b"/>
            <a:pathLst>
              <a:path w="2688" h="1064">
                <a:moveTo>
                  <a:pt x="0" y="0"/>
                </a:moveTo>
                <a:cubicBezTo>
                  <a:pt x="36" y="172"/>
                  <a:pt x="72" y="344"/>
                  <a:pt x="144" y="480"/>
                </a:cubicBezTo>
                <a:cubicBezTo>
                  <a:pt x="216" y="616"/>
                  <a:pt x="280" y="728"/>
                  <a:pt x="432" y="816"/>
                </a:cubicBezTo>
                <a:cubicBezTo>
                  <a:pt x="584" y="904"/>
                  <a:pt x="824" y="968"/>
                  <a:pt x="1056" y="1008"/>
                </a:cubicBezTo>
                <a:cubicBezTo>
                  <a:pt x="1288" y="1048"/>
                  <a:pt x="1552" y="1048"/>
                  <a:pt x="1824" y="1056"/>
                </a:cubicBezTo>
                <a:cubicBezTo>
                  <a:pt x="2096" y="1064"/>
                  <a:pt x="2392" y="1060"/>
                  <a:pt x="2688" y="1056"/>
                </a:cubicBezTo>
              </a:path>
            </a:pathLst>
          </a:custGeom>
          <a:noFill/>
          <a:ln w="7632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438880" y="3280320"/>
            <a:ext cx="1547640" cy="703800"/>
          </a:xfrm>
          <a:prstGeom prst="borderCallout1">
            <a:avLst>
              <a:gd name="adj1" fmla="val 18750"/>
              <a:gd name="adj2" fmla="val -8333"/>
              <a:gd name="adj3" fmla="val 271879"/>
              <a:gd name="adj4" fmla="val -51810"/>
            </a:avLst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# different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s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4648320" y="44953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7" dur="5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0" dur="500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5" dur="500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13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3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2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1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5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Virtual Memo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Demand Pa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on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Hardware, Restri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age Replac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Thras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FIF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irst In, First 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ictim = Longest in Mem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685800" y="327024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85800" y="4336920"/>
            <a:ext cx="53964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85800" y="3803760"/>
            <a:ext cx="53964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95280" y="3270240"/>
            <a:ext cx="54000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295280" y="4336920"/>
            <a:ext cx="54000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295280" y="3803760"/>
            <a:ext cx="54000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905120" y="327024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905120" y="4336920"/>
            <a:ext cx="539640" cy="54000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905120" y="380376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514600" y="327024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514600" y="4336920"/>
            <a:ext cx="53964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514600" y="380376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24080" y="3270240"/>
            <a:ext cx="54000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124080" y="4336920"/>
            <a:ext cx="54000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124080" y="3803760"/>
            <a:ext cx="54000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733920" y="327024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733920" y="4336920"/>
            <a:ext cx="539640" cy="54000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733920" y="380376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343400" y="327024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343400" y="4336920"/>
            <a:ext cx="539640" cy="54000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343400" y="380376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952880" y="3270240"/>
            <a:ext cx="54000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52880" y="4336920"/>
            <a:ext cx="54000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952880" y="3803760"/>
            <a:ext cx="54000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562720" y="327024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562720" y="4336920"/>
            <a:ext cx="539640" cy="54000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562720" y="380376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172200" y="327024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172200" y="4336920"/>
            <a:ext cx="539640" cy="54000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172200" y="380376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781680" y="3270240"/>
            <a:ext cx="54000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781680" y="4336920"/>
            <a:ext cx="54000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781680" y="3803760"/>
            <a:ext cx="54000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391520" y="327024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391520" y="4336920"/>
            <a:ext cx="53964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391520" y="380376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8001000" y="327024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001000" y="4336920"/>
            <a:ext cx="539640" cy="54000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8001000" y="380376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457200" y="2736720"/>
            <a:ext cx="7854840" cy="540000"/>
            <a:chOff x="457200" y="2736720"/>
            <a:chExt cx="7854840" cy="540000"/>
          </a:xfrm>
        </p:grpSpPr>
        <p:sp>
          <p:nvSpPr>
            <p:cNvPr id="698" name=""/>
            <p:cNvSpPr/>
            <p:nvPr/>
          </p:nvSpPr>
          <p:spPr>
            <a:xfrm>
              <a:off x="4572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066680" y="2736720"/>
              <a:ext cx="54000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67652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2860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95480" y="2736720"/>
              <a:ext cx="54000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50532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148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724280" y="2736720"/>
              <a:ext cx="54000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33412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9436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553080" y="2736720"/>
              <a:ext cx="54000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16292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7724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762120" y="2590920"/>
            <a:ext cx="30456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37160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98108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90920" y="2590920"/>
            <a:ext cx="30456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80988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419720" y="2590920"/>
            <a:ext cx="30456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02920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63868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248520" y="2590920"/>
            <a:ext cx="30456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85800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7320" y="2590920"/>
            <a:ext cx="30456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1143000" y="5562720"/>
            <a:ext cx="4002120" cy="539640"/>
            <a:chOff x="1143000" y="5562720"/>
            <a:chExt cx="4002120" cy="539640"/>
          </a:xfrm>
        </p:grpSpPr>
        <p:sp>
          <p:nvSpPr>
            <p:cNvPr id="723" name=""/>
            <p:cNvSpPr/>
            <p:nvPr/>
          </p:nvSpPr>
          <p:spPr>
            <a:xfrm>
              <a:off x="1143000" y="5562720"/>
              <a:ext cx="1258920" cy="53964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young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514600" y="5562720"/>
              <a:ext cx="1258920" cy="53964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old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886200" y="5562720"/>
              <a:ext cx="1258920" cy="539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midd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2482920" y="4724280"/>
            <a:ext cx="6095880" cy="1145520"/>
            <a:chOff x="2482920" y="4724280"/>
            <a:chExt cx="6095880" cy="1145520"/>
          </a:xfrm>
        </p:grpSpPr>
        <p:sp>
          <p:nvSpPr>
            <p:cNvPr id="727" name=""/>
            <p:cNvSpPr/>
            <p:nvPr/>
          </p:nvSpPr>
          <p:spPr>
            <a:xfrm>
              <a:off x="2482920" y="472428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482920" y="5181480"/>
              <a:ext cx="6095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593040" y="5349240"/>
              <a:ext cx="182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800" spc="-1" strike="noStrike">
                  <a:solidFill>
                    <a:srgbClr val="000000"/>
                  </a:solidFill>
                  <a:latin typeface="Tahoma"/>
                </a:rPr>
                <a:t>FIFO: 8 P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6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500"/>
                            </p:stCondLst>
                            <p:childTnLst>
                              <p:par>
                                <p:cTn id="1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500"/>
                            </p:stCondLst>
                            <p:childTnLst>
                              <p:par>
                                <p:cTn id="1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500"/>
                            </p:stCondLst>
                            <p:childTnLst>
                              <p:par>
                                <p:cTn id="1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500"/>
                            </p:stCondLst>
                            <p:childTnLst>
                              <p:par>
                                <p:cTn id="1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500"/>
                            </p:stCondLst>
                            <p:childTnLst>
                              <p:par>
                                <p:cTn id="1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500"/>
                            </p:stCondLst>
                            <p:childTnLst>
                              <p:par>
                                <p:cTn id="1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500"/>
                            </p:stCondLst>
                            <p:childTnLst>
                              <p:par>
                                <p:cTn id="1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500"/>
                            </p:stCondLst>
                            <p:childTnLst>
                              <p:par>
                                <p:cTn id="1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500"/>
                            </p:stCondLst>
                            <p:childTnLst>
                              <p:par>
                                <p:cTn id="1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500"/>
                            </p:stCondLst>
                            <p:childTnLst>
                              <p:par>
                                <p:cTn id="1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500"/>
                            </p:stCondLst>
                            <p:childTnLst>
                              <p:par>
                                <p:cTn id="1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FIF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Easy to impl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Not opti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ometimes bad 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Anomaly of Bela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More frames but More P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"/>
          <p:cNvSpPr/>
          <p:nvPr/>
        </p:nvSpPr>
        <p:spPr>
          <a:xfrm>
            <a:off x="2340000" y="4470480"/>
            <a:ext cx="0" cy="1604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227320" y="5954760"/>
            <a:ext cx="4402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033520" y="556164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# fr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1883160" y="4359960"/>
            <a:ext cx="485280" cy="16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# Page Fa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340000" y="5513400"/>
            <a:ext cx="4119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666880" y="4419720"/>
            <a:ext cx="2895840" cy="1143000"/>
          </a:xfrm>
          <a:custGeom>
            <a:avLst/>
            <a:gdLst/>
            <a:ahLst/>
            <a:rect l="l" t="t" r="r" b="b"/>
            <a:pathLst>
              <a:path w="1824" h="720">
                <a:moveTo>
                  <a:pt x="0" y="0"/>
                </a:moveTo>
                <a:cubicBezTo>
                  <a:pt x="104" y="188"/>
                  <a:pt x="208" y="376"/>
                  <a:pt x="288" y="432"/>
                </a:cubicBezTo>
                <a:cubicBezTo>
                  <a:pt x="368" y="488"/>
                  <a:pt x="408" y="328"/>
                  <a:pt x="480" y="336"/>
                </a:cubicBezTo>
                <a:cubicBezTo>
                  <a:pt x="552" y="344"/>
                  <a:pt x="592" y="424"/>
                  <a:pt x="720" y="480"/>
                </a:cubicBezTo>
                <a:cubicBezTo>
                  <a:pt x="848" y="536"/>
                  <a:pt x="1064" y="632"/>
                  <a:pt x="1248" y="672"/>
                </a:cubicBezTo>
                <a:cubicBezTo>
                  <a:pt x="1432" y="712"/>
                  <a:pt x="1628" y="716"/>
                  <a:pt x="1824" y="720"/>
                </a:cubicBezTo>
              </a:path>
            </a:pathLst>
          </a:custGeom>
          <a:noFill/>
          <a:ln w="7632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895480" y="4572000"/>
            <a:ext cx="990720" cy="914400"/>
          </a:xfrm>
          <a:prstGeom prst="ellipse">
            <a:avLst/>
          </a:prstGeom>
          <a:noFill/>
          <a:ln w="7632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5" dur="500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0" dur="500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3" dur="500"/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8" dur="500"/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1" dur="500"/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6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500"/>
                            </p:stCondLst>
                            <p:childTnLst>
                              <p:par>
                                <p:cTn id="142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3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2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6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Optim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ictim = Page that will not be used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or longest perio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>
            <a:off x="685800" y="327024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85800" y="4336920"/>
            <a:ext cx="53964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85800" y="3803760"/>
            <a:ext cx="53964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295280" y="3270240"/>
            <a:ext cx="54000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95280" y="4336920"/>
            <a:ext cx="54000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295280" y="3803760"/>
            <a:ext cx="54000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905120" y="327024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905120" y="4336920"/>
            <a:ext cx="539640" cy="54000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905120" y="380376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514600" y="327024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514600" y="4336920"/>
            <a:ext cx="53964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514600" y="380376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124080" y="3270240"/>
            <a:ext cx="54000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124080" y="4336920"/>
            <a:ext cx="54000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124080" y="3803760"/>
            <a:ext cx="54000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733920" y="327024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733920" y="4336920"/>
            <a:ext cx="53964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733920" y="380376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343400" y="327024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343400" y="4336920"/>
            <a:ext cx="539640" cy="54000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343400" y="380376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952880" y="3270240"/>
            <a:ext cx="54000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952880" y="4336920"/>
            <a:ext cx="540000" cy="54000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952880" y="3803760"/>
            <a:ext cx="54000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562720" y="327024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562720" y="4336920"/>
            <a:ext cx="539640" cy="54000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62720" y="380376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172200" y="327024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172200" y="4336920"/>
            <a:ext cx="539640" cy="54000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172200" y="380376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781680" y="3270240"/>
            <a:ext cx="54000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781680" y="4336920"/>
            <a:ext cx="540000" cy="54000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781680" y="3803760"/>
            <a:ext cx="54000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391520" y="327024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391520" y="4336920"/>
            <a:ext cx="539640" cy="54000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391520" y="380376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8001000" y="327024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8001000" y="4336920"/>
            <a:ext cx="539640" cy="54000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8001000" y="380376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457200" y="2736720"/>
            <a:ext cx="7854840" cy="540000"/>
            <a:chOff x="457200" y="2736720"/>
            <a:chExt cx="7854840" cy="540000"/>
          </a:xfrm>
        </p:grpSpPr>
        <p:sp>
          <p:nvSpPr>
            <p:cNvPr id="781" name=""/>
            <p:cNvSpPr/>
            <p:nvPr/>
          </p:nvSpPr>
          <p:spPr>
            <a:xfrm>
              <a:off x="4572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066680" y="2736720"/>
              <a:ext cx="54000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67652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2860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895480" y="2736720"/>
              <a:ext cx="54000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50532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1148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724280" y="2736720"/>
              <a:ext cx="54000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33412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9436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553080" y="2736720"/>
              <a:ext cx="54000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16292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7724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762120" y="2590920"/>
            <a:ext cx="30456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37160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98108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590920" y="2590920"/>
            <a:ext cx="30456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80988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02920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85800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8077320" y="2590920"/>
            <a:ext cx="30456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1143000" y="5562720"/>
            <a:ext cx="4687920" cy="539640"/>
            <a:chOff x="1143000" y="5562720"/>
            <a:chExt cx="4687920" cy="539640"/>
          </a:xfrm>
        </p:grpSpPr>
        <p:sp>
          <p:nvSpPr>
            <p:cNvPr id="803" name=""/>
            <p:cNvSpPr/>
            <p:nvPr/>
          </p:nvSpPr>
          <p:spPr>
            <a:xfrm>
              <a:off x="1143000" y="5562720"/>
              <a:ext cx="1440000" cy="53964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near fu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895480" y="5562720"/>
              <a:ext cx="1440000" cy="53964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far fu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72000" y="5562720"/>
              <a:ext cx="1258920" cy="539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ot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2482920" y="4724280"/>
            <a:ext cx="6095520" cy="1145520"/>
            <a:chOff x="2482920" y="4724280"/>
            <a:chExt cx="6095520" cy="1145520"/>
          </a:xfrm>
        </p:grpSpPr>
        <p:grpSp>
          <p:nvGrpSpPr>
            <p:cNvPr id="807" name=""/>
            <p:cNvGrpSpPr/>
            <p:nvPr/>
          </p:nvGrpSpPr>
          <p:grpSpPr>
            <a:xfrm>
              <a:off x="2482920" y="4724280"/>
              <a:ext cx="6095520" cy="457200"/>
              <a:chOff x="2482920" y="4724280"/>
              <a:chExt cx="6095520" cy="457200"/>
            </a:xfrm>
          </p:grpSpPr>
          <p:sp>
            <p:nvSpPr>
              <p:cNvPr id="808" name=""/>
              <p:cNvSpPr/>
              <p:nvPr/>
            </p:nvSpPr>
            <p:spPr>
              <a:xfrm>
                <a:off x="2482920" y="4724280"/>
                <a:ext cx="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482920" y="5181480"/>
                <a:ext cx="6095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0" name=""/>
            <p:cNvSpPr/>
            <p:nvPr/>
          </p:nvSpPr>
          <p:spPr>
            <a:xfrm>
              <a:off x="6632640" y="5349240"/>
              <a:ext cx="175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800" spc="-1" strike="noStrike">
                  <a:solidFill>
                    <a:srgbClr val="000000"/>
                  </a:solidFill>
                  <a:latin typeface="Tahoma"/>
                </a:rPr>
                <a:t>OPT: 5 P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2" dur="indefinite" restart="never" nodeType="tmRoot">
          <p:childTnLst>
            <p:seq>
              <p:cTn id="1453" dur="indefinite" nodeType="mainSeq">
                <p:childTnLst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8" dur="500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3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4" fill="hold">
                            <p:stCondLst>
                              <p:cond delay="500"/>
                            </p:stCondLst>
                            <p:childTnLst>
                              <p:par>
                                <p:cTn id="14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7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500"/>
                            </p:stCondLst>
                            <p:childTnLst>
                              <p:par>
                                <p:cTn id="1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500"/>
                            </p:stCondLst>
                            <p:childTnLst>
                              <p:par>
                                <p:cTn id="1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500"/>
                            </p:stCondLst>
                            <p:childTnLst>
                              <p:par>
                                <p:cTn id="15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fill="hold">
                            <p:stCondLst>
                              <p:cond delay="500"/>
                            </p:stCondLst>
                            <p:childTnLst>
                              <p:par>
                                <p:cTn id="1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500"/>
                            </p:stCondLst>
                            <p:childTnLst>
                              <p:par>
                                <p:cTn id="15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fill="hold">
                            <p:stCondLst>
                              <p:cond delay="500"/>
                            </p:stCondLst>
                            <p:childTnLst>
                              <p:par>
                                <p:cTn id="15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500"/>
                            </p:stCondLst>
                            <p:childTnLst>
                              <p:par>
                                <p:cTn id="16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fill="hold">
                            <p:stCondLst>
                              <p:cond delay="500"/>
                            </p:stCondLst>
                            <p:childTnLst>
                              <p:par>
                                <p:cTn id="16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8" fill="hold">
                            <p:stCondLst>
                              <p:cond delay="500"/>
                            </p:stCondLst>
                            <p:childTnLst>
                              <p:par>
                                <p:cTn id="16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Optim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mplement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Use as Refer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7" dur="indefinite" restart="never" nodeType="tmRoot">
          <p:childTnLst>
            <p:seq>
              <p:cTn id="1668" dur="indefinite" nodeType="mainSeq">
                <p:childTnLst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3" dur="500"/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6" dur="500"/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1" dur="500"/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LRU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ictim = Page that has not been used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or longest perio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685800" y="327024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85800" y="4336920"/>
            <a:ext cx="53964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85800" y="3803760"/>
            <a:ext cx="53964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295280" y="3270240"/>
            <a:ext cx="54000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295280" y="4336920"/>
            <a:ext cx="54000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295280" y="3803760"/>
            <a:ext cx="54000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905120" y="327024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905120" y="4336920"/>
            <a:ext cx="539640" cy="54000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905120" y="380376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514600" y="327024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514600" y="4336920"/>
            <a:ext cx="53964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514600" y="380376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124080" y="3270240"/>
            <a:ext cx="54000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124080" y="4336920"/>
            <a:ext cx="540000" cy="54000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124080" y="3803760"/>
            <a:ext cx="54000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733920" y="327024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733920" y="4336920"/>
            <a:ext cx="539640" cy="54000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733920" y="380376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343400" y="327024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343400" y="4336920"/>
            <a:ext cx="53964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343400" y="380376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952880" y="3270240"/>
            <a:ext cx="54000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952880" y="4336920"/>
            <a:ext cx="540000" cy="54000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952880" y="3803760"/>
            <a:ext cx="54000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562720" y="327024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562720" y="4336920"/>
            <a:ext cx="539640" cy="54000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562720" y="380376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172200" y="327024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172200" y="4336920"/>
            <a:ext cx="53964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172200" y="380376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781680" y="3270240"/>
            <a:ext cx="54000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781680" y="4336920"/>
            <a:ext cx="540000" cy="54000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781680" y="3803760"/>
            <a:ext cx="54000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391520" y="327024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391520" y="4336920"/>
            <a:ext cx="539640" cy="54000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391520" y="380376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8001000" y="327024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8001000" y="4336920"/>
            <a:ext cx="539640" cy="54000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8001000" y="380376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457200" y="2736720"/>
            <a:ext cx="7854840" cy="540000"/>
            <a:chOff x="457200" y="2736720"/>
            <a:chExt cx="7854840" cy="540000"/>
          </a:xfrm>
        </p:grpSpPr>
        <p:sp>
          <p:nvSpPr>
            <p:cNvPr id="855" name=""/>
            <p:cNvSpPr/>
            <p:nvPr/>
          </p:nvSpPr>
          <p:spPr>
            <a:xfrm>
              <a:off x="4572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066680" y="2736720"/>
              <a:ext cx="54000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67652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2860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895480" y="2736720"/>
              <a:ext cx="54000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50532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1148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724280" y="2736720"/>
              <a:ext cx="54000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33412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9436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553080" y="2736720"/>
              <a:ext cx="54000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16292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724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" name=""/>
          <p:cNvSpPr/>
          <p:nvPr/>
        </p:nvSpPr>
        <p:spPr>
          <a:xfrm>
            <a:off x="762120" y="2590920"/>
            <a:ext cx="30456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37160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98108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590920" y="2590920"/>
            <a:ext cx="30456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80988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02920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077320" y="2590920"/>
            <a:ext cx="30456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1143000" y="5562720"/>
            <a:ext cx="4687920" cy="539640"/>
            <a:chOff x="1143000" y="5562720"/>
            <a:chExt cx="4687920" cy="539640"/>
          </a:xfrm>
        </p:grpSpPr>
        <p:sp>
          <p:nvSpPr>
            <p:cNvPr id="877" name=""/>
            <p:cNvSpPr/>
            <p:nvPr/>
          </p:nvSpPr>
          <p:spPr>
            <a:xfrm>
              <a:off x="1143000" y="5562720"/>
              <a:ext cx="1619280" cy="53964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Recent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895480" y="5562720"/>
              <a:ext cx="1619280" cy="53964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Longest n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572000" y="5562720"/>
              <a:ext cx="1258920" cy="539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ot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2482920" y="4724280"/>
            <a:ext cx="6095520" cy="1145520"/>
            <a:chOff x="2482920" y="4724280"/>
            <a:chExt cx="6095520" cy="1145520"/>
          </a:xfrm>
        </p:grpSpPr>
        <p:grpSp>
          <p:nvGrpSpPr>
            <p:cNvPr id="881" name=""/>
            <p:cNvGrpSpPr/>
            <p:nvPr/>
          </p:nvGrpSpPr>
          <p:grpSpPr>
            <a:xfrm>
              <a:off x="2482920" y="4724280"/>
              <a:ext cx="6095520" cy="457200"/>
              <a:chOff x="2482920" y="4724280"/>
              <a:chExt cx="6095520" cy="457200"/>
            </a:xfrm>
          </p:grpSpPr>
          <p:sp>
            <p:nvSpPr>
              <p:cNvPr id="882" name=""/>
              <p:cNvSpPr/>
              <p:nvPr/>
            </p:nvSpPr>
            <p:spPr>
              <a:xfrm>
                <a:off x="2482920" y="4724280"/>
                <a:ext cx="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482920" y="5181480"/>
                <a:ext cx="6095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4" name=""/>
            <p:cNvSpPr/>
            <p:nvPr/>
          </p:nvSpPr>
          <p:spPr>
            <a:xfrm>
              <a:off x="6644160" y="5349240"/>
              <a:ext cx="17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800" spc="-1" strike="noStrike">
                  <a:solidFill>
                    <a:srgbClr val="000000"/>
                  </a:solidFill>
                  <a:latin typeface="Tahoma"/>
                </a:rPr>
                <a:t>LRU: 7 P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5" name=""/>
          <p:cNvSpPr/>
          <p:nvPr/>
        </p:nvSpPr>
        <p:spPr>
          <a:xfrm>
            <a:off x="563868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248520" y="2590920"/>
            <a:ext cx="30456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2" dur="indefinite" restart="never" nodeType="tmRoot">
          <p:childTnLst>
            <p:seq>
              <p:cTn id="1683" dur="indefinite" nodeType="mainSeq">
                <p:childTnLst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8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fill="hold">
                            <p:stCondLst>
                              <p:cond delay="500"/>
                            </p:stCondLst>
                            <p:childTnLst>
                              <p:par>
                                <p:cTn id="16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2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3" fill="hold">
                            <p:stCondLst>
                              <p:cond delay="500"/>
                            </p:stCondLst>
                            <p:childTnLst>
                              <p:par>
                                <p:cTn id="17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3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9" fill="hold">
                            <p:stCondLst>
                              <p:cond delay="500"/>
                            </p:stCondLst>
                            <p:childTnLst>
                              <p:par>
                                <p:cTn id="17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fill="hold">
                            <p:stCondLst>
                              <p:cond delay="500"/>
                            </p:stCondLst>
                            <p:childTnLst>
                              <p:par>
                                <p:cTn id="17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500"/>
                            </p:stCondLst>
                            <p:childTnLst>
                              <p:par>
                                <p:cTn id="17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1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7" fill="hold">
                            <p:stCondLst>
                              <p:cond delay="500"/>
                            </p:stCondLst>
                            <p:childTnLst>
                              <p:par>
                                <p:cTn id="17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fill="hold">
                            <p:stCondLst>
                              <p:cond delay="500"/>
                            </p:stCondLst>
                            <p:childTnLst>
                              <p:par>
                                <p:cTn id="18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9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1" fill="hold">
                      <p:stCondLst>
                        <p:cond delay="indefinite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5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500"/>
                            </p:stCondLst>
                            <p:childTnLst>
                              <p:par>
                                <p:cTn id="18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fill="hold">
                      <p:stCondLst>
                        <p:cond delay="indefinite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9" fill="hold">
                            <p:stCondLst>
                              <p:cond delay="500"/>
                            </p:stCondLst>
                            <p:childTnLst>
                              <p:par>
                                <p:cTn id="18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5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fill="hold">
                      <p:stCondLst>
                        <p:cond delay="indefinite"/>
                      </p:stCondLst>
                      <p:childTnLst>
                        <p:par>
                          <p:cTn id="1858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1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7" fill="hold">
                            <p:stCondLst>
                              <p:cond delay="500"/>
                            </p:stCondLst>
                            <p:childTnLst>
                              <p:par>
                                <p:cTn id="18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3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9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5" fill="hold">
                            <p:stCondLst>
                              <p:cond delay="500"/>
                            </p:stCondLst>
                            <p:childTnLst>
                              <p:par>
                                <p:cTn id="18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1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7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LRU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2741760" y="2682720"/>
            <a:ext cx="1800000" cy="1090800"/>
            <a:chOff x="2741760" y="2682720"/>
            <a:chExt cx="1800000" cy="1090800"/>
          </a:xfrm>
        </p:grpSpPr>
        <p:sp>
          <p:nvSpPr>
            <p:cNvPr id="889" name=""/>
            <p:cNvSpPr/>
            <p:nvPr/>
          </p:nvSpPr>
          <p:spPr>
            <a:xfrm>
              <a:off x="2741760" y="2682720"/>
              <a:ext cx="53964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282840" y="2682720"/>
              <a:ext cx="360360" cy="36036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741760" y="3048120"/>
              <a:ext cx="53964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282840" y="3048120"/>
              <a:ext cx="360360" cy="36036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741760" y="3413160"/>
              <a:ext cx="53964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282840" y="3413160"/>
              <a:ext cx="360360" cy="36036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641760" y="268272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244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641760" y="304812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24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641760" y="341316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24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mplement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E.g. Logical C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2286000" y="2666880"/>
            <a:ext cx="539640" cy="1090800"/>
            <a:chOff x="2286000" y="2666880"/>
            <a:chExt cx="539640" cy="1090800"/>
          </a:xfrm>
        </p:grpSpPr>
        <p:sp>
          <p:nvSpPr>
            <p:cNvPr id="900" name=""/>
            <p:cNvSpPr/>
            <p:nvPr/>
          </p:nvSpPr>
          <p:spPr>
            <a:xfrm>
              <a:off x="2286000" y="2666880"/>
              <a:ext cx="53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286000" y="3032280"/>
              <a:ext cx="53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286000" y="3397320"/>
              <a:ext cx="53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3" name=""/>
          <p:cNvSpPr/>
          <p:nvPr/>
        </p:nvSpPr>
        <p:spPr>
          <a:xfrm>
            <a:off x="6019920" y="2362320"/>
            <a:ext cx="2158920" cy="143964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400800" y="327672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24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543800" y="2895480"/>
            <a:ext cx="539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633840" y="341316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24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410160" y="3286080"/>
            <a:ext cx="90036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24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 rot="21349800">
            <a:off x="4037400" y="3049560"/>
            <a:ext cx="2590920" cy="381240"/>
          </a:xfrm>
          <a:custGeom>
            <a:avLst/>
            <a:gdLst>
              <a:gd name="textAreaLeft" fmla="*/ 453240 w 2590920"/>
              <a:gd name="textAreaRight" fmla="*/ 1878480 w 259092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6860880" y="3467160"/>
            <a:ext cx="802440" cy="877320"/>
            <a:chOff x="6860880" y="3467160"/>
            <a:chExt cx="802440" cy="877320"/>
          </a:xfrm>
        </p:grpSpPr>
        <p:cxnSp>
          <p:nvCxnSpPr>
            <p:cNvPr id="910" name=""/>
            <p:cNvCxnSpPr>
              <a:stCxn id="907" idx="3"/>
              <a:endCxn id="907" idx="2"/>
            </p:cNvCxnSpPr>
            <p:nvPr/>
          </p:nvCxnSpPr>
          <p:spPr>
            <a:xfrm flipH="1">
              <a:off x="6860880" y="3467160"/>
              <a:ext cx="450000" cy="180000"/>
            </a:xfrm>
            <a:prstGeom prst="curvedConnector5">
              <a:avLst>
                <a:gd name="adj1" fmla="val -50840"/>
                <a:gd name="adj2" fmla="val 153907"/>
                <a:gd name="adj3" fmla="val -50840"/>
              </a:avLst>
            </a:prstGeom>
            <a:ln w="76320">
              <a:solidFill>
                <a:srgbClr val="fc0128"/>
              </a:solidFill>
              <a:miter/>
              <a:tailEnd len="med" type="triangle" w="med"/>
            </a:ln>
          </p:spPr>
        </p:cxnSp>
        <p:sp>
          <p:nvSpPr>
            <p:cNvPr id="911" name=""/>
            <p:cNvSpPr/>
            <p:nvPr/>
          </p:nvSpPr>
          <p:spPr>
            <a:xfrm>
              <a:off x="7124400" y="3945600"/>
              <a:ext cx="53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+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8" dur="indefinite" restart="never" nodeType="tmRoot">
          <p:childTnLst>
            <p:seq>
              <p:cTn id="1909" dur="indefinite" nodeType="mainSeq">
                <p:childTnLst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4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fill="hold">
                            <p:stCondLst>
                              <p:cond delay="500"/>
                            </p:stCondLst>
                            <p:childTnLst>
                              <p:par>
                                <p:cTn id="191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1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3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500"/>
                            </p:stCondLst>
                            <p:childTnLst>
                              <p:par>
                                <p:cTn id="19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8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fill="hold">
                      <p:stCondLst>
                        <p:cond delay="indefinite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33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fill="hold">
                      <p:stCondLst>
                        <p:cond delay="indefinite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8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9" fill="hold">
                            <p:stCondLst>
                              <p:cond delay="500"/>
                            </p:stCondLst>
                            <p:childTnLst>
                              <p:par>
                                <p:cTn id="19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2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9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0" fill="hold">
                            <p:stCondLst>
                              <p:cond delay="500"/>
                            </p:stCondLst>
                            <p:childTnLst>
                              <p:par>
                                <p:cTn id="19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3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PT &amp; LRU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lady’s anomal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VER!!!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ck Algorithms: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{pages in mem}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{pages in mem}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ahoma"/>
              </a:rPr>
              <a:t>n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5" dur="indefinite" restart="never" nodeType="tmRoot">
          <p:childTnLst>
            <p:seq>
              <p:cTn id="1956" dur="indefinite" nodeType="mainSeq">
                <p:childTnLst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1" dur="50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2" fill="hold">
                      <p:stCondLst>
                        <p:cond delay="indefinite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6" dur="500"/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fill="hold">
                      <p:stCondLst>
                        <p:cond delay="indefinite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1" dur="500"/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Approximations of LRU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Based on Referenc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S: load-time: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"/>
          <p:cNvSpPr/>
          <p:nvPr/>
        </p:nvSpPr>
        <p:spPr>
          <a:xfrm>
            <a:off x="4511520" y="258768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r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510080" y="3132000"/>
            <a:ext cx="539640" cy="54000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510080" y="367200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510080" y="421020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1805040" y="2587680"/>
            <a:ext cx="2703600" cy="2162160"/>
            <a:chOff x="1805040" y="2587680"/>
            <a:chExt cx="2703600" cy="2162160"/>
          </a:xfrm>
        </p:grpSpPr>
        <p:sp>
          <p:nvSpPr>
            <p:cNvPr id="921" name=""/>
            <p:cNvSpPr/>
            <p:nvPr/>
          </p:nvSpPr>
          <p:spPr>
            <a:xfrm>
              <a:off x="1806480" y="2587680"/>
              <a:ext cx="10796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887560" y="2587680"/>
              <a:ext cx="54000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v/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429000" y="2587680"/>
              <a:ext cx="10796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pro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805040" y="3132000"/>
              <a:ext cx="1079280" cy="54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886120" y="3132000"/>
              <a:ext cx="539640" cy="54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427560" y="3132000"/>
              <a:ext cx="1079280" cy="54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 W 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805040" y="3672000"/>
              <a:ext cx="107928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886120" y="3672000"/>
              <a:ext cx="53964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427560" y="3672000"/>
              <a:ext cx="107928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 W 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805040" y="4210200"/>
              <a:ext cx="107928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886120" y="4210200"/>
              <a:ext cx="53964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427560" y="4210200"/>
              <a:ext cx="107928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  -  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1447920" y="3139920"/>
            <a:ext cx="325440" cy="1617840"/>
            <a:chOff x="1447920" y="3139920"/>
            <a:chExt cx="325440" cy="1617840"/>
          </a:xfrm>
        </p:grpSpPr>
        <p:sp>
          <p:nvSpPr>
            <p:cNvPr id="934" name=""/>
            <p:cNvSpPr/>
            <p:nvPr/>
          </p:nvSpPr>
          <p:spPr>
            <a:xfrm>
              <a:off x="1447920" y="3139920"/>
              <a:ext cx="3254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447920" y="3711600"/>
              <a:ext cx="3254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447920" y="4218120"/>
              <a:ext cx="3254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2605680" y="440316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175360" y="2583000"/>
            <a:ext cx="53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m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049720" y="3137040"/>
            <a:ext cx="54000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049720" y="3676680"/>
            <a:ext cx="54000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049720" y="4214880"/>
            <a:ext cx="54000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62120" y="53341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Sometimes Modify Bit (Dirty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096960" y="2891160"/>
            <a:ext cx="2209320" cy="703800"/>
          </a:xfrm>
          <a:prstGeom prst="borderCallout1">
            <a:avLst>
              <a:gd name="adj1" fmla="val 18750"/>
              <a:gd name="adj2" fmla="val -8333"/>
              <a:gd name="adj3" fmla="val 162828"/>
              <a:gd name="adj4" fmla="val -47097"/>
            </a:avLst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et by MMU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when refere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262560" y="4339080"/>
            <a:ext cx="1756440" cy="703800"/>
          </a:xfrm>
          <a:prstGeom prst="borderCallout1">
            <a:avLst>
              <a:gd name="adj1" fmla="val 18750"/>
              <a:gd name="adj2" fmla="val -8333"/>
              <a:gd name="adj3" fmla="val -34250"/>
              <a:gd name="adj4" fmla="val -41000"/>
            </a:avLst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et by MMU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when wri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8" dur="500"/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81" dur="500"/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6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90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4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9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3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8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3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4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18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3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4" fill="hold">
                      <p:stCondLst>
                        <p:cond delay="indefinite"/>
                      </p:stCondLst>
                      <p:childTnLst>
                        <p:par>
                          <p:cTn id="2025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9" fill="hold">
                            <p:stCondLst>
                              <p:cond delay="500"/>
                            </p:stCondLst>
                            <p:childTnLst>
                              <p:par>
                                <p:cTn id="20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2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3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7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2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4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erence Bi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ularly reset ref. bit to ze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ctim is page with ref. bit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advantage: Exact order unkn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mprovemen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279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279f"/>
                </a:solidFill>
                <a:latin typeface="Tahoma"/>
              </a:rPr>
              <a:t>Additional Reference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279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279f"/>
                </a:solidFill>
                <a:latin typeface="Tahoma"/>
              </a:rPr>
              <a:t>2nd Chance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279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279f"/>
                </a:solidFill>
                <a:latin typeface="Tahoma"/>
              </a:rPr>
              <a:t>Improved 2nd Chance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9" dur="indefinite" restart="never" nodeType="tmRoot">
          <p:childTnLst>
            <p:seq>
              <p:cTn id="2050" dur="indefinite" nodeType="mainSeq">
                <p:childTnLst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55" dur="500"/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60" dur="500"/>
                                        <p:tgtEl>
                                          <p:spTgt spid="9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65" dur="500"/>
                                        <p:tgtEl>
                                          <p:spTgt spid="9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fill="hold">
                      <p:stCondLst>
                        <p:cond delay="indefinite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0" dur="500"/>
                                        <p:tgtEl>
                                          <p:spTgt spid="9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3" dur="500"/>
                                        <p:tgtEl>
                                          <p:spTgt spid="9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6" dur="500"/>
                                        <p:tgtEl>
                                          <p:spTgt spid="9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9" dur="500"/>
                                        <p:tgtEl>
                                          <p:spTgt spid="9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7" name=""/>
          <p:cNvGrpSpPr/>
          <p:nvPr/>
        </p:nvGrpSpPr>
        <p:grpSpPr>
          <a:xfrm>
            <a:off x="3816360" y="2198520"/>
            <a:ext cx="539640" cy="2695680"/>
            <a:chOff x="3816360" y="2198520"/>
            <a:chExt cx="539640" cy="2695680"/>
          </a:xfrm>
        </p:grpSpPr>
        <p:sp>
          <p:nvSpPr>
            <p:cNvPr id="948" name=""/>
            <p:cNvSpPr/>
            <p:nvPr/>
          </p:nvSpPr>
          <p:spPr>
            <a:xfrm>
              <a:off x="3816360" y="2743200"/>
              <a:ext cx="539640" cy="53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816360" y="2198520"/>
              <a:ext cx="539640" cy="540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816360" y="3278160"/>
              <a:ext cx="539640" cy="53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816360" y="3821040"/>
              <a:ext cx="539640" cy="540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816360" y="4354560"/>
              <a:ext cx="539640" cy="53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Additional Reference Bi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4" name=""/>
          <p:cNvSpPr/>
          <p:nvPr/>
        </p:nvSpPr>
        <p:spPr>
          <a:xfrm>
            <a:off x="3827520" y="1654200"/>
            <a:ext cx="53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r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305360" y="457128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16360" y="273852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762120" y="1654200"/>
            <a:ext cx="3062160" cy="3246480"/>
            <a:chOff x="762120" y="1654200"/>
            <a:chExt cx="3062160" cy="3246480"/>
          </a:xfrm>
        </p:grpSpPr>
        <p:sp>
          <p:nvSpPr>
            <p:cNvPr id="958" name=""/>
            <p:cNvSpPr/>
            <p:nvPr/>
          </p:nvSpPr>
          <p:spPr>
            <a:xfrm>
              <a:off x="1122480" y="1654200"/>
              <a:ext cx="107928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203560" y="1654200"/>
              <a:ext cx="5396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v/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744640" y="1654200"/>
              <a:ext cx="10796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pro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120680" y="2198520"/>
              <a:ext cx="1079640" cy="54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201760" y="2198520"/>
              <a:ext cx="540000" cy="54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743200" y="2198520"/>
              <a:ext cx="1079640" cy="54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-   -   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120680" y="2738520"/>
              <a:ext cx="107964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201760" y="2738520"/>
              <a:ext cx="54000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743200" y="2738520"/>
              <a:ext cx="107964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-   -   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3560" y="2206800"/>
              <a:ext cx="3254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63560" y="2778120"/>
              <a:ext cx="3254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120680" y="3276720"/>
              <a:ext cx="107964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201760" y="3276720"/>
              <a:ext cx="54000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743200" y="3276720"/>
              <a:ext cx="107964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  W  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63560" y="3284640"/>
              <a:ext cx="3254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119240" y="3819600"/>
              <a:ext cx="107928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200320" y="3819600"/>
              <a:ext cx="53964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741760" y="3819600"/>
              <a:ext cx="107928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  W  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62120" y="3827520"/>
              <a:ext cx="3254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19240" y="4352760"/>
              <a:ext cx="1079280" cy="54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200320" y="4352760"/>
              <a:ext cx="539640" cy="54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741760" y="4352760"/>
              <a:ext cx="1079280" cy="54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   -   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62120" y="4361040"/>
              <a:ext cx="3254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1" name=""/>
          <p:cNvSpPr/>
          <p:nvPr/>
        </p:nvSpPr>
        <p:spPr>
          <a:xfrm>
            <a:off x="5106960" y="1447920"/>
            <a:ext cx="107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additional</a:t>
            </a:r>
            <a:br>
              <a:rPr sz="2400"/>
            </a:b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ref.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5103720" y="2195640"/>
            <a:ext cx="720720" cy="2700360"/>
            <a:chOff x="5103720" y="2195640"/>
            <a:chExt cx="720720" cy="2700360"/>
          </a:xfrm>
        </p:grpSpPr>
        <p:sp>
          <p:nvSpPr>
            <p:cNvPr id="983" name=""/>
            <p:cNvSpPr/>
            <p:nvPr/>
          </p:nvSpPr>
          <p:spPr>
            <a:xfrm>
              <a:off x="5105520" y="2195640"/>
              <a:ext cx="718920" cy="53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01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105520" y="2735280"/>
              <a:ext cx="718920" cy="53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0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105520" y="3279600"/>
              <a:ext cx="718920" cy="540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1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103720" y="3822840"/>
              <a:ext cx="719280" cy="53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01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103720" y="4356000"/>
              <a:ext cx="719280" cy="540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"/>
          <p:cNvSpPr/>
          <p:nvPr/>
        </p:nvSpPr>
        <p:spPr>
          <a:xfrm>
            <a:off x="4267080" y="2743200"/>
            <a:ext cx="914400" cy="304920"/>
          </a:xfrm>
          <a:custGeom>
            <a:avLst/>
            <a:gdLst>
              <a:gd name="textAreaLeft" fmla="*/ 159840 w 914400"/>
              <a:gd name="textAreaRight" fmla="*/ 663120 w 9144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6477120" y="2895480"/>
            <a:ext cx="1295280" cy="1524240"/>
            <a:chOff x="6477120" y="2895480"/>
            <a:chExt cx="1295280" cy="1524240"/>
          </a:xfrm>
        </p:grpSpPr>
        <p:sp>
          <p:nvSpPr>
            <p:cNvPr id="990" name=""/>
            <p:cNvSpPr/>
            <p:nvPr/>
          </p:nvSpPr>
          <p:spPr>
            <a:xfrm>
              <a:off x="6477120" y="2895480"/>
              <a:ext cx="1295280" cy="152424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1" name="" descr=""/>
            <p:cNvPicPr/>
            <p:nvPr/>
          </p:nvPicPr>
          <p:blipFill>
            <a:blip r:embed="rId1"/>
            <a:stretch/>
          </p:blipFill>
          <p:spPr>
            <a:xfrm>
              <a:off x="7010280" y="3352680"/>
              <a:ext cx="474840" cy="89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2" name=""/>
          <p:cNvSpPr/>
          <p:nvPr/>
        </p:nvSpPr>
        <p:spPr>
          <a:xfrm>
            <a:off x="340560" y="5256360"/>
            <a:ext cx="742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Timer-Interrupt:  OS copies and clears ref. Bit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age replacement: smallest number  (ref, add.b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019920" y="2362320"/>
            <a:ext cx="1752480" cy="380880"/>
          </a:xfrm>
          <a:prstGeom prst="leftArrow">
            <a:avLst>
              <a:gd name="adj1" fmla="val 50000"/>
              <a:gd name="adj2" fmla="val 115028"/>
            </a:avLst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816360" y="274320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816360" y="220032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816360" y="328932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816360" y="383220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816360" y="434340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816360" y="4352760"/>
            <a:ext cx="539640" cy="54000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105520" y="2195640"/>
            <a:ext cx="71892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105520" y="2735280"/>
            <a:ext cx="71892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105520" y="3279600"/>
            <a:ext cx="71892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105520" y="3822840"/>
            <a:ext cx="71892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105520" y="4356000"/>
            <a:ext cx="71892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105520" y="2195640"/>
            <a:ext cx="71892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105520" y="2735280"/>
            <a:ext cx="71892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105520" y="3279600"/>
            <a:ext cx="718920" cy="54000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105520" y="3822840"/>
            <a:ext cx="71892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105520" y="4356000"/>
            <a:ext cx="718920" cy="54000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718160" y="2746440"/>
            <a:ext cx="53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718160" y="2201760"/>
            <a:ext cx="53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718160" y="3281400"/>
            <a:ext cx="53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718160" y="3824280"/>
            <a:ext cx="53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718160" y="4357800"/>
            <a:ext cx="53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202800" y="2970720"/>
            <a:ext cx="232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New references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482880" y="3850200"/>
            <a:ext cx="99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482880" y="3852000"/>
            <a:ext cx="99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570360" y="198000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ict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9" name=""/>
          <p:cNvGrpSpPr/>
          <p:nvPr/>
        </p:nvGrpSpPr>
        <p:grpSpPr>
          <a:xfrm>
            <a:off x="6019920" y="3352320"/>
            <a:ext cx="1752480" cy="1708920"/>
            <a:chOff x="6019920" y="3352320"/>
            <a:chExt cx="1752480" cy="1708920"/>
          </a:xfrm>
        </p:grpSpPr>
        <p:sp>
          <p:nvSpPr>
            <p:cNvPr id="1020" name=""/>
            <p:cNvSpPr/>
            <p:nvPr/>
          </p:nvSpPr>
          <p:spPr>
            <a:xfrm>
              <a:off x="6019920" y="3962520"/>
              <a:ext cx="1752480" cy="380880"/>
            </a:xfrm>
            <a:prstGeom prst="leftArrow">
              <a:avLst>
                <a:gd name="adj1" fmla="val 50000"/>
                <a:gd name="adj2" fmla="val 115028"/>
              </a:avLst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521760" y="3352320"/>
              <a:ext cx="76428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0600" spc="-1" strike="noStrike">
                  <a:solidFill>
                    <a:srgbClr val="000000"/>
                  </a:solidFill>
                  <a:latin typeface="Tahoma"/>
                </a:rPr>
                <a:t>?</a:t>
              </a:r>
              <a:endParaRPr b="0" lang="en-US" sz="10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0" dur="indefinite" restart="never" nodeType="tmRoot">
          <p:childTnLst>
            <p:seq>
              <p:cTn id="2081" dur="indefinite" nodeType="mainSeq">
                <p:childTnLst>
                  <p:par>
                    <p:cTn id="2082" fill="hold">
                      <p:stCondLst>
                        <p:cond delay="indefinite"/>
                      </p:stCondLst>
                      <p:childTnLst>
                        <p:par>
                          <p:cTn id="2083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6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0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fill="hold">
                      <p:stCondLst>
                        <p:cond delay="indefinite"/>
                      </p:stCondLst>
                      <p:childTnLst>
                        <p:par>
                          <p:cTn id="2102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5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fill="hold">
                      <p:stCondLst>
                        <p:cond delay="indefinite"/>
                      </p:stCondLst>
                      <p:childTnLst>
                        <p:par>
                          <p:cTn id="2107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10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5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7" fill="hold">
                      <p:stCondLst>
                        <p:cond delay="indefinite"/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1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7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33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4" fill="hold">
                      <p:stCondLst>
                        <p:cond delay="indefinite"/>
                      </p:stCondLst>
                      <p:childTnLst>
                        <p:par>
                          <p:cTn id="2135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3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9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0" fill="hold">
                      <p:stCondLst>
                        <p:cond delay="indefinite"/>
                      </p:stCondLst>
                      <p:childTnLst>
                        <p:par>
                          <p:cTn id="2151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54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fill="hold">
                      <p:stCondLst>
                        <p:cond delay="indefinite"/>
                      </p:stCondLst>
                      <p:childTnLst>
                        <p:par>
                          <p:cTn id="2156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60" fill="hold">
                      <p:stCondLst>
                        <p:cond delay="indefinite"/>
                      </p:stCondLst>
                      <p:childTnLst>
                        <p:par>
                          <p:cTn id="2161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4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5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fill="hold">
                      <p:stCondLst>
                        <p:cond delay="indefinite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0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75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6" fill="hold">
                      <p:stCondLst>
                        <p:cond delay="indefinite"/>
                      </p:stCondLst>
                      <p:childTnLst>
                        <p:par>
                          <p:cTn id="2177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5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1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2" fill="hold">
                      <p:stCondLst>
                        <p:cond delay="indefinite"/>
                      </p:stCondLst>
                      <p:childTnLst>
                        <p:par>
                          <p:cTn id="2193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96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7" fill="hold">
                      <p:stCondLst>
                        <p:cond delay="indefinite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02" fill="hold">
                      <p:stCondLst>
                        <p:cond delay="indefinite"/>
                      </p:stCondLst>
                      <p:childTnLst>
                        <p:par>
                          <p:cTn id="2203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6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8" fill="hold">
                      <p:stCondLst>
                        <p:cond delay="indefinite"/>
                      </p:stCondLst>
                      <p:childTnLst>
                        <p:par>
                          <p:cTn id="2209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2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3" fill="hold">
                      <p:stCondLst>
                        <p:cond delay="indefinite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17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8" fill="hold">
                      <p:stCondLst>
                        <p:cond delay="indefinite"/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23" fill="hold">
                      <p:stCondLst>
                        <p:cond delay="indefinite"/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7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8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9" fill="hold">
                      <p:stCondLst>
                        <p:cond delay="indefinite"/>
                      </p:stCondLst>
                      <p:childTnLst>
                        <p:par>
                          <p:cTn id="2230" fill="hold">
                            <p:stCondLst>
                              <p:cond delay="0"/>
                            </p:stCondLst>
                            <p:childTnLst>
                              <p:par>
                                <p:cTn id="2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3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4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9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1" fill="hold">
                      <p:stCondLst>
                        <p:cond delay="indefinite"/>
                      </p:stCondLst>
                      <p:childTnLst>
                        <p:par>
                          <p:cTn id="2242" fill="hold">
                            <p:stCondLst>
                              <p:cond delay="0"/>
                            </p:stCondLst>
                            <p:childTnLst>
                              <p:par>
                                <p:cTn id="2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5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6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48" fill="hold">
                      <p:stCondLst>
                        <p:cond delay="indefinite"/>
                      </p:stCondLst>
                      <p:childTnLst>
                        <p:par>
                          <p:cTn id="2249" fill="hold">
                            <p:stCondLst>
                              <p:cond delay="0"/>
                            </p:stCondLst>
                            <p:childTnLst>
                              <p:par>
                                <p:cTn id="2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2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3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4" fill="hold">
                      <p:stCondLst>
                        <p:cond delay="indefinite"/>
                      </p:stCondLst>
                      <p:childTnLst>
                        <p:par>
                          <p:cTn id="2255" fill="hold">
                            <p:stCondLst>
                              <p:cond delay="0"/>
                            </p:stCondLst>
                            <p:childTnLst>
                              <p:par>
                                <p:cTn id="2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8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9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61" fill="hold">
                      <p:stCondLst>
                        <p:cond delay="indefinite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65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0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2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5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fill="hold">
                      <p:stCondLst>
                        <p:cond delay="indefinite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1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2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3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4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rocess only partially in mem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arts not needed (error-subr., table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arts not needed at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8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8600"/>
                </a:solidFill>
                <a:latin typeface="Tahom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| Process |  &gt; | MEMORY |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ultiprog. </a:t>
            </a:r>
            <a:r>
              <a:rPr b="0" lang="nl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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, throughput </a:t>
            </a:r>
            <a:r>
              <a:rPr b="0" lang="nl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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ess I/O  (Load, Swap in/out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c0128"/>
                </a:solidFill>
                <a:latin typeface="Tahoma"/>
              </a:rPr>
              <a:t>Disadvantag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Not easy (impossible?) to implement  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                            (HW-support, extra S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erformance!  (possibly Thrash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"/>
          <p:cNvSpPr/>
          <p:nvPr/>
        </p:nvSpPr>
        <p:spPr>
          <a:xfrm>
            <a:off x="1704960" y="2971800"/>
            <a:ext cx="2519280" cy="2519280"/>
          </a:xfrm>
          <a:prstGeom prst="ellipse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nd Chance (Clock Alg.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irculair List, Replace Current Head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Unless Ref-Bit = 1, Give 2</a:t>
            </a:r>
            <a:r>
              <a:rPr b="0" lang="nl-BE" sz="24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Ch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"/>
          <p:cNvSpPr/>
          <p:nvPr/>
        </p:nvSpPr>
        <p:spPr>
          <a:xfrm>
            <a:off x="2009880" y="502920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762360" y="3962520"/>
            <a:ext cx="539640" cy="539640"/>
          </a:xfrm>
          <a:prstGeom prst="rect">
            <a:avLst/>
          </a:prstGeom>
          <a:solidFill>
            <a:srgbClr val="fe7c9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305160" y="502920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80880" y="2492280"/>
            <a:ext cx="1079640" cy="54000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f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80880" y="3102120"/>
            <a:ext cx="107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f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476360" y="396252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009880" y="300996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305160" y="300996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773440" y="4041720"/>
            <a:ext cx="380880" cy="380880"/>
          </a:xfrm>
          <a:prstGeom prst="ellipse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4" name=""/>
          <p:cNvCxnSpPr>
            <a:stCxn id="1033" idx="6"/>
            <a:endCxn id="1026" idx="1"/>
          </p:cNvCxnSpPr>
          <p:nvPr/>
        </p:nvCxnSpPr>
        <p:spPr>
          <a:xfrm>
            <a:off x="3153960" y="4231800"/>
            <a:ext cx="599400" cy="1080"/>
          </a:xfrm>
          <a:prstGeom prst="straightConnector1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</p:cxnSp>
      <p:sp>
        <p:nvSpPr>
          <p:cNvPr id="1035" name=""/>
          <p:cNvSpPr/>
          <p:nvPr/>
        </p:nvSpPr>
        <p:spPr>
          <a:xfrm>
            <a:off x="3762360" y="3962520"/>
            <a:ext cx="539640" cy="539640"/>
          </a:xfrm>
          <a:prstGeom prst="rect">
            <a:avLst/>
          </a:prstGeom>
          <a:solidFill>
            <a:srgbClr val="aff2a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6" name=""/>
          <p:cNvCxnSpPr>
            <a:stCxn id="1033" idx="5"/>
            <a:endCxn id="1027" idx="0"/>
          </p:cNvCxnSpPr>
          <p:nvPr/>
        </p:nvCxnSpPr>
        <p:spPr>
          <a:xfrm>
            <a:off x="3098520" y="4366800"/>
            <a:ext cx="477000" cy="662760"/>
          </a:xfrm>
          <a:prstGeom prst="straightConnector1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</p:cxnSp>
      <p:sp>
        <p:nvSpPr>
          <p:cNvPr id="1037" name=""/>
          <p:cNvSpPr/>
          <p:nvPr/>
        </p:nvSpPr>
        <p:spPr>
          <a:xfrm>
            <a:off x="3305160" y="502920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8" name=""/>
          <p:cNvCxnSpPr>
            <a:stCxn id="1033" idx="3"/>
            <a:endCxn id="1025" idx="0"/>
          </p:cNvCxnSpPr>
          <p:nvPr/>
        </p:nvCxnSpPr>
        <p:spPr>
          <a:xfrm flipH="1">
            <a:off x="2279160" y="4366800"/>
            <a:ext cx="550080" cy="662760"/>
          </a:xfrm>
          <a:prstGeom prst="straightConnector1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</p:cxnSp>
      <p:sp>
        <p:nvSpPr>
          <p:cNvPr id="1039" name=""/>
          <p:cNvSpPr/>
          <p:nvPr/>
        </p:nvSpPr>
        <p:spPr>
          <a:xfrm>
            <a:off x="2009880" y="502920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0" name=""/>
          <p:cNvCxnSpPr>
            <a:stCxn id="1033" idx="2"/>
            <a:endCxn id="1030" idx="3"/>
          </p:cNvCxnSpPr>
          <p:nvPr/>
        </p:nvCxnSpPr>
        <p:spPr>
          <a:xfrm flipH="1">
            <a:off x="2015640" y="4231800"/>
            <a:ext cx="758160" cy="1080"/>
          </a:xfrm>
          <a:prstGeom prst="straightConnector1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</p:cxnSp>
      <p:sp>
        <p:nvSpPr>
          <p:cNvPr id="1041" name=""/>
          <p:cNvSpPr/>
          <p:nvPr/>
        </p:nvSpPr>
        <p:spPr>
          <a:xfrm>
            <a:off x="1476360" y="396252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2" name=""/>
          <p:cNvCxnSpPr>
            <a:stCxn id="1033" idx="1"/>
            <a:endCxn id="1031" idx="2"/>
          </p:cNvCxnSpPr>
          <p:nvPr/>
        </p:nvCxnSpPr>
        <p:spPr>
          <a:xfrm flipH="1" flipV="1">
            <a:off x="2279160" y="3548880"/>
            <a:ext cx="550080" cy="548280"/>
          </a:xfrm>
          <a:prstGeom prst="straightConnector1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</p:cxnSp>
      <p:sp>
        <p:nvSpPr>
          <p:cNvPr id="1043" name=""/>
          <p:cNvSpPr/>
          <p:nvPr/>
        </p:nvSpPr>
        <p:spPr>
          <a:xfrm>
            <a:off x="250920" y="4581360"/>
            <a:ext cx="1447560" cy="18288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116000" y="4869000"/>
            <a:ext cx="53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476360" y="396252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6" name=""/>
          <p:cNvCxnSpPr/>
          <p:nvPr/>
        </p:nvCxnSpPr>
        <p:spPr>
          <a:xfrm>
            <a:off x="3152880" y="4233600"/>
            <a:ext cx="598680" cy="1080"/>
          </a:xfrm>
          <a:prstGeom prst="straightConnector1">
            <a:avLst/>
          </a:prstGeom>
          <a:ln w="57240">
            <a:solidFill>
              <a:srgbClr val="919191"/>
            </a:solidFill>
            <a:miter/>
            <a:tailEnd len="med" type="triangle" w="med"/>
          </a:ln>
        </p:spPr>
      </p:cxnSp>
      <p:grpSp>
        <p:nvGrpSpPr>
          <p:cNvPr id="1047" name=""/>
          <p:cNvGrpSpPr/>
          <p:nvPr/>
        </p:nvGrpSpPr>
        <p:grpSpPr>
          <a:xfrm>
            <a:off x="6659640" y="3578400"/>
            <a:ext cx="1347840" cy="1218960"/>
            <a:chOff x="6659640" y="3578400"/>
            <a:chExt cx="1347840" cy="1218960"/>
          </a:xfrm>
        </p:grpSpPr>
        <p:sp>
          <p:nvSpPr>
            <p:cNvPr id="1048" name=""/>
            <p:cNvSpPr/>
            <p:nvPr/>
          </p:nvSpPr>
          <p:spPr>
            <a:xfrm>
              <a:off x="6659640" y="3578400"/>
              <a:ext cx="1295640" cy="1218960"/>
            </a:xfrm>
            <a:prstGeom prst="ellipse">
              <a:avLst/>
            </a:prstGeom>
            <a:solidFill>
              <a:srgbClr val="aff2aa"/>
            </a:solidFill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 flipV="1">
              <a:off x="6711840" y="3930480"/>
              <a:ext cx="647640" cy="30456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359840" y="4216320"/>
              <a:ext cx="647640" cy="108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231320" y="4111560"/>
              <a:ext cx="152280" cy="151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2" name=""/>
          <p:cNvSpPr/>
          <p:nvPr/>
        </p:nvSpPr>
        <p:spPr>
          <a:xfrm>
            <a:off x="7408800" y="35067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ref. bit </a:t>
            </a:r>
            <a:r>
              <a:rPr b="0" lang="en-US" sz="2000" spc="-1" strike="noStrike">
                <a:solidFill>
                  <a:srgbClr val="00279f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623840" y="3578400"/>
            <a:ext cx="190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if (ref. bit == 0)</a:t>
            </a:r>
            <a:br>
              <a:rPr sz="2000"/>
            </a:b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add to free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493040" y="3984480"/>
            <a:ext cx="233280" cy="508320"/>
          </a:xfrm>
          <a:custGeom>
            <a:avLst/>
            <a:gdLst/>
            <a:ahLst/>
            <a:rect l="l" t="t" r="r" b="b"/>
            <a:pathLst>
              <a:path w="56" h="144">
                <a:moveTo>
                  <a:pt x="48" y="0"/>
                </a:moveTo>
                <a:cubicBezTo>
                  <a:pt x="52" y="36"/>
                  <a:pt x="56" y="72"/>
                  <a:pt x="48" y="96"/>
                </a:cubicBezTo>
                <a:cubicBezTo>
                  <a:pt x="40" y="120"/>
                  <a:pt x="20" y="132"/>
                  <a:pt x="0" y="144"/>
                </a:cubicBezTo>
              </a:path>
            </a:pathLst>
          </a:custGeom>
          <a:noFill/>
          <a:ln w="1908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H="1" flipV="1" rot="795600">
            <a:off x="6854400" y="3798720"/>
            <a:ext cx="228600" cy="533520"/>
          </a:xfrm>
          <a:custGeom>
            <a:avLst/>
            <a:gdLst/>
            <a:ahLst/>
            <a:rect l="l" t="t" r="r" b="b"/>
            <a:pathLst>
              <a:path w="56" h="144">
                <a:moveTo>
                  <a:pt x="48" y="0"/>
                </a:moveTo>
                <a:cubicBezTo>
                  <a:pt x="52" y="36"/>
                  <a:pt x="56" y="72"/>
                  <a:pt x="48" y="96"/>
                </a:cubicBezTo>
                <a:cubicBezTo>
                  <a:pt x="40" y="120"/>
                  <a:pt x="20" y="132"/>
                  <a:pt x="0" y="144"/>
                </a:cubicBezTo>
              </a:path>
            </a:pathLst>
          </a:custGeom>
          <a:noFill/>
          <a:ln w="1908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187240" y="2421000"/>
            <a:ext cx="246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void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hance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if not necessa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287680" y="4843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479920" y="5300640"/>
            <a:ext cx="245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ref. bit + modify 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5" dur="indefinite" restart="never" nodeType="tmRoot">
          <p:childTnLst>
            <p:seq>
              <p:cTn id="2286" dur="indefinite" nodeType="mainSeq">
                <p:childTnLst>
                  <p:par>
                    <p:cTn id="2287" fill="hold">
                      <p:stCondLst>
                        <p:cond delay="indefinite"/>
                      </p:stCondLst>
                      <p:childTnLst>
                        <p:par>
                          <p:cTn id="2288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5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fill="hold">
                      <p:stCondLst>
                        <p:cond delay="indefinite"/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0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1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2" fill="hold">
                            <p:stCondLst>
                              <p:cond delay="500"/>
                            </p:stCondLst>
                            <p:childTnLst>
                              <p:par>
                                <p:cTn id="23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5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9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3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7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5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3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9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0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4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9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0" fill="hold">
                            <p:stCondLst>
                              <p:cond delay="500"/>
                            </p:stCondLst>
                            <p:childTnLst>
                              <p:par>
                                <p:cTn id="23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3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4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9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0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52" fill="hold">
                            <p:stCondLst>
                              <p:cond delay="500"/>
                            </p:stCondLst>
                            <p:childTnLst>
                              <p:par>
                                <p:cTn id="2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fill="hold">
                      <p:stCondLst>
                        <p:cond delay="indefinite"/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3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4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66" fill="hold">
                            <p:stCondLst>
                              <p:cond delay="500"/>
                            </p:stCondLst>
                            <p:childTnLst>
                              <p:par>
                                <p:cTn id="2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9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4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5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77" fill="hold">
                            <p:stCondLst>
                              <p:cond delay="500"/>
                            </p:stCondLst>
                            <p:childTnLst>
                              <p:par>
                                <p:cTn id="23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8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1" fill="hold">
                      <p:stCondLst>
                        <p:cond delay="indefinite"/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5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6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88" fill="hold">
                            <p:stCondLst>
                              <p:cond delay="500"/>
                            </p:stCondLst>
                            <p:childTnLst>
                              <p:par>
                                <p:cTn id="23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1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2" fill="hold">
                      <p:stCondLst>
                        <p:cond delay="indefinite"/>
                      </p:stCondLst>
                      <p:childTnLst>
                        <p:par>
                          <p:cTn id="2393" fill="hold">
                            <p:stCondLst>
                              <p:cond delay="0"/>
                            </p:stCondLst>
                            <p:childTnLst>
                              <p:par>
                                <p:cTn id="2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6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7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8" fill="hold">
                      <p:stCondLst>
                        <p:cond delay="indefinite"/>
                      </p:stCondLst>
                      <p:childTnLst>
                        <p:par>
                          <p:cTn id="2399" fill="hold">
                            <p:stCondLst>
                              <p:cond delay="0"/>
                            </p:stCondLst>
                            <p:childTnLst>
                              <p:par>
                                <p:cTn id="2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2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3" fill="hold">
                            <p:stCondLst>
                              <p:cond delay="500"/>
                            </p:stCondLst>
                            <p:childTnLst>
                              <p:par>
                                <p:cTn id="2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7" fill="hold">
                      <p:stCondLst>
                        <p:cond delay="indefinite"/>
                      </p:stCondLst>
                      <p:childTnLst>
                        <p:par>
                          <p:cTn id="2408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1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2" fill="hold">
                      <p:stCondLst>
                        <p:cond delay="indefinite"/>
                      </p:stCondLst>
                      <p:childTnLst>
                        <p:par>
                          <p:cTn id="2413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6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7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8" fill="hold">
                      <p:stCondLst>
                        <p:cond delay="indefinite"/>
                      </p:stCondLst>
                      <p:childTnLst>
                        <p:par>
                          <p:cTn id="2419" fill="hold">
                            <p:stCondLst>
                              <p:cond delay="0"/>
                            </p:stCondLst>
                            <p:childTnLst>
                              <p:par>
                                <p:cTn id="2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7" fill="hold">
                      <p:stCondLst>
                        <p:cond delay="indefinite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1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5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Counting Algorithm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HW-support necess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61" name=""/>
          <p:cNvGrpSpPr/>
          <p:nvPr/>
        </p:nvGrpSpPr>
        <p:grpSpPr>
          <a:xfrm>
            <a:off x="1652760" y="2332080"/>
            <a:ext cx="3095280" cy="2055240"/>
            <a:chOff x="1652760" y="2332080"/>
            <a:chExt cx="3095280" cy="2055240"/>
          </a:xfrm>
        </p:grpSpPr>
        <p:sp>
          <p:nvSpPr>
            <p:cNvPr id="1062" name=""/>
            <p:cNvSpPr/>
            <p:nvPr/>
          </p:nvSpPr>
          <p:spPr>
            <a:xfrm>
              <a:off x="1652760" y="2514960"/>
              <a:ext cx="1471320" cy="459720"/>
            </a:xfrm>
            <a:prstGeom prst="rect">
              <a:avLst/>
            </a:prstGeom>
            <a:noFill/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505320" y="2332080"/>
              <a:ext cx="1242720" cy="825480"/>
            </a:xfrm>
            <a:prstGeom prst="rect">
              <a:avLst/>
            </a:prstGeom>
            <a:noFill/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oun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124080" y="2514960"/>
              <a:ext cx="381240" cy="459720"/>
            </a:xfrm>
            <a:prstGeom prst="rect">
              <a:avLst/>
            </a:prstGeom>
            <a:noFill/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652760" y="2952000"/>
              <a:ext cx="1471320" cy="510120"/>
            </a:xfrm>
            <a:prstGeom prst="rect">
              <a:avLst/>
            </a:prstGeom>
            <a:noFill/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505320" y="2976840"/>
              <a:ext cx="1242720" cy="459720"/>
            </a:xfrm>
            <a:prstGeom prst="rect">
              <a:avLst/>
            </a:prstGeom>
            <a:noFill/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0110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124080" y="2976840"/>
              <a:ext cx="381240" cy="459720"/>
            </a:xfrm>
            <a:prstGeom prst="rect">
              <a:avLst/>
            </a:prstGeom>
            <a:noFill/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652760" y="3415320"/>
              <a:ext cx="1471320" cy="510120"/>
            </a:xfrm>
            <a:prstGeom prst="rect">
              <a:avLst/>
            </a:prstGeom>
            <a:noFill/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505320" y="3440520"/>
              <a:ext cx="1242720" cy="459720"/>
            </a:xfrm>
            <a:prstGeom prst="rect">
              <a:avLst/>
            </a:prstGeom>
            <a:noFill/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001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124080" y="3440520"/>
              <a:ext cx="381240" cy="459720"/>
            </a:xfrm>
            <a:prstGeom prst="rect">
              <a:avLst/>
            </a:prstGeom>
            <a:noFill/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652760" y="3877200"/>
              <a:ext cx="1471320" cy="510120"/>
            </a:xfrm>
            <a:prstGeom prst="rect">
              <a:avLst/>
            </a:prstGeom>
            <a:noFill/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505320" y="3902400"/>
              <a:ext cx="1242720" cy="459720"/>
            </a:xfrm>
            <a:prstGeom prst="rect">
              <a:avLst/>
            </a:prstGeom>
            <a:noFill/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0000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124080" y="3902400"/>
              <a:ext cx="381240" cy="459720"/>
            </a:xfrm>
            <a:prstGeom prst="rect">
              <a:avLst/>
            </a:prstGeom>
            <a:noFill/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3506760" y="3443760"/>
            <a:ext cx="1243080" cy="459720"/>
          </a:xfrm>
          <a:prstGeom prst="rect">
            <a:avLst/>
          </a:prstGeom>
          <a:solidFill>
            <a:srgbClr val="aff2aa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1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029200" y="3429000"/>
            <a:ext cx="762120" cy="380880"/>
          </a:xfrm>
          <a:prstGeom prst="leftArrow">
            <a:avLst>
              <a:gd name="adj1" fmla="val 50000"/>
              <a:gd name="adj2" fmla="val 50024"/>
            </a:avLst>
          </a:prstGeom>
          <a:solidFill>
            <a:srgbClr val="fe7c92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85800" y="47242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MFU  (Most Frequently U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LFU (Least Frequently U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6" dur="indefinite" restart="never" nodeType="tmRoot">
          <p:childTnLst>
            <p:seq>
              <p:cTn id="2437" dur="indefinite" nodeType="mainSeq">
                <p:childTnLst>
                  <p:par>
                    <p:cTn id="2438" fill="hold">
                      <p:stCondLst>
                        <p:cond delay="indefinite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42" dur="500"/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45" dur="500"/>
                                        <p:tgtEl>
                                          <p:spTgt spid="1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6" fill="hold">
                      <p:stCondLst>
                        <p:cond delay="indefinite"/>
                      </p:stCondLst>
                      <p:childTnLst>
                        <p:par>
                          <p:cTn id="2447" fill="hold">
                            <p:stCondLst>
                              <p:cond delay="0"/>
                            </p:stCondLst>
                            <p:childTnLst>
                              <p:par>
                                <p:cTn id="24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50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55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0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66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Warn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Not Always Correc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nstruction Boundarie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age Fault, Restart Instr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FIFO, 3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3733920" y="4648320"/>
            <a:ext cx="1149120" cy="539640"/>
            <a:chOff x="3733920" y="4648320"/>
            <a:chExt cx="1149120" cy="539640"/>
          </a:xfrm>
        </p:grpSpPr>
        <p:sp>
          <p:nvSpPr>
            <p:cNvPr id="1080" name=""/>
            <p:cNvSpPr/>
            <p:nvPr/>
          </p:nvSpPr>
          <p:spPr>
            <a:xfrm>
              <a:off x="3809880" y="4648320"/>
              <a:ext cx="990720" cy="5331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733920" y="4648320"/>
              <a:ext cx="5396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343400" y="4648320"/>
              <a:ext cx="5396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3" name=""/>
          <p:cNvGrpSpPr/>
          <p:nvPr/>
        </p:nvGrpSpPr>
        <p:grpSpPr>
          <a:xfrm>
            <a:off x="4952880" y="4648320"/>
            <a:ext cx="1758960" cy="539640"/>
            <a:chOff x="4952880" y="4648320"/>
            <a:chExt cx="1758960" cy="539640"/>
          </a:xfrm>
        </p:grpSpPr>
        <p:sp>
          <p:nvSpPr>
            <p:cNvPr id="1084" name=""/>
            <p:cNvSpPr/>
            <p:nvPr/>
          </p:nvSpPr>
          <p:spPr>
            <a:xfrm>
              <a:off x="5029200" y="4648320"/>
              <a:ext cx="1600200" cy="5331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952880" y="4648320"/>
              <a:ext cx="54000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562720" y="4648320"/>
              <a:ext cx="5396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172200" y="4648320"/>
              <a:ext cx="5396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8" name=""/>
          <p:cNvGrpSpPr/>
          <p:nvPr/>
        </p:nvGrpSpPr>
        <p:grpSpPr>
          <a:xfrm>
            <a:off x="2584440" y="4648320"/>
            <a:ext cx="1079640" cy="539640"/>
            <a:chOff x="2584440" y="4648320"/>
            <a:chExt cx="1079640" cy="539640"/>
          </a:xfrm>
        </p:grpSpPr>
        <p:sp>
          <p:nvSpPr>
            <p:cNvPr id="1089" name=""/>
            <p:cNvSpPr/>
            <p:nvPr/>
          </p:nvSpPr>
          <p:spPr>
            <a:xfrm>
              <a:off x="2666880" y="4648320"/>
              <a:ext cx="990720" cy="5331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124080" y="4648320"/>
              <a:ext cx="54000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584440" y="4648320"/>
              <a:ext cx="5396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7" dur="indefinite" restart="never" nodeType="tmRoot">
          <p:childTnLst>
            <p:seq>
              <p:cTn id="2468" dur="indefinite" nodeType="mainSeq">
                <p:childTnLst>
                  <p:par>
                    <p:cTn id="2469" fill="hold">
                      <p:stCondLst>
                        <p:cond delay="indefinite"/>
                      </p:stCondLst>
                      <p:childTnLst>
                        <p:par>
                          <p:cTn id="2470" fill="hold">
                            <p:stCondLst>
                              <p:cond delay="0"/>
                            </p:stCondLst>
                            <p:childTnLst>
                              <p:par>
                                <p:cTn id="24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73" dur="500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4" fill="hold">
                      <p:stCondLst>
                        <p:cond delay="indefinite"/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78" dur="500"/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81" dur="500"/>
                                        <p:tgtEl>
                                          <p:spTgt spid="1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2" fill="hold">
                      <p:stCondLst>
                        <p:cond delay="indefinite"/>
                      </p:stCondLst>
                      <p:childTnLst>
                        <p:par>
                          <p:cTn id="2483" fill="hold">
                            <p:stCondLst>
                              <p:cond delay="0"/>
                            </p:stCondLst>
                            <p:childTnLst>
                              <p:par>
                                <p:cTn id="24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86" dur="500"/>
                                        <p:tgtEl>
                                          <p:spTgt spid="10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89" dur="500"/>
                                        <p:tgtEl>
                                          <p:spTgt spid="10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0" fill="hold">
                      <p:stCondLst>
                        <p:cond delay="indefinite"/>
                      </p:stCondLst>
                      <p:childTnLst>
                        <p:par>
                          <p:cTn id="2491" fill="hold">
                            <p:stCondLst>
                              <p:cond delay="0"/>
                            </p:stCondLst>
                            <p:childTnLst>
                              <p:par>
                                <p:cTn id="2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4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5" fill="hold">
                            <p:stCondLst>
                              <p:cond delay="500"/>
                            </p:stCondLst>
                            <p:childTnLst>
                              <p:par>
                                <p:cTn id="2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8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2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Frame Alloc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How man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IN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= function (Instruction Set)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= max # pages ref. in 1 instr. cyc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4" name=""/>
          <p:cNvGrpSpPr/>
          <p:nvPr/>
        </p:nvGrpSpPr>
        <p:grpSpPr>
          <a:xfrm>
            <a:off x="914400" y="4419720"/>
            <a:ext cx="2400480" cy="1752120"/>
            <a:chOff x="914400" y="4419720"/>
            <a:chExt cx="2400480" cy="1752120"/>
          </a:xfrm>
        </p:grpSpPr>
        <p:sp>
          <p:nvSpPr>
            <p:cNvPr id="1095" name=""/>
            <p:cNvSpPr/>
            <p:nvPr/>
          </p:nvSpPr>
          <p:spPr>
            <a:xfrm>
              <a:off x="914400" y="5333760"/>
              <a:ext cx="2400480" cy="8380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914400" y="4419720"/>
              <a:ext cx="2400480" cy="8380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914400" y="5073480"/>
              <a:ext cx="2400480" cy="466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EX MVCIN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3200400" y="3048120"/>
            <a:ext cx="2400480" cy="1752120"/>
            <a:chOff x="3200400" y="3048120"/>
            <a:chExt cx="2400480" cy="1752120"/>
          </a:xfrm>
        </p:grpSpPr>
        <p:sp>
          <p:nvSpPr>
            <p:cNvPr id="1099" name=""/>
            <p:cNvSpPr/>
            <p:nvPr/>
          </p:nvSpPr>
          <p:spPr>
            <a:xfrm>
              <a:off x="3200400" y="3962160"/>
              <a:ext cx="2400480" cy="8380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200400" y="3048120"/>
              <a:ext cx="2400480" cy="8380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200400" y="3733560"/>
              <a:ext cx="240048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5943600" y="3048120"/>
            <a:ext cx="2400480" cy="1752480"/>
            <a:chOff x="5943600" y="3048120"/>
            <a:chExt cx="2400480" cy="1752480"/>
          </a:xfrm>
        </p:grpSpPr>
        <p:sp>
          <p:nvSpPr>
            <p:cNvPr id="1103" name=""/>
            <p:cNvSpPr/>
            <p:nvPr/>
          </p:nvSpPr>
          <p:spPr>
            <a:xfrm>
              <a:off x="5943600" y="3962520"/>
              <a:ext cx="2400480" cy="8380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943600" y="3048120"/>
              <a:ext cx="2400480" cy="8380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943600" y="3429000"/>
              <a:ext cx="240048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457200" y="3048120"/>
            <a:ext cx="2400480" cy="1752120"/>
            <a:chOff x="457200" y="3048120"/>
            <a:chExt cx="2400480" cy="1752120"/>
          </a:xfrm>
        </p:grpSpPr>
        <p:sp>
          <p:nvSpPr>
            <p:cNvPr id="1107" name=""/>
            <p:cNvSpPr/>
            <p:nvPr/>
          </p:nvSpPr>
          <p:spPr>
            <a:xfrm>
              <a:off x="457200" y="3962160"/>
              <a:ext cx="2400480" cy="8380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57200" y="3048120"/>
              <a:ext cx="2400480" cy="8380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57200" y="3701880"/>
              <a:ext cx="2400480" cy="466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MVC  A(L),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0" name=""/>
          <p:cNvSpPr/>
          <p:nvPr/>
        </p:nvSpPr>
        <p:spPr>
          <a:xfrm>
            <a:off x="4264200" y="533340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MIN = 8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3" dur="indefinite" restart="never" nodeType="tmRoot">
          <p:childTnLst>
            <p:seq>
              <p:cTn id="2504" dur="indefinite" nodeType="mainSeq">
                <p:childTnLst>
                  <p:par>
                    <p:cTn id="2505" fill="hold">
                      <p:stCondLst>
                        <p:cond delay="indefinite"/>
                      </p:stCondLst>
                      <p:childTnLst>
                        <p:par>
                          <p:cTn id="2506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9" dur="500"/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14" dur="500"/>
                                        <p:tgtEl>
                                          <p:spTgt spid="10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fill="hold">
                      <p:stCondLst>
                        <p:cond delay="indefinite"/>
                      </p:stCondLst>
                      <p:childTnLst>
                        <p:par>
                          <p:cTn id="2516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fill="hold">
                      <p:stCondLst>
                        <p:cond delay="indefinite"/>
                      </p:stCondLst>
                      <p:childTnLst>
                        <p:par>
                          <p:cTn id="2521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4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5" fill="hold">
                      <p:stCondLst>
                        <p:cond delay="indefinite"/>
                      </p:stCondLst>
                      <p:childTnLst>
                        <p:par>
                          <p:cTn id="2526" fill="hold">
                            <p:stCondLst>
                              <p:cond delay="0"/>
                            </p:stCondLst>
                            <p:childTnLst>
                              <p:par>
                                <p:cTn id="25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9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fill="hold">
                      <p:stCondLst>
                        <p:cond delay="indefinite"/>
                      </p:stCondLst>
                      <p:childTnLst>
                        <p:par>
                          <p:cTn id="2531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4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5" fill="hold">
                      <p:stCondLst>
                        <p:cond delay="indefinite"/>
                      </p:stCondLst>
                      <p:childTnLst>
                        <p:par>
                          <p:cTn id="2536" fill="hold">
                            <p:stCondLst>
                              <p:cond delay="0"/>
                            </p:stCondLst>
                            <p:childTnLst>
                              <p:par>
                                <p:cTn id="25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9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llocation Schem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xed allo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ortional allo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ority allo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obal vs Local Allocation/Replac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0" dur="indefinite" restart="never" nodeType="tmRoot">
          <p:childTnLst>
            <p:seq>
              <p:cTn id="2541" dur="indefinite" nodeType="mainSeq">
                <p:childTnLst>
                  <p:par>
                    <p:cTn id="2542" fill="hold">
                      <p:stCondLst>
                        <p:cond delay="indefinite"/>
                      </p:stCondLst>
                      <p:childTnLst>
                        <p:par>
                          <p:cTn id="2543" fill="hold">
                            <p:stCondLst>
                              <p:cond delay="0"/>
                            </p:stCondLst>
                            <p:childTnLst>
                              <p:par>
                                <p:cTn id="25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4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ash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2133720" y="1981080"/>
            <a:ext cx="685800" cy="3048120"/>
            <a:chOff x="2133720" y="1981080"/>
            <a:chExt cx="685800" cy="3048120"/>
          </a:xfrm>
        </p:grpSpPr>
        <p:sp>
          <p:nvSpPr>
            <p:cNvPr id="1115" name=""/>
            <p:cNvSpPr/>
            <p:nvPr/>
          </p:nvSpPr>
          <p:spPr>
            <a:xfrm>
              <a:off x="2133720" y="1981080"/>
              <a:ext cx="685800" cy="38124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133720" y="2362320"/>
              <a:ext cx="685800" cy="38088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133720" y="2743200"/>
              <a:ext cx="685800" cy="38088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133720" y="3124080"/>
              <a:ext cx="685800" cy="38124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133720" y="3505320"/>
              <a:ext cx="685800" cy="38088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133720" y="3886200"/>
              <a:ext cx="685800" cy="38088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133720" y="4267080"/>
              <a:ext cx="685800" cy="38124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133720" y="4648320"/>
              <a:ext cx="685800" cy="38088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3" name=""/>
          <p:cNvSpPr/>
          <p:nvPr/>
        </p:nvSpPr>
        <p:spPr>
          <a:xfrm>
            <a:off x="3581280" y="2438280"/>
            <a:ext cx="1638360" cy="2791080"/>
          </a:xfrm>
          <a:prstGeom prst="can">
            <a:avLst>
              <a:gd name="adj" fmla="val 25000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581280" y="4076640"/>
            <a:ext cx="685800" cy="3812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708360" y="3284640"/>
            <a:ext cx="685800" cy="38088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867280" y="27432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715000" y="47242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540760" y="227700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PU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 rot="20092800">
            <a:off x="2055240" y="3284280"/>
            <a:ext cx="2211120" cy="761760"/>
          </a:xfrm>
          <a:custGeom>
            <a:avLst/>
            <a:gdLst>
              <a:gd name="textAreaLeft" fmla="*/ 387000 w 2211120"/>
              <a:gd name="textAreaRight" fmla="*/ 1603080 w 2211120"/>
              <a:gd name="textAreaTop" fmla="*/ 101880 h 761760"/>
              <a:gd name="textAreaBottom" fmla="*/ 6598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V="1" rot="1126800">
            <a:off x="2195280" y="4004280"/>
            <a:ext cx="1904760" cy="838080"/>
          </a:xfrm>
          <a:custGeom>
            <a:avLst/>
            <a:gdLst>
              <a:gd name="textAreaLeft" fmla="*/ 333360 w 1904760"/>
              <a:gd name="textAreaRight" fmla="*/ 1380960 w 1904760"/>
              <a:gd name="textAreaTop" fmla="*/ 112320 h 838080"/>
              <a:gd name="textAreaBottom" fmla="*/ 725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943600" y="2819520"/>
            <a:ext cx="2209680" cy="1942920"/>
          </a:xfrm>
          <a:custGeom>
            <a:avLst/>
            <a:gdLst/>
            <a:ahLst/>
            <a:rect l="l" t="t" r="r" b="b"/>
            <a:pathLst>
              <a:path w="1920" h="1224">
                <a:moveTo>
                  <a:pt x="0" y="416"/>
                </a:moveTo>
                <a:cubicBezTo>
                  <a:pt x="40" y="368"/>
                  <a:pt x="80" y="320"/>
                  <a:pt x="144" y="320"/>
                </a:cubicBezTo>
                <a:cubicBezTo>
                  <a:pt x="208" y="320"/>
                  <a:pt x="304" y="464"/>
                  <a:pt x="384" y="416"/>
                </a:cubicBezTo>
                <a:cubicBezTo>
                  <a:pt x="464" y="368"/>
                  <a:pt x="560" y="64"/>
                  <a:pt x="624" y="32"/>
                </a:cubicBezTo>
                <a:cubicBezTo>
                  <a:pt x="688" y="0"/>
                  <a:pt x="720" y="200"/>
                  <a:pt x="768" y="224"/>
                </a:cubicBezTo>
                <a:cubicBezTo>
                  <a:pt x="816" y="248"/>
                  <a:pt x="856" y="128"/>
                  <a:pt x="912" y="176"/>
                </a:cubicBezTo>
                <a:cubicBezTo>
                  <a:pt x="968" y="224"/>
                  <a:pt x="1056" y="496"/>
                  <a:pt x="1104" y="512"/>
                </a:cubicBezTo>
                <a:cubicBezTo>
                  <a:pt x="1152" y="528"/>
                  <a:pt x="1168" y="304"/>
                  <a:pt x="1200" y="272"/>
                </a:cubicBezTo>
                <a:cubicBezTo>
                  <a:pt x="1232" y="240"/>
                  <a:pt x="1264" y="328"/>
                  <a:pt x="1296" y="320"/>
                </a:cubicBezTo>
                <a:cubicBezTo>
                  <a:pt x="1328" y="312"/>
                  <a:pt x="1352" y="168"/>
                  <a:pt x="1392" y="224"/>
                </a:cubicBezTo>
                <a:cubicBezTo>
                  <a:pt x="1432" y="280"/>
                  <a:pt x="1496" y="504"/>
                  <a:pt x="1536" y="656"/>
                </a:cubicBezTo>
                <a:cubicBezTo>
                  <a:pt x="1576" y="808"/>
                  <a:pt x="1600" y="1048"/>
                  <a:pt x="1632" y="1136"/>
                </a:cubicBezTo>
                <a:cubicBezTo>
                  <a:pt x="1664" y="1224"/>
                  <a:pt x="1696" y="1184"/>
                  <a:pt x="1728" y="1184"/>
                </a:cubicBezTo>
                <a:cubicBezTo>
                  <a:pt x="1760" y="1184"/>
                  <a:pt x="1792" y="1136"/>
                  <a:pt x="1824" y="1136"/>
                </a:cubicBezTo>
                <a:cubicBezTo>
                  <a:pt x="1856" y="1136"/>
                  <a:pt x="1888" y="1160"/>
                  <a:pt x="1920" y="1184"/>
                </a:cubicBezTo>
              </a:path>
            </a:pathLst>
          </a:custGeom>
          <a:noFill/>
          <a:ln w="5724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7544160" y="487584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427640" y="3645000"/>
            <a:ext cx="685800" cy="38088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267080" y="4076640"/>
            <a:ext cx="685800" cy="3812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H="1">
            <a:off x="2195640" y="3068640"/>
            <a:ext cx="2808000" cy="719280"/>
          </a:xfrm>
          <a:custGeom>
            <a:avLst/>
            <a:gdLst>
              <a:gd name="textAreaLeft" fmla="*/ 491400 w 2808000"/>
              <a:gd name="textAreaRight" fmla="*/ 2035800 w 280800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2362320" y="4220280"/>
            <a:ext cx="2714400" cy="838440"/>
          </a:xfrm>
          <a:custGeom>
            <a:avLst/>
            <a:gdLst>
              <a:gd name="textAreaLeft" fmla="*/ 474840 w 2714400"/>
              <a:gd name="textAreaRight" fmla="*/ 1968120 w 2714400"/>
              <a:gd name="textAreaTop" fmla="*/ 112320 h 838440"/>
              <a:gd name="textAreaBottom" fmla="*/ 7261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7" dur="indefinite" restart="never" nodeType="tmRoot">
          <p:childTnLst>
            <p:seq>
              <p:cTn id="2548" dur="indefinite" nodeType="mainSeq">
                <p:childTnLst>
                  <p:par>
                    <p:cTn id="2549" fill="hold">
                      <p:stCondLst>
                        <p:cond delay="indefinite"/>
                      </p:stCondLst>
                      <p:childTnLst>
                        <p:par>
                          <p:cTn id="2550" fill="hold">
                            <p:stCondLst>
                              <p:cond delay="0"/>
                            </p:stCondLst>
                            <p:childTnLst>
                              <p:par>
                                <p:cTn id="2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3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7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1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5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0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1" fill="hold">
                            <p:stCondLst>
                              <p:cond delay="500"/>
                            </p:stCondLst>
                            <p:childTnLst>
                              <p:par>
                                <p:cTn id="2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4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8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2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6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7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90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1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4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5" fill="hold">
                            <p:stCondLst>
                              <p:cond delay="3500"/>
                            </p:stCondLst>
                            <p:childTnLst>
                              <p:par>
                                <p:cTn id="25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98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9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2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3" fill="hold">
                            <p:stCondLst>
                              <p:cond delay="4500"/>
                            </p:stCondLst>
                            <p:childTnLst>
                              <p:par>
                                <p:cTn id="26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06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7" fill="hold">
                      <p:stCondLst>
                        <p:cond delay="indefinite"/>
                      </p:stCondLst>
                      <p:childTnLst>
                        <p:par>
                          <p:cTn id="2608" fill="hold">
                            <p:stCondLst>
                              <p:cond delay="0"/>
                            </p:stCondLst>
                            <p:childTnLst>
                              <p:par>
                                <p:cTn id="26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1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2" fill="hold">
                            <p:stCondLst>
                              <p:cond delay="500"/>
                            </p:stCondLst>
                            <p:childTnLst>
                              <p:par>
                                <p:cTn id="261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15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23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4" fill="hold">
                      <p:stCondLst>
                        <p:cond delay="indefinite"/>
                      </p:stCondLst>
                      <p:childTnLst>
                        <p:par>
                          <p:cTn id="2625" fill="hold">
                            <p:stCondLst>
                              <p:cond delay="0"/>
                            </p:stCondLst>
                            <p:childTnLst>
                              <p:par>
                                <p:cTn id="2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8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ocality Mod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8" name="" descr=""/>
          <p:cNvPicPr/>
          <p:nvPr/>
        </p:nvPicPr>
        <p:blipFill>
          <a:blip r:embed="rId1"/>
          <a:srcRect l="21896" t="718" r="21896" b="1671"/>
          <a:stretch/>
        </p:blipFill>
        <p:spPr>
          <a:xfrm>
            <a:off x="4724280" y="1523880"/>
            <a:ext cx="3495960" cy="4552920"/>
          </a:xfrm>
          <a:prstGeom prst="rect">
            <a:avLst/>
          </a:prstGeom>
          <a:ln w="0">
            <a:noFill/>
          </a:ln>
        </p:spPr>
      </p:pic>
      <p:sp>
        <p:nvSpPr>
          <p:cNvPr id="1139" name=""/>
          <p:cNvSpPr/>
          <p:nvPr/>
        </p:nvSpPr>
        <p:spPr>
          <a:xfrm>
            <a:off x="426960" y="3327480"/>
            <a:ext cx="43012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igrates from Locality to Loc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ocalities may overl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9" dur="indefinite" restart="never" nodeType="tmRoot">
          <p:childTnLst>
            <p:seq>
              <p:cTn id="2630" dur="indefinite" nodeType="mainSeq">
                <p:childTnLst>
                  <p:par>
                    <p:cTn id="2631" fill="hold">
                      <p:stCondLst>
                        <p:cond delay="indefinite"/>
                      </p:stCondLst>
                      <p:childTnLst>
                        <p:par>
                          <p:cTn id="2632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35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6" fill="hold">
                      <p:stCondLst>
                        <p:cond delay="indefinite"/>
                      </p:stCondLst>
                      <p:childTnLst>
                        <p:par>
                          <p:cTn id="2637" fill="hold">
                            <p:stCondLst>
                              <p:cond delay="0"/>
                            </p:stCondLst>
                            <p:childTnLst>
                              <p:par>
                                <p:cTn id="26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0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ash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Minimum #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etermined by Instruction 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Active Pages (current  loca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# Active in Use &gt; # Frames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F, PF, PF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Thra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1" dur="indefinite" restart="never" nodeType="tmRoot">
          <p:childTnLst>
            <p:seq>
              <p:cTn id="2642" dur="indefinite" nodeType="mainSeq">
                <p:childTnLst>
                  <p:par>
                    <p:cTn id="2643" fill="hold">
                      <p:stCondLst>
                        <p:cond delay="indefinite"/>
                      </p:stCondLst>
                      <p:childTnLst>
                        <p:par>
                          <p:cTn id="2644" fill="hold">
                            <p:stCondLst>
                              <p:cond delay="0"/>
                            </p:stCondLst>
                            <p:childTnLst>
                              <p:par>
                                <p:cTn id="26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7" dur="500"/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8" fill="hold">
                      <p:stCondLst>
                        <p:cond delay="indefinite"/>
                      </p:stCondLst>
                      <p:childTnLst>
                        <p:par>
                          <p:cTn id="2649" fill="hold">
                            <p:stCondLst>
                              <p:cond delay="0"/>
                            </p:stCondLst>
                            <p:childTnLst>
                              <p:par>
                                <p:cTn id="26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52" dur="500"/>
                                        <p:tgtEl>
                                          <p:spTgt spid="1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3" fill="hold">
                      <p:stCondLst>
                        <p:cond delay="indefinite"/>
                      </p:stCondLst>
                      <p:childTnLst>
                        <p:par>
                          <p:cTn id="2654" fill="hold">
                            <p:stCondLst>
                              <p:cond delay="0"/>
                            </p:stCondLst>
                            <p:childTnLst>
                              <p:par>
                                <p:cTn id="26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57" dur="500"/>
                                        <p:tgtEl>
                                          <p:spTgt spid="1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8" fill="hold">
                            <p:stCondLst>
                              <p:cond delay="500"/>
                            </p:stCondLst>
                            <p:childTnLst>
                              <p:par>
                                <p:cTn id="26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1" dur="500"/>
                                        <p:tgtEl>
                                          <p:spTgt spid="1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2" fill="hold">
                      <p:stCondLst>
                        <p:cond delay="indefinite"/>
                      </p:stCondLst>
                      <p:childTnLst>
                        <p:par>
                          <p:cTn id="2663" fill="hold">
                            <p:stCondLst>
                              <p:cond delay="0"/>
                            </p:stCondLst>
                            <p:childTnLst>
                              <p:par>
                                <p:cTn id="26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6" dur="500"/>
                                        <p:tgtEl>
                                          <p:spTgt spid="1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7" fill="hold">
                      <p:stCondLst>
                        <p:cond delay="indefinite"/>
                      </p:stCondLst>
                      <p:childTnLst>
                        <p:par>
                          <p:cTn id="2668" fill="hold">
                            <p:stCondLst>
                              <p:cond delay="0"/>
                            </p:stCondLst>
                            <p:childTnLst>
                              <p:par>
                                <p:cTn id="26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71" dur="500"/>
                                        <p:tgtEl>
                                          <p:spTgt spid="1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rash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Global Allocation (worst ca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4" name=""/>
          <p:cNvSpPr/>
          <p:nvPr/>
        </p:nvSpPr>
        <p:spPr>
          <a:xfrm>
            <a:off x="1752480" y="556272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1981080" y="26665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981080" y="3149640"/>
            <a:ext cx="3810240" cy="2413080"/>
          </a:xfrm>
          <a:custGeom>
            <a:avLst/>
            <a:gdLst/>
            <a:ahLst/>
            <a:rect l="l" t="t" r="r" b="b"/>
            <a:pathLst>
              <a:path w="2640" h="1520">
                <a:moveTo>
                  <a:pt x="0" y="1520"/>
                </a:moveTo>
                <a:cubicBezTo>
                  <a:pt x="140" y="1316"/>
                  <a:pt x="280" y="1112"/>
                  <a:pt x="432" y="944"/>
                </a:cubicBezTo>
                <a:cubicBezTo>
                  <a:pt x="584" y="776"/>
                  <a:pt x="664" y="648"/>
                  <a:pt x="912" y="512"/>
                </a:cubicBezTo>
                <a:cubicBezTo>
                  <a:pt x="1160" y="376"/>
                  <a:pt x="1704" y="0"/>
                  <a:pt x="1920" y="128"/>
                </a:cubicBezTo>
                <a:cubicBezTo>
                  <a:pt x="2136" y="256"/>
                  <a:pt x="2088" y="1064"/>
                  <a:pt x="2208" y="1280"/>
                </a:cubicBezTo>
                <a:cubicBezTo>
                  <a:pt x="2328" y="1496"/>
                  <a:pt x="2484" y="1460"/>
                  <a:pt x="2640" y="1424"/>
                </a:cubicBezTo>
              </a:path>
            </a:pathLst>
          </a:custGeom>
          <a:noFill/>
          <a:ln w="7632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952880" y="3124080"/>
            <a:ext cx="0" cy="2743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816480" y="292500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PU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648040" y="5204520"/>
            <a:ext cx="247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egree of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multi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2" dur="indefinite" restart="never" nodeType="tmRoot">
          <p:childTnLst>
            <p:seq>
              <p:cTn id="2673" dur="indefinite" nodeType="mainSeq">
                <p:childTnLst>
                  <p:par>
                    <p:cTn id="2674" fill="hold">
                      <p:stCondLst>
                        <p:cond delay="indefinite"/>
                      </p:stCondLst>
                      <p:childTnLst>
                        <p:par>
                          <p:cTn id="2675" fill="hold">
                            <p:stCondLst>
                              <p:cond delay="0"/>
                            </p:stCondLst>
                            <p:childTnLst>
                              <p:par>
                                <p:cTn id="26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78" dur="500"/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9" fill="hold">
                      <p:stCondLst>
                        <p:cond delay="indefinite"/>
                      </p:stCondLst>
                      <p:childTnLst>
                        <p:par>
                          <p:cTn id="2680" fill="hold">
                            <p:stCondLst>
                              <p:cond delay="0"/>
                            </p:stCondLst>
                            <p:childTnLst>
                              <p:par>
                                <p:cTn id="26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3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4" fill="hold">
                            <p:stCondLst>
                              <p:cond delay="500"/>
                            </p:stCondLst>
                            <p:childTnLst>
                              <p:par>
                                <p:cTn id="268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87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1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95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6" fill="hold">
                      <p:stCondLst>
                        <p:cond delay="indefinite"/>
                      </p:stCondLst>
                      <p:childTnLst>
                        <p:par>
                          <p:cTn id="2697" fill="hold">
                            <p:stCondLst>
                              <p:cond delay="0"/>
                            </p:stCondLst>
                            <p:childTnLst>
                              <p:par>
                                <p:cTn id="2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0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1" fill="hold">
                            <p:stCondLst>
                              <p:cond delay="500"/>
                            </p:stCondLst>
                            <p:childTnLst>
                              <p:par>
                                <p:cTn id="27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4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rash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edi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orking Set Model  (Treat Caus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age Fault Rate  (Treat Symptom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5" dur="indefinite" restart="never" nodeType="tmRoot">
          <p:childTnLst>
            <p:seq>
              <p:cTn id="2706" dur="indefinite" nodeType="mainSeq">
                <p:childTnLst>
                  <p:par>
                    <p:cTn id="2707" fill="hold">
                      <p:stCondLst>
                        <p:cond delay="indefinite"/>
                      </p:stCondLst>
                      <p:childTnLst>
                        <p:par>
                          <p:cTn id="2708" fill="hold">
                            <p:stCondLst>
                              <p:cond delay="0"/>
                            </p:stCondLst>
                            <p:childTnLst>
                              <p:par>
                                <p:cTn id="27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11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emand Pag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= Paging + Swapping (Pag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301760" y="2160720"/>
            <a:ext cx="900000" cy="2165040"/>
            <a:chOff x="1301760" y="2160720"/>
            <a:chExt cx="900000" cy="2165040"/>
          </a:xfrm>
        </p:grpSpPr>
        <p:sp>
          <p:nvSpPr>
            <p:cNvPr id="94" name=""/>
            <p:cNvSpPr/>
            <p:nvPr/>
          </p:nvSpPr>
          <p:spPr>
            <a:xfrm>
              <a:off x="1301760" y="2517840"/>
              <a:ext cx="90000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01760" y="2879640"/>
              <a:ext cx="90000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01760" y="324180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01760" y="360360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01760" y="396540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01760" y="2160720"/>
              <a:ext cx="90000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4608360" y="2133720"/>
            <a:ext cx="903600" cy="2860560"/>
            <a:chOff x="4608360" y="2133720"/>
            <a:chExt cx="903600" cy="2860560"/>
          </a:xfrm>
        </p:grpSpPr>
        <p:sp>
          <p:nvSpPr>
            <p:cNvPr id="101" name=""/>
            <p:cNvSpPr/>
            <p:nvPr/>
          </p:nvSpPr>
          <p:spPr>
            <a:xfrm>
              <a:off x="4610160" y="249084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10160" y="285264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10160" y="213372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10160" y="391968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10160" y="427356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10160" y="357192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11600" y="3209760"/>
              <a:ext cx="90036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608360" y="4633920"/>
              <a:ext cx="90036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4330080" y="2175480"/>
            <a:ext cx="307080" cy="28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08360" y="2495520"/>
            <a:ext cx="90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08360" y="3573360"/>
            <a:ext cx="90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08360" y="4276800"/>
            <a:ext cx="90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24480" y="2262240"/>
            <a:ext cx="2362320" cy="2743200"/>
          </a:xfrm>
          <a:prstGeom prst="can">
            <a:avLst>
              <a:gd name="adj" fmla="val 19814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29400" y="290988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715160" y="3405240"/>
            <a:ext cx="90036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363384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01960" y="2154240"/>
            <a:ext cx="903240" cy="2911320"/>
            <a:chOff x="2901960" y="2154240"/>
            <a:chExt cx="903240" cy="2911320"/>
          </a:xfrm>
        </p:grpSpPr>
        <p:sp>
          <p:nvSpPr>
            <p:cNvPr id="118" name=""/>
            <p:cNvSpPr/>
            <p:nvPr/>
          </p:nvSpPr>
          <p:spPr>
            <a:xfrm>
              <a:off x="2911680" y="250812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01960" y="215424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443400" y="215424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01960" y="251928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43400" y="251928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01960" y="288432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43400" y="288432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901960" y="324972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43400" y="324972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03760" y="3614760"/>
              <a:ext cx="5396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44840" y="361476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01960" y="397512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43400" y="397512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03760" y="4340160"/>
              <a:ext cx="5396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44840" y="434016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01960" y="470520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43400" y="470520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2906640" y="2152800"/>
            <a:ext cx="54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48080" y="2152800"/>
            <a:ext cx="36036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06640" y="2517840"/>
            <a:ext cx="54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48080" y="2517840"/>
            <a:ext cx="36036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06640" y="2882880"/>
            <a:ext cx="54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48080" y="2882880"/>
            <a:ext cx="36036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448080" y="3247920"/>
            <a:ext cx="361800" cy="1086120"/>
            <a:chOff x="3448080" y="3247920"/>
            <a:chExt cx="361800" cy="1086120"/>
          </a:xfrm>
        </p:grpSpPr>
        <p:sp>
          <p:nvSpPr>
            <p:cNvPr id="142" name=""/>
            <p:cNvSpPr/>
            <p:nvPr/>
          </p:nvSpPr>
          <p:spPr>
            <a:xfrm>
              <a:off x="3448080" y="3247920"/>
              <a:ext cx="360360" cy="36036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49520" y="3613320"/>
              <a:ext cx="360360" cy="36036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48080" y="3973680"/>
              <a:ext cx="360360" cy="36036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448080" y="4338720"/>
            <a:ext cx="361800" cy="725400"/>
            <a:chOff x="3448080" y="4338720"/>
            <a:chExt cx="361800" cy="725400"/>
          </a:xfrm>
        </p:grpSpPr>
        <p:sp>
          <p:nvSpPr>
            <p:cNvPr id="146" name=""/>
            <p:cNvSpPr/>
            <p:nvPr/>
          </p:nvSpPr>
          <p:spPr>
            <a:xfrm>
              <a:off x="3449520" y="4338720"/>
              <a:ext cx="360360" cy="360360"/>
            </a:xfrm>
            <a:prstGeom prst="rect">
              <a:avLst/>
            </a:prstGeom>
            <a:solidFill>
              <a:srgbClr val="fc01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48080" y="4703760"/>
              <a:ext cx="360360" cy="360360"/>
            </a:xfrm>
            <a:prstGeom prst="rect">
              <a:avLst/>
            </a:prstGeom>
            <a:solidFill>
              <a:srgbClr val="fc01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2631240" y="2132640"/>
            <a:ext cx="469080" cy="2950200"/>
            <a:chOff x="2631240" y="2132640"/>
            <a:chExt cx="469080" cy="2950200"/>
          </a:xfrm>
        </p:grpSpPr>
        <p:sp>
          <p:nvSpPr>
            <p:cNvPr id="149" name=""/>
            <p:cNvSpPr/>
            <p:nvPr/>
          </p:nvSpPr>
          <p:spPr>
            <a:xfrm>
              <a:off x="2916000" y="25066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31240" y="213264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31240" y="249768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631240" y="286308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631240" y="322812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640600" y="359316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1240" y="395352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40600" y="431856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39160" y="468396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928800" y="5253480"/>
            <a:ext cx="32270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ccess Page 0, 1, 2:      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ccess Page 4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200400" y="5562720"/>
            <a:ext cx="2153160" cy="685800"/>
            <a:chOff x="3200400" y="5562720"/>
            <a:chExt cx="2153160" cy="685800"/>
          </a:xfrm>
        </p:grpSpPr>
        <p:sp>
          <p:nvSpPr>
            <p:cNvPr id="160" name=""/>
            <p:cNvSpPr/>
            <p:nvPr/>
          </p:nvSpPr>
          <p:spPr>
            <a:xfrm>
              <a:off x="3200400" y="5562720"/>
              <a:ext cx="990720" cy="68580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03480" y="5713920"/>
              <a:ext cx="145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-Faul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52280" y="4486320"/>
            <a:ext cx="2362320" cy="31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481" y="-43855"/>
                </a:moveTo>
                <a:lnTo>
                  <a:pt x="22297" y="7855"/>
                </a:lnTo>
              </a:path>
              <a:path w="21600" h="21600">
                <a:moveTo>
                  <a:pt x="22297" y="0"/>
                </a:moveTo>
                <a:lnTo>
                  <a:pt x="22297" y="21600"/>
                </a:lnTo>
              </a:path>
            </a:pathLst>
          </a:custGeom>
          <a:noFill/>
          <a:ln w="3240">
            <a:solidFill>
              <a:srgbClr val="fe7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7c92"/>
                </a:solidFill>
                <a:latin typeface="Tahoma"/>
              </a:rPr>
              <a:t>Valid but not loa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4943520"/>
            <a:ext cx="2362320" cy="31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481" y="-22909"/>
                </a:moveTo>
                <a:lnTo>
                  <a:pt x="22297" y="7855"/>
                </a:lnTo>
              </a:path>
              <a:path w="21600" h="21600">
                <a:moveTo>
                  <a:pt x="22297" y="0"/>
                </a:moveTo>
                <a:lnTo>
                  <a:pt x="22297" y="21600"/>
                </a:lnTo>
              </a:path>
            </a:pathLst>
          </a:custGeom>
          <a:noFill/>
          <a:ln w="3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Inval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50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Working Set Mod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Based on “Locality”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urrent Locality = Working Set (W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WWS</a:t>
            </a:r>
            <a:r>
              <a:rPr b="0" lang="nl-BE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= | WS of process</a:t>
            </a:r>
            <a:r>
              <a:rPr b="0" lang="nl-BE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|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WWS</a:t>
            </a:r>
            <a:r>
              <a:rPr b="0" lang="nl-BE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= D (Deman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 &gt; | RAM |   </a:t>
            </a:r>
            <a:r>
              <a:rPr b="0" lang="nl-B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swap 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 &lt; | RAM |   </a:t>
            </a:r>
            <a:r>
              <a:rPr b="0" lang="nl-B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swap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2" dur="indefinite" restart="never" nodeType="tmRoot">
          <p:childTnLst>
            <p:seq>
              <p:cTn id="2713" dur="indefinite" nodeType="mainSeq">
                <p:childTnLst>
                  <p:par>
                    <p:cTn id="2714" fill="hold">
                      <p:stCondLst>
                        <p:cond delay="indefinite"/>
                      </p:stCondLst>
                      <p:childTnLst>
                        <p:par>
                          <p:cTn id="2715" fill="hold">
                            <p:stCondLst>
                              <p:cond delay="0"/>
                            </p:stCondLst>
                            <p:childTnLst>
                              <p:par>
                                <p:cTn id="27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18" dur="500"/>
                                        <p:tgtEl>
                                          <p:spTgt spid="1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9" fill="hold">
                      <p:stCondLst>
                        <p:cond delay="indefinite"/>
                      </p:stCondLst>
                      <p:childTnLst>
                        <p:par>
                          <p:cTn id="2720" fill="hold">
                            <p:stCondLst>
                              <p:cond delay="0"/>
                            </p:stCondLst>
                            <p:childTnLst>
                              <p:par>
                                <p:cTn id="27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23" dur="500"/>
                                        <p:tgtEl>
                                          <p:spTgt spid="1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4" fill="hold">
                      <p:stCondLst>
                        <p:cond delay="indefinite"/>
                      </p:stCondLst>
                      <p:childTnLst>
                        <p:par>
                          <p:cTn id="2725" fill="hold">
                            <p:stCondLst>
                              <p:cond delay="0"/>
                            </p:stCondLst>
                            <p:childTnLst>
                              <p:par>
                                <p:cTn id="27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28" dur="500"/>
                                        <p:tgtEl>
                                          <p:spTgt spid="1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9" fill="hold">
                      <p:stCondLst>
                        <p:cond delay="indefinite"/>
                      </p:stCondLst>
                      <p:childTnLst>
                        <p:par>
                          <p:cTn id="2730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33" dur="500"/>
                                        <p:tgtEl>
                                          <p:spTgt spid="1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36" dur="500"/>
                                        <p:tgtEl>
                                          <p:spTgt spid="1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39" dur="500"/>
                                        <p:tgtEl>
                                          <p:spTgt spid="1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orking Set Mod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5" name=""/>
          <p:cNvSpPr/>
          <p:nvPr/>
        </p:nvSpPr>
        <p:spPr>
          <a:xfrm>
            <a:off x="1072080" y="4572000"/>
            <a:ext cx="645912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o small will not encompass entire loc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o large will encompass several loca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ll encompass entire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72760" y="1752480"/>
            <a:ext cx="213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ing Se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68440" y="2575080"/>
            <a:ext cx="785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6 1 5 7 7 7 7 5 1 6 2 3 4 1 2 3 4 4 4 3 4 3 4 4 4 1 3 2 3 4 4 3 4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086480" y="3886200"/>
            <a:ext cx="2622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= {1, 2, 5, 6, 7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830160" y="2727360"/>
            <a:ext cx="2490840" cy="1229040"/>
            <a:chOff x="830160" y="2727360"/>
            <a:chExt cx="2490840" cy="1229040"/>
          </a:xfrm>
        </p:grpSpPr>
        <p:grpSp>
          <p:nvGrpSpPr>
            <p:cNvPr id="1160" name=""/>
            <p:cNvGrpSpPr/>
            <p:nvPr/>
          </p:nvGrpSpPr>
          <p:grpSpPr>
            <a:xfrm>
              <a:off x="830160" y="2727360"/>
              <a:ext cx="2143080" cy="1066680"/>
              <a:chOff x="830160" y="2727360"/>
              <a:chExt cx="2143080" cy="1066680"/>
            </a:xfrm>
          </p:grpSpPr>
          <p:sp>
            <p:nvSpPr>
              <p:cNvPr id="1161" name=""/>
              <p:cNvSpPr/>
              <p:nvPr/>
            </p:nvSpPr>
            <p:spPr>
              <a:xfrm flipV="1">
                <a:off x="2973240" y="2879640"/>
                <a:ext cx="0" cy="914400"/>
              </a:xfrm>
              <a:prstGeom prst="line">
                <a:avLst/>
              </a:prstGeom>
              <a:ln w="2844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830160" y="3165480"/>
                <a:ext cx="2133720" cy="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1755720" y="272736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c0128"/>
                    </a:solidFill>
                    <a:latin typeface="Symbol"/>
                    <a:ea typeface="Symbol"/>
                  </a:rPr>
                  <a:t>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4" name=""/>
            <p:cNvSpPr/>
            <p:nvPr/>
          </p:nvSpPr>
          <p:spPr>
            <a:xfrm>
              <a:off x="2930040" y="3446280"/>
              <a:ext cx="390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ahoma"/>
                </a:rPr>
                <a:t>t</a:t>
              </a:r>
              <a:r>
                <a:rPr b="0" lang="en-US" sz="2400" spc="-1" strike="noStrike" baseline="-25000">
                  <a:solidFill>
                    <a:srgbClr val="00279f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5" name=""/>
          <p:cNvGrpSpPr/>
          <p:nvPr/>
        </p:nvGrpSpPr>
        <p:grpSpPr>
          <a:xfrm>
            <a:off x="4343400" y="2722680"/>
            <a:ext cx="2490840" cy="1229040"/>
            <a:chOff x="4343400" y="2722680"/>
            <a:chExt cx="2490840" cy="1229040"/>
          </a:xfrm>
        </p:grpSpPr>
        <p:grpSp>
          <p:nvGrpSpPr>
            <p:cNvPr id="1166" name=""/>
            <p:cNvGrpSpPr/>
            <p:nvPr/>
          </p:nvGrpSpPr>
          <p:grpSpPr>
            <a:xfrm>
              <a:off x="4343400" y="2722680"/>
              <a:ext cx="2143080" cy="1066680"/>
              <a:chOff x="4343400" y="2722680"/>
              <a:chExt cx="2143080" cy="1066680"/>
            </a:xfrm>
          </p:grpSpPr>
          <p:sp>
            <p:nvSpPr>
              <p:cNvPr id="1167" name=""/>
              <p:cNvSpPr/>
              <p:nvPr/>
            </p:nvSpPr>
            <p:spPr>
              <a:xfrm flipV="1">
                <a:off x="6486480" y="2874960"/>
                <a:ext cx="0" cy="914400"/>
              </a:xfrm>
              <a:prstGeom prst="line">
                <a:avLst/>
              </a:prstGeom>
              <a:ln w="2844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4343400" y="3160800"/>
                <a:ext cx="2133720" cy="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268960" y="272268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c0128"/>
                    </a:solidFill>
                    <a:latin typeface="Symbol"/>
                    <a:ea typeface="Symbol"/>
                  </a:rPr>
                  <a:t>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0" name=""/>
            <p:cNvSpPr/>
            <p:nvPr/>
          </p:nvSpPr>
          <p:spPr>
            <a:xfrm>
              <a:off x="6443280" y="3441600"/>
              <a:ext cx="390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ahoma"/>
                </a:rPr>
                <a:t>t</a:t>
              </a:r>
              <a:r>
                <a:rPr b="0" lang="en-US" sz="2400" spc="-1" strike="noStrike" baseline="-25000">
                  <a:solidFill>
                    <a:srgbClr val="00279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1" name=""/>
          <p:cNvSpPr/>
          <p:nvPr/>
        </p:nvSpPr>
        <p:spPr>
          <a:xfrm>
            <a:off x="5110200" y="3886200"/>
            <a:ext cx="1780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= {3, 4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909360" y="4495680"/>
            <a:ext cx="7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0" dur="indefinite" restart="never" nodeType="tmRoot">
          <p:childTnLst>
            <p:seq>
              <p:cTn id="2741" dur="indefinite" nodeType="mainSeq">
                <p:childTnLst>
                  <p:par>
                    <p:cTn id="2742" fill="hold">
                      <p:stCondLst>
                        <p:cond delay="indefinite"/>
                      </p:stCondLst>
                      <p:childTnLst>
                        <p:par>
                          <p:cTn id="2743" fill="hold">
                            <p:stCondLst>
                              <p:cond delay="0"/>
                            </p:stCondLst>
                            <p:childTnLst>
                              <p:par>
                                <p:cTn id="27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6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7" fill="hold">
                      <p:stCondLst>
                        <p:cond delay="indefinite"/>
                      </p:stCondLst>
                      <p:childTnLst>
                        <p:par>
                          <p:cTn id="2748" fill="hold">
                            <p:stCondLst>
                              <p:cond delay="0"/>
                            </p:stCondLst>
                            <p:childTnLst>
                              <p:par>
                                <p:cTn id="2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1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2" fill="hold">
                      <p:stCondLst>
                        <p:cond delay="indefinite"/>
                      </p:stCondLst>
                      <p:childTnLst>
                        <p:par>
                          <p:cTn id="2753" fill="hold">
                            <p:stCondLst>
                              <p:cond delay="0"/>
                            </p:stCondLst>
                            <p:childTnLst>
                              <p:par>
                                <p:cTn id="27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6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7" fill="hold">
                      <p:stCondLst>
                        <p:cond delay="indefinite"/>
                      </p:stCondLst>
                      <p:childTnLst>
                        <p:par>
                          <p:cTn id="2758" fill="hold">
                            <p:stCondLst>
                              <p:cond delay="0"/>
                            </p:stCondLst>
                            <p:childTnLst>
                              <p:par>
                                <p:cTn id="2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1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2" fill="hold">
                      <p:stCondLst>
                        <p:cond delay="indefinite"/>
                      </p:stCondLst>
                      <p:childTnLst>
                        <p:par>
                          <p:cTn id="2763" fill="hold">
                            <p:stCondLst>
                              <p:cond delay="0"/>
                            </p:stCondLst>
                            <p:childTnLst>
                              <p:par>
                                <p:cTn id="27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66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7" fill="hold">
                      <p:stCondLst>
                        <p:cond delay="indefinite"/>
                      </p:stCondLst>
                      <p:childTnLst>
                        <p:par>
                          <p:cTn id="2768" fill="hold">
                            <p:stCondLst>
                              <p:cond delay="0"/>
                            </p:stCondLst>
                            <p:childTnLst>
                              <p:par>
                                <p:cTn id="2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1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fill="hold">
                      <p:stCondLst>
                        <p:cond delay="indefinite"/>
                      </p:stCondLst>
                      <p:childTnLst>
                        <p:par>
                          <p:cTn id="2773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6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7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8" fill="hold">
                      <p:stCondLst>
                        <p:cond delay="indefinite"/>
                      </p:stCondLst>
                      <p:childTnLst>
                        <p:par>
                          <p:cTn id="2779" fill="hold">
                            <p:stCondLst>
                              <p:cond delay="0"/>
                            </p:stCondLst>
                            <p:childTnLst>
                              <p:par>
                                <p:cTn id="27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2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orking Set Mod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track of W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very reference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modify 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ldest reference: 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ast reference: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pproxim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imer + extra referenc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alid/invalid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3" dur="indefinite" restart="never" nodeType="tmRoot">
          <p:childTnLst>
            <p:seq>
              <p:cTn id="2784" dur="indefinite" nodeType="mainSeq">
                <p:childTnLst>
                  <p:par>
                    <p:cTn id="2785" fill="hold">
                      <p:stCondLst>
                        <p:cond delay="indefinite"/>
                      </p:stCondLst>
                      <p:childTnLst>
                        <p:par>
                          <p:cTn id="2786" fill="hold">
                            <p:stCondLst>
                              <p:cond delay="0"/>
                            </p:stCondLst>
                            <p:childTnLst>
                              <p:par>
                                <p:cTn id="27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9" dur="500"/>
                                        <p:tgtEl>
                                          <p:spTgt spid="1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0" fill="hold">
                      <p:stCondLst>
                        <p:cond delay="indefinite"/>
                      </p:stCondLst>
                      <p:childTnLst>
                        <p:par>
                          <p:cTn id="2791" fill="hold">
                            <p:stCondLst>
                              <p:cond delay="0"/>
                            </p:stCondLst>
                            <p:childTnLst>
                              <p:par>
                                <p:cTn id="27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94" dur="500"/>
                                        <p:tgtEl>
                                          <p:spTgt spid="1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97" dur="500"/>
                                        <p:tgtEl>
                                          <p:spTgt spid="1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0" dur="500"/>
                                        <p:tgtEl>
                                          <p:spTgt spid="1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1" fill="hold">
                      <p:stCondLst>
                        <p:cond delay="indefinite"/>
                      </p:stCondLst>
                      <p:childTnLst>
                        <p:par>
                          <p:cTn id="2802" fill="hold">
                            <p:stCondLst>
                              <p:cond delay="0"/>
                            </p:stCondLst>
                            <p:childTnLst>
                              <p:par>
                                <p:cTn id="28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5" dur="500"/>
                                        <p:tgtEl>
                                          <p:spTgt spid="1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8" dur="500"/>
                                        <p:tgtEl>
                                          <p:spTgt spid="1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11" dur="500"/>
                                        <p:tgtEl>
                                          <p:spTgt spid="1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age Fault Frequenc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6" name=""/>
          <p:cNvSpPr/>
          <p:nvPr/>
        </p:nvSpPr>
        <p:spPr>
          <a:xfrm>
            <a:off x="2743200" y="1981080"/>
            <a:ext cx="9360" cy="3733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600280" y="556272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057480" y="2743200"/>
            <a:ext cx="4419720" cy="2133720"/>
          </a:xfrm>
          <a:custGeom>
            <a:avLst/>
            <a:gdLst/>
            <a:ahLst/>
            <a:rect l="l" t="t" r="r" b="b"/>
            <a:pathLst>
              <a:path w="2784" h="1344">
                <a:moveTo>
                  <a:pt x="0" y="0"/>
                </a:moveTo>
                <a:cubicBezTo>
                  <a:pt x="96" y="236"/>
                  <a:pt x="192" y="472"/>
                  <a:pt x="384" y="672"/>
                </a:cubicBezTo>
                <a:cubicBezTo>
                  <a:pt x="576" y="872"/>
                  <a:pt x="752" y="1088"/>
                  <a:pt x="1152" y="1200"/>
                </a:cubicBezTo>
                <a:cubicBezTo>
                  <a:pt x="1552" y="1312"/>
                  <a:pt x="2168" y="1328"/>
                  <a:pt x="2784" y="1344"/>
                </a:cubicBezTo>
              </a:path>
            </a:pathLst>
          </a:custGeom>
          <a:noFill/>
          <a:ln w="7632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652920" y="2492640"/>
            <a:ext cx="2337120" cy="398880"/>
          </a:xfrm>
          <a:prstGeom prst="borderCallout1">
            <a:avLst>
              <a:gd name="adj1" fmla="val 18750"/>
              <a:gd name="adj2" fmla="val -8333"/>
              <a:gd name="adj3" fmla="val 110004"/>
              <a:gd name="adj4" fmla="val -21189"/>
            </a:avLst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Increase # fr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821560" y="5032800"/>
            <a:ext cx="2422440" cy="398880"/>
          </a:xfrm>
          <a:prstGeom prst="borderCallout1">
            <a:avLst>
              <a:gd name="adj1" fmla="val 18750"/>
              <a:gd name="adj2" fmla="val -8333"/>
              <a:gd name="adj3" fmla="val -88546"/>
              <a:gd name="adj4" fmla="val -35912"/>
            </a:avLst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ecrease # fr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1745640" y="20563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F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910920" y="5637960"/>
            <a:ext cx="129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# Fr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3" name=""/>
          <p:cNvGrpSpPr/>
          <p:nvPr/>
        </p:nvGrpSpPr>
        <p:grpSpPr>
          <a:xfrm>
            <a:off x="2523960" y="2886840"/>
            <a:ext cx="6031800" cy="398880"/>
            <a:chOff x="2523960" y="2886840"/>
            <a:chExt cx="6031800" cy="398880"/>
          </a:xfrm>
        </p:grpSpPr>
        <p:sp>
          <p:nvSpPr>
            <p:cNvPr id="1184" name=""/>
            <p:cNvSpPr/>
            <p:nvPr/>
          </p:nvSpPr>
          <p:spPr>
            <a:xfrm>
              <a:off x="2523960" y="3276720"/>
              <a:ext cx="5181840" cy="0"/>
            </a:xfrm>
            <a:prstGeom prst="line">
              <a:avLst/>
            </a:prstGeom>
            <a:ln cap="rnd" w="9360">
              <a:solidFill>
                <a:srgbClr val="00279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779520" y="2886840"/>
              <a:ext cx="177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279f"/>
                  </a:solidFill>
                  <a:latin typeface="Tahoma"/>
                </a:rPr>
                <a:t>Upper bou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6" name=""/>
          <p:cNvGrpSpPr/>
          <p:nvPr/>
        </p:nvGrpSpPr>
        <p:grpSpPr>
          <a:xfrm>
            <a:off x="2523960" y="3961440"/>
            <a:ext cx="6223320" cy="398880"/>
            <a:chOff x="2523960" y="3961440"/>
            <a:chExt cx="6223320" cy="398880"/>
          </a:xfrm>
        </p:grpSpPr>
        <p:sp>
          <p:nvSpPr>
            <p:cNvPr id="1187" name=""/>
            <p:cNvSpPr/>
            <p:nvPr/>
          </p:nvSpPr>
          <p:spPr>
            <a:xfrm>
              <a:off x="2523960" y="4343400"/>
              <a:ext cx="5181840" cy="0"/>
            </a:xfrm>
            <a:prstGeom prst="line">
              <a:avLst/>
            </a:prstGeom>
            <a:ln cap="rnd" w="9360">
              <a:solidFill>
                <a:srgbClr val="00279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983280" y="3961440"/>
              <a:ext cx="176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279f"/>
                  </a:solidFill>
                  <a:latin typeface="Tahoma"/>
                </a:rPr>
                <a:t>Lower bou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9" name=""/>
          <p:cNvSpPr/>
          <p:nvPr/>
        </p:nvSpPr>
        <p:spPr>
          <a:xfrm>
            <a:off x="4191120" y="4114800"/>
            <a:ext cx="771480" cy="38088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384" y="192"/>
                </a:moveTo>
                <a:cubicBezTo>
                  <a:pt x="320" y="184"/>
                  <a:pt x="256" y="176"/>
                  <a:pt x="192" y="144"/>
                </a:cubicBezTo>
                <a:cubicBezTo>
                  <a:pt x="128" y="112"/>
                  <a:pt x="64" y="56"/>
                  <a:pt x="0" y="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271680" y="2957400"/>
            <a:ext cx="447840" cy="609840"/>
          </a:xfrm>
          <a:custGeom>
            <a:avLst/>
            <a:gdLst/>
            <a:ahLst/>
            <a:rect l="l" t="t" r="r" b="b"/>
            <a:pathLst>
              <a:path w="240" h="288">
                <a:moveTo>
                  <a:pt x="0" y="0"/>
                </a:moveTo>
                <a:cubicBezTo>
                  <a:pt x="28" y="48"/>
                  <a:pt x="56" y="96"/>
                  <a:pt x="96" y="144"/>
                </a:cubicBezTo>
                <a:cubicBezTo>
                  <a:pt x="136" y="192"/>
                  <a:pt x="188" y="240"/>
                  <a:pt x="240" y="288"/>
                </a:cubicBezTo>
              </a:path>
            </a:pathLst>
          </a:custGeom>
          <a:noFill/>
          <a:ln w="38160">
            <a:solidFill>
              <a:srgbClr val="00ae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057480" y="2895480"/>
            <a:ext cx="152280" cy="15264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886280" y="4572000"/>
            <a:ext cx="152280" cy="15228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H="1">
            <a:off x="2752200" y="4648320"/>
            <a:ext cx="221004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H="1">
            <a:off x="2752200" y="2971800"/>
            <a:ext cx="30492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438360" y="3581280"/>
            <a:ext cx="152640" cy="15264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971880" y="4114800"/>
            <a:ext cx="152280" cy="15228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7" name=""/>
          <p:cNvGrpSpPr/>
          <p:nvPr/>
        </p:nvGrpSpPr>
        <p:grpSpPr>
          <a:xfrm>
            <a:off x="533520" y="3276720"/>
            <a:ext cx="1990440" cy="1066680"/>
            <a:chOff x="533520" y="3276720"/>
            <a:chExt cx="1990440" cy="1066680"/>
          </a:xfrm>
        </p:grpSpPr>
        <p:sp>
          <p:nvSpPr>
            <p:cNvPr id="1198" name=""/>
            <p:cNvSpPr/>
            <p:nvPr/>
          </p:nvSpPr>
          <p:spPr>
            <a:xfrm>
              <a:off x="2219400" y="3276720"/>
              <a:ext cx="304560" cy="106668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33520" y="3462480"/>
              <a:ext cx="1676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279f"/>
                  </a:solidFill>
                  <a:latin typeface="Tahoma"/>
                </a:rPr>
                <a:t>Acceptable</a:t>
              </a:r>
              <a:br>
                <a:rPr sz="2400"/>
              </a:br>
              <a:r>
                <a:rPr b="0" i="1" lang="en-US" sz="2400" spc="-1" strike="noStrike">
                  <a:solidFill>
                    <a:srgbClr val="00279f"/>
                  </a:solidFill>
                  <a:latin typeface="Tahoma"/>
                </a:rPr>
                <a:t>PF 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2" dur="indefinite" restart="never" nodeType="tmRoot">
          <p:childTnLst>
            <p:seq>
              <p:cTn id="2813" dur="indefinite" nodeType="mainSeq">
                <p:childTnLst>
                  <p:par>
                    <p:cTn id="2814" fill="hold">
                      <p:stCondLst>
                        <p:cond delay="indefinite"/>
                      </p:stCondLst>
                      <p:childTnLst>
                        <p:par>
                          <p:cTn id="2815" fill="hold">
                            <p:stCondLst>
                              <p:cond delay="0"/>
                            </p:stCondLst>
                            <p:childTnLst>
                              <p:par>
                                <p:cTn id="28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8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9" fill="hold">
                            <p:stCondLst>
                              <p:cond delay="500"/>
                            </p:stCondLst>
                            <p:childTnLst>
                              <p:par>
                                <p:cTn id="282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22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6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30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1" fill="hold">
                      <p:stCondLst>
                        <p:cond delay="indefinite"/>
                      </p:stCondLst>
                      <p:childTnLst>
                        <p:par>
                          <p:cTn id="2832" fill="hold">
                            <p:stCondLst>
                              <p:cond delay="0"/>
                            </p:stCondLst>
                            <p:childTnLst>
                              <p:par>
                                <p:cTn id="2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5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6" fill="hold">
                      <p:stCondLst>
                        <p:cond delay="indefinite"/>
                      </p:stCondLst>
                      <p:childTnLst>
                        <p:par>
                          <p:cTn id="2837" fill="hold">
                            <p:stCondLst>
                              <p:cond delay="0"/>
                            </p:stCondLst>
                            <p:childTnLst>
                              <p:par>
                                <p:cTn id="28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40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1" fill="hold">
                            <p:stCondLst>
                              <p:cond delay="500"/>
                            </p:stCondLst>
                            <p:childTnLst>
                              <p:par>
                                <p:cTn id="28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44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48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9" fill="hold">
                      <p:stCondLst>
                        <p:cond delay="indefinite"/>
                      </p:stCondLst>
                      <p:childTnLst>
                        <p:par>
                          <p:cTn id="2850" fill="hold">
                            <p:stCondLst>
                              <p:cond delay="0"/>
                            </p:stCondLst>
                            <p:childTnLst>
                              <p:par>
                                <p:cTn id="28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3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4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5" fill="hold">
                      <p:stCondLst>
                        <p:cond delay="indefinite"/>
                      </p:stCondLst>
                      <p:childTnLst>
                        <p:par>
                          <p:cTn id="2856" fill="hold">
                            <p:stCondLst>
                              <p:cond delay="0"/>
                            </p:stCondLst>
                            <p:childTnLst>
                              <p:par>
                                <p:cTn id="28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59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0" fill="hold">
                      <p:stCondLst>
                        <p:cond delay="indefinite"/>
                      </p:stCondLst>
                      <p:childTnLst>
                        <p:par>
                          <p:cTn id="2861" fill="hold">
                            <p:stCondLst>
                              <p:cond delay="0"/>
                            </p:stCondLst>
                            <p:childTnLst>
                              <p:par>
                                <p:cTn id="28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4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5" fill="hold">
                      <p:stCondLst>
                        <p:cond delay="indefinite"/>
                      </p:stCondLst>
                      <p:childTnLst>
                        <p:par>
                          <p:cTn id="2866" fill="hold">
                            <p:stCondLst>
                              <p:cond delay="0"/>
                            </p:stCondLst>
                            <p:childTnLst>
                              <p:par>
                                <p:cTn id="28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9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0" fill="hold">
                            <p:stCondLst>
                              <p:cond delay="500"/>
                            </p:stCondLst>
                            <p:childTnLst>
                              <p:par>
                                <p:cTn id="28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3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4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5" fill="hold">
                      <p:stCondLst>
                        <p:cond delay="indefinite"/>
                      </p:stCondLst>
                      <p:childTnLst>
                        <p:par>
                          <p:cTn id="2876" fill="hold">
                            <p:stCondLst>
                              <p:cond delay="0"/>
                            </p:stCondLst>
                            <p:childTnLst>
                              <p:par>
                                <p:cTn id="28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9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0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4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5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6" fill="hold">
                      <p:stCondLst>
                        <p:cond delay="indefinite"/>
                      </p:stCondLst>
                      <p:childTnLst>
                        <p:par>
                          <p:cTn id="2887" fill="hold">
                            <p:stCondLst>
                              <p:cond delay="0"/>
                            </p:stCondLst>
                            <p:childTnLst>
                              <p:par>
                                <p:cTn id="288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90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1" fill="hold">
                      <p:stCondLst>
                        <p:cond delay="indefinite"/>
                      </p:stCondLst>
                      <p:childTnLst>
                        <p:par>
                          <p:cTn id="2892" fill="hold">
                            <p:stCondLst>
                              <p:cond delay="0"/>
                            </p:stCondLst>
                            <p:childTnLst>
                              <p:par>
                                <p:cTn id="28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5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6" fill="hold">
                            <p:stCondLst>
                              <p:cond delay="500"/>
                            </p:stCondLst>
                            <p:childTnLst>
                              <p:par>
                                <p:cTn id="28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9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0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ther Considera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pa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ge Size Sel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LB Re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rted Page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/O Interlo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 Time Proces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2" name=""/>
          <p:cNvSpPr/>
          <p:nvPr/>
        </p:nvSpPr>
        <p:spPr>
          <a:xfrm>
            <a:off x="4716360" y="1413000"/>
            <a:ext cx="352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502" y="15300"/>
                </a:moveTo>
                <a:lnTo>
                  <a:pt x="-467" y="4000"/>
                </a:lnTo>
              </a:path>
              <a:path w="21600" h="21600">
                <a:moveTo>
                  <a:pt x="-467" y="0"/>
                </a:moveTo>
                <a:lnTo>
                  <a:pt x="-467" y="21600"/>
                </a:lnTo>
              </a:path>
            </a:pathLst>
          </a:custGeom>
          <a:noFill/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Bring in Working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580000" y="1989000"/>
            <a:ext cx="252108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590" y="12825"/>
                </a:moveTo>
                <a:lnTo>
                  <a:pt x="-653" y="4000"/>
                </a:lnTo>
              </a:path>
              <a:path w="21600" h="21600">
                <a:moveTo>
                  <a:pt x="-653" y="0"/>
                </a:moveTo>
                <a:lnTo>
                  <a:pt x="-653" y="21600"/>
                </a:lnTo>
              </a:path>
            </a:pathLst>
          </a:custGeom>
          <a:noFill/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Large vs 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148360" y="2708280"/>
            <a:ext cx="28796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979" y="8381"/>
                </a:moveTo>
                <a:lnTo>
                  <a:pt x="-572" y="4000"/>
                </a:lnTo>
              </a:path>
              <a:path w="21600" h="21600">
                <a:moveTo>
                  <a:pt x="-572" y="0"/>
                </a:moveTo>
                <a:lnTo>
                  <a:pt x="-572" y="21600"/>
                </a:lnTo>
              </a:path>
            </a:pathLst>
          </a:custGeom>
          <a:noFill/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Address Tran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508720" y="3357720"/>
            <a:ext cx="28796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80" y="5906"/>
                </a:moveTo>
                <a:lnTo>
                  <a:pt x="-572" y="4000"/>
                </a:lnTo>
              </a:path>
              <a:path w="21600" h="21600">
                <a:moveTo>
                  <a:pt x="-572" y="0"/>
                </a:moveTo>
                <a:lnTo>
                  <a:pt x="-572" y="21600"/>
                </a:lnTo>
              </a:path>
            </a:pathLst>
          </a:custGeom>
          <a:noFill/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# Page Fa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724360" y="4005360"/>
            <a:ext cx="28800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466" y="5513"/>
                </a:moveTo>
                <a:lnTo>
                  <a:pt x="-572" y="4000"/>
                </a:lnTo>
              </a:path>
              <a:path w="21600" h="21600">
                <a:moveTo>
                  <a:pt x="-572" y="0"/>
                </a:moveTo>
                <a:lnTo>
                  <a:pt x="-572" y="21600"/>
                </a:lnTo>
              </a:path>
            </a:pathLst>
          </a:custGeom>
          <a:noFill/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PT/process on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643280" y="4581360"/>
            <a:ext cx="28800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323" y="4613"/>
                </a:moveTo>
                <a:lnTo>
                  <a:pt x="-572" y="4000"/>
                </a:lnTo>
              </a:path>
              <a:path w="21600" h="21600">
                <a:moveTo>
                  <a:pt x="-572" y="0"/>
                </a:moveTo>
                <a:lnTo>
                  <a:pt x="-572" y="21600"/>
                </a:lnTo>
              </a:path>
            </a:pathLst>
          </a:custGeom>
          <a:noFill/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I/O to user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724360" y="5340240"/>
            <a:ext cx="28800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192" y="-225"/>
                </a:moveTo>
                <a:lnTo>
                  <a:pt x="-572" y="4000"/>
                </a:lnTo>
              </a:path>
              <a:path w="21600" h="21600">
                <a:moveTo>
                  <a:pt x="-572" y="0"/>
                </a:moveTo>
                <a:lnTo>
                  <a:pt x="-572" y="21600"/>
                </a:lnTo>
              </a:path>
            </a:pathLst>
          </a:custGeom>
          <a:noFill/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Unexpected del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1" dur="indefinite" restart="never" nodeType="tmRoot">
          <p:childTnLst>
            <p:seq>
              <p:cTn id="2902" dur="indefinite" nodeType="mainSeq">
                <p:childTnLst>
                  <p:par>
                    <p:cTn id="2903" fill="hold">
                      <p:stCondLst>
                        <p:cond delay="indefinite"/>
                      </p:stCondLst>
                      <p:childTnLst>
                        <p:par>
                          <p:cTn id="2904" fill="hold">
                            <p:stCondLst>
                              <p:cond delay="0"/>
                            </p:stCondLst>
                            <p:childTnLst>
                              <p:par>
                                <p:cTn id="29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7" dur="500"/>
                                        <p:tgtEl>
                                          <p:spTgt spid="1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8" fill="hold">
                      <p:stCondLst>
                        <p:cond delay="indefinite"/>
                      </p:stCondLst>
                      <p:childTnLst>
                        <p:par>
                          <p:cTn id="2909" fill="hold">
                            <p:stCondLst>
                              <p:cond delay="0"/>
                            </p:stCondLst>
                            <p:childTnLst>
                              <p:par>
                                <p:cTn id="29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12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3" fill="hold">
                      <p:stCondLst>
                        <p:cond delay="indefinite"/>
                      </p:stCondLst>
                      <p:childTnLst>
                        <p:par>
                          <p:cTn id="2914" fill="hold">
                            <p:stCondLst>
                              <p:cond delay="0"/>
                            </p:stCondLst>
                            <p:childTnLst>
                              <p:par>
                                <p:cTn id="29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17" dur="500"/>
                                        <p:tgtEl>
                                          <p:spTgt spid="1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8" fill="hold">
                      <p:stCondLst>
                        <p:cond delay="indefinite"/>
                      </p:stCondLst>
                      <p:childTnLst>
                        <p:par>
                          <p:cTn id="2919" fill="hold">
                            <p:stCondLst>
                              <p:cond delay="0"/>
                            </p:stCondLst>
                            <p:childTnLst>
                              <p:par>
                                <p:cTn id="29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2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3" fill="hold">
                      <p:stCondLst>
                        <p:cond delay="indefinite"/>
                      </p:stCondLst>
                      <p:childTnLst>
                        <p:par>
                          <p:cTn id="2924" fill="hold">
                            <p:stCondLst>
                              <p:cond delay="0"/>
                            </p:stCondLst>
                            <p:childTnLst>
                              <p:par>
                                <p:cTn id="29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27" dur="500"/>
                                        <p:tgtEl>
                                          <p:spTgt spid="1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8" fill="hold">
                      <p:stCondLst>
                        <p:cond delay="indefinite"/>
                      </p:stCondLst>
                      <p:childTnLst>
                        <p:par>
                          <p:cTn id="2929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32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3" fill="hold">
                      <p:stCondLst>
                        <p:cond delay="indefinite"/>
                      </p:stCondLst>
                      <p:childTnLst>
                        <p:par>
                          <p:cTn id="2934" fill="hold">
                            <p:stCondLst>
                              <p:cond delay="0"/>
                            </p:stCondLst>
                            <p:childTnLst>
                              <p:par>
                                <p:cTn id="29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37" dur="500"/>
                                        <p:tgtEl>
                                          <p:spTgt spid="1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8" fill="hold">
                      <p:stCondLst>
                        <p:cond delay="indefinite"/>
                      </p:stCondLst>
                      <p:childTnLst>
                        <p:par>
                          <p:cTn id="2939" fill="hold">
                            <p:stCondLst>
                              <p:cond delay="0"/>
                            </p:stCondLst>
                            <p:childTnLst>
                              <p:par>
                                <p:cTn id="29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2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3" fill="hold">
                      <p:stCondLst>
                        <p:cond delay="indefinite"/>
                      </p:stCondLst>
                      <p:childTnLst>
                        <p:par>
                          <p:cTn id="2944" fill="hold">
                            <p:stCondLst>
                              <p:cond delay="0"/>
                            </p:stCondLst>
                            <p:childTnLst>
                              <p:par>
                                <p:cTn id="29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47" dur="500"/>
                                        <p:tgtEl>
                                          <p:spTgt spid="1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8" fill="hold">
                      <p:stCondLst>
                        <p:cond delay="indefinite"/>
                      </p:stCondLst>
                      <p:childTnLst>
                        <p:par>
                          <p:cTn id="2949" fill="hold">
                            <p:stCondLst>
                              <p:cond delay="0"/>
                            </p:stCondLst>
                            <p:childTnLst>
                              <p:par>
                                <p:cTn id="29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52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3" fill="hold">
                      <p:stCondLst>
                        <p:cond delay="indefinite"/>
                      </p:stCondLst>
                      <p:childTnLst>
                        <p:par>
                          <p:cTn id="2954" fill="hold">
                            <p:stCondLst>
                              <p:cond delay="0"/>
                            </p:stCondLst>
                            <p:childTnLst>
                              <p:par>
                                <p:cTn id="29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57" dur="500"/>
                                        <p:tgtEl>
                                          <p:spTgt spid="1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8" fill="hold">
                      <p:stCondLst>
                        <p:cond delay="indefinite"/>
                      </p:stCondLst>
                      <p:childTnLst>
                        <p:par>
                          <p:cTn id="2959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62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3" fill="hold">
                      <p:stCondLst>
                        <p:cond delay="indefinite"/>
                      </p:stCondLst>
                      <p:childTnLst>
                        <p:par>
                          <p:cTn id="2964" fill="hold">
                            <p:stCondLst>
                              <p:cond delay="0"/>
                            </p:stCondLst>
                            <p:childTnLst>
                              <p:par>
                                <p:cTn id="29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7" dur="500"/>
                                        <p:tgtEl>
                                          <p:spTgt spid="1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8" fill="hold">
                      <p:stCondLst>
                        <p:cond delay="indefinite"/>
                      </p:stCondLst>
                      <p:childTnLst>
                        <p:par>
                          <p:cTn id="2969" fill="hold">
                            <p:stCondLst>
                              <p:cond delay="0"/>
                            </p:stCondLst>
                            <p:childTnLst>
                              <p:par>
                                <p:cTn id="29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72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ther Considera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331956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331956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A[ ][ ] = new int[1024][1024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331956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Frame | = 4kB,   | int | = 4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331956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w is stored in one p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331956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ot yet in memory, Code in M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331956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: &lt;1024 frames, Local Repl.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R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1" name=""/>
          <p:cNvSpPr/>
          <p:nvPr/>
        </p:nvSpPr>
        <p:spPr>
          <a:xfrm>
            <a:off x="920520" y="4419720"/>
            <a:ext cx="3402360" cy="100872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(i = 0; i &lt; A.length; i++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for (j = 0; j &lt; A.length; j++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A[</a:t>
            </a: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035320" y="4419720"/>
            <a:ext cx="3402360" cy="100872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(i = 0; i &lt; A.length; i++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for (j = 0; j &lt; A.length; j++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A[</a:t>
            </a: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820040" y="563868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ahoma"/>
              </a:rPr>
              <a:t>1024 x 1024 Page Fa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708840" y="5638680"/>
            <a:ext cx="26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ahoma"/>
              </a:rPr>
              <a:t>1024 Page Fa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6064920" y="1315800"/>
            <a:ext cx="3224880" cy="2095560"/>
          </a:xfrm>
          <a:prstGeom prst="horizontalScroll">
            <a:avLst>
              <a:gd name="adj" fmla="val 12500"/>
            </a:avLst>
          </a:prstGeom>
          <a:solidFill>
            <a:srgbClr val="fafd00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/Link.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3" dur="indefinite" restart="never" nodeType="tmRoot">
          <p:childTnLst>
            <p:seq>
              <p:cTn id="2974" dur="indefinite" nodeType="mainSeq">
                <p:childTnLst>
                  <p:par>
                    <p:cTn id="2975" fill="hold">
                      <p:stCondLst>
                        <p:cond delay="indefinite"/>
                      </p:stCondLst>
                      <p:childTnLst>
                        <p:par>
                          <p:cTn id="2976" fill="hold">
                            <p:stCondLst>
                              <p:cond delay="0"/>
                            </p:stCondLst>
                            <p:childTnLst>
                              <p:par>
                                <p:cTn id="29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79" dur="500"/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82" dur="500"/>
                                        <p:tgtEl>
                                          <p:spTgt spid="1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85" dur="500"/>
                                        <p:tgtEl>
                                          <p:spTgt spid="1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6" fill="hold">
                      <p:stCondLst>
                        <p:cond delay="indefinite"/>
                      </p:stCondLst>
                      <p:childTnLst>
                        <p:par>
                          <p:cTn id="2987" fill="hold">
                            <p:stCondLst>
                              <p:cond delay="0"/>
                            </p:stCondLst>
                            <p:childTnLst>
                              <p:par>
                                <p:cTn id="29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0" dur="500"/>
                                        <p:tgtEl>
                                          <p:spTgt spid="1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3" dur="500"/>
                                        <p:tgtEl>
                                          <p:spTgt spid="1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6" dur="500"/>
                                        <p:tgtEl>
                                          <p:spTgt spid="1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7" fill="hold">
                      <p:stCondLst>
                        <p:cond delay="indefinite"/>
                      </p:stCondLst>
                      <p:childTnLst>
                        <p:par>
                          <p:cTn id="2998" fill="hold">
                            <p:stCondLst>
                              <p:cond delay="0"/>
                            </p:stCondLst>
                            <p:childTnLst>
                              <p:par>
                                <p:cTn id="29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1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2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6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7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8" fill="hold">
                      <p:stCondLst>
                        <p:cond delay="indefinite"/>
                      </p:stCondLst>
                      <p:childTnLst>
                        <p:par>
                          <p:cTn id="3009" fill="hold">
                            <p:stCondLst>
                              <p:cond delay="0"/>
                            </p:stCondLst>
                            <p:childTnLst>
                              <p:par>
                                <p:cTn id="30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2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3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4" fill="hold">
                      <p:stCondLst>
                        <p:cond delay="indefinite"/>
                      </p:stCondLst>
                      <p:childTnLst>
                        <p:par>
                          <p:cTn id="3015" fill="hold">
                            <p:stCondLst>
                              <p:cond delay="0"/>
                            </p:stCondLst>
                            <p:childTnLst>
                              <p:par>
                                <p:cTn id="30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8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9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0" fill="hold">
                      <p:stCondLst>
                        <p:cond delay="indefinite"/>
                      </p:stCondLst>
                      <p:childTnLst>
                        <p:par>
                          <p:cTn id="3021" fill="hold">
                            <p:stCondLst>
                              <p:cond delay="0"/>
                            </p:stCondLst>
                            <p:childTnLst>
                              <p:par>
                                <p:cTn id="30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4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5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Ques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7" name="" descr=""/>
          <p:cNvPicPr/>
          <p:nvPr/>
        </p:nvPicPr>
        <p:blipFill>
          <a:blip r:embed="rId1"/>
          <a:stretch/>
        </p:blipFill>
        <p:spPr>
          <a:xfrm>
            <a:off x="3389400" y="2246400"/>
            <a:ext cx="2365200" cy="2365200"/>
          </a:xfrm>
          <a:prstGeom prst="rect">
            <a:avLst/>
          </a:prstGeom>
          <a:ln w="0">
            <a:noFill/>
          </a:ln>
        </p:spPr>
      </p:pic>
      <p:sp>
        <p:nvSpPr>
          <p:cNvPr id="1218" name="">
            <a:hlinkClick r:id="rId2"/>
          </p:cNvPr>
          <p:cNvSpPr/>
          <p:nvPr/>
        </p:nvSpPr>
        <p:spPr>
          <a:xfrm>
            <a:off x="7238880" y="518148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3794"/>
                </a:moveTo>
                <a:lnTo>
                  <a:pt x="22125" y="10800"/>
                </a:lnTo>
                <a:lnTo>
                  <a:pt x="8112" y="17806"/>
                </a:lnTo>
                <a:close/>
              </a:path>
            </a:pathLst>
          </a:custGeom>
          <a:solidFill>
            <a:srgbClr val="aff2aa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emand Pag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1281240" y="1600200"/>
            <a:ext cx="7377120" cy="21099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90440">
              <a:lnSpc>
                <a:spcPct val="1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AVE STATE  (in PCB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? Valid Address   (NO </a:t>
            </a:r>
            <a:r>
              <a:rPr b="0" lang="nl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ABORT Proc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ind Free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tart Reading Page in Free Frame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81240" y="4002120"/>
            <a:ext cx="7377120" cy="180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90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AVE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? I/O OK, for which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odify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ESTORE STATE  (s.t. instruction = restar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533520" y="1447920"/>
            <a:ext cx="795960" cy="1083600"/>
            <a:chOff x="533520" y="1447920"/>
            <a:chExt cx="795960" cy="1083600"/>
          </a:xfrm>
        </p:grpSpPr>
        <p:sp>
          <p:nvSpPr>
            <p:cNvPr id="168" name=""/>
            <p:cNvSpPr/>
            <p:nvPr/>
          </p:nvSpPr>
          <p:spPr>
            <a:xfrm>
              <a:off x="533520" y="1447920"/>
              <a:ext cx="676080" cy="60948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2200" y="2132640"/>
              <a:ext cx="46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65120" y="3718080"/>
            <a:ext cx="849960" cy="1083600"/>
            <a:chOff x="465120" y="3718080"/>
            <a:chExt cx="849960" cy="1083600"/>
          </a:xfrm>
        </p:grpSpPr>
        <p:sp>
          <p:nvSpPr>
            <p:cNvPr id="171" name=""/>
            <p:cNvSpPr/>
            <p:nvPr/>
          </p:nvSpPr>
          <p:spPr>
            <a:xfrm>
              <a:off x="465120" y="3718080"/>
              <a:ext cx="685800" cy="60948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4920" y="4402800"/>
              <a:ext cx="56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I/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emand Pag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Access Page 4 … Page Fault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1301760" y="251784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01760" y="287964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01760" y="324180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01760" y="360360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01760" y="396540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01760" y="216072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10160" y="2490840"/>
            <a:ext cx="90000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10160" y="2852640"/>
            <a:ext cx="90000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10160" y="2133720"/>
            <a:ext cx="90000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610160" y="3919680"/>
            <a:ext cx="90000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10160" y="4273560"/>
            <a:ext cx="90000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10160" y="3571920"/>
            <a:ext cx="90000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11600" y="3209760"/>
            <a:ext cx="90036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08360" y="4633920"/>
            <a:ext cx="90036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31160" y="2175480"/>
            <a:ext cx="307080" cy="28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08360" y="2495520"/>
            <a:ext cx="90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08360" y="3573360"/>
            <a:ext cx="90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08360" y="4276800"/>
            <a:ext cx="90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2262240"/>
            <a:ext cx="2362320" cy="2743200"/>
          </a:xfrm>
          <a:prstGeom prst="can">
            <a:avLst>
              <a:gd name="adj" fmla="val 19814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290988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715160" y="3405240"/>
            <a:ext cx="90036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29400" y="363384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901960" y="2154240"/>
            <a:ext cx="903240" cy="2911320"/>
            <a:chOff x="2901960" y="2154240"/>
            <a:chExt cx="903240" cy="2911320"/>
          </a:xfrm>
        </p:grpSpPr>
        <p:sp>
          <p:nvSpPr>
            <p:cNvPr id="198" name=""/>
            <p:cNvSpPr/>
            <p:nvPr/>
          </p:nvSpPr>
          <p:spPr>
            <a:xfrm>
              <a:off x="2911680" y="250812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901960" y="215424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43400" y="215424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901960" y="251928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43400" y="251928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901960" y="288432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443400" y="288432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901960" y="324972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43400" y="324972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903760" y="3614760"/>
              <a:ext cx="5396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44840" y="361476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901960" y="397512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43400" y="397512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903760" y="4340160"/>
              <a:ext cx="5396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444840" y="434016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01960" y="470520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43400" y="470520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906640" y="2152800"/>
            <a:ext cx="54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48080" y="2152800"/>
            <a:ext cx="36036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06640" y="2517840"/>
            <a:ext cx="54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448080" y="2517840"/>
            <a:ext cx="36036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06640" y="2882880"/>
            <a:ext cx="54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48080" y="2882880"/>
            <a:ext cx="36036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48080" y="3247920"/>
            <a:ext cx="36036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49520" y="3613320"/>
            <a:ext cx="36036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48080" y="3973680"/>
            <a:ext cx="36036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49520" y="4338720"/>
            <a:ext cx="360360" cy="360360"/>
          </a:xfrm>
          <a:prstGeom prst="rect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48080" y="4703760"/>
            <a:ext cx="360360" cy="360360"/>
          </a:xfrm>
          <a:prstGeom prst="rect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631240" y="2132640"/>
            <a:ext cx="468720" cy="2950200"/>
            <a:chOff x="2631240" y="2132640"/>
            <a:chExt cx="468720" cy="2950200"/>
          </a:xfrm>
        </p:grpSpPr>
        <p:sp>
          <p:nvSpPr>
            <p:cNvPr id="227" name=""/>
            <p:cNvSpPr/>
            <p:nvPr/>
          </p:nvSpPr>
          <p:spPr>
            <a:xfrm>
              <a:off x="2916000" y="250668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1240" y="213264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31240" y="249768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631240" y="286308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31240" y="322812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640600" y="359316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631240" y="395352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40600" y="431856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38800" y="468396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4616280" y="3208320"/>
            <a:ext cx="900360" cy="36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10160" y="320832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11320" y="3621240"/>
            <a:ext cx="54000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52760" y="3621240"/>
            <a:ext cx="36036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5334120" y="3276720"/>
            <a:ext cx="838080" cy="620640"/>
            <a:chOff x="5334120" y="3276720"/>
            <a:chExt cx="838080" cy="620640"/>
          </a:xfrm>
        </p:grpSpPr>
        <p:sp>
          <p:nvSpPr>
            <p:cNvPr id="241" name=""/>
            <p:cNvSpPr/>
            <p:nvPr/>
          </p:nvSpPr>
          <p:spPr>
            <a:xfrm>
              <a:off x="5334120" y="3276720"/>
              <a:ext cx="838080" cy="228600"/>
            </a:xfrm>
            <a:prstGeom prst="leftArrow">
              <a:avLst>
                <a:gd name="adj1" fmla="val 50000"/>
                <a:gd name="adj2" fmla="val 91654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562720" y="342900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276720" y="3885840"/>
            <a:ext cx="849240" cy="697320"/>
            <a:chOff x="3276720" y="3885840"/>
            <a:chExt cx="849240" cy="697320"/>
          </a:xfrm>
        </p:grpSpPr>
        <p:sp>
          <p:nvSpPr>
            <p:cNvPr id="244" name=""/>
            <p:cNvSpPr/>
            <p:nvPr/>
          </p:nvSpPr>
          <p:spPr>
            <a:xfrm rot="16200000">
              <a:off x="3250440" y="3912120"/>
              <a:ext cx="569880" cy="517320"/>
            </a:xfrm>
            <a:custGeom>
              <a:avLst/>
              <a:gdLst>
                <a:gd name="textAreaLeft" fmla="*/ 0 w 569880"/>
                <a:gd name="textAreaRight" fmla="*/ 570240 w 5698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57600" y="411480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3124080" y="5256720"/>
            <a:ext cx="2661120" cy="703800"/>
            <a:chOff x="3124080" y="5256720"/>
            <a:chExt cx="2661120" cy="703800"/>
          </a:xfrm>
        </p:grpSpPr>
        <p:sp>
          <p:nvSpPr>
            <p:cNvPr id="247" name=""/>
            <p:cNvSpPr/>
            <p:nvPr/>
          </p:nvSpPr>
          <p:spPr>
            <a:xfrm>
              <a:off x="3124080" y="5562720"/>
              <a:ext cx="914400" cy="228600"/>
            </a:xfrm>
            <a:prstGeom prst="leftArrow">
              <a:avLst>
                <a:gd name="adj1" fmla="val 50000"/>
                <a:gd name="adj2" fmla="val 100000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86200" y="541008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295520" y="5256720"/>
              <a:ext cx="1489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Restart </a:t>
              </a:r>
              <a:br>
                <a:rPr sz="2000"/>
              </a:b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Instru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352680" y="3276720"/>
            <a:ext cx="969480" cy="914400"/>
            <a:chOff x="3352680" y="3276720"/>
            <a:chExt cx="969480" cy="914400"/>
          </a:xfrm>
        </p:grpSpPr>
        <p:grpSp>
          <p:nvGrpSpPr>
            <p:cNvPr id="251" name=""/>
            <p:cNvGrpSpPr/>
            <p:nvPr/>
          </p:nvGrpSpPr>
          <p:grpSpPr>
            <a:xfrm>
              <a:off x="3352680" y="3581640"/>
              <a:ext cx="969480" cy="609480"/>
              <a:chOff x="3352680" y="3581640"/>
              <a:chExt cx="969480" cy="609480"/>
            </a:xfrm>
          </p:grpSpPr>
          <p:sp>
            <p:nvSpPr>
              <p:cNvPr id="252" name=""/>
              <p:cNvSpPr/>
              <p:nvPr/>
            </p:nvSpPr>
            <p:spPr>
              <a:xfrm>
                <a:off x="3352680" y="3581640"/>
                <a:ext cx="676080" cy="609480"/>
              </a:xfrm>
              <a:prstGeom prst="lightningBolt">
                <a:avLst/>
              </a:prstGeom>
              <a:solidFill>
                <a:srgbClr val="618ff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854880" y="3656880"/>
                <a:ext cx="46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P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3657240" y="327672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2286000" y="3276720"/>
            <a:ext cx="1143000" cy="609480"/>
            <a:chOff x="2286000" y="3276720"/>
            <a:chExt cx="1143000" cy="609480"/>
          </a:xfrm>
        </p:grpSpPr>
        <p:sp>
          <p:nvSpPr>
            <p:cNvPr id="256" name=""/>
            <p:cNvSpPr/>
            <p:nvPr/>
          </p:nvSpPr>
          <p:spPr>
            <a:xfrm>
              <a:off x="2286000" y="3657600"/>
              <a:ext cx="1143000" cy="228600"/>
            </a:xfrm>
            <a:prstGeom prst="rightArrow">
              <a:avLst>
                <a:gd name="adj1" fmla="val 50000"/>
                <a:gd name="adj2" fmla="val 125000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86000" y="327672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572000" y="2286000"/>
            <a:ext cx="3581280" cy="1142640"/>
            <a:chOff x="4572000" y="2286000"/>
            <a:chExt cx="3581280" cy="1142640"/>
          </a:xfrm>
        </p:grpSpPr>
        <p:sp>
          <p:nvSpPr>
            <p:cNvPr id="259" name=""/>
            <p:cNvSpPr/>
            <p:nvPr/>
          </p:nvSpPr>
          <p:spPr>
            <a:xfrm>
              <a:off x="6781680" y="228600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flipV="1">
              <a:off x="4572000" y="2818800"/>
              <a:ext cx="3581280" cy="609480"/>
            </a:xfrm>
            <a:custGeom>
              <a:avLst/>
              <a:gdLst>
                <a:gd name="textAreaLeft" fmla="*/ 626760 w 3581280"/>
                <a:gd name="textAreaRight" fmla="*/ 2596680 w 358128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7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emand Pag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H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aging (valid/invali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wapping  (fast di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handling of page-fault (PF)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able to RESTART instruction after 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tricky!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emand Pag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E.g.      ADD A,B,C    (C </a:t>
            </a:r>
            <a:r>
              <a:rPr b="0" lang="nl-B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A + 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5638680" y="2346480"/>
            <a:ext cx="1440000" cy="71892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DD A,B,C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38680" y="3352680"/>
            <a:ext cx="1440000" cy="71928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: …       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77040" y="3962520"/>
            <a:ext cx="1440000" cy="71892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B: …       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77040" y="2971800"/>
            <a:ext cx="1440000" cy="71928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: …       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419720" y="2133720"/>
            <a:ext cx="969480" cy="609480"/>
            <a:chOff x="4419720" y="2133720"/>
            <a:chExt cx="969480" cy="609480"/>
          </a:xfrm>
        </p:grpSpPr>
        <p:sp>
          <p:nvSpPr>
            <p:cNvPr id="270" name=""/>
            <p:cNvSpPr/>
            <p:nvPr/>
          </p:nvSpPr>
          <p:spPr>
            <a:xfrm>
              <a:off x="4419720" y="2133720"/>
              <a:ext cx="676080" cy="60948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21920" y="2208960"/>
              <a:ext cx="46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609480" y="2652840"/>
            <a:ext cx="3962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etch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3171960"/>
            <a:ext cx="3962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etch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3691080"/>
            <a:ext cx="3962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dd A 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4211640"/>
            <a:ext cx="3962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tore result in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2133720"/>
            <a:ext cx="3962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etch instr. + de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4381560" y="2666880"/>
            <a:ext cx="969480" cy="609480"/>
            <a:chOff x="4381560" y="2666880"/>
            <a:chExt cx="969480" cy="609480"/>
          </a:xfrm>
        </p:grpSpPr>
        <p:sp>
          <p:nvSpPr>
            <p:cNvPr id="278" name=""/>
            <p:cNvSpPr/>
            <p:nvPr/>
          </p:nvSpPr>
          <p:spPr>
            <a:xfrm>
              <a:off x="4381560" y="2666880"/>
              <a:ext cx="676080" cy="60948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883760" y="2742120"/>
              <a:ext cx="46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4457880" y="3200400"/>
            <a:ext cx="969480" cy="609480"/>
            <a:chOff x="4457880" y="3200400"/>
            <a:chExt cx="969480" cy="609480"/>
          </a:xfrm>
        </p:grpSpPr>
        <p:sp>
          <p:nvSpPr>
            <p:cNvPr id="281" name=""/>
            <p:cNvSpPr/>
            <p:nvPr/>
          </p:nvSpPr>
          <p:spPr>
            <a:xfrm>
              <a:off x="4457880" y="3200400"/>
              <a:ext cx="676080" cy="60948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960080" y="3275640"/>
              <a:ext cx="46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4427640" y="4114800"/>
            <a:ext cx="969480" cy="609480"/>
            <a:chOff x="4427640" y="4114800"/>
            <a:chExt cx="969480" cy="609480"/>
          </a:xfrm>
        </p:grpSpPr>
        <p:sp>
          <p:nvSpPr>
            <p:cNvPr id="284" name=""/>
            <p:cNvSpPr/>
            <p:nvPr/>
          </p:nvSpPr>
          <p:spPr>
            <a:xfrm>
              <a:off x="4427640" y="4114800"/>
              <a:ext cx="676080" cy="60948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840" y="4190040"/>
              <a:ext cx="46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5638680" y="2362320"/>
            <a:ext cx="1440000" cy="71892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DD A,B,C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638680" y="3368520"/>
            <a:ext cx="1440000" cy="71928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: …       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77040" y="3978360"/>
            <a:ext cx="1440000" cy="71892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B: …       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277040" y="2987640"/>
            <a:ext cx="1440000" cy="71928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: …       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4800600"/>
            <a:ext cx="76960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ossible: restart 4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What if changes occurred 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emand Pag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246320"/>
                <a:tab algn="l" pos="2563920"/>
                <a:tab algn="l" pos="380988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What if changes occurr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246320"/>
                <a:tab algn="l" pos="2563920"/>
                <a:tab algn="l" pos="380988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utoincrement in indexregisters    12(R3+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246320"/>
                <a:tab algn="l" pos="2563920"/>
                <a:tab algn="l" pos="380988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ove bytes across page bounderies,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"/>
          <p:cNvSpPr/>
          <p:nvPr/>
        </p:nvSpPr>
        <p:spPr>
          <a:xfrm>
            <a:off x="6705720" y="3086280"/>
            <a:ext cx="990360" cy="685800"/>
          </a:xfrm>
          <a:prstGeom prst="rect">
            <a:avLst/>
          </a:prstGeom>
          <a:solidFill>
            <a:srgbClr val="cecece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086600" y="3352680"/>
            <a:ext cx="990720" cy="685800"/>
          </a:xfrm>
          <a:prstGeom prst="rect">
            <a:avLst/>
          </a:prstGeom>
          <a:gradFill rotWithShape="0">
            <a:gsLst>
              <a:gs pos="0">
                <a:srgbClr val="5e5e5e"/>
              </a:gs>
              <a:gs pos="100000">
                <a:srgbClr val="cecece"/>
              </a:gs>
            </a:gsLst>
            <a:lin ang="10800000"/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238880" y="2971800"/>
            <a:ext cx="533520" cy="622440"/>
          </a:xfrm>
          <a:custGeom>
            <a:avLst/>
            <a:gdLst/>
            <a:ahLst/>
            <a:rect l="l" t="t" r="r" b="b"/>
            <a:pathLst>
              <a:path w="440" h="392">
                <a:moveTo>
                  <a:pt x="336" y="392"/>
                </a:moveTo>
                <a:cubicBezTo>
                  <a:pt x="388" y="252"/>
                  <a:pt x="440" y="112"/>
                  <a:pt x="384" y="56"/>
                </a:cubicBezTo>
                <a:cubicBezTo>
                  <a:pt x="328" y="0"/>
                  <a:pt x="164" y="28"/>
                  <a:pt x="0" y="56"/>
                </a:cubicBezTo>
              </a:path>
            </a:pathLst>
          </a:custGeom>
          <a:noFill/>
          <a:ln w="38160">
            <a:solidFill>
              <a:srgbClr val="fc0128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848720" y="2819520"/>
            <a:ext cx="0" cy="1447560"/>
          </a:xfrm>
          <a:prstGeom prst="line">
            <a:avLst/>
          </a:prstGeom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90000"/>
              </a:lnSpc>
              <a:buClr>
                <a:srgbClr val="000000"/>
              </a:buClr>
              <a:buFont typeface="Tahoma"/>
              <a:buChar char="•"/>
              <a:tabLst>
                <a:tab algn="l" pos="1246320"/>
                <a:tab algn="l" pos="2563920"/>
                <a:tab algn="l" pos="380988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aging HW available, OS imple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6320"/>
                <a:tab algn="l" pos="2563920"/>
                <a:tab algn="l" pos="380988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ing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emand P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6320"/>
                <a:tab algn="l" pos="2563920"/>
                <a:tab algn="l" pos="380988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6320"/>
                <a:tab algn="l" pos="2563920"/>
                <a:tab algn="l" pos="380988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705720" y="3086280"/>
            <a:ext cx="761760" cy="685800"/>
          </a:xfrm>
          <a:prstGeom prst="rect">
            <a:avLst/>
          </a:prstGeom>
          <a:gradFill rotWithShape="0">
            <a:gsLst>
              <a:gs pos="0">
                <a:srgbClr val="5e5e5e"/>
              </a:gs>
              <a:gs pos="100000">
                <a:srgbClr val="cecece"/>
              </a:gs>
            </a:gsLst>
            <a:lin ang="10800000"/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055240" y="454500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u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41560" y="4545000"/>
            <a:ext cx="13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Tru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52480" y="5181480"/>
            <a:ext cx="18892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279f"/>
                </a:solidFill>
                <a:latin typeface="Tahoma"/>
              </a:rPr>
              <a:t>PF = faul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279f"/>
                </a:solidFill>
                <a:latin typeface="Tahoma"/>
              </a:rPr>
              <a:t>never re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358520" y="5181480"/>
            <a:ext cx="27302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279f"/>
                </a:solidFill>
                <a:latin typeface="Tahoma"/>
              </a:rPr>
              <a:t>PF = often no 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279f"/>
                </a:solidFill>
                <a:latin typeface="Tahoma"/>
              </a:rPr>
              <a:t>almost always re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8T16:23:00Z</dcterms:created>
  <dc:creator>Prof. B. De Decker</dc:creator>
  <dc:description/>
  <cp:keywords/>
  <dc:language>en-US</dc:language>
  <cp:lastModifiedBy>Bart De Decker</cp:lastModifiedBy>
  <cp:lastPrinted>1998-09-28T07:01:41Z</cp:lastPrinted>
  <dcterms:modified xsi:type="dcterms:W3CDTF">2005-11-18T10:32:29Z</dcterms:modified>
  <cp:revision>304</cp:revision>
  <dc:subject>Lecture 3</dc:subject>
  <dc:title>IT - Module B1</dc:title>
</cp:coreProperties>
</file>